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8A5-B161-4024-AA73-A9A8F315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4E1-C2E8-4332-A6E0-501EF7AB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11D-9C20-4037-9CA5-B5868120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21C-1F53-4266-AFE8-3D862B7E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4D3-2E26-45EE-AAEA-CA8106F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AA0-D81E-4E5C-8936-45901D0B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FA3-FF50-479D-AB49-8A19FA5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605-CAB6-4046-81A9-9EC54C7E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F85-8FC3-4512-98AC-3A506F6B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FBB-1D27-441A-9D8C-19B51BC0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698-767F-4896-8670-EB50C5AE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7EC-16F1-4FEF-9603-6DB1637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1D44-1799-4670-B3C6-328C4EBC687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Földhasználat, tulajdonviszonyok, </a:t>
            </a:r>
            <a:br>
              <a:rPr sz="3200"/>
            </a:b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birtokstruktúra és földbérlet </a:t>
            </a:r>
            <a:br>
              <a:rPr sz="3200"/>
            </a:b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az Európai Unióban és Magyarorszá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Készítet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Batiz Annamária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Kapuszta Ág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GTK IV. évfoly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Konzulens tanár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66"/>
                </a:solidFill>
                <a:latin typeface="Times New Roman"/>
              </a:rPr>
              <a:t>Dr. Pitlik Lászl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66"/>
                </a:solidFill>
                <a:latin typeface="Times New Roman"/>
              </a:rPr>
              <a:t>Gazdaságelemzési Módszertani Intéz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66"/>
                </a:solidFill>
                <a:latin typeface="Times New Roman"/>
              </a:rPr>
              <a:t>Gazdasági Informatika Tanszé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66"/>
                </a:solidFill>
                <a:latin typeface="Times New Roman"/>
              </a:rPr>
              <a:t>egyetemi docens, tanszékvezető</a:t>
            </a:r>
            <a:r>
              <a:rPr b="1" i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hu-H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hu-HU" sz="2000" spc="-1" strike="noStrike">
                <a:solidFill>
                  <a:srgbClr val="ffff66"/>
                </a:solidFill>
                <a:latin typeface="Times New Roman"/>
              </a:rPr>
              <a:t>Dr. Zsarnóczai J. Sá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66"/>
                </a:solidFill>
                <a:latin typeface="Times New Roman"/>
              </a:rPr>
              <a:t>Agrár- és Regionális Gazdaságtani Intéz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66"/>
                </a:solidFill>
                <a:latin typeface="Times New Roman"/>
              </a:rPr>
              <a:t>Regionális Gazdaságtani Tanszé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66"/>
                </a:solidFill>
                <a:latin typeface="Times New Roman"/>
              </a:rPr>
              <a:t>egyetemi doc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66"/>
                </a:solidFill>
                <a:latin typeface="Times New Roman"/>
              </a:rPr>
              <a:t>Gödöllő 20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vagy a földbérleti díj 4 évre várható változásának vizsgálata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gy univerzális előrejelzés segítségé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él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mutatni, hogy miként lehet ezt az előrejelzést a mindennapi életbe beillesz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sznosság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földbérleti díj változásának előrejelzése minden a földtulajdonlással kapcsolatba kerülő embernek fo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lternatív megold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egymásnak ellentmondó, hiányos, ködös szakcikkek értelmezése a döntéshozók ál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, a 60. életévét betöltött gazda szembesül azzal a döntési helyzettel, hogy földjé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eladja-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bérbe adja-e más gazdának vagy gazdálkodó szervezetne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vagy éppen az újonnan megjelent, Nemzeti Földalap által kihirdetett „földért életjáradékot” programba kapcsolódik-e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Ismerjük a magyarországi nyugdíjemelés százalékos mértékét az előzőekkel megfeleltethető időintervallumra nézve. 2004-től a nyugdíjemelés százalékos változásának mértéke egyenlő az életjáradék változásának mértéké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élda: döntési szituác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robléma körvonalazásának feltétele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Tegyük fel, hogy rendelkezésre állnak mindazon adato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öldára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URO/h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1986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épesség (millió fő, 1986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g-i termelői ár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986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ominális kamatlábak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986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gyarország esetében is, amelyek segítségével 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4 Európai Uniós orszá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lgium, Hollandia, Görögország, Franciaország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földbérleti díjának változását jeleztük elő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egoldás me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WAM-módszerrel az előzőekben felvázolt feltételekk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3 szakértői szintű előrejelzést készíthetün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előrejelzés a föld bérleti díjának változásár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előrejelzés a földárak változásár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előrejelzés a NFA által felajánlott életjáradék változásá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zeket a változásokat összehasonlítva eldönthető, hogy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elyik döntési lehetőséghez milyen biztonsági szint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artoz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Újszerű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odellek konzisztens és számszerű válasza miat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ekövetkezés utá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érhető annak eredménye é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z számon kérhető a tanácsadón/szakértő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eljes döntéstámogató rendszer létrehozá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 még csak a rendszerterv szintjén adott,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űködésének bemutatását igazolhatjuk az Európai Unió négy kiválasztott országának földbérleti díj változására  történő előrejelzés készítésével,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ly analóg a fennmaradó két előrejelzéss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8:26:14Z</dcterms:created>
  <dc:creator>Batiz Károly</dc:creator>
  <dc:description/>
  <dc:language>en-US</dc:language>
  <cp:lastModifiedBy> </cp:lastModifiedBy>
  <cp:lastPrinted>2003-11-25T19:58:08Z</cp:lastPrinted>
  <dcterms:modified xsi:type="dcterms:W3CDTF">2003-11-26T09:34:51Z</dcterms:modified>
  <cp:revision>55</cp:revision>
  <dc:subject/>
  <dc:title>Földhasználat, tulajdonviszonyok, birtokstruktúra és földbérlet az Európai Unióban és Magyarországon</dc:title>
</cp:coreProperties>
</file>