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29B-9A56-49A9-854C-52037B63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FCBA-9C06-4544-9391-486A604C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EFC-1CD3-42A4-9113-DDD9FB6D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349-DBF5-4353-8371-592A1468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B39-DD01-4EC7-942E-30935901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BD6-EBD9-41D7-BDC4-89E403A5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EBC-9505-4E2A-B741-D898D1D1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2F5-3D12-43FB-B5C8-64094056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AD5-8825-4EA0-BCE8-3BC9B754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C40-6DA9-42CF-9980-B772008A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421-714F-4251-8884-AD740840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022-4763-4C06-B25B-00009918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0D8C-153B-432E-8AB2-51E1B9769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la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295280" y="838080"/>
          <a:ext cx="6553440" cy="6019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838080"/>
                    <a:ext cx="65534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371600" y="838080"/>
          <a:ext cx="6477120" cy="586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838080"/>
                    <a:ext cx="647712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örögorszá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71600" y="990720"/>
          <a:ext cx="6477120" cy="5867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990720"/>
                    <a:ext cx="64771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nciaorszá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371600" y="838080"/>
          <a:ext cx="6477120" cy="6019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838080"/>
                    <a:ext cx="64771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Összeg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71600" y="990720"/>
          <a:ext cx="6477120" cy="5715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990720"/>
                    <a:ext cx="6477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457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14400"/>
            <a:ext cx="784836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jövőbeni célo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egy a szaktanácsadásban alkalmazható döntés-elősegítő rendszer létreho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álasztás a föld eladása, a föld bérbeadása vagy az életjáradék közü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ombinatorikus megoldás az adathiány pótlásá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20:34:02Z</dcterms:created>
  <dc:creator>Batiz Károly</dc:creator>
  <dc:description/>
  <dc:language>en-US</dc:language>
  <cp:lastModifiedBy>Batiz Károly</cp:lastModifiedBy>
  <dcterms:modified xsi:type="dcterms:W3CDTF">2003-11-20T23:11:52Z</dcterms:modified>
  <cp:revision>5</cp:revision>
  <dc:subject/>
  <dc:title>Hollandia</dc:title>
</cp:coreProperties>
</file>