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746-7BF4-44C2-9D6B-EA790C38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6EB-C841-4F99-A377-D10A5B3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A75-1ADA-476A-B7FE-02EE0BD9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758-135C-4CC2-86AF-BDEAC99E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05B-6405-4950-8B1C-6C5E7174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C25-890C-4FFC-80C9-09A740A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4BF-C5CA-4CCB-9F3F-B1B6345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E73-0127-49E1-9608-00CD6E60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A7E-90CF-49E0-94CF-EBAFE3A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BE9-8270-4139-A885-F5446A3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F32-05F8-45FF-B0D5-6AE01BE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618-038C-4219-9286-2EF78E0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D2C5-1442-4512-9555-C63D2C544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7146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146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175248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Á L L A T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 E N D S Z E R T A 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 A P I S M E R E T E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jszárnyúak 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ptera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Exopterygota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csapatának rendjei (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lső szárnyúa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Plecoptera - Álkérész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Isoptera - Termesz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Blattodea - Csótány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Dermaptera - Fülbemászó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Mantodea - Fogólábú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Caelifera – Sáská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Ensifera – Tojócsöves egyenesszárnyúak (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nti három azelőtt egy rend volt: Orthoptera – Egyenesszárnyú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Psocoptera - Fatet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Phtiraptera - Tet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Thysanoptera - Tripszek (Hólyagoslábú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Heteroptera - Poloská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Auchenorrhyncha – Színkabócák (Kabócá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Stenorrhyncha – Növénytetvek (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nti kettő azelőtt egy rend vol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ptera – Kabócá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Megaloptera - Vizi fátyolká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Rhaphidioptera - Tevenyakú fátyolká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Planipennia - Recés fátyolkák (Síkszárnyúak) (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nti három azelőtt e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 volt: Neuroptera Recésszárnyúa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Coleoptera - Bogar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Strepsiptera - Legyezőszárnyú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Trichoptera - Tegzes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Lepidoptera - Lepké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Mecoptera - Csőrös rova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Hymenoptera - Hártyásszárnyú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Diptera - Kétszárnyú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Siphanoptera - Bolhá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jszárnyúak 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ptera</a:t>
            </a:r>
            <a:r>
              <a:rPr b="0" i="1" lang="hu-H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E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 Black"/>
              </a:rPr>
              <a:t>ndo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pterygota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csapatának rendjei (Belső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árnyúa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oskák rendj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eteroptera)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legfontosabb családj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jzsos poloskák családja: Scutelle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ímeres poloskák családja: Pentatom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imás poloskák családja: Core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őköltő poloskák családja: Pyrrhoco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ipkéspoloskák családja: Tingit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rszívópoloskák családja: Cimic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vajpoloskák családja: Nab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ei poloskák családja: Mi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ágpoloskák családja: Anthoco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ínkabócák rendj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uchenorrhyncha)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legfontosabb család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nekeskabócák családja: Cicad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kantyúskabócák családja: Delphac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tékoskabócák családja: Cercop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eikabócák családja: Cicadell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övénytetvek rendj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ernorrchyncha)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alrendjei és legfontosabb család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éltetvek alrendje: Aphid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ódi levéltetek családja: Aphid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bacstetvek családja: Eriosomatidae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petetvek családja: Phylloxe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jzstetvek alrendje (Cocci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nős-pajzstetvek családja: Cocc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gylós pajzstetvek családja: Diaspid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zteskék alrendje (Aleyro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élbolhák alrendje (Psyll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ésfátyolkák rendj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lanipennia)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legfontosabb család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gyalesők családja: Myrmeleonidae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öldfátyolkák családja: Chrysopidae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na fátyolkák családja: Hemerobiida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garak rendj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leoptera)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legfontosabb családjai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rinkák családja: Carab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íkbogarak családja: Dytisc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iborok családja: Hydrophi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ögbogarak családja: Silph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anóbogarak családja: Elater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íszbogarak családja: Buprestidae</a:t>
            </a:r>
            <a:br>
              <a:rPr sz="2000"/>
            </a:b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vák családja: Dermes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nybogarak családja: Nitidu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icabogarak családja: Coccinel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ászbogarak családja: Tenebrio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yvák családja: Staphyli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ólyaghúzó bogarak családja: Melo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ágybogarak családja: Cantharida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garak rendj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leoptera)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legfontosabb családjai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ezescsápú bogarak családsorozata: Lamellicor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éjtúró bogarak családja: Scarabae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jkók családja: Geotrup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erebogarak családja: Melolonth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arvasbogarak családja: Luca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cérek családja: Cerambyc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élbogarak családja: Chrysome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ányosalkatúak családsorozata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rculion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zelények családja: Attelab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kányormányosok családja: Apio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ányosbogarak családja: (Curculino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úbogarak családja:  Scoly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pkék rendj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pidoptera)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 legfontosabb családjai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ontólepkék családja: Coss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üngőlepkék családja: Zygae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hamolyok családja: Tine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átoraknás molyok családja: Lithocolle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itkárok családja: Sesi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rómolyok családja: Tortric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csúmolyok családja: Phyci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nyiloncák családja: Pyra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szolólepkék családja: Geomer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övőlepkék családja: Lasiocamp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apjaslepkék családja: Lymantriidae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velepkék családja: Arcti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golylepkék családja: Noctu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langók családja: Papilio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hérlepkék családja: Pier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rtyásszárnyúak rendj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ymenoptera)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alrendjei és legfontosabb családjai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övénydarazsak alrendje (Symphy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éldarazsak családja: Tenthredi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almadarazsak családja: Cephidae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arazsak családja: Siric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jócsövesek alrendje (Terebr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rkészalkatúak családsorozata: Ichneumono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ódi fürkészek családja: Ichneumo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ilkosfürkészek családja: Braco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éltetvésző fürkészek családja: Aphidi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mfürkész alkatúak családsorozata: Chalcido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fémfürkészek családja: Trichogramma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geresfürkészek családja: Eurytom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bacsdarazsak családja: Cynip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llatvilág rendszerezésének áttekinté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num (ország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IA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Regnum animale) Állatország (= Állatok, vagy Állatok orszá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ubregnum (alország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ozo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jthalmazos állat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uloide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zedercsíra-szerű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ubregnum (alország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o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Álszövetes állat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ifer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zivacs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ubregnum (alország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etazo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lódi szövetes állat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Divisio (tagozat):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Űrbelűek (Coelenter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idaria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salánozó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Divisio (tagozat):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oelomata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estüreg nélküli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yhelminthes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aposférg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ivisio (tagozat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lomat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üreges állat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ubdivisio (altagozat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stomi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Ősszájú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tod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ngeresférg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lid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yűrűsférg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lusc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hatestű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pod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Ízeltlábú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ubdivisio (altagozat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erostomi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Újszájú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hordat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őgerinchúros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halochordat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jgerinchúros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um (törzs):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ebrata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rinces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rtyásszárnyúak rendj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ymenoptera)</a:t>
            </a:r>
            <a:r>
              <a:rPr b="1" i="1" lang="hu-HU" sz="3600" spc="-1" strike="noStrike">
                <a:solidFill>
                  <a:srgbClr val="000000"/>
                </a:solidFill>
                <a:latin typeface="Times New Roman"/>
              </a:rPr>
              <a:t> alrendjei és legfontosabb családjai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ánkosok alrendje (Acule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mdarazsak  családja: Chrysididae</a:t>
            </a:r>
            <a:br>
              <a:rPr sz="2000"/>
            </a:b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gyák családja Formicida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rsas redősszárnyú-darazsak családja:  Vesp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aródarazsak családja:  Sphec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halkatúak családsorozata: Apo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öldiméhek családja: Melit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csúméhek családja: Halic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ányászméhek családja: Andre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űvészméhek családja: Megachi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ínméhek családja: Ap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szárnyúak rendj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ptera)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legfontosabb családjai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szúnyogok családja: Tipul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ársonylegyek családja:  Bibion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zi szúnyogok (Gyötrő szúnyogok) családja: Culic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vaszúnyogok családja:  Chironom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bacsszúnyogok családja: Cecidomyi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ögölyök családja: Taban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ngőlegyek családja:  Syrph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úrólegyek családja: Tephrit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názólegyek családja: Agromyz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onalegyek családja: Chloropid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szárnyúak rendj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ptera)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legfontosabb családjai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atlegyek családja:  Drosophi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áglegyek családja: Anthomyi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zi legyek családja:  Musc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meslegyek családja: Calliphor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úslegyek családja: Sarcophag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készlegyek családja: Tachin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rbagócsfélék családja: Oestridae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őrbagócsfélék családja: Hypodermat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htetűlegyek családja: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ulid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űlegyek családja: Hippoboscidae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ókszabásúak osztály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ána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rachnida)</a:t>
            </a:r>
            <a:br>
              <a:rPr sz="4000"/>
            </a:b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legfontosabb alosztályai és rendj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skorpiók alosztálya (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scorpione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záspókok alosztálya (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lione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ódi pókok alosztálya (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neae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ák alosztálya (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ri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ársonyatkafélék rendje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bidifor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ztatkafélék rendje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ri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ncélosatkák rendje: Oriba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gáratkák rendje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a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lancsok rendje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o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hatestűek törzs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ének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llusca)</a:t>
            </a:r>
            <a:br>
              <a:rPr sz="4000"/>
            </a:b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legfontosabb osztályai és rendj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sigák osztálya (Gastrop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ésűskopoltyúsok rend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ectinibranch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őszemű tüdőscsigák re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sommatop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elesszemű tüdőscsigák rend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ylommatop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gylók osztálya (Bivalv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rincesek törzse (Vertebrata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Állkapocsnélküliek altörzse (Agnath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Állkapcsosak altörzse (Gnathostomat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Times New Roman"/>
              </a:rPr>
              <a:t>Csontoshalak osztálya (Pisces)</a:t>
            </a: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ngolnaalakúak rendj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nguilliforme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Heringalakú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rendj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Clupeiforme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Pontyalakúa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rendj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Cypriniforme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Harcsaalakúak rendjének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rendj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Siluriforme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Lazacalakúak rendje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Salmoniforme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Sügéralakúak rendj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Perciformes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4400" spc="-1" strike="noStrike">
                <a:solidFill>
                  <a:srgbClr val="000000"/>
                </a:solidFill>
                <a:latin typeface="Times New Roman"/>
              </a:rPr>
              <a:t>hüllők osztálya (Reptilia)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Teknősök rendje (Testud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Pikkelyes hüllők rendje (Squam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Vakondokgyík-alakúak alrendje (Scincomorph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Vakondokgyík-félék családja  (Scincida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Nyakörvösgyík-félék családja (Lacertid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Kígyók alrendje (Serpe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Siklófélék családja (Colubrid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Viperafélék családja (Viperid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Times New Roman"/>
              </a:rPr>
              <a:t>Madarak osztálya (Ave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Tyúkalkatúak rendje (Gallifor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Lúdalakúak rendje (Anseriform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Harkályalakúak rendje (Picifor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Bagolyalakúak rendje (Strigiform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Galambalkatúak rendje (Columbiform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Sólyomalakúak rendje (Falconiform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Gólyaalkatúak rendje (Ciconiiform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Énekesmadár-alakúak vagy verébalakúak rendje (Passeriform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Times New Roman"/>
              </a:rPr>
              <a:t>Emlősök osztálya (Mammalia)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Rovarevők rendje (Insectivor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Denevérek rendje (Chiropter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Ragadozók rendje (Carnivor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Páratlanujjú patások rendje (Perissodactyl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Párosujjú patások rendje (Artiodacti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Rágcsálók rendje (Rodenti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Nyúlalakúak rendje (Lagomorph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Főemlősök rendje (Primates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osférgek törzse (Platyhelminthe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vetett-fejlődésű mételyek osztálya (Tremato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vetlen-fejlődésű mételyek osztálya (Monoge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andférgek osztálya (Cesto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ívógödrös galandférgek rend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eudophyllid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ívókás galandférgek rend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clophyllide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geresférgek törzse (Nematod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orlati (nem rendszertani) elosz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ziállatokban élősködő (parazita) fonálférg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vényeken kárt okozó (növényparazita) fonálfér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arokban élősködő, „ragadozó” fonálf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mi élősködő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ztulást nem okozó obligát parazitá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ztulást okozó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át parazitá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ktériumokkal szimbiózisban élő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arpusztító faj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űrűsférgek törzse (Annelid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véssertéjűek osztálya (Oligochae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ályok osztálya (Hirudinoid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zeltlábúak törzse (Arthropod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r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zs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Ízeltlábúak (Arthropo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örzs: Rákok (Crusrtac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örzs: Légcsövesek (Trache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ály: Ezerlábúak (Myriapo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Ikerszelvényesek (Diplopo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Villáscsápúak (Pauropo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Szövőcsévések (Symphil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Százlábuak (Chilopo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ály: Rovarok (Insecta)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égebbi néven: Hatlábúak – Hexapo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Előrovarok (Prot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Lábaspotrohúak (Dipl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Ugróvillások (Collembol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Ősiszájszervűek (Archeognat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Pikkelyesek (Zygenthom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Felsőredű rovarok (Pterygo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örzs: Csáprágósok (Chelicer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ztály: Pókszabásúak (Arachni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Álskorpiók (Pseudoscorpi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Szálfarkúak (Palpigrad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Kaszáspókok (Opili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Valódi pókok (Aranea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Atkák (Acar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kok altörzse (Crustace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éllábú rákok osztálya (Phyllopoda):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jzsosrákok rendje (Notosra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tetvek osztálya (Branchiur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sabbrendű rákok osztálya (Malacostrac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ízlábú rákok rendje (Decapo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szkarákok rendje (Isop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varok (Insecta) osztályának alosztály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Előrovarok (Prot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Lábaspotrohúak (Dipl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Ugróvillások (Collembo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Ősiszájszervűek (Archeognath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Pikkelyesek (Zygentho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róvillások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ollembola)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ztály: Felsőredű rovarok (Pterygota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ső rendű rovarok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Pterygota) 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ztál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ának rendszerezé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pat: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laeoptera – Ősszárnyú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Odonata - Szitaköt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: Ephemeroptera - Kérés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pat: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ptera – Újszárnyú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ozat: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pterygota - Külső szárnyú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ozat: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pterygota - Belső szárnyú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7:10:23Z</dcterms:created>
  <dc:creator>Állattani tanszék</dc:creator>
  <dc:description/>
  <dc:language>en-US</dc:language>
  <cp:lastModifiedBy>Állattani tanszék</cp:lastModifiedBy>
  <dcterms:modified xsi:type="dcterms:W3CDTF">2006-09-07T15:59:25Z</dcterms:modified>
  <cp:revision>43</cp:revision>
  <dc:subject/>
  <dc:title>PowerPoint bemutató</dc:title>
</cp:coreProperties>
</file>