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24.jpeg" ContentType="image/jpeg"/>
  <Override PartName="/ppt/media/image22.jpeg" ContentType="image/jpeg"/>
  <Override PartName="/ppt/media/image21.jpeg" ContentType="image/jpeg"/>
  <Override PartName="/ppt/media/image2.wmf" ContentType="image/x-wmf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wmf" ContentType="image/x-wmf"/>
  <Override PartName="/ppt/media/image7.jpeg" ContentType="image/jpeg"/>
  <Override PartName="/ppt/media/image38.jpeg" ContentType="image/jpeg"/>
  <Override PartName="/ppt/media/image23.jpeg" ContentType="image/jpeg"/>
  <Override PartName="/ppt/media/image17.jpeg" ContentType="image/jpeg"/>
  <Override PartName="/ppt/media/image3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12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48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AFA7-C02D-458D-A21C-0AD1BF0A2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A429-F85D-4B33-8BCB-0037C2151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376E-8A26-4228-A9D1-96557DA6D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542D-F3AE-41B1-852D-AAC655FFA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E273-8C0D-4907-B78A-A636EEF4F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9BFD-B3B4-4909-B820-925DEBEF5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35F7-7407-4AF9-8D3E-17C6FA13C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1B5F-E82C-4FCE-9FF7-0F0BAA346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B759-C49F-4697-90F9-E448BE0E3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198D-D694-47EF-9533-21480B2C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2408-A9FC-441A-908C-1003A8C7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322D-22B2-4655-AB01-2EFFA78D4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f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CD6A8-AF4E-46D9-B82F-21CEE4E11D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f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33800" y="359280"/>
            <a:ext cx="369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háromfázisú rendsz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476360" y="907920"/>
          <a:ext cx="6192720" cy="5516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907920"/>
                    <a:ext cx="6192720" cy="551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f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51280" y="259200"/>
            <a:ext cx="88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talajba került szerves maradványok C - tartalmának sor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2195640" y="1052640"/>
            <a:ext cx="4973760" cy="5040360"/>
            <a:chOff x="2195640" y="1052640"/>
            <a:chExt cx="4973760" cy="5040360"/>
          </a:xfrm>
        </p:grpSpPr>
        <p:pic>
          <p:nvPicPr>
            <p:cNvPr id="90" name="szerves_bomlás_1" descr=""/>
            <p:cNvPicPr/>
            <p:nvPr/>
          </p:nvPicPr>
          <p:blipFill>
            <a:blip r:embed="rId1"/>
            <a:stretch/>
          </p:blipFill>
          <p:spPr>
            <a:xfrm>
              <a:off x="2195640" y="1052640"/>
              <a:ext cx="4872240" cy="504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5155920" y="2312640"/>
              <a:ext cx="1675080" cy="539640"/>
            </a:xfrm>
            <a:prstGeom prst="rect">
              <a:avLst/>
            </a:prstGeom>
            <a:solidFill>
              <a:srgbClr val="8c9e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ineralizáci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622120" y="2879280"/>
              <a:ext cx="1547280" cy="390960"/>
            </a:xfrm>
            <a:prstGeom prst="rect">
              <a:avLst/>
            </a:prstGeom>
            <a:solidFill>
              <a:srgbClr val="897d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umifikáci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4336560" y="2439000"/>
              <a:ext cx="75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479280" y="3194640"/>
              <a:ext cx="0" cy="44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f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628360" y="288000"/>
            <a:ext cx="461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humuszsavak tulajdonsága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755640" y="1125360"/>
          <a:ext cx="7416720" cy="4391280"/>
        </p:xfrm>
        <a:graphic>
          <a:graphicData uri="http://schemas.openxmlformats.org/drawingml/2006/table">
            <a:tbl>
              <a:tblPr/>
              <a:tblGrid>
                <a:gridCol w="1504800"/>
                <a:gridCol w="1501920"/>
                <a:gridCol w="1452600"/>
                <a:gridCol w="1454040"/>
                <a:gridCol w="1503360"/>
              </a:tblGrid>
              <a:tr h="87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umuszsa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zí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, 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, 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latív molekulatöm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ulvosava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árga vagy sárgásbar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-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000-8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matomelán-sava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r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-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4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 000-2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rna humin-sava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ötétbar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-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 000-10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zürke humin-sava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zürkésfeke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-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-7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10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0" y="456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f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58560" y="389520"/>
            <a:ext cx="79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szerves anyag bomlási sebessége a nedvesség függvényé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916360" y="2276640"/>
            <a:ext cx="4103640" cy="1800000"/>
          </a:xfrm>
          <a:custGeom>
            <a:avLst/>
            <a:gdLst/>
            <a:ahLst/>
            <a:rect l="l" t="t" r="r" b="b"/>
            <a:pathLst>
              <a:path w="2585" h="1134">
                <a:moveTo>
                  <a:pt x="0" y="1134"/>
                </a:moveTo>
                <a:lnTo>
                  <a:pt x="1179" y="408"/>
                </a:lnTo>
                <a:lnTo>
                  <a:pt x="1587" y="227"/>
                </a:lnTo>
                <a:lnTo>
                  <a:pt x="1859" y="46"/>
                </a:lnTo>
                <a:lnTo>
                  <a:pt x="2086" y="0"/>
                </a:lnTo>
                <a:lnTo>
                  <a:pt x="2222" y="0"/>
                </a:lnTo>
                <a:lnTo>
                  <a:pt x="2313" y="46"/>
                </a:lnTo>
                <a:lnTo>
                  <a:pt x="2358" y="182"/>
                </a:lnTo>
                <a:lnTo>
                  <a:pt x="2449" y="499"/>
                </a:lnTo>
                <a:lnTo>
                  <a:pt x="2495" y="771"/>
                </a:lnTo>
                <a:lnTo>
                  <a:pt x="2540" y="1044"/>
                </a:lnTo>
                <a:lnTo>
                  <a:pt x="2585" y="113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2556000" y="256536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00000" y="2852640"/>
            <a:ext cx="127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í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mlá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bessé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51280" y="4292640"/>
            <a:ext cx="149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Nedvessé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tenzió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p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627280" y="4221000"/>
            <a:ext cx="113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szára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732720" y="4221000"/>
            <a:ext cx="127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víz alat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711680" y="1822320"/>
            <a:ext cx="22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iss növényi any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43280" y="2205000"/>
            <a:ext cx="4176720" cy="1944720"/>
          </a:xfrm>
          <a:custGeom>
            <a:avLst/>
            <a:gdLst/>
            <a:ahLst/>
            <a:rect l="l" t="t" r="r" b="b"/>
            <a:pathLst>
              <a:path w="2631" h="1225">
                <a:moveTo>
                  <a:pt x="0" y="0"/>
                </a:moveTo>
                <a:lnTo>
                  <a:pt x="0" y="1225"/>
                </a:lnTo>
                <a:lnTo>
                  <a:pt x="2631" y="122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f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746640" y="475200"/>
            <a:ext cx="732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talajkolloidok felületi töltésének viselkedése az oldatb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205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11280" y="1700280"/>
            <a:ext cx="7129440" cy="4168800"/>
            <a:chOff x="611280" y="1700280"/>
            <a:chExt cx="7129440" cy="4168800"/>
          </a:xfrm>
        </p:grpSpPr>
        <p:pic>
          <p:nvPicPr>
            <p:cNvPr id="110" name="kettősréteg_1" descr=""/>
            <p:cNvPicPr/>
            <p:nvPr/>
          </p:nvPicPr>
          <p:blipFill>
            <a:blip r:embed="rId1"/>
            <a:stretch/>
          </p:blipFill>
          <p:spPr>
            <a:xfrm>
              <a:off x="611280" y="1838520"/>
              <a:ext cx="7129440" cy="403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06800" y="1700280"/>
              <a:ext cx="1856880" cy="52164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eljes potenciá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299120" y="2005200"/>
              <a:ext cx="0" cy="33649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170520" y="1700280"/>
              <a:ext cx="2588400" cy="397440"/>
            </a:xfrm>
            <a:prstGeom prst="rect">
              <a:avLst/>
            </a:prstGeom>
            <a:solidFill>
              <a:srgbClr val="66ff66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rősebben kötött ion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175440" y="2221920"/>
              <a:ext cx="1380600" cy="521280"/>
            </a:xfrm>
            <a:prstGeom prst="rect">
              <a:avLst/>
            </a:prstGeom>
            <a:solidFill>
              <a:srgbClr val="dace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iffúz réte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242080" y="3601800"/>
              <a:ext cx="1294200" cy="86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aradé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zét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otenciá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872080" y="2047680"/>
              <a:ext cx="695160" cy="174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141000" y="3894840"/>
              <a:ext cx="487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084200" y="1976400"/>
              <a:ext cx="720" cy="23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5546880" y="2395800"/>
              <a:ext cx="583200" cy="105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f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276720" y="35928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zomorf helyettesíté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84360" y="1125360"/>
            <a:ext cx="7775280" cy="48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f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477080" y="331920"/>
            <a:ext cx="589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zikes talajok kicserélhető Na-tartal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és pH-értéke közötti összefüggé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042920" y="1352880"/>
            <a:ext cx="6408360" cy="4993560"/>
            <a:chOff x="1042920" y="1352880"/>
            <a:chExt cx="6408360" cy="4993560"/>
          </a:xfrm>
        </p:grpSpPr>
        <p:sp>
          <p:nvSpPr>
            <p:cNvPr id="124" name=""/>
            <p:cNvSpPr/>
            <p:nvPr/>
          </p:nvSpPr>
          <p:spPr>
            <a:xfrm>
              <a:off x="1827000" y="1352880"/>
              <a:ext cx="0" cy="40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827000" y="5451120"/>
              <a:ext cx="497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1827000" y="2922840"/>
              <a:ext cx="4186440" cy="2441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227200" y="2572560"/>
              <a:ext cx="36036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750280" y="2835000"/>
              <a:ext cx="360360" cy="42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965840" y="3009960"/>
              <a:ext cx="36036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402520" y="3446280"/>
              <a:ext cx="360360" cy="42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704840" y="3532680"/>
              <a:ext cx="36000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619160" y="3707640"/>
              <a:ext cx="361080" cy="42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920400" y="3620880"/>
              <a:ext cx="36036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97320" y="3794040"/>
              <a:ext cx="36036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483720" y="4055760"/>
              <a:ext cx="36036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962080" y="4316760"/>
              <a:ext cx="36000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439360" y="4579200"/>
              <a:ext cx="360360" cy="42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24680" y="4666680"/>
              <a:ext cx="36036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39360" y="4841640"/>
              <a:ext cx="360360" cy="42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439360" y="5539320"/>
              <a:ext cx="40644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309120" y="5539320"/>
              <a:ext cx="40644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96080" y="5539320"/>
              <a:ext cx="40644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880520" y="5539320"/>
              <a:ext cx="40716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750280" y="5539320"/>
              <a:ext cx="40644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47960" y="5539320"/>
              <a:ext cx="40644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972840" y="5539320"/>
              <a:ext cx="478440" cy="5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34120" y="5812560"/>
              <a:ext cx="121572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a-telítettsé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42920" y="1522080"/>
              <a:ext cx="76752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H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(H2O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392480" y="4666680"/>
              <a:ext cx="31428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92480" y="3967920"/>
              <a:ext cx="31428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03920" y="3359520"/>
              <a:ext cx="40644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303920" y="2661840"/>
              <a:ext cx="40644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f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694160" y="332280"/>
            <a:ext cx="544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gyarország talajainak pH térkép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16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39640" y="1125360"/>
            <a:ext cx="8137800" cy="5261040"/>
            <a:chOff x="539640" y="1125360"/>
            <a:chExt cx="8137800" cy="5261040"/>
          </a:xfrm>
        </p:grpSpPr>
        <p:pic>
          <p:nvPicPr>
            <p:cNvPr id="156" name="pH_térkép_1" descr=""/>
            <p:cNvPicPr/>
            <p:nvPr/>
          </p:nvPicPr>
          <p:blipFill>
            <a:blip r:embed="rId1"/>
            <a:stretch/>
          </p:blipFill>
          <p:spPr>
            <a:xfrm>
              <a:off x="539640" y="1125360"/>
              <a:ext cx="8137800" cy="526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7656120" y="3491640"/>
              <a:ext cx="44136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800" bIns="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722720" y="3889080"/>
              <a:ext cx="590040" cy="57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800" bIns="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&lt;5,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589520" y="4152960"/>
              <a:ext cx="997920" cy="57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800" bIns="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,5 – 6,6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589520" y="4419000"/>
              <a:ext cx="997920" cy="57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800" bIns="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6,6 – 7,6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855920" y="4682880"/>
              <a:ext cx="5900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800" bIns="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&gt;7,6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f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733400" y="104760"/>
            <a:ext cx="561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természetes sugárterhelés forrása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az összes terhelés 82%-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539640" y="1341360"/>
          <a:ext cx="7848720" cy="5211720"/>
        </p:xfrm>
        <a:graphic>
          <a:graphicData uri="http://schemas.openxmlformats.org/drawingml/2006/table">
            <a:tbl>
              <a:tblPr/>
              <a:tblGrid>
                <a:gridCol w="1962360"/>
                <a:gridCol w="1962000"/>
                <a:gridCol w="1962360"/>
                <a:gridCol w="19620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rrá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zzájárulás az összes terheléshez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ntosabb izotóp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gjegyzé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zmiku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tommagok, proton, neutron, elektron, Röntgen sugárzás, stb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zmogé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, 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, 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kozmikus sugárzás hatására jön létr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veg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föld mélyebb rétegeiből jö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áplálék, ital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, 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, 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, 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, 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lülről, közelről sugároz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laj és épület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, 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, 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,  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87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b, 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, ( 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, 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,) 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"/>
          <p:cNvSpPr/>
          <p:nvPr/>
        </p:nvSpPr>
        <p:spPr>
          <a:xfrm>
            <a:off x="0" y="525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f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349800" y="288000"/>
            <a:ext cx="278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talaj szerkeze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55640" y="1052640"/>
            <a:ext cx="7777080" cy="36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f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979640" y="475200"/>
            <a:ext cx="519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fológiai szerkezet főcsoporto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900000" y="1484280"/>
            <a:ext cx="6985080" cy="4533840"/>
            <a:chOff x="900000" y="1484280"/>
            <a:chExt cx="6985080" cy="4533840"/>
          </a:xfrm>
        </p:grpSpPr>
        <p:pic>
          <p:nvPicPr>
            <p:cNvPr id="169" name="" descr=""/>
            <p:cNvPicPr/>
            <p:nvPr/>
          </p:nvPicPr>
          <p:blipFill>
            <a:blip r:embed="rId1"/>
            <a:stretch/>
          </p:blipFill>
          <p:spPr>
            <a:xfrm>
              <a:off x="900000" y="1484280"/>
              <a:ext cx="5444640" cy="453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6563520" y="1694160"/>
              <a:ext cx="953640" cy="527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800" rIns="558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öbö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95480" y="3022200"/>
              <a:ext cx="1389600" cy="527040"/>
            </a:xfrm>
            <a:prstGeom prst="rect">
              <a:avLst/>
            </a:prstGeom>
            <a:solidFill>
              <a:srgbClr val="cccf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800" rIns="558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asábszer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495480" y="4561200"/>
              <a:ext cx="1389600" cy="527040"/>
            </a:xfrm>
            <a:prstGeom prst="rect">
              <a:avLst/>
            </a:prstGeom>
            <a:solidFill>
              <a:srgbClr val="cccf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800" rIns="558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mezszer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f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1291320" y="1052640"/>
            <a:ext cx="6769800" cy="5354640"/>
            <a:chOff x="1291320" y="1052640"/>
            <a:chExt cx="6769800" cy="5354640"/>
          </a:xfrm>
        </p:grpSpPr>
        <p:sp>
          <p:nvSpPr>
            <p:cNvPr id="46" name=""/>
            <p:cNvSpPr/>
            <p:nvPr/>
          </p:nvSpPr>
          <p:spPr>
            <a:xfrm>
              <a:off x="1844640" y="1233000"/>
              <a:ext cx="2887560" cy="2346480"/>
            </a:xfrm>
            <a:prstGeom prst="ellipse">
              <a:avLst/>
            </a:prstGeom>
            <a:noFill/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671360" y="1233000"/>
              <a:ext cx="2708280" cy="2346480"/>
            </a:xfrm>
            <a:prstGeom prst="ellipse">
              <a:avLst/>
            </a:pr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87520" y="2436120"/>
              <a:ext cx="2707200" cy="22870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63800" y="3639240"/>
              <a:ext cx="2647440" cy="2346480"/>
            </a:xfrm>
            <a:prstGeom prst="ellipse">
              <a:avLst/>
            </a:prstGeom>
            <a:noFill/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671360" y="3639240"/>
              <a:ext cx="2708280" cy="2346480"/>
            </a:xfrm>
            <a:prstGeom prst="ellipse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313000" y="1563120"/>
              <a:ext cx="1369800" cy="14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840" rIns="5184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tmoszfé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ázok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itrogé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xigé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zén-diox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46520" y="1392840"/>
              <a:ext cx="2365560" cy="167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840" rIns="5184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ioszfé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övénye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Állato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ikroorganizmuso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és maradványai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384280" y="4543560"/>
              <a:ext cx="1185840" cy="11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840" rIns="5184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itoszfé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őzete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Ásványo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695200" y="4543560"/>
              <a:ext cx="1553040" cy="11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840" rIns="5184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idroszfé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íz és oldot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yago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55640" y="3265200"/>
              <a:ext cx="78300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840" rIns="5184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alaj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009320" y="1052640"/>
              <a:ext cx="13665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840" rIns="5184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alajlevegő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291320" y="3095280"/>
              <a:ext cx="1753920" cy="76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840" rIns="5184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Ásványi részecské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91240" y="5866200"/>
              <a:ext cx="182520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840" rIns="5184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alajnedvessé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4008960" y="1353600"/>
              <a:ext cx="782280" cy="1623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551840" y="4241520"/>
              <a:ext cx="781200" cy="1563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796080" y="3332880"/>
              <a:ext cx="126504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840" rIns="5184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zerves anya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flipV="1">
              <a:off x="5393520" y="2977200"/>
              <a:ext cx="1262520" cy="72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506680" y="3639240"/>
              <a:ext cx="1442880" cy="60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3200400" y="318240"/>
            <a:ext cx="277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talaj és környeze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f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917800" y="475200"/>
            <a:ext cx="30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szlopos szerkez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843280" y="1197000"/>
            <a:ext cx="354492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f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048040" y="475200"/>
            <a:ext cx="46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A pF görbe és jellemző pontjai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97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826920" y="1413000"/>
            <a:ext cx="7269480" cy="4876560"/>
            <a:chOff x="826920" y="1413000"/>
            <a:chExt cx="7269480" cy="4876560"/>
          </a:xfrm>
        </p:grpSpPr>
        <p:sp>
          <p:nvSpPr>
            <p:cNvPr id="178" name=""/>
            <p:cNvSpPr/>
            <p:nvPr/>
          </p:nvSpPr>
          <p:spPr>
            <a:xfrm>
              <a:off x="4020120" y="5824440"/>
              <a:ext cx="63360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960" rIns="57960" tIns="29160" bIns="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466600" y="5824440"/>
              <a:ext cx="71820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960" rIns="57960" tIns="29160" bIns="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4249080" y="5595840"/>
              <a:ext cx="0" cy="22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5617440" y="5595840"/>
              <a:ext cx="0" cy="22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654080" y="4474440"/>
              <a:ext cx="714240" cy="46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960" rIns="57960" tIns="29160" bIns="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3300"/>
                  </a:solidFill>
                  <a:latin typeface="Arial"/>
                  <a:ea typeface="Times New Roman"/>
                </a:rPr>
                <a:t>D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259800" y="1565640"/>
              <a:ext cx="4487040" cy="3877920"/>
            </a:xfrm>
            <a:custGeom>
              <a:avLst/>
              <a:gdLst/>
              <a:ahLst/>
              <a:rect l="l" t="t" r="r" b="b"/>
              <a:pathLst>
                <a:path w="2676" h="2313">
                  <a:moveTo>
                    <a:pt x="0" y="0"/>
                  </a:moveTo>
                  <a:lnTo>
                    <a:pt x="0" y="2313"/>
                  </a:lnTo>
                  <a:lnTo>
                    <a:pt x="2676" y="231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36840" y="2097000"/>
              <a:ext cx="3345120" cy="3271320"/>
            </a:xfrm>
            <a:custGeom>
              <a:avLst/>
              <a:gdLst/>
              <a:ahLst/>
              <a:rect l="l" t="t" r="r" b="b"/>
              <a:pathLst>
                <a:path w="1995" h="1951">
                  <a:moveTo>
                    <a:pt x="0" y="0"/>
                  </a:moveTo>
                  <a:lnTo>
                    <a:pt x="90" y="227"/>
                  </a:lnTo>
                  <a:lnTo>
                    <a:pt x="317" y="590"/>
                  </a:lnTo>
                  <a:lnTo>
                    <a:pt x="589" y="998"/>
                  </a:lnTo>
                  <a:lnTo>
                    <a:pt x="907" y="1270"/>
                  </a:lnTo>
                  <a:lnTo>
                    <a:pt x="1179" y="1361"/>
                  </a:lnTo>
                  <a:lnTo>
                    <a:pt x="1451" y="1406"/>
                  </a:lnTo>
                  <a:lnTo>
                    <a:pt x="1632" y="1452"/>
                  </a:lnTo>
                  <a:lnTo>
                    <a:pt x="1723" y="1497"/>
                  </a:lnTo>
                  <a:lnTo>
                    <a:pt x="1814" y="1588"/>
                  </a:lnTo>
                  <a:lnTo>
                    <a:pt x="1859" y="1678"/>
                  </a:lnTo>
                  <a:lnTo>
                    <a:pt x="1995" y="1951"/>
                  </a:lnTo>
                </a:path>
              </a:pathLst>
            </a:custGeom>
            <a:noFill/>
            <a:ln w="190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259800" y="3542400"/>
              <a:ext cx="912240" cy="1901160"/>
            </a:xfrm>
            <a:custGeom>
              <a:avLst/>
              <a:gdLst/>
              <a:ahLst/>
              <a:rect l="l" t="t" r="r" b="b"/>
              <a:pathLst>
                <a:path w="544" h="1134">
                  <a:moveTo>
                    <a:pt x="0" y="0"/>
                  </a:moveTo>
                  <a:lnTo>
                    <a:pt x="544" y="0"/>
                  </a:lnTo>
                  <a:lnTo>
                    <a:pt x="544" y="1134"/>
                  </a:lnTo>
                </a:path>
              </a:pathLst>
            </a:cu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259800" y="4379040"/>
              <a:ext cx="2357280" cy="1064520"/>
            </a:xfrm>
            <a:custGeom>
              <a:avLst/>
              <a:gdLst/>
              <a:ahLst/>
              <a:rect l="l" t="t" r="r" b="b"/>
              <a:pathLst>
                <a:path w="1406" h="635">
                  <a:moveTo>
                    <a:pt x="0" y="0"/>
                  </a:moveTo>
                  <a:lnTo>
                    <a:pt x="1406" y="0"/>
                  </a:lnTo>
                  <a:lnTo>
                    <a:pt x="1406" y="635"/>
                  </a:lnTo>
                </a:path>
              </a:pathLst>
            </a:cu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323960" y="49104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323960" y="4910400"/>
              <a:ext cx="1217880" cy="0"/>
            </a:xfrm>
            <a:prstGeom prst="line">
              <a:avLst/>
            </a:prstGeom>
            <a:ln w="12600">
              <a:solidFill>
                <a:srgbClr val="ff505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650320" y="1413000"/>
              <a:ext cx="47520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960" rIns="57960" tIns="29160" bIns="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435320" y="1944360"/>
              <a:ext cx="171792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960" rIns="57960" tIns="29160" bIns="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záraz talaj  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977760" y="3238560"/>
              <a:ext cx="2159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960" rIns="57960" tIns="29160" bIns="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ervadáspont  4,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26920" y="4075560"/>
              <a:ext cx="2307240" cy="64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960" rIns="57960" tIns="29160" bIns="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zabadföldi VK  2,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58280" y="5063040"/>
              <a:ext cx="1704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960" rIns="57960" tIns="29160" bIns="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elített talaj  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565080" y="5519160"/>
              <a:ext cx="46188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960" rIns="57960" tIns="29160" bIns="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401000" y="5519160"/>
              <a:ext cx="46188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960" rIns="57960" tIns="29160" bIns="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085720" y="5519160"/>
              <a:ext cx="46188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960" rIns="57960" tIns="29160" bIns="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845320" y="5519160"/>
              <a:ext cx="46188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960" rIns="57960" tIns="29160" bIns="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531480" y="5519160"/>
              <a:ext cx="46152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960" rIns="57960" tIns="29160" bIns="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950520" y="5519160"/>
              <a:ext cx="11458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960" rIns="57960" tIns="29160" bIns="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íz tf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f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23640" y="259200"/>
            <a:ext cx="841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talaj nedvesség kötődéssel egyensúlyt tartó vízoszlo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195640" y="1052640"/>
            <a:ext cx="4439160" cy="5181480"/>
            <a:chOff x="2195640" y="1052640"/>
            <a:chExt cx="4439160" cy="5181480"/>
          </a:xfrm>
        </p:grpSpPr>
        <p:pic>
          <p:nvPicPr>
            <p:cNvPr id="202" name="" descr=""/>
            <p:cNvPicPr/>
            <p:nvPr/>
          </p:nvPicPr>
          <p:blipFill>
            <a:blip r:embed="rId1"/>
            <a:stretch/>
          </p:blipFill>
          <p:spPr>
            <a:xfrm>
              <a:off x="2195640" y="1656000"/>
              <a:ext cx="4349880" cy="457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4813560" y="5280480"/>
              <a:ext cx="1821240" cy="68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ifolyó ví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813560" y="1830240"/>
              <a:ext cx="1821240" cy="68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mbrá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035880" y="1052640"/>
              <a:ext cx="1872720" cy="68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alajmin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f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90080" y="332280"/>
            <a:ext cx="89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hasznos víz mennyisége a talaj szövetének függvényéb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21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971640" y="1125360"/>
            <a:ext cx="7056360" cy="5240160"/>
            <a:chOff x="971640" y="1125360"/>
            <a:chExt cx="7056360" cy="5240160"/>
          </a:xfrm>
        </p:grpSpPr>
        <p:sp>
          <p:nvSpPr>
            <p:cNvPr id="209" name=""/>
            <p:cNvSpPr/>
            <p:nvPr/>
          </p:nvSpPr>
          <p:spPr>
            <a:xfrm>
              <a:off x="1927440" y="1930320"/>
              <a:ext cx="34200" cy="3668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804760" y="2941200"/>
              <a:ext cx="4863600" cy="1860840"/>
            </a:xfrm>
            <a:custGeom>
              <a:avLst/>
              <a:gdLst/>
              <a:ahLst/>
              <a:rect l="l" t="t" r="r" b="b"/>
              <a:pathLst>
                <a:path w="2767" h="1058">
                  <a:moveTo>
                    <a:pt x="0" y="1058"/>
                  </a:moveTo>
                  <a:cubicBezTo>
                    <a:pt x="64" y="967"/>
                    <a:pt x="129" y="877"/>
                    <a:pt x="227" y="786"/>
                  </a:cubicBezTo>
                  <a:cubicBezTo>
                    <a:pt x="325" y="695"/>
                    <a:pt x="484" y="590"/>
                    <a:pt x="590" y="514"/>
                  </a:cubicBezTo>
                  <a:cubicBezTo>
                    <a:pt x="696" y="438"/>
                    <a:pt x="771" y="378"/>
                    <a:pt x="862" y="332"/>
                  </a:cubicBezTo>
                  <a:cubicBezTo>
                    <a:pt x="953" y="286"/>
                    <a:pt x="1028" y="279"/>
                    <a:pt x="1134" y="241"/>
                  </a:cubicBezTo>
                  <a:cubicBezTo>
                    <a:pt x="1240" y="203"/>
                    <a:pt x="1361" y="143"/>
                    <a:pt x="1497" y="105"/>
                  </a:cubicBezTo>
                  <a:cubicBezTo>
                    <a:pt x="1633" y="67"/>
                    <a:pt x="1823" y="30"/>
                    <a:pt x="1951" y="15"/>
                  </a:cubicBezTo>
                  <a:cubicBezTo>
                    <a:pt x="2079" y="0"/>
                    <a:pt x="2155" y="15"/>
                    <a:pt x="2268" y="15"/>
                  </a:cubicBezTo>
                  <a:cubicBezTo>
                    <a:pt x="2381" y="15"/>
                    <a:pt x="2548" y="8"/>
                    <a:pt x="2631" y="15"/>
                  </a:cubicBezTo>
                  <a:cubicBezTo>
                    <a:pt x="2714" y="22"/>
                    <a:pt x="2744" y="53"/>
                    <a:pt x="2767" y="6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964600" y="3924000"/>
              <a:ext cx="4942800" cy="1276200"/>
            </a:xfrm>
            <a:custGeom>
              <a:avLst/>
              <a:gdLst/>
              <a:ahLst/>
              <a:rect l="l" t="t" r="r" b="b"/>
              <a:pathLst>
                <a:path w="2812" h="726">
                  <a:moveTo>
                    <a:pt x="0" y="726"/>
                  </a:moveTo>
                  <a:cubicBezTo>
                    <a:pt x="98" y="714"/>
                    <a:pt x="196" y="703"/>
                    <a:pt x="317" y="680"/>
                  </a:cubicBezTo>
                  <a:cubicBezTo>
                    <a:pt x="438" y="657"/>
                    <a:pt x="590" y="613"/>
                    <a:pt x="726" y="590"/>
                  </a:cubicBezTo>
                  <a:cubicBezTo>
                    <a:pt x="862" y="567"/>
                    <a:pt x="1006" y="567"/>
                    <a:pt x="1134" y="544"/>
                  </a:cubicBezTo>
                  <a:cubicBezTo>
                    <a:pt x="1262" y="521"/>
                    <a:pt x="1361" y="484"/>
                    <a:pt x="1497" y="454"/>
                  </a:cubicBezTo>
                  <a:cubicBezTo>
                    <a:pt x="1633" y="424"/>
                    <a:pt x="1814" y="401"/>
                    <a:pt x="1950" y="363"/>
                  </a:cubicBezTo>
                  <a:cubicBezTo>
                    <a:pt x="2086" y="325"/>
                    <a:pt x="2207" y="265"/>
                    <a:pt x="2313" y="227"/>
                  </a:cubicBezTo>
                  <a:cubicBezTo>
                    <a:pt x="2419" y="189"/>
                    <a:pt x="2502" y="174"/>
                    <a:pt x="2585" y="136"/>
                  </a:cubicBezTo>
                  <a:cubicBezTo>
                    <a:pt x="2668" y="98"/>
                    <a:pt x="2740" y="49"/>
                    <a:pt x="2812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971640" y="1125360"/>
              <a:ext cx="2878200" cy="90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8240" rIns="48240" tIns="24120" bIns="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0 cm talajrétegb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évő víz, m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209600" y="2569320"/>
              <a:ext cx="96012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8240" rIns="48240" tIns="24120" bIns="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369440" y="4003920"/>
              <a:ext cx="80028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8240" rIns="48240" tIns="24120" bIns="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890080" y="5683680"/>
              <a:ext cx="136224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8240" rIns="48240" tIns="24120" bIns="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om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048640" y="5682600"/>
              <a:ext cx="1370160" cy="68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8240" rIns="48240" tIns="24120" bIns="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ályo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967440" y="5682600"/>
              <a:ext cx="106056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8240" rIns="48240" tIns="24120" bIns="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gya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282840" y="2090520"/>
              <a:ext cx="368424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8240" rIns="48240" tIns="24120" bIns="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zántóföldi vízkapacitá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645080" y="3722760"/>
              <a:ext cx="232200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8240" rIns="48240" tIns="24120" bIns="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asznos ví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675040" y="4961880"/>
              <a:ext cx="153180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8240" rIns="48240" tIns="24120" bIns="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oltví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320000" y="2408400"/>
              <a:ext cx="0" cy="103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6153120" y="4641120"/>
              <a:ext cx="0" cy="39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010240" y="5643360"/>
              <a:ext cx="5729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f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980360" y="258840"/>
            <a:ext cx="466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vízvezető képesség méré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állandó víznyomás módszerr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1692360" y="1413000"/>
            <a:ext cx="4835520" cy="5040360"/>
            <a:chOff x="1692360" y="1413000"/>
            <a:chExt cx="4835520" cy="5040360"/>
          </a:xfrm>
        </p:grpSpPr>
        <p:pic>
          <p:nvPicPr>
            <p:cNvPr id="227" name="K_tényező2_1" descr=""/>
            <p:cNvPicPr/>
            <p:nvPr/>
          </p:nvPicPr>
          <p:blipFill>
            <a:blip r:embed="rId1"/>
            <a:stretch/>
          </p:blipFill>
          <p:spPr>
            <a:xfrm>
              <a:off x="1692360" y="1413000"/>
              <a:ext cx="4835520" cy="481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3032280" y="4977360"/>
              <a:ext cx="1459800" cy="47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760" rIns="5976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alajmin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262680" y="5979960"/>
              <a:ext cx="1394640" cy="4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760" rIns="5976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zitaszöv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3724920" y="5593320"/>
              <a:ext cx="0" cy="462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f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2843280" y="475200"/>
            <a:ext cx="30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háromfázisú tala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174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1187280" y="1125360"/>
            <a:ext cx="6659280" cy="5035680"/>
            <a:chOff x="1187280" y="1125360"/>
            <a:chExt cx="6659280" cy="5035680"/>
          </a:xfrm>
        </p:grpSpPr>
        <p:pic>
          <p:nvPicPr>
            <p:cNvPr id="234" name="háromfázisú_1" descr=""/>
            <p:cNvPicPr/>
            <p:nvPr/>
          </p:nvPicPr>
          <p:blipFill>
            <a:blip r:embed="rId1"/>
            <a:stretch/>
          </p:blipFill>
          <p:spPr>
            <a:xfrm>
              <a:off x="1252440" y="1605600"/>
              <a:ext cx="6594120" cy="455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1187280" y="1193400"/>
              <a:ext cx="10249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240" rIns="57240" tIns="28440" bIns="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zilá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424840" y="1125360"/>
              <a:ext cx="122688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240" rIns="57240" tIns="28440" bIns="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eveg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474720" y="1125360"/>
              <a:ext cx="95724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240" rIns="57240" tIns="28440" bIns="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ld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725840" y="1528920"/>
              <a:ext cx="873720" cy="672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3407040" y="1395360"/>
              <a:ext cx="402480" cy="941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5021640" y="1395360"/>
              <a:ext cx="806040" cy="127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f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880560" y="318240"/>
            <a:ext cx="75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 kapilláris vezetőképesség – nedvesség tenzió összefügg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2484360" y="1370880"/>
            <a:ext cx="4366800" cy="4723560"/>
            <a:chOff x="2484360" y="1370880"/>
            <a:chExt cx="4366800" cy="4723560"/>
          </a:xfrm>
        </p:grpSpPr>
        <p:sp>
          <p:nvSpPr>
            <p:cNvPr id="243" name=""/>
            <p:cNvSpPr/>
            <p:nvPr/>
          </p:nvSpPr>
          <p:spPr>
            <a:xfrm>
              <a:off x="3108960" y="1584360"/>
              <a:ext cx="0" cy="379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108960" y="5381640"/>
              <a:ext cx="3200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108960" y="2253960"/>
              <a:ext cx="2903400" cy="2009520"/>
            </a:xfrm>
            <a:custGeom>
              <a:avLst/>
              <a:gdLst/>
              <a:ahLst/>
              <a:rect l="l" t="t" r="r" b="b"/>
              <a:pathLst>
                <a:path w="1769" h="1224">
                  <a:moveTo>
                    <a:pt x="0" y="0"/>
                  </a:moveTo>
                  <a:cubicBezTo>
                    <a:pt x="38" y="26"/>
                    <a:pt x="76" y="52"/>
                    <a:pt x="136" y="90"/>
                  </a:cubicBezTo>
                  <a:cubicBezTo>
                    <a:pt x="196" y="128"/>
                    <a:pt x="287" y="174"/>
                    <a:pt x="363" y="227"/>
                  </a:cubicBezTo>
                  <a:cubicBezTo>
                    <a:pt x="439" y="280"/>
                    <a:pt x="528" y="355"/>
                    <a:pt x="589" y="408"/>
                  </a:cubicBezTo>
                  <a:cubicBezTo>
                    <a:pt x="650" y="461"/>
                    <a:pt x="673" y="491"/>
                    <a:pt x="726" y="544"/>
                  </a:cubicBezTo>
                  <a:cubicBezTo>
                    <a:pt x="779" y="597"/>
                    <a:pt x="839" y="665"/>
                    <a:pt x="907" y="725"/>
                  </a:cubicBezTo>
                  <a:cubicBezTo>
                    <a:pt x="975" y="785"/>
                    <a:pt x="1066" y="854"/>
                    <a:pt x="1134" y="907"/>
                  </a:cubicBezTo>
                  <a:cubicBezTo>
                    <a:pt x="1202" y="960"/>
                    <a:pt x="1209" y="990"/>
                    <a:pt x="1315" y="1043"/>
                  </a:cubicBezTo>
                  <a:cubicBezTo>
                    <a:pt x="1421" y="1096"/>
                    <a:pt x="1595" y="1160"/>
                    <a:pt x="1769" y="1224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089160" y="1370880"/>
              <a:ext cx="2550240" cy="3564360"/>
            </a:xfrm>
            <a:custGeom>
              <a:avLst/>
              <a:gdLst/>
              <a:ahLst/>
              <a:rect l="l" t="t" r="r" b="b"/>
              <a:pathLst>
                <a:path w="1542" h="2132">
                  <a:moveTo>
                    <a:pt x="0" y="45"/>
                  </a:moveTo>
                  <a:cubicBezTo>
                    <a:pt x="34" y="22"/>
                    <a:pt x="68" y="0"/>
                    <a:pt x="91" y="45"/>
                  </a:cubicBezTo>
                  <a:cubicBezTo>
                    <a:pt x="114" y="90"/>
                    <a:pt x="113" y="204"/>
                    <a:pt x="136" y="317"/>
                  </a:cubicBezTo>
                  <a:cubicBezTo>
                    <a:pt x="159" y="430"/>
                    <a:pt x="197" y="575"/>
                    <a:pt x="227" y="726"/>
                  </a:cubicBezTo>
                  <a:cubicBezTo>
                    <a:pt x="257" y="877"/>
                    <a:pt x="287" y="1111"/>
                    <a:pt x="317" y="1224"/>
                  </a:cubicBezTo>
                  <a:cubicBezTo>
                    <a:pt x="347" y="1337"/>
                    <a:pt x="363" y="1330"/>
                    <a:pt x="408" y="1406"/>
                  </a:cubicBezTo>
                  <a:cubicBezTo>
                    <a:pt x="453" y="1482"/>
                    <a:pt x="536" y="1610"/>
                    <a:pt x="589" y="1678"/>
                  </a:cubicBezTo>
                  <a:cubicBezTo>
                    <a:pt x="642" y="1746"/>
                    <a:pt x="673" y="1769"/>
                    <a:pt x="726" y="1814"/>
                  </a:cubicBezTo>
                  <a:cubicBezTo>
                    <a:pt x="779" y="1859"/>
                    <a:pt x="839" y="1912"/>
                    <a:pt x="907" y="1950"/>
                  </a:cubicBezTo>
                  <a:cubicBezTo>
                    <a:pt x="975" y="1988"/>
                    <a:pt x="1051" y="2018"/>
                    <a:pt x="1134" y="2041"/>
                  </a:cubicBezTo>
                  <a:cubicBezTo>
                    <a:pt x="1217" y="2064"/>
                    <a:pt x="1338" y="2071"/>
                    <a:pt x="1406" y="2086"/>
                  </a:cubicBezTo>
                  <a:cubicBezTo>
                    <a:pt x="1474" y="2101"/>
                    <a:pt x="1508" y="2116"/>
                    <a:pt x="1542" y="213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334760" y="1469160"/>
              <a:ext cx="2041560" cy="6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omoktalaj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028120" y="2394360"/>
              <a:ext cx="1823040" cy="6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gyagtalaj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3480840" y="1807560"/>
              <a:ext cx="892800" cy="22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4671720" y="2997720"/>
              <a:ext cx="818280" cy="37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184800" y="5455800"/>
              <a:ext cx="666360" cy="6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484360" y="1701000"/>
              <a:ext cx="604800" cy="6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484360" y="4519800"/>
              <a:ext cx="726480" cy="6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-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958840" y="5455800"/>
              <a:ext cx="321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342760" y="5455800"/>
              <a:ext cx="3214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2340000" y="981000"/>
            <a:ext cx="165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tIns="23400" bIns="23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, cm/n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140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800" y="1399680"/>
            <a:ext cx="180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800" y="4907880"/>
            <a:ext cx="18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f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971280" y="32040"/>
            <a:ext cx="707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helyszíni vízkapacitás és vízvezető képessé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éréséhez használatos ke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2843280" y="981000"/>
            <a:ext cx="355896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f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973800" y="332280"/>
            <a:ext cx="744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lyszíni, rétegenkénti vízvezető képesség méré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411280" y="907920"/>
            <a:ext cx="37893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f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837800" y="384480"/>
            <a:ext cx="537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A Kazó-féle mesterség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esőztető berendezés munka köz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2700360" y="1413000"/>
            <a:ext cx="3616200" cy="51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f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405880" y="534240"/>
            <a:ext cx="42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kőzetburok átlagos összetéte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332000" y="1341360"/>
          <a:ext cx="6264360" cy="4557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341360"/>
                    <a:ext cx="6264360" cy="45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f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3058920" y="503640"/>
            <a:ext cx="355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talajszelvény szintje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900000" y="1268280"/>
            <a:ext cx="7632360" cy="4162320"/>
            <a:chOff x="900000" y="1268280"/>
            <a:chExt cx="7632360" cy="4162320"/>
          </a:xfrm>
        </p:grpSpPr>
        <p:pic>
          <p:nvPicPr>
            <p:cNvPr id="268" name="" descr=""/>
            <p:cNvPicPr/>
            <p:nvPr/>
          </p:nvPicPr>
          <p:blipFill>
            <a:blip r:embed="rId1"/>
            <a:stretch/>
          </p:blipFill>
          <p:spPr>
            <a:xfrm>
              <a:off x="1931040" y="1654560"/>
              <a:ext cx="5495040" cy="377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1287000" y="1268280"/>
              <a:ext cx="2224080" cy="56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440" rIns="4644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arna erdőtalaj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318640" y="1268280"/>
              <a:ext cx="3213720" cy="56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440" rIns="4644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Csernozjom, vagy réti talaj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900000" y="3007440"/>
              <a:ext cx="1807560" cy="6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440" rIns="4644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ilúgozódási szi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900000" y="3679200"/>
              <a:ext cx="192816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440" rIns="4644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elhalmozódási szi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094040" y="4490280"/>
              <a:ext cx="161316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440" rIns="4644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yakőz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322680" y="2620800"/>
              <a:ext cx="2063880" cy="85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440" rIns="4644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gyenletes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umuszos szi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523920" y="3651840"/>
              <a:ext cx="194580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440" rIns="4644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Átmeneti szi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926040" y="4424400"/>
              <a:ext cx="1354320" cy="66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440" rIns="4644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yakőz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737360" y="1654560"/>
              <a:ext cx="0" cy="837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277040" y="1654560"/>
              <a:ext cx="0" cy="64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f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540000" y="259200"/>
            <a:ext cx="819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gyarország talaj főtípusainak egyszerűsített térkép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7848360" cy="40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f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325800" y="259560"/>
            <a:ext cx="396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öves sziklás váztala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3278160" cy="532764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5150520" y="332640"/>
            <a:ext cx="319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avicsos váztala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5076720" y="981000"/>
            <a:ext cx="31244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f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75960" y="256320"/>
            <a:ext cx="884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lról jobbra: futóhomok és humuszos homok tala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2556000" y="1052640"/>
            <a:ext cx="32860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f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2991240" y="332640"/>
            <a:ext cx="32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öldes kopár tala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2987640" y="1125360"/>
            <a:ext cx="31939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f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2704680" y="403920"/>
            <a:ext cx="397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Humuszkarbonát talaj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8064360" cy="51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f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046520" y="33264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Rendz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3236760" cy="475164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4861800" y="403920"/>
            <a:ext cx="335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kete nyirok tala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4932360" y="1341360"/>
            <a:ext cx="276372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f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906840" y="259560"/>
            <a:ext cx="702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Barnaföld (Ramann-féle barna erdőtalaj)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2411280" y="907920"/>
            <a:ext cx="34401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f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555920" y="333000"/>
            <a:ext cx="6401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yagbemosódásos barna erdőtalaj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m karbonátos (kavicso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és karbonátos anyakőze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3059280" y="2060640"/>
            <a:ext cx="28573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f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2344320" y="403920"/>
            <a:ext cx="450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Podzolos barna erdőtalaj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2700360" y="981000"/>
            <a:ext cx="355752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f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993680" y="475560"/>
            <a:ext cx="505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etraéderes és az oktaéderes elrendeződ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7129440" cy="3716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763640" y="56822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traé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867280" y="5805360"/>
            <a:ext cx="13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ktaé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f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2128680" y="332640"/>
            <a:ext cx="539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Pszeudoglejes barna erdőtalaj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2987640" y="1125360"/>
            <a:ext cx="31939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f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985400" y="475560"/>
            <a:ext cx="50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Kovárványos barna erdőtala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2916360" y="1125360"/>
            <a:ext cx="331920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f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1265400" y="403920"/>
            <a:ext cx="723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Mészlepedékes csernozjom a Kisalföldön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2987640" y="1125360"/>
            <a:ext cx="339732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f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397080" y="2996280"/>
            <a:ext cx="19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zoloncsák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061800" y="475560"/>
            <a:ext cx="35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zoloncsák-szolonyec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444720" y="3067560"/>
            <a:ext cx="239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Réti szolonyec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2700360" y="1341360"/>
            <a:ext cx="3384360" cy="51120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4500720" y="90792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f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2558880" y="475560"/>
            <a:ext cx="439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éti talaj a Szigetközb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3708360" y="1052640"/>
            <a:ext cx="212904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f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468720" y="548280"/>
            <a:ext cx="320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étláp talaj (tőze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2876760" cy="496908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5076720" y="619560"/>
            <a:ext cx="29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Rétláp talaj (kot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5076720" y="1341360"/>
            <a:ext cx="28544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f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612360" y="548280"/>
            <a:ext cx="329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umuszos öntéstala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611280" y="1125360"/>
            <a:ext cx="3365280" cy="50403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4356720" y="403200"/>
            <a:ext cx="454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umuszos öntéstalaj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temetett humuszos rétegg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5435640" y="1341360"/>
            <a:ext cx="20606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f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2630520" y="475560"/>
            <a:ext cx="342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jtőhordalék tala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3059280" y="1197000"/>
            <a:ext cx="263808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f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1187640" y="332280"/>
            <a:ext cx="708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lajaink elnevezése a FAO osztályozás szer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684360" y="1052640"/>
          <a:ext cx="7704000" cy="5468760"/>
        </p:xfrm>
        <a:graphic>
          <a:graphicData uri="http://schemas.openxmlformats.org/drawingml/2006/table">
            <a:tbl>
              <a:tblPr/>
              <a:tblGrid>
                <a:gridCol w="1871640"/>
                <a:gridCol w="3555720"/>
                <a:gridCol w="22766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O talaj világtérké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gyar osztályozá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gjegyzé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ptoso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öves váztala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vicsos váztala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ndz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nker, Fekete nyir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ptos (vékony, sekély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eonoso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utóhomok, gyengén humuszos hom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ena (homo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goso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öldes kopár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umuszkarbonát talaj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hegos (takaró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mbiso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rnafölde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umuszos hom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éti tala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őzethatású tala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mbiare (változni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uviso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yagbemosódásos barna erdőtalaj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uare (kimo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oso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ngóvizes barna erdőtala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us (lapo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ernoze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sernozjom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sornüj (feket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loncha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zoloncsák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l (só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lonet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zolonyece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l (só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tiso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yagos réti talaj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kete nyir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tere (fordul, forga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leyso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yagos réti talaj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csári erdőtalaj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ley (sáro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stoso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áptalaj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stos (szöve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luviso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Öntéstalaj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luvius (folyó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f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1260720" y="260280"/>
            <a:ext cx="639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fontosabb talajcsoport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ialakulási feltételei (zonális talajo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1963080" y="1557360"/>
            <a:ext cx="4469040" cy="4571280"/>
            <a:chOff x="1963080" y="1557360"/>
            <a:chExt cx="4469040" cy="4571280"/>
          </a:xfrm>
        </p:grpSpPr>
        <p:sp>
          <p:nvSpPr>
            <p:cNvPr id="328" name=""/>
            <p:cNvSpPr/>
            <p:nvPr/>
          </p:nvSpPr>
          <p:spPr>
            <a:xfrm>
              <a:off x="2507040" y="2060280"/>
              <a:ext cx="0" cy="3431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507040" y="5491800"/>
              <a:ext cx="321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1557360"/>
              <a:ext cx="12891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9480" rIns="6948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őmennyisé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J/cm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/é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963080" y="1950840"/>
              <a:ext cx="401400" cy="2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9480" rIns="6948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021760" y="3614400"/>
              <a:ext cx="457200" cy="2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9480" rIns="6948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822040" y="5546880"/>
              <a:ext cx="398520" cy="21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9480" rIns="6948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24600" y="5546880"/>
              <a:ext cx="639720" cy="21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9480" rIns="6948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307400" y="5546880"/>
              <a:ext cx="502200" cy="21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9480" rIns="6948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221800" y="5546880"/>
              <a:ext cx="622800" cy="21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9480" rIns="6948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679000" y="5504760"/>
              <a:ext cx="753120" cy="21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9480" rIns="6948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m/é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760560" y="5764320"/>
              <a:ext cx="889920" cy="36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9480" rIns="6948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sapadé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615760" y="2877120"/>
              <a:ext cx="272880" cy="1525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85440" y="2038680"/>
              <a:ext cx="1022400" cy="36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9480" rIns="6948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zürkefölde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580800">
              <a:off x="2725200" y="2986560"/>
              <a:ext cx="276120" cy="1634400"/>
            </a:xfrm>
            <a:prstGeom prst="ellipse">
              <a:avLst/>
            </a:prstGeom>
            <a:noFill/>
            <a:ln w="255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032000" y="1569240"/>
              <a:ext cx="13986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9480" rIns="6948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sztenyeszínű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alajo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2888640" y="1787760"/>
              <a:ext cx="1143000" cy="157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rot="865800">
              <a:off x="2886480" y="3161520"/>
              <a:ext cx="327240" cy="15217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849560" y="3313080"/>
              <a:ext cx="1172160" cy="36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9480" rIns="6948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Arial"/>
                </a:rPr>
                <a:t>Csernozjomo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rot="628200">
              <a:off x="2833920" y="4449960"/>
              <a:ext cx="327240" cy="5090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923640" y="4784400"/>
              <a:ext cx="1640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9480" rIns="6948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zürke erdőtalajo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 flipV="1">
              <a:off x="2997720" y="4674600"/>
              <a:ext cx="925560" cy="21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rot="1249800">
              <a:off x="2639880" y="4827240"/>
              <a:ext cx="251280" cy="55476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324600" y="5110920"/>
              <a:ext cx="1554120" cy="36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9480" rIns="6948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undra talajo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 flipV="1">
              <a:off x="2778480" y="5110560"/>
              <a:ext cx="59940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rot="2313000">
              <a:off x="2972880" y="4303440"/>
              <a:ext cx="544320" cy="1089000"/>
            </a:xfrm>
            <a:prstGeom prst="ellipse">
              <a:avLst/>
            </a:prstGeom>
            <a:noFill/>
            <a:ln w="25560">
              <a:solidFill>
                <a:srgbClr val="3399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976560" y="4455720"/>
              <a:ext cx="135972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9480" rIns="6948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Arial"/>
                </a:rPr>
                <a:t>Podzol talajo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3433680" y="4619880"/>
              <a:ext cx="434520" cy="10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1338600">
              <a:off x="3219120" y="3516120"/>
              <a:ext cx="587160" cy="1135800"/>
            </a:xfrm>
            <a:prstGeom prst="ellipse">
              <a:avLst/>
            </a:prstGeom>
            <a:noFill/>
            <a:ln w="255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314600" y="3964680"/>
              <a:ext cx="1478520" cy="36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9480" rIns="6948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arna erdőtalajo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3597120" y="4129920"/>
              <a:ext cx="70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rot="756000">
              <a:off x="3597120" y="2823120"/>
              <a:ext cx="540720" cy="1190160"/>
            </a:xfrm>
            <a:prstGeom prst="ellipse">
              <a:avLst/>
            </a:prstGeom>
            <a:noFill/>
            <a:ln w="2556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795560" y="3693600"/>
              <a:ext cx="1111680" cy="36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9480" rIns="6948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árgafölde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 flipV="1">
              <a:off x="3868200" y="3530160"/>
              <a:ext cx="870120" cy="27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rot="18510600">
              <a:off x="3215160" y="2642760"/>
              <a:ext cx="415440" cy="708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976560" y="2060280"/>
              <a:ext cx="18165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9480" rIns="6948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kete szavannatalajo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3434040" y="2223720"/>
              <a:ext cx="542880" cy="76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rot="21067200">
              <a:off x="3888000" y="2440080"/>
              <a:ext cx="1104840" cy="8719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9480" rIns="6948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Arial"/>
                </a:rPr>
                <a:t>Vörös-földek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Arial"/>
                </a:rPr>
                <a:t>laterite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 flipV="1">
              <a:off x="3161160" y="3422160"/>
              <a:ext cx="163404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725560" y="2331720"/>
              <a:ext cx="0" cy="103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f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25440" y="403920"/>
            <a:ext cx="847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Mészkő kiválása a felszínre törő oldatból Pamukkale (Törökország) területé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11280" y="907920"/>
            <a:ext cx="7777080" cy="53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f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1767960" y="332640"/>
            <a:ext cx="57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z erózió leggyakoribb formá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1403280" y="1197000"/>
            <a:ext cx="6193080" cy="5235120"/>
            <a:chOff x="1403280" y="1197000"/>
            <a:chExt cx="6193080" cy="5235120"/>
          </a:xfrm>
        </p:grpSpPr>
        <p:pic>
          <p:nvPicPr>
            <p:cNvPr id="369" name="" descr=""/>
            <p:cNvPicPr/>
            <p:nvPr/>
          </p:nvPicPr>
          <p:blipFill>
            <a:blip r:embed="rId1"/>
            <a:stretch/>
          </p:blipFill>
          <p:spPr>
            <a:xfrm>
              <a:off x="1403280" y="1609560"/>
              <a:ext cx="6193080" cy="41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>
              <a:off x="2212920" y="1197000"/>
              <a:ext cx="248040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elületi rétegerózi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403280" y="5945760"/>
              <a:ext cx="2270520" cy="48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arázdás erózi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087080" y="5852520"/>
              <a:ext cx="350928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Árkos, szakadékos erózi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156840" y="1465920"/>
              <a:ext cx="0" cy="242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2212920" y="4030920"/>
              <a:ext cx="1348200" cy="1821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 flipV="1">
              <a:off x="5785920" y="3556800"/>
              <a:ext cx="337320" cy="236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f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990520" y="403920"/>
            <a:ext cx="263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dkás erózi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784836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f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1698840" y="403920"/>
            <a:ext cx="536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kác által felfogott futóhomo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56144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f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3495240" y="475560"/>
            <a:ext cx="154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góz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799308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f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2343240" y="403920"/>
            <a:ext cx="421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Kreybig-térkép részlete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7993080" cy="46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f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2413440" y="475560"/>
            <a:ext cx="39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Géczy-térkép részlete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1258920" y="1197000"/>
            <a:ext cx="604980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f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977040" y="333000"/>
            <a:ext cx="7297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égebbi készítésű üzemi genetikai térké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és jelmagyaráza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784872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f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336320" y="404280"/>
            <a:ext cx="625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pográfiai térkép lapra rajzol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ódszámos genetikai térkép részl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1476360" y="1413000"/>
            <a:ext cx="52293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f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118160" y="332280"/>
            <a:ext cx="690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mállás hatása a kőzet ásványi összetételé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98800" y="23302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468360" y="1125360"/>
          <a:ext cx="7775640" cy="4556160"/>
        </p:xfrm>
        <a:graphic>
          <a:graphicData uri="http://schemas.openxmlformats.org/drawingml/2006/table">
            <a:tbl>
              <a:tblPr/>
              <a:tblGrid>
                <a:gridCol w="2592360"/>
                <a:gridCol w="2590920"/>
                <a:gridCol w="2592360"/>
              </a:tblGrid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Ásványo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gmá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Üledék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őzetekben,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öldpáto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mfibolo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var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sillámo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bonáto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yagásványo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mon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gyé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0" y="48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f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202560" y="359280"/>
            <a:ext cx="271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zállítási típuso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539640" y="1268280"/>
          <a:ext cx="7993080" cy="4811760"/>
        </p:xfrm>
        <a:graphic>
          <a:graphicData uri="http://schemas.openxmlformats.org/drawingml/2006/table">
            <a:tbl>
              <a:tblPr/>
              <a:tblGrid>
                <a:gridCol w="2664000"/>
                <a:gridCol w="5329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szállítás típus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gjegyz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uviáli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lyben maradó üledék. Fennsíkok osztályozatlan törmelék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luviáli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lyó által szállított osztályozott és rétegezett üledék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luvioglaciáli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égárakból kimosott ferdén rétegezett homokos üledék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rén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égárak által csiszolt, karcolt kődarabok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olo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zél által szállított anyag. A lösz is ilye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ngeri üledé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het nagy a sótartalm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vi üledé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zapos, karbonátos anyag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"/>
          <p:cNvSpPr/>
          <p:nvPr/>
        </p:nvSpPr>
        <p:spPr>
          <a:xfrm>
            <a:off x="0" y="479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f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827640" y="332280"/>
            <a:ext cx="752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talaj szövetét jellemző értékszámok határértéke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684360" y="1197000"/>
          <a:ext cx="7632720" cy="5016600"/>
        </p:xfrm>
        <a:graphic>
          <a:graphicData uri="http://schemas.openxmlformats.org/drawingml/2006/table">
            <a:tbl>
              <a:tblPr/>
              <a:tblGrid>
                <a:gridCol w="1498320"/>
                <a:gridCol w="1528920"/>
                <a:gridCol w="1479600"/>
                <a:gridCol w="1635120"/>
                <a:gridCol w="14907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zikai talajfélesé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iszapolható rész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any féle kötöttségi szá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groszkópos-ság, hy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órás kapilláris vízemelés, m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urva hom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m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-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-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-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mokos vályo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-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-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-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-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ályo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-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-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1-3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-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yagos vályo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-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-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6-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-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y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-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-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1-6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-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héz agy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-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-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"/>
          <p:cNvSpPr/>
          <p:nvPr/>
        </p:nvSpPr>
        <p:spPr>
          <a:xfrm>
            <a:off x="0" y="488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f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334520" y="403560"/>
            <a:ext cx="654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talajok szövetének egyszerűsített térkép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193760" y="1325520"/>
            <a:ext cx="675792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8T21:12:09Z</dcterms:created>
  <dc:creator>SZŰCS</dc:creator>
  <dc:description/>
  <dc:language>en-US</dc:language>
  <cp:lastModifiedBy>SZŰCS</cp:lastModifiedBy>
  <dcterms:modified xsi:type="dcterms:W3CDTF">2006-08-21T20:21:38Z</dcterms:modified>
  <cp:revision>5</cp:revision>
  <dc:subject/>
  <dc:title>1. dia</dc:title>
</cp:coreProperties>
</file>