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915-402E-462D-B842-2FBBFA77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30C-27A7-4789-90E7-B0440477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7B4-43A3-49E4-AACE-02D605E8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8E2-9B51-4739-8906-34A5EC5D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102-6F15-4043-B242-148F8864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503-6235-481D-800B-91BE2ED2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730-0017-4FAD-8568-87FCCB5B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F79-A60D-4804-BAA1-AE46207D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37A-D3B0-444F-8CB2-9873912B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703-0A2D-48F4-989E-A9253FA8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937-0372-46B6-B54B-BE719781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6D1-8D58-4F86-A996-E60650A0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26B2-5CA6-4385-9925-7DFE796B2BB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SZERTANI ALAPISMERETE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j fogalom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ejlődé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pológiai (morfológiai) faj felfog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j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másho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onló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ede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sszessé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melyek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ülönbözne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jok egyedeitõl (annyi faj van, amennyi kezdet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 teremtetett)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NÉ 17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minalista faj felfog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j kifejezést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erséges kategóriának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kintem, amit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nyelmi nézõpontbó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ztak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re,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e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onló egyedek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gjelölésére; ez lényegében nem különbözik a változ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almától, amit kevésbé különbözõ formákra használnak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WIN 185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ológiai faj felfog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j olya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más között potenciálisan vagy ténylegesen szaporodóképes populációk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sszessége, amelyek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ktíve izolálta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 hasonló csoportoktól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R 196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vérfaj (</a:t>
            </a:r>
            <a:r>
              <a:rPr b="1" lang="hu-HU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ling species) fogal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yan reproduktíve izolált fajok, amelyek között nincs morfológiai (alaktani) különbség, de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ényeg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ógiai különbség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pl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jzásid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iotóp, viselkedés)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vanna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stvérfajok e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dulása olyan állatcsoportokban gyakori, ahol a kémiai érzékelés (kemorecepció) fejlett viszont a vizuális érzékelés hiányz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enge vagy akadályozot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, ezért a látásnak nincs szerepe a szaporodási folyamatokban (párválasztásban), itt is a kémiai érzékelés dominá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produktív (biológiai)</a:t>
            </a:r>
            <a:r>
              <a:rPr b="1" lang="hu-H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áció típusai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jkereszteződést akadályozó mechanizmusok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(premating mechanis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ezonális és biotóp izoláció</a:t>
            </a: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tenciális párok közös területen élnek, mégsem találkozn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elkedési (etológiai) izoláció</a:t>
            </a: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tenciális párok találkozhatnak, de “idegen”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elkedés miatt párzás nem történik (a nász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nc, nászruha nem konspecifik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kai izoláció (ivarszervek inkompatib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ása)</a:t>
            </a: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tenciális párok találkozhatnak, a párzás el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zdődhet, de nem fejeződhet be és ezért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rmium átadás nem jöhet lé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jkereszteződés sikerét csökkentő mechanizmusok (postmating mechanism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éta mortalítás: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rmium átadás létrejön,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 gaméta a számára idegen környezetben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pusztul, ezért megtermékenyítés nem törté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gota mortalítás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ete megtermékenyül, de a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gota elpuszt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embrió mortalitás: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 zygota  barázdálódása megindul, de az embrinális dejlődésben rendellenességek lépnek fe, az embrió elpusztu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juvenilis mortalitá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 életképtelen</a:t>
            </a: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kifejlődő F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brid csökkent életképesség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varérettség előtt elpuszt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 életképes, de steril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kifejlődő életkép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de-DE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brid szaporodásra képtelen, mert ster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jta fogal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jta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var = cultivated variety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, rövidítv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mber ál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emesítési, tenyésztési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ódszerekkel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azdasági célb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erségesen létrehozott változ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 tulajdonságait átörökí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emberi segítség nélkül nem marad  fe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ert fajták között fajon belül ninc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ktív izoláció (tehát hibridizálódi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s genetikai sajátosságai eltûnn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őt a szabad természetben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emberi gondoskodás nélkül) legtöbb esetb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m i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etképes (elpuszt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talánosan használt rendszertani kategóriá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Regnum (Orszá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regnum (Állatkö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 (Tagoz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divisio (Altagoza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hylum (Törzs)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hylum (Altörzs)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dus (Ágaz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dus = Superclassis (Öregosztá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Classis (Osztály)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ssis (Alosztá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Ordo (Re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ordo (Alr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amilia (Öregcsalá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Familia (Csalá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mialia (Alcsalá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Genus (N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genus (Aln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Species (Fa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pecies (Alfaj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114800" y="1981080"/>
          <a:ext cx="3886200" cy="24382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gjegyzés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első rendű kategórákat</a:t>
                      </a: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övér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ásod, harmad ill. negyed rendű</a:t>
                      </a: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órákat</a:t>
                      </a: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ál betűtípussal</a:t>
                      </a: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átjá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első rendü kategóriák neve nagyobb, a másod, harmad ill. negyed rendű ketegóriáké csökkenő betűmérettel olvashat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zoológiai nevezéktan alapel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minális nomenklatúr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jok neve két szóból áll (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yis binome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zt először LINNÉ alkalmazta következetesen (Systema Naturae ed. X., 17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alfaj elnevezését úgy kell kialakítani, hogy a faj két szóból álló neve után egy harmadik szót illesztene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az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faj neve három szóból áll (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nome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j feletti kategóriák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– nemek, családok, rendek, stb. -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zont egyetlen szó (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nome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zoológiai nevezéktan nemzetközi kódexének fő szabály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Új taxon felállításának követelményei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özzététel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elve (tudományos folyóiratban)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latinos nevet kell adni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(új latin nyelv szabályai szerint)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újdonság jelzése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(új faj, génusz, stb. jelzése)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 diagnózis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ötelező (miben különbözik a közeli rokonoktó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ögzítés elve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ípusokat kell kijelöl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Írásmód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új latin nyelv szabályai szerin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rioritás elve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 régebben közzé tett név az érvén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(szinonímia, homoním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izottság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udományos vitában eldönthetet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nevezéktani problémánk megoldé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08:14:22Z</dcterms:created>
  <dc:creator>Állattani tanszék</dc:creator>
  <dc:description/>
  <dc:language>en-US</dc:language>
  <cp:lastModifiedBy>Állattani tanszék</cp:lastModifiedBy>
  <dcterms:modified xsi:type="dcterms:W3CDTF">2006-09-07T16:07:18Z</dcterms:modified>
  <cp:revision>16</cp:revision>
  <dc:subject/>
  <dc:title>RENDSZERTANI ALAPISMERETEK </dc:title>
</cp:coreProperties>
</file>