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4B7-8A7D-4D3B-93A0-87849FAC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B046-1AC8-4BE6-8D11-A198354A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020C-9634-4532-98C3-09BCEFAF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5D60-2C07-40C2-8B99-0F5AF3EA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D693-8765-4CD0-9AA9-F50DA739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DA5-5A18-483A-BFBA-61CA4C66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5C7-6FFC-49C2-9188-A4742111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5C9-422F-4A5C-8586-AF1AEDFC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EA5-5172-4DFC-A792-642D97FA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E2A-FB17-46BE-9324-788FD6A1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4F6F-21DB-4759-AC42-3CDE2F88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C6D8-BF18-481A-95FF-961B40FA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2531-D288-4BEC-9883-13EF3533E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. ké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arka cirok támasztó léggyökere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78200" y="1341360"/>
            <a:ext cx="31924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0. ké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gadós gala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alium apari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62080" y="1790640"/>
            <a:ext cx="50198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1. ké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övényszulák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lystegia sepi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47840" y="1773360"/>
            <a:ext cx="2700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2. ké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rópai kunk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liotropium europae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82760" y="2060640"/>
            <a:ext cx="26784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13. kép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erek repkény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Glechoma hederacea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60720" y="2060640"/>
            <a:ext cx="29574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4. ké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attanó maszl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atura stramoni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67000" y="2133720"/>
            <a:ext cx="2879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5. ké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özönséges gyujtoványf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inaria vulgar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159000" y="2133720"/>
            <a:ext cx="2624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6. ké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júmá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ibiscus trionu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411280" y="2276640"/>
            <a:ext cx="410544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7. ké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ynyári szélf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rcurialis annu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348000" y="2205000"/>
            <a:ext cx="253512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8. ké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drep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napis arven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24000" y="2205000"/>
            <a:ext cx="482436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19. kép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Napraforgó (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Helianthus annuus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40000" y="2038320"/>
            <a:ext cx="45370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2. kép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alátaboglárka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Ficaria verna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contrast="12000"/>
          </a:blip>
          <a:srcRect l="14082" t="17538" r="15337" b="0"/>
          <a:stretch/>
        </p:blipFill>
        <p:spPr>
          <a:xfrm>
            <a:off x="1619280" y="1989000"/>
            <a:ext cx="590544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0. ké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lagf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brosia artemisiifo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lum bright="6000"/>
          </a:blip>
          <a:srcRect l="0" t="0" r="11593" b="-1093"/>
          <a:stretch/>
        </p:blipFill>
        <p:spPr>
          <a:xfrm>
            <a:off x="3062160" y="1600200"/>
            <a:ext cx="301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1. ké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nko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grostemma githag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276720" y="2205000"/>
            <a:ext cx="26874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2. ké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hér libat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enopodium alb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328920" y="1989000"/>
            <a:ext cx="27208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3. ké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rcsú disznóparé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aranthus chlorostachy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119400" y="1600200"/>
            <a:ext cx="2903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57640" y="2021040"/>
            <a:ext cx="2628720" cy="3684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24. kép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Kender (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Cannabis sativa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5. ké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armányárpa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rdeum vulg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268360" y="2276640"/>
            <a:ext cx="491364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26. kép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kukorica (</a:t>
            </a: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Zea mays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) címervirágzata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24000" y="2233440"/>
            <a:ext cx="4896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27. kép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kukorica (</a:t>
            </a: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Zea mays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) torzsavirágz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143160" y="1954080"/>
            <a:ext cx="28576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. ké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pa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paver rhoea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5640" y="2278080"/>
            <a:ext cx="5256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4. kép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Birsalma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Cydonia oblonga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763640" y="2060640"/>
            <a:ext cx="575964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5. kép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Gyepürózs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Rosa canina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2190600"/>
            <a:ext cx="49690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6. ké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Őszibarack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rsica vulgar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76680" y="1989000"/>
            <a:ext cx="3657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7. kép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ehér csillagfür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Lupinus albu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76720" y="1844640"/>
            <a:ext cx="27795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8. kép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Szója (</a:t>
            </a: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Glycine soja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59280" y="1989000"/>
            <a:ext cx="3087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9. ké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d murok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aucus caro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84360" y="2276640"/>
            <a:ext cx="446580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8:09:57Z</dcterms:created>
  <dc:creator>Pinke Gyula</dc:creator>
  <dc:description/>
  <dc:language>en-US</dc:language>
  <cp:lastModifiedBy>Pinke Gyula</cp:lastModifiedBy>
  <dcterms:modified xsi:type="dcterms:W3CDTF">2006-09-05T09:00:45Z</dcterms:modified>
  <cp:revision>7</cp:revision>
  <dc:subject/>
  <dc:title>1. dia</dc:title>
</cp:coreProperties>
</file>