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4ED-C897-4CF1-BE89-E23C653D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323-D01B-4AF9-963D-971A4A9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0F7-7A15-4BD4-A1E6-985FEC96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8EE-2745-42CF-87B9-1F575B7E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004-7F4C-4806-A7DF-FC942F4D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FF7-88C0-4879-9459-271D61D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0E9-D9FE-4C4F-AB59-DC680D6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4A6-9C16-431D-B785-670E215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740-9EC3-47C2-B2A4-6461E3C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E48-2A8D-4B7A-A4C0-8554326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156-1CC2-45E9-8B04-657E7119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C10-F8AD-4C5C-BE13-02D2374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8C88-E23B-48E5-B40C-5029E59564A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Á L L A T T A 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 A P I S M E R E T E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Nincs testfolyad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iffúz anyagszállít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Testfolyadék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nincs elkülönült  szív és véred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yagszállítás a testfolyadék spontán áramlásá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zív és véredények van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nyílt keringési rends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zárt keringési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808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z anyagszállítás szervrendszer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légzés szervrendszere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) Gázcsre vízben és/vagy szárazföldön i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őrlégzé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a kültakaró m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légzőszer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) Gázcsre vízbe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2. Kopoltyúlégz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) Gázcsre szárazföldö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3. Trachea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4. Tüdőlég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A kiválasztás és az ozmoreguláció szervrendszer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lővesécske (protonefríd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sécske (nefridium, metanefrídi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alpighi-edény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se (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ővese (pronefros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ősvese (mesonefros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utóvese (metanefhrosz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iválasztás egyéb mó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diffúzió útján kerül az ammónia a vízb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opoltyún keresztül kerül az ammónia a vízb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anyagcsere termékek felhalmozódása a külső vázban (levedli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szaporodás szervrendszere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női ivarszerv: petefészek (ovariu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hímek ivarszerv : here (test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dokrin szervek rendszere (hormonrendsz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Neurohormonok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neuroszekréciós idegsejtek terme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tásuk: endokrin mirigyek működés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abályozz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Endokrin mirigyek által termelt hormon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- hatásuk: valamilyen célszövet valamil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ejtcsoportjára hat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helyi hatású hormonok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kerülnek b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stfolyadék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nem helyi hatású hormono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a testfolyadékkal jutnak el a célszöveth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egrends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Diffúz idegrends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Dúcidegrendsz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garatidegyűrű és hosszanti idegros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hasdúclánc idegrendszer szelvényenként dúcpáro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testtájhankénti dúcpá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Csőidegrendszer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Érzékszerv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moreceptor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„szaglás”, „ízlelé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kai érzékszerv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pintás, hallás, testrészek helyze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átószervek (a fény erőssége, iránya, képlát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ényérzékelő f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kehelysz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ólyagsz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ízeltlábúa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ntszemei és összetett sze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yéb érzékszer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ala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ldalvonal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rinces állatok egyensúly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varo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égnyomást érzékelő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madarak fölmágnességet érzékelő sz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z állatok táplálkozási típusa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z állatok heterotróf anyagcserélt folytatnak, kész szerves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yagokat (valamint vizet és ásványi sókat) vesznek fel a környezetükb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ő táplálkozási típus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. Biofág táplálkozásmódok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lő szerves anyaggal táplálkozó ál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lofág táplálkozásmód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halt szerves anyaggal táplálkozó ál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z állatok táplálkozási típusa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1. Biofág táplálkozásmó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1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övényevő állatok (fitofág vagy herbivor táplálkozásmó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élő növényi táplálékot fogyasztana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Állatfogyasztó állatok (zoofág táplálkozásmó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kizárólag élő állatokat képes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2.1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agadozó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predátor, epizita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2.2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élősködő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arazita) életmód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lső élősködő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endoparaziták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ülső élősködő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ektoparaziták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2.3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zitoid életmód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rovarélősködés: egyes h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ártyásszárnyú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ymenoptera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soport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fürkészdar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s-alkatúak) és a kétszárnyúak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ptera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közül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ürkészlegy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zuper parazitoidizmu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túlparazitáltsá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per parazitoidizmusna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felül parazitáltsá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.2.4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érszívó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hematofág) táplálkozási forma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mnivor (mindenevő táplálkozásmó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élő növényi és élő állati táplálék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gyaránt fogyaszta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lofág táplálkozásmód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lhalt szerves anyaggal táplálkozó ál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aprofág táplákozásmód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kizárólag elhalt növényi maradványokkal táplálkoz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krofág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áplákozásmód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állatok teteméből táplálkozó dögevő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profág táplákozásmó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ürülékfogyasztó állatok (ganéjtúró bogarak, bizonyos legyek, férge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2.4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tofág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áplákozásmód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elhal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növényi és állati táplálékot is eszn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2.5.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övényi produktumokat fogyasztó állat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pl.  megporzó rovarokna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z állatok szaporodási mód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artalan szaporodá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porodás ivarsejtek nélkül történik (kizárólag alacsonyabb rendű csoportokban fordul elő, pl. Csalánozó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aros szaporodása (gametogonia)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porodás ivarsejtekkel történik (pete + spermium, ritkábban csak p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szexuális szaporodás (amphigonia)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új egyed létrejöt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rsejt, a pete és a spermium összeolvadása révén keletkező zigó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induló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űznemzés (parthenogenesis)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porodásban csak az egy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rsejt, a pete vesz részt, s abból megtermékenyítés nélkül lesz új egye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zedékváltakozá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ülönböző módon szaporodó nemzedék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áltako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3.1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genezis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rtalanul és ivarosan szaporodó generáci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takoznak (Csalánozó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3.2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ónia: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zexuálisan és parthenogenetikus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porodó generációk váltakoznak egymással (pl. eg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arrend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agcser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utotróf - heterotró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felépíté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yílt - zá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zöveti felépíté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iszonylag egyszerűbb - viszonylag bonyolult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ázrendsze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incs külön vázrendszer - rendszerint van külön váz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zgásképesség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elyhez kötöttek - mozgékony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övekedé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iszonylag korlátlan - határozottan korlátoz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gerlékenység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gyon korlátozott - élé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almazkodás a környezethez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lkalmazkodó képesség megtar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üggetlenedés a környezettõ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zaporodá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ív vagy vegetatív - szinte kizárólag csak generatí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iploidia előfordulása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yakori - szinte teljesen kizá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jkereszteződé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iszonylag gyakori - szinte nem is létezik (rendkívül ri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lettartam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osszú (kivéve egynyáriakat) - jellemzően rövid (korlátozott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 növények (Plantae) és az állatok  (Animaliae) közötti f</a:t>
            </a:r>
            <a:r>
              <a:rPr b="1" lang="hu-HU" sz="2800" spc="-1" strike="noStrike">
                <a:solidFill>
                  <a:srgbClr val="000000"/>
                </a:solidFill>
                <a:latin typeface="Arial Black"/>
              </a:rPr>
              <a:t>ő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különb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Hámszöv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ötő- és támasztószöv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zomszövete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egszöv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z állatok alapszöv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380880"/>
            <a:ext cx="7772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ámszöv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Fedőhámok és felszívó hám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Mirigyhám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Érzékhám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Különleges hám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80880"/>
            <a:ext cx="8001000" cy="57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Kötő és támasztószövete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Tulajdonképpeni köt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zöv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embrionális kötõszöv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retikuláris kötõszövet (tela reticular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lazarostos kötõszöv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tömöttrostos kötõszöv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Zsírszövete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ároló zsírszövet (fehér és barna zsírszöv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struktúr zsírszö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ámasztószöv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kondroid- és kordaszö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porcszöv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csontszerű szöve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csontszö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ékony kötõszövetek (testfolyadék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é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nyi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savós testüregi folyadé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ízületi folyadé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liquor cerebrospina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609480"/>
            <a:ext cx="766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zomszövetek és idegszöv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zomszövetek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ima izomszö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egysejt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z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többsejt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z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Harántcsikolt izomszö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vázizom szövet (vörös és fehér izm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szívizom szö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 helikális izomszö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Paramiozin tipusú izomszö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degszöve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Idegsejtek (neuronok, neurocit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Neuro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ültakaró és mozgásszerv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áplálkozás és emésztés szervren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z anyagszállítás szervren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légzés szervren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Kiválasztás és ozmoreguláció szervren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A szaporodás szervren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ndokrin szervek rendszere (hormonrendsz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degrendszer és érzékszerv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Az állatok szervrendsz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ültakaró és mozgásszerve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. Egységes kültakaró és mozgásrends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őrizomtöm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ízeltlábúak kitines kutikulá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Önálló kültakar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ő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Önálló mozgás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hatestűek mészvá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erincesek porcos ill. cso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ső vá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2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áplálkozás és emésztés szervrendszer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1. Az emésztő rendszer típu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Kétszakaszos bélcsat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részei: előbél, középbé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Háromszakaszos bélcsato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részei: előbél, középbél, utóbé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2. Emé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ülső emé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első emé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- sejten belüli (intracelluláris) emé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ejten kívüli (extracelluláris) emé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8:54:01Z</dcterms:created>
  <dc:creator>Marosán Miklós</dc:creator>
  <dc:description/>
  <dc:language>en-US</dc:language>
  <cp:lastModifiedBy>Állattani tanszék</cp:lastModifiedBy>
  <dcterms:modified xsi:type="dcterms:W3CDTF">2006-09-07T16:06:15Z</dcterms:modified>
  <cp:revision>52</cp:revision>
  <dc:subject/>
  <dc:title>Gerincesek törzse (Vertebrata) </dc:title>
</cp:coreProperties>
</file>