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84D-0C2C-4D37-8CA8-613B1928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E1E-F4F1-45DC-B5F2-B2BC7101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28A-CA99-4A6C-B5CD-CC59FB62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159-CF48-4807-A901-4AD16FCB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69C-95B8-4210-826B-5AB30D1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FB8-D829-48AC-8DB4-127CDE74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1AF-0B60-47F9-A256-AB72B616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203-4049-4366-B0CB-28871595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3D6-B4A2-48AD-8D1A-65F6DF0B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3F7-1C7A-456F-AAB2-142021D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4E3-1CD6-4EF8-B5A9-82437C67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7E2-5E32-417B-B610-780147A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3C8B-F4EB-4A4A-A563-39CC0F693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7964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 E J  T  T  A  N 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 A P I S M E R E T E 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z élővilág sejtes felépítés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A sejtes felépítés az élővilág egységének bizonyítéka!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 Black"/>
              </a:rPr>
              <a:t>Az élővilág (sejtes lények) rendszerezése (országa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a) prokarióta (sejtmag nélküli ) l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1. Monera ország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(baktériumok, kékmoszatok, sugárgombák, spirohétá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b) eukarióta (sejtmaggal rendelkező) l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 Black"/>
              </a:rPr>
              <a:t>- egysejtű sz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2. Egysejtűek országa (Protista)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(növényszerű és állatszerű egysetűek)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 Black"/>
              </a:rPr>
              <a:t>- többsejtű (soksejtű) sz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3. Növények országa (Planta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4. Gombák országa (Fun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5. Állatok országa (Animal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sejt szerkeze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Sejthártya (protoplazma membrá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Protoplazma (sejtplaz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- Sejttest (citoplaz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alapplazma (hialoplaz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membrános sejtorganellumok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(intracitoplazmatikus memránrendszer eleme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nem membrános sejtorganellumok 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(sejtközpont=citocentru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poliriboszómák, paraplazmatikus sejtalkotórészek, metaplazmatikus sejtalkotórészek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- Sejtmag (nukleusz vagy kar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setmaghárty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karioplaz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kromatin állomány (kromoszómá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magvacska (nukleólus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sejtmembránok szerkezeti eleme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foszfolipid kettősréteg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(ez a sejtmembránok alapj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- citoplamatikus felszín (= citoplazmatikus rét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- extracitoplamatikus felszín (= extracitoplazmatikus rét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periférikus (felszíni) fehérj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- marke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- recepto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integrált (transzmembrán) fehérj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- ionpump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- permeáz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- póru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- sejtkapcsoló struktúrák egyes elem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sejtburok vagy sejtfal (csak a sejthátyán van ilye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brános sejtstruktúrá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Sejhártya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(protoplazma membrán)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egyszerű membrán, extracitoplazmatikus felszínén sejtburokkal vagy sejtfallal, ez a sejt határoló felszí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Intracitoplazmatikus memránrendszer elemei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(membrános sejtorganellum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600" spc="-1" strike="noStrike">
                <a:solidFill>
                  <a:srgbClr val="000000"/>
                </a:solidFill>
                <a:latin typeface="Arial Black"/>
              </a:rPr>
              <a:t>egyszerű membránok (egy foszfolipid kettősrétegből állna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oplazmatikus retikulu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zemcsés felszínű (citoplazmatikus felszínén riboszómákk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ima felszínű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lgi-apparátus (diktioszómá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zikulumok és vakuólum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zoszomák és peroxiszóm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600" spc="-1" strike="noStrike">
                <a:solidFill>
                  <a:srgbClr val="000000"/>
                </a:solidFill>
                <a:latin typeface="Arial Black"/>
              </a:rPr>
              <a:t>kettős membránok (kettő foszfolipid kettősrétegből állna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okondrium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orofill szintestecskék (csak növényi sejtekben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Sejtmaghártya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(kettős membrán, a sejtmag határoló felszíne, a külső memrá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oplazmatikus felszínén riboszómákkal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52388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Belső citoplazma áramlás (ciklóz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Helyváltoztató sejtmozgás apparátus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1. Csill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2. Ost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3. Álláb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ejtek mozgási apparátus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21932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a) Anyagfelvétel a sejt környezetébő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- passzív transz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- gyorsított passzív transz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- aktív transz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- endocitóz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- fagocitoz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- pinocitóz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a) Anyagleadás a sejt környezeté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- transzport folyamat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600" spc="-1" strike="noStrike">
                <a:solidFill>
                  <a:srgbClr val="000000"/>
                </a:solidFill>
                <a:latin typeface="Arial"/>
              </a:rPr>
              <a:t>- exocitóz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ejt anyagcseré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143000"/>
            <a:ext cx="8229600" cy="53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Direkt sejtosztódás (amitózis)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Indirekt sejtosztód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 Black"/>
              </a:rPr>
              <a:t>- számtartó sejtosztódás (mitóz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 Black"/>
              </a:rPr>
              <a:t>(diploid anyasejtekből diploid leánysejtek keletkezne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akasza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Profázis (monospiréma és citaszter állap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Metafázis (Monaster állap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Anafázis (Diaszter állap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Telofázis (Dispiréma állap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Arial Black"/>
              </a:rPr>
              <a:t>- számfelező, redukciós sejtosztódás (meióz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 Black"/>
              </a:rPr>
              <a:t>(Ivarsejtek keletkezése: két egymást követő osztódásból áll!)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Meiózis egy (I.) (ez a számfelező szakasz, diplo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nyasejtekből haploid leánysejtek keletkeznek és köz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romoszóma rekombináció történi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- Meiózis kettő (II.) (ez számtartó szakasz, haploid anyasejtekbő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haploid ivarsejtek keletkezn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ejtek szaporodása (sejtosztódá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8:54:01Z</dcterms:created>
  <dc:creator>Marosán Miklós</dc:creator>
  <dc:description/>
  <dc:language>en-US</dc:language>
  <cp:lastModifiedBy>Állattani tanszék</cp:lastModifiedBy>
  <dcterms:modified xsi:type="dcterms:W3CDTF">2006-09-07T16:08:35Z</dcterms:modified>
  <cp:revision>26</cp:revision>
  <dc:subject/>
  <dc:title>Gerincesek törzse (Vertebrata) </dc:title>
</cp:coreProperties>
</file>