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043-D348-48C5-A2E2-85BB15B3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E13-8A48-4EBC-98FB-BA3973E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C49-921C-4DF8-AAF6-B54F3096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D85-13E4-4888-B75C-F1B3628B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9B9-24F1-4FED-9C11-9EB8FC5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A6E-C76A-4908-846A-BCEA284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422-3B15-42A3-BB80-E04391F6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7AA-8173-4034-A7A1-914813B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4FB-E88C-47D4-9B6E-1AFD816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284-6B73-4225-B5C0-51534BE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B59-1A53-4DCC-B1FC-31ADEF7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C0B-366B-469D-9694-D409E44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190-5690-4470-BFCB-E8B77CC5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2320" y="475560"/>
            <a:ext cx="79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éhány elem és a növények számára való szükségességük felfedezé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1197000"/>
          <a:ext cx="7774920" cy="3744360"/>
        </p:xfrm>
        <a:graphic>
          <a:graphicData uri="http://schemas.openxmlformats.org/drawingml/2006/table">
            <a:tbl>
              <a:tblPr/>
              <a:tblGrid>
                <a:gridCol w="1554840"/>
                <a:gridCol w="1555200"/>
                <a:gridCol w="1554840"/>
                <a:gridCol w="1555200"/>
                <a:gridCol w="1554840"/>
              </a:tblGrid>
              <a:tr h="468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 felfed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ükségesség felfedez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fedez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fedez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ther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Sa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ze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21960" y="5036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amu összetétele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1341360"/>
          <a:ext cx="8064000" cy="2878920"/>
        </p:xfrm>
        <a:graphic>
          <a:graphicData uri="http://schemas.openxmlformats.org/drawingml/2006/table">
            <a:tbl>
              <a:tblPr/>
              <a:tblGrid>
                <a:gridCol w="2300040"/>
                <a:gridCol w="945360"/>
                <a:gridCol w="1102680"/>
                <a:gridCol w="945360"/>
                <a:gridCol w="945360"/>
                <a:gridCol w="945360"/>
                <a:gridCol w="8798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úza, s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úza, sza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korrépa, gyöké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korrépa, levé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28720" y="50364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 csoportok a növény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1341360"/>
          <a:ext cx="7993080" cy="292104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 csoport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ió alapj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nyiség alapján (növényb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kezetiek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roelem &gt; 0,1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O, H, N, P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P, K (Mg, Ca, F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hatásúa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roelem &lt; 0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, 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, Mn, Zn, B, Mo  (esszenciál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zimalkotó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, Mn, Zn, Cu, 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10000" y="35928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ápelem értékhatárok a növényi szárazanyag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1268280"/>
          <a:ext cx="7848000" cy="2881080"/>
        </p:xfrm>
        <a:graphic>
          <a:graphicData uri="http://schemas.openxmlformats.org/drawingml/2006/table">
            <a:tbl>
              <a:tblPr/>
              <a:tblGrid>
                <a:gridCol w="1961640"/>
                <a:gridCol w="1962720"/>
                <a:gridCol w="1961640"/>
                <a:gridCol w="1962000"/>
              </a:tblGrid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hatá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ékhatá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-6,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, P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1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egyszik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, 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kétszik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10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, 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0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10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7080" y="40356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észséges és nitrogénhiányos burgonya levé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58920" y="1052640"/>
            <a:ext cx="66247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50520" y="3322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észséges és foszforhiányos kukoricalevé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476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16720" y="50364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álium hiány kukoric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627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19280" y="475200"/>
            <a:ext cx="62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ézium hiány különböző növénye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5510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800" y="50364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hiány szőlő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87640" y="1197000"/>
            <a:ext cx="3348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1280" y="40356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gánhiány különböző növényekné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438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68200" y="43056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órhiány cukorré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2741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1080" y="332640"/>
            <a:ext cx="56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agrokémia kialakulásának fontosabb állomása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907920"/>
          <a:ext cx="8136000" cy="5281920"/>
        </p:xfrm>
        <a:graphic>
          <a:graphicData uri="http://schemas.openxmlformats.org/drawingml/2006/table">
            <a:tbl>
              <a:tblPr/>
              <a:tblGrid>
                <a:gridCol w="1368360"/>
                <a:gridCol w="1111320"/>
                <a:gridCol w="2862360"/>
                <a:gridCol w="2793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z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állap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jegy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is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ó (hamu) minden élet és a vetés növekedésének alapja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kémiai elemekről még nem volt ismer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Helm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övények növekedéséhez csak víz kel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ízhez képest az ásványi anyag felvétel kicsi és ezt nem tudták megmér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odw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ízben lévő „szennyeződések” is fontosa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dormentát növesztett vízben és talaj hozzáadásáv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usz és víz kell a növekedésh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ssing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-1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abadföldi parcellás kísérletezés megalapító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eb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3-1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tlen vegyületek kellene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ént a levegőbő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um törvén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tállótrágya fontosságát és a nitrogén talajból történő felvételét később elismer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lrie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itrogént a levegőből a pillangósok gyökerén élő baktériumok kötik m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janisni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5-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talános törvényszerűségek kimunkálása. NO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és NH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övények általi felvételének tisztázá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608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7800" y="3322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khiányos kuko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5701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2360" y="331920"/>
            <a:ext cx="43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ülönböző nehézfém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ikus koncentráció érték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8920" y="219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9640" y="1413000"/>
          <a:ext cx="8208720" cy="4103280"/>
        </p:xfrm>
        <a:graphic>
          <a:graphicData uri="http://schemas.openxmlformats.org/drawingml/2006/table">
            <a:tbl>
              <a:tblPr/>
              <a:tblGrid>
                <a:gridCol w="2696760"/>
                <a:gridCol w="2772000"/>
                <a:gridCol w="2739960"/>
              </a:tblGrid>
              <a:tr h="37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ekb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latok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kg száraz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493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94160" y="403200"/>
            <a:ext cx="55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r" pos="5343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áros hatású elem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r" pos="5343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engedhető határértéke a talaj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1557360"/>
          <a:ext cx="7992720" cy="3384000"/>
        </p:xfrm>
        <a:graphic>
          <a:graphicData uri="http://schemas.openxmlformats.org/drawingml/2006/table">
            <a:tbl>
              <a:tblPr/>
              <a:tblGrid>
                <a:gridCol w="1982880"/>
                <a:gridCol w="2013480"/>
                <a:gridCol w="1982880"/>
                <a:gridCol w="201348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égszáraz tal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égszáraz tal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92640" y="474840"/>
            <a:ext cx="78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jok könnyen oldható ólomtartalmának változ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 és 2000 között a szántott réteg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700280"/>
          <a:ext cx="734400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344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051200" y="609228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3160"/>
                <a:tab algn="l" pos="322200"/>
                <a:tab algn="r" pos="5340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jegyzés: A hibasávok az SzD5% értéket jelz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97360" y="286200"/>
            <a:ext cx="617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9680"/>
                <a:tab algn="l" pos="295200"/>
                <a:tab algn="r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gyes növények Al és alacsony pH-érté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9680"/>
                <a:tab algn="l" pos="295200"/>
                <a:tab algn="r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ánti érzékeny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9680"/>
                <a:tab algn="l" pos="295200"/>
                <a:tab algn="r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1413000"/>
          <a:ext cx="5402160" cy="3201840"/>
        </p:xfrm>
        <a:graphic>
          <a:graphicData uri="http://schemas.openxmlformats.org/drawingml/2006/table">
            <a:tbl>
              <a:tblPr/>
              <a:tblGrid>
                <a:gridCol w="1792080"/>
                <a:gridCol w="1811520"/>
                <a:gridCol w="1798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 károsod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rsékelten károsod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vésbé károsod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r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á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árgaré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h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ya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ükkö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áposz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ko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ál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üv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illagfü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ó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r" pos="5149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11240" y="54792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űtrágya felhasználás é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és alakulása Magyarország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76360" y="1700280"/>
            <a:ext cx="6408720" cy="4530240"/>
            <a:chOff x="1476360" y="1700280"/>
            <a:chExt cx="6408720" cy="4530240"/>
          </a:xfrm>
        </p:grpSpPr>
        <p:sp>
          <p:nvSpPr>
            <p:cNvPr id="107" name=""/>
            <p:cNvSpPr/>
            <p:nvPr/>
          </p:nvSpPr>
          <p:spPr>
            <a:xfrm>
              <a:off x="1884600" y="2459520"/>
              <a:ext cx="0" cy="32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4600" y="5675400"/>
              <a:ext cx="449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384240" y="2459160"/>
              <a:ext cx="0" cy="32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6360" y="1816200"/>
              <a:ext cx="9615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rm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/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89640" y="1700280"/>
              <a:ext cx="1495440" cy="12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űtrágya NP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g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tóanya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g/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93360" y="2809800"/>
              <a:ext cx="309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93360" y="3745800"/>
              <a:ext cx="2502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3360" y="4623480"/>
              <a:ext cx="3096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3480" y="5733360"/>
              <a:ext cx="806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Év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6280" y="5733360"/>
              <a:ext cx="7707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4840" y="5733360"/>
              <a:ext cx="884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58280" y="5733360"/>
              <a:ext cx="9054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7920" y="1860480"/>
              <a:ext cx="12495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ú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Kuko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űtrágy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1080" y="1954800"/>
              <a:ext cx="641880" cy="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62480" y="2225880"/>
              <a:ext cx="700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62480" y="2459520"/>
              <a:ext cx="70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8960" y="3161880"/>
              <a:ext cx="3972960" cy="1857240"/>
            </a:xfrm>
            <a:custGeom>
              <a:avLst/>
              <a:gdLst/>
              <a:ahLst/>
              <a:rect l="l" t="t" r="r" b="b"/>
              <a:pathLst>
                <a:path w="3084" h="1441">
                  <a:moveTo>
                    <a:pt x="0" y="1425"/>
                  </a:moveTo>
                  <a:cubicBezTo>
                    <a:pt x="50" y="1429"/>
                    <a:pt x="100" y="1441"/>
                    <a:pt x="150" y="1438"/>
                  </a:cubicBezTo>
                  <a:cubicBezTo>
                    <a:pt x="176" y="1437"/>
                    <a:pt x="199" y="1420"/>
                    <a:pt x="225" y="1413"/>
                  </a:cubicBezTo>
                  <a:cubicBezTo>
                    <a:pt x="242" y="1409"/>
                    <a:pt x="275" y="1400"/>
                    <a:pt x="275" y="1400"/>
                  </a:cubicBezTo>
                  <a:lnTo>
                    <a:pt x="635" y="1224"/>
                  </a:lnTo>
                  <a:lnTo>
                    <a:pt x="1043" y="861"/>
                  </a:lnTo>
                  <a:lnTo>
                    <a:pt x="1678" y="272"/>
                  </a:lnTo>
                  <a:lnTo>
                    <a:pt x="1996" y="362"/>
                  </a:lnTo>
                  <a:lnTo>
                    <a:pt x="2268" y="362"/>
                  </a:lnTo>
                  <a:lnTo>
                    <a:pt x="2585" y="0"/>
                  </a:lnTo>
                  <a:lnTo>
                    <a:pt x="3084" y="9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18960" y="2751840"/>
              <a:ext cx="4032720" cy="2046600"/>
            </a:xfrm>
            <a:custGeom>
              <a:avLst/>
              <a:gdLst/>
              <a:ahLst/>
              <a:rect l="l" t="t" r="r" b="b"/>
              <a:pathLst>
                <a:path w="3130" h="1588">
                  <a:moveTo>
                    <a:pt x="0" y="1588"/>
                  </a:moveTo>
                  <a:lnTo>
                    <a:pt x="363" y="1452"/>
                  </a:lnTo>
                  <a:lnTo>
                    <a:pt x="952" y="998"/>
                  </a:lnTo>
                  <a:lnTo>
                    <a:pt x="1179" y="726"/>
                  </a:lnTo>
                  <a:lnTo>
                    <a:pt x="1406" y="499"/>
                  </a:lnTo>
                  <a:lnTo>
                    <a:pt x="1723" y="91"/>
                  </a:lnTo>
                  <a:lnTo>
                    <a:pt x="1950" y="0"/>
                  </a:lnTo>
                  <a:lnTo>
                    <a:pt x="2313" y="91"/>
                  </a:lnTo>
                  <a:lnTo>
                    <a:pt x="2585" y="318"/>
                  </a:lnTo>
                  <a:lnTo>
                    <a:pt x="2812" y="45"/>
                  </a:lnTo>
                  <a:lnTo>
                    <a:pt x="3130" y="771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18960" y="2693880"/>
              <a:ext cx="4032720" cy="2923200"/>
            </a:xfrm>
            <a:custGeom>
              <a:avLst/>
              <a:gdLst/>
              <a:ahLst/>
              <a:rect l="l" t="t" r="r" b="b"/>
              <a:pathLst>
                <a:path w="3130" h="2268">
                  <a:moveTo>
                    <a:pt x="0" y="2268"/>
                  </a:moveTo>
                  <a:lnTo>
                    <a:pt x="272" y="2132"/>
                  </a:lnTo>
                  <a:lnTo>
                    <a:pt x="862" y="1406"/>
                  </a:lnTo>
                  <a:lnTo>
                    <a:pt x="1134" y="317"/>
                  </a:lnTo>
                  <a:lnTo>
                    <a:pt x="1406" y="45"/>
                  </a:lnTo>
                  <a:lnTo>
                    <a:pt x="1678" y="0"/>
                  </a:lnTo>
                  <a:lnTo>
                    <a:pt x="1996" y="136"/>
                  </a:lnTo>
                  <a:lnTo>
                    <a:pt x="2313" y="136"/>
                  </a:lnTo>
                  <a:lnTo>
                    <a:pt x="2585" y="45"/>
                  </a:lnTo>
                  <a:lnTo>
                    <a:pt x="2857" y="363"/>
                  </a:lnTo>
                  <a:lnTo>
                    <a:pt x="3130" y="12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42920" y="2869200"/>
              <a:ext cx="801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84240" y="3863160"/>
              <a:ext cx="6994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42920" y="4915080"/>
              <a:ext cx="6408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" rIns="396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97800" y="47520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yarország NPK mérlege, kg/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341360"/>
          <a:ext cx="7632720" cy="3865680"/>
        </p:xfrm>
        <a:graphic>
          <a:graphicData uri="http://schemas.openxmlformats.org/drawingml/2006/table">
            <a:tbl>
              <a:tblPr/>
              <a:tblGrid>
                <a:gridCol w="1513080"/>
                <a:gridCol w="936720"/>
                <a:gridCol w="936360"/>
                <a:gridCol w="1060560"/>
                <a:gridCol w="1063800"/>
                <a:gridCol w="1062000"/>
                <a:gridCol w="10602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é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-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-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lékte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állótrág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llangó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nl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499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5480" y="331920"/>
            <a:ext cx="90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lág országainak műtrágya NPK vegyes hatóany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használása az ezredforduló körül a Világban adatai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40000" y="50364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z őszi búza makrotápelem forgalm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341360"/>
          <a:ext cx="7993080" cy="3490920"/>
        </p:xfrm>
        <a:graphic>
          <a:graphicData uri="http://schemas.openxmlformats.org/drawingml/2006/table">
            <a:tbl>
              <a:tblPr/>
              <a:tblGrid>
                <a:gridCol w="916200"/>
                <a:gridCol w="2144520"/>
                <a:gridCol w="1733760"/>
                <a:gridCol w="1600200"/>
                <a:gridCol w="15984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kivont mennyiség, kg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ális felvételi ütem, kg/ha/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centráció a szárazanyagban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krosod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ágz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18360" y="35784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z őszi búza mikrotápelem forg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6920" y="1268280"/>
          <a:ext cx="7777080" cy="3600360"/>
        </p:xfrm>
        <a:graphic>
          <a:graphicData uri="http://schemas.openxmlformats.org/drawingml/2006/table">
            <a:tbl>
              <a:tblPr/>
              <a:tblGrid>
                <a:gridCol w="698760"/>
                <a:gridCol w="1824120"/>
                <a:gridCol w="1824120"/>
                <a:gridCol w="1874160"/>
                <a:gridCol w="15559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vont mennyiség, kg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ális felvételi ütem g/ha/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centráció a szárazanyagban,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krosod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ágz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0" y="489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42160" y="25920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nyészedény kísérlet részl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42920" y="331920"/>
            <a:ext cx="74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úza tápelem tartalma a maximális érték %-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42920" y="1557360"/>
          <a:ext cx="7273800" cy="2302560"/>
        </p:xfrm>
        <a:graphic>
          <a:graphicData uri="http://schemas.openxmlformats.org/drawingml/2006/table">
            <a:tbl>
              <a:tblPr/>
              <a:tblGrid>
                <a:gridCol w="1818360"/>
                <a:gridCol w="1818720"/>
                <a:gridCol w="1818360"/>
                <a:gridCol w="181836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jlődési fáz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lász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ágz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jes é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25080" y="528840"/>
            <a:ext cx="595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z őszi búza %-os K-tartalma é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lvett K mennyisége a vegetáció sorá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5280" y="1484280"/>
            <a:ext cx="5471640" cy="4660560"/>
            <a:chOff x="1835280" y="1484280"/>
            <a:chExt cx="5471640" cy="4660560"/>
          </a:xfrm>
        </p:grpSpPr>
        <p:sp>
          <p:nvSpPr>
            <p:cNvPr id="145" name=""/>
            <p:cNvSpPr/>
            <p:nvPr/>
          </p:nvSpPr>
          <p:spPr>
            <a:xfrm>
              <a:off x="2339280" y="2422080"/>
              <a:ext cx="0" cy="23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9280" y="4732200"/>
              <a:ext cx="418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97000" y="2422080"/>
              <a:ext cx="0" cy="2309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55640" y="3072240"/>
              <a:ext cx="3824640" cy="1297440"/>
            </a:xfrm>
            <a:custGeom>
              <a:avLst/>
              <a:gdLst/>
              <a:ahLst/>
              <a:rect l="l" t="t" r="r" b="b"/>
              <a:pathLst>
                <a:path w="2404" h="816">
                  <a:moveTo>
                    <a:pt x="0" y="816"/>
                  </a:moveTo>
                  <a:lnTo>
                    <a:pt x="953" y="91"/>
                  </a:lnTo>
                  <a:lnTo>
                    <a:pt x="1225" y="0"/>
                  </a:lnTo>
                  <a:lnTo>
                    <a:pt x="1497" y="45"/>
                  </a:lnTo>
                  <a:lnTo>
                    <a:pt x="1724" y="91"/>
                  </a:lnTo>
                  <a:lnTo>
                    <a:pt x="2087" y="227"/>
                  </a:lnTo>
                  <a:lnTo>
                    <a:pt x="2404" y="36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00360" y="2855880"/>
              <a:ext cx="3608280" cy="1659600"/>
            </a:xfrm>
            <a:custGeom>
              <a:avLst/>
              <a:gdLst/>
              <a:ahLst/>
              <a:rect l="l" t="t" r="r" b="b"/>
              <a:pathLst>
                <a:path w="2268" h="1043">
                  <a:moveTo>
                    <a:pt x="0" y="0"/>
                  </a:moveTo>
                  <a:lnTo>
                    <a:pt x="454" y="136"/>
                  </a:lnTo>
                  <a:lnTo>
                    <a:pt x="544" y="227"/>
                  </a:lnTo>
                  <a:lnTo>
                    <a:pt x="635" y="363"/>
                  </a:lnTo>
                  <a:lnTo>
                    <a:pt x="726" y="544"/>
                  </a:lnTo>
                  <a:lnTo>
                    <a:pt x="862" y="635"/>
                  </a:lnTo>
                  <a:lnTo>
                    <a:pt x="1089" y="680"/>
                  </a:lnTo>
                  <a:lnTo>
                    <a:pt x="1452" y="816"/>
                  </a:lnTo>
                  <a:lnTo>
                    <a:pt x="1769" y="907"/>
                  </a:lnTo>
                  <a:lnTo>
                    <a:pt x="2268" y="104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8200" y="1555560"/>
              <a:ext cx="48672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0640" y="1484280"/>
              <a:ext cx="843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g/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6560" y="2494800"/>
              <a:ext cx="31176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6560" y="3072240"/>
              <a:ext cx="311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6560" y="3650040"/>
              <a:ext cx="31176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4299120"/>
              <a:ext cx="31068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1720" y="2782800"/>
              <a:ext cx="565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41720" y="3143880"/>
              <a:ext cx="56520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41720" y="3650040"/>
              <a:ext cx="56520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41720" y="4082760"/>
              <a:ext cx="43812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96520" y="1765080"/>
              <a:ext cx="205632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szárazanyagb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2920" y="4948560"/>
              <a:ext cx="8589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Bokr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od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7720" y="5414040"/>
              <a:ext cx="1059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zárba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l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6160" y="4803840"/>
              <a:ext cx="91944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Kalá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zol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6480" y="4876920"/>
              <a:ext cx="1240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eljesér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4680" y="5526000"/>
              <a:ext cx="10746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rágz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238200" y="4732200"/>
              <a:ext cx="111240" cy="68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721040" y="4803480"/>
              <a:ext cx="28944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62160" y="2592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űtrágya összetevő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125360"/>
          <a:ext cx="7775280" cy="4381560"/>
        </p:xfrm>
        <a:graphic>
          <a:graphicData uri="http://schemas.openxmlformats.org/drawingml/2006/table">
            <a:tbl>
              <a:tblPr/>
              <a:tblGrid>
                <a:gridCol w="973080"/>
                <a:gridCol w="968400"/>
                <a:gridCol w="973080"/>
                <a:gridCol w="973080"/>
                <a:gridCol w="969840"/>
                <a:gridCol w="971640"/>
                <a:gridCol w="973080"/>
                <a:gridCol w="97308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0" y="653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12720" y="35928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űtrágyák néhány tulajdonsá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9640" y="981000"/>
          <a:ext cx="8209080" cy="5359320"/>
        </p:xfrm>
        <a:graphic>
          <a:graphicData uri="http://schemas.openxmlformats.org/drawingml/2006/table">
            <a:tbl>
              <a:tblPr/>
              <a:tblGrid>
                <a:gridCol w="2641680"/>
                <a:gridCol w="636480"/>
                <a:gridCol w="795600"/>
                <a:gridCol w="636480"/>
                <a:gridCol w="636480"/>
                <a:gridCol w="478080"/>
                <a:gridCol w="795240"/>
                <a:gridCol w="795240"/>
                <a:gridCol w="79380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ísérő elem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sz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L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szammon-salét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mónium-nitrá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mónium-szulfá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lcium-nitrá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ba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uperfoszfá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ple szuperfoszfá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-os kális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-os kális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-os kális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énsavas kál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oammónium-foszfá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K 16-16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vert 10-1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583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24640" y="331560"/>
            <a:ext cx="70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nántúli talajok szántott rétegének humusz 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 változása 1970 és 2000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628640"/>
          <a:ext cx="7559640" cy="24814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  <a:gridCol w="1890720"/>
                <a:gridCol w="18889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tavé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usz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r>
                        <a:rPr b="0" lang="hu-H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 erdőtalajok, 188 mintavételi h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ernozjomok, 60 mintavételi h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 erdőtalajok, 188 mintavételi h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-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D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szignifiká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szignifiká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*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311480" y="4344480"/>
            <a:ext cx="55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gjegyzés: **** 0,01% hibaszinten szignifikáns különbsé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3280" y="403200"/>
            <a:ext cx="85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nántúli talajok szántott rétegének műtrágya hatóany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yenértékben kifejezett P- és K-több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55640" y="1773360"/>
          <a:ext cx="7777080" cy="2500200"/>
        </p:xfrm>
        <a:graphic>
          <a:graphicData uri="http://schemas.openxmlformats.org/drawingml/2006/table">
            <a:tbl>
              <a:tblPr/>
              <a:tblGrid>
                <a:gridCol w="1555920"/>
                <a:gridCol w="1555560"/>
                <a:gridCol w="1554120"/>
                <a:gridCol w="1555920"/>
                <a:gridCol w="15555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tóany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aj főtípus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tóanyag egyenérték többlet, kg/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lógiai felhalmozódásb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ajban maradó műtrágyáb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ssz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 erdőtalaj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ernozjom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a erdőtalaj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ernozjom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59280" y="47484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 őszi búza által kivont tápanya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ámított megoszlása 5 t főtermés eseté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1628640"/>
          <a:ext cx="7920000" cy="1871640"/>
        </p:xfrm>
        <a:graphic>
          <a:graphicData uri="http://schemas.openxmlformats.org/drawingml/2006/table">
            <a:tbl>
              <a:tblPr/>
              <a:tblGrid>
                <a:gridCol w="1320480"/>
                <a:gridCol w="1319400"/>
                <a:gridCol w="1320840"/>
                <a:gridCol w="1319040"/>
                <a:gridCol w="1320840"/>
                <a:gridCol w="131940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e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tóanyag, kg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znosulás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vont elem, kg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ssz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ábó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ajbó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(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9280" y="258840"/>
            <a:ext cx="59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áziállatok ürülékének összetétele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00000" y="1125360"/>
          <a:ext cx="7632720" cy="3684600"/>
        </p:xfrm>
        <a:graphic>
          <a:graphicData uri="http://schemas.openxmlformats.org/drawingml/2006/table">
            <a:tbl>
              <a:tblPr/>
              <a:tblGrid>
                <a:gridCol w="1454400"/>
                <a:gridCol w="1090440"/>
                <a:gridCol w="1271520"/>
                <a:gridCol w="1271520"/>
                <a:gridCol w="1273320"/>
                <a:gridCol w="12715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árazany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éls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arvasmar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-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-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ze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arvasmar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-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-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-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-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-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-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-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-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-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-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0" y="539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09640" y="28656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0160"/>
                <a:tab algn="r" pos="4494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z istállótrágya minősítése tápanyagtartalom alapj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160"/>
                <a:tab algn="r" pos="4494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4360" y="1628640"/>
          <a:ext cx="7848360" cy="2190960"/>
        </p:xfrm>
        <a:graphic>
          <a:graphicData uri="http://schemas.openxmlformats.org/drawingml/2006/table">
            <a:tbl>
              <a:tblPr/>
              <a:tblGrid>
                <a:gridCol w="1963440"/>
                <a:gridCol w="1962360"/>
                <a:gridCol w="1960560"/>
                <a:gridCol w="196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anyagtartal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e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y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én, N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-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zfor 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álium 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-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 anyag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ará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0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8680" y="42948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tés és szarvasmarha hígtrágyák átlagos összet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4360" y="1557360"/>
          <a:ext cx="7920000" cy="182556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anyag, szerves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arvasmar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kg/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-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-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g/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kg/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-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 anyag kg/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-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6880" y="403560"/>
            <a:ext cx="84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só betakarítása kisparcellás műtrágyázási kísérlet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92000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908720" y="331920"/>
            <a:ext cx="52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aromfiürülék kémiai összeté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8360" y="1341360"/>
          <a:ext cx="7920000" cy="210024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  <a:gridCol w="1319400"/>
                <a:gridCol w="1320480"/>
                <a:gridCol w="1319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latf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dvesség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ves anyag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ú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-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c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-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la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-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44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68880" y="403200"/>
            <a:ext cx="77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z őszi búza fajlagos tápanyagigényének szám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76360" y="1197000"/>
          <a:ext cx="5848200" cy="4475160"/>
        </p:xfrm>
        <a:graphic>
          <a:graphicData uri="http://schemas.openxmlformats.org/drawingml/2006/table">
            <a:tbl>
              <a:tblPr/>
              <a:tblGrid>
                <a:gridCol w="1461960"/>
                <a:gridCol w="1461960"/>
                <a:gridCol w="1461960"/>
                <a:gridCol w="14623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gnevez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panyagtartalom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a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t termésre, kg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al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ssz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főtermékre, kg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jlagos tápanyag igény 1 t főtermék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67160" y="47448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z őszi búza fajlagos műtrágya-igény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. termőhelyi kategóri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4360" y="1844640"/>
          <a:ext cx="7775280" cy="2830680"/>
        </p:xfrm>
        <a:graphic>
          <a:graphicData uri="http://schemas.openxmlformats.org/drawingml/2006/table">
            <a:tbl>
              <a:tblPr/>
              <a:tblGrid>
                <a:gridCol w="1761840"/>
                <a:gridCol w="2125800"/>
                <a:gridCol w="1944720"/>
                <a:gridCol w="19429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alaj ellátottsá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jlagos műtrágyaigény I. termőhelyen (1 t tervezett főtermékre), kg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en gy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y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ze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en j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475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10360" y="50364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éldák a növény általi felvétel formá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197000"/>
          <a:ext cx="7990920" cy="2302920"/>
        </p:xfrm>
        <a:graphic>
          <a:graphicData uri="http://schemas.openxmlformats.org/drawingml/2006/table">
            <a:tbl>
              <a:tblPr/>
              <a:tblGrid>
                <a:gridCol w="3995640"/>
                <a:gridCol w="39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vételi 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H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P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30480" y="43056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 tartalom kifejezési f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413000"/>
          <a:ext cx="8351280" cy="3095280"/>
        </p:xfrm>
        <a:graphic>
          <a:graphicData uri="http://schemas.openxmlformats.org/drawingml/2006/table">
            <a:tbl>
              <a:tblPr/>
              <a:tblGrid>
                <a:gridCol w="2087640"/>
                <a:gridCol w="2088360"/>
                <a:gridCol w="2087640"/>
                <a:gridCol w="208764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űtrág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l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setleg P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esetleg K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, % vagy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,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,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44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72320" y="403560"/>
            <a:ext cx="78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rmés növekedése a hatótényezők függvényéb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3436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40040" y="43056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övényi termések víz és a szárazanyag tart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1268280"/>
          <a:ext cx="6912000" cy="301464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0960"/>
                <a:gridCol w="1382760"/>
                <a:gridCol w="1382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öv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z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és, t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ss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áraz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úza (sze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korica (sze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gonya (gum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korrépa (gyöké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-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452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38120" y="50364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zárazanyag összetétele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700280"/>
          <a:ext cx="7705800" cy="2166840"/>
        </p:xfrm>
        <a:graphic>
          <a:graphicData uri="http://schemas.openxmlformats.org/drawingml/2006/table">
            <a:tbl>
              <a:tblPr/>
              <a:tblGrid>
                <a:gridCol w="1100160"/>
                <a:gridCol w="1101960"/>
                <a:gridCol w="1100160"/>
                <a:gridCol w="1101600"/>
                <a:gridCol w="1100160"/>
                <a:gridCol w="1101600"/>
                <a:gridCol w="11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hér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ményít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í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k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ú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z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s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ó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20:43:47Z</dcterms:created>
  <dc:creator>SZŰCS</dc:creator>
  <dc:description/>
  <dc:language>en-US</dc:language>
  <cp:lastModifiedBy>SZŰCS</cp:lastModifiedBy>
  <dcterms:modified xsi:type="dcterms:W3CDTF">2006-08-21T20:29:48Z</dcterms:modified>
  <cp:revision>4</cp:revision>
  <dc:subject/>
  <dc:title>1. dia</dc:title>
</cp:coreProperties>
</file>