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45E-59A1-4EEB-B19B-47E37EC0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110-F228-48B5-9C1A-4597B64D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287-9BF0-422D-A19F-5B9096E2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E91-92A6-4F67-ABBB-CB2C10C1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B7B8-7DAC-4F50-A639-97B43775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A989-8C8E-45EE-939F-D5C37356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26E6-6E2F-4D0A-B663-E7FE14B3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8BBC-E26A-451E-9A7E-2304CC66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7B08-91A9-4430-9434-42DE53DE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025A-4C76-4606-BD70-1F290557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100D-3660-40F1-9299-2017F4E5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36F6-A4C4-45A9-BD13-CAD63D7E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5F3B-10E1-4F77-92CE-07F59D9E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AC6F-64E8-411B-A3EE-75422FD9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428B-7366-4FCD-B1DE-653CA8BB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B5E6-2298-44CC-AE34-70C374D8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8150-B80C-467B-BACC-EF4E64F7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107-FA6F-4599-BB05-ECC9A77D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15A-8E55-4405-B598-EE89136C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ED2-2F0F-4944-B13C-0846F656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370-F3CD-4215-B0A8-4C93EC5E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43B-B3BE-4655-8740-0C9F11AC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F95-239F-408E-A376-34FC0DD0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153-2515-4AE8-B0DE-A22BDE43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EAF8-4BB3-457C-B912-9D9D3812C2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E982-B1F7-4399-8DA9-F320406E3D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ísznövénytermeszté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Évelő dísznövények szaporítása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póravetés (páfrány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gve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Érés után azonnal (Ranunculaceae, Boraginaceae, Scrophulariacea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Ősszel- tél elején (Asteraceae, Lamiacea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vasszal (Campanulaceae, Fabaceae, Malvacea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ugványozás (hajtás, levél, gyöké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őosz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iókhagyma, fiókhagymagum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kroszapor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Évelő kiültetések jellemzői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iültetésre felhasznált növények díszérté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egetatív habitus kép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lomb formája, színe, tartósság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irág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övény karakt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évelő lágyszárú kiültetésekre jellemző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mészetes tájak hangulatát idézi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llegzetesen tükrözik a termőhelyi viszonyoka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mészetes, tájképi vagy mértan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j és fajta gazdag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rágzási csúcsok kialakítás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oltszerű kiülteté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övényalkalmazásnál az ökológiai viszonyok játszanak döntő szerep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Kiültetett évelő felületek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pos évelőágyak (Achillea filipendulina, Aster dumosus, Rudbeckia fulg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rnyéki, félárnyéki felületek (Bergenia fajok, Hosta fajok, Primula faj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oliter növények (Cortaderia selloana, Kniphofia uv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klakertek (Iberis sempervirens, Sedum fajok, Sempervivum tector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ízi, vízparti felületek (Caltha palustris, Miscanthus, Hemerocal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xtenzív és intenzív zöldtetők (Cerastium tomentosum, Festuca pallens,  Sempervivum faj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Gyepek, pázsitok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ázsitnak a rövidre nyírt, aprószálú, finomlevelű, szőnyegszerű, díszítő célú gyeptakarókat nevezzü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yep magasabbra hagyott, durvább levelű, kevésbé igényes zöldfelü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oportosításu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íszpázsitok és gyep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rtpázsitok és gyep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gyéb célokat szolgáló gyep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Gyeplétesíté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tés ideje: augusztus 20. után szeptember közepéig, illetve március végétől április közepéig vetn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örténhet kézzel, és nagy felületen géppe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lysége laza talajon 2-3 cm, kötöttebb talajon 1-1,5 c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tendő mennyiség: 30-40 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vetés után tömörítün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és után 6-8 hétig öntözü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Gyepfenntartá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szá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ntö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panyag-utánpót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yomir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övényvéde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gere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gőzt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új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Díszfák, díszcserjék környezeti feltételei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532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ényigé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napot- fényt kedvelő (heliofita) fajok (nálunk termesztett díszfák és díszcserjék nagyobb része)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félárnyékot tűrő, fény- és árnyékkedvelő (helio-skiofita) fajok (Acer campestre, Carpinus betulu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árnyékot igénylő, árnyékkedvelő (skiofita) fajok (Daphne mezereum, Ruscus fajok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őmérsék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ízigé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közepes vízigényű (mezofita) fajok (díszfák és díszcserjék többsége)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páraigényes (hygrofita) fajok (Abies fajok, Tilia platyphyll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vízi, vízparti (hidatofita) fajok (Alnus glutinosa, Taxodium distichu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szárazságtűrő (xerofita) fajok (Acer campestre, Robinia pseudoacaci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laj fizikai tulajdonság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homok talajokba (Juniperus virginiana, Tamarix tetrandr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észkerülő növények (Calluna vulgaris, Rhododendron fajok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észérzékeny növények (Castanea sativa, Pinus strobu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rős sziket, a szoloncsák talajokat tűrő fajok (Elaeagnus angustifoli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réti szolonyec, sztyeppesedő réti szolonyec talajokra (Populus alb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Díszfák, díszcserjék várostűrő képessége 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ó várostűrő képességű örökzöld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inus nigr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inus sylvestr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uniperus sabin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axus bacc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ó várostűrő képességű lombhullató díszf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yrus calleryan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eltis occidental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obinia pseudoaca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ophora japo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0033"/>
                </a:solidFill>
                <a:latin typeface="Times New Roman"/>
              </a:rPr>
              <a:t>Lombhullató díszfák magasság és törzskörméret alapján történő csoportosítása</a:t>
            </a:r>
            <a:r>
              <a:rPr b="0" lang="hu-HU" sz="38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sorf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törzse 220 cm-nél magasabb, a törzskörmérete legalább 12 cm, szabályos növekedésű, egyenletes ágelosztású koronás fa, amely elsősorban utcafásításra alkal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továbbnevelt sorf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legalább 220 cm törzsmagasságú, 16-32 cm törzskörméretű, többször átiskolázot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idősf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legalább 4-szer iskolázott, 30 cm törzskörméretnél vastagabb f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parkf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 sorfánál alacsonyabb törzsű (150 cm), törzskörmérete legalább 12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bokorf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lacsonyabb törzsmagasságú, a törzskörmérete legalább 8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Díszfák, díszcserjék felhasználása 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agy koronájú díszfák (Acer platanoides, Celtis occidentalis, Robinia pseudoaca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ömbkoronájúak (Acer platanoides, ’Globosum’, Fraxinus ornus ’Mecsek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szloposak (Betula pendula ’Fastigiata’, Quercus robur ’Fastigiata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üngő ágúak (Betula pendula ’Youngii’, Morus alba ’Pendula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A dísznövénytermesztés fogalma, csoportosítása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dísznövények díszítőértékkel rendelkező növények, esztétikai, biológiai, környezetvédelmi, mérnökbiológiai szerepük v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soportosítá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ruterm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limatizált terekben történő termeszté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zabadföldi dísznövénytermeszté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ék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Belkereskedelem – időszaki jelleg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ülkereskede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xport – díszfa, rózsatő, szárazvirág, vetőma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mport – vágott virág, cserepes dísznövé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olgált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A díszfák és díszcserjék metszés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sősorban az elhalt, beteg, sérült, rossz irányba növekedő, a koronát elsűrűsítő ágak eltávolítá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ezetékek alá és szűk utcákba telepített fajok rendszeres kényszermetsz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erjéket aszerint, hogy hol hozzák virágaikat, különböző módon metsszü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esszőn virágzó cserjék (Forsythi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esszők csúcsrügyeiből virágzó cserjék (Syring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ajtáson virágzók (Buddle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vasszal nyíló változatok (Prunus triloba ‘Multiplex’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dősebb ág- és gallyrészeken is virágzók (Cerc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A dísznövénytermesztés területi elhelyezkedése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udapest – az ország legnagyobb felvevő piac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őr-Moson-Sopron, Vas, Zala megye – örökzöld díszfák, díszcserjé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ged-Szőreg – rózsatőtermesztés, hagymás-gumós szaporítóanyag termeszt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ékés, Csongrád, Bács-Kiskun megye déli része – virágmagtermeszt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ács-Kiskun, Győr-Moson-Sopron megye – szárazvirág termeszt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ongrád, Jász-Nagykun-Szolnok megye – kondicionált felületek (termálvíz fűté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Környezeti, termesztési feltételek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őmérsék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í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panya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ajok és termesztő közeg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Fény</a:t>
            </a:r>
            <a:br>
              <a:rPr sz="3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világítás időtartama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osszúnappalos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bligát hosszúnappalos növények 13-15 óra megvilágításnál képez virágot (Hibiscu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akultatív hosszúnappalos növények 12-13 órás megvilágítás (Matthiola incana, Dianthus caryophyllus var. Semperflore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övidnappalos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bligát rövidnappalos növények 12-13 órás vagy ez alatti megvilágítás (Euphorbia pulcherrima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akultatív rövidnappalos növények 13-14 órás megvilágításnál is képeznek virágot (Cyclamen persic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ppalok iránt közömbös növények (Saintpaulia ionanth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A talajok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dísznövényeket talaj- és tápanyagigényük alapján három csoportba sorolju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cccc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avanyú kémhatást, nagy szervesanyag tartalmat, laza szerkezetű talajt kedvelő nitrogénigényes növények (Asparagus setaceus, Eri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cccc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engén savanyú kémhatást, közepes szervesanyag tartalmat, laza szerkezetű talajt kedvelnek, nitrogénigényesek (Dieffenbachia, Dracae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cccc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mleges, gyengén lúgos kémhatású, alacsony szerves anyag tartalmú, kötöttebb talajokat kedvelnek, foszfor- és kálium igényük viszonylag magas (krizantém, rózsa, növényházi szegf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Földkeverékek, termesztő közegek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ségföld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mokultú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idrokultú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ámasztóközeges kultúra (agregátponika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ápoldatos kultúra (hidroponika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ápköd kultúra (aeroponik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Egynyári virágágyformák, az ültetés sűrűsége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a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abatt, border, szegé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gy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zőnyegágy, geometrikus virágágy, szabálytalan virágfo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iültetés leh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gységes, szegélyezett, vegy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ltetés sűrűsé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Bellis perennis 36 db/m</a:t>
            </a:r>
            <a:r>
              <a:rPr b="0" lang="hu-H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Begonis Semperflorens hibridek 25 db/m</a:t>
            </a:r>
            <a:r>
              <a:rPr b="0" lang="hu-HU" sz="2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elargonium Zonale hibridek 12-16 db/m</a:t>
            </a:r>
            <a:r>
              <a:rPr b="0" lang="hu-HU" sz="2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Dahlia x hortensis 5 db/m</a:t>
            </a:r>
            <a:r>
              <a:rPr b="0" lang="hu-HU" sz="2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lternanthera, Iresine szőnyegágyba 80-100 db/m</a:t>
            </a:r>
            <a:r>
              <a:rPr b="0" lang="hu-H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zegélynövény 5-10 db/folyómé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Szaporítás és palántanevelé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ugványo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geratum houstonianum, Dahlia x horten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gve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orai növényházi magvetésűek (Begonia semperflorens hibridek, Lobelia erin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özépkorai növényházi magvetésűek (Ageratum houstonianum, Petunia x hybri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Áprilisban fűtetlen fólia alá vethetők (Rudbeckia hirta, Portulaca grandiflo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elybe vethető, hosszú tenyészidejűek (Calendula officinalis, Ricinus commun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elybe vethető, rövid tenyészidejűek (Escscholtzia californica, Lobularia maritim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7:05:23Z</dcterms:created>
  <dc:creator>Kiss Tímea</dc:creator>
  <dc:description/>
  <dc:language>en-US</dc:language>
  <cp:lastModifiedBy>Dísznövény</cp:lastModifiedBy>
  <dcterms:modified xsi:type="dcterms:W3CDTF">2006-09-13T12:09:07Z</dcterms:modified>
  <cp:revision>24</cp:revision>
  <dc:subject/>
  <dc:title> </dc:title>
</cp:coreProperties>
</file>