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FBD-1D2A-40FA-9DD5-6D7E1AFF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A2D-CDD6-4D92-9573-BC41C922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775-BC98-4AF2-A727-5C4E6AAB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6A8-28A5-4F65-921D-8842CC79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A5F-6B1A-44B6-A4F2-94722C87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25F-B613-433D-A456-59C9DF7B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7FF-7C23-45A2-80B7-6FA37FEE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C36-4C23-4C80-8ABF-778CA7F9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726-07D1-458B-9A53-8FAA149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AEF-51E6-44CA-887A-0E675A25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DA5-AF46-421E-A28D-7A6941B9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C34-A725-45AA-9D5A-342C604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77FF-96D8-4D38-A732-1AA68496F6E5}" type="slidenum">
              <a:rPr b="0" lang="hu-HU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Gyógynövénytermesztés fogalma, jelentősége</a:t>
            </a:r>
            <a:endParaRPr b="0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Gyógynövény: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yógyítás céljára felhasznált növé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yógyszerkönyvben szereplő drogok nyersanyag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Gyógynövénytermeszté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yógynövények gyűjtése, termesztése, elsődleges feldolgozás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a50021"/>
                </a:solidFill>
                <a:latin typeface="Arial"/>
              </a:rPr>
              <a:t>Legfontosabb termesztett gyógynövényeink</a:t>
            </a:r>
            <a:endParaRPr b="0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773360"/>
          <a:ext cx="7715160" cy="482436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ustár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ajoránna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ák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azsalikom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onyhakömény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evendula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édeskömény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akukkfű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oriander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nta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ánizs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amilla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apor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áriatövis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itromfű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örömvirág.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orsfű,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Hazai gyógynövénytermesztés jellemzői</a:t>
            </a:r>
            <a:endParaRPr b="0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Termelési volumen: </a:t>
            </a:r>
            <a:br>
              <a:rPr sz="3200"/>
            </a:b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40 ezer ha, 35-40 ezer t drog/ év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export 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nagyon jó minőségű drog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több mint 200 faj felhasználása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nagy élőmunka-ráfordítá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Drogismeret alapjai</a:t>
            </a: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Növényi drog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felhasznált gyógynövény legtöbb hatóanyagot tartalmazó része, amelyet többnyire szárítással tartósítanak és esetleges hámozáson, tisztításon, aprításon kívül más mechanikai feldolgozásban vagy egyéb kezelésben nem részesült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növényi nyersanyagból készült termék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növényi nyersanyagból átalakítással nyert anyag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66"/>
                </a:solidFill>
                <a:uFillTx/>
                <a:latin typeface="Arial"/>
              </a:rPr>
              <a:t>Illóolaj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Különböző vegyületek (terpének, terpénszármazékok) elegye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vízgőzzel lepárolható növényi hatóanyag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vízben nem vagy csak nagyon rosszul oldódik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szobahőmérsékleten maradéktalanul elpárolog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jellegzetes, intenzív illatú és ízű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66"/>
                </a:solidFill>
                <a:uFillTx/>
                <a:latin typeface="Arial"/>
              </a:rPr>
              <a:t>Hatóanyag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A gyógynövényben felhalmozódott, biológiailag aktív, különböző hatású, sajátos vegyületek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az egészséget fenntartó, kóros folyamatokat megelőző, gátló, ill. gyógyító hatású anyagok,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a gyógyhatásért felelős vegyület(csoport)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yógynövények feldolgozása</a:t>
            </a:r>
            <a:endParaRPr b="0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92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szárítás (természetes, mesterséges)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illóolaj-kinyerés (extrahálás, sajtolás, enfleurage, desztilláció)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tisztítás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aprítás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tárolás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csomagolá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a50021"/>
                </a:solidFill>
                <a:latin typeface="Arial"/>
              </a:rPr>
              <a:t>Gyógynövények felhasználása</a:t>
            </a:r>
            <a:endParaRPr b="0" lang="en-US" sz="4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66"/>
                </a:solidFill>
                <a:uFillTx/>
                <a:latin typeface="Arial"/>
              </a:rPr>
              <a:t>1. Gyógyász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hagyományos gyógyászat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népi gyógyászat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fitoterápia,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galenikumok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gyógyszeripar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homeopátia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aromaterápia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66"/>
                </a:solidFill>
                <a:uFillTx/>
                <a:latin typeface="Arial"/>
              </a:rPr>
              <a:t>2. Vegyipa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kozmetikai, háztartási  vegyipar, illatszeripar stb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66"/>
                </a:solidFill>
                <a:uFillTx/>
                <a:latin typeface="Arial"/>
              </a:rPr>
              <a:t>3. Élelmiszeripa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66"/>
                </a:solidFill>
                <a:latin typeface="Arial"/>
              </a:rPr>
              <a:t>konzervipar, húsipar, édesipar, üdítőitalgyártás, fűszeripar stb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66"/>
                </a:solidFill>
                <a:uFillTx/>
                <a:latin typeface="Arial"/>
              </a:rPr>
              <a:t>4. Egészséges életmódot és táplálkozást kiegészítő készítmény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a50021"/>
                </a:solidFill>
                <a:latin typeface="Arial"/>
              </a:rPr>
              <a:t>Legfontosabb vadon termő gyógynövényeink</a:t>
            </a:r>
            <a:endParaRPr b="0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3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66"/>
                </a:solidFill>
                <a:latin typeface="Arial"/>
              </a:rPr>
              <a:t>vadgeszteny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66"/>
                </a:solidFill>
                <a:latin typeface="Arial"/>
              </a:rPr>
              <a:t>vadrózsafajok (csipkebogyó)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66"/>
                </a:solidFill>
                <a:latin typeface="Arial"/>
              </a:rPr>
              <a:t>nagy csalán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66"/>
                </a:solidFill>
                <a:latin typeface="Arial"/>
              </a:rPr>
              <a:t>fehér fagyöngy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66"/>
                </a:solidFill>
                <a:latin typeface="Arial"/>
              </a:rPr>
              <a:t>kamilla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66"/>
                </a:solidFill>
                <a:latin typeface="Arial"/>
              </a:rPr>
              <a:t>mezei zsurló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66"/>
                </a:solidFill>
                <a:latin typeface="Arial"/>
              </a:rPr>
              <a:t>fekete bodza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66"/>
                </a:solidFill>
                <a:latin typeface="Arial"/>
              </a:rPr>
              <a:t>fehér üröm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66"/>
                </a:solidFill>
                <a:latin typeface="Arial"/>
              </a:rPr>
              <a:t>hársfajok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66"/>
                </a:solidFill>
                <a:latin typeface="Arial"/>
              </a:rPr>
              <a:t>gyermekláncfű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14:18Z</dcterms:created>
  <dc:creator>Attila</dc:creator>
  <dc:description/>
  <dc:language>en-US</dc:language>
  <cp:lastModifiedBy>Ombódi Attila</cp:lastModifiedBy>
  <dcterms:modified xsi:type="dcterms:W3CDTF">2006-09-14T17:58:25Z</dcterms:modified>
  <cp:revision>32</cp:revision>
  <dc:subject/>
  <dc:title>Gyógynövénytermesztés</dc:title>
</cp:coreProperties>
</file>