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D8D5-712F-4DDE-84D1-098F654CEF5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400-420 ibol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420-490 ké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490-540 zö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540-640 sá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640-800 vörö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photosynthesis, plants use energy in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ion of the electromagnetic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from 400-700 nm (1,2). The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in this range, referred to a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ally Active Radiation (PAR),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measured in energy unit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ts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s Photosynthetic Photon Flux Density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PFD), which has unit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quanta (photons)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unit time per unit surface area.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s mos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ly used are micromole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quanta per second per square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r (mmol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-800 látható az emberi szem számá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atta UV, felette 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gintenzívebb sugárzás ezeken a hullámhosszokon, ezek hasznosítására alakultak ki a növény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0BC-437E-45BF-A1C5-A6BB7FF4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B3F-3269-4541-B2E4-5D0BC734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660-6117-4BC1-984A-55A781FA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E78-E2E2-4A68-87BB-4CAA0B37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562-70C5-4B9A-A046-3B5E5AAE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A9F-B07A-42FD-9FD2-B74A892F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628-8F97-475A-9E63-FA2DE05F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A3C-3512-40EE-957D-CCC6B298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706-C47D-4463-914E-FEDD5BAC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CA0-2B8B-49B7-A9E6-E5BE5B4D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227-212B-4368-A7B8-4C6E5D4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62D-AF7B-4D3F-8C22-E2E5A3B4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44AD-128F-4364-82D8-84FB35513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Kertészet általános jellemzé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öldségnövények táplálkozási jelentősé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vitaminforrás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allasztanyagképző szer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íz- és zamatanyag forr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ontos ásványi anyag forrás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ehérjeforrások (gomba, borsó, b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lacsony energia tarta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gyógyászati jelentőségük is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áros  anyagokat is felhalmozhat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azánkban a fogyasztás kb. 100 kg/fő/év, a feldolgozott termékek aránya 40-45 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öldségtermeszté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zöldségfélék előállításával foglalkozó termelési tevékenysé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480" y="2971440"/>
            <a:ext cx="5988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Alágazatai</a:t>
            </a: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abadföldi zöldségtermesz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zöldséghajta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zöldségvetőmag-termesz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gombatermesz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Zöldségtermesztés általános jellemző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gy faj és fajta választ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övid tenyészidejű növények nagy szere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gy alkalmazkodó képes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nzív technológiai elemek kiemelkedő szere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esztéstechnológia nagyon függ a termesztési céltó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gy beruházási igé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csony fokú gépesíthetőség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gy kézimunkaigény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gy termelési érték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risspia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sméretű üzemek is jövedelmezőek lehet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lentős népességeltartó képessége van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 rendszerváltás hatásai a zöldségtermesztési ágazat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Üzemméret csökkené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ésmennyiség csökkenése, termőterület növeked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ldolgozóipari felhasználás aránya csökk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ékszerkezet átalakul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nzív technológiai elemek térhódít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övedelmezőség csökkenése (agrárolló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rt és import értékének növeked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rtékesítésben új csatornák, üzletláncok szerepének növeked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öldségtermesztési ágazat jelenlegi helyzet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MZGY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0-120 ezer ha (összes mg.-i terület 2%-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5-2,0 millió t/év, melynek kb. 75%-a szántóföldi zöldsé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bből hazai fogyasztásra 55%, exportra 4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0 Mrd Ft termelési érté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rt: friss 77, feldolgozott 340 millió $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ort: friss 49, feldolgozott 37 millió $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esztés 70%-a az Alföldön v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elenlegi helyzet I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ermelési költségek továbbra is jobban emelkednek, mint az értékesítési ár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ésátlagok alacsonyak, de nagy a szórá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zdaságok zöme 1ha alatti, 1/3-a 1-5 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elés 80%-a magángazdaságokból, 72%-a kisgazdaságokból származ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0-100 ezer család él zöldségtermesztésbő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zai frisspiaci értékesítés: helyi piac 15-20%, direkt áruházlánci 35-40%, nagybani piacok szerepe csökkenő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Zöldségtermesztésünk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szerkezete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ZGYT 1995-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990720"/>
          <a:ext cx="9144000" cy="632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Zöldségtermesztésünk szerkezet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ZGYT 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965160"/>
          <a:ext cx="8136000" cy="588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965160"/>
                    <a:ext cx="813600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 magyar zöldségtermesztés erősség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ország kedvező adottsága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gyományok és gyakor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rn technológiák ismerete és jó ellátottság a szükséges anyagokból és eszközökb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égséges és viszonylag olcsó munkaer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jes körű szakmai kép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gy kapacitású feldolgozói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z előrelépéshez elvégzendő feladat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Átlagos üzemméret növel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Öntözött területek arányának növel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Intenzív termesztés arányának növel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Integrált termesztés arányának növel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űködő szaktanácsadói hálózat kiép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ÉSZ-ek megerős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ost-harvest tevékenység korszerűs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eldolgozottság mértékének növel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inőségbiztosítás általánossá téte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arketing tevékenység javít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azai fogyasztás és az export növel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rtész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gyedi ápolást igénylő növények termesztésével és parkok, kertek gondozásával foglalkozó művelési á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66688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rtészeti termesz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rtészeti termékek értékes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rtészeti termékek feldolg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rtgazda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Times New Roman"/>
              </a:rPr>
              <a:t>Zöldségtermesztési alágazatok helyz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zabadföldi zöldségtermesz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-110 ezer ha, 1.1 - 1.6 millió to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isspiaci és feldolgozóipari célú termesztés élesen különvá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öntözés növekvő szere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isspiaci célnál intenzív technológiai elemek egyre nagyobb szere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ntosabb növénye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csemegekukorica, görög-dinnye, paradicsom, vöröshagyma, sárgarépa, zöldborsó, étkezési paprika, fejes káposzta, konzervuborka, petrezselyem, fűszerpapri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öldséghajta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b. 5000 ha, 0.4-0.5 millió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zömében fóliaborítású létesítmények; 80% fűtetlen, fűtés termálvízzel vagy gázz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ermesztőlétesítmények és termesztéstechnológia folyamatosan korszerűsödik (talaj nélküli termesztés, biológiai növényvédel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fontosabb növénye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00cc00"/>
                </a:solidFill>
                <a:latin typeface="Times New Roman"/>
              </a:rPr>
              <a:t>melegkedvelő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- étkezési paprika, paradicsom, uborka; </a:t>
            </a:r>
            <a:r>
              <a:rPr b="1" lang="hu-HU" sz="3200" spc="-1" strike="noStrike">
                <a:solidFill>
                  <a:srgbClr val="00cc00"/>
                </a:solidFill>
                <a:latin typeface="Times New Roman"/>
              </a:rPr>
              <a:t>hidegtűrő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- káposztafélék, salátafélé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fontosabb körzete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Szentes, Szeged-Mórahalom, Kiskunság, Pest-vidék, Békés, Jász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öldségvetőmag-termesztés és kereskede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nacionális cégek uralják a kereskedel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dent az ökológiailag és gazdaságilag optimális helyen termeltetnek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sak bizonyos fajok és speciális helyi fajták jönnek szóba hazánk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sökken az itt szaporított fajták szá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00-3000 ha, ebből 2000 ha zöldbors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fi és hobbi piac élesen szétvá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les verseny, önszabályozó pi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mbatermesz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32 ezer t/év, ennek 46%-a exportra m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iztos exportpiacok (Németo., Ausztria, Olaszo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gombakonzervből nettó importőrök vagyun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2 kg/fő/év hazai fogyasztás - növel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komposzt előállítás igen jó, a termesztőlétesítmények közepes színvonalú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jó termésátlag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siperke (92%), laska (7%), shii-take (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69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I.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 zöldségtermesztés biológiai alapja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3213000"/>
            <a:ext cx="7920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Zöldségnövények csoportos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dszertan sze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gyasztott rész sze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lettartam sze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zármazás sze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3860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öldségfélék rendszertan szerinti csoportosítá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Burgonyafélé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aprika, paradicsom, padlizs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Kabakoso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uborka, dinnyék, főzőtök, sütőtök</a:t>
            </a:r>
            <a:r>
              <a:rPr b="1" lang="hu-HU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Keresztesvirágúa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áposztafélék, retek, t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Pillangósvirágúa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zöldborsó, zöldb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Ernyősvirágúa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árgarépa, petrezselyem, ze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Libatopfélé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penót, cék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Fészkesvirágúa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al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Hagymafélé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vörös-, fok-, póréhagy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Liliomfélé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pá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Pázsitfűfélé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semegekuko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öldségfélék csoportosítása a fogyasztott rész szer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Termés, mag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burgonyafélék, kabakosok, hüvelyesek, csemegekuko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Virágzat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karfi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Levél, levélmódosulá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káposzta, saláta, spenót, hagymafél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Hajtás, szármódosulá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spárga, karaláb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Gyökér, gyökérmódosulá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ernyősvirágúak, retek, torma, cék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öldségfélék csoportosítása élettartamuk szer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gyév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burgonyafélék, kabakosok, hüvelyesek, fejes saláta, csemegekuko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étév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ernyősvirágúak, káposz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Ével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spárga, hagymafélék, t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Times New Roman"/>
              </a:rPr>
              <a:t>Zöldségfajok géncentrumok szerinti csoportosítása (Vavilov szeri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67920"/>
            <a:ext cx="861048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érsékelt ö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Mediterrán térsé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áposztafélék, saláta, spá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Közép-Ázs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só, vöröshagyma, sárgaré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Közép-Kí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ínai kel, r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ópusi, szubtrópu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Ind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borka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jásgyümöl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Abesszín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örögdinn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Dél-Mexik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b, kuko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Dél-Amerik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prika, paradics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ertészet alapvető feladat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kosság kertészeti termékekkel való ellá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ari alapanyagok előál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nkaerő foglalkoz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ari termékek felhaszn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Zöldségnövények környezeti igény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é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 – fotoszintetikusan aktív sugár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sugárzás és tenyészidő összefügg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ényigény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dicsom, paprika, fűszer-paprika, dinnye, csemegekuko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ényigényes, de a szórt fényt is tűr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borka, b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vésbé fényigény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áposztafélék, borsó, sárgarépa, petrezselyem, saláta,  hagymafél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ény összetétel és a P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522360"/>
          <a:ext cx="9036000" cy="633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22360"/>
                    <a:ext cx="9036000" cy="63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0" t="0" r="17717" b="0"/>
          <a:stretch/>
        </p:blipFill>
        <p:spPr>
          <a:xfrm>
            <a:off x="0" y="774720"/>
            <a:ext cx="9144000" cy="5894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16200000">
            <a:off x="-177480" y="3425400"/>
            <a:ext cx="1176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Black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n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Blac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6165720"/>
            <a:ext cx="50328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A besugárzás hatása a saláta tenyészidejének hosszára 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(Glenn, 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952560"/>
          <a:ext cx="7238880" cy="590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52560"/>
                    <a:ext cx="72388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539640" y="911160"/>
          <a:ext cx="8425080" cy="595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911160"/>
                    <a:ext cx="84250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 paradicsom vetésétől a virágzásig eltelt idő  és a nappalhosszúság alakul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őmérsék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A hőmérséklet meghatározza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termeszthetőséget, vetés ill. ültetés idejét, </a:t>
            </a:r>
            <a:r>
              <a:rPr b="1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z életfolyamatok sebességét, </a:t>
            </a:r>
            <a:r>
              <a:rPr b="1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egyes fenológiai fázisok bekövetkezté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Zöldségnövények hőoptimum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hu-HU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áposztafélék, retek, t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hu-HU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árgarépa, petrezselyem, saláta, borsó, sóska, spenót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hu-HU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ékla, zeller, fokhagyma, póréhagyma, vöröshagyma, spá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hu-HU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aradicsom, sütőtök, bab, csemegekuko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hu-HU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aprika, sárgadinnye, görögdinnye, ubor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82520" y="433440"/>
          <a:ext cx="8780400" cy="599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433440"/>
                    <a:ext cx="8780400" cy="59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í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öldségnövények csoportosítása öntözési igényük alapj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rmesztéséhez öntözés feltétlenül szükség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borka, étkezési paprika, tojásgyümölcs, zeller, vöröshagyma (egyéves), zöldbab, sal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öntözés nélküli termesztése nagyon kockázato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dicsom, fűszerpaprika, dinnye, káposztafélék, csemegekukorica, (zöldbors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öntözés nélküli termesztése kevésbé kockázato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árgarépa, petrezselyem, vöröshagyma (kétév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la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Mechanikai összetétel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középkötött (homokos  vályog, vályogos homok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Szerkezet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- jó vízmegtartó képességű, nem cserepesedő, gyorsan meleged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Szervesanyagtartalom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- általában maga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pH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semleges illetve enyhén savanyú (5.8 - 7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Mésztartalom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1-2% CaCO3 tartalom, 5% felett ionantagoniz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Sótartalom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0.05% alatt ideális, 0.3% felett alkalma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Tápanyagtartalom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tápanyagban gazdag talaj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ápanyag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hu-HU" sz="32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vegetatív növekedés, termésmennyiség, tárolhatóság, betegségek, minőség (N/K arán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generatív folyamatok, gyökérképző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minőség (beltartalom, színanyagok)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ialakítása, tárolhatóság, betegség- és hidegtű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Ca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- nehezen felvehető, hiánytünete gyak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Mg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klorofill alkotóeleme, hiánytünete eléggé gyak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Mikroeleme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- életfolyamatok szabályozó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Times New Roman"/>
              </a:rPr>
              <a:t>Mezőgazda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Kertész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cc00"/>
                </a:solidFill>
                <a:latin typeface="Times New Roman"/>
              </a:rPr>
              <a:t>gyümölcstermeszté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cc00"/>
                </a:solidFill>
                <a:latin typeface="Times New Roman"/>
              </a:rPr>
              <a:t>szőlőtermeszté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cc00"/>
                </a:solidFill>
                <a:latin typeface="Times New Roman"/>
              </a:rPr>
              <a:t>zöldségtermeszté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cc00"/>
                </a:solidFill>
                <a:latin typeface="Times New Roman"/>
              </a:rPr>
              <a:t>gyógy- és aromanövény termeszté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cc00"/>
                </a:solidFill>
                <a:latin typeface="Times New Roman"/>
              </a:rPr>
              <a:t>dísznövénytermesz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cc00"/>
                </a:solidFill>
                <a:latin typeface="Times New Roman"/>
              </a:rPr>
              <a:t>táj- és kertépítészet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(gombatermeszté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(kertimag termesz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(palántanevelé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(faiskolai termeszté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0000"/>
                </a:solidFill>
                <a:latin typeface="Times New Roman"/>
              </a:rPr>
              <a:t>Zöldségfélék csoportosítása szervestrágyaigényük szer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szervestrágya igényese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aprika, fűszerpaprika, paradicsom, görögdinnye, uborka, káposztafélék, csemegekuko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szervestrágyát közvetlenül nem igényelne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gyökérzöldségfélék, levélzöldségfélék, vörös-hagyma, (zöldborsó, zöldb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telepítés előtt nagyobb adagot kapna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párga, rebarba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84692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II.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Zöldségfélék általános termesztéstechnológiá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 termesztéstechnológia főbb elem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907920"/>
            <a:ext cx="684072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erületvála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ajtavála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talajműv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tápanyagutánpót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szapor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növényápolás (öntözés, fitotechnika, növényvédelem,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betakar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áro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áruvá készí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lajművelési rendszer rész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66ff"/>
                </a:solidFill>
                <a:latin typeface="Times New Roman"/>
              </a:rPr>
              <a:t>alap talajművelé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- termékeny, gyomban szegény talajréteg kialak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66ff"/>
                </a:solidFill>
                <a:latin typeface="Times New Roman"/>
              </a:rPr>
              <a:t>vetés előtti talajelőkészíté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- jó vetőágy (aprómorzsás, ülepedett, sima, gyommentes) előál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66ff"/>
                </a:solidFill>
                <a:latin typeface="Times New Roman"/>
              </a:rPr>
              <a:t>növényápoló talajművelé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– megfelelő talajállapot fenntartása (talaj lazítása, gyomok irtá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Times New Roman"/>
              </a:rPr>
              <a:t>Tápanyagutánpótlási (trágyázási) rendszer elem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ágya megválasztás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szerves, szervet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ágyamennyiség meghatározás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feltöltő, tartalékoló, visszapótló, talajzsarol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ijuttatás módj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talajba: terítés, sor, fészek; lom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ágyázás időpontj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alap, indító, f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Times New Roman"/>
              </a:rPr>
              <a:t>Zöldségfélék tápanyagutánpótlásának jellegzetesség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610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Intenzívebb mint a szántóföldi növények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agyadagú szervestrágyázá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agyadagú műtrágyázá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ezo- és mikroelemek utánpótlása is jelentő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Vegetációs időben történő tápanyag-utánpótlás jelentő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nagy termelési érték lehetővé teszi beruházásigényes módszerek alkalmazását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zaporítási mód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getatív szapor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ív szapor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yrevetés – főbb paraméterei: időpont, magmennyiség, térállás, mély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lántanevelés – főbb paraméterei: módja, időtartama, kiültetés ide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zálas palá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álcás palá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ápkockás palánta (tűzdelt, tűzdeletl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tott palá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varos úton szaporított zöldségnövények jellemző szaporítási mód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izárólag helyrevet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sárgarépa, petrezselyem, zöldborsó, zöldb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ömében helyrevet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vöröshagyma, csemege-kuko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elyrevetés és palántázás is gyakor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uborka, fűszerpaprika, ipari paradics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ömében palántázv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saláta, káposztafélék, dinnyefélé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izárólag palántázv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étkezési paprika, tojásgyümölcs, ze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öldségtermesztésben alkalmazott öntözési cél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848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ajművelést könnyítő előöntö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ajátmosó öntö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dvességtároló öntö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lesztő öntö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zapoló öntö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zpótló öntö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ágyázó öntö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issítő öntö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árásító öntö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gy elleni öntö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Öntözési mód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Esőszerű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– legelterjedtebb, legtöbb öntözési célra alkalmas; vízpazarló, talaj- és növényromboló le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Csepegtető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– drága(?), kevés öntözési célra alkalmas; víztakarékos, precíz kijuttatást tesz lehető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Felületi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(barázdás, árasztó) – vízpazarló, nehezen szabályozható; kivitelezése viszonylag olcs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Altalaj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– kivitelezése nehéz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ertészet általános jellemző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z agrárgazdaság talán legsokoldalúbb és legsokszínűbb főágaz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ogyasztás volumene szoros kapcsolat-ban áll az életszínvonall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iemelkedően munkaigén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eruházási igénye és bruttó termelési értéke na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iemelkedő szerep a vidéki lakosság foglalkozta-tásában és jövedelmi színvonal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erepe van az emberi környezet alakításá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Times New Roman"/>
              </a:rPr>
              <a:t>Fitotechnika</a:t>
            </a:r>
            <a:r>
              <a:rPr b="1" lang="hu-H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416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on műveletek összessége amelyeket közvetlenül a növényekkel végzü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ögzí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övényi részek eltávolítása (metszés, termésritkít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ékenyülés előseg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résgyors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lvány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b05"/>
                </a:solidFill>
                <a:latin typeface="Arial"/>
              </a:rPr>
              <a:t>Betakarí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gy kézimunka- illetve gépigényű művelet, meghatározó költségtényez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Érettség kérdé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biológiai ill. technológiai érett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takarítás idejének megállapítása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zubjektív illetve objektív módsze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takarítási mód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gyszeri vagy többszö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ézi - kézi ill. gépi gyűj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pi - ásó, nyüvő, vágó ill. fésülő rendszer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pi - egymenetes ill. többmen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árol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redményességét meghatározz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j- és faj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esztéstechnoló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örnyezeti tényező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etárolt termény „állapot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árolási körülmények, tárolási mó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2880" y="761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árolási módo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árkos v. barázd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zm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úlás, szalmabá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me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ároló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űtőtáro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zabályozott légterű táro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b05"/>
                </a:solidFill>
                <a:latin typeface="Arial"/>
              </a:rPr>
              <a:t>Áruvá készí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6784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eszteni bárki tud, eladni a művész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áloga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szt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sztályo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80520" y="41144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somago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öngyölegek, csomagolás típ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ltüntetendő informáci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0b05"/>
                </a:solidFill>
                <a:latin typeface="Arial"/>
              </a:rPr>
              <a:t>IV. Főbb zöldségtermesztési mód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zabadföldi zöldségtermesz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isspiaci célú termesz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Korai termeszté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cél a koraiság fok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b05"/>
                </a:solidFill>
                <a:latin typeface="Arial"/>
              </a:rPr>
              <a:t>Nagybani piaci árak alakulása (1998)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90720"/>
          <a:ext cx="4557600" cy="58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4557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556160" y="1066680"/>
          <a:ext cx="4587840" cy="5791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56160" y="1066680"/>
                    <a:ext cx="4587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0b05"/>
                </a:solidFill>
                <a:latin typeface="Arial"/>
              </a:rPr>
              <a:t>IV. Főbb zöldségtermesztési mód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zabadföldi zöldségtermesz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isspiaci célú termesz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Korai termeszté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cél a koraiság fok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őleges takarási módszerek (síkfóliás takarás, váznélküli takarás, fóliaalagut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jlett palánták kiülte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övid tenyészidejű fajták haszná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zabadföldi zöldségtermesz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cc00"/>
                </a:solidFill>
                <a:latin typeface="Times New Roman"/>
              </a:rPr>
              <a:t>Intenzív szabadföldi termeszté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–a mennyiség és a minőség maximalizál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Intenzív technológiai elemek: talajtakaró fóliák, időleges takarás, csepegtető öntözőrendszer, tápoldatozás, támrendszer, fitotechnika, integrált növényvéde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cc00"/>
                </a:solidFill>
                <a:latin typeface="Times New Roman"/>
              </a:rPr>
              <a:t>Tömegtermesztés –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öltségek alacsonyan tartása mellett megfelelő mennyiségű és minőségű áru előál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zabadföldi zöldségtermesz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Tárolási célú termesztés</a:t>
            </a: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– cél jól tárolható termény előállítása olcs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ömegtermesztési technológia, zömében gépi betakar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ápanyagutánpótlás (N, K), öntözés, betakarítás-kor sérülés elkerülése kulcsfontosság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Feldolgozóipari célú termesztés</a:t>
            </a: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ömegtermesztési technológia, teljesen gépi művelés, gépi betakarítás (kivétel konzervubor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öldséghajta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Zöldségfélék zárt térben történő, többnyire a szabadföldi termesztési időszakon kívüli termesz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agy költségigény: termesztőberendezés, (fűtés), intenzív technológia (fejlett palánták, csepegtető öntözés, tápoldatozás, talaj nélküli termesztés, fitotechnika, biológiai növényvédel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él a termesztőlétesítmény minél jobb kihasználása – alapvetően függ a fűtési szinttő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asznosítási rendszerek kérd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ertészeti termesztés jelentősége Magyarország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MKT, MZGYT 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ertészeti növények termesztésével  hasznosított </a:t>
            </a:r>
            <a:r>
              <a:rPr b="1" lang="hu-HU" sz="3200" spc="-1" strike="noStrike">
                <a:solidFill>
                  <a:srgbClr val="ff0000"/>
                </a:solidFill>
                <a:latin typeface="Times New Roman"/>
              </a:rPr>
              <a:t>terület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kb. </a:t>
            </a:r>
            <a:r>
              <a:rPr b="1" lang="hu-HU" sz="3200" spc="-1" strike="noStrike">
                <a:solidFill>
                  <a:srgbClr val="ff0000"/>
                </a:solidFill>
                <a:latin typeface="Times New Roman"/>
              </a:rPr>
              <a:t>340 ezer ha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ami az összes mező-gazdasági terület </a:t>
            </a:r>
            <a:r>
              <a:rPr b="1" lang="hu-HU" sz="3200" spc="-1" strike="noStrike">
                <a:solidFill>
                  <a:srgbClr val="ff0000"/>
                </a:solidFill>
                <a:latin typeface="Times New Roman"/>
              </a:rPr>
              <a:t>6%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kertészeti főágazat éves termelési </a:t>
            </a:r>
            <a:r>
              <a:rPr b="1" lang="hu-HU" sz="3200" spc="-1" strike="noStrike">
                <a:solidFill>
                  <a:srgbClr val="ff0000"/>
                </a:solidFill>
                <a:latin typeface="Times New Roman"/>
              </a:rPr>
              <a:t>érté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e kb. </a:t>
            </a:r>
            <a:r>
              <a:rPr b="1" lang="hu-HU" sz="3200" spc="-1" strike="noStrike">
                <a:solidFill>
                  <a:srgbClr val="ff0000"/>
                </a:solidFill>
                <a:latin typeface="Times New Roman"/>
              </a:rPr>
              <a:t>440 Mrd. Ft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ami az összes mezőgazdasági termelési érték </a:t>
            </a:r>
            <a:r>
              <a:rPr b="1" lang="hu-HU" sz="3200" spc="-1" strike="noStrike">
                <a:solidFill>
                  <a:srgbClr val="ff0000"/>
                </a:solidFill>
                <a:latin typeface="Times New Roman"/>
              </a:rPr>
              <a:t>19%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kertészeti főágazat évi </a:t>
            </a:r>
            <a:r>
              <a:rPr b="1" lang="hu-HU" sz="3200" spc="-1" strike="noStrike">
                <a:solidFill>
                  <a:srgbClr val="ff0000"/>
                </a:solidFill>
                <a:latin typeface="Times New Roman"/>
              </a:rPr>
              <a:t>export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ja kb. 170 millió Euro ami az összes mezőgazdasági export </a:t>
            </a:r>
            <a:r>
              <a:rPr b="1" lang="hu-HU" sz="3200" spc="-1" strike="noStrike">
                <a:solidFill>
                  <a:srgbClr val="ff0000"/>
                </a:solidFill>
                <a:latin typeface="Times New Roman"/>
              </a:rPr>
              <a:t>24%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0000"/>
                </a:solidFill>
                <a:latin typeface="Times New Roman"/>
              </a:rPr>
              <a:t>Termesztőberendezés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Célju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védelem külső környezeti tényezőktől </a:t>
            </a:r>
            <a:r>
              <a:rPr b="1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belső környezeti tényezők szabályozása (T, rh%, fény, C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ΔT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belső és a külső hőmérséklet között maximálisan elérhető különb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Üvegház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– drága, blokkos elrendezés, teljes fűtés (ΔT = 30-35 °C), automatizált klímaszabályozás, egész éves hasznosítás, hosszú élettart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Műanyag borítású növényház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– blokkos elrendezés, nagy légtér, automatizált klímaszabályozás, kétrétegű fólia, zömében fűtöt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0000"/>
                </a:solidFill>
                <a:latin typeface="Times New Roman"/>
              </a:rPr>
              <a:t>Termesztőberendezés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óliasát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általában egyhajós elrendezés, viszonylag olcsó, rövidebb élettartam, klímaszabályozhatósága rossz, van kis- és nagylégterű változata is, zömében fűtetle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óliaá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kislégterű (2-3 m széles, 70-80 cm magas), nehézkes munkavégzés, fűtet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óliaalagú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kislégterű (1 m széles, 0.5 m magas), fűtetlen, csak kisméretű növények teljes idejű hajtatására alkal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öldségnövények feldolgozá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élyfagyasz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onzerválás – savanyí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árítmány (örlemény) készí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Ivólé, sűrítmény előál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Zöldségtermeszté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057400"/>
            <a:ext cx="83170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.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Zöldségtermesztés általános jellemzé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 zöldségfélé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ágyszárú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nzív művelést kívánó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yersen vagy feldolgozva emberi táplálékul szolgáló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gy biológiai értékű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k vitamint, ásványi sót, íz- és zamatanyagokat tartalmaz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övénye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8:41:47Z</dcterms:created>
  <dc:creator>ombi</dc:creator>
  <dc:description/>
  <dc:language>en-US</dc:language>
  <cp:lastModifiedBy>Attila</cp:lastModifiedBy>
  <cp:lastPrinted>2003-01-16T14:35:20Z</cp:lastPrinted>
  <dcterms:modified xsi:type="dcterms:W3CDTF">2005-02-15T13:44:10Z</dcterms:modified>
  <cp:revision>101</cp:revision>
  <dc:subject/>
  <dc:title>Present situation and future of the Hungarian horticulture</dc:title>
</cp:coreProperties>
</file>