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BE6-6A7C-4D8D-BCEC-1984B032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104-9044-4981-96C4-A53AE142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69B-7849-42BA-8456-31B23F7B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4B0-6858-4F0F-8EF5-B1D139DB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200-8378-494E-90CA-7D1190C6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8F1-5EDD-4F00-ACC1-4FB6E93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B7F-2A53-4A29-BE10-74FF5002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F73-4C2B-462A-953D-EFD091A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968-ECAC-4FDB-B0A5-B326D2D4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BFC-C6F5-485C-AE5A-53262A6B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428-D9C0-46A4-83A1-B2574987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880-AFCB-4418-BFBD-160A1797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4A0-6D09-4306-A605-CA4E19D63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ümölcstermesz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ágrügyek differenciálódása, gyümölcsfajokra jellemző termőrész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alakulás helye, ideje, befolyásoló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ágzás és termékenyü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ágzás fenofázi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Önmeddő, öntermék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armegporzás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élporoz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jtatár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porzási feltéte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yümölcs fejlődése és ér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övek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Érés, utóé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ó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m utó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ilénterm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imaktérikus gyümölcs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klimaktérikus gyümölcs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yümölcsminősé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gyasztásra, feldolgozhatóságra való alkalmas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kai alap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 termőhely adottság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ermesztéstechnológiai eljá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yümölcsök beltarta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árolhatóság és hosszan pulton tarthatósá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Ültetvénylétesít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őhely megválaszt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adottsá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gazdasági viszonyok, infrastruktú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j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űvelé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ál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Korona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ítés előtti munk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mesztéstechnológ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ajműv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szés és metszést kiegészítő eljá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kító mets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bantartó metsz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ümölcsritkít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ntö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panyagellá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övényvéde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zür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ésbecs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zív ültetvényekben kézi szüret – jelentős költ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ly logisztikai munka (szedőedények, konténerek, beszállítás, erőgépek szervezése stb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züret idej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k meghatározás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őrejelző módsz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yors móds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boratóriumi mér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árol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l a gyümölcsök életfolyamatainak lassítása a gyümölcs megóvása melle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áltozatlan légter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ároló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zabályozott légterű tároló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yümölcs felületének kezelés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ruvá készítés, értékesíté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jelenlegi magyar gyümölcstermesztés legszűkebb keresztmetszetét a bizonytalan értékesítési lehetőségek jelen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orgalmazás meghatározó helyeivé az élelmiszerforgalmazó nagyáruházak vál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yümölcs külleme mellett egyre hangsúlyosabb a csomagolása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őségellenőrző védjegy és eredetjelö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rtlehetőségek mellett rendkívül nagy hangsúlyt fektetnek a belföldi fogyasztásuk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yümölcsfajok termeszté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ma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lus domestic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örte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yrus commun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yümölcstermesztés jelentősé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plálék előállít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s felületen nagy termelési érté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as és folyamatos kézimunkaerő igé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j technológiák, környezet védel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enyképes magyar gyümölcstermeszt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005360"/>
            <a:ext cx="0" cy="107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s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ydonia oblong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eresznye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rasus avi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ggy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rasus vulgar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Őszibarack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sica vulgar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ajszi 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Armeniaca vulgaris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zilva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unus domestic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ó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uglans reg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zelídgesztenye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stanea sativ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gyoró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dula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ygdalus commun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rállás és korona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mzetközi hely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nagyobb mennyiségben a citrusfélék, ezt követi a banán, harmadik helyen az alma és a szőlő á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nkább dinamikus növekedés Ázsiában (elsősorban Kína), és Dél Amerikában jellemző, a közeljövőben nem követi a fogyasztás hasonló mértékű növeked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lág gyümölcstermesztésében vezető országok Kína, India, Brazí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ópa három legnagyobb gyümölcstermesztője: Olaszország, Franciaország, Spanyolorszá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amóca 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Fragaria ananass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Duch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érállás és művelé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álna 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érállás és művelé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eder 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Rubus caesius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érállás és művelé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öszméte 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Ribes uva-crispum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érállás és művelé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Feketeribiszke (</a:t>
            </a: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Ribes nigrum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Pirosribiszke (</a:t>
            </a: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Ribes rubrum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 L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rmazása, termesztése a Világban és Magyarorszá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kológiai ig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ny- és fajta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érállás és művelés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ológia (metszés, öntözés, tápanyagellátás, növényvéde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et, 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gyar múlt és jel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hazai árugyümölcs termesztés a XX. században alakult k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z I. világháború utáni területveszteség hazánkban gyümölcshiányt eredményeze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llami támogatással nagy felületen gyümölcsültetvényeket létesítette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lentős gyümölcstermesztési körzetek: Duna-Tisza köze, Kelet Magyarország, Délnyugat-Dunántú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m a jövedelmezőség, hanem szociális megfontoltság alapján jelölték k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ossz adottságú talajok alkalmatlanok voltak jövedelmező termesztés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zárólag olyan területen lehet jövedelmező, ahol a kedvező talajtani és klimatikus adottságok adotta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fejlődés tendenci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iss fogyasztásra alkalmas gyümölcsöt szinte kizárólag intenzív ültetvényekben állítják el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rnyezetkímélő gyümölcstermesztési technológiák (integrált, ökológiai) dinamikus terjed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esztéstechnológia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imális termésbiztonsá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rányába változ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ültetvényeket kizáról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iváló ökológiai adottsá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 területeken hozzák lé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yümölcs begyűjtését, értékesítését akár több ezer hektár ültetvényfelületet integráló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értékesítő szervezet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ordináljá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yümölcsértékesítés meghatározó helyei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zu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llet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permarket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ihívások és lehetőségek a globalizálódó piac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világon megtermelt összes gyümölcs kb. 30%-a ipari feldolgozásra kerü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feldolgozott termékek tárolása, szállítása nem jelent problémát, ezért ezekkel a termékekkel valószínűleg nem lehetünk versenyképese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nehezebben szállítható friss fogyasztásra alkalmas kiváló minőségű, ízlésesen csomagolt termékek értékesítése lehet versenykép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agyarországi gyümölcstermesztés jelenleg legnagyobb nehézségét a piac szervezetlensége jelen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legtöbb termesztő értékesítési nehézségekkel küz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lóban működő közös értékesítő szervezet, amelyekkel partnerek lehetnek a nagy gyümölcsforgalmazó áruházakkal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gyümölcsfogyasztás jelentősége a táplálkozásb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éhány éve még 90 kg/fő/év fölötti fogyasztást prognosztizált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4 évi adatok azonban alig haladják meg a tíz évvel ezelőtti 60-70 kg/fő/év érté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oxidánsok, vitaminok, pektin, rosttarta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rendszer erősítése, szív- és érrendszeri, valamint daganatos megbetegedések megelőz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nta minimum 250-300 gramm gyümölcs elfogyasztása javaso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hazánkban termesztett gyümölcsfajok csoportosítá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és alakulása sze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magyümölcsű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onthéj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yümölcsű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gyós gyümölcsű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éjas gyümölcsű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alakulás sze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erj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élcserj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ágyszárú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yümölcsfajok alaktani és biológiai tényező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foló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yökér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őgyökér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árulékos gyökér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jtás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ügy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jtásrügyek, termőrügyek, vegyesrügy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9:34:34Z</dcterms:created>
  <dc:creator>Dremák Péter</dc:creator>
  <dc:description/>
  <dc:language>en-US</dc:language>
  <cp:lastModifiedBy>Dremák Péter</cp:lastModifiedBy>
  <dcterms:modified xsi:type="dcterms:W3CDTF">2006-09-18T09:33:50Z</dcterms:modified>
  <cp:revision>17</cp:revision>
  <dc:subject/>
  <dc:title>Gyümölcstermesztés</dc:title>
</cp:coreProperties>
</file>