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B27-DB11-4D30-9630-7D791DE2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909-E965-4F8D-8325-B402C2F0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F43-9A3F-418A-9DBA-4E522736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D49-9EC0-4ACE-AEB1-609ABD8F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210-DCB1-4A85-B528-B4FB2C0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0D2-F4D8-4F3B-94D3-51B673B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0AE-5542-4B1A-AEA2-5F2A7CB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518-41F4-4E6A-B5E7-8AB9EBD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9B6-DA8D-4D62-91D6-C06E78A1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201-2072-430C-B6B0-3BE03A2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DEF-491C-46FB-9D53-6C29B04B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948-2349-4D86-B44B-92125B8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5A9D-28AD-4BA3-8EAC-72F9A9FF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újuló energi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őszivatt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7280" y="1052640"/>
            <a:ext cx="8532720" cy="5008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89040" y="5990400"/>
            <a:ext cx="406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hőszivattyú működési e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za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6840360" cy="57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88000" y="1343160"/>
            <a:ext cx="25560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iomassza alapú vég- illetve hasznos energia jellemző előállítási láncainak vázlatos felépíté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200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za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53760" y="5299560"/>
            <a:ext cx="645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 szilárd biomassza közvetlen hőhasznosítá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555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omassza I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917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övényolaj-tartalmú magvak energetikai célú felhasználásának alapfolyamata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omassza IV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5519520" cy="5851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72360" y="22068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 ipari etanol-előállítás folyam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omassza V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349" t="0" r="6120" b="0"/>
          <a:stretch/>
        </p:blipFill>
        <p:spPr>
          <a:xfrm>
            <a:off x="0" y="765000"/>
            <a:ext cx="601200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20581" t="-23736" r="20767" b="0"/>
          <a:stretch/>
        </p:blipFill>
        <p:spPr>
          <a:xfrm>
            <a:off x="0" y="2421000"/>
            <a:ext cx="572436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5480" t="0" r="1571" b="0"/>
          <a:stretch/>
        </p:blipFill>
        <p:spPr>
          <a:xfrm>
            <a:off x="0" y="4005360"/>
            <a:ext cx="5580000" cy="136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6120" y="6020280"/>
            <a:ext cx="477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iogázeljárás fő folyamattípusa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1160" y="119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Szakaszos (batch) eljárás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78520" y="2923560"/>
            <a:ext cx="31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lyamatos (átfolyós) eljár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9240" y="41490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ározó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jár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8360" y="4581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a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lőtartály (előgödö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b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othasztótartá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c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árolótartá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d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óliasá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e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időjárás elleni védel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f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tfoly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egújuló energiaforrások rendszer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857160"/>
            <a:ext cx="8209080" cy="526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6296760"/>
            <a:ext cx="752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egújuló energiafajták hasznosításának lehetősége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Napenergia hasznosítása I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17874"/>
          <a:stretch/>
        </p:blipFill>
        <p:spPr>
          <a:xfrm>
            <a:off x="611280" y="1341360"/>
            <a:ext cx="7848360" cy="403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9560" y="5558400"/>
            <a:ext cx="702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A fototermikus napenergia hasznosítás elvi vázlata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43962" b="29308"/>
          <a:stretch/>
        </p:blipFill>
        <p:spPr>
          <a:xfrm>
            <a:off x="468360" y="1197000"/>
            <a:ext cx="7775640" cy="388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apenergia hasznosítása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9400" y="5515560"/>
            <a:ext cx="52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Egy napelemcella általános felépítés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apenergia hasznosítása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82000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5400" y="4435920"/>
            <a:ext cx="751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zigetüzem és a hálózatra kapcsolt üzem elvi vázl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032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zélenergia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13000" y="5702760"/>
            <a:ext cx="69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strukciók a soklapátosoktól az egylapátosoki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4092" t="0" r="15598" b="15180"/>
          <a:stretch/>
        </p:blipFill>
        <p:spPr>
          <a:xfrm>
            <a:off x="1619280" y="981000"/>
            <a:ext cx="6481800" cy="4326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zélenergia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83200" y="5444280"/>
            <a:ext cx="643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előterületen alkalmazott vízhúzó szélmo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80428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élmotor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ivattyú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vitációs tárolótartály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inttartásos itatóvályú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úlnyomásos tárolótartály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inttartásos itatóvály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776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ízener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7400" y="4580640"/>
            <a:ext cx="673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s-, közepes és nagyesésű vízerőművek vázl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otermikus energ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24640" y="5228280"/>
            <a:ext cx="713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geometrikus energia többlépcsős hőkihasználá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69808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áztalanító és tároló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ülepítők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övényházi légtérhűtés (első lépcső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övényházi légtérhűtés (második lépcső)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óliasátor légtérhűté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alaj- vagy vegetációs fűt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20:07Z</dcterms:created>
  <dc:creator>tothi</dc:creator>
  <dc:description/>
  <dc:language>en-US</dc:language>
  <cp:lastModifiedBy> </cp:lastModifiedBy>
  <dcterms:modified xsi:type="dcterms:W3CDTF">2006-05-11T14:29:19Z</dcterms:modified>
  <cp:revision>6</cp:revision>
  <dc:subject/>
  <dc:title>Megújuló energiák</dc:title>
</cp:coreProperties>
</file>