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jpeg" ContentType="image/jpeg"/>
  <Override PartName="/ppt/media/image18.png" ContentType="image/png"/>
  <Override PartName="/ppt/media/image19.png" ContentType="image/png"/>
  <Override PartName="/ppt/media/image21.png" ContentType="image/png"/>
  <Override PartName="/ppt/media/image20.wmf" ContentType="image/x-wmf"/>
  <Override PartName="/ppt/media/image2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113F-4C50-490F-BED3-C7E0B7AF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4817-3B1B-44B3-8ABD-A8E00698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0DD1-E9E4-412E-9D72-FE5F201E9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84A6-F413-462D-B738-7F7C1B092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0701-7443-4F59-B8D6-1545061A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0A13-BF9B-438D-A69A-DDE7DADE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BE60-065F-4002-BCBB-A839DE80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CF52-7498-4531-BC6D-7CD18141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3FB7-CF69-4818-9B76-D440837B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1D57-C9B5-49D0-8129-0436495F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5551-BA9E-458A-8749-243DDF4A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EE4A-3A47-4929-8C9E-0DA29BA7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3735-08F8-4BCA-B47B-B539F54BE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övénytermesztés gép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68360" y="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Növényvédelem gépei I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55640" y="620640"/>
          <a:ext cx="7561440" cy="486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20640"/>
                    <a:ext cx="756144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2274120" y="5444280"/>
            <a:ext cx="502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növényvédelmi gép elvi felépíté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78916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66"/>
                </a:solidFill>
                <a:latin typeface="Arial"/>
              </a:rPr>
              <a:t>1.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permetlétartály, </a:t>
            </a:r>
            <a:r>
              <a:rPr b="1" lang="hu-HU" sz="1600" spc="-1" strike="noStrike">
                <a:solidFill>
                  <a:srgbClr val="ff0066"/>
                </a:solidFill>
                <a:latin typeface="Arial"/>
              </a:rPr>
              <a:t>2.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beöntőszűrő, </a:t>
            </a:r>
            <a:r>
              <a:rPr b="1" lang="hu-HU" sz="1600" spc="-1" strike="noStrike">
                <a:solidFill>
                  <a:srgbClr val="ff0066"/>
                </a:solidFill>
                <a:latin typeface="Arial"/>
              </a:rPr>
              <a:t>3.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permetlékeverő, </a:t>
            </a:r>
            <a:r>
              <a:rPr b="1" lang="hu-HU" sz="1600" spc="-1" strike="noStrike">
                <a:solidFill>
                  <a:srgbClr val="ff0066"/>
                </a:solidFill>
                <a:latin typeface="Arial"/>
              </a:rPr>
              <a:t>4.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szívószűrő, </a:t>
            </a:r>
            <a:r>
              <a:rPr b="1" lang="hu-HU" sz="1600" spc="-1" strike="noStrike">
                <a:solidFill>
                  <a:srgbClr val="ff0066"/>
                </a:solidFill>
                <a:latin typeface="Arial"/>
              </a:rPr>
              <a:t>5.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permetlészivattyú,</a:t>
            </a:r>
            <a:br>
              <a:rPr sz="1600"/>
            </a:br>
            <a:r>
              <a:rPr b="1" lang="hu-HU" sz="1600" spc="-1" strike="noStrike">
                <a:solidFill>
                  <a:srgbClr val="ff0066"/>
                </a:solidFill>
                <a:latin typeface="Arial"/>
              </a:rPr>
              <a:t>6.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elosztócsap, </a:t>
            </a:r>
            <a:r>
              <a:rPr b="1" lang="hu-HU" sz="1600" spc="-1" strike="noStrike">
                <a:solidFill>
                  <a:srgbClr val="ff0066"/>
                </a:solidFill>
                <a:latin typeface="Arial"/>
              </a:rPr>
              <a:t>7.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szántóföldi szórórúd, </a:t>
            </a:r>
            <a:r>
              <a:rPr b="1" lang="hu-HU" sz="1600" spc="-1" strike="noStrike">
                <a:solidFill>
                  <a:srgbClr val="ff0066"/>
                </a:solidFill>
                <a:latin typeface="Arial"/>
              </a:rPr>
              <a:t>8.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fapermetező szerelvény, </a:t>
            </a:r>
            <a:r>
              <a:rPr b="1" lang="hu-HU" sz="1600" spc="-1" strike="noStrike">
                <a:solidFill>
                  <a:srgbClr val="ff0066"/>
                </a:solidFill>
                <a:latin typeface="Arial"/>
              </a:rPr>
              <a:t>9.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szórópisztoly, </a:t>
            </a:r>
            <a:r>
              <a:rPr b="1" lang="hu-HU" sz="1600" spc="-1" strike="noStrike">
                <a:solidFill>
                  <a:srgbClr val="ff0066"/>
                </a:solidFill>
                <a:latin typeface="Arial"/>
              </a:rPr>
              <a:t>10.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légü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66"/>
                </a:solidFill>
                <a:latin typeface="Arial"/>
              </a:rPr>
              <a:t>11.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nyomásszabályozó szelep, </a:t>
            </a:r>
            <a:r>
              <a:rPr b="1" lang="hu-HU" sz="1600" spc="-1" strike="noStrike">
                <a:solidFill>
                  <a:srgbClr val="ff0066"/>
                </a:solidFill>
                <a:latin typeface="Arial"/>
              </a:rPr>
              <a:t>12.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ventilátor, </a:t>
            </a:r>
            <a:r>
              <a:rPr b="1" lang="hu-HU" sz="1600" spc="-1" strike="noStrike">
                <a:solidFill>
                  <a:srgbClr val="ff0066"/>
                </a:solidFill>
                <a:latin typeface="Arial"/>
              </a:rPr>
              <a:t>13.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portartály, </a:t>
            </a:r>
            <a:r>
              <a:rPr b="1" lang="hu-HU" sz="1600" spc="-1" strike="noStrike">
                <a:solidFill>
                  <a:srgbClr val="ff0066"/>
                </a:solidFill>
                <a:latin typeface="Arial"/>
              </a:rPr>
              <a:t>14.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poradagoló, </a:t>
            </a:r>
            <a:r>
              <a:rPr b="1" lang="hu-HU" sz="1600" spc="-1" strike="noStrike">
                <a:solidFill>
                  <a:srgbClr val="ff0066"/>
                </a:solidFill>
                <a:latin typeface="Arial"/>
              </a:rPr>
              <a:t>15.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porlazító,</a:t>
            </a:r>
            <a:br>
              <a:rPr sz="1600"/>
            </a:br>
            <a:r>
              <a:rPr b="1" lang="hu-HU" sz="1600" spc="-1" strike="noStrike">
                <a:solidFill>
                  <a:srgbClr val="ff0066"/>
                </a:solidFill>
                <a:latin typeface="Arial"/>
              </a:rPr>
              <a:t>16.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favédelmi fúvócső, </a:t>
            </a:r>
            <a:r>
              <a:rPr b="1" lang="hu-HU" sz="1600" spc="-1" strike="noStrike">
                <a:solidFill>
                  <a:srgbClr val="ff0066"/>
                </a:solidFill>
                <a:latin typeface="Arial"/>
              </a:rPr>
              <a:t>17.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szántóföldi porozócs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68360" y="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Növényvédelem gépei II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692280"/>
          <a:ext cx="630072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92280"/>
                    <a:ext cx="630072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6262560" y="1051560"/>
            <a:ext cx="28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Permetezőgép-szórószerkezet megoldások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2507400"/>
            <a:ext cx="313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a.)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íkszóró</a:t>
            </a:r>
            <a:r>
              <a:rPr b="0" lang="hu-HU" sz="1800" spc="-1" strike="noStrike">
                <a:solidFill>
                  <a:srgbClr val="ff0066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b.)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evél alá permetező,</a:t>
            </a: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c.)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ávpermetező,</a:t>
            </a: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d.)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orkultúra-permetező,</a:t>
            </a:r>
            <a:br>
              <a:rPr sz="1800"/>
            </a:b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e.)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őlő- és gyümölcs permetező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f.)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zi szórópisztoly,</a:t>
            </a: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g.)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toldali szóróíves,</a:t>
            </a:r>
            <a:br>
              <a:rPr sz="1800"/>
            </a:b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h.)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eresztáramlásos,</a:t>
            </a: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i.)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állítható fúvócsöv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j.)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orpermetező,</a:t>
            </a: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66"/>
                </a:solidFill>
                <a:latin typeface="Arial"/>
              </a:rPr>
              <a:t>k.)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állítható fúvókacsopor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Öntözés géprendszere I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20120" cy="39290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417040" y="5053680"/>
            <a:ext cx="426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sévélhető öntözőberendezé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9528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Öntözés géprendszere II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6567" t="0" r="7477" b="0"/>
          <a:stretch/>
        </p:blipFill>
        <p:spPr>
          <a:xfrm>
            <a:off x="0" y="1484280"/>
            <a:ext cx="9144000" cy="2671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346480" y="4580640"/>
            <a:ext cx="483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Lineár esőztető öntözőberendezé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Szálastakarmányok betakarításának gépei I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2290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24680" y="5012280"/>
            <a:ext cx="572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z alternáló kasza vágószerkezet típusa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37920" y="5444280"/>
            <a:ext cx="59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rmál vágású,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özép vágású,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só vágás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Szálastakarmányok betakarításának gépei II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292880" cy="4505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847240" y="5515560"/>
            <a:ext cx="341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tációs vágószerkez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3943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274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Szálastakarmányok betakarításának gépei III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21400" y="5444280"/>
            <a:ext cx="328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olygóvillás rendterítő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274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Szálastakarmányok betakarításának gépei IV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8459640" cy="39891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48280" y="5515560"/>
            <a:ext cx="813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bolygóvillás rendkezelő kialakítása, beállítási lehetősége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98840" y="5949000"/>
            <a:ext cx="74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ét rend készítése,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gy rend készítése,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nd szétterít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95280" y="1484280"/>
          <a:ext cx="8209080" cy="29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84280"/>
                    <a:ext cx="8209080" cy="29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0" y="274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Szálastakarmányok betakarításának gépei V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91960" y="5012280"/>
            <a:ext cx="3394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áltozó présterű bálázó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274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Szálastakarmányok betakarításának gépei VI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0" y="1341360"/>
          <a:ext cx="8604360" cy="32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8604360" cy="32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2705040" y="4910760"/>
            <a:ext cx="3411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Állandó présterű báláz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116000" y="692280"/>
          <a:ext cx="6696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692280"/>
                    <a:ext cx="6696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2556000" y="5228280"/>
            <a:ext cx="388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z eke általános felépíté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736240"/>
            <a:ext cx="83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1.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csoroszlya, </a:t>
            </a: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2.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szántóvas, </a:t>
            </a: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3.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ormánylemez, </a:t>
            </a: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4.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ekenád, </a:t>
            </a: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5.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csúszótalp, </a:t>
            </a: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6.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ormánylemez-toldat, </a:t>
            </a: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7.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előhántó, </a:t>
            </a: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8.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altalajlazító, </a:t>
            </a: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9.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eketörz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10.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gerende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Talajművelő gépek I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6516720" cy="47322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274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Szálastakarmányok betakarításának gépei VII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59640" y="3067560"/>
            <a:ext cx="216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bos rendszerű szecskázó-szerkeze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Gabona betakarítás gépei I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0" y="620640"/>
          <a:ext cx="9144000" cy="540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20640"/>
                    <a:ext cx="9144000" cy="540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281400" y="6134760"/>
            <a:ext cx="2462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ató-cséplőgé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26028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Gabona betakarítás gépei II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403280" y="981000"/>
          <a:ext cx="6264360" cy="397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981000"/>
                    <a:ext cx="6264360" cy="39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3350880" y="5156640"/>
            <a:ext cx="244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séplőszerkeze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37920" y="5702760"/>
            <a:ext cx="60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lőverő,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séplődob,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bkosár,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tóverő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zalmarázó,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őfogó vályú,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7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ngő fenéklem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1125360"/>
          <a:ext cx="8424720" cy="437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25360"/>
                    <a:ext cx="8424720" cy="437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3352320" y="5659920"/>
            <a:ext cx="2401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sőtörő adap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3336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Kukorica betakarítás gépei I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33336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Kukorica betakarítás gépei II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84360" y="1197000"/>
          <a:ext cx="7200720" cy="37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97000"/>
                    <a:ext cx="7200720" cy="37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3062520" y="5198040"/>
            <a:ext cx="285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sztás elvi vázlat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33336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Cukorrépa betakarítás gépei I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692360" y="1052640"/>
          <a:ext cx="554364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052640"/>
                    <a:ext cx="554364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1625040" y="5228280"/>
            <a:ext cx="5946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Tapogatótárcsás állókéses fejezőszerkeze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33336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Cukorrépa betakarítás gépei II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547640" y="1197000"/>
          <a:ext cx="5832720" cy="39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197000"/>
                    <a:ext cx="5832720" cy="39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625760" y="5444280"/>
            <a:ext cx="605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Ferdetengelyű forgótárcsás fejezőszerkeze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280360" cy="3751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0" y="33336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Cukorrépa betakarítás gépei III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08680" y="5299560"/>
            <a:ext cx="634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Többlécsős, marós rendszerű fejezőszerkeze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5760" y="5660280"/>
            <a:ext cx="83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1.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lengőkéses maró, </a:t>
            </a: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2.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levélkihordó csiga, </a:t>
            </a: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3.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tisztítórotor, </a:t>
            </a: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4.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finomfejező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33336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Cukorrépa betakarítás gépei IV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1197000"/>
          <a:ext cx="651672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65167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6659640" y="1195920"/>
            <a:ext cx="216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korrépa kiszedő berendezése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659640" y="2566080"/>
            <a:ext cx="223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üskés passzív,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úpos hajtot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ésés kiásó passzív tartószáras,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éses kiásó aktív mozgatott tartószár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jtott küllős tárcsá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f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ömbsüveg-tárcs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333360"/>
            <a:ext cx="914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Burgonya betakarítás gépei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0" y="907920"/>
          <a:ext cx="9144000" cy="430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43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3207960" y="5299560"/>
            <a:ext cx="2710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rgonyakombáj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572580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66"/>
                </a:solidFill>
                <a:latin typeface="Arial"/>
              </a:rPr>
              <a:t>1.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tapogató profilhenger, </a:t>
            </a:r>
            <a:r>
              <a:rPr b="1" lang="hu-HU" sz="1600" spc="-1" strike="noStrike">
                <a:solidFill>
                  <a:srgbClr val="ff0066"/>
                </a:solidFill>
                <a:latin typeface="Arial"/>
              </a:rPr>
              <a:t>2.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kiásótárcsa, </a:t>
            </a:r>
            <a:r>
              <a:rPr b="1" lang="hu-HU" sz="1600" spc="-1" strike="noStrike">
                <a:solidFill>
                  <a:srgbClr val="ff0066"/>
                </a:solidFill>
                <a:latin typeface="Arial"/>
              </a:rPr>
              <a:t>3.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pálcás rostély, </a:t>
            </a:r>
            <a:r>
              <a:rPr b="1" lang="hu-HU" sz="1600" spc="-1" strike="noStrike">
                <a:solidFill>
                  <a:srgbClr val="ff0066"/>
                </a:solidFill>
                <a:latin typeface="Arial"/>
              </a:rPr>
              <a:t>4.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fúvott gumihengerek, </a:t>
            </a:r>
            <a:r>
              <a:rPr b="1" lang="hu-HU" sz="1600" spc="-1" strike="noStrike">
                <a:solidFill>
                  <a:srgbClr val="ff0066"/>
                </a:solidFill>
                <a:latin typeface="Arial"/>
              </a:rPr>
              <a:t>5.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pálcás rostél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66"/>
                </a:solidFill>
                <a:latin typeface="Arial"/>
              </a:rPr>
              <a:t>6.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rázókerék, </a:t>
            </a:r>
            <a:r>
              <a:rPr b="1" lang="hu-HU" sz="1600" spc="-1" strike="noStrike">
                <a:solidFill>
                  <a:srgbClr val="ff0066"/>
                </a:solidFill>
                <a:latin typeface="Arial"/>
              </a:rPr>
              <a:t>7.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gumiujjas ponyva, </a:t>
            </a:r>
            <a:r>
              <a:rPr b="1" lang="hu-HU" sz="1600" spc="-1" strike="noStrike">
                <a:solidFill>
                  <a:srgbClr val="ff0066"/>
                </a:solidFill>
                <a:latin typeface="Arial"/>
              </a:rPr>
              <a:t>8.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oldalra hordó szalag, </a:t>
            </a:r>
            <a:r>
              <a:rPr b="1" lang="hu-HU" sz="1600" spc="-1" strike="noStrike">
                <a:solidFill>
                  <a:srgbClr val="ff0066"/>
                </a:solidFill>
                <a:latin typeface="Arial"/>
              </a:rPr>
              <a:t>9.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gumiujjas ponyva, </a:t>
            </a:r>
            <a:r>
              <a:rPr b="1" lang="hu-HU" sz="1600" spc="-1" strike="noStrike">
                <a:solidFill>
                  <a:srgbClr val="ff0066"/>
                </a:solidFill>
                <a:latin typeface="Arial"/>
              </a:rPr>
              <a:t>10.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eleváto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66"/>
                </a:solidFill>
                <a:latin typeface="Arial"/>
              </a:rPr>
              <a:t>11.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kormánykerék, </a:t>
            </a:r>
            <a:r>
              <a:rPr b="1" lang="hu-HU" sz="1600" spc="-1" strike="noStrike">
                <a:solidFill>
                  <a:srgbClr val="ff0066"/>
                </a:solidFill>
                <a:latin typeface="Arial"/>
              </a:rPr>
              <a:t>12.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vízszintes szalag, </a:t>
            </a:r>
            <a:r>
              <a:rPr b="1" lang="hu-HU" sz="1600" spc="-1" strike="noStrike">
                <a:solidFill>
                  <a:srgbClr val="ff0066"/>
                </a:solidFill>
                <a:latin typeface="Arial"/>
              </a:rPr>
              <a:t>13.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kézi válogató, </a:t>
            </a:r>
            <a:r>
              <a:rPr b="1" lang="hu-HU" sz="1600" spc="-1" strike="noStrike">
                <a:solidFill>
                  <a:srgbClr val="ff0066"/>
                </a:solidFill>
                <a:latin typeface="Arial"/>
              </a:rPr>
              <a:t>14.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válogatószalag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66"/>
                </a:solidFill>
                <a:latin typeface="Arial"/>
              </a:rPr>
              <a:t>15.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gumiujjas ponyva, </a:t>
            </a:r>
            <a:r>
              <a:rPr b="1" lang="hu-HU" sz="1600" spc="-1" strike="noStrike">
                <a:solidFill>
                  <a:srgbClr val="ff0066"/>
                </a:solidFill>
                <a:latin typeface="Arial"/>
              </a:rPr>
              <a:t>16.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kefehengerek, </a:t>
            </a:r>
            <a:r>
              <a:rPr b="1" lang="hu-HU" sz="1600" spc="-1" strike="noStrike">
                <a:solidFill>
                  <a:srgbClr val="ff0066"/>
                </a:solidFill>
                <a:latin typeface="Arial"/>
              </a:rPr>
              <a:t>17.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zárólemez, </a:t>
            </a:r>
            <a:r>
              <a:rPr b="1" lang="hu-HU" sz="1600" spc="-1" strike="noStrike">
                <a:solidFill>
                  <a:srgbClr val="ff0066"/>
                </a:solidFill>
                <a:latin typeface="Arial"/>
              </a:rPr>
              <a:t>18.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felhordó rácsok, </a:t>
            </a:r>
            <a:r>
              <a:rPr b="1" lang="hu-HU" sz="1600" spc="-1" strike="noStrike">
                <a:solidFill>
                  <a:srgbClr val="ff0066"/>
                </a:solidFill>
                <a:latin typeface="Arial"/>
              </a:rPr>
              <a:t>19.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szárkihordó lán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Talajművelő gépek II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1197000"/>
          <a:ext cx="4284720" cy="295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4284720" cy="29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427640" y="1341360"/>
          <a:ext cx="4716360" cy="23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1341360"/>
                    <a:ext cx="471636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061800" y="5659920"/>
            <a:ext cx="237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zántási módo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7960" y="4364640"/>
            <a:ext cx="32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Össze- és szétszántá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13040" y="4291560"/>
            <a:ext cx="2837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Javított ágyszántá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333360"/>
            <a:ext cx="914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Szárítás és tárolás géprendszer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95280" y="907920"/>
          <a:ext cx="398628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07920"/>
                    <a:ext cx="398628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4861440" y="2132640"/>
            <a:ext cx="3364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Szemestermény szárító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27560" y="2779920"/>
            <a:ext cx="4816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1.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surrantó cső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2.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toron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3.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hideglevegő ventiláto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4.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meleglevegő ventiláto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5.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tüzelőberendezés légterelő hengerre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6.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alapvá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7.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ürítő berendez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Talajművelő gépek III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042920" y="836640"/>
          <a:ext cx="6842160" cy="46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836640"/>
                    <a:ext cx="6842160" cy="46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774880" y="5444280"/>
            <a:ext cx="307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árcsatag szerkeze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46320" y="5949000"/>
            <a:ext cx="67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árcsalevél,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ngely,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zorítótárcsa,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ávtartó gyűr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Talajművelő gépek IV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54369" b="0"/>
          <a:stretch/>
        </p:blipFill>
        <p:spPr>
          <a:xfrm>
            <a:off x="2050920" y="1052640"/>
            <a:ext cx="5042160" cy="2197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13040" y="5949000"/>
            <a:ext cx="5680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kombinátor és munkájának elvi vázl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47621" t="0" r="0" b="0"/>
          <a:stretch/>
        </p:blipFill>
        <p:spPr>
          <a:xfrm>
            <a:off x="2124000" y="3141720"/>
            <a:ext cx="482436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500" spc="-1" strike="noStrike" u="sng">
                <a:solidFill>
                  <a:srgbClr val="000000"/>
                </a:solidFill>
                <a:uFillTx/>
                <a:latin typeface="Arial"/>
              </a:rPr>
              <a:t>Tápanyagkijuttató gépek I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3166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54439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1.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tartály, </a:t>
            </a: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2.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szállítószalag, </a:t>
            </a: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3.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résállító szerkeze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4.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szórószerkezet, </a:t>
            </a: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5.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röpítőtárcsá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a.)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csillag alakú, </a:t>
            </a: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b.)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nyitott kúpos, </a:t>
            </a: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c.)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nyitott sík, </a:t>
            </a:r>
            <a:r>
              <a:rPr b="1" lang="hu-HU" sz="2000" spc="-1" strike="noStrike">
                <a:solidFill>
                  <a:srgbClr val="ff0066"/>
                </a:solidFill>
                <a:latin typeface="Arial"/>
              </a:rPr>
              <a:t>d.)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fede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10480" y="5012280"/>
            <a:ext cx="639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öpítőtárcsás műtrágyaszóró és tárcsatípusa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500" spc="-1" strike="noStrike" u="sng">
                <a:solidFill>
                  <a:srgbClr val="000000"/>
                </a:solidFill>
                <a:uFillTx/>
                <a:latin typeface="Arial"/>
              </a:rPr>
              <a:t>Tápanyagkijuttató gépek II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39085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633040" y="5702760"/>
            <a:ext cx="460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ízszintes dobos hátraszóró gé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Vető-, ültető-, és palántázó gépek I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0" y="907920"/>
          <a:ext cx="5832360" cy="595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583236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796000" y="2923200"/>
            <a:ext cx="298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abonavetőgép általán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elépíté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6335640" cy="49640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57200" y="27468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Vető-, ültető-, és palántázó gépek II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16720" y="2194560"/>
            <a:ext cx="226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Merítőkanalas burgonya ültetőszerkeze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372360" y="3327480"/>
            <a:ext cx="2771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rítőkaná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fölösleg visszaejté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ömlés-szabályozó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rnyitó csoroszlya,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jtó kerék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rtakaró tárcsá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07:21:41Z</dcterms:created>
  <dc:creator>tothi</dc:creator>
  <dc:description/>
  <dc:language>en-US</dc:language>
  <cp:lastModifiedBy> </cp:lastModifiedBy>
  <dcterms:modified xsi:type="dcterms:W3CDTF">2006-05-11T14:15:14Z</dcterms:modified>
  <cp:revision>9</cp:revision>
  <dc:subject/>
  <dc:title>1. dia</dc:title>
</cp:coreProperties>
</file>