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D91-4377-4D9A-B202-CC0B939D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F0C-678A-4327-9108-9E8BB9C8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0A5-04DE-4955-8E66-C6E4FC70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B0A-47E4-42F5-8E88-F368E3AE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1D0-6259-4E31-BFFD-5E0C0C86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100-BCEA-43F1-9C6B-3E387EF7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24C-103C-42A2-805E-FA455E3F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2F2-7708-4237-84E2-02158604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5C9-84CE-435C-B028-EDE08F2E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DBF-6D6B-4DCF-8972-5B6BD02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9DD-A1A5-4C71-B03E-539B3827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F4F-B6BE-4739-9408-B96B785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7C59-5D0D-456F-8FB2-94F13A69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llattartási, majori gépe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39280" y="92160"/>
            <a:ext cx="7232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jvezetékes fejőberendezés egysége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16360" y="1773360"/>
          <a:ext cx="360036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773360"/>
                    <a:ext cx="360036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5981040"/>
            <a:ext cx="90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jőkészülék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jcsap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ulzátor és vákuumcsap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jvezeték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ákuumvezeté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9216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pi ürülékmennyisé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bélsár + vize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87280" y="2133720"/>
          <a:ext cx="6553440" cy="2830320"/>
        </p:xfrm>
        <a:graphic>
          <a:graphicData uri="http://schemas.openxmlformats.org/drawingml/2006/table">
            <a:tbl>
              <a:tblPr/>
              <a:tblGrid>
                <a:gridCol w="2303640"/>
                <a:gridCol w="2185920"/>
                <a:gridCol w="2063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llatf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Ürül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g/d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árazany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jelő tehé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ízómar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-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j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yak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-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ízóser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omfi (tojótyú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 - 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9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lyamatos csigás présszűr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32000" y="1700280"/>
          <a:ext cx="648000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00280"/>
                    <a:ext cx="648000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340000" y="5552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zilárd rész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yékony rés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9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eggyakrabban alkalmazott horizontális siló típus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26920" y="2637000"/>
          <a:ext cx="32403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37000"/>
                    <a:ext cx="3240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788000" y="2852640"/>
          <a:ext cx="3313080" cy="27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852640"/>
                    <a:ext cx="331308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2440" y="5805000"/>
            <a:ext cx="90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onolit vasbeton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ámfalas rendszerek, fából vagy előre gyártott betonelemekbő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alomsiló, fóliazárással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öld támfalas kivitel betonlap burkoláss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9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űveletek végz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három oldalról zárt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és az áthajtós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lób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32000" y="2565360"/>
          <a:ext cx="64800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65360"/>
                    <a:ext cx="6480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9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mipadlós pihenő boks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79640" y="1628640"/>
          <a:ext cx="496872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628640"/>
                    <a:ext cx="496872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9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keverő-kiosztó kocsik legelterjedtebb megoldásának szerkezeti felépíté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1844640"/>
          <a:ext cx="496872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496872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08640" y="56606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verő csigák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zabályozható keresztmetszetű kiadagoló nyílá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váz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sigák hajt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ámítógéppel vezérelt folyékony sertéstakarmányozási rendszer elvi felép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32000" y="1700280"/>
          <a:ext cx="5705280" cy="33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00280"/>
                    <a:ext cx="57052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53928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elektro-pneumatikus működésű adagoló szelepek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vályú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akarmányszivattyú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verőtartály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enzometrikus mérőelemek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vízadagol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vezérlőegysé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különféle takarmány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9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50920" y="2060640"/>
          <a:ext cx="504216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060640"/>
                    <a:ext cx="50421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50920" y="2638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Függesztett láncos etetők és függesztett itató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617800"/>
            <a:ext cx="894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164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eszállító csiga a külső tárolóból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garat töltő-adagoló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ga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64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rugós szállító csiga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üggesztett láncos etetővályú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üggesztett itató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64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üggesztő szerkezet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8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garattöltő surrantócső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9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gar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24000" y="1484280"/>
          <a:ext cx="489600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84280"/>
                    <a:ext cx="489600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26920" y="-58320"/>
            <a:ext cx="80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baromfiketrecek főbb változata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56271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épcsős-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gyszintes-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öbbszintes-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iramis kivitelű-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tszintes-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mpakt ketr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9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kétterű fejőkészülé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43280" y="1773360"/>
          <a:ext cx="40338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773360"/>
                    <a:ext cx="4033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88000" y="47239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zorítási ütemrész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zívási ütemrész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„T”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tmoszférikus nyomású leveg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V”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vákuum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I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alközötti-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v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változó vákuumú tér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II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első-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v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llandó vákuumú té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jőgumi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jőkehely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rövid tejtömlő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asszáló fej, 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rövid pulzáló töm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0:41:14Z</dcterms:created>
  <dc:creator> </dc:creator>
  <dc:description/>
  <dc:language>en-US</dc:language>
  <cp:lastModifiedBy> </cp:lastModifiedBy>
  <dcterms:modified xsi:type="dcterms:W3CDTF">2006-05-11T14:16:11Z</dcterms:modified>
  <cp:revision>2</cp:revision>
  <dc:subject/>
  <dc:title>1. dia</dc:title>
</cp:coreProperties>
</file>