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513C-009C-44CE-A3C5-181AA8924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E317-7260-4281-9989-A9F4685A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3189-66E6-4218-BEFF-B59D2873A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5745-9F6C-422F-8F91-03799C9D8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2129-8F11-4C41-8F6E-B7F44B148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6341-4E81-4B27-8725-9E7D1562B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F291-ADF6-4550-A6EF-9ECC17A5E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F782-2A84-4EDE-B2A2-762017440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7E27-D8EA-41D8-B20A-73F0F62C9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4152-26A0-49FB-A03A-36FBD3F9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E0BD-86A9-4101-B9CD-D0C302FF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89FF-FB22-40C3-9F7B-C9A3335B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8183B-F521-4C90-97D6-99F077086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 gépi technológiák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ervezé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 technológia fogal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79280" y="2276280"/>
            <a:ext cx="89647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zőgazdasági termeléstechnológia fogalomkörébe tartozik mindaz a ténykedés, amelyet a termék-előállítás érdekében végre kell hajtani, akár emberi, gépi vagy állati energiafelhasználással, anyagfelhasználással, illetve mindezek költségeivel függ is össz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echnológia konkrét formájában az adott termelési cél elérése érdekében célszerűen egymáshoz kapcsolódó tevékenységek összessége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USTI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992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lapkérdés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79280" y="2205000"/>
            <a:ext cx="89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Mit?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yen műveleteket és ezen belül milyen munkafázisoka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Mikor?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yen naptári időben és mekkora időtartam alat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Hogyan?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yen termelési és egyéb előírások betartásáva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Mivel?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yen és mennyi erő-, illetve munkagéppel, kézi erővel és anyagfelhasználássa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Mennyiért?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kkora közvetlen költséggel kell az adott feladatot végrehajtan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 technológiai tervek főbb tartalmi sajátossága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9280" y="2349000"/>
            <a:ext cx="896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unkaműveletek és munkafolyamatok időrendi ismertetés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égrehajtásához szükséges erő- és munkagépek, illetve egyéb termelőeszközök használatának módja, időigény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zükséges élőmunka-igény (időben, létszámban, szakmai összetételben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yéb termelési normák és irányszámok (vetőmag, tápanyag, növényvédő szer, takarmány stb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8497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űveleti főcsoportok a növénytermesztésb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79280" y="1989000"/>
            <a:ext cx="8964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alajművelés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unkák (gyakorlatilag folyamatosan, a nap 24 órájában végezhetők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egetációs időszakr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jutó munkák (általában csak nappal, azaz 10 órás vagy valamivel hosszabb, nyújtott műszakban végezhetők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etakarítás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unkák (jellemzőik a betakarítandó állománytól függően alakulnak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űveleti idények a növénytermesztésb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79280" y="2276280"/>
            <a:ext cx="89647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avaszi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unkák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I. hó 3. dekádtól - IV. hó 2. dekádig, összesen 59-60 naptári nap, illetve 30-40 10 órás nappali műsza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yár eleji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munkák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V. 3. - VI. 2., 61 naptári nap, illetve 42 10 órás nappali műsza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yári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kalászos aratás + nyári talajművelé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VI. 3. - IX. 1., 83 naptári nap, illetve 61 10 órás nappali műsza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Őszi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betakarítási, vetési és talajművelési idősza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X. 2. - XI. 3., 81 naptári nap, illetve 42 10 órás nappali műsza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6T10:09:26Z</dcterms:created>
  <dc:creator> </dc:creator>
  <dc:description/>
  <dc:language>en-US</dc:language>
  <cp:lastModifiedBy> </cp:lastModifiedBy>
  <dcterms:modified xsi:type="dcterms:W3CDTF">2006-05-11T14:23:37Z</dcterms:modified>
  <cp:revision>3</cp:revision>
  <dc:subject/>
  <dc:title>A gépi technológiák  tervezése</dc:title>
</cp:coreProperties>
</file>