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8F82-7730-4B9E-9662-D16338BD1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DEBB-0824-46DF-8D19-98D63B88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6ABA-AABE-4D07-BE73-7483ACFC9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3BD9-4E3A-4BC0-8FDE-9900A6D41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7B55-A35D-4879-9B62-CA853801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1BCD-2EEF-4809-931B-0A763357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4E09-4F5D-4BB3-89D2-BD55B075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5F20-9844-4905-9CEA-7753173A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A72F-559C-47E8-99F5-BBA63C45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4608-8FC3-4E84-AADC-C2FD1C97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5ECC-7E5E-49CE-A273-5DC98C31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3CB4-D908-4511-BBD5-962DA448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77FA-E1C4-4DCB-8D50-748DDA341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zőgazdasági erőgépek és motoro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539280" y="91800"/>
            <a:ext cx="723276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ciálmű, differenciálzár és véglehajtási módo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82720" y="1332000"/>
            <a:ext cx="4950000" cy="4257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22800" y="6027120"/>
            <a:ext cx="80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a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omlokfogaskerekes véglehajtás;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b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ifferenciálmű differenciálzárra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olygóműves véglehajt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55280" y="91800"/>
            <a:ext cx="701676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ormányz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93920" y="836640"/>
            <a:ext cx="3936960" cy="4680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51160" y="5667120"/>
            <a:ext cx="803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a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gózsámolyos kormányzás;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b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ngelycsonk kormányzá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rékcsuklós kormányzás;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d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kerékdőlés, csapterpeszté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kerékösszetartás;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f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kerékutánfutá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g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chanikus kormányzás szerkezete;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zervokormányzás szerkez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932120" y="981000"/>
            <a:ext cx="4727520" cy="3851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061640" y="194760"/>
            <a:ext cx="69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ékszerkezetek és működésük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8160" y="5515920"/>
            <a:ext cx="762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a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féklassulás időbeni függvénye;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b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obfék szerkezet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árcsafék szerkezete;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d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idraulikus fékrendszer;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égfékrends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66920" y="259920"/>
            <a:ext cx="505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rekes járószerkez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63640" y="1039680"/>
            <a:ext cx="5178600" cy="43340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058400" y="5444640"/>
            <a:ext cx="69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a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rőgép és a talaj kapcsolata;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b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umiköpeny és a kerékpá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zerkezeti kialakítása;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umiköpeny felszerelési módok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d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llső futómű szerkezete;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jtott mellső futóm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99640" y="333000"/>
            <a:ext cx="74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ánctalpas traktor járószerkez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félmerev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89080" y="1895400"/>
            <a:ext cx="662292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4920" y="333000"/>
            <a:ext cx="779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ánctalpas járművek kormányzá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55520" y="1135080"/>
            <a:ext cx="5892840" cy="4670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89760" y="6085800"/>
            <a:ext cx="77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a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ldaltengely-kacsolásos kormányzás;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b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olygóműves kormány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24800" y="58320"/>
            <a:ext cx="485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ktorok hidraulik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üggesztőszerkeze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84120" y="1512720"/>
            <a:ext cx="6527880" cy="49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19160" y="58320"/>
            <a:ext cx="726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ljesítményleadó tengely (TLT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és hajtási mód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13040" y="1393920"/>
            <a:ext cx="4819680" cy="4483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126440" y="6021000"/>
            <a:ext cx="69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a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540 f/min TLT tengely;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b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otorfordulat arányos TLT hajtá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járókerék-fordulat arányos TLT hajt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9720" y="333000"/>
            <a:ext cx="640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llamos motorok működé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6381720" cy="41972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80600" y="5882760"/>
            <a:ext cx="812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a.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csúszógyűrűs villamos motor; </a:t>
            </a: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b.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aszinkron rendszerű villamos moto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c.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villamos forgógép jellegörbé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47628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motor indikátor diagram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771640" y="1557360"/>
            <a:ext cx="38116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371600" y="62064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motor keresztmetsz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798640" y="1700280"/>
            <a:ext cx="3502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764640"/>
            <a:ext cx="6400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gattyús hajtómű rész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65964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764640"/>
            <a:ext cx="6400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zelepvezérlési mód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849780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03280" y="259920"/>
            <a:ext cx="640080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esel motor hajtóanyag-ellátó rendsz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50920" y="1447920"/>
            <a:ext cx="53276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9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6199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zivattyús vízhűté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47640" y="1608120"/>
            <a:ext cx="58230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276840"/>
            <a:ext cx="806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ngelykapcsoló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6978600" cy="3965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95160" y="5073480"/>
            <a:ext cx="791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a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gytárcsás száraz tengelykapcsol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endítőkerék;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kapcsolótárcsa;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áz;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yomólap;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kiemelővill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6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kinyomó csapágy;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7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ebességváltó tengely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8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kinyomó csapágy villa;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9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yomórug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b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idrodinamikus tengelykapcsol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zivattyú;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ngely;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urb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371600" y="33336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bességváltó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695600" y="1157400"/>
            <a:ext cx="5397480" cy="4228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56811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riátor;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épcsős sebességváltó;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lőtéttengelyes sebességváltó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zorzórendszerű sebességváltó;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olygómű;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f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zinkron sebességváltó kapcsolószerkeze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10:41:14Z</dcterms:created>
  <dc:creator> </dc:creator>
  <dc:description/>
  <dc:language>en-US</dc:language>
  <cp:lastModifiedBy> </cp:lastModifiedBy>
  <dcterms:modified xsi:type="dcterms:W3CDTF">2006-05-11T13:57:19Z</dcterms:modified>
  <cp:revision>9</cp:revision>
  <dc:subject/>
  <dc:title>1. dia</dc:title>
</cp:coreProperties>
</file>