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CC0-BAAF-4E10-8FFE-F2A810F8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686-8501-4667-8C11-95CB5782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8C4B-5ED2-46CA-9D57-9C8B3E98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E16-5D94-4E82-96EC-A2880BFF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D4C-0152-48AC-A056-A49C802C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76A-A8C9-42F0-B618-7E6B1874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21A5-42DD-480D-B42A-00701C91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B49-83A0-4391-A453-79F2C542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19CF-06D3-4C23-BE31-373472A5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6E4-8D25-438E-82CF-9A2D3144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AA65-DDB7-4F69-9EBC-CC7B5005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C7A-6C52-47D1-A2CF-2FFC59CE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D9D3-9744-499A-919D-FA3AC2FE7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épek és Rendszerek Üzemelte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érnökséget meghatározó trend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8000" y="0"/>
          <a:ext cx="8724960" cy="689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0"/>
                    <a:ext cx="8724960" cy="68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épállapot - diagnosz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ználat - üzemi jellemzők változá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al az elhasználódás mértékére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mutatja a gép műszaki állapot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épállapot leírható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szerű vagy összetett üzemi jellemzők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funkcióképesség csökkené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ép  üzemi  alkalmasságának  részleges elvesztés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gy működésképtelenséget okoz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rbantartási technológiai előír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karbantartási munkák minőségét, szakszerűségét, gazdaságosságát és rendszerességét a karbantartási technológiai előírások garantáljá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egfelelő technológiai előírások kimunkálása és betartatása fontos mérnöki fela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echnológiai előírások elősegítik a tervezést, a szervezést, a munkamegosztást és az oktatá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karbantartási előírások általában a következőket foglalják magukb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űveletek logikus sorrendjé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űveletek végrehajtásának módjá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beállítási, ellenőrzési értékeket, a kapcsolódó feltételekke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z alkalmazott eszközök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felhasználandó anyagok mennyiségét és minőségé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űveletek norma idejé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ő témakörö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z üzemeltetés rendszertechniká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yedi gépe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épcsoport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éprend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műszaki fejlesztés, a termelés technológia és a géprendszer tervezés rendszertechniká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épcsoport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elési technológiá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ber-gép rendsze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43560" y="4653000"/>
            <a:ext cx="533160" cy="1297080"/>
          </a:xfrm>
          <a:custGeom>
            <a:avLst/>
            <a:gdLst>
              <a:gd name="textAreaLeft" fmla="*/ 0 w 533160"/>
              <a:gd name="textAreaRight" fmla="*/ 192600 w 5331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1989000"/>
            <a:ext cx="533520" cy="1363680"/>
          </a:xfrm>
          <a:custGeom>
            <a:avLst/>
            <a:gdLst>
              <a:gd name="textAreaLeft" fmla="*/ 0 w 533520"/>
              <a:gd name="textAreaRight" fmla="*/ 192600 w 533520"/>
              <a:gd name="textAreaTop" fmla="*/ 35280 h 1363680"/>
              <a:gd name="textAreaBottom" fmla="*/ 1328400 h 136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6000" y="1981080"/>
            <a:ext cx="363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ználati és műsza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szolgálási folyamatai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vezése és irány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45720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ízise, komplex vizsgálata és terve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mérnöki munka fontosabb jellemző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61680"/>
            <a:ext cx="822960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érnökök a munkájukkal valamilyen szinten társadalmi,- gazdasági igényeket elégítenek 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zek az igények legtöbbszö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új dolgok létrehozásá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megalkotásával elégíthetők ki. Ezért a mérnöki munkában kiemelkedő szerepe van az alkotásnak, az új dolgok létrehozásának,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reativitá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 mérnöki munka alapvető orientációi, területe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Új technikai objektum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onstruálá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Új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chnológiák, technológiai rendszere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vagy ember-gép rendszerek, projektek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gtervezé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kialakítása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vezeté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Rendszer integráci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kialakítot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ndszerek műszaki menedzselése, üzemelteté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67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dencia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 versenyképesség, a hatékonyság egyre nagyobb  mértékben a technológiákban és a termékekben testetöltő tudás és információ mennyiségétől füg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86200" y="2057400"/>
          <a:ext cx="6303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057400"/>
                    <a:ext cx="6303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743200" y="2438280"/>
          <a:ext cx="306072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438280"/>
                    <a:ext cx="3060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-3960" y="1447920"/>
            <a:ext cx="37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Átfogóbb és részletese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zakmai, termelési ismer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8640" y="509760"/>
            <a:ext cx="503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zakmák együttműködé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diszciplináris megközelít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1523880"/>
            <a:ext cx="38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galapozottabb gazdaság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elési döntés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8640" y="0"/>
            <a:ext cx="85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ecíziós mezőgazdaság bevezetésének hatá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7800" y="4572000"/>
            <a:ext cx="391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Versenyképes gazdálkodá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Környezetvéde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95880" y="441972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31560" y="4114800"/>
            <a:ext cx="19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zdasá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tékonysá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ő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480060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komplexitás kezelése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l. Modelle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74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rendszerek  bonyolultsága és összetettsége (komplexitása) miatt a tervezésük, a vizsgálatuk, és az irányításuk szükségessé teszi a modellezés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modell a valós eredeti világ (rendszer) adott szempontból lényeges jellemzőit megjelenítő, leképező objektum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modell a világ leírásának, megértésének az eszköze, a világra vonatkozó ismereteink  kifejezőj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modellezés </a:t>
            </a:r>
            <a:r>
              <a:rPr b="1" lang="en-US" sz="2600" spc="-1" strike="noStrike">
                <a:solidFill>
                  <a:srgbClr val="3405df"/>
                </a:solidFill>
                <a:latin typeface="Arial"/>
              </a:rPr>
              <a:t>egyrész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a modellalkotás folyamat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3405df"/>
                </a:solidFill>
                <a:latin typeface="Arial"/>
              </a:rPr>
              <a:t>másrész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az információ szerzés hatékony módj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 a modell felhasználásáv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724280" y="1295280"/>
            <a:ext cx="2286000" cy="4953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1523880"/>
            <a:ext cx="6019920" cy="1676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905120"/>
            <a:ext cx="144756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905120"/>
            <a:ext cx="1447920" cy="9144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é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9810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nkatá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3505320"/>
            <a:ext cx="144792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kiszolgál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é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5029200"/>
            <a:ext cx="14479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23623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23623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69" idx="0"/>
            <a:endCxn id="71" idx="0"/>
          </p:cNvCxnSpPr>
          <p:nvPr/>
        </p:nvCxnSpPr>
        <p:spPr>
          <a:xfrm flipH="1" rot="16200000">
            <a:off x="5867280" y="-191520"/>
            <a:ext cx="76680" cy="4267800"/>
          </a:xfrm>
          <a:prstGeom prst="bentConnector3">
            <a:avLst>
              <a:gd name="adj1" fmla="val -300000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867280" y="28195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434340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0" idx="0"/>
            <a:endCxn id="73" idx="1"/>
          </p:cNvCxnSpPr>
          <p:nvPr/>
        </p:nvCxnSpPr>
        <p:spPr>
          <a:xfrm flipH="1" flipV="1" rot="10800000">
            <a:off x="5181480" y="2361960"/>
            <a:ext cx="76680" cy="3162960"/>
          </a:xfrm>
          <a:prstGeom prst="bentConnector3">
            <a:avLst>
              <a:gd name="adj1" fmla="val -301415"/>
            </a:avLst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724280" y="1447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1600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00800" y="4842000"/>
            <a:ext cx="15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űsza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szolgál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ya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M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4495680"/>
            <a:ext cx="60948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3429000"/>
            <a:ext cx="20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éphasznál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ya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657240" y="32004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6002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8006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6" idx="2"/>
            <a:endCxn id="87" idx="2"/>
          </p:cNvCxnSpPr>
          <p:nvPr/>
        </p:nvCxnSpPr>
        <p:spPr>
          <a:xfrm flipH="1" flipV="1" rot="10800000">
            <a:off x="914040" y="2095200"/>
            <a:ext cx="2160" cy="3201120"/>
          </a:xfrm>
          <a:prstGeom prst="curvedConnector5">
            <a:avLst>
              <a:gd name="adj1" fmla="val -14400000"/>
              <a:gd name="adj2" fmla="val 49994"/>
              <a:gd name="adj3" fmla="val -14400000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89" name=""/>
          <p:cNvCxnSpPr>
            <a:stCxn id="86" idx="6"/>
            <a:endCxn id="87" idx="6"/>
          </p:cNvCxnSpPr>
          <p:nvPr/>
        </p:nvCxnSpPr>
        <p:spPr>
          <a:xfrm>
            <a:off x="1980720" y="2095560"/>
            <a:ext cx="2520" cy="3201120"/>
          </a:xfrm>
          <a:prstGeom prst="curvedConnector5">
            <a:avLst>
              <a:gd name="adj1" fmla="val 14400000"/>
              <a:gd name="adj2" fmla="val 49994"/>
              <a:gd name="adj3" fmla="val 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6" idx="2"/>
            <a:endCxn id="86" idx="6"/>
          </p:cNvCxnSpPr>
          <p:nvPr/>
        </p:nvCxnSpPr>
        <p:spPr>
          <a:xfrm flipH="1" flipV="1" rot="10800000">
            <a:off x="913320" y="2095200"/>
            <a:ext cx="1067400" cy="2160"/>
          </a:xfrm>
          <a:prstGeom prst="curvedConnector5">
            <a:avLst>
              <a:gd name="adj1" fmla="val -21423"/>
              <a:gd name="adj2" fmla="val -22800000"/>
              <a:gd name="adj3" fmla="val -21423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87" idx="2"/>
            <a:endCxn id="87" idx="6"/>
          </p:cNvCxnSpPr>
          <p:nvPr/>
        </p:nvCxnSpPr>
        <p:spPr>
          <a:xfrm flipH="1" flipV="1" rot="10800000">
            <a:off x="913320" y="5295600"/>
            <a:ext cx="1067400" cy="2160"/>
          </a:xfrm>
          <a:prstGeom prst="curvedConnector5">
            <a:avLst>
              <a:gd name="adj1" fmla="val -21423"/>
              <a:gd name="adj2" fmla="val -22800000"/>
              <a:gd name="adj3" fmla="val -2142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1145160" y="177804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8480" y="50292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1280" y="5257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átme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4648320"/>
            <a:ext cx="45720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64640" y="254160"/>
            <a:ext cx="677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gépüzemeltetési rendszer alapfolyamata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mi rendszer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1068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echnológiai előírá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77920" y="1181160"/>
            <a:ext cx="8686800" cy="54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echnológiában szereplő folyamatok, funkciók megvalósulásának minőségét, szakszerűségét, gazdaságosságát és rendszerességét a technológiai előírások garantáljá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egfelelő technológiai előírások kimunkálása és betartatása fontos mérnöki felad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echnológiai előírások elősegítik a tervezést, a szervezést, a folyamatok irányítását, a munkamegosztást és az oktatá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karbantartási előírások általában a következőket foglalják magukb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űveletek, illetve a folyamatelemek logikus sorrendjé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 alkalmazott eszközöket, és használati módjuk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űveletek, illetve a folyamatelemek  végrehajtásának módjá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eállítási, ellenőrzési értékeket, a kapcsolódó feltételekk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elhasználandó anyagok mennyiségét és minőségé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elhasználandó dokumentumokat, információk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olyamat kimeneti jellemzőit, a műveletek norma idejé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58760" y="290520"/>
            <a:ext cx="8902800" cy="6472800"/>
            <a:chOff x="158760" y="290520"/>
            <a:chExt cx="8902800" cy="6472800"/>
          </a:xfrm>
        </p:grpSpPr>
        <p:sp>
          <p:nvSpPr>
            <p:cNvPr id="104" name=""/>
            <p:cNvSpPr/>
            <p:nvPr/>
          </p:nvSpPr>
          <p:spPr>
            <a:xfrm>
              <a:off x="158760" y="844560"/>
              <a:ext cx="8902800" cy="5549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fcfe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5960" y="1758960"/>
              <a:ext cx="2273400" cy="1434960"/>
            </a:xfrm>
            <a:prstGeom prst="roundRect">
              <a:avLst>
                <a:gd name="adj" fmla="val 1241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54640" y="1758960"/>
              <a:ext cx="2273400" cy="1434960"/>
            </a:xfrm>
            <a:prstGeom prst="roundRect">
              <a:avLst>
                <a:gd name="adj" fmla="val 1241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avítá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rendsz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35480" y="1758960"/>
              <a:ext cx="2273040" cy="1434960"/>
            </a:xfrm>
            <a:prstGeom prst="roundRect">
              <a:avLst>
                <a:gd name="adj" fmla="val 1241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űszak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agnosztik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rendsz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5960" y="4044960"/>
              <a:ext cx="2273400" cy="1434960"/>
            </a:xfrm>
            <a:prstGeom prst="roundRect">
              <a:avLst>
                <a:gd name="adj" fmla="val 1241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ergia ellát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rendsz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35480" y="4044960"/>
              <a:ext cx="2273040" cy="1434960"/>
            </a:xfrm>
            <a:prstGeom prst="roundRect">
              <a:avLst>
                <a:gd name="adj" fmla="val 1241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yag, alkatrés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llátó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rendsz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30960" y="4044960"/>
              <a:ext cx="2273400" cy="1434960"/>
            </a:xfrm>
            <a:prstGeom prst="roundRect">
              <a:avLst>
                <a:gd name="adj" fmla="val 1241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állagmegóv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rendsz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7360" y="920880"/>
              <a:ext cx="1434960" cy="444240"/>
            </a:xfrm>
            <a:custGeom>
              <a:avLst/>
              <a:gdLst>
                <a:gd name="textAreaLeft" fmla="*/ 0 w 1434960"/>
                <a:gd name="textAreaRight" fmla="*/ 1434960 w 14349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2920" y="887400"/>
              <a:ext cx="1402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ejáratá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26240" y="5873760"/>
              <a:ext cx="1435320" cy="444600"/>
            </a:xfrm>
            <a:custGeom>
              <a:avLst/>
              <a:gdLst>
                <a:gd name="textAreaLeft" fmla="*/ 0 w 1435320"/>
                <a:gd name="textAreaRight" fmla="*/ 1435320 w 143532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80520" y="5805360"/>
              <a:ext cx="1387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lejtezé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1400" y="2119320"/>
              <a:ext cx="189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arbantartá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rendsz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3240" y="2438280"/>
              <a:ext cx="39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92760" y="2438280"/>
              <a:ext cx="39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97280" y="480060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92760" y="480060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97280" y="3278160"/>
              <a:ext cx="468360" cy="77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890800" y="3144600"/>
              <a:ext cx="468360" cy="9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589720" y="3201840"/>
              <a:ext cx="798480" cy="84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16440" y="3278160"/>
              <a:ext cx="621000" cy="77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95280" y="327816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77320" y="327816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95680" y="327816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52480" y="556416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63640" y="5805360"/>
              <a:ext cx="547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7238880" y="5354280"/>
              <a:ext cx="0" cy="49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752480" y="1392120"/>
              <a:ext cx="0" cy="41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63640" y="1413000"/>
              <a:ext cx="547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38880" y="141300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97680" y="290520"/>
              <a:ext cx="4215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műszaki kiszolgáló rendsz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9880" y="6629400"/>
              <a:ext cx="9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60200" y="6308640"/>
              <a:ext cx="4099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yag és /vagy információ ár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08:58:25Z</dcterms:created>
  <dc:creator>Dr. Nagy Béla</dc:creator>
  <dc:description/>
  <dc:language>en-US</dc:language>
  <cp:lastModifiedBy> </cp:lastModifiedBy>
  <dcterms:modified xsi:type="dcterms:W3CDTF">2006-05-11T14:25:38Z</dcterms:modified>
  <cp:revision>7</cp:revision>
  <dc:subject/>
  <dc:title>1. dia</dc:title>
</cp:coreProperties>
</file>