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729-337C-48B4-8A81-55EAC48C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11D-8D26-4D57-8E48-E1102F7E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030-0257-42C4-BFA6-9F049269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343-962B-4272-9BC4-F3D23D6E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8F5-10A9-40FA-8F0B-2F65FD4E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985-215B-4AD6-8F34-6704AAE0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7A3-CF35-453D-AACF-39F65A09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527-2C0F-424C-9D80-6348BA49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7BB-F9F5-4817-BC7E-7FC31FE4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554-F9F5-4F86-BE7C-58175E0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497-C4AC-4F18-B75D-65D7410A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D86-5BF6-4502-A7BF-DC5757B3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3A9B-D4DE-41E9-BCE6-CD255602D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RUHÁZÁSI ISMER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564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pfogalmak, a beruházások csoport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ruházási folyamat szakasz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ruházási döntések gazdaságossági megalap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eruházás-gazdaságossági kalkulációk módsze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41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tatikus számítási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az idővel, mint tényezővel nem szá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egyszerűségük miatt közkedvel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csak korlátozottan alkalmas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dinamikus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számol az idővel mint tényező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egyedi beruházási projektekre és változatok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hasonlítására is alkal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kus beruházás-gazdaságossági mutat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41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öltség-összehasonlító elem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övedelmezőséget összehasonlító számít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gtérülési idő mut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vizagazdaságossági mut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szköz-igényességi mut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namikus beruházás-gazdaságossági mutat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7416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ttó jelenérték mutató (NP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lső megtérülési ráta (IR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szon-költség arány mutató (BC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ttó haszon – beruházási költség arány (N/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1840" y="549000"/>
            <a:ext cx="8282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beruházás fogal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ruházás oly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űsza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zdasági 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ervezé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vékenység, amely a termelést tartó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olgáló immateriális javak és tárg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zközök beszerzésére, illetve létesítésé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ány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71280" y="1988640"/>
            <a:ext cx="7543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zetgazdasági és üzemgazdasá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elő és nem terme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ruházó alanya sze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űszaki rendeltetés sze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agi, műszaki jelleg sze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gvalósítás forrása sze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kivitelezés módja sze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91520" y="466560"/>
            <a:ext cx="730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eruházások csoportos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eruházási folyamat szakasz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ruházás előkész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ruházási projektstratégia kialak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kai megvalós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óelem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eruházás előkész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41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beruházás indítását kiváltó okok elem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beruházási célrendszer feláll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gvalósíthatósági tanulmány kész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gvalósításra szánt beruházási változat kiválasztá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eruházási projektstratégia kialak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41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zerződésstratégia kialakítá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a szerződés típ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a pénzügyi elszámolás mód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őzetes minősítés, versenyezt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nyíl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kétszint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szelektív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meghívá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rződés(ek) létreh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fizikai megvalós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41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v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száll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vitel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Üzembe hely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óbaüz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óelem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41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készült létesítmény illeszkedése a szervezet stratégiájá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beruházás megvalósítási folyamatának elemzése, levonható tanulságok, tapaszta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eruházási döntések gazdaságossági megalap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7416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beruházási döntések ökonómiai sajátosság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döntés-előkészítéssel szemben támasztott követel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beruházás-gazdaságossági kalkuláci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cé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jelentősé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típus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1:20:28Z</dcterms:created>
  <dc:creator>User</dc:creator>
  <dc:description/>
  <dc:language>en-US</dc:language>
  <cp:lastModifiedBy> </cp:lastModifiedBy>
  <dcterms:modified xsi:type="dcterms:W3CDTF">2006-05-11T14:36:15Z</dcterms:modified>
  <cp:revision>23</cp:revision>
  <dc:subject/>
  <dc:title>1. dia</dc:title>
</cp:coreProperties>
</file>