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9D2-0E4C-45A4-80D6-C7743186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C9D-2C3D-4F07-B1A8-792A57D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C9F-7C81-44DD-BB06-62DEFF7F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709-CAE9-401B-A400-C11AF796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AB9F-33A2-43F7-A51E-9BA98EB4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7FA5-62BB-4717-8CC5-12C2E8C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26B-6BD6-409B-B63A-1390EA86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F8E7-0BCE-4213-8046-78C65194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F6FA-B67D-4D41-BB38-17341EC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4C0-F590-4215-B3FE-F6906AD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CF53-3328-4BAD-BDB0-F2165BA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F71-B54F-4DA5-94C3-31094A55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BF6-C0C4-4F91-8E12-B562D62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E9F-F80C-442B-A720-92DD03C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5D4-4FCA-42C4-8AAA-6F398412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982-7658-419D-B4E6-CBE2CE12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2FF1-7B8C-4B3A-9BD6-5000E33B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6DB-4D8F-4B92-BC4E-84957CC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4B1-3DFF-41C7-902C-D6AF871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231-7052-4272-B5A8-FADA2BC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023-CDEA-4AFC-B3AC-C30379C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947-D094-42FB-985B-B939CE1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C8-D7DE-4CB1-9ECD-8CE16E5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314-7084-4D3E-AED0-CEB94CB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222-1AB3-4E1A-B322-88B911CB2269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553-BFB1-4CC8-9380-D8A2D5A15E8F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MUNKABIZTONSÁGI ELVE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0000"/>
                </a:solidFill>
                <a:uFillTx/>
                <a:latin typeface="Times New Roman"/>
              </a:rPr>
              <a:t>Bevezet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munkaeszközök általános munkavédelm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Traktorok és mezőgazdasági gépek speciális 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0000"/>
                </a:solidFill>
                <a:uFillTx/>
                <a:latin typeface="Times New Roman"/>
              </a:rPr>
              <a:t>A gépek üzemeltetésével kapcsolatos veszély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munkavégzésre vonatkozó lényeges biztonsági követelmény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talajműveléssel kapcsolatos munkabiztonsági követelmény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Tápanyag - visszapótlás munka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növényvédelem munka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szárítás munka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Vetés, ültetés munka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Betakarítás munkabiztonsági követelmény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 kertészeti termelés munkabiztonság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Szől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Gyümöl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Az állattenyésztés munkabiztonsága</a:t>
            </a:r>
            <a:r>
              <a:rPr b="0" lang="hu-H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947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Bevezetés  </a:t>
            </a:r>
            <a:br>
              <a:rPr sz="2400"/>
            </a:b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 munkaeszközök általános munkavédelmi követelményei</a:t>
            </a:r>
            <a:r>
              <a:rPr b="0" lang="hu-HU" sz="20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Bevezetés - A munkavédelem alapvető jogi hátte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2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cc"/>
                </a:solidFill>
                <a:latin typeface="Times New Roman"/>
              </a:rPr>
              <a:t>A munkavédelemről szóló 1993. évi XCIII. törvény az állam feladatává teszi, hogy – a munkavállalók és a munkáltatók érdekképviseleti szerveivel egyeztetve – kialakítsa az egészség, a munkavégző képesség megóvására, a munkabiztonságra és a munkakörnyezetre vonatkozó országos programját, amelynek megvalósulását időszakonként felülvizsgálja. Ez a munkavédelem országos programja amelynek célja a jelen munkavédelmi problémáinak megoldása és a jövő problémáinak megelőzé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2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2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A munkaeszközök általános munkavédelmi követelményei:</a:t>
            </a:r>
            <a:r>
              <a:rPr b="0" lang="hu-H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26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cc"/>
                </a:solidFill>
                <a:latin typeface="Times New Roman"/>
              </a:rPr>
              <a:t>A munkaeszközök és használatuk minimális biztonsági és egészségügyi követelményeit, részletesen a 14/2004. (IV. 19.) FMM rendelet, a munkahelyek minimális munkavédelmi követelményeit 3/2002. (II. 8.) SzCsM-EüM együttes rendelet tartalmazza. A gépek biztonsági követelményeit és megfelelőségének tanúsítását a 21/1998. (IV.17.) IKIM rendelet ismerte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Traktorok és mezőgazdasági gépek speciális biztonsági követelményei: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 munkavégzésre vonatkozó lényeges biztonsági követelmények</a:t>
            </a: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gépek üzemeltetésével kapcsolatos veszélyek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just">
              <a:lnSpc>
                <a:spcPct val="100000"/>
              </a:lnSpc>
              <a:buNone/>
              <a:tabLst>
                <a:tab algn="l" pos="0"/>
                <a:tab algn="l" pos="352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133720"/>
            <a:ext cx="792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7680"/>
            <a:ext cx="8280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A gépek üzemeltetésével kapcsolatos veszélyek</a:t>
            </a:r>
            <a:r>
              <a:rPr b="0" i="1" lang="hu-H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echanikai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Villamos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ő okozta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aj, rez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nyagok, okozta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z ergonómiai elvek mellőzéséből eredő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Vezérlési hi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gyéb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 gép mozgásából eredő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 gépen lévő munkahely nem megfelelő kialakításából eredő veszél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formáció hiány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739520"/>
            <a:ext cx="79930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 munkavégzésre vonatkozó lényeges biztonsági követelmények</a:t>
            </a: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Erő- és munkagépet, berendezést csak olyan személy vezethet, kezelhet, aki rendelkezik vezetői, kezelői engedéllyel és a munkavégzésre alkalmas a munkakö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cc"/>
                </a:solidFill>
                <a:latin typeface="Times New Roman"/>
              </a:rPr>
              <a:t>egészségügyi alkalmassági vizsgálatok alapján.</a:t>
            </a:r>
            <a:r>
              <a:rPr b="0" lang="hu-H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7180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5000"/>
            <a:ext cx="6858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A talajműveléssel kapcsolatos munkabiztonsági követelmények </a:t>
            </a:r>
            <a:br>
              <a:rPr sz="18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Tápanyag visszapótlás munkabiztonsági követelményei</a:t>
            </a:r>
            <a:br>
              <a:rPr sz="18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 A növényvédelem munkabiztonsági követelményei</a:t>
            </a:r>
            <a:br>
              <a:rPr sz="20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989000"/>
            <a:ext cx="79930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A talajműveléssel kapcsolatos munkabiztonsági követelmén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munkagépeket csak mechanikusan rögzített állapotban szabad szállí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tisztítani csak erre a célra készített nyeles szerszámmal szab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munkagépen művelő eszközt cserélni, azon karbantartást végezni, csak álló helyzetben, a hajtás szétkapcsolása után, a munkagép biztonságosan alátámasztott helyzetében szab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szántáskor  megfelelő fordulósávot kell hagy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munka irányításával egy felelős személyt meg kell bíz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Tápanyag visszapótlás munkabiztonsági követelményei</a:t>
            </a:r>
            <a:br>
              <a:rPr sz="1600"/>
            </a:b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jól záródó munkaruha, lábbeli, kézvédő kesztyű, sapka, védőszemüveg és porvédő maszk biztosítása szüksé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mosakodást biztosítani k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szerves- és műtrágyatárolók közvetlen közelségében az étkezés, az ivás és a cigarettázás nem megengedhető, étel és ital nem tárolhat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trágyaszóró pótkocsira feljárólépcsőn (létrán) szabad le és fel közleked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A növényvédelem munkabiztonsági követelményei</a:t>
            </a:r>
            <a:br>
              <a:rPr sz="1600"/>
            </a:b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Növényvédő szer kijuttatásával kizárólag 18. életévét betöltött férfi foglalkoztatható, aki előzetes, időszakos és soron kívüli orvosi vizsgálatokon erre alkalmasnak minősül, valamint a szerek szakszerű és biztonságos felhasználására vonatkozó ismeretekkel rendelkezik. A növényvédelem munkabiztonsági követelményeit, részletesen, az 5/2001. (I.16.) FVM rendelet tartalmaz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36232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99072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4840" y="489600"/>
            <a:ext cx="516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szárítás munkabiztonsági követelmény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etés, ültetés munkabiztonsági követelmény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takarítás munkabiztonsági követelménye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844640"/>
            <a:ext cx="75614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A szárítás munkabiztonsági követelménye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Szárító berendezéseket csak szakképzett személy kezelhet.</a:t>
            </a:r>
            <a:r>
              <a:rPr b="0" lang="hu-HU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Hangsúlyozottan foglalkozni kel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tüzelőberendezés begyújtása előtti átszellőztetéssel (előszellőztetés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sikertelen gyújtás esetén követendő eljáráss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z égés folyamatosságának megfigyelésével (állandó felügyeletet igénylő berendezésnél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helyiség mesterséges szellőztetéséve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z üzemzavar esetén teendő intézkedésekkel és a rendszeres ellenőrzésé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Vetés, ültetés munkabiztonsági követelmény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z erőgép vezetője és a vető-ültető gép kezelője között biztosítani kell a jelzés adásának és észlelésének lehetőségé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Több kezelőszemélyt igénylő munkagépen a jelzőberendezés működtető elemét úgy kell elhelyezni, hogy azt legalább két kezelő személy működtetni tudj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vető- és az ültetőgép kezelőhelyét menet közben elhagyni nem szab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imes New Roman"/>
              </a:rPr>
              <a:t>Betakarítás munkabiztonsági követelmény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Bálázógép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rató-cséplőgép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Burgonya betakarító gép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Szecskázó gép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kertészeti termelés munkabiztonsága (szőlő, gyümölcs)</a:t>
            </a:r>
            <a:r>
              <a:rPr b="0" lang="hu-HU" sz="44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44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z állattenyésztés munkabiztonsága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895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3600" y="32767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05000"/>
            <a:ext cx="8424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ahoma"/>
              </a:rPr>
              <a:t>A kertészeti termelés munkabiztonsága (szőlő, gyümölcs)</a:t>
            </a:r>
            <a:r>
              <a:rPr b="0" lang="hu-HU" sz="16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szőlő metszésének és csonkázásának munkabiztonság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Gyümölcsszedéshez, metszéshez és sebkezeléshez - 2 m magasság feletti munkavégzéshez - megfelelően szilárd, biztonságos állású segédeszközt (létra, zsámoly, szedőállvány, szedőszán stb.) kell használni. Egyágú létrán végzett munka esetén nemcsak a létrát kell a fához bizton­ságosan rögzíteni, hanem a munka­végzést végző személynek is munka­övet kell használni. A gyümölcsöt szállító edénynek (ládának) olyan fülének vagy fogójának kell lenni, amely kézsérülést nem okoz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Tahoma"/>
              </a:rPr>
              <a:t>Az állattenyésztés munkabiztonsá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gazdasági udvar biztonságos kialakítá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z állatokkal való bánásmód, az állatszállítás munkabiztonsá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cc"/>
                </a:solidFill>
                <a:latin typeface="Times New Roman"/>
              </a:rPr>
              <a:t>A silótárolás munkabiztonsági követelmény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651528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2:41:52Z</dcterms:created>
  <dc:creator>Pusztai Orsolya</dc:creator>
  <dc:description/>
  <dc:language>en-US</dc:language>
  <cp:lastModifiedBy>Kovács Imre</cp:lastModifiedBy>
  <dcterms:modified xsi:type="dcterms:W3CDTF">2006-05-05T10:26:16Z</dcterms:modified>
  <cp:revision>34</cp:revision>
  <dc:subject/>
  <dc:title>HUMÁNSTRATÉGIA</dc:title>
</cp:coreProperties>
</file>