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583B-5DF7-4BF3-BA54-8E04DFB3E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FC0F-E538-4889-810E-C6EBA87F0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0698-B0DD-4988-80A0-BD49BB8D1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03F3-63A4-401E-A56D-8AE1A23D8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651D-A4EA-47F5-AECB-143FD1A58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BF60-F735-439A-9090-5C35CAB77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65A0-BA1D-44DD-AE17-60C663804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C664-2F87-4EFB-9A85-52E1FE4D4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8646-3958-4824-AD62-083B4DF4C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A128-FB82-4BC0-82FF-7C225CA36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C9DA-8D8E-42EC-88BD-61CCEF1BE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7E6F-204D-40C2-B72D-6629F02E4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F549B-6124-4AA6-88CC-C974B6D8A0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A NAPRAFORGÓ TERMESZTÉSE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ÖVÉNYTERMESZTÉS GYAKORL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Ökológiai igények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Comic Sans MS"/>
              </a:rPr>
              <a:t>jelentős vízigény (470-550 mm) - gyökérzet max.: tányérképződéstől virágzás végéig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Comic Sans MS"/>
              </a:rPr>
              <a:t>melegigényes - éréskor száraz meleg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Comic Sans MS"/>
              </a:rPr>
              <a:t>talajra kevésbé igénye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Vetésváltás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visszatérhetőség 5 év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kalászosok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silókukorica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Comic Sans MS"/>
              </a:rPr>
              <a:t>hüvelyes, pillangós - nem gazdaságo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Comic Sans MS"/>
              </a:rPr>
              <a:t>cukorrépa, burgonya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Comic Sans MS"/>
              </a:rPr>
              <a:t>dohány, kender, len, paradicsom, stb. - fehérpenész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utána: kisebb vízigény, kapás - </a:t>
            </a:r>
            <a:r>
              <a:rPr b="1" i="1" lang="en-US" sz="2800" spc="-1" strike="noStrike">
                <a:solidFill>
                  <a:srgbClr val="ffffff"/>
                </a:solidFill>
                <a:latin typeface="Comic Sans MS"/>
              </a:rPr>
              <a:t>hüvelyest n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Talajművelési rendszer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Ősszel: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arlóhántás és ápolás - nehéztárcsa + gyűrűshenger 6-10 cm mélyen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lapművelés (20-25 cm mélyen):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árcsás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ltivátoros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azító + tárcsa 40-60 cm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azító + szántás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zántás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elmunkálás - simító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Comic Sans MS"/>
              </a:rPr>
              <a:t>Tavasszal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Comic Sans MS"/>
              </a:rPr>
              <a:t>magágykészítés - kombinátor, ásóborona 10 cm mélyen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Comic Sans MS"/>
              </a:rPr>
              <a:t>magágy lezárása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Comic Sans MS"/>
              </a:rPr>
              <a:t>vetéssel egy menetben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Comic Sans MS"/>
              </a:rPr>
              <a:t>gyűrűsheger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Tápanyagellátás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Comic Sans MS"/>
              </a:rPr>
              <a:t>országos átlag: 2 t/ha kaszattermés N 30 - 80 kg/ha P 40 - 120 kg/ha K 80 - 140 kg/ha átlagos műtrágyaigény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Comic Sans MS"/>
              </a:rPr>
              <a:t>sok N - csökken az olajtartalom!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Comic Sans MS"/>
              </a:rPr>
              <a:t>K növeli a szárazságtűrés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Comic Sans MS"/>
              </a:rPr>
              <a:t>Ca, Mg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Vetés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Comic Sans MS"/>
              </a:rPr>
              <a:t>70 vagy 76,2 cm sortávolság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Comic Sans MS"/>
              </a:rPr>
              <a:t>nagy olajtartalmú hibridek: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Comic Sans MS"/>
              </a:rPr>
              <a:t>április második fele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Comic Sans MS"/>
              </a:rPr>
              <a:t>4-6 cm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Comic Sans MS"/>
              </a:rPr>
              <a:t>42 000 - 55 000 növény/ha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Comic Sans MS"/>
              </a:rPr>
              <a:t>étkezési hibridek vagy szabad elvirágzású fajták: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Comic Sans MS"/>
              </a:rPr>
              <a:t>április eleje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Comic Sans MS"/>
              </a:rPr>
              <a:t>6-8 cm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Comic Sans MS"/>
              </a:rPr>
              <a:t>34 000 - 43 000 növény/ha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Növényápolás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Comic Sans MS"/>
              </a:rPr>
              <a:t>kártevők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Comic Sans MS"/>
              </a:rPr>
              <a:t>kórokozók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Comic Sans MS"/>
              </a:rPr>
              <a:t>pl.: szürke vagy fehérpenészes szár és tányérrothadás, diaportés szár és tányérfoltosság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Comic Sans MS"/>
              </a:rPr>
              <a:t>gyomok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Comic Sans MS"/>
              </a:rPr>
              <a:t>atrazinérzékenység! - kukorica után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Comic Sans MS"/>
              </a:rPr>
              <a:t>35 - 40 cm magasságtól jó gyomelnyomó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Betakarítás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Comic Sans MS"/>
              </a:rPr>
              <a:t>érés kezdete - citromsárga a tányér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Comic Sans MS"/>
              </a:rPr>
              <a:t>betakarítás: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Comic Sans MS"/>
              </a:rPr>
              <a:t>kaszat 15-18%-os nedvességtartalmú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Comic Sans MS"/>
              </a:rPr>
              <a:t>tányér 30 %-os nedvességtartalmú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Comic Sans MS"/>
              </a:rPr>
              <a:t>állományszárítás a kaszat 30-35%-os nedvességtartalmánál - Reglone –– 5-7 nap múlva betakarítá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Comic Sans MS"/>
              </a:rPr>
              <a:t>tisztítá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Comic Sans MS"/>
              </a:rPr>
              <a:t>kaszatok szárítása 10 % alá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Comic Sans MS"/>
              </a:rPr>
              <a:t>tárolá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KÖSZÖNÖM A FIGYELMET!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ffffff"/>
                </a:solidFill>
                <a:latin typeface="Comic Sans MS"/>
              </a:rPr>
              <a:t>NAPRAFORGÓ – Helianthus annuus L.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Észak-Amerika nyugati részéről származik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hazánkban az 1890-es évektől vált ismertté dísznövénykén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30-as évektől, illetve a II. Világháborút megelőző időszaktól termesztették a nagyobb gazdaságokban, kötelezően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Tájfajták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Comic Sans MS"/>
              </a:rPr>
              <a:t>Nyírségi, Kállói, Szabolcsi, Anarcsi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Comic Sans MS"/>
              </a:rPr>
              <a:t>Lovászpatonai, Mezőhegyesi, Kisvárdai, Iregi fajták 35 % körüli olajtartalomma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Comic Sans MS"/>
              </a:rPr>
              <a:t>1960-tól 45 % feletti olajtartalom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Comic Sans MS"/>
              </a:rPr>
              <a:t>GK-70, Viki – 51-55 % olajtartalom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ff"/>
                </a:solidFill>
                <a:latin typeface="Comic Sans MS"/>
              </a:rPr>
              <a:t>Napraforgónemesítés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Comic Sans MS"/>
              </a:rPr>
              <a:t>A hazai napraforgótermesztés kezdetei a Nyírséghez kapcsolhatók, mert a kelet felől érkező újvilági növény itt vált először ismerté és kedveltté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Comic Sans MS"/>
              </a:rPr>
              <a:t>Kutatás, nemesítés a II. Vh. után indult meg hazánkban, Westsik Vilmo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Comic Sans MS"/>
              </a:rPr>
              <a:t>1974 Nyíregyháza, heterózisnemesítés, keresztezéses hibridek, citoplazmás hímsterilitá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280" y="274680"/>
            <a:ext cx="793116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Kutatási együttműködés: SEMUNDO + LIEBIG UNIVERSITAT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11280" y="1989000"/>
            <a:ext cx="80755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Comic Sans MS"/>
              </a:rPr>
              <a:t>Fajták: KISVÁRDAI, ANITA, Cms - V - 110 hímsteril vonal, CR - V - 40 restoráló vonal, CR - V - 42 restoráló vonal, KATHARINA, THERESA, CR - V - 66 restoráló vonal, Cms - 93 - 160 B hímsteril vona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Comic Sans MS"/>
              </a:rPr>
              <a:t>1954-2000 közöt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Fajtákkal szembeni igény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tabil termőképesség és termésbiztonság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jó ökológiai alkalmazkodóképesség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agyméretű, magas olajtartalmú kaszat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edvező héj-bél arány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 tányér előnyös formája és állása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z állomány kiegyenlítettség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zárszilárdság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zárazságtűré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jó nektártermelés és pollenprodukció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jó olajminőség és nagy fehérjetartalom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etegség- és rovarrezisztencia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 hibridek gazdaságos vetőmag-produkciója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A hazai termesztés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Comic Sans MS"/>
              </a:rPr>
              <a:t>2004-ben 47 908 ha-on vetették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Comic Sans MS"/>
              </a:rPr>
              <a:t>2,547 t/ha orsz. átlag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Comic Sans MS"/>
              </a:rPr>
              <a:t>termőterülete igen ingadozó, 300-560 ezer ha közöt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Comic Sans MS"/>
              </a:rPr>
              <a:t>termésátlag 1,22-2,03 t/ha közöt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hu-HU" sz="4000" spc="-1" strike="noStrike">
                <a:solidFill>
                  <a:srgbClr val="ffffff"/>
                </a:solidFill>
                <a:latin typeface="Comic Sans MS"/>
              </a:rPr>
              <a:t>Napraforgótermesztés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elhasználása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étolaj (telítetlen zsírsavak) - margari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pari felhasználás: növényvédő szerek, festékek, kozmetika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lajpogácsa (olaj kinyerése után) - takarmány - 50% fehérj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aszathéjból élesztő, etilalkohol, farostlemez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apraforgótányér - takarmány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iváló mézelő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zöldtakarmány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zöldtrágya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Morfológia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főgyökér - 2-3 m mélyre hato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eső- vagy harmatgyökerek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szár (120-250 cm )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virágzat: nyelves - meddő csöves - hímnős spirál - virágzás - termékenyülé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kasza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hibridek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9T09:27:48Z</dcterms:created>
  <dc:creator>Hidvégi Szilvia</dc:creator>
  <dc:description/>
  <dc:language>en-US</dc:language>
  <cp:lastModifiedBy>Hidvégi Szilvia</cp:lastModifiedBy>
  <dcterms:modified xsi:type="dcterms:W3CDTF">2005-11-29T12:27:08Z</dcterms:modified>
  <cp:revision>2</cp:revision>
  <dc:subject/>
  <dc:title>A NAPRAFORGÓ TERMESZTÉSE</dc:title>
</cp:coreProperties>
</file>