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B27-8AA0-41CB-A7CB-1A11AD82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5E5-6295-4CBD-8773-7220243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EAC-CA4C-4E07-9A56-F9F2276D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705-FF64-4E21-ABDA-61C297FF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CA9-1FD0-4A3C-BB82-C24FDDF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470-4B93-4D6B-A4D2-218146EA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03F-48A9-499C-9B01-D8C916C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B63-95F4-4D31-BD3E-1307001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E82-1D41-4ACF-B922-E8FDE57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F02-AA64-42B8-857E-549A2AD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95C-8361-4E8F-A9A2-E2F7D1B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DCE-A694-4A7A-B954-A734865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4CD-BB8C-4E50-A84A-AD94171E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A BURGONYA TERMESZ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NÖVÉNYTERMESZTÉS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2752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Termőhely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Gyenge termőképességű homoktalajok és a hűvösebb domb- és hegyvidék talajainak hasznosítását teszi lehető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Laza és középkötött talajt igény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Kiegyenlített hő- és vízgazdálkodású, semleges kémhatású, légjárható talajon terem j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Humuszos homok, csernozjom jellegű homok, laza öntéstalajok, könnyebb erdőtalaj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Alkalmatlanok a lassan melegedő, tömör, rögös, erodált talaj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Fontos a homogén tá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Éghajlat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sapadékos, mérsékelten meleg vidékek növén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vízigényét a hazai csapadék nem fedezi, öntözése igen költséges, emiatt a nyugati országokénál kisebbek a termésátlaga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idegebb talajban kelése lassú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umókötéskor a mérsékelt meleg növeli a gumók szám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Termésmennyi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zánóföldi termőh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Öntözetlen t/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Öntözött t/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I. Középkötött mezőségi tala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II. Középkötött barna erdőtala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5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III. Laza és homoktala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0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Elővetemény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előveteményre igén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jó előveteményei: kalászosok, fehér mustár, olajretek, egynyári szálastakarmányok, len, repce, borsó, lób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rossz előveteményei: kukorica, napraforgó, lucerna, cukorrépa, solanales, cirok, gyógynöv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önmaga után 3-4 évig ne vess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Talajelőkész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jó termését a nyári, lehetőleg nyirkos talajon végzett alapművelés határozza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ezárt, sekély tarlóhántás, majd 15 cm mély tarlóáp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któberig őszi szántás, ne munkáljuk el, 20-30 cm mélyen, kötöttségtől függő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avasszal vetőágy-készítés kombinátorral, 15-17 cm mél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Tápanyagig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 tonna gumótermés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itrogén 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szfor 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kálium 9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ész 3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gnézium 1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stállótrágyát az alapmunkákkal együtt, nyár végén forgassunk a talaj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zöldtrágya hatása kedvező, alászántását követően azonnal hengerezzü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Káliumigényes, minőségét a kálium kedvezően befolyás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Ült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április 5-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ortávolság 70-7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ültetési mélység az eredeti talajfelszín alatt: 1-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umószám, db/ha: 42-46 ezer db/ha étkezési célra, illetve 46-51 ezer db/ha vetőgumó cél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umóméret 2,5-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őtávolság 34-2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imer bakhát a gumó felett: 8-1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zekunder bakhát a barázda felett: 24-3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Áp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gyomirtás: minőséget, terméshozamot befolyásoló gyomok: csillagpázsit, moharfajok, kakaslábfű, disznóparéj, libatopfaj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tarackos gyomoktól a burgonyatábla legyen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Betegségek: burgonyavész, burgonyarák, sugárgombás varasodás, alternária, fuzárium, Erwinia (feketelábúság), rizoktónia, vírusbetegségek (kizáró ok vetőgumóná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Kártevők: burgonyabogár, gumórontó fonálféreg, levéltetvek, cserebogárpajor, drótféreg, lótet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Rendellenességek: a gumó alakbeli rendellenességei az ikernövés, fiasodás, a babásodás, az átnövés. Ezek szakszerű alapozó talajműveléssel elkerülhető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Élettani betegségek: a gumó zöldülése, édesedés, vasfoltossá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Öntö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450-550 mm vizet igényel nagy terméshez a vegetációs idő a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kelést követő szárazság esetén öntözni k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öntözés esetén a párásítás miatt fokozott növényvédelemre van szük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3-4 alkalommal végzett öntözés a legeredményesebb, de a gumókifejlődést megelőzően 7-10 nappal be kell fejez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EREDETE,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él-Amerikából szárma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urópában és hazánkban a XVIII. században terjedt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1950-70 között 150-250 ezer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a 30 ezer ha, vetőburgonya mindössze 100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ntos élelmezési szerep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Betakar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Idejét a piac igénye és a termesztési cél határozza m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Tárolásra teljes érettségben takarítunk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A gumó érése a héj száradásával, ún. parásodásával ér véget. Ezt utóérés, majd nyugalmi idő köve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Szántóföldön: súlyállandóság, a lombozat elszáradása, fonnyadása jel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Betakarítás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lombtalanítás, állományszárítás, ezután 1-2 héttel a betakarítás megkezdhet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szárzú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1 vagy 2 menetes gépi betakar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szedő-rakodó vagy szedő-rakodó-válogató gép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a kétmenetes betakarítás kíméletes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Tár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fontos a sérülésmentes gumó, erről a betakarítás során kell gondosko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átválogatott, tiszta és száraz gumók kerülhetnek a tároló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15-20 C</a:t>
            </a:r>
            <a:r>
              <a:rPr b="0" lang="hu-HU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-on szárít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10-14 nap utóparásítás 12-15 C</a:t>
            </a:r>
            <a:r>
              <a:rPr b="0" lang="hu-HU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lassú, folyamatos hűtés 1-5 C</a:t>
            </a:r>
            <a:r>
              <a:rPr b="0" lang="hu-HU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-ig, 0,5 C</a:t>
            </a:r>
            <a:r>
              <a:rPr b="0" lang="hu-HU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-onként napo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7799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FELHASZN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Fogyasztása hazánkban 50-55 kg/fő/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Fontos élelmiszer, rost- és C-vitamin-forrás, főleg a téli hónapok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A hazai termelés kielégíti saját szükségletei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Export-termék, főleg a korai burgonya, versenyképes az EU piac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2005-ben 26-27 ezer ha-on termelt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48000" y="76464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Fajt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184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11 magyar fajta van jelenleg a Közösségi Fajtalis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Igen korai és korai: Réka, Rebeka, Pannónia (jelö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Középkorai és középérésű: Ciklámen, Kánkán, Százszorszép, Somogyi sárga kifli, Góliát, White lady, Hópehely, Lilla (Lore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260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Fajtákkal szembeni elvá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Termésbiztonság, nagy term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Korai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Vírusrezisztencia, betegségellenáll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Felhasználási célnak megfelelő konzisztencia (lisztesség, szín, beltartal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Tárol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3300"/>
                </a:solidFill>
                <a:latin typeface="Arial"/>
              </a:rPr>
              <a:t>Élettani betegségekre ne legyen haj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Felhasználási c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Élelmiszer: újburgonya, tárolható burgonya,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Szeszgyá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3300"/>
                </a:solidFill>
                <a:latin typeface="Arial"/>
              </a:rPr>
              <a:t>Takar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0360" y="2492280"/>
            <a:ext cx="13050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545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Felhasználási típu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133720"/>
            <a:ext cx="8136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00"/>
                </a:solidFill>
                <a:latin typeface="Arial"/>
              </a:rPr>
              <a:t>A típus: főzés után is egyben marad a gumó. Burgonyasaláta, hidegkonyhai készítmények célj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00"/>
                </a:solidFill>
                <a:latin typeface="Arial"/>
              </a:rPr>
              <a:t>B típus: kissé szétfővő, enyhén lisztes, kissé összeálló húsú. Vegyes hasznosítású étkezési burgonya, sült krumpli célj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00"/>
                </a:solidFill>
                <a:latin typeface="Arial"/>
              </a:rPr>
              <a:t>C típus: szétfővő, laza szerkezetű, lisztes, porhanyós, száraz húsú. Pürépehely, chips és tészták alapany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3300"/>
                </a:solidFill>
                <a:latin typeface="Arial"/>
              </a:rPr>
              <a:t>D típus: teljesen szétfővő, erősen lisztes, száraz. Keményítő, ipari pürépehelygyártás céljára, vagy takarmány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144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33:56Z</dcterms:created>
  <dc:creator>Hidvégi Szilvia</dc:creator>
  <dc:description/>
  <dc:language>en-US</dc:language>
  <cp:lastModifiedBy>Hidvégi Szilvia</cp:lastModifiedBy>
  <dcterms:modified xsi:type="dcterms:W3CDTF">2005-11-10T08:51:32Z</dcterms:modified>
  <cp:revision>9</cp:revision>
  <dc:subject/>
  <dc:title>A BURGONYA TERMESZTÉSE</dc:title>
</cp:coreProperties>
</file>