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1555-BFE3-4D61-86DA-F670E1093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4FA1-D768-4947-B206-FEBAEA4A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4464-BC11-477F-BD58-862886709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D184-71B5-41A8-8EED-7126B9AAA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9926-56A6-41D3-BA05-819E7418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6175-86E6-446A-948D-452CDC09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8D31-DDCB-423E-ABE1-2D961DD1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0351-4847-424E-BA61-D5AE8AF5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E1D4-4B1B-43C2-BD2B-058994F9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AB41-6F74-441E-8B14-86933E6D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AF50-6760-45F2-B2B6-23705937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0F9D-FD05-4167-B972-52B06997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9C12-D98D-4134-98C2-0BF6D28C6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cetermesz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övénytermesztés gyakor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cetermesztés Magyarország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18. századtól termesztenek repcét hazánk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ilágításra és étolajként használtá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étkezési felhasználását korlátozza az erukasav-tartal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akarmányozási szerepe ma már jelentő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zöldtrágyanövé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ermőterülete igen változ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2005-ben 144 727 ha-on termesztetté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lhasznál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lágítóola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tola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ari nyersanyag (festék- és szappangyártá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armányoz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öldtrág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tésszerkezetben kedvező szerepe 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lentősé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1920 és 1990 között 2-60 ezer ha között változott a termőterü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Jelenleg a biodízel-előállítás miatt Európában növekszik a termőterület (Mo: 144 727 ha, 20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rmésátlaga 1,6 t/ha volt 2005-ben, bár az OMMI 3,3 t/ha termésátlagot mé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zármaz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él-Nyugat Euró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Észak-Afr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Ázsiában többezer éve termeszt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merikában is számottevő a terü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jtákkal szembeni igé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zermag-tömeg (4,0-6,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rmésbiztonsá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rukasav-tartal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etakaríthatósá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glükozinát-tartal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olajtartal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agytűr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Éghajlatigé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űvösebb vagy mérsékelten meleg területet igényel, származásának megfelelő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agyérzéke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áraz talajon kevésbé fagyérzéke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ejlődési állapota is meghatározza a fagytűrésé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övekedési küszöbértéke 7-8 C</a:t>
            </a:r>
            <a:r>
              <a:rPr b="0" lang="hu-HU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irágzáskor magas páratartalmat igény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zánkban elsősorban a Dunántúlon és az Északi-középhegységben termeszt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lajigé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agy termésre tápanyagban gazdag talajon ké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zépkötött és ennél kissé lazább talajok alkalmasak a termesztésé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csernozjom, lankás lejtők, vízrendezett öntéstalaj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tésvált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orán lekerülő előveteményt igény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avaszi és őszi kalászos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etésváltásban jó előveteményként szere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alajjavító hatás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11:05:44Z</dcterms:created>
  <dc:creator>Hidvégi Szilvia</dc:creator>
  <dc:description/>
  <dc:language>en-US</dc:language>
  <cp:lastModifiedBy>Hidvégi Szilvia</cp:lastModifiedBy>
  <dcterms:modified xsi:type="dcterms:W3CDTF">2005-12-13T12:36:04Z</dcterms:modified>
  <cp:revision>2</cp:revision>
  <dc:subject/>
  <dc:title>1. dia</dc:title>
</cp:coreProperties>
</file>