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C47-5609-49B6-BE02-F21A4485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2D0-ED81-48BC-AE1C-CCEE672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6F2-A0E6-43D3-A636-16C17336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129-0A82-4810-8671-EBA8A552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B38-7C26-4276-8830-E7B399CF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40E-0950-4920-83D1-349224B3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73C-A5A5-413F-85DE-7217DFC5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746-E845-4184-BB28-309DA1F0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3E0-1076-4D3B-A0DA-C0C6FD3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DDC-280E-49A4-AE85-88D1F087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8A4-4A09-46C7-8EA9-261F93D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BB0-B3B2-433D-979A-5F2842B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AFCE-FC9D-425D-BD0B-406994C66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nder.lap.h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ffffff"/>
                </a:solidFill>
                <a:uFillTx/>
                <a:latin typeface="Arial"/>
              </a:rPr>
              <a:t>A kender (Cannabis sativa)</a:t>
            </a:r>
            <a:br>
              <a:rPr sz="4000"/>
            </a:br>
            <a:br>
              <a:rPr sz="4000"/>
            </a:br>
            <a:r>
              <a:rPr b="0" lang="hu-HU" sz="4000" spc="-1" strike="noStrike" u="sng">
                <a:solidFill>
                  <a:srgbClr val="ffffff"/>
                </a:solidFill>
                <a:uFillTx/>
                <a:latin typeface="Arial"/>
              </a:rPr>
              <a:t>Termeszté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e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eti a mélyen művelt talajt. Fontos a jó minőségű őszi mélyszán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ég korai vetésű növény. Az ország déli részén április eleje, északi részén április közepe a legmegfelelőbb vetésidő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abonasortávra vetjük, m2-enként 380-420 magot vessen. /így a vetőmag szükséglet 75-85 kg/ha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gkender-vetés. Vetőmagtermesztés céljára a kendert 70 cm-es sortávolságra vetjük. /Vetőmagszükséglet 7-10 kg/ha./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A vetés mélysége. Középkötött talajokon 2-4 cm, láptalajon 2-3 cm. Vetés után - száraz időjárás esetén - hengert is járassu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etakarítás és tár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Rostkender aratá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.Általában július vége, augusztus első har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aratás módja: Kézzel és gépp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egyszeresen lombtalanítani kell a kendert. 8-10 nappal ez után aratá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gépi betakarítás munkái sorrendben a következők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egyszeres lombtalanítás repülőgéppel vagy helikopterr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gymenetes aratás kévekötéss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kenderkévék kúpokba rakása kézzel, és száradás után a kenderkóró bálázá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épi rakodása és szállít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inőségi kategóriák: I., II. és III. osztály.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Magkender aratá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Magvak héja már kemény és a magot takaró levél sárga színű. Két menetes aratás. A kúpokban a mag utóérik és 10-14 nap múlva kicsépelhető.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 A cséplés a lombozáshoz hasonló módon, ponyvához való ütögetéssel, vagy speciális cséplőgéppel történik.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Tárolá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. Cséplés után a magot ki kell rostálni; száraz, szellős, de nem nagyon világos helyiségben tárolható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2349360"/>
            <a:ext cx="76676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ÖSZÖNÖM A FIGYELMET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FELHASZNÁLT IRODA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övénytermesztők zsebköny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ostnövényeink cimű kön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ender.lap.hu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(kép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szítette: Petróczi István MKK/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endszert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nder /Cannabis sativa L./ a Cannabinaceae családjába és a Cannibis nemzetségbe tartozik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A Cannibis nemzetség két fajból áll: A Cannabis sativa /L./ Serebr. és Cannibis indica Lam. A két faj közül hazánkban csak a C. sativa egyik alfajának, a termesztett kendrenek van jelentôsége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ndernek négy típusa, északi kender, közép-orosz kender, déli vagy mediterrán kender és az ázsiai kender. A hazánkban termesztett tiszta fajták a 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délkender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akköréhez tartoznak.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663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Felhaszn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nder értékes és fontos rostnövény, hazánk legfontosabb textilipari növén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felelő mennyiségben megtermelhetünk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ényegesen durvább rostja van, mint a len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dertermesztésünk alapján hazánk a jelentős kendertermelő és feldolgozó országok egyike Európáb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ánkban a rostkender termesztésnek történelmi hagyományai van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56360" y="5035680"/>
            <a:ext cx="2149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rfológiá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ender egynyári, kétlaki növé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yökérzet. A kendernek fejlett gyökérzete van, amely azonban a föld feletti részekhez viszonyítva kicsi, ezért tápanyagokban gazdag talajt kíván.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r. Alaktanilag lágy szár, amely a vegetáció végére - különösen tág térállásban - erősen elfásodik. Szára fás szővetből és háncs-szövetből áll. A háncsszövet háncsrostokat tartalmaz. A szár magassága /1-4 m/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vél. A kender levele ujjasan összetett.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irágzat kétla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mése makkocska, amelyet a gyakorlatban magnak nevezünk. Színe - fajtától függően - változó, tompafényű, márványozottan barnásszürke, szürkészöld, stb. Alakjuk, nagyságuk eltérő. Ezermagtömegük 15-25 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3280" y="6049800"/>
            <a:ext cx="1152720" cy="808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ghajlat, talajigény és vetésvált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írázásához alacsony hőmérséklet is elegendő, már 1-2 0C-on csírázásnak in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eg és párás időjárást igényel. A szárazságra különösen a fejlődés kezdetén érzéke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ülönösen virágzásig: július második felének időjárása jelentős a rostkender termés mennyiségére és minőségé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zág déli része - főként a Dél- Alföld - melegebb éghajlata a legalkalmasabb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alajig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ender a talaj, főleg az altalaj minősége iránt igényes növény, ezért fő termesztési körzeteit a talaj minősége határozza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lajigény vonatkozásában különbség van a rostkender és a magkender közöt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rostkender termesztésére legalkalmasabbak a tápanyagokban gazdag, mélyrétegű mezőségi talajok, folyami öntéstalajok, valamint a nem túl kötött réti agyagtalajok. Termeszthető a rostkender láptalajokon is, de itt a rost minősége - főleg a szakítószilárdsága - erősen kifogásolható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gkender termesztésére főleg a láptalajok és a hordalék öntéstalajok alkalmasak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etésvál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őveteményekkel szemben nem igényes. Tápanyagokban gazdag talajon önmaga után több éven keresztül is termeszthető. Legjobb előveteményei a pillangós virágú növények és a gyepek. Jó elővetemények még az istállótrágyázott kapásnövények is, de nálunk leggyakrabban két gabona közé szokott kerül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Tápanyagigény és trágyáz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ender tápanyagigényes növé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ápanyagok közül nagyon fontos a nitrogén. Legnagyobb nitrogénigénye fejlődése kezdetén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lentősége van a foszfornak és a káliumnak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rvestrágyázás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űtrágyázás. 100 kg kórótermésre vonatkoztatva: 1,5 kg N, 0,4 kg 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,8 kg 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 A foszfor és kálium műtrágyákat a kender alá is teljes egészében alaptrágyaként adjuk. A nitrogén megosztása: 40-60 % ősszel, ill. tavasszal kerül kiszórásra, vetés elő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polás és gyomir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nder kezdeti fejlődése vontatott, ilyenkor érzékeny a gyomok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agkender ápolása gyomirtásból és ritkításból á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ösen fontos munka az egyel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lyenkor fontos az ivararány beállítása 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ridkender-vetômag termesztésekor. Az anyasorokból a porzós egyedeket el kell távolíta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9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20:11:48Z</dcterms:created>
  <dc:creator>NoName</dc:creator>
  <dc:description/>
  <dc:language>en-US</dc:language>
  <cp:lastModifiedBy>Anonymous</cp:lastModifiedBy>
  <dcterms:modified xsi:type="dcterms:W3CDTF">2005-11-28T21:23:55Z</dcterms:modified>
  <cp:revision>15</cp:revision>
  <dc:subject/>
  <dc:title>A rostkender (Cannabis sativa)  Termesztés </dc:title>
</cp:coreProperties>
</file>