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835-1423-47DB-83C6-9FDEC53C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2DF-5E07-4CF7-8AF0-4D0DA458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C47-7BB2-4F88-819C-07A23371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853-44D3-4F5F-9BF5-0AF8F5A6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EC89-298E-4AE7-830C-BCF68882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9B46-7EF5-494C-BCED-5658A82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DD8A-EAFD-41A2-80E9-5B2E7DA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A7D-5F09-48A1-90E4-5EF54F0E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C5F-6CFA-447D-8EA5-3225748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8D8C-65CE-44E3-8198-A2B3CF72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D341-21F1-4C4E-92F5-AFB2AFB2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8BD-E5AC-4D4E-95BA-CF191F8C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CCA-B388-4A04-BB3A-7B9222E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DBEC-4E5C-4355-98C8-5D83042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9B2B-6504-4C8F-A4AD-6A81E0F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36C6-D9D4-418F-BBD9-019E4AB3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5848-0728-424B-9C48-8F0BFB2C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981-497A-4C71-AE7C-486964C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602-A096-4F25-B271-83CBDDD6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F25-5B53-4BCC-A374-84054A7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3AA-BB02-4029-8C17-02284852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764-189B-45CB-B612-4171115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CF3-94BF-4B53-8E0A-F2A94881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FB8-CDA5-40C7-BED4-659ADDB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440-2E07-4651-9EA0-3EB2521570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252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3349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2252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3349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8915400" cy="16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53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9E20-D9F7-4381-A96E-138CE4DCF94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63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ukoricatermesztés gyakorlat II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501336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IV. évfolyam, őszi félé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Ve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Időpont megválasztása talajhőmérséklet alapjá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Virágzásszinkron: eltérő időben vetett apa- és anyavonalak, azaz frakcionált vet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Pontosan beállított tőszám – meghatározza a termés minőségé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Növényápol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övényvédelmi kezelés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echanikus gyomir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Címerez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OMMI-ellenőrzés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Táblabejelentési kötelezettsé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Területi szemlék, legalább ötszö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Virágzás kezdete előtt 1-2 hét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5%-os virágzásk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3. és 4. a megtermékenyülés időszkáb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Apasorok eltávolítását ellenőrizve az érés idejé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Betakarítás, vetőmagfeldolgozá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8400" y="836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Szemnedves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Betakarítás: minta alapjá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Feldolgozá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Mennyiségi átvét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Minőségi átvét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Csöves kukorica fosztása, csőszelekció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Szárít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Morzsolás, tisztítás, minőségvizsgála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Átmeneti tárol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Tisztítás, osztályozás, kalibrál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Átmeneti tárol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Csáváz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Kiszerelés, csomagol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Mintavétel, fémzárolá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ámolási felad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120 ha-ról 3 t/ha kukoricát takarítanak be 32% nedvességtartalommal. Szárítást követően 14 % lesz a nedvességtartalom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ennyi vizet távolítottak el a szárítás sorá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ennyi lesz a leszárított kukorica töme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Megoldá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8400" y="10526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120 ha × 3 t/ha= 360 t, ennek 32 %-a, azaz 115.2 t víz és 68 %-a, 244.8 t szárazanya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zárítás után a 244.8 t szárazanyag = 86 %, ebből következik, hogy a 14 % víztartalommal együtt a szárítás utáni tömeg 284.65 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Az eltávolított víz az eredeti és a szárítás utáni tömeg különbsége alapján 75.35 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60948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Köszönöm a figyelmet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kukorica vetőmagtermeszté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Vetőmagtermesztés elkülönülése az árukukorica-termesztéstől – USA 1920-as évek, Magyarországon 1951-től termesztik az első hibrideket (Mv1, Mv5), melyeket Pap Endre nemesítet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jelenlegi termesz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65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Jelenleg hazánkban 25 000 ha-on termesztenek hibridkukorica-vetőmag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80 % S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18 % T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2 % 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Fajtafenntartás, keresztezés, hímsterilitá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99920"/>
            <a:ext cx="79992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Vonalfenntartás, szaporítás: A és B lépcső, a nemesítő intézetek végzi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C-lépcső: törzsszaporítás vagy alapanyag-termeszté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F1 vetőmag: vetőmagtermesztő üz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Vonatkozó szabvány: MSZ 6353:19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őhelyi sajátság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040" y="1413000"/>
            <a:ext cx="797724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unántú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fö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echnikai felszereltség, öntözhetősé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z agrotechnikai műveletek elvégzése optimális időben biztosítható legy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lajadottságok, kultúrállapo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esztéstechnológ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413000"/>
            <a:ext cx="78343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Általános technológ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Részletes, adott hibridre vonatkozó technológ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ptimális növényszám megadá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pa-anya sorok megfelelő arány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ületmegválasztás, izoláci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040" y="1196640"/>
            <a:ext cx="7761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Szabványnak megfelelő izoláci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Talajállapot: a vonalak érzékenyek, sok esetben gyengén kelnek (herbicidérzékenység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Nem lehet cserepesedésre hajlam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A gazdaságon belüli legjobb területek, lehetőleg a monokultúra kerülé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Ne legyen: fenyércirok, selyemmályva, csattanó maszlag sövény szulák, acat, szerbtöv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61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ővetem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Önmaga után néhány évig termeszthet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Diabrotica Vigrife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Gyomosod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Gombabetegség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Jó elővetemény: borsó, repce, burgonya, zöldbab, lóbab, paprikafélék, kalászos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Rossz elővetemény: cukorrépa, napraforgó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ápanyagellá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N 160- 200 k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P 120-160 k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K 180-200 k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1:23:50Z</dcterms:created>
  <dc:creator>Hídvégi Szilvia</dc:creator>
  <dc:description/>
  <dc:language>en-US</dc:language>
  <cp:lastModifiedBy>Szilvike</cp:lastModifiedBy>
  <dcterms:modified xsi:type="dcterms:W3CDTF">2004-10-06T08:18:34Z</dcterms:modified>
  <cp:revision>21</cp:revision>
  <dc:subject/>
  <dc:title>Hibridkukorica pollenvizsgálatok</dc:title>
</cp:coreProperties>
</file>