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6383-CA92-4504-B8D6-7A0E9CCCB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DFF1-D029-4556-8C1E-9A0FC042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A8A8-9AEC-483F-AC34-400A4CDA8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C55B-6E0C-43B5-BD6F-D8F77A073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9530-CCE1-40CB-BE4B-7F05FE82B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8497-1740-42B8-9B6B-47DCD33C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5720-315B-4A4B-A139-1BBEA7D7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FCDB-7951-4A7D-9AED-4E66312D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A680-0090-4707-A185-43C55519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031E-C578-4869-A340-72F5DE2B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70D4-FD9A-454B-866B-21E72BB2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FCEA-2DC5-44EC-9C46-D73CBE12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ABBF-67E7-4933-A4F5-437F6983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F6EE-798B-4EE6-824D-7C3E52D8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E996-220A-4514-8358-CE74A469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675E-9AEA-4A39-9A71-F352B3B97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D4CD-9D4B-498D-98B5-6BE505A9E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448C-A183-462D-AAE1-30C52A86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5B0A-49F4-4809-B566-DF556FE5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766D-C0C4-4588-9FA4-4499208D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15DD-2C88-4EC4-BBFC-096D0B95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ADB6-8925-4F4E-9AF5-BF0EFFEA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F8D7-9B6D-4B58-9C09-EE72102E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A800-6D12-475C-BC65-9A7C7351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782C-0322-474B-A4C2-BE124018953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2252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33498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0" y="2252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0" y="33498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3"/>
          <a:stretch/>
        </p:blipFill>
        <p:spPr>
          <a:xfrm>
            <a:off x="228600" y="5029200"/>
            <a:ext cx="8915400" cy="166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53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BB90-0D73-4255-B796-3297E9BABAD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63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ukoricatermesztés gyakorlat I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5013360"/>
            <a:ext cx="46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Times New Roman"/>
              </a:rPr>
              <a:t>IV. évfolyam, őszi félév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rmesztési területe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66"/>
                </a:solidFill>
                <a:latin typeface="Times New Roman"/>
              </a:rPr>
              <a:t>Származási helye, géncentruma Dél-Amerika, Peru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66"/>
                </a:solidFill>
                <a:latin typeface="Times New Roman"/>
              </a:rPr>
              <a:t>1492-ben került Európáb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66"/>
                </a:solidFill>
                <a:latin typeface="Times New Roman"/>
              </a:rPr>
              <a:t>Eredetileg rövidnappalos, meleg- és vízigényes növén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66"/>
                </a:solidFill>
                <a:latin typeface="Times New Roman"/>
              </a:rPr>
              <a:t>Európában: Spanylország, Franciaország…stb, FAO-szám, azaz öklógiai igények szerinti termeszthetősé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66"/>
                </a:solidFill>
                <a:latin typeface="Times New Roman"/>
              </a:rPr>
              <a:t>Magyarországon: Békés, Jász-Nagykun-Szolnok, Dunántúl, Kisalföl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Termőhelyigén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Víz- és tápanyagigény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FAO-szám mértékében hőigény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Mélyrétegű, humuszban gazdag talajt igény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Talajigén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Mélyrétegű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Jó tápanyagszolgáltató-képességű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Jó vízforgalmú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Magas humusztartalmú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Középkötött vályogtalajok, réti csernozjomo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Vízigén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920" y="69228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Nagy vízigényű, jó fitomassza-produkcióhoz a tenyészidő alatt 460-580 mm csapadé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Kritikus fenofázisok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66"/>
                </a:solidFill>
                <a:latin typeface="Times New Roman"/>
              </a:rPr>
              <a:t>Csírázás, kelé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66"/>
                </a:solidFill>
                <a:latin typeface="Times New Roman"/>
              </a:rPr>
              <a:t>Címerhányás-szemtelítődés (június-augusztu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5640" y="4292640"/>
            <a:ext cx="777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3573360"/>
            <a:ext cx="720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Feltételes öntözési zónából a golbális       felmelegedés miatt feltétlen öntözési zónának számít hazán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Tápanyagigén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N 37-21 kg/t/h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P</a:t>
            </a:r>
            <a:r>
              <a:rPr b="0" lang="hu-HU" sz="32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O</a:t>
            </a:r>
            <a:r>
              <a:rPr b="0" lang="hu-HU" sz="3200" spc="-1" strike="noStrike" baseline="-25000">
                <a:solidFill>
                  <a:srgbClr val="ffcc66"/>
                </a:solidFill>
                <a:latin typeface="Times New Roman"/>
              </a:rPr>
              <a:t>5</a:t>
            </a: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 13 kg/t/h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K</a:t>
            </a:r>
            <a:r>
              <a:rPr b="0" lang="hu-HU" sz="32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O 22 kg/t/h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Fajlagos tápanyagigény. Az öntözés növeli a N-igényt. Jó termés semleges kémhatású, Ca-mal megfelelően ellátott talajokon várható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Agrotechnik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7724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Elővetemén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Talajelőkészíté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Veté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Növényápolá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Betakarítá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Talajelőkészíté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Mélylazított, jó kultúrállapotú, morzsás talaj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Periodikus, 3-5 évenkénti mélyművelés (40-50 cm mélylazítás, 30-35 cm szántá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Évenként 20-28 cm szántá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Szántáselmunkálá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Magágynyitá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Elővetemén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Times New Roman"/>
              </a:rPr>
              <a:t>Monokultúrában termeszthető növény volt a kukoricaogár megjelenéséig (Diabrotica vigrifer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Times New Roman"/>
              </a:rPr>
              <a:t>Jó előveteményei: lucerna, búza, kedvező vízkészletet és jó talajállapotot hagyó növénye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Times New Roman"/>
              </a:rPr>
              <a:t>Kedvezőtlen: hosszan tartó monokultúra, cukorrépa, napraforgó, nagy vízfogyasztású növénye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24000" y="2492280"/>
            <a:ext cx="10080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Veté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65 000-75 000 csíra/h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4-6 cm vetésmélysé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76,2 vagy 75 cm sortávolsá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Állománysűríthetőség felhasználási cél és hibrid szeri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10 C</a:t>
            </a:r>
            <a:r>
              <a:rPr b="0" lang="hu-HU" sz="3200" spc="-1" strike="noStrike" baseline="30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 talajhőmérséklet felett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Növényápolá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Növényvédel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Állomány mechanikai gyomirtása és talajlazítása, sorközművelő kultivá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lombtrágyázá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kukorica típusai, változata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akarmány, csemege, pattogatni való, lófogú, simaszemű (puha vagy lisztes, illetve keményszemű), pelyvás kukoric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Jellemzőek az eltérő beltartalmi értékek, olaj- és fehérjetartalo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Betakarítá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Önjáró csőtörő-fosztó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Önjáró szemes betakarítógé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Kézi betakarítá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Biológiai érés: fekete réteg kialakulás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Szemnedvesség: vízleadó-képesség, időjárás függvényében 18-32 % körü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Szeptember-októb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80880" y="609480"/>
            <a:ext cx="41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Köszönöm a figyelmet!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jelenlegi termeszté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1665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Szabad elvirágzású fajták (jelenleg fajtajegyzékben egyetlen fajt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Hibridek (SC, TC, DC, MSC, MTC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Beltenyésztett vonala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Termesztési terület: 1.000.000. h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SC, MTC – módosított hibridek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Times New Roman"/>
              </a:rPr>
              <a:t>Az anyavonal megosztása két testvérvonalra, ezek keresztezése, majd a kapott utód keresztezése az apavonallal – nagyobb mennyiségű vetőmag, ezért olcsóbb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Times New Roman"/>
              </a:rPr>
              <a:t>A kétvonalas hibridek vetőmagja a legdrágább, mivel ebből csak kis mennyiség állítható elő, viszont igen jó a termőképességük, erőteljes heterózishatás, hibridvig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hibridkukorica-fajták legfőbb jellemző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97688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66"/>
                </a:solidFill>
                <a:latin typeface="Times New Roman"/>
              </a:rPr>
              <a:t>FAO-szá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66"/>
                </a:solidFill>
                <a:latin typeface="Times New Roman"/>
              </a:rPr>
              <a:t>Vízleadó-képessé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66"/>
                </a:solidFill>
                <a:latin typeface="Times New Roman"/>
              </a:rPr>
              <a:t>Termőképesség, termésbiztonsá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66"/>
                </a:solidFill>
                <a:latin typeface="Times New Roman"/>
              </a:rPr>
              <a:t>Sűríthetősé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66"/>
                </a:solidFill>
                <a:latin typeface="Times New Roman"/>
              </a:rPr>
              <a:t>Koraiság, megfelelő érésidő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66"/>
                </a:solidFill>
                <a:latin typeface="Times New Roman"/>
              </a:rPr>
              <a:t>Rezisztencia, toleranc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66"/>
                </a:solidFill>
                <a:latin typeface="Times New Roman"/>
              </a:rPr>
              <a:t>Megfelelő harvest-index (HI generatív típusok, 0,5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66"/>
                </a:solidFill>
                <a:latin typeface="Times New Roman"/>
              </a:rPr>
              <a:t>Jó tápanyag-öntözési reakció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A FAO-szá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98400" y="1413000"/>
            <a:ext cx="783432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FAO: az ENSZ 1945-ben alapított Élelmezési és Mezőgazdasági Szerveze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Egységes módszer a tenyészidő meghatározására az 50-es évek végétő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Standard hibridekkel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történő összehasonlítás virágzási idő és szemnedvesség alapjá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Az egykori hibridek ma már nem léteznek – országonként eltérő hibridekhez történő viszonyítás – jelentős különbsége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Új számítási módsz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040" y="1196640"/>
            <a:ext cx="776124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Times New Roman"/>
              </a:rPr>
              <a:t>2001-től bevezették az új FAO-számítási módszert, a rendszer egységessé tétele érdekébe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66"/>
                </a:solidFill>
                <a:latin typeface="Times New Roman"/>
              </a:rPr>
              <a:t>Több tulajdonság képezi a számítás alapját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66"/>
                </a:solidFill>
                <a:latin typeface="Times New Roman"/>
              </a:rPr>
              <a:t>Az 50 % nővirágzás időpont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66"/>
                </a:solidFill>
                <a:latin typeface="Times New Roman"/>
              </a:rPr>
              <a:t>A 25 % körüli tartományban mért szemnedvessé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66"/>
                </a:solidFill>
                <a:latin typeface="Times New Roman"/>
              </a:rPr>
              <a:t>A 20 % körüli tartományban mért szemnedvessé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66"/>
                </a:solidFill>
                <a:latin typeface="Times New Roman"/>
              </a:rPr>
              <a:t>A betakarításkori szemnedvessé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66"/>
                </a:solidFill>
                <a:latin typeface="Times New Roman"/>
              </a:rPr>
              <a:t>Éréscsoportonként nem két, hanem 4-5 sztenderd hibriddel történik az összehasonlítá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8616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Felhasználá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Szemes takarmán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Silókukoric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Csemegekukorica, pattogatni való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Ipari hasznosítás (izocukor, keményítő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Csutka hasznosítás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51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inősé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A végtermék hasznosítási irányának megfelelő minősé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Fehérjetartalom: 7-13 % (genotípus, agrotechnológia és ökológia befolyásolja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Negatív korreláció a termésmennyiségg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Olajtartalom 3-5 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Keményítőtartalom 80 %</a:t>
            </a:r>
            <a:r>
              <a:rPr b="0" lang="hu-HU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1:23:50Z</dcterms:created>
  <dc:creator>Hídvégi Szilvia</dc:creator>
  <dc:description/>
  <dc:language>en-US</dc:language>
  <cp:lastModifiedBy>Szilvike</cp:lastModifiedBy>
  <dcterms:modified xsi:type="dcterms:W3CDTF">2005-10-11T12:00:25Z</dcterms:modified>
  <cp:revision>26</cp:revision>
  <dc:subject/>
  <dc:title>Hibridkukorica pollenvizsgálatok</dc:title>
</cp:coreProperties>
</file>