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6B5D-81A7-4BC7-87A6-1A1CB377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AE8A-923F-441D-A573-6786C9EE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4A73-9505-412B-B0EF-ECE7B0989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FF83-E7E1-466E-A6AD-6DF995A1F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3F4E-9114-4BA0-8A08-3F74E432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C3CE-C9C0-421A-B7CD-CE04BBC4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AF6F-D78A-40B5-8F26-464A1BC1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FE12-7B35-4C88-B427-7BBF03F7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06A5-B84D-41D1-BC88-00D830C3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AF62-13CE-44C8-8DE3-48A66A3B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C6AB-A7C7-4C3B-A6BC-6835A8A8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4AAF-918F-4593-AE9C-E4B15221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1D99-4886-4EC9-8C08-FDDB38A03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0000"/>
                </a:solidFill>
                <a:latin typeface="Arial"/>
              </a:rPr>
              <a:t>A cukorrépa termesztése</a:t>
            </a:r>
            <a:br>
              <a:rPr sz="4000"/>
            </a:br>
            <a:r>
              <a:rPr b="0" lang="hu-HU" sz="3600" spc="-1" strike="noStrike">
                <a:solidFill>
                  <a:srgbClr val="ff0000"/>
                </a:solidFill>
                <a:latin typeface="Arial"/>
              </a:rPr>
              <a:t>(Beta vulgaris L. convar. altissima Döll.)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yakor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V. évfolyam őszi félé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II. 15-IV. 10 (7-8 C</a:t>
            </a:r>
            <a:r>
              <a:rPr b="0" lang="hu-HU" sz="28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-os talajhőmérséklet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sortávolság 4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vetésmélység 2-4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csíraszám 1,3-1,4 U egység (U=100 000 d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csíraszámnál kelési és vegetációs idő alatti veszteséggel számolni kel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öntözetlen tőszám: 80-90 ezer db/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öntözött tőszám: 90-100 ezer db/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Magátmérő: 3,5-4,5 mm; 4,5-5,5 mm; 5,0-6,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ápanyagellá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itrogén: 3,5 kg/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szfor 1,5 kg/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álium 5,5 kg/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ész 4,5 kg/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gnézium 1,5 kg/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Ápol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etés után 7-9 nappal sorol, és 16-22 napra lesz 4 lev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hiányos kelést pótolni k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chanikai sorközművelés május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egyszeres gyomirtás több alkalom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etakarí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éptípustól függően egy, két, vagy három menet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pari átvé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Arial"/>
              </a:rPr>
              <a:t>hibás répa: fonnyadt, penészes, rothadt, súlyosan sérült, magasan fejezett, fagyo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Arial"/>
              </a:rPr>
              <a:t>szennyeződés: szerves, gyom, minden, ami nem répából származó növényi maradvány, levélzet, fejrész, föld, k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Arial"/>
              </a:rPr>
              <a:t>tételenként 30 kg minta (20-30-50 t egy tétel, területnagyságtól függő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Arial"/>
              </a:rPr>
              <a:t>cukortartalom vizsgá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Arial"/>
              </a:rPr>
              <a:t>17045 MSZ sze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asznos melléktermék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épaf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ukorgyári mészisz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épaszelet, vizes vagy száríto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las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tőmagtermesz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étéves növény, második évben hoz mag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áttelelő vagy dugványneveléses módszerr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gas humusztartalmú talaj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orán betakarított kalászosok ut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ucerna ne legyen magrépa-tábla közelé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tőmagtermesz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Arial"/>
              </a:rPr>
              <a:t>hibrid fajtá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Arial"/>
              </a:rPr>
              <a:t>apa: 2 sor, 50-60 db/f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Arial"/>
              </a:rPr>
              <a:t>anya: 6 sor, 80-85 db/f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Arial"/>
              </a:rPr>
              <a:t>esőszerű kelesztő öntözés szüksé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Arial"/>
              </a:rPr>
              <a:t>áttelelés: 1-1,5 cm átmérőjű répagyöké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Arial"/>
              </a:rPr>
              <a:t>3 szem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Arial"/>
              </a:rPr>
              <a:t>betakarítás kézzel, géppel, rendre vágva vagy egymenet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termesztés jelenlegi helyz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Arial"/>
              </a:rPr>
              <a:t>A cukorgyárak száma is jelentősen csökkentA termőterület az elmúlt tizenöt évben a közel 140.000 ha-ról kevesebb, mint felére csökkent. Az idei évben várhatóan 70-60.000 ha lesz a betakarítható terül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épagyökerű szántóföldi növény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urokrépa, azaz takarmány-sárgaré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akarmányrépa vagy marharé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arlórépa: másodvetésű takarmánynövé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éklaré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án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aróré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éta-répá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Arial"/>
              </a:rPr>
              <a:t>Cukorrépa, mángold, takarmányré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Arial"/>
              </a:rPr>
              <a:t>Daucus-répák: sárgarépa, murokré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Arial"/>
              </a:rPr>
              <a:t>Brassica-répa: tarlóré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Arial"/>
              </a:rPr>
              <a:t>Cikória-ré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Arial"/>
              </a:rPr>
              <a:t>Gyökérnövények vagy gyökgumósok néven is néven is említik őket, ekkor a burgonya és a csicsóka is közéjük számí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erm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0-50 t/ha gyökérterm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2-17 % cukortartal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 t/ha cuk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etélytárs: cukorná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Arial"/>
              </a:rPr>
              <a:t>Köztermesztésben ma 60-70 fajta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Arial"/>
              </a:rPr>
              <a:t>Advanta: Karizma, Horizon, Jaris, Franklin, Celia, Fed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Arial"/>
              </a:rPr>
              <a:t>fontos: rizománia- és cerkospóra-rezisztencia (fertőzött terület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ermesztéstechnoló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alajra igén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ápanyagigén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agyérzék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öltséges termesztés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ízigényes (500-600 m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lővetemé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Arial"/>
              </a:rPr>
              <a:t>Elővetemény: kényes! 4-6 évnél gyakrabban nem termeszthet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Arial"/>
              </a:rPr>
              <a:t>nyáron letakaruló: őszi búza, majd istállótrág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Arial"/>
              </a:rPr>
              <a:t>jó elővetemény még: olajlen, rostlen, szeptember elején betakarított silókuko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Arial"/>
              </a:rPr>
              <a:t>nem lehet előveteménye: szántóföldi zöldség-, fűszer-, gyógynövé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tőm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monogerm vetőm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fajták előállítása szerint naizoploid, diploid, tripl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cerkospórára és rizomániára fogékony és toleráns, esetleg rezisztens vagy dupla tolerá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kikészítés szerint: normál gomoly, inkrusztált, inkrusztált és drazsíroz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cukortartalom szerin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E: bőterm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N: normál v. köze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Z: cukorban gazd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ZZ: cukorban különösen gazd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0:47:22Z</dcterms:created>
  <dc:creator>Hidvégi Szilvia</dc:creator>
  <dc:description/>
  <dc:language>en-US</dc:language>
  <cp:lastModifiedBy>Hidvégi Szilvia</cp:lastModifiedBy>
  <dcterms:modified xsi:type="dcterms:W3CDTF">2005-10-25T11:30:08Z</dcterms:modified>
  <cp:revision>3</cp:revision>
  <dc:subject/>
  <dc:title>A cukorrépa termesztése (Beta vulgaris L. convar. altissima Döll.) </dc:title>
</cp:coreProperties>
</file>