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95B-7B28-4A0D-AFFF-C06D92CA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096-B812-4E2E-8037-EED8E99F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65C-8C70-4C7B-A117-BDD2DD46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837-3939-4A5E-8217-D8E992B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A3C-4A48-40D3-A887-E55CCD7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7A9-A148-479C-B0D2-635DDA3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E80-417C-41B8-B813-FE55D943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37D-7D6D-4E59-A6EB-16FC41B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6AA-7859-43EA-A847-1DBBEE1F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833-4415-4875-A9FC-22332B78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A11-5EF2-4E58-A8F2-8EE270A6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B4E-5F20-49D1-9898-0D5B59C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5CA-5875-4C87-899B-C16D7CE99F9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tarlórépa ( Brassica rapa var. Rapifera) termesz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talános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éves növé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ációs ideje rövid: 50-70 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éparepce megvastagodott gyökerű változ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ánktól északabbra főnövényként termesz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lunk a csapadékosabb Ny-i, DNy- i országrészben másodtermesztésben jellemz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esztéstechnológi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lajigénye: középkötött mezőségi tal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épkötött erdőtalaj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vetemény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ásodvetésű növé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lászosok után következzé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keresztesvirág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ána tavaszi árpa, kukorica vethet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nmaga után 4 évente termeszthet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laj-előkészíté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ly tarlószántással vagy tárcsázá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ágyk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ápanyagokat az elővetemény arat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án kell kijuttatni és a magágykészítés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án talajba dolgoz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té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erek és hengeres változatát termesz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eje: július 1-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rtávolság: 36-4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-3 cm mélyre vessük, után henger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tőmagigény: 3-4 kg/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pol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omirtása a cukorrépa gyomirt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rei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ugusztusban sorközművelő kultivátorral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 kelő gyomok 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tegsége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itkán fordul elő, mert csáváz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tőmagja rövid tenyészidejére védel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yúj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isztharmat, gyökérgolyva, gyökérfeké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ártev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öldibolha, repcedarázs, fénybogá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takarí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kt.- november elején level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se: 30-40 t/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tőmagtermeszté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ugványneveléssel,helyre vetéss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ama: 600-800 kg/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használ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ozásra vagy élelmezési cél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ső éves növény termését,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ökerét használják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5:04:48Z</dcterms:created>
  <dc:creator>XP</dc:creator>
  <dc:description/>
  <dc:language>en-US</dc:language>
  <cp:lastModifiedBy>DC</cp:lastModifiedBy>
  <dcterms:modified xsi:type="dcterms:W3CDTF">2005-10-25T07:19:00Z</dcterms:modified>
  <cp:revision>3</cp:revision>
  <dc:subject/>
  <dc:title>A tarlórépa ( Brassica rapa var. Rapifera) termesztése</dc:title>
</cp:coreProperties>
</file>