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FDE-7511-4881-94D0-44B56895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44D-2C74-4FA9-BF05-B9C6D02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049-B455-4FD5-B9A9-980859B3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12E-6829-4C29-A4DF-2EA7B9A1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777-0393-4764-B08E-51F45C9E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B8F-EE95-4DCE-AF68-E364BBDF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4B9-B5A4-496B-8059-09593BCD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A41-9768-4DA6-B46C-9BFECDED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083-CFF5-4CAA-B850-B2429B5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0DE-E0DE-4F60-9E84-1F76CDD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0E7-6091-4997-BBF7-448BF70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AE0-6D93-42F8-9AB1-9655302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C69-4853-4B24-BF13-58EFF4C9D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ímk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ó: Gulyás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16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3. Legeltetéses állat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968480"/>
            <a:ext cx="50292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.1. Tőkésréc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89360" y="2031840"/>
            <a:ext cx="336528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.1. Gyöngytyúk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70000" y="2190600"/>
            <a:ext cx="50040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.3. Mangalica koca és malac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98920" y="2444760"/>
            <a:ext cx="3746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.3. Fekete és  fehér racka ko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63840" y="2209680"/>
            <a:ext cx="4216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.3. Magyar tarka kettős hasznosítású faj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89360" y="2203560"/>
            <a:ext cx="33652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.3. Magyar szürke őshonos faj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25640" y="1981080"/>
            <a:ext cx="349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.3. Kék belga húshasznú faj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13000" y="2171880"/>
            <a:ext cx="2718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.3. Holstein-fríz tejhasznú faj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65160" y="1616040"/>
            <a:ext cx="54136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.2. Magyartarka szűz és vemhes szűz üs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22600" y="2387520"/>
            <a:ext cx="38988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1481040"/>
            <a:ext cx="4465800" cy="317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1. Múlt, jelen, jővő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tó: Gulyás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.3. Magyar lapály tenyész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8280" y="2063880"/>
            <a:ext cx="31874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.3. Német feketefejű tenyészk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832040"/>
            <a:ext cx="4421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7.3. Hungaro-fríz és magyartarka teh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65160" y="1616040"/>
            <a:ext cx="5413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7.4. Pézsmakacsa gácsé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97360" y="2425680"/>
            <a:ext cx="3149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8.2. Tenyészállat bírá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55880" y="1905120"/>
            <a:ext cx="5232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1. Magyar vadas kac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gácsér és toj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37720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1. Sárga magyar kaka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38600" y="1773360"/>
            <a:ext cx="34668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1. Búrkecsk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5160" y="1616040"/>
            <a:ext cx="54136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2.1. Holstein-fríz tenyészűs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84440" y="2089080"/>
            <a:ext cx="3975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1. Növendék nyu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2158920"/>
            <a:ext cx="42674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1. Magyarl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gácsér és toj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92400" y="2171880"/>
            <a:ext cx="2959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1. Pulyka kakasok és toj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kete és bronz pulyk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tó: Gulyás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49400" y="2000160"/>
            <a:ext cx="52452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1:04:02Z</dcterms:created>
  <dc:creator>Schumi</dc:creator>
  <dc:description/>
  <dc:language>en-US</dc:language>
  <cp:lastModifiedBy>Schumi</cp:lastModifiedBy>
  <dcterms:modified xsi:type="dcterms:W3CDTF">2006-09-14T12:57:28Z</dcterms:modified>
  <cp:revision>5</cp:revision>
  <dc:subject/>
  <dc:title>1. dia</dc:title>
</cp:coreProperties>
</file>