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52D-67A6-473D-A43C-2FFAB3A8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2AC-0022-413B-90B3-AADB49AC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413-F59F-4EB7-B3F0-73824A73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392-77F3-4D70-B85B-3FDC21D3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072-7340-4A94-AD1B-8FAC182C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30B-88E1-4A2F-81CF-93FB6EF6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1796-CBA0-4DBC-8F0A-B835262D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936-A85B-4DF3-ABC9-7EC49CC8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36BE-C182-4D83-B361-F8BBA190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7EA-CEFB-410C-B057-2D60E8B7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279F-9DC8-4718-BE40-EA1E0D06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A17-E53F-4957-B9A8-A36EA42F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E6C5-74B9-4AD0-A3A3-12F22EA57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TATÁSI SEGÉD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karmányozá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reskedelmi forgalomban kapható termékek elnevezés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008720" y="1268280"/>
            <a:ext cx="6971400" cy="4032000"/>
            <a:chOff x="1008720" y="1268280"/>
            <a:chExt cx="6971400" cy="4032000"/>
          </a:xfrm>
        </p:grpSpPr>
        <p:sp>
          <p:nvSpPr>
            <p:cNvPr id="143" name=""/>
            <p:cNvSpPr/>
            <p:nvPr/>
          </p:nvSpPr>
          <p:spPr>
            <a:xfrm>
              <a:off x="1008720" y="4462200"/>
              <a:ext cx="1379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áp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karmánykeveré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26480" y="1679760"/>
              <a:ext cx="777600" cy="41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96520" y="2135880"/>
              <a:ext cx="793080" cy="412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26480" y="2592000"/>
              <a:ext cx="1562760" cy="411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6480" y="3044160"/>
              <a:ext cx="3114360" cy="41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26480" y="3502080"/>
              <a:ext cx="3891960" cy="41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26480" y="3956400"/>
              <a:ext cx="4675680" cy="411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26480" y="4410360"/>
              <a:ext cx="5451120" cy="41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530440" y="1617120"/>
              <a:ext cx="0" cy="84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30440" y="1659600"/>
              <a:ext cx="0" cy="3640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5800" y="1659600"/>
              <a:ext cx="88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5800" y="2115360"/>
              <a:ext cx="8892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85800" y="2569680"/>
              <a:ext cx="88920" cy="14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85800" y="3025800"/>
              <a:ext cx="88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85800" y="3480120"/>
              <a:ext cx="88920" cy="14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85800" y="3935880"/>
              <a:ext cx="8892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85800" y="4390200"/>
              <a:ext cx="88920" cy="14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85800" y="4845960"/>
              <a:ext cx="8892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99520" y="1814400"/>
              <a:ext cx="109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00000"/>
                  </a:solidFill>
                  <a:latin typeface="Arial"/>
                </a:rPr>
                <a:t>Vitamin pre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74240" y="2268720"/>
              <a:ext cx="1300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00000"/>
                  </a:solidFill>
                  <a:latin typeface="Arial"/>
                </a:rPr>
                <a:t>Mikroelem pre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73520" y="2724840"/>
              <a:ext cx="125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00000"/>
                  </a:solidFill>
                  <a:latin typeface="Arial"/>
                </a:rPr>
                <a:t>Egységes pre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64960" y="3180960"/>
              <a:ext cx="120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00000"/>
                  </a:solidFill>
                  <a:latin typeface="Arial"/>
                </a:rPr>
                <a:t>Komplett pre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29640" y="3633120"/>
              <a:ext cx="93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00000"/>
                  </a:solidFill>
                  <a:latin typeface="Arial"/>
                </a:rPr>
                <a:t>Supplement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3040" y="4089240"/>
              <a:ext cx="1033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ncentrát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57840" y="2592000"/>
              <a:ext cx="765720" cy="411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26480" y="1659600"/>
              <a:ext cx="5451120" cy="14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304440" y="1617120"/>
              <a:ext cx="0" cy="84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087440" y="1617120"/>
              <a:ext cx="2160" cy="84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863600" y="1617120"/>
              <a:ext cx="1440" cy="84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641200" y="1617120"/>
              <a:ext cx="0" cy="84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417000" y="1617120"/>
              <a:ext cx="1440" cy="84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202520" y="1617120"/>
              <a:ext cx="0" cy="84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977960" y="1617120"/>
              <a:ext cx="2160" cy="84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82720" y="140292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itam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59880" y="1402920"/>
              <a:ext cx="62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kroel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63400" y="140292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Arial"/>
                </a:rPr>
                <a:t>Makroel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38120" y="1268280"/>
              <a:ext cx="613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Arial"/>
                </a:rPr>
                <a:t>Tak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000" spc="-1" strike="noStrike">
                  <a:solidFill>
                    <a:srgbClr val="000000"/>
                  </a:solidFill>
                  <a:latin typeface="Arial"/>
                </a:rPr>
                <a:t>kiegészít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89520" y="1268280"/>
              <a:ext cx="464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Állati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ehérje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67480" y="1286640"/>
              <a:ext cx="492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övényi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fehérj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06840" y="135324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bonafélé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514960" y="4797360"/>
            <a:ext cx="20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Korlátozások a BSE miat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627280" y="5786280"/>
            <a:ext cx="893880" cy="882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6640" t="6758" r="9265" b="7648"/>
          <a:stretch/>
        </p:blipFill>
        <p:spPr>
          <a:xfrm>
            <a:off x="4124160" y="57880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722920" y="5799240"/>
            <a:ext cx="798480" cy="798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703600" y="5357880"/>
            <a:ext cx="860400" cy="20628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rc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6320" y="5373720"/>
            <a:ext cx="860400" cy="20628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anulá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99240" y="5389560"/>
            <a:ext cx="860400" cy="20628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orzsázot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093080" y="5759280"/>
            <a:ext cx="834840" cy="835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7961400" y="576756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66120" y="5375160"/>
            <a:ext cx="860400" cy="206640"/>
          </a:xfrm>
          <a:prstGeom prst="bevel">
            <a:avLst>
              <a:gd name="adj" fmla="val 12500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xtrudá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46080" y="6568920"/>
            <a:ext cx="26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orrás: Marczali és Tóth (19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karmányok energiájának átalakulása az állatok szervezeté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39240" y="6568920"/>
            <a:ext cx="19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orrás: Schmidt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85240" y="1052640"/>
            <a:ext cx="313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armányok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UTTÓ ENERGI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égésh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32160" y="15541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225600" y="1987560"/>
            <a:ext cx="10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232160" y="1987560"/>
            <a:ext cx="10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25960" y="19875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38720" y="19875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08920" y="24210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élsár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8720" y="2349360"/>
            <a:ext cx="22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ÉSZTHETŐ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38720" y="26384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170160" y="3071880"/>
            <a:ext cx="24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238720" y="3071880"/>
            <a:ext cx="10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70160" y="30718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43480" y="30718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7960" y="30718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3120" y="3514680"/>
            <a:ext cx="13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zelet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8360" y="350028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án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53920" y="3500280"/>
            <a:ext cx="28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BOLIZÁLHATÓ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62560" y="3903840"/>
            <a:ext cx="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256000" y="4338720"/>
            <a:ext cx="10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253200" y="4338720"/>
            <a:ext cx="10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56360" y="43387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67680" y="43387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98800" y="4780080"/>
            <a:ext cx="164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TÓ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05400" y="4797360"/>
            <a:ext cx="150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kus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62640" y="5154480"/>
            <a:ext cx="0" cy="4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256080" y="5589720"/>
            <a:ext cx="10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7253280" y="5589720"/>
            <a:ext cx="10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56440" y="558972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7760" y="558972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03320" y="610380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életfenntartó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02960" y="6093000"/>
            <a:ext cx="182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elésre fordítható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19" idx="2"/>
            <a:endCxn id="225" idx="1"/>
          </p:cNvCxnSpPr>
          <p:nvPr/>
        </p:nvCxnSpPr>
        <p:spPr>
          <a:xfrm flipH="1" rot="16200000">
            <a:off x="4804560" y="5553000"/>
            <a:ext cx="1154880" cy="25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8" name=""/>
          <p:cNvSpPr/>
          <p:nvPr/>
        </p:nvSpPr>
        <p:spPr>
          <a:xfrm flipH="1">
            <a:off x="3708360" y="566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74120" y="5445000"/>
            <a:ext cx="135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z állat össz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őterme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érődzők takarmányainak energiaértékel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Életfenntartási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NE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ejtermelési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NE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esttömeg-gyarapodási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NE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nettó energiát különböztetünk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ejtermelési energiá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Mo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mtsai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1969) által kidolgozott képlettel állapítjuk me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1" lang="hu-HU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MJ/kg sz.a.)= 0,6032×DE×(1-2×df)-0,5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f= discount faktor, DE= emészthető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életfenntartási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s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esttömeg-gyarapodási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nettó energiát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Lofgree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Garret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1963) által kidolgozott képlettel határozzuk me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1" lang="hu-HU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MJ/kg sz.a.)= 1,37×ME–0,033×ME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+ 0,0006×ME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–4,6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1" lang="hu-HU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MJ/kg sz.a.)= 1,42×ME–0,0416×ME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+0,0007×ME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–6,9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E= metabolizálható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rtéstakarmányok energiaértékel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ertéstakarmányok energiaértékét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mészthető energiával (DE)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fejezzük ki. Kiszámítás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Schiemann és mtsai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1971) képleté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hu-HU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MJ/kg takarmány)= 0,0242×emészthető nyersfehérje+0,0394×emészthető nyerszsír+0,0184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×emészthető nyersrost+0,0170×emészthető N-mentes kivonható any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romfitakarmányok energiaértékel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baromfitakarmányok energiaértékét metabolizálható energiával (ME) fejezzük ki, kétféle mód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Táp, takarmánykeverék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MJ/kg szárazanyag)= 0,01551×nyersfehérje %+0,03431× nyerszsír %+0,01669×keményítő %+0,01301×cukor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lapanyagok (takarmánykeverék komponensek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INDEN ALAPANYAGRA KÜLÖN KÉPLET V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kukor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MJ/kg szárazanyag)= U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×0,01515+U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×0,03575+U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×0,015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u-H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=nyersfehérje (g/kg sz.a.), U</a:t>
            </a:r>
            <a:r>
              <a:rPr b="0" lang="hu-H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=nyerszsír (g/kg sz.a.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u-HU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=nyersrost (g/kg sz.a.), U</a:t>
            </a:r>
            <a:r>
              <a:rPr b="0" lang="hu-HU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=N-mentes kiv. anyag (g/kg sz.a.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u-HU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=hamutartalom (g/kg sz.a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6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olstein-fríz tehén energiamérlege és testtömegváltozása a laktáció sor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58600" y="1246320"/>
            <a:ext cx="7311600" cy="5641200"/>
            <a:chOff x="858600" y="1246320"/>
            <a:chExt cx="7311600" cy="5641200"/>
          </a:xfrm>
        </p:grpSpPr>
        <p:grpSp>
          <p:nvGrpSpPr>
            <p:cNvPr id="238" name=""/>
            <p:cNvGrpSpPr/>
            <p:nvPr/>
          </p:nvGrpSpPr>
          <p:grpSpPr>
            <a:xfrm>
              <a:off x="1171800" y="1703160"/>
              <a:ext cx="6923520" cy="4808160"/>
              <a:chOff x="1171800" y="1703160"/>
              <a:chExt cx="6923520" cy="4808160"/>
            </a:xfrm>
          </p:grpSpPr>
          <p:sp>
            <p:nvSpPr>
              <p:cNvPr id="239" name=""/>
              <p:cNvSpPr/>
              <p:nvPr/>
            </p:nvSpPr>
            <p:spPr>
              <a:xfrm>
                <a:off x="1733400" y="1836360"/>
                <a:ext cx="1440" cy="41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657080" y="6017760"/>
                <a:ext cx="1522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57080" y="5179320"/>
                <a:ext cx="152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57080" y="4341240"/>
                <a:ext cx="152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57080" y="3512520"/>
                <a:ext cx="152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57080" y="2674440"/>
                <a:ext cx="1522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657080" y="1836360"/>
                <a:ext cx="1522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33400" y="6017760"/>
                <a:ext cx="5790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1733400" y="5941440"/>
                <a:ext cx="1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3180960" y="5941440"/>
                <a:ext cx="18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628880" y="5941440"/>
                <a:ext cx="1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6076800" y="5941440"/>
                <a:ext cx="1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524360" y="5941440"/>
                <a:ext cx="18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24360" y="1836360"/>
                <a:ext cx="1800" cy="41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48400" y="6017760"/>
                <a:ext cx="1522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48400" y="5322240"/>
                <a:ext cx="152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48400" y="4627080"/>
                <a:ext cx="1522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48400" y="3931560"/>
                <a:ext cx="152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448400" y="3226680"/>
                <a:ext cx="152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48400" y="2531520"/>
                <a:ext cx="1522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48400" y="1836360"/>
                <a:ext cx="1522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18760" y="5884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295280" y="50461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295280" y="42080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295280" y="33793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171800" y="254088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71800" y="170316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333160" y="62366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81080" y="62366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29000" y="62366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676560" y="62366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714800" y="588420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5160" y="518904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15160" y="449352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715160" y="379836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7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715160" y="309348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715160" y="239832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15160" y="170316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372840" y="6427800"/>
              <a:ext cx="259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ktáció hetekb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49800" y="1246320"/>
              <a:ext cx="1227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r>
                <a:rPr b="1" lang="hu-HU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/n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8600" y="124632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68000" y="12463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924200" y="1488960"/>
            <a:ext cx="5333760" cy="1814400"/>
            <a:chOff x="1924200" y="1488960"/>
            <a:chExt cx="5333760" cy="1814400"/>
          </a:xfrm>
        </p:grpSpPr>
        <p:sp>
          <p:nvSpPr>
            <p:cNvPr id="282" name=""/>
            <p:cNvSpPr/>
            <p:nvPr/>
          </p:nvSpPr>
          <p:spPr>
            <a:xfrm>
              <a:off x="1924200" y="1855800"/>
              <a:ext cx="5333760" cy="1447560"/>
            </a:xfrm>
            <a:custGeom>
              <a:avLst/>
              <a:gdLst/>
              <a:ahLst/>
              <a:rect l="l" t="t" r="r" b="b"/>
              <a:pathLst>
                <a:path w="3360" h="912">
                  <a:moveTo>
                    <a:pt x="0" y="192"/>
                  </a:moveTo>
                  <a:cubicBezTo>
                    <a:pt x="140" y="96"/>
                    <a:pt x="280" y="0"/>
                    <a:pt x="480" y="0"/>
                  </a:cubicBezTo>
                  <a:cubicBezTo>
                    <a:pt x="680" y="0"/>
                    <a:pt x="848" y="80"/>
                    <a:pt x="1200" y="192"/>
                  </a:cubicBezTo>
                  <a:cubicBezTo>
                    <a:pt x="1552" y="304"/>
                    <a:pt x="2232" y="552"/>
                    <a:pt x="2592" y="672"/>
                  </a:cubicBezTo>
                  <a:cubicBezTo>
                    <a:pt x="2952" y="792"/>
                    <a:pt x="3156" y="852"/>
                    <a:pt x="3360" y="91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12760" y="1488960"/>
              <a:ext cx="21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ergiaszükségl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6480" y="1693800"/>
            <a:ext cx="5267160" cy="1380960"/>
            <a:chOff x="2076480" y="1693800"/>
            <a:chExt cx="5267160" cy="1380960"/>
          </a:xfrm>
        </p:grpSpPr>
        <p:sp>
          <p:nvSpPr>
            <p:cNvPr id="285" name=""/>
            <p:cNvSpPr/>
            <p:nvPr/>
          </p:nvSpPr>
          <p:spPr>
            <a:xfrm>
              <a:off x="2076480" y="2173320"/>
              <a:ext cx="5181840" cy="901440"/>
            </a:xfrm>
            <a:custGeom>
              <a:avLst/>
              <a:gdLst/>
              <a:ahLst/>
              <a:rect l="l" t="t" r="r" b="b"/>
              <a:pathLst>
                <a:path w="3264" h="568">
                  <a:moveTo>
                    <a:pt x="0" y="568"/>
                  </a:moveTo>
                  <a:cubicBezTo>
                    <a:pt x="140" y="468"/>
                    <a:pt x="280" y="368"/>
                    <a:pt x="480" y="280"/>
                  </a:cubicBezTo>
                  <a:cubicBezTo>
                    <a:pt x="680" y="192"/>
                    <a:pt x="736" y="80"/>
                    <a:pt x="1200" y="40"/>
                  </a:cubicBezTo>
                  <a:cubicBezTo>
                    <a:pt x="1664" y="0"/>
                    <a:pt x="2464" y="20"/>
                    <a:pt x="3264" y="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3120" y="1693800"/>
              <a:ext cx="182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Times New Roman"/>
                </a:rPr>
                <a:t>Energiafelvé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152800" y="3379680"/>
            <a:ext cx="5105160" cy="1817640"/>
            <a:chOff x="2152800" y="3379680"/>
            <a:chExt cx="5105160" cy="1817640"/>
          </a:xfrm>
        </p:grpSpPr>
        <p:sp>
          <p:nvSpPr>
            <p:cNvPr id="288" name=""/>
            <p:cNvSpPr/>
            <p:nvPr/>
          </p:nvSpPr>
          <p:spPr>
            <a:xfrm>
              <a:off x="2152800" y="3379680"/>
              <a:ext cx="5105160" cy="1270080"/>
            </a:xfrm>
            <a:custGeom>
              <a:avLst/>
              <a:gdLst/>
              <a:ahLst/>
              <a:rect l="l" t="t" r="r" b="b"/>
              <a:pathLst>
                <a:path w="3216" h="800">
                  <a:moveTo>
                    <a:pt x="0" y="192"/>
                  </a:moveTo>
                  <a:cubicBezTo>
                    <a:pt x="140" y="496"/>
                    <a:pt x="280" y="800"/>
                    <a:pt x="816" y="768"/>
                  </a:cubicBezTo>
                  <a:cubicBezTo>
                    <a:pt x="1352" y="736"/>
                    <a:pt x="2284" y="368"/>
                    <a:pt x="321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79000" y="4676760"/>
              <a:ext cx="244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ESTTÖME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848240" y="1855800"/>
            <a:ext cx="1734120" cy="1218960"/>
            <a:chOff x="1848240" y="1855800"/>
            <a:chExt cx="1734120" cy="1218960"/>
          </a:xfrm>
        </p:grpSpPr>
        <p:grpSp>
          <p:nvGrpSpPr>
            <p:cNvPr id="291" name=""/>
            <p:cNvGrpSpPr/>
            <p:nvPr/>
          </p:nvGrpSpPr>
          <p:grpSpPr>
            <a:xfrm>
              <a:off x="2000160" y="1855800"/>
              <a:ext cx="1582200" cy="1218960"/>
              <a:chOff x="2000160" y="1855800"/>
              <a:chExt cx="1582200" cy="1218960"/>
            </a:xfrm>
          </p:grpSpPr>
          <p:sp>
            <p:nvSpPr>
              <p:cNvPr id="292" name=""/>
              <p:cNvSpPr/>
              <p:nvPr/>
            </p:nvSpPr>
            <p:spPr>
              <a:xfrm>
                <a:off x="2000160" y="2160360"/>
                <a:ext cx="75600" cy="91440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52080" y="2084400"/>
                <a:ext cx="75960" cy="83808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304360" y="2008080"/>
                <a:ext cx="75960" cy="83808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457000" y="1931760"/>
                <a:ext cx="75600" cy="83844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609280" y="1855800"/>
                <a:ext cx="75960" cy="83808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771280" y="1929240"/>
                <a:ext cx="53640" cy="68796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50560" y="1929600"/>
                <a:ext cx="2880" cy="61416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94920" y="1929240"/>
                <a:ext cx="19080" cy="53856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37840" y="2005560"/>
                <a:ext cx="25200" cy="38592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01280" y="2076480"/>
                <a:ext cx="6120" cy="23940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61480" y="2080440"/>
                <a:ext cx="20880" cy="16956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1848240" y="222732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HIÁ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514400" y="2197080"/>
            <a:ext cx="3026880" cy="950760"/>
            <a:chOff x="4514400" y="2197080"/>
            <a:chExt cx="3026880" cy="950760"/>
          </a:xfrm>
        </p:grpSpPr>
        <p:grpSp>
          <p:nvGrpSpPr>
            <p:cNvPr id="305" name=""/>
            <p:cNvGrpSpPr/>
            <p:nvPr/>
          </p:nvGrpSpPr>
          <p:grpSpPr>
            <a:xfrm>
              <a:off x="4514400" y="2197080"/>
              <a:ext cx="2722320" cy="950760"/>
              <a:chOff x="4514400" y="2197080"/>
              <a:chExt cx="2722320" cy="95076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4514400" y="2236680"/>
                <a:ext cx="75960" cy="15228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4667040" y="2236680"/>
                <a:ext cx="76320" cy="22860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4819320" y="2236680"/>
                <a:ext cx="76320" cy="22860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4936680" y="2222280"/>
                <a:ext cx="69840" cy="33372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5089320" y="2222280"/>
                <a:ext cx="69840" cy="33372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5185440" y="2221920"/>
                <a:ext cx="124200" cy="42624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5328360" y="2214000"/>
                <a:ext cx="124200" cy="42624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5424840" y="2213280"/>
                <a:ext cx="178920" cy="51984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567760" y="2205360"/>
                <a:ext cx="178920" cy="51984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664240" y="2198520"/>
                <a:ext cx="221760" cy="61776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07520" y="2197080"/>
                <a:ext cx="232920" cy="61272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900400" y="2282040"/>
                <a:ext cx="225000" cy="61740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6046200" y="2281320"/>
                <a:ext cx="232560" cy="61236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6199920" y="2264760"/>
                <a:ext cx="287280" cy="70596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352200" y="2264760"/>
                <a:ext cx="287280" cy="70596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6448320" y="2264400"/>
                <a:ext cx="341640" cy="79884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6591240" y="2256480"/>
                <a:ext cx="341640" cy="79884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6743520" y="2256480"/>
                <a:ext cx="341640" cy="79884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6840720" y="2255760"/>
                <a:ext cx="396000" cy="89208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5202720" y="2333520"/>
              <a:ext cx="233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Times New Roman"/>
                </a:rPr>
                <a:t>ENERGIATÖBB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1920" y="656892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orrás: Schmidt (1995) alapj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ktációs stádium hatása a tehenek tejtermelésére és szárazanyag-fogyasztás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51000" y="1752480"/>
          <a:ext cx="8491320" cy="53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752480"/>
                    <a:ext cx="8491320" cy="53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920" y="656892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orrás: Schmidt (2003) alapj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fehérje sorsa a bendőben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hazai metabolizálható fehérjeértékelési (MF) rendszer alap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837440" y="1628640"/>
            <a:ext cx="6049080" cy="3960720"/>
            <a:chOff x="1837440" y="1628640"/>
            <a:chExt cx="6049080" cy="3960720"/>
          </a:xfrm>
        </p:grpSpPr>
        <p:pic>
          <p:nvPicPr>
            <p:cNvPr id="333" name="" descr=""/>
            <p:cNvPicPr/>
            <p:nvPr/>
          </p:nvPicPr>
          <p:blipFill>
            <a:blip r:embed="rId1">
              <a:lum bright="36000"/>
            </a:blip>
            <a:stretch/>
          </p:blipFill>
          <p:spPr>
            <a:xfrm>
              <a:off x="3755520" y="1967040"/>
              <a:ext cx="3826080" cy="30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2">
              <a:lum bright="30000"/>
            </a:blip>
            <a:stretch/>
          </p:blipFill>
          <p:spPr>
            <a:xfrm>
              <a:off x="2119320" y="4509000"/>
              <a:ext cx="1525680" cy="10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6190560" y="44820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ltógyom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37440" y="51595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á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80400" y="2250360"/>
              <a:ext cx="601200" cy="509760"/>
            </a:xfrm>
            <a:prstGeom prst="leftArrow">
              <a:avLst>
                <a:gd name="adj1" fmla="val 50000"/>
                <a:gd name="adj2" fmla="val 294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53320" y="4613400"/>
              <a:ext cx="1002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Karbam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cikl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745800">
              <a:off x="3591720" y="5248800"/>
              <a:ext cx="654120" cy="226440"/>
            </a:xfrm>
            <a:prstGeom prst="rightArrow">
              <a:avLst>
                <a:gd name="adj1" fmla="val 50000"/>
                <a:gd name="adj2" fmla="val 72218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95800" y="5252400"/>
              <a:ext cx="91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IZEL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10800000">
              <a:off x="2770200" y="2895120"/>
              <a:ext cx="4802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spAutoFit/>
            </a:bodyPr>
            <a:p>
              <a:pPr>
                <a:lnSpc>
                  <a:spcPct val="6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arbam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vérre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14880" y="1965240"/>
              <a:ext cx="9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yelőcs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1729440" y="3184560"/>
              <a:ext cx="100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arbam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nyálla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86040" y="219924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hér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31280" y="2250360"/>
              <a:ext cx="603000" cy="509760"/>
            </a:xfrm>
            <a:prstGeom prst="leftArrow">
              <a:avLst>
                <a:gd name="adj1" fmla="val 50000"/>
                <a:gd name="adj2" fmla="val 29573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8981600">
              <a:off x="5722560" y="2458080"/>
              <a:ext cx="329040" cy="1186920"/>
            </a:xfrm>
            <a:prstGeom prst="downArrow">
              <a:avLst>
                <a:gd name="adj1" fmla="val 50000"/>
                <a:gd name="adj2" fmla="val 90181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73040" y="338652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09600" y="27471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20600" y="317160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minosa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27520" y="3904200"/>
              <a:ext cx="10249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kroba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hér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76960" y="3881160"/>
              <a:ext cx="53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740200">
              <a:off x="4201560" y="3394800"/>
              <a:ext cx="340200" cy="684720"/>
            </a:xfrm>
            <a:prstGeom prst="downArrow">
              <a:avLst>
                <a:gd name="adj1" fmla="val 50000"/>
                <a:gd name="adj2" fmla="val 5031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125200">
              <a:off x="3536280" y="4230720"/>
              <a:ext cx="327240" cy="597240"/>
            </a:xfrm>
            <a:prstGeom prst="downArrow">
              <a:avLst>
                <a:gd name="adj1" fmla="val 50000"/>
                <a:gd name="adj2" fmla="val 4562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5183000">
              <a:off x="4254840" y="3843360"/>
              <a:ext cx="340560" cy="468360"/>
            </a:xfrm>
            <a:prstGeom prst="downArrow">
              <a:avLst>
                <a:gd name="adj1" fmla="val 50000"/>
                <a:gd name="adj2" fmla="val 34382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740200">
              <a:off x="4456080" y="2510640"/>
              <a:ext cx="338400" cy="316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8562800">
              <a:off x="4634280" y="2955240"/>
              <a:ext cx="340200" cy="327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66640" y="3494520"/>
              <a:ext cx="384120" cy="340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70160" y="4061880"/>
              <a:ext cx="381960" cy="619560"/>
            </a:xfrm>
            <a:custGeom>
              <a:avLst/>
              <a:gdLst>
                <a:gd name="textAreaLeft" fmla="*/ 51120 w 381960"/>
                <a:gd name="textAreaRight" fmla="*/ 330840 w 381960"/>
                <a:gd name="textAreaTop" fmla="*/ 108360 h 619560"/>
                <a:gd name="textAreaBottom" fmla="*/ 449280 h 61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8440" y="3552120"/>
              <a:ext cx="329040" cy="790920"/>
            </a:xfrm>
            <a:custGeom>
              <a:avLst/>
              <a:gdLst>
                <a:gd name="textAreaLeft" fmla="*/ 43920 w 329040"/>
                <a:gd name="textAreaRight" fmla="*/ 285120 w 329040"/>
                <a:gd name="textAreaTop" fmla="*/ 138240 h 790920"/>
                <a:gd name="textAreaBottom" fmla="*/ 573480 h 7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3317760" y="2250360"/>
              <a:ext cx="1257480" cy="2263680"/>
              <a:chOff x="3317760" y="2250360"/>
              <a:chExt cx="1257480" cy="2263680"/>
            </a:xfrm>
          </p:grpSpPr>
          <p:sp>
            <p:nvSpPr>
              <p:cNvPr id="361" name=""/>
              <p:cNvSpPr/>
              <p:nvPr/>
            </p:nvSpPr>
            <p:spPr>
              <a:xfrm>
                <a:off x="3317760" y="2250360"/>
                <a:ext cx="0" cy="2263680"/>
              </a:xfrm>
              <a:prstGeom prst="line">
                <a:avLst/>
              </a:prstGeom>
              <a:ln w="763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17760" y="2250360"/>
                <a:ext cx="1257480" cy="0"/>
              </a:xfrm>
              <a:prstGeom prst="line">
                <a:avLst/>
              </a:prstGeom>
              <a:ln w="76320">
                <a:solidFill>
                  <a:srgbClr val="8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2608200" y="1628640"/>
              <a:ext cx="4208400" cy="2885760"/>
              <a:chOff x="2608200" y="1628640"/>
              <a:chExt cx="4208400" cy="2885760"/>
            </a:xfrm>
          </p:grpSpPr>
          <p:sp>
            <p:nvSpPr>
              <p:cNvPr id="364" name=""/>
              <p:cNvSpPr/>
              <p:nvPr/>
            </p:nvSpPr>
            <p:spPr>
              <a:xfrm flipV="1">
                <a:off x="2608200" y="1628640"/>
                <a:ext cx="0" cy="2885760"/>
              </a:xfrm>
              <a:prstGeom prst="line">
                <a:avLst/>
              </a:prstGeom>
              <a:ln w="763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2608200" y="1628640"/>
                <a:ext cx="4208400" cy="0"/>
              </a:xfrm>
              <a:prstGeom prst="line">
                <a:avLst/>
              </a:prstGeom>
              <a:ln w="763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16600" y="1628640"/>
                <a:ext cx="0" cy="452520"/>
              </a:xfrm>
              <a:prstGeom prst="line">
                <a:avLst/>
              </a:prstGeom>
              <a:ln w="76320">
                <a:solidFill>
                  <a:srgbClr val="8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3407760" y="1873800"/>
              <a:ext cx="82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ND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1920" y="656892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orrás: Schmidt (2003) alapj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61440" y="6124680"/>
            <a:ext cx="363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bendőben lebomló fehér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bendőben le nem bomló fehér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636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étfenntartás relatív energiaszükségle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állatfajtól és a termelés intenzitásától függő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57200" y="1600200"/>
          <a:ext cx="8229600" cy="4740120"/>
        </p:xfrm>
        <a:graphic>
          <a:graphicData uri="http://schemas.openxmlformats.org/drawingml/2006/table">
            <a:tbl>
              <a:tblPr/>
              <a:tblGrid>
                <a:gridCol w="4162320"/>
                <a:gridCol w="4067280"/>
              </a:tblGrid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llatfaj, terme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napi takarmányadag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étfenntartásra 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dított hány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hén, napi 10 liter te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hén, napi 20 liter te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ízómarh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-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Üsző, növendékmarh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-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jótyúk, évi 200 toj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jótyúk, évi 280 toj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ízóser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"/>
          <p:cNvSpPr/>
          <p:nvPr/>
        </p:nvSpPr>
        <p:spPr>
          <a:xfrm>
            <a:off x="-39240" y="6568920"/>
            <a:ext cx="19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orrás: Schmidt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23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stalkotó szövetek gyarapo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920" y="656892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orrás: Schmidt (2003) alapj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04680" y="657540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sematikus áb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900000" y="907920"/>
            <a:ext cx="7632720" cy="5356080"/>
            <a:chOff x="900000" y="907920"/>
            <a:chExt cx="7632720" cy="5356080"/>
          </a:xfrm>
        </p:grpSpPr>
        <p:sp>
          <p:nvSpPr>
            <p:cNvPr id="377" name=""/>
            <p:cNvSpPr/>
            <p:nvPr/>
          </p:nvSpPr>
          <p:spPr>
            <a:xfrm>
              <a:off x="900000" y="6264000"/>
              <a:ext cx="763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915840" y="907920"/>
              <a:ext cx="1800" cy="535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15840" y="2206440"/>
              <a:ext cx="3144960" cy="4057560"/>
            </a:xfrm>
            <a:custGeom>
              <a:avLst/>
              <a:gdLst/>
              <a:ahLst/>
              <a:rect l="l" t="t" r="r" b="b"/>
              <a:pathLst>
                <a:path w="2134" h="2500">
                  <a:moveTo>
                    <a:pt x="0" y="2500"/>
                  </a:moveTo>
                  <a:cubicBezTo>
                    <a:pt x="234" y="1263"/>
                    <a:pt x="467" y="0"/>
                    <a:pt x="823" y="0"/>
                  </a:cubicBezTo>
                  <a:cubicBezTo>
                    <a:pt x="1179" y="0"/>
                    <a:pt x="1861" y="1979"/>
                    <a:pt x="2134" y="2500"/>
                  </a:cubicBezTo>
                </a:path>
              </a:pathLst>
            </a:custGeom>
            <a:solidFill>
              <a:srgbClr val="00ffff">
                <a:alpha val="50000"/>
              </a:srgbClr>
            </a:solidFill>
            <a:ln w="572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11160" y="2276280"/>
              <a:ext cx="5394240" cy="3987720"/>
            </a:xfrm>
            <a:custGeom>
              <a:avLst/>
              <a:gdLst/>
              <a:ahLst/>
              <a:rect l="l" t="t" r="r" b="b"/>
              <a:pathLst>
                <a:path w="3660" h="2457">
                  <a:moveTo>
                    <a:pt x="0" y="2454"/>
                  </a:moveTo>
                  <a:cubicBezTo>
                    <a:pt x="293" y="2045"/>
                    <a:pt x="1149" y="0"/>
                    <a:pt x="1759" y="1"/>
                  </a:cubicBezTo>
                  <a:cubicBezTo>
                    <a:pt x="2369" y="2"/>
                    <a:pt x="2915" y="2079"/>
                    <a:pt x="3660" y="2457"/>
                  </a:cubicBezTo>
                </a:path>
              </a:pathLst>
            </a:custGeom>
            <a:solidFill>
              <a:srgbClr val="000080">
                <a:alpha val="50000"/>
              </a:srgbClr>
            </a:solidFill>
            <a:ln w="57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1160" y="2184120"/>
              <a:ext cx="7162920" cy="4075200"/>
            </a:xfrm>
            <a:custGeom>
              <a:avLst/>
              <a:gdLst/>
              <a:ahLst/>
              <a:rect l="l" t="t" r="r" b="b"/>
              <a:pathLst>
                <a:path w="4860" h="2511">
                  <a:moveTo>
                    <a:pt x="0" y="2511"/>
                  </a:moveTo>
                  <a:cubicBezTo>
                    <a:pt x="495" y="2093"/>
                    <a:pt x="2161" y="6"/>
                    <a:pt x="2971" y="3"/>
                  </a:cubicBezTo>
                  <a:cubicBezTo>
                    <a:pt x="3781" y="0"/>
                    <a:pt x="4467" y="1974"/>
                    <a:pt x="4860" y="2492"/>
                  </a:cubicBezTo>
                </a:path>
              </a:pathLst>
            </a:custGeom>
            <a:solidFill>
              <a:srgbClr val="990099">
                <a:alpha val="50000"/>
              </a:srgbClr>
            </a:solidFill>
            <a:ln w="5724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11160" y="2116080"/>
              <a:ext cx="7507440" cy="4143240"/>
            </a:xfrm>
            <a:custGeom>
              <a:avLst/>
              <a:gdLst/>
              <a:ahLst/>
              <a:rect l="l" t="t" r="r" b="b"/>
              <a:pathLst>
                <a:path w="5093" h="2553">
                  <a:moveTo>
                    <a:pt x="0" y="2553"/>
                  </a:moveTo>
                  <a:cubicBezTo>
                    <a:pt x="710" y="2131"/>
                    <a:pt x="3411" y="343"/>
                    <a:pt x="4260" y="23"/>
                  </a:cubicBezTo>
                  <a:cubicBezTo>
                    <a:pt x="4904" y="0"/>
                    <a:pt x="4954" y="532"/>
                    <a:pt x="5093" y="634"/>
                  </a:cubicBezTo>
                </a:path>
              </a:pathLst>
            </a:custGeom>
            <a:noFill/>
            <a:ln w="1778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22200" y="1582560"/>
              <a:ext cx="1497600" cy="398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degszöv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13760" y="1601640"/>
              <a:ext cx="1654560" cy="39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sontszöv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31760" y="1582560"/>
              <a:ext cx="1553760" cy="39888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zomszöv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63160" y="1547640"/>
              <a:ext cx="14137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zsírszöv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karmányok kémiai összeté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39240" y="6568920"/>
            <a:ext cx="19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orrás: Schmidt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7440" y="9748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ARMÁ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08000" y="126828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7280" y="2008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1268280"/>
            <a:ext cx="936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22880" y="1989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árazany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00360" y="2349360"/>
            <a:ext cx="2951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2349360"/>
            <a:ext cx="1656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5600" y="313380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erves anyagok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39400" y="316080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ervetlen anyag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yersha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618920" y="357336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357336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3500280"/>
            <a:ext cx="28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520" y="4365720"/>
            <a:ext cx="21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-tartalmú anyag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ersfehér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fehérje+amid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52440" y="4292640"/>
            <a:ext cx="322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t nem tartalmaz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ag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yerszsí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yersr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mentes kivonható anyagok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18480" y="4300560"/>
            <a:ext cx="29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éb anyag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 vitamin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ntinutritív hatású anyag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6237360"/>
            <a:ext cx="619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zámítással határozhatók meg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zerves anyagok= szárazanyag – nyersha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-mentes kiv. any.= szárazanyag – (nyersfehérje+ nyerszsír+nyersrost+nyersham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áziállatok tejének összeté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457200" y="1233360"/>
          <a:ext cx="8362800" cy="5219640"/>
        </p:xfrm>
        <a:graphic>
          <a:graphicData uri="http://schemas.openxmlformats.org/drawingml/2006/table">
            <a:tbl>
              <a:tblPr/>
              <a:tblGrid>
                <a:gridCol w="2090880"/>
                <a:gridCol w="1046160"/>
                <a:gridCol w="1044360"/>
                <a:gridCol w="1046160"/>
                <a:gridCol w="1044720"/>
                <a:gridCol w="1046160"/>
                <a:gridCol w="1044360"/>
              </a:tblGrid>
              <a:tr h="108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áraz-any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sí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hérj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j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k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J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hé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hénföcste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cs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va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t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ázinyú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-42480" y="6568920"/>
            <a:ext cx="19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orrás: Schmidt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akarmány E-vitamin tartalmának hatása a tojássárga E-vitamin tartalm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-39600" y="6568920"/>
            <a:ext cx="22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orrás: Engelmann (19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539640" y="1346040"/>
          <a:ext cx="7920000" cy="53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346040"/>
                    <a:ext cx="792000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aminosavak takarmányozási jelentőség szerinti csoportos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88840" y="1590840"/>
          <a:ext cx="7715520" cy="467028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28880"/>
                <a:gridCol w="192888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llatf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élkülözhetet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tételesen nélkülözhet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élkülözhet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n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zparagins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ztid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n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oleuc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tamins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c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r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z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pro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ionin   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szt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in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nil-alanin 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roz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cin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on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nin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ptofá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c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-39240" y="6568920"/>
            <a:ext cx="19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orrás: Schmidt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0880" y="6308640"/>
            <a:ext cx="321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Az első oszlop besorolásától függő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899640" y="2349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2349360"/>
            <a:ext cx="0" cy="374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899640" y="609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246960" y="40780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rom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34936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403280" y="54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402480" y="40402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tés, ló, nyú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124000" y="2708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270828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1528200" y="40626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ntosabb többszörösen telítetl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UFA) zsírsav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60" y="1197000"/>
            <a:ext cx="47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-3 zsírsav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linolénsav (C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18:3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ikózapentaénsav, EPA (C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20:5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okózahexaénsav, DHA (C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22:6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35640" y="1268280"/>
            <a:ext cx="3657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-6 zsírsav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inolsav (C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18:2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rachidonsav (C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20:4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91840" y="2706840"/>
            <a:ext cx="37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Élettani jelentőségü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360" y="3141720"/>
            <a:ext cx="8964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 u="sng">
                <a:solidFill>
                  <a:srgbClr val="000000"/>
                </a:solidFill>
                <a:uFillTx/>
                <a:latin typeface="Arial"/>
              </a:rPr>
              <a:t>n-6 zsírsavak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linolsav hiánytünete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vízháztartás zavara, veseműködési zavarok, reprodukciós zavarok, zsírmáj kialaku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sökkenti a szérum kolszterinszintjét, az arachidonsav előany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rachidonsav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építőeleme a foszfolipideknek, előanyaga az eikozanoidoknak, fontos az idegrendszer működés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 u="sng">
                <a:solidFill>
                  <a:srgbClr val="000000"/>
                </a:solidFill>
                <a:uFillTx/>
                <a:latin typeface="Arial"/>
              </a:rPr>
              <a:t>n-3 zsírsavak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-linolénsav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csökkenti a szérum koleszterinszintjét, az EPA és DHA előany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PA és DH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építőeleme a foszfolipideknek, eikozanoidok előanyaga, szív- és érrendszeri betegségek megelő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39240" y="6580080"/>
            <a:ext cx="19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orrás: Schmidt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ostfrakciók jellem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025640" y="1700280"/>
            <a:ext cx="7433640" cy="3383640"/>
            <a:chOff x="1025640" y="1700280"/>
            <a:chExt cx="7433640" cy="3383640"/>
          </a:xfrm>
        </p:grpSpPr>
        <p:sp>
          <p:nvSpPr>
            <p:cNvPr id="83" name=""/>
            <p:cNvSpPr/>
            <p:nvPr/>
          </p:nvSpPr>
          <p:spPr>
            <a:xfrm>
              <a:off x="1025640" y="4062960"/>
              <a:ext cx="1858320" cy="102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emicelluló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83960" y="4062960"/>
              <a:ext cx="1858320" cy="102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lluló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42640" y="4062960"/>
              <a:ext cx="1857960" cy="102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gn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00600" y="4062960"/>
              <a:ext cx="1858320" cy="102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stham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25640" y="2313360"/>
              <a:ext cx="743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73600" y="1700280"/>
              <a:ext cx="33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Times New Roman"/>
                </a:rPr>
                <a:t>NDF</a:t>
              </a:r>
              <a:r>
                <a:rPr b="0" lang="hu-HU" sz="2000" spc="-1" strike="noStrike">
                  <a:solidFill>
                    <a:srgbClr val="000000"/>
                  </a:solidFill>
                  <a:latin typeface="Times New Roman"/>
                </a:rPr>
                <a:t> (neutrális detergens ros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83960" y="3042720"/>
              <a:ext cx="557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72720" y="2368440"/>
              <a:ext cx="270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Times New Roman"/>
                </a:rPr>
                <a:t>ADF</a:t>
              </a:r>
              <a:r>
                <a:rPr b="0" lang="hu-HU" sz="2000" spc="-1" strike="noStrike">
                  <a:solidFill>
                    <a:srgbClr val="000000"/>
                  </a:solidFill>
                  <a:latin typeface="Times New Roman"/>
                </a:rPr>
                <a:t> (savdetergens ros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42640" y="3771720"/>
              <a:ext cx="371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95920" y="3097080"/>
              <a:ext cx="292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Times New Roman"/>
                </a:rPr>
                <a:t>ADL</a:t>
              </a:r>
              <a:r>
                <a:rPr b="0" lang="hu-HU" sz="2000" spc="-1" strike="noStrike">
                  <a:solidFill>
                    <a:srgbClr val="000000"/>
                  </a:solidFill>
                  <a:latin typeface="Times New Roman"/>
                </a:rPr>
                <a:t> (savdetergens ligni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0960" y="656892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orrás: Tóth (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optimális vitaminellátás elmé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36480" y="1197000"/>
            <a:ext cx="8172360" cy="5327280"/>
            <a:chOff x="636480" y="1197000"/>
            <a:chExt cx="8172360" cy="5327280"/>
          </a:xfrm>
        </p:grpSpPr>
        <p:grpSp>
          <p:nvGrpSpPr>
            <p:cNvPr id="96" name=""/>
            <p:cNvGrpSpPr/>
            <p:nvPr/>
          </p:nvGrpSpPr>
          <p:grpSpPr>
            <a:xfrm>
              <a:off x="1358640" y="5533200"/>
              <a:ext cx="7450200" cy="412920"/>
              <a:chOff x="1358640" y="5533200"/>
              <a:chExt cx="7450200" cy="412920"/>
            </a:xfrm>
          </p:grpSpPr>
          <p:sp>
            <p:nvSpPr>
              <p:cNvPr id="97" name=""/>
              <p:cNvSpPr/>
              <p:nvPr/>
            </p:nvSpPr>
            <p:spPr>
              <a:xfrm>
                <a:off x="1424520" y="5533200"/>
                <a:ext cx="7307640" cy="1800"/>
              </a:xfrm>
              <a:prstGeom prst="line">
                <a:avLst/>
              </a:prstGeom>
              <a:ln w="648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3859920" y="5533200"/>
                <a:ext cx="1800" cy="59760"/>
              </a:xfrm>
              <a:prstGeom prst="line">
                <a:avLst/>
              </a:prstGeom>
              <a:ln w="648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4965840" y="5533200"/>
                <a:ext cx="2160" cy="59760"/>
              </a:xfrm>
              <a:prstGeom prst="line">
                <a:avLst/>
              </a:prstGeom>
              <a:ln w="648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8732520" y="5533200"/>
                <a:ext cx="1800" cy="59760"/>
              </a:xfrm>
              <a:prstGeom prst="line">
                <a:avLst/>
              </a:prstGeom>
              <a:ln w="648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58640" y="570240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2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92600" y="570240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2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895640" y="570240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2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61960" y="570240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2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1427040" y="1422000"/>
              <a:ext cx="7362720" cy="4110840"/>
            </a:xfrm>
            <a:custGeom>
              <a:avLst/>
              <a:gdLst/>
              <a:ahLst/>
              <a:rect l="l" t="t" r="r" b="b"/>
              <a:pathLst>
                <a:path w="3501" h="1916">
                  <a:moveTo>
                    <a:pt x="3497" y="0"/>
                  </a:moveTo>
                  <a:lnTo>
                    <a:pt x="3501" y="1916"/>
                  </a:lnTo>
                  <a:lnTo>
                    <a:pt x="0" y="1916"/>
                  </a:lnTo>
                  <a:lnTo>
                    <a:pt x="41" y="1757"/>
                  </a:lnTo>
                  <a:lnTo>
                    <a:pt x="84" y="1606"/>
                  </a:lnTo>
                  <a:lnTo>
                    <a:pt x="128" y="1463"/>
                  </a:lnTo>
                  <a:lnTo>
                    <a:pt x="173" y="1330"/>
                  </a:lnTo>
                  <a:lnTo>
                    <a:pt x="219" y="1205"/>
                  </a:lnTo>
                  <a:lnTo>
                    <a:pt x="267" y="1089"/>
                  </a:lnTo>
                  <a:lnTo>
                    <a:pt x="315" y="980"/>
                  </a:lnTo>
                  <a:lnTo>
                    <a:pt x="364" y="880"/>
                  </a:lnTo>
                  <a:lnTo>
                    <a:pt x="414" y="786"/>
                  </a:lnTo>
                  <a:lnTo>
                    <a:pt x="464" y="700"/>
                  </a:lnTo>
                  <a:lnTo>
                    <a:pt x="517" y="620"/>
                  </a:lnTo>
                  <a:lnTo>
                    <a:pt x="569" y="546"/>
                  </a:lnTo>
                  <a:lnTo>
                    <a:pt x="621" y="479"/>
                  </a:lnTo>
                  <a:lnTo>
                    <a:pt x="675" y="418"/>
                  </a:lnTo>
                  <a:lnTo>
                    <a:pt x="729" y="363"/>
                  </a:lnTo>
                  <a:lnTo>
                    <a:pt x="784" y="312"/>
                  </a:lnTo>
                  <a:lnTo>
                    <a:pt x="839" y="267"/>
                  </a:lnTo>
                  <a:lnTo>
                    <a:pt x="894" y="227"/>
                  </a:lnTo>
                  <a:lnTo>
                    <a:pt x="949" y="190"/>
                  </a:lnTo>
                  <a:lnTo>
                    <a:pt x="1006" y="158"/>
                  </a:lnTo>
                  <a:lnTo>
                    <a:pt x="1062" y="131"/>
                  </a:lnTo>
                  <a:lnTo>
                    <a:pt x="1119" y="106"/>
                  </a:lnTo>
                  <a:lnTo>
                    <a:pt x="1175" y="86"/>
                  </a:lnTo>
                  <a:lnTo>
                    <a:pt x="1232" y="68"/>
                  </a:lnTo>
                  <a:lnTo>
                    <a:pt x="1289" y="53"/>
                  </a:lnTo>
                  <a:lnTo>
                    <a:pt x="1345" y="39"/>
                  </a:lnTo>
                  <a:lnTo>
                    <a:pt x="1402" y="29"/>
                  </a:lnTo>
                  <a:lnTo>
                    <a:pt x="1458" y="21"/>
                  </a:lnTo>
                  <a:lnTo>
                    <a:pt x="1515" y="13"/>
                  </a:lnTo>
                  <a:lnTo>
                    <a:pt x="1572" y="8"/>
                  </a:lnTo>
                  <a:lnTo>
                    <a:pt x="1627" y="3"/>
                  </a:lnTo>
                  <a:lnTo>
                    <a:pt x="1683" y="0"/>
                  </a:lnTo>
                  <a:lnTo>
                    <a:pt x="3497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0d0d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161720" y="1197000"/>
              <a:ext cx="258120" cy="4329360"/>
              <a:chOff x="1161720" y="1197000"/>
              <a:chExt cx="258120" cy="432936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1161720" y="1197000"/>
                <a:ext cx="56160" cy="4129560"/>
                <a:chOff x="1161720" y="1197000"/>
                <a:chExt cx="56160" cy="41295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215720" y="1197000"/>
                  <a:ext cx="2160" cy="4069800"/>
                </a:xfrm>
                <a:prstGeom prst="line">
                  <a:avLst/>
                </a:prstGeom>
                <a:ln w="648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161720" y="5266800"/>
                  <a:ext cx="54000" cy="1800"/>
                </a:xfrm>
                <a:prstGeom prst="line">
                  <a:avLst/>
                </a:prstGeom>
                <a:ln w="648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161720" y="4449240"/>
                  <a:ext cx="54000" cy="1800"/>
                </a:xfrm>
                <a:prstGeom prst="line">
                  <a:avLst/>
                </a:prstGeom>
                <a:ln w="648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161720" y="3642840"/>
                  <a:ext cx="54000" cy="1800"/>
                </a:xfrm>
                <a:prstGeom prst="line">
                  <a:avLst/>
                </a:prstGeom>
                <a:ln w="648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161720" y="2822760"/>
                  <a:ext cx="54000" cy="2160"/>
                </a:xfrm>
                <a:prstGeom prst="line">
                  <a:avLst/>
                </a:prstGeom>
                <a:ln w="648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161720" y="2016000"/>
                  <a:ext cx="54000" cy="2160"/>
                </a:xfrm>
                <a:prstGeom prst="line">
                  <a:avLst/>
                </a:prstGeom>
                <a:ln w="648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161720" y="1197000"/>
                  <a:ext cx="54000" cy="1800"/>
                </a:xfrm>
                <a:prstGeom prst="line">
                  <a:avLst/>
                </a:prstGeom>
                <a:ln w="648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1215720" y="5266800"/>
                  <a:ext cx="2160" cy="59760"/>
                </a:xfrm>
                <a:prstGeom prst="line">
                  <a:avLst/>
                </a:prstGeom>
                <a:ln w="648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1213920" y="5320080"/>
                <a:ext cx="205920" cy="206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 flipV="1">
              <a:off x="3854160" y="1630080"/>
              <a:ext cx="0" cy="3911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3628800" y="1398240"/>
              <a:ext cx="225000" cy="249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970520" y="1424160"/>
              <a:ext cx="0" cy="4117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4755600" y="1203120"/>
              <a:ext cx="225000" cy="249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09760" y="1422000"/>
              <a:ext cx="7363080" cy="4110840"/>
            </a:xfrm>
            <a:custGeom>
              <a:avLst/>
              <a:gdLst/>
              <a:ahLst/>
              <a:rect l="l" t="t" r="r" b="b"/>
              <a:pathLst>
                <a:path w="3501" h="1916">
                  <a:moveTo>
                    <a:pt x="3497" y="0"/>
                  </a:moveTo>
                  <a:lnTo>
                    <a:pt x="3501" y="1916"/>
                  </a:lnTo>
                  <a:lnTo>
                    <a:pt x="0" y="1916"/>
                  </a:lnTo>
                  <a:lnTo>
                    <a:pt x="41" y="1757"/>
                  </a:lnTo>
                  <a:lnTo>
                    <a:pt x="84" y="1606"/>
                  </a:lnTo>
                  <a:lnTo>
                    <a:pt x="128" y="1463"/>
                  </a:lnTo>
                  <a:lnTo>
                    <a:pt x="173" y="1330"/>
                  </a:lnTo>
                  <a:lnTo>
                    <a:pt x="219" y="1205"/>
                  </a:lnTo>
                  <a:lnTo>
                    <a:pt x="267" y="1089"/>
                  </a:lnTo>
                  <a:lnTo>
                    <a:pt x="315" y="980"/>
                  </a:lnTo>
                  <a:lnTo>
                    <a:pt x="364" y="880"/>
                  </a:lnTo>
                  <a:lnTo>
                    <a:pt x="414" y="786"/>
                  </a:lnTo>
                  <a:lnTo>
                    <a:pt x="464" y="700"/>
                  </a:lnTo>
                  <a:lnTo>
                    <a:pt x="517" y="620"/>
                  </a:lnTo>
                  <a:lnTo>
                    <a:pt x="569" y="546"/>
                  </a:lnTo>
                  <a:lnTo>
                    <a:pt x="621" y="479"/>
                  </a:lnTo>
                  <a:lnTo>
                    <a:pt x="675" y="418"/>
                  </a:lnTo>
                  <a:lnTo>
                    <a:pt x="729" y="363"/>
                  </a:lnTo>
                  <a:lnTo>
                    <a:pt x="784" y="312"/>
                  </a:lnTo>
                  <a:lnTo>
                    <a:pt x="839" y="267"/>
                  </a:lnTo>
                  <a:lnTo>
                    <a:pt x="894" y="227"/>
                  </a:lnTo>
                  <a:lnTo>
                    <a:pt x="949" y="190"/>
                  </a:lnTo>
                  <a:lnTo>
                    <a:pt x="1006" y="158"/>
                  </a:lnTo>
                  <a:lnTo>
                    <a:pt x="1062" y="131"/>
                  </a:lnTo>
                  <a:lnTo>
                    <a:pt x="1119" y="106"/>
                  </a:lnTo>
                  <a:lnTo>
                    <a:pt x="1175" y="86"/>
                  </a:lnTo>
                  <a:lnTo>
                    <a:pt x="1232" y="68"/>
                  </a:lnTo>
                  <a:lnTo>
                    <a:pt x="1289" y="53"/>
                  </a:lnTo>
                  <a:lnTo>
                    <a:pt x="1345" y="39"/>
                  </a:lnTo>
                  <a:lnTo>
                    <a:pt x="1402" y="29"/>
                  </a:lnTo>
                  <a:lnTo>
                    <a:pt x="1458" y="21"/>
                  </a:lnTo>
                  <a:lnTo>
                    <a:pt x="1515" y="13"/>
                  </a:lnTo>
                  <a:lnTo>
                    <a:pt x="1572" y="8"/>
                  </a:lnTo>
                  <a:lnTo>
                    <a:pt x="1627" y="3"/>
                  </a:lnTo>
                  <a:lnTo>
                    <a:pt x="1683" y="0"/>
                  </a:lnTo>
                  <a:lnTo>
                    <a:pt x="349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95720" y="5863680"/>
              <a:ext cx="7408800" cy="660600"/>
            </a:xfrm>
            <a:prstGeom prst="leftRightArrow">
              <a:avLst>
                <a:gd name="adj1" fmla="val 50287"/>
                <a:gd name="adj2" fmla="val 57945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taminellátás mérté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-561960" y="3107520"/>
              <a:ext cx="273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vitaminok hatékonyság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5880" y="3571920"/>
              <a:ext cx="176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itaminhiá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3429000" y="3746520"/>
              <a:ext cx="190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zuboptimál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0560" y="3571920"/>
              <a:ext cx="156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PTIMÁL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51320" y="5455800"/>
              <a:ext cx="129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R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zükséglete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-42480" y="6580080"/>
            <a:ext cx="270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orrás: Roche vitamins updat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őbb vitaminok legfontosabb funkció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8880" y="656892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orrás: Bokori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125360"/>
          <a:ext cx="8785080" cy="5284440"/>
        </p:xfrm>
        <a:graphic>
          <a:graphicData uri="http://schemas.openxmlformats.org/drawingml/2006/table">
            <a:tbl>
              <a:tblPr/>
              <a:tblGrid>
                <a:gridCol w="2524680"/>
                <a:gridCol w="6260400"/>
              </a:tblGrid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-vita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átás, nyálkahártyavédelem, immunállapot, szaporod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és D</a:t>
                      </a:r>
                      <a:r>
                        <a:rPr b="1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vita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lcium- és foszfor-anyagforgalom, inzulinforgalom, immunvéd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-vita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brán- és májvédelem, immunvédelem, antioxidáns hatás, reprodukci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-vita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éralvad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i="1" lang="hu-H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vitamin (tiam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énhidrát-, fehérje-anyagcsere, idegrendszer- és szívizom védelem, enzimek prosztetikus csoport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i="1" lang="hu-H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vitamin (riboflav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-átvivő, antioxidáns hatás, zsírsav-szintézis, reprodukci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i="1" lang="hu-H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vitamin (pantoténsa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énhidrát-, fehérje- és zsíranyagcsere, enzimalkotó, bőrvéd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i="1" lang="hu-H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vitamin (piridox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hérje- és zsíranyagcsere, enzimalkotó, bőrvédelem, immunglobulin-képz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i="1" lang="hu-H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vitamin (kobalam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hérje-anyagcsere, metilcsoport-átvivő, vérképzés, idegműködés, kollagenképzés, nukleinsav-képz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acin (nikotinsav, PP-fak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énhidrát-, fehérje- és zsíranyagcsere, enzimalkotó, hámvédelem, H-átviv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otin (H-vitam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énhidrát-, fehérje- és zsíranyagcsere, bőrvéd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sav (B</a:t>
                      </a:r>
                      <a:r>
                        <a:rPr b="1" i="1" lang="hu-H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vitam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il-donor, metionin-, kolinforgalom, immunvédelem, nukleinsav-szintéz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-vita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oxidáns, hormonszintézis, H-átvivő, csont- és porcképzés, endothelvéd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24360" y="-2433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kro- és mikroelemek legfontosabb funkció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851040"/>
          <a:ext cx="8677080" cy="5530320"/>
        </p:xfrm>
        <a:graphic>
          <a:graphicData uri="http://schemas.openxmlformats.org/drawingml/2006/table">
            <a:tbl>
              <a:tblPr/>
              <a:tblGrid>
                <a:gridCol w="2550960"/>
                <a:gridCol w="6126120"/>
              </a:tblGrid>
              <a:tr h="376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KROELEM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lcium (Ca) és foszfor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ontalkotó(k), növekedési és csontképződési funkció, tojáshéj szilárdság, enzimaktivál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trium (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osztázis fenntartása, bendő pufferkapacit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ór (C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osztázis fenntartása, gyomor sósav, enzimaktiválás (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amiláz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álium (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osztázis fenntartá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gnézium (M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oionia (ionegyensúly), csontalkotó, enzimaktiválás, görcsoldó hat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én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ötőszövet, szaruképletek, enzim- és hormonalkot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KROELEM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s (F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xigénszállítás (hemoglobin, mioglobin), terminális oxidáció, enzimalkot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nk (Z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zimműködés, szénhidrát- és fehérjeanyagcsere, kreatinszintézis, szaporodásbiológia (pl. vemhesülés, spermaminősé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ód (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jzsmirigy működés (tiroxin, trijódtrionin hormonok), anyagcsere működés, idegrendszer fejlődés, tejtermelés, golyva-ellenes hatás, szaporodásbioló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gán (M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ontképződés, szaporodásbiológia (pl. ivarérés, ovuláció), növekedés és fejlőd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z (C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ontfejlődés, gyapjúképződés, idegrendszer, enzimműköd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lén (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zimalkotó, biológiai antioxidáns, foszfolipidek védel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balt (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vitamin központi eleme, enzimműködés, növekedés, szaporodásbioló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0960" y="656892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orrás: Tóth (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560" y="-90720"/>
            <a:ext cx="89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azai sertés és baromfiágazat P-kibocsátá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455920" y="1054080"/>
          <a:ext cx="5083200" cy="264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5920" y="1054080"/>
                    <a:ext cx="508320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281320" y="3936960"/>
          <a:ext cx="5506920" cy="2857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1320" y="3936960"/>
                    <a:ext cx="550692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-46800" y="6580080"/>
            <a:ext cx="28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orrás: Babinszky és mtsai (19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4:28:03Z</dcterms:created>
  <dc:creator>user</dc:creator>
  <dc:description/>
  <dc:language>en-US</dc:language>
  <cp:lastModifiedBy>user</cp:lastModifiedBy>
  <dcterms:modified xsi:type="dcterms:W3CDTF">2006-09-11T13:12:30Z</dcterms:modified>
  <cp:revision>94</cp:revision>
  <dc:subject/>
  <dc:title>OKTATÁSI SEGÉDLET</dc:title>
</cp:coreProperties>
</file>