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B517-3F12-40D1-A779-2B74DDFB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B757-2F01-4BC3-8731-CB6A0439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E26C-4C00-4C10-A129-947487B4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F27F-8EE6-4E41-9E81-D1FBD27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C2B-2163-4AAC-A4A1-72732AB2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CE24-9805-4492-B5B3-AC4D2A6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531-80C2-4BAF-BEE5-00EC5AF2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290-97A9-4C95-B3F5-D01DAFC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FFA-33B2-4A54-9A58-EFD3F0BF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AB02-F4F9-4001-B282-9918366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E034-6714-475E-9594-4B9482C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CC8B-4296-41A6-BFA6-7AFCF5F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41B-75AA-4651-80EE-FDACE275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B219-165C-402D-B1F5-EF664448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B413-4FA9-473D-A33B-0D8CD10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8D3A-CAB8-4570-A10C-3DB8EBD2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1FB2-AE28-4434-B46E-F2B8F607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8A1E-E8B0-4A3F-B0A0-9925F603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64E1-F92F-4729-8F52-E4FE4B5B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499C-02C8-4E18-BE4B-49A69AA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1252-21DD-4132-A471-DE5DE78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8605-1443-4183-816A-1597822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FFAF-277D-4158-B912-B655912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3436-C246-469A-8699-6C251C4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58A-4940-466B-BD20-FECA4585E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C948-47B1-4EA4-BA94-63DC1FD07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ÁLLATHIGIÉNI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Állomány egészség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z állattartási technológiák környezeti hatás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rnyezeti hatások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égszennyezés: szén-dioxid, ammónia, kén-hidrogén, metán, dinitrogén-oxid, bűzös anyagok, por, élő csí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Üvegházhatás, ózonréteg károsítása, fertőző betegségek közvetítése, savas es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ártevők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z állattenyésztés hulladék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lati eredetű hulladékok: első osztályú állati hulladék: állatok hulladéká vált teste+ speciális fertőzési kockázatot hordozó anyagok, másodosztályú állati hulladék: pl. hígtrág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rtőzőanyag-közvetítés: talaj- és vízszennyezés (nitrogén-, foszfor-,nehézfémsó-feldúsulá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Állategészségügyi hat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Állattartási technológiák társadalmi hatás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unkaegészségü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Élelmiszerminőség , -biztonsá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.) Közvetett hatások: növényi eredetű élelmiszer és takarmány alapanyagok minőségére és összetételére gyakorolt ha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.) közvetlen hatások: állati eredetű élelmiszerek szennyezettsége mikrobákkal, gátló anyagokkal, toxinokk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z állattartó épületek elhelyezé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Általános szemponto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építőanyagok tulajdonság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ltségtakaréko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tároló és nyílászáró szerkezete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dozat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limatikus, domborzati viszony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lajterhelési mikrobiológiai vizsgálat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istálló csatornáz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Állattenyésztési hulladék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hulladékok osztályozása, kezelése és ártalmatlanítás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Állathullák kezelése és ártalmatlanít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Állati hulladékok gyűjtése, szállítása és tárol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Állati hulladékok feldolgozása, megsemmisítése és hasznosítá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z állat és környeze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gfontosabb környezeti tényezők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roklíma fogalma, összetevő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vegő hőmérsék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áratartal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émiai összetéte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robiológiai állapo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őmérsékl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omfort zóna fogal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kalmazkodás a hőmérséklet változásaiho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hőmérsék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öpeny hőmérsék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ffer leveg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levegő kémiai összetéte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zéndiox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belélegzett levegő 0,3 tf% széndioxidot tartalmaz, a kilélegzett emlős állatok esetében 3-5, baromfié 6-7 tf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mónia  - színtelen, jellegzetesen szúrós szagú, vízben oldódó gá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vizelet és bélsár bakteriális bomlása során keletkezik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állatfajok és korcsoportok szerint 0,012 és 0,030 térfogat ezrelék a megengedhet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n-hidrogén fehérjék rothadásakor  keletkez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zén-monoxid színtelen, szagtalan gáz, amelynek 250-szer nagyobb az affinitása a vér hemoglobinhoz, mint az oxigénnek, így szén-monoxid-hemoglobin alakul ki, csökken az oxigén parciális nyomása 0,1 tf% koncentrációban már igen veszély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fenti gázok megengedett határon felül kötőhártya gyulladást, hörghurutot, tüdőgyulladást okoznak , károsítják az orrnyálkahártya csilló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rtőző betegség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rtőző betegségnek nevezünk minden olyan kórformát, amely során egy alacsonyabb rendű kórokozó egy magasabb rendű szervezetet betegít me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athogenitá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blig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akultatí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uryx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enox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ár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agy virulenciájú és terjedőképességű kórokozó állatról –állatra, állatállományról-állatállományra terj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ndé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pid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Pand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xplosí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lhúzód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itá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szervezet a számára idegen anyagot felismeri (antigén) és szigorúan meghatározott sejtkölcsönhatások és folyamatok eredményeként ellenanyagot termel, így védetté váli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immunitás leh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ermészetes passzív immunitási formák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aterna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lostral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ik immunitás   - madárban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ermészetes aktív immunitási form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ertőződ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itá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sterséges aktív immunitás: vakcinás ol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vakcina fogal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sterséges passzív immunitás: szérum ol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érum fogal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/homoló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/ heteroló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fertőző betegségek megelőzésének lehetősége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stállók egyszerre ürítése, betelepítés, fertőtlení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egyes korcsoportok izolált tartá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különböző állatfajok elkülönített tartá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Állattartó telepek zártságának megőrzése, személy-és járműforgalom csökkentése, fertőtlenítő szőnyeg elhelyezé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Vadon élő állatok, rágcsálók, vadmadarak távoltartá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degen állományból származó állatok karanténozá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nyésztojások gyűjtése, fertőtlenítése, egyedi jelölé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elhullott állatok , állati termékek, hulladékok szakszerű kezelése, megsemmisíté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emberek egészségvédelme, különös tekintettel a zoonozisok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0:07:54Z</dcterms:created>
  <dc:creator>SZIE</dc:creator>
  <dc:description/>
  <dc:language>en-US</dc:language>
  <cp:lastModifiedBy>SZIE</cp:lastModifiedBy>
  <dcterms:modified xsi:type="dcterms:W3CDTF">2006-09-12T08:14:28Z</dcterms:modified>
  <cp:revision>22</cp:revision>
  <dc:subject/>
  <dc:title>ÁLLATHIGIÉNIA</dc:title>
</cp:coreProperties>
</file>