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4.wmf" ContentType="image/x-wmf"/>
  <Override PartName="/ppt/media/image52.png" ContentType="image/png"/>
  <Override PartName="/ppt/media/image51.wmf" ContentType="image/x-wmf"/>
  <Override PartName="/ppt/media/image48.jpeg" ContentType="image/jpeg"/>
  <Override PartName="/ppt/media/image75.gif" ContentType="image/gif"/>
  <Override PartName="/ppt/media/image46.wmf" ContentType="image/x-wmf"/>
  <Override PartName="/ppt/media/image45.wmf" ContentType="image/x-wmf"/>
  <Override PartName="/ppt/media/image44.png" ContentType="image/png"/>
  <Override PartName="/ppt/media/image43.png" ContentType="image/png"/>
  <Override PartName="/ppt/media/image42.png" ContentType="image/png"/>
  <Override PartName="/ppt/media/image39.wmf" ContentType="image/x-wmf"/>
  <Override PartName="/ppt/media/image36.png" ContentType="image/png"/>
  <Override PartName="/ppt/media/image35.png" ContentType="image/png"/>
  <Override PartName="/ppt/media/image34.png" ContentType="image/png"/>
  <Override PartName="/ppt/media/image4.jpeg" ContentType="image/jpeg"/>
  <Override PartName="/ppt/media/image14.wmf" ContentType="image/x-wmf"/>
  <Override PartName="/ppt/media/image57.png" ContentType="image/png"/>
  <Override PartName="/ppt/media/image64.gif" ContentType="image/gif"/>
  <Override PartName="/ppt/media/image15.png" ContentType="image/png"/>
  <Override PartName="/ppt/media/image55.wmf" ContentType="image/x-wmf"/>
  <Override PartName="/ppt/media/image16.png" ContentType="image/png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74.gif" ContentType="image/gif"/>
  <Override PartName="/ppt/media/image72.gif" ContentType="image/gif"/>
  <Override PartName="/ppt/media/image26.wmf" ContentType="image/x-wmf"/>
  <Override PartName="/ppt/media/image3.wmf" ContentType="image/x-wmf"/>
  <Override PartName="/ppt/media/image63.wmf" ContentType="image/x-wmf"/>
  <Override PartName="/ppt/media/image23.png" ContentType="image/png"/>
  <Override PartName="/ppt/media/image22.wmf" ContentType="image/x-wmf"/>
  <Override PartName="/ppt/media/image62.gif" ContentType="image/gif"/>
  <Override PartName="/ppt/media/image66.wmf" ContentType="image/x-wmf"/>
  <Override PartName="/ppt/media/image60.gif" ContentType="image/gif"/>
  <Override PartName="/ppt/media/image20.wmf" ContentType="image/x-wmf"/>
  <Override PartName="/ppt/media/image32.png" ContentType="image/png"/>
  <Override PartName="/ppt/media/image67.gif" ContentType="image/gif"/>
  <Override PartName="/ppt/media/image27.wmf" ContentType="image/x-wmf"/>
  <Override PartName="/ppt/media/image76.gif" ContentType="image/gif"/>
  <Override PartName="/ppt/media/image68.jpeg" ContentType="image/jpeg"/>
  <Override PartName="/ppt/media/image69.gif" ContentType="image/gif"/>
  <Override PartName="/ppt/media/image29.wmf" ContentType="image/x-wmf"/>
  <Override PartName="/ppt/media/image2.jpeg" ContentType="image/jpeg"/>
  <Override PartName="/ppt/media/image31.png" ContentType="image/png"/>
  <Override PartName="/ppt/media/image73.jpeg" ContentType="image/jpeg"/>
  <Override PartName="/ppt/media/image24.png" ContentType="image/png"/>
  <Override PartName="/ppt/media/image18.wmf" ContentType="image/x-wmf"/>
  <Override PartName="/ppt/media/image6.wmf" ContentType="image/x-wmf"/>
  <Override PartName="/ppt/media/image65.gif" ContentType="image/gif"/>
  <Override PartName="/ppt/media/image47.jpeg" ContentType="image/jpeg"/>
  <Override PartName="/ppt/media/image25.wmf" ContentType="image/x-wmf"/>
  <Override PartName="/ppt/media/image1.jpeg" ContentType="image/jpeg"/>
  <Override PartName="/ppt/media/image50.wmf" ContentType="image/x-wmf"/>
  <Override PartName="/ppt/media/image28.png" ContentType="image/png"/>
  <Override PartName="/ppt/media/image37.png" ContentType="image/png"/>
  <Override PartName="/ppt/media/image11.wmf" ContentType="image/x-wmf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5.wmf" ContentType="image/x-wmf"/>
  <Override PartName="/ppt/media/image17.wmf" ContentType="image/x-wmf"/>
  <Override PartName="/ppt/media/image9.png" ContentType="image/png"/>
  <Override PartName="/ppt/media/image70.gif" ContentType="image/gif"/>
  <Override PartName="/ppt/media/image30.wmf" ContentType="image/x-wmf"/>
  <Override PartName="/ppt/media/image33.png" ContentType="image/png"/>
  <Override PartName="/ppt/media/image56.jpeg" ContentType="image/jpeg"/>
  <Override PartName="/ppt/media/image10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  <p:sldId id="339" r:id="rId96"/>
    <p:sldId id="340" r:id="rId97"/>
    <p:sldId id="341" r:id="rId98"/>
    <p:sldId id="342" r:id="rId99"/>
    <p:sldId id="343" r:id="rId100"/>
    <p:sldId id="344" r:id="rId101"/>
    <p:sldId id="345" r:id="rId102"/>
    <p:sldId id="346" r:id="rId103"/>
    <p:sldId id="347" r:id="rId104"/>
    <p:sldId id="348" r:id="rId105"/>
    <p:sldId id="349" r:id="rId106"/>
    <p:sldId id="350" r:id="rId107"/>
    <p:sldId id="351" r:id="rId108"/>
    <p:sldId id="352" r:id="rId109"/>
    <p:sldId id="353" r:id="rId110"/>
    <p:sldId id="354" r:id="rId111"/>
    <p:sldId id="355" r:id="rId112"/>
    <p:sldId id="356" r:id="rId113"/>
    <p:sldId id="357" r:id="rId114"/>
    <p:sldId id="358" r:id="rId115"/>
    <p:sldId id="359" r:id="rId116"/>
    <p:sldId id="360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slide" Target="slides/slide84.xml"/><Relationship Id="rId97" Type="http://schemas.openxmlformats.org/officeDocument/2006/relationships/slide" Target="slides/slide85.xml"/><Relationship Id="rId98" Type="http://schemas.openxmlformats.org/officeDocument/2006/relationships/slide" Target="slides/slide86.xml"/><Relationship Id="rId99" Type="http://schemas.openxmlformats.org/officeDocument/2006/relationships/slide" Target="slides/slide87.xml"/><Relationship Id="rId100" Type="http://schemas.openxmlformats.org/officeDocument/2006/relationships/slide" Target="slides/slide88.xml"/><Relationship Id="rId101" Type="http://schemas.openxmlformats.org/officeDocument/2006/relationships/slide" Target="slides/slide89.xml"/><Relationship Id="rId102" Type="http://schemas.openxmlformats.org/officeDocument/2006/relationships/slide" Target="slides/slide90.xml"/><Relationship Id="rId103" Type="http://schemas.openxmlformats.org/officeDocument/2006/relationships/slide" Target="slides/slide91.xml"/><Relationship Id="rId104" Type="http://schemas.openxmlformats.org/officeDocument/2006/relationships/slide" Target="slides/slide92.xml"/><Relationship Id="rId105" Type="http://schemas.openxmlformats.org/officeDocument/2006/relationships/slide" Target="slides/slide93.xml"/><Relationship Id="rId106" Type="http://schemas.openxmlformats.org/officeDocument/2006/relationships/slide" Target="slides/slide94.xml"/><Relationship Id="rId107" Type="http://schemas.openxmlformats.org/officeDocument/2006/relationships/slide" Target="slides/slide95.xml"/><Relationship Id="rId108" Type="http://schemas.openxmlformats.org/officeDocument/2006/relationships/slide" Target="slides/slide96.xml"/><Relationship Id="rId109" Type="http://schemas.openxmlformats.org/officeDocument/2006/relationships/slide" Target="slides/slide97.xml"/><Relationship Id="rId110" Type="http://schemas.openxmlformats.org/officeDocument/2006/relationships/slide" Target="slides/slide98.xml"/><Relationship Id="rId111" Type="http://schemas.openxmlformats.org/officeDocument/2006/relationships/slide" Target="slides/slide99.xml"/><Relationship Id="rId112" Type="http://schemas.openxmlformats.org/officeDocument/2006/relationships/slide" Target="slides/slide100.xml"/><Relationship Id="rId113" Type="http://schemas.openxmlformats.org/officeDocument/2006/relationships/slide" Target="slides/slide101.xml"/><Relationship Id="rId114" Type="http://schemas.openxmlformats.org/officeDocument/2006/relationships/slide" Target="slides/slide102.xml"/><Relationship Id="rId115" Type="http://schemas.openxmlformats.org/officeDocument/2006/relationships/slide" Target="slides/slide103.xml"/><Relationship Id="rId116" Type="http://schemas.openxmlformats.org/officeDocument/2006/relationships/slide" Target="slides/slide104.xml"/><Relationship Id="rId117" Type="http://schemas.openxmlformats.org/officeDocument/2006/relationships/slide" Target="slides/slide105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84A3-E8CC-4BF7-B2E3-E022DF1534A2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E8A-57B4-4625-BC15-13BB1150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1BF-01D7-42E3-B966-13A5D5B2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9CFE1-1B8A-4BC8-A2D2-534CD046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74BBA5-56E3-4162-A3C8-193B6771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8D96A1-85C5-45A7-8FB7-7B08E604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319138-2293-4585-89E0-176503EC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CA9292-A203-4DA8-9C14-7565172B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9DDE6-AEAC-4756-92AF-3E8D794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5E040D-1D7E-45EC-9D58-428E0374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8DD0C5-A1C6-4084-B954-F31D1FB8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151630-60D2-4508-9FA7-C05DC31B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7E1E6-EFBB-47A4-8D86-9965E09E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D2A-B2D4-4357-BD6B-62ACE585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02A39-1010-4C5C-B892-8885D8F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19B4F-1185-4DBD-B5D3-DC118950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8493B-7A79-4968-9E44-46473152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355AF-F541-47B6-98BA-911FF0BE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AF10C-5B12-4F88-A326-4F44680A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B21FC-D893-4305-A5C4-D3A3EA61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36771-CB7C-4C6D-A412-4CF41B52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2F41D-703C-4544-B504-33FF3400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D57CB-9C8B-4886-8DC0-8D54BD85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E2A4B-5C6A-48B9-BAA0-0108D415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356-20A1-40CC-9631-5C4EE740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10609-D076-474B-A6DD-CEC6613E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8D10-C674-49CB-A177-96F64639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19AC-04EB-4933-8735-86FBEC42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8364-3FD1-4701-9530-0B2D2B1A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F66A-C230-423B-A4EC-59BC85B2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DD15-266C-4B8D-8FDE-E47A6E6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C1B9-1A19-440D-865A-2C07806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2A21-E4C3-4723-B621-6ACF594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187-5CBA-44FB-A4FF-CD87B5DF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5AF5-6195-499D-BB21-A3940B5F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B276-8980-4468-A453-859553EF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E59B-6FBC-41BA-9008-99F4BB96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5DA1-F57A-4C93-B0C2-5CAEE3A8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064D-A99D-490B-AE0B-869FD48A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B251C-2372-4866-81C6-562EDC88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8750-31FC-44A0-848D-B3CB1562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EB03-31A6-485C-863E-A9274D3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97DD-8645-4538-A5D5-472B86E7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FA55-1623-4F58-9F48-049B5DE7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3B3-A166-4F3B-970A-50D2B8A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F957-83F8-4AA8-8D14-047FA5D3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A94D-1146-4661-9E40-72D66FEB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D6F3-7F5D-4918-BA36-ACCA907C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FC92-418D-4B5A-BAC4-4CF9674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47A1-7CEE-4741-ABB1-70E3E587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FB3E-77E7-4ED1-B673-35C1F311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9AF8-6CA4-4CAA-8102-90D4747B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9E754-A665-406F-8828-66615043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D4FD-9086-40B9-854C-A8958026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14922-C91A-47BA-8079-9CAD4ACC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A48-9432-4C38-B982-522B0DD8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BFD0-E53F-44A1-9DBE-72B50BEF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0E20-C32D-48AB-9CFB-27C30A96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8CCD-7E12-4F5D-93EC-FA3A180D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9163-8733-4CF7-9077-71F766EE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2558E-BFF4-4E8F-B8D8-01E1946D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1CE8-5A33-49EF-B25B-C8340DEF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6C36-B089-4E3F-82F0-CE1780B1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37370-00EF-431C-A11E-328835F2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9719-06E4-4BAE-BA20-8F8C304D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2D86F-E629-493A-B109-B7E49F33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152-47EE-471D-B4F1-C2BE64E6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9844E-3889-4739-BFC4-A83C0E22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ABC7B-26F4-43E9-8EDE-4EEE38A4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0DF7-BCBB-4459-8019-64EC4DFB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A3C0E-6AEB-4AA5-A2F4-E65A4D67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DD99-2C71-4B78-887A-5884BC8C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B1901-F09B-4ECE-ABD9-8712078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78E7-C9F7-4E7B-A94E-53B1F72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852DF-1959-4BEF-8068-E009153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8CE8-E4C2-4592-9FEE-376284EF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2DF7-9254-4F39-942E-41EE2A90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56B-71CB-4C53-AA7B-9B5C999F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98FD-40FC-475A-986C-9B30E536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79AA8-C4F1-4A0B-AEDB-374ED21C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7DE77-7756-4581-8150-9E62AE69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1C31-9C5D-4517-A485-3E4A86FB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C21C3-512F-41FB-9FDA-75A15F83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7599-A7B0-4988-A30C-9A5B0D4F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C1859-7476-4088-9F6C-51396B61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48AEE-0A8A-486D-B77A-DF07E274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EE251-FF81-474A-91AB-657C7DF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5EBE1-770D-4BC7-BB16-F9FC9D3D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246-2F44-4148-AA78-83C56B0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D5895-1B92-4001-8E42-4DBE100F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B5A6-0581-4349-A0BA-498E4669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D26B0-6E6D-43DF-B453-C2F82911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B6B30-71B4-4394-83AA-8A848043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B584-BF40-4AC6-8AA2-7839F394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A157-7BAF-469F-B66D-BD901192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8FD7-6C5F-4309-9025-F69D7CC8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12773-8222-4F4F-B4D6-1A8EE9A6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8121-3A7D-4978-937C-9D629CB1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1F0AF-5E9C-480F-9880-65ADD0EF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489-4715-4A56-8080-13CA4370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D31B-3D54-4317-859F-0B384DAD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59966-8E70-47BC-830D-02F15127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5BF41-9E41-480D-9826-3918AD89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B1410-14EA-4886-AFDC-CDCB7E15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1D7E-8D68-48A5-9E66-0F42A9FA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6C36-EE71-490A-B27C-67395AFD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A636F-877F-4843-9933-2F8AC18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BCF21-99E5-4598-94AC-EA842C95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D8859-129B-405C-9BBB-5CF0C5EF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9BC55-61BB-4CA5-AEDA-A95E14E0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1D4-F950-40B6-BD70-A7BA299F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DF9A7-3450-41A1-A0B1-3E780A6B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B68D3-9C00-4997-90F6-5F4584A6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EE6C-9F7D-4BA8-93C8-E457995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1D581-EDFD-4905-B11E-BE1ADDD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CBAF7-4A30-458B-944F-4B43C0D5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D65CE-8FBB-4903-85C5-BB73D48B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E7169-F354-429C-A87E-DC6EC000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96252D-BB8A-489C-BBE5-5FA57F0F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E4826B-CFD0-471B-9214-156B768D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C084F5-78A5-45EB-BBBF-928114AB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F77-BFEA-48E2-9399-8E7521B71415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3CF0-7BC9-4FC8-809A-B9D15DD78D28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2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B7E6-0230-4D5A-9622-70649450D0EA}" type="datetime">
              <a:rPr b="0" lang="hu-HU" sz="1200" spc="-1" strike="noStrike">
                <a:solidFill>
                  <a:srgbClr val="ffffff"/>
                </a:solidFill>
                <a:latin typeface="Arial"/>
              </a:rPr>
              <a:t>26.07.31.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8123-D4A8-4353-9F7D-17F5DA923E04}" type="slidenum">
              <a:rPr b="0" lang="hu-H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0977-3341-4488-815D-2FFE9F2B4F62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175C-D4E8-4418-8FA0-CAEF7CEE010A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d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3869-13F5-4094-A07B-C6ED86A72ABE}" type="datetime">
              <a:rPr b="0" lang="hu-HU" sz="1200" spc="-1" strike="noStrike">
                <a:solidFill>
                  <a:srgbClr val="000000"/>
                </a:solidFill>
                <a:latin typeface="Tahoma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CC61-B3D6-4780-9CA2-C903EE712EF4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62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8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2F86-1A93-4159-8595-86908F8A5036}" type="datetime">
              <a:rPr b="0" lang="hu-HU" sz="1200" spc="-1" strike="noStrike">
                <a:solidFill>
                  <a:srgbClr val="000000"/>
                </a:solidFill>
                <a:latin typeface="Tahoma"/>
              </a:rPr>
              <a:t>26.07.31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0A14-4E1D-4AAF-9106-BCE0B00CC83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5CA3-0B61-43B4-B286-4F91E95C954D}" type="datetime">
              <a:rPr b="0" lang="hu-HU" sz="1000" spc="-1" strike="noStrike">
                <a:solidFill>
                  <a:srgbClr val="000000"/>
                </a:solidFill>
                <a:latin typeface="Verdana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9C62-1E92-47D5-97C0-CAB35A7C4F68}" type="slidenum">
              <a:rPr b="0" lang="hu-H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1ECF-59A7-41D8-BDB0-20B19C28EAC2}" type="datetime">
              <a:rPr b="0" lang="hu-HU" sz="1000" spc="-1" strike="noStrike">
                <a:solidFill>
                  <a:srgbClr val="000000"/>
                </a:solidFill>
                <a:latin typeface="Verdana"/>
              </a:rPr>
              <a:t>26.07.31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CAD7-BD42-4A02-B3E6-408E83426EE0}" type="slidenum">
              <a:rPr b="0" lang="hu-H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23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7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7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8B38-E1E2-4FED-97E2-F28EE51CFD56}" type="datetime">
              <a:rPr b="0" lang="hu-HU" sz="1400" spc="-1" strike="noStrike">
                <a:solidFill>
                  <a:srgbClr val="000000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0CA0-8285-4C14-87BB-596676E29DD0}" type="slidenum">
              <a:rPr b="1" lang="hu-H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2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2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E470-F360-4AB1-92E7-E97D1F13679D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FB5D-85B1-47A6-A3C1-D18C87B92F49}" type="slidenum">
              <a:rPr b="1" lang="hu-H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C3C7-C924-4542-B67D-2E073DD17D6A}" type="slidenum">
              <a:rPr b="0" lang="hu-H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017C-120B-46DD-BA58-F721398C6E5A}" type="datetime">
              <a:rPr b="0" lang="hu-HU" sz="1200" spc="-1" strike="noStrike">
                <a:solidFill>
                  <a:srgbClr val="ffffff"/>
                </a:solidFill>
                <a:latin typeface="Arial"/>
              </a:rPr>
              <a:t>26.07.31.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slideLayout" Target="../slideLayouts/slideLayout5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5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5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slideLayout" Target="../slideLayouts/slideLayout5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5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3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8.png"/><Relationship Id="rId19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2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57.png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slideLayout" Target="../slideLayouts/slideLayout5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49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4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gif"/><Relationship Id="rId3" Type="http://schemas.openxmlformats.org/officeDocument/2006/relationships/image" Target="../media/image65.gif"/><Relationship Id="rId4" Type="http://schemas.openxmlformats.org/officeDocument/2006/relationships/slideLayout" Target="../slideLayouts/slideLayout5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5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slideLayout" Target="../slideLayouts/slideLayout5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17520" y="2343600"/>
            <a:ext cx="875916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EMBERI ERŐFORRÁS GAZDÁLKODÁS</a:t>
            </a:r>
            <a:br>
              <a:rPr sz="4000"/>
            </a:b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Tanári kéziköny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276720" y="4220640"/>
            <a:ext cx="2938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Szerkesztette:</a:t>
            </a:r>
            <a:br>
              <a:rPr sz="3000"/>
            </a:b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Hajós László</a:t>
            </a:r>
            <a:br>
              <a:rPr sz="3000"/>
            </a:b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Berde Csa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24120" cy="11336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843280" y="404640"/>
            <a:ext cx="63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projekt az Európai Unió társfinanszírozásával, az Európa terv keretében valósul meg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928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© DE ATC AVK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CBC6A6-D631-48F3-BBDD-E010C0CF2C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z EEM fogalma,fejlődé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Bizonyos méretű szervezeteken belül már feltételezhető a személyzeti szakterület megléte, ahogy a pénzügyi vagy marketing terület esetében is. Kisebb szervezetben nem egyértelmű a specializáció, valamennyi vezető elláthat speciális személyzeti feladatokat. (Mckenna és Beech, 199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04A72-A2C9-4443-A2FE-5297D4D7B57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666633"/>
                </a:solidFill>
                <a:latin typeface="Garamond"/>
              </a:rPr>
              <a:t>A KOLLEKTÍV TÁRGYALÁSOK ALAPELVEI</a:t>
            </a:r>
            <a:r>
              <a:rPr b="1" lang="hu-HU" sz="2800" spc="-1" strike="noStrike">
                <a:solidFill>
                  <a:srgbClr val="66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500120" y="2060280"/>
            <a:ext cx="7491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3300"/>
                </a:solidFill>
                <a:latin typeface="Times New Roman"/>
              </a:rPr>
              <a:t>1. A megegyezési szándék elvár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3300"/>
                </a:solidFill>
                <a:latin typeface="Times New Roman"/>
              </a:rPr>
              <a:t>2. A jog és felelősség vállal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3300"/>
                </a:solidFill>
                <a:latin typeface="Times New Roman"/>
              </a:rPr>
              <a:t>3. Kölcsönös szerződéses kötelezettség vállal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3300"/>
                </a:solidFill>
                <a:latin typeface="Times New Roman"/>
              </a:rPr>
              <a:t>4. Békekötelezettsé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3300"/>
                </a:solidFill>
                <a:latin typeface="Times New Roman"/>
              </a:rPr>
              <a:t>5. Jóléti el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3300"/>
                </a:solidFill>
                <a:latin typeface="Times New Roman"/>
              </a:rPr>
              <a:t>6. Azonos megítélés elve (a differenciálás tilalm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7451640" y="1557360"/>
            <a:ext cx="1416240" cy="172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22484-C5A0-4618-B24C-C65CE7EBA6D9}" type="slidenum">
              <a:t>100</a:t>
            </a:fld>
          </a:p>
        </p:txBody>
      </p:sp>
    </p:spTree>
  </p:cSld>
  <p:transition>
    <p:comb dir="horz"/>
  </p:transition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0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8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8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7804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666633"/>
                </a:solidFill>
                <a:latin typeface="Garamond"/>
              </a:rPr>
              <a:t>A KOLLEKTÍV TÁRGYALÁS FOLYAMATA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rcRect l="0" t="0" r="0" b="3308"/>
          <a:stretch/>
        </p:blipFill>
        <p:spPr>
          <a:xfrm>
            <a:off x="1763640" y="560520"/>
            <a:ext cx="6912000" cy="6297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7380360" y="5013360"/>
            <a:ext cx="1334880" cy="14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6255B-518A-4644-8CEF-611CCD16B78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6633"/>
                </a:solidFill>
                <a:latin typeface="Garamond"/>
              </a:rPr>
              <a:t>A TÁRGYALÁS FOLYAMAT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500120" y="1773000"/>
            <a:ext cx="7491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3300"/>
                </a:solidFill>
                <a:latin typeface="Times New Roman"/>
              </a:rPr>
              <a:t>1. A tárgyalás előkészíté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3300"/>
                </a:solidFill>
                <a:latin typeface="Times New Roman"/>
              </a:rPr>
              <a:t>2. A tárgyalás lefolytatá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i="1" lang="hu-HU" sz="3200" spc="-1" strike="noStrike">
                <a:solidFill>
                  <a:srgbClr val="663300"/>
                </a:solidFill>
                <a:latin typeface="Times New Roman"/>
              </a:rPr>
              <a:t>Ténylegesen mi lehet a megállapodás lehetséges sávj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3300"/>
                </a:solidFill>
                <a:latin typeface="Times New Roman"/>
              </a:rPr>
              <a:t>3. A tárgyalás befejezé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6300720" y="5210280"/>
            <a:ext cx="2424240" cy="14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856D-FF41-43A9-8492-CECA2B631161}" type="slidenum">
              <a:t>102</a:t>
            </a:fld>
          </a:p>
        </p:txBody>
      </p:sp>
    </p:spTree>
  </p:cSld>
  <p:transition>
    <p:cover dir="d"/>
  </p:transition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0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079280" y="290520"/>
            <a:ext cx="7561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6633"/>
                </a:solidFill>
                <a:latin typeface="Garamond"/>
              </a:rPr>
              <a:t>TÁRGYALÁSI TAKTIKÁK</a:t>
            </a:r>
            <a:r>
              <a:rPr b="1" lang="hu-HU" sz="3200" spc="-1" strike="noStrike">
                <a:solidFill>
                  <a:srgbClr val="66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7732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DISZTRIBUTÍV TAKTIK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A pozíciószerzésre, nyomásgyakorlásra irányuló tak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INTEGRATÍV TAK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A másik fél megnyerésére irányuló tak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ATTITUDIONAL TAK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A beállítódásra, a tárgyalási légkörre irányuló tak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INTRAORGANIZATIONAL TAKT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Saját szervezeten belüli taktiká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7380360" y="411120"/>
            <a:ext cx="1584360" cy="14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DD82-2EEA-4023-90C7-81CFC0E4B59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0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200" spc="-1" strike="noStrike">
                <a:solidFill>
                  <a:srgbClr val="663300"/>
                </a:solidFill>
                <a:latin typeface="Garamond"/>
              </a:rPr>
              <a:t>A participáció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3472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articipációs szerepek és funkciók alapján három alaptípust különböztetünk me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radicionális”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rogresszív”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felfogá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kiegyenlítő”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szere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367000" cy="25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DFBB5-65AD-41AE-8BA0-307F7C4E268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652400" y="54900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666633"/>
                </a:solidFill>
                <a:latin typeface="Garamond"/>
              </a:rPr>
              <a:t>A MUNKAÜGYI KONFLIKTUSOK KEZELÉS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218592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663300"/>
                </a:solidFill>
                <a:latin typeface="Times New Roman"/>
              </a:rPr>
              <a:t>Egyéni munkaügyi v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663300"/>
                </a:solidFill>
                <a:latin typeface="Times New Roman"/>
              </a:rPr>
              <a:t>Kollektív munkaügyi vita</a:t>
            </a:r>
            <a:r>
              <a:rPr b="0" lang="hu-H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663300"/>
                </a:solidFill>
                <a:latin typeface="Times New Roman"/>
              </a:rPr>
              <a:t>Jogvita</a:t>
            </a:r>
            <a:r>
              <a:rPr b="0" lang="hu-H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663300"/>
                </a:solidFill>
                <a:latin typeface="Times New Roman"/>
              </a:rPr>
              <a:t>Érdekvit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5651640" y="4519440"/>
            <a:ext cx="2592360" cy="15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F68F3-9A4B-45DB-B0E1-A0F5727CBD7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z EEM fogal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személyzeti/emberi erőforrás menedzsment fogalmának definiálására számos kísérlet született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3366"/>
                </a:solidFill>
                <a:latin typeface="Arial"/>
              </a:rPr>
              <a:t>Emberi erőforrás menedzsment fogalma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 alatt mindazon tevékenységeket és vezetési módszereket értjük, amelyek egy adott szervezeten belül a munkaerő kiválasztásától, a munkaerő fejlesztésén keresztül a teljesítmény méréséig és a karrier menedzsmentig foglalkozik az emberi erőforrás működésével és annak ésszerű, hatékony felhasználásával annak érdekében, hogy az egyéni- és szervezeti célok megvalósuljanak (Piros, 2002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D6DC4-30E5-4C4F-B59E-EBCEADCE89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Az emberi erőforrás menedzsment célja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Segíteni a szervezetet a céljai elérésében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hatékonyan alkalmazni a munkaerő szaktudását és képességei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jól képzett, jól motivált alkalmazottakat biztosítani a szervezet számára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a lehető legnagyobb mértékben biztosítani az alkalmazottak elégedettségét, önmegvalósításá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közvetíteni a személyzeti irányelveket, politikát minden alkalmazott felé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segíteni az etikus elvek és gyakorlati magatartás fenntartásá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oly módon menedzselni a változást, hogy az egyének, a csoportok, a vállalat és tágabb közösség számára kölcsönösen előnyös legyen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a munkavégzés minőségét oly módon fenntartani és fejleszteni, hogy az kívánatossá tegye a szervezeten belüli alkalmazotti léte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803B1-A8A7-4495-8C4A-97C9338AEC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Az emberi erőforrás menedzsment jelentősége, szerep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Cél, a szervezeti célok és az egyéni törekvések közötti szoros kapcsolat kialakítása és folyamatos biztosítása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nincs olyan tevékenység, amely nélkülözné a humán-erőforrás meglété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Speciális jellege: a többi erőforrás-gazdálkodással szemben különleges bánásmód illeti meg az emberi-erőforrás gazdálkodás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a vállalatok irányításának az egyik legérzékenyebb területe a humánerőforrás-gazdálkodás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A humánerőforrás menedzsment esetében már a stratégia kialakításakor sok speciális szempontot kell figyelembe vennünk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az emberi erőforrás képes önmaga teljesítményét szabályozn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Az emberi erőforrás-gazdálkodás stratégiája szoros összefüggésben van a vállalat szervezeti struktúrájáv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E6055-A3F6-4087-BB24-6A738FE23E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Az emberi erőforrás menedzsment feladata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A szakirodalomban többféle megkülönböztetéssel találkozunk az emberi erőforrás gazdálkodás funkcióira vonatkozóan: Poór (1992) ; Roóz (1995); Chikán (1977); Pfau (1998); Mckenna és Beech (1998); Nemes (1998);Gyökér (1999); Dömötör (2001); Angyal (1999); Bakacsi et al. (2000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80A1-7D63-4879-BACC-B5DB029C8B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Az emberi erőforrás menedzsment feladatai /</a:t>
            </a: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Forrás: Chikán (1997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424720" cy="458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ADC5A-4CDB-471C-BFD3-7238F913AA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Az emberi erőforrás menedzsment funkció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Karoliny és Poór (1999) - témánk szempontjából az alábbi definiciót fogadjuk el, mely magában foglalja a  szerzők megfogalmazásait -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hu-HU" sz="2000" spc="-1" strike="noStrike">
                <a:solidFill>
                  <a:srgbClr val="003366"/>
                </a:solidFill>
                <a:latin typeface="Arial"/>
              </a:rPr>
              <a:t>az emberi erőforrás menedzsment azon funkciók kölcsönösen egymásra épülő együttese, amelyek az emberi erőforrások hatékony felhasználását segítik elő az egyéni és szervezeti célok egyidejű figyelembevételével. E funkciók közé sorolhatjuk: tervezés és auditálást munkakörelemzést és tervezést, az erőforrás-biztosítást, a munkakör értékelést, az ösztönzésmenedzsmentet, a teljesítményértékelést, az emberi erőforrás-fejlesztést, a munkaügyi kapcsolatok rendszerét, az EE információs rendszeré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22FF3-F7D8-4727-9843-A37EE185CF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Az EEM fogalmi modellje</a:t>
            </a:r>
            <a:br>
              <a:rPr sz="1600"/>
            </a:br>
            <a:r>
              <a:rPr b="1" lang="hu-HU" sz="1600" spc="-1" strike="noStrike">
                <a:solidFill>
                  <a:srgbClr val="006666"/>
                </a:solidFill>
                <a:latin typeface="Arial"/>
              </a:rPr>
              <a:t>Forrás: Poór és Karoliny (2002)</a:t>
            </a:r>
            <a:br>
              <a:rPr sz="16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69120" cy="545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89A35-11F1-4256-8BC9-AD8E8AB896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z EEM fogalmi modell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1.Külső környezeti elem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3366"/>
                </a:solidFill>
                <a:latin typeface="Arial"/>
              </a:rPr>
              <a:t>Demográfiai jellemezők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3366"/>
                </a:solidFill>
                <a:latin typeface="Arial"/>
              </a:rPr>
              <a:t>Foglalkoztatás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3366"/>
                </a:solidFill>
                <a:latin typeface="Arial"/>
              </a:rPr>
              <a:t>Munkanélküliség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3366"/>
                </a:solidFill>
                <a:latin typeface="Arial"/>
              </a:rPr>
              <a:t>Inaktívak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3366"/>
                </a:solidFill>
                <a:latin typeface="Arial"/>
              </a:rPr>
              <a:t>Területi jellemzők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2. Szek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3366"/>
                </a:solidFill>
                <a:latin typeface="Arial"/>
              </a:rPr>
              <a:t>3. Belső szervezeti elem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Üzleti stratég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EEM jellemző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tevékenység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Célok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Eredmény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DC456-12A4-4ABB-A1D0-0A3B3277C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A 15–74 éves népesség foglalkoztatási arányszámai és munkanélküliségi rátája megyék szerint, 2005</a:t>
            </a:r>
            <a:br>
              <a:rPr sz="3200"/>
            </a:br>
            <a:r>
              <a:rPr b="1" lang="hu-HU" sz="1600" spc="-1" strike="noStrike">
                <a:solidFill>
                  <a:srgbClr val="006666"/>
                </a:solidFill>
                <a:latin typeface="Arial"/>
              </a:rPr>
              <a:t> KSH (2005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24000" y="1803240"/>
            <a:ext cx="8535960" cy="505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4F44A-C7DF-4C13-92D9-DE0CDB92CB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z a kiadvány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i="1" lang="hu-HU" sz="3200" spc="-1" strike="noStrike">
                <a:solidFill>
                  <a:srgbClr val="ffffff"/>
                </a:solidFill>
                <a:latin typeface="Arial"/>
              </a:rPr>
              <a:t>Gyakorlatorientált képzési rendszerek kialakítása és minőségi fejlesztése az agrár-felsőoktatásb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ímű program keretében a „Mezőgazdasági ismeretek” sorozatban készü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6275F2-3789-4F1E-BF6A-4A77717D01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1700280"/>
            <a:ext cx="77724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EMBERI ERŐFORRÁS GAZDÁLKODÁS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6400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Dr. Hajós László – Gősi Marian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6AA2-3C78-4374-9AAE-05E5E71B18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A FEJEZET TARTALM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2880" y="1412640"/>
            <a:ext cx="7575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mléletmód-váltás az emberi erőforrás gazdálkodás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umán tőke jellemző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mberi erőforrás gazdálkodást befolyásoló tényező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munkaerő-szükséglet tervezésének elmél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mennyiségi munkaerő-szükséglet megállapí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minőségi munkaerő-szükséglet terv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munkaerő-szükséglet tervezésének gyakorl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CE8-58BB-42F0-A8F3-51C793773B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A FEJEZET TARTALM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Az élőmunka termelékenysé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Az élőmunka termelékenységének színvona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Az emberi erőforrások befektetésének mérése, humán kontro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Az emberi erőforrások beszerzési lehetősége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munkaerő felvételének folyamata: a toborzás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munkaerő felvételének folyamata: a kiválaszt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Belső forrásbó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Külső forrásbó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21C-8843-456A-A320-AEF702DDC8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Arial"/>
              </a:rPr>
              <a:t>MUNKAERŐ = EMBERI ERŐFORRÁS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73240" y="141264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ffff66"/>
                </a:solidFill>
                <a:latin typeface="Arial"/>
              </a:rPr>
              <a:t>Emberi erőforrás: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 a vállalatnál (adott szervezetnél) alkalmazott munkavállalóknak a munkavégzéshez szükséges képességeik, szakismeretük és a munkamegosztásban elfoglalt helyük szerint strukturált összesség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munkaerővel azonos értelemben használju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ffff66"/>
                </a:solidFill>
                <a:latin typeface="Arial"/>
              </a:rPr>
              <a:t>Alapvető jellemzőj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rendelkezik az erőforrások minden tulajdonságáv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ffff66"/>
                </a:solidFill>
                <a:latin typeface="Arial"/>
              </a:rPr>
              <a:t>Megkülönböztető jegy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szabad akarat – teljesítményét szabályozni képes (motiváltsága függvényében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5FD-FDE0-4581-943E-A1EDEC6CD6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  <a:ea typeface="Times New Roman"/>
              </a:rPr>
              <a:t>AZ EEG KÖRNYEZETI FELTÉTELE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4133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Kormányzati szabályozás, intézményrendsz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Jogi keretek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bérjellegű, adózással kapcsolatos kérdés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Munkavállalói csoportok esélyegyenlőségének kérdése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zgáskorlátozottak (Mo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on ninc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Érdekegyeztetés és érdekvédelem fórumai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-on bizonyos létszám felett kötelező a kollektív szerződés (pl. MÁV, Malév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Közigazgatás és közalkalmazotti szféra sajátos terület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szorosabb szabályozások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(pl. bértábl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B38-E519-4D08-8315-3E3E13EDAD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040" y="475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  <a:ea typeface="Times New Roman"/>
              </a:rPr>
              <a:t>AZ EEG KÖRNYEZETI FELTÉTELE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954920" cy="4286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akrogazdaság, munkaerőpia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nflációs várakozás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 kompenzációs rendszer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ialakítását befolyásolják, növekvő bér visszahat az inflációra i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Növekedési trend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a gazdasági visszaesés időszakában megnő az elbocsátások száma - napjainkban az elbocsátás a költségcsökkentés egyik gyakori formáj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z iparág jellemzői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munkaerő-igényesség, tudás-intenzív technológiák használat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Munkaerő-piaci trend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jelentős mértékben meghatározzák, hogy milyen korlátok között és milyen költséggel lehet megszerezni a hatékony működéshez szükséges tudással és képességekkel rendelkező munkaerő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3B3-FFE4-47ED-889B-65F8E3D801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826920" y="1484280"/>
            <a:ext cx="7921440" cy="4392720"/>
            <a:chOff x="826920" y="1484280"/>
            <a:chExt cx="7921440" cy="4392720"/>
          </a:xfrm>
        </p:grpSpPr>
        <p:sp>
          <p:nvSpPr>
            <p:cNvPr id="536" name=""/>
            <p:cNvSpPr/>
            <p:nvPr/>
          </p:nvSpPr>
          <p:spPr>
            <a:xfrm>
              <a:off x="826920" y="4459320"/>
              <a:ext cx="2404800" cy="140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cc9900"/>
                  </a:solidFill>
                  <a:latin typeface="Arial"/>
                </a:rPr>
                <a:t>M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Gyártási módszere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(Manufactu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26920" y="1484280"/>
              <a:ext cx="2404800" cy="14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cc9900"/>
                  </a:solidFill>
                  <a:latin typeface="Arial"/>
                </a:rPr>
                <a:t>M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Pén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(Mone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55800" y="3241080"/>
              <a:ext cx="2263320" cy="87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Vezeté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4840" y="1484280"/>
              <a:ext cx="2404800" cy="14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cc9900"/>
                  </a:solidFill>
                  <a:latin typeface="Arial"/>
                </a:rPr>
                <a:t>M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Emberi erőforrás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(Ma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43920" y="4471200"/>
              <a:ext cx="2404440" cy="14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cc9900"/>
                  </a:solidFill>
                  <a:latin typeface="Arial"/>
                </a:rPr>
                <a:t>M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Pi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(Marke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31720" y="2187000"/>
              <a:ext cx="308628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950480" y="2890080"/>
              <a:ext cx="7920" cy="1570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6320" y="2900160"/>
              <a:ext cx="0" cy="15811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31720" y="2890080"/>
              <a:ext cx="424080" cy="3510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19480" y="4119840"/>
              <a:ext cx="424440" cy="3510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232440" y="4112280"/>
              <a:ext cx="424440" cy="3510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5893200" y="2904480"/>
              <a:ext cx="424440" cy="3510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1080" y="5195880"/>
              <a:ext cx="308628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1b60f"/>
                </a:solidFill>
                <a:latin typeface="Arial"/>
              </a:rPr>
              <a:t>A VÁLLALATI ERŐFORRÁSOK MODELLJE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E92-F0D6-4A11-BF2D-7FDF6D56B1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704360" cy="442728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Arial"/>
              </a:rPr>
              <a:t>AZ EMBERI ERŐFORRÁSOK BEFEKTETÉSÉNEK MÉRÉSI MODELLJE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0FF-4D83-4428-A583-2CB9590EA8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Arial"/>
              </a:rPr>
              <a:t>A HUMÁN KONTROLLING</a:t>
            </a:r>
            <a:br>
              <a:rPr sz="2800"/>
            </a:br>
            <a:r>
              <a:rPr b="1" lang="hu-HU" sz="2800" spc="-1" strike="noStrike">
                <a:solidFill>
                  <a:srgbClr val="f1b60f"/>
                </a:solidFill>
                <a:latin typeface="Arial"/>
              </a:rPr>
              <a:t>MUTATÓ SZÁMAI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040" y="1412640"/>
            <a:ext cx="754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luktuáció arány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ezető beosztásúak aránya a beosztottak számához viszonyítv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ső évben bekövetkezett kilépések aránya az összes új belépő számához viszonyítv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belső átcsoportosításban érintettek és a munkaerőpiacról toborzottak arány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otenciális jelentkezők aránya a következő években betöltetlenül maradó álláshelyek számához viszonyítv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ovábbképzésben eltöltött napok egy munkatársra jutó száma egy év alat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zetői, valamint a szakmai képzés számarány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90F-7A80-476A-A625-BE803EE7FF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u-HU" sz="2800" spc="-1" strike="noStrike">
                <a:solidFill>
                  <a:srgbClr val="f1b60f"/>
                </a:solidFill>
                <a:latin typeface="Arial"/>
              </a:rPr>
              <a:t>TOBORZÁS BELSŐ FORRÁSBÓL</a:t>
            </a:r>
            <a:br>
              <a:rPr sz="2400"/>
            </a:b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99840" y="1412640"/>
            <a:ext cx="754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ég saját munkaerő-tartalékait felméri és megállapítja, kik azok és hányan vannak aki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áthelyezhetők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átképzéssel áthelyezhetők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visszahívhatók, újra alkalmazhatók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lőléptethető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FCB-1477-451D-B576-A79F6768BF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Arial"/>
              </a:rPr>
              <a:t>TARTALOMJEGYZÉ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AZ EMBERI ERŐFORRÁS MENEDZSMENT TEVÉKENYSÉG TERÜLETEI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Piros Már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EMBERI ERŐFORRÁS GAZDÁLKODÁS (EEG)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Hajós László – Gősi Marian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MUNKAKÖRELEMZÉS ÉS ÉRTÉKELÉ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Morvai Leona – Börzseiné Závori Mári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MOTIVÁCIÓ ÉS TELJESÍTMÉNYÉRTÉKELÉ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Láczay Magdolna – Juhász Csill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SZERVEZETI ÉS VEZETŐI KULTÚRA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Berde Csaba – Dienesné Kovács Erzsébe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MUNKAÜGYI KAPCSOLATO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Kocsondi József – Dajnoki Krisztina)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25BD37-EE29-40C6-9EFF-F5EAA969E1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475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Arial"/>
              </a:rPr>
              <a:t>A KÜLSŐ TOBORZÁS FŐBB FORRÁSAI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040" y="119664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irdető tábla,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ját adatbáz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klám, hirdetés, pályáza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nkaügyi központok, munkaerő-szolgálati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rodák,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nkanélkülieket átképző szervezet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ktatási intézmény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nkaerő közvetítő ügynökség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ejvadász irodá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nkaerő kölcsönző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971-9335-4564-937B-BB659381A1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Arial"/>
                <a:ea typeface="Times New Roman"/>
              </a:rPr>
              <a:t>AZ ASSESSMENT CENTER ÁLTAL HASZNÁLT ÉRTÉKELŐ ELJÁRÁSOK</a:t>
            </a:r>
            <a:endParaRPr b="0" lang="en-US" sz="2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268360" y="1557360"/>
            <a:ext cx="618984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Önéletrajzok elemz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nterjú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zemélyiségteszt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zakmai teszt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kvárium gyakorlat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Beszéd gyakorlatok, prezentáció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Csoportgyakorlatok, szerepjáték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settanulmány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Üzleti döntés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44E-745B-4D4F-95F0-44AB9F0364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81C0-CC21-4B72-AB52-8306369614CE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cc00"/>
                </a:solidFill>
                <a:latin typeface="Tahoma"/>
              </a:rPr>
              <a:t>Munkakörelemzés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25892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r. Morvay Leona –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örzseiné dr. Závori Má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4983-1C19-4C62-B33D-B10D6BBA8A04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9900"/>
                </a:solidFill>
                <a:latin typeface="Tahoma"/>
              </a:rPr>
              <a:t>A MUNKAKÖRELEMZÉS FOGALMA </a:t>
            </a:r>
            <a:br>
              <a:rPr sz="3200"/>
            </a:br>
            <a:r>
              <a:rPr b="1" lang="hu-HU" sz="3200" spc="-1" strike="noStrike">
                <a:solidFill>
                  <a:srgbClr val="cc9900"/>
                </a:solidFill>
                <a:latin typeface="Tahoma"/>
              </a:rPr>
              <a:t>ÉS FELHASZNÁLÁSI    TERÜLET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A  </a:t>
            </a:r>
            <a:r>
              <a:rPr b="1" i="1" lang="hu-HU" sz="2000" spc="-1" strike="noStrike">
                <a:solidFill>
                  <a:srgbClr val="ffcc00"/>
                </a:solidFill>
                <a:latin typeface="Tahoma"/>
              </a:rPr>
              <a:t>munkakör</a:t>
            </a:r>
            <a:r>
              <a:rPr b="1" i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a szervezet legkisebb tagozódási egysé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                       ↓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- személyorientált feladatkomplex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- független a személyi változásoktó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Munkakörelemzés során meghatározandó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a munkakö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→ 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tartalma (cél, funkció, feladat, hatáskör, 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→ 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kapcsolatrendsz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→ 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személyi feltételek (képesség, készség, tudás,        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tapasztalat, magatartás, .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5918040"/>
            <a:ext cx="18352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66E1-0D7B-484D-9EFE-AE75193CE80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u-HU" sz="3600" spc="-1" strike="noStrike">
                <a:solidFill>
                  <a:srgbClr val="ffcc00"/>
                </a:solidFill>
                <a:latin typeface="Tahoma"/>
              </a:rPr>
              <a:t>A munkakörelemzés felhasználási területe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        →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unkaerő toborzás és kiválasztá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        →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Teljesítményértékelé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        →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Karriertervezé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        →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Képzés, fejlesz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        →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Bérrendsz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        →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Jogi követelmények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8DEC-3116-4564-854C-A36E6AA4A6DD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A MUNKAKÖRELEMZÉS MÓDSZERE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d8b274"/>
                </a:solidFill>
                <a:latin typeface="Tahoma"/>
              </a:rPr>
              <a:t>Ki végezze a munkakörelemzést ?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közvetlen felettes vezető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humán menedz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d8b274"/>
                </a:solidFill>
                <a:latin typeface="Tahoma"/>
              </a:rPr>
              <a:t>Információforrások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- munkakör betöltő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- közvetlen vezető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- munkatárs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- írásos dokumentáció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29DD-B364-4BE3-93D9-7A523CFC6CEC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Vizsgálati módszer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interj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kérdőíves felvételez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önfelmér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feladatleltá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unkanap felvételez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A284-F2E0-4E0A-8583-2FC099A76AC1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d8b274"/>
                </a:solidFill>
                <a:latin typeface="Tahoma"/>
              </a:rPr>
              <a:t>A MUNKAKÖRELEMZÉS SZEMPONTJAI 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Munkakör azonosítás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- ne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- helye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Munkakör feladatai (vezetői, szakmai, 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munkavégzés eszközei (informatikai , gépek, szerszámok, 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DBD5-3A68-4F22-AD05-76AB8E30C1AD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25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d8b274"/>
                </a:solidFill>
                <a:latin typeface="Tahoma"/>
              </a:rPr>
              <a:t>A MUNKAKÖRELEMZÉS SZEMPONTJAI 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825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825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A munkakör betöltéséhez szükséges ismeretek    (általános, szakmai, számítástechnikai, 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825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unkaköri szerepek (koordináló, konfliktuskezelő, érdekegyeztető, 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825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unkakör önállósá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905F-9A61-40FB-B04B-D8D6191F8D30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d8b274"/>
                </a:solidFill>
                <a:latin typeface="Tahoma"/>
              </a:rPr>
              <a:t>A MUNKAKÖRELEMZÉS SZEMPONTJAI I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unkakör önállósá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unkakör kapcsolatigénye (külső, belső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Teljesítménykövetelmények    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(mennyiségi, minőségi, 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Ösztönzés mód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3366"/>
                </a:solidFill>
                <a:latin typeface="Arial"/>
              </a:rPr>
              <a:t>AZ EMBERI ERŐFORRÁS MENEDZSMENT TEVÉKENYSÉG TERÜLETEI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66"/>
                </a:solidFill>
                <a:latin typeface="Arial"/>
              </a:rPr>
              <a:t>Dr. Piros Márta Ph.D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2B02E-1757-4FA9-91EA-5E024598D39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8EFE-76AA-452A-A103-B2F6C8D21A8A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d8b274"/>
                </a:solidFill>
                <a:latin typeface="Tahoma"/>
              </a:rPr>
              <a:t>A MUNKAKÖRELEMZÉS SZEMPONTJAI I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Munkakörülmények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- fizikai feltételek (munkakörnyeze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- munkabiztonsá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- munkahigién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▪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Munkavégzés terhelő hatás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- tevékenység izommunka igény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(statikus, dinamikus,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- pszichés terhel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(figyelemigény, konfliktus, stressz, 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- különleges munkaköri sajátosság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(elszigeteltség,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409D-3A57-4796-9E14-B03A63E91669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6840" indent="-3427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ahoma"/>
              </a:rPr>
              <a:t>A munkakör megnevez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996840" indent="-3427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ahoma"/>
              </a:rPr>
              <a:t>Szervezeten belüli elhelyezked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996840" indent="-3427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ahoma"/>
              </a:rPr>
              <a:t>Közvetlen felet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996840" indent="-3427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ahoma"/>
              </a:rPr>
              <a:t>Feladatkör:     a szervezeti munkamegosztásból származó kötelezettség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996840" indent="-3427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ahoma"/>
              </a:rPr>
              <a:t>Hatáskör:        a végrehajtáshoz nélkülözhetetlen illetékesség, jogosultsá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996840" indent="-3427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ahoma"/>
              </a:rPr>
              <a:t>Felelősségkör: a feladatok elvégzéséért és a jogosultságok kifogástalan gyakorlásáé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996840" indent="-3427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ahoma"/>
              </a:rPr>
              <a:t>Elkészítésének formai követelményei (szervezetenként változ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D61-3211-4761-AB27-4DDE1D3D05C1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d8b274"/>
                </a:solidFill>
                <a:latin typeface="Tahoma"/>
              </a:rPr>
              <a:t>A munkakör betöltéséhez szükséges ismeretek, képességek, készségek minimális szint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Ismeret: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  az a tudásanyag, amely a munka kielégítő elvégzéséhez szüksé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Képesség: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az adott munkatevékenység elvégzéséhez nélkülözhetetlen tulajdonságok (gondolkodási, érzékelési, fizikai, 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Készség: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  a munkafeladat/ok által megkövetelt képességi szint/ek, amely/ek     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gyakorlással fejleszhető/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15A9-7C00-4DC7-AF16-D762CD9178B4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8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79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Munkakörök változása szükségessé teszi a munkakörtervezé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9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cc00"/>
                </a:solidFill>
                <a:latin typeface="Tahoma"/>
              </a:rPr>
              <a:t>Munkakör specializáció: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a munkakör sajátos feladatainak meghatározása (negatívuma lehet a monotonitá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9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cc00"/>
                </a:solidFill>
                <a:latin typeface="Tahoma"/>
              </a:rPr>
              <a:t>Munkakör bővítés (munkakör-áttervezés):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feladatok számának növelése, hatás- és felelősségkör bővítése nélkü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9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cc00"/>
                </a:solidFill>
                <a:latin typeface="Tahoma"/>
              </a:rPr>
              <a:t>Munkakör rotáció: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azonos szintű munkakörök közti csere (elősegíti a helyettesíté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9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cc00"/>
                </a:solidFill>
                <a:latin typeface="Tahoma"/>
              </a:rPr>
              <a:t>Munkakör gazdagítás: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feladat-, hatás- és felelősségkör egyidejű bővíté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0A99-4C6A-430E-89E6-BF3653CA7954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2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munkakör kialakítás </a:t>
            </a:r>
            <a:r>
              <a:rPr b="1" i="1" lang="hu-HU" sz="2800" spc="-1" strike="noStrike">
                <a:solidFill>
                  <a:srgbClr val="ffffff"/>
                </a:solidFill>
                <a:latin typeface="Tahoma"/>
              </a:rPr>
              <a:t>munkaelégedettséget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befolyásoló szempontja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2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♦ </a:t>
            </a:r>
            <a:r>
              <a:rPr b="1" i="1" lang="hu-HU" sz="2800" spc="-1" strike="noStrike">
                <a:solidFill>
                  <a:srgbClr val="ffcc00"/>
                </a:solidFill>
                <a:latin typeface="Tahoma"/>
              </a:rPr>
              <a:t>A feladat változatossága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- milyen mértékű az egyéni képességek és készségek igénybevéte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2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♦ </a:t>
            </a:r>
            <a:r>
              <a:rPr b="1" i="1" lang="hu-HU" sz="2800" spc="-1" strike="noStrike">
                <a:solidFill>
                  <a:srgbClr val="ffcc00"/>
                </a:solidFill>
                <a:latin typeface="Tahoma"/>
              </a:rPr>
              <a:t>A feladat azonosíthatósága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– a teljes munkafolyamat munkakörhöz csatolt részének mérté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2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♦ </a:t>
            </a:r>
            <a:r>
              <a:rPr b="1" i="1" lang="hu-HU" sz="2800" spc="-1" strike="noStrike">
                <a:solidFill>
                  <a:srgbClr val="ffcc00"/>
                </a:solidFill>
                <a:latin typeface="Tahoma"/>
              </a:rPr>
              <a:t>A feladat fontossága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– a munka eredménye milyen hatású mások munkájára, életé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2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♦ </a:t>
            </a:r>
            <a:r>
              <a:rPr b="1" i="1" lang="hu-HU" sz="2800" spc="-1" strike="noStrike">
                <a:solidFill>
                  <a:srgbClr val="ffcc00"/>
                </a:solidFill>
                <a:latin typeface="Tahoma"/>
              </a:rPr>
              <a:t>Autonómia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– a munkakör szabadságfo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52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♦ </a:t>
            </a:r>
            <a:r>
              <a:rPr b="1" i="1" lang="hu-HU" sz="2800" spc="-1" strike="noStrike">
                <a:solidFill>
                  <a:srgbClr val="ffcc00"/>
                </a:solidFill>
                <a:latin typeface="Tahoma"/>
              </a:rPr>
              <a:t>Visszajelzés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– információ a munkavégzésről, az egyén szervezeti magatartásáró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7733-ADC7-4EB4-A0C2-4CC389BE433D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Célja: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munkakörök egymáshoz viszonyított relatív értékének a meghatározása mérőszámok segítségével, a munkakörelemzésre épülő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Értékelési rendszer alkalmazási lehetőség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Kidolgozott rendszer átvétele, adaptál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Saját értékelő rendszer kidolgoz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A43F-C046-4834-B049-B377C45B265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30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Felhasználás területe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53036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Teljesítményértékelési rendszer kidolgoz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53036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Bértarifa rendszer kialakít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53036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Karrier-utak tervez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53036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unkavállalókkal szembeni követelmények meghatároz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53036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Személyzetfejlesztő programok kidolgoz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53036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Szervezetfejlesz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B258-5053-4602-8035-B3C2F60817BB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0" y="1700280"/>
          <a:ext cx="9143640" cy="4176360"/>
        </p:xfrm>
        <a:graphic>
          <a:graphicData uri="http://schemas.openxmlformats.org/drawingml/2006/table">
            <a:tbl>
              <a:tblPr/>
              <a:tblGrid>
                <a:gridCol w="3048840"/>
                <a:gridCol w="3046320"/>
                <a:gridCol w="3048480"/>
              </a:tblGrid>
              <a:tr h="171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Az összehasonlítás alap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Munkakör egés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(Globális, vagy szintetikus módszerek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Munkakör részekre, tényezőkre bont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(Analitikus módszerek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nkakört más munkakörr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gsorolás, egyszerű besorolá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áros összehasonlítá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ényező összehasonlító módsz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nkakört pontrendszerr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nkaköri osztályozás, klasszifikáci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ntozásos módszer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Hay módsze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0" name=""/>
          <p:cNvSpPr/>
          <p:nvPr/>
        </p:nvSpPr>
        <p:spPr>
          <a:xfrm>
            <a:off x="2277720" y="6092640"/>
            <a:ext cx="36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Forrás: Farkas et al. (1997) nyomá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7153-5D8A-4D13-9166-C4A13F5C90D9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619280" y="1268280"/>
            <a:ext cx="7283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 fejlesztő munkacsoport kialak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 munkakörök azonos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 munkakörök elemzése, a munkatükrök elkészít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z értékelési tényezők meghatároz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z értékelési tényezőkön belül az osztályok meghatároz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z értékelési tényezők súlyoz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z értékelő táblázat összeáll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 próbabesorolások elvégz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z értékelési rendszer elfogad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 munkakörök értékelé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r. Láczay Magdolna –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Dr. Juhász Cs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7688-2FC0-415E-A72E-670189BBD09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TÉMAKÖRÖ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3366"/>
                </a:solidFill>
                <a:latin typeface="Arial"/>
              </a:rPr>
              <a:t>Az Emberi Erőforrás Menedzs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fogalma, célj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jelentősége, szere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feladatai és funkció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F29FB-292F-4E20-860A-7176AFFDC3D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33"/>
                </a:solidFill>
                <a:latin typeface="Tahoma"/>
              </a:rPr>
              <a:t>FOGALM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33"/>
                </a:solidFill>
                <a:latin typeface="Tahoma"/>
              </a:rPr>
              <a:t>SZÜKSÉGLET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33"/>
                </a:solidFill>
                <a:latin typeface="Tahoma"/>
              </a:rPr>
              <a:t>Kielégítetlen szükséglet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33"/>
                </a:solidFill>
                <a:latin typeface="Tahoma"/>
              </a:rPr>
              <a:t>Belső feszültsé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33"/>
                </a:solidFill>
                <a:latin typeface="Tahoma"/>
              </a:rPr>
              <a:t>Hajtóerő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33"/>
                </a:solidFill>
                <a:latin typeface="Tahoma"/>
              </a:rPr>
              <a:t>Kereső magatart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33"/>
                </a:solidFill>
                <a:latin typeface="Tahoma"/>
              </a:rPr>
              <a:t>Kielégített szükségl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33"/>
                </a:solidFill>
                <a:latin typeface="Tahoma"/>
              </a:rPr>
              <a:t>Belső feszültség csökken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5867280" y="2276640"/>
            <a:ext cx="300060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B225-02CF-47E3-81AC-B797D309D9F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57200" y="1557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Tahoma"/>
              </a:rPr>
              <a:t>A SZÜKSÉGLETEK HIERARCHIÁ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33"/>
                </a:solidFill>
                <a:latin typeface="Tahoma"/>
              </a:rPr>
              <a:t>Maslow-féle szükségletek piram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>
            <a:lum contrast="-6000"/>
          </a:blip>
          <a:srcRect l="0" t="29182" r="39881" b="29677"/>
          <a:stretch/>
        </p:blipFill>
        <p:spPr>
          <a:xfrm>
            <a:off x="4284720" y="3645000"/>
            <a:ext cx="4595760" cy="3095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089080" cy="15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D461-8143-443B-8F72-CBB988C0B39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0755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Tényezők, amelyek befolyásolják az ösztönzést és a munka higiénáját (Herzber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ff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116000" y="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TIVÁCI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426440" cy="47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E335-2CAF-49CC-B0BF-81DC4FE9F06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ff00"/>
                </a:solidFill>
                <a:latin typeface="Tahoma"/>
              </a:rPr>
              <a:t>MOTIVÁCIÓS ELMÉLET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ff00"/>
                </a:solidFill>
                <a:latin typeface="Tahoma"/>
              </a:rPr>
              <a:t>BELSŐ EREDETŰ ELMÉLETEK VAGY TARTALOM ELMÉLET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Tahoma"/>
              </a:rPr>
              <a:t>Maslow szükséglethierarchia elmél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Tahoma"/>
              </a:rPr>
              <a:t>Herzberg kéttényezős elméle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Tahoma"/>
              </a:rPr>
              <a:t>A motiváció teljesítmény-hatalom elméle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ff00"/>
                </a:solidFill>
                <a:latin typeface="Tahoma"/>
              </a:rPr>
              <a:t>KÜLSŐ EREDETŰ ELMÉLETEK VAGY </a:t>
            </a:r>
            <a:br>
              <a:rPr sz="2000"/>
            </a:br>
            <a:r>
              <a:rPr b="0" lang="hu-HU" sz="2000" spc="-1" strike="noStrike">
                <a:solidFill>
                  <a:srgbClr val="00ff00"/>
                </a:solidFill>
                <a:latin typeface="Tahoma"/>
              </a:rPr>
              <a:t>FOLYAMAT ELMÉLET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Tahoma"/>
              </a:rPr>
              <a:t>Elvárás elmélet (Expectancy The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Tahoma"/>
              </a:rPr>
              <a:t>Méltányosság elmélet (Equity The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Tahoma"/>
              </a:rPr>
              <a:t>Célkitűzési elmélet (Goal Setting The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Tahoma"/>
              </a:rPr>
              <a:t>Megerősítési elmélet (Reinforcement The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116000" y="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TIVÁCI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0"/>
          <a:stretch/>
        </p:blipFill>
        <p:spPr>
          <a:xfrm>
            <a:off x="6192720" y="2060640"/>
            <a:ext cx="277200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3BC7-51F4-47CB-8836-6C1703BC6C7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6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8785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ff00"/>
                </a:solidFill>
                <a:latin typeface="Tahoma"/>
              </a:rPr>
              <a:t>MOTIVÁCIÓS ELMÉLETEK I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ff00"/>
                </a:solidFill>
                <a:latin typeface="Tahoma"/>
              </a:rPr>
              <a:t>(McGregor, Ouch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ff00"/>
                </a:solidFill>
                <a:latin typeface="Tahoma"/>
              </a:rPr>
              <a:t>X. ELMÉLET SZERINT AZ EMB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ff00"/>
                </a:solidFill>
                <a:latin typeface="Tahoma"/>
              </a:rPr>
              <a:t>Eredendő lus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ff00"/>
                </a:solidFill>
                <a:latin typeface="Tahoma"/>
              </a:rPr>
              <a:t>Veleszületett munkaund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ff00"/>
                </a:solidFill>
                <a:latin typeface="Tahoma"/>
              </a:rPr>
              <a:t>Kényszeríteni kell a munká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ff00"/>
                </a:solidFill>
                <a:latin typeface="Tahoma"/>
              </a:rPr>
              <a:t>Y. ELMÉL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ff00"/>
                </a:solidFill>
                <a:latin typeface="Tahoma"/>
              </a:rPr>
              <a:t>Motiváltsá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ff00"/>
                </a:solidFill>
                <a:latin typeface="Tahoma"/>
              </a:rPr>
              <a:t>Felelősségvállalá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ff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ff00"/>
                </a:solidFill>
                <a:latin typeface="Tahoma"/>
              </a:rPr>
              <a:t>Z. ELMÉL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ff00"/>
                </a:solidFill>
                <a:latin typeface="Tahoma"/>
              </a:rPr>
              <a:t>Képességek, hajlamok, adottságok kihasználá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0"/>
          <a:stretch/>
        </p:blipFill>
        <p:spPr>
          <a:xfrm>
            <a:off x="7308720" y="5084640"/>
            <a:ext cx="1474920" cy="15559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1116000" y="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TIVÁCI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1"/>
          <a:stretch/>
        </p:blipFill>
        <p:spPr>
          <a:xfrm>
            <a:off x="4067280" y="3645000"/>
            <a:ext cx="1646280" cy="180000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2"/>
          <a:stretch/>
        </p:blipFill>
        <p:spPr>
          <a:xfrm>
            <a:off x="6804000" y="1989000"/>
            <a:ext cx="1513080" cy="14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7B88-CA8F-4933-88BC-7BEE1E541DC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"/>
                                        <p:tgtEl>
                                          <p:spTgt spid="6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6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6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6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6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6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6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ff00"/>
                </a:solidFill>
                <a:latin typeface="Tahoma"/>
              </a:rPr>
              <a:t>POZITÍV ÉS NEGATÍV MOTIVÁC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NEGATÍV MOTIVÁCI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KITA (Kick In The A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187280" y="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TIVÁCI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250920" y="2852640"/>
          <a:ext cx="403200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403200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5148360" y="3789360"/>
            <a:ext cx="2857320" cy="1486080"/>
          </a:xfrm>
          <a:prstGeom prst="leftArrow">
            <a:avLst>
              <a:gd name="adj1" fmla="val 50000"/>
              <a:gd name="adj2" fmla="val 48068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ahoma"/>
              </a:rPr>
              <a:t>Nyomás, kénysz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B145-1EE0-49E0-AE6B-7453C4078C9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2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ff00"/>
                </a:solidFill>
                <a:latin typeface="Tahoma"/>
              </a:rPr>
              <a:t>POZITÍV ÉS NEGATÍV MOTIVÁC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POZITÍV MOTIVÁCI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2708280" cy="27367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3995640" y="3789360"/>
            <a:ext cx="2057400" cy="1257480"/>
          </a:xfrm>
          <a:prstGeom prst="rightArrow">
            <a:avLst>
              <a:gd name="adj1" fmla="val 50000"/>
              <a:gd name="adj2" fmla="val 40903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659640" y="4246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C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E1FA-D1C9-4D50-BFF6-614824D387B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743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8000"/>
                </a:solidFill>
                <a:latin typeface="Comic Sans MS"/>
              </a:rPr>
              <a:t>A MOTIVÁCIÓ-EREDMÉNY MODELL</a:t>
            </a:r>
            <a:endParaRPr b="0" lang="en-US" sz="34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684360" y="1554120"/>
          <a:ext cx="8889840" cy="44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4120"/>
                    <a:ext cx="888984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 txBox="1"/>
          <p:nvPr/>
        </p:nvSpPr>
        <p:spPr>
          <a:xfrm>
            <a:off x="1187280" y="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TIVÁCI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2A0A-4189-492D-8D0C-3A710D5E40A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ff00"/>
                </a:solidFill>
                <a:latin typeface="Tahoma"/>
              </a:rPr>
              <a:t>VEZETŐI MOTIVÁCIÓS STRATÉGIÁK 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Jobb munkafelté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Anyagi ösztönző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65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ff00"/>
                </a:solidFill>
                <a:latin typeface="Tahoma"/>
              </a:rPr>
              <a:t>Pozitív, negatív motiváció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65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ff00"/>
                </a:solidFill>
                <a:latin typeface="Tahoma"/>
              </a:rPr>
              <a:t>Reális következmény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65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ff00"/>
                </a:solidFill>
                <a:latin typeface="Tahoma"/>
              </a:rPr>
              <a:t>Konkrét cél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Perspektíva – továbbképz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A munka változatossága, a dolgozók rotáció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8"/>
          <a:stretch/>
        </p:blipFill>
        <p:spPr>
          <a:xfrm>
            <a:off x="5003640" y="1916280"/>
            <a:ext cx="2016360" cy="182700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 txBox="1"/>
          <p:nvPr/>
        </p:nvSpPr>
        <p:spPr>
          <a:xfrm>
            <a:off x="1116000" y="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TIVÁCI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9"/>
          <a:stretch/>
        </p:blipFill>
        <p:spPr>
          <a:xfrm>
            <a:off x="7380360" y="4508640"/>
            <a:ext cx="1546200" cy="21715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10"/>
          <a:stretch/>
        </p:blipFill>
        <p:spPr>
          <a:xfrm>
            <a:off x="1116000" y="4437000"/>
            <a:ext cx="2665440" cy="163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EB6D-2BC7-4500-99CD-4C6FAFA2C8D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ff00"/>
                </a:solidFill>
                <a:latin typeface="Tahoma"/>
              </a:rPr>
              <a:t>VEZETŐI MOTIVÁCIÓS STRATÉGIÁK I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Visszajelz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Konkurencia, versenyeztet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Felelősség, önálló felad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Dicséret</a:t>
            </a:r>
            <a:r>
              <a:rPr b="1" lang="hu-HU" sz="1800" spc="-1" strike="noStrike">
                <a:solidFill>
                  <a:srgbClr val="00ff00"/>
                </a:solidFill>
                <a:latin typeface="Tahoma"/>
              </a:rPr>
              <a:t>:</a:t>
            </a:r>
            <a:r>
              <a:rPr b="1" lang="hu-HU" sz="1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veszélyek és hiányosságok, </a:t>
            </a:r>
            <a:br>
              <a:rPr sz="2000"/>
            </a:b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túlzott megelégedettsé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6156360" y="3933720"/>
            <a:ext cx="2449440" cy="20242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 txBox="1"/>
          <p:nvPr/>
        </p:nvSpPr>
        <p:spPr>
          <a:xfrm>
            <a:off x="1187280" y="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TIVÁCI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6"/>
          <a:stretch/>
        </p:blipFill>
        <p:spPr>
          <a:xfrm>
            <a:off x="611280" y="2781360"/>
            <a:ext cx="2520720" cy="202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6FB0-35B2-4B7E-9A68-667C74BE9AE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8" dur="20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Bevezető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Az emberi tényező felértékelődöt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A tudás, a tapasztalat, a szakismeret a               tőke egyik formája, a szervezeti vagyon része, szervezeti stratégiai erőforrá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Az agrárágazatban az emberi erőforrás hatékony felhasználása egyik kitörési pont lehet a jövő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zemlélet - és magatartásváltá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B63AB-EEFE-4C2E-8DAE-B78D919E27B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E72-4211-4954-A15B-76BBDAA1D432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907640" y="1484280"/>
            <a:ext cx="5651640" cy="4903920"/>
            <a:chOff x="1907640" y="1484280"/>
            <a:chExt cx="5651640" cy="4903920"/>
          </a:xfrm>
        </p:grpSpPr>
        <p:sp>
          <p:nvSpPr>
            <p:cNvPr id="657" name="_s1072137"/>
            <p:cNvSpPr/>
            <p:nvPr/>
          </p:nvSpPr>
          <p:spPr>
            <a:xfrm>
              <a:off x="2973960" y="1666080"/>
              <a:ext cx="2969280" cy="2933640"/>
            </a:xfrm>
            <a:prstGeom prst="ellipse">
              <a:avLst/>
            </a:prstGeom>
            <a:solidFill>
              <a:srgbClr val="674e2f">
                <a:alpha val="50000"/>
              </a:srgbClr>
            </a:solidFill>
            <a:ln w="57240">
              <a:solidFill>
                <a:srgbClr val="674e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_s1072138"/>
            <p:cNvSpPr/>
            <p:nvPr/>
          </p:nvSpPr>
          <p:spPr>
            <a:xfrm>
              <a:off x="5940360" y="1484280"/>
              <a:ext cx="1510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szervezeti lehetőségek halmaz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_s1072139"/>
            <p:cNvSpPr/>
            <p:nvPr/>
          </p:nvSpPr>
          <p:spPr>
            <a:xfrm>
              <a:off x="3792960" y="2895120"/>
              <a:ext cx="2969280" cy="297000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_s1072140"/>
            <p:cNvSpPr/>
            <p:nvPr/>
          </p:nvSpPr>
          <p:spPr>
            <a:xfrm>
              <a:off x="6227640" y="5877360"/>
              <a:ext cx="13316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vezetői motivációs lehetőségek halmaz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_s1072141"/>
            <p:cNvSpPr/>
            <p:nvPr/>
          </p:nvSpPr>
          <p:spPr>
            <a:xfrm>
              <a:off x="2359440" y="2895120"/>
              <a:ext cx="2969280" cy="297000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_s1072142"/>
            <p:cNvSpPr/>
            <p:nvPr/>
          </p:nvSpPr>
          <p:spPr>
            <a:xfrm>
              <a:off x="1907640" y="5733720"/>
              <a:ext cx="1330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dolgozói motivációs lehetőségek halmaz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50920" y="1871640"/>
              <a:ext cx="1513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G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elesleges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30960" y="4226040"/>
              <a:ext cx="10857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Idealizált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69120" y="4329000"/>
              <a:ext cx="1023840" cy="11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Jó lenne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76200" y="2997000"/>
              <a:ext cx="1063440" cy="11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ehetőség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58920" y="2852640"/>
              <a:ext cx="1368720" cy="11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I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asználható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97800" y="4738680"/>
              <a:ext cx="11260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J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iányzó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97800" y="3612240"/>
              <a:ext cx="102384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zinkron mag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92960" y="4329000"/>
              <a:ext cx="1535760" cy="307080"/>
            </a:xfrm>
            <a:custGeom>
              <a:avLst/>
              <a:gdLst/>
              <a:ahLst/>
              <a:rect l="l" t="t" r="r" b="b"/>
              <a:pathLst>
                <a:path w="2700" h="570">
                  <a:moveTo>
                    <a:pt x="0" y="180"/>
                  </a:moveTo>
                  <a:cubicBezTo>
                    <a:pt x="495" y="375"/>
                    <a:pt x="990" y="570"/>
                    <a:pt x="1440" y="540"/>
                  </a:cubicBezTo>
                  <a:cubicBezTo>
                    <a:pt x="1890" y="510"/>
                    <a:pt x="2550" y="60"/>
                    <a:pt x="2700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4360" y="1620720"/>
            <a:ext cx="15746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920" y="1773360"/>
            <a:ext cx="2881080" cy="172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ötetlen minősít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incs előre megadott        tartal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gyedileg feltárt   erősségek/gyengeségek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348000" y="1773360"/>
            <a:ext cx="2519280" cy="170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esorolási eljár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lőre megadott ismérvek (személyiség, magatartás, teljesítmén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osztályozási skál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setenként súlyozá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4720" y="1773360"/>
            <a:ext cx="2735280" cy="166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élra irányuló minősít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feladatok, cél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feladat/cél  teljesítésének mértéke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92360" y="3500280"/>
            <a:ext cx="1295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00720" y="350028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156360" y="3429000"/>
            <a:ext cx="1224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95640" y="4581360"/>
            <a:ext cx="46800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gyakorlati formák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63640" y="566100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dolgozók értékelésének, minősítésének módszerei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F23D-B95B-4CFC-8226-04B440DD68C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mális teljesítményértékel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nformális teljesítményértékel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DEB1-246E-4A58-AC58-9BC288B3772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z egyéneket értékelő technik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ahoma"/>
              </a:rPr>
              <a:t>Osztályozó, értékelő skál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ahoma"/>
              </a:rPr>
              <a:t>Kötetlen formájú jelentés (esszé)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ahoma"/>
              </a:rPr>
              <a:t>A kritikus esetek módszere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ahoma"/>
              </a:rPr>
              <a:t>Magatartásformákkal jellemzett osztályozó skála (MJ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ahoma"/>
              </a:rPr>
              <a:t>Magatartás-megfigyelő skála (MMS)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06F5-272F-4F2A-AEB6-5C3865B6E7C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Több személyt egyidejűleg értékelő módszer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ffff"/>
                </a:solidFill>
                <a:latin typeface="Tahoma"/>
              </a:rPr>
              <a:t>Rangsorolá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ffff"/>
                </a:solidFill>
                <a:latin typeface="Tahoma"/>
              </a:rPr>
              <a:t>Kényszerített szétosztás</a:t>
            </a: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68B4-40B4-4D46-A41A-F0AA5405982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450000" y="1899360"/>
            <a:ext cx="8170560" cy="3786120"/>
            <a:chOff x="450000" y="1899360"/>
            <a:chExt cx="8170560" cy="3786120"/>
          </a:xfrm>
        </p:grpSpPr>
        <p:sp>
          <p:nvSpPr>
            <p:cNvPr id="684" name=""/>
            <p:cNvSpPr/>
            <p:nvPr/>
          </p:nvSpPr>
          <p:spPr>
            <a:xfrm>
              <a:off x="3439080" y="1899360"/>
              <a:ext cx="2192040" cy="79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Főnö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39080" y="4888440"/>
              <a:ext cx="2192040" cy="79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Beoszto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439080" y="3294360"/>
              <a:ext cx="2192040" cy="79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Értékel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428520" y="3294360"/>
              <a:ext cx="2192040" cy="79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Azonos szintű kollégá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0000" y="3294360"/>
              <a:ext cx="2192040" cy="79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Azonos szintű kollégá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2040" y="369288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631480" y="369288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08640" y="2696400"/>
              <a:ext cx="1440" cy="5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464360" y="4091400"/>
              <a:ext cx="1440" cy="7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050920" y="5734080"/>
            <a:ext cx="67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360 fokos teljesítményértékelési rendszer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B3ED-A1AC-4FE3-BF1F-FA71CE85A94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atékony program feltétele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unkakör elemzésen alap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elkülönülő munkaterületekhez egyedi kritériumot célszerű kifejleszte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egfelelő számú értékel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gyakori értékel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értékelés adminisztrálásának egységesít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egfelelő képzési program az értékelőn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zetőség támogat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agatartás-alapú értékel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8F6F-C220-4F1E-AE9E-D95E7FF1941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A teljesítményértékeléskor előforduló hibá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Szubjektivitá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Elnéző értékel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Hasonlatossági hi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Kontraszt hi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közelmúlt hat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Sztereotípiá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768F-AD73-471B-8B45-3A4787306A2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Az értékelőrendszer sikeressé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célok tisztázottsá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vezetés elkötelezettsé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Nyitottság és részvét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z értékelés kritériumainak elfogad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Tré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dminisztratív hatékonysá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Nyomon követ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Kultúra és rugalmassá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4A86-7876-41FE-AF96-C7FC366A206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D45E-A518-4BD4-B604-AA39436B081B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Lucida Console"/>
              </a:rPr>
              <a:t>SZERVEZETI ÉS VEZETŐI KULTÚRA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r. Berde Csaba –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ienesné dr. Kovács Erzséb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z EEM fogalma, célj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Minden fejlődés, előmenetel, erő, érték és szerencsének legmélyebb sarkalatja a kiművelt emberfő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zéchenyi Istvá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2990-4B15-4931-96F3-0BA502DEA52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A685-DAA6-4ACD-BB12-3CFB060D0E16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002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br>
              <a:rPr sz="2000"/>
            </a:br>
            <a:br>
              <a:rPr sz="2000"/>
            </a:br>
            <a:r>
              <a:rPr b="1" lang="hu-HU" sz="32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4762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ntique Olive"/>
              </a:rPr>
              <a:t>Mi a kultúr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ntique Olive"/>
              </a:rPr>
              <a:t>A szervezeti tagok által elfogadott alapvető értékek, meggyőződések, hiedelmek, felvetések, amelyek segítségével meghatározzák önmagukat, környezetüket és elkülönülnek más szervezetektő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ntique Olive"/>
              </a:rPr>
              <a:t>Az emberek együttélésének és a közös munkának az eredmény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580000" y="1600200"/>
            <a:ext cx="310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6" name="" descr="Click To Download"/>
          <p:cNvPicPr/>
          <p:nvPr/>
        </p:nvPicPr>
        <p:blipFill>
          <a:blip r:embed="rId3"/>
          <a:stretch/>
        </p:blipFill>
        <p:spPr>
          <a:xfrm>
            <a:off x="5435640" y="1628640"/>
            <a:ext cx="331164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9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98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98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98" fill="hold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19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03F2-41DA-49CC-9380-3AABF8EB3417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r>
              <a:rPr b="1" lang="hu-HU" sz="4000" spc="-1" strike="noStrike">
                <a:solidFill>
                  <a:srgbClr val="ffffcc"/>
                </a:solidFill>
                <a:latin typeface="Lucida Console"/>
              </a:rPr>
              <a:t> </a:t>
            </a:r>
            <a:br>
              <a:rPr sz="4000"/>
            </a:br>
            <a:r>
              <a:rPr b="1" lang="hu-HU" sz="36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Erős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    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stabil viselkedési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      stab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kultúra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   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formák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       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    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struktú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hatékony eszköz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ntique Olive"/>
              </a:rPr>
              <a:t>               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erős  korlá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hatása: lassú és tartó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a hibák hatása: azonnali és tartó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    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         </a:t>
            </a:r>
            <a:r>
              <a:rPr b="1" i="1" lang="hu-HU" sz="2400" spc="-1" strike="noStrike">
                <a:solidFill>
                  <a:srgbClr val="ffffff"/>
                </a:solidFill>
                <a:latin typeface="Antique Olive"/>
              </a:rPr>
              <a:t>magyar adózási kultú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1692360" y="1125360"/>
            <a:ext cx="576000" cy="358920"/>
          </a:xfrm>
          <a:prstGeom prst="rightArrow">
            <a:avLst>
              <a:gd name="adj1" fmla="val 50000"/>
              <a:gd name="adj2" fmla="val 40120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24360" y="112536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08360" y="4797360"/>
            <a:ext cx="1081080" cy="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" descr="Click To Download"/>
          <p:cNvPicPr/>
          <p:nvPr/>
        </p:nvPicPr>
        <p:blipFill>
          <a:blip r:embed="rId3"/>
          <a:stretch/>
        </p:blipFill>
        <p:spPr>
          <a:xfrm>
            <a:off x="2268360" y="1986120"/>
            <a:ext cx="4032360" cy="257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7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7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7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7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5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68C7-12C4-4102-A272-9526C2A79B23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r>
              <a:rPr b="1" lang="hu-HU" sz="3600" spc="-1" strike="noStrike">
                <a:solidFill>
                  <a:srgbClr val="ffffcc"/>
                </a:solidFill>
                <a:latin typeface="Lucida Console"/>
              </a:rPr>
              <a:t> </a:t>
            </a:r>
            <a:br>
              <a:rPr sz="3600"/>
            </a:br>
            <a:r>
              <a:rPr b="1" lang="hu-HU" sz="36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Arial Narrow"/>
              </a:rPr>
              <a:t>Megismerhető-e egy szervezet kultúráj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nehezen tudatos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ha kilépünk a szervezetbő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Narrow"/>
              </a:rPr>
              <a:t>vezetői feladatok és hibá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9" name="" descr="Click To Download"/>
          <p:cNvPicPr/>
          <p:nvPr/>
        </p:nvPicPr>
        <p:blipFill>
          <a:blip r:embed="rId4"/>
          <a:stretch/>
        </p:blipFill>
        <p:spPr>
          <a:xfrm>
            <a:off x="5148360" y="1844640"/>
            <a:ext cx="3600360" cy="324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8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B1A-24C0-4C80-B88F-14F3726BFBA2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r>
              <a:rPr b="1" lang="hu-HU" sz="3600" spc="-1" strike="noStrike">
                <a:solidFill>
                  <a:srgbClr val="ffffcc"/>
                </a:solidFill>
                <a:latin typeface="Lucida Console"/>
              </a:rPr>
              <a:t> </a:t>
            </a:r>
            <a:br>
              <a:rPr sz="3600"/>
            </a:br>
            <a:r>
              <a:rPr b="1" lang="hu-HU" sz="36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440" y="1196640"/>
            <a:ext cx="80629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ff"/>
                </a:solidFill>
                <a:latin typeface="Antique Olive"/>
              </a:rPr>
              <a:t>A szervezeti kultúra elem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függetlensé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hagyományok = múl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ünnepségek, rendezvények, ceremóniá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épített környez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személyisége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történetek, sztorik, anekdoták, legendá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nyelvezet, szakzsarg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szimbólum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szakképzetség  </a:t>
            </a:r>
            <a:r>
              <a:rPr b="0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 kultúr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de! van szakmakultú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részkultúrák (szubkultúrák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ntique Olive"/>
              </a:rPr>
              <a:t>vezetés vagy hatalomkultú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ntique Olive"/>
              </a:rPr>
              <a:t>feladat vagy funkcionális kultú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ntique Olive"/>
              </a:rPr>
              <a:t>szerepkultú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ntique Olive"/>
              </a:rPr>
              <a:t>viselkedés kultú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ntique Olive"/>
              </a:rPr>
              <a:t>Normák, elvárások:   munká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ntique Olive"/>
              </a:rPr>
              <a:t>viselkedés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ntique Olive"/>
              </a:rPr>
              <a:t>öltözködés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E23A-AEA4-42AA-AEA5-FC6AB2A398E9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r>
              <a:rPr b="1" lang="hu-HU" sz="3200" spc="-1" strike="noStrike">
                <a:solidFill>
                  <a:srgbClr val="ffffcc"/>
                </a:solidFill>
                <a:latin typeface="Lucida Console"/>
              </a:rPr>
              <a:t> </a:t>
            </a:r>
            <a:br>
              <a:rPr sz="3200"/>
            </a:br>
            <a:r>
              <a:rPr b="1" lang="hu-HU" sz="32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A szervezeti kultúra szintj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i="1" lang="hu-HU" sz="3200" spc="-1" strike="noStrike">
                <a:solidFill>
                  <a:srgbClr val="ffffff"/>
                </a:solidFill>
                <a:latin typeface="Tahoma"/>
              </a:rPr>
              <a:t>Fecseg a felszín, hallgat a mély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826920" y="1798560"/>
            <a:ext cx="7777440" cy="40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5" dur="500"/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4D0E-A4EB-48AC-8F54-01FCE06D5E17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r>
              <a:rPr b="1" lang="hu-HU" sz="3200" spc="-1" strike="noStrike">
                <a:solidFill>
                  <a:srgbClr val="ffffcc"/>
                </a:solidFill>
                <a:latin typeface="Lucida Console"/>
              </a:rPr>
              <a:t> </a:t>
            </a:r>
            <a:br>
              <a:rPr sz="3200"/>
            </a:br>
            <a:r>
              <a:rPr b="1" lang="hu-HU" sz="32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Antique Olive"/>
              </a:rPr>
              <a:t>A kultúra szintj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>
            <a:alphaModFix amt="78000"/>
          </a:blip>
          <a:stretch/>
        </p:blipFill>
        <p:spPr>
          <a:xfrm>
            <a:off x="1258920" y="1773360"/>
            <a:ext cx="7058160" cy="508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1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1E79-FF58-4676-B187-9877C64FEB6F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r>
              <a:rPr b="1" lang="hu-HU" sz="3200" spc="-1" strike="noStrike">
                <a:solidFill>
                  <a:srgbClr val="ffffcc"/>
                </a:solidFill>
                <a:latin typeface="Lucida Console"/>
              </a:rPr>
              <a:t> </a:t>
            </a:r>
            <a:br>
              <a:rPr sz="3200"/>
            </a:br>
            <a:r>
              <a:rPr b="1" lang="hu-HU" sz="36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ntique Olive"/>
              </a:rPr>
              <a:t>KULTÚRATIPOLÓGI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ntique Olive"/>
              </a:rPr>
              <a:t>Handy-fé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63723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777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AF44-0A78-4F1D-9D69-BB1FF3D209E0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r>
              <a:rPr b="1" lang="hu-HU" sz="3200" spc="-1" strike="noStrike">
                <a:solidFill>
                  <a:srgbClr val="ffffcc"/>
                </a:solidFill>
                <a:latin typeface="Lucida Console"/>
              </a:rPr>
              <a:t> </a:t>
            </a:r>
            <a:br>
              <a:rPr sz="3200"/>
            </a:br>
            <a:r>
              <a:rPr b="1" lang="hu-HU" sz="36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628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Antique Olive"/>
              </a:rPr>
              <a:t>KON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ntique Olive"/>
              </a:rPr>
              <a:t>érték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ntique Olive"/>
              </a:rPr>
              <a:t>dönt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ntique Olive"/>
              </a:rPr>
              <a:t>viselkedés - vezető és beosztott közötti visz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3" name="" descr="Click To Download"/>
          <p:cNvPicPr/>
          <p:nvPr/>
        </p:nvPicPr>
        <p:blipFill>
          <a:blip r:embed="rId4"/>
          <a:stretch/>
        </p:blipFill>
        <p:spPr>
          <a:xfrm>
            <a:off x="2484360" y="3500280"/>
            <a:ext cx="3456000" cy="27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358-BAF4-4338-B262-19015BA26124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r>
              <a:rPr b="1" lang="hu-HU" sz="3200" spc="-1" strike="noStrike">
                <a:solidFill>
                  <a:srgbClr val="ffffcc"/>
                </a:solidFill>
                <a:latin typeface="Lucida Console"/>
              </a:rPr>
              <a:t> </a:t>
            </a:r>
            <a:br>
              <a:rPr sz="3200"/>
            </a:br>
            <a:r>
              <a:rPr b="1" lang="hu-HU" sz="36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Arial Narrow"/>
              </a:rPr>
              <a:t>Quinn-mod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820000" cy="410544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4067280" y="33577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124000" y="4508640"/>
            <a:ext cx="3816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25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5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BA19-F629-4732-8F45-E888E75E0BDA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Lucida Console"/>
              </a:rPr>
              <a:t>5. SZERVEZETI ÉS VEZETŐI KULTÚRA</a:t>
            </a:r>
            <a:r>
              <a:rPr b="1" lang="hu-HU" sz="3200" spc="-1" strike="noStrike">
                <a:solidFill>
                  <a:srgbClr val="ffffcc"/>
                </a:solidFill>
                <a:latin typeface="Lucida Console"/>
              </a:rPr>
              <a:t> </a:t>
            </a:r>
            <a:br>
              <a:rPr sz="3200"/>
            </a:br>
            <a:r>
              <a:rPr b="1" lang="hu-HU" sz="3600" spc="-1" strike="noStrike">
                <a:solidFill>
                  <a:srgbClr val="ffffcc"/>
                </a:solidFill>
                <a:latin typeface="Lucida Console"/>
              </a:rPr>
              <a:t>SZERVEZETI KULTÚRA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79311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A kultúraváltás típus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488360" cy="439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6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z EEM fogalma, fejlődé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különböző vezetési iskolák eltérő megítélése az emberi erőforrás menedzsment jelentőségére vonatkozó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66"/>
                </a:solidFill>
                <a:latin typeface="Arial"/>
              </a:rPr>
              <a:t>Taylor(1983), Gilberth(191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mberi viszonyok tana” (Human Relations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66"/>
                </a:solidFill>
                <a:latin typeface="Arial"/>
              </a:rPr>
              <a:t>Mayo(1933), Roethlisberger és Dickson(1939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Vállalati magatartáskutat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66"/>
                </a:solidFill>
                <a:latin typeface="Arial"/>
              </a:rPr>
              <a:t>Russel(197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16C88-AB3A-4228-8992-0904D65452A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7AF8-6E22-425B-8B1C-C906D195C683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74560" y="198900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entury Gothic"/>
              </a:rPr>
              <a:t>A STÍLUS FOGAL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entury Gothic"/>
              </a:rPr>
              <a:t>a VEZETÉSI stílus fogalm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entury Gothic"/>
              </a:rPr>
              <a:t>a személyiség szerep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entury Gothic"/>
              </a:rPr>
              <a:t>tanult magatartás fogalma</a:t>
            </a:r>
            <a:r>
              <a:rPr b="0" lang="hu-HU" sz="2400" spc="-1" strike="noStrike">
                <a:solidFill>
                  <a:srgbClr val="ffffff"/>
                </a:solidFill>
                <a:latin typeface="Century Gothic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95280" y="981000"/>
            <a:ext cx="7272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VEZETÉSI STÍLUS</a:t>
            </a:r>
            <a:endParaRPr b="1" lang="en-US" sz="40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6"/>
          <a:stretch/>
        </p:blipFill>
        <p:spPr>
          <a:xfrm>
            <a:off x="5216400" y="1628640"/>
            <a:ext cx="3646440" cy="46800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2124000" y="26028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5. SZERVEZETI ÉS VEZETŐI KUL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911-FC6D-4A28-90CC-6791B88B68CD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7715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entury Gothic"/>
              </a:rPr>
              <a:t>A vezetési stílust befolyásoló tényező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entury Gothic"/>
              </a:rPr>
              <a:t>a vezető személyisé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50920" y="981000"/>
            <a:ext cx="7272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VEZETÉSI STÍLUS</a:t>
            </a:r>
            <a:endParaRPr b="1" lang="en-US" sz="40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1187280" y="2781360"/>
            <a:ext cx="6480360" cy="36720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339640" y="26028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5. SZERVEZETI ÉS VEZETŐI KUL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8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0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AA27-79EC-4611-8909-311CEDE6D7D0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95280" y="907920"/>
            <a:ext cx="7272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VEZETÉSI STÍLUS</a:t>
            </a:r>
            <a:endParaRPr b="1" lang="en-US" sz="40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971640" y="2276640"/>
            <a:ext cx="6913440" cy="417672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111600" y="1628640"/>
            <a:ext cx="70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entury Gothic"/>
              </a:rPr>
              <a:t>A vezetési stílust befolyásoló tényező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68360" y="18900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5. SZERVEZETI ÉS VEZETŐI KUL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7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F432-B80F-4642-8568-38B391F10E87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24000" y="907920"/>
            <a:ext cx="7272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VEZETÉSI STÍLUS</a:t>
            </a:r>
            <a:endParaRPr b="1" lang="en-US" sz="40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Century Gothic"/>
              </a:rPr>
              <a:t>a szervezet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Century Gothic"/>
              </a:rPr>
              <a:t>a kapcsolat rendszer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5"/>
          <a:stretch/>
        </p:blipFill>
        <p:spPr>
          <a:xfrm>
            <a:off x="1258920" y="2060640"/>
            <a:ext cx="7129440" cy="370368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250920" y="1628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entury Gothic"/>
              </a:rPr>
              <a:t>A vezetési stílust befolyásoló tényező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339640" y="18900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5. SZERVEZETI ÉS VEZETŐI KUL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3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964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965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7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7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900" fill="hold"/>
                                        <p:tgtEl>
                                          <p:spTgt spid="7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7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7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900" fill="hold"/>
                                        <p:tgtEl>
                                          <p:spTgt spid="7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2939-44EC-4D63-88C9-0105B1FA6B88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Century Gothic"/>
              </a:rPr>
              <a:t>DÖNTÉSHOZATALI VEZETÉSI STÍLUS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95280" y="1125360"/>
            <a:ext cx="7272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VEZETÉSI STÍLUS</a:t>
            </a:r>
            <a:endParaRPr b="1" lang="en-US" sz="40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785" name=""/>
          <p:cNvSpPr/>
          <p:nvPr/>
        </p:nvSpPr>
        <p:spPr>
          <a:xfrm>
            <a:off x="2339640" y="25956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5. SZERVEZETI ÉS VEZETŐI KUL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1116000" y="2852640"/>
            <a:ext cx="6913440" cy="24480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0" y="42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894-2E6F-4B0E-92BA-1F2928F7344E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95280" y="1125360"/>
            <a:ext cx="7272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VEZETÉSI STÍLUS</a:t>
            </a:r>
            <a:endParaRPr b="1" lang="en-US" sz="40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48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1476360" y="2421000"/>
            <a:ext cx="6840720" cy="34574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411280" y="18900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5. SZERVEZETI ÉS VEZETŐI KUL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F8D2-2A42-4AF2-8E9A-0112128066B5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7643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Century Gothic"/>
              </a:rPr>
              <a:t>BLAKE-MOUTON RÁCSMOD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95280" y="981000"/>
            <a:ext cx="7272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VEZETÉSI STÍLUS</a:t>
            </a:r>
            <a:endParaRPr b="1" lang="en-US" sz="40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1258920" y="2708280"/>
            <a:ext cx="6626160" cy="396072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2411280" y="18900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5. SZERVEZETI ÉS VEZETŐI KUL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C755-A1D2-49DB-8341-F55B13C5FEEC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915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ff"/>
                </a:solidFill>
                <a:latin typeface="Century Gothic"/>
              </a:rPr>
              <a:t>A VEZETŐ FIGYELMÉNEK IRÁNYULTSÁ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68360" y="1052640"/>
            <a:ext cx="7272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entury Gothic"/>
              </a:rPr>
              <a:t>VEZETÉSI STÍLUS</a:t>
            </a:r>
            <a:endParaRPr b="1" lang="en-US" sz="40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807" name="" descr="Click To Download"/>
          <p:cNvPicPr/>
          <p:nvPr/>
        </p:nvPicPr>
        <p:blipFill>
          <a:blip r:embed="rId3"/>
          <a:stretch/>
        </p:blipFill>
        <p:spPr>
          <a:xfrm>
            <a:off x="6012000" y="2421000"/>
            <a:ext cx="2916000" cy="23050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1619280" y="1581120"/>
            <a:ext cx="125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19280" y="1581120"/>
            <a:ext cx="125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468360" y="3330720"/>
            <a:ext cx="5256000" cy="352728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619280" y="1581120"/>
            <a:ext cx="125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39640" y="18900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5. SZERVEZETI ÉS VEZETŐI KUL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79153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800" spc="-1" strike="noStrike">
                <a:solidFill>
                  <a:srgbClr val="999900"/>
                </a:solidFill>
                <a:latin typeface="Garamond"/>
              </a:rPr>
              <a:t>MUNKAÜGYI KAPCSOLATOK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68000" y="29973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Dr. Kocsondi József – 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Dr. Dajnoki Kriszt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E8E99-9D5E-44F8-BC26-83C3C4F94CC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9900"/>
                </a:solidFill>
                <a:latin typeface="Garamond"/>
              </a:rPr>
              <a:t>A MUNKAERŐPIAC SZEREPLŐI, ÉRDEKEI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464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Verdana"/>
              </a:rPr>
              <a:t>    </a:t>
            </a:r>
            <a:r>
              <a:rPr b="0" lang="hu-HU" sz="24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Munkaadó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Munkavállal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térő érdek – Azonos cél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Elosztási, rendelkezési, esetleg hatalmi vita, konflik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A hatalmi eszközök eloszlása asszimertiku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2305080" cy="172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179C2-3140-4A96-83BB-52682F9EACD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Az EEM fogalma, fejlődé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ckenna és Beech(1998): a személyzeti szakterület a vállalkozói szférában is megjel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z 1990-es évek fordulóján vált valóban központi tényezővé a munkaerő. A rendszerváltó folyamatban újraértékelődött a munkához való jog és kötelezettség, megjelent egy újfajta hozzáállás a munkaerőhöz (humán igazgatási területek integrációja, a személyzeti, szociális, munkaügyi és munkavédelmi feladatok újraszervezé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zemléletváltás! „A munkatársak a legdrágább és a legkihasználatlanabb erőforrás” (Line, 199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8C5D1-95DF-4491-8960-3DAC2EB5F35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cc9900"/>
                </a:solidFill>
                <a:latin typeface="Garamond"/>
              </a:rPr>
              <a:t>A MUNKAERŐPIAC SZEREPLŐINEK HELYZETE, CÉLJAI 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500120" y="1268280"/>
            <a:ext cx="7491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3300"/>
                </a:solidFill>
                <a:latin typeface="Times New Roman"/>
              </a:rPr>
              <a:t>A munkaügyi kapcsolatok rendszere azért jött létre, hog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hetőleg társadalmi és gazdasági károk nélkül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ét fél érdekeinek figyelembevételével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ös megállapodáson alapuló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üttes érdekérvényesítéssel meg tudjuk előzni, vagy fel tudjuk oldani a konfliktu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unkaadó (tőke)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unkavállaló (munk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Egymásra utal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Összefogásuk erősíti, ellentétük gyöngíti a gazdaságot is és a társadalmi békét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"/>
          <p:cNvSpPr/>
          <p:nvPr/>
        </p:nvSpPr>
        <p:spPr>
          <a:xfrm rot="5400000">
            <a:off x="5146560" y="1845720"/>
            <a:ext cx="144720" cy="6336000"/>
          </a:xfrm>
          <a:custGeom>
            <a:avLst/>
            <a:gdLst>
              <a:gd name="textAreaLeft" fmla="*/ 0 w 144720"/>
              <a:gd name="textAreaRight" fmla="*/ 52200 w 144720"/>
              <a:gd name="textAreaTop" fmla="*/ 165240 h 6336000"/>
              <a:gd name="textAreaBottom" fmla="*/ 6170760 h 633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87"/>
                </a:lnTo>
                <a:cubicBezTo>
                  <a:pt x="10800" y="9887"/>
                  <a:pt x="16200" y="10787"/>
                  <a:pt x="21600" y="10787"/>
                </a:cubicBezTo>
                <a:cubicBezTo>
                  <a:pt x="16200" y="10787"/>
                  <a:pt x="10800" y="11687"/>
                  <a:pt x="10800" y="125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55B9E-A279-4B46-8371-9CA9572F8FF6}" type="slidenum">
              <a:t>90</a:t>
            </a:fld>
          </a:p>
        </p:txBody>
      </p:sp>
    </p:spTree>
  </p:cSld>
  <p:transition>
    <p:wipe dir="d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898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898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98" fill="hold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98" fill="hold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98" fill="hold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898" fill="hold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898" fill="hold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98" fill="hold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8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8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98" fill="hold"/>
                                        <p:tgtEl>
                                          <p:spTgt spid="8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7491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cc9900"/>
                </a:solidFill>
                <a:latin typeface="Garamond"/>
              </a:rPr>
              <a:t>A MUNKAÜGYI KAPCSOLATOK FILOZÓFIÁJA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Érdekkülönbség - tárgyalá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Kapcsolatrendszer a két fél közöt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Nem szembeállítani, hanem integrálni a két érdekszférát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700" spc="-1" strike="noStrike">
                <a:solidFill>
                  <a:srgbClr val="000000"/>
                </a:solidFill>
                <a:latin typeface="Times New Roman"/>
              </a:rPr>
              <a:t>A munkaerőpiac szereplőinek maguknak kell megoldaniuk a közöttük kialakuló konfliktust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700" spc="-1" strike="noStrike">
                <a:solidFill>
                  <a:srgbClr val="000000"/>
                </a:solidFill>
                <a:latin typeface="Times New Roman"/>
              </a:rPr>
              <a:t>A konfliktusokat békés úton, tárgyalásokkal kell feloldani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MUNKAHARC 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663300"/>
                </a:solidFill>
                <a:latin typeface="Times New Roman"/>
              </a:rPr>
              <a:t>Csak végső esetben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580536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7020000" y="1195560"/>
            <a:ext cx="1728720" cy="116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5D093-53E2-4B51-A02F-D91AF583565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cc9900"/>
                </a:solidFill>
                <a:latin typeface="Garamond"/>
              </a:rPr>
              <a:t>A MUNKAÜGYI KAPCSOLATOK ALAPFELTÉTELE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804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Az adott országban létezzenek a munkaügyi kapcsolatok társadalmi-politikai feltételei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Létezzenek a munkaügyi kapcsolatok gazdasági feltételei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A munkaügyi kapcsolatok szereplőinek együttműködésére vonatkozó feltételek is fennálljanak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A munkáltatók és a munkavállalók érdekütközéseiket saját maguk oldják meg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A fenti jogokat a társadalom által meghatározott keretek, korlátozások alatt lehessen gyakorolni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ECF39-9B00-41B2-B8F2-9833955FA87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666633"/>
                </a:solidFill>
                <a:latin typeface="Garamond"/>
              </a:rPr>
              <a:t>A MUNKAÜGYI KAPCSOLATOK RENDSZER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763640" y="1306440"/>
            <a:ext cx="6912000" cy="541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FE60-505C-49D0-BDF6-2B3303EEE138}" type="slidenum">
              <a:t>93</a:t>
            </a:fld>
          </a:p>
        </p:txBody>
      </p:sp>
    </p:spTree>
  </p:cSld>
  <p:transition>
    <p:split dir="in" orient="vert"/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6633"/>
                </a:solidFill>
                <a:latin typeface="Garamond"/>
              </a:rPr>
              <a:t>ÉRDEKKÉPVISELETEK 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500120" y="1700280"/>
            <a:ext cx="7491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663300"/>
                </a:solidFill>
                <a:latin typeface="Times New Roman"/>
              </a:rPr>
              <a:t>MUNKAVÁLLALÓ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közvetlenül túl sok szereplő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hátrányos helyzet - nem egyenrangú partnerkapcsol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SZAKMAI SZERVEZET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ÁGAZATI SZERVEZET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Egység” szakszervezet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hu-HU" sz="2200" spc="-1" strike="noStrike">
                <a:solidFill>
                  <a:srgbClr val="000000"/>
                </a:solidFill>
                <a:latin typeface="Times New Roman"/>
              </a:rPr>
              <a:t>Orientációs” szakszervezet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2016000" cy="12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8320-FB9F-4676-9B90-8DA0C4CE7856}" type="slidenum">
              <a:t>94</a:t>
            </a:fld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0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999900"/>
                </a:solidFill>
                <a:latin typeface="Garamond"/>
              </a:rPr>
              <a:t>Szakmai szervezete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179280" y="1424160"/>
            <a:ext cx="8785440" cy="431460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5580000" y="5589720"/>
            <a:ext cx="1224000" cy="93168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3"/>
          <a:stretch/>
        </p:blipFill>
        <p:spPr>
          <a:xfrm>
            <a:off x="3203640" y="5516640"/>
            <a:ext cx="1008000" cy="97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460BB-48E7-4B0E-9F46-B75CD3FA487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999900"/>
                </a:solidFill>
                <a:latin typeface="Garamond"/>
              </a:rPr>
              <a:t>Ágazati szervezete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351640" cy="526896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6588000" y="5022720"/>
            <a:ext cx="1944720" cy="15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E74BB-AC54-4333-A9F2-135A17B7DC8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6633"/>
                </a:solidFill>
                <a:latin typeface="Garamond"/>
              </a:rPr>
              <a:t>ÉRDEKKÉPVISELETEK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500120" y="1989000"/>
            <a:ext cx="7491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3300"/>
                </a:solidFill>
                <a:latin typeface="Times New Roman"/>
              </a:rPr>
              <a:t>MUNKÁLTATÓ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600" spc="-1" strike="noStrike">
                <a:solidFill>
                  <a:srgbClr val="000000"/>
                </a:solidFill>
                <a:latin typeface="Times New Roman"/>
              </a:rPr>
              <a:t>saját (és együttes) vállalati, ill. munkaadói érdekeik védelméb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600" spc="-1" strike="noStrike">
                <a:solidFill>
                  <a:srgbClr val="000000"/>
                </a:solidFill>
                <a:latin typeface="Times New Roman"/>
              </a:rPr>
              <a:t>ágazati el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600" spc="-1" strike="noStrike">
                <a:solidFill>
                  <a:srgbClr val="000000"/>
                </a:solidFill>
                <a:latin typeface="Times New Roman"/>
              </a:rPr>
              <a:t>gazdasági kamará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6012000" y="4437000"/>
            <a:ext cx="2627280" cy="207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B9696-7239-409C-A00D-79AC95A7C31D}" type="slidenum">
              <a:t>97</a:t>
            </a:fld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6633"/>
                </a:solidFill>
                <a:latin typeface="Garamond"/>
              </a:rPr>
              <a:t>A VÁLLALATI MUNKAÜGYI KAPCSOLATOK TERÜLETEI 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331640" y="1523880"/>
            <a:ext cx="7659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663300"/>
                </a:solidFill>
                <a:latin typeface="Times New Roman"/>
              </a:rPr>
              <a:t>1. A konzultáció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663300"/>
                </a:solidFill>
                <a:latin typeface="Times New Roman"/>
              </a:rPr>
              <a:t>2. A kollektív tárgyalások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i="1" lang="hu-HU" sz="2800" spc="-1" strike="noStrike">
                <a:solidFill>
                  <a:srgbClr val="663300"/>
                </a:solidFill>
                <a:latin typeface="Times New Roman"/>
              </a:rPr>
              <a:t>A kollektív szerződések tartalm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övedelem megállapítás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unkaviszonyból származó jogok és kötelezettsége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a felek közötti kapcsolatrendsz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7308720" y="2708280"/>
            <a:ext cx="1656000" cy="14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E186-DF75-47BE-A5FC-DD999E5006D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6633"/>
                </a:solidFill>
                <a:latin typeface="Garamond"/>
              </a:rPr>
              <a:t>A VÁLLALATI MUNKAÜGYI KAPCSOLATOK TERÜLETEI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1476360" y="1628640"/>
          <a:ext cx="7416360" cy="4608360"/>
        </p:xfrm>
        <a:graphic>
          <a:graphicData uri="http://schemas.openxmlformats.org/drawingml/2006/table">
            <a:tbl>
              <a:tblPr/>
              <a:tblGrid>
                <a:gridCol w="3709800"/>
                <a:gridCol w="3706560"/>
              </a:tblGrid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KONZULTÁCI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TÁRGYALÁ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munkáltató várja az érdekképviselet véleményé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dkét félnek joga van a döntésekbe beleszólni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döntés továbbra is munkáltatói (vezetői) kiváltság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özös végeredményt kell elérni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döntésnél figyelembe veszik, vagy nem az érdekképviselet nézetei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döntés a két pozíció közötti alkudozás végeredmény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AA20-5F59-4B76-9231-8698D7CD9847}" type="slidenum">
              <a:t>99</a:t>
            </a:fld>
          </a:p>
        </p:txBody>
      </p:sp>
    </p:spTree>
  </p:cSld>
  <p:transition>
    <p:push dir="r"/>
  </p:transition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silla</cp:lastModifiedBy>
  <dcterms:modified xsi:type="dcterms:W3CDTF">2006-10-02T20:55:31Z</dcterms:modified>
  <cp:revision>82</cp:revision>
  <dc:subject/>
  <dc:title>PowerPoint bemutató</dc:title>
</cp:coreProperties>
</file>