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11F-2A61-4FF1-824D-C19167A0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353-D1F4-409D-A348-4FF9CED3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3B0-4D04-44F6-B15D-27514545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893-D6E8-4AF3-A04C-3591C3FF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1C5-AFDD-46FA-8C8B-9BDF8211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5B1-0492-48BB-807A-55828478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246-5012-4B55-AC84-18F71E5B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4C1-8836-4FEA-9458-47CF4D9E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026-3487-482C-9D34-E5870B52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F92-6D3D-406B-9329-7EBA2CD8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809-F645-4385-A922-DED2CDF9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5E3-AE0D-4429-980D-63CE9E4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1E90-0046-4A2D-ADF6-070655C1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Imre Mikló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SZAKIGAZGATÁSI GYAKORL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) Növény- és Talajvédelmi Szolgá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áromszintű intézményrendszer (megyei + kp-i + FV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övényvédelmi  / talajvédelmi felügyelő: hatósági szemé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elettes szerv: F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) Állategészségügyi Szolgá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állategészségügy, az élelmiszer-, a dohány-, valamint a takarmány-ellenőrzés hatósági és egyéb állami szakfelad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rületi szerve: a megyei (fővárosi) állategészségügyi és élelmiszer-ellenőrző állo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elyi szervek (pl. hatósági állatorvos, területi felügyelő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) </a:t>
            </a:r>
            <a:r>
              <a:rPr b="1" i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öldhivatal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földtulajdon, a földhasználat, a földvédelem, az ingatlan-nyilvántartás, földértékelés, a földmérés és térképész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öldhivatal működik a megyékben, a fővárosban (megyei földhivatal) és a körzetekben (körzeti földhiva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3. Speciális agrár-szakigazgatási feladatokat ellátó háttérintéz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gyes agrárigazgatási feladatokhoz kapcsolódóan szolgáltatási, illetve végrehajtási jellegű feladatokat végez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ezőgazdasági és Vidékfejlesztési Hivata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önálló jogi személyiséggel rendelkező, országos hatáskörű kp-i szerv, önállóan gazdálkodó kp-i költségvetési sz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rületi szervei: megyei kirendeltség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rmatív támogatások, termelői regisztráció, közösségi termékpálya rendtartás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öldmérési és Távérzékelési Inté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öldügyi igazgatási hatósági, adatszolgáltatási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termésbecslések, térképek, valamint a földhasználati nyilvántartás alapját képező fényképek kiértéke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) Nemzeti Földalapkezelő Szerve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365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iniszter a Nemzeti Földalap felett az Állam nevében őt megillető tulajdonosi jogok gyakorlását az NFA útján látja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365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iniszter felügyelete alatt álló, önállóan gazdálkodó központi költségvetési szer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365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vékenységét széleskörű társadalmi kontroll mellett végz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365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Nemzeti Földalapba tartozó vagyon hasznosítása általában nyilvános pályázat útján törté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) szakértői intéz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3657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özigazgatási döntések laboratóriumi vizsgálattal, műszeres méréssel, az ezekre épülő szakvélemény elkészítésével való seg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3657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gazdasági tervezéshez szükséges elemzések elkész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3657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gazdálkodók részére szaktanácsadási tevékeny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3657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. Agrárgazdasági Kutató Intézet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4. Egyes agrár-szakigazgatási feladatokat ellátó nem kormányzati szervek (köztestület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azdasági kamar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agrárkam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gyes agrártermékek piacszervezésével összefüggő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apcsolattartás és együttműködés a kormányzati szervek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) szakmai kamarák (állatorvosi, vadász-, növényvédő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) hegyköz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őlőtermeléssel és a borgazdálkodással kapcsolatos egyes közigazgatási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őleg: a szőlőtermelők származás, minőség és eredetvédelemmel összefüggő érdekeinek 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egyközségi rendtartás (hegyszabályo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szágos szervezet: Hegyközségek Nemzeti Tanác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5. A szociális-, és társadalmi partnerség keretében működő társadalmi és érdekképviseleti szervez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gazdálkodó szervezetekre, az általuk folytatott gazdasági tevékenységre vonatkozó előterjesztésnek  a Kormányhoz történő beterjesztése előtt meg kell kérni az országos gazdasági kamarák és az érdekelt országos gazdasági érdekképviseleti szervezetek vélemény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zőgazdasági Termelők és Szövetkezők Országos Szövet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gyarországi Gazdakörök Országos Szövetsé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4. A termőföld védelmével kapcsolatos szakigazgatási felad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3059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98900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987280" y="2924280"/>
            <a:ext cx="1368360" cy="79200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24280"/>
            <a:ext cx="1224000" cy="79200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3716280"/>
            <a:ext cx="302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zakigazgatási eszközök ál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4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ermőföld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78936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ulajdoni, használati  korlátozások ál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363640" y="4653000"/>
            <a:ext cx="1079640" cy="50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4653000"/>
            <a:ext cx="1008000" cy="50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508464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termőfö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ennyiségén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édel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= földvédele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0360" y="5084640"/>
            <a:ext cx="23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termőfö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inőségéne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= talajvédele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4.1. A termőföldtulajdon megszerzésének szabályozása az  EU-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alamennyi tagállam megfelelő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mzet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zabályozás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ndszer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lakított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U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ogrendszeréne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két el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özösségi jog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özvetle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érvényesü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özösségi jog tagállamok jogrendszerével szembeni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elsődlegessé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U  elsődleges jogalkotásában a termőföld tulajdonlására vonatkozó közvetlen szabályoknak viszonylag csekély a szerep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legnagyobb jelentőség: a diszkrimináció általános  tilalmára, az áruforgalom szabadságára, és a letelepedés szabadságára vonatkozó jogany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telepedés szabadság a mg-ba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(63/261/EGK Tanácsi irányel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mezőgazdasági munkavállalók jogainak szabályoz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edvezményezettek javára biztosítani kell a termőföl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iszkriminációment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ulajdonszerzés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2. A termőföldtulajdon megszerzésének szabályozása az egyes EU tagállamok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orlátozások típusa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ulajdonszerzé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eté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lőírt megszorítások (pl. a szerződés érvényességi feltétele a hatósági jóváhagyás – pl. Dáni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egszerezhető ingatla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értékéne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dminisztratív korlátozá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gy üzem keretébe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hasznosítható földterület mértékének előírása (pl. Belg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föld tulajdonosával szemben a mezőgazdasági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szonbérle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tézményének erősítése (Pl. Holla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ővásárlás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og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pl. Németorszá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3. A termőföld tulajdoni-, használati korlátozások keretében megvalósuló 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nemzeti birtokpol. része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harmonizáció csak közvetve érvényesü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agyarország: 7 éves derogáció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3 év után felülvizsgá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hazai szabályozás: a termőföldről szóló 1994. évi LV. törv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belföldi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magánszemély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max. 300 ha / 6000 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belföldi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jogi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személy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nem, kivéve: állam, önkorm., köza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egyházi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jogi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személy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végintézkedés vagy ajándékozási, tartási, gondozási szerződés alapj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jelzálog-hitelintézet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korlátozással igen, de 3 éven belül el kell idegeníteni nyilvános árveré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ülföldi magánszemély és jogi személy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nem, kivéve azon tagállami állampolgár, aki önálló vállalkozó mg-i termelőként kíván letelepedni Mo-on, és min. 3 éve folyamatosan, jogszerűen Mo-on lakik és folytat mg-i tevékenysé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ulajdonszerzési korlátozásba ütköző szerződés semm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speciális tulajdonvédelmi eszköz: elővásárlási j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4. A termőföld szakigazgatási eszközökkel történő védel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812160" indent="-43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ermőföld mennyiségi védelme (földvéde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160" indent="-43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sznosítási kötelezettsé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más célú hasznosítás hatósági engedélyhez kötött + földvédelmi járulékot kell fize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160" indent="-43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llékhasznosítá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növényzet rendszeres gond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160" indent="-43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öldvédelmi bírsá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160" indent="-43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ermőföld minőségi védelme ( talajvédele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160" indent="-43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alajtani szakvélemén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hatósági engedély szakmai alap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160" indent="-43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alajvédelmi bír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5. Földminősíté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inőségi osztály és AK érték megállapít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6. A föld-, illetve a talajvédelmi feladatokat ellátó hatóságo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160" indent="-43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rmőfölddel kapcsolatos hatósági ügyek: földhivatal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160" indent="-43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alajvédelmi hatósági feladatok: talajvédelmi felügyelő + talajvédelmi hatóság vezetője + F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Garamond"/>
              </a:rPr>
              <a:t>Mikó Zolt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Agrárigazgatási gyakorl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42920" y="1197000"/>
            <a:ext cx="800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3399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aramond"/>
              </a:rPr>
              <a:t>I.</a:t>
            </a:r>
            <a:endParaRPr b="1" lang="en-US" sz="9600" spc="1" strike="noStrike">
              <a:ln w="9360">
                <a:solidFill>
                  <a:srgbClr val="3399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7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8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5. A mező-, és erdőgazdasági vagyonvéd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5.1. Az erdei vagyon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erdészeti szakszemélyzet (erdész):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csak akkor intézkedhet, ha arra az erdőgazdálkodótól felhatalmazást kapo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erdőőr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a település önkormányzatának alkalmazásában á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5.2. A vad őrzése, 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hivatásos vadá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szakmailag felel a vadgazdálkodási tevékenység szakszerűségéé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vagyonvédelmi feladatokat is ell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jogellenes cselekmény abbahagyására felszólí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járművet átvizsgálhat, az elkövetésül használt eszközöket visszatarthatja; az  illetékes hatóságnál eljárást kezdeményez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vad stb. birtoklása jogosultságának igazolására felszólí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halászati őr: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 halászati terület halállományának és élőhelyének őr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5736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3. A halászati 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lásző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jogosult: a halászatra jogosító okmányok bemutatására felszólít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lat a vízbe kíméletesen visszahelyeztetni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4. A mezei őrszolgá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lepülési önkormányzat a közigazgatási területéhez tartozó termőföldek őrzéséről mezei őrszolgálat létesítésével gondoskod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ezőő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a termőföldek és a hozzájuk tartozó felszerelések, eszközök vagyonvédelmét ellátó szemé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eladatát az őrszolgálatot létrehozó települési önkormányzat utasításai szerint végz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5. A hegyőr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hegyközség a működési területéhez tartozó szőlők őrzését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egyőrö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lkalmazásával látja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hegyőrt a hegybíró irányít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6. Európai Unió közös piaca szabályozásának nemzeti intézményrendsz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6.1. Áttekin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özös agrárpolitika a legjelentősebb a közösségi politikák köz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pénzügyi háttér: Európai Mezőgazdasági Orientációs és Garancia Alap (EMOGA) biztosít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MOGA Garancia Részlege által finanszírozott támogatás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özvetlen támogatások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− belpiaci intézke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intervenciós intézkedések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− külpiaci intézke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AP nemzeti végrehajtásának legfőbb szerve a Mezőgazdasági és Vidékfejlesztési Hivatal (MVH)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 Garancia / Orientációs Részlegből történő kifizetésekkel összefüggő feladatok ellá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speciális nyilvántartások mint az akkredtiáció feltétel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zőgazdasági Parcella Azonosító Rendszer (MEP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azdaregisz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állat-nyilvántartá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érelem nyilvántartá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5736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.2. Nem kormányzati szervek részvétele a KAP kialakításába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g-i termelők: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bbi-tevékenységükke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efolyásolhatják a kormányzati döntéseket, de abban nem vesznek részt közvetlen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ermelői érdekek képviselet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farmerszövetségek, kamarák, terméktanácsok, termelői értékesítő szervezete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formációközvet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özvetlenül nem részesei az EU döntéshozatali mechanizmusának, de lobbizhatnak az EU szerveiné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rüsszel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épviselete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pl. Mezőgazdasági Szakmai Szervezetek Közösségi Szövetsége (CO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rmelői érdekérvényesítés terület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zakértői Bizottságo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munkájában való közvetlen részvét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özvetlen gazdasági együttműködé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 szövetkezés megszervezé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él: az élelmiszerkereskedelem területén a túlzott koncentrálódás megelő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termelői szerveződések megalakulását az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U is támogatj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6.3.  Az EMOGA kifizető ügynökségi rends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AP végrehajtásával összefüggő szabályozó eszközök működtetését a Bizottság által akkreditált nemzeti hatóságok vég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MOGA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Orientációs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Részleg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ifizető hatósá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EU-val a pénzügyi kapcsolatot a kifizető hatóság tart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ámogatásokra főleg nemzeti társfinanszírozás mellett kerül 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ifizető ügynökség max. közreműködői szervezetként vesz rés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ámogatásra jogosult a pénzt a közreműködő szervezettől kap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MOGA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Garancia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Részleg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ifizető ügynök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ifizető ügynökség közvetlenül tartja a pénzügyi kapcsolatot mind az EU-val, mind pedig a nemzeti költségveté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EU Bizottság megbízásából elvégzi a kifizetésekhez tartozó végrehajtási feladatokat, finanszírozza a kifizetéseket, elszámolásokat készít, ellenőrzi a támogatás felhasznál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Garancia Részleg terhére történő kifizetéseket minden esetben a nemzeti költségvetés előlegezi meg, az EU pedig csak a kiadások megfelelő auditálása után utólag fiz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jogosult a neki járó támogatást a kifizető ügynökségtől kapja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6.4.  Az Integrált Igazgatási és Ellenőrzési Rendszer (I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özvetlen támogatások kifizetésekor, a támogatások elbírálásakor, ellenőrzésekor kötelező az IIER keretében való végrehaj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IIER a következő főbb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lapadat-nyilvántartásokra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épü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zőgazdasági parcella-azonosítá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állatok azonosítási és nyilvántartási rendsz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azda nyilvántartá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érelem nyilvántartási 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ámogatás-igénylés alapegysége: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mezőgazdasági parc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nem kell, hogy azonos legyen a föld tulajdoni nyilvántartás alapegységével, a földrészlett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parcellák azonosítási rendje eltér a földrészlet nyilvántartástól és alapvetően a térinformatikán alap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parcellák nyilvántartásának alapja: fizikai ill. termelői blok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agállam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dminisztratív,ill. fizikai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(pl. helyszíni)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ellenőrzést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hajt vég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7. Felkészülés a KAP reform  2007-2013-as időszakban történő végrehajtás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.1. Áttekin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3, Luxemburg: döntés a KAP újabb reformjáró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él: egy fenntartható európai mezőgazdaság kialakítás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őbb intézkedés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özvetlen termelői támogatások teljes elválasztása a termeléstő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eresztirányú megfelelés: a közvetlen támogatások kifizetésének feltételekhez kötése (a 18 irányelv betart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ötelező moduláció (a közvetlen támogatások egy meghatározott százalékának átcsoportosítása vidékfejlesztési célokr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énzügyi fegyelem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rmelői tanácsadó rendszer beveze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ntos ágazatok piacszabályozási intézkedéseinek módos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gyes támogatási célokhoz kapcsolódó pénzügyi forrásokat 7 évre előre rögzíti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2007-2013-as költségvetési időszakban bekövetkező változások érintik az agrár-vidékfejlesztés területé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5736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7.2. Agrár-vidékfejlesztési intézked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anács 1698/2005/EK rendelete az agrár-vidékfejlesztési támogatásokat négy fő tengely köré csoportosít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.: a mg. és az erdészeti ágazat versenyképességének növe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2.: a környezetvédelem és a vidéki területek fejlesz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3.:  a vidéki területeken élők életminőségének javítása és a vidéki gazdaság diverzifikáci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4.: Leader (ez alapján a helyi fejlesztési stratégiák kidolgozására vehető igénybe támogatás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7.3. Közvetlen termelői támog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o. egy átmeneti időszakig – legfeljebb 2009-ig – fenn kíván tartani egy egyszerűsített közvetlen támogatási rendsz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gységes terület alapú támogatás (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SAPS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kizárólag az EU költségvetéséből finanszírozzá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gységes területalapú támogatáshoz kapcsolódó kiegészítő nemzeti támogatás (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op-up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 a nemzeti költségvetés folyósít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Garamond"/>
              </a:rPr>
              <a:t>Papp Zsig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Ingatlan-nyilvántartá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a gyakorlatb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42920" y="1197000"/>
            <a:ext cx="100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aramond"/>
              </a:rPr>
              <a:t>II.</a:t>
            </a:r>
            <a:endParaRPr b="1" lang="en-US" sz="96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20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2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. Az ingatlan-nyilvántartás lénye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játos hatósági eljárá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mely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z ingatlanokkal kapcsolatos adatokat, jogokat és jogi jelentőségű tényeket rögzíti, valamint nyomon követi azok változásá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int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dokumentációs rendszer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olgári jogi értelemben vett ingatlan-dologhoz fűződő lényeges jogi és tárgyi jellemzők közhitelű nyilvántar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őbb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kumentációs egysége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tulajdoni lapok; ezek tagolása I., II., és III. rés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irattár (okiratár) beadványok, okiratok, másolatok tárolásá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ingatlan-nyilvántartási térkép és alaprajzok az önálló ingatlanokr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archív (az élő adattárból törölt) bejegyzések jegyzé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98900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. Az agrárgazdaság nemzetgazdasági jelentősé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gyar agrárgazdaság kedvező ökológiai adottság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portorientált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ndszerváltozá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mg-i tulajdonviszonyok, földhasználati módok és üzemformák radikális átalaku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ezőgazdaság jelentősége napjainkban (forrás, életközeg, ökológiai egyensú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g. jelentősége a nemzetgazdaságba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z elmúlt évtizedekben jelentős átalakulás (GDP: 13,7 %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4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agyüzemi gazdálkodási struktúr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vegyes gazdálkodási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apjainkban: mezőgazdaság multifunkcionál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8900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ársadalmi-gazdasági szerepkö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ország ingatlanállományának számbavétele nagyság, és hasznosítási cél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ingatlanok jogosultjai jogai védelmének, valam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forgalom biztonságának előseg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datbázis teremtése a közigazgatási célkitűzések (pl. adóztatás) megalapozás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z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gatlan-nyilvántartási tevékenység közvetlen cé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ingatlanokkal kapcsolatos adatok, jogok és tények rögzítésével azok érvényesítésének és védelmének elősegíté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datok szolgáltatása a közigazgatási célok megvalósításáho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jog és vagyonbiztonság garantálásával, a gazdaság és társadalom működése hatékonyságának fok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2. Az ingatlan-nyilvántartást meghatározó normák szerkezeti re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) a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jogokat és kötelességeket intézményesítő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polgári jogi és közigazgatási jogszabályok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jogi jelentőségű tényeket keletkeztetn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b) rögzítési kötelességet előíró ingatlan-nyilvántartási normák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ezen a jogoknak a teljesülését, vagy a tények hatásainak az érvényesítését szolgálják (ingatlan-nyilvántartásnak anyagi jogi szabályai)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elsődleges eljárási 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c) a b) pontban írt rögzítési kötelesség mikénti teljesítéséről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másodlagos eljárási szabály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ingatlan-nyilvántartásról szóló 1997. évi CXLI. tv. (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Iny. tv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végrehajtására kiadott 109/1999. (XII. 29.) Korm. r. (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Vhr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özigazgatási hatósági eljárás és szolgáltatás általános szabályairól szóló 2004. évi CXL tv. (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et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8900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3. Az ingatlan-nyilvántartásb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ejegyezhető jo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ulajdonjog, vagyonkezelői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lakásszövetkezeti tagot megillető állandó használati jog</a:t>
            </a: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c)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állapodáson és bírósági határozaton alapuló földhasználati jo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haszonélvezeti jog és használat jog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elki szolgalmi jo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állandó jellegű földmérési jelek, földminősítési mintaterek, valamint villamosberendezések elhelyezését biztosító használati jog, továbbá vezetékjog, vízvezetési és bányaszolgalmi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lő- és visszavásárlási, valamint vételi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artási és életjáradéki jo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jelzálogjog (önálló zálogjog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végrehajtási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ovábbá külön jogszabályban meghatározott jo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8900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bejegyzések hatálya leh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onstitutív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jogkeletkező hatályú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gyes jogokat csak akkor lehet joghatályosan megszerzettnek tekinteni, ha a jogosult jogszerzése szabályszerűen bejegyzésre került az ingatlan-nyilvántartás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átruházáson alapuló tulajdonjo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zerződésen alapuló vagyonkezelői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öldhasználati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szonélvezeti jog és használati jog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lki szolgalmi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elzálogjog (önálló zálogjo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klaratív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jogszerzést tanúsító, kinyilvánító hatál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öröklé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birtoklás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áépítéssel stb. történő tulajdonszer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4. Az ingatlan-nyilvántartásb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feljegyezhető t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ingatlan-nyilvántartásba csak az ingatlanhoz kapcsolódó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jogilag jelentős tények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jegyezhetők 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onstitutív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hatálly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bírósági ítéleten alapuló tulajdoni korlátoz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elekalakítási / építési tilalom elrendelése, más építésügyi korlátoz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szerződésen /végintézkedésen alapuló elidegenítési/terhelési til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perek és büntetőeljárás megind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árverés, nyilvános pályázat kitű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zárlat, zár alá vétel, zár alá vételt megelőző biztosítási intézke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ulajdonjog fenntartással történt el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örölt zálogjog ranghelyének fenntartásajelzálogjog ranghelyének előzetes biztos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ranghely megváltoztat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98900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deklaratív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hatálly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jogosult kiskorúsága vagy gondnokság alá helye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jogosulttal szemben megindított fel-/végelszámolási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ülföldi székhelyű vállalkozás fióktelepének, kereskedelmi képviseletének cégjegyzékből történő tör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isajátítási és telekalakítási eljárás megind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örzeti földhivatali határozat elleni fellebbezés és a megyei földhivatali határozat elleni bírósági jogorvoslati kérelem benyúj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bejegyzés, feljegyzés és az adatváltozás átvezetése alapjául szolgáló vagy azzal kapcsolatos bírósági határozat elleni felülvizsgálati kérelem benyúj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ingatlan jogi je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valamely kérelem vagy megkeresés elutas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épület létesítése vagy lebon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ingatlan-nyilvántartási eljárás felfüggesz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jogerős hatósági vagy bírósági határozattal megállapított tartós környezetkárosodás ténye, mértéke és je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5. Az ingatlannyilvántartásban 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rögzítendő ad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1. Az ingatlan ad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település neve, az ingatlan fekvése (belterület, külterület megjelölése), a belterületen lévő ingatlannál az utca (tér, krt. stb.) neve és a házszám, a helyrajzi szám és területnagysá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gatlan azonos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űvelési ág és a művelés alól kivett terület elneve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inőségi osztály, kataszteri tisztajöve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gatlan-nyilvántartási szempontból szükséges egyéb adatá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4292640"/>
            <a:ext cx="71280" cy="576360"/>
          </a:xfrm>
          <a:custGeom>
            <a:avLst/>
            <a:gdLst>
              <a:gd name="textAreaLeft" fmla="*/ 0 w 71280"/>
              <a:gd name="textAreaRight" fmla="*/ 2556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4149720"/>
            <a:ext cx="20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Garamond"/>
              </a:rPr>
              <a:t>ingatlan gazd-i jellemző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2. A jogosultak ad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gánszemélye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zonosításá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családi és utónév (ideértve a születési családi és utónevet 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jogosult születési helye és ide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anyja születési ne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akcí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érintett személyi azonosít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zervezete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zonosításá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ervezet megnevez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zékhely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tatisztikáról szóló törvény hatálya alá tartozó szervezet esetében a statisztikai azonosít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6. Az ingatlan-nyilvántartás elv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.1. A bejegyzés elv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bejegyzés jogi hatást fejt ki a bejegyzett jogokra és a feljegyzett tények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zerepe: a jogok és tények bárki számára megismerhetősége feltételének a megterem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.2. A nyilvánosság el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nyilvántartás adatai – s rajtuk keresztül  a nyilvántartás tárgyai – a védettségük mértékétől függően korlátozás nélkül, vagy a jogszabályban meghatározott korlátok között megismerhet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gismerési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orlátozás alá nem eső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datok: bárki megismerhe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orlátozás alá eső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datok: azok ismerhetik meg, akik az erre vonatkozó jogosultságukat a jogszabályban meghatározott módon, hitelt érdemlően igazolj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98900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6.3. A közhitelesség el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nyilvántartási tárgyak esetében az ingatlan-nyilvántartásba bejegyzett jogok és tények fennálltát, az ott meghatározott tartalommal vélelmezni kell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zokat mindenki köteles valósnak elfogad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ki a nyilvántartásban bízva jóhiszeműen és ellenérték fejében szerzett jogot az ingatlanra, annak a szerzés kapcsán bejegyzett jogát védelemben kell részesíte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ha többen szereznek jogot ugyanarra az ingatlanra, de a jogszerzését nem mindegyikük jegyezteti be, akkor  – függetlenül a szerzés sorrendjétől – azt kell jogszerzőnek tekinteni, aki a jogát bejegyezteti, illetve, aki korábban jegyezteti be a jogszerzés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6.4. A kérelemhez kötöttség el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jogok bejegyzését, vagy a tények feljegyzését a nyilvántartó hatóság csak az arra jogosult kérelmére jegyezheti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ivétel pl.: nincs szükség okiratra és kérelemre, ha olyan jogot vagy tényt kell törölni, amelynek megszűnése az ingatlan-nyilvántartásból kétségtelenül megállapít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2. Az agrárigazgatás fogalma, feladatai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ezőgazdasági termelés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iológia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apjaina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iztos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zőlőtermelésse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orgazdálkodássa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kapcsolatos szakigazgatási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inőségüggye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élelmiszerbiztonságga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és az ehhez kapcsolódó fogyasztóvédelemmel kapcsolatos szakigazgatási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ennyiségi és minőségi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öldvédelemme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kapcsolatos szakigazgatási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földtulajdonhoz kapcsolódó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szonvétele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gyakorlásával összefüggő szakigazgatási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U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özö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grárpolitikájához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kapcsolódó termékpálya rendtartások működtetésével, valamint közvetlen támogatási rendjének végrehajtásával összefüggő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agrár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dékfejlesztés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olitika kialakításával, illetve végrehajtásával összefüggő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5736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.5. A rangsor 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özhitelesség elve értelmében a jogát bejegyző személy védelmet élvez a bejegyzést elmulasztóval szem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ingatlan-nyilvántartásban egy-egy bejegyzés ranghelyét és ezzel a bejegyzések rangsorát a bejegyzés, feljegyzés iránt benyújtott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érelem iktatási időpontj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határozza m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gyes jogok és jogilag jelentős tények bejegyzése a későbbi jogszerzők szerzését korlátozza, vagy feltételessé tes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ivétel: a rangsorral – tulajdonképpen a rangsorral biztosított jogosultságról – is lehet rendelkezn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polgári jogi szabályok módot adnak ranghely cserére, ranghely előzetes biztosítására és ranghely fenntart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6.6. Az okiratiság elve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bejegyzendő jogokat, feljegyzendő tényeket szigorú követelményeket kielégítő okiratokkal kell hitelt érdemlően bizonyít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6.7. A teljesség el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ország összes ingatlanát nyilvántartásba kell ve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6.8. A valósághűség 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ingatlanok adatait, valamint a jogosultak adatait a természetes állapotnak megfelelően kell rögz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6.9. A kötelező használat 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ingatlannal kapcsolatos hatósági eljárásokban a tulajdoni lapon átvezetett adatokat kell irányadónak tekin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6.10. A legalitás 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csak az Inytv.-ben, vagy más tv-ben meghatározott adatokat, jogokat és tényeket lehet bejegyezni, melyet a tv-ben erre a feladatra létrehozott és hatáskörrel, valamint illetékességgel felruházott szervek végezhetik, tv-ben meghatározott követelményeknek megfelelő okiratok alapj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7. Az ingatlan-nyilvántartásba bejegyezhető jogokat rögzítő szerződések ügyintézé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érintett ingatlan ingatlan-nyilvántartási állapotának felderítése (hiteles tulajdoni lap másolat  vagy  a nyilvántartásba való betekint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szerződés lényeges tartalmi elemeit rögzítő anyagi jogi jogszabályok (pl. Ptk.) vonatkozó rendelkezéseinek tisztáz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ötöttségek alá tartozó ingatlanokra (pl. termőföldre) vonatkozó sajátos  jogszabályi rendelkezések tisztáz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ingatlant, vagy az ügyletet érintő adózási szabályok tisztá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ügyletet érintő illetékkötelezettségek tisztáz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ügyletre vonatkozó szerződés elkész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csatolandó egyéb íratok (pl. gyámhatósági engedély) beszerz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bejegyzési kérelem formanyomtatványának kitölté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igazgatási szolgáltatási díj befize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csatolandó iratokkal felszerelt bejegyzési kérelem benyúj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8900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8. A földhivatali eljárással kapcsolatos leggyakoribb eljárási lépé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8.1. A kérelem benyújt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8.2. Felhívás hiánypótlásra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[Ket. 37. § és Inytv. 39.§, Vhr. 79.-81.§ ]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8.3. Értesítés az eljárás megindításáról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[Ket. 29. § (3) –(7) és Inytv. 27/A.§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8.4. Eljárást felfüggesztő végzés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[Ket. 32. § és Inytv. 47.§]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8.5. Értesítés eljárás függőben tartásáról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[Inytv. 47/A. §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8.6. Eljárást megszüntető végzés a Ket. 31.§ -ában foglalt ok mi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8.7. Eljárás megszüntetése  díjfizetés elmulasztása miatt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[Ket. 31.§ (3) bekezdés és 118/2005. (XII.19.) FVM rendelet 3. §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8900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Bordás Má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Versenyj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42920" y="1197000"/>
            <a:ext cx="1368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aramond"/>
              </a:rPr>
              <a:t>III.</a:t>
            </a:r>
            <a:endParaRPr b="1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. A versenyjog történ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1.1 A liberálkapitalizmus és a versenyjog − a versenykorlátozások joga az állam­monopolkapitalizmus idej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uralkodó közgazdasági nézet:  az államnak nem kell a gazdasági folyamatokba beavatkoznia, mert a piac önmagától is tökéletesen működik (állam „éjjeliőr” szerepe + „láthatatlan kéz” elméle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ialakult a piacfelügyelet első intézménye, a tisztességtelen piaci magatartások joga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polgári per indítható a sérelmet okozó versenytárs  ellen (legfontosabb szankció: magánjogi kártérít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9. sz. második felében: lényeges változások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 a tőkeerős vállalkozások erőfölényüknél fogva képesek voltak a versenytárs piacról való kiszorítására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 gazdaság nagymértékben koncentrálódott + a verseny egyre kevésbé működ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84464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új felismerés: a verseny védelmét nem lehet a piaci szereplőkre bízni, ui. a monopóliumok a profitérdek mentén cselekszenek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piacell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verseny védelme tehát állami beavatkozást igény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versenyjog ezért közjogi normákat tartalmaz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 közigazgatási szerv a neki alárendelt piaci szereplők felett felügyeletet gyako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1.2. A versenyjog fejlődése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versenyt korlátozó jelen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artell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(fajtái: árkartell, kontingentáló kartell, földrajzi kart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ezdetben írásbeli szerződés: a felek megállapodása, hogy a verseny kockázatait csökkentik (pl. nem folytatnak egymással árverseny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ésőbb: összehangolt magatartás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ráutaló magatartással állapodnak meg a termelés és forgalmazás egyes feltételei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gazdasági erőfölénnyel való visszaélés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 vállalkozás monopol helyzetéből adódóan képes a maga számára egyoldalú előnyöket, a másik fél számára pedig hátrányokat kikötni üzleti kapcsolataib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fúz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fúziókontroll célja: a monopóliumok létrejöttének megakadály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vállalkozásoknak engedélyt kell kérni a verseny­felügyeleti szervt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89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.3. A versenyjogi szabályozás modellj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gazságszolgáltatási 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ljáró szerv eljárásában dominánsabbak a bíróságszerű ele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ljáró szerv szakmai testületként műkö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özigazgatási szervektől függet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dott a bírósági felülvizsgálat lehető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onkrét, előre kiszámítható a jogi szabályozá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élja: a jogalkalmazási gyakorlat kiszámítható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özigazgatási 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versenyfelügyelete szerv a közigazgatás része, gyakran közvetlenül a kormány irányítása ala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versenyfelügyelete eljárás az államigazgatási eljárási elveket követi, és általában a bírósági felülvizsgálat sem biztosít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versenyjogi tényállások általánosan, ún. generálklauzula-szerűen megfogalmazottak, ahol a versenyfelügyelete szervnek széles körű mérlegelési joga van a jogalkalmazási döntések sor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9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1.4. Fogyasztó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lasszikus kapitalizmus: a fogyasztó racionális a döntései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onopolkapitalizmus: a fogyasztó jól manipulálható (pl. reklá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fogyasztói társadalmakban: fogyasztó a marketingnek kiszolgáltatott egyén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 védelme érdekében törvényeket alkot az ál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ájékoztatási kötelezettség (pl. információ a minőségrő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reklám szabályozása (pl. egyes termékek reklámozásának tilalma)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hagyományos polgári jogi szerződések nem alkalmasak a tömeges fogyasztó sérelmek orvosl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jogi szabályozás ezért speciális intézményeket alakított ki a fogyasztók védelmére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szavatosság és jótáll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ermékfelelősség: a gyártó akkor is felelős az áru minőségéért, ha ő nincs közvetlen kapcsolatban a vevő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ülönböző (szabvány)szerződések tartalmának megtámadható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fogyasztói érdekek védelmére elkülönült államigazgatási szervek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hatáskörükbe tartozik: ellenőrzés, fogyasztói panaszok elbírálása és  bírság kiszab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9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.5. A közszolgáltató szektor szabály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acgazdaságban állami monopóliumot csak kivételes esetben  indokolt létesíten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tt, ahol a piaci verseny nem érné el a megfelelő hatásá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állami monopólium drasztikusan avatkozik be a gazdaság piacszervező funkciójába azáltal, hogy kizárja a piaci verseny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általában nem vállalkozási tevékenységekre hoznak létre (pl. pénzver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gyes állami monopóliumok az állam engedélye alapján magánvállalkozások által is végezhető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közszolgáltatások általában ide tarto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özszolgáltatások természetes monopólium jellege: gazdaságilag nem lenne racionális, ha egymás mellett két pl. két vízszolgáltató műkö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állami monopóliumok alapján működő vállalkozások hátránya: a piaci verseny hiányában visszaélhetnek monopolhelyzetükk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zt a közigazgatási szabályozás hivatott kiküszöbö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7000" indent="-297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zköz: árszabályozá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z állam jogszabályban határozza meg a szerződésben kötelezendően alkalmazandó á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3. Az agrár-szakigazgatás sajátos szabályozási, eljárási-, és  intézményi re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23320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általános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eljárási szabályok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 közigazgatási hatósági eljárás és szolgáltatás általános szabályairól szóló 2004. évi CXL. törvény (K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speciális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igazgatási intézkedéseket tartalmazó rendelkezések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z adott törvény / az ahhoz szorosan kapcsolódó egyéb jogszabályok (végrehajtási rendelet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sajátosságok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gyes szakmai rendelkezések, ill. speciálisan alkalmazott igazgatási szankciók alapvetően érintik a tulajdonnal való rendelkezési jo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U által alkotott jogszabályok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közvetlenül is alkalmazni kell Magyarországon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z EU kizárólagos szabályozási hatáskörébe tartozó kérdésekben megszűnik a nemzeti jogalkotási hatáskö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8900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2. A versenyjog a hatályo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agyar jogi szabályozás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isztességtelen piaci magatartás és a versenykorlátozás tilalmáról szóló 1996. évi LVII. törvény a piacfelügyelet három intézményét szabályo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2.1. A tisztességtelen verseny til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általános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tilalom: tilos gazd-i tevékenységet tisztességtelenül folyta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isztességtelennek minősített magatartások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ülönösen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üzleti hírnév megsértése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(valótlan tény állításával vagy híresztelésével, ill. valós tény hamis színben való feltüntetésé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üzleti titok megsértése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(tisztességtelen módon való megszerzése vagy felhasználása, valamint jogosulatlanul mással való közlése vagy nyilvánosságra hozata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84464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6001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bojkot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élja a harmadik versenytársnak a piacról való kiszorít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utánzá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a versenytárs áruját, vagy szolgáltatását a versenytárs hozzájárulása nélkül hozza forgalomba, vagy szolgáltatja olyan módon, hogy az összetéveszthető a versenytárs árujá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 versenytárgyalás tisztaságának megsértés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a versenytárgyalás, a pályáztatás, az árverés és a tőzsdei ügyletek tisztaságát sértő tisztességtelen cselekmények tilal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480" indent="-285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járás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olgári bíróságok járnak el a polgári peres eljárás szabályai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érelmet szenvedett versenytárs követelhe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jogsértés megtörténtének megállapít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jogsértés abbahagyását és a jogsértő eltiltását a további jogsértést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ogy a jogsértő adjon a jogsértést elismerő nyilatkoza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érelmes helyzet megszüntetését, a jogsértést megelőző állapot helyreállít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ártérítést kérhet, ha a jogsértés a számára kárt oko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bíróság bírságot is kiszabhat, ha a cselekmény olyan súl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0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2. A fogyasztói döntések tisztességtelen befolyásolásának til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160" indent="-308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általáno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ilalom: tilos a fogyasztókat megtévesz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160" indent="-308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tilalmazott cselekmények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ülönöse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800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egtévesztő információ adása az áruró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pl. az áru lényeges tulajdonságairól valótlan tényt állít, vagy valós tényeket hamis színben tüntet fel, ill. az árut megtévesztésre alkalmas árujelzővel látja 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800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információk elhallgatás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pl. ha a gyártó és a forgalmazó nem ad tájékoztatatást arról, hogy az áru nem felel meg a jogszabályi előírásokn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8000" indent="-277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 fogyasztó választási szabadságának indokolatlan korlátozás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pl. azok az üzleti módszerek, amelyek olyan körülményeket teremtenek, amelyek jelentősen megnehezítik az áru, illetve az ajánlat valós megítélését, más áruval, vagy ajánlattal történő tárgyszerű összehasonlításá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160" indent="-308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fogyasztók megtévesztése esetén a Gazdasági Versenyhivatal jár el a közigazgatási eljárás szabályai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89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2.3. A versenyt korlátozó cselekmények til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ar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állapodás vagy összehangolt magatartás létrejötte különböző vállalkozások közöt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zal a céllal, hogy a versenyt megakadályozzák, korlátozzák, 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ilyen cél nélkül is, ha a megállapodásnak, vagy az összehangolt magatartásnak versenykorlátozó hatása van / ilyen hatása le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gazdasági erőfölénnyel való visszaélés til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ét feltétele: a vállalkozásnak erőfölényes helyzetben kell lennie ÉS az erőfölényes helyzetével vissza kell élnie (pl. felfaló áraz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vállalkozások összefonódásának ellenőrzése (fúzi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ha az egyik vállalkozás a másikba beleolvad vagy összeolvad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ha a vállalkozás közvetlen, vagy közvetett irányítást szerez a másik vállalkozás fölö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ha több, egymástól független vállalkozás hoz létre olyan vállalkozást, amelyet ők irányítana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vállalkozásoknak engedélyt kell kérniük a GVH-tól a fúzió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9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2.4. A Gazdasági Versenyhiv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szervez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élén: elnök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 miniszterelnök javaslatára az államfő nevezi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versenytanács: a versenyfelügyeleti eljárásokban a határozatot megho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vizsgálók: feladatuk a Versenytanács döntéseinek előkész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eljárási 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eljárás bejelentés / panasz alapján indul (esetenként hivatalbó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. szakasz: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vizsgáló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tisztázza az üggyel kapcsolatos tényeket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jelentés a tényállásról és az indítványr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2. második szakasz: a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versenytanács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érdemi döntést hoz az ügy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jogorvoslat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államigazgatási úton nincs helye jogorvoslatnak, de bírósági felülvizsgálat kérhető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ha a bíróság a versenytanács határozatát jogszabálysértőnek találja, a határozatot megváltoztatja vagy a határozatot megsemmisíti, és a Versenytanácsot új eljárásra utasí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bíróság ítélete ellen a további fellebbezés kizá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3. Az árszabály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3.1. Az árszabályozás hatálya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(1990. évi LXXXVII. t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v. mellékletében felsorolt termékekre és szolgáltatásokra terjed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hatósági ár alkalmazásának hiánya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 semmis szerződé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3.2. Az árszabályozás terüle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ivóvíz, távhő, villamos energia, földgáz, szennyvízelvezetés, vasúti és távolsági személyszállítás,  helyi tömegközlekedés, postai szolgál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3.3. Az árszabályozás módszer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hatósági árat úgy kell megállapítani, hogy a hatékonyan működő vállalkozó ráfordításaira és a működéshez szükséges nyereségre fedezetet biztosít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országos közszolgáltatás esetén az ágazati miniszter, helyi közszolgáltatás esetén pedig a helyi önk. rendeletben állapítja m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55736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Boros An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Munkaügyi igazgatá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42920" y="1197000"/>
            <a:ext cx="1368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aramond"/>
              </a:rPr>
              <a:t>IV.</a:t>
            </a:r>
            <a:endParaRPr b="1" lang="en-US" sz="9600" spc="1" strike="noStrike">
              <a:ln w="936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46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47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. A munkaügyi igazgatás szervez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)  foglalkoztatás és a támogatások köré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Garamond"/>
              </a:rPr>
              <a:t>központi szi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AT (Munkaerőpiaci Alap Irányító Testül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Foglalkoztatási Hiv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OÉT (Országos Érdekegyeztető Tanác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Garamond"/>
              </a:rPr>
              <a:t>területi szi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egyei önkormányz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egyei (fővárosi) munkaügyi taná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regionális munkaügyi közpon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regionális szinten működő fejlesztő és képző központ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4464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70416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elyi szi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egyei munkaügyi központok kirendeltség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települési önkormányz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) munkavédelem és a munkaügyi ellenőrzés köré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központi szi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szágos Munkabiztonsági és Munkaügyi Felügyelősé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ÁNTSZ (Állami Népegészségügyi és Tisztiorvosi Szolgá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BH (Magyar Bányászati Hivat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területi szi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Országos Munkabiztonsági és Munkaügyi Felügyelőség területi szerv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ÁNTSZ megyei igazgatóság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28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regionális szinten működő bányakapitánysá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2. A munkaügyi igazgatás eszköz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1. A miniszter foglalkoztatáspolitikai felad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érdekegyeztetési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eladatok (kapcsolattartás a munkaadói és a munkavállalói érdek-képviseleti szervezetekkel stb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ogalkotás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eladatok (munkaviszonyra, foglalkoztatáspolitika eszközrendszerére stb. vonatkozó szabályoz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glalkoztatáspolitikai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eladatok (a munkanélküliek ellátási rendszerének meghatározása, foglalkoztatási programok st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érpolitika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eladatok (kormányzati bérpolitikára vonatkozó javaslatok kidolgozása st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z emberi erőforrás fejlesztésse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kapcsolatos feladatok (felnőttképz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nkavédelemme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kapcsolatos feladatok (biztonságos munkavégzés szabályainak megalkotása stb. - OMMF útjá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84464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agrár-szakigazgatás intézményi struktúráj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úcson: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öldművelésügyi és Vidékfejlesztési Minisztériu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ovábbi szereplő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6800" indent="-331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grár-szakigazgatási feladatokat ellátó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államigazgatás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zer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6800" indent="-331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ciális agrár-szakigazgatási feladatokat ellátó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áttérintéz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6800" indent="-331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gyes agrár-szakigazgatási feladatokat ellátó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öztestülete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6800" indent="-331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ociális, és társadalmi partnerség keretében működő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ársadalmi, és érdekképviseleti szervez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04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2. Foglalkoztatási Hiv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glalkoztatási Hivatal + megyei munkaügyi központok + munkaerő-fejlesztő- és képző központok =  Állami Foglalkoztatási Szolgá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glalkoztatási Hivatal: FMM irányítása alatt álló központi hiv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élén: a miniszter által kinevezett főigazg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eladat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egyei (fővárosi) munkaügyi központok szakmai irány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gységes foglalkoztatási nyilvántartás fejlesztése és működte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unkanélküli ellátások, a foglalkoztatást elősegítő támogatások, valamint a munkaerő-piaci szolgáltatások nyújtásával kapcsolatos módszertani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unkanélküli ellátások, a foglalkoztatást elősegítő támogatások és a munkaerő-piaci szolgáltatások nyújtását támogató informatikai rendszerek működte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tatisztikai feldolgozási, elemzési és tájékoztatási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több megyét érintő munkaerő-piaci programok koordin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7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2.3. A munkaügyi közpon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) megyei (fővárosi) munkaügyi közpon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özponti szervezeti egységekből és kirendeltségekből á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llátja a Munkaerőpiaci Alap pénzeszközeinek a megyében történő működtetésével kapcsolatos megyei szintű feladatok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ngedélyezi a külföldiek magyarországi munkavállal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információkat gyűjt és nyújt a megye munkaerőpiaci helyzetérő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rehabilitációs munkacsoportot hoz lé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llenőrzi a munkanélküli ellátásokra való jogosultsá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b) a munkaügyi központ kirendeltség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álláskeresők nyilvántartásba vé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unkaközvetítés, munka- és pályatanács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unkanélküli ellátások, foglalkoztatást elősegítő támogatások megállapításával, megszüntetésével kapcsolatos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2.4. A regionális képző közpon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emberi erőforrás fejlesztése országos és regionális feladatainak ellátása érdekében a miniszter hozza lé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2.5. Az érdekegyeztetés szervezetrendsz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) Országos Érdekegyeztető Taná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ormány a munkavállalók és a munkaadók országos érdek-képviseleti szervezeteivel az OÉT-ban egyezt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OÉT véleményezi a foglalkoztatást érintő törvénytervezet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ijelöli a Munkaerőpiaci Alap Irányító Testületének a munkaadói, továbbá munkavállalói képviselőit, és javaslatot tesz a visszahívásuk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b) Munkaerőpiaci Alap Irányító Testü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unkaadók, a munkavállalók és a Kormány képviselőiből álló testület, amely a Munkaerőpiaci Alappal kapcsolatos jogokat, illetőleg kötelezettségeket gyakor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agjait a foglalkoztatáspolitikai és munkaügyi miniszter bízza m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c) Megyei (fővárosi) Munkaügyi Taná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yei szintű érdekegyeztetés (önk-ok, munkaadók, munkavállaló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dönt a Munkaerőpiaci Alap eszközei felhasználásának elveirő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ezdeményezi és véleményezi a megye foglalkoztatási helyzetével kapcsolatos rövid és hosszú távú program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3. Munkaerő-piaci szolgáltatások és foglalkoztatást elősegítő támogatások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z álláskeresők támogatá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3.1. Munkaerőpiaci szolgáltatások és foglalkoztatást segítő támog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cél: munkahely /-erő keresés, ill. munkahelymegtartás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épzések előseg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eresetkiegészítés vagy keresetpótló jutt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épzéssel kapcsolatos költségek megtér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álláskeresők vállalkozóvá válásának előseg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pl. szaktanácsadás, tanfolyami képzés, hitelfedezeti biztosítás költségeinek legfeljebb 50%-os megtér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foglalkoztatás bővítését szolgáló támog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unkaadó részére a munkavállaló munkabére 50-100 %-áig terjedő mértékű támogatás nyújtható max. 1 egy évi időtartamra, ha vállalja az álláskeresőnek a támogatás folyósítása alatti foglalkoztatásá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84464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özhasznú munkavégzés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unkaadó részére, ha közfeladat / közhasznú tevékenység folytatása érdekében az álláskereső foglalkoztatását vállal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lláskeresők munkaerő-kölcsönzés keretében történő foglalkoztatásának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nnak a kht-nak, amely munkaerő-kölcsönzés céljából az álláskeresővel meghatározott időtartamra munkaviszonyt létes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önfoglalkoztatás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80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nnak az álláskeresőnek, aki munkaviszonyon kívüli tevékenységgel gondoskodik önmaga foglalkoztatásáról (pl. vállalkozást indí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munkahelyteremtés és munkahelymegőrzés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foglalkoztatáshoz kapcsolódó járulékok átválla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megváltozott munkaképességűek foglalkoztatásának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fiatal álláskeresők foglalkoztatásának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munkaerő-piaci programok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egyes általánostól eltérő foglalkoztatási formák támogatása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(részmunkaidő, távmun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3.2. Álláskeresők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) álláskeresési járad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jogosultsá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ki álláskeres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előző 4 éven belül min. 365 nap munkaviszonnyal rendelkezi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semmilyen nyugdíjra nem jogosult, táppénzben nem részes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unkát akar vállalni, de álláskeresése nem vezetett eredményre, és a munkaügyi központ sem tud megfelelő munkahelyet felajánl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érté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álláskeresőnek az álláskeresővé válását megelőző négy naptári negyedévben elért átlagkeresete alapulvételével kell kiszámíta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összege a folyósítás első szakaszában a járadékalap 60 százaléka</a:t>
            </a: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folyósításának időtar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nnak az időtartamnak az alapulvételével kell megállapítani, amennyit az álláskereső az álláskeresővé válást megelőző négy év alatt munkaviszonyban tölt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leghosszabb időtartama 270 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8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) álláskeresési segé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480" indent="-285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 az álláskeresési járadékot részére legalább 180 nap időtartamra állapították meg, és annak folyósítását a jogszabályban meghatározott ok miatt szüntették meg, va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480" indent="-285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álláskeresővé válását megelőző 4 éven belül min. 200 nap munka-viszonnyal rendelkezik, és álláskeresési járadékra nem jogosult, va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480" indent="-285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érelem benyújtásának időpontjában a reá irányadó öregségi nyugdíjkorhatár betöltéséhez legfeljebb 5 év hiányzik, és legalább 140 napon át álláskeresési járadékban részesült, és az álláskeresési járadék folyósítása időtartamát kimerít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) költségtér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480" indent="-285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unkahelykereséssel kapcsolatban a tömegközlekedési eszköz igénybevételével felmerült helyközi utazási költséget meg kell tér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) a munkanélküli ellátásokra vonatkozó közös rendelkez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480" indent="-285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unkanélküli-ellátásban részesülő személy az általa folytatott kereső tevékenységet köteles a munkaügyi központnak bejelente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48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isszafizetési és megtérítési kötelezettség: aki ellátást jogalap nélkül vett fel, köteles azt visszafizet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4. A foglalkoztatási hatósági eljár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4.1. Speciális szabályok a foglalkoztatáspolitikai törvény hatálya alá eső eljárások terület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foglalkoztatási igazgatási eljárások háttérjogszabálya 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et.-et akkor kell alkalmazni, ha az Ftv. eltérően nem rendelk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hatósági fórumrendsz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unkaügyi központ kirendeltsége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munkaügyi központ igazgat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unkaügyi kp. kp-i szervezeti egysége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Foglalkoztatási Hiv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et. rendelkezéseitől eltérő eljárási szabályok pl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ljárási határidők:</a:t>
            </a: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foglalkoztatást elősegítő támogatások esetében a határidő max. 90 n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jogorvoslat: csak akkor van helye, ha a kérelem elutasítására a jogszabályban meghatározott feltételek hiánya miatt került sor, vagy a határozatot hozó szerv jogszabályt sért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ljárási rendbírságra: speciális 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62864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23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2. Adatvédelmi 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AJ-szám alkalmaz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személyes adatok nyilvántartására való jogosult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3. Az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ységes Munkaügyi Nyilván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célja: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04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unkaviszonyra vonatkozó információs önrendelkezési jog érvényesülésének elősegíté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04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unkaügyi ellenőrzés hatékonyságának növelése érdekéb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unka Törvénykönyve hatálya alá tartozó munkaviszonyok adatainak nyilvántartását tartalma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yilvántartott adatok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ülönböző szempontok szerin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soportosíthat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Nyilvántartást a Foglalkoztatási Hivatal szervezetébe tartozó Munkaügyi Nyilvántartó Központ működte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mre Mikló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A természeti és az épített környezet védel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42920" y="1197000"/>
            <a:ext cx="1368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aramond"/>
              </a:rPr>
              <a:t>V.</a:t>
            </a:r>
            <a:endParaRPr b="1" lang="en-US" sz="96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59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60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1. Földművelésügyi és Vidékfejlesztési Miniszté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grárigazgatás központi közigazgatási sz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élén: földművelésügyi és vidékfejlesztési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iniszt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ormációs és szaktanácsadási rends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grárgazdasági Tanác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tanácsadó testül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zakértői testülete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közigazgatási hatóságok döntéseinek szakmai megalapozása (pl. Országos Borszakértő Bizottság, Országos Állategészségügyi Tanác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. Az épített környezet védel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9. sz. vége, 20. sz. eleje: erőteljes urbanizáció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beépített területek száma rohamosan nő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állami ellenőrzés a terület-felhasználás fel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937. évi VI. tv.: első magyar építési törvé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964. évi III. tv.: ágazati szemléletet tükröző kerettörvényként ép.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996. évi XXI. tv. a területfejlesztésről és a területrendezésr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997. évi LXXVIII. tv.  az épített környezet alakításáról és védelmér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erületfejlesztés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 területi tervezési rendszer 2 el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területfejlesztési koncepció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ország / térség átfogó távlati fejlesztését megalapozó és befolyásoló tervdokumentu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területfejlesztési program: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 területfejlesztési koncepció alapján kidolgozott középtávú cselekvési ter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erületrendezés </a:t>
            </a:r>
            <a:r>
              <a:rPr b="1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űszaki-fizikai tervnek minős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ország, régió, megye, kiemelt térség területére készül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70028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2. Az építési közigazgatási j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lsősorban az építésrendészeti, másodsorban pedig a városépítési vagy településrendezési jog intézményei tartoznak 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építésügyi igazg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szűkebb értelemben: építésügyi tevékenység igaz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ágabb értelemben: előbbin kívül területfejlesztés,  területrendezés, műemlékvédelem igazgat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2.1. Az építési közigazgatási jog forrá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Éptv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OTÉK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(253/1997. (XII. 20.) Korm. rendel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helyi önkormányzatok építési rendele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84464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70360" indent="-270360">
              <a:lnSpc>
                <a:spcPct val="9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építésügyi igazgatási jogszabályokat alkotó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rmák típusa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építési tevékenységet szabályozó norm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építésügyi hatósági engedélyezést, továbbá a hatósági ellenőrzést és szankcionálást magába foglaló építésrendészeti norm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űemlékvédelemmel összefüggő norm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rületrendezést szabályozó norm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zabván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elepülésrendezési terv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2 típ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elepülésszerkezeti terv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lfogadása: normatív határozat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5440" indent="-216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település egész területére kész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zabályozási terv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lfogadása: rendele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5440" indent="-216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lepülés egész közigazgatási területére vagy egyes - legalább telektömb nagyságú - településrészek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elyi építési szabályz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lfogadása: rendele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lepülés közigazgatási területének felhasználásával kapcsolatos stb. követelményeket, jogokat és kötelezettségeket határozza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2. Az építésügyi közigazgatás szervez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) központi szer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építésügyi közigazgatás elkülönült központi szervezetrendszere csak a II. világháború után jött lé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ormán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ela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épített környezet rendezett alakítását és védelmét biztosító jogszabályok megállap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építésügyi hatósági intézményrendszer működtetés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Önkormányzati és Területfejlesztési Minisztériu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ela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ormányzati döntések előkészítése és végrehaj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özreműködik a Kormány területfejlesztési és építésügyi politikájának meghatározásá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átja a területfejlesztési és területrendezési, a településfejlesztési és településrendezési, az építésügyi feladatok központi szakmai igazgatását s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70360" indent="-27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ársminisztériumo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akmai feladatkörüket érintően meghatározott építésügyi hatáskört gyakorol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. a gazdasági miniszter a bányászati létesítmények tekinteté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360" indent="-27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szágos Területfejlesztési Tanác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miniszter, a Kormány és az Országgyűlés területfejlesztési és területrendezési feladatait egyaránt segítő test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360" indent="-27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lágörökség Magyar Nemzeti Bizott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özreműködik a világörökség részét képező építészeti örökség megóvásával kapcsolatos kormányzati feladatok ellátásá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360" indent="-27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ulturális Örökségvédelmi Hiva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országos jelentőségű építészeti örökség védelmével kapcsolatos feladatok ellátására létrehozott országos illetőséggel rendelkező önálló központi hivatal, államigazgatási szer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08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oktatási és kulturális miniszter irányí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b) helyi-területi építési igazgatási szer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erületi főépítész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özponti szintű építésügyi szakigazgatási feladatok ellátását segítő, területközi illetékességű hivatalt vezető köztiszt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fővárosi, megyei közigazgatási hiv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hivatal vezetője II. fokú építésügyi hatóságként eljár azokban az ügyekben, amelyekben I. fokon a települési önk-i jegyző jár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helyi önkormányz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építésügyi hatósági jogkört I. fokon – néhány kivétellel – a települési önkormányzat jegyzője látja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regionális és megyei területfejlesztési tanác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erületfejlesztési önkormányzati társu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istérségek területfejlesztési feladatai szervezésér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építésügy területén működő kamar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agjaik érdekképviselete, szakmai  tevékenységük felügy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öbb település közös rende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3. Az építésrendészeti j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914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3.1. Az elvi építési engedé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hatóság előzetesen nyilatkozik a településrendezési előírásokr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semmiféle építési munka elvégzésére nem jogos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ngedély jogerőssé és végrehajthatóvá válásától számított 1 éven belül kezdeményezett építésügyi hatósági engedélyezési eljárás során  köti az építésügyi hatóságot és a közreműködő szakhatóság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3.2. Az építési engedé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nem minden építési munka engedélyhez kötött (jogszab. határozza me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célja: biztosítsa a településrendezési és az épület rendeltetésszerű, biztonságos használatára vonatkozó előírások érvényre juttat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ha a hatóság az építeni kívánó ügyfél kérelmét megfelelőnek találta, építési engedélyt bocsát ki, melyhez az építtető kötve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jogerőssé és végrehajthatóvá válásától számított 2 év elteltével a törvény erejénél fogva hatályát vesz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77336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914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3.3. A használatbavételi engedé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inden építményre, amelyre az építtetőnek építési engedélyt kellett kérnie, használatba vétel előtt használatbavételi engedélyt is kell kér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adásának feltétele, hogy az építési munkákat az építési engedélynek és az építési előírásoknak megfelelően végezték-e el, ill. hogy az épület rendeltetésszerű használatra alkalmas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3.4. Az engedélyező eljárások jellemző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ljáró hatóság a Ket. szabályai szerint jár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520" indent="-281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Éptv. alaki szabályait tekintve eltérhet a Ket-től egyes különös, kifejezetten az építéshatósági eljárásokra jellemző szabályok révén, pl.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általános ügyintézési határidő a 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hatóság minden esetben köteles helyszíni szemlét tart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I. fokú építésügyi hatóság köteles az engedélyhez kötött építési munka végzését a helyszínen rendszeresen ellenőriz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építésfelügyeleti ellenőrzés: célja annak a megállapítása, hogy  a módszerek és eljárások minőségi követelményeire vonatkozó szabályokat megtartották-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3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5. A szabálytalan építkezés jogkövetkezmény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építésügyi hatóságnak a szabálytalanság mértékének függvényében kell megállapítania az alkalmazandó szankció módját és mérték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ennmaradási engedél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kkor adható, ha az építkezés megfelel az építési anyagi jogi előírásoknak (vagy az átalakítással szabályossá tehető), de az építtető ügyfél nem kért építési engedély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ogosult kérelme alapján van hel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égleges vagy ideiglenes hatály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 nem adható, az építésügyi hatóság köteles elrendelni a szabályossá tétel érdekében szükséges munkálatok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zabálytalanul épített építmény lebontása is elrendelhet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táridő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abálytalan építkezés jogkövetkezményei a szabálytalanság tudomására jutástól számított 1 éven belül alkalmazható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gkésőbb azonban az építés befejezésétől számított 10 éven belül lehet intézke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szankció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lkalmazásuk abban az esetben lehetséges, amennyiben az ügyfél megsérti az építési jog irányadó szabály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építési jogba ütköző egyes magatartások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szabálysértésnek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minősülnek (pl. az épület engedély nélküli használatbavét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ötelezést tartalmazó határozatok végrehajtásának elmulasztása esetén a Ket. szabályainak figyelembe vételével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végrehajtási bírság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szabható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fennmaradási engedély megadásával, ill. a lebontást tudomásul vételével egyidejűleg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építésügyi bírságot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is ki kell szabni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lapjául a szabálytalanul létrehozott vagy megsemmisült építménynek, építményrésznek a külön jogszabályban meghatározott értéke szolg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2. Agrár-szakigazgatási feladatokat ellátó államigazgatási szerve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agrárigazgatás egyes részterületein látnak el országos-, területi-, megyei, illetve helyi illetékességgel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tóság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és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zervezés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eladatok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egyei (fővárosi) földművelésügyi hivatal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VM centrális alárendeltségéb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ső fokú hatósági jogkö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grártámogatási rendszer működte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alugazdász-hálóz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adászat és halász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Vadászati és Halászati Felügyelőség (megyei [fővárosi] földművelésügyi hivatalok keretében, annak egyik osztályaként működn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4. A kulturális örökség védel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914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1. évi LXIV. törvény a kulturális örökség védelméről (Kö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ulturális java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az élettelen és élő természet keletkezésének, fejlődésének, az emberiség, a magyar nemzet, Magyarország történelmének kiemelkedő és jellemző tárgyi, képi, hangrögzített, írásos emlékei és egyéb bizonyítékai - az ingatlanok kivételével -, valamint a művészeti alko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kulturális örökség eleme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régészeti örök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űemléki érték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ulturális jav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7336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2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1. A kulturális örökség védelmének állami szervez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ktatási és kulturális miniszt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kulturális örökség védelmének irányítása, ágazati szakmai felügy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ulturális Örökségvédelmi Hivatal (KÖH)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ormány által létrehozott kp-i hivatal, amelyet a miniszter irány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eladata a kulturális örökség elemei megőrzésének, fenntartható használatának elősegítése és támog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zéleskörű építésügyi hatósági, örökségvédelmi, műemlékvédelmi hatáskörrel rendelk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2. A régészeti örökség védel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kiterj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régészeti örökség felkutatására, számbavételére, nyilvántart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iemelten vagy fokozottan védendő területek meghatározására, védetté nyilvánít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régészeti örökség megőrzésé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régészeti lelőhelyek védetté nyilvánításának előkészítése a KÖH fel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4.3. Műemlékvédelem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fela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űemléki értékek felkutatása, védetté nyilvánítása és a védendő műemléki területek meghatár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űemlékek és környezetük fenntartása, helyreállítása, 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űemléki értékek védetté nyilvánítása a KÖH-nél kezdeményezhető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ebben az esetben a védetté nyilvánítás előkészítését a Hivatal folytatja 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védettség miniszteri rendelettel jön lé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4.4. A kulturális örökségvédelmi hatósági eljárások szabály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et.-et kell alkalma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hatósági jogkört I. fokon a külön jogszabályban meghatározott hatáskörrel és illetékességgel rendelkező szervezeti egységek, II. fokon a Hivatal elnöke gyakor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-338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örökségvédelmi bírság szabható ki (pl. az ellen, aki védett kulturális örökségi elemet kötelezettségének elmulasztásával veszélyezt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5. A környezet védel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85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modern környezetvédelem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= azon intézkedések és tevékenységek összessége, melyek célja a természeti és mesterséges környezet további állapotromlásának megelőzése, a kialakult környezeti állapot minőségének jav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agában foglalja a környezet-szabályozást és a környezet-átalakítást, kiterjed továbbá a környezettervezésre és -fejlesztésre (vagyis a környezetgazdálkodásra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környezet(védelm)i jog komplex jogterület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, amelyben a polgári jog, a büntető jog, a munkajog, a pénzügyi jog és a közigazgatási eszköztárát egyaránt a közös célok szolgálatába kell állíta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lapjogszabály: a környezet védelmének általános szabályairól szóló 1995. évi LIII. törvé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73360"/>
            <a:ext cx="874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1. A környezet védelmének alapelv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1.1. Az elővigyázatosság, a megelőzés és a helyreáll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1.2. Felelős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1.3. Együttműkö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1.4. Tájékozódás, tájékoztatás és nyilvános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2. A környezeti elemek védelme és az elemeket veszélyeztető ténye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2.1. A föld 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2.2. A víz 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2.3. A levegő 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2.4. Az élővilág 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2.5. Veszélyes anyagok és technológi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2.6. Hulladék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2.7. Zaj és rezg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2.8. Sugárz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3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5.3. A környezet védelmét szolgáló állami tevékeny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) az állam környezetvédelmi tevékeny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örnyezet védelmének jogi szabály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örnyezet védelmével összefüggő jogok és kötelezettségek megállapítása és megtartásuk ellenőr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z Országgyűlés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feladatai különö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határozza a Kormány és az önk-ok környezetvédelmi feladat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lfogadja a Nemzeti Környezetvédelmi Programot, és 2 évente értékeli végrehajt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5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NKP a környezetvédelmi tervezés alapja; 6 évente megújítand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5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artalmazza a környezet állapotának bemutat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5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elérni kívánt környezetvédelmi célokat és célállapotokat, végrehajtandó feladat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Kormány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feladata különö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állami környezetvédelmi feladatok végrehajtásának irány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19680" indent="-319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 környezetvédelmi miniszter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feladata különö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feladatkörébe utalt környezetvédelmi tevékenységek irány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örnyezet állapotát és védelmének helyzetének értéke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Országos Környezetvédelmi Taná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ormány javaslattevő, tanácsadó, véleményező sz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agjai (max. 22) a társadalmi szervezetek, a szakmai és gazdasági érdekképviseleti szervek, valamint  tudományos élet képviselő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b) a helyi önkormányzatok környezetvédelmi felad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települési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önkormány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biztosítja a környezetvédelmi jogszabályok végrehajtásá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NKP-ban foglaltakkal összhangban illetékességi területére önálló települési környezetvédelmi programot dolgoz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örnyezetvédelem tárgyában önk-i rendeletet / határozatot 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lemzi a környezet állapotát illetékességi területén, és arról szükség szerint, de  legalább évente 1x tájékoztatja a lakossá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megyei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önkormány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elepülési önk-okkal egyeztetett környezetv-i programot kész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4. A környezet védelmének megalap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szágos Környezetvédelmi Információs Rendszert (OK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iniszter által működtetett mérő-, észlelő-, ellenőrző háló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élja: a környezet állapotának és használatának figyelemmel kísérése, igénybevételi és terhelési adatainak mérése, nyilvántar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indenkinek joga van a környezeti ismeretek megszerzésé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örnyezeti ismeretek terjesztése és fejlesztése (iskolai nevelés stb.) elsősorban állami és önkormányzati fela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5. A környezetvédelmi igazg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örnyezetvédelmi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gazgatá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körébe tartozik különö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tósági tevékenység ellátása, pl. környezethasználat engedélye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nyagok, termékek és technológiák minősítési rendszerének meghatározása, forgalomba hozataluk /alkalmazásuk engedélye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örnyezeti károk elhárítására irányuló feladatok szerve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lérhető legjobb technika alkalmazására vonatkozó követelmények érvényes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örnyezetvédelmi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tóságok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különö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inisz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szágos Környezetvédelmi, Természetvédelmi és Vízügyi Főfelügyelősé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elügyelő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települési önkormányzat és szervei, valamint a jegyz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környezethasználat feltételei és hatósági engedélye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környezethasználat megkezdésének felté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5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örnyezetvédelmi engedély va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5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gységes környezethasználati engedély va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5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örnyezetvédelmi működési engedély va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5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ás hatóság által kiadott határozat jogerőre emelked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előzetes vizsgálati eljárá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a környezethasználó kérelmére a felügyelőség folytatja 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öntés arról, hogy a tervezett tevékenység valamely környezeti hatósági eljárás hatálya alá tartozik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felügyelőség a nyilvánosság véleményének megismerése érdekében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özmeghallgatás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ar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8004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környezeti hatásvizsgálati eljárás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a környezetre jelentős hatást gyakorló tevékenység megkezdése előtt kell elvége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04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egységes környezethasználati engedélyezési eljárás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a hatóság megállapítja az egyes tevékenységek környezetet terhelő kibocsátásainak megelőzésére / csökkentésére / megszüntetésére irányuló, az elérhető legjobb technikán alapuló intézkedés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004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környezetvédelmi felülvizsgálat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az egyes tevékenységek környezetre gyakorolt hatásának feltárására, valamint a környezetvédelmi követelményeknek való megfelelés ellenőrzésé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környezetvédelmi közigazgatási szervek hatósági eljárásának szabályai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a Ket. rendelkezéseit kell alkalmazni, de vannak speciális szabályok, pl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25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örnyezetvédelmi engedély megszerzésénél az ügyintézési határidő legfeljebb 90 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25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környezet veszélyeztetésével és a környezet károsításával járó rendkívüli esemény kapcsán hozott határozat fellebbezésre tekintet nélkül végrehajthatóvá nyilvánít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25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gyes közigazgatási eljárásokért igazgatási szolgáltatási díjat kell fizet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b) Állami Erdészeti Szolgálat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5880" indent="-351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rdőgazdálkodás, az erdővagyon-védelem, valamint az elsődleges fafeldolgozás igazgatási és egyéb állami szakfelad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5880" indent="-351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özpontj + tíz regionális jelleggel működő Igazgatósá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5880" indent="-351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felettes szerv: F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c) Országos Mezőgazdasági Minősítő Inté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5880" indent="-351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növénytermesztéssel és az állattenyésztéssel, valamint a takarmányozással kapcsolatos irányítási, szervezési és hatósági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5880" indent="-351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központ +  részjogkörű területi szerv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d) </a:t>
            </a:r>
            <a:r>
              <a:rPr b="1" i="1" lang="hu-H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Országos Borminősítő Inté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5880" indent="-351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ust, bor, borpárlat és egyéb borgazdasági termékek előállításával, kezelésével és forgalomba hozatalával kapcsolatos állami, hatósági és egyéb szak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2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5.6. A természet 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célja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a természeti értékek és területek, tájak, valamint azok természeti rendszereinek, biológiai sokféleségének általános 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természet védelméről szóló 1996. évi LIII. törvény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minden természetes és jogi személy, valamint más szervezet kötelessége a természeti értékek és területek véde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ermészetvédelemmel kapcsolatos </a:t>
            </a: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állami / önk-i fel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8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élén: miniszter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irányítja a természet védelmével kapcsolatos állami tevékenység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8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Országos Környezet- és Vízügyi Főfelügyelő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8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erületi igazgatósá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8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yei önk.:  gondoskodik a megye területén található helyi jelentőségű védett természeti területek védelmével kapcsolatos tevékenységek összehangolásáró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8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elepülési önk.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önk-i természetvédelmi őrszolgálatot működtethet + helyi jelentőségű védett természeti terület fenntartásáról, természeti állapotának őrzéséről gondosk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8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jegyző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 többnyire I. fokú ható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80000"/>
              </a:lnSpc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ermészetvédelmi célú társadalmi szervezet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42720" indent="-3427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természetvédelmi jog alapintézmény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általános törvényi védelem tárgyai a tájak, vadon élő állatok, élőhelyek, földtani természeti érték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vt. kiemelt oltalmat biztosít a növényeknek, állatoknak, barlangoknak, ásványi képződmények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védett természeti terület lehet: nemzeti park, tájvédelmi körzet, természetvédelmi terület, természeti eml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védetté nyilvánítási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ermészeti érték és terület kiemelt oltalma a védetté nyilvánítással jön lé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vt. erejénél fogva védelem alatt áll valamennyi forrás, láp, barlang, víznyelő, szikes tó, kunhalom, földvá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iniszter rendeletben nyilvánítja védetté / fokozottan védetté a természeti értéket, továbbá fokozottan védetté a terüle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helyi védetté nyilvánítás esetén a települési önk. jegyzője a védetté nyilvánító, önk-i rendeletet – nyilvántartási célból – hivatalból megküldi az illetékes igazgatóságn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a természetvédelem speciális eljárásjogi szabályai és szankció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vt. szerinti hatósági eljárásokra a Ket. rendelkezéseit kell alkalmazni a Tvt-ben foglalt eltérésekk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speciális szabály pl.: ügyintézési határidő a természetvédelmi hatósági engedélyezési eljárásokban 90 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jogszabályellenes tevékenység esetén az ügyfél kötelezhető az eredeti állapot helyreállítására +  a hatóság megtilthatja a védett természeti értéket és területet károsító veszélyeztető tevékenysége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ermészeti állapotfelmé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ha a jogszabályban meghatározott tevékenység megkezdése környezeti hatásvizsgálat elvégzéséhez kötött, annak részeként természeti állapotfelmérést kell kész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természetvédelmi bírság</a:t>
            </a:r>
            <a:r>
              <a:rPr b="0" i="1" lang="hu-H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Tvt-ben meghatározott tényállások esetén (pl. a természet védelmét szolgáló jogszabály, illetve egyedi határozat előírásainak megsérté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2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felügyelőség, helyi jelentőségű védett természeti terület esetében pedig a jegyző szabja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0:58:08Z</dcterms:created>
  <dc:creator>Horváth</dc:creator>
  <dc:description/>
  <dc:language>en-US</dc:language>
  <cp:lastModifiedBy>Dr. Horváth Attila</cp:lastModifiedBy>
  <dcterms:modified xsi:type="dcterms:W3CDTF">2006-09-15T23:26:20Z</dcterms:modified>
  <cp:revision>52</cp:revision>
  <dc:subject/>
  <dc:title>1. dia</dc:title>
</cp:coreProperties>
</file>