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png" ContentType="image/png"/>
  <Override PartName="/ppt/media/image10.wmf" ContentType="image/x-wmf"/>
  <Override PartName="/ppt/media/image21.gif" ContentType="image/gif"/>
  <Override PartName="/ppt/media/image20.gif" ContentType="image/gi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5EC-3951-4DB6-99D9-24231C2C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529-3FA2-4B18-9335-EB062AE3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F666-CC3F-435D-98F8-44CB8F2A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3FC-C151-476F-8955-790055FA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1F58-95E4-488F-80D4-D51DBEB3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99F8-007C-4F4D-A09A-8B0C9AA5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A677-4D92-494D-BE18-6A644A32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CB21-B9F2-428C-89CB-53AC5E54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1058-D038-4B4A-A310-1787D7BE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117C-4A66-4A36-87FB-139889D4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F0C8-89A0-478D-9FCB-CE5A7427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161-9739-40CD-BB89-22EE69D5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B97D-770E-4001-891E-A2396E2D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DD1D-66DE-4010-9615-4A8CAECA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856E-AD6A-460E-B52C-14501E7B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90C5-728A-4382-A362-B7291235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7FC8-3876-4AAC-8C40-BD9D4F4C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985-5E89-483E-9DDD-583B0F1F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4B6-1396-4E20-B6EE-76D5C157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074-211E-40BD-AF51-79F52154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5E8-0721-42FA-A56C-3A0640A7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8E1A-BCB6-476D-87FB-602DAF71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AF3-38BC-435D-B52B-B06A3E7E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DAB8-ADCE-4025-A8DA-843AD8F8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3C48-9A88-4A2D-8674-2F1F13B414C0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632E-CF7E-4FA2-BFCE-BD9A21DBBF5F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79280" y="5888160"/>
            <a:ext cx="1801800" cy="9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0F9E-A1BD-4414-B839-8902B467E69C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CA7B-770E-45DD-B5D5-3F81950A69C4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952720" cy="1512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8056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A gazdaságinformatika alapjai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Dr. Cser László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5. előadás: Számítógép hálózatok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4200" y="259920"/>
            <a:ext cx="779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z adatátviteli közeg (1)</a:t>
            </a:r>
            <a:br>
              <a:rPr sz="3000"/>
            </a:br>
            <a:r>
              <a:rPr b="1" i="1" lang="hu-HU" sz="3000" spc="-1" strike="noStrike">
                <a:solidFill>
                  <a:srgbClr val="f1b60f"/>
                </a:solidFill>
                <a:latin typeface="Times New Roman"/>
              </a:rPr>
              <a:t>Csavart érpár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040" y="2286000"/>
            <a:ext cx="7543800" cy="3657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5016600" cy="660600"/>
          </a:xfrm>
          <a:prstGeom prst="rect">
            <a:avLst/>
          </a:prstGeom>
          <a:ln w="0">
            <a:noFill/>
          </a:ln>
        </p:spPr>
      </p:pic>
      <p:pic>
        <p:nvPicPr>
          <p:cNvPr id="137" name="image024" descr=""/>
          <p:cNvPicPr/>
          <p:nvPr/>
        </p:nvPicPr>
        <p:blipFill>
          <a:blip r:embed="rId3"/>
          <a:stretch/>
        </p:blipFill>
        <p:spPr>
          <a:xfrm>
            <a:off x="1547640" y="2781360"/>
            <a:ext cx="5762880" cy="885600"/>
          </a:xfrm>
          <a:prstGeom prst="rect">
            <a:avLst/>
          </a:prstGeom>
          <a:ln w="0">
            <a:noFill/>
          </a:ln>
        </p:spPr>
      </p:pic>
      <p:pic>
        <p:nvPicPr>
          <p:cNvPr id="138" name="image026" descr=""/>
          <p:cNvPicPr/>
          <p:nvPr/>
        </p:nvPicPr>
        <p:blipFill>
          <a:blip r:embed="rId4"/>
          <a:stretch/>
        </p:blipFill>
        <p:spPr>
          <a:xfrm>
            <a:off x="2987640" y="4005360"/>
            <a:ext cx="3024360" cy="1809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6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54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9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3CC-3AE1-4EC1-8B83-B71B52EDC2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4200" y="259920"/>
            <a:ext cx="779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z adatátviteli közeg (2)</a:t>
            </a:r>
            <a:br>
              <a:rPr sz="3000"/>
            </a:br>
            <a:r>
              <a:rPr b="1" i="1" lang="hu-HU" sz="2800" spc="-1" strike="noStrike">
                <a:solidFill>
                  <a:srgbClr val="f1b60f"/>
                </a:solidFill>
                <a:latin typeface="Arial"/>
              </a:rPr>
              <a:t>Koaxiális kábel</a:t>
            </a:r>
            <a:endParaRPr b="0" lang="en-US" sz="28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040" y="2286000"/>
            <a:ext cx="7543800" cy="3657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6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54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19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7888320" cy="106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9AE-3D3C-4DAE-A108-2D5D257774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9280" y="620280"/>
            <a:ext cx="77947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 budapesti oktatási hálózat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49400" y="1844640"/>
            <a:ext cx="4984560" cy="4114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167520" y="1916280"/>
            <a:ext cx="29764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1b60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NIIF központ, Victor Hugo u., XII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…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5. BKÁE, Fővám tér 8 </a:t>
            </a:r>
            <a:br>
              <a:rPr sz="2400"/>
            </a:b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6. B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11. ELTE Puskin u. Trefort kert D. é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879-AA2F-4665-A2B6-90632AA4EE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49280" y="549000"/>
            <a:ext cx="77947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z NIIF országos hálózat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47720" y="1844640"/>
            <a:ext cx="65134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D29-6929-4837-AE62-93C3F8ADFD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49280" y="549000"/>
            <a:ext cx="77947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z NIIF országos hálózat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81280" y="1844640"/>
            <a:ext cx="57182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175-5DCA-43CF-AA27-8664F09A56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 kliens/szerver rendszer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82680" y="2065320"/>
            <a:ext cx="8493120" cy="3421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964200" y="2852640"/>
            <a:ext cx="1927440" cy="70380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Szerver folya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64200" y="4076640"/>
            <a:ext cx="1927440" cy="39888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kliens folya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8B8-D0B8-44B4-B68E-B681543087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Számítógépek a kliens/szerver hálózatban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4960" y="2293920"/>
            <a:ext cx="8340840" cy="3232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216920" y="4508640"/>
            <a:ext cx="1927080" cy="70380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Kliens számítógé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29680" y="3213000"/>
            <a:ext cx="1461960" cy="70380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Szerver számítógé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3240" y="3213000"/>
            <a:ext cx="1062000" cy="39888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hálóz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316-E0B6-4999-8ED0-D79CEBBFC5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9280" y="40428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Times New Roman"/>
              </a:rPr>
              <a:t>Alkalmazási rétege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754360" y="1989000"/>
            <a:ext cx="3257640" cy="4129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844720" y="1989000"/>
            <a:ext cx="2922840" cy="759600"/>
          </a:xfrm>
          <a:prstGeom prst="rect">
            <a:avLst/>
          </a:prstGeom>
          <a:solidFill>
            <a:srgbClr val="00ffff"/>
          </a:solidFill>
          <a:ln w="936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Megjelenítési rét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76680" y="3500280"/>
            <a:ext cx="29908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lkalmazás feldolgozási rét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76680" y="5157720"/>
            <a:ext cx="2925720" cy="796320"/>
          </a:xfrm>
          <a:prstGeom prst="rect">
            <a:avLst/>
          </a:prstGeom>
          <a:solidFill>
            <a:srgbClr val="00ffff"/>
          </a:solidFill>
          <a:ln w="936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datmenedz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rét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D6F-D1C6-43BB-BB3E-A7547A2F34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 vastag és vékony kliens (1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683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</a:t>
            </a: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vékony kliens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modellnél az összes alkalmazásfeldolgozás és adatmenedzsment a szerver oldalon történik. A kliens csak a megjelenítést végzi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</a:t>
            </a: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vastag kliens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modellnél a szerver csak az adatmenedzsment funkcióját végzi. A kliens oldali szoftver tartalmazza az alkalmazási logikát (programokat) és a felhasználóval való kapcsolattartást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12FB-7001-4F72-91C9-99E46D205D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 vastag és vékony kliens (1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46440" y="2205000"/>
            <a:ext cx="1528560" cy="1511280"/>
          </a:xfrm>
          <a:prstGeom prst="ellipse">
            <a:avLst/>
          </a:prstGeom>
          <a:solidFill>
            <a:srgbClr val="ff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46440" y="4005360"/>
            <a:ext cx="1528560" cy="1512720"/>
          </a:xfrm>
          <a:prstGeom prst="ellipse">
            <a:avLst/>
          </a:prstGeom>
          <a:solidFill>
            <a:srgbClr val="ff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46240" y="4581360"/>
            <a:ext cx="9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k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12840" y="270828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k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70320" y="2133720"/>
            <a:ext cx="2857680" cy="1608480"/>
          </a:xfrm>
          <a:prstGeom prst="rect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Sz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datmenedz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lkalmazás feldolgo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70320" y="2637000"/>
            <a:ext cx="2859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70320" y="4365720"/>
            <a:ext cx="2857680" cy="1015920"/>
          </a:xfrm>
          <a:prstGeom prst="rect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Sz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datmenedz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76440" y="2997360"/>
            <a:ext cx="1793880" cy="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08400" y="4869000"/>
            <a:ext cx="1927080" cy="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70320" y="4869000"/>
            <a:ext cx="2859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08400" y="2060640"/>
            <a:ext cx="16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megjelení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47400" y="1844280"/>
            <a:ext cx="70470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 rot="10800000">
            <a:off x="3574800" y="3644640"/>
            <a:ext cx="186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Megjelení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66"/>
                </a:solidFill>
                <a:latin typeface="Times New Roman"/>
              </a:rPr>
              <a:t>Alkalmazás feldolgo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7680" y="2637000"/>
            <a:ext cx="119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7657"/>
                </a:solidFill>
                <a:latin typeface="Times New Roman"/>
              </a:rPr>
              <a:t>Vékony kliens 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2480" y="414972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7657"/>
                </a:solidFill>
                <a:latin typeface="Times New Roman"/>
              </a:rPr>
              <a:t>Vastag kliens 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EE5-28D8-4019-B3C9-5AEE443F8C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4200" y="476280"/>
            <a:ext cx="77943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Közös perifériahasználat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2" name="computr2"/>
          <p:cNvSpPr/>
          <p:nvPr/>
        </p:nvSpPr>
        <p:spPr>
          <a:xfrm>
            <a:off x="4438800" y="3213000"/>
            <a:ext cx="1130040" cy="116208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rinter2"/>
          <p:cNvSpPr/>
          <p:nvPr/>
        </p:nvSpPr>
        <p:spPr>
          <a:xfrm>
            <a:off x="6100920" y="4437000"/>
            <a:ext cx="1670040" cy="905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scanner2"/>
          <p:cNvSpPr/>
          <p:nvPr/>
        </p:nvSpPr>
        <p:spPr>
          <a:xfrm>
            <a:off x="3906720" y="5229360"/>
            <a:ext cx="1271880" cy="401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cddrive"/>
          <p:cNvSpPr/>
          <p:nvPr/>
        </p:nvSpPr>
        <p:spPr>
          <a:xfrm>
            <a:off x="6765840" y="2421000"/>
            <a:ext cx="1446120" cy="782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computr2"/>
          <p:cNvSpPr/>
          <p:nvPr/>
        </p:nvSpPr>
        <p:spPr>
          <a:xfrm>
            <a:off x="716040" y="2276640"/>
            <a:ext cx="1130400" cy="1161720"/>
          </a:xfrm>
          <a:prstGeom prst="pi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computr2"/>
          <p:cNvSpPr/>
          <p:nvPr/>
        </p:nvSpPr>
        <p:spPr>
          <a:xfrm>
            <a:off x="2244600" y="4005360"/>
            <a:ext cx="1130400" cy="11620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computr2"/>
          <p:cNvSpPr/>
          <p:nvPr/>
        </p:nvSpPr>
        <p:spPr>
          <a:xfrm>
            <a:off x="2577960" y="2060640"/>
            <a:ext cx="1128960" cy="116208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7" idx="10"/>
            <a:endCxn id="96" idx="10"/>
          </p:cNvCxnSpPr>
          <p:nvPr/>
        </p:nvCxnSpPr>
        <p:spPr>
          <a:xfrm rot="10800000">
            <a:off x="932760" y="3125160"/>
            <a:ext cx="1742040" cy="1505520"/>
          </a:xfrm>
          <a:prstGeom prst="curvedConnector5">
            <a:avLst>
              <a:gd name="adj1" fmla="val 122137"/>
              <a:gd name="adj2" fmla="val 49988"/>
              <a:gd name="adj3" fmla="val 12213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6" idx="11"/>
            <a:endCxn id="98" idx="10"/>
          </p:cNvCxnSpPr>
          <p:nvPr/>
        </p:nvCxnSpPr>
        <p:spPr>
          <a:xfrm flipV="1">
            <a:off x="1842840" y="2685600"/>
            <a:ext cx="1192320" cy="440640"/>
          </a:xfrm>
          <a:prstGeom prst="curvedConnector5">
            <a:avLst>
              <a:gd name="adj1" fmla="val 46330"/>
              <a:gd name="adj2" fmla="val 49959"/>
              <a:gd name="adj3" fmla="val 4633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8" idx="11"/>
            <a:endCxn id="92" idx="10"/>
          </p:cNvCxnSpPr>
          <p:nvPr/>
        </p:nvCxnSpPr>
        <p:spPr>
          <a:xfrm>
            <a:off x="3773520" y="2685600"/>
            <a:ext cx="1192680" cy="1377000"/>
          </a:xfrm>
          <a:prstGeom prst="curvedConnector5">
            <a:avLst>
              <a:gd name="adj1" fmla="val 53532"/>
              <a:gd name="adj2" fmla="val 50000"/>
              <a:gd name="adj3" fmla="val 5353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2" idx="11"/>
            <a:endCxn id="97" idx="11"/>
          </p:cNvCxnSpPr>
          <p:nvPr/>
        </p:nvCxnSpPr>
        <p:spPr>
          <a:xfrm rot="5400000">
            <a:off x="4219560" y="3653640"/>
            <a:ext cx="480240" cy="192312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2" idx="12"/>
            <a:endCxn id="95" idx="4"/>
          </p:cNvCxnSpPr>
          <p:nvPr/>
        </p:nvCxnSpPr>
        <p:spPr>
          <a:xfrm flipV="1">
            <a:off x="5875200" y="2812680"/>
            <a:ext cx="1455120" cy="1249920"/>
          </a:xfrm>
          <a:prstGeom prst="curvedConnector5">
            <a:avLst>
              <a:gd name="adj1" fmla="val 55332"/>
              <a:gd name="adj2" fmla="val 49985"/>
              <a:gd name="adj3" fmla="val 5533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2" idx="13"/>
            <a:endCxn id="93" idx="12"/>
          </p:cNvCxnSpPr>
          <p:nvPr/>
        </p:nvCxnSpPr>
        <p:spPr>
          <a:xfrm>
            <a:off x="5875200" y="4061880"/>
            <a:ext cx="1627920" cy="3754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2" idx="14"/>
            <a:endCxn id="94" idx="7"/>
          </p:cNvCxnSpPr>
          <p:nvPr/>
        </p:nvCxnSpPr>
        <p:spPr>
          <a:xfrm flipH="1">
            <a:off x="5609880" y="4061880"/>
            <a:ext cx="265680" cy="1375560"/>
          </a:xfrm>
          <a:prstGeom prst="curvedConnector5">
            <a:avLst>
              <a:gd name="adj1" fmla="val -145454"/>
              <a:gd name="adj2" fmla="val 50000"/>
              <a:gd name="adj3" fmla="val -14545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505400" y="242100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0066"/>
                </a:solidFill>
                <a:latin typeface="Times New Roman"/>
              </a:rPr>
              <a:t>sz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967-778F-4489-8164-90A243C58D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49280" y="549360"/>
            <a:ext cx="77947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 vastag kliens modell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Több feldolgozást is végez a kliens, miután a teljes alkalmazás itt fut,</a:t>
            </a:r>
            <a:r>
              <a:rPr b="1" lang="en-GB" sz="2100" spc="-1" strike="noStrike">
                <a:solidFill>
                  <a:srgbClr val="f1b60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Új kliens/szerver rendszerek esetén kedvezően növelheti a rendszer teljesítményét, mivel előre ismertek a kliensek teljesítményadatai.</a:t>
            </a:r>
            <a:r>
              <a:rPr b="1" lang="en-GB" sz="2100" spc="-1" strike="noStrike">
                <a:solidFill>
                  <a:srgbClr val="f1b60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Bonyolultabb, mint a vékony kliens modell (elsősorban az adatmenedzsment szempontjából). Az alkalmazások újabb verzióit az összes kliensen külön installálni kell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71E-D36E-4C8D-9426-54C1A750C4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9280" y="692280"/>
            <a:ext cx="77947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Példa: kliens/szerver modell a</a:t>
            </a: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z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 ATM-nél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11360" y="1989000"/>
            <a:ext cx="119700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6040" y="2565360"/>
            <a:ext cx="119844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2480" y="3500280"/>
            <a:ext cx="119880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82600" y="4581360"/>
            <a:ext cx="119700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09880" y="5229360"/>
            <a:ext cx="1197000" cy="459720"/>
          </a:xfrm>
          <a:prstGeom prst="rect">
            <a:avLst/>
          </a:prstGeom>
          <a:solidFill>
            <a:srgbClr val="99cc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05360" y="2492280"/>
            <a:ext cx="3986280" cy="223200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05360" y="3213000"/>
            <a:ext cx="3986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99400" y="3213000"/>
            <a:ext cx="0" cy="1440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68840" y="2637000"/>
            <a:ext cx="30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Könyvelő sz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70520" y="3500280"/>
            <a:ext cx="20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Teleprocessing moni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99400" y="357336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Ügyfélkontó adatbáz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06920" y="2492280"/>
            <a:ext cx="1198440" cy="115272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446200" y="3933360"/>
            <a:ext cx="2524320" cy="86364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4480" y="2852640"/>
            <a:ext cx="2990880" cy="79236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14680" y="3716280"/>
            <a:ext cx="3190680" cy="7308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575160" y="4294080"/>
            <a:ext cx="1330200" cy="93528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33960" y="5334120"/>
            <a:ext cx="40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800000"/>
                </a:solidFill>
                <a:latin typeface="Arial"/>
              </a:rPr>
              <a:t>ATM:</a:t>
            </a:r>
            <a:r>
              <a:rPr b="1" lang="hu-HU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hu-HU" sz="1800" spc="-1" strike="noStrike">
                <a:solidFill>
                  <a:srgbClr val="000080"/>
                </a:solidFill>
                <a:latin typeface="Arial"/>
              </a:rPr>
              <a:t>automated teller mach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DA6-100A-44A0-84DF-1C97C9D58E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49280" y="691920"/>
            <a:ext cx="7794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Példa: kliens/szerver modell egy internetes bankszolgáltatásnál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38640" y="2637000"/>
            <a:ext cx="1927080" cy="2232000"/>
          </a:xfrm>
          <a:prstGeom prst="rect">
            <a:avLst/>
          </a:prstGeom>
          <a:solidFill>
            <a:srgbClr val="ff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38640" y="3213000"/>
            <a:ext cx="1927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38640" y="2708280"/>
            <a:ext cx="18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WEB sz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07040" y="3500280"/>
            <a:ext cx="206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Kontó szerv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(igénye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75160" y="2852640"/>
            <a:ext cx="663480" cy="505080"/>
          </a:xfrm>
          <a:prstGeom prst="line">
            <a:avLst/>
          </a:prstGeom>
          <a:ln w="38160">
            <a:solidFill>
              <a:srgbClr val="f1b60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647720" y="4221000"/>
            <a:ext cx="2657520" cy="936720"/>
          </a:xfrm>
          <a:prstGeom prst="line">
            <a:avLst/>
          </a:prstGeom>
          <a:ln w="38160">
            <a:solidFill>
              <a:srgbClr val="f1b60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46440" y="2924280"/>
            <a:ext cx="2392200" cy="576000"/>
          </a:xfrm>
          <a:prstGeom prst="line">
            <a:avLst/>
          </a:prstGeom>
          <a:ln w="38160">
            <a:solidFill>
              <a:srgbClr val="f1b60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3716280"/>
            <a:ext cx="2790720" cy="0"/>
          </a:xfrm>
          <a:prstGeom prst="line">
            <a:avLst/>
          </a:prstGeom>
          <a:ln w="38160">
            <a:solidFill>
              <a:srgbClr val="f1b60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575160" y="4508640"/>
            <a:ext cx="663480" cy="720720"/>
          </a:xfrm>
          <a:prstGeom prst="line">
            <a:avLst/>
          </a:prstGeom>
          <a:ln w="38160">
            <a:solidFill>
              <a:srgbClr val="f1b60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1360" y="1916280"/>
            <a:ext cx="1195560" cy="1152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77960" y="220500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k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6040" y="2060640"/>
            <a:ext cx="1197000" cy="1152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7520" y="3284640"/>
            <a:ext cx="1197000" cy="1152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0720" y="4653000"/>
            <a:ext cx="1197000" cy="1152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78160" y="4797360"/>
            <a:ext cx="1195200" cy="1152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6040" y="2421000"/>
            <a:ext cx="11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k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364500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k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4120" y="494172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k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78160" y="508464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k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64200" y="2637000"/>
            <a:ext cx="1927440" cy="3097080"/>
          </a:xfrm>
          <a:prstGeom prst="rect">
            <a:avLst/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67520" y="4581360"/>
            <a:ext cx="863640" cy="0"/>
          </a:xfrm>
          <a:prstGeom prst="line">
            <a:avLst/>
          </a:prstGeom>
          <a:ln w="7632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829640" y="3789360"/>
            <a:ext cx="99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Ügyfél-kontó adat-báz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31160" y="2708280"/>
            <a:ext cx="186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datbázis sz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64200" y="3573360"/>
            <a:ext cx="192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6515280" y="4520520"/>
            <a:ext cx="15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3573360"/>
            <a:ext cx="0" cy="216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5012640" y="25513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SQL lekérdez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978-C67C-4583-9F41-E590521DCD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Három szintes architektúr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49400" y="242064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21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három szintes architektúránál minden alkalmazási szint önálló processzoron kerül végrehajtásra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Jobb teljesítményadatok, mit a vékony kliensnél és egyszerűbb a menedzselése, mint a vastag kliens esetében.</a:t>
            </a:r>
            <a:r>
              <a:rPr b="1" lang="en-GB" sz="2100" spc="-1" strike="noStrike">
                <a:solidFill>
                  <a:srgbClr val="f1b60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Skálázható architektúra: újabb igények esetén újabb szint iktatható b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DEC-1C30-4BF7-9218-0BE1E1EA98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Három szintes kliens/szerver architektúr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21273000">
            <a:off x="450720" y="3068280"/>
            <a:ext cx="1330560" cy="1368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0880" y="3933720"/>
            <a:ext cx="93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7680" y="3500280"/>
            <a:ext cx="10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K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74840" y="2781360"/>
            <a:ext cx="1795680" cy="1512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74840" y="3357720"/>
            <a:ext cx="1795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76440" y="285264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sz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08400" y="3357720"/>
            <a:ext cx="16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lkalmazás feldolgoz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99280" y="2781360"/>
            <a:ext cx="1795320" cy="15127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32480" y="292428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sz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99280" y="3429000"/>
            <a:ext cx="1795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32480" y="3645000"/>
            <a:ext cx="159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datkeze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14680" y="3716280"/>
            <a:ext cx="146196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70520" y="3716280"/>
            <a:ext cx="132876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37A-30F4-41E8-9860-29D46ABE7F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14200" y="692280"/>
            <a:ext cx="779436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z OSI modell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982800" y="2232000"/>
          <a:ext cx="7445160" cy="332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2232000"/>
                    <a:ext cx="744516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6234120" y="6453360"/>
            <a:ext cx="29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Hosszú Gábor: Internetes Médiakommunikáció, LSI Oktatóközpont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6C0-7B41-4948-908A-76016CBE4FA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867280" y="4365720"/>
            <a:ext cx="2233800" cy="16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f1b60f"/>
                </a:solidFill>
                <a:latin typeface="Times New Roman"/>
              </a:rPr>
              <a:t>Az OSI modell: </a:t>
            </a:r>
            <a:r>
              <a:rPr b="1" i="1" lang="hu-HU" sz="3400" spc="-1" strike="noStrike">
                <a:solidFill>
                  <a:srgbClr val="f1b60f"/>
                </a:solidFill>
                <a:latin typeface="Times New Roman"/>
              </a:rPr>
              <a:t>példa (Tanenbaum):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332000" y="1628280"/>
            <a:ext cx="370368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900" spc="-1" strike="noStrike">
                <a:solidFill>
                  <a:srgbClr val="f1b60f"/>
                </a:solidFill>
                <a:latin typeface="Times New Roman"/>
              </a:rPr>
              <a:t>Német horgász</a:t>
            </a:r>
            <a:r>
              <a:rPr b="1" i="1" lang="hu-HU" sz="19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i="1" lang="hu-HU" sz="19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i="1" lang="hu-HU" sz="19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i="1" lang="hu-HU" sz="1900" spc="-1" strike="noStrike">
                <a:solidFill>
                  <a:srgbClr val="f1b60f"/>
                </a:solidFill>
                <a:latin typeface="Times New Roman"/>
              </a:rPr>
              <a:t>Norvég horgász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Megállapodnak, hogy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12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horgászásról fognak beszélni (alkalmazási szint)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12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angolt használnak (ábrázolási szint)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12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levélben történik (transzport szint)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12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biztonsági másolatot csinálnak (biztonsági szint)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100000"/>
              </a:lnSpc>
              <a:spcBef>
                <a:spcPts val="12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Postai átvitel (fizikai szint)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819760" y="2286000"/>
            <a:ext cx="1573200" cy="1760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2360" y="2349360"/>
            <a:ext cx="1301760" cy="1981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234120" y="6453360"/>
            <a:ext cx="29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Hosszú Gábor: Internetes Médiakommunikáció, LSI Oktatóközpont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05400" y="2492280"/>
            <a:ext cx="2062080" cy="486000"/>
          </a:xfrm>
          <a:prstGeom prst="leftRightArrow">
            <a:avLst>
              <a:gd name="adj1" fmla="val 50000"/>
              <a:gd name="adj2" fmla="val 8446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269040" y="4565520"/>
            <a:ext cx="1144440" cy="10828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324000" y="4581360"/>
            <a:ext cx="1330200" cy="113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E9E-CE67-412C-A42B-DC390F410E10}" type="slidenum">
              <a:t>26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intrnet2.jpg"/>
          <p:cNvPicPr/>
          <p:nvPr/>
        </p:nvPicPr>
        <p:blipFill>
          <a:blip r:embed="rId1"/>
          <a:stretch/>
        </p:blipFill>
        <p:spPr>
          <a:xfrm>
            <a:off x="2313000" y="1962000"/>
            <a:ext cx="3720960" cy="373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4B1-2E10-4D85-B9F5-2BEDAB1E9F06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 hálózat célja</a:t>
            </a:r>
            <a:br>
              <a:rPr sz="3000"/>
            </a:b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Terhelés elosztása (ma már alig)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Közös eszközhasználat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Más rendszereken futó programok elérése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Közös adatok használata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Információcsere földrajzilag távoli helyekről 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ADF-DF7B-4340-A918-AAFE966FAF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861480"/>
            <a:ext cx="754380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Számítógépes hálózati alakzat (topológia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84080" y="5084640"/>
            <a:ext cx="8359920" cy="7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) sín, 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b) csillag,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c) gyűrű, 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d) fa szerkeze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17680" y="2205000"/>
            <a:ext cx="8340480" cy="2857680"/>
            <a:chOff x="517680" y="2205000"/>
            <a:chExt cx="8340480" cy="2857680"/>
          </a:xfrm>
        </p:grpSpPr>
        <p:sp>
          <p:nvSpPr>
            <p:cNvPr id="112" name=""/>
            <p:cNvSpPr/>
            <p:nvPr/>
          </p:nvSpPr>
          <p:spPr>
            <a:xfrm>
              <a:off x="517680" y="2205000"/>
              <a:ext cx="8340480" cy="2857680"/>
            </a:xfrm>
            <a:prstGeom prst="rect">
              <a:avLst/>
            </a:prstGeom>
            <a:solidFill>
              <a:srgbClr val="115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658800" y="2294280"/>
            <a:ext cx="8057880" cy="2643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58800" y="2294280"/>
                      <a:ext cx="8057880" cy="264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291-AECD-4E3C-8C4A-3C18D88E9F2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5840" y="2060640"/>
            <a:ext cx="7178760" cy="338436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84080" y="2133720"/>
          <a:ext cx="7836120" cy="34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2133720"/>
                    <a:ext cx="783612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Times New Roman"/>
              </a:rPr>
              <a:t>Számítógépes hálózatok általános felépítése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34120" y="6453360"/>
            <a:ext cx="29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Hosszú Gábor: Internetes Médiakommunikáció, LSI Oktatóközpont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441-7718-4D4C-AE30-F837E377675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 lokális hálózat lehetőségei (1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197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maximális távolság (cca. 10 km)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ráköthető max. állomások (1024)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kábelezés (lehet kevert is)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átviteli szélesség (több jel együtt, vagy külön)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átviteli sebesség (16 Mbit – 500 Mbit – Gbit)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főleg gyűrű és busz szerkezet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elérési módszerek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Token eljárá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CSMA/CD technik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900" spc="-1" strike="noStrike">
                <a:solidFill>
                  <a:srgbClr val="ff6600"/>
                </a:solidFill>
                <a:latin typeface="Times New Roman"/>
              </a:rPr>
              <a:t>Token eljárás: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 egy jel (token) köröz. Akinél a token van, az kommunikálhat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900" spc="-1" strike="noStrike">
                <a:solidFill>
                  <a:srgbClr val="ff6600"/>
                </a:solidFill>
                <a:latin typeface="Times New Roman"/>
              </a:rPr>
              <a:t>CSMA/CD</a:t>
            </a:r>
            <a:r>
              <a:rPr b="1" lang="hu-HU" sz="1900" spc="-1" strike="noStrike">
                <a:solidFill>
                  <a:srgbClr val="ff6600"/>
                </a:solidFill>
                <a:latin typeface="Times New Roman"/>
              </a:rPr>
              <a:t> módszer: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 minden állomás adhat, ha szabad a vezeték. Ütközéskor ismétlé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B0A-FA9C-41A2-9EF2-0A2BA23F32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 lokális hálózat lehetőségei (2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12536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Elterjedt hálózatok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ETHERNET: koax, 10 Mbit/s, busz, CSMA/C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IBM Token Ring: telefon vagy üvegszál, 16 Mbit/s, gyűrű, tok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FDDI (Fiber Distributed Data Interface): üvegszál, 100 Mbit/s, token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6600"/>
                </a:solidFill>
                <a:latin typeface="Times New Roman"/>
              </a:rPr>
              <a:t>A lokális hálózat kiépíthető részekből is, kellenek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gépek, hálózati kártyák, kábelezés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hálózati operációs rendszerek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Legelterjedtebb a NOVE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Két azonos protokollt használó lokális hálózat összeköthető </a:t>
            </a:r>
            <a:r>
              <a:rPr b="1" i="1" lang="hu-HU" sz="1900" spc="-1" strike="noStrike">
                <a:solidFill>
                  <a:srgbClr val="f1b60f"/>
                </a:solidFill>
                <a:latin typeface="Times New Roman"/>
              </a:rPr>
              <a:t>bridge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 révén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Különbözők összeköttetésére gateway (kijelölt számítógép) kell. A </a:t>
            </a:r>
            <a:r>
              <a:rPr b="1" i="1" lang="hu-HU" sz="1900" spc="-1" strike="noStrike">
                <a:solidFill>
                  <a:srgbClr val="f1b60f"/>
                </a:solidFill>
                <a:latin typeface="Times New Roman"/>
              </a:rPr>
              <a:t>gateway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 helyett használható a </a:t>
            </a:r>
            <a:r>
              <a:rPr b="1" i="1" lang="hu-HU" sz="1900" spc="-1" strike="noStrike">
                <a:solidFill>
                  <a:srgbClr val="f1b60f"/>
                </a:solidFill>
                <a:latin typeface="Times New Roman"/>
              </a:rPr>
              <a:t>backbone (háttér) hálózat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 is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B5E-C448-4B21-BC14-2E7FC932D0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14360" y="2205000"/>
            <a:ext cx="6448680" cy="368784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861480"/>
            <a:ext cx="754380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Hálózatok összekapcsolás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76360" y="2133720"/>
          <a:ext cx="6647040" cy="1123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133720"/>
                    <a:ext cx="6647040" cy="112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234120" y="6453360"/>
            <a:ext cx="29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Hosszú Gábor: Internetes Médiakommunikáció, LSI Oktatóközpont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FB2-58E7-4E56-B4EC-1021E7C4EA2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280" y="1052640"/>
            <a:ext cx="899172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44120"/>
            <a:ext cx="754380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Példa egy összetett hálózatr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84240" y="2133720"/>
          <a:ext cx="6964200" cy="384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984240" y="2133720"/>
                    <a:ext cx="6964200" cy="38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6234120" y="6453360"/>
            <a:ext cx="29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Hosszú Gábor: Internetes Médiakommunikáció, LSI Oktatóközpont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910-5C41-4095-B716-05B1FBA1BBB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cser</cp:lastModifiedBy>
  <dcterms:modified xsi:type="dcterms:W3CDTF">2006-05-30T08:05:47Z</dcterms:modified>
  <cp:revision>69</cp:revision>
  <dc:subject/>
  <dc:title>PowerPoint bemutató</dc:title>
</cp:coreProperties>
</file>