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3.wmf" ContentType="image/x-wmf"/>
  <Override PartName="/ppt/media/image22.wmf" ContentType="image/x-wmf"/>
  <Override PartName="/ppt/media/image6.png" ContentType="image/png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4.wmf" ContentType="image/x-wmf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50E-5A47-4FD9-8FFC-102DE4C6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19D0-49A2-47A7-99A0-D19D591C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0A4-5AE1-4BAA-8C16-FCE524BA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C578-40C9-4B0C-8495-DDEFDAA8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A0CB-E235-460A-B8F2-A5EAB039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C5FC-49F6-46F1-9730-D9019E65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9EE4-AC3C-41F9-9EFB-1356F711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8DA0-78E8-4D6F-A1D2-CABE9950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0296-239E-49A2-BC70-AAB31302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B7FF-0646-45EB-8D36-63344EAD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A4F9-D64B-4BC5-AA18-D68D884C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1C6-839D-4962-AF6F-005D8885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F6C9-9215-4906-A2D9-E163902B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C6C2-227C-4258-AD14-1824D32C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010C-41A2-4634-9082-5AC11F48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7D6A-E2EA-4D57-9BDD-B03B15FC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0227-58A6-4DE9-9AC0-4F60232F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814-BEAE-4477-920A-02A6CC64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F4D-EE24-4AFD-9180-9EBE621B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D85-039F-4A3A-BB5A-6CAFC76F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465-6920-4E9D-8877-8F5F358C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6AD-B219-486C-9ED0-66AECF90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B28-FF4F-4FFA-9B6E-13247B20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B8D-7FCC-4210-B10E-DAF243C0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E3C3-68B0-41D1-A42F-AB242AC26F49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0D9A-876B-47D6-A0D0-42604AC5BFFC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BA4E-BC1A-456B-B402-BCA9C8C9F59F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DFCD-1159-4CF1-B8EB-3B82FAF1328A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nws.iif.hu/ncd2002/docs/ehu/80/" TargetMode="External"/><Relationship Id="rId2" Type="http://schemas.openxmlformats.org/officeDocument/2006/relationships/hyperlink" Target="http://nws.iif.hu/ncd2002/docs/ehu/80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8056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A gazdaságinformatika alapjai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Dr. Cser László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6. előadás: Interne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25360" y="609120"/>
            <a:ext cx="779472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Wi-Fi és WiMAX (5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0" y="2305080"/>
            <a:ext cx="3990960" cy="2705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52440" y="2362320"/>
            <a:ext cx="4360680" cy="2697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354480" y="510552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1b60f"/>
                </a:solidFill>
                <a:latin typeface="Times New Roman"/>
              </a:rPr>
              <a:t>1. és 2. fáz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2B4-1B06-41A6-B0A7-21CD63BA44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25360" y="609120"/>
            <a:ext cx="77947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Wi-Fi és WiMAX (6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03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54520" y="2286000"/>
            <a:ext cx="370368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37348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1115broad1" descr=""/>
          <p:cNvPicPr/>
          <p:nvPr/>
        </p:nvPicPr>
        <p:blipFill>
          <a:blip r:embed="rId2"/>
          <a:stretch/>
        </p:blipFill>
        <p:spPr>
          <a:xfrm>
            <a:off x="210960" y="2352600"/>
            <a:ext cx="492300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958-1047-4B98-B6AC-2DA9BD10CC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50880" y="1268280"/>
            <a:ext cx="841680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5840" y="907560"/>
            <a:ext cx="779472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Hálózati réteg: útválasztás az Interneten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84080" y="1844640"/>
          <a:ext cx="7961400" cy="348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784080" y="1844640"/>
                    <a:ext cx="796140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34120" y="645336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Hosszú Gábor: Internetes Médiakommunikáció, LSI Oktatóközpont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5084640"/>
            <a:ext cx="285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AS = Autonomous System a helyi hálózatok között azonos útválasztó protoko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C75-709C-40E6-BB33-AA06F0B08FF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861480"/>
            <a:ext cx="75438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Hálózati réteg: statikus útválaszt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84080" y="2923920"/>
            <a:ext cx="7772400" cy="144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dc5900"/>
                </a:solidFill>
                <a:latin typeface="Times New Roman"/>
              </a:rPr>
              <a:t>Legrövidebb útvonal (SP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dc5900"/>
                </a:solidFill>
                <a:latin typeface="Times New Roman"/>
              </a:rPr>
              <a:t>Véletlen útválaszt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dc5900"/>
                </a:solidFill>
                <a:latin typeface="Times New Roman"/>
              </a:rPr>
              <a:t>Eláraszt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7E3-B7A2-43E6-BBCF-385FB2567A3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lkalmazási réteg: távoli hozzáférést nyújtó alkalmazáso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773440"/>
            <a:ext cx="7543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File átvitel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(File Transmission Protocol, FTP): 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TCP-alapú protokoll, kiszolgáló és ügyfélprogram, hozzáférési jogosultság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Távoli bejelentkezés (telnet, rlogin): 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terminál emuláció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895-6A19-432C-9BC9-116524B524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320" y="1197000"/>
            <a:ext cx="8991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520" y="490680"/>
            <a:ext cx="864072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lkalmazási réteg: a levelezésnél alkalmazott protokollo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82600" y="1989000"/>
          <a:ext cx="6513480" cy="38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1989000"/>
                    <a:ext cx="65134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6234120" y="645336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Hosszú Gábor: Internetes Médiakommunikáció, LSI Oktatóközpont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33960" y="1557360"/>
            <a:ext cx="28591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SMTP = Simple Mail Transfer Protocol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POP3 = Post Office Protocol (pl. PMMAIL, Eudor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IMAP = Internet Message Protocol (titkosított kapcsolat, pl. Pi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73480" y="2565360"/>
            <a:ext cx="159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Mail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685-6151-4503-9330-24E4F202FE9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280" y="1484280"/>
            <a:ext cx="899172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4240" y="282600"/>
            <a:ext cx="883908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Hiperszöveg átviteli protokoll (HTTP) és a világháló (WWW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987560" y="1924200"/>
          <a:ext cx="5486400" cy="40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7560" y="1924200"/>
                    <a:ext cx="548640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6234120" y="645336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Hosszú Gábor: Internetes Médiakommunikáció, LSI Oktatóközpont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2360" y="2997360"/>
            <a:ext cx="217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URL = Universal Resource Loc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0040" y="4437000"/>
            <a:ext cx="3057480" cy="33732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Get http://www.bkae.hu/infoal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89D-3864-40B2-BA8F-69DF01A0A15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49280" y="836280"/>
            <a:ext cx="77947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Keresés, portálszolgáltatáso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7320" y="1844640"/>
            <a:ext cx="830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keresőgépek a legnépszerűbb és leghasznosabb Web-szolgáltatások, amelyek az Interneten való könnyebb eligazodást segítik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keresőgépek nélkül szinte lehetetlen egy meghatározott információt megtalálni a világhálón, hacsak nem tudjuk annak az oldalnak a pontos címét, amit keresünk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három típus:</a:t>
            </a:r>
            <a:r>
              <a:rPr b="0" lang="hu-H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pókok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emberi irányítású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vegy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Indexálják az Interneten található oldalakat, általában naponta vagy hetente, de sok esetben csak havonta nézik át a hálózaton található dokumentumokat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106-C478-49EC-AAEE-9AFBF724C0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web keresőeszközei és keresőszolgáltatásai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</a:t>
            </a: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böngészők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(pl.: Internet Explorer, Opera...) a felhasználó gépén működnek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</a:t>
            </a: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keresőszolgáltatások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pedig a szolgáltatók szervergépein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böngészők gyakorlatilag azt teszik lehetővé, hogy a felhasználó HTML dokumentumokat nézhessen meg a weben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http://keresogepek.lap.hu/index.htm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0F9-65CC-492E-B3D7-AFCCBCD7DF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42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 web keresőeszközei és</a:t>
            </a:r>
            <a:br>
              <a:rPr sz="2500"/>
            </a:b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keresőszolgáltatásai: </a:t>
            </a:r>
            <a:r>
              <a:rPr b="1" lang="hu-HU" sz="2500" spc="-1" strike="noStrike">
                <a:solidFill>
                  <a:srgbClr val="ff6600"/>
                </a:solidFill>
                <a:latin typeface="Times New Roman"/>
              </a:rPr>
              <a:t>Indexelőszolgáltatások ("keresőgépek")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45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7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6600"/>
                </a:solidFill>
                <a:latin typeface="Times New Roman"/>
              </a:rPr>
              <a:t>Gyűjtő- és többszörösen indexelő szolgáltatások (metakereső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7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Párhuzamos keresé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7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Eredmény-összefésülé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7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Többszörözések kezelé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7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ÉS ill. VAGY operátorok működ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7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Információveszteség nélküli működé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7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Forrásrendszer-elfedés: a felhasználónak nem kell semmit tudnia az egyes indexelő szolgáltatások speciális tulajdonságairó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7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Teljesség: a keresésnek addig kell tartania, amíg a megjelölt szolgáltatásokból találatok nyerhetők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7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6600"/>
                </a:solidFill>
                <a:latin typeface="Times New Roman"/>
              </a:rPr>
              <a:t>Internetkatalógusok ("directory"-k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EF2-DE34-4F65-A520-C77992AC08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240" y="511200"/>
            <a:ext cx="883908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Távközlési hálózaton keresztüli internetes csatlakozás összekötő vonalai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79680" y="3030120"/>
            <a:ext cx="6580080" cy="20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Kapcsolt vona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(Felügyelt) bérelt vonal (MLLN, Managed Lease Line Network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Digitális Előfizetői Vonal (DSL, Digital Subscriber Line) alapú eljáráso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C25-4B05-41CA-B226-E3B57DAF329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http://keresogepek.lap.hu/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4824360" cy="2759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81640" y="2651040"/>
            <a:ext cx="3762360" cy="217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FEF-0954-4C8F-8BE3-C368926F3C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Keresési módszerek, stratégiák (1)</a:t>
            </a:r>
            <a:br>
              <a:rPr sz="3400"/>
            </a:b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Egyedi szavakkal keresünk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Boole-operátorokat, helyzeti operátorokat használunk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"Szólánc" keresés (stringsearch): idézőjelek közé tesszük a láncot, vagy legördülő menün minősítjük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Egyes rendszerekben (pl.: AltaVista) a kis és nagybetűt is megkülönböztethetjük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Nyelvi ill. dokumentumtípus szerinti szűkítést is alkalmazhatunk egyes szolgáltatásokban (pl.: Lycos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Néhány szolgáltatás (pl.: AltaVista) ún. idézetes keresést (citation indexing) is lehetővé tesz. Megadja azokat az összetett kifejezéseket, amelyekben a keresett szó előfordul, így ezek által szűkíthetjük a keresésünket. </a:t>
            </a:r>
            <a:br>
              <a:rPr sz="2100"/>
            </a:b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891-7B45-4844-A7CC-C08FC8412B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Keresési módszerek, stratégiák (2)</a:t>
            </a:r>
            <a:br>
              <a:rPr sz="3400"/>
            </a:b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5840" y="1916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Van, ahol megadhatjuk, hogy hol kívánunk keresni: csak a HTML-címben, az összefoglalásban vagy a teljes szövegben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Bizonyos keresőkben az elvégzett keresés eredményhalmazán is végezhetünk másodlagos keresést (relevance feedback, find similar pages, related topics)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z Infoseek ún. specifikus keresést is biztosít, miszerint egy átfogó jelentésű kifejezés után ½ jellel megadhatjuk a specifikus kifejezést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fejlettebb rendszerekben azt is beállíthatjuk, hogy ellenőrizzék, hogy egyáltalán élnek-e még a talált tételek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Dátum, fájltípus vagy terület szerint is szűkíthetünk bizonyos rendszerekben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467-F43A-4C97-8EEF-0271F84A82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Egyszerű péld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4560" y="2462040"/>
            <a:ext cx="3136680" cy="2560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57680" y="2657520"/>
            <a:ext cx="3075120" cy="23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145-0AD6-4485-BD31-CAD23F26B9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5840" y="83628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Tartalomleíró és megjelenítő nyelve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289720" cy="444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Szabványos Általánosított Jelölő Nyelv (SGML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Hiperszöveg Jelölő Nyelv (HTML, HiperText Markup Languag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Kiterjeszthető Jelölő Nyelv (XML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Erőforrás Leírási Keretmű (RDF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Kiterjeszthető Hiperszöveg Jelölő Nyelv (XHTML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Összehangolt Multimédia Egybeépítési Nyelv (SMIL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Hangkiterjesztéses Jelölő Nyelv (VXML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Látszólagos Valóságot Jelölő Nyelv (VRML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láírt Irat Jelölő Nyelv (SDML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Vezetéknélküli Jelölő Nyelv (WML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0D5-2657-4B6F-BF96-E63A8CB5407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580000" y="3789360"/>
            <a:ext cx="3384720" cy="22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4240" y="480600"/>
            <a:ext cx="88390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Times New Roman"/>
              </a:rPr>
              <a:t>Valósidejű felhasználói kapcsolattart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1915920"/>
            <a:ext cx="6780240" cy="235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Párbeszéd írott alakba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Hálócsevegés (IR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ICQ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Azonnali értesíté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Internetes telefonál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8600" y="3962520"/>
            <a:ext cx="8597880" cy="2130480"/>
            <a:chOff x="228600" y="3962520"/>
            <a:chExt cx="8597880" cy="2130480"/>
          </a:xfrm>
        </p:grpSpPr>
        <p:sp>
          <p:nvSpPr>
            <p:cNvPr id="186" name=""/>
            <p:cNvSpPr/>
            <p:nvPr/>
          </p:nvSpPr>
          <p:spPr>
            <a:xfrm>
              <a:off x="228600" y="3962520"/>
              <a:ext cx="8597880" cy="21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7" name=""/>
            <p:cNvGraphicFramePr/>
            <p:nvPr/>
          </p:nvGraphicFramePr>
          <p:xfrm>
            <a:off x="478440" y="4157640"/>
            <a:ext cx="8051400" cy="173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>
                      <a:alphaModFix amt="0"/>
                    </a:blip>
                    <a:stretch/>
                  </p:blipFill>
                  <p:spPr>
                    <a:xfrm>
                      <a:off x="478440" y="4157640"/>
                      <a:ext cx="8051400" cy="173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9" name=""/>
          <p:cNvSpPr/>
          <p:nvPr/>
        </p:nvSpPr>
        <p:spPr>
          <a:xfrm>
            <a:off x="6234120" y="645336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Hosszú Gábor: Internetes Médiakommunikáció, LSI Oktatóközpont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248-8867-4B76-B959-2331871A0FD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89917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4240" y="282600"/>
            <a:ext cx="883908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Times New Roman"/>
              </a:rPr>
              <a:t>A sávszélesség szerepe az internetes szolgáltatásokban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47920" y="1916280"/>
          <a:ext cx="6448320" cy="381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447920" y="1916280"/>
                    <a:ext cx="64483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234120" y="645336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Hosszú Gábor: Internetes Médiakommunikáció, LSI Oktatóközpont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BD7-B1EA-4F44-A64D-E983A4A54DC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880" y="62028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Rendelkezési jogosultságok szoftvereknél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75760" cy="439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6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Köztulajdonú (public domain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1b60f"/>
                </a:solidFill>
                <a:latin typeface="Times New Roman"/>
              </a:rPr>
              <a:t>korlátlanul továbbadhat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Ingyenes (freeware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1b60f"/>
                </a:solidFill>
                <a:latin typeface="Times New Roman"/>
              </a:rPr>
              <a:t>ingyen használható, de jogvédett, a továbbadás vagy a módosítás esetleg korlátoz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Részjogú (shareware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1b60f"/>
                </a:solidFill>
                <a:latin typeface="Times New Roman"/>
              </a:rPr>
              <a:t>a vásárlás előtti kipróbálásra szolg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Vegyes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1b60f"/>
                </a:solidFill>
                <a:latin typeface="Times New Roman"/>
              </a:rPr>
              <a:t>egyének és a nem-haszoncélú (non-profit) szervezetek ingyen kapj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1b60f"/>
                </a:solidFill>
                <a:latin typeface="Times New Roman"/>
              </a:rPr>
              <a:t>a haszoncélú szervezeteknek meg kell vásárol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887-A47D-4F21-AADF-752DC934454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Részletesebben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76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1b60f"/>
                </a:solidFill>
                <a:latin typeface="Times New Roman"/>
              </a:rPr>
              <a:t>Dr. Hosszú Gábor: </a:t>
            </a: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Internetes médiakommunikáció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600" spc="-1" strike="noStrike">
                <a:solidFill>
                  <a:srgbClr val="ffffff"/>
                </a:solidFill>
                <a:latin typeface="Times New Roman"/>
              </a:rPr>
              <a:t>LSI Oktatóközpont, </a:t>
            </a:r>
            <a:r>
              <a:rPr b="1" lang="hu-HU" sz="2600" spc="-1" strike="noStrike">
                <a:solidFill>
                  <a:srgbClr val="f1b60f"/>
                </a:solidFill>
                <a:latin typeface="Times New Roman"/>
              </a:rPr>
              <a:t>Budapest, 2001</a:t>
            </a: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1b60f"/>
                </a:solidFill>
                <a:latin typeface="Times New Roman"/>
              </a:rPr>
              <a:t>Tudásreprezentáció a Weben</a:t>
            </a:r>
            <a:r>
              <a:rPr b="1" lang="hu-H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600" spc="-1" strike="noStrike" u="sng">
                <a:solidFill>
                  <a:srgbClr val="ff6600"/>
                </a:solidFill>
                <a:uFillTx/>
                <a:latin typeface="Times New Roman"/>
                <a:hlinkClick r:id="rId1"/>
              </a:rPr>
              <a:t>http://nws.iif.hu/ncd2002/docs/ehu/80</a:t>
            </a:r>
            <a:r>
              <a:rPr b="0" lang="hu-HU" sz="2100" spc="-1" strike="noStrike" u="sng">
                <a:solidFill>
                  <a:srgbClr val="ff6600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Arial,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Arial,Bold"/>
              </a:rPr>
              <a:t>Steve Prentice: The Future of IT: Part 1 Technology Trends, Gartn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5C0-6208-4B69-AEF1-1A13DC9781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861480"/>
            <a:ext cx="75438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DSL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2800" y="1844280"/>
            <a:ext cx="7161120" cy="4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z </a:t>
            </a: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ADSL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eljárással elérhető adatsebesség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-612720" y="2781360"/>
          <a:ext cx="10236240" cy="259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12720" y="2781360"/>
                    <a:ext cx="102362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414-FEC5-4C1B-B62B-EE6DAC8CB9D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49240" y="1989000"/>
            <a:ext cx="69138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81280" y="1989000"/>
          <a:ext cx="6053040" cy="367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781280" y="1989000"/>
                    <a:ext cx="605304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52760" y="684360"/>
            <a:ext cx="530064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z ADSL alapú átvitel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34120" y="645336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Hosszú Gábor: Internetes Médiakommunikáció, LSI Oktatóközpont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53240" y="2209680"/>
            <a:ext cx="210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DSLAM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DSL Access Multiplex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4680" y="2205000"/>
            <a:ext cx="1196640" cy="812520"/>
          </a:xfrm>
          <a:prstGeom prst="rect">
            <a:avLst/>
          </a:prstGeom>
          <a:solidFill>
            <a:srgbClr val="00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ADS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felhasznál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5D2-8E6F-4241-BE92-3AF2A90EE9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4200" y="620280"/>
            <a:ext cx="77943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TCP/IP</a:t>
            </a:r>
            <a:br>
              <a:rPr sz="2500"/>
            </a:b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(Transmission Control Protocol/Internet Protocol)</a:t>
            </a:r>
            <a:endParaRPr b="0" lang="en-US" sz="21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0720" y="2133720"/>
          <a:ext cx="538488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2133720"/>
                    <a:ext cx="538488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237280" y="1989000"/>
            <a:ext cx="390672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Hálózat elérési réteg: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kapcsolat a csomópontok közötti hálózati struktúrával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Hálózati (INTERNET) réteg: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a csomagok útválasztása (IP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Szállítási réteg: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átvitel szabályozá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Alkalmazási réteg: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felhasználói és hálózati kapcsol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6CF-7DF3-4C0B-A6E2-B55395D0EC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Wi-Fi és WiMAX (1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7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WiFi eszköz rádióhullámon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 (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ISM-sáv Instrumentation, Scientific, and Medical)  kommunikál egy másik WiFi eszközz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Sebessége: 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54 Mbps (16-17 Mbps a valóságban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 - 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802.11g )</a:t>
            </a:r>
            <a:r>
              <a:rPr b="1" lang="de-DE" sz="2000" spc="-1" strike="noStrike">
                <a:solidFill>
                  <a:srgbClr val="f1b60f"/>
                </a:solidFill>
                <a:latin typeface="Symbol"/>
                <a:ea typeface="Symbol"/>
              </a:rPr>
              <a:t>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otthoni ADSL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: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512Kbps(letöltés)/256Kbps(feltöltés) (64KB/sec le- és 32KB/sec feltöltés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minél távolabb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van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a sugárzó egység (amely az adatokat továbbítja), annál rosszabb minőségű a kapcsolat (csökkenő sebesség, elvesző adatok). A legtöbb WiFi eszköz optikai rálátást igényel a megfelelő működéshez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64120" y="2178000"/>
            <a:ext cx="4079880" cy="33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DCC-D083-4E8C-A583-35F65E77B2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5438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Wi-Fi és WiMAX (2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268280"/>
            <a:ext cx="42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vezetéknélküli helyi hálózat (Wireless Local Area Network - WLAN)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: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d-hoc mód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(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kliensek közvetlenül egymással kommunikálnak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infrastruktúra mód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 (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kliensgépek egy AP-n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- 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ccess-point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/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központi egység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 -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keresztül tartják a kapcsolatot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)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.</a:t>
            </a:r>
            <a:r>
              <a:rPr b="0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Root mód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1b60f"/>
                </a:solidFill>
                <a:latin typeface="Times New Roman"/>
              </a:rPr>
              <a:t>Az </a:t>
            </a:r>
            <a:r>
              <a:rPr b="0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P egy vezetékes hálózathoz kapcsolódik, átjárást biztosítva a vezetéknélküli klienseknek ehhez a hálózathoz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38640" y="1814400"/>
            <a:ext cx="4005360" cy="39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8CA-A585-4BCC-8E0C-D76F4A7A96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Wi-Fi és WiMAX (3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42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200" spc="-1" strike="noStrike">
              <a:solidFill>
                <a:srgbClr val="f1b60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6076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img3" descr="\includegraphics{pics/wifi_alapok_03}"/>
          <p:cNvPicPr/>
          <p:nvPr/>
        </p:nvPicPr>
        <p:blipFill>
          <a:blip r:embed="rId1"/>
          <a:stretch/>
        </p:blipFill>
        <p:spPr>
          <a:xfrm>
            <a:off x="5275440" y="1752480"/>
            <a:ext cx="349560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8144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img2" descr="\includegraphics{pics/wifi_alapok_02}"/>
          <p:cNvPicPr/>
          <p:nvPr/>
        </p:nvPicPr>
        <p:blipFill>
          <a:blip r:embed="rId2"/>
          <a:stretch/>
        </p:blipFill>
        <p:spPr>
          <a:xfrm>
            <a:off x="2181240" y="2209680"/>
            <a:ext cx="1581120" cy="1209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5296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img1" descr="\includegraphics{pics/wifi_alapok_01}"/>
          <p:cNvPicPr/>
          <p:nvPr/>
        </p:nvPicPr>
        <p:blipFill>
          <a:blip r:embed="rId3"/>
          <a:stretch/>
        </p:blipFill>
        <p:spPr>
          <a:xfrm>
            <a:off x="1617840" y="3809880"/>
            <a:ext cx="2638080" cy="1809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152480" y="4952880"/>
            <a:ext cx="1344960" cy="82548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Wi-F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liens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75440" y="3962520"/>
            <a:ext cx="1158840" cy="70380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Tűzf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sz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74760" y="3352680"/>
            <a:ext cx="1344960" cy="82548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ábe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liens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2320" y="2362320"/>
            <a:ext cx="1110240" cy="70380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ábe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mod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88720" y="1828800"/>
            <a:ext cx="2478960" cy="45972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Internet hálóz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82080" y="4114800"/>
            <a:ext cx="560160" cy="45972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8A5-6F7F-42B7-B9A0-EF9394CAEB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25360" y="609120"/>
            <a:ext cx="77947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Wi-Fi és WiMAX (4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03440" y="2017440"/>
            <a:ext cx="429552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Repeater módban egy AP nem a vezetékes hálózathoz kapcsólódik, hanem egy másik (Root módú) AP-hoz (esetleg egy másik Repeaterhez). Ilyen esetben az AP teljesítménye csökken, így csak akkor használják, ha feltétlenül szükséges (például távolság áthidalására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38640" y="2017800"/>
            <a:ext cx="400536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2BE-D02F-4DB2-B622-A20BEA5D50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cser</cp:lastModifiedBy>
  <dcterms:modified xsi:type="dcterms:W3CDTF">2006-05-29T19:37:53Z</dcterms:modified>
  <cp:revision>68</cp:revision>
  <dc:subject/>
  <dc:title>PowerPoint bemutató</dc:title>
</cp:coreProperties>
</file>