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D4C2-0A7F-478E-BC38-7D2509BD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A0BF-AB61-4025-868E-6F9DB3C2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1FB5-2F74-4B7E-A591-649FABB0C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5A2A-A142-4651-9C95-BB56C8015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3054-E6C3-4D26-8378-E18B7EEB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EA1B-5C17-4183-90B6-99F75E96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FC98-CACA-4EE7-8A12-86485DDE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C141-9FAA-4D1A-A525-25FB890D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2A6F-D9DB-460D-920E-B81EFF8A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1142-15DE-4246-B9D0-15809CF9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7932-F73C-4A73-94B9-90D39BC8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415F-972E-4075-82EF-809C1AE7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CAF3-ADB6-4AF9-AB06-0F929602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5424-F72B-4C74-A900-937980D1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0385-2214-4568-BA50-D88416F5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652B-173F-4F8B-AF25-EF6CB308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906C-AA05-4CE0-B569-7249E08D8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B188-0269-41F8-9DC2-2335FEA0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C0C3-1304-4AE8-9BB7-3BB00299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A60B-A84F-45D8-8B8B-5D21C1DC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C184-35CF-4553-9DE8-9355D19E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9181-9AFF-4066-B932-EE60515B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B43E-6111-41B8-9031-76CD6E95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BEB1-E693-4B41-91D7-B1145400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06B4-A303-45D4-9167-6B2579EEDA0B}" type="datetime">
              <a:rPr b="0" lang="hu-HU" sz="1400" spc="-1" strike="noStrike">
                <a:solidFill>
                  <a:srgbClr val="ffffff"/>
                </a:solidFill>
                <a:latin typeface="Arial"/>
              </a:rPr>
              <a:t>26.07.28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71C5-4BD9-4EC4-B7BC-301F13FBA6DB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179280" y="5888160"/>
            <a:ext cx="1801800" cy="92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964F-73D2-4A42-91CB-20BFC0483642}" type="datetime">
              <a:rPr b="0" lang="hu-HU" sz="1400" spc="-1" strike="noStrike">
                <a:solidFill>
                  <a:srgbClr val="ffffff"/>
                </a:solidFill>
                <a:latin typeface="Arial"/>
              </a:rPr>
              <a:t>26.07.28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46E4-1DF2-426C-A5B8-B415536E82FC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76720" y="4508640"/>
            <a:ext cx="2952720" cy="1512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1052640"/>
            <a:ext cx="8056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800" spc="-1" strike="noStrike">
                <a:solidFill>
                  <a:srgbClr val="f1b60f"/>
                </a:solidFill>
                <a:latin typeface="Arial"/>
              </a:rPr>
              <a:t>A gazdaságinformatika alapjai</a:t>
            </a:r>
            <a:br>
              <a:rPr sz="3800"/>
            </a:br>
            <a:br>
              <a:rPr sz="3800"/>
            </a:br>
            <a:r>
              <a:rPr b="1" lang="hu-HU" sz="3800" spc="-1" strike="noStrike">
                <a:solidFill>
                  <a:srgbClr val="f1b60f"/>
                </a:solidFill>
                <a:latin typeface="Arial"/>
              </a:rPr>
              <a:t>Dr. Cser László</a:t>
            </a:r>
            <a:br>
              <a:rPr sz="3800"/>
            </a:br>
            <a:br>
              <a:rPr sz="3800"/>
            </a:br>
            <a:r>
              <a:rPr b="1" lang="hu-HU" sz="3800" spc="-1" strike="noStrike">
                <a:solidFill>
                  <a:srgbClr val="f1b60f"/>
                </a:solidFill>
                <a:latin typeface="Arial"/>
              </a:rPr>
              <a:t>9. előadás: Alapfogalmak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800" spc="-1" strike="noStrike">
                <a:solidFill>
                  <a:srgbClr val="f1b60f"/>
                </a:solidFill>
                <a:latin typeface="Arial"/>
              </a:rPr>
              <a:t>Grafikus adatmodellek</a:t>
            </a:r>
            <a:br>
              <a:rPr sz="3800"/>
            </a:br>
            <a:r>
              <a:rPr b="1" lang="hu-HU" sz="3800" spc="-1" strike="noStrike">
                <a:solidFill>
                  <a:srgbClr val="f1b60f"/>
                </a:solidFill>
                <a:latin typeface="Arial"/>
              </a:rPr>
              <a:t>Az objektumok definiálása</a:t>
            </a: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95640" y="1836720"/>
            <a:ext cx="5761080" cy="3753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580000" y="5805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Forrás: Detrekői – Szabó (2002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B192-A188-41D5-9936-E69256D0EF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800" spc="-1" strike="noStrike">
                <a:solidFill>
                  <a:srgbClr val="f1b60f"/>
                </a:solidFill>
                <a:latin typeface="Arial"/>
              </a:rPr>
              <a:t>Grafikus adatmodellek</a:t>
            </a:r>
            <a:br>
              <a:rPr sz="3800"/>
            </a:br>
            <a:r>
              <a:rPr b="1" lang="hu-HU" sz="3800" spc="-1" strike="noStrike">
                <a:solidFill>
                  <a:srgbClr val="f1b60f"/>
                </a:solidFill>
                <a:latin typeface="Arial"/>
              </a:rPr>
              <a:t>Az objektumok típusai</a:t>
            </a: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476360" y="2052720"/>
            <a:ext cx="6558480" cy="3418920"/>
            <a:chOff x="1476360" y="2052720"/>
            <a:chExt cx="6558480" cy="3418920"/>
          </a:xfrm>
        </p:grpSpPr>
        <p:grpSp>
          <p:nvGrpSpPr>
            <p:cNvPr id="112" name=""/>
            <p:cNvGrpSpPr/>
            <p:nvPr/>
          </p:nvGrpSpPr>
          <p:grpSpPr>
            <a:xfrm>
              <a:off x="1874880" y="2385000"/>
              <a:ext cx="1011240" cy="753120"/>
              <a:chOff x="1874880" y="2385000"/>
              <a:chExt cx="1011240" cy="753120"/>
            </a:xfrm>
          </p:grpSpPr>
          <p:sp>
            <p:nvSpPr>
              <p:cNvPr id="113" name=""/>
              <p:cNvSpPr/>
              <p:nvPr/>
            </p:nvSpPr>
            <p:spPr>
              <a:xfrm>
                <a:off x="1874880" y="2385000"/>
                <a:ext cx="66240" cy="66240"/>
              </a:xfrm>
              <a:prstGeom prst="flowChartConnector">
                <a:avLst/>
              </a:prstGeom>
              <a:solidFill>
                <a:srgbClr val="ff33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1080" bIns="1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089440" y="2728440"/>
                <a:ext cx="796680" cy="409680"/>
              </a:xfrm>
              <a:prstGeom prst="borderCallout1">
                <a:avLst>
                  <a:gd name="adj1" fmla="val 18750"/>
                  <a:gd name="adj2" fmla="val -8333"/>
                  <a:gd name="adj3" fmla="val -59375"/>
                  <a:gd name="adj4" fmla="val -23787"/>
                </a:avLst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75"/>
                  </a:spcBef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100" spc="-1" strike="noStrike">
                    <a:solidFill>
                      <a:srgbClr val="ffffff"/>
                    </a:solidFill>
                    <a:latin typeface="Arial"/>
                  </a:rPr>
                  <a:t>pont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275"/>
                  </a:spcBef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476360" y="3980160"/>
              <a:ext cx="1624320" cy="1033920"/>
              <a:chOff x="1476360" y="3980160"/>
              <a:chExt cx="1624320" cy="1033920"/>
            </a:xfrm>
          </p:grpSpPr>
          <p:sp>
            <p:nvSpPr>
              <p:cNvPr id="116" name=""/>
              <p:cNvSpPr/>
              <p:nvPr/>
            </p:nvSpPr>
            <p:spPr>
              <a:xfrm>
                <a:off x="1476360" y="4349880"/>
                <a:ext cx="1195560" cy="6642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303640" y="3980160"/>
                <a:ext cx="797040" cy="410040"/>
              </a:xfrm>
              <a:prstGeom prst="borderCallout1">
                <a:avLst>
                  <a:gd name="adj1" fmla="val 18750"/>
                  <a:gd name="adj2" fmla="val -8333"/>
                  <a:gd name="adj3" fmla="val 128648"/>
                  <a:gd name="adj4" fmla="val -37328"/>
                </a:avLst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75"/>
                  </a:spcBef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100" spc="-1" strike="noStrike">
                    <a:solidFill>
                      <a:srgbClr val="ffffff"/>
                    </a:solidFill>
                    <a:latin typeface="Arial"/>
                  </a:rPr>
                  <a:t>vonal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3415680" y="2468880"/>
              <a:ext cx="1686600" cy="1502280"/>
              <a:chOff x="3415680" y="2468880"/>
              <a:chExt cx="1686600" cy="1502280"/>
            </a:xfrm>
          </p:grpSpPr>
          <p:sp>
            <p:nvSpPr>
              <p:cNvPr id="119" name=""/>
              <p:cNvSpPr/>
              <p:nvPr/>
            </p:nvSpPr>
            <p:spPr>
              <a:xfrm>
                <a:off x="3415680" y="3159720"/>
                <a:ext cx="1118160" cy="811440"/>
              </a:xfrm>
              <a:custGeom>
                <a:avLst/>
                <a:gdLst/>
                <a:ahLst/>
                <a:rect l="l" t="t" r="r" b="b"/>
                <a:pathLst>
                  <a:path w="816" h="586">
                    <a:moveTo>
                      <a:pt x="88" y="55"/>
                    </a:moveTo>
                    <a:cubicBezTo>
                      <a:pt x="71" y="194"/>
                      <a:pt x="45" y="343"/>
                      <a:pt x="0" y="477"/>
                    </a:cubicBezTo>
                    <a:cubicBezTo>
                      <a:pt x="56" y="535"/>
                      <a:pt x="7" y="497"/>
                      <a:pt x="100" y="522"/>
                    </a:cubicBezTo>
                    <a:cubicBezTo>
                      <a:pt x="341" y="586"/>
                      <a:pt x="100" y="535"/>
                      <a:pt x="255" y="566"/>
                    </a:cubicBezTo>
                    <a:cubicBezTo>
                      <a:pt x="303" y="562"/>
                      <a:pt x="352" y="561"/>
                      <a:pt x="400" y="555"/>
                    </a:cubicBezTo>
                    <a:cubicBezTo>
                      <a:pt x="431" y="551"/>
                      <a:pt x="448" y="532"/>
                      <a:pt x="477" y="522"/>
                    </a:cubicBezTo>
                    <a:cubicBezTo>
                      <a:pt x="544" y="500"/>
                      <a:pt x="711" y="474"/>
                      <a:pt x="755" y="466"/>
                    </a:cubicBezTo>
                    <a:cubicBezTo>
                      <a:pt x="762" y="448"/>
                      <a:pt x="776" y="431"/>
                      <a:pt x="777" y="411"/>
                    </a:cubicBezTo>
                    <a:cubicBezTo>
                      <a:pt x="790" y="26"/>
                      <a:pt x="816" y="102"/>
                      <a:pt x="444" y="89"/>
                    </a:cubicBezTo>
                    <a:cubicBezTo>
                      <a:pt x="383" y="72"/>
                      <a:pt x="342" y="53"/>
                      <a:pt x="277" y="44"/>
                    </a:cubicBezTo>
                    <a:cubicBezTo>
                      <a:pt x="228" y="20"/>
                      <a:pt x="186" y="11"/>
                      <a:pt x="133" y="0"/>
                    </a:cubicBezTo>
                    <a:cubicBezTo>
                      <a:pt x="122" y="7"/>
                      <a:pt x="108" y="12"/>
                      <a:pt x="100" y="22"/>
                    </a:cubicBezTo>
                    <a:cubicBezTo>
                      <a:pt x="93" y="31"/>
                      <a:pt x="88" y="55"/>
                      <a:pt x="88" y="55"/>
                    </a:cubicBezTo>
                    <a:close/>
                  </a:path>
                </a:pathLst>
              </a:custGeom>
              <a:solidFill>
                <a:srgbClr val="3366ff"/>
              </a:solidFill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96840" y="2468880"/>
                <a:ext cx="505440" cy="409680"/>
              </a:xfrm>
              <a:prstGeom prst="borderCallout1">
                <a:avLst>
                  <a:gd name="adj1" fmla="val 18750"/>
                  <a:gd name="adj2" fmla="val -8333"/>
                  <a:gd name="adj3" fmla="val 149050"/>
                  <a:gd name="adj4" fmla="val -66759"/>
                </a:avLst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30600" bIns="306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75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100" spc="-1" strike="noStrike">
                    <a:solidFill>
                      <a:srgbClr val="000000"/>
                    </a:solidFill>
                    <a:latin typeface="Arial"/>
                  </a:rPr>
                  <a:t>Felület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4482720" y="2052720"/>
              <a:ext cx="3552120" cy="2536560"/>
              <a:chOff x="4482720" y="2052720"/>
              <a:chExt cx="3552120" cy="253656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6706800" y="2052720"/>
                <a:ext cx="1328040" cy="1403640"/>
                <a:chOff x="6706800" y="2052720"/>
                <a:chExt cx="1328040" cy="14036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7371000" y="2617560"/>
                  <a:ext cx="110520" cy="14076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481520" y="2617560"/>
                  <a:ext cx="110520" cy="14076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592400" y="2617560"/>
                  <a:ext cx="110160" cy="14076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702920" y="2617560"/>
                  <a:ext cx="110520" cy="14076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813440" y="2617560"/>
                  <a:ext cx="110520" cy="14076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924320" y="2617560"/>
                  <a:ext cx="110520" cy="14076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371000" y="275868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7481520" y="275868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592400" y="2758680"/>
                  <a:ext cx="11016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7702920" y="275868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813440" y="275868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924320" y="275868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371000" y="289980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7481520" y="289980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592400" y="2899800"/>
                  <a:ext cx="11016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7702920" y="289980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7813440" y="289980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924320" y="289980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371000" y="304128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481520" y="304128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592400" y="3041280"/>
                  <a:ext cx="11016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02920" y="304128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813440" y="304128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924320" y="304128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71000" y="205272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481520" y="205272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92400" y="2052720"/>
                  <a:ext cx="11016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702920" y="205272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813440" y="205272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924320" y="205272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371000" y="2193840"/>
                  <a:ext cx="110520" cy="141120"/>
                </a:xfrm>
                <a:prstGeom prst="rect">
                  <a:avLst/>
                </a:prstGeom>
                <a:solidFill>
                  <a:srgbClr val="3366ff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481520" y="219384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592400" y="2193840"/>
                  <a:ext cx="11016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702920" y="219384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813440" y="219384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924320" y="219384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371000" y="233496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481520" y="2334960"/>
                  <a:ext cx="110520" cy="141120"/>
                </a:xfrm>
                <a:prstGeom prst="rect">
                  <a:avLst/>
                </a:prstGeom>
                <a:solidFill>
                  <a:srgbClr val="3366ff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592400" y="2334960"/>
                  <a:ext cx="11016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702920" y="233496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813440" y="233496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924320" y="233496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371000" y="2476440"/>
                  <a:ext cx="110520" cy="141120"/>
                </a:xfrm>
                <a:prstGeom prst="rect">
                  <a:avLst/>
                </a:prstGeom>
                <a:solidFill>
                  <a:srgbClr val="3366ff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481520" y="247644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592400" y="2476440"/>
                  <a:ext cx="11016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7702920" y="247644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813440" y="247644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924320" y="247644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706800" y="2617560"/>
                  <a:ext cx="110520" cy="14076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817320" y="2617560"/>
                  <a:ext cx="110520" cy="14076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928200" y="2617560"/>
                  <a:ext cx="110520" cy="14076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038720" y="2617560"/>
                  <a:ext cx="110160" cy="14076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149240" y="2617560"/>
                  <a:ext cx="110520" cy="14076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260120" y="2617560"/>
                  <a:ext cx="110520" cy="140760"/>
                </a:xfrm>
                <a:prstGeom prst="rect">
                  <a:avLst/>
                </a:prstGeom>
                <a:solidFill>
                  <a:srgbClr val="3366ff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706800" y="275868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817320" y="275868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928200" y="275868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038720" y="2758680"/>
                  <a:ext cx="11016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149240" y="275868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260120" y="2758680"/>
                  <a:ext cx="110520" cy="141120"/>
                </a:xfrm>
                <a:prstGeom prst="rect">
                  <a:avLst/>
                </a:prstGeom>
                <a:solidFill>
                  <a:srgbClr val="3366ff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706800" y="289980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817320" y="289980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928200" y="289980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038720" y="2899800"/>
                  <a:ext cx="11016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149240" y="289980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260120" y="289980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6706800" y="304128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817320" y="304128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928200" y="304128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038720" y="3041280"/>
                  <a:ext cx="11016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149240" y="304128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260120" y="3041280"/>
                  <a:ext cx="110520" cy="141120"/>
                </a:xfrm>
                <a:prstGeom prst="rect">
                  <a:avLst/>
                </a:prstGeom>
                <a:solidFill>
                  <a:srgbClr val="3366ff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706800" y="205272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817320" y="205272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6928200" y="205272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038720" y="2052720"/>
                  <a:ext cx="11016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149240" y="205272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260120" y="205272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6706800" y="219384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817320" y="219384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928200" y="219384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038720" y="2193840"/>
                  <a:ext cx="11016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149240" y="2193840"/>
                  <a:ext cx="110520" cy="141120"/>
                </a:xfrm>
                <a:prstGeom prst="rect">
                  <a:avLst/>
                </a:prstGeom>
                <a:solidFill>
                  <a:srgbClr val="3366ff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260120" y="2193840"/>
                  <a:ext cx="110520" cy="141120"/>
                </a:xfrm>
                <a:prstGeom prst="rect">
                  <a:avLst/>
                </a:prstGeom>
                <a:solidFill>
                  <a:srgbClr val="3366ff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706800" y="233496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6817320" y="233496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928200" y="233496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038720" y="2334960"/>
                  <a:ext cx="110160" cy="141120"/>
                </a:xfrm>
                <a:prstGeom prst="rect">
                  <a:avLst/>
                </a:prstGeom>
                <a:solidFill>
                  <a:srgbClr val="3366ff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149240" y="233496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260120" y="233496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706800" y="247644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6817320" y="247644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928200" y="247644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038720" y="2476440"/>
                  <a:ext cx="11016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149240" y="247644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260120" y="247644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371000" y="317412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481520" y="317412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592400" y="3174120"/>
                  <a:ext cx="11016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702920" y="317412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813440" y="317412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924320" y="317412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371000" y="331524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81520" y="331524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592400" y="3315240"/>
                  <a:ext cx="11016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702920" y="331524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813440" y="331524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924320" y="331524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06800" y="317412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817320" y="317412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928200" y="317412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038720" y="3174120"/>
                  <a:ext cx="11016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149240" y="317412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260120" y="317412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706800" y="331524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817320" y="331524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928200" y="331524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038720" y="3315240"/>
                  <a:ext cx="11016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149240" y="331524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260120" y="3315240"/>
                  <a:ext cx="110520" cy="1411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3" name=""/>
              <p:cNvSpPr/>
              <p:nvPr/>
            </p:nvSpPr>
            <p:spPr>
              <a:xfrm>
                <a:off x="4482720" y="4179600"/>
                <a:ext cx="2356560" cy="409680"/>
              </a:xfrm>
              <a:prstGeom prst="borderCallout1">
                <a:avLst>
                  <a:gd name="adj1" fmla="val 18750"/>
                  <a:gd name="adj2" fmla="val -8333"/>
                  <a:gd name="adj3" fmla="val -266893"/>
                  <a:gd name="adj4" fmla="val 120199"/>
                </a:avLst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75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esszelációs felület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6048720" y="4131720"/>
              <a:ext cx="1801440" cy="1339920"/>
              <a:chOff x="6048720" y="4131720"/>
              <a:chExt cx="1801440" cy="1339920"/>
            </a:xfrm>
          </p:grpSpPr>
          <p:sp>
            <p:nvSpPr>
              <p:cNvPr id="245" name=""/>
              <p:cNvSpPr/>
              <p:nvPr/>
            </p:nvSpPr>
            <p:spPr>
              <a:xfrm>
                <a:off x="6986880" y="4131720"/>
                <a:ext cx="863280" cy="398520"/>
              </a:xfrm>
              <a:prstGeom prst="rect">
                <a:avLst/>
              </a:prstGeom>
              <a:solidFill>
                <a:srgbClr val="66cc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048720" y="5061960"/>
                <a:ext cx="1004760" cy="409680"/>
              </a:xfrm>
              <a:prstGeom prst="borderCallout1">
                <a:avLst>
                  <a:gd name="adj1" fmla="val 18750"/>
                  <a:gd name="adj2" fmla="val -8333"/>
                  <a:gd name="adj3" fmla="val -124662"/>
                  <a:gd name="adj4" fmla="val 137189"/>
                </a:avLst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0840" rIns="60840" tIns="30600" bIns="306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75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3D test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7894-97F1-4D65-A619-63AEA74918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A térinformatikai rendszerek hardver eszközei 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116000" y="1905120"/>
            <a:ext cx="7128000" cy="325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00F8-42CF-43BA-8CB2-68E94FFFE8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f1b60f"/>
                </a:solidFill>
                <a:latin typeface="Arial"/>
              </a:rPr>
              <a:t>Térinformációs rendszerek területi kiterjedésének és az adatnyerési módszerek kapcsolata </a:t>
            </a:r>
            <a:endParaRPr b="0" lang="en-US" sz="34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124000" y="1989000"/>
            <a:ext cx="5184720" cy="42498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84720" y="6308640"/>
            <a:ext cx="244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Forrás: Detrekői – Szabó (2002)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F7CB-3680-4E56-8C4F-152307801A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Geometriai és szakadatok kezelésének integrált rendszere 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286000" y="1844640"/>
            <a:ext cx="5310360" cy="43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3920-FC1A-4905-925C-3BAF420ACE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1b60f"/>
                </a:solidFill>
                <a:latin typeface="Arial"/>
              </a:rPr>
              <a:t>Országos mezőgazdasági térinformatikai rendszerek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54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A hatósági nyilvántartások,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Térinformatikai rendszerek,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A honvédelmi és rendvédelmi tevékenység,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A helyi önkormányzatok feladatai, illetve településfejlesztési és településrendezési, vagyon-nyilvántartási, információs és településirányítási tevékenység,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A közlekedési, a hírközlési, a vízgazdálkodási tevékenység,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Az infrastruktúra-fejlesztés,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Az agrár-és térségfejlesztési tevékenység,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A természet-és környezetvédelmi tevékenység,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A bányászati szakigazgatás által elrendelt térképészeti tevékenységek, geológiai nyilvántartások,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Adózási célú feladatok térbeli térképi referenciájaként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A meglévő térképállományt folyamatosan fel kell újítani, a fel nem újítható térképek helyett újakat kell készíteni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7174-2D37-4C12-BAE2-BA881DE403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1052640"/>
            <a:ext cx="8056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800" spc="-1" strike="noStrike">
                <a:solidFill>
                  <a:srgbClr val="f1b60f"/>
                </a:solidFill>
                <a:latin typeface="Arial"/>
              </a:rPr>
              <a:t>A gazdaságinformatika alapjai</a:t>
            </a:r>
            <a:br>
              <a:rPr sz="3800"/>
            </a:br>
            <a:br>
              <a:rPr sz="3800"/>
            </a:br>
            <a:r>
              <a:rPr b="1" lang="hu-HU" sz="3800" spc="-1" strike="noStrike">
                <a:solidFill>
                  <a:srgbClr val="f1b60f"/>
                </a:solidFill>
                <a:latin typeface="Arial"/>
              </a:rPr>
              <a:t>Dr. Cser László</a:t>
            </a:r>
            <a:br>
              <a:rPr sz="3800"/>
            </a:br>
            <a:br>
              <a:rPr sz="3800"/>
            </a:br>
            <a:r>
              <a:rPr b="1" lang="hu-HU" sz="3800" spc="-1" strike="noStrike">
                <a:solidFill>
                  <a:srgbClr val="f1b60f"/>
                </a:solidFill>
                <a:latin typeface="Arial"/>
              </a:rPr>
              <a:t>9. előadás: Térinformatika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1b60f"/>
                </a:solidFill>
                <a:latin typeface="Arial"/>
              </a:rPr>
              <a:t>Földrajzi Információs Rendszerek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Mi van egy adott helyen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Hol található vagy nem található egy bizonyos jellemző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Mi és hol változott egy bizonyos idő óta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Melyik az optimáli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Mi lenne, ha ...? Modellezé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33F2-0D38-4489-BC72-D18E0305C5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800" spc="-1" strike="noStrike">
                <a:solidFill>
                  <a:srgbClr val="f1b60f"/>
                </a:solidFill>
                <a:latin typeface="Arial"/>
              </a:rPr>
              <a:t>Bevezetés</a:t>
            </a: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Ez a rész tartalmazza azokat az általános célkitűzéseket, amelyeket a hallgatóval el szeretnénk érni, a tankönyv elsajátítása után. Tisztázni kell a tankönyvben elsajátítandó ismereteke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94D7-8BD2-4BD0-BF36-EAD60EF14A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1b60f"/>
                </a:solidFill>
                <a:latin typeface="Arial"/>
              </a:rPr>
              <a:t>Térinformatikai rendszerek típusai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8137440" cy="258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AE0B-59F0-4222-9C95-EA22A488BB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Fontosabb felhasználási területek 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1b60f"/>
                </a:solidFill>
                <a:latin typeface="Arial"/>
              </a:rPr>
              <a:t>kataszteri információs rendsz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1b60f"/>
                </a:solidFill>
                <a:latin typeface="Arial"/>
              </a:rPr>
              <a:t>közművek információs rendsz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1b60f"/>
                </a:solidFill>
                <a:latin typeface="Arial"/>
              </a:rPr>
              <a:t>közgazdasági-, marketing információs rendszer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1b60f"/>
                </a:solidFill>
                <a:latin typeface="Arial"/>
              </a:rPr>
              <a:t>közigazgatási- és önkormányzati információs rendszer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1b60f"/>
                </a:solidFill>
                <a:latin typeface="Arial"/>
              </a:rPr>
              <a:t>topográfiai-kartográfiai információs rendsz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1b60f"/>
                </a:solidFill>
                <a:latin typeface="Arial"/>
              </a:rPr>
              <a:t>katonai geoinformációs rendsz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1b60f"/>
                </a:solidFill>
                <a:latin typeface="Arial"/>
              </a:rPr>
              <a:t>természettudományi információs rendszerek (</a:t>
            </a:r>
            <a:r>
              <a:rPr b="0" i="1" lang="hu-HU" sz="2000" spc="-1" strike="noStrike">
                <a:solidFill>
                  <a:srgbClr val="f1b60f"/>
                </a:solidFill>
                <a:latin typeface="Arial"/>
              </a:rPr>
              <a:t>geodézia, geofizika, geológia, talajtan, botanika, ökológia, hidrológia, meteorológia, környezettudomány</a:t>
            </a:r>
            <a:r>
              <a:rPr b="0" lang="hu-HU" sz="2000" spc="-1" strike="noStrike">
                <a:solidFill>
                  <a:srgbClr val="f1b60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1b60f"/>
                </a:solidFill>
                <a:latin typeface="Arial"/>
              </a:rPr>
              <a:t>társadalomtudományi információs rendszerek (</a:t>
            </a:r>
            <a:r>
              <a:rPr b="0" i="1" lang="hu-HU" sz="2000" spc="-1" strike="noStrike">
                <a:solidFill>
                  <a:srgbClr val="f1b60f"/>
                </a:solidFill>
                <a:latin typeface="Arial"/>
              </a:rPr>
              <a:t>művészettörténet, régészet, szociológia, politológia, etnográfia</a:t>
            </a:r>
            <a:r>
              <a:rPr b="0" lang="hu-HU" sz="2000" spc="-1" strike="noStrike">
                <a:solidFill>
                  <a:srgbClr val="f1b60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1b60f"/>
                </a:solidFill>
                <a:latin typeface="Arial"/>
              </a:rPr>
              <a:t>mérnöki információs rendszerek (</a:t>
            </a:r>
            <a:r>
              <a:rPr b="0" i="1" lang="hu-HU" sz="2000" spc="-1" strike="noStrike">
                <a:solidFill>
                  <a:srgbClr val="f1b60f"/>
                </a:solidFill>
                <a:latin typeface="Arial"/>
              </a:rPr>
              <a:t>agrár-, bánya-, erdő-, földmérő-, építő-, építész-, közlekedési mérnöki rendszerek</a:t>
            </a:r>
            <a:r>
              <a:rPr b="0" lang="hu-HU" sz="2000" spc="-1" strike="noStrike">
                <a:solidFill>
                  <a:srgbClr val="f1b60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69FF-BDEE-484D-AAF4-F46F3DF4F5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A valós világ fedvényekkel történő ábrázolása 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08000" y="1785960"/>
            <a:ext cx="5112000" cy="386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B1DF-3B0A-469A-8354-BE4286E77A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1b60f"/>
                </a:solidFill>
                <a:latin typeface="Arial"/>
              </a:rPr>
              <a:t>Egységes Országos Vetületi Rendszer (EOV) koordináta-rendszere</a:t>
            </a:r>
            <a:r>
              <a:rPr b="0" lang="hu-HU" sz="3400" spc="-1" strike="noStrike">
                <a:solidFill>
                  <a:srgbClr val="f1b60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92360" y="1933560"/>
            <a:ext cx="5040360" cy="3557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724360" y="5589720"/>
            <a:ext cx="30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Forrás: Detrekői – Szabó (200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8F2C-C22C-4543-8988-B7D8C9DEB9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Vektor- és raszteradatok grafikus jellemzése 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484360" y="1816200"/>
            <a:ext cx="4751640" cy="411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D1E0-6B07-45EB-8972-80C10488FC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cser</cp:lastModifiedBy>
  <dcterms:modified xsi:type="dcterms:W3CDTF">2006-05-30T20:59:55Z</dcterms:modified>
  <cp:revision>69</cp:revision>
  <dc:subject/>
  <dc:title>PowerPoint bemutató</dc:title>
</cp:coreProperties>
</file>