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898-2DC8-4F94-BE4B-9497B47D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46A-274D-470D-A976-B476F5F2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496-1022-448E-9FDA-7F9FBA77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62E-E199-4DAC-895C-F843FE29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367C-B2C1-4831-BE5D-2FFF2A7D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DBD2-81B4-4EAA-84C5-FCBA279A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1452-6724-40B8-8365-C4649664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BFB1-CD73-4358-B8D0-98F0EA19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38D6-5400-4B7C-8ABB-18739442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4C8A-1A70-48AB-90E0-A0693E5E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D72D-AA99-4410-9196-F13E5A56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23D-DAD3-411F-9814-3A2A6D10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4ACD-9D98-41A7-8933-A82D40E3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CBDE-C04E-4DC8-978C-F5AA8C90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2711-32C2-4084-8378-FFF4DA35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C0CF-488D-4DCE-B1F1-67C1096F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9606-3D4C-452E-BAD1-B0720D7D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CF9-55FB-42B5-A5FA-DC6E0A5A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4ED-8902-4962-AF07-FA1C985E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DF5-CE0A-4B28-805F-97E665A8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DB7-967F-499B-BA27-CB50BC11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B74-395E-46C5-8C9D-03535DE4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D29-7374-43E1-9E8C-6939727D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B4B-19E8-4436-8CE0-A8599DCE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868B-9A4E-4054-8BFF-4E13871EBE65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71E9-912B-439E-93B3-E6733AD8E13C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D45E-C6D2-4834-815A-6185D20C3C95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B56A-2DCD-476C-98D6-745B29062ED3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1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8056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 gazdaságinformatika alapjai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Dr. Cser László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1. előadás: Alapfogalmak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Globalizáció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477120" cy="3551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61960" y="17524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16480" y="2925000"/>
            <a:ext cx="155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Arial"/>
              </a:rPr>
              <a:t>Vállalat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1b60f"/>
                </a:solidFill>
                <a:latin typeface="Arial"/>
              </a:rPr>
              <a:t>Tervez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95560" y="1600200"/>
            <a:ext cx="7391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6600"/>
                </a:solidFill>
                <a:latin typeface="Arial"/>
              </a:rPr>
              <a:t>Az új modell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Arial"/>
              </a:rPr>
              <a:t>A világpiacon egyre versenyképesebb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Arial"/>
              </a:rPr>
              <a:t>Sajátos szakértelemmel rendelkező partnerek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Arial"/>
              </a:rPr>
              <a:t>A helyi piac adottságainak és költségvonzatának megfelelő gyártá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5181480"/>
            <a:ext cx="304812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Arial"/>
              </a:rPr>
              <a:t>Decentralizált struktúr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Arial"/>
              </a:rPr>
              <a:t>Több helyi környeze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026600">
            <a:off x="6019920" y="487656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rot="2573400">
            <a:off x="2743200" y="480024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18040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Arial"/>
              </a:rPr>
              <a:t>Nagyon rugalmas és fejlődőképes struktúrá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27160" y="3839400"/>
            <a:ext cx="223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Leányállalat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Gyárt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515400"/>
            <a:ext cx="223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Arial"/>
              </a:rPr>
              <a:t>Leányállalat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1b60f"/>
                </a:solidFill>
                <a:latin typeface="Arial"/>
              </a:rPr>
              <a:t>Gyárt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07240" y="27727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artne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ervez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5200" y="27727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artner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ervez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637-32FB-4A5B-BA83-B5F8355DF7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Vállalat összetevői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971800" y="2819520"/>
            <a:ext cx="3129120" cy="1996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1143000"/>
            <a:ext cx="3048120" cy="1981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114800"/>
            <a:ext cx="3048120" cy="1981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4114800"/>
            <a:ext cx="3048120" cy="1981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1143000"/>
            <a:ext cx="3048120" cy="1981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6640" y="159912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rmé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1080" y="56379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rőforr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7720" y="54853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állító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3760" y="144684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ásárló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133720" y="1828800"/>
            <a:ext cx="1562040" cy="1058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791320" y="1828800"/>
            <a:ext cx="1627200" cy="1104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523880" y="4572000"/>
            <a:ext cx="1981440" cy="723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791320" y="4343400"/>
            <a:ext cx="1528560" cy="116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102-CD16-4A93-8ADD-7C590C945E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4348080" cy="2775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95280" y="1752480"/>
            <a:ext cx="6705720" cy="4419720"/>
          </a:xfrm>
          <a:prstGeom prst="rect">
            <a:avLst/>
          </a:prstGeom>
          <a:solidFill>
            <a:srgbClr val="11560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Digitális vállalati modell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219320"/>
            <a:ext cx="3048120" cy="1981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4114800"/>
            <a:ext cx="3048120" cy="1981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114800"/>
            <a:ext cx="3048120" cy="1981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1219320"/>
            <a:ext cx="3048120" cy="1981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6640" y="159912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rmé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1080" y="556164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rőforrás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7720" y="55616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állító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28160" y="167544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ásárló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1562040" cy="1058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715000" y="1371600"/>
            <a:ext cx="1523880" cy="1104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057400" y="5410080"/>
            <a:ext cx="1447920" cy="528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715000" y="5105520"/>
            <a:ext cx="1143000" cy="87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371600" y="25146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Életcikl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menedzs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434340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rőforr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tervezé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3434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Szállítási lán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menedzs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51460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apcsol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menedzs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312300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udás Menedzs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Üzleti Intelligencia, Információ Menedzs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-busi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F88-116A-4E7F-8C9A-30EF8D064D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Átalakuláso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Tudásalapú gazdasá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Termelékenysé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Új termékek és szolgáltatáso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Tudás, mint vállalati eszköz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Idő-alapú versen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Rövidülő termékéletcikluso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Turbulens környeze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Az alkalmazottak korlátozott ismerete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8D1-2305-449B-A8FB-774BE45314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Átalakulások a szervezetekben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6566040" cy="31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Laposabb szervezet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Decentralizáci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Rugalmassá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Térbeli korlátok csökkené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lacsony tranzakciós költség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Empower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Csoportmunk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F9C-3AC2-4BAB-B125-CC8175ACD1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920" y="990720"/>
            <a:ext cx="84153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Tudás- és információintenzív termék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2536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1b60f"/>
                </a:solidFill>
                <a:latin typeface="Arial"/>
              </a:rPr>
              <a:t>Olyan termékek, melyek nagymennyiségű tudás és fejlett tanulási képesség meglétét teszik szükségessé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444-5E00-4188-8B43-EFC3BE2A21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Tudás- és információintenzív termék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400800" y="1371600"/>
            <a:ext cx="2209680" cy="1935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H="1">
            <a:off x="990720" y="3352680"/>
            <a:ext cx="2133360" cy="1295640"/>
          </a:xfrm>
          <a:prstGeom prst="leftArrow">
            <a:avLst>
              <a:gd name="adj1" fmla="val 50000"/>
              <a:gd name="adj2" fmla="val 4116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Piaci nyo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990720" y="4876920"/>
            <a:ext cx="2133360" cy="1295280"/>
          </a:xfrm>
          <a:prstGeom prst="leftArrow">
            <a:avLst>
              <a:gd name="adj1" fmla="val 50000"/>
              <a:gd name="adj2" fmla="val 41176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CAD/CAM</a:t>
            </a:r>
            <a:br>
              <a:rPr sz="1600"/>
            </a:b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változáso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3124080"/>
            <a:ext cx="5029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Párhuzamos feladato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3 évente lecserélődik a termékskála 80%-a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Nagyon rövid termék életgörb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76440" y="4495680"/>
            <a:ext cx="5105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Integráció szükségesség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Arial"/>
              </a:rPr>
              <a:t>Mechanikai objektumok (MC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Arial"/>
              </a:rPr>
              <a:t>Elektronikai objektumok (EC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Arial"/>
              </a:rPr>
              <a:t>Szoftver objektumok (IP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056200" y="2209680"/>
            <a:ext cx="631800" cy="962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762280" y="1295280"/>
            <a:ext cx="468360" cy="91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733920" y="1752480"/>
            <a:ext cx="86508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D07-4560-492A-A7C5-27CD47686B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Tudás- és információintenzív terméke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114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Innováció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Évente új programok tucatja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60600" y="2743200"/>
            <a:ext cx="850680" cy="1295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943760" y="1371600"/>
            <a:ext cx="46836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048120" y="3048120"/>
            <a:ext cx="4114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Piaci bevezeté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18-24 hónap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952880" y="1295280"/>
            <a:ext cx="2725920" cy="2171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14600" y="4191120"/>
            <a:ext cx="4114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Költség megtakarítá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kb.: 10% évent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5410080" y="4038480"/>
            <a:ext cx="865440" cy="952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00400" y="5257800"/>
            <a:ext cx="4114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Arial"/>
              </a:rPr>
              <a:t>Szolgáltatás minőség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Arial"/>
              </a:rPr>
              <a:t>Veszteségek elkerülés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6324480" y="5257800"/>
            <a:ext cx="1676520" cy="647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685800" y="5181480"/>
            <a:ext cx="2138400" cy="72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4EE-8FF4-4BF4-857A-725FDBC930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Arial"/>
              </a:rPr>
              <a:t>A munkaerő összetétele 1900-1996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2520" y="622764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6448320"/>
            <a:ext cx="290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: Laudon &amp; Laudon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54000" y="1752480"/>
          <a:ext cx="731988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1752480"/>
                    <a:ext cx="73198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A19-A5EC-45EE-916B-58C9680EC597}" type="slidenum">
              <a:t>18</a:t>
            </a:fld>
          </a:p>
        </p:txBody>
      </p: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331800" y="824040"/>
            <a:ext cx="3258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RENDSZ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98400" y="2832120"/>
            <a:ext cx="7747200" cy="2194560"/>
            <a:chOff x="698400" y="2832120"/>
            <a:chExt cx="7747200" cy="2194560"/>
          </a:xfrm>
        </p:grpSpPr>
        <p:sp>
          <p:nvSpPr>
            <p:cNvPr id="202" name=""/>
            <p:cNvSpPr/>
            <p:nvPr/>
          </p:nvSpPr>
          <p:spPr>
            <a:xfrm>
              <a:off x="2521080" y="3200400"/>
              <a:ext cx="1130040" cy="444600"/>
            </a:xfrm>
            <a:prstGeom prst="rightArrow">
              <a:avLst>
                <a:gd name="adj1" fmla="val 50000"/>
                <a:gd name="adj2" fmla="val 127097"/>
              </a:avLst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92880" y="3200400"/>
              <a:ext cx="1130040" cy="444600"/>
            </a:xfrm>
            <a:prstGeom prst="rightArrow">
              <a:avLst>
                <a:gd name="adj1" fmla="val 50000"/>
                <a:gd name="adj2" fmla="val 127097"/>
              </a:avLst>
            </a:prstGeom>
            <a:solidFill>
              <a:srgbClr val="cc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6240" y="4572000"/>
              <a:ext cx="295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ISSZACSATOLÁ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019920" y="4006440"/>
              <a:ext cx="1523880" cy="793800"/>
              <a:chOff x="6019920" y="4006440"/>
              <a:chExt cx="1523880" cy="793800"/>
            </a:xfrm>
          </p:grpSpPr>
          <p:sp>
            <p:nvSpPr>
              <p:cNvPr id="206" name=""/>
              <p:cNvSpPr/>
              <p:nvPr/>
            </p:nvSpPr>
            <p:spPr>
              <a:xfrm>
                <a:off x="6019920" y="4775400"/>
                <a:ext cx="15044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7543800" y="4006440"/>
                <a:ext cx="0" cy="7938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523880" y="4032360"/>
              <a:ext cx="0" cy="761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4794120"/>
              <a:ext cx="1600200" cy="6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8400" y="2832120"/>
              <a:ext cx="1803600" cy="1193760"/>
            </a:xfrm>
            <a:prstGeom prst="rect">
              <a:avLst/>
            </a:prstGeom>
            <a:solidFill>
              <a:srgbClr val="7f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ME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42000" y="2832120"/>
              <a:ext cx="1803600" cy="1193760"/>
            </a:xfrm>
            <a:prstGeom prst="rect">
              <a:avLst/>
            </a:prstGeom>
            <a:solidFill>
              <a:srgbClr val="7f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IME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70200" y="2832120"/>
              <a:ext cx="1803600" cy="1193760"/>
            </a:xfrm>
            <a:prstGeom prst="rect">
              <a:avLst/>
            </a:prstGeom>
            <a:solidFill>
              <a:srgbClr val="7fff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OLYAM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821-0A35-4D88-8813-22D64A1C6AC1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  <a:ea typeface="Times New Roman"/>
              </a:rPr>
              <a:t>A gazdaságinformatika alapjai</a:t>
            </a:r>
            <a:br>
              <a:rPr sz="3000"/>
            </a:br>
            <a:r>
              <a:rPr b="0" lang="hu-HU" sz="3000" spc="-1" strike="noStrike">
                <a:solidFill>
                  <a:srgbClr val="f1b60f"/>
                </a:solidFill>
                <a:latin typeface="Arial"/>
                <a:ea typeface="Times New Roman"/>
              </a:rPr>
              <a:t>c. tárgy előadásainak témakörei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Arial"/>
              </a:rPr>
              <a:t>Alapfogalmak, az információtechnológia forradalm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Arial"/>
              </a:rPr>
              <a:t>Informatikai rendszerek típusa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Arial"/>
              </a:rPr>
              <a:t>A rendszerek építőkövei (P</a:t>
            </a:r>
            <a:r>
              <a:rPr b="1" lang="de-DE" sz="1500" spc="-1" strike="noStrike">
                <a:solidFill>
                  <a:srgbClr val="f1b60f"/>
                </a:solidFill>
                <a:latin typeface="Arial"/>
              </a:rPr>
              <a:t>rogramozás</a:t>
            </a:r>
            <a:r>
              <a:rPr b="1" lang="hu-HU" sz="1500" spc="-1" strike="noStrike">
                <a:solidFill>
                  <a:srgbClr val="f1b60f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Arial"/>
              </a:rPr>
              <a:t>Alapalgoritmusok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Arial"/>
              </a:rPr>
              <a:t>Az adattól az adatbázisi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Arial"/>
              </a:rPr>
              <a:t>Számítógép hálózatok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Arial"/>
              </a:rPr>
              <a:t>Az intern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Arial"/>
              </a:rPr>
              <a:t>Adatbiztonság és megbízhatóság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Arial"/>
              </a:rPr>
              <a:t>Információrendszerek a vállalatná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Arial"/>
              </a:rPr>
              <a:t>Agrárinformatik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Arial"/>
              </a:rPr>
              <a:t>Térinformatika elemei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f1b60f"/>
                </a:solidFill>
                <a:latin typeface="Arial"/>
              </a:rPr>
              <a:t>Az elektronikus kormányzat eleme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624-A2AA-4FFF-B391-90B5980131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609480"/>
            <a:ext cx="7769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Z INFORMÁCIÓRENDSZER FUNKCIÓ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09480" y="1284120"/>
            <a:ext cx="7845480" cy="5042160"/>
            <a:chOff x="609480" y="1284120"/>
            <a:chExt cx="7845480" cy="5042160"/>
          </a:xfrm>
        </p:grpSpPr>
        <p:sp>
          <p:nvSpPr>
            <p:cNvPr id="216" name=""/>
            <p:cNvSpPr/>
            <p:nvPr/>
          </p:nvSpPr>
          <p:spPr>
            <a:xfrm>
              <a:off x="3200400" y="1284120"/>
              <a:ext cx="2816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1b60f"/>
                  </a:solidFill>
                  <a:latin typeface="Arial"/>
                </a:rPr>
                <a:t>KÖRNYEZE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7920" y="2046240"/>
              <a:ext cx="6321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ÁSÁRLÓK                                               SZÁLLÍTÓK                                                                     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9480" y="5627520"/>
              <a:ext cx="78454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Szabályozó </a:t>
              </a:r>
              <a:r>
                <a:rPr b="1" lang="hu-HU" sz="2000" spc="-1" strike="noStrike">
                  <a:solidFill>
                    <a:srgbClr val="115606"/>
                  </a:solidFill>
                  <a:latin typeface="Arial"/>
                </a:rPr>
                <a:t>  </a:t>
              </a:r>
              <a:r>
                <a:rPr b="1" lang="hu-HU" sz="2000" spc="-1" strike="noStrike">
                  <a:solidFill>
                    <a:srgbClr val="dc5900"/>
                  </a:solidFill>
                  <a:latin typeface="Arial"/>
                </a:rPr>
                <a:t>              </a:t>
              </a: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Részvényesek                       Versenytársa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5800" y="5932440"/>
              <a:ext cx="1901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ffffff"/>
                  </a:solidFill>
                  <a:latin typeface="Arial"/>
                </a:rPr>
                <a:t>szervezete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1376280" y="2584440"/>
              <a:ext cx="6540480" cy="2806560"/>
              <a:chOff x="1376280" y="2584440"/>
              <a:chExt cx="6540480" cy="280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1376280" y="2584440"/>
                <a:ext cx="6540480" cy="280656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100000">
                    <a:srgbClr val="1c2a4b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11360" y="3657600"/>
                <a:ext cx="1373040" cy="662040"/>
              </a:xfrm>
              <a:prstGeom prst="rect">
                <a:avLst/>
              </a:prstGeom>
              <a:solidFill>
                <a:srgbClr val="7fff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BEMENE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156360" y="3657600"/>
                <a:ext cx="1373040" cy="662040"/>
              </a:xfrm>
              <a:prstGeom prst="rect">
                <a:avLst/>
              </a:prstGeom>
              <a:solidFill>
                <a:srgbClr val="7fff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KIMENE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84760" y="3657600"/>
                <a:ext cx="1371600" cy="662040"/>
              </a:xfrm>
              <a:prstGeom prst="rect">
                <a:avLst/>
              </a:prstGeom>
              <a:solidFill>
                <a:srgbClr val="7fff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OLYAMA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03480" y="3865680"/>
                <a:ext cx="862200" cy="245880"/>
              </a:xfrm>
              <a:prstGeom prst="rightArrow">
                <a:avLst>
                  <a:gd name="adj1" fmla="val 50000"/>
                  <a:gd name="adj2" fmla="val 175345"/>
                </a:avLst>
              </a:prstGeom>
              <a:solidFill>
                <a:srgbClr val="cc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275440" y="3865680"/>
                <a:ext cx="861840" cy="245880"/>
              </a:xfrm>
              <a:prstGeom prst="rightArrow">
                <a:avLst>
                  <a:gd name="adj1" fmla="val 50000"/>
                  <a:gd name="adj2" fmla="val 175272"/>
                </a:avLst>
              </a:prstGeom>
              <a:solidFill>
                <a:srgbClr val="cc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26920" y="4589640"/>
                <a:ext cx="2264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VISSZACSATOLÁ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943600" y="4319280"/>
                <a:ext cx="900000" cy="453960"/>
                <a:chOff x="5943600" y="4319280"/>
                <a:chExt cx="900000" cy="4539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943600" y="4761000"/>
                  <a:ext cx="89244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6843600" y="4319280"/>
                  <a:ext cx="0" cy="453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2239920" y="4344840"/>
                <a:ext cx="1112400" cy="416160"/>
                <a:chOff x="2239920" y="4344840"/>
                <a:chExt cx="1112400" cy="4161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239920" y="4344840"/>
                  <a:ext cx="0" cy="4032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248560" y="4761000"/>
                  <a:ext cx="110376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2514600" y="3189240"/>
                <a:ext cx="39592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15606"/>
                    </a:solidFill>
                    <a:latin typeface="Times New Roman"/>
                  </a:rPr>
                  <a:t>INFORMÁCIÓRENDSZ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124080" y="2892600"/>
                <a:ext cx="2816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6600"/>
                    </a:solidFill>
                    <a:latin typeface="Arial"/>
                  </a:rPr>
                  <a:t>SZERVEZE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D6A-536D-471C-A677-ED51B295790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SZÁMÍTÓGÉPES INFORMÁCIÓRENDSZEREK 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(CBIS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Formális rendszere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z adatok, eljárások előre definiálta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datok gyűjtése, tárolása, feldolgozása, szétosztása a feladatu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65C-9BD1-4969-B1A1-7A9C1310BBE2}" type="slidenum">
              <a:t>21</a:t>
            </a:fld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2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0" y="1143000"/>
            <a:ext cx="0" cy="2743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NFORMÁCIÓRENDSZERE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1143000"/>
            <a:ext cx="5435640" cy="5435640"/>
          </a:xfrm>
          <a:prstGeom prst="ellipse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143000"/>
            <a:ext cx="0" cy="2692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400480" y="3886200"/>
            <a:ext cx="2171520" cy="1676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886200"/>
            <a:ext cx="2082960" cy="1701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5600" y="2616120"/>
            <a:ext cx="165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ZERVEZETE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60040" y="2616120"/>
            <a:ext cx="1676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CHNOLÓ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32920" y="5549760"/>
            <a:ext cx="174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NEDZS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809880"/>
            <a:ext cx="152640" cy="152640"/>
          </a:xfrm>
          <a:prstGeom prst="ellipse">
            <a:avLst/>
          </a:prstGeom>
          <a:solidFill>
            <a:srgbClr val="f1b60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52680" y="2590920"/>
            <a:ext cx="2425680" cy="2425680"/>
            <a:chOff x="3352680" y="2590920"/>
            <a:chExt cx="2425680" cy="2425680"/>
          </a:xfrm>
        </p:grpSpPr>
        <p:sp>
          <p:nvSpPr>
            <p:cNvPr id="252" name=""/>
            <p:cNvSpPr/>
            <p:nvPr/>
          </p:nvSpPr>
          <p:spPr>
            <a:xfrm>
              <a:off x="3352680" y="2590920"/>
              <a:ext cx="2425680" cy="24256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a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74880" y="3424320"/>
              <a:ext cx="1793880" cy="10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FORMÁCIÓ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NDSZERE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620-968B-4E97-B2C9-D81350EC8CC7}" type="slidenum">
              <a:t>22</a:t>
            </a:fld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 FŐBB SZERVEZETI FUNKCIÓK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Értékesítés és marke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Termelé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Pénzü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Számvit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Emberi erőforrás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95C-FFFC-4935-8F68-AAE7E875EE7A}" type="slidenum">
              <a:t>23</a:t>
            </a:fld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2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SZÁMÍTÓGÉPES TECHNOLÓGIA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Hard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Szoft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dattárolá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Kommunikáci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Hálóz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B7A-77C0-4C70-8C42-89F430E61CD4}" type="slidenum">
              <a:t>24</a:t>
            </a:fld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2" dur="1" fill="hold"/>
                                  <p:tgtEl>
                                    <p:spTgt spid="2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458640" y="1606680"/>
            <a:ext cx="7953480" cy="5021280"/>
            <a:chOff x="458640" y="1606680"/>
            <a:chExt cx="7953480" cy="5021280"/>
          </a:xfrm>
        </p:grpSpPr>
        <p:sp>
          <p:nvSpPr>
            <p:cNvPr id="261" name=""/>
            <p:cNvSpPr/>
            <p:nvPr/>
          </p:nvSpPr>
          <p:spPr>
            <a:xfrm>
              <a:off x="1109520" y="2995560"/>
              <a:ext cx="7302600" cy="3340080"/>
            </a:xfrm>
            <a:prstGeom prst="ellipse">
              <a:avLst/>
            </a:prstGeom>
            <a:gradFill rotWithShape="0">
              <a:gsLst>
                <a:gs pos="0">
                  <a:srgbClr val="51dc00"/>
                </a:gs>
                <a:gs pos="100000">
                  <a:srgbClr val="184100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86680" y="4514760"/>
              <a:ext cx="2019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ZOCIOLÓG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7520" y="5200560"/>
              <a:ext cx="2587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ÖZGAZDASÁG-T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24160" y="5276880"/>
              <a:ext cx="258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SZICHOLÓG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9640" y="1606680"/>
              <a:ext cx="7302600" cy="3340080"/>
            </a:xfrm>
            <a:prstGeom prst="ellipse">
              <a:avLst/>
            </a:prstGeom>
            <a:gradFill rotWithShape="0">
              <a:gsLst>
                <a:gs pos="0">
                  <a:srgbClr val="1c2a4b"/>
                </a:gs>
                <a:gs pos="100000">
                  <a:srgbClr val="618ffd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06560" y="1982880"/>
              <a:ext cx="2968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ZÁMÍTÁS-TUDOMÁN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06960" y="2287440"/>
              <a:ext cx="2359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PERÁCIÓ-KUTATÁ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7240" y="3201840"/>
              <a:ext cx="2435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NEDZSMENT-TUDOMÁN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19320" y="2298600"/>
              <a:ext cx="6438960" cy="3416400"/>
            </a:xfrm>
            <a:custGeom>
              <a:avLst/>
              <a:gdLst/>
              <a:ahLst/>
              <a:rect l="l" t="t" r="r" b="b"/>
              <a:pathLst>
                <a:path w="4056" h="2152">
                  <a:moveTo>
                    <a:pt x="0" y="0"/>
                  </a:moveTo>
                  <a:lnTo>
                    <a:pt x="4056" y="2152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29280" y="1625760"/>
              <a:ext cx="1028520" cy="4711680"/>
            </a:xfrm>
            <a:custGeom>
              <a:avLst/>
              <a:gdLst/>
              <a:ahLst/>
              <a:rect l="l" t="t" r="r" b="b"/>
              <a:pathLst>
                <a:path w="648" h="2968">
                  <a:moveTo>
                    <a:pt x="0" y="0"/>
                  </a:moveTo>
                  <a:lnTo>
                    <a:pt x="648" y="2968"/>
                  </a:ln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282840" y="3054240"/>
              <a:ext cx="3187800" cy="2121120"/>
              <a:chOff x="3282840" y="3054240"/>
              <a:chExt cx="3187800" cy="2121120"/>
            </a:xfrm>
          </p:grpSpPr>
          <p:sp>
            <p:nvSpPr>
              <p:cNvPr id="272" name=""/>
              <p:cNvSpPr/>
              <p:nvPr/>
            </p:nvSpPr>
            <p:spPr>
              <a:xfrm>
                <a:off x="3282840" y="3054240"/>
                <a:ext cx="3187800" cy="2121120"/>
              </a:xfrm>
              <a:prstGeom prst="ellipse">
                <a:avLst/>
              </a:prstGeom>
              <a:gradFill rotWithShape="0">
                <a:gsLst>
                  <a:gs pos="0">
                    <a:srgbClr val="30471c"/>
                  </a:gs>
                  <a:gs pos="100000">
                    <a:srgbClr val="a3f25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344840" y="3811680"/>
                <a:ext cx="10638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MI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58640" y="5907240"/>
              <a:ext cx="518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VISELKEDÉSTUD. SZEMLÉL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8640" y="6234120"/>
              <a:ext cx="1292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.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AZ INFORMÁCIÓRENDSZEREK LEHETSÉGES SZEMLÉLETMÓDJAI 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02040" y="1754280"/>
            <a:ext cx="4187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ECHNIKAI SZEMLÉ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216-3909-4602-AFC8-DC054F257C26}" type="slidenum">
              <a:t>25</a:t>
            </a:fld>
          </a:p>
        </p:txBody>
      </p: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SZOCIOTECHNIKAI PERSPECTÍV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 rendszer teljesítményének optimlizálás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 technológia és a szervezet kölcsönös igazodása, összehangolása szükséges, amíg a kielégítő megoldást érünk 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62485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1b60f"/>
                </a:solidFill>
                <a:latin typeface="Arial"/>
              </a:rPr>
              <a:t>SOURCE: Liker, et al,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728-445C-4474-84F9-D49135389409}" type="slidenum">
              <a:t>26</a:t>
            </a:fld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48840"/>
            <a:ext cx="7772400" cy="125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A RENDSZER FÜGGŐSÉGEI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6840" y="1465200"/>
            <a:ext cx="2819160" cy="4800600"/>
            <a:chOff x="366840" y="1465200"/>
            <a:chExt cx="2819160" cy="4800600"/>
          </a:xfrm>
        </p:grpSpPr>
        <p:sp>
          <p:nvSpPr>
            <p:cNvPr id="284" name=""/>
            <p:cNvSpPr/>
            <p:nvPr/>
          </p:nvSpPr>
          <p:spPr>
            <a:xfrm>
              <a:off x="366840" y="1465200"/>
              <a:ext cx="2819160" cy="480060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5480" y="3524400"/>
              <a:ext cx="1901520" cy="17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ÜZL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tratég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zabály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Eljárás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6880" y="5657760"/>
              <a:ext cx="2434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5606"/>
                  </a:solidFill>
                  <a:latin typeface="Arial"/>
                </a:rPr>
                <a:t>SZERVEZE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170160" y="1465200"/>
            <a:ext cx="5635800" cy="4800600"/>
            <a:chOff x="3170160" y="1465200"/>
            <a:chExt cx="5635800" cy="4800600"/>
          </a:xfrm>
        </p:grpSpPr>
        <p:sp>
          <p:nvSpPr>
            <p:cNvPr id="288" name=""/>
            <p:cNvSpPr/>
            <p:nvPr/>
          </p:nvSpPr>
          <p:spPr>
            <a:xfrm>
              <a:off x="3170160" y="1465200"/>
              <a:ext cx="5524560" cy="4800600"/>
            </a:xfrm>
            <a:prstGeom prst="rect">
              <a:avLst/>
            </a:prstGeom>
            <a:gradFill rotWithShape="0">
              <a:gsLst>
                <a:gs pos="0">
                  <a:srgbClr val="491a36"/>
                </a:gs>
                <a:gs pos="100000">
                  <a:srgbClr val="f95a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00760" y="5657760"/>
              <a:ext cx="3805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5606"/>
                  </a:solidFill>
                  <a:latin typeface="Arial"/>
                </a:rPr>
                <a:t>INFORMÁCIÓRENDSZ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227560" y="2684520"/>
              <a:ext cx="970200" cy="2209680"/>
              <a:chOff x="5227560" y="2684520"/>
              <a:chExt cx="970200" cy="2209680"/>
            </a:xfrm>
          </p:grpSpPr>
          <p:sp>
            <p:nvSpPr>
              <p:cNvPr id="291" name=""/>
              <p:cNvSpPr/>
              <p:nvPr/>
            </p:nvSpPr>
            <p:spPr>
              <a:xfrm>
                <a:off x="5227560" y="2684520"/>
                <a:ext cx="970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27560" y="3675240"/>
                <a:ext cx="970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27560" y="4894200"/>
                <a:ext cx="970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27560" y="2684520"/>
                <a:ext cx="0" cy="2209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072120" y="2157480"/>
              <a:ext cx="1969920" cy="977760"/>
              <a:chOff x="6072120" y="2157480"/>
              <a:chExt cx="1969920" cy="977760"/>
            </a:xfrm>
          </p:grpSpPr>
          <p:sp>
            <p:nvSpPr>
              <p:cNvPr id="296" name=""/>
              <p:cNvSpPr/>
              <p:nvPr/>
            </p:nvSpPr>
            <p:spPr>
              <a:xfrm>
                <a:off x="6072120" y="2157480"/>
                <a:ext cx="1928160" cy="977760"/>
              </a:xfrm>
              <a:prstGeom prst="ellipse">
                <a:avLst/>
              </a:prstGeom>
              <a:solidFill>
                <a:srgbClr val="11560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253920" y="2457360"/>
                <a:ext cx="17881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HARDV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252960" y="3224160"/>
              <a:ext cx="1928520" cy="978120"/>
              <a:chOff x="3252960" y="3224160"/>
              <a:chExt cx="1928520" cy="978120"/>
            </a:xfrm>
          </p:grpSpPr>
          <p:sp>
            <p:nvSpPr>
              <p:cNvPr id="299" name=""/>
              <p:cNvSpPr/>
              <p:nvPr/>
            </p:nvSpPr>
            <p:spPr>
              <a:xfrm>
                <a:off x="3252960" y="3224160"/>
                <a:ext cx="1928520" cy="978120"/>
              </a:xfrm>
              <a:prstGeom prst="ellipse">
                <a:avLst/>
              </a:prstGeom>
              <a:solidFill>
                <a:srgbClr val="11560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397320" y="3524400"/>
                <a:ext cx="163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ZOFTV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6072120" y="3224160"/>
              <a:ext cx="2080800" cy="978120"/>
              <a:chOff x="6072120" y="3224160"/>
              <a:chExt cx="2080800" cy="978120"/>
            </a:xfrm>
          </p:grpSpPr>
          <p:sp>
            <p:nvSpPr>
              <p:cNvPr id="302" name=""/>
              <p:cNvSpPr/>
              <p:nvPr/>
            </p:nvSpPr>
            <p:spPr>
              <a:xfrm>
                <a:off x="6072120" y="3224160"/>
                <a:ext cx="2080800" cy="978120"/>
              </a:xfrm>
              <a:prstGeom prst="ellipse">
                <a:avLst/>
              </a:prstGeom>
              <a:solidFill>
                <a:srgbClr val="11560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88920" y="3524400"/>
                <a:ext cx="1688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ATBÁZI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538960" y="4443480"/>
              <a:ext cx="3047760" cy="977760"/>
              <a:chOff x="5538960" y="4443480"/>
              <a:chExt cx="3047760" cy="977760"/>
            </a:xfrm>
          </p:grpSpPr>
          <p:sp>
            <p:nvSpPr>
              <p:cNvPr id="305" name=""/>
              <p:cNvSpPr/>
              <p:nvPr/>
            </p:nvSpPr>
            <p:spPr>
              <a:xfrm>
                <a:off x="5538960" y="4443480"/>
                <a:ext cx="3047760" cy="977760"/>
              </a:xfrm>
              <a:prstGeom prst="ellipse">
                <a:avLst/>
              </a:prstGeom>
              <a:solidFill>
                <a:srgbClr val="11560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832720" y="4514760"/>
                <a:ext cx="26089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ELE-KOMMUNIKÁCIÓ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7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668600" y="1990800"/>
            <a:ext cx="3501720" cy="531720"/>
            <a:chOff x="1668600" y="1990800"/>
            <a:chExt cx="3501720" cy="531720"/>
          </a:xfrm>
        </p:grpSpPr>
        <p:sp>
          <p:nvSpPr>
            <p:cNvPr id="309" name=""/>
            <p:cNvSpPr/>
            <p:nvPr/>
          </p:nvSpPr>
          <p:spPr>
            <a:xfrm>
              <a:off x="1668600" y="1990800"/>
              <a:ext cx="350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TERDEPENDENC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27040" y="2522520"/>
              <a:ext cx="1574280" cy="0"/>
            </a:xfrm>
            <a:prstGeom prst="line">
              <a:avLst/>
            </a:prstGeom>
            <a:ln w="10152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9FF-0FC6-4ADF-9D91-25C7FB9E53BD}" type="slidenum">
              <a:t>27</a:t>
            </a:fld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1950-es évek: technikai változás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60-70-es évek: vezetői kontro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80-90-es évek: intézményi kulcstevékenység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e74c1b"/>
                </a:solidFill>
                <a:latin typeface="Arial"/>
              </a:rPr>
              <a:t>NÖVEKVŐ FONTOSSÁG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9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Z INFORMÁCIÓRENDSZEREK HATÓKÖRE (SCOPE)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DC1-1AB6-42C1-A342-53D54A365ADC}" type="slidenum">
              <a:t>28</a:t>
            </a:fld>
          </a:p>
        </p:txBody>
      </p:sp>
    </p:spTree>
  </p:cSld>
  <p:transition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31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MIRE JÓ AZ INTERNET?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Kommunikáció és együttműködé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Információk eléré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Párbeszé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Információátadá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Szórakoztatá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Üzleti tranzakciók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FB1-3EE5-4678-8613-B8D651CD87B9}" type="slidenum">
              <a:t>29</a:t>
            </a:fld>
          </a:p>
        </p:txBody>
      </p:sp>
    </p:spTree>
  </p:cSld>
  <p:transition>
    <p:zoom dir="ou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3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8424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Az információtechnológia forradalm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Átalakulások az üzletben és menedzsmentb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2672-BE2C-4A01-84C2-C3FB374CC7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ÚJ LEHETŐSÉGEK A SZERVEZETEK MŰKÖDÉSÉBEN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Laposabb szervezet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A munkavégzés térbeli korlátainak csökkené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Munkafolyamatok reorganizációj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Rugalmasság növelé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Szervezeti határok 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újradefiniálás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A0F-1924-4130-9CE4-D76295A3E02C}" type="slidenum">
              <a:t>30</a:t>
            </a:fld>
          </a:p>
        </p:txBody>
      </p:sp>
    </p:spTree>
  </p:cSld>
  <p:transition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7" dur="1" fill="hold"/>
                                  <p:tgtEl>
                                    <p:spTgt spid="3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A MENEDZSELÉSI FOLYAMAT VÁLTOZÁSAI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Vállalati erőforrás tervezés (ERP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Elektronikus kereskedel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E-busin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Elektronikus pia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81F-F4ED-4DA0-8A8C-9794CB781C63}" type="slidenum">
              <a:t>31</a:t>
            </a:fld>
          </a:p>
        </p:txBody>
      </p:sp>
    </p:spTree>
  </p:cSld>
  <p:transition>
    <p:zoom dir="ou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6" dur="1" fill="hold"/>
                                  <p:tgtEl>
                                    <p:spTgt spid="3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f1b60f"/>
                </a:solidFill>
                <a:latin typeface="Arial"/>
              </a:rPr>
              <a:t>VÁLLALATI ERŐFORRÁS TERVEZÉS (ENTERPRISE RESOURCE PLANNING </a:t>
            </a:r>
            <a:r>
              <a:rPr b="0" lang="hu-HU" sz="2500" spc="-1" strike="noStrike">
                <a:solidFill>
                  <a:srgbClr val="ffffff"/>
                </a:solidFill>
                <a:latin typeface="Arial"/>
              </a:rPr>
              <a:t>ERP)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Szoftver integrálja a kapcsolódó egységeke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tervezés, gyártás, készletezés, értékesítés, pénzügy, számvit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 tranzakciók megjelenítődnek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valamennyi érintett terület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datok frissítése, tevékenységek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gyorsítása, költségcsökkenté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F0B-50ED-4E73-9527-DFB603AD4275}" type="slidenum">
              <a:t>32</a:t>
            </a:fld>
          </a:p>
        </p:txBody>
      </p:sp>
    </p:spTree>
  </p:cSld>
  <p:transition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5" dur="1" fill="hold"/>
                                  <p:tgtEl>
                                    <p:spTgt spid="3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ELECTRONIKUS KERESKEDELEM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38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z Internet összeköti a vevőket és eladók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Csökkenti a tranzakciós költségek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 szolgáltatások és termékek világméretű reklámozását, cseréjét, eladását teszi lehetőv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A szervezetek közötti (B2B)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tranzakciók száma nő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45F-1FCC-40E6-A982-7B9EF764CB4B}" type="slidenum">
              <a:t>33</a:t>
            </a:fld>
          </a:p>
        </p:txBody>
      </p:sp>
    </p:spTree>
  </p:cSld>
  <p:transition>
    <p:zoom dir="ou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4" dur="1" fill="hold"/>
                                  <p:tgtEl>
                                    <p:spTgt spid="3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E-BUSINESS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Intranet: vállalatok biztonságos magánhálóza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E-mail, Web dokumentumok, csoportmunkát támogató szoftverek kiterjesztik a hatékony 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kommunikáció és kontroll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lehetősége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Virtuális szervez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F1B-C33F-40DB-933B-26BDD3395961}" type="slidenum">
              <a:t>34</a:t>
            </a:fld>
          </a:p>
        </p:txBody>
      </p:sp>
    </p:spTree>
  </p:cSld>
  <p:transition>
    <p:zoom dir="ou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6" dur="1" fill="hold"/>
                                  <p:tgtEl>
                                    <p:spTgt spid="3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3670200"/>
            <a:ext cx="4572000" cy="1359360"/>
            <a:chOff x="0" y="3670200"/>
            <a:chExt cx="4572000" cy="1359360"/>
          </a:xfrm>
        </p:grpSpPr>
        <p:grpSp>
          <p:nvGrpSpPr>
            <p:cNvPr id="333" name=""/>
            <p:cNvGrpSpPr/>
            <p:nvPr/>
          </p:nvGrpSpPr>
          <p:grpSpPr>
            <a:xfrm>
              <a:off x="88920" y="3670200"/>
              <a:ext cx="4483080" cy="1054080"/>
              <a:chOff x="88920" y="3670200"/>
              <a:chExt cx="4483080" cy="1054080"/>
            </a:xfrm>
          </p:grpSpPr>
          <p:sp>
            <p:nvSpPr>
              <p:cNvPr id="334" name=""/>
              <p:cNvSpPr/>
              <p:nvPr/>
            </p:nvSpPr>
            <p:spPr>
              <a:xfrm>
                <a:off x="2679840" y="4114800"/>
                <a:ext cx="18921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8920" y="3670200"/>
                <a:ext cx="2946240" cy="105408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0" y="3720960"/>
              <a:ext cx="3121200" cy="130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57240" indent="-572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ÉRTÉKESÍTÉSI ÉS          MARKETING VÁLLALAT</a:t>
              </a: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                         </a:t>
              </a: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376440" y="4114800"/>
            <a:ext cx="2900520" cy="2476440"/>
            <a:chOff x="3376440" y="4114800"/>
            <a:chExt cx="2900520" cy="2476440"/>
          </a:xfrm>
        </p:grpSpPr>
        <p:sp>
          <p:nvSpPr>
            <p:cNvPr id="338" name=""/>
            <p:cNvSpPr/>
            <p:nvPr/>
          </p:nvSpPr>
          <p:spPr>
            <a:xfrm>
              <a:off x="4829040" y="4114800"/>
              <a:ext cx="0" cy="1650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3376440" y="5626080"/>
              <a:ext cx="2900520" cy="965160"/>
              <a:chOff x="3376440" y="5626080"/>
              <a:chExt cx="2900520" cy="965160"/>
            </a:xfrm>
          </p:grpSpPr>
          <p:sp>
            <p:nvSpPr>
              <p:cNvPr id="340" name=""/>
              <p:cNvSpPr/>
              <p:nvPr/>
            </p:nvSpPr>
            <p:spPr>
              <a:xfrm>
                <a:off x="3457440" y="5626080"/>
                <a:ext cx="2806560" cy="96516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76440" y="5932440"/>
                <a:ext cx="2900520" cy="393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PÉZÜGYI VÁLLALA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4572000" y="3632040"/>
            <a:ext cx="4483080" cy="965520"/>
            <a:chOff x="4572000" y="3632040"/>
            <a:chExt cx="4483080" cy="965520"/>
          </a:xfrm>
        </p:grpSpPr>
        <p:sp>
          <p:nvSpPr>
            <p:cNvPr id="343" name=""/>
            <p:cNvSpPr/>
            <p:nvPr/>
          </p:nvSpPr>
          <p:spPr>
            <a:xfrm>
              <a:off x="4572000" y="4114800"/>
              <a:ext cx="1892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6108840" y="3632040"/>
              <a:ext cx="2946240" cy="965520"/>
              <a:chOff x="6108840" y="3632040"/>
              <a:chExt cx="2946240" cy="965520"/>
            </a:xfrm>
          </p:grpSpPr>
          <p:sp>
            <p:nvSpPr>
              <p:cNvPr id="345" name=""/>
              <p:cNvSpPr/>
              <p:nvPr/>
            </p:nvSpPr>
            <p:spPr>
              <a:xfrm>
                <a:off x="6108840" y="3632040"/>
                <a:ext cx="2946240" cy="9655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7160" y="3697200"/>
                <a:ext cx="1825560" cy="857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GISZTIKA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VÁLLALA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" name=""/>
          <p:cNvGrpSpPr/>
          <p:nvPr/>
        </p:nvGrpSpPr>
        <p:grpSpPr>
          <a:xfrm>
            <a:off x="4782960" y="1066680"/>
            <a:ext cx="4087800" cy="2590200"/>
            <a:chOff x="4782960" y="1066680"/>
            <a:chExt cx="4087800" cy="2590200"/>
          </a:xfrm>
        </p:grpSpPr>
        <p:sp>
          <p:nvSpPr>
            <p:cNvPr id="348" name=""/>
            <p:cNvSpPr/>
            <p:nvPr/>
          </p:nvSpPr>
          <p:spPr>
            <a:xfrm flipV="1">
              <a:off x="4782960" y="1497960"/>
              <a:ext cx="2640600" cy="2158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5925240" y="1066680"/>
              <a:ext cx="2945520" cy="965160"/>
              <a:chOff x="5925240" y="1066680"/>
              <a:chExt cx="2945520" cy="965160"/>
            </a:xfrm>
          </p:grpSpPr>
          <p:sp>
            <p:nvSpPr>
              <p:cNvPr id="350" name=""/>
              <p:cNvSpPr/>
              <p:nvPr/>
            </p:nvSpPr>
            <p:spPr>
              <a:xfrm>
                <a:off x="5925240" y="1066680"/>
                <a:ext cx="2945520" cy="96516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75840" y="1131480"/>
                <a:ext cx="1596240" cy="698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TERVEZŐ VÁLLALA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698400" y="1536840"/>
            <a:ext cx="3861000" cy="2565360"/>
            <a:chOff x="698400" y="1536840"/>
            <a:chExt cx="3861000" cy="2565360"/>
          </a:xfrm>
        </p:grpSpPr>
        <p:sp>
          <p:nvSpPr>
            <p:cNvPr id="353" name=""/>
            <p:cNvSpPr/>
            <p:nvPr/>
          </p:nvSpPr>
          <p:spPr>
            <a:xfrm>
              <a:off x="2070000" y="1994040"/>
              <a:ext cx="2489400" cy="2108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98400" y="1536840"/>
              <a:ext cx="2946600" cy="965160"/>
              <a:chOff x="698400" y="1536840"/>
              <a:chExt cx="2946600" cy="965160"/>
            </a:xfrm>
          </p:grpSpPr>
          <p:sp>
            <p:nvSpPr>
              <p:cNvPr id="355" name=""/>
              <p:cNvSpPr/>
              <p:nvPr/>
            </p:nvSpPr>
            <p:spPr>
              <a:xfrm>
                <a:off x="698400" y="1536840"/>
                <a:ext cx="2946600" cy="96516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992160" y="1601640"/>
                <a:ext cx="2511360" cy="698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GYÁRTÓ VÁLLALA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VIRTUÁLIS SZERVEZET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35480" y="2978280"/>
            <a:ext cx="2273040" cy="2273040"/>
            <a:chOff x="3435480" y="2978280"/>
            <a:chExt cx="2273040" cy="2273040"/>
          </a:xfrm>
        </p:grpSpPr>
        <p:sp>
          <p:nvSpPr>
            <p:cNvPr id="359" name=""/>
            <p:cNvSpPr/>
            <p:nvPr/>
          </p:nvSpPr>
          <p:spPr>
            <a:xfrm>
              <a:off x="3435480" y="2978280"/>
              <a:ext cx="2273040" cy="22730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4b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11680" y="3765600"/>
              <a:ext cx="1520640" cy="11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e74c1b"/>
                  </a:solidFill>
                  <a:latin typeface="Arial"/>
                </a:rPr>
                <a:t>CO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74c1b"/>
                  </a:solidFill>
                  <a:latin typeface="Arial"/>
                </a:rPr>
                <a:t>COMPANY</a:t>
              </a:r>
              <a:r>
                <a:rPr b="0" lang="en-US" sz="2000" spc="-1" strike="noStrike">
                  <a:solidFill>
                    <a:srgbClr val="ff66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EEE-64F0-4832-BC9C-D2934582DFB2}" type="slidenum">
              <a:t>35</a:t>
            </a:fld>
          </a:p>
        </p:txBody>
      </p:sp>
    </p:spTree>
  </p:cSld>
  <p:transition>
    <p:zoom dir="ou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500"/>
                            </p:stCondLst>
                            <p:childTnLst>
                              <p:par>
                                <p:cTn id="5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064720" cy="4321440"/>
          </a:xfrm>
          <a:prstGeom prst="rect">
            <a:avLst/>
          </a:prstGeom>
          <a:noFill/>
          <a:ln w="12600">
            <a:solidFill>
              <a:srgbClr val="f1b60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Arial"/>
              </a:rPr>
              <a:t>STRATÉGIA: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hogyan alkalmazható az it a versenyképesség és hatékonyság javításár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Arial"/>
              </a:rPr>
              <a:t>GLOBALIZÁCIÓ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hogyan lehet kezelni a gazdasági környezet támasztotta követelményeke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Arial"/>
              </a:rPr>
              <a:t>INFO ARCHITEKTÚR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hogyan támogathatja az IT infrastruktúra az üzleti céloka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Arial"/>
              </a:rPr>
              <a:t>BERUHÁZÁSOK: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hogyan határozható meg az információrendszerek üzleti érték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1b60f"/>
                </a:solidFill>
                <a:latin typeface="Arial"/>
              </a:rPr>
              <a:t>FELELŐSSÉG ÉS KONTROLL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etikai kérdés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2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AZ INFORMÁCIÓRENDSZEREKBŐL EREDŐ KIHÍVÁSO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9FA-24F0-4673-BC06-AEB6F63599D7}" type="slidenum">
              <a:t>36</a:t>
            </a:fld>
          </a:p>
        </p:txBody>
      </p:sp>
    </p:spTree>
  </p:cSld>
  <p:transition>
    <p:zoom dir="out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7" dur="1" fill="hold"/>
                                  <p:tgtEl>
                                    <p:spTgt spid="3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Az előadás célj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Definiálni az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formációrendszer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fogalmá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Nem számítástechnikai, hanem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nformációrendszer menedzsment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ismeretek átadás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Az információrendszerek szervezetekre és menedzsmentre gyakorolt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atásának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bemutatás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911-93AA-460A-94D0-6B8CA08295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Az előadás célj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Bemutatni az  elektronikus kereskedelem és az e-business fogalmát, kapcsolatát az Internethez és a digitális technológiáho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Azonosítani az információrendszerek fejlesztésének és használatának fontosabb menedzsment kihívása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3FE-D18E-4C91-BBAA-8BAB230E59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9280" y="685440"/>
            <a:ext cx="77947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Arial"/>
              </a:rPr>
              <a:t>Vezetési kihívások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Miért van szükség információrendszerekre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z információrendszerek lehetséges megközelítése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z információrendszerek új szerepe a szervezetekbe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z információrendszerek használatának elsajátítása: új lehetőségek a technológiába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FD4-2E45-488B-8347-C96912ED2A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Üzleti környezet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Globalizáció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Az ipari társadalmak átalakulás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A vállalatok átalakulás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29F-59D5-4EA0-8D5F-C2A69E151E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Globalizáció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1b60f"/>
                </a:solidFill>
                <a:latin typeface="Arial"/>
              </a:rPr>
              <a:t>Menedzsment és kontro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1b60f"/>
                </a:solidFill>
                <a:latin typeface="Arial"/>
              </a:rPr>
              <a:t>Nemzetközi verseny, világpia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1b60f"/>
                </a:solidFill>
                <a:latin typeface="Arial"/>
              </a:rPr>
              <a:t>Globálissá váló termel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1b60f"/>
                </a:solidFill>
                <a:latin typeface="Arial"/>
              </a:rPr>
              <a:t>Globális vásárlási lehetőség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F34-8342-496B-B300-73340493BC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1b60f"/>
                </a:solidFill>
                <a:latin typeface="Arial"/>
              </a:rPr>
              <a:t>Globalizáció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477120" cy="3551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11560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47920" y="2438280"/>
            <a:ext cx="1904760" cy="2667240"/>
            <a:chOff x="1447920" y="2438280"/>
            <a:chExt cx="1904760" cy="2667240"/>
          </a:xfrm>
        </p:grpSpPr>
        <p:sp>
          <p:nvSpPr>
            <p:cNvPr id="109" name=""/>
            <p:cNvSpPr/>
            <p:nvPr/>
          </p:nvSpPr>
          <p:spPr>
            <a:xfrm>
              <a:off x="1447920" y="2438280"/>
              <a:ext cx="1904760" cy="2667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44480" y="3123000"/>
              <a:ext cx="146556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1b60f"/>
                  </a:solidFill>
                  <a:latin typeface="Arial"/>
                </a:rPr>
                <a:t>Vállalat 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1b60f"/>
                  </a:solidFill>
                  <a:latin typeface="Arial"/>
                </a:rPr>
                <a:t>Ötl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1b60f"/>
                  </a:solidFill>
                  <a:latin typeface="Arial"/>
                </a:rPr>
                <a:t>Tervez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1b60f"/>
                  </a:solidFill>
                  <a:latin typeface="Arial"/>
                </a:rPr>
                <a:t>Gyárt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86200" y="2438280"/>
            <a:ext cx="1904760" cy="2667240"/>
            <a:chOff x="3886200" y="2438280"/>
            <a:chExt cx="1904760" cy="2667240"/>
          </a:xfrm>
        </p:grpSpPr>
        <p:sp>
          <p:nvSpPr>
            <p:cNvPr id="112" name=""/>
            <p:cNvSpPr/>
            <p:nvPr/>
          </p:nvSpPr>
          <p:spPr>
            <a:xfrm>
              <a:off x="3886200" y="2438280"/>
              <a:ext cx="1904760" cy="2667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82760" y="3123000"/>
              <a:ext cx="146556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1b60f"/>
                  </a:solidFill>
                  <a:latin typeface="Arial"/>
                </a:rPr>
                <a:t>Vállalat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1b60f"/>
                  </a:solidFill>
                  <a:latin typeface="Arial"/>
                </a:rPr>
                <a:t>Ötl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1b60f"/>
                  </a:solidFill>
                  <a:latin typeface="Arial"/>
                </a:rPr>
                <a:t>Tervez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1b60f"/>
                  </a:solidFill>
                  <a:latin typeface="Arial"/>
                </a:rPr>
                <a:t>Gyárt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629400" y="2438280"/>
            <a:ext cx="1904760" cy="2667240"/>
            <a:chOff x="6629400" y="2438280"/>
            <a:chExt cx="1904760" cy="2667240"/>
          </a:xfrm>
        </p:grpSpPr>
        <p:sp>
          <p:nvSpPr>
            <p:cNvPr id="115" name=""/>
            <p:cNvSpPr/>
            <p:nvPr/>
          </p:nvSpPr>
          <p:spPr>
            <a:xfrm>
              <a:off x="6629400" y="2438280"/>
              <a:ext cx="1904760" cy="2667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16240" y="3123000"/>
              <a:ext cx="1482120" cy="164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1b60f"/>
                  </a:solidFill>
                  <a:latin typeface="Arial"/>
                </a:rPr>
                <a:t>Vállalat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1b60f"/>
                  </a:solidFill>
                  <a:latin typeface="Arial"/>
                </a:rPr>
                <a:t>Ötl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1b60f"/>
                  </a:solidFill>
                  <a:latin typeface="Arial"/>
                </a:rPr>
                <a:t>Tervezé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f1b60f"/>
                  </a:solidFill>
                  <a:latin typeface="Arial"/>
                </a:rPr>
                <a:t>Gyártá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33240" y="167652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6600"/>
                </a:solidFill>
                <a:latin typeface="Arial"/>
              </a:rPr>
              <a:t>A régi modell</a:t>
            </a: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Arial"/>
              </a:rPr>
              <a:t>Központi tervezés és gyártás egy adott helye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Arial"/>
              </a:rPr>
              <a:t>Regionális piacok helyi beszállítókka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5181480"/>
            <a:ext cx="304812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1b60f"/>
                </a:solidFill>
                <a:latin typeface="Arial"/>
              </a:rPr>
              <a:t>Integrált struktúr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1b60f"/>
                </a:solidFill>
                <a:latin typeface="Arial"/>
              </a:rPr>
              <a:t>Egy regionális környeze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9026600">
            <a:off x="6019920" y="487656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rot="2573400">
            <a:off x="2743200" y="480024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0281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1b60f"/>
                </a:solidFill>
                <a:latin typeface="Arial"/>
              </a:rPr>
              <a:t>Nagyon stabil, rugalmatlan helyi struktúrá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655-881B-4516-AE9B-C8F7801999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ser</cp:lastModifiedBy>
  <dcterms:modified xsi:type="dcterms:W3CDTF">2006-05-29T19:02:14Z</dcterms:modified>
  <cp:revision>69</cp:revision>
  <dc:subject/>
  <dc:title>PowerPoint bemutató</dc:title>
</cp:coreProperties>
</file>