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25E-1ADE-4AD6-AD5B-8751512C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386-5743-4994-B9B0-C006B3E6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9A9-B013-483D-ADA6-5FBC96F7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E94-069C-4D33-A5DE-B08BFC5B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0BCB-3937-4154-9A3D-674F9E47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EF8C-A0C4-4910-8CB1-B749FE5A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9CC4-821C-4507-8442-ADC36910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0792-B52D-453B-A2BB-FF8ED5A3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C9E4-DA5D-450E-AF19-94A5CD5A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6F72-BBD5-447F-8390-2A5DB130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F33-19DA-4160-BDC1-7B556CC4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28F-9227-400D-99F7-10A23CF2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2D41-5013-41EF-80F8-413108B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385E-5726-4A91-B250-8700ACD6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19BD-DBC4-4FF2-B99A-D3027A53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1F06-0EC6-44E1-B258-619ACDB0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1F90-6F8F-4E3D-B8CF-711EBE28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19C-3801-42C4-A55F-43C1C7C5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C1A-2FD7-4805-84CB-A5030050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678-FED4-4830-B937-8CB9CC1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D41-D0C3-4747-B125-795BE545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25E-1A26-4E68-9290-B04895C4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5AB-6EE0-4CCC-B5B4-A0CE4CF6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E1B-9414-4023-B755-DC4D8E6F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348C-1B21-4332-AC30-06CB82C19DD5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041-1AB0-4B52-BDA1-8305CCA59290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649F-47B7-402A-803C-429399379A6D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F76C-9277-4C3B-991A-20A1343BDDC1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ankweb.hu/eugyintezes11.htm" TargetMode="External"/><Relationship Id="rId2" Type="http://schemas.openxmlformats.org/officeDocument/2006/relationships/hyperlink" Target="http://www.bankweb.hu/eugyintezes11.htm" TargetMode="External"/><Relationship Id="rId3" Type="http://schemas.openxmlformats.org/officeDocument/2006/relationships/hyperlink" Target="http://www.bankweb.hu/eugyintezes11.htm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ztaki.hu/sztaki/projects/kaposvar/informacios_tarsadalom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805644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11. előadás: </a:t>
            </a: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z elektronikus kormányzat elemei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8209080" cy="51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6AC-FED9-4D10-B091-C7CE8F0922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E-ügyintézés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6560" y="1700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Világbank definíciója szerint az e-kormányzat nem más, mint hogy a kormányszervek és a közigazgatás felhasználja az információtechnológia (IT) eredményeit (hálózati infrastruktúra, internet, mobiltelefónia) annak érdekében, hogy átalakítsák kapcsolati rendszerüket az állampolgárral, az üzleti szférával és a közigazgatás többi szereplőjével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hu-HU" sz="17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www.bankweb.hu</a:t>
            </a:r>
            <a:r>
              <a:rPr b="0" lang="hu-HU" sz="17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/eugyintezes11.ht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kihasználtság növelésének kulcstényezői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minél több helyen hozzá lehessen férni a szélessávú internethez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terjedjenek el a közösségi hozzáférési helyek (PIAP - Public Internet Access Place). Angliában például ennek érdekében az állami támogatás mértéke attól függ, hogy az adott PIAP-ról hány szolgáltatást kezdeményeztek e-kormányzati oldalra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935-D88B-46AC-B750-5B09AD8687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E-ügyintézés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9280" y="1787400"/>
            <a:ext cx="8820360" cy="32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C8E-6514-4F1E-B16F-0427EB4AEA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Front-office és back-office integrációja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www.sztaki.hu/sztaki/projects/kaposvar/informacios_tarsadalom.htm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z önkormányzat modernizálása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közigazgatással történő kapcsolattartás (ügyintézés, hatósági ügyek, stb.) megkönnyítése az állampolgárok számá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front-office tevékenység (ügyfélkapcsolat) "ügyfélbarát" jellegének erősítése a mesterséges intelligencia, döntéstámogatás eszközeinek felhasználásáv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közigazgatás működésének átláthatóbbá tétele az állampolgárok számár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 közigazgatási folyamatok újragondolása (folyamatok, szervezetek, jogszabályo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back-office tevékenység (saját belső adminisztráció) szakszerűségének támogatás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felsorolt területeken felmerülő jogi és igazgatásszervezési problémák megoldhatóságának vizsgála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B8D-7F77-4A57-8ECC-1CF408FBDD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Front-office és back-office integrációja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z e-kormányzat négy fejlődési fázisa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első fázisban a helyi önkormányzat nyilvános webhelyet állít fe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második fázisban a helyi önkormányzat e-mailen vagy egy véleménynyilvánító-oldalon keresztül kapcsolatban áll a felhasználókkal. Ezenkívül a webhelyen nagy mennyiségű kormányzati információt tesznek közzé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 harmadik fázisban a felhasználók már éjjel-nappal lebonyolíthatnak tranzakciókat a helyi önkormányzattal. Például a helyi lakosok befizethetik a vízszámlájukat online módon, az ide készülő látogatók megkereshetik a helyi kempingeket és online kérhetnek engedélyt. Az üzletemberek online tölthetik ki és küldhetik be az építési engedély kérelmüket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utolsó, negyedik fázisban a helyi önkormányzatok átalakítják működési folyamataikat. Például a helyi önkormányzatok lecsökkenthetik a nyitvatartási idejüket, kevesebb alkalmazottat kell foglalkoztatniuk, viszont az ügyfeleiknek több szolgáltatást tudnak nyújtani, de csak online módon. Néhány helyi önkormányzat már elkezdte átalakítani a működési folyamatai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44F-8402-43E3-89F5-85EFC43EC1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Front-office és back-office integrációja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Arial"/>
              </a:rPr>
              <a:t>Az e-kormányzat előnyei:</a:t>
            </a: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z ügyfél az ügyintézésben nincs a hivatali órákhoz kötv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z ügyfélnek nem kell a bürokratákkal foglalkozn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 jól szervezett webhelyen könnyebb megtalálni az információ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z ügyfelet interaktív eszközök segítik a döntések meghozataláb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 megszerzett információ sokkal teljesebb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z információ nem minden esetben érhető el offline</a:t>
            </a:r>
            <a:br>
              <a:rPr sz="1900"/>
            </a:b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ffff"/>
                </a:solidFill>
                <a:latin typeface="Arial"/>
              </a:rPr>
              <a:t>Az e-kormányzat szóba jöhető hátrányai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Elvész a személyes kapcsolat az ügyfelek és az ügyintézők között. Az emberek egy része ezt fontosnak tartja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fffff"/>
                </a:solidFill>
                <a:latin typeface="Arial"/>
              </a:rPr>
              <a:t>Az információkat néha nehéz megtalálni. Fontos a portálok felépítésekor a jó, áttekinthető szervezé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E9D-3046-40A2-B76A-7FF3675BDB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Front-office és back-office integrációja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63280" y="1052640"/>
            <a:ext cx="7056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feladatok az ügyintézés helye szerint lehetnek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önkormányzaton belü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polgármesteri hivatalon belül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polgármesteri hivatal és a közgyűlés közöt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önkormányzat és az önkormányzat saját intézményei közöt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önkormányzat és társszervei között (egyéb önkormányzati, állami szervek, hatóságok, stb.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önkormányzat és egyéb intézmények, vállalkozások, stb. közöt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az önkormányzat és a lakosság között</a:t>
            </a:r>
            <a:br>
              <a:rPr sz="1700"/>
            </a:b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fffff"/>
                </a:solidFill>
                <a:latin typeface="Arial"/>
              </a:rPr>
              <a:t>A feladatok az ügyintézés típusa szerint lehetnek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egyirányú, az önkormányzattól kiinduló információszolgáltatá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egyirányú, az önkormányzattól kiinduló és az ügyintézési adminisztrációt csökkentő egyéb szolgáltatások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Arial"/>
              </a:rPr>
              <a:t>kétoldalú, interaktív ügyintézés (az önkormányzat és a másik fél közös ügyintézése, kölcsönös visszaigazolással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5CA-19A5-40B8-8BFC-CA11121BA4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Front-office és back-office integrációja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201760" y="1714680"/>
            <a:ext cx="5899320" cy="41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BAE-0D03-4BAA-8448-A3AFA581FC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Front-office és back-office integrációja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megvalósuló front office modulok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ternet portá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ortálba beépített természetes nyelvi feldolgozó mod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telligens információ irányító mod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ba épített intelligens információ irányító modul (i-GYIK)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kiépülő back-office rendszerelemek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tranet portá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Építéshatósági ügyintézést támogató rendszer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workflow + webservic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-közgyűlést támogató</a:t>
            </a:r>
            <a:br>
              <a:rPr sz="2000"/>
            </a:b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workflow + webservices) 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694-0665-4F9A-992D-18C94B4097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Front-office és back-office integrációja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704360" cy="38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181-2FF8-42BC-8BFB-C03550E4E0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4200" y="549000"/>
            <a:ext cx="77943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Elektronikus kormányz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4960" y="1844280"/>
            <a:ext cx="82486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Térinformatik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Elektronikus közbeszerz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Egyablakos ügyintézés, E-ügyintéz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ront-office és back-office integrációj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Routing, E-demokrácia, E-petíció, E-Szavaz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Technológia támogat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lkalmazásintegráció, MO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Oracle Procurement rendsz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BEF-8686-409B-BD22-40281C368B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Front-office és back-office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92360" y="765000"/>
            <a:ext cx="7200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Internet-portál főbb funkciói: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Általános portál funkciók az egész önkormányzatra vonatkozóa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Ügyintézési iránytű, letölthető űrlapok kihelyezése a portál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Felhasználó azonosítá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Bejelentések kezelése (Panaszok bejelenté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éleménynyilvánítás (szavazás, fór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Pályázatok kezelé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alendárium, eseménynaptá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eresési lehetőség biztosítása (kulcsszava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Site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Önkormányzati rendelettár kialakítás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árosi Szolgáltatásl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Elektronikus ügyintézési felület kialakítása a Műszaki Hatósági Irodához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7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Elektronikus ügyintézési lehetőségek: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A Műszaki Hatósági Irodán az előzetes tervek szerint a következő ügyeket lehetne elektronikus úton indítani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7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Építkezés megkezdésének bejelenté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7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Építési engedély meghosszabbítása iránti kérele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7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Panaszok bejelenté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7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Elveszett határozatok pótlási kérelm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7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Ügyköveté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7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Arial"/>
              </a:rPr>
              <a:t>Kötelező kifüggeszté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ffffff"/>
                </a:solidFill>
                <a:latin typeface="Arial"/>
              </a:rPr>
              <a:t>Az Intranet főbb pontjai:</a:t>
            </a:r>
            <a:r>
              <a:rPr b="0" lang="hu-HU" sz="15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elektronikus faliújsá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Hírlevelek küldése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Határidőnapló szolgáltatás kialakítás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Távoktatás: Oktatóanyagok, előadások közzététel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Csoportmunka-kezelő modul (belső dokumentum-kezelés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ffffff"/>
                </a:solidFill>
                <a:latin typeface="Arial"/>
              </a:rPr>
              <a:t>Adatbázisok közzététele az intraneten</a:t>
            </a:r>
            <a:r>
              <a:rPr b="0" lang="hu-H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267-4E1F-48CB-96AD-CBB21D8870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E-Szavazás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702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szköz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obil-eszközö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vazófal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emélyes jelenlé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ükséges (PI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em szükséges (Kulcs, Biometria, PIN)</a:t>
            </a:r>
            <a:br>
              <a:rPr sz="1800"/>
            </a:b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Céljai szer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épszavazás (egy szavazó – egy szavaza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özvéleménykutatás (Matematikai korrekci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38520" y="1486080"/>
            <a:ext cx="4050000" cy="43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AE4-6B5E-4E86-AD71-B60A238106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561440" cy="55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730B-A034-40C6-895F-204DFBEF44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92280"/>
            <a:ext cx="7201080" cy="53082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14360" y="1197000"/>
            <a:ext cx="5982840" cy="4535280"/>
            <a:chOff x="1314360" y="1197000"/>
            <a:chExt cx="5982840" cy="4535280"/>
          </a:xfrm>
        </p:grpSpPr>
        <p:grpSp>
          <p:nvGrpSpPr>
            <p:cNvPr id="95" name=""/>
            <p:cNvGrpSpPr/>
            <p:nvPr/>
          </p:nvGrpSpPr>
          <p:grpSpPr>
            <a:xfrm>
              <a:off x="1314360" y="1491840"/>
              <a:ext cx="5982840" cy="4165920"/>
              <a:chOff x="1314360" y="1491840"/>
              <a:chExt cx="5982840" cy="4165920"/>
            </a:xfrm>
          </p:grpSpPr>
          <p:sp>
            <p:nvSpPr>
              <p:cNvPr id="96" name=""/>
              <p:cNvSpPr/>
              <p:nvPr/>
            </p:nvSpPr>
            <p:spPr>
              <a:xfrm>
                <a:off x="1314360" y="1891800"/>
                <a:ext cx="3940920" cy="2827800"/>
              </a:xfrm>
              <a:prstGeom prst="ellipse">
                <a:avLst/>
              </a:prstGeom>
              <a:noFill/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60560" y="2829960"/>
                <a:ext cx="3940920" cy="2827800"/>
              </a:xfrm>
              <a:prstGeom prst="ellipse">
                <a:avLst/>
              </a:prstGeom>
              <a:noFill/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54840" y="1491840"/>
                <a:ext cx="3942360" cy="2827800"/>
              </a:xfrm>
              <a:prstGeom prst="ellipse">
                <a:avLst/>
              </a:prstGeom>
              <a:noFill/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1626840" y="2623320"/>
              <a:ext cx="1372320" cy="751680"/>
              <a:chOff x="1626840" y="2623320"/>
              <a:chExt cx="1372320" cy="751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626840" y="2623320"/>
                <a:ext cx="1372320" cy="751680"/>
              </a:xfrm>
              <a:custGeom>
                <a:avLst/>
                <a:gdLst/>
                <a:ahLst/>
                <a:rect l="l" t="t" r="r" b="b"/>
                <a:pathLst>
                  <a:path w="988" h="607">
                    <a:moveTo>
                      <a:pt x="0" y="606"/>
                    </a:moveTo>
                    <a:lnTo>
                      <a:pt x="987" y="606"/>
                    </a:lnTo>
                    <a:lnTo>
                      <a:pt x="987" y="0"/>
                    </a:lnTo>
                    <a:lnTo>
                      <a:pt x="0" y="0"/>
                    </a:lnTo>
                    <a:lnTo>
                      <a:pt x="0" y="606"/>
                    </a:lnTo>
                    <a:lnTo>
                      <a:pt x="0" y="60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52840" y="2734560"/>
                <a:ext cx="117216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A2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lektroniku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államigazgatá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555920" y="2103840"/>
              <a:ext cx="3358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3700" spc="-1" strike="noStrike">
                  <a:solidFill>
                    <a:srgbClr val="404040"/>
                  </a:solidFill>
                  <a:latin typeface="Arial"/>
                </a:rPr>
                <a:t>A</a:t>
              </a:r>
              <a:endParaRPr b="0" lang="en-US" sz="3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80800" y="1695240"/>
              <a:ext cx="3358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3700" spc="-1" strike="noStrike">
                  <a:solidFill>
                    <a:srgbClr val="404040"/>
                  </a:solidFill>
                  <a:latin typeface="Arial"/>
                </a:rPr>
                <a:t>B</a:t>
              </a:r>
              <a:endParaRPr b="0" lang="en-US" sz="3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64080" y="5001480"/>
              <a:ext cx="33588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3700" spc="-1" strike="noStrike">
                  <a:solidFill>
                    <a:srgbClr val="404040"/>
                  </a:solidFill>
                  <a:latin typeface="Arial"/>
                </a:rPr>
                <a:t>C</a:t>
              </a:r>
              <a:endParaRPr b="0" lang="en-US" sz="3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723680" y="1738440"/>
              <a:ext cx="1800360" cy="396360"/>
              <a:chOff x="1723680" y="1738440"/>
              <a:chExt cx="1800360" cy="396360"/>
            </a:xfrm>
          </p:grpSpPr>
          <p:sp>
            <p:nvSpPr>
              <p:cNvPr id="106" name=""/>
              <p:cNvSpPr/>
              <p:nvPr/>
            </p:nvSpPr>
            <p:spPr>
              <a:xfrm>
                <a:off x="1723680" y="1738440"/>
                <a:ext cx="1800360" cy="396360"/>
              </a:xfrm>
              <a:custGeom>
                <a:avLst/>
                <a:gdLst/>
                <a:ahLst/>
                <a:rect l="l" t="t" r="r" b="b"/>
                <a:pathLst>
                  <a:path w="1296" h="320">
                    <a:moveTo>
                      <a:pt x="0" y="319"/>
                    </a:moveTo>
                    <a:lnTo>
                      <a:pt x="1295" y="319"/>
                    </a:lnTo>
                    <a:lnTo>
                      <a:pt x="1295" y="0"/>
                    </a:lnTo>
                    <a:lnTo>
                      <a:pt x="0" y="0"/>
                    </a:lnTo>
                    <a:lnTo>
                      <a:pt x="0" y="319"/>
                    </a:lnTo>
                    <a:lnTo>
                      <a:pt x="0" y="31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90360" y="1797840"/>
                <a:ext cx="1537560" cy="29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-közigazgatá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95600" y="1197000"/>
              <a:ext cx="1082160" cy="370440"/>
              <a:chOff x="5295600" y="1197000"/>
              <a:chExt cx="1082160" cy="370440"/>
            </a:xfrm>
          </p:grpSpPr>
          <p:sp>
            <p:nvSpPr>
              <p:cNvPr id="109" name=""/>
              <p:cNvSpPr/>
              <p:nvPr/>
            </p:nvSpPr>
            <p:spPr>
              <a:xfrm>
                <a:off x="5295600" y="1197000"/>
                <a:ext cx="1082160" cy="370440"/>
              </a:xfrm>
              <a:custGeom>
                <a:avLst/>
                <a:gdLst/>
                <a:ahLst/>
                <a:rect l="l" t="t" r="r" b="b"/>
                <a:pathLst>
                  <a:path w="779" h="299">
                    <a:moveTo>
                      <a:pt x="0" y="298"/>
                    </a:moveTo>
                    <a:lnTo>
                      <a:pt x="778" y="298"/>
                    </a:lnTo>
                    <a:lnTo>
                      <a:pt x="778" y="0"/>
                    </a:lnTo>
                    <a:lnTo>
                      <a:pt x="0" y="0"/>
                    </a:lnTo>
                    <a:lnTo>
                      <a:pt x="0" y="298"/>
                    </a:lnTo>
                    <a:lnTo>
                      <a:pt x="0" y="298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95320" y="1251360"/>
                <a:ext cx="9237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-vállala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854880" y="4827960"/>
              <a:ext cx="2119680" cy="904320"/>
              <a:chOff x="3854880" y="4827960"/>
              <a:chExt cx="2119680" cy="90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3854880" y="4827960"/>
                <a:ext cx="2119680" cy="904320"/>
              </a:xfrm>
              <a:custGeom>
                <a:avLst/>
                <a:gdLst/>
                <a:ahLst/>
                <a:rect l="l" t="t" r="r" b="b"/>
                <a:pathLst>
                  <a:path w="1526" h="730">
                    <a:moveTo>
                      <a:pt x="0" y="729"/>
                    </a:moveTo>
                    <a:lnTo>
                      <a:pt x="1525" y="729"/>
                    </a:lnTo>
                    <a:lnTo>
                      <a:pt x="152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51800" y="4961520"/>
                <a:ext cx="1808640" cy="6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-polgár, E-fogyasztó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-munkavállaló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950560" y="3904560"/>
              <a:ext cx="1251360" cy="520560"/>
              <a:chOff x="2950560" y="3904560"/>
              <a:chExt cx="1251360" cy="520560"/>
            </a:xfrm>
          </p:grpSpPr>
          <p:sp>
            <p:nvSpPr>
              <p:cNvPr id="115" name=""/>
              <p:cNvSpPr/>
              <p:nvPr/>
            </p:nvSpPr>
            <p:spPr>
              <a:xfrm>
                <a:off x="2950560" y="3904560"/>
                <a:ext cx="1251360" cy="520560"/>
              </a:xfrm>
              <a:custGeom>
                <a:avLst/>
                <a:gdLst/>
                <a:ahLst/>
                <a:rect l="l" t="t" r="r" b="b"/>
                <a:pathLst>
                  <a:path w="901" h="420">
                    <a:moveTo>
                      <a:pt x="0" y="419"/>
                    </a:moveTo>
                    <a:lnTo>
                      <a:pt x="900" y="419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0" y="419"/>
                    </a:lnTo>
                    <a:lnTo>
                      <a:pt x="0" y="41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65760" y="3981240"/>
                <a:ext cx="1069560" cy="3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C2A, A2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ügyintézé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294160" y="3325680"/>
              <a:ext cx="1541880" cy="718560"/>
              <a:chOff x="5294160" y="3325680"/>
              <a:chExt cx="1541880" cy="718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294160" y="3325680"/>
                <a:ext cx="1541880" cy="718560"/>
              </a:xfrm>
              <a:custGeom>
                <a:avLst/>
                <a:gdLst/>
                <a:ahLst/>
                <a:rect l="l" t="t" r="r" b="b"/>
                <a:pathLst>
                  <a:path w="1110" h="580">
                    <a:moveTo>
                      <a:pt x="0" y="579"/>
                    </a:moveTo>
                    <a:lnTo>
                      <a:pt x="1109" y="579"/>
                    </a:lnTo>
                    <a:lnTo>
                      <a:pt x="1109" y="0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0" y="57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37440" y="3431880"/>
                <a:ext cx="1316520" cy="5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2C, C2B, B2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-kereskedelem, E-ban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438520" y="1858680"/>
              <a:ext cx="1102680" cy="547560"/>
              <a:chOff x="5438520" y="1858680"/>
              <a:chExt cx="1102680" cy="547560"/>
            </a:xfrm>
          </p:grpSpPr>
          <p:sp>
            <p:nvSpPr>
              <p:cNvPr id="121" name=""/>
              <p:cNvSpPr/>
              <p:nvPr/>
            </p:nvSpPr>
            <p:spPr>
              <a:xfrm>
                <a:off x="5438520" y="1858680"/>
                <a:ext cx="1102680" cy="547560"/>
              </a:xfrm>
              <a:custGeom>
                <a:avLst/>
                <a:gdLst/>
                <a:ahLst/>
                <a:rect l="l" t="t" r="r" b="b"/>
                <a:pathLst>
                  <a:path w="794" h="442">
                    <a:moveTo>
                      <a:pt x="0" y="441"/>
                    </a:moveTo>
                    <a:lnTo>
                      <a:pt x="793" y="441"/>
                    </a:lnTo>
                    <a:lnTo>
                      <a:pt x="793" y="0"/>
                    </a:lnTo>
                    <a:lnTo>
                      <a:pt x="0" y="0"/>
                    </a:lnTo>
                    <a:lnTo>
                      <a:pt x="0" y="441"/>
                    </a:lnTo>
                    <a:lnTo>
                      <a:pt x="0" y="44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41120" y="1939320"/>
                <a:ext cx="9403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2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-piacté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43760" y="2151000"/>
              <a:ext cx="1579320" cy="751680"/>
              <a:chOff x="3443760" y="2151000"/>
              <a:chExt cx="1579320" cy="751680"/>
            </a:xfrm>
          </p:grpSpPr>
          <p:sp>
            <p:nvSpPr>
              <p:cNvPr id="124" name=""/>
              <p:cNvSpPr/>
              <p:nvPr/>
            </p:nvSpPr>
            <p:spPr>
              <a:xfrm>
                <a:off x="3443760" y="2151000"/>
                <a:ext cx="1579320" cy="751680"/>
              </a:xfrm>
              <a:custGeom>
                <a:avLst/>
                <a:gdLst/>
                <a:ahLst/>
                <a:rect l="l" t="t" r="r" b="b"/>
                <a:pathLst>
                  <a:path w="1137" h="607">
                    <a:moveTo>
                      <a:pt x="0" y="606"/>
                    </a:moveTo>
                    <a:lnTo>
                      <a:pt x="1136" y="606"/>
                    </a:lnTo>
                    <a:lnTo>
                      <a:pt x="1136" y="0"/>
                    </a:lnTo>
                    <a:lnTo>
                      <a:pt x="0" y="0"/>
                    </a:lnTo>
                    <a:lnTo>
                      <a:pt x="0" y="606"/>
                    </a:lnTo>
                    <a:lnTo>
                      <a:pt x="0" y="60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90640" y="2262240"/>
                <a:ext cx="134856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A2B, B2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-közbeszerzé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-ügyintézé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2B3-8059-4AEE-9F55-772C8539D6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2680" y="1079640"/>
            <a:ext cx="6362640" cy="1795320"/>
          </a:xfrm>
          <a:custGeom>
            <a:avLst/>
            <a:gdLst/>
            <a:ahLst/>
            <a:rect l="l" t="t" r="r" b="b"/>
            <a:pathLst>
              <a:path w="4409" h="1281">
                <a:moveTo>
                  <a:pt x="0" y="1280"/>
                </a:moveTo>
                <a:lnTo>
                  <a:pt x="4408" y="1280"/>
                </a:lnTo>
                <a:lnTo>
                  <a:pt x="4408" y="0"/>
                </a:lnTo>
                <a:lnTo>
                  <a:pt x="0" y="0"/>
                </a:lnTo>
                <a:lnTo>
                  <a:pt x="0" y="1280"/>
                </a:lnTo>
                <a:lnTo>
                  <a:pt x="0" y="128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06320" y="1345680"/>
            <a:ext cx="54324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5840" y="620640"/>
            <a:ext cx="7944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3200" spc="-1" strike="noStrike">
                <a:solidFill>
                  <a:srgbClr val="f1b60f"/>
                </a:solidFill>
                <a:latin typeface="Arial"/>
              </a:rPr>
              <a:t>Röviden az e-kereskedelemr</a:t>
            </a:r>
            <a:r>
              <a:rPr b="1" lang="hu-HU" sz="3200" spc="-1" strike="noStrike">
                <a:solidFill>
                  <a:srgbClr val="f1b60f"/>
                </a:solidFill>
                <a:latin typeface="Arial"/>
              </a:rPr>
              <a:t>ő</a:t>
            </a:r>
            <a:r>
              <a:rPr b="1" lang="en-GB" sz="3200" spc="-1" strike="noStrike">
                <a:solidFill>
                  <a:srgbClr val="f1b60f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14360" y="5373720"/>
            <a:ext cx="72583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1996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       1997      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     1998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           1999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1b60f"/>
                </a:solidFill>
                <a:latin typeface="Arial"/>
              </a:rPr>
              <a:t>                 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1280" y="5805360"/>
            <a:ext cx="612720" cy="0"/>
          </a:xfrm>
          <a:prstGeom prst="line">
            <a:avLst/>
          </a:prstGeom>
          <a:ln w="18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800" y="2201760"/>
            <a:ext cx="8758440" cy="3765600"/>
          </a:xfrm>
          <a:custGeom>
            <a:avLst/>
            <a:gdLst/>
            <a:ahLst/>
            <a:rect l="l" t="t" r="r" b="b"/>
            <a:pathLst>
              <a:path w="6069" h="2688">
                <a:moveTo>
                  <a:pt x="0" y="2687"/>
                </a:moveTo>
                <a:lnTo>
                  <a:pt x="21" y="2686"/>
                </a:lnTo>
                <a:lnTo>
                  <a:pt x="83" y="2681"/>
                </a:lnTo>
                <a:lnTo>
                  <a:pt x="181" y="2674"/>
                </a:lnTo>
                <a:lnTo>
                  <a:pt x="311" y="2663"/>
                </a:lnTo>
                <a:lnTo>
                  <a:pt x="467" y="2651"/>
                </a:lnTo>
                <a:lnTo>
                  <a:pt x="645" y="2636"/>
                </a:lnTo>
                <a:lnTo>
                  <a:pt x="839" y="2620"/>
                </a:lnTo>
                <a:lnTo>
                  <a:pt x="1046" y="2601"/>
                </a:lnTo>
                <a:lnTo>
                  <a:pt x="1259" y="2583"/>
                </a:lnTo>
                <a:lnTo>
                  <a:pt x="1476" y="2563"/>
                </a:lnTo>
                <a:lnTo>
                  <a:pt x="1690" y="2542"/>
                </a:lnTo>
                <a:lnTo>
                  <a:pt x="1898" y="2520"/>
                </a:lnTo>
                <a:lnTo>
                  <a:pt x="2094" y="2500"/>
                </a:lnTo>
                <a:lnTo>
                  <a:pt x="2274" y="2479"/>
                </a:lnTo>
                <a:lnTo>
                  <a:pt x="2433" y="2458"/>
                </a:lnTo>
                <a:lnTo>
                  <a:pt x="2567" y="2438"/>
                </a:lnTo>
                <a:lnTo>
                  <a:pt x="2643" y="2426"/>
                </a:lnTo>
                <a:lnTo>
                  <a:pt x="2727" y="2411"/>
                </a:lnTo>
                <a:lnTo>
                  <a:pt x="2818" y="2394"/>
                </a:lnTo>
                <a:lnTo>
                  <a:pt x="2915" y="2375"/>
                </a:lnTo>
                <a:lnTo>
                  <a:pt x="3015" y="2356"/>
                </a:lnTo>
                <a:lnTo>
                  <a:pt x="3119" y="2334"/>
                </a:lnTo>
                <a:lnTo>
                  <a:pt x="3225" y="2312"/>
                </a:lnTo>
                <a:lnTo>
                  <a:pt x="3334" y="2288"/>
                </a:lnTo>
                <a:lnTo>
                  <a:pt x="3439" y="2264"/>
                </a:lnTo>
                <a:lnTo>
                  <a:pt x="3545" y="2239"/>
                </a:lnTo>
                <a:lnTo>
                  <a:pt x="3648" y="2214"/>
                </a:lnTo>
                <a:lnTo>
                  <a:pt x="3747" y="2188"/>
                </a:lnTo>
                <a:lnTo>
                  <a:pt x="3841" y="2164"/>
                </a:lnTo>
                <a:lnTo>
                  <a:pt x="3929" y="2138"/>
                </a:lnTo>
                <a:lnTo>
                  <a:pt x="4011" y="2114"/>
                </a:lnTo>
                <a:lnTo>
                  <a:pt x="4084" y="2089"/>
                </a:lnTo>
                <a:lnTo>
                  <a:pt x="4138" y="2071"/>
                </a:lnTo>
                <a:lnTo>
                  <a:pt x="4199" y="2047"/>
                </a:lnTo>
                <a:lnTo>
                  <a:pt x="4263" y="2023"/>
                </a:lnTo>
                <a:lnTo>
                  <a:pt x="4333" y="1995"/>
                </a:lnTo>
                <a:lnTo>
                  <a:pt x="4403" y="1965"/>
                </a:lnTo>
                <a:lnTo>
                  <a:pt x="4477" y="1934"/>
                </a:lnTo>
                <a:lnTo>
                  <a:pt x="4551" y="1901"/>
                </a:lnTo>
                <a:lnTo>
                  <a:pt x="4627" y="1866"/>
                </a:lnTo>
                <a:lnTo>
                  <a:pt x="4701" y="1832"/>
                </a:lnTo>
                <a:lnTo>
                  <a:pt x="4773" y="1797"/>
                </a:lnTo>
                <a:lnTo>
                  <a:pt x="4843" y="1762"/>
                </a:lnTo>
                <a:lnTo>
                  <a:pt x="4911" y="1725"/>
                </a:lnTo>
                <a:lnTo>
                  <a:pt x="4974" y="1691"/>
                </a:lnTo>
                <a:lnTo>
                  <a:pt x="5034" y="1657"/>
                </a:lnTo>
                <a:lnTo>
                  <a:pt x="5087" y="1624"/>
                </a:lnTo>
                <a:lnTo>
                  <a:pt x="5135" y="1591"/>
                </a:lnTo>
                <a:lnTo>
                  <a:pt x="5168" y="1567"/>
                </a:lnTo>
                <a:lnTo>
                  <a:pt x="5205" y="1538"/>
                </a:lnTo>
                <a:lnTo>
                  <a:pt x="5243" y="1507"/>
                </a:lnTo>
                <a:lnTo>
                  <a:pt x="5284" y="1471"/>
                </a:lnTo>
                <a:lnTo>
                  <a:pt x="5325" y="1434"/>
                </a:lnTo>
                <a:lnTo>
                  <a:pt x="5367" y="1394"/>
                </a:lnTo>
                <a:lnTo>
                  <a:pt x="5409" y="1353"/>
                </a:lnTo>
                <a:lnTo>
                  <a:pt x="5451" y="1311"/>
                </a:lnTo>
                <a:lnTo>
                  <a:pt x="5492" y="1269"/>
                </a:lnTo>
                <a:lnTo>
                  <a:pt x="5532" y="1227"/>
                </a:lnTo>
                <a:lnTo>
                  <a:pt x="5569" y="1185"/>
                </a:lnTo>
                <a:lnTo>
                  <a:pt x="5605" y="1143"/>
                </a:lnTo>
                <a:lnTo>
                  <a:pt x="5638" y="1104"/>
                </a:lnTo>
                <a:lnTo>
                  <a:pt x="5669" y="1065"/>
                </a:lnTo>
                <a:lnTo>
                  <a:pt x="5694" y="1029"/>
                </a:lnTo>
                <a:lnTo>
                  <a:pt x="5718" y="995"/>
                </a:lnTo>
                <a:lnTo>
                  <a:pt x="5745" y="947"/>
                </a:lnTo>
                <a:lnTo>
                  <a:pt x="5773" y="887"/>
                </a:lnTo>
                <a:lnTo>
                  <a:pt x="5803" y="819"/>
                </a:lnTo>
                <a:lnTo>
                  <a:pt x="5833" y="743"/>
                </a:lnTo>
                <a:lnTo>
                  <a:pt x="5862" y="663"/>
                </a:lnTo>
                <a:lnTo>
                  <a:pt x="5891" y="580"/>
                </a:lnTo>
                <a:lnTo>
                  <a:pt x="5919" y="496"/>
                </a:lnTo>
                <a:lnTo>
                  <a:pt x="5946" y="412"/>
                </a:lnTo>
                <a:lnTo>
                  <a:pt x="5971" y="332"/>
                </a:lnTo>
                <a:lnTo>
                  <a:pt x="5994" y="255"/>
                </a:lnTo>
                <a:lnTo>
                  <a:pt x="6015" y="185"/>
                </a:lnTo>
                <a:lnTo>
                  <a:pt x="6033" y="123"/>
                </a:lnTo>
                <a:lnTo>
                  <a:pt x="6047" y="73"/>
                </a:lnTo>
                <a:lnTo>
                  <a:pt x="6058" y="34"/>
                </a:lnTo>
                <a:lnTo>
                  <a:pt x="6065" y="9"/>
                </a:lnTo>
                <a:lnTo>
                  <a:pt x="6068" y="0"/>
                </a:lnTo>
              </a:path>
            </a:pathLst>
          </a:custGeom>
          <a:noFill/>
          <a:ln w="31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5391000"/>
            <a:ext cx="3022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2200" spc="-1" strike="noStrike">
                <a:solidFill>
                  <a:srgbClr val="f1b60f"/>
                </a:solidFill>
                <a:latin typeface="Verdana"/>
              </a:rPr>
              <a:t>Piaci hatékonysá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89000" y="4408560"/>
            <a:ext cx="1295280" cy="1443960"/>
            <a:chOff x="189000" y="4408560"/>
            <a:chExt cx="1295280" cy="1443960"/>
          </a:xfrm>
        </p:grpSpPr>
        <p:grpSp>
          <p:nvGrpSpPr>
            <p:cNvPr id="134" name=""/>
            <p:cNvGrpSpPr/>
            <p:nvPr/>
          </p:nvGrpSpPr>
          <p:grpSpPr>
            <a:xfrm>
              <a:off x="528840" y="4657680"/>
              <a:ext cx="927000" cy="1194840"/>
              <a:chOff x="528840" y="4657680"/>
              <a:chExt cx="927000" cy="1194840"/>
            </a:xfrm>
          </p:grpSpPr>
          <p:sp>
            <p:nvSpPr>
              <p:cNvPr id="135" name=""/>
              <p:cNvSpPr/>
              <p:nvPr/>
            </p:nvSpPr>
            <p:spPr>
              <a:xfrm>
                <a:off x="1073880" y="5028480"/>
                <a:ext cx="334440" cy="31752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8840" y="4917960"/>
                <a:ext cx="213480" cy="20664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51240" y="5482080"/>
                <a:ext cx="210240" cy="20664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60520" y="5193720"/>
                <a:ext cx="212040" cy="2055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78040" y="5646960"/>
                <a:ext cx="211680" cy="2055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1240" y="4657680"/>
                <a:ext cx="210240" cy="20700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27920" y="5058000"/>
                <a:ext cx="345960" cy="108720"/>
              </a:xfrm>
              <a:prstGeom prst="line">
                <a:avLst/>
              </a:prstGeom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72560" y="5234040"/>
                <a:ext cx="317160" cy="69840"/>
              </a:xfrm>
              <a:prstGeom prst="line">
                <a:avLst/>
              </a:prstGeom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848880" y="5290200"/>
                <a:ext cx="269640" cy="261360"/>
              </a:xfrm>
              <a:prstGeom prst="line">
                <a:avLst/>
              </a:prstGeom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030680" y="5329440"/>
                <a:ext cx="133920" cy="345600"/>
              </a:xfrm>
              <a:prstGeom prst="line">
                <a:avLst/>
              </a:prstGeom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3040" y="4822920"/>
                <a:ext cx="285120" cy="261360"/>
              </a:xfrm>
              <a:prstGeom prst="line">
                <a:avLst/>
              </a:prstGeom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73880" y="4960080"/>
                <a:ext cx="381960" cy="38304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171800" y="5032800"/>
                <a:ext cx="1872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marL="184320" indent="-184320">
                  <a:lnSpc>
                    <a:spcPct val="100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r>
                  <a:rPr b="1" lang="en-US" sz="1700" spc="-1" strike="noStrike">
                    <a:solidFill>
                      <a:srgbClr val="f1b60f"/>
                    </a:solidFill>
                    <a:latin typeface="Arial"/>
                  </a:rPr>
                  <a:t>B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189000" y="4408560"/>
              <a:ext cx="12952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84320" indent="-184320">
                <a:lnSpc>
                  <a:spcPct val="100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1" lang="en-GB" sz="1600" spc="-1" strike="noStrike">
                  <a:solidFill>
                    <a:srgbClr val="f1b60f"/>
                  </a:solidFill>
                  <a:latin typeface="Arial"/>
                </a:rPr>
                <a:t>EDI Hálóz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189840" y="1373040"/>
            <a:ext cx="2702520" cy="2904840"/>
            <a:chOff x="6189840" y="1373040"/>
            <a:chExt cx="2702520" cy="2904840"/>
          </a:xfrm>
        </p:grpSpPr>
        <p:grpSp>
          <p:nvGrpSpPr>
            <p:cNvPr id="150" name=""/>
            <p:cNvGrpSpPr/>
            <p:nvPr/>
          </p:nvGrpSpPr>
          <p:grpSpPr>
            <a:xfrm>
              <a:off x="6303960" y="1719000"/>
              <a:ext cx="2588400" cy="2558880"/>
              <a:chOff x="6303960" y="1719000"/>
              <a:chExt cx="2588400" cy="2558880"/>
            </a:xfrm>
          </p:grpSpPr>
          <p:sp>
            <p:nvSpPr>
              <p:cNvPr id="151" name=""/>
              <p:cNvSpPr/>
              <p:nvPr/>
            </p:nvSpPr>
            <p:spPr>
              <a:xfrm>
                <a:off x="7083000" y="3180960"/>
                <a:ext cx="416880" cy="39204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983280" y="2339280"/>
                <a:ext cx="415440" cy="39204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62040" y="3196800"/>
                <a:ext cx="416880" cy="39204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963200" y="2297160"/>
                <a:ext cx="415440" cy="39348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999120" y="2337840"/>
                <a:ext cx="1324440" cy="1183680"/>
              </a:xfrm>
              <a:prstGeom prst="ellipse">
                <a:avLst/>
              </a:prstGeom>
              <a:noFill/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057080" y="2413440"/>
                <a:ext cx="2466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marL="184320" indent="-184320">
                  <a:lnSpc>
                    <a:spcPct val="100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r>
                  <a:rPr b="1" lang="en-US" sz="1900" spc="-1" strike="noStrike">
                    <a:solidFill>
                      <a:srgbClr val="f1b60f"/>
                    </a:solidFill>
                    <a:latin typeface="Arial"/>
                  </a:rPr>
                  <a:t>M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89560" y="3243240"/>
                <a:ext cx="2451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marL="184320" indent="-184320">
                  <a:lnSpc>
                    <a:spcPct val="100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r>
                  <a:rPr b="1" lang="en-US" sz="1900" spc="-1" strike="noStrike">
                    <a:solidFill>
                      <a:srgbClr val="f1b60f"/>
                    </a:solidFill>
                    <a:latin typeface="Arial"/>
                  </a:rPr>
                  <a:t>M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52480" y="2399760"/>
                <a:ext cx="2480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marL="184320" indent="-184320">
                  <a:lnSpc>
                    <a:spcPct val="100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r>
                  <a:rPr b="1" lang="en-US" sz="1900" spc="-1" strike="noStrike">
                    <a:solidFill>
                      <a:srgbClr val="f1b60f"/>
                    </a:solidFill>
                    <a:latin typeface="Arial"/>
                  </a:rPr>
                  <a:t>M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70400" y="3243240"/>
                <a:ext cx="2451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marL="184320" indent="-184320">
                  <a:lnSpc>
                    <a:spcPct val="100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r>
                  <a:rPr b="1" lang="en-US" sz="1900" spc="-1" strike="noStrike">
                    <a:solidFill>
                      <a:srgbClr val="f1b60f"/>
                    </a:solidFill>
                    <a:latin typeface="Arial"/>
                  </a:rPr>
                  <a:t>M</a:t>
                </a:r>
                <a:endParaRPr b="0" lang="en-US" sz="1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50440" y="1719000"/>
                <a:ext cx="232200" cy="21132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34360" y="1818360"/>
                <a:ext cx="232200" cy="21132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303960" y="2014200"/>
                <a:ext cx="230400" cy="21276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178120" y="1804320"/>
                <a:ext cx="233640" cy="20988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61080" y="1930320"/>
                <a:ext cx="232200" cy="20988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660160" y="2127600"/>
                <a:ext cx="232200" cy="21132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18240" y="3886200"/>
                <a:ext cx="232200" cy="20988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66640" y="4011840"/>
                <a:ext cx="233640" cy="21132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83520" y="4068000"/>
                <a:ext cx="230400" cy="20988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14240" y="3915360"/>
                <a:ext cx="232200" cy="21024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44720" y="3915360"/>
                <a:ext cx="232200" cy="21024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0800" y="3843720"/>
                <a:ext cx="231840" cy="210240"/>
              </a:xfrm>
              <a:prstGeom prst="ellipse">
                <a:avLst/>
              </a:prstGeom>
              <a:solidFill>
                <a:srgbClr val="820040"/>
              </a:solidFill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502680" y="2171160"/>
                <a:ext cx="480600" cy="25200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16520" y="1989000"/>
                <a:ext cx="316080" cy="37944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32600" y="1916280"/>
                <a:ext cx="99360" cy="42264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8162280" y="2000160"/>
                <a:ext cx="66240" cy="32472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8244360" y="2099880"/>
                <a:ext cx="266760" cy="23940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8378280" y="2311200"/>
                <a:ext cx="281160" cy="12708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6766920" y="3548520"/>
                <a:ext cx="333360" cy="37944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049880" y="3616920"/>
                <a:ext cx="165600" cy="42300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81800" y="3575160"/>
                <a:ext cx="0" cy="47880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62560" y="3590280"/>
                <a:ext cx="0" cy="35280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162280" y="3575160"/>
                <a:ext cx="165960" cy="35280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228520" y="3520440"/>
                <a:ext cx="365040" cy="365400"/>
              </a:xfrm>
              <a:prstGeom prst="line">
                <a:avLst/>
              </a:prstGeom>
              <a:ln w="1872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6189840" y="1373040"/>
              <a:ext cx="15789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84320" indent="-184320">
                <a:lnSpc>
                  <a:spcPct val="100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1" lang="en-GB" sz="1900" spc="-1" strike="noStrike">
                  <a:solidFill>
                    <a:srgbClr val="f1b60f"/>
                  </a:solidFill>
                  <a:latin typeface="Arial"/>
                </a:rPr>
                <a:t>Integrált B2B portálok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82480" y="1844640"/>
            <a:ext cx="57690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2200" spc="-1" strike="noStrike" u="sng">
                <a:solidFill>
                  <a:srgbClr val="f1b60f"/>
                </a:solidFill>
                <a:uFillTx/>
                <a:latin typeface="Verdana"/>
              </a:rPr>
              <a:t>B2B portálok integrációj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2200" spc="-1" strike="noStrike">
                <a:solidFill>
                  <a:srgbClr val="f1b60f"/>
                </a:solidFill>
                <a:latin typeface="Verdana"/>
              </a:rPr>
              <a:t>E</a:t>
            </a:r>
            <a:r>
              <a:rPr b="1" lang="en-GB" sz="1700" spc="-1" strike="noStrike">
                <a:solidFill>
                  <a:srgbClr val="f1b60f"/>
                </a:solidFill>
                <a:latin typeface="Verdana"/>
              </a:rPr>
              <a:t>L</a:t>
            </a:r>
            <a:r>
              <a:rPr b="1" lang="hu-HU" sz="1700" spc="-1" strike="noStrike">
                <a:solidFill>
                  <a:srgbClr val="f1b60f"/>
                </a:solidFill>
                <a:latin typeface="Verdana"/>
              </a:rPr>
              <a:t>Ő</a:t>
            </a:r>
            <a:r>
              <a:rPr b="1" lang="en-GB" sz="1700" spc="-1" strike="noStrike">
                <a:solidFill>
                  <a:srgbClr val="f1b60f"/>
                </a:solidFill>
                <a:latin typeface="Verdana"/>
              </a:rPr>
              <a:t>NY</a:t>
            </a:r>
            <a:r>
              <a:rPr b="1" lang="en-GB" sz="2200" spc="-1" strike="noStrike">
                <a:solidFill>
                  <a:srgbClr val="f1b60f"/>
                </a:solidFill>
                <a:latin typeface="Verdana"/>
              </a:rPr>
              <a:t>: </a:t>
            </a:r>
            <a:r>
              <a:rPr b="1" lang="en-GB" sz="1600" spc="-1" strike="noStrike">
                <a:solidFill>
                  <a:srgbClr val="f1b60f"/>
                </a:solidFill>
                <a:latin typeface="Verdana"/>
              </a:rPr>
              <a:t>beszerzés, értékesítés "egy helyen"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1600" spc="-1" strike="noStrike">
                <a:solidFill>
                  <a:srgbClr val="f1b60f"/>
                </a:solidFill>
                <a:latin typeface="Verdana"/>
              </a:rPr>
              <a:t>               </a:t>
            </a:r>
            <a:r>
              <a:rPr b="1" lang="en-GB" sz="1600" spc="-1" strike="noStrike">
                <a:solidFill>
                  <a:srgbClr val="f1b60f"/>
                </a:solidFill>
                <a:latin typeface="Verdana"/>
              </a:rPr>
              <a:t>eladók széles közönséget érnek el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1600" spc="-1" strike="noStrike">
                <a:solidFill>
                  <a:srgbClr val="f1b60f"/>
                </a:solidFill>
                <a:latin typeface="Verdana"/>
              </a:rPr>
              <a:t>               </a:t>
            </a:r>
            <a:r>
              <a:rPr b="1" lang="en-GB" sz="1600" spc="-1" strike="noStrike">
                <a:solidFill>
                  <a:srgbClr val="f1b60f"/>
                </a:solidFill>
                <a:latin typeface="Verdana"/>
              </a:rPr>
              <a:t>vev</a:t>
            </a:r>
            <a:r>
              <a:rPr b="1" lang="hu-HU" sz="1600" spc="-1" strike="noStrike">
                <a:solidFill>
                  <a:srgbClr val="f1b60f"/>
                </a:solidFill>
                <a:latin typeface="Verdana"/>
              </a:rPr>
              <a:t>ő</a:t>
            </a:r>
            <a:r>
              <a:rPr b="1" lang="en-GB" sz="1600" spc="-1" strike="noStrike">
                <a:solidFill>
                  <a:srgbClr val="f1b60f"/>
                </a:solidFill>
                <a:latin typeface="Verdana"/>
              </a:rPr>
              <a:t>k nagy választékot találnak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1600" spc="-1" strike="noStrike">
                <a:solidFill>
                  <a:srgbClr val="f1b60f"/>
                </a:solidFill>
                <a:latin typeface="Verdana"/>
              </a:rPr>
              <a:t>               </a:t>
            </a:r>
            <a:r>
              <a:rPr b="1" lang="en-GB" sz="1600" spc="-1" strike="noStrike">
                <a:solidFill>
                  <a:srgbClr val="f1b60f"/>
                </a:solidFill>
                <a:latin typeface="Verdana"/>
              </a:rPr>
              <a:t>megbízható, rugal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463840" y="4162320"/>
            <a:ext cx="1320120" cy="1416960"/>
            <a:chOff x="2463840" y="4162320"/>
            <a:chExt cx="1320120" cy="1416960"/>
          </a:xfrm>
        </p:grpSpPr>
        <p:grpSp>
          <p:nvGrpSpPr>
            <p:cNvPr id="187" name=""/>
            <p:cNvGrpSpPr/>
            <p:nvPr/>
          </p:nvGrpSpPr>
          <p:grpSpPr>
            <a:xfrm>
              <a:off x="2804400" y="4575600"/>
              <a:ext cx="979560" cy="1003680"/>
              <a:chOff x="2804400" y="4575600"/>
              <a:chExt cx="979560" cy="1003680"/>
            </a:xfrm>
          </p:grpSpPr>
          <p:sp>
            <p:nvSpPr>
              <p:cNvPr id="188" name=""/>
              <p:cNvSpPr/>
              <p:nvPr/>
            </p:nvSpPr>
            <p:spPr>
              <a:xfrm>
                <a:off x="2833200" y="4575600"/>
                <a:ext cx="356400" cy="38340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99920" y="5139720"/>
                <a:ext cx="198720" cy="2055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74400" y="5372280"/>
                <a:ext cx="197640" cy="20700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85240" y="4878000"/>
                <a:ext cx="198720" cy="2055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15240" y="5303880"/>
                <a:ext cx="199080" cy="2055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04400" y="5331600"/>
                <a:ext cx="199080" cy="2055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28240" y="4666320"/>
                <a:ext cx="15588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marL="184320" indent="-184320">
                  <a:lnSpc>
                    <a:spcPct val="100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r>
                  <a:rPr b="1" lang="en-US" sz="1600" spc="-1" strike="noStrike">
                    <a:solidFill>
                      <a:srgbClr val="f1b60f"/>
                    </a:solidFill>
                    <a:latin typeface="Arial"/>
                  </a:rPr>
                  <a:t>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902320" y="4946400"/>
                <a:ext cx="43200" cy="425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46680" y="4946400"/>
                <a:ext cx="112320" cy="4536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16160" y="4904640"/>
                <a:ext cx="256680" cy="426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144960" y="4837320"/>
                <a:ext cx="396360" cy="3430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188160" y="4767120"/>
                <a:ext cx="382320" cy="151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463840" y="4162320"/>
              <a:ext cx="10623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84320" indent="-184320">
                <a:lnSpc>
                  <a:spcPct val="100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1" lang="en-GB" sz="1600" spc="-1" strike="noStrike">
                  <a:solidFill>
                    <a:srgbClr val="f1b60f"/>
                  </a:solidFill>
                  <a:latin typeface="Arial"/>
                </a:rPr>
                <a:t>Brossú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653000" y="3017880"/>
            <a:ext cx="1534320" cy="2036160"/>
            <a:chOff x="4653000" y="3017880"/>
            <a:chExt cx="1534320" cy="2036160"/>
          </a:xfrm>
        </p:grpSpPr>
        <p:grpSp>
          <p:nvGrpSpPr>
            <p:cNvPr id="202" name=""/>
            <p:cNvGrpSpPr/>
            <p:nvPr/>
          </p:nvGrpSpPr>
          <p:grpSpPr>
            <a:xfrm>
              <a:off x="4742280" y="3267000"/>
              <a:ext cx="1445040" cy="1787040"/>
              <a:chOff x="4742280" y="3267000"/>
              <a:chExt cx="1445040" cy="1787040"/>
            </a:xfrm>
          </p:grpSpPr>
          <p:sp>
            <p:nvSpPr>
              <p:cNvPr id="203" name=""/>
              <p:cNvSpPr/>
              <p:nvPr/>
            </p:nvSpPr>
            <p:spPr>
              <a:xfrm>
                <a:off x="5321880" y="3967200"/>
                <a:ext cx="354600" cy="38340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07200" y="3267000"/>
                <a:ext cx="200160" cy="2073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82200" y="3282120"/>
                <a:ext cx="196200" cy="20448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41360" y="3405240"/>
                <a:ext cx="197280" cy="20592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14280" y="3623760"/>
                <a:ext cx="197280" cy="20448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42280" y="3898800"/>
                <a:ext cx="199080" cy="20700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90320" y="4463280"/>
                <a:ext cx="199080" cy="2055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36240" y="4668840"/>
                <a:ext cx="197280" cy="2073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79200" y="4806000"/>
                <a:ext cx="197280" cy="2055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08120" y="4848120"/>
                <a:ext cx="198720" cy="20592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90040" y="4214880"/>
                <a:ext cx="197280" cy="207360"/>
              </a:xfrm>
              <a:prstGeom prst="ellipse">
                <a:avLst/>
              </a:prstGeom>
              <a:solidFill>
                <a:srgbClr val="e1e1e1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388480" y="4017600"/>
                <a:ext cx="20160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marL="184320" indent="-184320">
                  <a:lnSpc>
                    <a:spcPct val="100000"/>
                  </a:lnSpc>
                  <a:tabLst>
                    <a:tab algn="l" pos="0"/>
                    <a:tab algn="l" pos="403200"/>
                    <a:tab algn="l" pos="806400"/>
                    <a:tab algn="l" pos="1209600"/>
                    <a:tab algn="l" pos="1612800"/>
                    <a:tab algn="l" pos="2016000"/>
                    <a:tab algn="l" pos="2419200"/>
                    <a:tab algn="l" pos="2822400"/>
                    <a:tab algn="l" pos="3225960"/>
                    <a:tab algn="l" pos="3629160"/>
                    <a:tab algn="l" pos="4032360"/>
                    <a:tab algn="l" pos="4435560"/>
                    <a:tab algn="l" pos="4838760"/>
                    <a:tab algn="l" pos="5241960"/>
                    <a:tab algn="l" pos="5645160"/>
                    <a:tab algn="l" pos="6048360"/>
                    <a:tab algn="l" pos="6451560"/>
                    <a:tab algn="l" pos="6854760"/>
                    <a:tab algn="l" pos="7257960"/>
                    <a:tab algn="l" pos="7661160"/>
                    <a:tab algn="l" pos="8064360"/>
                  </a:tabLst>
                </a:pPr>
                <a:r>
                  <a:rPr b="1" lang="en-US" sz="1600" spc="-1" strike="noStrike">
                    <a:solidFill>
                      <a:srgbClr val="f1b60f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926960" y="4035960"/>
                <a:ext cx="409320" cy="824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10200" y="3569400"/>
                <a:ext cx="309960" cy="425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08920" y="3474360"/>
                <a:ext cx="170280" cy="506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05120" y="3459960"/>
                <a:ext cx="0" cy="534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70160" y="3787920"/>
                <a:ext cx="382320" cy="248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335920" y="4324320"/>
                <a:ext cx="114120" cy="5238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505120" y="4339800"/>
                <a:ext cx="28440" cy="493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591880" y="4312080"/>
                <a:ext cx="198720" cy="369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3640" y="4242960"/>
                <a:ext cx="272160" cy="2466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63880" y="4173120"/>
                <a:ext cx="338760" cy="83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4653000" y="3017880"/>
              <a:ext cx="7081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84320" indent="-184320">
                <a:lnSpc>
                  <a:spcPct val="100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1" lang="en-GB" sz="1600" spc="-1" strike="noStrike">
                  <a:solidFill>
                    <a:srgbClr val="f1b60f"/>
                  </a:solidFill>
                  <a:latin typeface="Arial"/>
                </a:rPr>
                <a:t>Portá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793000" y="5445000"/>
            <a:ext cx="3510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4320" indent="-184320"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1600" spc="-1" strike="noStrike">
                <a:solidFill>
                  <a:srgbClr val="f1b60f"/>
                </a:solidFill>
                <a:latin typeface="Arial"/>
              </a:rPr>
              <a:t>Id</a:t>
            </a:r>
            <a:r>
              <a:rPr b="1" lang="hu-HU" sz="1600" spc="-1" strike="noStrike">
                <a:solidFill>
                  <a:srgbClr val="f1b60f"/>
                </a:solidFill>
                <a:latin typeface="Arial"/>
              </a:rPr>
              <a:t>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10C-4FF3-4312-A8EA-C9E6C2C0BF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15840" y="692280"/>
            <a:ext cx="77709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1b60f"/>
                </a:solidFill>
                <a:latin typeface="Arial"/>
              </a:rPr>
              <a:t>Kereskedelmi mód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16040" y="1989000"/>
            <a:ext cx="1539720" cy="887400"/>
            <a:chOff x="716040" y="1989000"/>
            <a:chExt cx="1539720" cy="887400"/>
          </a:xfrm>
        </p:grpSpPr>
        <p:sp>
          <p:nvSpPr>
            <p:cNvPr id="229" name=""/>
            <p:cNvSpPr/>
            <p:nvPr/>
          </p:nvSpPr>
          <p:spPr>
            <a:xfrm>
              <a:off x="716040" y="1989000"/>
              <a:ext cx="1539720" cy="887400"/>
            </a:xfrm>
            <a:custGeom>
              <a:avLst/>
              <a:gdLst/>
              <a:ahLst/>
              <a:rect l="l" t="t" r="r" b="b"/>
              <a:pathLst>
                <a:path w="1066" h="634">
                  <a:moveTo>
                    <a:pt x="795" y="633"/>
                  </a:moveTo>
                  <a:lnTo>
                    <a:pt x="1" y="631"/>
                  </a:lnTo>
                  <a:lnTo>
                    <a:pt x="0" y="0"/>
                  </a:lnTo>
                  <a:lnTo>
                    <a:pt x="792" y="0"/>
                  </a:lnTo>
                  <a:lnTo>
                    <a:pt x="1065" y="324"/>
                  </a:lnTo>
                  <a:lnTo>
                    <a:pt x="795" y="633"/>
                  </a:lnTo>
                  <a:lnTo>
                    <a:pt x="795" y="63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000"/>
                </a:gs>
              </a:gsLst>
              <a:lin ang="810000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7080" y="2127600"/>
              <a:ext cx="105732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1" lang="en-GB" sz="1600" spc="-1" strike="noStrike">
                  <a:solidFill>
                    <a:srgbClr val="f1b60f"/>
                  </a:solidFill>
                  <a:latin typeface="Arial"/>
                </a:rPr>
                <a:t>Katalógu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50880" y="3068640"/>
            <a:ext cx="1541520" cy="887400"/>
            <a:chOff x="650880" y="3068640"/>
            <a:chExt cx="1541520" cy="887400"/>
          </a:xfrm>
        </p:grpSpPr>
        <p:sp>
          <p:nvSpPr>
            <p:cNvPr id="232" name=""/>
            <p:cNvSpPr/>
            <p:nvPr/>
          </p:nvSpPr>
          <p:spPr>
            <a:xfrm>
              <a:off x="650880" y="3068640"/>
              <a:ext cx="1541520" cy="887400"/>
            </a:xfrm>
            <a:custGeom>
              <a:avLst/>
              <a:gdLst/>
              <a:ahLst/>
              <a:rect l="l" t="t" r="r" b="b"/>
              <a:pathLst>
                <a:path w="1068" h="633">
                  <a:moveTo>
                    <a:pt x="797" y="632"/>
                  </a:moveTo>
                  <a:lnTo>
                    <a:pt x="2" y="630"/>
                  </a:lnTo>
                  <a:lnTo>
                    <a:pt x="0" y="0"/>
                  </a:lnTo>
                  <a:lnTo>
                    <a:pt x="795" y="0"/>
                  </a:lnTo>
                  <a:lnTo>
                    <a:pt x="1067" y="324"/>
                  </a:lnTo>
                  <a:lnTo>
                    <a:pt x="797" y="632"/>
                  </a:lnTo>
                  <a:lnTo>
                    <a:pt x="797" y="63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000"/>
                </a:gs>
              </a:gsLst>
              <a:lin ang="810000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3720" y="3205800"/>
              <a:ext cx="10576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1" lang="en-GB" sz="1600" spc="-1" strike="noStrike">
                  <a:solidFill>
                    <a:srgbClr val="f1b60f"/>
                  </a:solidFill>
                  <a:latin typeface="Arial"/>
                </a:rPr>
                <a:t>Eladói aukci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0880" y="4292640"/>
            <a:ext cx="1542960" cy="887400"/>
            <a:chOff x="650880" y="4292640"/>
            <a:chExt cx="1542960" cy="887400"/>
          </a:xfrm>
        </p:grpSpPr>
        <p:sp>
          <p:nvSpPr>
            <p:cNvPr id="235" name=""/>
            <p:cNvSpPr/>
            <p:nvPr/>
          </p:nvSpPr>
          <p:spPr>
            <a:xfrm>
              <a:off x="650880" y="4292640"/>
              <a:ext cx="1542960" cy="887400"/>
            </a:xfrm>
            <a:custGeom>
              <a:avLst/>
              <a:gdLst/>
              <a:ahLst/>
              <a:rect l="l" t="t" r="r" b="b"/>
              <a:pathLst>
                <a:path w="1069" h="634">
                  <a:moveTo>
                    <a:pt x="799" y="633"/>
                  </a:moveTo>
                  <a:lnTo>
                    <a:pt x="3" y="631"/>
                  </a:lnTo>
                  <a:lnTo>
                    <a:pt x="0" y="0"/>
                  </a:lnTo>
                  <a:lnTo>
                    <a:pt x="795" y="1"/>
                  </a:lnTo>
                  <a:lnTo>
                    <a:pt x="1068" y="324"/>
                  </a:lnTo>
                  <a:lnTo>
                    <a:pt x="799" y="633"/>
                  </a:lnTo>
                  <a:lnTo>
                    <a:pt x="799" y="63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6000"/>
                </a:gs>
              </a:gsLst>
              <a:lin ang="8100000"/>
            </a:gra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3360" y="4430880"/>
              <a:ext cx="1060560" cy="65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3200"/>
                  <a:tab algn="l" pos="806400"/>
                  <a:tab algn="l" pos="1209600"/>
                  <a:tab algn="l" pos="1612800"/>
                  <a:tab algn="l" pos="2016000"/>
                  <a:tab algn="l" pos="2419200"/>
                  <a:tab algn="l" pos="2822400"/>
                  <a:tab algn="l" pos="3225960"/>
                  <a:tab algn="l" pos="3629160"/>
                  <a:tab algn="l" pos="4032360"/>
                  <a:tab algn="l" pos="4435560"/>
                  <a:tab algn="l" pos="4838760"/>
                  <a:tab algn="l" pos="5241960"/>
                  <a:tab algn="l" pos="5645160"/>
                  <a:tab algn="l" pos="6048360"/>
                  <a:tab algn="l" pos="6451560"/>
                  <a:tab algn="l" pos="6854760"/>
                  <a:tab algn="l" pos="7257960"/>
                  <a:tab algn="l" pos="7661160"/>
                  <a:tab algn="l" pos="8064360"/>
                </a:tabLst>
              </a:pPr>
              <a:r>
                <a:rPr b="1" lang="en-GB" sz="1600" spc="-1" strike="noStrike">
                  <a:solidFill>
                    <a:srgbClr val="f1b60f"/>
                  </a:solidFill>
                  <a:latin typeface="Arial"/>
                </a:rPr>
                <a:t>Vev</a:t>
              </a:r>
              <a:r>
                <a:rPr b="1" lang="hu-HU" sz="1600" spc="-1" strike="noStrike">
                  <a:solidFill>
                    <a:srgbClr val="f1b60f"/>
                  </a:solidFill>
                  <a:latin typeface="Arial"/>
                </a:rPr>
                <a:t>ő</a:t>
              </a:r>
              <a:r>
                <a:rPr b="1" lang="en-GB" sz="1600" spc="-1" strike="noStrike">
                  <a:solidFill>
                    <a:srgbClr val="f1b60f"/>
                  </a:solidFill>
                  <a:latin typeface="Arial"/>
                </a:rPr>
                <a:t>i aukció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7960" y="1844640"/>
            <a:ext cx="5720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Különböz</a:t>
            </a: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ő</a:t>
            </a: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 beszállítók termékeit  foglalja össze - "mindent egy helyen". Nagy temékkínálatot biztosít a vev</a:t>
            </a: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ő</a:t>
            </a: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nek és új értékesítési csatornát az eladóknak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46200" y="3213000"/>
            <a:ext cx="7050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Termékeket lehet flexibilis árazással értékesíteni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36920" y="4437000"/>
            <a:ext cx="660708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Tendereztetés, az eladók a vev</a:t>
            </a:r>
            <a:r>
              <a:rPr b="1" lang="hu-HU" sz="1900" spc="-1" strike="noStrike">
                <a:solidFill>
                  <a:srgbClr val="f1b60f"/>
                </a:solidFill>
                <a:latin typeface="Arial"/>
              </a:rPr>
              <a:t>ő</a:t>
            </a:r>
            <a:r>
              <a:rPr b="1" lang="en-GB" sz="1900" spc="-1" strike="noStrike">
                <a:solidFill>
                  <a:srgbClr val="f1b60f"/>
                </a:solidFill>
                <a:latin typeface="Arial"/>
              </a:rPr>
              <a:t> vételi kiírására válaszolnak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5229360"/>
            <a:ext cx="59594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1" lang="en-GB" sz="2700" spc="-1" strike="noStrike">
                <a:solidFill>
                  <a:srgbClr val="f1b60f"/>
                </a:solidFill>
                <a:latin typeface="Arial"/>
              </a:rPr>
              <a:t>Keresés segíti az áru megtalálását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32000" y="5734080"/>
            <a:ext cx="3409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230480">
              <a:lnSpc>
                <a:spcPct val="100000"/>
              </a:lnSpc>
              <a:buClr>
                <a:srgbClr val="000000"/>
              </a:buClr>
              <a:buSzPct val="46000"/>
              <a:buFont typeface="Arial"/>
              <a:buChar char="•"/>
              <a:tabLst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  <a:tab algn="l" pos="8871120"/>
                <a:tab algn="l" pos="9274320"/>
              </a:tabLst>
            </a:pPr>
            <a:r>
              <a:rPr b="1" lang="en-GB" sz="1400" spc="-1" strike="noStrike">
                <a:solidFill>
                  <a:srgbClr val="f1b60f"/>
                </a:solidFill>
                <a:latin typeface="Arial"/>
              </a:rPr>
              <a:t>Ár tipusa: fix, aukció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30480">
              <a:lnSpc>
                <a:spcPct val="100000"/>
              </a:lnSpc>
              <a:buClr>
                <a:srgbClr val="000000"/>
              </a:buClr>
              <a:buSzPct val="46000"/>
              <a:buFont typeface="Arial"/>
              <a:buChar char="•"/>
              <a:tabLst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  <a:tab algn="l" pos="8871120"/>
                <a:tab algn="l" pos="9274320"/>
              </a:tabLst>
            </a:pPr>
            <a:r>
              <a:rPr b="1" lang="en-GB" sz="1400" spc="-1" strike="noStrike">
                <a:solidFill>
                  <a:srgbClr val="f1b60f"/>
                </a:solidFill>
                <a:latin typeface="Arial"/>
              </a:rPr>
              <a:t>Termék kategóriá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30480">
              <a:lnSpc>
                <a:spcPct val="100000"/>
              </a:lnSpc>
              <a:buClr>
                <a:srgbClr val="000000"/>
              </a:buClr>
              <a:buSzPct val="46000"/>
              <a:buFont typeface="Arial"/>
              <a:buChar char="•"/>
              <a:tabLst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  <a:tab algn="l" pos="8871120"/>
                <a:tab algn="l" pos="9274320"/>
              </a:tabLst>
            </a:pPr>
            <a:r>
              <a:rPr b="1" lang="en-GB" sz="1400" spc="-1" strike="noStrike">
                <a:solidFill>
                  <a:srgbClr val="f1b60f"/>
                </a:solidFill>
                <a:latin typeface="Arial"/>
              </a:rPr>
              <a:t>Gyárt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89600" y="4941720"/>
            <a:ext cx="4154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230480">
              <a:lnSpc>
                <a:spcPct val="100000"/>
              </a:lnSpc>
              <a:buClr>
                <a:srgbClr val="000000"/>
              </a:buClr>
              <a:buSzPct val="46000"/>
              <a:buFont typeface="Arial"/>
              <a:buChar char="•"/>
              <a:tabLst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  <a:tab algn="l" pos="8871120"/>
                <a:tab algn="l" pos="9274320"/>
              </a:tabLst>
            </a:pPr>
            <a:r>
              <a:rPr b="1" lang="en-GB" sz="1400" spc="-1" strike="noStrike">
                <a:solidFill>
                  <a:srgbClr val="f1b60f"/>
                </a:solidFill>
                <a:latin typeface="Arial"/>
              </a:rPr>
              <a:t>Szálllító (anonim vagy azonosított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30480">
              <a:lnSpc>
                <a:spcPct val="100000"/>
              </a:lnSpc>
              <a:buClr>
                <a:srgbClr val="000000"/>
              </a:buClr>
              <a:buSzPct val="46000"/>
              <a:buFont typeface="Arial"/>
              <a:buChar char="•"/>
              <a:tabLst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  <a:tab algn="l" pos="8871120"/>
                <a:tab algn="l" pos="9274320"/>
              </a:tabLst>
            </a:pPr>
            <a:r>
              <a:rPr b="1" lang="en-GB" sz="1400" spc="-1" strike="noStrike">
                <a:solidFill>
                  <a:srgbClr val="f1b60f"/>
                </a:solidFill>
                <a:latin typeface="Arial"/>
              </a:rPr>
              <a:t>He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30480">
              <a:lnSpc>
                <a:spcPct val="100000"/>
              </a:lnSpc>
              <a:buClr>
                <a:srgbClr val="000000"/>
              </a:buClr>
              <a:buSzPct val="46000"/>
              <a:buFont typeface="Arial"/>
              <a:buChar char="•"/>
              <a:tabLst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  <a:tab algn="l" pos="8467560"/>
                <a:tab algn="l" pos="8871120"/>
                <a:tab algn="l" pos="9274320"/>
              </a:tabLst>
            </a:pPr>
            <a:r>
              <a:rPr b="1" lang="en-GB" sz="1400" spc="-1" strike="noStrike">
                <a:solidFill>
                  <a:srgbClr val="f1b60f"/>
                </a:solidFill>
                <a:latin typeface="Arial"/>
              </a:rPr>
              <a:t>Szállítási zó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67A-549D-45D6-B16A-C3B86D9883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753080" cy="3555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47760" y="765000"/>
            <a:ext cx="65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1b60f"/>
                </a:solidFill>
                <a:latin typeface="Arial"/>
              </a:rPr>
              <a:t>A közbeszerzési folya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13E-2A34-4237-AA42-5732E7B842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Elektronikus közbeszerz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WEB alapú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Központosított keretrendelés-menedzsment működtetése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Független vásárlások számának drasztikus csökkent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Megosztott igénylések és visszamondások támogat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beszállítói oldalon egyszerűsödik az adminisztráció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Integrációs pontként szolgál külső Internet alapú piacterek felé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CD6-3F7B-4857-A16C-709504734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2920" y="81000"/>
            <a:ext cx="8893080" cy="66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6F5-44E1-4739-BF32-9824DF3473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Arial"/>
              </a:rPr>
              <a:t>Egyablakos ügyintéz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   </a:t>
            </a: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 szervezeti megoldások és információs rendszerek hozzák létre az ügyintézés teljes folyamatában résztvevő adatbázisokat úgy, hogy azok az egyablakos eljárási rend szerint összekapcsolhatók legyenek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Arial"/>
              </a:rPr>
              <a:t>Feltétele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z egyablakos ügyvitel eljárási rendjének kidolgoz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datbázisok elvi összekapcsol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dattulajdonosi érdekek tisztáz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datbázisok fizikai összekapcsol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Arial"/>
              </a:rPr>
              <a:t>adatbázisok közötti kommunikációs közeg felépítése, a kommunikáció szellemi és technikai feltételeinek megteremt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ECD-283E-4E60-80BA-A6500885A0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30T20:34:40Z</dcterms:modified>
  <cp:revision>68</cp:revision>
  <dc:subject/>
  <dc:title>PowerPoint bemutató</dc:title>
</cp:coreProperties>
</file>