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435D-0ABB-401A-BB2D-282551205F91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09A7-0AAA-459F-9C1F-EB2876F69E09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9992-FDEA-4DC5-BBD7-758F4B6CF9DD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5CEE-2078-4A6E-8766-987C17FA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0A7-E3C0-4022-92DB-6809E359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ED10-595B-4BC0-B277-1260E715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7940-0DD3-428C-A29A-F0D242C9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E436-0A3F-464E-B46A-F8EF6687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A6A9-6829-449A-B48B-EC3846B2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5B11-DBA4-4920-9167-FE4BF397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6F8C-D17E-4FEF-88C5-F8AA3D03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221D-9C06-4192-932F-2938113D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5C22-19B3-4C46-BD05-ED760D16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DA7F-7EF7-4CE3-AE5C-A8BF58AA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BF0-F202-4D0A-9138-3A5D5E3F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E18B-6E42-411E-9D00-0EAA1D7E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7D91-F4B0-4EF7-9ACE-03707B24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809F-6171-47DE-8FFD-2A461C82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BB71-B1BF-4EC2-A593-2A31D8EE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D7D8-5B13-49C0-93C6-9967FF89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A0D-6366-4807-9340-F5A00B21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8D0E-7EAE-419A-81E3-5610CB79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BC1F-CCE4-4347-83EB-D32AC2B6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A48-8570-4676-9BE7-22630AD2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108-1457-4E8B-A686-26FB320D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10D-CFB0-41FA-A03C-19F938D0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69A-F4F2-44B5-A9AC-828CD7BE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5206-FB2E-4D53-9E63-7B6E5BA13A7A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CA00-2323-4281-95C6-43ADD90CC506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79280" y="5888160"/>
            <a:ext cx="1801800" cy="92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D7C4-7243-4058-BC52-9BE128A7399C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C8DF-5442-4703-92E3-810F11193D68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4508640"/>
            <a:ext cx="2952720" cy="1512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8056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A gazdaságinformatika alapjai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Dr. Cser László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3. előadás: A rendszerek építőkövei (P</a:t>
            </a:r>
            <a:r>
              <a:rPr b="1" lang="de-DE" sz="3800" spc="-1" strike="noStrike">
                <a:solidFill>
                  <a:srgbClr val="f1b60f"/>
                </a:solidFill>
                <a:latin typeface="Arial"/>
              </a:rPr>
              <a:t>rogramozás</a:t>
            </a: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 1.)</a:t>
            </a:r>
            <a:br>
              <a:rPr sz="3800"/>
            </a:b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Számítási modellek</a:t>
            </a:r>
            <a:r>
              <a:rPr b="0" lang="hu-HU" sz="3800" spc="-1" strike="noStrike">
                <a:solidFill>
                  <a:srgbClr val="f1b60f"/>
                </a:solidFill>
                <a:latin typeface="Arial"/>
                <a:ea typeface="Times New Roman"/>
              </a:rPr>
              <a:t> </a:t>
            </a:r>
            <a:br>
              <a:rPr sz="3800"/>
            </a:b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Automata-elvű nyelvek    ( ipari robot) nyelvek</a:t>
            </a:r>
            <a:r>
              <a:rPr b="0" lang="hu-HU" sz="38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9440" y="1752480"/>
            <a:ext cx="867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élok, tulajdonságo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z adatok állapotok, illetve bemenetek – fix felosztású memória (pl. festőkar he­lye, fest-e, ...): állapotté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 végrehajtás egyszerű állapotok soroz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 program egy állapotátmenet-függvé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 program elkülönül az állapotoktó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tevékenységorientáltság (állapotváltoztatá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Következmény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utasítások általában egy állapotkomponenst változtatn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változó, értékadás nincs (csak névvel ellátott állapotkomponens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csak primitív (állapot-, vagy paraméter- vagy érzékelőállapot-függő) ciklusok ír­ható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 algn="just">
              <a:lnSpc>
                <a:spcPct val="75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állapot-, vagy paraméter vagy érzékelőállapot-függő elágaz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844-86D2-4B74-A534-489184437A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4200" y="764640"/>
            <a:ext cx="77943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Számítási modellek</a:t>
            </a:r>
            <a:r>
              <a:rPr b="0" lang="hu-HU" sz="4200" spc="-1" strike="noStrike">
                <a:solidFill>
                  <a:srgbClr val="f1b60f"/>
                </a:solidFill>
                <a:latin typeface="Arial"/>
                <a:ea typeface="Times New Roman"/>
              </a:rPr>
              <a:t> </a:t>
            </a:r>
            <a:br>
              <a:rPr sz="4200"/>
            </a:br>
            <a:r>
              <a:rPr b="0" lang="hu-HU" sz="42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0" lang="hu-HU" sz="25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Logikai nyelvek    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9440" y="1988640"/>
            <a:ext cx="86742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élok, tulajdonságo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 algn="just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1b60f"/>
                </a:solidFill>
                <a:latin typeface="Times New Roman"/>
              </a:rPr>
              <a:t>a program egy logikai formula (általában nem lehet teljesen általános formula: megszorítások!)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 algn="just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1b60f"/>
                </a:solidFill>
                <a:latin typeface="Times New Roman"/>
              </a:rPr>
              <a:t>a program végrehajtása a logikai formula kiértékelése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 algn="just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1b60f"/>
                </a:solidFill>
                <a:latin typeface="Times New Roman"/>
              </a:rPr>
              <a:t>erős matematikai kidolgozottság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 algn="just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1b60f"/>
                </a:solidFill>
                <a:latin typeface="Times New Roman"/>
              </a:rPr>
              <a:t>a formulákban szerepelhetnek paraméterek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 algn="just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1b60f"/>
                </a:solidFill>
                <a:latin typeface="Times New Roman"/>
              </a:rPr>
              <a:t>a program és az adatok nem különülnek el (minden adat egy azonosan igaz formul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Következménye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 algn="just">
              <a:lnSpc>
                <a:spcPct val="75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nincs változó, értékadá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 algn="just">
              <a:lnSpc>
                <a:spcPct val="75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szekvencia = és, elágazás = vag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 algn="just">
              <a:lnSpc>
                <a:spcPct val="75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ciklus nincs, helyette rekurzív formulák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 algn="just">
              <a:lnSpc>
                <a:spcPct val="75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vannak feltételes kifejezések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 algn="just">
              <a:lnSpc>
                <a:spcPct val="75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elemi utasítás: mintailleszté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 algn="just">
              <a:lnSpc>
                <a:spcPct val="75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beolvasás, kiírás: mintaillesztés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 algn="just">
              <a:lnSpc>
                <a:spcPct val="75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lehetőség új formulák létrehozására (új utasítás)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 algn="just">
              <a:lnSpc>
                <a:spcPct val="75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kiértékelési algoritmus: backtrack csak a MIT? kell leírn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A194-FBCC-4BB9-8620-E322AD0A9C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14200" y="764640"/>
            <a:ext cx="77943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Számítási modellek</a:t>
            </a:r>
            <a:r>
              <a:rPr b="0" lang="hu-HU" sz="3800" spc="-1" strike="noStrike">
                <a:solidFill>
                  <a:srgbClr val="f1b60f"/>
                </a:solidFill>
                <a:latin typeface="Arial"/>
                <a:ea typeface="Times New Roman"/>
              </a:rPr>
              <a:t> </a:t>
            </a:r>
            <a:br>
              <a:rPr sz="3800"/>
            </a:b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Objektum elvre épített nyelvek    </a:t>
            </a:r>
            <a:endParaRPr b="0" lang="en-US" sz="21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2200" y="1989000"/>
            <a:ext cx="89773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</a:t>
            </a:r>
            <a:r>
              <a:rPr b="1" lang="hu-HU" sz="19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élok, tulajdonságo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objektum = szerkezet + eljárás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típ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az adat és a kód nem választható el egymástó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(adatdefiniáláskor jönnek létre az őt kezelő eljáráso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objektumtípus=osztály </a:t>
            </a:r>
            <a:r>
              <a:rPr b="1" lang="hu-HU" sz="2000" spc="-1" strike="noStrike">
                <a:solidFill>
                  <a:srgbClr val="f1b60f"/>
                </a:solidFill>
                <a:latin typeface="Symbol"/>
                <a:ea typeface="Symbol"/>
              </a:rPr>
              <a:t>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 típust megvalósító mod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hivatkozás: objektumtípusú változó.eljárásnév, objektumtípusú változó.mezőné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az objektumok üzenetekkel (eljárások) kommunikálnak egymássa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eseményvezérelt programoz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öröklés: az új objektum egy másik objektum összes jellemzőjével rendelkezik, ehhez újakat is definiál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típusszármaztatás (láthatósági kérdések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az örökléssel objektumok hierarchikus rendszere alakítható 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A688-7F5D-4F96-A1B4-81A4FDDE5F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4200" y="764640"/>
            <a:ext cx="779436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Számítási modellek</a:t>
            </a:r>
            <a:r>
              <a:rPr b="0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 </a:t>
            </a:r>
            <a:br>
              <a:rPr sz="3000"/>
            </a:br>
            <a:r>
              <a:rPr b="0" lang="hu-HU" sz="42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Objektum elvre épített nyelvek</a:t>
            </a:r>
            <a:r>
              <a:rPr b="0" lang="hu-HU" sz="25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  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84320" y="1773360"/>
            <a:ext cx="9144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21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Következménye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az objektumok (tárgyak) önálló életet élő dolg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az eljáráshívás a legfontosabb fogal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olyan objektumnak lehet értéket adni, amely ilyen eljárást közöl magáról</a:t>
            </a:r>
            <a:br>
              <a:rPr sz="2000"/>
            </a:b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02CC-8DFA-435C-B0CD-E747B82073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1044720"/>
            <a:ext cx="75438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Magasabb szintű programnyelve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0720" y="2852640"/>
            <a:ext cx="1528920" cy="86364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44920" y="2852640"/>
            <a:ext cx="152856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05200" y="2852640"/>
            <a:ext cx="1795680" cy="86364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31000" y="2852640"/>
            <a:ext cx="179532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84080" y="2852640"/>
            <a:ext cx="1528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Forrás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44720" y="2852640"/>
            <a:ext cx="152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Tárgy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05200" y="2852640"/>
            <a:ext cx="17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Végrehatható 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99400" y="314172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Eredmény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79640" y="3213000"/>
            <a:ext cx="731880" cy="289080"/>
          </a:xfrm>
          <a:custGeom>
            <a:avLst/>
            <a:gdLst>
              <a:gd name="textAreaLeft" fmla="*/ 91440 w 731880"/>
              <a:gd name="textAreaRight" fmla="*/ 640440 w 7318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14520" y="1989000"/>
            <a:ext cx="11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Fordít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989000"/>
            <a:ext cx="119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szerkesztő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00920" y="2060640"/>
            <a:ext cx="11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99ff"/>
                </a:solidFill>
                <a:latin typeface="Times New Roman"/>
              </a:rPr>
              <a:t>futtat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73480" y="3141720"/>
            <a:ext cx="598680" cy="287280"/>
          </a:xfrm>
          <a:custGeom>
            <a:avLst/>
            <a:gdLst>
              <a:gd name="textAreaLeft" fmla="*/ 74880 w 598680"/>
              <a:gd name="textAreaRight" fmla="*/ 524160 w 5986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32480" y="3141720"/>
            <a:ext cx="531720" cy="287280"/>
          </a:xfrm>
          <a:custGeom>
            <a:avLst/>
            <a:gdLst>
              <a:gd name="textAreaLeft" fmla="*/ 66240 w 531720"/>
              <a:gd name="textAreaRight" fmla="*/ 465480 w 531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82600" y="3789360"/>
            <a:ext cx="0" cy="1079640"/>
          </a:xfrm>
          <a:prstGeom prst="line">
            <a:avLst/>
          </a:prstGeom>
          <a:ln w="57240">
            <a:solidFill>
              <a:srgbClr val="ff00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82600" y="4869000"/>
            <a:ext cx="6580440" cy="0"/>
          </a:xfrm>
          <a:prstGeom prst="line">
            <a:avLst/>
          </a:prstGeom>
          <a:ln w="572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763040" y="3716280"/>
            <a:ext cx="0" cy="1152720"/>
          </a:xfrm>
          <a:prstGeom prst="line">
            <a:avLst/>
          </a:prstGeom>
          <a:ln w="57240">
            <a:solidFill>
              <a:srgbClr val="ff00ff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35800" y="3716280"/>
            <a:ext cx="0" cy="1152720"/>
          </a:xfrm>
          <a:prstGeom prst="line">
            <a:avLst/>
          </a:prstGeom>
          <a:ln w="57240">
            <a:solidFill>
              <a:srgbClr val="ff00ff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76440" y="3716280"/>
            <a:ext cx="0" cy="1152720"/>
          </a:xfrm>
          <a:prstGeom prst="line">
            <a:avLst/>
          </a:prstGeom>
          <a:ln w="57240">
            <a:solidFill>
              <a:srgbClr val="ff00ff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13000" y="3500280"/>
            <a:ext cx="0" cy="9367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182600" y="4437000"/>
            <a:ext cx="1130400" cy="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080" y="3933720"/>
            <a:ext cx="19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dc5900"/>
                </a:solidFill>
                <a:latin typeface="Times New Roman"/>
              </a:rPr>
              <a:t>hibajegyzé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67560" y="400536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dc5900"/>
                </a:solidFill>
                <a:latin typeface="Times New Roman"/>
              </a:rPr>
              <a:t>hibajegyzé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49240" y="5013360"/>
            <a:ext cx="585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Szintaktika: 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nyelvi helyesség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Szemantika: </a:t>
            </a:r>
            <a:r>
              <a:rPr b="1" lang="hu-HU" sz="2000" spc="-1" strike="noStrike">
                <a:solidFill>
                  <a:srgbClr val="dc5900"/>
                </a:solidFill>
                <a:latin typeface="Times New Roman"/>
              </a:rPr>
              <a:t>működési helyessé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8105-A5D8-44DB-8D76-470B47C455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interpre.jpg"/>
          <p:cNvPicPr/>
          <p:nvPr/>
        </p:nvPicPr>
        <p:blipFill>
          <a:blip r:embed="rId1"/>
          <a:stretch/>
        </p:blipFill>
        <p:spPr>
          <a:xfrm>
            <a:off x="3222720" y="1557360"/>
            <a:ext cx="2890800" cy="424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3174840" y="2060640"/>
            <a:ext cx="3391200" cy="153252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Az értelmezőprogram (interpreter) soronként gépikódú utasításokat állít elő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77960" y="5373720"/>
            <a:ext cx="2194200" cy="39888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Gépi utasításs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80960" y="836640"/>
            <a:ext cx="71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1b60f"/>
                </a:solidFill>
                <a:latin typeface="Times New Roman"/>
              </a:rPr>
              <a:t>Interpre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14F-3865-4B7D-B8D9-ED8165545CB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compiler.jpg"/>
          <p:cNvPicPr/>
          <p:nvPr/>
        </p:nvPicPr>
        <p:blipFill>
          <a:blip r:embed="rId1"/>
          <a:stretch/>
        </p:blipFill>
        <p:spPr>
          <a:xfrm>
            <a:off x="3189240" y="1052640"/>
            <a:ext cx="3378240" cy="47527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647720" y="333360"/>
            <a:ext cx="71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1b60f"/>
                </a:solidFill>
                <a:latin typeface="Times New Roman"/>
              </a:rPr>
              <a:t>Compil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8840" y="3068640"/>
            <a:ext cx="332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46240" y="1916280"/>
            <a:ext cx="4719600" cy="106956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A fordító (Compiler) a programot csak gépi kódra fordítja. Ezután a program bármikor futtatható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77960" y="5373720"/>
            <a:ext cx="2325960" cy="70380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Futtatható 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0138-B02F-4518-9CB8-4F3189C9090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A c</a:t>
            </a:r>
            <a:r>
              <a:rPr b="0" lang="en-GB" sz="3800" spc="-1" strike="noStrike">
                <a:solidFill>
                  <a:srgbClr val="f1b60f"/>
                </a:solidFill>
                <a:latin typeface="Arial"/>
              </a:rPr>
              <a:t>ompiler model</a:t>
            </a: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l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16000" y="2082960"/>
            <a:ext cx="8610480" cy="2946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0" y="3716280"/>
            <a:ext cx="2031840" cy="93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7680" y="3860640"/>
            <a:ext cx="10620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Lexika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elemz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46200" y="3716280"/>
            <a:ext cx="1860840" cy="93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72160" y="3716280"/>
            <a:ext cx="1660320" cy="93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64200" y="3716280"/>
            <a:ext cx="1846440" cy="93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11520" y="3860640"/>
            <a:ext cx="152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Szintaktikai elemz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05360" y="3860640"/>
            <a:ext cx="15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Szemantikai elemz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97760" y="4005360"/>
            <a:ext cx="15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Kódgenerál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41760" y="2060640"/>
            <a:ext cx="1860480" cy="1167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Szimbólumtáb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41B-D08D-420F-B943-5B21F3F98FA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333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Nyelvi feldolgozó rendszer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11360" y="3068640"/>
            <a:ext cx="4388040" cy="266544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50920" y="2004840"/>
            <a:ext cx="1728720" cy="7038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Lexikális elemző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40120" y="2004840"/>
            <a:ext cx="17305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Szintaktikai</a:t>
            </a:r>
            <a:r>
              <a:rPr b="0" lang="hu-HU" sz="24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elemző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99080" y="2004840"/>
            <a:ext cx="1729080" cy="6793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Szemantika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elemző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5640" y="3284640"/>
            <a:ext cx="17290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Táblázatkezelő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5640" y="4789440"/>
            <a:ext cx="1729080" cy="3988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Szövegelemző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15120" y="4581360"/>
            <a:ext cx="1728720" cy="3988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Kódgenerál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15120" y="3284640"/>
            <a:ext cx="1728720" cy="3988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Optimalizál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79640" y="4768920"/>
            <a:ext cx="1728720" cy="86256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Szimbólum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táb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9640" y="3365640"/>
            <a:ext cx="1728720" cy="1075680"/>
          </a:xfrm>
          <a:prstGeom prst="rect">
            <a:avLst/>
          </a:prstGeom>
          <a:solidFill>
            <a:srgbClr val="00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Absztrak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szintaktikai grá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70360" y="3365640"/>
            <a:ext cx="1728720" cy="1082160"/>
          </a:xfrm>
          <a:prstGeom prst="rect">
            <a:avLst/>
          </a:prstGeom>
          <a:solidFill>
            <a:srgbClr val="ff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Nyelvt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Definíci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05360" y="4815000"/>
            <a:ext cx="1728720" cy="862560"/>
          </a:xfrm>
          <a:prstGeom prst="rect">
            <a:avLst/>
          </a:prstGeom>
          <a:solidFill>
            <a:srgbClr val="ff7c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definíci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14480" y="2695680"/>
            <a:ext cx="1328760" cy="3729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50920" y="3700440"/>
            <a:ext cx="1360440" cy="4492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150920" y="4149360"/>
            <a:ext cx="1360440" cy="6397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70360" y="2786040"/>
            <a:ext cx="0" cy="2826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033600" y="2695680"/>
            <a:ext cx="1181160" cy="3729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899040" y="3700440"/>
            <a:ext cx="1328760" cy="4492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6899040" y="4149360"/>
            <a:ext cx="1328760" cy="4316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8F3-7E78-4D50-9207-1BD58410AD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48096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Fordító- és értelmezőprogramo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176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Compiler és interpret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Főbb alkotói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Lexikális elemző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Szintaktikai elemző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Hibakezelő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Táblázatkezelő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Szemantikai elemző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Globális optimalizáló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Kódgeneráló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csak fordító eseté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Lokális optimalizáló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csak fordító eseté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Végrehajtó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csak értelmező eseté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40C-5020-452F-8C85-4191FA0E29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Mire használjuk a számítógépet?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49240" y="2781360"/>
            <a:ext cx="1795680" cy="2448000"/>
          </a:xfrm>
          <a:prstGeom prst="irregularSeal2">
            <a:avLst/>
          </a:prstGeom>
          <a:solidFill>
            <a:srgbClr val="00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32480" y="2637000"/>
            <a:ext cx="1974960" cy="2425680"/>
          </a:xfrm>
          <a:prstGeom prst="irregularSeal2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44920" y="3429000"/>
            <a:ext cx="901440" cy="485640"/>
          </a:xfrm>
          <a:prstGeom prst="rightArrow">
            <a:avLst>
              <a:gd name="adj1" fmla="val 50000"/>
              <a:gd name="adj2" fmla="val 46405"/>
            </a:avLst>
          </a:prstGeom>
          <a:solidFill>
            <a:srgbClr val="f1b60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3720" y="3429000"/>
            <a:ext cx="901800" cy="485640"/>
          </a:xfrm>
          <a:prstGeom prst="rightArrow">
            <a:avLst>
              <a:gd name="adj1" fmla="val 50000"/>
              <a:gd name="adj2" fmla="val 46423"/>
            </a:avLst>
          </a:prstGeom>
          <a:solidFill>
            <a:srgbClr val="f1b60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41760" y="2924280"/>
            <a:ext cx="1396800" cy="1511280"/>
          </a:xfrm>
          <a:prstGeom prst="flowChartProcess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14520" y="3645000"/>
            <a:ext cx="3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1b60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97760" y="3645000"/>
            <a:ext cx="6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74960" y="3429000"/>
            <a:ext cx="93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06920" y="335772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09880" y="3284640"/>
            <a:ext cx="3457440" cy="772920"/>
          </a:xfrm>
          <a:prstGeom prst="rightArrow">
            <a:avLst>
              <a:gd name="adj1" fmla="val 50000"/>
              <a:gd name="adj2" fmla="val 111830"/>
            </a:avLst>
          </a:prstGeom>
          <a:solidFill>
            <a:srgbClr val="f1b60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06720" y="3284640"/>
            <a:ext cx="930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40280" y="2997360"/>
            <a:ext cx="71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5FA0-A36D-4107-841F-4A7CAA5D1379}" type="slidenum">
              <a:t>2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evt="end">
                                        <p:tn val="37"/>
                                      </p:cond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49240" y="333000"/>
            <a:ext cx="779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Programnyelvek különböző célokr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240" y="1844280"/>
            <a:ext cx="7272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Tudományos számítások (FORTRAN, ALGOL60,..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datfeldolgozás (COBOL, RPG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Rendszerprogramozás (C, FORTH, CDL2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Szövegfeldolgozá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Folyamatvezérlés (FORTH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Szimuláció (SIMULA-67, GPS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Oktatás (BASIC, LOGO, Pascal, ELAN, Smalltalk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Általános célú (Ada, Modula-2, PL/I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D51-A4A2-42D9-ACBB-3EF2B0A034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Programozási nyelvek osztályozása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 (2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1905120"/>
            <a:ext cx="358776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lacsonyszintű nyelv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Minden lehetőség (HW,SW) kihasználhat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Szimbolikus utasítás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zonosít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Címkené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Makró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Direktívá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dathelyfoglalás, definiál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86400" y="1905120"/>
            <a:ext cx="2884320" cy="34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Gépi nyelv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Minden lehetőség (HW,SW) kihasználhat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Kó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Memóriací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Memóriací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185B-9A26-4C70-A9B1-25767946A5C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Programozási nyelvek osztályozása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 (3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1905120"/>
            <a:ext cx="35877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agasszintű nyelv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(feladatorientál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Változó=tartomá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kifejezés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típ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elágazás, cik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eljár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paraméterez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86400" y="1905120"/>
            <a:ext cx="28843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lacsonyszintű nyelv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(géporientál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változó=kezdőcí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feltételes vezérlésátad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eljáráshívás, visszatér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1E6-F2E3-4790-9DAF-4CE0E71B873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14200" y="620640"/>
            <a:ext cx="77943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Programnyelvek története </a:t>
            </a:r>
            <a:br>
              <a:rPr sz="3000"/>
            </a:b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(körülbelüli dátumok)</a:t>
            </a:r>
            <a:endParaRPr b="0" lang="en-US" sz="19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14000" y="1915920"/>
            <a:ext cx="731196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1944. Neumann János: egy assembly nyelv terv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1950-es évek: assembly nyelv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6600"/>
                </a:solidFill>
                <a:latin typeface="Times New Roman"/>
              </a:rPr>
              <a:t>1. generáció (1950-1958)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 – elemi típusok, alapvető utasításo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FORTRAN I, ALGOL 58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Elmélet: assemblerek, kódgenerálás, makroprocesszor – hatékonyság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6600"/>
                </a:solidFill>
                <a:latin typeface="Times New Roman"/>
              </a:rPr>
              <a:t>2. generáció (1957-1966)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 – szintaxis: alapvető utasítások, adattípusok, kifejezések (fa, teljesen zárójelezett, lengyel forma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ALGOL 60: programegység, blokkstruktúra, algoritmusleíró nyelv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FORTRAN: fordítási egység, kezdőértékadás, unió típu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COBOL: rekord, file, adatfeldolgozá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PL/I (lezáró nyelv): az előzőek + dinamikus típusok, tömbművelete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CBC-D089-4616-8B21-1A70C182C1E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14200" y="620640"/>
            <a:ext cx="77943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Programnyelvek története </a:t>
            </a:r>
            <a:br>
              <a:rPr sz="3000"/>
            </a:b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(körülbelüli dátumok)</a:t>
            </a:r>
            <a:endParaRPr b="0" lang="en-US" sz="19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14000" y="1844280"/>
            <a:ext cx="674388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BASIC: első oktatási célú nyelv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Elmélet: nyelvek és automaták, szintaxis, lexikális analízis, kifejezéskiértékelés (fa, teljesen zárójelezett forma,  lengyel forma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Nem Neumann-elvű nyelvek: LISP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6600"/>
                </a:solidFill>
                <a:latin typeface="Times New Roman"/>
              </a:rPr>
              <a:t>3. generáció (1967-1975)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 – típus, strukturált programozá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(főleg ALGOL 60-ra épülő nyelvek), speciális célú nyelve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Simula 67 (objektum), ALGOL 68, Pasc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Rendszerprogramozási célú, alacsonyszintűekhez közeli nyelvek: C, CDL2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Elmélet: szemantikadefiniálás, struktúrált programozás, helyességbizonyítás, prog­ramszintézis, szimbolikus végrehajtá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"szoftver-krízis„: nem Neumann-elvű nyelvek: pl. PROLOG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3D0-0F70-47CE-9A05-5B167DB3454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14200" y="620640"/>
            <a:ext cx="77943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Programnyelvek története </a:t>
            </a:r>
            <a:br>
              <a:rPr sz="3000"/>
            </a:b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(körülbelüli dátumok)</a:t>
            </a:r>
            <a:endParaRPr b="0" lang="en-US" sz="19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14000" y="1844280"/>
            <a:ext cx="6743880" cy="35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6600"/>
                </a:solidFill>
                <a:latin typeface="Times New Roman"/>
              </a:rPr>
              <a:t>4. generáció (1974-1990)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 – modularitás, specifikáció, absztrakt típus (értékhalmaz+mű­veletek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(főleg Pascal és Simula 67 alapú nyelvek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Modula-2, Ada, (Alphard, CLU, Euclid, Mesa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6600"/>
                </a:solidFill>
                <a:latin typeface="Times New Roman"/>
              </a:rPr>
              <a:t>5. generáció (1990-    )</a:t>
            </a: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 – párhuzamosság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Többprocesszoros gépek, hálózatok programozása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BC4-C0AF-4C26-B265-4157BD50154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Robot és programozása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2768760" y="1760400"/>
            <a:ext cx="375588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 rot="20028000">
            <a:off x="5684760" y="3735000"/>
            <a:ext cx="2422440" cy="485640"/>
          </a:xfrm>
          <a:prstGeom prst="leftArrow">
            <a:avLst>
              <a:gd name="adj1" fmla="val 50000"/>
              <a:gd name="adj2" fmla="val 124703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030-BA94-488B-8821-47AC2494A371}" type="slidenum">
              <a:t>26</a:t>
            </a:fld>
          </a:p>
        </p:txBody>
      </p:sp>
    </p:spTree>
  </p:cSld>
  <p:transition>
    <p:pull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Robot és robotvezérlő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905360" y="1916280"/>
            <a:ext cx="3552840" cy="38322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784080" y="1916280"/>
            <a:ext cx="3594240" cy="38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77F-05D9-4508-BC43-8C6504ED6D3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Robotok az autógyártásban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914400" y="2478240"/>
            <a:ext cx="3354480" cy="31971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591080" y="2606760"/>
            <a:ext cx="3062160" cy="30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024-26B3-4537-AA3A-EDC24BF3AB4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49280" y="609120"/>
            <a:ext cx="77947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Folyamatábra programo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22280" y="201780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A programok szerkezete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57600" y="2438280"/>
            <a:ext cx="4430880" cy="29718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49720" y="3200400"/>
            <a:ext cx="344664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19560" y="4114800"/>
            <a:ext cx="337680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53160" y="3352680"/>
            <a:ext cx="1969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datdefiníció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13120" y="4419720"/>
            <a:ext cx="2671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Programutasítá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53160" y="2590920"/>
            <a:ext cx="20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1b60f"/>
                </a:solidFill>
                <a:latin typeface="Times New Roman"/>
              </a:rPr>
              <a:t>ker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2280" y="2489040"/>
            <a:ext cx="323532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4c25e"/>
                </a:solidFill>
                <a:latin typeface="Times New Roman"/>
                <a:ea typeface="Times New Roman"/>
              </a:rPr>
              <a:t>Az utasítások, mint a formális logika leképezései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1b6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Értékadá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1b6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Beolvasás/kiír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1b6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Feltételes utasítá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1b6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Ciklusutasítások</a:t>
            </a:r>
            <a:br>
              <a:rPr sz="2400"/>
            </a:b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4c25e"/>
                </a:solidFill>
                <a:latin typeface="Times New Roman"/>
                <a:ea typeface="Times New Roman"/>
              </a:rPr>
              <a:t>Alprogram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1b6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Eljárá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1b6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Függvény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1b6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7322-5772-401C-8680-26E04F247D5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49280" y="620640"/>
            <a:ext cx="77947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Neumann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-elv</a:t>
            </a: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 gyakorlatban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622296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Kettes számrendszer</a:t>
            </a:r>
            <a:r>
              <a:rPr b="1" lang="en-US" sz="2200" spc="-1" strike="noStrike">
                <a:solidFill>
                  <a:srgbClr val="f1b60f"/>
                </a:solidFill>
                <a:latin typeface="Times New Roman"/>
              </a:rPr>
              <a:t> alkalmazás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Címezhetőség:</a:t>
            </a:r>
            <a:r>
              <a:rPr b="1" lang="en-US" sz="2200" spc="-1" strike="noStrike">
                <a:solidFill>
                  <a:srgbClr val="f1b60f"/>
                </a:solidFill>
                <a:latin typeface="Times New Roman"/>
              </a:rPr>
              <a:t> utasítások és adatok sorszámozott memóriarekeszekbe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6600"/>
                </a:solidFill>
                <a:latin typeface="Times New Roman"/>
              </a:rPr>
              <a:t>Szekvenciális</a:t>
            </a: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 (egymás után következő) </a:t>
            </a:r>
            <a:r>
              <a:rPr b="1" lang="en-US" sz="2200" spc="-1" strike="noStrike">
                <a:solidFill>
                  <a:srgbClr val="f1b60f"/>
                </a:solidFill>
                <a:latin typeface="Times New Roman"/>
              </a:rPr>
              <a:t> utasítás-végrehajtá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Be- és kiviteli</a:t>
            </a: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 egysé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6600"/>
                </a:solidFill>
                <a:latin typeface="Times New Roman"/>
              </a:rPr>
              <a:t>V</a:t>
            </a:r>
            <a:r>
              <a:rPr b="1" lang="en-US" sz="2200" spc="-1" strike="noStrike">
                <a:solidFill>
                  <a:srgbClr val="ff6600"/>
                </a:solidFill>
                <a:latin typeface="Times New Roman"/>
              </a:rPr>
              <a:t>ezérlő és műveletvégrehajtó</a:t>
            </a:r>
            <a:r>
              <a:rPr b="1" lang="en-US" sz="2200" spc="-1" strike="noStrike">
                <a:solidFill>
                  <a:srgbClr val="f1b60f"/>
                </a:solidFill>
                <a:latin typeface="Times New Roman"/>
              </a:rPr>
              <a:t> egysé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01cph07.jpg"/>
          <p:cNvPicPr/>
          <p:nvPr/>
        </p:nvPicPr>
        <p:blipFill>
          <a:blip r:embed="rId1"/>
          <a:stretch/>
        </p:blipFill>
        <p:spPr>
          <a:xfrm>
            <a:off x="6913440" y="3924360"/>
            <a:ext cx="1263600" cy="15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4CA9-BC47-4F68-816F-342FBA232FC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60280" y="260280"/>
            <a:ext cx="7794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A VB struktúrált programozásra</a:t>
            </a:r>
            <a:br>
              <a:rPr sz="2500"/>
            </a:b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utaló elemei – adattárolás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17680" y="1915920"/>
            <a:ext cx="8626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7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1b60f"/>
                </a:solidFill>
                <a:latin typeface="Times New Roman"/>
              </a:rPr>
              <a:t>Konstans </a:t>
            </a:r>
            <a:r>
              <a:rPr b="0" lang="hu-HU" sz="2600" spc="-1" strike="noStrike">
                <a:solidFill>
                  <a:srgbClr val="f1b60f"/>
                </a:solidFill>
                <a:latin typeface="Times New Roman"/>
              </a:rPr>
              <a:t> </a:t>
            </a:r>
            <a:br>
              <a:rPr sz="2600"/>
            </a:br>
            <a:br>
              <a:rPr sz="2600"/>
            </a:b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Kezdőértékadás, míg meg nem változtatjuk azonos az értéke</a:t>
            </a:r>
            <a:br>
              <a:rPr sz="2100"/>
            </a:b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19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1b60f"/>
                </a:solidFill>
                <a:latin typeface="Times New Roman"/>
              </a:rPr>
              <a:t>Változó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7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4c25e"/>
                </a:solidFill>
                <a:latin typeface="Times New Roman"/>
              </a:rPr>
              <a:t>Azonosító (név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7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4c25e"/>
                </a:solidFill>
                <a:latin typeface="Times New Roman"/>
              </a:rPr>
              <a:t>Típus (pl.: integer, long, single, double, string, boolean,variant, saját típ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7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4c25e"/>
                </a:solidFill>
                <a:latin typeface="Times New Roman"/>
              </a:rPr>
              <a:t>Érték (tárolt ada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7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4c25e"/>
                </a:solidFill>
                <a:latin typeface="Times New Roman"/>
              </a:rPr>
              <a:t>Memória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7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4c25e"/>
                </a:solidFill>
                <a:latin typeface="Times New Roman"/>
              </a:rPr>
              <a:t>Hatókö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7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4c25e"/>
                </a:solidFill>
                <a:latin typeface="Times New Roman"/>
              </a:rPr>
              <a:t>Élettarta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C2BA-69C2-4C4A-97FA-A908801CD13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A VB struktúrált programozásra</a:t>
            </a:r>
            <a:br>
              <a:rPr sz="2500"/>
            </a:b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utaló elemei – operanduszok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84080" y="190656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Példa konstansra</a:t>
            </a:r>
            <a:br>
              <a:rPr sz="1900"/>
            </a:br>
            <a:r>
              <a:rPr b="0" lang="en-US" sz="1900" spc="-1" strike="noStrike">
                <a:solidFill>
                  <a:srgbClr val="ff6600"/>
                </a:solidFill>
                <a:latin typeface="Times New Roman"/>
              </a:rPr>
              <a:t>Const a As String = "</a:t>
            </a:r>
            <a:r>
              <a:rPr b="0" lang="hu-HU" sz="1900" spc="-1" strike="noStrike">
                <a:solidFill>
                  <a:srgbClr val="ff6600"/>
                </a:solidFill>
                <a:latin typeface="Times New Roman"/>
              </a:rPr>
              <a:t>szövegliterál</a:t>
            </a:r>
            <a:r>
              <a:rPr b="0" lang="en-US" sz="1900" spc="-1" strike="noStrike">
                <a:solidFill>
                  <a:srgbClr val="ff6600"/>
                </a:solidFill>
                <a:latin typeface="Times New Roman"/>
              </a:rPr>
              <a:t>"</a:t>
            </a:r>
            <a:r>
              <a:rPr b="0" lang="hu-HU" sz="1900" spc="-1" strike="noStrike">
                <a:solidFill>
                  <a:srgbClr val="ff6600"/>
                </a:solidFill>
                <a:latin typeface="Times New Roman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ff6600"/>
                </a:solidFill>
                <a:latin typeface="Times New Roman"/>
              </a:rPr>
              <a:t>Const </a:t>
            </a:r>
            <a:r>
              <a:rPr b="0" lang="hu-HU" sz="1900" spc="-1" strike="noStrike">
                <a:solidFill>
                  <a:srgbClr val="ff6600"/>
                </a:solidFill>
                <a:latin typeface="Times New Roman"/>
              </a:rPr>
              <a:t>L</a:t>
            </a:r>
            <a:r>
              <a:rPr b="0" lang="en-US" sz="1900" spc="-1" strike="noStrike">
                <a:solidFill>
                  <a:srgbClr val="ff6600"/>
                </a:solidFill>
                <a:latin typeface="Times New Roman"/>
              </a:rPr>
              <a:t> As Boolean = Tru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Példa változó deklarációra</a:t>
            </a:r>
            <a:br>
              <a:rPr sz="1900"/>
            </a:br>
            <a:r>
              <a:rPr b="0" lang="hu-HU" sz="1900" spc="-1" strike="noStrike">
                <a:solidFill>
                  <a:srgbClr val="ff6600"/>
                </a:solidFill>
                <a:latin typeface="Times New Roman"/>
              </a:rPr>
              <a:t>Dim a As Variant </a:t>
            </a:r>
            <a:br>
              <a:rPr sz="1900"/>
            </a:br>
            <a:r>
              <a:rPr b="0" lang="hu-HU" sz="1900" spc="-1" strike="noStrike">
                <a:solidFill>
                  <a:srgbClr val="ff6600"/>
                </a:solidFill>
                <a:latin typeface="Times New Roman"/>
              </a:rPr>
              <a:t>Dim tomb(1 to 3, 1 to 4) As Long</a:t>
            </a:r>
            <a:r>
              <a:rPr b="0" lang="en-US" sz="1900" spc="-1" strike="noStrike">
                <a:solidFill>
                  <a:srgbClr val="ff6600"/>
                </a:solidFill>
                <a:latin typeface="Times New Roman"/>
              </a:rPr>
              <a:t> </a:t>
            </a:r>
            <a:br>
              <a:rPr sz="1900"/>
            </a:br>
            <a:r>
              <a:rPr b="0" lang="hu-HU" sz="1900" spc="-1" strike="noStrike">
                <a:solidFill>
                  <a:srgbClr val="f1b60f"/>
                </a:solidFill>
                <a:latin typeface="Times New Roman"/>
              </a:rPr>
              <a:t>A l</a:t>
            </a:r>
            <a:r>
              <a:rPr b="0" lang="hu-HU" sz="1700" spc="-1" strike="noStrike">
                <a:solidFill>
                  <a:srgbClr val="f1b60f"/>
                </a:solidFill>
                <a:latin typeface="Times New Roman"/>
              </a:rPr>
              <a:t>okális változó első használatakor automatikusan deklarálódik:</a:t>
            </a:r>
            <a:br>
              <a:rPr sz="1700"/>
            </a:br>
            <a:r>
              <a:rPr b="0" lang="hu-HU" sz="1900" spc="-1" strike="noStrike">
                <a:solidFill>
                  <a:srgbClr val="ff6600"/>
                </a:solidFill>
                <a:latin typeface="Times New Roman"/>
              </a:rPr>
              <a:t>i=5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Példa típus deklarációra és használatára (rekord) </a:t>
            </a:r>
            <a:br>
              <a:rPr sz="1900"/>
            </a:br>
            <a:r>
              <a:rPr b="0" lang="hu-HU" sz="1900" spc="-1" strike="noStrike">
                <a:solidFill>
                  <a:srgbClr val="ff6600"/>
                </a:solidFill>
                <a:latin typeface="Times New Roman"/>
              </a:rPr>
              <a:t>Type város</a:t>
            </a:r>
            <a:br>
              <a:rPr sz="1900"/>
            </a:br>
            <a:r>
              <a:rPr b="0" lang="hu-HU" sz="1900" spc="-1" strike="noStrike">
                <a:solidFill>
                  <a:srgbClr val="ff6600"/>
                </a:solidFill>
                <a:latin typeface="Times New Roman"/>
              </a:rPr>
              <a:t>irányítószám As Intege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hu-HU" sz="1900" spc="-1" strike="noStrike">
                <a:solidFill>
                  <a:srgbClr val="ff6600"/>
                </a:solidFill>
                <a:latin typeface="Times New Roman"/>
              </a:rPr>
              <a:t>városrész As String</a:t>
            </a:r>
            <a:br>
              <a:rPr sz="1900"/>
            </a:br>
            <a:r>
              <a:rPr b="0" lang="hu-HU" sz="1900" spc="-1" strike="noStrike">
                <a:solidFill>
                  <a:srgbClr val="ff6600"/>
                </a:solidFill>
                <a:latin typeface="Times New Roman"/>
              </a:rPr>
              <a:t>End Typ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95920" y="4506840"/>
            <a:ext cx="25956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6600"/>
                </a:solidFill>
                <a:latin typeface="Times New Roman"/>
              </a:rPr>
              <a:t>Dim v(1 to 100) as vá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1b60f"/>
                </a:solidFill>
                <a:latin typeface="Times New Roman"/>
              </a:rPr>
              <a:t>‘</a:t>
            </a:r>
            <a:r>
              <a:rPr b="0" lang="hu-HU" sz="2000" spc="-1" strike="noStrike">
                <a:solidFill>
                  <a:srgbClr val="f1b60f"/>
                </a:solidFill>
                <a:latin typeface="Times New Roman"/>
              </a:rPr>
              <a:t>Majd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6600"/>
                </a:solidFill>
                <a:latin typeface="Times New Roman"/>
              </a:rPr>
              <a:t>v(2).irányítószám=101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360-BC91-40F3-A27C-7E4601723E8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A VB struktúrált programozásra</a:t>
            </a:r>
            <a:br>
              <a:rPr sz="2500"/>
            </a:b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utaló elemei – operátorok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244600" y="1811160"/>
            <a:ext cx="5052960" cy="40658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150920" y="2133720"/>
            <a:ext cx="0" cy="33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5400000">
            <a:off x="124920" y="3522240"/>
            <a:ext cx="247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1b60f"/>
                </a:solidFill>
                <a:latin typeface="Times New Roman"/>
              </a:rPr>
              <a:t>Csökkenő preced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50920" y="2133720"/>
            <a:ext cx="563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212-A75D-49E2-94A6-72B495041F0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60280" y="260280"/>
            <a:ext cx="7794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A VB struktúrált programozásra</a:t>
            </a:r>
            <a:br>
              <a:rPr sz="2500"/>
            </a:b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utaló elemei – kifejezés, struktúrák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36160" y="1915920"/>
            <a:ext cx="7216920" cy="44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70000"/>
              </a:lnSpc>
              <a:spcBef>
                <a:spcPts val="12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Kifejezés</a:t>
            </a:r>
            <a:br>
              <a:rPr sz="1900"/>
            </a:br>
            <a:r>
              <a:rPr b="0" lang="hu-HU" sz="1700" spc="-1" strike="noStrike">
                <a:solidFill>
                  <a:srgbClr val="ff6600"/>
                </a:solidFill>
                <a:latin typeface="Times New Roman"/>
              </a:rPr>
              <a:t>Aritmetikai, logikai műveleti-, ill. reláció-jelek és operanduszok együttese, zárójelezés megengedett,  kiértékelése a precedencia szabályok alapján történik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7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Struktúrá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7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Szekvencia</a:t>
            </a:r>
            <a:br>
              <a:rPr sz="1700"/>
            </a:br>
            <a:r>
              <a:rPr b="0" lang="hu-HU" sz="1700" spc="-1" strike="noStrike">
                <a:solidFill>
                  <a:srgbClr val="ff6600"/>
                </a:solidFill>
                <a:latin typeface="Times New Roman"/>
              </a:rPr>
              <a:t>Az utasítások sorban egymás után hajtódnak végr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7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Elágazás</a:t>
            </a:r>
            <a:br>
              <a:rPr sz="1700"/>
            </a:br>
            <a:r>
              <a:rPr b="0" lang="hu-HU" sz="1700" spc="-1" strike="noStrike">
                <a:solidFill>
                  <a:srgbClr val="ff6600"/>
                </a:solidFill>
                <a:latin typeface="Times New Roman"/>
              </a:rPr>
              <a:t>Egy logikai érték függvényében dől el, mely programrész hajtódik végr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7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Ciklus</a:t>
            </a:r>
            <a:r>
              <a:rPr b="0" lang="hu-HU" sz="1700" spc="-1" strike="noStrike">
                <a:solidFill>
                  <a:srgbClr val="f1b60f"/>
                </a:solidFill>
                <a:latin typeface="Times New Roman"/>
              </a:rPr>
              <a:t> </a:t>
            </a:r>
            <a:br>
              <a:rPr sz="1700"/>
            </a:br>
            <a:r>
              <a:rPr b="0" lang="hu-HU" sz="1700" spc="-1" strike="noStrike">
                <a:solidFill>
                  <a:srgbClr val="ff6600"/>
                </a:solidFill>
                <a:latin typeface="Times New Roman"/>
              </a:rPr>
              <a:t>A ciklusfej és a ciklusláb közötti ciklustörzsben levő utasítások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0">
              <a:lnSpc>
                <a:spcPct val="70000"/>
              </a:lnSpc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hu-HU" sz="1700" spc="-1" strike="noStrike">
                <a:solidFill>
                  <a:srgbClr val="ff6600"/>
                </a:solidFill>
                <a:latin typeface="Times New Roman"/>
              </a:rPr>
              <a:t>bizonyos feltételek esetén ismételten végrehajtódnak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4316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1b60f"/>
                </a:solidFill>
                <a:latin typeface="Times New Roman"/>
              </a:rPr>
              <a:t>Meghatározott lépésszámú cikl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4316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1b60f"/>
                </a:solidFill>
                <a:latin typeface="Times New Roman"/>
              </a:rPr>
              <a:t>Elöltesztelő cikl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4316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1b60f"/>
                </a:solidFill>
                <a:latin typeface="Times New Roman"/>
              </a:rPr>
              <a:t>Hátultesztelő cikl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7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Többszörös elágazás</a:t>
            </a:r>
            <a:br>
              <a:rPr sz="1700"/>
            </a:br>
            <a:r>
              <a:rPr b="0" lang="hu-HU" sz="1700" spc="-1" strike="noStrike">
                <a:solidFill>
                  <a:srgbClr val="ff6600"/>
                </a:solidFill>
                <a:latin typeface="Times New Roman"/>
              </a:rPr>
              <a:t>Egy skalár változó értékének függvényében más-más programrészek hajtódmak végr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97B-169A-4101-906D-A6E660E8CF5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9400" y="549360"/>
            <a:ext cx="77947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Alapvető programozási struktúrák (1)</a:t>
            </a:r>
            <a:br>
              <a:rPr sz="2500"/>
            </a:b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A szekvencia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41760" y="1916280"/>
            <a:ext cx="19940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41760" y="2924280"/>
            <a:ext cx="19940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B=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06920" y="4005360"/>
            <a:ext cx="192888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3. tevékenysé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07040" y="2421000"/>
            <a:ext cx="331560" cy="504720"/>
          </a:xfrm>
          <a:prstGeom prst="downArrow">
            <a:avLst>
              <a:gd name="adj1" fmla="val 50000"/>
              <a:gd name="adj2" fmla="val 38056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38800" y="4508640"/>
            <a:ext cx="331560" cy="504720"/>
          </a:xfrm>
          <a:prstGeom prst="downArrow">
            <a:avLst>
              <a:gd name="adj1" fmla="val 50000"/>
              <a:gd name="adj2" fmla="val 38056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71840" y="3429000"/>
            <a:ext cx="331920" cy="504720"/>
          </a:xfrm>
          <a:prstGeom prst="downArrow">
            <a:avLst>
              <a:gd name="adj1" fmla="val 50000"/>
              <a:gd name="adj2" fmla="val 38015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706920" y="5013360"/>
            <a:ext cx="192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4. folya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0120" y="5229360"/>
            <a:ext cx="19954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3. folya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05440" y="5445000"/>
            <a:ext cx="199548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n. tevékenysé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9059-4B51-47FA-AE63-D065B54DD05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9400" y="549360"/>
            <a:ext cx="77947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Alapvető programozási struktúrák (2)</a:t>
            </a:r>
            <a:br>
              <a:rPr sz="2500"/>
            </a:b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A döntés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47720" y="3141720"/>
            <a:ext cx="19940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=A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02400" y="3141720"/>
            <a:ext cx="1993680" cy="459720"/>
          </a:xfrm>
          <a:prstGeom prst="rect">
            <a:avLst/>
          </a:prstGeom>
          <a:solidFill>
            <a:srgbClr val="ff00ff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=A*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77600" y="2492280"/>
            <a:ext cx="1527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77960" y="2492280"/>
            <a:ext cx="0" cy="649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5360" y="2492280"/>
            <a:ext cx="1660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66040" y="2492280"/>
            <a:ext cx="0" cy="649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05440" y="4508640"/>
            <a:ext cx="865080" cy="865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77960" y="3645000"/>
            <a:ext cx="0" cy="129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77960" y="4941720"/>
            <a:ext cx="15274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566040" y="3645000"/>
            <a:ext cx="0" cy="129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970520" y="4941720"/>
            <a:ext cx="15955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0" y="537372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114560" y="2205000"/>
            <a:ext cx="1198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Ig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(ig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99400" y="2133720"/>
            <a:ext cx="1197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Ham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(ne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4000" y="3213000"/>
            <a:ext cx="1690560" cy="272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IF </a:t>
            </a:r>
            <a:r>
              <a:rPr b="0" i="1" lang="hu-HU" sz="1800" spc="-1" strike="noStrike">
                <a:solidFill>
                  <a:srgbClr val="f1b60f"/>
                </a:solidFill>
                <a:latin typeface="Times New Roman"/>
              </a:rPr>
              <a:t>feltétel </a:t>
            </a: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  </a:t>
            </a:r>
            <a:r>
              <a:rPr b="0" lang="hu-HU" sz="18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04c25e"/>
                </a:solidFill>
                <a:latin typeface="Times New Roman"/>
              </a:rPr>
              <a:t>A tevékenysé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  </a:t>
            </a:r>
            <a:r>
              <a:rPr b="1" lang="hu-HU" sz="1800" spc="-1" strike="noStrike">
                <a:solidFill>
                  <a:srgbClr val="ff00ff"/>
                </a:solidFill>
                <a:latin typeface="Times New Roman"/>
              </a:rPr>
              <a:t>B tevékenysé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END 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940440" y="5632560"/>
            <a:ext cx="2367000" cy="122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Feltéte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Logikai érték pl.: reláció kiértékelé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6280" y="2027160"/>
            <a:ext cx="1595520" cy="936720"/>
          </a:xfrm>
          <a:prstGeom prst="flowChartDecision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&lt;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05400" y="184464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491C-43B1-4DA7-966A-C75D0BB4080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9400" y="549360"/>
            <a:ext cx="77947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Alapvető programozási struktúrák (3)</a:t>
            </a:r>
            <a:br>
              <a:rPr sz="2500"/>
            </a:b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Az elöltesztelő ciklus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606760" y="551664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9160" y="2038320"/>
            <a:ext cx="11970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Ig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(ig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398600" y="1994040"/>
            <a:ext cx="1197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Ham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(ne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080" y="2550960"/>
            <a:ext cx="20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DO W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00360" y="5516640"/>
            <a:ext cx="2305080" cy="89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DO WHILE </a:t>
            </a:r>
            <a:r>
              <a:rPr b="0" i="1" lang="hu-HU" sz="2000" spc="-1" strike="noStrike">
                <a:solidFill>
                  <a:srgbClr val="f1b60f"/>
                </a:solidFill>
                <a:latin typeface="Times New Roman"/>
              </a:rPr>
              <a:t>feltétel</a:t>
            </a:r>
            <a:br>
              <a:rPr sz="2000"/>
            </a:b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tevékenység</a:t>
            </a:r>
            <a:br>
              <a:rPr sz="2000"/>
            </a:b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LO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36040" y="246528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DO UNT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71720" y="3500280"/>
            <a:ext cx="1995480" cy="459720"/>
          </a:xfrm>
          <a:prstGeom prst="rect">
            <a:avLst/>
          </a:prstGeom>
          <a:solidFill>
            <a:srgbClr val="ff00ff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tevékenysé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771560" y="2292480"/>
            <a:ext cx="1629000" cy="858600"/>
          </a:xfrm>
          <a:prstGeom prst="flowChartDecision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05280" y="4853160"/>
            <a:ext cx="93024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935160" y="3986280"/>
            <a:ext cx="6120" cy="866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162160" y="4435560"/>
            <a:ext cx="863640" cy="865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O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935520" y="2727000"/>
            <a:ext cx="0" cy="7729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3324240" y="2727360"/>
            <a:ext cx="611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06760" y="191628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2584440" y="3151080"/>
            <a:ext cx="0" cy="1284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1425240" y="5538960"/>
            <a:ext cx="1181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1418760" y="2711520"/>
            <a:ext cx="352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1419120" y="2711520"/>
            <a:ext cx="6480" cy="2827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3320" y="5972040"/>
            <a:ext cx="2281320" cy="89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DO UNTIL </a:t>
            </a:r>
            <a:r>
              <a:rPr b="0" i="1" lang="hu-HU" sz="2000" spc="-1" strike="noStrike">
                <a:solidFill>
                  <a:srgbClr val="f1b60f"/>
                </a:solidFill>
                <a:latin typeface="Times New Roman"/>
              </a:rPr>
              <a:t>feltétel</a:t>
            </a:r>
            <a:br>
              <a:rPr sz="2000"/>
            </a:b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tevékenység</a:t>
            </a:r>
            <a:br>
              <a:rPr sz="2000"/>
            </a:b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LO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4640" y="3489480"/>
            <a:ext cx="1994040" cy="459720"/>
          </a:xfrm>
          <a:prstGeom prst="rect">
            <a:avLst/>
          </a:prstGeom>
          <a:solidFill>
            <a:srgbClr val="ff00ff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tevékenysé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23040" y="2281320"/>
            <a:ext cx="1628640" cy="858600"/>
          </a:xfrm>
          <a:prstGeom prst="flowChartDecision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657840" y="4842000"/>
            <a:ext cx="93024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7588080" y="3975120"/>
            <a:ext cx="5040" cy="866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813280" y="4424400"/>
            <a:ext cx="863640" cy="865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LO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7588080" y="2716200"/>
            <a:ext cx="0" cy="77328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6975360" y="2716200"/>
            <a:ext cx="612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257880" y="190512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237360" y="3139920"/>
            <a:ext cx="0" cy="1284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5076360" y="5527800"/>
            <a:ext cx="1181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071680" y="2700360"/>
            <a:ext cx="35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5071680" y="2700360"/>
            <a:ext cx="4680" cy="2827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57880" y="551664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3320" y="1927080"/>
            <a:ext cx="1197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Ham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(ne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38560" y="1960560"/>
            <a:ext cx="11988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Ig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(ig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3520" y="4654440"/>
            <a:ext cx="206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LO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36040" y="464328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LO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71CD-0A2B-4543-B8D6-5C68F7D0695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49400" y="549360"/>
            <a:ext cx="77947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Alapvető programozási struktúrák (4)</a:t>
            </a:r>
            <a:br>
              <a:rPr sz="2500"/>
            </a:b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A meghatározott lépésszámú ciklus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8360" y="3716280"/>
            <a:ext cx="2352600" cy="812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FOR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I=K </a:t>
            </a: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TO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 STEP </a:t>
            </a: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hu-HU" sz="1800" spc="-1" strike="noStrike">
                <a:solidFill>
                  <a:srgbClr val="ff6600"/>
                </a:solidFill>
                <a:latin typeface="Times New Roman"/>
              </a:rPr>
              <a:t>tevékenység</a:t>
            </a:r>
            <a:br>
              <a:rPr sz="1800"/>
            </a:b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708600" y="3489480"/>
            <a:ext cx="1994040" cy="459720"/>
          </a:xfrm>
          <a:prstGeom prst="rect">
            <a:avLst/>
          </a:prstGeom>
          <a:solidFill>
            <a:srgbClr val="ff00ff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tevékenysé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75000" y="2281320"/>
            <a:ext cx="1627200" cy="858600"/>
          </a:xfrm>
          <a:prstGeom prst="flowChartDecision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&lt;=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508720" y="4842000"/>
            <a:ext cx="2263680" cy="158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7765920" y="3990960"/>
            <a:ext cx="6480" cy="8668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64160" y="4424400"/>
            <a:ext cx="865080" cy="865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7772400" y="2700360"/>
            <a:ext cx="0" cy="7891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465680" y="2716200"/>
            <a:ext cx="306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110200" y="190512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5087880" y="3139920"/>
            <a:ext cx="0" cy="1284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3928680" y="5527800"/>
            <a:ext cx="1181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3922200" y="2700360"/>
            <a:ext cx="352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922560" y="2700360"/>
            <a:ext cx="6480" cy="2827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08400" y="551664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16360" y="1949400"/>
            <a:ext cx="1197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Ham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(ne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95920" y="1949400"/>
            <a:ext cx="11970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Ig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(ig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438960" y="2433600"/>
            <a:ext cx="1052280" cy="94716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I=I+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901840" y="2711520"/>
            <a:ext cx="5367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7800" y="2502000"/>
            <a:ext cx="34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FOR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I=K</a:t>
            </a: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 TO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 </a:t>
            </a: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STEP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76440" y="4681440"/>
            <a:ext cx="11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91AE-ED34-410B-A727-DC85DACD21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49400" y="549360"/>
            <a:ext cx="77947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Alapvető programozási struktúrák (5)</a:t>
            </a:r>
            <a:br>
              <a:rPr sz="2500"/>
            </a:b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A hátultesztelő ciklus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31960" y="3511440"/>
            <a:ext cx="1994040" cy="459720"/>
          </a:xfrm>
          <a:prstGeom prst="rect">
            <a:avLst/>
          </a:prstGeom>
          <a:solidFill>
            <a:srgbClr val="ff00ff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tevékenysé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95400" y="4411800"/>
            <a:ext cx="1627200" cy="858600"/>
          </a:xfrm>
          <a:prstGeom prst="flowChartDecision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701800" y="3147840"/>
            <a:ext cx="0" cy="3636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065480" y="2700360"/>
            <a:ext cx="5040" cy="2152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63680" y="2282760"/>
            <a:ext cx="865440" cy="865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701800" y="4006440"/>
            <a:ext cx="0" cy="405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3452760" y="4821120"/>
            <a:ext cx="612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30600" y="190512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3122640" y="2700360"/>
            <a:ext cx="9684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01800" y="5267160"/>
            <a:ext cx="0" cy="609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790720" y="5229360"/>
            <a:ext cx="11988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Ham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(ne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13080" y="4195800"/>
            <a:ext cx="11970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Ig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(ig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5280" y="1052640"/>
            <a:ext cx="2016000" cy="1105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DO</a:t>
            </a:r>
            <a:br>
              <a:rPr sz="2000"/>
            </a:br>
            <a:r>
              <a:rPr b="1" lang="hu-HU" sz="2000" spc="-1" strike="noStrike">
                <a:solidFill>
                  <a:srgbClr val="04c25e"/>
                </a:solidFill>
                <a:latin typeface="Times New Roman"/>
              </a:rPr>
              <a:t>tevékenység</a:t>
            </a:r>
            <a:br>
              <a:rPr sz="2000"/>
            </a:b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LOOP WHILE 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i="1" lang="hu-HU" sz="2000" spc="-1" strike="noStrike">
                <a:solidFill>
                  <a:srgbClr val="f1b60f"/>
                </a:solidFill>
                <a:latin typeface="Times New Roman"/>
              </a:rPr>
              <a:t>felté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97560" y="3467160"/>
            <a:ext cx="1993680" cy="459720"/>
          </a:xfrm>
          <a:prstGeom prst="rect">
            <a:avLst/>
          </a:prstGeom>
          <a:solidFill>
            <a:srgbClr val="ff00ff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tevékenysé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759200" y="4367160"/>
            <a:ext cx="1629000" cy="858960"/>
          </a:xfrm>
          <a:prstGeom prst="flowChartDecision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5567400" y="3103560"/>
            <a:ext cx="0" cy="3636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6929280" y="2655720"/>
            <a:ext cx="6480" cy="2152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129280" y="2238480"/>
            <a:ext cx="863640" cy="865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5567400" y="3962520"/>
            <a:ext cx="0" cy="4046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6316560" y="4776840"/>
            <a:ext cx="612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594400" y="186048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5987880" y="2655720"/>
            <a:ext cx="9684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567400" y="522288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157800" y="4076640"/>
            <a:ext cx="119700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Ham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(ne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84760" y="5245200"/>
            <a:ext cx="11970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Ig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(ig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04000" y="5978520"/>
            <a:ext cx="2544840" cy="89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DO</a:t>
            </a:r>
            <a:br>
              <a:rPr sz="2000"/>
            </a:br>
            <a:r>
              <a:rPr b="1" lang="hu-HU" sz="2000" spc="-1" strike="noStrike">
                <a:solidFill>
                  <a:srgbClr val="04c25e"/>
                </a:solidFill>
                <a:latin typeface="Times New Roman"/>
              </a:rPr>
              <a:t>tevékenység</a:t>
            </a:r>
            <a:br>
              <a:rPr sz="2000"/>
            </a:b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LOOP UNTIL </a:t>
            </a:r>
            <a:r>
              <a:rPr b="0" i="1" lang="hu-HU" sz="2000" spc="-1" strike="noStrike">
                <a:solidFill>
                  <a:srgbClr val="f1b60f"/>
                </a:solidFill>
                <a:latin typeface="Times New Roman"/>
              </a:rPr>
              <a:t>felté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044720" y="2484360"/>
            <a:ext cx="6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209000" y="2457360"/>
            <a:ext cx="6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2920" y="4654440"/>
            <a:ext cx="20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LOOP W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083360" y="4622760"/>
            <a:ext cx="20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LOOP UNT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620-DFBF-46E8-A93D-6B5BBB35CD9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482840" y="1401840"/>
            <a:ext cx="7010280" cy="80316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49400" y="-360"/>
            <a:ext cx="7794720" cy="13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Alapvető programozási struktúrák (6)</a:t>
            </a:r>
            <a:br>
              <a:rPr sz="2500"/>
            </a:b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szelekció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50920" y="1268280"/>
            <a:ext cx="237636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CASE C</a:t>
            </a:r>
            <a:br>
              <a:rPr sz="2400"/>
            </a:b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  CASE </a:t>
            </a: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1</a:t>
            </a:r>
            <a:br>
              <a:rPr sz="2400"/>
            </a:b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     </a:t>
            </a:r>
            <a:r>
              <a:rPr b="1" lang="hu-HU" sz="2400" spc="-1" strike="noStrike">
                <a:solidFill>
                  <a:srgbClr val="ff00ff"/>
                </a:solidFill>
                <a:latin typeface="Times New Roman"/>
              </a:rPr>
              <a:t>A. tevékenység</a:t>
            </a:r>
            <a:br>
              <a:rPr sz="2400"/>
            </a:br>
            <a:r>
              <a:rPr b="1" lang="hu-HU" sz="2400" spc="-1" strike="noStrike">
                <a:solidFill>
                  <a:srgbClr val="ff00ff"/>
                </a:solidFill>
                <a:latin typeface="Times New Roman"/>
              </a:rPr>
              <a:t>  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CASE </a:t>
            </a: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&lt;5</a:t>
            </a:r>
            <a:br>
              <a:rPr sz="2400"/>
            </a:b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hu-HU" sz="2400" spc="-1" strike="noStrike">
                <a:solidFill>
                  <a:srgbClr val="04c25e"/>
                </a:solidFill>
                <a:latin typeface="Times New Roman"/>
              </a:rPr>
              <a:t>B. tevékenység</a:t>
            </a:r>
            <a:br>
              <a:rPr sz="2400"/>
            </a:br>
            <a:r>
              <a:rPr b="1" lang="hu-HU" sz="2400" spc="-1" strike="noStrike">
                <a:solidFill>
                  <a:srgbClr val="04c25e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ELSE</a:t>
            </a:r>
            <a:br>
              <a:rPr sz="2400"/>
            </a:b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    </a:t>
            </a:r>
            <a:r>
              <a:rPr b="1" lang="hu-HU" sz="2400" spc="-1" strike="noStrike">
                <a:solidFill>
                  <a:srgbClr val="99ccff"/>
                </a:solidFill>
                <a:latin typeface="Times New Roman"/>
              </a:rPr>
              <a:t>C. tevékenység</a:t>
            </a:r>
            <a:br>
              <a:rPr sz="2400"/>
            </a:b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END CAS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48320" y="3564000"/>
            <a:ext cx="194004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B. tevékenysé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443640" y="2565360"/>
            <a:ext cx="2006640" cy="825480"/>
          </a:xfrm>
          <a:prstGeom prst="rect">
            <a:avLst/>
          </a:prstGeom>
          <a:solidFill>
            <a:srgbClr val="ff00ff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. tevékenysé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03640" y="5157720"/>
            <a:ext cx="865440" cy="865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65760" y="3119400"/>
            <a:ext cx="682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897760" y="3119400"/>
            <a:ext cx="0" cy="2303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855760" y="5445000"/>
            <a:ext cx="3041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5371920" y="4670280"/>
            <a:ext cx="14040" cy="37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392720" y="4284720"/>
            <a:ext cx="1834920" cy="825480"/>
          </a:xfrm>
          <a:prstGeom prst="rect">
            <a:avLst/>
          </a:prstGeom>
          <a:solidFill>
            <a:srgbClr val="00ffff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C. tevékenysé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475840" y="3141720"/>
            <a:ext cx="421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448840" y="3747960"/>
            <a:ext cx="448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765760" y="3808440"/>
            <a:ext cx="682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86320" y="3897360"/>
            <a:ext cx="0" cy="449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964040" y="3494160"/>
            <a:ext cx="844560" cy="609480"/>
          </a:xfrm>
          <a:prstGeom prst="flowChartDecision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88120" y="3209760"/>
            <a:ext cx="7920" cy="447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73760" y="2814480"/>
            <a:ext cx="844560" cy="609840"/>
          </a:xfrm>
          <a:prstGeom prst="flowChartDecision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070600" y="2913120"/>
            <a:ext cx="6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C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070600" y="3610080"/>
            <a:ext cx="6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C&lt;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5386320" y="2567160"/>
            <a:ext cx="14400" cy="371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967280" y="1843200"/>
            <a:ext cx="865080" cy="865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81200" y="19764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CASE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51280" y="2752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CASE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922480" y="3586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CASE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 &lt;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695680" y="5175360"/>
            <a:ext cx="18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END C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846760" y="261612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43440" y="326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846760" y="330984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873680" y="3905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16560" y="1593720"/>
            <a:ext cx="0" cy="322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E9B-9DD7-4E91-BC83-2D3BB9EF705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A gépi kódú utasítás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14480" y="2924280"/>
            <a:ext cx="2922480" cy="5047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040" y="2924280"/>
            <a:ext cx="119844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36960" y="2924280"/>
            <a:ext cx="339120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77960" y="299736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űveleti kó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040" y="299736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Módosít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37280" y="2997360"/>
            <a:ext cx="272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Times New Roman"/>
              </a:rPr>
              <a:t>Címrész (operandu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040" y="3573360"/>
            <a:ext cx="1198440" cy="5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6040" y="4221000"/>
            <a:ext cx="1198440" cy="5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0880" y="2133720"/>
            <a:ext cx="119700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4480" y="3573360"/>
            <a:ext cx="2922480" cy="50508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4480" y="4221000"/>
            <a:ext cx="2922480" cy="50508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46440" y="2133720"/>
            <a:ext cx="2923920" cy="504720"/>
          </a:xfrm>
          <a:prstGeom prst="rec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36960" y="3573360"/>
            <a:ext cx="3391200" cy="505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36960" y="4221000"/>
            <a:ext cx="3391200" cy="505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72160" y="2133720"/>
            <a:ext cx="339084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14520" y="4797360"/>
            <a:ext cx="50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6600"/>
                </a:solidFill>
                <a:latin typeface="Tahoma"/>
              </a:rPr>
              <a:t>1</a:t>
            </a:r>
            <a:r>
              <a:rPr b="1" lang="hu-HU" sz="24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6600"/>
                </a:solidFill>
                <a:latin typeface="Tahoma"/>
              </a:rPr>
              <a:t>020</a:t>
            </a:r>
            <a:r>
              <a:rPr b="1" lang="hu-HU" sz="24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6600"/>
                </a:solidFill>
                <a:latin typeface="Tahoma"/>
              </a:rPr>
              <a:t>  00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4080" y="5229360"/>
            <a:ext cx="744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Nehézségek: 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abszolút címzés, műveletelemek alkalmazá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581C-88B9-43F2-850B-E66202D7BA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60280" y="260280"/>
            <a:ext cx="7794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A VB struktúrált programozásra</a:t>
            </a:r>
            <a:br>
              <a:rPr sz="2500"/>
            </a:b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utaló elemei – alprogramok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7280" y="1700280"/>
            <a:ext cx="779472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70000"/>
              </a:lnSpc>
              <a:spcBef>
                <a:spcPts val="12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Program (főprogram) </a:t>
            </a:r>
            <a:br>
              <a:rPr sz="1900"/>
            </a:br>
            <a:r>
              <a:rPr b="1" lang="hu-HU" sz="1700" spc="-1" strike="noStrike">
                <a:solidFill>
                  <a:srgbClr val="ff6600"/>
                </a:solidFill>
                <a:latin typeface="Times New Roman"/>
              </a:rPr>
              <a:t>Egymásba ágyazott programozási szerkezetek segítségével manipulálja a program változóka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70000"/>
              </a:lnSpc>
              <a:spcBef>
                <a:spcPts val="12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Alprogram</a:t>
            </a:r>
            <a:br>
              <a:rPr sz="1900"/>
            </a:br>
            <a:r>
              <a:rPr b="1" lang="hu-HU" sz="1700" spc="-1" strike="noStrike">
                <a:solidFill>
                  <a:srgbClr val="ff6600"/>
                </a:solidFill>
                <a:latin typeface="Times New Roman"/>
              </a:rPr>
              <a:t>Bekötésekkel elhatárolt, s elnevezett programrészle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70000"/>
              </a:lnSpc>
              <a:spcBef>
                <a:spcPts val="12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Eljárás (procedure)</a:t>
            </a:r>
            <a:br>
              <a:rPr sz="1900"/>
            </a:br>
            <a:r>
              <a:rPr b="1" lang="hu-HU" sz="1700" spc="-1" strike="noStrike">
                <a:solidFill>
                  <a:srgbClr val="ff6600"/>
                </a:solidFill>
                <a:latin typeface="Times New Roman"/>
              </a:rPr>
              <a:t>Egy meghívható alprogra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70000"/>
              </a:lnSpc>
              <a:spcBef>
                <a:spcPts val="12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Függvény (function)</a:t>
            </a:r>
            <a:br>
              <a:rPr sz="1900"/>
            </a:br>
            <a:r>
              <a:rPr b="1" lang="hu-HU" sz="1700" spc="-1" strike="noStrike">
                <a:solidFill>
                  <a:srgbClr val="ff6600"/>
                </a:solidFill>
                <a:latin typeface="Times New Roman"/>
              </a:rPr>
              <a:t>Visszatérési értékkel rendelkező alprogram, kifejezésben operandusz helyett alkalmazhatjuk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70000"/>
              </a:lnSpc>
              <a:spcBef>
                <a:spcPts val="12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Értékszerinti paraméterátadás</a:t>
            </a:r>
            <a:br>
              <a:rPr sz="1900"/>
            </a:br>
            <a:r>
              <a:rPr b="1" lang="hu-HU" sz="1700" spc="-1" strike="noStrike">
                <a:solidFill>
                  <a:srgbClr val="ff6600"/>
                </a:solidFill>
                <a:latin typeface="Times New Roman"/>
              </a:rPr>
              <a:t>A főprogram lokális változójának értékét átadja alprogramjának, ahol egy másik memóriacímen és egy másik néven másolat képződik róla, az eredeti érték nem változik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70000"/>
              </a:lnSpc>
              <a:spcBef>
                <a:spcPts val="12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Címszerinti paraméterátadás</a:t>
            </a:r>
            <a:br>
              <a:rPr sz="1900"/>
            </a:br>
            <a:r>
              <a:rPr b="1" lang="hu-HU" sz="1700" spc="-1" strike="noStrike">
                <a:solidFill>
                  <a:srgbClr val="ff6600"/>
                </a:solidFill>
                <a:latin typeface="Times New Roman"/>
              </a:rPr>
              <a:t>A főprogram lokális változójának címét átadja az alprogramjának, s az az eredeti értéket felhasználhatja,megváltoztathatj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95EA-8B6F-47E2-B2DE-B292EE067C7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20760"/>
            <a:ext cx="7772400" cy="13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OOP - Az osztály (class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3678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160" bIns="47160" anchor="t">
            <a:normAutofit/>
          </a:bodyPr>
          <a:p>
            <a:pPr marL="361800" indent="-36180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Osztály: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változók és metódusok (eljárások ill. függvények ) együttese, amely absztrakt adattípusként működik.</a:t>
            </a:r>
            <a:br>
              <a:rPr sz="2100"/>
            </a:b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(A rekord sajáttípus tevékenység-tulajdonsággal, azaz metódussal, való bővítés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Objektum: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egy osztály egy előfordulás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Metódus: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az osztály egy eleme. Olyan függvény, vagy eljárás, amely az osztályba tartozó változókat manipulál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Üzenet: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kommunikáció az objektummal, annak metódusain keresztül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4A9-1010-4DE8-90C9-BC0D1E19B76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48096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z objektum orientált program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187280" y="1557360"/>
            <a:ext cx="779328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1b6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Programozási szempontbó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Egymással kommunikáló objektumok halma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- működés: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 üzenetváltá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- struktúra: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 osztályok és objektumok közötti 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         kapcsolat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1b6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Felhasználó szempontjábó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Eseményvezérel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*Esemény: A felhasználó(k), vagy a háttérben zajló folyamatok által okozott, az objektum állapotát leíró változó értékében történt  változ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0B7-CA3A-478E-B991-1DBCAAD9317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z objektum léte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8028000" cy="411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160" bIns="47160" anchor="t">
            <a:normAutofit fontScale="87000"/>
          </a:bodyPr>
          <a:p>
            <a:pPr marL="31464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Létrehozá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4640" indent="-314640">
              <a:lnSpc>
                <a:spcPct val="7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objektum vagy objektumtömb definíció (statiku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4640" indent="-314640">
              <a:lnSpc>
                <a:spcPct val="7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new operátor (dinamiku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4640" indent="-314640">
              <a:lnSpc>
                <a:spcPct val="7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implicit létrehozás (ideiglenes objektumok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464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464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Az objektum élete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4640" indent="-314640">
              <a:lnSpc>
                <a:spcPct val="7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helyfoglalás az adattagokna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4640" indent="-314640">
              <a:lnSpc>
                <a:spcPct val="7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konstruktor automatikus meghívás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4640" indent="-314640">
              <a:lnSpc>
                <a:spcPct val="7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z objektum létezi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4640" indent="-314640">
              <a:lnSpc>
                <a:spcPct val="7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destruktor automatikus meghívás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4640" indent="-314640">
              <a:lnSpc>
                <a:spcPct val="7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memória felszabadítás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DDED-2556-46FF-8732-6E58A888DDF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590400"/>
            <a:ext cx="779292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z objektumok tulajdonságai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50920" y="1946160"/>
            <a:ext cx="7772400" cy="37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Öröklődé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32960" indent="-2815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Egy osztály deklarálható valamely más osztály(ok) leszármazottjaké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2960" indent="-2815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z öröklődési hierarchia tetszőleges leh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2960" indent="-28152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z ős osztály továbbra is használható önmagában is.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7320" indent="-337320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Polimorfizmus</a:t>
            </a:r>
            <a:br>
              <a:rPr sz="2100"/>
            </a:b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A leszármazott objektum ősével azonos nevű metódusa felülírható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7320" indent="-337320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Kapszulába zárás</a:t>
            </a:r>
            <a:br>
              <a:rPr sz="2100"/>
            </a:b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Az adott objektum adatait tároló változók értékeit, külön deklarációs</a:t>
            </a:r>
            <a:br>
              <a:rPr sz="1900"/>
            </a:b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eljárás nélkül, csak az adott objektum metódusai változtathatják meg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A270-0C86-4731-8255-DF650BEDA22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128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Programírás VB-ben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600" y="1884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z </a:t>
            </a:r>
            <a:r>
              <a:rPr b="1" lang="hu-HU" sz="2100" spc="-1" strike="noStrike">
                <a:solidFill>
                  <a:srgbClr val="ff6600"/>
                </a:solidFill>
                <a:latin typeface="Arial"/>
              </a:rPr>
              <a:t>űrlapon</a:t>
            </a: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 elhelyezzük a használni kívánt </a:t>
            </a:r>
            <a:r>
              <a:rPr b="1" lang="hu-HU" sz="2100" spc="-1" strike="noStrike">
                <a:solidFill>
                  <a:srgbClr val="ff6600"/>
                </a:solidFill>
                <a:latin typeface="Arial"/>
              </a:rPr>
              <a:t>objektumok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Beállítjuk az objektumok kezdő, </a:t>
            </a:r>
            <a:r>
              <a:rPr b="1" lang="hu-HU" sz="2100" spc="-1" strike="noStrike">
                <a:solidFill>
                  <a:srgbClr val="ff6600"/>
                </a:solidFill>
                <a:latin typeface="Arial"/>
              </a:rPr>
              <a:t>leíró tulajdonságai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Arial"/>
              </a:rPr>
              <a:t>Folyamatábrával</a:t>
            </a: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 megtervezzük az objektumok egyes eseményeihez rendelt </a:t>
            </a:r>
            <a:r>
              <a:rPr b="1" lang="hu-HU" sz="2100" spc="-1" strike="noStrike">
                <a:solidFill>
                  <a:srgbClr val="ff6600"/>
                </a:solidFill>
                <a:latin typeface="Arial"/>
              </a:rPr>
              <a:t>metódusok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 programtervek alapján megírjuk a szükséges </a:t>
            </a:r>
            <a:r>
              <a:rPr b="1" lang="hu-HU" sz="2100" spc="-1" strike="noStrike">
                <a:solidFill>
                  <a:srgbClr val="ff6600"/>
                </a:solidFill>
                <a:latin typeface="Arial"/>
              </a:rPr>
              <a:t>metódusok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Tesztelün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"/>
              </a:rPr>
              <a:t>Szintaktikai</a:t>
            </a:r>
            <a:r>
              <a:rPr b="1" lang="hu-HU" sz="2000" spc="-1" strike="noStrike">
                <a:solidFill>
                  <a:srgbClr val="f1b60f"/>
                </a:solidFill>
                <a:latin typeface="Arial"/>
              </a:rPr>
              <a:t> hibákat a szerkesztő jelz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Arial"/>
              </a:rPr>
              <a:t>Szemantikai</a:t>
            </a:r>
            <a:r>
              <a:rPr b="1" lang="hu-HU" sz="2000" spc="-1" strike="noStrike">
                <a:solidFill>
                  <a:srgbClr val="f1b60f"/>
                </a:solidFill>
                <a:latin typeface="Arial"/>
              </a:rPr>
              <a:t> hibákat tesztadatokkal keresü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22B-E5B6-43D0-A643-E16516FD1EE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50560" y="105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Visual Basic objektumo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150920" y="1922400"/>
            <a:ext cx="7143840" cy="389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300A-7E72-4D25-9C69-54D6E805FC8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836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Visual Basic objektum tulajdonság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2324160" y="1805040"/>
            <a:ext cx="4633920" cy="41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B213-E82B-4A18-8D3E-41B914BF039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83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Visual Basic objektum metódus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801800" y="1849320"/>
            <a:ext cx="5587920" cy="397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200-BA6A-4766-B224-2A2B42CAD19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105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Vbscript, VBA az Excelben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951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6600"/>
                </a:solidFill>
                <a:latin typeface="Arial"/>
              </a:rPr>
              <a:t>Makrók:</a:t>
            </a:r>
            <a:br>
              <a:rPr sz="1900"/>
            </a:b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Az Excelben végrehajtott egér és billentyűzet műveletek az Excel VB-ben rögzíti, és a hozzákapcsolt esemény hatására lefuttatja, azaz lejátsz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6600"/>
                </a:solidFill>
                <a:latin typeface="Arial"/>
              </a:rPr>
              <a:t>Sajátfüggvény</a:t>
            </a:r>
            <a:br>
              <a:rPr sz="1900"/>
            </a:b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Az Excel sztandard függvényin kívül, VB-ben írt sajátfüggvényeket is használhatun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6600"/>
                </a:solidFill>
                <a:latin typeface="Arial"/>
              </a:rPr>
              <a:t>Visual Basic Application (VBA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Arial"/>
              </a:rPr>
              <a:t>Saját űrlapon (form) elhelyezett VB programot futtathatunk</a:t>
            </a:r>
            <a:br>
              <a:rPr sz="1700"/>
            </a:br>
            <a:r>
              <a:rPr b="1" lang="hu-HU" sz="1700" spc="-1" strike="noStrike">
                <a:solidFill>
                  <a:srgbClr val="f1b60f"/>
                </a:solidFill>
                <a:latin typeface="Arial"/>
              </a:rPr>
              <a:t>elérve a munkalapjaink tartalmát, tulajdonságai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Arial"/>
              </a:rPr>
              <a:t>Meglevő munkalapot űrlapként értelmezhetünk, rajta VB objektumokat helyezhetünk el és az input/output objektumok elérhetik celláink tartalmá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Arial"/>
              </a:rPr>
              <a:t>munkalapjaink elemeinek tulajdonságait a VBA technikáinak segítségével megváltoztathatjuk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3205-79E3-4506-B154-296D6F04C33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ssembly nyelv I.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2133720"/>
            <a:ext cx="50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6600"/>
                </a:solidFill>
                <a:latin typeface="Tahoma"/>
              </a:rPr>
              <a:t>0</a:t>
            </a:r>
            <a:r>
              <a:rPr b="1" lang="hu-HU" sz="24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6600"/>
                </a:solidFill>
                <a:latin typeface="Tahoma"/>
              </a:rPr>
              <a:t>020</a:t>
            </a:r>
            <a:r>
              <a:rPr b="1" lang="hu-HU" sz="24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6600"/>
                </a:solidFill>
                <a:latin typeface="Tahoma"/>
              </a:rPr>
              <a:t>  00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3451680" y="827640"/>
            <a:ext cx="514440" cy="3989160"/>
          </a:xfrm>
          <a:custGeom>
            <a:avLst/>
            <a:gdLst>
              <a:gd name="textAreaLeft" fmla="*/ 0 w 514440"/>
              <a:gd name="textAreaRight" fmla="*/ 185760 w 514440"/>
              <a:gd name="textAreaTop" fmla="*/ 104040 h 3989160"/>
              <a:gd name="textAreaBottom" fmla="*/ 3885120 h 398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1b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14680" y="3213000"/>
            <a:ext cx="43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# trans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4120" y="3789360"/>
            <a:ext cx="4786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c:= b + a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# trans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# add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# trans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37280" y="3284640"/>
            <a:ext cx="3522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Előnyök: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könnyebb programozá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jobb olvashatóság,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dokumentálhatósá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Makro: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assembly sorozat</a:t>
            </a:r>
            <a:r>
              <a:rPr b="1" lang="hu-HU" sz="20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CD94-F452-496C-9195-CC0858AC9C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Saját függvény készítése Excelben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33200" y="2149560"/>
            <a:ext cx="8891640" cy="329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CC5-9A2C-4CA9-BE7D-16FA07F173D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VBA szerkesztő felület Excelben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119160" y="2046240"/>
            <a:ext cx="8824680" cy="358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228-0CA0-4FF1-BA98-E9B0A7C2D83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50560" y="128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f1b60f"/>
                </a:solidFill>
                <a:latin typeface="Times New Roman"/>
              </a:rPr>
              <a:t>Excel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273400" y="1873080"/>
            <a:ext cx="5083200" cy="40132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A26-6033-4E96-84BD-45C3BB52A1B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9280" y="609120"/>
            <a:ext cx="77947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z assembly nyelv II.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2280" y="2017800"/>
            <a:ext cx="853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A programok szerkezete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 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2438280"/>
            <a:ext cx="4430880" cy="29718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49720" y="3200400"/>
            <a:ext cx="344664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19560" y="4114800"/>
            <a:ext cx="337680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53160" y="3352680"/>
            <a:ext cx="1969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datdefiníció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13120" y="4419720"/>
            <a:ext cx="2671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Programutasítá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53160" y="2590920"/>
            <a:ext cx="20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1b60f"/>
                </a:solidFill>
                <a:latin typeface="Times New Roman"/>
              </a:rPr>
              <a:t>ker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2280" y="2666880"/>
            <a:ext cx="3235320" cy="29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4c25e"/>
                </a:solidFill>
                <a:latin typeface="Times New Roman"/>
                <a:ea typeface="Times New Roman"/>
              </a:rPr>
              <a:t>Az utasítások a formális logika leképezései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1b6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datmozga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1b6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aritmetikai utasítá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1b6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logikai utasítá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1b6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ugrá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1b6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feltételes ugrá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1b60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keret utasítás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1E1-7C00-4281-82ED-A1A9B91AC8F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Számítási modellek</a:t>
            </a:r>
            <a:r>
              <a:rPr b="0" lang="hu-HU" sz="3800" spc="-1" strike="noStrike">
                <a:solidFill>
                  <a:srgbClr val="f1b60f"/>
                </a:solidFill>
                <a:latin typeface="Arial"/>
                <a:ea typeface="Times New Roman"/>
              </a:rPr>
              <a:t> </a:t>
            </a:r>
            <a:br>
              <a:rPr sz="3800"/>
            </a:b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Neumann-elvű nyelvek I</a:t>
            </a:r>
            <a:endParaRPr b="0" lang="en-US" sz="21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9440" y="1828800"/>
            <a:ext cx="867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élok, tulajdonságo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memória, címezhető (sorszámm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 program és az adatok a memóriában vann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 végrehajtás memóriaállapotok sorozata, állapottér (adatok tere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a program leírása szöve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just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Következmény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van változ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van értékad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utasítások ismételt végrehajtása lehetséges (ciklus, GO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elágazás (GO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beolvasás: memória másolás (ld. C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kiírás: memória másolás (képernyő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CFD6-A004-4B49-B8A9-0B1C1D1999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Számítási modellek</a:t>
            </a:r>
            <a:r>
              <a:rPr b="0" lang="hu-HU" sz="3800" spc="-1" strike="noStrike">
                <a:solidFill>
                  <a:srgbClr val="f1b60f"/>
                </a:solidFill>
                <a:latin typeface="Arial"/>
                <a:ea typeface="Times New Roman"/>
              </a:rPr>
              <a:t> </a:t>
            </a:r>
            <a:br>
              <a:rPr sz="3800"/>
            </a:b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Neumann-elvű nyelvek II</a:t>
            </a:r>
            <a:endParaRPr b="0" lang="en-US" sz="21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50920" y="2741760"/>
            <a:ext cx="385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Bekér </a:t>
            </a: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i</a:t>
            </a:r>
            <a:br>
              <a:rPr sz="2400"/>
            </a:b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Címke: </a:t>
            </a:r>
            <a:r>
              <a:rPr b="1" lang="hu-HU" sz="2400" spc="-1" strike="noStrike">
                <a:solidFill>
                  <a:srgbClr val="04c25e"/>
                </a:solidFill>
                <a:latin typeface="Times New Roman"/>
              </a:rPr>
              <a:t>Ciklus_eleje</a:t>
            </a:r>
            <a:br>
              <a:rPr sz="2400"/>
            </a:b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Kiír</a:t>
            </a:r>
            <a:r>
              <a:rPr b="1" lang="hu-HU" sz="2400" spc="-1" strike="noStrike">
                <a:solidFill>
                  <a:srgbClr val="04c25e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i</a:t>
            </a:r>
            <a:br>
              <a:rPr sz="2400"/>
            </a:b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=</a:t>
            </a: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+1</a:t>
            </a:r>
            <a:br>
              <a:rPr sz="2400"/>
            </a:b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Ha</a:t>
            </a:r>
            <a:r>
              <a:rPr b="1" lang="hu-HU" sz="2400" spc="-1" strike="noStrike">
                <a:solidFill>
                  <a:srgbClr val="04c25e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1" lang="hu-HU" sz="2400" spc="-1" strike="noStrike">
                <a:solidFill>
                  <a:srgbClr val="04c25e"/>
                </a:solidFill>
                <a:latin typeface="Times New Roman"/>
              </a:rPr>
              <a:t>&lt;10 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ugorj</a:t>
            </a:r>
            <a:r>
              <a:rPr b="1" lang="hu-HU" sz="2400" spc="-1" strike="noStrike">
                <a:solidFill>
                  <a:srgbClr val="04c25e"/>
                </a:solidFill>
                <a:latin typeface="Times New Roman"/>
              </a:rPr>
              <a:t> Ciklus_elejé</a:t>
            </a: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-re</a:t>
            </a:r>
            <a:br>
              <a:rPr sz="2400"/>
            </a:b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Vé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78760" y="5167440"/>
            <a:ext cx="11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8294760" y="3278160"/>
            <a:ext cx="0" cy="188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897240" y="3278160"/>
            <a:ext cx="1397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0960" y="4826160"/>
            <a:ext cx="10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i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08760" y="1909800"/>
            <a:ext cx="1011240" cy="312840"/>
          </a:xfrm>
          <a:prstGeom prst="flowChartTermina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54760" y="4465800"/>
            <a:ext cx="1224000" cy="26964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60960" y="5557680"/>
            <a:ext cx="1011240" cy="312840"/>
          </a:xfrm>
          <a:prstGeom prst="flowChartTermina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86520" y="3797280"/>
            <a:ext cx="1011240" cy="500040"/>
          </a:xfrm>
          <a:prstGeom prst="flowChartDocumen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79960" y="4970520"/>
            <a:ext cx="1198800" cy="388800"/>
          </a:xfrm>
          <a:prstGeom prst="flowChartDecision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68960" y="55101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V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99080" y="2198520"/>
            <a:ext cx="18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73720" y="3922560"/>
            <a:ext cx="95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Kiír </a:t>
            </a:r>
            <a:r>
              <a:rPr b="1" lang="hu-HU" sz="1800" spc="-1" strike="noStrike">
                <a:solidFill>
                  <a:srgbClr val="ff66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93040" y="4734000"/>
            <a:ext cx="1440" cy="2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593040" y="5359320"/>
            <a:ext cx="1440" cy="18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99280" y="5006880"/>
            <a:ext cx="7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&lt;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00760" y="2414520"/>
            <a:ext cx="1265040" cy="327240"/>
          </a:xfrm>
          <a:prstGeom prst="flowChartInputOutpu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00920" y="2813040"/>
            <a:ext cx="812520" cy="89712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57520" y="441648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=</a:t>
            </a:r>
            <a:r>
              <a:rPr b="1" lang="hu-HU" sz="18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33960" y="2414520"/>
            <a:ext cx="9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Bekér </a:t>
            </a:r>
            <a:r>
              <a:rPr b="1" lang="hu-HU" sz="1800" spc="-1" strike="noStrike">
                <a:solidFill>
                  <a:srgbClr val="ff66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32640" y="522288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n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48360" y="2911320"/>
            <a:ext cx="9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Ciklus</a:t>
            </a:r>
            <a:br>
              <a:rPr sz="1800"/>
            </a:b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ele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00880" y="2705040"/>
            <a:ext cx="14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64240" y="3638520"/>
            <a:ext cx="18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64240" y="4297320"/>
            <a:ext cx="18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00920" y="190332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000-8722-43E4-94DD-ED5410792F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  <a:ea typeface="Times New Roman"/>
              </a:rPr>
              <a:t>Számítási modellek</a:t>
            </a:r>
            <a:r>
              <a:rPr b="0" lang="hu-HU" sz="3800" spc="-1" strike="noStrike">
                <a:solidFill>
                  <a:srgbClr val="f1b60f"/>
                </a:solidFill>
                <a:latin typeface="Arial"/>
                <a:ea typeface="Times New Roman"/>
              </a:rPr>
              <a:t> </a:t>
            </a:r>
            <a:br>
              <a:rPr sz="3800"/>
            </a:b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Neumann-elvű nyelvek III</a:t>
            </a:r>
            <a:endParaRPr b="0" lang="en-US" sz="21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46465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i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57280" y="5029200"/>
            <a:ext cx="681120" cy="6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038400" y="3060360"/>
            <a:ext cx="0" cy="196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877760" y="3060720"/>
            <a:ext cx="1160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7480" y="1873080"/>
            <a:ext cx="1010880" cy="312840"/>
          </a:xfrm>
          <a:prstGeom prst="flowChartTermina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33640" y="4295880"/>
            <a:ext cx="1223640" cy="26964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9840" y="5521320"/>
            <a:ext cx="1011240" cy="312840"/>
          </a:xfrm>
          <a:prstGeom prst="flowChartTermina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5160" y="3429000"/>
            <a:ext cx="1011240" cy="500040"/>
          </a:xfrm>
          <a:prstGeom prst="flowChartDocumen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50920" y="4848120"/>
            <a:ext cx="1198440" cy="389160"/>
          </a:xfrm>
          <a:prstGeom prst="flowChartDecision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19120" y="5473800"/>
            <a:ext cx="7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V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47800" y="2162160"/>
            <a:ext cx="18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87520" y="3573360"/>
            <a:ext cx="95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Kiír </a:t>
            </a:r>
            <a:r>
              <a:rPr b="1" lang="hu-HU" sz="1800" spc="-1" strike="noStrike">
                <a:solidFill>
                  <a:srgbClr val="ff66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739520" y="4564080"/>
            <a:ext cx="4680" cy="29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46360" y="5237280"/>
            <a:ext cx="7920" cy="284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52600" y="4856040"/>
            <a:ext cx="7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&lt;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50920" y="2378160"/>
            <a:ext cx="1263600" cy="326880"/>
          </a:xfrm>
          <a:prstGeom prst="flowChartInputOutpu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09760" y="424980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=</a:t>
            </a:r>
            <a:r>
              <a:rPr b="1" lang="hu-HU" sz="18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84120" y="2378160"/>
            <a:ext cx="9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Bekér </a:t>
            </a:r>
            <a:r>
              <a:rPr b="1" lang="hu-HU" sz="1800" spc="-1" strike="noStrike">
                <a:solidFill>
                  <a:srgbClr val="ff66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01800" y="5129280"/>
            <a:ext cx="10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n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39880" y="27050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3908520"/>
            <a:ext cx="1800" cy="387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49280" y="18669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26080" y="3117960"/>
            <a:ext cx="566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292720" y="3117600"/>
            <a:ext cx="0" cy="21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272000" y="4846680"/>
            <a:ext cx="747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1120" y="1908000"/>
            <a:ext cx="1011240" cy="312840"/>
          </a:xfrm>
          <a:prstGeom prst="flowChartTermina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46360" y="4292640"/>
            <a:ext cx="1224000" cy="27288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05120" y="5556240"/>
            <a:ext cx="1009800" cy="312840"/>
          </a:xfrm>
          <a:prstGeom prst="flowChartTermina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60840" y="3567240"/>
            <a:ext cx="1011240" cy="500040"/>
          </a:xfrm>
          <a:prstGeom prst="flowChartDocumen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43480" y="2924280"/>
            <a:ext cx="1198440" cy="388800"/>
          </a:xfrm>
          <a:prstGeom prst="flowChartDecision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13120" y="550872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V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43240" y="21970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76760" y="3711600"/>
            <a:ext cx="95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Kiír </a:t>
            </a:r>
            <a:r>
              <a:rPr b="1" lang="hu-HU" sz="1800" spc="-1" strike="noStrike">
                <a:solidFill>
                  <a:srgbClr val="ff66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67360" y="5237280"/>
            <a:ext cx="0" cy="320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49840" y="2938320"/>
            <a:ext cx="7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&lt;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44920" y="2413080"/>
            <a:ext cx="1265040" cy="326880"/>
          </a:xfrm>
          <a:prstGeom prst="flowChartInputOutpu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30760" y="42433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=</a:t>
            </a:r>
            <a:r>
              <a:rPr b="1" lang="hu-HU" sz="18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78120" y="2413080"/>
            <a:ext cx="9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Bekér </a:t>
            </a:r>
            <a:r>
              <a:rPr b="1" lang="hu-HU" sz="1800" spc="-1" strike="noStrike">
                <a:solidFill>
                  <a:srgbClr val="ff66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86480" y="273996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n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3240" y="2703600"/>
            <a:ext cx="180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56200" y="3351240"/>
            <a:ext cx="14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56200" y="4067280"/>
            <a:ext cx="144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43280" y="19018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639200" y="3206520"/>
            <a:ext cx="380880" cy="1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56320" y="1909800"/>
            <a:ext cx="1011240" cy="312840"/>
          </a:xfrm>
          <a:prstGeom prst="flowChartTermina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08880" y="5557680"/>
            <a:ext cx="1011240" cy="312840"/>
          </a:xfrm>
          <a:prstGeom prst="flowChartTermina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45080" y="3740040"/>
            <a:ext cx="1011240" cy="500040"/>
          </a:xfrm>
          <a:prstGeom prst="flowChartDocumen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0400" y="3027240"/>
            <a:ext cx="1198800" cy="389160"/>
          </a:xfrm>
          <a:prstGeom prst="flowChartDecision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16880" y="551016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V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47000" y="2198520"/>
            <a:ext cx="14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08800" y="3884760"/>
            <a:ext cx="95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Kiír </a:t>
            </a:r>
            <a:r>
              <a:rPr b="1" lang="hu-HU" sz="18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32520" y="3219480"/>
            <a:ext cx="1440" cy="530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40600" y="4992840"/>
            <a:ext cx="0" cy="554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53240" y="3027240"/>
            <a:ext cx="7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&lt;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48320" y="2414520"/>
            <a:ext cx="1265400" cy="327240"/>
          </a:xfrm>
          <a:prstGeom prst="flowChartInputOutpu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81880" y="2414520"/>
            <a:ext cx="9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Bekér </a:t>
            </a:r>
            <a:r>
              <a:rPr b="1" lang="hu-HU" sz="1800" spc="-1" strike="noStrike">
                <a:solidFill>
                  <a:srgbClr val="ff66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283536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n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047000" y="2743200"/>
            <a:ext cx="1440" cy="284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48480" y="1903320"/>
            <a:ext cx="7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98760" y="2924280"/>
            <a:ext cx="264960" cy="28872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36640" y="320688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75280" y="318780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i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80160" y="3749760"/>
            <a:ext cx="1011240" cy="500040"/>
          </a:xfrm>
          <a:prstGeom prst="flowChartDocument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47120" y="3854520"/>
            <a:ext cx="95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Kiír </a:t>
            </a:r>
            <a:r>
              <a:rPr b="1" lang="hu-HU" sz="1800" spc="-1" strike="noStrike">
                <a:solidFill>
                  <a:srgbClr val="ff6600"/>
                </a:solidFill>
                <a:latin typeface="Times New Roman"/>
              </a:rPr>
              <a:t>i</a:t>
            </a:r>
            <a:r>
              <a:rPr b="1" lang="hu-HU" sz="1800" spc="-1" strike="noStrike">
                <a:solidFill>
                  <a:srgbClr val="f1b60f"/>
                </a:solidFill>
                <a:latin typeface="Times New Roman"/>
              </a:rPr>
              <a:t>*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20080" y="3206880"/>
            <a:ext cx="1440" cy="542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07400" y="4703760"/>
            <a:ext cx="264960" cy="28908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032520" y="3213000"/>
            <a:ext cx="407880" cy="2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33960" y="4846680"/>
            <a:ext cx="97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07240" y="282888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i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051600" y="4218120"/>
            <a:ext cx="0" cy="62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051600" y="4218120"/>
            <a:ext cx="0" cy="62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051600" y="4218120"/>
            <a:ext cx="0" cy="62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8020080" y="4249800"/>
            <a:ext cx="0" cy="59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67360" y="5222880"/>
            <a:ext cx="1125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03440" y="311796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3800" y="4816440"/>
            <a:ext cx="265320" cy="28908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81400" y="4565520"/>
            <a:ext cx="0" cy="2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53" idx="2"/>
            <a:endCxn id="207" idx="1"/>
          </p:cNvCxnSpPr>
          <p:nvPr/>
        </p:nvCxnSpPr>
        <p:spPr>
          <a:xfrm rot="10800000">
            <a:off x="3837960" y="3118680"/>
            <a:ext cx="532440" cy="1842120"/>
          </a:xfrm>
          <a:prstGeom prst="bentConnector3">
            <a:avLst>
              <a:gd name="adj1" fmla="val 142963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C9A8-AAA4-4616-95F8-B51ADE17B3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cser</cp:lastModifiedBy>
  <dcterms:modified xsi:type="dcterms:W3CDTF">2006-05-29T19:10:35Z</dcterms:modified>
  <cp:revision>68</cp:revision>
  <dc:subject/>
  <dc:title>PowerPoint bemutató</dc:title>
</cp:coreProperties>
</file>