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C5B-EB43-46A1-9CBB-2B109AD8658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455F-AF4E-48F1-ABB3-8C6B7D173FFB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767-5864-4357-85B4-D5CB413C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B83-CE68-4556-B5B0-2BA7CA8A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F48-62DE-440B-98AA-D382BFB9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3C6-DBF6-42FE-8426-ED167D4A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B970-107C-4826-8FD9-A3F34521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7A5-1F87-4012-B019-21208EA5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5057-4B77-4EA8-B216-DFCF5E2B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5A42-39EC-4DDB-B90F-F163CF0E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C51E-1A5F-4294-9EAC-E6C7BA86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449-B731-4A6D-81B8-CEB75960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19C4-6EE7-47AA-9C44-6C027C6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005-B786-43EA-9468-331CCF67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D5F3-DD8F-42B0-9F87-AD1DB27D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7404-1C77-4800-A739-5421847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4932-8CE3-44CA-821B-6A0CD7C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0AB-AC79-431E-A9D5-3BE54766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855E-C2C2-4887-8D64-14618283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EB5-E75D-4AFF-A821-D5FDD6E2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124-2EF9-4C8A-8455-21F92503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3BA-521A-4141-8977-224A720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C13-7BDB-4A1E-A8E6-8F46BD96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E6A-BEE6-4C93-AF11-EF17BCA8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6CE-D5FA-400A-8C0C-D715258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348-E96A-4CDA-A84D-2F6640EE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C435-2C31-4770-A118-CD8F9BBDB367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320-B1DA-4FD3-B3B6-7F09BC54D3D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A869-5767-4E5C-BA86-4C07EA54645F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F302-6502-427D-B3DE-BDBD3D549F9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7. előadás: Információrendszerek a vállalatnál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6560" y="620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ipikus tranzakciófeldolgozó alkalmazás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 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Termelési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5840" y="2276640"/>
            <a:ext cx="77724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rendszerek fő funkci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ütemezés; beszerzés; szállítás / átvétel; tervezés; művelet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 alkalmazási rendszer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nyersanyagszükséglet tervezés; beszerzési megrendelés kontroll rendszerek; tervező rendszerek; minőségellenőrzési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68880" y="6097680"/>
            <a:ext cx="1596960" cy="57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B7F-766E-45DE-A266-D444D36179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8880" y="6170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ipikus tranzakciófeldolgozó alkalmazás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 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Emberi erőforrás-menedzsmen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rendszerek fő funkci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Személyzeti adatok; munkaügyi rendszerek, juttatások; kép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 alkalmazási rendszer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érszámfejtés; Személyzeti adatnyilvántartás; Juttatási rendszerek; Karriertervezési rendszerek; Személyzeti tréning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8880" y="6097680"/>
            <a:ext cx="1596960" cy="57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3BB-FD0E-4C87-9879-7130860108A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4080" y="617040"/>
            <a:ext cx="8707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ipikus tranzakciófeldolgozó alkalmazás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 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Egyéb típusok (pl. Egyetem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rendszerek fő funkci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iratkozás; érdemjegyek nyilvántartása; kurzusok nyilvántartása; alumn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 alkalmazási rendszer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Regisztációs rendszerek; Hallgatói  index rendszerek; Kurzus és képzésnyilvántartási rendszerek; végzett hallgatók nyilvántar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8880" y="6097680"/>
            <a:ext cx="1596960" cy="57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156-E635-43F3-82B5-ABCA95CB233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2480" y="617040"/>
            <a:ext cx="836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ipikus tranzakciófeldolgozó alkalmazás</a:t>
            </a:r>
            <a:br>
              <a:rPr sz="3000"/>
            </a:b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Értékesítés és marketing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rendszerek fő funkci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értékesítés menedzsment; piackutatás; promóció; árazás; új termék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 alkalmazási rendszer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rendelési információk rendszere; piackutatási rendszerek; árazási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5A3-1189-48CB-9F10-227A7B9C50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6781680" y="4191120"/>
            <a:ext cx="2271960" cy="1763640"/>
            <a:chOff x="6781680" y="4191120"/>
            <a:chExt cx="2271960" cy="1763640"/>
          </a:xfrm>
        </p:grpSpPr>
        <p:grpSp>
          <p:nvGrpSpPr>
            <p:cNvPr id="181" name=""/>
            <p:cNvGrpSpPr/>
            <p:nvPr/>
          </p:nvGrpSpPr>
          <p:grpSpPr>
            <a:xfrm>
              <a:off x="6781680" y="4429080"/>
              <a:ext cx="1521000" cy="1063800"/>
              <a:chOff x="6781680" y="4429080"/>
              <a:chExt cx="1521000" cy="10638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781680" y="4429080"/>
                <a:ext cx="1175040" cy="963720"/>
                <a:chOff x="6781680" y="4429080"/>
                <a:chExt cx="1175040" cy="96372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6781680" y="4429080"/>
                  <a:ext cx="1175040" cy="963720"/>
                  <a:chOff x="6781680" y="4429080"/>
                  <a:chExt cx="1175040" cy="9637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6781680" y="4970520"/>
                    <a:ext cx="1175040" cy="422280"/>
                    <a:chOff x="6781680" y="4970520"/>
                    <a:chExt cx="1175040" cy="42228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7283520" y="4970520"/>
                      <a:ext cx="67320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4" h="266">
                          <a:moveTo>
                            <a:pt x="0" y="82"/>
                          </a:moveTo>
                          <a:lnTo>
                            <a:pt x="0" y="265"/>
                          </a:lnTo>
                          <a:lnTo>
                            <a:pt x="423" y="130"/>
                          </a:lnTo>
                          <a:lnTo>
                            <a:pt x="423" y="0"/>
                          </a:lnTo>
                          <a:lnTo>
                            <a:pt x="0" y="8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6781680" y="5072040"/>
                      <a:ext cx="50328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02">
                          <a:moveTo>
                            <a:pt x="316" y="18"/>
                          </a:moveTo>
                          <a:lnTo>
                            <a:pt x="316" y="201"/>
                          </a:lnTo>
                          <a:lnTo>
                            <a:pt x="0" y="156"/>
                          </a:lnTo>
                          <a:lnTo>
                            <a:pt x="0" y="0"/>
                          </a:lnTo>
                          <a:lnTo>
                            <a:pt x="316" y="1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6781680" y="4970520"/>
                      <a:ext cx="117504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0" h="83">
                          <a:moveTo>
                            <a:pt x="0" y="64"/>
                          </a:moveTo>
                          <a:lnTo>
                            <a:pt x="319" y="82"/>
                          </a:lnTo>
                          <a:lnTo>
                            <a:pt x="739" y="0"/>
                          </a:lnTo>
                          <a:lnTo>
                            <a:pt x="430" y="0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>
                    <a:off x="7164360" y="4937040"/>
                    <a:ext cx="42696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76">
                        <a:moveTo>
                          <a:pt x="0" y="42"/>
                        </a:moveTo>
                        <a:lnTo>
                          <a:pt x="0" y="67"/>
                        </a:lnTo>
                        <a:lnTo>
                          <a:pt x="124" y="75"/>
                        </a:lnTo>
                        <a:lnTo>
                          <a:pt x="268" y="48"/>
                        </a:lnTo>
                        <a:lnTo>
                          <a:pt x="268" y="0"/>
                        </a:lnTo>
                        <a:lnTo>
                          <a:pt x="0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873840" y="4429080"/>
                    <a:ext cx="949320" cy="601560"/>
                    <a:chOff x="6873840" y="4429080"/>
                    <a:chExt cx="949320" cy="601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278840" y="4429080"/>
                      <a:ext cx="5443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370">
                          <a:moveTo>
                            <a:pt x="48" y="369"/>
                          </a:moveTo>
                          <a:lnTo>
                            <a:pt x="0" y="12"/>
                          </a:lnTo>
                          <a:lnTo>
                            <a:pt x="294" y="0"/>
                          </a:lnTo>
                          <a:lnTo>
                            <a:pt x="342" y="318"/>
                          </a:lnTo>
                          <a:lnTo>
                            <a:pt x="48" y="36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6873840" y="4446720"/>
                      <a:ext cx="482760" cy="58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368">
                          <a:moveTo>
                            <a:pt x="255" y="0"/>
                          </a:moveTo>
                          <a:lnTo>
                            <a:pt x="0" y="82"/>
                          </a:lnTo>
                          <a:lnTo>
                            <a:pt x="36" y="367"/>
                          </a:lnTo>
                          <a:lnTo>
                            <a:pt x="303" y="358"/>
                          </a:lnTo>
                          <a:lnTo>
                            <a:pt x="255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7369200" y="4486320"/>
                      <a:ext cx="390600" cy="44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6" h="279">
                          <a:moveTo>
                            <a:pt x="0" y="13"/>
                          </a:moveTo>
                          <a:lnTo>
                            <a:pt x="35" y="278"/>
                          </a:lnTo>
                          <a:lnTo>
                            <a:pt x="245" y="247"/>
                          </a:lnTo>
                          <a:lnTo>
                            <a:pt x="210" y="0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a77e0a"/>
                        </a:gs>
                        <a:gs pos="100000">
                          <a:srgbClr val="f1b60f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524720" y="5016600"/>
                  <a:ext cx="387000" cy="274320"/>
                  <a:chOff x="7524720" y="5016600"/>
                  <a:chExt cx="387000" cy="2743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7524720" y="5016600"/>
                    <a:ext cx="38412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173">
                        <a:moveTo>
                          <a:pt x="241" y="0"/>
                        </a:moveTo>
                        <a:lnTo>
                          <a:pt x="0" y="51"/>
                        </a:lnTo>
                        <a:lnTo>
                          <a:pt x="0" y="172"/>
                        </a:lnTo>
                        <a:lnTo>
                          <a:pt x="241" y="97"/>
                        </a:lnTo>
                        <a:lnTo>
                          <a:pt x="241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V="1">
                    <a:off x="7785000" y="5068440"/>
                    <a:ext cx="76320" cy="50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>
                    <a:off x="7573680" y="5132520"/>
                    <a:ext cx="158760" cy="4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746840" y="5056200"/>
                    <a:ext cx="0" cy="163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562880" y="5097240"/>
                    <a:ext cx="0" cy="179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>
                    <a:off x="7551360" y="5092560"/>
                    <a:ext cx="360360" cy="77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V="1">
                    <a:off x="7564320" y="5051520"/>
                    <a:ext cx="336600" cy="95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7385040" y="5022720"/>
                <a:ext cx="917640" cy="470160"/>
                <a:chOff x="7385040" y="5022720"/>
                <a:chExt cx="917640" cy="4701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7443720" y="5276880"/>
                  <a:ext cx="150840" cy="112680"/>
                  <a:chOff x="7443720" y="5276880"/>
                  <a:chExt cx="150840" cy="1126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443720" y="5276880"/>
                    <a:ext cx="446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1">
                        <a:moveTo>
                          <a:pt x="8" y="0"/>
                        </a:moveTo>
                        <a:lnTo>
                          <a:pt x="0" y="66"/>
                        </a:lnTo>
                        <a:lnTo>
                          <a:pt x="20" y="70"/>
                        </a:lnTo>
                        <a:lnTo>
                          <a:pt x="27" y="4"/>
                        </a:lnTo>
                        <a:lnTo>
                          <a:pt x="8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475400" y="5290920"/>
                    <a:ext cx="1191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62">
                        <a:moveTo>
                          <a:pt x="6" y="3"/>
                        </a:moveTo>
                        <a:lnTo>
                          <a:pt x="0" y="61"/>
                        </a:lnTo>
                        <a:lnTo>
                          <a:pt x="74" y="31"/>
                        </a:lnTo>
                        <a:lnTo>
                          <a:pt x="45" y="22"/>
                        </a:lnTo>
                        <a:lnTo>
                          <a:pt x="19" y="35"/>
                        </a:lnTo>
                        <a:lnTo>
                          <a:pt x="27" y="0"/>
                        </a:lnTo>
                        <a:lnTo>
                          <a:pt x="6" y="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385040" y="5022720"/>
                  <a:ext cx="917640" cy="470160"/>
                  <a:chOff x="7385040" y="5022720"/>
                  <a:chExt cx="917640" cy="4701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402680" y="5022720"/>
                    <a:ext cx="896760" cy="416160"/>
                  </a:xfrm>
                  <a:custGeom>
                    <a:avLst/>
                    <a:gdLst/>
                    <a:ahLst/>
                    <a:rect l="l" t="t" r="r" b="b"/>
                    <a:pathLst>
                      <a:path w="565" h="262">
                        <a:moveTo>
                          <a:pt x="0" y="111"/>
                        </a:moveTo>
                        <a:lnTo>
                          <a:pt x="270" y="261"/>
                        </a:lnTo>
                        <a:lnTo>
                          <a:pt x="564" y="114"/>
                        </a:lnTo>
                        <a:lnTo>
                          <a:pt x="339" y="0"/>
                        </a:lnTo>
                        <a:lnTo>
                          <a:pt x="0" y="11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385040" y="5197320"/>
                    <a:ext cx="450720" cy="29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185">
                        <a:moveTo>
                          <a:pt x="10" y="0"/>
                        </a:moveTo>
                        <a:lnTo>
                          <a:pt x="283" y="153"/>
                        </a:lnTo>
                        <a:lnTo>
                          <a:pt x="275" y="184"/>
                        </a:lnTo>
                        <a:lnTo>
                          <a:pt x="0" y="28"/>
                        </a:lnTo>
                        <a:lnTo>
                          <a:pt x="1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21720" y="5203800"/>
                    <a:ext cx="480960" cy="28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2">
                        <a:moveTo>
                          <a:pt x="0" y="181"/>
                        </a:moveTo>
                        <a:lnTo>
                          <a:pt x="9" y="147"/>
                        </a:lnTo>
                        <a:lnTo>
                          <a:pt x="302" y="0"/>
                        </a:lnTo>
                        <a:lnTo>
                          <a:pt x="292" y="27"/>
                        </a:lnTo>
                        <a:lnTo>
                          <a:pt x="0" y="18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591320" y="5218200"/>
                    <a:ext cx="34776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8">
                        <a:moveTo>
                          <a:pt x="0" y="28"/>
                        </a:moveTo>
                        <a:lnTo>
                          <a:pt x="75" y="0"/>
                        </a:lnTo>
                        <a:lnTo>
                          <a:pt x="218" y="74"/>
                        </a:lnTo>
                        <a:lnTo>
                          <a:pt x="146" y="107"/>
                        </a:lnTo>
                        <a:lnTo>
                          <a:pt x="0" y="2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737480" y="5089320"/>
                    <a:ext cx="52056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147">
                        <a:moveTo>
                          <a:pt x="0" y="71"/>
                        </a:moveTo>
                        <a:lnTo>
                          <a:pt x="143" y="146"/>
                        </a:lnTo>
                        <a:lnTo>
                          <a:pt x="327" y="63"/>
                        </a:lnTo>
                        <a:lnTo>
                          <a:pt x="193" y="0"/>
                        </a:lnTo>
                        <a:lnTo>
                          <a:pt x="0" y="7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458120" y="5035680"/>
                    <a:ext cx="57456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34">
                        <a:moveTo>
                          <a:pt x="75" y="133"/>
                        </a:moveTo>
                        <a:lnTo>
                          <a:pt x="0" y="96"/>
                        </a:lnTo>
                        <a:lnTo>
                          <a:pt x="302" y="0"/>
                        </a:lnTo>
                        <a:lnTo>
                          <a:pt x="361" y="27"/>
                        </a:lnTo>
                        <a:lnTo>
                          <a:pt x="75" y="13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77e0a"/>
                      </a:gs>
                      <a:gs pos="100000">
                        <a:srgbClr val="f1b60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V="1">
                    <a:off x="7461360" y="5038200"/>
                    <a:ext cx="493560" cy="1890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V="1">
                    <a:off x="7505640" y="5049360"/>
                    <a:ext cx="476280" cy="1904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V="1">
                    <a:off x="7535880" y="5065200"/>
                    <a:ext cx="465120" cy="19548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V="1">
                    <a:off x="7605720" y="5095800"/>
                    <a:ext cx="457200" cy="2016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V="1">
                    <a:off x="7645320" y="5116320"/>
                    <a:ext cx="452520" cy="2016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flipV="1">
                    <a:off x="7694640" y="5136840"/>
                    <a:ext cx="423720" cy="1998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V="1">
                    <a:off x="7736040" y="5154480"/>
                    <a:ext cx="412560" cy="2016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V="1">
                    <a:off x="7786800" y="5178240"/>
                    <a:ext cx="398520" cy="1987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624800" y="5256000"/>
                    <a:ext cx="223920" cy="1224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677000" y="5238720"/>
                    <a:ext cx="219240" cy="1159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777080" y="5197320"/>
                    <a:ext cx="217440" cy="1112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835760" y="5176800"/>
                    <a:ext cx="211320" cy="1080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88320" y="5156280"/>
                    <a:ext cx="208080" cy="1094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937640" y="5137200"/>
                    <a:ext cx="203040" cy="10476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981920" y="5116320"/>
                    <a:ext cx="206280" cy="10008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521480" y="5180040"/>
                    <a:ext cx="103320" cy="475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597800" y="5154480"/>
                    <a:ext cx="95040" cy="4788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669080" y="5133960"/>
                    <a:ext cx="92160" cy="414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731000" y="5110200"/>
                    <a:ext cx="96840" cy="428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802640" y="5086440"/>
                    <a:ext cx="87120" cy="410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875720" y="5060880"/>
                    <a:ext cx="88920" cy="4140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3" name=""/>
            <p:cNvGrpSpPr/>
            <p:nvPr/>
          </p:nvGrpSpPr>
          <p:grpSpPr>
            <a:xfrm>
              <a:off x="7835760" y="4191120"/>
              <a:ext cx="1095480" cy="1763640"/>
              <a:chOff x="7835760" y="4191120"/>
              <a:chExt cx="1095480" cy="17636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8420040" y="4228920"/>
                <a:ext cx="407880" cy="474840"/>
                <a:chOff x="8420040" y="4228920"/>
                <a:chExt cx="407880" cy="4748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8420040" y="4228920"/>
                  <a:ext cx="407880" cy="474840"/>
                  <a:chOff x="8420040" y="4228920"/>
                  <a:chExt cx="407880" cy="47484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8420040" y="4228920"/>
                    <a:ext cx="407880" cy="47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299">
                        <a:moveTo>
                          <a:pt x="78" y="9"/>
                        </a:moveTo>
                        <a:lnTo>
                          <a:pt x="45" y="21"/>
                        </a:lnTo>
                        <a:lnTo>
                          <a:pt x="33" y="46"/>
                        </a:lnTo>
                        <a:lnTo>
                          <a:pt x="23" y="79"/>
                        </a:lnTo>
                        <a:lnTo>
                          <a:pt x="21" y="93"/>
                        </a:lnTo>
                        <a:lnTo>
                          <a:pt x="23" y="106"/>
                        </a:lnTo>
                        <a:lnTo>
                          <a:pt x="27" y="116"/>
                        </a:lnTo>
                        <a:lnTo>
                          <a:pt x="20" y="134"/>
                        </a:lnTo>
                        <a:lnTo>
                          <a:pt x="12" y="151"/>
                        </a:lnTo>
                        <a:lnTo>
                          <a:pt x="8" y="157"/>
                        </a:lnTo>
                        <a:lnTo>
                          <a:pt x="4" y="161"/>
                        </a:lnTo>
                        <a:lnTo>
                          <a:pt x="1" y="165"/>
                        </a:lnTo>
                        <a:lnTo>
                          <a:pt x="0" y="171"/>
                        </a:lnTo>
                        <a:lnTo>
                          <a:pt x="2" y="176"/>
                        </a:lnTo>
                        <a:lnTo>
                          <a:pt x="5" y="178"/>
                        </a:lnTo>
                        <a:lnTo>
                          <a:pt x="15" y="180"/>
                        </a:lnTo>
                        <a:lnTo>
                          <a:pt x="20" y="183"/>
                        </a:lnTo>
                        <a:lnTo>
                          <a:pt x="22" y="189"/>
                        </a:lnTo>
                        <a:lnTo>
                          <a:pt x="20" y="196"/>
                        </a:lnTo>
                        <a:lnTo>
                          <a:pt x="16" y="208"/>
                        </a:lnTo>
                        <a:lnTo>
                          <a:pt x="18" y="213"/>
                        </a:lnTo>
                        <a:lnTo>
                          <a:pt x="23" y="218"/>
                        </a:lnTo>
                        <a:lnTo>
                          <a:pt x="21" y="222"/>
                        </a:lnTo>
                        <a:lnTo>
                          <a:pt x="20" y="226"/>
                        </a:lnTo>
                        <a:lnTo>
                          <a:pt x="23" y="230"/>
                        </a:lnTo>
                        <a:lnTo>
                          <a:pt x="27" y="232"/>
                        </a:lnTo>
                        <a:lnTo>
                          <a:pt x="30" y="238"/>
                        </a:lnTo>
                        <a:lnTo>
                          <a:pt x="30" y="247"/>
                        </a:lnTo>
                        <a:lnTo>
                          <a:pt x="32" y="252"/>
                        </a:lnTo>
                        <a:lnTo>
                          <a:pt x="37" y="257"/>
                        </a:lnTo>
                        <a:lnTo>
                          <a:pt x="41" y="260"/>
                        </a:lnTo>
                        <a:lnTo>
                          <a:pt x="48" y="262"/>
                        </a:lnTo>
                        <a:lnTo>
                          <a:pt x="56" y="263"/>
                        </a:lnTo>
                        <a:lnTo>
                          <a:pt x="75" y="262"/>
                        </a:lnTo>
                        <a:lnTo>
                          <a:pt x="92" y="260"/>
                        </a:lnTo>
                        <a:lnTo>
                          <a:pt x="117" y="298"/>
                        </a:lnTo>
                        <a:lnTo>
                          <a:pt x="222" y="252"/>
                        </a:lnTo>
                        <a:lnTo>
                          <a:pt x="212" y="236"/>
                        </a:lnTo>
                        <a:lnTo>
                          <a:pt x="206" y="222"/>
                        </a:lnTo>
                        <a:lnTo>
                          <a:pt x="206" y="201"/>
                        </a:lnTo>
                        <a:lnTo>
                          <a:pt x="256" y="158"/>
                        </a:lnTo>
                        <a:lnTo>
                          <a:pt x="256" y="56"/>
                        </a:lnTo>
                        <a:lnTo>
                          <a:pt x="230" y="28"/>
                        </a:lnTo>
                        <a:lnTo>
                          <a:pt x="197" y="13"/>
                        </a:lnTo>
                        <a:lnTo>
                          <a:pt x="164" y="0"/>
                        </a:lnTo>
                        <a:lnTo>
                          <a:pt x="119" y="6"/>
                        </a:lnTo>
                        <a:lnTo>
                          <a:pt x="78" y="9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8620200" y="4527360"/>
                    <a:ext cx="363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9">
                        <a:moveTo>
                          <a:pt x="22" y="0"/>
                        </a:moveTo>
                        <a:lnTo>
                          <a:pt x="15" y="18"/>
                        </a:lnTo>
                        <a:lnTo>
                          <a:pt x="10" y="27"/>
                        </a:lnTo>
                        <a:lnTo>
                          <a:pt x="0" y="38"/>
                        </a:lnTo>
                        <a:lnTo>
                          <a:pt x="13" y="29"/>
                        </a:lnTo>
                        <a:lnTo>
                          <a:pt x="19" y="18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8454960" y="4383000"/>
                  <a:ext cx="108000" cy="208080"/>
                  <a:chOff x="8454960" y="4383000"/>
                  <a:chExt cx="108000" cy="2080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8497800" y="4416480"/>
                    <a:ext cx="38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2">
                        <a:moveTo>
                          <a:pt x="2" y="0"/>
                        </a:moveTo>
                        <a:lnTo>
                          <a:pt x="4" y="2"/>
                        </a:lnTo>
                        <a:lnTo>
                          <a:pt x="0" y="3"/>
                        </a:lnTo>
                        <a:lnTo>
                          <a:pt x="4" y="2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4" y="11"/>
                        </a:lnTo>
                        <a:lnTo>
                          <a:pt x="7" y="8"/>
                        </a:lnTo>
                        <a:lnTo>
                          <a:pt x="12" y="8"/>
                        </a:lnTo>
                        <a:lnTo>
                          <a:pt x="16" y="6"/>
                        </a:lnTo>
                        <a:lnTo>
                          <a:pt x="23" y="6"/>
                        </a:lnTo>
                        <a:lnTo>
                          <a:pt x="16" y="2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486640" y="4383000"/>
                    <a:ext cx="76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">
                        <a:moveTo>
                          <a:pt x="0" y="2"/>
                        </a:move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5" y="3"/>
                        </a:lnTo>
                        <a:lnTo>
                          <a:pt x="24" y="2"/>
                        </a:lnTo>
                        <a:lnTo>
                          <a:pt x="40" y="2"/>
                        </a:lnTo>
                        <a:lnTo>
                          <a:pt x="47" y="2"/>
                        </a:lnTo>
                        <a:lnTo>
                          <a:pt x="35" y="1"/>
                        </a:lnTo>
                        <a:lnTo>
                          <a:pt x="26" y="1"/>
                        </a:lnTo>
                        <a:lnTo>
                          <a:pt x="28" y="0"/>
                        </a:lnTo>
                        <a:lnTo>
                          <a:pt x="20" y="1"/>
                        </a:lnTo>
                        <a:lnTo>
                          <a:pt x="21" y="0"/>
                        </a:lnTo>
                        <a:lnTo>
                          <a:pt x="14" y="1"/>
                        </a:lnTo>
                        <a:lnTo>
                          <a:pt x="8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459640" y="455616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2"/>
                        </a:moveTo>
                        <a:lnTo>
                          <a:pt x="3" y="1"/>
                        </a:lnTo>
                        <a:lnTo>
                          <a:pt x="5" y="0"/>
                        </a:lnTo>
                        <a:lnTo>
                          <a:pt x="7" y="2"/>
                        </a:lnTo>
                        <a:lnTo>
                          <a:pt x="10" y="3"/>
                        </a:lnTo>
                        <a:lnTo>
                          <a:pt x="13" y="5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7" y="7"/>
                        </a:lnTo>
                        <a:lnTo>
                          <a:pt x="17" y="9"/>
                        </a:lnTo>
                        <a:lnTo>
                          <a:pt x="17" y="11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7"/>
                        </a:lnTo>
                        <a:lnTo>
                          <a:pt x="10" y="5"/>
                        </a:lnTo>
                        <a:lnTo>
                          <a:pt x="7" y="7"/>
                        </a:lnTo>
                        <a:lnTo>
                          <a:pt x="4" y="7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469360" y="458316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454960" y="449892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474040" y="4498920"/>
                    <a:ext cx="64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520120" y="4419720"/>
                    <a:ext cx="3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653320" y="4398840"/>
                  <a:ext cx="46080" cy="88920"/>
                  <a:chOff x="8653320" y="4398840"/>
                  <a:chExt cx="46080" cy="889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663040" y="4410000"/>
                    <a:ext cx="23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0">
                        <a:moveTo>
                          <a:pt x="0" y="7"/>
                        </a:moveTo>
                        <a:lnTo>
                          <a:pt x="4" y="3"/>
                        </a:lnTo>
                        <a:lnTo>
                          <a:pt x="10" y="4"/>
                        </a:lnTo>
                        <a:lnTo>
                          <a:pt x="12" y="11"/>
                        </a:lnTo>
                        <a:lnTo>
                          <a:pt x="13" y="19"/>
                        </a:lnTo>
                        <a:lnTo>
                          <a:pt x="12" y="27"/>
                        </a:lnTo>
                        <a:lnTo>
                          <a:pt x="10" y="32"/>
                        </a:lnTo>
                        <a:lnTo>
                          <a:pt x="8" y="23"/>
                        </a:lnTo>
                        <a:lnTo>
                          <a:pt x="6" y="18"/>
                        </a:lnTo>
                        <a:lnTo>
                          <a:pt x="1" y="15"/>
                        </a:lnTo>
                        <a:lnTo>
                          <a:pt x="4" y="22"/>
                        </a:lnTo>
                        <a:lnTo>
                          <a:pt x="8" y="27"/>
                        </a:lnTo>
                        <a:lnTo>
                          <a:pt x="9" y="34"/>
                        </a:lnTo>
                        <a:lnTo>
                          <a:pt x="7" y="38"/>
                        </a:lnTo>
                        <a:lnTo>
                          <a:pt x="5" y="39"/>
                        </a:lnTo>
                        <a:lnTo>
                          <a:pt x="11" y="37"/>
                        </a:lnTo>
                        <a:lnTo>
                          <a:pt x="14" y="29"/>
                        </a:lnTo>
                        <a:lnTo>
                          <a:pt x="14" y="19"/>
                        </a:lnTo>
                        <a:lnTo>
                          <a:pt x="14" y="9"/>
                        </a:lnTo>
                        <a:lnTo>
                          <a:pt x="10" y="2"/>
                        </a:lnTo>
                        <a:lnTo>
                          <a:pt x="6" y="0"/>
                        </a:lnTo>
                        <a:lnTo>
                          <a:pt x="2" y="2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653320" y="4398840"/>
                    <a:ext cx="46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6">
                        <a:moveTo>
                          <a:pt x="0" y="14"/>
                        </a:moveTo>
                        <a:lnTo>
                          <a:pt x="5" y="4"/>
                        </a:lnTo>
                        <a:lnTo>
                          <a:pt x="12" y="3"/>
                        </a:lnTo>
                        <a:lnTo>
                          <a:pt x="21" y="3"/>
                        </a:lnTo>
                        <a:lnTo>
                          <a:pt x="23" y="9"/>
                        </a:lnTo>
                        <a:lnTo>
                          <a:pt x="26" y="17"/>
                        </a:lnTo>
                        <a:lnTo>
                          <a:pt x="26" y="24"/>
                        </a:lnTo>
                        <a:lnTo>
                          <a:pt x="25" y="29"/>
                        </a:lnTo>
                        <a:lnTo>
                          <a:pt x="25" y="36"/>
                        </a:lnTo>
                        <a:lnTo>
                          <a:pt x="23" y="43"/>
                        </a:lnTo>
                        <a:lnTo>
                          <a:pt x="17" y="51"/>
                        </a:lnTo>
                        <a:lnTo>
                          <a:pt x="13" y="51"/>
                        </a:lnTo>
                        <a:lnTo>
                          <a:pt x="9" y="51"/>
                        </a:lnTo>
                        <a:lnTo>
                          <a:pt x="9" y="52"/>
                        </a:lnTo>
                        <a:lnTo>
                          <a:pt x="12" y="55"/>
                        </a:lnTo>
                        <a:lnTo>
                          <a:pt x="16" y="55"/>
                        </a:lnTo>
                        <a:lnTo>
                          <a:pt x="22" y="52"/>
                        </a:lnTo>
                        <a:lnTo>
                          <a:pt x="26" y="44"/>
                        </a:lnTo>
                        <a:lnTo>
                          <a:pt x="26" y="31"/>
                        </a:lnTo>
                        <a:lnTo>
                          <a:pt x="28" y="23"/>
                        </a:lnTo>
                        <a:lnTo>
                          <a:pt x="28" y="16"/>
                        </a:lnTo>
                        <a:lnTo>
                          <a:pt x="26" y="8"/>
                        </a:lnTo>
                        <a:lnTo>
                          <a:pt x="23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1" y="4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864560" y="4605120"/>
                <a:ext cx="1066680" cy="1349640"/>
              </a:xfrm>
              <a:custGeom>
                <a:avLst/>
                <a:gdLst/>
                <a:ahLst/>
                <a:rect l="l" t="t" r="r" b="b"/>
                <a:pathLst>
                  <a:path w="672" h="850">
                    <a:moveTo>
                      <a:pt x="587" y="44"/>
                    </a:moveTo>
                    <a:lnTo>
                      <a:pt x="572" y="0"/>
                    </a:lnTo>
                    <a:lnTo>
                      <a:pt x="458" y="55"/>
                    </a:lnTo>
                    <a:lnTo>
                      <a:pt x="470" y="90"/>
                    </a:lnTo>
                    <a:lnTo>
                      <a:pt x="455" y="124"/>
                    </a:lnTo>
                    <a:lnTo>
                      <a:pt x="437" y="155"/>
                    </a:lnTo>
                    <a:lnTo>
                      <a:pt x="411" y="210"/>
                    </a:lnTo>
                    <a:lnTo>
                      <a:pt x="379" y="256"/>
                    </a:lnTo>
                    <a:lnTo>
                      <a:pt x="369" y="283"/>
                    </a:lnTo>
                    <a:lnTo>
                      <a:pt x="366" y="301"/>
                    </a:lnTo>
                    <a:lnTo>
                      <a:pt x="367" y="322"/>
                    </a:lnTo>
                    <a:lnTo>
                      <a:pt x="372" y="341"/>
                    </a:lnTo>
                    <a:lnTo>
                      <a:pt x="376" y="358"/>
                    </a:lnTo>
                    <a:lnTo>
                      <a:pt x="376" y="378"/>
                    </a:lnTo>
                    <a:lnTo>
                      <a:pt x="268" y="405"/>
                    </a:lnTo>
                    <a:lnTo>
                      <a:pt x="207" y="412"/>
                    </a:lnTo>
                    <a:lnTo>
                      <a:pt x="163" y="409"/>
                    </a:lnTo>
                    <a:lnTo>
                      <a:pt x="157" y="424"/>
                    </a:lnTo>
                    <a:lnTo>
                      <a:pt x="153" y="442"/>
                    </a:lnTo>
                    <a:lnTo>
                      <a:pt x="150" y="461"/>
                    </a:lnTo>
                    <a:lnTo>
                      <a:pt x="194" y="476"/>
                    </a:lnTo>
                    <a:lnTo>
                      <a:pt x="246" y="482"/>
                    </a:lnTo>
                    <a:lnTo>
                      <a:pt x="288" y="482"/>
                    </a:lnTo>
                    <a:lnTo>
                      <a:pt x="339" y="488"/>
                    </a:lnTo>
                    <a:lnTo>
                      <a:pt x="372" y="482"/>
                    </a:lnTo>
                    <a:lnTo>
                      <a:pt x="372" y="525"/>
                    </a:lnTo>
                    <a:lnTo>
                      <a:pt x="382" y="548"/>
                    </a:lnTo>
                    <a:lnTo>
                      <a:pt x="378" y="572"/>
                    </a:lnTo>
                    <a:lnTo>
                      <a:pt x="381" y="589"/>
                    </a:lnTo>
                    <a:lnTo>
                      <a:pt x="363" y="590"/>
                    </a:lnTo>
                    <a:lnTo>
                      <a:pt x="352" y="598"/>
                    </a:lnTo>
                    <a:lnTo>
                      <a:pt x="322" y="602"/>
                    </a:lnTo>
                    <a:lnTo>
                      <a:pt x="301" y="617"/>
                    </a:lnTo>
                    <a:lnTo>
                      <a:pt x="279" y="623"/>
                    </a:lnTo>
                    <a:lnTo>
                      <a:pt x="142" y="671"/>
                    </a:lnTo>
                    <a:lnTo>
                      <a:pt x="96" y="688"/>
                    </a:lnTo>
                    <a:lnTo>
                      <a:pt x="67" y="700"/>
                    </a:lnTo>
                    <a:lnTo>
                      <a:pt x="47" y="729"/>
                    </a:lnTo>
                    <a:lnTo>
                      <a:pt x="24" y="774"/>
                    </a:lnTo>
                    <a:lnTo>
                      <a:pt x="0" y="849"/>
                    </a:lnTo>
                    <a:lnTo>
                      <a:pt x="256" y="848"/>
                    </a:lnTo>
                    <a:lnTo>
                      <a:pt x="335" y="826"/>
                    </a:lnTo>
                    <a:lnTo>
                      <a:pt x="452" y="824"/>
                    </a:lnTo>
                    <a:lnTo>
                      <a:pt x="526" y="824"/>
                    </a:lnTo>
                    <a:lnTo>
                      <a:pt x="567" y="826"/>
                    </a:lnTo>
                    <a:lnTo>
                      <a:pt x="614" y="814"/>
                    </a:lnTo>
                    <a:lnTo>
                      <a:pt x="631" y="806"/>
                    </a:lnTo>
                    <a:lnTo>
                      <a:pt x="654" y="782"/>
                    </a:lnTo>
                    <a:lnTo>
                      <a:pt x="660" y="765"/>
                    </a:lnTo>
                    <a:lnTo>
                      <a:pt x="667" y="731"/>
                    </a:lnTo>
                    <a:lnTo>
                      <a:pt x="662" y="700"/>
                    </a:lnTo>
                    <a:lnTo>
                      <a:pt x="646" y="646"/>
                    </a:lnTo>
                    <a:lnTo>
                      <a:pt x="625" y="592"/>
                    </a:lnTo>
                    <a:lnTo>
                      <a:pt x="622" y="571"/>
                    </a:lnTo>
                    <a:lnTo>
                      <a:pt x="629" y="556"/>
                    </a:lnTo>
                    <a:lnTo>
                      <a:pt x="626" y="513"/>
                    </a:lnTo>
                    <a:lnTo>
                      <a:pt x="620" y="495"/>
                    </a:lnTo>
                    <a:lnTo>
                      <a:pt x="624" y="457"/>
                    </a:lnTo>
                    <a:lnTo>
                      <a:pt x="639" y="403"/>
                    </a:lnTo>
                    <a:lnTo>
                      <a:pt x="662" y="328"/>
                    </a:lnTo>
                    <a:lnTo>
                      <a:pt x="671" y="262"/>
                    </a:lnTo>
                    <a:lnTo>
                      <a:pt x="671" y="205"/>
                    </a:lnTo>
                    <a:lnTo>
                      <a:pt x="666" y="164"/>
                    </a:lnTo>
                    <a:lnTo>
                      <a:pt x="657" y="140"/>
                    </a:lnTo>
                    <a:lnTo>
                      <a:pt x="644" y="111"/>
                    </a:lnTo>
                    <a:lnTo>
                      <a:pt x="630" y="80"/>
                    </a:lnTo>
                    <a:lnTo>
                      <a:pt x="587" y="44"/>
                    </a:lnTo>
                  </a:path>
                </a:pathLst>
              </a:custGeom>
              <a:solidFill>
                <a:srgbClr val="000060"/>
              </a:solidFill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835760" y="4676760"/>
                <a:ext cx="1089000" cy="1258920"/>
                <a:chOff x="7835760" y="4676760"/>
                <a:chExt cx="1089000" cy="125892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7835760" y="5164200"/>
                  <a:ext cx="319320" cy="168120"/>
                  <a:chOff x="7835760" y="5164200"/>
                  <a:chExt cx="319320" cy="16812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7835760" y="5164200"/>
                    <a:ext cx="31932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6">
                        <a:moveTo>
                          <a:pt x="200" y="62"/>
                        </a:moveTo>
                        <a:lnTo>
                          <a:pt x="176" y="57"/>
                        </a:lnTo>
                        <a:lnTo>
                          <a:pt x="167" y="56"/>
                        </a:lnTo>
                        <a:lnTo>
                          <a:pt x="161" y="51"/>
                        </a:lnTo>
                        <a:lnTo>
                          <a:pt x="155" y="45"/>
                        </a:lnTo>
                        <a:lnTo>
                          <a:pt x="143" y="35"/>
                        </a:lnTo>
                        <a:lnTo>
                          <a:pt x="121" y="20"/>
                        </a:lnTo>
                        <a:lnTo>
                          <a:pt x="118" y="14"/>
                        </a:lnTo>
                        <a:lnTo>
                          <a:pt x="112" y="10"/>
                        </a:lnTo>
                        <a:lnTo>
                          <a:pt x="100" y="8"/>
                        </a:lnTo>
                        <a:lnTo>
                          <a:pt x="65" y="2"/>
                        </a:lnTo>
                        <a:lnTo>
                          <a:pt x="55" y="0"/>
                        </a:lnTo>
                        <a:lnTo>
                          <a:pt x="47" y="4"/>
                        </a:lnTo>
                        <a:lnTo>
                          <a:pt x="42" y="7"/>
                        </a:lnTo>
                        <a:lnTo>
                          <a:pt x="30" y="11"/>
                        </a:lnTo>
                        <a:lnTo>
                          <a:pt x="23" y="14"/>
                        </a:lnTo>
                        <a:lnTo>
                          <a:pt x="17" y="16"/>
                        </a:lnTo>
                        <a:lnTo>
                          <a:pt x="14" y="19"/>
                        </a:lnTo>
                        <a:lnTo>
                          <a:pt x="9" y="25"/>
                        </a:lnTo>
                        <a:lnTo>
                          <a:pt x="5" y="29"/>
                        </a:lnTo>
                        <a:lnTo>
                          <a:pt x="4" y="34"/>
                        </a:lnTo>
                        <a:lnTo>
                          <a:pt x="3" y="36"/>
                        </a:lnTo>
                        <a:lnTo>
                          <a:pt x="0" y="40"/>
                        </a:lnTo>
                        <a:lnTo>
                          <a:pt x="3" y="44"/>
                        </a:lnTo>
                        <a:lnTo>
                          <a:pt x="6" y="45"/>
                        </a:lnTo>
                        <a:lnTo>
                          <a:pt x="13" y="45"/>
                        </a:lnTo>
                        <a:lnTo>
                          <a:pt x="18" y="43"/>
                        </a:lnTo>
                        <a:lnTo>
                          <a:pt x="24" y="40"/>
                        </a:lnTo>
                        <a:lnTo>
                          <a:pt x="29" y="40"/>
                        </a:lnTo>
                        <a:lnTo>
                          <a:pt x="35" y="39"/>
                        </a:lnTo>
                        <a:lnTo>
                          <a:pt x="41" y="37"/>
                        </a:lnTo>
                        <a:lnTo>
                          <a:pt x="50" y="38"/>
                        </a:lnTo>
                        <a:lnTo>
                          <a:pt x="57" y="40"/>
                        </a:lnTo>
                        <a:lnTo>
                          <a:pt x="41" y="44"/>
                        </a:lnTo>
                        <a:lnTo>
                          <a:pt x="30" y="47"/>
                        </a:lnTo>
                        <a:lnTo>
                          <a:pt x="17" y="51"/>
                        </a:lnTo>
                        <a:lnTo>
                          <a:pt x="14" y="54"/>
                        </a:lnTo>
                        <a:lnTo>
                          <a:pt x="13" y="58"/>
                        </a:lnTo>
                        <a:lnTo>
                          <a:pt x="16" y="60"/>
                        </a:lnTo>
                        <a:lnTo>
                          <a:pt x="20" y="62"/>
                        </a:lnTo>
                        <a:lnTo>
                          <a:pt x="25" y="61"/>
                        </a:lnTo>
                        <a:lnTo>
                          <a:pt x="43" y="57"/>
                        </a:lnTo>
                        <a:lnTo>
                          <a:pt x="59" y="57"/>
                        </a:lnTo>
                        <a:lnTo>
                          <a:pt x="71" y="57"/>
                        </a:lnTo>
                        <a:lnTo>
                          <a:pt x="79" y="61"/>
                        </a:lnTo>
                        <a:lnTo>
                          <a:pt x="86" y="67"/>
                        </a:lnTo>
                        <a:lnTo>
                          <a:pt x="93" y="74"/>
                        </a:lnTo>
                        <a:lnTo>
                          <a:pt x="99" y="82"/>
                        </a:lnTo>
                        <a:lnTo>
                          <a:pt x="106" y="88"/>
                        </a:lnTo>
                        <a:lnTo>
                          <a:pt x="115" y="92"/>
                        </a:lnTo>
                        <a:lnTo>
                          <a:pt x="123" y="93"/>
                        </a:lnTo>
                        <a:lnTo>
                          <a:pt x="133" y="93"/>
                        </a:lnTo>
                        <a:lnTo>
                          <a:pt x="145" y="94"/>
                        </a:lnTo>
                        <a:lnTo>
                          <a:pt x="158" y="95"/>
                        </a:lnTo>
                        <a:lnTo>
                          <a:pt x="168" y="99"/>
                        </a:lnTo>
                        <a:lnTo>
                          <a:pt x="200" y="105"/>
                        </a:lnTo>
                        <a:lnTo>
                          <a:pt x="200" y="6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7864560" y="5194080"/>
                    <a:ext cx="903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5">
                        <a:moveTo>
                          <a:pt x="0" y="4"/>
                        </a:moveTo>
                        <a:lnTo>
                          <a:pt x="10" y="3"/>
                        </a:lnTo>
                        <a:lnTo>
                          <a:pt x="18" y="2"/>
                        </a:lnTo>
                        <a:lnTo>
                          <a:pt x="27" y="1"/>
                        </a:lnTo>
                        <a:lnTo>
                          <a:pt x="35" y="1"/>
                        </a:lnTo>
                        <a:lnTo>
                          <a:pt x="47" y="1"/>
                        </a:lnTo>
                        <a:lnTo>
                          <a:pt x="56" y="1"/>
                        </a:lnTo>
                        <a:lnTo>
                          <a:pt x="43" y="1"/>
                        </a:lnTo>
                        <a:lnTo>
                          <a:pt x="32" y="0"/>
                        </a:lnTo>
                        <a:lnTo>
                          <a:pt x="18" y="2"/>
                        </a:lnTo>
                        <a:lnTo>
                          <a:pt x="10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920000" y="5172120"/>
                    <a:ext cx="74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13" y="0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12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36" y="0"/>
                        </a:lnTo>
                        <a:lnTo>
                          <a:pt x="24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935840" y="5216400"/>
                    <a:ext cx="23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5">
                        <a:moveTo>
                          <a:pt x="0" y="2"/>
                        </a:moveTo>
                        <a:lnTo>
                          <a:pt x="2" y="4"/>
                        </a:lnTo>
                        <a:lnTo>
                          <a:pt x="6" y="3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lnTo>
                          <a:pt x="1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881840" y="524196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3" y="0"/>
                        </a:move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8002440" y="5205240"/>
                    <a:ext cx="5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975440" y="523404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5" y="0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7858080" y="5216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2"/>
                        </a:moveTo>
                        <a:lnTo>
                          <a:pt x="1" y="2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905600" y="5059440"/>
                  <a:ext cx="338400" cy="150840"/>
                  <a:chOff x="7905600" y="5059440"/>
                  <a:chExt cx="338400" cy="15084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7905600" y="5059440"/>
                    <a:ext cx="33840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95">
                        <a:moveTo>
                          <a:pt x="191" y="94"/>
                        </a:moveTo>
                        <a:lnTo>
                          <a:pt x="180" y="92"/>
                        </a:lnTo>
                        <a:lnTo>
                          <a:pt x="169" y="88"/>
                        </a:lnTo>
                        <a:lnTo>
                          <a:pt x="158" y="86"/>
                        </a:lnTo>
                        <a:lnTo>
                          <a:pt x="140" y="88"/>
                        </a:lnTo>
                        <a:lnTo>
                          <a:pt x="127" y="87"/>
                        </a:lnTo>
                        <a:lnTo>
                          <a:pt x="119" y="83"/>
                        </a:lnTo>
                        <a:lnTo>
                          <a:pt x="111" y="80"/>
                        </a:lnTo>
                        <a:lnTo>
                          <a:pt x="103" y="79"/>
                        </a:lnTo>
                        <a:lnTo>
                          <a:pt x="95" y="75"/>
                        </a:lnTo>
                        <a:lnTo>
                          <a:pt x="88" y="70"/>
                        </a:lnTo>
                        <a:lnTo>
                          <a:pt x="78" y="65"/>
                        </a:lnTo>
                        <a:lnTo>
                          <a:pt x="72" y="64"/>
                        </a:lnTo>
                        <a:lnTo>
                          <a:pt x="65" y="62"/>
                        </a:lnTo>
                        <a:lnTo>
                          <a:pt x="56" y="62"/>
                        </a:lnTo>
                        <a:lnTo>
                          <a:pt x="51" y="60"/>
                        </a:lnTo>
                        <a:lnTo>
                          <a:pt x="48" y="58"/>
                        </a:lnTo>
                        <a:lnTo>
                          <a:pt x="47" y="55"/>
                        </a:lnTo>
                        <a:lnTo>
                          <a:pt x="48" y="54"/>
                        </a:lnTo>
                        <a:lnTo>
                          <a:pt x="51" y="51"/>
                        </a:lnTo>
                        <a:lnTo>
                          <a:pt x="57" y="50"/>
                        </a:lnTo>
                        <a:lnTo>
                          <a:pt x="65" y="48"/>
                        </a:lnTo>
                        <a:lnTo>
                          <a:pt x="72" y="49"/>
                        </a:lnTo>
                        <a:lnTo>
                          <a:pt x="79" y="51"/>
                        </a:lnTo>
                        <a:lnTo>
                          <a:pt x="94" y="51"/>
                        </a:lnTo>
                        <a:lnTo>
                          <a:pt x="81" y="43"/>
                        </a:lnTo>
                        <a:lnTo>
                          <a:pt x="70" y="35"/>
                        </a:lnTo>
                        <a:lnTo>
                          <a:pt x="56" y="30"/>
                        </a:lnTo>
                        <a:lnTo>
                          <a:pt x="45" y="30"/>
                        </a:lnTo>
                        <a:lnTo>
                          <a:pt x="31" y="28"/>
                        </a:lnTo>
                        <a:lnTo>
                          <a:pt x="22" y="31"/>
                        </a:lnTo>
                        <a:lnTo>
                          <a:pt x="18" y="32"/>
                        </a:lnTo>
                        <a:lnTo>
                          <a:pt x="14" y="32"/>
                        </a:lnTo>
                        <a:lnTo>
                          <a:pt x="11" y="30"/>
                        </a:lnTo>
                        <a:lnTo>
                          <a:pt x="8" y="29"/>
                        </a:lnTo>
                        <a:lnTo>
                          <a:pt x="8" y="26"/>
                        </a:lnTo>
                        <a:lnTo>
                          <a:pt x="4" y="26"/>
                        </a:lnTo>
                        <a:lnTo>
                          <a:pt x="1" y="24"/>
                        </a:lnTo>
                        <a:lnTo>
                          <a:pt x="1" y="22"/>
                        </a:lnTo>
                        <a:lnTo>
                          <a:pt x="0" y="20"/>
                        </a:lnTo>
                        <a:lnTo>
                          <a:pt x="1" y="18"/>
                        </a:lnTo>
                        <a:lnTo>
                          <a:pt x="4" y="17"/>
                        </a:lnTo>
                        <a:lnTo>
                          <a:pt x="8" y="14"/>
                        </a:lnTo>
                        <a:lnTo>
                          <a:pt x="13" y="11"/>
                        </a:lnTo>
                        <a:lnTo>
                          <a:pt x="17" y="9"/>
                        </a:lnTo>
                        <a:lnTo>
                          <a:pt x="24" y="8"/>
                        </a:lnTo>
                        <a:lnTo>
                          <a:pt x="29" y="7"/>
                        </a:lnTo>
                        <a:lnTo>
                          <a:pt x="55" y="3"/>
                        </a:lnTo>
                        <a:lnTo>
                          <a:pt x="61" y="2"/>
                        </a:lnTo>
                        <a:lnTo>
                          <a:pt x="67" y="0"/>
                        </a:lnTo>
                        <a:lnTo>
                          <a:pt x="73" y="1"/>
                        </a:lnTo>
                        <a:lnTo>
                          <a:pt x="79" y="5"/>
                        </a:lnTo>
                        <a:lnTo>
                          <a:pt x="100" y="11"/>
                        </a:lnTo>
                        <a:lnTo>
                          <a:pt x="112" y="12"/>
                        </a:lnTo>
                        <a:lnTo>
                          <a:pt x="124" y="21"/>
                        </a:lnTo>
                        <a:lnTo>
                          <a:pt x="149" y="38"/>
                        </a:lnTo>
                        <a:lnTo>
                          <a:pt x="159" y="46"/>
                        </a:lnTo>
                        <a:lnTo>
                          <a:pt x="168" y="54"/>
                        </a:lnTo>
                        <a:lnTo>
                          <a:pt x="180" y="57"/>
                        </a:lnTo>
                        <a:lnTo>
                          <a:pt x="212" y="58"/>
                        </a:lnTo>
                        <a:lnTo>
                          <a:pt x="191" y="94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927920" y="5083200"/>
                    <a:ext cx="36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">
                        <a:moveTo>
                          <a:pt x="0" y="3"/>
                        </a:moveTo>
                        <a:lnTo>
                          <a:pt x="2" y="3"/>
                        </a:lnTo>
                        <a:lnTo>
                          <a:pt x="6" y="2"/>
                        </a:lnTo>
                        <a:lnTo>
                          <a:pt x="10" y="1"/>
                        </a:lnTo>
                        <a:lnTo>
                          <a:pt x="12" y="1"/>
                        </a:lnTo>
                        <a:lnTo>
                          <a:pt x="14" y="1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10" y="1"/>
                        </a:lnTo>
                        <a:lnTo>
                          <a:pt x="8" y="1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174160" y="5170320"/>
                    <a:ext cx="9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">
                        <a:moveTo>
                          <a:pt x="5" y="0"/>
                        </a:moveTo>
                        <a:lnTo>
                          <a:pt x="2" y="0"/>
                        </a:ln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7988400" y="5076720"/>
                    <a:ext cx="63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2" y="1"/>
                        </a:lnTo>
                        <a:lnTo>
                          <a:pt x="39" y="1"/>
                        </a:lnTo>
                        <a:lnTo>
                          <a:pt x="35" y="1"/>
                        </a:lnTo>
                        <a:lnTo>
                          <a:pt x="28" y="1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8005680" y="51386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6" y="2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932600" y="5094360"/>
                    <a:ext cx="5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1" y="4"/>
                        </a:moveTo>
                        <a:lnTo>
                          <a:pt x="0" y="3"/>
                        </a:lnTo>
                        <a:lnTo>
                          <a:pt x="1" y="1"/>
                        </a:lnTo>
                        <a:lnTo>
                          <a:pt x="2" y="0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7920000" y="5081400"/>
                    <a:ext cx="4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6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" y="2"/>
                        </a:lnTo>
                        <a:lnTo>
                          <a:pt x="2" y="0"/>
                        </a:lnTo>
                        <a:lnTo>
                          <a:pt x="1" y="3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8067600" y="5129280"/>
                    <a:ext cx="190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">
                        <a:moveTo>
                          <a:pt x="0" y="2"/>
                        </a:moveTo>
                        <a:lnTo>
                          <a:pt x="1" y="3"/>
                        </a:lnTo>
                        <a:lnTo>
                          <a:pt x="2" y="2"/>
                        </a:lnTo>
                        <a:lnTo>
                          <a:pt x="6" y="2"/>
                        </a:lnTo>
                        <a:lnTo>
                          <a:pt x="9" y="2"/>
                        </a:lnTo>
                        <a:lnTo>
                          <a:pt x="11" y="3"/>
                        </a:lnTo>
                        <a:lnTo>
                          <a:pt x="8" y="2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5" y="2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8182080" y="5122800"/>
                  <a:ext cx="326880" cy="147600"/>
                </a:xfrm>
                <a:custGeom>
                  <a:avLst/>
                  <a:gdLst/>
                  <a:ahLst/>
                  <a:rect l="l" t="t" r="r" b="b"/>
                  <a:pathLst>
                    <a:path w="206" h="93">
                      <a:moveTo>
                        <a:pt x="176" y="9"/>
                      </a:moveTo>
                      <a:lnTo>
                        <a:pt x="122" y="14"/>
                      </a:lnTo>
                      <a:lnTo>
                        <a:pt x="81" y="18"/>
                      </a:lnTo>
                      <a:lnTo>
                        <a:pt x="59" y="17"/>
                      </a:lnTo>
                      <a:lnTo>
                        <a:pt x="17" y="16"/>
                      </a:lnTo>
                      <a:lnTo>
                        <a:pt x="5" y="33"/>
                      </a:lnTo>
                      <a:lnTo>
                        <a:pt x="0" y="58"/>
                      </a:lnTo>
                      <a:lnTo>
                        <a:pt x="30" y="63"/>
                      </a:lnTo>
                      <a:lnTo>
                        <a:pt x="86" y="78"/>
                      </a:lnTo>
                      <a:lnTo>
                        <a:pt x="199" y="92"/>
                      </a:lnTo>
                      <a:lnTo>
                        <a:pt x="205" y="0"/>
                      </a:lnTo>
                      <a:lnTo>
                        <a:pt x="176" y="9"/>
                      </a:lnTo>
                    </a:path>
                  </a:pathLst>
                </a:custGeom>
                <a:solidFill>
                  <a:srgbClr val="000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207280" y="5138640"/>
                  <a:ext cx="289080" cy="106560"/>
                </a:xfrm>
                <a:custGeom>
                  <a:avLst/>
                  <a:gdLst/>
                  <a:ahLst/>
                  <a:rect l="l" t="t" r="r" b="b"/>
                  <a:pathLst>
                    <a:path w="182" h="67">
                      <a:moveTo>
                        <a:pt x="160" y="0"/>
                      </a:moveTo>
                      <a:lnTo>
                        <a:pt x="118" y="6"/>
                      </a:lnTo>
                      <a:lnTo>
                        <a:pt x="63" y="11"/>
                      </a:lnTo>
                      <a:lnTo>
                        <a:pt x="28" y="10"/>
                      </a:lnTo>
                      <a:lnTo>
                        <a:pt x="11" y="11"/>
                      </a:lnTo>
                      <a:lnTo>
                        <a:pt x="3" y="21"/>
                      </a:lnTo>
                      <a:lnTo>
                        <a:pt x="0" y="37"/>
                      </a:lnTo>
                      <a:lnTo>
                        <a:pt x="44" y="49"/>
                      </a:lnTo>
                      <a:lnTo>
                        <a:pt x="37" y="39"/>
                      </a:lnTo>
                      <a:lnTo>
                        <a:pt x="31" y="26"/>
                      </a:lnTo>
                      <a:lnTo>
                        <a:pt x="42" y="38"/>
                      </a:lnTo>
                      <a:lnTo>
                        <a:pt x="61" y="52"/>
                      </a:lnTo>
                      <a:lnTo>
                        <a:pt x="106" y="66"/>
                      </a:lnTo>
                      <a:lnTo>
                        <a:pt x="139" y="66"/>
                      </a:lnTo>
                      <a:lnTo>
                        <a:pt x="95" y="53"/>
                      </a:lnTo>
                      <a:lnTo>
                        <a:pt x="67" y="36"/>
                      </a:lnTo>
                      <a:lnTo>
                        <a:pt x="102" y="48"/>
                      </a:lnTo>
                      <a:lnTo>
                        <a:pt x="136" y="58"/>
                      </a:lnTo>
                      <a:lnTo>
                        <a:pt x="181" y="66"/>
                      </a:lnTo>
                      <a:lnTo>
                        <a:pt x="179" y="25"/>
                      </a:lnTo>
                      <a:lnTo>
                        <a:pt x="160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128080" y="4728960"/>
                  <a:ext cx="685800" cy="630360"/>
                </a:xfrm>
                <a:custGeom>
                  <a:avLst/>
                  <a:gdLst/>
                  <a:ahLst/>
                  <a:rect l="l" t="t" r="r" b="b"/>
                  <a:pathLst>
                    <a:path w="432" h="397">
                      <a:moveTo>
                        <a:pt x="390" y="0"/>
                      </a:moveTo>
                      <a:lnTo>
                        <a:pt x="364" y="4"/>
                      </a:lnTo>
                      <a:lnTo>
                        <a:pt x="341" y="19"/>
                      </a:lnTo>
                      <a:lnTo>
                        <a:pt x="329" y="40"/>
                      </a:lnTo>
                      <a:lnTo>
                        <a:pt x="327" y="70"/>
                      </a:lnTo>
                      <a:lnTo>
                        <a:pt x="318" y="112"/>
                      </a:lnTo>
                      <a:lnTo>
                        <a:pt x="305" y="149"/>
                      </a:lnTo>
                      <a:lnTo>
                        <a:pt x="288" y="193"/>
                      </a:lnTo>
                      <a:lnTo>
                        <a:pt x="278" y="227"/>
                      </a:lnTo>
                      <a:lnTo>
                        <a:pt x="264" y="263"/>
                      </a:lnTo>
                      <a:lnTo>
                        <a:pt x="303" y="276"/>
                      </a:lnTo>
                      <a:lnTo>
                        <a:pt x="260" y="271"/>
                      </a:lnTo>
                      <a:lnTo>
                        <a:pt x="249" y="284"/>
                      </a:lnTo>
                      <a:lnTo>
                        <a:pt x="269" y="301"/>
                      </a:lnTo>
                      <a:lnTo>
                        <a:pt x="242" y="291"/>
                      </a:lnTo>
                      <a:lnTo>
                        <a:pt x="211" y="302"/>
                      </a:lnTo>
                      <a:lnTo>
                        <a:pt x="171" y="311"/>
                      </a:lnTo>
                      <a:lnTo>
                        <a:pt x="121" y="324"/>
                      </a:lnTo>
                      <a:lnTo>
                        <a:pt x="83" y="328"/>
                      </a:lnTo>
                      <a:lnTo>
                        <a:pt x="39" y="332"/>
                      </a:lnTo>
                      <a:lnTo>
                        <a:pt x="10" y="330"/>
                      </a:lnTo>
                      <a:lnTo>
                        <a:pt x="5" y="340"/>
                      </a:lnTo>
                      <a:lnTo>
                        <a:pt x="0" y="359"/>
                      </a:lnTo>
                      <a:lnTo>
                        <a:pt x="0" y="372"/>
                      </a:lnTo>
                      <a:lnTo>
                        <a:pt x="30" y="384"/>
                      </a:lnTo>
                      <a:lnTo>
                        <a:pt x="35" y="373"/>
                      </a:lnTo>
                      <a:lnTo>
                        <a:pt x="43" y="384"/>
                      </a:lnTo>
                      <a:lnTo>
                        <a:pt x="87" y="389"/>
                      </a:lnTo>
                      <a:lnTo>
                        <a:pt x="172" y="396"/>
                      </a:lnTo>
                      <a:lnTo>
                        <a:pt x="280" y="376"/>
                      </a:lnTo>
                      <a:lnTo>
                        <a:pt x="303" y="370"/>
                      </a:lnTo>
                      <a:lnTo>
                        <a:pt x="337" y="317"/>
                      </a:lnTo>
                      <a:lnTo>
                        <a:pt x="383" y="224"/>
                      </a:lnTo>
                      <a:lnTo>
                        <a:pt x="416" y="123"/>
                      </a:lnTo>
                      <a:lnTo>
                        <a:pt x="431" y="83"/>
                      </a:lnTo>
                      <a:lnTo>
                        <a:pt x="426" y="42"/>
                      </a:lnTo>
                      <a:lnTo>
                        <a:pt x="410" y="12"/>
                      </a:lnTo>
                      <a:lnTo>
                        <a:pt x="390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470800" y="4707000"/>
                  <a:ext cx="254160" cy="485640"/>
                </a:xfrm>
                <a:custGeom>
                  <a:avLst/>
                  <a:gdLst/>
                  <a:ahLst/>
                  <a:rect l="l" t="t" r="r" b="b"/>
                  <a:pathLst>
                    <a:path w="160" h="306">
                      <a:moveTo>
                        <a:pt x="137" y="0"/>
                      </a:moveTo>
                      <a:lnTo>
                        <a:pt x="159" y="17"/>
                      </a:lnTo>
                      <a:lnTo>
                        <a:pt x="148" y="23"/>
                      </a:lnTo>
                      <a:lnTo>
                        <a:pt x="133" y="43"/>
                      </a:lnTo>
                      <a:lnTo>
                        <a:pt x="111" y="59"/>
                      </a:lnTo>
                      <a:lnTo>
                        <a:pt x="98" y="112"/>
                      </a:lnTo>
                      <a:lnTo>
                        <a:pt x="85" y="143"/>
                      </a:lnTo>
                      <a:lnTo>
                        <a:pt x="68" y="169"/>
                      </a:lnTo>
                      <a:lnTo>
                        <a:pt x="52" y="191"/>
                      </a:lnTo>
                      <a:lnTo>
                        <a:pt x="74" y="173"/>
                      </a:lnTo>
                      <a:lnTo>
                        <a:pt x="89" y="147"/>
                      </a:lnTo>
                      <a:lnTo>
                        <a:pt x="74" y="188"/>
                      </a:lnTo>
                      <a:lnTo>
                        <a:pt x="61" y="224"/>
                      </a:lnTo>
                      <a:lnTo>
                        <a:pt x="50" y="259"/>
                      </a:lnTo>
                      <a:lnTo>
                        <a:pt x="42" y="279"/>
                      </a:lnTo>
                      <a:lnTo>
                        <a:pt x="33" y="289"/>
                      </a:lnTo>
                      <a:lnTo>
                        <a:pt x="24" y="299"/>
                      </a:lnTo>
                      <a:lnTo>
                        <a:pt x="8" y="305"/>
                      </a:lnTo>
                      <a:lnTo>
                        <a:pt x="7" y="286"/>
                      </a:lnTo>
                      <a:lnTo>
                        <a:pt x="5" y="265"/>
                      </a:lnTo>
                      <a:lnTo>
                        <a:pt x="0" y="243"/>
                      </a:lnTo>
                      <a:lnTo>
                        <a:pt x="0" y="221"/>
                      </a:lnTo>
                      <a:lnTo>
                        <a:pt x="8" y="195"/>
                      </a:lnTo>
                      <a:lnTo>
                        <a:pt x="18" y="175"/>
                      </a:lnTo>
                      <a:lnTo>
                        <a:pt x="30" y="162"/>
                      </a:lnTo>
                      <a:lnTo>
                        <a:pt x="48" y="147"/>
                      </a:lnTo>
                      <a:lnTo>
                        <a:pt x="68" y="121"/>
                      </a:lnTo>
                      <a:lnTo>
                        <a:pt x="86" y="90"/>
                      </a:lnTo>
                      <a:lnTo>
                        <a:pt x="70" y="106"/>
                      </a:lnTo>
                      <a:lnTo>
                        <a:pt x="55" y="130"/>
                      </a:lnTo>
                      <a:lnTo>
                        <a:pt x="36" y="152"/>
                      </a:lnTo>
                      <a:lnTo>
                        <a:pt x="54" y="120"/>
                      </a:lnTo>
                      <a:lnTo>
                        <a:pt x="73" y="78"/>
                      </a:lnTo>
                      <a:lnTo>
                        <a:pt x="96" y="32"/>
                      </a:lnTo>
                      <a:lnTo>
                        <a:pt x="108" y="18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889760" y="4676760"/>
                  <a:ext cx="1035000" cy="1258920"/>
                </a:xfrm>
                <a:custGeom>
                  <a:avLst/>
                  <a:gdLst/>
                  <a:ahLst/>
                  <a:rect l="l" t="t" r="r" b="b"/>
                  <a:pathLst>
                    <a:path w="652" h="793">
                      <a:moveTo>
                        <a:pt x="512" y="17"/>
                      </a:moveTo>
                      <a:lnTo>
                        <a:pt x="530" y="35"/>
                      </a:lnTo>
                      <a:lnTo>
                        <a:pt x="550" y="43"/>
                      </a:lnTo>
                      <a:lnTo>
                        <a:pt x="573" y="70"/>
                      </a:lnTo>
                      <a:lnTo>
                        <a:pt x="577" y="88"/>
                      </a:lnTo>
                      <a:lnTo>
                        <a:pt x="578" y="113"/>
                      </a:lnTo>
                      <a:lnTo>
                        <a:pt x="579" y="136"/>
                      </a:lnTo>
                      <a:lnTo>
                        <a:pt x="584" y="170"/>
                      </a:lnTo>
                      <a:lnTo>
                        <a:pt x="591" y="208"/>
                      </a:lnTo>
                      <a:lnTo>
                        <a:pt x="595" y="248"/>
                      </a:lnTo>
                      <a:lnTo>
                        <a:pt x="584" y="206"/>
                      </a:lnTo>
                      <a:lnTo>
                        <a:pt x="580" y="176"/>
                      </a:lnTo>
                      <a:lnTo>
                        <a:pt x="575" y="156"/>
                      </a:lnTo>
                      <a:lnTo>
                        <a:pt x="566" y="191"/>
                      </a:lnTo>
                      <a:lnTo>
                        <a:pt x="554" y="227"/>
                      </a:lnTo>
                      <a:lnTo>
                        <a:pt x="548" y="249"/>
                      </a:lnTo>
                      <a:lnTo>
                        <a:pt x="551" y="286"/>
                      </a:lnTo>
                      <a:lnTo>
                        <a:pt x="552" y="329"/>
                      </a:lnTo>
                      <a:lnTo>
                        <a:pt x="549" y="368"/>
                      </a:lnTo>
                      <a:lnTo>
                        <a:pt x="547" y="325"/>
                      </a:lnTo>
                      <a:lnTo>
                        <a:pt x="545" y="293"/>
                      </a:lnTo>
                      <a:lnTo>
                        <a:pt x="539" y="266"/>
                      </a:lnTo>
                      <a:lnTo>
                        <a:pt x="513" y="331"/>
                      </a:lnTo>
                      <a:lnTo>
                        <a:pt x="491" y="368"/>
                      </a:lnTo>
                      <a:lnTo>
                        <a:pt x="480" y="384"/>
                      </a:lnTo>
                      <a:lnTo>
                        <a:pt x="464" y="411"/>
                      </a:lnTo>
                      <a:lnTo>
                        <a:pt x="410" y="426"/>
                      </a:lnTo>
                      <a:lnTo>
                        <a:pt x="384" y="429"/>
                      </a:lnTo>
                      <a:lnTo>
                        <a:pt x="392" y="443"/>
                      </a:lnTo>
                      <a:lnTo>
                        <a:pt x="409" y="455"/>
                      </a:lnTo>
                      <a:lnTo>
                        <a:pt x="464" y="487"/>
                      </a:lnTo>
                      <a:lnTo>
                        <a:pt x="418" y="470"/>
                      </a:lnTo>
                      <a:lnTo>
                        <a:pt x="389" y="450"/>
                      </a:lnTo>
                      <a:lnTo>
                        <a:pt x="365" y="433"/>
                      </a:lnTo>
                      <a:lnTo>
                        <a:pt x="366" y="472"/>
                      </a:lnTo>
                      <a:lnTo>
                        <a:pt x="376" y="494"/>
                      </a:lnTo>
                      <a:lnTo>
                        <a:pt x="405" y="508"/>
                      </a:lnTo>
                      <a:lnTo>
                        <a:pt x="374" y="507"/>
                      </a:lnTo>
                      <a:lnTo>
                        <a:pt x="373" y="522"/>
                      </a:lnTo>
                      <a:lnTo>
                        <a:pt x="376" y="535"/>
                      </a:lnTo>
                      <a:lnTo>
                        <a:pt x="389" y="545"/>
                      </a:lnTo>
                      <a:lnTo>
                        <a:pt x="436" y="569"/>
                      </a:lnTo>
                      <a:lnTo>
                        <a:pt x="374" y="547"/>
                      </a:lnTo>
                      <a:lnTo>
                        <a:pt x="360" y="545"/>
                      </a:lnTo>
                      <a:lnTo>
                        <a:pt x="348" y="547"/>
                      </a:lnTo>
                      <a:lnTo>
                        <a:pt x="349" y="559"/>
                      </a:lnTo>
                      <a:lnTo>
                        <a:pt x="364" y="571"/>
                      </a:lnTo>
                      <a:lnTo>
                        <a:pt x="399" y="590"/>
                      </a:lnTo>
                      <a:lnTo>
                        <a:pt x="348" y="571"/>
                      </a:lnTo>
                      <a:lnTo>
                        <a:pt x="333" y="554"/>
                      </a:lnTo>
                      <a:lnTo>
                        <a:pt x="319" y="558"/>
                      </a:lnTo>
                      <a:lnTo>
                        <a:pt x="306" y="563"/>
                      </a:lnTo>
                      <a:lnTo>
                        <a:pt x="311" y="576"/>
                      </a:lnTo>
                      <a:lnTo>
                        <a:pt x="322" y="586"/>
                      </a:lnTo>
                      <a:lnTo>
                        <a:pt x="349" y="602"/>
                      </a:lnTo>
                      <a:lnTo>
                        <a:pt x="311" y="589"/>
                      </a:lnTo>
                      <a:lnTo>
                        <a:pt x="290" y="572"/>
                      </a:lnTo>
                      <a:lnTo>
                        <a:pt x="265" y="580"/>
                      </a:lnTo>
                      <a:lnTo>
                        <a:pt x="184" y="608"/>
                      </a:lnTo>
                      <a:lnTo>
                        <a:pt x="115" y="634"/>
                      </a:lnTo>
                      <a:lnTo>
                        <a:pt x="63" y="654"/>
                      </a:lnTo>
                      <a:lnTo>
                        <a:pt x="45" y="683"/>
                      </a:lnTo>
                      <a:lnTo>
                        <a:pt x="24" y="722"/>
                      </a:lnTo>
                      <a:lnTo>
                        <a:pt x="0" y="792"/>
                      </a:lnTo>
                      <a:lnTo>
                        <a:pt x="237" y="792"/>
                      </a:lnTo>
                      <a:lnTo>
                        <a:pt x="255" y="787"/>
                      </a:lnTo>
                      <a:lnTo>
                        <a:pt x="195" y="775"/>
                      </a:lnTo>
                      <a:lnTo>
                        <a:pt x="100" y="739"/>
                      </a:lnTo>
                      <a:lnTo>
                        <a:pt x="211" y="773"/>
                      </a:lnTo>
                      <a:lnTo>
                        <a:pt x="263" y="783"/>
                      </a:lnTo>
                      <a:lnTo>
                        <a:pt x="299" y="775"/>
                      </a:lnTo>
                      <a:lnTo>
                        <a:pt x="243" y="765"/>
                      </a:lnTo>
                      <a:lnTo>
                        <a:pt x="125" y="727"/>
                      </a:lnTo>
                      <a:lnTo>
                        <a:pt x="253" y="761"/>
                      </a:lnTo>
                      <a:lnTo>
                        <a:pt x="308" y="773"/>
                      </a:lnTo>
                      <a:lnTo>
                        <a:pt x="317" y="768"/>
                      </a:lnTo>
                      <a:lnTo>
                        <a:pt x="267" y="750"/>
                      </a:lnTo>
                      <a:lnTo>
                        <a:pt x="180" y="710"/>
                      </a:lnTo>
                      <a:lnTo>
                        <a:pt x="281" y="751"/>
                      </a:lnTo>
                      <a:lnTo>
                        <a:pt x="333" y="766"/>
                      </a:lnTo>
                      <a:lnTo>
                        <a:pt x="557" y="764"/>
                      </a:lnTo>
                      <a:lnTo>
                        <a:pt x="585" y="757"/>
                      </a:lnTo>
                      <a:lnTo>
                        <a:pt x="610" y="748"/>
                      </a:lnTo>
                      <a:lnTo>
                        <a:pt x="636" y="724"/>
                      </a:lnTo>
                      <a:lnTo>
                        <a:pt x="642" y="697"/>
                      </a:lnTo>
                      <a:lnTo>
                        <a:pt x="644" y="674"/>
                      </a:lnTo>
                      <a:lnTo>
                        <a:pt x="638" y="638"/>
                      </a:lnTo>
                      <a:lnTo>
                        <a:pt x="621" y="593"/>
                      </a:lnTo>
                      <a:lnTo>
                        <a:pt x="609" y="556"/>
                      </a:lnTo>
                      <a:lnTo>
                        <a:pt x="604" y="525"/>
                      </a:lnTo>
                      <a:lnTo>
                        <a:pt x="584" y="521"/>
                      </a:lnTo>
                      <a:lnTo>
                        <a:pt x="567" y="544"/>
                      </a:lnTo>
                      <a:lnTo>
                        <a:pt x="519" y="579"/>
                      </a:lnTo>
                      <a:lnTo>
                        <a:pt x="562" y="541"/>
                      </a:lnTo>
                      <a:lnTo>
                        <a:pt x="575" y="518"/>
                      </a:lnTo>
                      <a:lnTo>
                        <a:pt x="570" y="494"/>
                      </a:lnTo>
                      <a:lnTo>
                        <a:pt x="512" y="478"/>
                      </a:lnTo>
                      <a:lnTo>
                        <a:pt x="471" y="454"/>
                      </a:lnTo>
                      <a:lnTo>
                        <a:pt x="520" y="474"/>
                      </a:lnTo>
                      <a:lnTo>
                        <a:pt x="569" y="486"/>
                      </a:lnTo>
                      <a:lnTo>
                        <a:pt x="566" y="452"/>
                      </a:lnTo>
                      <a:lnTo>
                        <a:pt x="545" y="429"/>
                      </a:lnTo>
                      <a:lnTo>
                        <a:pt x="529" y="392"/>
                      </a:lnTo>
                      <a:lnTo>
                        <a:pt x="549" y="426"/>
                      </a:lnTo>
                      <a:lnTo>
                        <a:pt x="573" y="447"/>
                      </a:lnTo>
                      <a:lnTo>
                        <a:pt x="597" y="445"/>
                      </a:lnTo>
                      <a:lnTo>
                        <a:pt x="610" y="383"/>
                      </a:lnTo>
                      <a:lnTo>
                        <a:pt x="628" y="321"/>
                      </a:lnTo>
                      <a:lnTo>
                        <a:pt x="637" y="279"/>
                      </a:lnTo>
                      <a:lnTo>
                        <a:pt x="636" y="242"/>
                      </a:lnTo>
                      <a:lnTo>
                        <a:pt x="630" y="196"/>
                      </a:lnTo>
                      <a:lnTo>
                        <a:pt x="637" y="221"/>
                      </a:lnTo>
                      <a:lnTo>
                        <a:pt x="642" y="248"/>
                      </a:lnTo>
                      <a:lnTo>
                        <a:pt x="643" y="270"/>
                      </a:lnTo>
                      <a:lnTo>
                        <a:pt x="648" y="232"/>
                      </a:lnTo>
                      <a:lnTo>
                        <a:pt x="650" y="201"/>
                      </a:lnTo>
                      <a:lnTo>
                        <a:pt x="650" y="180"/>
                      </a:lnTo>
                      <a:lnTo>
                        <a:pt x="642" y="149"/>
                      </a:lnTo>
                      <a:lnTo>
                        <a:pt x="628" y="121"/>
                      </a:lnTo>
                      <a:lnTo>
                        <a:pt x="609" y="94"/>
                      </a:lnTo>
                      <a:lnTo>
                        <a:pt x="629" y="116"/>
                      </a:lnTo>
                      <a:lnTo>
                        <a:pt x="639" y="136"/>
                      </a:lnTo>
                      <a:lnTo>
                        <a:pt x="651" y="170"/>
                      </a:lnTo>
                      <a:lnTo>
                        <a:pt x="648" y="146"/>
                      </a:lnTo>
                      <a:lnTo>
                        <a:pt x="642" y="113"/>
                      </a:lnTo>
                      <a:lnTo>
                        <a:pt x="625" y="76"/>
                      </a:lnTo>
                      <a:lnTo>
                        <a:pt x="610" y="40"/>
                      </a:lnTo>
                      <a:lnTo>
                        <a:pt x="592" y="21"/>
                      </a:lnTo>
                      <a:lnTo>
                        <a:pt x="566" y="0"/>
                      </a:lnTo>
                      <a:lnTo>
                        <a:pt x="538" y="3"/>
                      </a:lnTo>
                      <a:lnTo>
                        <a:pt x="512" y="17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815320" y="5397480"/>
                  <a:ext cx="39600" cy="98280"/>
                </a:xfrm>
                <a:custGeom>
                  <a:avLst/>
                  <a:gdLst/>
                  <a:ahLst/>
                  <a:rect l="l" t="t" r="r" b="b"/>
                  <a:pathLst>
                    <a:path w="25" h="62">
                      <a:moveTo>
                        <a:pt x="19" y="0"/>
                      </a:moveTo>
                      <a:lnTo>
                        <a:pt x="1" y="3"/>
                      </a:lnTo>
                      <a:lnTo>
                        <a:pt x="0" y="27"/>
                      </a:lnTo>
                      <a:lnTo>
                        <a:pt x="2" y="53"/>
                      </a:lnTo>
                      <a:lnTo>
                        <a:pt x="20" y="61"/>
                      </a:lnTo>
                      <a:lnTo>
                        <a:pt x="24" y="51"/>
                      </a:lnTo>
                      <a:lnTo>
                        <a:pt x="24" y="15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300880" y="5751360"/>
                  <a:ext cx="481320" cy="50760"/>
                </a:xfrm>
                <a:custGeom>
                  <a:avLst/>
                  <a:gdLst/>
                  <a:ahLst/>
                  <a:rect l="l" t="t" r="r" b="b"/>
                  <a:pathLst>
                    <a:path w="303" h="32">
                      <a:moveTo>
                        <a:pt x="0" y="0"/>
                      </a:moveTo>
                      <a:lnTo>
                        <a:pt x="82" y="15"/>
                      </a:lnTo>
                      <a:lnTo>
                        <a:pt x="144" y="22"/>
                      </a:lnTo>
                      <a:lnTo>
                        <a:pt x="208" y="26"/>
                      </a:lnTo>
                      <a:lnTo>
                        <a:pt x="255" y="28"/>
                      </a:lnTo>
                      <a:lnTo>
                        <a:pt x="302" y="26"/>
                      </a:lnTo>
                      <a:lnTo>
                        <a:pt x="258" y="31"/>
                      </a:lnTo>
                      <a:lnTo>
                        <a:pt x="184" y="31"/>
                      </a:lnTo>
                      <a:lnTo>
                        <a:pt x="106" y="23"/>
                      </a:lnTo>
                      <a:lnTo>
                        <a:pt x="65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8450280" y="4191120"/>
                <a:ext cx="431640" cy="604800"/>
              </a:xfrm>
              <a:custGeom>
                <a:avLst/>
                <a:gdLst/>
                <a:ahLst/>
                <a:rect l="l" t="t" r="r" b="b"/>
                <a:pathLst>
                  <a:path w="272" h="381">
                    <a:moveTo>
                      <a:pt x="122" y="149"/>
                    </a:moveTo>
                    <a:lnTo>
                      <a:pt x="131" y="130"/>
                    </a:lnTo>
                    <a:lnTo>
                      <a:pt x="143" y="129"/>
                    </a:lnTo>
                    <a:lnTo>
                      <a:pt x="152" y="132"/>
                    </a:lnTo>
                    <a:lnTo>
                      <a:pt x="157" y="143"/>
                    </a:lnTo>
                    <a:lnTo>
                      <a:pt x="159" y="153"/>
                    </a:lnTo>
                    <a:lnTo>
                      <a:pt x="156" y="177"/>
                    </a:lnTo>
                    <a:lnTo>
                      <a:pt x="151" y="188"/>
                    </a:lnTo>
                    <a:lnTo>
                      <a:pt x="148" y="203"/>
                    </a:lnTo>
                    <a:lnTo>
                      <a:pt x="144" y="220"/>
                    </a:lnTo>
                    <a:lnTo>
                      <a:pt x="135" y="242"/>
                    </a:lnTo>
                    <a:lnTo>
                      <a:pt x="120" y="268"/>
                    </a:lnTo>
                    <a:lnTo>
                      <a:pt x="108" y="295"/>
                    </a:lnTo>
                    <a:lnTo>
                      <a:pt x="94" y="330"/>
                    </a:lnTo>
                    <a:lnTo>
                      <a:pt x="86" y="356"/>
                    </a:lnTo>
                    <a:lnTo>
                      <a:pt x="85" y="380"/>
                    </a:lnTo>
                    <a:lnTo>
                      <a:pt x="119" y="345"/>
                    </a:lnTo>
                    <a:lnTo>
                      <a:pt x="152" y="323"/>
                    </a:lnTo>
                    <a:lnTo>
                      <a:pt x="170" y="312"/>
                    </a:lnTo>
                    <a:lnTo>
                      <a:pt x="193" y="305"/>
                    </a:lnTo>
                    <a:lnTo>
                      <a:pt x="219" y="306"/>
                    </a:lnTo>
                    <a:lnTo>
                      <a:pt x="245" y="321"/>
                    </a:lnTo>
                    <a:lnTo>
                      <a:pt x="268" y="350"/>
                    </a:lnTo>
                    <a:lnTo>
                      <a:pt x="271" y="325"/>
                    </a:lnTo>
                    <a:lnTo>
                      <a:pt x="257" y="298"/>
                    </a:lnTo>
                    <a:lnTo>
                      <a:pt x="240" y="264"/>
                    </a:lnTo>
                    <a:lnTo>
                      <a:pt x="232" y="241"/>
                    </a:lnTo>
                    <a:lnTo>
                      <a:pt x="231" y="216"/>
                    </a:lnTo>
                    <a:lnTo>
                      <a:pt x="235" y="198"/>
                    </a:lnTo>
                    <a:lnTo>
                      <a:pt x="246" y="184"/>
                    </a:lnTo>
                    <a:lnTo>
                      <a:pt x="254" y="161"/>
                    </a:lnTo>
                    <a:lnTo>
                      <a:pt x="255" y="144"/>
                    </a:lnTo>
                    <a:lnTo>
                      <a:pt x="261" y="124"/>
                    </a:lnTo>
                    <a:lnTo>
                      <a:pt x="262" y="100"/>
                    </a:lnTo>
                    <a:lnTo>
                      <a:pt x="257" y="81"/>
                    </a:lnTo>
                    <a:lnTo>
                      <a:pt x="250" y="66"/>
                    </a:lnTo>
                    <a:lnTo>
                      <a:pt x="242" y="44"/>
                    </a:lnTo>
                    <a:lnTo>
                      <a:pt x="225" y="25"/>
                    </a:lnTo>
                    <a:lnTo>
                      <a:pt x="209" y="15"/>
                    </a:lnTo>
                    <a:lnTo>
                      <a:pt x="184" y="7"/>
                    </a:lnTo>
                    <a:lnTo>
                      <a:pt x="156" y="1"/>
                    </a:lnTo>
                    <a:lnTo>
                      <a:pt x="111" y="0"/>
                    </a:lnTo>
                    <a:lnTo>
                      <a:pt x="87" y="3"/>
                    </a:lnTo>
                    <a:lnTo>
                      <a:pt x="63" y="11"/>
                    </a:lnTo>
                    <a:lnTo>
                      <a:pt x="41" y="19"/>
                    </a:lnTo>
                    <a:lnTo>
                      <a:pt x="26" y="31"/>
                    </a:lnTo>
                    <a:lnTo>
                      <a:pt x="9" y="47"/>
                    </a:lnTo>
                    <a:lnTo>
                      <a:pt x="1" y="71"/>
                    </a:lnTo>
                    <a:lnTo>
                      <a:pt x="0" y="92"/>
                    </a:lnTo>
                    <a:lnTo>
                      <a:pt x="7" y="110"/>
                    </a:lnTo>
                    <a:lnTo>
                      <a:pt x="24" y="92"/>
                    </a:lnTo>
                    <a:lnTo>
                      <a:pt x="47" y="83"/>
                    </a:lnTo>
                    <a:lnTo>
                      <a:pt x="78" y="78"/>
                    </a:lnTo>
                    <a:lnTo>
                      <a:pt x="70" y="110"/>
                    </a:lnTo>
                    <a:lnTo>
                      <a:pt x="104" y="99"/>
                    </a:lnTo>
                    <a:lnTo>
                      <a:pt x="94" y="123"/>
                    </a:lnTo>
                    <a:lnTo>
                      <a:pt x="118" y="121"/>
                    </a:lnTo>
                    <a:lnTo>
                      <a:pt x="122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712360" y="5148360"/>
              <a:ext cx="341280" cy="644400"/>
              <a:chOff x="8712360" y="5148360"/>
              <a:chExt cx="341280" cy="644400"/>
            </a:xfrm>
          </p:grpSpPr>
          <p:sp>
            <p:nvSpPr>
              <p:cNvPr id="278" name=""/>
              <p:cNvSpPr/>
              <p:nvPr/>
            </p:nvSpPr>
            <p:spPr>
              <a:xfrm>
                <a:off x="8712360" y="5148360"/>
                <a:ext cx="341280" cy="644400"/>
              </a:xfrm>
              <a:custGeom>
                <a:avLst/>
                <a:gdLst/>
                <a:ahLst/>
                <a:rect l="l" t="t" r="r" b="b"/>
                <a:pathLst>
                  <a:path w="215" h="406">
                    <a:moveTo>
                      <a:pt x="95" y="59"/>
                    </a:moveTo>
                    <a:lnTo>
                      <a:pt x="134" y="55"/>
                    </a:lnTo>
                    <a:lnTo>
                      <a:pt x="158" y="46"/>
                    </a:lnTo>
                    <a:lnTo>
                      <a:pt x="166" y="31"/>
                    </a:lnTo>
                    <a:lnTo>
                      <a:pt x="166" y="17"/>
                    </a:lnTo>
                    <a:lnTo>
                      <a:pt x="172" y="6"/>
                    </a:lnTo>
                    <a:lnTo>
                      <a:pt x="194" y="0"/>
                    </a:lnTo>
                    <a:lnTo>
                      <a:pt x="214" y="2"/>
                    </a:lnTo>
                    <a:lnTo>
                      <a:pt x="189" y="315"/>
                    </a:lnTo>
                    <a:lnTo>
                      <a:pt x="172" y="344"/>
                    </a:lnTo>
                    <a:lnTo>
                      <a:pt x="150" y="373"/>
                    </a:lnTo>
                    <a:lnTo>
                      <a:pt x="119" y="394"/>
                    </a:lnTo>
                    <a:lnTo>
                      <a:pt x="83" y="401"/>
                    </a:lnTo>
                    <a:lnTo>
                      <a:pt x="35" y="405"/>
                    </a:lnTo>
                    <a:lnTo>
                      <a:pt x="6" y="399"/>
                    </a:lnTo>
                    <a:lnTo>
                      <a:pt x="0" y="377"/>
                    </a:lnTo>
                    <a:lnTo>
                      <a:pt x="3" y="349"/>
                    </a:lnTo>
                    <a:lnTo>
                      <a:pt x="24" y="261"/>
                    </a:lnTo>
                    <a:lnTo>
                      <a:pt x="41" y="173"/>
                    </a:lnTo>
                    <a:lnTo>
                      <a:pt x="48" y="107"/>
                    </a:lnTo>
                    <a:lnTo>
                      <a:pt x="48" y="90"/>
                    </a:lnTo>
                    <a:lnTo>
                      <a:pt x="60" y="65"/>
                    </a:lnTo>
                    <a:lnTo>
                      <a:pt x="72" y="59"/>
                    </a:lnTo>
                    <a:lnTo>
                      <a:pt x="95" y="5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766000" y="5180040"/>
                <a:ext cx="279720" cy="577800"/>
              </a:xfrm>
              <a:custGeom>
                <a:avLst/>
                <a:gdLst/>
                <a:ahLst/>
                <a:rect l="l" t="t" r="r" b="b"/>
                <a:pathLst>
                  <a:path w="176" h="364">
                    <a:moveTo>
                      <a:pt x="61" y="72"/>
                    </a:moveTo>
                    <a:lnTo>
                      <a:pt x="94" y="70"/>
                    </a:lnTo>
                    <a:lnTo>
                      <a:pt x="128" y="62"/>
                    </a:lnTo>
                    <a:lnTo>
                      <a:pt x="148" y="47"/>
                    </a:lnTo>
                    <a:lnTo>
                      <a:pt x="161" y="34"/>
                    </a:lnTo>
                    <a:lnTo>
                      <a:pt x="175" y="0"/>
                    </a:lnTo>
                    <a:lnTo>
                      <a:pt x="153" y="280"/>
                    </a:lnTo>
                    <a:lnTo>
                      <a:pt x="138" y="305"/>
                    </a:lnTo>
                    <a:lnTo>
                      <a:pt x="121" y="329"/>
                    </a:lnTo>
                    <a:lnTo>
                      <a:pt x="101" y="346"/>
                    </a:lnTo>
                    <a:lnTo>
                      <a:pt x="83" y="355"/>
                    </a:lnTo>
                    <a:lnTo>
                      <a:pt x="61" y="359"/>
                    </a:lnTo>
                    <a:lnTo>
                      <a:pt x="40" y="363"/>
                    </a:lnTo>
                    <a:lnTo>
                      <a:pt x="16" y="363"/>
                    </a:lnTo>
                    <a:lnTo>
                      <a:pt x="6" y="359"/>
                    </a:lnTo>
                    <a:lnTo>
                      <a:pt x="0" y="346"/>
                    </a:lnTo>
                    <a:lnTo>
                      <a:pt x="3" y="325"/>
                    </a:lnTo>
                    <a:lnTo>
                      <a:pt x="18" y="276"/>
                    </a:lnTo>
                    <a:lnTo>
                      <a:pt x="43" y="109"/>
                    </a:lnTo>
                    <a:lnTo>
                      <a:pt x="48" y="85"/>
                    </a:lnTo>
                    <a:lnTo>
                      <a:pt x="61" y="72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Tudás/szakértelmi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menetek: terv specifikáci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dolgozás: modelle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imenet: tervek, grafiká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használók: technikai személyz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Példa: mérnöki tervező munkaállomá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914040" y="75708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udásalapú rendszerek </a:t>
            </a:r>
            <a:br>
              <a:rPr sz="30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367-8C0B-4AD0-A5AB-D7030EC77C16}" type="slidenum">
              <a:t>14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Irodaautomatizálási rendszerek</a:t>
            </a:r>
            <a:br>
              <a:rPr sz="30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376440" y="4797360"/>
          <a:ext cx="22766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6440" y="4797360"/>
                    <a:ext cx="22766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Elmozdulás a “papírmentes” iroda felé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munkafolyamatok újratervez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Integrált szoftv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Ergonomikus terve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Világos, kellemes munkakörnyez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Példa: prezentációs grafiká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865-7682-4913-B3C7-4B14E37A8FB0}" type="slidenum">
              <a:t>15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17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Vezetői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menet: nagymennyiségű ad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dolgozás: egyszerű modell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imenet: összefoglaló jelentés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használók: középvezetés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Példa: éves költségvetés tervez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Arial"/>
              </a:rPr>
              <a:t>Vezetői információrendszere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095-93DB-4436-8150-F1E0A7D2A6B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57200" y="1814400"/>
            <a:ext cx="8379000" cy="5043600"/>
            <a:chOff x="457200" y="1814400"/>
            <a:chExt cx="8379000" cy="5043600"/>
          </a:xfrm>
        </p:grpSpPr>
        <p:sp>
          <p:nvSpPr>
            <p:cNvPr id="289" name=""/>
            <p:cNvSpPr/>
            <p:nvPr/>
          </p:nvSpPr>
          <p:spPr>
            <a:xfrm>
              <a:off x="531720" y="1814400"/>
              <a:ext cx="3264120" cy="4025880"/>
            </a:xfrm>
            <a:custGeom>
              <a:avLst/>
              <a:gdLst>
                <a:gd name="textAreaLeft" fmla="*/ 119160 w 3264120"/>
                <a:gd name="textAreaRight" fmla="*/ 3144960 w 3264120"/>
                <a:gd name="textAreaTop" fmla="*/ 119160 h 4025880"/>
                <a:gd name="textAreaBottom" fmla="*/ 3906720 h 4025880"/>
              </a:gdLst>
              <a:ahLst/>
              <a:rect l="textAreaLeft" t="textAreaTop" r="textAreaRight" b="textAreaBottom"/>
              <a:pathLst>
                <a:path w="21600" h="26640">
                  <a:moveTo>
                    <a:pt x="2699" y="0"/>
                  </a:moveTo>
                  <a:arcTo wR="2699" hR="2699" stAng="16200000" swAng="-5400000"/>
                  <a:lnTo>
                    <a:pt x="0" y="23941"/>
                  </a:lnTo>
                  <a:arcTo wR="2699" hR="2699" stAng="10800000" swAng="-5400000"/>
                  <a:lnTo>
                    <a:pt x="18901" y="2664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988920" y="2430360"/>
              <a:ext cx="380880" cy="596880"/>
              <a:chOff x="988920" y="2430360"/>
              <a:chExt cx="380880" cy="596880"/>
            </a:xfrm>
          </p:grpSpPr>
          <p:sp>
            <p:nvSpPr>
              <p:cNvPr id="291" name=""/>
              <p:cNvSpPr/>
              <p:nvPr/>
            </p:nvSpPr>
            <p:spPr>
              <a:xfrm>
                <a:off x="995040" y="2887560"/>
                <a:ext cx="368280" cy="139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88920" y="2500200"/>
                <a:ext cx="380880" cy="4572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995040" y="2430360"/>
                <a:ext cx="368280" cy="13968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988920" y="2506320"/>
                <a:ext cx="0" cy="44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69800" y="2506320"/>
                <a:ext cx="0" cy="444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995400" y="395460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88920" y="3567240"/>
              <a:ext cx="38124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5400" y="349740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920" y="357336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70160" y="357336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5400" y="50212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88920" y="4633920"/>
              <a:ext cx="38124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5400" y="45640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88920" y="46404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70160" y="46404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81200" y="2430360"/>
              <a:ext cx="1816200" cy="673200"/>
            </a:xfrm>
            <a:prstGeom prst="rect">
              <a:avLst/>
            </a:prstGeom>
            <a:solidFill>
              <a:srgbClr val="ef91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81200" y="3497400"/>
              <a:ext cx="1816200" cy="672840"/>
            </a:xfrm>
            <a:prstGeom prst="rect">
              <a:avLst/>
            </a:prstGeom>
            <a:solidFill>
              <a:srgbClr val="ef91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81200" y="4564080"/>
              <a:ext cx="1816200" cy="673200"/>
            </a:xfrm>
            <a:prstGeom prst="rect">
              <a:avLst/>
            </a:prstGeom>
            <a:solidFill>
              <a:srgbClr val="ef91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19480" y="1820880"/>
              <a:ext cx="4635720" cy="40258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eaec5e"/>
                </a:gs>
                <a:gs pos="100000">
                  <a:srgbClr val="45461b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8080" y="2201760"/>
              <a:ext cx="1816200" cy="3264120"/>
            </a:xfrm>
            <a:prstGeom prst="rect">
              <a:avLst/>
            </a:prstGeom>
            <a:solidFill>
              <a:srgbClr val="ef91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00720" y="27352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94240" y="2347920"/>
              <a:ext cx="38088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0720" y="22780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94240" y="23544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75120" y="23544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0720" y="357336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4240" y="3186000"/>
              <a:ext cx="38088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720" y="311616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94240" y="319248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5120" y="319248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00720" y="441180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4240" y="4024440"/>
              <a:ext cx="38088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00720" y="395460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4240" y="403056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5120" y="4030560"/>
              <a:ext cx="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00720" y="52498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94240" y="4862520"/>
              <a:ext cx="380880" cy="4572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00720" y="4792680"/>
              <a:ext cx="368280" cy="139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94240" y="48690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4869000"/>
              <a:ext cx="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72200" y="1968480"/>
              <a:ext cx="68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5606"/>
                  </a:solidFill>
                  <a:latin typeface="Arial"/>
                </a:rPr>
                <a:t>M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19720" y="5473800"/>
              <a:ext cx="113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5606"/>
                  </a:solidFill>
                  <a:latin typeface="Arial"/>
                </a:rPr>
                <a:t>MIS </a:t>
              </a:r>
              <a:r>
                <a:rPr b="1" lang="hu-HU" sz="1400" spc="-1" strike="noStrike">
                  <a:solidFill>
                    <a:srgbClr val="115606"/>
                  </a:solidFill>
                  <a:latin typeface="Arial"/>
                </a:rPr>
                <a:t>adat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105520" y="2349360"/>
              <a:ext cx="1216080" cy="2953440"/>
              <a:chOff x="5105520" y="2349360"/>
              <a:chExt cx="1216080" cy="2953440"/>
            </a:xfrm>
          </p:grpSpPr>
          <p:sp>
            <p:nvSpPr>
              <p:cNvPr id="334" name=""/>
              <p:cNvSpPr/>
              <p:nvPr/>
            </p:nvSpPr>
            <p:spPr>
              <a:xfrm>
                <a:off x="5105520" y="2349360"/>
                <a:ext cx="8352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Eladási adato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05520" y="3111120"/>
                <a:ext cx="113976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ermelés egység-költség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05520" y="3949560"/>
                <a:ext cx="106380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Termék-változási adato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5520" y="4787640"/>
                <a:ext cx="121608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Kiadási adato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6405480" y="3497400"/>
              <a:ext cx="825480" cy="5205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1640" y="3567240"/>
              <a:ext cx="758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6040" y="3490920"/>
              <a:ext cx="990720" cy="685800"/>
            </a:xfrm>
            <a:prstGeom prst="rect">
              <a:avLst/>
            </a:prstGeom>
            <a:solidFill>
              <a:srgbClr val="f1b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66040" y="4024440"/>
              <a:ext cx="533520" cy="228600"/>
            </a:xfrm>
            <a:prstGeom prst="ellipse">
              <a:avLst/>
            </a:prstGeom>
            <a:solidFill>
              <a:srgbClr val="f1b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3240" y="4100400"/>
              <a:ext cx="533520" cy="228600"/>
            </a:xfrm>
            <a:prstGeom prst="ellipse">
              <a:avLst/>
            </a:prstGeom>
            <a:solidFill>
              <a:srgbClr val="f1b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18320" y="3643200"/>
              <a:ext cx="990720" cy="685800"/>
            </a:xfrm>
            <a:prstGeom prst="rect">
              <a:avLst/>
            </a:prstGeom>
            <a:solidFill>
              <a:srgbClr val="115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18320" y="4176720"/>
              <a:ext cx="533520" cy="228600"/>
            </a:xfrm>
            <a:prstGeom prst="ellipse">
              <a:avLst/>
            </a:prstGeom>
            <a:solidFill>
              <a:srgbClr val="115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75520" y="4253040"/>
              <a:ext cx="533520" cy="228600"/>
            </a:xfrm>
            <a:prstGeom prst="ellipse">
              <a:avLst/>
            </a:prstGeom>
            <a:solidFill>
              <a:srgbClr val="d9cc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20120" y="3733920"/>
              <a:ext cx="987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ffffff"/>
                  </a:solidFill>
                  <a:latin typeface="Arial"/>
                </a:rPr>
                <a:t>Jelentések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4788000"/>
              <a:ext cx="1444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115606"/>
                  </a:solidFill>
                  <a:latin typeface="Arial"/>
                </a:rPr>
                <a:t>Vezető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16480" y="2728800"/>
              <a:ext cx="96516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16480" y="3567240"/>
              <a:ext cx="96516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16480" y="4100400"/>
              <a:ext cx="96516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685800" y="1968480"/>
              <a:ext cx="3044880" cy="3731040"/>
              <a:chOff x="685800" y="1968480"/>
              <a:chExt cx="3044880" cy="3731040"/>
            </a:xfrm>
          </p:grpSpPr>
          <p:sp>
            <p:nvSpPr>
              <p:cNvPr id="352" name=""/>
              <p:cNvSpPr/>
              <p:nvPr/>
            </p:nvSpPr>
            <p:spPr>
              <a:xfrm>
                <a:off x="1752840" y="1968480"/>
                <a:ext cx="6825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15606"/>
                    </a:solidFill>
                    <a:latin typeface="Arial"/>
                  </a:rPr>
                  <a:t>TP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685800" y="2425680"/>
                <a:ext cx="3044880" cy="3273840"/>
                <a:chOff x="685800" y="2425680"/>
                <a:chExt cx="3044880" cy="3273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685800" y="2425680"/>
                  <a:ext cx="3044880" cy="3273840"/>
                  <a:chOff x="685800" y="2425680"/>
                  <a:chExt cx="3044880" cy="3273840"/>
                </a:xfrm>
              </p:grpSpPr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1676520" y="2425680"/>
                    <a:ext cx="1825560" cy="2725200"/>
                    <a:chOff x="1676520" y="2425680"/>
                    <a:chExt cx="1825560" cy="272520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1676520" y="2425680"/>
                      <a:ext cx="1825560" cy="72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delés feldolgozási rends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1676520" y="3492720"/>
                      <a:ext cx="1825560" cy="51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yersanyagellátás tervezési rends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1752840" y="4635720"/>
                      <a:ext cx="1673280" cy="515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4280" bIns="4428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őkönyvi rendsz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9" name=""/>
                  <p:cNvSpPr/>
                  <p:nvPr/>
                </p:nvSpPr>
                <p:spPr>
                  <a:xfrm>
                    <a:off x="685800" y="3187800"/>
                    <a:ext cx="2054520" cy="30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115606"/>
                        </a:solidFill>
                        <a:latin typeface="Arial"/>
                      </a:rPr>
                      <a:t>Megrendelési adat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85800" y="4254480"/>
                    <a:ext cx="3044880" cy="30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115606"/>
                        </a:solidFill>
                        <a:latin typeface="Arial"/>
                      </a:rPr>
                      <a:t>Termelési adat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85800" y="5397480"/>
                    <a:ext cx="2130480" cy="30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400" spc="-1" strike="noStrike">
                        <a:solidFill>
                          <a:srgbClr val="115606"/>
                        </a:solidFill>
                        <a:latin typeface="Arial"/>
                      </a:rPr>
                      <a:t>Számviteli adatok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" name=""/>
                <p:cNvSpPr/>
                <p:nvPr/>
              </p:nvSpPr>
              <p:spPr>
                <a:xfrm>
                  <a:off x="1376640" y="2729160"/>
                  <a:ext cx="291960" cy="0"/>
                </a:xfrm>
                <a:prstGeom prst="line">
                  <a:avLst/>
                </a:prstGeom>
                <a:ln w="12600">
                  <a:solidFill>
                    <a:srgbClr val="11560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376640" y="3795840"/>
                  <a:ext cx="291960" cy="0"/>
                </a:xfrm>
                <a:prstGeom prst="line">
                  <a:avLst/>
                </a:prstGeom>
                <a:ln w="12600">
                  <a:solidFill>
                    <a:srgbClr val="11560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376640" y="4862520"/>
                  <a:ext cx="291960" cy="0"/>
                </a:xfrm>
                <a:prstGeom prst="line">
                  <a:avLst/>
                </a:prstGeom>
                <a:ln w="12600">
                  <a:solidFill>
                    <a:srgbClr val="115606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3516480" y="5014800"/>
              <a:ext cx="96516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83360" y="3719520"/>
              <a:ext cx="20304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50040" y="3719520"/>
              <a:ext cx="355680" cy="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5520" y="4417920"/>
              <a:ext cx="0" cy="355680"/>
            </a:xfrm>
            <a:prstGeom prst="line">
              <a:avLst/>
            </a:prstGeom>
            <a:ln w="25560">
              <a:solidFill>
                <a:srgbClr val="1156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" y="6464160"/>
              <a:ext cx="144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60f"/>
                </a:solidFill>
                <a:latin typeface="Arial"/>
              </a:rPr>
              <a:t>Tranzakciós adatok a vezetői információrendszerek számá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67B-4C86-4298-8D74-AC6E93A8F2E4}" type="slidenum">
              <a:t>17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7467840" y="1981080"/>
            <a:ext cx="1198440" cy="2257200"/>
            <a:chOff x="7467840" y="1981080"/>
            <a:chExt cx="1198440" cy="2257200"/>
          </a:xfrm>
        </p:grpSpPr>
        <p:grpSp>
          <p:nvGrpSpPr>
            <p:cNvPr id="372" name=""/>
            <p:cNvGrpSpPr/>
            <p:nvPr/>
          </p:nvGrpSpPr>
          <p:grpSpPr>
            <a:xfrm>
              <a:off x="7539120" y="1981080"/>
              <a:ext cx="1127160" cy="579240"/>
              <a:chOff x="7539120" y="1981080"/>
              <a:chExt cx="1127160" cy="579240"/>
            </a:xfrm>
          </p:grpSpPr>
          <p:sp>
            <p:nvSpPr>
              <p:cNvPr id="373" name=""/>
              <p:cNvSpPr/>
              <p:nvPr/>
            </p:nvSpPr>
            <p:spPr>
              <a:xfrm flipH="1">
                <a:off x="7538760" y="1981080"/>
                <a:ext cx="1127160" cy="579240"/>
              </a:xfrm>
              <a:prstGeom prst="rect">
                <a:avLst/>
              </a:prstGeom>
              <a:gradFill rotWithShape="0">
                <a:gsLst>
                  <a:gs pos="0">
                    <a:srgbClr val="004675"/>
                  </a:gs>
                  <a:gs pos="50000">
                    <a:srgbClr val="0099ff"/>
                  </a:gs>
                  <a:gs pos="100000">
                    <a:srgbClr val="004675"/>
                  </a:gs>
                </a:gsLst>
                <a:lin ang="13500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581600" y="2019240"/>
                <a:ext cx="1047960" cy="501480"/>
              </a:xfrm>
              <a:custGeom>
                <a:avLst/>
                <a:gdLst/>
                <a:ahLst/>
                <a:rect l="l" t="t" r="r" b="b"/>
                <a:pathLst>
                  <a:path w="1978" h="947">
                    <a:moveTo>
                      <a:pt x="0" y="947"/>
                    </a:moveTo>
                    <a:lnTo>
                      <a:pt x="293" y="623"/>
                    </a:lnTo>
                    <a:lnTo>
                      <a:pt x="586" y="735"/>
                    </a:lnTo>
                    <a:lnTo>
                      <a:pt x="1065" y="373"/>
                    </a:lnTo>
                    <a:lnTo>
                      <a:pt x="1576" y="298"/>
                    </a:lnTo>
                    <a:lnTo>
                      <a:pt x="1978" y="0"/>
                    </a:lnTo>
                  </a:path>
                </a:pathLst>
              </a:custGeom>
              <a:gradFill rotWithShape="0">
                <a:gsLst>
                  <a:gs pos="0">
                    <a:srgbClr val="004675"/>
                  </a:gs>
                  <a:gs pos="50000">
                    <a:srgbClr val="0099ff"/>
                  </a:gs>
                  <a:gs pos="100000">
                    <a:srgbClr val="004675"/>
                  </a:gs>
                </a:gsLst>
                <a:lin ang="13500000"/>
              </a:gradFill>
              <a:ln w="22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7518600" y="4055760"/>
              <a:ext cx="606600" cy="182520"/>
              <a:chOff x="7518600" y="4055760"/>
              <a:chExt cx="606600" cy="18252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7518600" y="4055760"/>
                <a:ext cx="265320" cy="177840"/>
                <a:chOff x="7518600" y="4055760"/>
                <a:chExt cx="265320" cy="17784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7518240" y="4055760"/>
                  <a:ext cx="265320" cy="177840"/>
                </a:xfrm>
                <a:custGeom>
                  <a:avLst/>
                  <a:gdLst/>
                  <a:ahLst/>
                  <a:rect l="l" t="t" r="r" b="b"/>
                  <a:pathLst>
                    <a:path w="500" h="336">
                      <a:moveTo>
                        <a:pt x="209" y="52"/>
                      </a:moveTo>
                      <a:lnTo>
                        <a:pt x="229" y="92"/>
                      </a:lnTo>
                      <a:lnTo>
                        <a:pt x="354" y="196"/>
                      </a:lnTo>
                      <a:lnTo>
                        <a:pt x="494" y="263"/>
                      </a:lnTo>
                      <a:lnTo>
                        <a:pt x="500" y="309"/>
                      </a:lnTo>
                      <a:lnTo>
                        <a:pt x="406" y="336"/>
                      </a:lnTo>
                      <a:lnTo>
                        <a:pt x="283" y="328"/>
                      </a:lnTo>
                      <a:lnTo>
                        <a:pt x="193" y="305"/>
                      </a:lnTo>
                      <a:lnTo>
                        <a:pt x="137" y="261"/>
                      </a:lnTo>
                      <a:lnTo>
                        <a:pt x="114" y="271"/>
                      </a:lnTo>
                      <a:lnTo>
                        <a:pt x="9" y="253"/>
                      </a:lnTo>
                      <a:lnTo>
                        <a:pt x="0" y="223"/>
                      </a:lnTo>
                      <a:lnTo>
                        <a:pt x="0" y="160"/>
                      </a:lnTo>
                      <a:lnTo>
                        <a:pt x="14" y="120"/>
                      </a:lnTo>
                      <a:lnTo>
                        <a:pt x="37" y="0"/>
                      </a:lnTo>
                      <a:lnTo>
                        <a:pt x="209" y="5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7607160" y="4120920"/>
                  <a:ext cx="98280" cy="55440"/>
                </a:xfrm>
                <a:custGeom>
                  <a:avLst/>
                  <a:gdLst/>
                  <a:ahLst/>
                  <a:rect l="l" t="t" r="r" b="b"/>
                  <a:pathLst>
                    <a:path w="184" h="105">
                      <a:moveTo>
                        <a:pt x="103" y="0"/>
                      </a:moveTo>
                      <a:lnTo>
                        <a:pt x="19" y="19"/>
                      </a:lnTo>
                      <a:lnTo>
                        <a:pt x="0" y="39"/>
                      </a:lnTo>
                      <a:lnTo>
                        <a:pt x="50" y="75"/>
                      </a:lnTo>
                      <a:lnTo>
                        <a:pt x="87" y="105"/>
                      </a:lnTo>
                      <a:lnTo>
                        <a:pt x="184" y="78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7530840" y="4165560"/>
                  <a:ext cx="125640" cy="34920"/>
                </a:xfrm>
                <a:custGeom>
                  <a:avLst/>
                  <a:gdLst/>
                  <a:ahLst/>
                  <a:rect l="l" t="t" r="r" b="b"/>
                  <a:pathLst>
                    <a:path w="237" h="66">
                      <a:moveTo>
                        <a:pt x="0" y="31"/>
                      </a:moveTo>
                      <a:lnTo>
                        <a:pt x="80" y="55"/>
                      </a:lnTo>
                      <a:lnTo>
                        <a:pt x="144" y="66"/>
                      </a:lnTo>
                      <a:lnTo>
                        <a:pt x="212" y="62"/>
                      </a:lnTo>
                      <a:lnTo>
                        <a:pt x="237" y="58"/>
                      </a:lnTo>
                      <a:lnTo>
                        <a:pt x="108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7523280" y="4125600"/>
                  <a:ext cx="255600" cy="100080"/>
                </a:xfrm>
                <a:custGeom>
                  <a:avLst/>
                  <a:gdLst/>
                  <a:ahLst/>
                  <a:rect l="l" t="t" r="r" b="b"/>
                  <a:pathLst>
                    <a:path w="483" h="190">
                      <a:moveTo>
                        <a:pt x="13" y="0"/>
                      </a:moveTo>
                      <a:lnTo>
                        <a:pt x="50" y="23"/>
                      </a:lnTo>
                      <a:lnTo>
                        <a:pt x="126" y="40"/>
                      </a:lnTo>
                      <a:lnTo>
                        <a:pt x="169" y="63"/>
                      </a:lnTo>
                      <a:lnTo>
                        <a:pt x="202" y="99"/>
                      </a:lnTo>
                      <a:lnTo>
                        <a:pt x="250" y="126"/>
                      </a:lnTo>
                      <a:lnTo>
                        <a:pt x="318" y="143"/>
                      </a:lnTo>
                      <a:lnTo>
                        <a:pt x="381" y="150"/>
                      </a:lnTo>
                      <a:lnTo>
                        <a:pt x="435" y="149"/>
                      </a:lnTo>
                      <a:lnTo>
                        <a:pt x="483" y="145"/>
                      </a:lnTo>
                      <a:lnTo>
                        <a:pt x="479" y="165"/>
                      </a:lnTo>
                      <a:lnTo>
                        <a:pt x="405" y="189"/>
                      </a:lnTo>
                      <a:lnTo>
                        <a:pt x="334" y="190"/>
                      </a:lnTo>
                      <a:lnTo>
                        <a:pt x="241" y="181"/>
                      </a:lnTo>
                      <a:lnTo>
                        <a:pt x="181" y="161"/>
                      </a:lnTo>
                      <a:lnTo>
                        <a:pt x="141" y="118"/>
                      </a:lnTo>
                      <a:lnTo>
                        <a:pt x="110" y="111"/>
                      </a:lnTo>
                      <a:lnTo>
                        <a:pt x="52" y="107"/>
                      </a:lnTo>
                      <a:lnTo>
                        <a:pt x="0" y="90"/>
                      </a:lnTo>
                      <a:lnTo>
                        <a:pt x="0" y="4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7874280" y="4076640"/>
                <a:ext cx="250920" cy="161640"/>
                <a:chOff x="7874280" y="4076640"/>
                <a:chExt cx="250920" cy="161640"/>
              </a:xfrm>
            </p:grpSpPr>
            <p:sp>
              <p:nvSpPr>
                <p:cNvPr id="382" name=""/>
                <p:cNvSpPr/>
                <p:nvPr/>
              </p:nvSpPr>
              <p:spPr>
                <a:xfrm flipH="1">
                  <a:off x="7873920" y="4076640"/>
                  <a:ext cx="250920" cy="161640"/>
                </a:xfrm>
                <a:custGeom>
                  <a:avLst/>
                  <a:gdLst/>
                  <a:ahLst/>
                  <a:rect l="l" t="t" r="r" b="b"/>
                  <a:pathLst>
                    <a:path w="474" h="305">
                      <a:moveTo>
                        <a:pt x="230" y="16"/>
                      </a:moveTo>
                      <a:lnTo>
                        <a:pt x="167" y="92"/>
                      </a:lnTo>
                      <a:lnTo>
                        <a:pt x="129" y="143"/>
                      </a:lnTo>
                      <a:lnTo>
                        <a:pt x="56" y="176"/>
                      </a:lnTo>
                      <a:lnTo>
                        <a:pt x="0" y="229"/>
                      </a:lnTo>
                      <a:lnTo>
                        <a:pt x="4" y="277"/>
                      </a:lnTo>
                      <a:lnTo>
                        <a:pt x="44" y="297"/>
                      </a:lnTo>
                      <a:lnTo>
                        <a:pt x="88" y="305"/>
                      </a:lnTo>
                      <a:lnTo>
                        <a:pt x="177" y="301"/>
                      </a:lnTo>
                      <a:lnTo>
                        <a:pt x="238" y="285"/>
                      </a:lnTo>
                      <a:lnTo>
                        <a:pt x="294" y="253"/>
                      </a:lnTo>
                      <a:lnTo>
                        <a:pt x="338" y="211"/>
                      </a:lnTo>
                      <a:lnTo>
                        <a:pt x="375" y="217"/>
                      </a:lnTo>
                      <a:lnTo>
                        <a:pt x="462" y="189"/>
                      </a:lnTo>
                      <a:lnTo>
                        <a:pt x="474" y="151"/>
                      </a:lnTo>
                      <a:lnTo>
                        <a:pt x="468" y="88"/>
                      </a:lnTo>
                      <a:lnTo>
                        <a:pt x="433" y="0"/>
                      </a:lnTo>
                      <a:lnTo>
                        <a:pt x="230" y="16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7981920" y="4159080"/>
                  <a:ext cx="136440" cy="46080"/>
                </a:xfrm>
                <a:custGeom>
                  <a:avLst/>
                  <a:gdLst/>
                  <a:ahLst/>
                  <a:rect l="l" t="t" r="r" b="b"/>
                  <a:pathLst>
                    <a:path w="257" h="86">
                      <a:moveTo>
                        <a:pt x="114" y="0"/>
                      </a:moveTo>
                      <a:lnTo>
                        <a:pt x="56" y="30"/>
                      </a:lnTo>
                      <a:lnTo>
                        <a:pt x="0" y="69"/>
                      </a:lnTo>
                      <a:lnTo>
                        <a:pt x="27" y="78"/>
                      </a:lnTo>
                      <a:lnTo>
                        <a:pt x="89" y="86"/>
                      </a:lnTo>
                      <a:lnTo>
                        <a:pt x="169" y="78"/>
                      </a:lnTo>
                      <a:lnTo>
                        <a:pt x="236" y="39"/>
                      </a:lnTo>
                      <a:lnTo>
                        <a:pt x="257" y="16"/>
                      </a:lnTo>
                      <a:lnTo>
                        <a:pt x="181" y="7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7956360" y="4113000"/>
                  <a:ext cx="88920" cy="47520"/>
                </a:xfrm>
                <a:custGeom>
                  <a:avLst/>
                  <a:gdLst/>
                  <a:ahLst/>
                  <a:rect l="l" t="t" r="r" b="b"/>
                  <a:pathLst>
                    <a:path w="170" h="90">
                      <a:moveTo>
                        <a:pt x="50" y="0"/>
                      </a:moveTo>
                      <a:lnTo>
                        <a:pt x="12" y="54"/>
                      </a:lnTo>
                      <a:lnTo>
                        <a:pt x="0" y="76"/>
                      </a:lnTo>
                      <a:lnTo>
                        <a:pt x="53" y="78"/>
                      </a:lnTo>
                      <a:lnTo>
                        <a:pt x="133" y="90"/>
                      </a:lnTo>
                      <a:lnTo>
                        <a:pt x="164" y="50"/>
                      </a:lnTo>
                      <a:lnTo>
                        <a:pt x="170" y="20"/>
                      </a:lnTo>
                      <a:lnTo>
                        <a:pt x="121" y="23"/>
                      </a:lnTo>
                      <a:lnTo>
                        <a:pt x="70" y="23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7881840" y="4120920"/>
                  <a:ext cx="237960" cy="108000"/>
                </a:xfrm>
                <a:custGeom>
                  <a:avLst/>
                  <a:gdLst/>
                  <a:ahLst/>
                  <a:rect l="l" t="t" r="r" b="b"/>
                  <a:pathLst>
                    <a:path w="452" h="206">
                      <a:moveTo>
                        <a:pt x="443" y="0"/>
                      </a:moveTo>
                      <a:lnTo>
                        <a:pt x="403" y="25"/>
                      </a:lnTo>
                      <a:lnTo>
                        <a:pt x="330" y="44"/>
                      </a:lnTo>
                      <a:lnTo>
                        <a:pt x="306" y="49"/>
                      </a:lnTo>
                      <a:lnTo>
                        <a:pt x="275" y="99"/>
                      </a:lnTo>
                      <a:lnTo>
                        <a:pt x="230" y="140"/>
                      </a:lnTo>
                      <a:lnTo>
                        <a:pt x="190" y="158"/>
                      </a:lnTo>
                      <a:lnTo>
                        <a:pt x="122" y="170"/>
                      </a:lnTo>
                      <a:lnTo>
                        <a:pt x="77" y="171"/>
                      </a:lnTo>
                      <a:lnTo>
                        <a:pt x="21" y="163"/>
                      </a:lnTo>
                      <a:lnTo>
                        <a:pt x="0" y="158"/>
                      </a:lnTo>
                      <a:lnTo>
                        <a:pt x="5" y="183"/>
                      </a:lnTo>
                      <a:lnTo>
                        <a:pt x="44" y="202"/>
                      </a:lnTo>
                      <a:lnTo>
                        <a:pt x="97" y="206"/>
                      </a:lnTo>
                      <a:lnTo>
                        <a:pt x="179" y="198"/>
                      </a:lnTo>
                      <a:lnTo>
                        <a:pt x="250" y="174"/>
                      </a:lnTo>
                      <a:lnTo>
                        <a:pt x="294" y="139"/>
                      </a:lnTo>
                      <a:lnTo>
                        <a:pt x="326" y="115"/>
                      </a:lnTo>
                      <a:lnTo>
                        <a:pt x="369" y="104"/>
                      </a:lnTo>
                      <a:lnTo>
                        <a:pt x="415" y="92"/>
                      </a:lnTo>
                      <a:lnTo>
                        <a:pt x="451" y="76"/>
                      </a:lnTo>
                      <a:lnTo>
                        <a:pt x="452" y="41"/>
                      </a:lnTo>
                      <a:lnTo>
                        <a:pt x="443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7467840" y="2396880"/>
              <a:ext cx="923760" cy="1722600"/>
              <a:chOff x="7467840" y="2396880"/>
              <a:chExt cx="923760" cy="1722600"/>
            </a:xfrm>
          </p:grpSpPr>
          <p:sp>
            <p:nvSpPr>
              <p:cNvPr id="387" name=""/>
              <p:cNvSpPr/>
              <p:nvPr/>
            </p:nvSpPr>
            <p:spPr>
              <a:xfrm flipH="1">
                <a:off x="7467840" y="2396880"/>
                <a:ext cx="923760" cy="1722600"/>
              </a:xfrm>
              <a:custGeom>
                <a:avLst/>
                <a:gdLst/>
                <a:ahLst/>
                <a:rect l="l" t="t" r="r" b="b"/>
                <a:pathLst>
                  <a:path w="1747" h="3256">
                    <a:moveTo>
                      <a:pt x="4" y="361"/>
                    </a:moveTo>
                    <a:lnTo>
                      <a:pt x="21" y="330"/>
                    </a:lnTo>
                    <a:lnTo>
                      <a:pt x="160" y="281"/>
                    </a:lnTo>
                    <a:lnTo>
                      <a:pt x="186" y="282"/>
                    </a:lnTo>
                    <a:lnTo>
                      <a:pt x="204" y="302"/>
                    </a:lnTo>
                    <a:lnTo>
                      <a:pt x="266" y="484"/>
                    </a:lnTo>
                    <a:lnTo>
                      <a:pt x="302" y="544"/>
                    </a:lnTo>
                    <a:lnTo>
                      <a:pt x="342" y="524"/>
                    </a:lnTo>
                    <a:lnTo>
                      <a:pt x="473" y="359"/>
                    </a:lnTo>
                    <a:lnTo>
                      <a:pt x="513" y="279"/>
                    </a:lnTo>
                    <a:lnTo>
                      <a:pt x="557" y="208"/>
                    </a:lnTo>
                    <a:lnTo>
                      <a:pt x="613" y="168"/>
                    </a:lnTo>
                    <a:lnTo>
                      <a:pt x="668" y="160"/>
                    </a:lnTo>
                    <a:lnTo>
                      <a:pt x="819" y="100"/>
                    </a:lnTo>
                    <a:lnTo>
                      <a:pt x="860" y="58"/>
                    </a:lnTo>
                    <a:lnTo>
                      <a:pt x="876" y="18"/>
                    </a:lnTo>
                    <a:lnTo>
                      <a:pt x="912" y="0"/>
                    </a:lnTo>
                    <a:lnTo>
                      <a:pt x="1192" y="10"/>
                    </a:lnTo>
                    <a:lnTo>
                      <a:pt x="1223" y="26"/>
                    </a:lnTo>
                    <a:lnTo>
                      <a:pt x="1245" y="92"/>
                    </a:lnTo>
                    <a:lnTo>
                      <a:pt x="1576" y="222"/>
                    </a:lnTo>
                    <a:lnTo>
                      <a:pt x="1623" y="309"/>
                    </a:lnTo>
                    <a:lnTo>
                      <a:pt x="1647" y="429"/>
                    </a:lnTo>
                    <a:lnTo>
                      <a:pt x="1739" y="865"/>
                    </a:lnTo>
                    <a:lnTo>
                      <a:pt x="1747" y="992"/>
                    </a:lnTo>
                    <a:lnTo>
                      <a:pt x="1703" y="1101"/>
                    </a:lnTo>
                    <a:lnTo>
                      <a:pt x="1608" y="1281"/>
                    </a:lnTo>
                    <a:lnTo>
                      <a:pt x="1497" y="1494"/>
                    </a:lnTo>
                    <a:lnTo>
                      <a:pt x="1497" y="1690"/>
                    </a:lnTo>
                    <a:lnTo>
                      <a:pt x="1445" y="1705"/>
                    </a:lnTo>
                    <a:lnTo>
                      <a:pt x="1457" y="2331"/>
                    </a:lnTo>
                    <a:lnTo>
                      <a:pt x="1453" y="2579"/>
                    </a:lnTo>
                    <a:lnTo>
                      <a:pt x="1417" y="3247"/>
                    </a:lnTo>
                    <a:lnTo>
                      <a:pt x="1281" y="3253"/>
                    </a:lnTo>
                    <a:lnTo>
                      <a:pt x="1167" y="3229"/>
                    </a:lnTo>
                    <a:lnTo>
                      <a:pt x="1152" y="3140"/>
                    </a:lnTo>
                    <a:lnTo>
                      <a:pt x="1167" y="3048"/>
                    </a:lnTo>
                    <a:lnTo>
                      <a:pt x="1135" y="2719"/>
                    </a:lnTo>
                    <a:lnTo>
                      <a:pt x="1143" y="2510"/>
                    </a:lnTo>
                    <a:lnTo>
                      <a:pt x="1131" y="2403"/>
                    </a:lnTo>
                    <a:lnTo>
                      <a:pt x="1116" y="2132"/>
                    </a:lnTo>
                    <a:lnTo>
                      <a:pt x="1091" y="1858"/>
                    </a:lnTo>
                    <a:lnTo>
                      <a:pt x="1052" y="2132"/>
                    </a:lnTo>
                    <a:lnTo>
                      <a:pt x="1027" y="2387"/>
                    </a:lnTo>
                    <a:lnTo>
                      <a:pt x="1007" y="2675"/>
                    </a:lnTo>
                    <a:lnTo>
                      <a:pt x="979" y="3064"/>
                    </a:lnTo>
                    <a:lnTo>
                      <a:pt x="987" y="3178"/>
                    </a:lnTo>
                    <a:lnTo>
                      <a:pt x="975" y="3237"/>
                    </a:lnTo>
                    <a:lnTo>
                      <a:pt x="831" y="3256"/>
                    </a:lnTo>
                    <a:lnTo>
                      <a:pt x="728" y="3252"/>
                    </a:lnTo>
                    <a:lnTo>
                      <a:pt x="700" y="3203"/>
                    </a:lnTo>
                    <a:lnTo>
                      <a:pt x="712" y="2671"/>
                    </a:lnTo>
                    <a:lnTo>
                      <a:pt x="712" y="2579"/>
                    </a:lnTo>
                    <a:lnTo>
                      <a:pt x="720" y="2458"/>
                    </a:lnTo>
                    <a:lnTo>
                      <a:pt x="712" y="2343"/>
                    </a:lnTo>
                    <a:lnTo>
                      <a:pt x="700" y="1705"/>
                    </a:lnTo>
                    <a:lnTo>
                      <a:pt x="652" y="1690"/>
                    </a:lnTo>
                    <a:lnTo>
                      <a:pt x="676" y="1094"/>
                    </a:lnTo>
                    <a:lnTo>
                      <a:pt x="652" y="718"/>
                    </a:lnTo>
                    <a:lnTo>
                      <a:pt x="262" y="975"/>
                    </a:lnTo>
                    <a:lnTo>
                      <a:pt x="198" y="959"/>
                    </a:lnTo>
                    <a:lnTo>
                      <a:pt x="150" y="903"/>
                    </a:lnTo>
                    <a:lnTo>
                      <a:pt x="70" y="766"/>
                    </a:lnTo>
                    <a:lnTo>
                      <a:pt x="0" y="394"/>
                    </a:lnTo>
                    <a:lnTo>
                      <a:pt x="4" y="3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7746840" y="2408040"/>
                <a:ext cx="181080" cy="404640"/>
              </a:xfrm>
              <a:custGeom>
                <a:avLst/>
                <a:gdLst/>
                <a:ahLst/>
                <a:rect l="l" t="t" r="r" b="b"/>
                <a:pathLst>
                  <a:path w="342" h="764">
                    <a:moveTo>
                      <a:pt x="0" y="32"/>
                    </a:moveTo>
                    <a:lnTo>
                      <a:pt x="14" y="111"/>
                    </a:lnTo>
                    <a:lnTo>
                      <a:pt x="54" y="205"/>
                    </a:lnTo>
                    <a:lnTo>
                      <a:pt x="106" y="312"/>
                    </a:lnTo>
                    <a:lnTo>
                      <a:pt x="206" y="764"/>
                    </a:lnTo>
                    <a:lnTo>
                      <a:pt x="278" y="395"/>
                    </a:lnTo>
                    <a:lnTo>
                      <a:pt x="298" y="241"/>
                    </a:lnTo>
                    <a:lnTo>
                      <a:pt x="317" y="150"/>
                    </a:lnTo>
                    <a:lnTo>
                      <a:pt x="342" y="54"/>
                    </a:lnTo>
                    <a:lnTo>
                      <a:pt x="329" y="8"/>
                    </a:lnTo>
                    <a:lnTo>
                      <a:pt x="14" y="0"/>
                    </a:lnTo>
                    <a:lnTo>
                      <a:pt x="0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778520" y="2460240"/>
                <a:ext cx="87480" cy="341640"/>
              </a:xfrm>
              <a:custGeom>
                <a:avLst/>
                <a:gdLst/>
                <a:ahLst/>
                <a:rect l="l" t="t" r="r" b="b"/>
                <a:pathLst>
                  <a:path w="167" h="646">
                    <a:moveTo>
                      <a:pt x="72" y="1"/>
                    </a:moveTo>
                    <a:lnTo>
                      <a:pt x="32" y="0"/>
                    </a:lnTo>
                    <a:lnTo>
                      <a:pt x="3" y="61"/>
                    </a:lnTo>
                    <a:lnTo>
                      <a:pt x="11" y="84"/>
                    </a:lnTo>
                    <a:lnTo>
                      <a:pt x="35" y="109"/>
                    </a:lnTo>
                    <a:lnTo>
                      <a:pt x="36" y="164"/>
                    </a:lnTo>
                    <a:lnTo>
                      <a:pt x="0" y="240"/>
                    </a:lnTo>
                    <a:lnTo>
                      <a:pt x="91" y="646"/>
                    </a:lnTo>
                    <a:lnTo>
                      <a:pt x="167" y="263"/>
                    </a:lnTo>
                    <a:lnTo>
                      <a:pt x="151" y="216"/>
                    </a:lnTo>
                    <a:lnTo>
                      <a:pt x="116" y="159"/>
                    </a:lnTo>
                    <a:lnTo>
                      <a:pt x="108" y="105"/>
                    </a:lnTo>
                    <a:lnTo>
                      <a:pt x="128" y="64"/>
                    </a:lnTo>
                    <a:lnTo>
                      <a:pt x="116" y="28"/>
                    </a:lnTo>
                    <a:lnTo>
                      <a:pt x="72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753320" y="2427120"/>
                <a:ext cx="65160" cy="95040"/>
              </a:xfrm>
              <a:custGeom>
                <a:avLst/>
                <a:gdLst/>
                <a:ahLst/>
                <a:rect l="l" t="t" r="r" b="b"/>
                <a:pathLst>
                  <a:path w="124" h="178">
                    <a:moveTo>
                      <a:pt x="0" y="53"/>
                    </a:moveTo>
                    <a:lnTo>
                      <a:pt x="31" y="75"/>
                    </a:lnTo>
                    <a:lnTo>
                      <a:pt x="47" y="111"/>
                    </a:lnTo>
                    <a:lnTo>
                      <a:pt x="47" y="142"/>
                    </a:lnTo>
                    <a:lnTo>
                      <a:pt x="80" y="178"/>
                    </a:lnTo>
                    <a:lnTo>
                      <a:pt x="101" y="95"/>
                    </a:lnTo>
                    <a:lnTo>
                      <a:pt x="124" y="25"/>
                    </a:lnTo>
                    <a:lnTo>
                      <a:pt x="116" y="0"/>
                    </a:lnTo>
                    <a:lnTo>
                      <a:pt x="56" y="37"/>
                    </a:lnTo>
                    <a:lnTo>
                      <a:pt x="0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7777440" y="2506320"/>
                <a:ext cx="23760" cy="65160"/>
              </a:xfrm>
              <a:custGeom>
                <a:avLst/>
                <a:gdLst/>
                <a:ahLst/>
                <a:rect l="l" t="t" r="r" b="b"/>
                <a:pathLst>
                  <a:path w="45" h="124">
                    <a:moveTo>
                      <a:pt x="9" y="0"/>
                    </a:moveTo>
                    <a:lnTo>
                      <a:pt x="0" y="20"/>
                    </a:lnTo>
                    <a:lnTo>
                      <a:pt x="8" y="65"/>
                    </a:lnTo>
                    <a:lnTo>
                      <a:pt x="37" y="124"/>
                    </a:lnTo>
                    <a:lnTo>
                      <a:pt x="45" y="36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476840" y="2447640"/>
                <a:ext cx="341640" cy="860400"/>
              </a:xfrm>
              <a:custGeom>
                <a:avLst/>
                <a:gdLst/>
                <a:ahLst/>
                <a:rect l="l" t="t" r="r" b="b"/>
                <a:pathLst>
                  <a:path w="646" h="1627">
                    <a:moveTo>
                      <a:pt x="150" y="0"/>
                    </a:moveTo>
                    <a:lnTo>
                      <a:pt x="122" y="92"/>
                    </a:lnTo>
                    <a:lnTo>
                      <a:pt x="114" y="179"/>
                    </a:lnTo>
                    <a:lnTo>
                      <a:pt x="68" y="427"/>
                    </a:lnTo>
                    <a:lnTo>
                      <a:pt x="36" y="603"/>
                    </a:lnTo>
                    <a:lnTo>
                      <a:pt x="12" y="724"/>
                    </a:lnTo>
                    <a:lnTo>
                      <a:pt x="4" y="800"/>
                    </a:lnTo>
                    <a:lnTo>
                      <a:pt x="0" y="1039"/>
                    </a:lnTo>
                    <a:lnTo>
                      <a:pt x="12" y="1156"/>
                    </a:lnTo>
                    <a:lnTo>
                      <a:pt x="40" y="1627"/>
                    </a:lnTo>
                    <a:lnTo>
                      <a:pt x="185" y="1619"/>
                    </a:lnTo>
                    <a:lnTo>
                      <a:pt x="313" y="1604"/>
                    </a:lnTo>
                    <a:lnTo>
                      <a:pt x="401" y="1576"/>
                    </a:lnTo>
                    <a:lnTo>
                      <a:pt x="345" y="1095"/>
                    </a:lnTo>
                    <a:lnTo>
                      <a:pt x="377" y="975"/>
                    </a:lnTo>
                    <a:lnTo>
                      <a:pt x="401" y="876"/>
                    </a:lnTo>
                    <a:lnTo>
                      <a:pt x="369" y="639"/>
                    </a:lnTo>
                    <a:lnTo>
                      <a:pt x="361" y="479"/>
                    </a:lnTo>
                    <a:lnTo>
                      <a:pt x="369" y="392"/>
                    </a:lnTo>
                    <a:lnTo>
                      <a:pt x="341" y="320"/>
                    </a:lnTo>
                    <a:lnTo>
                      <a:pt x="373" y="384"/>
                    </a:lnTo>
                    <a:lnTo>
                      <a:pt x="389" y="279"/>
                    </a:lnTo>
                    <a:lnTo>
                      <a:pt x="385" y="372"/>
                    </a:lnTo>
                    <a:lnTo>
                      <a:pt x="445" y="328"/>
                    </a:lnTo>
                    <a:lnTo>
                      <a:pt x="385" y="404"/>
                    </a:lnTo>
                    <a:lnTo>
                      <a:pt x="377" y="539"/>
                    </a:lnTo>
                    <a:lnTo>
                      <a:pt x="397" y="720"/>
                    </a:lnTo>
                    <a:lnTo>
                      <a:pt x="409" y="816"/>
                    </a:lnTo>
                    <a:lnTo>
                      <a:pt x="449" y="808"/>
                    </a:lnTo>
                    <a:lnTo>
                      <a:pt x="510" y="788"/>
                    </a:lnTo>
                    <a:lnTo>
                      <a:pt x="594" y="671"/>
                    </a:lnTo>
                    <a:lnTo>
                      <a:pt x="526" y="800"/>
                    </a:lnTo>
                    <a:lnTo>
                      <a:pt x="465" y="824"/>
                    </a:lnTo>
                    <a:lnTo>
                      <a:pt x="417" y="832"/>
                    </a:lnTo>
                    <a:lnTo>
                      <a:pt x="449" y="844"/>
                    </a:lnTo>
                    <a:lnTo>
                      <a:pt x="518" y="860"/>
                    </a:lnTo>
                    <a:lnTo>
                      <a:pt x="425" y="860"/>
                    </a:lnTo>
                    <a:lnTo>
                      <a:pt x="409" y="923"/>
                    </a:lnTo>
                    <a:lnTo>
                      <a:pt x="361" y="1087"/>
                    </a:lnTo>
                    <a:lnTo>
                      <a:pt x="381" y="1223"/>
                    </a:lnTo>
                    <a:lnTo>
                      <a:pt x="405" y="1371"/>
                    </a:lnTo>
                    <a:lnTo>
                      <a:pt x="502" y="1184"/>
                    </a:lnTo>
                    <a:lnTo>
                      <a:pt x="618" y="963"/>
                    </a:lnTo>
                    <a:lnTo>
                      <a:pt x="646" y="891"/>
                    </a:lnTo>
                    <a:lnTo>
                      <a:pt x="638" y="792"/>
                    </a:lnTo>
                    <a:lnTo>
                      <a:pt x="626" y="700"/>
                    </a:lnTo>
                    <a:lnTo>
                      <a:pt x="586" y="555"/>
                    </a:lnTo>
                    <a:lnTo>
                      <a:pt x="554" y="384"/>
                    </a:lnTo>
                    <a:lnTo>
                      <a:pt x="526" y="292"/>
                    </a:lnTo>
                    <a:lnTo>
                      <a:pt x="522" y="215"/>
                    </a:lnTo>
                    <a:lnTo>
                      <a:pt x="498" y="148"/>
                    </a:lnTo>
                    <a:lnTo>
                      <a:pt x="433" y="120"/>
                    </a:lnTo>
                    <a:lnTo>
                      <a:pt x="341" y="92"/>
                    </a:lnTo>
                    <a:lnTo>
                      <a:pt x="249" y="60"/>
                    </a:lnTo>
                    <a:lnTo>
                      <a:pt x="15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680240" y="2473200"/>
                <a:ext cx="129960" cy="439560"/>
              </a:xfrm>
              <a:custGeom>
                <a:avLst/>
                <a:gdLst/>
                <a:ahLst/>
                <a:rect l="l" t="t" r="r" b="b"/>
                <a:pathLst>
                  <a:path w="247" h="831">
                    <a:moveTo>
                      <a:pt x="187" y="0"/>
                    </a:moveTo>
                    <a:lnTo>
                      <a:pt x="207" y="128"/>
                    </a:lnTo>
                    <a:lnTo>
                      <a:pt x="219" y="171"/>
                    </a:lnTo>
                    <a:lnTo>
                      <a:pt x="149" y="175"/>
                    </a:lnTo>
                    <a:lnTo>
                      <a:pt x="231" y="210"/>
                    </a:lnTo>
                    <a:lnTo>
                      <a:pt x="137" y="383"/>
                    </a:lnTo>
                    <a:lnTo>
                      <a:pt x="70" y="575"/>
                    </a:lnTo>
                    <a:lnTo>
                      <a:pt x="24" y="734"/>
                    </a:lnTo>
                    <a:lnTo>
                      <a:pt x="0" y="831"/>
                    </a:lnTo>
                    <a:lnTo>
                      <a:pt x="56" y="686"/>
                    </a:lnTo>
                    <a:lnTo>
                      <a:pt x="86" y="575"/>
                    </a:lnTo>
                    <a:lnTo>
                      <a:pt x="141" y="419"/>
                    </a:lnTo>
                    <a:lnTo>
                      <a:pt x="177" y="338"/>
                    </a:lnTo>
                    <a:lnTo>
                      <a:pt x="223" y="246"/>
                    </a:lnTo>
                    <a:lnTo>
                      <a:pt x="247" y="214"/>
                    </a:lnTo>
                    <a:lnTo>
                      <a:pt x="191" y="179"/>
                    </a:lnTo>
                    <a:lnTo>
                      <a:pt x="239" y="187"/>
                    </a:lnTo>
                    <a:lnTo>
                      <a:pt x="211" y="112"/>
                    </a:lnTo>
                    <a:lnTo>
                      <a:pt x="1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7800840" y="2957400"/>
                <a:ext cx="17640" cy="25200"/>
              </a:xfrm>
              <a:prstGeom prst="ellipse">
                <a:avLst/>
              </a:pr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7661160" y="3127320"/>
                <a:ext cx="336600" cy="982440"/>
              </a:xfrm>
              <a:custGeom>
                <a:avLst/>
                <a:gdLst/>
                <a:ahLst/>
                <a:rect l="l" t="t" r="r" b="b"/>
                <a:pathLst>
                  <a:path w="636" h="1859">
                    <a:moveTo>
                      <a:pt x="56" y="364"/>
                    </a:moveTo>
                    <a:lnTo>
                      <a:pt x="50" y="715"/>
                    </a:lnTo>
                    <a:lnTo>
                      <a:pt x="26" y="1051"/>
                    </a:lnTo>
                    <a:lnTo>
                      <a:pt x="16" y="1348"/>
                    </a:lnTo>
                    <a:lnTo>
                      <a:pt x="26" y="1572"/>
                    </a:lnTo>
                    <a:lnTo>
                      <a:pt x="8" y="1712"/>
                    </a:lnTo>
                    <a:lnTo>
                      <a:pt x="0" y="1859"/>
                    </a:lnTo>
                    <a:lnTo>
                      <a:pt x="83" y="1859"/>
                    </a:lnTo>
                    <a:lnTo>
                      <a:pt x="151" y="1852"/>
                    </a:lnTo>
                    <a:lnTo>
                      <a:pt x="221" y="1847"/>
                    </a:lnTo>
                    <a:lnTo>
                      <a:pt x="231" y="1792"/>
                    </a:lnTo>
                    <a:lnTo>
                      <a:pt x="217" y="1664"/>
                    </a:lnTo>
                    <a:lnTo>
                      <a:pt x="225" y="1584"/>
                    </a:lnTo>
                    <a:lnTo>
                      <a:pt x="247" y="1345"/>
                    </a:lnTo>
                    <a:lnTo>
                      <a:pt x="251" y="1217"/>
                    </a:lnTo>
                    <a:lnTo>
                      <a:pt x="265" y="1067"/>
                    </a:lnTo>
                    <a:lnTo>
                      <a:pt x="289" y="796"/>
                    </a:lnTo>
                    <a:lnTo>
                      <a:pt x="315" y="616"/>
                    </a:lnTo>
                    <a:lnTo>
                      <a:pt x="325" y="520"/>
                    </a:lnTo>
                    <a:lnTo>
                      <a:pt x="341" y="441"/>
                    </a:lnTo>
                    <a:lnTo>
                      <a:pt x="355" y="460"/>
                    </a:lnTo>
                    <a:lnTo>
                      <a:pt x="371" y="527"/>
                    </a:lnTo>
                    <a:lnTo>
                      <a:pt x="377" y="635"/>
                    </a:lnTo>
                    <a:lnTo>
                      <a:pt x="401" y="1012"/>
                    </a:lnTo>
                    <a:lnTo>
                      <a:pt x="405" y="1081"/>
                    </a:lnTo>
                    <a:lnTo>
                      <a:pt x="411" y="1157"/>
                    </a:lnTo>
                    <a:lnTo>
                      <a:pt x="401" y="1333"/>
                    </a:lnTo>
                    <a:lnTo>
                      <a:pt x="413" y="1471"/>
                    </a:lnTo>
                    <a:lnTo>
                      <a:pt x="435" y="1656"/>
                    </a:lnTo>
                    <a:lnTo>
                      <a:pt x="419" y="1759"/>
                    </a:lnTo>
                    <a:lnTo>
                      <a:pt x="435" y="1835"/>
                    </a:lnTo>
                    <a:lnTo>
                      <a:pt x="540" y="1859"/>
                    </a:lnTo>
                    <a:lnTo>
                      <a:pt x="626" y="1851"/>
                    </a:lnTo>
                    <a:lnTo>
                      <a:pt x="636" y="1507"/>
                    </a:lnTo>
                    <a:lnTo>
                      <a:pt x="636" y="1036"/>
                    </a:lnTo>
                    <a:lnTo>
                      <a:pt x="612" y="571"/>
                    </a:lnTo>
                    <a:lnTo>
                      <a:pt x="600" y="413"/>
                    </a:lnTo>
                    <a:lnTo>
                      <a:pt x="590" y="352"/>
                    </a:lnTo>
                    <a:lnTo>
                      <a:pt x="435" y="364"/>
                    </a:lnTo>
                    <a:lnTo>
                      <a:pt x="367" y="361"/>
                    </a:lnTo>
                    <a:lnTo>
                      <a:pt x="347" y="0"/>
                    </a:lnTo>
                    <a:lnTo>
                      <a:pt x="327" y="365"/>
                    </a:lnTo>
                    <a:lnTo>
                      <a:pt x="202" y="372"/>
                    </a:lnTo>
                    <a:lnTo>
                      <a:pt x="56" y="3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7627680" y="3301920"/>
                <a:ext cx="55800" cy="804600"/>
              </a:xfrm>
              <a:custGeom>
                <a:avLst/>
                <a:gdLst/>
                <a:ahLst/>
                <a:rect l="l" t="t" r="r" b="b"/>
                <a:pathLst>
                  <a:path w="106" h="1520">
                    <a:moveTo>
                      <a:pt x="0" y="25"/>
                    </a:moveTo>
                    <a:lnTo>
                      <a:pt x="59" y="617"/>
                    </a:lnTo>
                    <a:lnTo>
                      <a:pt x="59" y="993"/>
                    </a:lnTo>
                    <a:lnTo>
                      <a:pt x="43" y="1520"/>
                    </a:lnTo>
                    <a:lnTo>
                      <a:pt x="70" y="1517"/>
                    </a:lnTo>
                    <a:lnTo>
                      <a:pt x="94" y="1135"/>
                    </a:lnTo>
                    <a:lnTo>
                      <a:pt x="92" y="1029"/>
                    </a:lnTo>
                    <a:lnTo>
                      <a:pt x="100" y="878"/>
                    </a:lnTo>
                    <a:lnTo>
                      <a:pt x="100" y="760"/>
                    </a:lnTo>
                    <a:lnTo>
                      <a:pt x="106" y="613"/>
                    </a:lnTo>
                    <a:lnTo>
                      <a:pt x="98" y="462"/>
                    </a:lnTo>
                    <a:lnTo>
                      <a:pt x="98" y="314"/>
                    </a:lnTo>
                    <a:lnTo>
                      <a:pt x="96" y="0"/>
                    </a:lnTo>
                    <a:lnTo>
                      <a:pt x="0" y="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7968960" y="3303360"/>
                <a:ext cx="47880" cy="803160"/>
              </a:xfrm>
              <a:custGeom>
                <a:avLst/>
                <a:gdLst/>
                <a:ahLst/>
                <a:rect l="l" t="t" r="r" b="b"/>
                <a:pathLst>
                  <a:path w="89" h="1519">
                    <a:moveTo>
                      <a:pt x="2" y="0"/>
                    </a:moveTo>
                    <a:lnTo>
                      <a:pt x="50" y="19"/>
                    </a:lnTo>
                    <a:lnTo>
                      <a:pt x="89" y="31"/>
                    </a:lnTo>
                    <a:lnTo>
                      <a:pt x="50" y="687"/>
                    </a:lnTo>
                    <a:lnTo>
                      <a:pt x="34" y="1071"/>
                    </a:lnTo>
                    <a:lnTo>
                      <a:pt x="46" y="1243"/>
                    </a:lnTo>
                    <a:lnTo>
                      <a:pt x="25" y="1519"/>
                    </a:lnTo>
                    <a:lnTo>
                      <a:pt x="0" y="1482"/>
                    </a:lnTo>
                    <a:lnTo>
                      <a:pt x="10" y="1327"/>
                    </a:lnTo>
                    <a:lnTo>
                      <a:pt x="8" y="1049"/>
                    </a:lnTo>
                    <a:lnTo>
                      <a:pt x="12" y="852"/>
                    </a:lnTo>
                    <a:lnTo>
                      <a:pt x="22" y="760"/>
                    </a:lnTo>
                    <a:lnTo>
                      <a:pt x="20" y="677"/>
                    </a:lnTo>
                    <a:lnTo>
                      <a:pt x="12" y="579"/>
                    </a:lnTo>
                    <a:lnTo>
                      <a:pt x="16" y="443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7813440" y="2433600"/>
                <a:ext cx="568440" cy="877680"/>
              </a:xfrm>
              <a:custGeom>
                <a:avLst/>
                <a:gdLst/>
                <a:ahLst/>
                <a:rect l="l" t="t" r="r" b="b"/>
                <a:pathLst>
                  <a:path w="1072" h="1659">
                    <a:moveTo>
                      <a:pt x="844" y="0"/>
                    </a:moveTo>
                    <a:lnTo>
                      <a:pt x="798" y="48"/>
                    </a:lnTo>
                    <a:lnTo>
                      <a:pt x="763" y="64"/>
                    </a:lnTo>
                    <a:lnTo>
                      <a:pt x="675" y="104"/>
                    </a:lnTo>
                    <a:lnTo>
                      <a:pt x="603" y="112"/>
                    </a:lnTo>
                    <a:lnTo>
                      <a:pt x="575" y="120"/>
                    </a:lnTo>
                    <a:lnTo>
                      <a:pt x="523" y="200"/>
                    </a:lnTo>
                    <a:lnTo>
                      <a:pt x="487" y="275"/>
                    </a:lnTo>
                    <a:lnTo>
                      <a:pt x="419" y="368"/>
                    </a:lnTo>
                    <a:lnTo>
                      <a:pt x="345" y="451"/>
                    </a:lnTo>
                    <a:lnTo>
                      <a:pt x="333" y="471"/>
                    </a:lnTo>
                    <a:lnTo>
                      <a:pt x="381" y="491"/>
                    </a:lnTo>
                    <a:lnTo>
                      <a:pt x="439" y="567"/>
                    </a:lnTo>
                    <a:lnTo>
                      <a:pt x="353" y="495"/>
                    </a:lnTo>
                    <a:lnTo>
                      <a:pt x="305" y="479"/>
                    </a:lnTo>
                    <a:lnTo>
                      <a:pt x="313" y="507"/>
                    </a:lnTo>
                    <a:lnTo>
                      <a:pt x="313" y="583"/>
                    </a:lnTo>
                    <a:lnTo>
                      <a:pt x="297" y="619"/>
                    </a:lnTo>
                    <a:lnTo>
                      <a:pt x="297" y="563"/>
                    </a:lnTo>
                    <a:lnTo>
                      <a:pt x="289" y="483"/>
                    </a:lnTo>
                    <a:lnTo>
                      <a:pt x="262" y="475"/>
                    </a:lnTo>
                    <a:lnTo>
                      <a:pt x="238" y="435"/>
                    </a:lnTo>
                    <a:lnTo>
                      <a:pt x="202" y="372"/>
                    </a:lnTo>
                    <a:lnTo>
                      <a:pt x="178" y="259"/>
                    </a:lnTo>
                    <a:lnTo>
                      <a:pt x="146" y="295"/>
                    </a:lnTo>
                    <a:lnTo>
                      <a:pt x="114" y="324"/>
                    </a:lnTo>
                    <a:lnTo>
                      <a:pt x="90" y="340"/>
                    </a:lnTo>
                    <a:lnTo>
                      <a:pt x="54" y="348"/>
                    </a:lnTo>
                    <a:lnTo>
                      <a:pt x="0" y="348"/>
                    </a:lnTo>
                    <a:lnTo>
                      <a:pt x="30" y="523"/>
                    </a:lnTo>
                    <a:lnTo>
                      <a:pt x="70" y="671"/>
                    </a:lnTo>
                    <a:lnTo>
                      <a:pt x="114" y="772"/>
                    </a:lnTo>
                    <a:lnTo>
                      <a:pt x="182" y="860"/>
                    </a:lnTo>
                    <a:lnTo>
                      <a:pt x="218" y="868"/>
                    </a:lnTo>
                    <a:lnTo>
                      <a:pt x="273" y="856"/>
                    </a:lnTo>
                    <a:lnTo>
                      <a:pt x="369" y="788"/>
                    </a:lnTo>
                    <a:lnTo>
                      <a:pt x="567" y="655"/>
                    </a:lnTo>
                    <a:lnTo>
                      <a:pt x="623" y="615"/>
                    </a:lnTo>
                    <a:lnTo>
                      <a:pt x="599" y="535"/>
                    </a:lnTo>
                    <a:lnTo>
                      <a:pt x="587" y="455"/>
                    </a:lnTo>
                    <a:lnTo>
                      <a:pt x="607" y="507"/>
                    </a:lnTo>
                    <a:lnTo>
                      <a:pt x="635" y="595"/>
                    </a:lnTo>
                    <a:lnTo>
                      <a:pt x="643" y="515"/>
                    </a:lnTo>
                    <a:lnTo>
                      <a:pt x="643" y="595"/>
                    </a:lnTo>
                    <a:lnTo>
                      <a:pt x="679" y="555"/>
                    </a:lnTo>
                    <a:lnTo>
                      <a:pt x="647" y="643"/>
                    </a:lnTo>
                    <a:lnTo>
                      <a:pt x="659" y="740"/>
                    </a:lnTo>
                    <a:lnTo>
                      <a:pt x="667" y="908"/>
                    </a:lnTo>
                    <a:lnTo>
                      <a:pt x="679" y="1051"/>
                    </a:lnTo>
                    <a:lnTo>
                      <a:pt x="667" y="1192"/>
                    </a:lnTo>
                    <a:lnTo>
                      <a:pt x="647" y="1604"/>
                    </a:lnTo>
                    <a:lnTo>
                      <a:pt x="756" y="1648"/>
                    </a:lnTo>
                    <a:lnTo>
                      <a:pt x="884" y="1659"/>
                    </a:lnTo>
                    <a:lnTo>
                      <a:pt x="1040" y="1655"/>
                    </a:lnTo>
                    <a:lnTo>
                      <a:pt x="1060" y="1188"/>
                    </a:lnTo>
                    <a:lnTo>
                      <a:pt x="1072" y="923"/>
                    </a:lnTo>
                    <a:lnTo>
                      <a:pt x="1052" y="732"/>
                    </a:lnTo>
                    <a:lnTo>
                      <a:pt x="1016" y="603"/>
                    </a:lnTo>
                    <a:lnTo>
                      <a:pt x="976" y="408"/>
                    </a:lnTo>
                    <a:lnTo>
                      <a:pt x="952" y="283"/>
                    </a:lnTo>
                    <a:lnTo>
                      <a:pt x="896" y="184"/>
                    </a:lnTo>
                    <a:lnTo>
                      <a:pt x="856" y="92"/>
                    </a:lnTo>
                    <a:lnTo>
                      <a:pt x="844" y="72"/>
                    </a:lnTo>
                    <a:lnTo>
                      <a:pt x="8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7856280" y="2430360"/>
                <a:ext cx="63720" cy="96840"/>
              </a:xfrm>
              <a:custGeom>
                <a:avLst/>
                <a:gdLst/>
                <a:ahLst/>
                <a:rect l="l" t="t" r="r" b="b"/>
                <a:pathLst>
                  <a:path w="119" h="184">
                    <a:moveTo>
                      <a:pt x="119" y="51"/>
                    </a:moveTo>
                    <a:lnTo>
                      <a:pt x="91" y="103"/>
                    </a:lnTo>
                    <a:lnTo>
                      <a:pt x="89" y="140"/>
                    </a:lnTo>
                    <a:lnTo>
                      <a:pt x="64" y="184"/>
                    </a:lnTo>
                    <a:lnTo>
                      <a:pt x="35" y="120"/>
                    </a:lnTo>
                    <a:lnTo>
                      <a:pt x="14" y="71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44" y="25"/>
                    </a:lnTo>
                    <a:lnTo>
                      <a:pt x="119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7854840" y="25081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55" h="112">
                    <a:moveTo>
                      <a:pt x="27" y="0"/>
                    </a:moveTo>
                    <a:lnTo>
                      <a:pt x="55" y="28"/>
                    </a:lnTo>
                    <a:lnTo>
                      <a:pt x="55" y="65"/>
                    </a:lnTo>
                    <a:lnTo>
                      <a:pt x="35" y="112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7837200" y="2468520"/>
                <a:ext cx="141480" cy="404640"/>
              </a:xfrm>
              <a:custGeom>
                <a:avLst/>
                <a:gdLst/>
                <a:ahLst/>
                <a:rect l="l" t="t" r="r" b="b"/>
                <a:pathLst>
                  <a:path w="268" h="763">
                    <a:moveTo>
                      <a:pt x="31" y="0"/>
                    </a:moveTo>
                    <a:lnTo>
                      <a:pt x="20" y="120"/>
                    </a:lnTo>
                    <a:lnTo>
                      <a:pt x="16" y="179"/>
                    </a:lnTo>
                    <a:lnTo>
                      <a:pt x="110" y="183"/>
                    </a:lnTo>
                    <a:lnTo>
                      <a:pt x="43" y="222"/>
                    </a:lnTo>
                    <a:lnTo>
                      <a:pt x="86" y="282"/>
                    </a:lnTo>
                    <a:lnTo>
                      <a:pt x="134" y="367"/>
                    </a:lnTo>
                    <a:lnTo>
                      <a:pt x="185" y="459"/>
                    </a:lnTo>
                    <a:lnTo>
                      <a:pt x="232" y="598"/>
                    </a:lnTo>
                    <a:lnTo>
                      <a:pt x="256" y="690"/>
                    </a:lnTo>
                    <a:lnTo>
                      <a:pt x="268" y="763"/>
                    </a:lnTo>
                    <a:lnTo>
                      <a:pt x="236" y="666"/>
                    </a:lnTo>
                    <a:lnTo>
                      <a:pt x="189" y="511"/>
                    </a:lnTo>
                    <a:lnTo>
                      <a:pt x="138" y="407"/>
                    </a:lnTo>
                    <a:lnTo>
                      <a:pt x="67" y="278"/>
                    </a:lnTo>
                    <a:lnTo>
                      <a:pt x="24" y="218"/>
                    </a:lnTo>
                    <a:lnTo>
                      <a:pt x="82" y="191"/>
                    </a:lnTo>
                    <a:lnTo>
                      <a:pt x="0" y="194"/>
                    </a:lnTo>
                    <a:lnTo>
                      <a:pt x="8" y="155"/>
                    </a:lnTo>
                    <a:lnTo>
                      <a:pt x="12" y="72"/>
                    </a:lnTo>
                    <a:lnTo>
                      <a:pt x="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5d07"/>
                  </a:gs>
                  <a:gs pos="50000">
                    <a:srgbClr val="f1b60f"/>
                  </a:gs>
                  <a:gs pos="100000">
                    <a:srgbClr val="7b5d0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709040" y="2070000"/>
              <a:ext cx="263520" cy="382320"/>
              <a:chOff x="7709040" y="2070000"/>
              <a:chExt cx="263520" cy="382320"/>
            </a:xfrm>
          </p:grpSpPr>
          <p:sp>
            <p:nvSpPr>
              <p:cNvPr id="403" name=""/>
              <p:cNvSpPr/>
              <p:nvPr/>
            </p:nvSpPr>
            <p:spPr>
              <a:xfrm flipH="1">
                <a:off x="7708680" y="2070000"/>
                <a:ext cx="258840" cy="207720"/>
              </a:xfrm>
              <a:custGeom>
                <a:avLst/>
                <a:gdLst/>
                <a:ahLst/>
                <a:rect l="l" t="t" r="r" b="b"/>
                <a:pathLst>
                  <a:path w="487" h="392">
                    <a:moveTo>
                      <a:pt x="33" y="392"/>
                    </a:moveTo>
                    <a:lnTo>
                      <a:pt x="0" y="261"/>
                    </a:lnTo>
                    <a:lnTo>
                      <a:pt x="3" y="191"/>
                    </a:lnTo>
                    <a:lnTo>
                      <a:pt x="21" y="130"/>
                    </a:lnTo>
                    <a:lnTo>
                      <a:pt x="31" y="69"/>
                    </a:lnTo>
                    <a:lnTo>
                      <a:pt x="71" y="40"/>
                    </a:lnTo>
                    <a:lnTo>
                      <a:pt x="113" y="32"/>
                    </a:lnTo>
                    <a:lnTo>
                      <a:pt x="166" y="5"/>
                    </a:lnTo>
                    <a:lnTo>
                      <a:pt x="217" y="0"/>
                    </a:lnTo>
                    <a:lnTo>
                      <a:pt x="262" y="4"/>
                    </a:lnTo>
                    <a:lnTo>
                      <a:pt x="302" y="13"/>
                    </a:lnTo>
                    <a:lnTo>
                      <a:pt x="333" y="32"/>
                    </a:lnTo>
                    <a:lnTo>
                      <a:pt x="377" y="37"/>
                    </a:lnTo>
                    <a:lnTo>
                      <a:pt x="417" y="49"/>
                    </a:lnTo>
                    <a:lnTo>
                      <a:pt x="449" y="80"/>
                    </a:lnTo>
                    <a:lnTo>
                      <a:pt x="457" y="146"/>
                    </a:lnTo>
                    <a:lnTo>
                      <a:pt x="477" y="174"/>
                    </a:lnTo>
                    <a:lnTo>
                      <a:pt x="485" y="209"/>
                    </a:lnTo>
                    <a:lnTo>
                      <a:pt x="487" y="239"/>
                    </a:lnTo>
                    <a:lnTo>
                      <a:pt x="472" y="271"/>
                    </a:lnTo>
                    <a:lnTo>
                      <a:pt x="468" y="360"/>
                    </a:lnTo>
                    <a:lnTo>
                      <a:pt x="33" y="392"/>
                    </a:lnTo>
                    <a:close/>
                  </a:path>
                </a:pathLst>
              </a:custGeom>
              <a:solidFill>
                <a:srgbClr val="201000"/>
              </a:solidFill>
              <a:ln w="6480">
                <a:solidFill>
                  <a:srgbClr val="201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711920" y="2124000"/>
                <a:ext cx="258840" cy="328320"/>
              </a:xfrm>
              <a:custGeom>
                <a:avLst/>
                <a:gdLst/>
                <a:ahLst/>
                <a:rect l="l" t="t" r="r" b="b"/>
                <a:pathLst>
                  <a:path w="491" h="621">
                    <a:moveTo>
                      <a:pt x="234" y="32"/>
                    </a:moveTo>
                    <a:lnTo>
                      <a:pt x="166" y="0"/>
                    </a:lnTo>
                    <a:lnTo>
                      <a:pt x="99" y="32"/>
                    </a:lnTo>
                    <a:lnTo>
                      <a:pt x="89" y="50"/>
                    </a:lnTo>
                    <a:lnTo>
                      <a:pt x="93" y="103"/>
                    </a:lnTo>
                    <a:lnTo>
                      <a:pt x="101" y="171"/>
                    </a:lnTo>
                    <a:lnTo>
                      <a:pt x="79" y="229"/>
                    </a:lnTo>
                    <a:lnTo>
                      <a:pt x="79" y="285"/>
                    </a:lnTo>
                    <a:lnTo>
                      <a:pt x="61" y="280"/>
                    </a:lnTo>
                    <a:lnTo>
                      <a:pt x="53" y="224"/>
                    </a:lnTo>
                    <a:lnTo>
                      <a:pt x="33" y="188"/>
                    </a:lnTo>
                    <a:lnTo>
                      <a:pt x="17" y="181"/>
                    </a:lnTo>
                    <a:lnTo>
                      <a:pt x="3" y="192"/>
                    </a:lnTo>
                    <a:lnTo>
                      <a:pt x="0" y="228"/>
                    </a:lnTo>
                    <a:lnTo>
                      <a:pt x="8" y="273"/>
                    </a:lnTo>
                    <a:lnTo>
                      <a:pt x="23" y="309"/>
                    </a:lnTo>
                    <a:lnTo>
                      <a:pt x="37" y="328"/>
                    </a:lnTo>
                    <a:lnTo>
                      <a:pt x="57" y="348"/>
                    </a:lnTo>
                    <a:lnTo>
                      <a:pt x="63" y="398"/>
                    </a:lnTo>
                    <a:lnTo>
                      <a:pt x="83" y="458"/>
                    </a:lnTo>
                    <a:lnTo>
                      <a:pt x="99" y="480"/>
                    </a:lnTo>
                    <a:lnTo>
                      <a:pt x="99" y="562"/>
                    </a:lnTo>
                    <a:lnTo>
                      <a:pt x="166" y="594"/>
                    </a:lnTo>
                    <a:lnTo>
                      <a:pt x="237" y="621"/>
                    </a:lnTo>
                    <a:lnTo>
                      <a:pt x="265" y="621"/>
                    </a:lnTo>
                    <a:lnTo>
                      <a:pt x="306" y="610"/>
                    </a:lnTo>
                    <a:lnTo>
                      <a:pt x="365" y="582"/>
                    </a:lnTo>
                    <a:lnTo>
                      <a:pt x="401" y="561"/>
                    </a:lnTo>
                    <a:lnTo>
                      <a:pt x="408" y="557"/>
                    </a:lnTo>
                    <a:lnTo>
                      <a:pt x="412" y="494"/>
                    </a:lnTo>
                    <a:lnTo>
                      <a:pt x="421" y="454"/>
                    </a:lnTo>
                    <a:lnTo>
                      <a:pt x="429" y="426"/>
                    </a:lnTo>
                    <a:lnTo>
                      <a:pt x="440" y="394"/>
                    </a:lnTo>
                    <a:lnTo>
                      <a:pt x="441" y="356"/>
                    </a:lnTo>
                    <a:lnTo>
                      <a:pt x="480" y="328"/>
                    </a:lnTo>
                    <a:lnTo>
                      <a:pt x="491" y="276"/>
                    </a:lnTo>
                    <a:lnTo>
                      <a:pt x="487" y="244"/>
                    </a:lnTo>
                    <a:lnTo>
                      <a:pt x="480" y="209"/>
                    </a:lnTo>
                    <a:lnTo>
                      <a:pt x="472" y="197"/>
                    </a:lnTo>
                    <a:lnTo>
                      <a:pt x="452" y="189"/>
                    </a:lnTo>
                    <a:lnTo>
                      <a:pt x="440" y="201"/>
                    </a:lnTo>
                    <a:lnTo>
                      <a:pt x="434" y="209"/>
                    </a:lnTo>
                    <a:lnTo>
                      <a:pt x="430" y="222"/>
                    </a:lnTo>
                    <a:lnTo>
                      <a:pt x="424" y="270"/>
                    </a:lnTo>
                    <a:lnTo>
                      <a:pt x="417" y="270"/>
                    </a:lnTo>
                    <a:lnTo>
                      <a:pt x="417" y="209"/>
                    </a:lnTo>
                    <a:lnTo>
                      <a:pt x="438" y="171"/>
                    </a:lnTo>
                    <a:lnTo>
                      <a:pt x="425" y="101"/>
                    </a:lnTo>
                    <a:lnTo>
                      <a:pt x="416" y="46"/>
                    </a:lnTo>
                    <a:lnTo>
                      <a:pt x="381" y="12"/>
                    </a:lnTo>
                    <a:lnTo>
                      <a:pt x="342" y="0"/>
                    </a:lnTo>
                    <a:lnTo>
                      <a:pt x="301" y="0"/>
                    </a:lnTo>
                    <a:lnTo>
                      <a:pt x="234" y="32"/>
                    </a:lnTo>
                    <a:close/>
                  </a:path>
                </a:pathLst>
              </a:custGeom>
              <a:solidFill>
                <a:srgbClr val="ffc080"/>
              </a:solidFill>
              <a:ln w="6480">
                <a:solidFill>
                  <a:srgbClr val="603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789680" y="2124000"/>
                <a:ext cx="182520" cy="326880"/>
              </a:xfrm>
              <a:custGeom>
                <a:avLst/>
                <a:gdLst/>
                <a:ahLst/>
                <a:rect l="l" t="t" r="r" b="b"/>
                <a:pathLst>
                  <a:path w="343" h="618">
                    <a:moveTo>
                      <a:pt x="166" y="0"/>
                    </a:moveTo>
                    <a:lnTo>
                      <a:pt x="160" y="46"/>
                    </a:lnTo>
                    <a:lnTo>
                      <a:pt x="153" y="86"/>
                    </a:lnTo>
                    <a:lnTo>
                      <a:pt x="152" y="114"/>
                    </a:lnTo>
                    <a:lnTo>
                      <a:pt x="156" y="141"/>
                    </a:lnTo>
                    <a:lnTo>
                      <a:pt x="169" y="159"/>
                    </a:lnTo>
                    <a:lnTo>
                      <a:pt x="205" y="166"/>
                    </a:lnTo>
                    <a:lnTo>
                      <a:pt x="230" y="166"/>
                    </a:lnTo>
                    <a:lnTo>
                      <a:pt x="253" y="184"/>
                    </a:lnTo>
                    <a:lnTo>
                      <a:pt x="253" y="238"/>
                    </a:lnTo>
                    <a:lnTo>
                      <a:pt x="237" y="309"/>
                    </a:lnTo>
                    <a:lnTo>
                      <a:pt x="223" y="340"/>
                    </a:lnTo>
                    <a:lnTo>
                      <a:pt x="229" y="352"/>
                    </a:lnTo>
                    <a:lnTo>
                      <a:pt x="242" y="360"/>
                    </a:lnTo>
                    <a:lnTo>
                      <a:pt x="254" y="361"/>
                    </a:lnTo>
                    <a:lnTo>
                      <a:pt x="269" y="360"/>
                    </a:lnTo>
                    <a:lnTo>
                      <a:pt x="277" y="352"/>
                    </a:lnTo>
                    <a:lnTo>
                      <a:pt x="290" y="348"/>
                    </a:lnTo>
                    <a:lnTo>
                      <a:pt x="293" y="356"/>
                    </a:lnTo>
                    <a:lnTo>
                      <a:pt x="271" y="368"/>
                    </a:lnTo>
                    <a:lnTo>
                      <a:pt x="249" y="384"/>
                    </a:lnTo>
                    <a:lnTo>
                      <a:pt x="225" y="383"/>
                    </a:lnTo>
                    <a:lnTo>
                      <a:pt x="214" y="364"/>
                    </a:lnTo>
                    <a:lnTo>
                      <a:pt x="210" y="351"/>
                    </a:lnTo>
                    <a:lnTo>
                      <a:pt x="217" y="336"/>
                    </a:lnTo>
                    <a:lnTo>
                      <a:pt x="225" y="291"/>
                    </a:lnTo>
                    <a:lnTo>
                      <a:pt x="221" y="244"/>
                    </a:lnTo>
                    <a:lnTo>
                      <a:pt x="197" y="240"/>
                    </a:lnTo>
                    <a:lnTo>
                      <a:pt x="177" y="244"/>
                    </a:lnTo>
                    <a:lnTo>
                      <a:pt x="158" y="250"/>
                    </a:lnTo>
                    <a:lnTo>
                      <a:pt x="137" y="266"/>
                    </a:lnTo>
                    <a:lnTo>
                      <a:pt x="144" y="307"/>
                    </a:lnTo>
                    <a:lnTo>
                      <a:pt x="149" y="344"/>
                    </a:lnTo>
                    <a:lnTo>
                      <a:pt x="146" y="376"/>
                    </a:lnTo>
                    <a:lnTo>
                      <a:pt x="142" y="403"/>
                    </a:lnTo>
                    <a:lnTo>
                      <a:pt x="148" y="447"/>
                    </a:lnTo>
                    <a:lnTo>
                      <a:pt x="162" y="479"/>
                    </a:lnTo>
                    <a:lnTo>
                      <a:pt x="177" y="501"/>
                    </a:lnTo>
                    <a:lnTo>
                      <a:pt x="201" y="518"/>
                    </a:lnTo>
                    <a:lnTo>
                      <a:pt x="242" y="531"/>
                    </a:lnTo>
                    <a:lnTo>
                      <a:pt x="291" y="527"/>
                    </a:lnTo>
                    <a:lnTo>
                      <a:pt x="343" y="511"/>
                    </a:lnTo>
                    <a:lnTo>
                      <a:pt x="259" y="547"/>
                    </a:lnTo>
                    <a:lnTo>
                      <a:pt x="257" y="587"/>
                    </a:lnTo>
                    <a:lnTo>
                      <a:pt x="239" y="618"/>
                    </a:lnTo>
                    <a:lnTo>
                      <a:pt x="169" y="591"/>
                    </a:lnTo>
                    <a:lnTo>
                      <a:pt x="97" y="563"/>
                    </a:lnTo>
                    <a:lnTo>
                      <a:pt x="101" y="483"/>
                    </a:lnTo>
                    <a:lnTo>
                      <a:pt x="81" y="451"/>
                    </a:lnTo>
                    <a:lnTo>
                      <a:pt x="64" y="391"/>
                    </a:lnTo>
                    <a:lnTo>
                      <a:pt x="58" y="351"/>
                    </a:lnTo>
                    <a:lnTo>
                      <a:pt x="25" y="311"/>
                    </a:lnTo>
                    <a:lnTo>
                      <a:pt x="8" y="272"/>
                    </a:lnTo>
                    <a:lnTo>
                      <a:pt x="0" y="228"/>
                    </a:lnTo>
                    <a:lnTo>
                      <a:pt x="4" y="190"/>
                    </a:lnTo>
                    <a:lnTo>
                      <a:pt x="18" y="182"/>
                    </a:lnTo>
                    <a:lnTo>
                      <a:pt x="33" y="188"/>
                    </a:lnTo>
                    <a:lnTo>
                      <a:pt x="53" y="228"/>
                    </a:lnTo>
                    <a:lnTo>
                      <a:pt x="61" y="276"/>
                    </a:lnTo>
                    <a:lnTo>
                      <a:pt x="80" y="287"/>
                    </a:lnTo>
                    <a:lnTo>
                      <a:pt x="82" y="224"/>
                    </a:lnTo>
                    <a:lnTo>
                      <a:pt x="100" y="169"/>
                    </a:lnTo>
                    <a:lnTo>
                      <a:pt x="88" y="54"/>
                    </a:lnTo>
                    <a:lnTo>
                      <a:pt x="100" y="32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765920" y="2219040"/>
                <a:ext cx="57240" cy="41400"/>
              </a:xfrm>
              <a:custGeom>
                <a:avLst/>
                <a:gdLst/>
                <a:ahLst/>
                <a:rect l="l" t="t" r="r" b="b"/>
                <a:pathLst>
                  <a:path w="107" h="79">
                    <a:moveTo>
                      <a:pt x="12" y="12"/>
                    </a:moveTo>
                    <a:lnTo>
                      <a:pt x="37" y="0"/>
                    </a:lnTo>
                    <a:lnTo>
                      <a:pt x="85" y="1"/>
                    </a:lnTo>
                    <a:lnTo>
                      <a:pt x="107" y="16"/>
                    </a:lnTo>
                    <a:lnTo>
                      <a:pt x="91" y="17"/>
                    </a:lnTo>
                    <a:lnTo>
                      <a:pt x="84" y="47"/>
                    </a:lnTo>
                    <a:lnTo>
                      <a:pt x="47" y="53"/>
                    </a:lnTo>
                    <a:lnTo>
                      <a:pt x="29" y="53"/>
                    </a:lnTo>
                    <a:lnTo>
                      <a:pt x="40" y="79"/>
                    </a:lnTo>
                    <a:lnTo>
                      <a:pt x="13" y="61"/>
                    </a:lnTo>
                    <a:lnTo>
                      <a:pt x="0" y="35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799400" y="2350800"/>
                <a:ext cx="68040" cy="11160"/>
              </a:xfrm>
              <a:custGeom>
                <a:avLst/>
                <a:gdLst/>
                <a:ahLst/>
                <a:rect l="l" t="t" r="r" b="b"/>
                <a:pathLst>
                  <a:path w="128" h="22">
                    <a:moveTo>
                      <a:pt x="3" y="8"/>
                    </a:moveTo>
                    <a:lnTo>
                      <a:pt x="15" y="9"/>
                    </a:lnTo>
                    <a:lnTo>
                      <a:pt x="41" y="1"/>
                    </a:lnTo>
                    <a:lnTo>
                      <a:pt x="57" y="4"/>
                    </a:lnTo>
                    <a:lnTo>
                      <a:pt x="73" y="0"/>
                    </a:lnTo>
                    <a:lnTo>
                      <a:pt x="104" y="5"/>
                    </a:lnTo>
                    <a:lnTo>
                      <a:pt x="125" y="2"/>
                    </a:lnTo>
                    <a:lnTo>
                      <a:pt x="128" y="17"/>
                    </a:lnTo>
                    <a:lnTo>
                      <a:pt x="103" y="9"/>
                    </a:lnTo>
                    <a:lnTo>
                      <a:pt x="84" y="8"/>
                    </a:lnTo>
                    <a:lnTo>
                      <a:pt x="60" y="10"/>
                    </a:lnTo>
                    <a:lnTo>
                      <a:pt x="43" y="8"/>
                    </a:lnTo>
                    <a:lnTo>
                      <a:pt x="15" y="14"/>
                    </a:lnTo>
                    <a:lnTo>
                      <a:pt x="0" y="22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816680" y="2368440"/>
                <a:ext cx="41400" cy="1260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78" y="0"/>
                    </a:moveTo>
                    <a:lnTo>
                      <a:pt x="47" y="4"/>
                    </a:lnTo>
                    <a:lnTo>
                      <a:pt x="15" y="2"/>
                    </a:lnTo>
                    <a:lnTo>
                      <a:pt x="0" y="2"/>
                    </a:lnTo>
                    <a:lnTo>
                      <a:pt x="0" y="18"/>
                    </a:lnTo>
                    <a:lnTo>
                      <a:pt x="8" y="24"/>
                    </a:lnTo>
                    <a:lnTo>
                      <a:pt x="34" y="16"/>
                    </a:lnTo>
                    <a:lnTo>
                      <a:pt x="55" y="12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831080" y="233172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4" y="0"/>
                    </a:moveTo>
                    <a:lnTo>
                      <a:pt x="5" y="17"/>
                    </a:lnTo>
                    <a:lnTo>
                      <a:pt x="7" y="24"/>
                    </a:lnTo>
                    <a:lnTo>
                      <a:pt x="0" y="26"/>
                    </a:lnTo>
                    <a:lnTo>
                      <a:pt x="1" y="1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723080" y="224928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8" y="0"/>
                    </a:moveTo>
                    <a:lnTo>
                      <a:pt x="0" y="17"/>
                    </a:lnTo>
                    <a:lnTo>
                      <a:pt x="7" y="45"/>
                    </a:lnTo>
                    <a:lnTo>
                      <a:pt x="6" y="64"/>
                    </a:lnTo>
                    <a:lnTo>
                      <a:pt x="22" y="3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8290080" y="2277720"/>
              <a:ext cx="160560" cy="347760"/>
              <a:chOff x="8290080" y="2277720"/>
              <a:chExt cx="160560" cy="3477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293320" y="2277720"/>
                <a:ext cx="157320" cy="303480"/>
                <a:chOff x="8293320" y="2277720"/>
                <a:chExt cx="157320" cy="303480"/>
              </a:xfrm>
            </p:grpSpPr>
            <p:sp>
              <p:nvSpPr>
                <p:cNvPr id="413" name=""/>
                <p:cNvSpPr/>
                <p:nvPr/>
              </p:nvSpPr>
              <p:spPr>
                <a:xfrm flipH="1">
                  <a:off x="8292960" y="2277720"/>
                  <a:ext cx="15732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573">
                      <a:moveTo>
                        <a:pt x="203" y="185"/>
                      </a:moveTo>
                      <a:lnTo>
                        <a:pt x="169" y="137"/>
                      </a:lnTo>
                      <a:lnTo>
                        <a:pt x="152" y="101"/>
                      </a:lnTo>
                      <a:lnTo>
                        <a:pt x="136" y="64"/>
                      </a:lnTo>
                      <a:lnTo>
                        <a:pt x="112" y="26"/>
                      </a:lnTo>
                      <a:lnTo>
                        <a:pt x="101" y="8"/>
                      </a:lnTo>
                      <a:lnTo>
                        <a:pt x="82" y="0"/>
                      </a:lnTo>
                      <a:lnTo>
                        <a:pt x="68" y="3"/>
                      </a:lnTo>
                      <a:lnTo>
                        <a:pt x="62" y="20"/>
                      </a:lnTo>
                      <a:lnTo>
                        <a:pt x="62" y="39"/>
                      </a:lnTo>
                      <a:lnTo>
                        <a:pt x="80" y="80"/>
                      </a:lnTo>
                      <a:lnTo>
                        <a:pt x="96" y="119"/>
                      </a:lnTo>
                      <a:lnTo>
                        <a:pt x="113" y="155"/>
                      </a:lnTo>
                      <a:lnTo>
                        <a:pt x="124" y="200"/>
                      </a:lnTo>
                      <a:lnTo>
                        <a:pt x="93" y="191"/>
                      </a:lnTo>
                      <a:lnTo>
                        <a:pt x="70" y="208"/>
                      </a:lnTo>
                      <a:lnTo>
                        <a:pt x="70" y="244"/>
                      </a:lnTo>
                      <a:lnTo>
                        <a:pt x="50" y="240"/>
                      </a:lnTo>
                      <a:lnTo>
                        <a:pt x="30" y="257"/>
                      </a:lnTo>
                      <a:lnTo>
                        <a:pt x="32" y="284"/>
                      </a:lnTo>
                      <a:lnTo>
                        <a:pt x="14" y="292"/>
                      </a:lnTo>
                      <a:lnTo>
                        <a:pt x="0" y="316"/>
                      </a:lnTo>
                      <a:lnTo>
                        <a:pt x="4" y="348"/>
                      </a:lnTo>
                      <a:lnTo>
                        <a:pt x="2" y="381"/>
                      </a:lnTo>
                      <a:lnTo>
                        <a:pt x="24" y="444"/>
                      </a:lnTo>
                      <a:lnTo>
                        <a:pt x="51" y="491"/>
                      </a:lnTo>
                      <a:lnTo>
                        <a:pt x="80" y="510"/>
                      </a:lnTo>
                      <a:lnTo>
                        <a:pt x="100" y="521"/>
                      </a:lnTo>
                      <a:lnTo>
                        <a:pt x="143" y="573"/>
                      </a:lnTo>
                      <a:lnTo>
                        <a:pt x="285" y="518"/>
                      </a:lnTo>
                      <a:lnTo>
                        <a:pt x="265" y="459"/>
                      </a:lnTo>
                      <a:lnTo>
                        <a:pt x="281" y="419"/>
                      </a:lnTo>
                      <a:lnTo>
                        <a:pt x="287" y="368"/>
                      </a:lnTo>
                      <a:lnTo>
                        <a:pt x="299" y="313"/>
                      </a:lnTo>
                      <a:lnTo>
                        <a:pt x="289" y="270"/>
                      </a:lnTo>
                      <a:lnTo>
                        <a:pt x="267" y="261"/>
                      </a:lnTo>
                      <a:lnTo>
                        <a:pt x="240" y="233"/>
                      </a:lnTo>
                      <a:lnTo>
                        <a:pt x="203" y="185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6480">
                  <a:solidFill>
                    <a:srgbClr val="603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8310960" y="2390400"/>
                  <a:ext cx="93600" cy="65160"/>
                </a:xfrm>
                <a:custGeom>
                  <a:avLst/>
                  <a:gdLst/>
                  <a:ahLst/>
                  <a:rect l="l" t="t" r="r" b="b"/>
                  <a:pathLst>
                    <a:path w="175" h="122">
                      <a:moveTo>
                        <a:pt x="175" y="53"/>
                      </a:moveTo>
                      <a:lnTo>
                        <a:pt x="124" y="28"/>
                      </a:lnTo>
                      <a:lnTo>
                        <a:pt x="102" y="8"/>
                      </a:lnTo>
                      <a:lnTo>
                        <a:pt x="76" y="7"/>
                      </a:lnTo>
                      <a:lnTo>
                        <a:pt x="66" y="19"/>
                      </a:lnTo>
                      <a:lnTo>
                        <a:pt x="43" y="27"/>
                      </a:lnTo>
                      <a:lnTo>
                        <a:pt x="4" y="33"/>
                      </a:lnTo>
                      <a:lnTo>
                        <a:pt x="7" y="55"/>
                      </a:lnTo>
                      <a:lnTo>
                        <a:pt x="35" y="71"/>
                      </a:lnTo>
                      <a:lnTo>
                        <a:pt x="76" y="71"/>
                      </a:lnTo>
                      <a:lnTo>
                        <a:pt x="98" y="73"/>
                      </a:lnTo>
                      <a:lnTo>
                        <a:pt x="130" y="96"/>
                      </a:lnTo>
                      <a:lnTo>
                        <a:pt x="136" y="122"/>
                      </a:lnTo>
                      <a:lnTo>
                        <a:pt x="122" y="100"/>
                      </a:lnTo>
                      <a:lnTo>
                        <a:pt x="92" y="77"/>
                      </a:lnTo>
                      <a:lnTo>
                        <a:pt x="59" y="77"/>
                      </a:lnTo>
                      <a:lnTo>
                        <a:pt x="40" y="77"/>
                      </a:lnTo>
                      <a:lnTo>
                        <a:pt x="24" y="73"/>
                      </a:lnTo>
                      <a:lnTo>
                        <a:pt x="11" y="65"/>
                      </a:lnTo>
                      <a:lnTo>
                        <a:pt x="4" y="57"/>
                      </a:lnTo>
                      <a:lnTo>
                        <a:pt x="0" y="41"/>
                      </a:lnTo>
                      <a:lnTo>
                        <a:pt x="0" y="31"/>
                      </a:lnTo>
                      <a:lnTo>
                        <a:pt x="8" y="27"/>
                      </a:lnTo>
                      <a:lnTo>
                        <a:pt x="31" y="23"/>
                      </a:lnTo>
                      <a:lnTo>
                        <a:pt x="44" y="20"/>
                      </a:lnTo>
                      <a:lnTo>
                        <a:pt x="63" y="12"/>
                      </a:lnTo>
                      <a:lnTo>
                        <a:pt x="70" y="4"/>
                      </a:lnTo>
                      <a:lnTo>
                        <a:pt x="84" y="0"/>
                      </a:lnTo>
                      <a:lnTo>
                        <a:pt x="102" y="3"/>
                      </a:lnTo>
                      <a:lnTo>
                        <a:pt x="118" y="12"/>
                      </a:lnTo>
                      <a:lnTo>
                        <a:pt x="130" y="24"/>
                      </a:lnTo>
                      <a:lnTo>
                        <a:pt x="144" y="24"/>
                      </a:lnTo>
                      <a:lnTo>
                        <a:pt x="175" y="53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8352000" y="2430360"/>
                  <a:ext cx="90720" cy="71280"/>
                </a:xfrm>
                <a:custGeom>
                  <a:avLst/>
                  <a:gdLst/>
                  <a:ahLst/>
                  <a:rect l="l" t="t" r="r" b="b"/>
                  <a:pathLst>
                    <a:path w="172" h="134">
                      <a:moveTo>
                        <a:pt x="152" y="0"/>
                      </a:moveTo>
                      <a:lnTo>
                        <a:pt x="166" y="27"/>
                      </a:lnTo>
                      <a:lnTo>
                        <a:pt x="166" y="49"/>
                      </a:lnTo>
                      <a:lnTo>
                        <a:pt x="160" y="67"/>
                      </a:lnTo>
                      <a:lnTo>
                        <a:pt x="148" y="71"/>
                      </a:lnTo>
                      <a:lnTo>
                        <a:pt x="136" y="68"/>
                      </a:lnTo>
                      <a:lnTo>
                        <a:pt x="125" y="63"/>
                      </a:lnTo>
                      <a:lnTo>
                        <a:pt x="133" y="87"/>
                      </a:lnTo>
                      <a:lnTo>
                        <a:pt x="133" y="99"/>
                      </a:lnTo>
                      <a:lnTo>
                        <a:pt x="129" y="109"/>
                      </a:lnTo>
                      <a:lnTo>
                        <a:pt x="125" y="115"/>
                      </a:lnTo>
                      <a:lnTo>
                        <a:pt x="114" y="115"/>
                      </a:lnTo>
                      <a:lnTo>
                        <a:pt x="101" y="111"/>
                      </a:lnTo>
                      <a:lnTo>
                        <a:pt x="92" y="105"/>
                      </a:lnTo>
                      <a:lnTo>
                        <a:pt x="90" y="119"/>
                      </a:lnTo>
                      <a:lnTo>
                        <a:pt x="86" y="127"/>
                      </a:lnTo>
                      <a:lnTo>
                        <a:pt x="74" y="128"/>
                      </a:lnTo>
                      <a:lnTo>
                        <a:pt x="63" y="122"/>
                      </a:lnTo>
                      <a:lnTo>
                        <a:pt x="51" y="115"/>
                      </a:lnTo>
                      <a:lnTo>
                        <a:pt x="43" y="93"/>
                      </a:lnTo>
                      <a:lnTo>
                        <a:pt x="9" y="68"/>
                      </a:lnTo>
                      <a:lnTo>
                        <a:pt x="5" y="63"/>
                      </a:lnTo>
                      <a:lnTo>
                        <a:pt x="15" y="79"/>
                      </a:lnTo>
                      <a:lnTo>
                        <a:pt x="12" y="87"/>
                      </a:lnTo>
                      <a:lnTo>
                        <a:pt x="0" y="89"/>
                      </a:lnTo>
                      <a:lnTo>
                        <a:pt x="15" y="91"/>
                      </a:lnTo>
                      <a:lnTo>
                        <a:pt x="24" y="92"/>
                      </a:lnTo>
                      <a:lnTo>
                        <a:pt x="40" y="96"/>
                      </a:lnTo>
                      <a:lnTo>
                        <a:pt x="44" y="112"/>
                      </a:lnTo>
                      <a:lnTo>
                        <a:pt x="52" y="122"/>
                      </a:lnTo>
                      <a:lnTo>
                        <a:pt x="65" y="128"/>
                      </a:lnTo>
                      <a:lnTo>
                        <a:pt x="76" y="134"/>
                      </a:lnTo>
                      <a:lnTo>
                        <a:pt x="86" y="132"/>
                      </a:lnTo>
                      <a:lnTo>
                        <a:pt x="94" y="126"/>
                      </a:lnTo>
                      <a:lnTo>
                        <a:pt x="96" y="112"/>
                      </a:lnTo>
                      <a:lnTo>
                        <a:pt x="109" y="118"/>
                      </a:lnTo>
                      <a:lnTo>
                        <a:pt x="126" y="120"/>
                      </a:lnTo>
                      <a:lnTo>
                        <a:pt x="133" y="113"/>
                      </a:lnTo>
                      <a:lnTo>
                        <a:pt x="137" y="101"/>
                      </a:lnTo>
                      <a:lnTo>
                        <a:pt x="137" y="91"/>
                      </a:lnTo>
                      <a:lnTo>
                        <a:pt x="134" y="83"/>
                      </a:lnTo>
                      <a:lnTo>
                        <a:pt x="136" y="73"/>
                      </a:lnTo>
                      <a:lnTo>
                        <a:pt x="144" y="75"/>
                      </a:lnTo>
                      <a:lnTo>
                        <a:pt x="161" y="75"/>
                      </a:lnTo>
                      <a:lnTo>
                        <a:pt x="169" y="63"/>
                      </a:lnTo>
                      <a:lnTo>
                        <a:pt x="172" y="48"/>
                      </a:lnTo>
                      <a:lnTo>
                        <a:pt x="172" y="32"/>
                      </a:lnTo>
                      <a:lnTo>
                        <a:pt x="168" y="17"/>
                      </a:lnTo>
                      <a:lnTo>
                        <a:pt x="164" y="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8370720" y="2404800"/>
                  <a:ext cx="42840" cy="66600"/>
                </a:xfrm>
                <a:custGeom>
                  <a:avLst/>
                  <a:gdLst/>
                  <a:ahLst/>
                  <a:rect l="l" t="t" r="r" b="b"/>
                  <a:pathLst>
                    <a:path w="80" h="127">
                      <a:moveTo>
                        <a:pt x="0" y="10"/>
                      </a:moveTo>
                      <a:lnTo>
                        <a:pt x="1" y="0"/>
                      </a:lnTo>
                      <a:lnTo>
                        <a:pt x="17" y="27"/>
                      </a:lnTo>
                      <a:lnTo>
                        <a:pt x="32" y="51"/>
                      </a:lnTo>
                      <a:lnTo>
                        <a:pt x="50" y="77"/>
                      </a:lnTo>
                      <a:lnTo>
                        <a:pt x="80" y="118"/>
                      </a:lnTo>
                      <a:lnTo>
                        <a:pt x="77" y="127"/>
                      </a:lnTo>
                      <a:lnTo>
                        <a:pt x="62" y="106"/>
                      </a:lnTo>
                      <a:lnTo>
                        <a:pt x="46" y="83"/>
                      </a:lnTo>
                      <a:lnTo>
                        <a:pt x="33" y="66"/>
                      </a:lnTo>
                      <a:lnTo>
                        <a:pt x="30" y="55"/>
                      </a:lnTo>
                      <a:lnTo>
                        <a:pt x="12" y="3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8391240" y="2438280"/>
                  <a:ext cx="34920" cy="50760"/>
                </a:xfrm>
                <a:custGeom>
                  <a:avLst/>
                  <a:gdLst/>
                  <a:ahLst/>
                  <a:rect l="l" t="t" r="r" b="b"/>
                  <a:pathLst>
                    <a:path w="66" h="98">
                      <a:moveTo>
                        <a:pt x="0" y="0"/>
                      </a:moveTo>
                      <a:lnTo>
                        <a:pt x="21" y="30"/>
                      </a:lnTo>
                      <a:lnTo>
                        <a:pt x="35" y="48"/>
                      </a:lnTo>
                      <a:lnTo>
                        <a:pt x="45" y="62"/>
                      </a:lnTo>
                      <a:lnTo>
                        <a:pt x="66" y="96"/>
                      </a:lnTo>
                      <a:lnTo>
                        <a:pt x="61" y="98"/>
                      </a:lnTo>
                      <a:lnTo>
                        <a:pt x="50" y="80"/>
                      </a:lnTo>
                      <a:lnTo>
                        <a:pt x="40" y="60"/>
                      </a:lnTo>
                      <a:lnTo>
                        <a:pt x="19" y="38"/>
                      </a:lnTo>
                      <a:lnTo>
                        <a:pt x="12" y="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8359920" y="2441520"/>
                  <a:ext cx="15840" cy="792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8" y="17"/>
                      </a:moveTo>
                      <a:lnTo>
                        <a:pt x="21" y="4"/>
                      </a:lnTo>
                      <a:lnTo>
                        <a:pt x="12" y="4"/>
                      </a:lnTo>
                      <a:lnTo>
                        <a:pt x="4" y="8"/>
                      </a:lnTo>
                      <a:lnTo>
                        <a:pt x="0" y="17"/>
                      </a:lnTo>
                      <a:lnTo>
                        <a:pt x="0" y="4"/>
                      </a:lnTo>
                      <a:lnTo>
                        <a:pt x="12" y="0"/>
                      </a:lnTo>
                      <a:lnTo>
                        <a:pt x="20" y="1"/>
                      </a:lnTo>
                      <a:lnTo>
                        <a:pt x="28" y="17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8375760" y="246996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31" h="24">
                      <a:moveTo>
                        <a:pt x="31" y="12"/>
                      </a:moveTo>
                      <a:lnTo>
                        <a:pt x="24" y="6"/>
                      </a:lnTo>
                      <a:lnTo>
                        <a:pt x="13" y="6"/>
                      </a:lnTo>
                      <a:lnTo>
                        <a:pt x="5" y="11"/>
                      </a:lnTo>
                      <a:lnTo>
                        <a:pt x="5" y="24"/>
                      </a:lnTo>
                      <a:lnTo>
                        <a:pt x="0" y="14"/>
                      </a:lnTo>
                      <a:lnTo>
                        <a:pt x="4" y="4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31" y="12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8399160" y="248256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17" y="4"/>
                      </a:moveTo>
                      <a:lnTo>
                        <a:pt x="11" y="4"/>
                      </a:lnTo>
                      <a:lnTo>
                        <a:pt x="3" y="7"/>
                      </a:lnTo>
                      <a:lnTo>
                        <a:pt x="3" y="14"/>
                      </a:lnTo>
                      <a:lnTo>
                        <a:pt x="0" y="16"/>
                      </a:lnTo>
                      <a:lnTo>
                        <a:pt x="0" y="3"/>
                      </a:lnTo>
                      <a:lnTo>
                        <a:pt x="9" y="0"/>
                      </a:lnTo>
                      <a:lnTo>
                        <a:pt x="17" y="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8372520" y="2381040"/>
                  <a:ext cx="12600" cy="1908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8" y="34"/>
                      </a:lnTo>
                      <a:lnTo>
                        <a:pt x="23" y="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8359560" y="2490480"/>
                  <a:ext cx="17640" cy="34920"/>
                </a:xfrm>
                <a:custGeom>
                  <a:avLst/>
                  <a:gdLst/>
                  <a:ahLst/>
                  <a:rect l="l" t="t" r="r" b="b"/>
                  <a:pathLst>
                    <a:path w="34" h="66">
                      <a:moveTo>
                        <a:pt x="10" y="0"/>
                      </a:moveTo>
                      <a:lnTo>
                        <a:pt x="12" y="26"/>
                      </a:lnTo>
                      <a:lnTo>
                        <a:pt x="20" y="51"/>
                      </a:lnTo>
                      <a:lnTo>
                        <a:pt x="34" y="66"/>
                      </a:lnTo>
                      <a:lnTo>
                        <a:pt x="14" y="62"/>
                      </a:lnTo>
                      <a:lnTo>
                        <a:pt x="12" y="47"/>
                      </a:lnTo>
                      <a:lnTo>
                        <a:pt x="8" y="23"/>
                      </a:lnTo>
                      <a:lnTo>
                        <a:pt x="0" y="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8290080" y="2538360"/>
                <a:ext cx="93600" cy="87120"/>
                <a:chOff x="8290080" y="2538360"/>
                <a:chExt cx="93600" cy="87120"/>
              </a:xfrm>
            </p:grpSpPr>
            <p:sp>
              <p:nvSpPr>
                <p:cNvPr id="424" name=""/>
                <p:cNvSpPr/>
                <p:nvPr/>
              </p:nvSpPr>
              <p:spPr>
                <a:xfrm flipH="1">
                  <a:off x="8290080" y="2538360"/>
                  <a:ext cx="93600" cy="87120"/>
                </a:xfrm>
                <a:custGeom>
                  <a:avLst/>
                  <a:gdLst/>
                  <a:ahLst/>
                  <a:rect l="l" t="t" r="r" b="b"/>
                  <a:pathLst>
                    <a:path w="177" h="166">
                      <a:moveTo>
                        <a:pt x="0" y="77"/>
                      </a:moveTo>
                      <a:lnTo>
                        <a:pt x="45" y="65"/>
                      </a:lnTo>
                      <a:lnTo>
                        <a:pt x="105" y="39"/>
                      </a:lnTo>
                      <a:lnTo>
                        <a:pt x="148" y="15"/>
                      </a:lnTo>
                      <a:lnTo>
                        <a:pt x="153" y="0"/>
                      </a:lnTo>
                      <a:lnTo>
                        <a:pt x="177" y="73"/>
                      </a:lnTo>
                      <a:lnTo>
                        <a:pt x="137" y="132"/>
                      </a:lnTo>
                      <a:lnTo>
                        <a:pt x="81" y="163"/>
                      </a:lnTo>
                      <a:lnTo>
                        <a:pt x="21" y="166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8297640" y="2552400"/>
                  <a:ext cx="79560" cy="65160"/>
                </a:xfrm>
                <a:custGeom>
                  <a:avLst/>
                  <a:gdLst/>
                  <a:ahLst/>
                  <a:rect l="l" t="t" r="r" b="b"/>
                  <a:pathLst>
                    <a:path w="150" h="124">
                      <a:moveTo>
                        <a:pt x="0" y="57"/>
                      </a:moveTo>
                      <a:lnTo>
                        <a:pt x="18" y="124"/>
                      </a:lnTo>
                      <a:lnTo>
                        <a:pt x="57" y="120"/>
                      </a:lnTo>
                      <a:lnTo>
                        <a:pt x="109" y="96"/>
                      </a:lnTo>
                      <a:lnTo>
                        <a:pt x="150" y="46"/>
                      </a:lnTo>
                      <a:lnTo>
                        <a:pt x="136" y="0"/>
                      </a:lnTo>
                      <a:lnTo>
                        <a:pt x="68" y="37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716040" y="2421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Vezetői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menetek: kismennyiségű ad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dolgozás: interaktí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imenetek: döntési elem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használók: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szakértők, professzionális személyz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Példa: szerződési költségek elemzé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Döntéstámogató rendszerek (DSS)</a:t>
            </a:r>
            <a:br>
              <a:rPr sz="30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B78-7209-4D66-B371-385A1EACE793}" type="slidenum">
              <a:t>1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Döntéstámogató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57360" y="4879800"/>
            <a:ext cx="27000" cy="144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60840" y="4865760"/>
            <a:ext cx="1736640" cy="2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84520" y="3073320"/>
            <a:ext cx="27000" cy="130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60840" y="2698920"/>
            <a:ext cx="3690720" cy="2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820880" y="2241720"/>
            <a:ext cx="1376280" cy="9410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536920"/>
            <a:ext cx="1809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680" y="25891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P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72320" y="2205000"/>
            <a:ext cx="1376280" cy="941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656320" y="2371680"/>
            <a:ext cx="180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68680" y="2424240"/>
            <a:ext cx="75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KÜLSŐ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67520" y="2684520"/>
            <a:ext cx="92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82960" y="1989000"/>
            <a:ext cx="1301760" cy="1444680"/>
            <a:chOff x="3882960" y="1989000"/>
            <a:chExt cx="1301760" cy="1444680"/>
          </a:xfrm>
        </p:grpSpPr>
        <p:sp>
          <p:nvSpPr>
            <p:cNvPr id="441" name=""/>
            <p:cNvSpPr/>
            <p:nvPr/>
          </p:nvSpPr>
          <p:spPr>
            <a:xfrm>
              <a:off x="3882960" y="1989000"/>
              <a:ext cx="1301760" cy="1444680"/>
            </a:xfrm>
            <a:custGeom>
              <a:avLst/>
              <a:gdLst/>
              <a:ahLst/>
              <a:rect l="l" t="t" r="r" b="b"/>
              <a:pathLst>
                <a:path w="1640" h="1822">
                  <a:moveTo>
                    <a:pt x="820" y="0"/>
                  </a:moveTo>
                  <a:lnTo>
                    <a:pt x="736" y="2"/>
                  </a:lnTo>
                  <a:lnTo>
                    <a:pt x="655" y="6"/>
                  </a:lnTo>
                  <a:lnTo>
                    <a:pt x="575" y="14"/>
                  </a:lnTo>
                  <a:lnTo>
                    <a:pt x="501" y="23"/>
                  </a:lnTo>
                  <a:lnTo>
                    <a:pt x="429" y="35"/>
                  </a:lnTo>
                  <a:lnTo>
                    <a:pt x="360" y="50"/>
                  </a:lnTo>
                  <a:lnTo>
                    <a:pt x="298" y="65"/>
                  </a:lnTo>
                  <a:lnTo>
                    <a:pt x="239" y="84"/>
                  </a:lnTo>
                  <a:lnTo>
                    <a:pt x="188" y="105"/>
                  </a:lnTo>
                  <a:lnTo>
                    <a:pt x="140" y="126"/>
                  </a:lnTo>
                  <a:lnTo>
                    <a:pt x="98" y="150"/>
                  </a:lnTo>
                  <a:lnTo>
                    <a:pt x="64" y="175"/>
                  </a:lnTo>
                  <a:lnTo>
                    <a:pt x="36" y="202"/>
                  </a:lnTo>
                  <a:lnTo>
                    <a:pt x="26" y="215"/>
                  </a:lnTo>
                  <a:lnTo>
                    <a:pt x="17" y="228"/>
                  </a:lnTo>
                  <a:lnTo>
                    <a:pt x="9" y="243"/>
                  </a:lnTo>
                  <a:lnTo>
                    <a:pt x="3" y="257"/>
                  </a:lnTo>
                  <a:lnTo>
                    <a:pt x="1" y="272"/>
                  </a:lnTo>
                  <a:lnTo>
                    <a:pt x="0" y="287"/>
                  </a:lnTo>
                  <a:lnTo>
                    <a:pt x="0" y="1535"/>
                  </a:lnTo>
                  <a:lnTo>
                    <a:pt x="1" y="1550"/>
                  </a:lnTo>
                  <a:lnTo>
                    <a:pt x="3" y="1566"/>
                  </a:lnTo>
                  <a:lnTo>
                    <a:pt x="9" y="1579"/>
                  </a:lnTo>
                  <a:lnTo>
                    <a:pt x="17" y="1594"/>
                  </a:lnTo>
                  <a:lnTo>
                    <a:pt x="26" y="1607"/>
                  </a:lnTo>
                  <a:lnTo>
                    <a:pt x="36" y="1621"/>
                  </a:lnTo>
                  <a:lnTo>
                    <a:pt x="64" y="1647"/>
                  </a:lnTo>
                  <a:lnTo>
                    <a:pt x="98" y="1672"/>
                  </a:lnTo>
                  <a:lnTo>
                    <a:pt x="140" y="1697"/>
                  </a:lnTo>
                  <a:lnTo>
                    <a:pt x="188" y="1717"/>
                  </a:lnTo>
                  <a:lnTo>
                    <a:pt x="239" y="1738"/>
                  </a:lnTo>
                  <a:lnTo>
                    <a:pt x="298" y="1757"/>
                  </a:lnTo>
                  <a:lnTo>
                    <a:pt x="360" y="1772"/>
                  </a:lnTo>
                  <a:lnTo>
                    <a:pt x="429" y="1788"/>
                  </a:lnTo>
                  <a:lnTo>
                    <a:pt x="501" y="1799"/>
                  </a:lnTo>
                  <a:lnTo>
                    <a:pt x="575" y="1808"/>
                  </a:lnTo>
                  <a:lnTo>
                    <a:pt x="655" y="1816"/>
                  </a:lnTo>
                  <a:lnTo>
                    <a:pt x="736" y="1820"/>
                  </a:lnTo>
                  <a:lnTo>
                    <a:pt x="820" y="1822"/>
                  </a:lnTo>
                  <a:lnTo>
                    <a:pt x="904" y="1820"/>
                  </a:lnTo>
                  <a:lnTo>
                    <a:pt x="985" y="1816"/>
                  </a:lnTo>
                  <a:lnTo>
                    <a:pt x="1065" y="1808"/>
                  </a:lnTo>
                  <a:lnTo>
                    <a:pt x="1139" y="1799"/>
                  </a:lnTo>
                  <a:lnTo>
                    <a:pt x="1211" y="1788"/>
                  </a:lnTo>
                  <a:lnTo>
                    <a:pt x="1280" y="1772"/>
                  </a:lnTo>
                  <a:lnTo>
                    <a:pt x="1342" y="1757"/>
                  </a:lnTo>
                  <a:lnTo>
                    <a:pt x="1401" y="1738"/>
                  </a:lnTo>
                  <a:lnTo>
                    <a:pt x="1454" y="1717"/>
                  </a:lnTo>
                  <a:lnTo>
                    <a:pt x="1500" y="1697"/>
                  </a:lnTo>
                  <a:lnTo>
                    <a:pt x="1542" y="1672"/>
                  </a:lnTo>
                  <a:lnTo>
                    <a:pt x="1576" y="1647"/>
                  </a:lnTo>
                  <a:lnTo>
                    <a:pt x="1604" y="1621"/>
                  </a:lnTo>
                  <a:lnTo>
                    <a:pt x="1614" y="1607"/>
                  </a:lnTo>
                  <a:lnTo>
                    <a:pt x="1623" y="1594"/>
                  </a:lnTo>
                  <a:lnTo>
                    <a:pt x="1631" y="1579"/>
                  </a:lnTo>
                  <a:lnTo>
                    <a:pt x="1637" y="1566"/>
                  </a:lnTo>
                  <a:lnTo>
                    <a:pt x="1639" y="1550"/>
                  </a:lnTo>
                  <a:lnTo>
                    <a:pt x="1640" y="1535"/>
                  </a:lnTo>
                  <a:lnTo>
                    <a:pt x="1640" y="287"/>
                  </a:lnTo>
                  <a:lnTo>
                    <a:pt x="1639" y="272"/>
                  </a:lnTo>
                  <a:lnTo>
                    <a:pt x="1637" y="257"/>
                  </a:lnTo>
                  <a:lnTo>
                    <a:pt x="1631" y="243"/>
                  </a:lnTo>
                  <a:lnTo>
                    <a:pt x="1623" y="228"/>
                  </a:lnTo>
                  <a:lnTo>
                    <a:pt x="1614" y="215"/>
                  </a:lnTo>
                  <a:lnTo>
                    <a:pt x="1604" y="202"/>
                  </a:lnTo>
                  <a:lnTo>
                    <a:pt x="1576" y="175"/>
                  </a:lnTo>
                  <a:lnTo>
                    <a:pt x="1542" y="150"/>
                  </a:lnTo>
                  <a:lnTo>
                    <a:pt x="1500" y="126"/>
                  </a:lnTo>
                  <a:lnTo>
                    <a:pt x="1454" y="105"/>
                  </a:lnTo>
                  <a:lnTo>
                    <a:pt x="1401" y="84"/>
                  </a:lnTo>
                  <a:lnTo>
                    <a:pt x="1342" y="65"/>
                  </a:lnTo>
                  <a:lnTo>
                    <a:pt x="1280" y="50"/>
                  </a:lnTo>
                  <a:lnTo>
                    <a:pt x="1211" y="35"/>
                  </a:lnTo>
                  <a:lnTo>
                    <a:pt x="1139" y="23"/>
                  </a:lnTo>
                  <a:lnTo>
                    <a:pt x="1065" y="14"/>
                  </a:lnTo>
                  <a:lnTo>
                    <a:pt x="985" y="6"/>
                  </a:lnTo>
                  <a:lnTo>
                    <a:pt x="904" y="2"/>
                  </a:lnTo>
                  <a:lnTo>
                    <a:pt x="820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82960" y="1989000"/>
              <a:ext cx="1301760" cy="1444680"/>
            </a:xfrm>
            <a:custGeom>
              <a:avLst/>
              <a:gdLst/>
              <a:ahLst/>
              <a:rect l="l" t="t" r="r" b="b"/>
              <a:pathLst>
                <a:path w="1640" h="1822">
                  <a:moveTo>
                    <a:pt x="820" y="0"/>
                  </a:moveTo>
                  <a:lnTo>
                    <a:pt x="736" y="2"/>
                  </a:lnTo>
                  <a:lnTo>
                    <a:pt x="655" y="6"/>
                  </a:lnTo>
                  <a:lnTo>
                    <a:pt x="575" y="14"/>
                  </a:lnTo>
                  <a:lnTo>
                    <a:pt x="501" y="23"/>
                  </a:lnTo>
                  <a:lnTo>
                    <a:pt x="429" y="35"/>
                  </a:lnTo>
                  <a:lnTo>
                    <a:pt x="360" y="50"/>
                  </a:lnTo>
                  <a:lnTo>
                    <a:pt x="298" y="65"/>
                  </a:lnTo>
                  <a:lnTo>
                    <a:pt x="239" y="84"/>
                  </a:lnTo>
                  <a:lnTo>
                    <a:pt x="188" y="105"/>
                  </a:lnTo>
                  <a:lnTo>
                    <a:pt x="140" y="126"/>
                  </a:lnTo>
                  <a:lnTo>
                    <a:pt x="98" y="150"/>
                  </a:lnTo>
                  <a:lnTo>
                    <a:pt x="64" y="175"/>
                  </a:lnTo>
                  <a:lnTo>
                    <a:pt x="36" y="202"/>
                  </a:lnTo>
                  <a:lnTo>
                    <a:pt x="26" y="215"/>
                  </a:lnTo>
                  <a:lnTo>
                    <a:pt x="17" y="228"/>
                  </a:lnTo>
                  <a:lnTo>
                    <a:pt x="9" y="243"/>
                  </a:lnTo>
                  <a:lnTo>
                    <a:pt x="3" y="257"/>
                  </a:lnTo>
                  <a:lnTo>
                    <a:pt x="1" y="272"/>
                  </a:lnTo>
                  <a:lnTo>
                    <a:pt x="0" y="287"/>
                  </a:lnTo>
                  <a:lnTo>
                    <a:pt x="0" y="1535"/>
                  </a:lnTo>
                  <a:lnTo>
                    <a:pt x="1" y="1550"/>
                  </a:lnTo>
                  <a:lnTo>
                    <a:pt x="3" y="1566"/>
                  </a:lnTo>
                  <a:lnTo>
                    <a:pt x="9" y="1579"/>
                  </a:lnTo>
                  <a:lnTo>
                    <a:pt x="17" y="1594"/>
                  </a:lnTo>
                  <a:lnTo>
                    <a:pt x="26" y="1607"/>
                  </a:lnTo>
                  <a:lnTo>
                    <a:pt x="36" y="1621"/>
                  </a:lnTo>
                  <a:lnTo>
                    <a:pt x="64" y="1647"/>
                  </a:lnTo>
                  <a:lnTo>
                    <a:pt x="98" y="1672"/>
                  </a:lnTo>
                  <a:lnTo>
                    <a:pt x="140" y="1697"/>
                  </a:lnTo>
                  <a:lnTo>
                    <a:pt x="188" y="1717"/>
                  </a:lnTo>
                  <a:lnTo>
                    <a:pt x="239" y="1738"/>
                  </a:lnTo>
                  <a:lnTo>
                    <a:pt x="298" y="1757"/>
                  </a:lnTo>
                  <a:lnTo>
                    <a:pt x="360" y="1772"/>
                  </a:lnTo>
                  <a:lnTo>
                    <a:pt x="429" y="1788"/>
                  </a:lnTo>
                  <a:lnTo>
                    <a:pt x="501" y="1799"/>
                  </a:lnTo>
                  <a:lnTo>
                    <a:pt x="575" y="1808"/>
                  </a:lnTo>
                  <a:lnTo>
                    <a:pt x="655" y="1816"/>
                  </a:lnTo>
                  <a:lnTo>
                    <a:pt x="736" y="1820"/>
                  </a:lnTo>
                  <a:lnTo>
                    <a:pt x="820" y="1822"/>
                  </a:lnTo>
                  <a:lnTo>
                    <a:pt x="904" y="1820"/>
                  </a:lnTo>
                  <a:lnTo>
                    <a:pt x="985" y="1816"/>
                  </a:lnTo>
                  <a:lnTo>
                    <a:pt x="1065" y="1808"/>
                  </a:lnTo>
                  <a:lnTo>
                    <a:pt x="1139" y="1799"/>
                  </a:lnTo>
                  <a:lnTo>
                    <a:pt x="1211" y="1788"/>
                  </a:lnTo>
                  <a:lnTo>
                    <a:pt x="1280" y="1772"/>
                  </a:lnTo>
                  <a:lnTo>
                    <a:pt x="1342" y="1757"/>
                  </a:lnTo>
                  <a:lnTo>
                    <a:pt x="1401" y="1738"/>
                  </a:lnTo>
                  <a:lnTo>
                    <a:pt x="1454" y="1717"/>
                  </a:lnTo>
                  <a:lnTo>
                    <a:pt x="1500" y="1697"/>
                  </a:lnTo>
                  <a:lnTo>
                    <a:pt x="1542" y="1672"/>
                  </a:lnTo>
                  <a:lnTo>
                    <a:pt x="1576" y="1647"/>
                  </a:lnTo>
                  <a:lnTo>
                    <a:pt x="1604" y="1621"/>
                  </a:lnTo>
                  <a:lnTo>
                    <a:pt x="1614" y="1607"/>
                  </a:lnTo>
                  <a:lnTo>
                    <a:pt x="1623" y="1594"/>
                  </a:lnTo>
                  <a:lnTo>
                    <a:pt x="1631" y="1579"/>
                  </a:lnTo>
                  <a:lnTo>
                    <a:pt x="1637" y="1566"/>
                  </a:lnTo>
                  <a:lnTo>
                    <a:pt x="1639" y="1550"/>
                  </a:lnTo>
                  <a:lnTo>
                    <a:pt x="1640" y="1535"/>
                  </a:lnTo>
                  <a:lnTo>
                    <a:pt x="1640" y="287"/>
                  </a:lnTo>
                  <a:lnTo>
                    <a:pt x="1639" y="272"/>
                  </a:lnTo>
                  <a:lnTo>
                    <a:pt x="1637" y="257"/>
                  </a:lnTo>
                  <a:lnTo>
                    <a:pt x="1631" y="243"/>
                  </a:lnTo>
                  <a:lnTo>
                    <a:pt x="1623" y="228"/>
                  </a:lnTo>
                  <a:lnTo>
                    <a:pt x="1614" y="215"/>
                  </a:lnTo>
                  <a:lnTo>
                    <a:pt x="1604" y="202"/>
                  </a:lnTo>
                  <a:lnTo>
                    <a:pt x="1576" y="175"/>
                  </a:lnTo>
                  <a:lnTo>
                    <a:pt x="1542" y="150"/>
                  </a:lnTo>
                  <a:lnTo>
                    <a:pt x="1500" y="126"/>
                  </a:lnTo>
                  <a:lnTo>
                    <a:pt x="1454" y="105"/>
                  </a:lnTo>
                  <a:lnTo>
                    <a:pt x="1401" y="84"/>
                  </a:lnTo>
                  <a:lnTo>
                    <a:pt x="1342" y="65"/>
                  </a:lnTo>
                  <a:lnTo>
                    <a:pt x="1280" y="50"/>
                  </a:lnTo>
                  <a:lnTo>
                    <a:pt x="1211" y="35"/>
                  </a:lnTo>
                  <a:lnTo>
                    <a:pt x="1139" y="23"/>
                  </a:lnTo>
                  <a:lnTo>
                    <a:pt x="1065" y="14"/>
                  </a:lnTo>
                  <a:lnTo>
                    <a:pt x="985" y="6"/>
                  </a:lnTo>
                  <a:lnTo>
                    <a:pt x="904" y="2"/>
                  </a:lnTo>
                  <a:lnTo>
                    <a:pt x="82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2960" y="2216160"/>
              <a:ext cx="1301760" cy="225360"/>
            </a:xfrm>
            <a:custGeom>
              <a:avLst/>
              <a:gdLst/>
              <a:ahLst/>
              <a:rect l="l" t="t" r="r" b="b"/>
              <a:pathLst>
                <a:path w="1640" h="285">
                  <a:moveTo>
                    <a:pt x="0" y="0"/>
                  </a:moveTo>
                  <a:lnTo>
                    <a:pt x="1" y="15"/>
                  </a:lnTo>
                  <a:lnTo>
                    <a:pt x="3" y="28"/>
                  </a:lnTo>
                  <a:lnTo>
                    <a:pt x="9" y="44"/>
                  </a:lnTo>
                  <a:lnTo>
                    <a:pt x="17" y="57"/>
                  </a:lnTo>
                  <a:lnTo>
                    <a:pt x="26" y="72"/>
                  </a:lnTo>
                  <a:lnTo>
                    <a:pt x="36" y="85"/>
                  </a:lnTo>
                  <a:lnTo>
                    <a:pt x="64" y="110"/>
                  </a:lnTo>
                  <a:lnTo>
                    <a:pt x="98" y="137"/>
                  </a:lnTo>
                  <a:lnTo>
                    <a:pt x="140" y="159"/>
                  </a:lnTo>
                  <a:lnTo>
                    <a:pt x="188" y="182"/>
                  </a:lnTo>
                  <a:lnTo>
                    <a:pt x="239" y="201"/>
                  </a:lnTo>
                  <a:lnTo>
                    <a:pt x="298" y="220"/>
                  </a:lnTo>
                  <a:lnTo>
                    <a:pt x="360" y="235"/>
                  </a:lnTo>
                  <a:lnTo>
                    <a:pt x="429" y="250"/>
                  </a:lnTo>
                  <a:lnTo>
                    <a:pt x="501" y="262"/>
                  </a:lnTo>
                  <a:lnTo>
                    <a:pt x="575" y="271"/>
                  </a:lnTo>
                  <a:lnTo>
                    <a:pt x="655" y="279"/>
                  </a:lnTo>
                  <a:lnTo>
                    <a:pt x="736" y="283"/>
                  </a:lnTo>
                  <a:lnTo>
                    <a:pt x="820" y="285"/>
                  </a:lnTo>
                  <a:lnTo>
                    <a:pt x="904" y="283"/>
                  </a:lnTo>
                  <a:lnTo>
                    <a:pt x="985" y="279"/>
                  </a:lnTo>
                  <a:lnTo>
                    <a:pt x="1065" y="271"/>
                  </a:lnTo>
                  <a:lnTo>
                    <a:pt x="1139" y="262"/>
                  </a:lnTo>
                  <a:lnTo>
                    <a:pt x="1211" y="250"/>
                  </a:lnTo>
                  <a:lnTo>
                    <a:pt x="1280" y="235"/>
                  </a:lnTo>
                  <a:lnTo>
                    <a:pt x="1342" y="220"/>
                  </a:lnTo>
                  <a:lnTo>
                    <a:pt x="1401" y="201"/>
                  </a:lnTo>
                  <a:lnTo>
                    <a:pt x="1454" y="182"/>
                  </a:lnTo>
                  <a:lnTo>
                    <a:pt x="1500" y="159"/>
                  </a:lnTo>
                  <a:lnTo>
                    <a:pt x="1542" y="137"/>
                  </a:lnTo>
                  <a:lnTo>
                    <a:pt x="1576" y="110"/>
                  </a:lnTo>
                  <a:lnTo>
                    <a:pt x="1604" y="85"/>
                  </a:lnTo>
                  <a:lnTo>
                    <a:pt x="1614" y="72"/>
                  </a:lnTo>
                  <a:lnTo>
                    <a:pt x="1623" y="57"/>
                  </a:lnTo>
                  <a:lnTo>
                    <a:pt x="1631" y="44"/>
                  </a:lnTo>
                  <a:lnTo>
                    <a:pt x="1637" y="28"/>
                  </a:lnTo>
                  <a:lnTo>
                    <a:pt x="1639" y="15"/>
                  </a:lnTo>
                  <a:lnTo>
                    <a:pt x="16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629160" y="2406600"/>
            <a:ext cx="18111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65480" y="2460600"/>
            <a:ext cx="111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DSS ADA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81120" y="2720880"/>
            <a:ext cx="65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BÁZI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1880" y="4013280"/>
            <a:ext cx="3184560" cy="1663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592440" y="4148280"/>
            <a:ext cx="34038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4200480"/>
            <a:ext cx="2917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DSS SZOFTVER RENDSZER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66040" y="4460760"/>
            <a:ext cx="121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MODELLE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14120" y="48531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91880" y="485316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OLAP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07920" y="4876920"/>
            <a:ext cx="1204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ESZKÖZÖ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29840" y="525780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DATA MINING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79640" y="5257800"/>
            <a:ext cx="1204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ESZKÖZÖ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11440" y="4373640"/>
            <a:ext cx="1592280" cy="939600"/>
          </a:xfrm>
          <a:custGeom>
            <a:avLst/>
            <a:gdLst/>
            <a:ahLst/>
            <a:rect l="l" t="t" r="r" b="b"/>
            <a:pathLst>
              <a:path w="2005" h="1183">
                <a:moveTo>
                  <a:pt x="1667" y="0"/>
                </a:moveTo>
                <a:lnTo>
                  <a:pt x="1698" y="7"/>
                </a:lnTo>
                <a:lnTo>
                  <a:pt x="1730" y="20"/>
                </a:lnTo>
                <a:lnTo>
                  <a:pt x="1760" y="36"/>
                </a:lnTo>
                <a:lnTo>
                  <a:pt x="1791" y="55"/>
                </a:lnTo>
                <a:lnTo>
                  <a:pt x="1821" y="79"/>
                </a:lnTo>
                <a:lnTo>
                  <a:pt x="1849" y="106"/>
                </a:lnTo>
                <a:lnTo>
                  <a:pt x="1874" y="134"/>
                </a:lnTo>
                <a:lnTo>
                  <a:pt x="1897" y="166"/>
                </a:lnTo>
                <a:lnTo>
                  <a:pt x="1916" y="214"/>
                </a:lnTo>
                <a:lnTo>
                  <a:pt x="1935" y="265"/>
                </a:lnTo>
                <a:lnTo>
                  <a:pt x="1963" y="368"/>
                </a:lnTo>
                <a:lnTo>
                  <a:pt x="1988" y="476"/>
                </a:lnTo>
                <a:lnTo>
                  <a:pt x="1998" y="535"/>
                </a:lnTo>
                <a:lnTo>
                  <a:pt x="2005" y="593"/>
                </a:lnTo>
                <a:lnTo>
                  <a:pt x="1988" y="705"/>
                </a:lnTo>
                <a:lnTo>
                  <a:pt x="1963" y="812"/>
                </a:lnTo>
                <a:lnTo>
                  <a:pt x="1935" y="914"/>
                </a:lnTo>
                <a:lnTo>
                  <a:pt x="1916" y="963"/>
                </a:lnTo>
                <a:lnTo>
                  <a:pt x="1897" y="1011"/>
                </a:lnTo>
                <a:lnTo>
                  <a:pt x="1874" y="1045"/>
                </a:lnTo>
                <a:lnTo>
                  <a:pt x="1849" y="1075"/>
                </a:lnTo>
                <a:lnTo>
                  <a:pt x="1821" y="1102"/>
                </a:lnTo>
                <a:lnTo>
                  <a:pt x="1791" y="1125"/>
                </a:lnTo>
                <a:lnTo>
                  <a:pt x="1760" y="1145"/>
                </a:lnTo>
                <a:lnTo>
                  <a:pt x="1730" y="1161"/>
                </a:lnTo>
                <a:lnTo>
                  <a:pt x="1698" y="1174"/>
                </a:lnTo>
                <a:lnTo>
                  <a:pt x="1667" y="1183"/>
                </a:lnTo>
                <a:lnTo>
                  <a:pt x="330" y="1183"/>
                </a:lnTo>
                <a:lnTo>
                  <a:pt x="0" y="593"/>
                </a:lnTo>
                <a:lnTo>
                  <a:pt x="330" y="0"/>
                </a:lnTo>
                <a:lnTo>
                  <a:pt x="1667" y="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3440" y="4540320"/>
            <a:ext cx="180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73160" y="4592520"/>
            <a:ext cx="1218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ELHASZ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95840" y="4853160"/>
            <a:ext cx="120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INTERFÉSZ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240" y="5819760"/>
            <a:ext cx="1087560" cy="8683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03440" y="6080040"/>
            <a:ext cx="1809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266920" y="6132600"/>
            <a:ext cx="62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FELH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67000" y="4807080"/>
            <a:ext cx="217440" cy="145800"/>
          </a:xfrm>
          <a:custGeom>
            <a:avLst/>
            <a:gdLst/>
            <a:ahLst/>
            <a:rect l="l" t="t" r="r" b="b"/>
            <a:pathLst>
              <a:path w="273" h="182">
                <a:moveTo>
                  <a:pt x="0" y="91"/>
                </a:moveTo>
                <a:lnTo>
                  <a:pt x="273" y="182"/>
                </a:lnTo>
                <a:lnTo>
                  <a:pt x="273" y="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25840" y="3795840"/>
            <a:ext cx="144720" cy="217440"/>
          </a:xfrm>
          <a:custGeom>
            <a:avLst/>
            <a:gdLst/>
            <a:ahLst/>
            <a:rect l="l" t="t" r="r" b="b"/>
            <a:pathLst>
              <a:path w="183" h="273">
                <a:moveTo>
                  <a:pt x="91" y="273"/>
                </a:moveTo>
                <a:lnTo>
                  <a:pt x="0" y="0"/>
                </a:lnTo>
                <a:lnTo>
                  <a:pt x="183" y="0"/>
                </a:lnTo>
                <a:lnTo>
                  <a:pt x="91" y="27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98680" y="5602320"/>
            <a:ext cx="144360" cy="217440"/>
          </a:xfrm>
          <a:custGeom>
            <a:avLst/>
            <a:gdLst/>
            <a:ahLst/>
            <a:rect l="l" t="t" r="r" b="b"/>
            <a:pathLst>
              <a:path w="182" h="273">
                <a:moveTo>
                  <a:pt x="91" y="273"/>
                </a:moveTo>
                <a:lnTo>
                  <a:pt x="0" y="0"/>
                </a:lnTo>
                <a:lnTo>
                  <a:pt x="182" y="0"/>
                </a:lnTo>
                <a:lnTo>
                  <a:pt x="91" y="27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01880" y="2639880"/>
            <a:ext cx="217800" cy="144720"/>
          </a:xfrm>
          <a:custGeom>
            <a:avLst/>
            <a:gdLst/>
            <a:ahLst/>
            <a:rect l="l" t="t" r="r" b="b"/>
            <a:pathLst>
              <a:path w="273" h="182">
                <a:moveTo>
                  <a:pt x="273" y="91"/>
                </a:moveTo>
                <a:lnTo>
                  <a:pt x="0" y="182"/>
                </a:lnTo>
                <a:lnTo>
                  <a:pt x="0" y="0"/>
                </a:lnTo>
                <a:lnTo>
                  <a:pt x="273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48360" y="2639880"/>
            <a:ext cx="217440" cy="144720"/>
          </a:xfrm>
          <a:custGeom>
            <a:avLst/>
            <a:gdLst/>
            <a:ahLst/>
            <a:rect l="l" t="t" r="r" b="b"/>
            <a:pathLst>
              <a:path w="273" h="182">
                <a:moveTo>
                  <a:pt x="0" y="91"/>
                </a:moveTo>
                <a:lnTo>
                  <a:pt x="273" y="182"/>
                </a:lnTo>
                <a:lnTo>
                  <a:pt x="273" y="0"/>
                </a:lnTo>
                <a:lnTo>
                  <a:pt x="0" y="9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F97-0774-4B98-A97C-019EEE4F69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előadás céljai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9040" y="1844640"/>
            <a:ext cx="7638840" cy="39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különféle információrendszer- típusok szerepeinek elemzés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információrendszer típusok közötti kapcsolatok leír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stratégiai információrendszerek meghatároz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Miként támogathatják az információrendszerek az üzleti stratégiá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stratégiai információrendszerek kialakításával és a versenyelőny megtartásával kapcsolatos 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nehézségek bemuta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4681440"/>
          <a:ext cx="227664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681440"/>
                    <a:ext cx="227664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CA4-9999-45F5-AC18-7C61BA18C0E3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DSS struktúráj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86080" y="2743200"/>
            <a:ext cx="1587240" cy="59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dc5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arancsnyel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80160" y="2749680"/>
            <a:ext cx="2349720" cy="1282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dc5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A problématerületről</a:t>
            </a:r>
            <a:br>
              <a:rPr sz="1800"/>
            </a:b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tárolt informá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772080" y="2749680"/>
            <a:ext cx="1828800" cy="3416040"/>
            <a:chOff x="3772080" y="2749680"/>
            <a:chExt cx="1828800" cy="3416040"/>
          </a:xfrm>
        </p:grpSpPr>
        <p:sp>
          <p:nvSpPr>
            <p:cNvPr id="472" name=""/>
            <p:cNvSpPr/>
            <p:nvPr/>
          </p:nvSpPr>
          <p:spPr>
            <a:xfrm>
              <a:off x="3778560" y="2749680"/>
              <a:ext cx="1816200" cy="3416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c5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Informáci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gyüjt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Problé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meghatároz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Mode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formalizál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nalíz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. .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72080" y="35053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72080" y="426708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72080" y="571500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2080" y="5105520"/>
              <a:ext cx="18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 flipH="1">
            <a:off x="5600520" y="2971800"/>
            <a:ext cx="10666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86280" y="3048120"/>
            <a:ext cx="6858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4320" y="2209680"/>
            <a:ext cx="216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arancsnyelv (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13840" y="222408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blémamegoldó rendszer (P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37400" y="2224080"/>
            <a:ext cx="240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Tudás rendszer (K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400" y="3048120"/>
            <a:ext cx="534960" cy="1449360"/>
          </a:xfrm>
          <a:custGeom>
            <a:avLst/>
            <a:gdLst/>
            <a:ahLst/>
            <a:rect l="l" t="t" r="r" b="b"/>
            <a:pathLst>
              <a:path w="337" h="913">
                <a:moveTo>
                  <a:pt x="0" y="912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22400" y="5257800"/>
            <a:ext cx="2749680" cy="687240"/>
          </a:xfrm>
          <a:custGeom>
            <a:avLst/>
            <a:gdLst/>
            <a:ahLst/>
            <a:rect l="l" t="t" r="r" b="b"/>
            <a:pathLst>
              <a:path w="1585" h="433">
                <a:moveTo>
                  <a:pt x="1584" y="432"/>
                </a:moveTo>
                <a:lnTo>
                  <a:pt x="0" y="43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00880" y="3733920"/>
            <a:ext cx="10666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4495680"/>
            <a:ext cx="1511280" cy="749520"/>
          </a:xfrm>
          <a:prstGeom prst="ellipse">
            <a:avLst/>
          </a:prstGeom>
          <a:solidFill>
            <a:srgbClr val="ffc5c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dc5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Dönt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hoz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CCB-3FF4-4811-9861-9B0DBC7385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TPS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tranzakciófeldolgozó rendsz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MODELL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egy probléma reprezentációj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OLAP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on-line analítikus feldolgoz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FELHASZNÁLÓI INTERFÉSZ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a felhasználó ezen keresztül adja meg a problémát és kapja a válasz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DSS ADATBÁZIS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naprakész adatok az alkalmazásokból vagy a csoportoktó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Döntéstámogató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98C-F069-42EF-8525-17388DF74EB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160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DATA MINING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nagy adatbázisokban összefüggések keresésére szolgáló technológ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DSS SZOFTVER RENDSZER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adatelemzésre szolgáló eszközö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ÉRZÉKENYSÉG (SENSITIVITY) ELEMZÉS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: “what-if” jellegű kérdések a modell tényezőinek változásaival kapcsolatb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Döntéstámogató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A31-2924-4593-94A5-100DABB9F0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783720" y="2421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MANUFACTURING RESOURCE PLANNING (MRPII):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 termelés ütemezés, beszerzés, nyersanyag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FÖLDRAJZI INFORMÁCIÓRENDSZEREK (GIS):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 térbeli pontokhoz kapcsolódó adatokat manipuláló rendsze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CUSTOMER DSS (CDSS):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 a vásárlói döntéseket támogató rendsz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Döntéstámogató rendszerek </a:t>
            </a:r>
            <a:br>
              <a:rPr sz="3000"/>
            </a:b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példák: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0F9-B89A-439B-B65A-29546A9B13E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1b60f"/>
                </a:solidFill>
                <a:latin typeface="Arial"/>
              </a:rPr>
              <a:t>Adatbányász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személyek/szervezetek legvalószínűbb reakció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együtt értékesített/vásárolt termékek/szolgáltatás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kitől várható hogy a konkurrenciához párto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csalások felderít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azonos terméket vásárlók közös tulajdonsága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Arial"/>
              </a:rPr>
              <a:t>mi érdekli a látogatót a legjobban egy Web site-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3CC-08FE-4206-9FD0-AE3E396C7FD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Csoportos döntéstámogató rendszerek (GDSS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5840" y="2637000"/>
            <a:ext cx="7772400" cy="321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Interaktív számítógép alapú rendszer, amely támogatja a nemstrukturált  problémák megoldását </a:t>
            </a:r>
            <a:r>
              <a:rPr b="1" lang="en-US" sz="2100" spc="-1" strike="noStrike">
                <a:solidFill>
                  <a:srgbClr val="ff6600"/>
                </a:solidFill>
                <a:latin typeface="Times New Roman"/>
              </a:rPr>
              <a:t>csoportban </a:t>
            </a:r>
            <a:r>
              <a:rPr b="1" lang="en-US" sz="2100" spc="-1" strike="noStrike">
                <a:solidFill>
                  <a:srgbClr val="f1b60f"/>
                </a:solidFill>
                <a:latin typeface="Times New Roman"/>
              </a:rPr>
              <a:t>tevékenykedő döntéshozók eseté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3B0-F49E-424B-AF04-4631933CFD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6566040" y="1844640"/>
            <a:ext cx="1899720" cy="1981080"/>
            <a:chOff x="6566040" y="1844640"/>
            <a:chExt cx="1899720" cy="1981080"/>
          </a:xfrm>
        </p:grpSpPr>
        <p:sp>
          <p:nvSpPr>
            <p:cNvPr id="497" name=""/>
            <p:cNvSpPr/>
            <p:nvPr/>
          </p:nvSpPr>
          <p:spPr>
            <a:xfrm>
              <a:off x="7201800" y="1844640"/>
              <a:ext cx="1219680" cy="1532520"/>
            </a:xfrm>
            <a:custGeom>
              <a:avLst/>
              <a:gdLst/>
              <a:ahLst/>
              <a:rect l="l" t="t" r="r" b="b"/>
              <a:pathLst>
                <a:path w="1473" h="1852">
                  <a:moveTo>
                    <a:pt x="561" y="243"/>
                  </a:moveTo>
                  <a:lnTo>
                    <a:pt x="581" y="246"/>
                  </a:lnTo>
                  <a:lnTo>
                    <a:pt x="608" y="251"/>
                  </a:lnTo>
                  <a:lnTo>
                    <a:pt x="635" y="258"/>
                  </a:lnTo>
                  <a:lnTo>
                    <a:pt x="654" y="262"/>
                  </a:lnTo>
                  <a:lnTo>
                    <a:pt x="676" y="268"/>
                  </a:lnTo>
                  <a:lnTo>
                    <a:pt x="697" y="274"/>
                  </a:lnTo>
                  <a:lnTo>
                    <a:pt x="720" y="281"/>
                  </a:lnTo>
                  <a:lnTo>
                    <a:pt x="740" y="287"/>
                  </a:lnTo>
                  <a:lnTo>
                    <a:pt x="764" y="296"/>
                  </a:lnTo>
                  <a:lnTo>
                    <a:pt x="791" y="307"/>
                  </a:lnTo>
                  <a:lnTo>
                    <a:pt x="814" y="316"/>
                  </a:lnTo>
                  <a:lnTo>
                    <a:pt x="836" y="326"/>
                  </a:lnTo>
                  <a:lnTo>
                    <a:pt x="862" y="337"/>
                  </a:lnTo>
                  <a:lnTo>
                    <a:pt x="887" y="349"/>
                  </a:lnTo>
                  <a:lnTo>
                    <a:pt x="909" y="360"/>
                  </a:lnTo>
                  <a:lnTo>
                    <a:pt x="930" y="374"/>
                  </a:lnTo>
                  <a:lnTo>
                    <a:pt x="950" y="385"/>
                  </a:lnTo>
                  <a:lnTo>
                    <a:pt x="969" y="398"/>
                  </a:lnTo>
                  <a:lnTo>
                    <a:pt x="990" y="411"/>
                  </a:lnTo>
                  <a:lnTo>
                    <a:pt x="1013" y="428"/>
                  </a:lnTo>
                  <a:lnTo>
                    <a:pt x="1034" y="443"/>
                  </a:lnTo>
                  <a:lnTo>
                    <a:pt x="1054" y="459"/>
                  </a:lnTo>
                  <a:lnTo>
                    <a:pt x="1074" y="473"/>
                  </a:lnTo>
                  <a:lnTo>
                    <a:pt x="1104" y="498"/>
                  </a:lnTo>
                  <a:lnTo>
                    <a:pt x="1135" y="528"/>
                  </a:lnTo>
                  <a:lnTo>
                    <a:pt x="1160" y="550"/>
                  </a:lnTo>
                  <a:lnTo>
                    <a:pt x="1189" y="582"/>
                  </a:lnTo>
                  <a:lnTo>
                    <a:pt x="1209" y="605"/>
                  </a:lnTo>
                  <a:lnTo>
                    <a:pt x="1231" y="632"/>
                  </a:lnTo>
                  <a:lnTo>
                    <a:pt x="1256" y="663"/>
                  </a:lnTo>
                  <a:lnTo>
                    <a:pt x="1276" y="692"/>
                  </a:lnTo>
                  <a:lnTo>
                    <a:pt x="1296" y="725"/>
                  </a:lnTo>
                  <a:lnTo>
                    <a:pt x="1318" y="756"/>
                  </a:lnTo>
                  <a:lnTo>
                    <a:pt x="1336" y="790"/>
                  </a:lnTo>
                  <a:lnTo>
                    <a:pt x="1354" y="818"/>
                  </a:lnTo>
                  <a:lnTo>
                    <a:pt x="1371" y="854"/>
                  </a:lnTo>
                  <a:lnTo>
                    <a:pt x="1385" y="889"/>
                  </a:lnTo>
                  <a:lnTo>
                    <a:pt x="1399" y="925"/>
                  </a:lnTo>
                  <a:lnTo>
                    <a:pt x="1412" y="964"/>
                  </a:lnTo>
                  <a:lnTo>
                    <a:pt x="1429" y="1013"/>
                  </a:lnTo>
                  <a:lnTo>
                    <a:pt x="1441" y="1057"/>
                  </a:lnTo>
                  <a:lnTo>
                    <a:pt x="1452" y="1103"/>
                  </a:lnTo>
                  <a:lnTo>
                    <a:pt x="1457" y="1148"/>
                  </a:lnTo>
                  <a:lnTo>
                    <a:pt x="1465" y="1201"/>
                  </a:lnTo>
                  <a:lnTo>
                    <a:pt x="1471" y="1267"/>
                  </a:lnTo>
                  <a:lnTo>
                    <a:pt x="1472" y="1317"/>
                  </a:lnTo>
                  <a:lnTo>
                    <a:pt x="1471" y="1367"/>
                  </a:lnTo>
                  <a:lnTo>
                    <a:pt x="1466" y="1415"/>
                  </a:lnTo>
                  <a:lnTo>
                    <a:pt x="1461" y="1460"/>
                  </a:lnTo>
                  <a:lnTo>
                    <a:pt x="1455" y="1506"/>
                  </a:lnTo>
                  <a:lnTo>
                    <a:pt x="1445" y="1554"/>
                  </a:lnTo>
                  <a:lnTo>
                    <a:pt x="1432" y="1606"/>
                  </a:lnTo>
                  <a:lnTo>
                    <a:pt x="1415" y="1660"/>
                  </a:lnTo>
                  <a:lnTo>
                    <a:pt x="1398" y="1710"/>
                  </a:lnTo>
                  <a:lnTo>
                    <a:pt x="1380" y="1757"/>
                  </a:lnTo>
                  <a:lnTo>
                    <a:pt x="1352" y="1804"/>
                  </a:lnTo>
                  <a:lnTo>
                    <a:pt x="1323" y="1851"/>
                  </a:lnTo>
                  <a:lnTo>
                    <a:pt x="890" y="1600"/>
                  </a:lnTo>
                  <a:lnTo>
                    <a:pt x="914" y="1553"/>
                  </a:lnTo>
                  <a:lnTo>
                    <a:pt x="929" y="1517"/>
                  </a:lnTo>
                  <a:lnTo>
                    <a:pt x="941" y="1479"/>
                  </a:lnTo>
                  <a:lnTo>
                    <a:pt x="951" y="1441"/>
                  </a:lnTo>
                  <a:lnTo>
                    <a:pt x="958" y="1406"/>
                  </a:lnTo>
                  <a:lnTo>
                    <a:pt x="960" y="1371"/>
                  </a:lnTo>
                  <a:lnTo>
                    <a:pt x="963" y="1337"/>
                  </a:lnTo>
                  <a:lnTo>
                    <a:pt x="963" y="1301"/>
                  </a:lnTo>
                  <a:lnTo>
                    <a:pt x="961" y="1260"/>
                  </a:lnTo>
                  <a:lnTo>
                    <a:pt x="955" y="1220"/>
                  </a:lnTo>
                  <a:lnTo>
                    <a:pt x="947" y="1175"/>
                  </a:lnTo>
                  <a:lnTo>
                    <a:pt x="937" y="1139"/>
                  </a:lnTo>
                  <a:lnTo>
                    <a:pt x="921" y="1098"/>
                  </a:lnTo>
                  <a:lnTo>
                    <a:pt x="907" y="1064"/>
                  </a:lnTo>
                  <a:lnTo>
                    <a:pt x="889" y="1031"/>
                  </a:lnTo>
                  <a:lnTo>
                    <a:pt x="873" y="1005"/>
                  </a:lnTo>
                  <a:lnTo>
                    <a:pt x="857" y="984"/>
                  </a:lnTo>
                  <a:lnTo>
                    <a:pt x="842" y="962"/>
                  </a:lnTo>
                  <a:lnTo>
                    <a:pt x="825" y="941"/>
                  </a:lnTo>
                  <a:lnTo>
                    <a:pt x="804" y="918"/>
                  </a:lnTo>
                  <a:lnTo>
                    <a:pt x="787" y="903"/>
                  </a:lnTo>
                  <a:lnTo>
                    <a:pt x="768" y="883"/>
                  </a:lnTo>
                  <a:lnTo>
                    <a:pt x="749" y="867"/>
                  </a:lnTo>
                  <a:lnTo>
                    <a:pt x="727" y="850"/>
                  </a:lnTo>
                  <a:lnTo>
                    <a:pt x="700" y="833"/>
                  </a:lnTo>
                  <a:lnTo>
                    <a:pt x="677" y="817"/>
                  </a:lnTo>
                  <a:lnTo>
                    <a:pt x="658" y="808"/>
                  </a:lnTo>
                  <a:lnTo>
                    <a:pt x="631" y="791"/>
                  </a:lnTo>
                  <a:lnTo>
                    <a:pt x="606" y="782"/>
                  </a:lnTo>
                  <a:lnTo>
                    <a:pt x="585" y="774"/>
                  </a:lnTo>
                  <a:lnTo>
                    <a:pt x="562" y="766"/>
                  </a:lnTo>
                  <a:lnTo>
                    <a:pt x="529" y="758"/>
                  </a:lnTo>
                  <a:lnTo>
                    <a:pt x="497" y="753"/>
                  </a:lnTo>
                  <a:lnTo>
                    <a:pt x="464" y="749"/>
                  </a:lnTo>
                  <a:lnTo>
                    <a:pt x="433" y="747"/>
                  </a:lnTo>
                  <a:lnTo>
                    <a:pt x="415" y="746"/>
                  </a:lnTo>
                  <a:lnTo>
                    <a:pt x="415" y="1016"/>
                  </a:lnTo>
                  <a:lnTo>
                    <a:pt x="0" y="515"/>
                  </a:lnTo>
                  <a:lnTo>
                    <a:pt x="414" y="0"/>
                  </a:lnTo>
                  <a:lnTo>
                    <a:pt x="414" y="232"/>
                  </a:lnTo>
                  <a:lnTo>
                    <a:pt x="436" y="233"/>
                  </a:lnTo>
                  <a:lnTo>
                    <a:pt x="468" y="234"/>
                  </a:lnTo>
                  <a:lnTo>
                    <a:pt x="502" y="236"/>
                  </a:lnTo>
                  <a:lnTo>
                    <a:pt x="534" y="240"/>
                  </a:lnTo>
                  <a:lnTo>
                    <a:pt x="561" y="24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46480" y="2976840"/>
              <a:ext cx="1619280" cy="848880"/>
            </a:xfrm>
            <a:custGeom>
              <a:avLst/>
              <a:gdLst/>
              <a:ahLst/>
              <a:rect l="l" t="t" r="r" b="b"/>
              <a:pathLst>
                <a:path w="1956" h="1026">
                  <a:moveTo>
                    <a:pt x="982" y="1012"/>
                  </a:moveTo>
                  <a:lnTo>
                    <a:pt x="1003" y="1009"/>
                  </a:lnTo>
                  <a:lnTo>
                    <a:pt x="1030" y="1004"/>
                  </a:lnTo>
                  <a:lnTo>
                    <a:pt x="1057" y="999"/>
                  </a:lnTo>
                  <a:lnTo>
                    <a:pt x="1076" y="994"/>
                  </a:lnTo>
                  <a:lnTo>
                    <a:pt x="1098" y="989"/>
                  </a:lnTo>
                  <a:lnTo>
                    <a:pt x="1120" y="982"/>
                  </a:lnTo>
                  <a:lnTo>
                    <a:pt x="1142" y="976"/>
                  </a:lnTo>
                  <a:lnTo>
                    <a:pt x="1163" y="969"/>
                  </a:lnTo>
                  <a:lnTo>
                    <a:pt x="1185" y="961"/>
                  </a:lnTo>
                  <a:lnTo>
                    <a:pt x="1213" y="951"/>
                  </a:lnTo>
                  <a:lnTo>
                    <a:pt x="1237" y="941"/>
                  </a:lnTo>
                  <a:lnTo>
                    <a:pt x="1259" y="931"/>
                  </a:lnTo>
                  <a:lnTo>
                    <a:pt x="1285" y="920"/>
                  </a:lnTo>
                  <a:lnTo>
                    <a:pt x="1310" y="907"/>
                  </a:lnTo>
                  <a:lnTo>
                    <a:pt x="1332" y="896"/>
                  </a:lnTo>
                  <a:lnTo>
                    <a:pt x="1352" y="883"/>
                  </a:lnTo>
                  <a:lnTo>
                    <a:pt x="1371" y="871"/>
                  </a:lnTo>
                  <a:lnTo>
                    <a:pt x="1390" y="858"/>
                  </a:lnTo>
                  <a:lnTo>
                    <a:pt x="1411" y="846"/>
                  </a:lnTo>
                  <a:lnTo>
                    <a:pt x="1435" y="831"/>
                  </a:lnTo>
                  <a:lnTo>
                    <a:pt x="1456" y="815"/>
                  </a:lnTo>
                  <a:lnTo>
                    <a:pt x="1477" y="799"/>
                  </a:lnTo>
                  <a:lnTo>
                    <a:pt x="1495" y="786"/>
                  </a:lnTo>
                  <a:lnTo>
                    <a:pt x="1526" y="761"/>
                  </a:lnTo>
                  <a:lnTo>
                    <a:pt x="1554" y="736"/>
                  </a:lnTo>
                  <a:lnTo>
                    <a:pt x="1582" y="708"/>
                  </a:lnTo>
                  <a:lnTo>
                    <a:pt x="1611" y="677"/>
                  </a:lnTo>
                  <a:lnTo>
                    <a:pt x="1631" y="653"/>
                  </a:lnTo>
                  <a:lnTo>
                    <a:pt x="1653" y="626"/>
                  </a:lnTo>
                  <a:lnTo>
                    <a:pt x="1678" y="597"/>
                  </a:lnTo>
                  <a:lnTo>
                    <a:pt x="1700" y="568"/>
                  </a:lnTo>
                  <a:lnTo>
                    <a:pt x="1720" y="537"/>
                  </a:lnTo>
                  <a:lnTo>
                    <a:pt x="1745" y="501"/>
                  </a:lnTo>
                  <a:lnTo>
                    <a:pt x="1955" y="624"/>
                  </a:lnTo>
                  <a:lnTo>
                    <a:pt x="1749" y="0"/>
                  </a:lnTo>
                  <a:lnTo>
                    <a:pt x="1080" y="118"/>
                  </a:lnTo>
                  <a:lnTo>
                    <a:pt x="1305" y="245"/>
                  </a:lnTo>
                  <a:lnTo>
                    <a:pt x="1286" y="272"/>
                  </a:lnTo>
                  <a:lnTo>
                    <a:pt x="1266" y="296"/>
                  </a:lnTo>
                  <a:lnTo>
                    <a:pt x="1246" y="320"/>
                  </a:lnTo>
                  <a:lnTo>
                    <a:pt x="1226" y="341"/>
                  </a:lnTo>
                  <a:lnTo>
                    <a:pt x="1209" y="358"/>
                  </a:lnTo>
                  <a:lnTo>
                    <a:pt x="1191" y="377"/>
                  </a:lnTo>
                  <a:lnTo>
                    <a:pt x="1170" y="393"/>
                  </a:lnTo>
                  <a:lnTo>
                    <a:pt x="1148" y="410"/>
                  </a:lnTo>
                  <a:lnTo>
                    <a:pt x="1121" y="428"/>
                  </a:lnTo>
                  <a:lnTo>
                    <a:pt x="1099" y="442"/>
                  </a:lnTo>
                  <a:lnTo>
                    <a:pt x="1080" y="453"/>
                  </a:lnTo>
                  <a:lnTo>
                    <a:pt x="1052" y="468"/>
                  </a:lnTo>
                  <a:lnTo>
                    <a:pt x="1027" y="478"/>
                  </a:lnTo>
                  <a:lnTo>
                    <a:pt x="1006" y="485"/>
                  </a:lnTo>
                  <a:lnTo>
                    <a:pt x="984" y="493"/>
                  </a:lnTo>
                  <a:lnTo>
                    <a:pt x="951" y="502"/>
                  </a:lnTo>
                  <a:lnTo>
                    <a:pt x="918" y="507"/>
                  </a:lnTo>
                  <a:lnTo>
                    <a:pt x="886" y="510"/>
                  </a:lnTo>
                  <a:lnTo>
                    <a:pt x="838" y="512"/>
                  </a:lnTo>
                  <a:lnTo>
                    <a:pt x="775" y="513"/>
                  </a:lnTo>
                  <a:lnTo>
                    <a:pt x="727" y="507"/>
                  </a:lnTo>
                  <a:lnTo>
                    <a:pt x="683" y="496"/>
                  </a:lnTo>
                  <a:lnTo>
                    <a:pt x="632" y="482"/>
                  </a:lnTo>
                  <a:lnTo>
                    <a:pt x="588" y="463"/>
                  </a:lnTo>
                  <a:lnTo>
                    <a:pt x="543" y="441"/>
                  </a:lnTo>
                  <a:lnTo>
                    <a:pt x="503" y="415"/>
                  </a:lnTo>
                  <a:lnTo>
                    <a:pt x="463" y="380"/>
                  </a:lnTo>
                  <a:lnTo>
                    <a:pt x="0" y="647"/>
                  </a:lnTo>
                  <a:lnTo>
                    <a:pt x="19" y="670"/>
                  </a:lnTo>
                  <a:lnTo>
                    <a:pt x="46" y="696"/>
                  </a:lnTo>
                  <a:lnTo>
                    <a:pt x="68" y="717"/>
                  </a:lnTo>
                  <a:lnTo>
                    <a:pt x="91" y="739"/>
                  </a:lnTo>
                  <a:lnTo>
                    <a:pt x="113" y="760"/>
                  </a:lnTo>
                  <a:lnTo>
                    <a:pt x="139" y="782"/>
                  </a:lnTo>
                  <a:lnTo>
                    <a:pt x="164" y="802"/>
                  </a:lnTo>
                  <a:lnTo>
                    <a:pt x="189" y="820"/>
                  </a:lnTo>
                  <a:lnTo>
                    <a:pt x="217" y="837"/>
                  </a:lnTo>
                  <a:lnTo>
                    <a:pt x="244" y="856"/>
                  </a:lnTo>
                  <a:lnTo>
                    <a:pt x="272" y="874"/>
                  </a:lnTo>
                  <a:lnTo>
                    <a:pt x="298" y="888"/>
                  </a:lnTo>
                  <a:lnTo>
                    <a:pt x="324" y="903"/>
                  </a:lnTo>
                  <a:lnTo>
                    <a:pt x="349" y="915"/>
                  </a:lnTo>
                  <a:lnTo>
                    <a:pt x="381" y="931"/>
                  </a:lnTo>
                  <a:lnTo>
                    <a:pt x="413" y="945"/>
                  </a:lnTo>
                  <a:lnTo>
                    <a:pt x="449" y="958"/>
                  </a:lnTo>
                  <a:lnTo>
                    <a:pt x="476" y="967"/>
                  </a:lnTo>
                  <a:lnTo>
                    <a:pt x="502" y="977"/>
                  </a:lnTo>
                  <a:lnTo>
                    <a:pt x="532" y="986"/>
                  </a:lnTo>
                  <a:lnTo>
                    <a:pt x="561" y="994"/>
                  </a:lnTo>
                  <a:lnTo>
                    <a:pt x="591" y="1001"/>
                  </a:lnTo>
                  <a:lnTo>
                    <a:pt x="623" y="1008"/>
                  </a:lnTo>
                  <a:lnTo>
                    <a:pt x="657" y="1013"/>
                  </a:lnTo>
                  <a:lnTo>
                    <a:pt x="692" y="1018"/>
                  </a:lnTo>
                  <a:lnTo>
                    <a:pt x="728" y="1021"/>
                  </a:lnTo>
                  <a:lnTo>
                    <a:pt x="755" y="1022"/>
                  </a:lnTo>
                  <a:lnTo>
                    <a:pt x="792" y="1025"/>
                  </a:lnTo>
                  <a:lnTo>
                    <a:pt x="829" y="1025"/>
                  </a:lnTo>
                  <a:lnTo>
                    <a:pt x="858" y="1023"/>
                  </a:lnTo>
                  <a:lnTo>
                    <a:pt x="889" y="1022"/>
                  </a:lnTo>
                  <a:lnTo>
                    <a:pt x="924" y="1020"/>
                  </a:lnTo>
                  <a:lnTo>
                    <a:pt x="955" y="1016"/>
                  </a:lnTo>
                  <a:lnTo>
                    <a:pt x="982" y="1012"/>
                  </a:lnTo>
                </a:path>
              </a:pathLst>
            </a:custGeom>
            <a:gradFill rotWithShape="0">
              <a:gsLst>
                <a:gs pos="0">
                  <a:srgbClr val="0000b1"/>
                </a:gs>
                <a:gs pos="50000">
                  <a:srgbClr val="0000ff"/>
                </a:gs>
                <a:gs pos="100000">
                  <a:srgbClr val="0000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66040" y="2051640"/>
              <a:ext cx="818640" cy="1517400"/>
            </a:xfrm>
            <a:custGeom>
              <a:avLst/>
              <a:gdLst/>
              <a:ahLst/>
              <a:rect l="l" t="t" r="r" b="b"/>
              <a:pathLst>
                <a:path w="989" h="1834">
                  <a:moveTo>
                    <a:pt x="988" y="0"/>
                  </a:moveTo>
                  <a:lnTo>
                    <a:pt x="966" y="3"/>
                  </a:lnTo>
                  <a:lnTo>
                    <a:pt x="945" y="6"/>
                  </a:lnTo>
                  <a:lnTo>
                    <a:pt x="917" y="13"/>
                  </a:lnTo>
                  <a:lnTo>
                    <a:pt x="895" y="18"/>
                  </a:lnTo>
                  <a:lnTo>
                    <a:pt x="873" y="24"/>
                  </a:lnTo>
                  <a:lnTo>
                    <a:pt x="851" y="31"/>
                  </a:lnTo>
                  <a:lnTo>
                    <a:pt x="829" y="37"/>
                  </a:lnTo>
                  <a:lnTo>
                    <a:pt x="808" y="43"/>
                  </a:lnTo>
                  <a:lnTo>
                    <a:pt x="786" y="52"/>
                  </a:lnTo>
                  <a:lnTo>
                    <a:pt x="759" y="63"/>
                  </a:lnTo>
                  <a:lnTo>
                    <a:pt x="737" y="73"/>
                  </a:lnTo>
                  <a:lnTo>
                    <a:pt x="713" y="83"/>
                  </a:lnTo>
                  <a:lnTo>
                    <a:pt x="688" y="94"/>
                  </a:lnTo>
                  <a:lnTo>
                    <a:pt x="664" y="106"/>
                  </a:lnTo>
                  <a:lnTo>
                    <a:pt x="642" y="117"/>
                  </a:lnTo>
                  <a:lnTo>
                    <a:pt x="621" y="130"/>
                  </a:lnTo>
                  <a:lnTo>
                    <a:pt x="601" y="141"/>
                  </a:lnTo>
                  <a:lnTo>
                    <a:pt x="582" y="155"/>
                  </a:lnTo>
                  <a:lnTo>
                    <a:pt x="561" y="167"/>
                  </a:lnTo>
                  <a:lnTo>
                    <a:pt x="538" y="183"/>
                  </a:lnTo>
                  <a:lnTo>
                    <a:pt x="517" y="200"/>
                  </a:lnTo>
                  <a:lnTo>
                    <a:pt x="497" y="216"/>
                  </a:lnTo>
                  <a:lnTo>
                    <a:pt x="477" y="229"/>
                  </a:lnTo>
                  <a:lnTo>
                    <a:pt x="446" y="255"/>
                  </a:lnTo>
                  <a:lnTo>
                    <a:pt x="415" y="285"/>
                  </a:lnTo>
                  <a:lnTo>
                    <a:pt x="391" y="308"/>
                  </a:lnTo>
                  <a:lnTo>
                    <a:pt x="361" y="341"/>
                  </a:lnTo>
                  <a:lnTo>
                    <a:pt x="341" y="363"/>
                  </a:lnTo>
                  <a:lnTo>
                    <a:pt x="319" y="390"/>
                  </a:lnTo>
                  <a:lnTo>
                    <a:pt x="295" y="421"/>
                  </a:lnTo>
                  <a:lnTo>
                    <a:pt x="275" y="449"/>
                  </a:lnTo>
                  <a:lnTo>
                    <a:pt x="254" y="481"/>
                  </a:lnTo>
                  <a:lnTo>
                    <a:pt x="234" y="513"/>
                  </a:lnTo>
                  <a:lnTo>
                    <a:pt x="214" y="547"/>
                  </a:lnTo>
                  <a:lnTo>
                    <a:pt x="197" y="575"/>
                  </a:lnTo>
                  <a:lnTo>
                    <a:pt x="182" y="611"/>
                  </a:lnTo>
                  <a:lnTo>
                    <a:pt x="167" y="646"/>
                  </a:lnTo>
                  <a:lnTo>
                    <a:pt x="153" y="682"/>
                  </a:lnTo>
                  <a:lnTo>
                    <a:pt x="140" y="721"/>
                  </a:lnTo>
                  <a:lnTo>
                    <a:pt x="123" y="769"/>
                  </a:lnTo>
                  <a:lnTo>
                    <a:pt x="111" y="813"/>
                  </a:lnTo>
                  <a:lnTo>
                    <a:pt x="100" y="860"/>
                  </a:lnTo>
                  <a:lnTo>
                    <a:pt x="95" y="905"/>
                  </a:lnTo>
                  <a:lnTo>
                    <a:pt x="87" y="957"/>
                  </a:lnTo>
                  <a:lnTo>
                    <a:pt x="81" y="1023"/>
                  </a:lnTo>
                  <a:lnTo>
                    <a:pt x="80" y="1073"/>
                  </a:lnTo>
                  <a:lnTo>
                    <a:pt x="81" y="1124"/>
                  </a:lnTo>
                  <a:lnTo>
                    <a:pt x="86" y="1172"/>
                  </a:lnTo>
                  <a:lnTo>
                    <a:pt x="91" y="1217"/>
                  </a:lnTo>
                  <a:lnTo>
                    <a:pt x="97" y="1264"/>
                  </a:lnTo>
                  <a:lnTo>
                    <a:pt x="107" y="1312"/>
                  </a:lnTo>
                  <a:lnTo>
                    <a:pt x="120" y="1364"/>
                  </a:lnTo>
                  <a:lnTo>
                    <a:pt x="137" y="1417"/>
                  </a:lnTo>
                  <a:lnTo>
                    <a:pt x="154" y="1466"/>
                  </a:lnTo>
                  <a:lnTo>
                    <a:pt x="173" y="1514"/>
                  </a:lnTo>
                  <a:lnTo>
                    <a:pt x="195" y="1561"/>
                  </a:lnTo>
                  <a:lnTo>
                    <a:pt x="222" y="1606"/>
                  </a:lnTo>
                  <a:lnTo>
                    <a:pt x="0" y="1732"/>
                  </a:lnTo>
                  <a:lnTo>
                    <a:pt x="678" y="1833"/>
                  </a:lnTo>
                  <a:lnTo>
                    <a:pt x="926" y="1208"/>
                  </a:lnTo>
                  <a:lnTo>
                    <a:pt x="667" y="1348"/>
                  </a:lnTo>
                  <a:lnTo>
                    <a:pt x="641" y="1308"/>
                  </a:lnTo>
                  <a:lnTo>
                    <a:pt x="625" y="1272"/>
                  </a:lnTo>
                  <a:lnTo>
                    <a:pt x="610" y="1235"/>
                  </a:lnTo>
                  <a:lnTo>
                    <a:pt x="600" y="1198"/>
                  </a:lnTo>
                  <a:lnTo>
                    <a:pt x="594" y="1162"/>
                  </a:lnTo>
                  <a:lnTo>
                    <a:pt x="591" y="1127"/>
                  </a:lnTo>
                  <a:lnTo>
                    <a:pt x="588" y="1093"/>
                  </a:lnTo>
                  <a:lnTo>
                    <a:pt x="588" y="1058"/>
                  </a:lnTo>
                  <a:lnTo>
                    <a:pt x="590" y="1017"/>
                  </a:lnTo>
                  <a:lnTo>
                    <a:pt x="595" y="977"/>
                  </a:lnTo>
                  <a:lnTo>
                    <a:pt x="604" y="932"/>
                  </a:lnTo>
                  <a:lnTo>
                    <a:pt x="614" y="896"/>
                  </a:lnTo>
                  <a:lnTo>
                    <a:pt x="630" y="855"/>
                  </a:lnTo>
                  <a:lnTo>
                    <a:pt x="643" y="820"/>
                  </a:lnTo>
                  <a:lnTo>
                    <a:pt x="662" y="787"/>
                  </a:lnTo>
                  <a:lnTo>
                    <a:pt x="678" y="762"/>
                  </a:lnTo>
                  <a:lnTo>
                    <a:pt x="693" y="740"/>
                  </a:lnTo>
                  <a:lnTo>
                    <a:pt x="708" y="719"/>
                  </a:lnTo>
                  <a:lnTo>
                    <a:pt x="726" y="697"/>
                  </a:lnTo>
                  <a:lnTo>
                    <a:pt x="746" y="675"/>
                  </a:lnTo>
                  <a:lnTo>
                    <a:pt x="762" y="659"/>
                  </a:lnTo>
                  <a:lnTo>
                    <a:pt x="782" y="639"/>
                  </a:lnTo>
                  <a:lnTo>
                    <a:pt x="801" y="623"/>
                  </a:lnTo>
                  <a:lnTo>
                    <a:pt x="822" y="606"/>
                  </a:lnTo>
                  <a:lnTo>
                    <a:pt x="849" y="588"/>
                  </a:lnTo>
                  <a:lnTo>
                    <a:pt x="872" y="574"/>
                  </a:lnTo>
                  <a:lnTo>
                    <a:pt x="891" y="563"/>
                  </a:lnTo>
                  <a:lnTo>
                    <a:pt x="919" y="548"/>
                  </a:lnTo>
                  <a:lnTo>
                    <a:pt x="945" y="536"/>
                  </a:lnTo>
                  <a:lnTo>
                    <a:pt x="988" y="524"/>
                  </a:lnTo>
                  <a:lnTo>
                    <a:pt x="988" y="0"/>
                  </a:lnTo>
                </a:path>
              </a:pathLst>
            </a:custGeom>
            <a:gradFill rotWithShape="0">
              <a:gsLst>
                <a:gs pos="0">
                  <a:srgbClr val="005900"/>
                </a:gs>
                <a:gs pos="50000">
                  <a:srgbClr val="008000"/>
                </a:gs>
                <a:gs pos="100000">
                  <a:srgbClr val="005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1800" y="1844640"/>
              <a:ext cx="1219680" cy="1373400"/>
            </a:xfrm>
            <a:custGeom>
              <a:avLst/>
              <a:gdLst/>
              <a:ahLst/>
              <a:rect l="l" t="t" r="r" b="b"/>
              <a:pathLst>
                <a:path w="1473" h="1660">
                  <a:moveTo>
                    <a:pt x="561" y="243"/>
                  </a:moveTo>
                  <a:lnTo>
                    <a:pt x="581" y="246"/>
                  </a:lnTo>
                  <a:lnTo>
                    <a:pt x="608" y="251"/>
                  </a:lnTo>
                  <a:lnTo>
                    <a:pt x="635" y="258"/>
                  </a:lnTo>
                  <a:lnTo>
                    <a:pt x="654" y="262"/>
                  </a:lnTo>
                  <a:lnTo>
                    <a:pt x="676" y="268"/>
                  </a:lnTo>
                  <a:lnTo>
                    <a:pt x="697" y="274"/>
                  </a:lnTo>
                  <a:lnTo>
                    <a:pt x="720" y="281"/>
                  </a:lnTo>
                  <a:lnTo>
                    <a:pt x="740" y="287"/>
                  </a:lnTo>
                  <a:lnTo>
                    <a:pt x="764" y="296"/>
                  </a:lnTo>
                  <a:lnTo>
                    <a:pt x="791" y="307"/>
                  </a:lnTo>
                  <a:lnTo>
                    <a:pt x="814" y="315"/>
                  </a:lnTo>
                  <a:lnTo>
                    <a:pt x="836" y="325"/>
                  </a:lnTo>
                  <a:lnTo>
                    <a:pt x="862" y="336"/>
                  </a:lnTo>
                  <a:lnTo>
                    <a:pt x="887" y="349"/>
                  </a:lnTo>
                  <a:lnTo>
                    <a:pt x="909" y="360"/>
                  </a:lnTo>
                  <a:lnTo>
                    <a:pt x="930" y="374"/>
                  </a:lnTo>
                  <a:lnTo>
                    <a:pt x="950" y="385"/>
                  </a:lnTo>
                  <a:lnTo>
                    <a:pt x="969" y="398"/>
                  </a:lnTo>
                  <a:lnTo>
                    <a:pt x="990" y="411"/>
                  </a:lnTo>
                  <a:lnTo>
                    <a:pt x="1013" y="426"/>
                  </a:lnTo>
                  <a:lnTo>
                    <a:pt x="1034" y="442"/>
                  </a:lnTo>
                  <a:lnTo>
                    <a:pt x="1054" y="458"/>
                  </a:lnTo>
                  <a:lnTo>
                    <a:pt x="1074" y="473"/>
                  </a:lnTo>
                  <a:lnTo>
                    <a:pt x="1104" y="498"/>
                  </a:lnTo>
                  <a:lnTo>
                    <a:pt x="1135" y="527"/>
                  </a:lnTo>
                  <a:lnTo>
                    <a:pt x="1160" y="549"/>
                  </a:lnTo>
                  <a:lnTo>
                    <a:pt x="1189" y="582"/>
                  </a:lnTo>
                  <a:lnTo>
                    <a:pt x="1209" y="605"/>
                  </a:lnTo>
                  <a:lnTo>
                    <a:pt x="1231" y="632"/>
                  </a:lnTo>
                  <a:lnTo>
                    <a:pt x="1256" y="663"/>
                  </a:lnTo>
                  <a:lnTo>
                    <a:pt x="1276" y="692"/>
                  </a:lnTo>
                  <a:lnTo>
                    <a:pt x="1296" y="725"/>
                  </a:lnTo>
                  <a:lnTo>
                    <a:pt x="1318" y="755"/>
                  </a:lnTo>
                  <a:lnTo>
                    <a:pt x="1336" y="789"/>
                  </a:lnTo>
                  <a:lnTo>
                    <a:pt x="1354" y="818"/>
                  </a:lnTo>
                  <a:lnTo>
                    <a:pt x="1371" y="854"/>
                  </a:lnTo>
                  <a:lnTo>
                    <a:pt x="1385" y="889"/>
                  </a:lnTo>
                  <a:lnTo>
                    <a:pt x="1399" y="925"/>
                  </a:lnTo>
                  <a:lnTo>
                    <a:pt x="1412" y="963"/>
                  </a:lnTo>
                  <a:lnTo>
                    <a:pt x="1429" y="1012"/>
                  </a:lnTo>
                  <a:lnTo>
                    <a:pt x="1441" y="1057"/>
                  </a:lnTo>
                  <a:lnTo>
                    <a:pt x="1452" y="1103"/>
                  </a:lnTo>
                  <a:lnTo>
                    <a:pt x="1457" y="1147"/>
                  </a:lnTo>
                  <a:lnTo>
                    <a:pt x="1465" y="1200"/>
                  </a:lnTo>
                  <a:lnTo>
                    <a:pt x="1471" y="1265"/>
                  </a:lnTo>
                  <a:lnTo>
                    <a:pt x="1472" y="1316"/>
                  </a:lnTo>
                  <a:lnTo>
                    <a:pt x="1471" y="1365"/>
                  </a:lnTo>
                  <a:lnTo>
                    <a:pt x="1466" y="1414"/>
                  </a:lnTo>
                  <a:lnTo>
                    <a:pt x="1461" y="1459"/>
                  </a:lnTo>
                  <a:lnTo>
                    <a:pt x="1455" y="1506"/>
                  </a:lnTo>
                  <a:lnTo>
                    <a:pt x="1445" y="1554"/>
                  </a:lnTo>
                  <a:lnTo>
                    <a:pt x="1432" y="1605"/>
                  </a:lnTo>
                  <a:lnTo>
                    <a:pt x="1415" y="1659"/>
                  </a:lnTo>
                  <a:lnTo>
                    <a:pt x="1319" y="1359"/>
                  </a:lnTo>
                  <a:lnTo>
                    <a:pt x="952" y="1422"/>
                  </a:lnTo>
                  <a:lnTo>
                    <a:pt x="960" y="1369"/>
                  </a:lnTo>
                  <a:lnTo>
                    <a:pt x="963" y="1336"/>
                  </a:lnTo>
                  <a:lnTo>
                    <a:pt x="963" y="1300"/>
                  </a:lnTo>
                  <a:lnTo>
                    <a:pt x="961" y="1258"/>
                  </a:lnTo>
                  <a:lnTo>
                    <a:pt x="955" y="1219"/>
                  </a:lnTo>
                  <a:lnTo>
                    <a:pt x="947" y="1174"/>
                  </a:lnTo>
                  <a:lnTo>
                    <a:pt x="937" y="1139"/>
                  </a:lnTo>
                  <a:lnTo>
                    <a:pt x="921" y="1098"/>
                  </a:lnTo>
                  <a:lnTo>
                    <a:pt x="907" y="1064"/>
                  </a:lnTo>
                  <a:lnTo>
                    <a:pt x="889" y="1030"/>
                  </a:lnTo>
                  <a:lnTo>
                    <a:pt x="873" y="1004"/>
                  </a:lnTo>
                  <a:lnTo>
                    <a:pt x="857" y="983"/>
                  </a:lnTo>
                  <a:lnTo>
                    <a:pt x="842" y="961"/>
                  </a:lnTo>
                  <a:lnTo>
                    <a:pt x="825" y="940"/>
                  </a:lnTo>
                  <a:lnTo>
                    <a:pt x="804" y="918"/>
                  </a:lnTo>
                  <a:lnTo>
                    <a:pt x="787" y="903"/>
                  </a:lnTo>
                  <a:lnTo>
                    <a:pt x="768" y="883"/>
                  </a:lnTo>
                  <a:lnTo>
                    <a:pt x="749" y="867"/>
                  </a:lnTo>
                  <a:lnTo>
                    <a:pt x="727" y="850"/>
                  </a:lnTo>
                  <a:lnTo>
                    <a:pt x="700" y="833"/>
                  </a:lnTo>
                  <a:lnTo>
                    <a:pt x="677" y="817"/>
                  </a:lnTo>
                  <a:lnTo>
                    <a:pt x="658" y="807"/>
                  </a:lnTo>
                  <a:lnTo>
                    <a:pt x="631" y="790"/>
                  </a:lnTo>
                  <a:lnTo>
                    <a:pt x="606" y="781"/>
                  </a:lnTo>
                  <a:lnTo>
                    <a:pt x="585" y="773"/>
                  </a:lnTo>
                  <a:lnTo>
                    <a:pt x="562" y="765"/>
                  </a:lnTo>
                  <a:lnTo>
                    <a:pt x="529" y="757"/>
                  </a:lnTo>
                  <a:lnTo>
                    <a:pt x="497" y="752"/>
                  </a:lnTo>
                  <a:lnTo>
                    <a:pt x="464" y="748"/>
                  </a:lnTo>
                  <a:lnTo>
                    <a:pt x="433" y="746"/>
                  </a:lnTo>
                  <a:lnTo>
                    <a:pt x="415" y="745"/>
                  </a:lnTo>
                  <a:lnTo>
                    <a:pt x="415" y="1015"/>
                  </a:lnTo>
                  <a:lnTo>
                    <a:pt x="0" y="515"/>
                  </a:lnTo>
                  <a:lnTo>
                    <a:pt x="414" y="0"/>
                  </a:lnTo>
                  <a:lnTo>
                    <a:pt x="414" y="232"/>
                  </a:lnTo>
                  <a:lnTo>
                    <a:pt x="436" y="233"/>
                  </a:lnTo>
                  <a:lnTo>
                    <a:pt x="468" y="234"/>
                  </a:lnTo>
                  <a:lnTo>
                    <a:pt x="502" y="236"/>
                  </a:lnTo>
                  <a:lnTo>
                    <a:pt x="534" y="240"/>
                  </a:lnTo>
                  <a:lnTo>
                    <a:pt x="561" y="243"/>
                  </a:lnTo>
                </a:path>
              </a:pathLst>
            </a:custGeom>
            <a:gradFill rotWithShape="0">
              <a:gsLst>
                <a:gs pos="0">
                  <a:srgbClr val="cb0000"/>
                </a:gs>
                <a:gs pos="50000">
                  <a:srgbClr val="ff0000"/>
                </a:gs>
                <a:gs pos="100000">
                  <a:srgbClr val="c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Stratégiai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menetek: aggregált adat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dolgozás: interaktí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imenetek: előrejelzés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használók: felsővezeté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f9100"/>
                </a:solidFill>
                <a:latin typeface="Arial"/>
              </a:rPr>
              <a:t>Példa: 5 éves működési terv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Felsővezetői információ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E71-98EB-41AA-B6B6-36B8FD3B795E}" type="slidenum">
              <a:t>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Felsővezetői informatikai rendszerek legfontosabb jellemző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 rendszerek nagymértékben alkalmazkodnak a vezetők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egyéni igényeihez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és döntéshozatali módszereihez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lkalmasak a szervezeten belül folyó tevékenységek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folyamatos nyomon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követésére és a zavarok mihamarabbi észlelésére (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exception reporting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lkalmasak a szervezet számára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kritikus információk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kiszűrésére, válogatására és folyamatos figyelésük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top-down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hozzáférést biztosítanak az információkhoz, azaz elsőként az összegzésekhez lehet hozzájutni, s azután lehet lefelé haladni a részletes kimutatások felé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biztosítják a külső információkhoz való folyamatos hozzáféré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z információkat rendszeresen és automatikusan frissíti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ifinomult grafikus megjelenítést biztosítanak az információk közlésér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evés számítógépes előismeret szükséges a kezelésükhöz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lényegesen drágábbak, mint a döntéstámogató rendszere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3F6-77B2-4F3E-A433-6A6C91A00A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49280" y="457200"/>
            <a:ext cx="7794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Mi az intelligencia?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28400" y="2057400"/>
            <a:ext cx="8715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anulni a tapasztalatokból, a látott mintákból és alkalmazni a tanultaka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övetkeztetéseket levonni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gyorsan és helyesen reagálni új helyzetekben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onyolult (sok változós) helyzeteket kezelni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megkülönböztetni lényeges és lényegtelen dolgoka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megoldani problémákat, amikor lényeges információk hiányoznak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imbólumokat, analógiákat, metaforákat kezelni és feldolgozni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1447-5D97-4B54-AD36-00F5EAFFED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Intelligens rendszerek legfontosabb osztálya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040" y="2658960"/>
            <a:ext cx="75438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akértői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Neurális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Fuzzy rendszer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Robot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A48-4BC4-439E-946A-2643392403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Technológia támogatá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47760" y="981000"/>
            <a:ext cx="727380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5AF-5157-4CEB-977A-B8E5571087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25360" y="533520"/>
            <a:ext cx="77947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zakértői rendszer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64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gy adott területen képesek emberi szakértőket kiváltani vagy részben helyettesíteni, s szakértői döntéseket támogatni illetve automatizálni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diagnózisok készíté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betegségek felismerése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hibakeres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mechanikai rendszerek hibás alkatrészeinek megtalálás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datok interpretálás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émiai molekulák szerkezetének meghatározás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őrejelzések készítés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rojekttervez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oktatás és tréning (adótanácsadá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760-CD2A-4C82-AA5C-A329858719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49280" y="533520"/>
            <a:ext cx="77947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zakértői rendszerek komponens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95120" y="1752480"/>
            <a:ext cx="80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Tudásbázis, azaz HA … AKKOR  típusú szabályok összesség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datbázis, amely egy adott terület ismereteit, tényeit tartalmazz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övetkeztető modul (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inference engine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), amely tények és szabályok felhasználásával következtetéseket képes levonn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Magyarázó modul, amely megmagyarázza, hogy a szakértői rendszer hogyan jutott egy bizonyos következtetésre, azaz milyen következtetéssorozat vezetett az eredményhez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Tudásszerző modul, amely új információkat képes gyűjteni az emberi szakértőktől, illetve külső adatbázisokból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elhasználói illesztés, amely az ember – gép kommunikációt végz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40E-78FE-4A42-A3A9-B72D3F97AE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1b60f"/>
                </a:solidFill>
                <a:latin typeface="Times New Roman"/>
              </a:rPr>
              <a:t>Mesterséges Intelligencia (M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205080"/>
            <a:ext cx="6480" cy="16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1960" y="3375000"/>
            <a:ext cx="7920" cy="16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375000"/>
            <a:ext cx="6480" cy="16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47680" y="2041560"/>
            <a:ext cx="8895960" cy="2387520"/>
            <a:chOff x="247680" y="2041560"/>
            <a:chExt cx="8895960" cy="2387520"/>
          </a:xfrm>
        </p:grpSpPr>
        <p:sp>
          <p:nvSpPr>
            <p:cNvPr id="518" name=""/>
            <p:cNvSpPr/>
            <p:nvPr/>
          </p:nvSpPr>
          <p:spPr>
            <a:xfrm>
              <a:off x="4605840" y="2041560"/>
              <a:ext cx="195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03400" y="323064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5960" y="340056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85400" y="340056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77840" y="3406680"/>
              <a:ext cx="5760" cy="135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03400" y="340056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22840" y="340056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5280" y="3394080"/>
              <a:ext cx="7560" cy="16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42280" y="3400560"/>
              <a:ext cx="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34360" y="3394080"/>
              <a:ext cx="6120" cy="16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64520" y="3394080"/>
              <a:ext cx="18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70640" y="3386160"/>
              <a:ext cx="1789920" cy="6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93320" y="3394080"/>
              <a:ext cx="180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99080" y="3386160"/>
              <a:ext cx="1780920" cy="6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10960" y="3394080"/>
              <a:ext cx="180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17440" y="3386160"/>
              <a:ext cx="1780560" cy="6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28960" y="3394080"/>
              <a:ext cx="181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35080" y="3386160"/>
              <a:ext cx="1789920" cy="6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7680" y="3564000"/>
              <a:ext cx="162000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3800" y="3570480"/>
              <a:ext cx="1615320" cy="672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640" y="3603600"/>
              <a:ext cx="15836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TERMÉSZET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8800" y="3875040"/>
              <a:ext cx="920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NYELVI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876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876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65320" y="3564000"/>
              <a:ext cx="162000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72880" y="3570480"/>
              <a:ext cx="1613880" cy="672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57480" y="3732120"/>
              <a:ext cx="11948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ROBOTIK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98720" y="2622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9840" y="3873600"/>
              <a:ext cx="1644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8820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8820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2960" y="3564000"/>
              <a:ext cx="162000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91240" y="3570480"/>
              <a:ext cx="1616760" cy="672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1800" y="3603600"/>
              <a:ext cx="12146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ÉRZÉKELŐ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30560" y="3875040"/>
              <a:ext cx="1488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RENDSZEREK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05840" y="4336920"/>
              <a:ext cx="195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05840" y="4336920"/>
              <a:ext cx="195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04560" y="3564000"/>
              <a:ext cx="161964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10320" y="3570480"/>
              <a:ext cx="1615680" cy="672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4680" y="3603600"/>
              <a:ext cx="122544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SZAKÉRTŐ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47840" y="3875040"/>
              <a:ext cx="14889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RENDSZEREK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2564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425640" y="4336920"/>
              <a:ext cx="1944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22200" y="3564000"/>
              <a:ext cx="162000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27960" y="3570480"/>
              <a:ext cx="1615680" cy="672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509240" y="3603600"/>
              <a:ext cx="1437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INTELLIGEN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09320" y="3875040"/>
              <a:ext cx="8460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GÉPEK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45080" y="4336920"/>
              <a:ext cx="194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45080" y="4336920"/>
              <a:ext cx="1940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3040" y="2529000"/>
              <a:ext cx="1793160" cy="677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0600" y="2535120"/>
              <a:ext cx="1785240" cy="6732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50000">
                  <a:srgbClr val="00ae00"/>
                </a:gs>
                <a:gs pos="100000">
                  <a:srgbClr val="003300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71880" y="2568600"/>
              <a:ext cx="16261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MESTERSÉGES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54960" y="2838600"/>
              <a:ext cx="163836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15606"/>
                  </a:solidFill>
                  <a:latin typeface="Arial"/>
                </a:rPr>
                <a:t>INTELLIGENCIA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98D-DED1-4313-9DCD-BB4596320734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3716280"/>
            <a:ext cx="4572000" cy="1359360"/>
            <a:chOff x="0" y="3716280"/>
            <a:chExt cx="4572000" cy="1359360"/>
          </a:xfrm>
        </p:grpSpPr>
        <p:grpSp>
          <p:nvGrpSpPr>
            <p:cNvPr id="105" name=""/>
            <p:cNvGrpSpPr/>
            <p:nvPr/>
          </p:nvGrpSpPr>
          <p:grpSpPr>
            <a:xfrm>
              <a:off x="88920" y="3716280"/>
              <a:ext cx="4483080" cy="1054080"/>
              <a:chOff x="88920" y="3716280"/>
              <a:chExt cx="4483080" cy="1054080"/>
            </a:xfrm>
          </p:grpSpPr>
          <p:sp>
            <p:nvSpPr>
              <p:cNvPr id="106" name=""/>
              <p:cNvSpPr/>
              <p:nvPr/>
            </p:nvSpPr>
            <p:spPr>
              <a:xfrm>
                <a:off x="2679840" y="4160880"/>
                <a:ext cx="18921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920" y="3716280"/>
                <a:ext cx="2946240" cy="10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0" y="3767040"/>
              <a:ext cx="3121200" cy="13086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57240" indent="-572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ÉRTÉKESÍTÉSI ÉS          MARKETING VÁLLALAT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                       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119400" y="4127400"/>
            <a:ext cx="2900520" cy="2476440"/>
            <a:chOff x="3119400" y="4127400"/>
            <a:chExt cx="2900520" cy="2476440"/>
          </a:xfrm>
        </p:grpSpPr>
        <p:sp>
          <p:nvSpPr>
            <p:cNvPr id="110" name=""/>
            <p:cNvSpPr/>
            <p:nvPr/>
          </p:nvSpPr>
          <p:spPr>
            <a:xfrm>
              <a:off x="4572000" y="4127400"/>
              <a:ext cx="0" cy="1650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119400" y="5638680"/>
              <a:ext cx="2900520" cy="965160"/>
              <a:chOff x="3119400" y="5638680"/>
              <a:chExt cx="2900520" cy="965160"/>
            </a:xfrm>
          </p:grpSpPr>
          <p:sp>
            <p:nvSpPr>
              <p:cNvPr id="112" name=""/>
              <p:cNvSpPr/>
              <p:nvPr/>
            </p:nvSpPr>
            <p:spPr>
              <a:xfrm>
                <a:off x="3200400" y="5638680"/>
                <a:ext cx="2806560" cy="96516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19400" y="5945040"/>
                <a:ext cx="2900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ÉZÜGYI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5038560" y="3716280"/>
            <a:ext cx="4481280" cy="965160"/>
            <a:chOff x="5038560" y="3716280"/>
            <a:chExt cx="4481280" cy="965160"/>
          </a:xfrm>
        </p:grpSpPr>
        <p:sp>
          <p:nvSpPr>
            <p:cNvPr id="115" name=""/>
            <p:cNvSpPr/>
            <p:nvPr/>
          </p:nvSpPr>
          <p:spPr>
            <a:xfrm>
              <a:off x="5038560" y="4198680"/>
              <a:ext cx="1891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574680" y="3716280"/>
              <a:ext cx="2945160" cy="965160"/>
              <a:chOff x="6574680" y="3716280"/>
              <a:chExt cx="2945160" cy="965160"/>
            </a:xfrm>
          </p:grpSpPr>
          <p:sp>
            <p:nvSpPr>
              <p:cNvPr id="117" name=""/>
              <p:cNvSpPr/>
              <p:nvPr/>
            </p:nvSpPr>
            <p:spPr>
              <a:xfrm>
                <a:off x="6574680" y="3716280"/>
                <a:ext cx="2945160" cy="9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72640" y="3781080"/>
                <a:ext cx="1824840" cy="8575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GISZTIK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irtuális szerveze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98400" y="1536840"/>
            <a:ext cx="3861000" cy="2565360"/>
            <a:chOff x="698400" y="1536840"/>
            <a:chExt cx="3861000" cy="2565360"/>
          </a:xfrm>
        </p:grpSpPr>
        <p:sp>
          <p:nvSpPr>
            <p:cNvPr id="121" name=""/>
            <p:cNvSpPr/>
            <p:nvPr/>
          </p:nvSpPr>
          <p:spPr>
            <a:xfrm>
              <a:off x="2070000" y="1994040"/>
              <a:ext cx="2489400" cy="2108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98400" y="1536840"/>
              <a:ext cx="2946600" cy="965160"/>
              <a:chOff x="698400" y="1536840"/>
              <a:chExt cx="2946600" cy="965160"/>
            </a:xfrm>
          </p:grpSpPr>
          <p:sp>
            <p:nvSpPr>
              <p:cNvPr id="123" name=""/>
              <p:cNvSpPr/>
              <p:nvPr/>
            </p:nvSpPr>
            <p:spPr>
              <a:xfrm>
                <a:off x="698400" y="1536840"/>
                <a:ext cx="2946600" cy="965160"/>
              </a:xfrm>
              <a:prstGeom prst="rect">
                <a:avLst/>
              </a:prstGeom>
              <a:solidFill>
                <a:srgbClr val="11560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92160" y="1601640"/>
                <a:ext cx="2511360" cy="698760"/>
              </a:xfrm>
              <a:prstGeom prst="rect">
                <a:avLst/>
              </a:prstGeom>
              <a:solidFill>
                <a:srgbClr val="cc9900">
                  <a:alpha val="50000"/>
                </a:srgbClr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GYÁRTÓ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584600" y="1536840"/>
            <a:ext cx="4089600" cy="2590200"/>
            <a:chOff x="4584600" y="1536840"/>
            <a:chExt cx="4089600" cy="2590200"/>
          </a:xfrm>
        </p:grpSpPr>
        <p:sp>
          <p:nvSpPr>
            <p:cNvPr id="126" name=""/>
            <p:cNvSpPr/>
            <p:nvPr/>
          </p:nvSpPr>
          <p:spPr>
            <a:xfrm flipV="1">
              <a:off x="4584600" y="1968120"/>
              <a:ext cx="2641680" cy="2158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727600" y="1536840"/>
              <a:ext cx="2946600" cy="965160"/>
              <a:chOff x="5727600" y="1536840"/>
              <a:chExt cx="2946600" cy="965160"/>
            </a:xfrm>
          </p:grpSpPr>
          <p:sp>
            <p:nvSpPr>
              <p:cNvPr id="128" name=""/>
              <p:cNvSpPr/>
              <p:nvPr/>
            </p:nvSpPr>
            <p:spPr>
              <a:xfrm>
                <a:off x="5727600" y="1536840"/>
                <a:ext cx="2946600" cy="9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78560" y="1601640"/>
                <a:ext cx="1596960" cy="698760"/>
              </a:xfrm>
              <a:prstGeom prst="rect">
                <a:avLst/>
              </a:prstGeom>
              <a:solidFill>
                <a:srgbClr val="ff00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ERVEZŐ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3435480" y="2978280"/>
            <a:ext cx="2273040" cy="2273040"/>
            <a:chOff x="3435480" y="2978280"/>
            <a:chExt cx="2273040" cy="2273040"/>
          </a:xfrm>
        </p:grpSpPr>
        <p:sp>
          <p:nvSpPr>
            <p:cNvPr id="131" name=""/>
            <p:cNvSpPr/>
            <p:nvPr/>
          </p:nvSpPr>
          <p:spPr>
            <a:xfrm>
              <a:off x="3435480" y="2978280"/>
              <a:ext cx="2273040" cy="22730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11680" y="3765600"/>
              <a:ext cx="1520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e74c1b"/>
                  </a:solidFill>
                  <a:latin typeface="Arial"/>
                </a:rPr>
                <a:t>CO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74c1b"/>
                  </a:solidFill>
                  <a:latin typeface="Arial"/>
                </a:rPr>
                <a:t>COMPANY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5ED-E758-496B-9929-FA5BEA5DA9E9}" type="slidenum">
              <a:t>4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Vezetői kihív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16040" y="1915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Integráció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Arial"/>
              </a:rPr>
              <a:t>vállalati erőforrás menedzs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Arial"/>
              </a:rPr>
              <a:t>a szervezeti szintek összekapcsolása bonyolult és költsé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versenyelőny megtartása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Arial"/>
              </a:rPr>
              <a:t>az információrendszereknek rugalmasaknak kell lenniük, hogy hosszú távú profitot biztosítsana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9C8-EF03-4513-8AF5-08EAD92B61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30040" y="230040"/>
            <a:ext cx="822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Arial"/>
              </a:rPr>
              <a:t>Az információrendszerek típus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907920"/>
            <a:ext cx="8835840" cy="5620680"/>
            <a:chOff x="0" y="907920"/>
            <a:chExt cx="8835840" cy="5620680"/>
          </a:xfrm>
        </p:grpSpPr>
        <p:sp>
          <p:nvSpPr>
            <p:cNvPr id="137" name=""/>
            <p:cNvSpPr/>
            <p:nvPr/>
          </p:nvSpPr>
          <p:spPr>
            <a:xfrm>
              <a:off x="6767280" y="4506840"/>
              <a:ext cx="1598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Arial"/>
                </a:rPr>
                <a:t>adatmunkáso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907920"/>
              <a:ext cx="8835840" cy="5620680"/>
              <a:chOff x="0" y="907920"/>
              <a:chExt cx="8835840" cy="5620680"/>
            </a:xfrm>
          </p:grpSpPr>
          <p:sp>
            <p:nvSpPr>
              <p:cNvPr id="139" name=""/>
              <p:cNvSpPr/>
              <p:nvPr/>
            </p:nvSpPr>
            <p:spPr>
              <a:xfrm>
                <a:off x="533160" y="907920"/>
                <a:ext cx="7769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2400" spc="-1" strike="noStrike">
                    <a:solidFill>
                      <a:srgbClr val="000000"/>
                    </a:solidFill>
                    <a:latin typeface="Arial"/>
                  </a:rPr>
                  <a:t>A rendszer jellege                      A támogatott csopor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160" y="1593720"/>
                <a:ext cx="792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61722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Stratégiai szint                                                                       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Felsővezeté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160" y="2965320"/>
                <a:ext cx="792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61722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Menedzsment szint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Középvezeté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5327280"/>
                <a:ext cx="883584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Operatív szint  </a:t>
                </a:r>
                <a:r>
                  <a:rPr b="1" lang="hu-HU" sz="1400" spc="-1" strike="noStrike">
                    <a:solidFill>
                      <a:srgbClr val="ffffff"/>
                    </a:solidFill>
                    <a:latin typeface="Arial"/>
                  </a:rPr>
                  <a:t>                                                                                                               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Operatív vezeté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                                                                                                    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52280" y="4260600"/>
                <a:ext cx="868356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Tudás szint                                                                              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hu-HU" sz="1600" spc="-1" strike="noStrike">
                    <a:solidFill>
                      <a:srgbClr val="ffffff"/>
                    </a:solidFill>
                    <a:latin typeface="Arial"/>
                  </a:rPr>
                  <a:t>   Tudás é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                                                                                                               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1066680" y="6013080"/>
                <a:ext cx="6626160" cy="515520"/>
                <a:chOff x="1066680" y="6013080"/>
                <a:chExt cx="6626160" cy="515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71600" y="6013080"/>
                  <a:ext cx="609264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14"/>
                    </a:spcBef>
                    <a:tabLst>
                      <a:tab algn="l" pos="0"/>
                      <a:tab algn="l" pos="2685960"/>
                      <a:tab algn="l" pos="3657600"/>
                      <a:tab algn="l" pos="497196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Értékesítés           Gyártás    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	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 Pénzügy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	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   Számvitel    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	</a:t>
                  </a: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Emberi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24480" y="6241680"/>
                  <a:ext cx="136836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1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300" spc="-1" strike="noStrike">
                      <a:solidFill>
                        <a:srgbClr val="ff6600"/>
                      </a:solidFill>
                      <a:latin typeface="Arial"/>
                    </a:rPr>
                    <a:t>erőforrások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66680" y="6241680"/>
                  <a:ext cx="1596960" cy="28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1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ff6600"/>
                      </a:solidFill>
                      <a:latin typeface="Arial"/>
                    </a:rPr>
                    <a:t>       </a:t>
                  </a:r>
                  <a:r>
                    <a:rPr b="1" lang="en-US" sz="1300" spc="-1" strike="noStrike">
                      <a:solidFill>
                        <a:srgbClr val="ff6600"/>
                      </a:solidFill>
                      <a:latin typeface="Arial"/>
                    </a:rPr>
                    <a:t>marketing</a:t>
                  </a:r>
                  <a:endParaRPr b="0" lang="en-US" sz="1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8" name=""/>
          <p:cNvGrpSpPr/>
          <p:nvPr/>
        </p:nvGrpSpPr>
        <p:grpSpPr>
          <a:xfrm>
            <a:off x="1905120" y="838080"/>
            <a:ext cx="5244840" cy="5182920"/>
            <a:chOff x="1905120" y="838080"/>
            <a:chExt cx="5244840" cy="5182920"/>
          </a:xfrm>
        </p:grpSpPr>
        <p:sp>
          <p:nvSpPr>
            <p:cNvPr id="149" name=""/>
            <p:cNvSpPr/>
            <p:nvPr/>
          </p:nvSpPr>
          <p:spPr>
            <a:xfrm>
              <a:off x="6477120" y="5666760"/>
              <a:ext cx="0" cy="35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905120" y="838080"/>
              <a:ext cx="5244840" cy="4828320"/>
              <a:chOff x="1905120" y="838080"/>
              <a:chExt cx="5244840" cy="4828320"/>
            </a:xfrm>
          </p:grpSpPr>
          <p:sp>
            <p:nvSpPr>
              <p:cNvPr id="151" name=""/>
              <p:cNvSpPr/>
              <p:nvPr/>
            </p:nvSpPr>
            <p:spPr>
              <a:xfrm>
                <a:off x="1905120" y="846720"/>
                <a:ext cx="5244840" cy="480780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645e1d"/>
                  </a:gs>
                  <a:gs pos="50000">
                    <a:srgbClr val="d9cc41"/>
                  </a:gs>
                  <a:gs pos="100000">
                    <a:srgbClr val="645e1d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514600" y="855720"/>
                <a:ext cx="2028960" cy="4810680"/>
              </a:xfrm>
              <a:custGeom>
                <a:avLst/>
                <a:gdLst/>
                <a:ahLst/>
                <a:rect l="l" t="t" r="r" b="b"/>
                <a:pathLst>
                  <a:path w="1278" h="3258">
                    <a:moveTo>
                      <a:pt x="1278" y="0"/>
                    </a:moveTo>
                    <a:lnTo>
                      <a:pt x="0" y="3258"/>
                    </a:lnTo>
                  </a:path>
                </a:pathLst>
              </a:custGeom>
              <a:gradFill rotWithShape="0">
                <a:gsLst>
                  <a:gs pos="0">
                    <a:srgbClr val="645e1d"/>
                  </a:gs>
                  <a:gs pos="50000">
                    <a:srgbClr val="d9cc41"/>
                  </a:gs>
                  <a:gs pos="100000">
                    <a:srgbClr val="645e1d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190760" y="846720"/>
                <a:ext cx="330120" cy="4795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24480" y="838080"/>
                <a:ext cx="631800" cy="4804920"/>
              </a:xfrm>
              <a:custGeom>
                <a:avLst/>
                <a:gdLst/>
                <a:ahLst/>
                <a:rect l="l" t="t" r="r" b="b"/>
                <a:pathLst>
                  <a:path w="398" h="3254">
                    <a:moveTo>
                      <a:pt x="0" y="0"/>
                    </a:moveTo>
                    <a:lnTo>
                      <a:pt x="398" y="3254"/>
                    </a:lnTo>
                  </a:path>
                </a:pathLst>
              </a:custGeom>
              <a:gradFill rotWithShape="0">
                <a:gsLst>
                  <a:gs pos="0">
                    <a:srgbClr val="645e1d"/>
                  </a:gs>
                  <a:gs pos="50000">
                    <a:srgbClr val="d9cc41"/>
                  </a:gs>
                  <a:gs pos="100000">
                    <a:srgbClr val="645e1d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2000" y="917640"/>
                <a:ext cx="1905120" cy="4748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90880" y="3675960"/>
                <a:ext cx="307332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81400" y="4809960"/>
                <a:ext cx="42922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00360" y="2612520"/>
                <a:ext cx="1854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5181480" y="5666760"/>
              <a:ext cx="0" cy="35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1120" y="5666760"/>
              <a:ext cx="0" cy="35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600" y="5666760"/>
              <a:ext cx="0" cy="354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710-BC71-41DD-A9A0-70AF70CC3845}" type="slidenum">
              <a:t>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16040" y="2060640"/>
            <a:ext cx="7772400" cy="349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Felsővezetői információrendszerek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executive support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ES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Vezetői információrendszerek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management information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MI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Döntéstámogató rendszerek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decision support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DS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udásalapú rendszerek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knowledge work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KW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Irodaautomatizálás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office automation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OA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ranzakció feldolgozó rendszerek - 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transaction processing systems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 (TP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információrendszerek fő típusai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2BB-CA29-4EF5-8558-A5BBDA9AB0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Operatív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menetek: tranzakciók, esemény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dolgozás: frissítés (updatin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imenet: részletes jelentés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elhasználók: operatív személyz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Példa: számlakiegyenlít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82800" y="617400"/>
            <a:ext cx="8161200" cy="8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ranzakciófeldolgozó rendszerek (TPS)</a:t>
            </a:r>
            <a:br>
              <a:rPr sz="30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00C-C7D2-459A-A09B-4D48D7737AE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49240" y="6202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ipikus tranzakciófeldolgozó alkalmazás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 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lang="hu-HU" sz="2500" spc="-1" strike="noStrike">
                <a:solidFill>
                  <a:srgbClr val="ef9100"/>
                </a:solidFill>
                <a:latin typeface="Arial"/>
              </a:rPr>
              <a:t>Pénzügyi és számviteli rendszere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rendszerek fő funkci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öltségvetés tervezés; főkönyv; számlázás: költségelszámol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 alkalmazási rendszer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őkönyv; számla-bevételezés / fizetés; költségvetés tervezés; költségvetési-gazdálkodási rendszerek (kincstá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8880" y="6097680"/>
            <a:ext cx="1596960" cy="57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88B-7E8A-40DE-BA43-7413E0F4ED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10:41:06Z</dcterms:modified>
  <cp:revision>69</cp:revision>
  <dc:subject/>
  <dc:title>PowerPoint bemutató</dc:title>
</cp:coreProperties>
</file>