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0AEE-7F79-4291-BEA4-C71637CF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CE4-53C0-49D0-85DF-01C4411F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6D3-890E-4331-A37D-449A0299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BD40-AE7F-4971-B740-639A2288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CBA3-08D9-4A7E-BD3A-53CBC3D2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8E7C-8845-4968-B3A8-E7A96C52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5C19-F0C5-418B-A635-660481FB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03FB-55D9-4926-9854-B49BA495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604D-3712-46B2-B105-1397D649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E175-386B-453B-BA15-A15AB8A1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6D61-4173-4754-AB6F-C649A6D3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26D7-8853-442A-A47B-2857E3A1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43E2-0DF3-4905-8571-4E6D25A2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F751-0ADD-472C-9950-E14A90AA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6254-405C-4A20-948F-487FD636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822B-79BC-498E-BB52-F3D35268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8EC0-ED63-4FE6-A91A-07811ACE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ECD7-78D9-47A4-A6DC-A9868556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DA6A-DF16-44C7-8724-40901440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5D32-9D33-403F-885F-4AF2357B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18B-4F15-4555-AC71-75058A99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344-1A24-437F-908C-910DD108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340-499E-4999-9B52-6FCAA444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7634-C775-437C-B430-41B5AAAA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4AC8-6880-4DFD-8018-6043300AF2A6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DD6F-C1AB-42A9-AB29-E98856AAD469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79280" y="5888160"/>
            <a:ext cx="1801800" cy="92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434B-B41C-4F50-AC97-6791CE4D3F8E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CFAA-A00D-4492-B2EC-4EADEB509F7B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4508640"/>
            <a:ext cx="2952720" cy="1512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805644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A gazdaságinformatika alapjai</a:t>
            </a:r>
            <a:br>
              <a:rPr sz="3800"/>
            </a:br>
            <a:br>
              <a:rPr sz="3800"/>
            </a:b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Dr. Cser László</a:t>
            </a:r>
            <a:br>
              <a:rPr sz="3800"/>
            </a:br>
            <a:br>
              <a:rPr sz="3800"/>
            </a:b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8. előadás: Agrár-információrendszerek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Az Európai Unió agrárinformáció rendszerei 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a primer, vagy elsődleges információs rendszerek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valamint a másodlagos, vagy szekunder információs rendszerek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02A-20E7-4CEA-9342-67F9FCC7D1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A primer információs rendszerek 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Az agrárstatisztika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Az FADN (Farm Accountancy Data Network): a gazdaságok pénzügyi folyamatainak, jövedelemhelyzetének nyomon követése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A Piaci Információs Rendszer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a támogatások elnyerését szolgáló információs elemek: Integrált Igazgatási és Ellenőrző Rendszer, az adófizetők pénzéből történő kifizetések elszámolását, illetve ellenőrzését végzi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A161-4B61-4C14-88D4-C733E6BF54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Agrárstatisztikai rendszer 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az Európai Unió statisztikai hivatalán, az EUROSTAT-on keresztül, é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közvetlenül a tagországoktól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B257-2740-4EA6-B72B-7DF6CC3C6A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1b60f"/>
                </a:solidFill>
                <a:latin typeface="Arial"/>
              </a:rPr>
              <a:t>Tesztüzemi rendszer - A FADN (Farm Accountancy Data Network)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A politikai kezdeményezések és döntések megalapozásához az Európai Unió Bizottságának szüksége va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információkra az üzemek jövedelmi szintjéről, valami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elemzésekre a politikai döntések lehetséges hatásairó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E2E8-61A2-4BD2-90D3-BEC634CD6F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A tesztüzemek adatainak gyűjtése és elemzése 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543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z üzemek méretében és a tulajdoni viszonyokban bekövetkező változások (életképes gazdaságméret, a földtulajdon és a földhasználat kérdései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termelés anyagi műszaki feltételeinek változása (a beruházások alakulása, a termelőkapacitások cseréje, korszerűsítés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termelés és a termelési szerkezet alakulása (a termelés racionális mértékű növelése: a természeti adottságok jobb kihasználását, az üzemi jövedelmek növelését eredményező termelésszerkezeti változások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foglalkoztatottság, a munkatermelékenység, a mezőgazdasági jövedelmek alakulása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termékek a termelési folyamatok hazai és nemzetközi versenyképességének alakulása, a mezőgazdasági termékek előállításához felhasznált naturális ráfordítások, valamint a termelés költségének és jövedelmezőségének bemutatásával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z agrártámogatások hatása a versenyképességre és a jövedelmezőségr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2A83-73F2-424A-8B15-5E489CC421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A Piaci Információs Rendszer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a piaci szereplők információs igényeit kielégítő információs rendszerek, valam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a központi irányítás, illetve elsősorban az EU Bizottság VI. Főigazgatósága elvárásainak megfelelni képes piaci /statisztikai/ adatszolgáltató rendszerek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6BC-48F8-4899-A3BB-EB3620D778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2396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Integrált Igazgatási és Ellenőrző Rendszer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A rendszer biztosítja, hogy az EU kompenzációs támogatásából részesülő termelőkről a lehető legrészletesebb információk álljanak rendelkezésre. Ezért a termelőnek a kérdőívek kitöltésekor szinte teljesen „átláthatóvá” kell tennie magá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160-A158-4689-8E4A-1101C3C161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cser</cp:lastModifiedBy>
  <dcterms:modified xsi:type="dcterms:W3CDTF">2006-05-30T21:13:06Z</dcterms:modified>
  <cp:revision>68</cp:revision>
  <dc:subject/>
  <dc:title>PowerPoint bemutató</dc:title>
</cp:coreProperties>
</file>