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whoosh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C9D-B9D5-48A0-B334-DC9F3D9F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CD5-BED8-45B7-B750-C9FD639B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98B-A8F9-4E76-8A67-E26D69D7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745-71D5-4D0F-B561-F5AB5C4C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B4F1-2F86-42D5-B1AB-BA236981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DB6F-C4A7-4FF9-A58C-1481BE69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7EA8-418A-44D0-91B2-3C912F9D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4885-A52D-46DC-B66B-AAEF2DCC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23C3-7534-4C0B-B1D8-894976B4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BC97-BE66-4D9C-865D-A21CDF31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10AD-0615-427B-9F3E-AB3CD12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6B1-ECDC-4678-9529-F2AC0777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FA29-A91A-45FB-ACF3-E59AC9B3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095D-060E-440C-BEB6-97CAD8AA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EACC-A825-405A-B7CF-D9720645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C49F-7CB5-468D-A2F8-E9367E10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A6A7-E531-4421-BF61-E85986C5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EFC-1ED7-49B4-8CFB-C6B94AC2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592-2540-4F7B-92C3-EBF51907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4DD3-9C93-4153-8765-53AE2F69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F3A-2777-455C-87F6-C9026E4B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454-F40B-4818-96F2-DE15364E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575-2DD5-4C80-8FFA-3353F8EF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52A-1766-4934-9985-537124CB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EBAA-3326-461A-9A00-5393B4818F75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B109-DCB9-4450-9A85-7621AF9364D2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60AC-1E51-44C0-B4C8-8E515BF9BB44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8F72-16D7-4C06-8786-28C43F941205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type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56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4. előadás: Az adattól az adatbázisig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9280" y="4568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z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adatbázis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ezelő rendszerek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felé támasztott követelmények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(2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0800" y="2276640"/>
            <a:ext cx="88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Több felhasználós adatbázisoknál az egyidejű hozzáférést, illetve annak ellenőrzését</a:t>
            </a:r>
            <a:r>
              <a:rPr b="1" lang="de-DE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Osztott adatbázisoknál ezenfelül lehetővé kell tenni az adatok szétosztását és megtalálását a különböző helyekről, az egyidejű hozzáférés ellenőrzését és az adatforgalom optimalizációját 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2FF-AF52-4A67-B476-E9FE2F0B62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9280" y="549000"/>
            <a:ext cx="77947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datbázis architektúra három szintje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543800" cy="33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belső vagy fizikai szi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tényleges fizikai tárolási és elérési módot írja 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ülső szint</a:t>
            </a:r>
            <a:r>
              <a:rPr b="1" lang="de-DE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iként látják az egyes felhasználók az adatbázist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oncepcionális szi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logikailag egységbe ötvözve hogyan néz ki ténylegesen az adatbáz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nnek különböző vetületeit látják a külső szinten a különböző felhasználók.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z képződik le tárolási és elérési struktúraként a belső szin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375-091C-4AF9-B7F8-5EEFD2B862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25360" y="685440"/>
            <a:ext cx="779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</a:rPr>
              <a:t>Elemi adatszerkezet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Bejegyzés (record): </a:t>
            </a: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logikai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fizikai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Tömb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Láncolt list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f1b60f"/>
                </a:solidFill>
                <a:latin typeface="Times New Roman"/>
              </a:rPr>
              <a:t>vere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7680" y="3860640"/>
            <a:ext cx="8229240" cy="1981440"/>
            <a:chOff x="517680" y="3860640"/>
            <a:chExt cx="8229240" cy="1981440"/>
          </a:xfrm>
        </p:grpSpPr>
        <p:grpSp>
          <p:nvGrpSpPr>
            <p:cNvPr id="166" name=""/>
            <p:cNvGrpSpPr/>
            <p:nvPr/>
          </p:nvGrpSpPr>
          <p:grpSpPr>
            <a:xfrm>
              <a:off x="523080" y="3864960"/>
              <a:ext cx="8216640" cy="1972080"/>
              <a:chOff x="523080" y="3864960"/>
              <a:chExt cx="8216640" cy="19720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523080" y="3864960"/>
                <a:ext cx="1360800" cy="589680"/>
                <a:chOff x="523080" y="3864960"/>
                <a:chExt cx="1360800" cy="5896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06600" y="3864960"/>
                  <a:ext cx="119412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RENDSZÁ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23080" y="3864960"/>
                  <a:ext cx="136080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884240" y="3864960"/>
                <a:ext cx="1545480" cy="589680"/>
                <a:chOff x="1884240" y="3864960"/>
                <a:chExt cx="1545480" cy="5896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967760" y="3864960"/>
                  <a:ext cx="137880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GYÁRTMÁN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884240" y="3864960"/>
                  <a:ext cx="154548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430080" y="3864960"/>
                <a:ext cx="1312560" cy="589680"/>
                <a:chOff x="3430080" y="3864960"/>
                <a:chExt cx="1312560" cy="5896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513600" y="3864960"/>
                  <a:ext cx="114588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TÍPU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430080" y="3864960"/>
                  <a:ext cx="131256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743000" y="3864960"/>
                <a:ext cx="1168920" cy="589680"/>
                <a:chOff x="4743000" y="3864960"/>
                <a:chExt cx="1168920" cy="5896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826520" y="3864960"/>
                  <a:ext cx="100152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SZÍ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43000" y="3864960"/>
                  <a:ext cx="116892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912640" y="3864960"/>
                <a:ext cx="1629000" cy="589680"/>
                <a:chOff x="5912640" y="3864960"/>
                <a:chExt cx="1629000" cy="58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96160" y="3864960"/>
                  <a:ext cx="146160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ŰRTARTALO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912640" y="3864960"/>
                  <a:ext cx="162900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542000" y="3864960"/>
                <a:ext cx="1197720" cy="589680"/>
                <a:chOff x="7542000" y="3864960"/>
                <a:chExt cx="1197720" cy="589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625160" y="3864960"/>
                  <a:ext cx="103104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EGYÉ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542000" y="3864960"/>
                  <a:ext cx="119772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23080" y="4454640"/>
                <a:ext cx="1360800" cy="1382400"/>
                <a:chOff x="523080" y="4454640"/>
                <a:chExt cx="1360800" cy="13824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06600" y="4454640"/>
                  <a:ext cx="1194120" cy="13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CYX46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DY968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ABC01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V2403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CZ940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KF954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23080" y="4454640"/>
                  <a:ext cx="1360800" cy="13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884240" y="4454640"/>
                <a:ext cx="1545480" cy="1382400"/>
                <a:chOff x="1884240" y="4454640"/>
                <a:chExt cx="1545480" cy="13824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967760" y="4454640"/>
                  <a:ext cx="1378800" cy="13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Mitsubishi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or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Daihatsu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or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Volkswage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Volkswage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84240" y="4454640"/>
                  <a:ext cx="1545480" cy="13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430080" y="4454640"/>
                <a:ext cx="1312560" cy="1382400"/>
                <a:chOff x="3430080" y="4454640"/>
                <a:chExt cx="1312560" cy="13824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513600" y="4454640"/>
                  <a:ext cx="1145880" cy="13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Colt G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Sierra 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Chara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Escord 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astback T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astback T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430080" y="4454640"/>
                  <a:ext cx="1312560" cy="13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743000" y="4454640"/>
                <a:ext cx="1168920" cy="1382400"/>
                <a:chOff x="4743000" y="4454640"/>
                <a:chExt cx="1168920" cy="13824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826520" y="4454640"/>
                  <a:ext cx="1001520" cy="13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ehé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ezüstmetá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kék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ehé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zöl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zöl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43000" y="4454640"/>
                  <a:ext cx="1168920" cy="13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912640" y="4454640"/>
                <a:ext cx="1629000" cy="1382400"/>
                <a:chOff x="5912640" y="4454640"/>
                <a:chExt cx="1629000" cy="13824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996160" y="4454640"/>
                  <a:ext cx="1461600" cy="13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29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99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29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79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59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59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912640" y="4454640"/>
                  <a:ext cx="1629000" cy="13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542000" y="4454640"/>
                <a:ext cx="1197720" cy="1382400"/>
                <a:chOff x="7542000" y="4454640"/>
                <a:chExt cx="1197720" cy="13824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25160" y="4454640"/>
                  <a:ext cx="1031040" cy="13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542000" y="4454640"/>
                  <a:ext cx="1197720" cy="13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17680" y="3860640"/>
              <a:ext cx="8229240" cy="1981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CEF-97C6-4BFF-BD9D-2E858660D0F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</a:rPr>
              <a:t>Rendez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92120" y="3886200"/>
            <a:ext cx="8229240" cy="1981080"/>
            <a:chOff x="492120" y="3886200"/>
            <a:chExt cx="8229240" cy="1981080"/>
          </a:xfrm>
        </p:grpSpPr>
        <p:grpSp>
          <p:nvGrpSpPr>
            <p:cNvPr id="206" name=""/>
            <p:cNvGrpSpPr/>
            <p:nvPr/>
          </p:nvGrpSpPr>
          <p:grpSpPr>
            <a:xfrm>
              <a:off x="497520" y="3890520"/>
              <a:ext cx="8216640" cy="1971720"/>
              <a:chOff x="497520" y="3890520"/>
              <a:chExt cx="8216640" cy="19717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97520" y="3890520"/>
                <a:ext cx="1360800" cy="589680"/>
                <a:chOff x="497520" y="3890520"/>
                <a:chExt cx="1360800" cy="5896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81040" y="3890520"/>
                  <a:ext cx="119412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RENDSZÁ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97520" y="3890520"/>
                  <a:ext cx="136080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1858680" y="3890520"/>
                <a:ext cx="1545480" cy="589680"/>
                <a:chOff x="1858680" y="3890520"/>
                <a:chExt cx="1545480" cy="5896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942200" y="3890520"/>
                  <a:ext cx="137880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GYÁRTMÁN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858680" y="3890520"/>
                  <a:ext cx="154548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404520" y="3890520"/>
                <a:ext cx="1312560" cy="589680"/>
                <a:chOff x="3404520" y="3890520"/>
                <a:chExt cx="1312560" cy="5896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488040" y="3890520"/>
                  <a:ext cx="114588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TÍPU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404520" y="3890520"/>
                  <a:ext cx="131256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717440" y="3890520"/>
                <a:ext cx="1168920" cy="589680"/>
                <a:chOff x="4717440" y="3890520"/>
                <a:chExt cx="1168920" cy="5896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800960" y="3890520"/>
                  <a:ext cx="100152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SZÍ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717440" y="3890520"/>
                  <a:ext cx="116892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887080" y="3890520"/>
                <a:ext cx="1629000" cy="589680"/>
                <a:chOff x="5887080" y="3890520"/>
                <a:chExt cx="1629000" cy="5896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970600" y="3890520"/>
                  <a:ext cx="146160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ŰRTARTALO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887080" y="3890520"/>
                  <a:ext cx="162900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7516440" y="3890520"/>
                <a:ext cx="1197720" cy="589680"/>
                <a:chOff x="7516440" y="3890520"/>
                <a:chExt cx="1197720" cy="5896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599600" y="3890520"/>
                  <a:ext cx="1031040" cy="58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ffffff"/>
                      </a:solidFill>
                      <a:latin typeface="Times New Roman"/>
                    </a:rPr>
                    <a:t>Pointere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16440" y="3890520"/>
                  <a:ext cx="1197720" cy="58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7520" y="4480200"/>
                <a:ext cx="1360800" cy="1382040"/>
                <a:chOff x="497520" y="4480200"/>
                <a:chExt cx="1360800" cy="13820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81040" y="4480200"/>
                  <a:ext cx="1194120" cy="13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de-DE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X46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DY968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ABC01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V2403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CZ940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KF954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7520" y="4480200"/>
                  <a:ext cx="1360800" cy="13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858680" y="4480200"/>
                <a:ext cx="1545480" cy="1382040"/>
                <a:chOff x="1858680" y="4480200"/>
                <a:chExt cx="1545480" cy="13820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942200" y="4480200"/>
                  <a:ext cx="1378800" cy="13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Mitsubishi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or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Daihatsu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or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Volkswage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Volkswage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858680" y="4480200"/>
                  <a:ext cx="1545480" cy="13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404520" y="4480200"/>
                <a:ext cx="1312560" cy="1382040"/>
                <a:chOff x="3404520" y="4480200"/>
                <a:chExt cx="1312560" cy="13820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488040" y="4480200"/>
                  <a:ext cx="1145880" cy="13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Colt G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Sierra 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Chara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Escord 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astback T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astback T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404520" y="4480200"/>
                  <a:ext cx="1312560" cy="13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717440" y="4480200"/>
                <a:ext cx="1168920" cy="1382040"/>
                <a:chOff x="4717440" y="4480200"/>
                <a:chExt cx="1168920" cy="1382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800960" y="4480200"/>
                  <a:ext cx="1001520" cy="13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ehé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ezüstmetá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kék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fehé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zöl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zöl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17440" y="4480200"/>
                  <a:ext cx="1168920" cy="13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887080" y="4480200"/>
                <a:ext cx="1629000" cy="1382040"/>
                <a:chOff x="5887080" y="4480200"/>
                <a:chExt cx="1629000" cy="13820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70600" y="4480200"/>
                  <a:ext cx="1461600" cy="13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29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99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29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79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59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1b60f"/>
                      </a:solidFill>
                      <a:latin typeface="Times New Roman"/>
                      <a:ea typeface="Times New Roman"/>
                    </a:rPr>
                    <a:t>159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887080" y="4480200"/>
                  <a:ext cx="1629000" cy="13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516440" y="4480200"/>
                <a:ext cx="1197720" cy="1382040"/>
                <a:chOff x="7516440" y="4480200"/>
                <a:chExt cx="1197720" cy="1382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599600" y="4480200"/>
                  <a:ext cx="1031040" cy="138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516440" y="4480200"/>
                  <a:ext cx="1197720" cy="138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492120" y="3886200"/>
              <a:ext cx="8229240" cy="1981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73280" y="2438280"/>
            <a:ext cx="787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Times New Roman"/>
              </a:rPr>
              <a:t>Rendezési kulcs 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</a:rPr>
              <a:t>bevezeté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6160" y="3886200"/>
            <a:ext cx="1195560" cy="198108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87716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5976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40560" y="4495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7456320" y="4495680"/>
            <a:ext cx="746280" cy="609840"/>
          </a:xfrm>
          <a:custGeom>
            <a:avLst/>
            <a:gdLst>
              <a:gd name="textAreaLeft" fmla="*/ 99720 w 746280"/>
              <a:gd name="textAreaRight" fmla="*/ 646560 w 7462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173360" y="4495680"/>
            <a:ext cx="703080" cy="1143000"/>
          </a:xfrm>
          <a:custGeom>
            <a:avLst/>
            <a:gdLst>
              <a:gd name="textAreaLeft" fmla="*/ 93960 w 703080"/>
              <a:gd name="textAreaRight" fmla="*/ 609120 w 7030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299440" y="4648320"/>
            <a:ext cx="352440" cy="838080"/>
          </a:xfrm>
          <a:custGeom>
            <a:avLst/>
            <a:gdLst>
              <a:gd name="textAreaLeft" fmla="*/ 47160 w 352440"/>
              <a:gd name="textAreaRight" fmla="*/ 305280 w 3524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34040" y="4724280"/>
            <a:ext cx="351000" cy="1143000"/>
          </a:xfrm>
          <a:custGeom>
            <a:avLst/>
            <a:gdLst>
              <a:gd name="textAreaLeft" fmla="*/ 46800 w 351000"/>
              <a:gd name="textAreaRight" fmla="*/ 304200 w 3510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892920" y="5181480"/>
            <a:ext cx="984240" cy="609840"/>
          </a:xfrm>
          <a:custGeom>
            <a:avLst/>
            <a:gdLst>
              <a:gd name="textAreaLeft" fmla="*/ 131760 w 984240"/>
              <a:gd name="textAreaRight" fmla="*/ 852480 w 98424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69EA-8D94-401A-A127-BF6E9B05DCA0}" type="slidenum">
              <a:t>13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25360" y="685440"/>
            <a:ext cx="779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Láncolt lista</a:t>
            </a:r>
            <a:r>
              <a:rPr b="0" lang="hu-HU" sz="30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láncolt lista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gy eleme, egy T típusú adatrészbõl, és 1..n darab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ointerbõl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áll.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ointerek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rra a memóriacímre mutatnak, ahol egy újabb listaelem található (rákövetkezõ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25360" y="3429000"/>
            <a:ext cx="140688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30960" y="3429000"/>
            <a:ext cx="140652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7760" y="3429000"/>
            <a:ext cx="140652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94280" y="3429000"/>
            <a:ext cx="5619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2240" y="3429000"/>
            <a:ext cx="5634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37480" y="3429000"/>
            <a:ext cx="5619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66840" y="350532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1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68560" y="3505320"/>
            <a:ext cx="10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2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0640" y="35053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3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62040" y="3505320"/>
            <a:ext cx="7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94280" y="3505320"/>
            <a:ext cx="7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3581280"/>
            <a:ext cx="7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3962520"/>
            <a:ext cx="1120680" cy="733320"/>
          </a:xfrm>
          <a:custGeom>
            <a:avLst/>
            <a:gdLst>
              <a:gd name="textAreaLeft" fmla="*/ 195840 w 1120680"/>
              <a:gd name="textAreaRight" fmla="*/ 812520 w 1120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45280" y="3962520"/>
            <a:ext cx="1122120" cy="733320"/>
          </a:xfrm>
          <a:custGeom>
            <a:avLst/>
            <a:gdLst>
              <a:gd name="textAreaLeft" fmla="*/ 196200 w 1122120"/>
              <a:gd name="textAreaRight" fmla="*/ 813600 w 1122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23320" y="3962520"/>
            <a:ext cx="1120680" cy="733320"/>
          </a:xfrm>
          <a:custGeom>
            <a:avLst/>
            <a:gdLst>
              <a:gd name="textAreaLeft" fmla="*/ 195840 w 1120680"/>
              <a:gd name="textAreaRight" fmla="*/ 812520 w 1120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44560" y="4648320"/>
            <a:ext cx="8018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Láncolt lista esetén csak a listaelem helyfoglalása folytonos, a pointer értéke mutatja, hogy a következõ elem hol található a memóriában. (Elõfordulhat, hogy 1-2 elem, vagy akár az egész lista memóriafolytonosan helyezkedik el, de ez nem feltétlenül jellemzõ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55C-F3D1-4549-A381-3CB32BFF638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25360" y="685440"/>
            <a:ext cx="779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</a:rPr>
              <a:t>Elem törlése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25360" y="3429000"/>
            <a:ext cx="140688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30960" y="3429000"/>
            <a:ext cx="140652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87760" y="3429000"/>
            <a:ext cx="140652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94280" y="3429000"/>
            <a:ext cx="5619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32240" y="3429000"/>
            <a:ext cx="5634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37480" y="3429000"/>
            <a:ext cx="5619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66840" y="350532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1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68560" y="3505320"/>
            <a:ext cx="10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2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0640" y="35053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3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62040" y="3505320"/>
            <a:ext cx="7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94280" y="3505320"/>
            <a:ext cx="7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67640" y="3581280"/>
            <a:ext cx="7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3962520"/>
            <a:ext cx="1120680" cy="733320"/>
          </a:xfrm>
          <a:custGeom>
            <a:avLst/>
            <a:gdLst>
              <a:gd name="textAreaLeft" fmla="*/ 195840 w 1120680"/>
              <a:gd name="textAreaRight" fmla="*/ 812520 w 1120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45280" y="3962520"/>
            <a:ext cx="1122120" cy="733320"/>
          </a:xfrm>
          <a:custGeom>
            <a:avLst/>
            <a:gdLst>
              <a:gd name="textAreaLeft" fmla="*/ 196200 w 1122120"/>
              <a:gd name="textAreaRight" fmla="*/ 813600 w 1122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23320" y="3962520"/>
            <a:ext cx="1120680" cy="733320"/>
          </a:xfrm>
          <a:custGeom>
            <a:avLst/>
            <a:gdLst>
              <a:gd name="textAreaLeft" fmla="*/ 195840 w 1120680"/>
              <a:gd name="textAreaRight" fmla="*/ 812520 w 1120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079880" y="3048120"/>
            <a:ext cx="914400" cy="144756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19560" y="2895480"/>
            <a:ext cx="844560" cy="16765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A60-CE75-4891-9F77-BCE0B44A2E1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25360" y="685440"/>
            <a:ext cx="779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</a:rPr>
              <a:t>Elem törlése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25360" y="3429000"/>
            <a:ext cx="140688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30960" y="3429000"/>
            <a:ext cx="140652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32240" y="3429000"/>
            <a:ext cx="5634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37480" y="3429000"/>
            <a:ext cx="5619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66840" y="350532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1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0640" y="35053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3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62040" y="3505320"/>
            <a:ext cx="7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67640" y="3581280"/>
            <a:ext cx="7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32240" y="3962520"/>
            <a:ext cx="4782960" cy="761760"/>
          </a:xfrm>
          <a:custGeom>
            <a:avLst/>
            <a:gdLst>
              <a:gd name="textAreaLeft" fmla="*/ 837000 w 4782960"/>
              <a:gd name="textAreaRight" fmla="*/ 3467520 w 478296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1" hR="21600" stAng="10800000" swAng="-5400000"/>
                <a:lnTo>
                  <a:pt x="11880" y="21600"/>
                </a:lnTo>
                <a:arcTo wR="7561" hR="21600" stAng="5400000" swAng="-2682751"/>
                <a:lnTo>
                  <a:pt x="21168" y="7200"/>
                </a:lnTo>
                <a:lnTo>
                  <a:pt x="17281" y="0"/>
                </a:lnTo>
                <a:lnTo>
                  <a:pt x="12529" y="7200"/>
                </a:lnTo>
                <a:lnTo>
                  <a:pt x="14689" y="7200"/>
                </a:lnTo>
                <a:arcTo wR="7561" hR="21600" stAng="2717249" swAng="2325408"/>
                <a:lnTo>
                  <a:pt x="9720" y="20700"/>
                </a:lnTo>
                <a:arcTo wR="7561" hR="21600" stAng="5757343" swAng="5042657"/>
                <a:close/>
              </a:path>
              <a:path fill="darkenLess" w="21600" h="21600">
                <a:moveTo>
                  <a:pt x="0" y="0"/>
                </a:moveTo>
                <a:arcTo wR="7561" hR="21600" stAng="10800000" swAng="-5400000"/>
                <a:lnTo>
                  <a:pt x="11880" y="21600"/>
                </a:lnTo>
                <a:arcTo wR="7561" hR="21600" stAng="5400000" swAng="357343"/>
                <a:lnTo>
                  <a:pt x="9720" y="20700"/>
                </a:lnTo>
                <a:arcTo wR="7561" hR="21600" stAng="5757343" swAng="5042657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23320" y="3962520"/>
            <a:ext cx="1120680" cy="733320"/>
          </a:xfrm>
          <a:custGeom>
            <a:avLst/>
            <a:gdLst>
              <a:gd name="textAreaLeft" fmla="*/ 195840 w 1120680"/>
              <a:gd name="textAreaRight" fmla="*/ 812520 w 1120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361-7BDF-48FE-95C5-D128A23342C6}" type="slidenum">
              <a:t>1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532240" y="3429000"/>
            <a:ext cx="5634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98720" y="2057400"/>
            <a:ext cx="5623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25360" y="685440"/>
            <a:ext cx="779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Új elem beillesztése a listáb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25360" y="3429000"/>
            <a:ext cx="140688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30960" y="3429000"/>
            <a:ext cx="140652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7760" y="3429000"/>
            <a:ext cx="140652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94280" y="3429000"/>
            <a:ext cx="5619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37480" y="3429000"/>
            <a:ext cx="5619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66840" y="350532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1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68560" y="3505320"/>
            <a:ext cx="10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2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0640" y="35053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3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27440" y="220968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94280" y="3505320"/>
            <a:ext cx="7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67640" y="3581280"/>
            <a:ext cx="7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3962520"/>
            <a:ext cx="1120680" cy="733320"/>
          </a:xfrm>
          <a:custGeom>
            <a:avLst/>
            <a:gdLst>
              <a:gd name="textAreaLeft" fmla="*/ 195840 w 1120680"/>
              <a:gd name="textAreaRight" fmla="*/ 812520 w 1120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45280" y="3962520"/>
            <a:ext cx="1122120" cy="733320"/>
          </a:xfrm>
          <a:custGeom>
            <a:avLst/>
            <a:gdLst>
              <a:gd name="textAreaLeft" fmla="*/ 196200 w 1122120"/>
              <a:gd name="textAreaRight" fmla="*/ 813600 w 1122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23320" y="3962520"/>
            <a:ext cx="1120680" cy="733320"/>
          </a:xfrm>
          <a:custGeom>
            <a:avLst/>
            <a:gdLst>
              <a:gd name="textAreaLeft" fmla="*/ 195840 w 1120680"/>
              <a:gd name="textAreaRight" fmla="*/ 812520 w 1120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90760" y="2057400"/>
            <a:ext cx="140796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32240" y="21337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Új 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32240" y="3581280"/>
            <a:ext cx="7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9BD-93D4-4083-901B-2D3DB1C3E842}" type="slidenum">
              <a:t>17</a:t>
            </a:fld>
          </a:p>
        </p:txBody>
      </p:sp>
    </p:spTree>
  </p:cSld>
  <p:transition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532240" y="3429000"/>
            <a:ext cx="56340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98720" y="2057400"/>
            <a:ext cx="56232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25360" y="685440"/>
            <a:ext cx="7794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Új elem beillesztése a listáb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25360" y="3429000"/>
            <a:ext cx="140688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0960" y="3429000"/>
            <a:ext cx="140652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7760" y="3429000"/>
            <a:ext cx="140652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4280" y="3429000"/>
            <a:ext cx="5619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37480" y="3429000"/>
            <a:ext cx="56196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66840" y="350532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1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68560" y="3505320"/>
            <a:ext cx="10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2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70640" y="35053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3.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27440" y="2209680"/>
            <a:ext cx="7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94280" y="3505320"/>
            <a:ext cx="7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67640" y="3581280"/>
            <a:ext cx="7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45280" y="3962520"/>
            <a:ext cx="1122120" cy="733320"/>
          </a:xfrm>
          <a:custGeom>
            <a:avLst/>
            <a:gdLst>
              <a:gd name="textAreaLeft" fmla="*/ 196200 w 1122120"/>
              <a:gd name="textAreaRight" fmla="*/ 813600 w 11221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23320" y="3962520"/>
            <a:ext cx="1120680" cy="733320"/>
          </a:xfrm>
          <a:custGeom>
            <a:avLst/>
            <a:gdLst>
              <a:gd name="textAreaLeft" fmla="*/ 195840 w 1120680"/>
              <a:gd name="textAreaRight" fmla="*/ 812520 w 11206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90760" y="2057400"/>
            <a:ext cx="1407960" cy="5335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32240" y="21337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Új el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32240" y="3581280"/>
            <a:ext cx="77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poi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02080" y="2590920"/>
            <a:ext cx="352080" cy="838080"/>
          </a:xfrm>
          <a:prstGeom prst="upArrow">
            <a:avLst>
              <a:gd name="adj1" fmla="val 50000"/>
              <a:gd name="adj2" fmla="val 5950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79880" y="2590920"/>
            <a:ext cx="351000" cy="838080"/>
          </a:xfrm>
          <a:prstGeom prst="downArrow">
            <a:avLst>
              <a:gd name="adj1" fmla="val 50000"/>
              <a:gd name="adj2" fmla="val 59692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952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Elöny: </a:t>
            </a:r>
            <a:r>
              <a:rPr b="1" lang="de-DE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önnyü beillesztés és törlé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Hátrány: </a:t>
            </a:r>
            <a:r>
              <a:rPr b="1" lang="de-DE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lista elsõ elemétõl lépkednünk kell a következõ elemre, míg el nem 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	</a:t>
            </a:r>
            <a:r>
              <a:rPr b="1" lang="de-DE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érjük a megfelelõ elemet.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97D-AE6F-4CAF-B39D-D43679D36AF7}" type="slidenum">
              <a:t>18</a:t>
            </a:fld>
          </a:p>
        </p:txBody>
      </p:sp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84240" y="838080"/>
            <a:ext cx="779472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Verem, STACK, LIFO (Last In First Out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dattároló</a:t>
            </a:r>
            <a:r>
              <a:rPr b="1" lang="hu-H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melybõl a legutoljára beírt elemet (top) tudjuk elérni, illetve kitörölni. Szemléletesen egy edényhez hasonlítható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vermet a függvények/eljárások hívásakor, megszakítás</a:t>
            </a:r>
            <a:r>
              <a:rPr b="1" lang="de-DE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híváskor (hívás elõtti állapot kimentés, majd állapot visszaállítás hívás után) használják, további felhasználási terület például a matematikai képletek kiértékelése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16480" y="3124080"/>
            <a:ext cx="1407960" cy="1295640"/>
          </a:xfrm>
          <a:prstGeom prst="rect">
            <a:avLst/>
          </a:prstGeom>
          <a:solidFill>
            <a:srgbClr val="11560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16480" y="3809880"/>
            <a:ext cx="140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6480" y="4114800"/>
            <a:ext cx="140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16480" y="3505320"/>
            <a:ext cx="1407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95640" y="2819520"/>
            <a:ext cx="420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1648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924440" y="2819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24440" y="2819520"/>
            <a:ext cx="420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7600" y="2743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Times New Roman"/>
              </a:rPr>
              <a:t>Utolsó e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27440" y="3124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9900"/>
                </a:solidFill>
                <a:latin typeface="Times New Roman"/>
              </a:rPr>
              <a:t>4. e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27440" y="3505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9900"/>
                </a:solidFill>
                <a:latin typeface="Times New Roman"/>
              </a:rPr>
              <a:t>3. e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27440" y="3809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9900"/>
                </a:solidFill>
                <a:latin typeface="Times New Roman"/>
              </a:rPr>
              <a:t>2. e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727440" y="4114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9900"/>
                </a:solidFill>
                <a:latin typeface="Times New Roman"/>
              </a:rPr>
              <a:t>1. e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3B1-1778-4E50-9DA0-6B3D1E871B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49280" y="456840"/>
            <a:ext cx="77947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datbázi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rogrammfüggetlen adatok rendezett halmaza (nem mennyiségi jellemz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ő</a:t>
            </a:r>
            <a:r>
              <a:rPr b="1" lang="de-DE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!).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Tartalmazza az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okat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datok ábrázolási módját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datok közti összefüggéseket, kapcsolatokat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datokhoz való hozzáférés ellenőrzési módjá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űködni kell rajta egy olyan adatbázis-kezelő rendszernek, mely lehetővé teszi az adatokból a bennük lévő információ előállításá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(Data Base Management System, DBM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276-F851-44A4-BF3A-08F20F96E20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49280" y="685440"/>
            <a:ext cx="77947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</a:rPr>
              <a:t>Az adatbázis kezel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ő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</a:rPr>
              <a:t> f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ő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</a:rPr>
              <a:t>bb része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87680" y="2514600"/>
            <a:ext cx="309528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27520" y="3505320"/>
            <a:ext cx="253224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39760" y="3657600"/>
            <a:ext cx="253224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98640" y="4952880"/>
            <a:ext cx="2673360" cy="8384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35320" y="320040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35320" y="4343400"/>
            <a:ext cx="0" cy="609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1960" y="1981080"/>
            <a:ext cx="140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3440" y="2133720"/>
            <a:ext cx="14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44560" y="2286000"/>
            <a:ext cx="140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160" y="1905120"/>
            <a:ext cx="25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ahoma"/>
              </a:rPr>
              <a:t>sémamódosít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24360" y="1828800"/>
            <a:ext cx="19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ahoma"/>
              </a:rPr>
              <a:t>Lekérdezé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78520" y="1828800"/>
            <a:ext cx="20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1b60f"/>
                </a:solidFill>
                <a:latin typeface="Tahoma"/>
              </a:rPr>
              <a:t>módosít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98640" y="2666880"/>
            <a:ext cx="35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ekérdezés feldolgoz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39760" y="380988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árkezel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27520" y="365760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ranzakció kezel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69920" y="5257800"/>
            <a:ext cx="30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datok, metaadat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572000" y="4038480"/>
            <a:ext cx="1055520" cy="152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782960" y="2895480"/>
            <a:ext cx="844560" cy="6098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55520" y="2209680"/>
            <a:ext cx="2179800" cy="3049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165120" y="2133720"/>
            <a:ext cx="70308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235320" y="2133720"/>
            <a:ext cx="358776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33E-DFF6-4DD1-95D6-38A51E2A0B8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05040" y="61704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korszerű adatbázis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ezelő szoftvertől megkövetelhető</a:t>
            </a: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25000" y="1981080"/>
            <a:ext cx="7385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Valamennyire tudják használni csekély számítástechnikai</a:t>
            </a:r>
            <a:r>
              <a:rPr b="1" lang="de-DE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ismeretekkel rendelkezők is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Legyen felhasználóbarát lekérdező nyelve és jelentés készítője (report generátor)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Biztosítsa a rendszer legfontosabb jellemzőinek automatikus dokumentálását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épernyőhasználat egyszerű legyen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árbeszédesen (interaktív módon) lehessen használni,Egyszerűen lehessen az adatbáziskezelő utasításokból (magas szintű) programnyelvi utasításokat generálni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4EC-EE78-41E2-A663-D9E9D8F4816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49280" y="685440"/>
            <a:ext cx="77947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DBMS nyelv funkciói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043760" cy="29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datleíró nyelv (Data Definition Language)</a:t>
            </a:r>
            <a:r>
              <a:rPr b="1" lang="de-DE" sz="21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datok és a köztük lévő kapcsolatok leírása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datkezelő nyelv (Data Manipulation Language)</a:t>
            </a:r>
            <a:r>
              <a:rPr b="1" lang="de-DE" sz="21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datok visszanyerésére, beírására, módosítására, törlésér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907-7050-4979-86A3-6FC3A4552B0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673000" y="609480"/>
            <a:ext cx="46162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datmodel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datmodell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különböző típusú adatok, a köztük fennálló kapcsolatok, összefüggések, valamint a velük kapcsolatos adatvédelmi eljárások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leírása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Entitás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logikailag összetartozó adato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önálló egyedtípusokba összegyűjt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ve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ttribútum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z egyes entitások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tulajdonságai, amelyek azok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egyértelmű azonosít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ását is szolgálják.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Főbb modellek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hierarchikus (pl. IMS)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hálós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	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(pl. IDMS)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relációs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	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(pl. DB2, SQL/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D87-5CD3-4519-9778-18459C59F76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25360" y="837720"/>
            <a:ext cx="7794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apcsola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44200" y="1828800"/>
            <a:ext cx="81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ét entitás típus között, vagy ugyanazon entitás különböző attribútumai közöt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Kapcsolattípusok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két elem független egymástól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ölcsönösen egyértelmű kapcsolat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(pl.jó kódrendszerben a kód és a megnevezés között)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gyik irányban egy, a másikban többértelmű (1:N) kapcsolat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(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p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l. szülőanya és gyerekei)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Több-több értelmű (M:N) kapcsolat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(pl. férfiak és nők).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166-5CFA-433B-A139-3D88E7C9391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95200" y="761760"/>
            <a:ext cx="77943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1:1 kapcsola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66840" y="2514600"/>
            <a:ext cx="5978520" cy="3200040"/>
            <a:chOff x="1266840" y="2514600"/>
            <a:chExt cx="5978520" cy="3200040"/>
          </a:xfrm>
        </p:grpSpPr>
        <p:sp>
          <p:nvSpPr>
            <p:cNvPr id="394" name=""/>
            <p:cNvSpPr/>
            <p:nvPr/>
          </p:nvSpPr>
          <p:spPr>
            <a:xfrm>
              <a:off x="1266840" y="3745080"/>
              <a:ext cx="68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2685960" y="2514600"/>
              <a:ext cx="4559400" cy="2757240"/>
              <a:chOff x="2685960" y="2514600"/>
              <a:chExt cx="4559400" cy="27572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2685960" y="2514600"/>
                <a:ext cx="4559400" cy="2757240"/>
                <a:chOff x="2685960" y="2514600"/>
                <a:chExt cx="4559400" cy="27572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913480" y="2711520"/>
                  <a:ext cx="911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913480" y="2711520"/>
                  <a:ext cx="0" cy="39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>
                  <a:off x="2685960" y="3105360"/>
                  <a:ext cx="22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685960" y="3105360"/>
                  <a:ext cx="0" cy="157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85960" y="468072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800080" y="4680720"/>
                  <a:ext cx="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800080" y="4877640"/>
                  <a:ext cx="113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913480" y="4877640"/>
                  <a:ext cx="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913480" y="5074920"/>
                  <a:ext cx="1140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4053600" y="4877280"/>
                  <a:ext cx="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053600" y="4877640"/>
                  <a:ext cx="113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4167360" y="2908440"/>
                  <a:ext cx="0" cy="196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3825720" y="2908440"/>
                  <a:ext cx="34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3825720" y="2711160"/>
                  <a:ext cx="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991840" y="2514600"/>
                  <a:ext cx="68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991840" y="2514600"/>
                  <a:ext cx="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>
                  <a:off x="5649480" y="2711520"/>
                  <a:ext cx="34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649480" y="2711520"/>
                  <a:ext cx="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5535000" y="290844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535360" y="2908440"/>
                  <a:ext cx="0" cy="1969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535360" y="487764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763960" y="4877640"/>
                  <a:ext cx="0" cy="39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763960" y="5271840"/>
                  <a:ext cx="1139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6903000" y="4877640"/>
                  <a:ext cx="0" cy="39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03000" y="4877640"/>
                  <a:ext cx="22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7131240" y="4680360"/>
                  <a:ext cx="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31240" y="468072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7245360" y="3105360"/>
                  <a:ext cx="0" cy="157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75480" y="2514600"/>
                  <a:ext cx="0" cy="19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675480" y="2711520"/>
                  <a:ext cx="455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131240" y="2711520"/>
                  <a:ext cx="0" cy="393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131240" y="3105360"/>
                  <a:ext cx="114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141720" y="2904120"/>
                  <a:ext cx="684000" cy="1772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2400" spc="-1" strike="noStrike">
                      <a:solidFill>
                        <a:srgbClr val="f1b60f"/>
                      </a:solidFill>
                      <a:latin typeface="Times New Roman"/>
                    </a:rPr>
                    <a:t>11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2400" spc="-1" strike="noStrike">
                      <a:solidFill>
                        <a:srgbClr val="f1b60f"/>
                      </a:solidFill>
                      <a:latin typeface="Times New Roman"/>
                    </a:rPr>
                    <a:t>228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2400" spc="-1" strike="noStrike">
                      <a:solidFill>
                        <a:srgbClr val="f1b60f"/>
                      </a:solidFill>
                      <a:latin typeface="Times New Roman"/>
                    </a:rPr>
                    <a:t>96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763960" y="2904120"/>
                  <a:ext cx="1139040" cy="1969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2000" spc="-1" strike="noStrike">
                      <a:solidFill>
                        <a:srgbClr val="f1b60f"/>
                      </a:solidFill>
                      <a:latin typeface="Times New Roman"/>
                    </a:rPr>
                    <a:t>Bé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2000" spc="-1" strike="noStrike">
                      <a:solidFill>
                        <a:srgbClr val="f1b60f"/>
                      </a:solidFill>
                      <a:latin typeface="Times New Roman"/>
                    </a:rPr>
                    <a:t>Pénzügy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2000" spc="-1" strike="noStrike">
                      <a:solidFill>
                        <a:srgbClr val="f1b60f"/>
                      </a:solidFill>
                      <a:latin typeface="Times New Roman"/>
                    </a:rPr>
                    <a:t>Tervezé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711600" y="3105360"/>
                  <a:ext cx="136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079600" y="3105360"/>
                  <a:ext cx="0" cy="5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079600" y="3696120"/>
                  <a:ext cx="68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711600" y="3893040"/>
                  <a:ext cx="79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509720" y="3893040"/>
                  <a:ext cx="0" cy="5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509720" y="4483800"/>
                  <a:ext cx="125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711600" y="4483800"/>
                  <a:ext cx="56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4281480" y="3498840"/>
                  <a:ext cx="0" cy="98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281480" y="3499200"/>
                  <a:ext cx="95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V="1">
                  <a:off x="5240160" y="3252960"/>
                  <a:ext cx="720" cy="24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5240160" y="3252960"/>
                <a:ext cx="56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4530960" y="4976280"/>
              <a:ext cx="709200" cy="73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ffffff"/>
                  </a:solidFill>
                  <a:latin typeface="Times New Roman"/>
                </a:rPr>
                <a:t>a.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1687680" y="1981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Osztálykó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45280" y="1981080"/>
            <a:ext cx="21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Osztálynev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D6B-8355-44B9-AB56-BFAC0F98EDD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25360" y="914040"/>
            <a:ext cx="77947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1:N kapcsola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22280" y="2014560"/>
            <a:ext cx="79484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	</a:t>
            </a:r>
            <a:r>
              <a:rPr b="0" lang="hu-HU" sz="1200" spc="-1" strike="noStrike">
                <a:solidFill>
                  <a:srgbClr val="f1b60f"/>
                </a:solidFill>
                <a:latin typeface="Times New Roman"/>
              </a:rPr>
              <a:t>           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ÜLŐANYA</a:t>
            </a: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	</a:t>
            </a:r>
            <a:r>
              <a:rPr b="0" lang="hu-HU" sz="12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lang="hu-HU" sz="12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GYE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b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12574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41120" y="2437920"/>
            <a:ext cx="7736040" cy="2724480"/>
            <a:chOff x="141120" y="2437920"/>
            <a:chExt cx="7736040" cy="2724480"/>
          </a:xfrm>
        </p:grpSpPr>
        <p:grpSp>
          <p:nvGrpSpPr>
            <p:cNvPr id="448" name=""/>
            <p:cNvGrpSpPr/>
            <p:nvPr/>
          </p:nvGrpSpPr>
          <p:grpSpPr>
            <a:xfrm>
              <a:off x="1976760" y="2437920"/>
              <a:ext cx="5900400" cy="2724480"/>
              <a:chOff x="1976760" y="2437920"/>
              <a:chExt cx="5900400" cy="2724480"/>
            </a:xfrm>
          </p:grpSpPr>
          <p:sp>
            <p:nvSpPr>
              <p:cNvPr id="449" name=""/>
              <p:cNvSpPr/>
              <p:nvPr/>
            </p:nvSpPr>
            <p:spPr>
              <a:xfrm>
                <a:off x="5779080" y="2948760"/>
                <a:ext cx="1573200" cy="2043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  <a:ea typeface="Times New Roman"/>
                  </a:rPr>
                  <a:t>Oláh Andrea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  <a:ea typeface="Times New Roman"/>
                  </a:rPr>
                  <a:t>Kovács Péter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  <a:ea typeface="Times New Roman"/>
                  </a:rPr>
                  <a:t>Kovács Tamá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  <a:ea typeface="Times New Roman"/>
                  </a:rPr>
                  <a:t>Kovács Ver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  <a:ea typeface="Times New Roman"/>
                  </a:rPr>
                  <a:t>Farkas Év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  <a:ea typeface="Times New Roman"/>
                  </a:rPr>
                  <a:t>Tóth Ver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  <a:ea typeface="Times New Roman"/>
                  </a:rPr>
                  <a:t>Tóth Zoltá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1976760" y="2437920"/>
                <a:ext cx="5900400" cy="2724480"/>
                <a:chOff x="1976760" y="2437920"/>
                <a:chExt cx="5900400" cy="27244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5648040" y="2778480"/>
                  <a:ext cx="0" cy="221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648040" y="2778480"/>
                  <a:ext cx="13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79080" y="2438280"/>
                  <a:ext cx="0" cy="34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79080" y="2438280"/>
                  <a:ext cx="104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828120" y="2438280"/>
                  <a:ext cx="0" cy="34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828120" y="2778480"/>
                  <a:ext cx="786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614720" y="277848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614720" y="2948760"/>
                  <a:ext cx="13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746120" y="2948760"/>
                  <a:ext cx="0" cy="51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746120" y="3459600"/>
                  <a:ext cx="13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877160" y="3459600"/>
                  <a:ext cx="0" cy="1021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7746120" y="4481280"/>
                  <a:ext cx="13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746120" y="448128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7614720" y="4651560"/>
                  <a:ext cx="13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7352640" y="4821840"/>
                  <a:ext cx="262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352640" y="4821840"/>
                  <a:ext cx="0" cy="34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6303240" y="5162400"/>
                  <a:ext cx="104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V="1">
                  <a:off x="6303600" y="4992120"/>
                  <a:ext cx="0" cy="16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5647680" y="4992120"/>
                  <a:ext cx="655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1976760" y="2437920"/>
                  <a:ext cx="2228760" cy="2383920"/>
                  <a:chOff x="1976760" y="2437920"/>
                  <a:chExt cx="2228760" cy="23839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2107800" y="2438280"/>
                    <a:ext cx="52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632320" y="2438280"/>
                    <a:ext cx="0" cy="34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632320" y="2778480"/>
                    <a:ext cx="786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V="1">
                    <a:off x="3418920" y="2437920"/>
                    <a:ext cx="0" cy="34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3418920" y="2438280"/>
                    <a:ext cx="52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3943440" y="2438280"/>
                    <a:ext cx="0" cy="34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943440" y="2778480"/>
                    <a:ext cx="262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107800" y="2438280"/>
                    <a:ext cx="0" cy="34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>
                    <a:off x="1976760" y="2778480"/>
                    <a:ext cx="131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976760" y="2778480"/>
                    <a:ext cx="0" cy="510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1976760" y="3289320"/>
                    <a:ext cx="131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107800" y="3289320"/>
                    <a:ext cx="0" cy="85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107800" y="4140720"/>
                    <a:ext cx="131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238840" y="4140720"/>
                    <a:ext cx="0" cy="34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238840" y="4481280"/>
                    <a:ext cx="393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632320" y="4481280"/>
                    <a:ext cx="0" cy="34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632320" y="4821840"/>
                    <a:ext cx="91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>
                    <a:off x="3549960" y="4651560"/>
                    <a:ext cx="0" cy="169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549960" y="4651560"/>
                    <a:ext cx="655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>
                    <a:off x="4205520" y="2778480"/>
                    <a:ext cx="0" cy="187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500920" y="2945520"/>
                    <a:ext cx="1573200" cy="153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u-HU" sz="1800" spc="-1" strike="noStrike">
                        <a:solidFill>
                          <a:srgbClr val="f1b60f"/>
                        </a:solidFill>
                        <a:latin typeface="Times New Roman"/>
                        <a:ea typeface="Times New Roman"/>
                      </a:rPr>
                      <a:t>Kiss Mária…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u-HU" sz="1800" spc="-1" strike="noStrike">
                        <a:solidFill>
                          <a:srgbClr val="f1b60f"/>
                        </a:solidFill>
                        <a:latin typeface="Times New Roman"/>
                        <a:ea typeface="Times New Roman"/>
                      </a:rPr>
                      <a:t>Kovács Pálné…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u-HU" sz="1800" spc="-1" strike="noStrike">
                        <a:solidFill>
                          <a:srgbClr val="f1b60f"/>
                        </a:solidFill>
                        <a:latin typeface="Times New Roman"/>
                        <a:ea typeface="Times New Roman"/>
                      </a:rPr>
                      <a:t>Nagy Rozália…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u-HU" sz="1800" spc="-1" strike="noStrike">
                        <a:solidFill>
                          <a:srgbClr val="f1b60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hu-HU" sz="1800" spc="-1" strike="noStrike">
                        <a:solidFill>
                          <a:srgbClr val="f1b60f"/>
                        </a:solidFill>
                        <a:latin typeface="Times New Roman"/>
                        <a:ea typeface="Times New Roman"/>
                      </a:rPr>
                      <a:t>Tóth Margit</a:t>
                    </a:r>
                    <a:r>
                      <a:rPr b="0" lang="hu-HU" sz="1000" spc="-1" strike="noStrike">
                        <a:solidFill>
                          <a:srgbClr val="f1b60f"/>
                        </a:solidFill>
                        <a:latin typeface="Times New Roman"/>
                        <a:ea typeface="Times New Roman"/>
                      </a:rPr>
                      <a:t>…</a:t>
                    </a: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"/>
                <p:cNvSpPr/>
                <p:nvPr/>
              </p:nvSpPr>
              <p:spPr>
                <a:xfrm>
                  <a:off x="3812400" y="3119040"/>
                  <a:ext cx="19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43440" y="3459600"/>
                  <a:ext cx="183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61440" y="3459600"/>
                  <a:ext cx="0" cy="85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861440" y="3629880"/>
                  <a:ext cx="91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861440" y="3970440"/>
                  <a:ext cx="91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4861080" y="4311000"/>
                  <a:ext cx="91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3943080" y="4481280"/>
                  <a:ext cx="183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943440" y="4140720"/>
                  <a:ext cx="0" cy="34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4861080" y="4821840"/>
                  <a:ext cx="91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4861440" y="4480920"/>
                  <a:ext cx="0" cy="340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2" name=""/>
            <p:cNvGrpSpPr/>
            <p:nvPr/>
          </p:nvGrpSpPr>
          <p:grpSpPr>
            <a:xfrm>
              <a:off x="141120" y="3119040"/>
              <a:ext cx="1126080" cy="1121760"/>
              <a:chOff x="141120" y="3119040"/>
              <a:chExt cx="1126080" cy="1121760"/>
            </a:xfrm>
          </p:grpSpPr>
          <p:sp>
            <p:nvSpPr>
              <p:cNvPr id="503" name=""/>
              <p:cNvSpPr/>
              <p:nvPr/>
            </p:nvSpPr>
            <p:spPr>
              <a:xfrm>
                <a:off x="534240" y="3119040"/>
                <a:ext cx="0" cy="10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4240" y="311904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3200" y="3629520"/>
                <a:ext cx="65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4240" y="414036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89800" y="4140360"/>
                <a:ext cx="77400" cy="10044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189800" y="3119040"/>
                <a:ext cx="77400" cy="10044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189800" y="3629520"/>
                <a:ext cx="77400" cy="10044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1120" y="3629520"/>
                <a:ext cx="77400" cy="100440"/>
              </a:xfrm>
              <a:prstGeom prst="flowChartConnec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>
            <a:off x="0" y="2014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6D3-5D4B-42CA-81BA-287FBACAA9C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25360" y="761760"/>
            <a:ext cx="77947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N:M kapcsola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984240" y="2590560"/>
            <a:ext cx="7083000" cy="2698920"/>
            <a:chOff x="984240" y="2590560"/>
            <a:chExt cx="7083000" cy="2698920"/>
          </a:xfrm>
        </p:grpSpPr>
        <p:grpSp>
          <p:nvGrpSpPr>
            <p:cNvPr id="514" name=""/>
            <p:cNvGrpSpPr/>
            <p:nvPr/>
          </p:nvGrpSpPr>
          <p:grpSpPr>
            <a:xfrm>
              <a:off x="2352960" y="2590560"/>
              <a:ext cx="5714280" cy="2698920"/>
              <a:chOff x="2352960" y="2590560"/>
              <a:chExt cx="5714280" cy="2698920"/>
            </a:xfrm>
          </p:grpSpPr>
          <p:sp>
            <p:nvSpPr>
              <p:cNvPr id="515" name=""/>
              <p:cNvSpPr/>
              <p:nvPr/>
            </p:nvSpPr>
            <p:spPr>
              <a:xfrm>
                <a:off x="2725560" y="2590920"/>
                <a:ext cx="161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40520" y="2590920"/>
                <a:ext cx="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40520" y="289044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88920" y="2890440"/>
                <a:ext cx="0" cy="179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4340520" y="468972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340520" y="4689720"/>
                <a:ext cx="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2849760" y="4989600"/>
                <a:ext cx="149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2849760" y="4839480"/>
                <a:ext cx="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2601360" y="483948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2601360" y="4539960"/>
                <a:ext cx="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2352960" y="453996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2352960" y="3340080"/>
                <a:ext cx="0" cy="119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352960" y="3340440"/>
                <a:ext cx="1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2477160" y="3190320"/>
                <a:ext cx="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477160" y="319032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2725560" y="2590560"/>
                <a:ext cx="0" cy="59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49760" y="3040560"/>
                <a:ext cx="1242000" cy="179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</a:rPr>
                  <a:t>A.JÁNO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</a:rPr>
                  <a:t>B.PÉ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</a:rPr>
                  <a:t>C.PÁ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800" spc="-1" strike="noStrike">
                    <a:solidFill>
                      <a:srgbClr val="f1b60f"/>
                    </a:solidFill>
                    <a:latin typeface="Times New Roman"/>
                  </a:rPr>
                  <a:t>D.TAMÁ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079680" y="3040560"/>
                <a:ext cx="1366200" cy="179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1b60f"/>
                    </a:solidFill>
                    <a:latin typeface="Times New Roman"/>
                  </a:rPr>
                  <a:t>W. ANN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1b60f"/>
                    </a:solidFill>
                    <a:latin typeface="Times New Roman"/>
                  </a:rPr>
                  <a:t>X. BARBAR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1b60f"/>
                    </a:solidFill>
                    <a:latin typeface="Times New Roman"/>
                  </a:rPr>
                  <a:t>Y. KAT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f1b60f"/>
                    </a:solidFill>
                    <a:latin typeface="Times New Roman"/>
                  </a:rPr>
                  <a:t>Z. JUDI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55480" y="2740680"/>
                <a:ext cx="136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55480" y="2740680"/>
                <a:ext cx="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5830920" y="3040560"/>
                <a:ext cx="1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1280" y="3040560"/>
                <a:ext cx="0" cy="194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31280" y="498960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79680" y="4989600"/>
                <a:ext cx="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79680" y="5289480"/>
                <a:ext cx="149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570440" y="5139360"/>
                <a:ext cx="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570440" y="5139360"/>
                <a:ext cx="1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694640" y="4989600"/>
                <a:ext cx="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94640" y="498960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43040" y="4839480"/>
                <a:ext cx="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943040" y="4839480"/>
                <a:ext cx="1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8067240" y="3940200"/>
                <a:ext cx="0" cy="89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942680" y="3940200"/>
                <a:ext cx="1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943040" y="3640320"/>
                <a:ext cx="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7694640" y="3640320"/>
                <a:ext cx="24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694640" y="2890440"/>
                <a:ext cx="0" cy="74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7321680" y="2890440"/>
                <a:ext cx="37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7322040" y="2740680"/>
                <a:ext cx="0" cy="14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092120" y="3190320"/>
                <a:ext cx="19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92120" y="3640320"/>
                <a:ext cx="19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92120" y="4089960"/>
                <a:ext cx="198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13120" y="4539960"/>
                <a:ext cx="136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4713120" y="3190320"/>
                <a:ext cx="0" cy="134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37320" y="3190320"/>
                <a:ext cx="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4837320" y="3790080"/>
                <a:ext cx="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37320" y="3790080"/>
                <a:ext cx="62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37320" y="3490200"/>
                <a:ext cx="62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58320" y="3490200"/>
                <a:ext cx="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110960" y="289044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83560" y="2890440"/>
              <a:ext cx="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83560" y="3340440"/>
              <a:ext cx="24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10960" y="379008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59360" y="3790080"/>
              <a:ext cx="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59360" y="4240080"/>
              <a:ext cx="37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235160" y="3790080"/>
              <a:ext cx="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110960" y="46897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56160" y="2893680"/>
              <a:ext cx="73080" cy="88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56160" y="3340440"/>
              <a:ext cx="73080" cy="88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56160" y="3790080"/>
              <a:ext cx="73080" cy="88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56160" y="4240080"/>
              <a:ext cx="73080" cy="88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56160" y="4689720"/>
              <a:ext cx="73080" cy="88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86760" y="2890440"/>
              <a:ext cx="73080" cy="88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84240" y="3790080"/>
              <a:ext cx="73080" cy="88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84240" y="4689720"/>
              <a:ext cx="73080" cy="88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B38-FC19-48B5-B50F-01C0DDEBD6B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25360" y="838080"/>
            <a:ext cx="779472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gyes relációk tulajdonságai</a:t>
            </a: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gyértelmű relációnév az adatbázisban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orok jellemzik az egyedeket, oszlopok az egyes tulajdonságokat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inden sorban azonos számú oszlop van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Oszlopoknak a reláción belül egyértelmű neve van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Bármely oszlop egy sorban legfeljebb egy értéket vehet fel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Ha nincs értéke, akkor NULL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Oszlopok sorrendje tetszőleges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Nincs két teljesen azonos sor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Létezik az oszlopoknak legalább egy olyan kombinációja, amelyik egyértelműen azonosítja a sort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, e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z az elsődleges kulc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D98-02BD-4EF2-9085-3A66AA944A0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25360" y="685440"/>
            <a:ext cx="77947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gyed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-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Kapcsolat (E/K) model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2280" y="1905120"/>
            <a:ext cx="844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bázis tervezés egyik mód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Top-down tervezé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424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eghatározzuk az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egyedeket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ntitásokat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)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és a köztük fennálló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kapcsolatokat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2133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57600" y="3200400"/>
            <a:ext cx="253224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3240" y="4419720"/>
            <a:ext cx="2462400" cy="10666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82960" y="4419720"/>
            <a:ext cx="3587760" cy="9903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2461320" y="3580560"/>
            <a:ext cx="1195560" cy="838440"/>
          </a:xfrm>
          <a:custGeom>
            <a:avLst/>
            <a:gdLst>
              <a:gd name="textAreaLeft" fmla="*/ 398160 w 1195560"/>
              <a:gd name="textAreaRight" fmla="*/ 1023840 w 1195560"/>
              <a:gd name="textAreaTop" fmla="*/ 482400 h 838440"/>
              <a:gd name="textAreaBottom" fmla="*/ 71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95640" y="4648320"/>
            <a:ext cx="1687320" cy="485640"/>
          </a:xfrm>
          <a:prstGeom prst="leftRightArrow">
            <a:avLst>
              <a:gd name="adj1" fmla="val 50000"/>
              <a:gd name="adj2" fmla="val 691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68560" y="33526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yárt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Gépjárm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94280" y="4648320"/>
            <a:ext cx="30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ulajdono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235320" y="53341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6600"/>
                </a:solidFill>
                <a:latin typeface="Times New Roman"/>
              </a:rPr>
              <a:t>N: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69920" y="304812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ff"/>
                </a:solidFill>
                <a:latin typeface="Times New Roman"/>
              </a:rPr>
              <a:t>1: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E14-5F0D-4FEC-8DA5-C975560F85E5}" type="slidenum">
              <a:t>29</a:t>
            </a:fld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75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9280" y="609120"/>
            <a:ext cx="77947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z egyedi adattól az adatbázisig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2280" y="20178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 programok szerkezet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2438280"/>
            <a:ext cx="4430880" cy="29718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49720" y="3200400"/>
            <a:ext cx="34466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9560" y="4114800"/>
            <a:ext cx="337680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53160" y="3352680"/>
            <a:ext cx="1969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definíció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3120" y="4419720"/>
            <a:ext cx="2671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rogram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53160" y="259092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1b60f"/>
                </a:solidFill>
                <a:latin typeface="Times New Roman"/>
              </a:rPr>
              <a:t>ke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2280" y="2666880"/>
            <a:ext cx="323532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4c25e"/>
                </a:solidFill>
                <a:latin typeface="Times New Roman"/>
                <a:ea typeface="Times New Roman"/>
              </a:rPr>
              <a:t>Az utasítások a formális logika leképezései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datmozg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aritmetikai 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logikai 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ugr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feltételes ugr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keret 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6A8-FF53-4A48-BA31-DD4AC3C4B4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9280" y="609120"/>
            <a:ext cx="77947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z egyedi adattól az adatbázisig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2280" y="20178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 programok szerkezet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2438280"/>
            <a:ext cx="4430880" cy="29718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9720" y="3200400"/>
            <a:ext cx="34466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9560" y="4114800"/>
            <a:ext cx="337680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53160" y="3352680"/>
            <a:ext cx="2311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definíció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3120" y="4419720"/>
            <a:ext cx="273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rogram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53160" y="259092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1b60f"/>
                </a:solidFill>
                <a:latin typeface="Times New Roman"/>
              </a:rPr>
              <a:t>ke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2565360"/>
            <a:ext cx="32353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datmozgatá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dat beírá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bevitel adathordozóró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lőre tárolt adatok beolvasása a programb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226-A663-48C3-B77C-9D434CB9B9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49280" y="609120"/>
            <a:ext cx="77947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z egyedi adattól az adatbázisig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2280" y="20178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438280"/>
            <a:ext cx="4430880" cy="29718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3200400"/>
            <a:ext cx="34466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9560" y="4114800"/>
            <a:ext cx="337680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53160" y="3352680"/>
            <a:ext cx="2311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definíció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13120" y="4419720"/>
            <a:ext cx="281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rogram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53160" y="259092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1b60f"/>
                </a:solidFill>
                <a:latin typeface="Times New Roman"/>
              </a:rPr>
              <a:t>ke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2280" y="3429000"/>
            <a:ext cx="323532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lőre tárolt adatok beolvasása a programb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47760" y="3284640"/>
            <a:ext cx="1177920" cy="86508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1360" y="3573360"/>
            <a:ext cx="1100160" cy="486000"/>
          </a:xfrm>
          <a:custGeom>
            <a:avLst/>
            <a:gdLst>
              <a:gd name="textAreaLeft" fmla="*/ 171720 w 1100160"/>
              <a:gd name="textAreaRight" fmla="*/ 962640 w 1100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ED1-8126-4655-93B8-73643A50A6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z egyedi adattól az adatbázisig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3703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2360" y="1916280"/>
          <a:ext cx="1395360" cy="1339560"/>
        </p:xfrm>
        <a:graphic>
          <a:graphicData uri="http://schemas.openxmlformats.org/drawingml/2006/table">
            <a:tbl>
              <a:tblPr/>
              <a:tblGrid>
                <a:gridCol w="466560"/>
                <a:gridCol w="461880"/>
                <a:gridCol w="46692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f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641760" y="3284640"/>
            <a:ext cx="1860480" cy="936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2280" y="3429000"/>
            <a:ext cx="323532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lőre tárolt adatok beolvasása a programb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47760" y="3284640"/>
            <a:ext cx="1177920" cy="86508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1360" y="3573360"/>
            <a:ext cx="1100160" cy="486000"/>
          </a:xfrm>
          <a:custGeom>
            <a:avLst/>
            <a:gdLst>
              <a:gd name="textAreaLeft" fmla="*/ 171720 w 1100160"/>
              <a:gd name="textAreaRight" fmla="*/ 962640 w 11001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0120" y="342900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ahoma"/>
              </a:rPr>
              <a:t>A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41760" y="1989000"/>
            <a:ext cx="1860480" cy="936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40120" y="227664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ahoma"/>
              </a:rPr>
              <a:t>B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 rot="16200000">
            <a:off x="2282040" y="1715040"/>
            <a:ext cx="790560" cy="2059200"/>
          </a:xfrm>
          <a:custGeom>
            <a:avLst/>
            <a:gdLst>
              <a:gd name="textAreaLeft" fmla="*/ 263520 w 790560"/>
              <a:gd name="textAreaRight" fmla="*/ 677160 w 790560"/>
              <a:gd name="textAreaTop" fmla="*/ 1186200 h 2059200"/>
              <a:gd name="textAreaBottom" fmla="*/ 1764000 h 2059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64200" y="2133720"/>
            <a:ext cx="1177920" cy="86508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568120" y="2349360"/>
            <a:ext cx="1328760" cy="486000"/>
          </a:xfrm>
          <a:custGeom>
            <a:avLst/>
            <a:gdLst>
              <a:gd name="textAreaLeft" fmla="*/ 207000 w 1328760"/>
              <a:gd name="textAreaRight" fmla="*/ 1162440 w 132876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5561640" y="3856680"/>
            <a:ext cx="1081080" cy="79992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5800" y="4869000"/>
            <a:ext cx="1176120" cy="86508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64500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1. ad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492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2. ad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35600" y="522936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ahoma"/>
              </a:rPr>
              <a:t>3. ad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99400" y="3716280"/>
            <a:ext cx="1860480" cy="936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31160" y="4005360"/>
            <a:ext cx="15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99400" y="4724280"/>
            <a:ext cx="787320" cy="733680"/>
          </a:xfrm>
          <a:custGeom>
            <a:avLst/>
            <a:gdLst>
              <a:gd name="textAreaLeft" fmla="*/ 262440 w 787320"/>
              <a:gd name="textAreaRight" fmla="*/ 674280 w 78732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62720" y="3068640"/>
            <a:ext cx="465120" cy="617400"/>
          </a:xfrm>
          <a:prstGeom prst="downArrow">
            <a:avLst>
              <a:gd name="adj1" fmla="val 50000"/>
              <a:gd name="adj2" fmla="val 33185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52480" y="4373640"/>
          <a:ext cx="1549440" cy="1190520"/>
        </p:xfrm>
        <a:graphic>
          <a:graphicData uri="http://schemas.openxmlformats.org/drawingml/2006/table">
            <a:tbl>
              <a:tblPr/>
              <a:tblGrid>
                <a:gridCol w="516600"/>
                <a:gridCol w="516240"/>
                <a:gridCol w="5166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339966"/>
                          </a:solidFill>
                          <a:latin typeface="Times New Roman"/>
                        </a:rPr>
                        <a:t>h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339966"/>
                          </a:solidFill>
                          <a:latin typeface="Times New Roman"/>
                        </a:rPr>
                        <a:t>f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339966"/>
                          </a:solidFill>
                          <a:latin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339966"/>
                          </a:solidFill>
                          <a:latin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214-4381-496D-A097-AB2389E3E433}" type="slidenum">
              <a:t>6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55520" y="6091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</a:rPr>
              <a:t>Az adatbázis kezel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ő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</a:rPr>
              <a:t>helye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0960" y="2895480"/>
            <a:ext cx="126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0640" y="2514600"/>
            <a:ext cx="1900080" cy="25909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3240" y="3429000"/>
            <a:ext cx="13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Tahoma"/>
              </a:rPr>
              <a:t>Hard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61040" y="2057400"/>
            <a:ext cx="4009680" cy="342900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61040" y="2971800"/>
            <a:ext cx="18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6600"/>
                </a:solidFill>
                <a:latin typeface="Tahoma"/>
              </a:rPr>
              <a:t>Operációs rends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73360" y="3276720"/>
            <a:ext cx="843120" cy="485640"/>
          </a:xfrm>
          <a:prstGeom prst="leftRightArrow">
            <a:avLst>
              <a:gd name="adj1" fmla="val 50000"/>
              <a:gd name="adj2" fmla="val 3456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673280" cy="1498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516480" y="2057400"/>
            <a:ext cx="774360" cy="3429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124080"/>
            <a:ext cx="5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ahoma"/>
              </a:rPr>
              <a:t>DB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FC4-E81E-4845-B99F-09CAD483D7F7}" type="slidenum">
              <a:t>7</a:t>
            </a:fld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1134720"/>
            <a:ext cx="754380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k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ét fő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típus</a:t>
            </a: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2080" y="2590560"/>
            <a:ext cx="7126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Tény adatbázis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öveges információ visszakereső rendszere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kettő között a határvonal nem éles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2DC-1097-4ACE-AAFF-0B86470119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9280" y="4568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z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adatbázis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ezelő rendszerek</a:t>
            </a:r>
            <a:r>
              <a:rPr b="1" lang="de-DE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felé támasztott követelmények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(1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0800" y="1752480"/>
            <a:ext cx="8862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függetlenség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ok közti komplex kapcsolatok ábrázolása</a:t>
            </a:r>
            <a:r>
              <a:rPr b="1" lang="de-DE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Redundancia mentességet illetve annak ellenőrzése</a:t>
            </a:r>
            <a:r>
              <a:rPr b="1" lang="de-DE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gyszerű használat</a:t>
            </a:r>
            <a:r>
              <a:rPr b="1" lang="de-DE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, a k</a:t>
            </a: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ülönfél</a:t>
            </a:r>
            <a:r>
              <a:rPr b="1" lang="de-DE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 felhasználói </a:t>
            </a: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igények hatékony kielégítése</a:t>
            </a:r>
            <a:r>
              <a:rPr b="1" lang="de-DE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,</a:t>
            </a: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datok védelme: nehogy illetéktelenek hozzáférhessenek</a:t>
            </a:r>
            <a:r>
              <a:rPr b="1" lang="de-DE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(privacy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datok integritása: a hozzáférésre jogosultak se ronthassák el lehetőleg az adatbázist</a:t>
            </a:r>
            <a:r>
              <a:rPr b="1" lang="de-DE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(integrity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Helyreállíthatóság: bármely esetleges hiba esetén az eredeti állapotot vissza lehessen állítani</a:t>
            </a:r>
            <a:r>
              <a:rPr b="1" lang="de-DE" sz="22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5B7-E496-4E80-86E0-53923FC1CD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29T19:25:02Z</dcterms:modified>
  <cp:revision>68</cp:revision>
  <dc:subject/>
  <dc:title>PowerPoint bemutató</dc:title>
</cp:coreProperties>
</file>