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8DDC-54AF-4777-820C-852A4788A93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2EAA-D73A-43C8-BD06-9EA4BE73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5F9-1340-4412-A1F2-A5975883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DC9-E42C-46BC-9CC5-1E9A116C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A25-D153-421E-AB19-161C47BD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E64D-E91E-4DD7-83EB-D20F9826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FBC3-045C-4913-B741-D38A3FD0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B713-28DE-4737-9EBA-FE818D1D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A0EB-7E8E-4FDF-814C-CF12BB25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0908-AB69-4467-8A23-6CE8935D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91E3-B6B9-4147-AE64-E8D30BEF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8CB6-4BED-40F1-A3ED-25F3D6A6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EDA-9B7A-4B6C-94A4-F9E512C9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B72B-C403-4404-8FA2-A45FE1EB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80D3-34CA-4F5A-B1E6-914B20AD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46B5-0E8E-4A9C-B9FC-2E3C7840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75AB-20BB-4896-85B8-C3118555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21BF-D5E7-4A89-82D9-2FC37A11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E9E-4D92-41B2-B762-CA13F72F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827-CA8A-423C-91FA-362FE841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A1E-B318-4FA0-B9CF-9F66FEF0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0AF-72BB-4FCC-B375-521B8CBC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C81-CEDB-4FD1-945B-6D0C5B39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D20-A796-4511-AABD-48BF9526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1DC-8DF9-46B1-BEDA-8F895E09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1B32-2C03-4A54-83C7-D0A39A5E7857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r>
              <a:rPr b="1" lang="hu-HU" sz="1000" spc="-1" strike="noStrike">
                <a:solidFill>
                  <a:srgbClr val="ff0000"/>
                </a:solidFill>
                <a:latin typeface="Times New Roman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94E8-725C-46A2-9FAE-CF1829F63F8C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hu.wikipedia.org/wiki/K&#233;p:TuxWB.png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http://hu.wikipedia.org/wiki/K&#233;p:TuxWB.png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bebits.com/whatisbeos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alablog.up.seesaa.net/image/DOS.jpg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www.infinite-loop.at/Power64/index.html" TargetMode="External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Fazekasné dr. Kis M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ebreceni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émeth Zol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Budapesti Corvinus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kernel „magja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55600" y="2070000"/>
            <a:ext cx="7061400" cy="432000"/>
          </a:xfrm>
          <a:prstGeom prst="roundRect">
            <a:avLst>
              <a:gd name="adj" fmla="val 12495"/>
            </a:avLst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használói alkalmaz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55600" y="2527200"/>
            <a:ext cx="7061400" cy="2946600"/>
          </a:xfrm>
          <a:prstGeom prst="roundRect">
            <a:avLst>
              <a:gd name="adj" fmla="val 12495"/>
            </a:avLst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DSZERMA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KER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55600" y="5499000"/>
            <a:ext cx="7061400" cy="432000"/>
          </a:xfrm>
          <a:prstGeom prst="roundRect">
            <a:avLst>
              <a:gd name="adj" fmla="val 12495"/>
            </a:avLst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16360" y="2749680"/>
            <a:ext cx="4330800" cy="2425680"/>
          </a:xfrm>
          <a:prstGeom prst="roundRect">
            <a:avLst>
              <a:gd name="adj" fmla="val 12495"/>
            </a:avLst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őforrás kez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11760" y="3454560"/>
            <a:ext cx="1244520" cy="1549080"/>
          </a:xfrm>
          <a:custGeom>
            <a:avLst/>
            <a:gdLst>
              <a:gd name="textAreaLeft" fmla="*/ 45360 w 1244520"/>
              <a:gd name="textAreaRight" fmla="*/ 1199160 w 1244520"/>
              <a:gd name="textAreaTop" fmla="*/ 45360 h 1549080"/>
              <a:gd name="textAreaBottom" fmla="*/ 1503720 h 1549080"/>
            </a:gdLst>
            <a:ahLst/>
            <a:rect l="textAreaLeft" t="textAreaTop" r="textAreaRight" b="textAreaBottom"/>
            <a:pathLst>
              <a:path w="21600" h="26884">
                <a:moveTo>
                  <a:pt x="2699" y="0"/>
                </a:moveTo>
                <a:arcTo wR="2699" hR="2699" stAng="16200000" swAng="-5400000"/>
                <a:lnTo>
                  <a:pt x="0" y="24185"/>
                </a:lnTo>
                <a:arcTo wR="2699" hR="2699" stAng="10800000" swAng="-5400000"/>
                <a:lnTo>
                  <a:pt x="18901" y="2688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ütem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59320" y="3454560"/>
            <a:ext cx="1244520" cy="1549080"/>
          </a:xfrm>
          <a:custGeom>
            <a:avLst/>
            <a:gdLst>
              <a:gd name="textAreaLeft" fmla="*/ 45360 w 1244520"/>
              <a:gd name="textAreaRight" fmla="*/ 1199160 w 1244520"/>
              <a:gd name="textAreaTop" fmla="*/ 45360 h 1549080"/>
              <a:gd name="textAreaBottom" fmla="*/ 1503720 h 1549080"/>
            </a:gdLst>
            <a:ahLst/>
            <a:rect l="textAreaLeft" t="textAreaTop" r="textAreaRight" b="textAreaBottom"/>
            <a:pathLst>
              <a:path w="21600" h="26884">
                <a:moveTo>
                  <a:pt x="2699" y="0"/>
                </a:moveTo>
                <a:arcTo wR="2699" hR="2699" stAng="16200000" swAng="-5400000"/>
                <a:lnTo>
                  <a:pt x="0" y="24185"/>
                </a:lnTo>
                <a:arcTo wR="2699" hR="2699" stAng="10800000" swAng="-5400000"/>
                <a:lnTo>
                  <a:pt x="18901" y="2688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zel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07240" y="3454560"/>
            <a:ext cx="1244520" cy="1549080"/>
          </a:xfrm>
          <a:custGeom>
            <a:avLst/>
            <a:gdLst>
              <a:gd name="textAreaLeft" fmla="*/ 45360 w 1244520"/>
              <a:gd name="textAreaRight" fmla="*/ 1199160 w 1244520"/>
              <a:gd name="textAreaTop" fmla="*/ 45360 h 1549080"/>
              <a:gd name="textAreaBottom" fmla="*/ 1503720 h 1549080"/>
            </a:gdLst>
            <a:ahLst/>
            <a:rect l="textAreaLeft" t="textAreaTop" r="textAreaRight" b="textAreaBottom"/>
            <a:pathLst>
              <a:path w="21600" h="26884">
                <a:moveTo>
                  <a:pt x="2699" y="0"/>
                </a:moveTo>
                <a:arcTo wR="2699" hR="2699" stAng="16200000" swAng="-5400000"/>
                <a:lnTo>
                  <a:pt x="0" y="24185"/>
                </a:lnTo>
                <a:arcTo wR="2699" hR="2699" stAng="10800000" swAng="-5400000"/>
                <a:lnTo>
                  <a:pt x="18901" y="2688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Állom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zel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Csoportosít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elhasználói felül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rakte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rafik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elhasználók szám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-felhasználó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-felhasználó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hálóza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olyamatkezelés mód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teg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ultiprogramoz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valós idej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időosztá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ardver-architektúrá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ítógép-ketegóri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zerve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zemélyi számítógé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mikroszámítógé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kézi számítógé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ocesszor-architektúr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CISC / RIS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ínrends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16 / 32 / 64 bi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Csoportosít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állás szeri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zerzői jogvédelem alá tartoz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nyílt forráskód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örténelmi” kategóriá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orai operációs rendszer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UNIX-alapú rendszer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Windows rendszer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lapfeladat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öbbfolyamatos környezet igény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rőforrás-menedzs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Processzor-ütemezés, Memória-kezel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egszakítás-kezel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szközkezel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endszerindí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llapot-ellenőrz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ktív folyamatok listázá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egszakítás, szünetelte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erhelés-figyel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lapfeladat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agas szintű műveletek </a:t>
            </a:r>
            <a:br>
              <a:rPr sz="3000"/>
            </a:b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felhasználói igények kiszolgálás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elhasználói felület kezel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kalmazások kezel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Futtatási környezet biztosítá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Programkészítés támogatá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llományszervez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lapfeladat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elhasználói felület, kommunikáci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arakteres felhasználói felü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3300"/>
                </a:solidFill>
                <a:latin typeface="Arial"/>
              </a:rPr>
              <a:t>Használatos elnevezések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hu-HU" sz="2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ELL, MONITOR,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MAND INTERPRE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3300"/>
                </a:solidFill>
                <a:latin typeface="Arial"/>
              </a:rPr>
              <a:t>Parancsmódú: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paranc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[parameterek] [/kapcsol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ó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Interaktí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Grafikus felhasználói felület (GU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X-Window, Windo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ijelölő eszköz, eseményvezérelt működ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grafikus objektumkészlet, menürendsz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GUI komponens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blak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gély, címsor, vezérlőmenü ikonja, méretező ikono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nüsor, eszköztár, munkaterület, gördítősáv, állapot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kalmazás~, csoport~ (nézetek!), párbeszéd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vezérlők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viteli (szöveg) mező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gördülő / kiválasztó lista, „potméter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ádiógomb, jelölőnégyzet, lap („fül”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arancsgo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ikon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kalmazásindító (alkalmazá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okumentum (mapp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aran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Állományszervez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perációs rendszer tevékenysége az állomány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lhelyezésének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onosításának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isszakeresésének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ozzáféréséne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iztosításár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2545" t="7494" r="17278" b="6277"/>
          <a:stretch/>
        </p:blipFill>
        <p:spPr>
          <a:xfrm>
            <a:off x="4788000" y="3041640"/>
            <a:ext cx="403200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Állományszervez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0000"/>
                </a:solidFill>
                <a:latin typeface="Arial"/>
              </a:rPr>
              <a:t>Logikai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állománykezel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0066"/>
                </a:solidFill>
                <a:latin typeface="Arial"/>
              </a:rPr>
              <a:t>Állomány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(fájl, 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0066"/>
                </a:solidFill>
                <a:latin typeface="Arial"/>
              </a:rPr>
              <a:t>Katalógu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(mappa, direc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0066"/>
                </a:solidFill>
                <a:latin typeface="Arial"/>
              </a:rPr>
              <a:t>Köte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(volume, ~drive, ~dis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ivatkozási egységek (elérési, keresési ú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0000"/>
                </a:solidFill>
                <a:latin typeface="Arial"/>
              </a:rPr>
              <a:t>Fizikai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állománykezelés (lemezkezelé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0066"/>
                </a:solidFill>
                <a:latin typeface="Arial"/>
              </a:rPr>
              <a:t>Lemez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(disk), </a:t>
            </a:r>
            <a:r>
              <a:rPr b="0" lang="hu-HU" sz="2600" spc="-1" strike="noStrike">
                <a:solidFill>
                  <a:srgbClr val="330066"/>
                </a:solidFill>
                <a:latin typeface="Arial"/>
              </a:rPr>
              <a:t>Partíció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(parti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lokk, Cluster (fürt ?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oot record, MBR, Root, fájlrends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Állományszervez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Állomá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lhasználói szempontból összetartozó adatok megkülönböztető azonosítóval rendelkező csoportja a háttértárol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Könyvtá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állományok felhasználói csoportosítását lehetővé tevő logikai egy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minisztratív célú állomán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Köt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áttértároló logikai egysége (A:, Z:, SYS:, .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perációs rendsze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Állományok jellemző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onosít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NÉV + tipizáló rés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ípus, kiterjeszt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nem minden OR keze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névhasználati szabály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hoss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arakterkészl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elyettesítő karakter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aszk”, „joker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csoportos azonosító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általában *, 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ulajdonság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ér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logikai, fizik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dőbélyeg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eletkez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ódosítás, megnyitá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jellemző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OR működésének kezelésé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írásvédett, nem törölhető,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jogosultság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vatkozás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bszolút hivatko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apértelmezett hivatkozási pontja a gyökérkönyvtá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hivatkozott logikai azonosítóig a tárolási rendszer összes elemét fel kell sorol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talában kötet-szinten értelmez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\WIN</a:t>
            </a:r>
            <a:r>
              <a:rPr b="0" lang="hu-HU" sz="1600" spc="-1" strike="noStrike">
                <a:solidFill>
                  <a:srgbClr val="000000"/>
                </a:solidFill>
                <a:latin typeface="Courier New"/>
              </a:rPr>
              <a:t>DOW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SYSTEM</a:t>
            </a:r>
            <a:r>
              <a:rPr b="0" lang="hu-HU" sz="16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USER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Relatív hivatko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dinamikus hivatkozási ponthoz viszonyí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ktuálsi könyvtár, szülő-könyvtár, gyerek- (al-)könyvtá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\..\USR\</a:t>
            </a:r>
            <a:r>
              <a:rPr b="0" lang="hu-HU" sz="1700" spc="-1" strike="noStrike">
                <a:solidFill>
                  <a:srgbClr val="000000"/>
                </a:solidFill>
                <a:latin typeface="Courier New"/>
              </a:rPr>
              <a:t>KI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hu-HU" sz="1700" spc="-1" strike="noStrike">
                <a:solidFill>
                  <a:srgbClr val="000000"/>
                </a:solidFill>
                <a:latin typeface="Courier New"/>
              </a:rPr>
              <a:t>deb.lo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UN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hálózati hivatkozási mó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őforrás tartalmazó gép és az erőforrás logikai azonosítója (ne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nem szükségszerűen egyezik meg a tényleges azonosítóval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hu-HU" sz="1700" spc="-1" strike="noStrike">
                <a:solidFill>
                  <a:srgbClr val="000000"/>
                </a:solidFill>
                <a:latin typeface="Courier New"/>
              </a:rPr>
              <a:t>MAILSRV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\MAIL\WINPMAIL.EX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Gyakorlati kérdés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817880" cy="3612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user posted image"/>
          <p:cNvPicPr/>
          <p:nvPr/>
        </p:nvPicPr>
        <p:blipFill>
          <a:blip r:embed="rId2"/>
          <a:stretch/>
        </p:blipFill>
        <p:spPr>
          <a:xfrm>
            <a:off x="4608360" y="2997360"/>
            <a:ext cx="4535640" cy="3641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1268280"/>
            <a:ext cx="193536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indows XP: techniká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ultitas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seményvezérelt, preemptí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ultiu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iemelt, korlátozot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állományszervezé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(FAT (16, 32)) NTFS (v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dinamikus háttértárak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röp-tömörítés </a:t>
            </a:r>
            <a:r>
              <a:rPr b="0" lang="hu-HU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tömörített mappá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F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Windows XP: felül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sz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péta”, „tém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konok (szokványos: </a:t>
            </a: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Sajátgép, Dokumentumok, Lomtár, Hálózati helyek, Internet Explorer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blakok (futó alkalmazás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ál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TART men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Gyorsindító pul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utó alkalmazás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Háttérben futó („szervíz”) szolgáltatás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459640" y="2565360"/>
            <a:ext cx="441360" cy="765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667640" y="1989000"/>
            <a:ext cx="330120" cy="54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596360" y="4437000"/>
            <a:ext cx="395280" cy="190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8459640" y="400536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7596360" y="342900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5292720" y="2924280"/>
            <a:ext cx="114480" cy="190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8532720" y="4869000"/>
            <a:ext cx="26028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250920" y="6165720"/>
          <a:ext cx="8713800" cy="449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6165720"/>
                    <a:ext cx="87138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Windows XP: állomány-kezel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szközö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ajátgép, Intéző, parancssor, segédprogram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űvelet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létrehoz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jelöl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gyszeres</a:t>
            </a:r>
            <a:r>
              <a:rPr b="0" lang="hu-HU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öbbszörös, összefüggő</a:t>
            </a:r>
            <a:r>
              <a:rPr b="0" lang="hu-HU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nem összefüggő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ípuskezel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utomatikus, felhasználó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öbbszörös tipizá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ömörítés, titkosít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jogosultsági rendsz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emi, összet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vó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724800" y="3789360"/>
            <a:ext cx="241920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Windows XP: alkalmazás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TART men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lkalmazások indítása (Programok, Futtatá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beállítások (Vezérlőpult: hálózat, nyomtatási beállítások, megjelenítés, hardver-szoftver leltár, stb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ámogatás (Súgó, Keresé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apvető alkalmazás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zámológép, Jegyzettömb, WordPad, Paint, Médialejátsz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álózati szolgáltatások (böngésző, levelező, I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endszerfelügyeleti eszközö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utomatikus frissí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tűzf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rendszerleíró adatbázis kezelés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Linu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UNIX változa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felhasználós: multi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feladatos: multi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 architektúra támogatása: multi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ztonsá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abil, ugyanakkor rugalmas állományrends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tékonyan programozh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UNIX alapú rendszerek felépíté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rd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g (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: az operációs rendszer lényegi rés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gédprogramok,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alapvető szolgáltatások biztos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parancsértelmező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kalmazások: minden egyéb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GNU/Linu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lényegében a UNIX komponensek 2-3. szint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Linux csak a kernel neve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z OR neve GNU/Linu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lső változat (PC-re): Linus Torvalds, 199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öbb változata is létezik (disztribúció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edHat, Debian, SuSE, Mandrake, Slackware, UHU, Caldera OpenLinu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nyílt forráskód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ok változata ingy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Linux használ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Grafikus és szöveges felülettel rendelkez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irtuális terminál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CTRL+ALT+F1, …, CTRL+ALT+F6 </a:t>
            </a:r>
            <a:br>
              <a:rPr sz="2300"/>
            </a:b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(szöveges terminálo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LT+F7, …, ALT+F11 </a:t>
            </a:r>
            <a:br>
              <a:rPr sz="2300"/>
            </a:b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(grafikus terminálo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ha több módban (terminálon) jelentkeztünk be, </a:t>
            </a:r>
            <a:br>
              <a:rPr sz="2300"/>
            </a:b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kkor külön-külön ki kell lépni mindegyikről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Operációs ren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lyan program(rendszer), amely felügyeli és vezérli a számítógépen futó valamennyi folyamato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SO szabvá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ámítógépet alkotó hardver eszközök működését felügyelő és vezérlő pro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chnológiai megközelí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ámítógép tevékenységét meghatározó programokat felügyelő és vezérlő szoft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unkcionális megközelí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a számítógépes rendszerben rendelkezésre álló) erőforrásokat elosztó szuperfolyam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olyamat-centrikus szemlé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lyan program, amely kapcsolatot teremt (és tart fent) a számítógépet alkotó technikai-technológiai (hardver) elemek és a (számítógéppel tevékenységet végző) felhasználó között 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elhasználói szemléletű definí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29360" y="2349360"/>
            <a:ext cx="2114640" cy="4508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elhasználói tevékenység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arakteres felü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arancsmó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man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Grafikus felü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X-Window alapú szolgáltatások formájáb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disztribúció-függ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K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GNO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059280" y="5229360"/>
            <a:ext cx="39049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Hálózati operációs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erep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somópont („nod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iszolgáló (szerv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unkaállomás (kliens, ügyfé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ípus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gyenrangú („peer-to-peer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bármely számítógép előfordulhat bármilyen szerepb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csomópontok közvetlen kommunikáció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ierarchikus (ügyfél-kiszolgáló, „server-client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zámítógépek szerepe megkülönböztetet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ommunikáció csak a szerveren keresztü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dedikált szerver: munkaállomásként nem használhat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álózati azonosít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elhasználók megkülönbözteté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onosí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edi (de műveleti szempontok alapján „csoport”-ba szervezhető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használói fiók: azonosító és leíró ad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ogosultsági rends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rőforrás-felhasználó-művelet leírások (A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ndszer-felhasználó leírások (licen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nyilvántartási rendszer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gyományos (táblázat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ímtár-alapú („directory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onosítás (authentic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onosítók és jogosultságok ellenőrz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jelentkezés („log in”), kijelentkezés („log out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ovell Net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dedikált kliens-szerver arcitektú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erver (console): Novell Ne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saját fájlrendszer (NWFS, NS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hagyományosan fájl- és nyomtatómegosztá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Directory, iFolder, iPrint, ConsoleOne, WebAccess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liens (munkaállomás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bármilyen operációs rendszer +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kliensprogram (Netware Client for 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ovell Net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iztonsági komponens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onosít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bindery, N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licensz-mód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zerver (kapcsolat)-alap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elhasználói (azonosító) alap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biztonsági mentés (backu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ibatűrő architektú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FT-I (RAW), SFT-II (RAID), SFT-III (duplikált szerv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írusvédelem, tűzf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lapból nincs, integrálható: BM, NAV,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rcRect l="76581" t="61810" r="4965" b="4326"/>
          <a:stretch/>
        </p:blipFill>
        <p:spPr>
          <a:xfrm>
            <a:off x="3203640" y="3689280"/>
            <a:ext cx="2301840" cy="31687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ovell Client szolgáltatás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álózati kapcsolatok: 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LOGIN, CONN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álózati erőforrás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önyvtár: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AP / DISCONN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nyomtató: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APTURE / 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ND CAP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egédprogramok: UT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állománykezelés: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opy, Purge, Salv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ommunikáció: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end Me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NDS: 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rustee Rights, 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Object Proper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elügyelet, beállítások: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ONFIGURE, HELP PROPERTIE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Operációs ren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3300"/>
                </a:solidFill>
                <a:latin typeface="Arial"/>
              </a:rPr>
              <a:t>feladata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egyszerűsíti a hardverkezelé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erőforrások elosztása, versenyhelyzetek kezelé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felhasználói felület, kommunikáci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állapot-felügyelet, hibakezelés, naplóz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0066"/>
                </a:solidFill>
                <a:latin typeface="Arial"/>
              </a:rPr>
              <a:t>(hálózati szolgáltatás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0066"/>
                </a:solidFill>
                <a:latin typeface="Arial"/>
              </a:rPr>
              <a:t>(virtuális gép koncepció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részleges vagy teljes hardver függetlensé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3300"/>
                </a:solidFill>
                <a:latin typeface="Arial"/>
              </a:rPr>
              <a:t>leggyakoribb képviselői (IBM PC-ken):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DOS, Windows, Novell, Linux, OS/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éldá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6" name="" descr="Windows Vista"/>
          <p:cNvPicPr/>
          <p:nvPr/>
        </p:nvPicPr>
        <p:blipFill>
          <a:blip r:embed="rId1"/>
          <a:stretch/>
        </p:blipFill>
        <p:spPr>
          <a:xfrm>
            <a:off x="971640" y="1989000"/>
            <a:ext cx="1295280" cy="1914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It’s here. It’s real. It’s amazing. Mac OS X on Intel."/>
          <p:cNvPicPr/>
          <p:nvPr/>
        </p:nvPicPr>
        <p:blipFill>
          <a:blip r:embed="rId2"/>
          <a:srcRect l="0" t="0" r="55627" b="0"/>
          <a:stretch/>
        </p:blipFill>
        <p:spPr>
          <a:xfrm>
            <a:off x="2843280" y="4005360"/>
            <a:ext cx="1724040" cy="1506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16360" y="1484280"/>
            <a:ext cx="1935000" cy="2129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What is BeOS?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4365720"/>
            <a:ext cx="1770120" cy="610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5651640" y="1916280"/>
            <a:ext cx="1584360" cy="1150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7451640" y="1773360"/>
            <a:ext cx="1503360" cy="165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80000" y="3789360"/>
            <a:ext cx="2592360" cy="153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Power64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03640" y="5589720"/>
            <a:ext cx="285588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elépítés: réteg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28880" y="2467080"/>
            <a:ext cx="70866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étegszemlél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42920" y="2349360"/>
            <a:ext cx="7061040" cy="3861000"/>
            <a:chOff x="1042920" y="2349360"/>
            <a:chExt cx="7061040" cy="3861000"/>
          </a:xfrm>
        </p:grpSpPr>
        <p:sp>
          <p:nvSpPr>
            <p:cNvPr id="118" name=""/>
            <p:cNvSpPr/>
            <p:nvPr/>
          </p:nvSpPr>
          <p:spPr>
            <a:xfrm>
              <a:off x="1042920" y="2349360"/>
              <a:ext cx="7061040" cy="1270080"/>
            </a:xfrm>
            <a:prstGeom prst="roundRect">
              <a:avLst>
                <a:gd name="adj" fmla="val 12495"/>
              </a:avLst>
            </a:prstGeom>
            <a:solidFill>
              <a:srgbClr val="7e9ce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lhasználó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kalmazá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42920" y="3645000"/>
              <a:ext cx="7061040" cy="1269720"/>
            </a:xfrm>
            <a:prstGeom prst="roundRect">
              <a:avLst>
                <a:gd name="adj" fmla="val 12495"/>
              </a:avLst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eráció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ndsz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42920" y="4940280"/>
              <a:ext cx="7061040" cy="1270080"/>
            </a:xfrm>
            <a:prstGeom prst="roundRect">
              <a:avLst>
                <a:gd name="adj" fmla="val 12495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rd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17720" y="2495520"/>
              <a:ext cx="1511280" cy="977760"/>
            </a:xfrm>
            <a:prstGeom prst="roundRect">
              <a:avLst>
                <a:gd name="adj" fmla="val 12495"/>
              </a:avLst>
            </a:prstGeom>
            <a:solidFill>
              <a:srgbClr val="6699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gram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észít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ámogatá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70560" y="2495520"/>
              <a:ext cx="1358640" cy="3568680"/>
            </a:xfrm>
            <a:custGeom>
              <a:avLst/>
              <a:gdLst>
                <a:gd name="textAreaLeft" fmla="*/ 49680 w 1358640"/>
                <a:gd name="textAreaRight" fmla="*/ 1308960 w 1358640"/>
                <a:gd name="textAreaTop" fmla="*/ 49680 h 3568680"/>
                <a:gd name="textAreaBottom" fmla="*/ 3519000 h 3568680"/>
              </a:gdLst>
              <a:ahLst/>
              <a:rect l="textAreaLeft" t="textAreaTop" r="textAreaRight" b="textAreaBottom"/>
              <a:pathLst>
                <a:path w="21600" h="56726">
                  <a:moveTo>
                    <a:pt x="2699" y="0"/>
                  </a:moveTo>
                  <a:arcTo wR="2699" hR="2699" stAng="16200000" swAng="-5400000"/>
                  <a:lnTo>
                    <a:pt x="0" y="54027"/>
                  </a:lnTo>
                  <a:arcTo wR="2699" hR="2699" stAng="10800000" swAng="-5400000"/>
                  <a:lnTo>
                    <a:pt x="18901" y="5672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álózat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ezel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zoft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rd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17720" y="3714840"/>
              <a:ext cx="1511280" cy="1054080"/>
            </a:xfrm>
            <a:prstGeom prst="roundRect">
              <a:avLst>
                <a:gd name="adj" fmla="val 12495"/>
              </a:avLst>
            </a:prstGeom>
            <a:solidFill>
              <a:srgbClr val="d8d8e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llomány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ezel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41560" y="2495520"/>
              <a:ext cx="1511280" cy="2273400"/>
            </a:xfrm>
            <a:custGeom>
              <a:avLst/>
              <a:gdLst>
                <a:gd name="textAreaLeft" fmla="*/ 55080 w 1511280"/>
                <a:gd name="textAreaRight" fmla="*/ 1456200 w 1511280"/>
                <a:gd name="textAreaTop" fmla="*/ 55080 h 2273400"/>
                <a:gd name="textAreaBottom" fmla="*/ 2218320 h 2273400"/>
              </a:gdLst>
              <a:ahLst/>
              <a:rect l="textAreaLeft" t="textAreaTop" r="textAreaRight" b="textAreaBottom"/>
              <a:pathLst>
                <a:path w="21600" h="32490">
                  <a:moveTo>
                    <a:pt x="2699" y="0"/>
                  </a:moveTo>
                  <a:arcTo wR="2699" hR="2699" stAng="16200000" swAng="-5400000"/>
                  <a:lnTo>
                    <a:pt x="0" y="29791"/>
                  </a:lnTo>
                  <a:arcTo wR="2699" hR="2699" stAng="10800000" swAng="-5400000"/>
                  <a:lnTo>
                    <a:pt x="18901" y="3249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eráció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ndsz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lhasználó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lül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kernel HARDVER</a:t>
            </a:r>
            <a:br>
              <a:rPr sz="3900"/>
            </a:b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szköze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55600" y="2070000"/>
            <a:ext cx="7061400" cy="432000"/>
          </a:xfrm>
          <a:prstGeom prst="roundRect">
            <a:avLst>
              <a:gd name="adj" fmla="val 12495"/>
            </a:avLst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használói alkalmaz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55600" y="2527200"/>
            <a:ext cx="7061400" cy="2946600"/>
          </a:xfrm>
          <a:prstGeom prst="roundRect">
            <a:avLst>
              <a:gd name="adj" fmla="val 12495"/>
            </a:avLst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DSZERMA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KER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55600" y="5499000"/>
            <a:ext cx="7061400" cy="432000"/>
          </a:xfrm>
          <a:prstGeom prst="roundRect">
            <a:avLst>
              <a:gd name="adj" fmla="val 12495"/>
            </a:avLst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68560" y="4444920"/>
            <a:ext cx="1244520" cy="1015920"/>
          </a:xfrm>
          <a:prstGeom prst="roundRect">
            <a:avLst>
              <a:gd name="adj" fmla="val 12495"/>
            </a:avLst>
          </a:prstGeom>
          <a:solidFill>
            <a:srgbClr val="7e9ce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gszakít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zel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16120" y="3835440"/>
            <a:ext cx="1244520" cy="1625400"/>
          </a:xfrm>
          <a:custGeom>
            <a:avLst/>
            <a:gdLst>
              <a:gd name="textAreaLeft" fmla="*/ 45360 w 1244520"/>
              <a:gd name="textAreaRight" fmla="*/ 1199160 w 1244520"/>
              <a:gd name="textAreaTop" fmla="*/ 45360 h 1625400"/>
              <a:gd name="textAreaBottom" fmla="*/ 1580040 h 1625400"/>
            </a:gdLst>
            <a:ahLst/>
            <a:rect l="textAreaLeft" t="textAreaTop" r="textAreaRight" b="textAreaBottom"/>
            <a:pathLst>
              <a:path w="21600" h="28209">
                <a:moveTo>
                  <a:pt x="2699" y="0"/>
                </a:moveTo>
                <a:arcTo wR="2699" hR="2699" stAng="16200000" swAng="-5400000"/>
                <a:lnTo>
                  <a:pt x="0" y="25510"/>
                </a:lnTo>
                <a:arcTo wR="2699" hR="2699" stAng="10800000" swAng="-5400000"/>
                <a:lnTo>
                  <a:pt x="18901" y="2820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asszi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fériá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4040" y="3835440"/>
            <a:ext cx="1244520" cy="1625400"/>
          </a:xfrm>
          <a:custGeom>
            <a:avLst/>
            <a:gdLst>
              <a:gd name="textAreaLeft" fmla="*/ 45360 w 1244520"/>
              <a:gd name="textAreaRight" fmla="*/ 1199160 w 1244520"/>
              <a:gd name="textAreaTop" fmla="*/ 45360 h 1625400"/>
              <a:gd name="textAreaBottom" fmla="*/ 1580040 h 1625400"/>
            </a:gdLst>
            <a:ahLst/>
            <a:rect l="textAreaLeft" t="textAreaTop" r="textAreaRight" b="textAreaBottom"/>
            <a:pathLst>
              <a:path w="21600" h="28209">
                <a:moveTo>
                  <a:pt x="2699" y="0"/>
                </a:moveTo>
                <a:arcTo wR="2699" hR="2699" stAng="16200000" swAng="-5400000"/>
                <a:lnTo>
                  <a:pt x="0" y="25510"/>
                </a:lnTo>
                <a:arcTo wR="2699" hR="2699" stAng="10800000" swAng="-5400000"/>
                <a:lnTo>
                  <a:pt x="18901" y="2820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ysé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lü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DE, SC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11960" y="3835440"/>
            <a:ext cx="1244520" cy="1625400"/>
          </a:xfrm>
          <a:custGeom>
            <a:avLst/>
            <a:gdLst>
              <a:gd name="textAreaLeft" fmla="*/ 45360 w 1244520"/>
              <a:gd name="textAreaRight" fmla="*/ 1199160 w 1244520"/>
              <a:gd name="textAreaTop" fmla="*/ 45360 h 1625400"/>
              <a:gd name="textAreaBottom" fmla="*/ 1580040 h 1625400"/>
            </a:gdLst>
            <a:ahLst/>
            <a:rect l="textAreaLeft" t="textAreaTop" r="textAreaRight" b="textAreaBottom"/>
            <a:pathLst>
              <a:path w="21600" h="28209">
                <a:moveTo>
                  <a:pt x="2699" y="0"/>
                </a:moveTo>
                <a:arcTo wR="2699" hR="2699" stAng="16200000" swAng="-5400000"/>
                <a:lnTo>
                  <a:pt x="0" y="25510"/>
                </a:lnTo>
                <a:arcTo wR="2699" hR="2699" stAng="10800000" swAng="-5400000"/>
                <a:lnTo>
                  <a:pt x="18901" y="2820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(ibmcd.sy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59520" y="3835440"/>
            <a:ext cx="1244520" cy="1625400"/>
          </a:xfrm>
          <a:custGeom>
            <a:avLst/>
            <a:gdLst>
              <a:gd name="textAreaLeft" fmla="*/ 45360 w 1244520"/>
              <a:gd name="textAreaRight" fmla="*/ 1199160 w 1244520"/>
              <a:gd name="textAreaTop" fmla="*/ 45360 h 1625400"/>
              <a:gd name="textAreaBottom" fmla="*/ 1580040 h 1625400"/>
            </a:gdLst>
            <a:ahLst/>
            <a:rect l="textAreaLeft" t="textAreaTop" r="textAreaRight" b="textAreaBottom"/>
            <a:pathLst>
              <a:path w="21600" h="28209">
                <a:moveTo>
                  <a:pt x="2699" y="0"/>
                </a:moveTo>
                <a:arcTo wR="2699" hR="2699" stAng="16200000" swAng="-5400000"/>
                <a:lnTo>
                  <a:pt x="0" y="25510"/>
                </a:lnTo>
                <a:arcTo wR="2699" hR="2699" stAng="10800000" swAng="-5400000"/>
                <a:lnTo>
                  <a:pt x="18901" y="2820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ntellig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erifériá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(Pn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kernel SZOFTVER komponense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55600" y="2070000"/>
            <a:ext cx="7061400" cy="1193760"/>
          </a:xfrm>
          <a:prstGeom prst="roundRect">
            <a:avLst>
              <a:gd name="adj" fmla="val 12495"/>
            </a:avLst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használói alkalmaz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55600" y="3289320"/>
            <a:ext cx="7061400" cy="2184480"/>
          </a:xfrm>
          <a:prstGeom prst="roundRect">
            <a:avLst>
              <a:gd name="adj" fmla="val 12495"/>
            </a:avLst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DSZERMA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KER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55600" y="5499000"/>
            <a:ext cx="7061400" cy="432000"/>
          </a:xfrm>
          <a:prstGeom prst="roundRect">
            <a:avLst>
              <a:gd name="adj" fmla="val 12495"/>
            </a:avLst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68560" y="3301920"/>
            <a:ext cx="7035480" cy="635040"/>
          </a:xfrm>
          <a:prstGeom prst="roundRect">
            <a:avLst>
              <a:gd name="adj" fmla="val 12495"/>
            </a:avLst>
          </a:prstGeom>
          <a:solidFill>
            <a:srgbClr val="7e9ce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endszerhívás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(system ca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11960" y="2616120"/>
            <a:ext cx="1244520" cy="635040"/>
          </a:xfrm>
          <a:prstGeom prst="roundRect">
            <a:avLst>
              <a:gd name="adj" fmla="val 12495"/>
            </a:avLst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(Win SD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59520" y="2082960"/>
            <a:ext cx="1244520" cy="1168200"/>
          </a:xfrm>
          <a:prstGeom prst="roundRect">
            <a:avLst>
              <a:gd name="adj" fmla="val 12495"/>
            </a:avLst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(comm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(explor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13:19:24Z</dcterms:created>
  <dc:creator>Mazsola</dc:creator>
  <dc:description/>
  <dc:language>en-US</dc:language>
  <cp:lastModifiedBy>Mazsola</cp:lastModifiedBy>
  <dcterms:modified xsi:type="dcterms:W3CDTF">2006-09-17T20:47:20Z</dcterms:modified>
  <cp:revision>10</cp:revision>
  <dc:subject/>
  <dc:title>Informatika</dc:title>
</cp:coreProperties>
</file>