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28.png" ContentType="image/png"/>
  <Override PartName="/ppt/media/image11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12.wmf" ContentType="image/x-wmf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.jpeg" ContentType="image/jpeg"/>
  <Override PartName="/ppt/media/image29.png" ContentType="image/png"/>
  <Override PartName="/ppt/media/image17.png" ContentType="image/png"/>
  <Override PartName="/ppt/media/image24.png" ContentType="image/png"/>
  <Override PartName="/ppt/media/image9.jpeg" ContentType="image/jpeg"/>
  <Override PartName="/ppt/media/image23.wmf" ContentType="image/x-wmf"/>
  <Override PartName="/ppt/media/image22.wmf" ContentType="image/x-wmf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1.wmf" ContentType="image/x-wmf"/>
  <Override PartName="/ppt/media/image1.jpeg" ContentType="image/jpeg"/>
  <Override PartName="/ppt/media/image16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0C40-C90A-42DC-9A48-DEF9AA64F1B6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CÍMDIA: logó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futóláb: hefop, témakör, diaszá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Gyakran olyan hallgatóságnak kell szakmai előadást tartani, amely nem ismeri a témát vagy a szakszavakat. Az anyag esetleg összetett és rengeteg adatot tartalmaz. A hatékony előadáshoz alkalmazzuk a Dale Carnegie Training® által kialakított irányelvek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Vegyük figyelembe a rendelkezésre álló időt és rendszerezzük megfelelően a tananyagot. Szűkítsük le a témakört. Osszuk fel a bemutatót világosan elkülönített részekre. Állítsunk fel logikus sorrendet. Végig egy témára összpontosítsunk. A bemutatót összefoglalással zárjuk, ismételjük meg a fontos lépéseket vagy vonjunk le következteté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Ne feledkezzünk el a hallgatóságról. Fontos például, hogy az adatok érthetőek és lényegesek legyenek a téma szempontjából. Az adatok és a szakszavak mennyiségét igazítsuk a hallgatósághoz. A fontosabb pontok és lépések magyarázatához használjunk szemléltetőeszközöket. Mindig tartsuk szem előtt a hallgatóság igényeit, és akkor képesebbek lesznek az elhangzottak befogadásá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3969-683E-4D70-878D-D8D9BAB5C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DE91-447F-4879-AE5D-0503FDA2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0353-25DA-4308-BD6C-A90BC10E6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C0CD-C928-4400-B1A6-5C53CAD0F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78DF-6D6D-48B9-B156-58398A73E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FECB-29E0-4665-824F-62553043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540E-166F-4E9C-8CB5-613C1B8A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3F80-19AF-4E1F-B5AB-2596ECED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FAC8-1AAD-4E2B-8F6A-E0760AEE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30EE-58C3-4B76-881F-6853CAB2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0B35-7805-4B6D-A621-5608514C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AD75-4FEC-4FA9-B2E5-475AFE68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9E50-FB2D-4B12-A19A-460B62DE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716F-7ED2-441E-B9D9-40A6B12F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94FC1-89D2-4869-A805-BC6F4B60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B5DA-BD12-4468-BDCA-F7374F39C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CEBF-2663-47B1-8E83-30861CF45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6382-8871-4D31-99F3-F3562184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9ADF-6455-48BA-98CA-09DDFA25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BDBA-539D-4212-A685-1185FBE5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705B-FADC-4761-AA42-AF146D1A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BC65-56A8-4FF2-BF1C-EE2AD1EC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1E07-3D52-402A-A416-D75F1787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7B94-CB7B-4604-9BC5-07853CA9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4BA1-A7DE-4D07-B2C1-C7B660A7F63E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E582-130F-4C9F-8C89-792BE9964D5C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6138720"/>
            <a:ext cx="1403280" cy="7192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101080" y="0"/>
            <a:ext cx="1042920" cy="104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6E31-A113-4DB8-8E32-4FB5C6CF2146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2916000" y="6248520"/>
            <a:ext cx="310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0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ff0000"/>
                </a:solidFill>
                <a:latin typeface="Arial"/>
              </a:rPr>
              <a:t>A projekt az Európai Unió társfinanszírozásával, az Európa terv keretében valósul meg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8F89-B85B-4DED-9DF8-1A1B49798A08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948360" y="0"/>
            <a:ext cx="2195640" cy="1123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16360" y="115920"/>
            <a:ext cx="2195640" cy="906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524720" y="119700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bme-geod.agt.bme.hu/tutor_h/terinfor/t30.htm" TargetMode="External"/><Relationship Id="rId2" Type="http://schemas.openxmlformats.org/officeDocument/2006/relationships/hyperlink" Target="http://bme-geod.agt.bme.hu/tutor_h/terinfor/t30.htm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bme-geod.agt.bme.hu/tutor_h/terinfor/t31.htm" TargetMode="External"/><Relationship Id="rId2" Type="http://schemas.openxmlformats.org/officeDocument/2006/relationships/hyperlink" Target="http://bme-geod.agt.bme.hu/tutor_h/terinfor/t31.htm" TargetMode="External"/><Relationship Id="rId3" Type="http://schemas.openxmlformats.org/officeDocument/2006/relationships/hyperlink" Target="http://bme-geod.agt.bme.hu/tutor_h/terinfor/t32b.htm" TargetMode="External"/><Relationship Id="rId4" Type="http://schemas.openxmlformats.org/officeDocument/2006/relationships/hyperlink" Target="http://bme-geod.agt.bme.hu/tutor_h/terinfor/t37.htm" TargetMode="Externa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sri.com/library/whitepapers/ai_lit.html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330066"/>
                </a:solidFill>
                <a:latin typeface="Arial"/>
              </a:rPr>
              <a:t>Informatika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Dr. Herdon Mikló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Dr. Fazekasné dr. Kis Má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Magó Zso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Debreceni Egye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Németh Zolt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Budapesti Corvinus Egye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2DDA-C23C-49A6-8981-517DE3429E0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Felhasználási területek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kataszteri információs rendsz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közművek információs rendsze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közgazdasági-, marketing információs rendszere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közigazgatási- és önkormányzati információs rendszere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topográfiai-kartográfiai információs rendsz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katonai geoinformációs rendsz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természettudományi információs rendszerek (</a:t>
            </a:r>
            <a:r>
              <a:rPr b="0" i="1" lang="hu-HU" sz="2100" spc="-1" strike="noStrike">
                <a:solidFill>
                  <a:srgbClr val="000000"/>
                </a:solidFill>
                <a:latin typeface="Arial"/>
              </a:rPr>
              <a:t>geodézia, geofizika, geológia, talajtan, botanika, ökológia, hidrológia, meteorológia, környezettudomány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társadalomtudományi információs rendszerek (</a:t>
            </a:r>
            <a:r>
              <a:rPr b="0" i="1" lang="hu-HU" sz="2100" spc="-1" strike="noStrike">
                <a:solidFill>
                  <a:srgbClr val="000000"/>
                </a:solidFill>
                <a:latin typeface="Arial"/>
              </a:rPr>
              <a:t>művészettörténet, régészet, szociológia, politológia, etnográfia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mérnöki információs rendszerek (agrár-, bánya-, erdő-, földmérő-, építő-, építész-, közlekedési mérnöki rendszerek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BFFE-8B80-4D28-9FED-75517DDCD4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 valós világ fedvényekkel történő ábrázolás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403280" y="1533600"/>
            <a:ext cx="6048360" cy="456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7781-E0AE-43B3-AE02-FEB6B3CAD3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 helymeghatározás. Az elméleti földalak fejlődése. 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24000" y="2705040"/>
            <a:ext cx="8351640" cy="239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DE82-191D-4910-95B1-9B07A73BE2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Egységes Országos Vetületi Rendszer (EOV)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32000" y="1639800"/>
            <a:ext cx="6192720" cy="436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88F8-4952-4A75-B62A-28C7417919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aszteres és vektoros adatok, adatkezelés, alapműveletek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79640" y="1693800"/>
            <a:ext cx="518472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3C4A-D2B2-4BDB-A634-87652A6C86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aszter-vektor konverzió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Raszteres adatok digitális kamarákkal történő fényképezés, mesterséges holdakról történő szkenneres felvételek, fényképek és térképek vagy rajzok szkennelése (letapogatása) útján jöhetnek létre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szkennelt térképek illetve rajzok rendszerint bináris képet szolgáltatnak, azaz a letapogatott rajzi tartalom feketének, a háttér fehérnek tekinthető és egy bit két értékével (0,1) jellemezhető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z analóg képek pixelekre bontása (diszkretizálása) alapfeltétele a számítógépes grafika s ezen túl a számítógépes alakfelismerés alkalmazhatóságának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szkennelt kép kisebb nagyobb kiterjedésű objektumokból áll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vektoros adatmodell ugyanakkor elméleti vonalakból építi fel objektumait. A térképek különösen a kataszteri térképek látszólag szintén csak vonalakból állnak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Ha célunk a raszteres modellből vektoros modellt előállítani, úgy meg kell különböztetnünk a szkennelt kép kisebb nagyobb objektumai közül azokat, melyek valóban területet kívánnak modellezni azoktól, melyek tulajdonképpen vonalak és csak azért tűnnek területnek mivel az analóg térképen nem lehet elméleti vonalat rajzolni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A4C4-3F06-420B-BEB8-053207A20E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 vektor-raszter konverzió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téma első megjelenése annak köszönhető, hogy a számítástechnikában a korai vektoros grafikus képernyők helyét elfoglalták a raszteres grafikus eszközök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z egyik megoldandó probléma tulajdonképpen az volt, hogy a különböző matematikai görbéket milyen sűrű paraméter értékekkel kell kiszámolni ahhoz, hogy a képernyőn a görbét reprezentáló pixelek, függetlenül a görbe szakaszától, egyenlő távolságokra jelenjenek meg, s ennek következtében a görbe rajzának egyenletes vonalvastagsága és tömöttsége legyen az egész ábrázolási tartományban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másik probléma, a kerekítési hibákból adódó fogazottság, különösen a kis felbontású monitorokon rontotta az ábrázolás minőségét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F816-24DF-4343-BE29-B0FA304D3B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íkbeli transzformációk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 térbeli objektumok helyzetét valamilyen, derékszögű vagy görbe vonalú, </a:t>
            </a:r>
            <a:r>
              <a:rPr b="0" i="1" lang="hu-HU" sz="1500" spc="-1" strike="noStrike">
                <a:solidFill>
                  <a:srgbClr val="000000"/>
                </a:solidFill>
                <a:latin typeface="Arial"/>
              </a:rPr>
              <a:t>alapnak elfogadott</a:t>
            </a: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hu-HU" sz="1500" spc="-1" strike="noStrike">
                <a:solidFill>
                  <a:srgbClr val="000000"/>
                </a:solidFill>
                <a:latin typeface="Arial"/>
              </a:rPr>
              <a:t>koordináta rendszerben</a:t>
            </a: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 rögzítjük jellemző pontjaik koordinátáit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z alapként elfogadott koordináta rendszert úgy nevezett </a:t>
            </a:r>
            <a:r>
              <a:rPr b="0" lang="hu-HU" sz="15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referencia </a:t>
            </a:r>
            <a:r>
              <a:rPr b="0" lang="hu-HU" sz="15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rendszerek</a:t>
            </a: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-nek nevezzük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E rendszereket csak két csoportra osztják abszolút és relatív (a Föld olyan fizikai tulajdonságaival meghatározott mint a tömegközéppont és a forgástengely, illetve önkényesen a Földhöz rögzített). Ezek a koordináta rendszerek térbeliek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 gyakorlati térképezés igényeiből kiindulva azonban ma még az esetek túlnyomó többségében nem a pontok térbeli koordinátáit használják, hanem azok vetületeit valamely célszerűen felvett síkra vagy síkba fejthető felületre (henger, kúp)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Ha ezen kívül még arra is gondolunk, hogy a különböző referencia rendszerekből különböző módszerekkel különböző elhelyezkedésű síkokra vetített térképek elvileg végtelen sok méretarányban készülhetnek, úgy feltehetőleg igazolt az az elképzelésünk, hogy a transzformációknak súlyponti szerepük van a térinformatikai rendszerek alapműveletei között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 sík transzformáció legegyszerűbb esete ha pontjainkat olyan koordináta rendszerbe akarjuk átszámítani, mely kezdőpontja nem esik egybe az eredeti koordináta rendszer kezdőpontjával, </a:t>
            </a:r>
            <a:r>
              <a:rPr b="0" i="1" lang="hu-HU" sz="15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 tengelye pedig szöget zár be az eredeti koordináta rendszer </a:t>
            </a:r>
            <a:r>
              <a:rPr b="1" lang="hu-HU" sz="15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 tengelyével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9511-0B8A-4D8A-91C1-40DE64B26D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Hasonlósági transzformáció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34920" y="1628640"/>
            <a:ext cx="5401080" cy="4537080"/>
            <a:chOff x="1834920" y="1628640"/>
            <a:chExt cx="5401080" cy="4537080"/>
          </a:xfrm>
        </p:grpSpPr>
        <p:sp>
          <p:nvSpPr>
            <p:cNvPr id="133" name=""/>
            <p:cNvSpPr/>
            <p:nvPr/>
          </p:nvSpPr>
          <p:spPr>
            <a:xfrm flipV="1">
              <a:off x="1835280" y="1896480"/>
              <a:ext cx="0" cy="379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835280" y="5691600"/>
              <a:ext cx="540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30480" y="1628640"/>
              <a:ext cx="717120" cy="47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Y’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82720" y="5691600"/>
              <a:ext cx="716760" cy="47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X’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17400" y="4142520"/>
              <a:ext cx="3282840" cy="139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3317400" y="1896120"/>
              <a:ext cx="1905840" cy="22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964400">
              <a:off x="4266000" y="1896120"/>
              <a:ext cx="562320" cy="47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2197800">
              <a:off x="6275880" y="4918320"/>
              <a:ext cx="575640" cy="47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65200" y="3755160"/>
              <a:ext cx="211320" cy="1548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176880" y="3368160"/>
              <a:ext cx="505080" cy="47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835280" y="3832560"/>
              <a:ext cx="4235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71040" y="3832560"/>
              <a:ext cx="0" cy="18586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60400" y="4339440"/>
              <a:ext cx="622080" cy="47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y’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99880" y="3368160"/>
              <a:ext cx="622080" cy="47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x’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4270320" y="2980800"/>
              <a:ext cx="1800360" cy="851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5011560" y="3832560"/>
              <a:ext cx="1058760" cy="1083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2104800">
              <a:off x="5230080" y="3030480"/>
              <a:ext cx="480600" cy="47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422800">
              <a:off x="5005080" y="4143600"/>
              <a:ext cx="480960" cy="47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1834920" y="4142520"/>
              <a:ext cx="14821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17400" y="4142520"/>
              <a:ext cx="0" cy="1548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58640" y="4219920"/>
              <a:ext cx="597600" cy="47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a</a:t>
              </a:r>
              <a:r>
                <a:rPr b="0" lang="en-US" sz="1300" spc="-1" strike="noStrike" baseline="-25000">
                  <a:solidFill>
                    <a:srgbClr val="000000"/>
                  </a:solidFill>
                  <a:latin typeface="Times New Roman"/>
                  <a:ea typeface="MS Mincho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23600" y="4762080"/>
              <a:ext cx="622080" cy="47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b</a:t>
              </a:r>
              <a:r>
                <a:rPr b="0" lang="en-US" sz="1300" spc="-1" strike="noStrike" baseline="-25000">
                  <a:solidFill>
                    <a:srgbClr val="000000"/>
                  </a:solidFill>
                  <a:latin typeface="Times New Roman"/>
                  <a:ea typeface="MS Mincho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529C-047C-48E9-A5C9-CF9558E7F4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Távolságfogalmak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Vektoros adatmodell alkalmazása esetén megszokott szemléletünkhöz legközelebb az Euklides-i távolság fogalom áll, mely két, egy síkban fekvő pont távolságát a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Pythagoras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tétel segítségével definiálj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zaz a két pont közötti távolság a két pontot összekötő egyenes hosszával egyenlő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Számunkra szokatlan, de a térinformatikában gyakran használt távolság fogalom u.n.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Manhattan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vagy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háztömb távolság,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mely meghatározás szer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zaz a háztömb távolság nem más, mint a két pont koordinátakülönbségei abszolút értékeinek összeg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8B18-7688-4227-A29F-BC9B15C184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330066"/>
                </a:solidFill>
                <a:latin typeface="Arial"/>
              </a:rPr>
              <a:t>Informatika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érinformatikai alapok, alkalmazás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9834-30FA-4D63-BF2B-81295524A4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Hossz-kerület, terület és súlypont számítások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235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755640" y="1671840"/>
            <a:ext cx="7416000" cy="3891240"/>
            <a:chOff x="755640" y="1671840"/>
            <a:chExt cx="7416000" cy="3891240"/>
          </a:xfrm>
        </p:grpSpPr>
        <p:sp>
          <p:nvSpPr>
            <p:cNvPr id="160" name=""/>
            <p:cNvSpPr/>
            <p:nvPr/>
          </p:nvSpPr>
          <p:spPr>
            <a:xfrm>
              <a:off x="2672280" y="2371680"/>
              <a:ext cx="3795120" cy="3058560"/>
            </a:xfrm>
            <a:custGeom>
              <a:avLst/>
              <a:gdLst/>
              <a:ahLst/>
              <a:rect l="l" t="t" r="r" b="b"/>
              <a:pathLst>
                <a:path w="2011" h="1622">
                  <a:moveTo>
                    <a:pt x="0" y="0"/>
                  </a:moveTo>
                  <a:lnTo>
                    <a:pt x="0" y="1622"/>
                  </a:lnTo>
                  <a:lnTo>
                    <a:pt x="2011" y="1600"/>
                  </a:lnTo>
                  <a:lnTo>
                    <a:pt x="2011" y="3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>
                <a:alpha val="50000"/>
              </a:srgbClr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121400" y="2386440"/>
              <a:ext cx="1539360" cy="262476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661120" y="2386800"/>
              <a:ext cx="3803400" cy="72288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64880" y="3020400"/>
              <a:ext cx="633960" cy="171972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40480" y="4776120"/>
              <a:ext cx="5995800" cy="691920"/>
            </a:xfrm>
            <a:custGeom>
              <a:avLst/>
              <a:gdLst/>
              <a:ahLst/>
              <a:rect l="l" t="t" r="r" b="b"/>
              <a:pathLst>
                <a:path w="3178" h="367">
                  <a:moveTo>
                    <a:pt x="0" y="367"/>
                  </a:moveTo>
                  <a:lnTo>
                    <a:pt x="3167" y="334"/>
                  </a:lnTo>
                  <a:lnTo>
                    <a:pt x="3178" y="0"/>
                  </a:lnTo>
                  <a:lnTo>
                    <a:pt x="11" y="134"/>
                  </a:lnTo>
                  <a:lnTo>
                    <a:pt x="0" y="367"/>
                  </a:lnTo>
                  <a:close/>
                </a:path>
              </a:pathLst>
            </a:custGeom>
            <a:solidFill>
              <a:srgbClr val="cc66ff">
                <a:alpha val="50000"/>
              </a:srgbClr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755640" y="1671840"/>
              <a:ext cx="7416000" cy="3891240"/>
              <a:chOff x="755640" y="1671840"/>
              <a:chExt cx="7416000" cy="3891240"/>
            </a:xfrm>
          </p:grpSpPr>
          <p:grpSp>
            <p:nvGrpSpPr>
              <p:cNvPr id="166" name=""/>
              <p:cNvGrpSpPr/>
              <p:nvPr/>
            </p:nvGrpSpPr>
            <p:grpSpPr>
              <a:xfrm>
                <a:off x="755640" y="1671840"/>
                <a:ext cx="7416000" cy="3891240"/>
                <a:chOff x="755640" y="1671840"/>
                <a:chExt cx="7416000" cy="3891240"/>
              </a:xfrm>
            </p:grpSpPr>
            <p:sp>
              <p:nvSpPr>
                <p:cNvPr id="167" name=""/>
                <p:cNvSpPr/>
                <p:nvPr/>
              </p:nvSpPr>
              <p:spPr>
                <a:xfrm flipV="1">
                  <a:off x="875520" y="5424480"/>
                  <a:ext cx="7296120" cy="100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881320" y="5434560"/>
                  <a:ext cx="0" cy="1285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194160" y="5434560"/>
                  <a:ext cx="0" cy="1285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506280" y="5434560"/>
                  <a:ext cx="0" cy="1285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819120" y="5434560"/>
                  <a:ext cx="0" cy="1285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131960" y="5434560"/>
                  <a:ext cx="0" cy="1285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188360" y="5434560"/>
                  <a:ext cx="0" cy="1285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500840" y="5434560"/>
                  <a:ext cx="0" cy="1285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813680" y="5434560"/>
                  <a:ext cx="0" cy="1285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126520" y="5434560"/>
                  <a:ext cx="0" cy="1285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439000" y="5434560"/>
                  <a:ext cx="0" cy="1285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753280" y="5434560"/>
                  <a:ext cx="0" cy="1285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066120" y="5434560"/>
                  <a:ext cx="0" cy="1285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378240" y="5434560"/>
                  <a:ext cx="0" cy="1285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691080" y="5434560"/>
                  <a:ext cx="0" cy="1285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003560" y="5434560"/>
                  <a:ext cx="0" cy="1285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316400" y="5434560"/>
                  <a:ext cx="0" cy="1285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629240" y="5434560"/>
                  <a:ext cx="0" cy="1285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941720" y="5434560"/>
                  <a:ext cx="0" cy="1285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254560" y="5434560"/>
                  <a:ext cx="0" cy="1285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566680" y="5434560"/>
                  <a:ext cx="0" cy="1285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60680" y="5095800"/>
                  <a:ext cx="11988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60680" y="4762440"/>
                  <a:ext cx="11988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57440" y="4431240"/>
                  <a:ext cx="11988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57440" y="4102560"/>
                  <a:ext cx="11988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57440" y="3769200"/>
                  <a:ext cx="11988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55640" y="3438000"/>
                  <a:ext cx="11988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55640" y="3106440"/>
                  <a:ext cx="11988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55640" y="2774880"/>
                  <a:ext cx="11988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57440" y="2444400"/>
                  <a:ext cx="11988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55640" y="2113200"/>
                  <a:ext cx="11988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V="1">
                  <a:off x="905400" y="1671840"/>
                  <a:ext cx="0" cy="375264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9" name=""/>
              <p:cNvSpPr/>
              <p:nvPr/>
            </p:nvSpPr>
            <p:spPr>
              <a:xfrm>
                <a:off x="927360" y="2394000"/>
                <a:ext cx="181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27360" y="4756680"/>
                <a:ext cx="6233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927360" y="3089520"/>
                <a:ext cx="5606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927360" y="5035320"/>
                <a:ext cx="31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4287600" y="2069640"/>
                  <a:ext cx="1765800" cy="25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f>
                        <m:fPr>
                          <m:type m:val="lin"/>
                        </m:fPr>
                        <m:num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4" name=""/>
          <p:cNvSpPr/>
          <p:nvPr/>
        </p:nvSpPr>
        <p:spPr>
          <a:xfrm>
            <a:off x="0" y="449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F64D-7B76-41C3-99CF-25DD2EDB33D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Grafikus adatmodellek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403280" y="1701720"/>
            <a:ext cx="619308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4D44-DAAE-4699-BE61-0561690422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z objektumok típusai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826920" y="1773360"/>
            <a:ext cx="7007760" cy="3659760"/>
            <a:chOff x="826920" y="1773360"/>
            <a:chExt cx="7007760" cy="3659760"/>
          </a:xfrm>
        </p:grpSpPr>
        <p:grpSp>
          <p:nvGrpSpPr>
            <p:cNvPr id="209" name=""/>
            <p:cNvGrpSpPr/>
            <p:nvPr/>
          </p:nvGrpSpPr>
          <p:grpSpPr>
            <a:xfrm>
              <a:off x="1253880" y="2129040"/>
              <a:ext cx="1083240" cy="806040"/>
              <a:chOff x="1253880" y="2129040"/>
              <a:chExt cx="1083240" cy="806040"/>
            </a:xfrm>
          </p:grpSpPr>
          <p:sp>
            <p:nvSpPr>
              <p:cNvPr id="210" name=""/>
              <p:cNvSpPr/>
              <p:nvPr/>
            </p:nvSpPr>
            <p:spPr>
              <a:xfrm>
                <a:off x="1253880" y="2129040"/>
                <a:ext cx="70920" cy="70920"/>
              </a:xfrm>
              <a:prstGeom prst="flowChartConnector">
                <a:avLst/>
              </a:prstGeom>
              <a:solidFill>
                <a:srgbClr val="ff33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483560" y="2496600"/>
                <a:ext cx="853560" cy="438480"/>
              </a:xfrm>
              <a:prstGeom prst="borderCallout1">
                <a:avLst>
                  <a:gd name="adj1" fmla="val 18750"/>
                  <a:gd name="adj2" fmla="val -8333"/>
                  <a:gd name="adj3" fmla="val -59375"/>
                  <a:gd name="adj4" fmla="val -23787"/>
                </a:avLst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2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po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826920" y="3836520"/>
              <a:ext cx="1740240" cy="1106640"/>
              <a:chOff x="826920" y="3836520"/>
              <a:chExt cx="1740240" cy="1106640"/>
            </a:xfrm>
          </p:grpSpPr>
          <p:sp>
            <p:nvSpPr>
              <p:cNvPr id="213" name=""/>
              <p:cNvSpPr/>
              <p:nvPr/>
            </p:nvSpPr>
            <p:spPr>
              <a:xfrm>
                <a:off x="826920" y="4232160"/>
                <a:ext cx="1280880" cy="7110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713240" y="3836520"/>
                <a:ext cx="853920" cy="438840"/>
              </a:xfrm>
              <a:prstGeom prst="borderCallout1">
                <a:avLst>
                  <a:gd name="adj1" fmla="val 18750"/>
                  <a:gd name="adj2" fmla="val -8333"/>
                  <a:gd name="adj3" fmla="val 128648"/>
                  <a:gd name="adj4" fmla="val -37328"/>
                </a:avLst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6240" rIns="6624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2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vo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2904840" y="2218680"/>
              <a:ext cx="1843920" cy="1607760"/>
              <a:chOff x="2904840" y="2218680"/>
              <a:chExt cx="1843920" cy="1607760"/>
            </a:xfrm>
          </p:grpSpPr>
          <p:sp>
            <p:nvSpPr>
              <p:cNvPr id="216" name=""/>
              <p:cNvSpPr/>
              <p:nvPr/>
            </p:nvSpPr>
            <p:spPr>
              <a:xfrm>
                <a:off x="2904840" y="2958120"/>
                <a:ext cx="1209600" cy="868320"/>
              </a:xfrm>
              <a:custGeom>
                <a:avLst/>
                <a:gdLst/>
                <a:ahLst/>
                <a:rect l="l" t="t" r="r" b="b"/>
                <a:pathLst>
                  <a:path w="816" h="586">
                    <a:moveTo>
                      <a:pt x="88" y="55"/>
                    </a:moveTo>
                    <a:cubicBezTo>
                      <a:pt x="71" y="194"/>
                      <a:pt x="45" y="343"/>
                      <a:pt x="0" y="477"/>
                    </a:cubicBezTo>
                    <a:cubicBezTo>
                      <a:pt x="56" y="535"/>
                      <a:pt x="7" y="497"/>
                      <a:pt x="100" y="522"/>
                    </a:cubicBezTo>
                    <a:cubicBezTo>
                      <a:pt x="341" y="586"/>
                      <a:pt x="100" y="535"/>
                      <a:pt x="255" y="566"/>
                    </a:cubicBezTo>
                    <a:cubicBezTo>
                      <a:pt x="303" y="562"/>
                      <a:pt x="352" y="561"/>
                      <a:pt x="400" y="555"/>
                    </a:cubicBezTo>
                    <a:cubicBezTo>
                      <a:pt x="431" y="551"/>
                      <a:pt x="448" y="532"/>
                      <a:pt x="477" y="522"/>
                    </a:cubicBezTo>
                    <a:cubicBezTo>
                      <a:pt x="544" y="500"/>
                      <a:pt x="711" y="474"/>
                      <a:pt x="755" y="466"/>
                    </a:cubicBezTo>
                    <a:cubicBezTo>
                      <a:pt x="762" y="448"/>
                      <a:pt x="776" y="431"/>
                      <a:pt x="777" y="411"/>
                    </a:cubicBezTo>
                    <a:cubicBezTo>
                      <a:pt x="790" y="26"/>
                      <a:pt x="816" y="102"/>
                      <a:pt x="444" y="89"/>
                    </a:cubicBezTo>
                    <a:cubicBezTo>
                      <a:pt x="383" y="72"/>
                      <a:pt x="342" y="53"/>
                      <a:pt x="277" y="44"/>
                    </a:cubicBezTo>
                    <a:cubicBezTo>
                      <a:pt x="228" y="20"/>
                      <a:pt x="186" y="11"/>
                      <a:pt x="133" y="0"/>
                    </a:cubicBezTo>
                    <a:cubicBezTo>
                      <a:pt x="122" y="7"/>
                      <a:pt x="108" y="12"/>
                      <a:pt x="100" y="22"/>
                    </a:cubicBezTo>
                    <a:cubicBezTo>
                      <a:pt x="93" y="31"/>
                      <a:pt x="88" y="55"/>
                      <a:pt x="88" y="55"/>
                    </a:cubicBezTo>
                    <a:close/>
                  </a:path>
                </a:pathLst>
              </a:custGeom>
              <a:solidFill>
                <a:srgbClr val="3366ff"/>
              </a:solidFill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182840" y="2218680"/>
                <a:ext cx="565920" cy="438480"/>
              </a:xfrm>
              <a:prstGeom prst="borderCallout1">
                <a:avLst>
                  <a:gd name="adj1" fmla="val 18750"/>
                  <a:gd name="adj2" fmla="val -8333"/>
                  <a:gd name="adj3" fmla="val 149050"/>
                  <a:gd name="adj4" fmla="val -66759"/>
                </a:avLst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2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Felül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4029480" y="1773360"/>
              <a:ext cx="3805200" cy="2715120"/>
              <a:chOff x="4029480" y="1773360"/>
              <a:chExt cx="3805200" cy="271512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6411960" y="1773360"/>
                <a:ext cx="1422720" cy="1502640"/>
                <a:chOff x="6411960" y="1773360"/>
                <a:chExt cx="1422720" cy="15026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7123320" y="2378160"/>
                  <a:ext cx="118440" cy="15084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242120" y="2378160"/>
                  <a:ext cx="118440" cy="15084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360560" y="2378160"/>
                  <a:ext cx="118080" cy="15084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479000" y="2378160"/>
                  <a:ext cx="118440" cy="15084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597440" y="2378160"/>
                  <a:ext cx="118440" cy="15084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716240" y="2378160"/>
                  <a:ext cx="118440" cy="15084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123320" y="252900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242120" y="252900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360560" y="2529000"/>
                  <a:ext cx="11808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479000" y="252900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597440" y="252900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716240" y="252900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123320" y="268020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242120" y="268020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360560" y="2680200"/>
                  <a:ext cx="11808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479000" y="268020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597440" y="268020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716240" y="268020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123320" y="283140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242120" y="283140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360560" y="2831400"/>
                  <a:ext cx="11808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7479000" y="283140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597440" y="283140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716240" y="283140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123320" y="177336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242120" y="177336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360560" y="1773360"/>
                  <a:ext cx="11808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479000" y="177336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597440" y="177336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7716240" y="177336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123320" y="1924560"/>
                  <a:ext cx="118440" cy="151200"/>
                </a:xfrm>
                <a:prstGeom prst="rect">
                  <a:avLst/>
                </a:prstGeom>
                <a:solidFill>
                  <a:srgbClr val="3366ff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242120" y="192456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7360560" y="1924560"/>
                  <a:ext cx="11808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479000" y="192456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7597440" y="192456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716240" y="192456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123320" y="207576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242120" y="2075760"/>
                  <a:ext cx="118440" cy="151200"/>
                </a:xfrm>
                <a:prstGeom prst="rect">
                  <a:avLst/>
                </a:prstGeom>
                <a:solidFill>
                  <a:srgbClr val="3366ff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360560" y="2075760"/>
                  <a:ext cx="11808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479000" y="207576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597440" y="207576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716240" y="207576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123320" y="2226960"/>
                  <a:ext cx="118440" cy="151200"/>
                </a:xfrm>
                <a:prstGeom prst="rect">
                  <a:avLst/>
                </a:prstGeom>
                <a:solidFill>
                  <a:srgbClr val="3366ff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242120" y="222696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360560" y="2226960"/>
                  <a:ext cx="11808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479000" y="222696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7597440" y="222696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716240" y="222696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411960" y="2378160"/>
                  <a:ext cx="118440" cy="15084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530400" y="2378160"/>
                  <a:ext cx="118440" cy="15084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649200" y="2378160"/>
                  <a:ext cx="118440" cy="15084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6767640" y="2378160"/>
                  <a:ext cx="118080" cy="15084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886080" y="2378160"/>
                  <a:ext cx="118440" cy="15084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7004520" y="2378160"/>
                  <a:ext cx="118440" cy="150840"/>
                </a:xfrm>
                <a:prstGeom prst="rect">
                  <a:avLst/>
                </a:prstGeom>
                <a:solidFill>
                  <a:srgbClr val="3366ff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411960" y="252900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6530400" y="252900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6649200" y="252900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767640" y="2529000"/>
                  <a:ext cx="11808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6886080" y="252900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004520" y="2529000"/>
                  <a:ext cx="118440" cy="151200"/>
                </a:xfrm>
                <a:prstGeom prst="rect">
                  <a:avLst/>
                </a:prstGeom>
                <a:solidFill>
                  <a:srgbClr val="3366ff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6411960" y="268020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30400" y="268020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49200" y="268020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767640" y="2680200"/>
                  <a:ext cx="11808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886080" y="268020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004520" y="268020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6411960" y="283140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530400" y="283140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6649200" y="283140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6767640" y="2831400"/>
                  <a:ext cx="11808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886080" y="283140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7004520" y="2831400"/>
                  <a:ext cx="118440" cy="151200"/>
                </a:xfrm>
                <a:prstGeom prst="rect">
                  <a:avLst/>
                </a:prstGeom>
                <a:solidFill>
                  <a:srgbClr val="3366ff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411960" y="177336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6530400" y="177336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6649200" y="177336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767640" y="1773360"/>
                  <a:ext cx="11808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886080" y="177336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7004520" y="177336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411960" y="192456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530400" y="192456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649200" y="192456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767640" y="1924560"/>
                  <a:ext cx="11808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886080" y="1924560"/>
                  <a:ext cx="118440" cy="151200"/>
                </a:xfrm>
                <a:prstGeom prst="rect">
                  <a:avLst/>
                </a:prstGeom>
                <a:solidFill>
                  <a:srgbClr val="3366ff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7004520" y="1924560"/>
                  <a:ext cx="118440" cy="151200"/>
                </a:xfrm>
                <a:prstGeom prst="rect">
                  <a:avLst/>
                </a:prstGeom>
                <a:solidFill>
                  <a:srgbClr val="3366ff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411960" y="207576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530400" y="207576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649200" y="207576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767640" y="2075760"/>
                  <a:ext cx="118080" cy="151200"/>
                </a:xfrm>
                <a:prstGeom prst="rect">
                  <a:avLst/>
                </a:prstGeom>
                <a:solidFill>
                  <a:srgbClr val="3366ff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886080" y="207576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7004520" y="207576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6411960" y="222696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6530400" y="222696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6649200" y="222696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6767640" y="2226960"/>
                  <a:ext cx="11808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886080" y="222696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7004520" y="222696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123320" y="297360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242120" y="297360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7360560" y="2973600"/>
                  <a:ext cx="11808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479000" y="297360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597440" y="297360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7716240" y="297360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7123320" y="312480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7242120" y="312480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7360560" y="3124800"/>
                  <a:ext cx="11808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7479000" y="312480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7597440" y="312480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7716240" y="312480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411960" y="297360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530400" y="297360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649200" y="297360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767640" y="2973600"/>
                  <a:ext cx="11808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886080" y="297360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7004520" y="297360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411960" y="312480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530400" y="312480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6649200" y="312480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767640" y="3124800"/>
                  <a:ext cx="11808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886080" y="312480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7004520" y="3124800"/>
                  <a:ext cx="118440" cy="15120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0" name=""/>
              <p:cNvSpPr/>
              <p:nvPr/>
            </p:nvSpPr>
            <p:spPr>
              <a:xfrm>
                <a:off x="4029480" y="4050000"/>
                <a:ext cx="2524680" cy="438480"/>
              </a:xfrm>
              <a:prstGeom prst="borderCallout1">
                <a:avLst>
                  <a:gd name="adj1" fmla="val 18750"/>
                  <a:gd name="adj2" fmla="val -8333"/>
                  <a:gd name="adj3" fmla="val -266893"/>
                  <a:gd name="adj4" fmla="val 120199"/>
                </a:avLst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6240" rIns="6624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tesszelációs felül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5725800" y="3998880"/>
              <a:ext cx="1929960" cy="1434240"/>
              <a:chOff x="5725800" y="3998880"/>
              <a:chExt cx="1929960" cy="1434240"/>
            </a:xfrm>
          </p:grpSpPr>
          <p:sp>
            <p:nvSpPr>
              <p:cNvPr id="342" name=""/>
              <p:cNvSpPr/>
              <p:nvPr/>
            </p:nvSpPr>
            <p:spPr>
              <a:xfrm>
                <a:off x="6730920" y="3998880"/>
                <a:ext cx="924840" cy="426600"/>
              </a:xfrm>
              <a:prstGeom prst="rect">
                <a:avLst/>
              </a:prstGeom>
              <a:solidFill>
                <a:srgbClr val="66cc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725800" y="4994640"/>
                <a:ext cx="1076400" cy="438480"/>
              </a:xfrm>
              <a:prstGeom prst="borderCallout1">
                <a:avLst>
                  <a:gd name="adj1" fmla="val 18750"/>
                  <a:gd name="adj2" fmla="val -8333"/>
                  <a:gd name="adj3" fmla="val -124662"/>
                  <a:gd name="adj4" fmla="val 137189"/>
                </a:avLst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6240" rIns="6624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3D te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FDA6-A1F4-4E3D-A358-1D5FF054A8C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Vektoros modellek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vektoros modellek lényege, hogy az ábrázolandó területet és a rajta lévő objektumokat pontok és a köztük lévő egyenesek együtteseként fogja fel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terep absztrakciója következtében a térképen, így a digitális térképen is </a:t>
            </a: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pontszerű, vonalas és területi objektumok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találhatók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2100" spc="-1" strike="noStrike">
                <a:solidFill>
                  <a:srgbClr val="000000"/>
                </a:solidFill>
                <a:latin typeface="Arial"/>
              </a:rPr>
              <a:t>pontszerű objektumokat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vektoros modell alap meghatározását alkalmazva úgy értelmezzük, mint egy olyan nulla hosszúságú egyenest, melynek kezdő és végpontja azono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2100" spc="-1" strike="noStrike">
                <a:solidFill>
                  <a:srgbClr val="000000"/>
                </a:solidFill>
                <a:latin typeface="Arial"/>
              </a:rPr>
              <a:t>vonalszerű objektumok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mint egyenesek folytonos mondatai értelmezhetők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100" spc="-1" strike="noStrike">
                <a:solidFill>
                  <a:srgbClr val="000000"/>
                </a:solidFill>
                <a:latin typeface="Arial"/>
              </a:rPr>
              <a:t>a területi objektumok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900" spc="-1" strike="noStrike">
                <a:solidFill>
                  <a:srgbClr val="000000"/>
                </a:solidFill>
                <a:latin typeface="Arial"/>
              </a:rPr>
              <a:t>explicit értelmezéséhez és különösen a területekkel való folytonos lefedéshez még tovább kell fejleszteni modellünket bizonyos topológiai meggondolásokkal.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502A-5070-42BE-89AE-4D68B9233B3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pagetti modell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395280" y="1916280"/>
            <a:ext cx="7984080" cy="3151800"/>
            <a:chOff x="395280" y="1916280"/>
            <a:chExt cx="7984080" cy="3151800"/>
          </a:xfrm>
        </p:grpSpPr>
        <p:graphicFrame>
          <p:nvGraphicFramePr>
            <p:cNvPr id="348" name=""/>
            <p:cNvGraphicFramePr/>
            <p:nvPr/>
          </p:nvGraphicFramePr>
          <p:xfrm>
            <a:off x="4415040" y="1994760"/>
            <a:ext cx="3792960" cy="5130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3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415040" y="1994760"/>
                      <a:ext cx="3792960" cy="51300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pSp>
          <p:nvGrpSpPr>
            <p:cNvPr id="350" name=""/>
            <p:cNvGrpSpPr/>
            <p:nvPr/>
          </p:nvGrpSpPr>
          <p:grpSpPr>
            <a:xfrm>
              <a:off x="395280" y="1916280"/>
              <a:ext cx="3309840" cy="3151800"/>
              <a:chOff x="395280" y="1916280"/>
              <a:chExt cx="3309840" cy="3151800"/>
            </a:xfrm>
          </p:grpSpPr>
          <p:grpSp>
            <p:nvGrpSpPr>
              <p:cNvPr id="351" name=""/>
              <p:cNvGrpSpPr/>
              <p:nvPr/>
            </p:nvGrpSpPr>
            <p:grpSpPr>
              <a:xfrm>
                <a:off x="395280" y="2231640"/>
                <a:ext cx="2127240" cy="2284560"/>
                <a:chOff x="395280" y="2231640"/>
                <a:chExt cx="2127240" cy="228456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474120" y="2310120"/>
                  <a:ext cx="1970280" cy="2127600"/>
                </a:xfrm>
                <a:custGeom>
                  <a:avLst/>
                  <a:gdLst/>
                  <a:ahLst/>
                  <a:rect l="l" t="t" r="r" b="b"/>
                  <a:pathLst>
                    <a:path w="1200" h="1296">
                      <a:moveTo>
                        <a:pt x="0" y="624"/>
                      </a:moveTo>
                      <a:lnTo>
                        <a:pt x="96" y="336"/>
                      </a:lnTo>
                      <a:lnTo>
                        <a:pt x="336" y="144"/>
                      </a:lnTo>
                      <a:lnTo>
                        <a:pt x="576" y="0"/>
                      </a:lnTo>
                      <a:lnTo>
                        <a:pt x="720" y="0"/>
                      </a:lnTo>
                      <a:lnTo>
                        <a:pt x="864" y="48"/>
                      </a:lnTo>
                      <a:lnTo>
                        <a:pt x="1056" y="288"/>
                      </a:lnTo>
                      <a:lnTo>
                        <a:pt x="1200" y="672"/>
                      </a:lnTo>
                      <a:lnTo>
                        <a:pt x="1200" y="912"/>
                      </a:lnTo>
                      <a:lnTo>
                        <a:pt x="1152" y="1104"/>
                      </a:lnTo>
                      <a:lnTo>
                        <a:pt x="960" y="1248"/>
                      </a:lnTo>
                      <a:lnTo>
                        <a:pt x="768" y="1296"/>
                      </a:lnTo>
                      <a:lnTo>
                        <a:pt x="672" y="1248"/>
                      </a:lnTo>
                      <a:lnTo>
                        <a:pt x="528" y="1056"/>
                      </a:lnTo>
                      <a:lnTo>
                        <a:pt x="432" y="912"/>
                      </a:lnTo>
                      <a:lnTo>
                        <a:pt x="384" y="864"/>
                      </a:lnTo>
                      <a:lnTo>
                        <a:pt x="240" y="768"/>
                      </a:lnTo>
                      <a:lnTo>
                        <a:pt x="48" y="720"/>
                      </a:lnTo>
                      <a:lnTo>
                        <a:pt x="0" y="624"/>
                      </a:lnTo>
                      <a:close/>
                    </a:path>
                  </a:pathLst>
                </a:custGeom>
                <a:noFill/>
                <a:ln cap="sq"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3" name=""/>
                <p:cNvGrpSpPr/>
                <p:nvPr/>
              </p:nvGrpSpPr>
              <p:grpSpPr>
                <a:xfrm>
                  <a:off x="474120" y="3413520"/>
                  <a:ext cx="156960" cy="156960"/>
                  <a:chOff x="474120" y="3413520"/>
                  <a:chExt cx="156960" cy="15696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474120" y="3413520"/>
                    <a:ext cx="156960" cy="15696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flipV="1">
                    <a:off x="474120" y="3413520"/>
                    <a:ext cx="156960" cy="15696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552960" y="2782440"/>
                  <a:ext cx="156960" cy="157680"/>
                  <a:chOff x="552960" y="2782440"/>
                  <a:chExt cx="156960" cy="1576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552960" y="2782800"/>
                    <a:ext cx="156960" cy="15732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 flipV="1">
                    <a:off x="552960" y="2782440"/>
                    <a:ext cx="156960" cy="15732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946800" y="2467800"/>
                  <a:ext cx="156960" cy="156960"/>
                  <a:chOff x="946800" y="2467800"/>
                  <a:chExt cx="156960" cy="15696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946800" y="2467800"/>
                    <a:ext cx="156960" cy="15696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 flipV="1">
                    <a:off x="946800" y="2467800"/>
                    <a:ext cx="156960" cy="15696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1341000" y="2231640"/>
                  <a:ext cx="157320" cy="156960"/>
                  <a:chOff x="1341000" y="2231640"/>
                  <a:chExt cx="157320" cy="15696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1341000" y="2231640"/>
                    <a:ext cx="157320" cy="15696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 flipV="1">
                    <a:off x="1341000" y="2231640"/>
                    <a:ext cx="157320" cy="15696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1577160" y="2231640"/>
                  <a:ext cx="157320" cy="156960"/>
                  <a:chOff x="1577160" y="2231640"/>
                  <a:chExt cx="157320" cy="15696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1577160" y="2231640"/>
                    <a:ext cx="157320" cy="15696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 flipV="1">
                    <a:off x="1577160" y="2231640"/>
                    <a:ext cx="157320" cy="15696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395280" y="3255480"/>
                  <a:ext cx="157320" cy="157680"/>
                  <a:chOff x="395280" y="3255480"/>
                  <a:chExt cx="157320" cy="15768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395280" y="3255840"/>
                    <a:ext cx="157320" cy="15732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flipV="1">
                    <a:off x="395280" y="3255480"/>
                    <a:ext cx="157320" cy="15732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1813680" y="2309760"/>
                  <a:ext cx="157320" cy="157680"/>
                  <a:chOff x="1813680" y="2309760"/>
                  <a:chExt cx="157320" cy="15768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1813680" y="2310120"/>
                    <a:ext cx="157320" cy="15732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 flipV="1">
                    <a:off x="1813680" y="2309760"/>
                    <a:ext cx="157320" cy="15732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2129040" y="2704320"/>
                  <a:ext cx="156960" cy="156960"/>
                  <a:chOff x="2129040" y="2704320"/>
                  <a:chExt cx="156960" cy="15696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2129040" y="2704320"/>
                    <a:ext cx="156960" cy="15696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 flipV="1">
                    <a:off x="2129040" y="2704320"/>
                    <a:ext cx="156960" cy="15696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7" name=""/>
                <p:cNvGrpSpPr/>
                <p:nvPr/>
              </p:nvGrpSpPr>
              <p:grpSpPr>
                <a:xfrm>
                  <a:off x="2365560" y="3334680"/>
                  <a:ext cx="156960" cy="156960"/>
                  <a:chOff x="2365560" y="3334680"/>
                  <a:chExt cx="156960" cy="15696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>
                    <a:off x="2365560" y="3334680"/>
                    <a:ext cx="156960" cy="15696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 flipV="1">
                    <a:off x="2365560" y="3334680"/>
                    <a:ext cx="156960" cy="15696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0" name=""/>
                <p:cNvGrpSpPr/>
                <p:nvPr/>
              </p:nvGrpSpPr>
              <p:grpSpPr>
                <a:xfrm>
                  <a:off x="2365560" y="3728160"/>
                  <a:ext cx="156960" cy="157680"/>
                  <a:chOff x="2365560" y="3728160"/>
                  <a:chExt cx="156960" cy="15768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>
                    <a:off x="2365560" y="3728520"/>
                    <a:ext cx="156960" cy="15732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 flipV="1">
                    <a:off x="2365560" y="3728160"/>
                    <a:ext cx="156960" cy="15732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3" name=""/>
                <p:cNvGrpSpPr/>
                <p:nvPr/>
              </p:nvGrpSpPr>
              <p:grpSpPr>
                <a:xfrm>
                  <a:off x="2286720" y="4043880"/>
                  <a:ext cx="157320" cy="156960"/>
                  <a:chOff x="2286720" y="4043880"/>
                  <a:chExt cx="157320" cy="15696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>
                    <a:off x="2286720" y="4043880"/>
                    <a:ext cx="157320" cy="15696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flipV="1">
                    <a:off x="2286720" y="4043880"/>
                    <a:ext cx="157320" cy="15696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6" name=""/>
                <p:cNvGrpSpPr/>
                <p:nvPr/>
              </p:nvGrpSpPr>
              <p:grpSpPr>
                <a:xfrm>
                  <a:off x="1971720" y="4280400"/>
                  <a:ext cx="156960" cy="156960"/>
                  <a:chOff x="1971720" y="4280400"/>
                  <a:chExt cx="156960" cy="156960"/>
                </a:xfrm>
              </p:grpSpPr>
              <p:sp>
                <p:nvSpPr>
                  <p:cNvPr id="387" name=""/>
                  <p:cNvSpPr/>
                  <p:nvPr/>
                </p:nvSpPr>
                <p:spPr>
                  <a:xfrm>
                    <a:off x="1971720" y="4280400"/>
                    <a:ext cx="156960" cy="15696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flipV="1">
                    <a:off x="1971720" y="4280400"/>
                    <a:ext cx="156960" cy="15696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9" name=""/>
                <p:cNvGrpSpPr/>
                <p:nvPr/>
              </p:nvGrpSpPr>
              <p:grpSpPr>
                <a:xfrm>
                  <a:off x="1656360" y="4359240"/>
                  <a:ext cx="156960" cy="156960"/>
                  <a:chOff x="1656360" y="4359240"/>
                  <a:chExt cx="156960" cy="15696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>
                    <a:off x="1656360" y="4359240"/>
                    <a:ext cx="156960" cy="15696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flipV="1">
                    <a:off x="1656360" y="4359240"/>
                    <a:ext cx="156960" cy="15696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2" name=""/>
                <p:cNvGrpSpPr/>
                <p:nvPr/>
              </p:nvGrpSpPr>
              <p:grpSpPr>
                <a:xfrm>
                  <a:off x="1498680" y="4280400"/>
                  <a:ext cx="156960" cy="156960"/>
                  <a:chOff x="1498680" y="4280400"/>
                  <a:chExt cx="156960" cy="15696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>
                    <a:off x="1498680" y="4280400"/>
                    <a:ext cx="156960" cy="15696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flipV="1">
                    <a:off x="1498680" y="4280400"/>
                    <a:ext cx="156960" cy="15696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5" name=""/>
                <p:cNvGrpSpPr/>
                <p:nvPr/>
              </p:nvGrpSpPr>
              <p:grpSpPr>
                <a:xfrm>
                  <a:off x="1183320" y="3807360"/>
                  <a:ext cx="156960" cy="156960"/>
                  <a:chOff x="1183320" y="3807360"/>
                  <a:chExt cx="156960" cy="15696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>
                    <a:off x="1183320" y="3807360"/>
                    <a:ext cx="156960" cy="15696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V="1">
                    <a:off x="1183320" y="3807360"/>
                    <a:ext cx="156960" cy="15696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8" name=""/>
                <p:cNvGrpSpPr/>
                <p:nvPr/>
              </p:nvGrpSpPr>
              <p:grpSpPr>
                <a:xfrm>
                  <a:off x="1026000" y="3650040"/>
                  <a:ext cx="156960" cy="156960"/>
                  <a:chOff x="1026000" y="3650040"/>
                  <a:chExt cx="156960" cy="15696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>
                    <a:off x="1026000" y="3650040"/>
                    <a:ext cx="156960" cy="15696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flipV="1">
                    <a:off x="1026000" y="3650040"/>
                    <a:ext cx="156960" cy="15696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1" name=""/>
                <p:cNvGrpSpPr/>
                <p:nvPr/>
              </p:nvGrpSpPr>
              <p:grpSpPr>
                <a:xfrm>
                  <a:off x="789480" y="3491640"/>
                  <a:ext cx="156960" cy="157680"/>
                  <a:chOff x="789480" y="3491640"/>
                  <a:chExt cx="156960" cy="157680"/>
                </a:xfrm>
              </p:grpSpPr>
              <p:sp>
                <p:nvSpPr>
                  <p:cNvPr id="402" name=""/>
                  <p:cNvSpPr/>
                  <p:nvPr/>
                </p:nvSpPr>
                <p:spPr>
                  <a:xfrm>
                    <a:off x="789480" y="3492000"/>
                    <a:ext cx="156960" cy="15732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flipV="1">
                    <a:off x="789480" y="3491640"/>
                    <a:ext cx="156960" cy="15732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04" name=""/>
              <p:cNvSpPr/>
              <p:nvPr/>
            </p:nvSpPr>
            <p:spPr>
              <a:xfrm>
                <a:off x="2996280" y="2704320"/>
                <a:ext cx="157680" cy="157320"/>
              </a:xfrm>
              <a:prstGeom prst="ellipse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5" name=""/>
              <p:cNvGrpSpPr/>
              <p:nvPr/>
            </p:nvGrpSpPr>
            <p:grpSpPr>
              <a:xfrm>
                <a:off x="2996280" y="2704320"/>
                <a:ext cx="157320" cy="156960"/>
                <a:chOff x="2996280" y="2704320"/>
                <a:chExt cx="157320" cy="15696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2996280" y="2704320"/>
                  <a:ext cx="157320" cy="15696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V="1">
                  <a:off x="2996280" y="2704320"/>
                  <a:ext cx="157320" cy="15696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1971720" y="1995120"/>
                <a:ext cx="1102680" cy="2994120"/>
                <a:chOff x="1971720" y="1995120"/>
                <a:chExt cx="1102680" cy="299412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1971720" y="1995120"/>
                  <a:ext cx="472680" cy="55152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444400" y="2546640"/>
                  <a:ext cx="393840" cy="126072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838240" y="3807360"/>
                  <a:ext cx="157320" cy="78768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995560" y="4595040"/>
                  <a:ext cx="78840" cy="39420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3548160" y="4832280"/>
                <a:ext cx="156960" cy="156960"/>
                <a:chOff x="3548160" y="4832280"/>
                <a:chExt cx="156960" cy="15696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3548160" y="4832280"/>
                  <a:ext cx="156960" cy="15696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flipV="1">
                  <a:off x="3548160" y="4832280"/>
                  <a:ext cx="156960" cy="15696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2996280" y="4910400"/>
                <a:ext cx="157320" cy="157680"/>
                <a:chOff x="2996280" y="4910400"/>
                <a:chExt cx="157320" cy="15768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2996280" y="4910760"/>
                  <a:ext cx="157320" cy="1573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flipV="1">
                  <a:off x="2996280" y="4910400"/>
                  <a:ext cx="157320" cy="1573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2759760" y="3728160"/>
                <a:ext cx="157320" cy="157680"/>
                <a:chOff x="2759760" y="3728160"/>
                <a:chExt cx="157320" cy="15768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2759760" y="3728520"/>
                  <a:ext cx="157320" cy="1573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V="1">
                  <a:off x="2759760" y="3728160"/>
                  <a:ext cx="157320" cy="1573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2365920" y="2467800"/>
                <a:ext cx="156960" cy="156960"/>
                <a:chOff x="2365920" y="2467800"/>
                <a:chExt cx="156960" cy="15696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2365920" y="2467800"/>
                  <a:ext cx="156960" cy="15696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V="1">
                  <a:off x="2365920" y="2467800"/>
                  <a:ext cx="156960" cy="15696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1892880" y="1916280"/>
                <a:ext cx="156960" cy="156960"/>
                <a:chOff x="1892880" y="1916280"/>
                <a:chExt cx="156960" cy="15696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1892880" y="1916280"/>
                  <a:ext cx="156960" cy="15696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flipV="1">
                  <a:off x="1892880" y="1916280"/>
                  <a:ext cx="156960" cy="15696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631080" y="1995120"/>
                <a:ext cx="2995200" cy="2994120"/>
                <a:chOff x="631080" y="1995120"/>
                <a:chExt cx="2995200" cy="299412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2759400" y="1995120"/>
                  <a:ext cx="157680" cy="149688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2917080" y="3492000"/>
                  <a:ext cx="157320" cy="39384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074760" y="3886200"/>
                  <a:ext cx="0" cy="15768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074760" y="4043880"/>
                  <a:ext cx="551520" cy="86652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flipH="1">
                  <a:off x="2522880" y="3886200"/>
                  <a:ext cx="551520" cy="47268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flipH="1">
                  <a:off x="2049480" y="4358880"/>
                  <a:ext cx="472680" cy="31500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flipH="1">
                  <a:off x="1497960" y="4674240"/>
                  <a:ext cx="551160" cy="7884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flipH="1">
                  <a:off x="1103760" y="4753080"/>
                  <a:ext cx="394200" cy="7848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flipH="1">
                  <a:off x="631080" y="4831560"/>
                  <a:ext cx="472680" cy="15768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2996280" y="3807360"/>
                <a:ext cx="157320" cy="156960"/>
                <a:chOff x="2996280" y="3807360"/>
                <a:chExt cx="157320" cy="15696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2996280" y="3807360"/>
                  <a:ext cx="157320" cy="15696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flipV="1">
                  <a:off x="2996280" y="3807360"/>
                  <a:ext cx="157320" cy="15696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2996280" y="3964680"/>
                <a:ext cx="157320" cy="157680"/>
                <a:chOff x="2996280" y="3964680"/>
                <a:chExt cx="157320" cy="15768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2996280" y="3965040"/>
                  <a:ext cx="157320" cy="1573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flipV="1">
                  <a:off x="2996280" y="3964680"/>
                  <a:ext cx="157320" cy="1573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2444760" y="4280400"/>
                <a:ext cx="156960" cy="156960"/>
                <a:chOff x="2444760" y="4280400"/>
                <a:chExt cx="156960" cy="15696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2444760" y="4280400"/>
                  <a:ext cx="156960" cy="15696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flipV="1">
                  <a:off x="2444760" y="4280400"/>
                  <a:ext cx="156960" cy="15696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1971720" y="4595760"/>
                <a:ext cx="156960" cy="156960"/>
                <a:chOff x="1971720" y="4595760"/>
                <a:chExt cx="156960" cy="15696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1971720" y="4595760"/>
                  <a:ext cx="156960" cy="15696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flipV="1">
                  <a:off x="1971720" y="4595760"/>
                  <a:ext cx="156960" cy="15696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1026000" y="4753080"/>
                <a:ext cx="156960" cy="156960"/>
                <a:chOff x="1026000" y="4753080"/>
                <a:chExt cx="156960" cy="15696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1026000" y="4753080"/>
                  <a:ext cx="156960" cy="15696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flipV="1">
                  <a:off x="1026000" y="4753080"/>
                  <a:ext cx="156960" cy="15696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552960" y="4910400"/>
                <a:ext cx="156960" cy="157680"/>
                <a:chOff x="552960" y="4910400"/>
                <a:chExt cx="156960" cy="15768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552960" y="4910760"/>
                  <a:ext cx="156960" cy="1573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flipV="1">
                  <a:off x="552960" y="4910400"/>
                  <a:ext cx="156960" cy="1573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2838600" y="3413520"/>
                <a:ext cx="156960" cy="156960"/>
                <a:chOff x="2838600" y="3413520"/>
                <a:chExt cx="156960" cy="15696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2838600" y="3413520"/>
                  <a:ext cx="156960" cy="15696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 flipV="1">
                  <a:off x="2838600" y="3413520"/>
                  <a:ext cx="156960" cy="15696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2681280" y="1916280"/>
                <a:ext cx="156960" cy="156960"/>
                <a:chOff x="2681280" y="1916280"/>
                <a:chExt cx="156960" cy="15696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2681280" y="1916280"/>
                  <a:ext cx="156960" cy="15696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flipV="1">
                  <a:off x="2681280" y="1916280"/>
                  <a:ext cx="156960" cy="15696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aphicFrame>
          <p:nvGraphicFramePr>
            <p:cNvPr id="462" name=""/>
            <p:cNvGraphicFramePr/>
            <p:nvPr/>
          </p:nvGraphicFramePr>
          <p:xfrm>
            <a:off x="4180320" y="3256200"/>
            <a:ext cx="4199040" cy="138564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4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80320" y="3256200"/>
                      <a:ext cx="4199040" cy="138564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6F82-312A-4600-8C43-81554619CDF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Topológiai adatmodel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473760" y="1557360"/>
            <a:ext cx="7743960" cy="4451040"/>
            <a:chOff x="473760" y="1557360"/>
            <a:chExt cx="7743960" cy="4451040"/>
          </a:xfrm>
        </p:grpSpPr>
        <p:grpSp>
          <p:nvGrpSpPr>
            <p:cNvPr id="466" name=""/>
            <p:cNvGrpSpPr/>
            <p:nvPr/>
          </p:nvGrpSpPr>
          <p:grpSpPr>
            <a:xfrm>
              <a:off x="570240" y="2590920"/>
              <a:ext cx="4866120" cy="2997000"/>
              <a:chOff x="570240" y="2590920"/>
              <a:chExt cx="4866120" cy="2997000"/>
            </a:xfrm>
          </p:grpSpPr>
          <p:sp>
            <p:nvSpPr>
              <p:cNvPr id="467" name=""/>
              <p:cNvSpPr/>
              <p:nvPr/>
            </p:nvSpPr>
            <p:spPr>
              <a:xfrm>
                <a:off x="570240" y="3241800"/>
                <a:ext cx="244440" cy="28368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34920" bIns="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8" name=""/>
              <p:cNvGrpSpPr/>
              <p:nvPr/>
            </p:nvGrpSpPr>
            <p:grpSpPr>
              <a:xfrm>
                <a:off x="618480" y="2590920"/>
                <a:ext cx="4817880" cy="2997000"/>
                <a:chOff x="618480" y="2590920"/>
                <a:chExt cx="4817880" cy="2997000"/>
              </a:xfrm>
            </p:grpSpPr>
            <p:grpSp>
              <p:nvGrpSpPr>
                <p:cNvPr id="469" name=""/>
                <p:cNvGrpSpPr/>
                <p:nvPr/>
              </p:nvGrpSpPr>
              <p:grpSpPr>
                <a:xfrm>
                  <a:off x="618480" y="2590920"/>
                  <a:ext cx="4817880" cy="2997000"/>
                  <a:chOff x="618480" y="2590920"/>
                  <a:chExt cx="4817880" cy="2997000"/>
                </a:xfrm>
              </p:grpSpPr>
              <p:sp>
                <p:nvSpPr>
                  <p:cNvPr id="470" name=""/>
                  <p:cNvSpPr/>
                  <p:nvPr/>
                </p:nvSpPr>
                <p:spPr>
                  <a:xfrm>
                    <a:off x="1178640" y="4414680"/>
                    <a:ext cx="244440" cy="283680"/>
                  </a:xfrm>
                  <a:prstGeom prst="rect">
                    <a:avLst/>
                  </a:prstGeom>
                  <a:noFill/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9840" rIns="69840" tIns="34920" bIns="34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MS Mincho"/>
                      </a:rPr>
                      <a:t>2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1582920" y="3373200"/>
                    <a:ext cx="244440" cy="283680"/>
                  </a:xfrm>
                  <a:prstGeom prst="rect">
                    <a:avLst/>
                  </a:prstGeom>
                  <a:noFill/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9840" rIns="69840" tIns="34920" bIns="34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MS Mincho"/>
                      </a:rPr>
                      <a:t>3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1887480" y="2720880"/>
                    <a:ext cx="244440" cy="283680"/>
                  </a:xfrm>
                  <a:prstGeom prst="rect">
                    <a:avLst/>
                  </a:prstGeom>
                  <a:noFill/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9840" rIns="69840" tIns="34920" bIns="34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MS Mincho"/>
                      </a:rPr>
                      <a:t>4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2393640" y="3633480"/>
                    <a:ext cx="245880" cy="283680"/>
                  </a:xfrm>
                  <a:prstGeom prst="rect">
                    <a:avLst/>
                  </a:prstGeom>
                  <a:noFill/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9840" rIns="69840" tIns="34920" bIns="34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MS Mincho"/>
                      </a:rPr>
                      <a:t>5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3408480" y="2590920"/>
                    <a:ext cx="244440" cy="283680"/>
                  </a:xfrm>
                  <a:prstGeom prst="rect">
                    <a:avLst/>
                  </a:prstGeom>
                  <a:noFill/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9840" rIns="69840" tIns="34920" bIns="34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MS Mincho"/>
                      </a:rPr>
                      <a:t>6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3915360" y="3241800"/>
                    <a:ext cx="244080" cy="283680"/>
                  </a:xfrm>
                  <a:prstGeom prst="rect">
                    <a:avLst/>
                  </a:prstGeom>
                  <a:noFill/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9840" rIns="69840" tIns="34920" bIns="34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MS Mincho"/>
                      </a:rPr>
                      <a:t>7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3002400" y="3890880"/>
                    <a:ext cx="245880" cy="283680"/>
                  </a:xfrm>
                  <a:prstGeom prst="rect">
                    <a:avLst/>
                  </a:prstGeom>
                  <a:noFill/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9840" rIns="69840" tIns="34920" bIns="34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MS Mincho"/>
                      </a:rPr>
                      <a:t>8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4219560" y="4284360"/>
                    <a:ext cx="244440" cy="283680"/>
                  </a:xfrm>
                  <a:prstGeom prst="rect">
                    <a:avLst/>
                  </a:prstGeom>
                  <a:noFill/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9840" rIns="69840" tIns="34920" bIns="34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MS Mincho"/>
                      </a:rPr>
                      <a:t>9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3104280" y="5197680"/>
                    <a:ext cx="709920" cy="283680"/>
                  </a:xfrm>
                  <a:prstGeom prst="rect">
                    <a:avLst/>
                  </a:prstGeom>
                  <a:noFill/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9840" rIns="69840" tIns="34920" bIns="34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MS Mincho"/>
                      </a:rPr>
                      <a:t>1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4726080" y="4024080"/>
                    <a:ext cx="710280" cy="283680"/>
                  </a:xfrm>
                  <a:prstGeom prst="rect">
                    <a:avLst/>
                  </a:prstGeom>
                  <a:noFill/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9840" rIns="69840" tIns="34920" bIns="34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MS Mincho"/>
                      </a:rPr>
                      <a:t>11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 flipV="1">
                    <a:off x="618480" y="2987280"/>
                    <a:ext cx="527040" cy="105408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1278720" y="2981160"/>
                    <a:ext cx="1297080" cy="1566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flipV="1">
                    <a:off x="693720" y="3213000"/>
                    <a:ext cx="1882080" cy="97884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618480" y="4267440"/>
                    <a:ext cx="1370520" cy="40752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flipH="1">
                    <a:off x="2089440" y="3213360"/>
                    <a:ext cx="561240" cy="133164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flipV="1">
                    <a:off x="2726280" y="2630880"/>
                    <a:ext cx="1806480" cy="50652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flipV="1">
                    <a:off x="2124360" y="4023720"/>
                    <a:ext cx="1690200" cy="61956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flipV="1">
                    <a:off x="3930840" y="2685960"/>
                    <a:ext cx="677520" cy="1204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4683600" y="2686320"/>
                    <a:ext cx="42120" cy="277128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3930840" y="4041720"/>
                    <a:ext cx="709920" cy="137844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2048760" y="4719240"/>
                    <a:ext cx="2475000" cy="86868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1" name=""/>
                <p:cNvSpPr/>
                <p:nvPr/>
              </p:nvSpPr>
              <p:spPr>
                <a:xfrm>
                  <a:off x="1258560" y="3177360"/>
                  <a:ext cx="307080" cy="374760"/>
                </a:xfrm>
                <a:prstGeom prst="rect">
                  <a:avLst/>
                </a:prstGeom>
                <a:noFill/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9840" rIns="69840" tIns="34920" bIns="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  <a:ea typeface="MS Mincho"/>
                    </a:rPr>
                    <a:t>1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684800" y="3763800"/>
                  <a:ext cx="396720" cy="374760"/>
                </a:xfrm>
                <a:prstGeom prst="rect">
                  <a:avLst/>
                </a:prstGeom>
                <a:noFill/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9840" rIns="69840" tIns="34920" bIns="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  <a:ea typeface="MS Mincho"/>
                    </a:rPr>
                    <a:t>2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3104280" y="3241800"/>
                  <a:ext cx="307080" cy="374760"/>
                </a:xfrm>
                <a:prstGeom prst="rect">
                  <a:avLst/>
                </a:prstGeom>
                <a:noFill/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9840" rIns="69840" tIns="34920" bIns="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  <a:ea typeface="MS Mincho"/>
                    </a:rPr>
                    <a:t>3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3408480" y="4414680"/>
                  <a:ext cx="307440" cy="374760"/>
                </a:xfrm>
                <a:prstGeom prst="rect">
                  <a:avLst/>
                </a:prstGeom>
                <a:noFill/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9840" rIns="69840" tIns="34920" bIns="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  <a:ea typeface="MS Mincho"/>
                    </a:rPr>
                    <a:t>4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4219560" y="3763800"/>
                  <a:ext cx="307080" cy="374760"/>
                </a:xfrm>
                <a:prstGeom prst="rect">
                  <a:avLst/>
                </a:prstGeom>
                <a:noFill/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9840" rIns="69840" tIns="34920" bIns="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  <a:ea typeface="MS Mincho"/>
                    </a:rPr>
                    <a:t>5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6" name=""/>
            <p:cNvSpPr/>
            <p:nvPr/>
          </p:nvSpPr>
          <p:spPr>
            <a:xfrm>
              <a:off x="1060920" y="2784600"/>
              <a:ext cx="198360" cy="20736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500920" y="2981520"/>
              <a:ext cx="198360" cy="20736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73760" y="4024440"/>
              <a:ext cx="198360" cy="20736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904040" y="4492800"/>
              <a:ext cx="198360" cy="20736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529520" y="2460600"/>
              <a:ext cx="198360" cy="20736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786840" y="3816720"/>
              <a:ext cx="198360" cy="20736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529520" y="5457960"/>
              <a:ext cx="198360" cy="20736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143760" y="4343760"/>
              <a:ext cx="1467720" cy="222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Csomópontok koordinátá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04" name=""/>
            <p:cNvGraphicFramePr/>
            <p:nvPr/>
          </p:nvGraphicFramePr>
          <p:xfrm>
            <a:off x="5888880" y="4719240"/>
            <a:ext cx="1986120" cy="12891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5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88880" y="4719240"/>
                      <a:ext cx="1986120" cy="128916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06" name=""/>
            <p:cNvSpPr/>
            <p:nvPr/>
          </p:nvSpPr>
          <p:spPr>
            <a:xfrm>
              <a:off x="2039400" y="1946160"/>
              <a:ext cx="1211760" cy="222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Kódolt hálózattérké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889600" y="1557360"/>
              <a:ext cx="1931400" cy="222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Topológiai kódolá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08" name=""/>
            <p:cNvGraphicFramePr/>
            <p:nvPr/>
          </p:nvGraphicFramePr>
          <p:xfrm>
            <a:off x="5888880" y="1933560"/>
            <a:ext cx="2033280" cy="2089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50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88880" y="1933560"/>
                      <a:ext cx="2033280" cy="208980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cxnSp>
          <p:nvCxnSpPr>
            <p:cNvPr id="510" name=""/>
            <p:cNvCxnSpPr/>
            <p:nvPr/>
          </p:nvCxnSpPr>
          <p:spPr>
            <a:xfrm flipH="1">
              <a:off x="5888520" y="2977920"/>
              <a:ext cx="2034000" cy="2387160"/>
            </a:xfrm>
            <a:prstGeom prst="bentConnector5">
              <a:avLst>
                <a:gd name="adj1" fmla="val -14533"/>
                <a:gd name="adj2" fmla="val 58355"/>
                <a:gd name="adj3" fmla="val 114533"/>
              </a:avLst>
            </a:prstGeom>
            <a:ln cap="sq"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33C3-2184-4055-8536-AAD628FB6A9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aszteres-teszellációs modellek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611280" y="2421000"/>
            <a:ext cx="7919640" cy="1503000"/>
            <a:chOff x="611280" y="2421000"/>
            <a:chExt cx="7919640" cy="1503000"/>
          </a:xfrm>
        </p:grpSpPr>
        <p:grpSp>
          <p:nvGrpSpPr>
            <p:cNvPr id="513" name=""/>
            <p:cNvGrpSpPr/>
            <p:nvPr/>
          </p:nvGrpSpPr>
          <p:grpSpPr>
            <a:xfrm>
              <a:off x="611280" y="2579040"/>
              <a:ext cx="1583280" cy="1186560"/>
              <a:chOff x="611280" y="2579040"/>
              <a:chExt cx="1583280" cy="1186560"/>
            </a:xfrm>
          </p:grpSpPr>
          <p:sp>
            <p:nvSpPr>
              <p:cNvPr id="514" name=""/>
              <p:cNvSpPr/>
              <p:nvPr/>
            </p:nvSpPr>
            <p:spPr>
              <a:xfrm>
                <a:off x="611280" y="2579040"/>
                <a:ext cx="396000" cy="39528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007280" y="2579040"/>
                <a:ext cx="395640" cy="39528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402920" y="2579040"/>
                <a:ext cx="395640" cy="39528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798560" y="2579040"/>
                <a:ext cx="396000" cy="39528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11280" y="2974320"/>
                <a:ext cx="396000" cy="3956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007280" y="2974320"/>
                <a:ext cx="395640" cy="3956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402920" y="2974320"/>
                <a:ext cx="395640" cy="3956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798560" y="2974320"/>
                <a:ext cx="396000" cy="3956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11280" y="3370320"/>
                <a:ext cx="396000" cy="39528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007280" y="3370320"/>
                <a:ext cx="395640" cy="39528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402920" y="3370320"/>
                <a:ext cx="395640" cy="39528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798560" y="3370320"/>
                <a:ext cx="396000" cy="39528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3145320" y="2499840"/>
              <a:ext cx="2137320" cy="1422720"/>
              <a:chOff x="3145320" y="2499840"/>
              <a:chExt cx="2137320" cy="1422720"/>
            </a:xfrm>
          </p:grpSpPr>
          <p:grpSp>
            <p:nvGrpSpPr>
              <p:cNvPr id="527" name=""/>
              <p:cNvGrpSpPr/>
              <p:nvPr/>
            </p:nvGrpSpPr>
            <p:grpSpPr>
              <a:xfrm>
                <a:off x="4332960" y="2974320"/>
                <a:ext cx="949680" cy="711000"/>
                <a:chOff x="4332960" y="2974320"/>
                <a:chExt cx="949680" cy="71100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4332960" y="2974320"/>
                  <a:ext cx="553680" cy="474120"/>
                </a:xfrm>
                <a:prstGeom prst="hexagon">
                  <a:avLst>
                    <a:gd name="adj" fmla="val 29195"/>
                    <a:gd name="vf" fmla="val 115470"/>
                  </a:avLst>
                </a:prstGeom>
                <a:noFill/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4728600" y="3211200"/>
                  <a:ext cx="554040" cy="474120"/>
                </a:xfrm>
                <a:prstGeom prst="hexagon">
                  <a:avLst>
                    <a:gd name="adj" fmla="val 29214"/>
                    <a:gd name="vf" fmla="val 115470"/>
                  </a:avLst>
                </a:prstGeom>
                <a:noFill/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4332960" y="2499840"/>
                <a:ext cx="949680" cy="711000"/>
                <a:chOff x="4332960" y="2499840"/>
                <a:chExt cx="949680" cy="71100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4332960" y="2499840"/>
                  <a:ext cx="553680" cy="474120"/>
                </a:xfrm>
                <a:prstGeom prst="hexagon">
                  <a:avLst>
                    <a:gd name="adj" fmla="val 29195"/>
                    <a:gd name="vf" fmla="val 115470"/>
                  </a:avLst>
                </a:prstGeom>
                <a:noFill/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4728600" y="2736720"/>
                  <a:ext cx="554040" cy="474120"/>
                </a:xfrm>
                <a:prstGeom prst="hexagon">
                  <a:avLst>
                    <a:gd name="adj" fmla="val 29214"/>
                    <a:gd name="vf" fmla="val 115470"/>
                  </a:avLst>
                </a:prstGeom>
                <a:noFill/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3936960" y="3211560"/>
                <a:ext cx="949680" cy="711000"/>
                <a:chOff x="3936960" y="3211560"/>
                <a:chExt cx="949680" cy="71100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3936960" y="3211560"/>
                  <a:ext cx="553680" cy="474120"/>
                </a:xfrm>
                <a:prstGeom prst="hexagon">
                  <a:avLst>
                    <a:gd name="adj" fmla="val 29195"/>
                    <a:gd name="vf" fmla="val 115470"/>
                  </a:avLst>
                </a:prstGeom>
                <a:noFill/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332600" y="3448440"/>
                  <a:ext cx="554040" cy="474120"/>
                </a:xfrm>
                <a:prstGeom prst="hexagon">
                  <a:avLst>
                    <a:gd name="adj" fmla="val 29214"/>
                    <a:gd name="vf" fmla="val 115470"/>
                  </a:avLst>
                </a:prstGeom>
                <a:noFill/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3540960" y="2499840"/>
                <a:ext cx="949680" cy="711000"/>
                <a:chOff x="3540960" y="2499840"/>
                <a:chExt cx="949680" cy="71100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3540960" y="2499840"/>
                  <a:ext cx="553680" cy="474120"/>
                </a:xfrm>
                <a:prstGeom prst="hexagon">
                  <a:avLst>
                    <a:gd name="adj" fmla="val 29195"/>
                    <a:gd name="vf" fmla="val 115470"/>
                  </a:avLst>
                </a:prstGeom>
                <a:noFill/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3936600" y="2736720"/>
                  <a:ext cx="554040" cy="474120"/>
                </a:xfrm>
                <a:prstGeom prst="hexagon">
                  <a:avLst>
                    <a:gd name="adj" fmla="val 29214"/>
                    <a:gd name="vf" fmla="val 115470"/>
                  </a:avLst>
                </a:prstGeom>
                <a:noFill/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3145320" y="2737080"/>
                <a:ext cx="949680" cy="711000"/>
                <a:chOff x="3145320" y="2737080"/>
                <a:chExt cx="949680" cy="71100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3145320" y="2737080"/>
                  <a:ext cx="553680" cy="474120"/>
                </a:xfrm>
                <a:prstGeom prst="hexagon">
                  <a:avLst>
                    <a:gd name="adj" fmla="val 29195"/>
                    <a:gd name="vf" fmla="val 115470"/>
                  </a:avLst>
                </a:prstGeom>
                <a:noFill/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3540960" y="2973960"/>
                  <a:ext cx="554040" cy="474120"/>
                </a:xfrm>
                <a:prstGeom prst="hexagon">
                  <a:avLst>
                    <a:gd name="adj" fmla="val 29214"/>
                    <a:gd name="vf" fmla="val 115470"/>
                  </a:avLst>
                </a:prstGeom>
                <a:noFill/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3145320" y="3211560"/>
                <a:ext cx="949680" cy="711000"/>
                <a:chOff x="3145320" y="3211560"/>
                <a:chExt cx="949680" cy="71100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3145320" y="3211560"/>
                  <a:ext cx="553680" cy="474120"/>
                </a:xfrm>
                <a:prstGeom prst="hexagon">
                  <a:avLst>
                    <a:gd name="adj" fmla="val 29195"/>
                    <a:gd name="vf" fmla="val 115470"/>
                  </a:avLst>
                </a:prstGeom>
                <a:noFill/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3540960" y="3448440"/>
                  <a:ext cx="554040" cy="474120"/>
                </a:xfrm>
                <a:prstGeom prst="hexagon">
                  <a:avLst>
                    <a:gd name="adj" fmla="val 29214"/>
                    <a:gd name="vf" fmla="val 115470"/>
                  </a:avLst>
                </a:prstGeom>
                <a:noFill/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5" name=""/>
            <p:cNvGrpSpPr/>
            <p:nvPr/>
          </p:nvGrpSpPr>
          <p:grpSpPr>
            <a:xfrm>
              <a:off x="5996520" y="2421000"/>
              <a:ext cx="2534400" cy="1503000"/>
              <a:chOff x="5996520" y="2421000"/>
              <a:chExt cx="2534400" cy="1503000"/>
            </a:xfrm>
          </p:grpSpPr>
          <p:sp>
            <p:nvSpPr>
              <p:cNvPr id="546" name=""/>
              <p:cNvSpPr/>
              <p:nvPr/>
            </p:nvSpPr>
            <p:spPr>
              <a:xfrm>
                <a:off x="6503040" y="2968200"/>
                <a:ext cx="72360" cy="67320"/>
              </a:xfrm>
              <a:prstGeom prst="ellipse">
                <a:avLst/>
              </a:prstGeom>
              <a:solidFill>
                <a:srgbClr val="ff33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12960" bIns="12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105320" y="2658240"/>
                <a:ext cx="72360" cy="67320"/>
              </a:xfrm>
              <a:prstGeom prst="ellipse">
                <a:avLst/>
              </a:prstGeom>
              <a:solidFill>
                <a:srgbClr val="ff33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12960" bIns="12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738920" y="2658240"/>
                <a:ext cx="72360" cy="69480"/>
              </a:xfrm>
              <a:prstGeom prst="ellipse">
                <a:avLst/>
              </a:prstGeom>
              <a:solidFill>
                <a:srgbClr val="ff33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422480" y="3607560"/>
                <a:ext cx="72360" cy="67320"/>
              </a:xfrm>
              <a:prstGeom prst="ellipse">
                <a:avLst/>
              </a:prstGeom>
              <a:solidFill>
                <a:srgbClr val="ff33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12960" bIns="12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445160" y="3172320"/>
                <a:ext cx="72360" cy="67320"/>
              </a:xfrm>
              <a:prstGeom prst="ellipse">
                <a:avLst/>
              </a:prstGeom>
              <a:solidFill>
                <a:srgbClr val="ff33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12960" bIns="12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055720" y="3528720"/>
                <a:ext cx="72360" cy="69120"/>
              </a:xfrm>
              <a:prstGeom prst="ellipse">
                <a:avLst/>
              </a:prstGeom>
              <a:solidFill>
                <a:srgbClr val="ff33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135280" y="3053880"/>
                <a:ext cx="70560" cy="69120"/>
              </a:xfrm>
              <a:prstGeom prst="ellipse">
                <a:avLst/>
              </a:prstGeom>
              <a:solidFill>
                <a:srgbClr val="ff33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867720" y="3528720"/>
                <a:ext cx="72360" cy="66960"/>
              </a:xfrm>
              <a:prstGeom prst="ellipse">
                <a:avLst/>
              </a:prstGeom>
              <a:solidFill>
                <a:srgbClr val="ff33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>
                <a:off x="7009560" y="2831400"/>
                <a:ext cx="435240" cy="2736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445160" y="2831400"/>
                <a:ext cx="361440" cy="2041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806600" y="3035520"/>
                <a:ext cx="145080" cy="2736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V="1">
                <a:off x="7806600" y="3309120"/>
                <a:ext cx="145080" cy="136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227360" y="3446280"/>
                <a:ext cx="57924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009560" y="3172320"/>
                <a:ext cx="217440" cy="2736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009560" y="3105000"/>
                <a:ext cx="0" cy="673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V="1">
                <a:off x="7445160" y="2421000"/>
                <a:ext cx="72360" cy="410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V="1">
                <a:off x="7806600" y="2694240"/>
                <a:ext cx="362880" cy="3409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951680" y="3309120"/>
                <a:ext cx="579240" cy="673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806600" y="3446280"/>
                <a:ext cx="0" cy="410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7081920" y="3446280"/>
                <a:ext cx="145080" cy="477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6502680" y="3172320"/>
                <a:ext cx="506520" cy="3409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 flipV="1">
                <a:off x="6575040" y="2557800"/>
                <a:ext cx="433800" cy="5472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V="1">
                <a:off x="6575400" y="2421000"/>
                <a:ext cx="942120" cy="136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17880" y="2421000"/>
                <a:ext cx="651600" cy="2736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169480" y="2694600"/>
                <a:ext cx="361440" cy="6822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503040" y="3513600"/>
                <a:ext cx="579240" cy="410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V="1">
                <a:off x="7082280" y="3856320"/>
                <a:ext cx="724320" cy="673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806600" y="3856680"/>
                <a:ext cx="57924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V="1">
                <a:off x="8385840" y="3376800"/>
                <a:ext cx="145080" cy="4795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5996520" y="2557800"/>
                <a:ext cx="578520" cy="2736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996880" y="2831400"/>
                <a:ext cx="506160" cy="6822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C6AB-3F43-4852-8019-57F5DD22D69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Térképábrázolá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395280" y="1557360"/>
            <a:ext cx="8208360" cy="4320000"/>
            <a:chOff x="395280" y="1557360"/>
            <a:chExt cx="8208360" cy="4320000"/>
          </a:xfrm>
        </p:grpSpPr>
        <p:grpSp>
          <p:nvGrpSpPr>
            <p:cNvPr id="579" name=""/>
            <p:cNvGrpSpPr/>
            <p:nvPr/>
          </p:nvGrpSpPr>
          <p:grpSpPr>
            <a:xfrm>
              <a:off x="395280" y="2594160"/>
              <a:ext cx="3627720" cy="3282840"/>
              <a:chOff x="395280" y="2594160"/>
              <a:chExt cx="3627720" cy="3282840"/>
            </a:xfrm>
          </p:grpSpPr>
          <p:sp>
            <p:nvSpPr>
              <p:cNvPr id="580" name=""/>
              <p:cNvSpPr/>
              <p:nvPr/>
            </p:nvSpPr>
            <p:spPr>
              <a:xfrm>
                <a:off x="1950480" y="259416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1" name=""/>
              <p:cNvGrpSpPr/>
              <p:nvPr/>
            </p:nvGrpSpPr>
            <p:grpSpPr>
              <a:xfrm>
                <a:off x="395280" y="2594160"/>
                <a:ext cx="3627720" cy="3282840"/>
                <a:chOff x="395280" y="2594160"/>
                <a:chExt cx="3627720" cy="328284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1950120" y="3688560"/>
                  <a:ext cx="258840" cy="273240"/>
                </a:xfrm>
                <a:prstGeom prst="rect">
                  <a:avLst/>
                </a:prstGeom>
                <a:noFill/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1950120" y="4236120"/>
                  <a:ext cx="258840" cy="273240"/>
                </a:xfrm>
                <a:prstGeom prst="rect">
                  <a:avLst/>
                </a:prstGeom>
                <a:noFill/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1950120" y="4509360"/>
                  <a:ext cx="258840" cy="273240"/>
                </a:xfrm>
                <a:prstGeom prst="rect">
                  <a:avLst/>
                </a:prstGeom>
                <a:noFill/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1950120" y="5056920"/>
                  <a:ext cx="258840" cy="273240"/>
                </a:xfrm>
                <a:prstGeom prst="rect">
                  <a:avLst/>
                </a:prstGeom>
                <a:noFill/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1950120" y="2867400"/>
                  <a:ext cx="258840" cy="273600"/>
                </a:xfrm>
                <a:prstGeom prst="rect">
                  <a:avLst/>
                </a:prstGeom>
                <a:noFill/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1950120" y="3141360"/>
                  <a:ext cx="258840" cy="273240"/>
                </a:xfrm>
                <a:prstGeom prst="rect">
                  <a:avLst/>
                </a:prstGeom>
                <a:noFill/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1950120" y="3414960"/>
                  <a:ext cx="258840" cy="273240"/>
                </a:xfrm>
                <a:prstGeom prst="rect">
                  <a:avLst/>
                </a:prstGeom>
                <a:noFill/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9" name=""/>
                <p:cNvGrpSpPr/>
                <p:nvPr/>
              </p:nvGrpSpPr>
              <p:grpSpPr>
                <a:xfrm>
                  <a:off x="395280" y="2594160"/>
                  <a:ext cx="3627720" cy="3282840"/>
                  <a:chOff x="395280" y="2594160"/>
                  <a:chExt cx="3627720" cy="3282840"/>
                </a:xfrm>
              </p:grpSpPr>
              <p:sp>
                <p:nvSpPr>
                  <p:cNvPr id="590" name=""/>
                  <p:cNvSpPr/>
                  <p:nvPr/>
                </p:nvSpPr>
                <p:spPr>
                  <a:xfrm>
                    <a:off x="1950120" y="5603760"/>
                    <a:ext cx="258840" cy="273240"/>
                  </a:xfrm>
                  <a:prstGeom prst="rect">
                    <a:avLst/>
                  </a:prstGeom>
                  <a:noFill/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91" name=""/>
                  <p:cNvGrpSpPr/>
                  <p:nvPr/>
                </p:nvGrpSpPr>
                <p:grpSpPr>
                  <a:xfrm>
                    <a:off x="395280" y="2594160"/>
                    <a:ext cx="258840" cy="3282480"/>
                    <a:chOff x="395280" y="2594160"/>
                    <a:chExt cx="258840" cy="3282480"/>
                  </a:xfrm>
                </p:grpSpPr>
                <p:sp>
                  <p:nvSpPr>
                    <p:cNvPr id="592" name=""/>
                    <p:cNvSpPr/>
                    <p:nvPr/>
                  </p:nvSpPr>
                  <p:spPr>
                    <a:xfrm>
                      <a:off x="395280" y="36882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3" name=""/>
                    <p:cNvSpPr/>
                    <p:nvPr/>
                  </p:nvSpPr>
                  <p:spPr>
                    <a:xfrm>
                      <a:off x="395280" y="39618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4" name=""/>
                    <p:cNvSpPr/>
                    <p:nvPr/>
                  </p:nvSpPr>
                  <p:spPr>
                    <a:xfrm>
                      <a:off x="395280" y="42354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5" name=""/>
                    <p:cNvSpPr/>
                    <p:nvPr/>
                  </p:nvSpPr>
                  <p:spPr>
                    <a:xfrm>
                      <a:off x="395280" y="45086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6" name=""/>
                    <p:cNvSpPr/>
                    <p:nvPr/>
                  </p:nvSpPr>
                  <p:spPr>
                    <a:xfrm>
                      <a:off x="395280" y="47826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7" name=""/>
                    <p:cNvSpPr/>
                    <p:nvPr/>
                  </p:nvSpPr>
                  <p:spPr>
                    <a:xfrm>
                      <a:off x="395280" y="50562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8" name=""/>
                    <p:cNvSpPr/>
                    <p:nvPr/>
                  </p:nvSpPr>
                  <p:spPr>
                    <a:xfrm>
                      <a:off x="395280" y="53294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9" name=""/>
                    <p:cNvSpPr/>
                    <p:nvPr/>
                  </p:nvSpPr>
                  <p:spPr>
                    <a:xfrm>
                      <a:off x="395280" y="56030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0" name=""/>
                    <p:cNvSpPr/>
                    <p:nvPr/>
                  </p:nvSpPr>
                  <p:spPr>
                    <a:xfrm>
                      <a:off x="395280" y="259416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1" name=""/>
                    <p:cNvSpPr/>
                    <p:nvPr/>
                  </p:nvSpPr>
                  <p:spPr>
                    <a:xfrm>
                      <a:off x="395280" y="28674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2" name=""/>
                    <p:cNvSpPr/>
                    <p:nvPr/>
                  </p:nvSpPr>
                  <p:spPr>
                    <a:xfrm>
                      <a:off x="395280" y="31410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3" name=""/>
                    <p:cNvSpPr/>
                    <p:nvPr/>
                  </p:nvSpPr>
                  <p:spPr>
                    <a:xfrm>
                      <a:off x="395280" y="34146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04" name=""/>
                  <p:cNvGrpSpPr/>
                  <p:nvPr/>
                </p:nvGrpSpPr>
                <p:grpSpPr>
                  <a:xfrm>
                    <a:off x="654120" y="2594160"/>
                    <a:ext cx="258840" cy="3282480"/>
                    <a:chOff x="654120" y="2594160"/>
                    <a:chExt cx="258840" cy="3282480"/>
                  </a:xfrm>
                </p:grpSpPr>
                <p:sp>
                  <p:nvSpPr>
                    <p:cNvPr id="605" name=""/>
                    <p:cNvSpPr/>
                    <p:nvPr/>
                  </p:nvSpPr>
                  <p:spPr>
                    <a:xfrm>
                      <a:off x="654120" y="36882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6" name=""/>
                    <p:cNvSpPr/>
                    <p:nvPr/>
                  </p:nvSpPr>
                  <p:spPr>
                    <a:xfrm>
                      <a:off x="654120" y="39618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7" name=""/>
                    <p:cNvSpPr/>
                    <p:nvPr/>
                  </p:nvSpPr>
                  <p:spPr>
                    <a:xfrm>
                      <a:off x="654120" y="42354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8" name=""/>
                    <p:cNvSpPr/>
                    <p:nvPr/>
                  </p:nvSpPr>
                  <p:spPr>
                    <a:xfrm>
                      <a:off x="654120" y="45086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9" name=""/>
                    <p:cNvSpPr/>
                    <p:nvPr/>
                  </p:nvSpPr>
                  <p:spPr>
                    <a:xfrm>
                      <a:off x="654120" y="47826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0" name=""/>
                    <p:cNvSpPr/>
                    <p:nvPr/>
                  </p:nvSpPr>
                  <p:spPr>
                    <a:xfrm>
                      <a:off x="654120" y="50562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1" name=""/>
                    <p:cNvSpPr/>
                    <p:nvPr/>
                  </p:nvSpPr>
                  <p:spPr>
                    <a:xfrm>
                      <a:off x="654120" y="53294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2" name=""/>
                    <p:cNvSpPr/>
                    <p:nvPr/>
                  </p:nvSpPr>
                  <p:spPr>
                    <a:xfrm>
                      <a:off x="654120" y="56030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3" name=""/>
                    <p:cNvSpPr/>
                    <p:nvPr/>
                  </p:nvSpPr>
                  <p:spPr>
                    <a:xfrm>
                      <a:off x="654120" y="259416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4" name=""/>
                    <p:cNvSpPr/>
                    <p:nvPr/>
                  </p:nvSpPr>
                  <p:spPr>
                    <a:xfrm>
                      <a:off x="654120" y="28674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5" name=""/>
                    <p:cNvSpPr/>
                    <p:nvPr/>
                  </p:nvSpPr>
                  <p:spPr>
                    <a:xfrm>
                      <a:off x="654120" y="31410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6" name=""/>
                    <p:cNvSpPr/>
                    <p:nvPr/>
                  </p:nvSpPr>
                  <p:spPr>
                    <a:xfrm>
                      <a:off x="654120" y="34146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17" name=""/>
                  <p:cNvGrpSpPr/>
                  <p:nvPr/>
                </p:nvGrpSpPr>
                <p:grpSpPr>
                  <a:xfrm>
                    <a:off x="913320" y="2594160"/>
                    <a:ext cx="258840" cy="3282480"/>
                    <a:chOff x="913320" y="2594160"/>
                    <a:chExt cx="258840" cy="3282480"/>
                  </a:xfrm>
                </p:grpSpPr>
                <p:sp>
                  <p:nvSpPr>
                    <p:cNvPr id="618" name=""/>
                    <p:cNvSpPr/>
                    <p:nvPr/>
                  </p:nvSpPr>
                  <p:spPr>
                    <a:xfrm>
                      <a:off x="913320" y="36882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>
                      <a:off x="913320" y="39618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0" name=""/>
                    <p:cNvSpPr/>
                    <p:nvPr/>
                  </p:nvSpPr>
                  <p:spPr>
                    <a:xfrm>
                      <a:off x="913320" y="42354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1" name=""/>
                    <p:cNvSpPr/>
                    <p:nvPr/>
                  </p:nvSpPr>
                  <p:spPr>
                    <a:xfrm>
                      <a:off x="913320" y="45086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2" name=""/>
                    <p:cNvSpPr/>
                    <p:nvPr/>
                  </p:nvSpPr>
                  <p:spPr>
                    <a:xfrm>
                      <a:off x="913320" y="47826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3" name=""/>
                    <p:cNvSpPr/>
                    <p:nvPr/>
                  </p:nvSpPr>
                  <p:spPr>
                    <a:xfrm>
                      <a:off x="913320" y="50562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913320" y="53294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>
                      <a:off x="913320" y="56030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913320" y="259416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7" name=""/>
                    <p:cNvSpPr/>
                    <p:nvPr/>
                  </p:nvSpPr>
                  <p:spPr>
                    <a:xfrm>
                      <a:off x="913320" y="28674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>
                      <a:off x="913320" y="31410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9" name=""/>
                    <p:cNvSpPr/>
                    <p:nvPr/>
                  </p:nvSpPr>
                  <p:spPr>
                    <a:xfrm>
                      <a:off x="913320" y="34146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30" name=""/>
                  <p:cNvGrpSpPr/>
                  <p:nvPr/>
                </p:nvGrpSpPr>
                <p:grpSpPr>
                  <a:xfrm>
                    <a:off x="1172520" y="2594160"/>
                    <a:ext cx="258840" cy="3282480"/>
                    <a:chOff x="1172520" y="2594160"/>
                    <a:chExt cx="258840" cy="3282480"/>
                  </a:xfrm>
                </p:grpSpPr>
                <p:sp>
                  <p:nvSpPr>
                    <p:cNvPr id="631" name=""/>
                    <p:cNvSpPr/>
                    <p:nvPr/>
                  </p:nvSpPr>
                  <p:spPr>
                    <a:xfrm>
                      <a:off x="1172520" y="36882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2" name=""/>
                    <p:cNvSpPr/>
                    <p:nvPr/>
                  </p:nvSpPr>
                  <p:spPr>
                    <a:xfrm>
                      <a:off x="1172520" y="39618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3" name=""/>
                    <p:cNvSpPr/>
                    <p:nvPr/>
                  </p:nvSpPr>
                  <p:spPr>
                    <a:xfrm>
                      <a:off x="1172520" y="42354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4" name=""/>
                    <p:cNvSpPr/>
                    <p:nvPr/>
                  </p:nvSpPr>
                  <p:spPr>
                    <a:xfrm>
                      <a:off x="1172520" y="45086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5" name=""/>
                    <p:cNvSpPr/>
                    <p:nvPr/>
                  </p:nvSpPr>
                  <p:spPr>
                    <a:xfrm>
                      <a:off x="1172520" y="47826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6" name=""/>
                    <p:cNvSpPr/>
                    <p:nvPr/>
                  </p:nvSpPr>
                  <p:spPr>
                    <a:xfrm>
                      <a:off x="1172520" y="50562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7" name=""/>
                    <p:cNvSpPr/>
                    <p:nvPr/>
                  </p:nvSpPr>
                  <p:spPr>
                    <a:xfrm>
                      <a:off x="1172520" y="53294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8" name=""/>
                    <p:cNvSpPr/>
                    <p:nvPr/>
                  </p:nvSpPr>
                  <p:spPr>
                    <a:xfrm>
                      <a:off x="1172520" y="56030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9" name=""/>
                    <p:cNvSpPr/>
                    <p:nvPr/>
                  </p:nvSpPr>
                  <p:spPr>
                    <a:xfrm>
                      <a:off x="1172520" y="259416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0" name=""/>
                    <p:cNvSpPr/>
                    <p:nvPr/>
                  </p:nvSpPr>
                  <p:spPr>
                    <a:xfrm>
                      <a:off x="1172520" y="28674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1" name=""/>
                    <p:cNvSpPr/>
                    <p:nvPr/>
                  </p:nvSpPr>
                  <p:spPr>
                    <a:xfrm>
                      <a:off x="1172520" y="31410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2" name=""/>
                    <p:cNvSpPr/>
                    <p:nvPr/>
                  </p:nvSpPr>
                  <p:spPr>
                    <a:xfrm>
                      <a:off x="1172520" y="34146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43" name=""/>
                  <p:cNvGrpSpPr/>
                  <p:nvPr/>
                </p:nvGrpSpPr>
                <p:grpSpPr>
                  <a:xfrm>
                    <a:off x="1431720" y="2594160"/>
                    <a:ext cx="258840" cy="3282480"/>
                    <a:chOff x="1431720" y="2594160"/>
                    <a:chExt cx="258840" cy="3282480"/>
                  </a:xfrm>
                </p:grpSpPr>
                <p:sp>
                  <p:nvSpPr>
                    <p:cNvPr id="644" name=""/>
                    <p:cNvSpPr/>
                    <p:nvPr/>
                  </p:nvSpPr>
                  <p:spPr>
                    <a:xfrm>
                      <a:off x="1431720" y="36882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5" name=""/>
                    <p:cNvSpPr/>
                    <p:nvPr/>
                  </p:nvSpPr>
                  <p:spPr>
                    <a:xfrm>
                      <a:off x="1431720" y="39618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6" name=""/>
                    <p:cNvSpPr/>
                    <p:nvPr/>
                  </p:nvSpPr>
                  <p:spPr>
                    <a:xfrm>
                      <a:off x="1431720" y="42354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7" name=""/>
                    <p:cNvSpPr/>
                    <p:nvPr/>
                  </p:nvSpPr>
                  <p:spPr>
                    <a:xfrm>
                      <a:off x="1431720" y="45086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8" name=""/>
                    <p:cNvSpPr/>
                    <p:nvPr/>
                  </p:nvSpPr>
                  <p:spPr>
                    <a:xfrm>
                      <a:off x="1431720" y="47826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9" name=""/>
                    <p:cNvSpPr/>
                    <p:nvPr/>
                  </p:nvSpPr>
                  <p:spPr>
                    <a:xfrm>
                      <a:off x="1431720" y="50562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0" name=""/>
                    <p:cNvSpPr/>
                    <p:nvPr/>
                  </p:nvSpPr>
                  <p:spPr>
                    <a:xfrm>
                      <a:off x="1431720" y="53294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1" name=""/>
                    <p:cNvSpPr/>
                    <p:nvPr/>
                  </p:nvSpPr>
                  <p:spPr>
                    <a:xfrm>
                      <a:off x="1431720" y="56030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2" name=""/>
                    <p:cNvSpPr/>
                    <p:nvPr/>
                  </p:nvSpPr>
                  <p:spPr>
                    <a:xfrm>
                      <a:off x="1431720" y="259416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3" name=""/>
                    <p:cNvSpPr/>
                    <p:nvPr/>
                  </p:nvSpPr>
                  <p:spPr>
                    <a:xfrm>
                      <a:off x="1431720" y="28674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4" name=""/>
                    <p:cNvSpPr/>
                    <p:nvPr/>
                  </p:nvSpPr>
                  <p:spPr>
                    <a:xfrm>
                      <a:off x="1431720" y="31410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5" name=""/>
                    <p:cNvSpPr/>
                    <p:nvPr/>
                  </p:nvSpPr>
                  <p:spPr>
                    <a:xfrm>
                      <a:off x="1431720" y="34146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56" name=""/>
                  <p:cNvGrpSpPr/>
                  <p:nvPr/>
                </p:nvGrpSpPr>
                <p:grpSpPr>
                  <a:xfrm>
                    <a:off x="1690920" y="2594160"/>
                    <a:ext cx="258840" cy="3282480"/>
                    <a:chOff x="1690920" y="2594160"/>
                    <a:chExt cx="258840" cy="3282480"/>
                  </a:xfrm>
                </p:grpSpPr>
                <p:sp>
                  <p:nvSpPr>
                    <p:cNvPr id="657" name=""/>
                    <p:cNvSpPr/>
                    <p:nvPr/>
                  </p:nvSpPr>
                  <p:spPr>
                    <a:xfrm>
                      <a:off x="1690920" y="36882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8" name=""/>
                    <p:cNvSpPr/>
                    <p:nvPr/>
                  </p:nvSpPr>
                  <p:spPr>
                    <a:xfrm>
                      <a:off x="1690920" y="39618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9" name=""/>
                    <p:cNvSpPr/>
                    <p:nvPr/>
                  </p:nvSpPr>
                  <p:spPr>
                    <a:xfrm>
                      <a:off x="1690920" y="42354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>
                      <a:off x="1690920" y="45086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1" name=""/>
                    <p:cNvSpPr/>
                    <p:nvPr/>
                  </p:nvSpPr>
                  <p:spPr>
                    <a:xfrm>
                      <a:off x="1690920" y="47826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2" name=""/>
                    <p:cNvSpPr/>
                    <p:nvPr/>
                  </p:nvSpPr>
                  <p:spPr>
                    <a:xfrm>
                      <a:off x="1690920" y="50562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>
                      <a:off x="1690920" y="53294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4" name=""/>
                    <p:cNvSpPr/>
                    <p:nvPr/>
                  </p:nvSpPr>
                  <p:spPr>
                    <a:xfrm>
                      <a:off x="1690920" y="56030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5" name=""/>
                    <p:cNvSpPr/>
                    <p:nvPr/>
                  </p:nvSpPr>
                  <p:spPr>
                    <a:xfrm>
                      <a:off x="1690920" y="259416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>
                      <a:off x="1690920" y="28674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7" name=""/>
                    <p:cNvSpPr/>
                    <p:nvPr/>
                  </p:nvSpPr>
                  <p:spPr>
                    <a:xfrm>
                      <a:off x="1690920" y="31410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8" name=""/>
                    <p:cNvSpPr/>
                    <p:nvPr/>
                  </p:nvSpPr>
                  <p:spPr>
                    <a:xfrm>
                      <a:off x="1690920" y="34146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69" name=""/>
                  <p:cNvGrpSpPr/>
                  <p:nvPr/>
                </p:nvGrpSpPr>
                <p:grpSpPr>
                  <a:xfrm>
                    <a:off x="2209320" y="2594160"/>
                    <a:ext cx="258840" cy="3282480"/>
                    <a:chOff x="2209320" y="2594160"/>
                    <a:chExt cx="258840" cy="3282480"/>
                  </a:xfrm>
                </p:grpSpPr>
                <p:sp>
                  <p:nvSpPr>
                    <p:cNvPr id="670" name=""/>
                    <p:cNvSpPr/>
                    <p:nvPr/>
                  </p:nvSpPr>
                  <p:spPr>
                    <a:xfrm>
                      <a:off x="2209320" y="36882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1" name=""/>
                    <p:cNvSpPr/>
                    <p:nvPr/>
                  </p:nvSpPr>
                  <p:spPr>
                    <a:xfrm>
                      <a:off x="2209320" y="39618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>
                      <a:off x="2209320" y="42354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3" name=""/>
                    <p:cNvSpPr/>
                    <p:nvPr/>
                  </p:nvSpPr>
                  <p:spPr>
                    <a:xfrm>
                      <a:off x="2209320" y="45086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4" name=""/>
                    <p:cNvSpPr/>
                    <p:nvPr/>
                  </p:nvSpPr>
                  <p:spPr>
                    <a:xfrm>
                      <a:off x="2209320" y="47826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>
                      <a:off x="2209320" y="50562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6" name=""/>
                    <p:cNvSpPr/>
                    <p:nvPr/>
                  </p:nvSpPr>
                  <p:spPr>
                    <a:xfrm>
                      <a:off x="2209320" y="53294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7" name=""/>
                    <p:cNvSpPr/>
                    <p:nvPr/>
                  </p:nvSpPr>
                  <p:spPr>
                    <a:xfrm>
                      <a:off x="2209320" y="56030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>
                      <a:off x="2209320" y="259416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9" name=""/>
                    <p:cNvSpPr/>
                    <p:nvPr/>
                  </p:nvSpPr>
                  <p:spPr>
                    <a:xfrm>
                      <a:off x="2209320" y="28674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0" name=""/>
                    <p:cNvSpPr/>
                    <p:nvPr/>
                  </p:nvSpPr>
                  <p:spPr>
                    <a:xfrm>
                      <a:off x="2209320" y="31410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>
                      <a:off x="2209320" y="34146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82" name=""/>
                  <p:cNvGrpSpPr/>
                  <p:nvPr/>
                </p:nvGrpSpPr>
                <p:grpSpPr>
                  <a:xfrm>
                    <a:off x="2468520" y="2594160"/>
                    <a:ext cx="258840" cy="3282480"/>
                    <a:chOff x="2468520" y="2594160"/>
                    <a:chExt cx="258840" cy="3282480"/>
                  </a:xfrm>
                </p:grpSpPr>
                <p:sp>
                  <p:nvSpPr>
                    <p:cNvPr id="683" name=""/>
                    <p:cNvSpPr/>
                    <p:nvPr/>
                  </p:nvSpPr>
                  <p:spPr>
                    <a:xfrm>
                      <a:off x="2468520" y="36882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>
                      <a:off x="2468520" y="39618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5" name=""/>
                    <p:cNvSpPr/>
                    <p:nvPr/>
                  </p:nvSpPr>
                  <p:spPr>
                    <a:xfrm>
                      <a:off x="2468520" y="42354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6" name=""/>
                    <p:cNvSpPr/>
                    <p:nvPr/>
                  </p:nvSpPr>
                  <p:spPr>
                    <a:xfrm>
                      <a:off x="2468520" y="45086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>
                      <a:off x="2468520" y="47826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8" name=""/>
                    <p:cNvSpPr/>
                    <p:nvPr/>
                  </p:nvSpPr>
                  <p:spPr>
                    <a:xfrm>
                      <a:off x="2468520" y="50562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9" name=""/>
                    <p:cNvSpPr/>
                    <p:nvPr/>
                  </p:nvSpPr>
                  <p:spPr>
                    <a:xfrm>
                      <a:off x="2468520" y="53294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>
                      <a:off x="2468520" y="56030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1" name=""/>
                    <p:cNvSpPr/>
                    <p:nvPr/>
                  </p:nvSpPr>
                  <p:spPr>
                    <a:xfrm>
                      <a:off x="2468520" y="259416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2" name=""/>
                    <p:cNvSpPr/>
                    <p:nvPr/>
                  </p:nvSpPr>
                  <p:spPr>
                    <a:xfrm>
                      <a:off x="2468520" y="28674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3" name=""/>
                    <p:cNvSpPr/>
                    <p:nvPr/>
                  </p:nvSpPr>
                  <p:spPr>
                    <a:xfrm>
                      <a:off x="2468520" y="31410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4" name=""/>
                    <p:cNvSpPr/>
                    <p:nvPr/>
                  </p:nvSpPr>
                  <p:spPr>
                    <a:xfrm>
                      <a:off x="2468520" y="34146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95" name=""/>
                  <p:cNvGrpSpPr/>
                  <p:nvPr/>
                </p:nvGrpSpPr>
                <p:grpSpPr>
                  <a:xfrm>
                    <a:off x="2727720" y="2594160"/>
                    <a:ext cx="258840" cy="3282480"/>
                    <a:chOff x="2727720" y="2594160"/>
                    <a:chExt cx="258840" cy="3282480"/>
                  </a:xfrm>
                </p:grpSpPr>
                <p:sp>
                  <p:nvSpPr>
                    <p:cNvPr id="696" name=""/>
                    <p:cNvSpPr/>
                    <p:nvPr/>
                  </p:nvSpPr>
                  <p:spPr>
                    <a:xfrm>
                      <a:off x="2727720" y="36882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7" name=""/>
                    <p:cNvSpPr/>
                    <p:nvPr/>
                  </p:nvSpPr>
                  <p:spPr>
                    <a:xfrm>
                      <a:off x="2727720" y="39618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8" name=""/>
                    <p:cNvSpPr/>
                    <p:nvPr/>
                  </p:nvSpPr>
                  <p:spPr>
                    <a:xfrm>
                      <a:off x="2727720" y="42354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9" name=""/>
                    <p:cNvSpPr/>
                    <p:nvPr/>
                  </p:nvSpPr>
                  <p:spPr>
                    <a:xfrm>
                      <a:off x="2727720" y="45086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0" name=""/>
                    <p:cNvSpPr/>
                    <p:nvPr/>
                  </p:nvSpPr>
                  <p:spPr>
                    <a:xfrm>
                      <a:off x="2727720" y="47826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1" name=""/>
                    <p:cNvSpPr/>
                    <p:nvPr/>
                  </p:nvSpPr>
                  <p:spPr>
                    <a:xfrm>
                      <a:off x="2727720" y="50562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2" name=""/>
                    <p:cNvSpPr/>
                    <p:nvPr/>
                  </p:nvSpPr>
                  <p:spPr>
                    <a:xfrm>
                      <a:off x="2727720" y="53294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3" name=""/>
                    <p:cNvSpPr/>
                    <p:nvPr/>
                  </p:nvSpPr>
                  <p:spPr>
                    <a:xfrm>
                      <a:off x="2727720" y="56030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4" name=""/>
                    <p:cNvSpPr/>
                    <p:nvPr/>
                  </p:nvSpPr>
                  <p:spPr>
                    <a:xfrm>
                      <a:off x="2727720" y="259416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5" name=""/>
                    <p:cNvSpPr/>
                    <p:nvPr/>
                  </p:nvSpPr>
                  <p:spPr>
                    <a:xfrm>
                      <a:off x="2727720" y="28674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6" name=""/>
                    <p:cNvSpPr/>
                    <p:nvPr/>
                  </p:nvSpPr>
                  <p:spPr>
                    <a:xfrm>
                      <a:off x="2727720" y="31410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7" name=""/>
                    <p:cNvSpPr/>
                    <p:nvPr/>
                  </p:nvSpPr>
                  <p:spPr>
                    <a:xfrm>
                      <a:off x="2727720" y="34146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8" name=""/>
                  <p:cNvGrpSpPr/>
                  <p:nvPr/>
                </p:nvGrpSpPr>
                <p:grpSpPr>
                  <a:xfrm>
                    <a:off x="2986920" y="2594160"/>
                    <a:ext cx="258840" cy="3282480"/>
                    <a:chOff x="2986920" y="2594160"/>
                    <a:chExt cx="258840" cy="3282480"/>
                  </a:xfrm>
                </p:grpSpPr>
                <p:sp>
                  <p:nvSpPr>
                    <p:cNvPr id="709" name=""/>
                    <p:cNvSpPr/>
                    <p:nvPr/>
                  </p:nvSpPr>
                  <p:spPr>
                    <a:xfrm>
                      <a:off x="2986920" y="36882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0" name=""/>
                    <p:cNvSpPr/>
                    <p:nvPr/>
                  </p:nvSpPr>
                  <p:spPr>
                    <a:xfrm>
                      <a:off x="2986920" y="39618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1" name=""/>
                    <p:cNvSpPr/>
                    <p:nvPr/>
                  </p:nvSpPr>
                  <p:spPr>
                    <a:xfrm>
                      <a:off x="2986920" y="42354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2" name=""/>
                    <p:cNvSpPr/>
                    <p:nvPr/>
                  </p:nvSpPr>
                  <p:spPr>
                    <a:xfrm>
                      <a:off x="2986920" y="45086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3" name=""/>
                    <p:cNvSpPr/>
                    <p:nvPr/>
                  </p:nvSpPr>
                  <p:spPr>
                    <a:xfrm>
                      <a:off x="2986920" y="47826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4" name=""/>
                    <p:cNvSpPr/>
                    <p:nvPr/>
                  </p:nvSpPr>
                  <p:spPr>
                    <a:xfrm>
                      <a:off x="2986920" y="50562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5" name=""/>
                    <p:cNvSpPr/>
                    <p:nvPr/>
                  </p:nvSpPr>
                  <p:spPr>
                    <a:xfrm>
                      <a:off x="2986920" y="53294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6" name=""/>
                    <p:cNvSpPr/>
                    <p:nvPr/>
                  </p:nvSpPr>
                  <p:spPr>
                    <a:xfrm>
                      <a:off x="2986920" y="56030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7" name=""/>
                    <p:cNvSpPr/>
                    <p:nvPr/>
                  </p:nvSpPr>
                  <p:spPr>
                    <a:xfrm>
                      <a:off x="2986920" y="259416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8" name=""/>
                    <p:cNvSpPr/>
                    <p:nvPr/>
                  </p:nvSpPr>
                  <p:spPr>
                    <a:xfrm>
                      <a:off x="2986920" y="28674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9" name=""/>
                    <p:cNvSpPr/>
                    <p:nvPr/>
                  </p:nvSpPr>
                  <p:spPr>
                    <a:xfrm>
                      <a:off x="2986920" y="31410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0" name=""/>
                    <p:cNvSpPr/>
                    <p:nvPr/>
                  </p:nvSpPr>
                  <p:spPr>
                    <a:xfrm>
                      <a:off x="2986920" y="34146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21" name=""/>
                  <p:cNvGrpSpPr/>
                  <p:nvPr/>
                </p:nvGrpSpPr>
                <p:grpSpPr>
                  <a:xfrm>
                    <a:off x="3246120" y="2594160"/>
                    <a:ext cx="258840" cy="3282480"/>
                    <a:chOff x="3246120" y="2594160"/>
                    <a:chExt cx="258840" cy="3282480"/>
                  </a:xfrm>
                </p:grpSpPr>
                <p:sp>
                  <p:nvSpPr>
                    <p:cNvPr id="722" name=""/>
                    <p:cNvSpPr/>
                    <p:nvPr/>
                  </p:nvSpPr>
                  <p:spPr>
                    <a:xfrm>
                      <a:off x="3246120" y="36882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3" name=""/>
                    <p:cNvSpPr/>
                    <p:nvPr/>
                  </p:nvSpPr>
                  <p:spPr>
                    <a:xfrm>
                      <a:off x="3246120" y="39618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4" name=""/>
                    <p:cNvSpPr/>
                    <p:nvPr/>
                  </p:nvSpPr>
                  <p:spPr>
                    <a:xfrm>
                      <a:off x="3246120" y="42354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5" name=""/>
                    <p:cNvSpPr/>
                    <p:nvPr/>
                  </p:nvSpPr>
                  <p:spPr>
                    <a:xfrm>
                      <a:off x="3246120" y="45086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6" name=""/>
                    <p:cNvSpPr/>
                    <p:nvPr/>
                  </p:nvSpPr>
                  <p:spPr>
                    <a:xfrm>
                      <a:off x="3246120" y="47826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7" name=""/>
                    <p:cNvSpPr/>
                    <p:nvPr/>
                  </p:nvSpPr>
                  <p:spPr>
                    <a:xfrm>
                      <a:off x="3246120" y="50562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8" name=""/>
                    <p:cNvSpPr/>
                    <p:nvPr/>
                  </p:nvSpPr>
                  <p:spPr>
                    <a:xfrm>
                      <a:off x="3246120" y="53294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9" name=""/>
                    <p:cNvSpPr/>
                    <p:nvPr/>
                  </p:nvSpPr>
                  <p:spPr>
                    <a:xfrm>
                      <a:off x="3246120" y="56030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0" name=""/>
                    <p:cNvSpPr/>
                    <p:nvPr/>
                  </p:nvSpPr>
                  <p:spPr>
                    <a:xfrm>
                      <a:off x="3246120" y="259416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1" name=""/>
                    <p:cNvSpPr/>
                    <p:nvPr/>
                  </p:nvSpPr>
                  <p:spPr>
                    <a:xfrm>
                      <a:off x="3246120" y="28674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2" name=""/>
                    <p:cNvSpPr/>
                    <p:nvPr/>
                  </p:nvSpPr>
                  <p:spPr>
                    <a:xfrm>
                      <a:off x="3246120" y="31410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3" name=""/>
                    <p:cNvSpPr/>
                    <p:nvPr/>
                  </p:nvSpPr>
                  <p:spPr>
                    <a:xfrm>
                      <a:off x="3246120" y="34146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34" name=""/>
                  <p:cNvGrpSpPr/>
                  <p:nvPr/>
                </p:nvGrpSpPr>
                <p:grpSpPr>
                  <a:xfrm>
                    <a:off x="3505320" y="2594160"/>
                    <a:ext cx="258840" cy="3282480"/>
                    <a:chOff x="3505320" y="2594160"/>
                    <a:chExt cx="258840" cy="3282480"/>
                  </a:xfrm>
                </p:grpSpPr>
                <p:sp>
                  <p:nvSpPr>
                    <p:cNvPr id="735" name=""/>
                    <p:cNvSpPr/>
                    <p:nvPr/>
                  </p:nvSpPr>
                  <p:spPr>
                    <a:xfrm>
                      <a:off x="3505320" y="36882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6" name=""/>
                    <p:cNvSpPr/>
                    <p:nvPr/>
                  </p:nvSpPr>
                  <p:spPr>
                    <a:xfrm>
                      <a:off x="3505320" y="39618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7" name=""/>
                    <p:cNvSpPr/>
                    <p:nvPr/>
                  </p:nvSpPr>
                  <p:spPr>
                    <a:xfrm>
                      <a:off x="3505320" y="42354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8" name=""/>
                    <p:cNvSpPr/>
                    <p:nvPr/>
                  </p:nvSpPr>
                  <p:spPr>
                    <a:xfrm>
                      <a:off x="3505320" y="45086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9" name=""/>
                    <p:cNvSpPr/>
                    <p:nvPr/>
                  </p:nvSpPr>
                  <p:spPr>
                    <a:xfrm>
                      <a:off x="3505320" y="47826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0" name=""/>
                    <p:cNvSpPr/>
                    <p:nvPr/>
                  </p:nvSpPr>
                  <p:spPr>
                    <a:xfrm>
                      <a:off x="3505320" y="50562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1" name=""/>
                    <p:cNvSpPr/>
                    <p:nvPr/>
                  </p:nvSpPr>
                  <p:spPr>
                    <a:xfrm>
                      <a:off x="3505320" y="53294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2" name=""/>
                    <p:cNvSpPr/>
                    <p:nvPr/>
                  </p:nvSpPr>
                  <p:spPr>
                    <a:xfrm>
                      <a:off x="3505320" y="56030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3" name=""/>
                    <p:cNvSpPr/>
                    <p:nvPr/>
                  </p:nvSpPr>
                  <p:spPr>
                    <a:xfrm>
                      <a:off x="3505320" y="259416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4" name=""/>
                    <p:cNvSpPr/>
                    <p:nvPr/>
                  </p:nvSpPr>
                  <p:spPr>
                    <a:xfrm>
                      <a:off x="3505320" y="28674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5" name=""/>
                    <p:cNvSpPr/>
                    <p:nvPr/>
                  </p:nvSpPr>
                  <p:spPr>
                    <a:xfrm>
                      <a:off x="3505320" y="31410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6" name=""/>
                    <p:cNvSpPr/>
                    <p:nvPr/>
                  </p:nvSpPr>
                  <p:spPr>
                    <a:xfrm>
                      <a:off x="3505320" y="34146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47" name=""/>
                  <p:cNvGrpSpPr/>
                  <p:nvPr/>
                </p:nvGrpSpPr>
                <p:grpSpPr>
                  <a:xfrm>
                    <a:off x="3764160" y="2594160"/>
                    <a:ext cx="258840" cy="3282480"/>
                    <a:chOff x="3764160" y="2594160"/>
                    <a:chExt cx="258840" cy="3282480"/>
                  </a:xfrm>
                </p:grpSpPr>
                <p:sp>
                  <p:nvSpPr>
                    <p:cNvPr id="748" name=""/>
                    <p:cNvSpPr/>
                    <p:nvPr/>
                  </p:nvSpPr>
                  <p:spPr>
                    <a:xfrm>
                      <a:off x="3764160" y="36882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9" name=""/>
                    <p:cNvSpPr/>
                    <p:nvPr/>
                  </p:nvSpPr>
                  <p:spPr>
                    <a:xfrm>
                      <a:off x="3764160" y="39618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0" name=""/>
                    <p:cNvSpPr/>
                    <p:nvPr/>
                  </p:nvSpPr>
                  <p:spPr>
                    <a:xfrm>
                      <a:off x="3764160" y="42354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1" name=""/>
                    <p:cNvSpPr/>
                    <p:nvPr/>
                  </p:nvSpPr>
                  <p:spPr>
                    <a:xfrm>
                      <a:off x="3764160" y="45086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2" name=""/>
                    <p:cNvSpPr/>
                    <p:nvPr/>
                  </p:nvSpPr>
                  <p:spPr>
                    <a:xfrm>
                      <a:off x="3764160" y="47826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3" name=""/>
                    <p:cNvSpPr/>
                    <p:nvPr/>
                  </p:nvSpPr>
                  <p:spPr>
                    <a:xfrm>
                      <a:off x="3764160" y="50562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4" name=""/>
                    <p:cNvSpPr/>
                    <p:nvPr/>
                  </p:nvSpPr>
                  <p:spPr>
                    <a:xfrm>
                      <a:off x="3764160" y="53294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5" name=""/>
                    <p:cNvSpPr/>
                    <p:nvPr/>
                  </p:nvSpPr>
                  <p:spPr>
                    <a:xfrm>
                      <a:off x="3764160" y="56030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6" name=""/>
                    <p:cNvSpPr/>
                    <p:nvPr/>
                  </p:nvSpPr>
                  <p:spPr>
                    <a:xfrm>
                      <a:off x="3764160" y="259416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7" name=""/>
                    <p:cNvSpPr/>
                    <p:nvPr/>
                  </p:nvSpPr>
                  <p:spPr>
                    <a:xfrm>
                      <a:off x="3764160" y="28674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8" name=""/>
                    <p:cNvSpPr/>
                    <p:nvPr/>
                  </p:nvSpPr>
                  <p:spPr>
                    <a:xfrm>
                      <a:off x="3764160" y="31410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9" name=""/>
                    <p:cNvSpPr/>
                    <p:nvPr/>
                  </p:nvSpPr>
                  <p:spPr>
                    <a:xfrm>
                      <a:off x="3764160" y="34146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760" name=""/>
            <p:cNvGrpSpPr/>
            <p:nvPr/>
          </p:nvGrpSpPr>
          <p:grpSpPr>
            <a:xfrm>
              <a:off x="4974840" y="2594160"/>
              <a:ext cx="3628800" cy="3283200"/>
              <a:chOff x="4974840" y="2594160"/>
              <a:chExt cx="3628800" cy="3283200"/>
            </a:xfrm>
          </p:grpSpPr>
          <p:sp>
            <p:nvSpPr>
              <p:cNvPr id="761" name=""/>
              <p:cNvSpPr/>
              <p:nvPr/>
            </p:nvSpPr>
            <p:spPr>
              <a:xfrm>
                <a:off x="4974840" y="368856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4974840" y="3962160"/>
                <a:ext cx="259200" cy="27396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974840" y="423612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974840" y="450972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974840" y="4783320"/>
                <a:ext cx="259200" cy="27396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974840" y="505728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974840" y="533088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974840" y="560412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974840" y="259416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974840" y="2867400"/>
                <a:ext cx="259200" cy="27396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974840" y="314136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974840" y="341496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34040" y="3688560"/>
                <a:ext cx="259200" cy="273240"/>
              </a:xfrm>
              <a:prstGeom prst="rect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234040" y="3962160"/>
                <a:ext cx="259200" cy="273960"/>
              </a:xfrm>
              <a:prstGeom prst="rect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234040" y="423612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234040" y="450972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234040" y="4783320"/>
                <a:ext cx="259200" cy="27396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234040" y="505728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234040" y="533088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234040" y="5604120"/>
                <a:ext cx="259200" cy="273240"/>
              </a:xfrm>
              <a:prstGeom prst="rect">
                <a:avLst/>
              </a:prstGeom>
              <a:solidFill>
                <a:srgbClr val="ff33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234040" y="259416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234040" y="2867400"/>
                <a:ext cx="259200" cy="27396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234040" y="314136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234040" y="341496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493240" y="3688560"/>
                <a:ext cx="259200" cy="273240"/>
              </a:xfrm>
              <a:prstGeom prst="rect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493240" y="3962160"/>
                <a:ext cx="259200" cy="273960"/>
              </a:xfrm>
              <a:prstGeom prst="rect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493240" y="423612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493240" y="450972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493240" y="4783320"/>
                <a:ext cx="259200" cy="27396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493240" y="505728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493240" y="533088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493240" y="5604120"/>
                <a:ext cx="259200" cy="273240"/>
              </a:xfrm>
              <a:prstGeom prst="rect">
                <a:avLst/>
              </a:prstGeom>
              <a:solidFill>
                <a:srgbClr val="ff33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493240" y="259416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493240" y="2867400"/>
                <a:ext cx="259200" cy="27396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493240" y="314136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493240" y="3414960"/>
                <a:ext cx="259200" cy="273240"/>
              </a:xfrm>
              <a:prstGeom prst="rect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752440" y="3688560"/>
                <a:ext cx="259200" cy="273240"/>
              </a:xfrm>
              <a:prstGeom prst="rect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752440" y="3962160"/>
                <a:ext cx="259200" cy="273960"/>
              </a:xfrm>
              <a:prstGeom prst="rect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752440" y="4236120"/>
                <a:ext cx="259200" cy="273240"/>
              </a:xfrm>
              <a:prstGeom prst="rect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752440" y="450972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752440" y="4783320"/>
                <a:ext cx="259200" cy="27396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5752440" y="505728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752440" y="533088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752440" y="5604120"/>
                <a:ext cx="259200" cy="273240"/>
              </a:xfrm>
              <a:prstGeom prst="rect">
                <a:avLst/>
              </a:prstGeom>
              <a:solidFill>
                <a:srgbClr val="ff33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752440" y="259416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752440" y="2867400"/>
                <a:ext cx="259200" cy="27396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2440" y="3141360"/>
                <a:ext cx="259200" cy="273240"/>
              </a:xfrm>
              <a:prstGeom prst="rect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752440" y="3414960"/>
                <a:ext cx="259200" cy="273240"/>
              </a:xfrm>
              <a:prstGeom prst="rect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011640" y="3688560"/>
                <a:ext cx="259200" cy="273240"/>
              </a:xfrm>
              <a:prstGeom prst="rect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11640" y="3962160"/>
                <a:ext cx="259200" cy="273960"/>
              </a:xfrm>
              <a:prstGeom prst="rect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011640" y="4236120"/>
                <a:ext cx="259200" cy="273240"/>
              </a:xfrm>
              <a:prstGeom prst="rect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011640" y="4509720"/>
                <a:ext cx="259200" cy="273240"/>
              </a:xfrm>
              <a:prstGeom prst="rect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011640" y="4783320"/>
                <a:ext cx="259200" cy="27396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011640" y="505728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011640" y="5330880"/>
                <a:ext cx="259200" cy="273240"/>
              </a:xfrm>
              <a:prstGeom prst="rect">
                <a:avLst/>
              </a:prstGeom>
              <a:solidFill>
                <a:srgbClr val="ff33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011640" y="560412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011640" y="259416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011640" y="2867400"/>
                <a:ext cx="259200" cy="273960"/>
              </a:xfrm>
              <a:prstGeom prst="rect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011640" y="3141360"/>
                <a:ext cx="259200" cy="273240"/>
              </a:xfrm>
              <a:prstGeom prst="rect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011640" y="3414960"/>
                <a:ext cx="259200" cy="273240"/>
              </a:xfrm>
              <a:prstGeom prst="rect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270840" y="3688560"/>
                <a:ext cx="259200" cy="273240"/>
              </a:xfrm>
              <a:prstGeom prst="rect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270840" y="3962160"/>
                <a:ext cx="259200" cy="273960"/>
              </a:xfrm>
              <a:prstGeom prst="rect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270840" y="4236120"/>
                <a:ext cx="259200" cy="273240"/>
              </a:xfrm>
              <a:prstGeom prst="rect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270840" y="4509720"/>
                <a:ext cx="259200" cy="273240"/>
              </a:xfrm>
              <a:prstGeom prst="rect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270840" y="4783320"/>
                <a:ext cx="259200" cy="273960"/>
              </a:xfrm>
              <a:prstGeom prst="rect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270840" y="5057280"/>
                <a:ext cx="259200" cy="273240"/>
              </a:xfrm>
              <a:prstGeom prst="rect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270840" y="5330880"/>
                <a:ext cx="259200" cy="273240"/>
              </a:xfrm>
              <a:prstGeom prst="rect">
                <a:avLst/>
              </a:prstGeom>
              <a:solidFill>
                <a:srgbClr val="ff33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270840" y="560412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270840" y="259416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270840" y="2867400"/>
                <a:ext cx="259200" cy="273960"/>
              </a:xfrm>
              <a:prstGeom prst="rect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270840" y="3141360"/>
                <a:ext cx="259200" cy="273240"/>
              </a:xfrm>
              <a:prstGeom prst="rect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270840" y="3414960"/>
                <a:ext cx="259200" cy="273240"/>
              </a:xfrm>
              <a:prstGeom prst="rect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789240" y="3688560"/>
                <a:ext cx="259200" cy="273240"/>
              </a:xfrm>
              <a:prstGeom prst="rect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789240" y="3962160"/>
                <a:ext cx="259200" cy="273960"/>
              </a:xfrm>
              <a:prstGeom prst="rect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789240" y="4236120"/>
                <a:ext cx="259200" cy="273240"/>
              </a:xfrm>
              <a:prstGeom prst="rect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789240" y="4509720"/>
                <a:ext cx="259200" cy="273240"/>
              </a:xfrm>
              <a:prstGeom prst="rect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789240" y="4783320"/>
                <a:ext cx="259200" cy="273960"/>
              </a:xfrm>
              <a:prstGeom prst="rect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789240" y="505728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789240" y="5330880"/>
                <a:ext cx="259200" cy="273240"/>
              </a:xfrm>
              <a:prstGeom prst="rect">
                <a:avLst/>
              </a:prstGeom>
              <a:solidFill>
                <a:srgbClr val="ff33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789240" y="560412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789240" y="2594160"/>
                <a:ext cx="259200" cy="273240"/>
              </a:xfrm>
              <a:prstGeom prst="rect">
                <a:avLst/>
              </a:prstGeom>
              <a:solidFill>
                <a:srgbClr val="3366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789240" y="2867400"/>
                <a:ext cx="259200" cy="27396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789240" y="314136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789240" y="3414960"/>
                <a:ext cx="259200" cy="273240"/>
              </a:xfrm>
              <a:prstGeom prst="rect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048440" y="3688560"/>
                <a:ext cx="259200" cy="273240"/>
              </a:xfrm>
              <a:prstGeom prst="rect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048440" y="3962160"/>
                <a:ext cx="259200" cy="273960"/>
              </a:xfrm>
              <a:prstGeom prst="rect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048440" y="4236120"/>
                <a:ext cx="259200" cy="273240"/>
              </a:xfrm>
              <a:prstGeom prst="rect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048440" y="4509720"/>
                <a:ext cx="259200" cy="273240"/>
              </a:xfrm>
              <a:prstGeom prst="rect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048440" y="4783320"/>
                <a:ext cx="259200" cy="27396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048440" y="505728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048440" y="5330880"/>
                <a:ext cx="259200" cy="273240"/>
              </a:xfrm>
              <a:prstGeom prst="rect">
                <a:avLst/>
              </a:prstGeom>
              <a:solidFill>
                <a:srgbClr val="ff33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048440" y="560412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048440" y="259416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048440" y="2867400"/>
                <a:ext cx="259200" cy="273960"/>
              </a:xfrm>
              <a:prstGeom prst="rect">
                <a:avLst/>
              </a:prstGeom>
              <a:solidFill>
                <a:srgbClr val="3366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048440" y="314136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048440" y="341496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307640" y="3688560"/>
                <a:ext cx="259200" cy="273240"/>
              </a:xfrm>
              <a:prstGeom prst="rect">
                <a:avLst/>
              </a:prstGeom>
              <a:solidFill>
                <a:srgbClr val="3366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307640" y="3962160"/>
                <a:ext cx="259200" cy="273960"/>
              </a:xfrm>
              <a:prstGeom prst="rect">
                <a:avLst/>
              </a:prstGeom>
              <a:solidFill>
                <a:srgbClr val="3366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307640" y="423612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7307640" y="450972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307640" y="4783320"/>
                <a:ext cx="259200" cy="27396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307640" y="5057280"/>
                <a:ext cx="259200" cy="273240"/>
              </a:xfrm>
              <a:prstGeom prst="rect">
                <a:avLst/>
              </a:prstGeom>
              <a:solidFill>
                <a:srgbClr val="ff33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307640" y="533088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307640" y="560412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307640" y="259416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307640" y="2867400"/>
                <a:ext cx="259200" cy="27396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307640" y="3141360"/>
                <a:ext cx="259200" cy="273240"/>
              </a:xfrm>
              <a:prstGeom prst="rect">
                <a:avLst/>
              </a:prstGeom>
              <a:solidFill>
                <a:srgbClr val="3366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307640" y="3414960"/>
                <a:ext cx="259200" cy="273240"/>
              </a:xfrm>
              <a:prstGeom prst="rect">
                <a:avLst/>
              </a:prstGeom>
              <a:solidFill>
                <a:srgbClr val="3366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566840" y="3688560"/>
                <a:ext cx="259200" cy="273240"/>
              </a:xfrm>
              <a:prstGeom prst="rect">
                <a:avLst/>
              </a:prstGeom>
              <a:solidFill>
                <a:srgbClr val="ff33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566840" y="3962160"/>
                <a:ext cx="259200" cy="273960"/>
              </a:xfrm>
              <a:prstGeom prst="rect">
                <a:avLst/>
              </a:prstGeom>
              <a:solidFill>
                <a:srgbClr val="ff33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566840" y="4236120"/>
                <a:ext cx="259200" cy="273240"/>
              </a:xfrm>
              <a:prstGeom prst="rect">
                <a:avLst/>
              </a:prstGeom>
              <a:solidFill>
                <a:srgbClr val="3366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566840" y="4509720"/>
                <a:ext cx="259200" cy="273240"/>
              </a:xfrm>
              <a:prstGeom prst="rect">
                <a:avLst/>
              </a:prstGeom>
              <a:solidFill>
                <a:srgbClr val="3366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566840" y="4783320"/>
                <a:ext cx="259200" cy="273960"/>
              </a:xfrm>
              <a:prstGeom prst="rect">
                <a:avLst/>
              </a:prstGeom>
              <a:solidFill>
                <a:srgbClr val="ff33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566840" y="5057280"/>
                <a:ext cx="259200" cy="273240"/>
              </a:xfrm>
              <a:prstGeom prst="rect">
                <a:avLst/>
              </a:prstGeom>
              <a:solidFill>
                <a:srgbClr val="3366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566840" y="533088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566840" y="560412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566840" y="2594160"/>
                <a:ext cx="259200" cy="273240"/>
              </a:xfrm>
              <a:prstGeom prst="rect">
                <a:avLst/>
              </a:prstGeom>
              <a:solidFill>
                <a:srgbClr val="ff33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566840" y="2867400"/>
                <a:ext cx="259200" cy="273960"/>
              </a:xfrm>
              <a:prstGeom prst="rect">
                <a:avLst/>
              </a:prstGeom>
              <a:solidFill>
                <a:srgbClr val="ff33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566840" y="3141360"/>
                <a:ext cx="259200" cy="273240"/>
              </a:xfrm>
              <a:prstGeom prst="rect">
                <a:avLst/>
              </a:prstGeom>
              <a:solidFill>
                <a:srgbClr val="ff33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566840" y="3414960"/>
                <a:ext cx="259200" cy="273240"/>
              </a:xfrm>
              <a:prstGeom prst="rect">
                <a:avLst/>
              </a:prstGeom>
              <a:solidFill>
                <a:srgbClr val="ff33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826040" y="368856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826040" y="3962160"/>
                <a:ext cx="259200" cy="27396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826040" y="4236120"/>
                <a:ext cx="259200" cy="273240"/>
              </a:xfrm>
              <a:prstGeom prst="rect">
                <a:avLst/>
              </a:prstGeom>
              <a:solidFill>
                <a:srgbClr val="ff33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826040" y="4509720"/>
                <a:ext cx="259200" cy="273240"/>
              </a:xfrm>
              <a:prstGeom prst="rect">
                <a:avLst/>
              </a:prstGeom>
              <a:solidFill>
                <a:srgbClr val="ff33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826040" y="4783320"/>
                <a:ext cx="259200" cy="273960"/>
              </a:xfrm>
              <a:prstGeom prst="rect">
                <a:avLst/>
              </a:prstGeom>
              <a:solidFill>
                <a:srgbClr val="ff33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826040" y="505728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7826040" y="5330880"/>
                <a:ext cx="259200" cy="273240"/>
              </a:xfrm>
              <a:prstGeom prst="rect">
                <a:avLst/>
              </a:prstGeom>
              <a:solidFill>
                <a:srgbClr val="3366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826040" y="5604120"/>
                <a:ext cx="259200" cy="273240"/>
              </a:xfrm>
              <a:prstGeom prst="rect">
                <a:avLst/>
              </a:prstGeom>
              <a:solidFill>
                <a:srgbClr val="3366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826040" y="259416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826040" y="2867400"/>
                <a:ext cx="259200" cy="27396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826040" y="314136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826040" y="3414960"/>
                <a:ext cx="259200" cy="273240"/>
              </a:xfrm>
              <a:prstGeom prst="rect">
                <a:avLst/>
              </a:prstGeom>
              <a:solidFill>
                <a:srgbClr val="cc66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8085240" y="368856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8085240" y="3962160"/>
                <a:ext cx="259200" cy="27396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8085240" y="423612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8085240" y="450972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8085240" y="4783320"/>
                <a:ext cx="259200" cy="27396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8085240" y="5057280"/>
                <a:ext cx="259200" cy="273240"/>
              </a:xfrm>
              <a:prstGeom prst="rect">
                <a:avLst/>
              </a:prstGeom>
              <a:solidFill>
                <a:srgbClr val="ff33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8085240" y="533088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8085240" y="560412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8085240" y="259416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8085240" y="2867400"/>
                <a:ext cx="259200" cy="27396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8085240" y="314136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8085240" y="341496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8344440" y="368856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8344440" y="3962160"/>
                <a:ext cx="259200" cy="27396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8344440" y="423612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8344440" y="450972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8344440" y="4783320"/>
                <a:ext cx="259200" cy="27396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8344440" y="505728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8344440" y="5330880"/>
                <a:ext cx="259200" cy="273240"/>
              </a:xfrm>
              <a:prstGeom prst="rect">
                <a:avLst/>
              </a:prstGeom>
              <a:solidFill>
                <a:srgbClr val="ff33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8344440" y="5604120"/>
                <a:ext cx="259200" cy="273240"/>
              </a:xfrm>
              <a:prstGeom prst="rect">
                <a:avLst/>
              </a:prstGeom>
              <a:solidFill>
                <a:srgbClr val="ff33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8344440" y="259416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8344440" y="2867400"/>
                <a:ext cx="259200" cy="27396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8344440" y="314136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8344440" y="341496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530040" y="3688560"/>
                <a:ext cx="259200" cy="273240"/>
              </a:xfrm>
              <a:prstGeom prst="rect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6530040" y="3962160"/>
                <a:ext cx="259200" cy="273960"/>
              </a:xfrm>
              <a:prstGeom prst="rect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530040" y="4236120"/>
                <a:ext cx="259200" cy="273240"/>
              </a:xfrm>
              <a:prstGeom prst="rect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530040" y="4509720"/>
                <a:ext cx="259200" cy="273240"/>
              </a:xfrm>
              <a:prstGeom prst="rect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530040" y="4783320"/>
                <a:ext cx="259200" cy="273960"/>
              </a:xfrm>
              <a:prstGeom prst="rect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6530040" y="5057280"/>
                <a:ext cx="259200" cy="273240"/>
              </a:xfrm>
              <a:prstGeom prst="rect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6530040" y="5330880"/>
                <a:ext cx="259200" cy="273240"/>
              </a:xfrm>
              <a:prstGeom prst="rect">
                <a:avLst/>
              </a:prstGeom>
              <a:solidFill>
                <a:srgbClr val="ff33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6530040" y="560412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6530040" y="259416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6530040" y="2867400"/>
                <a:ext cx="259200" cy="27396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530040" y="3141360"/>
                <a:ext cx="259200" cy="273240"/>
              </a:xfrm>
              <a:prstGeom prst="rect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6530040" y="3414960"/>
                <a:ext cx="259200" cy="273240"/>
              </a:xfrm>
              <a:prstGeom prst="rect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6530040" y="259416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6530040" y="368856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6530040" y="423612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6530040" y="450972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6530040" y="505728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530040" y="2867400"/>
                <a:ext cx="259200" cy="27396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530040" y="314136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6530040" y="341496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"/>
            <p:cNvGrpSpPr/>
            <p:nvPr/>
          </p:nvGrpSpPr>
          <p:grpSpPr>
            <a:xfrm>
              <a:off x="538920" y="2594160"/>
              <a:ext cx="3483720" cy="3283200"/>
              <a:chOff x="538920" y="2594160"/>
              <a:chExt cx="3483720" cy="3283200"/>
            </a:xfrm>
          </p:grpSpPr>
          <p:grpSp>
            <p:nvGrpSpPr>
              <p:cNvPr id="938" name=""/>
              <p:cNvGrpSpPr/>
              <p:nvPr/>
            </p:nvGrpSpPr>
            <p:grpSpPr>
              <a:xfrm>
                <a:off x="538920" y="2594160"/>
                <a:ext cx="3483720" cy="3283200"/>
                <a:chOff x="538920" y="2594160"/>
                <a:chExt cx="3483720" cy="3283200"/>
              </a:xfrm>
            </p:grpSpPr>
            <p:sp>
              <p:nvSpPr>
                <p:cNvPr id="939" name=""/>
                <p:cNvSpPr/>
                <p:nvPr/>
              </p:nvSpPr>
              <p:spPr>
                <a:xfrm>
                  <a:off x="538920" y="2867400"/>
                  <a:ext cx="2258640" cy="2401560"/>
                </a:xfrm>
                <a:custGeom>
                  <a:avLst/>
                  <a:gdLst/>
                  <a:ahLst/>
                  <a:rect l="l" t="t" r="r" b="b"/>
                  <a:pathLst>
                    <a:path w="1224" h="1264">
                      <a:moveTo>
                        <a:pt x="304" y="192"/>
                      </a:moveTo>
                      <a:cubicBezTo>
                        <a:pt x="432" y="96"/>
                        <a:pt x="656" y="0"/>
                        <a:pt x="784" y="48"/>
                      </a:cubicBezTo>
                      <a:cubicBezTo>
                        <a:pt x="912" y="96"/>
                        <a:pt x="1008" y="328"/>
                        <a:pt x="1072" y="480"/>
                      </a:cubicBezTo>
                      <a:cubicBezTo>
                        <a:pt x="1136" y="632"/>
                        <a:pt x="1224" y="832"/>
                        <a:pt x="1168" y="960"/>
                      </a:cubicBezTo>
                      <a:cubicBezTo>
                        <a:pt x="1112" y="1088"/>
                        <a:pt x="864" y="1264"/>
                        <a:pt x="736" y="1248"/>
                      </a:cubicBezTo>
                      <a:cubicBezTo>
                        <a:pt x="608" y="1232"/>
                        <a:pt x="520" y="968"/>
                        <a:pt x="400" y="864"/>
                      </a:cubicBezTo>
                      <a:cubicBezTo>
                        <a:pt x="280" y="760"/>
                        <a:pt x="32" y="736"/>
                        <a:pt x="16" y="624"/>
                      </a:cubicBezTo>
                      <a:cubicBezTo>
                        <a:pt x="0" y="512"/>
                        <a:pt x="176" y="288"/>
                        <a:pt x="304" y="192"/>
                      </a:cubicBezTo>
                      <a:close/>
                    </a:path>
                  </a:pathLst>
                </a:cu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2162520" y="2594160"/>
                  <a:ext cx="1256400" cy="3283200"/>
                </a:xfrm>
                <a:custGeom>
                  <a:avLst/>
                  <a:gdLst/>
                  <a:ahLst/>
                  <a:rect l="l" t="t" r="r" b="b"/>
                  <a:pathLst>
                    <a:path w="528" h="1104">
                      <a:moveTo>
                        <a:pt x="0" y="0"/>
                      </a:moveTo>
                      <a:cubicBezTo>
                        <a:pt x="28" y="28"/>
                        <a:pt x="56" y="56"/>
                        <a:pt x="96" y="96"/>
                      </a:cubicBezTo>
                      <a:cubicBezTo>
                        <a:pt x="136" y="136"/>
                        <a:pt x="192" y="152"/>
                        <a:pt x="240" y="240"/>
                      </a:cubicBezTo>
                      <a:cubicBezTo>
                        <a:pt x="288" y="328"/>
                        <a:pt x="344" y="504"/>
                        <a:pt x="384" y="624"/>
                      </a:cubicBezTo>
                      <a:cubicBezTo>
                        <a:pt x="424" y="744"/>
                        <a:pt x="456" y="880"/>
                        <a:pt x="480" y="960"/>
                      </a:cubicBezTo>
                      <a:cubicBezTo>
                        <a:pt x="504" y="1040"/>
                        <a:pt x="516" y="1072"/>
                        <a:pt x="528" y="1104"/>
                      </a:cubicBezTo>
                    </a:path>
                  </a:pathLst>
                </a:custGeom>
                <a:noFill/>
                <a:ln cap="sq"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41" name=""/>
                <p:cNvGrpSpPr/>
                <p:nvPr/>
              </p:nvGrpSpPr>
              <p:grpSpPr>
                <a:xfrm>
                  <a:off x="745560" y="2594160"/>
                  <a:ext cx="3277080" cy="3282840"/>
                  <a:chOff x="745560" y="2594160"/>
                  <a:chExt cx="3277080" cy="3282840"/>
                </a:xfrm>
              </p:grpSpPr>
              <p:sp>
                <p:nvSpPr>
                  <p:cNvPr id="942" name=""/>
                  <p:cNvSpPr/>
                  <p:nvPr/>
                </p:nvSpPr>
                <p:spPr>
                  <a:xfrm>
                    <a:off x="3048120" y="2594160"/>
                    <a:ext cx="974520" cy="3191760"/>
                  </a:xfrm>
                  <a:custGeom>
                    <a:avLst/>
                    <a:gdLst/>
                    <a:ahLst/>
                    <a:rect l="l" t="t" r="r" b="b"/>
                    <a:pathLst>
                      <a:path w="528" h="1680">
                        <a:moveTo>
                          <a:pt x="0" y="0"/>
                        </a:moveTo>
                        <a:cubicBezTo>
                          <a:pt x="16" y="172"/>
                          <a:pt x="32" y="344"/>
                          <a:pt x="48" y="480"/>
                        </a:cubicBezTo>
                        <a:cubicBezTo>
                          <a:pt x="64" y="616"/>
                          <a:pt x="72" y="704"/>
                          <a:pt x="96" y="816"/>
                        </a:cubicBezTo>
                        <a:cubicBezTo>
                          <a:pt x="120" y="928"/>
                          <a:pt x="120" y="1008"/>
                          <a:pt x="192" y="1152"/>
                        </a:cubicBezTo>
                        <a:cubicBezTo>
                          <a:pt x="264" y="1296"/>
                          <a:pt x="396" y="1488"/>
                          <a:pt x="528" y="1680"/>
                        </a:cubicBezTo>
                      </a:path>
                    </a:pathLst>
                  </a:custGeom>
                  <a:noFill/>
                  <a:ln cap="sq"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745560" y="4691520"/>
                    <a:ext cx="2568240" cy="118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624">
                        <a:moveTo>
                          <a:pt x="1392" y="0"/>
                        </a:moveTo>
                        <a:cubicBezTo>
                          <a:pt x="1324" y="72"/>
                          <a:pt x="1256" y="144"/>
                          <a:pt x="1200" y="192"/>
                        </a:cubicBezTo>
                        <a:cubicBezTo>
                          <a:pt x="1144" y="240"/>
                          <a:pt x="1128" y="248"/>
                          <a:pt x="1056" y="288"/>
                        </a:cubicBezTo>
                        <a:cubicBezTo>
                          <a:pt x="984" y="328"/>
                          <a:pt x="896" y="392"/>
                          <a:pt x="768" y="432"/>
                        </a:cubicBezTo>
                        <a:cubicBezTo>
                          <a:pt x="640" y="472"/>
                          <a:pt x="416" y="496"/>
                          <a:pt x="288" y="528"/>
                        </a:cubicBezTo>
                        <a:cubicBezTo>
                          <a:pt x="160" y="560"/>
                          <a:pt x="80" y="592"/>
                          <a:pt x="0" y="624"/>
                        </a:cubicBezTo>
                      </a:path>
                    </a:pathLst>
                  </a:custGeom>
                  <a:noFill/>
                  <a:ln cap="sq"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44" name=""/>
              <p:cNvGrpSpPr/>
              <p:nvPr/>
            </p:nvGrpSpPr>
            <p:grpSpPr>
              <a:xfrm>
                <a:off x="3332880" y="3198600"/>
                <a:ext cx="172080" cy="345240"/>
                <a:chOff x="3332880" y="3198600"/>
                <a:chExt cx="172080" cy="345240"/>
              </a:xfrm>
            </p:grpSpPr>
            <p:sp>
              <p:nvSpPr>
                <p:cNvPr id="945" name=""/>
                <p:cNvSpPr/>
                <p:nvPr/>
              </p:nvSpPr>
              <p:spPr>
                <a:xfrm>
                  <a:off x="3332880" y="3371400"/>
                  <a:ext cx="172080" cy="172440"/>
                </a:xfrm>
                <a:prstGeom prst="ellipse">
                  <a:avLst/>
                </a:prstGeom>
                <a:solidFill>
                  <a:srgbClr val="cc66ff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 flipV="1">
                  <a:off x="3419280" y="3198600"/>
                  <a:ext cx="0" cy="17244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3332880" y="3285000"/>
                  <a:ext cx="17208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48" name=""/>
            <p:cNvGrpSpPr/>
            <p:nvPr/>
          </p:nvGrpSpPr>
          <p:grpSpPr>
            <a:xfrm>
              <a:off x="4974840" y="2594160"/>
              <a:ext cx="3627720" cy="3282840"/>
              <a:chOff x="4974840" y="2594160"/>
              <a:chExt cx="3627720" cy="3282840"/>
            </a:xfrm>
          </p:grpSpPr>
          <p:sp>
            <p:nvSpPr>
              <p:cNvPr id="949" name=""/>
              <p:cNvSpPr/>
              <p:nvPr/>
            </p:nvSpPr>
            <p:spPr>
              <a:xfrm>
                <a:off x="6530040" y="2594160"/>
                <a:ext cx="259200" cy="2732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0" name=""/>
              <p:cNvGrpSpPr/>
              <p:nvPr/>
            </p:nvGrpSpPr>
            <p:grpSpPr>
              <a:xfrm>
                <a:off x="4974840" y="2594160"/>
                <a:ext cx="3627720" cy="3282840"/>
                <a:chOff x="4974840" y="2594160"/>
                <a:chExt cx="3627720" cy="3282840"/>
              </a:xfrm>
            </p:grpSpPr>
            <p:sp>
              <p:nvSpPr>
                <p:cNvPr id="951" name=""/>
                <p:cNvSpPr/>
                <p:nvPr/>
              </p:nvSpPr>
              <p:spPr>
                <a:xfrm>
                  <a:off x="6529680" y="3688560"/>
                  <a:ext cx="258840" cy="273240"/>
                </a:xfrm>
                <a:prstGeom prst="rect">
                  <a:avLst/>
                </a:prstGeom>
                <a:noFill/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6529680" y="4236120"/>
                  <a:ext cx="258840" cy="273240"/>
                </a:xfrm>
                <a:prstGeom prst="rect">
                  <a:avLst/>
                </a:prstGeom>
                <a:noFill/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6529680" y="4509360"/>
                  <a:ext cx="258840" cy="273240"/>
                </a:xfrm>
                <a:prstGeom prst="rect">
                  <a:avLst/>
                </a:prstGeom>
                <a:noFill/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6529680" y="5056920"/>
                  <a:ext cx="258840" cy="273240"/>
                </a:xfrm>
                <a:prstGeom prst="rect">
                  <a:avLst/>
                </a:prstGeom>
                <a:noFill/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6529680" y="2867400"/>
                  <a:ext cx="258840" cy="273600"/>
                </a:xfrm>
                <a:prstGeom prst="rect">
                  <a:avLst/>
                </a:prstGeom>
                <a:noFill/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6529680" y="3141360"/>
                  <a:ext cx="258840" cy="273240"/>
                </a:xfrm>
                <a:prstGeom prst="rect">
                  <a:avLst/>
                </a:prstGeom>
                <a:noFill/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6529680" y="3414960"/>
                  <a:ext cx="258840" cy="273240"/>
                </a:xfrm>
                <a:prstGeom prst="rect">
                  <a:avLst/>
                </a:prstGeom>
                <a:noFill/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58" name=""/>
                <p:cNvGrpSpPr/>
                <p:nvPr/>
              </p:nvGrpSpPr>
              <p:grpSpPr>
                <a:xfrm>
                  <a:off x="4974840" y="2594160"/>
                  <a:ext cx="3627720" cy="3282840"/>
                  <a:chOff x="4974840" y="2594160"/>
                  <a:chExt cx="3627720" cy="3282840"/>
                </a:xfrm>
              </p:grpSpPr>
              <p:sp>
                <p:nvSpPr>
                  <p:cNvPr id="959" name=""/>
                  <p:cNvSpPr/>
                  <p:nvPr/>
                </p:nvSpPr>
                <p:spPr>
                  <a:xfrm>
                    <a:off x="6529680" y="5603760"/>
                    <a:ext cx="258840" cy="273240"/>
                  </a:xfrm>
                  <a:prstGeom prst="rect">
                    <a:avLst/>
                  </a:prstGeom>
                  <a:noFill/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60" name=""/>
                  <p:cNvGrpSpPr/>
                  <p:nvPr/>
                </p:nvGrpSpPr>
                <p:grpSpPr>
                  <a:xfrm>
                    <a:off x="4974840" y="2594160"/>
                    <a:ext cx="258840" cy="3282480"/>
                    <a:chOff x="4974840" y="2594160"/>
                    <a:chExt cx="258840" cy="3282480"/>
                  </a:xfrm>
                </p:grpSpPr>
                <p:sp>
                  <p:nvSpPr>
                    <p:cNvPr id="961" name=""/>
                    <p:cNvSpPr/>
                    <p:nvPr/>
                  </p:nvSpPr>
                  <p:spPr>
                    <a:xfrm>
                      <a:off x="4974840" y="36882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2" name=""/>
                    <p:cNvSpPr/>
                    <p:nvPr/>
                  </p:nvSpPr>
                  <p:spPr>
                    <a:xfrm>
                      <a:off x="4974840" y="39618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3" name=""/>
                    <p:cNvSpPr/>
                    <p:nvPr/>
                  </p:nvSpPr>
                  <p:spPr>
                    <a:xfrm>
                      <a:off x="4974840" y="42354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4" name=""/>
                    <p:cNvSpPr/>
                    <p:nvPr/>
                  </p:nvSpPr>
                  <p:spPr>
                    <a:xfrm>
                      <a:off x="4974840" y="45086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5" name=""/>
                    <p:cNvSpPr/>
                    <p:nvPr/>
                  </p:nvSpPr>
                  <p:spPr>
                    <a:xfrm>
                      <a:off x="4974840" y="47826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6" name=""/>
                    <p:cNvSpPr/>
                    <p:nvPr/>
                  </p:nvSpPr>
                  <p:spPr>
                    <a:xfrm>
                      <a:off x="4974840" y="50562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7" name=""/>
                    <p:cNvSpPr/>
                    <p:nvPr/>
                  </p:nvSpPr>
                  <p:spPr>
                    <a:xfrm>
                      <a:off x="4974840" y="53294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8" name=""/>
                    <p:cNvSpPr/>
                    <p:nvPr/>
                  </p:nvSpPr>
                  <p:spPr>
                    <a:xfrm>
                      <a:off x="4974840" y="56030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9" name=""/>
                    <p:cNvSpPr/>
                    <p:nvPr/>
                  </p:nvSpPr>
                  <p:spPr>
                    <a:xfrm>
                      <a:off x="4974840" y="259416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0" name=""/>
                    <p:cNvSpPr/>
                    <p:nvPr/>
                  </p:nvSpPr>
                  <p:spPr>
                    <a:xfrm>
                      <a:off x="4974840" y="28674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1" name=""/>
                    <p:cNvSpPr/>
                    <p:nvPr/>
                  </p:nvSpPr>
                  <p:spPr>
                    <a:xfrm>
                      <a:off x="4974840" y="31410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2" name=""/>
                    <p:cNvSpPr/>
                    <p:nvPr/>
                  </p:nvSpPr>
                  <p:spPr>
                    <a:xfrm>
                      <a:off x="4974840" y="34146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73" name=""/>
                  <p:cNvGrpSpPr/>
                  <p:nvPr/>
                </p:nvGrpSpPr>
                <p:grpSpPr>
                  <a:xfrm>
                    <a:off x="5233680" y="2594160"/>
                    <a:ext cx="258840" cy="3282480"/>
                    <a:chOff x="5233680" y="2594160"/>
                    <a:chExt cx="258840" cy="3282480"/>
                  </a:xfrm>
                </p:grpSpPr>
                <p:sp>
                  <p:nvSpPr>
                    <p:cNvPr id="974" name=""/>
                    <p:cNvSpPr/>
                    <p:nvPr/>
                  </p:nvSpPr>
                  <p:spPr>
                    <a:xfrm>
                      <a:off x="5233680" y="36882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5" name=""/>
                    <p:cNvSpPr/>
                    <p:nvPr/>
                  </p:nvSpPr>
                  <p:spPr>
                    <a:xfrm>
                      <a:off x="5233680" y="39618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6" name=""/>
                    <p:cNvSpPr/>
                    <p:nvPr/>
                  </p:nvSpPr>
                  <p:spPr>
                    <a:xfrm>
                      <a:off x="5233680" y="42354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7" name=""/>
                    <p:cNvSpPr/>
                    <p:nvPr/>
                  </p:nvSpPr>
                  <p:spPr>
                    <a:xfrm>
                      <a:off x="5233680" y="45086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8" name=""/>
                    <p:cNvSpPr/>
                    <p:nvPr/>
                  </p:nvSpPr>
                  <p:spPr>
                    <a:xfrm>
                      <a:off x="5233680" y="47826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9" name=""/>
                    <p:cNvSpPr/>
                    <p:nvPr/>
                  </p:nvSpPr>
                  <p:spPr>
                    <a:xfrm>
                      <a:off x="5233680" y="50562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0" name=""/>
                    <p:cNvSpPr/>
                    <p:nvPr/>
                  </p:nvSpPr>
                  <p:spPr>
                    <a:xfrm>
                      <a:off x="5233680" y="53294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1" name=""/>
                    <p:cNvSpPr/>
                    <p:nvPr/>
                  </p:nvSpPr>
                  <p:spPr>
                    <a:xfrm>
                      <a:off x="5233680" y="56030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2" name=""/>
                    <p:cNvSpPr/>
                    <p:nvPr/>
                  </p:nvSpPr>
                  <p:spPr>
                    <a:xfrm>
                      <a:off x="5233680" y="259416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3" name=""/>
                    <p:cNvSpPr/>
                    <p:nvPr/>
                  </p:nvSpPr>
                  <p:spPr>
                    <a:xfrm>
                      <a:off x="5233680" y="28674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4" name=""/>
                    <p:cNvSpPr/>
                    <p:nvPr/>
                  </p:nvSpPr>
                  <p:spPr>
                    <a:xfrm>
                      <a:off x="5233680" y="31410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5" name=""/>
                    <p:cNvSpPr/>
                    <p:nvPr/>
                  </p:nvSpPr>
                  <p:spPr>
                    <a:xfrm>
                      <a:off x="5233680" y="34146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86" name=""/>
                  <p:cNvGrpSpPr/>
                  <p:nvPr/>
                </p:nvGrpSpPr>
                <p:grpSpPr>
                  <a:xfrm>
                    <a:off x="5492880" y="2594160"/>
                    <a:ext cx="258840" cy="3282480"/>
                    <a:chOff x="5492880" y="2594160"/>
                    <a:chExt cx="258840" cy="3282480"/>
                  </a:xfrm>
                </p:grpSpPr>
                <p:sp>
                  <p:nvSpPr>
                    <p:cNvPr id="987" name=""/>
                    <p:cNvSpPr/>
                    <p:nvPr/>
                  </p:nvSpPr>
                  <p:spPr>
                    <a:xfrm>
                      <a:off x="5492880" y="36882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8" name=""/>
                    <p:cNvSpPr/>
                    <p:nvPr/>
                  </p:nvSpPr>
                  <p:spPr>
                    <a:xfrm>
                      <a:off x="5492880" y="39618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9" name=""/>
                    <p:cNvSpPr/>
                    <p:nvPr/>
                  </p:nvSpPr>
                  <p:spPr>
                    <a:xfrm>
                      <a:off x="5492880" y="42354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0" name=""/>
                    <p:cNvSpPr/>
                    <p:nvPr/>
                  </p:nvSpPr>
                  <p:spPr>
                    <a:xfrm>
                      <a:off x="5492880" y="45086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1" name=""/>
                    <p:cNvSpPr/>
                    <p:nvPr/>
                  </p:nvSpPr>
                  <p:spPr>
                    <a:xfrm>
                      <a:off x="5492880" y="47826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2" name=""/>
                    <p:cNvSpPr/>
                    <p:nvPr/>
                  </p:nvSpPr>
                  <p:spPr>
                    <a:xfrm>
                      <a:off x="5492880" y="50562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3" name=""/>
                    <p:cNvSpPr/>
                    <p:nvPr/>
                  </p:nvSpPr>
                  <p:spPr>
                    <a:xfrm>
                      <a:off x="5492880" y="53294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4" name=""/>
                    <p:cNvSpPr/>
                    <p:nvPr/>
                  </p:nvSpPr>
                  <p:spPr>
                    <a:xfrm>
                      <a:off x="5492880" y="56030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5" name=""/>
                    <p:cNvSpPr/>
                    <p:nvPr/>
                  </p:nvSpPr>
                  <p:spPr>
                    <a:xfrm>
                      <a:off x="5492880" y="259416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6" name=""/>
                    <p:cNvSpPr/>
                    <p:nvPr/>
                  </p:nvSpPr>
                  <p:spPr>
                    <a:xfrm>
                      <a:off x="5492880" y="28674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7" name=""/>
                    <p:cNvSpPr/>
                    <p:nvPr/>
                  </p:nvSpPr>
                  <p:spPr>
                    <a:xfrm>
                      <a:off x="5492880" y="31410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8" name=""/>
                    <p:cNvSpPr/>
                    <p:nvPr/>
                  </p:nvSpPr>
                  <p:spPr>
                    <a:xfrm>
                      <a:off x="5492880" y="34146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99" name=""/>
                  <p:cNvGrpSpPr/>
                  <p:nvPr/>
                </p:nvGrpSpPr>
                <p:grpSpPr>
                  <a:xfrm>
                    <a:off x="5752080" y="2594160"/>
                    <a:ext cx="258840" cy="3282480"/>
                    <a:chOff x="5752080" y="2594160"/>
                    <a:chExt cx="258840" cy="3282480"/>
                  </a:xfrm>
                </p:grpSpPr>
                <p:sp>
                  <p:nvSpPr>
                    <p:cNvPr id="1000" name=""/>
                    <p:cNvSpPr/>
                    <p:nvPr/>
                  </p:nvSpPr>
                  <p:spPr>
                    <a:xfrm>
                      <a:off x="5752080" y="36882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1" name=""/>
                    <p:cNvSpPr/>
                    <p:nvPr/>
                  </p:nvSpPr>
                  <p:spPr>
                    <a:xfrm>
                      <a:off x="5752080" y="39618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2" name=""/>
                    <p:cNvSpPr/>
                    <p:nvPr/>
                  </p:nvSpPr>
                  <p:spPr>
                    <a:xfrm>
                      <a:off x="5752080" y="42354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3" name=""/>
                    <p:cNvSpPr/>
                    <p:nvPr/>
                  </p:nvSpPr>
                  <p:spPr>
                    <a:xfrm>
                      <a:off x="5752080" y="45086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4" name=""/>
                    <p:cNvSpPr/>
                    <p:nvPr/>
                  </p:nvSpPr>
                  <p:spPr>
                    <a:xfrm>
                      <a:off x="5752080" y="47826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5" name=""/>
                    <p:cNvSpPr/>
                    <p:nvPr/>
                  </p:nvSpPr>
                  <p:spPr>
                    <a:xfrm>
                      <a:off x="5752080" y="50562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6" name=""/>
                    <p:cNvSpPr/>
                    <p:nvPr/>
                  </p:nvSpPr>
                  <p:spPr>
                    <a:xfrm>
                      <a:off x="5752080" y="53294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7" name=""/>
                    <p:cNvSpPr/>
                    <p:nvPr/>
                  </p:nvSpPr>
                  <p:spPr>
                    <a:xfrm>
                      <a:off x="5752080" y="56030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8" name=""/>
                    <p:cNvSpPr/>
                    <p:nvPr/>
                  </p:nvSpPr>
                  <p:spPr>
                    <a:xfrm>
                      <a:off x="5752080" y="259416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9" name=""/>
                    <p:cNvSpPr/>
                    <p:nvPr/>
                  </p:nvSpPr>
                  <p:spPr>
                    <a:xfrm>
                      <a:off x="5752080" y="28674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0" name=""/>
                    <p:cNvSpPr/>
                    <p:nvPr/>
                  </p:nvSpPr>
                  <p:spPr>
                    <a:xfrm>
                      <a:off x="5752080" y="31410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1" name=""/>
                    <p:cNvSpPr/>
                    <p:nvPr/>
                  </p:nvSpPr>
                  <p:spPr>
                    <a:xfrm>
                      <a:off x="5752080" y="34146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12" name=""/>
                  <p:cNvGrpSpPr/>
                  <p:nvPr/>
                </p:nvGrpSpPr>
                <p:grpSpPr>
                  <a:xfrm>
                    <a:off x="6011280" y="2594160"/>
                    <a:ext cx="258840" cy="3282480"/>
                    <a:chOff x="6011280" y="2594160"/>
                    <a:chExt cx="258840" cy="3282480"/>
                  </a:xfrm>
                </p:grpSpPr>
                <p:sp>
                  <p:nvSpPr>
                    <p:cNvPr id="1013" name=""/>
                    <p:cNvSpPr/>
                    <p:nvPr/>
                  </p:nvSpPr>
                  <p:spPr>
                    <a:xfrm>
                      <a:off x="6011280" y="36882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4" name=""/>
                    <p:cNvSpPr/>
                    <p:nvPr/>
                  </p:nvSpPr>
                  <p:spPr>
                    <a:xfrm>
                      <a:off x="6011280" y="39618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5" name=""/>
                    <p:cNvSpPr/>
                    <p:nvPr/>
                  </p:nvSpPr>
                  <p:spPr>
                    <a:xfrm>
                      <a:off x="6011280" y="42354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6" name=""/>
                    <p:cNvSpPr/>
                    <p:nvPr/>
                  </p:nvSpPr>
                  <p:spPr>
                    <a:xfrm>
                      <a:off x="6011280" y="45086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7" name=""/>
                    <p:cNvSpPr/>
                    <p:nvPr/>
                  </p:nvSpPr>
                  <p:spPr>
                    <a:xfrm>
                      <a:off x="6011280" y="47826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8" name=""/>
                    <p:cNvSpPr/>
                    <p:nvPr/>
                  </p:nvSpPr>
                  <p:spPr>
                    <a:xfrm>
                      <a:off x="6011280" y="50562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9" name=""/>
                    <p:cNvSpPr/>
                    <p:nvPr/>
                  </p:nvSpPr>
                  <p:spPr>
                    <a:xfrm>
                      <a:off x="6011280" y="53294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0" name=""/>
                    <p:cNvSpPr/>
                    <p:nvPr/>
                  </p:nvSpPr>
                  <p:spPr>
                    <a:xfrm>
                      <a:off x="6011280" y="56030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1" name=""/>
                    <p:cNvSpPr/>
                    <p:nvPr/>
                  </p:nvSpPr>
                  <p:spPr>
                    <a:xfrm>
                      <a:off x="6011280" y="259416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2" name=""/>
                    <p:cNvSpPr/>
                    <p:nvPr/>
                  </p:nvSpPr>
                  <p:spPr>
                    <a:xfrm>
                      <a:off x="6011280" y="28674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3" name=""/>
                    <p:cNvSpPr/>
                    <p:nvPr/>
                  </p:nvSpPr>
                  <p:spPr>
                    <a:xfrm>
                      <a:off x="6011280" y="31410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4" name=""/>
                    <p:cNvSpPr/>
                    <p:nvPr/>
                  </p:nvSpPr>
                  <p:spPr>
                    <a:xfrm>
                      <a:off x="6011280" y="34146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25" name=""/>
                  <p:cNvGrpSpPr/>
                  <p:nvPr/>
                </p:nvGrpSpPr>
                <p:grpSpPr>
                  <a:xfrm>
                    <a:off x="6270480" y="2594160"/>
                    <a:ext cx="258840" cy="3282480"/>
                    <a:chOff x="6270480" y="2594160"/>
                    <a:chExt cx="258840" cy="3282480"/>
                  </a:xfrm>
                </p:grpSpPr>
                <p:sp>
                  <p:nvSpPr>
                    <p:cNvPr id="1026" name=""/>
                    <p:cNvSpPr/>
                    <p:nvPr/>
                  </p:nvSpPr>
                  <p:spPr>
                    <a:xfrm>
                      <a:off x="6270480" y="36882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7" name=""/>
                    <p:cNvSpPr/>
                    <p:nvPr/>
                  </p:nvSpPr>
                  <p:spPr>
                    <a:xfrm>
                      <a:off x="6270480" y="39618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8" name=""/>
                    <p:cNvSpPr/>
                    <p:nvPr/>
                  </p:nvSpPr>
                  <p:spPr>
                    <a:xfrm>
                      <a:off x="6270480" y="42354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9" name=""/>
                    <p:cNvSpPr/>
                    <p:nvPr/>
                  </p:nvSpPr>
                  <p:spPr>
                    <a:xfrm>
                      <a:off x="6270480" y="45086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0" name=""/>
                    <p:cNvSpPr/>
                    <p:nvPr/>
                  </p:nvSpPr>
                  <p:spPr>
                    <a:xfrm>
                      <a:off x="6270480" y="47826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1" name=""/>
                    <p:cNvSpPr/>
                    <p:nvPr/>
                  </p:nvSpPr>
                  <p:spPr>
                    <a:xfrm>
                      <a:off x="6270480" y="50562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2" name=""/>
                    <p:cNvSpPr/>
                    <p:nvPr/>
                  </p:nvSpPr>
                  <p:spPr>
                    <a:xfrm>
                      <a:off x="6270480" y="53294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3" name=""/>
                    <p:cNvSpPr/>
                    <p:nvPr/>
                  </p:nvSpPr>
                  <p:spPr>
                    <a:xfrm>
                      <a:off x="6270480" y="56030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4" name=""/>
                    <p:cNvSpPr/>
                    <p:nvPr/>
                  </p:nvSpPr>
                  <p:spPr>
                    <a:xfrm>
                      <a:off x="6270480" y="259416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5" name=""/>
                    <p:cNvSpPr/>
                    <p:nvPr/>
                  </p:nvSpPr>
                  <p:spPr>
                    <a:xfrm>
                      <a:off x="6270480" y="28674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6" name=""/>
                    <p:cNvSpPr/>
                    <p:nvPr/>
                  </p:nvSpPr>
                  <p:spPr>
                    <a:xfrm>
                      <a:off x="6270480" y="31410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7" name=""/>
                    <p:cNvSpPr/>
                    <p:nvPr/>
                  </p:nvSpPr>
                  <p:spPr>
                    <a:xfrm>
                      <a:off x="6270480" y="34146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38" name=""/>
                  <p:cNvGrpSpPr/>
                  <p:nvPr/>
                </p:nvGrpSpPr>
                <p:grpSpPr>
                  <a:xfrm>
                    <a:off x="6788880" y="2594160"/>
                    <a:ext cx="258840" cy="3282480"/>
                    <a:chOff x="6788880" y="2594160"/>
                    <a:chExt cx="258840" cy="3282480"/>
                  </a:xfrm>
                </p:grpSpPr>
                <p:sp>
                  <p:nvSpPr>
                    <p:cNvPr id="1039" name=""/>
                    <p:cNvSpPr/>
                    <p:nvPr/>
                  </p:nvSpPr>
                  <p:spPr>
                    <a:xfrm>
                      <a:off x="6788880" y="36882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0" name=""/>
                    <p:cNvSpPr/>
                    <p:nvPr/>
                  </p:nvSpPr>
                  <p:spPr>
                    <a:xfrm>
                      <a:off x="6788880" y="39618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1" name=""/>
                    <p:cNvSpPr/>
                    <p:nvPr/>
                  </p:nvSpPr>
                  <p:spPr>
                    <a:xfrm>
                      <a:off x="6788880" y="42354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2" name=""/>
                    <p:cNvSpPr/>
                    <p:nvPr/>
                  </p:nvSpPr>
                  <p:spPr>
                    <a:xfrm>
                      <a:off x="6788880" y="45086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3" name=""/>
                    <p:cNvSpPr/>
                    <p:nvPr/>
                  </p:nvSpPr>
                  <p:spPr>
                    <a:xfrm>
                      <a:off x="6788880" y="47826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4" name=""/>
                    <p:cNvSpPr/>
                    <p:nvPr/>
                  </p:nvSpPr>
                  <p:spPr>
                    <a:xfrm>
                      <a:off x="6788880" y="50562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5" name=""/>
                    <p:cNvSpPr/>
                    <p:nvPr/>
                  </p:nvSpPr>
                  <p:spPr>
                    <a:xfrm>
                      <a:off x="6788880" y="53294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6" name=""/>
                    <p:cNvSpPr/>
                    <p:nvPr/>
                  </p:nvSpPr>
                  <p:spPr>
                    <a:xfrm>
                      <a:off x="6788880" y="56030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7" name=""/>
                    <p:cNvSpPr/>
                    <p:nvPr/>
                  </p:nvSpPr>
                  <p:spPr>
                    <a:xfrm>
                      <a:off x="6788880" y="259416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8" name=""/>
                    <p:cNvSpPr/>
                    <p:nvPr/>
                  </p:nvSpPr>
                  <p:spPr>
                    <a:xfrm>
                      <a:off x="6788880" y="28674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9" name=""/>
                    <p:cNvSpPr/>
                    <p:nvPr/>
                  </p:nvSpPr>
                  <p:spPr>
                    <a:xfrm>
                      <a:off x="6788880" y="31410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0" name=""/>
                    <p:cNvSpPr/>
                    <p:nvPr/>
                  </p:nvSpPr>
                  <p:spPr>
                    <a:xfrm>
                      <a:off x="6788880" y="34146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51" name=""/>
                  <p:cNvGrpSpPr/>
                  <p:nvPr/>
                </p:nvGrpSpPr>
                <p:grpSpPr>
                  <a:xfrm>
                    <a:off x="7048080" y="2594160"/>
                    <a:ext cx="258840" cy="3282480"/>
                    <a:chOff x="7048080" y="2594160"/>
                    <a:chExt cx="258840" cy="3282480"/>
                  </a:xfrm>
                </p:grpSpPr>
                <p:sp>
                  <p:nvSpPr>
                    <p:cNvPr id="1052" name=""/>
                    <p:cNvSpPr/>
                    <p:nvPr/>
                  </p:nvSpPr>
                  <p:spPr>
                    <a:xfrm>
                      <a:off x="7048080" y="36882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3" name=""/>
                    <p:cNvSpPr/>
                    <p:nvPr/>
                  </p:nvSpPr>
                  <p:spPr>
                    <a:xfrm>
                      <a:off x="7048080" y="39618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4" name=""/>
                    <p:cNvSpPr/>
                    <p:nvPr/>
                  </p:nvSpPr>
                  <p:spPr>
                    <a:xfrm>
                      <a:off x="7048080" y="42354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5" name=""/>
                    <p:cNvSpPr/>
                    <p:nvPr/>
                  </p:nvSpPr>
                  <p:spPr>
                    <a:xfrm>
                      <a:off x="7048080" y="45086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6" name=""/>
                    <p:cNvSpPr/>
                    <p:nvPr/>
                  </p:nvSpPr>
                  <p:spPr>
                    <a:xfrm>
                      <a:off x="7048080" y="47826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7" name=""/>
                    <p:cNvSpPr/>
                    <p:nvPr/>
                  </p:nvSpPr>
                  <p:spPr>
                    <a:xfrm>
                      <a:off x="7048080" y="50562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8" name=""/>
                    <p:cNvSpPr/>
                    <p:nvPr/>
                  </p:nvSpPr>
                  <p:spPr>
                    <a:xfrm>
                      <a:off x="7048080" y="53294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9" name=""/>
                    <p:cNvSpPr/>
                    <p:nvPr/>
                  </p:nvSpPr>
                  <p:spPr>
                    <a:xfrm>
                      <a:off x="7048080" y="56030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0" name=""/>
                    <p:cNvSpPr/>
                    <p:nvPr/>
                  </p:nvSpPr>
                  <p:spPr>
                    <a:xfrm>
                      <a:off x="7048080" y="259416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1" name=""/>
                    <p:cNvSpPr/>
                    <p:nvPr/>
                  </p:nvSpPr>
                  <p:spPr>
                    <a:xfrm>
                      <a:off x="7048080" y="28674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2" name=""/>
                    <p:cNvSpPr/>
                    <p:nvPr/>
                  </p:nvSpPr>
                  <p:spPr>
                    <a:xfrm>
                      <a:off x="7048080" y="31410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3" name=""/>
                    <p:cNvSpPr/>
                    <p:nvPr/>
                  </p:nvSpPr>
                  <p:spPr>
                    <a:xfrm>
                      <a:off x="7048080" y="34146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64" name=""/>
                  <p:cNvGrpSpPr/>
                  <p:nvPr/>
                </p:nvGrpSpPr>
                <p:grpSpPr>
                  <a:xfrm>
                    <a:off x="7307280" y="2594160"/>
                    <a:ext cx="258840" cy="3282480"/>
                    <a:chOff x="7307280" y="2594160"/>
                    <a:chExt cx="258840" cy="3282480"/>
                  </a:xfrm>
                </p:grpSpPr>
                <p:sp>
                  <p:nvSpPr>
                    <p:cNvPr id="1065" name=""/>
                    <p:cNvSpPr/>
                    <p:nvPr/>
                  </p:nvSpPr>
                  <p:spPr>
                    <a:xfrm>
                      <a:off x="7307280" y="36882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6" name=""/>
                    <p:cNvSpPr/>
                    <p:nvPr/>
                  </p:nvSpPr>
                  <p:spPr>
                    <a:xfrm>
                      <a:off x="7307280" y="39618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7" name=""/>
                    <p:cNvSpPr/>
                    <p:nvPr/>
                  </p:nvSpPr>
                  <p:spPr>
                    <a:xfrm>
                      <a:off x="7307280" y="42354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8" name=""/>
                    <p:cNvSpPr/>
                    <p:nvPr/>
                  </p:nvSpPr>
                  <p:spPr>
                    <a:xfrm>
                      <a:off x="7307280" y="45086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9" name=""/>
                    <p:cNvSpPr/>
                    <p:nvPr/>
                  </p:nvSpPr>
                  <p:spPr>
                    <a:xfrm>
                      <a:off x="7307280" y="47826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0" name=""/>
                    <p:cNvSpPr/>
                    <p:nvPr/>
                  </p:nvSpPr>
                  <p:spPr>
                    <a:xfrm>
                      <a:off x="7307280" y="50562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1" name=""/>
                    <p:cNvSpPr/>
                    <p:nvPr/>
                  </p:nvSpPr>
                  <p:spPr>
                    <a:xfrm>
                      <a:off x="7307280" y="53294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2" name=""/>
                    <p:cNvSpPr/>
                    <p:nvPr/>
                  </p:nvSpPr>
                  <p:spPr>
                    <a:xfrm>
                      <a:off x="7307280" y="56030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3" name=""/>
                    <p:cNvSpPr/>
                    <p:nvPr/>
                  </p:nvSpPr>
                  <p:spPr>
                    <a:xfrm>
                      <a:off x="7307280" y="259416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4" name=""/>
                    <p:cNvSpPr/>
                    <p:nvPr/>
                  </p:nvSpPr>
                  <p:spPr>
                    <a:xfrm>
                      <a:off x="7307280" y="28674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5" name=""/>
                    <p:cNvSpPr/>
                    <p:nvPr/>
                  </p:nvSpPr>
                  <p:spPr>
                    <a:xfrm>
                      <a:off x="7307280" y="31410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6" name=""/>
                    <p:cNvSpPr/>
                    <p:nvPr/>
                  </p:nvSpPr>
                  <p:spPr>
                    <a:xfrm>
                      <a:off x="7307280" y="34146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77" name=""/>
                  <p:cNvGrpSpPr/>
                  <p:nvPr/>
                </p:nvGrpSpPr>
                <p:grpSpPr>
                  <a:xfrm>
                    <a:off x="7566480" y="2594160"/>
                    <a:ext cx="258840" cy="3282480"/>
                    <a:chOff x="7566480" y="2594160"/>
                    <a:chExt cx="258840" cy="3282480"/>
                  </a:xfrm>
                </p:grpSpPr>
                <p:sp>
                  <p:nvSpPr>
                    <p:cNvPr id="1078" name=""/>
                    <p:cNvSpPr/>
                    <p:nvPr/>
                  </p:nvSpPr>
                  <p:spPr>
                    <a:xfrm>
                      <a:off x="7566480" y="36882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9" name=""/>
                    <p:cNvSpPr/>
                    <p:nvPr/>
                  </p:nvSpPr>
                  <p:spPr>
                    <a:xfrm>
                      <a:off x="7566480" y="39618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0" name=""/>
                    <p:cNvSpPr/>
                    <p:nvPr/>
                  </p:nvSpPr>
                  <p:spPr>
                    <a:xfrm>
                      <a:off x="7566480" y="42354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1" name=""/>
                    <p:cNvSpPr/>
                    <p:nvPr/>
                  </p:nvSpPr>
                  <p:spPr>
                    <a:xfrm>
                      <a:off x="7566480" y="45086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2" name=""/>
                    <p:cNvSpPr/>
                    <p:nvPr/>
                  </p:nvSpPr>
                  <p:spPr>
                    <a:xfrm>
                      <a:off x="7566480" y="47826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3" name=""/>
                    <p:cNvSpPr/>
                    <p:nvPr/>
                  </p:nvSpPr>
                  <p:spPr>
                    <a:xfrm>
                      <a:off x="7566480" y="50562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4" name=""/>
                    <p:cNvSpPr/>
                    <p:nvPr/>
                  </p:nvSpPr>
                  <p:spPr>
                    <a:xfrm>
                      <a:off x="7566480" y="53294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5" name=""/>
                    <p:cNvSpPr/>
                    <p:nvPr/>
                  </p:nvSpPr>
                  <p:spPr>
                    <a:xfrm>
                      <a:off x="7566480" y="56030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6" name=""/>
                    <p:cNvSpPr/>
                    <p:nvPr/>
                  </p:nvSpPr>
                  <p:spPr>
                    <a:xfrm>
                      <a:off x="7566480" y="259416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7" name=""/>
                    <p:cNvSpPr/>
                    <p:nvPr/>
                  </p:nvSpPr>
                  <p:spPr>
                    <a:xfrm>
                      <a:off x="7566480" y="28674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8" name=""/>
                    <p:cNvSpPr/>
                    <p:nvPr/>
                  </p:nvSpPr>
                  <p:spPr>
                    <a:xfrm>
                      <a:off x="7566480" y="31410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9" name=""/>
                    <p:cNvSpPr/>
                    <p:nvPr/>
                  </p:nvSpPr>
                  <p:spPr>
                    <a:xfrm>
                      <a:off x="7566480" y="34146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90" name=""/>
                  <p:cNvGrpSpPr/>
                  <p:nvPr/>
                </p:nvGrpSpPr>
                <p:grpSpPr>
                  <a:xfrm>
                    <a:off x="7825680" y="2594160"/>
                    <a:ext cx="258840" cy="3282480"/>
                    <a:chOff x="7825680" y="2594160"/>
                    <a:chExt cx="258840" cy="3282480"/>
                  </a:xfrm>
                </p:grpSpPr>
                <p:sp>
                  <p:nvSpPr>
                    <p:cNvPr id="1091" name=""/>
                    <p:cNvSpPr/>
                    <p:nvPr/>
                  </p:nvSpPr>
                  <p:spPr>
                    <a:xfrm>
                      <a:off x="7825680" y="36882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2" name=""/>
                    <p:cNvSpPr/>
                    <p:nvPr/>
                  </p:nvSpPr>
                  <p:spPr>
                    <a:xfrm>
                      <a:off x="7825680" y="39618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3" name=""/>
                    <p:cNvSpPr/>
                    <p:nvPr/>
                  </p:nvSpPr>
                  <p:spPr>
                    <a:xfrm>
                      <a:off x="7825680" y="42354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4" name=""/>
                    <p:cNvSpPr/>
                    <p:nvPr/>
                  </p:nvSpPr>
                  <p:spPr>
                    <a:xfrm>
                      <a:off x="7825680" y="45086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5" name=""/>
                    <p:cNvSpPr/>
                    <p:nvPr/>
                  </p:nvSpPr>
                  <p:spPr>
                    <a:xfrm>
                      <a:off x="7825680" y="47826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6" name=""/>
                    <p:cNvSpPr/>
                    <p:nvPr/>
                  </p:nvSpPr>
                  <p:spPr>
                    <a:xfrm>
                      <a:off x="7825680" y="50562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7" name=""/>
                    <p:cNvSpPr/>
                    <p:nvPr/>
                  </p:nvSpPr>
                  <p:spPr>
                    <a:xfrm>
                      <a:off x="7825680" y="53294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8" name=""/>
                    <p:cNvSpPr/>
                    <p:nvPr/>
                  </p:nvSpPr>
                  <p:spPr>
                    <a:xfrm>
                      <a:off x="7825680" y="56030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9" name=""/>
                    <p:cNvSpPr/>
                    <p:nvPr/>
                  </p:nvSpPr>
                  <p:spPr>
                    <a:xfrm>
                      <a:off x="7825680" y="259416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0" name=""/>
                    <p:cNvSpPr/>
                    <p:nvPr/>
                  </p:nvSpPr>
                  <p:spPr>
                    <a:xfrm>
                      <a:off x="7825680" y="28674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1" name=""/>
                    <p:cNvSpPr/>
                    <p:nvPr/>
                  </p:nvSpPr>
                  <p:spPr>
                    <a:xfrm>
                      <a:off x="7825680" y="31410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2" name=""/>
                    <p:cNvSpPr/>
                    <p:nvPr/>
                  </p:nvSpPr>
                  <p:spPr>
                    <a:xfrm>
                      <a:off x="7825680" y="34146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03" name=""/>
                  <p:cNvGrpSpPr/>
                  <p:nvPr/>
                </p:nvGrpSpPr>
                <p:grpSpPr>
                  <a:xfrm>
                    <a:off x="8084880" y="2594160"/>
                    <a:ext cx="258840" cy="3282480"/>
                    <a:chOff x="8084880" y="2594160"/>
                    <a:chExt cx="258840" cy="3282480"/>
                  </a:xfrm>
                </p:grpSpPr>
                <p:sp>
                  <p:nvSpPr>
                    <p:cNvPr id="1104" name=""/>
                    <p:cNvSpPr/>
                    <p:nvPr/>
                  </p:nvSpPr>
                  <p:spPr>
                    <a:xfrm>
                      <a:off x="8084880" y="36882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5" name=""/>
                    <p:cNvSpPr/>
                    <p:nvPr/>
                  </p:nvSpPr>
                  <p:spPr>
                    <a:xfrm>
                      <a:off x="8084880" y="39618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6" name=""/>
                    <p:cNvSpPr/>
                    <p:nvPr/>
                  </p:nvSpPr>
                  <p:spPr>
                    <a:xfrm>
                      <a:off x="8084880" y="42354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7" name=""/>
                    <p:cNvSpPr/>
                    <p:nvPr/>
                  </p:nvSpPr>
                  <p:spPr>
                    <a:xfrm>
                      <a:off x="8084880" y="45086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8" name=""/>
                    <p:cNvSpPr/>
                    <p:nvPr/>
                  </p:nvSpPr>
                  <p:spPr>
                    <a:xfrm>
                      <a:off x="8084880" y="47826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9" name=""/>
                    <p:cNvSpPr/>
                    <p:nvPr/>
                  </p:nvSpPr>
                  <p:spPr>
                    <a:xfrm>
                      <a:off x="8084880" y="50562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0" name=""/>
                    <p:cNvSpPr/>
                    <p:nvPr/>
                  </p:nvSpPr>
                  <p:spPr>
                    <a:xfrm>
                      <a:off x="8084880" y="53294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1" name=""/>
                    <p:cNvSpPr/>
                    <p:nvPr/>
                  </p:nvSpPr>
                  <p:spPr>
                    <a:xfrm>
                      <a:off x="8084880" y="56030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2" name=""/>
                    <p:cNvSpPr/>
                    <p:nvPr/>
                  </p:nvSpPr>
                  <p:spPr>
                    <a:xfrm>
                      <a:off x="8084880" y="259416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3" name=""/>
                    <p:cNvSpPr/>
                    <p:nvPr/>
                  </p:nvSpPr>
                  <p:spPr>
                    <a:xfrm>
                      <a:off x="8084880" y="28674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4" name=""/>
                    <p:cNvSpPr/>
                    <p:nvPr/>
                  </p:nvSpPr>
                  <p:spPr>
                    <a:xfrm>
                      <a:off x="8084880" y="31410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5" name=""/>
                    <p:cNvSpPr/>
                    <p:nvPr/>
                  </p:nvSpPr>
                  <p:spPr>
                    <a:xfrm>
                      <a:off x="8084880" y="34146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16" name=""/>
                  <p:cNvGrpSpPr/>
                  <p:nvPr/>
                </p:nvGrpSpPr>
                <p:grpSpPr>
                  <a:xfrm>
                    <a:off x="8343720" y="2594160"/>
                    <a:ext cx="258840" cy="3282480"/>
                    <a:chOff x="8343720" y="2594160"/>
                    <a:chExt cx="258840" cy="3282480"/>
                  </a:xfrm>
                </p:grpSpPr>
                <p:sp>
                  <p:nvSpPr>
                    <p:cNvPr id="1117" name=""/>
                    <p:cNvSpPr/>
                    <p:nvPr/>
                  </p:nvSpPr>
                  <p:spPr>
                    <a:xfrm>
                      <a:off x="8343720" y="36882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8" name=""/>
                    <p:cNvSpPr/>
                    <p:nvPr/>
                  </p:nvSpPr>
                  <p:spPr>
                    <a:xfrm>
                      <a:off x="8343720" y="39618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9" name=""/>
                    <p:cNvSpPr/>
                    <p:nvPr/>
                  </p:nvSpPr>
                  <p:spPr>
                    <a:xfrm>
                      <a:off x="8343720" y="42354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0" name=""/>
                    <p:cNvSpPr/>
                    <p:nvPr/>
                  </p:nvSpPr>
                  <p:spPr>
                    <a:xfrm>
                      <a:off x="8343720" y="45086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1" name=""/>
                    <p:cNvSpPr/>
                    <p:nvPr/>
                  </p:nvSpPr>
                  <p:spPr>
                    <a:xfrm>
                      <a:off x="8343720" y="47826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2" name=""/>
                    <p:cNvSpPr/>
                    <p:nvPr/>
                  </p:nvSpPr>
                  <p:spPr>
                    <a:xfrm>
                      <a:off x="8343720" y="50562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3" name=""/>
                    <p:cNvSpPr/>
                    <p:nvPr/>
                  </p:nvSpPr>
                  <p:spPr>
                    <a:xfrm>
                      <a:off x="8343720" y="53294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4" name=""/>
                    <p:cNvSpPr/>
                    <p:nvPr/>
                  </p:nvSpPr>
                  <p:spPr>
                    <a:xfrm>
                      <a:off x="8343720" y="560304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5" name=""/>
                    <p:cNvSpPr/>
                    <p:nvPr/>
                  </p:nvSpPr>
                  <p:spPr>
                    <a:xfrm>
                      <a:off x="8343720" y="259416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6" name=""/>
                    <p:cNvSpPr/>
                    <p:nvPr/>
                  </p:nvSpPr>
                  <p:spPr>
                    <a:xfrm>
                      <a:off x="8343720" y="28674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7" name=""/>
                    <p:cNvSpPr/>
                    <p:nvPr/>
                  </p:nvSpPr>
                  <p:spPr>
                    <a:xfrm>
                      <a:off x="8343720" y="3141000"/>
                      <a:ext cx="258840" cy="27360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8" name=""/>
                    <p:cNvSpPr/>
                    <p:nvPr/>
                  </p:nvSpPr>
                  <p:spPr>
                    <a:xfrm>
                      <a:off x="8343720" y="3414600"/>
                      <a:ext cx="258840" cy="27324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129" name=""/>
            <p:cNvGrpSpPr/>
            <p:nvPr/>
          </p:nvGrpSpPr>
          <p:grpSpPr>
            <a:xfrm>
              <a:off x="2209680" y="1557360"/>
              <a:ext cx="4838400" cy="671040"/>
              <a:chOff x="2209680" y="1557360"/>
              <a:chExt cx="4838400" cy="671040"/>
            </a:xfrm>
          </p:grpSpPr>
          <p:sp>
            <p:nvSpPr>
              <p:cNvPr id="1130" name=""/>
              <p:cNvSpPr/>
              <p:nvPr/>
            </p:nvSpPr>
            <p:spPr>
              <a:xfrm>
                <a:off x="2209680" y="1557360"/>
                <a:ext cx="4838400" cy="671040"/>
              </a:xfrm>
              <a:prstGeom prst="borderCallout1">
                <a:avLst>
                  <a:gd name="adj1" fmla="val 18750"/>
                  <a:gd name="adj2" fmla="val -8333"/>
                  <a:gd name="adj3" fmla="val 497050"/>
                  <a:gd name="adj4" fmla="val 112351"/>
                </a:avLst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3800" rIns="73800" tIns="36720" bIns="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2209680" y="1643760"/>
                <a:ext cx="4773600" cy="53244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3800" rIns="7380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Egy pixelhez két érték is</a:t>
                </a:r>
                <a:r>
                  <a:rPr b="0" lang="en-US" sz="19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tartozi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7C20-AF5B-455D-B148-FC143A2540B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 térinformatikai rendszerek hardver eszközei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33" name="" descr=""/>
          <p:cNvPicPr/>
          <p:nvPr/>
        </p:nvPicPr>
        <p:blipFill>
          <a:blip r:embed="rId1"/>
          <a:stretch/>
        </p:blipFill>
        <p:spPr>
          <a:xfrm>
            <a:off x="611280" y="2122560"/>
            <a:ext cx="8064360" cy="367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B951-3311-4A53-A103-9584442FE70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500" spc="-1" strike="noStrike">
                <a:solidFill>
                  <a:srgbClr val="330066"/>
                </a:solidFill>
                <a:latin typeface="Arial"/>
              </a:rPr>
              <a:t>Területi kiterjedés és adatnyerési módszerek kapcsolata.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35" name="" descr=""/>
          <p:cNvPicPr/>
          <p:nvPr/>
        </p:nvPicPr>
        <p:blipFill>
          <a:blip r:embed="rId1"/>
          <a:stretch/>
        </p:blipFill>
        <p:spPr>
          <a:xfrm>
            <a:off x="2050920" y="1558800"/>
            <a:ext cx="4897440" cy="459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9EFF-6631-40AC-B820-20D5C3CB849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Térképe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térbeli adatok tárolásának és megjelenítésének régi eszköze a térkép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térképeket három nagy csoportra oszthatjuk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geodéziai térképek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topográfiak térképe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tematikus térképe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geodéziai térképek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 közvetlen mérések alapján készülnek. A mérési eredmények minimális általánosítással és szimbolikával kerülnek ábrázolásra. Méretarányuk 1:500 és 1:5 000 közé esik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topográfiai térkép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 a legszélesebben használt térképtípus. Méretaránya 1:10 000 - től 1:200 000 -ig terjed. A méretarány csökkenésével az általánosítás foka nő. A Föld felszín mesterséges és természetes objektumainak ábrázolása mellett adminisztratív, gazdasági tematikákat is tartalmazhat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tematikus térképek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 gyakran kisméretarányúak (1:500 000 -1:2 000 000). Gyakran áttekintő céllal készítik, s vizuálisan egyszerűen lehetetlen globális kérdéseket nagyméretarányú térképeken ábrázolva szemlélni és értelmezni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C89F-1E9A-4380-A13C-81834AE0CC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 digitalizálá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térképek a területfüggő információk felhalmozott együttesei. Ha ezeket az analóg adatbázisokat digitális térinformatikai rendszerünkben fel akarjuk használni, úgy digitalizálnunk kell a térképeket.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0" y="0"/>
            <a:ext cx="2948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9" name="3750grau" descr=""/>
          <p:cNvPicPr/>
          <p:nvPr/>
        </p:nvPicPr>
        <p:blipFill>
          <a:blip r:embed="rId1"/>
          <a:stretch/>
        </p:blipFill>
        <p:spPr>
          <a:xfrm>
            <a:off x="4643280" y="3716280"/>
            <a:ext cx="3057840" cy="2003400"/>
          </a:xfrm>
          <a:prstGeom prst="rect">
            <a:avLst/>
          </a:prstGeom>
          <a:ln w="0">
            <a:noFill/>
          </a:ln>
        </p:spPr>
      </p:pic>
      <p:sp>
        <p:nvSpPr>
          <p:cNvPr id="1140" name=""/>
          <p:cNvSpPr/>
          <p:nvPr/>
        </p:nvSpPr>
        <p:spPr>
          <a:xfrm>
            <a:off x="0" y="0"/>
            <a:ext cx="2948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1" name="373cursgr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AD87-E006-4909-A5BC-E0C29FB8CCC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Digitalizálás, vektoros állomány létrehozása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143" name=""/>
          <p:cNvGrpSpPr/>
          <p:nvPr/>
        </p:nvGrpSpPr>
        <p:grpSpPr>
          <a:xfrm>
            <a:off x="468360" y="2060640"/>
            <a:ext cx="8208000" cy="3372480"/>
            <a:chOff x="468360" y="2060640"/>
            <a:chExt cx="8208000" cy="3372480"/>
          </a:xfrm>
        </p:grpSpPr>
        <p:grpSp>
          <p:nvGrpSpPr>
            <p:cNvPr id="1144" name=""/>
            <p:cNvGrpSpPr/>
            <p:nvPr/>
          </p:nvGrpSpPr>
          <p:grpSpPr>
            <a:xfrm>
              <a:off x="468360" y="2229120"/>
              <a:ext cx="3400560" cy="3204000"/>
              <a:chOff x="468360" y="2229120"/>
              <a:chExt cx="3400560" cy="3204000"/>
            </a:xfrm>
          </p:grpSpPr>
          <p:grpSp>
            <p:nvGrpSpPr>
              <p:cNvPr id="1145" name=""/>
              <p:cNvGrpSpPr/>
              <p:nvPr/>
            </p:nvGrpSpPr>
            <p:grpSpPr>
              <a:xfrm>
                <a:off x="468360" y="2229120"/>
                <a:ext cx="3400560" cy="3204000"/>
                <a:chOff x="468360" y="2229120"/>
                <a:chExt cx="3400560" cy="320400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468360" y="2495880"/>
                  <a:ext cx="2204640" cy="2343600"/>
                </a:xfrm>
                <a:custGeom>
                  <a:avLst/>
                  <a:gdLst/>
                  <a:ahLst/>
                  <a:rect l="l" t="t" r="r" b="b"/>
                  <a:pathLst>
                    <a:path w="1224" h="1264">
                      <a:moveTo>
                        <a:pt x="304" y="192"/>
                      </a:moveTo>
                      <a:cubicBezTo>
                        <a:pt x="432" y="96"/>
                        <a:pt x="656" y="0"/>
                        <a:pt x="784" y="48"/>
                      </a:cubicBezTo>
                      <a:cubicBezTo>
                        <a:pt x="912" y="96"/>
                        <a:pt x="1008" y="328"/>
                        <a:pt x="1072" y="480"/>
                      </a:cubicBezTo>
                      <a:cubicBezTo>
                        <a:pt x="1136" y="632"/>
                        <a:pt x="1224" y="832"/>
                        <a:pt x="1168" y="960"/>
                      </a:cubicBezTo>
                      <a:cubicBezTo>
                        <a:pt x="1112" y="1088"/>
                        <a:pt x="864" y="1264"/>
                        <a:pt x="736" y="1248"/>
                      </a:cubicBezTo>
                      <a:cubicBezTo>
                        <a:pt x="608" y="1232"/>
                        <a:pt x="520" y="968"/>
                        <a:pt x="400" y="864"/>
                      </a:cubicBezTo>
                      <a:cubicBezTo>
                        <a:pt x="280" y="760"/>
                        <a:pt x="32" y="736"/>
                        <a:pt x="16" y="624"/>
                      </a:cubicBezTo>
                      <a:cubicBezTo>
                        <a:pt x="0" y="512"/>
                        <a:pt x="176" y="288"/>
                        <a:pt x="304" y="192"/>
                      </a:cubicBezTo>
                      <a:close/>
                    </a:path>
                  </a:pathLst>
                </a:cu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2053080" y="2229120"/>
                  <a:ext cx="1226160" cy="3204000"/>
                </a:xfrm>
                <a:custGeom>
                  <a:avLst/>
                  <a:gdLst/>
                  <a:ahLst/>
                  <a:rect l="l" t="t" r="r" b="b"/>
                  <a:pathLst>
                    <a:path w="528" h="1104">
                      <a:moveTo>
                        <a:pt x="0" y="0"/>
                      </a:moveTo>
                      <a:cubicBezTo>
                        <a:pt x="28" y="28"/>
                        <a:pt x="56" y="56"/>
                        <a:pt x="96" y="96"/>
                      </a:cubicBezTo>
                      <a:cubicBezTo>
                        <a:pt x="136" y="136"/>
                        <a:pt x="192" y="152"/>
                        <a:pt x="240" y="240"/>
                      </a:cubicBezTo>
                      <a:cubicBezTo>
                        <a:pt x="288" y="328"/>
                        <a:pt x="344" y="504"/>
                        <a:pt x="384" y="624"/>
                      </a:cubicBezTo>
                      <a:cubicBezTo>
                        <a:pt x="424" y="744"/>
                        <a:pt x="456" y="880"/>
                        <a:pt x="480" y="960"/>
                      </a:cubicBezTo>
                      <a:cubicBezTo>
                        <a:pt x="504" y="1040"/>
                        <a:pt x="516" y="1072"/>
                        <a:pt x="528" y="1104"/>
                      </a:cubicBezTo>
                    </a:path>
                  </a:pathLst>
                </a:custGeom>
                <a:noFill/>
                <a:ln cap="sq"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48" name=""/>
                <p:cNvGrpSpPr/>
                <p:nvPr/>
              </p:nvGrpSpPr>
              <p:grpSpPr>
                <a:xfrm>
                  <a:off x="670320" y="2229120"/>
                  <a:ext cx="3198600" cy="3203640"/>
                  <a:chOff x="670320" y="2229120"/>
                  <a:chExt cx="3198600" cy="3203640"/>
                </a:xfrm>
              </p:grpSpPr>
              <p:sp>
                <p:nvSpPr>
                  <p:cNvPr id="1149" name=""/>
                  <p:cNvSpPr/>
                  <p:nvPr/>
                </p:nvSpPr>
                <p:spPr>
                  <a:xfrm>
                    <a:off x="2917800" y="2229120"/>
                    <a:ext cx="951120" cy="3114720"/>
                  </a:xfrm>
                  <a:custGeom>
                    <a:avLst/>
                    <a:gdLst/>
                    <a:ahLst/>
                    <a:rect l="l" t="t" r="r" b="b"/>
                    <a:pathLst>
                      <a:path w="528" h="1680">
                        <a:moveTo>
                          <a:pt x="0" y="0"/>
                        </a:moveTo>
                        <a:cubicBezTo>
                          <a:pt x="16" y="172"/>
                          <a:pt x="32" y="344"/>
                          <a:pt x="48" y="480"/>
                        </a:cubicBezTo>
                        <a:cubicBezTo>
                          <a:pt x="64" y="616"/>
                          <a:pt x="72" y="704"/>
                          <a:pt x="96" y="816"/>
                        </a:cubicBezTo>
                        <a:cubicBezTo>
                          <a:pt x="120" y="928"/>
                          <a:pt x="120" y="1008"/>
                          <a:pt x="192" y="1152"/>
                        </a:cubicBezTo>
                        <a:cubicBezTo>
                          <a:pt x="264" y="1296"/>
                          <a:pt x="396" y="1488"/>
                          <a:pt x="528" y="1680"/>
                        </a:cubicBezTo>
                      </a:path>
                    </a:pathLst>
                  </a:custGeom>
                  <a:noFill/>
                  <a:ln cap="sq"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670320" y="4275720"/>
                    <a:ext cx="2506680" cy="115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624">
                        <a:moveTo>
                          <a:pt x="1392" y="0"/>
                        </a:moveTo>
                        <a:cubicBezTo>
                          <a:pt x="1324" y="72"/>
                          <a:pt x="1256" y="144"/>
                          <a:pt x="1200" y="192"/>
                        </a:cubicBezTo>
                        <a:cubicBezTo>
                          <a:pt x="1144" y="240"/>
                          <a:pt x="1128" y="248"/>
                          <a:pt x="1056" y="288"/>
                        </a:cubicBezTo>
                        <a:cubicBezTo>
                          <a:pt x="984" y="328"/>
                          <a:pt x="896" y="392"/>
                          <a:pt x="768" y="432"/>
                        </a:cubicBezTo>
                        <a:cubicBezTo>
                          <a:pt x="640" y="472"/>
                          <a:pt x="416" y="496"/>
                          <a:pt x="288" y="528"/>
                        </a:cubicBezTo>
                        <a:cubicBezTo>
                          <a:pt x="160" y="560"/>
                          <a:pt x="80" y="592"/>
                          <a:pt x="0" y="624"/>
                        </a:cubicBezTo>
                      </a:path>
                    </a:pathLst>
                  </a:custGeom>
                  <a:noFill/>
                  <a:ln cap="sq"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51" name=""/>
              <p:cNvGrpSpPr/>
              <p:nvPr/>
            </p:nvGrpSpPr>
            <p:grpSpPr>
              <a:xfrm>
                <a:off x="3195360" y="2819160"/>
                <a:ext cx="168120" cy="336600"/>
                <a:chOff x="3195360" y="2819160"/>
                <a:chExt cx="168120" cy="33660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3195360" y="2987640"/>
                  <a:ext cx="168120" cy="168120"/>
                </a:xfrm>
                <a:prstGeom prst="ellipse">
                  <a:avLst/>
                </a:prstGeom>
                <a:solidFill>
                  <a:srgbClr val="cc66ff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 flipV="1">
                  <a:off x="3279600" y="2819160"/>
                  <a:ext cx="0" cy="16812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3195360" y="2903400"/>
                  <a:ext cx="16812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5" name=""/>
            <p:cNvGrpSpPr/>
            <p:nvPr/>
          </p:nvGrpSpPr>
          <p:grpSpPr>
            <a:xfrm>
              <a:off x="5135040" y="2060640"/>
              <a:ext cx="3541320" cy="3372480"/>
              <a:chOff x="5135040" y="2060640"/>
              <a:chExt cx="3541320" cy="3372480"/>
            </a:xfrm>
          </p:grpSpPr>
          <p:sp>
            <p:nvSpPr>
              <p:cNvPr id="1156" name=""/>
              <p:cNvSpPr/>
              <p:nvPr/>
            </p:nvSpPr>
            <p:spPr>
              <a:xfrm>
                <a:off x="5219280" y="2482200"/>
                <a:ext cx="2107800" cy="2276640"/>
              </a:xfrm>
              <a:custGeom>
                <a:avLst/>
                <a:gdLst/>
                <a:ahLst/>
                <a:rect l="l" t="t" r="r" b="b"/>
                <a:pathLst>
                  <a:path w="1200" h="1296">
                    <a:moveTo>
                      <a:pt x="0" y="624"/>
                    </a:moveTo>
                    <a:lnTo>
                      <a:pt x="96" y="336"/>
                    </a:lnTo>
                    <a:lnTo>
                      <a:pt x="336" y="144"/>
                    </a:lnTo>
                    <a:lnTo>
                      <a:pt x="576" y="0"/>
                    </a:lnTo>
                    <a:lnTo>
                      <a:pt x="720" y="0"/>
                    </a:lnTo>
                    <a:lnTo>
                      <a:pt x="864" y="48"/>
                    </a:lnTo>
                    <a:lnTo>
                      <a:pt x="1056" y="288"/>
                    </a:lnTo>
                    <a:lnTo>
                      <a:pt x="1200" y="672"/>
                    </a:lnTo>
                    <a:lnTo>
                      <a:pt x="1200" y="912"/>
                    </a:lnTo>
                    <a:lnTo>
                      <a:pt x="1152" y="1104"/>
                    </a:lnTo>
                    <a:lnTo>
                      <a:pt x="960" y="1248"/>
                    </a:lnTo>
                    <a:lnTo>
                      <a:pt x="768" y="1296"/>
                    </a:lnTo>
                    <a:lnTo>
                      <a:pt x="672" y="1248"/>
                    </a:lnTo>
                    <a:lnTo>
                      <a:pt x="528" y="1056"/>
                    </a:lnTo>
                    <a:lnTo>
                      <a:pt x="432" y="912"/>
                    </a:lnTo>
                    <a:lnTo>
                      <a:pt x="384" y="864"/>
                    </a:lnTo>
                    <a:lnTo>
                      <a:pt x="240" y="768"/>
                    </a:lnTo>
                    <a:lnTo>
                      <a:pt x="48" y="720"/>
                    </a:lnTo>
                    <a:lnTo>
                      <a:pt x="0" y="624"/>
                    </a:lnTo>
                    <a:close/>
                  </a:path>
                </a:pathLst>
              </a:custGeom>
              <a:noFill/>
              <a:ln cap="sq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7" name=""/>
              <p:cNvGrpSpPr/>
              <p:nvPr/>
            </p:nvGrpSpPr>
            <p:grpSpPr>
              <a:xfrm>
                <a:off x="6821280" y="2144880"/>
                <a:ext cx="1180440" cy="3203640"/>
                <a:chOff x="6821280" y="2144880"/>
                <a:chExt cx="1180440" cy="3203640"/>
              </a:xfrm>
            </p:grpSpPr>
            <p:sp>
              <p:nvSpPr>
                <p:cNvPr id="1158" name=""/>
                <p:cNvSpPr/>
                <p:nvPr/>
              </p:nvSpPr>
              <p:spPr>
                <a:xfrm>
                  <a:off x="6821280" y="2144880"/>
                  <a:ext cx="505800" cy="59004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7327080" y="2734920"/>
                  <a:ext cx="421560" cy="134892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7748640" y="4084200"/>
                  <a:ext cx="168480" cy="84276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7917480" y="4926960"/>
                  <a:ext cx="84240" cy="42156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2" name=""/>
              <p:cNvGrpSpPr/>
              <p:nvPr/>
            </p:nvGrpSpPr>
            <p:grpSpPr>
              <a:xfrm>
                <a:off x="5387400" y="2144880"/>
                <a:ext cx="3204360" cy="3203640"/>
                <a:chOff x="5387400" y="2144880"/>
                <a:chExt cx="3204360" cy="3203640"/>
              </a:xfrm>
            </p:grpSpPr>
            <p:sp>
              <p:nvSpPr>
                <p:cNvPr id="1163" name=""/>
                <p:cNvSpPr/>
                <p:nvPr/>
              </p:nvSpPr>
              <p:spPr>
                <a:xfrm>
                  <a:off x="7664040" y="2144880"/>
                  <a:ext cx="168840" cy="160164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7832880" y="3746520"/>
                  <a:ext cx="168480" cy="42120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8001720" y="4168080"/>
                  <a:ext cx="0" cy="16884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8001720" y="4336920"/>
                  <a:ext cx="590040" cy="92700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 flipH="1">
                  <a:off x="7410960" y="4168080"/>
                  <a:ext cx="590040" cy="50580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 flipH="1">
                  <a:off x="6904800" y="4673880"/>
                  <a:ext cx="505800" cy="33732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 flipH="1">
                  <a:off x="6315480" y="5011200"/>
                  <a:ext cx="589680" cy="8424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 flipH="1">
                  <a:off x="5893200" y="5095800"/>
                  <a:ext cx="421560" cy="8388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flipH="1">
                  <a:off x="5387400" y="5179680"/>
                  <a:ext cx="505800" cy="16884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2" name=""/>
              <p:cNvSpPr/>
              <p:nvPr/>
            </p:nvSpPr>
            <p:spPr>
              <a:xfrm>
                <a:off x="7917840" y="2903760"/>
                <a:ext cx="168480" cy="168480"/>
              </a:xfrm>
              <a:prstGeom prst="ellipse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3" name=""/>
              <p:cNvGrpSpPr/>
              <p:nvPr/>
            </p:nvGrpSpPr>
            <p:grpSpPr>
              <a:xfrm>
                <a:off x="7917840" y="4084200"/>
                <a:ext cx="168120" cy="168480"/>
                <a:chOff x="7917840" y="4084200"/>
                <a:chExt cx="168120" cy="168480"/>
              </a:xfrm>
            </p:grpSpPr>
            <p:sp>
              <p:nvSpPr>
                <p:cNvPr id="1174" name=""/>
                <p:cNvSpPr/>
                <p:nvPr/>
              </p:nvSpPr>
              <p:spPr>
                <a:xfrm>
                  <a:off x="7917840" y="4084200"/>
                  <a:ext cx="168120" cy="1684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 flipV="1">
                  <a:off x="7917840" y="4084200"/>
                  <a:ext cx="168120" cy="1684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6" name=""/>
              <p:cNvGrpSpPr/>
              <p:nvPr/>
            </p:nvGrpSpPr>
            <p:grpSpPr>
              <a:xfrm>
                <a:off x="5219280" y="3662280"/>
                <a:ext cx="168120" cy="168480"/>
                <a:chOff x="5219280" y="3662280"/>
                <a:chExt cx="168120" cy="168480"/>
              </a:xfrm>
            </p:grpSpPr>
            <p:sp>
              <p:nvSpPr>
                <p:cNvPr id="1177" name=""/>
                <p:cNvSpPr/>
                <p:nvPr/>
              </p:nvSpPr>
              <p:spPr>
                <a:xfrm>
                  <a:off x="5219280" y="3662640"/>
                  <a:ext cx="168120" cy="1681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 flipV="1">
                  <a:off x="5219280" y="3662280"/>
                  <a:ext cx="168120" cy="1681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9" name=""/>
              <p:cNvGrpSpPr/>
              <p:nvPr/>
            </p:nvGrpSpPr>
            <p:grpSpPr>
              <a:xfrm>
                <a:off x="5303520" y="2988000"/>
                <a:ext cx="168480" cy="168480"/>
                <a:chOff x="5303520" y="2988000"/>
                <a:chExt cx="168480" cy="168480"/>
              </a:xfrm>
            </p:grpSpPr>
            <p:sp>
              <p:nvSpPr>
                <p:cNvPr id="1180" name=""/>
                <p:cNvSpPr/>
                <p:nvPr/>
              </p:nvSpPr>
              <p:spPr>
                <a:xfrm>
                  <a:off x="5303520" y="2988360"/>
                  <a:ext cx="168480" cy="1681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 flipV="1">
                  <a:off x="5303520" y="2988000"/>
                  <a:ext cx="168480" cy="1681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2" name=""/>
              <p:cNvGrpSpPr/>
              <p:nvPr/>
            </p:nvGrpSpPr>
            <p:grpSpPr>
              <a:xfrm>
                <a:off x="5725440" y="2650680"/>
                <a:ext cx="168120" cy="168480"/>
                <a:chOff x="5725440" y="2650680"/>
                <a:chExt cx="168120" cy="168480"/>
              </a:xfrm>
            </p:grpSpPr>
            <p:sp>
              <p:nvSpPr>
                <p:cNvPr id="1183" name=""/>
                <p:cNvSpPr/>
                <p:nvPr/>
              </p:nvSpPr>
              <p:spPr>
                <a:xfrm>
                  <a:off x="5725440" y="2651040"/>
                  <a:ext cx="168120" cy="1681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 flipV="1">
                  <a:off x="5725440" y="2650680"/>
                  <a:ext cx="168120" cy="1681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5" name=""/>
              <p:cNvGrpSpPr/>
              <p:nvPr/>
            </p:nvGrpSpPr>
            <p:grpSpPr>
              <a:xfrm>
                <a:off x="6147000" y="2397600"/>
                <a:ext cx="168120" cy="168480"/>
                <a:chOff x="6147000" y="2397600"/>
                <a:chExt cx="168120" cy="168480"/>
              </a:xfrm>
            </p:grpSpPr>
            <p:sp>
              <p:nvSpPr>
                <p:cNvPr id="1186" name=""/>
                <p:cNvSpPr/>
                <p:nvPr/>
              </p:nvSpPr>
              <p:spPr>
                <a:xfrm>
                  <a:off x="6147000" y="2397960"/>
                  <a:ext cx="168120" cy="1681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 flipV="1">
                  <a:off x="6147000" y="2397600"/>
                  <a:ext cx="168120" cy="1681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8" name=""/>
              <p:cNvGrpSpPr/>
              <p:nvPr/>
            </p:nvGrpSpPr>
            <p:grpSpPr>
              <a:xfrm>
                <a:off x="6399720" y="2397600"/>
                <a:ext cx="168120" cy="168480"/>
                <a:chOff x="6399720" y="2397600"/>
                <a:chExt cx="168120" cy="168480"/>
              </a:xfrm>
            </p:grpSpPr>
            <p:sp>
              <p:nvSpPr>
                <p:cNvPr id="1189" name=""/>
                <p:cNvSpPr/>
                <p:nvPr/>
              </p:nvSpPr>
              <p:spPr>
                <a:xfrm>
                  <a:off x="6399720" y="2397960"/>
                  <a:ext cx="168120" cy="1681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 flipV="1">
                  <a:off x="6399720" y="2397600"/>
                  <a:ext cx="168120" cy="1681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1" name=""/>
              <p:cNvGrpSpPr/>
              <p:nvPr/>
            </p:nvGrpSpPr>
            <p:grpSpPr>
              <a:xfrm>
                <a:off x="5135040" y="3493800"/>
                <a:ext cx="168120" cy="168480"/>
                <a:chOff x="5135040" y="3493800"/>
                <a:chExt cx="168120" cy="168480"/>
              </a:xfrm>
            </p:grpSpPr>
            <p:sp>
              <p:nvSpPr>
                <p:cNvPr id="1192" name=""/>
                <p:cNvSpPr/>
                <p:nvPr/>
              </p:nvSpPr>
              <p:spPr>
                <a:xfrm>
                  <a:off x="5135040" y="3494160"/>
                  <a:ext cx="168120" cy="1681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 flipV="1">
                  <a:off x="5135040" y="3493800"/>
                  <a:ext cx="168120" cy="1681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4" name=""/>
              <p:cNvGrpSpPr/>
              <p:nvPr/>
            </p:nvGrpSpPr>
            <p:grpSpPr>
              <a:xfrm>
                <a:off x="6652800" y="2481840"/>
                <a:ext cx="168120" cy="168480"/>
                <a:chOff x="6652800" y="2481840"/>
                <a:chExt cx="168120" cy="168480"/>
              </a:xfrm>
            </p:grpSpPr>
            <p:sp>
              <p:nvSpPr>
                <p:cNvPr id="1195" name=""/>
                <p:cNvSpPr/>
                <p:nvPr/>
              </p:nvSpPr>
              <p:spPr>
                <a:xfrm>
                  <a:off x="6652800" y="2482200"/>
                  <a:ext cx="168120" cy="1681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 flipV="1">
                  <a:off x="6652800" y="2481840"/>
                  <a:ext cx="168120" cy="1681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7" name=""/>
              <p:cNvGrpSpPr/>
              <p:nvPr/>
            </p:nvGrpSpPr>
            <p:grpSpPr>
              <a:xfrm>
                <a:off x="6990480" y="2903400"/>
                <a:ext cx="168120" cy="168480"/>
                <a:chOff x="6990480" y="2903400"/>
                <a:chExt cx="168120" cy="168480"/>
              </a:xfrm>
            </p:grpSpPr>
            <p:sp>
              <p:nvSpPr>
                <p:cNvPr id="1198" name=""/>
                <p:cNvSpPr/>
                <p:nvPr/>
              </p:nvSpPr>
              <p:spPr>
                <a:xfrm>
                  <a:off x="6990480" y="2903760"/>
                  <a:ext cx="168120" cy="1681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 flipV="1">
                  <a:off x="6990480" y="2903400"/>
                  <a:ext cx="168120" cy="1681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0" name=""/>
              <p:cNvGrpSpPr/>
              <p:nvPr/>
            </p:nvGrpSpPr>
            <p:grpSpPr>
              <a:xfrm>
                <a:off x="7243200" y="3578400"/>
                <a:ext cx="168120" cy="168480"/>
                <a:chOff x="7243200" y="3578400"/>
                <a:chExt cx="168120" cy="168480"/>
              </a:xfrm>
            </p:grpSpPr>
            <p:sp>
              <p:nvSpPr>
                <p:cNvPr id="1201" name=""/>
                <p:cNvSpPr/>
                <p:nvPr/>
              </p:nvSpPr>
              <p:spPr>
                <a:xfrm>
                  <a:off x="7243200" y="3578400"/>
                  <a:ext cx="168120" cy="1684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 flipV="1">
                  <a:off x="7243200" y="3578400"/>
                  <a:ext cx="168120" cy="1684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3" name=""/>
              <p:cNvGrpSpPr/>
              <p:nvPr/>
            </p:nvGrpSpPr>
            <p:grpSpPr>
              <a:xfrm>
                <a:off x="7243200" y="3999960"/>
                <a:ext cx="168120" cy="168480"/>
                <a:chOff x="7243200" y="3999960"/>
                <a:chExt cx="168120" cy="168480"/>
              </a:xfrm>
            </p:grpSpPr>
            <p:sp>
              <p:nvSpPr>
                <p:cNvPr id="1204" name=""/>
                <p:cNvSpPr/>
                <p:nvPr/>
              </p:nvSpPr>
              <p:spPr>
                <a:xfrm>
                  <a:off x="7243200" y="4000320"/>
                  <a:ext cx="168120" cy="1681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 flipV="1">
                  <a:off x="7243200" y="3999960"/>
                  <a:ext cx="168120" cy="1681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6" name=""/>
              <p:cNvGrpSpPr/>
              <p:nvPr/>
            </p:nvGrpSpPr>
            <p:grpSpPr>
              <a:xfrm>
                <a:off x="7158960" y="4337280"/>
                <a:ext cx="168120" cy="168480"/>
                <a:chOff x="7158960" y="4337280"/>
                <a:chExt cx="168120" cy="168480"/>
              </a:xfrm>
            </p:grpSpPr>
            <p:sp>
              <p:nvSpPr>
                <p:cNvPr id="1207" name=""/>
                <p:cNvSpPr/>
                <p:nvPr/>
              </p:nvSpPr>
              <p:spPr>
                <a:xfrm>
                  <a:off x="7158960" y="4337280"/>
                  <a:ext cx="168120" cy="1684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 flipV="1">
                  <a:off x="7158960" y="4337280"/>
                  <a:ext cx="168120" cy="1684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9" name=""/>
              <p:cNvGrpSpPr/>
              <p:nvPr/>
            </p:nvGrpSpPr>
            <p:grpSpPr>
              <a:xfrm>
                <a:off x="6821280" y="4590360"/>
                <a:ext cx="168480" cy="168480"/>
                <a:chOff x="6821280" y="4590360"/>
                <a:chExt cx="168480" cy="168480"/>
              </a:xfrm>
            </p:grpSpPr>
            <p:sp>
              <p:nvSpPr>
                <p:cNvPr id="1210" name=""/>
                <p:cNvSpPr/>
                <p:nvPr/>
              </p:nvSpPr>
              <p:spPr>
                <a:xfrm>
                  <a:off x="6821280" y="4590360"/>
                  <a:ext cx="168480" cy="1684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 flipV="1">
                  <a:off x="6821280" y="4590360"/>
                  <a:ext cx="168480" cy="1684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2" name=""/>
              <p:cNvGrpSpPr/>
              <p:nvPr/>
            </p:nvGrpSpPr>
            <p:grpSpPr>
              <a:xfrm>
                <a:off x="6484320" y="4674240"/>
                <a:ext cx="168120" cy="168480"/>
                <a:chOff x="6484320" y="4674240"/>
                <a:chExt cx="168120" cy="168480"/>
              </a:xfrm>
            </p:grpSpPr>
            <p:sp>
              <p:nvSpPr>
                <p:cNvPr id="1213" name=""/>
                <p:cNvSpPr/>
                <p:nvPr/>
              </p:nvSpPr>
              <p:spPr>
                <a:xfrm>
                  <a:off x="6484320" y="4674600"/>
                  <a:ext cx="168120" cy="1681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 flipV="1">
                  <a:off x="6484320" y="4674240"/>
                  <a:ext cx="168120" cy="1681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5" name=""/>
              <p:cNvGrpSpPr/>
              <p:nvPr/>
            </p:nvGrpSpPr>
            <p:grpSpPr>
              <a:xfrm>
                <a:off x="6315480" y="4590360"/>
                <a:ext cx="168480" cy="168480"/>
                <a:chOff x="6315480" y="4590360"/>
                <a:chExt cx="168480" cy="168480"/>
              </a:xfrm>
            </p:grpSpPr>
            <p:sp>
              <p:nvSpPr>
                <p:cNvPr id="1216" name=""/>
                <p:cNvSpPr/>
                <p:nvPr/>
              </p:nvSpPr>
              <p:spPr>
                <a:xfrm>
                  <a:off x="6315480" y="4590360"/>
                  <a:ext cx="168480" cy="1684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 flipV="1">
                  <a:off x="6315480" y="4590360"/>
                  <a:ext cx="168480" cy="1684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8" name=""/>
              <p:cNvGrpSpPr/>
              <p:nvPr/>
            </p:nvGrpSpPr>
            <p:grpSpPr>
              <a:xfrm>
                <a:off x="5978160" y="4084200"/>
                <a:ext cx="168120" cy="168480"/>
                <a:chOff x="5978160" y="4084200"/>
                <a:chExt cx="168120" cy="168480"/>
              </a:xfrm>
            </p:grpSpPr>
            <p:sp>
              <p:nvSpPr>
                <p:cNvPr id="1219" name=""/>
                <p:cNvSpPr/>
                <p:nvPr/>
              </p:nvSpPr>
              <p:spPr>
                <a:xfrm>
                  <a:off x="5978160" y="4084200"/>
                  <a:ext cx="168120" cy="1684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 flipV="1">
                  <a:off x="5978160" y="4084200"/>
                  <a:ext cx="168120" cy="1684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1" name=""/>
              <p:cNvGrpSpPr/>
              <p:nvPr/>
            </p:nvGrpSpPr>
            <p:grpSpPr>
              <a:xfrm>
                <a:off x="5809320" y="3915360"/>
                <a:ext cx="168480" cy="168480"/>
                <a:chOff x="5809320" y="3915360"/>
                <a:chExt cx="168480" cy="168480"/>
              </a:xfrm>
            </p:grpSpPr>
            <p:sp>
              <p:nvSpPr>
                <p:cNvPr id="1222" name=""/>
                <p:cNvSpPr/>
                <p:nvPr/>
              </p:nvSpPr>
              <p:spPr>
                <a:xfrm>
                  <a:off x="5809320" y="3915720"/>
                  <a:ext cx="168480" cy="1681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 flipV="1">
                  <a:off x="5809320" y="3915360"/>
                  <a:ext cx="168480" cy="1681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4" name=""/>
              <p:cNvGrpSpPr/>
              <p:nvPr/>
            </p:nvGrpSpPr>
            <p:grpSpPr>
              <a:xfrm>
                <a:off x="5556240" y="3746880"/>
                <a:ext cx="168480" cy="168480"/>
                <a:chOff x="5556240" y="3746880"/>
                <a:chExt cx="168480" cy="168480"/>
              </a:xfrm>
            </p:grpSpPr>
            <p:sp>
              <p:nvSpPr>
                <p:cNvPr id="1225" name=""/>
                <p:cNvSpPr/>
                <p:nvPr/>
              </p:nvSpPr>
              <p:spPr>
                <a:xfrm>
                  <a:off x="5556240" y="3747240"/>
                  <a:ext cx="168480" cy="1681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 flipV="1">
                  <a:off x="5556240" y="3746880"/>
                  <a:ext cx="168480" cy="1681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7" name=""/>
              <p:cNvGrpSpPr/>
              <p:nvPr/>
            </p:nvGrpSpPr>
            <p:grpSpPr>
              <a:xfrm>
                <a:off x="7917840" y="4252680"/>
                <a:ext cx="168120" cy="168480"/>
                <a:chOff x="7917840" y="4252680"/>
                <a:chExt cx="168120" cy="168480"/>
              </a:xfrm>
            </p:grpSpPr>
            <p:sp>
              <p:nvSpPr>
                <p:cNvPr id="1228" name=""/>
                <p:cNvSpPr/>
                <p:nvPr/>
              </p:nvSpPr>
              <p:spPr>
                <a:xfrm>
                  <a:off x="7917840" y="4253040"/>
                  <a:ext cx="168120" cy="1681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 flipV="1">
                  <a:off x="7917840" y="4252680"/>
                  <a:ext cx="168120" cy="1681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0" name=""/>
              <p:cNvGrpSpPr/>
              <p:nvPr/>
            </p:nvGrpSpPr>
            <p:grpSpPr>
              <a:xfrm>
                <a:off x="7327440" y="4590360"/>
                <a:ext cx="168480" cy="168480"/>
                <a:chOff x="7327440" y="4590360"/>
                <a:chExt cx="168480" cy="168480"/>
              </a:xfrm>
            </p:grpSpPr>
            <p:sp>
              <p:nvSpPr>
                <p:cNvPr id="1231" name=""/>
                <p:cNvSpPr/>
                <p:nvPr/>
              </p:nvSpPr>
              <p:spPr>
                <a:xfrm>
                  <a:off x="7327440" y="4590360"/>
                  <a:ext cx="168480" cy="1684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 flipV="1">
                  <a:off x="7327440" y="4590360"/>
                  <a:ext cx="168480" cy="1684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3" name=""/>
              <p:cNvGrpSpPr/>
              <p:nvPr/>
            </p:nvGrpSpPr>
            <p:grpSpPr>
              <a:xfrm>
                <a:off x="6821280" y="4927320"/>
                <a:ext cx="168480" cy="168480"/>
                <a:chOff x="6821280" y="4927320"/>
                <a:chExt cx="168480" cy="168480"/>
              </a:xfrm>
            </p:grpSpPr>
            <p:sp>
              <p:nvSpPr>
                <p:cNvPr id="1234" name=""/>
                <p:cNvSpPr/>
                <p:nvPr/>
              </p:nvSpPr>
              <p:spPr>
                <a:xfrm>
                  <a:off x="6821280" y="4927680"/>
                  <a:ext cx="168480" cy="1681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 flipV="1">
                  <a:off x="6821280" y="4927320"/>
                  <a:ext cx="168480" cy="1681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6" name=""/>
              <p:cNvGrpSpPr/>
              <p:nvPr/>
            </p:nvGrpSpPr>
            <p:grpSpPr>
              <a:xfrm>
                <a:off x="5809320" y="5096160"/>
                <a:ext cx="168480" cy="168480"/>
                <a:chOff x="5809320" y="5096160"/>
                <a:chExt cx="168480" cy="168480"/>
              </a:xfrm>
            </p:grpSpPr>
            <p:sp>
              <p:nvSpPr>
                <p:cNvPr id="1237" name=""/>
                <p:cNvSpPr/>
                <p:nvPr/>
              </p:nvSpPr>
              <p:spPr>
                <a:xfrm>
                  <a:off x="5809320" y="5096160"/>
                  <a:ext cx="168480" cy="1684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 flipV="1">
                  <a:off x="5809320" y="5096160"/>
                  <a:ext cx="168480" cy="1684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9" name=""/>
              <p:cNvGrpSpPr/>
              <p:nvPr/>
            </p:nvGrpSpPr>
            <p:grpSpPr>
              <a:xfrm>
                <a:off x="5303520" y="5264640"/>
                <a:ext cx="168480" cy="168480"/>
                <a:chOff x="5303520" y="5264640"/>
                <a:chExt cx="168480" cy="168480"/>
              </a:xfrm>
            </p:grpSpPr>
            <p:sp>
              <p:nvSpPr>
                <p:cNvPr id="1240" name=""/>
                <p:cNvSpPr/>
                <p:nvPr/>
              </p:nvSpPr>
              <p:spPr>
                <a:xfrm>
                  <a:off x="5303520" y="5265000"/>
                  <a:ext cx="168480" cy="1681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 flipV="1">
                  <a:off x="5303520" y="5264640"/>
                  <a:ext cx="168480" cy="1681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2" name=""/>
              <p:cNvGrpSpPr/>
              <p:nvPr/>
            </p:nvGrpSpPr>
            <p:grpSpPr>
              <a:xfrm>
                <a:off x="8508240" y="5180400"/>
                <a:ext cx="168120" cy="168480"/>
                <a:chOff x="8508240" y="5180400"/>
                <a:chExt cx="168120" cy="168480"/>
              </a:xfrm>
            </p:grpSpPr>
            <p:sp>
              <p:nvSpPr>
                <p:cNvPr id="1243" name=""/>
                <p:cNvSpPr/>
                <p:nvPr/>
              </p:nvSpPr>
              <p:spPr>
                <a:xfrm>
                  <a:off x="8508240" y="5180760"/>
                  <a:ext cx="168120" cy="1681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 flipV="1">
                  <a:off x="8508240" y="5180400"/>
                  <a:ext cx="168120" cy="1681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5" name=""/>
              <p:cNvGrpSpPr/>
              <p:nvPr/>
            </p:nvGrpSpPr>
            <p:grpSpPr>
              <a:xfrm>
                <a:off x="7917840" y="5264640"/>
                <a:ext cx="168120" cy="168480"/>
                <a:chOff x="7917840" y="5264640"/>
                <a:chExt cx="168120" cy="168480"/>
              </a:xfrm>
            </p:grpSpPr>
            <p:sp>
              <p:nvSpPr>
                <p:cNvPr id="1246" name=""/>
                <p:cNvSpPr/>
                <p:nvPr/>
              </p:nvSpPr>
              <p:spPr>
                <a:xfrm>
                  <a:off x="7917840" y="5265000"/>
                  <a:ext cx="168120" cy="1681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 flipV="1">
                  <a:off x="7917840" y="5264640"/>
                  <a:ext cx="168120" cy="1681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8" name=""/>
              <p:cNvGrpSpPr/>
              <p:nvPr/>
            </p:nvGrpSpPr>
            <p:grpSpPr>
              <a:xfrm>
                <a:off x="7664760" y="3999960"/>
                <a:ext cx="168120" cy="168480"/>
                <a:chOff x="7664760" y="3999960"/>
                <a:chExt cx="168120" cy="168480"/>
              </a:xfrm>
            </p:grpSpPr>
            <p:sp>
              <p:nvSpPr>
                <p:cNvPr id="1249" name=""/>
                <p:cNvSpPr/>
                <p:nvPr/>
              </p:nvSpPr>
              <p:spPr>
                <a:xfrm>
                  <a:off x="7664760" y="4000320"/>
                  <a:ext cx="168120" cy="1681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 flipV="1">
                  <a:off x="7664760" y="3999960"/>
                  <a:ext cx="168120" cy="1681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1" name=""/>
              <p:cNvGrpSpPr/>
              <p:nvPr/>
            </p:nvGrpSpPr>
            <p:grpSpPr>
              <a:xfrm>
                <a:off x="7243200" y="2650680"/>
                <a:ext cx="168120" cy="168480"/>
                <a:chOff x="7243200" y="2650680"/>
                <a:chExt cx="168120" cy="168480"/>
              </a:xfrm>
            </p:grpSpPr>
            <p:sp>
              <p:nvSpPr>
                <p:cNvPr id="1252" name=""/>
                <p:cNvSpPr/>
                <p:nvPr/>
              </p:nvSpPr>
              <p:spPr>
                <a:xfrm>
                  <a:off x="7243200" y="2651040"/>
                  <a:ext cx="168120" cy="1681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 flipV="1">
                  <a:off x="7243200" y="2650680"/>
                  <a:ext cx="168120" cy="1681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4" name=""/>
              <p:cNvGrpSpPr/>
              <p:nvPr/>
            </p:nvGrpSpPr>
            <p:grpSpPr>
              <a:xfrm>
                <a:off x="7749360" y="3662280"/>
                <a:ext cx="168120" cy="168480"/>
                <a:chOff x="7749360" y="3662280"/>
                <a:chExt cx="168120" cy="168480"/>
              </a:xfrm>
            </p:grpSpPr>
            <p:sp>
              <p:nvSpPr>
                <p:cNvPr id="1255" name=""/>
                <p:cNvSpPr/>
                <p:nvPr/>
              </p:nvSpPr>
              <p:spPr>
                <a:xfrm>
                  <a:off x="7749360" y="3662640"/>
                  <a:ext cx="168120" cy="1681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 flipV="1">
                  <a:off x="7749360" y="3662280"/>
                  <a:ext cx="168120" cy="1681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7" name=""/>
              <p:cNvGrpSpPr/>
              <p:nvPr/>
            </p:nvGrpSpPr>
            <p:grpSpPr>
              <a:xfrm>
                <a:off x="7580520" y="2060640"/>
                <a:ext cx="168480" cy="168480"/>
                <a:chOff x="7580520" y="2060640"/>
                <a:chExt cx="168480" cy="168480"/>
              </a:xfrm>
            </p:grpSpPr>
            <p:sp>
              <p:nvSpPr>
                <p:cNvPr id="1258" name=""/>
                <p:cNvSpPr/>
                <p:nvPr/>
              </p:nvSpPr>
              <p:spPr>
                <a:xfrm>
                  <a:off x="7580520" y="2060640"/>
                  <a:ext cx="168480" cy="1684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 flipV="1">
                  <a:off x="7580520" y="2060640"/>
                  <a:ext cx="168480" cy="1684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0" name=""/>
              <p:cNvGrpSpPr/>
              <p:nvPr/>
            </p:nvGrpSpPr>
            <p:grpSpPr>
              <a:xfrm>
                <a:off x="6737400" y="2060640"/>
                <a:ext cx="168120" cy="168480"/>
                <a:chOff x="6737400" y="2060640"/>
                <a:chExt cx="168120" cy="168480"/>
              </a:xfrm>
            </p:grpSpPr>
            <p:sp>
              <p:nvSpPr>
                <p:cNvPr id="1261" name=""/>
                <p:cNvSpPr/>
                <p:nvPr/>
              </p:nvSpPr>
              <p:spPr>
                <a:xfrm>
                  <a:off x="6737400" y="2060640"/>
                  <a:ext cx="168120" cy="1684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 flipV="1">
                  <a:off x="6737400" y="2060640"/>
                  <a:ext cx="168120" cy="1684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3" name=""/>
              <p:cNvGrpSpPr/>
              <p:nvPr/>
            </p:nvGrpSpPr>
            <p:grpSpPr>
              <a:xfrm>
                <a:off x="7917840" y="2903400"/>
                <a:ext cx="168120" cy="168480"/>
                <a:chOff x="7917840" y="2903400"/>
                <a:chExt cx="168120" cy="168480"/>
              </a:xfrm>
            </p:grpSpPr>
            <p:sp>
              <p:nvSpPr>
                <p:cNvPr id="1264" name=""/>
                <p:cNvSpPr/>
                <p:nvPr/>
              </p:nvSpPr>
              <p:spPr>
                <a:xfrm>
                  <a:off x="7917840" y="2903760"/>
                  <a:ext cx="168120" cy="1681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 flipV="1">
                  <a:off x="7917840" y="2903400"/>
                  <a:ext cx="168120" cy="1681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D317-1A5F-451B-9B4F-227E14904C8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zkennelé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z első szkennerek nagymértékben térképészeti igényekre jöttek létre, s ez meghatározta azt az alapvető követelményt, hogy alkalmasak legyenek nagy (1 m. fölötti) térképek digitalizálására, s egyben kiemelten törekedjenek a leképezés geometriai pontosságának biztosításár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nagyméretű térképeket dobra erősítették mely a szkennelés folyamán forgott, a megvilágító berendezéssel kombinált szenzoros optika pedig a dob tengelyével párhuzamos haladó mozgást végzett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következő fejlődési szakaszban (80-as évek közepe) a szabatos szkennelésre a síkágyas plotterek mintájára készült síkágyas szkennereket alkalmazták elsősorban. A kocsira szerelt, színenként alkalmazott, egyedi vagy sordetektorok és megvilágító berendezéseik kétirányú mozgását egy mozgó híd </a:t>
            </a:r>
            <a:r>
              <a:rPr b="1" i="1" lang="hu-HU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irányú illetve a hídon lévő kocsi </a:t>
            </a:r>
            <a:r>
              <a:rPr b="1" i="1" lang="hu-HU" sz="21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irányú mozgatásával érik el a léptetőmotorok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9BD6-5879-4C1A-8A02-5883181E217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Korszerű asztali szkenner és korszerű állványos szkenner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69" name="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4170600" cy="2963880"/>
          </a:xfrm>
          <a:prstGeom prst="rect">
            <a:avLst/>
          </a:prstGeom>
          <a:ln w="0">
            <a:noFill/>
          </a:ln>
        </p:spPr>
      </p:pic>
      <p:pic>
        <p:nvPicPr>
          <p:cNvPr id="1270" name="" descr=""/>
          <p:cNvPicPr/>
          <p:nvPr/>
        </p:nvPicPr>
        <p:blipFill>
          <a:blip r:embed="rId2"/>
          <a:stretch/>
        </p:blipFill>
        <p:spPr>
          <a:xfrm>
            <a:off x="4859280" y="2351160"/>
            <a:ext cx="3529080" cy="307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015B-6310-4F57-9C05-1D8EADA6B72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Fotogrammetriai módszerek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légi fotogrammetria bemenő adatai az </a:t>
            </a:r>
            <a:r>
              <a:rPr b="1" i="1" lang="hu-HU" sz="1900" spc="-1" strike="noStrike">
                <a:solidFill>
                  <a:srgbClr val="000000"/>
                </a:solidFill>
                <a:latin typeface="Arial"/>
              </a:rPr>
              <a:t>analóg vagy digitális légifényképek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. Az analóg felvételeket a </a:t>
            </a:r>
            <a:r>
              <a:rPr b="1" i="1" lang="hu-HU" sz="1900" spc="-1" strike="noStrike">
                <a:solidFill>
                  <a:srgbClr val="000000"/>
                </a:solidFill>
                <a:latin typeface="Arial"/>
              </a:rPr>
              <a:t>légi felvevő kamarák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 állítják elő, melyek a felvevő repülőgépekben kerülnek rögzítésr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kamarák feladata, hogy a repülési paraméterekhez (repülési magasság, repülési sebesség) kapcsoltan meghatározott időközökben, a megvilágítási körülményeknek, a sebességnek, a film érzékenységnek, stb. megfelelő időtartamra megvilágítsák a filmet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fényképezés pillanatában a filmnek szigorúan sík felületűnek kell lennie (ezt vákuumos leszívással érik el), és az előhívás, szárítás folyamatában eredeti alakját nem szabad megváltoztatni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fotogrammetriai feldogozása digitális fotogrammetriai munkaállomásokon megy végbe. Ezek a számítógépek pedig digitális formában várják az inputot. A digitális bemenő adatokat kétféle képen hozhatjuk létre: vagy digitalizáljuk a fényképet vagy analóg helyett digitális kamarát használunk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900" spc="-1" strike="noStrike">
                <a:solidFill>
                  <a:srgbClr val="000000"/>
                </a:solidFill>
                <a:latin typeface="Arial"/>
              </a:rPr>
              <a:t>A digitális fotogrammetriai munkaállomás 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speciális perifériákkal ellátott, gazdag szoftver választékú, munkaállomás osztályú számítógép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B70F-BC31-47B8-9EB3-52A5944D893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500" spc="-1" strike="noStrike">
                <a:solidFill>
                  <a:srgbClr val="330066"/>
                </a:solidFill>
                <a:latin typeface="Arial"/>
              </a:rPr>
              <a:t>Geometriai és szakadatok kezelésének integrált rendszere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74" name="" descr=""/>
          <p:cNvPicPr/>
          <p:nvPr/>
        </p:nvPicPr>
        <p:blipFill>
          <a:blip r:embed="rId1"/>
          <a:stretch/>
        </p:blipFill>
        <p:spPr>
          <a:xfrm>
            <a:off x="2208240" y="1557360"/>
            <a:ext cx="4602240" cy="46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1CA4-89D5-4A2C-84F1-F41BF0340D8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Megfelelteté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276" name=""/>
          <p:cNvGrpSpPr/>
          <p:nvPr/>
        </p:nvGrpSpPr>
        <p:grpSpPr>
          <a:xfrm>
            <a:off x="752760" y="2732040"/>
            <a:ext cx="7471800" cy="3432240"/>
            <a:chOff x="752760" y="2732040"/>
            <a:chExt cx="7471800" cy="3432240"/>
          </a:xfrm>
        </p:grpSpPr>
        <p:grpSp>
          <p:nvGrpSpPr>
            <p:cNvPr id="1277" name=""/>
            <p:cNvGrpSpPr/>
            <p:nvPr/>
          </p:nvGrpSpPr>
          <p:grpSpPr>
            <a:xfrm>
              <a:off x="4455000" y="2732040"/>
              <a:ext cx="3769560" cy="3432240"/>
              <a:chOff x="4455000" y="2732040"/>
              <a:chExt cx="3769560" cy="3432240"/>
            </a:xfrm>
          </p:grpSpPr>
          <p:sp>
            <p:nvSpPr>
              <p:cNvPr id="1278" name=""/>
              <p:cNvSpPr/>
              <p:nvPr/>
            </p:nvSpPr>
            <p:spPr>
              <a:xfrm>
                <a:off x="4455000" y="2732040"/>
                <a:ext cx="3769560" cy="3432240"/>
              </a:xfrm>
              <a:prstGeom prst="rect">
                <a:avLst/>
              </a:prstGeom>
              <a:solidFill>
                <a:srgbClr val="ff6600"/>
              </a:solidFill>
              <a:ln cap="sq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868360" y="2732040"/>
                <a:ext cx="2355840" cy="3432240"/>
              </a:xfrm>
              <a:custGeom>
                <a:avLst/>
                <a:gdLst/>
                <a:ahLst/>
                <a:rect l="l" t="t" r="r" b="b"/>
                <a:pathLst>
                  <a:path w="1680" h="2448">
                    <a:moveTo>
                      <a:pt x="0" y="2448"/>
                    </a:moveTo>
                    <a:lnTo>
                      <a:pt x="336" y="2256"/>
                    </a:lnTo>
                    <a:lnTo>
                      <a:pt x="432" y="1776"/>
                    </a:lnTo>
                    <a:lnTo>
                      <a:pt x="1296" y="624"/>
                    </a:lnTo>
                    <a:lnTo>
                      <a:pt x="1584" y="384"/>
                    </a:lnTo>
                    <a:lnTo>
                      <a:pt x="1680" y="0"/>
                    </a:lnTo>
                    <a:lnTo>
                      <a:pt x="1680" y="1440"/>
                    </a:lnTo>
                    <a:lnTo>
                      <a:pt x="1392" y="1344"/>
                    </a:lnTo>
                    <a:lnTo>
                      <a:pt x="912" y="1632"/>
                    </a:lnTo>
                    <a:lnTo>
                      <a:pt x="624" y="2016"/>
                    </a:lnTo>
                    <a:lnTo>
                      <a:pt x="528" y="2352"/>
                    </a:lnTo>
                    <a:lnTo>
                      <a:pt x="816" y="2448"/>
                    </a:lnTo>
                    <a:lnTo>
                      <a:pt x="0" y="2448"/>
                    </a:lnTo>
                    <a:close/>
                  </a:path>
                </a:pathLst>
              </a:custGeom>
              <a:solidFill>
                <a:srgbClr val="ff6600"/>
              </a:solidFill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4455000" y="4481640"/>
                <a:ext cx="1884600" cy="1548000"/>
              </a:xfrm>
              <a:custGeom>
                <a:avLst/>
                <a:gdLst/>
                <a:ahLst/>
                <a:rect l="l" t="t" r="r" b="b"/>
                <a:pathLst>
                  <a:path w="1344" h="1104">
                    <a:moveTo>
                      <a:pt x="0" y="480"/>
                    </a:moveTo>
                    <a:lnTo>
                      <a:pt x="336" y="432"/>
                    </a:lnTo>
                    <a:lnTo>
                      <a:pt x="720" y="0"/>
                    </a:lnTo>
                    <a:lnTo>
                      <a:pt x="1344" y="480"/>
                    </a:lnTo>
                    <a:lnTo>
                      <a:pt x="1200" y="960"/>
                    </a:lnTo>
                    <a:lnTo>
                      <a:pt x="960" y="1104"/>
                    </a:lnTo>
                    <a:lnTo>
                      <a:pt x="0" y="1104"/>
                    </a:lnTo>
                    <a:lnTo>
                      <a:pt x="0" y="480"/>
                    </a:lnTo>
                    <a:close/>
                  </a:path>
                </a:pathLst>
              </a:custGeom>
              <a:noFill/>
              <a:ln cap="sq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5464440" y="2732040"/>
                <a:ext cx="2557800" cy="2419920"/>
              </a:xfrm>
              <a:custGeom>
                <a:avLst/>
                <a:gdLst/>
                <a:ahLst/>
                <a:rect l="l" t="t" r="r" b="b"/>
                <a:pathLst>
                  <a:path w="1824" h="1726">
                    <a:moveTo>
                      <a:pt x="0" y="1248"/>
                    </a:moveTo>
                    <a:lnTo>
                      <a:pt x="288" y="720"/>
                    </a:lnTo>
                    <a:lnTo>
                      <a:pt x="1008" y="480"/>
                    </a:lnTo>
                    <a:lnTo>
                      <a:pt x="1152" y="0"/>
                    </a:lnTo>
                    <a:lnTo>
                      <a:pt x="1824" y="0"/>
                    </a:lnTo>
                    <a:lnTo>
                      <a:pt x="1776" y="288"/>
                    </a:lnTo>
                    <a:lnTo>
                      <a:pt x="1440" y="528"/>
                    </a:lnTo>
                    <a:lnTo>
                      <a:pt x="619" y="1726"/>
                    </a:lnTo>
                    <a:lnTo>
                      <a:pt x="0" y="1248"/>
                    </a:lnTo>
                    <a:close/>
                  </a:path>
                </a:pathLst>
              </a:custGeom>
              <a:noFill/>
              <a:ln cap="sq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868360" y="2732040"/>
                <a:ext cx="2355840" cy="3432240"/>
              </a:xfrm>
              <a:custGeom>
                <a:avLst/>
                <a:gdLst/>
                <a:ahLst/>
                <a:rect l="l" t="t" r="r" b="b"/>
                <a:pathLst>
                  <a:path w="1680" h="2448">
                    <a:moveTo>
                      <a:pt x="0" y="2448"/>
                    </a:moveTo>
                    <a:lnTo>
                      <a:pt x="336" y="2256"/>
                    </a:lnTo>
                    <a:lnTo>
                      <a:pt x="432" y="1776"/>
                    </a:lnTo>
                    <a:lnTo>
                      <a:pt x="1296" y="624"/>
                    </a:lnTo>
                    <a:lnTo>
                      <a:pt x="1584" y="384"/>
                    </a:lnTo>
                    <a:lnTo>
                      <a:pt x="1680" y="0"/>
                    </a:lnTo>
                    <a:lnTo>
                      <a:pt x="1680" y="1440"/>
                    </a:lnTo>
                    <a:lnTo>
                      <a:pt x="1392" y="1344"/>
                    </a:lnTo>
                    <a:lnTo>
                      <a:pt x="912" y="1632"/>
                    </a:lnTo>
                    <a:lnTo>
                      <a:pt x="624" y="2016"/>
                    </a:lnTo>
                    <a:lnTo>
                      <a:pt x="528" y="2352"/>
                    </a:lnTo>
                    <a:lnTo>
                      <a:pt x="816" y="2448"/>
                    </a:lnTo>
                    <a:lnTo>
                      <a:pt x="0" y="2448"/>
                    </a:lnTo>
                    <a:close/>
                  </a:path>
                </a:pathLst>
              </a:custGeom>
              <a:solidFill>
                <a:srgbClr val="ff6600"/>
              </a:solidFill>
              <a:ln cap="sq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6608880" y="4616280"/>
                <a:ext cx="1615320" cy="1547640"/>
              </a:xfrm>
              <a:custGeom>
                <a:avLst/>
                <a:gdLst/>
                <a:ahLst/>
                <a:rect l="l" t="t" r="r" b="b"/>
                <a:pathLst>
                  <a:path w="1152" h="1104">
                    <a:moveTo>
                      <a:pt x="864" y="0"/>
                    </a:moveTo>
                    <a:lnTo>
                      <a:pt x="384" y="288"/>
                    </a:lnTo>
                    <a:lnTo>
                      <a:pt x="96" y="672"/>
                    </a:lnTo>
                    <a:lnTo>
                      <a:pt x="0" y="1008"/>
                    </a:lnTo>
                    <a:lnTo>
                      <a:pt x="288" y="1104"/>
                    </a:lnTo>
                    <a:lnTo>
                      <a:pt x="1152" y="1104"/>
                    </a:lnTo>
                    <a:lnTo>
                      <a:pt x="1152" y="96"/>
                    </a:lnTo>
                    <a:lnTo>
                      <a:pt x="864" y="0"/>
                    </a:lnTo>
                    <a:close/>
                  </a:path>
                </a:pathLst>
              </a:custGeom>
              <a:solidFill>
                <a:srgbClr val="3333cc"/>
              </a:solidFill>
              <a:ln cap="sq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4455000" y="2732040"/>
                <a:ext cx="2625120" cy="2422440"/>
              </a:xfrm>
              <a:custGeom>
                <a:avLst/>
                <a:gdLst/>
                <a:ahLst/>
                <a:rect l="l" t="t" r="r" b="b"/>
                <a:pathLst>
                  <a:path w="1872" h="1728">
                    <a:moveTo>
                      <a:pt x="0" y="0"/>
                    </a:moveTo>
                    <a:lnTo>
                      <a:pt x="1872" y="0"/>
                    </a:lnTo>
                    <a:lnTo>
                      <a:pt x="1728" y="480"/>
                    </a:lnTo>
                    <a:lnTo>
                      <a:pt x="1008" y="720"/>
                    </a:lnTo>
                    <a:lnTo>
                      <a:pt x="720" y="1248"/>
                    </a:lnTo>
                    <a:lnTo>
                      <a:pt x="336" y="1680"/>
                    </a:lnTo>
                    <a:lnTo>
                      <a:pt x="0" y="17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4455000" y="2732040"/>
                <a:ext cx="3769560" cy="3432240"/>
              </a:xfrm>
              <a:custGeom>
                <a:avLst/>
                <a:gdLst/>
                <a:ahLst/>
                <a:rect l="l" t="t" r="r" b="b"/>
                <a:pathLst>
                  <a:path w="2688" h="2448">
                    <a:moveTo>
                      <a:pt x="0" y="2448"/>
                    </a:moveTo>
                    <a:lnTo>
                      <a:pt x="1008" y="2448"/>
                    </a:lnTo>
                    <a:lnTo>
                      <a:pt x="1344" y="2256"/>
                    </a:lnTo>
                    <a:lnTo>
                      <a:pt x="1488" y="1776"/>
                    </a:lnTo>
                    <a:lnTo>
                      <a:pt x="2304" y="624"/>
                    </a:lnTo>
                    <a:lnTo>
                      <a:pt x="2592" y="384"/>
                    </a:lnTo>
                    <a:lnTo>
                      <a:pt x="2688" y="0"/>
                    </a:lnTo>
                    <a:lnTo>
                      <a:pt x="2544" y="0"/>
                    </a:lnTo>
                    <a:lnTo>
                      <a:pt x="2496" y="288"/>
                    </a:lnTo>
                    <a:lnTo>
                      <a:pt x="2160" y="528"/>
                    </a:lnTo>
                    <a:lnTo>
                      <a:pt x="1344" y="1728"/>
                    </a:lnTo>
                    <a:lnTo>
                      <a:pt x="1200" y="2208"/>
                    </a:lnTo>
                    <a:lnTo>
                      <a:pt x="912" y="2352"/>
                    </a:lnTo>
                    <a:lnTo>
                      <a:pt x="0" y="2352"/>
                    </a:lnTo>
                    <a:lnTo>
                      <a:pt x="0" y="2448"/>
                    </a:lnTo>
                    <a:close/>
                  </a:path>
                </a:pathLst>
              </a:custGeom>
              <a:solidFill>
                <a:srgbClr val="b2b2b2"/>
              </a:solidFill>
              <a:ln cap="sq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930280" y="3937680"/>
                <a:ext cx="779760" cy="33480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760" rIns="5976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1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11223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4785480" y="3197520"/>
                <a:ext cx="779760" cy="33480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760" rIns="5976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1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223344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7141680" y="5418360"/>
                <a:ext cx="779760" cy="33480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760" rIns="5976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1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334455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7343640" y="4206960"/>
                <a:ext cx="779760" cy="33480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760" rIns="5976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1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445566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920480" y="5619960"/>
                <a:ext cx="779760" cy="33480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9760" rIns="5976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1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667788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291" name=""/>
            <p:cNvGraphicFramePr/>
            <p:nvPr/>
          </p:nvGraphicFramePr>
          <p:xfrm>
            <a:off x="752760" y="3741480"/>
            <a:ext cx="3373200" cy="16261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9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2760" y="3741480"/>
                      <a:ext cx="3373200" cy="162612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293" name=""/>
            <p:cNvSpPr/>
            <p:nvPr/>
          </p:nvSpPr>
          <p:spPr>
            <a:xfrm flipV="1">
              <a:off x="3781800" y="3741120"/>
              <a:ext cx="2894400" cy="13428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781800" y="4078080"/>
              <a:ext cx="1346040" cy="6732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781800" y="4347360"/>
              <a:ext cx="3971520" cy="8748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781800" y="4548960"/>
              <a:ext cx="2894400" cy="80748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849120" y="4750920"/>
              <a:ext cx="2490480" cy="67284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3781800" y="4952880"/>
              <a:ext cx="1548000" cy="60552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9A32-DEA1-42E7-84FD-4EDE8C6E18F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Hierarchikus kapcsolat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476280" y="2640600"/>
            <a:ext cx="7527240" cy="3366360"/>
            <a:chOff x="476280" y="2640600"/>
            <a:chExt cx="7527240" cy="3366360"/>
          </a:xfrm>
        </p:grpSpPr>
        <p:graphicFrame>
          <p:nvGraphicFramePr>
            <p:cNvPr id="1302" name=""/>
            <p:cNvGraphicFramePr/>
            <p:nvPr/>
          </p:nvGraphicFramePr>
          <p:xfrm>
            <a:off x="740160" y="4158720"/>
            <a:ext cx="3458880" cy="1543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3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40160" y="4158720"/>
                      <a:ext cx="3458880" cy="154332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304" name=""/>
            <p:cNvSpPr/>
            <p:nvPr/>
          </p:nvSpPr>
          <p:spPr>
            <a:xfrm>
              <a:off x="4305960" y="2640600"/>
              <a:ext cx="3697560" cy="3366360"/>
            </a:xfrm>
            <a:prstGeom prst="rect">
              <a:avLst/>
            </a:prstGeom>
            <a:solidFill>
              <a:srgbClr val="ff6600"/>
            </a:solidFill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692680" y="2640600"/>
              <a:ext cx="2310840" cy="3366360"/>
            </a:xfrm>
            <a:custGeom>
              <a:avLst/>
              <a:gdLst/>
              <a:ahLst/>
              <a:rect l="l" t="t" r="r" b="b"/>
              <a:pathLst>
                <a:path w="1680" h="2448">
                  <a:moveTo>
                    <a:pt x="0" y="2448"/>
                  </a:moveTo>
                  <a:lnTo>
                    <a:pt x="336" y="2256"/>
                  </a:lnTo>
                  <a:lnTo>
                    <a:pt x="432" y="1776"/>
                  </a:lnTo>
                  <a:lnTo>
                    <a:pt x="1296" y="624"/>
                  </a:lnTo>
                  <a:lnTo>
                    <a:pt x="1584" y="384"/>
                  </a:lnTo>
                  <a:lnTo>
                    <a:pt x="1680" y="0"/>
                  </a:lnTo>
                  <a:lnTo>
                    <a:pt x="1680" y="1440"/>
                  </a:lnTo>
                  <a:lnTo>
                    <a:pt x="1392" y="1344"/>
                  </a:lnTo>
                  <a:lnTo>
                    <a:pt x="912" y="1632"/>
                  </a:lnTo>
                  <a:lnTo>
                    <a:pt x="624" y="2016"/>
                  </a:lnTo>
                  <a:lnTo>
                    <a:pt x="528" y="2352"/>
                  </a:lnTo>
                  <a:lnTo>
                    <a:pt x="816" y="2448"/>
                  </a:lnTo>
                  <a:lnTo>
                    <a:pt x="0" y="2448"/>
                  </a:lnTo>
                  <a:close/>
                </a:path>
              </a:pathLst>
            </a:custGeom>
            <a:solidFill>
              <a:srgbClr val="ff6600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305960" y="4356720"/>
              <a:ext cx="1848600" cy="1518120"/>
            </a:xfrm>
            <a:custGeom>
              <a:avLst/>
              <a:gdLst/>
              <a:ahLst/>
              <a:rect l="l" t="t" r="r" b="b"/>
              <a:pathLst>
                <a:path w="1344" h="1104">
                  <a:moveTo>
                    <a:pt x="0" y="480"/>
                  </a:moveTo>
                  <a:lnTo>
                    <a:pt x="336" y="432"/>
                  </a:lnTo>
                  <a:lnTo>
                    <a:pt x="720" y="0"/>
                  </a:lnTo>
                  <a:lnTo>
                    <a:pt x="1344" y="480"/>
                  </a:lnTo>
                  <a:lnTo>
                    <a:pt x="1200" y="960"/>
                  </a:lnTo>
                  <a:lnTo>
                    <a:pt x="960" y="1104"/>
                  </a:lnTo>
                  <a:lnTo>
                    <a:pt x="0" y="1104"/>
                  </a:lnTo>
                  <a:lnTo>
                    <a:pt x="0" y="480"/>
                  </a:lnTo>
                  <a:close/>
                </a:path>
              </a:pathLst>
            </a:custGeom>
            <a:noFill/>
            <a:ln cap="sq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296320" y="2640600"/>
              <a:ext cx="2508840" cy="2373480"/>
            </a:xfrm>
            <a:custGeom>
              <a:avLst/>
              <a:gdLst/>
              <a:ahLst/>
              <a:rect l="l" t="t" r="r" b="b"/>
              <a:pathLst>
                <a:path w="1824" h="1726">
                  <a:moveTo>
                    <a:pt x="0" y="1248"/>
                  </a:moveTo>
                  <a:lnTo>
                    <a:pt x="288" y="720"/>
                  </a:lnTo>
                  <a:lnTo>
                    <a:pt x="1008" y="480"/>
                  </a:lnTo>
                  <a:lnTo>
                    <a:pt x="1152" y="0"/>
                  </a:lnTo>
                  <a:lnTo>
                    <a:pt x="1824" y="0"/>
                  </a:lnTo>
                  <a:lnTo>
                    <a:pt x="1776" y="288"/>
                  </a:lnTo>
                  <a:lnTo>
                    <a:pt x="1440" y="528"/>
                  </a:lnTo>
                  <a:lnTo>
                    <a:pt x="619" y="1726"/>
                  </a:lnTo>
                  <a:lnTo>
                    <a:pt x="0" y="1248"/>
                  </a:lnTo>
                  <a:close/>
                </a:path>
              </a:pathLst>
            </a:custGeom>
            <a:noFill/>
            <a:ln cap="sq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692680" y="2640600"/>
              <a:ext cx="2310840" cy="3366360"/>
            </a:xfrm>
            <a:custGeom>
              <a:avLst/>
              <a:gdLst/>
              <a:ahLst/>
              <a:rect l="l" t="t" r="r" b="b"/>
              <a:pathLst>
                <a:path w="1680" h="2448">
                  <a:moveTo>
                    <a:pt x="0" y="2448"/>
                  </a:moveTo>
                  <a:lnTo>
                    <a:pt x="336" y="2256"/>
                  </a:lnTo>
                  <a:lnTo>
                    <a:pt x="432" y="1776"/>
                  </a:lnTo>
                  <a:lnTo>
                    <a:pt x="1296" y="624"/>
                  </a:lnTo>
                  <a:lnTo>
                    <a:pt x="1584" y="384"/>
                  </a:lnTo>
                  <a:lnTo>
                    <a:pt x="1680" y="0"/>
                  </a:lnTo>
                  <a:lnTo>
                    <a:pt x="1680" y="1440"/>
                  </a:lnTo>
                  <a:lnTo>
                    <a:pt x="1392" y="1344"/>
                  </a:lnTo>
                  <a:lnTo>
                    <a:pt x="912" y="1632"/>
                  </a:lnTo>
                  <a:lnTo>
                    <a:pt x="624" y="2016"/>
                  </a:lnTo>
                  <a:lnTo>
                    <a:pt x="528" y="2352"/>
                  </a:lnTo>
                  <a:lnTo>
                    <a:pt x="816" y="2448"/>
                  </a:lnTo>
                  <a:lnTo>
                    <a:pt x="0" y="2448"/>
                  </a:lnTo>
                  <a:close/>
                </a:path>
              </a:pathLst>
            </a:custGeom>
            <a:solidFill>
              <a:srgbClr val="ff6600"/>
            </a:solidFill>
            <a:ln cap="sq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418800" y="4488840"/>
              <a:ext cx="1584720" cy="1517760"/>
            </a:xfrm>
            <a:custGeom>
              <a:avLst/>
              <a:gdLst/>
              <a:ahLst/>
              <a:rect l="l" t="t" r="r" b="b"/>
              <a:pathLst>
                <a:path w="1152" h="1104">
                  <a:moveTo>
                    <a:pt x="864" y="0"/>
                  </a:moveTo>
                  <a:lnTo>
                    <a:pt x="384" y="288"/>
                  </a:lnTo>
                  <a:lnTo>
                    <a:pt x="96" y="672"/>
                  </a:lnTo>
                  <a:lnTo>
                    <a:pt x="0" y="1008"/>
                  </a:lnTo>
                  <a:lnTo>
                    <a:pt x="288" y="1104"/>
                  </a:lnTo>
                  <a:lnTo>
                    <a:pt x="1152" y="1104"/>
                  </a:lnTo>
                  <a:lnTo>
                    <a:pt x="1152" y="96"/>
                  </a:lnTo>
                  <a:lnTo>
                    <a:pt x="864" y="0"/>
                  </a:lnTo>
                  <a:close/>
                </a:path>
              </a:pathLst>
            </a:custGeom>
            <a:solidFill>
              <a:srgbClr val="3333cc"/>
            </a:solidFill>
            <a:ln cap="sq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305960" y="2640600"/>
              <a:ext cx="2575080" cy="2376000"/>
            </a:xfrm>
            <a:custGeom>
              <a:avLst/>
              <a:gdLst/>
              <a:ahLst/>
              <a:rect l="l" t="t" r="r" b="b"/>
              <a:pathLst>
                <a:path w="1872" h="1728">
                  <a:moveTo>
                    <a:pt x="0" y="0"/>
                  </a:moveTo>
                  <a:lnTo>
                    <a:pt x="1872" y="0"/>
                  </a:lnTo>
                  <a:lnTo>
                    <a:pt x="1728" y="480"/>
                  </a:lnTo>
                  <a:lnTo>
                    <a:pt x="1008" y="720"/>
                  </a:lnTo>
                  <a:lnTo>
                    <a:pt x="720" y="1248"/>
                  </a:lnTo>
                  <a:lnTo>
                    <a:pt x="336" y="1680"/>
                  </a:lnTo>
                  <a:lnTo>
                    <a:pt x="0" y="17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305960" y="2640600"/>
              <a:ext cx="3697560" cy="3366360"/>
            </a:xfrm>
            <a:custGeom>
              <a:avLst/>
              <a:gdLst/>
              <a:ahLst/>
              <a:rect l="l" t="t" r="r" b="b"/>
              <a:pathLst>
                <a:path w="2688" h="2448">
                  <a:moveTo>
                    <a:pt x="0" y="2448"/>
                  </a:moveTo>
                  <a:lnTo>
                    <a:pt x="1008" y="2448"/>
                  </a:lnTo>
                  <a:lnTo>
                    <a:pt x="1344" y="2256"/>
                  </a:lnTo>
                  <a:lnTo>
                    <a:pt x="1488" y="1776"/>
                  </a:lnTo>
                  <a:lnTo>
                    <a:pt x="2304" y="624"/>
                  </a:lnTo>
                  <a:lnTo>
                    <a:pt x="2592" y="384"/>
                  </a:lnTo>
                  <a:lnTo>
                    <a:pt x="2688" y="0"/>
                  </a:lnTo>
                  <a:lnTo>
                    <a:pt x="2544" y="0"/>
                  </a:lnTo>
                  <a:lnTo>
                    <a:pt x="2496" y="288"/>
                  </a:lnTo>
                  <a:lnTo>
                    <a:pt x="2160" y="528"/>
                  </a:lnTo>
                  <a:lnTo>
                    <a:pt x="1344" y="1728"/>
                  </a:lnTo>
                  <a:lnTo>
                    <a:pt x="1200" y="2208"/>
                  </a:lnTo>
                  <a:lnTo>
                    <a:pt x="912" y="2352"/>
                  </a:lnTo>
                  <a:lnTo>
                    <a:pt x="0" y="2352"/>
                  </a:lnTo>
                  <a:lnTo>
                    <a:pt x="0" y="2448"/>
                  </a:lnTo>
                  <a:close/>
                </a:path>
              </a:pathLst>
            </a:custGeom>
            <a:solidFill>
              <a:srgbClr val="b2b2b2"/>
            </a:solidFill>
            <a:ln cap="sq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839560" y="3865680"/>
              <a:ext cx="540720" cy="22752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760" rIns="59760" tIns="29880" bIns="29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1223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715640" y="3139200"/>
              <a:ext cx="540720" cy="22752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760" rIns="59760" tIns="29880" bIns="29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2334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027200" y="5316840"/>
              <a:ext cx="540720" cy="22752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760" rIns="59760" tIns="29880" bIns="29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3445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225200" y="4129200"/>
              <a:ext cx="540720" cy="22752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760" rIns="59760" tIns="29880" bIns="29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4556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847400" y="5515200"/>
              <a:ext cx="540720" cy="22752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760" rIns="59760" tIns="29880" bIns="29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6778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305960" y="2640600"/>
              <a:ext cx="3499560" cy="3234240"/>
            </a:xfrm>
            <a:custGeom>
              <a:avLst/>
              <a:gdLst/>
              <a:ahLst/>
              <a:rect l="l" t="t" r="r" b="b"/>
              <a:pathLst>
                <a:path w="2544" h="2352">
                  <a:moveTo>
                    <a:pt x="0" y="0"/>
                  </a:moveTo>
                  <a:lnTo>
                    <a:pt x="0" y="2352"/>
                  </a:lnTo>
                  <a:lnTo>
                    <a:pt x="912" y="2352"/>
                  </a:lnTo>
                  <a:lnTo>
                    <a:pt x="1200" y="2208"/>
                  </a:lnTo>
                  <a:lnTo>
                    <a:pt x="1344" y="1728"/>
                  </a:lnTo>
                  <a:lnTo>
                    <a:pt x="2160" y="528"/>
                  </a:lnTo>
                  <a:lnTo>
                    <a:pt x="2496" y="288"/>
                  </a:lnTo>
                  <a:lnTo>
                    <a:pt x="25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ff">
                <a:alpha val="50000"/>
              </a:srgbClr>
            </a:solidFill>
            <a:ln cap="sq"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692680" y="2640600"/>
              <a:ext cx="2310840" cy="3366360"/>
            </a:xfrm>
            <a:custGeom>
              <a:avLst/>
              <a:gdLst/>
              <a:ahLst/>
              <a:rect l="l" t="t" r="r" b="b"/>
              <a:pathLst>
                <a:path w="1680" h="2448">
                  <a:moveTo>
                    <a:pt x="0" y="2448"/>
                  </a:moveTo>
                  <a:lnTo>
                    <a:pt x="1680" y="2448"/>
                  </a:lnTo>
                  <a:lnTo>
                    <a:pt x="1680" y="0"/>
                  </a:lnTo>
                  <a:lnTo>
                    <a:pt x="1584" y="384"/>
                  </a:lnTo>
                  <a:lnTo>
                    <a:pt x="1296" y="624"/>
                  </a:lnTo>
                  <a:lnTo>
                    <a:pt x="498" y="1759"/>
                  </a:lnTo>
                  <a:lnTo>
                    <a:pt x="336" y="2256"/>
                  </a:lnTo>
                  <a:lnTo>
                    <a:pt x="0" y="2448"/>
                  </a:lnTo>
                  <a:close/>
                </a:path>
              </a:pathLst>
            </a:custGeom>
            <a:solidFill>
              <a:srgbClr val="ccccff">
                <a:alpha val="50000"/>
              </a:srgbClr>
            </a:solidFill>
            <a:ln cap="sq"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771520" y="3152520"/>
              <a:ext cx="789120" cy="28836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760" rIns="59760" tIns="29880" bIns="29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I. Ker</a:t>
              </a: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914520" y="4738680"/>
              <a:ext cx="864000" cy="28836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760" rIns="59760" tIns="29880" bIns="29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II. Ker</a:t>
              </a: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305960" y="5875200"/>
              <a:ext cx="0" cy="13176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305960" y="6006960"/>
              <a:ext cx="138636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805520" y="2640600"/>
              <a:ext cx="19800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24" name=""/>
            <p:cNvGraphicFramePr/>
            <p:nvPr/>
          </p:nvGraphicFramePr>
          <p:xfrm>
            <a:off x="740160" y="3036600"/>
            <a:ext cx="3004920" cy="5205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3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40160" y="3036600"/>
                      <a:ext cx="3004920" cy="52056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326" name=""/>
            <p:cNvSpPr/>
            <p:nvPr/>
          </p:nvSpPr>
          <p:spPr>
            <a:xfrm>
              <a:off x="3711600" y="3168720"/>
              <a:ext cx="1320480" cy="52776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3777840" y="3432600"/>
              <a:ext cx="3367440" cy="118800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8" name=""/>
            <p:cNvGrpSpPr/>
            <p:nvPr/>
          </p:nvGrpSpPr>
          <p:grpSpPr>
            <a:xfrm>
              <a:off x="608040" y="3168360"/>
              <a:ext cx="198360" cy="1056240"/>
              <a:chOff x="608040" y="3168360"/>
              <a:chExt cx="198360" cy="1056240"/>
            </a:xfrm>
          </p:grpSpPr>
          <p:sp>
            <p:nvSpPr>
              <p:cNvPr id="1329" name=""/>
              <p:cNvSpPr/>
              <p:nvPr/>
            </p:nvSpPr>
            <p:spPr>
              <a:xfrm flipH="1">
                <a:off x="608040" y="4224600"/>
                <a:ext cx="14868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 flipV="1">
                <a:off x="608400" y="3168360"/>
                <a:ext cx="0" cy="10558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608400" y="3168720"/>
                <a:ext cx="1980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2" name=""/>
            <p:cNvGrpSpPr/>
            <p:nvPr/>
          </p:nvGrpSpPr>
          <p:grpSpPr>
            <a:xfrm>
              <a:off x="542160" y="3168720"/>
              <a:ext cx="329760" cy="1319760"/>
              <a:chOff x="542160" y="3168720"/>
              <a:chExt cx="329760" cy="1319760"/>
            </a:xfrm>
          </p:grpSpPr>
          <p:sp>
            <p:nvSpPr>
              <p:cNvPr id="1333" name=""/>
              <p:cNvSpPr/>
              <p:nvPr/>
            </p:nvSpPr>
            <p:spPr>
              <a:xfrm flipH="1">
                <a:off x="542160" y="4488480"/>
                <a:ext cx="24768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flipV="1">
                <a:off x="542160" y="3168720"/>
                <a:ext cx="0" cy="1319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42160" y="3168720"/>
                <a:ext cx="32976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6" name=""/>
            <p:cNvGrpSpPr/>
            <p:nvPr/>
          </p:nvGrpSpPr>
          <p:grpSpPr>
            <a:xfrm>
              <a:off x="476280" y="3168720"/>
              <a:ext cx="329760" cy="2243520"/>
              <a:chOff x="476280" y="3168720"/>
              <a:chExt cx="329760" cy="2243520"/>
            </a:xfrm>
          </p:grpSpPr>
          <p:sp>
            <p:nvSpPr>
              <p:cNvPr id="1337" name=""/>
              <p:cNvSpPr/>
              <p:nvPr/>
            </p:nvSpPr>
            <p:spPr>
              <a:xfrm flipH="1">
                <a:off x="476280" y="5412240"/>
                <a:ext cx="24768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V="1">
                <a:off x="476280" y="3168720"/>
                <a:ext cx="0" cy="22435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476280" y="3168720"/>
                <a:ext cx="32976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0" name=""/>
            <p:cNvGrpSpPr/>
            <p:nvPr/>
          </p:nvGrpSpPr>
          <p:grpSpPr>
            <a:xfrm>
              <a:off x="3645720" y="3366360"/>
              <a:ext cx="329760" cy="1584000"/>
              <a:chOff x="3645720" y="3366360"/>
              <a:chExt cx="329760" cy="1584000"/>
            </a:xfrm>
          </p:grpSpPr>
          <p:sp>
            <p:nvSpPr>
              <p:cNvPr id="1341" name=""/>
              <p:cNvSpPr/>
              <p:nvPr/>
            </p:nvSpPr>
            <p:spPr>
              <a:xfrm>
                <a:off x="3727800" y="4950360"/>
                <a:ext cx="24768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V="1">
                <a:off x="3975480" y="3366360"/>
                <a:ext cx="0" cy="15836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flipH="1">
                <a:off x="3645720" y="3366720"/>
                <a:ext cx="32976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4" name=""/>
            <p:cNvGrpSpPr/>
            <p:nvPr/>
          </p:nvGrpSpPr>
          <p:grpSpPr>
            <a:xfrm>
              <a:off x="3645720" y="3366360"/>
              <a:ext cx="198360" cy="1386000"/>
              <a:chOff x="3645720" y="3366360"/>
              <a:chExt cx="198360" cy="1386000"/>
            </a:xfrm>
          </p:grpSpPr>
          <p:sp>
            <p:nvSpPr>
              <p:cNvPr id="1345" name=""/>
              <p:cNvSpPr/>
              <p:nvPr/>
            </p:nvSpPr>
            <p:spPr>
              <a:xfrm>
                <a:off x="3695400" y="4752360"/>
                <a:ext cx="14868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flipV="1">
                <a:off x="3843720" y="3366360"/>
                <a:ext cx="0" cy="13856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flipH="1">
                <a:off x="3645720" y="3366720"/>
                <a:ext cx="1980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8" name=""/>
            <p:cNvGrpSpPr/>
            <p:nvPr/>
          </p:nvGrpSpPr>
          <p:grpSpPr>
            <a:xfrm>
              <a:off x="3645720" y="3366360"/>
              <a:ext cx="461520" cy="1782000"/>
              <a:chOff x="3645720" y="3366360"/>
              <a:chExt cx="461520" cy="1782000"/>
            </a:xfrm>
          </p:grpSpPr>
          <p:sp>
            <p:nvSpPr>
              <p:cNvPr id="1349" name=""/>
              <p:cNvSpPr/>
              <p:nvPr/>
            </p:nvSpPr>
            <p:spPr>
              <a:xfrm>
                <a:off x="3760920" y="5148360"/>
                <a:ext cx="34632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flipV="1">
                <a:off x="4107240" y="3366360"/>
                <a:ext cx="0" cy="17816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H="1">
                <a:off x="3645720" y="3366720"/>
                <a:ext cx="46152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2" name=""/>
          <p:cNvSpPr/>
          <p:nvPr/>
        </p:nvSpPr>
        <p:spPr>
          <a:xfrm>
            <a:off x="0" y="506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CDC8-EEC3-4BB7-8100-FCF90CA8972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Precíziós gazdálkodá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precíziós termesztés a táblán belüli helyi viszonyokhoz és igényekhez igazodó termesztést jelent, amelynek szerves része a szabatos mérés és ehhez kapcsolódóan a pontosan szabályozott beavatkozá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térinformatika különböző lehetőségeket ajánl a gazdálkodók számára termelésük növelésére, a költségek csökkentésére, és a földművelés hatékonyságának növelésére. A kézi számítógépek táblákon történő térképészeti alkalmazásától a gazdálkodó irodájában lévő számítógépeken végzett termelési adatok tudományos elemzéséig a térképészet fontos szerepet játszik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precíziós termesztés irányítási rendszere a következő folyamatokra bontható fel: adatgyűjtésre, adatfeldolgozásra, döntéshozatalra és beavatkozásra. Ezek a folyamatok számos részfolyamatra oszthatók tovább, melyekben különös szerepet kap a mérés, a vezérlés, a szabályozás és a számítógépes felügyeleti irányítá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2622-3B44-4B03-9E2F-9F9713D760D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datgyűjté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356" name="" descr="Using a laptop in an organge grove to enter data"/>
          <p:cNvPicPr/>
          <p:nvPr/>
        </p:nvPicPr>
        <p:blipFill>
          <a:blip r:embed="rId1"/>
          <a:stretch/>
        </p:blipFill>
        <p:spPr>
          <a:xfrm>
            <a:off x="900000" y="2205000"/>
            <a:ext cx="3816360" cy="2873520"/>
          </a:xfrm>
          <a:prstGeom prst="rect">
            <a:avLst/>
          </a:prstGeom>
          <a:ln w="0">
            <a:noFill/>
          </a:ln>
        </p:spPr>
      </p:pic>
      <p:pic>
        <p:nvPicPr>
          <p:cNvPr id="1357" name="" descr="A Compaq iPAQ"/>
          <p:cNvPicPr/>
          <p:nvPr/>
        </p:nvPicPr>
        <p:blipFill>
          <a:blip r:embed="rId2"/>
          <a:stretch/>
        </p:blipFill>
        <p:spPr>
          <a:xfrm>
            <a:off x="5491080" y="2133720"/>
            <a:ext cx="2222640" cy="338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54D5-1E9E-41F4-8464-D1E74DDA553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 térinformatikai rendszerek, digitális térképek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hagyományos adatbázis koncepcióban szereplő adatok alfanumerikus adatok voltak. Természetesen ezek az adatok jelölhettek földfelszínen elhelyezkedő pontokat, vonalakat vagy területeket (házszám, kerület stb.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60-as években fejlesztették ki a globális térbeli információk feldolgozását célzó földrajzi információs rendszer (</a:t>
            </a:r>
            <a:r>
              <a:rPr b="0" i="1" lang="hu-HU" sz="2100" spc="-1" strike="noStrike">
                <a:solidFill>
                  <a:srgbClr val="000000"/>
                </a:solidFill>
                <a:latin typeface="Arial"/>
              </a:rPr>
              <a:t>Geographical Information System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vagy </a:t>
            </a: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GIS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) szoftverjét, majd a 70-es évek elején megfogalmazták a nagyobb felbontású, de szűkebb tematikájú földinformációs rendszer (</a:t>
            </a:r>
            <a:r>
              <a:rPr b="0" i="1" lang="hu-HU" sz="2100" spc="-1" strike="noStrike">
                <a:solidFill>
                  <a:srgbClr val="000000"/>
                </a:solidFill>
                <a:latin typeface="Arial"/>
              </a:rPr>
              <a:t>Land Information System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vagy </a:t>
            </a: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LIS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) koncepcióját i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80-as évek elejére kialakult az úgynevezett több célú kataszter (</a:t>
            </a:r>
            <a:r>
              <a:rPr b="0" i="1" lang="hu-HU" sz="2100" spc="-1" strike="noStrike">
                <a:solidFill>
                  <a:srgbClr val="000000"/>
                </a:solidFill>
                <a:latin typeface="Arial"/>
              </a:rPr>
              <a:t>multi-purpose cadaster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) koncepció, mely Európa és Észak-Amerika jelentős számú nagyvárosában, mint városi térbeli információs rendszer vált realitássá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8789-E299-4153-BA6A-40C8C363B0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datintegráció, adatelemzé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359" name="" descr="Click to view larger image"/>
          <p:cNvPicPr/>
          <p:nvPr/>
        </p:nvPicPr>
        <p:blipFill>
          <a:blip r:embed="rId1"/>
          <a:stretch/>
        </p:blipFill>
        <p:spPr>
          <a:xfrm>
            <a:off x="900000" y="2421000"/>
            <a:ext cx="3621240" cy="2625840"/>
          </a:xfrm>
          <a:prstGeom prst="rect">
            <a:avLst/>
          </a:prstGeom>
          <a:ln w="0">
            <a:noFill/>
          </a:ln>
        </p:spPr>
      </p:pic>
      <p:pic>
        <p:nvPicPr>
          <p:cNvPr id="1360" name="" descr="Click to view larger image"/>
          <p:cNvPicPr/>
          <p:nvPr/>
        </p:nvPicPr>
        <p:blipFill>
          <a:blip r:embed="rId2"/>
          <a:stretch/>
        </p:blipFill>
        <p:spPr>
          <a:xfrm>
            <a:off x="4572000" y="2530440"/>
            <a:ext cx="3887640" cy="258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2C73-B960-4360-8DFA-CD893BE6F3A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Térképek – GIS rendszerek felhasználási területei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hatósági nyilvántartások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Térinformatikai rendszerek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honvédelmi és rendvédelmi tevékenység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helyi önkormányzatok feladatai, illetve településfejlesztési és településrendezési, vagyon-nyilvántartási, információs és településirányítási tevékenység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közlekedési, a hírközlési, a vízgazdálkodási tevékenység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z infrastruktúra-fejlesztés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z agrár-és térségfejlesztési tevékenység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természet-és környezetvédelmi tevékenység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bányászati szakigazgatás által elrendelt térképészeti tevékenységek, geológiai nyilvántartások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dózási célú feladatok térbeli térképi referenciájakén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meglévő térképállományt folyamatosan fel kell újítani, a fel nem újítható térképek helyett újakat kell készíten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Új állami földmérési alaptérképet számítógépen kezelhető módon, számszerű (numerikus) meghatározással kell készíteni. Ugyanúgy kell eljárni térképfelújítás esetén i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7930-DAEE-449C-A986-3C5B57E85E0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Mezőgazdasági Parcella Azonosító Rendszer (MePAR)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364" name="" descr=""/>
          <p:cNvPicPr/>
          <p:nvPr/>
        </p:nvPicPr>
        <p:blipFill>
          <a:blip r:embed="rId1"/>
          <a:stretch/>
        </p:blipFill>
        <p:spPr>
          <a:xfrm>
            <a:off x="1639800" y="1719360"/>
            <a:ext cx="5862600" cy="441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0BBF-2B05-4013-9C85-1B7FB90D990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 TAKARNET rendszer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TakarNet biztosítja a földügyi szakág hivatalainak számítógépes összekapcsolását, másrészt lehetővé teszi a földhivatali adatbázisok távoli adathozzáférését külső felhasználók (regisztrált fizető felhasználók) pl. bankok, közigazgatási intézmények, önkormányzatok, közjegyzők, ügyvédi irodák stb. számára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TAKARNET fontosabb jellemzői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hálózat egységes rendszerbe integrálja a földhivatali szektort, beleértve a FÖMI-t és a minisztérium illetékes osztályai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rendszer többszintű biztonsági stratégiája az egyes felhasználók számára eltérő szolgáltatásokat, a szolgáltatásokhoz rendelt biztonsági kritériumok mellett nyújtja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egyszerűbb adatszolgáltatások, vagy tudakozódás céljára Internet felől is elérhető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egységesen felépítése miatt, igény és pénzügyi lehetőségek szerint legyen kiépíthető és bővíthető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hálózatot alkotó berendezések egy pontjáról a hálózatnak kezelhetők, módosíthatók, beállíthatók, központilag felügyelhetők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egységes biztonságtechnikai hozzáférés és elszámolási rendszeren alapu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7568-2756-4F1D-B1A2-35006098F12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zántóföldi Növénymonitoring és Termésbecslé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368" name="" descr=""/>
          <p:cNvPicPr/>
          <p:nvPr/>
        </p:nvPicPr>
        <p:blipFill>
          <a:blip r:embed="rId1"/>
          <a:stretch/>
        </p:blipFill>
        <p:spPr>
          <a:xfrm>
            <a:off x="1474920" y="1719360"/>
            <a:ext cx="6194160" cy="441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6A55-1BB7-4809-9890-E364D920E6A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500" spc="-1" strike="noStrike">
                <a:solidFill>
                  <a:srgbClr val="330066"/>
                </a:solidFill>
                <a:latin typeface="Arial"/>
              </a:rPr>
              <a:t>Kapcsolat a digitális helyzeti és alfanumerikus adatok között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geokód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valamely terület vagy területfüggő objektum esetleg objektum csoport azonosítója, mely lehetővé teszi a kapcsolatot a területek vagy objektumok és a hozzájuk kötődő tulajdonság értékek közöt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geokód minden térbeli objektum egy pontjára vonatkozó olyan azonosító, mely tartalmazza az objektum jellegét, valamint a kérdéses pont geodéziai koordinátáit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geokód két kötelező és egy opcionális mezőből áll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első két karakterből álló mező, az objektum jellegkódj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második mező 12 karakterből áll, első hat karaktere a kérdéses pont y, a második hat karaktere a kérdéses pont x koordinátája méterben kifejezv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harmadik mező opcionális, négy karakterből áll, és a kérdéses pont magasságát hivatott megadn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04AC-4A92-40CE-8132-DDB6A81485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Kataszteri rendszerek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nemzetközi földmérő szövetség francia nevének rövidítésével FIG 1974-ben Washington D.C.-ben megtartott XIV. kongresszusán fogalmazták meg először a "Land Information System" (LIS) fogalmát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z angol Land szó a kifejezésben a föld értelmet viseli, azaz ezek az újonnan meghatározott információs rendszerek a földhöz kapcsolódnak. A meghatározás szerint ezeknek az információs rendszereknek az alapeleme az egyértelműen meghatározható és lokalizálható parcella vagy földrészlet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Mivel az európai országok többségében a földrészletek és a rajtuk lévő épületek nyilvántartásának hagyományos rendszere fejlett volt, természetesnek tűnt, hogy az új információs rendszer fogalom e meglévő hagyományos ingatlan kataszterek automatizálásával realizálható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E063-B40C-4B51-91D0-FF8E31B9FE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Digitális magasságmodellek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 föld felszínéhez kapcsolódó tulajdonság jellemzők közül nem elhanyagolható szerepet játszanak a földi pontok egységes rendszerben kifejezett magassága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 hagyományos térképi magasságábrázolás "végállomása" a szintvonalas ábrázolás volt, melynek lényege, hogy az azonos magasságú tereppontokat a térkép méretarányától és a terep domborzati jellegétől függő magasság lépcsőnként (alapszintköz) folyamatos vonallal összekötik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 digitális térkép fogalom megjelenésekor a szakemberek egyetértettek abban, hogy a digitális térkép magassági adatait nem célszerű szintvonalak formájában tárolni a számítógépben. A szintvonalak ugyanis nagyon nagy tárolási helyet igényelnek, s ugyanakkor a legtöbb mérnöki feladat számítógépes megoldását kevéssé támogatják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z optimális modelltípus kialakításánál nem elhanyagolható körülmény az adatnyerés mikéntje sem. A magassági adatokat földi úton rendszerint </a:t>
            </a:r>
            <a:r>
              <a:rPr b="0" lang="hu-HU" sz="15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tahimetriával</a:t>
            </a:r>
            <a:r>
              <a:rPr b="0" lang="hu-HU" sz="15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 ritkábban területszintezéssel</a:t>
            </a: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15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fotogrammetriai kiértékeléssel</a:t>
            </a: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 vagy meglévő térképek szintvonalainak </a:t>
            </a:r>
            <a:r>
              <a:rPr b="0" lang="hu-HU" sz="15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digitalizálásával</a:t>
            </a: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 határozzuk meg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 digitális magasságmodellek két legáltalánosabb formája a háromszöghálózat és a gyakran törésvonal poligonokkal kiegészített szabályos négyzethálóza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 háromszögmodell létrehozására leggyakrabban szórt pontos földi (tahimetria), vagy a ritkább, szórt pontos sztereofotogrammetriai kiértékelés kapcsán kis projekt modellekben kerül sor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 nagy kiterjedésű (regionális vagy országos) rendszereknél a szabályos négyzethálós tárolást részesítik előnyben. E módszer legfőbb előnye áttekinthetősége és jelentős tárolóhely megtakarítása. Hátránya viszont, hogy a tárolt pontok gyakran nem közvetlen mérés, hanem interpolálás eredményeképpen jönnek létre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F361-D00C-4DDC-BAE9-650102B77D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Földrajzi Információs Rendszerek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 80-as évek elejére, az észak amerikai nagy városok is elkezdték digitális térképi, illetve azt tovább fejlesztve, digitális térbeli információs rendszereik kialakítását. Az igények oldaláról tehát integrálódott a kis és nagyfelbontású térbeli információs rendszer koncepció. Ezt ismerte fel zseniálisan az </a:t>
            </a:r>
            <a:r>
              <a:rPr b="0" i="1" lang="hu-HU" sz="1500" spc="-1" strike="noStrike">
                <a:solidFill>
                  <a:srgbClr val="000000"/>
                </a:solidFill>
                <a:latin typeface="Arial"/>
              </a:rPr>
              <a:t>Environmental System Research Institut (ESRI)</a:t>
            </a: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 nevű szoftverház, mely 1982-ben első verzióban kibocsátott </a:t>
            </a:r>
            <a:r>
              <a:rPr b="0" lang="hu-HU" sz="15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ARC/INFO</a:t>
            </a: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 nevű </a:t>
            </a:r>
            <a:r>
              <a:rPr b="1" lang="hu-HU" sz="1500" spc="-1" strike="noStrike">
                <a:solidFill>
                  <a:srgbClr val="000000"/>
                </a:solidFill>
                <a:latin typeface="Arial"/>
              </a:rPr>
              <a:t>GIS</a:t>
            </a: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 szoftverjével az első általános s valóban kereskedelmi szoftvert bocsátotta ki e területe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 GIS egy megfelelő hardver környezetben működő olyan szoftver együttes, mely eljárásai révén támogatja a területfüggő (térbeli) adatok nyerését, kezelését, manipulálását, analízisét, modellezését és megjelenítését komplex tervezési és működtetési feladatok megoldása érdekében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 térinformatika nagy jelentőséggel bír a természeti erőforrások kutatásában, állapotának figyelésében; a közigazgatásban; a földhasználati- és tájtervezésben; az ökológiai- és gazdasági összefüggések feltárásában, a döntés-hozásban; ugyanakkor a közlekedési-, szállítási-, honvédelmi-, piackutatási feladatok megoldásában; a szociológiai-, társadalmi összefüggések vizsgálatában; a település-fejlesztésben és a létesítmény-tervezésben. A Földrajzi Információs Rendszerek az informatika diszciplínán belül az utóbbi évtizedben csaknem önálló tudománnyá nőtte ki magát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Egy GIS-nek válaszolnia kell a következő kérdésekre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Mi van egy konkrét helyen? leltár készítés és\vagy monitoring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Hol található vagy nem található egy kiválasztott jellemző? leltár készítés és\vagy monitoring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Mi változott egy bizonyos idő óta? leltár készítés és\vagy monitoring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Milyen térbeli típus (forma) létezik? térbeli analízis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Mi lenne, ha ...? Modellezés.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FB57-AD48-4F1E-B0BB-F9719B58F8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Térinformatikai rendszerek területi kiterjedése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95280" y="2597040"/>
            <a:ext cx="8137440" cy="258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3CA5-53D6-4A9C-91F6-05AF6BEB6C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. Herdon Miklós</cp:lastModifiedBy>
  <dcterms:modified xsi:type="dcterms:W3CDTF">2006-10-25T07:59:02Z</dcterms:modified>
  <cp:revision>122</cp:revision>
  <dc:subject/>
  <dc:title>PowerPoint bemutató</dc:title>
</cp:coreProperties>
</file>