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10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758C6-F0FF-472A-94C1-B19592CF39CF}" type="slidenum">
              <a:rPr b="0" lang="hu-H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CÍMDIA: logó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futóláb: hefop, témakör, diaszá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Gyakran olyan hallgatóságnak kell szakmai előadást tartani, amely nem ismeri a témát vagy a szakszavakat. Az anyag esetleg összetett és rengeteg adatot tartalmaz. A hatékony előadáshoz alkalmazzuk a Dale Carnegie Training® által kialakított irányelveke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Vegyük figyelembe a rendelkezésre álló időt és rendszerezzük megfelelően a tananyagot. Szűkítsük le a témakört. Osszuk fel a bemutatót világosan elkülönített részekre. Állítsunk fel logikus sorrendet. Végig egy témára összpontosítsunk. A bemutatót összefoglalással zárjuk, ismételjük meg a fontos lépéseket vagy vonjunk le következteté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Ne feledkezzünk el a hallgatóságról. Fontos például, hogy az adatok érthetőek és lényegesek legyenek a téma szempontjából. Az adatok és a szakszavak mennyiségét igazítsuk a hallgatósághoz. A fontosabb pontok és lépések magyarázatához használjunk szemléltetőeszközöket. Mindig tartsuk szem előtt a hallgatóság igényeit, és akkor képesebbek lesznek az elhangzottak befogadásár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E334-D449-4F64-A0D1-830B8006B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0E43-3A1D-4A4F-8644-943070E9C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B829-1F43-4F39-B5D4-0A54F9207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32A2-468A-4BE1-9B46-F46F94D40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3CCA7-3BDE-4EA3-BD25-B1BAF326F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7A84F-E704-40A5-9B85-31A4C68B1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98BBA-2E29-42F8-8A74-967467200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BC54A-AE27-44A5-8BED-7CE0A4782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C192B-E278-4CAD-AD53-D7186A19B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E4621-5181-4AEC-98C5-1038B9BB2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02674-8958-4FDB-8D7A-940F374FE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72AE-BE60-4711-AA28-1A6E158F0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37A21-87AA-4F12-B913-68D314075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21330-0418-4EA8-B468-79F3F05C9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4B487-E7F2-49D1-9E35-094BF175F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E771E-26B7-4258-A69F-E1F41BA77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9E62B-B814-4BEB-BF0F-0BE99960F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2035-969B-4341-B619-39C04B543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16D3-71EF-4519-A28A-9297D6CB9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8DAE-9B90-4C9F-9583-8AD3CEF40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AA3C-B040-4B5E-A3A9-58EDC6862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18F1-851F-4DE1-9E5A-0A6394131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DEC8-52DA-452A-931F-F825A4DB5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142E-B29B-4D09-B20A-BF8122B8B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BE6AD-7420-4C2D-A51C-416FFBF33157}" type="datetime">
              <a:rPr b="0" lang="hu-HU" sz="1000" spc="-1" strike="noStrike">
                <a:solidFill>
                  <a:srgbClr val="000000"/>
                </a:solidFill>
                <a:latin typeface="Arial"/>
              </a:rPr>
              <a:t>26.07.30.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06A2E-7065-4284-9A19-0409B1AFA77F}" type="slidenum">
              <a:rPr b="0" lang="hu-H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0" y="6138720"/>
            <a:ext cx="1403280" cy="71928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101080" y="0"/>
            <a:ext cx="1042920" cy="1042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2719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BC221-9F06-438D-88FF-B803C7793A3D}" type="datetime">
              <a:rPr b="0" lang="hu-HU" sz="1000" spc="-1" strike="noStrike">
                <a:solidFill>
                  <a:srgbClr val="000000"/>
                </a:solidFill>
                <a:latin typeface="Arial"/>
              </a:rPr>
              <a:t>26.07.30.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2916000" y="6248520"/>
            <a:ext cx="3103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u-HU" sz="1000" spc="-1" strike="noStrike">
                <a:solidFill>
                  <a:srgbClr val="ff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ff0000"/>
                </a:solidFill>
                <a:latin typeface="Arial"/>
              </a:rPr>
              <a:t>A projekt az Európai Unió társfinanszírozásával, az Európa terv keretében valósul meg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3DA9F-8CF4-4DAE-9BA8-057F93E519AB}" type="slidenum">
              <a:rPr b="0" lang="hu-H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948360" y="0"/>
            <a:ext cx="2195640" cy="11239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4716360" y="0"/>
            <a:ext cx="2195640" cy="9064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7524720" y="1197000"/>
            <a:ext cx="1419120" cy="14191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2719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5400" spc="-1" strike="noStrike">
                <a:solidFill>
                  <a:srgbClr val="330066"/>
                </a:solidFill>
                <a:latin typeface="Arial"/>
              </a:rPr>
              <a:t>Informatika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Dr. Herdon Mikló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Dr. Fazekasné dr. Kis Má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Magó Zso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Debreceni Egye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Németh Zoltá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Budapesti Corvinus Egye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D6703-B849-4520-9594-86570365DC4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Az alaplap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sínrendszer működését az alaplapon egy vagy több vezérlő chip irányítja, ezek alkotják az alaplap chipkészletét (chipset). PC-s környezetben az utóbbi évek trendje szerint általában két, különböző funkciókkal felruházott lapka, az északi (northbridge) és a déli híd (southbridge) látja el ezt a feladato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z északi híd feladata a processzor, az operatív memória és a grafikus vezérlő, valamint a déli híd közötti kapcsolattartás; </a:t>
            </a:r>
            <a:br>
              <a:rPr sz="2000"/>
            </a:b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500720" y="1773360"/>
            <a:ext cx="4464000" cy="4054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07DD-37D1-4B19-9B58-DC09F6E8599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Perifériák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periféria a számítógép funkcióit bővítő hardverelemek általános elnevezése.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Kétféle értelemben is használato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366840" algn="just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 u="sng">
                <a:solidFill>
                  <a:srgbClr val="000000"/>
                </a:solidFill>
                <a:uFillTx/>
                <a:latin typeface="Arial"/>
              </a:rPr>
              <a:t>Szűkebb értelmezés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 szerint csak azokat az eszközöket soroljuk ide, amelyek külsőleg csatlakoznak a számítógéphez, használatuk opcionális. Ekkor például a monitort és a merevlemezt nem soroljuk ide, mert a gépek többségének alapvető tartozéka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366840" algn="just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 u="sng">
                <a:solidFill>
                  <a:srgbClr val="000000"/>
                </a:solidFill>
                <a:uFillTx/>
                <a:latin typeface="Arial"/>
              </a:rPr>
              <a:t>Tágabb értelemben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 minden bemeneti / kimeneti eszköz és a háttértárak is ide tartoznak, ekkor a hardver kategóriáit a központi egység – perifériák szerinti tagolásban értelmezzük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1A4E-D407-402E-B344-94120EC00B5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Perifériák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3000" spc="-1" strike="noStrike">
                <a:solidFill>
                  <a:srgbClr val="000000"/>
                </a:solidFill>
                <a:latin typeface="Arial"/>
              </a:rPr>
              <a:t>Háttértároló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300" spc="-1" strike="noStrike">
                <a:solidFill>
                  <a:srgbClr val="000000"/>
                </a:solidFill>
                <a:latin typeface="Arial"/>
              </a:rPr>
              <a:t>Mágneses tárolók</a:t>
            </a:r>
            <a:r>
              <a:rPr b="0" lang="hu-HU" sz="2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300" spc="-1" strike="noStrike">
                <a:solidFill>
                  <a:srgbClr val="000000"/>
                </a:solidFill>
                <a:latin typeface="Arial"/>
              </a:rPr>
              <a:t>Optikai tárolók</a:t>
            </a:r>
            <a:r>
              <a:rPr b="0" lang="hu-HU" sz="2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300" spc="-1" strike="noStrike">
                <a:solidFill>
                  <a:srgbClr val="000000"/>
                </a:solidFill>
                <a:latin typeface="Arial"/>
              </a:rPr>
              <a:t>Chipkártyák, flash memória, pendrive</a:t>
            </a:r>
            <a:r>
              <a:rPr b="0" lang="hu-HU" sz="2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3000" spc="-1" strike="noStrike">
                <a:solidFill>
                  <a:srgbClr val="000000"/>
                </a:solidFill>
                <a:latin typeface="Arial"/>
              </a:rPr>
              <a:t>Adatbeviteli eszközök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3000" spc="-1" strike="noStrike">
                <a:solidFill>
                  <a:srgbClr val="000000"/>
                </a:solidFill>
                <a:latin typeface="Arial"/>
              </a:rPr>
              <a:t>Adatkiviteli (megjelenítő) eszközök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300" spc="-1" strike="noStrike">
                <a:solidFill>
                  <a:srgbClr val="000000"/>
                </a:solidFill>
                <a:latin typeface="Arial"/>
              </a:rPr>
              <a:t>Képernyő (monitor)</a:t>
            </a:r>
            <a:r>
              <a:rPr b="0" lang="hu-HU" sz="2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300" spc="-1" strike="noStrike">
                <a:solidFill>
                  <a:srgbClr val="000000"/>
                </a:solidFill>
                <a:latin typeface="Arial"/>
              </a:rPr>
              <a:t>Nyomtató (printer)</a:t>
            </a:r>
            <a:r>
              <a:rPr b="0" lang="hu-HU" sz="2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300" spc="-1" strike="noStrike">
                <a:solidFill>
                  <a:srgbClr val="000000"/>
                </a:solidFill>
                <a:latin typeface="Arial"/>
              </a:rPr>
              <a:t>Multimédia</a:t>
            </a:r>
            <a:r>
              <a:rPr b="0" lang="hu-HU" sz="2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87D3-3854-4D86-9854-3CA9ED26C18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3900" spc="-1" strike="noStrike">
                <a:solidFill>
                  <a:srgbClr val="330066"/>
                </a:solidFill>
                <a:latin typeface="Arial"/>
              </a:rPr>
              <a:t>Háttértárolók</a:t>
            </a:r>
            <a:r>
              <a:rPr b="0" lang="hu-HU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Másodlagos és harmadlagos szintjét jelentő eszközök. A a központi tárhoz viszonyítva relatíve nagy – és időben tartós – tárolási képességű háttértárak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A háttértárak közvetetten, perifériavezérlő rendszereken keresztül kapcsolódnak a központi egység sínrendszerére, legtöbbször kétirányú (adatok írása /olvasása) adatforgalommal. Az adatok tárolására többféle technika létezik, a legelterjedtebbek a mágneses és az optikai adattárolók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0943-B93F-48F8-B538-FC8AB72ACE9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Mágneses tárolók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1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330066"/>
                </a:solidFill>
                <a:latin typeface="Arial"/>
              </a:rPr>
              <a:t>Mágnesszalagos meghajtó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 algn="just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Az első széles körben használt, mágneses elven működő tárolók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 algn="just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Ezekben a meghajtókban egy műanyag szalagra felhordott mágneses rétegben több sávon, párhuzamosan rögzíthetők az adatok; a tárolás biztonsága érdekében hibajavító és ellenőrző kódokat is alkalmaznak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 algn="just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Az adatok visszaolvasásához a szalag megfelelő helyre való tekerése szükséges – ez soros elérési mód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 algn="just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A mágnesszalagos meghajtók ma már elavult technológiát képviselnek, főleg nagy méretű adattárak biztonsági mentésére használatosak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413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2362-C3ED-4C67-8AA7-202B618FBB3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Mágneses tárolók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68000" y="4365360"/>
            <a:ext cx="4608360" cy="19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nagyobb kapacitással  bíró optikai tárolók és  memóriakártya-típusok terjedésének köszönhetően a jelentősége folyamatosan csök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219640" y="4221000"/>
            <a:ext cx="3390840" cy="162900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330066"/>
                </a:solidFill>
                <a:latin typeface="Arial"/>
              </a:rPr>
              <a:t>Mágneslemezes tároló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mágneses réteget forgó lemezekre hordják fel, az adatokat koncentrikus körök, ún. sávok mentén rögzítik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lemez legkisebb írható/olvasható egysége a szektor, amely általában 512 bájt tárolására képes; több szektorból (2, 4, 8) állnak a klaszterek, amelyek a legkisebb logikai tárolási egységek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lemezek száma és alapanyaga szerint beszélhetünk hajlékony- és merevlemezekrő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Előnyük a hordozhatóság és a merevlemezhez viszonyítva alacsony költség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6CD7-249C-4137-908A-0235CC901BD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Mágneses tárolók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447516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1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r" pos="44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330066"/>
                </a:solidFill>
                <a:latin typeface="Arial"/>
              </a:rPr>
              <a:t>Merevlemez</a:t>
            </a:r>
            <a:r>
              <a:rPr b="1" lang="hu-HU" sz="2000" spc="-1" strike="noStrike">
                <a:solidFill>
                  <a:srgbClr val="33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r" pos="44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merevlemez (HDD, Hard Disk Drive) – más néven winchester – a legelterjedtebb adattároló eszköz, felépítése a hajlékonylemezekéhez hasonló, de adatsűrűsége és írási/olvasási sebessége sokkal nagyobb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r" pos="44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merevlemez valójában több, egymás felett elhelyezett lemezből áll, amelyek folyamatosan, nagy sebességgel forognak. A lemezek felett mozgó író/olvasó fej így az egymás alatti lemezek azonos sávjait ugyanabból a pozícióból képes olvasn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1520" indent="0">
              <a:lnSpc>
                <a:spcPct val="80000"/>
              </a:lnSpc>
              <a:spcBef>
                <a:spcPts val="499"/>
              </a:spcBef>
              <a:buNone/>
              <a:tabLst>
                <a:tab algn="r" pos="44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148360" y="2276640"/>
            <a:ext cx="3743280" cy="2349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189B-28C0-4C47-9C14-2D3504CF948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4000" spc="-1" strike="noStrike">
                <a:solidFill>
                  <a:srgbClr val="330066"/>
                </a:solidFill>
                <a:latin typeface="Arial"/>
              </a:rPr>
              <a:t>Optikai tárolók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9280" y="1773000"/>
            <a:ext cx="7859880" cy="44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Az optikai lemezek két fő családja a kezdetben hanganyagok tárolására fejlesztett CD (Compact Disc) és a DVD (Digital Versatile Disc, Digital Video Disc). Ezek közös tulajdonsága, hogy az adatokat spirális sávokban rögzítik valamilyen fényérzékeny anyag használatával. Az adattárolásra apró bemélyedések, gödrök (pit) szolgálnak; a lemez letapogatásakor a gödrökből visszaverődő fénymennyiség kisebb, mint ahol nincs bemélyedés. Az optikai fej ezt a visszavert fénymennyiséget érzékeli, ebből állítja elő a bináris jelsorozatot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5219640" y="189000"/>
            <a:ext cx="2562120" cy="1962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10CA-BAE5-447F-B6F2-8011BB3EA01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Chipkártyák, flash memória, pendriv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9280" y="1557000"/>
            <a:ext cx="814716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Hordozható adattárolókként való alkalmazása egyre népszerűbb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A kártyákba beépített chip leh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337320" algn="just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 u="sng">
                <a:solidFill>
                  <a:srgbClr val="000000"/>
                </a:solidFill>
                <a:uFillTx/>
                <a:latin typeface="Arial"/>
              </a:rPr>
              <a:t>Mikroprocesszor: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olyan „intelligens kártyák”, mint az ATM-kártyák vagy a mobiltelefonokban használt SIM-kártyá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337320" algn="just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 u="sng">
                <a:solidFill>
                  <a:srgbClr val="000000"/>
                </a:solidFill>
                <a:uFillTx/>
                <a:latin typeface="Arial"/>
              </a:rPr>
              <a:t>Memóriachip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: főleg digitális kamerákban, hordozható számítógépekben használjuk, illetve hordozató adattárolóké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A memóriachipek többsége flash memória: olvasható, törölhető és újraprogramozható memóriacellákból áll. A flash memóriák speciális tranzisztorai áramellátás nélkül is képesek információ tárolására; tartalmuk olvasásának/írásának sebessége az optikai lemezekéhez hasonló, de jóval ellenállóbbak.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6E72-1820-44C8-95CB-3D378B97E00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Adatbeviteli eszközök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Billentyűz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Egér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Egyéb mutatóeszközök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300" spc="-1" strike="noStrike">
                <a:solidFill>
                  <a:srgbClr val="000000"/>
                </a:solidFill>
                <a:latin typeface="Arial"/>
              </a:rPr>
              <a:t>botkormány (joystick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Jelolvasó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300" spc="-1" strike="noStrike">
                <a:solidFill>
                  <a:srgbClr val="000000"/>
                </a:solidFill>
                <a:latin typeface="Arial"/>
              </a:rPr>
              <a:t>scannerek (lapolvasók)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300" spc="-1" strike="noStrike">
                <a:solidFill>
                  <a:srgbClr val="000000"/>
                </a:solidFill>
                <a:latin typeface="Arial"/>
              </a:rPr>
              <a:t>vonalkód-olvasó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5898-7B1C-4028-9460-A969EEB9C15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2719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330066"/>
                </a:solidFill>
                <a:latin typeface="Arial"/>
              </a:rPr>
              <a:t>2. Fejeze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Számítógép-architektúrá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63215-B0FB-43D7-A9B6-99312429BF1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Egé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80000"/>
              </a:lnSpc>
              <a:spcBef>
                <a:spcPts val="649"/>
              </a:spcBef>
              <a:spcAft>
                <a:spcPts val="9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Legalább két gombbal és valamilyen mozgáskövető mechanizmussal rendelkezik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 u="sng">
                <a:solidFill>
                  <a:srgbClr val="000000"/>
                </a:solidFill>
                <a:uFillTx/>
                <a:latin typeface="Arial"/>
              </a:rPr>
              <a:t>Fajtái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92080" indent="-450720" algn="just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hu-HU" sz="2200" spc="-1" strike="noStrike">
                <a:solidFill>
                  <a:srgbClr val="000000"/>
                </a:solidFill>
                <a:latin typeface="Arial"/>
              </a:rPr>
              <a:t>mechanikus egér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 használatakor a belsejében egy általában gumi anyagú golyó forgása közvetíti az elmozdítás eseményét: a mozgás irányát és sebességét görgők érzékelik, ezekből határozza meg az egér elektronikája az új (relatív) pozíció  koordinátái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92080" indent="-450720" algn="just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Az </a:t>
            </a:r>
            <a:r>
              <a:rPr b="1" lang="hu-HU" sz="2200" spc="-1" strike="noStrike">
                <a:solidFill>
                  <a:srgbClr val="000000"/>
                </a:solidFill>
                <a:latin typeface="Arial"/>
              </a:rPr>
              <a:t>optikai egérben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 fénykibocsátó LED-et alkalmaznak, a kibocsátott sugarak visszaverődése alapján állapítja meg az elmozdulás irányát és sebességé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92080" indent="-450720" algn="just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A hordozható számítógépekben alkalmazott </a:t>
            </a:r>
            <a:r>
              <a:rPr b="1" lang="hu-HU" sz="2200" spc="-1" strike="noStrike">
                <a:solidFill>
                  <a:srgbClr val="000000"/>
                </a:solidFill>
                <a:latin typeface="Arial"/>
              </a:rPr>
              <a:t>érintőpad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(touchpad) nyomásra érzékeny szenzorokkal működik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26BB-6498-4A2D-97E1-3EB12D73122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95280" y="907560"/>
            <a:ext cx="83534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Adatkiviteli (megjelenítő) eszközök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616040" indent="-446040">
              <a:spcBef>
                <a:spcPts val="9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3600" spc="-1" strike="noStrike">
                <a:solidFill>
                  <a:srgbClr val="000000"/>
                </a:solidFill>
                <a:latin typeface="Arial"/>
              </a:rPr>
              <a:t>Képernyő (monitor)</a:t>
            </a:r>
            <a:r>
              <a:rPr b="0" lang="hu-H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616040" indent="-446040">
              <a:spcBef>
                <a:spcPts val="9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3600" spc="-1" strike="noStrike">
                <a:solidFill>
                  <a:srgbClr val="000000"/>
                </a:solidFill>
                <a:latin typeface="Arial"/>
              </a:rPr>
              <a:t>Nyomtató (printer)</a:t>
            </a:r>
            <a:r>
              <a:rPr b="0" lang="hu-H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616040" indent="-446040">
              <a:spcBef>
                <a:spcPts val="9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3600" spc="-1" strike="noStrike">
                <a:solidFill>
                  <a:srgbClr val="000000"/>
                </a:solidFill>
                <a:latin typeface="Arial"/>
              </a:rPr>
              <a:t>Multimédia</a:t>
            </a:r>
            <a:r>
              <a:rPr b="0" lang="hu-H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E779-B41D-4AC8-B966-0133E4B33E7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Képernyő (monitor)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A legfontosabb vizuális megjelenítő eszköz, amely a tv-technológia számítógépekre alkalmazott változatából alakult ki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 u="sng">
                <a:solidFill>
                  <a:srgbClr val="000000"/>
                </a:solidFill>
                <a:uFillTx/>
                <a:latin typeface="Arial"/>
              </a:rPr>
              <a:t>Főbb jellemzői a következők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működési elv szerint katódsugárcsöves (CRT) vagy folyadékkristályos (LCD) monitorokat különböztetünk me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a képátló (hüvelykben), például 14”, 15”, 17”  stb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felbontás, színmélység és frissítési frekvenc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6DC7-13B1-4379-BB43-328ED80A2DF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Nyomtató (printer)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A nyomtatók feladata információ papírra rögzítése, lényegében pontok mintázatát állítja elő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Legfontosabb tulajdonságai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a megjeleníthető színek száma és a nyomtatási sebesség (általában lap/perc-ben mérjük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a nyomtatás minőségét meghatározó nyomtatási felbontás (a képpontok száma és egymástól való távolsága)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a felhasználható papír mérete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B526-26BD-45AD-8F73-7A29D1043A0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Nyomtatók (printer) csoportosítás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Érintéses nyomtató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papírhoz érő mechanikus eszköz (nyomtatófej) festéknyomata jelenik meg a lapon (ilyen a főleg számláknál, több példányos nyomtatáskor a mai napig használt mátrixnyomtató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nem érintéses nyomtatók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főbb típusa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-3405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 u="sng">
                <a:solidFill>
                  <a:srgbClr val="000000"/>
                </a:solidFill>
                <a:uFillTx/>
                <a:latin typeface="Arial"/>
              </a:rPr>
              <a:t>tintasugaras nyomtató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: a nyomtatófej apró fúvókáin keresztül finom tintacseppeket (másodpercenként több ezer) juttat a papírr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-3405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 u="sng">
                <a:solidFill>
                  <a:srgbClr val="000000"/>
                </a:solidFill>
                <a:uFillTx/>
                <a:latin typeface="Arial"/>
              </a:rPr>
              <a:t>lézernyomtató: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egy fényérzékeny hengerre gyenge lézersugár rajzolja fel a nyomtatandó karaktereket vagy képeket, ami (elektrosztatikus töltések útján) először magára vonzza a festéket, majd a festék „átragad” a hengerrel érintkező papírra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-3405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 u="sng">
                <a:solidFill>
                  <a:srgbClr val="000000"/>
                </a:solidFill>
                <a:uFillTx/>
                <a:latin typeface="Arial"/>
              </a:rPr>
              <a:t>hőnyomtató: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az egyszerűbb típusnál speciális hőérzékeny papírt alkalmaznak, amelynek bevonata melegítéskor elszíneződik, míg a modernebb, jó minőségű fotónyomtatáshoz használt változatokban a kép megjelenítése a papírra szorított festékszalagról leolvadó festékkel történi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163C-B87C-470B-BB13-F8CFF28E6DD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Multimédia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A hangkártya akusztikus jelek előállítására képes (általában a PCI-sínre illeszthető) bővítőkártya, amely audio kimenettel és bemenetekkel is rendelkezik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Alkalmas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hanglejátszásra (analóg vagy digitális jel küldése hangfalaknak vagy erősítőnek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hangfelvételre (bemenő vonalon vagy mikrofon segítségével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digitalizálás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A hangkártya funkcióját betöltheti a számítógép alaplapjára integrált audiovezérlő is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A hangkártya mellett szintén  multimédiás funkciót betöltő bővítőkártyák a különféle videodigitalizáló eszközök, például a tévéadások fogadására, rögzítésére használatos TV-tuner-kártyák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BDC5-BCEE-4026-B774-309618FD858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Platformok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Valamilyen keretrendszert, fizikai vagy logikai strukturális modellt jelen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A platform logikai keretrendszer értelmezése főleg operációs rendszerekre jellemző, gyakran találkozunk olyan kifejezésekkel, hogy az adott programot például Windows- vagy Linux-platformra fejlesztették, esetleg többfélét is támogat – ekkor platformfüggetlennek nevezzük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DF78-B68F-4406-AB9D-156D637DC6D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Az architektúra fejlődése a XX. században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900000" y="1633680"/>
          <a:ext cx="6645240" cy="4146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633680"/>
                    <a:ext cx="6645240" cy="414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7524720" y="1628640"/>
            <a:ext cx="0" cy="396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6622-38A3-488F-9AC0-7087F6AF1BA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A központi egység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9152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z adatok feldolgozása utasítások sorozatával, azaz egy program végrehajtásával történik a számítógép központi egységében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Felépítés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627280" y="3068640"/>
            <a:ext cx="4465800" cy="2747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2EDC-E266-48B3-9A0E-581B824A95A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A processzor</a:t>
            </a:r>
            <a:r>
              <a:rPr b="0" lang="hu-HU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9152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A processzor a programok utasításait, adatait értelmezi és dolgozza fel, majd továbbítja az  eredményt a számítógép adatútvonalain keresztül. A tulajdonképpeni számítások végrehajtása mellett vezérli a belső adatforgalmat és a csatlakozó egyéb modulok tevékenységét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0" algn="just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0" algn="just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0D59-8115-4727-9EB7-A3F6C6CE4C3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A processzor felépítés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526716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1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r" pos="274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A processzor három alegységre tagolható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r" pos="274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r" pos="274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Vezérlő egység (utasítás-előkészítő processzornak is nevezik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r" pos="274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Aritmetikai és logikai egység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r" pos="274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Regiszterek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2080" indent="-34740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150000"/>
              <a:buFont typeface="Arial"/>
              <a:buChar char="•"/>
              <a:tabLst>
                <a:tab algn="r" pos="274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 u="sng">
                <a:solidFill>
                  <a:srgbClr val="000000"/>
                </a:solidFill>
                <a:uFillTx/>
                <a:latin typeface="Arial"/>
              </a:rPr>
              <a:t>Akkumulátor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: a számítások első adatát és köztes eredményeit tároló regiszte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2080" indent="-34740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150000"/>
              <a:buFont typeface="Arial"/>
              <a:buChar char="•"/>
              <a:tabLst>
                <a:tab algn="r" pos="274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 u="sng">
                <a:solidFill>
                  <a:srgbClr val="000000"/>
                </a:solidFill>
                <a:uFillTx/>
                <a:latin typeface="Arial"/>
              </a:rPr>
              <a:t>Utasításregiszter: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a soron következő művelet kódját tárolj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2080" indent="-34740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150000"/>
              <a:buFont typeface="Arial"/>
              <a:buChar char="•"/>
              <a:tabLst>
                <a:tab algn="r" pos="274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 u="sng">
                <a:solidFill>
                  <a:srgbClr val="000000"/>
                </a:solidFill>
                <a:uFillTx/>
                <a:latin typeface="Arial"/>
              </a:rPr>
              <a:t>Utasításszámláló regiszter: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a soron következő utasítás címét tárol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724360" y="1989000"/>
            <a:ext cx="3135600" cy="365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1B06-9FF4-4510-BE9B-983655B776E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Memóri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A memória a számítógép olyan egysége, amely képes adatokat és programokat tárolni valamekkora időtartamr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Szűkebb értelemben – és a gyakorlatban – a memória megjelölést a központi tár szinonimájaként használjuk, tágabb értelemben viszont ide tartoznak a regiszterektől a háttértárolókig mindazon elemek, amelyek képesek ideiglenesen vagy tartósan megőrizni a nekik átadott információt.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AEC4-6BE8-46E9-A914-3A6260A26F3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A számítógépek tárhierarchiája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5651640" y="1700280"/>
            <a:ext cx="2711160" cy="19256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 txBox="1"/>
          <p:nvPr/>
        </p:nvSpPr>
        <p:spPr>
          <a:xfrm>
            <a:off x="755640" y="1628640"/>
            <a:ext cx="48960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z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 elsődleges tároló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a processzorral közvetlen kapcsolatban ál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Háromféle tártípust sorolhatunk i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1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regiszter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1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cache memó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1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operatív memó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55280" y="3573360"/>
            <a:ext cx="7761240" cy="21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 algn="just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másodlagos tárolót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a központi egység az I/O csatornákon keresztül éri el; az elsődleges tárnál nagyobb kapacitású, de lassabb elérésű mágneses háttértároló. Tartós adattárolásra szolgál, tartalmát az elsődleges tárral ellentétben a számítógépek kikapcsolásakor is megőrz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 algn="just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harmadlagos tár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fogalmába tartoznak az olyan off-line formák, mint az optikai lemezek, a flopi lemez, a mágnesszalagos tár vagy a flash memória (USB pendriv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F942-3555-46CC-914E-69D7428C94A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A sínrendsze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920" y="1719360"/>
            <a:ext cx="864216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számítógépek hardver moduljai között kapcsolatot teremtő vezetékek és jelerősítő áramkörök összessége a </a:t>
            </a: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sínrendszer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(bus system, buszrendszer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síneken továbbított tartalom szerint három kategóriát különböztetünk me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320" indent="-286200" algn="just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 u="sng">
                <a:solidFill>
                  <a:srgbClr val="000000"/>
                </a:solidFill>
                <a:uFillTx/>
                <a:latin typeface="Arial"/>
              </a:rPr>
              <a:t>vezérlősín: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vezérlőjelek futnak rajta a CPU és a többi egység között, amelyek az adatforgalmat irányítják, de többek között ide tartoznak a megszakításokat vezérlő és a szinkronizáló jelek i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320" indent="-286200" algn="just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 u="sng">
                <a:solidFill>
                  <a:srgbClr val="000000"/>
                </a:solidFill>
                <a:uFillTx/>
                <a:latin typeface="Arial"/>
              </a:rPr>
              <a:t>adatsín: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a processzor, a központi tár és a perifériák közötti adatcsere közeg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320" indent="-286200" algn="just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 u="sng">
                <a:solidFill>
                  <a:srgbClr val="000000"/>
                </a:solidFill>
                <a:uFillTx/>
                <a:latin typeface="Arial"/>
              </a:rPr>
              <a:t>címsín: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a memória egyes, írni vagy olvasni kívánt rekeszeit meghatározó jelek áramlanak raj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mai számítógépekben alkalmazott sínrendszerek összetettek, számos funkcionális alegységgel bírnak, de közös általános jellemzőjük a sebesség (azaz a sín órajele, MHz-ben kifejezve) és az adatszélessé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D1E8-7121-48B2-97B0-13B2BD02AAE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r. Herdon Miklós</cp:lastModifiedBy>
  <dcterms:modified xsi:type="dcterms:W3CDTF">2006-10-25T07:54:07Z</dcterms:modified>
  <cp:revision>84</cp:revision>
  <dc:subject/>
  <dc:title>PowerPoint bemutató</dc:title>
</cp:coreProperties>
</file>