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5684-B130-4716-9FAF-DC66602A118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A53-3081-4E02-8579-CD68C33F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22A-A9DA-49C7-87B8-E55D2499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6F6-69DB-4A8D-9C8C-B5BCE4AB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C23-E57B-4989-9D47-E00301BB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67F9-CEEF-4E5D-815B-4F86605E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3B3B-36C0-419D-9D87-20C2A253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2A48-6FC8-4F1F-A1DF-87E94D2C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2B26-1A65-4E52-9EC1-7E19E1BC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ACD3-7ABC-43B0-B765-CC8B9783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E108-31EB-4BAF-8892-4A610F54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E7B9-C647-4970-BFC3-2E560F31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E96-1D88-4679-97C1-38A7ECA2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7237-08EF-47E8-9916-68F735E0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2972-B7D7-4171-B92D-2DE2E374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010C-1173-4BC9-92E3-113F7CAD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5DAB-3759-47B2-9754-E8B8E2AF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C6E2-0432-4048-946E-3514CF77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3D7-97D5-4E04-A381-2B14D28A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DE1-240C-4B31-B3A8-1BA4B637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D48-6D92-4D51-AD02-66B8242A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84A-ECD7-4809-88AF-A72F4424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8C9-B337-4974-B27C-D7C4AFF1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A00-926D-40E6-A1F9-224AF2F1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0D5-DF54-4592-82DC-CF9BDCB1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B755-373B-4354-BB90-3043AD843625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r>
              <a:rPr b="1" lang="hu-HU" sz="1000" spc="-1" strike="noStrike">
                <a:solidFill>
                  <a:srgbClr val="ff0000"/>
                </a:solidFill>
                <a:latin typeface="Times New Roman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0D79-14FE-4362-99AC-459D43A4D455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Fazekasné dr. Kis M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ebreceni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émeth Zol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Budapesti Corvinus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ömörítő program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arakte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kzip/pkunzip, arc, lha, ace, 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ar (menüvezérelt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zip, tar (Uni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grafik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WinZip, WinRar, WinAc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ommander programok 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(operációs rendszer.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írust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ogalma: </a:t>
            </a:r>
            <a:br>
              <a:rPr sz="2600"/>
            </a:br>
            <a:r>
              <a:rPr b="0" lang="hu-HU" sz="2600" spc="-1" strike="noStrike">
                <a:solidFill>
                  <a:srgbClr val="ff0000"/>
                </a:solidFill>
                <a:latin typeface="Arial"/>
              </a:rPr>
              <a:t>PROGRAM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eprodukciós képessé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ártó szándé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ellegzetesség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ál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arazita-jell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soportosítása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ertőzés hely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boot-vír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lkalmazás- (program-) vír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akróvír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egjelenési mó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lopakod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ódváltó (polimor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írust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új típusú” veszélyhordozó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érgek (wor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vírus vagy fére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sődleges cél a sokszorosí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írus hordozó útján, a féreg önállóan terj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rójai programok (malew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rój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cázott működ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sődleges cél az adatlopás (nem rombol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émprogramok (spyw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edirek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oax, sp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írusvédel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000" spc="-1" strike="noStrike">
                <a:solidFill>
                  <a:srgbClr val="004835"/>
                </a:solidFill>
                <a:latin typeface="Arial"/>
              </a:rPr>
              <a:t>social engineering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vírusírtó program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édő („shield”) vagy kereső („scan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3D („Disinfect”, „Delete”, „Deny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l. Symantec (NAV), McAfee, Kaspersky (FSAV), Panda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hu-HU" sz="3000" spc="-1" strike="noStrike">
                <a:solidFill>
                  <a:srgbClr val="99ccff"/>
                </a:solidFill>
                <a:latin typeface="Arial"/>
              </a:rPr>
              <a:t>hálózat védelme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űzfal, spam-szűrő, 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atvédel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ációs jogok: nyilvánosság és titkossá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blém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zemélye és magánszféra információs hatá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guk dönthessék el, hogy a róluk szóló információk hogyan jussanak mások tudomásá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gyén társadalmi részvételét elősegítő információk közzététe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örvényi kategóriá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emélyes ad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ármely információ, amely alapján az egyén azonosítható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formációs önrendelkezé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0000"/>
                </a:solidFill>
                <a:latin typeface="Arial"/>
              </a:rPr>
              <a:t>alapelv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minden személyes adat alapvetően titk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ülönleges ad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eghatározott (törvényes) célra felhasználható, csak a szükséges ideig tárolhat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aji, politikai, vallási, egészség, st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zérdekű ad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atbiztonsá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z adatok jogosulatlan megszerzése, módosulása és tönkretétele elleni műszaki és szervezési megoldások rendsze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ódszer + Szemlélet + Eszkö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tbiztonság adatvédelem nélkül is lehetség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ódszer: Biztonsági cikl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emlélet: Biztonsági kéziköny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zköz: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zonosítás, jogosultság, biztonsági másolat, védelmi rendszerek (vírusirtó, tűzfal), st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nformatikai jo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zerzői jog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999. LXXVI. törvény a szerzői jog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ámítástechnikai sajátosság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TK mód. 2002.04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ámítógépes kalózkod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zoftverjo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ice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ámla, eredetiség-igazol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őnyök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áció, terméktámogatás, ügyfélszolgálat, biztonsá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hareware (de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rlátlan terjesztés,  korlátozott felhasználhatósá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dőbeni, funkcionális, felhasználói körre vonatkozó, st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re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rlátlan terjesztés és felhasználhatósá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elemunka, távmun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elemunkára alkalmas „rutin” jellegű tevékenység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író és fordító mu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világosítás, tanácsa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adói, adminisztratív mu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minisztrá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ügyfélszolgá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elemunkára alkalmas „kvalifikált” tevékenység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rvezés (szoftverkészít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akértői tevékeny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érnöki tevékeny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mzési feladatok (pl. statisztiku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ávmunka előnyei (érdekek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gyé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yszerű elérés (pl. közlekedé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dvezőbb munkafeltétel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llemesebb környez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ervez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öltségmegtakarítás, költségek áthárítá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üzemi racionalizáci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sebb anyagi ráfordít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tintevékenységek egyszerűsíté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edmények objektív mérhetősé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Üzemeltetési és adatvédelmi kérdé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ávmunka hátrányai (gátak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gyé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gas bekerülési költ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echnológia gyors elavu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apatmunka” hiá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rsadalmi jelenségek (elszigetelőd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zervez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mélyes kapcsolat hiá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ztonság (titkossá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lenőrizhető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időbeli eltolódá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isztázatlan jogi helyz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érintett csoportok ellenállás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ávoktatás - Távtanu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önképzésre építő interaktív oktatási mó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őnyö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lóguson alapuló önálló tanulásm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terséges környezetb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yedi igények és elsajátítási módok, üteme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átrány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lgató és tanár személyes kapcsolatának hiá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lgatói közösségek hiá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ós környezet hiánya (laboratóriumok, kísérleti eszközök hiány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ív megoldási koncepci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egédprogram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operációs rendszer szolgáltatásait kiegészítő alkalmazáso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ényelmes(ebb) felhasználhatósá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öbbletfunkcionali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peciális igény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l. commanderek, tömörítők, vírusírtók, codecek, stb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Commander program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redetileg a karakteres felület állománykezelési parancsainak kiváltásá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ésőbb általános állománykezelési eszköztár szerepb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elépítés: panelek </a:t>
            </a:r>
            <a:r>
              <a:rPr b="0" lang="hu-HU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2(!) „</a:t>
            </a:r>
            <a:r>
              <a:rPr b="0" lang="hu-HU" sz="3000" spc="-1" strike="noStrike">
                <a:solidFill>
                  <a:srgbClr val="ff0000"/>
                </a:solidFill>
                <a:latin typeface="Arial"/>
              </a:rPr>
              <a:t>aktív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” könyvtá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orton Commander, Volkov, Far Manager, Windows Commander </a:t>
            </a:r>
            <a:r>
              <a:rPr b="0" lang="hu-H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Total Comma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ömörítő program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cél: tárolási méret csökkenté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csoportosít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vesztesé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veszteség-men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egvalósí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valós idejű („röptömörítő”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lkalmazás (egyirányú/kétirányú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Veszteséges tömörí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600" spc="-1" strike="noStrike">
                <a:solidFill>
                  <a:srgbClr val="ff0000"/>
                </a:solidFill>
                <a:latin typeface="Arial"/>
              </a:rPr>
              <a:t>feleslege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” információ kiszűr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érzékelhető adatvesztés nélkül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z információ tömörített formájában is használható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ellemzően multimédiás alkalmazási terü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frekvencia-tartomány szűkí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ismétlődő adatok tárolása hivatkozáss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spektrum (szín vagy hangszín) szám csökken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pl. JPG, MPE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szteségmentes tömörítés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dat – archívum – ad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everzibilis műveletpár eredmény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konverzió során adatvesztés nem lép f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archivált információ nem feldolgozhat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ódolási algoritmusokk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hatékonyság (archív méret / eredeti mére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gyorsasá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ömörítési algoritmus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darabszám kódol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RLE (futási hossz): ismétlődő szimbólumok szá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elyettesíté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szimbólum-helyettesítés (TAB = 8 szókö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minta helyettesítés (LZW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tatisztik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gyakoriság: (Shannon-Fano), Huffm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ritmetik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ömörítő program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étfájlos tömörítő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ülön program a kódolás-dekódolásho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pkzip/pkunz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fájlos tömörítő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apcsoló a kódolás irányának meghatározásáho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rj a / arj x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fx – önkicsomagoló archív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13:19:24Z</dcterms:created>
  <dc:creator>Mazsola</dc:creator>
  <dc:description/>
  <dc:language>en-US</dc:language>
  <cp:lastModifiedBy>Dr. Herdon Miklós</cp:lastModifiedBy>
  <dcterms:modified xsi:type="dcterms:W3CDTF">2006-10-25T08:00:12Z</dcterms:modified>
  <cp:revision>11</cp:revision>
  <dc:subject/>
  <dc:title>Informatika</dc:title>
</cp:coreProperties>
</file>