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222-D529-4ABA-8CD2-C84686060A4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66F-F752-42A4-880D-B22D6720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D1B-572F-48EB-9A0F-3D97EC04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A2B-064E-4556-9B47-28A53A64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FAC-E469-46D7-B387-22E9BAEA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C685-1458-4D5D-B8C0-E61744D2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346-3261-447B-874D-CD9E27C2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E56D-28C9-489C-88A0-AAB966B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424B-D12A-4FDE-957C-FA849C5E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4277-CF96-4404-BE93-0C49E916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CB17-4F54-4523-9888-EFC5BC75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5271-47EF-48BC-BB17-40650FA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AF6-F8B3-4C5E-A5FC-1BAA82BC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D198-A0DA-440A-B0CD-B8569D9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8463-6B0F-4FC9-A14F-E71CAFC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B37D-4D39-492B-AE7F-E073CC5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5C96-A6A8-4C53-AD0D-0DC20F5D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47FA-0628-4718-990F-F7B1DEE6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ED2-FB09-4DFD-9825-1C94FA2E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054-9D62-45BE-A276-6BC0CA66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337-BDAC-4F2F-BC21-BDE37760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714-B42D-41C3-9ABE-6C1A8C14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9F4-BEE0-4F16-84AF-6063497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92B-8CDE-4FA1-B7C4-223CDAA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92B-C91A-422F-8D22-C4B9CFF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CCA-8D93-4E02-8D09-3D77B3B2092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4CB-8082-4A8C-AE1F-E528974FCC9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32C3-03BB-4706-A2A2-3C56CDAB8E1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DA47-84E5-4966-9FB6-49C4DB8364F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2B9-6D58-4203-8692-143C694558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Döntés (feltételes elágazá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2292480"/>
            <a:ext cx="770580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1DE-514A-42E4-8F89-4F70961FF4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iklu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778040"/>
            <a:ext cx="6553440" cy="41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68C-B500-4CDE-82CF-13451EE65B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objektum-orientált programozás alapelv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objektum-orientált nyelvek struktúrájának alapjai az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osztály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ok, amelyek adatdefiníciók és működési definíciók együttesei. Az objektumok egy-egy osztály konkrét megjelenési formái, amelyek saját adatokkal, az osztálydefinícióban megadott szabályok mentén létezn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objektumok kívülről fekete doboznak tekinthetők: belső folyamataikhoz saját adat- és eljárásstruktúrával rendelkeznek, az egymással való kommunikációt pedig e célra kialakított interfészeken (csatlakozó felületeken) bonyolítjá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laposztályból származtathatunk új osztályokat, amelyek az alaposztály valamennyi definícióját hordozzák, és ezek mellett saját jellemzőkkel bírnak – ez az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ülönböző osztályokba tartozó objektumok egy közös interfészen keresztül reagálnak valamilyen üzenetre,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polimorfizmus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ól beszélün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öbb alaposztály tulajdonságait is egyesítheti egy származtatott osztály, ekkor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többszörös öröklés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ől beszélün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Például a származtassuk a „jegyzet” osztályt a „tankönyv” osztályból, amely viszont a „könyvek” osztályból származik. Ekkor egy jegyzet kezelhető könyvként, ha általános, minden könyvre jellemző tulajdonságait tekintjü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9FE-4E73-4C78-ACBD-FCBB85DC3D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5. Számítógépes programok, programozá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D08E-AFD6-4243-8AB7-EF28C87368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ogramozási nyelv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őleg tudományos (matematikai) számítások eszköze a FORTRAN és az ALGOL nyelv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ügyviteli, gazdasági alkalmazásokhoz, adatfeldolgozáshoz készült a COBO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ámítógépes szimuláció, modellezési technikák megvalósítása a GPSS és a SIMULA-nyelvek célj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programozásra született a C nyelv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ktatási célból fejlesztették a BASIC és Pascal nyelveket. Beginners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l-purpose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ymbolic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structio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C5A-3E34-49E0-8AEB-131174F21C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épi nyelv és 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gépi kód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k elemei műveleti kódból és címrészből álln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űveleti kódban megadott utasítást hajtja végre a processzor a címrészben megadott 1, 2 vagy 3 operandussal  – ezek határozzák meg, hogy a memória mely területén („rekeszében”) találhatóak a számításokhoz szükséges adat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épi kódú program ezen utasítások sorozata, az adott utasítás végrehajtása után automatikusan a következő utasítást dolgozza fel a processz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gyes utasítások könnyebb megfogalmazására, jobb olvashatóságára és dokumentálhatóságára született meg az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a gépi nyelvhez legközelebb álló, alacsony szintű nyel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ssembly nyelvű program végrehajtásához a szöveges forrást le kell fordítani gépi nyelvre, ezt az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végz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202-2E76-4889-B5BE-F9A7D5F254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agas szintű programnyelvek és fordító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lső magas szintű programnyelv megalkotásakor a készítőket programok hatékonyabb fejlesztése vezérel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elhasználó az adott nyelven ún.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orrásprogra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t készít, ehhez legtöbbször egy egyszerű szövegszerkesztő is elegendő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ész forrásprogramot át kell alakítani a gép processzora számára értelmezhető bitsorozattá, ez kétféleképpen valósulhat me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ordítóprogra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(compiler) a ellenőrzi a forrásprogramot: megfelel-e a nyelv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szintaxi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nak, azaz szabályainak, hibátlan kód esetén elkészül a tárgyprogram, majd szerkesztő program által a végrehajtható, futtatható progra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értelmezőprogra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(interpreter) soronként halad a forráskódban, és az egyes sorok feldolgozása után azonnal végrehajtja az utasítást, tehát a programunk gépi kódú megfelelője soronként áll elő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7E2-585C-4B34-A57F-A23908D9A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programfordítás szakasza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2349360"/>
          <a:ext cx="8282160" cy="23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28216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C59-0209-4C2F-B3AE-861E91D89F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gy komplex fordító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951200"/>
            <a:ext cx="7488360" cy="38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3BE-0361-406D-855C-B662EA607E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lapvető programozási struktúr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zekvencia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egymást követő utasítások sorozata, végrehajtásuk sorrendje adot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Döntés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valamilyen logikai feltétel kiértékelésétől függően hajtjuk végre a programkód egyik vagy másik szakaszát. Ezeket a szakaszokat ágaknak, magát a struktúrát elágazásnak is nevezzü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Ciklus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egy adott utasítássorozat ismétlése valamilyen feltétel függvényéb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8D6-58AC-4086-9F58-E2AEA03AC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kv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1743120"/>
            <a:ext cx="6121440" cy="42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B59-8EBB-4794-84B8-F5E1290A8A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7:01Z</dcterms:modified>
  <cp:revision>94</cp:revision>
  <dc:subject/>
  <dc:title>PowerPoint bemutató</dc:title>
</cp:coreProperties>
</file>