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DC17-EEA2-4C86-8E51-54E42BEF7143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5F1-477F-4047-AD44-F144738F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CAA-26B3-4697-A829-F45FE358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187-42A2-4B85-9F2B-A304D4AC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533-D3C6-45AA-AA45-4F567300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D1A5-9BDD-455D-BB22-16E466C7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75EE-62D6-4061-A5F7-FE49B29E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87A7-0535-4DC4-9C9F-708BEA3E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F373-A507-43A2-9C8F-FE1BC477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981C-4448-4AFE-BBD6-E81EEF49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258C-6A0E-4DD8-AC8B-45E2E7E0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D7F6-7C89-46D0-8CDC-F42B1E91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23F-7C73-4476-9EDA-39351D5D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5A2C-9697-4E6E-BBC6-2FC8E985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3997-B910-44F7-B018-AEC4973C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A430-F96D-4085-A3D9-46115178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A911-FAEF-4AED-8C4F-B3F2890C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F6B6-EF79-416D-B842-35D7667F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1FE-F3B7-42B1-814C-102FA5CB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256-9DF6-4C68-AD23-70068785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A34-1290-4B35-B885-C51D03BC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B99-2C66-444A-B560-B0EDDF00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926-9864-435D-B515-888F50AF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679-DCA9-44D0-96EC-752E6D49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C5B-8E42-4C28-9F4C-48C86C74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0FED-1B33-47E3-8AE9-DA50BA476787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4020-8797-4EC8-9F5C-C162CAFA2F8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13D5-450E-47AF-91A2-D6051327A64F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2B38-CB5C-4A2C-B45E-4AEBB27D4BB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Fazekasné dr. Kis 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ebreceni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émeth Zol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udapesti Corvinus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872D-DDBC-45DD-8CFD-774BDE833A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eladat-meghatározás és adatgyűjtés fázi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logikailag a fennálló helyzet folyamatos figyelé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Definiálni kell a normális, ill. kívánatos állapotot, az egyéni ill. szervezeti célok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probléma észlelése annak tudatosodá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ltérések valódi okának, okainak kideríté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problémával kapcsolatos adatok meghatározá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datok begyűjté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252-6D7D-4B75-BCD9-BD39E97334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ervezési fáz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nnek a fázisnak a feladata megtalálni, kifejleszteni és elemezni a lehetséges cselekvési alternatívák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z a probléma mély megértését, a megoldásváltozatok kialakítását és tesztelését jelent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42D-F48A-472C-857C-82806013A5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lternatívák generálá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alternatívák generálása viszonylag hosszú folyamat, amely keresést és kreativitást igényel (brainstorming). Az egyik alapvető kérdés: mikor kell abbahagyni a keresést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DSS-ekben ez általában manuálisan történik, az ES-ekbe automatikusan be van építve egy megfelelő leállási kritéri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alternatívák kimeneteleinek értékelése függ a modelltől és az adatoktó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704-B2F9-4EB1-B67D-70F5E8A1ED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Értékel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a van is megoldás, a következő problémákat kell megoldan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 algn="just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héz explicit célhierarchiát felállítani az adott vállalatná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 algn="just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ülönböző résztvevőknek mások a célprioritás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 algn="just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döntéshozó is változtathatja céljait az idővel és a körülmények változásáv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 algn="just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ervezet különböző szintjei és részlegei más és más célokkal rendelkezn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 algn="just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élok maguk is változnak a környezet kihívásaiv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 algn="just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héz pontos kapcsolatot találni az alternatívák és célok tekintetéb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redmények elvileg a modellből és a megoldási eljárásból fakadóan helyesek, mégis ellenőrzésre és legfőképpen érzékenységvizsgálatra van szükség velük kapcsolatba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078F-6B78-4E92-BDDF-4B4F8855F8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gvalósítás fázi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indig a legnehezebb dolog, mert a kiválasztott megoldást át kell ültetni a gyakorlatba, s még ha nem is itt ugranak ki a modell gyengeségei, akkor is minden változás ellenállást szül, ill. a modellben optimális megoldás megvalósítás után nem biztos, hogy "optimális" mar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108-36A9-4671-8448-1EADD5227B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döntési folyamat támogatás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datgyűjtés fázis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- adatbázis kezelés, riport generálás, adatfeldolgozás - MIS, EDP, EIS, ES, D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Tervezés fázisa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 alternatíva generálás, előrejelzés készítés - DSS, 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Választás fázis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- lehetséges megoldások felismerése, érzékenységvizsgálat - DSS (nem dönt, csak ajánl változatokat) ES (dönt és indokol i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egvalósítás fázis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- alátámasztja a döntést, segít a kommunikációban, magyarázatban, igazolásban - DSS, 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28E-8991-42D2-A0DB-DC717E13BE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döntési folyamat támogatás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4. ábra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0D2-9CE8-48C9-8CE4-68B31C6E0F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döntéshozatal módja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Egyéni döntéshoza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Szervezeti döntéshozatal - csoportos dönté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C2D-CC46-490E-95E9-7D7026C521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gyéni döntéshozat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döntéshozó intuíciója, preferenciái, szubjektív értékelése és tapasztalatai lényegesek a döntéshozatal tényleges lefolytatása során. Az emberi megismerési és döntési stratégiák az egyes egyéneknél különbözőe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probléma megismerési (kognitív) folyamat az a folyamat, melynek során az egyének feloldják a világról alkotott belső képük és a valóságról érkező információk különbségei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kognitív folyamat stílusa lehe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perceptív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– általánosító, a kapcsolatok, összefüggések feltárását előtérbe helyező, i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receptív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a részleteket vizsgáló, a specifikumokat hangsúlyozó megközelíté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ásik oldalról nézve lehet szisztematikus vagy intuitív a munkastílusa valakinek, ahogy az adatokat, információkat feldolgoz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631-A575-466C-87D1-A751620F64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ervezeti döntéshozatal - csoportos döntés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ok esetben a döntéshozatal nem egyetlen ember feladata és kiváltsága, hanem több ember kell, hogy meghozza a döntéseket. Tárgyalás, alkudozás, megegyezés szükséges. A szervezeti döntéshozatal tehát általában csoportos döntést igényel. A döntéstámogató rendszereknek nemcsak egy vállalat, egy cég igényeivel, szükségleteivel kell foglalkozniuk, hanem az egyes (cégen belüli) osztályok, sőt az egyes alkalmazottakéval i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csoportos döntéshozatal előnye a nagyobb össztudás, a rendelkezésre álló nagyobb információ, több lehetséges alternatíva figyelembe vétele, a kidolgozott megoldások elfogadásának nagyobb valószínűsége, a folyamatban résztvevők részéről a probléma és a megoldás jobb megérté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soportos döntést támogató rendszerek (GDSS – Group Decision Support System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E7F-CC3C-45CA-9F2F-2B95994E90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12. Fejeze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öntéstámogató rendszer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280D-552D-4552-872D-FEE8969BE5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0066"/>
                </a:solidFill>
                <a:latin typeface="Arial"/>
              </a:rPr>
              <a:t>DSS-el szembeni követelmények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Dinamikus együttműködés a számítógép és az ember között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különböző vezetői szintek támogatás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gyéni és csoportos döntési folyamatok támogatás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lkülönülő és láncolt döntések kezelése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döntési folyamat végigkísérése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ülönböző döntési stílusok és technikák támogatás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Rugalmasság és adaptivitás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Barátságos felhasználói felület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atásosság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eljeskörű felhasználói kontroll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ejleszthetőség – belső és külső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Végfelhasználói fejleszthetősé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3F4-CB22-414C-8192-CF0DA8C479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Döntéstámogató rendszerek része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datkezelő alrendszer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artalmazza a döntéshez szükséges adatokat, ill. kapcsolódik a szervezeti TPS-hez vagy külső adatbázisokhoz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odellkezelő alrendszer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– a rendszer elemző képességét biztosítja különböző területek matematikai modelljeinek felhasználásáv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ommunikációs alrendszer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felhasználó és a rendszer kapcsolatát biztosít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77E-0E69-406A-9540-E8C8868709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Döntéstámogató rendszerek része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" descr="6. ábra"/>
          <p:cNvPicPr/>
          <p:nvPr/>
        </p:nvPicPr>
        <p:blipFill>
          <a:blip r:embed="rId1"/>
          <a:stretch/>
        </p:blipFill>
        <p:spPr>
          <a:xfrm>
            <a:off x="2100240" y="2095560"/>
            <a:ext cx="494352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91E-A21D-4B7E-AE47-B7CC3CCE63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atkezelő alrendsz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adatkezelő alrendszer biztosítja a külső adatbázisokhoz való hozzáférésen kívül a saját adatainak tárolását, feldolgozását, ezeknek egységes és konzisztens adatszótárba rendezését és a lekérdezések elvégzésé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Része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3080" indent="-34380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DSS adatbáz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3080" indent="-34380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datbáziskezelő rendsz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3080" indent="-34380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datszótá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3080" indent="-34380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ekérdezé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7E5-3561-4D49-8ACE-9473CB2DA7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DSS adatbáz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adatbázisokban a rendszeresen ismétlődő, jól meghatározott szerkezetű és logikai kapcsolatokkal rendelkező adatokat, adatszerkezeteket tárolju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ülönböző adatbázismodellek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rekord-alapú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– egyszerű adatállományok, hasonló szerkezetű adatrekordokbó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hierarchik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 – az adatok logikai hierarchiába vannak szervezv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hál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– ugyanazon az adathalmazon több hierarchia is érvényesül egyidejűle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relációs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az adatok egyedek tulajdonságainak mátrixába vannak rendezv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objektum-orientált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objektumok tulajdonság rendszerének segítségével tárolja az adatok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755-72EF-49DF-8BFB-F342B3E2BB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atbáziskezelő 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adatbáziskezelő programrendszerek a különböző adatmodellekre optimalizálva készülnek, skálájuk az olcsó íróasztali gépeken futó verzióktól kezdve az országos statisztikai adatgyűjtéseket kezelő nagygépes rendszerekig terj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unkciói a következők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DSS-adatbázis elérése, adatok kinyeré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ors adatfelújításo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ülönböző forrásokból származó adatok együttes kezel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kérdezések, riportok generálá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atok biztonságának garantálá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mélyes és szervezeti adatok alternatíváinak kezel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athasználat nyilvántartá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CCF-2FCB-4640-B587-0371B69477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100" spc="-1" strike="noStrike">
                <a:solidFill>
                  <a:srgbClr val="330066"/>
                </a:solidFill>
                <a:latin typeface="Arial"/>
              </a:rPr>
              <a:t>Adatszótár</a:t>
            </a:r>
            <a:endParaRPr b="1" lang="en-US" sz="4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első és külső adatok egységes kezeléséhez szükséges kialakítani egy olyan adatszótárt, amely maga is mint (speciális) adatbázis tárolódik, amellyel a tárolt és felhasznált adatok forrása, állapota, kapcsolatai leírhatók és felhasználható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Lekérdezé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apvető funkció, amelyen keresztül lehet az adatokat elérni, a lekérdező nyelvek szorosan kapcsolódnak az adatbázis kezelőkhöz és adatbázis modellekhez, valamint a DSS kommunikációs alrendszeréhe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35B-B612-4DD1-A1AF-234C86AFF6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odellkezelő alrendsz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ormailag hasonló részekre bontható, mint az adatbáziskezelő alrendsz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dellbáz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dellbáziskezelő rendsz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dell szótá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dell végrehajtá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615-C539-4EDE-9154-6A7AFD77AF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odellbázi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odellbázis tartalmazza azokat különböző (statisztikai, pénzügyi, stb.) modelleket, amelyekkel az analitikus feladatait elláthatja egy DSS. Ezeket kell tudni alkalmazni, módosítani, kombinálni a feladatok függvényéb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BB9-F65A-4644-BFEE-FB7B76FB6C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modellek csoportosítá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Felhasználási szint és funkció szerin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064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tratégiai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 felső vezetők stratégiai tervezését szolgálják, inkább leíró, mint optimalizációs szerkezetűek. Hasonló részfeladatokat látnak el, mint az EIS (Felsővezetői információs rendszerek) modellje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064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ak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- A középvezetők igényeit elégítik ki, az erőforrások allokálásának és a kontrollnak a támogatásával. Általában a szervezetek funkcionális részeihez kapcsolódna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5064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űködtetés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- A mindennapi tevékenységek megszervezését segítik a szervezetben , a napi munkafolyamatok ütemezését, a források biztosítását, st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modellek osztályozhatók felhasználási terület (pénzügy, munkaügy, stb.), valamint elméleti alapok szerint is (statisztikai, optimalizálási, stb.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32E-375B-44D2-8C30-5B74F43AAC0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Döntéstámogató rendszer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1400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döntéstámogató rendszer fogalmat olyan rendszerek leírására használjuk, amelyek támogatják, de nem helyettesítik a vezetőket döntéshozatali tevékenységükb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döntéstámogató rendszer (DSS) a számítógépre készített szoftver eszközök egy készlete, amelyet egy menedzser használ a probléma megoldására a döntéshozói tevékenysége során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35E-E9D2-4521-A9C9-E4F4D08AD8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0066"/>
                </a:solidFill>
                <a:latin typeface="Arial"/>
              </a:rPr>
              <a:t>Modellbáziskezelő rendszer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modellbáziskezelő rendszernek kell létrehoznia a modelleket a meglevő blokkokból és szubrutinokból, bővíteni a blokkok készletét, a modelleket és a hozzájuk szükséges adatokat kezelni, a részmodelleket összekapcsoln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0066"/>
                </a:solidFill>
                <a:latin typeface="Arial"/>
              </a:rPr>
              <a:t>Modell szót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unkciója hasonló az adatszótáréhoz, katalogizálja a modelleket, tartalmazza a modelldefiníciókat, tájékoztatja a felhasználókat a modellek lehetőségeiről és hozzáférhetőségéről. Arra persze csak gyakorlat vezetheti rá a felhasználót, hogy milyen esetekben mely modellek a jók. A szakértő rendszereknek itt tág tér nyílhat ennek a választásnak a segítésé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0066"/>
                </a:solidFill>
                <a:latin typeface="Arial"/>
              </a:rPr>
              <a:t>Modell végrehaj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modellek aktuális futását vezérli, valamint a különböző modellek összekapcsolását, az inputok és outputok átirányításá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0EF-D8CA-4A25-ACE6-17C8C7E103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ommunikációs alrendsz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z a komponens biztosítja a felhasználó és a rendszer kapcsolatát, vezérli az interakciókat, felelős a használat kényelmességéért és hatékonyságáér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nnek minősége meghatározója lehet egy DSS elterjedésének vagy háttérbe szorulásának, függetlenül a többi komponens minőségétő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C0A-7660-4C54-A335-FB0F749224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kommunikációs folyamat három részre bontható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Utasításnyelv -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emei azok ez eszközök, amivel utasítani lehet a rendszert, azaz a billentyűzet gombjai, az egér, érintő képernyő, botkormány, optikai leolvasó sőt hangérzékelő és értelmez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álasznyelv  -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álasznyelvet a rendszer használja a felhasználó informálására az eredményekről, részeredményekről, amellyel utasítást, választást kér. Ebbe beletartoznak a különböző output perifériák, mint a képernyő, nyomtató, hangszóró, ill. ezek felhasználásának mód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abályrendszer -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mert kell legyen a felhasználó számára, papíron vagy online help formájában mindig elérhetően.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CDD-D2A2-4035-9218-7A93BE0914E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ipikus felhasználási módo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spcAft>
                <a:spcPts val="78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Előfizetői mód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– a döntéshozó rendszeresen elkészített jelentéseket vár el a rendszertől, s nem is interaktíva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spcAft>
                <a:spcPts val="78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Hivatalnoki mód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– a döntéshozó változó tartalmú jelentéseket készíttet a rendszerrel, de azt offline módon készíti elő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spcAft>
                <a:spcPts val="78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Terminál mód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– a döntéshozó interaktívan használja a rendszert kérdés-felelet szekvenciákon keresztü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Közvetítéses mód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– a döntéshozó másokon keresztül, stábja erre kijelölt munkatársai közvetítésével használja a rendszert, nem ismerve a megoldás és a rendszer részleteit. Ennek a módszernek az elterjedtsége a vezetők számítástechnikai képzettségének növekedésével, ill. a DSS rendszerek használatának egyszerűsödésével a jövőben csökkeni fog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0B3-B1AA-4A8F-8EAE-E9C5A3BD15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122400"/>
            <a:ext cx="7750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0066"/>
                </a:solidFill>
                <a:latin typeface="Arial"/>
              </a:rPr>
              <a:t>A döntéstámogató rendszerek 7 szintje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avasló rendszerek (suggestion system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ptimalizáló rendszere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Reprezentációs modelle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nyvelési modelle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lemző információs rendszerek (analysis information system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datelemző rendszere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datkezelő rendszerek (file drawer system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B778-1168-49A2-8AF3-729184F782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0066"/>
                </a:solidFill>
                <a:latin typeface="Arial"/>
              </a:rPr>
              <a:t>Döntéstámogató szoftverrendszerek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OPTRANS OBJEC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- egy francia DSS fejlesztő környezet, amely a döntési folyamat valamennyi fázisában segíti a fejlesztőt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Visual IFPS/Plus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- Az IFPS az Interactive Financial Planning System rövidítése, vagyis a név egy interaktív pénzügyi tervező rendszert takar. Olyan problémaorientált negyedik generációs nyelvről van szó, amely bármely tervezési, illetve elemzési feladatra használható, feltéve hogy „spreadsheet” típusúak a felhasznált információk. Számos beépített üzleti függvényt tartalmaz, így pl. nettó jelenérték számítás, értékcsökkenés meghatározása, loan amortization, belső megtérülési ráta, stb. A plus szó a beépített adatbáziskezelési lehetőségekre utal. Az IFPS egy „spreadsheet” formájú matematikai modell létrehozására alkalmas eszköz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76C-B835-4585-B5D3-2A966C2943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Üzleti intelligencia, </a:t>
            </a:r>
            <a:br>
              <a:rPr sz="3900"/>
            </a:b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int vezetői támogatá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it_uzleti_intelligencia_01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804080" cy="23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AD3-EDF9-4AB5-B031-5F20A6A8B2D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0066"/>
                </a:solidFill>
                <a:latin typeface="Arial"/>
              </a:rPr>
              <a:t>Üzleti intelligencia megoldások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Üzleti intelligencia megoldások (BI: Business Intelligence) körébe olyan alkalmazások és technológiák tartoznak, melyek célja, hogy a szükséges adatokhoz való hozzáférés biztosításával, ezen adatok megfelelő tárolásával, valamint sokoldalú elemzési lehetőségekkel támogassák a vállalati döntéshozatalt. Az Üzleti intelligencia megoldások magukban foglalják tehát az adattárolási, a valós idejű lekérdezési, analitikai, előrejelzési és adatbányászati eljárások modern formá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EC3-F1AB-49AA-8AC7-C20C057754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On-line elemző feldolgozá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Napjainkban a vezetői információs rendszereket, a vezetői döntéstámogatást egy több szintű adatkezelési és analitikai megoldás formájában valósítják meg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3440" indent="-3441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lapot tehát a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belső, illetve külső adatforráso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jelent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440" indent="-3441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atforrás rétegre épül egy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közvetítő réte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440" indent="-3441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övetkező réteg már maga az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adattárhá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mely magában foglalja a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bevont adatmennyisé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t, valamint az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adatszótá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440" indent="-3441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vel a szervezet különböző területein sokfajta, eltérő információigény jelentkezik, ezen igények hatékony kielégítésére a központi adattárház bázisán az egyes területekre optimalizált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adatpiaco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t építenek 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440" indent="-3441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gfelső szintet az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OLAP-rendszerű alkalmazáso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jelent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440" indent="-3441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adatkezelés alkalmazásoldali menedzselé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illetve az egyes rétegek, szoftverek, hálózati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egységek közötti kommunikáci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biztosítása szintén fontosak, az előzőektől különválasztandó funkció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AFF-9C7F-4AAA-97E8-1F0D4DE72FB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öbb dimenziós adatbázi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enti vezérelvek gyakorlati megvalósulását a hagyományos relációs adatmodell kevésbé tudja támogatni, az adattárházak alkalmazásával előtérbe került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ultidimenzionális adatmodel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illetve az ennek megfelelő adatkeze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55640" y="3860640"/>
            <a:ext cx="43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multidimenzionális adatmodell egy háromdimenziós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kocká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al szemléltethető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t_uzleti_intelligencia_02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370320" cy="19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00E-2DE0-4BEF-940F-51C83DFB4B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döntés-előkészítési folyamat lépése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folyamatban alapvetően három együttműködő számítógépes információs rendszer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CIS - Corporate Computer Information Systems)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vesz rész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6238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feldolgozó rendszer (DP - Data Processoring)  operatív munkafolyam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6238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zetői információs rendszerek (MIS - Management Information Systems) - irányítás és ellenőr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6238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öntéstámogató rendszerek (DSS - Decision Support Systems - stratégiai tevékenység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A3D-9766-4237-A85C-A4619FCE87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330066"/>
                </a:solidFill>
                <a:latin typeface="Arial"/>
              </a:rPr>
              <a:t>Programcsomagok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S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icrosof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icrosoft Office integráci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DA9-F4ED-4C3F-93DC-EDD13CD1900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döntéstámogató rendszerek alapja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DSS számos olyan értékes eszközzel segítheti a menedzsereket az alternatívák közötti választásban, mint példáu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asonló múltbeli döntési feladatok kikeresése adatbázisbó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ámítási modellek alkalmazása segíthet a lehetséges döntések hatásainak megmutatásába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grafikus alapú megjelenítésnél segíthetnek az aktuális döntés trend hatásainak mérlegelésére, vizuális megjelenítésé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számszerűsített becslések készíthető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875-AE0F-430A-8593-5679B59AAB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akértői rendszerek</a:t>
            </a:r>
            <a:br>
              <a:rPr sz="3900"/>
            </a:b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330066"/>
                </a:solidFill>
                <a:latin typeface="Arial"/>
              </a:rPr>
              <a:t>(KBS – Knowledge Based Systems)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döntéstámogató rendszerek legújabb generációja a mesterséges intelligencia eszközök körébe tartozi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okat a tudásalapú rendszerek (KBS – Knowledge Based Systems), amelyek szakértői ismeretek felhasználásával magas szintű teljesítményt nyújtanak egy problémakör kezeléséb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tudásalapú rendszereknél a problématerületet leíró ismeretek explicit formában, a rendszer többi részétől elkülönítve, az ún. tudásbázisban vannak tárolv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96F-B6E1-4AE7-8EE5-DE41D7C5AD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akértői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0066"/>
                </a:solidFill>
                <a:latin typeface="Arial"/>
              </a:rPr>
              <a:t>Három komponense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Felhasználói interfés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szokásos, általában valamilyen grafikus felül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Következtető gé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udásbázist felhasználva többlépéses logikai következtetéseket képes végrehajtan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Tudásbáz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artalmazza a felhasználási területre vonatkozó tényeket, adatokat és ismert összefüggéseket, következtetéseket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209-34C0-4A23-8032-E2078DF07C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döntéstámogató rendszerek használatának előnye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atékonyabb döntéshozatal (minőség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ltségcsökkenté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döntéshozók közötti jobb kommunikáció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vezetők (döntéshozók) gyorsabb betanulás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A05-A6EE-403D-B5C9-6C9414309D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döntéshozatal folyamat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döntéshozatal olyan folyamat, melynek során különböző cselekvési alternatívák közül választunk bizonyos cél vagy célok elérése érdekéb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feladatok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239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-meghatározás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gyűjt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239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ez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239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álasztá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239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valósít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359520" y="4190040"/>
            <a:ext cx="5232960" cy="1705320"/>
            <a:chOff x="3359520" y="4190040"/>
            <a:chExt cx="5232960" cy="1705320"/>
          </a:xfrm>
        </p:grpSpPr>
        <p:sp>
          <p:nvSpPr>
            <p:cNvPr id="116" name=""/>
            <p:cNvSpPr/>
            <p:nvPr/>
          </p:nvSpPr>
          <p:spPr>
            <a:xfrm>
              <a:off x="3359520" y="5440680"/>
              <a:ext cx="1137600" cy="45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"/>
                </a:rPr>
                <a:t>PROBLÉ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"/>
                </a:rPr>
                <a:t>DEFINICÍÓ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640" y="5440680"/>
              <a:ext cx="1251360" cy="45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"/>
                </a:rPr>
                <a:t>ALTERNATIVÁ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89760" y="5440680"/>
              <a:ext cx="1251360" cy="45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"/>
                </a:rPr>
                <a:t>DÖNTÉ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4880" y="4758480"/>
              <a:ext cx="1137600" cy="5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"/>
                </a:rPr>
                <a:t>MEGOLDOT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"/>
                </a:rPr>
                <a:t>PROBLÉ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9520" y="5213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83360" y="509976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359520" y="5099760"/>
              <a:ext cx="10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2240" y="509976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13600" y="5099760"/>
              <a:ext cx="36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838400" y="5099760"/>
              <a:ext cx="10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089760" y="5099760"/>
              <a:ext cx="10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27360" y="5099760"/>
              <a:ext cx="2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73280" y="4531320"/>
              <a:ext cx="91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Problé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definiálá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38400" y="4531320"/>
              <a:ext cx="102384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Alternativá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képzé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89760" y="4531320"/>
              <a:ext cx="102384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Alternatívá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értékelé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27360" y="4190040"/>
              <a:ext cx="12513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A dönt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implementálá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491-A93C-4993-B3DA-3E3AF57505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Herdon Miklós</cp:lastModifiedBy>
  <dcterms:modified xsi:type="dcterms:W3CDTF">2006-10-25T07:59:23Z</dcterms:modified>
  <cp:revision>79</cp:revision>
  <dc:subject/>
  <dc:title>PowerPoint bemutató</dc:title>
</cp:coreProperties>
</file>