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6.png" ContentType="image/png"/>
  <Override PartName="/ppt/media/image14.png" ContentType="image/png"/>
  <Override PartName="/ppt/media/image2.png" ContentType="image/pn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2"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93"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ahoma"/>
              </a:defRPr>
            </a:lvl1pPr>
          </a:lstStyle>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A179C-D2B9-487F-A379-62C2234156BC}" type="slidenum">
              <a:rPr b="0" lang="hu-HU"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CÍMDIA: logók</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futóláb: hefop, témakör, diaszám</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Gyakran olyan hallgatóságnak kell szakmai előadást tartani, amely nem ismeri a témát vagy a szakszavakat. Az anyag esetleg összetett és rengeteg adatot tartalmaz. A hatékony előadáshoz alkalmazzuk a Dale Carnegie Training® által kialakított irányelveket.</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Vegyük figyelembe a rendelkezésre álló időt és rendszerezzük megfelelően a tananyagot. Szűkítsük le a témakört. Osszuk fel a bemutatót világosan elkülönített részekre. Állítsunk fel logikus sorrendet. Végig egy témára összpontosítsunk. A bemutatót összefoglalással zárjuk, ismételjük meg a fontos lépéseket vagy vonjunk le következtetést.</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Ne feledkezzünk el a hallgatóságról. Fontos például, hogy az adatok érthetőek és lényegesek legyenek a téma szempontjából. Az adatok és a szakszavak mennyiségét igazítsuk a hallgatósághoz. A fontosabb pontok és lépések magyarázatához használjunk szemléltetőeszközöket. Mindig tartsuk szem előtt a hallgatóság igényeit, és akkor képesebbek lesznek az elhangzottak befogadásár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5D5974-7AFB-4E04-84DD-779D8B8E8F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51C81-F62D-4E53-B24D-E6A8457F2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23A450-C776-4FBA-995C-FC42F6699F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154BEB-4465-47FD-B044-930CB5CB27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5C9E90-0487-4876-BD5C-4196F4E7AB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2787FC-294E-4C55-AC77-BE0269A555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42DB62-D1B6-4F72-8556-2B8EBD95AB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96E5A4-13E5-4094-9532-1B8F20FB64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B20450-8DD5-4D40-A460-7DD0865F6E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C345C9-F010-4D77-A299-B5D0B0893B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A9277-73C4-4A62-B96D-BF7C88BDC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66E71-7C09-417B-8001-5FCF79403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C15F1-4621-4887-8EA6-903ECB932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9B3DF-39D8-48FB-8DF2-511E57E67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40A32E-DF1D-4F45-B1FC-FAC65D61A6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53C9FA-66BB-4948-81E3-0EFA85E6AE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18BEF0-EBFD-461C-B4A7-873EA5D4C9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058CE-09F5-4F09-BA18-14B572350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3DE8C-B82C-46A6-B32E-426A9E325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1207F-0206-449B-99F8-728A67361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53968-5E3C-49ED-A813-F38B0A5BA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A9125-0F5C-4702-9F82-61C628505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E6A0D-883C-4979-B581-D036E2AAB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26E74-A488-4674-B65F-0C2E26088D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4C2E8-43E3-417B-9D06-98AF19EB34A2}" type="datetime">
              <a:rPr b="0" lang="hu-HU" sz="1000" spc="-1" strike="noStrike">
                <a:solidFill>
                  <a:srgbClr val="000000"/>
                </a:solidFill>
                <a:latin typeface="Arial"/>
              </a:rPr>
              <a:t>26.07.30.</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ADA34-D67F-494B-8D79-8CCC1DEACC79}" type="slidenum">
              <a:rPr b="0" lang="hu-HU"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6" name="" descr=""/>
          <p:cNvPicPr/>
          <p:nvPr/>
        </p:nvPicPr>
        <p:blipFill>
          <a:blip r:embed="rId2"/>
          <a:stretch/>
        </p:blipFill>
        <p:spPr>
          <a:xfrm>
            <a:off x="0" y="6138720"/>
            <a:ext cx="1403280" cy="719280"/>
          </a:xfrm>
          <a:prstGeom prst="rect">
            <a:avLst/>
          </a:prstGeom>
          <a:ln w="0">
            <a:noFill/>
          </a:ln>
        </p:spPr>
      </p:pic>
      <p:pic>
        <p:nvPicPr>
          <p:cNvPr id="7" name="" descr=""/>
          <p:cNvPicPr/>
          <p:nvPr/>
        </p:nvPicPr>
        <p:blipFill>
          <a:blip r:embed="rId3"/>
          <a:stretch/>
        </p:blipFill>
        <p:spPr>
          <a:xfrm>
            <a:off x="8101080" y="0"/>
            <a:ext cx="1042920" cy="1042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CA616-691E-42B6-B218-E01753DA5EB8}" type="datetime">
              <a:rPr b="0" lang="hu-HU" sz="1000" spc="-1" strike="noStrike">
                <a:solidFill>
                  <a:srgbClr val="000000"/>
                </a:solidFill>
                <a:latin typeface="Arial"/>
              </a:rPr>
              <a:t>26.07.30.</a:t>
            </a:fld>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2916000" y="6248520"/>
            <a:ext cx="31035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u-HU" sz="1000" spc="-1" strike="noStrike">
                <a:solidFill>
                  <a:srgbClr val="ff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ff0000"/>
                </a:solidFill>
                <a:latin typeface="Arial"/>
              </a:rPr>
              <a:t>A projekt az Európai Unió társfinanszírozásával, az Európa terv keretében valósul meg. </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F348B-2637-4111-BACF-B618EB986BC7}" type="slidenum">
              <a:rPr b="0" lang="hu-HU"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9"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948360" y="0"/>
            <a:ext cx="2195640" cy="1123920"/>
          </a:xfrm>
          <a:prstGeom prst="rect">
            <a:avLst/>
          </a:prstGeom>
          <a:ln w="0">
            <a:noFill/>
          </a:ln>
        </p:spPr>
      </p:pic>
      <p:pic>
        <p:nvPicPr>
          <p:cNvPr id="51" name="" descr=""/>
          <p:cNvPicPr/>
          <p:nvPr/>
        </p:nvPicPr>
        <p:blipFill>
          <a:blip r:embed="rId3"/>
          <a:stretch/>
        </p:blipFill>
        <p:spPr>
          <a:xfrm>
            <a:off x="4716360" y="115920"/>
            <a:ext cx="2195640" cy="906480"/>
          </a:xfrm>
          <a:prstGeom prst="rect">
            <a:avLst/>
          </a:prstGeom>
          <a:ln w="0">
            <a:noFill/>
          </a:ln>
        </p:spPr>
      </p:pic>
      <p:pic>
        <p:nvPicPr>
          <p:cNvPr id="52" name="" descr=""/>
          <p:cNvPicPr/>
          <p:nvPr/>
        </p:nvPicPr>
        <p:blipFill>
          <a:blip r:embed="rId4"/>
          <a:stretch/>
        </p:blipFill>
        <p:spPr>
          <a:xfrm>
            <a:off x="7524720" y="1197000"/>
            <a:ext cx="1419120" cy="1419120"/>
          </a:xfrm>
          <a:prstGeom prst="rect">
            <a:avLst/>
          </a:prstGeom>
          <a:ln w="0">
            <a:noFill/>
          </a:ln>
        </p:spPr>
      </p:pic>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ebni.innen.hu/API" TargetMode="External"/><Relationship Id="rId2" Type="http://schemas.openxmlformats.org/officeDocument/2006/relationships/hyperlink" Target="http://webni.innen.hu/RSSAbrak" TargetMode="External"/><Relationship Id="rId3" Type="http://schemas.openxmlformats.org/officeDocument/2006/relationships/hyperlink" Target="http://www.lexipda.de/" TargetMode="External"/><Relationship Id="rId4" Type="http://schemas.openxmlformats.org/officeDocument/2006/relationships/hyperlink" Target="http://www.lexipda.de/" TargetMode="External"/><Relationship Id="rId5" Type="http://schemas.openxmlformats.org/officeDocument/2006/relationships/hyperlink" Target="http://webni.innen.hu/Wikip_c3_a9dia" TargetMode="External"/><Relationship Id="rId6" Type="http://schemas.openxmlformats.org/officeDocument/2006/relationships/hyperlink" Target="http://webni.innen.hu/GoogleHejes_c3_adr_c3_a1s" TargetMode="External"/><Relationship Id="rId7" Type="http://schemas.openxmlformats.org/officeDocument/2006/relationships/hyperlink" Target="http://webni.innen.hu/Google" TargetMode="External"/><Relationship Id="rId8"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hyperlink" Target="http://hu.wikipedia.org/w/index.php?title=IEEE&amp;action=edit" TargetMode="External"/><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330066"/>
                </a:solidFill>
                <a:latin typeface="Arial"/>
              </a:rPr>
              <a:t>Informatika</a:t>
            </a:r>
            <a:endParaRPr b="1" lang="en-US" sz="5400" spc="-1" strike="noStrike">
              <a:solidFill>
                <a:srgbClr val="330066"/>
              </a:solidFill>
              <a:latin typeface="Arial"/>
            </a:endParaRPr>
          </a:p>
        </p:txBody>
      </p:sp>
      <p:sp>
        <p:nvSpPr>
          <p:cNvPr id="98"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000000"/>
                </a:solidFill>
                <a:latin typeface="Arial"/>
              </a:rPr>
              <a:t>Dr. Herdon Miklós</a:t>
            </a:r>
            <a:endParaRPr b="0" lang="en-US" sz="2000" spc="-1" strike="noStrike">
              <a:solidFill>
                <a:srgbClr val="000000"/>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000000"/>
                </a:solidFill>
                <a:latin typeface="Arial"/>
              </a:rPr>
              <a:t>Dr. Fazekasné dr. Kis Mária</a:t>
            </a:r>
            <a:endParaRPr b="0" lang="en-US" sz="2000" spc="-1" strike="noStrike">
              <a:solidFill>
                <a:srgbClr val="000000"/>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000000"/>
                </a:solidFill>
                <a:latin typeface="Arial"/>
              </a:rPr>
              <a:t>Magó Zsolt</a:t>
            </a:r>
            <a:endParaRPr b="0" lang="en-US" sz="2000" spc="-1" strike="noStrike">
              <a:solidFill>
                <a:srgbClr val="000000"/>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000000"/>
                </a:solidFill>
                <a:latin typeface="Arial"/>
              </a:rPr>
              <a:t>Debreceni Egyetem</a:t>
            </a:r>
            <a:endParaRPr b="0" lang="en-US" sz="2000" spc="-1" strike="noStrike">
              <a:solidFill>
                <a:srgbClr val="000000"/>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000000"/>
                </a:solidFill>
                <a:latin typeface="Arial"/>
              </a:rPr>
              <a:t>Németh Zoltán</a:t>
            </a:r>
            <a:endParaRPr b="0" lang="en-US" sz="2000" spc="-1" strike="noStrike">
              <a:solidFill>
                <a:srgbClr val="000000"/>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000000"/>
                </a:solidFill>
                <a:latin typeface="Arial"/>
              </a:rPr>
              <a:t>Budapesti Corvinus Egyetem</a:t>
            </a: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HEFOP 3.3.1–P-2004-06-0071/1.0</a:t>
            </a:r>
          </a:p>
        </p:txBody>
      </p:sp>
      <p:sp>
        <p:nvSpPr>
          <p:cNvPr id="5" name="PlaceHolder 4"/>
          <p:cNvSpPr>
            <a:spLocks noGrp="1"/>
          </p:cNvSpPr>
          <p:nvPr>
            <p:ph type="sldNum" idx="6"/>
          </p:nvPr>
        </p:nvSpPr>
        <p:spPr/>
        <p:txBody>
          <a:bodyPr/>
          <a:p>
            <a:fld id="{EC302B6B-F7DF-4F10-B941-B33F39274E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z IP címformátumok </a:t>
            </a:r>
            <a:endParaRPr b="1" lang="en-US" sz="3900" spc="-1" strike="noStrike">
              <a:solidFill>
                <a:srgbClr val="330066"/>
              </a:solidFill>
              <a:latin typeface="Arial"/>
            </a:endParaRPr>
          </a:p>
        </p:txBody>
      </p:sp>
      <p:pic>
        <p:nvPicPr>
          <p:cNvPr id="116" name="" descr=""/>
          <p:cNvPicPr/>
          <p:nvPr/>
        </p:nvPicPr>
        <p:blipFill>
          <a:blip r:embed="rId1"/>
          <a:stretch/>
        </p:blipFill>
        <p:spPr>
          <a:xfrm>
            <a:off x="457200" y="2652840"/>
            <a:ext cx="8229600" cy="254304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FAA6FBE9-8689-4619-BEC6-F0E69FBF97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lhálózati maszk</a:t>
            </a: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z alhálózati maszk is 32 bites szám, amelyben 1-esek jelzik a hálózat, 0-k a csomópont azonosítójának IP-címbeli helyét.</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 </a:t>
            </a:r>
            <a:r>
              <a:rPr b="0" lang="hu-HU" sz="1900" spc="-1" strike="noStrike">
                <a:solidFill>
                  <a:srgbClr val="000000"/>
                </a:solidFill>
                <a:latin typeface="Arial"/>
              </a:rPr>
              <a:t>Az alhálózati maszk 1-esekből álló sorozattal kezdődik, és 0-sorozattal ér véget.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Példa alhálózati maszk használatára:</a:t>
            </a:r>
            <a:endParaRPr b="0" lang="en-US" sz="1900" spc="-1" strike="noStrike">
              <a:solidFill>
                <a:srgbClr val="000000"/>
              </a:solidFill>
              <a:latin typeface="Arial"/>
            </a:endParaRPr>
          </a:p>
          <a:p>
            <a:pPr lvl="1" marL="6922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IP-cím:</a:t>
            </a:r>
            <a:r>
              <a:rPr b="0" lang="hu-HU" sz="1700" spc="-1" strike="noStrike">
                <a:solidFill>
                  <a:srgbClr val="000000"/>
                </a:solidFill>
                <a:latin typeface="Arial"/>
              </a:rPr>
              <a:t>	</a:t>
            </a:r>
            <a:r>
              <a:rPr b="0" lang="hu-HU" sz="1700" spc="-1" strike="noStrike">
                <a:solidFill>
                  <a:srgbClr val="000000"/>
                </a:solidFill>
                <a:latin typeface="Arial"/>
              </a:rPr>
              <a:t>	</a:t>
            </a:r>
            <a:r>
              <a:rPr b="0" lang="hu-HU" sz="1700" spc="-1" strike="noStrike">
                <a:solidFill>
                  <a:srgbClr val="000000"/>
                </a:solidFill>
                <a:latin typeface="Arial"/>
              </a:rPr>
              <a:t>196.225.15.4</a:t>
            </a:r>
            <a:endParaRPr b="0" lang="en-US" sz="1700" spc="-1" strike="noStrike">
              <a:solidFill>
                <a:srgbClr val="000000"/>
              </a:solidFill>
              <a:latin typeface="Arial"/>
            </a:endParaRPr>
          </a:p>
          <a:p>
            <a:pPr lvl="1" marL="6922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lhálózati maszk:</a:t>
            </a:r>
            <a:r>
              <a:rPr b="0" lang="hu-HU" sz="1700" spc="-1" strike="noStrike">
                <a:solidFill>
                  <a:srgbClr val="000000"/>
                </a:solidFill>
                <a:latin typeface="Arial"/>
              </a:rPr>
              <a:t>	</a:t>
            </a:r>
            <a:r>
              <a:rPr b="0" lang="hu-HU" sz="1700" spc="-1" strike="noStrike">
                <a:solidFill>
                  <a:srgbClr val="000000"/>
                </a:solidFill>
                <a:latin typeface="Arial"/>
              </a:rPr>
              <a:t>225.225.255.0</a:t>
            </a:r>
            <a:endParaRPr b="0" lang="en-US" sz="17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Kettes számrendszerben:</a:t>
            </a:r>
            <a:endParaRPr b="0" lang="en-US" sz="1900" spc="-1" strike="noStrike">
              <a:solidFill>
                <a:srgbClr val="000000"/>
              </a:solidFill>
              <a:latin typeface="Arial"/>
            </a:endParaRPr>
          </a:p>
          <a:p>
            <a:pPr lvl="1" marL="6922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IP-cím:</a:t>
            </a:r>
            <a:r>
              <a:rPr b="0" lang="hu-HU" sz="1700" spc="-1" strike="noStrike">
                <a:solidFill>
                  <a:srgbClr val="000000"/>
                </a:solidFill>
                <a:latin typeface="Arial"/>
              </a:rPr>
              <a:t>	</a:t>
            </a:r>
            <a:r>
              <a:rPr b="0" lang="hu-HU" sz="1700" spc="-1" strike="noStrike">
                <a:solidFill>
                  <a:srgbClr val="000000"/>
                </a:solidFill>
                <a:latin typeface="Arial"/>
              </a:rPr>
              <a:t>	</a:t>
            </a:r>
            <a:r>
              <a:rPr b="0" lang="hu-HU" sz="1700" spc="-1" strike="noStrike">
                <a:solidFill>
                  <a:srgbClr val="000000"/>
                </a:solidFill>
                <a:latin typeface="Arial"/>
              </a:rPr>
              <a:t>11000100 11100001 00001111 00000100</a:t>
            </a:r>
            <a:endParaRPr b="0" lang="en-US" sz="1700" spc="-1" strike="noStrike">
              <a:solidFill>
                <a:srgbClr val="000000"/>
              </a:solidFill>
              <a:latin typeface="Arial"/>
            </a:endParaRPr>
          </a:p>
          <a:p>
            <a:pPr lvl="1" marL="6922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lhálózati maszk:</a:t>
            </a:r>
            <a:r>
              <a:rPr b="0" lang="hu-HU" sz="1700" spc="-1" strike="noStrike">
                <a:solidFill>
                  <a:srgbClr val="000000"/>
                </a:solidFill>
                <a:latin typeface="Arial"/>
              </a:rPr>
              <a:t>	</a:t>
            </a:r>
            <a:r>
              <a:rPr b="0" lang="hu-HU" sz="1700" spc="-1" strike="noStrike">
                <a:solidFill>
                  <a:srgbClr val="000000"/>
                </a:solidFill>
                <a:latin typeface="Arial"/>
              </a:rPr>
              <a:t>11111111 11111111 11111111 00000000</a:t>
            </a:r>
            <a:endParaRPr b="0" lang="en-US" sz="17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két szám között az ÉS (AND) műveletet bitenként elvégezve a hálózat címét kapjuk:</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	</a:t>
            </a:r>
            <a:r>
              <a:rPr b="0" lang="hu-HU" sz="1900" spc="-1" strike="noStrike">
                <a:solidFill>
                  <a:srgbClr val="000000"/>
                </a:solidFill>
                <a:latin typeface="Arial"/>
              </a:rPr>
              <a:t>	</a:t>
            </a:r>
            <a:r>
              <a:rPr b="0" lang="hu-HU" sz="1900" spc="-1" strike="noStrike">
                <a:solidFill>
                  <a:srgbClr val="000000"/>
                </a:solidFill>
                <a:latin typeface="Arial"/>
              </a:rPr>
              <a:t>	</a:t>
            </a:r>
            <a:r>
              <a:rPr b="0" lang="hu-HU" sz="1900" spc="-1" strike="noStrike">
                <a:solidFill>
                  <a:srgbClr val="000000"/>
                </a:solidFill>
                <a:latin typeface="Arial"/>
              </a:rPr>
              <a:t>11000100 11100001 00001111 00000000</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	</a:t>
            </a:r>
            <a:r>
              <a:rPr b="0" lang="hu-HU" sz="1900" spc="-1" strike="noStrike">
                <a:solidFill>
                  <a:srgbClr val="000000"/>
                </a:solidFill>
                <a:latin typeface="Arial"/>
              </a:rPr>
              <a:t>	</a:t>
            </a:r>
            <a:r>
              <a:rPr b="0" lang="hu-HU" sz="1900" spc="-1" strike="noStrike">
                <a:solidFill>
                  <a:srgbClr val="000000"/>
                </a:solidFill>
                <a:latin typeface="Arial"/>
              </a:rPr>
              <a:t>	</a:t>
            </a:r>
            <a:r>
              <a:rPr b="0" lang="hu-HU" sz="1900" spc="-1" strike="noStrike">
                <a:solidFill>
                  <a:srgbClr val="000000"/>
                </a:solidFill>
                <a:latin typeface="Arial"/>
              </a:rPr>
              <a:t>(Tízes számrendszerben: 196.225.15.0)</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Ha az ÉS műveletet a cím és az alhálózati maszk inverze között végezzük el, az állomás hálózaton belüli címét kapjuk.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67E08DD4-CB8C-49AB-8D8F-37E9D33E04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Nem használható címtartományok</a:t>
            </a:r>
            <a:endParaRPr b="1" lang="en-US" sz="3900" spc="-1" strike="noStrike">
              <a:solidFill>
                <a:srgbClr val="330066"/>
              </a:solidFill>
              <a:latin typeface="Arial"/>
            </a:endParaRPr>
          </a:p>
        </p:txBody>
      </p:sp>
      <p:sp>
        <p:nvSpPr>
          <p:cNvPr id="12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127-el kezdődő címek a “loopback” (visszairányítás) címek, nem használhatók a hálózaton kívül, a hálózatok belső tesztelésére használható. </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hoszt címrészbe csak 1-eseket írva lehetséges az adott hálózatban lévő összes hosztnak üzenetet küldeni (broadcast). Például a 195.13.2.255 IP címre küldött üzenetet a 193.13.2 című hálózatban lévő összes gép megkapj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Ha a hoszt címrésze 0, az az aktuális hálózatot jelöli. Például a saját gépről 0.0.0.0 címre küldött üzenet a saját gépre érkezik.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1680D9E2-BBF0-4B90-AEC5-39A5F763EA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Címzési módszerek a rétegekben</a:t>
            </a:r>
            <a:endParaRPr b="1" lang="en-US" sz="3900" spc="-1" strike="noStrike">
              <a:solidFill>
                <a:srgbClr val="330066"/>
              </a:solidFill>
              <a:latin typeface="Arial"/>
            </a:endParaRPr>
          </a:p>
        </p:txBody>
      </p:sp>
      <p:graphicFrame>
        <p:nvGraphicFramePr>
          <p:cNvPr id="122" name=""/>
          <p:cNvGraphicFramePr/>
          <p:nvPr/>
        </p:nvGraphicFramePr>
        <p:xfrm>
          <a:off x="457200" y="1719360"/>
          <a:ext cx="8229240" cy="4410000"/>
        </p:xfrm>
        <a:graphic>
          <a:graphicData uri="http://schemas.openxmlformats.org/drawingml/2006/table">
            <a:tbl>
              <a:tblPr/>
              <a:tblGrid>
                <a:gridCol w="4130280"/>
                <a:gridCol w="4098960"/>
              </a:tblGrid>
              <a:tr h="1102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Réteg</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Címzési módsze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02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Alkalmazás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Hoszt neve, portja</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02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terne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IP cí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02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Hálózatelérés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Fizikai cí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CD3AF48B-946E-478E-9D73-1B01E91E3E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ok küldése</a:t>
            </a:r>
            <a:endParaRPr b="1" lang="en-US" sz="3900" spc="-1" strike="noStrike">
              <a:solidFill>
                <a:srgbClr val="330066"/>
              </a:solidFill>
              <a:latin typeface="Arial"/>
            </a:endParaRPr>
          </a:p>
        </p:txBody>
      </p:sp>
      <p:sp>
        <p:nvSpPr>
          <p:cNvPr id="12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mikor egy program adatokat küld a TCP/IP-hálózaton keresztül, az elküldendő adatokhoz mellékeli a saját és a címzett IP-címét is.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Ha a címzett címében a hálózat azonosítója más, mint a küldőt tartalmazó hálózat címe, a címzett csak útválasztón (útválasztókon) keresztül érhető el.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Ezért a küldő számítógépen futó IP protokollnak először azt kell megállapítania, hogy az elküldendő csomag címzettje helyi hálózatban van e, ezt pedig a következőképpen teszi.: </a:t>
            </a:r>
            <a:endParaRPr b="0" lang="en-US" sz="1700" spc="-1" strike="noStrike">
              <a:solidFill>
                <a:srgbClr val="000000"/>
              </a:solidFill>
              <a:latin typeface="Arial"/>
            </a:endParaRPr>
          </a:p>
          <a:p>
            <a:pPr lvl="2" marL="987480" indent="-293760">
              <a:lnSpc>
                <a:spcPct val="80000"/>
              </a:lnSpc>
              <a:spcBef>
                <a:spcPts val="3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küldő IP-címéből a küldő alhálózati maszkja segítségével előállítja a hálózatazonosítót (éppugy, mint a fenti példában),</a:t>
            </a:r>
            <a:endParaRPr b="0" lang="en-US" sz="1400" spc="-1" strike="noStrike">
              <a:solidFill>
                <a:srgbClr val="000000"/>
              </a:solidFill>
              <a:latin typeface="Arial"/>
            </a:endParaRPr>
          </a:p>
          <a:p>
            <a:pPr lvl="2" marL="987480" indent="-293760">
              <a:lnSpc>
                <a:spcPct val="80000"/>
              </a:lnSpc>
              <a:spcBef>
                <a:spcPts val="3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címzett IP-címéből a küldő alhálózati maszkjával előállítja a hálózatcímet (a címzett alhálózati maszkjával nem rendelkezik),</a:t>
            </a:r>
            <a:endParaRPr b="0" lang="en-US" sz="1400" spc="-1" strike="noStrike">
              <a:solidFill>
                <a:srgbClr val="000000"/>
              </a:solidFill>
              <a:latin typeface="Arial"/>
            </a:endParaRPr>
          </a:p>
          <a:p>
            <a:pPr lvl="2" marL="987480" indent="-293760">
              <a:lnSpc>
                <a:spcPct val="80000"/>
              </a:lnSpc>
              <a:spcBef>
                <a:spcPts val="3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kapott két számot összehasonlítja</a:t>
            </a:r>
            <a:endParaRPr b="0" lang="en-US" sz="1400" spc="-1" strike="noStrike">
              <a:solidFill>
                <a:srgbClr val="000000"/>
              </a:solidFill>
              <a:latin typeface="Arial"/>
            </a:endParaRPr>
          </a:p>
          <a:p>
            <a:pPr lvl="2" marL="987480" indent="-293760">
              <a:lnSpc>
                <a:spcPct val="80000"/>
              </a:lnSpc>
              <a:spcBef>
                <a:spcPts val="3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Ha a két szám egyezik, megkeresi a helyi hálózatban, ha pedig nem, a csomagot az alapértelmezés szerinti átjárónak (amely nem más, mint egy útválasztó berendezés) küldi el. </a:t>
            </a:r>
            <a:endParaRPr b="0" lang="en-US" sz="14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z IP-cím nem a számítógépet, hanem annak csak a hálózati illesztőjét azonosítja. Ha a számítógépben több hálózati kártya van minden illesztőnek külön IP-címet kell adni.</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17A41A45-70FA-42A0-AD4A-EF23422AA0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Dinamikus címkiosztás</a:t>
            </a:r>
            <a:endParaRPr b="1" lang="en-US" sz="3900" spc="-1" strike="noStrike">
              <a:solidFill>
                <a:srgbClr val="330066"/>
              </a:solidFill>
              <a:latin typeface="Arial"/>
            </a:endParaRPr>
          </a:p>
        </p:txBody>
      </p:sp>
      <p:sp>
        <p:nvSpPr>
          <p:cNvPr id="12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hálózatokban lehetőség van arra, hogy a számítógépek IP-címeit (és a TCP/IP használatához szükséges egyéb paramétereket) egy vagy több kiszolgáló automatikusan ossza szét. </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z ilyen kiszolgálók használata esetén a számítógépeken az IP-címet, az alhálózati maszkot, az alapértelmezés szerinti átjárót és a többi paramétert nem a rendszergazda (vagy a felhasználó) állítja be. </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számítógépek az operációs rendszer betöltésekor a hálózatokban elérhető valamelyik címkiszolgálóhoz fordulnak, amely a rendelkezésre álló címtartományból ad nekik IP-címet. </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számítógépek IP-címe így dinamikusan változhat: ezért hívják azt a protokollt, amely segítségével a címkiosztás történik, dinamikus csomópont-konfiguráló protokollnak (Dynamic Host Configuaration Protocol, DHCP). </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64F4ADD2-F212-4979-A628-B637366A58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Címfeloldás</a:t>
            </a:r>
            <a:endParaRPr b="1" lang="en-US" sz="3900" spc="-1" strike="noStrike">
              <a:solidFill>
                <a:srgbClr val="330066"/>
              </a:solidFill>
              <a:latin typeface="Arial"/>
            </a:endParaRPr>
          </a:p>
        </p:txBody>
      </p:sp>
      <p:sp>
        <p:nvSpPr>
          <p:cNvPr id="12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8000"/>
          </a:bodyPr>
          <a:p>
            <a:pPr marL="335880" indent="-3358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A számítógépeket alacsonyabb (fizikai, adatkapcsolati) szinten nem az IP-cím azonosítja.</a:t>
            </a:r>
            <a:endParaRPr b="0" lang="en-US" sz="1500" spc="-1" strike="noStrike">
              <a:solidFill>
                <a:srgbClr val="000000"/>
              </a:solidFill>
              <a:latin typeface="Arial"/>
            </a:endParaRPr>
          </a:p>
          <a:p>
            <a:pPr marL="335880" indent="-3358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Minden hálózati hardverelemnek az egész világon egyedi azonosítója van: ez a hálózatikártya-azonosító (NetCard ID) vagy hardvercím (hardware address). </a:t>
            </a:r>
            <a:endParaRPr b="0" lang="en-US" sz="1500" spc="-1" strike="noStrike">
              <a:solidFill>
                <a:srgbClr val="000000"/>
              </a:solidFill>
              <a:latin typeface="Arial"/>
            </a:endParaRPr>
          </a:p>
          <a:p>
            <a:pPr marL="335880" indent="-3358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Egy hálózati kártya a vele elektromosan összekapcsolt más hálózati kártyának célzottan jeleket tud küldeni a címzett kártya hardvercíme alapján, az IP-cím alapján azonban nem. </a:t>
            </a:r>
            <a:endParaRPr b="0" lang="en-US" sz="1500" spc="-1" strike="noStrike">
              <a:solidFill>
                <a:srgbClr val="000000"/>
              </a:solidFill>
              <a:latin typeface="Arial"/>
            </a:endParaRPr>
          </a:p>
          <a:p>
            <a:pPr marL="335880" indent="-3358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Feladat, hogy a címzett állomás eléréséhez az IP-címhez meg kell találni az adott IP-címmel rendelkező hálózati kártya hardvercímét. Ez a művelet a címfeloldás (address resolution). </a:t>
            </a:r>
            <a:endParaRPr b="0" lang="en-US" sz="1500" spc="-1" strike="noStrike">
              <a:solidFill>
                <a:srgbClr val="000000"/>
              </a:solidFill>
              <a:latin typeface="Arial"/>
            </a:endParaRPr>
          </a:p>
          <a:p>
            <a:pPr marL="335880" indent="-3358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Amikor el kell küldenie egy csomagot, először megállapítja, hogy a célállomás címe a helyi hálózat valamelyik gépéé-e. Ha a címzett számítógép külső hálózatban van, a csomagot az alapértelmezés szerinti – vagy az útválasztó táblázatban megadott – átjáróhoz (útválasztóhoz) kell továbbítani. </a:t>
            </a:r>
            <a:endParaRPr b="0" lang="en-US" sz="1500" spc="-1" strike="noStrike">
              <a:solidFill>
                <a:srgbClr val="000000"/>
              </a:solidFill>
              <a:latin typeface="Arial"/>
            </a:endParaRPr>
          </a:p>
          <a:p>
            <a:pPr marL="335880" indent="-3358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Ha cím helyi hálózatbeli cím az ARP (Address Resolution Protocol – címfeloldó protokoll) megpróbálja megtalálni az IP-címhez tartozó hardvercímet. Ezért a helyi hálózat gépeinek elküld egy alacsony szintű szórt üzenetet. (ugynevezett ARP broadcastot), amelyben megadja a küldő IP-címét és harvercímét, valamint a címzett IP-címét. Ha a címzett számítógép be van kapcsolva, és működök rajta a TCP/IP protokollkészlet, a rajta futó ARP fogadja az üzenetet, és célzottan (a küldő hardvercíme alapján) válaszol rá, a válaszban megadva saját hardvercímét. A fizikai kapcsolat ettől kezdve lehetséges. </a:t>
            </a:r>
            <a:endParaRPr b="0" lang="en-US" sz="1500" spc="-1" strike="noStrike">
              <a:solidFill>
                <a:srgbClr val="000000"/>
              </a:solidFill>
              <a:latin typeface="Arial"/>
            </a:endParaRPr>
          </a:p>
          <a:p>
            <a:pPr marL="335880" indent="-3358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Azonban nincs mindig szükség szórt üzenetekre, mivel az ARP fenntart egy átmeneti tárolót, amelybe felveszi az éppen feloldott IP-címeket és a hozzájuk tartozó hardvercímeket. Az ARP-tábla egy bejegyzése tehát egy IP-címből és a hozzá tartozó hardvercímből áll. </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546C1BB3-4A43-4B0E-B9F8-D6D438AA78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Útválasztás (routing)</a:t>
            </a:r>
            <a:endParaRPr b="1" lang="en-US" sz="3900" spc="-1" strike="noStrike">
              <a:solidFill>
                <a:srgbClr val="330066"/>
              </a:solidFill>
              <a:latin typeface="Arial"/>
            </a:endParaRPr>
          </a:p>
        </p:txBody>
      </p:sp>
      <p:sp>
        <p:nvSpPr>
          <p:cNvPr id="13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z útválasztás az a művelet, amelynek során a rendszer egy helyi hálózat valamely számítógépétől az adatcsomagokat különböző vonalszakaszokon keresztül eljuttatja azokhoz a címzettekhez is, amelyek nem részei a helyi hálózatnak.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TCP/IP protokollt használó rendszerek számára az a helyi hálózat amelynek csomópontjai azonos hálózatcímet használnak.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Ha egy csomag elküldésekor a címzett csomópont IP-címében a hálózatcím más, mint a küldőé, az IP protokoll megpróbálja a csomagot egy útválasztóhoz (router) továbbítani, amelynek az a feladata, hogy a kapott csomagot továbbítsa a címzett hálózat felé.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z útválasztó olyan berendezés, amelynek több hálózati csatolója van, és mindegyik más (helyi) hálózathoz csatlakozik. Az útválasztó csomagokat fogad az egyes, hozzá csatlakozó hálózatok számítógépeitől, és továbbítja őket egy másik hálózati csatolóján. Az, hogy melyik hálózati csatolót kell használni a csomag elküldéséhez, a memóriájában lévő útválasztási tábla (routing table) alapján dönti el. </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8DF579AB-2FB5-4736-8C88-AA0642C2DB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6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Két hálózat összekapcsolása átjáróval </a:t>
            </a:r>
            <a:endParaRPr b="1" lang="en-US" sz="3900" spc="-1" strike="noStrike">
              <a:solidFill>
                <a:srgbClr val="330066"/>
              </a:solidFill>
              <a:latin typeface="Arial"/>
            </a:endParaRPr>
          </a:p>
        </p:txBody>
      </p:sp>
      <p:pic>
        <p:nvPicPr>
          <p:cNvPr id="132" name="" descr=""/>
          <p:cNvPicPr/>
          <p:nvPr/>
        </p:nvPicPr>
        <p:blipFill>
          <a:blip r:embed="rId1"/>
          <a:stretch/>
        </p:blipFill>
        <p:spPr>
          <a:xfrm>
            <a:off x="1979640" y="1413000"/>
            <a:ext cx="4997520" cy="425268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3ED442B1-3FA8-423B-B780-31A20E69EA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6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 </a:t>
            </a:r>
            <a:r>
              <a:rPr b="1" lang="hu-HU" sz="3900" spc="-1" strike="noStrike">
                <a:solidFill>
                  <a:srgbClr val="330066"/>
                </a:solidFill>
                <a:latin typeface="Arial"/>
              </a:rPr>
              <a:t>Két gép közötti kapcsolat átjárókkal </a:t>
            </a:r>
            <a:endParaRPr b="1" lang="en-US" sz="3900" spc="-1" strike="noStrike">
              <a:solidFill>
                <a:srgbClr val="330066"/>
              </a:solidFill>
              <a:latin typeface="Arial"/>
            </a:endParaRPr>
          </a:p>
        </p:txBody>
      </p:sp>
      <p:pic>
        <p:nvPicPr>
          <p:cNvPr id="134" name="" descr=""/>
          <p:cNvPicPr/>
          <p:nvPr/>
        </p:nvPicPr>
        <p:blipFill>
          <a:blip r:embed="rId1"/>
          <a:stretch/>
        </p:blipFill>
        <p:spPr>
          <a:xfrm>
            <a:off x="611280" y="1700280"/>
            <a:ext cx="7705800" cy="424656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B87A9610-A683-442D-A201-A0711BEDFD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330066"/>
                </a:solidFill>
                <a:latin typeface="Arial"/>
              </a:rPr>
              <a:t>Informatika</a:t>
            </a:r>
            <a:endParaRPr b="1" lang="en-US" sz="4800" spc="-1" strike="noStrike">
              <a:solidFill>
                <a:srgbClr val="330066"/>
              </a:solidFill>
              <a:latin typeface="Arial"/>
            </a:endParaRPr>
          </a:p>
        </p:txBody>
      </p:sp>
      <p:sp>
        <p:nvSpPr>
          <p:cNvPr id="10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A TCP/IP protokoll és az Internet  </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HEFOP 3.3.1–P-2004-06-0071/1.0</a:t>
            </a:r>
          </a:p>
        </p:txBody>
      </p:sp>
      <p:sp>
        <p:nvSpPr>
          <p:cNvPr id="5" name="PlaceHolder 4"/>
          <p:cNvSpPr>
            <a:spLocks noGrp="1"/>
          </p:cNvSpPr>
          <p:nvPr>
            <p:ph type="sldNum" idx="6"/>
          </p:nvPr>
        </p:nvSpPr>
        <p:spPr/>
        <p:txBody>
          <a:bodyPr/>
          <a:p>
            <a:fld id="{5F07FCB1-17BC-474E-B24B-178154AFAE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Domén Név Rendszer (DNS – Domain Name System) </a:t>
            </a:r>
            <a:endParaRPr b="1" lang="en-US" sz="3900" spc="-1" strike="noStrike">
              <a:solidFill>
                <a:srgbClr val="330066"/>
              </a:solidFill>
              <a:latin typeface="Arial"/>
            </a:endParaRPr>
          </a:p>
        </p:txBody>
      </p:sp>
      <p:sp>
        <p:nvSpPr>
          <p:cNvPr id="13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számítógépek IP-címeit nehéz megjegyezni és könnyű elgépelni.</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Természetes tehát a felhasználóknak az az igénye, hogy a számítógépeket az IP-címek helyett könnyen olvasható és megjegyezhető nevek megadásával érjük el.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zonban a TCP/IP protokollkészlet használata esetén a számítógépeket csak az IP-cím alapján lehet elérni, név alapján nem.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Ezt a műveletet névfeloldásnak (name resolution) nevezik.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9AAD8272-79F5-4339-82ED-8DB561CE20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Névfeloldás</a:t>
            </a: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névfeloldás alapvetően háromféleképpen történhet:</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1. Szórt üzenettel: a küldő számítógép szórt üzenetben elküldi a címzett nevét a hálózatban elérhető számítógépeknek. Erre az üzenetre – az IP-címet is tartalmazó csomaggal – csak az a számítógép válaszol, amelynek a neve egyezik a szórt üzenetben megadott névvel.</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2. Táblázatban való kereséssel: a küldő számítógép egy, a helyi merevlemezen lévő táblázatban megkeresi a címzett nevét, és az ott található IP-címet használja a kommunikációhoz.</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3. Névszolgáltatóval (name server): ha a hálózat egy számítógépén van olyan adatbázis, amely a hálózat többi csomópontjának nevét és IP-címét tartalmazza, a küldő számítógép ehhez a géphez, a névszolgáltatóhoz (name server) is fordulhat. A küldő gép ide küldi el a címzett számítógép nevét tartalmazó kérést. A névszolgáltató saját adatbázisában megkeresi a címzett nevét, és ha megtalálta, elküldi a mellette lévő IP-címet a küldőnek. (A küldőnek csak a névszolgáltató IP-címét kell ismernie.)</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EFC40F3D-4F2C-434F-B371-3789787E48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lkalmazási protokollok </a:t>
            </a:r>
            <a:endParaRPr b="1" lang="en-US" sz="3900" spc="-1" strike="noStrike">
              <a:solidFill>
                <a:srgbClr val="330066"/>
              </a:solidFill>
              <a:latin typeface="Arial"/>
            </a:endParaRPr>
          </a:p>
        </p:txBody>
      </p:sp>
      <p:sp>
        <p:nvSpPr>
          <p:cNvPr id="1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SMTP Simple Mail Transfer Protocol egy alkalmazási protokoll, amely a hálózati felhasználók egymással való kommunikációját teszi lehetővé. Leveleket tud küldeni és fogadni.</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TELNET Terminál emuláció segítségével a saját gépét terminálnak használva egy távoli hosztra felhasználóként lehet bejelentkezni.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FTP File Transfer Protocol. A fájl átviteli eljárás segítségével a felhasználónak lehetővé teszi az általános könyvtár és fájlműveletek végrehajtását a saját gépe és egy távoli hoszt lemezegysége között. Pl.: fájlokat vihet át, törölhet, átnevezhet fájlokat.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GOPHER Hierarchikusan felépített információban kereső protokoll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HTTP HyperText Transport Protocol</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D2D8417B-18C5-4BAE-A309-5950A16B13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Elektronikus levelezés </a:t>
            </a:r>
            <a:endParaRPr b="1" lang="en-US" sz="3900" spc="-1" strike="noStrike">
              <a:solidFill>
                <a:srgbClr val="330066"/>
              </a:solidFill>
              <a:latin typeface="Arial"/>
            </a:endParaRPr>
          </a:p>
        </p:txBody>
      </p:sp>
      <p:sp>
        <p:nvSpPr>
          <p:cNvPr id="14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z egyik legalapvetőbb szolgáltatás az elektronikus levelezés. Ez az alkalmazás az SMTP (Simple Mail Transfer Protocol -- egyszerű levéltovábbítási protokoll) –re épül.</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Levelezni valamilyen levelező programmal lehet. Mindegyik megvalósítja az alábbi funkciókat: </a:t>
            </a:r>
            <a:endParaRPr b="0" lang="en-US" sz="21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levél küldése közvetlenül, vagy egy listán szereplő címzetteknek (send), </a:t>
            </a:r>
            <a:endParaRPr b="0" lang="en-US" sz="18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kapott levelek tartalomjegyzék-szerű listázása a levél témája (subject) mezőket mutatva, </a:t>
            </a:r>
            <a:endParaRPr b="0" lang="en-US" sz="18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válasz adott levélre (reply), </a:t>
            </a:r>
            <a:endParaRPr b="0" lang="en-US" sz="18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levél továbbküldése (forward), </a:t>
            </a:r>
            <a:endParaRPr b="0" lang="en-US" sz="18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levél tárolása különböző irattartókba (folderekbe),</a:t>
            </a:r>
            <a:endParaRPr b="0" lang="en-US" sz="18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levél törlése (delete).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756280ED-C506-4EFA-B4CA-010BEF9552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Elektronikus levelezés működése</a:t>
            </a:r>
            <a:endParaRPr b="1" lang="en-US" sz="3900" spc="-1" strike="noStrike">
              <a:solidFill>
                <a:srgbClr val="330066"/>
              </a:solidFill>
              <a:latin typeface="Arial"/>
            </a:endParaRPr>
          </a:p>
        </p:txBody>
      </p:sp>
      <p:sp>
        <p:nvSpPr>
          <p:cNvPr id="14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velezőprogram a megírt levelet általában nem közvetlenül a címzettnek adja, hanem egy úgynevezett SMTP szervernek adja át.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z SMTP szerver feladata, hogy a levelet továbbítsa, vagy az esetleg sikertelen levélküldést újra-újra próbálja. Ahhoz, hogy az SMTP szolgáltatást igénybe vehesse a levelezőprogramunk, vagyis képes legyen levelet küldeni, be kell állítanunk az SMTP szerver címét. Általában ez a mail.sajatzonank.hu nevű gépet jelent.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z SMTP szerver kikeresi a neki átadott levélből a címzett e-mail címét és átadja a levelet célcímen működő SMTP szervernek. Az ottani SMTP szerver beteszi a címzett személy postaládájába az általunk küldött levelet.</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postaláda általában nem a felhasználó saját gépén található, hanem az Internet szolgáltatónál egy erre a célra üzembe helyezett számítógépen. Vállalati levelezés esetén is általában egy központi számítógép tárolja a beérkezett leveleket.</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beérkező leveleinket tároló szerver címét az Internet szolgáltatónktól vagy a rendszergazdánktól kell megkapnunk. Tudnunk kell azt is hogy melyik protokollt lehet használnunk. A POP3 vagy IMAP szerver nevét és a levelesládánk nevét a levelezőprogramunkban be kell állítanunk. </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CB6B585A-C462-4539-B84B-BC6C2D1E55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Állományok átvitele - FTP - File transfer protokoll </a:t>
            </a:r>
            <a:endParaRPr b="1" lang="en-US" sz="3900" spc="-1" strike="noStrike">
              <a:solidFill>
                <a:srgbClr val="330066"/>
              </a:solidFill>
              <a:latin typeface="Arial"/>
            </a:endParaRPr>
          </a:p>
        </p:txBody>
      </p:sp>
      <p:pic>
        <p:nvPicPr>
          <p:cNvPr id="146" name="" descr=""/>
          <p:cNvPicPr/>
          <p:nvPr/>
        </p:nvPicPr>
        <p:blipFill>
          <a:blip r:embed="rId1"/>
          <a:stretch/>
        </p:blipFill>
        <p:spPr>
          <a:xfrm>
            <a:off x="2146320" y="1719360"/>
            <a:ext cx="4851360" cy="441144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0F979781-A40C-463F-9497-E3648FD3C7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z FTP kliens program felhasználói felülete </a:t>
            </a:r>
            <a:endParaRPr b="1" lang="en-US" sz="3900" spc="-1" strike="noStrike">
              <a:solidFill>
                <a:srgbClr val="330066"/>
              </a:solidFill>
              <a:latin typeface="Arial"/>
            </a:endParaRPr>
          </a:p>
        </p:txBody>
      </p:sp>
      <p:pic>
        <p:nvPicPr>
          <p:cNvPr id="148" name="" descr=""/>
          <p:cNvPicPr/>
          <p:nvPr/>
        </p:nvPicPr>
        <p:blipFill>
          <a:blip r:embed="rId1"/>
          <a:stretch/>
        </p:blipFill>
        <p:spPr>
          <a:xfrm>
            <a:off x="1692360" y="1341360"/>
            <a:ext cx="5975280" cy="487224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3281ED8F-D9B3-420B-B06B-45AB94277F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TELNET </a:t>
            </a:r>
            <a:endParaRPr b="1" lang="en-US" sz="3900" spc="-1" strike="noStrike">
              <a:solidFill>
                <a:srgbClr val="330066"/>
              </a:solidFill>
              <a:latin typeface="Arial"/>
            </a:endParaRPr>
          </a:p>
        </p:txBody>
      </p:sp>
      <p:pic>
        <p:nvPicPr>
          <p:cNvPr id="150" name="" descr=""/>
          <p:cNvPicPr/>
          <p:nvPr/>
        </p:nvPicPr>
        <p:blipFill>
          <a:blip r:embed="rId1"/>
          <a:stretch/>
        </p:blipFill>
        <p:spPr>
          <a:xfrm>
            <a:off x="1692360" y="1620720"/>
            <a:ext cx="5688000" cy="455004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8D22F097-1C17-494B-A724-54F89FADAB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kliens-szerver kommunikáció </a:t>
            </a:r>
            <a:endParaRPr b="1" lang="en-US" sz="3900" spc="-1" strike="noStrike">
              <a:solidFill>
                <a:srgbClr val="330066"/>
              </a:solidFill>
              <a:latin typeface="Arial"/>
            </a:endParaRPr>
          </a:p>
        </p:txBody>
      </p:sp>
      <p:pic>
        <p:nvPicPr>
          <p:cNvPr id="152" name="" descr=""/>
          <p:cNvPicPr/>
          <p:nvPr/>
        </p:nvPicPr>
        <p:blipFill>
          <a:blip r:embed="rId1"/>
          <a:stretch/>
        </p:blipFill>
        <p:spPr>
          <a:xfrm>
            <a:off x="900000" y="2063880"/>
            <a:ext cx="7056720" cy="357480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BDF4EDF8-8814-4F1A-9DB3-90F8139434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World Wide Web - alapelv</a:t>
            </a:r>
            <a:endParaRPr b="1" lang="en-US" sz="3900" spc="-1" strike="noStrike">
              <a:solidFill>
                <a:srgbClr val="330066"/>
              </a:solidFill>
              <a:latin typeface="Arial"/>
            </a:endParaRPr>
          </a:p>
        </p:txBody>
      </p:sp>
      <p:sp>
        <p:nvSpPr>
          <p:cNvPr id="1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WWW koncepciójában a már jól ismert kliens-szerver koncepció mellett három - tulajdonképpen eddig szintén ismert -paradigma fonódik össze.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Ezek a hypertext paradigmáj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hypertext utalások kiterjesztése IP hálózatokra gondolat é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multimédia paradigmája.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91ACED10-13A3-4FFC-92E8-7412FF0CC8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TCP/IP protokoll </a:t>
            </a:r>
            <a:endParaRPr b="1" lang="en-US" sz="3900" spc="-1" strike="noStrike">
              <a:solidFill>
                <a:srgbClr val="330066"/>
              </a:solidFill>
              <a:latin typeface="Arial"/>
            </a:endParaRPr>
          </a:p>
        </p:txBody>
      </p:sp>
      <p:sp>
        <p:nvSpPr>
          <p:cNvPr id="1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5000"/>
          </a:bodyPr>
          <a:p>
            <a:pPr marL="325800" indent="-32580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Arial"/>
              </a:rPr>
              <a:t>A TCP/IP protokoll készlet a különböző operációs rendszerekkel működő számítógépek, illetve számítógép-hálózatok közötti kapcsolat létrehozására szolgál. </a:t>
            </a:r>
            <a:endParaRPr b="0" lang="en-US" sz="2500" spc="-1" strike="noStrike">
              <a:solidFill>
                <a:srgbClr val="000000"/>
              </a:solidFill>
              <a:latin typeface="Arial"/>
            </a:endParaRPr>
          </a:p>
          <a:p>
            <a:pPr marL="325800" indent="-32580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Arial"/>
              </a:rPr>
              <a:t>Ez egy olyan protokollkészlet, amelyet arra dolgoztak ki, hogy hálózatba kapcsolt számítógépek megoszthassák egymás között az erőforrásaikat. </a:t>
            </a:r>
            <a:endParaRPr b="0" lang="en-US" sz="2500" spc="-1" strike="noStrike">
              <a:solidFill>
                <a:srgbClr val="000000"/>
              </a:solidFill>
              <a:latin typeface="Arial"/>
            </a:endParaRPr>
          </a:p>
          <a:p>
            <a:pPr marL="325800" indent="-32580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Arial"/>
              </a:rPr>
              <a:t>A TCP és az IP a legismertebb, ezért az egész családra a TCP/IP kifejezést használják. </a:t>
            </a:r>
            <a:endParaRPr b="0" lang="en-US" sz="2500" spc="-1" strike="noStrike">
              <a:solidFill>
                <a:srgbClr val="000000"/>
              </a:solidFill>
              <a:latin typeface="Arial"/>
            </a:endParaRPr>
          </a:p>
          <a:p>
            <a:pPr marL="325800" indent="-32580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Arial"/>
              </a:rPr>
              <a:t>Segítségével különálló számítógép-hálózatok hierarchiája alakítható ki, ahol az egyes gépeket, illetve helyi hálózatokat nagy távolságú vonalak kötik össze </a:t>
            </a: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8C8E9FBD-F06F-49B7-A5C9-A7F8B3A01C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Hypertext</a:t>
            </a:r>
            <a:endParaRPr b="1" lang="en-US" sz="3900" spc="-1" strike="noStrike">
              <a:solidFill>
                <a:srgbClr val="330066"/>
              </a:solidFill>
              <a:latin typeface="Arial"/>
            </a:endParaRPr>
          </a:p>
        </p:txBody>
      </p:sp>
      <p:sp>
        <p:nvSpPr>
          <p:cNvPr id="1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9000"/>
          </a:bodyPr>
          <a:p>
            <a:pPr marL="339480" indent="-3394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hypertext paradigma lényege, melyben a lineáris vagy a hierarchikus rendszerű, rendezett szöveg olvasás korlátja megszűnik.</a:t>
            </a:r>
            <a:endParaRPr b="0" lang="en-US" sz="1700" spc="-1" strike="noStrike">
              <a:solidFill>
                <a:srgbClr val="000000"/>
              </a:solidFill>
              <a:latin typeface="Arial"/>
            </a:endParaRPr>
          </a:p>
          <a:p>
            <a:pPr marL="339480" indent="-3394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Elektronikus szövegek lineáris olvasásához elegendő egy egyszerű szövegnézegető (viewer). </a:t>
            </a:r>
            <a:endParaRPr b="0" lang="en-US" sz="1700" spc="-1" strike="noStrike">
              <a:solidFill>
                <a:srgbClr val="000000"/>
              </a:solidFill>
              <a:latin typeface="Arial"/>
            </a:endParaRPr>
          </a:p>
          <a:p>
            <a:pPr marL="339480" indent="-3394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hypertext jellegű rendszerekben a szövegdokumentumokban valamilyen szövegrészekhez rögzítettek kapcsolódó dokumentumaik is. A megjelenítő valamilyen módon kiemelten jeleníti meg ezeket a szövegrészeket. Ezek a kiemelt részek utalások (kapcsolatok, linkek) más dokumentumokra, más szövegekre, szövegrészekre. </a:t>
            </a:r>
            <a:endParaRPr b="0" lang="en-US" sz="1700" spc="-1" strike="noStrike">
              <a:solidFill>
                <a:srgbClr val="000000"/>
              </a:solidFill>
              <a:latin typeface="Arial"/>
            </a:endParaRPr>
          </a:p>
          <a:p>
            <a:pPr marL="339480" indent="-3394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hypertext böngésző nem csak kiemelten jeleníti meg a szövegrészeket, hanem lehetőséget ad azok kiválasztására is (pl. mutatóval rákattinthatunk). </a:t>
            </a:r>
            <a:endParaRPr b="0" lang="en-US" sz="1700" spc="-1" strike="noStrike">
              <a:solidFill>
                <a:srgbClr val="000000"/>
              </a:solidFill>
              <a:latin typeface="Arial"/>
            </a:endParaRPr>
          </a:p>
          <a:p>
            <a:pPr marL="339480" indent="-3394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z így biztosított információs rendszer jellegzetesen hálós szerkezetű. </a:t>
            </a:r>
            <a:endParaRPr b="0" lang="en-US" sz="1700" spc="-1" strike="noStrike">
              <a:solidFill>
                <a:srgbClr val="000000"/>
              </a:solidFill>
              <a:latin typeface="Arial"/>
            </a:endParaRPr>
          </a:p>
          <a:p>
            <a:pPr marL="339480" indent="-3394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hypertext IP hálózatra való kiterjesztése megszünteti azt a korlátozást, hogy az utalások csak ugyanarra a helyszínre, számítógéprendszerre vonatkozhatnak. Egy-egy kapcsolódó dokumentum helye a hálózaton "akárhol" lehet, ha az utalások megfelelnek az Uniform Resource Locator (URL) szabványnak. </a:t>
            </a:r>
            <a:endParaRPr b="0" lang="en-US" sz="1700" spc="-1" strike="noStrike">
              <a:solidFill>
                <a:srgbClr val="000000"/>
              </a:solidFill>
              <a:latin typeface="Arial"/>
            </a:endParaRPr>
          </a:p>
          <a:p>
            <a:pPr marL="339480" indent="-3394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Végül a multimédia paradigma megszünteti a szövegekre való korlátozást: nemcsak hypertext háló, hanem hypermédia háló alakulhat ki. Hivatkozott dokumentum lehet kép, hanganyag, mozgókép, adatfájl, szolgáltatás stb. is. </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AC4A6A96-CDC5-4E52-90F0-BC1D8C9AC14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500" spc="-1" strike="noStrike">
                <a:solidFill>
                  <a:srgbClr val="330066"/>
                </a:solidFill>
                <a:latin typeface="Arial"/>
              </a:rPr>
              <a:t>URL (Uniform Resource Locator – Egységes forrásazonosító)</a:t>
            </a:r>
            <a:endParaRPr b="1" lang="en-US" sz="3500" spc="-1" strike="noStrike">
              <a:solidFill>
                <a:srgbClr val="330066"/>
              </a:solidFill>
              <a:latin typeface="Arial"/>
            </a:endParaRPr>
          </a:p>
        </p:txBody>
      </p:sp>
      <p:sp>
        <p:nvSpPr>
          <p:cNvPr id="15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8000"/>
          </a:bodyPr>
          <a:p>
            <a:pPr marL="335880" indent="-3358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Az egységes forrásazonosító megadja a megjelenítő program számára, hogy az adott szövegrészhez képhez, grafikához kapcsolt dokumentumot milyen módszerrel lehet megjeleníteni, milyen típusú kapcsolatot kell felépíteni illetve hogy ez a forrás hol, az Internetre kapcsolt gépek közül melyiken található. Ilyen azonosítás a következő:</a:t>
            </a:r>
            <a:endParaRPr b="0" lang="en-US" sz="1500" spc="-1" strike="noStrike">
              <a:solidFill>
                <a:srgbClr val="000000"/>
              </a:solidFill>
              <a:latin typeface="Arial"/>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	</a:t>
            </a:r>
            <a:r>
              <a:rPr b="0" lang="hu-HU" sz="1500" spc="-1" strike="noStrike">
                <a:solidFill>
                  <a:srgbClr val="000000"/>
                </a:solidFill>
                <a:latin typeface="Arial"/>
              </a:rPr>
              <a:t>	</a:t>
            </a:r>
            <a:r>
              <a:rPr b="0" lang="hu-HU" sz="1500" spc="-1" strike="noStrike">
                <a:solidFill>
                  <a:srgbClr val="000000"/>
                </a:solidFill>
                <a:latin typeface="Arial"/>
              </a:rPr>
              <a:t>http://helios.date.hu:70/web/inf/index.htm</a:t>
            </a:r>
            <a:endParaRPr b="0" lang="en-US" sz="1500" spc="-1" strike="noStrike">
              <a:solidFill>
                <a:srgbClr val="000000"/>
              </a:solidFill>
              <a:latin typeface="Arial"/>
            </a:endParaRPr>
          </a:p>
          <a:p>
            <a:pPr marL="335880" indent="-3358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A kapcsolt állomány az index.htm nevet viseli a helios.date.hu gépen lévő web/inf nevű könyvtárban. A kiszolgáló a HTTP protokollal érhető el, amely a Web-szolgáltatáshoz az alapértelmezésként szereplő 80-as port helyett a 70-es portot használja. Az URL a következő információkat tartalmazza:</a:t>
            </a:r>
            <a:endParaRPr b="0" lang="en-US" sz="1500" spc="-1" strike="noStrike">
              <a:solidFill>
                <a:srgbClr val="000000"/>
              </a:solidFill>
              <a:latin typeface="Arial"/>
            </a:endParaRPr>
          </a:p>
          <a:p>
            <a:pPr marL="335880" indent="-3358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A protokollt, amelyet az adott forrás eléréséhez használunk. Ezt az URL első tagja adja meg. Ilyen protokollok például az FTP, HTTP, stb. </a:t>
            </a:r>
            <a:endParaRPr b="0" lang="en-US" sz="1500" spc="-1" strike="noStrike">
              <a:solidFill>
                <a:srgbClr val="000000"/>
              </a:solidFill>
              <a:latin typeface="Arial"/>
            </a:endParaRPr>
          </a:p>
          <a:p>
            <a:pPr marL="335880" indent="-3358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Annak a kiszolgálónak az Internet-nevét (domain név) vagy címét (IP cím) amelyen az adott forrás található. Ez az információ két perjellel (//) kezdődik és egy (/) zárja le.</a:t>
            </a:r>
            <a:endParaRPr b="0" lang="en-US" sz="1500" spc="-1" strike="noStrike">
              <a:solidFill>
                <a:srgbClr val="000000"/>
              </a:solidFill>
              <a:latin typeface="Arial"/>
            </a:endParaRPr>
          </a:p>
          <a:p>
            <a:pPr marL="335880" indent="-3358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A kiszolgáló portjának a számát. Ha ez nem szerepel, akkor a megjelenítő-program az általánosan használt alapértelmezést feltételezi. Ha nem a WWW-hez javasolt 80-as port címet használják akkor ezt az URL-ben a kiszolgáló nevéhez vagy címéhez kettősponttal (:) kapcsolva kell megadni.</a:t>
            </a:r>
            <a:endParaRPr b="0" lang="en-US" sz="1500" spc="-1" strike="noStrike">
              <a:solidFill>
                <a:srgbClr val="000000"/>
              </a:solidFill>
              <a:latin typeface="Arial"/>
            </a:endParaRPr>
          </a:p>
          <a:p>
            <a:pPr marL="335880" indent="-3358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A forrás helyét a kiszolgáló lemezegységének hierarchikus állományrendszerében (könyvtár/fájlnév).</a:t>
            </a:r>
            <a:endParaRPr b="0" lang="en-US" sz="1500" spc="-1" strike="noStrike">
              <a:solidFill>
                <a:srgbClr val="000000"/>
              </a:solidFill>
              <a:latin typeface="Arial"/>
            </a:endParaRPr>
          </a:p>
          <a:p>
            <a:pPr marL="335880" indent="-3358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Egy adott HTML-kapcsolaton belül az azonos könyvtárban lévő állományok eléréséhez nem kell a teljes keresési útvonalat megadni. Ha egy dokumentumot elértünk a rendszeren, ez már bizonyos információkat szolgáltat a következő kapcsolat felépítéséhez. </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837754EC-FC52-4A17-8EBE-9A5B7F48DEA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HTTP protokoll </a:t>
            </a:r>
            <a:endParaRPr b="1" lang="en-US" sz="3900" spc="-1" strike="noStrike">
              <a:solidFill>
                <a:srgbClr val="330066"/>
              </a:solidFill>
              <a:latin typeface="Arial"/>
            </a:endParaRPr>
          </a:p>
        </p:txBody>
      </p:sp>
      <p:sp>
        <p:nvSpPr>
          <p:cNvPr id="16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WWW kliensek a böngészőprogramok, a tallózók.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Képesek a Hyper Text Markup Language (HTML) direktíváival kiegészített szövegek megjelenítésére, bennük az utalásokhoz rendelt szövegrészek kiemelt kezelésére, a kiemelt szövegek kiválasztására.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Képesek bizonyos kép dokumentumok megjelenítésére, ezekben kiemelések kiválasztására, hangfájlok, videók lejátszására, vagy közvetlenül, vagy valamilyen segédprogram aktiválásával.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szerverek pedig képesek szöveg-, kép-, hang- és videó fájlokat megkeresni saját fájlrendszerükben, és azokat elküldeni a kliensnek megjelenítésre. </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2AEC7FC5-65E8-4A01-B3E4-9075BBA8291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Http kommunikáció</a:t>
            </a:r>
            <a:endParaRPr b="1" lang="en-US" sz="3900" spc="-1" strike="noStrike">
              <a:solidFill>
                <a:srgbClr val="330066"/>
              </a:solidFill>
              <a:latin typeface="Arial"/>
            </a:endParaRPr>
          </a:p>
        </p:txBody>
      </p:sp>
      <p:sp>
        <p:nvSpPr>
          <p:cNvPr id="1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kliens és szerver között üzenetváltások jellegzetesen négy lépéses forgatókönyv szerint történnek a Hyper Text Transport Protocol (HTTP) szabályozása alatt. </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z első lépés a kapcsolat-létesítés (connection): ezt a kliens kezdeményezi, hozzá legfontosabb információ a szerver azonosítója. </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második lépésben a kliens kérelmet (request) küld a kapcsolaton a szervernek, ebben közli, hogy milyen protokollal, melyik dokumentumot kéri (nem részletezzük, de az átviteli eljárás, a method is paramétere a kérelemnek). </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Ezután a szerver megkeresi a kért dokumentumot és válaszol (response): a kapcsolaton leküldi a kért dokumentumot. </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Végül a kapcsolat lezárul (close). Mindezek után a kliens felelőssége, hogy mit is csinál a leküldött dokumentummal.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925DF295-530A-4D43-A2AF-4F126369F00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WWW alkalmazások fejlesztésének eszközei - html</a:t>
            </a:r>
            <a:endParaRPr b="1" lang="en-US" sz="3900" spc="-1" strike="noStrike">
              <a:solidFill>
                <a:srgbClr val="330066"/>
              </a:solidFill>
              <a:latin typeface="Arial"/>
            </a:endParaRPr>
          </a:p>
        </p:txBody>
      </p:sp>
      <p:sp>
        <p:nvSpPr>
          <p:cNvPr id="16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dokumentumok logikai struktúráját a HTML (Hyper Text Markup Language) jelölései segítségével lehet szabályozni. A</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HTML arra készült, hogy segítségével a dokumentumok szokásos, sorban egymás utáni olvasása helyett, a szövegben elhelyezett kapcsolatok alapján az egész dokumentum könnyebben legyen áttekinthető és elolvasható.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Segítségével logikusan szervezett és felépített dokumentumokat lehet készíteni, olyan módon hogy a nyelv alkalmas logikai kapcsolatok létrehozására a dokumentumon belül és dokumentumok között, amit a dokumentum olvasója kezelhet.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dokumentum fogalmát itt általánosabban kell értelmeznünk: ezek objektumok, amelyek lehetnek: szöveg, kép(grafika), hang (zene), de akár mozgókép (film) is. </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5E3E3902-D422-4DEF-8FE5-D28E20EFD6C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lap HTML szerkezeti elemek </a:t>
            </a:r>
            <a:endParaRPr b="1" lang="en-US" sz="3900" spc="-1" strike="noStrike">
              <a:solidFill>
                <a:srgbClr val="330066"/>
              </a:solidFill>
              <a:latin typeface="Arial"/>
            </a:endParaRPr>
          </a:p>
        </p:txBody>
      </p:sp>
      <p:graphicFrame>
        <p:nvGraphicFramePr>
          <p:cNvPr id="166" name=""/>
          <p:cNvGraphicFramePr/>
          <p:nvPr/>
        </p:nvGraphicFramePr>
        <p:xfrm>
          <a:off x="457200" y="1719360"/>
          <a:ext cx="8229600" cy="4813200"/>
        </p:xfrm>
        <a:graphic>
          <a:graphicData uri="http://schemas.openxmlformats.org/drawingml/2006/table">
            <a:tbl>
              <a:tblPr/>
              <a:tblGrid>
                <a:gridCol w="2468520"/>
                <a:gridCol w="5761080"/>
              </a:tblGrid>
              <a:tr h="825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t;html&gt;...&lt;/html&gt;</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forráskódot ezen jelek közé kell zárni, ez jelzi a dokumentum elejét és végét.</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t;head&gt;...&lt;/head&gt;</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fejléc elejét és végét jelzi, ezen belül kerülnek a fejléc elemek.</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1191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t;title&gt;...&lt;/title&gt;</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HTML oldal címe, ezt olvashatjuk a Netscape fejlécében, és ezt "jegyzi meg" a Bookmark is.</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1971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t;body&gt;...&lt;/body&gt;</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HTML dokumentum "teste". Lehet hátteret is csinálni: body background="nev.jpg" vagy "nev.gif" mozaikként bekerül a háttérbe.</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387988DD-648F-4F92-A8B6-29199BB8EAB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500" spc="-1" strike="noStrike">
                <a:solidFill>
                  <a:srgbClr val="330066"/>
                </a:solidFill>
                <a:latin typeface="Arial"/>
              </a:rPr>
              <a:t>A CGI - </a:t>
            </a:r>
            <a:r>
              <a:rPr b="1" lang="hu-HU" sz="3900" spc="-1" strike="noStrike">
                <a:solidFill>
                  <a:srgbClr val="330066"/>
                </a:solidFill>
                <a:latin typeface="Arial"/>
              </a:rPr>
              <a:t>Common Gateway Interface </a:t>
            </a:r>
            <a:endParaRPr b="1" lang="en-US" sz="3900" spc="-1" strike="noStrike">
              <a:solidFill>
                <a:srgbClr val="330066"/>
              </a:solidFill>
              <a:latin typeface="Arial"/>
            </a:endParaRPr>
          </a:p>
        </p:txBody>
      </p:sp>
      <p:sp>
        <p:nvSpPr>
          <p:cNvPr id="1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7000"/>
          </a:bodyPr>
          <a:p>
            <a:pPr marL="332640" indent="-33264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WWW böngészők nem csak a HTTP protokollt ismerik, hanem más protokollok segítségével nemcsak WWW szolgáltatókkal tudnak kapcsolatot létesíteni, azoktól szolgáltatásokat kérni. </a:t>
            </a:r>
            <a:endParaRPr b="0" lang="en-US" sz="1700" spc="-1" strike="noStrike">
              <a:solidFill>
                <a:srgbClr val="000000"/>
              </a:solidFill>
              <a:latin typeface="Arial"/>
            </a:endParaRPr>
          </a:p>
          <a:p>
            <a:pPr lvl="1" marL="671400" indent="-33732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Rendszerint képesek FTP protokollon keresztül állomány átvitel szolgáltatások igénylésére (ekkor a kapcsolat végigéli az FTP ülést), </a:t>
            </a:r>
            <a:endParaRPr b="0" lang="en-US" sz="1500" spc="-1" strike="noStrike">
              <a:solidFill>
                <a:srgbClr val="000000"/>
              </a:solidFill>
              <a:latin typeface="Arial"/>
            </a:endParaRPr>
          </a:p>
          <a:p>
            <a:pPr lvl="1" marL="671400" indent="-33732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TELNET protokollal távoli elérésre (ugyancsak végig van kapcsolat az ülés alatt), </a:t>
            </a:r>
            <a:endParaRPr b="0" lang="en-US" sz="1500" spc="-1" strike="noStrike">
              <a:solidFill>
                <a:srgbClr val="000000"/>
              </a:solidFill>
              <a:latin typeface="Arial"/>
            </a:endParaRPr>
          </a:p>
          <a:p>
            <a:pPr lvl="1" marL="671400" indent="-33732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POP3 protokollal levélszekrények vizsgálatára, letöltésére, SMTP vagy MIME protokollal levelek feladására (kapcsolat levéltovábbító ügynök szolgáltatóhoz), a USENET NEWS levelek olvasására. </a:t>
            </a:r>
            <a:endParaRPr b="0" lang="en-US" sz="1500" spc="-1" strike="noStrike">
              <a:solidFill>
                <a:srgbClr val="000000"/>
              </a:solidFill>
              <a:latin typeface="Arial"/>
            </a:endParaRPr>
          </a:p>
          <a:p>
            <a:pPr marL="332640" indent="-33264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Mindezekhez viszonylag egységes felhasználói felületet biztosítanak, innen adódik tehát az a téveszme, hogy az Internet az a WWW, vagy fordítva: hiszen egy jó WWW tallózó szinte minden szolgáltatást biztosít, amit az Interneten elérhetünk.</a:t>
            </a:r>
            <a:endParaRPr b="0" lang="en-US" sz="1700" spc="-1" strike="noStrike">
              <a:solidFill>
                <a:srgbClr val="000000"/>
              </a:solidFill>
              <a:latin typeface="Arial"/>
            </a:endParaRPr>
          </a:p>
          <a:p>
            <a:pPr marL="332640" indent="-33264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WWW szolgáltatóknak további szolgáltatása a legegyszerűbb "programozási" lehetőség az, hogy bizonyos szolgáltatók megengedik, hogy különben kommentárnak számító HTML direktíva a szolgáltató parancs-értelmezőjének szóló burok parancs legyen. A szerver elindítja a parancsértelmezőt, végrehajtatja a parancsot, az eredményeit pedig szövegfájl válaszként elküldi a kliensnek megjelenítésre. A Common Gateway Interface (CGI) protokoll szerint akár paramétereket is küldhetünk a kliensből a CGI programnak, a CGI program akár bele is írhat az utoljára megjelenített dokumentumba. </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6370BE32-A5E9-417B-9E22-97A1D0F2C20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z XML - Extensible Markup Language </a:t>
            </a:r>
            <a:endParaRPr b="1" lang="en-US" sz="3900" spc="-1" strike="noStrike">
              <a:solidFill>
                <a:srgbClr val="330066"/>
              </a:solidFill>
              <a:latin typeface="Arial"/>
            </a:endParaRPr>
          </a:p>
        </p:txBody>
      </p:sp>
      <p:sp>
        <p:nvSpPr>
          <p:cNvPr id="17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z XML (Extensible Markup Language) egy leíró nyelv, a strukturált információkat tartalmazó dokumentumok számára.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strukturált információk kétféle dolgot tartalmaznak: egyrészt tartalmat (szöveg, képek) másrészt információkat a tartalom struktúrájáról (például, hogy az adott helyen lévő szöveg a fejléc lábléc vagy fejezetcím).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leíró nyelv pedig egy mechanizmus arra, hogy ezeket a struktúrákat azonosítsuk a dokumentumban.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z XML specifikáció azt definiálja, hogy milyen módón írható le egységesen a dokumentum. A "dokumentum" szó mögött nem a hagyományos értelemben vett dokumentumot kell érteni, hanem más XML adatformátumok sokaságát. Ilyenek lehetnek például vektor grafikák, E-commerce tranzakciók, matematikai egyenletek, stb. </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1A473110-686A-4BC6-A5DA-B6A264B110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PHP - Hypertext Preprocessor</a:t>
            </a:r>
            <a:endParaRPr b="1" lang="en-US" sz="3900" spc="-1" strike="noStrike">
              <a:solidFill>
                <a:srgbClr val="330066"/>
              </a:solidFill>
              <a:latin typeface="Arial"/>
            </a:endParaRPr>
          </a:p>
        </p:txBody>
      </p:sp>
      <p:sp>
        <p:nvSpPr>
          <p:cNvPr id="17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Mára már a PHP a legelterjedtebb tartalomgenerátor a HTML oldalakhoz, a PHP-t használó weboldalak száma több millióra tehető. </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nyelv (amint azt a neve is jelzi) kezdettől fogva a HTML oldalakba ágyazásra lett tervezve, a fejlesztőkörnyezetek is eleve úgy vannak kialakítva, hogy Web szerverhez kapcsolódnak, és a programot ezen keresztül futtatják, az eredményt pedig weboldalként jelenítik meg. </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széleskörű használat következményeként rengeteg kiegészítése készült, adatbázis kezeléstől képkonvertáláson át grafikus kezelőfelületig rengeteg mindent tudunk készíteni a segítségével. </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HTML-be ágyazottságból kifolyólag alapvetően weboldalak forrásába írunk PHP programot, így meg kell különböztetnünk a dokumentum egyéb részeitől. </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23DCFD5B-B0FD-4A59-AB41-D0777CA05B5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JAVA programozási nyelv </a:t>
            </a:r>
            <a:endParaRPr b="1" lang="en-US" sz="3900" spc="-1" strike="noStrike">
              <a:solidFill>
                <a:srgbClr val="330066"/>
              </a:solidFill>
              <a:latin typeface="Arial"/>
            </a:endParaRPr>
          </a:p>
        </p:txBody>
      </p:sp>
      <p:sp>
        <p:nvSpPr>
          <p:cNvPr id="17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Java az Internet közvetlen tartozékának tűnik. Javában viszonylag egyszerű alkalmazásokat írni, az Interneten keresztül más gépek felé adatokat továbbítani, grafikákat, interaktív weboldalakat, felületeket létrehozni.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Természetesen minden más programozói feladat is megoldható, amire a klasszikus programozási nyelvek képesek.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000000"/>
                </a:solidFill>
                <a:latin typeface="Arial"/>
              </a:rPr>
              <a:t>Appletek</a:t>
            </a:r>
            <a:r>
              <a:rPr b="0" lang="hu-HU" sz="1700" spc="-1" strike="noStrike">
                <a:solidFill>
                  <a:srgbClr val="000000"/>
                </a:solidFill>
                <a:latin typeface="Arial"/>
              </a:rPr>
              <a:t>: Az applet olyasmit jelent, mint “kis alkalmazás”, ami alatt a következőt kell értenünk: az appletek nem önálló programok, hanem mindig egy meghatározott környezetet igényelnek, amiben egyáltalán képesek létezni és végrehajtódni. Ezt a környezetet a WWW böngészők jelentik, amelyeknek természetesen “Java-képesnek” kell lenniük.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000000"/>
                </a:solidFill>
                <a:latin typeface="Arial"/>
              </a:rPr>
              <a:t>Alkalmazások (programok) </a:t>
            </a:r>
            <a:r>
              <a:rPr b="0" lang="hu-HU" sz="1700" spc="-1" strike="noStrike">
                <a:solidFill>
                  <a:srgbClr val="000000"/>
                </a:solidFill>
                <a:latin typeface="Arial"/>
              </a:rPr>
              <a:t>Ellentétben az appletekkel, az alkalmazások teljes értékű önálló programok, amelyek végrehajtásához nincs szükség böngészőre vagy más speciális környezetre. (leszámítva a Java-értelmezőt). Az önálló programok futtatásához a Java interpreterét kell használnunk, ez egy olyan speciális program, amely a Java virtuális kódját processzorspecifikus bináris utasításokká fordítja. Az így futtatott alkalmazásoknak olyan képességeik vannak, amelyekkel az appletek nem rendelkeznek, például fájlműveleteket tudnak végezni. </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9A2836DA-C115-4C4B-A06F-A522866318E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Helyi hálózatok összekötése nagytávolságú vonalakkal </a:t>
            </a:r>
            <a:endParaRPr b="1" lang="en-US" sz="3900" spc="-1" strike="noStrike">
              <a:solidFill>
                <a:srgbClr val="330066"/>
              </a:solidFill>
              <a:latin typeface="Arial"/>
            </a:endParaRPr>
          </a:p>
        </p:txBody>
      </p:sp>
      <p:pic>
        <p:nvPicPr>
          <p:cNvPr id="104" name="" descr=""/>
          <p:cNvPicPr/>
          <p:nvPr/>
        </p:nvPicPr>
        <p:blipFill>
          <a:blip r:embed="rId1"/>
          <a:stretch/>
        </p:blipFill>
        <p:spPr>
          <a:xfrm>
            <a:off x="1547640" y="1625760"/>
            <a:ext cx="5832720" cy="443232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FF3228D5-A37E-4BB1-A29D-F2D1420181B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Információkeresés az Interneten</a:t>
            </a:r>
            <a:endParaRPr b="1" lang="en-US" sz="3900" spc="-1" strike="noStrike">
              <a:solidFill>
                <a:srgbClr val="330066"/>
              </a:solidFill>
              <a:latin typeface="Arial"/>
            </a:endParaRPr>
          </a:p>
        </p:txBody>
      </p:sp>
      <p:sp>
        <p:nvSpPr>
          <p:cNvPr id="17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web robotok, vagy ügynökök olyan számítógépes programok, melyeknek célja az Internet oldalain történő adatgyűjtés vagy keresés. Jellemzi őket az önállóság, és a rekurzivitás.</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900" spc="-1" strike="noStrike">
                <a:solidFill>
                  <a:srgbClr val="000000"/>
                </a:solidFill>
                <a:latin typeface="Arial"/>
              </a:rPr>
              <a:t>Önállóság</a:t>
            </a:r>
            <a:r>
              <a:rPr b="0" lang="hu-HU" sz="1900" spc="-1" strike="noStrike">
                <a:solidFill>
                  <a:srgbClr val="000000"/>
                </a:solidFill>
                <a:latin typeface="Arial"/>
              </a:rPr>
              <a:t> – bizonyos előre meghatározott korlátok között a működésüket emberi beavatkozás és irányítás nélkül végzik.</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900" spc="-1" strike="noStrike">
                <a:solidFill>
                  <a:srgbClr val="000000"/>
                </a:solidFill>
                <a:latin typeface="Arial"/>
              </a:rPr>
              <a:t>Rekurzivitás</a:t>
            </a:r>
            <a:r>
              <a:rPr b="0" lang="hu-HU" sz="1900" spc="-1" strike="noStrike">
                <a:solidFill>
                  <a:srgbClr val="000000"/>
                </a:solidFill>
                <a:latin typeface="Arial"/>
              </a:rPr>
              <a:t> – egy adott pontról kiindulva, képesek bejárni az összes olyan oldalt, mely a kiindulási ponttal közvetlen kapcsolatban áll, majd képesek a kapcsolt oldalt mint kiindulási pontot tekinteni és a folyamatot egészen addig folytatni, amíg valamilyen kilépési feltétel érvényre nem jut.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datbázisban tárolt indexeken alapuló keresés: A rendszer központi eleme az adatbázis, amelyben az egyes oldalak címei illetőleg az oldalakra valamilyen szempont szerint jellemző szavak és szókapcsolatok tárolódnak. </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 adatok gyűjtését és rendszerezését emberek végzik</a:t>
            </a:r>
            <a:r>
              <a:rPr b="0" lang="hu-HU" sz="1700" spc="-1" strike="noStrike">
                <a:solidFill>
                  <a:srgbClr val="000000"/>
                </a:solidFill>
                <a:latin typeface="Arial"/>
              </a:rPr>
              <a:t> </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 adatokat emberek küldik, az ellenőrzést viszont gép végzi</a:t>
            </a:r>
            <a:r>
              <a:rPr b="0" lang="hu-HU" sz="1700" spc="-1" strike="noStrike">
                <a:solidFill>
                  <a:srgbClr val="000000"/>
                </a:solidFill>
                <a:latin typeface="Arial"/>
              </a:rPr>
              <a:t> </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 adatokat egy önműködő program, egy web robot gyűjti</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D9276DD4-126E-4F04-AD15-A85EBB544E3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z oldalak változásait figyelő ügynökök </a:t>
            </a:r>
            <a:endParaRPr b="1" lang="en-US" sz="3900" spc="-1" strike="noStrike">
              <a:solidFill>
                <a:srgbClr val="330066"/>
              </a:solidFill>
              <a:latin typeface="Arial"/>
            </a:endParaRPr>
          </a:p>
        </p:txBody>
      </p:sp>
      <p:sp>
        <p:nvSpPr>
          <p:cNvPr id="178"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Aktív böngésző rendszerek</a:t>
            </a:r>
            <a:r>
              <a:rPr b="0" lang="hu-HU"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Tükröző (Mirroring) robotok</a:t>
            </a:r>
            <a:r>
              <a:rPr b="0" lang="hu-HU"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Statisztikai robotok</a:t>
            </a:r>
            <a:r>
              <a:rPr b="0" lang="hu-HU" sz="2600" spc="-1" strike="noStrike">
                <a:solidFill>
                  <a:srgbClr val="000000"/>
                </a:solidFill>
                <a:latin typeface="Arial"/>
              </a:rPr>
              <a:t>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79" name="" descr=""/>
          <p:cNvPicPr/>
          <p:nvPr/>
        </p:nvPicPr>
        <p:blipFill>
          <a:blip r:embed="rId1"/>
          <a:stretch/>
        </p:blipFill>
        <p:spPr>
          <a:xfrm>
            <a:off x="4356000" y="2205000"/>
            <a:ext cx="3943440" cy="2657520"/>
          </a:xfrm>
          <a:prstGeom prst="rect">
            <a:avLst/>
          </a:prstGeom>
          <a:ln w="0">
            <a:noFill/>
          </a:ln>
        </p:spPr>
      </p:pic>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2E5C9294-7FB1-4BE0-837F-9ECCF9E86F2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Web2 </a:t>
            </a: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Webhelyek feletti tartalomforrások: A Web első generációjával ellentétben a hangsúly inkább azon van, egy adott adathalmazt, tartalmat milyen módon dolgozza fel, csoportosítja, jeleníti meg egy adott webhely. A feldolgozott tartalom eredete egyre kevésbé fontos, megszűnik annak röghöz kötöttsége, mert nemcsak az eredeti webhely tervezői szerinti formában érhető el, hanem szabadon felhasználható más oldalak által is. Ehhez le kell bontani mind a jogi, mind a technikai akadályokat. </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Előbbit a liberális licenc-feltételekkel, utóbbit a különböző programozási nyelvek által elérhető hozzáférés lehetőségével, ún. </a:t>
            </a:r>
            <a:r>
              <a:rPr b="0" lang="hu-HU" sz="1700" spc="-1" strike="noStrike" u="sng">
                <a:solidFill>
                  <a:srgbClr val="7e9ce8"/>
                </a:solidFill>
                <a:uFillTx/>
                <a:latin typeface="Arial"/>
                <a:hlinkClick r:id="rId1"/>
              </a:rPr>
              <a:t>API</a:t>
            </a:r>
            <a:r>
              <a:rPr b="0" lang="hu-HU" sz="1700" spc="-1" strike="noStrike">
                <a:solidFill>
                  <a:srgbClr val="000000"/>
                </a:solidFill>
                <a:latin typeface="Arial"/>
              </a:rPr>
              <a:t>-kkal, vagy </a:t>
            </a:r>
            <a:r>
              <a:rPr b="0" lang="hu-HU" sz="1700" spc="-1" strike="noStrike" u="sng">
                <a:solidFill>
                  <a:srgbClr val="7e9ce8"/>
                </a:solidFill>
                <a:uFillTx/>
                <a:latin typeface="Arial"/>
                <a:hlinkClick r:id="rId2"/>
              </a:rPr>
              <a:t>RSS abrak</a:t>
            </a:r>
            <a:r>
              <a:rPr b="0" lang="hu-HU" sz="1700" spc="-1" strike="noStrike">
                <a:solidFill>
                  <a:srgbClr val="000000"/>
                </a:solidFill>
                <a:latin typeface="Arial"/>
              </a:rPr>
              <a:t>ok felhasználásával lehet elérni. </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tartalom relatíve egyszerű átvételére jó példa a </a:t>
            </a:r>
            <a:r>
              <a:rPr b="0" lang="hu-HU" sz="1700" spc="-1" strike="noStrike" u="sng">
                <a:solidFill>
                  <a:srgbClr val="7e9ce8"/>
                </a:solidFill>
                <a:uFillTx/>
                <a:latin typeface="Arial"/>
                <a:hlinkClick r:id="rId3"/>
              </a:rPr>
              <a:t>http://www.lexipda.de</a:t>
            </a:r>
            <a:r>
              <a:rPr b="0" lang="hu-HU" sz="1700" spc="-1" strike="noStrike" u="sng">
                <a:solidFill>
                  <a:srgbClr val="7e9ce8"/>
                </a:solidFill>
                <a:uFillTx/>
                <a:latin typeface="Arial"/>
                <a:hlinkClick r:id="rId4"/>
              </a:rPr>
              <a:t>/</a:t>
            </a:r>
            <a:r>
              <a:rPr b="0" lang="hu-HU" sz="1700" spc="-1" strike="noStrike">
                <a:solidFill>
                  <a:srgbClr val="000000"/>
                </a:solidFill>
                <a:latin typeface="Arial"/>
              </a:rPr>
              <a:t> , ami a </a:t>
            </a:r>
            <a:r>
              <a:rPr b="0" lang="hu-HU" sz="1700" spc="-1" strike="noStrike" u="sng">
                <a:solidFill>
                  <a:srgbClr val="7e9ce8"/>
                </a:solidFill>
                <a:uFillTx/>
                <a:latin typeface="Arial"/>
                <a:hlinkClick r:id="rId5"/>
              </a:rPr>
              <a:t>Wikipédia</a:t>
            </a:r>
            <a:r>
              <a:rPr b="0" lang="hu-HU" sz="1700" spc="-1" strike="noStrike">
                <a:solidFill>
                  <a:srgbClr val="000000"/>
                </a:solidFill>
                <a:latin typeface="Arial"/>
              </a:rPr>
              <a:t> tartalmát jeleníti meg leegyszerűsített, PDA-kra optimalizált formában, az API-k felhasználására pedig a </a:t>
            </a:r>
            <a:r>
              <a:rPr b="0" lang="hu-HU" sz="1700" spc="-1" strike="noStrike" u="sng">
                <a:solidFill>
                  <a:srgbClr val="7e9ce8"/>
                </a:solidFill>
                <a:uFillTx/>
                <a:latin typeface="Arial"/>
                <a:hlinkClick r:id="rId6"/>
              </a:rPr>
              <a:t>GoogleHejesírás</a:t>
            </a:r>
            <a:r>
              <a:rPr b="0" lang="hu-HU" sz="1700" spc="-1" strike="noStrike">
                <a:solidFill>
                  <a:srgbClr val="000000"/>
                </a:solidFill>
                <a:latin typeface="Arial"/>
              </a:rPr>
              <a:t>, ami a </a:t>
            </a:r>
            <a:r>
              <a:rPr b="0" lang="hu-HU" sz="1700" spc="-1" strike="noStrike" u="sng">
                <a:solidFill>
                  <a:srgbClr val="7e9ce8"/>
                </a:solidFill>
                <a:uFillTx/>
                <a:latin typeface="Arial"/>
                <a:hlinkClick r:id="rId7"/>
              </a:rPr>
              <a:t>Google</a:t>
            </a:r>
            <a:r>
              <a:rPr b="0" lang="hu-HU" sz="1700" spc="-1" strike="noStrike">
                <a:solidFill>
                  <a:srgbClr val="000000"/>
                </a:solidFill>
                <a:latin typeface="Arial"/>
              </a:rPr>
              <a:t> adatbázisát használja fel helyesírási kérdések "eldöntésére".  </a:t>
            </a:r>
            <a:endParaRPr b="0" lang="en-US" sz="17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900" spc="-1" strike="noStrike">
                <a:solidFill>
                  <a:srgbClr val="000000"/>
                </a:solidFill>
                <a:latin typeface="Arial"/>
              </a:rPr>
              <a:t>A felhasználók Web2.0-ja</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900" spc="-1" strike="noStrike">
                <a:solidFill>
                  <a:srgbClr val="000000"/>
                </a:solidFill>
                <a:latin typeface="Arial"/>
              </a:rPr>
              <a:t>Mindenki írhat weboldalt</a:t>
            </a:r>
            <a:r>
              <a:rPr b="0" lang="hu-HU" sz="1900" spc="-1" strike="noStrike">
                <a:solidFill>
                  <a:srgbClr val="000000"/>
                </a:solidFill>
                <a:latin typeface="Arial"/>
              </a:rPr>
              <a:t>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900" spc="-1" strike="noStrike">
                <a:solidFill>
                  <a:srgbClr val="000000"/>
                </a:solidFill>
                <a:latin typeface="Arial"/>
              </a:rPr>
              <a:t>Operációs rendszer és a web egymásba gabalyodása</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CE14FD89-06CC-42B7-B05B-02B7326062F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 </a:t>
            </a:r>
            <a:r>
              <a:rPr b="1" lang="hu-HU" sz="3900" spc="-1" strike="noStrike">
                <a:solidFill>
                  <a:srgbClr val="330066"/>
                </a:solidFill>
                <a:latin typeface="Arial"/>
              </a:rPr>
              <a:t>Internet hálózat felépítése, kapcsolódási lehetőségek </a:t>
            </a:r>
            <a:endParaRPr b="1" lang="en-US" sz="3900" spc="-1" strike="noStrike">
              <a:solidFill>
                <a:srgbClr val="330066"/>
              </a:solidFill>
              <a:latin typeface="Arial"/>
            </a:endParaRPr>
          </a:p>
        </p:txBody>
      </p:sp>
      <p:pic>
        <p:nvPicPr>
          <p:cNvPr id="183" name="" descr=""/>
          <p:cNvPicPr/>
          <p:nvPr/>
        </p:nvPicPr>
        <p:blipFill>
          <a:blip r:embed="rId1"/>
          <a:stretch/>
        </p:blipFill>
        <p:spPr>
          <a:xfrm>
            <a:off x="1042920" y="1425600"/>
            <a:ext cx="6842160" cy="484668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20687F2A-759A-49B7-B4A2-D26BF6D6F46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Telefonvonalon történő csatlakozás </a:t>
            </a:r>
            <a:endParaRPr b="1" lang="en-US" sz="3900" spc="-1" strike="noStrike">
              <a:solidFill>
                <a:srgbClr val="330066"/>
              </a:solidFill>
              <a:latin typeface="Arial"/>
            </a:endParaRPr>
          </a:p>
        </p:txBody>
      </p:sp>
      <p:pic>
        <p:nvPicPr>
          <p:cNvPr id="185" name="" descr=""/>
          <p:cNvPicPr/>
          <p:nvPr/>
        </p:nvPicPr>
        <p:blipFill>
          <a:blip r:embed="rId1"/>
          <a:stretch/>
        </p:blipFill>
        <p:spPr>
          <a:xfrm>
            <a:off x="1403280" y="1606680"/>
            <a:ext cx="6121440" cy="447660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B325BF26-EA23-46D8-B99F-70C83C887F9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Terminálszerver megoldás </a:t>
            </a:r>
            <a:endParaRPr b="1" lang="en-US" sz="3900" spc="-1" strike="noStrike">
              <a:solidFill>
                <a:srgbClr val="330066"/>
              </a:solidFill>
              <a:latin typeface="Arial"/>
            </a:endParaRPr>
          </a:p>
        </p:txBody>
      </p:sp>
      <p:pic>
        <p:nvPicPr>
          <p:cNvPr id="187" name="" descr=""/>
          <p:cNvPicPr/>
          <p:nvPr/>
        </p:nvPicPr>
        <p:blipFill>
          <a:blip r:embed="rId1"/>
          <a:stretch/>
        </p:blipFill>
        <p:spPr>
          <a:xfrm>
            <a:off x="2152800" y="1484280"/>
            <a:ext cx="4779720" cy="482436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A6067CD4-A729-46EC-AE2F-38557B81A6F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SL - </a:t>
            </a:r>
            <a:r>
              <a:rPr b="1" i="1" lang="hu-HU" sz="3900" spc="-1" strike="noStrike">
                <a:solidFill>
                  <a:srgbClr val="330066"/>
                </a:solidFill>
                <a:latin typeface="Arial"/>
              </a:rPr>
              <a:t>Asymmetric Digital Subscriber Line</a:t>
            </a:r>
            <a:r>
              <a:rPr b="1" lang="hu-HU" sz="3900" spc="-1" strike="noStrike">
                <a:solidFill>
                  <a:srgbClr val="330066"/>
                </a:solidFill>
                <a:latin typeface="Arial"/>
              </a:rPr>
              <a:t>  </a:t>
            </a:r>
            <a:endParaRPr b="1" lang="en-US" sz="3900" spc="-1" strike="noStrike">
              <a:solidFill>
                <a:srgbClr val="330066"/>
              </a:solidFill>
              <a:latin typeface="Arial"/>
            </a:endParaRPr>
          </a:p>
        </p:txBody>
      </p:sp>
      <p:sp>
        <p:nvSpPr>
          <p:cNvPr id="18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szimmetrikus digitális előfizetői vonal.</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512-4000 kbit/s) letöltési sebességet kínál. </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Telefonköltség nélküli, korlátlan internetezést tesz lehetővé a hagyományos telefonvonalon, mint átviteli közegen, a telefon vagy fax párhuzamos használata mellett.</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Egy olyan új technológia, amely a hagyományos telefonvonalat, (csavart réz érpárt) rendkívül gyors internetezésre alkalmas, nagy sávszélességű digitális vonallá alakítja át. </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z aszimmetria az adatkommunikáció két irányának eltérő sebességére utal. </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z ADSL alapú Internet elérés elsősorban azok számára megfelelő eszköz, akik a letöltési irányban (például szörfölés, fájlok letöltése) igényelnek nagy sávszélességet és sebességet, a másik irány sávszélessége kevésbé fontos.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03F6E501-1252-4C99-92E5-5F99642C033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Wi-Fi </a:t>
            </a:r>
            <a:endParaRPr b="1" lang="en-US" sz="3900" spc="-1" strike="noStrike">
              <a:solidFill>
                <a:srgbClr val="330066"/>
              </a:solidFill>
              <a:latin typeface="Arial"/>
            </a:endParaRPr>
          </a:p>
        </p:txBody>
      </p:sp>
      <p:sp>
        <p:nvSpPr>
          <p:cNvPr id="1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000000"/>
                </a:solidFill>
                <a:latin typeface="Arial"/>
              </a:rPr>
              <a:t>Wi-Fi</a:t>
            </a:r>
            <a:r>
              <a:rPr b="0" lang="hu-HU" sz="1700" spc="-1" strike="noStrike">
                <a:solidFill>
                  <a:srgbClr val="000000"/>
                </a:solidFill>
                <a:latin typeface="Arial"/>
              </a:rPr>
              <a:t> (úgy is, mint </a:t>
            </a:r>
            <a:r>
              <a:rPr b="1" lang="hu-HU" sz="1700" spc="-1" strike="noStrike">
                <a:solidFill>
                  <a:srgbClr val="000000"/>
                </a:solidFill>
                <a:latin typeface="Arial"/>
              </a:rPr>
              <a:t>WiFi</a:t>
            </a:r>
            <a:r>
              <a:rPr b="0" lang="hu-HU" sz="1700" spc="-1" strike="noStrike">
                <a:solidFill>
                  <a:srgbClr val="000000"/>
                </a:solidFill>
                <a:latin typeface="Arial"/>
              </a:rPr>
              <a:t>, </a:t>
            </a:r>
            <a:r>
              <a:rPr b="1" lang="hu-HU" sz="1700" spc="-1" strike="noStrike">
                <a:solidFill>
                  <a:srgbClr val="000000"/>
                </a:solidFill>
                <a:latin typeface="Arial"/>
              </a:rPr>
              <a:t>Wifi</a:t>
            </a:r>
            <a:r>
              <a:rPr b="0" lang="hu-HU" sz="1700" spc="-1" strike="noStrike">
                <a:solidFill>
                  <a:srgbClr val="000000"/>
                </a:solidFill>
                <a:latin typeface="Arial"/>
              </a:rPr>
              <a:t> vagy </a:t>
            </a:r>
            <a:r>
              <a:rPr b="1" lang="hu-HU" sz="1700" spc="-1" strike="noStrike">
                <a:solidFill>
                  <a:srgbClr val="000000"/>
                </a:solidFill>
                <a:latin typeface="Arial"/>
              </a:rPr>
              <a:t>wifi</a:t>
            </a:r>
            <a:r>
              <a:rPr b="0" lang="hu-HU" sz="1700" spc="-1" strike="noStrike">
                <a:solidFill>
                  <a:srgbClr val="000000"/>
                </a:solidFill>
                <a:latin typeface="Arial"/>
              </a:rPr>
              <a:t>), a </a:t>
            </a:r>
            <a:r>
              <a:rPr b="1" lang="hu-HU" sz="1700" spc="-1" strike="noStrike">
                <a:solidFill>
                  <a:srgbClr val="000000"/>
                </a:solidFill>
                <a:latin typeface="Arial"/>
              </a:rPr>
              <a:t>Wi</a:t>
            </a:r>
            <a:r>
              <a:rPr b="0" lang="hu-HU" sz="1700" spc="-1" strike="noStrike">
                <a:solidFill>
                  <a:srgbClr val="000000"/>
                </a:solidFill>
                <a:latin typeface="Arial"/>
              </a:rPr>
              <a:t>reless </a:t>
            </a:r>
            <a:r>
              <a:rPr b="1" lang="hu-HU" sz="1700" spc="-1" strike="noStrike">
                <a:solidFill>
                  <a:srgbClr val="000000"/>
                </a:solidFill>
                <a:latin typeface="Arial"/>
              </a:rPr>
              <a:t>Fi</a:t>
            </a:r>
            <a:r>
              <a:rPr b="0" lang="hu-HU" sz="1700" spc="-1" strike="noStrike">
                <a:solidFill>
                  <a:srgbClr val="000000"/>
                </a:solidFill>
                <a:latin typeface="Arial"/>
              </a:rPr>
              <a:t>delity rövidítéséből – az </a:t>
            </a:r>
            <a:r>
              <a:rPr b="0" lang="hu-HU" sz="1700" spc="-1" strike="noStrike" u="sng">
                <a:solidFill>
                  <a:srgbClr val="7e9ce8"/>
                </a:solidFill>
                <a:uFillTx/>
                <a:latin typeface="Arial"/>
                <a:hlinkClick r:id="rId1"/>
              </a:rPr>
              <a:t>IEEE</a:t>
            </a:r>
            <a:r>
              <a:rPr b="0" lang="hu-HU" sz="1700" spc="-1" strike="noStrike">
                <a:solidFill>
                  <a:srgbClr val="000000"/>
                </a:solidFill>
                <a:latin typeface="Arial"/>
              </a:rPr>
              <a:t> által kifejlesztett vezeték nélküli mikrohullámú kommunikációt megvalósító szabvány.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WiFi a WECA (Wireless Ethernet Compatibility Assocation) bejegyzett márkaneve, és a korábban IEEE 802.11b-nek nevezett szabvány közérthetőbb, könnyebben megjegyezhető márkaneve.</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z WiFi-nek megfelelő eszközök rádiós adatátviteli összeköttetetést tudunk megvalósítani.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Ezek az eszközök a 2400 Mhz-es frekvencia sávban működnek néhányszor 10mW-os adóteljesítménnyel.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WiFi eszközök segítségével akár 11Mbps sebességet is el tudunk érni, ami megfelel egy hagyományos 10 Mbps vezetékes hálózat sebességének.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Rádiós kapcsolatoknak két típusa van, az ad-hoc és a strukturált. Ad-hoc módban a hálózati kártyák közvetlenül egymással kommunikálnak, míg strukturált módban egy központi egységen (Access point) keresztül tartják a kapcsolatot.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Strukturált módban lényegesen több, akár 64-256 gép is kapcsolódhat egy központi egységhez </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1D3913E4-F2B8-4A27-B93A-2AAA1F1DE11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Wi-MAX </a:t>
            </a:r>
            <a:endParaRPr b="1" lang="en-US" sz="3900" spc="-1" strike="noStrike">
              <a:solidFill>
                <a:srgbClr val="330066"/>
              </a:solidFill>
              <a:latin typeface="Arial"/>
            </a:endParaRPr>
          </a:p>
        </p:txBody>
      </p:sp>
      <p:sp>
        <p:nvSpPr>
          <p:cNvPr id="1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8000"/>
          </a:bodyPr>
          <a:p>
            <a:pPr marL="335880" indent="-3358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WiMAX (Worldwide Interoperability for Microwave Access) hatvanhét céget tömörít magába</a:t>
            </a:r>
            <a:endParaRPr b="0" lang="en-US" sz="1900" spc="-1" strike="noStrike">
              <a:solidFill>
                <a:srgbClr val="000000"/>
              </a:solidFill>
              <a:latin typeface="Arial"/>
            </a:endParaRPr>
          </a:p>
          <a:p>
            <a:pPr marL="335880" indent="-3358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Nem a ma használatos vezeték nélküli hálózatok (WLAN) felváltására hozták létre, hanem a kiegészítésükre. Ez nagy mértékben kiterjeszti majd a jelenlegi vezeték nélküli IP-hálózatok (Wi-Fi) alkalmazási körét.</a:t>
            </a:r>
            <a:endParaRPr b="0" lang="en-US" sz="1900" spc="-1" strike="noStrike">
              <a:solidFill>
                <a:srgbClr val="000000"/>
              </a:solidFill>
              <a:latin typeface="Arial"/>
            </a:endParaRPr>
          </a:p>
          <a:p>
            <a:pPr marL="335880" indent="-3358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WiMAX révén városnyi területeket is össze lehet majd kötni, vagyis mindenhová eljuthat majd a szélessávú internethozzáférés. Míg a 802.16-os szabvány (a WiMAX) akár 50 kilométeres körzetben is adhat hálózati hozzáférést, a WiFi (WLAN szabvány) csak 100 méteres körzetet képes ellátni.</a:t>
            </a:r>
            <a:endParaRPr b="0" lang="en-US" sz="1900" spc="-1" strike="noStrike">
              <a:solidFill>
                <a:srgbClr val="000000"/>
              </a:solidFill>
              <a:latin typeface="Arial"/>
            </a:endParaRPr>
          </a:p>
          <a:p>
            <a:pPr marL="335880" indent="-3358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Nem kell közvetlen rálátás az átjátszókra, s ezzel voltaképpen többet ígér minden ma használatos szélessávú, vezeték nélküli kapcsolatnál, mivel a végpontokban nem kell majd kültéri antenna.</a:t>
            </a:r>
            <a:endParaRPr b="0" lang="en-US" sz="1900" spc="-1" strike="noStrike">
              <a:solidFill>
                <a:srgbClr val="000000"/>
              </a:solidFill>
              <a:latin typeface="Arial"/>
            </a:endParaRPr>
          </a:p>
          <a:p>
            <a:pPr marL="335880" indent="-3358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WiMax hálózatok legfeljebb 70 Mbit/s sebességű adatátvitelre képesek. A WiMax mind a DSL (Digital Subscriber Lines), mind pedig a kábelnetes megoldásoknál olcsóbb lehet, hiszen esetében nem kell kábeleket lefektetni, a vezeték nélküli infrastruktúra kiépítése pedig rendkívül olcsó. </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74947431-30FF-4104-88F0-7A3C902BDA4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Mobil Internet </a:t>
            </a:r>
            <a:endParaRPr b="1" lang="en-US" sz="3900" spc="-1" strike="noStrike">
              <a:solidFill>
                <a:srgbClr val="330066"/>
              </a:solidFill>
              <a:latin typeface="Arial"/>
            </a:endParaRPr>
          </a:p>
        </p:txBody>
      </p:sp>
      <p:sp>
        <p:nvSpPr>
          <p:cNvPr id="1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9000"/>
          </a:bodyPr>
          <a:p>
            <a:pPr marL="339480" indent="-3394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z internet jóvoltából erősen megnőtt és felértékelődött az információk iránti igény. Sokan úgy gondolják, hogy ha bármikor és a világon bárhol hozzáférhetnek a világhálón a szükséges adatokhoz, akkor legyen módjuk erre utazás vagy tárgyalás közben is. </a:t>
            </a:r>
            <a:endParaRPr b="0" lang="en-US" sz="1900" spc="-1" strike="noStrike">
              <a:solidFill>
                <a:srgbClr val="000000"/>
              </a:solidFill>
              <a:latin typeface="Arial"/>
            </a:endParaRPr>
          </a:p>
          <a:p>
            <a:pPr marL="339480" indent="-3394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Egy bekábelezett helyi hálózat (LAN) optimális megoldás az irodaházakban dolgozók többségének, de mi legyen azokkal, akik napközben sokszor változtatják a helyüket – például értekezletek, bemutatók miatt? És a tárgyalásra érkező vendégek? ők hova "csatlakozzanak", ha friss információkra van szükségük a megbeszélések alatt? </a:t>
            </a:r>
            <a:endParaRPr b="0" lang="en-US" sz="1900" spc="-1" strike="noStrike">
              <a:solidFill>
                <a:srgbClr val="000000"/>
              </a:solidFill>
              <a:latin typeface="Arial"/>
            </a:endParaRPr>
          </a:p>
          <a:p>
            <a:pPr marL="339480" indent="-3394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Vezeték nélküli, rádiós hálózattal kell helyettesíteni a hagyományos összeköttetést mindenütt, ahol erre igény van. Az ötlet egyáltalán nem új, hiszen a mobiltelefonok már hosszú évtizedek óta ezekre az elvekre támaszkodnak</a:t>
            </a:r>
            <a:endParaRPr b="0" lang="en-US" sz="1900" spc="-1" strike="noStrike">
              <a:solidFill>
                <a:srgbClr val="000000"/>
              </a:solidFill>
              <a:latin typeface="Arial"/>
            </a:endParaRPr>
          </a:p>
          <a:p>
            <a:pPr marL="339480" indent="-3394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Ha a frekvenciákat most figyelmen kívül hagyjuk, akkor a gyártóktól és a konkrét berendezéstípusoktól függően különböző szempontok szerint csoportosíthatjuk a mobil rendszereket: vizsgálhatjuk őket a használati mód, illetve a rendszerben részt vevők száma alapján. </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5190D881-E0FE-4577-81BB-2D8DA86667E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TCP/IP rétegek</a:t>
            </a:r>
            <a:endParaRPr b="1" lang="en-US" sz="3900" spc="-1" strike="noStrike">
              <a:solidFill>
                <a:srgbClr val="330066"/>
              </a:solidFill>
              <a:latin typeface="Arial"/>
            </a:endParaRPr>
          </a:p>
        </p:txBody>
      </p:sp>
      <p:sp>
        <p:nvSpPr>
          <p:cNvPr id="10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lkalmazási protokollok (pl. levelezé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TCP-hez hasonló protokollok, amelyek rengeteg alkalmazás számára biztosítanak szolgáltatásokat;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IP, amely a datagrammok célba juttatását biztosítja;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felhasznált fizikai eszközök kezeléséhez szükséges protokollok (pl. Ethernet)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A2E28579-74D7-4658-8985-7619F78737E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Kapcsolat két pont között </a:t>
            </a:r>
            <a:endParaRPr b="1" lang="en-US" sz="3900" spc="-1" strike="noStrike">
              <a:solidFill>
                <a:srgbClr val="330066"/>
              </a:solidFill>
              <a:latin typeface="Arial"/>
            </a:endParaRPr>
          </a:p>
        </p:txBody>
      </p:sp>
      <p:sp>
        <p:nvSpPr>
          <p:cNvPr id="1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használati mód sajátosságára jó példa a Bluetooth. Alapjában kis távolságú, eszközök közötti kapcsolat fenntartására jó, például mobiltelefonhoz vezeték nélküli fejbeszélő illesztésére vagy a telefon és a noteszgép közötti adatcserére.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Gyakorlatilag a 2,5G-s és a 3G-s GSM rendszerek elterjedéséig a mobiltelefonok is efféle üzemmódban voltak használatosak, hiszen ha valakit felhívtunk vagy SMS-t küldtünk neki, akkor egy másik készülékkel kapcsolódtunk össze – esetleg a világ két pontja között.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Mostanra – a GPRS, majd az UMTS rendszere révén – egyre inkább átalakul a GSM telefonok használati módja, hiszen ezeken a már elfogadható átviteli sebességű rendszereken adatbázisokhoz, internethez is csatlakozhatunk a telefonnal. </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9A479F42-AA8B-4B05-AE61-63FD9531CF5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láthatatlan hálózat </a:t>
            </a:r>
            <a:endParaRPr b="1" lang="en-US" sz="39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PDA vagy a noteszgép (és nemsokára a mobiltelefon is) szerencsés esetben éppen úgy viselkedik és használható egy WLAN-szolgáltatás által lefedett területen, mintha egy kiépített vezetékes hálózathoz csatlakoztattuk volna.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Ez persze "visszafelé" is igaz: a lefedett területen perifériák – nyomtatók, projektorok, adatkiszolgálók – is telepíthetők ideiglenesen, bekábelezés nélkül. Az ilyen nyomtatót egyébként nemcsak a többi, a rendszerbe belépett vezetéknélküli számítógép használhatja, hanem a vezetékes hálózat felhasználói is.</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Ha felhasználók száma alapján osztályozzuk a vezeték nélküli hálózatokat, akkor három fő csoportot érdemes megkülönböztetnünk. </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z első a személyes méretű hálózat; nevezzük ezt WPAN-nak (Wireless Personal Area Network – vezetéknélküli személyi hálózat). A WPAN kis teljesítményű és kis hatótávolságú. Ide tartoznak: a Bluetooth, a különböző otthoni rádiós interfészek és persze az IrDA, vagyis az infravörös interfész is. </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754A408C-9F3E-4B75-B746-B69A354A84F6}" type="slidenum">
              <a:t>51</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Fejrészekkel történő kiegészítés a rétegekben </a:t>
            </a:r>
            <a:endParaRPr b="1" lang="en-US" sz="3900" spc="-1" strike="noStrike">
              <a:solidFill>
                <a:srgbClr val="330066"/>
              </a:solidFill>
              <a:latin typeface="Arial"/>
            </a:endParaRPr>
          </a:p>
        </p:txBody>
      </p:sp>
      <p:pic>
        <p:nvPicPr>
          <p:cNvPr id="108" name="" descr=""/>
          <p:cNvPicPr/>
          <p:nvPr/>
        </p:nvPicPr>
        <p:blipFill>
          <a:blip r:embed="rId1"/>
          <a:stretch/>
        </p:blipFill>
        <p:spPr>
          <a:xfrm>
            <a:off x="324000" y="1916280"/>
            <a:ext cx="8229600" cy="376056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794E8D43-6638-448F-A8AD-2D0607E935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Címzési rendszer </a:t>
            </a:r>
            <a:endParaRPr b="1" lang="en-US" sz="3900" spc="-1" strike="noStrike">
              <a:solidFill>
                <a:srgbClr val="330066"/>
              </a:solidFill>
              <a:latin typeface="Arial"/>
            </a:endParaRPr>
          </a:p>
        </p:txBody>
      </p:sp>
      <p:sp>
        <p:nvSpPr>
          <p:cNvPr id="1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7000"/>
          </a:bodyPr>
          <a:p>
            <a:pPr marL="332640" indent="-33264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Ha egy hálózat számítógépei a kommunikációhoz a TCP/IP protokollt használják, minden számítógép minden adaptere (hálózati kártyája) egyedi azonosítóval rendelkezik, mely egyedi azonosítók alapján a számítógépet az IP protokoll megtalálja a hálózatban. A számítógéphez rendelt azonosítót IP-címnek (IP address) nevezzük. </a:t>
            </a:r>
            <a:endParaRPr b="0" lang="en-US" sz="1700" spc="-1" strike="noStrike">
              <a:solidFill>
                <a:srgbClr val="000000"/>
              </a:solidFill>
              <a:latin typeface="Arial"/>
            </a:endParaRPr>
          </a:p>
          <a:p>
            <a:pPr marL="332640" indent="-33264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címzési rendszer hierarchikus: azaz vannak hálózatok, és ezen belül gépek (hosztok). Így a cím két részből áll: egy hálózatot azonosító, és ezen belül egy, a gépet azonosító címrészből.</a:t>
            </a:r>
            <a:endParaRPr b="0" lang="en-US" sz="1700" spc="-1" strike="noStrike">
              <a:solidFill>
                <a:srgbClr val="000000"/>
              </a:solidFill>
              <a:latin typeface="Arial"/>
            </a:endParaRPr>
          </a:p>
          <a:p>
            <a:pPr marL="332640" indent="-33264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hálózati csomópontok IP-címe 32 bites szám, amelyet a leggyakrabban az úgynevezett pontozott tízes formában (dotted decimal form) írunk le, azaz négy darab 0 és 255 közötti decimális számmal, például 193.255.67.4. Ebben a formában a 32 bites IP-címet 8 bitenként konvertáljuk tízes számrendszerbe, és az egyes 8 bites szakaszokra gyakran külön is hivatkozunk. </a:t>
            </a:r>
            <a:endParaRPr b="0" lang="en-US" sz="1700" spc="-1" strike="noStrike">
              <a:solidFill>
                <a:srgbClr val="000000"/>
              </a:solidFill>
              <a:latin typeface="Arial"/>
            </a:endParaRPr>
          </a:p>
          <a:p>
            <a:pPr marL="332640" indent="-33264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hálózatazonosító az összekapcsolt hálózatok között, a csomópont-azonosító a hálózaton belül egyedi. Ha a hálózat az Internethez csatlakozik, a hálózatazonosítónak az egész Interneten belül egyedinek kell lenni.</a:t>
            </a:r>
            <a:endParaRPr b="0" lang="en-US" sz="1700" spc="-1" strike="noStrike">
              <a:solidFill>
                <a:srgbClr val="000000"/>
              </a:solidFill>
              <a:latin typeface="Arial"/>
            </a:endParaRPr>
          </a:p>
          <a:p>
            <a:pPr marL="332640" indent="-33264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z Internethez csatlakozó hálózatok azonosítóit külső szolgáltató a az InterNIC (Inter-Network Informatition Center) határozza meg. </a:t>
            </a:r>
            <a:endParaRPr b="0" lang="en-US" sz="1700" spc="-1" strike="noStrike">
              <a:solidFill>
                <a:srgbClr val="000000"/>
              </a:solidFill>
              <a:latin typeface="Arial"/>
            </a:endParaRPr>
          </a:p>
          <a:p>
            <a:pPr marL="332640" indent="-33264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z IP-címeket, címtartományokat és így a hálózatokat különböző osztályba sorolják. A címzési rendszerben 4 címzési osztályt alakítottak ki </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33F49D5E-60EE-4158-B981-2561F0A9B1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z IP címformátumok </a:t>
            </a:r>
            <a:endParaRPr b="1" lang="en-US" sz="3900" spc="-1" strike="noStrike">
              <a:solidFill>
                <a:srgbClr val="330066"/>
              </a:solidFill>
              <a:latin typeface="Arial"/>
            </a:endParaRPr>
          </a:p>
        </p:txBody>
      </p:sp>
      <p:pic>
        <p:nvPicPr>
          <p:cNvPr id="112" name="" descr=""/>
          <p:cNvPicPr/>
          <p:nvPr/>
        </p:nvPicPr>
        <p:blipFill>
          <a:blip r:embed="rId1"/>
          <a:stretch/>
        </p:blipFill>
        <p:spPr>
          <a:xfrm>
            <a:off x="457200" y="2652840"/>
            <a:ext cx="8229600" cy="254304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8F9EABE2-3C0D-4721-A9B6-15CE2FD23F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Címzési rendszer </a:t>
            </a:r>
            <a:endParaRPr b="1" lang="en-US" sz="3900" spc="-1" strike="noStrike">
              <a:solidFill>
                <a:srgbClr val="330066"/>
              </a:solidFill>
              <a:latin typeface="Arial"/>
            </a:endParaRPr>
          </a:p>
        </p:txBody>
      </p:sp>
      <p:sp>
        <p:nvSpPr>
          <p:cNvPr id="1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Ha egy hálózat számítógépei a kommunikációhoz a TCP/IP protokollt használják, minden számítógép minden adaptere (hálózati kártyája) egyedi azonosítóval rendelkezik.</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számítógéphez rendelt azonosítót IP-címnek (IP address) nevezzük.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z IP-cím egy 32 bites szám, amelyet a leggyakrabban az úgynevezett pontozott tízes formában (dotted decimal form) írunk le, azaz négy darab 0 és 255 közötti decimális számmal, például 193.255.67.4</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z IP-cím két részből áll: az első a csomópontot tartalmazó helyi hálózatot azonosítja, a másik a hálózaton belül a csomópontot.</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z, hogy az IP-címből hány bit a hálózat és hány a csomópont azonosítója, elsősorban attól függ, hogy az összekapcsolt hálózatok rendszerében mennyi hálózatra, illetve hálózatonként mennyi csomópontra van szükség.</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címzési rendszerben 4 címzési osztályt alakítottak ki  </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AF77109A-45E8-4EBC-BFCA-B7C9202C1C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r. Herdon Miklós</cp:lastModifiedBy>
  <dcterms:modified xsi:type="dcterms:W3CDTF">2006-10-25T07:58:16Z</dcterms:modified>
  <cp:revision>96</cp:revision>
  <dc:subject/>
  <dc:title>PowerPoint bemutató</dc:title>
</cp:coreProperties>
</file>