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1DD5-E0AA-4DCC-992B-E4CBEEFD3EA8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E0F-A108-45E8-B78F-2C108470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EE6-5E80-466A-837B-C3A121D9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868-0230-4EC5-B405-15CBC874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B9E-834D-4C46-9AB2-2013074D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97BD-4B7D-45D4-9601-A2203CCD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78C1-B13B-4497-8E0E-620ED93D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0F1F-5A8B-43AF-B799-422D644F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AB96-21F7-41A7-9757-DE518D92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6D3B-EFF6-404B-A70E-09260237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03CF-5DAA-4B01-9D0D-CAB07516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5376-9986-4388-9491-42DC297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C85-4FF9-4D96-BA7F-B644EFD8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52CC-FC28-4652-AAE5-DD2724EA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F3B1-DB9C-4D5D-AC3D-CB5782E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3380-895E-4400-B54D-D0729FCA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BC9C-DC10-4C88-A61F-120BB95F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A68A-512A-446C-989E-7CF2AEEB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2EB-9E91-4A8C-A60A-2A392846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7FE-1716-4E38-85B6-2E7570E5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78E-DD79-4988-A70D-65FE5B40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381-8583-4F8F-B931-53F23F85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86B-8C0C-40D9-A978-3408F36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BF4-C844-437F-AAD5-219D888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48E-751E-46DD-A590-9AB98C8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9A2E-2FC0-443E-82CF-088488449FA4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5AC2-2EBF-49B9-B51E-AEA1D1502A4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6F4E-FFA1-4DF5-9B9F-01F44622F7F6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FA6B-AFE2-45A0-BBF1-123AB90A49F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A565-3806-40D4-A5FC-6EFB262232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Körlevélkészítés lépés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Dokumentum típus kiválasztás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Levé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Boríté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Cím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Címtá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lapul szolgáló dokumentum megadá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ktuális dokumentum alapj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ablon alapj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 már meglévő dokumentum alapj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3EF-130D-463E-BCAB-3C6889F440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Címzettek kiválasztá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étező listáb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utlook névjegyalbumb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Új lista létrehozásá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Levél megírá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zőnevek elhelyezése a törzsdokumentum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Levelek megtekin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Levelek egyesítése, befej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omt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s levelek szerkesz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E77-7250-4A88-AE83-B4371D4BD5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Tartalomjegyzé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artalomjegyzék létreh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szúrás\hivatkozás\tárgymutató és tartalomjegyzék\tartalomjegyz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artalomjegyzék friss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B21-23DB-40BB-965B-92BB8663D7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003-5520-42F9-8A9B-E50ABA7899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árgymutató készít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gymutató bejegyzések létrehozása a dokumentum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gymutató helyének kijelö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szúrás\hivatkozás\tárgymutató és tartalomjegyzék\tárgymutató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EB9-9288-43AE-BD99-E7695DFC7C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19604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B51-3849-45C9-813E-A6D58AA636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iagram készítés lépés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agramtípus kiválasz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75928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0A5-C4E4-474C-9389-00B8F0D024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agram forrásadatok megad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5928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814-37D4-4B5A-948E-C0F1E0F44E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agram beállí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59280" cy="388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1FB-660A-467C-AC05-F82592C891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agram hel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6408720" cy="36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66B-2948-4CBC-82C4-27968D9692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4. fejeze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rodaautomatizálás, felhasználói alkalmaz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DC21-236C-4609-BE12-7EF38583A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Excel adatbázisok haszná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759280" cy="2403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6040" y="5599080"/>
            <a:ext cx="4258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datok\sorbarendezé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72C-2260-45CE-B181-F197315F53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tok\szűrő\autoszűr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75928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32F-45CA-4DD3-8B0B-466C4F7D70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xcel függvény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759280" cy="38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30F-764E-4AFE-A508-B07DA06B1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ZUM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adja a paraméterlistájában megadott cellá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ÁTLAG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tlagot szá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AX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keresi a paraméterlistájában megadott legnagyobb szám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IN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keresi a paraméterlistájában megadott legkisebb szám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HA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vizsgál egy logikai kifejezést, amely ha igaz, akkor végrehajt valamit, ha nem igaz, akkor egy másik műveletet hajt vé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ZUMHA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UM és a HA függvény keveréke; amennyiben a megadott feltétel igaz, akkor egy megadott tartományban összeg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D1B-7A7B-43EA-8096-6312E63808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6756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KERES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táblázat első oszlopában megkeres egy adott értéket, majd eredményképpen a táblázat egy meghatározott oszlopának az értékét adja viss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ÉSZLET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örlesztési időszakra vonatkozó törlesztési összeget számítja ki állandó nagyságú törlesztő részletek és kamatláb eset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DARAB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számolja, hogy a paraméterlistájában mennyi szám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A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szaadja a mai dátum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S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t logikai művelet ÉS kapcso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VAGY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t logikai művelet VAGY kapcso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D75-77E9-4FA7-92C9-CF7BB59977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tábla részlet függvé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kalmazás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205000"/>
            <a:ext cx="4608360" cy="21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760-E1F2-4B13-B80D-E135AE0BEA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észlet függvény paramétere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759280" cy="37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C0A-8407-4610-8D39-DD886E2927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áblázat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000000"/>
                </a:solidFill>
                <a:latin typeface="Arial"/>
              </a:rPr>
              <a:t>Ráta:</a:t>
            </a:r>
            <a:r>
              <a:rPr b="0" i="1" lang="hu-H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dőszakonkénti kamatlá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000000"/>
                </a:solidFill>
                <a:latin typeface="Arial"/>
              </a:rPr>
              <a:t>Időszakok_száma:</a:t>
            </a:r>
            <a:r>
              <a:rPr b="0" i="1" lang="hu-H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zetési időszakok száma a törlesztési időszakb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000000"/>
                </a:solidFill>
                <a:latin typeface="Arial"/>
              </a:rPr>
              <a:t>Mai_érték</a:t>
            </a:r>
            <a:r>
              <a:rPr b="0" i="1" lang="hu-HU" sz="2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övőbeli kifizetések jelenértéke, a jelenbeli egyösszegű kifizetés, egyenértékű a jövőbeli kifizetések összegé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000000"/>
                </a:solidFill>
                <a:latin typeface="Arial"/>
              </a:rPr>
              <a:t>Jövőbeli_érték:</a:t>
            </a:r>
            <a:r>
              <a:rPr b="0" i="1" lang="hu-H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övőbeli érték vagy az utolsó részlet kifizetése után elérni kívánt összeg. Ha a jövőbeli_értéket elhagyjuk, a program 0-nak tekinti (például egy kölcsön jövőbeli értéke 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000000"/>
                </a:solidFill>
                <a:latin typeface="Arial"/>
              </a:rPr>
              <a:t>Típus:</a:t>
            </a:r>
            <a:r>
              <a:rPr b="0" i="1" lang="hu-H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ke 0 vagy 1; azt mutatja, mikor esedékesek a résztörlesztések.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0 vagy hiányzik: az időszak végén van 1: az időszak kezdeté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7CB-0B07-4580-9A39-BA4C0DD24D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bázis kezelő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ccess adatbázis objektum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ábla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lációs adattábla, amelyben az adatokat tárolják. A tábla sorokból és oszlopokból áll. A sorokat rekordoknak, az oszlopokat mezőknek nevezik. Az oszlopokban az egyedek tulajdonságait tárolják, ezt a mezőnév mutat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Űrlap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datok rekordjainak bevitelére, módosítására, törlésé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kérdezés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áblában tárolt adatok közül lehet kiválogatni azokat, amel-yekre szükség van. A lekérdezés speciálisan megfogalmazott kérdések, fel-tételek összessége. Eredménye származhat egy vagy több adattáblábó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elentés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datbázis adatainak papíron való megjelenítésére a jelentések szolgálnak. A jelentés adatforrása lehet az adattábla, vagy egy lekérdezés eredményhalmaza. Az adatok megjelenítésén kívül részösszegek, vég-összegek, számított képletek is megadhatók. A nyomtatott lapon megadható élőfej, élőláb vagy egyéb grafikus elem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akró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lhasználó gyakran ismétlődő feladatait automatizálja a makró. A makró több műveletet egyetlen parancsba fog össz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odul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sual Basic nyelven eljárásokat, függvényeket lehet készíte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590-008A-4F2F-B614-2CB5DEA370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Dimenzió alapj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épfajtá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Vonalasa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Szürké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Színes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D6D-193C-446F-B635-B0FD4C5F79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émakörö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övegfeldolgoz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áblázatkezelő rendsze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datbázis kezelő rendsze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ámítógépes graf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rezentáció készí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rodaautomatizál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D40-1026-4D01-A8FE-BDA0FD0EAC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nteraktivitás szer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Off-line rajzolá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Interaktív rajzolá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Interaktív terv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ép szerepe szer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Végtermé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Közbülső termé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92D-CE27-4AAD-B92E-8D12E01CBF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ektorgrafikus rajzoló program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ixelgrafikus rajzoló program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15000" y="1835280"/>
            <a:ext cx="1905120" cy="1895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15000" y="4122720"/>
            <a:ext cx="1905120" cy="18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4D9-5F51-4BD3-99AF-0CEE71C0DC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épfelbon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épen belüli képpont-távolságot mutatja. Mértékegysége a képpont/hüvelyk (pixels per inch: ppi). Ha egy kép felbontása 72 ppi, ez azt jelenti, hogy egy négyzethüvelyknyi területen 72*72 = 5184 képpont találhat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gyobb felbontás esetén jobb a kép minősége, azaz több részlet jelenik meg. A képfelbontás elméleti érték, mivel a kép minősége függ a kép fizikai méretétől és a kimeneti eszköz felbontásától 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357-4275-46C1-B982-A4107AA306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zínmélysé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itfelbontás vagy színmélység megmutatja, hogy egy képpont színe hány biten tárolódik, maximálisan hány színt használtak a képben. A nagyobb színmélység több színt, az eredeti kép pontosabb színvisszaadását teszi lehetővé, egyben a képfájl méretét növeli. A 8 bites színmélység esetén 256, a 16 bites (High Color) színmélység esetén 65.536, a 24 bites (True Color) színmélység esetén 16.777.216 szín használható.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662-31E7-4493-96DC-D332F9A896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onitorfelbon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jelenítő eszköz képfelbontását jellemzi. Mértékegysége a dpi (pont/hüvelyk: dot per inch). A monitor felbontása a megjeleníthető kép méretét mutatja, például egy 192 ppi képfelbontású kép egy 96 dpi felbontású monitoron eredeti méretének kétszeresében jelenik meg, mivel a 192 képpontból csak 96 jeleníthető meg a képernyő egy hüvelykjé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BE2-A4DF-4ADF-B11B-8558BDE5A1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Rácsfelbon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gy rácsfrekvencia az egy hüvelykre eső, tónusképzéshez használt elemi egységek számát mutatja. Mértékegysége a vonal/hüvelyk (lines per inch: lpi). Ha egy színes képet fekete-fehérben kell kinyomtatni, vagy a nyomdai feldolgozáshoz alapszíneire kell bontani, fekete-fehér rácsmintát kell használni a színek szimulálásához. A képminőség függ a rácsfelbontástól és a kimeneti eszköz felbontásától. A kimeneti eszköz felbontása jellemzi a kész képet megjelenítő eszköz felbontását.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536-C594-402E-AF86-C66ACD77A4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Vektorgrafikus fájlformátumo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.EPS: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Legelterjedtebb az Encapsulated PostScript formátum, az Adobe fejlesztett ki a 80-as években. Ezt a formátumot a grafikus programok legtöbbje ismeri, a fájlformátumok közti átjárás egyik eszkö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.CDR: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orelDRAW fájlformátu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.WMF: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Windows operációs rendszer vektoros képformátu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EMF: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Elterjedt, általános vektorgrafikus formát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.PDF: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ortable Data Format. Az Adobe Acrobat család fájlformátu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.DWG: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AutoCAD fájlformátu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.DXF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: Az Autodesk fájlformátu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610-CB51-4CFF-BE4A-37123CD6E1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Pixelgrafikus fájlformátumok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BMP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Windows, ill. OS/2 bitmap. A Windows saját bittérképes fájlformátuma, minden Windows alapú rajzolóprogram ismeri. Tömörítetlen bittérkép. Maximum 24 bites színmélységet tárol, kizárólag az operációs rendszer által meghatározott színeket használja. Továbbfejlesztett verziója: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DIB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device-independent bitma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PCX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int, illeve más egyszerű rajzolóprogramokkal készített, tömörítetlen vagy RLE tömörítést használó fájlformátum. Maximum 24 bit/pixel színmélységet haszn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TIF, .TIFF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gged Image File Format, az Aldus cég által kifejlesztett, széles körben elterjedt képformá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JPG, .JPEG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ifejlesztője a Joint Photographic Expert Group. Adatvesztő tömörítési eljárást használó formátum. A tömörítési arány 5:1 és 20:1 közötti. A .JPEG formátum 24 bites színmélységet képes kezelni (több mint 16.7 millió színt). A tömörítési eljárás az emberi szem becsaphatóságán alapul és adatvesztéssel jár. Az Internet elterjedt képfájlformátu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4BF-86B1-4909-8A30-30B3F61B05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78240" indent="-3405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.GIF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raphics Interchange Format. Fejlesztője a Compuserve, maximum 256 színű, vagy 256 fokozatú grayscale. Két verziója van, mindkettő legfeljebb 256 szín tárolására képes. A .GIF87-tel szemben a .GIF89 képes több képkocka egyetlen fájlban való tárolására, az Internetes böngészőkben a lassabb hálózatokon hasznos azonnali megjelenítésre, a kép finomítására alkalmas (interlaced .GIF). Teljes méretben látható a letöltés elején is. Az Interneten gyakori formátum, utóbbi időben visszaszorulóban 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.PNG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ortable Network Graphics. A harmadik fő internetes képfájlformátum. Szabad formátumú internetes fájlformátum, a .GIF formátumot válthatja f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.TGA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arga. Fejlesztője: Truevision. 16/24/32 bit/pixel színmélységet tárolhat. Ipari szabvány, a fontosabb grafikus programok kezel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.MAC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Macintosh számítógépek beépített MacPaint rajzoló programjának fájlformátu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.PSD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dobe Photoshop fájlformátu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87F-BF0A-4F89-B537-DB865E69CB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színes ké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mberi szem kb. a 400-700nm hullámhosszúságú fénytartományra érzékeny, ez a látható fénytartomány. Alatt az ultraibolya, fölötte az infravörös tartomány van. Szemünk a látható spektrumból a kb. 550nm-es zöld színre, majd a vörös és a kék fénysugarakra a legfogékonyabb. A szín és a fényérzékelés attól függ, hogy a rájuk eső fény mely hullámhosszúságú részét nyelik el, verik viss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ínek, színérzet jellemző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ínezet, árnyal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latt értjük, hogy milyen színt érzékelünk (sárga, zöld, kék, st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elített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jelentése, hogy mennyire tiszta a szín, mennyi fehéret tartalmaz. Minél több benne a fehér, annál világosabb, annál fakób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lágosság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ín helyét adja meg, a fekete (0%) és a fehér (100%) között, ami a megvilágítás erősségétől vagy a fekete szín mennyiségétől füg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391-F406-4379-A4B4-A065FFCFDA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iemelt funkci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kezdések szere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HIFT+EN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4797360"/>
            <a:ext cx="86508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D9B-6D31-4B5C-B971-80744C9B63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dditív színkererés, RG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dditív színkeverés alapszínei a vörös (Red), a zöld (Green) és a kék (Blue), azok a színek, amelyekre szemünk a legjobban reagál. Az angol színnevekből jött létre az RGB rövidítés, ami ennek a színkeverésnek a másik n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árom alapszín együtt egyenlő arányban fehér fényt ad. A kék+zöld kombináció kékeszöldet, azaz ciánt, a kék+vörös színek együtt bíbort eredményeznek, míg a vörös+zöld színekből sárga szín jön létre. A kapott kevert színek az alapszínek komplementerei, kiegészítő színei. Két alapszín és a komplementerük együtt mindig fehér színt ad. A vörös komplementere a cián, a zöldé a bíbor, a kéké a sár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D94-944C-4D3B-9E15-EBA8C0E406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zubsztraktív színkeverés, CMY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ubsztraktív színkeverés a cián (Cyan), a bíbor (Magenta) és sárga (Yellow) színekből indul ki. E három színt megfelelő színerővel egymásra nyomtatva feketét kapunk, míg a sárga+bíbor vörös, a cián+sárga zöld, a cián+bíbor pedig kék színt eredményez. Ez a színkeverés az RGB ellentéte. Az alapszínekből előállított fekete szín telítettségének javítására a három alapszín mellé feketét kell keverni. A CMYK rövidítés az angol szakirodalomból származik, ahol a CMY a három alapszín nevének kezdőbetűiből ered. A K betű az angol blacK fekete szóból. Más megfontolás szerint a K betű a Key color, kulcsszín, kifejezésből származik. A nyomdaipar a CMYK eljárást alkalmaz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AE3-3882-4972-97F4-CDCA9ABCA0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éptömörí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eszteségmentes tömörítésko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visszaállított kép minősége azonos az eredetivel. Tömörítéskor elérhető méretcsökkenés a kép tartalmának függvénye. Az átlagos tömörítési arány 1:4–re tehető (pl.: .GI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eszteséges tömöríté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lkalmazásakor a tömörített, majd visszaállított kép minősége rosszabb az eredetinél. A minőségromlás foka a használt tömörítési eljárástól függ. A tömörítési arány kb.: 1:10 körül van (.JPE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483-B4FA-423D-B58D-AF9E6A2B80D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Fractal tömörítés: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eszteséges tömörítés. 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-5-ször jobb tömörítési arányt eredményez, azonos képminőség mellett, mint az előzőekben ismertetett technológiák. 1:45 körüli méretcsökkenést is el lehet vele érni. Az előző példa esetén 800*600 képpontos true color kép esetén 32 Kbyte-ot jelent. A fractal tömörítéssel tömörített fájlokat .FIF fájloknak nevezik (Fractal Image Format). A visszaállítás felbontás független. Az eredetinél nagyobb méretben is visszaállítható a kép, akkor sem lesz “szemcsés”. A módszer hátránya, hogy maga a tömörítés idő- és számolásigényes folyamat, néhány percig is eltarthat. A tömörített képfájlok kicsomagolása gyors, de alul marad a .JPEG kitömörítéssel szemb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FCC-840C-4A77-8688-20FCE68EBF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gelterjedtebb grafikus program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pnézegetők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jelenítésre és képformátumok közötti átalakításra alkalmasak (ACDSee, Picture Viewer, Im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ideóformátumok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ultimédia anyagok lejátszására alkalmasak (AVI, MPEG, ASF, Windows Media Player, Quick Time Movie Play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nimátorok, média-átalakítók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nimációk, multimédiás állományok készítésére, vágására, szinkronozációra alkalmasak (PhotoPaint Animation Shop, Easy CDgrabb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ajzoló programok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okumentumokba, bemutatókba egyszerű ábrák beillesztésére szolgálnak (MS Paintbrush, Gimp, MS Pai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övegszerkesztők és kiadványszerkesztők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omolyabb dokumentumok, kiadványok készítésére alkalmas programok (MS Word, StarOffice, MS Publisher, Quark Xpre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űvészi grafikák, képek készítése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peciális, komplex raszteres és vektoros szolgáltatások (Adobe Photoshop, Corel Dro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űszaki rajzok készítése, 3D megjelenítés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toCAD, ArchiC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4C9-4086-4736-A2A4-0937C04CB8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ülönleges számítógépes grafikai eljár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raktál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atematikai káosz elmélet alapján számítógéppel generált képek. Nincs szükség fraktál archívumokra, mivel a kiinduló paraméterek ismeretében egy adott fraktál mindig újragenerálhat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orp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gyik objektum alakját elveszítve “átfolyik” valami másba. A hatást előállító programok legtöbbje csak kétdimenziós objektumokat képes egymásba átalakítani. Egy háló torzításával kell kijelölni, hogy a forráskép adott területei a célkép mely részeibe transzformálódjana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3D modelle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3 dimenziós modellező programok térbeli tárgyak tervezésére és illusztrációk készítésére alkalmasak, jól használhatók valósághű megjelenítésre. 3D-s képek sorozataként animáció készíthető, a számítógépes reklámgrafika fontos terü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AC2-2A1C-4FBC-B64D-30BC9F83D69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ítógépes graf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ábrázolni kívánt test minden pontjának megvizsgálja a fényforrások és a kamerához viszonyított helyzetét, egy matematikai képlet alapján számolja ki a képpontok színét. Alaphelyzetben nem veszi figyelembe az árnyékokat, a reflexiót, egyéb apróságokat. Gyors, animáció készítésére alkalmas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nimá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ámítógépes animációban a képeket számítógépes grafikai módszerrel állítják elő. Ez lehet rendering vagy morphing. Az animációk rögzíthetők: .FLI, .FLC, .MPEG és .AVI formátumba. A formátumok tömörítenek, azokat a képrészeket tárolják, amelyek különböznek az őket megelőző képkocka ugyanazon helyén lévő adatától. Az .MPEG minőségvesztéssel járó tömörítést valósít me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j és népszerű téma, a filmekben a futurisztikus jellege miatt a legjobban megfogja a számítástechnikában kevésbé jártas nézőket. Játékokban és tervezői programok kiegészítésekor alkalmazzá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0E4-4C33-43F7-B873-42C5C4EE63A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zentáció kész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000000"/>
                </a:solidFill>
                <a:latin typeface="Arial"/>
              </a:rPr>
              <a:t>Dianézete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000000"/>
                </a:solidFill>
                <a:latin typeface="Arial"/>
              </a:rPr>
              <a:t>Normál nézet:</a:t>
            </a: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apértelmezett nézet három ablaktáblát tartalmaz: egyszerre lehet dolgozni a vázlat, a dia és a jegyzet táblákb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000000"/>
                </a:solidFill>
                <a:latin typeface="Arial"/>
              </a:rPr>
              <a:t>Diarendező nézet:</a:t>
            </a: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diarendező nézetben egyszerre tekinthető meg a bemutató diái, egérkattintással a kívánt diára lehet ugrani, illetve kijelöléssel és az egér húzásával egyszerűen megváltoztatható a diák sorrend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000000"/>
                </a:solidFill>
                <a:latin typeface="Arial"/>
              </a:rPr>
              <a:t>Jegyzetoldal-nézet:</a:t>
            </a:r>
            <a:r>
              <a:rPr b="0" i="1" lang="hu-H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egyes diához kísérő jegyzetoldal tartozik, amely a dia kicsinyített mását tartalmazza, valamint elegendő helyet ahhoz, hogy jegyzeteket lehessen írni a lapra. A jegyzetek kinyomtathatók, majd segítségükkel emlékezetbe idézhetők a mondanivaló főbb pontjai a bemutató során.</a:t>
            </a: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163-D1C1-47B6-96EE-AAD78850314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zentáció kész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Új bemutató készítési lehetőség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Üres bemutató létrehoz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ablonok haszná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Vázlat használata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adástervező Varázsló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Létező bemutató megnyitása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szerre több bemutató is megnyitható, az Ablak menü segítségével át lehet lépni egyikből a másik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D5E-B94E-4B31-82B4-EFD1709EAF0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zentáció kész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E13-6EDF-4620-A602-F4B57A1E511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utomatikus helyesírás-ellenőrz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727-6A75-4767-8530-8018D04616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zentáció kész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emutató nyom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775280" cy="37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3DF-27EA-4C2A-9604-D333E07E86E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zentáció kész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eépített rajzobjektumok választási lehetősége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382-D01C-4452-92C8-FE146E53432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zentáció kész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onalak rajzolási lehetőség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0647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B34-A318-4506-8D6E-168B26B02A9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zentáció kész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ajzobjektumok kez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pt2korder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3673440" cy="1422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63640" y="407664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580000" y="2276640"/>
            <a:ext cx="2405160" cy="37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93A-8A00-4D4A-B3B9-D54172BD847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zentáció kész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ia színválaszté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48836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1D2-C949-450F-928A-E832B880E5A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zentáció kész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ta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37863" t="35652" r="24192" b="28824"/>
          <a:stretch/>
        </p:blipFill>
        <p:spPr>
          <a:xfrm>
            <a:off x="1547640" y="2133720"/>
            <a:ext cx="597708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D8F-ED4D-4E24-A9D6-FDC4624588B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ezentáció kész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ajzobjektum színe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rajzolás eszköztár vonalszín ikon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itöltő szín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Árnyék stílus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övegdoboz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nimálási effektusok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nimálási sémák funkció választásá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Word táblázat beszúrása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anézetben Beszúrás\táblá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iavetítés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ézet\diavetí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720720" cy="495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492360" y="2637000"/>
            <a:ext cx="719280" cy="49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771640" y="3141720"/>
            <a:ext cx="654120" cy="6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129-34B1-4CF4-9E56-3F285AAF08D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 hagyományos irodai funkciók problémá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Elektronikus iro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utomatizált iro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B78-8D20-4A61-B3E2-21B5DD08F13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 hagyományos iroda funkció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íratok érkezteté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ktatás, előzményez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táridőzés, kiszignálá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zbesítő-átadójegyzékek készítése, elosztá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élemények, javaslatok bekéré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táridő figyel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gykövet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tározathozatal, lezárás, elintéz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adványozás, expediálá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rattárolás, selejtez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668-0621-4432-8F40-A5E1290ED2C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z automatizált iroda főbb funkció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gyiratbevit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mítógépes iktatá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rattárolás, dokumentumkezelő rendszer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rchiválá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ratkészít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ektronikus aláírá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ektronikus levelez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ektronikus adatcse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gymenet kezelés (workflow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édelmi rendsz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8C5-B33D-41C8-B302-45FF61A1F3C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20072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AD2-EDE0-4EE4-95DA-8920E6F2AA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unkafolyamat-automatizálási rendsz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ögzíti az ügymeneteke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tomatikusan kezeli az ügyfél halmaz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lenőrizhetővé, átláthatóvá teszi az irodai folyamatok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ényegesen olcsóbb és gyorsabb a bevezetésük egy új információrendszer elkészítéséhez ké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CBC-47CE-4AA8-8EC3-021B53611B9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workflow a munkafolyamat-vezérlő program rév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kalmas modellezett eljárások értelmezésé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unkafolyamatok résztvevőinek összekapcsolásá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felelő információtechnológiai eszközök és alkalmazások integrálásá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83C-6B8C-42A0-86EF-0E536A2FC47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orkflow management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gyviteli folyamatirányítás, ügymenet-irányítás, ügyviteli folyamat-menedz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rodai rendszerek elemzésé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rvezésé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okumentálására kidolgozo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fogó, strukturált módszert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olyamatorientált tervezést részesíti előnyb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B32-DAE2-48C8-B7E0-64D808E1560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Workflow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irodára specifikált rendszerszervezési módszertan, amellyel a teljes iroda vagy az irodán belüli folyamatok logikai modellje megalkothat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olyan CASE eszköz, amely közvetlen kapcsolatot teremt a fejlesztő és az iroda keretrendszere között, segítségével a logikai modell fizikai modellé alakítható, egyben realizálható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C9A-3131-4EA2-B199-0B13DFE2D45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000000"/>
                </a:solidFill>
                <a:latin typeface="Arial"/>
              </a:rPr>
              <a:t>Irodai rendszerek fejlődési szakasz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. generác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rodai tevékenységeket manuális eszközökkel valósították me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zonyos tevékenységeket kiváltottak cél-automatákk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. gener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vékenységek számítógépes kiszolgálása megvalósul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hetővé vált az íratok elektronikus tárolása, párhuzamosan a papírmásolatokk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ommunikáció továbbra is alapvetően szóban tört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gymenetkezelés időnként nehézkessé vált a vegyes rendszer és a gyakori programhibák mia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185-35DC-4A2C-86B1-C4C987D0C33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3. generác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cc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ámítógépes hálózatok kialakítása nagy előrelépést jelentett az iroda automatizálásának irányáb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cc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inte mindent meg lehetett oldani, „barkácsolással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cc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orszerű megoldások sem voltak a külvilág számára szabványos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4. gener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cc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ljes megoldást kínáltak az egyedi megvalósítás helyet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cc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gyes gyártók által kidolgozott megoldások zárt rendszert jelenten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cc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bb rendszer összekapcsolása nehézk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EFB-F0A2-4E1B-83B6-85CEF537540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5. generáci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apvető változást jelent az új technikai lehetőségek integrálása és a nemzetközi szabványok figyelembe véte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ármilyen rendszer bárhonnan elérhető és gond nélkül összekapcsolható egy másik rendszerr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B6F-1A16-4F4F-8B8D-3F64095C34D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ntegrált irodai rendsze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4. generációtól kezdve az irodaautomatizálási rendszerek megnevezésére az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tegrált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odai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ndszerek (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II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ifejezést is használjá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ek a rendszerek általában több alrendszerből épülnek f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es modulok az automatizált iroda funkcióit valósítják me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749-D197-40F2-A7C8-ECF36370B36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z IIR moduljait csoportba lehet sorol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rodai program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gyes irodai tevékenységeket végrehajtó programok. Office programok (szövegszerkesztő, táblázatkezelő, stb), egyedi fejlesztésű program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roupware eszközö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csoportmunkát és a kommunikációt megvalósító programok. Hálózat, internet hozzáférés, elektronikus levelezé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telefax, csoportnaptárak, EDI (elektronikus adatcse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8DB-B944-48A2-B787-39381F362C7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okumentum- és adatkezelő rendsze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rattárolást és az adattárolást megvalósító és segítő programok. Az irodai rendszerek legfontosabb részét képezik. Irattárolás, archiválás, iktatás, adatbázis-kezel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orkflow rendsz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gymenetkezelést megvalósító és működtető programok. Ügymenetvezérlés, eseménykövetés, naplóz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547-D9D6-40B5-8481-E632751BFAA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abuláto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48000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C72-0C29-4F58-8ED2-8CD1E90E40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lvárások egy automatizált irodai rendszerrel szem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IR moduljai egy egységes ún. keretrendszerre építhetők f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automatizált irodai alkalmazás megvalósításához három területet meghatározása szüksé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rodai rendszer architekturális felépít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kalmazni kívánt szoftver eszközö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rodai rendszer kialakításának hardvereszköz igény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62F-42BB-4258-BA00-FB936E8DC3F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Jellegzetes irodai rendszer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Első próbálkozások, kliensprogam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RAMEWORK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ső próbálkozás az integrált irodai munka megvalósítására. Tartalmazott szövegszerkesztőt, táblázatkezelőt, adatbázis-kezelőt, grafikák, ábrák készítését  támogatta. Nem támogatta a csoportos munkát, nem volt kommunikációs kapcsolata a külvilágg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RISMA OFFICE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S WORKS programhoz hasonlító szövegszerkesztő. Tartalmaz adatbázis-kezelőt és beépített elektronikus levelezést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CROSOFT WORK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rtalmaz szövegszerkesztőt, táblázatkezelőt, adatbázis-kezelőt, modemkezelést, és hívható belőle elektronikus levelez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FFICE PROGRAMOK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ggyakoribb irodai tevékenységek megvalósíthatók, a legismertebb programcsomag az irodákb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902-0E32-457D-875F-929034007D1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Csoportmunka támogat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INDOWS 3.1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odem segítségével lehetőséget biztosít távoli számítógépre való bejelentkezés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INDOWS FOR WORKGROUP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ztosít megosztható dokumentumkezelést, erőforrások megosztását, kommunikációs lehetőséget, elektronikus levelezést, fax-, modemillesztést, csoportnaptár használat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INDOWS 95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ommunikációs lehetőségek bővültek, alkalmazhatók iratgyűjtők, tárcsázó használható, internet hozzáférés biztosíto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58E-A3FC-4E30-BFC8-5B4DCAEB761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000000"/>
                </a:solidFill>
                <a:latin typeface="Arial"/>
              </a:rPr>
              <a:t>Integrált irodai rendszere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BULL OFFICE TEAM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odulszerűen felépíthető, UNIX platformon működő, kliens/szerver architektúrájú integrált rendsz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IGITAL LINKWORKS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rodai munkák számára kifejlesztett objektumorientált alkalmazás, felhasználói oldalon grafikus felületet használ, a szerver oldal biztosítja az adatkezelést, adatbiztonságot. Kialakítható az írat- és eljáráskészlet, meghatározhatók iratkezelési- és ügymeneti módok. A felhasználók a megszokott szövegszerkesztőt, táblázatkezelőt, egyéb alkalmazást integrálhatják a rendszerbe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CL TEAMWARE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liens/szerver alapú irodaautomatizálási rendsz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2A3-3444-4EA5-815E-987A7A019A4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BM FLOWMARK rendszere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bjektumorientált fejlesztőeszköz, grafikus felhasználói felülettel, interaktív kezelő rendszerr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endszerszervezésben egy konkrét integrált alkalmazásfejlesztő eszköznek tekinthető. Kliens/szerver koncepcióra épü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OTUS NOTE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gismertebb és legelterjedtebb integrált irodai rendsz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liens/szerver felépítésű, irodai munkák elvégzésére tervezett keretrendsz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rtalmaz fejlesztő és futtató környezetet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éleskörűen használható, működik a legismertebb platformokon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381-573C-4EF9-959E-7B1C6F6846E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OTUS NOTES legfontosabb tulajdonság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okumentum-nyilvántartás és –keresé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datbázis az egyéni igényeknek megfelelő struktúrában tárolja a dokumentumok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okumentumok tetszőleges szoftverrel készülhetnek, tartalmazhatnak szöveget, képet, táblázatot, stb. A dokumentumok az azonosító mezők alapján gyorsan visszakereshető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ljes fejlesztő eszközkészlet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finiálhatók űrlapok, adatmezők, adatcserék más alkalmazásokkal, létrehozható automatikus ügyme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eépített elektronikus levelezé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ljes beépített levelezési rendszert tartalmaz, bármely alkalmazásból használhat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sszekapcsolható más levelezőrendszerekk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axot lehet küldeni és foga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E72-4FC4-49C5-AC6B-04BA108310B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eplikációs technológia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ülönböző helyeken működő Notes alkalmazások ugyanazon adatokat tartalmazzák, az adatbázis tartalma az egyes szerverek között automatikusan frissítődi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eplikáció során nemcsak az adatok, hanem a hozzáférési jogok és a fejlesztés során létrejövő változások is szinkronizálódnak a teljes rendszeren belü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iztonsági rendszer: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datbázisokhoz 7 szintű hozzáférési jogokat lehet definiálni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endszerfelügyelet: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endszergazda helyben és távolról is képes felügyelni a szerver működésé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rafikus rendszer-felügyeleti eszközt tud használ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2F3-CCA6-4D9E-81D2-B00C9C5D047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nternet kapcsolat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otes kapcsolódhat az internethez, a szerver használható internet információ szolgáltatásra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Ügymenetkezelé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dható a dokumentum útja, figyelhető az egyes folyamatok állása, a rendszer automatikusan is figyelmeztetheti a felhasználó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rafikus ügymenettervező is beépíthető a rendszer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apíralapú dokumentumok kezelése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otes segítségével a papírdokumentumok elektronikus képpé alakíthatók, megtekinthetők, módosítható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3E1-E21F-4A6E-AF25-303ABDBB2AE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Workflow rendsze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workflow programcsomaggal az egyének vagy a csoportok egy adott cég üzleti céljai érdekében strukturált vagy strukturálatlan környezetben kezelhetnek ismétlődő, vagy nem ismétlődő esemény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0A6-3EEB-4F82-8523-4900DA5EE6B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éhány workflow ren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EYFLOW: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unkafolyamatok tervezése grafikus felületen történ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TAFFWARE WORKFLOW: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liens/szerver alapú rendsz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endszer fontosabb összetevői: grafikus workflow tervező, munkalaptervező, személyi workflow, konszolidált workflow kezelő, vezetői rendsz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ULTIMUS WORKFLOW ON THE WEB: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rafikus modellező felülettel rendelkező szoft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erneten keresztül üzemeltethető munkafolyamat-kezelő rendszerrel rendelkezi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250-4315-4C18-9057-757B36177F9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lőfej és élőlá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ltérő élőfej létrehozása az első oldal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ézet\élőfej és élőláb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dalbeállítás; elrendezés; első oldal eltérő;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ltérő élőfej létrehozása páros és páratlan oldal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ézet\élőfej és élőláb;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dalbeállítás; elrendezés; páros és páratlan eltérő;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79B-F588-40D1-B7E0-2FAD83C875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rodaautomatizá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z irodaautomatizálás emberi tényez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igyelembe kell venni, hogy az irodában emberek dolgozna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k üzemeltetik az új rendsz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mberek a változást sokszor szorongással élik me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élnek az ismeretlentől, a kihívásoktól, egzisztenciális bizonytalansá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talomféltés, a kiharcolt posztok elvesztésének lehetősé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blémák megoldása nagyon nehé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e kell mutatni a dolgozóknak a jelenlegi rendszer buktató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 kell magyarázni a változás szükségszerűségé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e kell mutatni, mit várhatnak a dolgozók az új rendszertő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re képes, mennyivel gyorsabb, hatékonyabb az új rendsz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nnyivel egyszerűsödik a munka az új rendszer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átalakítás pontos munkát igényel, sok nehézséggel já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 kell dolgozni, kit, milyen jellegű képzésben kell részesíteni, hogy megfelelően képes legyen használni az új rendsz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4A8-B661-42F5-B010-29936404029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övegfeldolg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Fejezetenként vagy szakaszonként eltérő élőfej és élőlá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ézet\élőfej és élőlá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kasz kijelöl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onos az előzővel kijelölés megszűntet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Új élőfej és élőláb megad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Élőfej és élőláb törlé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kasz kijelöl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ézet\élőfej és élőlá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rölni kívánt élőfej, élőláb kijelöl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F85-E507-4D90-9318-30369C42EB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erdon Miklós</cp:lastModifiedBy>
  <dcterms:modified xsi:type="dcterms:W3CDTF">2006-10-25T07:55:34Z</dcterms:modified>
  <cp:revision>145</cp:revision>
  <dc:subject/>
  <dc:title>PowerPoint bemutató</dc:title>
</cp:coreProperties>
</file>