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C54E-2FB0-4AF0-818C-8DA5A51E721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CÍMDIA: logó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futóláb: hefop, témakör, diaszá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Gyakran olyan hallgatóságnak kell szakmai előadást tartani, amely nem ismeri a témát vagy a szakszavakat. Az anyag esetleg összetett és rengeteg adatot tartalmaz. A hatékony előadáshoz alkalmazzuk a Dale Carnegie Training® által kialakított irányelvek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Vegyük figyelembe a rendelkezésre álló időt és rendszerezzük megfelelően a tananyagot. Szűkítsük le a témakört. Osszuk fel a bemutatót világosan elkülönített részekre. Állítsunk fel logikus sorrendet. Végig egy témára összpontosítsunk. A bemutatót összefoglalással zárjuk, ismételjük meg a fontos lépéseket vagy vonjunk le következteté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e feledkezzünk el a hallgatóságról. Fontos például, hogy az adatok érthetőek és lényegesek legyenek a téma szempontjából. Az adatok és a szakszavak mennyiségét igazítsuk a hallgatósághoz. A fontosabb pontok és lépések magyarázatához használjunk szemléltetőeszközöket. Mindig tartsuk szem előtt a hallgatóság igényeit, és akkor képesebbek lesznek az elhangzottak befogadásá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0546-BE6E-48B5-BCAC-3F8DE95E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BEA6-D113-4B78-89D5-7EF32A6A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DDBD-4E3E-4D94-9955-B58EB05F5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4D0D-544F-4F65-8B24-94AE3E7E8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DA60-9717-4ABE-B428-0DCF8324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56FF-3ED0-458F-977B-A3BFEADF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2986-338F-4BDD-A8D0-AB26E0FE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FEEC-D1A5-4A3D-8C10-6928C52B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8A67-5B96-497C-84B2-CEEDC406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6B64-8F16-4F6F-B0CA-6CF7D941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13DA-F5F1-4CDC-ADF3-7078F295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284B-EC9F-462F-82FD-9B62A383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5CC4-6809-4A89-97C9-9FAC6403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6F64-4B5F-44C6-8DC8-F3FB0872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8868-9747-42BA-AD92-475A8E76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2536-7E7B-4307-8513-1C171B5EA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0BD5-73A5-4630-9E1C-0AF46ECE3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A271-9605-4532-9BE2-21DCFC43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B978-6894-4018-AB17-7F62FF9C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CB45-6C54-45F5-A9DF-6C779B78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3404-6600-43B8-ADFC-4F5108D6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87F2-3F2B-4806-9810-3DD61A42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8143-7180-4421-9109-FDC28CB6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C3CE-8F54-41D5-AC43-C6D1D2C5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0073-D7AA-4914-A9F6-442E2A78F5D1}" type="slidenum"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6138720"/>
            <a:ext cx="1403280" cy="719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101080" y="0"/>
            <a:ext cx="1042920" cy="104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916000" y="6248520"/>
            <a:ext cx="310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ff0000"/>
                </a:solidFill>
                <a:latin typeface="Times New Roman"/>
              </a:rPr>
              <a:t>&lt;footer&gt;</a:t>
            </a:r>
            <a:r>
              <a:rPr b="1" lang="hu-HU" sz="1000" spc="-1" strike="noStrike">
                <a:solidFill>
                  <a:srgbClr val="ff0000"/>
                </a:solidFill>
                <a:latin typeface="Times New Roman"/>
              </a:rPr>
              <a:t>A projekt az Európai Unió társfinanszírozásával, az Európa terv keretében valósul meg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DA25-27E4-4B4B-BF7B-BEC0754E4152}" type="slidenum"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1123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2195640" cy="906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524720" y="119700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330066"/>
                </a:solidFill>
                <a:latin typeface="Arial"/>
              </a:rPr>
              <a:t>Informatika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Dr. Herdon Mikló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Dr. Fazekasné dr. Kis Má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Magó Zso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Debreceni Egye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Németh Zolt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Budapesti Corvinus Egye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Neumann-elv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Szerkezeti elv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eljesen elektronikus működé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(logikai áramkörök alkalmazás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felépítés: CPU + ALU + MEM + I/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Működési elv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kettes számrendszer és Boole-algeb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soros utasítás-végrehajtá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árolt program el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Kettes számrendsz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lapszám: 2, számjegyek: 0, 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műveletek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12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0066"/>
                </a:solidFill>
                <a:latin typeface="Arial"/>
              </a:rPr>
              <a:t>összead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7600" indent="-284760">
              <a:lnSpc>
                <a:spcPct val="12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+0=0, 0+1=, 1+0=1, 1+1 =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12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0066"/>
                </a:solidFill>
                <a:latin typeface="Arial"/>
              </a:rPr>
              <a:t>kivon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komplementer összeadás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7600" indent="-284760">
              <a:lnSpc>
                <a:spcPct val="12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1-es komplemen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X</a:t>
            </a:r>
            <a:r>
              <a:rPr b="0" lang="hu-HU" sz="1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hu-HU" sz="1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K1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=11..11</a:t>
            </a:r>
            <a:r>
              <a:rPr b="0" lang="hu-HU" sz="1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42720" indent="-283320">
              <a:lnSpc>
                <a:spcPct val="12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technikailag: jegyenként az ellenkező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57600" indent="-284760">
              <a:lnSpc>
                <a:spcPct val="12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2-es komplemen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X</a:t>
            </a:r>
            <a:r>
              <a:rPr b="0" lang="hu-HU" sz="1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hu-HU" sz="1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K2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=10..00</a:t>
            </a:r>
            <a:r>
              <a:rPr b="0" lang="hu-HU" sz="1800" spc="-1" strike="noStrike" baseline="30000">
                <a:solidFill>
                  <a:srgbClr val="000000"/>
                </a:solidFill>
                <a:latin typeface="Arial"/>
              </a:rPr>
              <a:t>(n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42720" indent="-283320">
              <a:lnSpc>
                <a:spcPct val="12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technikailag: </a:t>
            </a:r>
            <a:r>
              <a:rPr b="1" lang="hu-HU" sz="1600" spc="-1" strike="noStrike">
                <a:solidFill>
                  <a:srgbClr val="330066"/>
                </a:solidFill>
                <a:latin typeface="Arial"/>
              </a:rPr>
              <a:t>X</a:t>
            </a:r>
            <a:r>
              <a:rPr b="1" lang="hu-HU" sz="1600" spc="-1" strike="noStrike" baseline="-25000">
                <a:solidFill>
                  <a:srgbClr val="330066"/>
                </a:solidFill>
                <a:latin typeface="Arial"/>
              </a:rPr>
              <a:t>K2</a:t>
            </a:r>
            <a:r>
              <a:rPr b="1" lang="hu-HU" sz="1600" spc="-1" strike="noStrike">
                <a:solidFill>
                  <a:srgbClr val="330066"/>
                </a:solidFill>
                <a:latin typeface="Arial"/>
              </a:rPr>
              <a:t>=X</a:t>
            </a:r>
            <a:r>
              <a:rPr b="1" lang="hu-HU" sz="1600" spc="-1" strike="noStrike" baseline="-25000">
                <a:solidFill>
                  <a:srgbClr val="330066"/>
                </a:solidFill>
                <a:latin typeface="Arial"/>
              </a:rPr>
              <a:t>K1</a:t>
            </a:r>
            <a:r>
              <a:rPr b="1" lang="hu-HU" sz="1600" spc="-1" strike="noStrike">
                <a:solidFill>
                  <a:srgbClr val="330066"/>
                </a:solidFill>
                <a:latin typeface="Arial"/>
              </a:rPr>
              <a:t>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57600" indent="-284760">
              <a:lnSpc>
                <a:spcPct val="12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A-B </a:t>
            </a:r>
            <a:r>
              <a:rPr b="0" lang="hu-HU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 A+B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K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7600" indent="-284760">
              <a:lnSpc>
                <a:spcPct val="120000"/>
              </a:lnSpc>
              <a:spcBef>
                <a:spcPts val="37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jelentősége: minden művelet visszavezethető összeadásra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Boole-algeb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állításokkal végzett logikai műveletek eredményét rögzít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állítás: egyértelműen eldönthető, hogy IGAZ vagy HAM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művelet: logikai értékekhez rendel logikai érté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lapműveletek: </a:t>
            </a:r>
            <a:r>
              <a:rPr b="0" lang="hu-HU" sz="2100" spc="-1" strike="noStrike">
                <a:solidFill>
                  <a:srgbClr val="330066"/>
                </a:solidFill>
                <a:latin typeface="Arial"/>
              </a:rPr>
              <a:t>ÉS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(AND), </a:t>
            </a:r>
            <a:r>
              <a:rPr b="0" lang="hu-HU" sz="2100" spc="-1" strike="noStrike">
                <a:solidFill>
                  <a:srgbClr val="330066"/>
                </a:solidFill>
                <a:latin typeface="Arial"/>
              </a:rPr>
              <a:t>VAGY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(OR), </a:t>
            </a:r>
            <a:r>
              <a:rPr b="0" lang="hu-HU" sz="2100" spc="-1" strike="noStrike">
                <a:solidFill>
                  <a:srgbClr val="330066"/>
                </a:solidFill>
                <a:latin typeface="Arial"/>
              </a:rPr>
              <a:t>NEM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(NO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kizáró vagy (XO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lkalmazás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logikai kifejezések kiértékelhetők logikai állítások kiértékelésének sorozataké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kiértékelés: igazság-táblával, predikátum-kalkuluss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lkalmazása: kapuáramkörö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Neumann-elv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CPU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: központi vezérlő egysé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utasítás-értelmezés, végrehajtás, vezér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y időben egy tevékenység 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soros működ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ALU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: aritmetikai és logikai egysé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űveletvégz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kettes számrendsze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logika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lapműveletek (ÉS, VAGY,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MEM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: memó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árol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onos méretű sorszámozott részek („rekesz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ységes szerkezet az adatok és a program-utasítások számára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tárolt program e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I/O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: be- és kiviteli eszközö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apcsolattartás a felhasználóval és esetleges további (külső) eszközökkel („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perifériá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számítógép felépíté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CPU + ALU = (mikro)processz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memó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I/O vezérlő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hu-HU" sz="3000" spc="-1" strike="noStrike">
                <a:solidFill>
                  <a:srgbClr val="330066"/>
                </a:solidFill>
                <a:latin typeface="Arial"/>
              </a:rPr>
              <a:t>sínrendsz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 egyes komponensek közti összeköttetést biztosító vezeték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funkció szerint: belső, memória, külső (rendsze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információ jellege szerint: adat-, cím-, vezérlő-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812000" y="1989000"/>
            <a:ext cx="432000" cy="3961080"/>
          </a:xfrm>
          <a:custGeom>
            <a:avLst/>
            <a:gdLst>
              <a:gd name="textAreaLeft" fmla="*/ 0 w 432000"/>
              <a:gd name="textAreaRight" fmla="*/ 155880 w 432000"/>
              <a:gd name="textAreaTop" fmla="*/ 102960 h 3961080"/>
              <a:gd name="textAreaBottom" fmla="*/ 3858120 h 396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5400000">
            <a:off x="6327720" y="3530880"/>
            <a:ext cx="4538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alap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(órajel-generátor, akku, slotok, stb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számítógép elvi vázl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971640" y="2060640"/>
            <a:ext cx="7416360" cy="4146840"/>
            <a:chOff x="971640" y="2060640"/>
            <a:chExt cx="7416360" cy="4146840"/>
          </a:xfrm>
        </p:grpSpPr>
        <p:sp>
          <p:nvSpPr>
            <p:cNvPr id="425" name=""/>
            <p:cNvSpPr/>
            <p:nvPr/>
          </p:nvSpPr>
          <p:spPr>
            <a:xfrm>
              <a:off x="971640" y="3231720"/>
              <a:ext cx="1728360" cy="97236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AL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396600" y="3231720"/>
              <a:ext cx="2649960" cy="97236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hu-HU" sz="3200" spc="-1" strike="noStrike">
                  <a:solidFill>
                    <a:srgbClr val="000000"/>
                  </a:solidFill>
                  <a:latin typeface="Arial"/>
                </a:rPr>
                <a:t>ME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59640" y="3231720"/>
              <a:ext cx="1728360" cy="97236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/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219320" y="4215960"/>
              <a:ext cx="6951240" cy="1065240"/>
            </a:xfrm>
            <a:custGeom>
              <a:avLst/>
              <a:gdLst/>
              <a:ahLst/>
              <a:rect l="l" t="t" r="r" b="b"/>
              <a:pathLst>
                <a:path w="4513" h="811">
                  <a:moveTo>
                    <a:pt x="192" y="0"/>
                  </a:moveTo>
                  <a:lnTo>
                    <a:pt x="192" y="378"/>
                  </a:lnTo>
                  <a:lnTo>
                    <a:pt x="144" y="378"/>
                  </a:lnTo>
                  <a:lnTo>
                    <a:pt x="240" y="540"/>
                  </a:lnTo>
                  <a:lnTo>
                    <a:pt x="0" y="540"/>
                  </a:lnTo>
                  <a:lnTo>
                    <a:pt x="0" y="810"/>
                  </a:lnTo>
                  <a:lnTo>
                    <a:pt x="4512" y="810"/>
                  </a:lnTo>
                  <a:lnTo>
                    <a:pt x="4512" y="540"/>
                  </a:lnTo>
                  <a:lnTo>
                    <a:pt x="3744" y="540"/>
                  </a:lnTo>
                  <a:lnTo>
                    <a:pt x="3744" y="162"/>
                  </a:lnTo>
                  <a:lnTo>
                    <a:pt x="3792" y="162"/>
                  </a:lnTo>
                  <a:lnTo>
                    <a:pt x="3696" y="0"/>
                  </a:lnTo>
                  <a:lnTo>
                    <a:pt x="3648" y="0"/>
                  </a:lnTo>
                  <a:lnTo>
                    <a:pt x="3552" y="162"/>
                  </a:lnTo>
                  <a:lnTo>
                    <a:pt x="3600" y="162"/>
                  </a:lnTo>
                  <a:lnTo>
                    <a:pt x="3600" y="540"/>
                  </a:lnTo>
                  <a:lnTo>
                    <a:pt x="1824" y="540"/>
                  </a:lnTo>
                  <a:lnTo>
                    <a:pt x="1824" y="162"/>
                  </a:lnTo>
                  <a:lnTo>
                    <a:pt x="1872" y="162"/>
                  </a:lnTo>
                  <a:lnTo>
                    <a:pt x="1776" y="0"/>
                  </a:lnTo>
                  <a:lnTo>
                    <a:pt x="1728" y="0"/>
                  </a:lnTo>
                  <a:lnTo>
                    <a:pt x="1632" y="162"/>
                  </a:lnTo>
                  <a:lnTo>
                    <a:pt x="1680" y="162"/>
                  </a:lnTo>
                  <a:lnTo>
                    <a:pt x="1680" y="540"/>
                  </a:lnTo>
                  <a:lnTo>
                    <a:pt x="288" y="540"/>
                  </a:lnTo>
                  <a:lnTo>
                    <a:pt x="384" y="378"/>
                  </a:lnTo>
                  <a:lnTo>
                    <a:pt x="336" y="378"/>
                  </a:lnTo>
                  <a:lnTo>
                    <a:pt x="336" y="0"/>
                  </a:lnTo>
                  <a:lnTo>
                    <a:pt x="192" y="0"/>
                  </a:lnTo>
                </a:path>
              </a:pathLst>
            </a:custGeom>
            <a:solidFill>
              <a:srgbClr val="7e9c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19320" y="4215960"/>
              <a:ext cx="6951240" cy="1917720"/>
            </a:xfrm>
            <a:custGeom>
              <a:avLst/>
              <a:gdLst/>
              <a:ahLst/>
              <a:rect l="l" t="t" r="r" b="b"/>
              <a:pathLst>
                <a:path w="4513" h="1459">
                  <a:moveTo>
                    <a:pt x="816" y="0"/>
                  </a:moveTo>
                  <a:lnTo>
                    <a:pt x="720" y="162"/>
                  </a:lnTo>
                  <a:lnTo>
                    <a:pt x="768" y="162"/>
                  </a:lnTo>
                  <a:lnTo>
                    <a:pt x="768" y="1026"/>
                  </a:lnTo>
                  <a:lnTo>
                    <a:pt x="720" y="1026"/>
                  </a:lnTo>
                  <a:lnTo>
                    <a:pt x="816" y="1188"/>
                  </a:lnTo>
                  <a:lnTo>
                    <a:pt x="0" y="1188"/>
                  </a:lnTo>
                  <a:lnTo>
                    <a:pt x="0" y="1458"/>
                  </a:lnTo>
                  <a:lnTo>
                    <a:pt x="4512" y="1458"/>
                  </a:lnTo>
                  <a:lnTo>
                    <a:pt x="4512" y="1188"/>
                  </a:lnTo>
                  <a:lnTo>
                    <a:pt x="4224" y="1188"/>
                  </a:lnTo>
                  <a:lnTo>
                    <a:pt x="4320" y="1026"/>
                  </a:lnTo>
                  <a:lnTo>
                    <a:pt x="4272" y="1026"/>
                  </a:lnTo>
                  <a:lnTo>
                    <a:pt x="4272" y="162"/>
                  </a:lnTo>
                  <a:lnTo>
                    <a:pt x="4320" y="162"/>
                  </a:lnTo>
                  <a:lnTo>
                    <a:pt x="4224" y="0"/>
                  </a:lnTo>
                  <a:lnTo>
                    <a:pt x="4176" y="0"/>
                  </a:lnTo>
                  <a:lnTo>
                    <a:pt x="4080" y="162"/>
                  </a:lnTo>
                  <a:lnTo>
                    <a:pt x="4128" y="162"/>
                  </a:lnTo>
                  <a:lnTo>
                    <a:pt x="4128" y="1026"/>
                  </a:lnTo>
                  <a:lnTo>
                    <a:pt x="4080" y="1026"/>
                  </a:lnTo>
                  <a:lnTo>
                    <a:pt x="4176" y="1188"/>
                  </a:lnTo>
                  <a:lnTo>
                    <a:pt x="2448" y="1188"/>
                  </a:lnTo>
                  <a:lnTo>
                    <a:pt x="2352" y="1188"/>
                  </a:lnTo>
                  <a:lnTo>
                    <a:pt x="2448" y="1026"/>
                  </a:lnTo>
                  <a:lnTo>
                    <a:pt x="2400" y="1026"/>
                  </a:lnTo>
                  <a:lnTo>
                    <a:pt x="2400" y="162"/>
                  </a:lnTo>
                  <a:lnTo>
                    <a:pt x="2448" y="162"/>
                  </a:lnTo>
                  <a:lnTo>
                    <a:pt x="2352" y="0"/>
                  </a:lnTo>
                  <a:lnTo>
                    <a:pt x="2304" y="0"/>
                  </a:lnTo>
                  <a:lnTo>
                    <a:pt x="2208" y="162"/>
                  </a:lnTo>
                  <a:lnTo>
                    <a:pt x="2256" y="162"/>
                  </a:lnTo>
                  <a:lnTo>
                    <a:pt x="2256" y="1026"/>
                  </a:lnTo>
                  <a:lnTo>
                    <a:pt x="2208" y="1026"/>
                  </a:lnTo>
                  <a:lnTo>
                    <a:pt x="2304" y="1188"/>
                  </a:lnTo>
                  <a:lnTo>
                    <a:pt x="864" y="1188"/>
                  </a:lnTo>
                  <a:lnTo>
                    <a:pt x="960" y="1026"/>
                  </a:lnTo>
                  <a:lnTo>
                    <a:pt x="912" y="1026"/>
                  </a:lnTo>
                  <a:lnTo>
                    <a:pt x="912" y="162"/>
                  </a:lnTo>
                  <a:lnTo>
                    <a:pt x="960" y="162"/>
                  </a:lnTo>
                  <a:lnTo>
                    <a:pt x="864" y="0"/>
                  </a:lnTo>
                  <a:lnTo>
                    <a:pt x="816" y="0"/>
                  </a:lnTo>
                </a:path>
              </a:pathLst>
            </a:custGeom>
            <a:solidFill>
              <a:srgbClr val="66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755080" y="4903920"/>
              <a:ext cx="1166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u-HU" sz="2400" spc="-1" strike="noStrike">
                  <a:solidFill>
                    <a:srgbClr val="000000"/>
                  </a:solidFill>
                  <a:latin typeface="Arial"/>
                </a:rPr>
                <a:t>CÍME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101560" y="5749200"/>
              <a:ext cx="1486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u-HU" sz="2400" spc="-1" strike="noStrike">
                  <a:solidFill>
                    <a:srgbClr val="000000"/>
                  </a:solidFill>
                  <a:latin typeface="Arial"/>
                </a:rPr>
                <a:t>ADATO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300680" y="2136600"/>
              <a:ext cx="6869880" cy="1065600"/>
            </a:xfrm>
            <a:custGeom>
              <a:avLst/>
              <a:gdLst/>
              <a:ahLst/>
              <a:rect l="l" t="t" r="r" b="b"/>
              <a:pathLst>
                <a:path w="4513" h="811">
                  <a:moveTo>
                    <a:pt x="192" y="0"/>
                  </a:moveTo>
                  <a:lnTo>
                    <a:pt x="192" y="378"/>
                  </a:lnTo>
                  <a:lnTo>
                    <a:pt x="144" y="378"/>
                  </a:lnTo>
                  <a:lnTo>
                    <a:pt x="240" y="540"/>
                  </a:lnTo>
                  <a:lnTo>
                    <a:pt x="0" y="540"/>
                  </a:lnTo>
                  <a:lnTo>
                    <a:pt x="0" y="810"/>
                  </a:lnTo>
                  <a:lnTo>
                    <a:pt x="4512" y="810"/>
                  </a:lnTo>
                  <a:lnTo>
                    <a:pt x="4512" y="540"/>
                  </a:lnTo>
                  <a:lnTo>
                    <a:pt x="3744" y="540"/>
                  </a:lnTo>
                  <a:lnTo>
                    <a:pt x="3744" y="162"/>
                  </a:lnTo>
                  <a:lnTo>
                    <a:pt x="3792" y="162"/>
                  </a:lnTo>
                  <a:lnTo>
                    <a:pt x="3696" y="0"/>
                  </a:lnTo>
                  <a:lnTo>
                    <a:pt x="3648" y="0"/>
                  </a:lnTo>
                  <a:lnTo>
                    <a:pt x="3552" y="162"/>
                  </a:lnTo>
                  <a:lnTo>
                    <a:pt x="3600" y="162"/>
                  </a:lnTo>
                  <a:lnTo>
                    <a:pt x="3600" y="540"/>
                  </a:lnTo>
                  <a:lnTo>
                    <a:pt x="1824" y="540"/>
                  </a:lnTo>
                  <a:lnTo>
                    <a:pt x="1824" y="162"/>
                  </a:lnTo>
                  <a:lnTo>
                    <a:pt x="1872" y="162"/>
                  </a:lnTo>
                  <a:lnTo>
                    <a:pt x="1776" y="0"/>
                  </a:lnTo>
                  <a:lnTo>
                    <a:pt x="1728" y="0"/>
                  </a:lnTo>
                  <a:lnTo>
                    <a:pt x="1632" y="162"/>
                  </a:lnTo>
                  <a:lnTo>
                    <a:pt x="1680" y="162"/>
                  </a:lnTo>
                  <a:lnTo>
                    <a:pt x="1680" y="540"/>
                  </a:lnTo>
                  <a:lnTo>
                    <a:pt x="288" y="540"/>
                  </a:lnTo>
                  <a:lnTo>
                    <a:pt x="384" y="378"/>
                  </a:lnTo>
                  <a:lnTo>
                    <a:pt x="336" y="378"/>
                  </a:lnTo>
                  <a:lnTo>
                    <a:pt x="336" y="0"/>
                  </a:lnTo>
                  <a:lnTo>
                    <a:pt x="192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453920" y="2060640"/>
              <a:ext cx="2602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u-HU" sz="2400" spc="-1" strike="noStrike">
                  <a:solidFill>
                    <a:srgbClr val="000000"/>
                  </a:solidFill>
                  <a:latin typeface="Arial"/>
                </a:rPr>
                <a:t>VEZÉRLŐJELE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Mérték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0000"/>
                </a:solidFill>
                <a:latin typeface="Arial"/>
              </a:rPr>
              <a:t>bit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információ alapegysé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két állapot megkülönböztetésére alkalmas j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realizálása: 1, 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ettes számrendszer 1 helyiértékének tárolására alkal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0000"/>
                </a:solidFill>
                <a:latin typeface="Arial"/>
              </a:rPr>
              <a:t>bájt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információ-tárolás alapegysé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330066"/>
                </a:solidFill>
                <a:latin typeface="Arial"/>
              </a:rPr>
              <a:t>8 b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érték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váltószám: 2</a:t>
            </a:r>
            <a:r>
              <a:rPr b="0" lang="hu-HU" sz="22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(1024) és hatványai: kilo, mega, giga, t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1 KB (kilobájt) = 1024 báj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1 MB (megabájt) = 1024 KB = 1024*1024 B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Ábrázolási rendszer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bináris rendszer: minden információ 2-es számrendszerb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fogalmi szint: adattípus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numerikus, szöve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dátum, logika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objekt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reprezentáció: bitsoroz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Fixpontos ábrázol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rögzített méretű tárhel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1-2-4 bájt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(„félszó”, „szó”, „dupla szó”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tizedespont helye rögzítet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gyakorlatban csak egész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ábrázolható értékkész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előjellel vagy előjel nélkül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1 bájt: 00000000 .. 11111111 (0-255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2 bájt: 0x0000 ... 0xFFFF </a:t>
            </a:r>
            <a:br>
              <a:rPr sz="2300"/>
            </a:b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(elvileg 0-2</a:t>
            </a:r>
            <a:r>
              <a:rPr b="0" lang="hu-HU" sz="23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, gyakorlatban -2</a:t>
            </a:r>
            <a:r>
              <a:rPr b="0" lang="hu-HU" sz="2300" spc="-1" strike="noStrike" baseline="30000">
                <a:solidFill>
                  <a:srgbClr val="000000"/>
                </a:solidFill>
                <a:latin typeface="Arial"/>
              </a:rPr>
              <a:t>15 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u-HU" sz="23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xpontos ábrázol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példa: </a:t>
            </a:r>
            <a:br>
              <a:rPr sz="3000"/>
            </a:b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tfh. méret: 2 bájt, </a:t>
            </a:r>
            <a:br>
              <a:rPr sz="3000"/>
            </a:b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legfelső bit: előjel (0:+, 1:-), alsó 3 bit: tize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2004,55 tárolt alakj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2000 = 11111010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0,55 =  0,100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2004,55 = 11111010100,100</a:t>
            </a:r>
            <a:r>
              <a:rPr b="0" lang="hu-HU" sz="2600" spc="-1" strike="noStrike">
                <a:solidFill>
                  <a:srgbClr val="ff0000"/>
                </a:solidFill>
                <a:latin typeface="Arial"/>
              </a:rPr>
              <a:t>01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0011 1110 1010 0100 = 3CA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0066"/>
                </a:solidFill>
                <a:latin typeface="Arial"/>
              </a:rPr>
              <a:t>Informatika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lapismere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Lebegőpontos ábrázolá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normálalakot tá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hu-HU" sz="21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hu-HU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hu-HU" sz="26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: mantissza (bináris tört, 0.111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e: karakterisztika (kitevő), előjelesen (</a:t>
            </a:r>
            <a:r>
              <a:rPr b="0" lang="hu-HU" sz="2200" spc="-1" strike="noStrike">
                <a:solidFill>
                  <a:srgbClr val="d8d8ec"/>
                </a:solidFill>
                <a:latin typeface="Arial"/>
              </a:rPr>
              <a:t>eltolással!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árolá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rendelkezésre álló tárterület méretétől függő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egyszeres: 4 bájt (e: 8 bit, f: 23 bi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dupla: 8 bájt (e: 11 bit, f: 52 bi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bővített: 10 bájt (e: 15 bit, f: 64 bi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6084720" y="2637000"/>
          <a:ext cx="1081080" cy="395280"/>
        </p:xfrm>
        <a:graphic>
          <a:graphicData uri="http://schemas.openxmlformats.org/drawingml/2006/table">
            <a:tbl>
              <a:tblPr/>
              <a:tblGrid>
                <a:gridCol w="385920"/>
                <a:gridCol w="379080"/>
                <a:gridCol w="316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begőpontos ábrázol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példa: egyszeres lebegőpontos  </a:t>
            </a:r>
            <a:br>
              <a:rPr sz="3000"/>
            </a:b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2004,55 tárolt alakja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2004,55 = 11111010100,10001 =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0,1111101010010001 x 2</a:t>
            </a:r>
            <a:r>
              <a:rPr b="0" lang="hu-HU" sz="2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f: 1111 1010 1001 0001 0000 000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: 1011 </a:t>
            </a:r>
            <a:r>
              <a:rPr b="0" lang="hu-HU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600" spc="-1" strike="noStrike">
                <a:solidFill>
                  <a:srgbClr val="669900"/>
                </a:solidFill>
                <a:latin typeface="Arial"/>
              </a:rPr>
              <a:t>1000 10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330066"/>
                </a:solidFill>
                <a:latin typeface="Arial"/>
              </a:rPr>
              <a:t>0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600" spc="-1" strike="noStrike">
                <a:solidFill>
                  <a:srgbClr val="669900"/>
                </a:solidFill>
                <a:latin typeface="Arial"/>
              </a:rPr>
              <a:t>1000 1011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1111 1010 1001 0001 0000 000 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0100 0101 1111 1101 0100 1000 1000 0000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45FD4880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BCD (Binárisan kódolt decimális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számjegyeket tárol, nem értéke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4 biten a 10-es számrendszerbeli szám jegye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előjel is 4 bit! (A, C, E, F : +; B, D: -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pakolt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él bájtonként a számjegyek, az utolsó fél bájt előj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zónázott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ső bájton az előjel és az első számjegy, a többi számjegy (vezető 0-kal) bájtonké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vezérszav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első bájt írja le a következő bájtok jelentésé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CD ábrázol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példa: 2004,55 tárolt alakj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pakolt BCD: 20 04 C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zónázott BCD: C2 00 00 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vezérszavas BC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7. bit: előjel: + (0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6-3. bit: számjegyek száma: 6 (0110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2-0. bit: tizedesek száma: 2 (010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0011 0010 0010 0000 0000 0100 0101 0101 </a:t>
            </a:r>
            <a:br>
              <a:rPr sz="2300"/>
            </a:br>
            <a:r>
              <a:rPr b="0" lang="hu-HU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 32 20 04 5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Karakterkódolás:ASCI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SCI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merican Standard Code for Information Inter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PC-k jellemző karakterkódolási rendsz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szabvány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7 biten sorszámozva a szimbólumok, </a:t>
            </a:r>
            <a:br>
              <a:rPr sz="2300"/>
            </a:b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a 8. bit a </a:t>
            </a:r>
            <a:r>
              <a:rPr b="0" lang="hu-HU" sz="2300" spc="-1" strike="noStrike">
                <a:solidFill>
                  <a:srgbClr val="ff0000"/>
                </a:solidFill>
                <a:latin typeface="Arial"/>
              </a:rPr>
              <a:t>paritá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kiegészíté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00h..7Fh: 128 jel, </a:t>
            </a:r>
            <a:br>
              <a:rPr sz="2300"/>
            </a:b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80h..FFh: nemzeti karakterek </a:t>
            </a:r>
            <a:r>
              <a:rPr b="0" lang="hu-HU" sz="2300" spc="-1" strike="noStrike">
                <a:solidFill>
                  <a:srgbClr val="ff0000"/>
                </a:solidFill>
                <a:latin typeface="Arial"/>
              </a:rPr>
              <a:t>(kódlapok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SCII kódtábl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684360" y="1844640"/>
          <a:ext cx="792000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844640"/>
                    <a:ext cx="792000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"/>
          <p:cNvSpPr/>
          <p:nvPr/>
        </p:nvSpPr>
        <p:spPr>
          <a:xfrm>
            <a:off x="3203640" y="3500280"/>
            <a:ext cx="3097080" cy="785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: 65 = 0100 0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:  97 = 01</a:t>
            </a:r>
            <a:r>
              <a:rPr b="1" lang="hu-HU" sz="1800" spc="-1" strike="noStrike">
                <a:solidFill>
                  <a:srgbClr val="330066"/>
                </a:solidFill>
                <a:latin typeface="Arial"/>
              </a:rPr>
              <a:t>1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0 0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4788000" y="2349000"/>
            <a:ext cx="431640" cy="10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4788000" y="2421000"/>
            <a:ext cx="259236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Kiterjesztett ASCII tábl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0" y="1876320"/>
          <a:ext cx="8964720" cy="472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76320"/>
                    <a:ext cx="8964720" cy="472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2268360" y="3500280"/>
            <a:ext cx="3600720" cy="734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r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ö:  148 =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01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0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Ö: 153 =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01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01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2050920" y="3213000"/>
            <a:ext cx="1873440" cy="287280"/>
          </a:xfrm>
          <a:prstGeom prst="line">
            <a:avLst/>
          </a:prstGeom>
          <a:ln w="936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2050920" y="4221000"/>
            <a:ext cx="1944720" cy="432000"/>
          </a:xfrm>
          <a:prstGeom prst="line">
            <a:avLst/>
          </a:prstGeom>
          <a:ln w="936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Karakterkódolás: UNICO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5651640" y="6858000"/>
          <a:ext cx="2238120" cy="32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6858000"/>
                    <a:ext cx="2238120" cy="32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2556000" y="6858000"/>
          <a:ext cx="4392360" cy="311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6000" y="6858000"/>
                    <a:ext cx="439236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7767720" y="6858000"/>
          <a:ext cx="2752560" cy="29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67720" y="6858000"/>
                    <a:ext cx="275256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0" y="6858000"/>
          <a:ext cx="3286080" cy="3533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858000"/>
                    <a:ext cx="328608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1619280" y="6858000"/>
          <a:ext cx="2962080" cy="419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19280" y="6858000"/>
                    <a:ext cx="29620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(elvileg) 2 bájtos karakterkódolá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(elvileg) a világ összes szimbólu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szabvány: </a:t>
            </a:r>
            <a:br>
              <a:rPr sz="2200"/>
            </a:b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0000h..2000h – hagyományos írásjelek</a:t>
            </a:r>
            <a:br>
              <a:rPr sz="2200"/>
            </a:b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2001h..3000h – szimbólumok</a:t>
            </a:r>
            <a:br>
              <a:rPr sz="2200"/>
            </a:b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3001h..E800h – távol-keleti írásjelek (47e!)</a:t>
            </a:r>
            <a:br>
              <a:rPr sz="2200"/>
            </a:b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E801h..FE00h – felhasználói</a:t>
            </a:r>
            <a:br>
              <a:rPr sz="2200"/>
            </a:b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E01h..FFFFh – fenntartot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roblémák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többértelműség ( latin „c” = cirill „sz”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eltérő definiálhatóság (á = a+’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226 -0.20116 L 0.27309 -0.71574 E">
                                      <p:cBhvr>
                                        <p:cTn id="28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2000" fill="hold"/>
                                        <p:tgtEl>
                                          <p:spTgt spid="4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198 -0.22801 L 0.12952 -0.75301 E">
                                      <p:cBhvr>
                                        <p:cTn id="40" dur="2000" fill="hold"/>
                                        <p:tgtEl>
                                          <p:spTgt spid="4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2000" fill="hold"/>
                                        <p:tgtEl>
                                          <p:spTgt spid="4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684 -0.16018 L -0.05903 -0.65347 E">
                                      <p:cBhvr>
                                        <p:cTn id="52" dur="200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4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-0.18033 L -0.27986 -0.70533 E">
                                      <p:cBhvr>
                                        <p:cTn id="64" dur="20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4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6644 L -0.52361 -0.65995 E">
                                      <p:cBhvr>
                                        <p:cTn id="76" dur="2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2000" fill="hold"/>
                                        <p:tgtEl>
                                          <p:spTgt spid="4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Történel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lőzmény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mechanikus elvű számoló berendezés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Schickard, Pasc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-es számrendszerű összeadó-gé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Leibnit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lőző továbbfejlesztése mind a 4 alapművele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Babbage, Hollerit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yukkártyás adattárolás (Babbage: „program”, Hollerith: IB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elektro-mechanikus eszközö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Zuse, Aik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elektronikus számítógép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ENIAC (1946), EDVAC (1949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Történel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Generáció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lektronikus számítógépek fejlődésének kategorizálása az alkalmazott meghatározó technológia eszköz szer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elektroncső (’50-es évek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tranzisztor (’60-as évek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integrált áramköri elemek (’60-as évek vég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mikroprocesszor (’70-es évek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Generációk jellemző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I.: elektroncső: 40-es évek közepe – 50-es évek második fe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300 művelet/se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elektroncsöves tárak, lyukkártya/lyukszalag, fixpontos műveletvégzés, </a:t>
            </a:r>
            <a:br>
              <a:rPr sz="1500"/>
            </a:b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gépi kód (assembly), kötegelt mód, operát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II: tranzisztor: 50-es évek vége – 196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200 000 művelet/se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ferritgyűrűs memória, mágnesszalag (mágneslemez), lebegőpontos aritmetika, assembly, magasszintű nyelvek, bat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III: IC: 1965 - 70-es évek első fe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2 millió művelet/sec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ferritgyűrűs memória, mágneslemez, operációs rendszer megjelenése, </a:t>
            </a:r>
            <a:br>
              <a:rPr sz="1500"/>
            </a:b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(valódi) magasszintű nyelvek, multiprogramozás, virtuális memóri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számítógép-kategóriák (mainframe, middleware, minicomputer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IV: mikrochip: 70-es éve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20 millió művelet/sec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félvezető tárak, mágneslemez, optoelektronikus/optikai adathordozók, </a:t>
            </a:r>
            <a:br>
              <a:rPr sz="1500"/>
            </a:b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PC, 4GL, hálózati operációs rendszer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V: jelen? jövő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mesterséges intelligencia?, (valódi) párhuzamos rendszerek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Fogalma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dat </a:t>
            </a:r>
            <a:r>
              <a:rPr b="0" lang="hu-HU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informáci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dat: észlelés </a:t>
            </a:r>
            <a:r>
              <a:rPr b="0" lang="hu-H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információ: hasznosítá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információ: ismeret </a:t>
            </a:r>
            <a:r>
              <a:rPr b="0" lang="hu-H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adat: tárolt ismer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Információ-technológia = adat (információ) 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lőállítása, tárolása, továbbítása, feldolgozá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ICT: info-kommunikációs technológiá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ICS: informatikai társadal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Informati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IT rendszerek fejlesztésével és üzemeltetésével foglalkozó </a:t>
            </a:r>
            <a:r>
              <a:rPr b="0" lang="hu-HU" sz="2200" spc="-1" strike="noStrike">
                <a:solidFill>
                  <a:srgbClr val="ff0000"/>
                </a:solidFill>
                <a:latin typeface="Arial"/>
              </a:rPr>
              <a:t>tudomá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330066"/>
                </a:solidFill>
                <a:latin typeface="Arial"/>
              </a:rPr>
              <a:t>informatika </a:t>
            </a:r>
            <a:r>
              <a:rPr b="0" lang="hu-HU" sz="2200" spc="-1" strike="noStrike">
                <a:solidFill>
                  <a:srgbClr val="330066"/>
                </a:solidFill>
                <a:latin typeface="Symbol"/>
                <a:ea typeface="Symbol"/>
              </a:rPr>
              <a:t></a:t>
            </a:r>
            <a:r>
              <a:rPr b="0" lang="hu-HU" sz="2200" spc="-1" strike="noStrike">
                <a:solidFill>
                  <a:srgbClr val="330066"/>
                </a:solidFill>
                <a:latin typeface="Arial"/>
              </a:rPr>
              <a:t> számítástechnika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2989440" y="5526000"/>
            <a:ext cx="6153840" cy="1331280"/>
            <a:chOff x="2989440" y="5526000"/>
            <a:chExt cx="6153840" cy="1331280"/>
          </a:xfrm>
        </p:grpSpPr>
        <p:grpSp>
          <p:nvGrpSpPr>
            <p:cNvPr id="110" name=""/>
            <p:cNvGrpSpPr/>
            <p:nvPr/>
          </p:nvGrpSpPr>
          <p:grpSpPr>
            <a:xfrm>
              <a:off x="7354800" y="5526000"/>
              <a:ext cx="1788480" cy="607320"/>
              <a:chOff x="7354800" y="5526000"/>
              <a:chExt cx="1788480" cy="607320"/>
            </a:xfrm>
          </p:grpSpPr>
          <p:sp>
            <p:nvSpPr>
              <p:cNvPr id="111" name=""/>
              <p:cNvSpPr/>
              <p:nvPr/>
            </p:nvSpPr>
            <p:spPr>
              <a:xfrm>
                <a:off x="7709040" y="5803560"/>
                <a:ext cx="95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7354800" y="5526000"/>
                <a:ext cx="991800" cy="607320"/>
                <a:chOff x="7354800" y="5526000"/>
                <a:chExt cx="991800" cy="60732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7354800" y="5526000"/>
                  <a:ext cx="378720" cy="450720"/>
                  <a:chOff x="7354800" y="5526000"/>
                  <a:chExt cx="378720" cy="45072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7354800" y="5590800"/>
                    <a:ext cx="31716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" h="45">
                        <a:moveTo>
                          <a:pt x="0" y="0"/>
                        </a:moveTo>
                        <a:lnTo>
                          <a:pt x="0" y="44"/>
                        </a:lnTo>
                        <a:lnTo>
                          <a:pt x="225" y="44"/>
                        </a:lnTo>
                        <a:lnTo>
                          <a:pt x="225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8d8e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7357320" y="5738760"/>
                    <a:ext cx="314640" cy="23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214">
                        <a:moveTo>
                          <a:pt x="0" y="213"/>
                        </a:moveTo>
                        <a:lnTo>
                          <a:pt x="223" y="213"/>
                        </a:lnTo>
                        <a:lnTo>
                          <a:pt x="223" y="0"/>
                        </a:lnTo>
                        <a:lnTo>
                          <a:pt x="136" y="0"/>
                        </a:lnTo>
                        <a:lnTo>
                          <a:pt x="136" y="47"/>
                        </a:lnTo>
                        <a:lnTo>
                          <a:pt x="0" y="49"/>
                        </a:lnTo>
                        <a:lnTo>
                          <a:pt x="0" y="213"/>
                        </a:lnTo>
                      </a:path>
                    </a:pathLst>
                  </a:custGeom>
                  <a:solidFill>
                    <a:srgbClr val="d8d8e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7354800" y="5634000"/>
                    <a:ext cx="32040" cy="158760"/>
                  </a:xfrm>
                  <a:prstGeom prst="rect">
                    <a:avLst/>
                  </a:prstGeom>
                  <a:solidFill>
                    <a:srgbClr val="d8d8e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7358760" y="5590800"/>
                    <a:ext cx="321480" cy="38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350">
                        <a:moveTo>
                          <a:pt x="0" y="0"/>
                        </a:moveTo>
                        <a:lnTo>
                          <a:pt x="0" y="349"/>
                        </a:lnTo>
                        <a:lnTo>
                          <a:pt x="228" y="349"/>
                        </a:lnTo>
                        <a:lnTo>
                          <a:pt x="228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8d8ec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7390800" y="5671440"/>
                    <a:ext cx="217800" cy="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7396560" y="5704560"/>
                    <a:ext cx="210240" cy="12960"/>
                  </a:xfrm>
                  <a:prstGeom prst="rect">
                    <a:avLst/>
                  </a:prstGeom>
                  <a:solidFill>
                    <a:srgbClr val="d8d8ec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7555320" y="5724360"/>
                    <a:ext cx="19440" cy="140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7594920" y="5724360"/>
                    <a:ext cx="20880" cy="140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7390800" y="5674680"/>
                    <a:ext cx="217800" cy="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7566480" y="5653800"/>
                    <a:ext cx="21240" cy="129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 flipV="1">
                    <a:off x="7531560" y="5655960"/>
                    <a:ext cx="29520" cy="216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7531560" y="5654880"/>
                    <a:ext cx="29520" cy="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7369920" y="5765040"/>
                    <a:ext cx="175320" cy="72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 flipV="1">
                    <a:off x="7545600" y="5737680"/>
                    <a:ext cx="0" cy="2952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7383960" y="5748840"/>
                    <a:ext cx="133200" cy="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7383960" y="5749560"/>
                    <a:ext cx="132120" cy="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 flipV="1">
                    <a:off x="7369920" y="5791680"/>
                    <a:ext cx="175320" cy="72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 flipV="1">
                    <a:off x="7545600" y="576468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7607160" y="5766120"/>
                    <a:ext cx="27720" cy="16560"/>
                  </a:xfrm>
                  <a:prstGeom prst="rect">
                    <a:avLst/>
                  </a:prstGeom>
                  <a:solidFill>
                    <a:srgbClr val="00ff66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7389720" y="5611680"/>
                    <a:ext cx="20880" cy="140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449840" y="5611680"/>
                    <a:ext cx="19440" cy="140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7392600" y="5840280"/>
                    <a:ext cx="234360" cy="11772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7363080" y="5526720"/>
                    <a:ext cx="3664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55">
                        <a:moveTo>
                          <a:pt x="0" y="52"/>
                        </a:moveTo>
                        <a:lnTo>
                          <a:pt x="220" y="54"/>
                        </a:lnTo>
                        <a:lnTo>
                          <a:pt x="260" y="0"/>
                        </a:lnTo>
                        <a:lnTo>
                          <a:pt x="108" y="0"/>
                        </a:lnTo>
                        <a:lnTo>
                          <a:pt x="0" y="52"/>
                        </a:lnTo>
                      </a:path>
                    </a:pathLst>
                  </a:custGeom>
                  <a:solidFill>
                    <a:srgbClr val="d8d8ec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7645320" y="5634000"/>
                    <a:ext cx="30600" cy="120960"/>
                  </a:xfrm>
                  <a:prstGeom prst="rect">
                    <a:avLst/>
                  </a:prstGeom>
                  <a:solidFill>
                    <a:srgbClr val="d8d8e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138" name=""/>
                  <p:cNvGraphicFramePr/>
                  <p:nvPr/>
                </p:nvGraphicFramePr>
                <p:xfrm>
                  <a:off x="7545600" y="5614200"/>
                  <a:ext cx="88560" cy="12960"/>
                </p:xfrm>
                <a:graphic>
                  <a:graphicData uri="http://schemas.openxmlformats.org/presentationml/2006/ole">
                    <p:oleObj r:id="rId2" spid="">
                      <p:embed/>
                      <p:pic>
                        <p:nvPicPr>
                          <p:cNvPr id="139" name="" descr=""/>
                          <p:cNvPicPr/>
                          <p:nvPr/>
                        </p:nvPicPr>
                        <p:blipFill>
                          <a:blip r:embed="rId3"/>
                          <a:stretch/>
                        </p:blipFill>
                        <p:spPr>
                          <a:xfrm>
                            <a:off x="7545600" y="5614200"/>
                            <a:ext cx="88560" cy="12960"/>
                          </a:xfrm>
                          <a:prstGeom prst="rect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140" name=""/>
                  <p:cNvSpPr/>
                  <p:nvPr/>
                </p:nvSpPr>
                <p:spPr>
                  <a:xfrm>
                    <a:off x="7608960" y="5766120"/>
                    <a:ext cx="24840" cy="1548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7382520" y="5646240"/>
                    <a:ext cx="254160" cy="3492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880" bIns="-11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7382520" y="5689080"/>
                    <a:ext cx="254160" cy="36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0" bIns="-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7400880" y="5660280"/>
                    <a:ext cx="220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7674840" y="5526000"/>
                    <a:ext cx="58680" cy="44748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06">
                        <a:moveTo>
                          <a:pt x="0" y="58"/>
                        </a:moveTo>
                        <a:lnTo>
                          <a:pt x="41" y="0"/>
                        </a:lnTo>
                        <a:lnTo>
                          <a:pt x="41" y="331"/>
                        </a:lnTo>
                        <a:lnTo>
                          <a:pt x="0" y="405"/>
                        </a:lnTo>
                        <a:lnTo>
                          <a:pt x="0" y="58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767720" y="5586480"/>
                  <a:ext cx="578880" cy="392040"/>
                  <a:chOff x="7767720" y="5586480"/>
                  <a:chExt cx="578880" cy="392040"/>
                </a:xfrm>
              </p:grpSpPr>
              <p:grpSp>
                <p:nvGrpSpPr>
                  <p:cNvPr id="146" name=""/>
                  <p:cNvGrpSpPr/>
                  <p:nvPr/>
                </p:nvGrpSpPr>
                <p:grpSpPr>
                  <a:xfrm>
                    <a:off x="7767720" y="5586480"/>
                    <a:ext cx="550800" cy="392040"/>
                    <a:chOff x="7767720" y="5586480"/>
                    <a:chExt cx="550800" cy="392040"/>
                  </a:xfrm>
                </p:grpSpPr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7871400" y="5915880"/>
                      <a:ext cx="333000" cy="62640"/>
                    </a:xfrm>
                    <a:prstGeom prst="cube">
                      <a:avLst>
                        <a:gd name="adj" fmla="val 63592"/>
                      </a:avLst>
                    </a:prstGeom>
                    <a:solidFill>
                      <a:srgbClr val="d8d8e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7773120" y="5605200"/>
                      <a:ext cx="505800" cy="298800"/>
                    </a:xfrm>
                    <a:prstGeom prst="rect">
                      <a:avLst/>
                    </a:prstGeom>
                    <a:solidFill>
                      <a:srgbClr val="d8d8e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7809480" y="5627160"/>
                      <a:ext cx="424440" cy="255600"/>
                    </a:xfrm>
                    <a:prstGeom prst="roundRect">
                      <a:avLst>
                        <a:gd name="adj" fmla="val 13843"/>
                      </a:avLst>
                    </a:prstGeom>
                    <a:solidFill>
                      <a:srgbClr val="99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7767720" y="5586480"/>
                      <a:ext cx="545400" cy="2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" h="22">
                          <a:moveTo>
                            <a:pt x="0" y="21"/>
                          </a:moveTo>
                          <a:lnTo>
                            <a:pt x="30" y="0"/>
                          </a:lnTo>
                          <a:lnTo>
                            <a:pt x="387" y="0"/>
                          </a:lnTo>
                          <a:lnTo>
                            <a:pt x="374" y="21"/>
                          </a:lnTo>
                          <a:lnTo>
                            <a:pt x="0" y="21"/>
                          </a:lnTo>
                        </a:path>
                      </a:pathLst>
                    </a:custGeom>
                    <a:solidFill>
                      <a:srgbClr val="d8d8ec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8285040" y="5586480"/>
                      <a:ext cx="33480" cy="31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289">
                          <a:moveTo>
                            <a:pt x="23" y="0"/>
                          </a:moveTo>
                          <a:lnTo>
                            <a:pt x="23" y="250"/>
                          </a:lnTo>
                          <a:lnTo>
                            <a:pt x="0" y="288"/>
                          </a:lnTo>
                          <a:lnTo>
                            <a:pt x="0" y="13"/>
                          </a:lnTo>
                          <a:lnTo>
                            <a:pt x="2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7915320" y="5905080"/>
                      <a:ext cx="231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39">
                          <a:moveTo>
                            <a:pt x="0" y="0"/>
                          </a:moveTo>
                          <a:lnTo>
                            <a:pt x="17" y="3"/>
                          </a:lnTo>
                          <a:lnTo>
                            <a:pt x="31" y="10"/>
                          </a:lnTo>
                          <a:lnTo>
                            <a:pt x="39" y="18"/>
                          </a:lnTo>
                          <a:lnTo>
                            <a:pt x="45" y="29"/>
                          </a:lnTo>
                          <a:lnTo>
                            <a:pt x="53" y="34"/>
                          </a:lnTo>
                          <a:lnTo>
                            <a:pt x="68" y="37"/>
                          </a:lnTo>
                          <a:lnTo>
                            <a:pt x="82" y="38"/>
                          </a:lnTo>
                          <a:lnTo>
                            <a:pt x="95" y="38"/>
                          </a:lnTo>
                          <a:lnTo>
                            <a:pt x="110" y="35"/>
                          </a:lnTo>
                          <a:lnTo>
                            <a:pt x="122" y="31"/>
                          </a:lnTo>
                          <a:lnTo>
                            <a:pt x="126" y="23"/>
                          </a:lnTo>
                          <a:lnTo>
                            <a:pt x="131" y="14"/>
                          </a:lnTo>
                          <a:lnTo>
                            <a:pt x="139" y="9"/>
                          </a:lnTo>
                          <a:lnTo>
                            <a:pt x="149" y="3"/>
                          </a:lnTo>
                          <a:lnTo>
                            <a:pt x="164" y="0"/>
                          </a:lnTo>
                          <a:lnTo>
                            <a:pt x="4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3" name=""/>
                  <p:cNvSpPr/>
                  <p:nvPr/>
                </p:nvSpPr>
                <p:spPr>
                  <a:xfrm>
                    <a:off x="8313120" y="5589720"/>
                    <a:ext cx="33480" cy="27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46">
                        <a:moveTo>
                          <a:pt x="0" y="0"/>
                        </a:moveTo>
                        <a:lnTo>
                          <a:pt x="2" y="16"/>
                        </a:lnTo>
                        <a:lnTo>
                          <a:pt x="10" y="37"/>
                        </a:lnTo>
                        <a:lnTo>
                          <a:pt x="17" y="52"/>
                        </a:lnTo>
                        <a:lnTo>
                          <a:pt x="23" y="58"/>
                        </a:lnTo>
                        <a:lnTo>
                          <a:pt x="23" y="106"/>
                        </a:lnTo>
                        <a:lnTo>
                          <a:pt x="18" y="117"/>
                        </a:lnTo>
                        <a:lnTo>
                          <a:pt x="14" y="131"/>
                        </a:lnTo>
                        <a:lnTo>
                          <a:pt x="9" y="157"/>
                        </a:lnTo>
                        <a:lnTo>
                          <a:pt x="7" y="174"/>
                        </a:lnTo>
                        <a:lnTo>
                          <a:pt x="5" y="189"/>
                        </a:lnTo>
                        <a:lnTo>
                          <a:pt x="4" y="205"/>
                        </a:lnTo>
                        <a:lnTo>
                          <a:pt x="2" y="225"/>
                        </a:lnTo>
                        <a:lnTo>
                          <a:pt x="0" y="24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8d8ec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7383960" y="6010920"/>
                  <a:ext cx="770040" cy="122400"/>
                  <a:chOff x="7383960" y="6010920"/>
                  <a:chExt cx="770040" cy="12240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>
                    <a:off x="7386480" y="6010920"/>
                    <a:ext cx="102600" cy="12024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09">
                        <a:moveTo>
                          <a:pt x="72" y="0"/>
                        </a:moveTo>
                        <a:lnTo>
                          <a:pt x="58" y="23"/>
                        </a:lnTo>
                        <a:lnTo>
                          <a:pt x="44" y="47"/>
                        </a:lnTo>
                        <a:lnTo>
                          <a:pt x="23" y="68"/>
                        </a:lnTo>
                        <a:lnTo>
                          <a:pt x="1" y="88"/>
                        </a:lnTo>
                        <a:lnTo>
                          <a:pt x="0" y="108"/>
                        </a:lnTo>
                        <a:lnTo>
                          <a:pt x="72" y="39"/>
                        </a:lnTo>
                        <a:lnTo>
                          <a:pt x="72" y="0"/>
                        </a:lnTo>
                      </a:path>
                    </a:pathLst>
                  </a:custGeom>
                  <a:solidFill>
                    <a:srgbClr val="cccc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8052840" y="6010920"/>
                    <a:ext cx="101160" cy="120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09">
                        <a:moveTo>
                          <a:pt x="71" y="0"/>
                        </a:moveTo>
                        <a:lnTo>
                          <a:pt x="56" y="24"/>
                        </a:lnTo>
                        <a:lnTo>
                          <a:pt x="35" y="53"/>
                        </a:lnTo>
                        <a:lnTo>
                          <a:pt x="0" y="91"/>
                        </a:lnTo>
                        <a:lnTo>
                          <a:pt x="0" y="108"/>
                        </a:lnTo>
                        <a:lnTo>
                          <a:pt x="71" y="41"/>
                        </a:lnTo>
                        <a:lnTo>
                          <a:pt x="7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7383960" y="6010920"/>
                    <a:ext cx="767520" cy="104400"/>
                  </a:xfrm>
                  <a:custGeom>
                    <a:avLst/>
                    <a:gdLst/>
                    <a:ahLst/>
                    <a:rect l="l" t="t" r="r" b="b"/>
                    <a:pathLst>
                      <a:path w="546" h="95">
                        <a:moveTo>
                          <a:pt x="72" y="0"/>
                        </a:moveTo>
                        <a:lnTo>
                          <a:pt x="545" y="0"/>
                        </a:lnTo>
                        <a:lnTo>
                          <a:pt x="534" y="22"/>
                        </a:lnTo>
                        <a:lnTo>
                          <a:pt x="521" y="39"/>
                        </a:lnTo>
                        <a:lnTo>
                          <a:pt x="507" y="57"/>
                        </a:lnTo>
                        <a:lnTo>
                          <a:pt x="496" y="70"/>
                        </a:lnTo>
                        <a:lnTo>
                          <a:pt x="477" y="93"/>
                        </a:lnTo>
                        <a:lnTo>
                          <a:pt x="464" y="94"/>
                        </a:lnTo>
                        <a:lnTo>
                          <a:pt x="0" y="93"/>
                        </a:lnTo>
                        <a:lnTo>
                          <a:pt x="8" y="84"/>
                        </a:lnTo>
                        <a:lnTo>
                          <a:pt x="18" y="74"/>
                        </a:lnTo>
                        <a:lnTo>
                          <a:pt x="31" y="59"/>
                        </a:lnTo>
                        <a:lnTo>
                          <a:pt x="44" y="45"/>
                        </a:lnTo>
                        <a:lnTo>
                          <a:pt x="53" y="34"/>
                        </a:lnTo>
                        <a:lnTo>
                          <a:pt x="60" y="23"/>
                        </a:lnTo>
                        <a:lnTo>
                          <a:pt x="70" y="7"/>
                        </a:lnTo>
                        <a:lnTo>
                          <a:pt x="72" y="0"/>
                        </a:lnTo>
                      </a:path>
                    </a:pathLst>
                  </a:custGeom>
                  <a:solidFill>
                    <a:srgbClr val="cbcbcb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7389360" y="6118920"/>
                    <a:ext cx="659160" cy="144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7497720" y="6039360"/>
                    <a:ext cx="32400" cy="23040"/>
                  </a:xfrm>
                  <a:prstGeom prst="parallelogram">
                    <a:avLst>
                      <a:gd name="adj" fmla="val 54414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7522920" y="6039360"/>
                    <a:ext cx="32040" cy="23040"/>
                  </a:xfrm>
                  <a:prstGeom prst="parallelogram">
                    <a:avLst>
                      <a:gd name="adj" fmla="val 49219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7549560" y="6039360"/>
                    <a:ext cx="30600" cy="23040"/>
                  </a:xfrm>
                  <a:prstGeom prst="parallelogram">
                    <a:avLst>
                      <a:gd name="adj" fmla="val 51391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7575120" y="6039360"/>
                    <a:ext cx="32040" cy="23040"/>
                  </a:xfrm>
                  <a:prstGeom prst="parallelogram">
                    <a:avLst>
                      <a:gd name="adj" fmla="val 49219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7601760" y="6041880"/>
                    <a:ext cx="30600" cy="21960"/>
                  </a:xfrm>
                  <a:prstGeom prst="parallelogram">
                    <a:avLst>
                      <a:gd name="adj" fmla="val 53918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7626960" y="6039360"/>
                    <a:ext cx="32040" cy="23040"/>
                  </a:xfrm>
                  <a:prstGeom prst="parallelogram">
                    <a:avLst>
                      <a:gd name="adj" fmla="val 49219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7651080" y="6041880"/>
                    <a:ext cx="33480" cy="21960"/>
                  </a:xfrm>
                  <a:prstGeom prst="parallelogram">
                    <a:avLst>
                      <a:gd name="adj" fmla="val 58993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7683120" y="6039360"/>
                    <a:ext cx="30600" cy="23040"/>
                  </a:xfrm>
                  <a:prstGeom prst="parallelogram">
                    <a:avLst>
                      <a:gd name="adj" fmla="val 47007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7706880" y="6041880"/>
                    <a:ext cx="30600" cy="21960"/>
                  </a:xfrm>
                  <a:prstGeom prst="parallelogram">
                    <a:avLst>
                      <a:gd name="adj" fmla="val 53918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7732440" y="6039360"/>
                    <a:ext cx="32040" cy="23040"/>
                  </a:xfrm>
                  <a:prstGeom prst="parallelogram">
                    <a:avLst>
                      <a:gd name="adj" fmla="val 49219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7757640" y="6041880"/>
                    <a:ext cx="33480" cy="21960"/>
                  </a:xfrm>
                  <a:prstGeom prst="parallelogram">
                    <a:avLst>
                      <a:gd name="adj" fmla="val 58993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7785720" y="6041880"/>
                    <a:ext cx="32400" cy="21960"/>
                  </a:xfrm>
                  <a:prstGeom prst="parallelogram">
                    <a:avLst>
                      <a:gd name="adj" fmla="val 52220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7812360" y="6041880"/>
                    <a:ext cx="30600" cy="21960"/>
                  </a:xfrm>
                  <a:prstGeom prst="parallelogram">
                    <a:avLst>
                      <a:gd name="adj" fmla="val 53918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7837560" y="6041880"/>
                    <a:ext cx="32400" cy="21960"/>
                  </a:xfrm>
                  <a:prstGeom prst="parallelogram">
                    <a:avLst>
                      <a:gd name="adj" fmla="val 52220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7861680" y="6041880"/>
                    <a:ext cx="32400" cy="21960"/>
                  </a:xfrm>
                  <a:prstGeom prst="parallelogram">
                    <a:avLst>
                      <a:gd name="adj" fmla="val 57090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7475400" y="6060600"/>
                    <a:ext cx="34920" cy="21960"/>
                  </a:xfrm>
                  <a:prstGeom prst="parallelogram">
                    <a:avLst>
                      <a:gd name="adj" fmla="val 61530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7503480" y="6059160"/>
                    <a:ext cx="33480" cy="21960"/>
                  </a:xfrm>
                  <a:prstGeom prst="parallelogram">
                    <a:avLst>
                      <a:gd name="adj" fmla="val 53961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7530120" y="6060600"/>
                    <a:ext cx="34920" cy="21960"/>
                  </a:xfrm>
                  <a:prstGeom prst="parallelogram">
                    <a:avLst>
                      <a:gd name="adj" fmla="val 61530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7559280" y="6060600"/>
                    <a:ext cx="32400" cy="21960"/>
                  </a:xfrm>
                  <a:prstGeom prst="parallelogram">
                    <a:avLst>
                      <a:gd name="adj" fmla="val 52220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7584840" y="6060600"/>
                    <a:ext cx="33480" cy="21960"/>
                  </a:xfrm>
                  <a:prstGeom prst="parallelogram">
                    <a:avLst>
                      <a:gd name="adj" fmla="val 58993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7615800" y="6060600"/>
                    <a:ext cx="30600" cy="21960"/>
                  </a:xfrm>
                  <a:prstGeom prst="parallelogram">
                    <a:avLst>
                      <a:gd name="adj" fmla="val 49319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7639920" y="6060600"/>
                    <a:ext cx="34920" cy="21960"/>
                  </a:xfrm>
                  <a:prstGeom prst="parallelogram">
                    <a:avLst>
                      <a:gd name="adj" fmla="val 61530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7673400" y="6060600"/>
                    <a:ext cx="30600" cy="21960"/>
                  </a:xfrm>
                  <a:prstGeom prst="parallelogram">
                    <a:avLst>
                      <a:gd name="adj" fmla="val 49319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7698600" y="6060600"/>
                    <a:ext cx="33480" cy="21960"/>
                  </a:xfrm>
                  <a:prstGeom prst="parallelogram">
                    <a:avLst>
                      <a:gd name="adj" fmla="val 58993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7726680" y="6060600"/>
                    <a:ext cx="33480" cy="21960"/>
                  </a:xfrm>
                  <a:prstGeom prst="parallelogram">
                    <a:avLst>
                      <a:gd name="adj" fmla="val 53961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7754760" y="6060600"/>
                    <a:ext cx="33480" cy="21960"/>
                  </a:xfrm>
                  <a:prstGeom prst="parallelogram">
                    <a:avLst>
                      <a:gd name="adj" fmla="val 58993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7781760" y="6060600"/>
                    <a:ext cx="33480" cy="21960"/>
                  </a:xfrm>
                  <a:prstGeom prst="parallelogram">
                    <a:avLst>
                      <a:gd name="adj" fmla="val 53961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7808400" y="6062760"/>
                    <a:ext cx="33480" cy="21960"/>
                  </a:xfrm>
                  <a:prstGeom prst="parallelogram">
                    <a:avLst>
                      <a:gd name="adj" fmla="val 58993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7836480" y="6060600"/>
                    <a:ext cx="33480" cy="21960"/>
                  </a:xfrm>
                  <a:prstGeom prst="parallelogram">
                    <a:avLst>
                      <a:gd name="adj" fmla="val 53961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7863120" y="6062760"/>
                    <a:ext cx="33480" cy="21960"/>
                  </a:xfrm>
                  <a:prstGeom prst="parallelogram">
                    <a:avLst>
                      <a:gd name="adj" fmla="val 58993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7444440" y="6084720"/>
                    <a:ext cx="30600" cy="21960"/>
                  </a:xfrm>
                  <a:prstGeom prst="parallelogram">
                    <a:avLst>
                      <a:gd name="adj" fmla="val 53918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7475400" y="6085800"/>
                    <a:ext cx="34920" cy="21960"/>
                  </a:xfrm>
                  <a:prstGeom prst="parallelogram">
                    <a:avLst>
                      <a:gd name="adj" fmla="val 56281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7506360" y="6085800"/>
                    <a:ext cx="30600" cy="21960"/>
                  </a:xfrm>
                  <a:prstGeom prst="parallelogram">
                    <a:avLst>
                      <a:gd name="adj" fmla="val 53918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7536960" y="6084720"/>
                    <a:ext cx="33480" cy="21960"/>
                  </a:xfrm>
                  <a:prstGeom prst="parallelogram">
                    <a:avLst>
                      <a:gd name="adj" fmla="val 53961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7565040" y="6085800"/>
                    <a:ext cx="32040" cy="21960"/>
                  </a:xfrm>
                  <a:prstGeom prst="parallelogram">
                    <a:avLst>
                      <a:gd name="adj" fmla="val 56456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7593120" y="6084720"/>
                    <a:ext cx="32400" cy="21960"/>
                  </a:xfrm>
                  <a:prstGeom prst="parallelogram">
                    <a:avLst>
                      <a:gd name="adj" fmla="val 52220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7618680" y="6085800"/>
                    <a:ext cx="32040" cy="21960"/>
                  </a:xfrm>
                  <a:prstGeom prst="parallelogram">
                    <a:avLst>
                      <a:gd name="adj" fmla="val 56456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7651080" y="6084720"/>
                    <a:ext cx="33480" cy="21960"/>
                  </a:xfrm>
                  <a:prstGeom prst="parallelogram">
                    <a:avLst>
                      <a:gd name="adj" fmla="val 53961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7675920" y="6085800"/>
                    <a:ext cx="33480" cy="21960"/>
                  </a:xfrm>
                  <a:prstGeom prst="parallelogram">
                    <a:avLst>
                      <a:gd name="adj" fmla="val 58993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7704360" y="6084720"/>
                    <a:ext cx="33120" cy="21960"/>
                  </a:xfrm>
                  <a:prstGeom prst="parallelogram">
                    <a:avLst>
                      <a:gd name="adj" fmla="val 53380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7732440" y="6085800"/>
                    <a:ext cx="33480" cy="21960"/>
                  </a:xfrm>
                  <a:prstGeom prst="parallelogram">
                    <a:avLst>
                      <a:gd name="adj" fmla="val 58993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7760520" y="6085800"/>
                    <a:ext cx="33480" cy="21960"/>
                  </a:xfrm>
                  <a:prstGeom prst="parallelogram">
                    <a:avLst>
                      <a:gd name="adj" fmla="val 53961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7788600" y="6086880"/>
                    <a:ext cx="30600" cy="21960"/>
                  </a:xfrm>
                  <a:prstGeom prst="parallelogram">
                    <a:avLst>
                      <a:gd name="adj" fmla="val 53918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815240" y="6085800"/>
                    <a:ext cx="32040" cy="21960"/>
                  </a:xfrm>
                  <a:prstGeom prst="parallelogram">
                    <a:avLst>
                      <a:gd name="adj" fmla="val 51639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7842240" y="6086880"/>
                    <a:ext cx="33480" cy="21960"/>
                  </a:xfrm>
                  <a:prstGeom prst="parallelogram">
                    <a:avLst>
                      <a:gd name="adj" fmla="val 58993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7948800" y="6038640"/>
                    <a:ext cx="32040" cy="21960"/>
                  </a:xfrm>
                  <a:prstGeom prst="parallelogram">
                    <a:avLst>
                      <a:gd name="adj" fmla="val 51639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7972920" y="6038640"/>
                    <a:ext cx="33480" cy="21960"/>
                  </a:xfrm>
                  <a:prstGeom prst="parallelogram">
                    <a:avLst>
                      <a:gd name="adj" fmla="val 58993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7999560" y="6038640"/>
                    <a:ext cx="30600" cy="21960"/>
                  </a:xfrm>
                  <a:prstGeom prst="parallelogram">
                    <a:avLst>
                      <a:gd name="adj" fmla="val 49319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8026200" y="6038640"/>
                    <a:ext cx="32400" cy="21960"/>
                  </a:xfrm>
                  <a:prstGeom prst="parallelogram">
                    <a:avLst>
                      <a:gd name="adj" fmla="val 57090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8049960" y="6038640"/>
                    <a:ext cx="32400" cy="21960"/>
                  </a:xfrm>
                  <a:prstGeom prst="parallelogram">
                    <a:avLst>
                      <a:gd name="adj" fmla="val 52220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7925040" y="6063840"/>
                    <a:ext cx="32040" cy="21960"/>
                  </a:xfrm>
                  <a:prstGeom prst="parallelogram">
                    <a:avLst>
                      <a:gd name="adj" fmla="val 51639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7951680" y="6064920"/>
                    <a:ext cx="30600" cy="21960"/>
                  </a:xfrm>
                  <a:prstGeom prst="parallelogram">
                    <a:avLst>
                      <a:gd name="adj" fmla="val 53918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976880" y="6063840"/>
                    <a:ext cx="32040" cy="21960"/>
                  </a:xfrm>
                  <a:prstGeom prst="parallelogram">
                    <a:avLst>
                      <a:gd name="adj" fmla="val 51639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8001000" y="6064920"/>
                    <a:ext cx="33480" cy="21960"/>
                  </a:xfrm>
                  <a:prstGeom prst="parallelogram">
                    <a:avLst>
                      <a:gd name="adj" fmla="val 58993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8029080" y="6064920"/>
                    <a:ext cx="32400" cy="21960"/>
                  </a:xfrm>
                  <a:prstGeom prst="parallelogram">
                    <a:avLst>
                      <a:gd name="adj" fmla="val 52220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7901280" y="6084720"/>
                    <a:ext cx="32040" cy="21960"/>
                  </a:xfrm>
                  <a:prstGeom prst="parallelogram">
                    <a:avLst>
                      <a:gd name="adj" fmla="val 51639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7925040" y="6085800"/>
                    <a:ext cx="32040" cy="21960"/>
                  </a:xfrm>
                  <a:prstGeom prst="parallelogram">
                    <a:avLst>
                      <a:gd name="adj" fmla="val 56456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7953120" y="6084720"/>
                    <a:ext cx="32040" cy="21960"/>
                  </a:xfrm>
                  <a:prstGeom prst="parallelogram">
                    <a:avLst>
                      <a:gd name="adj" fmla="val 51639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7976880" y="6085800"/>
                    <a:ext cx="33480" cy="21960"/>
                  </a:xfrm>
                  <a:prstGeom prst="parallelogram">
                    <a:avLst>
                      <a:gd name="adj" fmla="val 58993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8002080" y="6085800"/>
                    <a:ext cx="32400" cy="21960"/>
                  </a:xfrm>
                  <a:prstGeom prst="parallelogram">
                    <a:avLst>
                      <a:gd name="adj" fmla="val 52220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9" name=""/>
              <p:cNvGrpSpPr/>
              <p:nvPr/>
            </p:nvGrpSpPr>
            <p:grpSpPr>
              <a:xfrm>
                <a:off x="8469720" y="5634000"/>
                <a:ext cx="673560" cy="334080"/>
                <a:chOff x="8469720" y="5634000"/>
                <a:chExt cx="673560" cy="3340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8472240" y="5752800"/>
                  <a:ext cx="577800" cy="213120"/>
                </a:xfrm>
                <a:prstGeom prst="rect">
                  <a:avLst/>
                </a:prstGeom>
                <a:solidFill>
                  <a:srgbClr val="d8d8e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8691840" y="5892840"/>
                  <a:ext cx="146160" cy="24480"/>
                </a:xfrm>
                <a:prstGeom prst="ellipse">
                  <a:avLst/>
                </a:prstGeom>
                <a:solidFill>
                  <a:srgbClr val="5f5f5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8492040" y="5907600"/>
                  <a:ext cx="539640" cy="4608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8469720" y="5634000"/>
                  <a:ext cx="673560" cy="112320"/>
                </a:xfrm>
                <a:custGeom>
                  <a:avLst/>
                  <a:gdLst/>
                  <a:ahLst/>
                  <a:rect l="l" t="t" r="r" b="b"/>
                  <a:pathLst>
                    <a:path w="479" h="102">
                      <a:moveTo>
                        <a:pt x="0" y="101"/>
                      </a:moveTo>
                      <a:lnTo>
                        <a:pt x="96" y="0"/>
                      </a:lnTo>
                      <a:lnTo>
                        <a:pt x="478" y="0"/>
                      </a:lnTo>
                      <a:lnTo>
                        <a:pt x="411" y="101"/>
                      </a:lnTo>
                      <a:lnTo>
                        <a:pt x="0" y="101"/>
                      </a:lnTo>
                    </a:path>
                  </a:pathLst>
                </a:custGeom>
                <a:solidFill>
                  <a:srgbClr val="d8d8e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8607600" y="5658120"/>
                  <a:ext cx="471960" cy="129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>
                  <a:off x="8480520" y="5671440"/>
                  <a:ext cx="127800" cy="69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9050040" y="5675760"/>
                  <a:ext cx="32040" cy="64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9051480" y="5634000"/>
                  <a:ext cx="86760" cy="334080"/>
                </a:xfrm>
                <a:custGeom>
                  <a:avLst/>
                  <a:gdLst/>
                  <a:ahLst/>
                  <a:rect l="l" t="t" r="r" b="b"/>
                  <a:pathLst>
                    <a:path w="62" h="303">
                      <a:moveTo>
                        <a:pt x="61" y="0"/>
                      </a:moveTo>
                      <a:lnTo>
                        <a:pt x="61" y="219"/>
                      </a:lnTo>
                      <a:lnTo>
                        <a:pt x="0" y="302"/>
                      </a:lnTo>
                      <a:lnTo>
                        <a:pt x="0" y="105"/>
                      </a:lnTo>
                      <a:lnTo>
                        <a:pt x="61" y="0"/>
                      </a:lnTo>
                    </a:path>
                  </a:pathLst>
                </a:custGeom>
                <a:solidFill>
                  <a:srgbClr val="5f5f5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8" name=""/>
                <p:cNvGrpSpPr/>
                <p:nvPr/>
              </p:nvGrpSpPr>
              <p:grpSpPr>
                <a:xfrm>
                  <a:off x="9093600" y="5690160"/>
                  <a:ext cx="28080" cy="164520"/>
                  <a:chOff x="9093600" y="5690160"/>
                  <a:chExt cx="28080" cy="164520"/>
                </a:xfrm>
              </p:grpSpPr>
              <p:grpSp>
                <p:nvGrpSpPr>
                  <p:cNvPr id="229" name=""/>
                  <p:cNvGrpSpPr/>
                  <p:nvPr/>
                </p:nvGrpSpPr>
                <p:grpSpPr>
                  <a:xfrm>
                    <a:off x="9093600" y="5690160"/>
                    <a:ext cx="28080" cy="74520"/>
                    <a:chOff x="9093600" y="5690160"/>
                    <a:chExt cx="28080" cy="74520"/>
                  </a:xfrm>
                </p:grpSpPr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9121680" y="5690160"/>
                      <a:ext cx="0" cy="28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9117000" y="5696640"/>
                      <a:ext cx="0" cy="29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9115920" y="5702400"/>
                      <a:ext cx="0" cy="29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9113040" y="5706360"/>
                      <a:ext cx="0" cy="27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9109080" y="5712120"/>
                      <a:ext cx="0" cy="277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9106200" y="5717520"/>
                      <a:ext cx="0" cy="26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9101880" y="5722920"/>
                      <a:ext cx="0" cy="277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9097920" y="5731920"/>
                      <a:ext cx="0" cy="27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9093600" y="5735160"/>
                      <a:ext cx="0" cy="29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9101880" y="5727600"/>
                      <a:ext cx="0" cy="26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9093600" y="5735160"/>
                    <a:ext cx="28080" cy="73440"/>
                    <a:chOff x="9093600" y="5735160"/>
                    <a:chExt cx="28080" cy="7344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9121680" y="5735160"/>
                      <a:ext cx="0" cy="28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9117000" y="5742720"/>
                      <a:ext cx="0" cy="27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9115920" y="5745960"/>
                      <a:ext cx="0" cy="28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9113040" y="5750280"/>
                      <a:ext cx="0" cy="29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9109080" y="5758200"/>
                      <a:ext cx="0" cy="24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9106200" y="5760000"/>
                      <a:ext cx="0" cy="29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9101880" y="5766840"/>
                      <a:ext cx="0" cy="29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9097920" y="5775480"/>
                      <a:ext cx="0" cy="28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9093600" y="5781240"/>
                      <a:ext cx="0" cy="27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9101880" y="5771160"/>
                      <a:ext cx="0" cy="27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9093600" y="5781240"/>
                    <a:ext cx="28080" cy="73440"/>
                    <a:chOff x="9093600" y="5781240"/>
                    <a:chExt cx="28080" cy="7344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9121680" y="5781240"/>
                      <a:ext cx="0" cy="28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9117000" y="5787720"/>
                      <a:ext cx="0" cy="27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9115920" y="5792040"/>
                      <a:ext cx="0" cy="29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9113040" y="5797440"/>
                      <a:ext cx="0" cy="27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9109080" y="5803200"/>
                      <a:ext cx="0" cy="26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9106200" y="5807520"/>
                      <a:ext cx="0" cy="28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9101880" y="5812920"/>
                      <a:ext cx="0" cy="28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9097920" y="5823000"/>
                      <a:ext cx="0" cy="27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9093600" y="5827320"/>
                      <a:ext cx="0" cy="27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9101880" y="5817600"/>
                      <a:ext cx="0" cy="28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62" name=""/>
                <p:cNvSpPr/>
                <p:nvPr/>
              </p:nvSpPr>
              <p:spPr>
                <a:xfrm>
                  <a:off x="8912160" y="5658120"/>
                  <a:ext cx="168840" cy="48240"/>
                </a:xfrm>
                <a:custGeom>
                  <a:avLst/>
                  <a:gdLst/>
                  <a:ahLst/>
                  <a:rect l="l" t="t" r="r" b="b"/>
                  <a:pathLst>
                    <a:path w="120" h="44">
                      <a:moveTo>
                        <a:pt x="0" y="43"/>
                      </a:moveTo>
                      <a:lnTo>
                        <a:pt x="15" y="0"/>
                      </a:lnTo>
                      <a:lnTo>
                        <a:pt x="119" y="0"/>
                      </a:lnTo>
                      <a:lnTo>
                        <a:pt x="109" y="43"/>
                      </a:lnTo>
                      <a:lnTo>
                        <a:pt x="0" y="43"/>
                      </a:lnTo>
                    </a:path>
                  </a:pathLst>
                </a:custGeom>
                <a:solidFill>
                  <a:srgbClr val="d8d8e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993880" y="5766120"/>
                  <a:ext cx="35280" cy="129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939160" y="5665680"/>
                  <a:ext cx="122400" cy="25200"/>
                </a:xfrm>
                <a:custGeom>
                  <a:avLst/>
                  <a:gdLst/>
                  <a:ahLst/>
                  <a:rect l="l" t="t" r="r" b="b"/>
                  <a:pathLst>
                    <a:path w="87" h="23">
                      <a:moveTo>
                        <a:pt x="5" y="0"/>
                      </a:moveTo>
                      <a:lnTo>
                        <a:pt x="0" y="22"/>
                      </a:lnTo>
                      <a:lnTo>
                        <a:pt x="81" y="22"/>
                      </a:lnTo>
                      <a:lnTo>
                        <a:pt x="86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538840" y="5663520"/>
                  <a:ext cx="334080" cy="72720"/>
                </a:xfrm>
                <a:custGeom>
                  <a:avLst/>
                  <a:gdLst/>
                  <a:ahLst/>
                  <a:rect l="l" t="t" r="r" b="b"/>
                  <a:pathLst>
                    <a:path w="238" h="66">
                      <a:moveTo>
                        <a:pt x="92" y="0"/>
                      </a:moveTo>
                      <a:lnTo>
                        <a:pt x="72" y="5"/>
                      </a:lnTo>
                      <a:lnTo>
                        <a:pt x="56" y="14"/>
                      </a:lnTo>
                      <a:lnTo>
                        <a:pt x="36" y="28"/>
                      </a:lnTo>
                      <a:lnTo>
                        <a:pt x="24" y="39"/>
                      </a:lnTo>
                      <a:lnTo>
                        <a:pt x="10" y="53"/>
                      </a:lnTo>
                      <a:lnTo>
                        <a:pt x="0" y="65"/>
                      </a:lnTo>
                      <a:lnTo>
                        <a:pt x="159" y="65"/>
                      </a:lnTo>
                      <a:lnTo>
                        <a:pt x="167" y="53"/>
                      </a:lnTo>
                      <a:lnTo>
                        <a:pt x="176" y="42"/>
                      </a:lnTo>
                      <a:lnTo>
                        <a:pt x="183" y="33"/>
                      </a:lnTo>
                      <a:lnTo>
                        <a:pt x="192" y="25"/>
                      </a:lnTo>
                      <a:lnTo>
                        <a:pt x="202" y="18"/>
                      </a:lnTo>
                      <a:lnTo>
                        <a:pt x="211" y="12"/>
                      </a:lnTo>
                      <a:lnTo>
                        <a:pt x="222" y="6"/>
                      </a:lnTo>
                      <a:lnTo>
                        <a:pt x="237" y="0"/>
                      </a:lnTo>
                      <a:lnTo>
                        <a:pt x="9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"/>
              <p:cNvSpPr/>
              <p:nvPr/>
            </p:nvSpPr>
            <p:spPr>
              <a:xfrm>
                <a:off x="8282880" y="5803560"/>
                <a:ext cx="189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187120" y="5870880"/>
                <a:ext cx="240120" cy="134280"/>
              </a:xfrm>
              <a:custGeom>
                <a:avLst/>
                <a:gdLst/>
                <a:ahLst/>
                <a:rect l="l" t="t" r="r" b="b"/>
                <a:pathLst>
                  <a:path w="171" h="122">
                    <a:moveTo>
                      <a:pt x="0" y="121"/>
                    </a:moveTo>
                    <a:lnTo>
                      <a:pt x="51" y="99"/>
                    </a:lnTo>
                    <a:lnTo>
                      <a:pt x="76" y="96"/>
                    </a:lnTo>
                    <a:lnTo>
                      <a:pt x="102" y="92"/>
                    </a:lnTo>
                    <a:lnTo>
                      <a:pt x="119" y="81"/>
                    </a:lnTo>
                    <a:lnTo>
                      <a:pt x="136" y="71"/>
                    </a:lnTo>
                    <a:lnTo>
                      <a:pt x="144" y="60"/>
                    </a:lnTo>
                    <a:lnTo>
                      <a:pt x="153" y="49"/>
                    </a:lnTo>
                    <a:lnTo>
                      <a:pt x="170" y="39"/>
                    </a:lnTo>
                    <a:lnTo>
                      <a:pt x="170" y="28"/>
                    </a:lnTo>
                    <a:lnTo>
                      <a:pt x="170" y="17"/>
                    </a:lnTo>
                    <a:lnTo>
                      <a:pt x="161" y="7"/>
                    </a:lnTo>
                    <a:lnTo>
                      <a:pt x="136" y="0"/>
                    </a:lnTo>
                    <a:lnTo>
                      <a:pt x="11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2989440" y="5606280"/>
              <a:ext cx="1735200" cy="661680"/>
              <a:chOff x="2989440" y="5606280"/>
              <a:chExt cx="1735200" cy="66168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2989440" y="5606280"/>
                <a:ext cx="957240" cy="661680"/>
                <a:chOff x="2989440" y="5606280"/>
                <a:chExt cx="957240" cy="661680"/>
              </a:xfrm>
            </p:grpSpPr>
            <p:grpSp>
              <p:nvGrpSpPr>
                <p:cNvPr id="270" name=""/>
                <p:cNvGrpSpPr/>
                <p:nvPr/>
              </p:nvGrpSpPr>
              <p:grpSpPr>
                <a:xfrm>
                  <a:off x="2989440" y="6147720"/>
                  <a:ext cx="767160" cy="120240"/>
                  <a:chOff x="2989440" y="6147720"/>
                  <a:chExt cx="767160" cy="12024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>
                    <a:off x="2991960" y="6147720"/>
                    <a:ext cx="100800" cy="120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09">
                        <a:moveTo>
                          <a:pt x="71" y="0"/>
                        </a:moveTo>
                        <a:lnTo>
                          <a:pt x="57" y="23"/>
                        </a:lnTo>
                        <a:lnTo>
                          <a:pt x="43" y="47"/>
                        </a:lnTo>
                        <a:lnTo>
                          <a:pt x="23" y="68"/>
                        </a:lnTo>
                        <a:lnTo>
                          <a:pt x="1" y="88"/>
                        </a:lnTo>
                        <a:lnTo>
                          <a:pt x="0" y="108"/>
                        </a:lnTo>
                        <a:lnTo>
                          <a:pt x="71" y="39"/>
                        </a:lnTo>
                        <a:lnTo>
                          <a:pt x="71" y="0"/>
                        </a:lnTo>
                      </a:path>
                    </a:pathLst>
                  </a:custGeom>
                  <a:solidFill>
                    <a:srgbClr val="cccc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3656880" y="6147720"/>
                    <a:ext cx="99720" cy="12024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109">
                        <a:moveTo>
                          <a:pt x="70" y="0"/>
                        </a:moveTo>
                        <a:lnTo>
                          <a:pt x="55" y="24"/>
                        </a:lnTo>
                        <a:lnTo>
                          <a:pt x="35" y="53"/>
                        </a:lnTo>
                        <a:lnTo>
                          <a:pt x="0" y="91"/>
                        </a:lnTo>
                        <a:lnTo>
                          <a:pt x="0" y="108"/>
                        </a:lnTo>
                        <a:lnTo>
                          <a:pt x="70" y="41"/>
                        </a:lnTo>
                        <a:lnTo>
                          <a:pt x="7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2989440" y="6147720"/>
                    <a:ext cx="7660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5" h="94">
                        <a:moveTo>
                          <a:pt x="72" y="0"/>
                        </a:moveTo>
                        <a:lnTo>
                          <a:pt x="544" y="0"/>
                        </a:lnTo>
                        <a:lnTo>
                          <a:pt x="533" y="22"/>
                        </a:lnTo>
                        <a:lnTo>
                          <a:pt x="520" y="39"/>
                        </a:lnTo>
                        <a:lnTo>
                          <a:pt x="506" y="57"/>
                        </a:lnTo>
                        <a:lnTo>
                          <a:pt x="495" y="70"/>
                        </a:lnTo>
                        <a:lnTo>
                          <a:pt x="476" y="92"/>
                        </a:lnTo>
                        <a:lnTo>
                          <a:pt x="464" y="93"/>
                        </a:lnTo>
                        <a:lnTo>
                          <a:pt x="0" y="92"/>
                        </a:lnTo>
                        <a:lnTo>
                          <a:pt x="8" y="83"/>
                        </a:lnTo>
                        <a:lnTo>
                          <a:pt x="18" y="73"/>
                        </a:lnTo>
                        <a:lnTo>
                          <a:pt x="31" y="59"/>
                        </a:lnTo>
                        <a:lnTo>
                          <a:pt x="44" y="44"/>
                        </a:lnTo>
                        <a:lnTo>
                          <a:pt x="53" y="33"/>
                        </a:lnTo>
                        <a:lnTo>
                          <a:pt x="60" y="22"/>
                        </a:lnTo>
                        <a:lnTo>
                          <a:pt x="70" y="7"/>
                        </a:lnTo>
                        <a:lnTo>
                          <a:pt x="72" y="0"/>
                        </a:lnTo>
                      </a:path>
                    </a:pathLst>
                  </a:custGeom>
                  <a:solidFill>
                    <a:srgbClr val="cbcbcb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993400" y="6254640"/>
                    <a:ext cx="65916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3101760" y="6175080"/>
                    <a:ext cx="30600" cy="21960"/>
                  </a:xfrm>
                  <a:prstGeom prst="parallelogram">
                    <a:avLst>
                      <a:gd name="adj" fmla="val 53918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3128400" y="6175080"/>
                    <a:ext cx="32400" cy="21960"/>
                  </a:xfrm>
                  <a:prstGeom prst="parallelogram">
                    <a:avLst>
                      <a:gd name="adj" fmla="val 52220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3152160" y="6175080"/>
                    <a:ext cx="32400" cy="21960"/>
                  </a:xfrm>
                  <a:prstGeom prst="parallelogram">
                    <a:avLst>
                      <a:gd name="adj" fmla="val 57090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3179160" y="6175080"/>
                    <a:ext cx="32040" cy="21960"/>
                  </a:xfrm>
                  <a:prstGeom prst="parallelogram">
                    <a:avLst>
                      <a:gd name="adj" fmla="val 51639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3204360" y="6176160"/>
                    <a:ext cx="32400" cy="21960"/>
                  </a:xfrm>
                  <a:prstGeom prst="parallelogram">
                    <a:avLst>
                      <a:gd name="adj" fmla="val 57090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3232440" y="6175080"/>
                    <a:ext cx="32040" cy="21960"/>
                  </a:xfrm>
                  <a:prstGeom prst="parallelogram">
                    <a:avLst>
                      <a:gd name="adj" fmla="val 51639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3256560" y="6176160"/>
                    <a:ext cx="32040" cy="21960"/>
                  </a:xfrm>
                  <a:prstGeom prst="parallelogram">
                    <a:avLst>
                      <a:gd name="adj" fmla="val 56456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3285720" y="6175080"/>
                    <a:ext cx="32400" cy="21960"/>
                  </a:xfrm>
                  <a:prstGeom prst="parallelogram">
                    <a:avLst>
                      <a:gd name="adj" fmla="val 52220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3312720" y="6176160"/>
                    <a:ext cx="30600" cy="21960"/>
                  </a:xfrm>
                  <a:prstGeom prst="parallelogram">
                    <a:avLst>
                      <a:gd name="adj" fmla="val 53918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3337920" y="6175080"/>
                    <a:ext cx="32400" cy="21960"/>
                  </a:xfrm>
                  <a:prstGeom prst="parallelogram">
                    <a:avLst>
                      <a:gd name="adj" fmla="val 52220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3363480" y="6176160"/>
                    <a:ext cx="32040" cy="21960"/>
                  </a:xfrm>
                  <a:prstGeom prst="parallelogram">
                    <a:avLst>
                      <a:gd name="adj" fmla="val 56456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3390120" y="6176160"/>
                    <a:ext cx="32040" cy="21960"/>
                  </a:xfrm>
                  <a:prstGeom prst="parallelogram">
                    <a:avLst>
                      <a:gd name="adj" fmla="val 51639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3413520" y="6176160"/>
                    <a:ext cx="32400" cy="21960"/>
                  </a:xfrm>
                  <a:prstGeom prst="parallelogram">
                    <a:avLst>
                      <a:gd name="adj" fmla="val 57090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3441960" y="6176160"/>
                    <a:ext cx="30600" cy="21960"/>
                  </a:xfrm>
                  <a:prstGeom prst="parallelogram">
                    <a:avLst>
                      <a:gd name="adj" fmla="val 49319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3467160" y="6176160"/>
                    <a:ext cx="32040" cy="21960"/>
                  </a:xfrm>
                  <a:prstGeom prst="parallelogram">
                    <a:avLst>
                      <a:gd name="adj" fmla="val 56456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3081960" y="6195960"/>
                    <a:ext cx="30600" cy="21960"/>
                  </a:xfrm>
                  <a:prstGeom prst="parallelogram">
                    <a:avLst>
                      <a:gd name="adj" fmla="val 53918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3108960" y="6195960"/>
                    <a:ext cx="32040" cy="21960"/>
                  </a:xfrm>
                  <a:prstGeom prst="parallelogram">
                    <a:avLst>
                      <a:gd name="adj" fmla="val 51639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3135240" y="6195960"/>
                    <a:ext cx="33480" cy="21960"/>
                  </a:xfrm>
                  <a:prstGeom prst="parallelogram">
                    <a:avLst>
                      <a:gd name="adj" fmla="val 58993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3163680" y="6195960"/>
                    <a:ext cx="30600" cy="21960"/>
                  </a:xfrm>
                  <a:prstGeom prst="parallelogram">
                    <a:avLst>
                      <a:gd name="adj" fmla="val 49319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3190320" y="6197400"/>
                    <a:ext cx="33480" cy="21960"/>
                  </a:xfrm>
                  <a:prstGeom prst="parallelogram">
                    <a:avLst>
                      <a:gd name="adj" fmla="val 58993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3218400" y="6195960"/>
                    <a:ext cx="32040" cy="21960"/>
                  </a:xfrm>
                  <a:prstGeom prst="parallelogram">
                    <a:avLst>
                      <a:gd name="adj" fmla="val 51639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3245040" y="6197400"/>
                    <a:ext cx="33480" cy="21960"/>
                  </a:xfrm>
                  <a:prstGeom prst="parallelogram">
                    <a:avLst>
                      <a:gd name="adj" fmla="val 58993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3276000" y="6195960"/>
                    <a:ext cx="32400" cy="21960"/>
                  </a:xfrm>
                  <a:prstGeom prst="parallelogram">
                    <a:avLst>
                      <a:gd name="adj" fmla="val 52220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3302640" y="6197400"/>
                    <a:ext cx="33480" cy="21960"/>
                  </a:xfrm>
                  <a:prstGeom prst="parallelogram">
                    <a:avLst>
                      <a:gd name="adj" fmla="val 58993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3329640" y="6195960"/>
                    <a:ext cx="33480" cy="21960"/>
                  </a:xfrm>
                  <a:prstGeom prst="parallelogram">
                    <a:avLst>
                      <a:gd name="adj" fmla="val 53961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3357720" y="6197400"/>
                    <a:ext cx="33480" cy="21960"/>
                  </a:xfrm>
                  <a:prstGeom prst="parallelogram">
                    <a:avLst>
                      <a:gd name="adj" fmla="val 58993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3385800" y="6197400"/>
                    <a:ext cx="32400" cy="21960"/>
                  </a:xfrm>
                  <a:prstGeom prst="parallelogram">
                    <a:avLst>
                      <a:gd name="adj" fmla="val 52220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3413520" y="6198480"/>
                    <a:ext cx="32400" cy="21960"/>
                  </a:xfrm>
                  <a:prstGeom prst="parallelogram">
                    <a:avLst>
                      <a:gd name="adj" fmla="val 57090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3439080" y="6197400"/>
                    <a:ext cx="33480" cy="21960"/>
                  </a:xfrm>
                  <a:prstGeom prst="parallelogram">
                    <a:avLst>
                      <a:gd name="adj" fmla="val 53961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3467160" y="6198480"/>
                    <a:ext cx="33480" cy="21960"/>
                  </a:xfrm>
                  <a:prstGeom prst="parallelogram">
                    <a:avLst>
                      <a:gd name="adj" fmla="val 58993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3047040" y="6220440"/>
                    <a:ext cx="32040" cy="23040"/>
                  </a:xfrm>
                  <a:prstGeom prst="parallelogram">
                    <a:avLst>
                      <a:gd name="adj" fmla="val 53809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3081960" y="6220440"/>
                    <a:ext cx="33480" cy="23040"/>
                  </a:xfrm>
                  <a:prstGeom prst="parallelogram">
                    <a:avLst>
                      <a:gd name="adj" fmla="val 51431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3111480" y="6222600"/>
                    <a:ext cx="30600" cy="21960"/>
                  </a:xfrm>
                  <a:prstGeom prst="parallelogram">
                    <a:avLst>
                      <a:gd name="adj" fmla="val 53918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3141000" y="6220440"/>
                    <a:ext cx="33480" cy="23040"/>
                  </a:xfrm>
                  <a:prstGeom prst="parallelogram">
                    <a:avLst>
                      <a:gd name="adj" fmla="val 51431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3169080" y="6220440"/>
                    <a:ext cx="33480" cy="23040"/>
                  </a:xfrm>
                  <a:prstGeom prst="parallelogram">
                    <a:avLst>
                      <a:gd name="adj" fmla="val 56228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3197160" y="6220440"/>
                    <a:ext cx="33480" cy="23040"/>
                  </a:xfrm>
                  <a:prstGeom prst="parallelogram">
                    <a:avLst>
                      <a:gd name="adj" fmla="val 51431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3223800" y="6220440"/>
                    <a:ext cx="32400" cy="23040"/>
                  </a:xfrm>
                  <a:prstGeom prst="parallelogram">
                    <a:avLst>
                      <a:gd name="adj" fmla="val 54414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3254760" y="6220440"/>
                    <a:ext cx="33480" cy="23040"/>
                  </a:xfrm>
                  <a:prstGeom prst="parallelogram">
                    <a:avLst>
                      <a:gd name="adj" fmla="val 51431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3280320" y="6220440"/>
                    <a:ext cx="33480" cy="23040"/>
                  </a:xfrm>
                  <a:prstGeom prst="parallelogram">
                    <a:avLst>
                      <a:gd name="adj" fmla="val 56228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3308400" y="6220440"/>
                    <a:ext cx="34920" cy="23040"/>
                  </a:xfrm>
                  <a:prstGeom prst="parallelogram">
                    <a:avLst>
                      <a:gd name="adj" fmla="val 53643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3337920" y="6220440"/>
                    <a:ext cx="32400" cy="23040"/>
                  </a:xfrm>
                  <a:prstGeom prst="parallelogram">
                    <a:avLst>
                      <a:gd name="adj" fmla="val 54414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3363480" y="6220440"/>
                    <a:ext cx="34920" cy="23040"/>
                  </a:xfrm>
                  <a:prstGeom prst="parallelogram">
                    <a:avLst>
                      <a:gd name="adj" fmla="val 53643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3391200" y="6222600"/>
                    <a:ext cx="33480" cy="21960"/>
                  </a:xfrm>
                  <a:prstGeom prst="parallelogram">
                    <a:avLst>
                      <a:gd name="adj" fmla="val 58993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3418200" y="6220440"/>
                    <a:ext cx="34920" cy="23040"/>
                  </a:xfrm>
                  <a:prstGeom prst="parallelogram">
                    <a:avLst>
                      <a:gd name="adj" fmla="val 53643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3446280" y="6222600"/>
                    <a:ext cx="33480" cy="21960"/>
                  </a:xfrm>
                  <a:prstGeom prst="parallelogram">
                    <a:avLst>
                      <a:gd name="adj" fmla="val 58993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3551760" y="6174000"/>
                    <a:ext cx="33480" cy="21960"/>
                  </a:xfrm>
                  <a:prstGeom prst="parallelogram">
                    <a:avLst>
                      <a:gd name="adj" fmla="val 53961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3578400" y="6174000"/>
                    <a:ext cx="32400" cy="21960"/>
                  </a:xfrm>
                  <a:prstGeom prst="parallelogram">
                    <a:avLst>
                      <a:gd name="adj" fmla="val 57090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3605040" y="6174000"/>
                    <a:ext cx="30600" cy="21960"/>
                  </a:xfrm>
                  <a:prstGeom prst="parallelogram">
                    <a:avLst>
                      <a:gd name="adj" fmla="val 49319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3628800" y="6174000"/>
                    <a:ext cx="30600" cy="21960"/>
                  </a:xfrm>
                  <a:prstGeom prst="parallelogram">
                    <a:avLst>
                      <a:gd name="adj" fmla="val 53918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3656880" y="6174000"/>
                    <a:ext cx="30600" cy="21960"/>
                  </a:xfrm>
                  <a:prstGeom prst="parallelogram">
                    <a:avLst>
                      <a:gd name="adj" fmla="val 49319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3529080" y="6199200"/>
                    <a:ext cx="32400" cy="23040"/>
                  </a:xfrm>
                  <a:prstGeom prst="parallelogram">
                    <a:avLst>
                      <a:gd name="adj" fmla="val 49772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3554280" y="6199200"/>
                    <a:ext cx="32400" cy="23040"/>
                  </a:xfrm>
                  <a:prstGeom prst="parallelogram">
                    <a:avLst>
                      <a:gd name="adj" fmla="val 54414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3581280" y="6199200"/>
                    <a:ext cx="30600" cy="23040"/>
                  </a:xfrm>
                  <a:prstGeom prst="parallelogram">
                    <a:avLst>
                      <a:gd name="adj" fmla="val 47007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3606480" y="6199200"/>
                    <a:ext cx="32040" cy="23040"/>
                  </a:xfrm>
                  <a:prstGeom prst="parallelogram">
                    <a:avLst>
                      <a:gd name="adj" fmla="val 53809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3633120" y="6199200"/>
                    <a:ext cx="30600" cy="23040"/>
                  </a:xfrm>
                  <a:prstGeom prst="parallelogram">
                    <a:avLst>
                      <a:gd name="adj" fmla="val 47007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3505320" y="6220440"/>
                    <a:ext cx="32400" cy="23040"/>
                  </a:xfrm>
                  <a:prstGeom prst="parallelogram">
                    <a:avLst>
                      <a:gd name="adj" fmla="val 49772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3530520" y="6220440"/>
                    <a:ext cx="32400" cy="23040"/>
                  </a:xfrm>
                  <a:prstGeom prst="parallelogram">
                    <a:avLst>
                      <a:gd name="adj" fmla="val 54414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3554280" y="6220440"/>
                    <a:ext cx="33480" cy="23040"/>
                  </a:xfrm>
                  <a:prstGeom prst="parallelogram">
                    <a:avLst>
                      <a:gd name="adj" fmla="val 51431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3582720" y="6220440"/>
                    <a:ext cx="32040" cy="23040"/>
                  </a:xfrm>
                  <a:prstGeom prst="parallelogram">
                    <a:avLst>
                      <a:gd name="adj" fmla="val 53809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3609000" y="6220440"/>
                    <a:ext cx="30600" cy="23040"/>
                  </a:xfrm>
                  <a:prstGeom prst="parallelogram">
                    <a:avLst>
                      <a:gd name="adj" fmla="val 47007"/>
                    </a:avLst>
                  </a:prstGeom>
                  <a:solidFill>
                    <a:srgbClr val="8686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3194640" y="5876280"/>
                  <a:ext cx="752040" cy="235080"/>
                  <a:chOff x="3194640" y="5876280"/>
                  <a:chExt cx="752040" cy="235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3194640" y="5876280"/>
                    <a:ext cx="752040" cy="235080"/>
                  </a:xfrm>
                  <a:prstGeom prst="cube">
                    <a:avLst>
                      <a:gd name="adj" fmla="val 53893"/>
                    </a:avLst>
                  </a:prstGeom>
                  <a:solidFill>
                    <a:srgbClr val="cbcbc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3195720" y="6008760"/>
                    <a:ext cx="560520" cy="100080"/>
                  </a:xfrm>
                  <a:prstGeom prst="rect">
                    <a:avLst/>
                  </a:prstGeom>
                  <a:solidFill>
                    <a:srgbClr val="d8d8e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3512160" y="6019560"/>
                    <a:ext cx="223200" cy="3492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880" bIns="-11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3512160" y="6068160"/>
                    <a:ext cx="223200" cy="338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960" bIns="-12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3467160" y="6020640"/>
                    <a:ext cx="22320" cy="7812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320" bIns="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3527640" y="6030720"/>
                    <a:ext cx="189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3403800" y="6085800"/>
                    <a:ext cx="27720" cy="1296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43" name=""/>
                  <p:cNvGraphicFramePr/>
                  <p:nvPr/>
                </p:nvGraphicFramePr>
                <p:xfrm>
                  <a:off x="3222360" y="6023880"/>
                  <a:ext cx="99720" cy="12960"/>
                </p:xfrm>
                <a:graphic>
                  <a:graphicData uri="http://schemas.openxmlformats.org/presentationml/2006/ole">
                    <p:oleObj r:id="rId4" spid="">
                      <p:embed/>
                      <p:pic>
                        <p:nvPicPr>
                          <p:cNvPr id="344" name="" descr=""/>
                          <p:cNvPicPr/>
                          <p:nvPr/>
                        </p:nvPicPr>
                        <p:blipFill>
                          <a:blip r:embed="rId5"/>
                          <a:stretch/>
                        </p:blipFill>
                        <p:spPr>
                          <a:xfrm>
                            <a:off x="3222360" y="6023880"/>
                            <a:ext cx="99720" cy="12960"/>
                          </a:xfrm>
                          <a:prstGeom prst="rect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345" name=""/>
                  <p:cNvSpPr/>
                  <p:nvPr/>
                </p:nvSpPr>
                <p:spPr>
                  <a:xfrm>
                    <a:off x="3280320" y="6012000"/>
                    <a:ext cx="61560" cy="40680"/>
                  </a:xfrm>
                  <a:prstGeom prst="rect">
                    <a:avLst/>
                  </a:prstGeom>
                  <a:solidFill>
                    <a:srgbClr val="d8d8e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6" name=""/>
                <p:cNvGrpSpPr/>
                <p:nvPr/>
              </p:nvGrpSpPr>
              <p:grpSpPr>
                <a:xfrm>
                  <a:off x="3276000" y="5606280"/>
                  <a:ext cx="566640" cy="361800"/>
                  <a:chOff x="3276000" y="5606280"/>
                  <a:chExt cx="566640" cy="36180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3382560" y="5910840"/>
                    <a:ext cx="343080" cy="57240"/>
                  </a:xfrm>
                  <a:prstGeom prst="cube">
                    <a:avLst>
                      <a:gd name="adj" fmla="val 63592"/>
                    </a:avLst>
                  </a:prstGeom>
                  <a:solidFill>
                    <a:srgbClr val="d8d8e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560" bIns="-25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3280320" y="5623920"/>
                    <a:ext cx="522720" cy="274680"/>
                  </a:xfrm>
                  <a:prstGeom prst="rect">
                    <a:avLst/>
                  </a:prstGeom>
                  <a:solidFill>
                    <a:srgbClr val="d8d8e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3318120" y="5643720"/>
                    <a:ext cx="438480" cy="236160"/>
                  </a:xfrm>
                  <a:prstGeom prst="roundRect">
                    <a:avLst>
                      <a:gd name="adj" fmla="val 13843"/>
                    </a:avLst>
                  </a:prstGeom>
                  <a:solidFill>
                    <a:srgbClr val="99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3276000" y="5606280"/>
                    <a:ext cx="56124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399" h="21">
                        <a:moveTo>
                          <a:pt x="0" y="20"/>
                        </a:moveTo>
                        <a:lnTo>
                          <a:pt x="31" y="0"/>
                        </a:lnTo>
                        <a:lnTo>
                          <a:pt x="398" y="0"/>
                        </a:lnTo>
                        <a:lnTo>
                          <a:pt x="384" y="20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d8d8ec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3809160" y="5606280"/>
                    <a:ext cx="33480" cy="29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67">
                        <a:moveTo>
                          <a:pt x="23" y="0"/>
                        </a:moveTo>
                        <a:lnTo>
                          <a:pt x="23" y="231"/>
                        </a:lnTo>
                        <a:lnTo>
                          <a:pt x="0" y="266"/>
                        </a:lnTo>
                        <a:lnTo>
                          <a:pt x="0" y="12"/>
                        </a:lnTo>
                        <a:lnTo>
                          <a:pt x="23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3425040" y="5899680"/>
                    <a:ext cx="24012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38">
                        <a:moveTo>
                          <a:pt x="0" y="0"/>
                        </a:moveTo>
                        <a:lnTo>
                          <a:pt x="18" y="3"/>
                        </a:lnTo>
                        <a:lnTo>
                          <a:pt x="32" y="10"/>
                        </a:lnTo>
                        <a:lnTo>
                          <a:pt x="40" y="18"/>
                        </a:lnTo>
                        <a:lnTo>
                          <a:pt x="47" y="28"/>
                        </a:lnTo>
                        <a:lnTo>
                          <a:pt x="55" y="33"/>
                        </a:lnTo>
                        <a:lnTo>
                          <a:pt x="70" y="36"/>
                        </a:lnTo>
                        <a:lnTo>
                          <a:pt x="85" y="37"/>
                        </a:lnTo>
                        <a:lnTo>
                          <a:pt x="99" y="37"/>
                        </a:lnTo>
                        <a:lnTo>
                          <a:pt x="114" y="34"/>
                        </a:lnTo>
                        <a:lnTo>
                          <a:pt x="127" y="30"/>
                        </a:lnTo>
                        <a:lnTo>
                          <a:pt x="130" y="22"/>
                        </a:lnTo>
                        <a:lnTo>
                          <a:pt x="136" y="14"/>
                        </a:lnTo>
                        <a:lnTo>
                          <a:pt x="144" y="9"/>
                        </a:lnTo>
                        <a:lnTo>
                          <a:pt x="155" y="3"/>
                        </a:lnTo>
                        <a:lnTo>
                          <a:pt x="170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3" name=""/>
              <p:cNvGrpSpPr/>
              <p:nvPr/>
            </p:nvGrpSpPr>
            <p:grpSpPr>
              <a:xfrm>
                <a:off x="4051080" y="5753880"/>
                <a:ext cx="673560" cy="333000"/>
                <a:chOff x="4051080" y="5753880"/>
                <a:chExt cx="673560" cy="33300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4053600" y="5871600"/>
                  <a:ext cx="577800" cy="213480"/>
                </a:xfrm>
                <a:prstGeom prst="rect">
                  <a:avLst/>
                </a:prstGeom>
                <a:solidFill>
                  <a:srgbClr val="d8d8e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4273200" y="6012720"/>
                  <a:ext cx="145800" cy="24120"/>
                </a:xfrm>
                <a:prstGeom prst="ellipse">
                  <a:avLst/>
                </a:prstGeom>
                <a:solidFill>
                  <a:srgbClr val="5f5f5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4073400" y="6026040"/>
                  <a:ext cx="539640" cy="4716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4051080" y="5753880"/>
                  <a:ext cx="673560" cy="112320"/>
                </a:xfrm>
                <a:custGeom>
                  <a:avLst/>
                  <a:gdLst/>
                  <a:ahLst/>
                  <a:rect l="l" t="t" r="r" b="b"/>
                  <a:pathLst>
                    <a:path w="479" h="102">
                      <a:moveTo>
                        <a:pt x="0" y="101"/>
                      </a:moveTo>
                      <a:lnTo>
                        <a:pt x="96" y="0"/>
                      </a:lnTo>
                      <a:lnTo>
                        <a:pt x="478" y="0"/>
                      </a:lnTo>
                      <a:lnTo>
                        <a:pt x="411" y="101"/>
                      </a:lnTo>
                      <a:lnTo>
                        <a:pt x="0" y="101"/>
                      </a:lnTo>
                    </a:path>
                  </a:pathLst>
                </a:custGeom>
                <a:solidFill>
                  <a:srgbClr val="d8d8e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4190400" y="5776560"/>
                  <a:ext cx="470880" cy="1440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>
                  <a:off x="4062240" y="5791320"/>
                  <a:ext cx="128160" cy="69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H="1">
                  <a:off x="4631760" y="5795640"/>
                  <a:ext cx="32400" cy="6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4633200" y="5753880"/>
                  <a:ext cx="86760" cy="333000"/>
                </a:xfrm>
                <a:custGeom>
                  <a:avLst/>
                  <a:gdLst/>
                  <a:ahLst/>
                  <a:rect l="l" t="t" r="r" b="b"/>
                  <a:pathLst>
                    <a:path w="62" h="302">
                      <a:moveTo>
                        <a:pt x="61" y="0"/>
                      </a:moveTo>
                      <a:lnTo>
                        <a:pt x="61" y="218"/>
                      </a:lnTo>
                      <a:lnTo>
                        <a:pt x="0" y="301"/>
                      </a:lnTo>
                      <a:lnTo>
                        <a:pt x="0" y="104"/>
                      </a:lnTo>
                      <a:lnTo>
                        <a:pt x="61" y="0"/>
                      </a:lnTo>
                    </a:path>
                  </a:pathLst>
                </a:custGeom>
                <a:solidFill>
                  <a:srgbClr val="5f5f5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2" name=""/>
                <p:cNvGrpSpPr/>
                <p:nvPr/>
              </p:nvGrpSpPr>
              <p:grpSpPr>
                <a:xfrm>
                  <a:off x="4675320" y="5808600"/>
                  <a:ext cx="27720" cy="164880"/>
                  <a:chOff x="4675320" y="5808600"/>
                  <a:chExt cx="27720" cy="16488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4675320" y="5808600"/>
                    <a:ext cx="27720" cy="74880"/>
                    <a:chOff x="4675320" y="5808600"/>
                    <a:chExt cx="27720" cy="7488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4703040" y="5808600"/>
                      <a:ext cx="0" cy="29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>
                      <a:off x="4698720" y="5816160"/>
                      <a:ext cx="0" cy="28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>
                      <a:off x="4697640" y="5821560"/>
                      <a:ext cx="0" cy="28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>
                      <a:off x="4694760" y="5825160"/>
                      <a:ext cx="0" cy="28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>
                      <a:off x="4690440" y="5830560"/>
                      <a:ext cx="0" cy="28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"/>
                    <p:cNvSpPr/>
                    <p:nvPr/>
                  </p:nvSpPr>
                  <p:spPr>
                    <a:xfrm>
                      <a:off x="4687920" y="5836320"/>
                      <a:ext cx="0" cy="25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>
                      <a:off x="4683240" y="5842800"/>
                      <a:ext cx="0" cy="27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>
                      <a:off x="4679280" y="5850360"/>
                      <a:ext cx="0" cy="27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4675320" y="5855040"/>
                      <a:ext cx="0" cy="28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4683240" y="5846040"/>
                      <a:ext cx="0" cy="26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4675320" y="5855040"/>
                    <a:ext cx="27720" cy="73080"/>
                    <a:chOff x="4675320" y="5855040"/>
                    <a:chExt cx="27720" cy="7308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>
                      <a:off x="4703040" y="5855040"/>
                      <a:ext cx="0" cy="27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4698720" y="5861520"/>
                      <a:ext cx="0" cy="27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>
                      <a:off x="4697640" y="5865840"/>
                      <a:ext cx="0" cy="27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>
                      <a:off x="4694760" y="5870160"/>
                      <a:ext cx="0" cy="28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>
                      <a:off x="4690440" y="5876640"/>
                      <a:ext cx="0" cy="26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>
                      <a:off x="4687920" y="5879880"/>
                      <a:ext cx="0" cy="28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>
                      <a:off x="4683240" y="5886360"/>
                      <a:ext cx="0" cy="28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>
                      <a:off x="4679280" y="5894280"/>
                      <a:ext cx="0" cy="29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4675320" y="5899680"/>
                      <a:ext cx="0" cy="28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>
                      <a:off x="4683240" y="5891040"/>
                      <a:ext cx="0" cy="27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5" name=""/>
                  <p:cNvGrpSpPr/>
                  <p:nvPr/>
                </p:nvGrpSpPr>
                <p:grpSpPr>
                  <a:xfrm>
                    <a:off x="4675320" y="5899680"/>
                    <a:ext cx="27720" cy="73800"/>
                    <a:chOff x="4675320" y="5899680"/>
                    <a:chExt cx="27720" cy="73800"/>
                  </a:xfrm>
                </p:grpSpPr>
                <p:sp>
                  <p:nvSpPr>
                    <p:cNvPr id="386" name=""/>
                    <p:cNvSpPr/>
                    <p:nvPr/>
                  </p:nvSpPr>
                  <p:spPr>
                    <a:xfrm>
                      <a:off x="4703040" y="5899680"/>
                      <a:ext cx="0" cy="29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4698720" y="5907240"/>
                      <a:ext cx="0" cy="27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4697640" y="5911560"/>
                      <a:ext cx="0" cy="28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4694760" y="5917320"/>
                      <a:ext cx="0" cy="27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4690440" y="5922720"/>
                      <a:ext cx="0" cy="26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4687920" y="5925960"/>
                      <a:ext cx="0" cy="29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>
                      <a:off x="4683240" y="5931360"/>
                      <a:ext cx="0" cy="29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679280" y="5941440"/>
                      <a:ext cx="0" cy="27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675320" y="5946120"/>
                      <a:ext cx="0" cy="27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4683240" y="5936040"/>
                      <a:ext cx="0" cy="29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96" name=""/>
                <p:cNvSpPr/>
                <p:nvPr/>
              </p:nvSpPr>
              <p:spPr>
                <a:xfrm>
                  <a:off x="4493880" y="5776560"/>
                  <a:ext cx="168480" cy="48600"/>
                </a:xfrm>
                <a:custGeom>
                  <a:avLst/>
                  <a:gdLst/>
                  <a:ahLst/>
                  <a:rect l="l" t="t" r="r" b="b"/>
                  <a:pathLst>
                    <a:path w="120" h="44">
                      <a:moveTo>
                        <a:pt x="0" y="43"/>
                      </a:moveTo>
                      <a:lnTo>
                        <a:pt x="15" y="0"/>
                      </a:lnTo>
                      <a:lnTo>
                        <a:pt x="119" y="0"/>
                      </a:lnTo>
                      <a:lnTo>
                        <a:pt x="109" y="43"/>
                      </a:lnTo>
                      <a:lnTo>
                        <a:pt x="0" y="43"/>
                      </a:lnTo>
                    </a:path>
                  </a:pathLst>
                </a:custGeom>
                <a:solidFill>
                  <a:srgbClr val="d8d8e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4575600" y="5886000"/>
                  <a:ext cx="34920" cy="129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520520" y="5785560"/>
                  <a:ext cx="122400" cy="24120"/>
                </a:xfrm>
                <a:custGeom>
                  <a:avLst/>
                  <a:gdLst/>
                  <a:ahLst/>
                  <a:rect l="l" t="t" r="r" b="b"/>
                  <a:pathLst>
                    <a:path w="87" h="22">
                      <a:moveTo>
                        <a:pt x="5" y="0"/>
                      </a:moveTo>
                      <a:lnTo>
                        <a:pt x="0" y="21"/>
                      </a:lnTo>
                      <a:lnTo>
                        <a:pt x="81" y="21"/>
                      </a:lnTo>
                      <a:lnTo>
                        <a:pt x="86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119840" y="5782320"/>
                  <a:ext cx="334800" cy="73440"/>
                </a:xfrm>
                <a:custGeom>
                  <a:avLst/>
                  <a:gdLst/>
                  <a:ahLst/>
                  <a:rect l="l" t="t" r="r" b="b"/>
                  <a:pathLst>
                    <a:path w="238" h="67">
                      <a:moveTo>
                        <a:pt x="92" y="0"/>
                      </a:moveTo>
                      <a:lnTo>
                        <a:pt x="72" y="5"/>
                      </a:lnTo>
                      <a:lnTo>
                        <a:pt x="56" y="14"/>
                      </a:lnTo>
                      <a:lnTo>
                        <a:pt x="36" y="28"/>
                      </a:lnTo>
                      <a:lnTo>
                        <a:pt x="24" y="39"/>
                      </a:lnTo>
                      <a:lnTo>
                        <a:pt x="10" y="54"/>
                      </a:lnTo>
                      <a:lnTo>
                        <a:pt x="0" y="66"/>
                      </a:lnTo>
                      <a:lnTo>
                        <a:pt x="159" y="66"/>
                      </a:lnTo>
                      <a:lnTo>
                        <a:pt x="167" y="54"/>
                      </a:lnTo>
                      <a:lnTo>
                        <a:pt x="176" y="43"/>
                      </a:lnTo>
                      <a:lnTo>
                        <a:pt x="183" y="34"/>
                      </a:lnTo>
                      <a:lnTo>
                        <a:pt x="192" y="26"/>
                      </a:lnTo>
                      <a:lnTo>
                        <a:pt x="202" y="18"/>
                      </a:lnTo>
                      <a:lnTo>
                        <a:pt x="211" y="13"/>
                      </a:lnTo>
                      <a:lnTo>
                        <a:pt x="222" y="6"/>
                      </a:lnTo>
                      <a:lnTo>
                        <a:pt x="237" y="0"/>
                      </a:lnTo>
                      <a:lnTo>
                        <a:pt x="9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>
                <a:off x="3959640" y="5923800"/>
                <a:ext cx="95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768480" y="5973480"/>
                <a:ext cx="240480" cy="218520"/>
              </a:xfrm>
              <a:custGeom>
                <a:avLst/>
                <a:gdLst/>
                <a:ahLst/>
                <a:rect l="l" t="t" r="r" b="b"/>
                <a:pathLst>
                  <a:path w="171" h="198">
                    <a:moveTo>
                      <a:pt x="0" y="197"/>
                    </a:moveTo>
                    <a:lnTo>
                      <a:pt x="42" y="166"/>
                    </a:lnTo>
                    <a:lnTo>
                      <a:pt x="68" y="143"/>
                    </a:lnTo>
                    <a:lnTo>
                      <a:pt x="93" y="128"/>
                    </a:lnTo>
                    <a:lnTo>
                      <a:pt x="119" y="113"/>
                    </a:lnTo>
                    <a:lnTo>
                      <a:pt x="144" y="90"/>
                    </a:lnTo>
                    <a:lnTo>
                      <a:pt x="161" y="68"/>
                    </a:lnTo>
                    <a:lnTo>
                      <a:pt x="161" y="45"/>
                    </a:lnTo>
                    <a:lnTo>
                      <a:pt x="161" y="22"/>
                    </a:lnTo>
                    <a:lnTo>
                      <a:pt x="170" y="0"/>
                    </a:lnTo>
                    <a:lnTo>
                      <a:pt x="14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4878000" y="5852520"/>
              <a:ext cx="2295360" cy="1004760"/>
              <a:chOff x="4878000" y="5852520"/>
              <a:chExt cx="2295360" cy="1004760"/>
            </a:xfrm>
          </p:grpSpPr>
          <p:sp>
            <p:nvSpPr>
              <p:cNvPr id="403" name=""/>
              <p:cNvSpPr/>
              <p:nvPr/>
            </p:nvSpPr>
            <p:spPr>
              <a:xfrm>
                <a:off x="4878000" y="5852520"/>
                <a:ext cx="229536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180040" y="5941800"/>
                <a:ext cx="1693800" cy="9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összekötteté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közös nyel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egyedi címe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Fogalma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Kommunikáció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CT eszközök által végzett adattovábbítási tevékenysé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ltétele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összekapcsolhatóság (köze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ommunikációs képesség: értelmezhetőség (protokollo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yediség: azonosíthatóság (cím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Hálózato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CT eszközök valamilyen cél érdekében, alkalmas módon  összekapcsolt rendsz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Protokol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ommunikációs szabályok (gyűjteménye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PX/SPX, NetBEUI, TCP/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, ftp, telnet, mail, gopher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Fogalma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lgoritmu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valamely feladat megoldását eredményező elemi műveleti lépések sorozat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pontosan egy egyértelmű kezdete van é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csak elemi tevékenységekből álló lépéseket tartalmaz é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determinisztikus é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véges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kkor formalizálható </a:t>
            </a:r>
            <a:r>
              <a:rPr b="0" lang="hu-HU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számítógép által értelmezhető algoritm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Fogalma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0000"/>
                </a:solidFill>
                <a:latin typeface="Arial"/>
              </a:rPr>
              <a:t>Számítógép =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olyan (teljesen) elektronikusan működő  berendezés, amely képes </a:t>
            </a:r>
            <a:br>
              <a:rPr sz="3000"/>
            </a:b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datokat és programokat </a:t>
            </a:r>
            <a:r>
              <a:rPr b="0" lang="hu-HU" sz="3000" spc="-1" strike="noStrike">
                <a:solidFill>
                  <a:srgbClr val="330066"/>
                </a:solidFill>
                <a:latin typeface="Arial"/>
              </a:rPr>
              <a:t>tárolni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és automatikusan </a:t>
            </a:r>
            <a:r>
              <a:rPr b="0" lang="hu-HU" sz="3000" spc="-1" strike="noStrike">
                <a:solidFill>
                  <a:srgbClr val="330066"/>
                </a:solidFill>
                <a:latin typeface="Arial"/>
              </a:rPr>
              <a:t>végrehajtani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330066"/>
                </a:solidFill>
                <a:latin typeface="Arial"/>
              </a:rPr>
              <a:t>hardver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(a számítógépet alkotó technikai eszközök összesége) + </a:t>
            </a:r>
            <a:br>
              <a:rPr sz="3000"/>
            </a:br>
            <a:r>
              <a:rPr b="0" lang="hu-HU" sz="3000" spc="-1" strike="noStrike">
                <a:solidFill>
                  <a:srgbClr val="330066"/>
                </a:solidFill>
                <a:latin typeface="Arial"/>
              </a:rPr>
              <a:t>szoftver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(a számítógép segítségével feldolgozott adatok és a működést meghatározó programok összessége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6T13:19:24Z</dcterms:created>
  <dc:creator>Mazsola</dc:creator>
  <dc:description/>
  <dc:language>en-US</dc:language>
  <cp:lastModifiedBy>Mazsola</cp:lastModifiedBy>
  <dcterms:modified xsi:type="dcterms:W3CDTF">2006-09-17T18:30:33Z</dcterms:modified>
  <cp:revision>6</cp:revision>
  <dc:subject/>
  <dc:title>Informatika</dc:title>
</cp:coreProperties>
</file>