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EDA-48DD-4C82-B008-87ECAB2D22D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61C-10D3-4AAC-BD9B-387AD99B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CB9-29ED-426A-A51F-1AD9DC1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354-3BE0-4C3E-85CA-5E41F435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836-3E80-4CCD-A684-F6F289B3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DA18-C52E-452A-AF7D-D6BBC60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DCC3-8F7E-40C6-8827-940202E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5229-79D4-49D2-9428-BB710B97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8D5-9AFD-48CF-9B32-DD82B01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0BC-A114-4F98-9ECB-94D70D4B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7479-B8E3-4D98-BD7D-FF49731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B15-5A6B-42BC-991A-4DB856D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DC1-B616-44AD-8DFB-D71496BB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860-7FA2-4809-AD2D-394BA8E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0BEE-9C98-40CF-BD17-1A1211C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219-0857-4ADE-AA64-5E1D700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6CB-686F-4412-89C1-EBB60D64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19C2-33A6-42EF-9540-5C3334E0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0A8-48A8-4C61-B84A-64A889E1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7C7-B3EA-4577-A507-A287E747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679-FD16-4127-A32B-38453B4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0BE-E3BC-487D-817C-61717A26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A5E-18C9-4E95-B277-1BE7509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46D-31EF-4A5B-AEAD-A0E24D3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F84-FE4B-4829-B41C-6D27042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10F-C654-4698-9A97-26DDE1FF8E8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BEC4-DCD8-4EC8-A5DD-31BB6122099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4B02-934F-4BCB-AF40-B0CAE62DDA3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26DD-5781-4772-B240-3DD873D37C4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82BC-361C-4C5A-9726-53E3C98910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-aláír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elektronikus aláírás fogalmát a vonatkozó törvény a következőképpen határozza meg: "az elektronikus dokumentumhoz azonosítás céljából végérvényesen hozzárendelt vagy azzal logikailag összekapcsolt elektronikus adat, illetőleg dokumentum"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elektronikus aláírással szembeni alapvető követelmény, hogy hitelesen azonosítsa a dokumentum aláírójá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láírás típu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láttamozó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az irat kézjeggyel való ellátása. Sem egyetértési, sem pedig döntési hatáskörre nem jogosít csupán egy olyan jelzés, amely tudtul adja, hogy az ügyintéző elolvasta és tudomásul vette annak tartalmá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jóváhagyó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az aláíró egyetért az irat tartalmával, de döntésre nem csupán véleményezésre jogosí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véglegesítő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az aláíró hitelesíti az iratot, amivel jelzi döntése eredményét, hogy egyetért az irat tartalmával. Amennyiben ez az aláírás rá kerül a dokumentumra, a továbbiakban az már nem módosítható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ektronikus aláírás fajtá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 fokozott biztonságú elektronikus aláírás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Minősített elektronikus aláírás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440-5786-42CF-A86E-06C2604C7D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elektronikus aláírás funkció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papíron készített iratok hitelességét, az információk valódiságát aláírással vagy pecséttel, az esetek többségében a kettő együttes alkalmazásával igazolju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legfontosabb szempontok, (pl. magánokiratok esetén) a személy saját maga és önként írja alá az iratot, de itt sem maradhat el az eladó és a vevő sajátkezű aláírása. Ezek az aláírások az illető személy illetve személyek biztonságát szolgáljá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Ha nem magánokiratokról van szó, hanem közokiratokról még szigorúbb előírások vonatkoznak az aláírásra (pl. egy cégbejegyzésnél a cégbíróságnál a cég vezetőjének aláírási címpéldányt kell készíteni közjegyző előtt, amelyet saját kézjegyével lát el). Ez az illető cég biztonságát szolgálj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chnika fejlődése szükségessé tette, hogy ne csak papír alapú iratokban hanem elektronikus iratokban is gondolkodju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Hogyan lehet egy elektronikus iratot elektronikus továbbítása esetén, úgy aláírni az illetékes személynek, hogy az hiteles legyen. A probléma megoldására született meg az elektronikus aláírás funkciój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elektronikus aláírás funkciói között három nagyon sarkalatos pontot kell megemlíteni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titkosság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csak a címzett legyen képes elolvasni az elektronikus aláírással ellátott irato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hitelesség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a címzett egyértelműen azonosítani tudja az aláíró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000000"/>
                </a:solidFill>
                <a:uFillTx/>
                <a:latin typeface="Arial"/>
              </a:rPr>
              <a:t>sértetlenség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: az aláírással ellátott irat tartalma változatlan maradj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ADA-B9C6-4CE7-9841-BC494042F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elektronikus aláírás módszere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kulcsokat alkalmazó aláírá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. A nyilvános kulcsú elektronikus aláírás alapvető tulajdonsága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ott elektronikus aláírás kizárólag egy aláíró személyéhez kapcsolhat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dileg azonosítja az aláírót, így a címzett ellenőrizheti a feladó személyazonosságá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áírás ténye kétséget kizáróan bizonyítható, azaz az üzenet küldője utólag nem hivatkozhat arra, hogy azt nem is írta alá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rtelműen kimutatja, ha az adott dokumentum az aláírást követően megváltozot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onyos feltételek mellett az aláírás időpontja is hitelesen rögzíthet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kártyát igénylő aláírás (chipkártya + PIN-kód)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digitalizált aláírás (biometria + kriptográfia)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6D0-7E69-4E62-98DE-E0E77708E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minősített tanúsítvány tartalmazz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nnak megjelölését, hogy a tanúsítvány minősített tanúsítvány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itelesítés-szolgáltató és székhelyének (ország-) azonosítójá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láíró nevét vagy egy álnevet, ennek jelzésével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láírónak külön jogszabályban, a szolgáltatási szabályzatban, illetőleg az általános szerződési feltételekben meghatározott speciális jellemzőit, a tanúsítvány szándékolt felhasználásától függően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t az aláírás-ellenőrző adatot (nyilvános kulcsot), amely az aláíró által birtokolt aláírást készítő adatnak (magánkulcs) felel me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anúsítvány érvényességi idejének kezdetét és végé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anúsítvány azonosító kódjá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dott minősített tanúsítványt kibocsátó hitelesítés-szolgáltató fokozott biztonságú elektronikus aláírásá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anúsítvány használhatósági körére vonatkozó esetleges korlátozásoka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anúsítvány felhasználásának korlátait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ás személy (szervezet) képviseletére jogosító elektronikus aláírás tanúsítványa esetén a tanúsítvány ezen minőségét és a képviselt személy (szervezet) adata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59C-D5DB-41F8-9FD7-073E31A440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grár szakigazgatási intézmény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z állategészségügyi szakigazgatási intézményhálóz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növény-egészségügyi szakigazgatási intézmény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földművelésügyi szakigazgatási intézmény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z  erdészeti szakigazgatási intézmény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földügyi szakigazgat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Mezőgazdasági minősítés és törzstenyészet-fenntartás intézményei közé tartozi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Mezőgazdasági és Vidékfejlesztési Hivata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0B5-C0BE-4A96-8266-41D83F39DC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-Agrárium, e-szakigazgat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aprakész információkkal segítse a vállalkozások működését és fejlődésé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lgálja ki az agrárkormányzat információszükségletét, a döntéshozatali mechanizmusaktuális információk iránti igényé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észüljön föl és a csatlakozást követően tegyen eleget az EU nyilvántartási és információszolgáltatási követelményein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5EA-43B4-469D-AE10-59187B70E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-kormányzat, e-szakigazgat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B3B4-CD58-407A-A0EC-AAE60BC24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-kormányzat fogal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7800" y="1719360"/>
            <a:ext cx="61884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16A-2589-46DB-A7B1-A3BA400B3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övetelemény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nyitottság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közigazgatás legyen kész fogadni és feldolgozni a nyilvánosság, a társadalom és gazdaság szereplőinek elvárásait és javaslatai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részvétel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 állampolgárokat, vállalkozásokat, közösségeket érintő kérdések megvitatásába, a döntések előkészítésébe minél szélesebb körben be kell vonni az érintetteket. A központi és a helyi kormányzatnak olyan politikai környezetet kell biztosítania, amely részvételre, bekapcsolódásra ösztönzi a polgárokat, közösségeket. A közigazgatásnak folyamatosan jeleznie kell ezirányú elkötelezettségé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számonkérhetőség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döntéshozatali folyamatoknak átláthatóbbakká kell válniuk, lehetőséget kell biztosítani a bekapcsolódásra; a nyilvánosság számára egyértelművé kell tenni, hogy ki, miért fele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isszacsatolás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 érintettek számára lehetőséget kell biztosítani a vélemények, javaslatok, észrevételek visszacsatolására a döntéshozók, politikusok, köztisztviselők felé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hatékonyság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legyen hatékony a döntéshozatali mechanizmus, az elfogadott határozatok, jogszabályok végrehajtás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elérhetőség: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 e-kormányzati kezdeményezésekkel párhuzamosan folyamatosan biztosítani és bővíteni kell a hagyományos kommunikációs és szolgáltatási csatornákat azok számára, akik nem kívánnak (vagy nincs lehetőségük) élni az új IKT eszközök adta lehetőségekkel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F4D-03E8-43E8-814E-AEB4E8D6D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önkormányzatokkal szembeni elváráso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z ügyintézéssel kapcsolatos, főbb elvár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Önkormányzat-lakosság, hivatal-lakosság közti interakció biztosí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ügyfélfogadás térbeli és időbeli korlátainak kitolása, ill. felold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Gyorsabb, egységes, diszkriminációmentes ügyintézé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onos ügy - azonos ügyintézé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 szervezettséggel, szervezéssel kapcsolatos fontosabb elvár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Átlátható folyamatok, jogkövető megoldás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elelősségek egyértelm; definiálása, nyomon követése konkrét esetekben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Elemzésekhez alapadatok generálása, statisztikai adatok előállítása, jelentések készítése (jelenle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el 40-féle különböző statisztika létezik; pl. minden tárca, ágazat külön-külön kér adatoka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incs koordináció a különféle statisztikai adatszolgáltatási igények vonatkozásáb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önkormányzati szervek munkatársai informatikai felkészültségének elmélyíté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Önkormányzatok közötti információ-csere előmozdí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okozatosan kiépíthető e-önkormányzati informatikai modell kialakí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Eljárási viták, felelősségi kérdések eldöntéséhez tényadatok szolgálta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Szükségtelen adatszolgáltatások, párhuzamos munkafolyamatok elkerülé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Párhuzamos irattárak kiküszöbölé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datvédelmi szabályzatok kidolgozása, betartásuk biztosí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 megfelelő archiválás biztosítása, törvényes adatőrzési időszakok betarta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Államigazgatási adatvagyon bővíté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Egységes közigazgatási fogalomtár definiálása, kialakítása és felhasznál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inőségbiztosítási módszerek bevezetése, egységesítése az önkormányzati szervekné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657-F4FE-4926-98AD-E65CC28A4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ektronikus közszolgáltatások, ügyintéz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719360"/>
          <a:ext cx="8229600" cy="4763880"/>
        </p:xfrm>
        <a:graphic>
          <a:graphicData uri="http://schemas.openxmlformats.org/drawingml/2006/table">
            <a:tbl>
              <a:tblPr/>
              <a:tblGrid>
                <a:gridCol w="1211400"/>
                <a:gridCol w="2552400"/>
                <a:gridCol w="446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 szi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formáci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n-line információk nyújtása a közigazgatási szolgáltatásokról („ügyleírások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 szi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gyirányú interaktivit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z ügyleírások által nyújtott információkon túl az ügyintézéshez szükséges űrlapok, nyomtatványok is letölthetők, kinyomtatható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 szi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étirányú interaktivit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z ügyintézéshez szükséges űrlapok, nyomtatványok on-line kitölthetők, elektronikusan (elektronikus aláírás segítségével) hitelesíthetők, s ugyancsak on-line továbbítható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 szi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eljes körű  elektronikus ügyintézé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teljes ügyintézés, ügymenet elektronikus űrlap nyomtatvány kitöltése, hitelesítés, továbbítás, döntés, kézbesítés, illeték lerovása (természetesen elektronikus aláírás felhasználásáv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499-8935-4A95-807A-07056ECB5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-ügyinté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-ügyintézés megvalósítja az EU eEurope programjának „Common List of Basic Public Services” ajánlásában megfogalmazott mind a négy szolgáltatási szintet, s biztosítja az ügyfelek részére is a függőben lévő ügyeik elektronikus követésé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-ügyintézés mint szolgáltatás értékelési szempontjai az EU-ban: a különböző ügytípusok milyen arányban szerepelnek a négy szint valamelyikében; milyen arányban érhetőek el a különböző szint; on-line szolgáltatások; az on-line szolgáltatásokat milyen arányban használják az ügyfele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7D9-930B-4205-8C8D-F39B22BBC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HM Elektronikus Önkormányzat Stratégia 2003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8229600" cy="42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E3A-09D4-4529-AD26-7E29587EF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e-közigazgatás program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-közigazgatás a globálisan jelentős szerephez jutó lokalizáció információs kori alapintézmény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urópában és Magyarországon is a jelen talán legjelentősebb állami s társadalmi feladata az e-közigazgatás bevezetése és elterjesztés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-közigazgatás: digitális közigazgatás. De nem(csak) a régi közigazgatás elektronizálása, hanem egyúttal újfajta közigazgatá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-közigazgatás tehát nem pusztán az e-ügyintézés bevezetése vagy az elektronikus aláírás alkalmazása, hanem a digitális demokrácia és a szolgáltató e-közigazgatás általánossá téte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özigazgatási információs rendszereket és az adatvagyont egységesíteni kell és mindenki számára egyformán garantálni és elérhetővé ten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38E-0D26-473E-AE96-1F3A16138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9:43Z</dcterms:modified>
  <cp:revision>128</cp:revision>
  <dc:subject/>
  <dc:title>PowerPoint bemutató</dc:title>
</cp:coreProperties>
</file>