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1F48-A08F-4EDF-A4F1-E858F85AC80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E03-7922-42EC-A18E-D731FDD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593-A8C7-4639-A814-D090E821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F4D-1B8A-4CA1-B67E-9CB0DA42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F33-FA13-452D-B9A6-EDBD7C34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43E0-C648-4B92-92D0-C9877C93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9B36-11E3-4741-9DF0-2027DBCB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B21-02BE-4E70-864B-A2A5230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444-AC9C-4D15-A126-37AD009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4A5-3386-4765-AAAA-E55EA2D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E69A-1BE5-4865-9403-ECF8928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2CF6-59EC-4283-99E6-FD74A49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1E8-ADF0-4AF6-ACBC-6D14ABF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5883-8C17-48D2-8DE7-2FF69E5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9461-4C69-4150-8A34-2B1EA2F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4083-20C3-45E3-BB34-FBB406F8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B1CB-5605-465F-86AD-728AB52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42DF-038F-4598-BF23-0EE79C7C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405-8CA5-44F9-ACC6-55FD41F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8FC-D59B-4BEB-9806-FBBB928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AF0-3552-4369-A665-CDEF5F2F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F8F-AF4A-4652-A322-24F684B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D67-164A-4FBD-AE19-E90E16D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6B-1518-46B4-B394-21088FF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93A-6BBF-4228-8F22-9137C03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AF7-E198-4787-9288-3233F057D9C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02F-D998-4B27-8A88-80EE4D21C56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012-7684-4AB6-B7F4-6954737ED0F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55DF-33D8-4A1C-B6A2-5D4FEF2AB26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2EFD-F8A5-4517-87E3-84FC4E15EC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a szerkesz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ábla kijelölése után a Tervezés gombot kell választani. A mezőnév oszlopban kell kijelölni a módosítandó mezőt. Ekkor lehet a mező típusát megváltoztatni. Az adattípus beállítása után megadhatók a mező-tulajdonság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ák összekapcs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a táblákat együtt kell kezelni, akkor össze kell kapcsolni azokat. Az összekapcsolás után a rekordok úgy viselkednek, mintha egyetlen táblában lennének. Az összekapcsolás feltétele, hogy a különböző táblákban legyenek azonos mezők, amelyekkel elvégezhető az összekapcsolá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sődleges kulcs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ő ablak bal szélén ki kell választani a kulcs sorát, és az eszköztár Elsődleges kulcs gombjára kell kattintani. Összetett (több mezőből álló) kulcs esetén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enyomva tartásával több sort tudunk egyszerre kijelöl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pcsolat létrehozá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pcsolat létrehozása az Eszközök\Kapcsolatok menüpontból kezdeményezhető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F4E-5654-481D-A966-3104318068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pcsolatok az Access-b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84072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ADB-5DD6-4C0A-A250-A51B6E276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pcsolatok szerkesztése ab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76908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C7A-7499-46CF-8D31-85AC631C4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táblák közötti kapcsolatok típ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-Egy (1:1) 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-sok (1:N) 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k-sok (N:M) 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dleges tábla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1:N kapcsolatok 1-oldalán álló tá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llesztőtábla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N:M kapcsolatot megvalósító tá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llesztés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kapcsolás műv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ok aktualiz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bázis ablakban ki kell választani a táblát, majd Megnyitás gomb. Módosítás közben a rendszer állandóan ellenőrzi a kulcsfeltételeket. Az üres sztring megadását a rendszer általában Null (definiálatlan) értéknek teki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493-1874-4394-A962-2B1A03100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Lekérdezése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Lekérdezés típusának megad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lasztó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eszttáblás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blakészítő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rissítő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zzáfűző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rlő 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C96-30F3-4DF0-B69C-C29CEFDE9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kérdezés készítése Tervező nézet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bázis-ablakban a lekérdezés objektumtípust, majd az Új gombot, és végül a Tervező nézetet kell választa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ábla hozzáadása ablakban ki kell jelölni a lekérdezéshez szükséges táblák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jelenik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rvező abl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nek beállítási lehetőség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ző és Tábla sorokban a lekérdezéshez szükséges mezők adható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ezés sorban az adott mező szerinti rendezettség írható elő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jelenítés sorban jelölhető, hogy az adott mező megjelenjen-e az eredménytáblában, vagy például csak a feltételek kiértékeléséhez szüksé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tétel sorban az adott mezőre vonatkozó feltétel adható m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kérdezés végrehajtása az Adatbázis ablakban kettős kattintással, vagy a Megnyitás gombbal történ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0F1-B9F3-4160-BB58-EC97B9115C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Választó lekérdezé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gyakrabban használt lekérdezés típ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kérdezés készítéséhez felhasználható egy vagy több táb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kérdezés eredménye egy változó tartalmú adattábla, tehát a tábla tartalma annak megfelelően módosul, ahogyan az input táblák változn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t változata van: az Azonosakat kereső és a Nem egyezőket kereső lekérdezé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4F6-231F-4D29-BA84-197EFB651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asztó lekérdez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12944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23-62C5-4562-A27D-074198E01F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727600" cy="32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8360" y="1773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álasztó lekérdezés – a lekérdezés tulajdonság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72E-5CF6-43C4-9E55-7996DA852D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írá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kérdezés céljának rövid leírása, maximum 255 karak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Összes mező a kimenetre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ezt Igen-re állítják, akkor a lekérdezés összes input tábláinak összes mezője megjelenik a lekérdezés eredményeként. A Nem választása esetén csak a kiválasztott mezők tartalma jeleni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úcsérté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állítható, hogy a lekérdezés feltételének megfelelő rekordok közül az első hány darab, a rekordok első hány százaléka vagy az összes jelenjen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edi értéke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Igen-re állítják, akkor a lekérdezésben szereplő azonos értékek közül csak egy jelenik m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edi rekordok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Igen-re állítják, akkor a lekérdezésben csak azok a rekordok jelennek meg, amelyek minden mezőtartalomban különböznek a többitő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utási engedélyek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állított Felhasználóé vagy Tulajdonosé értéknek megfelelően az adathozzáférési jog vagy a felhasználóé vagy a tulajdono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64-8394-4A0E-9A41-00DCE05AEE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7. fejez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lációs adatbáziskezelő rendszerek a gyakorlat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880B-0FA7-477F-AE42-BC26783A7F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rrás adatbázi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ülső adatbázisnak az elérési útját tartalmazza, amelynek az adatait a lekérdezés tartalma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rrás kapcs karl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ülső adatbázis létrehozásához felhasznált alkalmazás nevét jelentő karakterlá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kordzárolá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 felhasználós környezetben a lekérdezés futtatása idejére adatvédelmi okokból különböző érvényességi körben zárolni kell a rekordokat. A zárolt rekord módosítása másik felhasználó által nem lehetsé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DBC időtúllép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állítható, hogy nyílt adatbázishoz kapcsolódva hány másodperc után jelezzen időtúllépést az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űrő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űrőfeltétel adható meg, hasonlóan az SQL WHERE záradékban megszokott formában. A WHERE kulcsszót nem kell használ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0C4-047D-4190-A9EF-016DD9D71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reszttáblás lekérdezés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gyanazokat az adatokat tartalmazza, mint a választó lekérdezés, de az adatokat nemcsak vízszintesen, hanem függőlegesen is csoportosít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akészítő lekérdezés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vagy több táblából új táblát hoz létre. A lekérdezés Tulajdonság ablaka a Választó lekérdezéshez képest a következőket tartalmaz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éltábl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új, létrehozandó tábla n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él-adatbázi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nak a külső (Access) adatbázisnak az elérési útvonala és neve, amelyikbe átkerülnek a rekord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él kapcs karl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ccess adatbázis esetén nem használják. Nem Access adatbázis esetén itt lehet megadni az adatbázis típus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rlő lekérdezés: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zel törölhetők a feleslegessé vált rekord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zzáfűző lekérdezés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vagy több tábla rekordcsoportjait lehet egy másik tábla végéhez hozzáfűz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issítő lekérdezés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k rekord egy vagy több mezőjét ugyanúgy kell módosíta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A3A-B3B5-4DBE-8F82-DFB8FA29F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kérdezések többféle módon hozhatók lé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ekérdezés panelen az Új gombot választ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szúrás\Lekérdezés menü funkció választásá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7056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CBF-33E6-439A-BC27-420C178DE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kérdezés módosítása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kérdezés módosításának oka lehet, ha például az eredmény halmazban nem szerepel valamelyik szükséges mező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ódosítások elvégezhetők a Lekérdezés Tervező nézetében megjelenő tervezőrács használatá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egy grafikus eszköz, a neve QBE (Query By Example; magyarul: lekérdezés minta alapjá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őrács mutatja a lekérdezés hatására létrejövő eredményhalmaz oszlopa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tt megadható, hogy a kijelölt adattáblákból mely mezők tartalma szereljen az egyes oszlopokb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őrács utolsó két sorában a feltétel szerkesztéséhez alkalmazható a Kifejezésszerkesztő, amely a Tervezőrács Feltétel sorából a gyorsmenüből elér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23A-C532-4ECB-B537-5DCE48AD9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2438280"/>
            <a:ext cx="6985080" cy="365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1240" y="198900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kérdezés módosí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6E1-A0A1-45AE-8FCD-EE5B48D678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rlapok 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rlap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rlapfejléc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rtalmazhatja az űrlap címét, rövid kezelési tájékoztatást vagy parancsgomb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űrlap kinyomtatásakor ez csak a legelső oldal tetején jeleni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dalfejléc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yomtatott oszlopok fejrészét tartalma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rzs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beviteli mezőket, vezérlőelemeket tartalma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dallábléc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oldalak alján megjelelő adatok, például: lapszám, dátum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rlaplábléc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zérlőelemek, információk, amelyek csak egyszer, az űrlap kitöltése után jelennek m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űrlap létrehozható Tervező nézetben vagy varázsló alkalmazásá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68C-74CB-485A-8222-BFFEF6B67A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Űrlap varázsl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választható, hogy mely táblákból, lekérdezésekből készüljön az űrlap és milyen mezőket tartalmaz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dható, milyen legyen az űrlap szerk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 lehet választani a stíl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dható az űrlap címe, és lehet választani az űrlap megnyitása, megtekintése, adatbevitel, valamint az űrlap tervének módosítása közö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arázsló működésének befejezése után elkezdhető az adatok bevitele a kiválasztott formátum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D73-8BF7-48D2-80FC-07AD1D5D3A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rlap varázsló abla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34544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CDF-5033-4E32-9969-5A6D9023A0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beviteli űrlap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34400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050-E066-4E4D-ACB5-86D3C1E73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űrlap létrehozásának másik módj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ervező nézet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választá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kkor a képernyőn megjelenik az üres űrlap, a méretezést segítő vonalz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űrlapon a különböző vezérlő elemek elhelyezési igazítását egy rács segíti, amit a Nézet menüben lehet ki- illetve bekapcsoln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eszköztárban lévő mezőlista gombbal, vagy a Nézet\mezőlista funkcióval lehet valamely adattáblához tartozó mezőket elhelyezni az űrlap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űrlap szerkesztéséhez felhasználhatók az eszközkészlet funkció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vezérlőelem olyan objektum, amely adatokat jelenít meg, műveletet hajt végre, vagy szebbé teszi az űrlapo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vezérlőelemek formátuma nagy részletességgel szabályozhat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0A3-4B12-4B5E-8F23-6D3FEC59F9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ccessben a mezőkhöz rendelhető fontosabb adattípu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öveg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feljebb 255 karakter hosszú sztring, alapértelmezett hosszúsága 50 karak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jegyzés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feljebb 64000 karakternyi szöv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m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umerikus adatok tárolás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átum/idő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0-tól 9999-ig terjedő években dátum és időpont tárolására szolg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énznem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imbólum, amely az érték mellett szere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mláló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matikusan generált egyedi sorszám, értéke egyesével növekszik új rekordok felvételéné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gen/nem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gikai érté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E objektum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 alkalmazásban (például Word, Excel) létrehozott objektum tárolására használható (szöveges dokumentum, kép, hang, st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iperhivatkozás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ul URL cím. Hossza legfeljebb 64000 karakter, nem indexel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B67-837A-4A1D-BD32-AAAB856F6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kés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826-5BA0-4D59-A6F2-EAF7273A9B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1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388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CD8-65BC-427B-A395-CFD67D64E3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2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7592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ACC-0899-4224-B1E8-579C391304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3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75928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253-F8CF-4233-AB90-326E5679C2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ED1-C393-46DC-9C0D-22DD9BD323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4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390-E550-462D-A8F4-CD7894A860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5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7592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E50-9725-42E1-8D55-2DDA04822C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 varázsló – 6. lé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lentés címének megad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elentés szerkesztése Tervező nézet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B90-84C5-433F-82B3-3C677B9C95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elentés részei tervező nézet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ésfej/jelentésláb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jelentés legelején ill. legvégén jeleni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dalfej/Oldalláb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inden oldal tetején ill. alján megjelenő rés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oportfej/Csoportláb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csoport elején ill. végén megjelenő rész. Ha több csoportszint szerepel, akkor minden csoportnak van saját csoportfej és csoportláb része. A csoportfejben célszerű elhelyezni a csoport alapjául szolgáló mező értékeit megjelenítő beviteli mezőt, a csoportlábban pedig a csoportra vonatkozó összegző, átlag, minimum, maximum számításokat tartalmazó beviteli mező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rzs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rekordnál megjelenik, itt érdemes megjeleníteni minden olyan mezőt, mely nem csoportsz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C6F-9BD1-4CE3-8622-8DEE93A5C3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53" t="16346" r="38589" b="37159"/>
          <a:stretch/>
        </p:blipFill>
        <p:spPr>
          <a:xfrm>
            <a:off x="1527120" y="1719360"/>
            <a:ext cx="60879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F63-8599-442C-9F54-493AB5B7C1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zőtulajdonság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zőméret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szövegmező mérete 1 és 255 karakter között leh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rmátum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atok megjelenítési és kinyomtatási mód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izedes helye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izedes helyek száma, a szám és a pénznem típusokn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viteli masz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rmázó karakterek megjelenítésére szolg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ím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redeti név helyett ez jelenik meg az adattábláb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apértelmezett érté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új rekord hozzáadásakor automatikusan ez az érték jelenik meg a mező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Érvényességi szabály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mezőbe bevihető adatok körét korlátozó kifejez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Érvényesítési szöveg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atmezőben érvénytelen adat beírásakor meg-jelenő figyelmeztető üze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telező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mezőbe mindig kell megadni adatot, nem hagyható üre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ulla hosszúság engedélyezése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öveg vagy Feljegyzés típusú mezőknél megengedett a nulla hosszúságú karakterlánc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dexelt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megadott mező szerint történik a tábla rendez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Új érté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növekvően vagy véletlenszerűen kapja a mező az érték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38D-0028-4B8C-99C0-14E986AFA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Jogosultság, biztonság, adatvéde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datvédelem jelszó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védelem egyik lehetősége, hogy jelszóval lehessen hozzáférni az adatbázisho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elszó beállítását csak akkor lehet elvégezni, ha a Fájl\Megnyitás parancsnál a kizárólagos jelölő négyzet be van jelöl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után az Eszközök\Adatvédelem\Adatbázis jelszó beállítása funkcióval megadható a jelsz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későbbiekben a védett adatbázist kell megnyitni, akkor először a megjelenő párbeszédablakba be kell írni az érvényes jelszó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elszó módosítása úgy történik, hogy először törölni kell a régi jelszót és utána újat kell megadni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657-6510-4594-9538-E681B5AC47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védelmi lehetősége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C79-243B-4E3D-995E-5BB3826A79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ok felhasználói szintű véde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használónak már az Accessbe való belépésekor azonosítania kell magát, a beállított jogosultságok alapján férhet hozzá az egyes objektumokh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ös adatokat használókat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munkacsoportna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vezik. Telepítéskor két csoport jön létre, a rendszergazdák és a felhasználók csoport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szközök\Adatvédelem\Munkacsoport adminisztrátor menü funkcióval lehet munkacsoportot létrehoz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olyan adatbázist kell használni, amelyik rendelkezik az előzőekben megadott védelemmel, akkor először csatlakozni kell a hozzá beállított munkacsoport fájlhoz, az Eszközök\Adatvédelem\Munkacsoport adminisztrátor funkció választása után a Csatlakozás gombb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védelem használatához be kell kapcsolni a bejelentkezési eljárást. Ehhez a rendszergazda felhasználói jelszavát kell megváltoztat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elszó módosítása az Eszközök\Adatvédelem\Felhasználók és csoportok fiókjai funkció választásával történ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26D-FBD4-4EE1-9F25-5A7E48A7945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atvédelem jó használatához meg kell adni az adatbázis felhasználóit és felhasználói csoportjai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 megtehető az Eszközök\Adatvédelem\Felhasználók és csoportok fiókjai funkció választása utá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csoport fület, majd az Új gombot kiválasztva, új csoportot lehet létrehoz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 fül, majd az Új gomb választása után, új felhasználót lehet definiál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a már vannak felhasználói csoportok és felhasználók, akkor a felhasználókat csoportokba lehet sorolni. Ez a Hozzáadás illetve az Eltávolítás gombokkal történhe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525-1BE6-4999-BB36-1BE22E8780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használók és csoportok fiókjai ab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56108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94A-DA24-4AD9-B3EF-746357D16DD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knak és a csoportoknak különböző engedélyeket lehet adni, amelyekkel hozzáférhetnek az adatbázis-objektumokho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t az Eszközök\Adatvédelem\Felhasználói csoport engedélyek funkció választása után lehet megten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ngedélyeket lehet megadni külön a csoportoknak és a felhasználókna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i és csoportengedélyek párbeszéd ablakban ki kell választani a Felhasználó\csoport nevét, az objektumot és engedélyek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i és csoportengedélyek párbeszéd ablakban a Tulajdonos megváltoztatása párbeszéd ablakban van lehetőség az objektumok tulajdonosának a megváltoztatásá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AF8-9C11-4950-AE04-3A0ED43603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használói és csoportengedély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77564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A2E-62AE-40FE-9BE3-2C232ACD45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unkacsoport adminisztrátor abla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0108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E53-9818-4F89-A192-9545E76B0B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bázisok strukturált lekérdező nyelve az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QL – Structured Query Language – Strukturált lekérdező ny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SQL fejlődésének főbb állomá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70: Codd definiálta a relációs adatmodellt és leírta később az SQL nyelv fő kritérium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74: SEQUEL nyelv leírása (Structured English QUEry Language), az IBM cég 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79: 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81: ORACLE 2 (SQL alapú RDBMS nagygépre), INGRES, IBM SQL/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82: IBM DB2 (SQL alapú RDBMS nagygép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86: ANSI SQL szabv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88: SQL SERVER DB2-hö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QL szolgáltatások (DBASE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QL alapú adatbázis kezel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: SQL 2 szabv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Q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B7B-ED4C-4257-A5CC-B4F2F1360A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utasításainak két fő csopor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DL (Data Definition Language): adatstruktúra definiáló utasí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ML (Data Manipulation Language): adatokon műveletet végző utasí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egy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báz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bla (table, reláci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r (ro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lop (colum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mi a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9D3-7AF1-4C36-A00B-F3C22B608D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műve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ához új rekord hozzáad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tábla tartalmaz egy üres rekordot a tábla alján. Ezt a * karakter jelzi a tábla bal szélén a rekordkijelölő sávban. Ha ebbe a rekordba elkezdődik az adatbevitel, akkor alatta automatikusan megjelenik egy újabb utolsó reko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ában rekord men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ccess a táblában egy rekord bevitele vagy módosítása után minden változtatást automatikusan elment, amikor a következő rekordra lépés történik, vagy az adatlap bezárásra kerül. Ha rekord változtatásait egy mező tartalmának megváltoztatása után azonnal menteni kell, akkor a SHIFT+ENTER billentyűket kell megnyomni vagy a Rekordok\Rekordok mentése funkciót kell választani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solás, áthely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sonlóan elvégezhetők, mint a Wordben vagy az Excel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8EF-BF1B-4885-847A-A259D816A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nyelv szintax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betű és nagybetű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nyelv alapszavaiban egyenérték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Utasítás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orfolytonosan írhatók, lezárás pontosvessző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áltoz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nincs, csak tábla- és oszlopnevekre lehet hivatkozni. Kifejezésben hivatkozás egy tábla adott oszlopára: tábla.oszlop (ha a tábla egyértelmű, akkor elhagyhat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lias né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név AS másodnév (egyes implementációkban AS elhagyhat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övegkonstan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'szöve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átu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DATE '1968-05-12'. Egyes rendszerek az SQL szabványtól eltérő konvenciót alkalmaznak, például 13-NOV-94 (ORACLE), 02/15/1994 (DB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d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TIME '15:31:02.5' (óra, perc, másodper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tringek konkatenációja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+ (XBASE), || (ORA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elációjele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, &lt;=, &gt;=, !=,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ogikai művele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ND, OR, NOT. Egy logikai kifejezés értéke ISMERETLEN (UNKNOWN), ha benne NULL érték szere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72F-06BB-4FA8-8B03-BFE6E12C0B5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típusok (rendszerenként eltérők lehetn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AR(n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hosszúságú karaktersoroz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RCHAR(n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feljebb n hosszúságú karaktersoroz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ész szám (röviden IN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ós (lebegőpontos) szám, más néven FL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CIMAL(n[,d]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 jegyű decimális szám, ebből d számú tizedesjeg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át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CIG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kai (igen/n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adattípushoz "DEFAULT érték" megadásával alapértelmezett érték definiálhat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 ilyet nem adunk meg, az alapértelmezett érték NU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C96-C179-47A7-BC07-063845E232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övetkezőkben alkalmazott jelöl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AGYBETŰ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ulcssz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dőlt kisbetű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áltoz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sbetű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aláhú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értelmezés(defa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{ }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pcionális e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gylagos elem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így Tovább” (folytatá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ókö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790-30B9-4FD6-94D9-7163CB6A1C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Parancsok szintax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ARANCS_KULCSSZÓ</a:t>
            </a:r>
            <a:r>
              <a:rPr b="0" lang="hu-HU" sz="3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araméterek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SQL paraméterei általában kulcsszavasa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araméterek</a:t>
            </a:r>
            <a:r>
              <a:rPr b="0" lang="hu-HU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ULCSSZÓ</a:t>
            </a:r>
            <a:r>
              <a:rPr b="0" lang="hu-HU" sz="3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1,p2,…,p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1,p2,…,pn</a:t>
            </a:r>
            <a:r>
              <a:rPr b="0" lang="hu-HU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paraméter lista elemei (értéke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8A9-E959-49B1-A660-13C3DE3EF3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CREATE DATABASE adatbázisnév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datbázis megnyit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{START} DATABASE adatbázisnév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 egy adatbázisró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HOW DATABAS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datbázis bezár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CLOSE DATABAS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datbázis törl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ROP DATABASE adatbázisnév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915-1D92-4D53-B020-548A6AE53A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ábla létrehoz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TABLE táblan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 oszlopnév  adattípus  [feltétel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..       ..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lopnév  adattípus  [feltéte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, táblaFeltétele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TABLE hallgató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AR(3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í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RCHAR(25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AR(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letésn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TABLE Osz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 osztálykód   CHAR(3)  PRIMAR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tálynév   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zAdószám   DECIMAL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672-1D13-4822-9438-D565380FED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a tör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OP TABLE táblanév;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ására a séma és a hozzá tartozó adattábla törlőd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OP hallgat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a mód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táblan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ADD (újelem, ..., újelem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MODIFY (módosítás, ..., módosítás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DROP (oszlop, ..., oszlop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elem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y "oszlopnév adattípus [feltétel]", vagy egy "táblafeltétel", mint a CREATE TABLE utasítás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ódosítás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"oszlopnév adattípus [feltétel]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zlopok törlését nem minden rendszer engedi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Dolgozó ADD (szüldátum DA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Dolgozó MODIFY (lakcím VARCHAR(6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328-F1D0-49A7-BB44-5965AD73B8D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ához új attribútum hozzáadás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táblanév ADD (oszlop1, {oszlop2,…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hallgató ADD telefon CHAR(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gy a hallgató relációnak öt attribútuma lesz, az első négyet az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. Péld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ja, az ötödik a telefon attribútum, amely 15 hosszúságú karakter soro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ában attribútum tör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táblanév DROP (oszlop1, {oszlop2,…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hallgató DROP cí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lapértelmezés szerinti érték megad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attribútum és az adattípus definiálásakor választható a DEFAULT kulcsszó és egy megfelelő érték. Az érték lehet vagy nullérték vagy egy konst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TER TABLE hallgató ADD telefon CHAR(15) DEFAULT ’titkos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5C2-42BB-40EE-B31F-662978F396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dexek létreh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[UNIQUE] INDEX indexnév ON tábla(oszloplis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UNIQUE szerepel, akkor az indextábla nem tartalmaz két azonos indexkulcsú rekord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INDEX DolgInd ON Dolgozó(név,osztálykó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dex megszűnt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OP INDEX indexné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.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OP INDEX Év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ába új sor felvétele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SERT INTO táblanév [(oszloplista)] VALUES (értéklis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oszloplista nem szerepel, akkor valamennyi oszlop értéket kap a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TABLE-ben megadott sorrendben. Egyébként, az oszlopnév-listában nem szereplő mezők NULL értéket kap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A09-B817-4143-9056-A4269164D34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0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INSERT INTO Dolgozó (név, adószá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VALUES ("Tóth Aladár", 1111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áblában sor(ok) módosítása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UPDATE táblané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T oszlop = kifejezés, ...,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oszlop = kifejez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[ WHERE feltétel 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értékadás minden olyan soron végrehajtódik, amely eleget tesz a WHERE feltételne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 WHERE feltétel nem szerepel, akkor az értékadás az összes sorra megtörténi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1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UPDATE Dolgoz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T lakcím = "Debrecen, Rózsa u. 5.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WHERE név = "Kocsis István"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36E-F108-4D31-B273-75E1FCE471D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ában rekord tör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 kell jelölni a törlendő rekordot. Egyszerre több rekordot is ki lehet jelölni, ha az egér balgombját lenyomva tartva mozgatjuk azt a rekordkijelölő sávban. A törlés elvégezhető például a Szerkesztés\Rekord törlése menü funkcióval, vagy az eszköztár Rekord törlése ikonnal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a rend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 kell jelölni azt a mezőt, amely szerint rendezni kell. Majd a Rekord\Rendezés menü funkciót kell választani, ahol ki kell választani, hogy növekvő vagy csökkenő sorrendű legyen a rendezé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kordok\Szűrő\Szűrés menü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kordok\Szűrő\Szűrés kizáráss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űrlappal történő szűréskor egyszerre több mező tartalmára is megadható feltétel vagy egy mezőre több feltételt lehet beállítani.  Rekordok\Szűrő\Szűrés űrlappal menüp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űrő\Szűrés/rendezés funkc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kordok\Szűrő\Irányított szűrés/rendezés menüp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331-4C11-4D63-A9ED-28F055C423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áblában sor(ok) törlése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ELETE FROM táblané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[ WHERE feltétel 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fenti utasítás hatására azok a sorok törlődnek, amelyek eleget tesznek a 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WHERE feltételnek. Ha a WHERE feltétel elmarad, akkor az összes sor törlődik (de a séma megmarad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2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ELETE FROM Dolgoz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WHERE név = "Kocsis István"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ELETE FROM Osztály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 SELECT utasítás alapváltoz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 [DISTINCT]  oszlopl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FROM  táblanévl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[WHERE  feltétel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FE8-0690-47DD-844B-7FB63D6EBE1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felsorolt táblák Descartes-szorzatából szelektálásra kerülnek a feltételnek eleget tévő sorok, majd ezekből projekcióval kiválasztódnak az eredménytábla oszlopai. A DISTINCT opciót akkor kell kiírni, ha az azonos sorokból csak egyet kell megtarta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 oszloplista helyén * karakter van, ez valamennyi oszlop felsorolásával egyenértékű. A SELECT legegyszerűbb változatával adattábla listázása érhető e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* FROM 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Projekció megvalósít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[DISTINCT] A1,...,An FROM 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3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DISTINCT szerző, cím FROM Könyv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zelekció megvalósít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* FROM T WHERE feltéte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4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* FROM Könyv WHERE kivétel&lt;2000.01.0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769-612A-485D-A723-F03F9F6A31B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ermészetes összekapcsolá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Legyen az a feladat, hogy elő kell állítani például az ÁRU(cikkszám,megnevezés) és VÁSÁRLÁS(cikkszám,mennyiség) táblák természetes összekapcsolásá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Áru.cikkszám, megnevezés, mennyisé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FROM Áru, Vásárlá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WHERE Áru.cikkszám = Vásárlás.cikkszám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lias nev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ELECT után megadott oszloplista valójában nem csak oszlopneveket, hanem tetszőleges kifejezéseket is tartalmazhat, és az eredménytábla oszlopainak elnevezésére alias nevek adhatók me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5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RAKTÁR(cikkszám, név, egységár, mennyiség) táblából egy ÖSSZES(áru, érték) tábla létrehozá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LECT név AS áru, egységár*mennyiség AS érték FROM Raktár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F4D-552C-4F08-B734-36D08556F5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sítő függv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VG: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lagérté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UM: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X: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ximális érté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: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imális érté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UNT: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mek száma. Ennél a függvénynél az oszlopnév helyére * is írható, amely valamennyi oszlopot együtt jel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LECT AVG(fizetés) FROM Dolg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LECT SUM(fizetés) FROM Dolg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LECT COUNT(*) FROM Dolg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GROUP BY, HA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7.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LGOZÓ táblából osztályonként az átlagfizetés kiszám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LECT osztkód, AVG(fizetés) FROM Dolg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OUP BY osztkó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844-EF6F-4796-A721-B31033771BE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redménytábla rend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RDER BY oszlopnév [DESC], ..., oszlopnév [DES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. Pél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LECT osztkód, név, fizetés FROM Dolgoz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DER BY osztkód, fizetés DES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ELECT utasítás általános alak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LECT  [DISTINCT]  oszloplis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jek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ROM  táblanévlis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scartes-szor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WHERE  feltétel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lek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GROUP BY  oszloplista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HAVING  feltétel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-felt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[ORDER BY  oszloplista];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égrehajtási sor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. FROM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escartes-szorz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. WHER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lek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3. GROUP B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4. HAVING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-szelek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. SELEC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jek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6. ORDER B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end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B5D-3209-4652-B623-2546F8E6838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. Pé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ECT név, fizetés FROM Dolg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HERE fizetés &lt; ( SELECT AVG(fizetés) FROM dolgozó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zettáblák alkalmazási lehetősé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rmaztatott adattáblák létrehozása, amelyek a törzsadatok módosításakor automatikusan módosulnak (pl. összegzőtáblá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onyos adatok elrejtése egyes felhasználók elől (adatbiztonság vagy egyszerűsítés céljábó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zettábla létreh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REATE VIEW táblanév [(oszloplista)] AS alkérdé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9B4-BB69-49B8-8CEA-E4A7BDD499D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Hozzáférési jogok adományoz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GRANT jogosultságok ON adatbáziselemek TO felhasználó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[WITH GRANT OPTION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Jogosultság visszavon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REVOKE jogosultságok ON adatbáziselemek FROM felhasználó [CASCADE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CASCADE: a visszavont jogosultság alapján továbbadományozott jogosultságok is visszavonásra kerülnek, feltéve, hogy ugyanazt a jogot az illető más forrásból nem szerezte me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21. Pél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GRANT SELECT ON Dolgozó TO Kovács, Tó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GRANT UPDATE(lakcím) ON Dolg1 TO Horváth WITH GRANT OPTION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REVOKE SELECT ON Dolgozó FROM Tó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89D-0099-4ED9-807D-ED80D31C101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Jogosultság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SELECT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kérdezés engedélyez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LTER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ktúramódosítás engedélyezése (ALTER TA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INSERT[(oszlopok)], UPDATE[(oszlopok)], DELETE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bla módosítás engedélyezése a megfelelő utasítással. Oszlopok megadása esetén az engedély csak az adott oszlopokra vonatkoz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REFERENCES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ső kulcs hivatkozás engedélyezése az adatbáziselem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LL PRIVILEGES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összes adományozható jogosultsá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datbáziselem</a:t>
            </a: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lyre a jogosultság adományozása történ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elhasználó</a:t>
            </a: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inek a jogosultságot adományozzá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WITH GRANT OPTION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ovábbadományozási jog ad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877-E24C-4430-9B2C-8F64BA9EE27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bázis létreh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63272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67D-2FFD-4CF1-9DF2-E34B4B425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z egyes adatbázis-objektumok létrehozási lehetősége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utomatik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ccess automatikusan elkészíti az objektum szokásos, legcélszerűbb változat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Varázsló segítségé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okásos varázsló-technikával végigvezet a tervezési folyama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Tervező nézet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jesen manuális a tervezés, itt a rendszer valamennyi lehetősége elér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AF8-3299-436E-BE1C-15F15662B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lációs adatbázis kezelő rendszerek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bla létrehozása Tervező nézet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48980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08A-8854-4B12-ABF7-995A06CF2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7:43Z</dcterms:modified>
  <cp:revision>142</cp:revision>
  <dc:subject/>
  <dc:title>PowerPoint bemutató</dc:title>
</cp:coreProperties>
</file>