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2E7C-98C2-41BD-8F13-EEC9C3D0031F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C5A-DC71-4E2F-9443-B8646D58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376-0B22-4BC5-89DE-C974834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9D2-F4DC-4BFB-88B3-0824931F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6F1-C9CA-42A3-B073-141ADC0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ADE-CBA5-4B33-8F7B-11A8F542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4122-4F21-4867-A218-15BC9B6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FB92-EDD8-419B-8F45-DFDC7CE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6FC0-41B1-458A-984E-3D521A9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DFBE-7A39-4BB1-A3CC-CD1DDB8D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1A38-E1F7-4909-9AA9-15474C9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A27C-174F-4731-8DDE-C9ADE35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C57-84D4-4889-A04B-2768634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5E08-4041-40DF-8001-CD33C03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F1D3-2795-4E50-A0CC-306C64D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E773-1CE8-417A-8DCB-0380890F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8FC-7EC5-4E4A-9E49-FB873E48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5566-51DD-49B3-8D4E-5D5EAF7D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CCA-6B45-4D2E-9FAF-6A82EFC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581-56FC-4F5D-A902-ABCEDE2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FE4-8988-4B0F-9FA6-18FB50F9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8BC-37E0-443E-8397-702A0AA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D58-BA6D-4384-AD70-46A47AB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15B-5CAA-428E-A5A9-EDEEA33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E4F-1E08-45A3-A23D-5C130DF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26F3-F2B1-4E29-A2A1-5EE26AC3574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AC2-512D-405C-891A-A1E24647BCE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1CE-FF71-4ABD-A0DD-13CF53A48E6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191-5F35-451A-997C-8CAF1E28211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D197-8A4B-49A8-A1FD-5A599A9AD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A rendszerszemléletű megközelítés hátrányai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alós világ leírása különböző nem egyértelmű leírása lehet az eredménye ennek a megközelítésnek: a módszer eltérő alkalmazása különböző eredményekre vezet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étrejött modell nem teljes vagy nem pontos, merthogy nincs pontos előírás arra, hogy milyen részletességűnek kell len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 kifejezetten javasolt módszer vagy általános egyetértés abban, hogy az esetleg létező módszerek közül melyik a legmegfelelő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,Az oroszlán és a ló rendszerszemléletű megközelítésben ugyanaz, mégis egy kicsit másképpen kell velük bán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59E-76A0-41D4-8D5E-675693D46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A rendszerszemléletű megközelítés előnyei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 fogalmának fentebbi meghatározásainak megfelelően közelítjük meg a valós világot vagy annak egy részé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Így ez a megközelítés informális eszközt nyújt a helyzet megértéséhez és leírásához az ösztönösen ismert fogalmak segítségével, mint például a folyamat. bemenet, kimen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olyamatok hierarchikus lebontása (dekompozíciója) a bonyolult, összetett folyamatok elemzésének hasznos eszköz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ezérlő rendszer fogalma illetve ennek fontossága rámutathat arra, hogy egy ilyen hiányzik, nem hatékony, esetleg eredménytel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 ilyen jellegű leírása általában elég egyszerű ahhoz, hogy kommunikációs eszközként használjuk a személyek közötti párbeszéd lebonyolításához, természetesen megfelelő magyarázat kíséret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3DE-BB3E-4EBC-8A66-B268FA581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 fogalm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z információs rendszer úgy tekinthető, mint információ forrás(ok) bármilyen kombinációban azok bármilyen elérésével és vagy bármilyen visszanyerésével azok manipulálására vagy használatára. Bármilyen információs rendszer célja összekapcsolni a felhasználót egy olyan megfelelő információs forrással, melyre a felhasználónak aktuálisan szüksége van, azzal az elvárással, hogy a felhasználó képes lesz elérni az információt, mely meg fog felelni az igényeinek.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073-BD44-4C5D-B854-BA3A309A8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ek fejlődési út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50760" y="1719360"/>
            <a:ext cx="724068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EFE-BC83-4966-975C-30885C49E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ezetői információellát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41376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21B-082F-4241-A485-7BD7892A4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állalati információrendszer a 80-as évek második felébe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2720880"/>
            <a:ext cx="8136000" cy="23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2D4-507A-4705-9657-626A11D188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tegrált vállalatirányítás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P-rendszerek feladata egyrészt a vállalatnál felmerülő tranzakciók kezelése, másrészt (a korai időszaktól kezdve) a vezetők számára információ nyújtása -- a tárolt összvállalati adattömegből. Az ERP-technológia így ötvözte a TPS/EDP-, illetve a MIS-rendszereket, a középvezetői szint fölött azonban nem igazán alkalmas döntéstámogat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P (Enterprise Resource Planning), vagyis vállalati erőforrás-tervezés. Bár még ma is a régi rövidítéssel (ERP) utalunk ezekre a vállalati rendszerekre, az elmúlt évek innovációi miatt már inkább tekinthetőek integrált vállalatirányítási alkalmazásoknak (IEA: Integrated Enterprise Applica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P-rendszerek kialakulásával mind a controlling, mind a menedzsment óriási információs bázishoz jutott, folyamatosan bővülő funkcionalitásukkal ezek a rendszerek jelentik ma a vállalatok informatikai támogatásának alapj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P-rendszerek olyan modulokból felépülő alkalmazások, melyek szoftveres megoldást kínálnak a termelés, a logisztika, az értékesítés, az emberi erőforrás gazdálkodás és a pénzügyi elszámolás tranzakcióinak valós idejű, egységes és integrált kezelésére -- a szervezet funkcionális területeit és működési folyamatait lefedő, egységes és integrált vállalatirányítási rendszer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22E-0D1A-463A-A2E7-F4E742F7E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gazati információs rendszer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z agrárstatisztika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amely az EUROSTAT által koordinálva szerteágazó területeken nyújt statisztikai jellegű információkat az Unión belüli folyamatokról, a főbb tendenciákról. A szerteágazóságra példa, hogy a térinformatika és a távérzékelésen alapuló szántóföldi monitoring is az EUROSTAT Compendiumában szereplő modu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z FADN /Farm Accountancy Data Network/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 EU egyik legfontosabb információs rendszere. /Magyarországon a németországi gyakorlatnak megfelelően a Tesztüzemi Rendszer elnevezés a leginkább elterjedt./ Feladata a gazdaságok pénzügyi folyamatainak, jövedelemhelyzetének nyomon követé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 Piaci Információs Rendszer,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mely szolgálja egyrészt a termelők tájékoztatását a főbb piaci folyamatokról, de fontos feladata a brüsszeli apparátus információs igényeinek a kielégítése i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z Integrált Igazgatási és Ellenőrző Rendszer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indokolt kiemelni, amely lényegét tekintve egy „technikai jellegű” információs rendszer, elsősorban az EU adminisztrációjának működését hivatott segíteni. Az adófizetők pénzéből történő kifizetések elszámolását, illetve ellenőrzését végzi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FA5-A9A6-40EB-B19A-054207D41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agrárstatisztik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urópai Unió - a közösségi költségvetésből legnagyobb arányban részesedő mezőgazdasági támogatásokra való tekintettel - az agrárinformációs rendszerrel szemben megkülönböztetett igényeket és követelményeket támasz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ivatalos statisztikai szolgálat keretében a mezőgazdasági statisztika fő felelőse a KSH. Az FVM főleg működtetési „operatív" információkat gyűjt. Tevékenységének fő területei az előrejelzések, szakértői becslések, illetve a termelés bevételeire és költségeire vonatkozó adatgyűjtések. Ezen kívül az FVM az erdőgazdálkodás, a halászat és távérzékelés statisztikai témáinak felelő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grárstatisztikai információk – amelyeket alapvetően agrárpolitikai, közgazdasági elemzési és általános információs célokra hasznosítanak – az EUROSTAT útján jutnak el a Bizottsághoz. Az EUROSTAT kizárólag az adott ország hivatalos statisztikai szervezetén keresztül történő adatszolgáltatást igényl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291-4080-4073-9787-CB348BA45F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Piaci Információs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piaci információs rendszerek fő feladata a piaci transzparencia megteremtése, ami fontos előfeltétele egy működő versenyne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ereskedelemnek és a feldolgozóknak is szükségük van piaci transzparenciára annak érdekében, hogy feladataikat a lehető leghatékonyabban teljesíthessé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U piaci és árinformációs struktúrája lényegében az információ felhasználói alapján bontható két csoportr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iaci szereplők információs igényeit kielégítő információs rendszerek, valam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ponti irányítás, illetve elsősorban az EU Bizottság VI. Főigazgatósága elvárásainak megfelelni képes piaci /statisztikai/ adatszolgáltató rendsze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agyarországon a médiumokon keresztül széles kör számára elérhető piaci információs rendszer az Agrárgazdasági Kutató és Informatikai Intézetben /AKII/ működ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30F-B334-478A-BDB3-CD82E306B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s rendszer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849A-8C04-4886-8D14-21EB1C569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Tesztüzemi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politikai kezdeményezések és döntések megalapozásához az Európai Unió Bizottságának szüksége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rmációkra az üzemek jövedelmi szintjéről, valam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mzésekre a politikai döntések lehetséges hatásai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Bizottság ezen funkciók ellátásához hozta létre a Mezőgazdasági Számviteli Információs Hálózatot – angolul: Farm Accountancy Data Network /FADN/ -, amely egy minden EU tagállamra kiterjedő reprezentatív adatgyűjtési rendsz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FADN felmérése lefed minden az üzemekben folytatott mezőgazdasági tevékenységet. Sőt egyes, nem az ágazat keretei közé tartozó tevékenységről is gyűjt adatokat /pl. falusi turizmus, erdészet/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8A6-DE3C-4E39-9FCF-3738989DB7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Integrált Igazgatási és Ellenőrző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tegrált Igazgatási és Ellenőrző Rendszer (IIER) /Integrated Administrative and Controll System/, – az EU primer információs rendszerének negyedik ele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IER elsősorban, sőt kizárólagosan a Közös Agrárpolitika /KAP/ egyik meghatározó elemének, a kompenzációs /vagy direkt/ támogatásoknak az odaítélését, illetve az odaítélés jogosságának ellenőrzését szolgálja. Ezen keresztül egy „technikai jellegű” információs rendsz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 biztosítja, hogy az EU kompenzációs támogatásából részesülő termelőkről a lehető legrészletesebb információk álljanak rendelkezésre. Ezért a termelőnek a kérdőívek kitöltésekor szinte teljesen „átláthatóvá” kell tennie magá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154-F30A-4D21-BB44-92356267F9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Mezőgazdasági Számlák Rendsz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ezőgazdasági Számlák Rendszerét /Economic Accounts for Agriculture = EAA/ a Nemzeti Számlák Rendszeréhez kapcsolódva – e rendszer úgynevezett szatelit számláiként – az EU agrárpolitikai információ igényeihez igazodva alkották me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 keretében a mezőgazdasági tevékenységről kapni átfogó, és részletes elemzésekre is lehetőséget adó képe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ezőgazdasági Számlák Rendszerét /továbbiakban MSZR/ nemcsak országos szinten, hanem regionálisan is elő kell állítani, illetve működtet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MSZR a mezőgazdasági termelést, annak felhasználását, a termelés ráfordításait és a jövedelemalakulást összefüggő rendszerben írja 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714-EFE5-40F2-9DC4-96F2BB6D4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ektronikus kereskedelem, elektronikus üzletvite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E-busi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határozás 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Bármilyen internetes kezdeményezés – taktikai vagy stratégiai, ami átalakítja az üzleti kapcsolatokat, legyenek azok akár fogyasztók és vállalatok, vállalatok és vállalatok, fogyasztók és fogyasztók közötti vagy vállalaton belüli reláció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” (BŐGEL,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határozás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üzleti irányítás bonyolítása az Interneten keresztül. Ez a tevékenység magába foglalhatja áruk és szolgáltatások adásvételét, technikai vagy információs segítségnyújtást az interneten keresztül”. (http://www.webopedia.c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határozás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inden üzleti tevékenység, amely részben vagy egészen digitális úton zajlik.” (COLTMAN, 200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e-business szélesebb területet ölel fel, mint az e-commerc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íg az e-commerce konkrétan az üzleti tevékenység magvalósulására, a folyamatra és a részt vevőkre koncentrál, addig az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-business magában foglalja az e-commerce-t, de a tágabb világgazdasági környezettel, a belső vállalati mechanizmusokkal is foglalkozha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768-FF86-426C-B81C-A8D793958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elektronikus kereskedelem előny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ereskedelemben régóta ismert és elfogadott 6M szabály szerint tevékenységünk akkor lehet sikeres, 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anyagot, energiát, információt, személy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mennyiségb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minőségb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időpontb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(minimális) költséggel juttatjuk 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hely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ár az e- business messze túlmutat a kereskedelmen, jelentősége abban rejlik, hogy új technikái és megközelítései révén hatékonyabbá teszi a folyamatokat, ezáltal tőke és erőforrások takaríthatóak me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814-8CA8-4DA2-BD74-94AF503978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-business 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49400" y="1719360"/>
            <a:ext cx="52434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A23-5F29-4124-9890-B5DEE13B64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usiness to Business (B2B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B2B, az elektronikus vállalatközi kereskedelem az elektronikus kereskedelem legnagyobb szelete. A B2B kereskedelem volumene messze meghaladja a B2C-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B2B magába foglal szinte minden területet, amely elektronikus úton végbemenő vállalatközi együttműködésnek tekinthető. Ebből a kijelentésből is jól látszik, hogy az IT mennyire megváltoztatta az „érték” fogalmát. B2B kapcsolatokra példák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ermelő-feldolgozó-kereskedő lánc (supply cha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szt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ektronikus vásárterek legtöbbje (általában vertikálisan, egy-egy ágazat köré szerveződ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rmáció vétele és eladá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+F együttműködés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825-8696-4E42-8CAD-465585E300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usiness to Consumer (B2C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business to consumer kereskedelem talán az e-business legismertebb formája. Az ily módon megvalósuló üzletkötések volumene jelentősen elmarad a B2B üzletkötésektől, ám az üzletkötések száma nagyságrendileg meghaladja az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z kereskedelmi forma a legváltozatosabb is, hiszen az elektronikus kereskedelem jellegéből adódóan szükségszerűen sokkal inkább képes alkalmazkodni a megújuló igényekhez, mert az egyéni vásárlók a vállalatoknál lényegesen gyakrabban változtatják vásárlási szokásaikat, illetve termékhűségük is alacsonya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mennyiben az elektronikus kereskedelemnek a legtágabb értelmezését használjuk, úgy minden a kereskedelem ösztönzésére vonatkozó tevékenység is – teljesen vagy legalábbis részben – az e-business kategóriájába tartozik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elektronikus médiában (televízió, rádió), folytatott reklámtevékenység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interneten folytatott nem interaktív reklámtevékenység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ugyanezeken a helyeken folytatott ismeretterjesztő tevékenység (dokumentumfilmek, riportok, passzív weblapok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nyagi dimenzióval rendelkező tárgyak kereskedel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interaktív hirdeté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egyedi vásárlás (egyszerű internetes vásárlás, pizza rendelés, vagy TV Sho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elektronikus üzlet igénybe vétele (nagy, sokféle árú, széles termékpalett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nyagi dimenzióval nem rendelkező tartalom kereskedelem eseté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interaktív hirdeté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tartalomszolgáltatás megrendelése (elektronikus könyv, zene, szoftver, csengőhang, logó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információ/hozzáféré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E6-2AD8-453D-AB72-994D6E7D75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rendszer fogalma: A rendszer egymással kölcsönhatásban, kapcsolatban lévő elemek együtte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606760"/>
            <a:ext cx="518508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399-68FA-411A-B6A0-B840EBC4C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típu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udwig von Bertalanffy magyar származású bécsi biológus a rendszereket két nagy csoportra tagolja; nyílt és zárt rendszer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yílt rendszern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nevezte azokat a rendszereket amelyek áramlási mennyiségekként anyagot, energiát és /vagy/ információkat vesz lel a környező világtól, ezeket belsőleg feldolgozza és feldolgozott formában visszaadja a világn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Zárt rendszer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pedig azok a rendszerek. amelyek az őket környező világgal egyedül és kizárólag energetikai kapcsolatban álln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136-914D-4A8D-9F9E-BBC68ABC0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 elemi logikai sémá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957320"/>
            <a:ext cx="820908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2EA-20A6-4B33-AC41-37B581CBB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A rendszer bemente, kimenete és a környezet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7920000" cy="41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D7-96CE-4E8E-B8DB-22DB7A54C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szürke doboz elvi sémá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402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4C8-76F4-4989-97A0-BAB0FB381E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vezérlő rendszer részei és a funkcionális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58920" y="1484280"/>
            <a:ext cx="6186600" cy="4727160"/>
            <a:chOff x="1258920" y="1484280"/>
            <a:chExt cx="6186600" cy="4727160"/>
          </a:xfrm>
        </p:grpSpPr>
        <p:sp>
          <p:nvSpPr>
            <p:cNvPr id="114" name=""/>
            <p:cNvSpPr/>
            <p:nvPr/>
          </p:nvSpPr>
          <p:spPr>
            <a:xfrm>
              <a:off x="1258920" y="1652400"/>
              <a:ext cx="6186600" cy="1851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1000" y="1484280"/>
              <a:ext cx="20620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unkcionális rends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5760" y="2325960"/>
              <a:ext cx="112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olya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83560" y="2494080"/>
              <a:ext cx="11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8320" y="2494080"/>
              <a:ext cx="168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83560" y="2157480"/>
              <a:ext cx="937080" cy="168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eme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83080" y="2157480"/>
              <a:ext cx="937080" cy="168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ime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70640" y="4009320"/>
              <a:ext cx="1874520" cy="673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1120" y="4009320"/>
              <a:ext cx="1499760" cy="673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5120" y="4225680"/>
              <a:ext cx="679320" cy="27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lőírá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5760" y="4177440"/>
              <a:ext cx="11246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Érzékel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0880" y="4359960"/>
              <a:ext cx="14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6120" y="5538240"/>
              <a:ext cx="2624400" cy="673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0640" y="5538240"/>
              <a:ext cx="1874520" cy="673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8200" y="5706720"/>
              <a:ext cx="14997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ezérlő egy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33680" y="5706720"/>
              <a:ext cx="22496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ktiváló egy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821240" y="3517920"/>
              <a:ext cx="0" cy="20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8080" y="351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8080" y="469656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070880" y="5875200"/>
              <a:ext cx="14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397-4CFE-49E7-BDB4-CA8804FA5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Rendszerszemléletű megközelítés, rendszervizsgálat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rendszerszemléletű megközelí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részrendszerek: rendszerek különböző szinteke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rendszermodellek mint absztrakt rendszer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kommunikáló részrendszer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részrendszerek csatolá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Rendszerek viselkedésének kézben tartá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Kimenetellenőrz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Bemenetellenőr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vezérlés nehézsége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z állapotté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B10-7047-49E5-BEE4-72CFB106D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8:42Z</dcterms:modified>
  <cp:revision>110</cp:revision>
  <dc:subject/>
  <dc:title>PowerPoint bemutató</dc:title>
</cp:coreProperties>
</file>