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925-8EFF-4E56-8214-5F945E7CA01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BB3-7B53-43C6-BBD2-7E45C305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7BB-1D1C-4328-ACF5-34DCAF09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D3E-F787-49A8-8DEB-32D751D1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ACB-2448-45DA-94EA-5E1AB84E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0FBB-32E3-47CF-AFBB-417BBEA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0078-44DB-43DD-A1D7-69F889B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934-B85E-4E68-8F48-565A2F13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50C6-6441-42FA-8CB1-36577F99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721-040E-492F-A514-BF702F91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963-BB29-4431-A1D4-C709CB8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7587-9DE5-4682-AF61-E73C973E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8DA-F27B-42E9-AB3E-1D4039AA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15D0-997E-410A-A01D-3CFD6FC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C7D-5679-4375-8EEA-7BAE31A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424-E9BA-46AD-8ABD-8D78441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18A-397A-455A-88E7-49A2BABC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8F7B-4125-44DD-AE19-19FFF2B4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16A-CB55-4F4D-A407-DC36A61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EB3-098B-4B45-804B-EB3E7BF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225-12ED-4C02-94B8-587B1409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D78-F357-40CC-8B7B-827062F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D09-4753-4900-9E24-10AC74D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CDC-9322-4F8F-AC13-D473E1F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D35-87B7-4ECC-A50F-481C91A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0C3-7CA0-46D9-B9FE-E33CEF4AEDC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010-2959-496C-94D5-F082EB550AC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07B3-2E4E-418E-B2F8-D925E486CA70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&lt;footer&gt;</a:t>
            </a: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EC6B-7C84-4AB9-8F50-5DD2E6EB4DE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 architektúrá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D9C2-BDC7-439D-9C83-F8059448D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ímzésmód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ivel a címzésmód bináris alakja nem egyértelmű (nem derül ki, hogy minek kell értelmezn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dat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gy regiszter sorszáma (kódj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gy memóriarekesz cí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ért kell az utasításba egy címzésmódot azonosító rész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pl. ha 00h, akkor közvetlen adatcím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ha 01h, akkor közvetlen memóriacím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stb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88C-BF17-445A-8ED8-0B47FCE4E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Utasítás-szerkez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ínrendszer ill. a regiszterek mérete meghatározza az utasításszerkezet </a:t>
            </a:r>
            <a:r>
              <a:rPr b="0" lang="hu-HU" sz="3000" spc="-1" strike="noStrike">
                <a:solidFill>
                  <a:srgbClr val="0000ff"/>
                </a:solidFill>
                <a:latin typeface="Arial"/>
              </a:rPr>
              <a:t>hossz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ptimális esetben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tasítás hossza = sínrendszer szélessége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(így 1 utasítás egy műveletben kiolvasható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talában 2</a:t>
            </a:r>
            <a:r>
              <a:rPr b="0" lang="hu-HU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16-32-64 b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utasításkód + címzésmód együtt a felső 8-12-16 b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operandusok (értéke vagy címe) az alsó 2 x 8-16 b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81D-6D41-4892-9967-3C73DA68F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Utasítás-szerkezet csoportosítá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ff"/>
                </a:solidFill>
                <a:latin typeface="Arial"/>
              </a:rPr>
              <a:t>utasítás-hossz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lapjá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nem egyértelm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különböző címzésmódok esetén az operandusok hossz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ff"/>
                </a:solidFill>
                <a:latin typeface="Arial"/>
              </a:rPr>
              <a:t>operandusok száma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alapjá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0 operandusú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 nincs operandu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NOP („üres utasítás”), HLT  (a processzor működésének felfüggeszté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1 operandusú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 elegendő egy operandus a művelet elvégzéséh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NOT (logikai tagadás), JMP (a következő utasítás címének kiválasztá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2 operandusú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: a legáltalánosabb utasítások, a műveletben két operandus szerep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 biztos, hogy minden utasítás minden címzésmóddal és minden típusú operandussal együtt alkalmazható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ff"/>
                </a:solidFill>
                <a:latin typeface="Arial"/>
              </a:rPr>
              <a:t>művelet jellege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szer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datmozgat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ámítási (aritmetikai, BCD, logikai, szöveg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összehasonlító, feltételes, elágazási, ugr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cikluskezelő, veremkezelő, egyéb: speciális (pl. grafikai), stb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E8C-956D-4965-9D4C-507865A49A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á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tev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giszterek sorszámoz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X: 0000b, BX: 0001b, CX: 0010b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ímzésmódok sorszámozv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00b: adat, 01b:regiszter, 10b: memória, 11b: indirek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tasításhossz: 16 vagy 32 b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utasításkód + címzésmód 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8 b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elírás: assembly, gépi kód: bináris, hexadecimá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74A-BD1C-42E8-ABDE-2FA35D0A7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a1 – AX+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604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D AX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űveleti kód: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ADD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00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ímzésmód: </a:t>
            </a: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AX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reg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1, </a:t>
            </a:r>
            <a:r>
              <a:rPr b="0" lang="hu-HU" sz="2200" spc="-1" strike="noStrike">
                <a:solidFill>
                  <a:srgbClr val="ff6600"/>
                </a:solidFill>
                <a:latin typeface="Arial"/>
              </a:rPr>
              <a:t>5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adat (= 101)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RD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1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perandusok: AX (reg): </a:t>
            </a: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0000b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, 5 (adat): </a:t>
            </a:r>
            <a:r>
              <a:rPr b="0" lang="hu-HU" sz="2200" spc="-1" strike="noStrike">
                <a:solidFill>
                  <a:srgbClr val="ff6600"/>
                </a:solidFill>
                <a:latin typeface="Arial"/>
              </a:rPr>
              <a:t>010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épi kódj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elvileg lehetne (16 biten): </a:t>
            </a:r>
            <a:br>
              <a:rPr sz="2200"/>
            </a:b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00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01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00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6600"/>
                </a:solidFill>
                <a:latin typeface="Arial"/>
              </a:rPr>
              <a:t>0101</a:t>
            </a:r>
            <a:br>
              <a:rPr sz="2200"/>
            </a:br>
            <a:r>
              <a:rPr b="0" lang="hu-HU" sz="2200" spc="-1" strike="noStrike">
                <a:solidFill>
                  <a:srgbClr val="0000ff"/>
                </a:solidFill>
                <a:latin typeface="Arial"/>
              </a:rPr>
              <a:t>0805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inkább (32 biten): </a:t>
            </a:r>
            <a:br>
              <a:rPr sz="2200"/>
            </a:b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00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01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 u="sng">
                <a:solidFill>
                  <a:srgbClr val="009900"/>
                </a:solidFill>
                <a:uFillTx/>
                <a:latin typeface="Arial"/>
              </a:rPr>
              <a:t>0000</a:t>
            </a: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 0000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 u="sng">
                <a:solidFill>
                  <a:srgbClr val="ff6600"/>
                </a:solidFill>
                <a:uFillTx/>
                <a:latin typeface="Arial"/>
              </a:rPr>
              <a:t>0000 0000 0000</a:t>
            </a:r>
            <a:r>
              <a:rPr b="0" lang="hu-HU" sz="2200" spc="-1" strike="noStrike">
                <a:solidFill>
                  <a:srgbClr val="ff6600"/>
                </a:solidFill>
                <a:latin typeface="Arial"/>
              </a:rPr>
              <a:t> 0101</a:t>
            </a:r>
            <a:br>
              <a:rPr sz="2200"/>
            </a:br>
            <a:r>
              <a:rPr b="0" lang="hu-HU" sz="2200" spc="-1" strike="noStrike">
                <a:solidFill>
                  <a:srgbClr val="0000ff"/>
                </a:solidFill>
                <a:latin typeface="Arial"/>
              </a:rPr>
              <a:t>08000005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08D-E009-4660-BF10-8EDF5337F0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a2 – CX törlé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CX,0 </a:t>
            </a: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MOV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110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RD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: 01 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CX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010, </a:t>
            </a:r>
            <a:r>
              <a:rPr b="0" lang="hu-HU" sz="2200" spc="-1" strike="noStrike">
                <a:solidFill>
                  <a:srgbClr val="ff9900"/>
                </a:solidFill>
                <a:latin typeface="Arial"/>
              </a:rPr>
              <a:t>0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d8d8ec"/>
                </a:solidFill>
                <a:latin typeface="Arial"/>
              </a:rPr>
              <a:t>0100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 u="sng">
                <a:solidFill>
                  <a:srgbClr val="009900"/>
                </a:solidFill>
                <a:uFillTx/>
                <a:latin typeface="Arial"/>
              </a:rPr>
              <a:t>0000</a:t>
            </a: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9900"/>
                </a:solidFill>
                <a:latin typeface="Arial"/>
              </a:rPr>
              <a:t>0010 </a:t>
            </a:r>
            <a:r>
              <a:rPr b="0" lang="hu-HU" sz="2200" spc="-1" strike="noStrike" u="sng">
                <a:solidFill>
                  <a:srgbClr val="ff9900"/>
                </a:solidFill>
                <a:uFillTx/>
                <a:latin typeface="Arial"/>
              </a:rPr>
              <a:t>0000 0000 0000</a:t>
            </a:r>
            <a:r>
              <a:rPr b="1" lang="hu-HU" sz="2200" spc="-1" strike="noStrike">
                <a:solidFill>
                  <a:srgbClr val="ff9900"/>
                </a:solidFill>
                <a:latin typeface="Arial"/>
              </a:rPr>
              <a:t> 0000</a:t>
            </a:r>
            <a:r>
              <a:rPr b="1" lang="hu-H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lang="hu-HU" sz="2200" spc="-1" strike="noStrike">
                <a:solidFill>
                  <a:srgbClr val="0000ff"/>
                </a:solidFill>
                <a:latin typeface="Arial"/>
              </a:rPr>
              <a:t>64020000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X XOR CX </a:t>
            </a: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XOR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RR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d8d8ec"/>
                </a:solidFill>
                <a:latin typeface="Arial"/>
              </a:rPr>
              <a:t>01 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9900"/>
                </a:solidFill>
                <a:latin typeface="Arial"/>
              </a:rPr>
              <a:t>CX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0010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0101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d8d8ec"/>
                </a:solidFill>
                <a:latin typeface="Arial"/>
              </a:rPr>
              <a:t>0101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9900"/>
                </a:solidFill>
                <a:latin typeface="Arial"/>
              </a:rPr>
              <a:t>0010 0010 </a:t>
            </a:r>
            <a:r>
              <a:rPr b="1" lang="hu-HU" sz="22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lang="hu-HU" sz="2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ff"/>
                </a:solidFill>
                <a:latin typeface="Arial"/>
              </a:rPr>
              <a:t>5522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31E-4C91-4E3E-8F51-2C855F23EA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a3 – </a:t>
            </a:r>
            <a:r>
              <a:rPr b="1" lang="hu-HU" sz="3900" spc="-1" strike="noStrike">
                <a:solidFill>
                  <a:srgbClr val="330066"/>
                </a:solidFill>
                <a:latin typeface="Symbol"/>
                <a:ea typeface="Symbol"/>
              </a:rPr>
              <a:t>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(M [255..260])</a:t>
            </a:r>
            <a:r>
              <a:rPr b="1" lang="hu-HU" sz="39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 változat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OR AX, A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OR DX, DX</a:t>
            </a:r>
            <a:br>
              <a:rPr sz="2600"/>
            </a:br>
            <a:r>
              <a:rPr b="0" lang="hu-HU" sz="2600" spc="-1" strike="noStrike">
                <a:solidFill>
                  <a:srgbClr val="99ccff"/>
                </a:solidFill>
                <a:latin typeface="Arial"/>
              </a:rPr>
              <a:t>MOV BX,255</a:t>
            </a:r>
            <a:br>
              <a:rPr sz="2600"/>
            </a:br>
            <a:r>
              <a:rPr b="0" lang="hu-HU" sz="2600" spc="-1" strike="noStrike">
                <a:solidFill>
                  <a:srgbClr val="99ccff"/>
                </a:solidFill>
                <a:latin typeface="Arial"/>
              </a:rPr>
              <a:t>MOV DL,[BX]</a:t>
            </a:r>
            <a:br>
              <a:rPr sz="2600"/>
            </a:br>
            <a:r>
              <a:rPr b="0" lang="hu-HU" sz="2600" spc="-1" strike="noStrike">
                <a:solidFill>
                  <a:srgbClr val="99ccff"/>
                </a:solidFill>
                <a:latin typeface="Arial"/>
              </a:rPr>
              <a:t>ADD AX, DX</a:t>
            </a:r>
            <a:br>
              <a:rPr sz="2600"/>
            </a:br>
            <a:r>
              <a:rPr b="0" lang="hu-HU" sz="2600" spc="-1" strike="noStrike">
                <a:solidFill>
                  <a:srgbClr val="d8d8ec"/>
                </a:solidFill>
                <a:latin typeface="Arial"/>
              </a:rPr>
              <a:t>MOV BX, 256</a:t>
            </a:r>
            <a:br>
              <a:rPr sz="2600"/>
            </a:br>
            <a:r>
              <a:rPr b="0" lang="hu-HU" sz="2600" spc="-1" strike="noStrike">
                <a:solidFill>
                  <a:srgbClr val="d8d8ec"/>
                </a:solidFill>
                <a:latin typeface="Arial"/>
              </a:rPr>
              <a:t>MOV DL, [BX]</a:t>
            </a:r>
            <a:br>
              <a:rPr sz="2600"/>
            </a:br>
            <a:r>
              <a:rPr b="0" lang="hu-HU" sz="2600" spc="-1" strike="noStrike">
                <a:solidFill>
                  <a:srgbClr val="d8d8ec"/>
                </a:solidFill>
                <a:latin typeface="Arial"/>
              </a:rPr>
              <a:t>ADD AX, D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 változat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OR AX, A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OR DX, D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BX, 255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CX, 6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IKL: </a:t>
            </a: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MOV DL, [BX]</a:t>
            </a:r>
            <a:br>
              <a:rPr sz="2600"/>
            </a:b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ADD AX, DX</a:t>
            </a:r>
            <a:br>
              <a:rPr sz="2600"/>
            </a:b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INC BX</a:t>
            </a:r>
            <a:br>
              <a:rPr sz="2600"/>
            </a:b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DEC C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NZ CIK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D03-AD11-4ADE-BF14-54633969B1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a3 – folytat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1280" y="3141720"/>
          <a:ext cx="8199360" cy="3384360"/>
        </p:xfrm>
        <a:graphic>
          <a:graphicData uri="http://schemas.openxmlformats.org/drawingml/2006/table">
            <a:tbl>
              <a:tblPr/>
              <a:tblGrid>
                <a:gridCol w="1025280"/>
                <a:gridCol w="1024200"/>
                <a:gridCol w="1025280"/>
                <a:gridCol w="1025640"/>
                <a:gridCol w="1023840"/>
                <a:gridCol w="1025640"/>
                <a:gridCol w="1023840"/>
                <a:gridCol w="10256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55640" y="22050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d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emóriakép (a programró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d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rögzített címzés: JNZ 27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E05-1539-4E78-87E6-06272703F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élda4: 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móriarekeszek cseré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330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SI, 14h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DX, 1000h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AX, [DX]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C D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BX, [DX]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MP AX, B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NC [BP+SI]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OV AX, BX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fh. az első utasítás címe a BP-ben </a:t>
            </a:r>
            <a:r>
              <a:rPr b="0" lang="hu-H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ége: [BP+2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62 A0 00 14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62 60 10 00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61 06 B0 06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61 26 20 02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B 9A 60 02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6C2-7FE2-454E-B0D2-FC042D0E0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 architektúrá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tasítás-feldolg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C6CA-A178-4F84-8BC8-E3B26799B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yelv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30200" y="2060640"/>
            <a:ext cx="7274880" cy="3814920"/>
            <a:chOff x="1330200" y="2060640"/>
            <a:chExt cx="7274880" cy="3814920"/>
          </a:xfrm>
        </p:grpSpPr>
        <p:sp>
          <p:nvSpPr>
            <p:cNvPr id="103" name="_s893994"/>
            <p:cNvSpPr/>
            <p:nvPr/>
          </p:nvSpPr>
          <p:spPr>
            <a:xfrm>
              <a:off x="1330200" y="2133000"/>
              <a:ext cx="3682080" cy="3742200"/>
            </a:xfrm>
            <a:prstGeom prst="ellipse">
              <a:avLst/>
            </a:prstGeom>
            <a:blipFill rotWithShape="0">
              <a:blip r:embed="rId1">
                <a:alphaModFix amt="48000"/>
              </a:blip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893991"/>
            <p:cNvSpPr/>
            <p:nvPr/>
          </p:nvSpPr>
          <p:spPr>
            <a:xfrm>
              <a:off x="2412000" y="2636640"/>
              <a:ext cx="1224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természe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nyelv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93992"/>
            <p:cNvSpPr/>
            <p:nvPr/>
          </p:nvSpPr>
          <p:spPr>
            <a:xfrm>
              <a:off x="3490200" y="3142080"/>
              <a:ext cx="3104640" cy="1683360"/>
            </a:xfrm>
            <a:prstGeom prst="ellipse">
              <a:avLst/>
            </a:prstGeom>
            <a:gradFill rotWithShape="0">
              <a:gsLst>
                <a:gs pos="0">
                  <a:srgbClr val="66ff66">
                    <a:alpha val="50196"/>
                  </a:srgbClr>
                </a:gs>
                <a:gs pos="50000">
                  <a:srgbClr val="009900">
                    <a:alpha val="50196"/>
                  </a:srgbClr>
                </a:gs>
                <a:gs pos="100000">
                  <a:srgbClr val="66ff66">
                    <a:alpha val="50196"/>
                  </a:srgbClr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893987"/>
            <p:cNvSpPr/>
            <p:nvPr/>
          </p:nvSpPr>
          <p:spPr>
            <a:xfrm>
              <a:off x="4211640" y="3283920"/>
              <a:ext cx="17992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00"/>
                  </a:solidFill>
                  <a:latin typeface="Arial"/>
                </a:rPr>
                <a:t>programozá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0000"/>
                  </a:solidFill>
                  <a:latin typeface="Arial"/>
                </a:rPr>
                <a:t>nyelve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93993"/>
            <p:cNvSpPr/>
            <p:nvPr/>
          </p:nvSpPr>
          <p:spPr>
            <a:xfrm>
              <a:off x="5076360" y="2060640"/>
              <a:ext cx="3528720" cy="381492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893989"/>
            <p:cNvSpPr/>
            <p:nvPr/>
          </p:nvSpPr>
          <p:spPr>
            <a:xfrm>
              <a:off x="6228360" y="2565360"/>
              <a:ext cx="151200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szimbolik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nyelv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08000" y="4292640"/>
            <a:ext cx="1511640" cy="1067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ennyi háromnak és kettőnek az össze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3284640"/>
            <a:ext cx="934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+(3;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X=SZUM(3;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3AA-A43F-4962-BDD0-FE4C5FD748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rogramozási nyelv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39600" y="1826640"/>
            <a:ext cx="6760080" cy="3838320"/>
            <a:chOff x="1839600" y="1826640"/>
            <a:chExt cx="6760080" cy="3838320"/>
          </a:xfrm>
        </p:grpSpPr>
        <p:sp>
          <p:nvSpPr>
            <p:cNvPr id="114" name="_s900107"/>
            <p:cNvSpPr/>
            <p:nvPr/>
          </p:nvSpPr>
          <p:spPr>
            <a:xfrm flipV="1">
              <a:off x="1839600" y="4896360"/>
              <a:ext cx="6760080" cy="767880"/>
            </a:xfrm>
            <a:custGeom>
              <a:avLst/>
              <a:gdLst>
                <a:gd name="textAreaLeft" fmla="*/ 923040 w 6760080"/>
                <a:gd name="textAreaRight" fmla="*/ 5837040 w 6760080"/>
                <a:gd name="textAreaTop" fmla="*/ 104760 h 767880"/>
                <a:gd name="textAreaBottom" fmla="*/ 663120 h 76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4GL,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900110"/>
            <p:cNvSpPr/>
            <p:nvPr/>
          </p:nvSpPr>
          <p:spPr>
            <a:xfrm flipV="1">
              <a:off x="2515680" y="4129920"/>
              <a:ext cx="5407560" cy="766440"/>
            </a:xfrm>
            <a:custGeom>
              <a:avLst/>
              <a:gdLst>
                <a:gd name="textAreaLeft" fmla="*/ 813600 w 5407560"/>
                <a:gd name="textAreaRight" fmla="*/ 4593960 w 5407560"/>
                <a:gd name="textAreaTop" fmla="*/ 115200 h 766440"/>
                <a:gd name="textAreaBottom" fmla="*/ 651240 h 76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magas szintű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(emberközeli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900105"/>
            <p:cNvSpPr/>
            <p:nvPr/>
          </p:nvSpPr>
          <p:spPr>
            <a:xfrm flipV="1">
              <a:off x="3191400" y="3362400"/>
              <a:ext cx="4056480" cy="767880"/>
            </a:xfrm>
            <a:custGeom>
              <a:avLst/>
              <a:gdLst>
                <a:gd name="textAreaLeft" fmla="*/ 704160 w 4056480"/>
                <a:gd name="textAreaRight" fmla="*/ 3352320 w 4056480"/>
                <a:gd name="textAreaTop" fmla="*/ 133200 h 767880"/>
                <a:gd name="textAreaBottom" fmla="*/ 634680 h 76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900103"/>
            <p:cNvSpPr/>
            <p:nvPr/>
          </p:nvSpPr>
          <p:spPr>
            <a:xfrm flipV="1">
              <a:off x="3867480" y="2594160"/>
              <a:ext cx="2703960" cy="767880"/>
            </a:xfrm>
            <a:custGeom>
              <a:avLst/>
              <a:gdLst>
                <a:gd name="textAreaLeft" fmla="*/ 594360 w 2703960"/>
                <a:gd name="textAreaRight" fmla="*/ 2109600 w 2703960"/>
                <a:gd name="textAreaTop" fmla="*/ 168840 h 767880"/>
                <a:gd name="textAreaBottom" fmla="*/ 599040 h 76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gépi kó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900112"/>
            <p:cNvSpPr/>
            <p:nvPr/>
          </p:nvSpPr>
          <p:spPr>
            <a:xfrm flipV="1">
              <a:off x="4543920" y="1826280"/>
              <a:ext cx="1351440" cy="767880"/>
            </a:xfrm>
            <a:custGeom>
              <a:avLst/>
              <a:gdLst>
                <a:gd name="textAreaLeft" fmla="*/ 484920 w 1351440"/>
                <a:gd name="textAreaRight" fmla="*/ 866520 w 1351440"/>
                <a:gd name="textAreaTop" fmla="*/ 275400 h 767880"/>
                <a:gd name="textAreaBottom" fmla="*/ 492480 h 76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700" spc="-1" strike="noStrike">
                  <a:solidFill>
                    <a:srgbClr val="000000"/>
                  </a:solidFill>
                  <a:latin typeface="Arial"/>
                </a:rPr>
                <a:t>mikro-kó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 flipV="1">
            <a:off x="610200" y="1484280"/>
            <a:ext cx="431640" cy="4105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115280" y="1484280"/>
            <a:ext cx="431640" cy="4105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155736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másnak ellen-ható tényező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bes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hető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rdozható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FEA-E0C8-44C5-86C3-9360D141F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Utasítás-kész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dott típusú processzor által ismert műveletek alkalmasan kódolt csoport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űveleti kö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– milyen parancsokat képes az adott CPU megvalósítani (értelmezni, végrehajtan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utasítás-szerkezet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– hogyan lehet azonosítani az utasítás egyes elem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ódolási rendszer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– bináris (a számítógép architektúrája miatt eleve ado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9FE-7B75-47D5-BB7F-C15ECF129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Utasítás-szerkez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űvelet elvégzéséhez szükséges információk rendezett megadá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és mit kell csinál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ivel: a műveletben szereplő adatok, értékek: </a:t>
            </a:r>
            <a:r>
              <a:rPr b="0" lang="hu-HU" sz="2100" spc="-1" strike="noStrike">
                <a:solidFill>
                  <a:srgbClr val="0000ff"/>
                </a:solidFill>
                <a:latin typeface="Arial"/>
              </a:rPr>
              <a:t>operanduso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egadásuk módja (hol vannak): </a:t>
            </a:r>
            <a:r>
              <a:rPr b="0" lang="hu-HU" sz="2100" spc="-1" strike="noStrike">
                <a:solidFill>
                  <a:srgbClr val="0000ff"/>
                </a:solidFill>
                <a:latin typeface="Arial"/>
              </a:rPr>
              <a:t>címzésmód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it: </a:t>
            </a:r>
            <a:r>
              <a:rPr b="0" lang="hu-HU" sz="2100" spc="-1" strike="noStrike">
                <a:solidFill>
                  <a:srgbClr val="0000ff"/>
                </a:solidFill>
                <a:latin typeface="Arial"/>
              </a:rPr>
              <a:t>utasításkó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 legyen az eredménny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redmény típusa szerint (megint csak) </a:t>
            </a:r>
            <a:r>
              <a:rPr b="0" lang="hu-HU" sz="2100" spc="-1" strike="noStrike">
                <a:solidFill>
                  <a:srgbClr val="0000ff"/>
                </a:solidFill>
                <a:latin typeface="Arial"/>
              </a:rPr>
              <a:t>operandus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vagy </a:t>
            </a:r>
            <a:r>
              <a:rPr b="0" lang="hu-HU" sz="2100" spc="-1" strike="noStrike">
                <a:solidFill>
                  <a:srgbClr val="0000ff"/>
                </a:solidFill>
                <a:latin typeface="Arial"/>
              </a:rPr>
              <a:t>cím(zésmó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gyan továb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értelmezés szerint (ld. soros működé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36B-4161-4776-A12C-3DC8B9D87F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mlékeztető: regiszterkész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ltalános cél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X (akkumulátor), BX, CX (számláló), D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ülön címezhető (alsó) 8 bites része: AL, BL, CL, 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ím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P:  bázismutató, SP: veremmutat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I, DI: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C (IP), IR, MAR, MDR, F (státus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EE9-9B98-4FC2-B2D3-5E2ABED30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Utasítás-szerkez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vet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szerkezet minden eleme binárisan kód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űveleti kód </a:t>
            </a:r>
            <a:r>
              <a:rPr b="0" lang="hu-HU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orszám (pl. 0000h = összeadá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ímzésmód </a:t>
            </a:r>
            <a:r>
              <a:rPr b="0" lang="hu-HU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sorszám (pl. 00h = memóriací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perandus: bináris érték (pl. 10 = 0A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perandusból legfeljebb 2 szerepelhet egy műveletb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ld. kommutativitás: 1+2+3 </a:t>
            </a:r>
            <a:r>
              <a:rPr b="0" lang="hu-HU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(1+2) +3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eredmény helye nem szerepel az utasítás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értelmezés szerinti helyre kerü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egy regiszterbe vagy az első operandus helyére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42920" y="1700280"/>
          <a:ext cx="6624720" cy="433440"/>
        </p:xfrm>
        <a:graphic>
          <a:graphicData uri="http://schemas.openxmlformats.org/drawingml/2006/table">
            <a:tbl>
              <a:tblPr/>
              <a:tblGrid>
                <a:gridCol w="2160720"/>
                <a:gridCol w="2016000"/>
                <a:gridCol w="2448000"/>
              </a:tblGrid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űveleti kó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mzésmó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95360" indent="-49536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us(ok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7CB-131F-4173-8101-A03FAD556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Címzésmód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övetlen adatcímz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operandus a műveletben szereplő ért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l. ADD 3;2 – adjuk össze a 3-at és a 2-t (mint értéke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regisztercímz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operandus annak a regiszternek a kódja, amelyben a műveletben szereplő érték megtalálhat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l. ADD R3;2 – az R3 (sorszámú, kódú) regiszterben található értékhez adjunk hozzá 2-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özvetlen memóriacímz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operandusban szereplő érték annak a memória-rekesznek a címe, amely a kérdéses adatot tartalmazz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l. ADD [3];2 – a 3-as sorszámú memóriarekesz tartalmához adjunk hozzá 2-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indirekt címzé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operandusban szereplő adat egy olyan hivatkozás, amely – esetleg valamilyen további művelet elvégzése után – a keresett adat címének meghatározását teszi lehetőv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l. ADD [R3];2 – vegyük az R3 kódú regiszterben található értéket, és tekintsük ezt az értéket egy memóriacímnek: a művelet az ilyen sorszámú memóriacímen található értéket növeli meg 2-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718-DEC5-471E-8DC2-557325145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gó</cp:lastModifiedBy>
  <dcterms:modified xsi:type="dcterms:W3CDTF">2006-08-31T09:20:20Z</dcterms:modified>
  <cp:revision>80</cp:revision>
  <dc:subject/>
  <dc:title>PowerPoint bemutató</dc:title>
</cp:coreProperties>
</file>