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EBAB2-8DB6-4BC8-BEA5-BCE06D8D0D07}" type="slidenum">
              <a:rPr b="0" lang="hu-H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CÍMDIA: logó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futóláb: hefop, témakör, diaszá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Gyakran olyan hallgatóságnak kell szakmai előadást tartani, amely nem ismeri a témát vagy a szakszavakat. Az anyag esetleg összetett és rengeteg adatot tartalmaz. A hatékony előadáshoz alkalmazzuk a Dale Carnegie Training® által kialakított irányelvek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Vegyük figyelembe a rendelkezésre álló időt és rendszerezzük megfelelően a tananyagot. Szűkítsük le a témakört. Osszuk fel a bemutatót világosan elkülönített részekre. Állítsunk fel logikus sorrendet. Végig egy témára összpontosítsunk. A bemutatót összefoglalással zárjuk, ismételjük meg a fontos lépéseket vagy vonjunk le következteté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Ne feledkezzünk el a hallgatóságról. Fontos például, hogy az adatok érthetőek és lényegesek legyenek a téma szempontjából. Az adatok és a szakszavak mennyiségét igazítsuk a hallgatósághoz. A fontosabb pontok és lépések magyarázatához használjunk szemléltetőeszközöket. Mindig tartsuk szem előtt a hallgatóság igényeit, és akkor képesebbek lesznek az elhangzottak befogadásár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474D-D9BC-4358-814B-D52BA6C45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BE41-4323-4495-B88D-3C0103741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1940-63E9-40DD-88A5-AC212A8CD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1938-2DDE-43DD-B1F0-393C82185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7CA76-6509-43F6-A3D7-A83BED929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374E4-5F65-48D1-BC44-FED9A99E8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BAC14-7643-4670-90FC-09BBFF7C5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79D88-A8F3-4EE9-AA2F-40DEC0F95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C3F9F-4A83-4278-BC91-1AC95F37B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047D6-B795-4268-83FD-0E041B69C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F6212-6A18-465D-8FC5-FD924F922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027D-A934-45D4-A1F2-7F5A7104E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2486C-FCAE-4538-854D-60FD162F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06EBD-0F76-4E7E-89BE-8DB00D43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E756E-541E-4E4C-861D-72EDAB6C4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F1C70-B016-42E5-AE34-3E60553DA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FAB88-A38C-46B0-A387-BB30A4738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A063-4B26-4BC0-9D50-C9EAF89D9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D0B3-B6CB-4E30-8CBE-23F7087FD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0C2E-C3DF-4CE2-A9F0-1C50B57E4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E004-E644-4F9F-8356-A584BEE9F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E0A0-EB10-4BA6-B3EE-4CDA1D6DE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18C0-E1D4-4362-8805-0DF1F0B11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4A93-2139-4920-B06F-B700CF38C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EF835-0832-48C4-8785-79164EFCFC4D}" type="datetime">
              <a:rPr b="0" lang="hu-HU" sz="1000" spc="-1" strike="noStrike">
                <a:solidFill>
                  <a:srgbClr val="000000"/>
                </a:solidFill>
                <a:latin typeface="Arial"/>
              </a:rPr>
              <a:t>26.07.29.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E1102-7FB8-4739-A1CD-97176B96C011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6138720"/>
            <a:ext cx="1403280" cy="71928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101080" y="0"/>
            <a:ext cx="1042920" cy="1042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8AF49-7696-4BE3-AC45-E95C9DC1DF0F}" type="datetime">
              <a:rPr b="0" lang="hu-HU" sz="1000" spc="-1" strike="noStrike">
                <a:solidFill>
                  <a:srgbClr val="000000"/>
                </a:solidFill>
                <a:latin typeface="Arial"/>
              </a:rPr>
              <a:t>26.07.29.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2916000" y="6248520"/>
            <a:ext cx="3103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u-HU" sz="1000" spc="-1" strike="noStrike">
                <a:solidFill>
                  <a:srgbClr val="ff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ff0000"/>
                </a:solidFill>
                <a:latin typeface="Arial"/>
              </a:rPr>
              <a:t>A projekt az Európai Unió társfinanszírozásával, az Európa terv keretében valósul meg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DB3D4-DA18-4EA6-AF8D-8D34B62B859D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948360" y="0"/>
            <a:ext cx="2195640" cy="1123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716360" y="115920"/>
            <a:ext cx="2195640" cy="906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7524720" y="1197000"/>
            <a:ext cx="1419120" cy="14191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hu.wikipedia.org/w/index.php?title=IEEE&amp;action=edit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330066"/>
                </a:solidFill>
                <a:latin typeface="Arial"/>
              </a:rPr>
              <a:t>Számítógép-hálózatok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dr. Herdon Mikló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dr. Kovács Gyö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agó Zso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DE AVK GA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EFOP 3.3.1–P-2004-06-0071/1.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Kapcsolat két pont között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használati mód sajátosságára jó példa a Bluetooth. Alapjában kis távolságú, eszközök közötti kapcsolat fenntartására jó, például mobiltelefonhoz vezeték nélküli fejbeszélő illesztésére vagy a telefon és a noteszgép közötti adatcserére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Gyakorlatilag a 2,5G-s és a 3G-s GSM rendszerek elterjedéséig a mobiltelefonok is efféle üzemmódban voltak használatosak, hiszen ha valakit felhívtunk vagy SMS-t küldtünk neki, akkor egy másik készülékkel kapcsolódtunk össze – esetleg a világ két pontja között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Mostanra – a GPRS, majd az UMTS rendszere révén – egyre inkább átalakul a GSM telefonok használati módja, hiszen ezeken a már elfogadható átviteli sebességű rendszereken adatbázisokhoz, internethez is csatlakozhatunk a telefonnal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4989-0EF9-4457-A74E-F95E73443A8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A láthatatlan hálózat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A PDA vagy a noteszgép (és nemsokára a mobiltelefon is) szerencsés esetben éppen úgy viselkedik és használható egy WLAN-szolgáltatás által lefedett területen, mintha egy kiépített vezetékes hálózathoz csatlakoztattuk volna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Ez persze "visszafelé" is igaz: a lefedett területen perifériák – nyomtatók, projektorok, adatkiszolgálók – is telepíthetők ideiglenesen, bekábelezés nélkül. Az ilyen nyomtatót egyébként nemcsak a többi, a rendszerbe belépett vezetéknélküli számítógép használhatja, hanem a vezetékes hálózat felhasználói i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Ha felhasználók száma alapján osztályozzuk a vezeték nélküli hálózatokat, akkor három fő csoportot érdemes megkülönböztetnünk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Az első a személyes méretű hálózat; nevezzük ezt WPAN-nak (Wireless Personal Area Network – vezetéknélküli személyi hálózat). A WPAN kis teljesítményű és kis hatótávolságú. Ide tartoznak: a Bluetooth, a különböző otthoni rádiós interfészek és persze az IrDA, vagyis az infravörös interfész is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EAF7-A55D-49CC-BE06-2E1076520F7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330066"/>
                </a:solidFill>
                <a:latin typeface="Arial"/>
              </a:rPr>
              <a:t>Számítógép-hálózatok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apcsolódás az Internet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84402-FB1D-42D1-AA6C-465BAF98C76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Internet hálózat felépítése, kapcsolódási lehetőségek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042920" y="1425600"/>
            <a:ext cx="6842160" cy="484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5410-4E59-4E8A-B247-CB40C7913FC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Telefonvonalon történő csatlakozás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403280" y="1606680"/>
            <a:ext cx="6121440" cy="4476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881E-099C-4D28-A853-ADB89228653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Terminálszerver megoldás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152800" y="1484280"/>
            <a:ext cx="4779720" cy="48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0841-1A9D-4B9C-82A9-26E390449A5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ADSL - </a:t>
            </a:r>
            <a:r>
              <a:rPr b="1" i="1" lang="hu-HU" sz="3900" spc="-1" strike="noStrike">
                <a:solidFill>
                  <a:srgbClr val="330066"/>
                </a:solidFill>
                <a:latin typeface="Arial"/>
              </a:rPr>
              <a:t>Asymmetric Digital Subscriber Line</a:t>
            </a: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 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szimmetrikus digitális előfizetői vona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(512-4000 kbit/s) letöltési sebességet kínál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Telefonköltség nélküli, korlátlan internetezést tesz lehetővé a hagyományos telefonvonalon, mint átviteli közegen, a telefon vagy fax párhuzamos használata mellet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Egy olyan új technológia, amely a hagyományos telefonvonalat, (csavart réz érpárt) rendkívül gyors internetezésre alkalmas, nagy sávszélességű digitális vonallá alakítja át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z aszimmetria az adatkommunikáció két irányának eltérő sebességére utal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z ADSL alapú Internet elérés elsősorban azok számára megfelelő eszköz, akik a letöltési irányban (például szörfölés, fájlok letöltése) igényelnek nagy sávszélességet és sebességet, a másik irány sávszélessége kevésbé fontos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61C6-2DD1-4171-BDC8-4B7F4D29EC6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Wi-Fi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Arial"/>
              </a:rPr>
              <a:t>Wi-Fi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 (úgy is, mint </a:t>
            </a:r>
            <a:r>
              <a:rPr b="1" lang="hu-HU" sz="1700" spc="-1" strike="noStrike">
                <a:solidFill>
                  <a:srgbClr val="000000"/>
                </a:solidFill>
                <a:latin typeface="Arial"/>
              </a:rPr>
              <a:t>WiFi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hu-HU" sz="1700" spc="-1" strike="noStrike">
                <a:solidFill>
                  <a:srgbClr val="000000"/>
                </a:solidFill>
                <a:latin typeface="Arial"/>
              </a:rPr>
              <a:t>Wifi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 vagy </a:t>
            </a:r>
            <a:r>
              <a:rPr b="1" lang="hu-HU" sz="1700" spc="-1" strike="noStrike">
                <a:solidFill>
                  <a:srgbClr val="000000"/>
                </a:solidFill>
                <a:latin typeface="Arial"/>
              </a:rPr>
              <a:t>wifi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), a </a:t>
            </a:r>
            <a:r>
              <a:rPr b="1" lang="hu-HU" sz="1700" spc="-1" strike="noStrike">
                <a:solidFill>
                  <a:srgbClr val="000000"/>
                </a:solidFill>
                <a:latin typeface="Arial"/>
              </a:rPr>
              <a:t>Wi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reless </a:t>
            </a:r>
            <a:r>
              <a:rPr b="1" lang="hu-HU" sz="1700" spc="-1" strike="noStrike">
                <a:solidFill>
                  <a:srgbClr val="000000"/>
                </a:solidFill>
                <a:latin typeface="Arial"/>
              </a:rPr>
              <a:t>Fi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delity rövidítéséből – az </a:t>
            </a:r>
            <a:r>
              <a:rPr b="0" lang="hu-HU" sz="17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IEEE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 által kifejlesztett vezeték nélküli mikrohullámú kommunikációt megvalósító szabvány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A WiFi a WECA (Wireless Ethernet Compatibility Assocation) bejegyzett márkaneve, és a korábban IEEE 802.11b-nek nevezett szabvány közérthetőbb, könnyebben megjegyezhető márkanev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Az WiFi-nek megfelelő eszközök rádiós adatátviteli összeköttetetést tudunk megvalósítani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Ezek az eszközök a 2400 Mhz-es frekvencia sávban működnek néhányszor 10mW-os adóteljesítménnyel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A WiFi eszközök segítségével akár 11Mbps sebességet is el tudunk érni, ami megfelel egy hagyományos 10 Mbps vezetékes hálózat sebességének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Rádiós kapcsolatoknak két típusa van, az ad-hoc és a strukturált. Ad-hoc módban a hálózati kártyák közvetlenül egymással kommunikálnak, míg strukturált módban egy központi egységen (Access point) keresztül tartják a kapcsolatot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Strukturált módban lényegesen több, akár 64-256 gép is kapcsolódhat egy központi egységhez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FFEB-6B1A-4340-AF89-DBF0C41A827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Wi-MAX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A WiMAX (Worldwide Interoperability for Microwave Access) hatvanhét céget tömörít magáb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Nem a ma használatos vezeték nélküli hálózatok (WLAN) felváltására hozták létre, hanem a kiegészítésükre. Ez nagy mértékben kiterjeszti majd a jelenlegi vezeték nélküli IP-hálózatok (Wi-Fi) alkalmazási köré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A WiMAX révén városnyi területeket is össze lehet majd kötni, vagyis mindenhová eljuthat majd a szélessávú internethozzáférés. Míg a 802.16-os szabvány (a WiMAX) akár 50 kilométeres körzetben is adhat hálózati hozzáférést, a WiFi (WLAN szabvány) csak 100 méteres körzetet képes ellátni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Nem kell közvetlen rálátás az átjátszókra, s ezzel voltaképpen többet ígér minden ma használatos szélessávú, vezeték nélküli kapcsolatnál, mivel a végpontokban nem kell majd kültéri antenn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A WiMax hálózatok legfeljebb 70 Mbit/s sebességű adatátvitelre képesek. A WiMax mind a DSL (Digital Subscriber Lines), mind pedig a kábelnetes megoldásoknál olcsóbb lehet, hiszen esetében nem kell kábeleket lefektetni, a vezeték nélküli infrastruktúra kiépítése pedig rendkívül olcsó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AB7A-DCC1-4755-8387-8F7F6352EC5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Mobil Internet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Az internet jóvoltából erősen megnőtt és felértékelődött az információk iránti igény. Sokan úgy gondolják, hogy ha bármikor és a világon bárhol hozzáférhetnek a világhálón a szükséges adatokhoz, akkor legyen módjuk erre utazás vagy tárgyalás közben is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Egy bekábelezett helyi hálózat (LAN) optimális megoldás az irodaházakban dolgozók többségének, de mi legyen azokkal, akik napközben sokszor változtatják a helyüket – például értekezletek, bemutatók miatt? És a tárgyalásra érkező vendégek? ők hova "csatlakozzanak", ha friss információkra van szükségük a megbeszélések alatt?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Vezeték nélküli, rádiós hálózattal kell helyettesíteni a hagyományos összeköttetést mindenütt, ahol erre igény van. Az ötlet egyáltalán nem új, hiszen a mobiltelefonok már hosszú évtizedek óta ezekre az elvekre támaszkodnak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Ha a frekvenciákat most figyelmen kívül hagyjuk, akkor a gyártóktól és a konkrét berendezéstípusoktól függően különböző szempontok szerint csoportosíthatjuk a mobil rendszereket: vizsgálhatjuk őket a használati mód, illetve a rendszerben részt vevők száma alapján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69DA-3A39-4EE1-A7D5-013C0C5BA96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r. Herdon Miklós</cp:lastModifiedBy>
  <dcterms:modified xsi:type="dcterms:W3CDTF">2006-06-20T13:31:02Z</dcterms:modified>
  <cp:revision>91</cp:revision>
  <dc:subject/>
  <dc:title>PowerPoint bemutató</dc:title>
</cp:coreProperties>
</file>