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5793-0FCB-4A09-B945-2B1D0515E6F7}"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CÍMDIA: logók</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utóláb: hefop, témakör, diaszám</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Gyakran olyan hallgatóságnak kell szakmai előadást tartani, amely nem ismeri a témát vagy a szakszavakat. Az anyag esetleg összetett és rengeteg adatot tartalmaz. A hatékony előadáshoz alkalmazzuk a Dale Carnegie Training® által kialakított irányelveke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Vegyük figyelembe a rendelkezésre álló időt és rendszerezzük megfelelően a tananyagot. Szűkítsük le a témakört. Osszuk fel a bemutatót világosan elkülönített részekre. Állítsunk fel logikus sorrendet. Végig egy témára összpontosítsunk. A bemutatót összefoglalással zárjuk, ismételjük meg a fontos lépéseket vagy vonjunk le következtetés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Ne feledkezzünk el a hallgatóságról. Fontos például, hogy az adatok érthetőek és lényegesek legyenek a téma szempontjából. Az adatok és a szakszavak mennyiségét igazítsuk a hallgatósághoz. A fontosabb pontok és lépések magyarázatához használjunk szemléltetőeszközöket. Mindig tartsuk szem előtt a hallgatóság igényeit, és akkor képesebbek lesznek az elhangzottak befogadásá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DDC5B-9A6D-4BB6-B4FF-5CEC52815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229F0-5EDE-457A-AEAC-972F26BE1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BC81E-63B6-4283-9FA9-188B2B5AE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AD0DE-5492-4F7B-A5FF-48F340189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BCA099-6DFD-4CC4-9B25-06079FE71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28287-4133-4192-AED4-452C542F4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D2649-385C-4ED7-995F-1BF6FD712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722D4-0B36-46CC-89E9-0202811EF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F8C89-B9DC-4A85-B01B-2C37C5988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15588-D3FF-454E-9186-7C063E53B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ED6BB-4B05-4715-8831-F96312579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3F1F8-2BC3-4F1F-AFB1-A357AB275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0085A-F9D6-4B00-AB6F-E8637D3C4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858BF-1AD7-4CDA-9DD8-5219FBA73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47D8B-4D49-4CB2-9687-A56BEF5A0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17E3B-7F13-4529-B2F6-A6E2AF843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14756-A36F-4C50-8064-F8F6FD698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7DECB-E707-4469-A6E7-A291271F5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05E65-CB7A-4437-AE5A-BE4FF58CD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F3E41-2BDF-4467-BE23-AA0FF1061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85C6A-05C9-46DB-A933-AAA0C0B05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5514B-DEB5-4177-A649-D61552CFE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2DE92-C246-459C-B4C0-23A9D036F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1E76E-8E9E-4248-8A8A-9BDADCD62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867A4-783D-43E5-9CA4-3D3E21033B03}" type="datetime">
              <a:rPr b="0" lang="hu-HU" sz="1000" spc="-1" strike="noStrike">
                <a:solidFill>
                  <a:srgbClr val="000000"/>
                </a:solidFill>
                <a:latin typeface="Arial"/>
              </a:rPr>
              <a:t>26.07.29.</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7F07-332A-4CC3-AC1A-30001D1E3793}"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0" y="6138720"/>
            <a:ext cx="1403280" cy="719280"/>
          </a:xfrm>
          <a:prstGeom prst="rect">
            <a:avLst/>
          </a:prstGeom>
          <a:ln w="0">
            <a:noFill/>
          </a:ln>
        </p:spPr>
      </p:pic>
      <p:pic>
        <p:nvPicPr>
          <p:cNvPr id="7" name="" descr=""/>
          <p:cNvPicPr/>
          <p:nvPr/>
        </p:nvPicPr>
        <p:blipFill>
          <a:blip r:embed="rId3"/>
          <a:stretch/>
        </p:blipFill>
        <p:spPr>
          <a:xfrm>
            <a:off x="8101080" y="0"/>
            <a:ext cx="104292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982F-5525-4AB8-8FA6-5B7ED7DD2DBF}" type="datetime">
              <a:rPr b="0" lang="hu-HU" sz="1000" spc="-1" strike="noStrike">
                <a:solidFill>
                  <a:srgbClr val="000000"/>
                </a:solidFill>
                <a:latin typeface="Arial"/>
              </a:rPr>
              <a:t>26.07.29.</a:t>
            </a:fld>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2916000" y="6248520"/>
            <a:ext cx="3103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u-HU" sz="1000" spc="-1" strike="noStrike">
                <a:solidFill>
                  <a:srgbClr val="ff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0000"/>
                </a:solidFill>
                <a:latin typeface="Arial"/>
              </a:rPr>
              <a:t>A projekt az Európai Unió társfinanszírozásával, az Európa terv keretében valósul meg. </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3982-8773-4346-BBD3-3F7DDAA72445}"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948360" y="0"/>
            <a:ext cx="2195640" cy="1123920"/>
          </a:xfrm>
          <a:prstGeom prst="rect">
            <a:avLst/>
          </a:prstGeom>
          <a:ln w="0">
            <a:noFill/>
          </a:ln>
        </p:spPr>
      </p:pic>
      <p:pic>
        <p:nvPicPr>
          <p:cNvPr id="51" name="" descr=""/>
          <p:cNvPicPr/>
          <p:nvPr/>
        </p:nvPicPr>
        <p:blipFill>
          <a:blip r:embed="rId3"/>
          <a:stretch/>
        </p:blipFill>
        <p:spPr>
          <a:xfrm>
            <a:off x="4716360" y="115920"/>
            <a:ext cx="2195640" cy="906480"/>
          </a:xfrm>
          <a:prstGeom prst="rect">
            <a:avLst/>
          </a:prstGeom>
          <a:ln w="0">
            <a:noFill/>
          </a:ln>
        </p:spPr>
      </p:pic>
      <p:pic>
        <p:nvPicPr>
          <p:cNvPr id="52" name="" descr=""/>
          <p:cNvPicPr/>
          <p:nvPr/>
        </p:nvPicPr>
        <p:blipFill>
          <a:blip r:embed="rId4"/>
          <a:stretch/>
        </p:blipFill>
        <p:spPr>
          <a:xfrm>
            <a:off x="7524720" y="1197000"/>
            <a:ext cx="1419120" cy="141912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330066"/>
                </a:solidFill>
                <a:latin typeface="Arial"/>
              </a:rPr>
              <a:t>Számítógép-hálózatok</a:t>
            </a:r>
            <a:endParaRPr b="1" lang="en-US" sz="5400" spc="-1" strike="noStrike">
              <a:solidFill>
                <a:srgbClr val="330066"/>
              </a:solidFill>
              <a:latin typeface="Arial"/>
            </a:endParaRPr>
          </a:p>
        </p:txBody>
      </p:sp>
      <p:sp>
        <p:nvSpPr>
          <p:cNvPr id="9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Herdon Mikló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Kovács Györ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agó Zsolt</a:t>
            </a:r>
            <a:endParaRPr b="0" lang="en-US" sz="32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DE AVK GAIT</a:t>
            </a: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Fejrészekkel történő kiegészítés a rétegekben </a:t>
            </a:r>
            <a:endParaRPr b="1" lang="en-US" sz="3900" spc="-1" strike="noStrike">
              <a:solidFill>
                <a:srgbClr val="330066"/>
              </a:solidFill>
              <a:latin typeface="Arial"/>
            </a:endParaRPr>
          </a:p>
        </p:txBody>
      </p:sp>
      <p:pic>
        <p:nvPicPr>
          <p:cNvPr id="116" name="" descr=""/>
          <p:cNvPicPr/>
          <p:nvPr/>
        </p:nvPicPr>
        <p:blipFill>
          <a:blip r:embed="rId1"/>
          <a:stretch/>
        </p:blipFill>
        <p:spPr>
          <a:xfrm>
            <a:off x="971640" y="1550880"/>
            <a:ext cx="6840360" cy="45086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C47A9B79-EF66-46B6-86D8-F78559F4DF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Címzési rendszer </a:t>
            </a: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Ha egy hálózat számítógépei a kommunikációhoz a TCP/IP protokollt használják, minden számítógép minden adaptere (hálózati kártyája) egyedi azonosítóval rendelkezik.</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számítógéphez rendelt azonosítót IP-címnek (IP address) nevezzük.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IP-cím egy 32 bites szám, amelyet a leggyakrabban az úgynevezett pontozott tízes formában (dotted decimal form) írunk le, azaz négy darab 0 és 255 közötti decimális számmal, például 193.255.67.4</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IP-cím két részből áll: az első a csomópontot tartalmazó helyi hálózatot azonosítja, a másik a hálózaton belül a csomópontot.</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hogy az IP-címből hány bit a hálózat és hány a csomópont azonosítója, elsősorban attól függ, hogy az összekapcsolt hálózatok rendszerében mennyi hálózatra, illetve hálózatonként mennyi csomópontra van szükség.</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címzési rendszerben 4 címzési osztályt alakítottak ki  </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92E7C2C-EF69-4F9C-97FE-F68DDD2A4D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IP címformátumok </a:t>
            </a:r>
            <a:endParaRPr b="1" lang="en-US" sz="3900" spc="-1" strike="noStrike">
              <a:solidFill>
                <a:srgbClr val="330066"/>
              </a:solidFill>
              <a:latin typeface="Arial"/>
            </a:endParaRPr>
          </a:p>
        </p:txBody>
      </p:sp>
      <p:pic>
        <p:nvPicPr>
          <p:cNvPr id="120" name="" descr=""/>
          <p:cNvPicPr/>
          <p:nvPr/>
        </p:nvPicPr>
        <p:blipFill>
          <a:blip r:embed="rId1"/>
          <a:stretch/>
        </p:blipFill>
        <p:spPr>
          <a:xfrm>
            <a:off x="457200" y="2652840"/>
            <a:ext cx="8229600" cy="25430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2B14C650-62CC-43B8-9679-78184A8513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lhálózati maszk</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alhálózati maszk is 32 bites szám, amelyben 1-esek jelzik a hálózat, 0-k a csomópont azonosítójának IP-címbeli helyét.</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Az alhálózati maszk 1-esekből álló sorozattal kezdődik, és 0-sorozattal ér véget.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Példa alhálózati maszk használatára:</a:t>
            </a:r>
            <a:endParaRPr b="0" lang="en-US" sz="1900" spc="-1" strike="noStrike">
              <a:solidFill>
                <a:srgbClr val="000000"/>
              </a:solidFill>
              <a:latin typeface="Arial"/>
            </a:endParaRPr>
          </a:p>
          <a:p>
            <a:pPr lvl="1" marL="6922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IP-cím:</a:t>
            </a:r>
            <a:r>
              <a:rPr b="0" lang="hu-HU" sz="1700" spc="-1" strike="noStrike">
                <a:solidFill>
                  <a:srgbClr val="000000"/>
                </a:solidFill>
                <a:latin typeface="Arial"/>
              </a:rPr>
              <a:t>	</a:t>
            </a:r>
            <a:r>
              <a:rPr b="0" lang="hu-HU" sz="1700" spc="-1" strike="noStrike">
                <a:solidFill>
                  <a:srgbClr val="000000"/>
                </a:solidFill>
                <a:latin typeface="Arial"/>
              </a:rPr>
              <a:t>	</a:t>
            </a:r>
            <a:r>
              <a:rPr b="0" lang="hu-HU" sz="1700" spc="-1" strike="noStrike">
                <a:solidFill>
                  <a:srgbClr val="000000"/>
                </a:solidFill>
                <a:latin typeface="Arial"/>
              </a:rPr>
              <a:t>196.225.15.4</a:t>
            </a:r>
            <a:endParaRPr b="0" lang="en-US" sz="1700" spc="-1" strike="noStrike">
              <a:solidFill>
                <a:srgbClr val="000000"/>
              </a:solidFill>
              <a:latin typeface="Arial"/>
            </a:endParaRPr>
          </a:p>
          <a:p>
            <a:pPr lvl="1" marL="6922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lhálózati maszk:</a:t>
            </a:r>
            <a:r>
              <a:rPr b="0" lang="hu-HU" sz="1700" spc="-1" strike="noStrike">
                <a:solidFill>
                  <a:srgbClr val="000000"/>
                </a:solidFill>
                <a:latin typeface="Arial"/>
              </a:rPr>
              <a:t>	</a:t>
            </a:r>
            <a:r>
              <a:rPr b="0" lang="hu-HU" sz="1700" spc="-1" strike="noStrike">
                <a:solidFill>
                  <a:srgbClr val="000000"/>
                </a:solidFill>
                <a:latin typeface="Arial"/>
              </a:rPr>
              <a:t>225.225.255.0</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Kettes számrendszerben:</a:t>
            </a:r>
            <a:endParaRPr b="0" lang="en-US" sz="1900" spc="-1" strike="noStrike">
              <a:solidFill>
                <a:srgbClr val="000000"/>
              </a:solidFill>
              <a:latin typeface="Arial"/>
            </a:endParaRPr>
          </a:p>
          <a:p>
            <a:pPr lvl="1" marL="6922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IP-cím:</a:t>
            </a:r>
            <a:r>
              <a:rPr b="0" lang="hu-HU" sz="1700" spc="-1" strike="noStrike">
                <a:solidFill>
                  <a:srgbClr val="000000"/>
                </a:solidFill>
                <a:latin typeface="Arial"/>
              </a:rPr>
              <a:t>	</a:t>
            </a:r>
            <a:r>
              <a:rPr b="0" lang="hu-HU" sz="1700" spc="-1" strike="noStrike">
                <a:solidFill>
                  <a:srgbClr val="000000"/>
                </a:solidFill>
                <a:latin typeface="Arial"/>
              </a:rPr>
              <a:t>	</a:t>
            </a:r>
            <a:r>
              <a:rPr b="0" lang="hu-HU" sz="1700" spc="-1" strike="noStrike">
                <a:solidFill>
                  <a:srgbClr val="000000"/>
                </a:solidFill>
                <a:latin typeface="Arial"/>
              </a:rPr>
              <a:t>11000100 11100001 00001111 00000100</a:t>
            </a:r>
            <a:endParaRPr b="0" lang="en-US" sz="1700" spc="-1" strike="noStrike">
              <a:solidFill>
                <a:srgbClr val="000000"/>
              </a:solidFill>
              <a:latin typeface="Arial"/>
            </a:endParaRPr>
          </a:p>
          <a:p>
            <a:pPr lvl="1" marL="6922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lhálózati maszk:</a:t>
            </a:r>
            <a:r>
              <a:rPr b="0" lang="hu-HU" sz="1700" spc="-1" strike="noStrike">
                <a:solidFill>
                  <a:srgbClr val="000000"/>
                </a:solidFill>
                <a:latin typeface="Arial"/>
              </a:rPr>
              <a:t>	</a:t>
            </a:r>
            <a:r>
              <a:rPr b="0" lang="hu-HU" sz="1700" spc="-1" strike="noStrike">
                <a:solidFill>
                  <a:srgbClr val="000000"/>
                </a:solidFill>
                <a:latin typeface="Arial"/>
              </a:rPr>
              <a:t>11111111 11111111 11111111 00000000</a:t>
            </a: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két szám között az ÉS (AND) műveletet bitenként elvégezve a hálózat címét kapjuk:</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	</a:t>
            </a:r>
            <a:r>
              <a:rPr b="0" lang="hu-HU" sz="1900" spc="-1" strike="noStrike">
                <a:solidFill>
                  <a:srgbClr val="000000"/>
                </a:solidFill>
                <a:latin typeface="Arial"/>
              </a:rPr>
              <a:t>	</a:t>
            </a:r>
            <a:r>
              <a:rPr b="0" lang="hu-HU" sz="1900" spc="-1" strike="noStrike">
                <a:solidFill>
                  <a:srgbClr val="000000"/>
                </a:solidFill>
                <a:latin typeface="Arial"/>
              </a:rPr>
              <a:t>11000100 11100001 00001111 00000000</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	</a:t>
            </a:r>
            <a:r>
              <a:rPr b="0" lang="hu-HU" sz="1900" spc="-1" strike="noStrike">
                <a:solidFill>
                  <a:srgbClr val="000000"/>
                </a:solidFill>
                <a:latin typeface="Arial"/>
              </a:rPr>
              <a:t>	</a:t>
            </a:r>
            <a:r>
              <a:rPr b="0" lang="hu-HU" sz="1900" spc="-1" strike="noStrike">
                <a:solidFill>
                  <a:srgbClr val="000000"/>
                </a:solidFill>
                <a:latin typeface="Arial"/>
              </a:rPr>
              <a:t>(Tízes számrendszerben: 196.225.15.0)</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Ha az ÉS műveletet a cím és az alhálózati maszk inverze között végezzük el, az állomás hálózaton belüli címét kapjuk.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BB07F42-4DFE-4DED-80ED-3EF7F99992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Nem használható címtartományok</a:t>
            </a: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127-el kezdődő címek a “loopback” (visszairányítás) címek, nem használhatók a hálózaton kívül, a hálózatok belső tesztelésére használható.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hoszt címrészbe csak 1-eseket írva lehetséges az adott hálózatban lévő összes hosztnak üzenetet küldeni (broadcast). Például a 195.13.2.255 IP címre küldött üzenetet a 193.13.2 című hálózatban lévő összes gép megkapj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a a hoszt címrésze 0, az az aktuális hálózatot jelöli. Például a saját gépről 0.0.0.0 címre küldött üzenet a saját gépre érkezik.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F64AEDE-3AFB-479A-869F-C742026E7E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Címzési módszerek a rétegekben</a:t>
            </a:r>
            <a:endParaRPr b="1" lang="en-US" sz="3900" spc="-1" strike="noStrike">
              <a:solidFill>
                <a:srgbClr val="330066"/>
              </a:solidFill>
              <a:latin typeface="Arial"/>
            </a:endParaRPr>
          </a:p>
        </p:txBody>
      </p:sp>
      <p:graphicFrame>
        <p:nvGraphicFramePr>
          <p:cNvPr id="126" name=""/>
          <p:cNvGraphicFramePr/>
          <p:nvPr/>
        </p:nvGraphicFramePr>
        <p:xfrm>
          <a:off x="457200" y="1719360"/>
          <a:ext cx="8229240" cy="4410000"/>
        </p:xfrm>
        <a:graphic>
          <a:graphicData uri="http://schemas.openxmlformats.org/drawingml/2006/table">
            <a:tbl>
              <a:tblPr/>
              <a:tblGrid>
                <a:gridCol w="4130280"/>
                <a:gridCol w="4098960"/>
              </a:tblGrid>
              <a:tr h="1102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éte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Címzési módsze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lkalmazás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Hoszt neve, portj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n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P cí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2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Hálózatelérés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Fizikai cí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CD84C2B2-915F-4957-A39F-D3AD9F4068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ok küldése</a:t>
            </a: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mikor egy program adatokat küld a TCP/IP-hálózaton keresztül, az elküldendő adatokhoz mellékeli a saját és a címzett IP-címét i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Ha a címzett címében a hálózat azonosítója más, mint a küldőt tartalmazó hálózat címe, a címzett csak útválasztón (útválasztókon) keresztül érhető el.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Ezért a küldő számítógépen futó IP protokollnak először azt kell megállapítania, hogy az elküldendő csomag címzettje helyi hálózatban van e, ezt pedig a következőképpen teszi.: </a:t>
            </a:r>
            <a:endParaRPr b="0" lang="en-US" sz="17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küldő IP-címéből a küldő alhálózati maszkja segítségével előállítja a hálózatazonosítót (éppugy, mint a fenti példában),</a:t>
            </a:r>
            <a:endParaRPr b="0" lang="en-US" sz="14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címzett IP-címéből a küldő alhálózati maszkjával előállítja a hálózatcímet (a címzett alhálózati maszkjával nem rendelkezik),</a:t>
            </a:r>
            <a:endParaRPr b="0" lang="en-US" sz="14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kapott két számot összehasonlítja</a:t>
            </a:r>
            <a:endParaRPr b="0" lang="en-US" sz="14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Ha a két szám egyezik, megkeresi a helyi hálózatban, ha pedig nem, a csomagot az alapértelmezés szerinti átjárónak (amely nem más, mint egy útválasztó berendezés) küldi el. </a:t>
            </a:r>
            <a:endParaRPr b="0" lang="en-US" sz="14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IP-cím nem a számítógépet, hanem annak csak a hálózati illesztőjét azonosítja. Ha a számítógépben több hálózati kártya van minden illesztőnek külön IP-címet kell adni.</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161FBD4-70E0-460F-9158-28ADD88704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Dinamikus címkiosztás</a:t>
            </a: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hálózatokban lehetőség van arra, hogy a számítógépek IP-címeit (és a TCP/IP használatához szükséges egyéb paramétereket) egy vagy több kiszolgáló automatikusan ossza szét.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ilyen kiszolgálók használata esetén a számítógépeken az IP-címet, az alhálózati maszkot, az alapértelmezés szerinti átjárót és a többi paramétert nem a rendszergazda (vagy a felhasználó) állítja be.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számítógépek az operációs rendszer betöltésekor a hálózatokban elérhető valamelyik címkiszolgálóhoz fordulnak, amely a rendelkezésre álló címtartományból ad nekik IP-címet.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számítógépek IP-címe így dinamikusan változhat: ezért hívják azt a protokollt, amely segítségével a címkiosztás történik, dinamikus csomópont-konfiguráló protokollnak (Dynamic Host Configuaration Protocol, DHCP). </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BA62128-5620-475C-A7CE-238D9A6916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Címfeloldás</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8000"/>
          </a:bodyPr>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 számítógépeket alacsonyabb (fizikai, adatkapcsolati) szinten nem az IP-cím azonosítja.</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Minden hálózati hardverelemnek az egész világon egyedi azonosítója van: ez a hálózatikártya-azonosító (NetCard ID) vagy hardvercím (hardware address). </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Egy hálózati kártya a vele elektromosan összekapcsolt más hálózati kártyának célzottan jeleket tud küldeni a címzett kártya hardvercíme alapján, az IP-cím alapján azonban nem. </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Feladat, hogy a címzett állomás eléréséhez az IP-címhez meg kell találni az adott IP-címmel rendelkező hálózati kártya hardvercímét. Ez a művelet a címfeloldás (address resolution). </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mikor el kell küldenie egy csomagot, először megállapítja, hogy a célállomás címe a helyi hálózat valamelyik gépéé-e. Ha a címzett számítógép külső hálózatban van, a csomagot az alapértelmezés szerinti – vagy az útválasztó táblázatban megadott – átjáróhoz (útválasztóhoz) kell továbbítani. </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Ha cím helyi hálózatbeli cím az ARP (Address Resolution Protocol – címfeloldó protokoll) megpróbálja megtalálni az IP-címhez tartozó hardvercímet. Ezért a helyi hálózat gépeinek elküld egy alacsony szintű szórt üzenetet. (ugynevezett ARP broadcastot), amelyben megadja a küldő IP-címét és harvercímét, valamint a címzett IP-címét. Ha a címzett számítógép be van kapcsolva, és működök rajta a TCP/IP protokollkészlet, a rajta futó ARP fogadja az üzenetet, és célzottan (a küldő hardvercíme alapján) válaszol rá, a válaszban megadva saját hardvercímét. A fizikai kapcsolat ettől kezdve lehetséges. </a:t>
            </a:r>
            <a:endParaRPr b="0" lang="en-US" sz="1500" spc="-1" strike="noStrike">
              <a:solidFill>
                <a:srgbClr val="000000"/>
              </a:solidFill>
              <a:latin typeface="Arial"/>
            </a:endParaRPr>
          </a:p>
          <a:p>
            <a:pPr marL="335880" indent="-3358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zonban nincs mindig szükség szórt üzenetekre, mivel az ARP fenntart egy átmeneti tárolót, amelybe felveszi az éppen feloldott IP-címeket és a hozzájuk tartozó hardvercímeket. Az ARP-tábla egy bejegyzése tehát egy IP-címből és a hozzá tartozó hardvercímből áll. </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7CB36F5-4E85-4F4E-938C-4D8DB55559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Útválasztás (routing)</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útválasztás az a művelet, amelynek során a rendszer egy helyi hálózat valamely számítógépétől az adatcsomagokat különböző vonalszakaszokon keresztül eljuttatja azokhoz a címzettekhez is, amelyek nem részei a helyi hálózatnak.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TCP/IP protokollt használó rendszerek számára az a helyi hálózat amelynek csomópontjai azonos hálózatcímet használnak.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Ha egy csomag elküldésekor a címzett csomópont IP-címében a hálózatcím más, mint a küldőé, az IP protokoll megpróbálja a csomagot egy útválasztóhoz (router) továbbítani, amelynek az a feladata, hogy a kapott csomagot továbbítsa a címzett hálózat felé.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z útválasztó olyan berendezés, amelynek több hálózati csatolója van, és mindegyik más (helyi) hálózathoz csatlakozik. Az útválasztó csomagokat fogad az egyes, hozzá csatlakozó hálózatok számítógépeitől, és továbbítja őket egy másik hálózati csatolóján. Az, hogy melyik hálózati csatolót kell használni a csomag elküldéséhez, a memóriájában lévő útválasztási tábla (routing table) alapján dönti el. </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2D6B77A-4874-4195-8690-1D97A7689A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ámítógép-hálózatok</a:t>
            </a:r>
            <a:endParaRPr b="1" lang="en-US" sz="4800" spc="-1" strike="noStrike">
              <a:solidFill>
                <a:srgbClr val="330066"/>
              </a:solidFill>
              <a:latin typeface="Arial"/>
            </a:endParaRPr>
          </a:p>
        </p:txBody>
      </p:sp>
      <p:sp>
        <p:nvSpPr>
          <p:cNvPr id="10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z Internet</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9B4C5CB9-05D3-49E1-B989-D7509710A3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ét hálózat összekapcsolása átjáróval </a:t>
            </a:r>
            <a:endParaRPr b="1" lang="en-US" sz="3900" spc="-1" strike="noStrike">
              <a:solidFill>
                <a:srgbClr val="330066"/>
              </a:solidFill>
              <a:latin typeface="Arial"/>
            </a:endParaRPr>
          </a:p>
        </p:txBody>
      </p:sp>
      <p:pic>
        <p:nvPicPr>
          <p:cNvPr id="136" name="" descr=""/>
          <p:cNvPicPr/>
          <p:nvPr/>
        </p:nvPicPr>
        <p:blipFill>
          <a:blip r:embed="rId1"/>
          <a:stretch/>
        </p:blipFill>
        <p:spPr>
          <a:xfrm>
            <a:off x="1979640" y="1413000"/>
            <a:ext cx="4997520" cy="425268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074749B5-2617-43B1-84A8-3EBA542C83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 </a:t>
            </a:r>
            <a:r>
              <a:rPr b="1" lang="hu-HU" sz="3900" spc="-1" strike="noStrike">
                <a:solidFill>
                  <a:srgbClr val="330066"/>
                </a:solidFill>
                <a:latin typeface="Arial"/>
              </a:rPr>
              <a:t>Két gép közötti kapcsolat átjárókkal </a:t>
            </a:r>
            <a:endParaRPr b="1" lang="en-US" sz="3900" spc="-1" strike="noStrike">
              <a:solidFill>
                <a:srgbClr val="330066"/>
              </a:solidFill>
              <a:latin typeface="Arial"/>
            </a:endParaRPr>
          </a:p>
        </p:txBody>
      </p:sp>
      <p:pic>
        <p:nvPicPr>
          <p:cNvPr id="138" name="" descr=""/>
          <p:cNvPicPr/>
          <p:nvPr/>
        </p:nvPicPr>
        <p:blipFill>
          <a:blip r:embed="rId1"/>
          <a:stretch/>
        </p:blipFill>
        <p:spPr>
          <a:xfrm>
            <a:off x="611280" y="1700280"/>
            <a:ext cx="7705800" cy="424656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1AA891B9-1645-4D54-9A6F-12F95F758B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Domén Név Rendszer (DNS – Domain Name System) </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számítógépek IP-címeit nehéz megjegyezni és könnyű elgépelni.</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Természetes tehát a felhasználóknak az az igénye, hogy a számítógépeket az IP-címek helyett könnyen olvasható és megjegyezhető nevek megadásával érjük el.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onban a TCP/IP protokollkészlet használata esetén a számítógépeket csak az IP-cím alapján lehet elérni, név alapján nem.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zt a műveletet névfeloldásnak (name resolution) nevezik.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084F2CB-E201-4C93-8514-1065345687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Névfeloldás</a:t>
            </a: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névfeloldás alapvetően háromféleképpen történhet:</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1. Szórt üzenettel: a küldő számítógép szórt üzenetben elküldi a címzett nevét a hálózatban elérhető számítógépeknek. Erre az üzenetre – az IP-címet is tartalmazó csomaggal – csak az a számítógép válaszol, amelynek a neve egyezik a szórt üzenetben megadott névvel.</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2. Táblázatban való kereséssel: a küldő számítógép egy, a helyi merevlemezen lévő táblázatban megkeresi a címzett nevét, és az ott található IP-címet használja a kommunikációhoz.</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3. Névszolgáltatóval (name server): ha a hálózat egy számítógépén van olyan adatbázis, amely a hálózat többi csomópontjának nevét és IP-címét tartalmazza, a küldő számítógép ehhez a géphez, a névszolgáltatóhoz (name server) is fordulhat. A küldő gép ide küldi el a címzett számítógép nevét tartalmazó kérést. A névszolgáltató saját adatbázisában megkeresi a címzett nevét, és ha megtalálta, elküldi a mellette lévő IP-címet a küldőnek. (A küldőnek csak a névszolgáltató IP-címét kell ismernie.)</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7D8AB94-ED20-44A5-B4A0-E7E3CFBC7B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IPv6 a második generációs Internet </a:t>
            </a: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8000"/>
          </a:bodyPr>
          <a:p>
            <a:pPr marL="335880" indent="-3358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IPv6 vagy más néven Internet Protokoll 6 az Internet új generációs protokollja. Kifejlesztésére azért volt szükség mert az IPv4 egy ideig rugalmasnak bizonyult, azonban az Internet terjedésével a címtartomány szűkösségével jelentkeztek a korlátai. </a:t>
            </a:r>
            <a:endParaRPr b="0" lang="en-US" sz="1700" spc="-1" strike="noStrike">
              <a:solidFill>
                <a:srgbClr val="000000"/>
              </a:solidFill>
              <a:latin typeface="Arial"/>
            </a:endParaRPr>
          </a:p>
          <a:p>
            <a:pPr marL="335880" indent="-3358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Különösen kritikus probléma az, hogy az új internetes eszközök (a 3G technológia és a "mobil" Internet) következtében "kifogyunk" az Internet címekből. A jövő ugyanis az hogy minden technikai eszközt irányítani tudunk majd valamilyen kezelőfelületről, és ehhez az kell hogy minden eszköznek legyen egy címe.</a:t>
            </a:r>
            <a:endParaRPr b="0" lang="en-US" sz="1700" spc="-1" strike="noStrike">
              <a:solidFill>
                <a:srgbClr val="000000"/>
              </a:solidFill>
              <a:latin typeface="Arial"/>
            </a:endParaRPr>
          </a:p>
          <a:p>
            <a:pPr marL="335880" indent="-3358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elsődleges különbség az IPv4 és az IPv6 között, hogy az IPv6 128 bit-es címet használ a megszokott 32 bites IPv4-es címek helyett. Ez 2^96 - (durván 7,92 x 10^28) szorosára növeli az elméletben rendelkezésre álló címtartományt. </a:t>
            </a:r>
            <a:endParaRPr b="0" lang="en-US" sz="1700" spc="-1" strike="noStrike">
              <a:solidFill>
                <a:srgbClr val="000000"/>
              </a:solidFill>
              <a:latin typeface="Arial"/>
            </a:endParaRPr>
          </a:p>
          <a:p>
            <a:pPr marL="335880" indent="-3358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Lényeges, hogy megszűnnek különböző méretű hálózatokon alapuló tartományok (A, B és C tartományok). </a:t>
            </a:r>
            <a:endParaRPr b="0" lang="en-US" sz="1700" spc="-1" strike="noStrike">
              <a:solidFill>
                <a:srgbClr val="000000"/>
              </a:solidFill>
              <a:latin typeface="Arial"/>
            </a:endParaRPr>
          </a:p>
          <a:p>
            <a:pPr marL="335880" indent="-3358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z IPv6 továbbá olyan lehetőségeket is nyújt, mint például a hitelesítés és biztonság. </a:t>
            </a:r>
            <a:endParaRPr b="0" lang="en-US" sz="1700" spc="-1" strike="noStrike">
              <a:solidFill>
                <a:srgbClr val="000000"/>
              </a:solidFill>
              <a:latin typeface="Arial"/>
            </a:endParaRPr>
          </a:p>
          <a:p>
            <a:pPr marL="335880" indent="-3358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Egy interfésznek viszont több címe is lehet, és ezt az új szolgáltatások ki is használják. Az új címeket a hozzárendelés elve szerint három alapvető csoportba oszthatjuk: egycélú (unicast), választható célú (unicast) és a többcélú (multicast) címek.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04651EE-9A3F-430E-B706-797664A272E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TCP/IP protokoll </a:t>
            </a:r>
            <a:endParaRPr b="1" lang="en-US" sz="3900" spc="-1" strike="noStrike">
              <a:solidFill>
                <a:srgbClr val="330066"/>
              </a:solidFill>
              <a:latin typeface="Arial"/>
            </a:endParaRPr>
          </a:p>
        </p:txBody>
      </p:sp>
      <p:sp>
        <p:nvSpPr>
          <p:cNvPr id="1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TCP/IP protokoll készlet a különböző operációs rendszerekkel működő számítógépek, illetve számítógép-hálózatok közötti kapcsolat létrehozására szolgál.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egítségével különálló számítógép-hálózatok hierarchiája alakítható ki, ahol az egyes gépeket, illetve helyi hálózatokat nagy távolságú vonalak kötik össze.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TCP/IP protokollkészlet egymásra épülő rétegekből áll, mely nem követi az OSI hét rétegű felépítését, alapvetően a referenciamodell két rétegének funkcióját valósítja meg.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E5EF5AB-BE9F-47F8-8B3A-D3C97FE327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TCP/IP protokollok az OSI réteg-modell viszonya </a:t>
            </a:r>
            <a:endParaRPr b="1" lang="en-US" sz="3900" spc="-1" strike="noStrike">
              <a:solidFill>
                <a:srgbClr val="330066"/>
              </a:solidFill>
              <a:latin typeface="Arial"/>
            </a:endParaRPr>
          </a:p>
        </p:txBody>
      </p:sp>
      <p:pic>
        <p:nvPicPr>
          <p:cNvPr id="104" name="" descr=""/>
          <p:cNvPicPr/>
          <p:nvPr/>
        </p:nvPicPr>
        <p:blipFill>
          <a:blip r:embed="rId1"/>
          <a:stretch/>
        </p:blipFill>
        <p:spPr>
          <a:xfrm>
            <a:off x="2217600" y="1484280"/>
            <a:ext cx="4516560" cy="468144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74756291-E0FF-4908-8377-7275BD0995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TCP/IP alkalmazások és a rétegstruktúra </a:t>
            </a:r>
            <a:endParaRPr b="1" lang="en-US" sz="3900" spc="-1" strike="noStrike">
              <a:solidFill>
                <a:srgbClr val="330066"/>
              </a:solidFill>
              <a:latin typeface="Arial"/>
            </a:endParaRPr>
          </a:p>
        </p:txBody>
      </p:sp>
      <p:sp>
        <p:nvSpPr>
          <p:cNvPr id="1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lkalmazási protokollok (pl. levelezé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TCP-hez hasonló protokollok, amelyek rengeteg alkalmazás számára biztosítanak szolgáltatások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IP, amely a datagramok célba juttatását biztosítja;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felhasznált fizikai eszközök kezeléséhez szükséges protokollok (pl. Etherne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373A649-A5AF-49E9-A4EB-2185EEC25D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információáramlás </a:t>
            </a:r>
            <a:endParaRPr b="1" lang="en-US" sz="3900" spc="-1" strike="noStrike">
              <a:solidFill>
                <a:srgbClr val="330066"/>
              </a:solidFill>
              <a:latin typeface="Arial"/>
            </a:endParaRPr>
          </a:p>
        </p:txBody>
      </p:sp>
      <p:pic>
        <p:nvPicPr>
          <p:cNvPr id="108" name="" descr=""/>
          <p:cNvPicPr/>
          <p:nvPr/>
        </p:nvPicPr>
        <p:blipFill>
          <a:blip r:embed="rId1"/>
          <a:stretch/>
        </p:blipFill>
        <p:spPr>
          <a:xfrm>
            <a:off x="395280" y="1989000"/>
            <a:ext cx="8229600" cy="376092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AFCB0A3E-0D5D-49B3-BC85-E156654706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Internet szállítási rétege: a TCP </a:t>
            </a:r>
            <a:endParaRPr b="1" lang="en-US" sz="3900" spc="-1" strike="noStrike">
              <a:solidFill>
                <a:srgbClr val="330066"/>
              </a:solidFill>
              <a:latin typeface="Arial"/>
            </a:endParaRPr>
          </a:p>
        </p:txBody>
      </p:sp>
      <p:pic>
        <p:nvPicPr>
          <p:cNvPr id="110" name="" descr=""/>
          <p:cNvPicPr/>
          <p:nvPr/>
        </p:nvPicPr>
        <p:blipFill>
          <a:blip r:embed="rId1"/>
          <a:stretch/>
        </p:blipFill>
        <p:spPr>
          <a:xfrm>
            <a:off x="1187280" y="1612800"/>
            <a:ext cx="6409080" cy="437688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A04F30CE-EFFE-48CF-9CDA-46C8345EEA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Internet hálózati rétege: az IP </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TCP az általa feldolgozott datagramokat átadja az IP-nek. Persze ezzel együtt közölnie kell a rendeltetési hely Internet címét is.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IP feladata abban áll, hogy a datagram számára megkeresse a megfelelő útvonalat és azt a másik oldalhoz eljuttassa.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útközben fellelhető átjárók és egyéb közbülső rendszereken való átjutás megkönnyítésére az IP a datagramhoz hozzáteszi a saját fejlécé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ejléc fő részei a forrás, és a rendeltetési hely Internet címe (32 bites címek, pl. 128.6.4.94), a protokollszám és egy ellenőrző összeg.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654EF5C-4505-4F6A-A3A0-C5304CCA17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IP fejrész felépítése </a:t>
            </a:r>
            <a:endParaRPr b="1" lang="en-US" sz="3900" spc="-1" strike="noStrike">
              <a:solidFill>
                <a:srgbClr val="330066"/>
              </a:solidFill>
              <a:latin typeface="Arial"/>
            </a:endParaRPr>
          </a:p>
        </p:txBody>
      </p:sp>
      <p:pic>
        <p:nvPicPr>
          <p:cNvPr id="114" name="" descr=""/>
          <p:cNvPicPr/>
          <p:nvPr/>
        </p:nvPicPr>
        <p:blipFill>
          <a:blip r:embed="rId1"/>
          <a:stretch/>
        </p:blipFill>
        <p:spPr>
          <a:xfrm>
            <a:off x="684360" y="2027160"/>
            <a:ext cx="7559640" cy="368928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DA1C8F46-AC5C-4B7E-BCA9-B448015807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 Herdon Miklós</cp:lastModifiedBy>
  <dcterms:modified xsi:type="dcterms:W3CDTF">2006-06-20T13:30:39Z</dcterms:modified>
  <cp:revision>85</cp:revision>
  <dc:subject/>
  <dc:title>PowerPoint bemutató</dc:title>
</cp:coreProperties>
</file>