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6103-3BAA-4406-9FC0-9FB1C1C4FE99}"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70CC9-A493-42B1-AD6C-5CF2AD751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0B6A4-ADE4-46D1-8CD1-D38F0A919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CE0D2-374E-4358-9FFF-6E9E71C80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78F10-0079-4626-B44B-66B5AF068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2F9A3-4B27-46DD-8688-2E3B0A1F7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C9906-981B-4EB3-8AC0-A2E4E6C37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9C549-D104-4B7D-81BC-F5440554B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E62EF-2910-4793-A868-EE3FCD526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8DE95-77CE-4069-AAFC-6B5C17783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64E96-9C33-4795-A485-35BD9554B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3F024-26EE-41DF-9B1F-649F6F01E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4619D-F3B6-4362-96CE-BE2059C0C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DADDB-7576-4D24-A33F-5DEBE83B3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31A3E-75F0-4809-BCCF-EBDA35D49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35059-FABA-4436-9434-027038B1C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BB499-4E54-469D-A960-DF19F2BA9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6E890-7059-4118-9E50-67335CB3A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E1E2C-D413-4A2B-9FAE-16933F401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E23E-B012-4D10-BF0D-A128EDF61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8281F-D6E2-443B-A1D7-BCC9E0EA3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21428-69DA-4341-84A1-537DB84F6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3DC9-0CC8-4803-99A1-8DC4F4B4C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B8E58-44BB-4F50-8FAF-359FAC1DC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83BB-204C-4E69-A322-4F59FCB03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A0A7-4255-4A17-A887-570A24AB9216}"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7049-E0E1-43C3-BA0E-348E235B185E}"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160B-7903-41B2-978B-776D18A57FBB}"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7C06-03EE-483A-9AC1-B7C7FDCA052F}"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Számítógép-hálózato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Herdon Mikló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Kovács Györ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gó Zsolt</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Osztott átvitelvezérlés</a:t>
            </a: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zeknél a megoldásoknál közös, hogy minden állomás a közeghez való hozzáférés vezérlésének a funkcióját is betölti.</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ezérjeles gyűrű (Token Ring)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ezérjeles sín (Tooken Bu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Ütközést elkerülő, vivőérzékeléses többszörös hozzáférés (Carrier Sense Multiple Access with Collision Avoidance, CSMA/CA)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91DF833-C009-444C-98DB-E056544A4B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330066"/>
                </a:solidFill>
                <a:latin typeface="Arial"/>
              </a:rPr>
              <a:t>Vezérjeles gyűrű (Token Ring)(1)</a:t>
            </a:r>
            <a:endParaRPr b="1" lang="en-US" sz="3600" spc="-1" strike="noStrike">
              <a:solidFill>
                <a:srgbClr val="330066"/>
              </a:solidFill>
              <a:latin typeface="Arial"/>
            </a:endParaRPr>
          </a:p>
        </p:txBody>
      </p:sp>
      <p:pic>
        <p:nvPicPr>
          <p:cNvPr id="118" name="" descr=""/>
          <p:cNvPicPr/>
          <p:nvPr/>
        </p:nvPicPr>
        <p:blipFill>
          <a:blip r:embed="rId1"/>
          <a:stretch/>
        </p:blipFill>
        <p:spPr>
          <a:xfrm>
            <a:off x="2268360" y="1805040"/>
            <a:ext cx="4248360" cy="39085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E9BEEBD-A401-43CF-BEDD-E8E7AFE162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330066"/>
                </a:solidFill>
                <a:latin typeface="Arial"/>
              </a:rPr>
              <a:t>Vezérjeles gyűrű (Token Ring)(2)</a:t>
            </a:r>
            <a:endParaRPr b="1" lang="en-US" sz="36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gyűrűben egy speciális üzenet, a vezérjel (token) halad körbe-körbe a hosztok között. A vezérjel hordozza magában a hálózat foglaltságá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mikor egy állomás veszi a tokent, megvizsgálja, hogy foglalt-e. Amennyiben szabad jelzést észlel, foglaltra állítja, majd az üzenetével együtt továbbküldi. Az üzenetet minden állomás veszi, majd megvizsgálja, hogy neki szól-e.</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mennyiben igen, veszi az üzenetet, majd feldolgozza. Ha nem, egyszerűen továbbküldik. A küldő állomás veszi a saját üzenetét, kivonja azt a vezérjelből, szabadra állítja, majd továbbküldi. Így kerül a küldési jog ahhoz az állomáshoz, amely a küldést befejező után helyezkedik el.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lőfordulhat, hogy a küldő meghibásodik, így nem tudja az üzenetét kivonni a gyűrűből. Ez dugulást eredményez, ezért kijelölnek egy aktív felügyelő állomást. Ez figyeli az ilyen árva üzeneteket, és kivonja a gyűrűből. A többi állomás egyszerűen figyeli ezt a tevékenységet. Amennyiben meghibásodik az aktív felügyelő állomás is, valamelyik átveszi a helyé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módszerrel biztosítható, hogy minden állomás egy időtartamon belül küldési joghoz jusson. Lehetőség van fontossági sorrend (prioritás) felállítására is, ahol a fontosabb állomások előbb juthatnak küldési joghoz.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C7629FA-54AF-4B22-9B64-9AAF2BF30B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ezérjeles sín (Tooken Bus)(1) </a:t>
            </a:r>
            <a:endParaRPr b="1" lang="en-US" sz="3900" spc="-1" strike="noStrike">
              <a:solidFill>
                <a:srgbClr val="330066"/>
              </a:solidFill>
              <a:latin typeface="Arial"/>
            </a:endParaRPr>
          </a:p>
        </p:txBody>
      </p:sp>
      <p:pic>
        <p:nvPicPr>
          <p:cNvPr id="122" name="" descr=""/>
          <p:cNvPicPr/>
          <p:nvPr/>
        </p:nvPicPr>
        <p:blipFill>
          <a:blip r:embed="rId1"/>
          <a:stretch/>
        </p:blipFill>
        <p:spPr>
          <a:xfrm>
            <a:off x="971640" y="2043000"/>
            <a:ext cx="6769080" cy="35370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C362A48-C274-4BB0-9CF8-120A1FC112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ezérjeles sín (Tooken Bus)(2)</a:t>
            </a: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működése hasonlít a vezérjeles gyűrű működésére, azonban ez a sín topológiájú hálózatokra került kifejlesztésre.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sínre fűzött állomások egy logikai gyűrűt képeznek úgy, hogy az utolsó állomás után az első következik. A vezérjel ennek megfelelően halad a hosztok között körbe-körbe.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üldési joga annak van, aki a szabad jelzésű vezérjelet birtokolja.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7F8B2C8-6C6B-49DF-A68C-28009FFB55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330066"/>
                </a:solidFill>
                <a:latin typeface="Arial"/>
              </a:rPr>
              <a:t>Ütközést elkerülő, vivőérzékeléses többszörös hozzáférés </a:t>
            </a:r>
            <a:r>
              <a:rPr b="0" lang="hu-HU" sz="3500" spc="-1" strike="noStrike">
                <a:solidFill>
                  <a:srgbClr val="330066"/>
                </a:solidFill>
                <a:latin typeface="Arial"/>
              </a:rPr>
              <a:t>(CSMA/CA)</a:t>
            </a:r>
            <a:r>
              <a:rPr b="1" lang="hu-HU" sz="3500" spc="-1" strike="noStrike">
                <a:solidFill>
                  <a:srgbClr val="330066"/>
                </a:solidFill>
                <a:latin typeface="Arial"/>
              </a:rPr>
              <a:t> </a:t>
            </a:r>
            <a:endParaRPr b="1" lang="en-US" sz="3500" spc="-1" strike="noStrike">
              <a:solidFill>
                <a:srgbClr val="330066"/>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Carrier Sense Multiple Access with Collision Avoidance, (CSMA/CA)</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CSMA/CD módszertől eltérően itt elvileg nem léphet fel ütközé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dás előtt minden állomás belehallgat a csatornába, (adás közben ez módszer nem tud hallgatni!)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 csendesnek találja, akkor egy </a:t>
            </a:r>
            <a:r>
              <a:rPr b="1" lang="hu-HU" sz="2600" spc="-1" strike="noStrike">
                <a:solidFill>
                  <a:srgbClr val="000000"/>
                </a:solidFill>
                <a:latin typeface="Arial"/>
              </a:rPr>
              <a:t>előre meghatározott ideig</a:t>
            </a:r>
            <a:r>
              <a:rPr b="0" lang="hu-HU" sz="2600" spc="-1" strike="noStrike">
                <a:solidFill>
                  <a:srgbClr val="000000"/>
                </a:solidFill>
                <a:latin typeface="Arial"/>
              </a:rPr>
              <a:t> várakozik. Amennyiben ennek a leteltével sem használja más az átviteli közeget, megkezdheti adásá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F1CA88F-E652-4AF8-BDAF-B4E1792C22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özpontosított közeghozzáférés vezérlés</a:t>
            </a:r>
            <a:r>
              <a:rPr b="0" lang="hu-HU" sz="3900" spc="-1" strike="noStrike">
                <a:solidFill>
                  <a:srgbClr val="330066"/>
                </a:solidFill>
                <a:latin typeface="Arial"/>
              </a:rPr>
              <a:t> </a:t>
            </a: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Közös jellemző: </a:t>
            </a:r>
            <a:r>
              <a:rPr b="0" lang="hu-HU" sz="1900" spc="-1" strike="noStrike">
                <a:solidFill>
                  <a:srgbClr val="000000"/>
                </a:solidFill>
                <a:latin typeface="Arial"/>
              </a:rPr>
              <a:t>a hálózatban van egy kitüntetett szerepű számítógép, amelynek a feladata a közeghozzáférés vezérlése.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Lekérdezéses (Polling) vezérlés: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kérdezéses vezérlést alkalmazó hálózatokban van egy főállomás (master) és vannak a mellékállomások (slave).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főállomás sorban kérdezi le a mellékállomásokat, hogy van-e küldenivalójuk. Amennyiben van küldenivalójuk, elküldik a főállomásnak, amely meghatározza a célállomást, majd továbbítja neki az üzenetet.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mellékállomások csak a főállomás közvetítésével képesek egymással kapcsolatot létesíteni. Ha nincs küldenivalója a megszólított állomásnak, akkor egy negatív választ küld a főállomásnak, amely ezt véve folytatja a lekérdezést a soron következő mellékállomással.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megoldás előnye, hogy működési elvéből fakadóan nem léphet fel ütközés, valamint megoldható, hogy akár több üzenetet is küldhessen egy állomás egymás után. Lehetőség van fontossági sorrend, prioritás meghatározására is, amivel biztosítani lehet a magasabb prioritású állomások gyakoribb adási jogosultságát. Hátrány a rendszernek, hogy a főállomás meghibásodása esetén az egész hálózat működése megbénul.</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3C288A2-7FC6-45A6-B920-D6A56B106E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330066"/>
                </a:solidFill>
                <a:latin typeface="Arial"/>
              </a:rPr>
              <a:t>A lekérdezéses közeghozzáférés vezérlés működése </a:t>
            </a:r>
            <a:endParaRPr b="1" lang="en-US" sz="3500" spc="-1" strike="noStrike">
              <a:solidFill>
                <a:srgbClr val="330066"/>
              </a:solidFill>
              <a:latin typeface="Arial"/>
            </a:endParaRPr>
          </a:p>
        </p:txBody>
      </p:sp>
      <p:pic>
        <p:nvPicPr>
          <p:cNvPr id="130" name="" descr=""/>
          <p:cNvPicPr/>
          <p:nvPr/>
        </p:nvPicPr>
        <p:blipFill>
          <a:blip r:embed="rId1"/>
          <a:stretch/>
        </p:blipFill>
        <p:spPr>
          <a:xfrm>
            <a:off x="1476360" y="1338120"/>
            <a:ext cx="5616720" cy="47754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9BCBC96-A4EC-44C5-AE96-42C308335676}"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ámítógép-hálózato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200"/>
            <a:ext cx="6248520" cy="290052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A hálózati kapcsolatok rétegmodellje és gyakorlati megvalósítása </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4AB4D277-D208-4FB8-965E-4E3DF7C29D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özeg-hozzáférési technikák</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Közeghozzáférés alatt azt a kérdést vizsgáljuk, hogy melyik adó jogosult az adásra, azaz kisajátítani a csatornát adása idejére. </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Feltételezzük, hogy az egyes az állomásoknak van ütközésérzékelő mechanizmusa és az állomások képesek a csatorna foglaltságát figyelni </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Üzenetszórásos csatornával rendelkező alhálózatok esetében egyetlen csatornán osztozik az összes, hálózatba kapcsolt számítógép. </a:t>
            </a:r>
            <a:endParaRPr b="0" lang="en-US" sz="15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vétel nem jelent problémát, egyidejűleg minden állomás képes venni és a cím-információ alapján dönteni arról, hogy az üzenet neki szól-e..</a:t>
            </a:r>
            <a:endParaRPr b="0" lang="en-US" sz="15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Közeg-hozzáférés vezérlési módok: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Véletlen vezérlés:</a:t>
            </a:r>
            <a:r>
              <a:rPr b="0" lang="hu-HU" sz="1700" spc="-1" strike="noStrike">
                <a:solidFill>
                  <a:srgbClr val="000000"/>
                </a:solidFill>
                <a:latin typeface="Arial"/>
              </a:rPr>
              <a:t> Az átviteli közeget elvileg bármelyik állomás használhatja, de a használat előtt meg kell győződnie arról, hogy más állomás nem használja-e a csatorná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Osztott vezérlés:</a:t>
            </a:r>
            <a:r>
              <a:rPr b="0" lang="hu-HU" sz="1700" spc="-1" strike="noStrike">
                <a:solidFill>
                  <a:srgbClr val="000000"/>
                </a:solidFill>
                <a:latin typeface="Arial"/>
              </a:rPr>
              <a:t> Ütközés itt elvileg nem fordulhat elő, mivel egy időpontban mindig csak egy állomásnak van joga adatátvitelre, és ez a jog halad állomásról-állomásra.</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Központosított vezérlés:</a:t>
            </a:r>
            <a:r>
              <a:rPr b="0" lang="hu-HU" sz="1700" spc="-1" strike="noStrike">
                <a:solidFill>
                  <a:srgbClr val="000000"/>
                </a:solidFill>
                <a:latin typeface="Arial"/>
              </a:rPr>
              <a:t> Ilyenkor van egy kitüntetett állomás, amely vezérli a hálózatot, engedélyezi az állomások adási funkcióját. A többi állomásnak figyelnie kell, hogy mikor kapnak engedélyt a közeg használatára.</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0DE01D3-80BC-4D44-9243-290844A792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özeg-hozzáférési módszerek </a:t>
            </a:r>
            <a:endParaRPr b="1" lang="en-US" sz="3900" spc="-1" strike="noStrike">
              <a:solidFill>
                <a:srgbClr val="330066"/>
              </a:solidFill>
              <a:latin typeface="Arial"/>
            </a:endParaRPr>
          </a:p>
        </p:txBody>
      </p:sp>
      <p:pic>
        <p:nvPicPr>
          <p:cNvPr id="104" name="" descr=""/>
          <p:cNvPicPr/>
          <p:nvPr/>
        </p:nvPicPr>
        <p:blipFill>
          <a:blip r:embed="rId1"/>
          <a:stretch/>
        </p:blipFill>
        <p:spPr>
          <a:xfrm>
            <a:off x="324000" y="2394000"/>
            <a:ext cx="8569080" cy="24732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B04A5C33-AC24-4379-B761-75B2B8536C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életlen hozzáférés(1)</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nnél nincs külön eljárás az adási jog megadására, ezért nem adható</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felső időkorlát az üzenettovábbítás időbeli bekövetkezésére. Mindegyi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állomás figyeli a csatornát, és amennyiben szabad, akkor az adás idejér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kisajátítja.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Ütközést jelző vivőérzékeléses többszörös hozzáférés</a:t>
            </a:r>
            <a:r>
              <a:rPr b="0" lang="hu-HU" sz="1700" spc="-1" strike="noStrike">
                <a:solidFill>
                  <a:srgbClr val="000000"/>
                </a:solidFill>
                <a:latin typeface="Arial"/>
              </a:rPr>
              <a:t>  (CSMA/CD Carrier Sense Multiple Access with Collision Detection) egy állomás adás előt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lőször ellenőrzi, hogy csendes-e a csatorna (vivőérzékelés</a:t>
            </a:r>
            <a:r>
              <a:rPr b="0" i="1" lang="hu-HU" sz="1700" spc="-1" strike="noStrike">
                <a:solidFill>
                  <a:srgbClr val="000000"/>
                </a:solidFill>
                <a:latin typeface="Arial"/>
              </a:rPr>
              <a:t>, carrier sense</a:t>
            </a:r>
            <a:r>
              <a:rPr b="0" lang="hu-HU" sz="1700" spc="-1" strike="noStrike">
                <a:solidFill>
                  <a:srgbClr val="000000"/>
                </a:solidFill>
                <a:latin typeface="Arial"/>
              </a:rPr>
              <a:t>). Ha egyik állomás sem használja, akkor az állomás elküldi az üzeneté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küldött üzenet a minden állomáshoz eljut, és a vevő üzenet címrésze alapján eldönti, neki szólt-e. (feldolgozza, vagy eldobja)</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dás közben az adó állandó figyeli is a csatornát, így el tudja dönteni, hogy az adott és a vett üzenetfolyam egyforma-e.. Ha ezek különbözők, akkor azt jelenti, hogy valaki más is “beszél”, azaz a küldött üzenet hibás, sérült. Ezt </a:t>
            </a:r>
            <a:r>
              <a:rPr b="1" lang="hu-HU" sz="1700" spc="-1" strike="noStrike">
                <a:solidFill>
                  <a:srgbClr val="000000"/>
                </a:solidFill>
                <a:latin typeface="Arial"/>
              </a:rPr>
              <a:t>ütközés</a:t>
            </a:r>
            <a:r>
              <a:rPr b="0" lang="hu-HU" sz="1700" spc="-1" strike="noStrike">
                <a:solidFill>
                  <a:srgbClr val="000000"/>
                </a:solidFill>
                <a:latin typeface="Arial"/>
              </a:rPr>
              <a:t>nek hívják, és ilyenkor az állomás megszakítja az üzenetküldés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zt követően mindkét adó véletlenszerűen megválasztott ideig várakozik.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080D212-6A88-4B79-B362-EFCAFF776A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életlen hozzáférés(2)</a:t>
            </a: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várakozási idők a véletlenszerűség miatt eltérők, így a versengő állomások közül a legrövidebb várakozási idejű fog adni, mivel a többiek a várakozási idejük leteltével adás előtt a csatornába belehallgatva azt már foglaltnak fogják érzékelni.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e protokoll szerint működő állomások a következő három állapot valamelyikében lehetnek: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versengés,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átvitel, és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étlen állapot. </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Jellmzői:</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Gyér forgalom esetén nagyon gyors,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Nagy hálózati forgalom esetén az átvitel lelassul, mivel gyakoriak lesznek az ütközések. </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éles körben elterjedt Ethernet hálózat ezt a módszert használja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200E455-5737-42DD-B470-C43C49E3B2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éselt gyűrű (slotted ring)(1)</a:t>
            </a:r>
            <a:endParaRPr b="1" lang="en-US" sz="3900" spc="-1" strike="noStrike">
              <a:solidFill>
                <a:srgbClr val="330066"/>
              </a:solidFill>
              <a:latin typeface="Arial"/>
            </a:endParaRPr>
          </a:p>
        </p:txBody>
      </p:sp>
      <p:pic>
        <p:nvPicPr>
          <p:cNvPr id="110" name="" descr=""/>
          <p:cNvPicPr/>
          <p:nvPr/>
        </p:nvPicPr>
        <p:blipFill>
          <a:blip r:embed="rId1"/>
          <a:stretch/>
        </p:blipFill>
        <p:spPr>
          <a:xfrm>
            <a:off x="2124000" y="1919160"/>
            <a:ext cx="4680000" cy="38340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01D75E7-8E04-4BEC-A52E-0DD83876E0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éselt gyűrű (slotted ring)(2)</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gyűrűn felfűzött állomások rögzített hosszúságú kereteket adnak körbe, amelyet rés-eknek nevezne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inden résben van egy jelző (marker) amelyik jelzi a rés foglaltságát. Mivel a rés hossza állandó, az állomásnak az üzeneteit akkora darabokra kell vágnia, hogy azok elférjenek a résben (az állomáscímekkel, és egyéb kiegészítő információval együt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egy állomáshoz egy nem foglalt (üres) rés érkezik, akkor az elhelyezi benne a saját adatait, és továbbadja az immár foglalt keretet. Az adatot elhelyező állomásnak a feladata a visszaérkezett keret kiürítése, azaz a foglaltságának a megszüntetése.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átviteli, vagy egyéb hibák miatt (pl. az állomás elromlik) ez nem történik meg, akkor ez a rés foglaltan tovább kering a gyűrűben. Ezért kijelölnek egy állomást, amely felügyelői feladatot is ellát: ez figyeli, hogy van-e olyan rés, amely a gyűrűben nem jut alaphelyzetbe, és ha ilyen van, egy idő múlva eltávolítja a gyűrűből.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44CC5B4-A98D-4C3F-A422-C3ABE76BF7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egiszter beszúrásos gyűrű (register insertion ring) </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gyűrű topológiájú hálózatoknál a másik alkalmazott eljárás. Lényege, hogy az un. léptetőregiszter (órajel hatására a regiszter tartalmát egy helyiértékkel elléptető átmeneti tároló) késleltető funkcióján túl, annak tárolási képességét is kihasználja.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módszer előnye, hogy a gyűrű kisajátítást megakadályozza. Ha csak egy állomás aktív, akkor azonnal szinte állandóan adhat, ahogy ismét feltöltötte a kimeneti regiszterét. Ha azonban más állomás is használja a gyűrűt, akkor a keretének elküldése után valószínűleg nem küldhet újabbat, mert a be-kimeneti regiszterében nem lesz elég hel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1BE2E53-667E-42DE-B620-8BB2E78510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PA</cp:lastModifiedBy>
  <dcterms:modified xsi:type="dcterms:W3CDTF">2006-06-23T21:04:05Z</dcterms:modified>
  <cp:revision>99</cp:revision>
  <dc:subject/>
  <dc:title>PowerPoint bemutató</dc:title>
</cp:coreProperties>
</file>