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3A2F-2FF2-478F-86D2-0143CDC04CC1}"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CÍMDIA: logók</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futóláb: hefop, témakör, diaszám</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Gyakran olyan hallgatóságnak kell szakmai előadást tartani, amely nem ismeri a témát vagy a szakszavakat. Az anyag esetleg összetett és rengeteg adatot tartalmaz. A hatékony előadáshoz alkalmazzuk a Dale Carnegie Training® által kialakított irányelveke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Vegyük figyelembe a rendelkezésre álló időt és rendszerezzük megfelelően a tananyagot. Szűkítsük le a témakört. Osszuk fel a bemutatót világosan elkülönített részekre. Állítsunk fel logikus sorrendet. Végig egy témára összpontosítsunk. A bemutatót összefoglalással zárjuk, ismételjük meg a fontos lépéseket vagy vonjunk le következtetés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Ne feledkezzünk el a hallgatóságról. Fontos például, hogy az adatok érthetőek és lényegesek legyenek a téma szempontjából. Az adatok és a szakszavak mennyiségét igazítsuk a hallgatósághoz. A fontosabb pontok és lépések magyarázatához használjunk szemléltetőeszközöket. Mindig tartsuk szem előtt a hallgatóság igényeit, és akkor képesebbek lesznek az elhangzottak befogadásár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99E12-4BD3-42B9-B061-9030B9518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9F078-89A4-408C-BC03-0775A69BA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47F74-A180-4C20-A78E-8947E9718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AA692-DA6D-41BF-B761-F7A882D44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39EC8-AE4D-4B9A-AB7C-FF0BDA4D2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E4CCA-189A-49A4-90C2-97DD5117A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AFFA7-27A7-4C14-8A0D-EAFDF87E4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0248B-3461-4832-B060-77628670B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BD2B1-7AEC-48C6-BEC7-E971C97B5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58C94-5D12-4528-AD68-57ED0584D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6919D-226C-42A2-9D16-A2533E6F0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A97C5-AAED-4659-8AC8-EEA25F64C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3FFEC-6E6E-413B-9F44-4472255D9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A3DE3-DE38-4BC1-9C7E-BFE292EF0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C78B2-B7C3-4E56-9834-C7D2C4057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E78413-2688-4F89-BF02-2CB61F83B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0B1DC-12DF-42F4-8B4D-604766517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27F22-97F0-4F2B-BA19-C6A5E0353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AA4AB-F845-4377-AF08-9916489EA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AABA3-C373-47B1-B1D1-F802297FB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B5149-1625-4C06-BDF6-2AED7B64C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4231B-83FF-470B-A32E-A4615475F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BDA57-7908-4FCF-AB7D-1A9030AB9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A7B9D-1E97-4CA9-B19C-ECEC283AD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4A0D-945F-4965-B63E-FAD01CDFE304}" type="datetime">
              <a:rPr b="0" lang="hu-HU" sz="1000" spc="-1" strike="noStrike">
                <a:solidFill>
                  <a:srgbClr val="000000"/>
                </a:solidFill>
                <a:latin typeface="Arial"/>
              </a:rPr>
              <a:t>26.07.29.</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D3B1-E862-492F-B433-9E4C58F533A9}"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0" y="6138720"/>
            <a:ext cx="1403280" cy="719280"/>
          </a:xfrm>
          <a:prstGeom prst="rect">
            <a:avLst/>
          </a:prstGeom>
          <a:ln w="0">
            <a:noFill/>
          </a:ln>
        </p:spPr>
      </p:pic>
      <p:pic>
        <p:nvPicPr>
          <p:cNvPr id="7" name="" descr=""/>
          <p:cNvPicPr/>
          <p:nvPr/>
        </p:nvPicPr>
        <p:blipFill>
          <a:blip r:embed="rId3"/>
          <a:stretch/>
        </p:blipFill>
        <p:spPr>
          <a:xfrm>
            <a:off x="8101080" y="0"/>
            <a:ext cx="1042920" cy="104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D243-DB28-4B12-AD48-23B452E979E7}" type="datetime">
              <a:rPr b="0" lang="hu-HU" sz="1000" spc="-1" strike="noStrike">
                <a:solidFill>
                  <a:srgbClr val="000000"/>
                </a:solidFill>
                <a:latin typeface="Arial"/>
              </a:rPr>
              <a:t>26.07.29.</a:t>
            </a:fld>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2916000" y="6248520"/>
            <a:ext cx="31035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u-HU" sz="1000" spc="-1" strike="noStrike">
                <a:solidFill>
                  <a:srgbClr val="ff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0000"/>
                </a:solidFill>
                <a:latin typeface="Arial"/>
              </a:rPr>
              <a:t>A projekt az Európai Unió társfinanszírozásával, az Európa terv keretében valósul meg. </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A6F4-19AF-4DC6-AED2-28F07E0620C9}"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948360" y="0"/>
            <a:ext cx="2195640" cy="1123920"/>
          </a:xfrm>
          <a:prstGeom prst="rect">
            <a:avLst/>
          </a:prstGeom>
          <a:ln w="0">
            <a:noFill/>
          </a:ln>
        </p:spPr>
      </p:pic>
      <p:pic>
        <p:nvPicPr>
          <p:cNvPr id="51" name="" descr=""/>
          <p:cNvPicPr/>
          <p:nvPr/>
        </p:nvPicPr>
        <p:blipFill>
          <a:blip r:embed="rId3"/>
          <a:stretch/>
        </p:blipFill>
        <p:spPr>
          <a:xfrm>
            <a:off x="4716360" y="115920"/>
            <a:ext cx="2195640" cy="906480"/>
          </a:xfrm>
          <a:prstGeom prst="rect">
            <a:avLst/>
          </a:prstGeom>
          <a:ln w="0">
            <a:noFill/>
          </a:ln>
        </p:spPr>
      </p:pic>
      <p:pic>
        <p:nvPicPr>
          <p:cNvPr id="52" name="" descr=""/>
          <p:cNvPicPr/>
          <p:nvPr/>
        </p:nvPicPr>
        <p:blipFill>
          <a:blip r:embed="rId4"/>
          <a:stretch/>
        </p:blipFill>
        <p:spPr>
          <a:xfrm>
            <a:off x="7524720" y="1197000"/>
            <a:ext cx="1419120" cy="141912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330066"/>
                </a:solidFill>
                <a:latin typeface="Arial"/>
              </a:rPr>
              <a:t>Számítógép-hálózatok</a:t>
            </a:r>
            <a:endParaRPr b="1" lang="en-US" sz="5400" spc="-1" strike="noStrike">
              <a:solidFill>
                <a:srgbClr val="330066"/>
              </a:solidFill>
              <a:latin typeface="Arial"/>
            </a:endParaRPr>
          </a:p>
        </p:txBody>
      </p:sp>
      <p:sp>
        <p:nvSpPr>
          <p:cNvPr id="9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r. Herdon Mikló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r. Kovács Györ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Magó Zsolt</a:t>
            </a:r>
            <a:endParaRPr b="0" lang="en-US" sz="32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DE AVK GAIT</a:t>
            </a: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WLAN topológiák (Háló)</a:t>
            </a:r>
            <a:endParaRPr b="1" lang="en-US" sz="3900" spc="-1" strike="noStrike">
              <a:solidFill>
                <a:srgbClr val="330066"/>
              </a:solidFill>
              <a:latin typeface="Arial"/>
            </a:endParaRPr>
          </a:p>
        </p:txBody>
      </p:sp>
      <p:pic>
        <p:nvPicPr>
          <p:cNvPr id="116" name="" descr=""/>
          <p:cNvPicPr/>
          <p:nvPr/>
        </p:nvPicPr>
        <p:blipFill>
          <a:blip r:embed="rId1"/>
          <a:stretch/>
        </p:blipFill>
        <p:spPr>
          <a:xfrm>
            <a:off x="826920" y="1677960"/>
            <a:ext cx="6840720" cy="410364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5853E384-A2EB-41D8-BBC6-63613CA967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WLAN topológiák (Csillag)</a:t>
            </a:r>
            <a:endParaRPr b="1" lang="en-US" sz="3900" spc="-1" strike="noStrike">
              <a:solidFill>
                <a:srgbClr val="330066"/>
              </a:solidFill>
              <a:latin typeface="Arial"/>
            </a:endParaRPr>
          </a:p>
        </p:txBody>
      </p:sp>
      <p:pic>
        <p:nvPicPr>
          <p:cNvPr id="118" name="" descr=""/>
          <p:cNvPicPr/>
          <p:nvPr/>
        </p:nvPicPr>
        <p:blipFill>
          <a:blip r:embed="rId1"/>
          <a:stretch/>
        </p:blipFill>
        <p:spPr>
          <a:xfrm>
            <a:off x="1042920" y="1836720"/>
            <a:ext cx="6769080" cy="400356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A375F700-FF12-4203-9FFA-48211CA0CA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Cellás WLAN kialakítás</a:t>
            </a:r>
            <a:endParaRPr b="1" lang="en-US" sz="3900" spc="-1" strike="noStrike">
              <a:solidFill>
                <a:srgbClr val="330066"/>
              </a:solidFill>
              <a:latin typeface="Arial"/>
            </a:endParaRPr>
          </a:p>
        </p:txBody>
      </p:sp>
      <p:pic>
        <p:nvPicPr>
          <p:cNvPr id="120" name="" descr=""/>
          <p:cNvPicPr/>
          <p:nvPr/>
        </p:nvPicPr>
        <p:blipFill>
          <a:blip r:embed="rId1"/>
          <a:stretch/>
        </p:blipFill>
        <p:spPr>
          <a:xfrm>
            <a:off x="1763640" y="2049480"/>
            <a:ext cx="5616720" cy="374976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511C37C1-3FA9-4CA9-9567-8BCC2FA90F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9E4C888-F47F-4C4E-AD79-B47D8127A1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űholdas átvitel,</a:t>
            </a: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Hogy műholdra sugárzó, illetve a műhold adását vevő antennákat ne kelljen mozgatni, un. </a:t>
            </a:r>
            <a:r>
              <a:rPr b="1" lang="hu-HU" sz="2100" spc="-1" strike="noStrike">
                <a:solidFill>
                  <a:srgbClr val="000000"/>
                </a:solidFill>
                <a:latin typeface="Arial"/>
              </a:rPr>
              <a:t>geostacionárius</a:t>
            </a:r>
            <a:r>
              <a:rPr b="0" lang="hu-HU" sz="2100" spc="-1" strike="noStrike">
                <a:solidFill>
                  <a:srgbClr val="000000"/>
                </a:solidFill>
                <a:latin typeface="Arial"/>
              </a:rPr>
              <a:t> (GEO) pályára állított műholdakat használnak. Az Egyenlítő fölött kb. 36.000 km magasságban keringő műholdak sebessége megegyezik a Föld forgási sebességével, így a Földről állónak látszanak.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gy vagy több transzpondert tartalmaznak, amelyek a spektrumnak csak egy részét figyelik, felerősítik a vett jeleket, és a beérkező mikrohullámokkal való interferencia elkerülése érdekében más frekvencián adják újra azokat. A kibocsátott sugárnyaláb lehet akár földrészeket átfogó, és pár száz km átmérőjű is.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GEO műholdak lehetnek a világűri közvetlen tévéadók, és a nagy sávszélességű Internet-sugárzók.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EB286C4-0F89-46CF-BE68-6F8704773B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VSAT (Very Small Aperture Terminal) rendszer</a:t>
            </a: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8229600" cy="458928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felhasználóknál elhelyezett kisméretű antennákkal egybeépített egységekre, terminálokra utal. A földi pontok között műholdon keresztül létesül egy vagy kétirányú kapcsolat. A műholdakat űrtávközlési szervezetek üzemeltetik, és tőlük lehet csatornakapacitást bérelni. A kisméretű földi terminálok:</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Csak vételre szolgáló terminálok</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dó-vevő terminálok</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Csak vételre szolgáló terminálokkal felépített rendszerek műsor- vagy adatszórásra, alkalmas rendszerek. Egy központi állomásból és csillagalakzatban elhelyezett vevőterminálokból állnak. A központi állomásról kisugárzott jelet a műhold közvetítésével minden, a rendszerhez tartozó terminál egy időben veszi.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dó-vevő terminálokkal kétirányú összeköttetéseket hozhatunk létre, elsősorban adatátvitel céljából. Az adatátviteli sebesség általában 64 Kbp/s vagy ennek egész számú többszöröse. A kapcsolat műholdon keresztül létesül a központi állomás és az egyes terminálok között, és csak ritkán két terminál között, ezért ez a rendszer is többnyire csillag felépítésű. </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34120EB-2C1C-4A59-BC06-A83F7B1DD3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900" spc="-1" strike="noStrike">
                <a:solidFill>
                  <a:srgbClr val="330066"/>
                </a:solidFill>
                <a:latin typeface="Arial"/>
              </a:rPr>
              <a:t>Vezeték nélküli nagyvárosi hálózat (MAN)</a:t>
            </a:r>
            <a:endParaRPr b="1" lang="en-US" sz="3900" spc="-1" strike="noStrike">
              <a:solidFill>
                <a:srgbClr val="330066"/>
              </a:solidFill>
              <a:latin typeface="Arial"/>
            </a:endParaRPr>
          </a:p>
        </p:txBody>
      </p:sp>
      <p:sp>
        <p:nvSpPr>
          <p:cNvPr id="12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nagyobb területek kábelnélküli hálózatba kapcsolásának az eszköze a WiMAX lesz. Ezzel városnyi területeket is össze lehet majd kötni, vagyis mindenhová eljuthat majd a nagysebességű Internet-hozzáférés.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Míg a 802.16-os szabvány (a WiMAX) akár 50 kilométeres körzetben is adhat hálózati hozzáférést.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Bázisállomásonként 280 Mbit/s-re emelhető az adatátviteli sebesség, azaz 70 megabit/másodperces lehet az osztható sávszélesség; ez körülbelül 60 üzleti T1-es vonalnak vagy nagyjából 1000 otthoni, 1 megabit/másodperces ADSL-vonalnak felelhet meg.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nnek a technológiának az a további - és igen nagy - erénye, hogy nem kell hozzá közvetlen rálátás az átjátszókra, s ezzel voltaképpen többet ígér minden ma használatos szélessávú, vezeték nélküli kapcsolatnál, mivel a végpontokban nem kell majd kültéri antenna.</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456D36E-F629-443B-B4B7-5ECE284E71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900" spc="-1" strike="noStrike">
                <a:solidFill>
                  <a:srgbClr val="330066"/>
                </a:solidFill>
                <a:latin typeface="Arial"/>
              </a:rPr>
              <a:t>Ultra szélessávú moduláció(UWB Ultra Wide Band) </a:t>
            </a: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Napjaink egyik legígéretesebb kábelnélküli technológiája. Bár a módszer elterjedését ma még szabványosítási és engedélyezési problémák lassítják, a rendszer jellemzői meggyőzőek. Az ultra szélessávú moduláció az adatok széles frekvenciatartományban történő továbbítására kis teljesítményű, rövid impulzusú rádiójeleket használ. Az alkalmazott modulációs átvitelnél az impulzusok milliárdjait terítik szét egy több gigahertzes sávban. A vevőegység úgy alakítja át az impulzusokat adattá, hogy az adóegység által küldött jelben ismerős impulzus-sorozat mintákat keres.</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adatátviteli sebesség már a kezdeti fejlesztésű eszközökben is 400-600 Mbit/s értékű, de jelentős tartalékok vannak a rendszerben, így ez az érték várhatóan lényegesen nőni fog. Az UWB rendszerek energiafogyasztása rendkívül alacsony, egy mobiltelefon teljesítményének kevesebb, mint ezred részét igénylik, tehát praktikusan használható olyan eszközökben melyeket az emberek mindig maguknál tartanak, új technológiájú mobil telefonokban, kézi számítógépekben vagy akár karórákban. A rendszernek kisebb (néhány méter), és nagyobb (km-es nagyságrendű) távolságok áthidalására alkalmas változatai is lesznek.</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673E891-94A9-433A-B952-98F8D9164DF9}"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Vezeték nélküli adatátvitel</a:t>
            </a:r>
            <a:endParaRPr b="1" lang="en-US" sz="3900" spc="-1" strike="noStrike">
              <a:solidFill>
                <a:srgbClr val="330066"/>
              </a:solidFill>
              <a:latin typeface="Arial"/>
            </a:endParaRPr>
          </a:p>
        </p:txBody>
      </p:sp>
      <p:sp>
        <p:nvSpPr>
          <p:cNvPr id="1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vezeték nélküli hálózatok az általuk lefedet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fizikai terület méretétől függően különböző</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csoportokba sorolható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Vezeték nélküli személyi hálózat (PA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Vezeték nélküli lokális hálózat (LA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Vezeték nélküli nagyvárosi hálózat (MA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Vezeték nélküli nagy kiterjedésű hálózat (WAN)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5301D8A-08BE-42C4-B550-430B8AFC98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teljes elektromágneses spektrum </a:t>
            </a:r>
            <a:endParaRPr b="1" lang="en-US" sz="3900" spc="-1" strike="noStrike">
              <a:solidFill>
                <a:srgbClr val="330066"/>
              </a:solidFill>
              <a:latin typeface="Arial"/>
            </a:endParaRPr>
          </a:p>
        </p:txBody>
      </p:sp>
      <p:pic>
        <p:nvPicPr>
          <p:cNvPr id="102" name="" descr=""/>
          <p:cNvPicPr/>
          <p:nvPr/>
        </p:nvPicPr>
        <p:blipFill>
          <a:blip r:embed="rId1"/>
          <a:stretch/>
        </p:blipFill>
        <p:spPr>
          <a:xfrm>
            <a:off x="2313000" y="1719360"/>
            <a:ext cx="4516560" cy="441144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C9135D7F-E93C-4846-B760-C85FAA1B32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ullámsávok</a:t>
            </a:r>
            <a:endParaRPr b="1" lang="en-US" sz="3900" spc="-1" strike="noStrike">
              <a:solidFill>
                <a:srgbClr val="330066"/>
              </a:solidFill>
              <a:latin typeface="Arial"/>
            </a:endParaRPr>
          </a:p>
        </p:txBody>
      </p:sp>
      <p:sp>
        <p:nvSpPr>
          <p:cNvPr id="1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teljes elektromágneses spektrum fő hullámsávjai:</a:t>
            </a:r>
            <a:endParaRPr b="0" lang="en-US" sz="17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 </a:t>
            </a:r>
            <a:r>
              <a:rPr b="0" lang="hu-HU" sz="1500" spc="-1" strike="noStrike">
                <a:solidFill>
                  <a:srgbClr val="000000"/>
                </a:solidFill>
                <a:latin typeface="Arial"/>
              </a:rPr>
              <a:t>röntgensugarak, </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gamma sugarak, </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ultraibolya sugarak, </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látható fény, </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infravörös sugarak, </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mikrohullámok és </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rádióhullámok. </a:t>
            </a:r>
            <a:endParaRPr b="0" lang="en-US" sz="15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rádióhullám, a mikrohullám, az infravörös hullám és a látható fény a spektrumnak az a része, amely alkalmas információtovábbításra.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ultraibolya, a röntgen- és a gamma sugarak a nagyobb frekvencia miatt még jobbak lennének az információtovábbításra, hiszen minél szélesebb a frekvenciatartomány, annál nagyobb az adatátviteli sebesség érhető el, de az előállítás körülményessége, és káros élettani hatásuk miatt nem alkalmazzák</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mikrohullám is rádióhullám, de terjedési tulajdonságai miatt szoká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megkülönböztetni.)</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7D55B47-A149-45DE-B814-584A176DD7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900" spc="-1" strike="noStrike">
                <a:solidFill>
                  <a:srgbClr val="330066"/>
                </a:solidFill>
                <a:latin typeface="Arial"/>
              </a:rPr>
              <a:t>Infravörös átvitel</a:t>
            </a:r>
            <a:endParaRPr b="1" lang="en-US" sz="3900" spc="-1" strike="noStrike">
              <a:solidFill>
                <a:srgbClr val="330066"/>
              </a:solidFill>
              <a:latin typeface="Arial"/>
            </a:endParaRPr>
          </a:p>
        </p:txBody>
      </p:sp>
      <p:sp>
        <p:nvSpPr>
          <p:cNvPr id="1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Infravörös adatátvitellel összekapcsolható eszközök:</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Notebook-ok, asztali PC-k, kézi számítógépek (különös tekintettel a mobil kommunikációs megol­dásokra)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Nyomtatók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obil telefonok, személyhívók, Modemek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Digitális fényképezőgépek és kamerák, LAN eszközök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Orvosi és ipari berendezések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zórakoztató elektronikai termékek, órák stb.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A76937F-847D-4DC2-ACA9-275954094A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900" spc="-1" strike="noStrike">
                <a:solidFill>
                  <a:srgbClr val="330066"/>
                </a:solidFill>
                <a:latin typeface="Arial"/>
              </a:rPr>
              <a:t>A lézeres adatátvitel</a:t>
            </a:r>
            <a:endParaRPr b="1" lang="en-US" sz="3900" spc="-1" strike="noStrike">
              <a:solidFill>
                <a:srgbClr val="330066"/>
              </a:solidFill>
              <a:latin typeface="Arial"/>
            </a:endParaRPr>
          </a:p>
        </p:txBody>
      </p:sp>
      <p:pic>
        <p:nvPicPr>
          <p:cNvPr id="108" name="laserbit" descr=""/>
          <p:cNvPicPr/>
          <p:nvPr/>
        </p:nvPicPr>
        <p:blipFill>
          <a:blip r:embed="rId1"/>
          <a:stretch/>
        </p:blipFill>
        <p:spPr>
          <a:xfrm>
            <a:off x="1042920" y="1276200"/>
            <a:ext cx="6624720" cy="497232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7BC11FA9-31CB-4F38-A467-C7206D364C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900" spc="-1" strike="noStrike">
                <a:solidFill>
                  <a:srgbClr val="330066"/>
                </a:solidFill>
                <a:latin typeface="Arial"/>
              </a:rPr>
              <a:t>Mikrohullámú átvitel </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optikai kábelek megjelenése előtt az ilyen mikrohullámú rendszerek jelentették a nagytávolságú távbeszélőrendszerek alapját. 100 MHz felett az elektromágneses hullámok egyenes vonal mentén terjednek, és jól fókuszálhatók.</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Problémát jelent ezért a földfelszín görbülete, így az adótornyok távolsága korlátozott.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inél magasabbak az adótornyok, annál messzebbre lehetnek egymástól, összeköttetés mintegy 100 km távolságig létrehozható (a láthatóság feltétel!).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358EAFE-81D9-4415-9A72-5CECAB07AE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900" spc="-1" strike="noStrike">
                <a:solidFill>
                  <a:srgbClr val="330066"/>
                </a:solidFill>
                <a:latin typeface="Arial"/>
              </a:rPr>
              <a:t>Kábelnélküli átvitelek összehasonlítás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műholdas és a mikrohullámú jeltovábbítás általában a szolgáltatók nagytávolságú adatátviteli problémáit oldja meg,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lézeres átvitel pont-pont közötti összeköttetésre használható, néhány km.-ig,</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infravörös fény, csak néhány méterig használható.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kábelnélküli (wireless) rendszerek a felhasználó szintjén adnak megoldást számítógépek, hálózatok összekapcsolására, közepes távolságig, max. néhány száz m.-ig</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2304594-0FEC-44FF-AE3A-36EF7D93AC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WLAN-ok</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WLAN-ok ban a kapcsolatot megvalósító szórt spektrumú adó nagyon kis teljesítmény mellett a moduláció ütemében változtatja az adási frekvenciáját, ellentétben a keskenysávú rádiókkal, amelyek a teljes energiát egyetlen frekvenciára koncentrálják.</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Széles frekvenciasávot használ, amit egy hagyományos vevő fehér zajnak érzékel (azonos amplitúdó minden frekvencián), a szórt spektrumú vevő azonban felismeri és „megérti” az adás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szabvány két különböző modulációs módszert tartalmaz: </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közvetlen sorrendes szórt spektrumú rádiós összeköttetést (DSSS = Direct Sequence Spread Spectrum) és</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frekvenciaugrásos szórt spektrumú rádiós összeköttetést (FHSS = Frequency Hopping Spread Spectrum).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A415DAB-5304-45BA-BA6C-914388355E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PA</cp:lastModifiedBy>
  <dcterms:modified xsi:type="dcterms:W3CDTF">2006-06-23T17:10:08Z</dcterms:modified>
  <cp:revision>98</cp:revision>
  <dc:subject/>
  <dc:title>PowerPoint bemutató</dc:title>
</cp:coreProperties>
</file>