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89BE-E91E-4B20-922A-F1124A28E7B5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egjegyzé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ábrák a körrel jelölt kapcsolódási módban van a különbség a „tiszta” C/S és a kevert rendszerek közöt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mennyiben a klinsek közvetlenül (a szerver nélkül) is kommunikálhatnak egymással, az NEM C/S model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30C-8B67-42E4-90BC-E1DEC8A8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856-F994-434E-8419-3FBDF900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855-3234-40B6-9833-A809C82B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33B-9B31-4A40-B552-2536A216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B762-8CAB-4071-8E08-D45BF5C5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B7E9-CE94-4C69-B64D-3C155884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E517-4290-4EDC-A5CF-0BC3D166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8C3E-6F26-4150-99CB-C833073C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9977-856E-4FDA-8397-882B53BF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CBDB-D64C-4350-8255-45907F08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5BE6-DD25-4227-A8CA-785F0F3C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F82-324B-41F9-94DC-04A02D32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9060-8911-4106-977E-D6A877A2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ECF0-88B8-40C1-95DE-1DAC310C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F7D0-A712-4E26-BF2D-CD167C06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EBED-E857-4AA3-BA90-2722BEC7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F721-A700-4E8E-8E38-5B94400B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6FA-1C78-4F4E-8638-80E1A8EF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9AF-FC1E-4257-94AA-B5A3AD96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DC1-C237-4D0F-B9BC-A88D3094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99A-8FA1-4B46-96FB-E2E9268E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875-9E7E-4EE4-853A-B75D418A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B9B-DE88-499D-8BFE-7CE17BAD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CD8-09D1-4FCD-888F-65AE6862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6DAD-08DD-41D6-AE5C-46C008B797F2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757B-4EBB-4F6F-BF3D-B59766AF8892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EC5B-4584-474F-A97E-9D2F3D6DB815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&lt;footer&gt;</a:t>
            </a: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044D-F5DA-4FD7-90D7-3BB9355FE58F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Számítógép-hálózato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Kovács Gyö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D396-F36A-401E-9F35-EFEB3E2EC7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onosítási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lhasználói sz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smeret alap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felhasználói név + ellenőrző kódsorozat („jelszó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ó” jelszó ismér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irtoklás alap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kódkárty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ulajdonság-alap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biometriai azonosítósi rendszer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826-9112-4EF3-86AD-990304FA23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onosítási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lhasználói sz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ezelésének eszköz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felhasználói fiók (</a:t>
            </a:r>
            <a:r>
              <a:rPr b="0" i="1" lang="hu-HU" sz="2300" spc="-1" strike="noStrike">
                <a:solidFill>
                  <a:srgbClr val="ff0000"/>
                </a:solidFill>
                <a:latin typeface="Arial"/>
              </a:rPr>
              <a:t>„account”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csopor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onos jogosultsággal rendelkező felhasznál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ozzáférés-ellenőrzés eszköz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licen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ver-old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használó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jogosultsági rendsz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CL („access contol list”, jogosultsági li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FEB-54F7-4211-94A4-E324B4B389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onosítási folya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gé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zikai kapcsolat felépít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olgáltatási igény jelz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onosí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jogosultság-ellenőrz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csak a hozzáféréshez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bírál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az igényelt erőforráshoz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se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rendszeres (állandó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7E2-C635-4804-ADBA-58618FC150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odell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enrangú („peer-to-peer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nden számítógép adhat és igényelhet erőforrást </a:t>
            </a:r>
            <a:r>
              <a:rPr b="0" lang="hu-H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33cc"/>
                </a:solidFill>
                <a:latin typeface="Arial"/>
              </a:rPr>
              <a:t>közvetlen kommunikáci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osztott nyilvántartási és azonosítási rends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l. MS „munkacsopor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Peer-to-peer"/>
          <p:cNvPicPr/>
          <p:nvPr/>
        </p:nvPicPr>
        <p:blipFill>
          <a:blip r:embed="rId1"/>
          <a:stretch/>
        </p:blipFill>
        <p:spPr>
          <a:xfrm>
            <a:off x="5003640" y="3573360"/>
            <a:ext cx="3348360" cy="26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10B-27D0-4A03-AB4E-F14673C418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odell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ierarchikus („client-server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álózatba kapcsolt számítógépek szerepe rögzített </a:t>
            </a:r>
            <a:r>
              <a:rPr b="0" lang="hu-H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33cc"/>
                </a:solidFill>
                <a:latin typeface="Arial"/>
              </a:rPr>
              <a:t>kommunikáció csak a szerveren keresztü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özpontosított nyilvántartási rends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l. MS „tartomány” (nem tisztán c/s!), Nov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508720" y="4437000"/>
            <a:ext cx="3425760" cy="2073240"/>
            <a:chOff x="5508720" y="4437000"/>
            <a:chExt cx="3425760" cy="2073240"/>
          </a:xfrm>
        </p:grpSpPr>
        <p:pic>
          <p:nvPicPr>
            <p:cNvPr id="128" name="" descr="Client-server"/>
            <p:cNvPicPr/>
            <p:nvPr/>
          </p:nvPicPr>
          <p:blipFill>
            <a:blip r:embed="rId1"/>
            <a:stretch/>
          </p:blipFill>
          <p:spPr>
            <a:xfrm>
              <a:off x="5508720" y="4437000"/>
              <a:ext cx="342576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021440" y="4927680"/>
              <a:ext cx="503280" cy="503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F67-C8E8-4532-AE22-BBC92207B2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szközö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izikai rétegben működik (OSI level-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un-intelligen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ellemzően a fizikai méret-korlátozás kiterjesztésére szolgá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apcsolat-megoszt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rányított továbbí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84720" y="4365720"/>
            <a:ext cx="4614840" cy="16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169-77CA-4393-952A-B04342861B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szközö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datkapcsolati rétegben működik (OSI level-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térő alhálózatok közötti átjárhatóságot biztosí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akorlatban „switch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oftveresen helyettesíthet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B7C-A4C4-4648-8D30-CE9A0F1725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szközö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álózati rétegben működik (OSI level-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ímszámítási képes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dinamikus útvonalválasz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metric (metrika): szomszédos routerek távolsá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apcsolat-megosz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464328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AC3-0D4D-4B8F-BAC1-4A0604D98A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Számítógép-hálózato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elyi hálóz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F56B-AB89-4034-B28A-7AEA8EF28B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lapfogalma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álóz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fo-kommunikációs </a:t>
            </a:r>
            <a:r>
              <a:rPr b="1" lang="hu-HU" sz="2600" spc="-1" strike="noStrike">
                <a:solidFill>
                  <a:srgbClr val="ff0000"/>
                </a:solidFill>
                <a:latin typeface="Arial"/>
              </a:rPr>
              <a:t>eszközö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valamilyen </a:t>
            </a:r>
            <a:r>
              <a:rPr b="1" lang="hu-HU" sz="2600" spc="-1" strike="noStrike">
                <a:solidFill>
                  <a:srgbClr val="ff0000"/>
                </a:solidFill>
                <a:latin typeface="Arial"/>
              </a:rPr>
              <a:t>cél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érdekében, alkalmas módon </a:t>
            </a:r>
            <a:r>
              <a:rPr b="1" lang="hu-HU" sz="2600" spc="-1" strike="noStrike">
                <a:solidFill>
                  <a:srgbClr val="ff0000"/>
                </a:solidFill>
                <a:latin typeface="Arial"/>
              </a:rPr>
              <a:t>összekapcsol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rendsz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elyi hálózat (Local Area Network, LAN)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lyan hálózat, amely (viszonylag) kis területen elhelyezkedő számítógépek összekapcsolásával jön létr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ellemzően 1-10 km, de pl. </a:t>
            </a:r>
            <a:r>
              <a:rPr b="1" lang="hu-HU" sz="2600" spc="-1" strike="noStrike">
                <a:solidFill>
                  <a:srgbClr val="330066"/>
                </a:solidFill>
                <a:latin typeface="Arial"/>
              </a:rPr>
              <a:t>VP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31C-0BC1-4914-8709-BEB12ACF16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eltétel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szköz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ámítógép +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álózati csatoló eszköz (modem, kártya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apcsolat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álózati kezelő programok (driver, protokoll, szolgáltatá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tviteli közeg: UTP, FTP, WiF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álózati aktív (kapcsoló) eszközö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C97-5689-4877-841B-F4AE3B3875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eltétel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é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rőforrás-megosztás (hardver + szoftver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áttértár (fájl-szerv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nyomtató (printer szerv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processz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program (alkalmazás-szerv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dat (adatbázis-szerv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zolgáltatás (pl. tűzfal, prox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é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datbiztonsá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redundáns tárolá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özpontosított archiválási lehetősé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gypontos védelmi rendsz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ommunikáci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(MAN/WAN típusú hálózatokhoz képest kisebb a jelentősége…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3D8-D0C2-4700-8A92-63D9315CF4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Jellemző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opológia, topográfia: általában kev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sillag + (gyűrű vagy sí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eterogén rendszerek, heterogén alhálózatok </a:t>
            </a:r>
            <a:r>
              <a:rPr b="0" lang="hu-HU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nem rendelhető egyértelműen egyetlen protokollh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agyományosan: </a:t>
            </a:r>
            <a:r>
              <a:rPr b="0" lang="hu-HU" sz="2600" spc="-1" strike="noStrike">
                <a:solidFill>
                  <a:srgbClr val="0033cc"/>
                </a:solidFill>
                <a:latin typeface="Arial"/>
              </a:rPr>
              <a:t>IEEE 802.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anapság: (jellemzően) </a:t>
            </a: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TCP/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átviteli sebessége na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00 Mbit/s - 1 Gbit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8FB-2C45-4E87-A563-3FBA502795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EEE 802.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LAN hálózatokra specifikált kommunikációs szabvány (198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étegmodell alsó két szintjén valósul me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űjtemények (szabvány-csopo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7F2-D0CA-4110-9F46-C05469969E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EEE 802.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55640" y="1413000"/>
          <a:ext cx="7201080" cy="4581360"/>
        </p:xfrm>
        <a:graphic>
          <a:graphicData uri="http://schemas.openxmlformats.org/drawingml/2006/table">
            <a:tbl>
              <a:tblPr/>
              <a:tblGrid>
                <a:gridCol w="5578560"/>
                <a:gridCol w="1622520"/>
              </a:tblGrid>
              <a:tr h="568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gas szintű LAN protokoll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EEE 802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2.1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ogikai kapcsolatvezérlés (LL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EEE 802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thern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BASE2: vékony koax (10 Mbit/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BASE-T: sodrott érpár (10 Mbit/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BASE-T: giga-ethernet (1Gbit/s, sodrott érpá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EEE 80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2.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2.3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2.3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zérjeles sín (token pass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EEE 802.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zérjeles gyűrű (token r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EEE 802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zetéknélküli LAN (WiFi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-2 Mbit/s, 2,4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-5-2-1 Mbit/s, 2,4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4 Mbit/s, 2,4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4 Mbit/s, 5Ghz (nem szabványos!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EEE 802.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2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2.1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2.11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2.1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Wireless 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lueto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EEE 802.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2.1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C8A-A0BA-47C6-B081-3A0D8AA4E9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onosítási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rőforrások szint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UNC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universal/uniform naming conv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rőforrás-azonosítási rendsz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rőforrás-megosztó számítógép azonosító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álózaton belüli logikai azonosító (DNS/IP/NetBEU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rőforrás azonosító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ogikai név,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nem feltétlenü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gyezik meg a megosztó számítógépen alkalmazott fizikai névv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: </a:t>
            </a:r>
            <a:r>
              <a:rPr b="0" lang="hu-HU" sz="2000" spc="-1" strike="noStrike">
                <a:solidFill>
                  <a:srgbClr val="0033cc"/>
                </a:solidFill>
                <a:latin typeface="Arial"/>
              </a:rPr>
              <a:t>\\FREYA\munka\level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„munka” fizikai helye ismeretl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36F-439C-46EC-AD25-354F7AD8B7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zsola</cp:lastModifiedBy>
  <dcterms:modified xsi:type="dcterms:W3CDTF">2006-06-22T12:58:06Z</dcterms:modified>
  <cp:revision>78</cp:revision>
  <dc:subject/>
  <dc:title>PowerPoint bemutató</dc:title>
</cp:coreProperties>
</file>