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0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299E-945A-410C-9AEE-B7C1EF145F1D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CÍMDIA: logó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futóláb: hefop, témakör, diaszá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Gyakran olyan hallgatóságnak kell szakmai előadást tartani, amely nem ismeri a témát vagy a szakszavakat. Az anyag esetleg összetett és rengeteg adatot tartalmaz. A hatékony előadáshoz alkalmazzuk a Dale Carnegie Training® által kialakított irányelve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Vegyük figyelembe a rendelkezésre álló időt és rendszerezzük megfelelően a tananyagot. Szűkítsük le a témakört. Osszuk fel a bemutatót világosan elkülönített részekre. Állítsunk fel logikus sorrendet. Végig egy témára összpontosítsunk. A bemutatót összefoglalással zárjuk, ismételjük meg a fontos lépéseket vagy vonjunk le következteté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Ne feledkezzünk el a hallgatóságról. Fontos például, hogy az adatok érthetőek és lényegesek legyenek a téma szempontjából. Az adatok és a szakszavak mennyiségét igazítsuk a hallgatósághoz. A fontosabb pontok és lépések magyarázatához használjunk szemléltetőeszközöket. Mindig tartsuk szem előtt a hallgatóság igényeit, és akkor képesebbek lesznek az elhangzottak befogadásá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B7B3-634B-40F3-B374-136FD0021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27F7-1205-4E47-9537-98506FF1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1A54-0CE6-46A4-8D6F-1FF6DBBC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7ADF-9AAE-4E91-B9EE-B9870FB89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47E9-0371-4EEF-8B43-7F3BF648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FE8A-F17B-4C8B-A220-8E69F995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7C27-23E9-4481-B971-70D54082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9D6A-1E3A-48F8-9C6D-F7D793E3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3B19-3B73-4232-A54A-9DBF8D52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3611-6234-4339-9478-363256BC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B9A1-BFA0-49E1-8288-CC4283EB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0A8B-878F-4F5C-A05F-65095D00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9C58-0830-44F7-8521-9697A8B0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F64B-10C3-4DB6-844C-AC34DEB0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3946-A69E-40A8-B282-0162DB4F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F78C-0AA7-402D-96DD-24D9A8F0E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EB80-83D1-42D2-8B28-DBACA061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F70B-37A6-416A-A279-F8BE50C3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ECDE-4AD6-4D1F-AE23-B04777D3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79DC-2E4D-4BB9-B360-63EAC389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40D2-EBBD-4615-BBCF-DD8EDB56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6B11-5B8F-4BBC-B92E-4E3127E2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EF12-DF73-4B90-9368-3EC6097E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C010-F990-4033-BAC9-EAF65CB2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BCAF-2813-4447-9CB1-8A493F1DCAB8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29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7C05-BE90-4AE4-A1AD-C288CBCAC6E2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138720"/>
            <a:ext cx="1403280" cy="719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101080" y="0"/>
            <a:ext cx="1042920" cy="104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2847-E36B-4931-BAFA-BD7E1B8F6DBA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29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916000" y="6248520"/>
            <a:ext cx="310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0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ff0000"/>
                </a:solidFill>
                <a:latin typeface="Arial"/>
              </a:rPr>
              <a:t>A projekt az Európai Unió társfinanszírozásával, az Európa terv keretében valósul meg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B359-2F14-4EDF-8FB3-1789249CC8AE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1123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2195640" cy="906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524720" y="119700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330066"/>
                </a:solidFill>
                <a:latin typeface="Arial"/>
              </a:rPr>
              <a:t>Számítógép-hálózatok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r. Herdon Mikló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r. Kovács Gyö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agó Zso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DE AVK G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Klie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befogadó operációs rendszer függvényéb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integrálódó klienspr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saját szolgáltat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befogadó operációs rendszer 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(támogatott) szolgáltatása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általában nem</a:t>
            </a:r>
            <a:br>
              <a:rPr sz="2300"/>
            </a:b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minden szerver-szolgáltatás</a:t>
            </a:r>
            <a:br>
              <a:rPr sz="2300"/>
            </a:b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támogatot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80913" t="70885" r="4322" b="0"/>
          <a:stretch/>
        </p:blipFill>
        <p:spPr>
          <a:xfrm>
            <a:off x="7343640" y="2133720"/>
            <a:ext cx="1800360" cy="2840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148360" y="4005360"/>
            <a:ext cx="2295360" cy="285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B554-AAF5-4531-A61D-F16B1AA077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Novell Client for Win3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elepíté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használt azonosítási rendszer függvényében (bindery/ND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használt protokollnak megfelelően (IPX/TC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használt szolgáltatások szer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használ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rendszerterületen ikonké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műveletei: gyorsmenüb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integrálódi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állománykezelő alkalmazásokb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hálózati szolgáltatások közé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90744" t="97253" r="0" b="-192"/>
          <a:stretch/>
        </p:blipFill>
        <p:spPr>
          <a:xfrm>
            <a:off x="6588000" y="4076640"/>
            <a:ext cx="1128960" cy="287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0" t="25334" r="0" b="36835"/>
          <a:stretch/>
        </p:blipFill>
        <p:spPr>
          <a:xfrm>
            <a:off x="5695920" y="5084640"/>
            <a:ext cx="3448080" cy="10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B00A-0C8D-4FEA-B9BA-0D1E57D2B1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Novell Client for Win3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szolgáltatás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elhasználó-kezel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33cc"/>
                </a:solidFill>
                <a:latin typeface="Arial"/>
              </a:rPr>
              <a:t>Log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e-, át-jelentkez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33cc"/>
                </a:solidFill>
                <a:latin typeface="Arial"/>
              </a:rPr>
              <a:t>Connec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ktív kapcsolat lekérdez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jelentkez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hálózati könyvtárak kezelé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33cc"/>
                </a:solidFill>
                <a:latin typeface="Arial"/>
              </a:rPr>
              <a:t>Ma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álózati könyvtár csatlakozta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lnSpc>
                <a:spcPct val="80000"/>
              </a:lnSpc>
              <a:spcBef>
                <a:spcPts val="4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ogikai betűjelet kap, önálló meghajtóként kezelhet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lnSpc>
                <a:spcPct val="80000"/>
              </a:lnSpc>
              <a:spcBef>
                <a:spcPts val="4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satolás-típusok: ál-gyökér, kereső, álland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33cc"/>
                </a:solidFill>
                <a:latin typeface="Arial"/>
              </a:rPr>
              <a:t>Disconnec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álózati meghajtó-kapcsolat megszüntet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0913" t="71634" r="4322" b="1041"/>
          <a:stretch/>
        </p:blipFill>
        <p:spPr>
          <a:xfrm>
            <a:off x="7164360" y="1700280"/>
            <a:ext cx="1800360" cy="266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E370-FDA4-48D9-8ECE-09683DCEB7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Novell Client for Win3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szolgáltatás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nyomtatási művelet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33cc"/>
                </a:solidFill>
                <a:latin typeface="Arial"/>
              </a:rPr>
              <a:t>Cap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álózati nyomtató csatlakozta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izikai portnévhez rendel nyomtatót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pl. LPTx, PR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jellemzően DOS alapú alkalmazások eseté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alódi 32 bites környezetben használható a Win saját hálózati nyomtatás-kezelő szolgáltatás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33cc"/>
                </a:solidFill>
                <a:latin typeface="Arial"/>
              </a:rPr>
              <a:t>End cap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yomtatási kapcsolat megszüntet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80913" t="71634" r="4322" b="1041"/>
          <a:stretch/>
        </p:blipFill>
        <p:spPr>
          <a:xfrm>
            <a:off x="7164360" y="1700280"/>
            <a:ext cx="1800360" cy="266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A884-2F87-4898-8F00-8BA30B4263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Novell Client for Win3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szolgáltatás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utilities: állománykezelési műve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33cc"/>
                </a:solidFill>
                <a:latin typeface="Arial"/>
              </a:rPr>
              <a:t>Cop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terjesztett másolási művelet a szerver könyvtárai közö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33cc"/>
                </a:solidFill>
                <a:latin typeface="Arial"/>
              </a:rPr>
              <a:t>Salva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ogikailag törölt állományok helyreállí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33cc"/>
                </a:solidFill>
                <a:latin typeface="Arial"/>
              </a:rPr>
              <a:t>Pur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ogikailag törölt állományok fizikai törl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33cc"/>
                </a:solidFill>
                <a:latin typeface="Arial"/>
              </a:rPr>
              <a:t>Truste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jogosultsággal rendelkező felhasználók áttekint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33cc"/>
                </a:solidFill>
                <a:latin typeface="Arial"/>
              </a:rPr>
              <a:t>Inherited righ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öröklődés kezel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33cc"/>
                </a:solidFill>
                <a:latin typeface="Arial"/>
              </a:rPr>
              <a:t>Object propert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llomány-szintű objektumok tulajdonság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80913" t="71634" r="4322" b="1041"/>
          <a:stretch/>
        </p:blipFill>
        <p:spPr>
          <a:xfrm>
            <a:off x="7343640" y="3141720"/>
            <a:ext cx="1800360" cy="266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96F5-3A5A-42CF-8FE9-6DD838DBE9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Novell Client for Win3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szolgáltatáso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általános művelet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cc"/>
                </a:solidFill>
                <a:latin typeface="Arial"/>
              </a:rPr>
              <a:t>User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elhasználói információk lekérdezése és módos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0000"/>
                </a:solidFill>
                <a:latin typeface="Arial"/>
              </a:rPr>
              <a:t>kivéve jelszó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cc"/>
                </a:solidFill>
                <a:latin typeface="Arial"/>
              </a:rPr>
              <a:t>Brow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unkaállomás fájlrendszerének elér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eállítás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cc"/>
                </a:solidFill>
                <a:latin typeface="Arial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arancsikon alapértelmezett működ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cc"/>
                </a:solidFill>
                <a:latin typeface="Arial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liens frissí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cc"/>
                </a:solidFill>
                <a:latin typeface="Arial"/>
              </a:rPr>
              <a:t>Client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úg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cc"/>
                </a:solidFill>
                <a:latin typeface="Arial"/>
              </a:rPr>
              <a:t>Client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állítás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80913" t="71634" r="4322" b="1041"/>
          <a:stretch/>
        </p:blipFill>
        <p:spPr>
          <a:xfrm>
            <a:off x="7343640" y="3500280"/>
            <a:ext cx="1800360" cy="266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EA89-30FD-4894-825B-AF76898361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ND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33cc"/>
                </a:solidFill>
                <a:latin typeface="Arial"/>
              </a:rPr>
              <a:t>Netware Directory Ser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0000"/>
                </a:solidFill>
                <a:latin typeface="Arial"/>
              </a:rPr>
              <a:t>egységes, osztott(an tárolt) hálózati azonosítási és nyilvántartási rendsz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objektuma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gyökér (</a:t>
            </a:r>
            <a:r>
              <a:rPr b="0" i="1" lang="hu-HU" sz="21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): csak 1 van belőle, logikai és hivatkozási azonosító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tároló (</a:t>
            </a:r>
            <a:r>
              <a:rPr b="0" i="1" lang="hu-HU" sz="2100" spc="-1" strike="noStrike">
                <a:solidFill>
                  <a:srgbClr val="000000"/>
                </a:solidFill>
                <a:latin typeface="Arial"/>
              </a:rPr>
              <a:t>container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): csoportosító objektu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countr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ország),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organization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szervezet),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organization uni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szervezeti egysé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levél: információ-tároló objektu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use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felhasználó),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erve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számítógép),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volum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kötet)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z egyes objektumokat </a:t>
            </a:r>
            <a:r>
              <a:rPr b="0" lang="hu-HU" sz="2200" spc="-1" strike="noStrike">
                <a:solidFill>
                  <a:srgbClr val="0033cc"/>
                </a:solidFill>
                <a:latin typeface="Arial"/>
              </a:rPr>
              <a:t>tulajdonságuk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0" lang="hu-HU" sz="2200" spc="-1" strike="noStrike">
                <a:solidFill>
                  <a:srgbClr val="0033cc"/>
                </a:solidFill>
                <a:latin typeface="Arial"/>
              </a:rPr>
              <a:t>környezetük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(a hierarchiában elfoglalt helyük) azonosí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8000"/>
                </a:solidFill>
                <a:latin typeface="Arial"/>
              </a:rPr>
              <a:t>objektumonként eltérő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tulajdonságok és műve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00D9-A5B5-4B1C-93A3-740F88316D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NDS jogosultsági rendsze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jogosultsági szint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objektum-szintű jogok (művelete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létrehozás, listázás, törlés. átnevez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ulajdonság-szintű jogok (művelete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lekérdezés (összehasonlítás), olvasás, írás, hozzáadá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jogosultságok kezelé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öröklődé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IRF (öröklődési szűrő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biztonsági egyenlősé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788000" y="4653000"/>
            <a:ext cx="4170240" cy="157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CF70-850E-46D2-92F5-5174F692B5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NDS jogosultsági rendsze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fájlrendszerre vonatkozó művelet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NDS-ben tárolódik, de külön kezelhet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0000"/>
                </a:solidFill>
                <a:latin typeface="Arial"/>
              </a:rPr>
              <a:t>R/W/C/E/M/F/A/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kiegészül az adott állomány attribútumaiv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ellentmondó beállítások esetén az attribútum felülbírálja a jogosultságot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5013" t="7099" r="19988" b="51109"/>
          <a:stretch/>
        </p:blipFill>
        <p:spPr>
          <a:xfrm>
            <a:off x="3780000" y="4467240"/>
            <a:ext cx="5364000" cy="23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36D6-34B1-46D5-BA12-DEBE6CDBE1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0066"/>
                </a:solidFill>
                <a:latin typeface="Arial"/>
              </a:rPr>
              <a:t>Számítógép-hálózatok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ovell Ne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339B-79B0-4830-A616-77A177F019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Történ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1983/85: Netw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ső fájl-szerver LAN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aját hálózati protokoll: IPX/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1986: Netware v2.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lepítőkész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1989: Netware 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legtöbb működő Netware rendszer alap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1993: Netware 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eágyazott TCP/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1998: Netware 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atív TCP/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2003: Open Enterprise Server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uSE integráci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448320" y="3571920"/>
            <a:ext cx="2695680" cy="3286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351560" y="1268280"/>
            <a:ext cx="1792440" cy="230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656D-AD59-400C-97EB-6DAE85ACC4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erv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dedikált </a:t>
            </a:r>
            <a:r>
              <a:rPr b="0" lang="hu-HU" sz="3000" spc="-1" strike="noStrike">
                <a:solidFill>
                  <a:srgbClr val="ff0000"/>
                </a:solidFill>
                <a:latin typeface="Arial"/>
              </a:rPr>
              <a:t>kliens-szerver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mode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karakteres felü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konzolparancsok (.NLM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parancskötegek (.NCF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5.x: ConsoleOn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JAVA alapú GU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92720" y="2349360"/>
            <a:ext cx="3708360" cy="2289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234040" y="4684680"/>
            <a:ext cx="3909960" cy="2173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rcRect l="1021" t="16842" r="10268" b="13388"/>
          <a:stretch/>
        </p:blipFill>
        <p:spPr>
          <a:xfrm>
            <a:off x="755640" y="4522680"/>
            <a:ext cx="3673440" cy="233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566A-AE5A-425E-B2E7-BD38ADC301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erv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szolgáltatás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natív (kernel szintű) szolgáltatás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fájlrendszer (NWFS, NS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nyomtatási rendsz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biztonsági rendszer (SFT-I/II/III, licenc, CA, PK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N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lkalmazás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Internet Services: DHCP, FTP, AMP (Apache/MySQL/PHP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felügyeleti eszközök: Z.E.N.Work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csoportmunka-támogatás: GroupWi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D497-E848-41BC-81D8-05D5481507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erv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fájlrendsz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partíció – fizikai háttértá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boot (DO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Netwa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kötet – logikai háttértá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15 karakteres azonosító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Hot Fix Redirection Area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natív RA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kötet – partíció összerendelés (szinte) tetszőleg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6B62-E666-4E86-A5D1-743C31B000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erv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fájlrendsz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NWFS (</a:t>
            </a:r>
            <a:r>
              <a:rPr b="0" i="1" lang="hu-HU" sz="2200" spc="-1" strike="noStrike">
                <a:solidFill>
                  <a:srgbClr val="000000"/>
                </a:solidFill>
                <a:latin typeface="Arial"/>
              </a:rPr>
              <a:t>Netware File System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partíciónként max. 8, szerverenként max. 64 köt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4GB max. kötetméret, fájlmér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NSS (</a:t>
            </a:r>
            <a:r>
              <a:rPr b="0" i="1" lang="hu-HU" sz="2200" spc="-1" strike="noStrike">
                <a:solidFill>
                  <a:srgbClr val="000000"/>
                </a:solidFill>
                <a:latin typeface="Arial"/>
              </a:rPr>
              <a:t>Novell Storage Service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tároló-készlet (</a:t>
            </a:r>
            <a:r>
              <a:rPr b="0" i="1" lang="hu-HU" sz="2300" spc="-1" strike="noStrike">
                <a:solidFill>
                  <a:srgbClr val="000000"/>
                </a:solidFill>
                <a:latin typeface="Arial"/>
              </a:rPr>
              <a:t>storage pool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) szervezésű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255 kötet, max. 8TB kötetenké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nincs korlátozva a fájlok max. mére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D06B-CC9D-4C30-A121-BDD1B26A5C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erv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fájlrendsz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lapértelmezett könyvtárszerkez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rendszerpartíció: SY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YSTEM: rendszerfájlok, konzolparancs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UBLIC: segédprogramok (kliensről futtathat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TC: konfigurációs beállítás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OGIN: bejelentkezési folyamat állomány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_NETWARE: biztonsági rendszer (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MAIL: felhasználói fiókok azonosító adata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8A3D-D28F-43A5-A1B9-447B74943C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Szerv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nyomtatási rendsz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nyomtató-szer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nyomtatási sor (logikai tárolási egysé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nyomtató (fizikai egysé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erverhez csatlakoz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unkaállomáshoz csatlakoz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intelligens) hálóz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NDPS/iPr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elosztott hálózati nyomtatási szolgáltat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D62D-49DC-44B8-9A70-BC6EEAB0C6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zsola</cp:lastModifiedBy>
  <dcterms:modified xsi:type="dcterms:W3CDTF">2006-06-22T12:52:36Z</dcterms:modified>
  <cp:revision>80</cp:revision>
  <dc:subject/>
  <dc:title>PowerPoint bemutató</dc:title>
</cp:coreProperties>
</file>