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F2E3-567E-49AF-B737-11E4E1D92E3A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883-E9D0-4EB4-9A91-B75AA17A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BAA-268A-44BD-B483-6070EFF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390-26E3-47A1-84AD-884113C2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B91-F613-4B64-BF3F-C8359014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C8DA-6903-4EC5-AE49-AD3F842B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045F-8D25-4FD7-9BB5-A270C433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A570-BDBD-47EE-8DA0-05804B92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EC98-C0F5-45BF-8088-DA44C1EA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3844-A83B-4450-B65E-EE337D8A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4A67-2BAE-4040-B0E3-B20BC6DF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B205-0E9B-436C-8C87-E14056D6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B63-13CB-43AB-B31A-E0A923CE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ECF4-3576-4494-8C28-7D96C1D9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5F6E-A5AF-4C29-BDB7-7626363F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8788-0893-4671-82BD-83C9016D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D8FC-91F0-47F0-9C83-42AFFFD9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8A16-73CD-4ABB-B8C5-55766771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E9E-F05D-44A2-BADE-B105196D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3A5-8F3C-4CF0-82C9-C72C59D6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D79-E3CF-4A4F-9FAA-E9C2E070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46F-73DA-42FE-8641-D73C9BD1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671-179A-4506-9D81-1DBF2346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F78-2400-4A4B-BD27-9B2ED458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CFE-A56F-4CC4-9280-33AB90C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AF11-0D51-4C06-9568-89ABDBF2B2F5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DEBA-214E-4095-8C5A-97024215767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DB2E-BD57-4816-8E5E-1C32B536CAAD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42E7-C055-4B6A-83DE-09BDD2D026AD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Számítógép-hálózato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Kovács Gyö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Üzenet és csomagkapcso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Csomagkapcsolásról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akkor beszélünk, amikor a továbbítandó 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üzenete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 a vonal kihasználtságának a növelése érdekében kisebb adagokra bontjuk és ezeket egyenként küldjük el a címzettne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csomagkapcsolás hatékonyan képes a vonalak kihasználására, mivel adott két pont között összeköttetést több irányból érkező és továbbhaladó csomag is használj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lőfordulhat, hogy a később küldött csomag előbb érkezik meg. A vevő feladata a csomagok helyes sorrendbe állítása, majd azok egyesítés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a nem daraboljuk fel az üzenetet, és úgy küldjük át, akkor azt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üzenetkapcsolásnak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nevezzü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7D1-99FC-4C48-A568-A3D12493CC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Csomagkapcsolás elv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851120"/>
            <a:ext cx="8209080" cy="40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EE8-35EF-488C-B96B-7170389433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Átviteli közeg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Csavart érpá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UTP (Unshilded Twisted Pa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FTP (Foil-shilded Twisted Pair, Fólia árnyékolású csavart érpá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S-FTP (Shilded-Foil-shilded Twisted Pa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62440" y="2276640"/>
            <a:ext cx="3810240" cy="24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453-A72E-4487-8033-4634B786BC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oaxiális kábelek</a:t>
            </a:r>
            <a:r>
              <a:rPr b="0" i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2235240"/>
            <a:ext cx="8496000" cy="28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024-0014-4E9C-9E2B-98C646F546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ultimódusú optikai kábel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2743200" cy="1028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87640" y="2852640"/>
            <a:ext cx="230508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89040" y="2491560"/>
            <a:ext cx="40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ény visszaverődése a határfelületrő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1400" y="40759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ény terjedése a multimódusú üvegszálb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916360" y="4613400"/>
            <a:ext cx="2427120" cy="88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30120" y="5805360"/>
            <a:ext cx="47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ény terjedése monomódusú optikai szálb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271-F62E-451A-9908-649BFF8B1A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2500200"/>
            <a:ext cx="8208720" cy="275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A gyakorlatban használatos optikai kábelek jellemző méretei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025-F95D-490B-892D-21A77605B8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Számítógép-hálózato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onalmegoszt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Vonalak megosztá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hhoz, hogy információcserét valósíthassunk meg két végpont között, szükségünk van a végpontok között az összeköttetést biztosító vonalakra. Sok esetben azonban a kommunikáció jellegéből fakadóan nincs folyamatos információcsere rajta, azaz a legtöbb kapcsolatban a vonalhasználat csak időszakosan jelentkezi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Nem ésszerű tehát egy kommunikációs csatorna számára kisajátítunk egy teljes vonala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gy vonalon több csatorna is kialakítható ha különválasztjuk a funkcióka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satorná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amelyeken az információcsere történi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onalakra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melyek a tényleges, fizikailag létező összeköttetéseket biztosítjá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0E1-A909-4B19-A2A2-D308AC23F2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Vonalkapcsol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nnél a módszernél a főállomás - egy telefonközponthoz hasonlóan - kapcsolóáramköröket tartalmaz, amivel kialakíthatók az egymással kommunikálni kívánó állomások közötti (pont-pont) kapcsolato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Lehetőség van egyszerre több kapcsolat kialakítására is, ehhez csupán több kapcsolóáramkört kell kialakítani. Egy nagyobb rendszeren belül a telefonközpontokhoz hasonlóan több főállomás is részt vehet a kommunikációba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lső lépésben fizikai kapcsolat létesül az adó és vevő között, ami az összeköttetés idejére áll fen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összeköttetésen keresztül megvalósul az adatátvitel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adatátvitel befejeztével a kapcsolat lebomli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C08-F922-489F-9A5E-6F14773C5C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vonalkapcsolás el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991280" cy="377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565-0E55-4BEC-B94A-9E24A805DA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ultiplexelés frekvenciaosztáss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559640" cy="35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EC8-68D3-40BF-A469-2D7D4DE4C6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FDM 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(Frequency-Division Multiplex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ódszer alapelve azon a felismerésen alapul, hogy ha szinuszos hullámok összegéből előállítunk egy jelet, abból bármelyik összetevőt a csatorna másik oldalán bármelyik komponenst eredeti formájában kinyerhetjük egy alkalmas szűrő segítségével. Az adó oldalon a csatornák jeleit egy-egy vivőfrekvenciára ültetik (a vivőfrekvenciát a jelekkel modulálják), majd ezeket összegzik, az összegzett jelet átviszik a vevő oldalra, és ott ezeket szűrőkkel szétválogatjá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rekvencia osztásos multiplex rendszerek jellemző felhasználási területe a távbeszélő-hálózatok vivőfrekvenciás rendszereinél van. A széles frekvenciasávban, időben is egyszerre haladnak a különböző vivőfrekvenciákra ültetett jelek. Hasonló módon működnek a kábeltévés rendszerek is, ahol egyetlen kábelen több tévé- és rádióműsor jelei továbbíthatók természetesen különböző frekvenciatartományokba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2B8-80AD-4197-A183-46CFF7E16E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66"/>
                </a:solidFill>
                <a:latin typeface="Arial"/>
              </a:rPr>
              <a:t>Digitális távbeszélő rendszereknél használatos  időosztásos multiplexelés</a:t>
            </a: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1981080"/>
            <a:ext cx="73440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1E8-9C82-4C0D-B660-95E2511C1D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dőosztásos többszörös hozzáféré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ime Division Multiple Access,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(TDMA)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digitális átvitelnél az idő-multiplex berendezések a nagyobb sávszélességű adatvonalat időben osztják fel több, elemi adatcsatorná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zt a technikát elsősorban a sín topológiájú hálózatoknál használjá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nden állomás egy magadott időtartamban (időszeletben) adha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mennyiben nincs küldeni valója, az időszelet kihasználatlan mara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B6A-42F7-4B94-9CEB-FE4CA18C0B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PA</cp:lastModifiedBy>
  <dcterms:modified xsi:type="dcterms:W3CDTF">2006-06-23T21:03:28Z</dcterms:modified>
  <cp:revision>99</cp:revision>
  <dc:subject/>
  <dc:title>PowerPoint bemutató</dc:title>
</cp:coreProperties>
</file>