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3895-61E9-47B7-8AF9-D1732CF28817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F00-BF88-484F-A634-E87E4A31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950-1661-4350-8D86-4298FFA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8E7-D4A2-452D-B716-38588489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38F-1875-436F-A288-3535910E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D75E-6489-4F3E-AFB5-64785284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4E02-B5FE-48B4-A17A-04D9261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A812-E5A4-47E6-B81A-8067972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43F-CA5D-4F5D-81CC-886855BF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39BA-E672-474C-BBE4-5F24A92A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A467-4851-483E-A38C-EF39C68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4B9D-D134-4284-962A-A8DA30C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823-21F3-4199-95A5-5BD5F6F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D4A9-EAEF-4050-A6A7-3F31F77D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0AF9-DA1E-4871-8615-8BFFCD72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77F-3FAE-4C1E-8680-7D91606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5B60-2C7A-4F6A-A961-85DAA604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646E-28E2-4B13-849B-B3BF502F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D73-40B3-4138-9CEC-7CB053D3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939-F8F5-4E0A-BA0F-032C124F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CE0-0090-4042-BB0A-FE501F5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D69-4099-459E-90CC-DEE209F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ABE-AF0A-46D0-8B9D-33B8C25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D23-6511-4CCF-80FD-E20DFE0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750-73BA-4401-9483-ADA4CD6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99C6-D007-498C-A3FC-DD041F3B5EB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04D5-1801-4A50-A4F9-EC6157B95FF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D874-1286-4C7E-80DD-81513FCD4AA3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BDE-84C7-4E4E-BA5A-F807B0FB375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mplitúdó, frekvencia és fázismoduláci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63800" y="1719360"/>
            <a:ext cx="52164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36F-7C96-4960-9FC0-4E9F4171CC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atkapcsolati rét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datkapcsolati réteg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olgáltatása a két szomszédos (közvetlen fizikai összeköttetéssel rendelkező) berendezés (adó és vevő) közötti, biztonságos bitfolyam átvi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bitfolyamot többnyire egységekre tördelik, melyeket kereteknek (frame) hívun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éteg úgy teszi biztonságossá az átvitelt, hogy ha hibás keret érkezik, akkor annak újraküldését kéri mindaddig, amíg az hibamentesen meg nem érkezi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szolgáltatás kiterjed a (2. réteg szintű) kapcsolatok létrehozására, az adatátvitelre, és a kapcsolat lebontásá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4DB-C38B-4181-861B-A603C2B89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adatkapcsolati réteg alréteg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AC (Medium Access Control) alréteg feladata a közeghez való hozzáférés, a kereteknek a kábelre való juttatása (az adási jog megszerzése és az adá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LLC (Logical Link Control) feladata a vett keretek  épségének ellenőrzése, hiba esetén kéri és végzi az újraküldést és szervezi a kapcsolatot. Mindezt természetesen a MAC réteg szolgáltatásainak (keret adása és vétele) felhasználásá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421000"/>
            <a:ext cx="403848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DB0-BC49-41CD-816C-E6FB7481C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álózati rét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álózati réteg a kommunikációs alhálózatok működését vezérl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feladata az adatkapcsolati réteg által elkészített keretek forrás- és célállomás közti útvonalának meghatározása, azaz a forgalomirányítá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álózat általában több alhálózatból áll, melyek felépítése is összetett lehet. Ilyen alhálózatokban két hoszt között több lehetséges útvonal is kialakítható. Természetesen ezek hossza, valamint a sebessége is jelentős mértékben eltérhe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542-5E99-443E-8EAB-086D0F1BAF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hálózati réteg funk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hálózati réteg az útvonalválasztás több lehetséges módját alkalmazhatj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kialakításakor alakítjuk ki az útvonalakat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ommunikáció kezdetén döntünk arról, hogy a teljes üzenet csomagjai milyen útvonalon jussanak el a rendeltetési helyükr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omagonként változó, a hálózat vonalainak terhelését figyelembe vevő alternatív útvonalválasztás lehetsé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DF5-53F4-4F11-9152-53D061FB91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Útvonalmeghatároz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Statikusan: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olyan táblázatok segítségével, amelyek nem változnak, az útvonalak fixen meghatározotta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dinamikusa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ilyenkor a táblázatok állandóan változnak, és a hálózat aktuális helyzetét, térképét adják. Ezzel a módszerrel figyelembe vehető a hálózat terhelése is. Természetesen igaz az, hogy két keret, amelynek ugyanaz a forrás- és célállomása is, nem biztos, hogy ugyanazon az útvonalon keresztül jut el a rendeltetési helyre, hiszen a hálózat pillanatról pillanatra változik. A vételi oldalon a keretek sorrendbe rakása a vevő fela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8EB-16BD-4188-9EB9-6C40B63EA1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apcsolat orientált protokoll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A kapcsolat-orientált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esetben az adatok átvitele előtt szükség van valamiféle kapcsolatfelvételre a két végpont között.  Ez azzal az előnnyel jár, hogy nem kell minden csomagba elhelyeznünk a címzett és a feladó címét, csupán a kapcsolat azonosítóját, valamint a hálózatnak nem kell minden egyes alkalommal kitalálnia, hogy milyen útvonalon továbbítsa a csomagot, hiszen a kapcsolat felépítésekor az útvonal rögzítődi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apcsolatorientáltság legjobb analógiája a telefonhálózat, ahol a beszélgetés a híváskor kiépült vonalon zajlik. Tipikus kapcsolatorientált hálózati protokoll pl.: az X.25, a Frame Relay és az ATM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inden csomag ugyanazon az útvonalon halad, könnyű elérni, hogy a csomagok a feladási sorrendben érkezzenek me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E14-3030-41E7-BFB4-FC9F1496E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apcsolatmentes protokoll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incs szükség kapcsolatfelvételre, ilyenkor a csomagok mindegyikét megcímezzük, és a hálózatra bízzuk továbbításukat. Ilyen például az IP i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datagram hálózatokban elmarad a kapcsolat felépítés által okozott késleltetés. Ez a megoldás ezen felül sokkal robosztusabb is. Ha ugyanis egy kapcsolatorientált hálózatban kiépült kapcsolatunk közepén valamilyen hiba keletkezik, a kapcsolat megszaka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datagram jellegű hálózatok minden csomag egyedi elbírálás alá esik, és ha egy útvonal megszűnik, akkor egy másikon még célba juthat a csomag. Arról, hogy hiba történt, a kommunikáló felek nem is értesülne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datagram jellegű hálózatok legjobb analógiája a postai levéltovábbítás, ahol a megcímzett borítékot postaládába helyezzük, és az előbb vagy utóbb célba ju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datagram jellegű hálózatoknál két csomag nem feltétlenül ugyanazon az útvonalon halad és a később elküldött megelőzheti a korább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453-DB8C-4CF3-88FF-78C8E40655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z OSI mod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7F6-E3BE-487E-AC3B-10E9A28F6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OSI modell általános jellemző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pen System Interconnec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— nyílt rendszerek összekapcsolá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 modell a Nemzetközi Szabványügyi Szervezet (International Standards Organization, ISO) ajánlásán alapul. Ez volt az első lépés a különböző rétegekben használt protokollok szabványosítása ter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yílt rendszereknek az olyan rendszereket hívjuk, amelyek nyitottak a más rendszerekkel való kommunikációr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2E6-4845-4493-9B51-06891A657D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OSI 7 rétegének kialakítási szempontj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 réteg feladata jól definiált legy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étegek feladatának meghatározása a nemzetközileg elfogadott szabványok figyelembe vételével történj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étegek közötti információcsere minimalizálásával kell a rétegek határait megállapíta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étegek száma ne legyen túl kevés, hogy különböző feladatok ne kerüljenek feleslegesen egy rétegbe, de a rétegek száma ne legyen túl sok, hogy az architektúra ne váljon kezelhetetlenn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B7C-4090-4BB8-8103-CA5272C54D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étegmodell szerkezet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odell alsó három rétege a hálózatokhoz kapcsolódik, a rétegek tartalma az aktuális hálózattól függ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első négy réteg alkalmazásfüggő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gyes rétegek a felettük lévők számára szolgálatokat nyújtan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gyik gép n.-edik rétege párbeszédet folytat a másik gép n.-edik rétegé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árbeszéd szabályait az n.-edik réteg protokolljának nevezzü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-1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" y="-1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" y="-1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946-C29E-48E8-9CC0-9F97695CFF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Néhány fontos fogalom értelmezés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Interfész (interface):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 csatlakozási felület, amelyen keresztül a használó igénybe veheti a szolgáltató szolgálatait. Valójában a szolgáltató tevékenységi körének határfelülete, amely a használó elől elfedi a szolgáltató belső tevékenységének részleteit. A szolgáltató a szolgálat definiálásakor meghatározza azt is, hogy e szolgálatokat hogyan lehet igénybe venni az interfészen keresztü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Szolgálat elérési pont (SAP):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interfész azon eleme, amelyen keresztül a használó igénybe veheti a szolgáltató által definiált szolgálatok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Összeköttetés (connection):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peciális szolgálat, amelyben a szolgáltató két szolgálat elérési pont között információt továbbító csatornát hoz létre annak érdekében, hogy az összekötött két használó párbeszédet folytathas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2B1-DCBE-4241-9E4D-8FD368F6C4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OSI hivatkozási mode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371600"/>
            <a:ext cx="640872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9C-50DE-4E34-80C0-665C2D2195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OSI modell rétege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A fizikai réteg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adata: a bitek továbbítása a csatorná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iteket fizikai rétegben az átviteli közegnek megfelelő jelek formájában továbbítju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ovábbítás során a közegben továbbítható fizikai jeleket, vagy azok valamely paramétereit az adatbiteknek megfelelően megváltoztatju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: elektromos vezeték esetén a rajta lévő feszültség értékét, vagy a feszültség változásának irányát, optikai kábel esetén a vezetékbe küldött fény intenzitását, vagy vezeték-nélküli átvitelnél a rádióhullámok frekvenciáját, fázisát vagy amplitúdójá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929-B58C-4299-A925-175CCD586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duláci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digitális jeleket nem lehet messzire elvezetni eredeti, un. alapsávi formájukban. Ezért van szükség arra, hogy egy szinuszos lefolyású (vivő) jel valamelyik paraméterét változtatjuk meg az eredeti bitekke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szinuszos jel paraméterváltoztatása  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moduláció.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lapvető modulációs módszerek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mplitúdómodulációról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(pontosabban amplitúdó billentyűzésről beszélünk), amikor is a szinuszos jel amplitúdóját változtatjuk úgy, hogy a digitális 1 érték  szinuszos jelet „ engedélyezi”, 0 érték pedig tiltj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rekvencia moduláció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estén az 1 és a 0 értékekhez eltérő vivőfrekvencia érték tartozi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ázismodulációnál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a digitális jel a vivőfrekvencia fázisát változtatja meg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adás oldalán a modulációt megvalósító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szközt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modulátornak,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vételi oldalon az eredi jel visszanyerését demodulációnak nevezzük, és ennek eszköze a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 demodulátor. 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mennyiben mind a két funkció egyetlen készülékben egyesül az eszköz neve: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 modem.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D78-DD58-4AAF-AFD5-59CD66EAA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A</cp:lastModifiedBy>
  <dcterms:modified xsi:type="dcterms:W3CDTF">2006-06-23T20:54:02Z</dcterms:modified>
  <cp:revision>98</cp:revision>
  <dc:subject/>
  <dc:title>PowerPoint bemutató</dc:title>
</cp:coreProperties>
</file>