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329A-BC7E-4B9B-A83C-23BBDCDC65DE}"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E075E-ABAF-477C-87B1-0E38EADAD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D1E1-0D4C-4493-8F8C-E985D4A3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D703C-1137-4FB3-B708-AAED4EF0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6CAC-6F66-407D-9470-BCA49E472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50AAF-FA89-4157-8481-838E4B24A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1660E-6A00-47B6-BDFD-016532A6D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56EB0-91D1-49F2-8C2E-EA0A7D099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3F615-FC72-4EDA-9104-00AAC6C8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17BC0-E725-4E8D-A731-FDC9E4EE3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1AE19-CEF0-470F-90B6-6DF466B21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668A9-165E-4DB0-8784-FD77AEF8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21BC-7AD8-4ABF-959D-97EF28C4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D5B4B-D229-4201-B966-B5CC5AA1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A337-1286-400F-88B6-1AAAC836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BF0A3-3DA6-497B-8BDC-2CBB4B172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3BFF1-3FE9-41BB-A745-831E1467A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10AE2-AAB2-4F26-B923-EAAAFD42C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DD862-9514-425E-882F-EA50FF28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BD372-D0FC-4867-AA5D-8D7DDB82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6514C-4A14-4A59-B9A4-DDBC25A1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F880-5674-46DF-892E-9D41425A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1061-B091-4D2E-B6C2-6EA7699D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0257-FDBF-476F-B5C9-D4EACFAB8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D9E3-376B-4C1E-B8BA-86C6E89CD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B258-C53C-451A-91D7-C094F48756E9}"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FA04-3E48-4212-A71E-4B100343A348}"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CCDF-BDEA-49E1-9413-01124792DE74}"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A906-C377-4686-BFBE-293DC39800E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ebni.innen.hu/API" TargetMode="External"/><Relationship Id="rId2" Type="http://schemas.openxmlformats.org/officeDocument/2006/relationships/hyperlink" Target="http://webni.innen.hu/RSSAbrak" TargetMode="External"/><Relationship Id="rId3" Type="http://schemas.openxmlformats.org/officeDocument/2006/relationships/hyperlink" Target="http://www.lexipda.de/" TargetMode="External"/><Relationship Id="rId4" Type="http://schemas.openxmlformats.org/officeDocument/2006/relationships/hyperlink" Target="http://www.lexipda.de/" TargetMode="External"/><Relationship Id="rId5" Type="http://schemas.openxmlformats.org/officeDocument/2006/relationships/hyperlink" Target="http://webni.innen.hu/Wikip_c3_a9dia" TargetMode="External"/><Relationship Id="rId6" Type="http://schemas.openxmlformats.org/officeDocument/2006/relationships/hyperlink" Target="http://webni.innen.hu/GoogleHejes_c3_adr_c3_a1s" TargetMode="External"/><Relationship Id="rId7" Type="http://schemas.openxmlformats.org/officeDocument/2006/relationships/hyperlink" Target="http://webni.innen.hu/Google"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World Wide Web - alapelv</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WWW koncepciójában a már jól ismert kliens-szerver koncepció mellett három - tulajdonképpen eddig szintén ismert -paradigma fonódik össz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ek a hypertext paradigmáj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ypertext utalások kiterjesztése IP hálózatokra gondolat é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ultimédia paradigmáj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E633FA0-AFD4-4447-9241-71829E4DF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ypertext</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paradigma lényege, melyben a lineáris vagy a hierarchikus rendszerű, rendezett szöveg olvasás korlátja megszűnik.</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ektronikus szövegek lineáris olvasásához elegendő egy egyszerű szövegnézegető (viewer).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jellegű rendszerekben a szövegdokumentumokban valamilyen szövegrészekhez rögzítettek kapcsolódó dokumentumaik is. A megjelenítő valamilyen módon kiemelten jeleníti meg ezeket a szövegrészeket. Ezek a kiemelt részek utalások (kapcsolatok, linkek) más dokumentumokra, más szövegekre, szövegrészekre.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böngésző nem csak kiemelten jeleníti meg a szövegrészeket, hanem lehetőséget ad azok kiválasztására is (pl. mutatóval rákattinthatunk).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így biztosított információs rendszer jellegzetesen hálós szerkezetű.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hypertext IP hálózatra való kiterjesztése megszünteti azt a korlátozást, hogy az utalások csak ugyanarra a helyszínre, számítógéprendszerre vonatkozhatnak. Egy-egy kapcsolódó dokumentum helye a hálózaton "akárhol" lehet, ha az utalások megfelelnek az Uniform Resource Locator (URL) szabványnak. </a:t>
            </a:r>
            <a:endParaRPr b="0" lang="en-US" sz="1700" spc="-1" strike="noStrike">
              <a:solidFill>
                <a:srgbClr val="000000"/>
              </a:solidFill>
              <a:latin typeface="Arial"/>
            </a:endParaRPr>
          </a:p>
          <a:p>
            <a:pPr marL="339480" indent="-3394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Végül a multimédia paradigma megszünteti a szövegekre való korlátozást: nemcsak hypertext háló, hanem hypermédia háló alakulhat ki. Hivatkozott dokumentum lehet kép, hanganyag, mozgókép, adatfájl, szolgáltatás stb. is.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E8EABAE-A66A-43AA-836F-8C1163050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URL (Uniform Resource Locator – Egységes forrásazonosító)</a:t>
            </a:r>
            <a:endParaRPr b="1" lang="en-US" sz="35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 egységes forrásazonosító megadja a megjelenítő program számára, hogy az adott szövegrészhez képhez, grafikához kapcsolt dokumentumot milyen módszerrel lehet megjeleníteni, milyen típusú kapcsolatot kell felépíteni illetve hogy ez a forrás hol, az Internetre kapcsolt gépek közül melyiken található. Ilyen azonosítás a következő:</a:t>
            </a:r>
            <a:endParaRPr b="0" lang="en-US" sz="1500" spc="-1" strike="noStrike">
              <a:solidFill>
                <a:srgbClr val="000000"/>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	</a:t>
            </a:r>
            <a:r>
              <a:rPr b="0" lang="hu-HU" sz="1500" spc="-1" strike="noStrike">
                <a:solidFill>
                  <a:srgbClr val="000000"/>
                </a:solidFill>
                <a:latin typeface="Arial"/>
              </a:rPr>
              <a:t>http://helios.date.hu:70/web/inf/index.htm</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apcsolt állomány az index.htm nevet viseli a helios.date.hu gépen lévő web/inf nevű könyvtárban. A kiszolgáló a HTTP protokollal érhető el, amely a Web-szolgáltatáshoz az alapértelmezésként szereplő 80-as port helyett a 70-es portot használja. Az URL a következő információkat tartalmazza:</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protokollt, amelyet az adott forrás eléréséhez használunk. Ezt az URL első tagja adja meg. Ilyen protokollok például az FTP, HTTP, stb.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nnak a kiszolgálónak az Internet-nevét (domain név) vagy címét (IP cím) amelyen az adott forrás található. Ez az információ két perjellel (//) kezdődik és egy (/) zárja le.</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kiszolgáló portjának a számát. Ha ez nem szerepel, akkor a megjelenítő-program az általánosan használt alapértelmezést feltételezi. Ha nem a WWW-hez javasolt 80-as port címet használják akkor ezt az URL-ben a kiszolgáló nevéhez vagy címéhez kettősponttal (:) kapcsolva kell megadni.</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forrás helyét a kiszolgáló lemezegységének hierarchikus állományrendszerében (könyvtár/fájlnév).</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Egy adott HTML-kapcsolaton belül az azonos könyvtárban lévő állományok eléréséhez nem kell a teljes keresési útvonalat megadni. Ha egy dokumentumot elértünk a rendszeren, ez már bizonyos információkat szolgáltat a következő kapcsolat felépítéséhez.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5669B2E-9FB4-414F-B5E9-1033B43CB6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HTTP protokoll </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WWW kliensek a böngészőprogramok, a tallózók.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épesek a Hyper Text Markup Language (HTML) direktíváival kiegészített szövegek megjelenítésére, bennük az utalásokhoz rendelt szövegrészek kiemelt kezelésére, a kiemelt szövegek kiválasztásár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épesek bizonyos kép dokumentumok megjelenítésére, ezekben kiemelések kiválasztására, hangfájlok, videók lejátszására, vagy közvetlenül, vagy valamilyen segédprogram aktiválásáva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erverek pedig képesek szöveg-, kép-, hang- és videó fájlokat megkeresni saját fájlrendszerükben, és azokat elküldeni a kliensnek megjelenítésre.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712838-7B81-4B4C-9BAB-982FC9BAD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ttp kommunikáció</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kliens és szerver között üzenetváltások jellegzetesen négy lépéses forgatókönyv szerint történnek a Hyper Text Transport Protocol (HTTP) szabályozása alatt. </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ső lépés a kapcsolat-létesítés (connection): ezt a kliens kezdeményezi, hozzá legfontosabb információ a szerver azonosítója.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sodik lépésben a kliens kérelmet (request) küld a kapcsolaton a szervernek, ebben közli, hogy milyen protokollal, melyik dokumentumot kéri (nem részletezzük, de az átviteli eljárás, a method is paramétere a kérelemnek).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után a szerver megkeresi a kért dokumentumot és válaszol (response): a kapcsolaton leküldi a kért dokumentumot. </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égül a kapcsolat lezárul (close). Mindezek után a kliens felelőssége, hogy mit is csinál a leküldött dokumentummal.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91B2A2E-FCAC-44B2-A3F8-400EBB0A2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WWW alkalmazások fejlesztésének eszközei - html</a:t>
            </a: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okumentumok logikai struktúráját a HTML (Hyper Text Markup Language) jelölései segítségével lehet szabályozni. 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TML arra készült, hogy segítségével a dokumentumok szokásos, sorban egymás utáni olvasása helyett, a szövegben elhelyezett kapcsolatok alapján az egész dokumentum könnyebben legyen áttekinthető és elolvasható.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egítségével logikusan szervezett és felépített dokumentumokat lehet készíteni, olyan módon hogy a nyelv alkalmas logikai kapcsolatok létrehozására a dokumentumon belül és dokumentumok között, amit a dokumentum olvasója kezelhe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dokumentum fogalmát itt általánosabban kell értelmeznünk: ezek objektumok, amelyek lehetnek: szöveg, kép(grafika), hang (zene), de akár mozgókép (film) is.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2F7D1CF-B799-4223-85AA-A2068B72C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ap HTML szerkezeti elemek </a:t>
            </a:r>
            <a:endParaRPr b="1" lang="en-US" sz="3900" spc="-1" strike="noStrike">
              <a:solidFill>
                <a:srgbClr val="330066"/>
              </a:solidFill>
              <a:latin typeface="Arial"/>
            </a:endParaRPr>
          </a:p>
        </p:txBody>
      </p:sp>
      <p:graphicFrame>
        <p:nvGraphicFramePr>
          <p:cNvPr id="128" name=""/>
          <p:cNvGraphicFramePr/>
          <p:nvPr/>
        </p:nvGraphicFramePr>
        <p:xfrm>
          <a:off x="457200" y="1719360"/>
          <a:ext cx="8229600" cy="4813200"/>
        </p:xfrm>
        <a:graphic>
          <a:graphicData uri="http://schemas.openxmlformats.org/drawingml/2006/table">
            <a:tbl>
              <a:tblPr/>
              <a:tblGrid>
                <a:gridCol w="2468520"/>
                <a:gridCol w="576108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html&gt;...&lt;/html&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orráskódot ezen jelek közé kell zárni, ez jelzi a dokumentum elejét és végé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head&gt;...&lt;/head&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ejléc elejét és végét jelzi, ezen belül kerülnek a fejléc elemek.</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title&gt;...&lt;/title&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TML oldal címe, ezt olvashatjuk a Netscape fejlécében, és ezt "jegyzi meg" a Bookmark i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1971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body&gt;...&lt;/body&g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HTML dokumentum "teste". Lehet hátteret is csinálni: body background="nev.jpg" vagy "nev.gif" mozaikként bekerül a háttérb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47828EB-1508-4B06-BF6C-00BD4D2DC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500" spc="-1" strike="noStrike">
                <a:solidFill>
                  <a:srgbClr val="330066"/>
                </a:solidFill>
                <a:latin typeface="Arial"/>
              </a:rPr>
              <a:t>A CGI - </a:t>
            </a:r>
            <a:r>
              <a:rPr b="1" lang="hu-HU" sz="3900" spc="-1" strike="noStrike">
                <a:solidFill>
                  <a:srgbClr val="330066"/>
                </a:solidFill>
                <a:latin typeface="Arial"/>
              </a:rPr>
              <a:t>Common Gateway Interface </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WW böngészők nem csak a HTTP protokollt ismerik, hanem más protokollok segítségével nemcsak WWW szolgáltatókkal tudnak kapcsolatot létesíteni, azoktól szolgáltatásokat kérni. </a:t>
            </a:r>
            <a:endParaRPr b="0" lang="en-US" sz="17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Rendszerint képesek FTP protokollon keresztül állomány átvitel szolgáltatások igénylésére (ekkor a kapcsolat végigéli az FTP ülést), </a:t>
            </a:r>
            <a:endParaRPr b="0" lang="en-US" sz="15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TELNET protokollal távoli elérésre (ugyancsak végig van kapcsolat az ülés alatt), </a:t>
            </a:r>
            <a:endParaRPr b="0" lang="en-US" sz="1500" spc="-1" strike="noStrike">
              <a:solidFill>
                <a:srgbClr val="000000"/>
              </a:solidFill>
              <a:latin typeface="Arial"/>
            </a:endParaRPr>
          </a:p>
          <a:p>
            <a:pPr lvl="1" marL="671400" indent="-33732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POP3 protokollal levélszekrények vizsgálatára, letöltésére, SMTP vagy MIME protokollal levelek feladására (kapcsolat levéltovábbító ügynök szolgáltatóhoz), a USENET NEWS levelek olvasására. </a:t>
            </a:r>
            <a:endParaRPr b="0" lang="en-US" sz="15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Mindezekhez viszonylag egységes felhasználói felületet biztosítanak, innen adódik tehát az a téveszme, hogy az Internet az a WWW, vagy fordítva: hiszen egy jó WWW tallózó szinte minden szolgáltatást biztosít, amit az Interneten elérhetünk.</a:t>
            </a:r>
            <a:endParaRPr b="0" lang="en-US" sz="1700" spc="-1" strike="noStrike">
              <a:solidFill>
                <a:srgbClr val="000000"/>
              </a:solidFill>
              <a:latin typeface="Arial"/>
            </a:endParaRPr>
          </a:p>
          <a:p>
            <a:pPr marL="332640" indent="-33264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WWW szolgáltatóknak további szolgáltatása a legegyszerűbb "programozási" lehetőség az, hogy bizonyos szolgáltatók megengedik, hogy különben kommentárnak számító HTML direktíva a szolgáltató parancs-értelmezőjének szóló burok parancs legyen. A szerver elindítja a parancsértelmezőt, végrehajtatja a parancsot, az eredményeit pedig szövegfájl válaszként elküldi a kliensnek megjelenítésre. A Common Gateway Interface (CGI) protokoll szerint akár paramétereket is küldhetünk a kliensből a CGI programnak, a CGI program akár bele is írhat az utoljára megjelenített dokumentumba.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FBFAAE8-127F-47E0-A725-F83A582F1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 Extensible Markup Language </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XML (Extensible Markup Language) egy leíró nyelv, a strukturált információkat tartalmazó dokumentumok számára.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trukturált információk kétféle dolgot tartalmaznak: egyrészt tartalmat (szöveg, képek) másrészt információkat a tartalom struktúrájáról (például, hogy az adott helyen lévő szöveg a fejléc lábléc vagy fejezetcím).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leíró nyelv pedig egy mechanizmus arra, hogy ezeket a struktúrákat azonosítsuk a dokumentumba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XML specifikáció azt definiálja, hogy milyen módón írható le egységesen a dokumentum. A "dokumentum" szó mögött nem a hagyományos értelemben vett dokumentumot kell érteni, hanem más XML adatformátumok sokaságát. Ilyenek lehetnek például vektor grafikák, E-commerce tranzakciók, matematikai egyenletek, stb.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414C2E7-A24E-4ACB-B66A-349E1D4E9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HP - Hypertext Preprocessor</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Mára már a PHP a legelterjedtebb tartalomgenerátor a HTML oldalakhoz, a PHP-t használó weboldalak száma több millióra tehető.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nyelv (amint azt a neve is jelzi) kezdettől fogva a HTML oldalakba ágyazásra lett tervezve, a fejlesztőkörnyezetek is eleve úgy vannak kialakítva, hogy Web szerverhez kapcsolódnak, és a programot ezen keresztül futtatják, az eredményt pedig weboldalként jelenítik meg.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éleskörű használat következményeként rengeteg kiegészítése készült, adatbázis kezeléstől képkonvertáláson át grafikus kezelőfelületig rengeteg mindent tudunk készíteni a segítségével.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TML-be ágyazottságból kifolyólag alapvetően weboldalak forrásába írunk PHP programot, így meg kell különböztetnünk a dokumentum egyéb részeitől.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6714EFA-AFE2-430B-BF5B-82B8954341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ámítógép-hálózato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ternet szolgáltatások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EE1D98BD-4A14-4D38-B8A2-41E7ECCCB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JAVA programozási nyelv </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Java az Internet közvetlen tartozékának tűnik. Javában viszonylag egyszerű alkalmazásokat írni, az Interneten keresztül más gépek felé adatokat továbbítani, grafikákat, interaktív weboldalakat, felületeket létrehozni.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Természetesen minden más programozói feladat is megoldható, amire a klasszikus programozási nyelvek képese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ppletek</a:t>
            </a:r>
            <a:r>
              <a:rPr b="0" lang="hu-HU" sz="1700" spc="-1" strike="noStrike">
                <a:solidFill>
                  <a:srgbClr val="000000"/>
                </a:solidFill>
                <a:latin typeface="Arial"/>
              </a:rPr>
              <a:t>: Az applet olyasmit jelent, mint “kis alkalmazás”, ami alatt a következőt kell értenünk: az appletek nem önálló programok, hanem mindig egy meghatározott környezetet igényelnek, amiben egyáltalán képesek létezni és végrehajtódni. Ezt a környezetet a WWW böngészők jelentik, amelyeknek természetesen “Java-képesnek” kell lenniük.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700" spc="-1" strike="noStrike">
                <a:solidFill>
                  <a:srgbClr val="000000"/>
                </a:solidFill>
                <a:latin typeface="Arial"/>
              </a:rPr>
              <a:t>Alkalmazások (programok) </a:t>
            </a:r>
            <a:r>
              <a:rPr b="0" lang="hu-HU" sz="1700" spc="-1" strike="noStrike">
                <a:solidFill>
                  <a:srgbClr val="000000"/>
                </a:solidFill>
                <a:latin typeface="Arial"/>
              </a:rPr>
              <a:t>Ellentétben az appletekkel, az alkalmazások teljes értékű önálló programok, amelyek végrehajtásához nincs szükség böngészőre vagy más speciális környezetre. (leszámítva a Java-értelmezőt). Az önálló programok futtatásához a Java interpreterét kell használnunk, ez egy olyan speciális program, amely a Java virtuális kódját processzorspecifikus bináris utasításokká fordítja. Az így futtatott alkalmazásoknak olyan képességeik vannak, amelyekkel az appletek nem rendelkeznek, például fájlműveleteket tudnak végezni.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E68F69-6D72-4A29-AA54-8048C5A15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nformációkeresés az Interneten</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web robotok, vagy ügynökök olyan számítógépes programok, melyeknek célja az Internet oldalain történő adatgyűjtés vagy keresés. Jellemzi őket az önállóság, és a rekurzivitá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Önállóság</a:t>
            </a:r>
            <a:r>
              <a:rPr b="0" lang="hu-HU" sz="1900" spc="-1" strike="noStrike">
                <a:solidFill>
                  <a:srgbClr val="000000"/>
                </a:solidFill>
                <a:latin typeface="Arial"/>
              </a:rPr>
              <a:t> – bizonyos előre meghatározott korlátok között a működésüket emberi beavatkozás és irányítás nélkül végzik.</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Rekurzivitás</a:t>
            </a:r>
            <a:r>
              <a:rPr b="0" lang="hu-HU" sz="1900" spc="-1" strike="noStrike">
                <a:solidFill>
                  <a:srgbClr val="000000"/>
                </a:solidFill>
                <a:latin typeface="Arial"/>
              </a:rPr>
              <a:t> – egy adott pontról kiindulva, képesek bejárni az összes olyan oldalt, mely a kiindulási ponttal közvetlen kapcsolatban áll, majd képesek a kapcsolt oldalt mint kiindulási pontot tekinteni és a folyamatot egészen addig folytatni, amíg valamilyen kilépési feltétel érvényre nem ju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datbázisban tárolt indexeken alapuló keresés: A rendszer központi eleme az adatbázis, amelyben az egyes oldalak címei illetőleg az oldalakra valamilyen szempont szerint jellemző szavak és szókapcsolatok tárolódnak.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 gyűjtését és rendszerezését emberek végzik</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at emberek küldik, az ellenőrzést viszont gép végzi</a:t>
            </a:r>
            <a:r>
              <a:rPr b="0" lang="hu-HU" sz="1700" spc="-1" strike="noStrike">
                <a:solidFill>
                  <a:srgbClr val="000000"/>
                </a:solidFill>
                <a:latin typeface="Arial"/>
              </a:rPr>
              <a:t>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datokat egy önműködő program, egy web robot gyűjt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92D909D-8A25-4FB2-8234-F00423780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oldalak változásait figyelő ügynökök </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ktív böngésző rendszere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Tükröző (Mirroring) roboto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Statisztikai robotok</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1" name="" descr=""/>
          <p:cNvPicPr/>
          <p:nvPr/>
        </p:nvPicPr>
        <p:blipFill>
          <a:blip r:embed="rId1"/>
          <a:stretch/>
        </p:blipFill>
        <p:spPr>
          <a:xfrm>
            <a:off x="4356000" y="2205000"/>
            <a:ext cx="3943440" cy="265752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0A44673-903F-46B5-A71B-9769E8374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Web2 </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Webhelyek feletti tartalomforrások: A Web első generációjával ellentétben a hangsúly inkább azon van, egy adott adathalmazt, tartalmat milyen módon dolgozza fel, csoportosítja, jeleníti meg egy adott webhely. A feldolgozott tartalom eredete egyre kevésbé fontos, megszűnik annak röghöz kötöttsége, mert nemcsak az eredeti webhely tervezői szerinti formában érhető el, hanem szabadon felhasználható más oldalak által is. Ehhez le kell bontani mind a jogi, mind a technikai akadályok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lőbbit a liberális licenc-feltételekkel, utóbbit a különböző programozási nyelvek által elérhető hozzáférés lehetőségével, ún. </a:t>
            </a:r>
            <a:r>
              <a:rPr b="0" lang="hu-HU" sz="1700" spc="-1" strike="noStrike" u="sng">
                <a:solidFill>
                  <a:srgbClr val="7e9ce8"/>
                </a:solidFill>
                <a:uFillTx/>
                <a:latin typeface="Arial"/>
                <a:hlinkClick r:id="rId1"/>
              </a:rPr>
              <a:t>API</a:t>
            </a:r>
            <a:r>
              <a:rPr b="0" lang="hu-HU" sz="1700" spc="-1" strike="noStrike">
                <a:solidFill>
                  <a:srgbClr val="000000"/>
                </a:solidFill>
                <a:latin typeface="Arial"/>
              </a:rPr>
              <a:t>-kkal, vagy </a:t>
            </a:r>
            <a:r>
              <a:rPr b="0" lang="hu-HU" sz="1700" spc="-1" strike="noStrike" u="sng">
                <a:solidFill>
                  <a:srgbClr val="7e9ce8"/>
                </a:solidFill>
                <a:uFillTx/>
                <a:latin typeface="Arial"/>
                <a:hlinkClick r:id="rId2"/>
              </a:rPr>
              <a:t>RSS abrak</a:t>
            </a:r>
            <a:r>
              <a:rPr b="0" lang="hu-HU" sz="1700" spc="-1" strike="noStrike">
                <a:solidFill>
                  <a:srgbClr val="000000"/>
                </a:solidFill>
                <a:latin typeface="Arial"/>
              </a:rPr>
              <a:t>ok felhasználásával lehet elérni.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tartalom relatíve egyszerű átvételére jó példa a </a:t>
            </a:r>
            <a:r>
              <a:rPr b="0" lang="hu-HU" sz="1700" spc="-1" strike="noStrike" u="sng">
                <a:solidFill>
                  <a:srgbClr val="7e9ce8"/>
                </a:solidFill>
                <a:uFillTx/>
                <a:latin typeface="Arial"/>
                <a:hlinkClick r:id="rId3"/>
              </a:rPr>
              <a:t>http://www.lexipda.de</a:t>
            </a:r>
            <a:r>
              <a:rPr b="0" lang="hu-HU" sz="1700" spc="-1" strike="noStrike" u="sng">
                <a:solidFill>
                  <a:srgbClr val="7e9ce8"/>
                </a:solidFill>
                <a:uFillTx/>
                <a:latin typeface="Arial"/>
                <a:hlinkClick r:id="rId4"/>
              </a:rPr>
              <a:t>/</a:t>
            </a:r>
            <a:r>
              <a:rPr b="0" lang="hu-HU" sz="1700" spc="-1" strike="noStrike">
                <a:solidFill>
                  <a:srgbClr val="000000"/>
                </a:solidFill>
                <a:latin typeface="Arial"/>
              </a:rPr>
              <a:t> , ami a </a:t>
            </a:r>
            <a:r>
              <a:rPr b="0" lang="hu-HU" sz="1700" spc="-1" strike="noStrike" u="sng">
                <a:solidFill>
                  <a:srgbClr val="7e9ce8"/>
                </a:solidFill>
                <a:uFillTx/>
                <a:latin typeface="Arial"/>
                <a:hlinkClick r:id="rId5"/>
              </a:rPr>
              <a:t>Wikipédia</a:t>
            </a:r>
            <a:r>
              <a:rPr b="0" lang="hu-HU" sz="1700" spc="-1" strike="noStrike">
                <a:solidFill>
                  <a:srgbClr val="000000"/>
                </a:solidFill>
                <a:latin typeface="Arial"/>
              </a:rPr>
              <a:t> tartalmát jeleníti meg leegyszerűsített, PDA-kra optimalizált formában, az API-k felhasználására pedig a </a:t>
            </a:r>
            <a:r>
              <a:rPr b="0" lang="hu-HU" sz="1700" spc="-1" strike="noStrike" u="sng">
                <a:solidFill>
                  <a:srgbClr val="7e9ce8"/>
                </a:solidFill>
                <a:uFillTx/>
                <a:latin typeface="Arial"/>
                <a:hlinkClick r:id="rId6"/>
              </a:rPr>
              <a:t>GoogleHejesírás</a:t>
            </a:r>
            <a:r>
              <a:rPr b="0" lang="hu-HU" sz="1700" spc="-1" strike="noStrike">
                <a:solidFill>
                  <a:srgbClr val="000000"/>
                </a:solidFill>
                <a:latin typeface="Arial"/>
              </a:rPr>
              <a:t>, ami a </a:t>
            </a:r>
            <a:r>
              <a:rPr b="0" lang="hu-HU" sz="1700" spc="-1" strike="noStrike" u="sng">
                <a:solidFill>
                  <a:srgbClr val="7e9ce8"/>
                </a:solidFill>
                <a:uFillTx/>
                <a:latin typeface="Arial"/>
                <a:hlinkClick r:id="rId7"/>
              </a:rPr>
              <a:t>Google</a:t>
            </a:r>
            <a:r>
              <a:rPr b="0" lang="hu-HU" sz="1700" spc="-1" strike="noStrike">
                <a:solidFill>
                  <a:srgbClr val="000000"/>
                </a:solidFill>
                <a:latin typeface="Arial"/>
              </a:rPr>
              <a:t> adatbázisát használja fel helyesírási kérdések "eldöntésére".  </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A felhasználók Web2.0-ja</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Mindenki írhat weboldalt</a:t>
            </a:r>
            <a:r>
              <a:rPr b="0" lang="hu-H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900" spc="-1" strike="noStrike">
                <a:solidFill>
                  <a:srgbClr val="000000"/>
                </a:solidFill>
                <a:latin typeface="Arial"/>
              </a:rPr>
              <a:t>Operációs rendszer és a web egymásba gabalyodása</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7FB7506-5C85-4329-A125-099F9B00DC3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kalmazási protokollok </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MTP Simple Mail Transfer Protocol egy alkalmazási protokoll, amely a hálózati felhasználók egymással való kommunikációját teszi lehetővé. Leveleket tud küldeni és fogadni.</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TELNET Terminál emuláció segítségével a saját gépét terminálnak használva egy távoli hosztra felhasználóként lehet bejelentkezni.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TP File Transfer Protocol. A fájl átviteli eljárás segítségével a felhasználónak lehetővé teszi az általános könyvtár és fájlműveletek végrehajtását a saját gépe és egy távoli hoszt lemezegysége között. Pl.: fájlokat vihet át, törölhet, átnevezhet fájloka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GOPHER Hierarchikusan felépített információban kereső protokol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HTTP HyperText Transport Protoco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C2C2990-D5F1-4C2B-BFCA-6E486AF2D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ktronikus levelezés </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gyik legalapvetőbb szolgáltatás az elektronikus levelezés. Ez az alkalmazás az SMTP (Simple Mail Transfer Protocol -- egyszerű levéltovábbítási protokoll) –re épü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Levelezni valamilyen levelező programmal lehet. Mindegyik megvalósítja az alábbi funkciókat: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küldése közvetlenül, vagy egy listán szereplő címzetteknek (send),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apott levelek tartalomjegyzék-szerű listázása a levél témája (subject) mezőket mutatva,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álasz adott levélre (reply),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ovábbküldése (forward), </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árolása különböző irattartókba (folderekbe),</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evél törlése (delet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EBF8E82-1827-4736-B8BB-3D76C3090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ektronikus levelezés működése</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velezőprogram a megírt levelet általában nem közvetlenül a címzettnek adja, hanem egy úgynevezett SMTP szervernek adja á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SMTP szerver feladata, hogy a levelet továbbítsa, vagy az esetleg sikertelen levélküldést újra-újra próbálja. Ahhoz, hogy az SMTP szolgáltatást igénybe vehesse a levelezőprogramunk, vagyis képes legyen levelet küldeni, be kell állítanunk az SMTP szerver címét. Általában ez a mail.sajatzonank.hu nevű gépet jele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SMTP szerver kikeresi a neki átadott levélből a címzett e-mail címét és átadja a levelet célcímen működő SMTP szervernek. Az ottani SMTP szerver beteszi a címzett személy postaládájába az általunk küldött levele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postaláda általában nem a felhasználó saját gépén található, hanem az Internet szolgáltatónál egy erre a célra üzembe helyezett számítógépen. Vállalati levelezés esetén is általában egy központi számítógép tárolja a beérkezett leveleket.</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beérkező leveleinket tároló szerver címét az Internet szolgáltatónktól vagy a rendszergazdánktól kell megkapnunk. Tudnunk kell azt is hogy melyik protokollt lehet használnunk. A POP3 vagy IMAP szerver nevét és a levelesládánk nevét a levelezőprogramunkban be kell állítanunk.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29C242F-C406-426E-9524-21D750E4CD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ok átvitele - FTP - File transfer protokoll </a:t>
            </a:r>
            <a:endParaRPr b="1" lang="en-US" sz="3900" spc="-1" strike="noStrike">
              <a:solidFill>
                <a:srgbClr val="330066"/>
              </a:solidFill>
              <a:latin typeface="Arial"/>
            </a:endParaRPr>
          </a:p>
        </p:txBody>
      </p:sp>
      <p:pic>
        <p:nvPicPr>
          <p:cNvPr id="108" name="" descr=""/>
          <p:cNvPicPr/>
          <p:nvPr/>
        </p:nvPicPr>
        <p:blipFill>
          <a:blip r:embed="rId1"/>
          <a:stretch/>
        </p:blipFill>
        <p:spPr>
          <a:xfrm>
            <a:off x="2146320" y="1719360"/>
            <a:ext cx="4851360" cy="44114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EF45F1F3-D255-4D19-8FA1-4A81C789E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FTP kliens program felhasználói felülete </a:t>
            </a:r>
            <a:endParaRPr b="1" lang="en-US" sz="3900" spc="-1" strike="noStrike">
              <a:solidFill>
                <a:srgbClr val="330066"/>
              </a:solidFill>
              <a:latin typeface="Arial"/>
            </a:endParaRPr>
          </a:p>
        </p:txBody>
      </p:sp>
      <p:pic>
        <p:nvPicPr>
          <p:cNvPr id="110" name="" descr=""/>
          <p:cNvPicPr/>
          <p:nvPr/>
        </p:nvPicPr>
        <p:blipFill>
          <a:blip r:embed="rId1"/>
          <a:stretch/>
        </p:blipFill>
        <p:spPr>
          <a:xfrm>
            <a:off x="1692360" y="1341360"/>
            <a:ext cx="5975280" cy="48722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596F28EA-AD23-4D79-A95A-B58031B409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ELNET </a:t>
            </a:r>
            <a:endParaRPr b="1" lang="en-US" sz="3900" spc="-1" strike="noStrike">
              <a:solidFill>
                <a:srgbClr val="330066"/>
              </a:solidFill>
              <a:latin typeface="Arial"/>
            </a:endParaRPr>
          </a:p>
        </p:txBody>
      </p:sp>
      <p:pic>
        <p:nvPicPr>
          <p:cNvPr id="112" name="" descr=""/>
          <p:cNvPicPr/>
          <p:nvPr/>
        </p:nvPicPr>
        <p:blipFill>
          <a:blip r:embed="rId1"/>
          <a:stretch/>
        </p:blipFill>
        <p:spPr>
          <a:xfrm>
            <a:off x="1692360" y="1620720"/>
            <a:ext cx="5688000" cy="4550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8AFBE9D-70B4-4381-9B2F-4F638E21E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liens-szerver kommunikáció </a:t>
            </a:r>
            <a:endParaRPr b="1" lang="en-US" sz="3900" spc="-1" strike="noStrike">
              <a:solidFill>
                <a:srgbClr val="330066"/>
              </a:solidFill>
              <a:latin typeface="Arial"/>
            </a:endParaRPr>
          </a:p>
        </p:txBody>
      </p:sp>
      <p:pic>
        <p:nvPicPr>
          <p:cNvPr id="114" name="" descr=""/>
          <p:cNvPicPr/>
          <p:nvPr/>
        </p:nvPicPr>
        <p:blipFill>
          <a:blip r:embed="rId1"/>
          <a:stretch/>
        </p:blipFill>
        <p:spPr>
          <a:xfrm>
            <a:off x="900000" y="2063880"/>
            <a:ext cx="7056720" cy="35748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57DA209-DD8A-44CF-B865-9BE162037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Herdon Miklós</cp:lastModifiedBy>
  <dcterms:modified xsi:type="dcterms:W3CDTF">2006-06-18T15:32:23Z</dcterms:modified>
  <cp:revision>88</cp:revision>
  <dc:subject/>
  <dc:title>PowerPoint bemutató</dc:title>
</cp:coreProperties>
</file>