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7C01-3A40-4BF8-8CB7-D6D3F152F03E}"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C6D71-CEAF-4E69-AFB5-68BF0F891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F27F8-FA2A-49BD-B95A-3A4FF0306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26B82-FC88-4D91-9D75-8C6638C8E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71702-2F35-48A7-9467-BA8B40FB7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73D52-0AFE-4C3A-A7D2-E7D4FC070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258B2-4150-4723-9861-50062D22B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9742D-EB07-4667-96DE-CBCD4506F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34F5E-D31B-4FBE-9EFF-D04C0AF0F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57C14-B67E-4CC1-9899-065B4A668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FED97-BC90-40A8-8479-C30188ECE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5F1A5-56B0-4177-83A8-271ABBFCD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BF688-76AC-4B08-B0C3-2641C04F9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AF7A2-F66B-484E-BD24-CCBD08E73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20369-13CB-48A3-85EE-A2A0690A1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8F375-3ABD-4CA8-8A89-157114318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7C085-EA77-4B90-80A7-9B3F2607F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DF35C-A20D-4528-ABFC-CF936538B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9484F-06D5-4832-91B5-C1A271EDD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839FD-EB4E-46BE-8A00-2B23F2556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E305B-5C68-4E8A-97F5-3F2B61ADD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72152-D9C1-4D27-8BF6-6E96C6622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49CDF-1AE0-49E3-8E1C-CECE225B3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2327B-E3D8-4CEA-ABA0-3732C9D7C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B8BE5-3390-4C71-B58C-4DA448DF4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58BC-233A-41B3-A27E-DABBD6A07D15}"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DB24-896E-4ADB-8DE5-C1B6759900F6}"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9212-BAAF-47AD-9FC3-B539436152BB}"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7C27-E8B4-498E-893C-E97B6309F169}"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Számítógép-hálózatok</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Herdon Mikló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Kovács Györ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agó Zsolt</a:t>
            </a: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DE AVK GAIT</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gyüttműködési vagy viszony réteg (session layer)</a:t>
            </a: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számítógépek a kommunikáció során kialakítanak egy viszonyt egymás között. Ilyen viszony lehet a bejelentkezés egy terminálról egy távoli számítógépre, vagy állomány továbbítás két gép közöt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egyszerű adatátvitelt kiegészíti, néhány praktikus szolgáltatással pl.:</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000000"/>
                </a:solidFill>
                <a:latin typeface="Arial"/>
              </a:rPr>
              <a:t>A kölcsönhatás-menedzselés</a:t>
            </a:r>
            <a:r>
              <a:rPr b="0" lang="hu-HU" sz="1900" spc="-1" strike="noStrike">
                <a:solidFill>
                  <a:srgbClr val="000000"/>
                </a:solidFill>
                <a:latin typeface="Arial"/>
              </a:rPr>
              <a:t> vezérli, hogy a két oldal egyszerre ne próbálkozzon ugyanazzal a művelettel. Ez például úgy oldható meg, hogy vezérlőjelet tartanak fent, és csak az az oldal végezheti az adott műveletet, amelyiknél ez a vezérlőjel van.</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a:t>
            </a:r>
            <a:r>
              <a:rPr b="0" i="1" lang="hu-HU" sz="1900" spc="-1" strike="noStrike">
                <a:solidFill>
                  <a:srgbClr val="000000"/>
                </a:solidFill>
                <a:latin typeface="Arial"/>
              </a:rPr>
              <a:t>szinkronizáció</a:t>
            </a:r>
            <a:r>
              <a:rPr b="0" lang="hu-HU" sz="1900" spc="-1" strike="noStrike">
                <a:solidFill>
                  <a:srgbClr val="000000"/>
                </a:solidFill>
                <a:latin typeface="Arial"/>
              </a:rPr>
              <a:t> egy másik fontos szolgáltatás. Az átvitel lehetetlen lenne egy nagyméretű, hosszú átviteli időt igénylő állomány esetén, a hálózat időnként előforduló hibája miatt, ha a hálózati hiba miatt az átvitelt mindig az elejétől kellene kezdeni. Ha az adatfolyamba megfelelő számú ellenőrzési pontot iktatnak be, a hiba megszünte után az átvitelt csak az utolsó ellenőrzési ponttól kell megismételni</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D56C8BB-8F65-4BC0-8D03-99C3B5F088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egjelenítési réteg</a:t>
            </a:r>
            <a:r>
              <a:rPr b="0" lang="hu-HU" sz="3900" spc="-1" strike="noStrike">
                <a:solidFill>
                  <a:srgbClr val="330066"/>
                </a:solidFill>
                <a:latin typeface="Arial"/>
              </a:rPr>
              <a:t> </a:t>
            </a: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feladata az adatok egységes kezelése. A viszonyréteg fölött helyezkedik el, és olyan szolgáltatásokat ad, amelyekre a legtöbb alkalmazói programnak szüksége van, amikor a hálózatot használja.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Foglalkozik a hálózaton továbbítandó adatok ábrázolásával, hiszen munkák során általában nem bináris számokkal dolgozunk, hanem annak valamilyen, az ember számára értelmezhetőbb megjelenési formájával.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Általában a kódolás sem minden esetben egységes, pl. a karakterek kódolására az ASCII mellett az EBCDIC kód is használatos. Más lehet egy több bájtos kód esetén az egyes bájtok sorrendje. Ezért egységes, absztrakt adatstruktúrákat kell kialakítani, amelyek kezelését a megjelenítési réteg végzi.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a a kommunikáló gépek között adatábrázolási különbség van, akkor a hálózati kapcsolat során átvitt adatokat átalakítani, konvertálni kell. Továbbá ebben a rétegben lehet megvalósítani a titkosítást és a tömörítést.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D887AB0-DB77-4392-A04B-B871FFE2BF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tömörítés </a:t>
            </a:r>
            <a:endParaRPr b="1" lang="en-US" sz="3900" spc="-1" strike="noStrike">
              <a:solidFill>
                <a:srgbClr val="330066"/>
              </a:solidFill>
              <a:latin typeface="Arial"/>
            </a:endParaRPr>
          </a:p>
        </p:txBody>
      </p:sp>
      <p:sp>
        <p:nvSpPr>
          <p:cNvPr id="1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szimmetrikus</a:t>
            </a:r>
            <a:r>
              <a:rPr b="0" lang="hu-HU" sz="3000" spc="-1" strike="noStrike">
                <a:solidFill>
                  <a:srgbClr val="000000"/>
                </a:solidFill>
                <a:latin typeface="Arial"/>
              </a:rPr>
              <a:t>: azonos idejű a tömörítéshez használt kódolás és a dekódolá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aszimmetrikus</a:t>
            </a:r>
            <a:r>
              <a:rPr b="0" lang="hu-HU" sz="3000" spc="-1" strike="noStrike">
                <a:solidFill>
                  <a:srgbClr val="000000"/>
                </a:solidFill>
                <a:latin typeface="Arial"/>
              </a:rPr>
              <a:t>: a dekódolás (kicsomagolás) rövidebb.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83E8C80-9E36-4F01-A7AB-F005CCBD90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éhány tömörítési eljárás: </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000000"/>
                </a:solidFill>
                <a:latin typeface="Arial"/>
              </a:rPr>
              <a:t>Darabszám-kódolás:</a:t>
            </a:r>
            <a:r>
              <a:rPr b="0" lang="hu-HU" sz="1900" spc="-1" strike="noStrike">
                <a:solidFill>
                  <a:srgbClr val="000000"/>
                </a:solidFill>
                <a:latin typeface="Arial"/>
              </a:rPr>
              <a:t> Ha egy adathalmazban sok egymás után következő azonos szimbólum fordul elő, célszerű egy külön szimbólumot fenntartani az ismétlődés jelzésére, és utána következik az ismétlődő szimbólum, míg az azt követő számérték jelzi az ismétlődő szimbólumok számát. Például a felkiáltó jel legyen az ismétlődés jelző. Ekkor !A30 azt jelenti, hogy 30 A betű következik egymás után.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000000"/>
                </a:solidFill>
                <a:latin typeface="Arial"/>
              </a:rPr>
              <a:t>Szimbólumsor-helyettesítés:</a:t>
            </a:r>
            <a:r>
              <a:rPr b="0" lang="hu-HU" sz="1900" spc="-1" strike="noStrike">
                <a:solidFill>
                  <a:srgbClr val="000000"/>
                </a:solidFill>
                <a:latin typeface="Arial"/>
              </a:rPr>
              <a:t> gyakori azonos szimbólumsor helyett egy speciális szimbólum. Pl.: a tabulátor, amely 8 szóközt ér.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000000"/>
                </a:solidFill>
                <a:latin typeface="Arial"/>
              </a:rPr>
              <a:t>Minta helyettesítés:</a:t>
            </a:r>
            <a:r>
              <a:rPr b="0" lang="hu-HU" sz="1900" spc="-1" strike="noStrike">
                <a:solidFill>
                  <a:srgbClr val="000000"/>
                </a:solidFill>
                <a:latin typeface="Arial"/>
              </a:rPr>
              <a:t> gyakori szimbólumsorozat helyettesítése speciális szimbólummal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000000"/>
                </a:solidFill>
                <a:latin typeface="Arial"/>
              </a:rPr>
              <a:t>Statisztikai kódolás:</a:t>
            </a:r>
            <a:r>
              <a:rPr b="0" lang="hu-HU" sz="1900" spc="-1" strike="noStrike">
                <a:solidFill>
                  <a:srgbClr val="000000"/>
                </a:solidFill>
                <a:latin typeface="Arial"/>
              </a:rPr>
              <a:t> a kódhossz a kód előfordulási gyakoriságától függ. Jó példa erre a Morse ABC. Itt az angol szövegek leggyakoribb betűjéhez az e-hez, a legrövidebb és ezzel a leggyorsabban továbbítható szimbólum tartozik: a pon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000000"/>
                </a:solidFill>
                <a:latin typeface="Arial"/>
              </a:rPr>
              <a:t>Transzformációs kódolás:</a:t>
            </a:r>
            <a:r>
              <a:rPr b="0" lang="hu-HU" sz="1900" spc="-1" strike="noStrike">
                <a:solidFill>
                  <a:srgbClr val="000000"/>
                </a:solidFill>
                <a:latin typeface="Arial"/>
              </a:rPr>
              <a:t> pl. Fourier transzformáció, fraktális kódolás.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EA8B376-7110-41AD-AD2A-C33F0BA85A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lkalmazási réteg </a:t>
            </a: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z a legfelső réteg a réteg és a legszorosabban kapcsolódik a felhasználóhoz. Ehhez tartoznak a felhasználói programok által igényelt protokollok.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alkalmazási réteg léte a feltétele annak, hogy a különböző programok a hálózattal egységes módon kommunikálhassanak. Mivel számos termináltípust használnak a hálózati kapcsolatokban, amelyek természetesen kisebb-nagyobb mértékben egymástól eltérnek, ezért egy hálózati virtuális terminált definiálnak, és a programokat úgy írják meg, hogy ezt tudja kezelni.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különböző típusú terminálok kezelését ezek után egy olyan kis – a valódi és e hálózati absztrakt terminál közötti megfeleltetését végző – programrészlet végzi.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További tipikus, e réteg által megvalósítandó feladat a fájlok átvitelekor az eltérő névkonvenciók kezelése, az elektronikus levelezés, és mindaz, amit Internet szolgáltatásként ismerünk.</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BC30055-61C6-4460-AA9B-D22321DC06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átvitel az OSI hivatkozási modellben</a:t>
            </a: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rétegek között a tényleges adatátvitel valójában függőleges irányban történik, azonban az egyes rétegek úgy működnek, mintha vízszintes irányban továbbítanák az adatoka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Ha egy küldő folyamat a vevő folyamatnak adatokat akar küldeni, az adatokat a legfelső rétegnek az alkalmazási rétegnek adja, amely az adatokat kiegészíti egy ún. fejrésszel  (header), majd az így kapott egységet az alatta levő megjelenítési rétegnek adja tovább.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megjelenítési réteg, a kapott egységet szükség esetén átalakíthatja, valamint kiegészíti egy fejrésszel, majd továbbadja a viszony rétegnek. Az alsóbb rétegek nem vizsgálják, hogy amit a felettük levőtől kaptak annak melyik része a fej- illetve a valódi felhasználói adatrész. A további rétegek is hasonlóan viselkednek, és a folyamat egészen addig ismétlődik, amíg az adatok el nem jutnak a fizikai rétegig, ahol aztán valóban továbbítódnak a vevő géphez. Hasonlatként lényegében az történik, hogy minden réteg a fölötte lévőtől kapott egységet egy „borítékba teszi” (és a fejrészbe) a továbbításhoz szükséges információkat ír a borítékra.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vevő oldali gépen, ahogy az üzenet az egyre magasabb rétegekhez kerül, az egyes rétegekben a különböző fejrészek leválasztódnak róla, végül megérkezik a vevő folyamathoz.</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71F1672-AEC6-432E-8A07-46A9BDA68F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átvitel az OSI modellben</a:t>
            </a:r>
            <a:endParaRPr b="1" lang="en-US" sz="3900" spc="-1" strike="noStrike">
              <a:solidFill>
                <a:srgbClr val="330066"/>
              </a:solidFill>
              <a:latin typeface="Arial"/>
            </a:endParaRPr>
          </a:p>
        </p:txBody>
      </p:sp>
      <p:pic>
        <p:nvPicPr>
          <p:cNvPr id="128" name="" descr=""/>
          <p:cNvPicPr/>
          <p:nvPr/>
        </p:nvPicPr>
        <p:blipFill>
          <a:blip r:embed="rId1"/>
          <a:stretch/>
        </p:blipFill>
        <p:spPr>
          <a:xfrm>
            <a:off x="1368360" y="1719360"/>
            <a:ext cx="6405480" cy="4411440"/>
          </a:xfrm>
          <a:prstGeom prst="rect">
            <a:avLst/>
          </a:prstGeom>
          <a:ln w="0">
            <a:noFill/>
          </a:ln>
        </p:spPr>
      </p:pic>
      <p:sp>
        <p:nvSpPr>
          <p:cNvPr id="129" name=""/>
          <p:cNvSpPr/>
          <p:nvPr/>
        </p:nvSpPr>
        <p:spPr>
          <a:xfrm>
            <a:off x="1440" y="-1080"/>
            <a:ext cx="257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0" name=""/>
          <p:cNvSpPr/>
          <p:nvPr/>
        </p:nvSpPr>
        <p:spPr>
          <a:xfrm>
            <a:off x="1080" y="-360"/>
            <a:ext cx="1222920" cy="290160"/>
          </a:xfrm>
          <a:prstGeom prst="rect">
            <a:avLst/>
          </a:prstGeom>
          <a:noFill/>
          <a:ln w="0">
            <a:noFill/>
          </a:ln>
        </p:spPr>
        <p:style>
          <a:lnRef idx="0"/>
          <a:fillRef idx="0"/>
          <a:effectRef idx="0"/>
          <a:fontRef idx="minor"/>
        </p:style>
        <p:txBody>
          <a:bodyPr wrap="none" lIns="90000" rIns="90000" tIns="76320" bIns="76320" anchor="ctr">
            <a:spAutoFit/>
          </a:bodyPr>
          <a:p>
            <a:pPr lvl="2" marL="9144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endParaRPr b="0" lang="en-US" sz="900" spc="-1" strike="noStrike">
              <a:solidFill>
                <a:srgbClr val="000000"/>
              </a:solidFill>
              <a:latin typeface="Times New Roman"/>
            </a:endParaRPr>
          </a:p>
        </p:txBody>
      </p:sp>
      <p:sp>
        <p:nvSpPr>
          <p:cNvPr id="131" name=""/>
          <p:cNvSpPr/>
          <p:nvPr/>
        </p:nvSpPr>
        <p:spPr>
          <a:xfrm>
            <a:off x="1440" y="-1080"/>
            <a:ext cx="257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ED868B16-4DE7-4EBA-A5C2-274E5AD972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étegszolgálatok</a:t>
            </a:r>
            <a:endParaRPr b="1" lang="en-US" sz="3900" spc="-1" strike="noStrike">
              <a:solidFill>
                <a:srgbClr val="330066"/>
              </a:solidFill>
              <a:latin typeface="Arial"/>
            </a:endParaRPr>
          </a:p>
        </p:txBody>
      </p:sp>
      <p:sp>
        <p:nvSpPr>
          <p:cNvPr id="13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Minden rétegben vannak aktív, működő elemek ún. </a:t>
            </a:r>
            <a:r>
              <a:rPr b="1" lang="hu-HU" sz="2100" spc="-1" strike="noStrike">
                <a:solidFill>
                  <a:srgbClr val="000000"/>
                </a:solidFill>
                <a:latin typeface="Arial"/>
              </a:rPr>
              <a:t>funkcionális elem</a:t>
            </a:r>
            <a:r>
              <a:rPr b="0" lang="hu-HU" sz="2100" spc="-1" strike="noStrike">
                <a:solidFill>
                  <a:srgbClr val="000000"/>
                </a:solidFill>
                <a:latin typeface="Arial"/>
              </a:rPr>
              <a:t>-ek (más, elterjedt néven: </a:t>
            </a:r>
            <a:r>
              <a:rPr b="1" lang="hu-HU" sz="2100" spc="-1" strike="noStrike">
                <a:solidFill>
                  <a:srgbClr val="000000"/>
                </a:solidFill>
                <a:latin typeface="Arial"/>
              </a:rPr>
              <a:t>entititás</a:t>
            </a:r>
            <a:r>
              <a:rPr b="0" lang="hu-HU" sz="2100" spc="-1" strike="noStrike">
                <a:solidFill>
                  <a:srgbClr val="000000"/>
                </a:solidFill>
                <a:latin typeface="Arial"/>
              </a:rPr>
              <a:t>-ok), amelyek a rétegtől várt funkciókat megvalósítják. Ez lehet egy program, vagy egy hardver elem (pl. egy be-kimeneti áramkör). Az azonos rétegben, de különböző gépekben található entitásokat társentitásoknak nevezzük.</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rétegek közötti kommunikáció ún. </a:t>
            </a:r>
            <a:r>
              <a:rPr b="1" lang="hu-HU" sz="2100" spc="-1" strike="noStrike">
                <a:solidFill>
                  <a:srgbClr val="000000"/>
                </a:solidFill>
                <a:latin typeface="Arial"/>
              </a:rPr>
              <a:t>szolgálatok</a:t>
            </a:r>
            <a:r>
              <a:rPr b="0" lang="hu-HU" sz="2100" spc="-1" strike="noStrike">
                <a:solidFill>
                  <a:srgbClr val="000000"/>
                </a:solidFill>
                <a:latin typeface="Arial"/>
              </a:rPr>
              <a:t> segítségével jön létre. A szolgálatok a rétegek ki/bemeneti pontján ún. </a:t>
            </a:r>
            <a:r>
              <a:rPr b="1" lang="hu-HU" sz="2100" spc="-1" strike="noStrike">
                <a:solidFill>
                  <a:srgbClr val="000000"/>
                </a:solidFill>
                <a:latin typeface="Arial"/>
              </a:rPr>
              <a:t>SAP</a:t>
            </a:r>
            <a:r>
              <a:rPr b="0" lang="hu-HU" sz="2100" spc="-1" strike="noStrike">
                <a:solidFill>
                  <a:srgbClr val="000000"/>
                </a:solidFill>
                <a:latin typeface="Arial"/>
              </a:rPr>
              <a:t>-ján (Sevice Access Point) keresztül érhetők el. Ezek mindig két szomszédos réteg között találhatók. A két réteg közötti kommunikáció ténylegesen ezeken a pontokon keresztül valósul meg. (Egy egyszerű példán keresztül magyarázva a lényeget: egy telefonrendszerben a SAP telefon fali csatlakozója, és a SAP címe az a telefonszám, amelyen keresztül a csatlakozóba dugott telefon hívható.)</a:t>
            </a:r>
            <a:endParaRPr b="0" lang="en-US" sz="2100" spc="-1" strike="noStrike">
              <a:solidFill>
                <a:srgbClr val="000000"/>
              </a:solidFill>
              <a:latin typeface="Arial"/>
            </a:endParaRPr>
          </a:p>
        </p:txBody>
      </p:sp>
      <p:sp>
        <p:nvSpPr>
          <p:cNvPr id="134" name=""/>
          <p:cNvSpPr/>
          <p:nvPr/>
        </p:nvSpPr>
        <p:spPr>
          <a:xfrm>
            <a:off x="1080" y="-360"/>
            <a:ext cx="1222920" cy="290160"/>
          </a:xfrm>
          <a:prstGeom prst="rect">
            <a:avLst/>
          </a:prstGeom>
          <a:noFill/>
          <a:ln w="0">
            <a:noFill/>
          </a:ln>
        </p:spPr>
        <p:style>
          <a:lnRef idx="0"/>
          <a:fillRef idx="0"/>
          <a:effectRef idx="0"/>
          <a:fontRef idx="minor"/>
        </p:style>
        <p:txBody>
          <a:bodyPr wrap="none" lIns="90000" rIns="90000" tIns="76320" bIns="76320" anchor="ctr">
            <a:spAutoFit/>
          </a:bodyPr>
          <a:p>
            <a:pPr lvl="2" marL="9144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endParaRPr b="0" lang="en-US" sz="900" spc="-1" strike="noStrike">
              <a:solidFill>
                <a:srgbClr val="000000"/>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16F1F89-1073-4C32-AE7D-20C1CF448E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apcsolat a rétegek között</a:t>
            </a:r>
            <a:endParaRPr b="1" lang="en-US" sz="3900" spc="-1" strike="noStrike">
              <a:solidFill>
                <a:srgbClr val="330066"/>
              </a:solidFill>
              <a:latin typeface="Arial"/>
            </a:endParaRPr>
          </a:p>
        </p:txBody>
      </p:sp>
      <p:pic>
        <p:nvPicPr>
          <p:cNvPr id="136" name="" descr=""/>
          <p:cNvPicPr/>
          <p:nvPr/>
        </p:nvPicPr>
        <p:blipFill>
          <a:blip r:embed="rId1"/>
          <a:stretch/>
        </p:blipFill>
        <p:spPr>
          <a:xfrm>
            <a:off x="108000" y="1989000"/>
            <a:ext cx="8712000" cy="31370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13FF6BF-AB5B-4D92-A511-5F6A14E3A6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Összeköttetés alapú szolgálat</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két szolgálat elérési pont között ki kell alakulni egy összeköttetésnek, az adatátvitel csak ezek után tud lezajlani, majd a kiépült kapcsolatot bontani kell. Működése legegyszerűbben a telefonrendszer működéséhez hasonlítható. Egy beszélgetést a telefonkagyló felemelésével kezdeményezünk, a tárcsázás segítségével a telefonközponton keresztül kapcsolatot létesítünk, azaz felépítjük az összeköttetést, majd lefolytatjuk a kommunikációt, és a beszélgetés végén a kagyló helyére tételével bontjuk a kapcsolato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folyamat sorrendje tehá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kapcsolat felépítése,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használata, az információ átvitel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majd bontása, szigorú, kötött sorrendben valósul meg.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kommunikáció idejére felépített kapcsolat azt eredményezi, hogy amilyen sorrendben küldjük az információt, a vevő ugyanabban a sorrendben kapja meg. Az összeköttetés kialakítása időt vesz igénybe, így sok esetben csak akkor célszerű alkalmazni, ha nagyobb mennyiségű információt akarunk átvinni.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9B5E4E5-7DE6-41ED-A452-7DF231DF09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ámítógép-hálózatok</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200"/>
            <a:ext cx="6248520" cy="2900520"/>
          </a:xfrm>
          <a:prstGeom prst="rect">
            <a:avLst/>
          </a:prstGeom>
          <a:noFill/>
          <a:ln w="0">
            <a:noFill/>
          </a:ln>
        </p:spPr>
        <p:txBody>
          <a:bodyPr lIns="90000" rIns="90000" tIns="46800" bIns="46800" anchor="t">
            <a:no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Forgalomirányítás </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93FC1421-BA82-449A-93F4-CD155997D0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Összeköttetés-mentes szolgálat </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z a megoldás egy levél, vagy csomagtovábbító postai rendszerhez hasonlít. Minden egyes levél (csomag, üzenet) tartalmazza a célba juttatás címét, és a csomagok egymástól független úton továbbítható.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gy nagyobb méretű üzenet szükség estén kisebb darabokra, csomagokra vágható szét. Ilyenkor elképzelhető, hogy a részekre bontott információt a vevő nem az adó által küldött sorrendben kapja meg, ilyenkor természetesen szükség van a csomagok helyes sorrendben történő összerakására i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C036D75-1EFB-4533-B58F-66479BAAA7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adatátvitel megbízhatósága</a:t>
            </a: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fizikai átvitelt nem tekinthetjük megbízhatónak, mert az adatátvitel során a továbbított adatok zajjal terheltek. Az így kialakuló hibákat fel kell deríteni, ki kell javítani és a vevő számára a helyreállított adatokat kell biztosítani. A fizikai átvitel tehát bizonytalan, és tőle ezen hibák korrigálását nem lehet elvárni. Ezért ki kellett alakítani az </a:t>
            </a:r>
            <a:r>
              <a:rPr b="0" i="1" lang="hu-HU" sz="2100" spc="-1" strike="noStrike">
                <a:solidFill>
                  <a:srgbClr val="000000"/>
                </a:solidFill>
                <a:latin typeface="Arial"/>
              </a:rPr>
              <a:t>adatkapcsolati szint</a:t>
            </a:r>
            <a:r>
              <a:rPr b="0" lang="hu-HU" sz="2100" spc="-1" strike="noStrike">
                <a:solidFill>
                  <a:srgbClr val="000000"/>
                </a:solidFill>
                <a:latin typeface="Arial"/>
              </a:rPr>
              <a:t>et, aminek feladata egy </a:t>
            </a:r>
            <a:r>
              <a:rPr b="0" i="1" lang="hu-HU" sz="2100" spc="-1" strike="noStrike">
                <a:solidFill>
                  <a:srgbClr val="000000"/>
                </a:solidFill>
                <a:latin typeface="Arial"/>
              </a:rPr>
              <a:t>megbízható</a:t>
            </a:r>
            <a:r>
              <a:rPr b="0" lang="hu-HU" sz="2100" spc="-1" strike="noStrike">
                <a:solidFill>
                  <a:srgbClr val="000000"/>
                </a:solidFill>
                <a:latin typeface="Arial"/>
              </a:rPr>
              <a:t> </a:t>
            </a:r>
            <a:r>
              <a:rPr b="0" i="1" lang="hu-HU" sz="2100" spc="-1" strike="noStrike">
                <a:solidFill>
                  <a:srgbClr val="000000"/>
                </a:solidFill>
                <a:latin typeface="Arial"/>
              </a:rPr>
              <a:t>szolgáltatás nyújtása</a:t>
            </a:r>
            <a:r>
              <a:rPr b="0" lang="hu-HU" sz="2100" spc="-1" strike="noStrike">
                <a:solidFill>
                  <a:srgbClr val="000000"/>
                </a:solidFill>
                <a:latin typeface="Arial"/>
              </a:rPr>
              <a:t> azáltal, hogy egyéb tevékenységek elvégzését felvállalja.</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adatátvitel megbízhatóságát az jelenti, ha nem veszítünk adatot. A postai analógiát erre is alkalmazhatjuk, biztos, hogy a címzett átvette az üzenetet, ha azt nyugtázza, az ajánlott levél átvételéhez hasonlóan nyugtát küld.</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nyugta küldés azonban időveszteséggel jár, így nem minden esetben engedhető meg például digitális hang- vagy képátvitel esetén.</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29F9943-1C5D-4117-B17F-0182DA5220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Datagram szolgálat</a:t>
            </a: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gyakorlatban a megbízhatatlan (azaz nem nyugtázott) összeköttetés-mentes szolgálatot </a:t>
            </a:r>
            <a:r>
              <a:rPr b="1" lang="hu-HU" sz="2600" spc="-1" strike="noStrike">
                <a:solidFill>
                  <a:srgbClr val="000000"/>
                </a:solidFill>
                <a:latin typeface="Arial"/>
              </a:rPr>
              <a:t>datagram</a:t>
            </a:r>
            <a:r>
              <a:rPr b="0" lang="hu-HU" sz="2600" spc="-1" strike="noStrike">
                <a:solidFill>
                  <a:srgbClr val="000000"/>
                </a:solidFill>
                <a:latin typeface="Arial"/>
              </a:rPr>
              <a:t> </a:t>
            </a:r>
            <a:r>
              <a:rPr b="1" lang="hu-HU" sz="2600" spc="-1" strike="noStrike">
                <a:solidFill>
                  <a:srgbClr val="000000"/>
                </a:solidFill>
                <a:latin typeface="Arial"/>
              </a:rPr>
              <a:t>szolgálat</a:t>
            </a:r>
            <a:r>
              <a:rPr b="0" lang="hu-HU" sz="2600" spc="-1" strike="noStrike">
                <a:solidFill>
                  <a:srgbClr val="000000"/>
                </a:solidFill>
                <a:latin typeface="Arial"/>
              </a:rPr>
              <a:t>nak (datagram service) nevezik. A megbízható-összeköttetés mentes szolgálat neve: </a:t>
            </a:r>
            <a:r>
              <a:rPr b="1" lang="hu-HU" sz="2600" spc="-1" strike="noStrike">
                <a:solidFill>
                  <a:srgbClr val="000000"/>
                </a:solidFill>
                <a:latin typeface="Arial"/>
              </a:rPr>
              <a:t>nyugtázott datagram szolgálat</a:t>
            </a:r>
            <a:r>
              <a:rPr b="0" lang="hu-HU" sz="2600" spc="-1" strike="noStrike">
                <a:solidFill>
                  <a:srgbClr val="000000"/>
                </a:solidFill>
                <a:latin typeface="Arial"/>
              </a:rPr>
              <a:t> (acknowledged datagram servic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z a megkülönböztetés érvényes az összeköttetés alapú szolgálatok esetén is, így megkülönböztethetünk </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nyugtázott, megbízható és a </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nyugtázást nélkülöző megbízhatatlan szolgálatoka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93D3322-BAB6-45C3-9F51-6EE6189951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rétegmodell jelentősége</a:t>
            </a:r>
            <a:endParaRPr b="1" lang="en-US" sz="3900" spc="-1" strike="noStrike">
              <a:solidFill>
                <a:srgbClr val="330066"/>
              </a:solidFill>
              <a:latin typeface="Arial"/>
            </a:endParaRPr>
          </a:p>
        </p:txBody>
      </p:sp>
      <p:sp>
        <p:nvSpPr>
          <p:cNvPr id="1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OSI modell réteges felépítése- elsősorban a nyílt rendszerek iránti igény miatt - a alapvető előnyökkel jár: </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Lehetővé válik az, hogy egy hálózati protokoll eltérő adatkapcsolati rétegek fölött fusson, és így például különböző lokális hálózatokon levő berendezések kommunikáljanak egymással. A felsőbb rétegek alkalmasak az alsóbb rétegek sajátosságainak elfedésére</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 meglehetősen összetett hálózati feladatokat szétválasztva és részenként megvalósítva sokkal áttekinthetőbb és így üzembiztosabb implementációk születhetnek.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5417CCD-4EE7-4098-AD60-C31C5B0E949B}"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orgalomirányítás (routing)</a:t>
            </a:r>
            <a:endParaRPr b="1" lang="en-US" sz="3900" spc="-1" strike="noStrike">
              <a:solidFill>
                <a:srgbClr val="330066"/>
              </a:solidFill>
              <a:latin typeface="Arial"/>
            </a:endParaRPr>
          </a:p>
        </p:txBody>
      </p:sp>
      <p:sp>
        <p:nvSpPr>
          <p:cNvPr id="1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forgalomirányítás (routing) feladata csomagok útjának a kijelölése és hatékony (gyors) eljuttatásuk a forrástól a célállomásig.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hálózatot célszerű gráfként modellezni, ahol a csomópontok a routerek, és a csomópontokat összekötő élek a csatornák. Mivel a hálózati csomópontok irányítási, továbbküldési kapacitása véges, elképzelhető a csomagok sorban állása a bemenő oldalon.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csomópontok ún. routing táblákat tartalmaznak a velük kapcsolatban álló csomópontok adatairól. A forgalomirányítás összetettségét alapvetően meghatározza a hálózat topológiája.</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forgalomirányítási algoritmusoknak két osztálya van: az adaptív (alkalmazkodó), amely a hálózati forgalomhoz alkalmazkodik, és a determinisztikus (előre meghatározott), ahol az útvonal választási döntéseket nem befolyásolják a pillanatnyi forgalom mért vagy becsült értékei.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43CBC38-4966-4BF6-A5FE-A681AE798D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500" spc="-1" strike="noStrike">
                <a:solidFill>
                  <a:srgbClr val="330066"/>
                </a:solidFill>
                <a:latin typeface="Arial"/>
              </a:rPr>
              <a:t>A forgalomirányítási algoritmusoknak két osztálya van: </a:t>
            </a:r>
            <a:endParaRPr b="1" lang="en-US" sz="3500" spc="-1" strike="noStrike">
              <a:solidFill>
                <a:srgbClr val="330066"/>
              </a:solidFill>
              <a:latin typeface="Arial"/>
            </a:endParaRPr>
          </a:p>
        </p:txBody>
      </p:sp>
      <p:sp>
        <p:nvSpPr>
          <p:cNvPr id="1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adaptív (alkalmazkodó), amely a hálózati forgalomhoz alkalmazkodik, és 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determinisztikus (előre meghatározott), ahol az útvonal választási döntéseket nem befolyásolják a pillanatnyi forgalom mért vagy becsült értékei.</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CAFBE68-3692-4F10-AAC1-6717054561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Lehetséges vezérlésmódok:</a:t>
            </a: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determinisztikus</a:t>
            </a:r>
            <a:r>
              <a:rPr b="0" lang="hu-HU" sz="2100" spc="-1" strike="noStrike">
                <a:solidFill>
                  <a:srgbClr val="000000"/>
                </a:solidFill>
                <a:latin typeface="Arial"/>
              </a:rPr>
              <a:t> forgalomirányítás; olyan rögzített eljárás, amelyet a változó feltételek nem befolyásolna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elszigetelt adaptív</a:t>
            </a:r>
            <a:r>
              <a:rPr b="0" lang="hu-HU" sz="2100" spc="-1" strike="noStrike">
                <a:solidFill>
                  <a:srgbClr val="000000"/>
                </a:solidFill>
                <a:latin typeface="Arial"/>
              </a:rPr>
              <a:t> forgalomirányítás, amelynél minden csomópont hoz irányítási döntéseket, de csak helyi információk alapján;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elosztott adaptív</a:t>
            </a:r>
            <a:r>
              <a:rPr b="0" lang="hu-HU" sz="2100" spc="-1" strike="noStrike">
                <a:solidFill>
                  <a:srgbClr val="000000"/>
                </a:solidFill>
                <a:latin typeface="Arial"/>
              </a:rPr>
              <a:t> forgalomirányítás</a:t>
            </a:r>
            <a:r>
              <a:rPr b="0" i="1" lang="hu-HU" sz="2100" spc="-1" strike="noStrike">
                <a:solidFill>
                  <a:srgbClr val="000000"/>
                </a:solidFill>
                <a:latin typeface="Arial"/>
              </a:rPr>
              <a:t>, </a:t>
            </a:r>
            <a:r>
              <a:rPr b="0" lang="hu-HU" sz="2100" spc="-1" strike="noStrike">
                <a:solidFill>
                  <a:srgbClr val="000000"/>
                </a:solidFill>
                <a:latin typeface="Arial"/>
              </a:rPr>
              <a:t>amelynél a csomópontok információt cserélnek azért, hogy az irányítási döntéseket a helyi és a kapott információkra együtt alapozhassá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000000"/>
                </a:solidFill>
                <a:latin typeface="Arial"/>
              </a:rPr>
              <a:t>központosított adaptív</a:t>
            </a:r>
            <a:r>
              <a:rPr b="0" lang="hu-HU" sz="2100" spc="-1" strike="noStrike">
                <a:solidFill>
                  <a:srgbClr val="000000"/>
                </a:solidFill>
                <a:latin typeface="Arial"/>
              </a:rPr>
              <a:t> forgalomirányítás</a:t>
            </a:r>
            <a:r>
              <a:rPr b="0" i="1" lang="hu-HU" sz="2100" spc="-1" strike="noStrike">
                <a:solidFill>
                  <a:srgbClr val="000000"/>
                </a:solidFill>
                <a:latin typeface="Arial"/>
              </a:rPr>
              <a:t>, </a:t>
            </a:r>
            <a:r>
              <a:rPr b="0" lang="hu-HU" sz="2100" spc="-1" strike="noStrike">
                <a:solidFill>
                  <a:srgbClr val="000000"/>
                </a:solidFill>
                <a:latin typeface="Arial"/>
              </a:rPr>
              <a:t>amelynél a csomópontok a helyi forgalmi információikat egy közös irányító központnak jelentik, amely erre válaszul forgalomirányítási utasításokat ad ki az egyes csomópontok részére.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46A7CED-3742-44B6-98CB-4F23B16CB2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330066"/>
                </a:solidFill>
                <a:latin typeface="Arial"/>
              </a:rPr>
              <a:t>A legrövidebb út meghatározásra</a:t>
            </a:r>
            <a:r>
              <a:rPr b="1" lang="hu-HU" sz="3900" spc="-1" strike="noStrike">
                <a:solidFill>
                  <a:srgbClr val="330066"/>
                </a:solidFill>
                <a:latin typeface="Arial"/>
              </a:rPr>
              <a:t> </a:t>
            </a:r>
            <a:endParaRPr b="1" lang="en-US" sz="3900" spc="-1" strike="noStrike">
              <a:solidFill>
                <a:srgbClr val="330066"/>
              </a:solidFill>
              <a:latin typeface="Arial"/>
            </a:endParaRPr>
          </a:p>
        </p:txBody>
      </p:sp>
      <p:sp>
        <p:nvSpPr>
          <p:cNvPr id="1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orgalomirányítás során két pont között meg kell találni a legoptimálisabb útvonal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optimális útvonal nem feltétlenül jelenti a fizikailag legrövidebb útvonalat, mivel számos egyéb tényező is befolyásolhatja az optimális választás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Általánosan egy adott szakasz ún. mértéké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 távolság,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z adatátviteli sebesség,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z átlagos forgalom,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 kommunikációs költség,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z átlagos sorhossz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vagy más egyéb tényezők alapján határozzák meg.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5D1E1AE-C33F-42D4-A733-76E3EB5BC4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Torlódásvédelem: </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bból, hogy a vonalak és csomópontok kapacitása elegendő az adatforgalom lebonyolításához, még nem következik az, hogy a szabad információáramlás minden esetben garantálható. Előfordulhat, hogy a rendeltetési helyen a csomagoknak a hálózatból való kiléptetése, továbbléptetése akadályba ütközik. Megoldásként a csomagok küldőjére kell ekkor minél előbb áthárítani ezt az akadályt, ellenkező esetben a csomagok a hálózatban felhalmozódna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Egyes hálózatrészek túltelítődése esetén a csomagok mozgatása lehetetlenné válhat. Azok a várakozási sorok, amelyeknek ezeket a csomagokat be kellene fogadniuk, állandóan tele vannak. Ezt a helyzetet nevezzük </a:t>
            </a:r>
            <a:r>
              <a:rPr b="1" lang="hu-HU" sz="2100" spc="-1" strike="noStrike">
                <a:solidFill>
                  <a:srgbClr val="000000"/>
                </a:solidFill>
                <a:latin typeface="Arial"/>
              </a:rPr>
              <a:t>torlódásnak </a:t>
            </a:r>
            <a:r>
              <a:rPr b="0" lang="hu-HU" sz="2100" spc="-1" strike="noStrike">
                <a:solidFill>
                  <a:srgbClr val="000000"/>
                </a:solidFill>
                <a:latin typeface="Arial"/>
              </a:rPr>
              <a:t>(congestion).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18420E9-1567-4C73-A279-73C70C6B7C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befulladás </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torlódás szélsőséges esete a </a:t>
            </a:r>
            <a:r>
              <a:rPr b="1" lang="hu-HU" sz="2100" spc="-1" strike="noStrike">
                <a:solidFill>
                  <a:srgbClr val="000000"/>
                </a:solidFill>
                <a:latin typeface="Arial"/>
              </a:rPr>
              <a:t>befulladás </a:t>
            </a:r>
            <a:r>
              <a:rPr b="0" lang="hu-HU" sz="2100" spc="-1" strike="noStrike">
                <a:solidFill>
                  <a:srgbClr val="000000"/>
                </a:solidFill>
                <a:latin typeface="Arial"/>
              </a:rPr>
              <a:t>(lock-up). Ez olyan, főként tervezési hibák miatt előálló eset, amelyben bizonyos információfolyamok egyszer s mindenkorra leállnak a hálózatban. A jelenség jól illusztrálható a közúti körforgalomban lejátszódó hasonló események példájával. Ha az elsőbbségi szabály a körforgalomba belépő forgalmat részesíti előnyben, akkor torlódás léphet fel. A forgalom csak akkor indulhat meg újra, ha a szabályokat megváltoztatjuk. A csomagkapcsolt hálózatokban a helytelen puffer-elosztás és a rossz prioritási szabályok hasonló befulladásokat okozhatna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torlódások legsúlyosabb esete a </a:t>
            </a:r>
            <a:r>
              <a:rPr b="1" lang="hu-HU" sz="2100" spc="-1" strike="noStrike">
                <a:solidFill>
                  <a:srgbClr val="000000"/>
                </a:solidFill>
                <a:latin typeface="Arial"/>
              </a:rPr>
              <a:t>holtpont</a:t>
            </a:r>
            <a:r>
              <a:rPr b="0" lang="hu-HU" sz="2100" spc="-1" strike="noStrike">
                <a:solidFill>
                  <a:srgbClr val="000000"/>
                </a:solidFill>
                <a:latin typeface="Arial"/>
              </a:rPr>
              <a:t>. Ez azt jelenti, hogy a csomópontok kölcsönösen egymásra várnak.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26F3B47-23F2-442E-B193-22A39A0AD1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állítási réteg (transport layer)</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nnek a rétegnek kell megoldania a hosztok közötti adatátvitelt. Fontos része a címzések kezelése. A hálózati réteg felett elhelyezkedve, ez a réteg biztosítja azt, hogy minden adat sértetlenül érkezzen meg a rendeltetési helyére. Egy viszonyréteg által igényelt összeköttetési kérés általában egy hálózati összeköttetést hoz létre, ha azonban nagyobb hálózati sebesség szükséges, akkor több hálózati kapcsolatot is igénybe vehet. Fordítva, ha kisebb átviteli sebesség is elegendő, akkor egy hálózati összeköttetést lehet felhasználni több viszonyréteg kapcsolat lebonyolítására. Ezt a szállítási rétegnek a felsőbb rétegek felé nem érzékelhető módon kell megvalósítania.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Ha szükséges, akkor ez a réteg vágja az üzenetet kisebb darabokra, un. csomagokra, majd a csomagokat átadja a hálózati rétegnek. A hálózat két összekapcsolandó gépe között szinte mindig közbenső számítógépek (csomópontok) is vannak. A szállítási rétegnek a feladata annak a megvalósítása, hogy a két hoszt ezt a tényt „ne vegye észre”, tehát az összeköttetés pont-pont jellegű legyen. Ennek a rétegnek a szintjén forrás- és a célállomás egymással kommunikál, míg az alsóbb rétegek szintjén a hosztok a szomszédjukkal folytatnak párbeszédet. Így a réteg ellenőrizni tudja, hogy - a teljes útvonalon – hibátlan volt-e az adatok átvitele.</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49668E2-8A3E-4729-BAFA-D426A0610C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PA</cp:lastModifiedBy>
  <dcterms:modified xsi:type="dcterms:W3CDTF">2006-06-23T21:04:12Z</dcterms:modified>
  <cp:revision>98</cp:revision>
  <dc:subject/>
  <dc:title>PowerPoint bemutató</dc:title>
</cp:coreProperties>
</file>