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C716-CD49-4E2F-86DC-0DD919479CD9}"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923B6-5C60-4ED6-8212-257308409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0D23F-4823-4008-A87E-AD29BD390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DC478-7957-4658-B212-DA61B8973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A9D9A-8EAA-4E1B-8C3E-2E560A964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BD86D-1898-48A1-B7EB-6B084B8E5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1B10D-19E4-41B4-855C-61FD2A6D5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E6421-09D6-47AB-8EBC-DC7B8297A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F6663-6864-4DCA-854D-F22B2E4BE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554D6-4BB6-477D-9195-618C103DB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225C0-5979-4921-A176-DFC3442A4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10F5F-67FB-4893-8196-D37F424C4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C2EC1-E92B-46D5-AD89-5FBC11FE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AE8FA-57C1-4180-B7B5-E604ABC97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E1EA0-C667-4EE8-A026-1F8FD4535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B01E1-4F94-4517-A789-0B64C1412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C41B9-04EF-4895-A44C-4AD7AA384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4ACB2-A6D1-466A-84C2-768785A59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BC42B-D831-48C8-9F57-FB3EDA9EC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DA652-6DC3-4A5D-86AE-F86318CE5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CCC1F-15E0-4F3E-ABDC-02BBB0942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BEF35-23B8-478F-A8B3-9B60B5CC3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BFADC-0EFF-4972-ACA3-0CFB6C24F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7FC6-69CB-40E8-9CAC-9EEF3F0F7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C12F4-FC31-4744-99E9-BA5806F63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9D7D-9FBC-4040-B8AC-31114639BB21}"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DA98-785C-4674-A764-749730035117}"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4CE3-B2CA-47C8-B687-1B94E1C76F46}"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50B4-B5F1-4B05-A262-722D61AC29AB}"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Számítógép-hálózato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Herdon Mikló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Kovács Györ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agó Zsolt</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330066"/>
                </a:solidFill>
                <a:latin typeface="Arial"/>
              </a:rPr>
              <a:t>Miért is érdemes számítógépeinket hálózatba kapcsolni?</a:t>
            </a:r>
            <a:endParaRPr b="1" lang="en-US" sz="32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Közösen használhatóak</a:t>
            </a:r>
            <a:r>
              <a:rPr b="0" lang="hu-HU" sz="2100" spc="-1" strike="noStrike">
                <a:solidFill>
                  <a:srgbClr val="000000"/>
                </a:solidFill>
                <a:latin typeface="Arial"/>
              </a:rPr>
              <a:t> </a:t>
            </a:r>
            <a:r>
              <a:rPr b="1" lang="hu-HU" sz="2100" spc="-1" strike="noStrike">
                <a:solidFill>
                  <a:srgbClr val="000000"/>
                </a:solidFill>
                <a:latin typeface="Arial"/>
              </a:rPr>
              <a:t>a hálózatban levő erőforrások</a:t>
            </a:r>
            <a:r>
              <a:rPr b="0" lang="hu-HU"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Egyenletesebb teljesítmény-megosztá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 rendszer nagyobb megbízhatósággal üzemeltethető</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 rendszer teljesítményének skálázható növelés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Távoli adatok elérés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 számítógép-hálózat kommunikációs közegként is használható</a:t>
            </a:r>
            <a:r>
              <a:rPr b="0" lang="hu-HU"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 személyek közötti kommunikációra</a:t>
            </a:r>
            <a:r>
              <a:rPr b="0" lang="hu-HU"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z interaktív tanulás</a:t>
            </a:r>
            <a:r>
              <a:rPr b="0" lang="hu-H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z interaktív szórakozás stb.</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4D68327-416D-4BC9-905D-10F1185382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ilyen veszélyeket rejt a gépek hálózatba kapcsolása?</a:t>
            </a: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hálózat kritikus pontjainak sérülése a rendszer használhatatlanságát eredményezheti.</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ellő védelem nélkül a rendszerből illetéktelenek is információhoz juthatnak.</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oncentrált program, de különösen az adattárolás a felhasználók bizonyos kiszolgáltatottságát eredményezheti.</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hálózatok nem-kívánt kellemetlen mellékhatása a számítógépes bűnözés terjedése: adatlopások, számítógépvírus fertőzések, rendszerbénításo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C82DE7A-E18C-4CF3-9F8F-EE7CDC4FB9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ámítógép-hálózatok osztályozása</a:t>
            </a:r>
            <a:endParaRPr b="1" lang="en-US" sz="3900" spc="-1" strike="noStrike">
              <a:solidFill>
                <a:srgbClr val="330066"/>
              </a:solidFill>
              <a:latin typeface="Arial"/>
            </a:endParaRPr>
          </a:p>
        </p:txBody>
      </p:sp>
      <p:sp>
        <p:nvSpPr>
          <p:cNvPr id="1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Csoportosítási szempont lehe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hálózat kiterjedés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átviteli iránya,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átvitel ütemezés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átvitel sebesség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átvitel módszer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apcsolat módja,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erőforrásokhoz való hozzáférés módj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hálózat tulajdonosa szerin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AA641B5-1D79-4E62-8DA2-31E5BA0D50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iterjedés szerint:</a:t>
            </a:r>
            <a:endParaRPr b="1" lang="en-US" sz="3900" spc="-1" strike="noStrike">
              <a:solidFill>
                <a:srgbClr val="330066"/>
              </a:solidFill>
              <a:latin typeface="Arial"/>
            </a:endParaRPr>
          </a:p>
        </p:txBody>
      </p:sp>
      <p:pic>
        <p:nvPicPr>
          <p:cNvPr id="122" name="" descr=""/>
          <p:cNvPicPr/>
          <p:nvPr/>
        </p:nvPicPr>
        <p:blipFill>
          <a:blip r:embed="rId1"/>
          <a:stretch/>
        </p:blipFill>
        <p:spPr>
          <a:xfrm>
            <a:off x="684360" y="1484280"/>
            <a:ext cx="7559640" cy="46465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8720AD2-5269-43F0-A2F0-03F8E7923D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AN: P</a:t>
            </a:r>
            <a:r>
              <a:rPr b="0" lang="hu-HU" sz="3900" spc="-1" strike="noStrike">
                <a:solidFill>
                  <a:srgbClr val="330066"/>
                </a:solidFill>
                <a:latin typeface="Arial"/>
              </a:rPr>
              <a:t>ersonal </a:t>
            </a:r>
            <a:r>
              <a:rPr b="1" lang="hu-HU" sz="3900" spc="-1" strike="noStrike">
                <a:solidFill>
                  <a:srgbClr val="330066"/>
                </a:solidFill>
                <a:latin typeface="Arial"/>
              </a:rPr>
              <a:t>A</a:t>
            </a:r>
            <a:r>
              <a:rPr b="0" lang="hu-HU" sz="3900" spc="-1" strike="noStrike">
                <a:solidFill>
                  <a:srgbClr val="330066"/>
                </a:solidFill>
                <a:latin typeface="Arial"/>
              </a:rPr>
              <a:t>rea </a:t>
            </a:r>
            <a:r>
              <a:rPr b="1" lang="hu-HU" sz="3900" spc="-1" strike="noStrike">
                <a:solidFill>
                  <a:srgbClr val="330066"/>
                </a:solidFill>
                <a:latin typeface="Arial"/>
              </a:rPr>
              <a:t>N</a:t>
            </a:r>
            <a:r>
              <a:rPr b="0" lang="hu-HU" sz="3900" spc="-1" strike="noStrike">
                <a:solidFill>
                  <a:srgbClr val="330066"/>
                </a:solidFill>
                <a:latin typeface="Arial"/>
              </a:rPr>
              <a:t>etwork (Pikohálózat)</a:t>
            </a:r>
            <a:r>
              <a:rPr b="1" lang="hu-HU" sz="3900" spc="-1" strike="noStrike">
                <a:solidFill>
                  <a:srgbClr val="330066"/>
                </a:solidFill>
                <a:latin typeface="Arial"/>
              </a:rPr>
              <a:t> </a:t>
            </a: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emélyi információtechnológiai eszközök néhány méteren belüli, infravörös (IrDA), vagy mikrohullámú (Bluetooth) kapcsolata.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gy-egy PAN általában nem izoláltan működik, hanem pl. vezetékes, vagy vezeték nélküli LAN-on keresztül kapcsolatot tarthat más, hasonló személyi hálózattal vagy egyéb hálózat eszközökkel., és ezáltal - helyileg nem korlátozottan -  a legszélesebb körű szolgáltatásokhoz juttathatja hozzá a felhasználó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F032979-3CA2-4708-9816-7932209D42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emélyi hálózat és lehetséges kapcsolódásai </a:t>
            </a:r>
            <a:endParaRPr b="1" lang="en-US" sz="3900" spc="-1" strike="noStrike">
              <a:solidFill>
                <a:srgbClr val="330066"/>
              </a:solidFill>
              <a:latin typeface="Arial"/>
            </a:endParaRPr>
          </a:p>
        </p:txBody>
      </p:sp>
      <p:pic>
        <p:nvPicPr>
          <p:cNvPr id="126" name="" descr=""/>
          <p:cNvPicPr/>
          <p:nvPr/>
        </p:nvPicPr>
        <p:blipFill>
          <a:blip r:embed="rId1"/>
          <a:stretch/>
        </p:blipFill>
        <p:spPr>
          <a:xfrm>
            <a:off x="611280" y="1628640"/>
            <a:ext cx="7993080" cy="44532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37F93A6-EFA7-4B25-8F38-6170064BB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LAN: Local Area Network vagy helyi hálózat.</a:t>
            </a: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Jellemzői:</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aximum néhányszor 10 Km távolságon belüli hálóza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Általában egy intézményre terjed ki, esetleg annak néhány közeli épületér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lokális hálózatokat három dolog különbözteti meg a többi hálózattó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iterjedésük (a LAN-ok mérete szigorúan korláto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átvitel módja, relatív nagy sebesség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opológiáju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04242F4-4583-406B-8611-D515414CF1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AN: Metropolitan Area Network vagy városi hálózat </a:t>
            </a: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10-100 km távolság közötti, egy városra kiterjedő hálózat, amely több helyi hálózat összekapcsolásával jön létre.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kapcsolatkiépítés a LAN-ok között többnyire a városi távközlési hálózatra épül, hagyományos telefonvonalon, optikai kábeleken, néha mikrohullámú adókon át i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MAN támogatja mind az adatátvitelt, mind a hangátvitelt, és helyi kábeltelevízió-hálózathoz is kapcsolódh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470901A-2345-4E92-9E9A-E5CA809054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WAN: Wide Area Network vagy kiterjedt hálózat. </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100 km távolságon kívüli, nagy területre kiépült hálózat, lehet országos és földrészekre kiterjedő is. Itt az egyes MAN-ok kapcsolata nagysebességű átviteli kábeleken vagy műholdon keresztül valósul me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LAN-okat többnyire maga a felhasználó építi ki saját telephelyén belül a helyi kommunikáció lebonyolítására. A WAN-okat legtöbbször külső szolgáltatótól, szolgáltatásként veszik igénybe, és arra használják fel, hogy a telephelyek közötti forgalmat bonyolítsák le.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5D015FC-0976-4861-8B35-F9AB4FA9A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330066"/>
                </a:solidFill>
                <a:latin typeface="Arial"/>
              </a:rPr>
              <a:t>Átviteli irány szerint megkülönböztetünk</a:t>
            </a:r>
            <a:r>
              <a:rPr b="1" lang="hu-HU" sz="3900" spc="-1" strike="noStrike">
                <a:solidFill>
                  <a:srgbClr val="330066"/>
                </a:solidFill>
                <a:latin typeface="Arial"/>
              </a:rPr>
              <a:t> </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Szimplex</a:t>
            </a:r>
            <a:r>
              <a:rPr b="0" lang="hu-HU" sz="2600" spc="-1" strike="noStrike">
                <a:solidFill>
                  <a:srgbClr val="000000"/>
                </a:solidFill>
                <a:latin typeface="Arial"/>
              </a:rPr>
              <a:t> (csak egyirányú) átvitelre képes rendszereket, az állomások funkciója rögzített vagy csak adó, vagy csak vevő lehet. Tipikus példája a rádió, valamint a tv.</a:t>
            </a:r>
            <a:endParaRPr b="0" lang="en-US" sz="26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Félduplex</a:t>
            </a:r>
            <a:r>
              <a:rPr b="0" lang="hu-HU" sz="2600" spc="-1" strike="noStrike">
                <a:solidFill>
                  <a:srgbClr val="000000"/>
                </a:solidFill>
                <a:latin typeface="Arial"/>
              </a:rPr>
              <a:t> esetén megengedett a kétirányú átvitel, de időben szétválasztva, azaz egy időben csak az egyik irány aktív</a:t>
            </a:r>
            <a:r>
              <a:rPr b="0" lang="hu-HU" sz="2000" spc="-1" strike="noStrike">
                <a:solidFill>
                  <a:srgbClr val="000000"/>
                </a:solidFill>
                <a:latin typeface="Arial"/>
              </a:rPr>
              <a:t>.(CB-rádiók, walky-talky rádiók)</a:t>
            </a:r>
            <a:endParaRPr b="0" lang="en-US" sz="20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Duplex </a:t>
            </a:r>
            <a:r>
              <a:rPr b="0" lang="hu-HU" sz="2600" spc="-1" strike="noStrike">
                <a:solidFill>
                  <a:srgbClr val="000000"/>
                </a:solidFill>
                <a:latin typeface="Arial"/>
              </a:rPr>
              <a:t>átvitelnél mindkét állomás egyszerre lehet adó és vevő is, pl. telefon.</a:t>
            </a:r>
            <a:endParaRPr b="0" lang="en-US" sz="26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Ál-duplex </a:t>
            </a:r>
            <a:r>
              <a:rPr b="0" lang="hu-HU" sz="2600" spc="-1" strike="noStrike">
                <a:solidFill>
                  <a:srgbClr val="000000"/>
                </a:solidFill>
                <a:latin typeface="Arial"/>
              </a:rPr>
              <a:t>átvitelnél az adásra és a vételre külön csatornát használnak az állomások </a:t>
            </a:r>
            <a:r>
              <a:rPr b="0" lang="hu-HU" sz="2000" spc="-1" strike="noStrike">
                <a:solidFill>
                  <a:srgbClr val="000000"/>
                </a:solidFill>
                <a:latin typeface="Arial"/>
              </a:rPr>
              <a:t>(GSM rendszerek)</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04E17BE-A9E5-46B8-9A28-CD8D075B3C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ámítógép-hálózatok</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200"/>
            <a:ext cx="6248520" cy="2900520"/>
          </a:xfrm>
          <a:prstGeom prst="rect">
            <a:avLst/>
          </a:prstGeom>
          <a:noFill/>
          <a:ln w="0">
            <a:noFill/>
          </a:ln>
        </p:spPr>
        <p:txBody>
          <a:bodyPr lIns="90000" rIns="90000" tIns="46800" bIns="46800" anchor="t">
            <a:no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álózati alapismeretek</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98ACE46D-B226-4C59-992A-70DB95242B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átvitel ütemezése szerint</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a:t>
            </a:r>
            <a:r>
              <a:rPr b="1" lang="hu-HU" sz="2600" spc="-1" strike="noStrike">
                <a:solidFill>
                  <a:srgbClr val="000000"/>
                </a:solidFill>
                <a:latin typeface="Arial"/>
              </a:rPr>
              <a:t>aszinkron átvitel</a:t>
            </a:r>
            <a:r>
              <a:rPr b="0" lang="hu-HU" sz="2600" spc="-1" strike="noStrike">
                <a:solidFill>
                  <a:srgbClr val="000000"/>
                </a:solidFill>
                <a:latin typeface="Arial"/>
              </a:rPr>
              <a:t> esetén nincs az adó és vevő teljes szinkronban. A rövid adatátviteli egységek biztosítják hogy órajeleik maximum 2-3%-os eltérése esetén még működik a kommunikáció. Karakterenkénti, bájtonkénti átvitelt tesznek lehetővé, bár egyszerű és olcsó, viszont lassú.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szinkron átvitel</a:t>
            </a:r>
            <a:r>
              <a:rPr b="0" lang="hu-HU" sz="2600" spc="-1" strike="noStrike">
                <a:solidFill>
                  <a:srgbClr val="000000"/>
                </a:solidFill>
                <a:latin typeface="Arial"/>
              </a:rPr>
              <a:t> az adatfolyamból nyert szinkronizáló jellel, vagy külső órajellel az adó és vevő órajelének összehangolásával nagy-méretű adatblokkok átvitelére képes, melyet még hibaellenőrzéssel is kiegészítene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E804C24-247D-4183-8618-AD4E276D15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átvitel sebessége szerint</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z adatátvitel sebességének mértékegysége a bit/s,</a:t>
            </a:r>
            <a:r>
              <a:rPr b="0" lang="hu-HU" sz="2600" spc="-1" strike="noStrike">
                <a:solidFill>
                  <a:srgbClr val="000000"/>
                </a:solidFill>
                <a:latin typeface="Arial"/>
              </a:rPr>
              <a:t> azaz az időegység alatt átvitt bitek száma, amit korszerű számítógépek esetén általában nem az adó vagy a vevő, hanem az adatátviteli csatorna kapacitása korlátoz. Lokális hálózatokná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Lassúnak</a:t>
            </a:r>
            <a:r>
              <a:rPr b="0" lang="hu-HU" sz="2600" spc="-1" strike="noStrike">
                <a:solidFill>
                  <a:srgbClr val="000000"/>
                </a:solidFill>
                <a:latin typeface="Arial"/>
              </a:rPr>
              <a:t> minősíthetjük a 100 kb/s-os nagyságrendű, illetve az ennél kisebb,</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Közepesnek </a:t>
            </a:r>
            <a:r>
              <a:rPr b="0" lang="hu-HU" sz="2600" spc="-1" strike="noStrike">
                <a:solidFill>
                  <a:srgbClr val="000000"/>
                </a:solidFill>
                <a:latin typeface="Arial"/>
              </a:rPr>
              <a:t>a Mbit/s-os nagyságrendű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Nagysebességűnek </a:t>
            </a:r>
            <a:r>
              <a:rPr b="0" lang="hu-HU" sz="2600" spc="-1" strike="noStrike">
                <a:solidFill>
                  <a:srgbClr val="000000"/>
                </a:solidFill>
                <a:latin typeface="Arial"/>
              </a:rPr>
              <a:t>a 100 Mbit/s-os illetve az e fölötti adatátviteli sebessége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846AF55-4B22-4A02-8B70-CD4889EB4B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ltalános rétegmodell</a:t>
            </a:r>
            <a:endParaRPr b="1" lang="en-US" sz="3900" spc="-1" strike="noStrike">
              <a:solidFill>
                <a:srgbClr val="330066"/>
              </a:solidFill>
              <a:latin typeface="Arial"/>
            </a:endParaRPr>
          </a:p>
        </p:txBody>
      </p:sp>
      <p:pic>
        <p:nvPicPr>
          <p:cNvPr id="140" name="" descr=""/>
          <p:cNvPicPr/>
          <p:nvPr/>
        </p:nvPicPr>
        <p:blipFill>
          <a:blip r:embed="rId1"/>
          <a:stretch/>
        </p:blipFill>
        <p:spPr>
          <a:xfrm>
            <a:off x="1403280" y="1862280"/>
            <a:ext cx="5832720" cy="37954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A44B224-2529-413C-BA60-E4E87AE5AE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éteg kialakítási szempontok: </a:t>
            </a: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rétegek mindegyikének rendelkeznie kell eljárással a kapcsolat felépítésére, illetve annak lebontására.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eg kell határozni az átviteli szabályokat: az átvitel szimplex (egyirányú) fél duplex (váltakozóan két irányú) vagy duplex (egyszerre két irányú) legyen.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eg kell határozni, milyen legyen a rendszerben a hibajelzés hibavédelem,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Gondoskodni kell róla, hogy a gyors adók-lassú vevők adatvesztés-mentesen működhessenek együt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Korlátozott üzenethosszú alkalmazásoknál, ha az üzeneteket a küldés előtt szét kell darabolni, meghatározandó, hogy hogyan biztosítható vétel helyén a sorrend-helyes összerakásu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Ugyanazon a fizikai vonalon egyidejűleg több kommunikáció is folyhat. Hogyan kell ezt szeparáltan, összekeveredés-mentesen megoldani,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Cél és a forrás között, ha több útvonal lehetséges, fontos a valamilyen szempontból optimális útvonal kiválasztása.</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15EB91D-3B19-454C-AF4D-1BC973B538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lózati architektúrák </a:t>
            </a: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Hálózati architektúr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3000" spc="-1" strike="noStrike">
                <a:solidFill>
                  <a:srgbClr val="000000"/>
                </a:solidFill>
                <a:latin typeface="Arial"/>
              </a:rPr>
              <a:t>A </a:t>
            </a:r>
            <a:r>
              <a:rPr b="0" i="1" lang="hu-HU" sz="3000" spc="-1" strike="noStrike">
                <a:solidFill>
                  <a:srgbClr val="000000"/>
                </a:solidFill>
                <a:latin typeface="Arial"/>
              </a:rPr>
              <a:t>hálózati rétegek </a:t>
            </a:r>
            <a:r>
              <a:rPr b="0" lang="hu-HU" sz="3000" spc="-1" strike="noStrike">
                <a:solidFill>
                  <a:srgbClr val="000000"/>
                </a:solidFill>
                <a:latin typeface="Arial"/>
              </a:rPr>
              <a:t>és </a:t>
            </a:r>
            <a:r>
              <a:rPr b="0" i="1" lang="hu-HU" sz="3000" spc="-1" strike="noStrike">
                <a:solidFill>
                  <a:srgbClr val="000000"/>
                </a:solidFill>
                <a:latin typeface="Arial"/>
              </a:rPr>
              <a:t>protokollok</a:t>
            </a:r>
            <a:r>
              <a:rPr b="0" lang="hu-HU" sz="3000" spc="-1" strike="noStrike">
                <a:solidFill>
                  <a:srgbClr val="000000"/>
                </a:solidFill>
                <a:latin typeface="Arial"/>
              </a:rPr>
              <a:t> halmaz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a:t>
            </a:r>
            <a:r>
              <a:rPr b="1" lang="hu-HU" sz="3000" spc="-1" strike="noStrike">
                <a:solidFill>
                  <a:srgbClr val="000000"/>
                </a:solidFill>
                <a:latin typeface="Arial"/>
              </a:rPr>
              <a:t>protokoll</a:t>
            </a:r>
            <a:r>
              <a:rPr b="0" lang="hu-HU" sz="3000" spc="-1" strike="noStrike">
                <a:solidFill>
                  <a:srgbClr val="000000"/>
                </a:solidFill>
                <a:latin typeface="Arial"/>
              </a:rPr>
              <a:t> (protocol):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oknak a szabályoknak, megállapodásoknak, előírásoknak a halmaza, amelyek ahhoz szükségesek, hogy két ugyanazon a funkcionális szinten lévő használó vagy funkcionális elem egymással párbeszédet folytathasso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4EAF7CA-2B27-4CFA-8279-D1825C8E5E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lózati struktúrák elemei</a:t>
            </a:r>
            <a:endParaRPr b="1" lang="en-US" sz="3900" spc="-1" strike="noStrike">
              <a:solidFill>
                <a:srgbClr val="330066"/>
              </a:solidFill>
              <a:latin typeface="Arial"/>
            </a:endParaRPr>
          </a:p>
        </p:txBody>
      </p:sp>
      <p:sp>
        <p:nvSpPr>
          <p:cNvPr id="146" name="PlaceHolder 2"/>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Hosztoknak</a:t>
            </a:r>
            <a:r>
              <a:rPr b="0" lang="hu-HU" sz="2100" spc="-1" strike="noStrike">
                <a:solidFill>
                  <a:srgbClr val="000000"/>
                </a:solidFill>
                <a:latin typeface="Arial"/>
              </a:rPr>
              <a:t> (host) nevezzük azokat a gépeket, amelyekben a felhasználó program fut. Magyarra </a:t>
            </a:r>
            <a:r>
              <a:rPr b="0" i="1" lang="hu-HU" sz="2100" spc="-1" strike="noStrike">
                <a:solidFill>
                  <a:srgbClr val="000000"/>
                </a:solidFill>
                <a:latin typeface="Arial"/>
              </a:rPr>
              <a:t>gazdagépnek</a:t>
            </a:r>
            <a:r>
              <a:rPr b="0" lang="hu-HU" sz="2100" spc="-1" strike="noStrike">
                <a:solidFill>
                  <a:srgbClr val="000000"/>
                </a:solidFill>
                <a:latin typeface="Arial"/>
              </a:rPr>
              <a:t> szokás fordítani.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Kommunikációs alhálózat</a:t>
            </a:r>
            <a:r>
              <a:rPr b="0" lang="hu-HU" sz="2100" spc="-1" strike="noStrike">
                <a:solidFill>
                  <a:srgbClr val="000000"/>
                </a:solidFill>
                <a:latin typeface="Arial"/>
              </a:rPr>
              <a:t> (communication subnet) köti össze a hosztokat. Az alhálózat az összeköttetést biztosító csatornákból és kapcsológépekből áll. A csatornát (channels) szokás még vonalnak, áramkörnek, vagy több vonal esetén trönknek is nevezni.</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A kapcsológép</a:t>
            </a:r>
            <a:r>
              <a:rPr b="0" lang="hu-HU" sz="2100" spc="-1" strike="noStrike">
                <a:solidFill>
                  <a:srgbClr val="000000"/>
                </a:solidFill>
                <a:latin typeface="Arial"/>
              </a:rPr>
              <a:t> (</a:t>
            </a:r>
            <a:r>
              <a:rPr b="1" lang="hu-HU" sz="2100" spc="-1" strike="noStrike">
                <a:solidFill>
                  <a:srgbClr val="000000"/>
                </a:solidFill>
                <a:latin typeface="Arial"/>
              </a:rPr>
              <a:t>IMP</a:t>
            </a:r>
            <a:r>
              <a:rPr b="0" lang="hu-HU" sz="2100" spc="-1" strike="noStrike">
                <a:solidFill>
                  <a:srgbClr val="000000"/>
                </a:solidFill>
                <a:latin typeface="Arial"/>
              </a:rPr>
              <a:t> </a:t>
            </a:r>
            <a:r>
              <a:rPr b="1" lang="hu-HU" sz="2100" spc="-1" strike="noStrike">
                <a:solidFill>
                  <a:srgbClr val="000000"/>
                </a:solidFill>
                <a:latin typeface="Arial"/>
              </a:rPr>
              <a:t>I</a:t>
            </a:r>
            <a:r>
              <a:rPr b="0" lang="hu-HU" sz="2100" spc="-1" strike="noStrike">
                <a:solidFill>
                  <a:srgbClr val="000000"/>
                </a:solidFill>
                <a:latin typeface="Arial"/>
              </a:rPr>
              <a:t>nterface </a:t>
            </a:r>
            <a:r>
              <a:rPr b="1" lang="hu-HU" sz="2100" spc="-1" strike="noStrike">
                <a:solidFill>
                  <a:srgbClr val="000000"/>
                </a:solidFill>
                <a:latin typeface="Arial"/>
              </a:rPr>
              <a:t>M</a:t>
            </a:r>
            <a:r>
              <a:rPr b="0" lang="hu-HU" sz="2100" spc="-1" strike="noStrike">
                <a:solidFill>
                  <a:srgbClr val="000000"/>
                </a:solidFill>
                <a:latin typeface="Arial"/>
              </a:rPr>
              <a:t>essage </a:t>
            </a:r>
            <a:r>
              <a:rPr b="1" lang="hu-HU" sz="2100" spc="-1" strike="noStrike">
                <a:solidFill>
                  <a:srgbClr val="000000"/>
                </a:solidFill>
                <a:latin typeface="Arial"/>
              </a:rPr>
              <a:t>P</a:t>
            </a:r>
            <a:r>
              <a:rPr b="0" lang="hu-HU" sz="2100" spc="-1" strike="noStrike">
                <a:solidFill>
                  <a:srgbClr val="000000"/>
                </a:solidFill>
                <a:latin typeface="Arial"/>
              </a:rPr>
              <a:t>rocessor) az interfész üzenet feldolgozó gép. Feladata egy telefonközponthoz hasonló, a vonalak megfelelő irányú összekapcsolásával a bemenetére jutó adatot valamelyik meghatározott kimenetre továbbítja. Fizikailag ez lehet egy speciális gép (pl. router), de lehet egy számítógép része is (pl. hálózati kártya). Szokás még hálózati kapcsoló pontoknak is nevezni ezeket (internal switching node).</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EDFB41D-7BEE-4773-991D-741D151356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hálózat részei</a:t>
            </a:r>
            <a:endParaRPr b="1" lang="en-US" sz="3900" spc="-1" strike="noStrike">
              <a:solidFill>
                <a:srgbClr val="330066"/>
              </a:solidFill>
              <a:latin typeface="Arial"/>
            </a:endParaRPr>
          </a:p>
        </p:txBody>
      </p:sp>
      <p:pic>
        <p:nvPicPr>
          <p:cNvPr id="148" name="" descr=""/>
          <p:cNvPicPr/>
          <p:nvPr/>
        </p:nvPicPr>
        <p:blipFill>
          <a:blip r:embed="rId1"/>
          <a:stretch/>
        </p:blipFill>
        <p:spPr>
          <a:xfrm>
            <a:off x="1187280" y="2004840"/>
            <a:ext cx="6264360" cy="38498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113059CD-4431-4745-9FD4-D1B7DE664A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soportosítás a csatorna kialakítás szempontjából </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a:t>
            </a:r>
            <a:r>
              <a:rPr b="1" lang="hu-HU" sz="3000" spc="-1" strike="noStrike">
                <a:solidFill>
                  <a:srgbClr val="000000"/>
                </a:solidFill>
                <a:latin typeface="Arial"/>
              </a:rPr>
              <a:t>ét pont</a:t>
            </a:r>
            <a:r>
              <a:rPr b="0" lang="hu-HU" sz="3000" spc="-1" strike="noStrike">
                <a:solidFill>
                  <a:srgbClr val="000000"/>
                </a:solidFill>
                <a:latin typeface="Arial"/>
              </a:rPr>
              <a:t> </a:t>
            </a:r>
            <a:r>
              <a:rPr b="1" lang="hu-HU" sz="3000" spc="-1" strike="noStrike">
                <a:solidFill>
                  <a:srgbClr val="000000"/>
                </a:solidFill>
                <a:latin typeface="Arial"/>
              </a:rPr>
              <a:t>közötti</a:t>
            </a:r>
            <a:r>
              <a:rPr b="0" lang="hu-HU" sz="3000" spc="-1" strike="noStrike">
                <a:solidFill>
                  <a:srgbClr val="000000"/>
                </a:solidFill>
                <a:latin typeface="Arial"/>
              </a:rPr>
              <a:t> </a:t>
            </a:r>
            <a:r>
              <a:rPr b="1" lang="hu-HU" sz="3000" spc="-1" strike="noStrike">
                <a:solidFill>
                  <a:srgbClr val="000000"/>
                </a:solidFill>
                <a:latin typeface="Arial"/>
              </a:rPr>
              <a:t>összeköttetést</a:t>
            </a:r>
            <a:r>
              <a:rPr b="0" lang="hu-HU" sz="3000" spc="-1" strike="noStrike">
                <a:solidFill>
                  <a:srgbClr val="000000"/>
                </a:solidFill>
                <a:latin typeface="Arial"/>
              </a:rPr>
              <a:t> megvalósító é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Üzenetszórásos csatornával rendelkező</a:t>
            </a:r>
            <a:r>
              <a:rPr b="0" lang="hu-HU" sz="3000" spc="-1" strike="noStrike">
                <a:solidFill>
                  <a:srgbClr val="000000"/>
                </a:solidFill>
                <a:latin typeface="Arial"/>
              </a:rPr>
              <a:t> alhálózatok (multipont összekötteté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6954F0D-E517-483E-B01D-4D3748CC7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ont-pont topológiák </a:t>
            </a:r>
            <a:endParaRPr b="1" lang="en-US" sz="3900" spc="-1" strike="noStrike">
              <a:solidFill>
                <a:srgbClr val="330066"/>
              </a:solidFill>
              <a:latin typeface="Arial"/>
            </a:endParaRPr>
          </a:p>
        </p:txBody>
      </p:sp>
      <p:pic>
        <p:nvPicPr>
          <p:cNvPr id="152" name="" descr=""/>
          <p:cNvPicPr/>
          <p:nvPr/>
        </p:nvPicPr>
        <p:blipFill>
          <a:blip r:embed="rId1"/>
          <a:stretch/>
        </p:blipFill>
        <p:spPr>
          <a:xfrm>
            <a:off x="250920" y="2919240"/>
            <a:ext cx="8281800" cy="15573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EC4D06D-80BF-461B-8F9E-D337963293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Üzenetszórásos topológiák </a:t>
            </a:r>
            <a:endParaRPr b="1" lang="en-US" sz="3900" spc="-1" strike="noStrike">
              <a:solidFill>
                <a:srgbClr val="330066"/>
              </a:solidFill>
              <a:latin typeface="Arial"/>
            </a:endParaRPr>
          </a:p>
        </p:txBody>
      </p:sp>
      <p:pic>
        <p:nvPicPr>
          <p:cNvPr id="154" name="" descr=""/>
          <p:cNvPicPr/>
          <p:nvPr/>
        </p:nvPicPr>
        <p:blipFill>
          <a:blip r:embed="rId1"/>
          <a:stretch/>
        </p:blipFill>
        <p:spPr>
          <a:xfrm>
            <a:off x="611280" y="2519280"/>
            <a:ext cx="7561080" cy="26812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1C598BA4-A8E0-449D-9326-809BA49CCD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lózati alapismertek</a:t>
            </a:r>
            <a:endParaRPr b="1" lang="en-US" sz="3900" spc="-1" strike="noStrike">
              <a:solidFill>
                <a:srgbClr val="330066"/>
              </a:solidFill>
              <a:latin typeface="Arial"/>
            </a:endParaRPr>
          </a:p>
        </p:txBody>
      </p:sp>
      <p:sp>
        <p:nvSpPr>
          <p:cNvPr id="102" name="PlaceHolder 2"/>
          <p:cNvSpPr>
            <a:spLocks noGrp="1"/>
          </p:cNvSpPr>
          <p:nvPr>
            <p:ph/>
          </p:nvPr>
        </p:nvSpPr>
        <p:spPr>
          <a:xfrm>
            <a:off x="457200" y="1628640"/>
            <a:ext cx="8229600" cy="4392720"/>
          </a:xfrm>
          <a:prstGeom prst="rect">
            <a:avLst/>
          </a:prstGeom>
          <a:noFill/>
          <a:ln w="0">
            <a:noFill/>
          </a:ln>
        </p:spPr>
        <p:txBody>
          <a:bodyPr lIns="90000" rIns="90000" tIns="46800" bIns="46800" anchor="t">
            <a:normAutofit/>
          </a:bodyPr>
          <a:p>
            <a:pPr lvl="1" marL="839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lapfogalmak</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Információ</a:t>
            </a:r>
            <a:r>
              <a:rPr b="0" lang="hu-HU" sz="2600" spc="-1" strike="noStrike">
                <a:solidFill>
                  <a:srgbClr val="000000"/>
                </a:solidFill>
                <a:latin typeface="Arial"/>
              </a:rPr>
              <a:t> </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Információs műveletek</a:t>
            </a:r>
            <a:r>
              <a:rPr b="0" lang="hu-HU" sz="2600" spc="-1" strike="noStrike">
                <a:solidFill>
                  <a:srgbClr val="000000"/>
                </a:solidFill>
                <a:latin typeface="Arial"/>
              </a:rPr>
              <a:t> </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Információs hálózat</a:t>
            </a:r>
            <a:r>
              <a:rPr b="0" lang="hu-HU" sz="2600" spc="-1" strike="noStrike">
                <a:solidFill>
                  <a:srgbClr val="000000"/>
                </a:solidFill>
                <a:latin typeface="Arial"/>
              </a:rPr>
              <a:t> </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dat</a:t>
            </a:r>
            <a:r>
              <a:rPr b="0" lang="hu-HU" sz="2600" spc="-1" strike="noStrike">
                <a:solidFill>
                  <a:srgbClr val="000000"/>
                </a:solidFill>
                <a:latin typeface="Arial"/>
              </a:rPr>
              <a:t> </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Jel </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Kommunikáció</a:t>
            </a:r>
            <a:r>
              <a:rPr b="0" lang="hu-HU" sz="2600" spc="-1" strike="noStrike">
                <a:solidFill>
                  <a:srgbClr val="000000"/>
                </a:solidFill>
                <a:latin typeface="Arial"/>
              </a:rPr>
              <a:t> </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telekommunikációs hálózat összetevői</a:t>
            </a:r>
            <a:r>
              <a:rPr b="0" lang="hu-HU" sz="2600" spc="-1" strike="noStrike">
                <a:solidFill>
                  <a:srgbClr val="000000"/>
                </a:solidFill>
                <a:latin typeface="Arial"/>
              </a:rPr>
              <a:t> </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telekommunikáció módjai</a:t>
            </a:r>
            <a:r>
              <a:rPr b="0" lang="hu-HU"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BEA92C8-7ACF-4ED3-8505-5824C8EB2F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ltalános rétegmodell </a:t>
            </a:r>
            <a:endParaRPr b="1" lang="en-US" sz="3900" spc="-1" strike="noStrike">
              <a:solidFill>
                <a:srgbClr val="330066"/>
              </a:solidFill>
              <a:latin typeface="Arial"/>
            </a:endParaRPr>
          </a:p>
        </p:txBody>
      </p:sp>
      <p:pic>
        <p:nvPicPr>
          <p:cNvPr id="156" name="" descr=""/>
          <p:cNvPicPr/>
          <p:nvPr/>
        </p:nvPicPr>
        <p:blipFill>
          <a:blip r:embed="rId1"/>
          <a:stretch/>
        </p:blipFill>
        <p:spPr>
          <a:xfrm>
            <a:off x="1403280" y="1862280"/>
            <a:ext cx="6193080" cy="40305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BB2A054B-3F47-4DFA-BA8B-C35B0D6EB0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étegkialakítási szempontok</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rétegek mindegyikének rendelkeznie kell eljárással a kapcsolat felépítésére, illetve annak lebontására.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eg kell határozni az átviteli szabályokat: az átvitel szimplex (egyirányú) fél duplex (váltakozóan két irányú) vagy duplex (egyszerre két irányú) legyen.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eg kell határozni, milyen legyen a rendszerben a hibajelzés hibavédelem,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Gondoskodni kell róla, hogy a gyors adók-lassú vevők adatvesztés-mentesen működhessenek együt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Korlátozott üzenethosszú alkalmazásoknál, ha az üzeneteket a küldés előtt szét kell darabolni, meghatározandó, hogy hogyan biztosítható vétel helyén a sorrend-helyes összerakásu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Ugyanazon a fizikai vonalon egyidejűleg több kommunikáció is folyhat. Hogyan kell ezt szeparáltan, összekeveredés-mentesen megoldani,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Cél és a forrás között, ha több útvonal lehetséges, fontos a valamilyen szempontból optimális útvonal kiválasztása.</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F04D75A-9202-42E8-BBEA-FD29A95A87AB}"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330066"/>
                </a:solidFill>
                <a:latin typeface="Arial"/>
              </a:rPr>
              <a:t>Az elektronikus kommunikációban használatos hálózatok </a:t>
            </a:r>
            <a:endParaRPr b="1" lang="en-US" sz="3500" spc="-1" strike="noStrike">
              <a:solidFill>
                <a:srgbClr val="330066"/>
              </a:solidFill>
              <a:latin typeface="Arial"/>
            </a:endParaRPr>
          </a:p>
        </p:txBody>
      </p:sp>
      <p:pic>
        <p:nvPicPr>
          <p:cNvPr id="104" name="" descr=""/>
          <p:cNvPicPr/>
          <p:nvPr/>
        </p:nvPicPr>
        <p:blipFill>
          <a:blip r:embed="rId1"/>
          <a:stretch/>
        </p:blipFill>
        <p:spPr>
          <a:xfrm>
            <a:off x="395280" y="1690560"/>
            <a:ext cx="7586640" cy="40579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C884CA2-2A2E-436C-8358-F421D00215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analóg és a digitális fogalmak értelmezése (1)</a:t>
            </a: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2" marL="1131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Analóg </a:t>
            </a:r>
            <a:endParaRPr b="0" lang="en-US" sz="2800" spc="-1" strike="noStrike">
              <a:solidFill>
                <a:srgbClr val="000000"/>
              </a:solidFill>
              <a:latin typeface="Arial"/>
            </a:endParaRPr>
          </a:p>
          <a:p>
            <a:pPr lvl="2" marL="1131840" indent="-43812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szó jelentése: </a:t>
            </a:r>
            <a:r>
              <a:rPr b="1" lang="hu-HU" sz="2400" spc="-1" strike="noStrike">
                <a:solidFill>
                  <a:srgbClr val="000000"/>
                </a:solidFill>
                <a:latin typeface="Arial"/>
              </a:rPr>
              <a:t>hasonló</a:t>
            </a:r>
            <a:endParaRPr b="0" lang="en-US" sz="2400" spc="-1" strike="noStrike">
              <a:solidFill>
                <a:srgbClr val="000000"/>
              </a:solidFill>
              <a:latin typeface="Arial"/>
            </a:endParaRPr>
          </a:p>
          <a:p>
            <a:pPr lvl="2" marL="1131840" indent="-43812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informatikában olyan jeltípust takar, amely hasonlít az eredeti jelhez vagy az eredeti információhoz. </a:t>
            </a:r>
            <a:endParaRPr b="0" lang="en-US" sz="2400" spc="-1" strike="noStrike">
              <a:solidFill>
                <a:srgbClr val="000000"/>
              </a:solidFill>
              <a:latin typeface="Arial"/>
            </a:endParaRPr>
          </a:p>
          <a:p>
            <a:pPr lvl="2" marL="1131840" indent="-43812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Technikai értelemben az olyan jelet nevezzük analóg jelnek, amelynek két szélső értéke között folyamatos átmenet lehetsé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8957622-3D0E-42F9-88F4-06BE548652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analóg és a digitális fogalmak értelmezése (2)</a:t>
            </a: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2" marL="1131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Digitális </a:t>
            </a:r>
            <a:endParaRPr b="0" lang="en-US" sz="2800" spc="-1" strike="noStrike">
              <a:solidFill>
                <a:srgbClr val="000000"/>
              </a:solidFill>
              <a:latin typeface="Arial"/>
            </a:endParaRPr>
          </a:p>
          <a:p>
            <a:pPr lvl="2" marL="1131840" indent="-43812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a:rPr>
              <a:t>Valamely változó jelenségnek, vagy fizikai mennyiségnek diszkrét (nem folytonos), megszámlálhatóan felaprózott, s így számokkal felírt értékein alapuló ábrázolása.</a:t>
            </a:r>
            <a:endParaRPr b="0" lang="en-US" sz="2300" spc="-1" strike="noStrike">
              <a:solidFill>
                <a:srgbClr val="000000"/>
              </a:solidFill>
              <a:latin typeface="Arial"/>
            </a:endParaRPr>
          </a:p>
          <a:p>
            <a:pPr lvl="2" marL="1131840" indent="-43812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a:rPr>
              <a:t>A "digitális" szót leggyakrabban a számítástechnika és az elektronika területén használják, különösen azokon a területeken, ahol a való világ információit konvertálják át bináris számokká. </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C71E8FC-5244-4745-99B9-289D0AFA58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lektronikus kommunikáció </a:t>
            </a:r>
            <a:endParaRPr b="1" lang="en-US" sz="3900" spc="-1" strike="noStrike">
              <a:solidFill>
                <a:srgbClr val="330066"/>
              </a:solidFill>
              <a:latin typeface="Arial"/>
            </a:endParaRPr>
          </a:p>
        </p:txBody>
      </p:sp>
      <p:pic>
        <p:nvPicPr>
          <p:cNvPr id="110" name="" descr=""/>
          <p:cNvPicPr/>
          <p:nvPr/>
        </p:nvPicPr>
        <p:blipFill>
          <a:blip r:embed="rId1"/>
          <a:stretch/>
        </p:blipFill>
        <p:spPr>
          <a:xfrm>
            <a:off x="755640" y="2565360"/>
            <a:ext cx="7835760" cy="20858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51787604-3B35-43AC-A2A2-C0CC203DF6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ámítógép-hálózati alapok</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ámítógép-hálózato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gymással összekapcsolt, önálló számítógépek rendszer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ét számítógép akkor nevezhető összekapcsoltnak, ha azok egymás között információcserére képesek.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3FDF4B2-F74E-462E-9B24-004D3232A8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ámítógép-hálózati alapok</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Hálózati</a:t>
            </a:r>
            <a:r>
              <a:rPr b="0" lang="hu-HU" sz="3000" spc="-1" strike="noStrike">
                <a:solidFill>
                  <a:srgbClr val="000000"/>
                </a:solidFill>
                <a:latin typeface="Arial"/>
              </a:rPr>
              <a:t> </a:t>
            </a:r>
            <a:r>
              <a:rPr b="1" lang="hu-HU" sz="3000" spc="-1" strike="noStrike">
                <a:solidFill>
                  <a:srgbClr val="000000"/>
                </a:solidFill>
                <a:latin typeface="Arial"/>
              </a:rPr>
              <a:t>topográfi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összekapcsolás jellemzésénél az egyes számítógépek </a:t>
            </a:r>
            <a:r>
              <a:rPr b="0" i="1" lang="hu-HU" sz="3000" spc="-1" strike="noStrike">
                <a:solidFill>
                  <a:srgbClr val="000000"/>
                </a:solidFill>
                <a:latin typeface="Arial"/>
              </a:rPr>
              <a:t>elhelyezkedését</a:t>
            </a:r>
            <a:r>
              <a:rPr b="0" lang="hu-HU" sz="3000" spc="-1" strike="noStrike">
                <a:solidFill>
                  <a:srgbClr val="000000"/>
                </a:solidFill>
                <a:latin typeface="Arial"/>
              </a:rPr>
              <a:t> vesszük figyelemb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Hálózati topológia</a:t>
            </a:r>
            <a:r>
              <a:rPr b="0" lang="hu-H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hálózatok elemei közötti strukturális kapcsolatokat vesszük figyelembe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52606F2-0EFE-4180-958F-25BCCB1038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PA</cp:lastModifiedBy>
  <dcterms:modified xsi:type="dcterms:W3CDTF">2006-06-23T21:09:34Z</dcterms:modified>
  <cp:revision>92</cp:revision>
  <dc:subject/>
  <dc:title>PowerPoint bemutató</dc:title>
</cp:coreProperties>
</file>