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F01-DFA0-4415-8D46-FE08C30DA38E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28A-AEEF-47AB-9FBF-AEE94070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AD0-05B9-4BAE-B147-1DEF75C8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001-75A6-4A7F-854A-87FA0CFE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EF0-ACFE-464C-B4E7-130BA545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9E87-CE4E-4A42-B6AD-9E774C66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72CF-CDEE-4614-8186-368DEFE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D2D-0D40-49A9-A9CD-9D5E8D7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A155-821E-4FCE-BB28-F424DBF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AC5D-5319-421A-8FC9-A38A97E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91E-C40B-4247-AAD6-C6B24D2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C483-6DAA-400A-A96F-46B8376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38B-0622-4BF2-8866-2771246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75D5-B62C-4B37-A379-FBDE36B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9FF-3262-4F0C-B0CF-995AC45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FA2-EB67-4180-A4D4-6271C9F8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4F71-B5BF-4773-B191-6B15CC0E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EF9-17C0-4A73-A7C7-F6FFAC74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7A6-5393-4F91-8269-78B8A66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13F-932D-4CFA-A25B-CA2A654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59E-4779-4090-9E13-FDD177CE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20C-B4A7-4346-818B-B821BC45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158-38C0-44AC-8F7C-582E117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FD8-651C-4F0A-96D4-8F3A7CF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A04-6592-4D2C-ABA5-DB9FAA0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FF0D-EDF0-495A-B8E9-1E223F662D3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ED1-5CE3-4DA3-8696-55E9221806B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D1F-F4C8-44E2-B577-73FE2082333A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88A-31B7-4360-BA6D-73FA0E8E126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fi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 környezet tárol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értelmezett munkakönyv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jelentkezéskor végrehajtandó parancssoroz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okumentumok hely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éni beállításo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sztal, Tálca, Vezérlőpult, Start, stb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helyi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vándorló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központ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ott gépre vagy adott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használóra vonatkoz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43640" y="4221000"/>
            <a:ext cx="2700360" cy="26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8B1-F6C6-4A30-AB00-01CEA43BE1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ügyelet eszköz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zir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ítógép működésével és a felhasználó által elvégezhető műveletekkel kapcsolatos beállítások, pl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jelszórend, kizárási szabályok, felhasználók rendszerre vonatkozó jogosultságai, naplózás, rendszerszintű biztonsági eszközö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ét szintű: </a:t>
            </a: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TILTOTT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u-HU" sz="2200" spc="-1" strike="noStrike">
                <a:solidFill>
                  <a:srgbClr val="d8d8ec"/>
                </a:solidFill>
                <a:latin typeface="Arial"/>
              </a:rPr>
              <a:t>ENGEDÉLYEZETT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ítógép és tartomány szinten is definiálhat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jelentkezési engedé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ozzáférési műveleteket korlát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rőforrás-j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ott erőforrásra vonatkoz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4602240"/>
            <a:ext cx="309744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068-5DAF-4C9B-AB8C-646DCC91A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llomány-szerve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lapelv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FAT) NT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jogosultsági rendsz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lapelv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gkisebb elégséges jogok e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portos jogosultság-kez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iltás mindig erősebb az engedélyn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forrásból származó jogok összeadód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F92-0CEC-4C2F-9744-9902B1A04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llományokra vonatkozó jog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Összetett (nevesített) jog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jes hozzáfér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ódos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lvasás és végrehaj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lvas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Ír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emi jog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48400" y="1484280"/>
            <a:ext cx="3495600" cy="445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2843280" y="4076280"/>
            <a:ext cx="309708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EEF-D372-4DF8-8F3B-0716830BF0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goszt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egosztható erőforráso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nyvtárak, nyomtat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dminisztratív megoszt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tomatikusan létrejön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egosztási név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$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ejtett megosztás, elérése csak UNC-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jogosultsá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TFS alatt azonos az erőforrás helyén érvényben levő jogosultsági rendszerr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lapértelmezés szerint) egyszerűsítet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nyvtár: olvasás, módosítás, teljes hozzáf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ó: nyomtatás, dokumentum-kezelés, nyomtató-beáll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E46-E1B2-437E-9E86-B77206FAD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gosztás folyam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gosz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rőforrás - logikai név összerendel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satlakoz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érhető erőforrások jegyzéke alapj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NC-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ügyelet, ellenőrz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3D6-B40B-4CEB-A3AF-FDA3C7C0E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gosztott erőforrás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87560" cy="273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97480" y="3716280"/>
            <a:ext cx="2846520" cy="23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08000" y="1700280"/>
          <a:ext cx="3097080" cy="30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700280"/>
                    <a:ext cx="3097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189080" y="2852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268360" y="3860640"/>
            <a:ext cx="3924360" cy="27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665-148A-41A3-9DCE-4857FD4E6D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0AF5-BC67-4A0A-8920-B8BE395393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rtén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S Windows verz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00000" y="2473200"/>
            <a:ext cx="7380360" cy="2562480"/>
            <a:chOff x="900000" y="2473200"/>
            <a:chExt cx="7380360" cy="2562480"/>
          </a:xfrm>
        </p:grpSpPr>
        <p:cxnSp>
          <p:nvCxnSpPr>
            <p:cNvPr id="104" name="_s969756"/>
            <p:cNvCxnSpPr>
              <a:stCxn id="105" idx="1"/>
              <a:endCxn id="106" idx="2"/>
            </p:cNvCxnSpPr>
            <p:nvPr/>
          </p:nvCxnSpPr>
          <p:spPr>
            <a:xfrm rot="10800000">
              <a:off x="2537280" y="4328280"/>
              <a:ext cx="1587960" cy="480240"/>
            </a:xfrm>
            <a:prstGeom prst="bentConnector2">
              <a:avLst/>
            </a:prstGeom>
            <a:ln w="9360">
              <a:solidFill>
                <a:srgbClr val="0033cc"/>
              </a:solidFill>
              <a:miter/>
            </a:ln>
          </p:spPr>
        </p:cxnSp>
        <p:cxnSp>
          <p:nvCxnSpPr>
            <p:cNvPr id="107" name="_s969752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6791760" y="2772000"/>
              <a:ext cx="216720" cy="193248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10" name="_s969750"/>
            <p:cNvCxnSpPr>
              <a:stCxn id="111" idx="0"/>
              <a:endCxn id="109" idx="2"/>
            </p:cNvCxnSpPr>
            <p:nvPr/>
          </p:nvCxnSpPr>
          <p:spPr>
            <a:xfrm flipV="1" rot="16200000">
              <a:off x="6108120" y="3455640"/>
              <a:ext cx="216720" cy="56556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12" name="_s969748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5460120" y="3372480"/>
              <a:ext cx="216720" cy="73224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14" name="_s969744"/>
            <p:cNvCxnSpPr>
              <a:stCxn id="106" idx="0"/>
              <a:endCxn id="115" idx="2"/>
            </p:cNvCxnSpPr>
            <p:nvPr/>
          </p:nvCxnSpPr>
          <p:spPr>
            <a:xfrm flipH="1" flipV="1" rot="5400000">
              <a:off x="2732760" y="3434760"/>
              <a:ext cx="216720" cy="60732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16" name="_s969742"/>
            <p:cNvCxnSpPr>
              <a:stCxn id="117" idx="0"/>
              <a:endCxn id="115" idx="2"/>
            </p:cNvCxnSpPr>
            <p:nvPr/>
          </p:nvCxnSpPr>
          <p:spPr>
            <a:xfrm flipH="1" flipV="1" rot="5400000">
              <a:off x="2121120" y="2822760"/>
              <a:ext cx="216720" cy="183132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18" name="_s969740"/>
            <p:cNvCxnSpPr>
              <a:stCxn id="109" idx="0"/>
              <a:endCxn id="119" idx="2"/>
            </p:cNvCxnSpPr>
            <p:nvPr/>
          </p:nvCxnSpPr>
          <p:spPr>
            <a:xfrm flipV="1" rot="16200000">
              <a:off x="5230800" y="2441160"/>
              <a:ext cx="200880" cy="120708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20" name="_s969738"/>
            <p:cNvCxnSpPr>
              <a:stCxn id="115" idx="0"/>
              <a:endCxn id="119" idx="2"/>
            </p:cNvCxnSpPr>
            <p:nvPr/>
          </p:nvCxnSpPr>
          <p:spPr>
            <a:xfrm flipH="1" flipV="1" rot="5400000">
              <a:off x="3835440" y="2253240"/>
              <a:ext cx="200880" cy="158292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19" name="_s969734"/>
            <p:cNvSpPr/>
            <p:nvPr/>
          </p:nvSpPr>
          <p:spPr>
            <a:xfrm>
              <a:off x="4233960" y="2473200"/>
              <a:ext cx="9853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969735"/>
            <p:cNvSpPr/>
            <p:nvPr/>
          </p:nvSpPr>
          <p:spPr>
            <a:xfrm>
              <a:off x="2820960" y="3159000"/>
              <a:ext cx="64548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asztal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rendszere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969737"/>
            <p:cNvSpPr/>
            <p:nvPr/>
          </p:nvSpPr>
          <p:spPr>
            <a:xfrm>
              <a:off x="5610600" y="3159000"/>
              <a:ext cx="64548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hálóza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rendszere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969741"/>
            <p:cNvSpPr/>
            <p:nvPr/>
          </p:nvSpPr>
          <p:spPr>
            <a:xfrm>
              <a:off x="900000" y="3860640"/>
              <a:ext cx="82692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v1/v2/v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969743"/>
            <p:cNvSpPr/>
            <p:nvPr/>
          </p:nvSpPr>
          <p:spPr>
            <a:xfrm>
              <a:off x="2123640" y="3860640"/>
              <a:ext cx="82728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95/98/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969747"/>
            <p:cNvSpPr/>
            <p:nvPr/>
          </p:nvSpPr>
          <p:spPr>
            <a:xfrm>
              <a:off x="4788360" y="3860640"/>
              <a:ext cx="82836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3.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969749"/>
            <p:cNvSpPr/>
            <p:nvPr/>
          </p:nvSpPr>
          <p:spPr>
            <a:xfrm>
              <a:off x="6085080" y="3860640"/>
              <a:ext cx="82692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969751"/>
            <p:cNvSpPr/>
            <p:nvPr/>
          </p:nvSpPr>
          <p:spPr>
            <a:xfrm>
              <a:off x="7452000" y="3860640"/>
              <a:ext cx="82836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969755"/>
            <p:cNvSpPr/>
            <p:nvPr/>
          </p:nvSpPr>
          <p:spPr>
            <a:xfrm>
              <a:off x="4139640" y="4581360"/>
              <a:ext cx="827280" cy="4543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Win X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05" idx="3"/>
              <a:endCxn id="108" idx="2"/>
            </p:cNvCxnSpPr>
            <p:nvPr/>
          </p:nvCxnSpPr>
          <p:spPr>
            <a:xfrm flipV="1">
              <a:off x="4982040" y="4328640"/>
              <a:ext cx="2885040" cy="480240"/>
            </a:xfrm>
            <a:prstGeom prst="bentConnector2">
              <a:avLst/>
            </a:prstGeom>
            <a:ln w="9360">
              <a:solidFill>
                <a:srgbClr val="0033cc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165-C59F-4CCB-A33C-802F5A191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áltozat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Windows 3.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nkacso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Windows NT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rtom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Windows 2000/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rváltozatok,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dvanced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Datacenter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Windows X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tmenet az asztali („home computing”) és a hálózati rendszerek közö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b W98/ME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b. W2K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Starter: csak a 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ávol-Kele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F66-9844-4109-8E60-B3FCCDBE80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S hálózati filozófi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lapértelmezés szerint egyenrang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33cc"/>
                </a:solidFill>
                <a:latin typeface="Arial"/>
              </a:rPr>
              <a:t>munkacso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ervert tartalmazó munkacsoportban (=</a:t>
            </a:r>
            <a:r>
              <a:rPr b="0" lang="hu-HU" sz="3000" spc="-1" strike="noStrike">
                <a:solidFill>
                  <a:srgbClr val="0033cc"/>
                </a:solidFill>
                <a:latin typeface="Arial"/>
              </a:rPr>
              <a:t>tartomány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 kialakítható </a:t>
            </a:r>
            <a:r>
              <a:rPr b="0" lang="hu-HU" sz="3000" spc="-1" strike="noStrike">
                <a:solidFill>
                  <a:srgbClr val="008000"/>
                </a:solidFill>
                <a:latin typeface="Arial"/>
              </a:rPr>
              <a:t>heterogén modell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nosítás és jogosultsági rendszer C/S alapok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osztások P2P alapok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artományi megvalósí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D nélkül: PDC (+BDC-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D-vel: AD szerver + munkaállom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B3C-0519-4D53-89EF-F9A0380D79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artomány alapú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Névté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lózatba tartozó objektumok AD-ben szereplő gyűjtemén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Tartomá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lózatszervezés alapegysége, a névtér egy rés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Tartományf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artományok összekapcsolásával kialakuló névté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bizalmi viszo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gvalósításának eszkö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Erd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tartományfa összekapcsolásával létrejövő hivatkozási objek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minisztratív szerep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Telephe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rtomány fizikai elrendezésének leírására szolgáló e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838-B8EF-4A0B-B7FF-132F8B2F0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artomán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-2579" r="0" b="24251"/>
          <a:stretch/>
        </p:blipFill>
        <p:spPr>
          <a:xfrm>
            <a:off x="611280" y="1413000"/>
            <a:ext cx="4681440" cy="401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provider.jpg (63861 bytes)"/>
          <p:cNvPicPr/>
          <p:nvPr/>
        </p:nvPicPr>
        <p:blipFill>
          <a:blip r:embed="rId2"/>
          <a:srcRect l="0" t="0" r="5653" b="3854"/>
          <a:stretch/>
        </p:blipFill>
        <p:spPr>
          <a:xfrm>
            <a:off x="4705200" y="2492280"/>
            <a:ext cx="4187880" cy="36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045-2A5C-4175-B981-9355E8DBD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onosítási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öbb-felhasználós és hálózati modellb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erkezete, működése az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33cc"/>
                </a:solidFill>
                <a:latin typeface="Arial"/>
              </a:rPr>
              <a:t>többszintű 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zonosítási rendsz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, folyamat, eszkö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33cc"/>
                </a:solidFill>
                <a:latin typeface="Arial"/>
              </a:rPr>
              <a:t>egységes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hivatkozási rendsz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SI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Secure ID – létrehozáskor generálódó, nem reprodukálható azonosí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AC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jogosultság-ellenőrzési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árolása elté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endszerleíró adatbázis (registry) / 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349-77AD-4FEE-A71E-AB6C1ABC9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használó-kezel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épített csopor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lapértelmezés szerint létez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gsága hozzárendelhet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ndszerga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iemelt felhasználó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elhasználó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endég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iztonsági másolat felelősö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inamikus csopor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200" spc="-1" strike="noStrike">
                <a:solidFill>
                  <a:srgbClr val="000000"/>
                </a:solidFill>
                <a:latin typeface="Arial"/>
              </a:rPr>
              <a:t>tagsága nem állíthat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gjai a környezet / elvégzett művelet függvényében változ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Minden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itelesített felhasználó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évtelen bejelentkez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nteraktí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álóz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A10-4DF5-47D7-B2B5-166CEE9BA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zsola</cp:lastModifiedBy>
  <dcterms:modified xsi:type="dcterms:W3CDTF">2006-06-22T14:07:30Z</dcterms:modified>
  <cp:revision>82</cp:revision>
  <dc:subject/>
  <dc:title>PowerPoint bemutató</dc:title>
</cp:coreProperties>
</file>