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4.wmf" ContentType="image/x-wmf"/>
  <Override PartName="/ppt/media/image21.jpeg" ContentType="image/jpeg"/>
  <Override PartName="/ppt/media/image19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38C8-B64F-431D-8137-D5696BCA372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atos móds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B3F-BBBB-42AA-BAD9-8AECEA1B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0520"/>
            <a:ext cx="822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455-0188-4992-9040-E7E0FC7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69228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052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052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F55-6C69-44C5-8010-B816B994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264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692280"/>
            <a:ext cx="264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692280"/>
            <a:ext cx="264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0520"/>
            <a:ext cx="264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0520"/>
            <a:ext cx="264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0520"/>
            <a:ext cx="264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F4A-E727-4D7D-BA97-5AF1077E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EF8-ED31-4B47-83B9-34FF6976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C03-2DEC-4EFA-BFFC-2342621F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15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692280"/>
            <a:ext cx="4015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15E-FF0C-4250-B653-E23AE71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28E-DDE9-4AAB-8DF9-1DC6724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77D-94F0-4641-BBB2-59EC3BF3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692280"/>
            <a:ext cx="4015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052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84B-0A92-410A-A82C-303304F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15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69228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052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FBB-652B-49B9-A532-2A75AA3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692280"/>
            <a:ext cx="40158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0520"/>
            <a:ext cx="8229600" cy="25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EE1-CD2A-4DB1-850C-349F4C6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3640" y="6244920"/>
            <a:ext cx="468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FOP 3.3.1–P.-2004-06-0071/1.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5D3F-3C33-49F5-BF45-2CB9614D236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303960"/>
            <a:ext cx="1332000" cy="554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24720" y="6257880"/>
            <a:ext cx="1173240" cy="600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222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Üzleti terv készíté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álint Já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hász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enczy Ti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zentáció: Juhász Má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üzleti terv-készítés (és megvalósítás) folyam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620640"/>
            <a:ext cx="9144000" cy="5559120"/>
            <a:chOff x="0" y="620640"/>
            <a:chExt cx="9144000" cy="5559120"/>
          </a:xfrm>
        </p:grpSpPr>
        <p:grpSp>
          <p:nvGrpSpPr>
            <p:cNvPr id="147" name=""/>
            <p:cNvGrpSpPr/>
            <p:nvPr/>
          </p:nvGrpSpPr>
          <p:grpSpPr>
            <a:xfrm>
              <a:off x="468360" y="1068120"/>
              <a:ext cx="8191440" cy="5111640"/>
              <a:chOff x="468360" y="1068120"/>
              <a:chExt cx="8191440" cy="5111640"/>
            </a:xfrm>
          </p:grpSpPr>
          <p:sp>
            <p:nvSpPr>
              <p:cNvPr id="148" name=""/>
              <p:cNvSpPr/>
              <p:nvPr/>
            </p:nvSpPr>
            <p:spPr>
              <a:xfrm>
                <a:off x="4140360" y="1095120"/>
                <a:ext cx="880920" cy="2836800"/>
              </a:xfrm>
              <a:prstGeom prst="downArrow">
                <a:avLst>
                  <a:gd name="adj1" fmla="val 55556"/>
                  <a:gd name="adj2" fmla="val 52985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9" name="_s14371"/>
              <p:cNvCxnSpPr>
                <a:stCxn id="150" idx="0"/>
                <a:endCxn id="151" idx="2"/>
              </p:cNvCxnSpPr>
              <p:nvPr/>
            </p:nvCxnSpPr>
            <p:spPr>
              <a:xfrm flipV="1" rot="16200000">
                <a:off x="5859000" y="1286280"/>
                <a:ext cx="229320" cy="28202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_s14372"/>
              <p:cNvCxnSpPr>
                <a:stCxn id="153" idx="0"/>
                <a:endCxn id="151" idx="2"/>
              </p:cNvCxnSpPr>
              <p:nvPr/>
            </p:nvCxnSpPr>
            <p:spPr>
              <a:xfrm flipV="1">
                <a:off x="4563720" y="2581920"/>
                <a:ext cx="2520" cy="2293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_s14373"/>
              <p:cNvCxnSpPr>
                <a:stCxn id="155" idx="0"/>
                <a:endCxn id="151" idx="2"/>
              </p:cNvCxnSpPr>
              <p:nvPr/>
            </p:nvCxnSpPr>
            <p:spPr>
              <a:xfrm flipH="1" flipV="1" rot="5400000">
                <a:off x="3040560" y="1287360"/>
                <a:ext cx="229320" cy="28184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151" name="_s14374"/>
              <p:cNvSpPr/>
              <p:nvPr/>
            </p:nvSpPr>
            <p:spPr>
              <a:xfrm>
                <a:off x="3051360" y="1638000"/>
                <a:ext cx="3025800" cy="944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920" rIns="124920" tIns="62640" bIns="62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ol tartunk most 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_s14375"/>
              <p:cNvSpPr/>
              <p:nvPr/>
            </p:nvSpPr>
            <p:spPr>
              <a:xfrm>
                <a:off x="468360" y="2811240"/>
                <a:ext cx="2554200" cy="606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920" rIns="124920" tIns="62640" bIns="62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Környezet-elemzé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_s14376"/>
              <p:cNvSpPr/>
              <p:nvPr/>
            </p:nvSpPr>
            <p:spPr>
              <a:xfrm>
                <a:off x="3287880" y="2811240"/>
                <a:ext cx="2552760" cy="606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920" rIns="124920" tIns="62640" bIns="62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Érintettek elemzé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_s14377"/>
              <p:cNvSpPr/>
              <p:nvPr/>
            </p:nvSpPr>
            <p:spPr>
              <a:xfrm>
                <a:off x="6105600" y="2811240"/>
                <a:ext cx="2554200" cy="606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920" rIns="124920" tIns="62640" bIns="62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aját magunk elemzé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40360" y="4046400"/>
                <a:ext cx="880920" cy="2133360"/>
              </a:xfrm>
              <a:prstGeom prst="downArrow">
                <a:avLst>
                  <a:gd name="adj1" fmla="val 55556"/>
                  <a:gd name="adj2" fmla="val 3984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89360" y="3904920"/>
                <a:ext cx="3359160" cy="608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68760" bIns="68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 probléma megfogalmazá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7920" y="1068120"/>
                <a:ext cx="1539720" cy="608040"/>
              </a:xfrm>
              <a:custGeom>
                <a:avLst/>
                <a:gdLst>
                  <a:gd name="textAreaLeft" fmla="*/ 269280 w 1539720"/>
                  <a:gd name="textAreaRight" fmla="*/ 1116360 w 1539720"/>
                  <a:gd name="textAreaTop" fmla="*/ 81360 h 608040"/>
                  <a:gd name="textAreaBottom" fmla="*/ 526680 h 60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9858600">
                <a:off x="6069960" y="4917600"/>
                <a:ext cx="1320840" cy="608040"/>
              </a:xfrm>
              <a:custGeom>
                <a:avLst/>
                <a:gdLst>
                  <a:gd name="textAreaLeft" fmla="*/ 231120 w 1320840"/>
                  <a:gd name="textAreaRight" fmla="*/ 957600 w 1320840"/>
                  <a:gd name="textAreaTop" fmla="*/ 81360 h 608040"/>
                  <a:gd name="textAreaBottom" fmla="*/ 526680 h 60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00520" y="4512960"/>
                <a:ext cx="3357360" cy="608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 cél megfogalmazá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0" y="1311120"/>
              <a:ext cx="1871640" cy="1114560"/>
            </a:xfrm>
            <a:prstGeom prst="ellipse">
              <a:avLst/>
            </a:prstGeom>
            <a:solidFill>
              <a:srgbClr val="ffff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áció- és adatgyűjt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72360" y="4838760"/>
              <a:ext cx="1871640" cy="1114200"/>
            </a:xfrm>
            <a:prstGeom prst="ellipse">
              <a:avLst/>
            </a:prstGeom>
            <a:solidFill>
              <a:srgbClr val="ffff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áció- és adatgyűjt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43280" y="620640"/>
              <a:ext cx="3357360" cy="608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68760" bIns="68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lyzetelemz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üzleti terv-készítés (és megvalósítás) folyamata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71640" y="720360"/>
            <a:ext cx="5338440" cy="5464800"/>
            <a:chOff x="1871640" y="720360"/>
            <a:chExt cx="5338440" cy="5464800"/>
          </a:xfrm>
        </p:grpSpPr>
        <p:sp>
          <p:nvSpPr>
            <p:cNvPr id="166" name=""/>
            <p:cNvSpPr/>
            <p:nvPr/>
          </p:nvSpPr>
          <p:spPr>
            <a:xfrm>
              <a:off x="4119120" y="1112400"/>
              <a:ext cx="841680" cy="4450320"/>
            </a:xfrm>
            <a:prstGeom prst="downArrow">
              <a:avLst>
                <a:gd name="adj1" fmla="val 55556"/>
                <a:gd name="adj2" fmla="val 6034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_s15389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5829840" y="3991680"/>
              <a:ext cx="206640" cy="1800"/>
            </a:xfrm>
            <a:prstGeom prst="bentConnector3">
              <a:avLst>
                <a:gd name="adj1" fmla="val 49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5390"/>
            <p:cNvCxnSpPr>
              <a:stCxn id="171" idx="0"/>
              <a:endCxn id="172" idx="2"/>
            </p:cNvCxnSpPr>
            <p:nvPr/>
          </p:nvCxnSpPr>
          <p:spPr>
            <a:xfrm flipV="1">
              <a:off x="3149640" y="3889440"/>
              <a:ext cx="1800" cy="20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5391"/>
            <p:cNvCxnSpPr>
              <a:stCxn id="169" idx="0"/>
              <a:endCxn id="174" idx="2"/>
            </p:cNvCxnSpPr>
            <p:nvPr/>
          </p:nvCxnSpPr>
          <p:spPr>
            <a:xfrm flipV="1" rot="16200000">
              <a:off x="5131800" y="2559240"/>
              <a:ext cx="209160" cy="1393200"/>
            </a:xfrm>
            <a:prstGeom prst="bentConnector3">
              <a:avLst>
                <a:gd name="adj1" fmla="val 494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5392"/>
            <p:cNvCxnSpPr>
              <a:stCxn id="172" idx="0"/>
              <a:endCxn id="174" idx="2"/>
            </p:cNvCxnSpPr>
            <p:nvPr/>
          </p:nvCxnSpPr>
          <p:spPr>
            <a:xfrm flipH="1" flipV="1" rot="5400000">
              <a:off x="3740400" y="2560680"/>
              <a:ext cx="209160" cy="1390680"/>
            </a:xfrm>
            <a:prstGeom prst="bentConnector3">
              <a:avLst>
                <a:gd name="adj1" fmla="val 494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5393"/>
            <p:cNvCxnSpPr>
              <a:stCxn id="174" idx="0"/>
              <a:endCxn id="177" idx="2"/>
            </p:cNvCxnSpPr>
            <p:nvPr/>
          </p:nvCxnSpPr>
          <p:spPr>
            <a:xfrm flipV="1">
              <a:off x="4539960" y="2000160"/>
              <a:ext cx="1800" cy="20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5394"/>
            <p:cNvSpPr/>
            <p:nvPr/>
          </p:nvSpPr>
          <p:spPr>
            <a:xfrm>
              <a:off x="3278520" y="1471320"/>
              <a:ext cx="2522880" cy="527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160" rIns="119160" tIns="59760" bIns="59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i a jövőbeli célunk 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5395"/>
            <p:cNvSpPr/>
            <p:nvPr/>
          </p:nvSpPr>
          <p:spPr>
            <a:xfrm>
              <a:off x="3230280" y="2206800"/>
              <a:ext cx="2620080" cy="946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160" rIns="119160" tIns="59760" bIns="59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zámszerűsíthető-e 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396"/>
            <p:cNvSpPr/>
            <p:nvPr/>
          </p:nvSpPr>
          <p:spPr>
            <a:xfrm>
              <a:off x="2202840" y="3360600"/>
              <a:ext cx="1892160" cy="527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9160" rIns="119160" tIns="59760" bIns="59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g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397"/>
            <p:cNvSpPr/>
            <p:nvPr/>
          </p:nvSpPr>
          <p:spPr>
            <a:xfrm>
              <a:off x="4986720" y="3360600"/>
              <a:ext cx="1892160" cy="527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040" rIns="13104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e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398"/>
            <p:cNvSpPr/>
            <p:nvPr/>
          </p:nvSpPr>
          <p:spPr>
            <a:xfrm>
              <a:off x="1871640" y="4095720"/>
              <a:ext cx="2554560" cy="527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040" rIns="13104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zámszerűsíté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399"/>
            <p:cNvSpPr/>
            <p:nvPr/>
          </p:nvSpPr>
          <p:spPr>
            <a:xfrm>
              <a:off x="4655520" y="4095720"/>
              <a:ext cx="2554560" cy="527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040" rIns="131040" tIns="65520" bIns="65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inőségi meghatároz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14560" y="720360"/>
              <a:ext cx="3206160" cy="57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040" rIns="131040" tIns="65520" bIns="65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 cél megfogalmazá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39040" y="5604120"/>
              <a:ext cx="3206160" cy="581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040" rIns="131040" tIns="65520" bIns="65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 konkrét célkitűzés meghatározá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083120" y="189000"/>
            <a:ext cx="880920" cy="527040"/>
          </a:xfrm>
          <a:prstGeom prst="downArrow">
            <a:avLst>
              <a:gd name="adj1" fmla="val 55556"/>
              <a:gd name="adj2" fmla="val 16454"/>
            </a:avLst>
          </a:prstGeom>
          <a:solidFill>
            <a:srgbClr val="ff99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üzleti terv-készítés (és megvalósítás) folyamata 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-720" y="0"/>
            <a:ext cx="9144720" cy="6522480"/>
            <a:chOff x="-720" y="0"/>
            <a:chExt cx="9144720" cy="6522480"/>
          </a:xfrm>
        </p:grpSpPr>
        <p:sp>
          <p:nvSpPr>
            <p:cNvPr id="183" name=""/>
            <p:cNvSpPr/>
            <p:nvPr/>
          </p:nvSpPr>
          <p:spPr>
            <a:xfrm>
              <a:off x="3691080" y="0"/>
              <a:ext cx="880920" cy="981360"/>
            </a:xfrm>
            <a:prstGeom prst="downArrow">
              <a:avLst>
                <a:gd name="adj1" fmla="val 55556"/>
                <a:gd name="adj2" fmla="val 18330"/>
              </a:avLst>
            </a:prstGeom>
            <a:solidFill>
              <a:srgbClr val="ff99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-720" y="981360"/>
              <a:ext cx="9144720" cy="5541120"/>
              <a:chOff x="-720" y="981360"/>
              <a:chExt cx="9144720" cy="5541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627280" y="981360"/>
                <a:ext cx="6516720" cy="5541120"/>
                <a:chOff x="2627280" y="981360"/>
                <a:chExt cx="6516720" cy="5541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27280" y="981360"/>
                  <a:ext cx="3206880" cy="6483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1040" rIns="131040" tIns="65520" bIns="65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A konkrét célkitűzés meghatározása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08360" y="1620720"/>
                  <a:ext cx="881280" cy="4901760"/>
                </a:xfrm>
                <a:prstGeom prst="downArrow">
                  <a:avLst>
                    <a:gd name="adj1" fmla="val 55556"/>
                    <a:gd name="adj2" fmla="val 9151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516720" y="2106000"/>
                  <a:ext cx="2627280" cy="1286280"/>
                </a:xfrm>
                <a:prstGeom prst="ellipse">
                  <a:avLst/>
                </a:prstGeom>
                <a:solidFill>
                  <a:srgbClr val="ffff00">
                    <a:alpha val="5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Ötlet, invenció, megoldási változato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-720" y="1117440"/>
                <a:ext cx="7513200" cy="3674520"/>
                <a:chOff x="-720" y="1117440"/>
                <a:chExt cx="7513200" cy="3674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92520" y="1513080"/>
                  <a:ext cx="1540800" cy="678600"/>
                </a:xfrm>
                <a:custGeom>
                  <a:avLst/>
                  <a:gdLst>
                    <a:gd name="textAreaLeft" fmla="*/ 269640 w 1540800"/>
                    <a:gd name="textAreaRight" fmla="*/ 1117080 w 1540800"/>
                    <a:gd name="textAreaTop" fmla="*/ 90720 h 678600"/>
                    <a:gd name="textAreaBottom" fmla="*/ 587880 h 67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_s16439"/>
                <p:cNvSpPr/>
                <p:nvPr/>
              </p:nvSpPr>
              <p:spPr>
                <a:xfrm>
                  <a:off x="3123000" y="2598840"/>
                  <a:ext cx="1980360" cy="626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360" rIns="126360" tIns="63000" bIns="63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tratégiai ter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_s16440"/>
                <p:cNvSpPr/>
                <p:nvPr/>
              </p:nvSpPr>
              <p:spPr>
                <a:xfrm>
                  <a:off x="2954160" y="3460320"/>
                  <a:ext cx="2315880" cy="626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360" rIns="126360" tIns="63000" bIns="63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ratív terv (Üzleti terv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_s16441"/>
                <p:cNvSpPr/>
                <p:nvPr/>
              </p:nvSpPr>
              <p:spPr>
                <a:xfrm>
                  <a:off x="2739600" y="1894320"/>
                  <a:ext cx="2743920" cy="469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360" rIns="126360" tIns="63000" bIns="63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gyan akarjuk elérni 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_s16442"/>
                <p:cNvSpPr/>
                <p:nvPr/>
              </p:nvSpPr>
              <p:spPr>
                <a:xfrm>
                  <a:off x="3123000" y="4321800"/>
                  <a:ext cx="1976760" cy="470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360" rIns="126360" tIns="63000" bIns="63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evékenységi  ter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95" name="_s16443"/>
                <p:cNvCxnSpPr>
                  <a:stCxn id="191" idx="0"/>
                  <a:endCxn id="193" idx="2"/>
                </p:cNvCxnSpPr>
                <p:nvPr/>
              </p:nvCxnSpPr>
              <p:spPr>
                <a:xfrm flipV="1" rot="16200000">
                  <a:off x="3993840" y="2479680"/>
                  <a:ext cx="235800" cy="1800"/>
                </a:xfrm>
                <a:prstGeom prst="bentConnector3">
                  <a:avLst>
                    <a:gd name="adj1" fmla="val 49541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6" name="_s16444"/>
                <p:cNvCxnSpPr>
                  <a:stCxn id="192" idx="0"/>
                  <a:endCxn id="191" idx="2"/>
                </p:cNvCxnSpPr>
                <p:nvPr/>
              </p:nvCxnSpPr>
              <p:spPr>
                <a:xfrm flipV="1">
                  <a:off x="4112640" y="3225600"/>
                  <a:ext cx="2160" cy="23436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97" name="_s16445"/>
                <p:cNvCxnSpPr>
                  <a:stCxn id="194" idx="0"/>
                  <a:endCxn id="192" idx="2"/>
                </p:cNvCxnSpPr>
                <p:nvPr/>
              </p:nvCxnSpPr>
              <p:spPr>
                <a:xfrm flipH="1" flipV="1" rot="5400000">
                  <a:off x="3994200" y="4203000"/>
                  <a:ext cx="235800" cy="1800"/>
                </a:xfrm>
                <a:prstGeom prst="bentConnector3">
                  <a:avLst>
                    <a:gd name="adj1" fmla="val 49541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98" name=""/>
                <p:cNvSpPr/>
                <p:nvPr/>
              </p:nvSpPr>
              <p:spPr>
                <a:xfrm>
                  <a:off x="-720" y="2267280"/>
                  <a:ext cx="1872360" cy="1244160"/>
                </a:xfrm>
                <a:prstGeom prst="ellipse">
                  <a:avLst/>
                </a:prstGeom>
                <a:solidFill>
                  <a:srgbClr val="ffff00">
                    <a:alpha val="5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formáció- és adatgyűjté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0180800">
                  <a:off x="5292720" y="1303200"/>
                  <a:ext cx="2157120" cy="891360"/>
                </a:xfrm>
                <a:custGeom>
                  <a:avLst/>
                  <a:gdLst>
                    <a:gd name="textAreaLeft" fmla="*/ 377280 w 2157120"/>
                    <a:gd name="textAreaRight" fmla="*/ 1563840 w 2157120"/>
                    <a:gd name="textAreaTop" fmla="*/ 119160 h 891360"/>
                    <a:gd name="textAreaBottom" fmla="*/ 772200 h 89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2637"/>
                      <a:lnTo>
                        <a:pt x="21168" y="7200"/>
                      </a:lnTo>
                      <a:lnTo>
                        <a:pt x="17280" y="0"/>
                      </a:lnTo>
                      <a:lnTo>
                        <a:pt x="12528" y="7200"/>
                      </a:lnTo>
                      <a:lnTo>
                        <a:pt x="14688" y="7200"/>
                      </a:lnTo>
                      <a:arcTo wR="7560" hR="21600" stAng="2717363" swAng="2325203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84440" y="4076640"/>
            <a:ext cx="4546440" cy="187164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nntarthatósá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068640"/>
            <a:ext cx="3246480" cy="2028960"/>
          </a:xfrm>
          <a:prstGeom prst="rect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5084640"/>
            <a:ext cx="500040" cy="3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80000" y="4941720"/>
            <a:ext cx="876240" cy="138240"/>
          </a:xfrm>
          <a:prstGeom prst="rightArrow">
            <a:avLst>
              <a:gd name="adj1" fmla="val 50000"/>
              <a:gd name="adj2" fmla="val 1584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653000"/>
            <a:ext cx="1908360" cy="41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gvalósí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516640"/>
            <a:ext cx="1908000" cy="41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806080" y="3796200"/>
            <a:ext cx="2209680" cy="646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szacsatol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1341360"/>
            <a:ext cx="880920" cy="3311640"/>
          </a:xfrm>
          <a:prstGeom prst="downArrow">
            <a:avLst>
              <a:gd name="adj1" fmla="val 55556"/>
              <a:gd name="adj2" fmla="val 618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üzleti terv-készítés (és megvalósítás) folyamata 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1880" y="1170720"/>
            <a:ext cx="4678920" cy="2836800"/>
            <a:chOff x="731880" y="1170720"/>
            <a:chExt cx="4678920" cy="2836800"/>
          </a:xfrm>
        </p:grpSpPr>
        <p:sp>
          <p:nvSpPr>
            <p:cNvPr id="210" name=""/>
            <p:cNvSpPr/>
            <p:nvPr/>
          </p:nvSpPr>
          <p:spPr>
            <a:xfrm>
              <a:off x="1708920" y="1170720"/>
              <a:ext cx="1271520" cy="501840"/>
            </a:xfrm>
            <a:custGeom>
              <a:avLst/>
              <a:gdLst>
                <a:gd name="textAreaLeft" fmla="*/ 222480 w 1271520"/>
                <a:gd name="textAreaRight" fmla="*/ 921960 w 1271520"/>
                <a:gd name="textAreaTop" fmla="*/ 66960 h 501840"/>
                <a:gd name="textAreaBottom" fmla="*/ 434880 h 50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7425"/>
            <p:cNvSpPr/>
            <p:nvPr/>
          </p:nvSpPr>
          <p:spPr>
            <a:xfrm>
              <a:off x="3461760" y="2140200"/>
              <a:ext cx="1634400" cy="4629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ratégiai ter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7426"/>
            <p:cNvSpPr/>
            <p:nvPr/>
          </p:nvSpPr>
          <p:spPr>
            <a:xfrm>
              <a:off x="3324600" y="2813760"/>
              <a:ext cx="1909080" cy="5198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ív terv (Üzleti terv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7427"/>
            <p:cNvSpPr/>
            <p:nvPr/>
          </p:nvSpPr>
          <p:spPr>
            <a:xfrm>
              <a:off x="3146400" y="1467360"/>
              <a:ext cx="2264400" cy="461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ogyan akarjuk elérni 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7428"/>
            <p:cNvSpPr/>
            <p:nvPr/>
          </p:nvSpPr>
          <p:spPr>
            <a:xfrm>
              <a:off x="3461760" y="3544560"/>
              <a:ext cx="1634400" cy="4629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040" rIns="104040" tIns="52200" bIns="52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vékenységi  ter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_s17429"/>
            <p:cNvCxnSpPr>
              <a:stCxn id="211" idx="0"/>
              <a:endCxn id="213" idx="2"/>
            </p:cNvCxnSpPr>
            <p:nvPr/>
          </p:nvCxnSpPr>
          <p:spPr>
            <a:xfrm flipV="1" rot="16200000">
              <a:off x="4173840" y="2034360"/>
              <a:ext cx="210240" cy="1800"/>
            </a:xfrm>
            <a:prstGeom prst="bentConnector3">
              <a:avLst>
                <a:gd name="adj1" fmla="val 499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7430"/>
            <p:cNvCxnSpPr>
              <a:stCxn id="212" idx="0"/>
              <a:endCxn id="211" idx="2"/>
            </p:cNvCxnSpPr>
            <p:nvPr/>
          </p:nvCxnSpPr>
          <p:spPr>
            <a:xfrm flipV="1">
              <a:off x="4279680" y="2603160"/>
              <a:ext cx="1440" cy="21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7431"/>
            <p:cNvCxnSpPr>
              <a:stCxn id="214" idx="0"/>
              <a:endCxn id="212" idx="2"/>
            </p:cNvCxnSpPr>
            <p:nvPr/>
          </p:nvCxnSpPr>
          <p:spPr>
            <a:xfrm flipV="1">
              <a:off x="4279680" y="3333600"/>
              <a:ext cx="1440" cy="21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>
              <a:off x="731880" y="1844640"/>
              <a:ext cx="1872360" cy="1113840"/>
            </a:xfrm>
            <a:prstGeom prst="ellipse">
              <a:avLst/>
            </a:prstGeom>
            <a:solidFill>
              <a:srgbClr val="ffff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ormáció- és adatgyűjt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rot="16200000">
            <a:off x="1898640" y="3870000"/>
            <a:ext cx="194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N N O V Á C I 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5651640" y="2923920"/>
            <a:ext cx="876240" cy="137880"/>
          </a:xfrm>
          <a:prstGeom prst="rightArrow">
            <a:avLst>
              <a:gd name="adj1" fmla="val 50000"/>
              <a:gd name="adj2" fmla="val 1588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1628640"/>
            <a:ext cx="2627280" cy="1152720"/>
          </a:xfrm>
          <a:prstGeom prst="ellipse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Ötlet, invenció, megoldási változ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180800">
            <a:off x="5651280" y="1197000"/>
            <a:ext cx="1130040" cy="417600"/>
          </a:xfrm>
          <a:custGeom>
            <a:avLst/>
            <a:gdLst>
              <a:gd name="textAreaLeft" fmla="*/ 197640 w 1130040"/>
              <a:gd name="textAreaRight" fmla="*/ 819360 w 1130040"/>
              <a:gd name="textAreaTop" fmla="*/ 55800 h 417600"/>
              <a:gd name="textAreaBottom" fmla="*/ 36180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áció- és adatforrások és -típus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95280" y="981000"/>
            <a:ext cx="8424720" cy="5040360"/>
            <a:chOff x="395280" y="981000"/>
            <a:chExt cx="8424720" cy="5040360"/>
          </a:xfrm>
        </p:grpSpPr>
        <p:sp>
          <p:nvSpPr>
            <p:cNvPr id="225" name=""/>
            <p:cNvSpPr/>
            <p:nvPr/>
          </p:nvSpPr>
          <p:spPr>
            <a:xfrm>
              <a:off x="4663800" y="2446200"/>
              <a:ext cx="4154760" cy="536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zekunder információk, adat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5280" y="2462040"/>
              <a:ext cx="4154400" cy="536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mer információk, adat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13080" y="2995560"/>
              <a:ext cx="3368880" cy="66996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ldolgozott információ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rbális, nyomtatott, elektroni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11240" y="981000"/>
              <a:ext cx="5054760" cy="536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rmáció- és adatgyűjt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39880" y="3716280"/>
              <a:ext cx="111240" cy="731880"/>
            </a:xfrm>
            <a:prstGeom prst="upArrow">
              <a:avLst>
                <a:gd name="adj1" fmla="val 50000"/>
                <a:gd name="adj2" fmla="val 164482"/>
              </a:avLst>
            </a:prstGeom>
            <a:gradFill rotWithShape="0">
              <a:gsLst>
                <a:gs pos="0">
                  <a:srgbClr val="ffcc00">
                    <a:alpha val="52156"/>
                  </a:srgbClr>
                </a:gs>
                <a:gs pos="100000">
                  <a:srgbClr val="ffff00">
                    <a:alpha val="5215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76600">
              <a:off x="5994000" y="1900080"/>
              <a:ext cx="987480" cy="203400"/>
            </a:xfrm>
            <a:prstGeom prst="leftArrow">
              <a:avLst>
                <a:gd name="adj1" fmla="val 50000"/>
                <a:gd name="adj2" fmla="val 121372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cc00">
                    <a:alpha val="52156"/>
                  </a:srgbClr>
                </a:gs>
              </a:gsLst>
              <a:lin ang="332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720" y="5289480"/>
              <a:ext cx="2021040" cy="7318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ülső adat- és információforr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7400" y="4556160"/>
              <a:ext cx="898560" cy="7300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l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5280" y="4535280"/>
              <a:ext cx="1011240" cy="754200"/>
            </a:xfrm>
            <a:prstGeom prst="rect">
              <a:avLst/>
            </a:prstGeom>
            <a:solidFill>
              <a:srgbClr val="ffff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nt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30440" y="5289480"/>
              <a:ext cx="2020680" cy="7318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lső adat- és információforr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1120" y="4556160"/>
              <a:ext cx="898560" cy="7300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l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28640" y="4535280"/>
              <a:ext cx="1011240" cy="754200"/>
            </a:xfrm>
            <a:prstGeom prst="rect">
              <a:avLst/>
            </a:prstGeom>
            <a:solidFill>
              <a:srgbClr val="ffff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nt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5600" y="5289480"/>
              <a:ext cx="2020680" cy="7318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ülső adat- és információforr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86280" y="4556160"/>
              <a:ext cx="898560" cy="7300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l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63800" y="4535280"/>
              <a:ext cx="1009800" cy="754200"/>
            </a:xfrm>
            <a:prstGeom prst="rect">
              <a:avLst/>
            </a:prstGeom>
            <a:solidFill>
              <a:srgbClr val="ffff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nt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9320" y="5289480"/>
              <a:ext cx="2020680" cy="7318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lső adat- és információforr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0000" y="4556160"/>
              <a:ext cx="898560" cy="73008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l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97520" y="4535280"/>
              <a:ext cx="1009800" cy="754200"/>
            </a:xfrm>
            <a:prstGeom prst="rect">
              <a:avLst/>
            </a:prstGeom>
            <a:solidFill>
              <a:srgbClr val="ffff0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Kvanti-tatív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06520" y="3700440"/>
              <a:ext cx="110880" cy="730080"/>
            </a:xfrm>
            <a:prstGeom prst="upArrow">
              <a:avLst>
                <a:gd name="adj1" fmla="val 50000"/>
                <a:gd name="adj2" fmla="val 164610"/>
              </a:avLst>
            </a:prstGeom>
            <a:gradFill rotWithShape="0">
              <a:gsLst>
                <a:gs pos="0">
                  <a:srgbClr val="ffcc00">
                    <a:alpha val="52156"/>
                  </a:srgbClr>
                </a:gs>
                <a:gs pos="100000">
                  <a:srgbClr val="ffff00">
                    <a:alpha val="5215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73600" y="3736800"/>
              <a:ext cx="111240" cy="730440"/>
            </a:xfrm>
            <a:prstGeom prst="upArrow">
              <a:avLst>
                <a:gd name="adj1" fmla="val 50000"/>
                <a:gd name="adj2" fmla="val 164159"/>
              </a:avLst>
            </a:prstGeom>
            <a:gradFill rotWithShape="0">
              <a:gsLst>
                <a:gs pos="0">
                  <a:srgbClr val="ffcc00">
                    <a:alpha val="52156"/>
                  </a:srgbClr>
                </a:gs>
                <a:gs pos="100000">
                  <a:srgbClr val="ffff00">
                    <a:alpha val="5215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07320" y="3716280"/>
              <a:ext cx="110880" cy="731880"/>
            </a:xfrm>
            <a:prstGeom prst="upArrow">
              <a:avLst>
                <a:gd name="adj1" fmla="val 50000"/>
                <a:gd name="adj2" fmla="val 165016"/>
              </a:avLst>
            </a:prstGeom>
            <a:gradFill rotWithShape="0">
              <a:gsLst>
                <a:gs pos="0">
                  <a:srgbClr val="ffcc00">
                    <a:alpha val="52156"/>
                  </a:srgbClr>
                </a:gs>
                <a:gs pos="100000">
                  <a:srgbClr val="ffff00">
                    <a:alpha val="5215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1880" y="3006720"/>
              <a:ext cx="3368520" cy="671400"/>
            </a:xfrm>
            <a:prstGeom prst="rect">
              <a:avLst/>
            </a:prstGeom>
            <a:solidFill>
              <a:srgbClr val="ffff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edeti információ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rbális, nyomtatott, elektroni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8450400">
              <a:off x="2331720" y="1882800"/>
              <a:ext cx="987120" cy="203040"/>
            </a:xfrm>
            <a:prstGeom prst="leftArrow">
              <a:avLst>
                <a:gd name="adj1" fmla="val 50000"/>
                <a:gd name="adj2" fmla="val 121543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cc00">
                    <a:alpha val="52156"/>
                  </a:srgbClr>
                </a:gs>
              </a:gsLst>
              <a:lin ang="1855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ülső adatbázisok, adatfor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65240"/>
            <a:ext cx="8961480" cy="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22240"/>
            <a:ext cx="8961480" cy="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639720"/>
          <a:ext cx="8459640" cy="5397480"/>
        </p:xfrm>
        <a:graphic>
          <a:graphicData uri="http://schemas.openxmlformats.org/drawingml/2006/table">
            <a:tbl>
              <a:tblPr/>
              <a:tblGrid>
                <a:gridCol w="3311280"/>
                <a:gridCol w="5148360"/>
              </a:tblGrid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tforrás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és fogyasztási adato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ponti Statisztikai Hiva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épszámlálási ada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ponti Statisztikai Hiva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gazati mutató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ponti Statisztikai Hiva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éb statisztikai adato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püléssoros Statisztikai Adatbázis Rendszer T-STAR (KS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zőgazdasági területi és termelési ada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ltalános Mezőgazdasági Összeírás (KS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ugazdászok által elérhető adatbázis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Őstermelői nyilvántartá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öldművelési és Vidékfejlesztési Minisztérium (FV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j cégek bejegyzési ada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azságügyi Minisztérium , Cégbírósá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llalkozói adatbáz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égbíróság, Cégjegyzék K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gi események (csőd, felszámolás, végelszámolá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égközlö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szletes cégada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azságügyi Minisztérium, Cégbíróá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égadatok változás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jú során a cégektő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glalkoztatási, munkanélküliségi adatbáz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szágos Munkaügyi Módszertani Központ (OMM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stérségi adatok, helyzetké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TI Magyar Regionális Fejlesztési és Urbanisztikai Közhasznú Társasá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szágos, regionális, kistérségi ada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szágos Területfejlesztési és Területrendezési Információs Adatbázis (TE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ősítések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gyar Minőség Társasá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lyázati kiírások, pályázati információ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pafi.hu, www.fvm.hu 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ső adatbázisok, adatfor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5327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rmelési- és fogyasztási statisztikai adatok (K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épszámlálás (K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STAR – Településsoros Statisztikai Adatbázis Rendszer (K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Népesség-nyilvántartás (BM KÖNY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ltalános Mezőgazdasági Összeírás (K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állalkozói adatbázis (Cégjegyzék K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Őstermelői nyilvántartás (FV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gisztrált gazdaságok (FV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dóbevallásból készült adatbázis (PM APEH Sztad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unkanélküliségi adatbázis (OMM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orine, Felszínborítás (műholdas felvétel alapján, FÖM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rületi Információs Rendszer (TE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eprezentatív mintavételeken alapuló adatbázi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elyi adatgyűjtés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aktanácsadói hálózat adatbáz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alugazdászok által elérhető adatbáziso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050840" y="243720"/>
            <a:ext cx="6559560" cy="6559920"/>
            <a:chOff x="1050840" y="243720"/>
            <a:chExt cx="6559560" cy="6559920"/>
          </a:xfrm>
        </p:grpSpPr>
        <p:sp>
          <p:nvSpPr>
            <p:cNvPr id="256" name="_s21509"/>
            <p:cNvSpPr/>
            <p:nvPr/>
          </p:nvSpPr>
          <p:spPr>
            <a:xfrm>
              <a:off x="1998720" y="1191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510"/>
            <p:cNvSpPr/>
            <p:nvPr/>
          </p:nvSpPr>
          <p:spPr>
            <a:xfrm rot="3060000">
              <a:off x="1998360" y="1191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d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511"/>
            <p:cNvSpPr/>
            <p:nvPr/>
          </p:nvSpPr>
          <p:spPr>
            <a:xfrm rot="6180000">
              <a:off x="1998000" y="1191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512"/>
            <p:cNvSpPr/>
            <p:nvPr/>
          </p:nvSpPr>
          <p:spPr>
            <a:xfrm rot="9240000">
              <a:off x="1998360" y="119124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513"/>
            <p:cNvSpPr/>
            <p:nvPr/>
          </p:nvSpPr>
          <p:spPr>
            <a:xfrm rot="12360000">
              <a:off x="1998720" y="1191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514"/>
            <p:cNvSpPr/>
            <p:nvPr/>
          </p:nvSpPr>
          <p:spPr>
            <a:xfrm rot="15420000">
              <a:off x="1998000" y="1191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e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515"/>
            <p:cNvSpPr/>
            <p:nvPr/>
          </p:nvSpPr>
          <p:spPr>
            <a:xfrm rot="18540000">
              <a:off x="1998360" y="1191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d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516"/>
            <p:cNvSpPr/>
            <p:nvPr/>
          </p:nvSpPr>
          <p:spPr>
            <a:xfrm>
              <a:off x="2988720" y="1171080"/>
              <a:ext cx="804600" cy="804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legyen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517"/>
            <p:cNvSpPr/>
            <p:nvPr/>
          </p:nvSpPr>
          <p:spPr>
            <a:xfrm>
              <a:off x="4867920" y="1170000"/>
              <a:ext cx="804240" cy="80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célból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518"/>
            <p:cNvSpPr/>
            <p:nvPr/>
          </p:nvSpPr>
          <p:spPr>
            <a:xfrm>
              <a:off x="1818360" y="2640240"/>
              <a:ext cx="804240" cy="80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lyen módsze-rekke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519"/>
            <p:cNvSpPr/>
            <p:nvPr/>
          </p:nvSpPr>
          <p:spPr>
            <a:xfrm>
              <a:off x="2236680" y="4471200"/>
              <a:ext cx="804240" cy="804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t tartal-maz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520"/>
            <p:cNvSpPr/>
            <p:nvPr/>
          </p:nvSpPr>
          <p:spPr>
            <a:xfrm>
              <a:off x="3929040" y="5286240"/>
              <a:ext cx="804240" cy="804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ről szó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521"/>
            <p:cNvSpPr/>
            <p:nvPr/>
          </p:nvSpPr>
          <p:spPr>
            <a:xfrm>
              <a:off x="5621760" y="4470480"/>
              <a:ext cx="804240" cy="804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gyan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522"/>
            <p:cNvSpPr/>
            <p:nvPr/>
          </p:nvSpPr>
          <p:spPr>
            <a:xfrm>
              <a:off x="6039360" y="2639160"/>
              <a:ext cx="804240" cy="804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 készíts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30480" y="2551320"/>
              <a:ext cx="1371600" cy="1600560"/>
            </a:xfrm>
            <a:prstGeom prst="foldedCorner">
              <a:avLst>
                <a:gd name="adj" fmla="val 12500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Üzleti t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ben hasznosítandó ismeret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764720" y="611640"/>
            <a:ext cx="5205600" cy="5418360"/>
            <a:chOff x="1764720" y="611640"/>
            <a:chExt cx="5205600" cy="5418360"/>
          </a:xfrm>
        </p:grpSpPr>
        <p:sp>
          <p:nvSpPr>
            <p:cNvPr id="273" name="_s19462"/>
            <p:cNvSpPr/>
            <p:nvPr/>
          </p:nvSpPr>
          <p:spPr>
            <a:xfrm flipH="1" flipV="1">
              <a:off x="3412800" y="2007720"/>
              <a:ext cx="636120" cy="87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9463"/>
            <p:cNvSpPr/>
            <p:nvPr/>
          </p:nvSpPr>
          <p:spPr>
            <a:xfrm>
              <a:off x="2551320" y="1025640"/>
              <a:ext cx="1085760" cy="1085760"/>
            </a:xfrm>
            <a:prstGeom prst="rect">
              <a:avLst/>
            </a:prstGeom>
            <a:blipFill rotWithShape="0">
              <a:blip r:embed="rId1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gi ismer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9464"/>
            <p:cNvSpPr/>
            <p:nvPr/>
          </p:nvSpPr>
          <p:spPr>
            <a:xfrm flipH="1" flipV="1">
              <a:off x="2823480" y="2819880"/>
              <a:ext cx="102852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9465"/>
            <p:cNvSpPr/>
            <p:nvPr/>
          </p:nvSpPr>
          <p:spPr>
            <a:xfrm>
              <a:off x="1764720" y="2108880"/>
              <a:ext cx="1085760" cy="1085760"/>
            </a:xfrm>
            <a:prstGeom prst="rect">
              <a:avLst/>
            </a:prstGeom>
            <a:blipFill rotWithShape="0">
              <a:blip r:embed="rId2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zámvitelpénzü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9466"/>
            <p:cNvSpPr/>
            <p:nvPr/>
          </p:nvSpPr>
          <p:spPr>
            <a:xfrm flipH="1">
              <a:off x="2824200" y="3488760"/>
              <a:ext cx="102780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9467"/>
            <p:cNvSpPr/>
            <p:nvPr/>
          </p:nvSpPr>
          <p:spPr>
            <a:xfrm>
              <a:off x="1764720" y="3447720"/>
              <a:ext cx="1085760" cy="1086120"/>
            </a:xfrm>
            <a:prstGeom prst="rect">
              <a:avLst/>
            </a:prstGeom>
            <a:blipFill rotWithShape="0">
              <a:blip r:embed="rId3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ismer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19468"/>
            <p:cNvSpPr/>
            <p:nvPr/>
          </p:nvSpPr>
          <p:spPr>
            <a:xfrm flipH="1">
              <a:off x="3413880" y="3759480"/>
              <a:ext cx="634680" cy="87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469"/>
            <p:cNvSpPr/>
            <p:nvPr/>
          </p:nvSpPr>
          <p:spPr>
            <a:xfrm>
              <a:off x="2552040" y="4530960"/>
              <a:ext cx="1085760" cy="1085760"/>
            </a:xfrm>
            <a:prstGeom prst="rect">
              <a:avLst/>
            </a:prstGeom>
            <a:blipFill rotWithShape="0">
              <a:blip r:embed="rId4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Beruhá-zás-értékel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470"/>
            <p:cNvSpPr/>
            <p:nvPr/>
          </p:nvSpPr>
          <p:spPr>
            <a:xfrm>
              <a:off x="4367880" y="3863160"/>
              <a:ext cx="360" cy="10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471"/>
            <p:cNvSpPr/>
            <p:nvPr/>
          </p:nvSpPr>
          <p:spPr>
            <a:xfrm>
              <a:off x="3825000" y="4944240"/>
              <a:ext cx="1085760" cy="1085760"/>
            </a:xfrm>
            <a:prstGeom prst="rect">
              <a:avLst/>
            </a:prstGeom>
            <a:blipFill rotWithShape="0">
              <a:blip r:embed="rId5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Üzleti-stratégiai tervez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472"/>
            <p:cNvSpPr/>
            <p:nvPr/>
          </p:nvSpPr>
          <p:spPr>
            <a:xfrm>
              <a:off x="4685760" y="3759480"/>
              <a:ext cx="636120" cy="87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473"/>
            <p:cNvSpPr/>
            <p:nvPr/>
          </p:nvSpPr>
          <p:spPr>
            <a:xfrm>
              <a:off x="5097960" y="4530240"/>
              <a:ext cx="1085760" cy="1085760"/>
            </a:xfrm>
            <a:prstGeom prst="rect">
              <a:avLst/>
            </a:prstGeom>
            <a:blipFill rotWithShape="0">
              <a:blip r:embed="rId6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zda-sági ismer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474"/>
            <p:cNvSpPr/>
            <p:nvPr/>
          </p:nvSpPr>
          <p:spPr>
            <a:xfrm>
              <a:off x="4882680" y="3488040"/>
              <a:ext cx="1028160" cy="3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475"/>
            <p:cNvSpPr/>
            <p:nvPr/>
          </p:nvSpPr>
          <p:spPr>
            <a:xfrm>
              <a:off x="5884560" y="3447360"/>
              <a:ext cx="1085760" cy="1085760"/>
            </a:xfrm>
            <a:prstGeom prst="rect">
              <a:avLst/>
            </a:prstGeom>
            <a:blipFill rotWithShape="0">
              <a:blip r:embed="rId7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nka-szerve-zési ismer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476"/>
            <p:cNvSpPr/>
            <p:nvPr/>
          </p:nvSpPr>
          <p:spPr>
            <a:xfrm flipV="1">
              <a:off x="4882680" y="2818440"/>
              <a:ext cx="102780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477"/>
            <p:cNvSpPr/>
            <p:nvPr/>
          </p:nvSpPr>
          <p:spPr>
            <a:xfrm>
              <a:off x="5884560" y="2108160"/>
              <a:ext cx="1085760" cy="1085760"/>
            </a:xfrm>
            <a:prstGeom prst="rect">
              <a:avLst/>
            </a:prstGeom>
            <a:blipFill rotWithShape="0">
              <a:blip r:embed="rId8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Termé-szet- és környe-ze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478"/>
            <p:cNvSpPr/>
            <p:nvPr/>
          </p:nvSpPr>
          <p:spPr>
            <a:xfrm flipV="1">
              <a:off x="4685760" y="2007000"/>
              <a:ext cx="634680" cy="87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9479"/>
            <p:cNvSpPr/>
            <p:nvPr/>
          </p:nvSpPr>
          <p:spPr>
            <a:xfrm>
              <a:off x="5097240" y="1024920"/>
              <a:ext cx="1085760" cy="1085760"/>
            </a:xfrm>
            <a:prstGeom prst="rect">
              <a:avLst/>
            </a:prstGeom>
            <a:blipFill rotWithShape="0">
              <a:blip r:embed="rId9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zakmai ismer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9480"/>
            <p:cNvSpPr/>
            <p:nvPr/>
          </p:nvSpPr>
          <p:spPr>
            <a:xfrm flipV="1">
              <a:off x="4367160" y="1697760"/>
              <a:ext cx="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9481"/>
            <p:cNvSpPr/>
            <p:nvPr/>
          </p:nvSpPr>
          <p:spPr>
            <a:xfrm>
              <a:off x="3824280" y="611640"/>
              <a:ext cx="1085760" cy="1085760"/>
            </a:xfrm>
            <a:prstGeom prst="rect">
              <a:avLst/>
            </a:prstGeom>
            <a:blipFill rotWithShape="0">
              <a:blip r:embed="rId10">
                <a:alphaModFix amt="25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Vállal-kozói ismer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9482"/>
            <p:cNvSpPr/>
            <p:nvPr/>
          </p:nvSpPr>
          <p:spPr>
            <a:xfrm>
              <a:off x="3824280" y="2778840"/>
              <a:ext cx="1085760" cy="1085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53378" dir="1463966" blurRad="0" rotWithShape="0">
                <a:srgbClr val="99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Üzleti t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z üzleti terv tartalma, bonyolultsá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elenlegi helyzet felmérése, értékel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élkitűzések megfogalm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élok megvalósításának mód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hhez szükséges ráfordítások, azok forrásának megterem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lvárt eredmény, az általa kiváltott h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ől lesz szó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66840" y="27720"/>
            <a:ext cx="6559560" cy="6559920"/>
            <a:chOff x="1266840" y="27720"/>
            <a:chExt cx="6559560" cy="6559920"/>
          </a:xfrm>
        </p:grpSpPr>
        <p:sp>
          <p:nvSpPr>
            <p:cNvPr id="55" name="_s3078"/>
            <p:cNvSpPr/>
            <p:nvPr/>
          </p:nvSpPr>
          <p:spPr>
            <a:xfrm>
              <a:off x="2214720" y="975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79"/>
            <p:cNvSpPr/>
            <p:nvPr/>
          </p:nvSpPr>
          <p:spPr>
            <a:xfrm rot="3060000">
              <a:off x="2214360" y="975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d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80"/>
            <p:cNvSpPr/>
            <p:nvPr/>
          </p:nvSpPr>
          <p:spPr>
            <a:xfrm rot="6180000">
              <a:off x="2214000" y="975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1"/>
            <p:cNvSpPr/>
            <p:nvPr/>
          </p:nvSpPr>
          <p:spPr>
            <a:xfrm rot="9240000">
              <a:off x="2214360" y="97524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2"/>
            <p:cNvSpPr/>
            <p:nvPr/>
          </p:nvSpPr>
          <p:spPr>
            <a:xfrm rot="12360000">
              <a:off x="2214720" y="975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83"/>
            <p:cNvSpPr/>
            <p:nvPr/>
          </p:nvSpPr>
          <p:spPr>
            <a:xfrm rot="15420000">
              <a:off x="2214000" y="975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e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084"/>
            <p:cNvSpPr/>
            <p:nvPr/>
          </p:nvSpPr>
          <p:spPr>
            <a:xfrm rot="18540000">
              <a:off x="2214360" y="975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d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5"/>
            <p:cNvSpPr/>
            <p:nvPr/>
          </p:nvSpPr>
          <p:spPr>
            <a:xfrm>
              <a:off x="3204720" y="955080"/>
              <a:ext cx="804600" cy="804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legyen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6"/>
            <p:cNvSpPr/>
            <p:nvPr/>
          </p:nvSpPr>
          <p:spPr>
            <a:xfrm>
              <a:off x="5083920" y="954000"/>
              <a:ext cx="804240" cy="80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célból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7"/>
            <p:cNvSpPr/>
            <p:nvPr/>
          </p:nvSpPr>
          <p:spPr>
            <a:xfrm>
              <a:off x="2034360" y="2424240"/>
              <a:ext cx="804240" cy="80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lyen módsze-rekke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88"/>
            <p:cNvSpPr/>
            <p:nvPr/>
          </p:nvSpPr>
          <p:spPr>
            <a:xfrm>
              <a:off x="2452680" y="4255200"/>
              <a:ext cx="804240" cy="804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t tartal-maz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89"/>
            <p:cNvSpPr/>
            <p:nvPr/>
          </p:nvSpPr>
          <p:spPr>
            <a:xfrm>
              <a:off x="4145040" y="5070240"/>
              <a:ext cx="804240" cy="804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ről szó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90"/>
            <p:cNvSpPr/>
            <p:nvPr/>
          </p:nvSpPr>
          <p:spPr>
            <a:xfrm>
              <a:off x="5837760" y="4254480"/>
              <a:ext cx="804240" cy="804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gyan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91"/>
            <p:cNvSpPr/>
            <p:nvPr/>
          </p:nvSpPr>
          <p:spPr>
            <a:xfrm>
              <a:off x="6255360" y="2423160"/>
              <a:ext cx="804240" cy="804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 készíts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46480" y="2335320"/>
              <a:ext cx="1371600" cy="1600560"/>
            </a:xfrm>
            <a:prstGeom prst="foldedCorner">
              <a:avLst>
                <a:gd name="adj" fmla="val 12500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Üzleti t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felépí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74872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ő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, a termékek és szolgáltatások bemutatása; múlt, jelen, jö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állalkozás bemutatása (helyzetelemz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rmék (szolgáltatás) bemuta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dasági környezet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üzleti magatartás elvei, ügyfelek, érintet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iac és a fogyasztói viselkedés elem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enyelemzés, stratégiaalko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 működt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elési, üzemeltetés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mélyi feltételek, emberi erőforrások, humánpolitika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nzügy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terv megvalósíthatós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Ütemterv a megvalósí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ckázatelem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ék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ő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4360" y="549360"/>
            <a:ext cx="3975120" cy="5616360"/>
          </a:xfrm>
          <a:prstGeom prst="rect">
            <a:avLst/>
          </a:prstGeom>
          <a:solidFill>
            <a:srgbClr val="ffff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edeti példá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P Á L Y Á Z 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Z Európa Terv „A vidék és a mezőgazdaság fejlesztéséért” részprogram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1.3. Új erő- és munkagépek, technológiai és informatikai berendezések támogatása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ljogcím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ehenészet takarmányozási technológia-váltását elősegítő gépbeszer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észítet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MARHAFARM K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7071 Szakadát (Tolna megy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apcsolattartó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iss Im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06-60-987-65-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Szakadát, 2006. máj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067280" y="5516640"/>
            <a:ext cx="7668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7487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üzleti t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352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ximum 2-4 oldal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352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mör kivon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él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352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érdeklődés felkelt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352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lvasó meggyőzése a terv életrevaló-ságáró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1000" indent="-352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osabb tanulmányozásra késztess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felépí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74872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ő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, a termékek és szolgáltatások bemutatása; múlt, jelen, jö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állalkozás bemutatása (helyzetelemz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rmék (szolgáltatás) bemuta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dasági környezet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üzleti magatartás elvei, ügyfelek, érintet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iac és a fogyasztói viselkedés elem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enyelemzés, stratégiaalko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 működt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elési, üzemeltetés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mélyi feltételek, emberi erőforrások, humánpolitika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nzügy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terv megvalósíthatós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Ütemterv a megvalósí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ckázatelem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ék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kozás bemutatása (helyzetelemzés)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6868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lalkozás azonosító adata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állalkozás teljes és rövid nev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ékhelye, telephelye(i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állalkozás adószám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ámlavezető bank(ok) megnevezése, a számlaszám(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égzett tevékenységek azonosítása, TEÁOR-szám(ok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állalkozás tőkéjének nagysága, összetétele, ezek változás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evékenység megkezdésének idej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érhetőség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stacím, telefon(ok), honlap-cím, e-mail cím, skype-azonosító, egyéb internetes azonosító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állalkozás könyvvezetését végző és a vállalkozás jogi képviseletét ellátó cég nevének, elérhetőség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kozás bemutatása (helyzetelemzés)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lalkozás bemutatás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állalkozás rövid történet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alakítás időpontja, tulajdonosi összetétel, a fő tulajdonos megnevezése, tulajdoni aránya, a tulajdonosi szerkezet változásai, a működési forma változásai, st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állalkozás tevékenysé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termékelőállítás, szolgáltatásnyújtás, kereskedelem stb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zervezeti felépíté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helyezkedé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frastruktúr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működés eredményesség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30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vállalkozás környezeti hatása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434280" indent="0">
              <a:spcBef>
                <a:spcPts val="550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kozás bemutatása (helyzetelemzés)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ék (szolgáltatás) bemutatá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rmék előállítás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lajdonságai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rmék vagy szolgáltatás minőség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ékfejlesztési elképzelés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rmék egyediség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rzői vagy szabadalmi jog, kizárólagos forgalma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ogyasztók számára nyújtott előnyök bemutatá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lmerülő problémák, korlátok, a megoldási változato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nch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felépí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74872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ő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, a termékek és szolgáltatások bemutatása; múlt, jelen, jö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állalkozás bemutatása (helyzetelemz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rmék (szolgáltatás) bemuta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dasági környezet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üzleti magatartás elvei, ügyfelek, érintet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iac és a fogyasztói viselkedés elem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enyelemzés, stratégiaalko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 működt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elési, üzemeltetés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mélyi feltételek, emberi erőforrások, humánpolitika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nzügy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terv megvalósíthatós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Ütemterv a megvalósí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ckázatelem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ék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környezetelemzé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E(E)P vagy PE(E)ST analí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hu-H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ársadalmi ténye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chnologic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űszaki fejlett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conomic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zdasági ténye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(E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vironment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rnyezeti tényező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litic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litikai ténye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cial (társadalmi tényező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mográfiai hely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letmód és annak vált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ársadalmi rétegek helyz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sélyegyenlőség (kisebbségek, nők, hátrányos helyz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ársadalom által preferált értékek, azok változ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letstíl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rsadalmi, szociális felelősségválla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nkakultúr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92580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chnological (technológia tényező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udományos- technikai fejlődés konkrét hat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úcstechnika megjelenése és hat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otechnika, biotechnológia, 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formatika, számítástechnik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122480" y="-43560"/>
            <a:ext cx="6559560" cy="6559920"/>
            <a:chOff x="1122480" y="-43560"/>
            <a:chExt cx="6559560" cy="6559920"/>
          </a:xfrm>
        </p:grpSpPr>
        <p:sp>
          <p:nvSpPr>
            <p:cNvPr id="72" name="_s4102"/>
            <p:cNvSpPr/>
            <p:nvPr/>
          </p:nvSpPr>
          <p:spPr>
            <a:xfrm>
              <a:off x="2070360" y="90432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103"/>
            <p:cNvSpPr/>
            <p:nvPr/>
          </p:nvSpPr>
          <p:spPr>
            <a:xfrm rot="3060000">
              <a:off x="2070000" y="90468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d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4104"/>
            <p:cNvSpPr/>
            <p:nvPr/>
          </p:nvSpPr>
          <p:spPr>
            <a:xfrm rot="6180000">
              <a:off x="2069640" y="90432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105"/>
            <p:cNvSpPr/>
            <p:nvPr/>
          </p:nvSpPr>
          <p:spPr>
            <a:xfrm rot="9240000">
              <a:off x="2070000" y="90396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4106"/>
            <p:cNvSpPr/>
            <p:nvPr/>
          </p:nvSpPr>
          <p:spPr>
            <a:xfrm rot="12360000">
              <a:off x="2070360" y="90432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4107"/>
            <p:cNvSpPr/>
            <p:nvPr/>
          </p:nvSpPr>
          <p:spPr>
            <a:xfrm rot="15420000">
              <a:off x="2069640" y="90468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e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4108"/>
            <p:cNvSpPr/>
            <p:nvPr/>
          </p:nvSpPr>
          <p:spPr>
            <a:xfrm rot="18540000">
              <a:off x="2070000" y="90432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d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4109"/>
            <p:cNvSpPr/>
            <p:nvPr/>
          </p:nvSpPr>
          <p:spPr>
            <a:xfrm>
              <a:off x="3060360" y="883800"/>
              <a:ext cx="804600" cy="804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legyen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4110"/>
            <p:cNvSpPr/>
            <p:nvPr/>
          </p:nvSpPr>
          <p:spPr>
            <a:xfrm>
              <a:off x="4939200" y="882720"/>
              <a:ext cx="804240" cy="80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célból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4111"/>
            <p:cNvSpPr/>
            <p:nvPr/>
          </p:nvSpPr>
          <p:spPr>
            <a:xfrm>
              <a:off x="1890000" y="2352960"/>
              <a:ext cx="804240" cy="80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lyen módsze-rekke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112"/>
            <p:cNvSpPr/>
            <p:nvPr/>
          </p:nvSpPr>
          <p:spPr>
            <a:xfrm>
              <a:off x="2308320" y="4183920"/>
              <a:ext cx="804240" cy="804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t tartal-maz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4113"/>
            <p:cNvSpPr/>
            <p:nvPr/>
          </p:nvSpPr>
          <p:spPr>
            <a:xfrm>
              <a:off x="4000680" y="4998960"/>
              <a:ext cx="804240" cy="804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ről szó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4114"/>
            <p:cNvSpPr/>
            <p:nvPr/>
          </p:nvSpPr>
          <p:spPr>
            <a:xfrm>
              <a:off x="5693040" y="4183200"/>
              <a:ext cx="804240" cy="804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gyan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115"/>
            <p:cNvSpPr/>
            <p:nvPr/>
          </p:nvSpPr>
          <p:spPr>
            <a:xfrm>
              <a:off x="6111000" y="2351880"/>
              <a:ext cx="804240" cy="804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 készíts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02120" y="2264040"/>
              <a:ext cx="1371600" cy="1600560"/>
            </a:xfrm>
            <a:prstGeom prst="foldedCorner">
              <a:avLst>
                <a:gd name="adj" fmla="val 12500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Üzleti t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conomical (gazdasági tényező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junktúra, recesszió hat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rmányzati gazdaságpolitika hat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fl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folyamvált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matvált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ópolitika vált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nkanélkülisé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429000"/>
            <a:ext cx="82296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viromental (környezeti tényező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rnyezetvédelmi követelmények, h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ghajlatváltozásból fakadó h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rnyezeti felelősségválla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t-és növény-egészségügyi 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lelmiszerbiztonság kérdése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litical (politikai tényező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aságpolitika kiszámíthatósága, stabili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gszabályalko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ó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mi szerepválla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dekcsoportok, ~érvény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kapcsolatok (súlypont, irány, hatás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környezetelemzé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WOT-analí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hu-H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ősssége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eakness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engesége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pportuniti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hetősége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reats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nyeget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700200"/>
            <a:ext cx="3995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engths  — Erős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emelkedő szakértelem és hozzáé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felelő pénzügyi for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ó adottságok a verseny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evők jó vélemén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ismert piacvezető sze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győző 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iaci védettség a nagy versenytársakt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felelő technoló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tségelőnyö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novációs képes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ett menedz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0" y="692280"/>
            <a:ext cx="4572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eaknesses  —  Gyenge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világos 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árendelt piaci hely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ányos felszere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ágtalan term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enge a menedzserek felkészült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ányos szakért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lső működési problém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enge versenyképes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 + F elmaradott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gyon szűk termékská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ossz piaci hírné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lag alatti marketingtevékeny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nzügyi nehéz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732960"/>
            <a:ext cx="425916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pportunities — Lehető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Új piacok vagy szegmen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ás vagy új vevőcsopor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skála bővítési lehető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okon termékek előáll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lyettesítő termékek előáll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rtikális integrá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ugalom a RING-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ors piacbővü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junkturális üzleti ciklu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9280" y="692280"/>
            <a:ext cx="42847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reats — Fenyeget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Új versenytársak belép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lyettesítő termékek belép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assú piaci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kadályozó kormánypo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övekvő vers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cessziós üzleti ciklu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eszállítók erősebb nyom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evők erősebb nyom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gyasztói szokások vált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dvezőtlen demográfiai vált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85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TE(E)P és a SWOT-analízis összefüggése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repük a stratégia-alkotásba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051280" y="1196280"/>
            <a:ext cx="5903280" cy="4969440"/>
            <a:chOff x="2051280" y="1196280"/>
            <a:chExt cx="5903280" cy="4969440"/>
          </a:xfrm>
        </p:grpSpPr>
        <p:grpSp>
          <p:nvGrpSpPr>
            <p:cNvPr id="333" name=""/>
            <p:cNvGrpSpPr/>
            <p:nvPr/>
          </p:nvGrpSpPr>
          <p:grpSpPr>
            <a:xfrm>
              <a:off x="2482560" y="1196280"/>
              <a:ext cx="5472000" cy="4969440"/>
              <a:chOff x="2482560" y="1196280"/>
              <a:chExt cx="5472000" cy="4969440"/>
            </a:xfrm>
          </p:grpSpPr>
          <p:sp>
            <p:nvSpPr>
              <p:cNvPr id="334" name="_s46087"/>
              <p:cNvSpPr/>
              <p:nvPr/>
            </p:nvSpPr>
            <p:spPr>
              <a:xfrm>
                <a:off x="3565440" y="2136240"/>
                <a:ext cx="2555280" cy="2538360"/>
              </a:xfrm>
              <a:prstGeom prst="ellipse">
                <a:avLst/>
              </a:prstGeom>
              <a:solidFill>
                <a:srgbClr val="ffcc00">
                  <a:alpha val="50000"/>
                </a:srgbClr>
              </a:solidFill>
              <a:ln w="4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_s46091"/>
              <p:cNvSpPr/>
              <p:nvPr/>
            </p:nvSpPr>
            <p:spPr>
              <a:xfrm>
                <a:off x="4020840" y="3627360"/>
                <a:ext cx="2555280" cy="2538360"/>
              </a:xfrm>
              <a:prstGeom prst="ellipse">
                <a:avLst/>
              </a:prstGeom>
              <a:solidFill>
                <a:srgbClr val="ff99cc">
                  <a:alpha val="50000"/>
                </a:srgbClr>
              </a:solidFill>
              <a:ln w="46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482560" y="1196280"/>
                <a:ext cx="4375080" cy="4969440"/>
                <a:chOff x="2482560" y="1196280"/>
                <a:chExt cx="4375080" cy="4969440"/>
              </a:xfrm>
            </p:grpSpPr>
            <p:sp>
              <p:nvSpPr>
                <p:cNvPr id="337" name="_s46089"/>
                <p:cNvSpPr/>
                <p:nvPr/>
              </p:nvSpPr>
              <p:spPr>
                <a:xfrm>
                  <a:off x="4302360" y="2751120"/>
                  <a:ext cx="2555280" cy="2538360"/>
                </a:xfrm>
                <a:prstGeom prst="ellipse">
                  <a:avLst/>
                </a:prstGeom>
                <a:solidFill>
                  <a:srgbClr val="ffff00">
                    <a:alpha val="50000"/>
                  </a:srgbClr>
                </a:solidFill>
                <a:ln w="4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_s46093"/>
                <p:cNvSpPr/>
                <p:nvPr/>
              </p:nvSpPr>
              <p:spPr>
                <a:xfrm>
                  <a:off x="2653560" y="3627360"/>
                  <a:ext cx="2555280" cy="2538360"/>
                </a:xfrm>
                <a:prstGeom prst="ellipse">
                  <a:avLst/>
                </a:prstGeom>
                <a:solidFill>
                  <a:srgbClr val="99cc00">
                    <a:alpha val="50000"/>
                  </a:srgbClr>
                </a:solidFill>
                <a:ln w="46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_s46095"/>
                <p:cNvSpPr/>
                <p:nvPr/>
              </p:nvSpPr>
              <p:spPr>
                <a:xfrm>
                  <a:off x="2482560" y="2502720"/>
                  <a:ext cx="2556000" cy="2537640"/>
                </a:xfrm>
                <a:prstGeom prst="ellipse">
                  <a:avLst/>
                </a:prstGeom>
                <a:solidFill>
                  <a:srgbClr val="ccffcc">
                    <a:alpha val="50000"/>
                  </a:srgbClr>
                </a:solidFill>
                <a:ln w="468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4005720" y="1196280"/>
                  <a:ext cx="1584000" cy="3889080"/>
                  <a:chOff x="4005720" y="1196280"/>
                  <a:chExt cx="1584000" cy="388908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4005720" y="1196280"/>
                    <a:ext cx="1584000" cy="2004120"/>
                    <a:chOff x="4005720" y="1196280"/>
                    <a:chExt cx="1584000" cy="20041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4797720" y="1196280"/>
                      <a:ext cx="792000" cy="2004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8120" rIns="78120" tIns="39240" bIns="39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4005720" y="1196280"/>
                      <a:ext cx="792000" cy="2004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8120" rIns="78120" tIns="39240" bIns="39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4005720" y="3197880"/>
                    <a:ext cx="1584000" cy="1887480"/>
                    <a:chOff x="4005720" y="3197880"/>
                    <a:chExt cx="1584000" cy="1887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4797720" y="3197880"/>
                      <a:ext cx="792000" cy="1887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8120" rIns="78120" tIns="39240" bIns="39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4005720" y="3197880"/>
                      <a:ext cx="792000" cy="1887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8120" rIns="78120" tIns="39240" bIns="39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7" name=""/>
              <p:cNvSpPr/>
              <p:nvPr/>
            </p:nvSpPr>
            <p:spPr>
              <a:xfrm rot="19758000">
                <a:off x="5177520" y="3345120"/>
                <a:ext cx="1622160" cy="228240"/>
              </a:xfrm>
              <a:custGeom>
                <a:avLst/>
                <a:gdLst>
                  <a:gd name="textAreaLeft" fmla="*/ 202680 w 1622160"/>
                  <a:gd name="textAreaRight" fmla="*/ 1419480 w 1622160"/>
                  <a:gd name="textAreaTop" fmla="*/ 56880 h 228240"/>
                  <a:gd name="textAreaBottom" fmla="*/ 17136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815000">
                <a:off x="5357880" y="2136240"/>
                <a:ext cx="1288800" cy="228960"/>
              </a:xfrm>
              <a:custGeom>
                <a:avLst/>
                <a:gdLst>
                  <a:gd name="textAreaLeft" fmla="*/ 160920 w 1288800"/>
                  <a:gd name="textAreaRight" fmla="*/ 1127880 w 1288800"/>
                  <a:gd name="textAreaTop" fmla="*/ 57240 h 228960"/>
                  <a:gd name="textAreaBottom" fmla="*/ 171720 h 22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10040" y="2539440"/>
                <a:ext cx="1244520" cy="4579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120" rIns="7812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goldandó problé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_s46088"/>
            <p:cNvSpPr/>
            <p:nvPr/>
          </p:nvSpPr>
          <p:spPr>
            <a:xfrm>
              <a:off x="4330800" y="1631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46090"/>
            <p:cNvSpPr/>
            <p:nvPr/>
          </p:nvSpPr>
          <p:spPr>
            <a:xfrm>
              <a:off x="6611040" y="2818440"/>
              <a:ext cx="3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46092"/>
            <p:cNvSpPr/>
            <p:nvPr/>
          </p:nvSpPr>
          <p:spPr>
            <a:xfrm>
              <a:off x="5997600" y="5178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46094"/>
            <p:cNvSpPr/>
            <p:nvPr/>
          </p:nvSpPr>
          <p:spPr>
            <a:xfrm>
              <a:off x="2664720" y="5178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46096"/>
            <p:cNvSpPr/>
            <p:nvPr/>
          </p:nvSpPr>
          <p:spPr>
            <a:xfrm>
              <a:off x="2051280" y="2819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Arial"/>
                </a:rPr>
                <a:t>P = Politic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3280" y="2206080"/>
              <a:ext cx="3826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59480" y="3554280"/>
              <a:ext cx="3826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64000" y="5518080"/>
              <a:ext cx="3826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00360" y="3429000"/>
              <a:ext cx="3819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19280" y="5375160"/>
              <a:ext cx="669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120" rIns="7812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900000" y="1052640"/>
            <a:ext cx="136692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környezetelemzé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állalkozás érintettjeinek vizsgál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195640" y="1268280"/>
            <a:ext cx="4968720" cy="4829400"/>
            <a:chOff x="2195640" y="1268280"/>
            <a:chExt cx="4968720" cy="4829400"/>
          </a:xfrm>
        </p:grpSpPr>
        <p:sp>
          <p:nvSpPr>
            <p:cNvPr id="364" name=""/>
            <p:cNvSpPr/>
            <p:nvPr/>
          </p:nvSpPr>
          <p:spPr>
            <a:xfrm>
              <a:off x="2195640" y="1268280"/>
              <a:ext cx="4968720" cy="4816440"/>
            </a:xfrm>
            <a:custGeom>
              <a:avLst/>
              <a:gdLst/>
              <a:ahLst/>
              <a:rect l="l" t="t" r="r" b="b"/>
              <a:pathLst>
                <a:path w="5943" h="5838">
                  <a:moveTo>
                    <a:pt x="2965" y="5767"/>
                  </a:moveTo>
                  <a:cubicBezTo>
                    <a:pt x="2777" y="5763"/>
                    <a:pt x="2589" y="5766"/>
                    <a:pt x="2401" y="5755"/>
                  </a:cubicBezTo>
                  <a:cubicBezTo>
                    <a:pt x="2376" y="5754"/>
                    <a:pt x="2329" y="5731"/>
                    <a:pt x="2329" y="5731"/>
                  </a:cubicBezTo>
                  <a:cubicBezTo>
                    <a:pt x="2321" y="5719"/>
                    <a:pt x="2317" y="5703"/>
                    <a:pt x="2305" y="5695"/>
                  </a:cubicBezTo>
                  <a:cubicBezTo>
                    <a:pt x="2244" y="5657"/>
                    <a:pt x="2143" y="5654"/>
                    <a:pt x="2077" y="5647"/>
                  </a:cubicBezTo>
                  <a:cubicBezTo>
                    <a:pt x="1995" y="5620"/>
                    <a:pt x="1969" y="5611"/>
                    <a:pt x="1897" y="5563"/>
                  </a:cubicBezTo>
                  <a:cubicBezTo>
                    <a:pt x="1865" y="5542"/>
                    <a:pt x="1825" y="5539"/>
                    <a:pt x="1789" y="5527"/>
                  </a:cubicBezTo>
                  <a:cubicBezTo>
                    <a:pt x="1775" y="5522"/>
                    <a:pt x="1766" y="5509"/>
                    <a:pt x="1753" y="5503"/>
                  </a:cubicBezTo>
                  <a:cubicBezTo>
                    <a:pt x="1705" y="5479"/>
                    <a:pt x="1657" y="5455"/>
                    <a:pt x="1609" y="5431"/>
                  </a:cubicBezTo>
                  <a:cubicBezTo>
                    <a:pt x="1572" y="5413"/>
                    <a:pt x="1538" y="5389"/>
                    <a:pt x="1501" y="5371"/>
                  </a:cubicBezTo>
                  <a:cubicBezTo>
                    <a:pt x="1490" y="5365"/>
                    <a:pt x="1476" y="5365"/>
                    <a:pt x="1465" y="5359"/>
                  </a:cubicBezTo>
                  <a:cubicBezTo>
                    <a:pt x="1440" y="5345"/>
                    <a:pt x="1393" y="5311"/>
                    <a:pt x="1393" y="5311"/>
                  </a:cubicBezTo>
                  <a:cubicBezTo>
                    <a:pt x="1324" y="5208"/>
                    <a:pt x="1416" y="5329"/>
                    <a:pt x="1333" y="5263"/>
                  </a:cubicBezTo>
                  <a:cubicBezTo>
                    <a:pt x="1322" y="5254"/>
                    <a:pt x="1319" y="5237"/>
                    <a:pt x="1309" y="5227"/>
                  </a:cubicBezTo>
                  <a:cubicBezTo>
                    <a:pt x="1299" y="5217"/>
                    <a:pt x="1285" y="5211"/>
                    <a:pt x="1273" y="5203"/>
                  </a:cubicBezTo>
                  <a:cubicBezTo>
                    <a:pt x="1265" y="5191"/>
                    <a:pt x="1261" y="5175"/>
                    <a:pt x="1249" y="5167"/>
                  </a:cubicBezTo>
                  <a:cubicBezTo>
                    <a:pt x="1228" y="5154"/>
                    <a:pt x="1177" y="5143"/>
                    <a:pt x="1177" y="5143"/>
                  </a:cubicBezTo>
                  <a:cubicBezTo>
                    <a:pt x="1113" y="5047"/>
                    <a:pt x="1197" y="5163"/>
                    <a:pt x="1117" y="5083"/>
                  </a:cubicBezTo>
                  <a:cubicBezTo>
                    <a:pt x="1037" y="5003"/>
                    <a:pt x="1153" y="5087"/>
                    <a:pt x="1057" y="5023"/>
                  </a:cubicBezTo>
                  <a:cubicBezTo>
                    <a:pt x="1001" y="4939"/>
                    <a:pt x="987" y="4936"/>
                    <a:pt x="901" y="4879"/>
                  </a:cubicBezTo>
                  <a:cubicBezTo>
                    <a:pt x="889" y="4871"/>
                    <a:pt x="877" y="4863"/>
                    <a:pt x="865" y="4855"/>
                  </a:cubicBezTo>
                  <a:cubicBezTo>
                    <a:pt x="853" y="4847"/>
                    <a:pt x="829" y="4831"/>
                    <a:pt x="829" y="4831"/>
                  </a:cubicBezTo>
                  <a:cubicBezTo>
                    <a:pt x="796" y="4781"/>
                    <a:pt x="771" y="4739"/>
                    <a:pt x="745" y="4687"/>
                  </a:cubicBezTo>
                  <a:cubicBezTo>
                    <a:pt x="739" y="4676"/>
                    <a:pt x="741" y="4661"/>
                    <a:pt x="733" y="4651"/>
                  </a:cubicBezTo>
                  <a:cubicBezTo>
                    <a:pt x="724" y="4640"/>
                    <a:pt x="709" y="4635"/>
                    <a:pt x="697" y="4627"/>
                  </a:cubicBezTo>
                  <a:cubicBezTo>
                    <a:pt x="677" y="4568"/>
                    <a:pt x="651" y="4528"/>
                    <a:pt x="601" y="4495"/>
                  </a:cubicBezTo>
                  <a:cubicBezTo>
                    <a:pt x="593" y="4483"/>
                    <a:pt x="587" y="4469"/>
                    <a:pt x="577" y="4459"/>
                  </a:cubicBezTo>
                  <a:cubicBezTo>
                    <a:pt x="567" y="4449"/>
                    <a:pt x="550" y="4446"/>
                    <a:pt x="541" y="4435"/>
                  </a:cubicBezTo>
                  <a:cubicBezTo>
                    <a:pt x="530" y="4421"/>
                    <a:pt x="527" y="4402"/>
                    <a:pt x="517" y="4387"/>
                  </a:cubicBezTo>
                  <a:cubicBezTo>
                    <a:pt x="496" y="4358"/>
                    <a:pt x="474" y="4346"/>
                    <a:pt x="445" y="4327"/>
                  </a:cubicBezTo>
                  <a:cubicBezTo>
                    <a:pt x="423" y="4260"/>
                    <a:pt x="375" y="4219"/>
                    <a:pt x="361" y="4147"/>
                  </a:cubicBezTo>
                  <a:cubicBezTo>
                    <a:pt x="346" y="4073"/>
                    <a:pt x="337" y="4003"/>
                    <a:pt x="313" y="3931"/>
                  </a:cubicBezTo>
                  <a:cubicBezTo>
                    <a:pt x="312" y="3927"/>
                    <a:pt x="198" y="3811"/>
                    <a:pt x="181" y="3799"/>
                  </a:cubicBezTo>
                  <a:cubicBezTo>
                    <a:pt x="152" y="3713"/>
                    <a:pt x="171" y="3748"/>
                    <a:pt x="133" y="3691"/>
                  </a:cubicBezTo>
                  <a:cubicBezTo>
                    <a:pt x="125" y="3623"/>
                    <a:pt x="48" y="3621"/>
                    <a:pt x="50" y="3383"/>
                  </a:cubicBezTo>
                  <a:cubicBezTo>
                    <a:pt x="28" y="3254"/>
                    <a:pt x="4" y="3067"/>
                    <a:pt x="2" y="2915"/>
                  </a:cubicBezTo>
                  <a:cubicBezTo>
                    <a:pt x="0" y="2763"/>
                    <a:pt x="14" y="2580"/>
                    <a:pt x="38" y="2471"/>
                  </a:cubicBezTo>
                  <a:cubicBezTo>
                    <a:pt x="62" y="2362"/>
                    <a:pt x="89" y="2398"/>
                    <a:pt x="145" y="2263"/>
                  </a:cubicBezTo>
                  <a:cubicBezTo>
                    <a:pt x="149" y="2029"/>
                    <a:pt x="206" y="1830"/>
                    <a:pt x="373" y="1663"/>
                  </a:cubicBezTo>
                  <a:cubicBezTo>
                    <a:pt x="413" y="1544"/>
                    <a:pt x="346" y="1726"/>
                    <a:pt x="421" y="1591"/>
                  </a:cubicBezTo>
                  <a:cubicBezTo>
                    <a:pt x="462" y="1517"/>
                    <a:pt x="470" y="1362"/>
                    <a:pt x="529" y="1303"/>
                  </a:cubicBezTo>
                  <a:cubicBezTo>
                    <a:pt x="583" y="1249"/>
                    <a:pt x="680" y="1250"/>
                    <a:pt x="745" y="1207"/>
                  </a:cubicBezTo>
                  <a:cubicBezTo>
                    <a:pt x="753" y="1195"/>
                    <a:pt x="759" y="1181"/>
                    <a:pt x="769" y="1171"/>
                  </a:cubicBezTo>
                  <a:cubicBezTo>
                    <a:pt x="779" y="1161"/>
                    <a:pt x="796" y="1158"/>
                    <a:pt x="805" y="1147"/>
                  </a:cubicBezTo>
                  <a:cubicBezTo>
                    <a:pt x="813" y="1137"/>
                    <a:pt x="811" y="1122"/>
                    <a:pt x="817" y="1111"/>
                  </a:cubicBezTo>
                  <a:cubicBezTo>
                    <a:pt x="823" y="1098"/>
                    <a:pt x="835" y="1088"/>
                    <a:pt x="841" y="1075"/>
                  </a:cubicBezTo>
                  <a:cubicBezTo>
                    <a:pt x="870" y="1009"/>
                    <a:pt x="874" y="949"/>
                    <a:pt x="937" y="907"/>
                  </a:cubicBezTo>
                  <a:cubicBezTo>
                    <a:pt x="991" y="826"/>
                    <a:pt x="927" y="905"/>
                    <a:pt x="997" y="859"/>
                  </a:cubicBezTo>
                  <a:cubicBezTo>
                    <a:pt x="1023" y="842"/>
                    <a:pt x="1043" y="816"/>
                    <a:pt x="1069" y="799"/>
                  </a:cubicBezTo>
                  <a:cubicBezTo>
                    <a:pt x="1077" y="787"/>
                    <a:pt x="1082" y="772"/>
                    <a:pt x="1093" y="763"/>
                  </a:cubicBezTo>
                  <a:cubicBezTo>
                    <a:pt x="1115" y="744"/>
                    <a:pt x="1165" y="715"/>
                    <a:pt x="1165" y="715"/>
                  </a:cubicBezTo>
                  <a:cubicBezTo>
                    <a:pt x="1221" y="631"/>
                    <a:pt x="1189" y="659"/>
                    <a:pt x="1249" y="619"/>
                  </a:cubicBezTo>
                  <a:cubicBezTo>
                    <a:pt x="1305" y="535"/>
                    <a:pt x="1273" y="563"/>
                    <a:pt x="1333" y="523"/>
                  </a:cubicBezTo>
                  <a:cubicBezTo>
                    <a:pt x="1405" y="415"/>
                    <a:pt x="1474" y="436"/>
                    <a:pt x="1585" y="403"/>
                  </a:cubicBezTo>
                  <a:cubicBezTo>
                    <a:pt x="1644" y="385"/>
                    <a:pt x="1678" y="366"/>
                    <a:pt x="1729" y="343"/>
                  </a:cubicBezTo>
                  <a:cubicBezTo>
                    <a:pt x="1797" y="313"/>
                    <a:pt x="1874" y="295"/>
                    <a:pt x="1945" y="271"/>
                  </a:cubicBezTo>
                  <a:cubicBezTo>
                    <a:pt x="2002" y="252"/>
                    <a:pt x="2066" y="207"/>
                    <a:pt x="2126" y="203"/>
                  </a:cubicBezTo>
                  <a:cubicBezTo>
                    <a:pt x="2199" y="185"/>
                    <a:pt x="2182" y="160"/>
                    <a:pt x="2270" y="131"/>
                  </a:cubicBezTo>
                  <a:cubicBezTo>
                    <a:pt x="2313" y="117"/>
                    <a:pt x="2345" y="158"/>
                    <a:pt x="2389" y="139"/>
                  </a:cubicBezTo>
                  <a:cubicBezTo>
                    <a:pt x="2490" y="96"/>
                    <a:pt x="2686" y="26"/>
                    <a:pt x="2762" y="23"/>
                  </a:cubicBezTo>
                  <a:cubicBezTo>
                    <a:pt x="2896" y="12"/>
                    <a:pt x="3032" y="0"/>
                    <a:pt x="3194" y="11"/>
                  </a:cubicBezTo>
                  <a:cubicBezTo>
                    <a:pt x="3356" y="22"/>
                    <a:pt x="3617" y="76"/>
                    <a:pt x="3733" y="91"/>
                  </a:cubicBezTo>
                  <a:cubicBezTo>
                    <a:pt x="3785" y="95"/>
                    <a:pt x="3837" y="97"/>
                    <a:pt x="3889" y="103"/>
                  </a:cubicBezTo>
                  <a:cubicBezTo>
                    <a:pt x="3940" y="109"/>
                    <a:pt x="3975" y="186"/>
                    <a:pt x="4021" y="211"/>
                  </a:cubicBezTo>
                  <a:cubicBezTo>
                    <a:pt x="4099" y="254"/>
                    <a:pt x="4213" y="262"/>
                    <a:pt x="4297" y="271"/>
                  </a:cubicBezTo>
                  <a:cubicBezTo>
                    <a:pt x="4383" y="300"/>
                    <a:pt x="4279" y="259"/>
                    <a:pt x="4369" y="319"/>
                  </a:cubicBezTo>
                  <a:cubicBezTo>
                    <a:pt x="4380" y="326"/>
                    <a:pt x="4394" y="325"/>
                    <a:pt x="4405" y="331"/>
                  </a:cubicBezTo>
                  <a:cubicBezTo>
                    <a:pt x="4443" y="352"/>
                    <a:pt x="4472" y="389"/>
                    <a:pt x="4513" y="403"/>
                  </a:cubicBezTo>
                  <a:cubicBezTo>
                    <a:pt x="4537" y="411"/>
                    <a:pt x="4561" y="419"/>
                    <a:pt x="4585" y="427"/>
                  </a:cubicBezTo>
                  <a:cubicBezTo>
                    <a:pt x="4612" y="436"/>
                    <a:pt x="4657" y="475"/>
                    <a:pt x="4657" y="475"/>
                  </a:cubicBezTo>
                  <a:cubicBezTo>
                    <a:pt x="4681" y="511"/>
                    <a:pt x="4705" y="547"/>
                    <a:pt x="4729" y="583"/>
                  </a:cubicBezTo>
                  <a:cubicBezTo>
                    <a:pt x="4846" y="759"/>
                    <a:pt x="4676" y="578"/>
                    <a:pt x="4789" y="691"/>
                  </a:cubicBezTo>
                  <a:cubicBezTo>
                    <a:pt x="4825" y="798"/>
                    <a:pt x="4927" y="895"/>
                    <a:pt x="5017" y="955"/>
                  </a:cubicBezTo>
                  <a:cubicBezTo>
                    <a:pt x="5168" y="1056"/>
                    <a:pt x="5041" y="991"/>
                    <a:pt x="5113" y="1063"/>
                  </a:cubicBezTo>
                  <a:cubicBezTo>
                    <a:pt x="5123" y="1073"/>
                    <a:pt x="5138" y="1078"/>
                    <a:pt x="5149" y="1087"/>
                  </a:cubicBezTo>
                  <a:cubicBezTo>
                    <a:pt x="5205" y="1134"/>
                    <a:pt x="5201" y="1181"/>
                    <a:pt x="5257" y="1219"/>
                  </a:cubicBezTo>
                  <a:cubicBezTo>
                    <a:pt x="5286" y="1305"/>
                    <a:pt x="5245" y="1201"/>
                    <a:pt x="5305" y="1291"/>
                  </a:cubicBezTo>
                  <a:cubicBezTo>
                    <a:pt x="5312" y="1302"/>
                    <a:pt x="5310" y="1316"/>
                    <a:pt x="5317" y="1327"/>
                  </a:cubicBezTo>
                  <a:cubicBezTo>
                    <a:pt x="5335" y="1355"/>
                    <a:pt x="5362" y="1369"/>
                    <a:pt x="5389" y="1387"/>
                  </a:cubicBezTo>
                  <a:cubicBezTo>
                    <a:pt x="5400" y="1420"/>
                    <a:pt x="5415" y="1498"/>
                    <a:pt x="5437" y="1531"/>
                  </a:cubicBezTo>
                  <a:cubicBezTo>
                    <a:pt x="5463" y="1569"/>
                    <a:pt x="5500" y="1598"/>
                    <a:pt x="5521" y="1639"/>
                  </a:cubicBezTo>
                  <a:cubicBezTo>
                    <a:pt x="5527" y="1650"/>
                    <a:pt x="5527" y="1664"/>
                    <a:pt x="5533" y="1675"/>
                  </a:cubicBezTo>
                  <a:cubicBezTo>
                    <a:pt x="5547" y="1700"/>
                    <a:pt x="5572" y="1720"/>
                    <a:pt x="5581" y="1747"/>
                  </a:cubicBezTo>
                  <a:cubicBezTo>
                    <a:pt x="5598" y="1798"/>
                    <a:pt x="5596" y="1854"/>
                    <a:pt x="5617" y="1903"/>
                  </a:cubicBezTo>
                  <a:cubicBezTo>
                    <a:pt x="5635" y="1945"/>
                    <a:pt x="5700" y="2010"/>
                    <a:pt x="5737" y="2035"/>
                  </a:cubicBezTo>
                  <a:cubicBezTo>
                    <a:pt x="5760" y="2105"/>
                    <a:pt x="5740" y="2184"/>
                    <a:pt x="5773" y="2251"/>
                  </a:cubicBezTo>
                  <a:cubicBezTo>
                    <a:pt x="5830" y="2365"/>
                    <a:pt x="5759" y="2173"/>
                    <a:pt x="5821" y="2359"/>
                  </a:cubicBezTo>
                  <a:cubicBezTo>
                    <a:pt x="5825" y="2371"/>
                    <a:pt x="5833" y="2395"/>
                    <a:pt x="5833" y="2395"/>
                  </a:cubicBezTo>
                  <a:cubicBezTo>
                    <a:pt x="5840" y="2623"/>
                    <a:pt x="5824" y="2900"/>
                    <a:pt x="5869" y="3127"/>
                  </a:cubicBezTo>
                  <a:cubicBezTo>
                    <a:pt x="5866" y="3221"/>
                    <a:pt x="5943" y="3506"/>
                    <a:pt x="5809" y="3595"/>
                  </a:cubicBezTo>
                  <a:cubicBezTo>
                    <a:pt x="5801" y="3607"/>
                    <a:pt x="5791" y="3618"/>
                    <a:pt x="5785" y="3631"/>
                  </a:cubicBezTo>
                  <a:cubicBezTo>
                    <a:pt x="5775" y="3654"/>
                    <a:pt x="5761" y="3703"/>
                    <a:pt x="5761" y="3703"/>
                  </a:cubicBezTo>
                  <a:cubicBezTo>
                    <a:pt x="5757" y="3749"/>
                    <a:pt x="5751" y="3852"/>
                    <a:pt x="5737" y="3907"/>
                  </a:cubicBezTo>
                  <a:cubicBezTo>
                    <a:pt x="5731" y="3932"/>
                    <a:pt x="5737" y="3971"/>
                    <a:pt x="5713" y="3979"/>
                  </a:cubicBezTo>
                  <a:cubicBezTo>
                    <a:pt x="5701" y="3983"/>
                    <a:pt x="5689" y="3987"/>
                    <a:pt x="5677" y="3991"/>
                  </a:cubicBezTo>
                  <a:cubicBezTo>
                    <a:pt x="5669" y="4003"/>
                    <a:pt x="5663" y="4017"/>
                    <a:pt x="5653" y="4027"/>
                  </a:cubicBezTo>
                  <a:cubicBezTo>
                    <a:pt x="5643" y="4037"/>
                    <a:pt x="5626" y="4040"/>
                    <a:pt x="5617" y="4051"/>
                  </a:cubicBezTo>
                  <a:cubicBezTo>
                    <a:pt x="5519" y="4163"/>
                    <a:pt x="5614" y="4093"/>
                    <a:pt x="5533" y="4147"/>
                  </a:cubicBezTo>
                  <a:cubicBezTo>
                    <a:pt x="5531" y="4154"/>
                    <a:pt x="5498" y="4253"/>
                    <a:pt x="5497" y="4255"/>
                  </a:cubicBezTo>
                  <a:cubicBezTo>
                    <a:pt x="5480" y="4306"/>
                    <a:pt x="5485" y="4363"/>
                    <a:pt x="5461" y="4411"/>
                  </a:cubicBezTo>
                  <a:cubicBezTo>
                    <a:pt x="5436" y="4461"/>
                    <a:pt x="5419" y="4459"/>
                    <a:pt x="5365" y="4495"/>
                  </a:cubicBezTo>
                  <a:cubicBezTo>
                    <a:pt x="5353" y="4503"/>
                    <a:pt x="5329" y="4519"/>
                    <a:pt x="5329" y="4519"/>
                  </a:cubicBezTo>
                  <a:cubicBezTo>
                    <a:pt x="5265" y="4615"/>
                    <a:pt x="5349" y="4499"/>
                    <a:pt x="5269" y="4579"/>
                  </a:cubicBezTo>
                  <a:cubicBezTo>
                    <a:pt x="5215" y="4633"/>
                    <a:pt x="5279" y="4604"/>
                    <a:pt x="5209" y="4627"/>
                  </a:cubicBezTo>
                  <a:cubicBezTo>
                    <a:pt x="5169" y="4687"/>
                    <a:pt x="5197" y="4655"/>
                    <a:pt x="5113" y="4711"/>
                  </a:cubicBezTo>
                  <a:cubicBezTo>
                    <a:pt x="5101" y="4719"/>
                    <a:pt x="5089" y="4727"/>
                    <a:pt x="5077" y="4735"/>
                  </a:cubicBezTo>
                  <a:cubicBezTo>
                    <a:pt x="5065" y="4743"/>
                    <a:pt x="5041" y="4759"/>
                    <a:pt x="5041" y="4759"/>
                  </a:cubicBezTo>
                  <a:cubicBezTo>
                    <a:pt x="5002" y="4877"/>
                    <a:pt x="5021" y="4806"/>
                    <a:pt x="4993" y="4975"/>
                  </a:cubicBezTo>
                  <a:cubicBezTo>
                    <a:pt x="4987" y="5008"/>
                    <a:pt x="4945" y="5023"/>
                    <a:pt x="4921" y="5047"/>
                  </a:cubicBezTo>
                  <a:cubicBezTo>
                    <a:pt x="4885" y="5083"/>
                    <a:pt x="4862" y="5103"/>
                    <a:pt x="4813" y="5119"/>
                  </a:cubicBezTo>
                  <a:cubicBezTo>
                    <a:pt x="4801" y="5131"/>
                    <a:pt x="4793" y="5150"/>
                    <a:pt x="4777" y="5155"/>
                  </a:cubicBezTo>
                  <a:cubicBezTo>
                    <a:pt x="4709" y="5178"/>
                    <a:pt x="4631" y="5168"/>
                    <a:pt x="4561" y="5191"/>
                  </a:cubicBezTo>
                  <a:cubicBezTo>
                    <a:pt x="4553" y="5203"/>
                    <a:pt x="4541" y="5213"/>
                    <a:pt x="4537" y="5227"/>
                  </a:cubicBezTo>
                  <a:cubicBezTo>
                    <a:pt x="4529" y="5254"/>
                    <a:pt x="4544" y="5290"/>
                    <a:pt x="4525" y="5311"/>
                  </a:cubicBezTo>
                  <a:cubicBezTo>
                    <a:pt x="4509" y="5329"/>
                    <a:pt x="4477" y="5317"/>
                    <a:pt x="4453" y="5323"/>
                  </a:cubicBezTo>
                  <a:cubicBezTo>
                    <a:pt x="4428" y="5329"/>
                    <a:pt x="4402" y="5333"/>
                    <a:pt x="4381" y="5347"/>
                  </a:cubicBezTo>
                  <a:cubicBezTo>
                    <a:pt x="4357" y="5363"/>
                    <a:pt x="4309" y="5395"/>
                    <a:pt x="4309" y="5395"/>
                  </a:cubicBezTo>
                  <a:cubicBezTo>
                    <a:pt x="4278" y="5441"/>
                    <a:pt x="4230" y="5485"/>
                    <a:pt x="4177" y="5503"/>
                  </a:cubicBezTo>
                  <a:cubicBezTo>
                    <a:pt x="4069" y="5611"/>
                    <a:pt x="3926" y="5584"/>
                    <a:pt x="3781" y="5599"/>
                  </a:cubicBezTo>
                  <a:cubicBezTo>
                    <a:pt x="3742" y="5625"/>
                    <a:pt x="3724" y="5657"/>
                    <a:pt x="3685" y="5683"/>
                  </a:cubicBezTo>
                  <a:cubicBezTo>
                    <a:pt x="3647" y="5740"/>
                    <a:pt x="3620" y="5745"/>
                    <a:pt x="3553" y="5767"/>
                  </a:cubicBezTo>
                  <a:cubicBezTo>
                    <a:pt x="3340" y="5838"/>
                    <a:pt x="3105" y="5775"/>
                    <a:pt x="2881" y="5779"/>
                  </a:cubicBezTo>
                  <a:cubicBezTo>
                    <a:pt x="2788" y="5810"/>
                    <a:pt x="2623" y="5803"/>
                    <a:pt x="2533" y="5743"/>
                  </a:cubicBezTo>
                  <a:cubicBezTo>
                    <a:pt x="2521" y="5735"/>
                    <a:pt x="2511" y="5722"/>
                    <a:pt x="2497" y="5719"/>
                  </a:cubicBezTo>
                  <a:cubicBezTo>
                    <a:pt x="2454" y="5710"/>
                    <a:pt x="2409" y="5711"/>
                    <a:pt x="2365" y="5707"/>
                  </a:cubicBezTo>
                  <a:cubicBezTo>
                    <a:pt x="2341" y="5699"/>
                    <a:pt x="2293" y="5683"/>
                    <a:pt x="2293" y="5683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30240" y="2297160"/>
              <a:ext cx="3874680" cy="3800520"/>
            </a:xfrm>
            <a:custGeom>
              <a:avLst/>
              <a:gdLst/>
              <a:ahLst/>
              <a:rect l="l" t="t" r="r" b="b"/>
              <a:pathLst>
                <a:path w="4635" h="4607">
                  <a:moveTo>
                    <a:pt x="1700" y="4486"/>
                  </a:moveTo>
                  <a:cubicBezTo>
                    <a:pt x="1635" y="4473"/>
                    <a:pt x="1573" y="4450"/>
                    <a:pt x="1507" y="4434"/>
                  </a:cubicBezTo>
                  <a:cubicBezTo>
                    <a:pt x="1494" y="4426"/>
                    <a:pt x="1479" y="4419"/>
                    <a:pt x="1468" y="4409"/>
                  </a:cubicBezTo>
                  <a:cubicBezTo>
                    <a:pt x="1458" y="4398"/>
                    <a:pt x="1456" y="4379"/>
                    <a:pt x="1443" y="4370"/>
                  </a:cubicBezTo>
                  <a:cubicBezTo>
                    <a:pt x="1412" y="4351"/>
                    <a:pt x="1338" y="4339"/>
                    <a:pt x="1301" y="4331"/>
                  </a:cubicBezTo>
                  <a:cubicBezTo>
                    <a:pt x="1288" y="4323"/>
                    <a:pt x="1273" y="4316"/>
                    <a:pt x="1263" y="4306"/>
                  </a:cubicBezTo>
                  <a:cubicBezTo>
                    <a:pt x="1252" y="4295"/>
                    <a:pt x="1249" y="4277"/>
                    <a:pt x="1237" y="4267"/>
                  </a:cubicBezTo>
                  <a:cubicBezTo>
                    <a:pt x="1185" y="4222"/>
                    <a:pt x="1137" y="4207"/>
                    <a:pt x="1082" y="4177"/>
                  </a:cubicBezTo>
                  <a:cubicBezTo>
                    <a:pt x="1021" y="4143"/>
                    <a:pt x="984" y="4099"/>
                    <a:pt x="928" y="4061"/>
                  </a:cubicBezTo>
                  <a:cubicBezTo>
                    <a:pt x="885" y="3997"/>
                    <a:pt x="915" y="4031"/>
                    <a:pt x="825" y="3971"/>
                  </a:cubicBezTo>
                  <a:cubicBezTo>
                    <a:pt x="812" y="3962"/>
                    <a:pt x="799" y="3954"/>
                    <a:pt x="786" y="3945"/>
                  </a:cubicBezTo>
                  <a:cubicBezTo>
                    <a:pt x="773" y="3937"/>
                    <a:pt x="748" y="3919"/>
                    <a:pt x="748" y="3919"/>
                  </a:cubicBezTo>
                  <a:cubicBezTo>
                    <a:pt x="739" y="3907"/>
                    <a:pt x="733" y="3892"/>
                    <a:pt x="722" y="3881"/>
                  </a:cubicBezTo>
                  <a:cubicBezTo>
                    <a:pt x="711" y="3870"/>
                    <a:pt x="693" y="3867"/>
                    <a:pt x="683" y="3855"/>
                  </a:cubicBezTo>
                  <a:cubicBezTo>
                    <a:pt x="675" y="3844"/>
                    <a:pt x="677" y="3828"/>
                    <a:pt x="670" y="3816"/>
                  </a:cubicBezTo>
                  <a:cubicBezTo>
                    <a:pt x="648" y="3776"/>
                    <a:pt x="619" y="3739"/>
                    <a:pt x="593" y="3701"/>
                  </a:cubicBezTo>
                  <a:cubicBezTo>
                    <a:pt x="593" y="3701"/>
                    <a:pt x="497" y="3636"/>
                    <a:pt x="477" y="3623"/>
                  </a:cubicBezTo>
                  <a:cubicBezTo>
                    <a:pt x="464" y="3615"/>
                    <a:pt x="452" y="3606"/>
                    <a:pt x="439" y="3598"/>
                  </a:cubicBezTo>
                  <a:cubicBezTo>
                    <a:pt x="426" y="3589"/>
                    <a:pt x="400" y="3572"/>
                    <a:pt x="400" y="3572"/>
                  </a:cubicBezTo>
                  <a:cubicBezTo>
                    <a:pt x="392" y="3559"/>
                    <a:pt x="385" y="3544"/>
                    <a:pt x="374" y="3533"/>
                  </a:cubicBezTo>
                  <a:cubicBezTo>
                    <a:pt x="364" y="3523"/>
                    <a:pt x="344" y="3520"/>
                    <a:pt x="336" y="3508"/>
                  </a:cubicBezTo>
                  <a:cubicBezTo>
                    <a:pt x="322" y="3485"/>
                    <a:pt x="310" y="3430"/>
                    <a:pt x="310" y="3430"/>
                  </a:cubicBezTo>
                  <a:cubicBezTo>
                    <a:pt x="300" y="3300"/>
                    <a:pt x="308" y="3198"/>
                    <a:pt x="194" y="3121"/>
                  </a:cubicBezTo>
                  <a:cubicBezTo>
                    <a:pt x="177" y="3096"/>
                    <a:pt x="152" y="3073"/>
                    <a:pt x="143" y="3044"/>
                  </a:cubicBezTo>
                  <a:cubicBezTo>
                    <a:pt x="134" y="3018"/>
                    <a:pt x="117" y="2967"/>
                    <a:pt x="117" y="2967"/>
                  </a:cubicBezTo>
                  <a:cubicBezTo>
                    <a:pt x="113" y="2739"/>
                    <a:pt x="112" y="2512"/>
                    <a:pt x="104" y="2285"/>
                  </a:cubicBezTo>
                  <a:cubicBezTo>
                    <a:pt x="102" y="2228"/>
                    <a:pt x="65" y="2117"/>
                    <a:pt x="65" y="2117"/>
                  </a:cubicBezTo>
                  <a:cubicBezTo>
                    <a:pt x="72" y="1919"/>
                    <a:pt x="0" y="1728"/>
                    <a:pt x="168" y="1615"/>
                  </a:cubicBezTo>
                  <a:cubicBezTo>
                    <a:pt x="182" y="1574"/>
                    <a:pt x="206" y="1541"/>
                    <a:pt x="220" y="1500"/>
                  </a:cubicBezTo>
                  <a:cubicBezTo>
                    <a:pt x="224" y="1414"/>
                    <a:pt x="222" y="1327"/>
                    <a:pt x="233" y="1242"/>
                  </a:cubicBezTo>
                  <a:cubicBezTo>
                    <a:pt x="235" y="1227"/>
                    <a:pt x="247" y="1213"/>
                    <a:pt x="259" y="1203"/>
                  </a:cubicBezTo>
                  <a:cubicBezTo>
                    <a:pt x="310" y="1158"/>
                    <a:pt x="385" y="1110"/>
                    <a:pt x="452" y="1088"/>
                  </a:cubicBezTo>
                  <a:cubicBezTo>
                    <a:pt x="520" y="985"/>
                    <a:pt x="430" y="1109"/>
                    <a:pt x="516" y="1023"/>
                  </a:cubicBezTo>
                  <a:cubicBezTo>
                    <a:pt x="602" y="937"/>
                    <a:pt x="477" y="1028"/>
                    <a:pt x="580" y="959"/>
                  </a:cubicBezTo>
                  <a:cubicBezTo>
                    <a:pt x="580" y="958"/>
                    <a:pt x="594" y="819"/>
                    <a:pt x="606" y="804"/>
                  </a:cubicBezTo>
                  <a:cubicBezTo>
                    <a:pt x="622" y="785"/>
                    <a:pt x="726" y="778"/>
                    <a:pt x="761" y="766"/>
                  </a:cubicBezTo>
                  <a:cubicBezTo>
                    <a:pt x="800" y="706"/>
                    <a:pt x="811" y="659"/>
                    <a:pt x="876" y="637"/>
                  </a:cubicBezTo>
                  <a:cubicBezTo>
                    <a:pt x="906" y="593"/>
                    <a:pt x="935" y="564"/>
                    <a:pt x="979" y="534"/>
                  </a:cubicBezTo>
                  <a:cubicBezTo>
                    <a:pt x="1030" y="459"/>
                    <a:pt x="1110" y="454"/>
                    <a:pt x="1198" y="444"/>
                  </a:cubicBezTo>
                  <a:cubicBezTo>
                    <a:pt x="1211" y="440"/>
                    <a:pt x="1227" y="441"/>
                    <a:pt x="1237" y="431"/>
                  </a:cubicBezTo>
                  <a:cubicBezTo>
                    <a:pt x="1246" y="421"/>
                    <a:pt x="1243" y="404"/>
                    <a:pt x="1250" y="393"/>
                  </a:cubicBezTo>
                  <a:cubicBezTo>
                    <a:pt x="1256" y="379"/>
                    <a:pt x="1264" y="364"/>
                    <a:pt x="1275" y="354"/>
                  </a:cubicBezTo>
                  <a:cubicBezTo>
                    <a:pt x="1299" y="334"/>
                    <a:pt x="1353" y="302"/>
                    <a:pt x="1353" y="302"/>
                  </a:cubicBezTo>
                  <a:cubicBezTo>
                    <a:pt x="1361" y="290"/>
                    <a:pt x="1367" y="273"/>
                    <a:pt x="1378" y="264"/>
                  </a:cubicBezTo>
                  <a:cubicBezTo>
                    <a:pt x="1402" y="243"/>
                    <a:pt x="1456" y="212"/>
                    <a:pt x="1456" y="212"/>
                  </a:cubicBezTo>
                  <a:cubicBezTo>
                    <a:pt x="1527" y="105"/>
                    <a:pt x="1803" y="150"/>
                    <a:pt x="1868" y="148"/>
                  </a:cubicBezTo>
                  <a:cubicBezTo>
                    <a:pt x="2008" y="101"/>
                    <a:pt x="1799" y="180"/>
                    <a:pt x="1932" y="96"/>
                  </a:cubicBezTo>
                  <a:cubicBezTo>
                    <a:pt x="1954" y="83"/>
                    <a:pt x="1983" y="79"/>
                    <a:pt x="2009" y="71"/>
                  </a:cubicBezTo>
                  <a:cubicBezTo>
                    <a:pt x="2078" y="48"/>
                    <a:pt x="2157" y="56"/>
                    <a:pt x="2228" y="32"/>
                  </a:cubicBezTo>
                  <a:cubicBezTo>
                    <a:pt x="2253" y="7"/>
                    <a:pt x="2278" y="60"/>
                    <a:pt x="2326" y="0"/>
                  </a:cubicBezTo>
                  <a:cubicBezTo>
                    <a:pt x="2326" y="60"/>
                    <a:pt x="2374" y="24"/>
                    <a:pt x="2374" y="24"/>
                  </a:cubicBezTo>
                  <a:cubicBezTo>
                    <a:pt x="2448" y="136"/>
                    <a:pt x="2610" y="26"/>
                    <a:pt x="2730" y="32"/>
                  </a:cubicBezTo>
                  <a:cubicBezTo>
                    <a:pt x="2829" y="98"/>
                    <a:pt x="2868" y="227"/>
                    <a:pt x="3000" y="238"/>
                  </a:cubicBezTo>
                  <a:cubicBezTo>
                    <a:pt x="3086" y="246"/>
                    <a:pt x="3172" y="247"/>
                    <a:pt x="3258" y="251"/>
                  </a:cubicBezTo>
                  <a:cubicBezTo>
                    <a:pt x="3302" y="280"/>
                    <a:pt x="3344" y="372"/>
                    <a:pt x="3399" y="380"/>
                  </a:cubicBezTo>
                  <a:cubicBezTo>
                    <a:pt x="3480" y="390"/>
                    <a:pt x="3562" y="388"/>
                    <a:pt x="3644" y="393"/>
                  </a:cubicBezTo>
                  <a:cubicBezTo>
                    <a:pt x="3675" y="454"/>
                    <a:pt x="3708" y="516"/>
                    <a:pt x="3747" y="573"/>
                  </a:cubicBezTo>
                  <a:cubicBezTo>
                    <a:pt x="3768" y="659"/>
                    <a:pt x="3790" y="647"/>
                    <a:pt x="3876" y="676"/>
                  </a:cubicBezTo>
                  <a:cubicBezTo>
                    <a:pt x="3888" y="680"/>
                    <a:pt x="3914" y="689"/>
                    <a:pt x="3914" y="689"/>
                  </a:cubicBezTo>
                  <a:cubicBezTo>
                    <a:pt x="3944" y="711"/>
                    <a:pt x="3979" y="727"/>
                    <a:pt x="4004" y="753"/>
                  </a:cubicBezTo>
                  <a:cubicBezTo>
                    <a:pt x="4048" y="797"/>
                    <a:pt x="4077" y="864"/>
                    <a:pt x="4120" y="907"/>
                  </a:cubicBezTo>
                  <a:cubicBezTo>
                    <a:pt x="4145" y="932"/>
                    <a:pt x="4171" y="952"/>
                    <a:pt x="4184" y="985"/>
                  </a:cubicBezTo>
                  <a:cubicBezTo>
                    <a:pt x="4224" y="1073"/>
                    <a:pt x="4240" y="1159"/>
                    <a:pt x="4326" y="1216"/>
                  </a:cubicBezTo>
                  <a:cubicBezTo>
                    <a:pt x="4346" y="1279"/>
                    <a:pt x="4367" y="1325"/>
                    <a:pt x="4429" y="1345"/>
                  </a:cubicBezTo>
                  <a:cubicBezTo>
                    <a:pt x="4468" y="1403"/>
                    <a:pt x="4469" y="1416"/>
                    <a:pt x="4455" y="1487"/>
                  </a:cubicBezTo>
                  <a:cubicBezTo>
                    <a:pt x="4469" y="1732"/>
                    <a:pt x="4444" y="1636"/>
                    <a:pt x="4493" y="1783"/>
                  </a:cubicBezTo>
                  <a:cubicBezTo>
                    <a:pt x="4499" y="1798"/>
                    <a:pt x="4513" y="1807"/>
                    <a:pt x="4519" y="1821"/>
                  </a:cubicBezTo>
                  <a:cubicBezTo>
                    <a:pt x="4530" y="1846"/>
                    <a:pt x="4545" y="1899"/>
                    <a:pt x="4545" y="1899"/>
                  </a:cubicBezTo>
                  <a:cubicBezTo>
                    <a:pt x="4549" y="1993"/>
                    <a:pt x="4550" y="2087"/>
                    <a:pt x="4558" y="2182"/>
                  </a:cubicBezTo>
                  <a:cubicBezTo>
                    <a:pt x="4559" y="2199"/>
                    <a:pt x="4567" y="2216"/>
                    <a:pt x="4571" y="2233"/>
                  </a:cubicBezTo>
                  <a:cubicBezTo>
                    <a:pt x="4576" y="2259"/>
                    <a:pt x="4575" y="2286"/>
                    <a:pt x="4584" y="2310"/>
                  </a:cubicBezTo>
                  <a:cubicBezTo>
                    <a:pt x="4596" y="2347"/>
                    <a:pt x="4635" y="2413"/>
                    <a:pt x="4635" y="2413"/>
                  </a:cubicBezTo>
                  <a:cubicBezTo>
                    <a:pt x="4631" y="2452"/>
                    <a:pt x="4634" y="2493"/>
                    <a:pt x="4622" y="2529"/>
                  </a:cubicBezTo>
                  <a:cubicBezTo>
                    <a:pt x="4608" y="2571"/>
                    <a:pt x="4572" y="2603"/>
                    <a:pt x="4558" y="2645"/>
                  </a:cubicBezTo>
                  <a:cubicBezTo>
                    <a:pt x="4567" y="2768"/>
                    <a:pt x="4582" y="2846"/>
                    <a:pt x="4558" y="2967"/>
                  </a:cubicBezTo>
                  <a:cubicBezTo>
                    <a:pt x="4552" y="2995"/>
                    <a:pt x="4528" y="3017"/>
                    <a:pt x="4519" y="3044"/>
                  </a:cubicBezTo>
                  <a:cubicBezTo>
                    <a:pt x="4523" y="3057"/>
                    <a:pt x="4537" y="3070"/>
                    <a:pt x="4532" y="3083"/>
                  </a:cubicBezTo>
                  <a:cubicBezTo>
                    <a:pt x="4518" y="3117"/>
                    <a:pt x="4414" y="3122"/>
                    <a:pt x="4378" y="3134"/>
                  </a:cubicBezTo>
                  <a:cubicBezTo>
                    <a:pt x="4369" y="3161"/>
                    <a:pt x="4348" y="3184"/>
                    <a:pt x="4339" y="3211"/>
                  </a:cubicBezTo>
                  <a:cubicBezTo>
                    <a:pt x="4322" y="3266"/>
                    <a:pt x="4314" y="3323"/>
                    <a:pt x="4300" y="3379"/>
                  </a:cubicBezTo>
                  <a:cubicBezTo>
                    <a:pt x="4299" y="3382"/>
                    <a:pt x="4285" y="3469"/>
                    <a:pt x="4275" y="3482"/>
                  </a:cubicBezTo>
                  <a:cubicBezTo>
                    <a:pt x="4256" y="3504"/>
                    <a:pt x="4223" y="3512"/>
                    <a:pt x="4197" y="3520"/>
                  </a:cubicBezTo>
                  <a:cubicBezTo>
                    <a:pt x="4160" y="3558"/>
                    <a:pt x="4138" y="3594"/>
                    <a:pt x="4094" y="3623"/>
                  </a:cubicBezTo>
                  <a:cubicBezTo>
                    <a:pt x="4054" y="3685"/>
                    <a:pt x="4074" y="3647"/>
                    <a:pt x="4043" y="3739"/>
                  </a:cubicBezTo>
                  <a:cubicBezTo>
                    <a:pt x="4039" y="3752"/>
                    <a:pt x="4030" y="3778"/>
                    <a:pt x="4030" y="3778"/>
                  </a:cubicBezTo>
                  <a:cubicBezTo>
                    <a:pt x="4026" y="3816"/>
                    <a:pt x="4042" y="3864"/>
                    <a:pt x="4017" y="3894"/>
                  </a:cubicBezTo>
                  <a:cubicBezTo>
                    <a:pt x="3998" y="3917"/>
                    <a:pt x="3955" y="3896"/>
                    <a:pt x="3927" y="3907"/>
                  </a:cubicBezTo>
                  <a:cubicBezTo>
                    <a:pt x="3898" y="3917"/>
                    <a:pt x="3850" y="3958"/>
                    <a:pt x="3850" y="3958"/>
                  </a:cubicBezTo>
                  <a:cubicBezTo>
                    <a:pt x="3798" y="4035"/>
                    <a:pt x="3767" y="4082"/>
                    <a:pt x="3695" y="4138"/>
                  </a:cubicBezTo>
                  <a:cubicBezTo>
                    <a:pt x="3671" y="4158"/>
                    <a:pt x="3644" y="4173"/>
                    <a:pt x="3618" y="4190"/>
                  </a:cubicBezTo>
                  <a:cubicBezTo>
                    <a:pt x="3605" y="4198"/>
                    <a:pt x="3579" y="4215"/>
                    <a:pt x="3579" y="4215"/>
                  </a:cubicBezTo>
                  <a:cubicBezTo>
                    <a:pt x="3536" y="4282"/>
                    <a:pt x="3483" y="4277"/>
                    <a:pt x="3412" y="4293"/>
                  </a:cubicBezTo>
                  <a:cubicBezTo>
                    <a:pt x="3361" y="4305"/>
                    <a:pt x="3289" y="4315"/>
                    <a:pt x="3245" y="4344"/>
                  </a:cubicBezTo>
                  <a:cubicBezTo>
                    <a:pt x="3219" y="4361"/>
                    <a:pt x="3200" y="4379"/>
                    <a:pt x="3168" y="4383"/>
                  </a:cubicBezTo>
                  <a:cubicBezTo>
                    <a:pt x="3108" y="4390"/>
                    <a:pt x="3047" y="4391"/>
                    <a:pt x="2987" y="4396"/>
                  </a:cubicBezTo>
                  <a:cubicBezTo>
                    <a:pt x="2920" y="4418"/>
                    <a:pt x="2956" y="4397"/>
                    <a:pt x="2897" y="4486"/>
                  </a:cubicBezTo>
                  <a:cubicBezTo>
                    <a:pt x="2890" y="4498"/>
                    <a:pt x="2873" y="4497"/>
                    <a:pt x="2859" y="4499"/>
                  </a:cubicBezTo>
                  <a:cubicBezTo>
                    <a:pt x="2760" y="4510"/>
                    <a:pt x="2661" y="4515"/>
                    <a:pt x="2563" y="4524"/>
                  </a:cubicBezTo>
                  <a:cubicBezTo>
                    <a:pt x="2315" y="4607"/>
                    <a:pt x="2719" y="4563"/>
                    <a:pt x="2022" y="4563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5280" y="1413000"/>
              <a:ext cx="270792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ülső érintette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rmészeti környez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ézményrendsz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ársadalmi csoport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24120" y="4011480"/>
              <a:ext cx="2006280" cy="2038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lső érintette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ulajdonos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edz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nkavállaló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360" y="2637000"/>
              <a:ext cx="3527280" cy="16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özvetlenül érintette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zállító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vő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senytársa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vállalkozó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 belső érintettek társadalmi környeze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élyegyenlősé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sélyegyenlőséget mindenki számára meg kell teremte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nem csak a nőknek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amilyen szempontból mindannyian kisebbségiek vagy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értelmiségi, vidéki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szor halmozódnak a szempont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. vidéki, határontúli, cigány, értelmiségi, nő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icsinység is hátrányos helyz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nemzeti kisebbség, kisvállalat, méretgazdaságosság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sélyegyenlőségért tenni önzésből is lehet, nem szükséges az altruizm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sszú távon belátható az önérdek, magunkért, a többségért is tegyü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ásság, a sokszínűség a fejlődés kimeríthetetlen forrás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ran a jöttmentek, a kirekesztettek, az innovátorok az új eszmék hordozó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környezetelemzé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68800" y="1989000"/>
            <a:ext cx="1888920" cy="730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rtékesítési nehéz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44760" y="3162240"/>
            <a:ext cx="1560240" cy="798480"/>
          </a:xfrm>
          <a:prstGeom prst="rect">
            <a:avLst/>
          </a:prstGeom>
          <a:solidFill>
            <a:srgbClr val="ffff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szerűtlen termé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57720" y="3251160"/>
            <a:ext cx="1724040" cy="620640"/>
          </a:xfrm>
          <a:prstGeom prst="rect">
            <a:avLst/>
          </a:prstGeom>
          <a:solidFill>
            <a:srgbClr val="ffff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tzerland"/>
              </a:rPr>
              <a:t>fejletlen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4492800"/>
            <a:ext cx="1149480" cy="62064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tzerland"/>
              </a:rPr>
              <a:t>elavult technoló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09640" y="4419720"/>
            <a:ext cx="901800" cy="95400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Switzerland"/>
              </a:rPr>
              <a:t>korsze-rűtlen csoma-gol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93880" y="4448160"/>
            <a:ext cx="1397160" cy="92556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rmék ala-csony feldol-gozottsági szint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54480" y="4403880"/>
            <a:ext cx="1231920" cy="79848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tzerland"/>
              </a:rPr>
              <a:t>nem feltárt célpi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68840" y="4565520"/>
            <a:ext cx="1067040" cy="53208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tzerland"/>
              </a:rPr>
              <a:t>képzetlen munkaer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00760" y="4581360"/>
            <a:ext cx="1067040" cy="53208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ányzó kapcsol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2365200"/>
            <a:ext cx="164304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witzerland"/>
              </a:rPr>
              <a:t>okoz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04000" y="5113440"/>
            <a:ext cx="9036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witzerland"/>
              </a:rPr>
              <a:t>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01080" y="2924280"/>
            <a:ext cx="247680" cy="2216160"/>
          </a:xfrm>
          <a:prstGeom prst="upArrow">
            <a:avLst>
              <a:gd name="adj1" fmla="val 50000"/>
              <a:gd name="adj2" fmla="val 223692"/>
            </a:avLst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284560" y="2897280"/>
            <a:ext cx="0" cy="26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4560" y="2897280"/>
            <a:ext cx="353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15080" y="2897280"/>
            <a:ext cx="0" cy="3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72040" y="2719440"/>
            <a:ext cx="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4560" y="395928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4221000"/>
            <a:ext cx="246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87400" y="422604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4560" y="4226040"/>
            <a:ext cx="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51240" y="4226040"/>
            <a:ext cx="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97520" y="3871800"/>
            <a:ext cx="0" cy="2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48040" y="4138560"/>
            <a:ext cx="254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48040" y="4138560"/>
            <a:ext cx="0" cy="2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97520" y="4138560"/>
            <a:ext cx="0" cy="4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92880" y="4138560"/>
            <a:ext cx="0" cy="4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9640" y="922320"/>
            <a:ext cx="184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56360" y="5445000"/>
            <a:ext cx="1152360" cy="532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tzerland"/>
              </a:rPr>
              <a:t>hiányos infrastruktú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32720" y="4149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156360" y="4149720"/>
            <a:ext cx="1152360" cy="1827360"/>
            <a:chOff x="6156360" y="4149720"/>
            <a:chExt cx="1152360" cy="1827360"/>
          </a:xfrm>
        </p:grpSpPr>
        <p:sp>
          <p:nvSpPr>
            <p:cNvPr id="402" name=""/>
            <p:cNvSpPr/>
            <p:nvPr/>
          </p:nvSpPr>
          <p:spPr>
            <a:xfrm>
              <a:off x="6156360" y="5445000"/>
              <a:ext cx="1152360" cy="532080"/>
            </a:xfrm>
            <a:prstGeom prst="rect">
              <a:avLst/>
            </a:prstGeom>
            <a:solidFill>
              <a:srgbClr val="ffd4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witzerland"/>
                </a:rPr>
                <a:t>hiányos infrastruktú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32720" y="41497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042920" y="4221000"/>
            <a:ext cx="1152360" cy="1827360"/>
            <a:chOff x="1042920" y="4221000"/>
            <a:chExt cx="1152360" cy="1827360"/>
          </a:xfrm>
        </p:grpSpPr>
        <p:sp>
          <p:nvSpPr>
            <p:cNvPr id="405" name=""/>
            <p:cNvSpPr/>
            <p:nvPr/>
          </p:nvSpPr>
          <p:spPr>
            <a:xfrm>
              <a:off x="1042920" y="5516280"/>
              <a:ext cx="1152360" cy="532080"/>
            </a:xfrm>
            <a:prstGeom prst="rect">
              <a:avLst/>
            </a:prstGeom>
            <a:solidFill>
              <a:srgbClr val="ffd4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witzerland"/>
                </a:rPr>
                <a:t>tőkehiá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619280" y="42210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50920" y="4005360"/>
            <a:ext cx="7704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2751120"/>
            <a:ext cx="62658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0960" y="620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afa – Célf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620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bléma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1773360"/>
            <a:ext cx="30970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280" y="203040"/>
            <a:ext cx="80010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l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640" y="836640"/>
            <a:ext cx="8577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oblémák átfogalmazása célokká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obléma-fa “tükörképének” megalko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1989000"/>
            <a:ext cx="2089080" cy="665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ékértékesítés jav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4840" y="3152880"/>
            <a:ext cx="1658880" cy="898560"/>
          </a:xfrm>
          <a:prstGeom prst="rect">
            <a:avLst/>
          </a:prstGeom>
          <a:solidFill>
            <a:srgbClr val="ffff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Switzerland"/>
              </a:rPr>
              <a:t>korszerű termék/termék-szerkez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14960" y="3252960"/>
            <a:ext cx="1833480" cy="698400"/>
          </a:xfrm>
          <a:prstGeom prst="rect">
            <a:avLst/>
          </a:prstGeom>
          <a:solidFill>
            <a:srgbClr val="ffff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tzerland"/>
              </a:rPr>
              <a:t>javuló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2280" y="4649760"/>
            <a:ext cx="1222560" cy="113184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Switzerland"/>
              </a:rPr>
              <a:t>termékfej-leszté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áltás elősegí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49440" y="4600440"/>
            <a:ext cx="958680" cy="91620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Switzerland"/>
              </a:rPr>
              <a:t>új cso-magolás terve-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7040" y="4600440"/>
            <a:ext cx="1484280" cy="79848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tzerland"/>
              </a:rPr>
              <a:t>technológia-váltás elősegí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55920" y="4549680"/>
            <a:ext cx="1308240" cy="89856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élpiac feltá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4700520"/>
            <a:ext cx="1135080" cy="117648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Switzerland"/>
              </a:rPr>
              <a:t>korszerű marketing-ismeretek megszer-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61320" y="4749840"/>
            <a:ext cx="1211040" cy="83196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tzerland"/>
              </a:rPr>
              <a:t>kapcsolati tőke, kapcsolatháló kiép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67640" y="2205000"/>
            <a:ext cx="1746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tzerland"/>
              </a:rPr>
              <a:t>eredm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83520" y="5373720"/>
            <a:ext cx="960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tzerland"/>
              </a:rPr>
              <a:t>felté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160720" y="285408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60720" y="2854440"/>
            <a:ext cx="37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913360" y="2854440"/>
            <a:ext cx="0" cy="3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68800" y="2654280"/>
            <a:ext cx="0" cy="20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60720" y="405144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6440" y="4351320"/>
            <a:ext cx="261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6440" y="435132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60720" y="4351320"/>
            <a:ext cx="0" cy="1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95800" y="4351320"/>
            <a:ext cx="0" cy="19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00840" y="395136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78280" y="4251240"/>
            <a:ext cx="270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25124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00840" y="42512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85120" y="42512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99280" y="5630760"/>
            <a:ext cx="1225440" cy="750960"/>
          </a:xfrm>
          <a:prstGeom prst="rect">
            <a:avLst/>
          </a:prstGeom>
          <a:solidFill>
            <a:srgbClr val="ffd4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Switzerland"/>
              </a:rPr>
              <a:t>infrastruk-túra-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875640" y="4221000"/>
            <a:ext cx="1440" cy="140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914400" y="4365360"/>
            <a:ext cx="1152360" cy="1827000"/>
            <a:chOff x="914400" y="4365360"/>
            <a:chExt cx="1152360" cy="1827000"/>
          </a:xfrm>
        </p:grpSpPr>
        <p:sp>
          <p:nvSpPr>
            <p:cNvPr id="442" name=""/>
            <p:cNvSpPr/>
            <p:nvPr/>
          </p:nvSpPr>
          <p:spPr>
            <a:xfrm>
              <a:off x="914400" y="5660640"/>
              <a:ext cx="1152360" cy="531720"/>
            </a:xfrm>
            <a:prstGeom prst="rect">
              <a:avLst/>
            </a:prstGeom>
            <a:solidFill>
              <a:srgbClr val="ffd4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witzerland"/>
                </a:rPr>
                <a:t>külső tőke bevon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490760" y="4365360"/>
              <a:ext cx="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8604360" y="2637000"/>
            <a:ext cx="247680" cy="2592360"/>
          </a:xfrm>
          <a:prstGeom prst="upArrow">
            <a:avLst>
              <a:gd name="adj1" fmla="val 50000"/>
              <a:gd name="adj2" fmla="val 261664"/>
            </a:avLst>
          </a:prstGeom>
          <a:solidFill>
            <a:srgbClr val="ffcc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5280" y="2671920"/>
            <a:ext cx="7272360" cy="20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4076640"/>
            <a:ext cx="8244000" cy="233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40000" y="5373720"/>
            <a:ext cx="2736720" cy="1015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oldási válto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pl: gépbeszerz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56000">
            <a:off x="3276720" y="40762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3 -0.05231 L 0.06302 -0.31481 E">
                                      <p:cBhvr>
                                        <p:cTn id="111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30240" y="42840"/>
            <a:ext cx="7489800" cy="6121440"/>
            <a:chOff x="930240" y="42840"/>
            <a:chExt cx="7489800" cy="6121440"/>
          </a:xfrm>
        </p:grpSpPr>
        <p:sp>
          <p:nvSpPr>
            <p:cNvPr id="91" name=""/>
            <p:cNvSpPr/>
            <p:nvPr/>
          </p:nvSpPr>
          <p:spPr>
            <a:xfrm rot="5400000">
              <a:off x="5658840" y="2108160"/>
              <a:ext cx="1054080" cy="114120"/>
            </a:xfrm>
            <a:prstGeom prst="leftRightArrow">
              <a:avLst>
                <a:gd name="adj1" fmla="val 50000"/>
                <a:gd name="adj2" fmla="val 18387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2395440" y="2108160"/>
              <a:ext cx="1054080" cy="114480"/>
            </a:xfrm>
            <a:prstGeom prst="leftRightArrow">
              <a:avLst>
                <a:gd name="adj1" fmla="val 50000"/>
                <a:gd name="adj2" fmla="val 183298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3917880" y="1017360"/>
              <a:ext cx="1054080" cy="114480"/>
            </a:xfrm>
            <a:prstGeom prst="leftRightArrow">
              <a:avLst>
                <a:gd name="adj1" fmla="val 50000"/>
                <a:gd name="adj2" fmla="val 183298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30240" y="2666880"/>
              <a:ext cx="3744720" cy="349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 vállalkozás indí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z induló vállalkozás életképessé-gének, kilátásainak, esélyeinek átgon-dolása, a vállalkozás üzleti stratégiá-jának kidolgoz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 működő vállalkozás fejleszt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új termék/szolgáltatás bevezet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új technológia bevezet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új tevékenységi kör indí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új piac/piaci szegmens megcélz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 vállalkozás teljesítményének mérése, nyo-monkövet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 vállalkozás krízishelyzetének megold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A tulajdonostársak tájékozta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4040" y="2635200"/>
              <a:ext cx="3456000" cy="1485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Új tulajdonostárs bevon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m tulajdonosi idegen tőke bevoná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tel, visszatérítendő támogat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sza nem térítendő támogatások elnyer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Üzleti partnerek megnyer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2240" y="42840"/>
              <a:ext cx="5486400" cy="799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lyen célból készül az üzleti terv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mire jó ?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3360" y="1555560"/>
              <a:ext cx="1257120" cy="114480"/>
            </a:xfrm>
            <a:prstGeom prst="leftRightArrow">
              <a:avLst>
                <a:gd name="adj1" fmla="val 50000"/>
                <a:gd name="adj2" fmla="val 21860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85960" y="1116000"/>
              <a:ext cx="1942920" cy="801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ját cél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51240" y="1157400"/>
              <a:ext cx="1714680" cy="799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ülső gazdasági szereplők számá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előrejelzés az üzleti tervekh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332000" y="1268280"/>
            <a:ext cx="7654320" cy="4968720"/>
            <a:chOff x="1332000" y="1268280"/>
            <a:chExt cx="7654320" cy="4968720"/>
          </a:xfrm>
        </p:grpSpPr>
        <p:sp>
          <p:nvSpPr>
            <p:cNvPr id="452" name=""/>
            <p:cNvSpPr/>
            <p:nvPr/>
          </p:nvSpPr>
          <p:spPr>
            <a:xfrm>
              <a:off x="1919160" y="3684240"/>
              <a:ext cx="0" cy="1944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332000" y="1268280"/>
              <a:ext cx="7654320" cy="4968720"/>
              <a:chOff x="1332000" y="1268280"/>
              <a:chExt cx="7654320" cy="4968720"/>
            </a:xfrm>
          </p:grpSpPr>
          <p:sp>
            <p:nvSpPr>
              <p:cNvPr id="454" name=""/>
              <p:cNvSpPr/>
              <p:nvPr/>
            </p:nvSpPr>
            <p:spPr>
              <a:xfrm>
                <a:off x="1360800" y="2348640"/>
                <a:ext cx="151308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életlene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20320" y="1618560"/>
                <a:ext cx="203436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övőképe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63320" y="2364120"/>
                <a:ext cx="203436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ejlődé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937920" y="3289680"/>
                <a:ext cx="203400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gnálá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52320" y="4215600"/>
                <a:ext cx="203400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nyatlá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46880" y="5113080"/>
                <a:ext cx="186516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dőtarta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2000" y="1268280"/>
                <a:ext cx="120924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ende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32000" y="1749960"/>
                <a:ext cx="179352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seménye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8440" y="5778000"/>
                <a:ext cx="1058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E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08320" y="5778000"/>
                <a:ext cx="105876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ÖV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42440" y="2134440"/>
                <a:ext cx="1715760" cy="29246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42280" y="3186000"/>
                <a:ext cx="509400" cy="6724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42280" y="2309760"/>
                <a:ext cx="509400" cy="6469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535360" y="4079520"/>
                <a:ext cx="509400" cy="64692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89880" y="4726440"/>
                <a:ext cx="0" cy="9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919160" y="5627160"/>
                <a:ext cx="38538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DotDot"/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890000" y="2226960"/>
                <a:ext cx="3560760" cy="1110600"/>
              </a:xfrm>
              <a:custGeom>
                <a:avLst/>
                <a:gdLst/>
                <a:ahLst/>
                <a:rect l="l" t="t" r="r" b="b"/>
                <a:pathLst>
                  <a:path w="6048" h="1728">
                    <a:moveTo>
                      <a:pt x="0" y="1728"/>
                    </a:moveTo>
                    <a:cubicBezTo>
                      <a:pt x="288" y="1728"/>
                      <a:pt x="576" y="1728"/>
                      <a:pt x="1584" y="1440"/>
                    </a:cubicBezTo>
                    <a:cubicBezTo>
                      <a:pt x="2592" y="1152"/>
                      <a:pt x="4320" y="576"/>
                      <a:pt x="6048" y="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29520" y="1968840"/>
                <a:ext cx="1281960" cy="54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75200" y="2597760"/>
                <a:ext cx="144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5200" y="3523680"/>
                <a:ext cx="152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75200" y="4449240"/>
                <a:ext cx="144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98560" y="3591720"/>
                <a:ext cx="3645360" cy="1388880"/>
              </a:xfrm>
              <a:custGeom>
                <a:avLst/>
                <a:gdLst/>
                <a:ahLst/>
                <a:rect l="l" t="t" r="r" b="b"/>
                <a:pathLst>
                  <a:path w="6192" h="2160">
                    <a:moveTo>
                      <a:pt x="0" y="0"/>
                    </a:moveTo>
                    <a:cubicBezTo>
                      <a:pt x="564" y="108"/>
                      <a:pt x="1128" y="216"/>
                      <a:pt x="2160" y="576"/>
                    </a:cubicBezTo>
                    <a:cubicBezTo>
                      <a:pt x="3192" y="936"/>
                      <a:pt x="4692" y="1548"/>
                      <a:pt x="6192" y="216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98560" y="3287880"/>
                <a:ext cx="174600" cy="3502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554560" y="1443240"/>
                <a:ext cx="1631520" cy="720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54560" y="2494800"/>
                <a:ext cx="873360" cy="350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24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előrejelzés az üzleti tervekhez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k-okozati összefügg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dősorelem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ndelkeznünk kell a múltra vonatkozó kvantifikált információkkal, azaz adatok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 kell fogadnunk azt a feltételezést, hogy a múltbeli minták a jövőben is ismétlőd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kompozí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rtós tendenciá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gy évnél nagyobb periódusokban ismétlődő ciklikussá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éven belüli szezonalit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z elkerülhetetlen véletlen ingadoz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függvényválasztás szempontj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24000" y="1773360"/>
          <a:ext cx="8424720" cy="3003480"/>
        </p:xfrm>
        <a:graphic>
          <a:graphicData uri="http://schemas.openxmlformats.org/drawingml/2006/table">
            <a:tbl>
              <a:tblPr/>
              <a:tblGrid>
                <a:gridCol w="2808000"/>
                <a:gridCol w="2722680"/>
                <a:gridCol w="28940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üggvény típ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áltozók reagá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üggetlen változ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üggő változ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á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í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í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aritmu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ikatív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í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onenci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í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ikatív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tványkitevő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ikatív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ikatív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felépí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74872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ő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, a termékek és szolgáltatások bemutatása; múlt, jelen, jö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állalkozás bemutatása (helyzetelemz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rmék (szolgáltatás) bemuta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dasági környezet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üzleti magatartás elvei, ügyfelek, érintet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iac és a fogyasztói viselkedés elem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enyelemzés, stratégiaalko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 működt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elési, üzemeltetés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mélyi feltételek, emberi erőforrások, humánpolitika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nzügy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terv megvalósíthatós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Ütemterv a megvalósí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ckázatelem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ék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zió - küldetés - cél – felad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és mi vagyo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yik üzletágban és piac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a célom, feladato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k és mik az ügyfele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k és mik a munkatársa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yen közös értékeket képviselü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 teszünk a közösségé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égiaalkotás célfüggvén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zdaság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tékony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edménye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sszehangolt termékpály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eruházások és befektetés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övőorientált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án erőfor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rnyezettudatossá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ociális felelősségválla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ntartható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uló válla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ratégiai üzleti egység  = SBU = SGF = SÜE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különült termékszorti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különült fogyasztói kör, ügyfél- és/ vagy vevőkö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öldrajzi elkülönül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határozott konkurenc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üggetlenség az anyavállalattó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öntési szabadsá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mutatható eredményessé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rsenyhelyzet-elemzés –  Porter „Öt erő” mo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641600" y="1182600"/>
            <a:ext cx="5689440" cy="4879800"/>
            <a:chOff x="1641600" y="1182600"/>
            <a:chExt cx="5689440" cy="4879800"/>
          </a:xfrm>
        </p:grpSpPr>
        <p:sp>
          <p:nvSpPr>
            <p:cNvPr id="494" name=""/>
            <p:cNvSpPr/>
            <p:nvPr/>
          </p:nvSpPr>
          <p:spPr>
            <a:xfrm>
              <a:off x="3544920" y="1182600"/>
              <a:ext cx="2135520" cy="38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yitott szem a világ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00280" y="5673600"/>
              <a:ext cx="1991880" cy="38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konkurenciaelem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70320" y="2815560"/>
              <a:ext cx="1260720" cy="38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iackutatá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41600" y="2784600"/>
              <a:ext cx="1327680" cy="38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költségelem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00280" y="5336640"/>
              <a:ext cx="1991880" cy="385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hetséges új belépő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14680" y="1464120"/>
              <a:ext cx="2165760" cy="46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yettesítő termék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41600" y="3065400"/>
              <a:ext cx="1305000" cy="63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szállító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68160" y="3077640"/>
              <a:ext cx="1255320" cy="63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vevő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ásárló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67120" y="3345480"/>
              <a:ext cx="632880" cy="96480"/>
            </a:xfrm>
            <a:prstGeom prst="leftRightArrow">
              <a:avLst>
                <a:gd name="adj1" fmla="val 50000"/>
                <a:gd name="adj2" fmla="val 13058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57880" y="3345480"/>
              <a:ext cx="632880" cy="96480"/>
            </a:xfrm>
            <a:prstGeom prst="leftRightArrow">
              <a:avLst>
                <a:gd name="adj1" fmla="val 50000"/>
                <a:gd name="adj2" fmla="val 13058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4216680" y="2224440"/>
              <a:ext cx="486720" cy="131400"/>
            </a:xfrm>
            <a:prstGeom prst="leftRightArrow">
              <a:avLst>
                <a:gd name="adj1" fmla="val 50000"/>
                <a:gd name="adj2" fmla="val 73739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5400000">
              <a:off x="4182840" y="4798800"/>
              <a:ext cx="486720" cy="132120"/>
            </a:xfrm>
            <a:prstGeom prst="leftRightArrow">
              <a:avLst>
                <a:gd name="adj1" fmla="val 50000"/>
                <a:gd name="adj2" fmla="val 7333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81000" y="2767680"/>
              <a:ext cx="1495440" cy="1585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rseny a verseny-társa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özöt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49040" y="3805920"/>
              <a:ext cx="1359720" cy="28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senyelem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erseny terület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, előállítási költség, kedvezmények, hitel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ológiai innováció, üzleti innovác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j, javított, módosított termék, termék-innovác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rnyezetbarát termék, előállítás, recycl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magolás, tárolhatóság, adagolhatósá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élesebb termékválaszté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ical sophistication, cutting ed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yling, design, ergonóm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rvíz és garancia szolgáltat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móció, reklámkampány költségvet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mogatások, protekcionizmus, vám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koszociális felelősségvállalás, fair tra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osztási csatornák, kereskedők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619280" y="1268280"/>
            <a:ext cx="2441520" cy="1600200"/>
            <a:chOff x="1619280" y="1268280"/>
            <a:chExt cx="2441520" cy="1600200"/>
          </a:xfrm>
        </p:grpSpPr>
        <p:sp>
          <p:nvSpPr>
            <p:cNvPr id="512" name=""/>
            <p:cNvSpPr/>
            <p:nvPr/>
          </p:nvSpPr>
          <p:spPr>
            <a:xfrm rot="5400000">
              <a:off x="2738160" y="1637280"/>
              <a:ext cx="212400" cy="54360"/>
            </a:xfrm>
            <a:prstGeom prst="leftRightArrow">
              <a:avLst>
                <a:gd name="adj1" fmla="val 50000"/>
                <a:gd name="adj2" fmla="val 77784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18560" y="2560680"/>
              <a:ext cx="666720" cy="307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Ú.B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42680" y="1268280"/>
              <a:ext cx="667440" cy="279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.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19280" y="1839600"/>
              <a:ext cx="539280" cy="322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Arial"/>
                </a:rPr>
                <a:t>Bs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21520" y="1839600"/>
              <a:ext cx="539280" cy="243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92480" y="1998360"/>
              <a:ext cx="271080" cy="42480"/>
            </a:xfrm>
            <a:prstGeom prst="leftRightArrow">
              <a:avLst>
                <a:gd name="adj1" fmla="val 50000"/>
                <a:gd name="adj2" fmla="val 127036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4440" y="1982520"/>
              <a:ext cx="271800" cy="42480"/>
            </a:xfrm>
            <a:prstGeom prst="leftRightArrow">
              <a:avLst>
                <a:gd name="adj1" fmla="val 50000"/>
                <a:gd name="adj2" fmla="val 127374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2737440" y="2399040"/>
              <a:ext cx="212760" cy="54000"/>
            </a:xfrm>
            <a:prstGeom prst="leftRightArrow">
              <a:avLst>
                <a:gd name="adj1" fmla="val 50000"/>
                <a:gd name="adj2" fmla="val 7843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10000" y="1792080"/>
              <a:ext cx="457200" cy="485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042920" y="692280"/>
            <a:ext cx="6481440" cy="5542920"/>
            <a:chOff x="1042920" y="692280"/>
            <a:chExt cx="6481440" cy="5542920"/>
          </a:xfrm>
        </p:grpSpPr>
        <p:sp>
          <p:nvSpPr>
            <p:cNvPr id="522" name=""/>
            <p:cNvSpPr/>
            <p:nvPr/>
          </p:nvSpPr>
          <p:spPr>
            <a:xfrm>
              <a:off x="1042920" y="692280"/>
              <a:ext cx="3508920" cy="25192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1676520" y="1988280"/>
              <a:ext cx="5847840" cy="4246920"/>
              <a:chOff x="1676520" y="1988280"/>
              <a:chExt cx="5847840" cy="4246920"/>
            </a:xfrm>
          </p:grpSpPr>
          <p:sp>
            <p:nvSpPr>
              <p:cNvPr id="524" name=""/>
              <p:cNvSpPr/>
              <p:nvPr/>
            </p:nvSpPr>
            <p:spPr>
              <a:xfrm>
                <a:off x="4096080" y="5740200"/>
                <a:ext cx="1449720" cy="495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ffff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hetséges új belépő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66280" y="2308320"/>
                <a:ext cx="1448640" cy="495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ffff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elyettesít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rmékek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76520" y="3830040"/>
                <a:ext cx="1171080" cy="681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ffff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eszállító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53280" y="3843360"/>
                <a:ext cx="1171080" cy="681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ffff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evő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vásárló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95720" y="4148640"/>
                <a:ext cx="589680" cy="103320"/>
              </a:xfrm>
              <a:prstGeom prst="leftRightArrow">
                <a:avLst>
                  <a:gd name="adj1" fmla="val 50000"/>
                  <a:gd name="adj2" fmla="val 113618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7720" y="4129920"/>
                <a:ext cx="589680" cy="103320"/>
              </a:xfrm>
              <a:prstGeom prst="leftRightArrow">
                <a:avLst>
                  <a:gd name="adj1" fmla="val 50000"/>
                  <a:gd name="adj2" fmla="val 113618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5400000">
                <a:off x="4603680" y="3057840"/>
                <a:ext cx="520560" cy="118080"/>
              </a:xfrm>
              <a:prstGeom prst="leftRightArrow">
                <a:avLst>
                  <a:gd name="adj1" fmla="val 50000"/>
                  <a:gd name="adj2" fmla="val 87762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5400000">
                <a:off x="4559400" y="5240160"/>
                <a:ext cx="520920" cy="118080"/>
              </a:xfrm>
              <a:prstGeom prst="leftRightArrow">
                <a:avLst>
                  <a:gd name="adj1" fmla="val 50000"/>
                  <a:gd name="adj2" fmla="val 87823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39560" y="3511800"/>
                <a:ext cx="1519200" cy="1432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ffcc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R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erseny a verseny-társak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közöt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3169200">
                <a:off x="2553840" y="2847600"/>
                <a:ext cx="2352960" cy="393840"/>
              </a:xfrm>
              <a:prstGeom prst="rightArrow">
                <a:avLst>
                  <a:gd name="adj1" fmla="val 50000"/>
                  <a:gd name="adj2" fmla="val 149360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>
            <a:off x="539640" y="69228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j ring nyi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lehetséges célja és az ennek megfelelő hangsúlyok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0360" y="1257480"/>
          <a:ext cx="8532720" cy="4835520"/>
        </p:xfrm>
        <a:graphic>
          <a:graphicData uri="http://schemas.openxmlformats.org/drawingml/2006/table">
            <a:tbl>
              <a:tblPr/>
              <a:tblGrid>
                <a:gridCol w="2844720"/>
                <a:gridCol w="2833920"/>
                <a:gridCol w="2854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é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z üzleti terv címzett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ngsúlyos fejezet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ló vállalkozás tevékeny-ségi körének kialakít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leendő vállalkozás tulaj-donosi köre, menedzsment-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elési-, technológiai terv, értékesítési- és marketing terv, jövedelmezőségi ter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űködő vállalkozás fejlesz-tése, tevékenységének mó-dosítása (új technológia, termék, piaci szegme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vállalkozás tulajdonosi köre, menedzsment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elési-, technológiai terv, értékesítési- és marke-ting terv, jövedelmezőségi ter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vállalkozás teljesítményé-nek értékelése, vezetői tájé-kozt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vállalkozás tulajdonosi köre, menedzsment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énzügyi terv, értékesítési és marketing ter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ízishelyzet feltárása, megold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vállalkozás tulajdonosi köre, menedzsment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ék, értékesítési és marketing stratégia, pénz-ügyi terv, likviditási ter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Üzleti partnerek tájékoztatá-sa, új üzleti partnerek megnyeré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zállítók, vev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zerzési terv, értékesítési terv, logisztikai ter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versenystraté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iacvezető, költségcsökkent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ségen alapul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s (niche) straté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- a köv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aci árverseny tapasztalati görbé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128600" y="1179360"/>
            <a:ext cx="6828120" cy="5185080"/>
            <a:chOff x="1128600" y="1179360"/>
            <a:chExt cx="6828120" cy="5185080"/>
          </a:xfrm>
        </p:grpSpPr>
        <p:sp>
          <p:nvSpPr>
            <p:cNvPr id="540" name=""/>
            <p:cNvSpPr/>
            <p:nvPr/>
          </p:nvSpPr>
          <p:spPr>
            <a:xfrm>
              <a:off x="3458160" y="2036880"/>
              <a:ext cx="0" cy="3260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54840" y="2036880"/>
              <a:ext cx="0" cy="3260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48920" y="2026800"/>
              <a:ext cx="0" cy="325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29760" y="2342160"/>
              <a:ext cx="5401440" cy="290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29760" y="2188800"/>
              <a:ext cx="1328040" cy="191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58160" y="2400120"/>
              <a:ext cx="796320" cy="51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54840" y="2915640"/>
              <a:ext cx="88200" cy="59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343400" y="3236040"/>
              <a:ext cx="443160" cy="25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786560" y="3236040"/>
              <a:ext cx="0" cy="429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786560" y="3427560"/>
              <a:ext cx="531000" cy="23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17920" y="3427560"/>
              <a:ext cx="0" cy="429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317920" y="3599640"/>
              <a:ext cx="531000" cy="25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48920" y="3599640"/>
              <a:ext cx="353880" cy="1715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202800" y="3982320"/>
              <a:ext cx="620280" cy="13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3080" y="3982680"/>
              <a:ext cx="707760" cy="68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8600" y="1179360"/>
              <a:ext cx="14724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gységá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Önköltsé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5120" y="1913760"/>
              <a:ext cx="10710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mén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16120" y="2734920"/>
              <a:ext cx="7027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itká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54960" y="2994120"/>
              <a:ext cx="803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yakra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27720" y="3382920"/>
              <a:ext cx="803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ndi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4120" y="5975640"/>
              <a:ext cx="38826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apasztalat, idő, előállított mennyisé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50040" y="4290480"/>
              <a:ext cx="16063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it-szerz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775520" y="1827360"/>
              <a:ext cx="0" cy="41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75520" y="5945400"/>
              <a:ext cx="58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61640" y="1956960"/>
              <a:ext cx="13384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piac-szerz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0000"/>
                  </a:solidFill>
                  <a:latin typeface="Arial"/>
                </a:rPr>
                <a:t>shake-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retgazdaság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űk keresztmets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ökkenő pénzügyi forr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ölcsönös bizalom és tisztelet hiány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kély kockázatvállalási hajla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k az emlékezés, kevés a jövőké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új lehetőségeket problémának látju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ervezetet a tehetetlenség mozgat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éljaink, feladataink nem világosa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özösségi és egyéni célok nem esnek egyb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rzsgárda és a “jöttmentek” konflikt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üttműködés, szövetkezés, integráci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gglomerációs folyam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lomerációs előnyök a gazdasági fejlődésé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beszerzést megkönnyítő adottság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szközök/anyagok előállítói betelepülnek, helyi kereskedők, képviselet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lkatrész raktárak, szervíz szolgáltatások, hitelintézetek, bankfióko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termelést elősegítő adottság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épkörök, szomszéd szolgáltatások, helybeni szakképzés és szakértele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pasztalatcsere, empátia, közös termelő és termesztő berendezés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ehetőség a specializációra, horizontális és vertikális integráció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nácsadói szolgáltatás, közös kísérletek, kutat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értékesítést megkönnyítő adottság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kínálat nagyobb mennyisége, fajta és szortiment bővítés, kiegyenlíté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gyobb kereskedői érdeklődés, nagyobb piac, értékesítő létesítmény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iac, veiling, feldolgozó üzemek betelepülé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lomerációs hátrány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kurencia a beszerzésben, szezonális munkaerő hián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jó munkaerőt hamar elcsábítják a szomszédb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övekvő munkabérek, növekvő földára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kurencia az értékesítésben, piaci telítettsé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infrastruktúra túlterhelése, a környezet túlterhelé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kturált problémamegold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-okozati összefügg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agyományos kapcsolat felol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jlamosító tényező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vetlen kiváltó ok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árhuzamos jelenség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KFN (ár-költség-fedezet-nyereség) struk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292400" y="2157120"/>
            <a:ext cx="5540040" cy="3754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92400" y="5911920"/>
            <a:ext cx="61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292400" y="5009760"/>
            <a:ext cx="5540040" cy="90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92400" y="4559400"/>
            <a:ext cx="600228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292400" y="3657240"/>
            <a:ext cx="5540040" cy="90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41800" y="5911920"/>
            <a:ext cx="32022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elési volumen, hoz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792840" y="1893960"/>
            <a:ext cx="615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32440" y="3357720"/>
            <a:ext cx="615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hu-HU" sz="1800" spc="-1" strike="noStrike" baseline="-25000">
                <a:solidFill>
                  <a:srgbClr val="0000ff"/>
                </a:solidFill>
                <a:latin typeface="Arial"/>
              </a:rPr>
              <a:t>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294680" y="4410000"/>
            <a:ext cx="614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32440" y="4859280"/>
            <a:ext cx="615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hu-HU" sz="1200" spc="-1" strike="noStrike" baseline="-25000">
                <a:solidFill>
                  <a:srgbClr val="0000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08520" y="4108320"/>
            <a:ext cx="0" cy="1803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89280" y="3782880"/>
            <a:ext cx="615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08680" y="2757600"/>
            <a:ext cx="0" cy="2401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5369400" y="3969000"/>
            <a:ext cx="847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dez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68440" y="441000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1640520" y="441540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esztesé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5495040" y="2391120"/>
            <a:ext cx="18414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yeresé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4640" y="2344680"/>
            <a:ext cx="0" cy="135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92400" y="1706400"/>
            <a:ext cx="0" cy="420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26920" y="1413000"/>
            <a:ext cx="20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bevétel,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4307040" y="1459080"/>
            <a:ext cx="3144600" cy="1376280"/>
          </a:xfrm>
          <a:custGeom>
            <a:avLst/>
            <a:gdLst/>
            <a:ahLst/>
            <a:rect l="l" t="t" r="r" b="b"/>
            <a:pathLst>
              <a:path w="1981" h="867">
                <a:moveTo>
                  <a:pt x="887" y="29"/>
                </a:moveTo>
                <a:cubicBezTo>
                  <a:pt x="812" y="52"/>
                  <a:pt x="843" y="57"/>
                  <a:pt x="852" y="64"/>
                </a:cubicBezTo>
                <a:cubicBezTo>
                  <a:pt x="826" y="98"/>
                  <a:pt x="894" y="0"/>
                  <a:pt x="895" y="20"/>
                </a:cubicBezTo>
                <a:lnTo>
                  <a:pt x="0" y="867"/>
                </a:lnTo>
                <a:lnTo>
                  <a:pt x="1273" y="300"/>
                </a:lnTo>
                <a:lnTo>
                  <a:pt x="1789" y="108"/>
                </a:lnTo>
                <a:lnTo>
                  <a:pt x="1981" y="12"/>
                </a:lnTo>
                <a:lnTo>
                  <a:pt x="870" y="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32000" y="2865600"/>
            <a:ext cx="2971800" cy="2933640"/>
          </a:xfrm>
          <a:custGeom>
            <a:avLst/>
            <a:gdLst/>
            <a:ahLst/>
            <a:rect l="l" t="t" r="r" b="b"/>
            <a:pathLst>
              <a:path w="1872" h="1848">
                <a:moveTo>
                  <a:pt x="0" y="832"/>
                </a:moveTo>
                <a:lnTo>
                  <a:pt x="1872" y="0"/>
                </a:lnTo>
                <a:lnTo>
                  <a:pt x="8" y="1848"/>
                </a:lnTo>
                <a:lnTo>
                  <a:pt x="0" y="83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KFN struktú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32000" y="1484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32000" y="580536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332000" y="4076280"/>
            <a:ext cx="5832360" cy="73080"/>
          </a:xfrm>
          <a:prstGeom prst="line">
            <a:avLst/>
          </a:prstGeom>
          <a:ln w="572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907920"/>
            <a:ext cx="2160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rbevétel (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ltség (K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ö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á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ö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332000" y="1484280"/>
            <a:ext cx="6264360" cy="4321080"/>
            <a:chOff x="1332000" y="1484280"/>
            <a:chExt cx="6264360" cy="4321080"/>
          </a:xfrm>
        </p:grpSpPr>
        <p:sp>
          <p:nvSpPr>
            <p:cNvPr id="601" name=""/>
            <p:cNvSpPr/>
            <p:nvPr/>
          </p:nvSpPr>
          <p:spPr>
            <a:xfrm>
              <a:off x="1332000" y="1484280"/>
              <a:ext cx="0" cy="43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2000" y="5805360"/>
              <a:ext cx="62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249800" y="2746440"/>
            <a:ext cx="179280" cy="179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482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332000" y="1483920"/>
            <a:ext cx="4392360" cy="4321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332000" y="1628280"/>
            <a:ext cx="5761080" cy="25210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25760" y="2840040"/>
            <a:ext cx="0" cy="295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411280" y="3675240"/>
            <a:ext cx="0" cy="1079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651640" y="1539720"/>
            <a:ext cx="0" cy="72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57942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elési volumen - hozam,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9913400">
            <a:off x="5652000" y="90792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nyere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9913400">
            <a:off x="1292760" y="384480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veszte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96000" y="3716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állandó kö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242800">
            <a:off x="5651640" y="170460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összes kö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rot="18911400">
            <a:off x="4212360" y="11916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árbevé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332000" y="3284640"/>
            <a:ext cx="5761080" cy="2520720"/>
          </a:xfrm>
          <a:prstGeom prst="line">
            <a:avLst/>
          </a:prstGeom>
          <a:ln cap="rnd" w="5724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20242800">
            <a:off x="5580000" y="292392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változó kö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56240" y="1704960"/>
            <a:ext cx="0" cy="2160720"/>
          </a:xfrm>
          <a:prstGeom prst="line">
            <a:avLst/>
          </a:prstGeom>
          <a:ln w="5724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24415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edezeti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zzájáru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403280" y="3241800"/>
            <a:ext cx="5761080" cy="2520720"/>
          </a:xfrm>
          <a:prstGeom prst="line">
            <a:avLst/>
          </a:prstGeom>
          <a:ln cap="rnd" w="5724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2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-0.05781 L 0.0158 -0.24648 E">
                                      <p:cBhvr>
                                        <p:cTn id="138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indefinite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170" dur="indefinite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b5b2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1b5b20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1b5b2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b5b2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KFN-struktúra egyenle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 = F -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 = Á -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-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 = Á - (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 = Á -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 = T * á - (T *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 = T * (á -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-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 = T * f – K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ratégiai számítások ÁKFN-struktúráv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yereségrugalmassági számítás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dezetrugalmassá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rengedmény meghatározásá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ológiai alternatívák versenyezte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mékek versenyeztetése a fejlesztésé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5270400" y="2732040"/>
            <a:ext cx="2289240" cy="3306960"/>
          </a:xfrm>
          <a:custGeom>
            <a:avLst/>
            <a:gdLst/>
            <a:ahLst/>
            <a:rect l="l" t="t" r="r" b="b"/>
            <a:pathLst>
              <a:path w="1442" h="2083">
                <a:moveTo>
                  <a:pt x="0" y="2063"/>
                </a:moveTo>
                <a:cubicBezTo>
                  <a:pt x="18" y="1151"/>
                  <a:pt x="0" y="1818"/>
                  <a:pt x="0" y="191"/>
                </a:cubicBezTo>
                <a:cubicBezTo>
                  <a:pt x="58" y="184"/>
                  <a:pt x="122" y="153"/>
                  <a:pt x="176" y="135"/>
                </a:cubicBezTo>
                <a:cubicBezTo>
                  <a:pt x="199" y="127"/>
                  <a:pt x="224" y="129"/>
                  <a:pt x="248" y="127"/>
                </a:cubicBezTo>
                <a:cubicBezTo>
                  <a:pt x="409" y="111"/>
                  <a:pt x="386" y="113"/>
                  <a:pt x="520" y="103"/>
                </a:cubicBezTo>
                <a:cubicBezTo>
                  <a:pt x="568" y="89"/>
                  <a:pt x="614" y="79"/>
                  <a:pt x="664" y="71"/>
                </a:cubicBezTo>
                <a:cubicBezTo>
                  <a:pt x="744" y="74"/>
                  <a:pt x="816" y="71"/>
                  <a:pt x="896" y="63"/>
                </a:cubicBezTo>
                <a:cubicBezTo>
                  <a:pt x="976" y="31"/>
                  <a:pt x="996" y="44"/>
                  <a:pt x="1056" y="39"/>
                </a:cubicBezTo>
                <a:cubicBezTo>
                  <a:pt x="1091" y="36"/>
                  <a:pt x="1125" y="34"/>
                  <a:pt x="1160" y="31"/>
                </a:cubicBezTo>
                <a:cubicBezTo>
                  <a:pt x="1252" y="0"/>
                  <a:pt x="1335" y="9"/>
                  <a:pt x="1432" y="15"/>
                </a:cubicBezTo>
                <a:cubicBezTo>
                  <a:pt x="1424" y="87"/>
                  <a:pt x="1415" y="159"/>
                  <a:pt x="1408" y="231"/>
                </a:cubicBezTo>
                <a:cubicBezTo>
                  <a:pt x="1414" y="357"/>
                  <a:pt x="1442" y="503"/>
                  <a:pt x="1368" y="615"/>
                </a:cubicBezTo>
                <a:cubicBezTo>
                  <a:pt x="1373" y="729"/>
                  <a:pt x="1368" y="804"/>
                  <a:pt x="1408" y="903"/>
                </a:cubicBezTo>
                <a:cubicBezTo>
                  <a:pt x="1399" y="980"/>
                  <a:pt x="1398" y="1075"/>
                  <a:pt x="1352" y="1143"/>
                </a:cubicBezTo>
                <a:cubicBezTo>
                  <a:pt x="1327" y="1241"/>
                  <a:pt x="1352" y="1431"/>
                  <a:pt x="1416" y="1527"/>
                </a:cubicBezTo>
                <a:cubicBezTo>
                  <a:pt x="1409" y="1597"/>
                  <a:pt x="1422" y="1728"/>
                  <a:pt x="1344" y="1767"/>
                </a:cubicBezTo>
                <a:cubicBezTo>
                  <a:pt x="1335" y="1793"/>
                  <a:pt x="1304" y="1839"/>
                  <a:pt x="1304" y="1839"/>
                </a:cubicBezTo>
                <a:cubicBezTo>
                  <a:pt x="1311" y="1989"/>
                  <a:pt x="1253" y="2035"/>
                  <a:pt x="1360" y="2071"/>
                </a:cubicBezTo>
                <a:cubicBezTo>
                  <a:pt x="1355" y="2079"/>
                  <a:pt x="1378" y="2063"/>
                  <a:pt x="1368" y="2063"/>
                </a:cubicBezTo>
                <a:cubicBezTo>
                  <a:pt x="918" y="2083"/>
                  <a:pt x="456" y="2063"/>
                  <a:pt x="0" y="2063"/>
                </a:cubicBezTo>
                <a:close/>
              </a:path>
            </a:pathLst>
          </a:custGeom>
          <a:solidFill>
            <a:srgbClr val="f8f8f8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1360" y="3017880"/>
            <a:ext cx="1990800" cy="3036960"/>
          </a:xfrm>
          <a:custGeom>
            <a:avLst/>
            <a:gdLst/>
            <a:ahLst/>
            <a:rect l="l" t="t" r="r" b="b"/>
            <a:pathLst>
              <a:path w="1254" h="1913">
                <a:moveTo>
                  <a:pt x="1172" y="1896"/>
                </a:moveTo>
                <a:cubicBezTo>
                  <a:pt x="1155" y="1913"/>
                  <a:pt x="1254" y="1892"/>
                  <a:pt x="1088" y="1890"/>
                </a:cubicBezTo>
                <a:cubicBezTo>
                  <a:pt x="922" y="1888"/>
                  <a:pt x="325" y="1885"/>
                  <a:pt x="176" y="1884"/>
                </a:cubicBezTo>
                <a:cubicBezTo>
                  <a:pt x="0" y="1887"/>
                  <a:pt x="191" y="1887"/>
                  <a:pt x="194" y="1884"/>
                </a:cubicBezTo>
                <a:cubicBezTo>
                  <a:pt x="197" y="1881"/>
                  <a:pt x="197" y="1877"/>
                  <a:pt x="194" y="1866"/>
                </a:cubicBezTo>
                <a:cubicBezTo>
                  <a:pt x="191" y="1855"/>
                  <a:pt x="179" y="1847"/>
                  <a:pt x="176" y="1818"/>
                </a:cubicBezTo>
                <a:cubicBezTo>
                  <a:pt x="173" y="1789"/>
                  <a:pt x="175" y="1747"/>
                  <a:pt x="176" y="1692"/>
                </a:cubicBezTo>
                <a:cubicBezTo>
                  <a:pt x="177" y="1637"/>
                  <a:pt x="182" y="1656"/>
                  <a:pt x="182" y="1488"/>
                </a:cubicBezTo>
                <a:cubicBezTo>
                  <a:pt x="175" y="1222"/>
                  <a:pt x="167" y="953"/>
                  <a:pt x="179" y="683"/>
                </a:cubicBezTo>
                <a:cubicBezTo>
                  <a:pt x="179" y="521"/>
                  <a:pt x="183" y="560"/>
                  <a:pt x="187" y="515"/>
                </a:cubicBezTo>
                <a:cubicBezTo>
                  <a:pt x="191" y="470"/>
                  <a:pt x="186" y="437"/>
                  <a:pt x="200" y="414"/>
                </a:cubicBezTo>
                <a:cubicBezTo>
                  <a:pt x="209" y="395"/>
                  <a:pt x="253" y="391"/>
                  <a:pt x="272" y="378"/>
                </a:cubicBezTo>
                <a:cubicBezTo>
                  <a:pt x="317" y="310"/>
                  <a:pt x="430" y="305"/>
                  <a:pt x="500" y="282"/>
                </a:cubicBezTo>
                <a:cubicBezTo>
                  <a:pt x="531" y="272"/>
                  <a:pt x="560" y="253"/>
                  <a:pt x="590" y="240"/>
                </a:cubicBezTo>
                <a:cubicBezTo>
                  <a:pt x="630" y="222"/>
                  <a:pt x="677" y="217"/>
                  <a:pt x="716" y="198"/>
                </a:cubicBezTo>
                <a:cubicBezTo>
                  <a:pt x="763" y="175"/>
                  <a:pt x="707" y="195"/>
                  <a:pt x="752" y="180"/>
                </a:cubicBezTo>
                <a:cubicBezTo>
                  <a:pt x="754" y="174"/>
                  <a:pt x="754" y="166"/>
                  <a:pt x="758" y="162"/>
                </a:cubicBezTo>
                <a:cubicBezTo>
                  <a:pt x="768" y="152"/>
                  <a:pt x="837" y="138"/>
                  <a:pt x="854" y="132"/>
                </a:cubicBezTo>
                <a:cubicBezTo>
                  <a:pt x="914" y="112"/>
                  <a:pt x="970" y="88"/>
                  <a:pt x="1028" y="66"/>
                </a:cubicBezTo>
                <a:cubicBezTo>
                  <a:pt x="1074" y="49"/>
                  <a:pt x="1130" y="28"/>
                  <a:pt x="1172" y="0"/>
                </a:cubicBezTo>
                <a:cubicBezTo>
                  <a:pt x="1195" y="77"/>
                  <a:pt x="1188" y="436"/>
                  <a:pt x="1190" y="528"/>
                </a:cubicBezTo>
                <a:cubicBezTo>
                  <a:pt x="1192" y="620"/>
                  <a:pt x="1184" y="469"/>
                  <a:pt x="1184" y="552"/>
                </a:cubicBezTo>
                <a:cubicBezTo>
                  <a:pt x="1188" y="728"/>
                  <a:pt x="1175" y="857"/>
                  <a:pt x="1190" y="1026"/>
                </a:cubicBezTo>
                <a:cubicBezTo>
                  <a:pt x="1187" y="1177"/>
                  <a:pt x="1187" y="1298"/>
                  <a:pt x="1184" y="1440"/>
                </a:cubicBezTo>
                <a:cubicBezTo>
                  <a:pt x="1184" y="1565"/>
                  <a:pt x="1192" y="1700"/>
                  <a:pt x="1190" y="1776"/>
                </a:cubicBezTo>
                <a:cubicBezTo>
                  <a:pt x="1188" y="1852"/>
                  <a:pt x="1189" y="1879"/>
                  <a:pt x="1172" y="1896"/>
                </a:cubicBezTo>
                <a:close/>
              </a:path>
            </a:pathLst>
          </a:custGeom>
          <a:solidFill>
            <a:srgbClr val="f8f8f8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27200" y="3657600"/>
            <a:ext cx="2106720" cy="2386080"/>
          </a:xfrm>
          <a:custGeom>
            <a:avLst/>
            <a:gdLst/>
            <a:ahLst/>
            <a:rect l="l" t="t" r="r" b="b"/>
            <a:pathLst>
              <a:path w="1327" h="1503">
                <a:moveTo>
                  <a:pt x="97" y="1488"/>
                </a:moveTo>
                <a:cubicBezTo>
                  <a:pt x="84" y="1288"/>
                  <a:pt x="85" y="1368"/>
                  <a:pt x="85" y="1248"/>
                </a:cubicBezTo>
                <a:cubicBezTo>
                  <a:pt x="0" y="1188"/>
                  <a:pt x="52" y="1234"/>
                  <a:pt x="109" y="1230"/>
                </a:cubicBezTo>
                <a:cubicBezTo>
                  <a:pt x="116" y="1230"/>
                  <a:pt x="116" y="1217"/>
                  <a:pt x="121" y="1212"/>
                </a:cubicBezTo>
                <a:cubicBezTo>
                  <a:pt x="128" y="1205"/>
                  <a:pt x="137" y="1200"/>
                  <a:pt x="145" y="1194"/>
                </a:cubicBezTo>
                <a:cubicBezTo>
                  <a:pt x="154" y="1168"/>
                  <a:pt x="167" y="1171"/>
                  <a:pt x="193" y="1164"/>
                </a:cubicBezTo>
                <a:cubicBezTo>
                  <a:pt x="206" y="1138"/>
                  <a:pt x="214" y="1125"/>
                  <a:pt x="241" y="1116"/>
                </a:cubicBezTo>
                <a:cubicBezTo>
                  <a:pt x="258" y="1094"/>
                  <a:pt x="272" y="1077"/>
                  <a:pt x="295" y="1062"/>
                </a:cubicBezTo>
                <a:cubicBezTo>
                  <a:pt x="303" y="1038"/>
                  <a:pt x="313" y="1028"/>
                  <a:pt x="337" y="1020"/>
                </a:cubicBezTo>
                <a:cubicBezTo>
                  <a:pt x="356" y="1001"/>
                  <a:pt x="357" y="986"/>
                  <a:pt x="379" y="972"/>
                </a:cubicBezTo>
                <a:cubicBezTo>
                  <a:pt x="399" y="942"/>
                  <a:pt x="409" y="926"/>
                  <a:pt x="439" y="906"/>
                </a:cubicBezTo>
                <a:cubicBezTo>
                  <a:pt x="447" y="882"/>
                  <a:pt x="472" y="860"/>
                  <a:pt x="493" y="846"/>
                </a:cubicBezTo>
                <a:cubicBezTo>
                  <a:pt x="517" y="810"/>
                  <a:pt x="536" y="797"/>
                  <a:pt x="571" y="774"/>
                </a:cubicBezTo>
                <a:cubicBezTo>
                  <a:pt x="586" y="752"/>
                  <a:pt x="615" y="722"/>
                  <a:pt x="637" y="708"/>
                </a:cubicBezTo>
                <a:cubicBezTo>
                  <a:pt x="649" y="683"/>
                  <a:pt x="656" y="681"/>
                  <a:pt x="679" y="666"/>
                </a:cubicBezTo>
                <a:cubicBezTo>
                  <a:pt x="684" y="646"/>
                  <a:pt x="693" y="628"/>
                  <a:pt x="709" y="612"/>
                </a:cubicBezTo>
                <a:cubicBezTo>
                  <a:pt x="728" y="593"/>
                  <a:pt x="752" y="585"/>
                  <a:pt x="769" y="564"/>
                </a:cubicBezTo>
                <a:cubicBezTo>
                  <a:pt x="774" y="558"/>
                  <a:pt x="776" y="551"/>
                  <a:pt x="781" y="546"/>
                </a:cubicBezTo>
                <a:cubicBezTo>
                  <a:pt x="792" y="537"/>
                  <a:pt x="817" y="522"/>
                  <a:pt x="817" y="522"/>
                </a:cubicBezTo>
                <a:cubicBezTo>
                  <a:pt x="832" y="500"/>
                  <a:pt x="855" y="477"/>
                  <a:pt x="877" y="462"/>
                </a:cubicBezTo>
                <a:cubicBezTo>
                  <a:pt x="886" y="436"/>
                  <a:pt x="908" y="405"/>
                  <a:pt x="931" y="390"/>
                </a:cubicBezTo>
                <a:cubicBezTo>
                  <a:pt x="950" y="362"/>
                  <a:pt x="958" y="342"/>
                  <a:pt x="985" y="324"/>
                </a:cubicBezTo>
                <a:cubicBezTo>
                  <a:pt x="994" y="296"/>
                  <a:pt x="1000" y="289"/>
                  <a:pt x="1027" y="276"/>
                </a:cubicBezTo>
                <a:cubicBezTo>
                  <a:pt x="1033" y="268"/>
                  <a:pt x="1038" y="259"/>
                  <a:pt x="1045" y="252"/>
                </a:cubicBezTo>
                <a:cubicBezTo>
                  <a:pt x="1052" y="245"/>
                  <a:pt x="1062" y="242"/>
                  <a:pt x="1069" y="234"/>
                </a:cubicBezTo>
                <a:cubicBezTo>
                  <a:pt x="1075" y="227"/>
                  <a:pt x="1075" y="217"/>
                  <a:pt x="1081" y="210"/>
                </a:cubicBezTo>
                <a:cubicBezTo>
                  <a:pt x="1093" y="196"/>
                  <a:pt x="1120" y="190"/>
                  <a:pt x="1135" y="180"/>
                </a:cubicBezTo>
                <a:cubicBezTo>
                  <a:pt x="1147" y="144"/>
                  <a:pt x="1131" y="179"/>
                  <a:pt x="1165" y="150"/>
                </a:cubicBezTo>
                <a:cubicBezTo>
                  <a:pt x="1171" y="145"/>
                  <a:pt x="1172" y="137"/>
                  <a:pt x="1177" y="132"/>
                </a:cubicBezTo>
                <a:cubicBezTo>
                  <a:pt x="1182" y="127"/>
                  <a:pt x="1189" y="124"/>
                  <a:pt x="1195" y="120"/>
                </a:cubicBezTo>
                <a:cubicBezTo>
                  <a:pt x="1199" y="114"/>
                  <a:pt x="1202" y="107"/>
                  <a:pt x="1207" y="102"/>
                </a:cubicBezTo>
                <a:cubicBezTo>
                  <a:pt x="1218" y="93"/>
                  <a:pt x="1243" y="78"/>
                  <a:pt x="1243" y="78"/>
                </a:cubicBezTo>
                <a:cubicBezTo>
                  <a:pt x="1277" y="26"/>
                  <a:pt x="1232" y="87"/>
                  <a:pt x="1273" y="54"/>
                </a:cubicBezTo>
                <a:cubicBezTo>
                  <a:pt x="1292" y="39"/>
                  <a:pt x="1279" y="30"/>
                  <a:pt x="1297" y="12"/>
                </a:cubicBezTo>
                <a:cubicBezTo>
                  <a:pt x="1299" y="10"/>
                  <a:pt x="1316" y="5"/>
                  <a:pt x="1321" y="0"/>
                </a:cubicBezTo>
                <a:cubicBezTo>
                  <a:pt x="1319" y="20"/>
                  <a:pt x="1319" y="40"/>
                  <a:pt x="1315" y="60"/>
                </a:cubicBezTo>
                <a:cubicBezTo>
                  <a:pt x="1313" y="69"/>
                  <a:pt x="1315" y="57"/>
                  <a:pt x="1315" y="66"/>
                </a:cubicBezTo>
                <a:cubicBezTo>
                  <a:pt x="1315" y="139"/>
                  <a:pt x="1312" y="224"/>
                  <a:pt x="1321" y="294"/>
                </a:cubicBezTo>
                <a:cubicBezTo>
                  <a:pt x="1319" y="454"/>
                  <a:pt x="1315" y="618"/>
                  <a:pt x="1315" y="774"/>
                </a:cubicBezTo>
                <a:cubicBezTo>
                  <a:pt x="1314" y="793"/>
                  <a:pt x="1327" y="810"/>
                  <a:pt x="1315" y="828"/>
                </a:cubicBezTo>
                <a:cubicBezTo>
                  <a:pt x="1317" y="960"/>
                  <a:pt x="1317" y="1074"/>
                  <a:pt x="1321" y="1206"/>
                </a:cubicBezTo>
                <a:cubicBezTo>
                  <a:pt x="1323" y="1272"/>
                  <a:pt x="1315" y="1356"/>
                  <a:pt x="1315" y="1422"/>
                </a:cubicBezTo>
                <a:cubicBezTo>
                  <a:pt x="1315" y="1446"/>
                  <a:pt x="1303" y="1494"/>
                  <a:pt x="1303" y="1494"/>
                </a:cubicBezTo>
                <a:cubicBezTo>
                  <a:pt x="1295" y="1503"/>
                  <a:pt x="1273" y="1483"/>
                  <a:pt x="1243" y="1482"/>
                </a:cubicBezTo>
                <a:cubicBezTo>
                  <a:pt x="1213" y="1481"/>
                  <a:pt x="1216" y="1487"/>
                  <a:pt x="1123" y="1488"/>
                </a:cubicBezTo>
                <a:cubicBezTo>
                  <a:pt x="979" y="1488"/>
                  <a:pt x="829" y="1490"/>
                  <a:pt x="685" y="1488"/>
                </a:cubicBezTo>
                <a:cubicBezTo>
                  <a:pt x="591" y="1485"/>
                  <a:pt x="639" y="1488"/>
                  <a:pt x="541" y="1488"/>
                </a:cubicBezTo>
                <a:cubicBezTo>
                  <a:pt x="443" y="1488"/>
                  <a:pt x="189" y="1488"/>
                  <a:pt x="97" y="1488"/>
                </a:cubicBezTo>
                <a:close/>
              </a:path>
            </a:pathLst>
          </a:custGeom>
          <a:solidFill>
            <a:srgbClr val="f8f8f8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10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6364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763640" y="602136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3640" y="5661000"/>
            <a:ext cx="61930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763640" y="1989000"/>
            <a:ext cx="3600360" cy="36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763640" y="4508640"/>
            <a:ext cx="6048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763640" y="2565360"/>
            <a:ext cx="4537080" cy="194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49600" y="3429000"/>
            <a:ext cx="6264000" cy="0"/>
          </a:xfrm>
          <a:prstGeom prst="line">
            <a:avLst/>
          </a:prstGeom>
          <a:ln w="28440">
            <a:solidFill>
              <a:srgbClr val="1b5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763640" y="2693880"/>
            <a:ext cx="6193080" cy="720720"/>
          </a:xfrm>
          <a:prstGeom prst="line">
            <a:avLst/>
          </a:prstGeom>
          <a:ln w="28440">
            <a:solidFill>
              <a:srgbClr val="1b5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763640" y="3645000"/>
            <a:ext cx="1944720" cy="20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708360" y="2997000"/>
            <a:ext cx="1584360" cy="64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294160" y="2708280"/>
            <a:ext cx="2232000" cy="287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26920" y="1341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Á,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101080" y="580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0836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292720" y="29973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77320" y="5400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040600" y="4255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172360" y="3182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b2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49600" y="596916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84640" y="595008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1280" y="76500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jlesztési alternatívák versenyezteté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lehetséges célja és az ennek megfelelő hangsúlyok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628640"/>
          <a:ext cx="8893080" cy="4565520"/>
        </p:xfrm>
        <a:graphic>
          <a:graphicData uri="http://schemas.openxmlformats.org/drawingml/2006/table">
            <a:tbl>
              <a:tblPr/>
              <a:tblGrid>
                <a:gridCol w="2952720"/>
                <a:gridCol w="2663640"/>
                <a:gridCol w="327672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j tulajdonostárs(ak) bevon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Új befektetők, potenciális tőkebefektet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énzügyi terv, jövedelmezőségi terv, értékesítési és marketing terv, termelési terv, szervezeti ter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m tulajdonosi tőkebevonás − hitelfelvé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énzintézetek, hitelnyújtó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énzügyi- pénzforgalmi terv, jövedelmezőségi terv, az üzleti terv egésze,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m tulajdonosi tőkebevonás − visszatérítendő támogat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ámogatást folyósító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z ötlet részletes kidolgozása, pénzügyi-, pénzforgalmi terv, jövedelmezőségi terv, az üzleti terv egésze, a terv fenntartható-sá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m tulajdonosi tőkebevonás− vissza nem térítendő támogat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ámogatást folyósító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z ötlet részletes kidolgozása, pénzügyi terv, jövedelmezőségi terv, az üzleti terv egésze, a terv fenntarthatósá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139760"/>
          <a:ext cx="8893080" cy="488880"/>
        </p:xfrm>
        <a:graphic>
          <a:graphicData uri="http://schemas.openxmlformats.org/drawingml/2006/table">
            <a:tbl>
              <a:tblPr/>
              <a:tblGrid>
                <a:gridCol w="2963880"/>
                <a:gridCol w="2652480"/>
                <a:gridCol w="327672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é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z üzleti terv címzett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ngsúlyos fejezet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ruházásértékelé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tikus mut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namikus mutató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szkontált jelenérték – NPV (Net Present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lső megtérülési kamatláb – IRR (internal rate of teru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12665160" cy="9507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2124000" y="4437000"/>
            <a:ext cx="1210644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modell kialakítása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8360" y="1197000"/>
            <a:ext cx="784872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60000"/>
              </a:lnSpc>
              <a:spcBef>
                <a:spcPts val="1939"/>
              </a:spcBef>
              <a:buClr>
                <a:srgbClr val="d25500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avatkozási logi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60000"/>
              </a:lnSpc>
              <a:spcBef>
                <a:spcPts val="1939"/>
              </a:spcBef>
              <a:buClr>
                <a:srgbClr val="d25500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eltételezése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60000"/>
              </a:lnSpc>
              <a:spcBef>
                <a:spcPts val="1939"/>
              </a:spcBef>
              <a:buClr>
                <a:srgbClr val="d25500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dikátorok és forrásai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611280" y="3141720"/>
          <a:ext cx="7807320" cy="31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141720"/>
                    <a:ext cx="78073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 flipH="1" flipV="1">
            <a:off x="2987280" y="5373360"/>
            <a:ext cx="3776760" cy="62532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59280" y="5373720"/>
            <a:ext cx="4033800" cy="7128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3059280" y="4797000"/>
            <a:ext cx="3960720" cy="64764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203640" y="4797360"/>
            <a:ext cx="3816360" cy="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3131640" y="4292640"/>
            <a:ext cx="3700440" cy="46656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76720" y="4292640"/>
            <a:ext cx="3743280" cy="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3131640" y="3789000"/>
            <a:ext cx="3745080" cy="43164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3500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21840" y="3141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77080" y="3500280"/>
            <a:ext cx="144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77080" y="3500280"/>
            <a:ext cx="151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88240" y="3522600"/>
            <a:ext cx="151128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203640" y="4797360"/>
            <a:ext cx="3816360" cy="0"/>
          </a:xfrm>
          <a:prstGeom prst="line">
            <a:avLst/>
          </a:prstGeom>
          <a:ln w="38160">
            <a:solidFill>
              <a:srgbClr val="d255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70160" y="54468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kai keretmá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felépí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74872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ő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, a termékek és szolgáltatások bemutatása; múlt, jelen, jö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állalkozás bemutatása (helyzetelemz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rmék (szolgáltatás) bemuta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dasági környezet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üzleti magatartás elvei, ügyfelek, érintet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iac és a fogyasztói viselkedés elem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enyelemzés, stratégiaalko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 működt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elési, üzemeltetés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mélyi feltételek, emberi erőforrások, humánpolitika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nzügy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terv megvalósíthatós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Ütemterv a megvalósí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ckázatelem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ék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6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6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6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6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6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kozás működte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210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ék/szolgáltatás előállítás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elés szervez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lkalmazott technológ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agfelhasznál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erőigé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zimunka felhasználá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ztika (beszerzés, készletez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rtékesít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őségirányítási rendszer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vékenység kritikus eleme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énzügyi t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507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állalkozás finanszírozási igén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aját tőke és az idegen tőke tervezett arány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énzügyi előirányzat alapjául szolgáló fő feltételezések felsorolása és kifejté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edménykimutatá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érleg-előrejelzé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észletes pénzforgalmi terv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nzügyi mutató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tékesítési terv, marketing terv 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rmék, ár, elosztás meghatár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óciós tevékeny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reműködők és munkafolyam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rmékhez kapcsolódó szolgáltatások kí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zerzési és értékesítési csatorn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csolattartás a fogyasztókk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gyasztói szokások vált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042920" y="1744560"/>
            <a:ext cx="6840720" cy="5113440"/>
            <a:chOff x="1042920" y="1744560"/>
            <a:chExt cx="6840720" cy="5113440"/>
          </a:xfrm>
        </p:grpSpPr>
        <p:sp>
          <p:nvSpPr>
            <p:cNvPr id="683" name=""/>
            <p:cNvSpPr/>
            <p:nvPr/>
          </p:nvSpPr>
          <p:spPr>
            <a:xfrm>
              <a:off x="1540080" y="3303360"/>
              <a:ext cx="1199520" cy="1345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62080" y="1994040"/>
              <a:ext cx="1224360" cy="2619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1"/>
            <a:stretch/>
          </p:blipFill>
          <p:spPr>
            <a:xfrm>
              <a:off x="5852160" y="3080880"/>
              <a:ext cx="1990080" cy="16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5865840" y="1744560"/>
              <a:ext cx="1990080" cy="13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1042920" y="4987440"/>
              <a:ext cx="199008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ogén pi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ömegtermék, egyenletes (közepes) minősé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530160" y="5174280"/>
              <a:ext cx="1990080" cy="13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ővülő pi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őségi bővítés fölfel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93560" y="4987440"/>
              <a:ext cx="1990080" cy="18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okó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kszínűség, szegmentáció, pozícionálá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tékesítési terv, marketing terv 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430200" y="981000"/>
            <a:ext cx="8713440" cy="5472360"/>
            <a:chOff x="430200" y="981000"/>
            <a:chExt cx="8713440" cy="5472360"/>
          </a:xfrm>
        </p:grpSpPr>
        <p:grpSp>
          <p:nvGrpSpPr>
            <p:cNvPr id="692" name=""/>
            <p:cNvGrpSpPr/>
            <p:nvPr/>
          </p:nvGrpSpPr>
          <p:grpSpPr>
            <a:xfrm>
              <a:off x="430200" y="1116000"/>
              <a:ext cx="8713440" cy="5337360"/>
              <a:chOff x="430200" y="1116000"/>
              <a:chExt cx="8713440" cy="5337360"/>
            </a:xfrm>
          </p:grpSpPr>
          <p:sp>
            <p:nvSpPr>
              <p:cNvPr id="693" name=""/>
              <p:cNvSpPr/>
              <p:nvPr/>
            </p:nvSpPr>
            <p:spPr>
              <a:xfrm>
                <a:off x="1073160" y="5830200"/>
                <a:ext cx="736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30200" y="1116000"/>
                <a:ext cx="613440" cy="83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á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266360" y="3103200"/>
                <a:ext cx="0" cy="27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48320" y="3898080"/>
                <a:ext cx="5767200" cy="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815880" y="3898080"/>
                <a:ext cx="0" cy="189540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1075680" y="1295280"/>
                <a:ext cx="0" cy="45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5880" y="5845320"/>
                <a:ext cx="191448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nnyisé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062000" y="2184480"/>
                <a:ext cx="1350000" cy="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21360" y="2171160"/>
                <a:ext cx="0" cy="3641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077480" y="3090600"/>
                <a:ext cx="3190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23360" y="2340000"/>
                <a:ext cx="2066040" cy="37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betegségtuda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389400" y="3171600"/>
                <a:ext cx="1665000" cy="32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Arial"/>
                  </a:rPr>
                  <a:t>egészségtuda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19920" y="3971880"/>
                <a:ext cx="159660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8000"/>
                    </a:solidFill>
                    <a:latin typeface="Arial"/>
                  </a:rPr>
                  <a:t>környezettuda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087560" y="4451760"/>
                <a:ext cx="706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842160" y="4451760"/>
                <a:ext cx="230148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átlagos termék á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403000" y="2200680"/>
                <a:ext cx="115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6360" y="309132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42160" y="3891600"/>
                <a:ext cx="115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60720" y="2211480"/>
                <a:ext cx="0" cy="224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033520" y="3064680"/>
                <a:ext cx="0" cy="13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64400" y="3886200"/>
                <a:ext cx="0" cy="56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540320" y="2371320"/>
                <a:ext cx="115092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ártöbb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060720" y="2691000"/>
                <a:ext cx="180828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5526360" y="2691360"/>
                <a:ext cx="213732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033520" y="2691000"/>
                <a:ext cx="16416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375800" y="981000"/>
              <a:ext cx="4187880" cy="12142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szegény társadalmakban a betegség elleni, pl. biotermékekért fizetnek az emberek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gazdagodók az egészségükért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jómódúak a környezetért i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755640" y="548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gyasztói szokások vált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tékesítési terv, marketing terv 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143000" y="72000"/>
            <a:ext cx="6571080" cy="6571080"/>
            <a:chOff x="1143000" y="72000"/>
            <a:chExt cx="6571080" cy="6571080"/>
          </a:xfrm>
        </p:grpSpPr>
        <p:pic>
          <p:nvPicPr>
            <p:cNvPr id="722" name="" descr=""/>
            <p:cNvPicPr/>
            <p:nvPr/>
          </p:nvPicPr>
          <p:blipFill>
            <a:blip r:embed="rId1"/>
            <a:stretch/>
          </p:blipFill>
          <p:spPr>
            <a:xfrm>
              <a:off x="4572000" y="3213360"/>
              <a:ext cx="1371600" cy="14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"/>
            <a:srcRect l="5379" t="0" r="8604" b="0"/>
            <a:stretch/>
          </p:blipFill>
          <p:spPr>
            <a:xfrm>
              <a:off x="2700000" y="3573720"/>
              <a:ext cx="1828800" cy="13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3"/>
            <a:srcRect l="6201" t="22839" r="23801" b="4185"/>
            <a:stretch/>
          </p:blipFill>
          <p:spPr>
            <a:xfrm>
              <a:off x="3492720" y="1701720"/>
              <a:ext cx="19429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_s92169"/>
            <p:cNvSpPr/>
            <p:nvPr/>
          </p:nvSpPr>
          <p:spPr>
            <a:xfrm>
              <a:off x="2097000" y="1025280"/>
              <a:ext cx="4663440" cy="466452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_s92170"/>
            <p:cNvSpPr/>
            <p:nvPr/>
          </p:nvSpPr>
          <p:spPr>
            <a:xfrm rot="2400000">
              <a:off x="2096640" y="1024920"/>
              <a:ext cx="4663440" cy="466452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_s92171"/>
            <p:cNvSpPr/>
            <p:nvPr/>
          </p:nvSpPr>
          <p:spPr>
            <a:xfrm rot="4800000">
              <a:off x="2096280" y="1025640"/>
              <a:ext cx="4664520" cy="466344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_s92172"/>
            <p:cNvSpPr/>
            <p:nvPr/>
          </p:nvSpPr>
          <p:spPr>
            <a:xfrm rot="7200000">
              <a:off x="2096280" y="1025640"/>
              <a:ext cx="4664520" cy="466344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_s92173"/>
            <p:cNvSpPr/>
            <p:nvPr/>
          </p:nvSpPr>
          <p:spPr>
            <a:xfrm rot="9600000">
              <a:off x="2096640" y="1024560"/>
              <a:ext cx="4663440" cy="466452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_s92174"/>
            <p:cNvSpPr/>
            <p:nvPr/>
          </p:nvSpPr>
          <p:spPr>
            <a:xfrm rot="12000000">
              <a:off x="2097000" y="1024920"/>
              <a:ext cx="4663440" cy="466452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_s92175"/>
            <p:cNvSpPr/>
            <p:nvPr/>
          </p:nvSpPr>
          <p:spPr>
            <a:xfrm rot="14400000">
              <a:off x="2096280" y="1025280"/>
              <a:ext cx="4664520" cy="466344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_s92176"/>
            <p:cNvSpPr/>
            <p:nvPr/>
          </p:nvSpPr>
          <p:spPr>
            <a:xfrm rot="16800000">
              <a:off x="2096640" y="1025280"/>
              <a:ext cx="4664520" cy="466344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_s92177"/>
            <p:cNvSpPr/>
            <p:nvPr/>
          </p:nvSpPr>
          <p:spPr>
            <a:xfrm rot="19200000">
              <a:off x="2096640" y="1024920"/>
              <a:ext cx="4663440" cy="4664520"/>
            </a:xfrm>
            <a:prstGeom prst="blockArc">
              <a:avLst>
                <a:gd name="adj1" fmla="val 15600000"/>
                <a:gd name="adj2" fmla="val 6000000"/>
                <a:gd name="adj3" fmla="val 5556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_s92178"/>
            <p:cNvSpPr/>
            <p:nvPr/>
          </p:nvSpPr>
          <p:spPr>
            <a:xfrm>
              <a:off x="5513760" y="471384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gészséges életmó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íve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_s92179"/>
            <p:cNvSpPr/>
            <p:nvPr/>
          </p:nvSpPr>
          <p:spPr>
            <a:xfrm>
              <a:off x="2683440" y="471384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rmészetkedvelő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_s92180"/>
            <p:cNvSpPr/>
            <p:nvPr/>
          </p:nvSpPr>
          <p:spPr>
            <a:xfrm>
              <a:off x="3345840" y="957240"/>
              <a:ext cx="660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Biogazdálkodó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_s92181"/>
            <p:cNvSpPr/>
            <p:nvPr/>
          </p:nvSpPr>
          <p:spPr>
            <a:xfrm>
              <a:off x="4098240" y="522900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Biotermékfogyasztó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_s92182"/>
            <p:cNvSpPr/>
            <p:nvPr/>
          </p:nvSpPr>
          <p:spPr>
            <a:xfrm>
              <a:off x="6266880" y="340920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 körenyezettudatos életmód híve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_s92183"/>
            <p:cNvSpPr/>
            <p:nvPr/>
          </p:nvSpPr>
          <p:spPr>
            <a:xfrm>
              <a:off x="1930320" y="340920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agi áldozatot is vállaló tudatos fogyasztó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_s92184"/>
            <p:cNvSpPr/>
            <p:nvPr/>
          </p:nvSpPr>
          <p:spPr>
            <a:xfrm>
              <a:off x="4851360" y="957240"/>
              <a:ext cx="660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Biopiaco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_s92185"/>
            <p:cNvSpPr/>
            <p:nvPr/>
          </p:nvSpPr>
          <p:spPr>
            <a:xfrm>
              <a:off x="6005520" y="192528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otermék-feldolgozók, -előállító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_s92186"/>
            <p:cNvSpPr/>
            <p:nvPr/>
          </p:nvSpPr>
          <p:spPr>
            <a:xfrm>
              <a:off x="2192040" y="1925280"/>
              <a:ext cx="660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vidékhez, a tájhoz kötődő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611280" y="7754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űrűs ökopi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300720" y="4653000"/>
            <a:ext cx="64764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932360" y="4581360"/>
            <a:ext cx="136836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971640" y="765000"/>
            <a:ext cx="7267320" cy="5472360"/>
            <a:chOff x="971640" y="765000"/>
            <a:chExt cx="7267320" cy="5472360"/>
          </a:xfrm>
        </p:grpSpPr>
        <p:sp>
          <p:nvSpPr>
            <p:cNvPr id="748" name=""/>
            <p:cNvSpPr/>
            <p:nvPr/>
          </p:nvSpPr>
          <p:spPr>
            <a:xfrm>
              <a:off x="4944240" y="4609800"/>
              <a:ext cx="2043720" cy="59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me-shopp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0040" y="765000"/>
              <a:ext cx="4768200" cy="592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Bef>
                  <a:spcPts val="601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zőgazdasági termelő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7640" y="2095560"/>
              <a:ext cx="2895120" cy="592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Bef>
                  <a:spcPts val="601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gykereskedő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60400" y="3574440"/>
              <a:ext cx="2299680" cy="592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iskereskedő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90040" y="5644800"/>
              <a:ext cx="4768200" cy="592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gyasztó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83840" y="3130920"/>
              <a:ext cx="1022400" cy="1065960"/>
            </a:xfrm>
            <a:prstGeom prst="rect">
              <a:avLst/>
            </a:prstGeom>
            <a:solidFill>
              <a:srgbClr val="ffcc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Direkt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marke-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5920" y="1504080"/>
              <a:ext cx="720" cy="1656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815920" y="4165920"/>
              <a:ext cx="720" cy="130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69760" y="41659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08760" y="2835000"/>
              <a:ext cx="0" cy="177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59440" y="1356480"/>
              <a:ext cx="720" cy="3195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59440" y="5201280"/>
              <a:ext cx="7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62640" y="1407960"/>
              <a:ext cx="720" cy="59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62640" y="2754720"/>
              <a:ext cx="720" cy="71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62640" y="4188600"/>
              <a:ext cx="7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69760" y="520128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08760" y="52012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21520" y="4609800"/>
              <a:ext cx="766080" cy="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221520" y="5201280"/>
              <a:ext cx="766080" cy="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966360" y="4609800"/>
              <a:ext cx="720" cy="622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71640" y="2835000"/>
              <a:ext cx="993600" cy="1395000"/>
            </a:xfrm>
            <a:prstGeom prst="rect">
              <a:avLst/>
            </a:prstGeom>
            <a:solidFill>
              <a:srgbClr val="cc99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asz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iac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51680" y="2664720"/>
              <a:ext cx="1187280" cy="1252440"/>
            </a:xfrm>
            <a:prstGeom prst="rect">
              <a:avLst/>
            </a:prstGeom>
            <a:solidFill>
              <a:srgbClr val="cc99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rtuá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ac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1432440" y="1504080"/>
              <a:ext cx="957600" cy="11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14080" y="4334040"/>
              <a:ext cx="957600" cy="12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85320" y="1504080"/>
              <a:ext cx="53172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273080" y="4021560"/>
              <a:ext cx="429480" cy="14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50840" y="27720"/>
            <a:ext cx="6559560" cy="6559920"/>
            <a:chOff x="1050840" y="27720"/>
            <a:chExt cx="6559560" cy="6559920"/>
          </a:xfrm>
        </p:grpSpPr>
        <p:sp>
          <p:nvSpPr>
            <p:cNvPr id="108" name="_s6149"/>
            <p:cNvSpPr/>
            <p:nvPr/>
          </p:nvSpPr>
          <p:spPr>
            <a:xfrm>
              <a:off x="1998720" y="975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6150"/>
            <p:cNvSpPr/>
            <p:nvPr/>
          </p:nvSpPr>
          <p:spPr>
            <a:xfrm rot="3060000">
              <a:off x="1998360" y="975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d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6151"/>
            <p:cNvSpPr/>
            <p:nvPr/>
          </p:nvSpPr>
          <p:spPr>
            <a:xfrm rot="6180000">
              <a:off x="1998000" y="975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152"/>
            <p:cNvSpPr/>
            <p:nvPr/>
          </p:nvSpPr>
          <p:spPr>
            <a:xfrm rot="9240000">
              <a:off x="1998360" y="97524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6153"/>
            <p:cNvSpPr/>
            <p:nvPr/>
          </p:nvSpPr>
          <p:spPr>
            <a:xfrm rot="12360000">
              <a:off x="1998720" y="975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6154"/>
            <p:cNvSpPr/>
            <p:nvPr/>
          </p:nvSpPr>
          <p:spPr>
            <a:xfrm rot="15420000">
              <a:off x="1998000" y="975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e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6155"/>
            <p:cNvSpPr/>
            <p:nvPr/>
          </p:nvSpPr>
          <p:spPr>
            <a:xfrm rot="18540000">
              <a:off x="1998360" y="975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d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6156"/>
            <p:cNvSpPr/>
            <p:nvPr/>
          </p:nvSpPr>
          <p:spPr>
            <a:xfrm>
              <a:off x="2988720" y="955080"/>
              <a:ext cx="804600" cy="804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legyen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6157"/>
            <p:cNvSpPr/>
            <p:nvPr/>
          </p:nvSpPr>
          <p:spPr>
            <a:xfrm>
              <a:off x="4867920" y="954000"/>
              <a:ext cx="804240" cy="80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célból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6158"/>
            <p:cNvSpPr/>
            <p:nvPr/>
          </p:nvSpPr>
          <p:spPr>
            <a:xfrm>
              <a:off x="1818360" y="2424240"/>
              <a:ext cx="804240" cy="80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lyen módsze-rekke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6159"/>
            <p:cNvSpPr/>
            <p:nvPr/>
          </p:nvSpPr>
          <p:spPr>
            <a:xfrm>
              <a:off x="2236680" y="4255200"/>
              <a:ext cx="804240" cy="804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t tartal-maz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6160"/>
            <p:cNvSpPr/>
            <p:nvPr/>
          </p:nvSpPr>
          <p:spPr>
            <a:xfrm>
              <a:off x="3929040" y="5070240"/>
              <a:ext cx="804240" cy="804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ről szó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6161"/>
            <p:cNvSpPr/>
            <p:nvPr/>
          </p:nvSpPr>
          <p:spPr>
            <a:xfrm>
              <a:off x="5621760" y="4254480"/>
              <a:ext cx="804240" cy="804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gyan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6162"/>
            <p:cNvSpPr/>
            <p:nvPr/>
          </p:nvSpPr>
          <p:spPr>
            <a:xfrm>
              <a:off x="6039360" y="2423160"/>
              <a:ext cx="804240" cy="804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 készíts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480" y="2335320"/>
              <a:ext cx="1371600" cy="1600560"/>
            </a:xfrm>
            <a:prstGeom prst="foldedCorner">
              <a:avLst>
                <a:gd name="adj" fmla="val 12500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Üzleti t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üzleti terv felépí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748720" cy="57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ő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, a termékek és szolgáltatások bemutatása; múlt, jelen, jöv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állalkozás bemutatása (helyzetelemz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rmék (szolgáltatás) bemuta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dasági környezetele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üzleti magatartás elvei, ügyfelek, érintet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iac és a fogyasztói viselkedés elemz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modell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enyelemzés, stratégiaalko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állalkozás működt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elési, üzemeltetés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mélyi feltételek, emberi erőforrások, humánpolitika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nzügyi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rtékesítési terv, marketing te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üzleti terv megvalósíthatósá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Ütemterv a megvalósí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ckázatelem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ékl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7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7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7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temterv a megvalósítás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ladatok, részfeladatok, fázisok közötti összefüggések átlátását,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mással párhuzamosan végezhető feladatok meghatározás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on feladatok, tevékenységek nyomonkövetését, amelyek csak egy másik tevékenység befejezése után kezdhetők me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es felelősségi körök meghatározásá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őforrás-szükségletek időbeli és mennyiségi meghatározásá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ljesíthetőséget, és a határidők betartását befolyásoló kritikus pontok, tevékenységek megtalálásá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valósításhoz szükséges időkeret felmérésé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jekt sikeres megvalósításához esetleg szükségessé váló beavatkozási pontok és időpontok meghatározás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1476360" y="4149720"/>
            <a:ext cx="651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ckázatbecsl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0" y="981000"/>
          <a:ext cx="885816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88581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698400" y="5373360"/>
            <a:ext cx="43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r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álint A. - Sidlovits D. - Szép K.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éklet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ályázat/hitelajánlat kiírója által előírt, kötelezően csatolandó dokumen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ító oki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ullás” nyilatkozatok, APEH, VPOP, Önkormányzat,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lekkönyvi kivon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ás-vételi, bérleti szerződ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v készítője által szabadon választott mellékle-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szletes technológiai terv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íráso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ben szereplő kalkulációk részletes kidolgoz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lcsemberek szakmai életrajz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szletes pénzügyi kalkuláció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050840" y="243720"/>
            <a:ext cx="6559560" cy="6559920"/>
            <a:chOff x="1050840" y="243720"/>
            <a:chExt cx="6559560" cy="6559920"/>
          </a:xfrm>
        </p:grpSpPr>
        <p:sp>
          <p:nvSpPr>
            <p:cNvPr id="787" name="_s106501"/>
            <p:cNvSpPr/>
            <p:nvPr/>
          </p:nvSpPr>
          <p:spPr>
            <a:xfrm>
              <a:off x="1998720" y="1191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_s106502"/>
            <p:cNvSpPr/>
            <p:nvPr/>
          </p:nvSpPr>
          <p:spPr>
            <a:xfrm rot="3060000">
              <a:off x="1998360" y="1191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d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_s106503"/>
            <p:cNvSpPr/>
            <p:nvPr/>
          </p:nvSpPr>
          <p:spPr>
            <a:xfrm rot="6180000">
              <a:off x="1998000" y="1191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_s106504"/>
            <p:cNvSpPr/>
            <p:nvPr/>
          </p:nvSpPr>
          <p:spPr>
            <a:xfrm rot="9240000">
              <a:off x="1998360" y="119124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_s106505"/>
            <p:cNvSpPr/>
            <p:nvPr/>
          </p:nvSpPr>
          <p:spPr>
            <a:xfrm rot="12360000">
              <a:off x="1998720" y="1191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_s106506"/>
            <p:cNvSpPr/>
            <p:nvPr/>
          </p:nvSpPr>
          <p:spPr>
            <a:xfrm rot="15420000">
              <a:off x="1998000" y="1191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e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_s106507"/>
            <p:cNvSpPr/>
            <p:nvPr/>
          </p:nvSpPr>
          <p:spPr>
            <a:xfrm rot="18540000">
              <a:off x="1998360" y="1191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d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_s106508"/>
            <p:cNvSpPr/>
            <p:nvPr/>
          </p:nvSpPr>
          <p:spPr>
            <a:xfrm>
              <a:off x="2988720" y="1171080"/>
              <a:ext cx="804600" cy="804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legyen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_s106509"/>
            <p:cNvSpPr/>
            <p:nvPr/>
          </p:nvSpPr>
          <p:spPr>
            <a:xfrm>
              <a:off x="4867920" y="1170000"/>
              <a:ext cx="804240" cy="80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célból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_s106510"/>
            <p:cNvSpPr/>
            <p:nvPr/>
          </p:nvSpPr>
          <p:spPr>
            <a:xfrm>
              <a:off x="1818360" y="2640240"/>
              <a:ext cx="804240" cy="80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lyen módsze-rekke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_s106511"/>
            <p:cNvSpPr/>
            <p:nvPr/>
          </p:nvSpPr>
          <p:spPr>
            <a:xfrm>
              <a:off x="2236680" y="4471200"/>
              <a:ext cx="804240" cy="804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t tartal-maz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_s106512"/>
            <p:cNvSpPr/>
            <p:nvPr/>
          </p:nvSpPr>
          <p:spPr>
            <a:xfrm>
              <a:off x="3929040" y="5286240"/>
              <a:ext cx="804240" cy="804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ről szó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_s106513"/>
            <p:cNvSpPr/>
            <p:nvPr/>
          </p:nvSpPr>
          <p:spPr>
            <a:xfrm>
              <a:off x="5621760" y="4470480"/>
              <a:ext cx="804240" cy="804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gyan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_s106514"/>
            <p:cNvSpPr/>
            <p:nvPr/>
          </p:nvSpPr>
          <p:spPr>
            <a:xfrm>
              <a:off x="6039360" y="2639160"/>
              <a:ext cx="804240" cy="804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 készíts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30480" y="2551320"/>
              <a:ext cx="1371600" cy="1600560"/>
            </a:xfrm>
            <a:prstGeom prst="foldedCorner">
              <a:avLst>
                <a:gd name="adj" fmla="val 12500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Üzleti t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7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yen legy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ját cél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badon választott, kötetlen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ső (leendő) partner szá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abadon választott, de formálisa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elkérelem, pályáz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gorúan betartandó kötött form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ért a végső összeállítás előtt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gen” szemmel olvasni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ntmondások, elí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ékletek, kísérő dokumentumok hiánytalan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áírások, bélyegzők ellenőr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yen legye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első benyo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gjelenés, gépelési hibák, összeadások, formai és tartalmi kellék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Összefoglaló ré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érdeklődés felkeltése, ösztönzés a továbbolvasás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is k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üzleti terv megvalósíthatóságáró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élratörés, pontos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 állítások alátámasztása (adatok, számítások, ábrá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ömör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észletes, hosszabb információk a melléklet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árgyszerű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árgyra koncentrálni (termék, pia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ép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gaszkodni a kiíró által igényelt formához, megjelenéshez, tagoláshoz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 ez nincs, akkor) leíró részek és pontokba szedett információk váltakoz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előírt mellékletek hiánytalan meglé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ülső információfor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lhasznált információk forrása, megnevezése a melléklet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gyakrabban elkövethető hib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taláb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zleti ter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zétfolyik vagy túl rövid, esetleg kusz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zleti ter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llébeszél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ilvánvaló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titkol valami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zleti tervben feloldatlan belső ellentmondások vann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vékenység céljának leírásában általánosságok vannak, konkrétumok nélkü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öltségvetés nem reális vagy nincs megfelelően alátámasztv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zleti elképzelés tú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kat markol, a pályázat kivitelezhetetl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vagy nem fenntart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b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ályázat, hitelkére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adott pályázat nem illik a pályázatot kiíró intézmény tevé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ységi köré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ai követelmények figyelmen kívül hagyása (pályázat hossza, űrlap h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nya vagy hiányos kitöltés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láíráso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b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ályázatban a pályázó kirekesztő vagy kioktató hangnemben í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ályázó annak ellenére, hogy tudna, mégsem működik együtt másokk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945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Üzleti terv készíté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álint Já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hász 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enczy Ti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készítse az üzleti tervet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93320" y="1177920"/>
            <a:ext cx="5366520" cy="5168160"/>
            <a:chOff x="1993320" y="1177920"/>
            <a:chExt cx="5366520" cy="5168160"/>
          </a:xfrm>
        </p:grpSpPr>
        <p:sp>
          <p:nvSpPr>
            <p:cNvPr id="125" name=""/>
            <p:cNvSpPr/>
            <p:nvPr/>
          </p:nvSpPr>
          <p:spPr>
            <a:xfrm>
              <a:off x="3090600" y="1177920"/>
              <a:ext cx="2934000" cy="282564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51372"/>
                  </a:srgbClr>
                </a:gs>
                <a:gs pos="100000">
                  <a:srgbClr val="ffff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vállalkozó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vállalkozás menedzsment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757200">
              <a:off x="4152600" y="2979360"/>
              <a:ext cx="2934000" cy="2825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>
                    <a:alpha val="51372"/>
                  </a:srgbClr>
                </a:gs>
              </a:gsLst>
              <a:lin ang="464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ülső szakértők, tanácsad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589000">
              <a:off x="2339640" y="3155400"/>
              <a:ext cx="2933640" cy="282600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51372"/>
                  </a:srgbClr>
                </a:gs>
                <a:gs pos="100000">
                  <a:srgbClr val="ffff99"/>
                </a:gs>
              </a:gsLst>
              <a:lin ang="1181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ályázatíró vállalkoz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22480" y="27720"/>
            <a:ext cx="6559560" cy="6559920"/>
            <a:chOff x="1122480" y="27720"/>
            <a:chExt cx="6559560" cy="6559920"/>
          </a:xfrm>
        </p:grpSpPr>
        <p:sp>
          <p:nvSpPr>
            <p:cNvPr id="130" name="_s9221"/>
            <p:cNvSpPr/>
            <p:nvPr/>
          </p:nvSpPr>
          <p:spPr>
            <a:xfrm>
              <a:off x="2070360" y="975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9222"/>
            <p:cNvSpPr/>
            <p:nvPr/>
          </p:nvSpPr>
          <p:spPr>
            <a:xfrm rot="3060000">
              <a:off x="2070000" y="975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d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9223"/>
            <p:cNvSpPr/>
            <p:nvPr/>
          </p:nvSpPr>
          <p:spPr>
            <a:xfrm rot="6180000">
              <a:off x="2069640" y="975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9224"/>
            <p:cNvSpPr/>
            <p:nvPr/>
          </p:nvSpPr>
          <p:spPr>
            <a:xfrm rot="9240000">
              <a:off x="2070000" y="97524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9225"/>
            <p:cNvSpPr/>
            <p:nvPr/>
          </p:nvSpPr>
          <p:spPr>
            <a:xfrm rot="12360000">
              <a:off x="2070360" y="975600"/>
              <a:ext cx="4663440" cy="466416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9226"/>
            <p:cNvSpPr/>
            <p:nvPr/>
          </p:nvSpPr>
          <p:spPr>
            <a:xfrm rot="15420000">
              <a:off x="2069640" y="97596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e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9227"/>
            <p:cNvSpPr/>
            <p:nvPr/>
          </p:nvSpPr>
          <p:spPr>
            <a:xfrm rot="18540000">
              <a:off x="2070000" y="975600"/>
              <a:ext cx="4664160" cy="4663440"/>
            </a:xfrm>
            <a:prstGeom prst="blockArc">
              <a:avLst>
                <a:gd name="adj1" fmla="val 15420000"/>
                <a:gd name="adj2" fmla="val 6180000"/>
                <a:gd name="adj3" fmla="val 7144"/>
              </a:avLst>
            </a:prstGeom>
            <a:solidFill>
              <a:srgbClr val="ffd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9228"/>
            <p:cNvSpPr/>
            <p:nvPr/>
          </p:nvSpPr>
          <p:spPr>
            <a:xfrm>
              <a:off x="3060360" y="955080"/>
              <a:ext cx="804600" cy="804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legyen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9229"/>
            <p:cNvSpPr/>
            <p:nvPr/>
          </p:nvSpPr>
          <p:spPr>
            <a:xfrm>
              <a:off x="4939200" y="954000"/>
              <a:ext cx="804240" cy="80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lyen célból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9230"/>
            <p:cNvSpPr/>
            <p:nvPr/>
          </p:nvSpPr>
          <p:spPr>
            <a:xfrm>
              <a:off x="1890000" y="2424240"/>
              <a:ext cx="804240" cy="80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lyen módsze-rekke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2308320" y="4255200"/>
              <a:ext cx="804240" cy="804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Mit tartal-maz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2"/>
            <p:cNvSpPr/>
            <p:nvPr/>
          </p:nvSpPr>
          <p:spPr>
            <a:xfrm>
              <a:off x="4000680" y="5070240"/>
              <a:ext cx="804240" cy="804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ről szó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33"/>
            <p:cNvSpPr/>
            <p:nvPr/>
          </p:nvSpPr>
          <p:spPr>
            <a:xfrm>
              <a:off x="5693040" y="4254480"/>
              <a:ext cx="804240" cy="804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gyan készül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34"/>
            <p:cNvSpPr/>
            <p:nvPr/>
          </p:nvSpPr>
          <p:spPr>
            <a:xfrm>
              <a:off x="6111000" y="2423160"/>
              <a:ext cx="804240" cy="804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 készíts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02120" y="2335320"/>
              <a:ext cx="1371600" cy="1600560"/>
            </a:xfrm>
            <a:prstGeom prst="foldedCorner">
              <a:avLst>
                <a:gd name="adj" fmla="val 12500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Üzleti t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8:52Z</dcterms:created>
  <dc:creator>Juhász Mária</dc:creator>
  <dc:description/>
  <dc:language>en-US</dc:language>
  <cp:lastModifiedBy>Bálint János</cp:lastModifiedBy>
  <dcterms:modified xsi:type="dcterms:W3CDTF">2006-06-30T08:38:59Z</dcterms:modified>
  <cp:revision>59</cp:revision>
  <dc:subject/>
  <dc:title>Üzleti terv készíté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40431580</vt:r8>
  </property>
  <property fmtid="{D5CDD505-2E9C-101B-9397-08002B2CF9AE}" pid="3" name="_AuthorEmail">
    <vt:lpwstr>janos.balint@uni-corvinus.hu</vt:lpwstr>
  </property>
  <property fmtid="{D5CDD505-2E9C-101B-9397-08002B2CF9AE}" pid="4" name="_AuthorEmailDisplayName">
    <vt:lpwstr>Bálint János</vt:lpwstr>
  </property>
  <property fmtid="{D5CDD505-2E9C-101B-9397-08002B2CF9AE}" pid="5" name="_EmailSubject">
    <vt:lpwstr>HEFOP Üzleti terv jegyzet és prezentáció</vt:lpwstr>
  </property>
  <property fmtid="{D5CDD505-2E9C-101B-9397-08002B2CF9AE}" pid="6" name="_PreviousAdHocReviewCycleID">
    <vt:r8>928496624</vt:r8>
  </property>
</Properties>
</file>