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DC9-1E9A-4A34-B044-5E14661D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81F-E65F-4F9C-9A9B-85AEC225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3CB-EC50-4415-9DB4-375DF827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8B1-C42E-4099-8CFD-CB1FA290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C431-56EF-4093-8FBF-E1F7B98F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B24-5BE6-4CE4-9BD2-E4CB9CB0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78CD-9908-4AE7-B7C4-D417996A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B1B9-903D-499F-9567-552F8956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6DD2-5A4A-4CEF-B0E6-EC41926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F5A2-8353-4BED-A443-95DEAFE9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023B-9A74-4BF6-B0BD-D6340FAD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9D2-658B-47E7-A659-0ECC5E45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D885-32DA-474B-A0A6-CFD4A541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EAB-0713-49FE-A8D8-419483D1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14D4-354E-4336-9F2F-96A419C6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8D7D-26B5-449A-8624-46ED37FC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A292-12F0-4A83-B71D-F045BEB0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C1F-701C-4226-B861-69DE69E7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F0C-77F1-461A-803E-465EAE57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141-D7A0-4F53-8FA5-1EF59659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055-E050-47DB-96B5-6F7B0226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240-E4EA-46EA-90B9-BEB66C63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7C3-5998-48BE-B253-939A59D0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EAD-2F47-497D-B5E7-517CE46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1994-0920-4A9E-BD4A-7A119EF21DC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7D46-1E45-43E9-BB32-16C9418925D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KROÖKONÓM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Hefop-progr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200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ed234"/>
                </a:solidFill>
                <a:latin typeface="Arial Black"/>
              </a:rPr>
              <a:t>2. A teljesítménymérés mutató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. GO (Gross Output): Bruttó        kibocsátás, amely minden termék és   szolgáltatás kettős halmozódást   tartalmazó összérték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e1f08"/>
                </a:solidFill>
                <a:latin typeface="Arial Black"/>
              </a:rPr>
              <a:t>B. GDP (Gross Domestic Product), a Bruttó Hazai Termék, amely a folyó termelő felhasználással csökkentett GO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C. NDP (Net Domestic Product), a Nettó Hazai Termék, amely a GDP és az amortizáció különbség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4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66ff"/>
                </a:solidFill>
                <a:latin typeface="Arial Black"/>
              </a:rPr>
              <a:t>D. Nemzeti mutatók: hazai mutatók </a:t>
            </a:r>
            <a:r>
              <a:rPr b="0" lang="en-US" sz="2800" spc="-1" strike="noStrike">
                <a:solidFill>
                  <a:srgbClr val="ff66ff"/>
                </a:solidFill>
                <a:latin typeface="Arial Black"/>
              </a:rPr>
              <a:t>±</a:t>
            </a:r>
            <a:r>
              <a:rPr b="0" lang="hu-HU" sz="2800" spc="-1" strike="noStrike">
                <a:solidFill>
                  <a:srgbClr val="ff66ff"/>
                </a:solidFill>
                <a:latin typeface="Arial Black"/>
              </a:rPr>
              <a:t> tőke- és munkajövedelmek áramlá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spcAft>
                <a:spcPts val="901"/>
              </a:spcAft>
              <a:buClr>
                <a:srgbClr val="ff66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66ff"/>
                </a:solidFill>
                <a:latin typeface="Arial Black"/>
              </a:rPr>
              <a:t>Bruttó nemzeti jövedelem (GNI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66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66ff"/>
                </a:solidFill>
                <a:latin typeface="Arial Black"/>
              </a:rPr>
              <a:t>Nettó nemzeti jövedelem (NNI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E. Rendelkezésre álló jövede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1800"/>
              </a:spcBef>
              <a:spcAft>
                <a:spcPts val="901"/>
              </a:spcAft>
              <a:buClr>
                <a:srgbClr val="3399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Bruttó rendelk. álló jövedelem (GNDI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Nettó rendelk. álló jövedelem (NNDI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z SNA mutatók összefoglalás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Bruttó jellegű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Nettó jellegű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     mutató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mutató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Megtermel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jövedelem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GDP         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 NDP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lsődleges elosztá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során megszerzett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jövedelem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GNI           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  NN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Végső felhasználásr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kerülő jövedelem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GNDI           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 NNDI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ed234"/>
                </a:solidFill>
                <a:latin typeface="Arial Black"/>
              </a:rPr>
              <a:t>3. A makrojövedelmek áramlás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800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jövedelem-áramlás szereplő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1. Háztartások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 Vállalatok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3. Kormányzat (Állam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4. Bankszfér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5. Külföld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jövedelem-áramlási modell vonása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1500"/>
              </a:spcBef>
              <a:spcAft>
                <a:spcPts val="499"/>
              </a:spcAft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gyik szektor másiknak átadott pénzmozgását követjük nyomon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lyó tétel számlákon történő kettős könyvelést végzün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Bal oldalon a kiadások (tartozik), jobb oldalon a bevételek (követel) jelennek meg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z egyes szektorok jövedelemtételeit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z angol szavak rövidítésével jelöljü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folyó tétel számlák egyenlete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tartozik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követ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Háztartások:  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C + S</a:t>
            </a:r>
            <a:r>
              <a:rPr b="0" lang="hu-HU" sz="2400" spc="-1" strike="noStrike" baseline="-25000">
                <a:solidFill>
                  <a:srgbClr val="4ed234"/>
                </a:solidFill>
                <a:latin typeface="Arial Black"/>
              </a:rPr>
              <a:t>H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+T</a:t>
            </a:r>
            <a:r>
              <a:rPr b="0" lang="hu-HU" sz="2400" spc="-1" strike="noStrike" baseline="-25000">
                <a:solidFill>
                  <a:srgbClr val="4ed234"/>
                </a:solidFill>
                <a:latin typeface="Arial Black"/>
              </a:rPr>
              <a:t>H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=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W + T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Vállalatok: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W + S</a:t>
            </a:r>
            <a:r>
              <a:rPr b="0" lang="hu-HU" sz="2400" spc="-1" strike="noStrike" baseline="-25000">
                <a:solidFill>
                  <a:srgbClr val="4ed234"/>
                </a:solidFill>
                <a:latin typeface="Arial Black"/>
              </a:rPr>
              <a:t>V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+T</a:t>
            </a:r>
            <a:r>
              <a:rPr b="0" lang="hu-HU" sz="2400" spc="-1" strike="noStrike" baseline="-25000">
                <a:solidFill>
                  <a:srgbClr val="4ed234"/>
                </a:solidFill>
                <a:latin typeface="Arial Black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 = 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Y</a:t>
            </a:r>
            <a:r>
              <a:rPr b="0" lang="hu-HU" sz="2000" spc="-1" strike="noStrike">
                <a:solidFill>
                  <a:srgbClr val="ffe103"/>
                </a:solidFill>
                <a:latin typeface="Arial Black"/>
              </a:rPr>
              <a:t>(C+I+G+netEX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Állam: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TR + G + S</a:t>
            </a:r>
            <a:r>
              <a:rPr b="0" lang="hu-HU" sz="2400" spc="-1" strike="noStrike" baseline="-25000">
                <a:solidFill>
                  <a:srgbClr val="4ed234"/>
                </a:solidFill>
                <a:latin typeface="Arial Black"/>
              </a:rPr>
              <a:t>Á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Arial Black"/>
              </a:rPr>
              <a:t> 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= 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T</a:t>
            </a:r>
            <a:r>
              <a:rPr b="0" lang="hu-HU" sz="2400" spc="-1" strike="noStrike" baseline="-25000">
                <a:solidFill>
                  <a:srgbClr val="ffe103"/>
                </a:solidFill>
                <a:latin typeface="Arial Black"/>
              </a:rPr>
              <a:t>V 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+ T</a:t>
            </a:r>
            <a:r>
              <a:rPr b="0" lang="hu-HU" sz="2400" spc="-1" strike="noStrike" baseline="-25000">
                <a:solidFill>
                  <a:srgbClr val="ffe103"/>
                </a:solidFill>
                <a:latin typeface="Arial Black"/>
              </a:rPr>
              <a:t>H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 + T</a:t>
            </a:r>
            <a:r>
              <a:rPr b="0" lang="hu-HU" sz="2400" spc="-1" strike="noStrike" baseline="-25000">
                <a:solidFill>
                  <a:srgbClr val="ffe103"/>
                </a:solidFill>
                <a:latin typeface="Arial Black"/>
              </a:rPr>
              <a:t>K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ülföld: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EX + T</a:t>
            </a:r>
            <a:r>
              <a:rPr b="0" lang="hu-HU" sz="2400" spc="-1" strike="noStrike" baseline="-25000">
                <a:solidFill>
                  <a:srgbClr val="4ed234"/>
                </a:solidFill>
                <a:latin typeface="Arial Black"/>
              </a:rPr>
              <a:t>K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 + S</a:t>
            </a:r>
            <a:r>
              <a:rPr b="0" lang="hu-HU" sz="2400" spc="-1" strike="noStrike" baseline="-25000">
                <a:solidFill>
                  <a:srgbClr val="4ed234"/>
                </a:solidFill>
                <a:latin typeface="Arial Black"/>
              </a:rPr>
              <a:t>K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= 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I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Tőke (bank):      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 I 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   =    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S</a:t>
            </a:r>
            <a:r>
              <a:rPr b="0" lang="hu-HU" sz="2400" spc="-1" strike="noStrike" baseline="-25000">
                <a:solidFill>
                  <a:srgbClr val="ffe103"/>
                </a:solidFill>
                <a:latin typeface="Arial Black"/>
              </a:rPr>
              <a:t>H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+ S</a:t>
            </a:r>
            <a:r>
              <a:rPr b="0" lang="hu-HU" sz="2400" spc="-1" strike="noStrike" baseline="-25000">
                <a:solidFill>
                  <a:srgbClr val="ffe103"/>
                </a:solidFill>
                <a:latin typeface="Arial Black"/>
              </a:rPr>
              <a:t>v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+S</a:t>
            </a:r>
            <a:r>
              <a:rPr b="0" lang="hu-HU" sz="2400" spc="-1" strike="noStrike" baseline="-25000">
                <a:solidFill>
                  <a:srgbClr val="ffe103"/>
                </a:solidFill>
                <a:latin typeface="Arial Black"/>
              </a:rPr>
              <a:t>Á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+S</a:t>
            </a:r>
            <a:r>
              <a:rPr b="0" lang="hu-HU" sz="2400" spc="-1" strike="noStrike" baseline="-25000">
                <a:solidFill>
                  <a:srgbClr val="ffe103"/>
                </a:solidFill>
                <a:latin typeface="Arial Black"/>
              </a:rPr>
              <a:t>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GDP-számla: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Y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    = </a:t>
            </a:r>
            <a:r>
              <a:rPr b="0" lang="hu-HU" sz="2400" spc="-1" strike="noStrike">
                <a:solidFill>
                  <a:srgbClr val="ffe103"/>
                </a:solidFill>
                <a:latin typeface="Arial Black"/>
              </a:rPr>
              <a:t>C + I + G + (EX-IM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utolsó egyenlet mutatja az általános összefüggést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a makrogazdasági jövedelem (Y) egyenlő a makrokiadásokkal (C+I+G+EX-IM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3. előadás: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 Piacok a makroökonómiában</a:t>
            </a:r>
            <a:br>
              <a:rPr sz="2800"/>
            </a:b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munkapiac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vizsgálandó piaco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unkapia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ermékpia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énzpia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z elemzések kérdése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Kik a piaci szereplők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Hogy határozódik meg keresletük-kínálatuk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ilyen tényezők befolyásolják a piac állapotát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itől függ az egyes piacok egyensúlyi helyzete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munkapiaci szereplő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unkakínálat (munkavállalók) = Háztartási szfér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unkakereslet (munkáltatók)  = Vállalati szfér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z állami szféra szerepétől itt eltekintünk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5440" y="333000"/>
            <a:ext cx="84582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Munkapiaci 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egyszerűsítések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Csak a munkabér a munkaerő ára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munkapiac egységes bérekkel működi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piaci bér egyénileg nem befolyásolható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Rövid távon csak a munka mennyiségtől függ a termelé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Mitől függ a 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munka makrokereslete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Makrokereslet az egyéni vállalati keresletek összegzés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Piaci követelmény: profit maximalizálás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profitmax. kritériuma: MC = MR, aminek itteni megfelelője a W = MP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L *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P, vagy W/P = MP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L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az a vállalatok munkakereslete minden reálbérnél akkora kell legyen, ahol a reálbérrel éppen megegyezik a munka határtermék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Ebből adódik a munkakeresleti függvény alakja, amely csökkenő, mivel az MP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L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is csökkenő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Mitől függ a 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munka makrokínálata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makro-munkakínálat a háztartások egyéni munkakínálatának összesség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10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Erre több szubjektív és objektív tényező van hatással, pl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 u="sng">
                <a:solidFill>
                  <a:srgbClr val="ffcc00"/>
                </a:solidFill>
                <a:uFillTx/>
                <a:latin typeface="Arial Black"/>
              </a:rPr>
              <a:t>Szubjektív: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   a munkaidő/szabadidő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helyettesítési aránya, a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munkahely megítélése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cc00"/>
                </a:solidFill>
                <a:uFillTx/>
                <a:latin typeface="Arial Black"/>
              </a:rPr>
              <a:t>Objektív: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napi időkorlát; fiziológiai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időigény; elérhető bér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10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egyéni munkakínálat optimuma ott van, aho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MP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L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= W/P egyenlőség teljesül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10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makro-munkakínálat ezen túlmenően függ a gazdaság állapotától, változásától, ami két hatást eredményez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901"/>
              </a:spcBef>
              <a:buClr>
                <a:srgbClr val="ff8b17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8b17"/>
                </a:solidFill>
                <a:uFillTx/>
                <a:latin typeface="Arial Black"/>
              </a:rPr>
              <a:t>A jövedelmi hatást</a:t>
            </a: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 – a munkakínálatot csökkent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ff66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66ff"/>
                </a:solidFill>
                <a:uFillTx/>
                <a:latin typeface="Arial Black"/>
              </a:rPr>
              <a:t>A helyettesítési hatást</a:t>
            </a: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 – a munkakínálatot növeli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Tapasztalat: magas fejlettségnél az első, alacsonynál a második lesz a meghatározó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1749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 munkapiaci egyensú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spcBef>
                <a:spcPts val="601"/>
              </a:spcBef>
              <a:spcAft>
                <a:spcPts val="9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egyensúly általános felfogása: a munka aggregált kereslete megegyezik aggregált kínálatáv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spcBef>
                <a:spcPts val="601"/>
              </a:spcBef>
              <a:spcAft>
                <a:spcPts val="9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Mindkettő a reálbér függvénye, de számos egyéb tényezőtől is függne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spcBef>
                <a:spcPts val="601"/>
              </a:spcBef>
              <a:spcAft>
                <a:spcPts val="9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gyensúlyban érvényesülő reálbér az egyensúlyi reálbé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spcBef>
                <a:spcPts val="601"/>
              </a:spcBef>
              <a:spcAft>
                <a:spcPts val="9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Ha a tényleges reálbér nagyobb, mint az egyensúlyi, túlkínálat (munkanélküliség), ha kisebb, túlkereslet (munkahiány) lesz a piaco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tényleges foglalkoztatás a rövidebb oldal elvével határozható meg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munkapiaci egyensúly klasszikus felfogá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iaci önszabályozás a munkapiacon is érvényesü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eltétel: a piaci változók tökéletesen rugalmas mozgása (W, P, i, ..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övetkezmény: a piac automatikusan az egyensúly felé mozog, és íg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osszabb távon a teljes foglalkoztatás megvalósu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zért nincs szükség külső (pl. állami) befolyásolásra, sőt minden ilyen beavatkozás káro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. előadá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Makroökonómiai alapok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 mikroökonómiától eltérések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gazdaság más metszetét nézzü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mások a kérdésfelvetése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mások a fogalma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kibővül a szereplők köre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új vizsgálati módszerek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 munkapiaci egyensúly keynesi felfogá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piaci változók nem rugalmasak( pl. a bérek és az árak lefelé merevek), ezért nem jön létre automatikusan piaci egyensúl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foglalkoztatásra nem piaci tényezők is hatnak ( monopolhelyzetek; bérmegállapodások; állami szféra adminisztratív befolyásolása…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zek  miatt nincs a munkapiacon teljes foglalkoztatás, azaz tartós és kényszerű munkanélküliség alakul ki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unkapiaci egyensúly (teljes foglalkoztatás) megvalósításához a piac mellett az állam segítsége is szükség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lsősorban piac-komform állami beavatkozások a kívánatosak (a magánszféra foglalkoztatását segíteni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. Előadás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	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makro-termékpiac elemzé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Általános fogalmak, egyszerűsítése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Termékpiac: a fogyasztási cikkek (C) és a beruházási javak együttes piac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Csak két szereplő van: a háztartási (H) és a vállalati szféra (V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H kereslete: fogyasztási cikkek (C), a V kereslete beruházási javak (I) iránti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C ≤ W , és I ≤ S, azaz mindkét keresleti tényező korláto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akrojövedelem felhasználása tehát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Y = C + I. Ez adja a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66ff"/>
                </a:solidFill>
                <a:latin typeface="Arial Black"/>
              </a:rPr>
              <a:t>makrokeresletet (A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kínálati oldal maga a makrojövedelem (Y), amelyet vagy elfogyasztunk (C), vagy megtakarítunk (S). Y = C+S = </a:t>
            </a:r>
            <a:r>
              <a:rPr b="0" lang="hu-HU" sz="2400" spc="-1" strike="noStrike">
                <a:solidFill>
                  <a:srgbClr val="ff66ff"/>
                </a:solidFill>
                <a:latin typeface="Arial Black"/>
              </a:rPr>
              <a:t>(makrokínálat) A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 Black"/>
              </a:rPr>
              <a:t>A 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 Black"/>
              </a:rPr>
              <a:t>termékpiac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 Black"/>
              </a:rPr>
              <a:t> 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 Black"/>
              </a:rPr>
              <a:t>keresleti oldal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800" spc="-1" strike="noStrike" u="sng">
                <a:solidFill>
                  <a:srgbClr val="ff66ff"/>
                </a:solidFill>
                <a:uFillTx/>
                <a:latin typeface="Arial Black"/>
              </a:rPr>
              <a:t>A.) a fogyasztási kereslet (C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feltételezés: a keynesi abszolút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   jövedelemhipotézis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rövid távú az elemzé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a fogyasztási függvény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C= C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+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Y, aho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C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0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= autonóm fogyasztá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= fogyasztási határhajlandósá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a fogyasztási függvény alakja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- C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-ból indul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- meredeksége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, ami 0 &lt;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&lt; 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- rövid távon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állandó, a függvény lineár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- hosszú távon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csökkenő, a függvény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csökkenő meredekségű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"/>
          <p:cNvSpPr/>
          <p:nvPr/>
        </p:nvSpPr>
        <p:spPr>
          <a:xfrm>
            <a:off x="2050920" y="2205000"/>
            <a:ext cx="3603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072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A nem lineáris fogyasztási függvén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8982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fogyasztás csökkenő arányát a jövedelemben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függvény csökkenő meredeksége mutatj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2" name="4_1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129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66ff"/>
                </a:solidFill>
                <a:latin typeface="Arial Black"/>
              </a:rPr>
              <a:t>B.) a beruházási kereslet (I)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Beruházás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tartós használatú eszközök pótlása és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 bővítés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Beruházási kereslet itt: 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csak bővítő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jellegűek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beruházási kereslet meghatározó tényező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Származékos keresletűek        </a:t>
            </a:r>
            <a:r>
              <a:rPr b="0" lang="hu-HU" sz="2000" spc="-1" strike="noStrike">
                <a:solidFill>
                  <a:srgbClr val="ff66ff"/>
                </a:solidFill>
                <a:latin typeface="Arial Black"/>
              </a:rPr>
              <a:t>piacképes termelé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Szabad pénzeszköz (megtakarítás) legjobb hasznosulása, azaz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alternatív lehetőségekhez képest (pl. bankbetét) </a:t>
            </a:r>
            <a:r>
              <a:rPr b="0" lang="hu-HU" sz="2000" spc="-1" strike="noStrike">
                <a:solidFill>
                  <a:srgbClr val="ff66ff"/>
                </a:solidFill>
                <a:latin typeface="Arial Black"/>
              </a:rPr>
              <a:t>nagyobb hozadé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beruházás nettó hozamának kiszámítása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jövőbeli hozamok diszkontálása =  jelenérték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jelenérték egyik meghatározója: </a:t>
            </a:r>
            <a:r>
              <a:rPr b="0" lang="hu-HU" sz="2000" spc="-1" strike="noStrike">
                <a:solidFill>
                  <a:srgbClr val="ff66ff"/>
                </a:solidFill>
                <a:latin typeface="Arial Black"/>
              </a:rPr>
              <a:t>a piaci kamatláb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beruházási kereslet, a piaci kamatláb és a várakozások között függvényszerű kapcsolat van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3399"/>
                </a:solidFill>
                <a:latin typeface="Arial Black"/>
              </a:rPr>
              <a:t>I = I (i; </a:t>
            </a:r>
            <a:r>
              <a:rPr b="0" lang="el-GR" sz="2400" spc="-1" strike="noStrike">
                <a:solidFill>
                  <a:srgbClr val="ff3399"/>
                </a:solidFill>
                <a:latin typeface="Arial Black"/>
              </a:rPr>
              <a:t>η</a:t>
            </a:r>
            <a:r>
              <a:rPr b="0" lang="hu-HU" sz="2400" spc="-1" strike="noStrike">
                <a:solidFill>
                  <a:srgbClr val="ff3399"/>
                </a:solidFill>
                <a:latin typeface="Arial Black"/>
              </a:rPr>
              <a:t>) ahol a kamatlábbal (i) fordított, a várakozásokkal (</a:t>
            </a:r>
            <a:r>
              <a:rPr b="0" lang="el-GR" sz="2400" spc="-1" strike="noStrike">
                <a:solidFill>
                  <a:srgbClr val="ff3399"/>
                </a:solidFill>
                <a:latin typeface="Arial Black"/>
              </a:rPr>
              <a:t>η</a:t>
            </a:r>
            <a:r>
              <a:rPr b="0" lang="hu-HU" sz="2400" spc="-1" strike="noStrike">
                <a:solidFill>
                  <a:srgbClr val="ff3399"/>
                </a:solidFill>
                <a:latin typeface="Arial Black"/>
              </a:rPr>
              <a:t>) egyenes arányban változik a beruházási kereslet (I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4643280" y="2276640"/>
            <a:ext cx="4320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072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 makrogazdasági beruházási függvén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 Black"/>
              </a:rPr>
              <a:t>Adott egyéb feltételek között a beruházási függvény független a makrojövedelemt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õ</a:t>
            </a:r>
            <a:r>
              <a:rPr b="0" i="1" lang="hu-HU" sz="18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3399"/>
                </a:solidFill>
                <a:latin typeface="Arial Black"/>
              </a:rPr>
              <a:t>Σ</a:t>
            </a:r>
            <a:r>
              <a:rPr b="0" lang="hu-HU" sz="2800" spc="-1" strike="noStrike">
                <a:solidFill>
                  <a:srgbClr val="ff3399"/>
                </a:solidFill>
                <a:latin typeface="Arial Black"/>
              </a:rPr>
              <a:t>: A termékpiaci makrokereslet tehát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3399"/>
                </a:solidFill>
                <a:latin typeface="Arial Black"/>
              </a:rPr>
              <a:t>AD = C + I = C</a:t>
            </a:r>
            <a:r>
              <a:rPr b="0" lang="hu-HU" sz="2800" spc="-1" strike="noStrike" baseline="-25000">
                <a:solidFill>
                  <a:srgbClr val="ff3399"/>
                </a:solidFill>
                <a:latin typeface="Arial Black"/>
              </a:rPr>
              <a:t>0 </a:t>
            </a:r>
            <a:r>
              <a:rPr b="0" lang="hu-HU" sz="2800" spc="-1" strike="noStrike">
                <a:solidFill>
                  <a:srgbClr val="ff3399"/>
                </a:solidFill>
                <a:latin typeface="Arial Black"/>
              </a:rPr>
              <a:t>+ </a:t>
            </a:r>
            <a:r>
              <a:rPr b="0" lang="en-US" sz="2800" spc="-1" strike="noStrike">
                <a:solidFill>
                  <a:srgbClr val="ff3399"/>
                </a:solidFill>
                <a:latin typeface="Arial Black"/>
              </a:rPr>
              <a:t>ĉ</a:t>
            </a:r>
            <a:r>
              <a:rPr b="0" lang="hu-HU" sz="2800" spc="-1" strike="noStrike">
                <a:solidFill>
                  <a:srgbClr val="ff3399"/>
                </a:solidFill>
                <a:latin typeface="Arial Black"/>
              </a:rPr>
              <a:t>Y + 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4_3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18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458200" cy="65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cc00"/>
                </a:solidFill>
                <a:uFillTx/>
                <a:latin typeface="Arial Black"/>
              </a:rPr>
              <a:t>A termékpiac kínálati oldal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Fontos!</a:t>
            </a: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A kínálatot jövedelemként értelmezzük, amely fogyasztásra elköltött jövedelemből (C) és el nem költött jövedelemből (S= megtakarítások) áll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e1f08"/>
                </a:solidFill>
                <a:latin typeface="Arial Black"/>
              </a:rPr>
              <a:t>AS = C +S = 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megtakarítások:  Y - C = S ugyanúgy a makrojövedelem függvényei, mint a fogyasztá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e1f08"/>
                </a:solidFill>
                <a:latin typeface="Arial Black"/>
              </a:rPr>
              <a:t>A megtakarítási függvény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0" name="4_4" descr=""/>
          <p:cNvPicPr/>
          <p:nvPr/>
        </p:nvPicPr>
        <p:blipFill>
          <a:blip r:embed="rId1"/>
          <a:stretch/>
        </p:blipFill>
        <p:spPr>
          <a:xfrm>
            <a:off x="1908000" y="3645000"/>
            <a:ext cx="3743640" cy="24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9200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egtakarítási függvény jellemző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z autonóm megtakarítás miatt (S</a:t>
            </a:r>
            <a:r>
              <a:rPr b="0" lang="hu-HU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) az origó alól indul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Ez az autonóm megtakarítás = az autonóm fogyasztással (S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= C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függvény meredekségét a megtakarítási határhajlandóság adja (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ŝ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), amely = 1 –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megtakarítási határhajlandóság azt mutatja, hogy egységnyi plusz jövedelem hány százalékát hajlandók megtakarítani a gazdaságban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Miután a fogyasztási határhajlandóság és a megtakarítási határhajlandóság összege = 1, ha hosszabb távon a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 csökken, az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ŝ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 nőni fog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hol a megtakarítási függvény metszi az X tengelyt, ott a megtakarítás nulla, azaz a teljes makrojövedelem (Y) elfogyasztásra kerül (C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675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cc00"/>
                </a:solidFill>
                <a:uFillTx/>
                <a:latin typeface="Arial Black"/>
              </a:rPr>
              <a:t>Egyensúly a termékpiac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C(Y) + I (i ;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ŋ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) = C(Y) + S (Y)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azaz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e1f08"/>
                </a:solidFill>
                <a:latin typeface="Arial Black"/>
              </a:rPr>
              <a:t>I (i ;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ŋ</a:t>
            </a:r>
            <a:r>
              <a:rPr b="0" lang="hu-HU" sz="2800" spc="-1" strike="noStrike">
                <a:solidFill>
                  <a:srgbClr val="fe1f08"/>
                </a:solidFill>
                <a:latin typeface="Arial Black"/>
              </a:rPr>
              <a:t>) = S (Y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4ed234"/>
                </a:solidFill>
                <a:latin typeface="Arial Black"/>
              </a:rPr>
              <a:t>A termékpiaci egyensúly függ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makrojövedelemtől (Y), ami mindig reáljövedelem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kamatlábtól (i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várakozásoktól (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ŋ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, amitől egyenlőre eltekintün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IS görbe (Investment – Saving): minden pontja a reáljövedelem és a kamatláb olyan kombinációja, amelynél a termékpiac egyensúlyban va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IS görbe meredeksége negatív, mert a megtakarítások a jövedelemnek pozitív, míg a beruházások a kamatlábnak negatív függvényei, így a kettő viszonya fordított arányosságot mutat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1044720" y="0"/>
            <a:ext cx="101887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ed23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z  IS (investment-saving) görb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 termékpiaci egyensúly feltétele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ed234"/>
                </a:solidFill>
                <a:latin typeface="Arial Black"/>
              </a:rPr>
              <a:t>Csökkenő kamatlábhoz növekvő reáljövedelem kell tartozzon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Növekvő makrojövedelem       növekvő megtakarításo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ed234"/>
                </a:solidFill>
                <a:latin typeface="Arial Black"/>
              </a:rPr>
              <a:t>Csökkenő kamatláb       növekvő beruházáso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beruházások növekedését a növekvő megtakarítások finanszírozzá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99ff"/>
                </a:solidFill>
                <a:latin typeface="Arial Black"/>
              </a:rPr>
              <a:t>A jövőre vonatkozó pozitív várakozások a görbét jobbra toljá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4_5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400640" cy="3105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627280" y="5373720"/>
            <a:ext cx="2872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19640" y="4941720"/>
            <a:ext cx="3603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 makroökonómia tárgya és módszerei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spcAft>
                <a:spcPts val="240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makroökonómia tárgya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oknak a törvényszerűségeknek a feltárása, amelyek a gazdaság egészének kapcsolatait meghatározzák. Foglalkozik a nemzetgazdaság teljesítményét meghatározó tényezőkkel, a reál- és pénzfolyamatokkal, az egyensúlyi és egyensúlytalansági problémákkal, a kormányzati gazdaságpolitika lehetőségeivel és következményeive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-324360" y="259920"/>
            <a:ext cx="9720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z egyensúlyi jövedelem meghatározá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IS görbe mutatja, hogy minden adott „i” kamatláb meghatároz egy egyensúlyi jövedelmet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gyensúlyban: Y = Y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D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= Y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S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és Y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D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= C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+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Y + I 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349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Ebből az egyensúlyi jövedelem:</a:t>
            </a: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hu-HU" sz="2400" spc="-1" strike="noStrike">
                <a:solidFill>
                  <a:srgbClr val="fe1f08"/>
                </a:solidFill>
                <a:latin typeface="Arial Black"/>
              </a:rPr>
              <a:t>Y</a:t>
            </a:r>
            <a:r>
              <a:rPr b="1" lang="hu-HU" sz="2400" spc="-1" strike="noStrike" baseline="-25000">
                <a:solidFill>
                  <a:srgbClr val="fe1f08"/>
                </a:solidFill>
                <a:latin typeface="Arial Black"/>
              </a:rPr>
              <a:t>e</a:t>
            </a:r>
            <a:r>
              <a:rPr b="1" lang="hu-HU" sz="2400" spc="-1" strike="noStrike">
                <a:solidFill>
                  <a:srgbClr val="fe1f08"/>
                </a:solidFill>
                <a:latin typeface="Arial Black"/>
              </a:rPr>
              <a:t> = 1 / (1 –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) </a:t>
            </a:r>
            <a:r>
              <a:rPr b="1" lang="hu-HU" sz="2400" spc="-1" strike="noStrike">
                <a:solidFill>
                  <a:srgbClr val="fe1f08"/>
                </a:solidFill>
                <a:latin typeface="Arial Black"/>
              </a:rPr>
              <a:t>( C</a:t>
            </a:r>
            <a:r>
              <a:rPr b="1" lang="hu-HU" sz="2400" spc="-1" strike="noStrike" baseline="-25000">
                <a:solidFill>
                  <a:srgbClr val="fe1f08"/>
                </a:solidFill>
                <a:latin typeface="Arial Black"/>
              </a:rPr>
              <a:t>0</a:t>
            </a:r>
            <a:r>
              <a:rPr b="1" lang="hu-HU" sz="2400" spc="-1" strike="noStrike">
                <a:solidFill>
                  <a:srgbClr val="fe1f08"/>
                </a:solidFill>
                <a:latin typeface="Arial Black"/>
              </a:rPr>
              <a:t> + I 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beruházások hatását az egyensúlyi jövedelemre az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Y</a:t>
            </a:r>
            <a:r>
              <a:rPr b="1" lang="hu-HU" sz="2400" spc="-1" strike="noStrike" baseline="-25000">
                <a:solidFill>
                  <a:srgbClr val="ffcc00"/>
                </a:solidFill>
                <a:latin typeface="Arial Black"/>
              </a:rPr>
              <a:t>e </a:t>
            </a:r>
            <a:r>
              <a:rPr b="1" lang="hu-HU" sz="2400" spc="-1" strike="noStrike">
                <a:solidFill>
                  <a:srgbClr val="ffcc00"/>
                </a:solidFill>
                <a:latin typeface="Arial Black"/>
              </a:rPr>
              <a:t>függvény I szerinti deriváltja adja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                 </a:t>
            </a:r>
            <a:r>
              <a:rPr b="1" lang="hu-HU" sz="2000" spc="-1" strike="noStrike">
                <a:solidFill>
                  <a:srgbClr val="ffcc00"/>
                </a:solidFill>
                <a:latin typeface="Arial Black"/>
              </a:rPr>
              <a:t>(1 –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</a:t>
            </a:r>
            <a:r>
              <a:rPr b="0" lang="hu-HU" sz="2000" spc="-1" strike="noStrike">
                <a:solidFill>
                  <a:srgbClr val="fe1f08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z a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beruházási multiplikátor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, amely nagyobb egynél, ezért egységnyi beruházás önmagánál nagyobb mértékben növeli a  makrojövedeme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5880240" y="2768760"/>
                <a:ext cx="134460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4284720" y="4653000"/>
            <a:ext cx="934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z egyensúlyi jövedelem grafikus ábrázolása a termékpiacon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árupiaci </a:t>
            </a:r>
            <a:r>
              <a:rPr b="0" lang="hu-HU" sz="2000" spc="-1" strike="noStrike">
                <a:solidFill>
                  <a:srgbClr val="ff3399"/>
                </a:solidFill>
                <a:latin typeface="Arial Black"/>
              </a:rPr>
              <a:t>keresletet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a (C+I) összege adja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egyensúlyi jövedelem (Y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e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 ott van, ahol ez megegyezik az árupiaci </a:t>
            </a:r>
            <a:r>
              <a:rPr b="0" lang="hu-HU" sz="2000" spc="-1" strike="noStrike">
                <a:solidFill>
                  <a:srgbClr val="ff3399"/>
                </a:solidFill>
                <a:latin typeface="Arial Black"/>
              </a:rPr>
              <a:t>kínálattal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(45</a:t>
            </a:r>
            <a:r>
              <a:rPr b="0" lang="hu-HU" sz="2000" spc="-1" strike="noStrike" baseline="30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-os egyenes mentén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Ebben az esetben a két tengelytől való távolság egyforma, a kereslet megegyezik a kínálattal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4_7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11164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. előadás: A pénzpiac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Feltételezése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Pénzen a tökéletesen likvid pénzt + értékpapírok értjü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Értékpapíron csak a végtelen lejáratú, fix kamatozásút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Reálértelemben használjuk a kategóriákat (pl reálkamat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makro-pénzkínálatot adottnak vesszü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Pénzpiaci elemzés középpontja: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pénzkereslet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  meghatározás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pénzkereslet értelmezése: a gazdasági szereplők pénztartási igénye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lasszikus felfogás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Fischer-képletből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dott árakon és forgási sebességnél </a:t>
            </a:r>
            <a:r>
              <a:rPr b="0" lang="hu-HU" sz="2000" spc="-1" strike="noStrike">
                <a:solidFill>
                  <a:srgbClr val="fe1f08"/>
                </a:solidFill>
                <a:latin typeface="Arial Black"/>
              </a:rPr>
              <a:t>a pénzkereslet csak a makrojövedelemtől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függ, annak pozitív függvény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eynesi felfogás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a pénzkereslet mástól is függ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Óvatossági pénzkereslet és 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Spekulációs pénzkereslet a </a:t>
            </a:r>
            <a:r>
              <a:rPr b="0" lang="hu-HU" sz="2000" spc="-1" strike="noStrike">
                <a:solidFill>
                  <a:srgbClr val="fe1f08"/>
                </a:solidFill>
                <a:latin typeface="Arial Black"/>
              </a:rPr>
              <a:t>kamatláb függvénye i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6948360" y="4724280"/>
            <a:ext cx="7192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cc00"/>
                </a:solidFill>
                <a:uFillTx/>
                <a:latin typeface="Arial Black"/>
              </a:rPr>
              <a:t>A pénzpiaci kereslet Keynesné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Négy fő motívum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Jövedelmi motívum          a klassziku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Üzleti motívum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            pénzkeresle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Óvatossági motívu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Spekulációs motívu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utóbbi kettő kamatláb-függő, mert részben vagy egészben az értékpapírok piacára irányul.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(Itt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fix kamatú, lejárat nélküli papír, aminek kamatlába megegyezik a piacival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66ff"/>
                </a:solidFill>
                <a:latin typeface="Arial Black"/>
              </a:rPr>
              <a:t>Az értékpapírok kamatlába =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az: az értékpapírok árfolyama és a piaci kamatláb ellentétesen változi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övetkeztetés: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ha a piaci kamatláb nő, a spekulációs pénzkereslet csökken, és fordítv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435640" y="3860640"/>
                <a:ext cx="24480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amatjövedele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folya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4356000" y="1125360"/>
            <a:ext cx="71640" cy="574920"/>
          </a:xfrm>
          <a:custGeom>
            <a:avLst/>
            <a:gdLst>
              <a:gd name="textAreaLeft" fmla="*/ 0 w 71640"/>
              <a:gd name="textAreaRight" fmla="*/ 25920 w 7164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cc00"/>
                </a:solidFill>
                <a:uFillTx/>
                <a:latin typeface="Arial Black"/>
              </a:rPr>
              <a:t>A pénzpiaci egyensú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Pénzpiaci egyensúly: ha a pénzkínálat megegyezik a pénzkereslett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Pénzkínálat állandó (fix)és reálértelmű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Pénzkereslet két változótól függ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1. a reáljövedelemtől (Y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2. a reálkamatlábtól (i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af273e"/>
                </a:solidFill>
                <a:latin typeface="Arial Black"/>
              </a:rPr>
              <a:t>Egyensúlyi helyzet:</a:t>
            </a:r>
            <a:r>
              <a:rPr b="0" lang="hu-HU" sz="2800" spc="-1" strike="noStrike">
                <a:solidFill>
                  <a:srgbClr val="af273e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af273e"/>
                </a:solidFill>
                <a:latin typeface="Arial Black"/>
              </a:rPr>
              <a:t>M</a:t>
            </a:r>
            <a:r>
              <a:rPr b="0" lang="hu-HU" sz="2800" spc="-1" strike="noStrike" baseline="-25000">
                <a:solidFill>
                  <a:srgbClr val="af273e"/>
                </a:solidFill>
                <a:latin typeface="Arial Black"/>
              </a:rPr>
              <a:t>D</a:t>
            </a:r>
            <a:r>
              <a:rPr b="0" lang="hu-HU" sz="2800" spc="-1" strike="noStrike">
                <a:solidFill>
                  <a:srgbClr val="af273e"/>
                </a:solidFill>
                <a:latin typeface="Arial Black"/>
              </a:rPr>
              <a:t> ( Y ; i ) = M</a:t>
            </a:r>
            <a:r>
              <a:rPr b="0" lang="hu-HU" sz="2800" spc="-1" strike="noStrike" baseline="-25000">
                <a:solidFill>
                  <a:srgbClr val="af273e"/>
                </a:solidFill>
                <a:latin typeface="Arial Black"/>
              </a:rPr>
              <a:t>2 </a:t>
            </a:r>
            <a:r>
              <a:rPr b="0" lang="hu-HU" sz="2800" spc="-1" strike="noStrike">
                <a:solidFill>
                  <a:srgbClr val="af273e"/>
                </a:solidFill>
                <a:latin typeface="Arial Black"/>
              </a:rPr>
              <a:t>/ 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hol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hu-HU" sz="2800" spc="-1" strike="noStrike" baseline="-25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nominális pénzmennyisé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P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árszínvon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övetkeztetés: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csak meghatározott reáljövedelem – kamatláb kombinációkban áll fenn a pénzpiaci egyensúl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10200" y="1981080"/>
                <a:ext cx="108576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19920" y="4896000"/>
                <a:ext cx="1066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amatjövedele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folya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796000" y="3716280"/>
                <a:ext cx="1066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amatjövedele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folya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796000" y="3716280"/>
                <a:ext cx="1066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amatjövedele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folya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cc00"/>
                </a:solidFill>
                <a:uFillTx/>
                <a:latin typeface="Arial Black"/>
              </a:rPr>
              <a:t>Az L M görbe és értelmezé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Definíció: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Liquidity-Money (LM) görbe azon reáljövedelem és reálkamatláb kombinációk halmaza, amelyek mellett a pénzpiac egyensúlyban va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7" name="5_1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561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z LM görbe jellemző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Meredeksége pozitív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, mert ha Y nő, nő a pénzkereslet, de csökken az értékpapíroké, ami csökkenti árfolyamukat. Ez megnöveli a kamatlábat: azaz Y és i egy irányba mozog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pénzpiaci stabilitás feltétele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: </a:t>
            </a: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ha nő a reáljövedelem, növekvő kamatlábak kellenének a pénzpiac egyensúlyának megtartásához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Ha változik a reálpénzkínálat (M/P)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LM görbe eltolódik.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Például.: ha az M/P növekszik, az LM görbe jobbra tolódik. Ennek két eset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66ff"/>
                </a:solidFill>
                <a:latin typeface="Arial Black"/>
              </a:rPr>
              <a:t>1.  nő a nominális pénzkínálat (ceteris paribu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66ff"/>
                </a:solidFill>
                <a:latin typeface="Arial Black"/>
              </a:rPr>
              <a:t>2.  csökken az árszínvonal (c.p.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Ha a reálpénzkínálat csökken, az LM görbe balra tolódik, azaz pl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66ff"/>
                </a:solidFill>
                <a:latin typeface="Arial Black"/>
              </a:rPr>
              <a:t>ha nő az árszínvonal (c.p.), a kamatlábnak nőnie   kell, hogy a pénzpiaci egyensúly fennmaradjon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6. előadás: Az általános egyensúly modellezé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Kiindulás: a különböző piacok 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együttes egyensúlyi feltételeinek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elemzé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1. A makrogazdasági egyensúly értelmezése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összkibocsátás (Q) felhasználása adja a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makrokereslet = (C+I+G+netEX)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és a makrojövedelem (Y) mint forrás adja a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makrokínálatot  = (C+S+T)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Az aggregált egyensúly olyan kitüntetett állapot, amelyben a szándékolt makrokereslet megegyezik a szándékolt makrokínálatt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gyszerűsítésként most még eltekintünk a kormányzattól és a külföldtől (G, T, netEX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2. A termékpiac és a pénzpiac 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 együttes egyensúly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Feltételezés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mindkét piacon változatla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árszínvonal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reálpénz-mennyiség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övetkeztetés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mindkét piac a reáljövedelem és a kamatláb függvény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ctr">
              <a:lnSpc>
                <a:spcPct val="90000"/>
              </a:lnSpc>
              <a:spcBef>
                <a:spcPts val="1500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I (i ;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ŋ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)  =  S (Y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ctr">
              <a:lnSpc>
                <a:spcPct val="90000"/>
              </a:lnSpc>
              <a:spcBef>
                <a:spcPts val="1500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D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(Y ; i)   = M/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A két piac egyszerre akkor lesz egyensúlyban, ha egyetlen reáljövedelem – kamatláb kombináció valósul meg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ctr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(Y</a:t>
            </a:r>
            <a:r>
              <a:rPr b="0" lang="hu-HU" sz="2400" spc="-1" strike="noStrike" baseline="30000">
                <a:solidFill>
                  <a:srgbClr val="fe1f08"/>
                </a:solidFill>
                <a:latin typeface="Arial Black"/>
              </a:rPr>
              <a:t>*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 ; i</a:t>
            </a:r>
            <a:r>
              <a:rPr b="0" lang="hu-HU" sz="2400" spc="-1" strike="noStrike" baseline="30000">
                <a:solidFill>
                  <a:srgbClr val="fe1f08"/>
                </a:solidFill>
                <a:latin typeface="Arial Black"/>
              </a:rPr>
              <a:t>*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nnek grafikus megjelenítése az IS-LM rendszer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termék- és pénzpiac együttes egyensúlya az IS-LM görbék metszéspontjában találhat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4" name="6_1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688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makroökonómia módszerei</a:t>
            </a:r>
            <a:br>
              <a:rPr sz="3600"/>
            </a:b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1. Kettős aggregálás</a:t>
            </a: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azdasági szférá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áztartási szféra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állalati szféra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ormányzati szféra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ankszféra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ülföld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termékcsoportok</a:t>
            </a:r>
            <a:br>
              <a:rPr sz="2400"/>
            </a:b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kenyé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pékáru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élelmiszere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fogyasztási cikke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ggregált outpu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059280" y="1628640"/>
            <a:ext cx="1008000" cy="36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59280" y="1628640"/>
            <a:ext cx="792360" cy="36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2924280"/>
            <a:ext cx="0" cy="1873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Összefoglalva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termékpiaci kereslet a C+I együttes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„C” az Y függvénye, míg az „I” az „i”-é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„i” (kamatláb) a beruházásokon keresztül a makrojövedelmet határozza meg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kínálati oldalon a megtakarítások (S) az „Y”-tól függnek, és meghatározzák a beruházásokat (I), amelyek viszont az „i” függvényei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kamatláb ugyanakkor a pénzpiacon alakul ki, ahol a makrojövedelem függvénye lesz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A végeredmény: a termékpiacon az „i” meghatározza az „Y”-t, amely a pénzpiacon a kamatlábat (i) határozza meg.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Ezért a két piac együttes egyensúlya csak ugyanazon „Y” és „i” kombinációban lehe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3. A makroökonómiai egyensúly klasszikus felfogás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iinduló feltételek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árak és kamatok rugalmassága gyorsan korrigálja mindegyik piacot, és az egyensúly irányába tere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termékek eladása elég jövedelmet biztosít az összes kínálat megvételéhez (Say-dogma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piaci önkorrekció miatt nincs szükség külső beavatkozásr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 klasszikus keresleti függvén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ennyiségi pénzelméletből adódi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M . f = P . Y,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hol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ha a forgási sebesség (f) állandó, a (P.Y)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makrokereslet csak a pénz mennyiségtől függ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klasszikus makrokínálati függvény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unkapiacon a bérek rugalmassága mindig egyensúlyt teremt, azaz teljes a foglalkoztatá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dott tőkeállomány mellett  így a gazdaság teljesítménye a potenciális kibocsátásnál va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z a potenciális kibocsátás nem függ keresleti tényezőktől (pl.  piaci ár), csak kínálati meghatározottságú.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lakja ezért egy függőleges egyen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"/>
          <p:cNvSpPr/>
          <p:nvPr/>
        </p:nvSpPr>
        <p:spPr>
          <a:xfrm>
            <a:off x="1800" y="-7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9" name="6_3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4. A makroegyensúly Keynesné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z aggregált keresleti függvén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Formailag olyan, mint a klasszikus 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akrokeresletet nem csak a pénzmennyiség, hanem sok más tényező is mozgatja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autonóm fogyasztás (C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autonóm beruházások (I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fogyasztói és befektetői várakozások (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ŋ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és a kormányzat + a külföld, amiktől eltekintettün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z aggregált kínálati függvén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ltérően a klasszikustól, nem függőleges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Oka: a munkapiacon tartós, kényszerű munkanélküliség van, ezért a gazdaság a potenciális kibocsátás alatt működi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Így a kínálatot keresleti tényezők is befolyásolják (ár), azaz növekvő függvénye lesz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 keynesi makrogazdasági egyensú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ábra azt mutatja, hogy makroegyensúly a potenciális kibocsátás alatt is létrejön (E pontok), de ez munkanélküliséggel és kapacitás-kihasználatlansággal jár, azaz a gazdaság hatékonytalanul működi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-108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-5868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3" name="6_5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29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. A két modell összehasonlítás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00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Klasszik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Teljes foglalkoztatás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 kibocsátása  potenciális szinten van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dott pénzmennyiség mellett ez meghatározza az egyensúlyi árszintet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 kamatláb egyensúlyban tartja a megtakarításokat a beruházásokkal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Ezek a jövedelmekkel együtt meghatározzák a keresletet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z összkereslet az egyensúlyi árszinten egyensúlyba kerül az összkínálattal a potenciális kibocsátáson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z állami beavatkozás káros és szükségtelen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1640" y="1341360"/>
            <a:ext cx="4824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Keynes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Nincs teljes foglalkoztatás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 kibocsátás a potenciális alatt lesz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 pénzpiac kialakítja a piaci kamatlábat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Ez meghatározza a beruházási keresletet, ami eltérhet a megtakarításoktól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 „I” és a „C” meghatározza az összkeresletet (Y</a:t>
            </a:r>
            <a:r>
              <a:rPr b="0" lang="hu-HU" sz="1800" spc="-1" strike="noStrike" baseline="-25000">
                <a:solidFill>
                  <a:srgbClr val="ffcc00"/>
                </a:solidFill>
                <a:latin typeface="Arial Black"/>
              </a:rPr>
              <a:t>D</a:t>
            </a: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)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z összkereslet elmarad a potenciális kibocsátástól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A kereslet mesterséges növelése az állam segítségét igényli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7. előadás: Makrogazdasági egyensúlytalanságo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-252360" y="1341360"/>
            <a:ext cx="9648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e1f08"/>
                </a:solidFill>
                <a:latin typeface="Arial Black"/>
              </a:rPr>
              <a:t>1.  Egyensúlytalanság a munkapiac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Két eset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kereslet nagyobb mint a kínálat (munkahiány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kínálat nagyobb mint a kereslet (munkanélküliség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 munkanélküliség problémá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L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S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&gt;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L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D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esetben a tényleges foglalkoztatás L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D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L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S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– L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D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a munkanélküliség nagysága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egyensúlyhoz a reálbérek csökkenése kell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nnek több akadálya va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-37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szakszervezetek ellenállása (bérharcok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-37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háromoldalú bértárgyalások bér-rögzítés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-37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állami minimálbér-megállapítá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-37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állami alkalmazottak bérbesorolás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Fentiek miatt a piac nem képes a korrekciór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 munkanélküliség értelmezése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Közgazdaság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Statisztika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Szociális-adminisztratí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 munkanélküliség típusa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Frikciós (súrlódásos)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oka a munkapiac természetes ingadozása és sajátosságai. A klasszikus nézetben ezek nem munkanélküliek, azaz teljes a foglalkoztatá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Strukturáli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oka egyes struktúrákon belüli meg nem felelés (pl. szakképzettségben, területi elhelyezkedésben..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Nem szükségszerűen vezet globális munkanélküliséghez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Konjunkturális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gazdaság hullámzó teljesítménye váltja ki, ami általában globális, tartós és kényszerű jellegű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 munkanélküliség méré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bszulút számmal (stock-mutató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Viszonyszámmal (%-os forma)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viszonyítási alap nem lehet a teljes népesség, csak annak 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gazdaságilag aktív része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gazdaságilag aktívak a munkaerőforrásnak a gazdaságilag inaktívak feletti része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munkaerőforrás nagyjából a munkaképes korú népességet jelenti (16-62 éves korosztályok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munkanélküliségi ráta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U</a:t>
            </a:r>
            <a:r>
              <a:rPr b="0" lang="hu-HU" sz="2400" spc="-1" strike="noStrike" baseline="-25000">
                <a:solidFill>
                  <a:srgbClr val="fe1f08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U (%) =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   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G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hol:   U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R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a regisztrált munkanélküliek száma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GA a gazdaságilag aktívak szám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munkanélküliség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ezelé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4330800" y="3537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4546440" y="3753000"/>
                <a:ext cx="9144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410080" y="461628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5508720" y="4437000"/>
            <a:ext cx="934920" cy="0"/>
          </a:xfrm>
          <a:prstGeom prst="line">
            <a:avLst/>
          </a:prstGeom>
          <a:ln w="93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e1f08"/>
                </a:solidFill>
                <a:latin typeface="Arial Black"/>
              </a:rPr>
              <a:t>2.  Egyensúlytalanság a pénzpiac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ffcc00"/>
                </a:solidFill>
                <a:uFillTx/>
                <a:latin typeface="Arial Black"/>
              </a:rPr>
              <a:t>Az infláció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infláció fogalma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: az általános árszínvonal tartós és folyamatos emelkedés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általános árszínvonal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: az összes termék (szolgáltatás) árának súlyozott számtani átlag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nnek változását nincs mód követni, ezért az árszínvonal változását leszűkített termék –csoportokra vizsgálju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Fogyasztói árindex (CPI):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a háztartások fogyasztói kosarának (kb.2000 cikk) árváltozásának mérték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Termelői árindex (PPI):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a termelők által leginkább vásárolt kosár (kb. 1600 cikk) árváltozási mérték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Ipari, mezőgazdasági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, stb árindex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Az infláció mértékét rendszerint a CPI mértékével fejezik ki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. Mérleg-készíté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mérleg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lyan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étoldalú kimutatás, amelynek egyik oldalán az eszközök forrásuk, a másikon felhasználásuk szerint értékben vannak összesítve adott időpontba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mérlegek főbb fajtá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. a termelés (teljesítmény) mérlege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. az ágazati kapcsolatok mérlege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. az államháztartás mérle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. a nemzetközi fizetési mérle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. statikus és dinamikus mérlege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fogyasztói árindex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p =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infláció mérték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Kúszó infláció: egyszámjegyű, megbízható kalkulációra alkalma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Vágtató infláció: 2-3 számjegyű, vagyonmentésre ösztönöz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Hiperinfláció: megszünteti a pénz használatá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infláció hatása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Csökkenti a nominális változók reálértékét (ceteris paribus)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csökkenti a reálbért a munkapiacon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csökkenti a reálkamatot a pénzpiacon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 Black"/>
              </a:rPr>
              <a:t>csökkenti a vásárlóerőt a termékpiacon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99ff"/>
                </a:solidFill>
                <a:latin typeface="Arial Black"/>
              </a:rPr>
              <a:t>A pénz vásárlóereje az inflációs ráta reciprok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173640" y="1981080"/>
                <a:ext cx="7574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6173640" y="4114800"/>
                <a:ext cx="7574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4280040" y="3206880"/>
                <a:ext cx="583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700360" y="765000"/>
                <a:ext cx="2314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z infláció oka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Általános ok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a termelési és a jövedelmi (pénz-) folyamatok elszakadás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eresleti inflációs oko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Pl. az autonóm fogyasztás és a nominálbérek indokolatlan emelkedése megnövelik a makrofogyasztást (C), és ezen keresztül a makrokeresletet (bér-ár spirál);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magán-beruházások túlzott mértéke (I) ugyancsak ilyen hatású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kormányzat túlzott költekezése (erre még visszatérünk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pénz mennyiségének (kínálatának) megnövekedése (ez a monetarizmus szerinti fő ok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anticipált (előre várt) infláció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monopolista árképzés és árpolitik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ínálati (költség) inflációs oko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inputok árának (pl. nyersanyagok) emelkedése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Importtermékek áremelkedése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Ár-bér spirál hatása a költségek emelkedésér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8. előadás: Az állam, mint a makrogazdaság befolyásolója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1. Az állam, mint gazdasági szereplő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 Black"/>
              </a:rPr>
              <a:t>Az állam gazdasági feladata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Stabilizációs feladato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Jogi és intézményi feltétele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Egyensúlytalansági helyzetek korrigálása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Gazdasági hullámzás tompítás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Redisztibúciós (elosztási) feladato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Jövedelem szerzése (költségvetési források) és újraelosztása különböző célokr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99ff"/>
                </a:solidFill>
                <a:latin typeface="Arial Black"/>
              </a:rPr>
              <a:t>Allokációs (felhalmozási) feladato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Nem profitabilis tevékenységek működtetése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Nagy tőkeerejű és hosszú megtérülésű tevékenységek működtetése és fejlesztés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 Black"/>
              </a:rPr>
              <a:t>Az állam gazdaságpolitikáj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A gazdaságpolitika  értelmezé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A gazdaságpolitika fő célja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gazdasági stabilitás biztosítása, megőrzése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gazdasági növekedés elősegítése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gazdasági struktúraváltás támogatása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jövedelemeloszlás befolyásolás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A gazdaságpolitika fő eszköze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költségvetési politika (fiskális politika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onetáris (pénzügyi) politika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külgazdasági politika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Institucionális döntések (jogszabályok, intézmények működtetése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 Black"/>
              </a:rPr>
              <a:t>Az államháztartás: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Fogalma: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a teljes közösségi irányító, szervező és gazdasági tevékenységek összessége és ezek intézményrendsze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1749"/>
              </a:spcBef>
              <a:spcAft>
                <a:spcPts val="1049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Az államháztartás alrendszere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központi kormányzat (állam) költségvetése és költségvetési intézményei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helyi és területi önkormányzatok költségvetése és intézményei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társadalombiztosítás ( nyugdíjbizt. és az  egészségbizt. költségvetése és intézményei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elkülönített állami pénzalapok és az állami vagyonnal való gazdálkodá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2. Az állami költségvetés alapfogalma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Fogalma: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állam bevételeit és kiadásait tartalmazó mérleg és előirányzat (politika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A költségvetés mérlege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Bevétele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vállalatok/vállalkozások adója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háztartások adóbefizetései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fogyasztáshoz kapcsolt adók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költségvetési szervek befizetései, stb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iadáso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költségvetési szervek kiadásai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államháztartás alrendszereinek támogatása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szociális rendszer kiadásai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adósságszolgálat kiadásai, stb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mérleg lehetséges egyenlege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szufficites költségvetés (bevételi többlet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deficites költségvetés (kiadási többlet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ficites költségvetés (egyensúlyi költségveté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költségvetés bevételi oldalának elemzé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z adóztatás alapfogalma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z adó: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z állam fő bevételi forrása, amelyet törvényi felhatalmazással vet ki, és ezért fizetése kikényszeríthető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dóztatási alapelve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 horizontális igazságosság elve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 vertikális igazságosság elve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 haszonelv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z adók főbb csoportja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dóviselés alapján: egyenes adó vagy közvetett adó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jövedelemhez való viszony szerint: jövedelemtől függő (kulcsos) vagy attól független (fix) adó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-468360" y="0"/>
            <a:ext cx="1029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343880" indent="-447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adók felosztása az elemzésbe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-37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Egyösszegű adók vagy autonóm adók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(ezeket nevezik jövedelemtől független adóknak is), jele T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0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-3729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Kulcsos adók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(jövedelemtől függnek az adókulcs arányában), jele: zY, ahol „z” az adókulc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-3729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A kulcsos adók típusai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: - lineáris (állandó adókulc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1654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- progresszív (növekvő kulc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1654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- degresszív (csökkenő kulc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970560" indent="-522720">
              <a:lnSpc>
                <a:spcPct val="90000"/>
              </a:lnSpc>
              <a:spcAft>
                <a:spcPts val="1199"/>
              </a:spcAft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költségvetés kiadási oldal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343880" indent="-447840">
              <a:lnSpc>
                <a:spcPct val="90000"/>
              </a:lnSpc>
              <a:spcAft>
                <a:spcPts val="1049"/>
              </a:spcAft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 kormányzati kiadások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-37296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ormányzati vásárlások  (G).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Leegyszerűsítve a költségvetésből a magánszférától történő vásárlások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Ide tartoznak pl. a kulturális, egészségügyi, infrastrukturális kiadások, és az állami alkalmazottak díjazás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-37296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transzferkiadások (TR).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gazdasági szférákhoz ellenszolgáltatás nélkül juttatott jövedelme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71720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9. előadás: A költségvetési politika hatásai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96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1. Az adóztatás hatása a gazdaságr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özvetlen hatások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költségvetésnek bevétel, kiadásainak forrása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háztartások és vállalatok rendelkezésre álló jövedelmét csökkenti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adók jövedelemcsökkentő hatása áttételeken keresztül érvényesü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z egyösszegű adók (T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) hatása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Csökkentik a fogyasztást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: a C = C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+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Y fogy. függvény megváltozik, és ezen keresztül az egyensúlyi  makrojövedelem is, 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de nem a T</a:t>
            </a:r>
            <a:r>
              <a:rPr b="0" lang="hu-HU" sz="2400" spc="-1" strike="noStrike" baseline="-25000">
                <a:solidFill>
                  <a:srgbClr val="fe1f08"/>
                </a:solidFill>
                <a:latin typeface="Arial Black"/>
              </a:rPr>
              <a:t>0</a:t>
            </a:r>
            <a:r>
              <a:rPr b="0" lang="hu-HU" sz="2400" spc="-1" strike="noStrike">
                <a:solidFill>
                  <a:srgbClr val="fe1f08"/>
                </a:solidFill>
                <a:latin typeface="Arial Black"/>
              </a:rPr>
              <a:t>-al arányosan. Az adómultiplikátor: </a:t>
            </a:r>
            <a:r>
              <a:rPr b="0" lang="hu-HU" sz="2800" spc="-1" strike="noStrike">
                <a:solidFill>
                  <a:srgbClr val="fe1f08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ĉ</a:t>
            </a:r>
            <a:r>
              <a:rPr b="0" lang="hu-HU" sz="2800" spc="-1" strike="noStrike">
                <a:solidFill>
                  <a:srgbClr val="fe1f08"/>
                </a:solidFill>
                <a:latin typeface="Arial Black"/>
              </a:rPr>
              <a:t>/1-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ĉ</a:t>
            </a:r>
            <a:r>
              <a:rPr b="0" lang="hu-HU" sz="2800" spc="-1" strike="noStrike">
                <a:solidFill>
                  <a:srgbClr val="fe1f08"/>
                </a:solidFill>
                <a:latin typeface="Arial Black"/>
              </a:rPr>
              <a:t>)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Y = (1/1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)(C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+ I) -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/1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) T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z 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egyösszegű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 adók hatása grafikus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Az egyösszegű adók hatása az egyensúlyi jövedelemre (Y), az IS – görbére és az aggregált keresletre (AD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4" name="9_1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624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. Modell-alkotá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odell: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valóság leegyszerűsített leírása, amely egy bonyolult rendszer alapvető vonásainak tartós, lényeges összefüggéseit ábrázolj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8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odell elemei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exogén változók (a modell külső adottságai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endogén változók (a modell belső változói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odellek időhorizontja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Rövid távú modell: csak egy változó hatását nézzük (ceteris paribus feltétel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Hosszú távú modell: több változó együttes hatását vizsgáljuk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 jövedelemtől függő adók hatá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adó zY, így a C = C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+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(1-z)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akrojövedelem: Y = C</a:t>
            </a:r>
            <a:r>
              <a:rPr b="0" lang="hu-HU" sz="24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+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(Y-zY) + I + 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miből 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dódi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Mindez azt jelenti, hogy a korábbi 1/1-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kiadási multiplikátor megváltozik (annál jobban csökken, minél magasabb az adókulcs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az minél magasabb az adókulcs, annál kisebb mértékben növelik az autonóm kiadási tételek (C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, I és G) a makrojövedelmet (Y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Grafikusan ez a fogyasztási függvény kisebb meredekségében nyilvánul meg. Lásd a következő ábrát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810400" y="2762280"/>
                <a:ext cx="1485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979640" y="1773360"/>
                <a:ext cx="3384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45820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kulcsos adók hatása grafikus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05600" indent="-271440">
              <a:lnSpc>
                <a:spcPct val="90000"/>
              </a:lnSpc>
              <a:spcBef>
                <a:spcPts val="15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99ff"/>
                </a:solidFill>
                <a:latin typeface="Arial Black"/>
              </a:rPr>
              <a:t>Az adókulcs növekedése mind laposabb C+I+G összkeresleti függvényt ad, ami egyre kisebb egyensúlyi jövedelmet indukál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056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0" name="9_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6409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2. A költségvetési kiadások hatása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z állami bérkifizetések hatá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z állam vásárlásainak hatása     </a:t>
            </a:r>
            <a:r>
              <a:rPr b="0" lang="hu-HU" sz="2800" spc="-1" strike="noStrike">
                <a:solidFill>
                  <a:srgbClr val="4ed234"/>
                </a:solidFill>
                <a:latin typeface="Arial Black"/>
              </a:rPr>
              <a:t>hasonló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99ff"/>
                </a:solidFill>
                <a:latin typeface="Arial Black"/>
              </a:rPr>
              <a:t>A tovagyűrűző keresletnövelő hatás a kiadási multiplikátor nagyságától függ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A multiplikatív hatás grafikusan pl. az állami beruházásokra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7093080" y="692280"/>
            <a:ext cx="71280" cy="720720"/>
          </a:xfrm>
          <a:custGeom>
            <a:avLst/>
            <a:gdLst>
              <a:gd name="textAreaLeft" fmla="*/ 0 w 71280"/>
              <a:gd name="textAreaRight" fmla="*/ 2556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ed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28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4" name="9_4" descr=""/>
          <p:cNvPicPr/>
          <p:nvPr/>
        </p:nvPicPr>
        <p:blipFill>
          <a:blip r:embed="rId1"/>
          <a:stretch/>
        </p:blipFill>
        <p:spPr>
          <a:xfrm>
            <a:off x="1619280" y="3573360"/>
            <a:ext cx="55450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-468720" y="0"/>
            <a:ext cx="9936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ed234"/>
                </a:solidFill>
                <a:latin typeface="Arial Black"/>
              </a:rPr>
              <a:t>Az adóztatás és a kormányzati kiadások együttes hatá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Mindkettő tovagyűrűző hatása multiplikatív, azaz megsokszorozódó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mennyiben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&lt;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1, az adómultiplikátor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/ (1–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 kisebb, mint a kiadási multiplikátor, ami 1/ (1-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Ebből következik, hogy </a:t>
            </a:r>
            <a:r>
              <a:rPr b="0" lang="hu-HU" sz="2000" spc="-1" strike="noStrike">
                <a:solidFill>
                  <a:srgbClr val="4ed234"/>
                </a:solidFill>
                <a:latin typeface="Arial Black"/>
              </a:rPr>
              <a:t>a költségvetési kiadások hatása a makrojövedelem növelésére nagyobb, mint az adók makrojövedelmet csökkentő hatása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Ha egyensúlyi költségvetést feltételezünk, ahol az adóbevételek (T)=(G) megegyeznek a kiadásokkal, a nettó jövedelemnövelő hatás(Y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n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 = Y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G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– Y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T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, azaz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miből Y</a:t>
            </a:r>
            <a:r>
              <a:rPr b="0" lang="hu-HU" sz="2000" spc="-1" strike="noStrike" baseline="-25000">
                <a:solidFill>
                  <a:srgbClr val="ffcc00"/>
                </a:solidFill>
                <a:latin typeface="Arial Black"/>
              </a:rPr>
              <a:t>N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= 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 szerint </a:t>
            </a:r>
            <a:r>
              <a:rPr b="0" lang="hu-HU" sz="2400" spc="-1" strike="noStrike">
                <a:solidFill>
                  <a:srgbClr val="ff3399"/>
                </a:solidFill>
                <a:latin typeface="Arial Black"/>
              </a:rPr>
              <a:t>egyensúlyi költségvetésnél a kormányzati kiadások éppen saját nagyságukkal növelik meg a makrojövedelmet.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(Haavelmo-tétel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900000" y="4365720"/>
                <a:ext cx="31356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G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 deficites költségveté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Cél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csökkenteni a kiadásokat, vagy/é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növelni az adóbevételek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övetkezménye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kiadások csökkentése (pl.500 md) mértékben ugyanilyen mértékben csökkenti a deficitet;, miközben a makrokereslet (500/1-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) 500 md-al csökken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adóbevétel növelése pl. 500 md-al ugyancsak ilyen mértékben csökkenti a deficitet, miközben a makrokereslet 500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/1-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ĉ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mértékben csökken, azaz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adóbevételek növelése kisebb mértékben csökkenti a makrokeresletet, és ezen keresztül a makrojövedelmet (GDP-t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költségvetési politika jelle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Expanzív: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a kiadások növelése, a bevételek csökkentés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Következmény: makrokereslet nő, deficit nő(het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Restriktív: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 a kiadások csökkentése, a bevételek növelés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Következmény: makrokereslet csökken, deficit csökke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0. előadás: A monetáris politika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Feladata: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pénz- és tőkepiacon a pénz iránti kereslet-kínálat egyensúlyának megteremtés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özvetlen célja: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forgalomban levő pénz mennyiségének (kínálatának) szabályozás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Típusa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xpanzív: a pénzmennyiség növelését célozz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Restriktív: a pénzmennyiség csökkentését célozz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övetkezménye:</a:t>
            </a: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pénzkínálat megváltozása       az összkereslet megváltozása        az egyensúlyi makrojövedelem megváltozás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"/>
          <p:cNvSpPr/>
          <p:nvPr/>
        </p:nvSpPr>
        <p:spPr>
          <a:xfrm>
            <a:off x="6084720" y="5805360"/>
            <a:ext cx="4320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6165720"/>
            <a:ext cx="5032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monetáris politika eszközei</a:t>
            </a: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Kötelező jegybanki tartalé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üzleti bankok jegybanknál elhelyezett jegybankpénze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Összes passzívájuk után képezik, a jegybank által meghatározott %-ban (tartalékráta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tartalékráta növelésével a bankok pénzteremtési lehetősége csökken (hitelezési lehetőség), ellenkező esetben nő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Refinanszírozás formá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értékpapírok (váltó) viszontleszámítolása (kamat ellenében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jegybankpénz juttatása kamat ellenében (refinanszírozási kamatláb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nyílt piaci műveletek (értékpapírok adás-vétele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648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A refinanszírozás következménye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Minden eszköznél </a:t>
            </a:r>
            <a:r>
              <a:rPr b="0" lang="hu-HU" sz="2400" spc="-1" strike="noStrike">
                <a:solidFill>
                  <a:srgbClr val="ff3399"/>
                </a:solidFill>
                <a:latin typeface="Arial Black"/>
              </a:rPr>
              <a:t>a kamatláb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nagysága fonto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értékpapírok rediszkontálásánál a </a:t>
            </a:r>
            <a:r>
              <a:rPr b="0" lang="hu-HU" sz="2000" spc="-1" strike="noStrike">
                <a:solidFill>
                  <a:srgbClr val="ff3399"/>
                </a:solidFill>
                <a:latin typeface="Arial Black"/>
              </a:rPr>
              <a:t>rediszkontláb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refinanszírozási hitelnél a </a:t>
            </a:r>
            <a:r>
              <a:rPr b="0" lang="hu-HU" sz="2000" spc="-1" strike="noStrike">
                <a:solidFill>
                  <a:srgbClr val="ff3399"/>
                </a:solidFill>
                <a:latin typeface="Arial Black"/>
              </a:rPr>
              <a:t>refinanszírozási kamatláb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nyílt piaci műveleteknél az értékpapírok után fizetett </a:t>
            </a:r>
            <a:r>
              <a:rPr b="0" lang="hu-HU" sz="2000" spc="-1" strike="noStrike">
                <a:solidFill>
                  <a:srgbClr val="ff3399"/>
                </a:solidFill>
                <a:latin typeface="Arial Black"/>
              </a:rPr>
              <a:t>kamat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kamatláb jegybank általi emelése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drágítja a kereskedelmi bankok pénzhez jutását,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így azok is magasabb kamattal nyújtanak hiteleke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Ennek eredménye: kevesebben és drágábban jutnak a gazdaság szereplői pénzhez, azaz a </a:t>
            </a:r>
            <a:r>
              <a:rPr b="0" lang="hu-HU" sz="2400" spc="-1" strike="noStrike">
                <a:solidFill>
                  <a:srgbClr val="ff3399"/>
                </a:solidFill>
                <a:latin typeface="Arial Black"/>
              </a:rPr>
              <a:t>pénzkínálat lecsökken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kamatláb csökkentése ezzel ellentétes hatású: növeli a gazdaságban a pénzkínálat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monetáris politika hatása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ed234"/>
                </a:solidFill>
                <a:latin typeface="Arial Black"/>
              </a:rPr>
              <a:t>A klasszikus elmélet</a:t>
            </a:r>
            <a:r>
              <a:rPr b="0" lang="hu-H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Mennyiségi pénzelméletből (Fischer-képlet) adódóan pénzpiaci egyensúlyban a pénzmennyiség az árszínvonal és a reálkibocsátás szorzata: M = P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Y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Ha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adott árszínvonal mellett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növelik a pénz mennyiségét, a makrokereslet megnő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a makrokeresleti függvény jobbra tolódi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Miután rövid távon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makrokínálat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állandó (teljes foglalkoztatottság van), ez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nem változik meg a pénz mennyiségétől: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azaz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3399"/>
                </a:solidFill>
                <a:latin typeface="Arial Black"/>
              </a:rPr>
              <a:t>a pénz semleges, mert a kínálatra nincs hatása.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A kereslet növekedése pusztán az árszínvonalat növeli meg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ed234"/>
                </a:solidFill>
                <a:latin typeface="Arial Black"/>
              </a:rPr>
              <a:t>A monetáris politika Keynesné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lapfeltétevései voltak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árak, bérek rugalmatlanok ( merevek)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z árak és a bérek jjó részben nem piaci tényezők függvényei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Ha nő a gazdaságban a pénzmennyiség,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LM-görbe jobbra eltolódi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Ceteris paribus az egyensúlyi követelmény a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kamatlábat lecsökkenti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kisebb kamatláb </a:t>
            </a: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növeli a beruházásokat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, és így a makrokeresletet (függvénye jobbra tolódik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új egyensúlyi szint nagyobb árszínvonal és nagyobb kibocsátás mellett jön lét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pénz mennyiségének növelésével tehát befolyásolható nem csak az árszínvonal, hanem a kibocsátás és a foglalkoztatás i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makroökonómia alapfogalma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akrogazdasági kibocsátás (Q)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Folyó áron : nominálkibocsátá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Bázisáron : reálkibocsátá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dott inputok mellett : potenciális kibocsátá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akrojövedelem (Y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fogyasztás (C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egtakarítás (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agánberuházások (I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bruttó-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nettó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aggregált kereslet (A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aggregált kínálat (A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akroegyensúl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z árszínvonal - az infláció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ed234"/>
                </a:solidFill>
                <a:latin typeface="Arial Black"/>
              </a:rPr>
              <a:t>A monetarista isko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Keynesi következtetések ellenző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Keynes a gazdasági hatékonyság elmaradásáért az elégtelen keresletet okolta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Arial Black"/>
              </a:rPr>
              <a:t>A kereslet növelését piacon kívüli segítséggel (állami költekezés) tartotta lehetségesnek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monetaristák szerint az alul- keresletet hosszú távon az árak rugalmas mozgása megszünteti, egyensúlyba hozza a kínálatt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 pénz mennyiségének növelése csak az inflációt növeli, a reáljövedelmet nem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pénzkibocsátásnak ezért a gazdasági növekedés üteméhez kell igazodni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 Black"/>
              </a:rPr>
              <a:t>Az állami (és jegybanki) beavatkozás csak rövid távon érhet el eredményt, hosszú távon viszont rontja a piac hatékony szabályozásá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775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1. Előadás: Fizetési mérleg és valutapiac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zetési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mérleg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nemzetközi fizetési mérle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belföldiek és külföldiek közöt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gy bizonyos időszak alatt lebonyolítot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összes gazdasági ügyl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yilvántartására szolgál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fizetési mérleg részei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folyó fizetési mérleg tartalmazz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ermékek és szolgáltatások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unka- és tőkejövedelmek é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folyó transzferek nemzetközi áramlásá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őke- és pénzügyi mérleg pedi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z aktívákkal (vagyontárgyakkal) kapcsolatos nemzetközi gazdasági műveleteket rögzíti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gyarország fizetési mérlege 2004-be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68360" y="1568520"/>
          <a:ext cx="8280360" cy="49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68520"/>
                    <a:ext cx="828036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A fizetési mérleg és a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emzeti</a:t>
            </a: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 számlarendszer azonosságai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GDP ≡ C + I + G + netX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GNDI ≡ C + I + G + CAB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CAB ≡ GNDI − (C + I + 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S ≡ GNDI − C − 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CAB  ≡  S  −  I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ff3399"/>
                </a:solidFill>
                <a:latin typeface="Arial Black"/>
              </a:rPr>
              <a:t>A folyó fizetési mérleg egyenlege egyenlő a belföldi megtakarítások és beruházások különbségéve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alutaárfolya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z árfolyam indirekt jegyzése: a külföldi valuta ára belföldi valutában kifejezve, például e=280Ft/€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lföldi valuta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értékelődése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(gyengülése): az árfolyam növekedé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lföldi valuta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lértékelődése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(erősödése): az árfolyam csökkené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ebegő árfolya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539640" y="1341360"/>
          <a:ext cx="8136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1360"/>
                    <a:ext cx="8136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ögzített árfolya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468360" y="1341360"/>
          <a:ext cx="820728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0728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valutapiaci intervenció és a hazai pénzk</a:t>
            </a: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í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ál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 hazai pénzmennyiség bővül, ha a központi bank külföldi valutát vásárol fel (ceteris paribus)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71640" y="3429000"/>
          <a:ext cx="698508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69850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makroökonómia által vizsgált célok és eszközö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élok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reálkibocsátás minél magasabb szintjének elérés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z elérhető legmagasabb szintű foglalkoztatá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z árszínvonal-stabilitá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belső és külső egyensúlyo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zközök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öltségvetési politik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onetáris politik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Jövedelempolitik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ülgazdaság-politik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álárfolyam és nettó expor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reálárfolyam a külföldi javak belföldi javakhoz viszonyított ára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7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belföldi valutában kifejezett külföldi árszínvonal és a belföldi árszínvonal aránya: q = e × P*/P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7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reálárfolyam emelkedése növeli a nettó exportot, mert megdrágítja a külföldi javakat a belföldi javakhoz képe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12. előadás</a:t>
            </a:r>
            <a:r>
              <a:rPr b="0" lang="hu-HU" sz="4400" spc="-1" strike="noStrike">
                <a:solidFill>
                  <a:srgbClr val="ffffff"/>
                </a:solidFill>
                <a:latin typeface="Arial Black"/>
              </a:rPr>
              <a:t> : </a:t>
            </a: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A nyitott gazdaság: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a Mundell-Fleming model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Árupiaci egyensúly a nyitott gazdaságba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megtermelt reáljövedelem (GDP) egyenlő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fogyasztási kereslet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beruházási kereslet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kormányzati vásárlások é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nettó export összegéve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Y = C + I + G + netX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belföldi kiadási tételeket befolyásoló tényező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fogyasztási kereslet nő a rendelkezésre álló reáljövedelem növekedéséve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 beruházási kereslet nő a reálkamatláb csökkenéséve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Arial Black"/>
              </a:rPr>
              <a:t>A kormányzati vásárlásokat exogénnek tekintjü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nettó exportot befolyásoló fontosabb tényező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A nettó export (ceteris paribu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emelkedik a reálárfolyam növekedésével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csökken a belföldi reáljövedelem bővülésével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nő a külföldi reáljövedelem emelkedésével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 Black"/>
              </a:rPr>
              <a:t>nő a hazai protekcionista intézkedésekkel és a külföldi protekcionizmus enyhüléséve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z IS görbe a nyitott gazdaságba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50920" y="1916280"/>
          <a:ext cx="8893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8893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Rövid távú makroökonómiai egyensúly a Mundell-Fleming modellbe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68360" y="1989000"/>
          <a:ext cx="82803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80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skális politik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ögzített árfolyam mellet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95280" y="1773360"/>
          <a:ext cx="849780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97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onetáris politik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ögzített árfolyam mellet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50920" y="1916280"/>
          <a:ext cx="8893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8893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onetáris politik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ebegő árfolyam mellet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395280" y="1844640"/>
          <a:ext cx="849780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497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.előadás: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gazdasági teljesítmény mérése és a jövedelmek áramlás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4ed234"/>
                </a:solidFill>
                <a:latin typeface="Arial Black"/>
              </a:rPr>
              <a:t>1. A teljesítmény mérésének problémái: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just">
              <a:lnSpc>
                <a:spcPct val="90000"/>
              </a:lnSpc>
              <a:spcBef>
                <a:spcPts val="18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a.) az SNA rendszer jellemző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b.) a „hazai” és a „nemzeti”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 teljesítmény megkülönböztetés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c.) a teljesítmény „bruttó” (félnettó) és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„nettó” megkülönböztetés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d.) a teljesítmény „nominál-” és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„reálértéken” való számítás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e.) a piaci áron vagy tényezőköltségen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     történő számítá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skális politik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ebegő árfolyam mellet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Hosszú távú egyensúly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Arial Black"/>
              </a:rPr>
              <a:t>a Mundell-Fleming modellbe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24000" y="1700280"/>
          <a:ext cx="85690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5690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8820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gazdaságpolitik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osszú távú hatásai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z expanzív fiskális politika a valuta felértékelődésére és nettó export csökkenésre veze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24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z expanzív monetáris politika a valuta gyengülését eredményezi és nem módosítja a reálváltozók értéké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3. előadás: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gazdasági növekedé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gazdasági növekedés értelmezé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gazdasági növekedés a reál GDP hosszú távú folyamatos emelkedés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7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növekedési elmélet eltekint a rövid távú gazdasági ingadozásoktó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7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gazdasági növekedés üteme =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ál GDP változása / reál GDP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7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z emberek életszínvonalát az egy főre jutó reál GDP szabja me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növekedés forrásai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munkamennyiség növekedés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7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fizikai tőkeállomány bővülés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7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természeti erőforrások növekedés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7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z emberi tőke bővülés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7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technikai haladá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termelékenységi görb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K/L arány növekedésével a tőke határterméke csökke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324000" y="2492280"/>
          <a:ext cx="85690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5690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Black"/>
              </a:rPr>
              <a:t>A növekedés</a:t>
            </a:r>
            <a:r>
              <a:rPr b="0" lang="hu-HU" sz="3200" spc="-1" strike="noStrike">
                <a:solidFill>
                  <a:srgbClr val="ffffff"/>
                </a:solidFill>
                <a:latin typeface="Arial Black"/>
              </a:rPr>
              <a:t>i</a:t>
            </a:r>
            <a:r>
              <a:rPr b="0" lang="pt-BR" sz="3200" spc="-1" strike="noStrike">
                <a:solidFill>
                  <a:srgbClr val="ffffff"/>
                </a:solidFill>
                <a:latin typeface="Arial Black"/>
              </a:rPr>
              <a:t> folya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95280" y="1484280"/>
          <a:ext cx="8748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748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 termelékenység növekedésének elősegíté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megtakarítás és a beruházás ösztönzés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külföldi tőke beruházásainak ösztönzés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z oktatás fejlesztés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szabadkereskedelmi politik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kutató-fejlesztő tevékenység ösztönzése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politikai és jogi stabilitás, a piacgazdaság, a tisztázott tulajdonjogok fenntartás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0:44:29Z</dcterms:created>
  <dc:creator>Dr. Tömpe Ferenc</dc:creator>
  <dc:description/>
  <dc:language>en-US</dc:language>
  <cp:lastModifiedBy>Dr. Tömpe Ferenc</cp:lastModifiedBy>
  <dcterms:modified xsi:type="dcterms:W3CDTF">2006-09-18T06:39:24Z</dcterms:modified>
  <cp:revision>257</cp:revision>
  <dc:subject/>
  <dc:title>MAKROÖKONÓMIA</dc:title>
</cp:coreProperties>
</file>