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9BA4-FABE-40BE-9AFC-E77EE9008C2F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368-C670-47E9-9850-5CCEEF3E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3BA-02D0-4ED6-8AC9-7FD94CA6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401-6682-4FF8-849B-CB9BE63D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4D3-B487-458D-9696-8064492E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D6EA-20ED-480B-B6A9-F29F7F02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2200-3609-4309-B70D-80E6FCF2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2E69-7A88-4B2D-97DE-5869C524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45DA-CF66-432F-B9F9-5435D95F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0834-E724-4D4E-92B0-44816C78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B1D2-1B0D-45DC-B098-848E93A0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3678-FEDC-4251-8582-C21AC65A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2B9-C2A8-4B52-96E2-7517192F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38EC-99BA-43E4-9CF9-9BAE65D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F712-7F7E-47B9-ACE4-A81DDBE6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9D2F-1573-41C0-A2B3-FAB48CB3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74DB-07C0-4DC0-8D82-3CFE0FF5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09EF-9EC2-4B47-9D83-7BD9A8D7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870-170D-423A-AF5F-2419723F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CE3-5051-4B14-B4F2-28E82B5B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C57-7824-40B7-B50B-008FB7B2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C3F-C950-478E-9D6A-D20DE3D2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871-4D20-45BA-BF1A-B93220EF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B7E-927A-4796-B597-113E3737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9BF-552B-4D8D-A427-28DC745F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FC53-E8CC-403F-93EC-2065B787EDAF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31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4AE3-9960-4BBD-910F-D8B35C9E2C10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27EA-8A69-42BE-88F5-ABE71B205C1E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31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4560-BEFB-4E90-8E5F-26489A23D723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112500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f1b60f"/>
                </a:solidFill>
                <a:latin typeface="Arial"/>
              </a:rPr>
              <a:t>A GAZDASÁGI JOG ALAPJAI</a:t>
            </a:r>
            <a:br>
              <a:rPr sz="4200"/>
            </a:br>
            <a:r>
              <a:rPr b="0" lang="hu-HU" sz="4200" spc="-1" strike="noStrike">
                <a:solidFill>
                  <a:srgbClr val="f1b60f"/>
                </a:solidFill>
                <a:latin typeface="Arial"/>
              </a:rPr>
              <a:t> – Tantárgyi forgatókönyv –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47280" y="3284280"/>
            <a:ext cx="6409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Szerkesztett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Dr. Herbst Árpá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F80D-69AB-4915-B25D-E41650DC37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. Rész – Jogelméleti alapok, alkotmány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2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29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Magyar Köztársaság Alkotmá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2920" indent="-502920">
              <a:lnSpc>
                <a:spcPct val="7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49. évi XX. törvé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2920" indent="-502920">
              <a:lnSpc>
                <a:spcPct val="7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89. évi XXXI. törvé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435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alkotmány 1989-ben elfogadott preambuluma (bevezetése) a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öbbpártrendszert, a parlamenti demokráciát és a szociális piacgazdaságot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megvalósító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jogállamiság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megteremtését tűzte ki államcélkén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435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alkotmány deklarálja, hogy a Magyar Köztársaság független, demokratikus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jogálla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435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Megszűnt a parlament helyettesítő jogkörrel rendelkező és államfői feladatokat ellátó 21 tagú testület, a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épköztársaság Elnöki Tanácsa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. Az ország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államformája köztársaság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lett, élén az egyszemélyi államfővel, a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ztársasági elnökke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435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marxista-leninista párt vezető szerepének megszüntetése mellett az Alkotmány deklarálja a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öbbpártrendszert,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mint a népakarat kialakításának és kinyilvánításának egyik lényeges biztosítéká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29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679-D8D4-4BDA-BBA6-6FFC038B8B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. Rész – Jogelméleti alapok, alkotmány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2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államforma parlamentáris jellegének megfelelően az államhatalom legfontosabb szerveként az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Országgyűlés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erült meghatározásr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alkotmány deklarálja a végrehajtó hatalom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parlament előtti felelősségét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. A  végrehajtó hatalom központi szerve,  a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ormány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a parlamenttől kapja megbízatását és tevékenységéért a parlamentnek tartozik felelősségg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modern jogállamokra jellemző intézményeket hoztak létre. Ennek megfelelően az alkotmány meghatározza az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lkotmánybíróság, az Állami Számvevőszék,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országgyűlési biztosok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helyzetét és szerepét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igazságszolgáltatás szférájában az Alkotmány deklarálja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bírák függetlenségé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helyi hatalomgyakorlás területén a központi irányítás alatt működő, szovjet mintára szervezett tanácsrendszert az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önkormányzati rendszer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váltotta f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alkotmány meghatározza a demokratikus választások feltételéül szolgáló alapelveket.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választójog általános és egyenlő, a szavazás közvetlen és titk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Alkotmány külön fejezetben tételesen sorolja fel az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mberi és állampolgári jogok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teljes köré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E84-1AE7-4729-816E-7553DF02E4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. Rész – Jogelméleti alapok, alkotmány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3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543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törvényhozó hatalom szervezetrendsz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z Országgyűlés szervezete, működési rend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képviselők jogállás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z Országgyűlés hatáskö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Törvényalkotá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A kormányzati szervezetrendszer létrehozása és ellenőrzé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Az állam területi beosztásának megállapítá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Külügyi, hadügyi feladatok, nemzetközi szerződése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köztársasági eln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 köztársasági elnök megválasztá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 köztársasági elnök hatáskö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Törvények kihirdeté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Visszaküldés megfontolásra az Országgyűlésn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Előzetes normakontro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Miniszteri ellenjegyzéssel gyakorolható hatáskörö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Az államfő, mint a Magyar Honvédség főparancsno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D3B-E805-4F67-84DE-02861F6976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. Rész – Jogelméleti alapok, alkotmány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3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5438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Alkotmánybíróság helye az állami szervek rendszeré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z Alkotmánybíróság szerveze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z Alkotmánybíróság hatáskö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őzetes normakontro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Utólagos normakontro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lkotmányjogi panas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ulasztással előidézett alkotmányellenesség megállapítá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lkotmányértelmez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állam önellenőrző mechanizmusának részét képező, az Országgyűlés ellenőrző tevékenységét segítő állami szervek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z Állami Számvevőszék jogállása és hatáskö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z országgyűlési biztos jogállása és hatáskör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C21-A107-4442-B365-3D1965A42F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. Rész – Jogelméleti alapok, alkotmány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3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5438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végrehajtó hatalom szervezetrendsz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 Kormány szervezete, feladatköre és ügyrendj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 kormányzati szervek rendszer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minisztérium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nem minisztériumi jogállású központi államigazgatási szerv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utonóm státusú államigazgatási szervek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ormányhivatalok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zponti hivatalok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rendvédelmi szervek országos parancsnoksága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 helyi önkormányzatok rendszer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települési önkormányzatok szervezete, feladatkö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megyei önkormányzatok szervezete, feladatköre.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5D9-A518-4B34-B117-BEE9946539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. Rész – Jogelméleti alapok, alkotmány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3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5438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igazságszolgáltatás szervezetrendsz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bírósági szervezet felépí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elyi és munkaügyi bíróságok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egyei (fővárosi) bíróságok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ítélőtáblák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Legfelsőbb Bírósá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igazságszolgáltatás alapelve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ügyészség szervez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Legfőbb Ügyészség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ellebbviteli főügyészség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egyei (fővárosi) főügyészség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elyi (városi és fővárosi kerületi) ügyészsé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ügyészség tevékenys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30D-8271-4EE0-AB32-0537DE7F4E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4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543800" cy="37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1980-as évek elején megindult gazdasági reformjogalkotás főbb lépése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1980-as évek kisvállalkozási reformlépés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isvállalat és leányvállalat megjelenése az állami szektorb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zerződéses üzemeltetés, szövetkezeti szakcso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isszövetkez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Gazdasági munkaközösség, vgm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első társasági törvény (1988. évi VI. törvény) jelentősé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ásodik társasági törvény (1997. évi CXLIV. törvény) jelentősé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2006. július 1-jétől hatályos harmadik társasági törvény (2006. évi IV. törvény) megalkotásának indoka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30F-036E-42F5-812D-67ABA1C14D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4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A vállalkozási formák elkülönítés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azdasági orientáció szeri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ffff"/>
                </a:solidFill>
                <a:latin typeface="Arial"/>
              </a:rPr>
              <a:t>non-profit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ffff"/>
                </a:solidFill>
                <a:latin typeface="Arial"/>
              </a:rPr>
              <a:t>for-profit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zemély- illetve tőkeegyesítő jelleg szerin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jogi személyiséggel rendelkező vagy jogi személyiség nélküli társaságok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tőkekivonás módja szeri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tagok vagyoni felelőssége alapjá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ffff"/>
                </a:solidFill>
                <a:latin typeface="Arial"/>
              </a:rPr>
              <a:t>korlátolt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ffff"/>
                </a:solidFill>
                <a:latin typeface="Arial"/>
              </a:rPr>
              <a:t>korlátlan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ffff"/>
                </a:solidFill>
                <a:latin typeface="Arial"/>
              </a:rPr>
              <a:t>egyetemleg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2E3-6407-4C47-BDFC-12E4C4D9B0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4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z elsődlegesen nem profitorientált célú szervezetek jelentősége a gazdaságb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) költségvetési szerv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) egyesüle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) alapítván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) közhasznú társasá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) köztestüle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) közalapítván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BB3-101F-4F21-B326-801F7A049B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4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77336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vállalkozási formák alapvető típusai a hatályos magyar szabályozás sze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) a gazdasági társaságok (2006. évi IV. törvény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) az egyesülés, kooperációs vállalat (2006. évi IV. törvény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) a közös vállalat (1997. évi CXLIV. törvény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) a szövetkezet (2006. évi X. törvény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) az egyéni vállalkozás (1990. évi V. törvén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263-8D91-44D8-9595-AEF70F4E0C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z előadások tematikája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54380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. Rész: Jogelméleti alapok, alkotmányj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1. Előadás: Jogelméleti alapok. A jogi norma, a jogszabály és a jogviszon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2. Előadás: Alkotmányosság, a Magyar Köztársaság Alkotmánya, az 1989-es alkotmánymódosítás jelentősé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3. Előadás: A Magyar Köztársaság államszervezetének felépítése, a központi államhatalmi szervek jogállása és hatáskör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I. Rész: A vállalkozások jogi szabályozásának alapj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4. Előadás: Vállalkozási formák a magyar gazdaságban. A non-profit szféra és a gazdasági társaságok jogi szabályozásának kerete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5. Előadás: A gazdasági társaságok létszakasz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6. Előadás: Az egyes gazdasági társasági formák szabályozása I. A Kkt., a Bt. és a Kf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7. Előadás: Az egyes gazdasági társasági formák szabályozása II. A részvénytársasá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8. Előadás: Az egyesülés és a közös vállalat. A szövetkezetek jogi szabályozá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9. Előadás: Csődeljárás, felszámolási eljárás, végelszámolá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153-AF2F-4B5D-BC26-E49DDE2A76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5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5640" y="20606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Arial"/>
              </a:rPr>
              <a:t>A társasági jog alapelve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ársulási szabadság el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ársasági formakényszer el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külföldi és hazai társasági tagok egyenjogúsá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ársasági (cég)nyilvánosság el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ársaságok törvényességi felügyelete bírói ú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hitelező- és kisebbségvédelem érvényesí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unkavállalók gazdasági társaságok döntéseibe való bevonás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884-018B-4F7B-AA77-43BD9D51CD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5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gazdasági társaságok létszakasz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1. Az alapítási folyamat, előtársasá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2. A társasági szerződés módosítás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3. Átalakulá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Másik gazdasági társasággá vagy közhasznú társasággá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Gazdasági társaságok egyesülése (beolvadás, összeolvadá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Gazdasági társaságok szétválása (kiválás, különválá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4. Jogutód nélküli megszűné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Felszámolá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Végelszámolá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144-67C5-4A27-9D42-F78B7092CB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5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társaság vagy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Valamennyi társaságnál kötelező társasági vagyont elkülöníteni. Gazdasági társaságban taggá válni csak valamekkora vagyon rendelkezésre bocsátásával lehet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társasági vagyon minimuma 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kft. és az rt. esetében meghatározott (3 millió Ft, illetve 20 millió Ft), a többi társaságot a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társasági szerződésben meghatározott nagyságú vagyonnal lehet alapítani.</a:t>
            </a:r>
            <a:r>
              <a:rPr b="0" lang="hu-HU" sz="15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társaság vagyona, illetve a tagok által teljesített vagyoni hozzájárulás lehet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énzbeni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és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m pénzbeni (appor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12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gyoni értékkel rendelkező, forgalomképes dolog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(pl. ingatlan, gép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12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gyoni értékű jog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(pl. bérleti jog, vagy haszonélvezeti jog), va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12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zellemi alkotás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(pl. szabadalom, know how) leh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944-FB1E-4793-9F9D-B95D507286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5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gazdasági társaság szervez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 gazdasági társaság legfőbb szerve (tagok gyűlése, taggyűlés, közgyűlé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 gazdasági társaság vezető tisztségviselői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közkereseti társaságnál és betéti társaságnál az üzletvezetésre megválasztott tagok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korlátolt felelősségű társaság esetén az ügyvezető (ügyvezetők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részvénytársaságnál az igazgatóság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Felügyelő bizottsá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Könyvvizsgáló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5A7-06E0-489D-8A6B-1DC9F4FFC0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6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5438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zkereseti társaság (kk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Jogi személyiséggel nem rendelkező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, egyszerűbb társasági forma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Társasági szerződéssel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jön létre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Célja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közös gazdasági tevékenység folytatása,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amelyhez szükséges vagyont a társaság tagjai bocsátják a társaság rendelkezésére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Tipikusan épít a tagok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személyes közreműködésére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és a tagok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korlátlanul és egyetemlegesen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felelnek magánvagyonukkal a társaság tartozásaiér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Szervezete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Tagok gyűlése (taggyűlé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Üzletvezető(k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Felügyelő bizottság (200 fő munkavállaló felett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C6D-05F6-4CDC-BE18-5AFAC5F707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6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77336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téti társaság (b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betéti társaság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tőkéstársi részvétellel létrehozott közkereseti társaságnak tekinthető, melyet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legalább egy beltag és legalább egy kültag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alapítha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beltagok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többnyire a közös tevékenységet folytatják, felelősségük a társasági vagyon által nem fedezett kötelezettségekért korlátlan mértékű, amennyiben több beltag van, közöttük a felelősség egyetemleges. B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eltag jogi személy és természetes személy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is lehet (utóbbi csak akkor, ha más közkereseti társaságnak nem tagja és beltagként nem vesz részt más betéti társaságban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kültagok 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általában személyesen nem vesznek részt a társasági tevékenységben, döntési joguk korlátozott,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vagyoni felelősségük csak betétjük erejéig terjed. Kültag lehet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jogi személy, természetes személy, közkereseti és betéti társaság i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Szervezete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Tagok gyűlése (taggyűlé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Üzletvezető(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Felügyelő bizottság (200 fő munkavállaló felet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208-ADF2-4ADF-82C5-A72304A8BE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6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75438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rlátolt felelősségű társaság (kf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 kft. jogi személyiséggel rendelkező gazdasági társaság, mely előre meghatározott összegű törzsbetétekből álló törzstőkével alakul. Minimális tőkeigény: 3 M F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 tagok felelőssége korlátozott: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társasággal szemben a törzstőke szolgáltatására, illetve a társasági szerződésben meghatározott egyéb vagyoni hozzájárulásra (mellékszolgáltatásra) terjed ki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társaság kötelezettségeiért a tagok magánvagyonukkal felelősséggel nem tartoznak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 kft. egyszemélyes alapítással is létrehozható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lapító dokumentum: társasági szerződés, egyszemélyes kft. esetén alapító okirat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C42-7B09-44B8-AFD4-9AD06195CD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6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75438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ft. és a társasági tagok közötti jogvisz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törzstőke és a törzsbeté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pótbefizeté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z üzletrész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dolgozói üzletrész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ft. szervez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aggyűl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Ügyvezető(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elügyelő bizottság (200 fő munkavállaló felet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nyvvizsgáló (50 M Ft feletti törzstőke eseté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D5C-C975-4268-906B-CB9992B2BB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7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77336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észvénytársaság (r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z rt. a legfejlettebb,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jogi személyiséggel rendelkező 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társasági forma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Előre meghatározott számú és névértékű részvényekből álló alaptőkével 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/jegyzett tőkével/ alakul. Minimális tőkeigény: 20 M Ft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tag /részvényes/ kötelezettsége a részvénytársasággal szemben kizárólag a részvény névértékének vagy kibocsátási értékének szolgáltatására terjed ki. A részvényes a részvénytársaság kötelezettségeiért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ezen túlmenően nem felel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Részvénytársasági formák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Nyilvánosan, több személy által alakított, nyilvános működésű (nyrt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Zártan alakított, zártan működő (zrt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12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Több személy által alapítot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12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gyszemély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lapító dokumentum: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alapszabály, egyszemélyes rt. esetén: alapító okir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D29-DC3B-4858-A6AB-3F9F0E76D3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7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915920"/>
            <a:ext cx="754380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részvénytársaság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laptőkével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/jegyzett tőkével/ jön létre, mely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előre meghatározott összegű és névértékű részvényekből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tevődik össze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részvény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a részvénytársaság alapításakor vagy alaptőke-emeléskor kibocsátott, tagsági jogokat megtestesítő, névértékkel rendelkező, forgalomképes értékpapír.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Részvényfajták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nyomdai úton előállított vagy dematerizál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bemutatóra szóló vagy névre szóló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törzsrészvény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elsőbbségi részvény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dolgozói részvény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kamatozó részvény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visszaváltható részvény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653-690B-4DF4-863F-48B8026D72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z előadások tematikája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559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II. Rész: Dologi jog, földj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10. Előadás: A dolgi jog alapfogalmai. A dologi jogviszony sajátosságai. A tulajdonjog és a korlátolt dologi jogo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11. Előadás: A föld mint sajátos dolog. A termőföld-tulajdon szabályozása. A haszonbér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V. Rész: A kötelmi jog alapj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12. Előadás: A kötelmi jog alapfogalmai. A szerződés megkötés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13. Előadás: A szerződés érvénytelenségének esetei. A szerződést biztosító mellékkötelezettsége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14. Előadás: A szerződés teljesítése. A szerződésszegés esetei. A kártéríté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15. Előadás: Az egyes szerződéstípusok sajátossága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870-F470-425A-A9EC-ED66C3D83F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7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77336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A részvényes jogi helyze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részvényes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lapvető kötelezettsége 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z általa jegyzett részvények névértékének /kibocsátási értékének /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teljes befizetése 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cégbejegyzéstől számított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 egy éven belül.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részvényesnek joga van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közgyűlés által felosztandónak rendelt mérleg szerinti nyereségnek a részvényeire jutó értékére, az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osztalékra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jogutód nélküli megszűnés esetén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felosztható vagyon részvényeivel arányos részére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egyes részvényfajták esetén alapszabályban meghatározott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egyéb jogokra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részvényes alapvető szervezeti (tulajdonosi) jogai és kötelezettsége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közgyűlésen való részvétel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felvilágosítás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megadásához való jog, é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észrevételek megtételéhez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való jog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052-D2BD-4D67-9202-FE4254BA19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7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543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részvénytársaság szervez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közgyűlé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társaság legfőbb szerv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igazgatósá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nyrt. esetén kötelező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zrt. esetében az igazgatóság jogköreit a vezérigazgató egyszemélyben is gyakorolhatj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felügyelő bizottsá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nyrt. esetén kötelező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zrt. esetén csak akkor, ha a munkavállalók száma meghaladja a 200 fő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könyvvizsgáló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zrt. és nyrt. esetén egyaránt kötelező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A2A-3A86-4276-A554-EDB2C17251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8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628640"/>
            <a:ext cx="7543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z egyesül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z egyesülés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oordinatív, érdekképviseleti jellegű, jogi személyiséggel rendelkező társulási forma, melyet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általában a következő célok megvalósítására alapítják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tagok gazdálkodásának eredményességét elősegítő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tevékenység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társasági tagok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zakmai érdekeinek képviselete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z összehangolt feladatokat előmozdító szolgáltatások (piackutatás, reklám, minőségvédelmi feladatok), az együttes feladatok teljesítését segítő közös gazdasági tevékenység végzés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z egyesülés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m nyereségérdekelt,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kifejezetten saját nyereség elérésére nem törekszik, de nyereséges gazdálkodás folytatása nem tilo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z egyesülés tagjainak a felelőssége az egyesülés saját vagyonát meghaladó tartozásokért korlátlan és egyetemleg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zerveze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taggyűlé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gazgató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felügyelő bizottsá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EAB-167A-41AD-BCAA-F2FB3FEF73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8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77336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 közös vállal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közös vállalat nyugat-európai társasági jogi előzmények nélküli intézmény, mely nem vált nagyon népszerűvé. Ez az oka annak, hogy a gazdasági társaságokról szóló 2006. évi IV. törvény 2006. július 1-jei hatályba lépése utána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új közös vállalat már nem alakítható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, azonban a már működő közös vállalatok továbbra is fennmaradhatna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közös vállalat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tőkeegyesítő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jellegű forma. Elsősorban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állalati gazdálkodási tevékenység folytatására és közös gazdasági érdekek előmozdítására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létrejövő társaság, mely a tagok által rendelkezésre bocsátott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laptőkével alapítható. A társasági törvény azonban minimális alapítói vagyont nem határoz me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közös vállalat kötelezettségeiért fennálló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felelősség elsődleges alapja a közös vagyon.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Amennyiben a vállalati vagyon a tartozásokat nem fedezi, a tagok a vállalat tartozásaiért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gyüttesen – vagyoni hozzájárulásuk arányában – kezesként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elelnek. Ez a kezesi felelősség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gyszerű, ún. sortartó kezesi felelősség,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tehát amíg a közös vállalatnak vagyona van, a tagok a saját vagyonukkal nem kötelesek helytáll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közös vállalat szervezete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igazgatótanács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igazgató, valami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felügyelő bizottság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40C-78CF-4E69-8400-C7604681E6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8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5438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szövetkez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Szövetkezeti alapelvek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Nyitott tagság elv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Egy tag, egy szavazat elv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Képzés, szociális támogatás a tagok számár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Hazai és nemzetközi együttműködé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szövetkezet elhatárolása a gazdasági társaságoktó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Működésének célja a tagok magángazdaságainak üzemkiegészítő jellegű támogatása (közös beszerzés, értékesíté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Eredményfelosztás a szövetkezet üzleti forgalmában való részvétel alapján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tagok irányában nem érvényesül a nyereségorientáltság elv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szövetkezet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jogi személy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. Alapításához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részjegytőkére 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van szükség, mely a tagok vagyoni hozzájárulásainak összege. Ennek teljesítését a tagoknak kiállított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részjegyek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igazolják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9A6-DD54-41E9-9DA9-5DBE744B4E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8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699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szövetkezet szerv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közgyűlés (részközgyűlés, küldöttgyűlés)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Igazgatóság (ügyvezető elnö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a szövetkezet vezető tisztségviselői, valamin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a felügyelő bizottság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tag alapvető joga, hog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részt vegyen</a:t>
            </a: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 a szövetkezet tevékenységében, </a:t>
            </a: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részesedjen a gazdálkodás eredményéből</a:t>
            </a: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igénybe vegye</a:t>
            </a: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 a szövetkezet által a tagok részére rendszeresített </a:t>
            </a: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szolgáltatásoka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tanácskozási és szavazati </a:t>
            </a: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joggal részt vegyen a </a:t>
            </a: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közgyűlésen</a:t>
            </a: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tisztséget viseljen </a:t>
            </a: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a szövetkezetben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a vezető tisztségviselőktől </a:t>
            </a: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felvilágosítást kérjen</a:t>
            </a: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 a szövetkezetet érintő bármely kérdésről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tag alapvető kötelessége, hog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teljesítse</a:t>
            </a: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vagyoni hozzájárulását</a:t>
            </a: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, védje a szövetkezet vagyonát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vállalásának megfelelően részt vegyen a szövetkezetnek és szerveinek a tevékenységében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785-E47A-42AC-9C1E-C885818527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9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699920"/>
            <a:ext cx="75438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társaságok gazdasági válságkezelé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 csődeljárá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 csődeljárás célja az adós gazdálkodó </a:t>
            </a:r>
            <a:r>
              <a:rPr b="1" lang="hu-HU" sz="1900" spc="-1" strike="noStrike">
                <a:solidFill>
                  <a:srgbClr val="ffffff"/>
                </a:solidFill>
                <a:latin typeface="Arial"/>
              </a:rPr>
              <a:t>fizetőképességének helyreállítása.</a:t>
            </a: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csőd bírósági bejelentése az adós elhatározása alapjá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hitelezők tárgyalásra hívása a 90 napos fizetési haladék megadása céljábó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vagyonfelügyelő feladata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hitelezők tárgyalásra hívása csődegyezség megkötésére a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 fizetőképesség helyreállítására alkalmas program és egyezségi javaslat alapjá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csődegyezség megkötésének (meghiúsulásának) bírósági bejelentése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02E-582A-4B01-966A-4275EA506D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9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54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felszámolási eljárá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Felszámolási eljárást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kell lefolytatni akkor, ha a társaság vagyona a megszűnéskor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kevesebb,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mint a vele szemben támasztott követelések. A felszámolási eljárás a megyei bíróságok előtt folyó eljárá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felszámolási eljárás megindítás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dós fizetésképtelensége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eseté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dós, a hitelező vagy a végelszámoló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kérelmér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cégbíróság értesítése alapjá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Fizetésképtelenséget megállapító bírósági végzés Cégközlönyben történő közzétételének következménye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felszámoló feladata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Egyezségi tárgyalás a hitelezők és az adós közöt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27E-F548-4EA2-9D53-7D0F30219A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90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9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993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tartozások kiegyenlítési sorrendje a felszámolási eljárás sorá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Először a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felszámolás költségeit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kell kifizetni. Ide tartoznak többek között a munkabér és bérjellegű egyéb juttatások, a végkielégítés, a vagyon értékesítésével, a követelések érvényesítésével kapcsolatos költségek, a felszámoló díjazás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következő csoport a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záloggal, óvadékkal biztosított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követelések, feltéve, hogy a biztosítékot a felszámolási eljárás megindulása előtt legalább 6 hónappal kikötötték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harmadik kategóriát a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járadék jellegű követelések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(pl. kártérítési járadék) képezik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Negyedik kategória a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magánszemélyek nem gazdasági tevékenységéből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eredő követelései, így pl. a hibás teljesítésből, a jótállási kötelezettségből származó követelések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Következő kategória a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társadalombiztosítási tartozások, az adók, valamint az adók módjára behajtandó köztartozások.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z utolsó kategória az egyéb, még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nem említett hitelezői követelések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mennyiben a vagyon valamennyi követelés kielégítésére nem elegendő, az utolsó, részben még teljesíthető kategórián belül a tartozásokat követelés-arányosan kell kifizetni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42F-AFF7-44D3-93B3-3703CF1750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. Rész – A vállalkozások jogi szabályozása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9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699920"/>
            <a:ext cx="75438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égelszámo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Végelszámolást kell lefolytatni akkor, ha a gazdálkodó szervezet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jogutód nélkül szűnik meg,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azonban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izetőképes,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zért nem kell a felszámolási eljárás fokozott garanciáit alkalmazni a megszűnés sorá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végelszámolást a megszűnő gazdálkodó szervezet székhelye szerint illetékes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égbíróság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tesz közzé a Cégközlönyben. Az eljárást a cégbíróság által meghatározott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égelszámoló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folytatja le, aki gyakran a cég addigi vezetőj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végelszámoló a gazdálkodó szervezet kötelezettségeit - a lejárattól függetlenül -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eljesíti, követeléseit behajtja,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igényeit érvényesíti, és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agyonát szükség szerint értékesít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Ha a végelszámoló megállapítja, hogy a gazdálkodó szervezet vagyona az ismert hitelezői követelések fedezetére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em elegendő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, és emiatt fizetésképtelenség áll fenn, köteles a cégbírósághoz felszámolási eljárás lefolytatására irányuló kérelmet beterjeszteni,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az eljárás pedig a felszámolási eljárás szabályai szerint folytatódi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975-7E7C-41C4-B6A9-5A9997C444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6516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. Rész – Jogelméleti alapok, alkotmány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7336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jog fogalma, sajátosság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jog legáltalánosabb értelemben magatartási szabályok, normák összessége, amely meghatározza, hogy a jogi norma címzettje adott helyzetben mit tegyen, vagy milyen magatartástól tartózkodj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) A jogot jogalkotási hatáskörrel felruházott állami szervek hozzák lét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) A jogalkotást eljárási szabályok határozzák me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) A jog általános jellegű, vagyis az adott társadalom valamennyi jogalanyára nézve érvény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2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) A jog állami kényszerre támaszkodik.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8BD-749A-4F90-8D98-DD260629EB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I. Rész – Dologi jog, föld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0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564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dolog fogalma, osztályozás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Dolognak minősül minden önálló testi tárgy, melyen tulajdon állhat fenn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Dologkapcsolatok: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alkotórész, növedék, tartozék, gyümölc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dologi jogviszony abszolút szerkeze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jogosult pozíciójában tipikusan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gy meghatározott személy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van, akit a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jogosultságok kizárólagos gyakorlása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illet meg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jogosulttal szemben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indenki más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telezett.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E kötelezettség három fontosabb mozzanatból tevődik össz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kötelezettne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 kell ismernie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a dologi jog jogosultjának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jogosulti minőségét;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űrnie kell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, hogy a jogosult gyakorolhassa a dolgon fennálló jogait; valami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artózkodnia kell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bármiféle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jogellenes behatástól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(pl. akadályozástól, zavarástó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02B-BA83-486E-813E-1E2F9C8F828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I. Rész – Dologi jog, föld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0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ulajdonjogvisz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ulajdonos jog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Birtoklás jog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Használat jog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Hasznok szedésének jog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Rendelkezési jo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ulajdonos kötelezettség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dologgal járó terhek viselé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Kárveszély viselé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Szükséghelyze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Szomszédjogok tiszteletben tartás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7A1-7D4A-45EF-8164-50DC9561952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I. Rész – Dologi jog, föld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0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gatlanok tulajdonának szerzésmódj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Eredeti szerzésmódo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Hatósági határozat és hatósági árveré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Elbirtoklá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Kisajátítá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Származékos szerzésmódo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Átruházá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Ráépítés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Öröklé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A9F-B048-4214-AB72-66D20B41B01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I. Rész – Dologi jog, föld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0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557000"/>
            <a:ext cx="7543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özös tulajd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közös tulajdon (tulajdonközösség) olyan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jogközösség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, amelyben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tulajdonjog ugyanazon a dolgon meghatározott eszmei hányadrészek szerint több személyt illet meg.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zös tulajdon keletkezésének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setei: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ingatlanok (telek, termőföld, ház stb.)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zös vásárlása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házasságkötéssel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ázassági vagyonközösség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keletkezés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gy dolog több örökös általi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zös öröklése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osztatlan közös termőföldtulajdon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ználati jog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elki szolgal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aszonélvezeti j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asználat jog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949-1A14-45E0-B7E9-B79B804230A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I. Rész – Dologi jog, föld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1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 föld mint sajátos dol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föld mint gazdasági erőforr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éges jószág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, korlátozott mértékben áll rendelkezésre és nem szaporítható, mással nem helyettesíthető, értékőrző képességgel rendelkezik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természetes megújuló képessége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elhasználhatatlanná teszi, minősége javítható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ezőgazdasági termelés bázisa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, így nélkülözhetetlen a társadalom létfenntartása szempontjábó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föld mint tulajdonjog tárg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zociálisan erősen kötött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, fontos szerepet játszik a vidéki lakosság megélhetésében, koncentrációja történeti tapasztalatok szerint súlyos torzító hatást gyakorol a társadalmi-gazdasági viszonyokra, ezért más tulajdoni tárgyaktól eltérő jogi megítélés jellemz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föld tulajdoni és forgalmi viszonyai különösen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iztonságos nyilvántartási rendszert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gényelne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gazgatási szempontból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a föld lehet külterületi vagy belterületi elhelyezkedés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termőföldnek minősül a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település külterületén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az ingatlan-nyilvántartásban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zántó, szőlő, gyümölcsös, kert, rét, legelő (gyep), nádas, erdő, fásított terület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művelési ágban vagy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alastó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ként nyilvántartott terüle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C59-9C90-45E8-9577-86BEC9D419D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I. Rész – Dologi jog, föld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1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0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termőföld tulajdonszerzésének mennyiségi korlátozá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lföldi magánszemély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tulajdonában legfeljebb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300 ha nagyságú </a:t>
            </a:r>
            <a:r>
              <a:rPr b="1" i="1" lang="hu-HU" sz="14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6000 AK értékű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termőföld leh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lföldi jogi személy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(szövetkezet, kft., rt.), valamint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jogi személyiség nélküli más szervezet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(kkt., bt.) termőföld tulajdonjogát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m szerezheti meg.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Kivételt jelent e szabály alól, hogy pl. a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gyar Állam, helyi önkormányzatok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termőföld tulajdonjogát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orlátozás nélkül megszerezhetik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. Jelzálog-hitelintézet legfeljebb 3 évig tulajdonolhat termőföldet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ülföldi magánszemély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(az EU tagországok állampolgárait kivéve), valamint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ülföldi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jogi személy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termőföld tulajdonjogát nem szerezheti meg. A belföldi magánszemélyre vonatkozó szabályok irányadók azon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uniós tagállami állampolgárra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, ak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lnSpc>
                <a:spcPct val="75000"/>
              </a:lnSpc>
              <a:spcBef>
                <a:spcPts val="6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önálló vállalkozó mezőgazdasági termelőként kíván letelepedni Magyarországon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lnSpc>
                <a:spcPct val="75000"/>
              </a:lnSpc>
              <a:spcBef>
                <a:spcPts val="6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legalább három éve folyamatosan, jogszerűen Magyarországon lakik és folytat mezőgazdasági tevékenysége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Termőföld eladása esetén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elővásárlási jog illeti meg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z adott terület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aszonbérlőjét, a feles bérlőt és részesművelő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elyben lakó szomszédot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elyben lakó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mzeti Földalapot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z elővásárlási jog gyakorlása során elsőbbséget élveznek a családi gazdálkodók, mezőgazdasági őstermelők, egyéni mezőgazdasági vállalkozó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2C7-CA9C-40C2-BBEF-7B47B37E23A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I. Rész – Dologi jog, föld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1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1699920"/>
            <a:ext cx="75438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Termőföld közös tulajdonba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közös tulajdonban lévő termőföld hasznosításának leggyakoribb esete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tulajdonostársak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földterületet közösen művelik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tulajdonostársak a használat jogát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egymás között megosztva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gyakorolják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tulajdonostársak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z egész földterületet kívülálló személy útján hasznosítják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(pl. haszonbérbe adják).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Közös termőföld-tulajdon megszünteté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közös tulajdonú ingatlant elsősorban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természetben kell megosztani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, ami után az egyes részek a volt tulajdonostársak kizárólagos tulajdonába kerülnek. Az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osztatlan közös termőföld-tulajdon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felosztására, „kiméretésére” a körzeti földhivatalnál beadott kérelem alapján van lehetőség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Magához váltás. 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tulajdonostársak egyike az egész ingatlant kizárólagos tulajdonként szerzi meg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közös tulajdonú ingatlan értékesítése útján. Ekkor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a vételárat kell a tulajdonostársak között megfelelően felosztani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4A5-8470-416E-8077-F1874360C06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II. Rész – Dologi jog, föld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1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81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haszonbér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termőföld haszonbérbe adásához a </a:t>
            </a:r>
            <a:r>
              <a:rPr b="0" i="1" lang="hu-HU" sz="1400" spc="-1" strike="noStrike">
                <a:solidFill>
                  <a:srgbClr val="ffffff"/>
                </a:solidFill>
                <a:latin typeface="Arial"/>
              </a:rPr>
              <a:t>haszonbérbe adó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(földtulajdonos) és a </a:t>
            </a:r>
            <a:r>
              <a:rPr b="0" i="1" lang="hu-HU" sz="1400" spc="-1" strike="noStrike">
                <a:solidFill>
                  <a:srgbClr val="ffffff"/>
                </a:solidFill>
                <a:latin typeface="Arial"/>
              </a:rPr>
              <a:t>haszonbérbe vevő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(földhasználó) között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írásbeli szerződés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egkötése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szükséges. A haszonbérbe vevő ezzel megszerzi a termőföld használatának és hasznai szedésének jogát, ennek fejében pedig köteles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aszonbért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fizet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zövetkezet és gazdasági társaság legfeljebb 2500 ha vagy 50000 AK értékű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termőföldet haszonbérelhet, mí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lföldi és külföldi magánszemély legfeljebb 300 ha nagyságú vagy 6000 AK értékű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termőföldet vehet bérb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termőföldre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őhaszonbérleti jog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illeti meg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volt haszonbérlőt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elyben lakó szomszédot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, valami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helyben lakó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haszonbérlet különös formá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Felesbérl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Részesművel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zívességi földhasznála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D3F-59E8-484E-95DA-A0D22F65844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2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77336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ötelem fogal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kötelmi viszony olyan relatív szerkezetű jogviszony, melyben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jogosult és a kötelezett személye mindig pontosan ismert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kötelezettnek a jogosult javára valamilyen magatartást kell tanúsítania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jogosult pedig jogi úton (bíróság) is kényszerítheti a kötelezettet, hogy a szerződésben vállalt magatartásért helytállj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ötelmek forrás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szerződé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Jogellenes károkozó magatartás (kártérítési kötelem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Jogalap nélküli gazdagodá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Egyoldalú jogügyletek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FE2-D1F3-4125-9A5F-E2865FAD6D9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2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915920"/>
            <a:ext cx="754380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erződés fogalma, létszakasz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Termelési és fogyasztási szükségletek kielégítését szolgáló társadalmi viszon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 szerződés létszakasza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 szerződés előkészíté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Szerződésköt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Felkészülés a teljesítés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Teljesít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Szerződésszeg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C9B-C55C-4CD3-9E75-E3A6271892D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. Rész – Jogelméleti alapok, alkotmány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75438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jogi norma fogalma és szerkez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jogi norma a jog legkisebb önálló egysége, egy általánosan megfogalmazott magatartási szabá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) tényállás (feltétel vagy hipotézis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b) rendelkezés (diszpozíció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6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c) jogkövetkezmén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jogszabály fogalma, típusai, hierarchiá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jogszabály az egy jogalkotási aktussal elfogadott jogi normák összessége. A Magyar Köztársaságban a jogalkotó szervek az alábbi jogszabályokat alkotjá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Országgyűlés törvény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Kormány rendelete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miniszterelnök és a Kormány tagjai rendelete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helyi önkormányzat rendelet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0BD-533F-4EBC-89CF-1CB2E09B65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2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 polgári jogi szerződés eleme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 szerződés </a:t>
            </a:r>
            <a:r>
              <a:rPr b="1" lang="hu-HU" sz="2100" spc="-1" strike="noStrike">
                <a:solidFill>
                  <a:srgbClr val="ffffff"/>
                </a:solidFill>
                <a:latin typeface="Arial"/>
              </a:rPr>
              <a:t>alanya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 szerződés </a:t>
            </a:r>
            <a:r>
              <a:rPr b="1" lang="hu-HU" sz="2100" spc="-1" strike="noStrike">
                <a:solidFill>
                  <a:srgbClr val="ffffff"/>
                </a:solidFill>
                <a:latin typeface="Arial"/>
              </a:rPr>
              <a:t>tárgya,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 é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 szerződés </a:t>
            </a:r>
            <a:r>
              <a:rPr b="1" lang="hu-HU" sz="2100" spc="-1" strike="noStrike">
                <a:solidFill>
                  <a:srgbClr val="ffffff"/>
                </a:solidFill>
                <a:latin typeface="Arial"/>
              </a:rPr>
              <a:t>tartalma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 szerződés alakiság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Arial"/>
              </a:rPr>
              <a:t>szóban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Arial"/>
              </a:rPr>
              <a:t>írásban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 é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Arial"/>
              </a:rPr>
              <a:t>ráutaló magatartással</a:t>
            </a: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FB8-049A-4232-9DE4-895A323DFF9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2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1699920"/>
            <a:ext cx="75438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erződéskötési mód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Individuális szerződésköt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jánlat – az ajánlattevő fél egyoldalú jognyilatkozata, mellyel beáll az ajánlati kötöttség. Az ajánlati kötöttség időtartamát meghatározhatja maga az ajánlattevő meghatározott napot, vagy eseményt megjelölve, vagy meghatározhatja jogszabály 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szerződés létrejöveteléhez az ajánlat változatlan tartalmú elfogadása szükséges. Ha a másik fél az ajánlatot módosított feltételekkel fogadná el, az új ajánlatnak minősü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Blankettaszerződ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Általános szerződési feltételek alkalmazásával megkötött, tömeges szolgáltatás nyújtására irányuló szerződése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őszerződ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felek arra vállalnak kötelezettséget, hogy egy későbbi időpontban egymással szerződést fognak kötni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5C5-8E5C-4972-AF7B-52F95C3AA03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3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177336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zerződés érvénytelen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z állam és a szerződések viszonya négyféle lehet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hibátlan, minden szempontból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kifogástalan szerződéseket az állam elismeri és támogatja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. Ezek a törvény erejével bírnak a felek között, kikényszerítésükhöz szükség esetén az állam közhatalmi kényszereszközt (tipikusan bírói utat) bocsát rendelkezésr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Nyomós közérdekből egyes esetekben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 szerződéskötést kötelezővé teszi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, vagy a szerződés egyes tartalmi elemeit kógens normával határozza meg (pl. fogyasztóvédelem körében), illetve bírói beavatkozást tesz lehetővé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Vannak szerződések, melyeket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z állam elismer, de nem támogat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, ezek bírói úton nem érvényesíthetők (pl. fogadásból eredő követelés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Végül vannak olyan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súlyosan fogyatékos, hibás szerződések,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melyeket az állam nem ismer el, az ezekhez fűződő joghatás beállását megakadályozza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495-0F55-4DE3-A4FE-A6781C7DE71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3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77336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Érvénytelenségi ok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emmissé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semmisség azt jelenti, hogy az érvénytelenségre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bárki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és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bármeddig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hivatkozhat, az ügylet érvénytelenségét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hatóságok hivatalból kötelesek észlelni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, s ha valamely fél észleli a jogügylet semmisségét, nem szükséges külön eljárást indítani a semmisség tényének megállapítására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Tilos ügyletek (jogszabályba vagy jóerkölcsbe ütköző, jogszabály megkerülésére kötött szerződése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Lehetetlen szolgáltatásra irányuló szerződé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Uzsorás szerződé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Színlelt (leplezett) szerződé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Fizikai kényszer hatása alatt megkötött szerződé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Cselekvőképességi hiba (cselekvőképtelen által törvényes képviselő nélkül tett jognyilatkozat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Kötelező alakiság megsértésével tett jogügylet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267-B7AA-4FBE-BFF8-D553B662AD1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3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1988640"/>
            <a:ext cx="754380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egtámadhatósá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megtámadhatóság azt jelenti, hogy a sérelmet szenvedett fél (vagy akinek jogos érdeke fűződik a jogügylet érvénytelenné nyilvánításához), egy éven belül a másik félhez küldött írásbeli nyilatkozattal vagy bírósági eljárás útján érvénytelenítheti a jogügyletet.  A jogügyletet csak az támadhatja meg, akit hátrányosan érint. A jognyilatkozat megtámadásra, az arra jogosultnak egy év áll rendelkezésére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37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Tévedé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37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Megtéveszté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37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Jogellenes fenyegeté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37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Szolgáltatás és ellenszolgáltatás feltűnő értékkülönböze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37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Indokolatlan egyoldalú előny kikötése blankettaszerződés esetén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DF0-B4F1-453F-89AE-E150687BB44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3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rződést biztosító mellékkötelezettség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Foglal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Óvadé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ötbé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ezessé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gyszerű (sortartó) kezessé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észfizető kezessé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Zál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ézizálogj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Zálogjog követelése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Jelzálogj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Önálló zálogj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Jogvesztés kiköté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1AB7-17F0-4F7F-AD8C-C5B58203EF1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4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75438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A szerződés teljesíté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ljesítéssel a felek a szerződésben elvállalt magatartást tanúsítják. A feleknek a szerződést tartalmuknak megfelelően a megszabott helyen és időben, a megállapított mennyiség, minőség és választék szerint kell teljesíten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 teljesítés hely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 teljesítés idej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 teljesítés módj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FE0-9193-494F-8CD3-739BB7E116E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4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1699920"/>
            <a:ext cx="75438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rződésszeg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Szerződésszegésnek minősül minden olyan magatartás vagy mulasztás, aminek következtében a szerződés célja nem valósul meg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kötelezetti késedelem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esetén a kötelezett a szerződésben előírt határidőn belül nem ajánlja fel szolgáltatását a jogosultnak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A jogosulti késedelem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esetén a jogosult magatartásán múlik, hogy a kötelezett nem képes teljesíteni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hibás teljesítés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esetén a kötelezett bár felajánlja a szolgáltatást, de az nem felel meg a szerződés vagy a jogszabály által előírt minőségi kritériumoknak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fffff"/>
                </a:solidFill>
                <a:latin typeface="Arial"/>
              </a:rPr>
              <a:t>Meghiúsulás</a:t>
            </a: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 (lehetetlenné válás) esetén a szerződés teljesítése véglegesen elmarad, mert fizikailag vagy jogilag lehetetlen a teljesítés, mert valamelyik fél megtagadja a teljesítést, vagy mert más szerződésszegés következtében nem köteles az egyik fél a teljesítés elfogadásár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Egyéb szerződésszegő magatartások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 tájékoztatási kötelezettség</a:t>
            </a: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elmulasztása,</a:t>
            </a: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z együttműködési kötelezettség elmulasztása.</a:t>
            </a: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7E0-BCCC-4B59-AB7B-256A2B46EEB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4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ártérítési felelős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 kártérítési szabályokat kell alkalmazni mind a szerződésen kívüli, mind pedig a szerződésszegésen alapuló károkozás körében. A vétkes kártérítési felelősség érvényesítésének négy együttes feltétele (tényállás eleme) van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jogellenes magatartás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okozati összefüggés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kár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vétkesség (felróhatóság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 kártérítési felelősség típusa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Rendes vétkes felelősség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: mentesül a felelősség alól a károkozó, ha bizonyítja, hogy úgy járt el, ahogy az általában elvárható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Fokozott (vétlen) felelősség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: a károkozó csak azzal mentheti ki magát, ha bizonyítja, hogy a kárt elháríthatatlan külső ok idézte elő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BE3-19AA-4223-9688-B946A1C1D9B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4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1773360"/>
            <a:ext cx="75438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Arial"/>
              </a:rPr>
              <a:t>A kártérítési felelősség funkció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Reparáció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, a sérelmes helyzet helyreállítása vagy ha ez már nem lehetséges, pénzbeni kártérítés útján, mellyel a jogosultat olyan helyzetbe kell hozni, mintha a károkozás be sem következett volna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Prevenció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, nevelő hatás elérése, a károkozó visszatartása a további hasonló magatartástól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vagyoni kártérítés a teljes vagyoni kár megtérítését jelenti. A vagyoni kár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három elemből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tevődik össze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 tényleges kárból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 kár elhárításához szükséges költségekből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és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z elmaradt haszonból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Ha a kár mértéke pontosan nem számítható ki, a bíróság a károkozásért felelős személyt olyan összegű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általános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kártérítés 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megfizetésére kötelezheti, amely a károsult teljes anyagi kárpótlására alkalmas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EDC-41F9-4B7A-A33D-3E72B376132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. Rész – Jogelméleti alapok, alkotmány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állami irányítás egyéb jogi eszköz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Határoz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Utasít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Jegybanki rendelkez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Statisztikai közlemé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Jogi iránymutat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Európai Unió jogrendszerének elem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lsődleges jogforrás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EU tagállamok egymással kötött szerződései, pl. Római Szerződ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Másodlagos jogforrás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ötelező: rendelet, irányelv, határoz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Nem kötelező: nyilatkozat, célkitűzés, alapelv, ajánlás, állásfoglal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44F-8CF5-4F6C-A76D-619534C75D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5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75438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szerződések egyes típus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Arial"/>
              </a:rPr>
              <a:t>Adási kötelm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 kötelezett magatartása arra irányul, hogy a szolgáltatás tárgyát, és a tárgyon fennálló jogosultságot általában valamely ellenszolgáltatásért a jogosultnak átadja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dásvételi szerző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lcsönszerző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állítási szerző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zőgazdasági termékértékesítési szerző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sereszerző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jándékozási szerző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A24-5487-4F33-800D-C9160B3A2FB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5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543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Arial"/>
              </a:rPr>
              <a:t>Eredeménykötelm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 kötelezettnek olyan munkát kell végeznie, amely valamilyen eredményben testesül meg. Az eredménykötelem kötelezettje az eredményt saját (vagy sajátnak számító) munkával maga produkálja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Vállalkozási szerződ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Tervezési szerződ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Építési szerződ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Szerelési szerződ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Kutatási szerződ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Fuvarozási szerződ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6F0-D11D-4535-A5F7-F980E64C387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5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1699920"/>
            <a:ext cx="754380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Arial"/>
              </a:rPr>
              <a:t>Ügyviteli kötelm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 kötelezett tevékenységet végez más személy javára úgy, hogy a tevékenység eredményességét nem garantálja, az eredmény ugyanis nem kizárólag a megbízott tevékenységétől, hanem más külső tényezőtől is függ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gbízási szerző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izományi szerző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állítmányozási szerző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itelszerző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etéti szerző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7EF-8B5E-4E50-BFB1-DA3D40537AD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V. Rész – A kötelmi jog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5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Használati kötelm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Licencia szerződ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Helytállásra irányuló kötelm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Biztosítási szerződ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Organizációs szerződés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tipikus és vegyes szerződés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DB7-CA87-46F9-A726-AADF51C65E0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. Rész – Jogelméleti alapok, alkotmány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75438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jogszabályok érvényessége és hatál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érvényességnek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az alábbi feltételei vanna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jogszabály alkotója rendelkezzen jogalkotói hatáskörre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jogszabályt az előírt eljárási szabályok betartásával hozzák létr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megalkotott jogszabály ne álljon ellentétben a magasabb szintű jogszabállyal, vagyis illeszkedjen a jogszabályi hierarchiáb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jogszabály a jogalanyok számára megismerhető legyen, tehát az arra előírt formában kihirdetésre kerüljö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atály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a jogszabály alkalmazhatóságára ad válasz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) alanyi (személyi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b) területi (földrajzi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c) időbel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d) tárgyi (alkalmazási kör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A58-94CB-434F-B5BE-50C5E231B1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. Rész – Jogelméleti alapok, alkotmány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1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543800" cy="41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7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jogvisz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jog által szabályozott társadalmi viszony, melynek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árom elemi egységét különböztethetjük meg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jogviszony alanya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(akik között a jogviszony fennáll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jogviszony tartalma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jogviszony tárgya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(mindaz, amire a jogviszony tartalmát kitevő jogok és kötelezettségek irányulnak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jogviszony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lanya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lehe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z ember (természetes személy),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jogi személy,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jogi személyiség nélküli jogalan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jogviszony tartalmán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azokat a jogokat és kötelezettségeket értjük, amelyek a jogviszonyban résztvevő feleket, tehát a jogviszony alanyait megilletik, illetve terhelik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jogviszony tárgya: magatartás, amely lehet pozitív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(amikor tevőleges cselekményt kell végrehajtani) vagy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gatív magatartás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(amikor valamely cselekedettől való tartózkodást kell megvalósítani), továbbá dolog, azaz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inden testi tárgy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, amely tulajdonjog tárgya lehet, és a birtokba vehető természeti energia (pl. víz). Mindezek mellett a jogviszony tárgya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énz (értékpapír) is lehet.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935F-DA12-46FF-A63C-30C100F438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. Rész – Jogelméleti alapok, alkotmányjog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2. Előad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543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alkotm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kotmány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államhatalom gyakorlásának szabályait, a politikai, gazdasági rendszer működésének alapelveit, az állami szervezetrendszer felépítését tartalmazó alaptörvé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alkotmányosság klasszikus alapelv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népszuverenitás el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hatalmi ágak szétválasztásának és egyensúlyának el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örvény előtti egyenlőség elve és a törvények uralma.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jogbiztonság követelmény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emberi jogok deklarálá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C91-1245-42C2-A222-1B9E1D3F44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rlovits Zsolt</cp:lastModifiedBy>
  <dcterms:modified xsi:type="dcterms:W3CDTF">2006-09-17T18:01:36Z</dcterms:modified>
  <cp:revision>89</cp:revision>
  <dc:subject/>
  <dc:title>PowerPoint bemutató</dc:title>
</cp:coreProperties>
</file>