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C59-14EE-4F18-80D9-2498DA9F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7C0-A0DD-4FAA-9DC9-44BB863B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5AB-45DE-4681-B538-88B50563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6EC-2811-451C-A254-22181A7A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DD9E-9B7A-463C-9639-C01379E3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2B0D-53BD-47FE-8AF6-F30A364B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868E-BDFE-443E-9BC4-6DC83114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2BDF-344E-4830-8B2C-2E7697BE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14D4-A59F-480D-B62C-C3D97D72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D30C-684E-46D5-9776-AD63180C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7DE1-1E7F-448C-9BD0-4B8960D9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EA4-1C29-469A-A58C-646B7A3E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852C-1D26-44A5-8757-5A6B9FDA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9D90-70B5-4A6E-96F5-56BC0E72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5CD1-282B-4472-BA72-100C5584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5BAE-329F-4853-BE35-E05766DA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5BE8-E0C1-4402-A57E-E0BCAE5A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F42-427D-4F10-8BA4-CA1C8766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159-6415-432A-9B97-9687772E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3C2-6199-482C-A25E-EF238507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AF0-6B9C-41A8-9E55-51657254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164-5BBD-46A2-8E4F-BD33A724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001-360F-43F0-A68B-7CB80A64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4BC-1B34-4CA8-85F7-9A1A743A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9EEC-CDCA-470D-B6F0-B385EF2BF5BC}" type="slidenum">
              <a:rPr b="0" lang="hu-H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E430-5488-4F88-95A7-76939F624286}" type="slidenum">
              <a:rPr b="0" lang="hu-H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640" y="1052640"/>
            <a:ext cx="51847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„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Környezetgazdálkodás, fenntartható fejlődés”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 környezetvédelem alapjai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. té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gazdasági teljesítmény mérésnek alapproblémái - GDP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GDP fogalma szere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GDP alapvető hiányosság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zürke és legális gazdaság kezelésének hiányosság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természeti erőforrások és az amortizáció kezelésének problematiká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GDP elszámolás logikai buktató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Érték és értéktelenség a GDP-b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fenntartható társadalmi jólét mérése és mutatószá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társadalmi jólét fogalma és értelmez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Gazdasági Jólét Mutatója (MEW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tó Gazdasági Jólét (NEW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nntartható Gazdasági Jólét (ISEW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alódi Fejlődés mutatója (GP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z Emberi Fejlődés Indexe (HD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z ökológiai lábny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természetes kapitalizmus alapelve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etartandó alapel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ermészeti erőforrások hatékony használ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iomimikri – tanulj a természettől, utánozd az ott működő rendszerek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Áttérés a készletező (stock) gazdasági szemléletről a flow (szétterülő, szolgáltató) gazdasági szemlélet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ermészeti tőke értékteremtése (ipari ökológia, ökohatékonyság, életciklus elemzé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99640" y="2923920"/>
            <a:ext cx="7488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ermészeti erőforrások gazdaságta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II. tém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979640" y="1052640"/>
            <a:ext cx="51847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„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Környezetgazdálkodás, fenntartható fejlődés”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rőforrások értelmezé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rőforrá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ármilyen dolog, tárgy, feltétel vagy körülmény, amely az emberi szükséglet kielégítéséhez alapul szolgálha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ljes erőforráskészle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rmészeti erőforráso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régebben csak a föl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beri erőforrás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sterséges erőforrások (tők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 természeti erőforrások típus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m megújul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ermészeti erőforrások és használatu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z ásványi nyersanyagvagyon osztályozása, rendsze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gújul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ermészeti erőforrások és használatu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iológiai növekedés törvénye és gazdasági értelmez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környezeti probléma megjelenése az erőforrások használatába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hatékony tulajdonosi szerkezet legfontosabb feltétele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Általános érvényűség (universalit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izárólagosság (exclusivit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Átruházhatóság (transferabilit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ikényszeríthetőség (enforceabilit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 közjavak tragédiáj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0280"/>
            <a:ext cx="8015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Garamond"/>
              </a:rPr>
              <a:t>A Közlegelők tragédiáj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piacgazdaságok a hatékonysági kritériumot általában a tulajdon cseréje által képesek teljesíteni. Ehhez azonban hatékony tulajdonosi szerkezet kell (általános, kizárólagos, átruházható, kikényszeríthető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közjavak esetében a tulajdon tisztázatlan! G. Hardin és Hankiss nyomán a válasz a következő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 Közlegelő használat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240" cy="4495320"/>
        </p:xfrm>
        <a:graphic>
          <a:graphicData uri="http://schemas.openxmlformats.org/drawingml/2006/table">
            <a:tbl>
              <a:tblPr/>
              <a:tblGrid>
                <a:gridCol w="955800"/>
                <a:gridCol w="967320"/>
                <a:gridCol w="1917000"/>
                <a:gridCol w="2279160"/>
                <a:gridCol w="1118160"/>
                <a:gridCol w="9918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tehene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gy-egy tehén súl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kéttehenes gazdák teheneinek együttes súl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második tehenet beengedõk haszna az eredeti állapothoz kép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tehenek összsúl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z összsúly csökkené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 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 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 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 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74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dec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 környezet értékelés rendszer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83883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termelés és fogyasztás környezeti problémá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Globális és lokális környezeti válság jellemző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ioszféra – Technoszféra összeegyeztet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enntartható fejlődés és növekedés gazdasági/társadalmi ellentmondás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iotópok működése: talaj, víz, levegő, klíma, flóra, fauna életterek összehangolá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örnyezeti értékel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lvezeti ár módszer (ingatlan ármeghatározás alapjá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eltételes értékelés (feltételes ármeghatározá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Utazási költség módszer (parkok, természeti, turisztikai látványosságok értékelés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eltételes kárértékelés (negatív externális költségek becslés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99640" y="2923920"/>
            <a:ext cx="7488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Garamond"/>
              </a:rPr>
              <a:t>Környezeti externáliá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Garamond"/>
              </a:rPr>
              <a:t>IV. tém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1125360"/>
            <a:ext cx="51850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„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Környezetgazdálkodás, fenntartható fejlődé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környezetszennyezés gazdaságtan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60930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környezetszennyezés gazdaságilag optimális szintj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559908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z externália optimális nagyság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5040360" cy="4443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1320" y="1484280"/>
            <a:ext cx="3352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: az externália gazdaságilag optimális szin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A+B: a tiszta magánhaszon társadalmi optimu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A: a társadalmi tiszta haszon maximu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C+D: az externáliai azon része, amit el kell kerül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C: a tiszta magánhaszonnak az a része, amit a társadalom nem ismer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Q*: a gazdasági tevékenység társadalmilag optimális szintj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Qm:a gazdasági tevékenység azon szintje, amely mellett maximális a magánhasz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 pigoui adó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Pigou a társadalom ráfordításait a </a:t>
            </a:r>
            <a:r>
              <a:rPr b="1" lang="hu-HU" sz="3000" spc="-1" strike="noStrike" u="sng">
                <a:solidFill>
                  <a:srgbClr val="ffffff"/>
                </a:solidFill>
                <a:uFillTx/>
                <a:latin typeface="Garamond"/>
              </a:rPr>
              <a:t>termelésre</a:t>
            </a: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 egységesen kivetett </a:t>
            </a:r>
            <a:r>
              <a:rPr b="1" lang="hu-HU" sz="3000" spc="-1" strike="noStrike" u="sng">
                <a:solidFill>
                  <a:srgbClr val="ffffff"/>
                </a:solidFill>
                <a:uFillTx/>
                <a:latin typeface="Garamond"/>
              </a:rPr>
              <a:t>adók</a:t>
            </a: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 segítségével vélte internalizálhatóna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Az adó optimális nagysága megegyezik az optimális szennyezési szinthez tartozó externális határköltségge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Problémák: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A hatóság általában nem ismeri az egyéni tiszta határhaszon görbék helyét és helyes lefutását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Az egyéni termelő nem ismeri az általa okozott társadalmi károkat. Információ aszimmetria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Tiszta piacgazdaságot feltételez, illetve egységnyi termeléshez egységnyi szennyezést rende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z externáliák kezelése adóv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835280" y="1700280"/>
            <a:ext cx="56163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A Coase téte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700280"/>
            <a:ext cx="828036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Nincs szükség állami beavatkozásra, ha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Garamond"/>
              </a:rPr>
              <a:t>tulajdon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vagy rendelkezési jogok meghatározott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üggetlenül attól, hogy ki rendelkezik a tulajdonosi jogokkal,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Garamond"/>
              </a:rPr>
              <a:t>alku útján</a:t>
            </a: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 a rendszer eléri a társadalmi optimum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szennyeződés ugyanolyan mértékű csökkentése érdekében nem mindig a szennyezőre kell kivetni az adót, esetenként a </a:t>
            </a: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károsultnak kellene fizetnie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azért, hogy csökkenjen az emisszi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Az externáliák kezelése piaci önszabályozással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92360" y="1984320"/>
            <a:ext cx="56163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dók és szabványok használata a szabályozásba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5689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légkör és levegő szennyeződései, zajártalma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égkör összetétele és kritikus pontj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égköri szennyezettség alapkoncentráció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zén-dioxid és üvegházgázok kérd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obális légszennyezők – lokális légszennyező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édelmi stratégiák kialakítása: passzív védelem/aktív véde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ntszerű/diffúz és vonalszennye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zabványok, normák alkalmazásának elsőbbség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57722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dók alkalmazásának preferenciája a szabályozásba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59896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99640" y="2923920"/>
            <a:ext cx="7488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környezetpolitika eszközei, a környezetvédelem szabályozás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. té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1197000"/>
            <a:ext cx="51850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„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Környezetgazdálkodás, fenntartható fejlődé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örnyezetszabályozási eszközök rendszerez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2830680" cy="426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irekt szabályoz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Normatív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zabályozásnak is nevezik, mivel tulajdonképpen a normák útján a kibocsátás korlátozásával, betiltásával szabályoz. A szabályozás legfőbb jellemzője a szennyezés egyedi szintjének előírása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1844640"/>
            <a:ext cx="28195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direkt szabály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Közgazdasági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és piaci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eszközök alkalmazására épül. Lehetnek: díjak, adók, engedélyek, támogatások, biztosít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1700280"/>
            <a:ext cx="28195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egelőző szabály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Önként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megegyezésekre, megállapodásokra épül. Szerződések rögzítik a vállalási feltételeket, de a feltételek megszegése büntetést von maga utá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özvetlen vagy normatív szabályozá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minisztratív jellegű korlátozásokon tilalmakon alap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élok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olitikai döntés kérdése, nem elsősorban természettudományos kritériumok alakítjá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Kritériumok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űszaki paraméterek pl. a víz ihatósá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SZÁGONKÉNT ELTÉRŐ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 direkt szabályozás eszköze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790280"/>
            <a:ext cx="8381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Garamond"/>
              </a:rPr>
              <a:t>Nyílt tiltás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– tisztán hatósági eszköz (DDT, Lindá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Garamond"/>
              </a:rPr>
              <a:t>Engedélyezési eljárás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– környezeti hatásvizsgálat, felülvizsgálat, határérték alkalmazása, technológia engedélyez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Garamond"/>
              </a:rPr>
              <a:t>Normák állítása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– levegő és vízminőségi imissziós normák; tevékenységre, technológiára vonatkozó emissziós normák; ellenőrző monitoring; szankcionál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 direkt szabályozás hátrány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normák megállapításával kapcsolatos nehéz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gas adminisztrációs költség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zabályozás elfogadásának társadalmi-gazdasági problémá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sztán műszaki szempontokon alapul, melynek mérési költségei magas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környezet használatát ingyenesen biztosítja azok részére, akik a norma alatt szennyezne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özvetett vagy gazdasági szabályozá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989840" cy="44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GAZDASÁGI ÉRDEKELTSÉG ALAPJÁN IGYEKSZIK A GAZDASÁGI ÉLET SZEREPLŐIT A MEGFELELŐ KÖRNYEZETI MAGATARTÁS IRÁNYÁBA TERELNI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GGYAKRABBAN ALKALMAZOTT FORMÁ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ó vagy díj (vagy más hasonló közteh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ámogatás (szubvenci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iacteremt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 közvetett szabályozók típus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örnyezetvédelmi alap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örnyezethasználati díjak (termékdíj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reskedelmi szabályozás (vámok árak szabályozás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zubvenciók (pályázatok, adókedvezmén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acteremtés (kibocsátási jogokkal való ke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éti visszatérítési rendsz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dezetkép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örnyezetbarát védjegy s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iacteremté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missziócsökkentési jóváír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missziókiegyenlít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uborékpolit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Összevont szennyezés kibocsát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vízszennyezés és szennyvizek problémakör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Föld vízkészletének jellemző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vízhasználat és vízkörforgás jellemző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vízszennyezők csoportosítása és azok hatás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hézfémek, növényvédők, detergensek, eutrofizáció, hő-szennye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özműolló fogalma jelentősé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vízszennyezés csökkentésének módszere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ktív védelem, passzív védelem, elhelye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zén-dioxid kereskedel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820000" cy="2541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68360" y="1989000"/>
            <a:ext cx="4103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iotói Jegyzőkönyv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 CO2 kereskedés hazánkb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íjtalan Kiosztási kvóta (93,7 millió tonna CO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z energiaszektor és egyéb nagy felhasználók kibocsátás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ÉT szerepe a CO2 kereskedelemb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nemzetközi kereskedelem piaci és területi korlátai, magyar vonatkoz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Önkéntes környezeti megállapodáso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z önkéntes környezetvédelmi megállapodás a vállalatok és a környezetvédelmi hatóságok közötti egyezség az ipari létesítmények, vállalkozások környezetterhelésére. Alapvetően egy vagy több gazdálkodó szervezet és valamilyen állami szervezet között jönnek létre, de esetenként a felek között további szervezetek, például civil szervezetek is lehetne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Ágazati önkéntes megállapodáso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z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ágazati önkéntes megállapodások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létrejöhetnek egy adott ipari ágazat vagy annak egy része és az állam vagy az azt képviselő valamely közigazgatási szerv, hatóság között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 megállapodásban rögzítettekért a felelősséget pontosan körül kell írni, így elsősorban az elérendő fő és mellékcélokat (időszaki előirányzatokat) és az ezek elérését szolgáló tervezett lépéseket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tratégiai környezeti vizsgálat (SKV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koncepció értelmében, szükség van egy olyan eszközre, amely a beruházási szintnél már jóval előbb, az ágazati vagy területi fejlesztési tervek készítésekor szembesíti a tervezőket a környezeti szempontokkal. Erre a célra Európa több államában bevezetésre került egy olyan eszköz, amelyet stratégiai környezeti vizsgálatnak hívnak és a célja, hogy a környezetvédelmi megfontolásokat érvényesítse a környezetre valószínűbb, legjelentősebb hatást gyakorló különböző tervek, programok és szakpolitikák megalkotásak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z SKV hatá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z SKV hatást képes kifejteni arra, h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környezeti szempontok áthassák a döntések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ézményi harmónia és integráció jöhessen létre különböző ágazatok közöt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környezeti ártalmak megelőzhetők legyene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éltányosság és nyilvánosság részvételi szempontjai érvényesüljene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26560" y="3357360"/>
            <a:ext cx="7488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 környezetbarát vállaltirányítá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. té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1268280"/>
            <a:ext cx="51850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„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Környezetgazdálkodás, fenntartható fejlődé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állalati környezeti kockázatok becsl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Egy környezeti esemény (x) kockázata (R=risk) ennek megfelelően az esemény bekövetkezési valószínségének P(x) és a bekövetkezett esemény okozta kárnak D(x) a függvény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Garamond"/>
              </a:rPr>
              <a:t>Matematikai formulával kifejezv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68360" y="4437000"/>
            <a:ext cx="46659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evékenységek és lehetséges kockázatok a vállalati működésbe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3054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örnyezeti menedzsment alkalmazás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vállalkozás, vállalat környezeti megítél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környezeti kihívások alul- vagy túlértékel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vállalkozások  környezeti kockázatának endogén és exogén összetevő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környezeti funkció szerepe a vállalatná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környezeti felelősségi szintek meghatározása kijelöl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 talaj és környezeti problémá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alaj funkció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alajterhelés jellemző hatás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mezőgazdaság szerepe a talajszennyezésb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Állattenyésztés jellemző talajterhel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kemikáliák, növénytermesztés jellemző talajterhel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öntözés hatása a talajszerkezetre (öntözés, kilugzás, savanyodás, szikesedé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környezeti funkció szerepe a vállaltnál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0930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örnyezeti menedzsment rendszerek a gyakorlatba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Külső fél által tanúsítható környezetközpontú irányítási rendszerek (KIR) – ISO 14 001 vagy EMAS szeri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örnyezeti teljesítményértékelés – ISO 14031szabvány alapján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isztább termelés – pazarlások, elfolyások, hatékonytalanság csökkentés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Ökokontrolling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Ökomarketing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zállítási és egyéb logisztikai rendszerek átalakítása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ermékek környezetbarát fejlesztése és címkézés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örnyezeti költségszámítás – környezeti megtakarítási lehetségek feltárása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Életciklus-elemzé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olgozók képzése, ösztönzése a környezet és egészségkímél magatartásra</a:t>
            </a: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4000" y="2923920"/>
            <a:ext cx="8064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környezetpolitika és a fenntartható fejlődés dilemmái az ezredforduló utá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I. té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1979640" y="1052640"/>
            <a:ext cx="51847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„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Környezetgazdálkodás, fenntartható fejlődé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környezetpolitika nemzetközi fejlődési irány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Ázsiai túlnépesedési problémák (társadalmi globalizációs jelensége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észletezés vagy szolgáltatás prefera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örnyezeti kockázatok és nemzetközi egyezmények hatás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Gazdasági és fejlődési önmérséklés a fejlett országokb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környezetpolitika hazai jellegzetessége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ermészeti és környezeti állapotjellemzők változá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entralizációs vagy decentralizációs fejlődési utak hatása a környezeti állapot jellemzők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örnyezeti gondoskodás fejlett környezettechniká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zőgazdaság versus környezet - dilemmá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z EU tagság környezeti kihívás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lemmák a fejlődési fejlesztési irányok területé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özműtervek és kapacitások kérdései problémás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gységes normák és egységes számonkér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húzók és lemaradók tábora az EU egységes környezeti rendszeréb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hulladékok keletkezése és elhelyez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hulladék fogalma és csoportosítá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hulladékok kezelésének rendszere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hulladékok megsemmisítésének módozat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hulladékok feldolgozása és hasznosítá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ásodnyersanyagok szerepe a hulladékkezelésb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hulladékkezelés közgazdasági dilemmá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899640" y="2923920"/>
            <a:ext cx="7488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fenntartható fejlődés és a vállalkozások környezeti felelőssé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I. té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1341360"/>
            <a:ext cx="51847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„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Környezetgazdálkodás, fenntartható fejlődé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fenntartható fejlődés értelmezé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fenntartható fejlődés elmélete és elve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jlődési és gazdaság korlátozási dilemmák társadalmi értelmezé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jlett világ és fejlődő országok fejlődésének összehangolá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fenntarthatósági elméletek szerepe a gazdasági szereplőkre és a társdalom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 gazdasági növekedés és környezetminőség kapcsolat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ársadalmi igények, szolgáltatás és fogyasztás kapcsolati arány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uznets görbe – a növekedés és a szennyezés kapcsol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nergiafelhasználás és környezetminőség kapcsol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én-dioxid emisszió és fejlődés kapcsol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észletgazdaság vagy/és szolgáltatásgazdasá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0:05:40Z</dcterms:created>
  <dc:creator>Dr. Fogarassy Csaba</dc:creator>
  <dc:description/>
  <dc:language>en-US</dc:language>
  <cp:lastModifiedBy>Fogarassy Csaba</cp:lastModifiedBy>
  <dcterms:modified xsi:type="dcterms:W3CDTF">2006-06-29T15:22:40Z</dcterms:modified>
  <cp:revision>8</cp:revision>
  <dc:subject/>
  <dc:title>Fenntartható fejlődés és környezetgazdálkodás</dc:title>
</cp:coreProperties>
</file>