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520C-32BE-47FD-BE4A-C7D5331E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3530-CB83-4D5C-AA1C-767186C8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E46C-1D68-418B-9FA8-E7F24B53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6820-55AA-4228-9A6F-BA14677F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90B5-4DEE-43C8-98A1-19A49E21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AA7F-C79D-43C0-8C51-862888D0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686E-3A65-45F8-B5FB-47BC26C2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D2A2-79D7-43F4-BEA5-DA3CF253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839A-8855-4C29-95B8-2AFBFE95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9C07-97E1-4A8C-BC6B-A7BF7C23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A4FC-D9F0-47F5-8951-0610CEDE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EEFC-4EC3-476B-8FF9-57C8584F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FEA6-34CB-4021-8BA4-A42E27A5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CB57-A96C-4B7A-A647-87F8DFED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3D48-6BA3-4A2A-A9FD-086170F9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50AE-02F9-4BDE-897A-8AADB0B5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6A43-92E8-4C28-986C-515E1B34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5B37-B01A-414C-9AFA-93CC462E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25E8-E6A5-4995-AE06-45A2D518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5C05-DDA9-4BC6-9885-443DD5E7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AD39-5A57-40D2-B08A-A9CE17E2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4271-34EC-407A-8EA0-D8C58C74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B805-9EB6-44A0-817A-B5756398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7DF3-7DD0-4E7B-A988-D5C039D1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E523-9C57-46E2-BAF2-E97E61A7E06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736C-C458-4A67-A04F-95D4DBD8911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91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Az ökomarketing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342900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aeaea"/>
                </a:solidFill>
                <a:latin typeface="Times New Roman"/>
              </a:rPr>
              <a:t>Dr. Szabó Gábor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aeaea"/>
                </a:solidFill>
                <a:latin typeface="Times New Roman"/>
              </a:rPr>
              <a:t>Dr. Szolnoki Győzőné Dr. Karkus Má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eaeaea"/>
                </a:solidFill>
                <a:latin typeface="Times New Roman"/>
              </a:rPr>
              <a:t>Debreceni Egye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aa"/>
                </a:solidFill>
                <a:latin typeface="Times New Roman"/>
                <a:ea typeface="Times New Roman"/>
              </a:rPr>
              <a:t>Az ökomarketing fogalm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Olyan módszer, szemlélet, amellyel a vállalat hagyományos marketingeszközeit  alkalmazza a környezetbarát termékek jobb eladására, a környezettudatos vállalatirányítás piaci előnyeinek kihasználására, a környezettudatos fogyasztók megnyerésér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ágabban beleértik a környezetvédelmi szolgáltatások, technológiák, irányítási eszközök eladásának támogatását i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Újabban beletartozik a környezetpolitika  marketingje i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z ökomarketing terjedését befolyásoló tényező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örnyezetpolitika jogi szabályozása (normatív eszközök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+ Gazdasági (piaci) eszközök (adók, támogatások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+ Fogyasztók környezeti tudatosság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+ Média, pártok, ......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----------------------------------------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 Többletköltségek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 Anyagi korlátok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 Technológiai kötöttségek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 Megszokás, rossz beidegződés, ...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95280" y="609300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Times New Roman"/>
              </a:rPr>
              <a:t>Forrás: Dyllick, 1996. 19. 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76500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Ökológiai marketingstratégiák csoportosítása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203640" y="1557360"/>
            <a:ext cx="5040360" cy="431640"/>
            <a:chOff x="3203640" y="1557360"/>
            <a:chExt cx="5040360" cy="431640"/>
          </a:xfrm>
        </p:grpSpPr>
        <p:sp>
          <p:nvSpPr>
            <p:cNvPr id="122" name=""/>
            <p:cNvSpPr/>
            <p:nvPr/>
          </p:nvSpPr>
          <p:spPr>
            <a:xfrm>
              <a:off x="3617280" y="1557360"/>
              <a:ext cx="421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STRATÉGIÁT MEGHATÁROZÓ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03640" y="1557360"/>
              <a:ext cx="5040360" cy="43164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68360" y="3068640"/>
            <a:ext cx="431640" cy="2305080"/>
            <a:chOff x="468360" y="3068640"/>
            <a:chExt cx="431640" cy="2305080"/>
          </a:xfrm>
        </p:grpSpPr>
        <p:sp>
          <p:nvSpPr>
            <p:cNvPr id="125" name=""/>
            <p:cNvSpPr/>
            <p:nvPr/>
          </p:nvSpPr>
          <p:spPr>
            <a:xfrm rot="16200000">
              <a:off x="-411480" y="4021200"/>
              <a:ext cx="21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STRATÉGI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8360" y="3068640"/>
              <a:ext cx="431640" cy="23050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042920" y="4076640"/>
            <a:ext cx="74167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2852640"/>
            <a:ext cx="74167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43280" y="2205000"/>
            <a:ext cx="0" cy="3384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24360" y="2205000"/>
            <a:ext cx="0" cy="3384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2852640"/>
            <a:ext cx="74167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24360" y="2205000"/>
            <a:ext cx="0" cy="3384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042920" y="2205000"/>
            <a:ext cx="7416720" cy="3384720"/>
            <a:chOff x="1042920" y="2205000"/>
            <a:chExt cx="7416720" cy="3384720"/>
          </a:xfrm>
        </p:grpSpPr>
        <p:grpSp>
          <p:nvGrpSpPr>
            <p:cNvPr id="134" name=""/>
            <p:cNvGrpSpPr/>
            <p:nvPr/>
          </p:nvGrpSpPr>
          <p:grpSpPr>
            <a:xfrm>
              <a:off x="1042920" y="2205000"/>
              <a:ext cx="7416720" cy="3384720"/>
              <a:chOff x="1042920" y="2205000"/>
              <a:chExt cx="7416720" cy="338472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1116000" y="2349360"/>
                <a:ext cx="6912000" cy="2953440"/>
                <a:chOff x="1116000" y="2349360"/>
                <a:chExt cx="6912000" cy="295344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6012000" y="234936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cc"/>
                      </a:solidFill>
                      <a:latin typeface="Times New Roman"/>
                    </a:rPr>
                    <a:t>PIAC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012000" y="2997360"/>
                  <a:ext cx="20160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cc"/>
                      </a:solidFill>
                      <a:latin typeface="Times New Roman"/>
                    </a:rPr>
                    <a:t>Környezeti költségstratégia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012000" y="4294080"/>
                  <a:ext cx="201600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cc"/>
                      </a:solidFill>
                      <a:latin typeface="Times New Roman"/>
                    </a:rPr>
                    <a:t>Környezeti szempontból újító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132000" y="2925720"/>
                  <a:ext cx="201636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cc"/>
                      </a:solidFill>
                      <a:latin typeface="Times New Roman"/>
                    </a:rPr>
                    <a:t>Környezeti piac biztosítási stratégia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132000" y="4292640"/>
                  <a:ext cx="201636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cc"/>
                      </a:solidFill>
                      <a:latin typeface="Times New Roman"/>
                    </a:rPr>
                    <a:t>Környezeti piacfejlesztő stratégia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132000" y="2349360"/>
                  <a:ext cx="2159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cc"/>
                      </a:solidFill>
                      <a:latin typeface="Times New Roman"/>
                    </a:rPr>
                    <a:t>TÁRSADALOM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187280" y="3141720"/>
                  <a:ext cx="1584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cc"/>
                      </a:solidFill>
                      <a:latin typeface="Times New Roman"/>
                    </a:rPr>
                    <a:t>DEFENZÍV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116000" y="4508640"/>
                  <a:ext cx="1584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cc"/>
                      </a:solidFill>
                      <a:latin typeface="Times New Roman"/>
                    </a:rPr>
                    <a:t>OFFENZÍV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042920" y="2205000"/>
                <a:ext cx="7416720" cy="3384720"/>
                <a:chOff x="1042920" y="2205000"/>
                <a:chExt cx="7416720" cy="3384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042920" y="2205000"/>
                  <a:ext cx="7416720" cy="3384720"/>
                </a:xfrm>
                <a:prstGeom prst="rect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042920" y="4076640"/>
                  <a:ext cx="741672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843280" y="2205000"/>
                  <a:ext cx="0" cy="33847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042920" y="2852640"/>
                  <a:ext cx="741672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724360" y="2205000"/>
                  <a:ext cx="0" cy="33847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0" name=""/>
            <p:cNvGrpSpPr/>
            <p:nvPr/>
          </p:nvGrpSpPr>
          <p:grpSpPr>
            <a:xfrm>
              <a:off x="5003640" y="3500280"/>
              <a:ext cx="576360" cy="505080"/>
              <a:chOff x="5003640" y="3500280"/>
              <a:chExt cx="576360" cy="505080"/>
            </a:xfrm>
          </p:grpSpPr>
          <p:sp>
            <p:nvSpPr>
              <p:cNvPr id="151" name=""/>
              <p:cNvSpPr/>
              <p:nvPr/>
            </p:nvSpPr>
            <p:spPr>
              <a:xfrm>
                <a:off x="5076720" y="3573360"/>
                <a:ext cx="5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cc"/>
                    </a:solidFill>
                    <a:latin typeface="Times New Roman"/>
                  </a:rPr>
                  <a:t>I.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003640" y="3500280"/>
                <a:ext cx="576360" cy="505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5003640" y="5013360"/>
              <a:ext cx="648000" cy="504720"/>
              <a:chOff x="5003640" y="5013360"/>
              <a:chExt cx="648000" cy="504720"/>
            </a:xfrm>
          </p:grpSpPr>
          <p:sp>
            <p:nvSpPr>
              <p:cNvPr id="154" name=""/>
              <p:cNvSpPr/>
              <p:nvPr/>
            </p:nvSpPr>
            <p:spPr>
              <a:xfrm>
                <a:off x="5076720" y="5086440"/>
                <a:ext cx="57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cc"/>
                    </a:solidFill>
                    <a:latin typeface="Times New Roman"/>
                  </a:rPr>
                  <a:t>IV.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003640" y="5013360"/>
                <a:ext cx="576360" cy="50472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740720" y="5013360"/>
              <a:ext cx="647280" cy="504720"/>
              <a:chOff x="7740720" y="5013360"/>
              <a:chExt cx="647280" cy="504720"/>
            </a:xfrm>
          </p:grpSpPr>
          <p:sp>
            <p:nvSpPr>
              <p:cNvPr id="157" name=""/>
              <p:cNvSpPr/>
              <p:nvPr/>
            </p:nvSpPr>
            <p:spPr>
              <a:xfrm>
                <a:off x="7813440" y="5086440"/>
                <a:ext cx="57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cc"/>
                    </a:solidFill>
                    <a:latin typeface="Times New Roman"/>
                  </a:rPr>
                  <a:t>III.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740720" y="5013360"/>
                <a:ext cx="576000" cy="50472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7740720" y="3500280"/>
              <a:ext cx="647280" cy="504720"/>
              <a:chOff x="7740720" y="3500280"/>
              <a:chExt cx="647280" cy="504720"/>
            </a:xfrm>
          </p:grpSpPr>
          <p:sp>
            <p:nvSpPr>
              <p:cNvPr id="160" name=""/>
              <p:cNvSpPr/>
              <p:nvPr/>
            </p:nvSpPr>
            <p:spPr>
              <a:xfrm>
                <a:off x="7813440" y="3573360"/>
                <a:ext cx="57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cc"/>
                    </a:solidFill>
                    <a:latin typeface="Times New Roman"/>
                  </a:rPr>
                  <a:t>II.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740720" y="3500280"/>
                <a:ext cx="576000" cy="50472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55640" y="1413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Mit kell tenni az ökomarketing bevezetése érdekében?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 rot="10800000">
            <a:off x="684360" y="2420640"/>
            <a:ext cx="8302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Fel kell mérni az ágazat/vállalat fő környezeti problémáit (a környezetterhelés mátrixa)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2637000"/>
            <a:ext cx="81356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3573360"/>
            <a:ext cx="784836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spcBef>
                <a:spcPts val="1624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Azonosítani kell a környezeti célok megvalósítására mozgósítható csoportokat (környezeti érdek érvényesítés mátrixa)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271440" indent="-271440">
              <a:spcBef>
                <a:spcPts val="1624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Times New Roman"/>
              </a:rPr>
              <a:t>Ki kell választani a megfelelő „ökológiai </a:t>
            </a:r>
            <a:r>
              <a:rPr b="1" lang="en-US" sz="2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eaeaea"/>
                </a:solidFill>
                <a:latin typeface="Times New Roman"/>
              </a:rPr>
              <a:t>versenyterületeket”!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2602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Versenyképesség és környezetvédelem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00000" y="260280"/>
            <a:ext cx="80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Vállalati versenyképesség és környez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95280" y="1557360"/>
          <a:ext cx="8565840" cy="3528720"/>
        </p:xfrm>
        <a:graphic>
          <a:graphicData uri="http://schemas.openxmlformats.org/drawingml/2006/table">
            <a:tbl>
              <a:tblPr/>
              <a:tblGrid>
                <a:gridCol w="1726920"/>
                <a:gridCol w="1710000"/>
                <a:gridCol w="1709640"/>
                <a:gridCol w="1709640"/>
                <a:gridCol w="170964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Érintett területe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ertikumeleme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ezőgazdaság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Élelmiszeripa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Élelmiszer-kereskedelem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ogyasztó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nergi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Levegő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íz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laj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Hulladé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Ökoszisztém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gészség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900000" y="90792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Környezeti terhelések mátrixa az élelmiszer-gazdaságba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24000" y="5300640"/>
            <a:ext cx="2663640" cy="512640"/>
            <a:chOff x="324000" y="5300640"/>
            <a:chExt cx="2663640" cy="512640"/>
          </a:xfrm>
        </p:grpSpPr>
        <p:sp>
          <p:nvSpPr>
            <p:cNvPr id="171" name=""/>
            <p:cNvSpPr/>
            <p:nvPr/>
          </p:nvSpPr>
          <p:spPr>
            <a:xfrm>
              <a:off x="324000" y="5445000"/>
              <a:ext cx="26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Magas környezetterhelé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2720" y="5300640"/>
              <a:ext cx="2016360" cy="144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203640" y="5300640"/>
            <a:ext cx="2808360" cy="512640"/>
            <a:chOff x="3203640" y="5300640"/>
            <a:chExt cx="2808360" cy="512640"/>
          </a:xfrm>
        </p:grpSpPr>
        <p:sp>
          <p:nvSpPr>
            <p:cNvPr id="174" name=""/>
            <p:cNvSpPr/>
            <p:nvPr/>
          </p:nvSpPr>
          <p:spPr>
            <a:xfrm>
              <a:off x="3203640" y="544500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Közepes környezetterhelé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35280" y="5300640"/>
              <a:ext cx="2016360" cy="1443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229440" y="5300640"/>
            <a:ext cx="2914560" cy="512640"/>
            <a:chOff x="6229440" y="5300640"/>
            <a:chExt cx="2914560" cy="512640"/>
          </a:xfrm>
        </p:grpSpPr>
        <p:sp>
          <p:nvSpPr>
            <p:cNvPr id="177" name=""/>
            <p:cNvSpPr/>
            <p:nvPr/>
          </p:nvSpPr>
          <p:spPr>
            <a:xfrm>
              <a:off x="6229440" y="5445000"/>
              <a:ext cx="291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Alacsony környezetterhelé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5300640"/>
              <a:ext cx="2016000" cy="144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5280" y="609300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Times New Roman"/>
              </a:rPr>
              <a:t>Forrás: Belz, 1994. 354. o., Dyllick, 1996. 18. 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9640" y="0"/>
            <a:ext cx="835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Vállalati versenyképesség és környez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09300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Times New Roman"/>
              </a:rPr>
              <a:t>Forrás: Dyllick, 1996. 19. 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24000" y="5300640"/>
            <a:ext cx="2663640" cy="512640"/>
            <a:chOff x="324000" y="5300640"/>
            <a:chExt cx="2663640" cy="512640"/>
          </a:xfrm>
        </p:grpSpPr>
        <p:sp>
          <p:nvSpPr>
            <p:cNvPr id="183" name=""/>
            <p:cNvSpPr/>
            <p:nvPr/>
          </p:nvSpPr>
          <p:spPr>
            <a:xfrm>
              <a:off x="324000" y="5445000"/>
              <a:ext cx="26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Nagy hatá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2720" y="5300640"/>
              <a:ext cx="2016360" cy="144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203640" y="5300640"/>
            <a:ext cx="2808360" cy="512640"/>
            <a:chOff x="3203640" y="5300640"/>
            <a:chExt cx="2808360" cy="512640"/>
          </a:xfrm>
        </p:grpSpPr>
        <p:sp>
          <p:nvSpPr>
            <p:cNvPr id="186" name=""/>
            <p:cNvSpPr/>
            <p:nvPr/>
          </p:nvSpPr>
          <p:spPr>
            <a:xfrm>
              <a:off x="3203640" y="544500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Közepes hatá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35280" y="5300640"/>
              <a:ext cx="2016360" cy="1443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229440" y="5300640"/>
            <a:ext cx="2914560" cy="512640"/>
            <a:chOff x="6229440" y="5300640"/>
            <a:chExt cx="2914560" cy="512640"/>
          </a:xfrm>
        </p:grpSpPr>
        <p:sp>
          <p:nvSpPr>
            <p:cNvPr id="189" name=""/>
            <p:cNvSpPr/>
            <p:nvPr/>
          </p:nvSpPr>
          <p:spPr>
            <a:xfrm>
              <a:off x="6229440" y="5445000"/>
              <a:ext cx="291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Alacsony hatá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9640" y="5300640"/>
              <a:ext cx="2016000" cy="144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aphicFrame>
        <p:nvGraphicFramePr>
          <p:cNvPr id="191" name=""/>
          <p:cNvGraphicFramePr/>
          <p:nvPr/>
        </p:nvGraphicFramePr>
        <p:xfrm>
          <a:off x="250920" y="1397160"/>
          <a:ext cx="8640720" cy="3687480"/>
        </p:xfrm>
        <a:graphic>
          <a:graphicData uri="http://schemas.openxmlformats.org/drawingml/2006/table">
            <a:tbl>
              <a:tblPr/>
              <a:tblGrid>
                <a:gridCol w="1814400"/>
                <a:gridCol w="1706760"/>
                <a:gridCol w="1706400"/>
                <a:gridCol w="1706400"/>
                <a:gridCol w="1706760"/>
              </a:tblGrid>
              <a:tr h="738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efolyásoló tényező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ertikumeleme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ezőgazdaság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Élelmiszeripa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Élelmiszer-kereskedelem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ogyasztó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iaci szereplő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olitika, kormányza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Közvélemény, mozgalma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395280" y="765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Ökológiai érintettség (igény) mátrixa az élelmiszer-gazdaságba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09:07:32Z</dcterms:created>
  <dc:creator>Szolnoki Győzőné</dc:creator>
  <dc:description/>
  <dc:language>en-US</dc:language>
  <cp:lastModifiedBy>Vasa László</cp:lastModifiedBy>
  <dcterms:modified xsi:type="dcterms:W3CDTF">2006-06-29T06:02:29Z</dcterms:modified>
  <cp:revision>36</cp:revision>
  <dc:subject/>
  <dc:title>PowerPoint bemutató</dc:title>
</cp:coreProperties>
</file>