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516-1866-411F-B8D7-12EDC9D1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52A-75C0-46BB-BF88-B46B9C1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2A7-5190-42C7-BBF7-28BC3B6E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DE4-7047-4418-BABB-C5F658D7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048A-B5CC-4703-B7EC-8555FCC1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40E9-24B2-4CD6-BBA9-0C44EAE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FD12-E9BE-43A0-A5E4-BA71F73F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DFF-DCC4-4F2B-988D-81D8E98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27C-3557-4D28-8B69-7B9D6EB6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9E2D-7E2D-40D6-B79A-23FF7DE9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7DD8-45DE-4B52-801D-2B60C9E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CF3-5B06-4D8E-9478-474F6B8F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E202-90C3-46F8-A793-9305138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87F-41E9-45EC-89D3-D1E6270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C28-C28C-4F24-9343-90B7ED1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103-67A9-4F63-88FC-DE2EF51F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79B-E1EA-4821-967A-C8AE7871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4698-A47E-43A3-98A8-B2E76ABF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09A9-5A67-471C-ACB7-4C18646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023B-9FD3-4958-9ABE-BFA117A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292-7777-4349-B220-049D5579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EFE7-BEEF-459A-88BB-CCE12B14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C78-27B9-4976-BA31-F622905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F742-5F35-4B40-82AB-514EC967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F698-06BB-4FB3-A9C1-AAC68EB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F6D9-5266-4D6F-B7D4-16D593E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101C-E5BB-4736-8126-CFF7168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3DE8-A4E7-415F-97BB-391846A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EDB4-1532-4B61-82F0-DBA78B6D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F700-8366-4C8F-A79C-1F8FB66C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9D3-5C31-4A6F-BB9C-CA41C09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338-A29C-44FC-9128-A717A9F3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878-0961-4C70-BC90-69C9AAC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C30-37A7-4EEF-81B4-301B411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295-389B-4AFE-AB0F-364C1E5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0AC-BF9C-4864-B4B3-F7BF6144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67D-8576-4DEF-B971-BB5A8B67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D514-F946-4F95-A11D-908877F338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5D1-9ABB-45EB-844A-1CF6E6F8D9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3ebf1"/>
                </a:solidFill>
                <a:latin typeface="Arial"/>
              </a:rPr>
              <a:t>I. 6. Agrárpiaci szabályozási mechanizmus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r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renczi Ti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apesti Corvinus Egye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73F4-F551-4223-9194-D87E0F39DB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0" t="0" r="0" b="11521"/>
          <a:stretch/>
        </p:blipFill>
        <p:spPr>
          <a:xfrm>
            <a:off x="611280" y="915840"/>
            <a:ext cx="78483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C27-212A-4FB4-8122-E045C21A37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5FD-9E09-4FA3-81DE-588DBF0465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B399-0EC6-4903-9627-9FFF02C2DB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özös piacszerve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060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551664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000" y="3284640"/>
            <a:ext cx="6259680" cy="1442880"/>
          </a:xfrm>
          <a:custGeom>
            <a:avLst/>
            <a:gdLst/>
            <a:ahLst/>
            <a:rect l="l" t="t" r="r" b="b"/>
            <a:pathLst>
              <a:path w="3943" h="909">
                <a:moveTo>
                  <a:pt x="0" y="0"/>
                </a:moveTo>
                <a:cubicBezTo>
                  <a:pt x="84" y="56"/>
                  <a:pt x="152" y="118"/>
                  <a:pt x="231" y="179"/>
                </a:cubicBezTo>
                <a:cubicBezTo>
                  <a:pt x="306" y="237"/>
                  <a:pt x="435" y="294"/>
                  <a:pt x="499" y="358"/>
                </a:cubicBezTo>
                <a:cubicBezTo>
                  <a:pt x="554" y="413"/>
                  <a:pt x="629" y="460"/>
                  <a:pt x="704" y="486"/>
                </a:cubicBezTo>
                <a:cubicBezTo>
                  <a:pt x="745" y="527"/>
                  <a:pt x="772" y="537"/>
                  <a:pt x="819" y="563"/>
                </a:cubicBezTo>
                <a:cubicBezTo>
                  <a:pt x="846" y="578"/>
                  <a:pt x="870" y="597"/>
                  <a:pt x="896" y="614"/>
                </a:cubicBezTo>
                <a:cubicBezTo>
                  <a:pt x="907" y="621"/>
                  <a:pt x="979" y="638"/>
                  <a:pt x="986" y="640"/>
                </a:cubicBezTo>
                <a:cubicBezTo>
                  <a:pt x="1024" y="651"/>
                  <a:pt x="1062" y="671"/>
                  <a:pt x="1101" y="678"/>
                </a:cubicBezTo>
                <a:cubicBezTo>
                  <a:pt x="1164" y="690"/>
                  <a:pt x="1229" y="695"/>
                  <a:pt x="1293" y="704"/>
                </a:cubicBezTo>
                <a:cubicBezTo>
                  <a:pt x="1381" y="734"/>
                  <a:pt x="1476" y="745"/>
                  <a:pt x="1562" y="781"/>
                </a:cubicBezTo>
                <a:cubicBezTo>
                  <a:pt x="1608" y="801"/>
                  <a:pt x="1651" y="827"/>
                  <a:pt x="1703" y="832"/>
                </a:cubicBezTo>
                <a:cubicBezTo>
                  <a:pt x="1935" y="856"/>
                  <a:pt x="2163" y="876"/>
                  <a:pt x="2394" y="909"/>
                </a:cubicBezTo>
                <a:cubicBezTo>
                  <a:pt x="2458" y="905"/>
                  <a:pt x="2522" y="903"/>
                  <a:pt x="2586" y="896"/>
                </a:cubicBezTo>
                <a:lnTo>
                  <a:pt x="2727" y="857"/>
                </a:lnTo>
                <a:cubicBezTo>
                  <a:pt x="2727" y="857"/>
                  <a:pt x="2727" y="857"/>
                  <a:pt x="2727" y="857"/>
                </a:cubicBezTo>
                <a:cubicBezTo>
                  <a:pt x="2821" y="853"/>
                  <a:pt x="2914" y="849"/>
                  <a:pt x="3008" y="845"/>
                </a:cubicBezTo>
                <a:cubicBezTo>
                  <a:pt x="3040" y="834"/>
                  <a:pt x="3069" y="827"/>
                  <a:pt x="3098" y="806"/>
                </a:cubicBezTo>
                <a:cubicBezTo>
                  <a:pt x="3142" y="775"/>
                  <a:pt x="3158" y="724"/>
                  <a:pt x="3200" y="691"/>
                </a:cubicBezTo>
                <a:cubicBezTo>
                  <a:pt x="3224" y="672"/>
                  <a:pt x="3251" y="657"/>
                  <a:pt x="3277" y="640"/>
                </a:cubicBezTo>
                <a:cubicBezTo>
                  <a:pt x="3340" y="598"/>
                  <a:pt x="3295" y="621"/>
                  <a:pt x="3392" y="589"/>
                </a:cubicBezTo>
                <a:cubicBezTo>
                  <a:pt x="3405" y="585"/>
                  <a:pt x="3431" y="576"/>
                  <a:pt x="3431" y="576"/>
                </a:cubicBezTo>
                <a:cubicBezTo>
                  <a:pt x="3555" y="491"/>
                  <a:pt x="3368" y="616"/>
                  <a:pt x="3520" y="525"/>
                </a:cubicBezTo>
                <a:cubicBezTo>
                  <a:pt x="3547" y="509"/>
                  <a:pt x="3597" y="473"/>
                  <a:pt x="3597" y="473"/>
                </a:cubicBezTo>
                <a:cubicBezTo>
                  <a:pt x="3614" y="422"/>
                  <a:pt x="3629" y="401"/>
                  <a:pt x="3674" y="371"/>
                </a:cubicBezTo>
                <a:cubicBezTo>
                  <a:pt x="3691" y="345"/>
                  <a:pt x="3708" y="320"/>
                  <a:pt x="3725" y="294"/>
                </a:cubicBezTo>
                <a:cubicBezTo>
                  <a:pt x="3762" y="238"/>
                  <a:pt x="3709" y="271"/>
                  <a:pt x="3763" y="217"/>
                </a:cubicBezTo>
                <a:cubicBezTo>
                  <a:pt x="3774" y="206"/>
                  <a:pt x="3789" y="200"/>
                  <a:pt x="3802" y="192"/>
                </a:cubicBezTo>
                <a:cubicBezTo>
                  <a:pt x="3842" y="132"/>
                  <a:pt x="3861" y="89"/>
                  <a:pt x="3917" y="51"/>
                </a:cubicBezTo>
                <a:cubicBezTo>
                  <a:pt x="3926" y="38"/>
                  <a:pt x="3943" y="13"/>
                  <a:pt x="3943" y="13"/>
                </a:cubicBezTo>
              </a:path>
            </a:pathLst>
          </a:custGeom>
          <a:noFill/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2920" y="29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11280" y="2781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635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2492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788000" y="234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234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867280" y="22766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27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6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1600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411280" y="220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1280" y="2205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35280" y="206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06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788000" y="1915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940360" y="177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0360" y="17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1989000"/>
            <a:ext cx="6400800" cy="898560"/>
          </a:xfrm>
          <a:custGeom>
            <a:avLst/>
            <a:gdLst/>
            <a:ahLst/>
            <a:rect l="l" t="t" r="r" b="b"/>
            <a:pathLst>
              <a:path w="4032" h="566">
                <a:moveTo>
                  <a:pt x="0" y="144"/>
                </a:moveTo>
                <a:cubicBezTo>
                  <a:pt x="56" y="152"/>
                  <a:pt x="127" y="155"/>
                  <a:pt x="179" y="182"/>
                </a:cubicBezTo>
                <a:cubicBezTo>
                  <a:pt x="228" y="207"/>
                  <a:pt x="272" y="248"/>
                  <a:pt x="320" y="272"/>
                </a:cubicBezTo>
                <a:cubicBezTo>
                  <a:pt x="344" y="284"/>
                  <a:pt x="371" y="289"/>
                  <a:pt x="397" y="297"/>
                </a:cubicBezTo>
                <a:cubicBezTo>
                  <a:pt x="532" y="341"/>
                  <a:pt x="317" y="273"/>
                  <a:pt x="486" y="323"/>
                </a:cubicBezTo>
                <a:cubicBezTo>
                  <a:pt x="512" y="331"/>
                  <a:pt x="563" y="348"/>
                  <a:pt x="563" y="348"/>
                </a:cubicBezTo>
                <a:cubicBezTo>
                  <a:pt x="625" y="391"/>
                  <a:pt x="721" y="426"/>
                  <a:pt x="793" y="451"/>
                </a:cubicBezTo>
                <a:cubicBezTo>
                  <a:pt x="892" y="485"/>
                  <a:pt x="748" y="495"/>
                  <a:pt x="934" y="502"/>
                </a:cubicBezTo>
                <a:cubicBezTo>
                  <a:pt x="1054" y="506"/>
                  <a:pt x="1173" y="511"/>
                  <a:pt x="1293" y="515"/>
                </a:cubicBezTo>
                <a:cubicBezTo>
                  <a:pt x="1381" y="545"/>
                  <a:pt x="1469" y="556"/>
                  <a:pt x="1561" y="566"/>
                </a:cubicBezTo>
                <a:cubicBezTo>
                  <a:pt x="1680" y="557"/>
                  <a:pt x="1769" y="540"/>
                  <a:pt x="1881" y="515"/>
                </a:cubicBezTo>
                <a:cubicBezTo>
                  <a:pt x="1898" y="511"/>
                  <a:pt x="1952" y="498"/>
                  <a:pt x="1971" y="489"/>
                </a:cubicBezTo>
                <a:cubicBezTo>
                  <a:pt x="1985" y="482"/>
                  <a:pt x="1994" y="465"/>
                  <a:pt x="2009" y="464"/>
                </a:cubicBezTo>
                <a:cubicBezTo>
                  <a:pt x="2265" y="452"/>
                  <a:pt x="2521" y="455"/>
                  <a:pt x="2777" y="451"/>
                </a:cubicBezTo>
                <a:cubicBezTo>
                  <a:pt x="2831" y="411"/>
                  <a:pt x="2906" y="356"/>
                  <a:pt x="2969" y="336"/>
                </a:cubicBezTo>
                <a:cubicBezTo>
                  <a:pt x="3057" y="276"/>
                  <a:pt x="3016" y="293"/>
                  <a:pt x="3085" y="272"/>
                </a:cubicBezTo>
                <a:cubicBezTo>
                  <a:pt x="3197" y="196"/>
                  <a:pt x="3038" y="302"/>
                  <a:pt x="3174" y="220"/>
                </a:cubicBezTo>
                <a:cubicBezTo>
                  <a:pt x="3200" y="204"/>
                  <a:pt x="3225" y="186"/>
                  <a:pt x="3251" y="169"/>
                </a:cubicBezTo>
                <a:cubicBezTo>
                  <a:pt x="3507" y="0"/>
                  <a:pt x="3524" y="105"/>
                  <a:pt x="4032" y="10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4653000"/>
            <a:ext cx="2702160" cy="353880"/>
          </a:xfrm>
          <a:custGeom>
            <a:avLst/>
            <a:gdLst/>
            <a:ahLst/>
            <a:rect l="l" t="t" r="r" b="b"/>
            <a:pathLst>
              <a:path w="1702" h="223">
                <a:moveTo>
                  <a:pt x="0" y="39"/>
                </a:moveTo>
                <a:cubicBezTo>
                  <a:pt x="117" y="55"/>
                  <a:pt x="229" y="101"/>
                  <a:pt x="345" y="115"/>
                </a:cubicBezTo>
                <a:cubicBezTo>
                  <a:pt x="482" y="132"/>
                  <a:pt x="616" y="134"/>
                  <a:pt x="755" y="141"/>
                </a:cubicBezTo>
                <a:cubicBezTo>
                  <a:pt x="995" y="223"/>
                  <a:pt x="1247" y="196"/>
                  <a:pt x="1446" y="64"/>
                </a:cubicBezTo>
                <a:cubicBezTo>
                  <a:pt x="1514" y="19"/>
                  <a:pt x="1608" y="55"/>
                  <a:pt x="1689" y="51"/>
                </a:cubicBezTo>
                <a:cubicBezTo>
                  <a:pt x="1693" y="34"/>
                  <a:pt x="1702" y="0"/>
                  <a:pt x="170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0" y="5537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242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29800" y="45086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xport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30400" y="3851280"/>
            <a:ext cx="18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88360" y="3645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99cc"/>
                </a:solidFill>
                <a:latin typeface="Arial"/>
              </a:rPr>
              <a:t>Import kínálati 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7800" y="1628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szöb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tervenciós 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73640" y="2655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Belső piaci 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24360" y="285264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1773360"/>
            <a:ext cx="0" cy="2663640"/>
          </a:xfrm>
          <a:prstGeom prst="line">
            <a:avLst/>
          </a:prstGeom>
          <a:ln w="57240">
            <a:solidFill>
              <a:srgbClr val="0099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36200" y="308916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99cc"/>
                </a:solidFill>
                <a:latin typeface="Arial"/>
              </a:rPr>
              <a:t>IMPORT LEFÖLÖ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37893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XPORT „VISSZATÉRÍTÉ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2205000"/>
            <a:ext cx="0" cy="2232000"/>
          </a:xfrm>
          <a:prstGeom prst="line">
            <a:avLst/>
          </a:prstGeom>
          <a:ln w="57240">
            <a:solidFill>
              <a:srgbClr val="0099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96000" y="2565360"/>
            <a:ext cx="0" cy="2158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7C7-E254-4F31-8E7D-EC4A398199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3. Az OECD agrárpolitikai elemzésekhez használt mutató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SE (Producer Support Estimate – termelői támogatásbecslé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                             A termelésben mutatkozó jövedelemtranszfer nagyságát becsüli. A transzfer nemcsak a költségvetésből származó támogatásokat tartalmazza, hanem mindazok a hatások is szerepelnek bene, amelyek a termelést kedvezőbb jövedelempozícióba hozzák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ajtá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8de0e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rszágonké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8de0e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rmékenké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8de0e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rszágonként termékenké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8EAD-01EA-49F9-BD88-232C4DD5F6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3. Az OECD agrárpolitikai elemzésekhez használt mutató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A3E1-183E-4BC4-B675-691AF8E69E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3. Az OECD agrárpolitikai elemzésekhez használt mutató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825-31E2-481B-97C1-46246610DD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3. Az OECD agrárpolitikai elemzésekhez használt mutató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65EC-9023-46A6-9B73-59FC9DE64C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3. Az OECD agrárpolitikai elemzésekhez használt mutató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SSE (General Services Support Estimate) – általános szolgáltatási támogatásbecsl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E (Consumer Support Estimate – fogyasztói támogatásbecslé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SE (Total Support Estimate) – teljes támogatásbecslé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4. Ellenőrző kérdése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lemezze a nemzetközi agrárpiacok torzításának hosszútávú tendenciá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XIX. század második felében az Egyesült Államokban vagy Nyugat-Európában dolgoztak többen a mezőgazdaságb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jon áttekintést az agrárprotekcionizmus kiteljesedésérő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z agrárimportőr országokban rossz a termés, ez milyen hatást vált ki a világpiac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z agrárimportőr országok vámokat vezetnek be, vagy emeli azokat, ez milyen hatást vált ki a világpiac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zőgazdasági piacokra milyen hatást gyakorol az exporttámogatá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lyen ártendenciákat lehet megfigyelni, és ezek hogyan magyarázható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lyen tényezők okozzák az áringadozások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B0F-1378-4375-9008-FFB792FFA5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Tartalo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abadkereskedelem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protekcionizmus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és viss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rszabályozás közgazdaságtani alap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OECD agrárpolitikai elemzésekhez használt mutató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4. Ellenőrző kérd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6ED-B6CD-4360-91FD-22ED53ACB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4. Ellenőrző kérdése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83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gyarázza meg a visszahajló kínálati görbe eseté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 a különbség az amerikai és az európai ármodell közöt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működött a közös agrárpolitika klasszikus modellj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t fejeznek ki az OECD agrárpolitika-elemzésre javasolt mutató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lyiket tartja a legfontosabb mutatónak, és mié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lyen kérdés(ek)re ad választ a teljes támogatásbecslés mutatój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lemezzen néhány sajátosságot a nemzetközi agrárpiacok torzítottságáról a PSE mutatók alapjá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1AF-6F13-4DD5-92C7-700F89AD3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1. </a:t>
            </a:r>
            <a:r>
              <a:rPr b="0" lang="hu-HU" sz="4000" spc="-1" strike="noStrike">
                <a:solidFill>
                  <a:srgbClr val="ff3300"/>
                </a:solidFill>
                <a:latin typeface="Tahoma"/>
              </a:rPr>
              <a:t>Szabadkereskedelem </a:t>
            </a:r>
            <a:r>
              <a:rPr b="0" lang="hu-HU" sz="4000" spc="-1" strike="noStrike">
                <a:solidFill>
                  <a:srgbClr val="ff3300"/>
                </a:solidFill>
                <a:latin typeface="Tahoma"/>
                <a:ea typeface="Arial"/>
              </a:rPr>
              <a:t>→</a:t>
            </a:r>
            <a:r>
              <a:rPr b="0" lang="hu-HU" sz="4000" spc="-1" strike="noStrike">
                <a:solidFill>
                  <a:srgbClr val="ff3300"/>
                </a:solidFill>
                <a:latin typeface="Tahoma"/>
              </a:rPr>
              <a:t> protekcionizmus</a:t>
            </a: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hu-HU" sz="4000" spc="-1" strike="noStrike">
                <a:solidFill>
                  <a:srgbClr val="ffffcc"/>
                </a:solidFill>
                <a:latin typeface="Tahoma"/>
                <a:ea typeface="Arial"/>
              </a:rPr>
              <a:t>→</a:t>
            </a: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 és vissz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ámmentes szabadkereskedelem Európában XIX. sz. közepétől 1870-es évek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erikai búza megjelenése 1874-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agyasztott hús megjelenése 1876-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urópai államok 2-féle magatartás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ámok bevezetése, emel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ámmentesség fenntar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aissez fair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– Brit Birodal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truktúraváltás – Dánia, Hollan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677-6CD2-4D8B-B358-9764B47FD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1. </a:t>
            </a:r>
            <a:r>
              <a:rPr b="0" lang="hu-HU" sz="4000" spc="-1" strike="noStrike">
                <a:solidFill>
                  <a:srgbClr val="ffffff"/>
                </a:solidFill>
                <a:latin typeface="Tahoma"/>
              </a:rPr>
              <a:t>Szabadkereskedelem </a:t>
            </a:r>
            <a:r>
              <a:rPr b="0" lang="hu-HU" sz="40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hu-HU" sz="4000" spc="-1" strike="noStrike">
                <a:solidFill>
                  <a:srgbClr val="ffffff"/>
                </a:solidFill>
                <a:latin typeface="Tahoma"/>
              </a:rPr>
              <a:t> protekcionizmus</a:t>
            </a: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hu-HU" sz="4000" spc="-1" strike="noStrike">
                <a:solidFill>
                  <a:srgbClr val="ff3300"/>
                </a:solidFill>
                <a:latin typeface="Tahoma"/>
                <a:ea typeface="Arial"/>
              </a:rPr>
              <a:t>→</a:t>
            </a:r>
            <a:r>
              <a:rPr b="0" lang="hu-HU" sz="4000" spc="-1" strike="noStrike">
                <a:solidFill>
                  <a:srgbClr val="ff3300"/>
                </a:solidFill>
                <a:latin typeface="Tahoma"/>
              </a:rPr>
              <a:t> és vissz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em vámjellegű importkorlátozás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Őrlési hány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orvégia 19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ranciaország, Németország 1929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mportkvó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ranciaország 1931, Belgium 1932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3. Piacszabályozás: árak stabilizálása: garantált ársz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merikai (angolszász) út: közvetlen támogat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rancia (európai út): piaci intervenció 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4. Zárt agrárpolitikai rendszerek (US: Farm Bill, EK:KA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merikai: közvetlen támogatás, kínálatkorlátoz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urópai: küszöbár, lefölözés, exporttámogat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882000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B6C3-6D78-493D-9CE6-D2939AF3D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0D6B-408F-46C0-AAA9-DBEAC43CED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Világpiac két országgal, egy termékk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14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205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52293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257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8600" y="56037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7800" y="55278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320" y="5562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ilágpi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900000" y="299736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11430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020000" y="1700280"/>
            <a:ext cx="114300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1752480"/>
            <a:ext cx="99072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3357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56000" y="2565360"/>
            <a:ext cx="136836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349360"/>
            <a:ext cx="720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5880" y="338148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3357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3357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6480" y="51577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7772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864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16280" y="51577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1640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9520" y="38512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6520" y="308916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5400" y="24796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70828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01320" y="2403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2280" y="148896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86040" y="22510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2520" y="3860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1560" y="14889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971640" y="3357360"/>
            <a:ext cx="1512720" cy="18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020000" y="3357720"/>
            <a:ext cx="576360" cy="180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597-24CA-41F5-9889-4B4F057DA5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838080"/>
            <a:ext cx="8229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ermelés visszaesésének h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64628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09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5257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8600" y="56037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7800" y="55278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320" y="5562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ilágpi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00000" y="299736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666880"/>
            <a:ext cx="11430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10280" y="1676520"/>
            <a:ext cx="114300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99072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270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2636640"/>
            <a:ext cx="1523880" cy="14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2708280"/>
            <a:ext cx="17528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3357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8700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7772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864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692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1640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9520" y="38512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6520" y="308916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5400" y="24796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38160" y="27082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01320" y="2403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72280" y="148896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86040" y="22510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30280" y="369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81560" y="14889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010280" y="1447920"/>
            <a:ext cx="914400" cy="2590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3141720"/>
            <a:ext cx="7467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314172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31240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2438280"/>
            <a:ext cx="182880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31240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31240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28000" y="314172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20000" y="2205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76D2-0E75-4895-AE8E-904A93C21D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Importvám (t) bevezet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352520"/>
            <a:ext cx="84358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914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2209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5257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28600" y="56037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47800" y="55278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 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95320" y="55627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ilágpi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914400" y="2971800"/>
            <a:ext cx="1905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666880"/>
            <a:ext cx="11430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1676520"/>
            <a:ext cx="114300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7480" y="1752480"/>
            <a:ext cx="99072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997360"/>
            <a:ext cx="374832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2636640"/>
            <a:ext cx="1523880" cy="14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74320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8700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7772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62160" y="5146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692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16400" y="514656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520" y="38512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6520" y="308916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82800" y="278136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8160" y="27082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01320" y="2403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2280" y="1488960"/>
            <a:ext cx="4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86040" y="22510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0280" y="369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1560" y="14889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09920" y="3065400"/>
            <a:ext cx="1729080" cy="129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99736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99640" y="350028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19480" y="3490920"/>
            <a:ext cx="63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P’</a:t>
            </a:r>
            <a:r>
              <a:rPr b="1" lang="hu-HU" sz="18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21640" y="4168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41800" y="263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80920" y="5248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3357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19280" y="3500280"/>
            <a:ext cx="0" cy="1729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350028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40720" y="299736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299736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634-9B92-4829-AA7F-FA671E2DB0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0" t="0" r="0" b="13591"/>
          <a:stretch/>
        </p:blipFill>
        <p:spPr>
          <a:xfrm>
            <a:off x="611280" y="844560"/>
            <a:ext cx="792144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2BB-5395-4D05-8CA4-6284AF9E70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ahoma"/>
              </a:rPr>
              <a:t>2. Az árszabályozás közgazdaságtani alapja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900000" y="795240"/>
            <a:ext cx="74170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6:07:39Z</dcterms:created>
  <dc:creator>Tibor Ferenczi</dc:creator>
  <dc:description/>
  <dc:language>en-US</dc:language>
  <cp:lastModifiedBy>Vasa László</cp:lastModifiedBy>
  <dcterms:modified xsi:type="dcterms:W3CDTF">2006-06-29T06:10:47Z</dcterms:modified>
  <cp:revision>9</cp:revision>
  <dc:subject/>
  <dc:title>6. Agrárpiaci szabályozási mechanizmusok</dc:title>
</cp:coreProperties>
</file>