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FF03-27E7-49C1-9B2C-EE60D003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62D3-257A-46C5-9CF5-F96A2D09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62D6-A311-4988-BAA1-18340FA4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CE43-FE4B-4474-B59B-3919B9A2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A31-30DC-4313-9BDB-9D4F7D27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428-4A30-457B-AED3-5AB26D9B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E22D-EC03-4791-B160-34127F85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23F-C83A-44C2-A898-DC14FB45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0E59-A743-4739-9A9D-54C51F07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AC77-F516-4991-A143-F111659D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5A37-7F09-4C91-84D5-B4DA3540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C24-E781-4238-BA9F-EDA2062F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FE9D-B674-4170-930C-4B7A9629C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130120"/>
            <a:ext cx="8713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.1. Környezetpolitik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.2. Az EU környezetpolitiká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00360" y="4076640"/>
            <a:ext cx="590400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Dr. Szabó Gá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Dr. Kuti Istv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atonáné Dr. Kovács J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Debreceni Egye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z EU környezetpolitikájának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örténete IV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en megszületet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szterdami Szerződé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 az Unió kifejezett céljává vált a gazdasági és társadalmi haladás előmozdítása a fenntartható fejlődés alapelveinek figyelembe vételével. A fenntartható fejlődés és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örnyezetvédelmi szempontok integrálásának alapelvei is az uniós politika alapjaivá vált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mi lényeges elemekkel gazdagíthatta az Európai Unió környezetpolitikájá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z EU környezetpolitikájának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örténete V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90008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en a Göteborgi Európai Tanács elfogadta az Uni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nntartható Fejlődési Stratégiájá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A Stratégia olyan hosszú távú jövőképet nyújt, amelyben megvalósul a társadalmi kohéziót és magas környezetvédelmi normákat teljesítő dinamikus gazdasá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z EU fenntartható fejlődési stratégiája 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EU Fenntartható Fejlődési Stratégiája jelentős erőfeszítéseket tesz, hogy a fenntartható fejlődés három pillérét, vagy másként a három dimenzióját összehangoltan kezelje, és átfogó javaslatokat és ajánlásokat ad meg annak érdekében, hogy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zdasági, a társadalmi és a környezet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yamatok között a lehető legkevesebb ellentmondás, feszültség mellett fejlődjen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84360" y="1125360"/>
            <a:ext cx="4608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HÁROM PILLÉ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141920" y="1773360"/>
            <a:ext cx="7103160" cy="4402080"/>
            <a:chOff x="1141920" y="1773360"/>
            <a:chExt cx="7103160" cy="4402080"/>
          </a:xfrm>
        </p:grpSpPr>
        <p:sp>
          <p:nvSpPr>
            <p:cNvPr id="67" name=""/>
            <p:cNvSpPr/>
            <p:nvPr/>
          </p:nvSpPr>
          <p:spPr>
            <a:xfrm>
              <a:off x="1141920" y="1773360"/>
              <a:ext cx="7103160" cy="4402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ÖRNYEZ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53720" y="3093840"/>
              <a:ext cx="5479560" cy="264096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ÁRSADAL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65520" y="4194360"/>
              <a:ext cx="4057200" cy="110052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AZDASÁ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716360" y="4581360"/>
            <a:ext cx="0" cy="21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1480" y="189000"/>
            <a:ext cx="8642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z EU fenntartható fejlődési stratégiája I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z EU fenntartható fejlődési stratégiája II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okumentum hat problémacsoportot jelöl me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lobális éghajlatváltozá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közegészséget veszélyeztető betegségek, a vegyi anyagok és az élelmiszer-biztonság problémáj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zegénység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épesség elöregedés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rmészeti erőforrásokkal való nem megfelelő gazdálkodás, a biológiai sokféleség csökkenése, a talajpusztulás, a hulladékok mennyiségének növekedés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közúti forgalom növekedése és hatásai, illetve regionális egyenlőtlenség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z EU környezetpolitikájának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ézményrendszere 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Európai Unió legfontosabb szerveiké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Európai Bizottságo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Európai Unió Tanácsá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Európai Parlament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s az Európai Bíróságot szokás említen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alábbiakban röviden áttekintjük ezen szervezetek környezetpolitikai feladata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z Európai Bizottság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Bizottság háttérintézményei között kiemelkedő szerepet töltenek be az ún. Főigazgatóságo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örnyezetügyi Főigazgatóság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(Environment DG) fő feladata a környezetre vonatkozó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új jogszabályok kezdeményezése és kidolgozása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, illetve annak elősegítése és ellenőrzése, hogy a tagállamok végrehajtsák az érvényben lévő rendelkezéseket, és a Bizottság környezetügyre és fenntartható fejlődésre vonatkozó célkitűzései érvényesüljen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z Európai  Unió Tanácsa I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anács általában minősített többségge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z dönté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Bizottság által előterjesztett javaslatról. Sok esetben egy környezetvédelmi direktíva végleges tartalma alig emlékeztet a Környezetvédelmi Főigazgatóság, illetve a Bizottság által javasoltakra, miután hosszas egyeztetés után a "legkisebb közös nevező" marad meg csak belő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z Európai  Parlament IV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Európai Parlament annak ellenére, hogy az EU belpolitikai rendszerében nem tölt be olyan fontos szerepet, mind a Tanács vagy akár a Bizottság, az utóbbi években fokozatosan előtérbe került (döntéshozásban nőtt a szerepe), s ez vonatkozik a környezetpolitikai kérdésekre 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z Európai  Bíróság V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Európai Bíróságot, mint a három fő EU politika intézménytől független, önálló jogi intézményt szokták említeni, melynek fő feladata az EU jogszabályok betartatása és viták esetén értelmezése. A Bíróság fontos szerepet játszott abban, hogyan alakult, milyen irányt vett az EU környezetpolitikája, miután olyan erős kényszerítő eszközökkel is bír, mint esetleg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üntetés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iszabása. Egyes vitás esetekben hozott döntése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cede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értékűe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környezetpolitika fogal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örnyezetpoliti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természetes és mesterséges környezet védelmére, alakítására irányuló elképzelések, tervek, programok, döntések és az ezek eléréséhez alkalmas eszközök, módszerek összességét felölel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yakorlati tevékenysé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és az ezzel kapcsolato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kalmazott tudomá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z Európai  Környezetvédelmi Ügynökség V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Európai Környezetvédelmi Ügynökséget (EEA) 1993-ban hozták létre abból a célból, hogy megbízható környezeti információkat biztosítson az Unió döntéshozó szervei és a lakosság számá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ttp://www.eea.europa.eu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z Európai Unió környezetvédelmi akcióprogramja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177336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484280"/>
            <a:ext cx="88790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 Európai Unió környezetpolitikájának legfontosabb szabályozó eszközei közzé tartozna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yan politikai szándéknyilatkozatok, amelyek magukban foglalják mindazokat az intézkedéseket, melyeket az adott időszakban terveznek megvalósítan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ekben a dokumentumokban határozzák meg az adott időszakban megvalósítandó célokat, feladatokat és mintegy keretként fogják össze a közösségi környezetvédelmi intézkedéseket a jogalkotástól a közös projektek végrehajtásáig. E középtávú tervek fokozatosan a meghatározó jelentőségű közösségi politikák és szabályozások szintjére emelték a környezetvédelm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z Európai Unió környezetvédelmi akcióprogramja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177336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1817640"/>
            <a:ext cx="88790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örnyezetvédelmi Akcióprogram (1973-19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Környezetvédelmi Akcióprogram (1977-198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Környezetvédelmi Akcióprogram (1982-19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Környezetvédelmi Akcióprogram (1987-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Környezetvédelmi Akcióprogram (1993-200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Környezetvédelmi Akcióprogram (2001-201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Környezetvédelmi Akcióprogram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1993-200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177336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4960" y="1484280"/>
            <a:ext cx="88790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két legfontosabb sajátossága az volt, hogy egyrészt szorgalmazta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örnyezetvédelmi szempontok integrációjá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z olyan gazdasági ágazatok célkitűzéseibe, amelyek szerepe különösen meghatározó a környezet állapotának alakulásában; másrészt az a felismerés, hogy a célok eléréséhez feltétlenül szükséges az eddigi „utasítás és ellenőrzés” megközelítés felcserélése a különböző résztvevők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ormány, ipar és civil szféra) megosztott felelősségével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Környezetvédelmi Akcióprogram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2001-201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4960" y="1484280"/>
            <a:ext cx="88790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fenntarthatóság felé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hosszú távú célokban való gondolkodás, azaz a stratégiai megközelíté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a specifikus célkitűzések hosszas felsorolása helyett – sokkal inkább jellemző a hatodik akcióprogramra, mint a korábbiakra. Az előző programokhoz képest sokkal nagyobb mértékben vár el aktív közreműködést és felelősségvállalást a társadalom minden szereplőjétől, főként a különböző intézményektől és szervezetektő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Környezetvédelmi Akcióprogram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2001-201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4960" y="1484280"/>
            <a:ext cx="88790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 négy elsőbbséget élvező területet jelöl me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 éghajlatváltozás elleni küzdelem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rmészet és a biológiai sokféleség védelm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környezet, az egészség és az életminőség megőrzés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rmészeti erőforrások megőrzé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 akcióprogram mindenekelőtt a következő eszközökre támaszkodi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 előírások betartatás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 ágazati politikákba való integráci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yüttműködés a piaci szférával és a fogyasztókk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öbb és jobb információ nyújtása a lakosok számá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rülethasználat környezetbarát módszereinek terjeszté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642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A környezetpolitikai eszközei az EU-ban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177336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2133720"/>
            <a:ext cx="88786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gi, törvényi eszközö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zdasági eszközö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Önkéntes egyezménye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ogi, törvényi eszközö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örnyezetvédelmet szabályozó jogforrások leggyakrabban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irányelvek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. Ezekből eddig jóval több mint 200 születet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irányelvek átvételének, a tagállamok jogrendszerébe való beillesztésének folyamata (az implementáció) nem zökkenőmentes, amit sokszor a környezeti jog sajátosságaiból (multiszektoriális megközelítés, célcsoportok, hatóságok nagy száma, megosztott felelősség filozófiája) adódi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177336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4960" y="1484280"/>
            <a:ext cx="88790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azdasági eszközök 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177336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4960" y="1484280"/>
            <a:ext cx="88790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közgazdasági eszközök alapvető rendeltetése a környezeti erőforrások helyes értékelése, "árazása", elősegítendő ez utóbbiak racionális elosztását és felhasználását. Amennyiben a környezethez valós "értékének" megfelelően közelítenénk, akkor a környezeti javakat és szolgáltatásokat úgy kezelnénk, mint a piacon megjelenő bármely más termelési tényezőt (pl. a munkát és a tőkét), ami ily módon biztosítaná az összes termelési tényező optimális elosztásá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azdasági eszközök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177336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76360" y="1628640"/>
            <a:ext cx="88790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azdasági eszközcsoportok fajtá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árpolitik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ó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énzügyi támogatás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környezetpolitika fejlődé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0-es években, az ún. első generációs környezetpolitikák főként az addig felhalmozott szennyezések felszámolására irányultak. Ebben az időszakban a víz- és levegőszennyezés elleni küzdelem volt a fő cé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ésőbb nyilvánvalóvá vált, hogy a környezeti gondok a gazdaság és a társadalom minden területén léteznek. Valóban eredményes csak akkor lehet, ha „átitatja” az általában vett társadalom- és gazdaságpolitika egészé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környezetpolitika és a fenntartható fejlődés. Amennyiben nem változtatunk az emberi társadalom életmódján és a termelés módján, az élet feltételei kerülnek veszélybe a Földön. Erre a súlyos fenyegetésre adott választ és némi reményt az ENSZ Fenntartható Fejlődés Bizottság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Önkéntes egyezmény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77336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4960" y="1484280"/>
            <a:ext cx="88790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önkéntes egyezmények a gazdaság szereplői és az államigazgatás szervei közötti megállapodások, amelyek során a gazdasági szereplő (vállalat, önkormányzat, intézmény) bizonyos szabályok betartását önként vállalja, mert ettől valamilyen előnyt remé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környezeti politika és 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özös Agrárpolitika (KAP) összefüggése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zőgazdaság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környezet 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4960" y="1484280"/>
            <a:ext cx="88790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zőgazdaság az egyik legfontosabb és legalapvetőbb emberi tevékenység, amely a természetes környezet elemeinek igénybevételével egyben jelentős változásokat is eredményez azok állapotában. A mezőgazdasági tevékenységnek környezeti hatásai az utóbbi évtizedekben nagymértékben változtak, jelentősen nőtt az igénybevétel. Ezzel együtt egyre jobban előtérbe kerül a mezőgazdaság többfunkciós szerep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ltifunkcionális mezőgazdasá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8930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mezőgazdaság hagyományos modellje II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177336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ermészetes ökoszisztémákhoz hasonlóan az anyag- és energiaáramlás zárt rendszerének kialakítása jellemző rá, és a rendelkezésre álló erőforrások maximális hasznosítása. A főtermék mellett a melléktermékek is jelentős szereppel bírnak, takarmányként, trágyaként illetve tüzelőként hasznosulnak, lényegében hulladék képződése nélkül, ami ökológiai szempontból előnyö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4960" y="1484280"/>
            <a:ext cx="88790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mezőgazdaság iparszerű modellje III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agrárium nyitottabbá vált más ágazatok – elsősorban az ipar – irányában, az ipari eszközök és technológiák alkalmazása általánosan elfogadott lett a mezőgazdaságban. Mindez együtt járt a technokrata ipari fejlesztési logika uralomra jutásával az agrárszférában, amely a környezet állapotának nagymértékű és addig ismeretlen leromlásával járt.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4960" y="1484280"/>
            <a:ext cx="88790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181080" y="475920"/>
            <a:ext cx="9577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Az integrált termesztés és a biotermesztés IV.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integrált termelés a hagyományos termelési módszerek, agrotechnikai eljárások és elvek, valamint a természeti adottságok fokozott figyelembevételével törekszik a környezetkímélő és gazdaságos mezőgazdasági termelés megalapozására.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biotermesztés kizárólag a természetes folyamatokra és anyagokra való hagyatkozást jelenti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4960" y="1484280"/>
            <a:ext cx="88790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42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funkcionális mezőgazdasá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4960" y="1557360"/>
            <a:ext cx="88790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Az EU multifunkcionális mezőgazdálkodási koncepciója szerint az agrárágazatnak legalább három fő funkciója van:</a:t>
            </a: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termelési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600" spc="-1" strike="noStrike">
                <a:solidFill>
                  <a:srgbClr val="000000"/>
                </a:solidFill>
                <a:latin typeface="Times New Roman"/>
              </a:rPr>
              <a:t>természetvédelmi</a:t>
            </a: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, tájfenntartási, valam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vidékfejlesztési feladatkör.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E funkciók a mezőgazdálkodás ún. közös termékének tekinthetők. A mezőgazdálkodás tehát pozitív externáliákat és közjavakat is hoz létre, melyeket azonban a piac nem ellentételez, ezeket ezért közpénzekből kell finanszírozn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enntartható mezőgazdaság és vidé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00000" y="1484280"/>
            <a:ext cx="7704360" cy="4921200"/>
            <a:chOff x="900000" y="1484280"/>
            <a:chExt cx="7704360" cy="4921200"/>
          </a:xfrm>
        </p:grpSpPr>
        <p:sp>
          <p:nvSpPr>
            <p:cNvPr id="134" name=""/>
            <p:cNvSpPr txBox="1"/>
            <p:nvPr/>
          </p:nvSpPr>
          <p:spPr>
            <a:xfrm>
              <a:off x="900000" y="1484280"/>
              <a:ext cx="7704360" cy="492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11800" y="2126160"/>
              <a:ext cx="1069920" cy="278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08080" y="2126160"/>
              <a:ext cx="1069920" cy="278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00000" y="5549400"/>
              <a:ext cx="2139840" cy="855720"/>
            </a:xfrm>
            <a:prstGeom prst="rect">
              <a:avLst/>
            </a:prstGeom>
            <a:solidFill>
              <a:srgbClr val="db961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Élelmiszer-termelé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67880" y="5549400"/>
              <a:ext cx="2354040" cy="855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örnyez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49960" y="5549400"/>
              <a:ext cx="2354040" cy="8557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idé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97960" y="1484280"/>
              <a:ext cx="17118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lső pillé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80040" y="1484280"/>
              <a:ext cx="23540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ásodik pillé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541880" y="4907520"/>
              <a:ext cx="1069920" cy="6418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82080" y="4907520"/>
              <a:ext cx="641880" cy="64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82080" y="4907520"/>
              <a:ext cx="2995920" cy="64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397600" y="4907520"/>
              <a:ext cx="3210120" cy="64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393520" y="4907520"/>
              <a:ext cx="641880" cy="6418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36120" y="4907520"/>
              <a:ext cx="855720" cy="641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 rot="16200000">
            <a:off x="2103120" y="2970000"/>
            <a:ext cx="245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AC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5283000" y="2784600"/>
            <a:ext cx="20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DÉK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JLESZ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76500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ÖZÖS AGRÁR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126828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779640" y="1268280"/>
            <a:ext cx="215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7360" y="6440400"/>
            <a:ext cx="46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orrá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ropean Commissio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, 2004</a:t>
            </a:r>
            <a:r>
              <a:rPr b="1" lang="hu-HU" sz="20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42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örnyezetvédelem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agrárpoliti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KAP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ő pilléré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onatkozó politikai eszközök magukba foglalják a jövedelemtámogatások környezetvédelmi feltételekhez kötését, a parlagon hagyást és az energianövény-prémium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egtöbb fontos környezetvédelmi politikai intézkedés azonban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ásodik pillé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ntén található (pl. agrár-környezetvédelmi támogatások, Natura 200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177336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4960" y="1557360"/>
            <a:ext cx="88790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z agrár-környezetgazdálkodás szabályozás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177336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960" y="1268280"/>
            <a:ext cx="88790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A szennyező fizet" elvnek a mezőgazdaságra való alkalmazása nehéznek bizonyult. Ehelyett inkább az a tendencia érvényesül hogy inkább a termelőnek fizetnek a környezetvédelmi szempontból kedvező termelési gyakorlat folytatásáért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agyományos piacgazdasági eszközökön belül – árrendszer, adórendszer, támogatási rendszer – gyakorlati tapasztalatok szerint, környezetvédelem aspektusából a mezőgazdaságban a támogatásoknak van meghatározó szere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fenntartható fejlőd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ENSZ Fenntartható Fejlődés Bizottságának (WCED) „Közös jövőnk” című jelentése, az ún. Brundtland-jelentés (1987), felkarolta és a figyelem központjába állította a fenntartható fejlődés fogalmá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fenntartható fejlődé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„… 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a fejlődés olyan formája, amely a jelen igényeinek kielégítése mellett nem fosztja meg a jövő generációit saját szükségleteik kielégítésének lehetőségétől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(WCED, 1988, 68. o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grár-környezetgazdálkodás szabályozása II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ámogatásokhoz kötődően megjelenő környezetvédelmi szabályozás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Helyes Mezőgazdasági és Környezeti Állapot" HMKÁ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esztmegfelelés – környezetvédelmi minimumfeltételek biztosítás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Helyes Gazdálkodási Gyakorlat" HGG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rár-környezetvédelmi gazdálkodáshoz kötött előírás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77336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268280"/>
            <a:ext cx="88790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lyes Mezőgazdasági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és Környezeti Állapot" HMK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gállamok biztosítják valamennyi mezőgazdasági földterület jó mezőgazdasági és ökológiai állapotának fenntartását. A tagállamok az Unió által kialakított keret alapján nemzeti vagy regionális szinten meghatározzák a jó mezőgazdasági és ökológiai állapotra vonatkozó minimumkövetelményeket, figyelembe véve az érintett területek olyan egyedi sajátosságait, mint a talaj- és az éghajlati viszonyok, a meglévő gazdálkodási rendszerek, a földhasználat, a vetésforgó, a gazdálkodási gyakorlat és a mezőgazdasági üzemszerkezet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177336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4960" y="1268280"/>
            <a:ext cx="88790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eresztmegfelelés – környezetvédelmi minimumfeltételek biztosítása 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keresztmegfelelés azt jelenti, hogy mind a termeléstől leválasztott, mind pedig a továbbra is ahhoz kötött támogatások folyósítását a korábbiaknál is nagyobb mértékben kötik a különböző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örnyezetvédelm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élelmiszer-biztonsági, növény- és állategészségügyi, állatjóléti intézkedések betartásához, valamint ahhoz, hogy a termelés alól kivont területet is gondozni k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77336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4960" y="1268280"/>
            <a:ext cx="88790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eresztmegfelelés – környezetvédelmi minimumfeltételek biztosítása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Környezetvédelmi irányelve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rányelv a vadon élő madarak védelméről,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K irányelv a talajvíz egyes veszélyes anyagok okozta szennyezés elleni védelmérő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K irányelv a szennyvíziszap mezőgazdasági felhasználása során a környezet, és különösen a talaj védelméről,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rányelv a vizek mezőgazdasági eredetű nitrátszennyezéssel szembeni védelmérő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rányelv a természetes élőhelyek, valamint a vadon élő állatok és növények védelmérő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177336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4960" y="1268280"/>
            <a:ext cx="88790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rár-környezetvédelmi intézkedés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ásodik pilléren belül ez az egyetlen, minden tagország által kötelezően alkalmazandó intézkedés, melyet a gazdálkodók önkéntesen választhatna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ntos, hogy a vidékfejlesztési pilléren belül minden tagországnak ki kell alakítania a Helyes Gazdálkodási Gyakorlat előírása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4360" y="177336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4960" y="1268280"/>
            <a:ext cx="88790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z agrár-környezetgazdálkodási intézkedések elhelyezése a közösségi politikák kapcs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56000" y="2681280"/>
            <a:ext cx="4176720" cy="4176720"/>
          </a:xfrm>
          <a:prstGeom prst="ellipse">
            <a:avLst/>
          </a:prstGeom>
          <a:noFill/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4000" y="1125360"/>
            <a:ext cx="4608360" cy="4391280"/>
          </a:xfrm>
          <a:prstGeom prst="ellipse">
            <a:avLst/>
          </a:prstGeom>
          <a:noFill/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42920" y="1125360"/>
            <a:ext cx="4970520" cy="4391280"/>
          </a:xfrm>
          <a:prstGeom prst="ellipse">
            <a:avLst/>
          </a:prstGeom>
          <a:noFill/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 rot="5400000">
            <a:off x="5238720" y="3195360"/>
            <a:ext cx="3600360" cy="3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6699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KÖRNYEZETI  POLITIKA</a:t>
            </a:r>
            <a:endParaRPr b="1" lang="en-US" sz="2400" spc="1" strike="noStrike">
              <a:ln w="9360">
                <a:solidFill>
                  <a:srgbClr val="669900"/>
                </a:solidFill>
                <a:miter/>
              </a:ln>
              <a:solidFill>
                <a:srgbClr val="6699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 rot="5400000">
            <a:off x="376920" y="3067560"/>
            <a:ext cx="3313080" cy="43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GRÁRPOLITIKA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76720" y="5589720"/>
            <a:ext cx="2981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VIDÉKFEJLESZTÉSI</a:t>
            </a:r>
            <a:endParaRPr b="1" lang="en-US" sz="2400" spc="1" strike="noStrike">
              <a:ln w="9360">
                <a:solidFill>
                  <a:srgbClr val="cc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OLITIKA</a:t>
            </a:r>
            <a:endParaRPr b="1" lang="en-US" sz="2400" spc="1" strike="noStrike">
              <a:ln w="9360">
                <a:solidFill>
                  <a:srgbClr val="cc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635280" y="2781360"/>
            <a:ext cx="2232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Times New Roman"/>
              </a:rPr>
              <a:t>AGRÁR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Times New Roman"/>
              </a:rPr>
              <a:t>KÖRNYEZET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Times New Roman"/>
              </a:rPr>
              <a:t>GAZDÁLKODÁS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Times New Roman"/>
              </a:rPr>
              <a:t>INTÉZKEDÉSE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Times New Roman"/>
              <a:ea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gyarországi szabályozás 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2005. évi szabályozás alapján a HMKÁ előírásai a következő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izenkettő százaléknál nagyobb lejtésű területeken kapás kultúrák termesztése ti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ántóterületek művelésben tartása, gyommentes állapot biztosítása mellet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mezőgazdasági területeken a hasznosítás szempontjából nemkívánatos lágy- és fásszárú növények megtelepedését és terjedését meg kell akadályoz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ivel az egyszerűsített területalapú támogatás csak folyamatosan éri el az EU-15 támogatási szintjét, ezért a keresztmegfeleltetése kapcsán meghatározott irányelvek is fokozatosan kerülnek alkalmazásra a támogatások feltételeiként, a magyar szabályozásban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4360" y="177336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4960" y="1268280"/>
            <a:ext cx="88790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42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gyarországi szabályozás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673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 önkéntes agrár-környezetvédelmi szabályozáso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atlakozás előtt a Nemzeti Agrár-környezetvédelmi Program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4-2006 között a Nemzeti Vidékfejlesztési Terv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7-2013 között a Nemzeti Agrár-vidékfejlesztési Tervben jelennek me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177336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4960" y="1268280"/>
            <a:ext cx="88790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környezetpolitika fogalma a fenntartható fejlődés koncepciójának ismeretéb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környezetpolitika a fenntarthatósági politika része. A társadalmi-gazdasági rendszert, a technoszférát (az ember által alkotott világot) a bioszféra alrendszereként kezelő környezetfogalomból kiindulva a környezetpolitikának a bioszféra és a technoszféra által alkotott komplex rendszer hosszú távú fenntartására kell irányuln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környezetpolitika szintj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örnyezetpolitikáról több szinten szokás beszél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nnyiben a fenntarthatósági politika összetevőjeként értelmezzük, mindig tekintettel vagyunk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obál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onatkozásair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ég akkor is, ha eg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mzetek fölöt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zervezetről, például az Európai Unióró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y adot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szágró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epülésrő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gy akár eg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ágazatró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például a mezőgazdaság fenntarthatóságáról) esik sz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környezetpolitika értelmezhet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állalat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zinten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z EU környezetpolitikájának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örténet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ómai Szerződé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z Európai Unió elődszervezeteinek alapszerződése semmiféle rendelkezést nem tartalmazott a környezeti ügyekre vonatkozóan. Környezeti problémák ugyan már ekkor is léteztek, de még nem tudatosodtak sem a társadalomban, sem a politikai vezetésb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z EU környezetpolitikájának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örténet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1987-ben hatályba lépet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gységes Európai Okmán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ómai Szerződés módosításáv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emelte a Közösség céljai közé a környezetvédelm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így közvetlen jogalapot teremtett a közös környezetpolitikai intézkedések számá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z EU környezetpolitikájának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örténete II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as keltezésű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Maastrichti Szerződés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az alapokmány újabb módosítását jelentette környezeti szempontból is. A legfontosabb változás, hogy a Közösség céljai közé emelte a fenntartható fejlődést és gazdasági céljaival egyenrangú célként ismerte el, valamint további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örnyezetvédelmi alapelveket illesztett a dokumentumba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örnyezeti károkat elsősorban azok forrásánál kell kezeln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kkor intézményesült a szennyező fizet elv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védelem magas fokának el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és az elővigyázatosság el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6T10:39:11Z</dcterms:created>
  <dc:creator>p</dc:creator>
  <dc:description/>
  <dc:language>en-US</dc:language>
  <cp:lastModifiedBy>Vasa László</cp:lastModifiedBy>
  <dcterms:modified xsi:type="dcterms:W3CDTF">2006-06-29T06:09:51Z</dcterms:modified>
  <cp:revision>85</cp:revision>
  <dc:subject/>
  <dc:title>Az Európai Unió környezetpolitikája </dc:title>
</cp:coreProperties>
</file>