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E0D4-D64F-49DD-B38C-82D205F5A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3665-EF1E-40B5-83AA-DE757A57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4C91-AEC9-4E3D-89B9-EF3A8FC55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A081-C938-456A-9360-FE0B174BF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DF3E2-E953-454E-9D19-54D5E1C9D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5F92-5687-48E9-A734-10B9A52C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8C5AB-E7C0-4ACB-935E-AF08D56E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9D3D-B5EC-4287-9F0D-D5B4337A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262E-22C9-4AEE-9745-FB5A1C1B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7A2CD-7E01-4030-903C-385CE807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AA9B-03A5-4D15-9659-46183F7C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1A39-BB01-4247-8374-F4E4FC11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BC6C-D7C9-42E0-ACA5-E6184FBE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1DA3-22D6-41AF-8752-DF8FC213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99159-BB2F-4781-B2A8-562A74FD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4F510-E45D-47C0-B228-11253D362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6C4A-CE1D-4B34-874F-1F1B407E2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36B5-85D1-4565-A3BD-4CC383AF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593B-B604-4ED1-B0C9-42D92B3A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DD60-1DF2-4027-9906-8B838C84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5BA0-C74B-4C60-ABB8-9815FA71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92A0-8E3D-499A-A6BF-6C5A8788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B3B5-DCB4-420C-8ED5-037FBFA9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2688-1DE3-4DD2-84FD-E1563A44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69E7-46F1-42AF-A796-E6267D5D5602}" type="slidenum">
              <a:rPr b="0" lang="hu-H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325F-E115-4DC1-A3AE-7159F1CD2BC8}" type="slidenum">
              <a:rPr b="0" lang="hu-H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94920" y="1268280"/>
            <a:ext cx="84502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.1.-I.5. Agrárökonómi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1403280" y="2565360"/>
            <a:ext cx="6769080" cy="36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Verdana"/>
              </a:rPr>
              <a:t>Dr. Vasa Lászl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Verdana"/>
              </a:rPr>
              <a:t>Szent István Egye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Verdana"/>
              </a:rPr>
              <a:t>Dr. Lengyel Laj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Verdana"/>
              </a:rPr>
              <a:t>Szolnoki Főisko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Verdana"/>
              </a:rPr>
              <a:t>Dr. Ferenczi Tibor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Verdana"/>
              </a:rPr>
              <a:t>Budapeti Corvinus Egye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58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A MEZŐGAZDASÁG RÁFORDÍTÁSI KAPCSOLATAI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ghatározó az ipar szerepe (vegyipar, gépipa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ját anyag felhasználása jelentős, de csökken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z importanyag-tartalom nő (kb. 6-7%), de az iparétól elmar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holtmunka költségaránya nő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b7"/>
                </a:solidFill>
                <a:latin typeface="Verdana"/>
              </a:rPr>
              <a:t>Mezőgazdasági és Vidékfejlesztési Hivatal </a:t>
            </a:r>
            <a:endParaRPr b="1" lang="en-US" sz="3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8450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ladatkörö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iaci intézkedések (exporttámogatások, intervenció, belpiaci intézkedések, stb.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özvetlen jövedelem támogatáso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idékfejlesztési pályázato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OGA Orientációs részlegébő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OGA Garancia részlegéből (kísérő intézkedések, pl.: agrár- környezetvédelmi programo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alászati intézkedése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59" dur="indefinite" restart="never" nodeType="tmRoot">
          <p:childTnLst>
            <p:seq>
              <p:cTn id="1460" dur="indefinite" nodeType="mainSeq">
                <p:childTnLst>
                  <p:par>
                    <p:cTn id="1461" fill="hold">
                      <p:stCondLst>
                        <p:cond delay="0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7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2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7" dur="5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2" dur="5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7" dur="50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2" dur="50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7" dur="500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2" dur="500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Verdana"/>
              </a:rPr>
              <a:t>Mezőgazdasági és Vidékfejlesztési Hivatal funkciói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450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z Integrált Irányítási és Ellenőrzési Rendszer (IIER) működtetése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Kifizetések engedélyezése, a kifizetendő összeg közösségi előírásoknak megfelelő eljárás keretében történő megállapítás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ndelkezés a Magyar Államkincstár felé a jogosnak ítélt támogatások végső kedvezményezett részére történő átutalásáró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MOGA terhére teljesített kifizetések elkülönített naprakész nyilvántartása, könyvelés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Kifizetések alapjául szolgáló adatok ellenőrzés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MOGA javára történő befizetésekkel kapcsolatos feladatok ellátás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05" dur="indefinite" restart="never" nodeType="tmRoot">
          <p:childTnLst>
            <p:seq>
              <p:cTn id="1506" dur="indefinite" nodeType="mainSeq">
                <p:childTnLst>
                  <p:par>
                    <p:cTn id="1507" fill="hold">
                      <p:stCondLst>
                        <p:cond delay="0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8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5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2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9" dur="5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6" dur="5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3" dur="50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Verdana"/>
              </a:rPr>
              <a:t>MVH feladat delegálás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845028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Országos Mezőgazdasági Minősítő Intézet (OMMI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Földmérési és Távérzékelési Intézet (FÖMI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FVM Állategészségügyi és Élelmiszer Ellenőrző Állomáso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Agrárgazdasági Kutató és Informatikai Intézet (AKII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Állattenyésztési Teljesítményvizsgáló Kft. (ÁT.Kft.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Magyar Tejgazdasági Kísérleti Intézet Kft. (MTKI Kft.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Hegyközségek Nemzeti Tanácsa (HN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Hegyközsége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Országos Borminősítő Intézet (OBI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FVM Műszaki Intéz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Állami Erdészeti Szolgálat (ÁESZ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Magyar Agrárkamar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56" dur="indefinite" restart="never" nodeType="tmRoot">
          <p:childTnLst>
            <p:seq>
              <p:cTn id="1557" dur="indefinite" nodeType="mainSeq">
                <p:childTnLst>
                  <p:par>
                    <p:cTn id="1558" fill="hold">
                      <p:stCondLst>
                        <p:cond delay="0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2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4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9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6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3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0" dur="5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7" dur="5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4" dur="50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1" dur="500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8" dur="500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5" dur="500"/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2" dur="500"/>
                                        <p:tgtEl>
                                          <p:spTgt spid="3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3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3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9" dur="500"/>
                                        <p:tgtEl>
                                          <p:spTgt spid="3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3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3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6" dur="500"/>
                                        <p:tgtEl>
                                          <p:spTgt spid="3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3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3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0" y="173160"/>
            <a:ext cx="91440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Verdana"/>
              </a:rPr>
              <a:t>Az agrárpiaci rendtartás során felhasználható eszközök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5000"/>
              </a:lnSpc>
              <a:spcBef>
                <a:spcPts val="10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rmelés mennyiségi szabályozás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termelői önkorlátozással és kvótarendszerrel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5000"/>
              </a:lnSpc>
              <a:spcBef>
                <a:spcPts val="10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árrendsz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garantált ár, irányár, küszöbár, zsilipár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5000"/>
              </a:lnSpc>
              <a:spcBef>
                <a:spcPts val="10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ortszabályozá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támogatás, engedélyezés, vámrendszer, lefölözés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5000"/>
              </a:lnSpc>
              <a:spcBef>
                <a:spcPts val="10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ortszabályozá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engedélyezés, vámrendszer, lefölözés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5000"/>
              </a:lnSpc>
              <a:spcBef>
                <a:spcPts val="10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rárintervenció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termékfelesleg, illetve hiány keletkezésekor egyaránt alkalmazható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5000"/>
              </a:lnSpc>
              <a:spcBef>
                <a:spcPts val="10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gyéb jogi szabályozá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49" dur="indefinite" restart="never" nodeType="tmRoot">
          <p:childTnLst>
            <p:seq>
              <p:cTn id="1650" dur="indefinite" nodeType="mainSeq">
                <p:childTnLst>
                  <p:par>
                    <p:cTn id="1651" fill="hold">
                      <p:stCondLst>
                        <p:cond delay="0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7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2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9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6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3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0" dur="500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7" dur="500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173160"/>
            <a:ext cx="91440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Verdana"/>
              </a:rPr>
              <a:t>Garantált ár – irányár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Garantált á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24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z agrártermelés biztonságát szolgálj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24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z állam garanciát vállal arra, hogy meghatározott mennyiségű és minőségű terméket ezen áron történő felvásárlására értékesítési gondok eseté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24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 gazdálkodók költségei határozzák meg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24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erméktanácsokkal megkötött egyezmények alapjá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24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Nem tartalmaz profito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rányá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24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 vélelmezhető piaci viszonyok valamint a ráfordítások figyelembevételével prognosztizálható ár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24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 terméktanácsok határoznak meg az egyes termékekr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24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nem nyújt semmilyen garanciát, csak orientálja a termelőt a termelési döntéseinek meghozatalakor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24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 belföldi fogyasztói ármozgások alapját képezi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00" dur="indefinite" restart="never" nodeType="tmRoot">
          <p:childTnLst>
            <p:seq>
              <p:cTn id="1701" dur="indefinite" nodeType="mainSeq">
                <p:childTnLst>
                  <p:par>
                    <p:cTn id="1702" fill="hold">
                      <p:stCondLst>
                        <p:cond delay="0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3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8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3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8" dur="5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3" dur="5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8" dur="500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9" dur="5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5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5" dur="500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6" dur="500" fill="hold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0" dur="500"/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5" dur="500"/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0" dur="500"/>
                                        <p:tgtEl>
                                          <p:spTgt spid="4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1" dur="500" fill="hold"/>
                                        <p:tgtEl>
                                          <p:spTgt spid="4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500" fill="hold"/>
                                        <p:tgtEl>
                                          <p:spTgt spid="4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5" dur="500"/>
                                        <p:tgtEl>
                                          <p:spTgt spid="4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6" dur="500" fill="hold"/>
                                        <p:tgtEl>
                                          <p:spTgt spid="4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500" fill="hold"/>
                                        <p:tgtEl>
                                          <p:spTgt spid="4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173160"/>
            <a:ext cx="91440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Verdana"/>
              </a:rPr>
              <a:t>Mennyiségi + külker szabályozás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96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10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nnyiségi szabályozá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má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975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termelés önkorlátozása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975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állami kvótarendszer (garantált ár jár hozzá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0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ülkereskedelmi szabályoz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975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exportszabályozá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219320" indent="-30492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ámogatási rendszer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19320" indent="-30492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gedélyezési rends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19320" indent="-30492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fölözés (belföldi hiány elle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975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importszabályozá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219320" indent="-30492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ámrendszer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19320" indent="-30492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ort lefölözé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19320" indent="-30492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yéb importszabályozá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68" dur="indefinite" restart="never" nodeType="tmRoot">
          <p:childTnLst>
            <p:seq>
              <p:cTn id="1769" dur="indefinite" nodeType="mainSeq">
                <p:childTnLst>
                  <p:par>
                    <p:cTn id="1770" fill="hold">
                      <p:stCondLst>
                        <p:cond delay="0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6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1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2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6" dur="5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1" dur="5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2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8" dur="5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9" dur="5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5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3" dur="5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4" dur="5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5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8" dur="500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9" dur="500" fill="hold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500" fill="hold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3" dur="500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4" dur="500" fill="hold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500" fill="hold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8" dur="500"/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9" dur="500" fill="hold"/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500" fill="hold"/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3" dur="500"/>
                                        <p:tgtEl>
                                          <p:spTgt spid="4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4" dur="500" fill="hold"/>
                                        <p:tgtEl>
                                          <p:spTgt spid="4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5" dur="500" fill="hold"/>
                                        <p:tgtEl>
                                          <p:spTgt spid="4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8" dur="500"/>
                                        <p:tgtEl>
                                          <p:spTgt spid="4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9" dur="500" fill="hold"/>
                                        <p:tgtEl>
                                          <p:spTgt spid="4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500" fill="hold"/>
                                        <p:tgtEl>
                                          <p:spTgt spid="4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3" dur="500"/>
                                        <p:tgtEl>
                                          <p:spTgt spid="4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4" dur="500" fill="hold"/>
                                        <p:tgtEl>
                                          <p:spTgt spid="4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500" fill="hold"/>
                                        <p:tgtEl>
                                          <p:spTgt spid="4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8" dur="500"/>
                                        <p:tgtEl>
                                          <p:spTgt spid="4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9" dur="500" fill="hold"/>
                                        <p:tgtEl>
                                          <p:spTgt spid="4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500" fill="hold"/>
                                        <p:tgtEl>
                                          <p:spTgt spid="4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0" y="173160"/>
            <a:ext cx="91440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Verdana"/>
              </a:rPr>
              <a:t>Intervenciós szabályozás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96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1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z intervenció formái termékfelesleg és termékhiány esetén különbözőek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ékfelesleg eseté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13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iacról történő végleges kivoná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219320" indent="-304920">
              <a:lnSpc>
                <a:spcPct val="80000"/>
              </a:lnSpc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l. kényszerexport, állami felvásárlás, megsemmisíté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13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iacról történő ideiglenes kivoná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219320" indent="-304920">
              <a:lnSpc>
                <a:spcPct val="80000"/>
              </a:lnSpc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l. állami felvásárlás és készletezés, bértároltatá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ékhiány eseté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13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állami készletek piacra-vitele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13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ort elrendelése, szükség szerinti kedvezményekkel történő belföldi forgalmazás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41" dur="indefinite" restart="never" nodeType="tmRoot">
          <p:childTnLst>
            <p:seq>
              <p:cTn id="1842" dur="indefinite" nodeType="mainSeq">
                <p:childTnLst>
                  <p:par>
                    <p:cTn id="1843" fill="hold">
                      <p:stCondLst>
                        <p:cond delay="0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9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4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5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fill="hold">
                      <p:stCondLst>
                        <p:cond delay="indefinite"/>
                      </p:stCondLst>
                      <p:childTnLst>
                        <p:par>
                          <p:cTn id="1858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1" dur="5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2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6" dur="5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7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8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1" dur="5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2" dur="5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5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6" dur="5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7" dur="5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5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1" dur="500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2" dur="500" fill="hold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500" fill="hold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8" dur="500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9" dur="5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3" dur="500"/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4" dur="500" fill="hold"/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" fill="hold"/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8" dur="500"/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9" dur="500" fill="hold"/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500" fill="hold"/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0" y="173160"/>
            <a:ext cx="91440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Verdana"/>
              </a:rPr>
              <a:t>Az agrárpiaci rendtartás módosítása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13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Az EU csatlakozás miatt -  a CAP átvéte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13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Arial"/>
              </a:rPr>
              <a:t>Termékpálya-bizottságok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 létrehozása (CMO – Common Market Organization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11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Cél: Piaci zavarokat megelőzve intézkedjen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11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ddig hét termékpálya-bizottság jött létre (gabona, tej, hús, cukor, zöldség-gyümölcs, szőlő-bor, dohá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13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Arial"/>
              </a:rPr>
              <a:t>Civil szervezetek bevonása a Tárcaközi Bizottság munkájába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 (MAK, MOSZ, MAGOSZ, ÉFOSZ + terméktanácsok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13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A kiskereskedők </a:t>
            </a:r>
            <a:r>
              <a:rPr b="1" lang="hu-HU" sz="2600" spc="-1" strike="noStrike">
                <a:solidFill>
                  <a:srgbClr val="ffffff"/>
                </a:solidFill>
                <a:latin typeface="Arial"/>
              </a:rPr>
              <a:t>nem értékesíthetnek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600" spc="-1" strike="noStrike">
                <a:solidFill>
                  <a:srgbClr val="ffffff"/>
                </a:solidFill>
                <a:latin typeface="Arial"/>
              </a:rPr>
              <a:t>beszerzési ár alatt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hu-HU" sz="2600" spc="-1" strike="noStrike">
                <a:solidFill>
                  <a:srgbClr val="ffffff"/>
                </a:solidFill>
                <a:latin typeface="Arial"/>
              </a:rPr>
              <a:t>30 napos fizetési határidőt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 be kell tartaniu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01" dur="indefinite" restart="never" nodeType="tmRoot">
          <p:childTnLst>
            <p:seq>
              <p:cTn id="1902" dur="indefinite" nodeType="mainSeq">
                <p:childTnLst>
                  <p:par>
                    <p:cTn id="1903" fill="hold">
                      <p:stCondLst>
                        <p:cond delay="0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9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4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5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1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2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6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7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1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2" dur="5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5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4" fill="hold">
                      <p:stCondLst>
                        <p:cond delay="indefinite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8" dur="5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9" dur="5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0" dur="5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5" dur="5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6" dur="500" fill="hold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7" dur="500" fill="hold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50560" y="244080"/>
            <a:ext cx="8591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Verdana"/>
              </a:rPr>
              <a:t>Termékpálya Bizottságok feladatai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23640" y="1411200"/>
            <a:ext cx="85215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szter felügyelete alatt működő piaci információs rendszerből származó információk alapján a piaci helyzet értékelé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elési statisztikák elemzése, termésbecslés, mérlegkészítés, előrejelz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vaslattétel jogszabály alkotására és módosításá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ékpálya-szabályozás hatásainak értékelé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 tagsági viszonyból eredő döntés-előkészítő operatív egyeztet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58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AZ ÉLELMISZERIPAR KIBOCSÁTÁSI KAPCSOLATAI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nagyobb hányada végső felhasználásra kerül (kb. 70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termelési célú kibocsátás jelentős része megy saját célú felhasználásra (kb. 40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elési célú kibocsátás a mezőgazdaságba (kb. 45%): melléktermék, takarmá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bocsátás a könnyűiparba, vegyipar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58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AZ ÉLELMISZERIPAR RÁFORDÍTÁSI KAPCSOLATAI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ő és meghatározó szállítója a mezőgazdaság (kb. 60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z anyagfelhasználáson belül az ipar szerepe jelentős (kb. 30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z importanyag-felhasználása magasabb, mint a mezőgazdaság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gas a pótlási alap nagyság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385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Verdana"/>
              </a:rPr>
              <a:t>Az agrárgazdaságtan tárgya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3640" y="765000"/>
            <a:ext cx="85215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A közgazdaságtan alrendszere, a mezőgazdaság sajátosságainak ökonómiai (makroökonómiai) kérdéseivel foglalkozik (</a:t>
            </a:r>
            <a:r>
              <a:rPr b="0" lang="hu-HU" sz="2600" spc="-1" strike="noStrike">
                <a:solidFill>
                  <a:srgbClr val="ffffff"/>
                </a:solidFill>
                <a:latin typeface="Verdana"/>
                <a:ea typeface="Arial"/>
              </a:rPr>
              <a:t>→agrárökonómia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  <a:ea typeface="Arial"/>
              </a:rPr>
              <a:t>Agrárgazdaságtan (makro) – mg. üzemtan (mikro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Keresi az általános és specifikus gazdasági törvények mezőgazdaságban érvényesülő formáit, jelenségeit és ezek összefüggései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Vizsgálja a mezőgazdaság belső társadalmi-gazdasági törvényszerűségeit, az ott végbemenő gazdasági folyamatok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Jövő: természeti erőforrások ökonómiája, fenntarhatósá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7138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A agrárökonómia vizsgálati módszerei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dukció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yakori esetek, tények, jelenségek kutatása, absztrakcióval következtetések levon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dukció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általános törvényszerűségeket vonatkoztat az egyes esetek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bsztrakció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ényegtelen, mellékes jelenségek kiküszöbölése, a lényeg, az általánosítható folyamat kiemel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okozatos konkretizálá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ztrakció eredményeinek (kategóriák, törvények elméletek) konkrét gazdasági valóságra való alkalmaz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Verifikálás (ellenőrzé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 absztrakció eredményeinek az objektív gazdasági valósággal való összevet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280" y="244440"/>
            <a:ext cx="8964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Verdana"/>
              </a:rPr>
              <a:t>Az agrárgazdaságtan kapcsolata más tudományágakkal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z agrárgazdaságtan helye a tudományok között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- társadalomtudomán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- gazdaságtudomán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- ágazati gazdaságta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Kapcsolódás más tudományágakkal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- természettudományo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- műszaki tudományok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- alkalmazott közgazdaságta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2000" y="0"/>
            <a:ext cx="8712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Verdana"/>
              </a:rPr>
              <a:t>A agrárökonómiai elemzések forrásai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5708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isztikai adatok (KSH évkönyve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kroökonómiai források (vállalati adatok aggregálás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ndszámítás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zakmai szervezetek adatszolgáltatásai, tanulmányai (becslések, értékelése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sztüzemi rendszer (AK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azdaságpolitikai elemzés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Ágazati elemzés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ettanulmány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Verdana"/>
              </a:rPr>
              <a:t>Az agrárgazdaságtan főbb témakörei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820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A mg. nemzetgazdasági szerepe, ágazati sajátosságai, ágazati kapcsolato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A mg. termelési tényezői (föld, munka, műszaki fejlesztés, tők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A mg. versenyképességének közg. összefüggése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Piaci viszonyok az agráriumba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Mg. árszínvonal, árviszonyok, árdiszparitás és az agrárolló összefüggése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Az agrárgazdaság termelési struktúráj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Agrárszabályozás, rendtartá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Agrárgazdaság – vidékfejlesztés – multifunkcionalitá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A gazdasági, ökológiai és társadalmi környez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280" y="244440"/>
            <a:ext cx="89647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Verdana"/>
              </a:rPr>
              <a:t>Agrárgazdaságtan – agrárpolitika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83059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 gazdaságpolitika része, a mezőgazdaság fejlesztésére, állami irányítására és szabályozására irányu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z agrárgazdaságtan tudományos eredményeit és következtetéseit, az aktuális politikai célokat ötvözi és valósítja meg a gyakorlatba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z agrárgazdaságtan módszereket és eljárásokat dolgoz ki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gazdasági törvények felhasználása és alkalmazása az agrárpolitikába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4F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=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öld,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öldműves,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lu,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oglalkoztatottsá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Verdana"/>
              </a:rPr>
              <a:t>A mezőgazdaság fogalma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82000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Hagyományos felfogás: nyersanyagtermelő ágazat (növényi és állati eredetű élelmiszerek, ipari nyersanyago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Őstermelés: a gazdasági ág természeti tényezőkre támaszkodik (bányászat, geotermikus energia termelés, földművelé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Mai jellemző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- szubsztantív és formális tevékenységek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  dualizmu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- technologizált munkafolyamat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- vertikális integráci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Verdana"/>
              </a:rPr>
              <a:t>A szektorok arányának változása a nemzetgazdaságon belül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8642160" cy="46087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Verdana"/>
              </a:rPr>
              <a:t>Agrárgazdaság – élelmiszergazdaság – agrobiznisz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82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b7"/>
                </a:solidFill>
                <a:latin typeface="Verdana"/>
              </a:rPr>
              <a:t>	</a:t>
            </a:r>
            <a:r>
              <a:rPr b="0" lang="hu-HU" sz="2800" spc="-1" strike="noStrike">
                <a:solidFill>
                  <a:srgbClr val="ffffb7"/>
                </a:solidFill>
                <a:latin typeface="Verdana"/>
              </a:rPr>
              <a:t>	</a:t>
            </a:r>
            <a:r>
              <a:rPr b="0" lang="hu-HU" sz="2800" spc="-1" strike="noStrike" u="sng">
                <a:solidFill>
                  <a:srgbClr val="ffffb7"/>
                </a:solidFill>
                <a:uFillTx/>
                <a:latin typeface="Verdana"/>
              </a:rPr>
              <a:t>Mezőgazdasá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b7"/>
                </a:solidFill>
                <a:latin typeface="Verdana"/>
              </a:rPr>
              <a:t>növénytermeszt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b7"/>
                </a:solidFill>
                <a:latin typeface="Verdana"/>
              </a:rPr>
              <a:t>állattenyészté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b7"/>
                </a:solidFill>
                <a:latin typeface="Verdana"/>
              </a:rPr>
              <a:t>mg. szolgáltatás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b7"/>
                </a:solidFill>
                <a:latin typeface="Verdana"/>
              </a:rPr>
              <a:t>	</a:t>
            </a:r>
            <a:r>
              <a:rPr b="0" lang="hu-HU" sz="2800" spc="-1" strike="noStrike">
                <a:solidFill>
                  <a:srgbClr val="ffffb7"/>
                </a:solidFill>
                <a:latin typeface="Verdana"/>
              </a:rPr>
              <a:t>	</a:t>
            </a:r>
            <a:r>
              <a:rPr b="0" lang="hu-HU" sz="2800" spc="-1" strike="noStrike" u="sng">
                <a:solidFill>
                  <a:srgbClr val="ffffb7"/>
                </a:solidFill>
                <a:uFillTx/>
                <a:latin typeface="Verdana"/>
              </a:rPr>
              <a:t>Élelmiszergazdasá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b7"/>
                </a:solidFill>
                <a:latin typeface="Verdana"/>
              </a:rPr>
              <a:t>mezőgazdaság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b7"/>
                </a:solidFill>
                <a:latin typeface="Verdana"/>
              </a:rPr>
              <a:t>élelmiszerfeldol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b7"/>
                </a:solidFill>
                <a:latin typeface="Verdana"/>
              </a:rPr>
              <a:t>élelmiszerfor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00720" y="1557000"/>
            <a:ext cx="464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b7"/>
                </a:solidFill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ffffb7"/>
                </a:solidFill>
                <a:uFillTx/>
                <a:latin typeface="Verdana"/>
              </a:rPr>
              <a:t>Agrobiznisz:</a:t>
            </a:r>
            <a:r>
              <a:rPr b="0" lang="en-US" sz="2800" spc="-1" strike="noStrike">
                <a:solidFill>
                  <a:srgbClr val="ffffb7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Verdana"/>
              </a:rPr>
              <a:t>mezőgazdaság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Verdana"/>
              </a:rPr>
              <a:t>élelmiszeripar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Verdana"/>
              </a:rPr>
              <a:t>input-előállít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Verdana"/>
              </a:rPr>
              <a:t>élelmiszer-kereskede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Verdana"/>
              </a:rPr>
              <a:t>tercier szektor agrárgazdasággal kapcsolódó részei (bank, biztosítá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39628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Verdana"/>
              </a:rPr>
              <a:t>A mezőgazdaság funkciói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4391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Élelmiszertermel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lapanyag, frisstermé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Takarmánytermel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Szálas- és abraktakarmány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Energiatermelés (biodízel, biogáz, bioetilé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Környezetvédelem, természetvéde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Hulladékhasznosítás (melléktermékek, trágyázá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Foglalkoztatás, népességmegtart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Regionális egyenlőtlenségek kompenzálá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560" y="244440"/>
            <a:ext cx="859140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Verdana"/>
              </a:rPr>
              <a:t>A mezőgazdasági termelés sajátosságai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8930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termelés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ermészeti környezetbe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folyi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termék-előállítás eszközei, a termékek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biológiai szervezet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z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mbertől független tényezők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hatása a termelési folyamatra igen na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iklikusság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a ráfordítások folyamatosan, a bevételek szakaszosan jelentkezn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z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immobil faktorok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nagy szá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iverzifikációs kényszer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(költség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orgótőke finanszírozási problémák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a jövedelmi viszonyok miatt (bankok hitelezési hajlandóság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Termékstruktúra</a:t>
            </a:r>
            <a:br>
              <a:rPr sz="3400"/>
            </a:b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A növénytermesztési és állattenyésztési termékek aránya a mezőgazdaságban (%)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90520" y="1844640"/>
          <a:ext cx="8381880" cy="46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1844640"/>
                    <a:ext cx="838188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Verdana"/>
              </a:rPr>
              <a:t>Mezőgazdaság – kompetitív piac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89308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ökéletes piaci verse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gyon sok eladó és vásárló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az egyes piaci szereplőknek nincs hatásuk a piaci mozgások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iac végtelenül nagy egy-egy szereplőhöz képest 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(a kiskereskedelemben és a feldolgozó iparban ez változik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iacra való be- és kilépés szab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ogén, egymást helyettesítő termékek forgalmazá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z árak alakulása független a piaci szereplők szándékaitól, külső adottság 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(termelői árak problémája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ációk szabad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920" y="132840"/>
            <a:ext cx="844704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Verdana"/>
              </a:rPr>
              <a:t>A kereslet értelmezése a mezőgazdaságban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800" spc="-1" strike="noStrike">
                <a:solidFill>
                  <a:srgbClr val="ffff66"/>
                </a:solidFill>
                <a:latin typeface="Verdana"/>
              </a:rPr>
              <a:t>Az az árumennyiség, amelyet a vásárlók adott árak mellett hajlandóak és képesek megvásárol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kereslet = fizetőképes keresl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kereslet ≠ szükséglet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 kereslet mindig vásárlási szándékot, nem tényleges vásárlást jelent</a:t>
            </a: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 mg. keresletet befolyásoló tényező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A piac mérete (fogyasztók száma és megoszlása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A fogyasztók jövedelme, a jövedelem eloszlás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A termék ár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A helyettesítő termék ár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Verdana"/>
              </a:rPr>
              <a:t>A keresleti függvény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813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gy adott termék fizetőképes keresletének mennyiségeit fejezi ki a termék árának függvényé-b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564000" y="1341360"/>
          <a:ext cx="5580000" cy="532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1341360"/>
                    <a:ext cx="5580000" cy="53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A kínálat értelmezése a mezőgazdaságban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z a meghatározott mennyiségű és összetételű árutömeg amelyet az árutermelők valamely piacon, adott áron eladásra felkínálna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mg. kínálatot befolyásoló tényező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A mg. termék-előállítás során felhasznált inputok ár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A termék ára (magas ár – nagyobb kínálat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A helyettesítő termékek árváltozása (vaj – margarin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A kapcsolt termékek árváltozása (pl. gyapjú – juhhús, baromfi – tojás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A technológia állapota (befolyásolja a hozamot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Kormányzati beavatkozások (területpihentetés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A kínálati függvény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813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termelők különböző árak mellett milyen árumennyiségeket kínálnak eladásra a piac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419640" y="1268280"/>
          <a:ext cx="5724360" cy="538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268280"/>
                    <a:ext cx="5724360" cy="53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Verdana"/>
              </a:rPr>
              <a:t>A mezőgazdaság erőforrásai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8920" y="2060280"/>
            <a:ext cx="43275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rmőfö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unkaer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őkeforrás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űszaki feltétel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211280" y="2060280"/>
            <a:ext cx="49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rmészeti erőforrás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unkaer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őkeforrás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állalkozói készsé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Verdana"/>
              </a:rPr>
              <a:t>Az agrárgazdaság szintbeli tagozódása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773000"/>
            <a:ext cx="800748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KROSZ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EZOSZ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IKROSZ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ZUBMIKRO SZ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00720" y="2349360"/>
            <a:ext cx="576000" cy="57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00720" y="3500280"/>
            <a:ext cx="576000" cy="57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00720" y="4724280"/>
            <a:ext cx="576000" cy="57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3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Verdana"/>
              </a:rPr>
              <a:t>Termőföld, mint nemzeti vagyon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3772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társadalmi lét helye és feltéte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termelés tárgya és eszkö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rmészeti erőforr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sználati, tulajdonjogi viszonyában a termékelosztás alapja és eszkö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Verdana"/>
              </a:rPr>
              <a:t>A termőföld, mint termelési tényez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föld természeti tényezője, termelési eszköze, munkatárgya és munkaeszköze is a mezőgazdasági termelésn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Verdana"/>
              </a:rPr>
              <a:t>Alapvető termelési eszköz /duális funkció/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4280" y="2421000"/>
            <a:ext cx="640080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●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unkatárgy szer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●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unkaeszköz szer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Verdana"/>
              </a:rPr>
              <a:t>A termőföld sajátos tulajdonságai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89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Verdana"/>
              </a:rPr>
              <a:t>Termékenységgel</a:t>
            </a: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 rendelkezi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Természetes termékenysé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közg. termékenysé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Mesterséges termékenysé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Verdana"/>
              </a:rPr>
              <a:t>Helyhez kötött</a:t>
            </a: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 (immobil faktor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Újra nem termelhető, </a:t>
            </a:r>
            <a:r>
              <a:rPr b="1" lang="hu-HU" sz="2600" spc="-1" strike="noStrike">
                <a:solidFill>
                  <a:srgbClr val="ffffff"/>
                </a:solidFill>
                <a:latin typeface="Verdana"/>
              </a:rPr>
              <a:t>korlátozott terjedelmű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Kínálata tökéletesen rugalmatlan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 gazdálkodás tárgyának monopólium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Verdana"/>
              </a:rPr>
              <a:t>Örökkévaló, elpusztíthatatla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Ø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  <a:ea typeface="Arial"/>
              </a:rPr>
              <a:t> elhasználódási idő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Ø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  <a:ea typeface="Arial"/>
              </a:rPr>
              <a:t> amortizációs kul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  <a:ea typeface="Arial"/>
              </a:rPr>
              <a:t>Nem munkatermé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  <a:ea typeface="Arial"/>
              </a:rPr>
              <a:t>Befolyásolja a mg. termék egyéni értéké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03640" y="2060640"/>
            <a:ext cx="648000" cy="2887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5003640" y="2637000"/>
            <a:ext cx="648000" cy="287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Verdana"/>
              </a:rPr>
              <a:t>A földi létet veszélyeztető globális problémák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3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Verdana"/>
              </a:rPr>
              <a:t>A föld, mint erőforrás mikro-, és makroökonómiai megközelítése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773000"/>
            <a:ext cx="8007480" cy="27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föld kereslete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származékos keresl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föld kínálata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állandó, rugalmat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Állandó kínálatú termelési tényezők hozadéka a járadé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Verdana"/>
              </a:rPr>
              <a:t>A földjáradék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4000" y="2781000"/>
            <a:ext cx="444312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. számú különbözeti járadé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lterjességi vagy intenzitási járadé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lyzeti járadé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1640" y="2701440"/>
            <a:ext cx="4273560" cy="30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rmőképességből adód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obb technika, technológ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lőnyös fekv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" y="105264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föld tiszta hoz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énzben jelenik me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érleti díjat is jel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Verdana"/>
              </a:rPr>
              <a:t>A termőföld és földhasználat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5946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gyarország legfontosabb mg. erőforrása a fö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talajtípusok, fizikai adottságok kedvezőek a mezőgazdasági termelés számá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földhasználat hatékonyságána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utató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erületegységre jutó hozam, a területegységre jutó termelés és árutermelé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 területegységre jutó élőmunka-ráfordítás és termelési költsé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 területegységre jutó bruttó és nettó jövedele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Verdana"/>
              </a:rPr>
              <a:t>Földellátottság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442764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1000 lakosra jutó mezőgazdasági terület nagyság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(ha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100000"/>
              </a:lnSpc>
              <a:spcBef>
                <a:spcPts val="649"/>
              </a:spcBef>
              <a:buClr>
                <a:srgbClr val="99ff6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Írország       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  1 738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100000"/>
              </a:lnSpc>
              <a:spcBef>
                <a:spcPts val="649"/>
              </a:spcBef>
              <a:buClr>
                <a:srgbClr val="99ff6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Görögország       94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100000"/>
              </a:lnSpc>
              <a:spcBef>
                <a:spcPts val="649"/>
              </a:spcBef>
              <a:buClr>
                <a:srgbClr val="99ff6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panyolország    83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100000"/>
              </a:lnSpc>
              <a:spcBef>
                <a:spcPts val="649"/>
              </a:spcBef>
              <a:buClr>
                <a:srgbClr val="99ff6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Magyarország     61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32000" y="1700280"/>
            <a:ext cx="42116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000 lakosra jutó szántó terület nagyság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ha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ánia                 51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gyarország    47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A földterület használata művelési ágak szerint (%)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0" y="1268280"/>
          <a:ext cx="9036000" cy="5516640"/>
        </p:xfrm>
        <a:graphic>
          <a:graphicData uri="http://schemas.openxmlformats.org/drawingml/2006/table">
            <a:tbl>
              <a:tblPr/>
              <a:tblGrid>
                <a:gridCol w="2411280"/>
                <a:gridCol w="1008360"/>
                <a:gridCol w="936360"/>
                <a:gridCol w="1008000"/>
                <a:gridCol w="1008360"/>
                <a:gridCol w="863640"/>
                <a:gridCol w="865080"/>
                <a:gridCol w="934920"/>
              </a:tblGrid>
              <a:tr h="595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egnevezé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9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99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99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9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0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0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zánt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50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50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50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50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48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48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48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Ke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0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Gyümölcsö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zőlő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Gye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2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2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2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2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1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1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1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g. terül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9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5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6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0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2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3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rdő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8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9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9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9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9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8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9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ád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0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0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0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0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0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0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0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Halast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0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0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0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0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0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0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0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ermőterül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88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85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86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86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82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82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83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űvelés alól kivett terül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1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4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3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3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7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7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6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Összes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Verdana"/>
              </a:rPr>
              <a:t>Földhasználat változása gazdálkodási formák szerint (%)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50920" y="1125360"/>
          <a:ext cx="8642160" cy="5732280"/>
        </p:xfrm>
        <a:graphic>
          <a:graphicData uri="http://schemas.openxmlformats.org/drawingml/2006/table">
            <a:tbl>
              <a:tblPr/>
              <a:tblGrid>
                <a:gridCol w="2328840"/>
                <a:gridCol w="1047600"/>
                <a:gridCol w="1089000"/>
                <a:gridCol w="1079640"/>
                <a:gridCol w="936720"/>
                <a:gridCol w="1009440"/>
                <a:gridCol w="11509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egnevezé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9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99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9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0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0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Vállalatok, gazdasági társaságo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földterület, 1000 h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145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268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128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623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734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853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részarány,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6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8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6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4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5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6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zövetkezete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8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földterület, 1000 h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4937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083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584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178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854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41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részarány,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6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9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5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1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8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Gazdálkodó szervezete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8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földterület, 1000 h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7083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4352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713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801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589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495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részarány,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86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54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46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49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46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45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gyéni gazdaságo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földterület, 1000 h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152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658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4322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913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4118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4237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részarány,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4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45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53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50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53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54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Összes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földterület, 1000 h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8735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8010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8036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7715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7708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7732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részarány,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Verdana"/>
              </a:rPr>
              <a:t>A makrogazdasági mérlegrendszer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450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Makroökonómia – kettős aggregálá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gazd. szereplők  </a:t>
            </a: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  ágazatok, szektoro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termékek</a:t>
            </a: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  termékcsoportok (outpu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Korábban:  MPS (</a:t>
            </a:r>
            <a:r>
              <a:rPr b="1" lang="hu-HU" sz="2600" spc="-1" strike="noStrike">
                <a:solidFill>
                  <a:srgbClr val="ffffff"/>
                </a:solidFill>
                <a:latin typeface="Verdana"/>
              </a:rPr>
              <a:t>M</a:t>
            </a: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aterial </a:t>
            </a:r>
            <a:r>
              <a:rPr b="1" lang="hu-HU" sz="26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roduct </a:t>
            </a:r>
            <a:r>
              <a:rPr b="1" lang="hu-HU" sz="26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ystem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anyagi termelés rendszere, csak az anyagi </a:t>
            </a: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Verdana"/>
              </a:rPr>
              <a:t>termelés javait mé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Jelenleg:    SNA (</a:t>
            </a:r>
            <a:r>
              <a:rPr b="1" lang="hu-HU" sz="26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ystem of </a:t>
            </a:r>
            <a:r>
              <a:rPr b="1" lang="hu-HU" sz="26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ational </a:t>
            </a:r>
            <a:r>
              <a:rPr b="1" lang="hu-HU" sz="26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ccount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nemzeti elszámolások számlarendszere, minden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társadalmilag szervezett hasznos tevékenységet mé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51280" y="1952640"/>
            <a:ext cx="433440" cy="252360"/>
          </a:xfrm>
          <a:prstGeom prst="rightArrow">
            <a:avLst>
              <a:gd name="adj1" fmla="val 50000"/>
              <a:gd name="adj2" fmla="val 4293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51280" y="2421000"/>
            <a:ext cx="433440" cy="252360"/>
          </a:xfrm>
          <a:prstGeom prst="rightArrow">
            <a:avLst>
              <a:gd name="adj1" fmla="val 50000"/>
              <a:gd name="adj2" fmla="val 4293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Verdana"/>
              </a:rPr>
              <a:t>Földhasználat változása gazdálkodási formák szerint (%)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68360" y="1628640"/>
          <a:ext cx="8207280" cy="446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8207280" cy="44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755640" y="1125360"/>
          <a:ext cx="7920000" cy="525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125360"/>
                    <a:ext cx="792000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8686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Földbirtok-politika a rendszerváltás után és hatása a mai helyzetre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árpótlásról szóló 1991. évi XXV. törvé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zövetkezetek átalakulását szabályozó 1992. évi II. törvé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öldkiadásról szóló 1993. évi törvé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ezőgazdasági föld hasznosításáról szóló 1994. évi LV. törvé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Kárpótlásról szóló 1991. évi XXV. törvény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2398320"/>
            <a:ext cx="80074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kárpótlást degresszív módon hajtották vég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57200" y="3141720"/>
          <a:ext cx="8229600" cy="3095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ár értéke Ft-b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árpótlás mérték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-200.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lj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.000-1.000.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00.000-a fölöt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, vagy ennél kevesebb, de max.5 millió F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Verdana"/>
              </a:rPr>
              <a:t>1997. július 13-áig megtartott árverések adatai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33200" y="1916280"/>
          <a:ext cx="8831520" cy="4082760"/>
        </p:xfrm>
        <a:graphic>
          <a:graphicData uri="http://schemas.openxmlformats.org/drawingml/2006/table">
            <a:tbl>
              <a:tblPr/>
              <a:tblGrid>
                <a:gridCol w="6599520"/>
                <a:gridCol w="2232000"/>
              </a:tblGrid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egtartott árverések száma (db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      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5.94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lárverezett AK érték (AK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9.088.49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ulajdonhoz jutottak száma (fő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   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96.92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lárverezett terület (ha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.004.538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 fő tulajdonosra jutó földterület (ha/fő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           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,88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50920" y="260280"/>
          <a:ext cx="8713800" cy="64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0280"/>
                    <a:ext cx="8713800" cy="6408720"/>
                  </a:xfrm>
                  <a:prstGeom prst="rect">
                    <a:avLst/>
                  </a:prstGeom>
                  <a:ln w="9360">
                    <a:solidFill>
                      <a:srgbClr val="008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ffb7"/>
                </a:solidFill>
                <a:latin typeface="Verdana"/>
              </a:rPr>
              <a:t>Szövetkezetek átalakulását szabályozó 1992.évi II. törvény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gszüntette a szövetkezeti közös vagyo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lőírta annak teljes körű nevesítését a szövetkezetek megalakulása után a szövetkezetekben dolgozó tagok és azok leszármazottai közöt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hetővé tette a tagok részére a vagyoni hányadukkal együtt történő kiválásá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Verdana"/>
              </a:rPr>
              <a:t>Földkiadásról szóló 1993. évi II. törvény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314136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Verdana"/>
              </a:rPr>
              <a:t>A szövetkezetek közös használatában, de még a tagok tulajdonában lévő földek kijelölését írta elő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915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Verdana"/>
              </a:rPr>
              <a:t>Mezőgazdasági földek hasznosításáról szóló 1994. évi LV. törvény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7720" y="2730600"/>
            <a:ext cx="8007480" cy="33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Verdana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b7"/>
                </a:solidFill>
                <a:latin typeface="Verdana"/>
              </a:rPr>
              <a:t>külföldi személyek nem vásárolhattak termőföldet, belföldi jogi személyek vagy jogi személyiség nélküli más szervezetek ugyancsak nem szerezhettek a termőföldre tulajdonjogo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Verdana"/>
              </a:rPr>
              <a:t>A rendszerváltás következményei – összegzés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rmelés radikálisan visszaesett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3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űveletlen területek aránya 1994-be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0,5 millió h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lhanyagolt ültetvények magas aránya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30-4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állatállomány csökkenése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5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élelmiszerfogyasztás visszaesett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3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grárágazat egésze tartósan veszteségessé vá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b7"/>
                </a:solidFill>
                <a:latin typeface="Verdana"/>
              </a:rPr>
              <a:t>Fontosabb makrogazdasági mutatók</a:t>
            </a:r>
            <a:endParaRPr b="1" lang="en-US" sz="3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692280"/>
            <a:ext cx="889308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Bruttó kibocsátás (Gross Output = GO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Bruttó hazai termék (Gross Domestic Product = GDP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GO – folyó termelői felhasználás = hozzáadott érté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Nettó hazai termék (Net Domestic Product = NDP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GO – összes felhasználás; GDP - amortizáci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Bruttó nemzeti jövedelem (Gross National Income =GNI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állampolgárok realizált jövedelme (belföld vagy külföl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Nettó nemzeti jövedelem (Net National Income =NNI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GNI - amortizáci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Bruttó rendelkezésre álló nemzeti jövedelem (Gross National Disposable Income = GNDI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bejövő transzfer (+), kimenő transzfer (–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Nettó rendelkezésre álló nemzeti jövedelem (Net National Disposable Income = NNDI)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GNDI - amortizáci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Verdana"/>
              </a:rPr>
              <a:t>A termőföld-értékel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föld három tulajdonsága, ami mérlegelésre kerü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nt erőforrás korlátozottan áll rendelkezés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természeti (ökológiai) meghatározottsá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föld termelési funkciójának változtatási lehetősé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Verdana"/>
              </a:rPr>
              <a:t>A földérték részaránya néhány országban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1-16% Ausztria, Norvégia, Sváj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3-55 % Finnország, Franciaország, Hollandia, Németország, Svédorszá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64-73 % Belgium, Írország, Nagy-Britan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Az aranykorona-rendszer I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4920" y="1052640"/>
            <a:ext cx="84502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1876-1888 között került megvalósításr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1 kataszteri hold búza jövedelmének tőkésített hozadéka aranykoronában kifejezve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zorzókulcsokkal forintosított átlagérték, melyet módosítanak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föld fekvése a településhez, üzemi és piaci központokhoz, a közművekhez viszonyít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föld megközelíthetősége az útminőség alapjá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földművelésre való alkalmasság a domborzati viszonyok, a táblásítás, az öntözéses gazdálkodás adottságai és lehetőségei alapjá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távközlés fejlettsége és a környezet infrastrukturális ellátottság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Az aranykorona-rendszer II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4920" y="1052640"/>
            <a:ext cx="84502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kála a 3-5 aranykoronás gyenge minőségtől a 40 AK fölötti különleges minőségig terj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5 AK alatt</a:t>
            </a:r>
            <a:r>
              <a:rPr b="0" lang="en-US" sz="3200" spc="-1" strike="noStrike">
                <a:solidFill>
                  <a:srgbClr val="ffffff"/>
                </a:solidFill>
                <a:latin typeface="Univers"/>
              </a:rPr>
              <a:t>→ gye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ivers"/>
              </a:rPr>
              <a:t>15-25 AK → közepes, j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ivers"/>
              </a:rPr>
              <a:t>25-35 AK →jó, nagyon j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ivers"/>
              </a:rPr>
              <a:t>35 AK fölött → ex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ivers"/>
              </a:rPr>
              <a:t>Az átlagos aranykorona érték 19,8 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z országrészek jellemzői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24000" y="1268280"/>
          <a:ext cx="8569080" cy="4681800"/>
        </p:xfrm>
        <a:graphic>
          <a:graphicData uri="http://schemas.openxmlformats.org/drawingml/2006/table">
            <a:tbl>
              <a:tblPr/>
              <a:tblGrid>
                <a:gridCol w="2081160"/>
                <a:gridCol w="1230120"/>
                <a:gridCol w="2633760"/>
                <a:gridCol w="1389240"/>
                <a:gridCol w="1234800"/>
              </a:tblGrid>
              <a:tr h="108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nőség (AK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gközelíthetőség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azdasági környeze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ársáv (eFt/ha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9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yugat- Dunántúl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-25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ó, EU közelség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ó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0-6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él-Dunántúl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-3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özepe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özepe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0-4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p környék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-25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ó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ó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0-20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lföl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-4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özepe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özepe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0-5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-Magyarország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-15'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özepe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yeng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-3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 földjáradé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A földtőke kamata, a befektetett tőke hozadékának egy rés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A gazdálkodás jövedelmének az a része, ami a földtőkén felüli tőkerészek kamatigényének levonása után mar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Verdana"/>
              </a:rPr>
              <a:t>Fj = TÉ - (TK+K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24408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Verdana"/>
              </a:rPr>
              <a:t>A földpiac-szabályozás termelés- és földbirtok-politikai eszközei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ermelés korlátozása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(kvóta, területcsökkenté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Befolyásolás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ámogatások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al (földtul., mg. tev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Földtulajdonszerzés korlátozá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ulajdonszerzés szabályozása (engedély, elővéte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megszerezhető földterület nagyságának korlátoz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egy üzem által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asznosítható földterület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mértékének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aximalizálá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aszonbérleti jog szabályozá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Öröklési jogszabály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Állami elővételi jo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Verdana"/>
              </a:rPr>
              <a:t>A mezőgazdasági munkaerő sajátosságai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820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elyhez kötöttség – mobilitási problémá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háztartási gazdaság sajátos hatás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acsonyabb bérszínvonal (2002: 58.000 Ft nettó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munkaerő képzettségbeli eltéré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munkaerő-piaci tendenciák hatásainak késése a vidéki térségekb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alu-város kulturális és életszínvonalbeli különbsége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fizikai munkavégzés sajátosságai, ciklikus munkacsúcso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Jellemző a feketemunka, elsősorban a kézimunka-igényes ágazatokba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Verdana"/>
              </a:rPr>
              <a:t>Agrárfoglalkoztatás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Verdana"/>
              </a:rPr>
              <a:t>Agrárnépesség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468360" y="1700280"/>
          <a:ext cx="7989840" cy="4480920"/>
        </p:xfrm>
        <a:graphic>
          <a:graphicData uri="http://schemas.openxmlformats.org/drawingml/2006/table">
            <a:tbl>
              <a:tblPr/>
              <a:tblGrid>
                <a:gridCol w="2349360"/>
                <a:gridCol w="1646280"/>
                <a:gridCol w="1997280"/>
                <a:gridCol w="1996920"/>
              </a:tblGrid>
              <a:tr h="825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rcsoport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munkaerő korösszetétel szerinti megoszlása a mezőgazdaságban (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-29 é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,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-39 é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,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,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,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-49 é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,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,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-X  é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,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Összesen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Verdana"/>
              </a:rPr>
              <a:t>SNA termelési mutatók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79280" y="1268280"/>
          <a:ext cx="8964720" cy="5172120"/>
        </p:xfrm>
        <a:graphic>
          <a:graphicData uri="http://schemas.openxmlformats.org/drawingml/2006/table">
            <a:tbl>
              <a:tblPr/>
              <a:tblGrid>
                <a:gridCol w="2241720"/>
                <a:gridCol w="2241360"/>
                <a:gridCol w="2241720"/>
                <a:gridCol w="2239920"/>
              </a:tblGrid>
              <a:tr h="120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Verdana"/>
                          <a:ea typeface="Times New Roman"/>
                        </a:rPr>
                        <a:t>Mutató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Verdana"/>
                          <a:ea typeface="Times New Roman"/>
                        </a:rPr>
                        <a:t>Brutt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8000"/>
                          </a:solidFill>
                          <a:latin typeface="Verdana"/>
                          <a:ea typeface="Times New Roman"/>
                        </a:rPr>
                        <a:t>Félnett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8000"/>
                          </a:solidFill>
                          <a:latin typeface="Verdana"/>
                          <a:ea typeface="Times New Roman"/>
                        </a:rPr>
                        <a:t>(elnevezésben bruttó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Verdana"/>
                          <a:ea typeface="Times New Roman"/>
                        </a:rPr>
                        <a:t>Nett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7"/>
                    </a:solidFill>
                  </a:tcPr>
                </a:tc>
              </a:tr>
              <a:tr h="120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Verdana"/>
                          <a:ea typeface="Times New Roman"/>
                        </a:rPr>
                        <a:t>Megtermelt jövedele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Verdana"/>
                          <a:ea typeface="Times New Roman"/>
                        </a:rPr>
                        <a:t>bruttó kibocsátá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Verdana"/>
                          <a:ea typeface="Times New Roman"/>
                        </a:rPr>
                        <a:t>(GO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Verdana"/>
                          <a:ea typeface="Times New Roman"/>
                        </a:rPr>
                        <a:t>bruttó hazai termék (GDP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Verdana"/>
                          <a:ea typeface="Times New Roman"/>
                        </a:rPr>
                        <a:t>nettó hazai termék (NDP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7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8000"/>
                          </a:solidFill>
                          <a:latin typeface="Verdana"/>
                          <a:ea typeface="Times New Roman"/>
                        </a:rPr>
                        <a:t>Elsődl. eloszt. során megtermelt jövedele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Verdana"/>
                          <a:ea typeface="Times New Roman"/>
                        </a:rPr>
                        <a:t>bruttó nemzeti jövedele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Verdana"/>
                          <a:ea typeface="Times New Roman"/>
                        </a:rPr>
                        <a:t>(GNI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Verdana"/>
                          <a:ea typeface="Times New Roman"/>
                        </a:rPr>
                        <a:t>nettó nemzeti jövedele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Verdana"/>
                          <a:ea typeface="Times New Roman"/>
                        </a:rPr>
                        <a:t>(NNI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7"/>
                    </a:solidFill>
                  </a:tcPr>
                </a:tc>
              </a:tr>
              <a:tr h="120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8000"/>
                          </a:solidFill>
                          <a:latin typeface="Verdana"/>
                          <a:ea typeface="Times New Roman"/>
                        </a:rPr>
                        <a:t>Végső felh. kerülő jöv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8000"/>
                          </a:solidFill>
                          <a:latin typeface="Verdana"/>
                          <a:ea typeface="Times New Roman"/>
                        </a:rPr>
                        <a:t>bruttó rend. álló nemz. jöv.(GNDI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8000"/>
                          </a:solidFill>
                          <a:latin typeface="Verdana"/>
                          <a:ea typeface="Times New Roman"/>
                        </a:rPr>
                        <a:t>nettó rend. álló nemz. jöv. (NNDI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7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108000" y="549360"/>
          <a:ext cx="8737560" cy="5073480"/>
        </p:xfrm>
        <a:graphic>
          <a:graphicData uri="http://schemas.openxmlformats.org/drawingml/2006/table">
            <a:tbl>
              <a:tblPr/>
              <a:tblGrid>
                <a:gridCol w="2422440"/>
                <a:gridCol w="2017800"/>
                <a:gridCol w="2149560"/>
                <a:gridCol w="2147760"/>
              </a:tblGrid>
              <a:tr h="94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kol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foglalkoztatottak iskolai végzettség szerinti megoszlása (%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Általános isk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,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özépiskol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lsőfokú iskol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Összesen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Verdana"/>
              </a:rPr>
              <a:t>Élőmunka - holtmunka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3059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Élőmun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termelés érdekében kifejtett fizikai és szellemi mun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Holtmun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z élőmunka helyettesítésére irányuló technikai fejleszt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holtmunka növeli az élőmunka hatékonyságá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sak akkor gazdaságos a holtmunka növelése, ha általa több élőmunkát lehet megtakarítani, mint amennyit előállítására felhasznált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Verdana"/>
              </a:rPr>
              <a:t>Az élőmunka hatékonysága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83059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Hatékonyság = termelékenysé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Kifejezi, hogy az alkalmazott munkaerő milyen mennyiségű és minőségű terméktömeget állít elő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kkor nő, ha ugyanannyi terméket kevesebb élőmunkával állítunk elő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Munkatermelékenységi mutató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T = Q/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 = előállított termékmennyisé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 = a termelésben felhasznált munkaid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Munkaigényességi mutató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I = T/Q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 terméktömeg előállításához mennyi élőmunka szükség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24408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Verdana"/>
              </a:rPr>
              <a:t>A családi gazdaság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9647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A családi kapcsolatrendszerre, a háztartási erőforrásokra épí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Összefonódik a háztartás és a gazdaság, az önfogyasztás és az árutermelé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Alapkoncepció: biztosítsa egy család megélhetését a mg. tev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 u="sng">
                <a:solidFill>
                  <a:srgbClr val="ffffff"/>
                </a:solidFill>
                <a:uFillTx/>
                <a:latin typeface="Arial"/>
              </a:rPr>
              <a:t>Főfoglalkozású családi gazdaság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: mg bevétel &gt;50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eljes jövedelmet biztosító családi gazdaság:  mg. bevétel 9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isegítő jövedelmet biztosító családi gazdaság: nem mg. bevétel 10% és 50% közöt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 u="sng">
                <a:solidFill>
                  <a:srgbClr val="ffffff"/>
                </a:solidFill>
                <a:uFillTx/>
                <a:latin typeface="Arial"/>
              </a:rPr>
              <a:t>Részmunkaidős családi gazdaságok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: mg. bevétel &lt;50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-100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Verdana"/>
              </a:rPr>
              <a:t>Egyéb gazdaságossági mutatók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9647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500" spc="-1" strike="noStrike">
                <a:solidFill>
                  <a:srgbClr val="ffffff"/>
                </a:solidFill>
                <a:latin typeface="Verdana"/>
              </a:rPr>
              <a:t>Eszközigényességi mutató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500" spc="-1" strike="noStrike">
                <a:solidFill>
                  <a:srgbClr val="ffffff"/>
                </a:solidFill>
                <a:latin typeface="Verdana"/>
              </a:rPr>
              <a:t>Az álló és forgóeszközök és a termelés eredményének hányadosa</a:t>
            </a:r>
            <a:r>
              <a:rPr b="0" lang="hu-HU" sz="2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hu-HU" sz="2500" spc="-1" strike="noStrike">
                <a:solidFill>
                  <a:srgbClr val="ffffff"/>
                </a:solidFill>
                <a:latin typeface="Verdana"/>
              </a:rPr>
              <a:t>Ei = T/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Verdana"/>
              </a:rPr>
              <a:t>E = eszközök értéke</a:t>
            </a:r>
            <a:r>
              <a:rPr b="0" lang="hu-HU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200" spc="-1" strike="noStrike">
                <a:solidFill>
                  <a:srgbClr val="ffffff"/>
                </a:solidFill>
                <a:latin typeface="Verdana"/>
              </a:rPr>
              <a:t>T = termelés eredmény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300" spc="-1" strike="noStrike">
                <a:solidFill>
                  <a:srgbClr val="ffffff"/>
                </a:solidFill>
                <a:latin typeface="Verdana"/>
              </a:rPr>
              <a:t>Technikai típusú mutató</a:t>
            </a:r>
            <a:r>
              <a:rPr b="0" lang="hu-HU" sz="2300" spc="-1" strike="noStrike">
                <a:solidFill>
                  <a:srgbClr val="ffffff"/>
                </a:solidFill>
                <a:latin typeface="Verdana"/>
              </a:rPr>
              <a:t> – termék előállításához szükséges eszközmenny. (búza – műtrágya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300" spc="-1" strike="noStrike">
                <a:solidFill>
                  <a:srgbClr val="ffffff"/>
                </a:solidFill>
                <a:latin typeface="Verdana"/>
              </a:rPr>
              <a:t>Gazdasági típusú mutató</a:t>
            </a:r>
            <a:r>
              <a:rPr b="0" lang="hu-HU" sz="2300" spc="-1" strike="noStrike">
                <a:solidFill>
                  <a:srgbClr val="ffffff"/>
                </a:solidFill>
                <a:latin typeface="Verdana"/>
              </a:rPr>
              <a:t> – adott időszak adott szerkezetű termeléséhez milyen értékű eszköztömeg szüksége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500" spc="-1" strike="noStrike">
                <a:solidFill>
                  <a:srgbClr val="ffffff"/>
                </a:solidFill>
                <a:latin typeface="Verdana"/>
              </a:rPr>
              <a:t>Eszközhatékonysági mutató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Egységnyi eszközre jutó term. eredmény </a:t>
            </a:r>
            <a:r>
              <a:rPr b="1" lang="hu-HU" sz="2400" spc="-1" strike="noStrike">
                <a:solidFill>
                  <a:srgbClr val="ffffff"/>
                </a:solidFill>
                <a:latin typeface="Verdana"/>
              </a:rPr>
              <a:t>Eh=T/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500" spc="-1" strike="noStrike">
                <a:solidFill>
                  <a:srgbClr val="ffffff"/>
                </a:solidFill>
                <a:latin typeface="Verdana"/>
              </a:rPr>
              <a:t>Beruházás igényesség</a:t>
            </a:r>
            <a:r>
              <a:rPr b="0" lang="hu-HU" sz="2500" spc="-1" strike="noStrike">
                <a:solidFill>
                  <a:srgbClr val="ffffff"/>
                </a:solidFill>
                <a:latin typeface="Verdana"/>
              </a:rPr>
              <a:t> – az eredménynövekedés és az eszközbefektetés hányados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500" spc="-1" strike="noStrike">
                <a:solidFill>
                  <a:srgbClr val="ffffff"/>
                </a:solidFill>
                <a:latin typeface="Verdana"/>
              </a:rPr>
              <a:t>Beruházás hatékonyság</a:t>
            </a:r>
            <a:r>
              <a:rPr b="0" lang="hu-HU" sz="2500" spc="-1" strike="noStrike">
                <a:solidFill>
                  <a:srgbClr val="ffffff"/>
                </a:solidFill>
                <a:latin typeface="Verdana"/>
              </a:rPr>
              <a:t> – a pótlólagos eszközbefektetés és az általa elért eredmény hányados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Verdana"/>
              </a:rPr>
              <a:t>Műszaki fejlesztés a mezőgazdaságban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78920" y="692280"/>
            <a:ext cx="866628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tudományos - technikai eredmények gyakorlati alkalmazás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lyan technikai és biológiai eljárások, amelyek a régi helyébe olyan újat léptetnek, amely hasznos módon változtatja meg a terméket, az eszközöket vagy a munkafolyamato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z egész nemzetgazdaságot érintő folya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műszaki fejlesztés céljai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unka termelékenységének fokoz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unkafeltételek javít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terméshozamok növel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választék bővít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inőség javít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900000" y="620640"/>
            <a:ext cx="7543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 Unicode MS"/>
              </a:rPr>
              <a:t>A műszaki fejlesztés irányulh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19280" y="2205000"/>
            <a:ext cx="752472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A munkaeszközök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A munkatárgyak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A termékek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A termelési technológiák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900000" y="1844640"/>
            <a:ext cx="824400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076400" indent="-1620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A termelés eszköze a fö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6400" indent="-1620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Ipari eredetű holtmunka aránya nő, míg a mezőgazdasági eredetű holtmunka aránya csök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6400" indent="-1620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Holtmunka tömege és aránya nő, élőmunkáé csök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6400" indent="-1620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A felszabaduló élőmunka már „csak” fogyasztó les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6400" indent="-1620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Termelőeszközök egy része biológiai rends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6400" indent="-1620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Egyre nagyobb tömegű élelmiszer szállít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6400" indent="-1620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Tárolási, tartósítási veszteség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6400" indent="-1620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Természeti környezet – károk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00000" y="404640"/>
            <a:ext cx="82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Unicode MS"/>
              </a:rPr>
              <a:t>A mezőgazdaság műszaki fejlesztésének sajátosság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-100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Verdana"/>
              </a:rPr>
              <a:t>A műszaki fejlesztés elemei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42560" y="1628640"/>
            <a:ext cx="6985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24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épesít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4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ergiagazdálkodá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4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ezőgazdasági épít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4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Kemizálá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4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enetikai mun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-100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Verdana"/>
              </a:rPr>
              <a:t>A gépesítés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94920" y="764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Emberi munkaerővel végzett tevékenységek helyett technikai berendezése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 gépesítés indokai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orszerű termelési technológiák megvalósít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ermékminőség javít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unkacsúcsok kiküszöbölése, a munkák időben való elvégz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eszteségmentes betakarít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agy tömegű szállítás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iológiai hatások kompenzálása (romlékonysá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b7"/>
                </a:solidFill>
                <a:latin typeface="Arial Black"/>
              </a:rPr>
              <a:t>ÁGAZATI KAPCSOLATOK MÉRLEG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79280" y="1557360"/>
          <a:ext cx="8785440" cy="53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557360"/>
                    <a:ext cx="8785440" cy="53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250920" y="6400800"/>
            <a:ext cx="79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692280"/>
            <a:ext cx="8642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 – FOLYÓ RÁFORDITÁS, W – ELSŐGLEGES ÉRTÉKÖSSZETEVŐK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 – VÉGSŐ FELHASZNÁL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900000" y="2133720"/>
            <a:ext cx="82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Termelési cél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00000" y="907920"/>
            <a:ext cx="82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Unicode MS"/>
              </a:rPr>
              <a:t>A gépesítést meghatározó tényező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00000" y="2781360"/>
            <a:ext cx="82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Gépek műszaki állapo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00000" y="3429000"/>
            <a:ext cx="82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Erkölcsi elavulás mérté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900000" y="4076640"/>
            <a:ext cx="82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Gépesítés irán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00000" y="4724280"/>
            <a:ext cx="82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Mezőgazdasági munkaerőhelyzet alakul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900000" y="5373720"/>
            <a:ext cx="82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Talaj és domborzati viszony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2133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076400" indent="-1620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Az erőgép és a munkagép nem kapcsolódik össze egész évb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55640" y="907920"/>
            <a:ext cx="83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Unicode MS"/>
              </a:rPr>
              <a:t>Egyedi gépesítés helyett géprendszere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2781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076400" indent="-1620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A növénytermelés munkaműveletei időszakhoz kötött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3429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076400" indent="-1620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A géprendszer elemei időben is változatosan kapcsolódnak egymásho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4508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076400" indent="-1620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Technikai keresztmetsz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500"/>
                            </p:stCondLst>
                            <p:childTnLst>
                              <p:par>
                                <p:cTn id="52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2133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Műveleti géprendsz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00000" y="907920"/>
            <a:ext cx="82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Verdana"/>
              </a:rPr>
              <a:t>Gépi alrendszere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9280" y="256536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gy munkafolyamatban (pl. betakarítás) összehangolt gép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350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Ágazati (vertikális) géprendsz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79280" y="400536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gy termék előállításához szükséges gép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4724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Funkcionális (horizontális) géprendsz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79280" y="5157720"/>
            <a:ext cx="896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zonos funkciót végző gépekből á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(pl. növényvédő géprendszer, traktorrendsz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900000" y="2133720"/>
            <a:ext cx="82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Munkatermelékenység, hatékonyság rosszab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00000" y="907920"/>
            <a:ext cx="82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Unicode MS"/>
              </a:rPr>
              <a:t>A korszerűtlenség kedvezőtlen hatás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900000" y="2781360"/>
            <a:ext cx="82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Karbantartás, felújítás költségeseb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00000" y="3429000"/>
            <a:ext cx="82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A korszerűbb gépek sem használhatóak k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00000" y="4076640"/>
            <a:ext cx="82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Üzemképesség, üzembiztonság alacso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00000" y="4724280"/>
            <a:ext cx="82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Több dolgozót köt 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936720" y="333360"/>
            <a:ext cx="820728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Arial Unicode MS"/>
              </a:rPr>
              <a:t>Az energiagazdálkodás főbb        jellemző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00000" y="1989000"/>
            <a:ext cx="7885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A mezőgazdaság dinamikus fejlődését korszerű ipari háttér biztosította és biztosítja az elkövetkező időben is. Ebben alapvető szerepet az </a:t>
            </a:r>
            <a:r>
              <a:rPr b="1" i="1" lang="en-US" sz="2400" spc="-1" strike="noStrike">
                <a:solidFill>
                  <a:srgbClr val="ffff00"/>
                </a:solidFill>
                <a:latin typeface="Arial Unicode MS"/>
              </a:rPr>
              <a:t>energetika térhódítása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 játszot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00000" y="3500280"/>
            <a:ext cx="7309080" cy="36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Unicode MS"/>
              </a:rPr>
              <a:t>Nagy tömegű energiát fordítun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Nyersanyagok előállításá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Feldolgozásár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Forgalmazásá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22160"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2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Számos iparág termel a mezőgazdaságnak jelentős energiafelhasználással gépeket, eszközöket, és vegyi anyagoka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221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100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Verdana"/>
              </a:rPr>
              <a:t>Energiagazdálkodás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964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Verdana"/>
              </a:rPr>
              <a:t>Három fő energiaforrá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Ipari eredetű energ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Mezőgazdasági eredetű energ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Napenerg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Példá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1 ha kukorica term. hez szükséges energia 11%-a ipari eredetű, a többi fotoszintézis eredmény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z mg. ipari energiafelhasználása az összes ipari energiafelhasználás 3%-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z mg. fajlagos energiafelhasználása 1/8-a az ipari fajlagos energiafelhasznál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 kőolaj-felhasználás jelentő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 villamosenergia-felhasználás az össz. energia-felhasználás 10%-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Jelentős a geotermikus energiafelhasznál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100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Verdana"/>
              </a:rPr>
              <a:t>Mezőgazdasági építészet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964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Állattenyésztés férőhelyszükségletének biztosítá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Tárolókapacitások létesíté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Egyéb agrárlogisztikai rendszerek (pl. gépszínek, post harvest tevékenysége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 mg. összes állóeszköz-állományának nagy része az épületek formájában jelenik me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Nem a kapacitások növelése a fontos, hanem a meglévő racionális kihasználá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Jellemzően könnyűszerkezetes épület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 hazai létesítmények nagy része elavu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-100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Verdana"/>
              </a:rPr>
              <a:t>Kemizálás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00000" y="1268280"/>
            <a:ext cx="7344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űtrágyáz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gyszeres növényvéde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övény- és állatgyógyászati szerek, takarmányhelyettesítők és –kiegészítő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űanyagok felhasználá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óliák, csöv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4247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Verdana"/>
              </a:rPr>
              <a:t>Genetikai munk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79280" y="2349360"/>
            <a:ext cx="89647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övénynemesítés, fajtakeresztez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iotechnológiai, biokémiai, biofizikai eredmények gyakorlati hasznosítá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Új, ellenállóbb növények, jobb adottságú állat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„Zöld forradalom” e tevékenységeknek köszönhet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biológia egyre inkább a mezőgazdasági termelőerő alapvető részévé vál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24408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Verdana"/>
              </a:rPr>
              <a:t>A műszaki fejlesztés</a:t>
            </a: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Verdana"/>
              </a:rPr>
              <a:t>komplexitása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9214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műszaki fejlesztés komponensei + a természeti és közgazdasági adottságok a hatásukat együttesen fejtik k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komplexitás a műszaki fejlesztés technikai-biológiai és társadalmi tényezőinek együtte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tudományos-technikai fejlesztés szerepe a termelőerők növekedésében fokozód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nemzetgazdaság egyes ágai közötti kapcsolatok tehát egyrészt a folyó anyagfelhasználásban, másrészt a termelés növelését megalapozó termelésieszköz-felhasználásban jelennek me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ibocsátási kapcsolato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z egyes gazdasági ágak termékeinek felhasználási területét mutatják, a termékek egy része ún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rmelő fogyasztásr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más nemzetgazdasági ág felhasználására), másik része ún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égső fogyasztásr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kerü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Összegezv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kibocsátási kapcsolatok az egyes nemzetgazdasági ágazatok főbb felvevő piacait mutatják b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71640" y="33336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Tahoma"/>
              </a:rPr>
              <a:t>ÁKM jelentősé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Verdana"/>
              </a:rPr>
              <a:t>Agrárpiaci szabályozás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820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Politika = szabályoz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agrárpolitikák főbb célja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0760" indent="-511920">
              <a:spcBef>
                <a:spcPts val="601"/>
              </a:spcBef>
              <a:buClr>
                <a:srgbClr val="00cc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ország számára szükséges élelmiszermennyiség minél nagyobb hányadának előállít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0760" indent="-511920">
              <a:spcBef>
                <a:spcPts val="601"/>
              </a:spcBef>
              <a:buClr>
                <a:srgbClr val="00cc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vidéki lakosság helybentart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0760" indent="-511920">
              <a:spcBef>
                <a:spcPts val="601"/>
              </a:spcBef>
              <a:buClr>
                <a:srgbClr val="00cc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termelők jövedelmének növel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kitűzött célok eléréséhez három eszközcsoport (alpolitika) alkalmazható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0760" indent="-511920">
              <a:spcBef>
                <a:spcPts val="601"/>
              </a:spcBef>
              <a:buClr>
                <a:srgbClr val="00cc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truktúrapoliti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0760" indent="-511920">
              <a:spcBef>
                <a:spcPts val="601"/>
              </a:spcBef>
              <a:buClr>
                <a:srgbClr val="00cc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Piacpoliti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0760" indent="-511920">
              <a:spcBef>
                <a:spcPts val="601"/>
              </a:spcBef>
              <a:buClr>
                <a:srgbClr val="00cc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Árpoliti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-100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Verdana"/>
              </a:rPr>
              <a:t>Struktúrapolitika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9647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Verdana"/>
              </a:rPr>
              <a:t>Cél:</a:t>
            </a: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 a gazdaságok társadalmilag és gazdaságilag optimális méretének kialakítása, az ehhez kapcsolódó nehézségek enyhítés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Verdana"/>
              </a:rPr>
              <a:t>Főbb tevékenységi területek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Üzemi szerkezet optimalizálása, a racionális termelési méret kialakítása a hatékonyság javítása érdekéb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szociális és környezeti hatások makroszintű kompenzál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gionális problémák kezelése (vidékfejleszté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Az üzemi struktúrába való </a:t>
            </a:r>
            <a:r>
              <a:rPr b="1" lang="en-US" sz="2700" spc="-1" strike="noStrike">
                <a:solidFill>
                  <a:srgbClr val="ffffff"/>
                </a:solidFill>
                <a:latin typeface="Verdana"/>
              </a:rPr>
              <a:t>beavatkozás</a:t>
            </a: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Verdana"/>
              </a:rPr>
              <a:t>eszközei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Örökösödési törvé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onszolidációs program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gyesítési politik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100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Verdana"/>
              </a:rPr>
              <a:t>Piacpolitika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9647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700" spc="-1" strike="noStrike">
                <a:solidFill>
                  <a:srgbClr val="ffffff"/>
                </a:solidFill>
                <a:latin typeface="Verdana"/>
              </a:rPr>
              <a:t>Cél:</a:t>
            </a:r>
            <a:r>
              <a:rPr b="0" lang="hu-HU" sz="2700" spc="-1" strike="noStrike">
                <a:solidFill>
                  <a:srgbClr val="ffffff"/>
                </a:solidFill>
                <a:latin typeface="Verdana"/>
              </a:rPr>
              <a:t> az agráriumra jellemző bonyolult kapcsolatok befolyásolása a termelők védelme érdekébe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700" spc="-1" strike="noStrike">
                <a:solidFill>
                  <a:srgbClr val="ffffff"/>
                </a:solidFill>
                <a:latin typeface="Verdana"/>
              </a:rPr>
              <a:t>Beavatkozás</a:t>
            </a:r>
            <a:r>
              <a:rPr b="0" lang="hu-HU" sz="2700" spc="-1" strike="noStrike">
                <a:solidFill>
                  <a:srgbClr val="ffffff"/>
                </a:solidFill>
                <a:latin typeface="Verdana"/>
              </a:rPr>
              <a:t>i lehetőségek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Jól működő piaci intézmények létrehoz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7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(pl. nagybani piac, tőzsd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Egyes piaci szereplők kiválasztása és preferálása (pl. családi gazdaságo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ffffff"/>
                </a:solidFill>
                <a:latin typeface="Verdana"/>
              </a:rPr>
              <a:t>Biztosítja az ágazatba való szabad be-és kilépés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ffffff"/>
                </a:solidFill>
                <a:latin typeface="Verdana"/>
              </a:rPr>
              <a:t>Segíti az új belépőket (pl. fiatal agrárvállalkozók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ffffff"/>
                </a:solidFill>
                <a:latin typeface="Verdana"/>
              </a:rPr>
              <a:t>Támogatja a kisebb termelők közös értékesítését (pl. TÉSZ, vertikális koordináció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0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-100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Verdana"/>
              </a:rPr>
              <a:t>Árpolitika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9647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Probléma: 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 termékpályán keletkező jövedelemtömegből a termelő részesedik a legkisebb mértékb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él: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Elsősorban a termelő által elért, valamint a vertikális termékpálya egyes pontjain kialakuló árra összpontosí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z elérendő célok különbözőek lehetnek, pl.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Árstabilizálá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Termelők jövedelmének növelése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Kereskedelmi árak csökkentése,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Jövedelemdiszparitás megszüntetése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z árpolitika sokféle eszköz, ill. azok kombinációit alkalmazz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Beavatkozási lehetőség a folyamat két végpontjá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6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5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500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-100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Verdana"/>
              </a:rPr>
              <a:t>Árszabályozás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79280" y="549000"/>
            <a:ext cx="896472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állami és az önigazgatási szervek tudatos piaci beavatkozása az egyes árak alakulásán vagy az ártényezőkön keresztü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z árszabályozás fokozatai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venció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piaci beavatkozás, egy-egy termékre, termékkörre vonatkozó, rendszerint nem tartós és a piaci önszabályozást nem érintő állami, vagy önkormányzati intézkedé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ndszeres piac- vagy árszabályozás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 piaci szereplők meghatározott piaci magatartását kikényszerítő hatósági beavatkozá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iaci rend, piackormányzás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valamely termék, vagy termékcsoport zárt árszabályozása, az árváltozások megakadályozását szolgáló rendele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gazdasági irányítási beavatkozá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politikai célokat szolgál, politikai érdek alá rendeli az egész árpolitikát.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érdekegyeztetésével alakul k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)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0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0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5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-100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Verdana"/>
              </a:rPr>
              <a:t>Árvédelem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9280" y="620280"/>
            <a:ext cx="8964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termelőkre káros hatások ellensúlyozása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kedvezőtlen piaci árhatások forrásai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575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piactól való távolság és a szállítás, tárolás stb. többletköltségei,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575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 termelés szezonalításából eredő áreltérések tartós hatásai,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575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z időjárási különbségek tartós árdepressziói,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575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 termés romlékonyságából eredő eltérések következményei,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575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 kereskedelmi és egyéb piaci spekulációk árhatásai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z árvédelem módszerei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575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 kereskedelmi árrés egy részének, a termelő önhibáján kívüli veszteségek megtérítése, az árveszteség ellensúlyozása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575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egyesületi, szövetkezeti ártartalékokból való árveszteség ellensúlyozása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575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 kínálat idényszerű hullámzásából fakadó kínálatszabályozási módszerek szervezett alkalmazása, elsősorban a túlkínálat megelőzése 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(közös raktározás, külső piacok szerzése, közösségi marketing, a termék egy résznek az eredeti céltól eltérő felhasználása, stb.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0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500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500"/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3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3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3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3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3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3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173160"/>
            <a:ext cx="91440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Verdana"/>
              </a:rPr>
              <a:t>A termékárakat módosító árpolitikai eszközök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964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Ütközőkészletek el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ámogatott vásárlá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arantált ár és veszteségfizeté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zai kvó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rmelés támogatás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rmelés adóztatás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mportlefölözé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mportkvó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500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500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500"/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Verdana"/>
              </a:rPr>
              <a:t>Ütközőkészletek elve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3095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Arial"/>
              </a:rPr>
              <a:t>Cél: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 a túlzott mértékű ingadozások káros hatásainak megelőzé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Készletezésen alapul (közraktárakban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Arial"/>
              </a:rPr>
              <a:t>(Q</a:t>
            </a:r>
            <a:r>
              <a:rPr b="1" lang="hu-HU" sz="22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1" lang="hu-HU" sz="2600" spc="-1" strike="noStrike">
                <a:solidFill>
                  <a:srgbClr val="ffffff"/>
                </a:solidFill>
                <a:latin typeface="Arial"/>
              </a:rPr>
              <a:t>–Q</a:t>
            </a:r>
            <a:r>
              <a:rPr b="1" lang="hu-HU" sz="2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hu-HU" sz="2600" spc="-1" strike="noStrike">
                <a:solidFill>
                  <a:srgbClr val="ffffff"/>
                </a:solidFill>
                <a:latin typeface="Arial"/>
              </a:rPr>
              <a:t>) x P</a:t>
            </a:r>
            <a:r>
              <a:rPr b="1" lang="hu-HU" sz="2200" spc="-1" strike="noStrike">
                <a:solidFill>
                  <a:srgbClr val="ffffff"/>
                </a:solidFill>
                <a:latin typeface="Arial"/>
              </a:rPr>
              <a:t>mi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Arial"/>
              </a:rPr>
              <a:t>= (Q</a:t>
            </a:r>
            <a:r>
              <a:rPr b="1" lang="hu-HU" sz="2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hu-HU" sz="2600" spc="-1" strike="noStrike">
                <a:solidFill>
                  <a:srgbClr val="ffffff"/>
                </a:solidFill>
                <a:latin typeface="Arial"/>
              </a:rPr>
              <a:t>–Q</a:t>
            </a:r>
            <a:r>
              <a:rPr b="1" lang="hu-HU" sz="2200" spc="-1" strike="noStrike">
                <a:solidFill>
                  <a:srgbClr val="ffffff"/>
                </a:solidFill>
                <a:latin typeface="Arial"/>
              </a:rPr>
              <a:t>gy</a:t>
            </a:r>
            <a:r>
              <a:rPr b="1" lang="hu-HU" sz="2600" spc="-1" strike="noStrike">
                <a:solidFill>
                  <a:srgbClr val="ffffff"/>
                </a:solidFill>
                <a:latin typeface="Arial"/>
              </a:rPr>
              <a:t>)xP</a:t>
            </a:r>
            <a:r>
              <a:rPr b="1" lang="hu-HU" sz="2200" spc="-1" strike="noStrike">
                <a:solidFill>
                  <a:srgbClr val="ffffff"/>
                </a:solidFill>
                <a:latin typeface="Arial"/>
              </a:rPr>
              <a:t>max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341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-252360" y="17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51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3851280" y="1268280"/>
            <a:ext cx="5113440" cy="5113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fill="hold">
                      <p:stCondLst>
                        <p:cond delay="0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6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Verdana"/>
              </a:rPr>
              <a:t>Támogatott vásárlás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3564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Arial"/>
              </a:rPr>
              <a:t>Cél: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 a belföldi termékfölösleg világpiacon történő értékesítésének segíté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ormányzat kiadás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(Q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-Q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)x(P</a:t>
            </a:r>
            <a:r>
              <a:rPr b="1" lang="hu-HU" sz="2200" spc="-1" strike="noStrike">
                <a:solidFill>
                  <a:srgbClr val="ffffff"/>
                </a:solidFill>
                <a:latin typeface="Arial"/>
              </a:rPr>
              <a:t>w+A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-P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341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-252360" y="17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51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3348000" y="1125360"/>
            <a:ext cx="5796000" cy="53992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0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8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3851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b7"/>
                </a:solidFill>
                <a:latin typeface="Verdana"/>
              </a:rPr>
              <a:t>Garantált ár és veszteségfizetés</a:t>
            </a:r>
            <a:br>
              <a:rPr sz="3400"/>
            </a:br>
            <a:r>
              <a:rPr b="0" lang="en-US" sz="2400" spc="-1" strike="noStrike">
                <a:solidFill>
                  <a:srgbClr val="ffffb7"/>
                </a:solidFill>
                <a:latin typeface="Verdana"/>
              </a:rPr>
              <a:t>/nincs külkereskedelem/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655308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rantált ár = a belső piac árszint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rantált ár &gt; egyensúlyi á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termelők jövedelmének növelését célozz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341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-252360" y="17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51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1187280" y="2276640"/>
            <a:ext cx="6913800" cy="45813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6588000" y="981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P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g-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0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58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A MEZŐGAZDASÁG KIBOCSÁTÁSI KAPCSOLATAI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ezőgazdaság egyre inkább elveszti élelmiszertermelő jellegét, alapanyag-termelővé válik (nyersanyagtermelé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termelési célú kibocsátás részaránya nő (kb. 60%) a végső felhasználással szemben (kb. 4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 alapanyag exportja csök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egnagyobb kibocsátás az élelmiszeripar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ásik legnagyobb kibocsátási forrás saját maga (pl. vetőmag, tenyészállatok, takarmán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lentős kibocsátás az iparba (pl. könnyűipa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3851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b7"/>
                </a:solidFill>
                <a:latin typeface="Verdana"/>
              </a:rPr>
              <a:t>Garantált ár és veszteségfizetés</a:t>
            </a:r>
            <a:br>
              <a:rPr sz="3400"/>
            </a:br>
            <a:r>
              <a:rPr b="0" lang="en-US" sz="2400" spc="-1" strike="noStrike">
                <a:solidFill>
                  <a:srgbClr val="ffffb7"/>
                </a:solidFill>
                <a:latin typeface="Verdana"/>
              </a:rPr>
              <a:t>/liberalizált külkereskedelem/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lső piaci ár = világpiaci á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yensúlyi ár &gt; garantált á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lföldi kínálat &lt; belföldi keresle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jelentős im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rantált árat magasabban határozzuk meg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ermelés bővü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341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-252360" y="17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51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826920" y="2565360"/>
            <a:ext cx="7705800" cy="410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0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3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3851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Verdana"/>
              </a:rPr>
              <a:t>Hazai kvóta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-360" y="981000"/>
            <a:ext cx="34196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A termelés mennyiségi korlátozása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Ø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  <a:ea typeface="Arial"/>
              </a:rPr>
              <a:t> import esetén alkalmazható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A kvóta miatt a kínálat végtelenül rugalmatlanná váli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Egyensúlyi árnál magasabb piaci ár alakul k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A termelés intenzitása csökkenh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341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-252360" y="17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51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3348000" y="1125360"/>
            <a:ext cx="5796000" cy="496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52" dur="indefinite" restart="never" nodeType="tmRoot">
          <p:childTnLst>
            <p:seq>
              <p:cTn id="1153" dur="indefinite" nodeType="mainSeq">
                <p:childTnLst>
                  <p:par>
                    <p:cTn id="1154" fill="hold">
                      <p:stCondLst>
                        <p:cond delay="0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0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5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5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5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500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b7"/>
                </a:solidFill>
                <a:latin typeface="Verdana"/>
              </a:rPr>
              <a:t>Termelés támogatása</a:t>
            </a:r>
            <a:endParaRPr b="1" lang="en-US" sz="3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ínálati görbe (S) jobbra tolódik (S'), az egyensúly (Qe) új helyen (Qs=Qd) alakul k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öbb termék jelenik meg a magasabb termelő ár (Pp+a) miat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fogyasztó alacsonyabb árat (Pp) fize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ind a termelő, mind a fogyasztó jól já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341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-252360" y="17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51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826920" y="2421000"/>
            <a:ext cx="7705800" cy="4437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fill="hold">
                      <p:stCondLst>
                        <p:cond delay="0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9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5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b7"/>
                </a:solidFill>
                <a:latin typeface="Verdana"/>
              </a:rPr>
              <a:t>Termelés adóztatása</a:t>
            </a:r>
            <a:endParaRPr b="1" lang="en-US" sz="3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termelés támogatásának ellenté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ermelők költsége nő, a piaci ár &gt; az egyensúlyi árnál Pm &gt; 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termelő azonban az egyensúlyi ár (Pe) alatti Pt árat veheti figyelembe az adó (T) miatt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alacsonyabb profit miatt a termelők abbahagyják a termelé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341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-252360" y="17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51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826920" y="2421000"/>
            <a:ext cx="7705800" cy="4437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0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1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6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0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7" dur="5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3851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Verdana"/>
              </a:rPr>
              <a:t>Importlefölözés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-360" y="1197000"/>
            <a:ext cx="3419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ffffff"/>
                </a:solidFill>
                <a:latin typeface="Arial"/>
              </a:rPr>
              <a:t>A külföldi kínálat korlátozása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ffffff"/>
                </a:solidFill>
                <a:latin typeface="Arial"/>
                <a:ea typeface="Arial"/>
              </a:rPr>
              <a:t>Elvonást (</a:t>
            </a:r>
            <a:r>
              <a:rPr b="1" lang="hu-HU" sz="25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r>
              <a:rPr b="0" lang="hu-HU" sz="2500" spc="-1" strike="noStrike">
                <a:solidFill>
                  <a:srgbClr val="ffffff"/>
                </a:solidFill>
                <a:latin typeface="Arial"/>
                <a:ea typeface="Arial"/>
              </a:rPr>
              <a:t>) (pl. vám) alkalmaz az import termékekr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ffffff"/>
                </a:solidFill>
                <a:latin typeface="Arial"/>
              </a:rPr>
              <a:t>világpiaci ár (Pw) a lefölözés mértékével megnő </a:t>
            </a:r>
            <a:r>
              <a:rPr b="0" lang="hu-HU" sz="25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hu-HU" sz="2500" spc="-1" strike="noStrike">
                <a:solidFill>
                  <a:srgbClr val="ffffff"/>
                </a:solidFill>
                <a:latin typeface="Arial"/>
              </a:rPr>
              <a:t> kialakul a belföldi piaci ár (Pp+l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ffffff"/>
                </a:solidFill>
                <a:latin typeface="Arial"/>
              </a:rPr>
              <a:t>A belföldi term. növekedni kezd a magasabb belföldi árak (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Pp+l</a:t>
            </a:r>
            <a:r>
              <a:rPr b="0" lang="hu-HU" sz="25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iat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341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-252360" y="17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51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3419640" y="1125360"/>
            <a:ext cx="5724360" cy="525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fill="hold">
                      <p:stCondLst>
                        <p:cond delay="0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8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3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7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4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b7"/>
                </a:solidFill>
                <a:latin typeface="Verdana"/>
              </a:rPr>
              <a:t>Importkvóta</a:t>
            </a:r>
            <a:endParaRPr b="1" lang="en-US" sz="3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importkvóta (k): az a termékmennyiség, ami beérkezhet az adott országb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kínálati görbe (S) jobbra tolódik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világpiaci árnál (Pw) magasabb belföldi ár (Pk) alakul k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belföldi termelés a korábbi mennyiségnél (Qs) többet állít elő (Q's), a kereslet viszont csökken (Q'd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341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-252360" y="17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51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826920" y="2708280"/>
            <a:ext cx="7705800" cy="396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fill="hold">
                      <p:stCondLst>
                        <p:cond delay="0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0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7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4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1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Verdana"/>
              </a:rPr>
              <a:t>Agrárpiaci rendtartás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94920" y="1197000"/>
            <a:ext cx="845028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kínálat rövid távon nehezen tud alkalmazkodni a kereslet hirtelen változásaihoz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hiány és a felesleg váltakozása veszélyezteti az ellátást, az árszínvonalat – az exportpiacokon piacvesztést okozh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zervezettség fokozás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ermelők – stabil értékesítési lehetősége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azdasági verseny fenntartása – hatékonyság ösztönzé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Élelmiszertermelésen kívüli jövedelemszerzés a mezőgazdasági erőforrásokk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0" y="-100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Verdana"/>
              </a:rPr>
              <a:t>Agrárpiaci rendtartás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96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apelvek a rendszerváltás után (199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975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mezőgazdaság hosszabb távon pozitívan járulhat hozzá Magyarország fizetési mérlegéhez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975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lyan mezőgazdaság megteremtése, amely a korábbinál hatékonyabb, jobb az alkalmazkodóképessége és erősebben piacorientál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975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hazai fogyasztók jó minőségű élelmiszerrel való ellátása, tekintettel az importversenyre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975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enn kell tartani az exportorientáltságot, meg kell őriznie külpiaci versenyképességé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975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 a versenyképesség csak alapvető változásokkal valósítható meg (privatizációval, a piacorientált termeléssel, kisebb foglalkoztatási szinttel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44" dur="indefinite" restart="never" nodeType="tmRoot">
          <p:childTnLst>
            <p:seq>
              <p:cTn id="1345" dur="indefinite" nodeType="mainSeq">
                <p:childTnLst>
                  <p:par>
                    <p:cTn id="1346" fill="hold">
                      <p:stCondLst>
                        <p:cond delay="0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2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7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2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7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2" dur="5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7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2" dur="500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100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Verdana"/>
              </a:rPr>
              <a:t>Agrárpiaci rendtartás feladata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96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-369360">
              <a:lnSpc>
                <a:spcPct val="80000"/>
              </a:lnSpc>
              <a:spcBef>
                <a:spcPts val="9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hazai termékek piaci biztonságának elősegíté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(garantált ár és kvóta meghirdetésével, Terméktanácsokkal való együttműködéssel, az export és import szabályozásával, piaci intervencióval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10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hazai termékek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ülpiaci esélyeinek javítás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z exporttevékenység támogatásával (exportszubvenció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10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zabályozott agrárpiac (termékpály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kialakítása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10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agyar agrárgazdaság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ökológiai és ökonómiai potenciáljána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atékony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ihasználás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10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aci versen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nntartása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10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el- és külpiaci igényekhez igazodó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azdaságos élelmiszerkínál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nntartás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fill="hold">
                      <p:stCondLst>
                        <p:cond delay="0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1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3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8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5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2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9" dur="5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6" dur="5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500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100080"/>
            <a:ext cx="91440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Verdana"/>
              </a:rPr>
              <a:t>Agrárpiaci rendtartá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96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Fogalm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z agrárszféra sajátosságait figyelembe vevő, a biztonságos ellátást, a termelők verseny- és esélyegyenlőségének biztosítását szolgáló intézkedéscsom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36" dur="indefinite" restart="never" nodeType="tmRoot">
          <p:childTnLst>
            <p:seq>
              <p:cTn id="1437" dur="indefinite" nodeType="mainSeq">
                <p:childTnLst>
                  <p:par>
                    <p:cTn id="1438" fill="hold">
                      <p:stCondLst>
                        <p:cond delay="0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4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9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6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5T14:05:51Z</dcterms:created>
  <dc:creator>Vasa László</dc:creator>
  <dc:description/>
  <dc:language>en-US</dc:language>
  <cp:lastModifiedBy>Tóth Tamás</cp:lastModifiedBy>
  <dcterms:modified xsi:type="dcterms:W3CDTF">2006-06-29T09:24:59Z</dcterms:modified>
  <cp:revision>41</cp:revision>
  <dc:subject/>
  <dc:title>Az agrárgazdaságtan tárgya, feladata, kapcsolatrendszere</dc:title>
</cp:coreProperties>
</file>