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A45-5F49-40CB-9D95-A4AD9740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198-EB05-471B-8002-EF94F97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D57-925E-4C2C-B4CB-76784AC6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14E-3F34-45E9-B423-1D949098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7150-EC55-45A9-B6B7-67F0D8D8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9D3-B96C-4BBB-B413-F2B0E4A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CA6B-60CA-4E40-B807-80C2866B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9CA-23E5-451C-9470-3561F21B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D412-0BB3-4178-BB5A-2973217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FE3-4E30-4E22-9F00-DC2689CF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36B0-DDBC-4A38-A7DD-12971CB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8F1-43EF-40FC-A32C-606DAE8F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BD52-37F5-43CE-811D-A7AA5101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F6C-AB8E-455B-B93D-E2B4457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D6A8-EEC0-4377-A7E2-50B2BEDA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1A06-8583-4A1F-B8A7-97019585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05B5-1020-4F38-9225-4C17155E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308-B674-4B59-A985-3CF7716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531-CEFB-481C-977E-45453923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E98-63E6-406B-95C5-5EBF857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493-9472-4630-BA3C-6463F4D4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EBB-34C6-4CD6-847D-A0B78D4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CCF-730E-4D69-A245-408D36E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B7E-C0E6-499B-8EC0-6B81CC8D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CDD-2443-4735-9198-A407690CC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5CB-218B-4479-82F4-80C6717F9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I.8. Együttműködési formák az élelmiszer-termékpályán</a:t>
            </a:r>
            <a:br>
              <a:rPr sz="32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Dr. Vasa Lászl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Dr. Lengyel La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Vertikális koordinációs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stratégiák II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iskereskedelmi láncok koordinációs szerep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zerződéses kapcsol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keretszerződéseken alapuló, laza, kevéssé tervezhető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kapcso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zigorú csomagolási, minőségi kritérium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 jövőben a kiskereskedelmi láncok lehetnek a vertikál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koordináció kulcsszereplő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 termelő számára a nagy mennyiség előnyt jel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ldolgozóipar termelői koordinációj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zerződéses kapcsol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termeltetési és erőforrás-biztosító szerződ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speciális áruminőségi követelmény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a feldolgozó magához köti a termelők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8930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Vertikális koordinációs stratégiák III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Szövetkezeti koordinációs modellek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szerződéses kapcsolat, szervezeti együttműköd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Termelőszövetkezetek kisüzemi, háztáji integrált termel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a már nem alkalmazz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Termelői értékesítő szervezetek (TÉSZ-ek)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szervezeti együttműköd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termelői összefogással a termékpálya több láncszemé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integr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 jövőben kormányzati koordinációs funkciókat is át fogna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venni (támogatásallokáció, termékkivonás és önkorlátoz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Vertikálisan integrált vállalkozások – vertikális (szervezeti) integráci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termelést is végző feldolgozó, felvásárló vagy exportő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szövetkezetek szerepe a vertikális integrációba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új generációs szövetkezetek a tulajdonosi és szerződési integráció speciális esetei, hiszen a tagok mindkét módon kötődnek a szövetkezetekh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ranzakciós költségek csökkentése szövetkezetek révé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nzakciók szempontjából vizsgálandó főbb dimenzió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700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yen a befektetett eszközök specifikuss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700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yen fokú a mezőgazdasági termelés és feldolgozás bizonytalans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700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yen a csere gyakorisága, a piac és a farmer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700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yen externáliák érik ezt a kapcsolat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hagyományos szövetkezetei modell korlátai és az ún. alternatív szervezeti megoldáso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748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felelő irányítási struktúrát keresve két különböző „hold-up” problémát kell megkülönböztet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799"/>
              </a:spcBef>
              <a:buClr>
                <a:srgbClr val="99ff66"/>
              </a:buClr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takarítás után fellépő értékesítési kiszolgáltatottságot, különösen romlandó termékek esetéb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799"/>
              </a:spcBef>
              <a:buClr>
                <a:srgbClr val="99ff66"/>
              </a:buClr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ükséges külső kockázatviselő tőke bevonásá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b7"/>
                </a:solidFill>
                <a:latin typeface="Arial Black"/>
              </a:rPr>
              <a:t>Az Európai Szövetkezeti Társulás (ESzT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b7"/>
                </a:solidFill>
                <a:latin typeface="Arial Black"/>
              </a:rPr>
              <a:t>Az ESzT alapítása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5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Természetes személyek alapítása eseté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galább 5 személyre van szükség és legalább két tagállamból ke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rmaznia az alapítók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Jogi személyek alapítása eseté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kkor lehetséges, amennyiben azok legalább két különbö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gállamjogszabályainak hatálya alatt állna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Székhely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zárólag a közösségen belül jelölhető meg, úgy hogy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ékhelyének egybe kell esnie azzal a tagállammal, ahol az  ESz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p-i irodája működ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z Európai szövetkezeti tagsági viszo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ét lehetőség adot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des tagsági stá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befektetői (pártoló) tagsági státu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244080"/>
            <a:ext cx="90010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b7"/>
                </a:solidFill>
                <a:latin typeface="Arial Black"/>
              </a:rPr>
              <a:t>Az ESzT belső felépítés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Dualista („kétlépcsős”) irányítási-ellenőrzési 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irányítás-igazgatást elválasztja az ellenőrzéstő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- igazgatóság: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hatáskörébe tartozik a stratégiai döntéshoza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ügyelőbizott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felügyelőszerv: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igazgatóság működését felügye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onista („egylépcsős”) irányítási-ellenőrzési 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A felügyelet szervezetileg nem különül el az irányítástól, azon belül működi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hu-HU" sz="1800" spc="-1" strike="noStrike">
                <a:solidFill>
                  <a:srgbClr val="ffffff"/>
                </a:solidFill>
                <a:latin typeface="Arial"/>
              </a:rPr>
              <a:t>Az ügyvezető igazgatók mellett az igazgatóság tiszteletdíjas tagjai végzik az ellenőrzést </a:t>
            </a: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54080" y="1341360"/>
            <a:ext cx="80074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244080"/>
            <a:ext cx="90010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Termelői összefogáson alapuló értékesítő szervezetek hazánkba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9 – 25/1999 FVM rende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. évi agrártámogatási szabályozás – B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eszerző értékesítő szövetkezet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/2002 FVM rendelet – a termelői csoportok (TC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smerési rendjét szabályo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54080" y="1341360"/>
            <a:ext cx="80074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vertikális koordináció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rtikális koordináció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z egymás után következő vertikális fázisok – mg. termelés, feldolgozás, értékesítés – összehangolását jelenti a mennyiség, minőség és időbeli ütemezés tekintetéb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z élelmiszerlánc piaci szereplői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mezőgazdasági inputanyag-ellá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mezőgazdasági alapanyag-termel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eldolgoz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nagykereske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kiskereske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b7"/>
                </a:solidFill>
                <a:latin typeface="Arial Black"/>
              </a:rPr>
              <a:t>A termelői értékesítő szervezetek (TÉSZ-ek) működésének alapelvei I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2588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TÉSZ-ek létrehozásának célja az volt, hogy a termelő szervezetek szerepe az értékesítés folyamatában nagyobb legy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1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1360" indent="-2588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TÉSZ-ek fontos szerepet kaptak az európai agrárpolitika újjászervezésében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ÉSZ-ek tehát a természetes vagy jogi személyiségű termelők közös értékesítésre és feldolgozásra létrehozott szervezetei, amelyek meghatározott agrárrendtartási feltételek esetén EU-támogatásban részesülnek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b7"/>
                </a:solidFill>
                <a:latin typeface="Arial Black"/>
              </a:rPr>
              <a:t>A termelői értékesítő szervezetek (TÉSZ-ek) működésének alapelvei II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5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ármely jogi személ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elismerhető TÉSZ-ké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ÉSZ-ek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elők közvetlen, non-profit jellegű, önszerveződő értékesítési szervezet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gységesen jó minőségű termé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nnyisé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n állhat rendelkezésre, amely megfelel a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lelmiszer-kereskedelmi lánc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vetelményei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ÉSZ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ek működése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upozíció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oz létre,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erősíti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elő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rtékesítési láncban betöltöt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erep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ő az értékesítési biztonsá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sökken a kiszolgáltatottsá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rmelők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tarthatják a közvetítői kereskedelem haszná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a fogyasztó pedig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olcsóbb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n jutha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ris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áru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o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ÉSZ-ek tagjai adott termékből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ljes termékmennyiségük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értékesíthet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zös pénzügyi alapjukat a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rányos teherviselé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jellemz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b7"/>
                </a:solidFill>
                <a:latin typeface="Arial Black"/>
              </a:rPr>
              <a:t>A TÉSZ-ek Magyarországon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82342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magyarországi TÉSZ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-ek alapítását és működését a 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25/1999. (III.5.) FVM rendelet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szabályoz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TÉSZ meghatározása a Rendelet szerint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zöldség- és gyümölcstermelők kezdeményezésére, az általuk előállított zöldség és gyümölcs termelésének szervezése, termékeik tárolása, piacképes áruvá történő előkészítése és közös értékesítése céljából létrehozott, tagja által demokratikusan irányított, jogi személyiséggel rendelkező gazdálkodó szervezet a Földművelésügyi és Vidékfejlesztési Minisztérium zöldség- gyümölcstermelői, -értékesítő szervezetnek ismerheti e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b7"/>
                </a:solidFill>
                <a:latin typeface="Arial Black"/>
              </a:rPr>
              <a:t>A TÉSZ-ek létrehozásának hazai célja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ztosítsák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termelésnek a kereslethez történő igazításá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elsősorban 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nnyisé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nősé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vonatkozásába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ztosítsák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kínálat koncentrációjá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é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gítsék a tagjaik által megtermelt termékek piacon történő elhelyezésé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sökkentsék a költségeke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bilizálják a termelői áraka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ősegítsék olyan különböző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örnyezetbará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rmesztési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módszere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és hulladékkezelési eljárások alkalmazását, amelyek védik a környezet minőségét és/vagy javítják a környezet állapotá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ztosítsák termékeik tárolásához, áruvá történő előkészítéséhez és értékesítéséhez szüksége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chnikai háttere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44080"/>
            <a:ext cx="90010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Arial Black"/>
              </a:rPr>
              <a:t>A TÉSZ-ek elismerésének hazai feltételei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glétszáma legalább tizenöt fő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a megtermelt zöldség és gyümölcs értékesítéséből származó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árgyévi várható árbevétel legalább 150 millió forin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ÉSZ-ként az a szervezet ismerhető el, amelynek társasági szerződése (alapító okirata, alapszabálya) tartalmazza 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gok kötelezettségvállalásá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ra, h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- betartják 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szervezet által meghatározot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elési és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környez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édelmi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abályoka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- betartjá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 szervezet által meghatározot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esítési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szabályoka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 szervezet finanszírozásához,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űködési költség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hozzájárulá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 fizetn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termelési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datokat szolgáltatna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 szervezet felé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(termőterület, betakarított termék mennyisége, hoza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gy termék értékesítésére csak egy TÉSZ-nek lehetnek tagjai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ésük 100%-át a TÉSZ-en keresztül forgalmazzá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lépésüket követően 1 évig nem lépnek ki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0000" y="191628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b7"/>
                </a:solidFill>
                <a:latin typeface="Arial Black"/>
              </a:rPr>
              <a:t>A termékpálya integráltsági foka hazánkban és az EU-ban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1905120"/>
            <a:ext cx="7272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Vertikális koordinációs stratégiá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yílt termelés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z eladó és vásárló közötti tranzakciót az aktuális piaci árak koordináljá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zerződéses termelés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az eddigi fogalmak szerinti, „klasszikus” integráció) A vásárló kötelezi magát a termék megvételére és a termelőt az eladására egy előre, szerződésben rögzített időpontban, rögzített á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rtikális integráció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gy szervezeti egység (pl. szövetkezet, TÉSZ) az élelmiszerlánc két vagy több lépcsőjét integrál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A vertikális koordináció növekvő jelentőségének okai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078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változó fogyasztói igények (minőség, csomagolás igényesség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oncentrálódó kereslet (kiskereskedelem koncentrációj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információtechnológia fejlődése (logisztika, TQM, minőségbizt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piaci szabályozók szerepe (termelők védelme: kvóták, minimumárak, külkereskedelem korlátozása, exportösztönzé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ertikális koordinációval elérni kívánt cél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felhozatal biztonsága (termelők, közvetítők, feldolgozó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friss, romlékony termék biztonságos értékesíté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ellátás biztonsága (feldolgozók, kiskereskedel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folyamatos ellátás, széles, jó minőségű választé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beruházás kockázatának csökkentése (term., közv., feldolg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200" spc="-1" strike="noStrike">
                <a:solidFill>
                  <a:srgbClr val="ffffff"/>
                </a:solidFill>
                <a:latin typeface="Arial"/>
              </a:rPr>
              <a:t>a termelési technológia fejlesztése + innováci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termékpályán képződő jövedelem arányos megoszt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vertikális integráció eszközrendszer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ár, piaci és árinform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zerződ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ztrációs eszközö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inőségi előírások egységes alkalma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piaci és árinformáció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502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vertikális koordináció központi ele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információszolgáltatás: árjelentés, termésbecslés, készletadatok, piaci szereplők szándéka (pl. konjunktúra-inde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étféle információ információra van szüksé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- termelésről, felhasználásról, készletekről szóló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 információk, ezek alapján hosszabb távú elemzés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- prompt, azonnali ár- és piaci információ (jelenleg csak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 informális módon szerezhető b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közszolgáltatású piaci- és árinformáció csökkenti az információgyűjtés költség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z információs rendszer kiépítésében fontos a terméktanácsok, agrárkamarák, szakmai szervezetek, a nagybani piacok hálózatának, az árutőzsdének, a KSH-nak és az AKII-nak a szerep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szerződések típus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rmelői, feldolgozói, kereskedelmi kapcsolatok legáltalánosabban alkalmazott eszköze 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eretszerző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 minőség és a szállítási határidő rögzítve van, 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mennyiség azonban n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gyományos szerződ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 klasszikus kereskedelmi feltételeket rögzítik (ár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mennyiség, minőségi jellemző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eltetési szerződ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 hagyományos feltételek mellett a termelés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folyamatra vonatkozó előírásokat is tartalmaz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rőforrások, input biztosí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z átvevő magára vállalja egyes inputok é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erőforrások biztosítását (pl. vetőmag, műtrágya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növényvédőszer, betakarítási szolgáltatás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zöldség és gyümölcsszektor disztribúciós csatorná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övid értékesítési ú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közvetlen értékesítés, helyi termelői piac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általában a piacokhoz (pl. városhoz) közel működő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termelők alkalmazzá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gyományos disztribúciós csatorná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a termék a piacokon, nagybani piacokon jelenik m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az integrált csatornák előtérbe kerülésével szerepük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egyre inkább csökken a fejlett országokb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grált csatorná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a disztribúciós lánc (termékpálya) valamely szereplőj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koordinálja az értékesítés folyamatá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a fejlett országokban a zöldség-gyümölcs értékesíté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egyre nagyobb hányada ezen keresztül foly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Vertikális koordinációs stratégiák I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termelő hagyományos disztribúciós csatornán keresztül maga értékesí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nyílt piaci értékesí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ermékeiket a nagybani vagy a termelői piacokon értékesít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génybevételének okai:  remélt kedvezőbb ár, kényszerűség,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életfo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z ár a pillanatnyi keresleti és kínálati viszonyok függvén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lvásárló nagykereskedők, exportőrö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nformális és szerződéses kapcsol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 felvásárlók, exportőrök gyakran alkalmazzák, mivel magu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sem   rendelkeznek minden esetben továbbértékesítés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szerződ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 kapcsolat a bizalomra épü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 termelő értékesítési szabadsága és kockázata n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1:00:38Z</dcterms:created>
  <dc:creator>Vasa László</dc:creator>
  <dc:description/>
  <dc:language>en-US</dc:language>
  <cp:lastModifiedBy>Vasa László</cp:lastModifiedBy>
  <dcterms:modified xsi:type="dcterms:W3CDTF">2006-06-29T06:10:31Z</dcterms:modified>
  <cp:revision>24</cp:revision>
  <dc:subject/>
  <dc:title>TERMÉKPÁLYÁS KOORDINÁCIÓ A ZÖLDSÉG-GYÜMÖLCS ÁGAZATBAN </dc:title>
</cp:coreProperties>
</file>