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0D8B-9482-4F1D-84A9-9F903D5BF4FB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788E-C97B-409F-BB8E-F27B2FA2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720-6B6C-4B9E-9EF0-446E38CD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6FD-2511-4034-AEBF-BD5C7A9A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B90-DDAE-42EE-BB99-33727A45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CCDE-D2D6-4564-AE44-93AC0C74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AC85-67A5-4B19-B9AD-C0FF11AF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89B8-B116-4527-AC23-EAC170B8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C0AE-F7AA-4165-A41C-F8893258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5973-D195-4C9D-9491-BF657D6F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27192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FAC1-8D87-47BA-BAE9-EF99129A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3AA1-3F80-4651-95EF-7C2B0521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B31B-F3AB-4432-96D5-EAD50E67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C98B-B5C6-4E57-84A3-C64C2DBE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CC3A-8CA6-483F-B915-6D097E0C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E68C-2F10-4CCA-BF30-E505DD1E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587C-14EF-4341-BA47-8480F84C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6E15-2CD5-4534-83A8-350A88FA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768D-D12F-4AB7-A140-000E8B9B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387-C8D3-438E-BB50-E37B82E6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A270-6C59-4A62-8C46-57110893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27192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53AE-8861-417D-8C1F-71A41139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7BA8-F9C6-40F7-B208-73720611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790-60B4-4E48-A962-E760953D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D1C6-B9CB-4F20-AC31-5FB118F6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662B-9164-4442-AB20-D8C429FFD5C4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1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77D1-BF7C-4EB3-96B4-705251EF516D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2C36-D702-42DF-8801-42861705610C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1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6F26-5420-48E4-9210-A06F5A97205D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11592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Információs rendszerek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r. Szenteleki Kár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ózsa Tü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DE AVK G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Vezetői dönt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szakaszt záró vezetői döntés arra vonatkozik, hogy elfogadják-e a rendszerjavaslatban foglaltak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javaslat mérlegelése, a folytatásra vonatkozó döntés a felhasználó feladat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mennyiben a felhasználó a fejlesztés mellett dönt és kiválasztotta a számára legmegfelelőbb alternatívát, akkor a rendszertervező elkészítheti a fejlesztés tervét, amely tartalmazza a fejlesztési elveket, az alkalmazandó módszereket és eszközöket, a munkák ütemezését, a munkatársakat és a feladatmegosztásoka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A399-463D-4BE4-BE3D-8E881DAF2C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Logikai tervez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új rendszer logikai tervezése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igazából jóval korábban elkezdődik, hisz a rendszerjavaslatban már tervezési feladatokat és követelményeket is megfogalmaznak. A lépés végterméke a logikai rendszerterv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logikai rendszerterv tartalmaz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észletesen kidolgozva a rendszer folyamatait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rogramterveket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nput-, output leírásoka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F9D4-607C-4CB3-B1C7-41FACC5453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900" spc="-1" strike="noStrike">
                <a:solidFill>
                  <a:srgbClr val="330066"/>
                </a:solidFill>
                <a:latin typeface="Arial"/>
              </a:rPr>
              <a:t>Fizikai tervez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új rendszer tervezése fázisban a logikai terv alapján a konkrét megvalósítást kell elkészíteni és dokumentáln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fizikai terv magában foglalj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rendszer adattervé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z adatvédelmi tervet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rendszer működési tervét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funkciótervez, és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zikai input-output terve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0B88-4357-48AA-9118-88E73BC544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900" spc="-1" strike="noStrike">
                <a:solidFill>
                  <a:srgbClr val="330066"/>
                </a:solidFill>
                <a:latin typeface="Arial"/>
              </a:rPr>
              <a:t>Megvalósítá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 új rendszer megvalósítása jelenti a programok elkészítését a fizikai és logikai tervek alapjá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tt kell a rendszer teszteléséről is gondoskodn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A726-9A84-40C2-8C61-7FE1E50DAF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900" spc="-1" strike="noStrike">
                <a:solidFill>
                  <a:srgbClr val="330066"/>
                </a:solidFill>
                <a:latin typeface="Arial"/>
              </a:rPr>
              <a:t>Bevezeté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rendszer bevezetése a rendszer átvétele után, egy vezetői döntés következtében valósulhat me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rendszer bevezetése különböző módszertanok segítségével történhe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bbe a szakaszba tartozik a vállalat specifikus paraméterek beállítása valamint az oktatás 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BBC-345C-45B4-A5BA-CFFB92915B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900" spc="-1" strike="noStrike">
                <a:solidFill>
                  <a:srgbClr val="330066"/>
                </a:solidFill>
                <a:latin typeface="Arial"/>
              </a:rPr>
              <a:t>Üzemelteté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rendszer üzemeltetése és karbantartása egy folyamatos munka, mely csak a rendszer lecserélésével szűnik me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agába foglalja a programhibák elhárítását, a folyamatos használhatóság fenntartása érdekében végzett munkálatokat (új törzsadatok, új beállítások, paraméter átállítások, újabb output listák készítése) valamint a felhasználói hibák kiküszöbölésé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39AC-E9F0-4D0F-A678-707C3E37A9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2314440" cy="55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0066"/>
                </a:solidFill>
                <a:latin typeface="Arial"/>
              </a:rPr>
              <a:t>A rendszer fejlesztési munka lebonyolí-tása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-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68360" y="0"/>
          <a:ext cx="5786640" cy="641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0"/>
                    <a:ext cx="5786640" cy="64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DE2B-E958-4AFA-A02A-BD17FB3646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oftverfejlesztés ciklikus feladata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83000" y="981000"/>
            <a:ext cx="465300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9063-6644-4E56-831D-B881DA0D83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Információs rendszerek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formáció menedz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C693-02BA-4B01-924D-5646C433C1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4000" spc="-1" strike="noStrike" u="sng">
                <a:solidFill>
                  <a:srgbClr val="000000"/>
                </a:solidFill>
                <a:uFillTx/>
                <a:latin typeface="Arial"/>
              </a:rPr>
              <a:t>információmenedzsment</a:t>
            </a: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 alapfeladata az információval, mint erőforrással való gazdálkodás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8EF-31B5-4B72-BFF9-635068DC33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Információs rendszerek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formációs rendsze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FCDF-3F94-4C69-9C3A-E2796B9CFC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d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 adat valakinek, vagy valaminek a megismeréséhez, jellemzéséhez hozzásegítő tény, részle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 adat puszta tények gyűjtemény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 adat lehet egy mérési eredmény, ami egy adott helyzetre jellemző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vállalatgazdaság szemszögéből az adat egy esemény vagy ügylet jellemzése numerikusan vagy szöveges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27A5-C6A5-4CED-BABE-3E736DF652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adatok osztályozási szempontja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Megjelenési formájuk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szerinti osztályozás keretén belül beszélhetünk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lektronikus formában rendelkezésre álló adatokról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papíralapú dokumentumok formájában rendelkezésre álló adatokró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olyan adatokról, amelyek csak az „emberi fejekben” létezne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strukturáltságot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figyelembe véve, pedig beszélhetünk (strukturáltságról akkor beszélünk, ha megadott törvényszerűség szerinti rendezettség áll fenn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Strukturált formában rendelkezésre álló adatokról (ilyen például egy táblázat, címjegyzék, stb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Nem strukturált formában rendelkezésre álló adatokró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A3C-B561-4464-ADDA-113ED2FF14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datkezel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5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modern szervezetek mindig valamilyen technológiai rendszerben tárolják az adatokat. Az adatok – valamilyen – gyakran szabványos adatmodell szerint – meghatározott adatstruktúrákba szerveződnek, az adatfolyamatok, statisztikai nyilvántartások, kereshetőség stb. egységesítése véget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fent jelzett adatfolyamatokat ma már elektronikusan, s gyakran integráltan valósítják meg. A feldolgozók, s a használók számára az adatok, valamilyen rendszerezett formákban munkaállomásokon keresztül is elérhetőek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300" spc="-1" strike="noStrike">
                <a:solidFill>
                  <a:srgbClr val="000000"/>
                </a:solidFill>
                <a:latin typeface="Arial"/>
              </a:rPr>
              <a:t>adatkezelésnek és feldolgozásnak</a:t>
            </a: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 nagykapacitásúnak, költséghatékonynak és gyorsnak kell lennie!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Fontos, hog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ennyibe kerül egységnyi adat megszerzése, visszakeresés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ilyen gyorsan táplálhatunk adatokat a rendszer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ilyen gyorsan állíthatjuk elő szükséges információk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908000" y="4437000"/>
            <a:ext cx="4462200" cy="1762200"/>
            <a:chOff x="1908000" y="4437000"/>
            <a:chExt cx="4462200" cy="1762200"/>
          </a:xfrm>
        </p:grpSpPr>
        <p:sp>
          <p:nvSpPr>
            <p:cNvPr id="185" name=""/>
            <p:cNvSpPr/>
            <p:nvPr/>
          </p:nvSpPr>
          <p:spPr>
            <a:xfrm>
              <a:off x="1908000" y="4437000"/>
              <a:ext cx="170604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Kapacitá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64160" y="4437000"/>
              <a:ext cx="170604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Gyorsasá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08000" y="5718600"/>
              <a:ext cx="170604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Költséghatékonysá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64160" y="5718600"/>
              <a:ext cx="157500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200" spc="-1" strike="noStrike">
                  <a:solidFill>
                    <a:srgbClr val="000000"/>
                  </a:solidFill>
                  <a:latin typeface="Times New Roman"/>
                </a:rPr>
                <a:t>Minősé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45440" y="4917600"/>
              <a:ext cx="787320" cy="961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adat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14040" y="4596840"/>
              <a:ext cx="262080" cy="32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401360" y="4596840"/>
              <a:ext cx="262440" cy="32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483000" y="5558040"/>
              <a:ext cx="26244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4532400" y="5558040"/>
              <a:ext cx="26244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6B0-E980-4D35-9F68-1C068726F1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DAT-FELDOLGOZÁS-DÖNT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979640" y="1989000"/>
            <a:ext cx="5707080" cy="3886200"/>
            <a:chOff x="1979640" y="1989000"/>
            <a:chExt cx="5707080" cy="3886200"/>
          </a:xfrm>
        </p:grpSpPr>
        <p:sp>
          <p:nvSpPr>
            <p:cNvPr id="196" name=""/>
            <p:cNvSpPr/>
            <p:nvPr/>
          </p:nvSpPr>
          <p:spPr>
            <a:xfrm>
              <a:off x="2187000" y="1989000"/>
              <a:ext cx="726120" cy="9144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Ad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83320" y="3246120"/>
              <a:ext cx="933840" cy="79992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Ad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79640" y="4503600"/>
              <a:ext cx="933840" cy="1028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Ad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39600" y="1989000"/>
              <a:ext cx="311040" cy="388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13480" y="2560320"/>
              <a:ext cx="72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17160" y="3589200"/>
              <a:ext cx="6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09440" y="4960800"/>
              <a:ext cx="82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69760" y="3246120"/>
              <a:ext cx="1659960" cy="914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Times New Roman"/>
                </a:rPr>
                <a:t>INFORMÁCI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51000" y="3703320"/>
              <a:ext cx="51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30080" y="2331720"/>
              <a:ext cx="1141200" cy="6854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Times New Roman"/>
                </a:rPr>
                <a:t>Dokument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34120" y="4160880"/>
              <a:ext cx="1037520" cy="1257120"/>
            </a:xfrm>
            <a:prstGeom prst="cloudCallout">
              <a:avLst>
                <a:gd name="adj1" fmla="val 18944"/>
                <a:gd name="adj2" fmla="val -87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Tudá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64280" y="3360600"/>
              <a:ext cx="6224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Times New Roman"/>
                </a:rPr>
                <a:t>Dönté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30080" y="3589200"/>
              <a:ext cx="93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45160" y="30175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649200" y="358884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A72-A8FC-4CC1-AED7-6A0EC13B63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dat-Információ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187280" y="2133720"/>
            <a:ext cx="7066080" cy="3220560"/>
            <a:chOff x="1187280" y="2133720"/>
            <a:chExt cx="7066080" cy="3220560"/>
          </a:xfrm>
        </p:grpSpPr>
        <p:sp>
          <p:nvSpPr>
            <p:cNvPr id="213" name=""/>
            <p:cNvSpPr/>
            <p:nvPr/>
          </p:nvSpPr>
          <p:spPr>
            <a:xfrm>
              <a:off x="1453680" y="2133720"/>
              <a:ext cx="799920" cy="9658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Adat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87280" y="3583080"/>
              <a:ext cx="1066320" cy="9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Times New Roman"/>
                </a:rPr>
                <a:t>Kontextusba helyezé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20360" y="3583080"/>
              <a:ext cx="1066320" cy="9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Times New Roman"/>
                </a:rPr>
                <a:t>Osztályozás, analízis, szintéz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87000" y="3583080"/>
              <a:ext cx="1066320" cy="9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Times New Roman"/>
                </a:rPr>
                <a:t>Számítá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53640" y="3583080"/>
              <a:ext cx="1066320" cy="9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Times New Roman"/>
                </a:rPr>
                <a:t>Javítá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53480" y="3583080"/>
              <a:ext cx="1066320" cy="9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Times New Roman"/>
                </a:rPr>
                <a:t>Tömöríté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53600" y="4066200"/>
              <a:ext cx="2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87040" y="4066200"/>
              <a:ext cx="39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53320" y="4066200"/>
              <a:ext cx="39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20320" y="40662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86880" y="3099600"/>
              <a:ext cx="399600" cy="483120"/>
            </a:xfrm>
            <a:prstGeom prst="downArrow">
              <a:avLst>
                <a:gd name="adj1" fmla="val 50000"/>
                <a:gd name="adj2" fmla="val 302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53440" y="4549320"/>
              <a:ext cx="39960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20280" y="4871520"/>
              <a:ext cx="1333080" cy="4827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00000"/>
                  </a:solidFill>
                  <a:latin typeface="Times New Roman"/>
                </a:rPr>
                <a:t>INFORMÁCIÓ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571-0FB9-4528-B8A2-D985A862D3A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dat-Információ-Tud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124000" y="1557360"/>
            <a:ext cx="5197320" cy="4586400"/>
            <a:chOff x="2124000" y="1557360"/>
            <a:chExt cx="5197320" cy="4586400"/>
          </a:xfrm>
        </p:grpSpPr>
        <p:sp>
          <p:nvSpPr>
            <p:cNvPr id="228" name=""/>
            <p:cNvSpPr/>
            <p:nvPr/>
          </p:nvSpPr>
          <p:spPr>
            <a:xfrm>
              <a:off x="2124000" y="1557360"/>
              <a:ext cx="1299240" cy="573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Ad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59400" y="4041360"/>
              <a:ext cx="1299240" cy="573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Informáci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22080" y="5570280"/>
              <a:ext cx="1299240" cy="573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Tudá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41720" y="2130480"/>
              <a:ext cx="0" cy="21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41720" y="4232520"/>
              <a:ext cx="141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86320" y="4614840"/>
              <a:ext cx="0" cy="11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86320" y="5761440"/>
              <a:ext cx="153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78240" y="2894760"/>
              <a:ext cx="1890000" cy="57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200" spc="-1" strike="noStrike">
                  <a:solidFill>
                    <a:srgbClr val="000000"/>
                  </a:solidFill>
                  <a:latin typeface="Times New Roman"/>
                </a:rPr>
                <a:t>Értelmezés, feldolgozá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04400" y="4805640"/>
              <a:ext cx="1890000" cy="57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200" spc="-1" strike="noStrike">
                  <a:solidFill>
                    <a:srgbClr val="000000"/>
                  </a:solidFill>
                  <a:latin typeface="Times New Roman"/>
                </a:rPr>
                <a:t>Kontex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F335-CA3D-45FB-A1AA-EDE3ACF18E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nformáció-Tud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84360" y="2349360"/>
            <a:ext cx="6506640" cy="2674800"/>
            <a:chOff x="684360" y="2349360"/>
            <a:chExt cx="6506640" cy="2674800"/>
          </a:xfrm>
        </p:grpSpPr>
        <p:sp>
          <p:nvSpPr>
            <p:cNvPr id="239" name=""/>
            <p:cNvSpPr/>
            <p:nvPr/>
          </p:nvSpPr>
          <p:spPr>
            <a:xfrm>
              <a:off x="3287160" y="2349360"/>
              <a:ext cx="1431360" cy="422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INFORMÁCI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360" y="3475800"/>
              <a:ext cx="1431360" cy="56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Összehasonlítá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76000" y="3475800"/>
              <a:ext cx="1561680" cy="56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Következmény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68000" y="3475800"/>
              <a:ext cx="1431360" cy="56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Kapcsolódás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59640" y="3475800"/>
              <a:ext cx="1431360" cy="56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Párbeszé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855440" y="2771640"/>
              <a:ext cx="2082240" cy="70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3286800" y="2771640"/>
              <a:ext cx="650520" cy="70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37680" y="2771640"/>
              <a:ext cx="910800" cy="70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37680" y="2771640"/>
              <a:ext cx="2472840" cy="70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05960" y="4461120"/>
              <a:ext cx="2472480" cy="56304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TUDÁ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95160" y="4320360"/>
              <a:ext cx="494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07720" y="4320360"/>
              <a:ext cx="0" cy="28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95160" y="4038840"/>
              <a:ext cx="0" cy="28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56840" y="4038840"/>
              <a:ext cx="0" cy="28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18520" y="4038840"/>
              <a:ext cx="0" cy="28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40480" y="4038840"/>
              <a:ext cx="0" cy="28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F60-41CB-446D-B658-D892E6D8FB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nformációigény a vállalatokná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692360" y="1844640"/>
            <a:ext cx="5656320" cy="4370400"/>
            <a:chOff x="1692360" y="1844640"/>
            <a:chExt cx="5656320" cy="4370400"/>
          </a:xfrm>
        </p:grpSpPr>
        <p:sp>
          <p:nvSpPr>
            <p:cNvPr id="257" name=""/>
            <p:cNvSpPr/>
            <p:nvPr/>
          </p:nvSpPr>
          <p:spPr>
            <a:xfrm>
              <a:off x="1692360" y="1844640"/>
              <a:ext cx="5656320" cy="437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Informáci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93920" y="2936880"/>
              <a:ext cx="2406960" cy="2497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Belső informáci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200" spc="-1" strike="noStrike">
                  <a:solidFill>
                    <a:srgbClr val="000000"/>
                  </a:solidFill>
                  <a:latin typeface="Times New Roman"/>
                </a:rPr>
                <a:t>Múltbeli teljesítmén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200" spc="-1" strike="noStrike">
                  <a:solidFill>
                    <a:srgbClr val="000000"/>
                  </a:solidFill>
                  <a:latin typeface="Times New Roman"/>
                </a:rPr>
                <a:t>A cég jelenlegi helyze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200" spc="-1" strike="noStrike">
                  <a:solidFill>
                    <a:srgbClr val="000000"/>
                  </a:solidFill>
                  <a:latin typeface="Times New Roman"/>
                </a:rPr>
                <a:t>A cég jövőbeli fejlődé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60400" y="2936880"/>
              <a:ext cx="2286360" cy="23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Külső informáci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200" spc="-1" strike="noStrike">
                  <a:solidFill>
                    <a:srgbClr val="000000"/>
                  </a:solidFill>
                  <a:latin typeface="Times New Roman"/>
                </a:rPr>
                <a:t>Gazdasági helyz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200" spc="-1" strike="noStrike">
                  <a:solidFill>
                    <a:srgbClr val="000000"/>
                  </a:solidFill>
                  <a:latin typeface="Times New Roman"/>
                </a:rPr>
                <a:t>Törvényi hátté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200" spc="-1" strike="noStrike">
                  <a:solidFill>
                    <a:srgbClr val="000000"/>
                  </a:solidFill>
                  <a:latin typeface="Times New Roman"/>
                </a:rPr>
                <a:t>Piaci környez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2A30-8DF5-4D06-AFCF-5BF66B8807E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nformáció a vállalatokná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000" y="1719360"/>
            <a:ext cx="82184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bb veze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akik a stratégiai döntésekért felelősek, számára a mások által már előre feldolgozott, tömörített információ az értékes, amely a lényeget tárja fel, és viszonylag könnyen át lehet tekinteni, s ezek alapján a jelenlegi tevékenységgel, illetve a távlati működéssel kapcsolatban megbízhatóbb döntéseket lehet hozni. A döntéshozásnál a teljes vállalatra, vagy vállalatcsoportra koncentrá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zépvezető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inkább a jelenre és a közeljövőre koncentrál, munkája során szűkebb területre koncentráló információt használ fel. A döntésnél a vállalat egy működési területére koncentrál (szakmai vagy terület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vezető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rövidtávon érvényes, de részletes, és konkrét eseményekkel kapcsolatos információkat igényelnek és kezelnek. Döntéseiknél egy vállalati részterület részletes információit használ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327640" cy="257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0F97-9EF2-4992-B704-5F7E05AF90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információmenedzsment szervezeten belüli feladata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szervezet határozza meg az </a:t>
            </a:r>
            <a:r>
              <a:rPr b="0" i="1" lang="hu-HU" sz="1700" spc="-1" strike="noStrike">
                <a:solidFill>
                  <a:srgbClr val="000000"/>
                </a:solidFill>
                <a:latin typeface="Arial"/>
              </a:rPr>
              <a:t>információs követelményeinek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teljességét, és azokat a változó körülményekhez viszonyítva módosítja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Legyen a szervezetnek naprakész képe a </a:t>
            </a:r>
            <a:r>
              <a:rPr b="0" i="1" lang="hu-HU" sz="1700" spc="-1" strike="noStrike">
                <a:solidFill>
                  <a:srgbClr val="000000"/>
                </a:solidFill>
                <a:latin typeface="Arial"/>
              </a:rPr>
              <a:t>rendelkezésre álló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700" spc="-1" strike="noStrike">
                <a:solidFill>
                  <a:srgbClr val="000000"/>
                </a:solidFill>
                <a:latin typeface="Arial"/>
              </a:rPr>
              <a:t>információkról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, és azokról a szervezeten kívüli </a:t>
            </a:r>
            <a:r>
              <a:rPr b="0" i="1" lang="hu-HU" sz="1700" spc="-1" strike="noStrike">
                <a:solidFill>
                  <a:srgbClr val="000000"/>
                </a:solidFill>
                <a:latin typeface="Arial"/>
              </a:rPr>
              <a:t>források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ról, amelyekből információ nyerhető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Legyen a szervezetnek megfelelő mechanizmusa arra, hogy az </a:t>
            </a:r>
            <a:r>
              <a:rPr b="0" i="1" lang="hu-HU" sz="1700" spc="-1" strike="noStrike">
                <a:solidFill>
                  <a:srgbClr val="000000"/>
                </a:solidFill>
                <a:latin typeface="Arial"/>
              </a:rPr>
              <a:t>információs állományát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folyamatosan </a:t>
            </a:r>
            <a:r>
              <a:rPr b="0" i="1" lang="hu-HU" sz="1700" spc="-1" strike="noStrike">
                <a:solidFill>
                  <a:srgbClr val="000000"/>
                </a:solidFill>
                <a:latin typeface="Arial"/>
              </a:rPr>
              <a:t>összevesse a követelményeivel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Gondoskodjon ezek a szükségleteknek megfelelő mélységű </a:t>
            </a:r>
            <a:r>
              <a:rPr b="0" i="1" lang="hu-HU" sz="1700" spc="-1" strike="noStrike">
                <a:solidFill>
                  <a:srgbClr val="000000"/>
                </a:solidFill>
                <a:latin typeface="Arial"/>
              </a:rPr>
              <a:t>feldolgozásáról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hozzáférhető </a:t>
            </a:r>
            <a:r>
              <a:rPr b="0" i="1" lang="hu-HU" sz="1700" spc="-1" strike="noStrike">
                <a:solidFill>
                  <a:srgbClr val="000000"/>
                </a:solidFill>
                <a:latin typeface="Arial"/>
              </a:rPr>
              <a:t>tárolásáról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700" spc="-1" strike="noStrike">
                <a:solidFill>
                  <a:srgbClr val="000000"/>
                </a:solidFill>
                <a:latin typeface="Arial"/>
              </a:rPr>
              <a:t>visszakereséséről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700" spc="-1" strike="noStrike">
                <a:solidFill>
                  <a:srgbClr val="000000"/>
                </a:solidFill>
                <a:latin typeface="Arial"/>
              </a:rPr>
              <a:t>közvetítéséről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, olyan kommunikációs folyamatokról, melyek segítségével költséghatékonyan lehet az információt a forrástól a használóig áramoltatni, úgy, hogy az információs erőforrások a legszélesebb körben hasznosuljanak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Legyen tudatában </a:t>
            </a:r>
            <a:r>
              <a:rPr b="0" i="1" lang="hu-HU" sz="1700" spc="-1" strike="noStrike">
                <a:solidFill>
                  <a:srgbClr val="000000"/>
                </a:solidFill>
                <a:latin typeface="Arial"/>
              </a:rPr>
              <a:t>információs erőforrások hasznosíthatóságának szükségletével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, és éljen is ezzel a lehetőséggel, annak érdekében, hogy a szervezet minél nagyobb nyereségre tehessen szer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82A9-78C7-4316-B0F8-E1E3032C71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óra tematiká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A szervezési munka lépései és feladat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Szoftverfejlesztés ciklikus folyam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Információmenedzsment fela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Adat, információ, tudá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Vállalati információszükség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Információ érté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E0B-A937-4BED-8C29-228B57B9A8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információmenedzsment tényező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információmenedzsment sokrétű feladatot lát el, és átöleli a vállalkozás minden olyan területét, ahol adatok és információk keletkeznek, szerveződnek vagy felhasználódna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ényező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mberi, humán tényezők (az információ igénylői, a legkülönfélébb szinteken, s természetesen ide tartoznak az információmenedzserek is, akik a tervszerű gyűjtést, szelektálást, feldolgozást  stb. végzik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chnológiai tényezők (ide tartoznak az adatforrások, a létrehozásuk, gyűjtésük, feldolgozásuk, tárolásuk, elérésük, igénybevételük folyamatai, technológiai eljárásai, eszközei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rvezési-vezetési tényező (ide tartoznak a különböző  stratégiák, szabályozások, mechanizmusok, az információs rendszerszervezés, projektek szervezése és kivitelezése   stb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965-0A96-4F21-BD50-A2FCEF2046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információ érték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információk értékének – legalábbis hozzávetőleges – </a:t>
            </a:r>
            <a:r>
              <a:rPr b="0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meghatározása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azért szükséges, hogy a pótlólagos információk megszerzésére fordítható költségek ésszerű nagyságáról véleményt alkothassun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információ értéke abból az </a:t>
            </a:r>
            <a:r>
              <a:rPr b="0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eredménynövekedésből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vezethető le, amely a jobb információ-ellátottságból származi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információ gazdasági értékének meghatározása folyamán, az alábbi jellemzőket vehetjük figyelemb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tékonyságnövelő érté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tásosságnövelő érté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egfelelőség növelé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56B3-A389-4616-A9FC-D2923687CA9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900" spc="-1" strike="noStrike">
                <a:solidFill>
                  <a:srgbClr val="330066"/>
                </a:solidFill>
                <a:latin typeface="Arial"/>
              </a:rPr>
              <a:t>Információ technológia (IT) és információmenedzs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vállalaton belüli hatékony információmenedzsmentnek fejlett, közös IT-alapon kell megvalósulnia, ez garantálja, hogy a vállalat </a:t>
            </a:r>
            <a:r>
              <a:rPr b="0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minden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egysége szervesen integrálódik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Nézzünk végig néhány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tényezőt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ami a fent leírtakat igazolja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IT alapokon nyugvó információmenedzsment irányába hatnak a globális, és nemzeti információs társadalomi stratégiák, ennek megfelelően stratégiai jelentősége v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IT biztosítja a közös nevezőt, a cserélhetőséget, egymásra épülés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IT elégíti ki a jobb, hatékonyabb kommunikáció iránti igényt az infokommunikációs eszközpark és a hálózatok segítségéve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IT teszi lehetővé az üzleti élet gyors, komplex fejleményeivel kapcsolatos események követését. (tőzsde, bankrendszer, számviteli, adózás, társadalombiztosítás stb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5FD-7A4C-4A7D-8C1D-95A41442B93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Knowledge management-Tudásmenedzs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információtechnológia rohamos fejlődése oda vezetett, hogy az ember által megfogalmazott reális információ igényeket, járjon az bármilyen bonyolult számítással vagy szűréssel, a mai eszközökkel nagyon gyorsan elő tudjuk állítani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zért a továbblépés érdekében újra az </a:t>
            </a:r>
            <a:r>
              <a:rPr b="0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ember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szerepe vált meghatározóvá és stratégiai kérdéssé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zt a szemléletváltozást fogalmazzák úgy meg, hogy átmenet az információs társadalomból a tudástársadalomb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angol „Knowledge management”-nek több magyarra fordítási kísérlettel találkozhatunk, pl. tudáskezelés, ismeretkezelés, ismeretszervezés, tudásgazdálkodás, de legjobban a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tudásmenedzsment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terjedt e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F2D-3F28-4C27-A9A3-D6A3E51E6C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udásmenedzs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udás olya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trukturált adatokon alapuló információ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amit valaki végiggondol, megért és a saját fogalmi struktúrájában építve, a tapasztalatai, ismeretei által meghatározott környezetben hasznosít, valamint az egyre inkább teret nyerő tudásmegosztásra törekvő szemlélet szerint másokkal is megoszt.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zervezet, közösség erőforrásainak,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udásának tudatos és jól szervezett gazdálkodásával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és a szervezet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nnyebb, gyorsabb, hatékonyabb működése érdekében való felhasználásával a tudásgazdálkodás, vagy eredeti angol tükörfordításában a tudásmenedzsment /knowledge management/ foglalkozi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udásmenedzsment olya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ezetési megközelí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amely a tudás különböző formáit kezeli annak érdekében, hogy versenyelőnyt/üzleti értéket biztosítson egy adott szervezet számára.” (SZELECZKY, 19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udásmenedzsment (knowledge management – KM) az egyének, csoportok és szervezete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udásával való gazdálkodása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azaz a meglévő tudás megosztása. A hiányzó tudás megszerzése, végül pedig a tudás termékké vagy szolgáltatássá alakítása illetve felhasználása. A tudásmenedzsment a következő alapkérdésekre keresi a választ. A szervezeten belül kinek, hol, mikor, milyen formában, milyen típusú tudásra van szükség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udásmenedzsment megkülönböztet “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toc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” és “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” típusú tudást. 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nowledge stoc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: a tudás, mint objektum, például egy adatbázis; 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nowledge flow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: a tudás, mint folyamat: “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olyamatosan változó magatartási formák összessége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” (Szekeres Tamá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udásmenedzsment egyik széles körben elterjedt felosztása szerint két nagy iránya van: “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információkkal, valamint a humán erőforrásokkal történő gazdálkodás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” A kettő között természetesen szoros a kapcsolat! . (Géró Katalin)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7208-92CE-4F63-84F5-84ED0BA8DF0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ontos fogalma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A szervezési munka lépés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Az egyes lépések feladat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Vezetői döntés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Szoftverfejlesztés ciklikus folyam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Információmenedzsment fel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Adat, információ, tudá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Vállalati információszükség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Információ érté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Tudásmenedz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D87-FC04-45BE-9865-18230685313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Köszönöm a figyelmet!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D99A-538A-4818-9887-57B9C2CCDD3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ervezési munka lépése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rendszer fejlesztés ciklikus folyama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Új probléma felmerülé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Vezetői dönté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Előzetes helyzetfelméré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Vezetői dönté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Részletes helyzetfelméré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Vezetői dönté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Helyzetfelmérés elemzé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Új rendszer logikai tervezé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Új rendszer fizikai tervezé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Új rendszer létrehozás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Új rendszer bevezeté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Új rendszer értékelé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A rendszer üzemeltetése és karban tartás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74A7-71D2-401C-BF34-D8FFABBC20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755640" y="692280"/>
            <a:ext cx="7561440" cy="4824360"/>
            <a:chOff x="755640" y="692280"/>
            <a:chExt cx="7561440" cy="4824360"/>
          </a:xfrm>
        </p:grpSpPr>
        <p:sp>
          <p:nvSpPr>
            <p:cNvPr id="106" name=""/>
            <p:cNvSpPr/>
            <p:nvPr/>
          </p:nvSpPr>
          <p:spPr>
            <a:xfrm flipV="1">
              <a:off x="8317080" y="1567080"/>
              <a:ext cx="0" cy="30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755640" y="692280"/>
              <a:ext cx="7560720" cy="4824360"/>
              <a:chOff x="755640" y="692280"/>
              <a:chExt cx="7560720" cy="4824360"/>
            </a:xfrm>
          </p:grpSpPr>
          <p:sp>
            <p:nvSpPr>
              <p:cNvPr id="108" name=""/>
              <p:cNvSpPr/>
              <p:nvPr/>
            </p:nvSpPr>
            <p:spPr>
              <a:xfrm>
                <a:off x="895680" y="692280"/>
                <a:ext cx="1400040" cy="1020960"/>
              </a:xfrm>
              <a:prstGeom prst="cloudCallout">
                <a:avLst>
                  <a:gd name="adj1" fmla="val -45000"/>
                  <a:gd name="adj2" fmla="val 5285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000" spc="-1" strike="noStrike">
                    <a:solidFill>
                      <a:srgbClr val="000000"/>
                    </a:solidFill>
                    <a:latin typeface="Times New Roman"/>
                  </a:rPr>
                  <a:t>Külső –belső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000" spc="-1" strike="noStrike">
                    <a:solidFill>
                      <a:srgbClr val="000000"/>
                    </a:solidFill>
                    <a:latin typeface="Times New Roman"/>
                  </a:rPr>
                  <a:t>kényszere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95680" y="1859040"/>
                <a:ext cx="1260000" cy="583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200" spc="-1" strike="noStrike">
                    <a:solidFill>
                      <a:srgbClr val="000000"/>
                    </a:solidFill>
                    <a:latin typeface="Times New Roman"/>
                  </a:rPr>
                  <a:t>Új probléma felmerülé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75800" y="1713240"/>
                <a:ext cx="1260000" cy="875160"/>
              </a:xfrm>
              <a:prstGeom prst="parallelogram">
                <a:avLst>
                  <a:gd name="adj" fmla="val 3599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u-HU" sz="1000" spc="-1" strike="noStrike">
                    <a:solidFill>
                      <a:srgbClr val="000000"/>
                    </a:solidFill>
                    <a:latin typeface="Times New Roman"/>
                  </a:rPr>
                  <a:t>Vezetői dönté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55680" y="2150640"/>
                <a:ext cx="55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3276000" y="1275120"/>
                <a:ext cx="0" cy="43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95760" y="2150640"/>
                <a:ext cx="55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55920" y="1859040"/>
                <a:ext cx="1540080" cy="583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200" spc="-1" strike="noStrike">
                    <a:solidFill>
                      <a:srgbClr val="000000"/>
                    </a:solidFill>
                    <a:latin typeface="Times New Roman"/>
                  </a:rPr>
                  <a:t>Előzetes helyzetfelméré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216120" y="1713240"/>
                <a:ext cx="1260000" cy="875160"/>
              </a:xfrm>
              <a:prstGeom prst="parallelogram">
                <a:avLst>
                  <a:gd name="adj" fmla="val 3599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u-HU" sz="1000" spc="-1" strike="noStrike">
                    <a:solidFill>
                      <a:srgbClr val="000000"/>
                    </a:solidFill>
                    <a:latin typeface="Times New Roman"/>
                  </a:rPr>
                  <a:t>Vezetői dönté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796000" y="2150640"/>
                <a:ext cx="55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6915960" y="1275120"/>
                <a:ext cx="0" cy="43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36080" y="2150640"/>
                <a:ext cx="42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56200" y="2150640"/>
                <a:ext cx="0" cy="87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1035720" y="3026160"/>
                <a:ext cx="672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35720" y="3026160"/>
                <a:ext cx="0" cy="29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5640" y="3317760"/>
                <a:ext cx="1540080" cy="87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200" spc="-1" strike="noStrike">
                    <a:solidFill>
                      <a:srgbClr val="000000"/>
                    </a:solidFill>
                    <a:latin typeface="Times New Roman"/>
                  </a:rPr>
                  <a:t>Részletes helyzetfelmérés, elemzé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15840" y="3317760"/>
                <a:ext cx="1260000" cy="875160"/>
              </a:xfrm>
              <a:prstGeom prst="parallelogram">
                <a:avLst>
                  <a:gd name="adj" fmla="val 3599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u-HU" sz="1000" spc="-1" strike="noStrike">
                    <a:solidFill>
                      <a:srgbClr val="000000"/>
                    </a:solidFill>
                    <a:latin typeface="Times New Roman"/>
                  </a:rPr>
                  <a:t>Vezetői dönté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95720" y="3755520"/>
                <a:ext cx="55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35800" y="3755520"/>
                <a:ext cx="55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395960" y="3317760"/>
                <a:ext cx="1540080" cy="72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200" spc="-1" strike="noStrike">
                    <a:solidFill>
                      <a:srgbClr val="000000"/>
                    </a:solidFill>
                    <a:latin typeface="Times New Roman"/>
                  </a:rPr>
                  <a:t>Logikai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200" spc="-1" strike="noStrike">
                    <a:solidFill>
                      <a:srgbClr val="000000"/>
                    </a:solidFill>
                    <a:latin typeface="Times New Roman"/>
                  </a:rPr>
                  <a:t>tervezé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356160" y="3317760"/>
                <a:ext cx="1540080" cy="72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200" spc="-1" strike="noStrike">
                    <a:solidFill>
                      <a:srgbClr val="000000"/>
                    </a:solidFill>
                    <a:latin typeface="Times New Roman"/>
                  </a:rPr>
                  <a:t>Fizikai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200" spc="-1" strike="noStrike">
                    <a:solidFill>
                      <a:srgbClr val="000000"/>
                    </a:solidFill>
                    <a:latin typeface="Times New Roman"/>
                  </a:rPr>
                  <a:t>tervezé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936040" y="3609720"/>
                <a:ext cx="41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3415680" y="3171960"/>
                <a:ext cx="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896240" y="3609720"/>
                <a:ext cx="28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176320" y="3609720"/>
                <a:ext cx="0" cy="72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1035360" y="4339080"/>
                <a:ext cx="714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035720" y="4339080"/>
                <a:ext cx="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55640" y="4484880"/>
                <a:ext cx="1540080" cy="437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200" spc="-1" strike="noStrike">
                    <a:solidFill>
                      <a:srgbClr val="000000"/>
                    </a:solidFill>
                    <a:latin typeface="Times New Roman"/>
                  </a:rPr>
                  <a:t>Létrehozá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295720" y="4630680"/>
                <a:ext cx="28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575800" y="4484880"/>
                <a:ext cx="1400040" cy="437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200" spc="-1" strike="noStrike">
                    <a:solidFill>
                      <a:srgbClr val="000000"/>
                    </a:solidFill>
                    <a:latin typeface="Times New Roman"/>
                  </a:rPr>
                  <a:t>Bevezeté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75840" y="4630680"/>
                <a:ext cx="42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95960" y="4484880"/>
                <a:ext cx="1260000" cy="437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200" spc="-1" strike="noStrike">
                    <a:solidFill>
                      <a:srgbClr val="000000"/>
                    </a:solidFill>
                    <a:latin typeface="Times New Roman"/>
                  </a:rPr>
                  <a:t>Értékelé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655960" y="4630680"/>
                <a:ext cx="69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216120" y="4339080"/>
                <a:ext cx="1820160" cy="1020960"/>
              </a:xfrm>
              <a:prstGeom prst="cloudCallout">
                <a:avLst>
                  <a:gd name="adj1" fmla="val 425"/>
                  <a:gd name="adj2" fmla="val 3095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200" spc="-1" strike="noStrike">
                    <a:solidFill>
                      <a:srgbClr val="000000"/>
                    </a:solidFill>
                    <a:latin typeface="Times New Roman"/>
                  </a:rPr>
                  <a:t>Karbantartás üzemelteté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1315440" y="2442600"/>
                <a:ext cx="0" cy="29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15440" y="2734200"/>
                <a:ext cx="406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375880" y="2734200"/>
                <a:ext cx="0" cy="58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36280" y="4641120"/>
                <a:ext cx="28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015640" y="1567440"/>
                <a:ext cx="630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75880" y="4922640"/>
                <a:ext cx="0" cy="58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375880" y="551664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8316360" y="4630320"/>
                <a:ext cx="0" cy="87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F03-252B-4126-A558-3292722A62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lőzetes helyzetfelmér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előzetes helyzetfelmér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nagyon lényeges lépéssorozata a rendszerfejlesztési munkának, e nélkül a további vezetői döntések meghozatala nem lehetség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zt a lépéssorozatot nevezi több módszertan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nagyvonalú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áttekintésne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, melynek az </a:t>
            </a: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eredmény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megvalósíthatósági tanulmány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nnek a lépésnek a végén a vezetőknek választ kell kapniuk arra, hogy az előzetes elképzelés megvalósítható-e, ha igen hogyan, mennyiért, milyen környezetbe, mennyi idő alat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ADC9-3AA1-4E3A-8938-E638028CC0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előzetes helyzetfelmérés feladata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Rendszervizsgálat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, mely a jelenlegi rendszer fő összefüggéseinek felvázolására irányul. Fontos feladata, hogy az egyes részek informális kapcsolódásait vizsgálja. A fő cél a rendszer körülhatárolása és a módosításra szoruló részek /elemek, folyamatok/ egyértelműesíté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Felhasználói igények megismerése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. Ez jelenti a rendszer jelenlegi és jövőbeni felhasználói igényeinek felmérését, a követelmények csoportosítását felhasználói szerepkör szeri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jövőbeli szükségletetek meghatározása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, azaz a gazdasági szervezet stratégiai tervének megfelelő rendszercél megfogalmazása. A szervezés /átszervezés/ csakis olyan információs rendszer tervezését tűzheti ki célként, ami a vállalati, vállalkozási stratégiában megfogalmazott feladatok teljesítésének támogatására irányu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A11-D1BD-41C7-83AC-3A70AAA38F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lőzetes helyzetfelmérés eredménye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előzetes helyzetfelmérés eredményeként meghatározásra kerülnek a megvalósítandó rendszer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célkitűzései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és a célok elkérésére megoldási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javaslat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születi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javaslatban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rögzítik, hogy a rendszer megvalósítható-e, ha igen hogyan és milyen erőforrásokkal, ha nem akkor milyen más megoldási alternatívák lehetne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szakasz végén szereplő </a:t>
            </a:r>
            <a:r>
              <a:rPr b="1" i="1" lang="hu-HU" sz="2100" spc="-1" strike="noStrike">
                <a:solidFill>
                  <a:srgbClr val="000000"/>
                </a:solidFill>
                <a:latin typeface="Arial"/>
              </a:rPr>
              <a:t>vezetői döntés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arra vonatkozik, hogy 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szükséges-e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az új rendszer fejlesztése, 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megéri-e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fejleszteni, 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megtérül-e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a beruházás, 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kik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vesznek részt a fejlesztésben, 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rendelkezésre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áll-e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a költségek fedezete, 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milyen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pénzügyi forrásokat használunk, 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hogyan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történik az ütemezé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C93-AD85-41AD-8DD0-5A85276C24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900" spc="-1" strike="noStrike">
                <a:solidFill>
                  <a:srgbClr val="330066"/>
                </a:solidFill>
                <a:latin typeface="Arial"/>
              </a:rPr>
              <a:t>Részletes helyzetfelmér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részletes helyzetfelmérés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, elemzés a vezetőkkel közösen kiválasztott megoldási alternatívához szükséges adatok gyűjtése, rendszerezése, elemzé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folyamatot horizontálisan és vertikálisan egyaránt el kell végezni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végén született dokumentációt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rendszerjavaslatnak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nevezün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rendszerjavaslat, a rendszer nagyvonalú ismeretében definiálja a megoldandó 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feladatokat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alternatívákat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sorol fel a probléma további elemzésére vonatkozóan, 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becsléseket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tartalmaz a várható eredményességre és költségekre vonatkozóa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2EC9-4C12-49C6-85D8-2C1C3F7123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ózsa Tünde</cp:lastModifiedBy>
  <dcterms:modified xsi:type="dcterms:W3CDTF">2007-09-20T13:04:11Z</dcterms:modified>
  <cp:revision>108</cp:revision>
  <dc:subject/>
  <dc:title>PowerPoint bemutató</dc:title>
</cp:coreProperties>
</file>