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89B-963E-4949-B8C2-B00C93CB6587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FAF-BFD4-42C1-B5AE-7E322F29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5CC-3472-4988-AAF4-685EFF93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04B-5A6F-4C0A-B3A0-30F14105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673-64FB-48CB-93E3-5A2BB5F1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E10-AAEA-41F9-8130-3FDC8BF0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0D2-D2A4-4E1D-A179-914D263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C69A-9279-4D93-B45A-0032DB3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A9A-406B-47C4-9842-7E455C4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6F92-233D-49DA-A3F5-86F574A7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0C2-7411-4CEA-94A8-B34AE295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5B6-126A-4128-863A-4C126F9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79E-8DFA-4BFD-9637-EEF7374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B6D-9755-4F0C-9389-D56EFE6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FAF-A043-400B-84CA-18F60FF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B62B-D51C-4394-9AE3-0387676A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A7C-7343-4782-B4BB-B7AF8C87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E51-8DE0-4898-A515-1480155A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95A-6E40-4A2B-A74F-69F4D13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33E-50C5-4326-AF43-1C53551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E82-5349-4F5D-B117-12C30B7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2C3-BAE3-4610-B21A-28E41E8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618-C46C-43DC-A9C4-EDCCC7B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59A-02AD-4B5D-9566-B06339F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EAD-C2D7-4FB4-876E-D0C392D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B8DD-EEF4-4B44-A6F6-B6AAF37C388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6F1-D931-4CCC-8473-F833C5C356E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4B0B-6C82-4C6B-AD98-ACC08231296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FA6F-56FD-419B-81D7-CA54516095E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ölcsönös hat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739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87B-2750-42B5-B33D-2BD820D44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észrendszer, al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Rész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vagy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lrendszer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alatt a rendszernek olyan elemért értjük, amely önmaga is rendszerként működi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862-44A4-41F1-94B0-36CD1D341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 struktúr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endsz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truktúrá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latt, a rendszer adott pillanatbeli állapotát értjü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gyis, hogy milyen elemek tartoznak a rendszerbe és köztük milyen kapcsolatok állnak fen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épzeljük el, hogy meg tudjuk állítani az időt és az adott helyzetben a rendszer  elemeit és a köztük lévő kapcsolatokat számba tudjuk venn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így előálló elem halmazt az elemek közti kapcsolatokkal nevezzük a rendszer struktúráján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tulajdonságaitól függően a rendszer struktúrája ( idő) változhat. Cserélődhetnek az elemek és változhatnak az elemek közti kapcsolatok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1EE-4CE1-4046-B507-B95E6A2B9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lya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állapotváltozásinak sorozatát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folyamatna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nevezzü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 abból indulunk ki, hogy a rendszer elemei kölcsönhatásban vannak egymással és maga a rendszer is kölcsönhatásban van a környezetével, valamint, hogy a hatásokhoz mindig valamilyen eseménylánc kapcsolódik ez az összefüggő kölcsönhatás változás az elemváltozásokkal együtt folyamatnak tekinthető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folyamato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megfogalmazhatjuk, úgy is, hogy a cél elérése érdekében felmerülő tevékenységsorozatok összefüggő láncol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4BA-9A5A-48FD-A96C-4F19DB1845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lyamat típusok (egysoro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26920" y="1773360"/>
            <a:ext cx="6707520" cy="4087800"/>
            <a:chOff x="826920" y="1773360"/>
            <a:chExt cx="6707520" cy="4087800"/>
          </a:xfrm>
        </p:grpSpPr>
        <p:sp>
          <p:nvSpPr>
            <p:cNvPr id="135" name=""/>
            <p:cNvSpPr/>
            <p:nvPr/>
          </p:nvSpPr>
          <p:spPr>
            <a:xfrm>
              <a:off x="826920" y="17733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2760" y="17733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6720" y="17733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80680" y="17733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54280" y="17733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3017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2760" y="3017160"/>
              <a:ext cx="6706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06720" y="3017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0680" y="3017160"/>
              <a:ext cx="6706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54280" y="3017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9840" y="195084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6040" y="195084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9640" y="195084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0" y="195084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29840" y="3195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3440" y="3195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9640" y="319500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51360" y="3195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00520" y="4439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06720" y="4439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0680" y="4439160"/>
              <a:ext cx="6706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Times New Roman"/>
                </a:rPr>
                <a:t>M1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54280" y="4439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4439160"/>
              <a:ext cx="50292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3440" y="4617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29840" y="461700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09640" y="461700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51360" y="4617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8280" y="497232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8280" y="5328000"/>
              <a:ext cx="100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174480" y="49719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5360" y="2484000"/>
              <a:ext cx="335376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en zárt, adott sorr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5360" y="3728160"/>
              <a:ext cx="419184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en zárt, változtatható sorr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5360" y="5505840"/>
              <a:ext cx="586908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Időbeli megszaklításokkal (adott vagy változtatható sorr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57560" y="19508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57560" y="31950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7560" y="4617000"/>
              <a:ext cx="6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96000" y="1773360"/>
              <a:ext cx="838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é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96000" y="3017160"/>
              <a:ext cx="838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é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28240" y="4439160"/>
              <a:ext cx="8384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Times New Roman"/>
                </a:rPr>
                <a:t>Cé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DF1-A70D-46AF-906F-BD28404C94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lyamattípusok többso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1700280"/>
            <a:ext cx="8064360" cy="3384000"/>
            <a:chOff x="539640" y="1700280"/>
            <a:chExt cx="8064360" cy="3384000"/>
          </a:xfrm>
        </p:grpSpPr>
        <p:sp>
          <p:nvSpPr>
            <p:cNvPr id="176" name=""/>
            <p:cNvSpPr/>
            <p:nvPr/>
          </p:nvSpPr>
          <p:spPr>
            <a:xfrm>
              <a:off x="4654080" y="4487040"/>
              <a:ext cx="493560" cy="59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hu-HU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85560" y="2894400"/>
              <a:ext cx="493560" cy="59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hu-HU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60520" y="2098080"/>
              <a:ext cx="493560" cy="59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33560" y="249660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hu-HU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66960" y="329292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85560" y="170028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hu-HU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08520" y="249660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50080" y="4487040"/>
              <a:ext cx="493560" cy="59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hu-HU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3560" y="4487040"/>
              <a:ext cx="493560" cy="59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3492000"/>
              <a:ext cx="49392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12520" y="329292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3292920"/>
              <a:ext cx="49356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04160" y="2894040"/>
              <a:ext cx="329040" cy="59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362600" y="2098080"/>
              <a:ext cx="82296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7120" y="2894400"/>
              <a:ext cx="65808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679120" y="2894040"/>
              <a:ext cx="32904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79120" y="1899360"/>
              <a:ext cx="148104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96000" y="2695680"/>
              <a:ext cx="3290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502080" y="2496240"/>
              <a:ext cx="65808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7120" y="4686120"/>
              <a:ext cx="82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679120" y="3690720"/>
              <a:ext cx="987480" cy="79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60520" y="3492000"/>
              <a:ext cx="115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640" y="4885560"/>
              <a:ext cx="181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48000" y="3690360"/>
              <a:ext cx="148104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06440" y="3492000"/>
              <a:ext cx="82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22960" y="3492000"/>
              <a:ext cx="82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5920" y="3292920"/>
              <a:ext cx="65808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Cé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33560" y="3690720"/>
              <a:ext cx="26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4E3-D185-4B1E-8E96-70CC3ED65F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tulajdonság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Statiku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 rendszer, ha a vizsgálati cél szempontjából nem fejlődik, azaz nem bővül új elemekkel és az elemek kapcsolata sem változi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Dinamikus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 rendszer, ha a vizsgálati cél szempontjából változik. Megváltoznak az elemei és/vagy megváltoznak az elemek közti kapcsolato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Működő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egy rendszer, ha vizsgálati cél szempontjából a rendszer szerkezete változik. A működő rendszerekben az elemek közti kapcsolatok változnak, általában független az elemcseréktől. Egy rendszer működhet aktívan, ami a természet, vagy társadalom törvényeinek tudatos, vagy ösztönös felhasználását jelenti, vagy passzívan ami a természet törvényeinek spontán érvényesülését jelenti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működő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 rendszer, ha a rendszer szerkezete adott vizsgálati cél szempontjából nem változik. Ilyen esetekben csak az elemek közti kapcsolat változatlansága a fo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3D3-7804-46C1-9075-7A82FA2394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tulajdonság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Zár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gy rendszer, ha környezetével nem cserél anyag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yíl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gy rendszer, ha környezetével anyagot cser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ratörő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gy rendszer, ha működése folyamán egy adott állapot elérésére törekszik, és képes kiigazítani működés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m célratörő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gy rendszer, ha nem törekszik egy adott állapot elérésé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ermészetes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 rendszer, ha célja a létrejöttének pillanatában adott és a célnak megfelelően keres magának feladat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38A-C48D-4319-9874-654A5466D5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életterün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eletkezésün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célju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űködésü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apcsolataik szer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9B3-B4AC-4912-BE9E-300548C8E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 életterük alapjá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eális, tárgyi, tapasztalati, vagyis funkcionális rendszereket, amik lehetn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élettelen, és/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élő rendsz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szmei rendszereket, amelyek az alkalmazott,függő rendszerek részeként jelennek meg, ezen belü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létfüggő, önálló, vagyis egzisztenciális, (pl. Naprendsz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élfüggő (alkalmazott), vagyis funkcionális (pl. gazdaság) rendszereket veszünk figyelem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242-EFD9-44DC-89CB-C68135332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elméleti és rendszerelméleti alapfogal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9A7-2424-4723-BD47-7182180CC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 keletkezésük alapjá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ermészetes rendszerek, amelyek lehetne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zika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émia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iológia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geológia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esterséges, művi rendszerek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melés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gazdaság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ársadalm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olitikai szervezetek rendsz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B8-AD1B-45C4-9656-AFD1D710D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 céljuk alapjá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smert és/vagy megismerhető céllal működő rendszer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smeretlen céllal működő ill. működtetett rendszer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27D-B6FC-49B2-AE47-762340AE08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smert és/vagy megismerhető céllal működő rendszer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smeretlen céllal működő ill. működtetett rendszer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885-AAF1-42BC-824F-95A5DA322A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osztályozása környezeti kapcsolódás szeri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>
                <a:solidFill>
                  <a:srgbClr val="000000"/>
                </a:solidFill>
                <a:latin typeface="Arial"/>
              </a:rPr>
              <a:t>nyitottak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>
                <a:solidFill>
                  <a:srgbClr val="000000"/>
                </a:solidFill>
                <a:latin typeface="Arial"/>
              </a:rPr>
              <a:t>zárta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Ludwig von Bertalanffy szerin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yílt rendszernek nevezte azokat a rendszereket amelyek áramlási mennyiségekként anyagot, energiát és /vagy/ információkat vesz lel a környező világtól, ezeket belsőleg feldolgozza és feldolgozott formában visszaadja a világ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árt rendszerek pedig azok a rendszerek. amelyek az őket környező világgal egyedül és kizárólag energetikai kapcsolatban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F91-E71C-4BD9-B680-CD055B1FD0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0066"/>
                </a:solidFill>
                <a:latin typeface="Arial"/>
              </a:rPr>
              <a:t>Stafford Beer szerinti komplexitás és meghatározottság szerinti csoportosítá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Egyszerű vagy stabil rendszernek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nevezzük az egy szabályozási körrel végrehajtó elem és funkciója, továbbá az irányító elem és funkcióval működő olyan rendszereket, amelyekben a lezajló folyamatok, illetve a rendszerben lévő elemek kapcsolódása meghatározott paraméterek által definiált határok között mozog, a kapcsolatok részleteiben megismerhetők, egyértelműen leírható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Instabil rendszernek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nevezzük azokat a rendszereket, ahol a rendszer folyamatainak állapota a jelzett paraméterek megszabta határon kívül esi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Komplex vagy ultrastabil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rendszernek nevezzük a rendszert, ha annak több rokonfunkciót ellátó alrendszere stabil rendszert alkot. A gyakorlatban ez a rendszer konstrukció osztálynak, üzemnek, műhelynek felel meg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 nagyon komplex vagy instabil rendszert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, amely egy fölérendelt cél megvalósítására szervezett több ultrastabil rendszerek összessége (pl.: nagyvállalatok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A meghatározhatóságuk szerinti csoportosítása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megkülönböztet determinisztikus és valószínűségi rendszereket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Determinisztikus rendszerek</a:t>
            </a: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 esetében az elemek, alrendszerek közötti kölcsönhatás a tévedés kockázata nélkül. előre megállapítható, feltéve ha ismertek a rendszer megítéléséhez szükséges körülmények vagy információk. (így pl: az elektronikus digitális számítógép determinisztikus rendszernek tekinthető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A valószínűségi rendszerek</a:t>
            </a: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 esetében nem lehet pontos, mindenre kiterjedő részletes előrejelzést adni. Valószínűségi rendszer pl: egy termelőszövetkezet is, amellyel szemben mereven nem irható elő, hogy pontosan mennyit termeljen, mert eredményét több tényező (időjárás, biológiai folyamatok, emberi tényezők stb.) befolyásolja, így a vállalati eredmények bizonyos valószínűségi tartományon a belül ingadozást fognak mutatn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87A-B30E-4084-A929-7EC3622E60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ek vizsgá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él: megismerni a rendsz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ódsz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feketedoboz módsze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odell mó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5AD-5387-46E1-A8FF-94B41BCD58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ketedoboz mó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fekete doboz módszer egy olyan eljárás, ahol a vizsgált rendszer szerkezete ismeretl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nnél a vizsgálati módszernél az eljárás, hogy mérjük a kimeneti eredményeket a bemeneti adatok ismeretében, és ez alapján próbálunk a rendszer működésére vonatkozóan ismereteket szerez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B23-7F64-4A5B-85CA-296C5C5EBD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kete doboz mó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ódszer által ajánlott főbb feladato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egyrészt egy formális leírás elkészítése, amely az átalakulási szabályokat tartalmazza az inputokkal és outputokkal összefüggés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ásrészt egy magatartás modell létrehozása, ami megközelítőleg leírja a fekete dobozban történte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B33-923A-4DC2-8243-87EC01B069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52000" y="1528920"/>
            <a:ext cx="6298560" cy="3340080"/>
            <a:chOff x="1152000" y="1528920"/>
            <a:chExt cx="6298560" cy="3340080"/>
          </a:xfrm>
        </p:grpSpPr>
        <p:sp>
          <p:nvSpPr>
            <p:cNvPr id="230" name=""/>
            <p:cNvSpPr/>
            <p:nvPr/>
          </p:nvSpPr>
          <p:spPr>
            <a:xfrm rot="21267000">
              <a:off x="5218920" y="3633840"/>
              <a:ext cx="2210040" cy="550440"/>
            </a:xfrm>
            <a:prstGeom prst="rightArrow">
              <a:avLst>
                <a:gd name="adj1" fmla="val 62213"/>
                <a:gd name="adj2" fmla="val 939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10480" y="3672360"/>
              <a:ext cx="2575080" cy="1196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4840" y="3843360"/>
              <a:ext cx="1571760" cy="726480"/>
            </a:xfrm>
            <a:prstGeom prst="rightArrow">
              <a:avLst>
                <a:gd name="adj1" fmla="val 50000"/>
                <a:gd name="adj2" fmla="val 5408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7271400">
              <a:off x="2047320" y="1615680"/>
              <a:ext cx="854640" cy="2574720"/>
            </a:xfrm>
            <a:prstGeom prst="upArrow">
              <a:avLst>
                <a:gd name="adj1" fmla="val 50000"/>
                <a:gd name="adj2" fmla="val 7531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Követelmények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7271400">
              <a:off x="3518640" y="1273680"/>
              <a:ext cx="854640" cy="2574720"/>
            </a:xfrm>
            <a:prstGeom prst="upArrow">
              <a:avLst>
                <a:gd name="adj1" fmla="val 50000"/>
                <a:gd name="adj2" fmla="val 7531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Esemény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636-006C-4E2F-ADE6-024FA87FCC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 mó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odell módszer lényege, hogy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észítün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egy olyan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odell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amely az adott vizsgálatnál az adott rendszert képes helyettesí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hhoz, hogy a modellt el tudjuk készíteni,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ismernün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kell a rendszer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zerkezeté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8EC-E785-4121-9B71-F4FB650FA8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fogal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ek szerkez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ek tulajdonságai és osztályozás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ek vizsgá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információ fogalma, típusai, tartalmi jellemző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E80-1508-43DA-8CAF-1F54549AB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 mó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almazhatjuk a modell módszert abban az esetben is, ha a rendszer teljes szerkezetét ugyan nem ismerjük, de a vizsgálati cél szempontjából fontos elemeket és kapcsolatokat ige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kkor ezen ismeretek felhasználásával készítsünk modellt és a vizsgálatokat a továbbiakban ezen a modellen végezzü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ódszernek akkor van értelme, ha valamilyen oknál fogva a rendszeren magán nem tudjuk elvégezni a vizsgálato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812-C768-4610-860F-40E8F42B0B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 módszer alkalmazásának oka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vizsgálni kívánt rendszer még nem készült el, még csak a tervezés stádiumában va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rendszer túlságosan nagy, vagy túlságosan kicsi, éppen ezért fizikailag megoldhatatlan a rendszeren történő vizsgál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rendszeren történő vizsgálat a rendszer pusztulását eredményezné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modellen történő vizsgálat kevesebb időt vesz igénybe, és ehhez az időrövidítéshez fontos érdekünk fűződi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modellen történő vizsgálat lényeges költségmegtakarítást eredményez a rendszeren történő vizsgálathoz képe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8CC-91D1-42BC-A015-DFEA710397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egfontosabb ismeret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észrendszer, al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olya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szerkez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izsgálati mó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ketedob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17B-BC10-4FC2-8162-9C1430D4EC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A21-1C05-4DC4-A524-18EFBBD9B7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elmélet kialakul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949-195l között a magyar származású biológus, Ludwig von Bertalanffy, publikációiban megfogalmazta a rendszerelmélet alapgondolata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l954-ben az USA-ban megalakul az Általános Rendszerkutató társasá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2956-ban megjelenik Boulding professzor világhírűvé vált "A tudomány csontváza" alcímet viselő rendszerelméleti tanulmány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961-ben megalakul a CIT-en /Case Institure of TechnologYt Cleveland, Ohio/ a FORD Alapítvány támogatásával a Rendszerkutató Közpo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966-ban az amerikai villamosmérnökök intézete rendszertudományi és kibernetikai csoportot hozott lét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2967-ben az USA-ból folyóirat indul a matematikai rendszerelméletrő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969-ben Rendszerkutatás címen megjelenik az első orosz nyelvű évköny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1970-ben Angliában megindítják a Rendszertudomány /Internaoional Journal of Systems Science/ és Rendszertechnika /Journal of Systems Engineering/ folyóiratot és ugyanebben az évben merül fel KGST koordinációból egy rendszerek kutatásával foglalkozó moszkvai kutatóintézet létrehozá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122-AF33-438D-9537-B239B5C8AF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szó a görög „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" szóból ered és bizonyos dolgok együttesét jelen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en meghatározott tulajdonságokkal rendelkező elemekből, dolgokból, objektumokból, elemkapcsolatokból, összefüggésekből, viszonyokból, csatlakozásokból álló egységes egészet alkotó összességet értün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856-AF9A-40CA-92DE-A13854A04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Ludwig von Bertalanffy: A rendszer egymással kölcsönhatásban álló olyan elemek együttese, amire bizonyos rendszertörvények alkalmazhatók. Az elem a rendszer olyan része amit a rendszer vizsgálata szempontjából célszerű megkülönböztetn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Cherry szerint a rendszer "sok részből összeálló egész, ismérvek együttese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Freemen szerint "A rendszer egy dinamikus jelenség modelljéül szolgáló matematikai absztrakció"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000000"/>
                </a:solidFill>
                <a:latin typeface="Arial"/>
              </a:rPr>
              <a:t>Gibson fogalmazásában „A rendszer kölcsönhatásban álló elemek integrált összessége, amelynek az a rendeltetése, hogy együttesen ellásson egy előre meghatározott funkciót. Hall-Fagen szerint ’”A rendszer objektumok halmaza az objektumok és azok attribútumai közötti relációkkal együt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7DA-124C-4EBE-A541-49874E286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Miller alapján „A rendszer egy olyan térben és időben határolt tartomány, amelyben az alkotórészeket függvénykapcsolatok egyesítik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Kröber meghatározásában: „A rendszert elemek olyan, nem üres halmazaként értelmezzük, amely legalább két elemet tartalmaz, emellett elemei meghatározott relációkban, összefüggésekben állnak egymás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Szadovszkij megfogalmazásában: „A Rendszer elemek meghatározott módon rendezett halmaza, amelyek kölcsönösen összefüggenek egymással és valamilyen totális egységet képeznek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E38-6893-4A80-9AB4-E86063DAF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 szerkeze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rendszer elsődleges alkotó része: az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e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58920" y="3284640"/>
            <a:ext cx="6335280" cy="1150920"/>
            <a:chOff x="1258920" y="3284640"/>
            <a:chExt cx="6335280" cy="1150920"/>
          </a:xfrm>
        </p:grpSpPr>
        <p:sp>
          <p:nvSpPr>
            <p:cNvPr id="114" name=""/>
            <p:cNvSpPr/>
            <p:nvPr/>
          </p:nvSpPr>
          <p:spPr>
            <a:xfrm>
              <a:off x="3370680" y="3284640"/>
              <a:ext cx="1971000" cy="11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(folyamat, eljárá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5000" y="385992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2800" y="3859920"/>
              <a:ext cx="7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58920" y="3668400"/>
              <a:ext cx="985680" cy="38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Beme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6600" y="3668400"/>
              <a:ext cx="1407600" cy="57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Times New Roman"/>
                </a:rPr>
                <a:t>Kime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0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49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4076280"/>
            <a:ext cx="93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587640" y="400536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194-A4C6-4FEA-9719-549042B70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endszer szerkeze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elemek összessé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az az elem a rendszer rés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t alkotó elemek viszont önmagukban is működhetnek rendszerként, azaz rendelkezhetnek a rendszerre jellemző tulajdonságokk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emeknek (rendszereknek) vannak, vagy lehetnek </a:t>
            </a:r>
            <a:r>
              <a:rPr b="0" i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bemeneti értékei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melyek által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efolyásolható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z elemek (rendszerek) és vannak </a:t>
            </a:r>
            <a:r>
              <a:rPr b="0" i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kimeneti értékei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melyek által az elem befolyásolhatja, átalakíthatja, vagy módosíthatja a rendszer további elemeit, vagy akár a rendszer környezet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18D-3F06-4FB6-A46B-BE65FFDB03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09-20T12:58:18Z</dcterms:modified>
  <cp:revision>104</cp:revision>
  <dc:subject/>
  <dc:title>PowerPoint bemutató</dc:title>
</cp:coreProperties>
</file>