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7CC7-7FEC-4AC1-830A-36995ECB9316}"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CÍMDIA: logók</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utóláb: hefop, témakör, diaszám</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Gyakran olyan hallgatóságnak kell szakmai előadást tartani, amely nem ismeri a témát vagy a szakszavakat. Az anyag esetleg összetett és rengeteg adatot tartalmaz. A hatékony előadáshoz alkalmazzuk a Dale Carnegie Training® által kialakított irányelveke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együk figyelembe a rendelkezésre álló időt és rendszerezzük megfelelően a tananyagot. Szűkítsük le a témakört. Osszuk fel a bemutatót világosan elkülönített részekre. Állítsunk fel logikus sorrendet. Végig egy témára összpontosítsunk. A bemutatót összefoglalással zárjuk, ismételjük meg a fontos lépéseket vagy vonjunk le következtetés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Ne feledkezzünk el a hallgatóságról. Fontos például, hogy az adatok érthetőek és lényegesek legyenek a téma szempontjából. Az adatok és a szakszavak mennyiségét igazítsuk a hallgatósághoz. A fontosabb pontok és lépések magyarázatához használjunk szemléltetőeszközöket. Mindig tartsuk szem előtt a hallgatóság igényeit, és akkor képesebbek lesznek az elhangzottak befogadásá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8CD4B-09F4-4E54-A641-F253749A6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0"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61D8E-8937-4EDE-8C67-EAB639A4C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3"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3A9F1-234A-46F8-B188-9D8592981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8"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1CAFD-7486-46F9-BCF4-BD7D0D0FA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FAEA0-9DEC-4DAB-9E84-4A71BED30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ECE92-45F8-4E97-8AC8-78C58C905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7"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D5B2B-0AF9-498B-8FDE-F91B4FA06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9"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B182B-76CE-41B0-925F-FA148ED41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C2281-F726-4819-95DF-5019F1C7C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16080" y="466200"/>
            <a:ext cx="627192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E1A19-0968-4C10-A4BB-90A1F1DB8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4"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E766B-4803-4509-8878-4D8573E64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9"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BBC32-DB86-4479-89C9-DB6C4A297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8"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B945A-8EC6-439D-8993-5A7C9B888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72"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72C3C-5935-450A-AE61-963A0B58E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76"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8A91B-B50B-49EF-A0C8-9203A5099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79"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BD59D-B899-4F17-82A7-2AB50C3E1D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84"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DDC1EC-D31E-4D6B-81A2-261BC962D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CE790-518B-4405-ACD5-E1D8B7167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D1195-6505-4D25-97C7-1BB76FADC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FE103-4C46-4296-ACE9-D81752CB4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6080" y="466200"/>
            <a:ext cx="627192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C9943-7CFA-4166-B85B-4B5C59017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8"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C97EC-E378-4493-88D8-00255CA39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22"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24AAC-43FD-4CE3-A0F7-E5576945C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26"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7CBF1-FCCC-4EFD-9CC1-D1489A323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0B2E-5CDB-4E56-9FDB-4E161F908086}" type="datetime">
              <a:rPr b="0" lang="hu-HU" sz="1000" spc="-1" strike="noStrike">
                <a:solidFill>
                  <a:srgbClr val="000000"/>
                </a:solidFill>
                <a:latin typeface="Arial"/>
              </a:rPr>
              <a:t>26.07.31.</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B3F4-4568-4D1F-9C01-51F8B1D08C96}"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6138720"/>
            <a:ext cx="1403280" cy="719280"/>
          </a:xfrm>
          <a:prstGeom prst="rect">
            <a:avLst/>
          </a:prstGeom>
          <a:ln w="0">
            <a:noFill/>
          </a:ln>
        </p:spPr>
      </p:pic>
      <p:pic>
        <p:nvPicPr>
          <p:cNvPr id="7" name="" descr=""/>
          <p:cNvPicPr/>
          <p:nvPr/>
        </p:nvPicPr>
        <p:blipFill>
          <a:blip r:embed="rId3"/>
          <a:stretch/>
        </p:blipFill>
        <p:spPr>
          <a:xfrm>
            <a:off x="8101080" y="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1D41-03D0-4309-AD15-6009DC4BFB92}" type="datetime">
              <a:rPr b="0" lang="hu-HU" sz="1000" spc="-1" strike="noStrike">
                <a:solidFill>
                  <a:srgbClr val="000000"/>
                </a:solidFill>
                <a:latin typeface="Arial"/>
              </a:rPr>
              <a:t>26.07.31.</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2916000" y="6248520"/>
            <a:ext cx="3103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u-HU" sz="10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0000"/>
                </a:solidFill>
                <a:latin typeface="Arial"/>
              </a:rPr>
              <a:t>A projekt az Európai Unió társfinanszírozásával, az Európa terv keretében valósul meg. </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D3C8-6E21-455B-B805-509F598D9C13}"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948360" y="0"/>
            <a:ext cx="2195640" cy="1123920"/>
          </a:xfrm>
          <a:prstGeom prst="rect">
            <a:avLst/>
          </a:prstGeom>
          <a:ln w="0">
            <a:noFill/>
          </a:ln>
        </p:spPr>
      </p:pic>
      <p:pic>
        <p:nvPicPr>
          <p:cNvPr id="51" name="" descr=""/>
          <p:cNvPicPr/>
          <p:nvPr/>
        </p:nvPicPr>
        <p:blipFill>
          <a:blip r:embed="rId3"/>
          <a:stretch/>
        </p:blipFill>
        <p:spPr>
          <a:xfrm>
            <a:off x="4716360" y="115920"/>
            <a:ext cx="2195640" cy="906480"/>
          </a:xfrm>
          <a:prstGeom prst="rect">
            <a:avLst/>
          </a:prstGeom>
          <a:ln w="0">
            <a:noFill/>
          </a:ln>
        </p:spPr>
      </p:pic>
      <p:pic>
        <p:nvPicPr>
          <p:cNvPr id="52" name="" descr=""/>
          <p:cNvPicPr/>
          <p:nvPr/>
        </p:nvPicPr>
        <p:blipFill>
          <a:blip r:embed="rId4"/>
          <a:stretch/>
        </p:blipFill>
        <p:spPr>
          <a:xfrm>
            <a:off x="7524720" y="1197000"/>
            <a:ext cx="1419120" cy="141912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330066"/>
                </a:solidFill>
                <a:latin typeface="Arial"/>
              </a:rPr>
              <a:t>Információs rendszerek</a:t>
            </a:r>
            <a:endParaRPr b="1" lang="en-US" sz="5400" spc="-1" strike="noStrike">
              <a:solidFill>
                <a:srgbClr val="330066"/>
              </a:solidFill>
              <a:latin typeface="Arial"/>
            </a:endParaRPr>
          </a:p>
        </p:txBody>
      </p:sp>
      <p:sp>
        <p:nvSpPr>
          <p:cNvPr id="9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Szenteleki Károly</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BCE</a:t>
            </a: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Rózsa Tünde</a:t>
            </a: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DE AVK GAIT</a:t>
            </a: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ezetői tevékenységek: stratégiai tervezés</a:t>
            </a: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u="sng">
                <a:solidFill>
                  <a:srgbClr val="000000"/>
                </a:solidFill>
                <a:uFillTx/>
                <a:latin typeface="Arial"/>
              </a:rPr>
              <a:t>A stratégiai tervezés</a:t>
            </a:r>
            <a:r>
              <a:rPr b="0" lang="hu-HU" sz="2600" spc="-1" strike="noStrike">
                <a:solidFill>
                  <a:srgbClr val="000000"/>
                </a:solidFill>
                <a:latin typeface="Arial"/>
              </a:rPr>
              <a:t> folyamata azt a stratégiát határozza meg, amellyel egy szervezet a céljait el kívánja érni.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igényelt adatok általában összegzések, nem pedig a tranzakciókra vonatkozó egyedi adatok.</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adatigény kiterjed mind a belső, mind pedig a külső adatokra, és a várható igények előrevetítésére.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Példa lehet egy olyan jelentés, amely az elmúlt időszak igényeit írja le a piaci részesedéssel, ezenkívül a várható igények előrejelzését is megadja.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B2F5D3C-2126-4427-A670-AD6898BA98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döntéshozatal VIR támogatása</a:t>
            </a: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döntéshozatal VIR-támogatása egy szervezeten belül a döntéshozatal folyamatának három fázisával írható l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eltárá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döntés megtervezése é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választás.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ABFBAB8-704C-46CB-A49C-7D455A5D00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Feltárás</a:t>
            </a:r>
            <a:endParaRPr b="1" lang="en-US" sz="3900" spc="-1" strike="noStrike">
              <a:solidFill>
                <a:srgbClr val="330066"/>
              </a:solidFill>
              <a:latin typeface="Arial"/>
            </a:endParaRPr>
          </a:p>
        </p:txBody>
      </p:sp>
      <p:sp>
        <p:nvSpPr>
          <p:cNvPr id="1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feltárás fázisában történik a problémák felderítés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VIR-támogatás ebben a fázisban adatbázist és keresési, feltárási módszereket jelen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trukturált keresés esetén előre meghatározott keresési algoritmusok állnak rendelkezésre, míg a nem strukturált keresés flexibilis adatbázis hozzáférési lehetőségeket igényel.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55E6C5B-0990-4C09-8BF8-1B2C209AF5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Döntéstervezés</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döntéstervezési fázis az alternatívák generálását jelenti.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z lehetséges cselekvési scenáriók kitalálását, kifejlesztését és elemzését jelent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VIR-támogatás a döntéstervezésnél statisztikai, valamint elemző és modellépítő szoftverek rendelkezésre bocsátását jelenti.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4DBEC29-EA0E-455E-957D-9D30C9BDFF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álasztás</a:t>
            </a: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választási fázist a VIR döntési modellekkel, érzékenység vizsgálati módszerekkel és választási eljárásokkal támogatja.</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98ADA83-171F-4ADE-96A7-5462B52737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360"/>
            <a:ext cx="7543800" cy="1197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330066"/>
                </a:solidFill>
                <a:latin typeface="Arial"/>
              </a:rPr>
              <a:t>Több szintű adatkezelési és analitikai megoldás - Döntéstámogatás</a:t>
            </a:r>
            <a:endParaRPr b="1" lang="en-US" sz="3200" spc="-1" strike="noStrike">
              <a:solidFill>
                <a:srgbClr val="330066"/>
              </a:solidFill>
              <a:latin typeface="Arial"/>
            </a:endParaRPr>
          </a:p>
        </p:txBody>
      </p:sp>
      <p:sp>
        <p:nvSpPr>
          <p:cNvPr id="126"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9000"/>
          </a:bodyPr>
          <a:p>
            <a:pPr marL="339480" indent="-3394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z alapot tehát a </a:t>
            </a:r>
            <a:r>
              <a:rPr b="1" i="1" lang="hu-HU" sz="1500" spc="-1" strike="noStrike">
                <a:solidFill>
                  <a:srgbClr val="000000"/>
                </a:solidFill>
                <a:latin typeface="Arial"/>
              </a:rPr>
              <a:t>belső, illetve külső adatforrások</a:t>
            </a:r>
            <a:r>
              <a:rPr b="0" lang="hu-HU" sz="1500" spc="-1" strike="noStrike">
                <a:solidFill>
                  <a:srgbClr val="000000"/>
                </a:solidFill>
                <a:latin typeface="Arial"/>
              </a:rPr>
              <a:t> jelentik -- az adattárházak ugyanis nem csak az ERP-rendszerekből vesznek át adatokat, hanem más forrásokból is. Ezáltal szélesebb alapokat adnak a vezetői döntések meghozatalához, másrészt feladatként jelenik meg a különböző helyekről különböző struktúrákban és formátumokban érkező adatok bevonása és kezelése.</a:t>
            </a:r>
            <a:endParaRPr b="0" lang="en-US" sz="1500" spc="-1" strike="noStrike">
              <a:solidFill>
                <a:srgbClr val="000000"/>
              </a:solidFill>
              <a:latin typeface="Arial"/>
            </a:endParaRPr>
          </a:p>
          <a:p>
            <a:pPr marL="339480" indent="-3394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z adatforrás rétegre épül egy </a:t>
            </a:r>
            <a:r>
              <a:rPr b="1" i="1" lang="hu-HU" sz="1500" spc="-1" strike="noStrike">
                <a:solidFill>
                  <a:srgbClr val="000000"/>
                </a:solidFill>
                <a:latin typeface="Arial"/>
              </a:rPr>
              <a:t>közvetítő réteg</a:t>
            </a:r>
            <a:r>
              <a:rPr b="0" lang="hu-HU" sz="1500" spc="-1" strike="noStrike">
                <a:solidFill>
                  <a:srgbClr val="000000"/>
                </a:solidFill>
                <a:latin typeface="Arial"/>
              </a:rPr>
              <a:t>, mely biztosítja a kiválasztott adatok beolvasását, konvertálását, szükség esetén tisztítását (újracsoportosítását -- az adattárház tagolásának megfelelően, standardizálását -- konzisztenssé tételét, tartalmi ellenőrzését és illesztését), azért, hogy az adattárház teljes és minőségi adatállománnyal rendelkezzen.</a:t>
            </a:r>
            <a:endParaRPr b="0" lang="en-US" sz="1500" spc="-1" strike="noStrike">
              <a:solidFill>
                <a:srgbClr val="000000"/>
              </a:solidFill>
              <a:latin typeface="Arial"/>
            </a:endParaRPr>
          </a:p>
          <a:p>
            <a:pPr marL="339480" indent="-3394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következő réteg már maga az </a:t>
            </a:r>
            <a:r>
              <a:rPr b="1" i="1" lang="hu-HU" sz="1500" spc="-1" strike="noStrike">
                <a:solidFill>
                  <a:srgbClr val="000000"/>
                </a:solidFill>
                <a:latin typeface="Arial"/>
              </a:rPr>
              <a:t>adattárház</a:t>
            </a:r>
            <a:r>
              <a:rPr b="0" lang="hu-HU" sz="1500" spc="-1" strike="noStrike">
                <a:solidFill>
                  <a:srgbClr val="000000"/>
                </a:solidFill>
                <a:latin typeface="Arial"/>
              </a:rPr>
              <a:t>, mely magában foglalja a </a:t>
            </a:r>
            <a:r>
              <a:rPr b="1" i="1" lang="hu-HU" sz="1500" spc="-1" strike="noStrike">
                <a:solidFill>
                  <a:srgbClr val="000000"/>
                </a:solidFill>
                <a:latin typeface="Arial"/>
              </a:rPr>
              <a:t>bevont adatmennyiség</a:t>
            </a:r>
            <a:r>
              <a:rPr b="0" lang="hu-HU" sz="1500" spc="-1" strike="noStrike">
                <a:solidFill>
                  <a:srgbClr val="000000"/>
                </a:solidFill>
                <a:latin typeface="Arial"/>
              </a:rPr>
              <a:t>et, valamint az </a:t>
            </a:r>
            <a:r>
              <a:rPr b="1" i="1" lang="hu-HU" sz="1500" spc="-1" strike="noStrike">
                <a:solidFill>
                  <a:srgbClr val="000000"/>
                </a:solidFill>
                <a:latin typeface="Arial"/>
              </a:rPr>
              <a:t>adatszótár</a:t>
            </a:r>
            <a:r>
              <a:rPr b="0" lang="hu-HU" sz="1500" spc="-1" strike="noStrike">
                <a:solidFill>
                  <a:srgbClr val="000000"/>
                </a:solidFill>
                <a:latin typeface="Arial"/>
              </a:rPr>
              <a:t>at: az adatok tulajdonságait, illetve az adatok közötti kapcsolatokat leíró metaadatok rendszerét.</a:t>
            </a:r>
            <a:endParaRPr b="0" lang="en-US" sz="1500" spc="-1" strike="noStrike">
              <a:solidFill>
                <a:srgbClr val="000000"/>
              </a:solidFill>
              <a:latin typeface="Arial"/>
            </a:endParaRPr>
          </a:p>
          <a:p>
            <a:pPr marL="339480" indent="-3394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központi adattárház bázisán az egyes területekre optimalizált </a:t>
            </a:r>
            <a:r>
              <a:rPr b="1" i="1" lang="hu-HU" sz="1500" spc="-1" strike="noStrike">
                <a:solidFill>
                  <a:srgbClr val="000000"/>
                </a:solidFill>
                <a:latin typeface="Arial"/>
              </a:rPr>
              <a:t>adatpiacok</a:t>
            </a:r>
            <a:r>
              <a:rPr b="0" lang="hu-HU" sz="1500" spc="-1" strike="noStrike">
                <a:solidFill>
                  <a:srgbClr val="000000"/>
                </a:solidFill>
                <a:latin typeface="Arial"/>
              </a:rPr>
              <a:t>at építenek ki. Adatpiacok alakíthatóak ki a kontrolling szabályozókörének támogatására, valamint a vállalati értékteremtés folyamatának állomásainál és a funkcionális egységek szintjén. </a:t>
            </a:r>
            <a:endParaRPr b="0" lang="en-US" sz="1500" spc="-1" strike="noStrike">
              <a:solidFill>
                <a:srgbClr val="000000"/>
              </a:solidFill>
              <a:latin typeface="Arial"/>
            </a:endParaRPr>
          </a:p>
          <a:p>
            <a:pPr marL="339480" indent="-3394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legfelső szintet az </a:t>
            </a:r>
            <a:r>
              <a:rPr b="1" i="1" lang="hu-HU" sz="1500" spc="-1" strike="noStrike">
                <a:solidFill>
                  <a:srgbClr val="000000"/>
                </a:solidFill>
                <a:latin typeface="Arial"/>
              </a:rPr>
              <a:t>OLAP-rendszerű alkalmazások</a:t>
            </a:r>
            <a:r>
              <a:rPr b="0" lang="hu-HU" sz="1500" spc="-1" strike="noStrike">
                <a:solidFill>
                  <a:srgbClr val="000000"/>
                </a:solidFill>
                <a:latin typeface="Arial"/>
              </a:rPr>
              <a:t> jelentik: magas szintű analitikai képességeiket az informatikai szállítók fejlesztései révén ma már számos vállalati területen igénybe vehetik a felhasználók. Az OLAP-szoftverek valamilyen </a:t>
            </a:r>
            <a:r>
              <a:rPr b="1" i="1" lang="hu-HU" sz="1500" spc="-1" strike="noStrike">
                <a:solidFill>
                  <a:srgbClr val="000000"/>
                </a:solidFill>
                <a:latin typeface="Arial"/>
              </a:rPr>
              <a:t>adatkezelő nyelv</a:t>
            </a:r>
            <a:r>
              <a:rPr b="0" lang="hu-HU" sz="1500" spc="-1" strike="noStrike">
                <a:solidFill>
                  <a:srgbClr val="000000"/>
                </a:solidFill>
                <a:latin typeface="Arial"/>
              </a:rPr>
              <a:t>en (legtöbbször SQL) kommunikálnak az adatkezelés alsóbb rétegeivel, legtöbbször osztott rendszerként működnek és lehetővé teszik több felhasználó, felhasználói csoport egyidejű munkavégzését. </a:t>
            </a:r>
            <a:endParaRPr b="0" lang="en-US" sz="1500" spc="-1" strike="noStrike">
              <a:solidFill>
                <a:srgbClr val="000000"/>
              </a:solidFill>
              <a:latin typeface="Arial"/>
            </a:endParaRPr>
          </a:p>
          <a:p>
            <a:pPr marL="339480" indent="-3394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z </a:t>
            </a:r>
            <a:r>
              <a:rPr b="1" i="1" lang="hu-HU" sz="1500" spc="-1" strike="noStrike">
                <a:solidFill>
                  <a:srgbClr val="000000"/>
                </a:solidFill>
                <a:latin typeface="Arial"/>
              </a:rPr>
              <a:t>adatkezelés alkalmazásoldali menedzselése</a:t>
            </a:r>
            <a:r>
              <a:rPr b="0" lang="hu-HU" sz="1500" spc="-1" strike="noStrike">
                <a:solidFill>
                  <a:srgbClr val="000000"/>
                </a:solidFill>
                <a:latin typeface="Arial"/>
              </a:rPr>
              <a:t>, illetve az egyes rétegek, szoftverek, hálózati </a:t>
            </a:r>
            <a:r>
              <a:rPr b="1" i="1" lang="hu-HU" sz="1500" spc="-1" strike="noStrike">
                <a:solidFill>
                  <a:srgbClr val="000000"/>
                </a:solidFill>
                <a:latin typeface="Arial"/>
              </a:rPr>
              <a:t>egységek közötti kommunikáció</a:t>
            </a:r>
            <a:r>
              <a:rPr b="0" lang="hu-HU" sz="1500" spc="-1" strike="noStrike">
                <a:solidFill>
                  <a:srgbClr val="000000"/>
                </a:solidFill>
                <a:latin typeface="Arial"/>
              </a:rPr>
              <a:t> biztosítása szintén fontosak, az előzőektől különválasztandó funkciók.</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A86B3EF-00D8-4D0F-BC14-12AFAD306C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250920" y="260280"/>
          <a:ext cx="8713800" cy="5905440"/>
        </p:xfrm>
        <a:graphic>
          <a:graphicData uri="http://schemas.openxmlformats.org/drawingml/2006/table">
            <a:tbl>
              <a:tblPr/>
              <a:tblGrid>
                <a:gridCol w="1800000"/>
                <a:gridCol w="2936880"/>
                <a:gridCol w="3976920"/>
              </a:tblGrid>
              <a:tr h="757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000000"/>
                          </a:solidFill>
                          <a:latin typeface="Times New Roman"/>
                          <a:ea typeface="Times New Roman"/>
                        </a:rPr>
                        <a:t>Vezérelvek</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000000"/>
                          </a:solidFill>
                          <a:latin typeface="Times New Roman"/>
                          <a:ea typeface="Times New Roman"/>
                        </a:rPr>
                        <a:t>Adattárolás ERP-rendszereknél</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000000"/>
                          </a:solidFill>
                          <a:latin typeface="Times New Roman"/>
                          <a:ea typeface="Times New Roman"/>
                        </a:rPr>
                        <a:t>Adattárházak</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64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000000"/>
                          </a:solidFill>
                          <a:latin typeface="Times New Roman"/>
                          <a:ea typeface="Times New Roman"/>
                        </a:rPr>
                        <a:t>Adatok integrációj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Times New Roman"/>
                          <a:ea typeface="Times New Roman"/>
                        </a:rPr>
                        <a:t>Az ERP-rendszerek moduljai integráltak, egységes vállalati adatbázisra támaszkodnak, de problémás más informatikai alkalmazások, külső források adatainak bevonása, kezelés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000000"/>
                          </a:solidFill>
                          <a:latin typeface="Times New Roman"/>
                          <a:ea typeface="Times New Roman"/>
                        </a:rPr>
                        <a:t>Adattárház szintű integráció</a:t>
                      </a:r>
                      <a:r>
                        <a:rPr b="0" lang="hu-HU" sz="1300" spc="-1" strike="noStrike">
                          <a:solidFill>
                            <a:srgbClr val="000000"/>
                          </a:solidFill>
                          <a:latin typeface="Times New Roman"/>
                          <a:ea typeface="Times New Roman"/>
                        </a:rPr>
                        <a:t>, mely egyrészt a </a:t>
                      </a:r>
                      <a:r>
                        <a:rPr b="1" lang="hu-HU" sz="1300" spc="-1" strike="noStrike">
                          <a:solidFill>
                            <a:srgbClr val="000000"/>
                          </a:solidFill>
                          <a:latin typeface="Times New Roman"/>
                          <a:ea typeface="Times New Roman"/>
                        </a:rPr>
                        <a:t>különböző forrású és formátumú adatok bevonásá</a:t>
                      </a:r>
                      <a:r>
                        <a:rPr b="0" lang="hu-HU" sz="1300" spc="-1" strike="noStrike">
                          <a:solidFill>
                            <a:srgbClr val="000000"/>
                          </a:solidFill>
                          <a:latin typeface="Times New Roman"/>
                          <a:ea typeface="Times New Roman"/>
                        </a:rPr>
                        <a:t>t, másrészt a tárolt adatok konzisztenciájának megteremtését jelenti (illeszkedés, mértékegységek, hierarchiák, stb.).</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64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000000"/>
                          </a:solidFill>
                          <a:latin typeface="Times New Roman"/>
                          <a:ea typeface="Times New Roman"/>
                        </a:rPr>
                        <a:t>Az idő dimenzió megjelenés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Times New Roman"/>
                          <a:ea typeface="Times New Roman"/>
                        </a:rPr>
                        <a:t>Az ERP-rendszerek adott időpontra vonatkozó adatokat tartalmaznak, a szükséges időhorizont rövidebb (pár hónap).</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Times New Roman"/>
                          <a:ea typeface="Times New Roman"/>
                        </a:rPr>
                        <a:t>Jellemzően </a:t>
                      </a:r>
                      <a:r>
                        <a:rPr b="1" lang="hu-HU" sz="1300" spc="-1" strike="noStrike">
                          <a:solidFill>
                            <a:srgbClr val="000000"/>
                          </a:solidFill>
                          <a:latin typeface="Times New Roman"/>
                          <a:ea typeface="Times New Roman"/>
                        </a:rPr>
                        <a:t>történeti jelleg</a:t>
                      </a:r>
                      <a:r>
                        <a:rPr b="0" lang="hu-HU" sz="1300" spc="-1" strike="noStrike">
                          <a:solidFill>
                            <a:srgbClr val="000000"/>
                          </a:solidFill>
                          <a:latin typeface="Times New Roman"/>
                          <a:ea typeface="Times New Roman"/>
                        </a:rPr>
                        <a:t>gel tartalmaznak adatokat -- napi / heti frissítéssel (bár ma már megjelentek a real-time adattárházak is), hosszú időhorizonttal (3-10 év). </a:t>
                      </a:r>
                      <a:r>
                        <a:rPr b="1" lang="hu-HU" sz="1300" spc="-1" strike="noStrike">
                          <a:solidFill>
                            <a:srgbClr val="000000"/>
                          </a:solidFill>
                          <a:latin typeface="Times New Roman"/>
                          <a:ea typeface="Times New Roman"/>
                        </a:rPr>
                        <a:t>Az idő dimenzió</a:t>
                      </a:r>
                      <a:r>
                        <a:rPr b="0" lang="hu-HU" sz="1300" spc="-1" strike="noStrike">
                          <a:solidFill>
                            <a:srgbClr val="000000"/>
                          </a:solidFill>
                          <a:latin typeface="Times New Roman"/>
                          <a:ea typeface="Times New Roman"/>
                        </a:rPr>
                        <a:t> mind a tárolás, mind az információ-kinyerés, elemzések szempontjából </a:t>
                      </a:r>
                      <a:r>
                        <a:rPr b="1" lang="hu-HU" sz="1300" spc="-1" strike="noStrike">
                          <a:solidFill>
                            <a:srgbClr val="000000"/>
                          </a:solidFill>
                          <a:latin typeface="Times New Roman"/>
                          <a:ea typeface="Times New Roman"/>
                        </a:rPr>
                        <a:t>kulcsfontosságú</a:t>
                      </a:r>
                      <a:r>
                        <a:rPr b="0" lang="hu-HU" sz="1300" spc="-1" strike="noStrike">
                          <a:solidFill>
                            <a:srgbClr val="000000"/>
                          </a:solidFill>
                          <a:latin typeface="Times New Roman"/>
                          <a:ea typeface="Times New Roman"/>
                        </a:rPr>
                        <a: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8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000000"/>
                          </a:solidFill>
                          <a:latin typeface="Times New Roman"/>
                          <a:ea typeface="Times New Roman"/>
                        </a:rPr>
                        <a:t>Adatok változtathatóság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Times New Roman"/>
                          <a:ea typeface="Times New Roman"/>
                        </a:rPr>
                        <a:t>Az adatokat -- a tranzakció-kezelési feladatnak megfelelően frissítik, felülírják.</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Times New Roman"/>
                          <a:ea typeface="Times New Roman"/>
                        </a:rPr>
                        <a:t>A történeti jellegnek és elemzési céloknak megfelelően </a:t>
                      </a:r>
                      <a:r>
                        <a:rPr b="1" lang="hu-HU" sz="1300" spc="-1" strike="noStrike">
                          <a:solidFill>
                            <a:srgbClr val="000000"/>
                          </a:solidFill>
                          <a:latin typeface="Times New Roman"/>
                          <a:ea typeface="Times New Roman"/>
                        </a:rPr>
                        <a:t>az adatok nem felülírhatóak</a:t>
                      </a:r>
                      <a:r>
                        <a:rPr b="0" lang="hu-HU" sz="1300" spc="-1" strike="noStrike">
                          <a:solidFill>
                            <a:srgbClr val="000000"/>
                          </a:solidFill>
                          <a:latin typeface="Times New Roman"/>
                          <a:ea typeface="Times New Roman"/>
                        </a:rPr>
                        <a:t>. (Kivételt jelent az adattárház szintű tervezés, amikor nem más rendszerekből olvas be adatokat, hanem azok a felhasználó oldaláról érkeznek.)</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64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000000"/>
                          </a:solidFill>
                          <a:latin typeface="Times New Roman"/>
                          <a:ea typeface="Times New Roman"/>
                        </a:rPr>
                        <a:t>Orientáció</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Times New Roman"/>
                          <a:ea typeface="Times New Roman"/>
                        </a:rPr>
                        <a:t>Az ERP-rendszerek moduljai funkcionálisan tagoltak, illetve folyamatorientáltak, s ennek megfelelően építik fel a rendszer mögött álló relációs adatbázis tábláit i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Times New Roman"/>
                          <a:ea typeface="Times New Roman"/>
                        </a:rPr>
                        <a:t>Az adattárházakban </a:t>
                      </a:r>
                      <a:r>
                        <a:rPr b="1" lang="hu-HU" sz="1300" spc="-1" strike="noStrike">
                          <a:solidFill>
                            <a:srgbClr val="000000"/>
                          </a:solidFill>
                          <a:latin typeface="Times New Roman"/>
                          <a:ea typeface="Times New Roman"/>
                        </a:rPr>
                        <a:t>az adatok témaorientáltan szervezettek</a:t>
                      </a:r>
                      <a:r>
                        <a:rPr b="0" lang="hu-HU" sz="1300" spc="-1" strike="noStrike">
                          <a:solidFill>
                            <a:srgbClr val="000000"/>
                          </a:solidFill>
                          <a:latin typeface="Times New Roman"/>
                          <a:ea typeface="Times New Roman"/>
                        </a:rPr>
                        <a:t>, a cég üzleti tevékenységének legfontosabb dimenzióit mutatják, a vezetői információs igényeknek, összvállalati szintű, több szempontú lekérdezések elvégzésének megfelelően tagolt az adatbázi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263B7B7B-373A-4572-9039-B8A6CE8D99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OPAP-rendszerű alkalmazások</a:t>
            </a:r>
            <a:endParaRPr b="1" lang="en-US" sz="3900" spc="-1" strike="noStrike">
              <a:solidFill>
                <a:srgbClr val="330066"/>
              </a:solidFill>
              <a:latin typeface="Arial"/>
            </a:endParaRPr>
          </a:p>
        </p:txBody>
      </p:sp>
      <p:sp>
        <p:nvSpPr>
          <p:cNvPr id="1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Controllin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Controlling szabályzókör: felderíteni az eltéréseket, elemezni és tervezni, nyomon követni az elért eredményeket, szükség esetén beavatkozni és újabb célokat tűzni ki</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lapvetően két fajta IT-támogatást várnak el a controllerek:</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egyrészt a szükséges adatok gyűjtését és kezelését (ezt a funkciót látják el az adattárházak és az adatpiacok)</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másrészt a szabályozókör egyes elemeihez kapcsolódó feladatok informatikai támogatását.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C5C9497-2F84-4875-8FE7-B0B3ADD367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tárház</a:t>
            </a: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z adattárház maga egy komplex informatikai rendszer, amelynek magja egy nagyteljesítményű adattár, ennek részét képezi az ellenőrzött és ütemezett táplálását (töltését) végző rendszer, valamint az adatok elérhetőségét és elemezhetőségét lehetővé tevő lekérdező-elemző rendszerek.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lapvető célja a tárolt információk elemzés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Adatait a tranzakciós forrásrendszerektől elkülönítve tárolja, egy olyan adatbázis-struktúrában, mely a lekérdezések szempontjaira optimalizált. Vállalati szintű átfogó, a különböző adatkörök összekapcsolása révén integrált adatokat tartalmaz, idősoros formában.</a:t>
            </a:r>
            <a:r>
              <a:rPr b="0" lang="hu-HU" sz="2100" spc="-1" strike="noStrike">
                <a:solidFill>
                  <a:srgbClr val="000000"/>
                </a:solidFill>
                <a:latin typeface="Arial"/>
              </a:rPr>
              <a:t>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01C3DD7-9735-4E2A-BA74-B9377F8A13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tárház</a:t>
            </a:r>
            <a:endParaRPr b="1" lang="en-US" sz="3900" spc="-1" strike="noStrike">
              <a:solidFill>
                <a:srgbClr val="330066"/>
              </a:solidFill>
              <a:latin typeface="Arial"/>
            </a:endParaRPr>
          </a:p>
        </p:txBody>
      </p:sp>
      <p:sp>
        <p:nvSpPr>
          <p:cNvPr id="13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Többdimenziós adatbázis</a:t>
            </a:r>
            <a:endParaRPr b="0" lang="en-US" sz="3000" spc="-1" strike="noStrike">
              <a:solidFill>
                <a:srgbClr val="000000"/>
              </a:solidFill>
              <a:latin typeface="Arial"/>
            </a:endParaRPr>
          </a:p>
        </p:txBody>
      </p:sp>
      <p:pic>
        <p:nvPicPr>
          <p:cNvPr id="134" name="it_uzleti_intelligencia_02" descr=""/>
          <p:cNvPicPr/>
          <p:nvPr/>
        </p:nvPicPr>
        <p:blipFill>
          <a:blip r:embed="rId1"/>
          <a:stretch/>
        </p:blipFill>
        <p:spPr>
          <a:xfrm>
            <a:off x="1619280" y="2421000"/>
            <a:ext cx="5689440" cy="3263760"/>
          </a:xfrm>
          <a:prstGeom prst="rect">
            <a:avLst/>
          </a:prstGeom>
          <a:ln w="0">
            <a:noFill/>
          </a:ln>
        </p:spPr>
      </p:pic>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C5D6EFA-6165-44A0-85CA-CE43980C83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Információs rendszerek</a:t>
            </a:r>
            <a:endParaRPr b="1" lang="en-US" sz="4800" spc="-1" strike="noStrike">
              <a:solidFill>
                <a:srgbClr val="330066"/>
              </a:solidFill>
              <a:latin typeface="Arial"/>
            </a:endParaRPr>
          </a:p>
        </p:txBody>
      </p:sp>
      <p:sp>
        <p:nvSpPr>
          <p:cNvPr id="100" name="PlaceHolder 2"/>
          <p:cNvSpPr>
            <a:spLocks noGrp="1"/>
          </p:cNvSpPr>
          <p:nvPr>
            <p:ph type="subTitle"/>
          </p:nvPr>
        </p:nvSpPr>
        <p:spPr>
          <a:xfrm>
            <a:off x="848880" y="3049200"/>
            <a:ext cx="6248520" cy="2900520"/>
          </a:xfrm>
          <a:prstGeom prst="rect">
            <a:avLst/>
          </a:prstGeom>
          <a:noFill/>
          <a:ln w="0">
            <a:noFill/>
          </a:ln>
        </p:spPr>
        <p:txBody>
          <a:bodyPr lIns="90000" rIns="90000" tIns="46800" bIns="46800" anchor="t">
            <a:no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Integrált információs rendszerek</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IR, DSS,EIS,BI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935C14EC-ADF9-4A13-B9CA-E749DCAE08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Többdimeziós adatkocka szeletelés</a:t>
            </a:r>
            <a:endParaRPr b="1" lang="en-US" sz="3900" spc="-1" strike="noStrike">
              <a:solidFill>
                <a:srgbClr val="330066"/>
              </a:solidFill>
              <a:latin typeface="Arial"/>
            </a:endParaRPr>
          </a:p>
        </p:txBody>
      </p:sp>
      <p:pic>
        <p:nvPicPr>
          <p:cNvPr id="136" name="it_uzleti_intelligencia_03" descr=""/>
          <p:cNvPicPr/>
          <p:nvPr/>
        </p:nvPicPr>
        <p:blipFill>
          <a:blip r:embed="rId1"/>
          <a:stretch/>
        </p:blipFill>
        <p:spPr>
          <a:xfrm>
            <a:off x="395280" y="1974960"/>
            <a:ext cx="8424720" cy="393228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7C38C763-0330-4383-966C-ACFFFB9B40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űveletek</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adattárházak adatkockáin további alapműveletek végezhetőek.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legtöbb dimenzió esetében igaz, hogy több különböző részletezettség mellett is értelmezhető.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legegyszerűbb példa erre az idő, melynél számolhatunk napi / heti / havi / évi bontással.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felső szintű vezetők részére készített jelentések havi bontásban mutatják például az eladások alakulását, azonban lehetőségük van arra, hogy megtekintsék a heti bontásokat is.</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vállalat adatraktárában tárolt adatokat ugyanakkor alsóbb szintű vezetők is használhatják, akik inkább heti vagy napi adatokat akarnak látni.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Ez a dimenziók mentén történő </a:t>
            </a:r>
            <a:r>
              <a:rPr b="1" i="1" lang="hu-HU" sz="1900" spc="-1" strike="noStrike">
                <a:solidFill>
                  <a:srgbClr val="000000"/>
                </a:solidFill>
                <a:latin typeface="Arial"/>
              </a:rPr>
              <a:t>felösszegzés</a:t>
            </a:r>
            <a:r>
              <a:rPr b="0" lang="hu-HU" sz="1900" spc="-1" strike="noStrike">
                <a:solidFill>
                  <a:srgbClr val="000000"/>
                </a:solidFill>
                <a:latin typeface="Arial"/>
              </a:rPr>
              <a:t>, illetve alábontás, </a:t>
            </a:r>
            <a:r>
              <a:rPr b="1" i="1" lang="hu-HU" sz="1900" spc="-1" strike="noStrike">
                <a:solidFill>
                  <a:srgbClr val="000000"/>
                </a:solidFill>
                <a:latin typeface="Arial"/>
              </a:rPr>
              <a:t>lefúrás</a:t>
            </a:r>
            <a:r>
              <a:rPr b="0" lang="hu-HU" sz="1900" spc="-1" strike="noStrike">
                <a:solidFill>
                  <a:srgbClr val="000000"/>
                </a:solidFill>
                <a:latin typeface="Arial"/>
              </a:rPr>
              <a:t>: a drill up / drill down funkció lehetővé teszi, hogy ugyanaz a téma (ugyanazon dimenziókkal rendelkező kocka) több aggregáltsági szinten is megjelenjen. </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0DBBE06-BA06-4D6E-A07A-A860DF7AB1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tárház jellemzője</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a:t>
            </a:r>
            <a:r>
              <a:rPr b="1" lang="hu-HU" sz="3000" spc="-1" strike="noStrike">
                <a:solidFill>
                  <a:srgbClr val="000000"/>
                </a:solidFill>
                <a:latin typeface="Arial"/>
              </a:rPr>
              <a:t>adattárház</a:t>
            </a:r>
            <a:r>
              <a:rPr b="0" lang="hu-HU" sz="3000" spc="-1" strike="noStrike">
                <a:solidFill>
                  <a:srgbClr val="000000"/>
                </a:solidFill>
                <a:latin typeface="Arial"/>
              </a:rPr>
              <a:t> fontos jellemzője, hogy tartalma nem változik, </a:t>
            </a:r>
            <a:r>
              <a:rPr b="1" lang="hu-HU" sz="3000" spc="-1" strike="noStrike">
                <a:solidFill>
                  <a:srgbClr val="000000"/>
                </a:solidFill>
                <a:latin typeface="Arial"/>
              </a:rPr>
              <a:t>csak bővül</a:t>
            </a:r>
            <a:r>
              <a:rPr b="0" lang="hu-HU" sz="3000" spc="-1" strike="noStrike">
                <a:solidFill>
                  <a:srgbClr val="000000"/>
                </a:solidFill>
                <a:latin typeface="Arial"/>
              </a:rPr>
              <a:t> (nem állapotot, hanem történéseket regisztrál), és a felhasználók különböző elemzői, döntéstámogató, lekérdező eszközökkel férhetnek az adatokhoz.</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9F70470-FA02-4D19-A7C1-F6276659FA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nyászat</a:t>
            </a: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adatbányászat segítségével rejtett összefüggéseket fedezhetünk fel nagy számosságú adathalmazban.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a:t>
            </a:r>
            <a:r>
              <a:rPr b="1" lang="hu-HU" sz="2600" spc="-1" strike="noStrike">
                <a:solidFill>
                  <a:srgbClr val="000000"/>
                </a:solidFill>
                <a:latin typeface="Arial"/>
              </a:rPr>
              <a:t>adatbányászat</a:t>
            </a:r>
            <a:r>
              <a:rPr b="0" lang="hu-HU" sz="2600" spc="-1" strike="noStrike">
                <a:solidFill>
                  <a:srgbClr val="000000"/>
                </a:solidFill>
                <a:latin typeface="Arial"/>
              </a:rPr>
              <a:t> során adattárházban rendezett vagy egyéb más tranzakciós adatbázisainkból olyan információkat nyerünk, amelyekkel jelentős információtartalommal bíró, összetett, általában rejtett összefüggések tárhatók fe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zek az összefüggések üzleti szempontból fontos döntések meghozatalához nyújtanak segítséget.</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C798632-FFC1-43E4-BBAF-7B98319CEC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Példa</a:t>
            </a: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Tipikus kérdések, amire az adatbányászat adhat megoldás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200" spc="-1" strike="noStrike">
                <a:solidFill>
                  <a:srgbClr val="000000"/>
                </a:solidFill>
                <a:latin typeface="Arial"/>
              </a:rPr>
              <a:t>Kik</a:t>
            </a:r>
            <a:r>
              <a:rPr b="0" lang="hu-HU" sz="2200" spc="-1" strike="noStrike">
                <a:solidFill>
                  <a:srgbClr val="000000"/>
                </a:solidFill>
                <a:latin typeface="Arial"/>
              </a:rPr>
              <a:t> azok az előfizetők, akik lemondanak az előfizetésükről?</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200" spc="-1" strike="noStrike">
                <a:solidFill>
                  <a:srgbClr val="000000"/>
                </a:solidFill>
                <a:latin typeface="Arial"/>
              </a:rPr>
              <a:t>Mekkora a valószínűsége</a:t>
            </a:r>
            <a:r>
              <a:rPr b="0" lang="hu-HU" sz="2200" spc="-1" strike="noStrike">
                <a:solidFill>
                  <a:srgbClr val="000000"/>
                </a:solidFill>
                <a:latin typeface="Arial"/>
              </a:rPr>
              <a:t> annak, hogy a vásárló egy bizonyos értékhatár fölött fog rendelni egy postai úton kiküldött katalógusból?</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Ha egy vásárló vásárol egy bizonyos terméket, akkor </a:t>
            </a:r>
            <a:r>
              <a:rPr b="0" i="1" lang="hu-HU" sz="2200" spc="-1" strike="noStrike">
                <a:solidFill>
                  <a:srgbClr val="000000"/>
                </a:solidFill>
                <a:latin typeface="Arial"/>
              </a:rPr>
              <a:t>mi a valószínűsége</a:t>
            </a:r>
            <a:r>
              <a:rPr b="0" lang="hu-HU" sz="2200" spc="-1" strike="noStrike">
                <a:solidFill>
                  <a:srgbClr val="000000"/>
                </a:solidFill>
                <a:latin typeface="Arial"/>
              </a:rPr>
              <a:t> annak, hogy egy </a:t>
            </a:r>
            <a:r>
              <a:rPr b="0" i="1" lang="hu-HU" sz="2200" spc="-1" strike="noStrike">
                <a:solidFill>
                  <a:srgbClr val="000000"/>
                </a:solidFill>
                <a:latin typeface="Arial"/>
              </a:rPr>
              <a:t>másik</a:t>
            </a:r>
            <a:r>
              <a:rPr b="0" lang="hu-HU" sz="2200" spc="-1" strike="noStrike">
                <a:solidFill>
                  <a:srgbClr val="000000"/>
                </a:solidFill>
                <a:latin typeface="Arial"/>
              </a:rPr>
              <a:t> terméket is meg fog vásárolni?</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200" spc="-1" strike="noStrike">
                <a:solidFill>
                  <a:srgbClr val="000000"/>
                </a:solidFill>
                <a:latin typeface="Arial"/>
              </a:rPr>
              <a:t>Kik</a:t>
            </a:r>
            <a:r>
              <a:rPr b="0" lang="hu-HU" sz="2200" spc="-1" strike="noStrike">
                <a:solidFill>
                  <a:srgbClr val="000000"/>
                </a:solidFill>
                <a:latin typeface="Arial"/>
              </a:rPr>
              <a:t> azok, akik nagyobb valószínűséggel vásárolnak az egyes eladásösztönző akciók hatásár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55D2FDF-3696-430E-A03B-6B667DE482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nyászat lépései</a:t>
            </a:r>
            <a:endParaRPr b="1" lang="en-US" sz="3900" spc="-1" strike="noStrike">
              <a:solidFill>
                <a:srgbClr val="330066"/>
              </a:solidFill>
              <a:latin typeface="Arial"/>
            </a:endParaRPr>
          </a:p>
        </p:txBody>
      </p:sp>
      <p:sp>
        <p:nvSpPr>
          <p:cNvPr id="1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adatbányászat 4 fontos lépcsőből áll:</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első lépcsőben a vállalatnál már felépített adattárházakban tárolt nagy számosságú adathalmazból mintavétel segítségével </a:t>
            </a:r>
            <a:r>
              <a:rPr b="0" lang="hu-HU" sz="2100" spc="-1" strike="noStrike" u="sng">
                <a:solidFill>
                  <a:srgbClr val="000000"/>
                </a:solidFill>
                <a:uFillTx/>
                <a:latin typeface="Arial"/>
              </a:rPr>
              <a:t>kiválasztjuk</a:t>
            </a:r>
            <a:r>
              <a:rPr b="0" lang="hu-HU" sz="2100" spc="-1" strike="noStrike">
                <a:solidFill>
                  <a:srgbClr val="000000"/>
                </a:solidFill>
                <a:latin typeface="Arial"/>
              </a:rPr>
              <a:t> a szükséges adatoka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második fázisban előkészítjük az adatokat, és </a:t>
            </a:r>
            <a:r>
              <a:rPr b="0" lang="hu-HU" sz="2100" spc="-1" strike="noStrike" u="sng">
                <a:solidFill>
                  <a:srgbClr val="000000"/>
                </a:solidFill>
                <a:uFillTx/>
                <a:latin typeface="Arial"/>
              </a:rPr>
              <a:t>adattranszformációkat</a:t>
            </a:r>
            <a:r>
              <a:rPr b="0" lang="hu-HU" sz="2100" spc="-1" strike="noStrike">
                <a:solidFill>
                  <a:srgbClr val="000000"/>
                </a:solidFill>
                <a:latin typeface="Arial"/>
              </a:rPr>
              <a:t> hajtunk végre (megtisztítjuk az adatokat, új változókat képzünk, pótoljuk a hiányzó értékeket, illetve megvizsgáljuk az extrém értékeket és eldöntjük, hogy milyen módon kezeljük őke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harmadik fázis a tulajdonképpeni </a:t>
            </a:r>
            <a:r>
              <a:rPr b="1" lang="hu-HU" sz="2100" spc="-1" strike="noStrike" u="sng">
                <a:solidFill>
                  <a:srgbClr val="000000"/>
                </a:solidFill>
                <a:uFillTx/>
                <a:latin typeface="Arial"/>
              </a:rPr>
              <a:t>adatbányászat</a:t>
            </a:r>
            <a:r>
              <a:rPr b="0" lang="hu-HU" sz="2100" spc="-1" strike="noStrike">
                <a:solidFill>
                  <a:srgbClr val="000000"/>
                </a:solidFill>
                <a:latin typeface="Arial"/>
              </a:rPr>
              <a:t>; számítógépes szoftverek segítségével modellezve itt térképezzük fel az adatokban rejlő fontos összefüggéseke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utolsó fázisban az eredmények </a:t>
            </a:r>
            <a:r>
              <a:rPr b="0" lang="hu-HU" sz="2100" spc="-1" strike="noStrike" u="sng">
                <a:solidFill>
                  <a:srgbClr val="000000"/>
                </a:solidFill>
                <a:uFillTx/>
                <a:latin typeface="Arial"/>
              </a:rPr>
              <a:t>értelmezése</a:t>
            </a:r>
            <a:r>
              <a:rPr b="0" lang="hu-HU" sz="2100" spc="-1" strike="noStrike">
                <a:solidFill>
                  <a:srgbClr val="000000"/>
                </a:solidFill>
                <a:latin typeface="Arial"/>
              </a:rPr>
              <a:t> és kiértékelése történik</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D763DC4-19DC-492D-8A94-F224D19775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nyászat lépései</a:t>
            </a:r>
            <a:endParaRPr b="1" lang="en-US" sz="3900" spc="-1" strike="noStrike">
              <a:solidFill>
                <a:srgbClr val="330066"/>
              </a:solidFill>
              <a:latin typeface="Arial"/>
            </a:endParaRPr>
          </a:p>
        </p:txBody>
      </p:sp>
      <p:pic>
        <p:nvPicPr>
          <p:cNvPr id="148" name="" descr=""/>
          <p:cNvPicPr/>
          <p:nvPr/>
        </p:nvPicPr>
        <p:blipFill>
          <a:blip r:embed="rId1"/>
          <a:stretch/>
        </p:blipFill>
        <p:spPr>
          <a:xfrm>
            <a:off x="971640" y="1052640"/>
            <a:ext cx="7078680" cy="498456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B7E58E7-32BF-4689-82C6-765E89D7CC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bányászat kategóriái</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1" lang="hu-HU" sz="2600" spc="-1" strike="noStrike">
                <a:solidFill>
                  <a:srgbClr val="000000"/>
                </a:solidFill>
                <a:latin typeface="Arial"/>
              </a:rPr>
              <a:t>jósló típusú adatbányászat</a:t>
            </a:r>
            <a:r>
              <a:rPr b="0" lang="hu-HU" sz="2600" spc="-1" strike="noStrike">
                <a:solidFill>
                  <a:srgbClr val="000000"/>
                </a:solidFill>
                <a:latin typeface="Arial"/>
              </a:rPr>
              <a:t> (célirányos tevékenység) céljai: klasszifikáljon, azaz „igaz” vagy „hamis” kategóriákba osszon be, illetve hogy valamiféle regressziós elemzést hajtson végre az adatokon és bizonyos bemenő változókra már ismert válaszok alapján gyártson előrejelzéseke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1" lang="hu-HU" sz="2600" spc="-1" strike="noStrike">
                <a:solidFill>
                  <a:srgbClr val="000000"/>
                </a:solidFill>
                <a:latin typeface="Arial"/>
              </a:rPr>
              <a:t>feltáró adatbányászat</a:t>
            </a:r>
            <a:r>
              <a:rPr b="0" lang="hu-HU" sz="2600" spc="-1" strike="noStrike">
                <a:solidFill>
                  <a:srgbClr val="000000"/>
                </a:solidFill>
                <a:latin typeface="Arial"/>
              </a:rPr>
              <a:t> (nyitottabb jellegű tevékenység) feladata az adathalmazon belüli minták, csoportok vagy klaszterek azonosítása.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98EB2A1-3B3E-4B35-9557-D8AE8F7DC3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Példák az alkalmazásokra</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kereskedelem területén az adatbányászatot használhatjuk:</a:t>
            </a:r>
            <a:endParaRPr b="0" lang="en-US" sz="17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Vásárlói csoportok, viselkedési minták azonosítására</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fogyasztók demográfiai jellemzői közötti asszociációk feltárása</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Postai úton bonyolított kampány hatásának becslésére</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Keresztértékesítés egyes termékek esetében a fogyasztói igények pontos felmérésére</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Jövedelmező fogyasztói szegmensek azonosítására</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Vásárlómegtartásra</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Vásárlói hűség növelésére.</a:t>
            </a:r>
            <a:endParaRPr b="0" lang="en-US" sz="15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pénzügyi szférában az adatbányászatot használhatjuk: </a:t>
            </a:r>
            <a:endParaRPr b="0" lang="en-US" sz="17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Kártyacsalások felderítésére</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Különböző fogyasztói csoportokban a hitelkártyáról történő fizetések  nagyságának becslésére</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Hitelkockázat becslésére.</a:t>
            </a:r>
            <a:endParaRPr b="0" lang="en-US" sz="15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biztosítási szektor esetén, az adatbányászat, segítségünkre lehet </a:t>
            </a:r>
            <a:endParaRPr b="0" lang="en-US" sz="17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biztosítási csalások felderítésében</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Bizonyos típusú kötvények vevői csoportba történő sorolásánál</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Leendő biztosítottak felderítésénél</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Ügyfelek megtartásánál.</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A752F3A-8B79-4865-A745-CEEEF27C22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ezetői döntéstámogatás</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döntéstámogató rendszer fogalmat olyan rendszerek megnevezésére használjuk, amelyek információszolgáltatási tevékenységükkel támogatják a döntéshozókat, viszont semmiképpen nem helyettesítik magát a döntéshozatalt, ami továbbra is emberi tevékenység.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zeket a rendszereket általában részben strukturált döntéseknél használják.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06C3FAA-67BB-43FF-A9E4-E6FC7C752B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óra tematikája</a:t>
            </a:r>
            <a:endParaRPr b="1" lang="en-US" sz="3900" spc="-1" strike="noStrike">
              <a:solidFill>
                <a:srgbClr val="330066"/>
              </a:solidFill>
              <a:latin typeface="Arial"/>
            </a:endParaRPr>
          </a:p>
        </p:txBody>
      </p:sp>
      <p:sp>
        <p:nvSpPr>
          <p:cNvPr id="1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Vezetői információs rendszere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Online elemző feldolgozá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OLAP-rendszerű alkalmazáso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dattárház</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Vezetői döntéstámogatá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Üzleti intelligenc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63DA890-B426-4B1D-A677-A14E6663B4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DSS és GDSS</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DSS döntéstámogató rendszerek az egyszemélyi döntésekre koncentráltak.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csoportos döntéshozatal igényének kielégítésére jelent meg a piacon a GDSS (Group Decision Support Systems).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csoportos döntéshozatal előnye a nagyobb össztudás, a rendelkezésre álló nagyobb információ, több lehetséges alternatíva figyelembe vétele, a kidolgozott megoldások elfogadásának nagyobb valószínűsége, a folyamatban résztvevők részéről a probléma és a megoldás jobb megértése.</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csoportos döntéshozatalban minden résztvevőnek lehetősége kell legyen a többiektől független munkavégzésre és arra, hogy az addig elvégzett munkáját. a többiek megismertesse.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csoportos döntéstámogató rendszerek részei az adatbázis, a modellbázis, a speciális alkalmazói programok, a felhasználói interfészek és végül maga az emberi komponens.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További szolgáltatások szükségesek a csoporton belüli kommunikáció támogatására, ilyenek lehetnek az elektronikus levelező rendszerek, az egyidejűleg többek által használható (konzultációs) munkaállomások, a videó konferencia rendszerek, a szavazások grafikus felülettel bővített összegző rendszerei.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0DD9A3C-0DD1-42C7-8676-C7F3679082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zakértői rendszerek</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döntéstámogató rendszerek tovább fejlesztett változataiban már a mesterséges intelligencia eszközei is szerepet kapnak. Ehhez a körhöz tartoznak a </a:t>
            </a:r>
            <a:r>
              <a:rPr b="0" lang="hu-HU" sz="2600" spc="-1" strike="noStrike" u="sng">
                <a:solidFill>
                  <a:srgbClr val="000000"/>
                </a:solidFill>
                <a:uFillTx/>
                <a:latin typeface="Arial"/>
              </a:rPr>
              <a:t>szakértői rendszerek</a:t>
            </a:r>
            <a:r>
              <a:rPr b="0" lang="hu-H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Szakértői rendszerek tudásalapú rendszerek (KBS – Knowledge Based Systems), amelyek szakértői ismeretek felhasználásával magas szintű teljesítményt nyújtanak egy problémakör kezelésében.</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B648F8E-C256-415D-B8F7-C95CC01330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zakértői rendszerek</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tudásalapú rendszereknél a problématerületet leíró ismeretek explicit formában, a rendszer többi részétől elkülönítve, az ún. </a:t>
            </a:r>
            <a:r>
              <a:rPr b="1" lang="hu-HU" sz="3000" spc="-1" strike="noStrike">
                <a:solidFill>
                  <a:srgbClr val="000000"/>
                </a:solidFill>
                <a:latin typeface="Arial"/>
              </a:rPr>
              <a:t>tudásbázis</a:t>
            </a:r>
            <a:r>
              <a:rPr b="0" lang="hu-HU" sz="3000" spc="-1" strike="noStrike">
                <a:solidFill>
                  <a:srgbClr val="000000"/>
                </a:solidFill>
                <a:latin typeface="Arial"/>
              </a:rPr>
              <a:t>ban vannak tárolva.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nnek megfelelően egy szakértői rendszernek alapvetően három komponense van:</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elhasználói interfész,</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következtető gép és </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tudásbázis.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C56B6FA-F977-44AC-B2A5-7810A61748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zakértői rendszerek három komponense</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0" i="1" lang="hu-HU" sz="2600" spc="-1" strike="noStrike">
                <a:solidFill>
                  <a:srgbClr val="000000"/>
                </a:solidFill>
                <a:latin typeface="Arial"/>
              </a:rPr>
              <a:t>felhasználói interfész</a:t>
            </a:r>
            <a:r>
              <a:rPr b="0" lang="hu-HU" sz="2600" spc="-1" strike="noStrike">
                <a:solidFill>
                  <a:srgbClr val="000000"/>
                </a:solidFill>
                <a:latin typeface="Arial"/>
              </a:rPr>
              <a:t> definíciója a szokásos, általában valamilyen grafikus felüle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0" i="1" lang="hu-HU" sz="2600" spc="-1" strike="noStrike">
                <a:solidFill>
                  <a:srgbClr val="000000"/>
                </a:solidFill>
                <a:latin typeface="Arial"/>
              </a:rPr>
              <a:t>következtető gép</a:t>
            </a:r>
            <a:r>
              <a:rPr b="0" lang="hu-HU" sz="2600" spc="-1" strike="noStrike">
                <a:solidFill>
                  <a:srgbClr val="000000"/>
                </a:solidFill>
                <a:latin typeface="Arial"/>
              </a:rPr>
              <a:t> a rendszer azon komponense, amely a tudásbázist felhasználva többlépéses logikai következtetéseket képes végrehajtani.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Végül a </a:t>
            </a:r>
            <a:r>
              <a:rPr b="0" i="1" lang="hu-HU" sz="2600" spc="-1" strike="noStrike">
                <a:solidFill>
                  <a:srgbClr val="000000"/>
                </a:solidFill>
                <a:latin typeface="Arial"/>
              </a:rPr>
              <a:t>tudásbázis</a:t>
            </a:r>
            <a:r>
              <a:rPr b="0" lang="hu-HU" sz="2600" spc="-1" strike="noStrike">
                <a:solidFill>
                  <a:srgbClr val="000000"/>
                </a:solidFill>
                <a:latin typeface="Arial"/>
              </a:rPr>
              <a:t> tartalmazza a felhasználási területre vonatkozó tényeket, adatokat és ismert összefüggéseket, következtetéseket – ez utóbbiakat általában „ha, akkor” jellegű szabályok formájában.</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00E8CB4-C7B5-46CD-A552-3378FD56AE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Döntési folyamat</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106200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a:t>
            </a:r>
            <a:r>
              <a:rPr b="1" lang="hu-HU" sz="2100" spc="-1" strike="noStrike">
                <a:solidFill>
                  <a:srgbClr val="000000"/>
                </a:solidFill>
                <a:latin typeface="Arial"/>
              </a:rPr>
              <a:t>döntéshozatal</a:t>
            </a:r>
            <a:r>
              <a:rPr b="0" lang="hu-HU" sz="2100" spc="-1" strike="noStrike">
                <a:solidFill>
                  <a:srgbClr val="000000"/>
                </a:solidFill>
                <a:latin typeface="Arial"/>
              </a:rPr>
              <a:t> olyan folyamat, melynek során különböző előrevetített cselekvési alternatíva közül választunk bizonyos cél vagy célok elérése érdekében.</a:t>
            </a:r>
            <a:endParaRPr b="0" lang="en-US" sz="2100" spc="-1" strike="noStrike">
              <a:solidFill>
                <a:srgbClr val="000000"/>
              </a:solidFill>
              <a:latin typeface="Arial"/>
            </a:endParaRPr>
          </a:p>
        </p:txBody>
      </p:sp>
      <p:pic>
        <p:nvPicPr>
          <p:cNvPr id="165" name="" descr="2. ábra"/>
          <p:cNvPicPr/>
          <p:nvPr/>
        </p:nvPicPr>
        <p:blipFill>
          <a:blip r:embed="rId1"/>
          <a:stretch/>
        </p:blipFill>
        <p:spPr>
          <a:xfrm>
            <a:off x="1187280" y="2660760"/>
            <a:ext cx="6639120" cy="4012920"/>
          </a:xfrm>
          <a:prstGeom prst="rect">
            <a:avLst/>
          </a:prstGeom>
          <a:ln w="0">
            <a:noFill/>
          </a:ln>
        </p:spPr>
      </p:pic>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AB9F662-CE6A-4989-B312-FCBDC69D71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racionális döntéshozatalnak kötelező kritériumai vannak:</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1. Konzisztencia</a:t>
            </a:r>
            <a:br>
              <a:rPr sz="1700"/>
            </a:br>
            <a:r>
              <a:rPr b="0" lang="hu-HU" sz="1700" spc="-1" strike="noStrike">
                <a:solidFill>
                  <a:srgbClr val="000000"/>
                </a:solidFill>
                <a:latin typeface="Arial"/>
              </a:rPr>
              <a:t>Ha döntéshozatalkor kettő vagy több (megengedett) technikát használnak, a lehetséges eredményeknek, következményeknek hasonlóaknak vagy ugyanazoknak kell lenniük.</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2. Folytonosság</a:t>
            </a:r>
            <a:br>
              <a:rPr sz="1700"/>
            </a:br>
            <a:r>
              <a:rPr b="0" lang="hu-HU" sz="1700" spc="-1" strike="noStrike">
                <a:solidFill>
                  <a:srgbClr val="000000"/>
                </a:solidFill>
                <a:latin typeface="Arial"/>
              </a:rPr>
              <a:t>Ha valaki a módszertan alkalmazásával két, nagyon hasonló döntést hoz, akkor a döntések eredményeinek úgyszintén nagyon hasonlóknak kell lenni.</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3. Univerzalitás</a:t>
            </a:r>
            <a:br>
              <a:rPr sz="1700"/>
            </a:br>
            <a:r>
              <a:rPr b="0" lang="hu-HU" sz="1700" spc="-1" strike="noStrike">
                <a:solidFill>
                  <a:srgbClr val="000000"/>
                </a:solidFill>
                <a:latin typeface="Arial"/>
              </a:rPr>
              <a:t>A módszertannak általánosan alkalmazhatónak kell lenni üzleti és nem üzleti döntések egy széles körére és nem csak specifikusan a döntések egy osztályára.</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4. Egyértelműség</a:t>
            </a:r>
            <a:br>
              <a:rPr sz="1700"/>
            </a:br>
            <a:r>
              <a:rPr b="0" lang="hu-HU" sz="1700" spc="-1" strike="noStrike">
                <a:solidFill>
                  <a:srgbClr val="000000"/>
                </a:solidFill>
                <a:latin typeface="Arial"/>
              </a:rPr>
              <a:t>Csak egyértelmű és explicit információk alapján kapunk eredmény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5. Nincs visszatartott információ</a:t>
            </a:r>
            <a:br>
              <a:rPr sz="1700"/>
            </a:br>
            <a:r>
              <a:rPr b="0" lang="hu-HU" sz="1700" spc="-1" strike="noStrike">
                <a:solidFill>
                  <a:srgbClr val="000000"/>
                </a:solidFill>
                <a:latin typeface="Arial"/>
              </a:rPr>
              <a:t>Ha bizonyos információk vissza vannak tartva és csak később használhatók fel, akkor döntési javaslat menetközben lényegesen módosulhat.</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zeket a szigorú követelményeket nem mindig lehet betartani. Erre a kihívásra jelent meg a korlátozott racionalizmuson alapuló elmélet.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F81F31D-EBD0-4EF7-9ECD-0F40EDCC26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4920" y="404640"/>
            <a:ext cx="7543800" cy="85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330066"/>
                </a:solidFill>
                <a:latin typeface="Arial"/>
              </a:rPr>
              <a:t>A döntési folyamat feladat meghatározás és adatgyűjtés fázisa</a:t>
            </a:r>
            <a:endParaRPr b="1" lang="en-US" sz="32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probléma észlelése annak tudatosodása, hogy a meglevő és a kívánt állapot között eltérés van, s az ezzel való elégedetlenség ennek megszűntetésére sarkall.</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legfontosabb feladat a probléma azonosítása, az eltérések valódi okának, okainak kiderítése.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probléma azonosítása után a problémával kapcsolatos adatok begyűjtése következik.</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Nehézséget okozhat a problémával kapcsolatos adatok meghatározása, teljeskörűségének biztosítása.</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F31EF5D-C8AC-41B2-BF5B-A476B2DB5E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330066"/>
                </a:solidFill>
                <a:latin typeface="Arial"/>
              </a:rPr>
              <a:t>A döntési folyamat feladat meghatározás és adatgyűjtés fázisa</a:t>
            </a:r>
            <a:endParaRPr b="1" lang="en-US" sz="32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mennyiben lehetséges, a problémát részproblémákra bontjuk, mivel gyakran a részprobléma önállóan elemezve könnyebben megoldható.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probléma dekompozíciónak ez a módszere azonban csak körültekintéssel használható, szerencsétlen esetekben a rosszul felbontott részproblémák megoldása nem alkalmazható az eredeti feladatra.</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igazi probléma azonosításakor az sem mellékes, hogy megtudjuk, ki a probléma tulajdonosa, kinek a számára probléma a probléma. Ez leggyakrabban a szervezeti felépítéssel kapcsolatos, a rossz szintre adresszált problémával nem lehet mit kezdeni.</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129C246-E0BD-4395-91D4-D2CC809354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döntési folyamat tervezési fázisa</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nnek a fázisnak a feladata megtalálni, kifejleszteni és elemezni a lehetséges cselekvési alternatíváka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z a probléma mély megértését, a megoldásváltozatok kialakítását és tesztelését jelenti.</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hhez el kell vonatkoztatni a probléma felszíni jegyeitől és meg kell találni a mélyebben rejlő összefüggéseket, vagyis absztrakció segítségével szimbolikus formába kell önteni. Ezt hívjuk </a:t>
            </a:r>
            <a:r>
              <a:rPr b="1" lang="hu-HU" sz="2600" spc="-1" strike="noStrike">
                <a:solidFill>
                  <a:srgbClr val="000000"/>
                </a:solidFill>
                <a:latin typeface="Arial"/>
              </a:rPr>
              <a:t>modellezésnek</a:t>
            </a:r>
            <a:r>
              <a:rPr b="0" lang="hu-HU"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9B1107E-B50E-4FA9-993E-C6F14C3A8C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modellezés legfontosabb aspektusai</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lmélet alapok, </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truktúra </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komponensek </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kritériumrendszer </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lternatívagenerálás </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lőrejelzés </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mérés </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zcenáriókészítés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EB5D4FA-036D-42BE-A2E5-C003F5EB24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IS (Management Information Systems ) </a:t>
            </a:r>
            <a:endParaRPr b="1" lang="en-US" sz="3900" spc="-1" strike="noStrike">
              <a:solidFill>
                <a:srgbClr val="330066"/>
              </a:solidFill>
              <a:latin typeface="Arial"/>
            </a:endParaRPr>
          </a:p>
        </p:txBody>
      </p:sp>
      <p:pic>
        <p:nvPicPr>
          <p:cNvPr id="104" name="" descr=""/>
          <p:cNvPicPr/>
          <p:nvPr/>
        </p:nvPicPr>
        <p:blipFill>
          <a:blip r:embed="rId1"/>
          <a:stretch/>
        </p:blipFill>
        <p:spPr>
          <a:xfrm>
            <a:off x="2019240" y="1419120"/>
            <a:ext cx="5105520" cy="401976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02D6A302-81DA-422E-A55E-733CF751B9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Normatív modell </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a:t>
            </a:r>
            <a:r>
              <a:rPr b="1" lang="hu-HU" sz="1900" spc="-1" strike="noStrike">
                <a:solidFill>
                  <a:srgbClr val="000000"/>
                </a:solidFill>
                <a:latin typeface="Arial"/>
              </a:rPr>
              <a:t>normatív</a:t>
            </a:r>
            <a:r>
              <a:rPr b="0" lang="hu-HU" sz="1900" spc="-1" strike="noStrike">
                <a:solidFill>
                  <a:srgbClr val="000000"/>
                </a:solidFill>
                <a:latin typeface="Arial"/>
              </a:rPr>
              <a:t> modell esetén az optimális megoldás keresése a fő cél. Ennek a modelltípusnak három fő változata van:</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hatékonyabb változat keresése fix ráfordítások mellett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alacsonyabb költségű változat keresése a megadott hatékonyság mellett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magasabb produktivitás keresése, azaz a célok elérése és a ráfordítások aránya optimális </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normatív modellek létrehozása az alábbi </a:t>
            </a:r>
            <a:r>
              <a:rPr b="1" lang="hu-HU" sz="1900" spc="-1" strike="noStrike">
                <a:solidFill>
                  <a:srgbClr val="000000"/>
                </a:solidFill>
                <a:latin typeface="Arial"/>
              </a:rPr>
              <a:t>feltételrendszer</a:t>
            </a:r>
            <a:r>
              <a:rPr b="0" lang="hu-HU" sz="1900" spc="-1" strike="noStrike">
                <a:solidFill>
                  <a:srgbClr val="000000"/>
                </a:solidFill>
                <a:latin typeface="Arial"/>
              </a:rPr>
              <a:t> meglététől függ: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emberek gazdasági alanyok, kiknek célja az elérhető célokból származó hasznosság maximalizálása. A döntéshozó mindig racionális.</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gy adott döntési szituációban mind a lehetséges alternatívák, mind a hozzájuk rendelhető akciók és következmények ismertek, de legalább az előfordulási valószínűségeik adottak.</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döntéshozónak világos preferencia-sorrendje van, ami lehetővé teszi számára a kívánatos kimenetelek rangsorolását.</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3A113EC-23BB-4B59-B9BF-2B4939C45B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Leíró modellek </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a:t>
            </a:r>
            <a:r>
              <a:rPr b="1" lang="hu-HU" sz="2100" spc="-1" strike="noStrike">
                <a:solidFill>
                  <a:srgbClr val="000000"/>
                </a:solidFill>
                <a:latin typeface="Arial"/>
              </a:rPr>
              <a:t>leíró</a:t>
            </a:r>
            <a:r>
              <a:rPr b="0" lang="hu-HU" sz="2100" spc="-1" strike="noStrike">
                <a:solidFill>
                  <a:srgbClr val="000000"/>
                </a:solidFill>
                <a:latin typeface="Arial"/>
              </a:rPr>
              <a:t> modellek esetében nem az összes alternatíva következményeit, hanem azoknak csak egy részhalmazát tekintjük á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zen adott alternatívák közül a legjobb nem feltétlenül azonos az optimálissal, de lehetséges, hogy nem is annak a megkeresése a cél. Gyakran elégséges lehet egy elfogadható megtalálása is.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döntésekhez szükséges alternatívák generálása viszonylag hosszú folyamat, amely keresést és kreativitást igényel. Fontos kérdés, hogy a keresést, mikor kell abbahagyni.</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DSS-ekben a keresések leállítása általában manuálisan történik, az ES-ekbe automatikusan be van építve egy megfelelő leállási kritérium.</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alternatívák kimeneteleinek értékelése függ a modelltől és az adatoktól.</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AE11EF1-E31B-424A-8477-0D4F629ABF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döntéshozatal választási fázisa</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választás fázisa a keresésből, kiértékelésből és megoldás kiválasztásából áll. A keresési szakaszra számos technika létezik.</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nalitikus technikák: matematikai eszköztár, optimális megoldás, strukturált problémák</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lgoritmusok: lépésről lépésre történő keresési módszer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kívánt eredményállapot elérése a cél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hetséges lépések a kiinduló állapotból a célállapotba (keresési út) </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keresés lehet úgynevezett vak keresés, ez nagy problémák esetén alkalmatlan, és beszélhetünk heurisztikus keresésről, ami lényegesen olcsóbb és gyorsabb mint az előző.</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keresés iránya is fontos, ebből a szempontból beszélhetünk:</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cél-orientált, ami az alapadatokból kiindulva a lehetséges végállapotokat kutatja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dat-orientált, ami a végállapotból indul ki és a hozzá szükséges előfeltételek keresi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kombinált, ami a keveréke az előző kettőnek.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B93A105-2D99-426C-A989-7DA03550BF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ilyen rendszerek támogatják a döntéshozatal egyes fázisait</a:t>
            </a: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datgyűjtési fázist</a:t>
            </a:r>
            <a:r>
              <a:rPr b="0" lang="hu-HU" sz="2100" spc="-1" strike="noStrike">
                <a:solidFill>
                  <a:srgbClr val="000000"/>
                </a:solidFill>
                <a:latin typeface="Arial"/>
              </a:rPr>
              <a:t>, az adatbázis kezelés, riport generálás, adatfeldolgozás tevékenységeken keresztül a MIS, EDP, EIS, ES, DSS rendszerek támogathatják.</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Tervezési fázist</a:t>
            </a:r>
            <a:r>
              <a:rPr b="0" lang="hu-HU" sz="2100" spc="-1" strike="noStrike">
                <a:solidFill>
                  <a:srgbClr val="000000"/>
                </a:solidFill>
                <a:latin typeface="Arial"/>
              </a:rPr>
              <a:t> az alternatíva generálás, előrejelzés készítés folyamatokon keresztül a DSS, ES rendszerek támogathatják</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Választási fázist</a:t>
            </a:r>
            <a:r>
              <a:rPr b="0" lang="hu-HU" sz="2100" spc="-1" strike="noStrike">
                <a:solidFill>
                  <a:srgbClr val="000000"/>
                </a:solidFill>
                <a:latin typeface="Arial"/>
              </a:rPr>
              <a:t> a lehetséges megoldások felismerése, érzékenységvizsgálat folyamatokon keresztül DSS (nem dönt, csak ajánl változatokat) ES (dönt és indokol is) rendszerek támogathatják.</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Megvalósítási fázist</a:t>
            </a:r>
            <a:r>
              <a:rPr b="0" lang="hu-HU" sz="2100" spc="-1" strike="noStrike">
                <a:solidFill>
                  <a:srgbClr val="000000"/>
                </a:solidFill>
                <a:latin typeface="Arial"/>
              </a:rPr>
              <a:t> ami, alátámasztja a döntést, segít a kommunikációban, magyarázatban, igazolásban a DSS, ES rendszerek támogatják.</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E28CA01-959C-4A4E-822F-947F0B3D5D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DSS alrendszerei</a:t>
            </a:r>
            <a:endParaRPr b="1" lang="en-US" sz="3900" spc="-1" strike="noStrike">
              <a:solidFill>
                <a:srgbClr val="330066"/>
              </a:solidFill>
              <a:latin typeface="Arial"/>
            </a:endParaRPr>
          </a:p>
        </p:txBody>
      </p:sp>
      <p:pic>
        <p:nvPicPr>
          <p:cNvPr id="185" name="" descr="6. ábra"/>
          <p:cNvPicPr/>
          <p:nvPr/>
        </p:nvPicPr>
        <p:blipFill>
          <a:blip r:embed="rId1"/>
          <a:stretch/>
        </p:blipFill>
        <p:spPr>
          <a:xfrm>
            <a:off x="826920" y="1341360"/>
            <a:ext cx="7201080" cy="459900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1A8C3575-D8D2-4DCE-AAA2-7F06A8BE7C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Adatmenedzsment</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Adatkezelő alrendszer részei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DSS adatbázi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datbáziskezelő rendszer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datszótár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Lekérdezés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B1ED5AA-CA66-4343-AEDF-30BA392664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Modell menedzsment</a:t>
            </a:r>
            <a:endParaRPr b="1" lang="en-US" sz="39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Modellkezelő alrendszer </a:t>
            </a:r>
            <a:r>
              <a:rPr b="0" lang="hu-HU" sz="3000" spc="-1" strike="noStrike">
                <a:solidFill>
                  <a:srgbClr val="000000"/>
                </a:solidFill>
                <a:latin typeface="Arial"/>
              </a:rPr>
              <a:t>része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Modellbázi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Modellbáziskezelő rendszer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Modell szótár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Modell végrehajtás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D8BDBC8-DAFF-45C2-AEDC-F6DF634AA5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odell kezelő alrendszer részei</a:t>
            </a:r>
            <a:endParaRPr b="1" lang="en-US" sz="3900" spc="-1" strike="noStrike">
              <a:solidFill>
                <a:srgbClr val="330066"/>
              </a:solidFill>
              <a:latin typeface="Arial"/>
            </a:endParaRPr>
          </a:p>
        </p:txBody>
      </p:sp>
      <p:pic>
        <p:nvPicPr>
          <p:cNvPr id="191" name="" descr="8. ábra"/>
          <p:cNvPicPr/>
          <p:nvPr/>
        </p:nvPicPr>
        <p:blipFill>
          <a:blip r:embed="rId1"/>
          <a:stretch/>
        </p:blipFill>
        <p:spPr>
          <a:xfrm>
            <a:off x="1116000" y="1557360"/>
            <a:ext cx="6840720" cy="413856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DA940534-151A-4087-9CB3-3CA9F8F14F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Döntéstámogatás</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lőnyei</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hatékonyabb döntéshozatal (minőség) </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költségcsökkentés </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 döntéshozók közötti jobb kommunikáció </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 vezetők (döntéshozók) reakcióképességének növekedése. </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leggyakrabban előforduló hibákat a következőkben foglaljuk össze:</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túlhangsúlyozzák a döntéstámogató rendszer szerepét </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feltételezik az adatok pontosságát és fontosságát </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hamis illúziót keltenek az objektivitás túlhangsúlyozásával</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A36C72F-C07F-453A-B279-52F765CCFB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Üzleti intelligencia</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z Üzleti intelligencia megoldások (BI: Business Intelligence) körébe olyan alkalmazások és technológiák tartoznak, melyek célja, hogy a szükséges adatokhoz való hozzáférés biztosításával, ezen adatok megfelelő tárolásával, valamint sokoldalú elemzési lehetőségekkel támogassák a vállalati döntéshozatal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z Üzleti intelligencia megoldások magukban foglalják tehát az adattárolási, a valós idejű lekérdezési, analitikai, előrejelzési és adatbányászati eljárások modern formáit.</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EA9D3DD-6CAC-4DB9-B2E1-37084D56BE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IS</a:t>
            </a:r>
            <a:endParaRPr b="1" lang="en-US" sz="3900" spc="-1" strike="noStrike">
              <a:solidFill>
                <a:srgbClr val="330066"/>
              </a:solidFill>
              <a:latin typeface="Arial"/>
            </a:endParaRPr>
          </a:p>
        </p:txBody>
      </p:sp>
      <p:sp>
        <p:nvSpPr>
          <p:cNvPr id="1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 Vezetői Információs Rendszerek (VIR) a szervezeti, menedzsment és stratégiai tevékenységeket támogatják információ ellátással és információ feldolgozással.</a:t>
            </a:r>
            <a:r>
              <a:rPr b="0" lang="hu-HU"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zek a rendszerek egyidejűleg használnak információ technológiát és modelleket analízisre, tervezésre és döntéshozatalra, valamint nagymértékben támaszkodnak adatbázisokra.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VIR alkalmazások portfoliója igen széles, ebbe beletartoznak a vezetői tevékenységet közvetett módon támogató, és a vezetőket közvetlenül kiszolgáló alkalmazások is. Mivel a vezetői alkalmazások gyakran igényelnek adatokat, s ezeket legjobban az adatbáziskezelők tudják biztosítani, így az adatbáziskezelő rendszerek gyakran képezik részét a VIR-nek.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BD9FFE8-B00D-4990-9A2E-B1960BF611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Fontos fogalmak</a:t>
            </a: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Vezetői információs rendszerek fogalm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OLAP alkalmazáso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dattárház fogalm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datbányász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Vezetői döntéstámogatá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Döntéstámogató rendszerek</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zakértői rendszerek</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Üzleti intelligencia rendszerek</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5A09498-D1B3-4C5D-A2AD-0F910D96F8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Köszönöm a figyelmet!</a:t>
            </a:r>
            <a:endParaRPr b="1" lang="en-US" sz="4800" spc="-1" strike="noStrike">
              <a:solidFill>
                <a:srgbClr val="330066"/>
              </a:solidFill>
              <a:latin typeface="Arial"/>
            </a:endParaRPr>
          </a:p>
        </p:txBody>
      </p:sp>
      <p:sp>
        <p:nvSpPr>
          <p:cNvPr id="199"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2EE0ACA8-EC02-44CF-A04E-10463EB98454}"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IR struktúrája</a:t>
            </a:r>
            <a:endParaRPr b="1" lang="en-US" sz="3900" spc="-1" strike="noStrike">
              <a:solidFill>
                <a:srgbClr val="330066"/>
              </a:solidFill>
              <a:latin typeface="Arial"/>
            </a:endParaRPr>
          </a:p>
        </p:txBody>
      </p:sp>
      <p:sp>
        <p:nvSpPr>
          <p:cNvPr id="1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gy VIR struktúrája mindig a szervezet struktúráján és tevékenységein alapu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szervezetek funkcionális területekre vannak osztva (gyártás, marketing, könyvelés, pénzügy, stb.). Minden egyes területen belül a vezetői tevékenységek három szinten jelentkeznek: </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űködés ellenőrzés, </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enedzsment ellenőrzés és </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tratégiai tervezés.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511EEDB-F38E-4D98-9D47-1412CAA254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IR struktúrája</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Mindegyik funkcionális területhez tartoznak alkalmazások.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VIR </a:t>
            </a:r>
            <a:r>
              <a:rPr b="0" lang="hu-HU" sz="2400" spc="-1" strike="noStrike" u="sng">
                <a:solidFill>
                  <a:srgbClr val="000000"/>
                </a:solidFill>
                <a:uFillTx/>
                <a:latin typeface="Arial"/>
              </a:rPr>
              <a:t>alrendszerei</a:t>
            </a:r>
            <a:r>
              <a:rPr b="0" lang="hu-HU" sz="2400" spc="-1" strike="noStrike">
                <a:solidFill>
                  <a:srgbClr val="000000"/>
                </a:solidFill>
                <a:latin typeface="Arial"/>
              </a:rPr>
              <a:t> ezeknek az alkalmazásoknak a halmaza.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Egy szervezet VIR-je ezek után a funkcionális területeknek megfelelő alrendszerek federációjának tekinthető.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Ezen alrendszerek mindegyike négy fő részre osztható: </a:t>
            </a:r>
            <a:endParaRPr b="0" lang="en-US" sz="24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ranzakciófeldolgozás, </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űködésellenőrzés, </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enedzsmentellenőrzés és </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tratégiai tervezés.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879FE49-82F4-4C2D-B087-AF1F654E8D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ezetői tevékenységek: működésellenőrzés</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u="sng">
                <a:solidFill>
                  <a:srgbClr val="000000"/>
                </a:solidFill>
                <a:uFillTx/>
                <a:latin typeface="Arial"/>
              </a:rPr>
              <a:t>A működésellenőrzés</a:t>
            </a:r>
            <a:r>
              <a:rPr b="0" lang="hu-HU" sz="2100" spc="-1" strike="noStrike">
                <a:solidFill>
                  <a:srgbClr val="000000"/>
                </a:solidFill>
                <a:latin typeface="Arial"/>
              </a:rPr>
              <a:t> a működési tevékenységek hatékony és hatásos lefolyását biztosító folyama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működés ellenőrzés stabil, előre jól meghatározott eljárásokon és döntési szabályokon alapul.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döntések és a tevékenységek rövid időtávot fednek l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működés ellenőrzést támogató információs rendszer tranzakció feldolgozásból, működési jelentések feldolgozásából és kérdésfeldolgozásból áll.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gy ilyen rendszerre példa: ha a raktárból kivételezésre kerül termék, a rendszer nemcsak rögzíti a tranzakciót és legyártja a megfelelő dokumentumokat, hanem előre beállított algoritmusok felhasználásával megnézi, hogy kell-e beszerzési rendelést generálni a raktár feltöltésére.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ABC5474-A16C-4B71-9B2D-3F293F6510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ezetői tevékenységek: menedzsmentellenőrzé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u="sng">
                <a:solidFill>
                  <a:srgbClr val="000000"/>
                </a:solidFill>
                <a:uFillTx/>
                <a:latin typeface="Arial"/>
              </a:rPr>
              <a:t>A menedzsmentellenőrzési</a:t>
            </a:r>
            <a:r>
              <a:rPr b="0" lang="hu-HU" sz="3000" spc="-1" strike="noStrike">
                <a:solidFill>
                  <a:srgbClr val="000000"/>
                </a:solidFill>
                <a:latin typeface="Arial"/>
              </a:rPr>
              <a:t> folyamatban az osztályok, profit centrumok, stb. vezetőinek van szüksége az információra, a teljesítmények mérésére, a beavatkozások meghatározására, új döntési szabályok megfogalmazására, erőforrások allokálásár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3000" spc="-1" strike="noStrike">
                <a:solidFill>
                  <a:srgbClr val="000000"/>
                </a:solidFill>
                <a:latin typeface="Arial"/>
              </a:rPr>
              <a:t>A menedzsmentellenőrzés szintű információra példa: egy teljesítményjelentés a tervezett és tényleges teljesítményről, az eltérés okaira vonatkozó elemzéssel.</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574EB49-3EE9-4178-A649-93B70A29F4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ózsa Tünde</cp:lastModifiedBy>
  <dcterms:modified xsi:type="dcterms:W3CDTF">2007-09-27T12:44:54Z</dcterms:modified>
  <cp:revision>106</cp:revision>
  <dc:subject/>
  <dc:title>PowerPoint bemutató</dc:title>
</cp:coreProperties>
</file>