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33ED-838D-4C6B-86AA-EE2CF3EB5E20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ÍMDIA: logó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utóláb: hefop, témakör, diaszá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akran olyan hallgatóságnak kell szakmai előadást tartani, amely nem ismeri a témát vagy a szakszavakat. Az anyag esetleg összetett és rengeteg adatot tartalmaz. A hatékony előadáshoz alkalmazzuk a Dale Carnegie Training® által kialakított irányelve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együk figyelembe a rendelkezésre álló időt és rendszerezzük megfelelően a tananyagot. Szűkítsük le a témakört. Osszuk fel a bemutatót világosan elkülönített részekre. Állítsunk fel logikus sorrendet. Végig egy témára összpontosítsunk. A bemutatót összefoglalással zárjuk, ismételjük meg a fontos lépéseket vagy vonjunk le következteté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feledkezzünk el a hallgatóságról. Fontos például, hogy az adatok érthetőek és lényegesek legyenek a téma szempontjából. Az adatok és a szakszavak mennyiségét igazítsuk a hallgatósághoz. A fontosabb pontok és lépések magyarázatához használjunk szemléltetőeszközöket. Mindig tartsuk szem előtt a hallgatóság igényeit, és akkor képesebbek lesznek az elhangzottak befogadásá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697-B21A-4605-9202-5C16BBB0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DE2-A64A-4FDB-89A0-6B598878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3DC-F08D-4546-8E4F-63D2C917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B43-7F8B-4F10-9D69-35FAC238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8A0B-E4C7-46E6-A2BD-4843D81B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BCD8-2F28-484D-A58E-E9E96B7E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8CE4-4639-48AE-AB16-1F4A756D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EB38-7A2D-4856-B912-3EEAB053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148A-29F8-4A2B-9C8A-82D5574C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27192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7A56-9D8C-464E-8247-CF331A8D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E2DD-3DB0-4250-95AD-7596F59D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5C8-30BD-4CF1-97F4-E4729DC4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CF87-1350-4A0B-84DE-D480781D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DC8B-DA29-4196-8CDB-E3055A0F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B99F-CD83-4C27-AB9C-01EFAB48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6D23-128D-48B3-861D-D85DEADF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59FC-6B84-4CA2-A923-667A7554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5A7-5893-47E4-AA3A-97CBFB60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B4D-2E7F-443B-8F7F-118B1356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17A-044B-4C9F-9651-93DBDB8B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27192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854-9556-4C57-A98D-CDDF7B31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B57-72B5-4292-A90A-8A387F2A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610-5C79-42FF-BAC0-1100713C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DD8-D3C9-4D9D-9828-741EDE0C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79B1-D754-49F9-ADEC-C03DB24ACFE6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6025-FEEC-4D6A-9745-E131B3AE738F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03280" cy="71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A46B-321E-443C-BF8B-8EA269DFE01E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916000" y="6248520"/>
            <a:ext cx="310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ff0000"/>
                </a:solidFill>
                <a:latin typeface="Arial"/>
              </a:rPr>
              <a:t>A projekt az Európai Unió társfinanszírozásával, az Európa terv keretében valósul me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F7A4-EE9B-43D1-A52D-BB789F28259D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219564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1197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r. Szenteleki Kár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ózsa Tü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E AVK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IR alrendszere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Piaci Információs Rendszer két alrendszerre bontható, egyrészt 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Piaci Árinformációs Rendszer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(PÁIR) amely – nevéből is következtethetően – elsősorban az árakat gyűjti, csoportosítja és bocsátja a felhasználók rendelkezésér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ásrészt a </a:t>
            </a: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Piaci Operatív Információs Rendszer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(POIR) amely mindazokat az információkat gyűjti és rendszerezi, amelyek az árakon kívül esnek, jobbára mennyiségiek, és jellemzik a piaci folyamatok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7C1-50BE-4480-938E-A8A108663D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AI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900" spc="-1" strike="noStrike">
                <a:solidFill>
                  <a:srgbClr val="000000"/>
                </a:solidFill>
                <a:latin typeface="Arial"/>
              </a:rPr>
              <a:t>A Piaci Árinformációs Rendszer általában azoktól a piaci szereplőktől gyűjti az információkat, amelyeknél a termékpálya „leszűkül”.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Ezek általában a felvásárló, illetve feldolgozó szervezetek. Természetesen egészen más a helyzet a fogyasztói, vagy nagybani piacokon értékesített termékek – elsősorban a zöldség és gyümölcsfélék – esetében, ahol az adatgyűjtés helye maga a pia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z adatgyűjtés a következő kérdéskörökre terjed k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700" spc="-1" strike="noStrike">
                <a:solidFill>
                  <a:srgbClr val="000000"/>
                </a:solidFill>
                <a:latin typeface="Arial"/>
              </a:rPr>
              <a:t>Mezőgazdasági termékek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(alapanyagok) </a:t>
            </a:r>
            <a:r>
              <a:rPr b="1" i="1" lang="hu-HU" sz="1700" spc="-1" strike="noStrike">
                <a:solidFill>
                  <a:srgbClr val="000000"/>
                </a:solidFill>
                <a:latin typeface="Arial"/>
              </a:rPr>
              <a:t>árai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minőség szerint kategorizálva, terméktől függően napi, heti, havi rendszerességge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700" spc="-1" strike="noStrike">
                <a:solidFill>
                  <a:srgbClr val="000000"/>
                </a:solidFill>
                <a:latin typeface="Arial"/>
              </a:rPr>
              <a:t>A felvásárolt mezőgazdasági termékek mennyisége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minőség szerint kategorizálva, terméktől függően napi, heti, havi rendszerességge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700" spc="-1" strike="noStrike">
                <a:solidFill>
                  <a:srgbClr val="000000"/>
                </a:solidFill>
                <a:latin typeface="Arial"/>
              </a:rPr>
              <a:t>Feldolgozott (alap)élelmiszerek termelői ára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700" spc="-1" strike="noStrike">
                <a:solidFill>
                  <a:srgbClr val="000000"/>
                </a:solidFill>
                <a:latin typeface="Arial"/>
              </a:rPr>
              <a:t>Feldolgozott (alap)élelmiszerek fogyasztói árai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700" spc="-1" strike="noStrike">
                <a:solidFill>
                  <a:srgbClr val="000000"/>
                </a:solidFill>
                <a:latin typeface="Arial"/>
              </a:rPr>
              <a:t>Verbális információk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a főbb piaci folyamatokró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99E-FF28-4638-B676-CF90AF0CB2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agyarországi PAIR adatgyűjté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étkezési búza, durumbúza, takarmánybúza, takarmányárpa, tavaszi árpa, takarmány kukorica, zab, rozs, rizs, stb. esetében termelői árakat gyűjtenek, a malmokból, illetve a kereskedőktő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húsok esetén (vágósertés, vágómarha, előbárány, baromfi, stb) termelői és értékesítési árakat gyűjtenek nagyrészt a vágóhidaktól, kereskedőktő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tojásról értékesítési árat gyűjtenek a nagytermelőktő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tehéntejről és a főbb tej termékekről a gyűjtött adatok a termelői árak, átlagár, zsírtartalom, fehérjetartalomra terjednek ki. Fő adatszolgáltatók a feldolgozó üzeme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Zöldség gyümölcs esetén a fogyasztói árakat gyűjtik. Az adatgyűjtés helye a nagybani piacok, a fogyasztói piacok és az üzletlánco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64E-B9D5-4B3E-BA18-5EB84C6043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esztüzemi ren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politikai kezdeményezések és döntések megalapozásához az Európai Unió Bizottságának szüksége van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nformációkra az üzemek jövedelmi szintjéről, valami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lemzésekre a politikai döntések lehetséges hatásairó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Bizottság ezen funkciók ellátásához hozta létre a Mezőgazdasági Számviteli Információs Hálózatot – angolul: Farm Accountancy Data Network /FADN/ -, amely egy minden EU tagállamra kiterjedő reprezentatív adatgyűjtési rendsz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z évente biztosít adatokat a Bizottság számár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3F5-A4C4-4C84-B92C-ECE91A4988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esztüzemi ren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agyarországi bázisintézmény az AK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sztüzemek – vagyis információszolgáltatásra önkéntes alapon kiválasztott üzemek – adatainak gyűjtése és elemzése az alábbi területekre terjed ki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z üzemek méretében és a tulajdoni viszonyokban bekövetkező változások (életképes gazdaságméret, a földtulajdon és a földhasználat kérdései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termelés anyagi műszaki feltételeinek változása (a beruházások alakulása, a termelőkapacitások cseréje, korszerűsítése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termelés és a termelési szerkezet alakulása (a termelés racionális mértékű növelése: a természeti adottságok jobb kihasználását, az üzemi jövedelmek növelését eredményező termelésszerkezeti változások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foglalkoztatottság, a munkatermelékenység, a mezőgazdasági jövedelmek alakulása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termékek a termelési folyamatok hazai és nemzetközi versenyképességének alakulása, a mezőgazdasági termékek előállításához felhasznált naturális ráfordítások, valamint a termelés költségének és jövedelmezőségének bemutatásával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z agrártámogatások hatása a versenyképességre és a jövedelmezőség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B73-FBC0-494C-9EEB-1C8EC83F18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Integrált Igazgatási és Ellenőrző Ren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Integrált Igazgatási és Ellenőrző Rendszer /Integrated Administrative and Controll System/, – a továbbiakban Integrált Rendszer – az EU primer információs rendszerének negyedik ele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izárólagosan a Közös Agrárpolitika /CAP/ egyik meghatározó elemének, a kompenzációs /vagy direkt/ támogatásoknak az odaítélését, illetve az odaítélés jogosságának ellenőrzését szolgál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15D-9F2C-4C28-81F2-12788CEF23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0066"/>
                </a:solidFill>
                <a:latin typeface="Arial"/>
              </a:rPr>
              <a:t>Az IIER által kezelt legfontosabb támogatási elemek a következők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zántóföld-hasznosítási támogatás, a gabona-, olaj-, fehérje-, rostnövényekre vonatkozóan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peciális marhatartási prémium, a hústermelés céljára hasznosított hímivarú szarvasmarhák után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xtenzív állattartást folytató termelők számára kialakított szezonalítást csökkentő prémium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Borjastehén prémium, ami a nem intenzív tejhasznosítású fajtákhoz tartozó tehenek után já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vágóhídra leadott, vagy az EU területén kívülre exportált szarvasmarhák után járó vágási prémium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külterjes állattartást ösztönző extenzifikációs támogatá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juhok és kecskék vonatkozásában az anyaállatokhoz kapcsolódó prémium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termelési szerkezet korszerűsítését szolgáló úgynevezett kiegészítő támogatá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988-2662-4155-9F57-B7D65552A4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ezőgazdasági Számlák Rendsze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Mezőgazdasági Számlák Rendszerét /Economic Accounts for Agriculture = EAA/ a Nemzeti Számlák Rendszeréhez kapcsolódva – e rendszer úgynevezett szatelit számláiként – az EU agrárpolitikai információ igényeihez igazodva alkották me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MSZR a mezőgazdasági termelést, annak felhasználását, a termelés ráfordításait és a jövedelemalakulást összefüggő rendszerben írja l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Üzemeltetője: K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2E4-928C-4CDE-A9B1-EEC93467AA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További szakigazgatási információs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állategészségügy: Állategészségügyi Információs Rendszer (ÁSZIR)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élelmiszerbiztonság: Élelmiszer-vizsgálati Információs Rendszer (ÉVIR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növény-, talaj és agrár-környezetvédelem: Növényvédelmi Információs Rendszer (NIR), Növényegészségügyi Információs Rendszer (PHYSAN), Agrárkörnyezet-gazdálkodási Információs Rendszer (AIR), Talajvédelmi Információs és Monitoring Rendszer (TIM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borászat: Borminőségi Vizsgálati Nyilvántartó Rendszer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növénytermesztés és kertészet; Vetőmag Termesztési Adatbázis (VIGO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állattenyésztés: Tenyésztési Információs Rendszer (TIR), Egységes Nyilvántartási és Azonosítási Rendszer (ENAR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vadászat: Országos Vadgazdálkodási Adattár (OVA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halászat: Országos Halászati Adattár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erdészet: Országos Erdőállomány Adattá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2C3-2E7C-4B3C-9A44-46B131AB54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900" spc="-1" strike="noStrike">
                <a:solidFill>
                  <a:srgbClr val="330066"/>
                </a:solidFill>
                <a:latin typeface="Arial"/>
              </a:rPr>
              <a:t>Területfejlesztés intézmény- és információs rendsze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Európai Unió területfejlesztési rendszerek öt szintjét különbözteti meg :NUTS 1 – országszint, NUTS 2 - regionális szint, NUTS 3 - megyei szint, NUTS 4 - kistérségi szint, NUTS 5 - települési szin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területfejlesztésről az 1996-os XXI. törvény rendelkezik. Összhangban van az Európai Unió által képviselt trendekkel, alulról építkezve határozza meg a területfejlesztés intézményrendszeré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4B9-4884-40BC-9FF7-4C8849B209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grár- szakigazgatási információs rendszerek az Európai Unióban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5DAD-032D-475B-8181-D7664184C5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özigazgatási ügyfél-tájékoztató rendszer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rendszer a teljes magyar joganyag felülvizsgálatával kialakított hatásköri rendszerre épül, ez feladatkörökbe szervezve kétszintű kulcsszó-rendszerrel tartalmazza az önkormányzatok és dekoncentrált szervezetek hatásköreit, havi követéssel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Megjelöli az I. II. fokon, illetve felülvizsgálati ágban eljáró szervezeteket, szétválasztja az államigazgatási (hatósági) feladatköröket az önkormányzatiaktól, lehetőséget biztosít átruházott hatáskörök esetén az eredeti és aktuális jogosított megkülönböztetésér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Tartalmazza a hatáskör szövegét és az ezt előíró vagy lehetővé tevő jogszabály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A hatáskörök szervezeti egységekhez, bizottságokhoz kapcsolhatók, támogatva ezzel a szervezeti Működési Szabályzat naprakész vezetésé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Ugyancsak lehetőség van a hatáskörök személyhez kötésére, amely biztosítja, a munkaköri leírások, ügyfél-tájékoztatás hatékony megoldását. A kötelező hatáskörök mellett önként vállalt feladatok kezelésére is alkalma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8C8-F737-45F6-92EA-AFD5C7E839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Ügymenet modellek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Tudásbázis jelleggel magába foglalja a közigazgatási eljárások teljes ügyintézési folyamatának leírásá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Ez alapját képezi az EU-ban is követendőnek tartott WORK FLOW alapú fejlesztésnek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kistelepülések számára, ahol nehezen biztosítható minden területen magasan képzett szakmai háttér, lehetőséget biztosít a jogszerű, gyors, pontos, olcsó, polgárbarát ügyintézés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nagytelepüléseken a munkaszervezést teszi könnyebbé, segítve a nagyszámú ügyintézési folyamatot. A tájékoztató funkción túl a hivatal zárt rendszerében a tájékoztató formanyomtatványokat beviteli képernyőként kezelve alapjául szolgál egy tudás alapú rendszer kialakításának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rendszer tartalmazza továbbá a folyamatok lezárásául szolgáló határozat- és ügyiratminták részletes leírását, valamint a döntést befolyásoló Alkotmánybírósági, Legfelsőbb Bírósági határozatokat, ugyancsak tartalmaz információkat az elérhető szakirodalomról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 rendszerfejlesztés célja első fázisban korszerű tájékoztatás és szakszerű ügyintézés segítése. Második fázisban a hivatalban működő WORK FLOW alapú tudásbázisú ügyintézői rendszer kifejlesztése. Harmadik fázisban az elektronikus aláírás EU szabványjogi megvalósítását követően a nap 24 órájában működő elektronikus ügyintézés megvalósítása, ahol az eljárás indítása az ügyfelek (állampolgárok, szervezetek) otthonukból, telephelyeikről kezdeményezhetik elektronikusan ügyeik intézését. Természetesen ehhez szükséges az Államigazgatási Eljárás elektronikus hitelesítése i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55C-0F0D-4A3F-B16D-928E9AE2CE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eP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MePAR az EU területalapú támogatások igénybevételéhez szükséges új, korszerű, kizárólagos térképi, területi hivatkozási alap és azonosító rendsz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izárólagos abban az értelemben, hogy a földterülethez kapcsolódó részben vagy egészben európai uniós támogatások igénylése során csak ennek az azonosítási rendszernek az adatait lehet használn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BB9-DC62-4DC7-88FF-CC354A893D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MeP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áttekintő blokktérképen az alábbi adatokat tüntetik fel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gyedi blokkazonosító (8-jegyű betű és szám kombináció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támogatható terület (T) vagy a blokk összterülete (Ö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ha). A blokk összterületét a nem támogatható területekkel (pl: erdő, beépített terület, táblaszegély) csökkentettük, ez adja a támogatható területet, vagyis azt a területet, amelyre támogatásigénylés benyújtható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elepülések határ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zikai blokkok határa 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ltérő művelésű vagy nem támogatható területek határa. Ez segítség a blokkon belüli különböző mezőgazdasági művelés meghatározásához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97E-F5E7-4CF3-A869-AAD7D8154D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271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0066"/>
                </a:solidFill>
                <a:latin typeface="Arial"/>
              </a:rPr>
              <a:t>Köszönöm a figyelme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6A0D-D5D6-4808-8BAE-7CCFC8CBF4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z óra tematiká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grárstatisz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iaci Információs rendsz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esztüzemi rendsz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ntegrált Igazgatási és Ellenőrzési rendsz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zigazgatási rendszer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eP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23E-94C6-4217-98C9-DD918D923C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CAP-Közös Agrárpoli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EU információs rendszerei szerteágazóak, de lényegében két markáns csoportba sorolhatók. Ezek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primer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, vagy elsődleges információs rendszerek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alamint a másodlagos, vagy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szekunder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információs rendszere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5B4-21B2-4B0A-ABFC-BD5CAC474E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nformációs rendszere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mer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információs rendszerek az EU nagy adatgyűjtő és feldolgozó struktúrái. Lényegében ezekre épül az Unió agrárinformációs rendszere. Négy meghatározó eleme a következő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grárstatisztika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amely az EUROSTAT által koordinálva szerteágazó területeken nyújt statisztikai jellegű információkat az Unión belüli folyamatokról, a főbb tendenciákról. A szerteágazóságra példa, hogy a térinformatika és a távérzékelésen alapuló szántóföldi monitoring is az EUROSTAT Compendiumában szereplő modu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iaci Információs Rendszer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amely szolgálja egyrészt a termelők tájékoztatását a főbb piaci folyamatokról, de fontos feladata a brüsszeli apparátus információs igényeinek a kielégítése i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ADN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/Farm Accountancy Data Network/ az EU egyik legfontosabb információs rendszere. Magyarországon a németországi gyakorlatnak megfelelően 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esztüzemi Rendszer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elnevezés a leginkább elterjedt. Feladata a gazdaságok pénzügyi folyamatainak, jövedelemhelyzetének nyomon követé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égül a primer információs csoport negyedik eleme a támogatások elnyerését szolgáló információs elemek összessége. Ezek közül elsősorban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tegrált Igazgatási és Ellenőrző Rendsze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indokolt kiemelni, amely lényegét tekintve egy „technikai jellegű” információs rendszer, elsősorban az EU adminisztrációjának működését hivatott segíteni, vagyis a különböző alapokból történő kifizetések elszámolását, illetve ellenőrzését végz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ásodlagos, vagy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zekunder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információs rendszerek közös jellemzői, hogy általában nem végeznek nagyobb tömegű közvetlen adatgyűjtést, információikat főleg a primer rendszerek adatbázisaiból nyerik. Céljuk egy-egy „szűkebb” terület speciális információigényének kielégítése. A számlarendszerre épülő feladatok az EU által megadott termékkörre vonatkozó termelési, felhasználási, technológiai adatok konzisztens összefogása révén a termelési érték, hozzáadott érték és jövedelempozíciók rövid-távú előrejelzése, illetve agrárpolitikai intézkedések várható hatásának prognosztizálá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9A0-04B8-4859-A969-21A25419D4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grárstatiszt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mezőgazdasági statisztika fő felelőse a K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közösségi agrárstatisztika jelenleg három pillérre épü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ezőgazdasági vállalatok struktúrájá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mezőgazdasági termelés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mezőgazdasági ökonómiá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376-74FE-4A6F-A4AC-D62A4169F1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grárstatiszt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gazdaságszerkezeti adatgyűjtések folyamán biztosítják a gazdaságregiszter aktualizálását, a gazdaságok viszonylag homogén csoportba sorolhatóságát, amivel agrárpolitikai döntéseket alapozhatnak meg, valamint a közösségi farm tipológia rendszeres karbantartásá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agrárstatisztikai rendszerhez az adatok összegyűjtése 10 évenként teljes körűen, két-három évenként reprezentatívan történi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C24-4374-47CB-9F9F-1F9C309CE2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Agrárstatiszti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EU termelésstatisztikája kiterjed a termelés két fő erőforrására: 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földterületre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és az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állatállományra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, valamint a növénytermesztés és az állattenyésztés főbb jellemzőir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termelési adatok adják az alapinformációkat az úgynevezett kínálati mérlegek összeállításához, amelyet a legfőbb termékekre (kb:130 termék) vonatkozóan készítene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összeírások főleg évenkénti adatszolgáltatásokkal történnek, de vannak területek, ahol az adatszolgáltatás gyakoribb (állatállomány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monetáris statisztika az agrárstatisztikán belül kiterjed a mezőgazdasági árstatisztikákra, a mezőgazdasági háztartások jövedelmére, valamint a mezőgazdasági munkaerő és keresetek statisztikájá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DDB-7D2E-4F75-95A4-8CD5B00DB9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Piaci Információs Rendsz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Piaci Információs Rendszer (PIR) olyan államilag működtetett szolgáltatás, amely széles körben forgalmazott mezőgazdasági termények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árairól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ennyiségeiről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rendszeresen, megfelelő módon adatokat gyűjt a </a:t>
            </a: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vidék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nagyban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i="1" lang="hu-HU" sz="2600" spc="-1" strike="noStrike">
                <a:solidFill>
                  <a:srgbClr val="000000"/>
                </a:solidFill>
                <a:latin typeface="Arial"/>
              </a:rPr>
              <a:t>fogyasztó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piacokon, és ezt az információt időben és rendszeres időközönként a különböző médiumokon keresztül eljuttatja a gazdálkodókhoz, a kereskedőkhöz, a fogyasztókhoz, a kormányzati tisztviselőkhöz, az agrárpolitika döntéshozóiho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77E-CBB0-4EAB-B6CF-E6F9B31DBE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ózsa Tünde</cp:lastModifiedBy>
  <dcterms:modified xsi:type="dcterms:W3CDTF">2007-10-24T12:59:38Z</dcterms:modified>
  <cp:revision>105</cp:revision>
  <dc:subject/>
  <dc:title>PowerPoint bemutató</dc:title>
</cp:coreProperties>
</file>