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1254-E0E5-4AD8-BBCE-74C463497A9D}"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6A01A-D122-44B9-AD9A-2A4765320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030C2-CF92-4153-9432-5E49EAC88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CC8C0-90C9-4B48-9D76-96651265B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01262-D66A-435E-AE1E-171966471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DF690-A94A-4034-BC28-DC1B45C1D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625A8-3968-4BA7-9207-B3B82BEF5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7"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32E0E-F76B-40FA-844A-B60FC951C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9"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E775D-A9EC-49A5-A6F2-1F8A44778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C0EB8-7D77-409B-8717-75EE40BF4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8CDD3-9D43-46FB-987F-B2FDC636B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4"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72552-794E-4FE2-8662-1F17932FD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6036-0F64-4B47-A030-270ECEE9D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A0555-24FB-4FEC-8793-C4825F708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2"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17C32-8240-4315-BE6D-DFB2E78EB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6"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2BB95-DBB5-4273-8447-1CCC184CC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9"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C3010-330A-4843-B25B-C01038B8BD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84"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E7829-3F11-4DB4-A5AC-B74F1DC7A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533DA-504D-4F35-8197-44F73CED4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9C316-608E-46AD-A746-21BEEA706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FC44-138C-45CA-A33A-F6689E409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C120E-8684-49CD-859A-96A21177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9D9A1-03A4-4FF7-9CC3-34C501A92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B9AC-EA56-4AF5-B614-83F965932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DC45B-82E6-489A-8F32-F5060448D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DFFF-EEEB-4DCE-A3FB-2412B5AFDB7F}"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B408-F84D-46E0-AAD0-6750F8E673CC}"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029D-C843-42F2-A468-A7E4EF594A1C}"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19FC-7025-4626-92A0-664C85938625}"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Információs rendszere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Szenteleki Károly</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BCE</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ózsa Tünde</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trukturált rendszerfejlesztési módszertanok </a:t>
            </a:r>
            <a:endParaRPr b="1" lang="en-US" sz="3900" spc="-1" strike="noStrike">
              <a:solidFill>
                <a:srgbClr val="330066"/>
              </a:solidFill>
              <a:latin typeface="Arial"/>
            </a:endParaRPr>
          </a:p>
        </p:txBody>
      </p:sp>
      <p:graphicFrame>
        <p:nvGraphicFramePr>
          <p:cNvPr id="116" name=""/>
          <p:cNvGraphicFramePr/>
          <p:nvPr/>
        </p:nvGraphicFramePr>
        <p:xfrm>
          <a:off x="1187280" y="2205000"/>
          <a:ext cx="6062400" cy="3759120"/>
        </p:xfrm>
        <a:graphic>
          <a:graphicData uri="http://schemas.openxmlformats.org/drawingml/2006/table">
            <a:tbl>
              <a:tblPr/>
              <a:tblGrid>
                <a:gridCol w="1782000"/>
                <a:gridCol w="1929960"/>
                <a:gridCol w="1366200"/>
                <a:gridCol w="984240"/>
              </a:tblGrid>
              <a:tr h="4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Verdana"/>
                        </a:rPr>
                        <a:t>A fejlesztés életciklusa</a:t>
                      </a:r>
                      <a:endParaRPr b="0" lang="en-US" sz="1200" spc="-1" strike="noStrike">
                        <a:solidFill>
                          <a:srgbClr val="000000"/>
                        </a:solidFill>
                        <a:latin typeface="Times New Roman"/>
                      </a:endParaRPr>
                    </a:p>
                  </a:txBody>
                  <a:tcPr anchor="t" marL="90000" marR="90000">
                    <a:lnL w="13680">
                      <a:solidFill>
                        <a:srgbClr val="333333"/>
                      </a:solidFill>
                    </a:lnL>
                    <a:lnR>
                      <a:noFill/>
                    </a:lnR>
                    <a:lnT w="13680">
                      <a:solidFill>
                        <a:srgbClr val="333333"/>
                      </a:solidFill>
                    </a:lnT>
                    <a:lnB w="5760">
                      <a:solidFill>
                        <a:srgbClr val="333333"/>
                      </a:solidFill>
                    </a:lnB>
                    <a:no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Verdana"/>
                        </a:rPr>
                        <a:t>Helyzetfelmérés és elemzés</a:t>
                      </a:r>
                      <a:endParaRPr b="0" lang="en-US" sz="1200" spc="-1" strike="noStrike">
                        <a:solidFill>
                          <a:srgbClr val="000000"/>
                        </a:solidFill>
                        <a:latin typeface="Times New Roman"/>
                      </a:endParaRPr>
                    </a:p>
                  </a:txBody>
                  <a:tcPr anchor="t" marL="90000" marR="90000">
                    <a:lnL w="13680">
                      <a:solidFill>
                        <a:srgbClr val="333333"/>
                      </a:solidFill>
                    </a:lnL>
                    <a:lnR>
                      <a:noFill/>
                    </a:lnR>
                    <a:lnT w="5760">
                      <a:solidFill>
                        <a:srgbClr val="333333"/>
                      </a:solidFill>
                    </a:lnT>
                    <a:lnB w="5760">
                      <a:solidFill>
                        <a:srgbClr val="333333"/>
                      </a:solidFill>
                    </a:lnB>
                    <a:no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Verdana"/>
                        </a:rPr>
                        <a:t>ARDOS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u="sng">
                          <a:solidFill>
                            <a:srgbClr val="000000"/>
                          </a:solidFill>
                          <a:uFillTx/>
                          <a:latin typeface="Verdana"/>
                        </a:rPr>
                        <a:t>SSADM</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Verdana"/>
                        </a:rPr>
                        <a:t>J.Martin SAD</a:t>
                      </a:r>
                      <a:endParaRPr b="0" lang="en-US" sz="1000" spc="-1" strike="noStrike">
                        <a:solidFill>
                          <a:srgbClr val="000000"/>
                        </a:solidFill>
                        <a:latin typeface="Times New Roman"/>
                      </a:endParaRPr>
                    </a:p>
                  </a:txBody>
                  <a:tcPr anchor="t" marL="90000" marR="90000">
                    <a:lnL>
                      <a:noFill/>
                    </a:lnL>
                    <a:lnR>
                      <a:noFill/>
                    </a:lnR>
                    <a:lnT>
                      <a:noFill/>
                    </a:lnT>
                    <a:lnB>
                      <a:noFill/>
                    </a:lnB>
                    <a:noFill/>
                  </a:tcPr>
                </a:tc>
              </a:tr>
              <a:tr h="482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Verdana"/>
                        </a:rPr>
                        <a:t>J.Martin-J.Odell OOA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Verdana"/>
                        </a:rPr>
                        <a:t>Lorens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Verdana"/>
                        </a:rPr>
                        <a:t>DOMIN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u="sng">
                          <a:solidFill>
                            <a:srgbClr val="000000"/>
                          </a:solidFill>
                          <a:uFillTx/>
                          <a:latin typeface="Verdana"/>
                        </a:rPr>
                        <a:t>SDM Pan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u="sng">
                          <a:solidFill>
                            <a:srgbClr val="000000"/>
                          </a:solidFill>
                          <a:uFillTx/>
                          <a:latin typeface="Verdana"/>
                        </a:rPr>
                        <a:t>SDM Hoskyns</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Verdana"/>
                        </a:rPr>
                        <a:t>Logikai tervezés</a:t>
                      </a:r>
                      <a:endParaRPr b="0" lang="en-US" sz="1200" spc="-1" strike="noStrike">
                        <a:solidFill>
                          <a:srgbClr val="000000"/>
                        </a:solidFill>
                        <a:latin typeface="Times New Roman"/>
                      </a:endParaRPr>
                    </a:p>
                  </a:txBody>
                  <a:tcPr anchor="t" marL="90000" marR="90000">
                    <a:lnL w="13680">
                      <a:solidFill>
                        <a:srgbClr val="333333"/>
                      </a:solidFill>
                    </a:lnL>
                    <a:lnR>
                      <a:noFill/>
                    </a:lnR>
                    <a:lnT w="5760">
                      <a:solidFill>
                        <a:srgbClr val="333333"/>
                      </a:solidFill>
                    </a:lnT>
                    <a:lnB w="5760">
                      <a:solidFill>
                        <a:srgbClr val="333333"/>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Verdana"/>
                        </a:rPr>
                        <a:t>Fizikai tervezés</a:t>
                      </a:r>
                      <a:endParaRPr b="0" lang="en-US" sz="1200" spc="-1" strike="noStrike">
                        <a:solidFill>
                          <a:srgbClr val="000000"/>
                        </a:solidFill>
                        <a:latin typeface="Times New Roman"/>
                      </a:endParaRPr>
                    </a:p>
                  </a:txBody>
                  <a:tcPr anchor="t" marL="90000" marR="90000">
                    <a:lnL w="13680">
                      <a:solidFill>
                        <a:srgbClr val="333333"/>
                      </a:solidFill>
                    </a:lnL>
                    <a:lnR>
                      <a:noFill/>
                    </a:lnR>
                    <a:lnT w="5760">
                      <a:solidFill>
                        <a:srgbClr val="333333"/>
                      </a:solidFill>
                    </a:lnT>
                    <a:lnB w="5760">
                      <a:solidFill>
                        <a:srgbClr val="333333"/>
                      </a:solidFill>
                    </a:lnB>
                    <a:no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Verdana"/>
                        </a:rPr>
                        <a:t>Kivitelezés</a:t>
                      </a:r>
                      <a:endParaRPr b="0" lang="en-US" sz="1200" spc="-1" strike="noStrike">
                        <a:solidFill>
                          <a:srgbClr val="000000"/>
                        </a:solidFill>
                        <a:latin typeface="Times New Roman"/>
                      </a:endParaRPr>
                    </a:p>
                  </a:txBody>
                  <a:tcPr anchor="t" marL="90000" marR="90000">
                    <a:lnL w="13680">
                      <a:solidFill>
                        <a:srgbClr val="333333"/>
                      </a:solidFill>
                    </a:lnL>
                    <a:lnR>
                      <a:noFill/>
                    </a:lnR>
                    <a:lnT w="5760">
                      <a:solidFill>
                        <a:srgbClr val="333333"/>
                      </a:solidFill>
                    </a:lnT>
                    <a:lnB w="5760">
                      <a:solidFill>
                        <a:srgbClr val="333333"/>
                      </a:solidFill>
                    </a:lnB>
                    <a:no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Verdana"/>
                        </a:rPr>
                        <a:t>Rendszer felügyelet</a:t>
                      </a:r>
                      <a:endParaRPr b="0" lang="en-US" sz="1200" spc="-1" strike="noStrike">
                        <a:solidFill>
                          <a:srgbClr val="000000"/>
                        </a:solidFill>
                        <a:latin typeface="Times New Roman"/>
                      </a:endParaRPr>
                    </a:p>
                  </a:txBody>
                  <a:tcPr anchor="t" marL="90000" marR="90000">
                    <a:lnL w="13680">
                      <a:solidFill>
                        <a:srgbClr val="333333"/>
                      </a:solidFill>
                    </a:lnL>
                    <a:lnR>
                      <a:noFill/>
                    </a:lnR>
                    <a:lnT w="5760">
                      <a:solidFill>
                        <a:srgbClr val="333333"/>
                      </a:solidFill>
                    </a:lnT>
                    <a:lnB w="13680">
                      <a:solidFill>
                        <a:srgbClr val="333333"/>
                      </a:solidFill>
                    </a:lnB>
                    <a:no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BA1A24F-65D3-4A82-A231-472F9BCFF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SADM</a:t>
            </a: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SSADM célja az, hogy segítsen a projekt tagjainak az informatikai stratégia részeként kitűzött információs rendszerre vonatkozó követelmények pontos elemzésében, valamint a követelményeknek legjobban megfelelő információs rendszer megtervezésében és specifikálásában.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85D55B7-F029-4949-A634-2030FD36C4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330066"/>
                </a:solidFill>
                <a:latin typeface="Arial"/>
              </a:rPr>
              <a:t>Az SSADM kulcsfogalmai és filozófiája a következő elemekből áll:</a:t>
            </a:r>
            <a:endParaRPr b="1" lang="en-US" sz="32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árom szempontú modell, amely kifejti a felhasználók nézeteit a rendszer feldolgozásairól, az üzleti/működési eseményekről és az információról,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övetelmény-központúság, amely az elemzés során megvizsgálandó , igényeket, célokat fogalmazza meg, a sikeresség mértékével együt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felhasználó-, funkció- és adatmodellezés, amely felhasználói szerepköröket határozza meg, illetve a felhasználó és a rendszer kölcsönhatásait vizsgálja,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ezeti alternatívák, melyek a vezetőség döntési lehetőségeit vizsgálják a projekt során.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A87BB0C-FE6B-4A14-A220-6E94EAE8A5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SSADM moduljai</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egvalósíthatósági elemzés modu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0.szakasz: Megvalósíthatósá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övetelményelemzési modu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1.szakasz: Jelenlegi helyzet vizsgálat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2.szakasz: Rendszerszervezési alternatívák</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övetelményspecifikációs modu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3.szakasz: Követelmény meghatározá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Logikai rendszerspecifikációs szakasz</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4.szakasz: Rendszertechnikai alternatívák</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5.szakasz: Logikai rendszertervezé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018A62D-B4E4-4114-AA1E-D85135DF2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0. szakasz: Megvalósíthatóság</a:t>
            </a:r>
            <a:br>
              <a:rPr sz="3900"/>
            </a:b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szakasz célja: </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megállapítani, hogy a javasolt információs rendszer kielégítheti-e a szervezet működési követelményeit, </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elkészíteni a javasolt információs rendszer üzleti indoklását, lehetővé téve a projektvezetőség részére a döntést a további erőforrások hozzárendelése tekintetében (a részletes tanulmány elvégzésére), </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megállapítani, hogy szükséges-e eltérni az informatikai stratégától, </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lehetővé tenni a projektvezetőség részére a választást egy sor működési és technikai alternatíva, illetve a csatlakozó megvalósítási projektek között. </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u="sng">
                <a:solidFill>
                  <a:srgbClr val="000000"/>
                </a:solidFill>
                <a:uFillTx/>
                <a:latin typeface="Arial"/>
              </a:rPr>
              <a:t>Termék: </a:t>
            </a:r>
            <a:r>
              <a:rPr b="0" lang="hu-HU" sz="1500" spc="-1" strike="noStrike">
                <a:solidFill>
                  <a:srgbClr val="000000"/>
                </a:solidFill>
                <a:latin typeface="Arial"/>
              </a:rPr>
              <a:t>Megvalósíthatósági tanulmány </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u="sng">
                <a:solidFill>
                  <a:srgbClr val="000000"/>
                </a:solidFill>
                <a:uFillTx/>
                <a:latin typeface="Arial"/>
              </a:rPr>
              <a:t>Technikák</a:t>
            </a:r>
            <a:r>
              <a:rPr b="0" lang="hu-HU" sz="1500" spc="-1" strike="noStrike">
                <a:solidFill>
                  <a:srgbClr val="000000"/>
                </a:solidFill>
                <a:latin typeface="Arial"/>
              </a:rPr>
              <a:t> </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Rendszerszervezési alternatívák kialakítása </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Adatfolyam-modellezés </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Dialógustervezés </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Logikai adatmodellezés </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Követelménymeghatározá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Rendszertechnikai alternatívák kialakítása </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u="sng">
                <a:solidFill>
                  <a:srgbClr val="000000"/>
                </a:solidFill>
                <a:uFillTx/>
                <a:latin typeface="Arial"/>
              </a:rPr>
              <a:t>Tevékenységek</a:t>
            </a:r>
            <a:r>
              <a:rPr b="0" lang="hu-HU" sz="1500" spc="-1" strike="noStrike">
                <a:solidFill>
                  <a:srgbClr val="000000"/>
                </a:solidFill>
                <a:latin typeface="Arial"/>
              </a:rPr>
              <a:t> </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010 lépés: Felkészülés a megvalósíthatósági elemzésr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020 lépés: A probléma megfogalmazása </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030 lépés: Megvalósíthatósági alternatívák kialakítása </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040 lépés: Megvalósíthatósági tanulmány összeállítás </a:t>
            </a:r>
            <a:endParaRPr b="0" lang="en-US" sz="13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6E6B1C7-6A67-48A7-8153-0B8482FCC7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1. szakasz: Jelenlegi helyzet vizsgálata</a:t>
            </a: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A szakasz célja: A jelenlegi szolgáltatások és az új követelmények leírásának előállítása azért, hogy a rendszerszervezési alternatívákat ki lehessen alakítani. Ezen belüli cél: </a:t>
            </a:r>
            <a:endParaRPr b="0" lang="en-US" sz="1100" spc="-1" strike="noStrike">
              <a:solidFill>
                <a:srgbClr val="000000"/>
              </a:solidFill>
              <a:latin typeface="Arial"/>
            </a:endParaRPr>
          </a:p>
          <a:p>
            <a:pPr lvl="1" marL="692280" indent="-347760">
              <a:lnSpc>
                <a:spcPct val="80000"/>
              </a:lnSpc>
              <a:spcBef>
                <a:spcPts val="2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megbizonyosodni, hogy a projekt megfelelően indult, </a:t>
            </a:r>
            <a:endParaRPr b="0" lang="en-US" sz="1000" spc="-1" strike="noStrike">
              <a:solidFill>
                <a:srgbClr val="000000"/>
              </a:solidFill>
              <a:latin typeface="Arial"/>
            </a:endParaRPr>
          </a:p>
          <a:p>
            <a:pPr lvl="1" marL="692280" indent="-347760">
              <a:lnSpc>
                <a:spcPct val="80000"/>
              </a:lnSpc>
              <a:spcBef>
                <a:spcPts val="2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elkészíteni a kezdeti feladatlistát és erőforrás-becslést, </a:t>
            </a:r>
            <a:endParaRPr b="0" lang="en-US" sz="1000" spc="-1" strike="noStrike">
              <a:solidFill>
                <a:srgbClr val="000000"/>
              </a:solidFill>
              <a:latin typeface="Arial"/>
            </a:endParaRPr>
          </a:p>
          <a:p>
            <a:pPr lvl="1" marL="692280" indent="-347760">
              <a:lnSpc>
                <a:spcPct val="80000"/>
              </a:lnSpc>
              <a:spcBef>
                <a:spcPts val="2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világosan megfogalmazni a funkcionális és nem-funkcionális követelményeket, </a:t>
            </a:r>
            <a:endParaRPr b="0" lang="en-US" sz="1000" spc="-1" strike="noStrike">
              <a:solidFill>
                <a:srgbClr val="000000"/>
              </a:solidFill>
              <a:latin typeface="Arial"/>
            </a:endParaRPr>
          </a:p>
          <a:p>
            <a:pPr lvl="1" marL="692280" indent="-347760">
              <a:lnSpc>
                <a:spcPct val="80000"/>
              </a:lnSpc>
              <a:spcBef>
                <a:spcPts val="2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kialakítani a szerepköröket, különös tekintettel a felhasználókra, </a:t>
            </a:r>
            <a:endParaRPr b="0" lang="en-US" sz="1000" spc="-1" strike="noStrike">
              <a:solidFill>
                <a:srgbClr val="000000"/>
              </a:solidFill>
              <a:latin typeface="Arial"/>
            </a:endParaRPr>
          </a:p>
          <a:p>
            <a:pPr lvl="1" marL="692280" indent="-347760">
              <a:lnSpc>
                <a:spcPct val="80000"/>
              </a:lnSpc>
              <a:spcBef>
                <a:spcPts val="2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modellezni az eljárásokat és az információ-igényt, amelyekre informatikai támogatást irányoz elő a projektalapító okirat. </a:t>
            </a:r>
            <a:endParaRPr b="0" lang="en-US" sz="10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u="sng">
                <a:solidFill>
                  <a:srgbClr val="000000"/>
                </a:solidFill>
                <a:uFillTx/>
                <a:latin typeface="Arial"/>
              </a:rPr>
              <a:t>Termékek</a:t>
            </a:r>
            <a:r>
              <a:rPr b="0" lang="hu-HU" sz="1100" spc="-1" strike="noStrike">
                <a:solidFill>
                  <a:srgbClr val="000000"/>
                </a:solidFill>
                <a:latin typeface="Arial"/>
              </a:rPr>
              <a:t>: </a:t>
            </a:r>
            <a:endParaRPr b="0" lang="en-US" sz="1100" spc="-1" strike="noStrike">
              <a:solidFill>
                <a:srgbClr val="000000"/>
              </a:solidFill>
              <a:latin typeface="Arial"/>
            </a:endParaRPr>
          </a:p>
          <a:p>
            <a:pPr lvl="1" marL="692280" indent="-347760">
              <a:lnSpc>
                <a:spcPct val="80000"/>
              </a:lnSpc>
              <a:spcBef>
                <a:spcPts val="2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Tevékenység leírások </a:t>
            </a:r>
            <a:br>
              <a:rPr sz="1000"/>
            </a:br>
            <a:r>
              <a:rPr b="0" lang="hu-HU" sz="1000" spc="-1" strike="noStrike">
                <a:solidFill>
                  <a:srgbClr val="000000"/>
                </a:solidFill>
                <a:latin typeface="Arial"/>
              </a:rPr>
              <a:t>Tevékenységháló </a:t>
            </a:r>
            <a:br>
              <a:rPr sz="1000"/>
            </a:br>
            <a:r>
              <a:rPr b="0" lang="hu-HU" sz="1000" spc="-1" strike="noStrike">
                <a:solidFill>
                  <a:srgbClr val="000000"/>
                </a:solidFill>
                <a:latin typeface="Arial"/>
              </a:rPr>
              <a:t>Jelenlegi szolgáltatások leírása </a:t>
            </a:r>
            <a:br>
              <a:rPr sz="1000"/>
            </a:br>
            <a:r>
              <a:rPr b="0" lang="hu-HU" sz="1000" spc="-1" strike="noStrike">
                <a:solidFill>
                  <a:srgbClr val="000000"/>
                </a:solidFill>
                <a:latin typeface="Arial"/>
              </a:rPr>
              <a:t>Termékfelépítési szerkezet </a:t>
            </a:r>
            <a:br>
              <a:rPr sz="1000"/>
            </a:br>
            <a:r>
              <a:rPr b="0" lang="hu-HU" sz="1000" spc="-1" strike="noStrike">
                <a:solidFill>
                  <a:srgbClr val="000000"/>
                </a:solidFill>
                <a:latin typeface="Arial"/>
              </a:rPr>
              <a:t>Termékszármaztatási ábra </a:t>
            </a:r>
            <a:br>
              <a:rPr sz="1000"/>
            </a:br>
            <a:r>
              <a:rPr b="0" lang="hu-HU" sz="1000" spc="-1" strike="noStrike">
                <a:solidFill>
                  <a:srgbClr val="000000"/>
                </a:solidFill>
                <a:latin typeface="Arial"/>
              </a:rPr>
              <a:t>Követelményjegyzék </a:t>
            </a:r>
            <a:br>
              <a:rPr sz="1000"/>
            </a:br>
            <a:r>
              <a:rPr b="0" lang="hu-HU" sz="1000" spc="-1" strike="noStrike">
                <a:solidFill>
                  <a:srgbClr val="000000"/>
                </a:solidFill>
                <a:latin typeface="Arial"/>
              </a:rPr>
              <a:t>Felhasználójegyzék </a:t>
            </a:r>
            <a:endParaRPr b="0" lang="en-US" sz="10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u="sng">
                <a:solidFill>
                  <a:srgbClr val="000000"/>
                </a:solidFill>
                <a:uFillTx/>
                <a:latin typeface="Arial"/>
              </a:rPr>
              <a:t>Technikák</a:t>
            </a:r>
            <a:r>
              <a:rPr b="0" lang="hu-HU" sz="1100" spc="-1" strike="noStrike">
                <a:solidFill>
                  <a:srgbClr val="000000"/>
                </a:solidFill>
                <a:latin typeface="Arial"/>
              </a:rPr>
              <a:t>: </a:t>
            </a:r>
            <a:endParaRPr b="0" lang="en-US" sz="1100" spc="-1" strike="noStrike">
              <a:solidFill>
                <a:srgbClr val="000000"/>
              </a:solidFill>
              <a:latin typeface="Arial"/>
            </a:endParaRPr>
          </a:p>
          <a:p>
            <a:pPr lvl="1" marL="692280" indent="-347760">
              <a:lnSpc>
                <a:spcPct val="80000"/>
              </a:lnSpc>
              <a:spcBef>
                <a:spcPts val="2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datfolyam-modellezés </a:t>
            </a:r>
            <a:br>
              <a:rPr sz="1000"/>
            </a:br>
            <a:r>
              <a:rPr b="0" lang="hu-HU" sz="1000" spc="-1" strike="noStrike">
                <a:solidFill>
                  <a:srgbClr val="000000"/>
                </a:solidFill>
                <a:latin typeface="Arial"/>
              </a:rPr>
              <a:t>Dialógustervezés </a:t>
            </a:r>
            <a:br>
              <a:rPr sz="1000"/>
            </a:br>
            <a:r>
              <a:rPr b="0" lang="hu-HU" sz="1000" spc="-1" strike="noStrike">
                <a:solidFill>
                  <a:srgbClr val="000000"/>
                </a:solidFill>
                <a:latin typeface="Arial"/>
              </a:rPr>
              <a:t>Logikai adatmodellezés </a:t>
            </a:r>
            <a:br>
              <a:rPr sz="1000"/>
            </a:br>
            <a:r>
              <a:rPr b="0" lang="hu-HU" sz="1000" spc="-1" strike="noStrike">
                <a:solidFill>
                  <a:srgbClr val="000000"/>
                </a:solidFill>
                <a:latin typeface="Arial"/>
              </a:rPr>
              <a:t>Relációs adatelemzés </a:t>
            </a:r>
            <a:br>
              <a:rPr sz="1000"/>
            </a:br>
            <a:r>
              <a:rPr b="0" lang="hu-HU" sz="1000" spc="-1" strike="noStrike">
                <a:solidFill>
                  <a:srgbClr val="000000"/>
                </a:solidFill>
                <a:latin typeface="Arial"/>
              </a:rPr>
              <a:t>Követelmény-meghatározás </a:t>
            </a:r>
            <a:endParaRPr b="0" lang="en-US" sz="10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u="sng">
                <a:solidFill>
                  <a:srgbClr val="000000"/>
                </a:solidFill>
                <a:uFillTx/>
                <a:latin typeface="Arial"/>
              </a:rPr>
              <a:t>Tevékenységek</a:t>
            </a:r>
            <a:r>
              <a:rPr b="0" lang="hu-HU" sz="1100" spc="-1" strike="noStrike">
                <a:solidFill>
                  <a:srgbClr val="000000"/>
                </a:solidFill>
                <a:latin typeface="Arial"/>
              </a:rPr>
              <a:t>: </a:t>
            </a:r>
            <a:endParaRPr b="0" lang="en-US" sz="1100" spc="-1" strike="noStrike">
              <a:solidFill>
                <a:srgbClr val="000000"/>
              </a:solidFill>
              <a:latin typeface="Arial"/>
            </a:endParaRPr>
          </a:p>
          <a:p>
            <a:pPr lvl="1" marL="692280" indent="-347760">
              <a:lnSpc>
                <a:spcPct val="80000"/>
              </a:lnSpc>
              <a:spcBef>
                <a:spcPts val="2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 lépés: Az elemzés kereteinek megteremtése </a:t>
            </a:r>
            <a:br>
              <a:rPr sz="1000"/>
            </a:br>
            <a:r>
              <a:rPr b="0" lang="hu-HU" sz="1000" spc="-1" strike="noStrike">
                <a:solidFill>
                  <a:srgbClr val="000000"/>
                </a:solidFill>
                <a:latin typeface="Arial"/>
              </a:rPr>
              <a:t>120. lépés: A követelmények vizsgálata és meghatározása </a:t>
            </a:r>
            <a:br>
              <a:rPr sz="1000"/>
            </a:br>
            <a:r>
              <a:rPr b="0" lang="hu-HU" sz="1000" spc="-1" strike="noStrike">
                <a:solidFill>
                  <a:srgbClr val="000000"/>
                </a:solidFill>
                <a:latin typeface="Arial"/>
              </a:rPr>
              <a:t>130. lépés: Jelenlegi folyamatok vizsgálata </a:t>
            </a:r>
            <a:br>
              <a:rPr sz="1000"/>
            </a:br>
            <a:r>
              <a:rPr b="0" lang="hu-HU" sz="1000" spc="-1" strike="noStrike">
                <a:solidFill>
                  <a:srgbClr val="000000"/>
                </a:solidFill>
                <a:latin typeface="Arial"/>
              </a:rPr>
              <a:t>140. lépés: Jelenlegi adatok vizsgálata </a:t>
            </a:r>
            <a:br>
              <a:rPr sz="1000"/>
            </a:br>
            <a:r>
              <a:rPr b="0" lang="hu-HU" sz="1000" spc="-1" strike="noStrike">
                <a:solidFill>
                  <a:srgbClr val="000000"/>
                </a:solidFill>
                <a:latin typeface="Arial"/>
              </a:rPr>
              <a:t>150. lépés: Jelenlegi szolgáltatások logikalizálása </a:t>
            </a:r>
            <a:br>
              <a:rPr sz="1000"/>
            </a:br>
            <a:r>
              <a:rPr b="0" lang="hu-HU" sz="1000" spc="-1" strike="noStrike">
                <a:solidFill>
                  <a:srgbClr val="000000"/>
                </a:solidFill>
                <a:latin typeface="Arial"/>
              </a:rPr>
              <a:t>160. lépés: Vizsgálat eredményeinek összeállítása </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25C004A-EA7F-4022-94C0-0F0FB8B7ED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2. szakasz: Rendszerszervezési alternatívák</a:t>
            </a: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akasz célja lehetőséget adni a működési terület vezetőinek, hogy meghatározhassák a javasolt informatikai rendszer határait, bemeneteit, kimeneteit és főbb feldolgozásait, miközben a projekt folytatásának az indokoltságát is megvizsgálják a technikai és szervezeti megfontolások fényében.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u="sng">
                <a:solidFill>
                  <a:srgbClr val="000000"/>
                </a:solidFill>
                <a:uFillTx/>
                <a:latin typeface="Arial"/>
              </a:rPr>
              <a:t>Termékek</a:t>
            </a:r>
            <a:r>
              <a:rPr b="0" lang="hu-HU"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Rendszerszervezési alternatívák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Választott rendszerszervezési alternatíva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u="sng">
                <a:solidFill>
                  <a:srgbClr val="000000"/>
                </a:solidFill>
                <a:uFillTx/>
                <a:latin typeface="Arial"/>
              </a:rPr>
              <a:t>Technikák</a:t>
            </a:r>
            <a:r>
              <a:rPr b="0" lang="hu-HU"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Rendszerszervezési alternatívák kialakítása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datfolyam-modellezés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Logikai adatmodellezés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u="sng">
                <a:solidFill>
                  <a:srgbClr val="000000"/>
                </a:solidFill>
                <a:uFillTx/>
                <a:latin typeface="Arial"/>
              </a:rPr>
              <a:t>Tevékenységek</a:t>
            </a:r>
            <a:r>
              <a:rPr b="0" lang="hu-HU"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210. lépés: Rendszerszervezési alternatívák meghatározása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220. lépés: Rendszerszervezési alternatíva kiválasztása</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EDA5017-729F-4522-B80F-1334D9C590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3. szakasz: Követelmények meghatározása</a:t>
            </a: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A szakasz célja: lehetővé tenni a felhasználóknak illetve vezetésnek, hogy egy megfelelő kiterjedésű, megfelelően kidolgozott és mérhető elfogadási szempontokkal rendelkező követelmény-specifikációt adjon ki, amely alapul szolgálhat a logikai rendszerspecifikáció előállítására irányuló szerződéshez. Nagyon fontos, hogy a követelmény-specifikációt a felhasználók teljes mértékben támogassák a kiadás időpontjában.</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u="sng">
                <a:solidFill>
                  <a:srgbClr val="000000"/>
                </a:solidFill>
                <a:uFillTx/>
                <a:latin typeface="Arial"/>
              </a:rPr>
              <a:t>Termékek</a:t>
            </a:r>
            <a:r>
              <a:rPr b="0" lang="hu-HU" sz="1300" spc="-1" strike="noStrike">
                <a:solidFill>
                  <a:srgbClr val="000000"/>
                </a:solidFill>
                <a:latin typeface="Arial"/>
              </a:rPr>
              <a:t>: </a:t>
            </a:r>
            <a:endParaRPr b="0" lang="en-US" sz="1300" spc="-1" strike="noStrike">
              <a:solidFill>
                <a:srgbClr val="000000"/>
              </a:solidFill>
              <a:latin typeface="Arial"/>
            </a:endParaRPr>
          </a:p>
          <a:p>
            <a:pPr lvl="1" marL="692280" indent="-347760">
              <a:lnSpc>
                <a:spcPct val="80000"/>
              </a:lnSpc>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övetelmény-specifikáció </a:t>
            </a:r>
            <a:br>
              <a:rPr sz="1100"/>
            </a:br>
            <a:r>
              <a:rPr b="0" lang="hu-HU" sz="1100" spc="-1" strike="noStrike">
                <a:solidFill>
                  <a:srgbClr val="000000"/>
                </a:solidFill>
                <a:latin typeface="Arial"/>
              </a:rPr>
              <a:t>Parancsszerkezetek </a:t>
            </a:r>
            <a:br>
              <a:rPr sz="1100"/>
            </a:br>
            <a:r>
              <a:rPr b="0" lang="hu-HU" sz="1100" spc="-1" strike="noStrike">
                <a:solidFill>
                  <a:srgbClr val="000000"/>
                </a:solidFill>
                <a:latin typeface="Arial"/>
              </a:rPr>
              <a:t>Menüszerkezetek </a:t>
            </a:r>
            <a:br>
              <a:rPr sz="1100"/>
            </a:br>
            <a:r>
              <a:rPr b="0" lang="hu-HU" sz="1100" spc="-1" strike="noStrike">
                <a:solidFill>
                  <a:srgbClr val="000000"/>
                </a:solidFill>
                <a:latin typeface="Arial"/>
              </a:rPr>
              <a:t>Prototípus-kiértékelés </a:t>
            </a:r>
            <a:endParaRPr b="0" lang="en-US" sz="11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u="sng">
                <a:solidFill>
                  <a:srgbClr val="000000"/>
                </a:solidFill>
                <a:uFillTx/>
                <a:latin typeface="Arial"/>
              </a:rPr>
              <a:t>Technikák</a:t>
            </a:r>
            <a:r>
              <a:rPr b="0" lang="hu-HU" sz="1300" spc="-1" strike="noStrike">
                <a:solidFill>
                  <a:srgbClr val="000000"/>
                </a:solidFill>
                <a:latin typeface="Arial"/>
              </a:rPr>
              <a:t>: </a:t>
            </a:r>
            <a:endParaRPr b="0" lang="en-US" sz="1300" spc="-1" strike="noStrike">
              <a:solidFill>
                <a:srgbClr val="000000"/>
              </a:solidFill>
              <a:latin typeface="Arial"/>
            </a:endParaRPr>
          </a:p>
          <a:p>
            <a:pPr lvl="1" marL="692280" indent="-347760">
              <a:lnSpc>
                <a:spcPct val="80000"/>
              </a:lnSpc>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Adatfolyam-modellezés </a:t>
            </a:r>
            <a:br>
              <a:rPr sz="1100"/>
            </a:br>
            <a:r>
              <a:rPr b="0" lang="hu-HU" sz="1100" spc="-1" strike="noStrike">
                <a:solidFill>
                  <a:srgbClr val="000000"/>
                </a:solidFill>
                <a:latin typeface="Arial"/>
              </a:rPr>
              <a:t>Dialógustervezés </a:t>
            </a:r>
            <a:br>
              <a:rPr sz="1100"/>
            </a:br>
            <a:r>
              <a:rPr b="0" lang="hu-HU" sz="1100" spc="-1" strike="noStrike">
                <a:solidFill>
                  <a:srgbClr val="000000"/>
                </a:solidFill>
                <a:latin typeface="Arial"/>
              </a:rPr>
              <a:t>Egyed-esemény modellezés </a:t>
            </a:r>
            <a:br>
              <a:rPr sz="1100"/>
            </a:br>
            <a:r>
              <a:rPr b="0" lang="hu-HU" sz="1100" spc="-1" strike="noStrike">
                <a:solidFill>
                  <a:srgbClr val="000000"/>
                </a:solidFill>
                <a:latin typeface="Arial"/>
              </a:rPr>
              <a:t>Funkció-meghatározás </a:t>
            </a:r>
            <a:br>
              <a:rPr sz="1100"/>
            </a:br>
            <a:r>
              <a:rPr b="0" lang="hu-HU" sz="1100" spc="-1" strike="noStrike">
                <a:solidFill>
                  <a:srgbClr val="000000"/>
                </a:solidFill>
                <a:latin typeface="Arial"/>
              </a:rPr>
              <a:t>Logikai adatmodellezés </a:t>
            </a:r>
            <a:br>
              <a:rPr sz="1100"/>
            </a:br>
            <a:r>
              <a:rPr b="0" lang="hu-HU" sz="1100" spc="-1" strike="noStrike">
                <a:solidFill>
                  <a:srgbClr val="000000"/>
                </a:solidFill>
                <a:latin typeface="Arial"/>
              </a:rPr>
              <a:t>Relációs adatelemzés </a:t>
            </a:r>
            <a:br>
              <a:rPr sz="1100"/>
            </a:br>
            <a:r>
              <a:rPr b="0" lang="hu-HU" sz="1100" spc="-1" strike="noStrike">
                <a:solidFill>
                  <a:srgbClr val="000000"/>
                </a:solidFill>
                <a:latin typeface="Arial"/>
              </a:rPr>
              <a:t>Követelmény-meghatározás </a:t>
            </a:r>
            <a:br>
              <a:rPr sz="1100"/>
            </a:br>
            <a:r>
              <a:rPr b="0" lang="hu-HU" sz="1100" spc="-1" strike="noStrike">
                <a:solidFill>
                  <a:srgbClr val="000000"/>
                </a:solidFill>
                <a:latin typeface="Arial"/>
              </a:rPr>
              <a:t>Specifikációs prototípus-készítés </a:t>
            </a:r>
            <a:endParaRPr b="0" lang="en-US" sz="11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u="sng">
                <a:solidFill>
                  <a:srgbClr val="000000"/>
                </a:solidFill>
                <a:uFillTx/>
                <a:latin typeface="Arial"/>
              </a:rPr>
              <a:t>Tevékenységek</a:t>
            </a:r>
            <a:r>
              <a:rPr b="0" lang="hu-HU" sz="1300" spc="-1" strike="noStrike">
                <a:solidFill>
                  <a:srgbClr val="000000"/>
                </a:solidFill>
                <a:latin typeface="Arial"/>
              </a:rPr>
              <a:t>: </a:t>
            </a:r>
            <a:endParaRPr b="0" lang="en-US" sz="1300" spc="-1" strike="noStrike">
              <a:solidFill>
                <a:srgbClr val="000000"/>
              </a:solidFill>
              <a:latin typeface="Arial"/>
            </a:endParaRPr>
          </a:p>
          <a:p>
            <a:pPr lvl="1" marL="692280" indent="-347760">
              <a:lnSpc>
                <a:spcPct val="80000"/>
              </a:lnSpc>
              <a:spcBef>
                <a:spcPts val="2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10. lépés: Igényelt rendszer folyamatainak meghatározása </a:t>
            </a:r>
            <a:br>
              <a:rPr sz="1100"/>
            </a:br>
            <a:r>
              <a:rPr b="0" lang="hu-HU" sz="1100" spc="-1" strike="noStrike">
                <a:solidFill>
                  <a:srgbClr val="000000"/>
                </a:solidFill>
                <a:latin typeface="Arial"/>
              </a:rPr>
              <a:t>320. lépés: Igényelt rendszer adatmodelljének kidolgozása </a:t>
            </a:r>
            <a:br>
              <a:rPr sz="1100"/>
            </a:br>
            <a:r>
              <a:rPr b="0" lang="hu-HU" sz="1100" spc="-1" strike="noStrike">
                <a:solidFill>
                  <a:srgbClr val="000000"/>
                </a:solidFill>
                <a:latin typeface="Arial"/>
              </a:rPr>
              <a:t>330. lépés: Rendszer funkcióinak előállítása </a:t>
            </a:r>
            <a:br>
              <a:rPr sz="1100"/>
            </a:br>
            <a:r>
              <a:rPr b="0" lang="hu-HU" sz="1100" spc="-1" strike="noStrike">
                <a:solidFill>
                  <a:srgbClr val="000000"/>
                </a:solidFill>
                <a:latin typeface="Arial"/>
              </a:rPr>
              <a:t>340. lépés: Igényelt adatmodell megerősítése </a:t>
            </a:r>
            <a:br>
              <a:rPr sz="1100"/>
            </a:br>
            <a:r>
              <a:rPr b="0" lang="hu-HU" sz="1100" spc="-1" strike="noStrike">
                <a:solidFill>
                  <a:srgbClr val="000000"/>
                </a:solidFill>
                <a:latin typeface="Arial"/>
              </a:rPr>
              <a:t>350. lépés: Specifikációs prototípusok kidolgozása </a:t>
            </a:r>
            <a:br>
              <a:rPr sz="1100"/>
            </a:br>
            <a:r>
              <a:rPr b="0" lang="hu-HU" sz="1100" spc="-1" strike="noStrike">
                <a:solidFill>
                  <a:srgbClr val="000000"/>
                </a:solidFill>
                <a:latin typeface="Arial"/>
              </a:rPr>
              <a:t>360. lépés: Feldolgozási folyamatok meghatározása </a:t>
            </a:r>
            <a:br>
              <a:rPr sz="1100"/>
            </a:br>
            <a:r>
              <a:rPr b="0" lang="hu-HU" sz="1100" spc="-1" strike="noStrike">
                <a:solidFill>
                  <a:srgbClr val="000000"/>
                </a:solidFill>
                <a:latin typeface="Arial"/>
              </a:rPr>
              <a:t>370. lépés: A rendszer-célkitűzések véglegesítése </a:t>
            </a:r>
            <a:br>
              <a:rPr sz="1100"/>
            </a:br>
            <a:r>
              <a:rPr b="0" lang="hu-HU" sz="1100" spc="-1" strike="noStrike">
                <a:solidFill>
                  <a:srgbClr val="000000"/>
                </a:solidFill>
                <a:latin typeface="Arial"/>
              </a:rPr>
              <a:t>380. lépés: A követelmény-specifikáció összeállítása </a:t>
            </a: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4B17832-F790-4382-A7DB-89A6C43523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4. szakasz: Rendszertechnikai alternatívák</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szakasz célja: kiértékelni, hogy melyik az a legjobb technikai termék-halmaz, amely a választott rendszerszervezési alternatívából a működési és szervezeti célok figyelembevételével kialakított követelmény-specifikáció követelményeit kielégíti. Ehhez meg kell találni a ráfordításhoz képest kapott legnagyobb értéket, nem csak a kezdeti hardver, szoftver és szolgáltatások beszerzési értékeit, hanem a tulajdonlás összes kiadásait figyelembe vév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u="sng">
                <a:solidFill>
                  <a:srgbClr val="000000"/>
                </a:solidFill>
                <a:uFillTx/>
                <a:latin typeface="Arial"/>
              </a:rPr>
              <a:t>Termékek</a:t>
            </a:r>
            <a:r>
              <a:rPr b="0" lang="hu-HU"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lkalmazásszintű környezeti útmutató </a:t>
            </a:r>
            <a:br>
              <a:rPr sz="1500"/>
            </a:br>
            <a:r>
              <a:rPr b="0" lang="hu-HU" sz="1500" spc="-1" strike="noStrike">
                <a:solidFill>
                  <a:srgbClr val="000000"/>
                </a:solidFill>
                <a:latin typeface="Arial"/>
              </a:rPr>
              <a:t>Kapacitástervezési kiinduló anyag </a:t>
            </a:r>
            <a:br>
              <a:rPr sz="1500"/>
            </a:br>
            <a:r>
              <a:rPr b="0" lang="hu-HU" sz="1500" spc="-1" strike="noStrike">
                <a:solidFill>
                  <a:srgbClr val="000000"/>
                </a:solidFill>
                <a:latin typeface="Arial"/>
              </a:rPr>
              <a:t>Technikai környezet leírása (választott alternatívához) </a:t>
            </a:r>
            <a:br>
              <a:rPr sz="1500"/>
            </a:br>
            <a:r>
              <a:rPr b="0" lang="hu-HU" sz="1500" spc="-1" strike="noStrike">
                <a:solidFill>
                  <a:srgbClr val="000000"/>
                </a:solidFill>
                <a:latin typeface="Arial"/>
              </a:rPr>
              <a:t>Rendszertechnikai alternatívák </a:t>
            </a:r>
            <a:endParaRPr b="0" lang="en-US" sz="15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u="sng">
                <a:solidFill>
                  <a:srgbClr val="000000"/>
                </a:solidFill>
                <a:uFillTx/>
                <a:latin typeface="Arial"/>
              </a:rPr>
              <a:t>Technikák</a:t>
            </a:r>
            <a:r>
              <a:rPr b="0" lang="hu-HU"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Dialógustervezés </a:t>
            </a:r>
            <a:br>
              <a:rPr sz="1500"/>
            </a:br>
            <a:r>
              <a:rPr b="0" lang="hu-HU" sz="1500" spc="-1" strike="noStrike">
                <a:solidFill>
                  <a:srgbClr val="000000"/>
                </a:solidFill>
                <a:latin typeface="Arial"/>
              </a:rPr>
              <a:t>Fizikai adattervezés </a:t>
            </a:r>
            <a:br>
              <a:rPr sz="1500"/>
            </a:br>
            <a:r>
              <a:rPr b="0" lang="hu-HU" sz="1500" spc="-1" strike="noStrike">
                <a:solidFill>
                  <a:srgbClr val="000000"/>
                </a:solidFill>
                <a:latin typeface="Arial"/>
              </a:rPr>
              <a:t>Fizikai folyamattervezés </a:t>
            </a:r>
            <a:br>
              <a:rPr sz="1500"/>
            </a:br>
            <a:r>
              <a:rPr b="0" lang="hu-HU" sz="1500" spc="-1" strike="noStrike">
                <a:solidFill>
                  <a:srgbClr val="000000"/>
                </a:solidFill>
                <a:latin typeface="Arial"/>
              </a:rPr>
              <a:t>Rendszertechnikai alternatívák </a:t>
            </a:r>
            <a:endParaRPr b="0" lang="en-US" sz="15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u="sng">
                <a:solidFill>
                  <a:srgbClr val="000000"/>
                </a:solidFill>
                <a:uFillTx/>
                <a:latin typeface="Arial"/>
              </a:rPr>
              <a:t>Tevékenységek</a:t>
            </a:r>
            <a:r>
              <a:rPr b="0" lang="hu-HU"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410. lépés: Rendszertechnikai alternatívák meghatározása </a:t>
            </a:r>
            <a:br>
              <a:rPr sz="1500"/>
            </a:br>
            <a:r>
              <a:rPr b="0" lang="hu-HU" sz="1500" spc="-1" strike="noStrike">
                <a:solidFill>
                  <a:srgbClr val="000000"/>
                </a:solidFill>
                <a:latin typeface="Arial"/>
              </a:rPr>
              <a:t>420. lépés: Rendszertechnikai alternatíva kiválasztása</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F0131AF-11ED-4CE5-9C63-D21ABF903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5. szakasz: Logikai rendszertervezés</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akasz célja: Részletesen meghatározni a követelmény-specifikációban áttételesen megfogalmazott feldolgozási szerkezeteket. Meghatározni megfelelő mélységben a feldolgozás ember és számítógép közötti felületét dialógusok formájában. Részletes specifikációt készíteni.</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u="sng">
                <a:solidFill>
                  <a:srgbClr val="000000"/>
                </a:solidFill>
                <a:uFillTx/>
                <a:latin typeface="Arial"/>
              </a:rPr>
              <a:t>Termékek</a:t>
            </a:r>
            <a:r>
              <a:rPr b="0" lang="hu-HU"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Logikai rendszerterv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u="sng">
                <a:solidFill>
                  <a:srgbClr val="000000"/>
                </a:solidFill>
                <a:uFillTx/>
                <a:latin typeface="Arial"/>
              </a:rPr>
              <a:t>Technikák</a:t>
            </a:r>
            <a:r>
              <a:rPr b="0" lang="hu-HU"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Dialógustervezés </a:t>
            </a:r>
            <a:br>
              <a:rPr sz="1700"/>
            </a:br>
            <a:r>
              <a:rPr b="0" lang="hu-HU" sz="1700" spc="-1" strike="noStrike">
                <a:solidFill>
                  <a:srgbClr val="000000"/>
                </a:solidFill>
                <a:latin typeface="Arial"/>
              </a:rPr>
              <a:t>Egyed-esemény modellezés </a:t>
            </a:r>
            <a:br>
              <a:rPr sz="1700"/>
            </a:br>
            <a:r>
              <a:rPr b="0" lang="hu-HU" sz="1700" spc="-1" strike="noStrike">
                <a:solidFill>
                  <a:srgbClr val="000000"/>
                </a:solidFill>
                <a:latin typeface="Arial"/>
              </a:rPr>
              <a:t>Logikai adatfeldolgozás tervezése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u="sng">
                <a:solidFill>
                  <a:srgbClr val="000000"/>
                </a:solidFill>
                <a:uFillTx/>
                <a:latin typeface="Arial"/>
              </a:rPr>
              <a:t>Tevékenységek</a:t>
            </a:r>
            <a:r>
              <a:rPr b="0" lang="hu-HU" sz="1900" spc="-1" strike="noStrike">
                <a:solidFill>
                  <a:srgbClr val="000000"/>
                </a:solidFill>
                <a:latin typeface="Arial"/>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510. lépés: Felhasználói dialógusok meghatározása </a:t>
            </a:r>
            <a:br>
              <a:rPr sz="1700"/>
            </a:br>
            <a:r>
              <a:rPr b="0" lang="hu-HU" sz="1700" spc="-1" strike="noStrike">
                <a:solidFill>
                  <a:srgbClr val="000000"/>
                </a:solidFill>
                <a:latin typeface="Arial"/>
              </a:rPr>
              <a:t>520. lépés: Módosító feldolgozások tervezése </a:t>
            </a:r>
            <a:br>
              <a:rPr sz="1700"/>
            </a:br>
            <a:r>
              <a:rPr b="0" lang="hu-HU" sz="1700" spc="-1" strike="noStrike">
                <a:solidFill>
                  <a:srgbClr val="000000"/>
                </a:solidFill>
                <a:latin typeface="Arial"/>
              </a:rPr>
              <a:t>530. lépés: Lekérdező feldolgozások tervezése </a:t>
            </a:r>
            <a:br>
              <a:rPr sz="1700"/>
            </a:br>
            <a:r>
              <a:rPr b="0" lang="hu-HU" sz="1700" spc="-1" strike="noStrike">
                <a:solidFill>
                  <a:srgbClr val="000000"/>
                </a:solidFill>
                <a:latin typeface="Arial"/>
              </a:rPr>
              <a:t>540. lépés: Logikai rendszerterv összeállítása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368DEA5-C589-47D1-8562-56579ADC1F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Információs rendszere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200"/>
            <a:ext cx="6248520" cy="290052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endszerfejlesztési módszertanok összehasonlító elemzése</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321A7539-61C6-4DAA-8970-338FF906D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Objektumorientált módszertanok</a:t>
            </a:r>
            <a:endParaRPr b="1" lang="en-US" sz="3900" spc="-1" strike="noStrike">
              <a:solidFill>
                <a:srgbClr val="330066"/>
              </a:solidFill>
              <a:latin typeface="Arial"/>
            </a:endParaRPr>
          </a:p>
        </p:txBody>
      </p:sp>
      <p:sp>
        <p:nvSpPr>
          <p:cNvPr id="136"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z objektumorientált szemlélet legfontosabb paradigmái:</a:t>
            </a:r>
            <a:endParaRPr b="0" lang="en-US" sz="16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bsztrakció</a:t>
            </a:r>
            <a:r>
              <a:rPr b="0" lang="hu-HU" sz="1400" spc="-1" strike="noStrike">
                <a:solidFill>
                  <a:srgbClr val="000000"/>
                </a:solidFill>
                <a:latin typeface="Arial"/>
              </a:rPr>
              <a:t>, </a:t>
            </a:r>
            <a:r>
              <a:rPr b="1" lang="hu-HU" sz="1400" spc="-1" strike="noStrike">
                <a:solidFill>
                  <a:srgbClr val="000000"/>
                </a:solidFill>
                <a:latin typeface="Arial"/>
              </a:rPr>
              <a:t>modellezés</a:t>
            </a:r>
            <a:r>
              <a:rPr b="0" lang="hu-HU" sz="1400" spc="-1" strike="noStrike">
                <a:solidFill>
                  <a:srgbClr val="000000"/>
                </a:solidFill>
                <a:latin typeface="Arial"/>
              </a:rPr>
              <a:t>: a bonyolultság kezelésének hatékony mechanizmusa, </a:t>
            </a:r>
            <a:endParaRPr b="0" lang="en-US" sz="14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ségbezárás</a:t>
            </a:r>
            <a:r>
              <a:rPr b="0" lang="hu-HU" sz="1400" spc="-1" strike="noStrike">
                <a:solidFill>
                  <a:srgbClr val="000000"/>
                </a:solidFill>
                <a:latin typeface="Arial"/>
              </a:rPr>
              <a:t>: az adatok és a műveletek egységben történő kezelése. Az egységbezárás azt jelenti, hogy az objektumokat egy olyan dobozként kezeljük, amelyben adatok vannak, és amelyhez műveletekkel lehet hozzáférni. Az ilyen műveletek aktivizálásához egy külső jelre van szükség, amely egy másik objektumtól érkezhet.</a:t>
            </a:r>
            <a:endParaRPr b="0" lang="en-US" sz="14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röklési</a:t>
            </a:r>
            <a:r>
              <a:rPr b="0" lang="hu-HU" sz="1400" spc="-1" strike="noStrike">
                <a:solidFill>
                  <a:srgbClr val="000000"/>
                </a:solidFill>
                <a:latin typeface="Arial"/>
              </a:rPr>
              <a:t> mechanizmus. Az öröklődés olyan, osztályok közötti viszony, amely lehetővé teszi, hogy egy osztály sajátjaként kezelje a nála általánosabb osztályba definiált attribútumokat és műveleteket.</a:t>
            </a:r>
            <a:endParaRPr b="0" lang="en-US" sz="14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Polimorfizmus</a:t>
            </a:r>
            <a:r>
              <a:rPr b="0" lang="hu-HU" sz="1400" spc="-1" strike="noStrike">
                <a:solidFill>
                  <a:srgbClr val="000000"/>
                </a:solidFill>
                <a:latin typeface="Arial"/>
              </a:rPr>
              <a:t>, ami az objektumoknak azt a képességét jelenti, amely lehetővé teszi az adott objektum adatainak, illetve műveleteinek egymástól eltérő formában történő alkalmazását.</a:t>
            </a:r>
            <a:endParaRPr b="0" lang="en-US" sz="14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Újrafelhasználhatóság</a:t>
            </a:r>
            <a:r>
              <a:rPr b="0" lang="hu-HU" sz="1400" spc="-1" strike="noStrike">
                <a:solidFill>
                  <a:srgbClr val="000000"/>
                </a:solidFill>
                <a:latin typeface="Arial"/>
              </a:rPr>
              <a:t>, ami lehetővé teszi a fejlesztők számára, hogy a kidolgozott modellelemeket más alkalmazásokban, fejlesztésekben is felhasználják.</a:t>
            </a:r>
            <a:endParaRPr b="0" lang="en-US" sz="14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Perzisztencia</a:t>
            </a:r>
            <a:r>
              <a:rPr b="0" lang="hu-HU" sz="1400" spc="-1" strike="noStrike">
                <a:solidFill>
                  <a:srgbClr val="000000"/>
                </a:solidFill>
                <a:latin typeface="Arial"/>
              </a:rPr>
              <a:t>. A perzisztencia az objektumok fennmaradásának fontosságát, egyfajta állandóságát hangsúlyozza.</a:t>
            </a:r>
            <a:endParaRPr b="0" lang="en-US" sz="14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áthatóság</a:t>
            </a:r>
            <a:r>
              <a:rPr b="0" lang="hu-HU" sz="1400" spc="-1" strike="noStrike">
                <a:solidFill>
                  <a:srgbClr val="000000"/>
                </a:solidFill>
                <a:latin typeface="Arial"/>
              </a:rPr>
              <a:t> ami az objektumokhoz való hozzáférést biztosítja (</a:t>
            </a:r>
            <a:r>
              <a:rPr b="0" i="1" lang="hu-HU" sz="1400" spc="-1" strike="noStrike">
                <a:solidFill>
                  <a:srgbClr val="000000"/>
                </a:solidFill>
                <a:latin typeface="Arial"/>
              </a:rPr>
              <a:t>public</a:t>
            </a:r>
            <a:r>
              <a:rPr b="0" lang="hu-HU" sz="1400" spc="-1" strike="noStrike">
                <a:solidFill>
                  <a:srgbClr val="000000"/>
                </a:solidFill>
                <a:latin typeface="Arial"/>
              </a:rPr>
              <a:t>, ami minden külső objektum számára látható, </a:t>
            </a:r>
            <a:r>
              <a:rPr b="0" i="1" lang="hu-HU" sz="1400" spc="-1" strike="noStrike">
                <a:solidFill>
                  <a:srgbClr val="000000"/>
                </a:solidFill>
                <a:latin typeface="Arial"/>
              </a:rPr>
              <a:t>private</a:t>
            </a:r>
            <a:r>
              <a:rPr b="0" lang="hu-HU" sz="1400" spc="-1" strike="noStrike">
                <a:solidFill>
                  <a:srgbClr val="000000"/>
                </a:solidFill>
                <a:latin typeface="Arial"/>
              </a:rPr>
              <a:t>, ami csak az adott objektum műveletei számára elérhető, </a:t>
            </a:r>
            <a:r>
              <a:rPr b="0" i="1" lang="hu-HU" sz="1400" spc="-1" strike="noStrike">
                <a:solidFill>
                  <a:srgbClr val="000000"/>
                </a:solidFill>
                <a:latin typeface="Arial"/>
              </a:rPr>
              <a:t>védett</a:t>
            </a:r>
            <a:r>
              <a:rPr b="0" lang="hu-HU" sz="1400" spc="-1" strike="noStrike">
                <a:solidFill>
                  <a:srgbClr val="000000"/>
                </a:solidFill>
                <a:latin typeface="Arial"/>
              </a:rPr>
              <a:t>)</a:t>
            </a:r>
            <a:endParaRPr b="0" lang="en-US" sz="14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sztott használat</a:t>
            </a:r>
            <a:r>
              <a:rPr b="0" lang="hu-HU" sz="1400" spc="-1" strike="noStrike">
                <a:solidFill>
                  <a:srgbClr val="000000"/>
                </a:solidFill>
                <a:latin typeface="Arial"/>
              </a:rPr>
              <a:t>, ami az objektumok hatékony, redundancia mentes felhasználásról szó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C081DC6-98D3-46BD-A5A1-CBF1DB9DEA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OO módszertanok életciklus lefedései </a:t>
            </a:r>
            <a:endParaRPr b="1" lang="en-US" sz="3900" spc="-1" strike="noStrike">
              <a:solidFill>
                <a:srgbClr val="330066"/>
              </a:solidFill>
              <a:latin typeface="Arial"/>
            </a:endParaRPr>
          </a:p>
        </p:txBody>
      </p:sp>
      <p:pic>
        <p:nvPicPr>
          <p:cNvPr id="138" name="" descr=""/>
          <p:cNvPicPr/>
          <p:nvPr/>
        </p:nvPicPr>
        <p:blipFill>
          <a:blip r:embed="rId1"/>
          <a:stretch/>
        </p:blipFill>
        <p:spPr>
          <a:xfrm>
            <a:off x="1692360" y="2781360"/>
            <a:ext cx="6664320" cy="18162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A8AEC3D-2B2D-4161-8222-FDDD03CF1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Booch féle OO elemzési és tervezési módszertan</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Grady Booch 1993-ban publikálta először módszeré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Nagy hangsúlyt fektetett a rendszer funkcióinak elemzésére, a feltételek vizsgálatára, a követelmények specifikálására.</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15E4F45-C25C-464B-888E-24322226D3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Booch féle OO elemzési és tervezési módszertan fázisai</a:t>
            </a: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probléma definiálása</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stratégiai terv a fejlesztéshez</a:t>
            </a:r>
            <a:r>
              <a:rPr b="0" lang="hu-HU" sz="1900" spc="-1" strike="noStrike">
                <a:solidFill>
                  <a:srgbClr val="000000"/>
                </a:solidFill>
                <a:latin typeface="Wingdings"/>
                <a:ea typeface="Wingdings"/>
              </a:rPr>
              <a:t></a:t>
            </a:r>
            <a:r>
              <a:rPr b="0" lang="hu-HU" sz="1900" spc="-1" strike="noStrike">
                <a:solidFill>
                  <a:srgbClr val="000000"/>
                </a:solidFill>
                <a:latin typeface="Arial"/>
              </a:rPr>
              <a:t>cél a probléma szoftverrel történő támogatása</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stratégiai terv realizálása</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objektumok és jellemzőinek meghatározása</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objektumokkal végezhető műveletek definiálása</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objektumok és műveletek közötti intefészek megtervezés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objektumok kivitelezéséhez szükséges részletes terv elkészítése</a:t>
            </a:r>
            <a:endParaRPr b="0" lang="en-US" sz="17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finomítás (2,3,4 iteratív ismétlése)</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rendszer további finomítása, alosztályok keresése, üzenetek és egyéb elemek sajátosságainak részletezése</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objektum attribútumaira vonatkozó adatszerkezetek meghatározása</a:t>
            </a: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egyes műveletekhez kapcsolódó folyamatok részletes specifikációja.</a:t>
            </a:r>
            <a:endParaRPr b="0" lang="en-US" sz="1900" spc="-1" strike="noStrike">
              <a:solidFill>
                <a:srgbClr val="000000"/>
              </a:solidFill>
              <a:latin typeface="Arial"/>
            </a:endParaRPr>
          </a:p>
          <a:p>
            <a:pPr marL="361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61800" indent="-36180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lépések közül az első négy a fejlesztési igények specifikációja és az elemzési fázis, míg az 5,6,7 lépés a tervezési fázis.</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65CC68B-2BF6-4BE5-80AC-EF4FB92F96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UML</a:t>
            </a: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objektumorientált szemlélet megjelenése egyfajta újdonságot jelentett a tervezési folyamatba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nagy és bonyolult rendszereket csak hatékony módszerekkel lehet tervezni és fejleszteni, ehhez azonban egységesített technikákra van szükség, amelyek segítségével a folyamat nemcsak gyorsabb, de átláthatóbb, kezelhetőbb, ezáltal sokkal eredményesebb is lesz. Ahogy várható volt az objektum orientált módszertanok közül is sok megjelen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gyre célravezetőbbnek látszott egy egységes modellező megoldá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z UML modellezésre, vizualizációra, specifikálásra, megvalósításra és dokumentálásra egyaránt alkalmas szimbólumrendszer, amely több objektumorientált módszertan koncepcióját olvasztja egységb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DE2C7AA-ADE4-413F-92F2-44CBCE794B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330066"/>
                </a:solidFill>
                <a:latin typeface="Arial"/>
              </a:rPr>
              <a:t>Az UML kidolgozásánál a következő elveket vették figyelembe</a:t>
            </a:r>
            <a:endParaRPr b="1" lang="en-US" sz="3200" spc="-1" strike="noStrike">
              <a:solidFill>
                <a:srgbClr val="330066"/>
              </a:solidFill>
              <a:latin typeface="Arial"/>
            </a:endParaRPr>
          </a:p>
        </p:txBody>
      </p:sp>
      <p:sp>
        <p:nvSpPr>
          <p:cNvPr id="1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nyelv legyen független a különböző fejlesztési folyamatoktól és programozási nyelvektő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nyelv aktuális verziója mindenki számára legyen elérhető</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ámogassa a fejlesztés elvei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tékony szemantikát és jelölőrendszert használj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sználja fel és egyesítse a legjobb gyakorlati megoldásoka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021DE53-4AAD-4BFF-BEAA-B0B1DAEA53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UML elemek</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Use Case</a:t>
            </a:r>
            <a:r>
              <a:rPr b="0" lang="hu-HU" sz="2100" spc="-1" strike="noStrike">
                <a:solidFill>
                  <a:srgbClr val="000000"/>
                </a:solidFill>
                <a:latin typeface="Arial"/>
              </a:rPr>
              <a:t>: Használati esetek diagramjai definiálhatók. Az esetek többségében szükség van ezek szöveges leírására i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Static Structure</a:t>
            </a:r>
            <a:r>
              <a:rPr b="0" lang="hu-HU" sz="2100" spc="-1" strike="noStrike">
                <a:solidFill>
                  <a:srgbClr val="000000"/>
                </a:solidFill>
                <a:latin typeface="Arial"/>
              </a:rPr>
              <a:t>: A rendszer statikus osztálystruktúráját írhatjuk le segítségéve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Statechart</a:t>
            </a:r>
            <a:r>
              <a:rPr b="0" lang="hu-HU" sz="2100" spc="-1" strike="noStrike">
                <a:solidFill>
                  <a:srgbClr val="000000"/>
                </a:solidFill>
                <a:latin typeface="Arial"/>
              </a:rPr>
              <a:t>: Az állapotátmenet-diagram rajzolásához ad eszközöke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Sequence</a:t>
            </a:r>
            <a:r>
              <a:rPr b="0" lang="hu-HU" sz="2100" spc="-1" strike="noStrike">
                <a:solidFill>
                  <a:srgbClr val="000000"/>
                </a:solidFill>
                <a:latin typeface="Arial"/>
              </a:rPr>
              <a:t>: Különböző szekvenciadiagramok rajzolására ad lehetősége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Deployment</a:t>
            </a:r>
            <a:r>
              <a:rPr b="0" lang="hu-HU" sz="2100" spc="-1" strike="noStrike">
                <a:solidFill>
                  <a:srgbClr val="000000"/>
                </a:solidFill>
                <a:latin typeface="Arial"/>
              </a:rPr>
              <a:t>: A rendszer telepítésével, fizikai felépítésével kapcsolatos információk meghatározására szolgá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Component</a:t>
            </a:r>
            <a:r>
              <a:rPr b="0" lang="hu-HU" sz="2100" spc="-1" strike="noStrike">
                <a:solidFill>
                  <a:srgbClr val="000000"/>
                </a:solidFill>
                <a:latin typeface="Arial"/>
              </a:rPr>
              <a:t>: A rendszer komponenseit rögzíthetjü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Collaboration</a:t>
            </a:r>
            <a:r>
              <a:rPr b="0" lang="hu-HU" sz="2100" spc="-1" strike="noStrike">
                <a:solidFill>
                  <a:srgbClr val="000000"/>
                </a:solidFill>
                <a:latin typeface="Arial"/>
              </a:rPr>
              <a:t>: Együttműködési diagramok rajzolására alkalma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Activity</a:t>
            </a:r>
            <a:r>
              <a:rPr b="0" lang="hu-HU" sz="2100" spc="-1" strike="noStrike">
                <a:solidFill>
                  <a:srgbClr val="000000"/>
                </a:solidFill>
                <a:latin typeface="Arial"/>
              </a:rPr>
              <a:t>: Akciódiagramokat definiálhatunk segítségével.</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9D866BF-C0BA-4B55-8560-8C517F8910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Köszönöm a figyelmet!</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E9121012-2767-41E7-BAD2-71F12A38E68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óra tematikája</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trukturált módszertano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Objektumorientált módszertanok</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3851124-D25F-4A97-A8BC-5E2402AAA8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330066"/>
                </a:solidFill>
                <a:latin typeface="Arial"/>
              </a:rPr>
              <a:t>A módszertanok fejlődése során az alábbi korszakokat különböztethetjük meg </a:t>
            </a:r>
            <a:endParaRPr b="1" lang="en-US" sz="32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ljárásközpontos (outputorinetált) korsza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datközpontos korsza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technológia-központos (strukturált) korsza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objektumorientált korsza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0348178-E0A8-41B8-BCF5-F68194EB97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eljárásközpontos technikában a legjellemzőbb a feldolgozási algoritmusok kiemelt kezelés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nnek megoldása úgynevezett rák-módszerrel történik, ami azt jelenti, hogy a rendszer tervezésnél az outputokból indulunk k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7919C8B-63A1-4BE4-B0CA-2C2504A448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adatfeldolgozási technikák elterjedése következtében előtérbe került az </a:t>
            </a:r>
            <a:r>
              <a:rPr b="1" lang="hu-HU" sz="3000" spc="-1" strike="noStrike">
                <a:solidFill>
                  <a:srgbClr val="000000"/>
                </a:solidFill>
                <a:latin typeface="Arial"/>
              </a:rPr>
              <a:t>adatorientáltság</a:t>
            </a:r>
            <a:r>
              <a:rPr b="0" lang="hu-H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z megváltoztatta a rendszerszervezéssel kapcsolatos szemléletet. Az </a:t>
            </a:r>
            <a:r>
              <a:rPr b="1" lang="hu-HU" sz="3000" spc="-1" strike="noStrike">
                <a:solidFill>
                  <a:srgbClr val="000000"/>
                </a:solidFill>
                <a:latin typeface="Arial"/>
              </a:rPr>
              <a:t>adatközpontos</a:t>
            </a:r>
            <a:r>
              <a:rPr b="0" lang="hu-HU" sz="3000" spc="-1" strike="noStrike">
                <a:solidFill>
                  <a:srgbClr val="000000"/>
                </a:solidFill>
                <a:latin typeface="Arial"/>
              </a:rPr>
              <a:t> tervezés előterében az adatok integrált kezelése és adatbázisba szervezése áll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AA9835F-4C1E-4415-8A5D-262BC0D52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következő tervezési korszakban előtérbe került a teljes rendszerfejlesztési </a:t>
            </a:r>
            <a:r>
              <a:rPr b="1" lang="hu-HU" sz="3000" spc="-1" strike="noStrike">
                <a:solidFill>
                  <a:srgbClr val="000000"/>
                </a:solidFill>
                <a:latin typeface="Arial"/>
              </a:rPr>
              <a:t>életciklus</a:t>
            </a:r>
            <a:r>
              <a:rPr b="0" lang="hu-HU" sz="3000" spc="-1" strike="noStrike">
                <a:solidFill>
                  <a:srgbClr val="000000"/>
                </a:solidFill>
                <a:latin typeface="Arial"/>
              </a:rPr>
              <a:t> technologizálása.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bben a korszakban fontos szerepet játszott a termékszemlélet megjelenése, a dokumentáció fontossága, a projekt szemlélet előtérbe kerülése, illetve a Case- eszközök megjelenés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038B02D-35F5-4896-86C2-8792B85AEF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jlesztés következő korszakára jellemzője az </a:t>
            </a:r>
            <a:r>
              <a:rPr b="1" lang="hu-HU" sz="2600" spc="-1" strike="noStrike">
                <a:solidFill>
                  <a:srgbClr val="000000"/>
                </a:solidFill>
                <a:latin typeface="Arial"/>
              </a:rPr>
              <a:t>objektumorientált</a:t>
            </a:r>
            <a:r>
              <a:rPr b="0" lang="hu-HU" sz="2600" spc="-1" strike="noStrike">
                <a:solidFill>
                  <a:srgbClr val="000000"/>
                </a:solidFill>
                <a:latin typeface="Arial"/>
              </a:rPr>
              <a:t> szemlélet elterjedése a rendszertervezés területén i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jlesztési munkát nagymértékben szerették volna csökkenteni, hogy ne kelljen többször is ugyanazt vagy nagyon hasonló fejlesztői munkát elvégezni.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eket a hasonló feladatokat, tevékenységeket objektumként kezelték, amit egy következő fázisban már csak alkalmazta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825C4B8-A38B-48CB-80E4-A2EAEC6A7D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trukturált módszertanok jellemzői</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Arial"/>
              </a:rPr>
              <a:t>Termékszemlélet</a:t>
            </a:r>
            <a:r>
              <a:rPr b="0" lang="hu-HU" sz="1300" spc="-1" strike="noStrike">
                <a:solidFill>
                  <a:srgbClr val="000000"/>
                </a:solidFill>
                <a:latin typeface="Arial"/>
              </a:rPr>
              <a:t>, amely azt jelenti, hogy a teljes fejlesztési életciklust egy termék-előállító technológiai folyamatnak tekintünk. Ennek megfelelően minden fejlesztés eredménye egy minőségileg megfelelő, szabványszerű termék.</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Maga a módszertan módszerek összessége, melyet a strukturált módszertanokban technikáknak is neveznek. A strukturált módszertanoknak vannak olyan technikái melyeket már korábban is alkalmaztak, és vannak kifejezetten a módszertanok számára fejlesztett módszerek is.</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Arial"/>
              </a:rPr>
              <a:t>Elemezés és tervezés</a:t>
            </a:r>
            <a:r>
              <a:rPr b="0" lang="hu-HU" sz="1300" spc="-1" strike="noStrike">
                <a:solidFill>
                  <a:srgbClr val="000000"/>
                </a:solidFill>
                <a:latin typeface="Arial"/>
              </a:rPr>
              <a:t> szétválasztása</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Más-más filozófia érvényesülése az elemzésben és tervezésben. Az elemzésben felülről lefele szemlélet érvényesül, amely a fokozatos megismerést szolgálja</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A rendszer alrendszerekre, azokat folyamatokra, funkciókra bontjuk. Ugyanígy foglalkozik az adatok és az interfészek lebontásával</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Az új rendszer tervezésében az alulról felfele szemlélet érvényesül. Ez jelenti, hogy a legkisebb elemekből kiindulva lehet eljutni a teljes rendszer struktúráig.</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Arial"/>
              </a:rPr>
              <a:t>Fokozatosság</a:t>
            </a:r>
            <a:r>
              <a:rPr b="0" lang="hu-HU" sz="1300" spc="-1" strike="noStrike">
                <a:solidFill>
                  <a:srgbClr val="000000"/>
                </a:solidFill>
                <a:latin typeface="Arial"/>
              </a:rPr>
              <a:t> és </a:t>
            </a:r>
            <a:r>
              <a:rPr b="1" lang="hu-HU" sz="1300" spc="-1" strike="noStrike">
                <a:solidFill>
                  <a:srgbClr val="000000"/>
                </a:solidFill>
                <a:latin typeface="Arial"/>
              </a:rPr>
              <a:t>iteratívitás</a:t>
            </a:r>
            <a:r>
              <a:rPr b="0" lang="hu-HU" sz="1300" spc="-1" strike="noStrike">
                <a:solidFill>
                  <a:srgbClr val="000000"/>
                </a:solidFill>
                <a:latin typeface="Arial"/>
              </a:rPr>
              <a:t>. A szervezeti munkában ez azt jelenti, hogy egy műveletet többször is végrehajtunk. Minden végrehajtásnál csak részleges információkkal rendelkezünk. Ezeket az információkat bővítjük a következő végrehajtás előtt.</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Arial"/>
              </a:rPr>
              <a:t>Logikai és fizikai</a:t>
            </a:r>
            <a:r>
              <a:rPr b="0" lang="hu-HU" sz="1300" spc="-1" strike="noStrike">
                <a:solidFill>
                  <a:srgbClr val="000000"/>
                </a:solidFill>
                <a:latin typeface="Arial"/>
              </a:rPr>
              <a:t> szemlélet szétválasztása, amelynek oka, hogy egyrészt csökkenteni lehessen az egyszerre keletkező problémák számát, másrész egyértelműen el lehessen választani a rendszerek viszonylag stabil, hosszabb ideig érvényes logikai szintű leírását a konkrét eszközfüggő fizikai rendszertől.</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Felhasználók bevonása</a:t>
            </a:r>
            <a:endParaRPr b="0" lang="en-US" sz="1300" spc="-1" strike="noStrike">
              <a:solidFill>
                <a:srgbClr val="000000"/>
              </a:solidFill>
              <a:latin typeface="Arial"/>
            </a:endParaRPr>
          </a:p>
          <a:p>
            <a:pPr marL="343080" indent="-34308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Case-eszközök támogatása</a:t>
            </a:r>
            <a:endParaRPr b="0" lang="en-US" sz="13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64F6816-B622-4D0D-BE5D-1EE00BBC9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ózsa Tünde</cp:lastModifiedBy>
  <dcterms:modified xsi:type="dcterms:W3CDTF">2007-10-03T08:58:16Z</dcterms:modified>
  <cp:revision>105</cp:revision>
  <dc:subject/>
  <dc:title>PowerPoint bemutató</dc:title>
</cp:coreProperties>
</file>