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2D24-7673-48AC-BB18-0DFDBAC850C0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3B0-DCB0-4769-BBBC-41D482EF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8F4-8CD5-4E9C-8DDC-B62BF621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51D-1BC3-4560-BEE6-44C52AEB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FB4-98AD-4473-851C-A2615732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CAEA-514B-4723-8C35-49B7DAED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57D6-2E7D-4983-98D9-0CA0AA3A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B11B-FE97-498C-8829-7F2FE75B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5892-DB4E-473D-8603-52440E57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A405-4936-4D1D-86D8-D1E69BE4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4237-CE9E-429A-B2C1-73DFDF76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1412-5F52-402F-8E66-C3EFB424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0C1-9252-49B4-9736-F98205C0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1C9E-9EE4-4EBF-BAD0-2E8334DB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DA41-5D97-4E1B-890A-515D3FF7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6C68-6530-447B-A873-6E964484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C4E1-1234-474F-9676-0B40DB23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305F-6850-462E-8413-58466262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7D0-7685-4C3F-AA0F-98F84A3E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445-7A44-4024-B94C-CAFA0AB9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288-2093-460A-8269-A94FC661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067-E3AF-4990-99E1-33118ADE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22D-8918-4D27-B9F8-4C7F90F8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FF8-A146-4F65-BBD0-D66B826E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DE8-F3C8-43FB-ACAE-925D485F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D90E-A5AC-44DE-9E8B-550D3239814E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1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C07B-EE67-4AC6-8CF1-66CE8C062A34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BFCB-F74B-46A7-BAE5-A07D2B8080FF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31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BFB8-DE3D-4712-AD19-875BBCFE05C4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Szenteleki Kár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ózsa Tü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E AVK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D79E-ECF5-4FF1-BDFC-98C94FE220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900" spc="-1" strike="noStrike">
                <a:solidFill>
                  <a:srgbClr val="330066"/>
                </a:solidFill>
                <a:latin typeface="Arial"/>
              </a:rPr>
              <a:t>Képzési követelmény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hallgatóknak az információ és rendszerelméleti alapok elsajátítását követően az információs rendszerek elméleti és gyakorlati alapismeretei mellett el kell sajátítani a rendszerek fejlesztésének módszereit, meg kell ismerkedni a legfontosabb módszertanokkal és a módszertanokban alkalmazott technikákk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764-CD9C-4C93-A1BF-0869F662D1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reditérték, órák szá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redit érték: 4 kred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Órák szám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 előad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 gyakorl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Rózsa Tün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EFA-0020-44DF-8553-5D0070E455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tárgy tartal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Információelméleti és rendszerelméleti alapfogalma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300" spc="-1" strike="noStrike">
                <a:solidFill>
                  <a:srgbClr val="000000"/>
                </a:solidFill>
                <a:latin typeface="Arial"/>
              </a:rPr>
              <a:t>Rendszer fogalom, rendszertípusok, rendszerek osztályozása, részrendszerek, rendszerszemléletű megközelítés, adatközpontú megközelítés, funkcionális megközelíté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Információs rendszere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300" spc="-1" strike="noStrike">
                <a:solidFill>
                  <a:srgbClr val="000000"/>
                </a:solidFill>
                <a:latin typeface="Arial"/>
              </a:rPr>
              <a:t>Információs rendszer fogalma, típusai, környezete, az információs rendszerek megközelítési aspektusai, rendszerfejlesztési ciklu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Információ menedzs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300" spc="-1" strike="noStrike">
                <a:solidFill>
                  <a:srgbClr val="000000"/>
                </a:solidFill>
                <a:latin typeface="Arial"/>
              </a:rPr>
              <a:t>Adat, információ, tudás, adatkezelés, információmenedzsment, tudásmenedzsment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Integrált információs rendszere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300" spc="-1" strike="noStrike">
                <a:solidFill>
                  <a:srgbClr val="000000"/>
                </a:solidFill>
                <a:latin typeface="Arial"/>
              </a:rPr>
              <a:t>ERP, VIR, Adattárház, Vezetői döntéstámogatás, Üzleti intelligenc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Információs rendszerek fejleszté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300" spc="-1" strike="noStrike">
                <a:solidFill>
                  <a:srgbClr val="000000"/>
                </a:solidFill>
                <a:latin typeface="Arial"/>
              </a:rPr>
              <a:t>Fejlesztési modellek, a fejlesztés szakaszai, módszertano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Rendszerfejlesztési módszertanok a gyakorlatb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300" spc="-1" strike="noStrike">
                <a:solidFill>
                  <a:srgbClr val="000000"/>
                </a:solidFill>
                <a:latin typeface="Arial"/>
              </a:rPr>
              <a:t>Informatikai stratégia, projekt menedzsment, SSADM, Objektumorientált módszertanok, U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Agrár-szakigazgatási információs rendszerek az Európai Uniób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300" spc="-1" strike="noStrike">
                <a:solidFill>
                  <a:srgbClr val="000000"/>
                </a:solidFill>
                <a:latin typeface="Arial"/>
              </a:rPr>
              <a:t>Agrárstatisztika, Piac Információs rendszer, Integrált Igazgatási és Ellenőrzési rendszer, Tesztüzemi rendszer, Mezőgazdasági Számlák rendsz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Információs rendszerek az agrárvállalkozásokb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300" spc="-1" strike="noStrike">
                <a:solidFill>
                  <a:srgbClr val="000000"/>
                </a:solidFill>
                <a:latin typeface="Arial"/>
              </a:rPr>
              <a:t>Növénytermesztési alkalmazások, Állattenyésztési alkalmazások, Kertészeti alkalmazások, Élelmiszeripari alkalmazások, Logisztikai rendszere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DCB1-85A6-4565-B6C1-88764000AD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övetelmény, számonkér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Év közbeni számonkér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Írásbeli 6 és 11 hé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Vizsgára jelentkezés előfeltéte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Legalább elégséges gyakorlati j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gyéni esettanulmány: 12 hét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Év végi számonkér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Írásbeli: tesz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óbeli tételsor alapjá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A6D-84D8-4CF1-9430-8AB1A2FF10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ötelező irodalo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enteleki K.-Rózsa T.: Információs rendszerek. HEFOP elektronikus tanköny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2EA-DFBA-4D26-9828-813B5837D5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jánlott irodalo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Dobay Péter (1997): Vállalati információmenedzsment. Budapest, Nemzeti Tankönyvkiad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ábor András (1997): Információ-menedzsment. Aula Kiadó. ISBN 963-9078-4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affai Mária (2000): Az információrendszer-tervezés. Adatbázis tervezés. Palatia Kiad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affai Mária (2003): Információrendszerek fejlesztése és menedzselése. Palatia Kiad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affai Mária (2006): Az információ. Alexander Alapítvány, Győr. ISBN:963-7692-10-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5DF-F212-4289-BAC8-2409945856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ózsa Tünde</cp:lastModifiedBy>
  <dcterms:modified xsi:type="dcterms:W3CDTF">2007-09-07T09:03:41Z</dcterms:modified>
  <cp:revision>105</cp:revision>
  <dc:subject/>
  <dc:title>PowerPoint bemutató</dc:title>
</cp:coreProperties>
</file>