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4E16-A573-4666-98FD-D257FF10DE05}"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6CC08-4E7A-45E1-BC50-24468555D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A8989-85A5-499A-AAC6-E781F91EE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EE60B-199B-4E71-A04F-6C8B44809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18E04-2A2D-41D5-B500-4C2CC2BFC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94F08-273D-4758-9C9C-8D7F45158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33032-B993-4FBD-A72B-1E38D0BC5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7"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216A9-D28D-4C73-B870-4513CFA30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9"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66228-5E30-424F-B81B-73668E6C1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C59D2-E80E-4AFB-AFF5-EC695CB43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8A725-5A5A-43DE-8B27-77366DEB7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4"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EFAE7-4AA2-43EC-B797-B846679A2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4590A-3F39-44D2-A17A-E9B274FE9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F034E-2FD5-4823-8BB6-49E515724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2"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810CB-8555-4E10-ADD1-867DF0BA4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6"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E3A38-F35C-4C55-BBB1-1625CBD5F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9"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C19C4-ED60-488B-8360-481A76545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84"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4D84C-00E1-4775-AC57-7D5C35E63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2B05D-2B12-4931-935F-29CD85D63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A6762-CC47-4C36-B60D-06640DD11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B73B7-C999-44E4-815D-F225E634C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0B2E-92E5-4A1E-8F1D-D980DE31E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F620-ADC8-4FA6-89FF-DA1BD2A55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7968D-2865-4C1C-A621-5798128B2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4002-94E8-42CC-82A3-C5050CC03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D20A-88E8-4B90-9390-17A35C68E704}"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EE54-2995-481C-B96D-ADA56ED67C9C}"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53DB-12FC-4D75-8C20-888D9F62B8C2}"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F022-4ED4-41F1-B308-9AC069257C37}"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ációs rendszere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Szenteleki Károly</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BCE</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ózsa Tünde</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ek típusai</a:t>
            </a: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lapvetően az információszolgáltatás, a rendszer funkciói és az információs rendszer alkalmazási terülte adja az információs rendszerek lehetséges csoportosítását vagy tipizálásá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FE221C6-D880-4546-BCFF-671AE7994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ek típusai</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egyik megközelítési mód az eszközrendszert, működtetési módot veszi figyelembe, mely szerint az információs rendszer lehe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anuális, é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ámítógéppel támogatot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D238620-3B8A-41CA-B7BA-3CD7C7A93D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ek típusai</a:t>
            </a:r>
            <a:endParaRPr b="1" lang="en-US" sz="39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 másik csoportosítás a rendszer célja szerint történik.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tt kialakult legfontosabb csoportok:</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Vállalati (intézményi, vállalkozási) információs rendszerek:</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100" spc="-1" strike="noStrike">
                <a:solidFill>
                  <a:srgbClr val="000000"/>
                </a:solidFill>
                <a:latin typeface="Arial"/>
              </a:rPr>
              <a:t>termelésirányítási,</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100" spc="-1" strike="noStrike">
                <a:solidFill>
                  <a:srgbClr val="000000"/>
                </a:solidFill>
                <a:latin typeface="Arial"/>
              </a:rPr>
              <a:t>marketing,</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100" spc="-1" strike="noStrike">
                <a:solidFill>
                  <a:srgbClr val="000000"/>
                </a:solidFill>
                <a:latin typeface="Arial"/>
              </a:rPr>
              <a:t>logisztikai,</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100" spc="-1" strike="noStrike">
                <a:solidFill>
                  <a:srgbClr val="000000"/>
                </a:solidFill>
                <a:latin typeface="Arial"/>
              </a:rPr>
              <a:t>pénzügyi, számviteli,</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 </a:t>
            </a:r>
            <a:r>
              <a:rPr b="0" lang="hu-HU" sz="2100" spc="-1" strike="noStrike">
                <a:solidFill>
                  <a:srgbClr val="000000"/>
                </a:solidFill>
                <a:latin typeface="Arial"/>
              </a:rPr>
              <a:t>emberi erőforrás gazdálkodási információs rendszerek</a:t>
            </a:r>
            <a:endParaRPr b="0" lang="en-US" sz="21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Vezetői információs rendszerek</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Integrált vállalatirányítási rendszerek</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Irodai információs rendszerek.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4902302-6CC6-4C23-84E3-C9914E0CF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lalati információs rendszerek</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a:t>
            </a:r>
            <a:r>
              <a:rPr b="1" lang="hu-HU" sz="1700" spc="-1" strike="noStrike">
                <a:solidFill>
                  <a:srgbClr val="000000"/>
                </a:solidFill>
                <a:latin typeface="Arial"/>
              </a:rPr>
              <a:t>vállalati információs rendszerek</a:t>
            </a:r>
            <a:r>
              <a:rPr b="0" lang="hu-HU" sz="1700" spc="-1" strike="noStrike">
                <a:solidFill>
                  <a:srgbClr val="000000"/>
                </a:solidFill>
                <a:latin typeface="Arial"/>
              </a:rPr>
              <a:t> a gazdálkodó szervezetek reál és elszámolási folyamataihoz, a termelési és szolgáltatási feladatokhoz kapcsolódó, az azokat kiszolgáló információs rendszere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Reál folyamatnak</a:t>
            </a:r>
            <a:r>
              <a:rPr b="0" lang="hu-HU" sz="1700" spc="-1" strike="noStrike">
                <a:solidFill>
                  <a:srgbClr val="000000"/>
                </a:solidFill>
                <a:latin typeface="Arial"/>
              </a:rPr>
              <a:t> nevezzük a termék-előállítás, illetve a szolgáltatás teljesítésének folyamatát. Például egy gépkocsi szerviz esetén munkafelvétel, anyag-kivételezés, javítások elvégzése, ellenőrzés, gépkocsi átadása a tulajdonosának.</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ehhez kapcsolódóan keletkeznek olyan folyamatok a valós életben amiket az információs rendszerben, mint modellben is elő kell állítani, kezelni és tárolni kell. Ilyen lehet a:</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Előkalkuláció, ajánlatkészítés</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jánlat elfogadásának, elutasításának kezelése</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Munkalap kitöltése, anyagigénylés</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nyag-kivételezési jegy kitöltése</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tényleges javítások és anyagfelhasználás munkalapra vezetése</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Számla kiállítás</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munkalapon lévő emberi munka bérének az elszámolása</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Utókalkuláció</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3F768F4-1347-4197-86FB-96FB9A9A2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etői információs rendszerek</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Vezetői információs rendszerek</a:t>
            </a:r>
            <a:r>
              <a:rPr b="0" lang="hu-HU" sz="2100" spc="-1" strike="noStrike">
                <a:solidFill>
                  <a:srgbClr val="000000"/>
                </a:solidFill>
                <a:latin typeface="Arial"/>
              </a:rPr>
              <a:t> a különböző szintű vezetést támogató információs rendszereket, melyek a vezetési feladatokhoz kapcsolódnak, illetve azokat szolgálják ki megfelelő információkkal, a vezetői információs rendszerek csoportjába soroljuk.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vezetői információs rendszer a középvezetők, illetve olyan szakemberek számára nyújt segítséget, akik a rendelkezésre álló információk birtokába már döntéseket hoznak.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mberi teljesítőképességet meghaladó komplex problémák szintetizálását, részletes elemzését végző, elsősorban a döntéshozatalt segítő rendszerek a döntéstámogató rendszerek.</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különböző szintű vezetői információs rendszerek szerkezete alapvetően eltér a vállalati elszámolási rendszerektől. Míg azok jellemzője a tranzakció orientált szerkezet, addig a vezetői információs rendszerek többdimenziós un. multidimenzionális szerkezettel rendelkeznek.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C5BF410-2221-4362-B387-529354ED6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tegrált vállalatirányítási rendszer</a:t>
            </a: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integrált vállalatirányítási rendszerek egy szervezet teljes információs rendszerét magába foglalják, gondoskodnak az összes szervezeti folyamat és adat kezelésérő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z azt is jelenti, hogy az információ piramis horizontális síkján található valamennyi tevékenység területének információs (al)rendszere együtt, integráltan működik, egy rendszert alkot és kiszolgálja a vertikális szintek felhasználóinak igényeit i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integrált vállalatirányítási rendszerek létrehozására és alkalmazására vállalkozók olyan korszerű adatraktárakat építenek, melyek hatékonyan és gyorsan látják el a gazdálkodó szervezetek egészét, partnereit megfelelő információkkal.</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8729C33-1D42-479E-B5F1-44D1F7B9D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rodai információs rendszerek</a:t>
            </a: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rodai információs rendszerek az utóbbi években egyre nagyobb teret hódítanak a számítógépek elterjedésének köszönhetően.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rodaautomatizálásról 1964 óta beszélhetünk, amióta az IBM elkészítette az első mágneses háttértárral felszerelt irodai szövegfeldolgozó berendezés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rodaautomatizálás nagyon sokáig csak az egyes manuális tevékenységek kiváltását jelentette, úgy vélték az irodai folyamatokat nem lehet a termelési, elszámolási folyamatokhoz hasonlóan modellezn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31FA25E-AAF0-4DD3-A88E-49D4CB6EFD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 piramis</a:t>
            </a:r>
            <a:endParaRPr b="1" lang="en-US" sz="3900" spc="-1" strike="noStrike">
              <a:solidFill>
                <a:srgbClr val="330066"/>
              </a:solidFill>
              <a:latin typeface="Arial"/>
            </a:endParaRPr>
          </a:p>
        </p:txBody>
      </p:sp>
      <p:pic>
        <p:nvPicPr>
          <p:cNvPr id="130" name="" descr=""/>
          <p:cNvPicPr/>
          <p:nvPr/>
        </p:nvPicPr>
        <p:blipFill>
          <a:blip r:embed="rId1"/>
          <a:stretch/>
        </p:blipFill>
        <p:spPr>
          <a:xfrm>
            <a:off x="971640" y="1916280"/>
            <a:ext cx="6875280" cy="33271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AF18271-D75D-4C31-B88F-83EBD96DE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R időbeli fejlődése</a:t>
            </a:r>
            <a:endParaRPr b="1" lang="en-US" sz="3900" spc="-1" strike="noStrike">
              <a:solidFill>
                <a:srgbClr val="330066"/>
              </a:solidFill>
              <a:latin typeface="Arial"/>
            </a:endParaRPr>
          </a:p>
        </p:txBody>
      </p:sp>
      <p:pic>
        <p:nvPicPr>
          <p:cNvPr id="132" name="" descr=""/>
          <p:cNvPicPr/>
          <p:nvPr/>
        </p:nvPicPr>
        <p:blipFill>
          <a:blip r:embed="rId1"/>
          <a:stretch/>
        </p:blipFill>
        <p:spPr>
          <a:xfrm>
            <a:off x="1258920" y="1700280"/>
            <a:ext cx="6265800" cy="44370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C519928-65B3-41CE-B01C-D73FF8E2F6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 rendszertípusok</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ranzakciófeldolgozó rendszerekről (TP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ezetői információs rendszerekről (MI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rodaautomatizálási rendszerekről (O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öntéstámogató rendszerekről (D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akértői rendszerekről (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elsővezetői információs rendszerekről (EI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ntegrált vállalatirányítási rendszerekről (ER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Üzleti intelligencia rendszerekről (B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EBFB4D2-F59D-466D-9F99-D9BB786C23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Információs rendszere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nformációs rendszerek</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FFAEFB2D-F94C-4C9E-BE90-3EB748DF4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 rendszer és környezete</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információs rendszer fő célja, függetlenül a típusától az információ </a:t>
            </a:r>
            <a:r>
              <a:rPr b="0" lang="hu-HU" sz="2100" spc="-1" strike="noStrike" u="sng">
                <a:solidFill>
                  <a:srgbClr val="000000"/>
                </a:solidFill>
                <a:uFillTx/>
                <a:latin typeface="Arial"/>
              </a:rPr>
              <a:t>előállítás</a:t>
            </a:r>
            <a:r>
              <a:rPr b="0" lang="hu-HU" sz="2100" spc="-1" strike="noStrike">
                <a:solidFill>
                  <a:srgbClr val="000000"/>
                </a:solidFill>
                <a:latin typeface="Arial"/>
              </a:rPr>
              <a:t>, vagyis olyan, célorientált üzenetek létrehozása, amelyek a címzett számára újdonságot jelentenek, bizonytalanságot szüntetnek meg és feladataik, döntéseik teljesítésében segítséget nyújtana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Bármilyen szervezeti tevékenységet is vizsgálunk, kénytelenek vagyunk belátni, hogy </a:t>
            </a:r>
            <a:r>
              <a:rPr b="0" lang="hu-HU" sz="2100" spc="-1" strike="noStrike" u="sng">
                <a:solidFill>
                  <a:srgbClr val="000000"/>
                </a:solidFill>
                <a:uFillTx/>
                <a:latin typeface="Arial"/>
              </a:rPr>
              <a:t>nyitott</a:t>
            </a:r>
            <a:r>
              <a:rPr b="0" lang="hu-HU" sz="2100" spc="-1" strike="noStrike">
                <a:solidFill>
                  <a:srgbClr val="000000"/>
                </a:solidFill>
                <a:latin typeface="Arial"/>
              </a:rPr>
              <a:t> rendszerként működnek. Minden szervezet legyen az profit orientált vagy non profit szervezet működni csak a környezetéből és a környezetének tud, vagyis működéséhez erőforrásokat használ fel, amelyeket más szervezetektől; a szállítóktól szerez be, tevékenységének eredményét pedig az igénylőknek, a vevőknek adja.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12BAB96-DDBD-482F-AF04-13B89FF9EF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vállalati rendszer és környezete</a:t>
            </a:r>
            <a:endParaRPr b="1" lang="en-US" sz="3900" spc="-1" strike="noStrike">
              <a:solidFill>
                <a:srgbClr val="330066"/>
              </a:solidFill>
              <a:latin typeface="Arial"/>
            </a:endParaRPr>
          </a:p>
        </p:txBody>
      </p:sp>
      <p:grpSp>
        <p:nvGrpSpPr>
          <p:cNvPr id="138" name=""/>
          <p:cNvGrpSpPr/>
          <p:nvPr/>
        </p:nvGrpSpPr>
        <p:grpSpPr>
          <a:xfrm>
            <a:off x="539640" y="1557360"/>
            <a:ext cx="8064720" cy="4464000"/>
            <a:chOff x="539640" y="1557360"/>
            <a:chExt cx="8064720" cy="4464000"/>
          </a:xfrm>
        </p:grpSpPr>
        <p:grpSp>
          <p:nvGrpSpPr>
            <p:cNvPr id="139" name=""/>
            <p:cNvGrpSpPr/>
            <p:nvPr/>
          </p:nvGrpSpPr>
          <p:grpSpPr>
            <a:xfrm>
              <a:off x="539640" y="1557360"/>
              <a:ext cx="8064720" cy="4464000"/>
              <a:chOff x="539640" y="1557360"/>
              <a:chExt cx="8064720" cy="4464000"/>
            </a:xfrm>
          </p:grpSpPr>
          <p:sp>
            <p:nvSpPr>
              <p:cNvPr id="140" name=""/>
              <p:cNvSpPr/>
              <p:nvPr/>
            </p:nvSpPr>
            <p:spPr>
              <a:xfrm>
                <a:off x="3355920" y="4262760"/>
                <a:ext cx="1536120" cy="405720"/>
              </a:xfrm>
              <a:prstGeom prst="rect">
                <a:avLst/>
              </a:prstGeom>
              <a:solidFill>
                <a:srgbClr val="ffffff"/>
              </a:solidFill>
              <a:ln w="0">
                <a:noFill/>
              </a:ln>
            </p:spPr>
            <p:style>
              <a:lnRef idx="0"/>
              <a:fillRef idx="0"/>
              <a:effectRef idx="0"/>
              <a:fontRef idx="minor"/>
            </p:style>
            <p:txBody>
              <a:bodyPr lIns="90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Sürgeté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felszólítás</a:t>
                </a:r>
                <a:endParaRPr b="0" lang="en-US" sz="1000" spc="-1" strike="noStrike">
                  <a:solidFill>
                    <a:srgbClr val="000000"/>
                  </a:solidFill>
                  <a:latin typeface="Times New Roman"/>
                </a:endParaRPr>
              </a:p>
            </p:txBody>
          </p:sp>
          <p:sp>
            <p:nvSpPr>
              <p:cNvPr id="141" name=""/>
              <p:cNvSpPr/>
              <p:nvPr/>
            </p:nvSpPr>
            <p:spPr>
              <a:xfrm>
                <a:off x="3355920" y="3992040"/>
                <a:ext cx="153612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Visszaigazolás</a:t>
                </a:r>
                <a:endParaRPr b="0" lang="en-US" sz="1000" spc="-1" strike="noStrike">
                  <a:solidFill>
                    <a:srgbClr val="000000"/>
                  </a:solidFill>
                  <a:latin typeface="Times New Roman"/>
                </a:endParaRPr>
              </a:p>
            </p:txBody>
          </p:sp>
          <p:sp>
            <p:nvSpPr>
              <p:cNvPr id="142" name=""/>
              <p:cNvSpPr/>
              <p:nvPr/>
            </p:nvSpPr>
            <p:spPr>
              <a:xfrm>
                <a:off x="3355920" y="3721680"/>
                <a:ext cx="153612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Megrendelés</a:t>
                </a:r>
                <a:endParaRPr b="0" lang="en-US" sz="1000" spc="-1" strike="noStrike">
                  <a:solidFill>
                    <a:srgbClr val="000000"/>
                  </a:solidFill>
                  <a:latin typeface="Times New Roman"/>
                </a:endParaRPr>
              </a:p>
            </p:txBody>
          </p:sp>
          <p:sp>
            <p:nvSpPr>
              <p:cNvPr id="143" name=""/>
              <p:cNvSpPr/>
              <p:nvPr/>
            </p:nvSpPr>
            <p:spPr>
              <a:xfrm>
                <a:off x="3355920" y="3450960"/>
                <a:ext cx="153612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Ajánlat</a:t>
                </a:r>
                <a:endParaRPr b="0" lang="en-US" sz="1000" spc="-1" strike="noStrike">
                  <a:solidFill>
                    <a:srgbClr val="000000"/>
                  </a:solidFill>
                  <a:latin typeface="Times New Roman"/>
                </a:endParaRPr>
              </a:p>
            </p:txBody>
          </p:sp>
          <p:sp>
            <p:nvSpPr>
              <p:cNvPr id="144" name=""/>
              <p:cNvSpPr/>
              <p:nvPr/>
            </p:nvSpPr>
            <p:spPr>
              <a:xfrm>
                <a:off x="3355920" y="3180600"/>
                <a:ext cx="89604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Ajánlatkérés</a:t>
                </a:r>
                <a:endParaRPr b="0" lang="en-US" sz="1000" spc="-1" strike="noStrike">
                  <a:solidFill>
                    <a:srgbClr val="000000"/>
                  </a:solidFill>
                  <a:latin typeface="Times New Roman"/>
                </a:endParaRPr>
              </a:p>
            </p:txBody>
          </p:sp>
          <p:sp>
            <p:nvSpPr>
              <p:cNvPr id="145" name=""/>
              <p:cNvSpPr/>
              <p:nvPr/>
            </p:nvSpPr>
            <p:spPr>
              <a:xfrm>
                <a:off x="3355920" y="2503440"/>
                <a:ext cx="63972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Számla</a:t>
                </a:r>
                <a:endParaRPr b="0" lang="en-US" sz="1000" spc="-1" strike="noStrike">
                  <a:solidFill>
                    <a:srgbClr val="000000"/>
                  </a:solidFill>
                  <a:latin typeface="Times New Roman"/>
                </a:endParaRPr>
              </a:p>
            </p:txBody>
          </p:sp>
          <p:sp>
            <p:nvSpPr>
              <p:cNvPr id="146" name=""/>
              <p:cNvSpPr/>
              <p:nvPr/>
            </p:nvSpPr>
            <p:spPr>
              <a:xfrm>
                <a:off x="3483720" y="1827000"/>
                <a:ext cx="128016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Piaci információk</a:t>
                </a:r>
                <a:endParaRPr b="0" lang="en-US" sz="1000" spc="-1" strike="noStrike">
                  <a:solidFill>
                    <a:srgbClr val="000000"/>
                  </a:solidFill>
                  <a:latin typeface="Times New Roman"/>
                </a:endParaRPr>
              </a:p>
            </p:txBody>
          </p:sp>
          <p:sp>
            <p:nvSpPr>
              <p:cNvPr id="147" name=""/>
              <p:cNvSpPr/>
              <p:nvPr/>
            </p:nvSpPr>
            <p:spPr>
              <a:xfrm>
                <a:off x="539640" y="1691640"/>
                <a:ext cx="2816280" cy="4058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Potenciális szállítók</a:t>
                </a:r>
                <a:endParaRPr b="0" lang="en-US" sz="1000" spc="-1" strike="noStrike">
                  <a:solidFill>
                    <a:srgbClr val="000000"/>
                  </a:solidFill>
                  <a:latin typeface="Times New Roman"/>
                </a:endParaRPr>
              </a:p>
            </p:txBody>
          </p:sp>
          <p:sp>
            <p:nvSpPr>
              <p:cNvPr id="148" name=""/>
              <p:cNvSpPr/>
              <p:nvPr/>
            </p:nvSpPr>
            <p:spPr>
              <a:xfrm>
                <a:off x="2075760" y="1962000"/>
                <a:ext cx="1280160" cy="3517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Kiválasztott szállítók</a:t>
                </a:r>
                <a:endParaRPr b="0" lang="en-US" sz="1000" spc="-1" strike="noStrike">
                  <a:solidFill>
                    <a:srgbClr val="000000"/>
                  </a:solidFill>
                  <a:latin typeface="Times New Roman"/>
                </a:endParaRPr>
              </a:p>
            </p:txBody>
          </p:sp>
          <p:sp>
            <p:nvSpPr>
              <p:cNvPr id="149" name=""/>
              <p:cNvSpPr/>
              <p:nvPr/>
            </p:nvSpPr>
            <p:spPr>
              <a:xfrm>
                <a:off x="2075760" y="2503440"/>
                <a:ext cx="1280160" cy="405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1</a:t>
                </a:r>
                <a:endParaRPr b="0" lang="en-US" sz="1000" spc="-1" strike="noStrike">
                  <a:solidFill>
                    <a:srgbClr val="000000"/>
                  </a:solidFill>
                  <a:latin typeface="Times New Roman"/>
                </a:endParaRPr>
              </a:p>
            </p:txBody>
          </p:sp>
          <p:sp>
            <p:nvSpPr>
              <p:cNvPr id="150" name=""/>
              <p:cNvSpPr/>
              <p:nvPr/>
            </p:nvSpPr>
            <p:spPr>
              <a:xfrm>
                <a:off x="2075760" y="3991320"/>
                <a:ext cx="1280160" cy="405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2</a:t>
                </a:r>
                <a:endParaRPr b="0" lang="en-US" sz="1000" spc="-1" strike="noStrike">
                  <a:solidFill>
                    <a:srgbClr val="000000"/>
                  </a:solidFill>
                  <a:latin typeface="Times New Roman"/>
                </a:endParaRPr>
              </a:p>
            </p:txBody>
          </p:sp>
          <p:sp>
            <p:nvSpPr>
              <p:cNvPr id="151" name=""/>
              <p:cNvSpPr/>
              <p:nvPr/>
            </p:nvSpPr>
            <p:spPr>
              <a:xfrm>
                <a:off x="2075760" y="4938480"/>
                <a:ext cx="1280160" cy="405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3</a:t>
                </a:r>
                <a:endParaRPr b="0" lang="en-US" sz="1000" spc="-1" strike="noStrike">
                  <a:solidFill>
                    <a:srgbClr val="000000"/>
                  </a:solidFill>
                  <a:latin typeface="Times New Roman"/>
                </a:endParaRPr>
              </a:p>
            </p:txBody>
          </p:sp>
          <p:sp>
            <p:nvSpPr>
              <p:cNvPr id="152" name=""/>
              <p:cNvSpPr/>
              <p:nvPr/>
            </p:nvSpPr>
            <p:spPr>
              <a:xfrm>
                <a:off x="667440" y="5344200"/>
                <a:ext cx="1152000" cy="405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x</a:t>
                </a:r>
                <a:endParaRPr b="0" lang="en-US" sz="1000" spc="-1" strike="noStrike">
                  <a:solidFill>
                    <a:srgbClr val="000000"/>
                  </a:solidFill>
                  <a:latin typeface="Times New Roman"/>
                </a:endParaRPr>
              </a:p>
            </p:txBody>
          </p:sp>
          <p:sp>
            <p:nvSpPr>
              <p:cNvPr id="153" name=""/>
              <p:cNvSpPr/>
              <p:nvPr/>
            </p:nvSpPr>
            <p:spPr>
              <a:xfrm>
                <a:off x="667440" y="4667760"/>
                <a:ext cx="1152000" cy="405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x</a:t>
                </a:r>
                <a:endParaRPr b="0" lang="en-US" sz="1000" spc="-1" strike="noStrike">
                  <a:solidFill>
                    <a:srgbClr val="000000"/>
                  </a:solidFill>
                  <a:latin typeface="Times New Roman"/>
                </a:endParaRPr>
              </a:p>
            </p:txBody>
          </p:sp>
          <p:sp>
            <p:nvSpPr>
              <p:cNvPr id="154" name=""/>
              <p:cNvSpPr/>
              <p:nvPr/>
            </p:nvSpPr>
            <p:spPr>
              <a:xfrm>
                <a:off x="667440" y="3991320"/>
                <a:ext cx="1152000" cy="405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x</a:t>
                </a:r>
                <a:endParaRPr b="0" lang="en-US" sz="1000" spc="-1" strike="noStrike">
                  <a:solidFill>
                    <a:srgbClr val="000000"/>
                  </a:solidFill>
                  <a:latin typeface="Times New Roman"/>
                </a:endParaRPr>
              </a:p>
            </p:txBody>
          </p:sp>
          <p:sp>
            <p:nvSpPr>
              <p:cNvPr id="155" name=""/>
              <p:cNvSpPr/>
              <p:nvPr/>
            </p:nvSpPr>
            <p:spPr>
              <a:xfrm>
                <a:off x="667440" y="3314880"/>
                <a:ext cx="1152000" cy="405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x</a:t>
                </a:r>
                <a:endParaRPr b="0" lang="en-US" sz="1000" spc="-1" strike="noStrike">
                  <a:solidFill>
                    <a:srgbClr val="000000"/>
                  </a:solidFill>
                  <a:latin typeface="Times New Roman"/>
                </a:endParaRPr>
              </a:p>
            </p:txBody>
          </p:sp>
          <p:sp>
            <p:nvSpPr>
              <p:cNvPr id="156" name=""/>
              <p:cNvSpPr/>
              <p:nvPr/>
            </p:nvSpPr>
            <p:spPr>
              <a:xfrm>
                <a:off x="667440" y="2638440"/>
                <a:ext cx="1152000" cy="405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x</a:t>
                </a:r>
                <a:endParaRPr b="0" lang="en-US" sz="1000" spc="-1" strike="noStrike">
                  <a:solidFill>
                    <a:srgbClr val="000000"/>
                  </a:solidFill>
                  <a:latin typeface="Times New Roman"/>
                </a:endParaRPr>
              </a:p>
            </p:txBody>
          </p:sp>
          <p:sp>
            <p:nvSpPr>
              <p:cNvPr id="157" name=""/>
              <p:cNvSpPr/>
              <p:nvPr/>
            </p:nvSpPr>
            <p:spPr>
              <a:xfrm>
                <a:off x="667440" y="1962000"/>
                <a:ext cx="1152000" cy="405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állító x</a:t>
                </a:r>
                <a:endParaRPr b="0" lang="en-US" sz="1000" spc="-1" strike="noStrike">
                  <a:solidFill>
                    <a:srgbClr val="000000"/>
                  </a:solidFill>
                  <a:latin typeface="Times New Roman"/>
                </a:endParaRPr>
              </a:p>
            </p:txBody>
          </p:sp>
          <p:sp>
            <p:nvSpPr>
              <p:cNvPr id="158" name=""/>
              <p:cNvSpPr/>
              <p:nvPr/>
            </p:nvSpPr>
            <p:spPr>
              <a:xfrm>
                <a:off x="4251960" y="1557360"/>
                <a:ext cx="4352400" cy="44640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A vállalat</a:t>
                </a:r>
                <a:endParaRPr b="0" lang="en-US" sz="1000" spc="-1" strike="noStrike">
                  <a:solidFill>
                    <a:srgbClr val="000000"/>
                  </a:solidFill>
                  <a:latin typeface="Times New Roman"/>
                </a:endParaRPr>
              </a:p>
            </p:txBody>
          </p:sp>
          <p:sp>
            <p:nvSpPr>
              <p:cNvPr id="159" name=""/>
              <p:cNvSpPr/>
              <p:nvPr/>
            </p:nvSpPr>
            <p:spPr>
              <a:xfrm>
                <a:off x="4636080" y="3315600"/>
                <a:ext cx="1663920" cy="20293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Beszerzés</a:t>
                </a:r>
                <a:endParaRPr b="0" lang="en-US" sz="1000" spc="-1" strike="noStrike">
                  <a:solidFill>
                    <a:srgbClr val="000000"/>
                  </a:solidFill>
                  <a:latin typeface="Times New Roman"/>
                </a:endParaRPr>
              </a:p>
            </p:txBody>
          </p:sp>
          <p:sp>
            <p:nvSpPr>
              <p:cNvPr id="160" name=""/>
              <p:cNvSpPr/>
              <p:nvPr/>
            </p:nvSpPr>
            <p:spPr>
              <a:xfrm>
                <a:off x="4892040" y="2233440"/>
                <a:ext cx="1023840" cy="6764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Pénzügy, számvitel</a:t>
                </a:r>
                <a:endParaRPr b="0" lang="en-US" sz="1000" spc="-1" strike="noStrike">
                  <a:solidFill>
                    <a:srgbClr val="000000"/>
                  </a:solidFill>
                  <a:latin typeface="Times New Roman"/>
                </a:endParaRPr>
              </a:p>
            </p:txBody>
          </p:sp>
          <p:sp>
            <p:nvSpPr>
              <p:cNvPr id="161" name=""/>
              <p:cNvSpPr/>
              <p:nvPr/>
            </p:nvSpPr>
            <p:spPr>
              <a:xfrm>
                <a:off x="5148000" y="4533480"/>
                <a:ext cx="2559960" cy="811440"/>
              </a:xfrm>
              <a:prstGeom prst="rect">
                <a:avLst/>
              </a:prstGeom>
              <a:gradFill rotWithShape="0">
                <a:gsLst>
                  <a:gs pos="0">
                    <a:srgbClr val="ffff99"/>
                  </a:gs>
                  <a:gs pos="100000">
                    <a:srgbClr val="ffcc99"/>
                  </a:gs>
                </a:gsLst>
                <a:lin ang="108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Anyag raktár</a:t>
                </a:r>
                <a:endParaRPr b="0" lang="en-US" sz="1000" spc="-1" strike="noStrike">
                  <a:solidFill>
                    <a:srgbClr val="000000"/>
                  </a:solidFill>
                  <a:latin typeface="Times New Roman"/>
                </a:endParaRPr>
              </a:p>
            </p:txBody>
          </p:sp>
          <p:sp>
            <p:nvSpPr>
              <p:cNvPr id="162" name=""/>
              <p:cNvSpPr/>
              <p:nvPr/>
            </p:nvSpPr>
            <p:spPr>
              <a:xfrm>
                <a:off x="6172200" y="2504160"/>
                <a:ext cx="1280160" cy="6764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Törzsadatok</a:t>
                </a:r>
                <a:endParaRPr b="0" lang="en-US" sz="1000" spc="-1" strike="noStrike">
                  <a:solidFill>
                    <a:srgbClr val="000000"/>
                  </a:solidFill>
                  <a:latin typeface="Times New Roman"/>
                </a:endParaRPr>
              </a:p>
            </p:txBody>
          </p:sp>
          <p:sp>
            <p:nvSpPr>
              <p:cNvPr id="163" name=""/>
              <p:cNvSpPr/>
              <p:nvPr/>
            </p:nvSpPr>
            <p:spPr>
              <a:xfrm>
                <a:off x="6428160" y="3315600"/>
                <a:ext cx="1663920" cy="1082160"/>
              </a:xfrm>
              <a:prstGeom prst="ellipse">
                <a:avLst/>
              </a:prstGeom>
              <a:gradFill rotWithShape="0">
                <a:gsLst>
                  <a:gs pos="0">
                    <a:srgbClr val="ffff99"/>
                  </a:gs>
                  <a:gs pos="100000">
                    <a:srgbClr val="ff3300"/>
                  </a:gs>
                </a:gsLst>
                <a:path path="rect">
                  <a:fillToRect l="50000" t="50000" r="50000" b="50000"/>
                </a:path>
              </a:gra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ükségletek meghatározása</a:t>
                </a:r>
                <a:endParaRPr b="0" lang="en-US" sz="1000" spc="-1" strike="noStrike">
                  <a:solidFill>
                    <a:srgbClr val="000000"/>
                  </a:solidFill>
                  <a:latin typeface="Times New Roman"/>
                </a:endParaRPr>
              </a:p>
            </p:txBody>
          </p:sp>
          <p:sp>
            <p:nvSpPr>
              <p:cNvPr id="164" name=""/>
              <p:cNvSpPr/>
              <p:nvPr/>
            </p:nvSpPr>
            <p:spPr>
              <a:xfrm flipH="1">
                <a:off x="6300360" y="358632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1947240" y="3450240"/>
                <a:ext cx="268812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355920" y="1962000"/>
                <a:ext cx="1536120" cy="135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55920" y="4803840"/>
                <a:ext cx="1792080" cy="541080"/>
              </a:xfrm>
              <a:prstGeom prst="rightArrow">
                <a:avLst>
                  <a:gd name="adj1" fmla="val 50000"/>
                  <a:gd name="adj2" fmla="val 828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Áru</a:t>
                </a:r>
                <a:endParaRPr b="0" lang="en-US" sz="1000" spc="-1" strike="noStrike">
                  <a:solidFill>
                    <a:srgbClr val="000000"/>
                  </a:solidFill>
                  <a:latin typeface="Times New Roman"/>
                </a:endParaRPr>
              </a:p>
            </p:txBody>
          </p:sp>
          <p:sp>
            <p:nvSpPr>
              <p:cNvPr id="168" name=""/>
              <p:cNvSpPr/>
              <p:nvPr/>
            </p:nvSpPr>
            <p:spPr>
              <a:xfrm>
                <a:off x="1947600" y="3585600"/>
                <a:ext cx="268812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355920" y="4262760"/>
                <a:ext cx="127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355560" y="4668480"/>
                <a:ext cx="127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507560" y="2504160"/>
                <a:ext cx="3841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507920" y="2504160"/>
                <a:ext cx="0" cy="81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507920" y="3315600"/>
                <a:ext cx="12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5920" y="2774520"/>
                <a:ext cx="115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flipV="1">
                <a:off x="2971440" y="2909160"/>
                <a:ext cx="384120" cy="10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3227400" y="3991320"/>
                <a:ext cx="127800" cy="94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flipV="1">
                <a:off x="1819440" y="2097000"/>
                <a:ext cx="127800" cy="1487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19440" y="3585600"/>
                <a:ext cx="127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47600" y="3585600"/>
                <a:ext cx="127800" cy="1487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819440" y="3585600"/>
                <a:ext cx="127800" cy="1893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1947240" y="2773800"/>
                <a:ext cx="127800" cy="81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1819800" y="3585600"/>
                <a:ext cx="127800" cy="1082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1819800" y="3585240"/>
                <a:ext cx="127800" cy="405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947600" y="3585600"/>
                <a:ext cx="127800" cy="54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6214680" y="3141360"/>
              <a:ext cx="0" cy="14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B47D016-B1A7-4FE8-A884-285148E676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enedzsment és végrehajtás kapcsolata</a:t>
            </a:r>
            <a:endParaRPr b="1" lang="en-US" sz="3900" spc="-1" strike="noStrike">
              <a:solidFill>
                <a:srgbClr val="330066"/>
              </a:solidFill>
              <a:latin typeface="Arial"/>
            </a:endParaRPr>
          </a:p>
        </p:txBody>
      </p:sp>
      <p:grpSp>
        <p:nvGrpSpPr>
          <p:cNvPr id="187" name=""/>
          <p:cNvGrpSpPr/>
          <p:nvPr/>
        </p:nvGrpSpPr>
        <p:grpSpPr>
          <a:xfrm>
            <a:off x="250560" y="1557000"/>
            <a:ext cx="8137440" cy="4608720"/>
            <a:chOff x="250560" y="1557000"/>
            <a:chExt cx="8137440" cy="4608720"/>
          </a:xfrm>
        </p:grpSpPr>
        <p:sp>
          <p:nvSpPr>
            <p:cNvPr id="188" name=""/>
            <p:cNvSpPr/>
            <p:nvPr/>
          </p:nvSpPr>
          <p:spPr>
            <a:xfrm>
              <a:off x="4390920" y="5270760"/>
              <a:ext cx="3854520" cy="6742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input</a:t>
              </a:r>
              <a:endParaRPr b="0" lang="en-US" sz="1000" spc="-1" strike="noStrike">
                <a:solidFill>
                  <a:srgbClr val="000000"/>
                </a:solidFill>
                <a:latin typeface="Times New Roman"/>
              </a:endParaRPr>
            </a:p>
          </p:txBody>
        </p:sp>
        <p:sp>
          <p:nvSpPr>
            <p:cNvPr id="189" name=""/>
            <p:cNvSpPr/>
            <p:nvPr/>
          </p:nvSpPr>
          <p:spPr>
            <a:xfrm>
              <a:off x="393480" y="5266440"/>
              <a:ext cx="3854520" cy="6742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output</a:t>
              </a:r>
              <a:endParaRPr b="0" lang="en-US" sz="1000" spc="-1" strike="noStrike">
                <a:solidFill>
                  <a:srgbClr val="000000"/>
                </a:solidFill>
                <a:latin typeface="Times New Roman"/>
              </a:endParaRPr>
            </a:p>
          </p:txBody>
        </p:sp>
        <p:sp>
          <p:nvSpPr>
            <p:cNvPr id="190" name=""/>
            <p:cNvSpPr/>
            <p:nvPr/>
          </p:nvSpPr>
          <p:spPr>
            <a:xfrm>
              <a:off x="4390920" y="1898640"/>
              <a:ext cx="3997080" cy="561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output</a:t>
              </a:r>
              <a:endParaRPr b="0" lang="en-US" sz="1000" spc="-1" strike="noStrike">
                <a:solidFill>
                  <a:srgbClr val="000000"/>
                </a:solidFill>
                <a:latin typeface="Times New Roman"/>
              </a:endParaRPr>
            </a:p>
          </p:txBody>
        </p:sp>
        <p:sp>
          <p:nvSpPr>
            <p:cNvPr id="191" name=""/>
            <p:cNvSpPr/>
            <p:nvPr/>
          </p:nvSpPr>
          <p:spPr>
            <a:xfrm>
              <a:off x="536040" y="1898640"/>
              <a:ext cx="3711960" cy="561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információ</a:t>
              </a:r>
              <a:endParaRPr b="0" lang="en-US" sz="1000" spc="-1" strike="noStrike">
                <a:solidFill>
                  <a:srgbClr val="000000"/>
                </a:solidFill>
                <a:latin typeface="Times New Roman"/>
              </a:endParaRPr>
            </a:p>
          </p:txBody>
        </p:sp>
        <p:sp>
          <p:nvSpPr>
            <p:cNvPr id="192" name=""/>
            <p:cNvSpPr/>
            <p:nvPr/>
          </p:nvSpPr>
          <p:spPr>
            <a:xfrm>
              <a:off x="4390920" y="2348280"/>
              <a:ext cx="3997080" cy="2809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TEVÉKENYSÉGEK INFORMÁCIÓRENDSZERE</a:t>
              </a:r>
              <a:endParaRPr b="0" lang="en-US" sz="1600" spc="-1" strike="noStrike">
                <a:solidFill>
                  <a:srgbClr val="000000"/>
                </a:solidFill>
                <a:latin typeface="Times New Roman"/>
              </a:endParaRPr>
            </a:p>
          </p:txBody>
        </p:sp>
        <p:sp>
          <p:nvSpPr>
            <p:cNvPr id="193" name=""/>
            <p:cNvSpPr/>
            <p:nvPr/>
          </p:nvSpPr>
          <p:spPr>
            <a:xfrm>
              <a:off x="250920" y="2348280"/>
              <a:ext cx="3997080" cy="2922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VEZETÉSI INFORMÁCIÓRENDSZER</a:t>
              </a:r>
              <a:endParaRPr b="0" lang="en-US" sz="1600" spc="-1" strike="noStrike">
                <a:solidFill>
                  <a:srgbClr val="000000"/>
                </a:solidFill>
                <a:latin typeface="Times New Roman"/>
              </a:endParaRPr>
            </a:p>
          </p:txBody>
        </p:sp>
        <p:sp>
          <p:nvSpPr>
            <p:cNvPr id="194" name=""/>
            <p:cNvSpPr/>
            <p:nvPr/>
          </p:nvSpPr>
          <p:spPr>
            <a:xfrm>
              <a:off x="1249920" y="3472560"/>
              <a:ext cx="2284200" cy="449280"/>
            </a:xfrm>
            <a:prstGeom prst="rect">
              <a:avLst/>
            </a:prstGeom>
            <a:solidFill>
              <a:srgbClr val="96969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Managment</a:t>
              </a:r>
              <a:endParaRPr b="0" lang="en-US" sz="1000" spc="-1" strike="noStrike">
                <a:solidFill>
                  <a:srgbClr val="000000"/>
                </a:solidFill>
                <a:latin typeface="Times New Roman"/>
              </a:endParaRPr>
            </a:p>
          </p:txBody>
        </p:sp>
        <p:sp>
          <p:nvSpPr>
            <p:cNvPr id="195" name=""/>
            <p:cNvSpPr/>
            <p:nvPr/>
          </p:nvSpPr>
          <p:spPr>
            <a:xfrm>
              <a:off x="5390280" y="3472560"/>
              <a:ext cx="2141280" cy="449280"/>
            </a:xfrm>
            <a:prstGeom prst="rect">
              <a:avLst/>
            </a:prstGeom>
            <a:solidFill>
              <a:srgbClr val="969696"/>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Végrehajtás</a:t>
              </a:r>
              <a:endParaRPr b="0" lang="en-US" sz="1000" spc="-1" strike="noStrike">
                <a:solidFill>
                  <a:srgbClr val="000000"/>
                </a:solidFill>
                <a:latin typeface="Times New Roman"/>
              </a:endParaRPr>
            </a:p>
          </p:txBody>
        </p:sp>
        <p:sp>
          <p:nvSpPr>
            <p:cNvPr id="196" name=""/>
            <p:cNvSpPr/>
            <p:nvPr/>
          </p:nvSpPr>
          <p:spPr>
            <a:xfrm>
              <a:off x="1821240" y="246096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Irányítás</a:t>
              </a:r>
              <a:endParaRPr b="0" lang="en-US" sz="1000" spc="-1" strike="noStrike">
                <a:solidFill>
                  <a:srgbClr val="000000"/>
                </a:solidFill>
                <a:latin typeface="Times New Roman"/>
              </a:endParaRPr>
            </a:p>
          </p:txBody>
        </p:sp>
        <p:sp>
          <p:nvSpPr>
            <p:cNvPr id="197" name=""/>
            <p:cNvSpPr/>
            <p:nvPr/>
          </p:nvSpPr>
          <p:spPr>
            <a:xfrm>
              <a:off x="5818680" y="246096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Könyvelés</a:t>
              </a:r>
              <a:endParaRPr b="0" lang="en-US" sz="1000" spc="-1" strike="noStrike">
                <a:solidFill>
                  <a:srgbClr val="000000"/>
                </a:solidFill>
                <a:latin typeface="Times New Roman"/>
              </a:endParaRPr>
            </a:p>
          </p:txBody>
        </p:sp>
        <p:sp>
          <p:nvSpPr>
            <p:cNvPr id="198" name=""/>
            <p:cNvSpPr/>
            <p:nvPr/>
          </p:nvSpPr>
          <p:spPr>
            <a:xfrm>
              <a:off x="821880" y="201132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Külső </a:t>
              </a:r>
              <a:endParaRPr b="0" lang="en-US" sz="1000" spc="-1" strike="noStrike">
                <a:solidFill>
                  <a:srgbClr val="000000"/>
                </a:solidFill>
                <a:latin typeface="Times New Roman"/>
              </a:endParaRPr>
            </a:p>
          </p:txBody>
        </p:sp>
        <p:sp>
          <p:nvSpPr>
            <p:cNvPr id="199" name=""/>
            <p:cNvSpPr/>
            <p:nvPr/>
          </p:nvSpPr>
          <p:spPr>
            <a:xfrm>
              <a:off x="2963160" y="201132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Belső </a:t>
              </a:r>
              <a:endParaRPr b="0" lang="en-US" sz="1000" spc="-1" strike="noStrike">
                <a:solidFill>
                  <a:srgbClr val="000000"/>
                </a:solidFill>
                <a:latin typeface="Times New Roman"/>
              </a:endParaRPr>
            </a:p>
          </p:txBody>
        </p:sp>
        <p:sp>
          <p:nvSpPr>
            <p:cNvPr id="200" name=""/>
            <p:cNvSpPr/>
            <p:nvPr/>
          </p:nvSpPr>
          <p:spPr>
            <a:xfrm>
              <a:off x="4533480" y="2123640"/>
              <a:ext cx="999360" cy="22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Update </a:t>
              </a:r>
              <a:endParaRPr b="0" lang="en-US" sz="1000" spc="-1" strike="noStrike">
                <a:solidFill>
                  <a:srgbClr val="000000"/>
                </a:solidFill>
                <a:latin typeface="Times New Roman"/>
              </a:endParaRPr>
            </a:p>
          </p:txBody>
        </p:sp>
        <p:sp>
          <p:nvSpPr>
            <p:cNvPr id="201" name=""/>
            <p:cNvSpPr/>
            <p:nvPr/>
          </p:nvSpPr>
          <p:spPr>
            <a:xfrm>
              <a:off x="5818680" y="2123640"/>
              <a:ext cx="999000" cy="22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Másodlagos </a:t>
              </a:r>
              <a:endParaRPr b="0" lang="en-US" sz="1000" spc="-1" strike="noStrike">
                <a:solidFill>
                  <a:srgbClr val="000000"/>
                </a:solidFill>
                <a:latin typeface="Times New Roman"/>
              </a:endParaRPr>
            </a:p>
          </p:txBody>
        </p:sp>
        <p:sp>
          <p:nvSpPr>
            <p:cNvPr id="202" name=""/>
            <p:cNvSpPr/>
            <p:nvPr/>
          </p:nvSpPr>
          <p:spPr>
            <a:xfrm>
              <a:off x="7103520" y="2123640"/>
              <a:ext cx="999000" cy="22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Elsődleges </a:t>
              </a:r>
              <a:endParaRPr b="0" lang="en-US" sz="1000" spc="-1" strike="noStrike">
                <a:solidFill>
                  <a:srgbClr val="000000"/>
                </a:solidFill>
                <a:latin typeface="Times New Roman"/>
              </a:endParaRPr>
            </a:p>
          </p:txBody>
        </p:sp>
        <p:sp>
          <p:nvSpPr>
            <p:cNvPr id="203" name=""/>
            <p:cNvSpPr/>
            <p:nvPr/>
          </p:nvSpPr>
          <p:spPr>
            <a:xfrm>
              <a:off x="821880" y="291024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Tervezés</a:t>
              </a:r>
              <a:endParaRPr b="0" lang="en-US" sz="1000" spc="-1" strike="noStrike">
                <a:solidFill>
                  <a:srgbClr val="000000"/>
                </a:solidFill>
                <a:latin typeface="Times New Roman"/>
              </a:endParaRPr>
            </a:p>
          </p:txBody>
        </p:sp>
        <p:sp>
          <p:nvSpPr>
            <p:cNvPr id="204" name=""/>
            <p:cNvSpPr/>
            <p:nvPr/>
          </p:nvSpPr>
          <p:spPr>
            <a:xfrm>
              <a:off x="2820240" y="2910240"/>
              <a:ext cx="99936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ervezés</a:t>
              </a:r>
              <a:endParaRPr b="0" lang="en-US" sz="1000" spc="-1" strike="noStrike">
                <a:solidFill>
                  <a:srgbClr val="000000"/>
                </a:solidFill>
                <a:latin typeface="Times New Roman"/>
              </a:endParaRPr>
            </a:p>
          </p:txBody>
        </p:sp>
        <p:sp>
          <p:nvSpPr>
            <p:cNvPr id="205" name=""/>
            <p:cNvSpPr/>
            <p:nvPr/>
          </p:nvSpPr>
          <p:spPr>
            <a:xfrm>
              <a:off x="4819320" y="291024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Termelés</a:t>
              </a:r>
              <a:endParaRPr b="0" lang="en-US" sz="1000" spc="-1" strike="noStrike">
                <a:solidFill>
                  <a:srgbClr val="000000"/>
                </a:solidFill>
                <a:latin typeface="Times New Roman"/>
              </a:endParaRPr>
            </a:p>
          </p:txBody>
        </p:sp>
        <p:sp>
          <p:nvSpPr>
            <p:cNvPr id="206" name=""/>
            <p:cNvSpPr/>
            <p:nvPr/>
          </p:nvSpPr>
          <p:spPr>
            <a:xfrm>
              <a:off x="6817680" y="2910240"/>
              <a:ext cx="114192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  </a:t>
              </a:r>
              <a:r>
                <a:rPr b="0" lang="hu-HU" sz="1000" spc="-1" strike="noStrike">
                  <a:solidFill>
                    <a:srgbClr val="000000"/>
                  </a:solidFill>
                  <a:latin typeface="Times New Roman"/>
                </a:rPr>
                <a:t>Adminisztráció</a:t>
              </a:r>
              <a:endParaRPr b="0" lang="en-US" sz="1000" spc="-1" strike="noStrike">
                <a:solidFill>
                  <a:srgbClr val="000000"/>
                </a:solidFill>
                <a:latin typeface="Times New Roman"/>
              </a:endParaRPr>
            </a:p>
          </p:txBody>
        </p:sp>
        <p:sp>
          <p:nvSpPr>
            <p:cNvPr id="207" name=""/>
            <p:cNvSpPr/>
            <p:nvPr/>
          </p:nvSpPr>
          <p:spPr>
            <a:xfrm>
              <a:off x="393480" y="403452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Személyzeti</a:t>
              </a:r>
              <a:endParaRPr b="0" lang="en-US" sz="1000" spc="-1" strike="noStrike">
                <a:solidFill>
                  <a:srgbClr val="000000"/>
                </a:solidFill>
                <a:latin typeface="Times New Roman"/>
              </a:endParaRPr>
            </a:p>
          </p:txBody>
        </p:sp>
        <p:sp>
          <p:nvSpPr>
            <p:cNvPr id="208" name=""/>
            <p:cNvSpPr/>
            <p:nvPr/>
          </p:nvSpPr>
          <p:spPr>
            <a:xfrm>
              <a:off x="3106080" y="403452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Ellenőrzés</a:t>
              </a:r>
              <a:endParaRPr b="0" lang="en-US" sz="1000" spc="-1" strike="noStrike">
                <a:solidFill>
                  <a:srgbClr val="000000"/>
                </a:solidFill>
                <a:latin typeface="Times New Roman"/>
              </a:endParaRPr>
            </a:p>
          </p:txBody>
        </p:sp>
        <p:sp>
          <p:nvSpPr>
            <p:cNvPr id="209" name=""/>
            <p:cNvSpPr/>
            <p:nvPr/>
          </p:nvSpPr>
          <p:spPr>
            <a:xfrm>
              <a:off x="4533480" y="4034520"/>
              <a:ext cx="99936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Piackutatás</a:t>
              </a:r>
              <a:endParaRPr b="0" lang="en-US" sz="1000" spc="-1" strike="noStrike">
                <a:solidFill>
                  <a:srgbClr val="000000"/>
                </a:solidFill>
                <a:latin typeface="Times New Roman"/>
              </a:endParaRPr>
            </a:p>
          </p:txBody>
        </p:sp>
        <p:sp>
          <p:nvSpPr>
            <p:cNvPr id="210" name=""/>
            <p:cNvSpPr/>
            <p:nvPr/>
          </p:nvSpPr>
          <p:spPr>
            <a:xfrm>
              <a:off x="7246080" y="403452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Munkaügy</a:t>
              </a:r>
              <a:endParaRPr b="0" lang="en-US" sz="1000" spc="-1" strike="noStrike">
                <a:solidFill>
                  <a:srgbClr val="000000"/>
                </a:solidFill>
                <a:latin typeface="Times New Roman"/>
              </a:endParaRPr>
            </a:p>
          </p:txBody>
        </p:sp>
        <p:sp>
          <p:nvSpPr>
            <p:cNvPr id="211" name=""/>
            <p:cNvSpPr/>
            <p:nvPr/>
          </p:nvSpPr>
          <p:spPr>
            <a:xfrm>
              <a:off x="536040" y="5383440"/>
              <a:ext cx="99936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Elsődleges </a:t>
              </a:r>
              <a:endParaRPr b="0" lang="en-US" sz="1000" spc="-1" strike="noStrike">
                <a:solidFill>
                  <a:srgbClr val="000000"/>
                </a:solidFill>
                <a:latin typeface="Times New Roman"/>
              </a:endParaRPr>
            </a:p>
          </p:txBody>
        </p:sp>
        <p:sp>
          <p:nvSpPr>
            <p:cNvPr id="212" name=""/>
            <p:cNvSpPr/>
            <p:nvPr/>
          </p:nvSpPr>
          <p:spPr>
            <a:xfrm>
              <a:off x="1821240" y="538344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Másodlagos</a:t>
              </a:r>
              <a:endParaRPr b="0" lang="en-US" sz="1000" spc="-1" strike="noStrike">
                <a:solidFill>
                  <a:srgbClr val="000000"/>
                </a:solidFill>
                <a:latin typeface="Times New Roman"/>
              </a:endParaRPr>
            </a:p>
          </p:txBody>
        </p:sp>
        <p:sp>
          <p:nvSpPr>
            <p:cNvPr id="213" name=""/>
            <p:cNvSpPr/>
            <p:nvPr/>
          </p:nvSpPr>
          <p:spPr>
            <a:xfrm>
              <a:off x="3106080" y="538344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Update</a:t>
              </a:r>
              <a:endParaRPr b="0" lang="en-US" sz="1000" spc="-1" strike="noStrike">
                <a:solidFill>
                  <a:srgbClr val="000000"/>
                </a:solidFill>
                <a:latin typeface="Times New Roman"/>
              </a:endParaRPr>
            </a:p>
          </p:txBody>
        </p:sp>
        <p:sp>
          <p:nvSpPr>
            <p:cNvPr id="214" name=""/>
            <p:cNvSpPr/>
            <p:nvPr/>
          </p:nvSpPr>
          <p:spPr>
            <a:xfrm>
              <a:off x="4533480" y="5383440"/>
              <a:ext cx="99936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Elsődleges</a:t>
              </a:r>
              <a:endParaRPr b="0" lang="en-US" sz="1000" spc="-1" strike="noStrike">
                <a:solidFill>
                  <a:srgbClr val="000000"/>
                </a:solidFill>
                <a:latin typeface="Times New Roman"/>
              </a:endParaRPr>
            </a:p>
          </p:txBody>
        </p:sp>
        <p:sp>
          <p:nvSpPr>
            <p:cNvPr id="215" name=""/>
            <p:cNvSpPr/>
            <p:nvPr/>
          </p:nvSpPr>
          <p:spPr>
            <a:xfrm>
              <a:off x="5961240" y="538344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Másodlagos</a:t>
              </a:r>
              <a:endParaRPr b="0" lang="en-US" sz="1000" spc="-1" strike="noStrike">
                <a:solidFill>
                  <a:srgbClr val="000000"/>
                </a:solidFill>
                <a:latin typeface="Times New Roman"/>
              </a:endParaRPr>
            </a:p>
          </p:txBody>
        </p:sp>
        <p:sp>
          <p:nvSpPr>
            <p:cNvPr id="216" name=""/>
            <p:cNvSpPr/>
            <p:nvPr/>
          </p:nvSpPr>
          <p:spPr>
            <a:xfrm>
              <a:off x="7246080" y="5383440"/>
              <a:ext cx="999000" cy="33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Update</a:t>
              </a:r>
              <a:endParaRPr b="0" lang="en-US" sz="1000" spc="-1" strike="noStrike">
                <a:solidFill>
                  <a:srgbClr val="000000"/>
                </a:solidFill>
                <a:latin typeface="Times New Roman"/>
              </a:endParaRPr>
            </a:p>
          </p:txBody>
        </p:sp>
        <p:sp>
          <p:nvSpPr>
            <p:cNvPr id="217" name=""/>
            <p:cNvSpPr/>
            <p:nvPr/>
          </p:nvSpPr>
          <p:spPr>
            <a:xfrm>
              <a:off x="1392840" y="3247560"/>
              <a:ext cx="285120" cy="2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392200" y="2797920"/>
              <a:ext cx="0" cy="67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2962800" y="3247560"/>
              <a:ext cx="285480" cy="2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392840" y="3922200"/>
              <a:ext cx="428040" cy="33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2677320" y="3922200"/>
              <a:ext cx="428040" cy="33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64440" y="324756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1107360" y="324720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677040" y="324756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3819960" y="324720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33200" y="3247560"/>
              <a:ext cx="142560" cy="2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389000" y="3247560"/>
              <a:ext cx="142560" cy="2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89640" y="2797920"/>
              <a:ext cx="0" cy="67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5390280" y="3922200"/>
              <a:ext cx="142560" cy="11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flipV="1">
              <a:off x="7389000" y="3922200"/>
              <a:ext cx="142560" cy="11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61880" y="324756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5247360" y="324720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674480" y="324756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817400" y="3247200"/>
              <a:ext cx="0" cy="78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49280" y="5266440"/>
              <a:ext cx="0" cy="11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07360" y="527076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107360" y="5266440"/>
              <a:ext cx="0" cy="11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391560" y="5266440"/>
              <a:ext cx="0" cy="11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250560" y="6165720"/>
              <a:ext cx="199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249280" y="571608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107360" y="59407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3391560" y="5716080"/>
              <a:ext cx="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1107360" y="5716080"/>
              <a:ext cx="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105440" y="5495760"/>
              <a:ext cx="42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6389640" y="5158440"/>
              <a:ext cx="0" cy="2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04800" y="5270760"/>
              <a:ext cx="128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6389640" y="5270760"/>
              <a:ext cx="114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104800" y="5270760"/>
              <a:ext cx="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531560" y="5270760"/>
              <a:ext cx="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250920" y="1557000"/>
              <a:ext cx="0" cy="46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92200" y="1561680"/>
              <a:ext cx="0" cy="89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50920" y="1557360"/>
              <a:ext cx="214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21240" y="2235960"/>
              <a:ext cx="57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2392200" y="2235960"/>
              <a:ext cx="57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2392200" y="1561680"/>
              <a:ext cx="45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960600" y="1561680"/>
              <a:ext cx="0" cy="33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389640" y="1898640"/>
              <a:ext cx="128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389640" y="1898640"/>
              <a:ext cx="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674480" y="1898640"/>
              <a:ext cx="0" cy="2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flipV="1">
              <a:off x="6817680" y="2685600"/>
              <a:ext cx="428400" cy="2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5247360" y="2685600"/>
              <a:ext cx="570960" cy="2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23A68D46-59F6-421C-839E-E963E53280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32720" y="2276640"/>
            <a:ext cx="2411280" cy="3240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Egy termelő vállalat ciklikus tevékeny-sége</a:t>
            </a:r>
            <a:endParaRPr b="1" lang="en-US" sz="3500" spc="-1" strike="noStrike">
              <a:solidFill>
                <a:srgbClr val="330066"/>
              </a:solidFill>
              <a:latin typeface="Arial"/>
            </a:endParaRPr>
          </a:p>
        </p:txBody>
      </p:sp>
      <p:sp>
        <p:nvSpPr>
          <p:cNvPr id="263" name=""/>
          <p:cNvSpPr/>
          <p:nvPr/>
        </p:nvSpPr>
        <p:spPr>
          <a:xfrm>
            <a:off x="0" y="100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4" name=""/>
          <p:cNvGraphicFramePr/>
          <p:nvPr/>
        </p:nvGraphicFramePr>
        <p:xfrm>
          <a:off x="0" y="260280"/>
          <a:ext cx="6659640" cy="5977080"/>
        </p:xfrm>
        <a:graphic>
          <a:graphicData uri="http://schemas.openxmlformats.org/presentationml/2006/ole">
            <p:oleObj r:id="rId1" spid="">
              <p:embed/>
              <p:pic>
                <p:nvPicPr>
                  <p:cNvPr id="265" name="" descr=""/>
                  <p:cNvPicPr/>
                  <p:nvPr/>
                </p:nvPicPr>
                <p:blipFill>
                  <a:blip r:embed="rId2"/>
                  <a:stretch/>
                </p:blipFill>
                <p:spPr>
                  <a:xfrm>
                    <a:off x="0" y="260280"/>
                    <a:ext cx="6659640" cy="5977080"/>
                  </a:xfrm>
                  <a:prstGeom prst="rect">
                    <a:avLst/>
                  </a:prstGeom>
                  <a:ln w="0">
                    <a:noFill/>
                  </a:ln>
                </p:spPr>
              </p:pic>
            </p:oleObj>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6A6C84BD-1279-4C7E-B6AE-69C66EC91B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ációs rendszerrel szembeni elvárások</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könnyű újrakonfigurálhatóság,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problémamentes, zavartalan kapcsolat a cég alrendszerei és a környezet közöt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rugalmasság, a változásokhoz való alkalmazkodóképesség biztosítása,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vállalati célok eléréséhez igazodó információszolgáltatás, ehhez friss, naprakész, pontos információk előállítására van szükség,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öndokumentáló képesség,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t erőforrásnak kell tekinteti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álózati technológiák alkalmazása, amelyek lehetővé teszik a szükséges információkért folytatott "adatbányászato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rugalmas, gyors, könnyen alakítható adatbázisrendszerek alkalmazása,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EDI(electronic data interchange, elektronikus adatcsere) nyújtotta lehetőségek általános alkalmazása,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cégek közötti információcsere rutinfeladattá tétel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széleskörű hozzáférés az információkhoz, (mindenki látja a számára elérhető információka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szigorú védelem a cég szempontjából fontos adatokhoz; a kettő közötti kényes egyensúly megteremtése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4968E6E-F232-469E-B973-AED211CF87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oftverfejlesztési területek</a:t>
            </a:r>
            <a:endParaRPr b="1" lang="en-US" sz="3900" spc="-1" strike="noStrike">
              <a:solidFill>
                <a:srgbClr val="330066"/>
              </a:solidFill>
              <a:latin typeface="Arial"/>
            </a:endParaRPr>
          </a:p>
        </p:txBody>
      </p:sp>
      <p:sp>
        <p:nvSpPr>
          <p:cNvPr id="2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Software Engineering –SE- (Szoftverfejleszté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System Engineering (Rendszerfejleszté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Information Engineering - IE (Információrendszer tervezé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Knowledge Engineering – KE- (Tudásalapú-tervezé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977A901-6EFA-4222-9C75-4CBFE5F58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Software Engineering –SE- (Szoftverfejlesztés)</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ár az 1968-ban a garmischi híres NATO Konferencián megfogalmazott szoftvertervezés fogalom is hangsúlyozza, hogy a szoftver fejlesztése </a:t>
            </a:r>
            <a:r>
              <a:rPr b="0" lang="hu-HU" sz="2600" spc="-1" strike="noStrike" u="sng">
                <a:solidFill>
                  <a:srgbClr val="000000"/>
                </a:solidFill>
                <a:uFillTx/>
                <a:latin typeface="Arial"/>
              </a:rPr>
              <a:t>mérnöki feladat</a:t>
            </a:r>
            <a:r>
              <a:rPr b="0" lang="hu-HU" sz="2600" spc="-1" strike="noStrike">
                <a:solidFill>
                  <a:srgbClr val="000000"/>
                </a:solidFill>
                <a:latin typeface="Arial"/>
              </a:rPr>
              <a:t>, mérnöki módon végzett tevékenység. A szoftvert tehát ugyanúgy, ipari módon kell előállítani, mint bármilyen más terméke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efinícióként: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Szoftverfejlesztés fogalma alatt a fejlesztés során felhasznált tudományos ismereteknek és módszereknek a probléma hatékony megoldását célzó alkalmazását értjük, amelynek eredménye egy valóságos feladat számítógéppel támogatott megoldása.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AC3EADE-4F1D-4DB6-AAB0-14AC74FCEA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System Engineering (Rendszerfejlesztés)</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Egyre nagyobb az igény a mind teljesebb, az egymással összefüggő alrendszerekből álló, integrált megoldásra. A rendszerek növekvő komplexitása, az integrációra való törekvés azt jelentik, hogy a szoftverfejlesztést nem tekinthetjük egymástól izolált, elválasztott alrendszerekre vonatkozó önálló tevékenységkén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rendszerek komplex, integrált szemléletű elemzésére, hatékonyabbá és korszerűbbé tételére irányuló szoftverfejlesztési munkát </a:t>
            </a:r>
            <a:r>
              <a:rPr b="1" lang="hu-HU" sz="1900" spc="-1" strike="noStrike">
                <a:solidFill>
                  <a:srgbClr val="000000"/>
                </a:solidFill>
                <a:latin typeface="Arial"/>
              </a:rPr>
              <a:t>rendszerfejlesztésnek</a:t>
            </a:r>
            <a:r>
              <a:rPr b="0" lang="hu-HU" sz="1900" spc="-1" strike="noStrike">
                <a:solidFill>
                  <a:srgbClr val="000000"/>
                </a:solidFill>
                <a:latin typeface="Arial"/>
              </a:rPr>
              <a:t> hívju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oftvertermékek bonyolultságát növeli, valamint a rendszerszervezői munkát bonyolítja, hogy egyre inkább előtérbe kerül a szervezeten belül működő információs rendszer kapcsolása a közvetlen, vagy közvetett piaci, gazdasági, köz- és államigazgatási információs rendszerekhez, vagyis a szervezeten belüli információs rendszer a környezethez, egyre erősebb szálakkal kell kötődjön. Pl: nyomonkövetés, elektronikus köz és államigazgatás, stb..</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6ADCD2F-AF02-4683-8489-3CA96028FF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Information Engineering - IE (Információrendszer tervezés)</a:t>
            </a:r>
            <a:endParaRPr b="1" lang="en-US" sz="3900" spc="-1" strike="noStrike">
              <a:solidFill>
                <a:srgbClr val="330066"/>
              </a:solidFill>
              <a:latin typeface="Arial"/>
            </a:endParaRPr>
          </a:p>
        </p:txBody>
      </p:sp>
      <p:sp>
        <p:nvSpPr>
          <p:cNvPr id="2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ivel a valóságot vagy annak egy szükséges részét adatokkal, információkkal írjuk le, ezért bármilyen tevékenység végzése információigényes és a tevékenység hatékonyságának növeléséhez egy információs rendszer használata jelentősen hozzájárulhat. Vannak viszont olyan gazdasági tevékenységek, ahol az információ az alapeszköze a tevékenységnek, gondoljuk például a tőzsdére.</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információs rendszer-fejlesztés a szoftverfejlesztés egy nagyon jelentős ágazata.</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t a folyamatot, amelynek során egy szervezet alrendszereit, adatait, információfolyamait és ezek feldolgozását egységes rendszerszemléletben kezelve, számítógéppel támogatott információfeldolgozássá fejlesztjük </a:t>
            </a:r>
            <a:r>
              <a:rPr b="1" lang="hu-HU" sz="1900" spc="-1" strike="noStrike">
                <a:solidFill>
                  <a:srgbClr val="000000"/>
                </a:solidFill>
                <a:latin typeface="Arial"/>
              </a:rPr>
              <a:t>információs rendszer tervezésnek</a:t>
            </a:r>
            <a:r>
              <a:rPr b="0" lang="hu-HU" sz="1900" spc="-1" strike="noStrike">
                <a:solidFill>
                  <a:srgbClr val="000000"/>
                </a:solidFill>
                <a:latin typeface="Arial"/>
              </a:rPr>
              <a:t> nevezzük. Hogy elkerüljük a rendszeren belüli részmegoldások, mint önálló egymással össze nem illő egységek kidolgozását, célszerű egy olyan módszert alkalmazni, a tervezés során, amely a részfeladatokat a rendszer egészének szem előtt tartásával, rendszerszemléletben képes megoldani.</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48797A8-5E44-453D-A55D-D2E1EC3683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nowledge Engineering – KE- (Tudásalapú-tervezés)</a:t>
            </a:r>
            <a:endParaRPr b="1" lang="en-US" sz="3900" spc="-1" strike="noStrike">
              <a:solidFill>
                <a:srgbClr val="330066"/>
              </a:solidFill>
              <a:latin typeface="Arial"/>
            </a:endParaRPr>
          </a:p>
        </p:txBody>
      </p:sp>
      <p:sp>
        <p:nvSpPr>
          <p:cNvPr id="2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orábbi fejezetekben láthattuk, hogy az információ felhasználása által, a bizonytalansági állapotot enyhíti.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iszont a felhasználás nagyban függ a felhasználó tudásától, eddigi tapasztalataitól.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t a fejlesztési folyamatot, amelynek során bizonyos szakterület ismeretanyagát számítógéppel támogatott feldolgozáshoz előkészítjük, tároljuk (tudásbázis), megfelelő módszerek és szabályok szerint feldolgozzuk </a:t>
            </a:r>
            <a:r>
              <a:rPr b="1" lang="hu-HU" sz="2600" spc="-1" strike="noStrike">
                <a:solidFill>
                  <a:srgbClr val="000000"/>
                </a:solidFill>
                <a:latin typeface="Arial"/>
              </a:rPr>
              <a:t>tudástervezésnek</a:t>
            </a:r>
            <a:r>
              <a:rPr b="0" lang="hu-HU" sz="2600" spc="-1" strike="noStrike">
                <a:solidFill>
                  <a:srgbClr val="000000"/>
                </a:solidFill>
                <a:latin typeface="Arial"/>
              </a:rPr>
              <a:t> vagy </a:t>
            </a:r>
            <a:r>
              <a:rPr b="1" lang="hu-HU" sz="2600" spc="-1" strike="noStrike">
                <a:solidFill>
                  <a:srgbClr val="000000"/>
                </a:solidFill>
                <a:latin typeface="Arial"/>
              </a:rPr>
              <a:t>tudásalapú információfeldolgozásnak</a:t>
            </a:r>
            <a:r>
              <a:rPr b="0" lang="hu-HU" sz="2600" spc="-1" strike="noStrike">
                <a:solidFill>
                  <a:srgbClr val="000000"/>
                </a:solidFill>
                <a:latin typeface="Arial"/>
              </a:rPr>
              <a:t> nevezzü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9498A36-7132-49F3-8441-980A4C2FEB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óra tematikája</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s rendszerek fogalma, típusa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információs rendszer környeze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s rendszerekkel szembeni elváráso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s rendszerek megközelítési aspektusa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36F2F66-ECE5-4323-A686-744B53557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ációs rendszer megközelítésének aspektusai</a:t>
            </a:r>
            <a:endParaRPr b="1" lang="en-US" sz="3900" spc="-1" strike="noStrike">
              <a:solidFill>
                <a:srgbClr val="330066"/>
              </a:solidFill>
              <a:latin typeface="Arial"/>
            </a:endParaRPr>
          </a:p>
        </p:txBody>
      </p:sp>
      <p:sp>
        <p:nvSpPr>
          <p:cNvPr id="279" name="PlaceHolder 2"/>
          <p:cNvSpPr>
            <a:spLocks noGrp="1"/>
          </p:cNvSpPr>
          <p:nvPr>
            <p:ph/>
          </p:nvPr>
        </p:nvSpPr>
        <p:spPr>
          <a:xfrm>
            <a:off x="457200" y="1719000"/>
            <a:ext cx="8229600" cy="142236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Mi a rendszer célja, feladata, MIT kell megvalósítania?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HOGYAN működik a rendszer, milyen módszereket alkalmaz?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KI végzi a munkát, ki működteti a rendszert? </a:t>
            </a:r>
            <a:endParaRPr b="0" lang="en-US" sz="2200" spc="-1" strike="noStrike">
              <a:solidFill>
                <a:srgbClr val="000000"/>
              </a:solidFill>
              <a:latin typeface="Arial"/>
            </a:endParaRPr>
          </a:p>
        </p:txBody>
      </p:sp>
      <p:grpSp>
        <p:nvGrpSpPr>
          <p:cNvPr id="280" name=""/>
          <p:cNvGrpSpPr/>
          <p:nvPr/>
        </p:nvGrpSpPr>
        <p:grpSpPr>
          <a:xfrm>
            <a:off x="1403280" y="3284640"/>
            <a:ext cx="5689440" cy="2447640"/>
            <a:chOff x="1403280" y="3284640"/>
            <a:chExt cx="5689440" cy="2447640"/>
          </a:xfrm>
        </p:grpSpPr>
        <p:sp>
          <p:nvSpPr>
            <p:cNvPr id="281" name=""/>
            <p:cNvSpPr/>
            <p:nvPr/>
          </p:nvSpPr>
          <p:spPr>
            <a:xfrm>
              <a:off x="1403280" y="3284640"/>
              <a:ext cx="1803960" cy="69912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I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funkcionalitás</a:t>
              </a:r>
              <a:endParaRPr b="0" lang="en-US" sz="1200" spc="-1" strike="noStrike">
                <a:solidFill>
                  <a:srgbClr val="000000"/>
                </a:solidFill>
                <a:latin typeface="Times New Roman"/>
              </a:endParaRPr>
            </a:p>
          </p:txBody>
        </p:sp>
        <p:sp>
          <p:nvSpPr>
            <p:cNvPr id="282" name=""/>
            <p:cNvSpPr/>
            <p:nvPr/>
          </p:nvSpPr>
          <p:spPr>
            <a:xfrm>
              <a:off x="5288760" y="3284640"/>
              <a:ext cx="1803960" cy="69912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HOGY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technikai</a:t>
              </a:r>
              <a:endParaRPr b="0" lang="en-US" sz="1200" spc="-1" strike="noStrike">
                <a:solidFill>
                  <a:srgbClr val="000000"/>
                </a:solidFill>
                <a:latin typeface="Times New Roman"/>
              </a:endParaRPr>
            </a:p>
          </p:txBody>
        </p:sp>
        <p:sp>
          <p:nvSpPr>
            <p:cNvPr id="283" name=""/>
            <p:cNvSpPr/>
            <p:nvPr/>
          </p:nvSpPr>
          <p:spPr>
            <a:xfrm>
              <a:off x="3484800" y="5033160"/>
              <a:ext cx="1803960" cy="69912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K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végrehajtás</a:t>
              </a:r>
              <a:endParaRPr b="0" lang="en-US" sz="1200" spc="-1" strike="noStrike">
                <a:solidFill>
                  <a:srgbClr val="000000"/>
                </a:solidFill>
                <a:latin typeface="Times New Roman"/>
              </a:endParaRPr>
            </a:p>
          </p:txBody>
        </p:sp>
        <p:sp>
          <p:nvSpPr>
            <p:cNvPr id="284" name=""/>
            <p:cNvSpPr/>
            <p:nvPr/>
          </p:nvSpPr>
          <p:spPr>
            <a:xfrm>
              <a:off x="1958040" y="3983760"/>
              <a:ext cx="152640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5288400" y="3983760"/>
              <a:ext cx="1109880" cy="13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07240" y="3634200"/>
              <a:ext cx="208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081A7FD-342E-4A6C-B339-2F9F27D522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IT?</a:t>
            </a:r>
            <a:endParaRPr b="1" lang="en-US" sz="3900" spc="-1" strike="noStrike">
              <a:solidFill>
                <a:srgbClr val="330066"/>
              </a:solidFill>
              <a:latin typeface="Arial"/>
            </a:endParaRPr>
          </a:p>
        </p:txBody>
      </p:sp>
      <p:sp>
        <p:nvSpPr>
          <p:cNvPr id="2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IT? kérdésre adandó választ, vagyis a rendszer </a:t>
            </a:r>
            <a:r>
              <a:rPr b="1" lang="hu-HU" sz="2600" spc="-1" strike="noStrike">
                <a:solidFill>
                  <a:srgbClr val="000000"/>
                </a:solidFill>
                <a:latin typeface="Arial"/>
              </a:rPr>
              <a:t>céljának</a:t>
            </a:r>
            <a:r>
              <a:rPr b="0" lang="hu-HU" sz="2600" spc="-1" strike="noStrike">
                <a:solidFill>
                  <a:srgbClr val="000000"/>
                </a:solidFill>
                <a:latin typeface="Arial"/>
              </a:rPr>
              <a:t> meghatározását csak a környezethez, a körülményekhez és az igényekhez viszonyítva állapíthatjuk meg.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 kereskedelmi társaság számlázási rendszere, a bútorgyártással foglalkozó társág optimalizált gyártása, egy repülőtársaság utas-helyfoglalási rendszere vagy egy kórház beteg-ágyfoglalási rendszere nyilván egészen más funkcionális igényeket kell kielégítsen, hiszen a felsorolt rendszer működési feltételei, körülményei és a rendszerek célja egyedileg eltérne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ADD2B2F-5978-401A-9C75-D405B055DF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ogyan?</a:t>
            </a:r>
            <a:endParaRPr b="1" lang="en-US" sz="3900" spc="-1" strike="noStrike">
              <a:solidFill>
                <a:srgbClr val="330066"/>
              </a:solidFill>
              <a:latin typeface="Arial"/>
            </a:endParaRPr>
          </a:p>
        </p:txBody>
      </p:sp>
      <p:sp>
        <p:nvSpPr>
          <p:cNvPr id="2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HOGYAN? megközelítésben a rendszert a technikai megoldásokhoz viszonyítva kell vizsgálnunk, például hogyan kezelik, rögzítik, továbbítják illetve dolgozzák fel az információkat, milyen kapcsolatok vannak az egyes információcsoportok között. A tervezési eredmény ebben a vonatkozásban a kifejlesztett szoftver szerkezetében, az adatbázis struktúrájában, a számítógép és az ember kapcsolatában mutatkozik meg.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3B2ABE5-08B9-4138-B82F-3F92D6AA0C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I?</a:t>
            </a: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I?, KIVEL? kérdésre adandó válasznál a fejlesztés, végrehajtás és működés megvalósítása szempontjából jellemezzük a rendszert, meghatározzuk a fejlesztés, a számítógépes környezet költségeit, a működtetés emberi tényezőit. A döntést megnehezíti, hogy a különböző technikai és emberi erőforrások, azok képessége, kapacitása, költsége más és más paraméterekkel jellemezhetők, így összevetésük, a hatékonyabb kiválasztása meglehetősen nehézkes.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9E4D793-51A7-4604-B7FC-AB3D8FE4B7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endszerfejlesztési tevékenység fázisai</a:t>
            </a:r>
            <a:endParaRPr b="1" lang="en-US" sz="3900" spc="-1" strike="noStrike">
              <a:solidFill>
                <a:srgbClr val="330066"/>
              </a:solidFill>
              <a:latin typeface="Arial"/>
            </a:endParaRPr>
          </a:p>
        </p:txBody>
      </p:sp>
      <p:sp>
        <p:nvSpPr>
          <p:cNvPr id="294" name="PlaceHolder 2"/>
          <p:cNvSpPr>
            <a:spLocks noGrp="1"/>
          </p:cNvSpPr>
          <p:nvPr>
            <p:ph/>
          </p:nvPr>
        </p:nvSpPr>
        <p:spPr>
          <a:xfrm>
            <a:off x="457200" y="1719360"/>
            <a:ext cx="8229600" cy="3581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Rendszer elemzési,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Rendszer tervezési és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Rendszer kivitelezés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zek a munkaszakaszok alapvetően abban különböznek egymástól, hogy melyik kérdésre koncentrálnak. </a:t>
            </a:r>
            <a:endParaRPr b="0" lang="en-US" sz="3000" spc="-1" strike="noStrike">
              <a:solidFill>
                <a:srgbClr val="000000"/>
              </a:solidFill>
              <a:latin typeface="Arial"/>
            </a:endParaRPr>
          </a:p>
        </p:txBody>
      </p:sp>
      <p:grpSp>
        <p:nvGrpSpPr>
          <p:cNvPr id="295" name=""/>
          <p:cNvGrpSpPr/>
          <p:nvPr/>
        </p:nvGrpSpPr>
        <p:grpSpPr>
          <a:xfrm>
            <a:off x="1835280" y="5084640"/>
            <a:ext cx="4800600" cy="800280"/>
            <a:chOff x="1835280" y="5084640"/>
            <a:chExt cx="4800600" cy="800280"/>
          </a:xfrm>
        </p:grpSpPr>
        <p:sp>
          <p:nvSpPr>
            <p:cNvPr id="296" name=""/>
            <p:cNvSpPr/>
            <p:nvPr/>
          </p:nvSpPr>
          <p:spPr>
            <a:xfrm>
              <a:off x="1835280" y="5541840"/>
              <a:ext cx="1143000" cy="34308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Hogyan?</a:t>
              </a:r>
              <a:endParaRPr b="0" lang="en-US" sz="1200" spc="-1" strike="noStrike">
                <a:solidFill>
                  <a:srgbClr val="000000"/>
                </a:solidFill>
                <a:latin typeface="Times New Roman"/>
              </a:endParaRPr>
            </a:p>
          </p:txBody>
        </p:sp>
        <p:sp>
          <p:nvSpPr>
            <p:cNvPr id="297" name=""/>
            <p:cNvSpPr/>
            <p:nvPr/>
          </p:nvSpPr>
          <p:spPr>
            <a:xfrm>
              <a:off x="3549600" y="5541840"/>
              <a:ext cx="1143000" cy="34308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Mit?</a:t>
              </a:r>
              <a:endParaRPr b="0" lang="en-US" sz="1200" spc="-1" strike="noStrike">
                <a:solidFill>
                  <a:srgbClr val="000000"/>
                </a:solidFill>
                <a:latin typeface="Times New Roman"/>
              </a:endParaRPr>
            </a:p>
          </p:txBody>
        </p:sp>
        <p:sp>
          <p:nvSpPr>
            <p:cNvPr id="298" name=""/>
            <p:cNvSpPr/>
            <p:nvPr/>
          </p:nvSpPr>
          <p:spPr>
            <a:xfrm>
              <a:off x="5492880" y="5541840"/>
              <a:ext cx="1143000" cy="34308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Ki?</a:t>
              </a:r>
              <a:endParaRPr b="0" lang="en-US" sz="1200" spc="-1" strike="noStrike">
                <a:solidFill>
                  <a:srgbClr val="000000"/>
                </a:solidFill>
                <a:latin typeface="Times New Roman"/>
              </a:endParaRPr>
            </a:p>
          </p:txBody>
        </p:sp>
        <p:sp>
          <p:nvSpPr>
            <p:cNvPr id="299" name=""/>
            <p:cNvSpPr/>
            <p:nvPr/>
          </p:nvSpPr>
          <p:spPr>
            <a:xfrm>
              <a:off x="2063880" y="508464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Elemzés</a:t>
              </a:r>
              <a:endParaRPr b="0" lang="en-US" sz="1200" spc="-1" strike="noStrike">
                <a:solidFill>
                  <a:srgbClr val="000000"/>
                </a:solidFill>
                <a:latin typeface="Times New Roman"/>
              </a:endParaRPr>
            </a:p>
          </p:txBody>
        </p:sp>
        <p:sp>
          <p:nvSpPr>
            <p:cNvPr id="300" name=""/>
            <p:cNvSpPr/>
            <p:nvPr/>
          </p:nvSpPr>
          <p:spPr>
            <a:xfrm>
              <a:off x="3778200" y="508464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Tervezés</a:t>
              </a:r>
              <a:endParaRPr b="0" lang="en-US" sz="1200" spc="-1" strike="noStrike">
                <a:solidFill>
                  <a:srgbClr val="000000"/>
                </a:solidFill>
                <a:latin typeface="Times New Roman"/>
              </a:endParaRPr>
            </a:p>
          </p:txBody>
        </p:sp>
        <p:sp>
          <p:nvSpPr>
            <p:cNvPr id="301" name=""/>
            <p:cNvSpPr/>
            <p:nvPr/>
          </p:nvSpPr>
          <p:spPr>
            <a:xfrm>
              <a:off x="5607000" y="5084640"/>
              <a:ext cx="9144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Times New Roman"/>
                </a:rPr>
                <a:t>Kivitelezés</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A50362E-8583-43E0-828D-835230A79D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fejlesztés ciklikus folyamata</a:t>
            </a:r>
            <a:endParaRPr b="1" lang="en-US" sz="3900" spc="-1" strike="noStrike">
              <a:solidFill>
                <a:srgbClr val="330066"/>
              </a:solidFill>
              <a:latin typeface="Arial"/>
            </a:endParaRPr>
          </a:p>
        </p:txBody>
      </p:sp>
      <p:sp>
        <p:nvSpPr>
          <p:cNvPr id="3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4"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05" name=""/>
          <p:cNvGraphicFramePr/>
          <p:nvPr/>
        </p:nvGraphicFramePr>
        <p:xfrm>
          <a:off x="1332000" y="1628640"/>
          <a:ext cx="6364080" cy="4351320"/>
        </p:xfrm>
        <a:graphic>
          <a:graphicData uri="http://schemas.openxmlformats.org/presentationml/2006/ole">
            <p:oleObj r:id="rId1" spid="">
              <p:embed/>
              <p:pic>
                <p:nvPicPr>
                  <p:cNvPr id="306" name="" descr=""/>
                  <p:cNvPicPr/>
                  <p:nvPr/>
                </p:nvPicPr>
                <p:blipFill>
                  <a:blip r:embed="rId2"/>
                  <a:stretch/>
                </p:blipFill>
                <p:spPr>
                  <a:xfrm>
                    <a:off x="1332000" y="1628640"/>
                    <a:ext cx="6364080" cy="4351320"/>
                  </a:xfrm>
                  <a:prstGeom prst="rect">
                    <a:avLst/>
                  </a:prstGeom>
                  <a:ln w="0">
                    <a:noFill/>
                  </a:ln>
                </p:spPr>
              </p:pic>
            </p:oleObj>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03617CB-0F69-4AF3-BFB0-AA4A91156F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endszerfejlesztés lépései</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Új probléma felmerülés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Vezetői dönté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Előzetes helyzetfelméré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Vezetői dönté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Részletes helyzetfelméré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Vezetői dönté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Helyzetfelmérés elemzés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Új rendszer logikai tervezés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Új rendszer fizikai tervezés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Új rendszer létrehozása</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Új rendszer bevezetés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Új rendszer értékelés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 rendszer üzemeltetése és karban tartása</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6CE1B11-0528-4BC0-8F4E-63C106C9B8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755640" y="692280"/>
            <a:ext cx="7561440" cy="4824360"/>
            <a:chOff x="755640" y="692280"/>
            <a:chExt cx="7561440" cy="4824360"/>
          </a:xfrm>
        </p:grpSpPr>
        <p:sp>
          <p:nvSpPr>
            <p:cNvPr id="310" name=""/>
            <p:cNvSpPr/>
            <p:nvPr/>
          </p:nvSpPr>
          <p:spPr>
            <a:xfrm flipV="1">
              <a:off x="8317080" y="1567080"/>
              <a:ext cx="0" cy="30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755640" y="692280"/>
              <a:ext cx="7560720" cy="4824360"/>
              <a:chOff x="755640" y="692280"/>
              <a:chExt cx="7560720" cy="4824360"/>
            </a:xfrm>
          </p:grpSpPr>
          <p:sp>
            <p:nvSpPr>
              <p:cNvPr id="312" name=""/>
              <p:cNvSpPr/>
              <p:nvPr/>
            </p:nvSpPr>
            <p:spPr>
              <a:xfrm>
                <a:off x="895680" y="692280"/>
                <a:ext cx="1400040" cy="1020960"/>
              </a:xfrm>
              <a:prstGeom prst="cloudCallout">
                <a:avLst>
                  <a:gd name="adj1" fmla="val -45000"/>
                  <a:gd name="adj2" fmla="val 528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Külső –belső</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rPr>
                  <a:t>kényszerek</a:t>
                </a:r>
                <a:endParaRPr b="0" lang="en-US" sz="1000" spc="-1" strike="noStrike">
                  <a:solidFill>
                    <a:srgbClr val="000000"/>
                  </a:solidFill>
                  <a:latin typeface="Times New Roman"/>
                </a:endParaRPr>
              </a:p>
            </p:txBody>
          </p:sp>
          <p:sp>
            <p:nvSpPr>
              <p:cNvPr id="313" name=""/>
              <p:cNvSpPr/>
              <p:nvPr/>
            </p:nvSpPr>
            <p:spPr>
              <a:xfrm>
                <a:off x="895680" y="1859040"/>
                <a:ext cx="1260000" cy="58320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Új probléma felmerülése</a:t>
                </a:r>
                <a:endParaRPr b="0" lang="en-US" sz="1200" spc="-1" strike="noStrike">
                  <a:solidFill>
                    <a:srgbClr val="000000"/>
                  </a:solidFill>
                  <a:latin typeface="Times New Roman"/>
                </a:endParaRPr>
              </a:p>
            </p:txBody>
          </p:sp>
          <p:sp>
            <p:nvSpPr>
              <p:cNvPr id="314" name=""/>
              <p:cNvSpPr/>
              <p:nvPr/>
            </p:nvSpPr>
            <p:spPr>
              <a:xfrm>
                <a:off x="2575800" y="1713240"/>
                <a:ext cx="1260000" cy="875160"/>
              </a:xfrm>
              <a:prstGeom prst="parallelogram">
                <a:avLst>
                  <a:gd name="adj" fmla="val 359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Vezetői döntés</a:t>
                </a:r>
                <a:endParaRPr b="0" lang="en-US" sz="1000" spc="-1" strike="noStrike">
                  <a:solidFill>
                    <a:srgbClr val="000000"/>
                  </a:solidFill>
                  <a:latin typeface="Times New Roman"/>
                </a:endParaRPr>
              </a:p>
            </p:txBody>
          </p:sp>
          <p:sp>
            <p:nvSpPr>
              <p:cNvPr id="315" name=""/>
              <p:cNvSpPr/>
              <p:nvPr/>
            </p:nvSpPr>
            <p:spPr>
              <a:xfrm>
                <a:off x="2155680" y="2150640"/>
                <a:ext cx="55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3276000" y="1275120"/>
                <a:ext cx="0" cy="43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695760" y="2150640"/>
                <a:ext cx="55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255920" y="1859040"/>
                <a:ext cx="1540080" cy="58320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Előzetes helyzetfelmérés</a:t>
                </a:r>
                <a:endParaRPr b="0" lang="en-US" sz="1200" spc="-1" strike="noStrike">
                  <a:solidFill>
                    <a:srgbClr val="000000"/>
                  </a:solidFill>
                  <a:latin typeface="Times New Roman"/>
                </a:endParaRPr>
              </a:p>
            </p:txBody>
          </p:sp>
          <p:sp>
            <p:nvSpPr>
              <p:cNvPr id="319" name=""/>
              <p:cNvSpPr/>
              <p:nvPr/>
            </p:nvSpPr>
            <p:spPr>
              <a:xfrm>
                <a:off x="6216120" y="1713240"/>
                <a:ext cx="1260000" cy="875160"/>
              </a:xfrm>
              <a:prstGeom prst="parallelogram">
                <a:avLst>
                  <a:gd name="adj" fmla="val 359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Vezetői döntés</a:t>
                </a:r>
                <a:endParaRPr b="0" lang="en-US" sz="1000" spc="-1" strike="noStrike">
                  <a:solidFill>
                    <a:srgbClr val="000000"/>
                  </a:solidFill>
                  <a:latin typeface="Times New Roman"/>
                </a:endParaRPr>
              </a:p>
            </p:txBody>
          </p:sp>
          <p:sp>
            <p:nvSpPr>
              <p:cNvPr id="320" name=""/>
              <p:cNvSpPr/>
              <p:nvPr/>
            </p:nvSpPr>
            <p:spPr>
              <a:xfrm>
                <a:off x="5796000" y="2150640"/>
                <a:ext cx="55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6915960" y="1275120"/>
                <a:ext cx="0" cy="43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336080" y="2150640"/>
                <a:ext cx="4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756200" y="2150640"/>
                <a:ext cx="0" cy="87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1035720" y="3026160"/>
                <a:ext cx="67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035720" y="3026160"/>
                <a:ext cx="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55640" y="3317760"/>
                <a:ext cx="1540080" cy="87516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Részletes helyzetfelmérés, elemzés</a:t>
                </a:r>
                <a:endParaRPr b="0" lang="en-US" sz="1200" spc="-1" strike="noStrike">
                  <a:solidFill>
                    <a:srgbClr val="000000"/>
                  </a:solidFill>
                  <a:latin typeface="Times New Roman"/>
                </a:endParaRPr>
              </a:p>
            </p:txBody>
          </p:sp>
          <p:sp>
            <p:nvSpPr>
              <p:cNvPr id="327" name=""/>
              <p:cNvSpPr/>
              <p:nvPr/>
            </p:nvSpPr>
            <p:spPr>
              <a:xfrm>
                <a:off x="2715840" y="3317760"/>
                <a:ext cx="1260000" cy="875160"/>
              </a:xfrm>
              <a:prstGeom prst="parallelogram">
                <a:avLst>
                  <a:gd name="adj" fmla="val 3599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000" spc="-1" strike="noStrike">
                    <a:solidFill>
                      <a:srgbClr val="000000"/>
                    </a:solidFill>
                    <a:latin typeface="Times New Roman"/>
                  </a:rPr>
                  <a:t>Vezetői döntés</a:t>
                </a:r>
                <a:endParaRPr b="0" lang="en-US" sz="1000" spc="-1" strike="noStrike">
                  <a:solidFill>
                    <a:srgbClr val="000000"/>
                  </a:solidFill>
                  <a:latin typeface="Times New Roman"/>
                </a:endParaRPr>
              </a:p>
            </p:txBody>
          </p:sp>
          <p:sp>
            <p:nvSpPr>
              <p:cNvPr id="328" name=""/>
              <p:cNvSpPr/>
              <p:nvPr/>
            </p:nvSpPr>
            <p:spPr>
              <a:xfrm>
                <a:off x="2295720" y="3755520"/>
                <a:ext cx="55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835800" y="3755520"/>
                <a:ext cx="55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395960" y="3317760"/>
                <a:ext cx="1540080" cy="72936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ogikai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tervezés</a:t>
                </a:r>
                <a:endParaRPr b="0" lang="en-US" sz="1200" spc="-1" strike="noStrike">
                  <a:solidFill>
                    <a:srgbClr val="000000"/>
                  </a:solidFill>
                  <a:latin typeface="Times New Roman"/>
                </a:endParaRPr>
              </a:p>
            </p:txBody>
          </p:sp>
          <p:sp>
            <p:nvSpPr>
              <p:cNvPr id="331" name=""/>
              <p:cNvSpPr/>
              <p:nvPr/>
            </p:nvSpPr>
            <p:spPr>
              <a:xfrm>
                <a:off x="6356160" y="3317760"/>
                <a:ext cx="1540080" cy="72936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izikai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tervezés</a:t>
                </a:r>
                <a:endParaRPr b="0" lang="en-US" sz="1200" spc="-1" strike="noStrike">
                  <a:solidFill>
                    <a:srgbClr val="000000"/>
                  </a:solidFill>
                  <a:latin typeface="Times New Roman"/>
                </a:endParaRPr>
              </a:p>
            </p:txBody>
          </p:sp>
          <p:sp>
            <p:nvSpPr>
              <p:cNvPr id="332" name=""/>
              <p:cNvSpPr/>
              <p:nvPr/>
            </p:nvSpPr>
            <p:spPr>
              <a:xfrm>
                <a:off x="5936040" y="3609720"/>
                <a:ext cx="419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3415680" y="3171960"/>
                <a:ext cx="0" cy="14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896240" y="3609720"/>
                <a:ext cx="28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76320" y="3609720"/>
                <a:ext cx="0" cy="72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1035360" y="4339080"/>
                <a:ext cx="714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035720" y="4339080"/>
                <a:ext cx="0" cy="14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55640" y="4484880"/>
                <a:ext cx="1540080" cy="43776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étrehozás</a:t>
                </a:r>
                <a:endParaRPr b="0" lang="en-US" sz="1200" spc="-1" strike="noStrike">
                  <a:solidFill>
                    <a:srgbClr val="000000"/>
                  </a:solidFill>
                  <a:latin typeface="Times New Roman"/>
                </a:endParaRPr>
              </a:p>
            </p:txBody>
          </p:sp>
          <p:sp>
            <p:nvSpPr>
              <p:cNvPr id="339" name=""/>
              <p:cNvSpPr/>
              <p:nvPr/>
            </p:nvSpPr>
            <p:spPr>
              <a:xfrm>
                <a:off x="2295720" y="4630680"/>
                <a:ext cx="28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75800" y="4484880"/>
                <a:ext cx="1400040" cy="43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Bevezetés</a:t>
                </a:r>
                <a:endParaRPr b="0" lang="en-US" sz="1200" spc="-1" strike="noStrike">
                  <a:solidFill>
                    <a:srgbClr val="000000"/>
                  </a:solidFill>
                  <a:latin typeface="Times New Roman"/>
                </a:endParaRPr>
              </a:p>
            </p:txBody>
          </p:sp>
          <p:sp>
            <p:nvSpPr>
              <p:cNvPr id="341" name=""/>
              <p:cNvSpPr/>
              <p:nvPr/>
            </p:nvSpPr>
            <p:spPr>
              <a:xfrm>
                <a:off x="3975840" y="4630680"/>
                <a:ext cx="4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395960" y="4484880"/>
                <a:ext cx="1260000" cy="43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Értékelés</a:t>
                </a:r>
                <a:endParaRPr b="0" lang="en-US" sz="1200" spc="-1" strike="noStrike">
                  <a:solidFill>
                    <a:srgbClr val="000000"/>
                  </a:solidFill>
                  <a:latin typeface="Times New Roman"/>
                </a:endParaRPr>
              </a:p>
            </p:txBody>
          </p:sp>
          <p:sp>
            <p:nvSpPr>
              <p:cNvPr id="343" name=""/>
              <p:cNvSpPr/>
              <p:nvPr/>
            </p:nvSpPr>
            <p:spPr>
              <a:xfrm>
                <a:off x="5655960" y="4630680"/>
                <a:ext cx="69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216120" y="4339080"/>
                <a:ext cx="1820160" cy="1020960"/>
              </a:xfrm>
              <a:prstGeom prst="cloudCallout">
                <a:avLst>
                  <a:gd name="adj1" fmla="val 425"/>
                  <a:gd name="adj2" fmla="val 309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Karbantartás üzemeltetés</a:t>
                </a:r>
                <a:endParaRPr b="0" lang="en-US" sz="1200" spc="-1" strike="noStrike">
                  <a:solidFill>
                    <a:srgbClr val="000000"/>
                  </a:solidFill>
                  <a:latin typeface="Times New Roman"/>
                </a:endParaRPr>
              </a:p>
            </p:txBody>
          </p:sp>
          <p:sp>
            <p:nvSpPr>
              <p:cNvPr id="345" name=""/>
              <p:cNvSpPr/>
              <p:nvPr/>
            </p:nvSpPr>
            <p:spPr>
              <a:xfrm flipV="1">
                <a:off x="1315440" y="2442600"/>
                <a:ext cx="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315440" y="2734200"/>
                <a:ext cx="40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75880" y="2734200"/>
                <a:ext cx="0" cy="58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036280" y="4641120"/>
                <a:ext cx="28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2015640" y="1567440"/>
                <a:ext cx="63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375880" y="4922640"/>
                <a:ext cx="0" cy="58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375880" y="5516640"/>
                <a:ext cx="294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8316360" y="4630320"/>
                <a:ext cx="0" cy="87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B2989FB1-9C43-4136-906D-24450B5A24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Új probléma felmerülése</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probléma felmerülése</a:t>
            </a:r>
            <a:r>
              <a:rPr b="0" lang="hu-HU" sz="2600" spc="-1" strike="noStrike">
                <a:solidFill>
                  <a:srgbClr val="000000"/>
                </a:solidFill>
                <a:latin typeface="Arial"/>
              </a:rPr>
              <a:t> gyakorlatilag a "miért" kérdésre adott válasz. Ez az indok, mely </a:t>
            </a:r>
            <a:r>
              <a:rPr b="1" lang="hu-HU" sz="2600" spc="-1" strike="noStrike">
                <a:solidFill>
                  <a:srgbClr val="000000"/>
                </a:solidFill>
                <a:latin typeface="Arial"/>
              </a:rPr>
              <a:t>elindít</a:t>
            </a:r>
            <a:r>
              <a:rPr b="0" lang="hu-HU" sz="2600" spc="-1" strike="noStrike">
                <a:solidFill>
                  <a:srgbClr val="000000"/>
                </a:solidFill>
                <a:latin typeface="Arial"/>
              </a:rPr>
              <a:t> egy döntés-előkészítő szakaszt és egy döntési szituációt eredményez.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vezetés elsőként csak arról </a:t>
            </a:r>
            <a:r>
              <a:rPr b="1" lang="hu-HU" sz="2600" spc="-1" strike="noStrike">
                <a:solidFill>
                  <a:srgbClr val="000000"/>
                </a:solidFill>
                <a:latin typeface="Arial"/>
              </a:rPr>
              <a:t>dönt</a:t>
            </a:r>
            <a:r>
              <a:rPr b="0" lang="hu-HU" sz="2600" spc="-1" strike="noStrike">
                <a:solidFill>
                  <a:srgbClr val="000000"/>
                </a:solidFill>
                <a:latin typeface="Arial"/>
              </a:rPr>
              <a:t>, hogy változtatás szükséges, ezért elindít egy projektet, melynek célja, hogy készítsen koncepcionális megvalósíthatósági tanulmányt, amiben dolgozzon ki megoldási alternatívákat is a felmerült probléma kiküszöbölésér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AB30882-153A-4A0E-8473-646D7F0007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efiníciós fázis</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udni kel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lhasználó által kitűzött célt, az elvárások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ldolgozandó információk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rendszer folyamatait és a végzendő műveleteke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apcsolódási pontokat más rendszerekhez,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jlesztés korlátai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jlesztett rendszerrel szemben támasztott követelményeke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95FC4D0-F0AC-4B0F-AC51-C21C195FC9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 fogalma</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információs rendszer:</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 </a:t>
            </a:r>
            <a:r>
              <a:rPr b="1" lang="hu-HU" sz="2200" spc="-1" strike="noStrike">
                <a:solidFill>
                  <a:srgbClr val="000000"/>
                </a:solidFill>
                <a:latin typeface="Arial"/>
              </a:rPr>
              <a:t>adatoknak és információkna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 </a:t>
            </a:r>
            <a:r>
              <a:rPr b="1" lang="hu-HU" sz="2200" spc="-1" strike="noStrike">
                <a:solidFill>
                  <a:srgbClr val="000000"/>
                </a:solidFill>
                <a:latin typeface="Arial"/>
              </a:rPr>
              <a:t>a velük kapcsolatos információs eseményekne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 </a:t>
            </a:r>
            <a:r>
              <a:rPr b="1" lang="hu-HU" sz="2200" spc="-1" strike="noStrike">
                <a:solidFill>
                  <a:srgbClr val="000000"/>
                </a:solidFill>
                <a:latin typeface="Arial"/>
              </a:rPr>
              <a:t>a rajtuk végrehajtott információs tevékenységekne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 </a:t>
            </a:r>
            <a:r>
              <a:rPr b="1" lang="hu-HU" sz="2200" spc="-1" strike="noStrike">
                <a:solidFill>
                  <a:srgbClr val="000000"/>
                </a:solidFill>
                <a:latin typeface="Arial"/>
              </a:rPr>
              <a:t>az előzőekkel kapcsolatos erőforrásokna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 </a:t>
            </a:r>
            <a:r>
              <a:rPr b="1" lang="hu-HU" sz="2200" spc="-1" strike="noStrike">
                <a:solidFill>
                  <a:srgbClr val="000000"/>
                </a:solidFill>
                <a:latin typeface="Arial"/>
              </a:rPr>
              <a:t>az információk felhasználóina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 </a:t>
            </a:r>
            <a:r>
              <a:rPr b="1" lang="hu-HU" sz="2200" spc="-1" strike="noStrike">
                <a:solidFill>
                  <a:srgbClr val="000000"/>
                </a:solidFill>
                <a:latin typeface="Arial"/>
              </a:rPr>
              <a:t>a fentieket szabályzó szabványoknak és eljárásoknak,</a:t>
            </a: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szervezett együttes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F6DFF5B-835B-45AD-B99A-D82D28920B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ntos fogalmak</a:t>
            </a:r>
            <a:endParaRPr b="1" lang="en-US" sz="3900" spc="-1" strike="noStrike">
              <a:solidFill>
                <a:srgbClr val="330066"/>
              </a:solidFill>
              <a:latin typeface="Arial"/>
            </a:endParaRPr>
          </a:p>
        </p:txBody>
      </p:sp>
      <p:sp>
        <p:nvSpPr>
          <p:cNvPr id="3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s rendszerek fogalm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s rendszerek sajátossága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s rendszerek típusa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s rendszerek fejlődé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oftverfejlesztési területe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Rendszerfejlesztés lépése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F135EFC-8323-4777-A0D7-C823ED62AE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Köszönöm a figyelmet!</a:t>
            </a: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HEFOP 3.3.1–P-2004-06-0071/1.0</a:t>
            </a:r>
          </a:p>
        </p:txBody>
      </p:sp>
      <p:sp>
        <p:nvSpPr>
          <p:cNvPr id="4" name="PlaceHolder 3"/>
          <p:cNvSpPr>
            <a:spLocks noGrp="1"/>
          </p:cNvSpPr>
          <p:nvPr>
            <p:ph type="sldNum" idx="6"/>
          </p:nvPr>
        </p:nvSpPr>
        <p:spPr/>
        <p:txBody>
          <a:bodyPr/>
          <a:p>
            <a:fld id="{2ED1DCB8-8544-454D-BF21-48CFBE9FA287}"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 elemei</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részletesebben vizsgáljuk a definíciót az első összetevő, részrendszer vagy elem az </a:t>
            </a:r>
            <a:r>
              <a:rPr b="1" lang="hu-HU" sz="1900" spc="-1" strike="noStrike">
                <a:solidFill>
                  <a:srgbClr val="000000"/>
                </a:solidFill>
                <a:latin typeface="Arial"/>
              </a:rPr>
              <a:t>adat</a:t>
            </a:r>
            <a:r>
              <a:rPr b="0" lang="hu-HU" sz="1900" spc="-1" strike="noStrike">
                <a:solidFill>
                  <a:srgbClr val="000000"/>
                </a:solidFill>
                <a:latin typeface="Arial"/>
              </a:rPr>
              <a:t> és az </a:t>
            </a:r>
            <a:r>
              <a:rPr b="1" lang="hu-HU" sz="1900" spc="-1" strike="noStrike">
                <a:solidFill>
                  <a:srgbClr val="000000"/>
                </a:solidFill>
                <a:latin typeface="Arial"/>
              </a:rPr>
              <a:t>információ</a:t>
            </a:r>
            <a:r>
              <a:rPr b="0" lang="hu-H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második és harmadik elemként az </a:t>
            </a:r>
            <a:r>
              <a:rPr b="1" lang="hu-HU" sz="1900" spc="-1" strike="noStrike">
                <a:solidFill>
                  <a:srgbClr val="000000"/>
                </a:solidFill>
                <a:latin typeface="Arial"/>
              </a:rPr>
              <a:t>információs eseményekről</a:t>
            </a:r>
            <a:r>
              <a:rPr b="0" lang="hu-HU" sz="1900" spc="-1" strike="noStrike">
                <a:solidFill>
                  <a:srgbClr val="000000"/>
                </a:solidFill>
                <a:latin typeface="Arial"/>
              </a:rPr>
              <a:t> és tevékenységekről esik szó.</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Információs tevékenységnek</a:t>
            </a:r>
            <a:r>
              <a:rPr b="0" lang="hu-HU" sz="1900" spc="-1" strike="noStrike">
                <a:solidFill>
                  <a:srgbClr val="000000"/>
                </a:solidFill>
                <a:latin typeface="Arial"/>
              </a:rPr>
              <a:t> az adatok, információk kezelését és előállítását célzó, illetve az azokat vezérlő műveletek rendszerét értjük. A kezelés, előállítás és vezérlés összefüggő műveletek. Az adatkezelés során nem születnek új ismeretek, a rendelkezésre álló adatok rendezéséről, másolásáról, mentéséről, adatbevitelről, törlésről, adatmódosításról van szó. Az adat-előállítási műveletek során új ismeretek születnek. Vezérlési művelet tartalmazza, hogy hogyan kell az egyes kezelési és előállítási műveleteket elvégezni. A vezérlési művelet tehát „megszervezi” a műveletek végrehajtásá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Erőforráso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Felhasználók</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FE7CDC3-1FA0-4AA2-A9E5-81B255158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 fogalma</a:t>
            </a: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ásik szemléletben az </a:t>
            </a:r>
            <a:r>
              <a:rPr b="1" lang="hu-HU" sz="2100" spc="-1" strike="noStrike">
                <a:solidFill>
                  <a:srgbClr val="000000"/>
                </a:solidFill>
                <a:latin typeface="Arial"/>
              </a:rPr>
              <a:t>információs</a:t>
            </a:r>
            <a:r>
              <a:rPr b="0" lang="hu-HU" sz="2100" spc="-1" strike="noStrike">
                <a:solidFill>
                  <a:srgbClr val="000000"/>
                </a:solidFill>
                <a:latin typeface="Arial"/>
              </a:rPr>
              <a:t> </a:t>
            </a:r>
            <a:r>
              <a:rPr b="1" lang="hu-HU" sz="2100" spc="-1" strike="noStrike">
                <a:solidFill>
                  <a:srgbClr val="000000"/>
                </a:solidFill>
                <a:latin typeface="Arial"/>
              </a:rPr>
              <a:t>rendszer</a:t>
            </a:r>
            <a:r>
              <a:rPr b="0" lang="hu-HU" sz="2100" spc="-1" strike="noStrike">
                <a:solidFill>
                  <a:srgbClr val="000000"/>
                </a:solidFill>
                <a:latin typeface="Arial"/>
              </a:rPr>
              <a:t> meghatározása a </a:t>
            </a:r>
            <a:r>
              <a:rPr b="1" lang="hu-HU" sz="2100" spc="-1" strike="noStrike">
                <a:solidFill>
                  <a:srgbClr val="000000"/>
                </a:solidFill>
                <a:latin typeface="Arial"/>
              </a:rPr>
              <a:t>célján</a:t>
            </a:r>
            <a:r>
              <a:rPr b="0" lang="hu-HU" sz="2100" spc="-1" strike="noStrike">
                <a:solidFill>
                  <a:srgbClr val="000000"/>
                </a:solidFill>
                <a:latin typeface="Arial"/>
              </a:rPr>
              <a:t> és </a:t>
            </a:r>
            <a:r>
              <a:rPr b="1" lang="hu-HU" sz="2100" spc="-1" strike="noStrike">
                <a:solidFill>
                  <a:srgbClr val="000000"/>
                </a:solidFill>
                <a:latin typeface="Arial"/>
              </a:rPr>
              <a:t>feladatain</a:t>
            </a:r>
            <a:r>
              <a:rPr b="0" lang="hu-HU" sz="2100" spc="-1" strike="noStrike">
                <a:solidFill>
                  <a:srgbClr val="000000"/>
                </a:solidFill>
                <a:latin typeface="Arial"/>
              </a:rPr>
              <a:t> keresztül kerül meghatározásra, kiindulva az információ természetéből, mi szerint az információ valós világbeli dolgokról, történésekről, eseményekről hordoz ismereteket. Ha erről az információról mint komplex rendszerről, mint összefüggő ismerethalmazról beszélünk, akkor az információs rendszerről beszélün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t>
            </a:r>
            <a:r>
              <a:rPr b="1" lang="hu-HU" sz="2100" spc="-1" strike="noStrike">
                <a:solidFill>
                  <a:srgbClr val="000000"/>
                </a:solidFill>
                <a:latin typeface="Arial"/>
              </a:rPr>
              <a:t>információs rendszer célja és feladata</a:t>
            </a:r>
            <a:r>
              <a:rPr b="0" lang="hu-HU" sz="2100" spc="-1" strike="noStrike">
                <a:solidFill>
                  <a:srgbClr val="000000"/>
                </a:solidFill>
                <a:latin typeface="Arial"/>
              </a:rPr>
              <a:t>, ebben a megközelítésben a valós világ objektumainak, azok állapotának, viselkedésének és folyamatainak a jellemzése, (információk) adatok megbízható, pontos tárolása, ellenőrzése, rendszerezése, átalakítása, továbbítása, a szervezet célja szerinti feldolgozása, új (információk) adatok generálása és igény szerinti megjelenítése (Raffai, 2005).</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6CF8102-DE74-4AF6-9186-B4F18E6E2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 fogalma</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Burt és Kinnucan az információs rendszerre következő megfogalmazást adta:</a:t>
            </a:r>
            <a:endParaRPr b="0" lang="en-US" sz="15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a:t>
            </a:r>
            <a:r>
              <a:rPr b="1" lang="hu-HU" sz="1400" spc="-1" strike="noStrike">
                <a:solidFill>
                  <a:srgbClr val="000000"/>
                </a:solidFill>
                <a:latin typeface="Arial"/>
              </a:rPr>
              <a:t>információs rendszer</a:t>
            </a:r>
            <a:r>
              <a:rPr b="0" lang="hu-HU" sz="1400" spc="-1" strike="noStrike">
                <a:solidFill>
                  <a:srgbClr val="000000"/>
                </a:solidFill>
                <a:latin typeface="Arial"/>
              </a:rPr>
              <a:t> úgy tekinthető, mint információ forrás(ok) bármilyen kombinációban azok bármilyen elérésével és vagy bármilyen visszanyerésével azok manipulálására vagy használatára. Bármilyen információs rendszer célja összekapcsolni a felhasználót egy olyan megfelelő információs forrással, melyre a felhasználónak aktuálisan szüksége van, azzal az elvárással, hogy a felhasználó képes lesz elérni az információt, mely meg fog felelni az igényeinek.</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B.Langefors szerint </a:t>
            </a:r>
            <a:endParaRPr b="0" lang="en-US" sz="15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információs rendszer a nagyobb alrendszereket tartalmazó rendszerekben a döntési tevékenységhez szükséges információk rendszerét jelenti, amely gyűjti, tárolja, feldolgozza és osztályozza az információkat.</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C.G.P.Brooks szerint </a:t>
            </a:r>
            <a:endParaRPr b="0" lang="en-US" sz="15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információs rendszer a szervezetek reprezentációja, amely tájékoztatja a különböző szinteken lévő döntéshozókat a szervezet állapotáról, a változásokról és a szervezet működésére ható tényezőkről.</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Raffai M. szerint </a:t>
            </a:r>
            <a:endParaRPr b="0" lang="en-US" sz="1500" spc="-1" strike="noStrike">
              <a:solidFill>
                <a:srgbClr val="000000"/>
              </a:solidFill>
              <a:latin typeface="Arial"/>
            </a:endParaRPr>
          </a:p>
          <a:p>
            <a:pPr lvl="1" marL="692280" indent="-347760">
              <a:lnSpc>
                <a:spcPct val="80000"/>
              </a:lnSpc>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információs rendszer a különböző feldolgozásokhoz alapvető erőforrásként adatokat, információkat használ fel annak érdekében, hogy a szervezeti feladatok elvégzéséhez hasznos információkat szolgáltasson! Fő célja tehát az információ előállítás, vagyis olyan, célorientált üzenetek létrehozása, amelyek a felhasználó számára újdonságot jelentnek, bizonytalanságot szüntetnek meg és feladataik, döntéseik teljesítésében segítséget nyújtanak.</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319009B-5C0A-4E22-8CF1-A45F21381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 fogalm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gyan az információs rendszerek definíciói megfogalmazásukban eltérnek, de felfedezhető, hogy minden definíció feltételez egy sor feladatot, funkciót, így</a:t>
            </a:r>
            <a:endParaRPr b="0" lang="en-US" sz="20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datok gyűjtését, rögzítését, tárolásá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datok ellenőrzésé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tárolt adatok biztonságát, védelmé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datok csoportosítását, rendszerezésé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datok naprakészen tartásá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eghatározott feltételek szerinti számításokat, összegzéseket, elemzéseke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eredmények megjelenítésé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datok belső mozgatásá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datok továbbítását</a:t>
            </a:r>
            <a:endParaRPr b="0" lang="en-US" sz="1900" spc="-1" strike="noStrike">
              <a:solidFill>
                <a:srgbClr val="000000"/>
              </a:solidFill>
              <a:latin typeface="Arial"/>
            </a:endParaRPr>
          </a:p>
          <a:p>
            <a:pPr lvl="1" marL="692280" indent="-347760">
              <a:lnSpc>
                <a:spcPct val="9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jelentések készítését és kezelését.</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3B21EE8-0437-4A8A-8B56-A06BC71C9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s rendszerek legfontosabb sajátosságai</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 absztrakt jelleggel rendelkezik, azaz a valós világ egy absztrakciója.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 diszkrét jelleggel rendelkezik, azaz az állapotterét egyértelműen azonosítható állapotok képezik.</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 konzisztens (ellentmondás mentes), azaz a bemeneti adatok csak meghatározott szabályok szerint átalakítva szolgálják az elvárt eredményeke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 felbonthatatlan, abból a szempontból, hogy a tranzakciós műveleteket vagy teljes egészében vagy egyáltalán nem tudjuk felbontani.</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 tartós jelleggel is kell rendelkezzen, mivel az elvégzett műveletek eredményeit meg kell őrizni.</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 kommunikatív, mert az együttműködést a részrendszerek közt biztosítani kell.</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 nyitott kell hogy legyen mert a kapcsolatot a rendszerhatáron kívüli elemekkel is biztosítani kell.</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nformációs rendszernek adaptív tulajdonsággal is rendelkeznie kell, hisz a környezetváltozás hatásaira viszonylag gyorsan, könnyen és költség-hatékonyan kell reagálnia.</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77A64B6-4966-45D3-83BA-BFA3897070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ózsa Tünde</cp:lastModifiedBy>
  <dcterms:modified xsi:type="dcterms:W3CDTF">2007-09-20T13:02:44Z</dcterms:modified>
  <cp:revision>108</cp:revision>
  <dc:subject/>
  <dc:title>PowerPoint bemutató</dc:title>
</cp:coreProperties>
</file>