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C852-AE81-4BAE-86F5-740F4F915B1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EC6-0CDF-4F32-B2D9-3B7DBDE9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F55-7FA4-42BA-BD3A-C4FFFE9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E04-ADF0-4097-9E26-95A6062C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72D-9508-4069-BF0A-A0156D19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0A6-035A-4660-9BEB-33DA3BCA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9CB-74A1-4761-9C0B-70D5E1A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0939-079A-4BA8-9BCB-BEBC382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C577-BE61-45BB-95B5-ECBAF35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FAA4-79C5-4D79-AE67-BB465D7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831-BC98-4A86-9C23-6B60066D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428-0BA4-4941-894C-EA4A426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45A-CFAB-4D63-8789-EF0B02E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EB2-0B56-4A9F-A2FD-EA7A89B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71D-8AF9-493F-830D-9D88C2C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8EF4-8898-46FE-8611-EE92DD9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35F0-E13B-47F4-B9B3-30D07A75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14D-B993-4BCE-B654-E4536394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AB4-F0C3-4101-B49E-575A3605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ABA-1DCB-4C95-8E3B-6C94F9A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8D3-55EC-46D7-B4E7-303F0B58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4D4-9391-4DF8-BD6C-EFC27513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E03-37CA-4CF8-95E0-8039DDC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CB8-704F-4F6B-8589-E0101550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9D2-99A8-45E0-A843-06FA32FC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33F-0E14-4EA2-BB81-D2DD27A4B07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897-BF04-43DC-9B83-5219B9F49F3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47EF-D2BD-42CB-B543-56572865D0B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DDF-E868-40F2-BD34-755EC84C91F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ek modell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egvalósítandó információs rendszer különböző megközelítéseinek leírására a következő modellek használható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rvezeti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dell, amely a munkamegosztást és a munka módszerét, módját írja le a valóságban; az esetleg létező Szervezeti és működési szabályzat, a munkaköri leírások hasznos kiindulópontul szolgálhat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információmodell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mutatja be a rendszer információit, azok tartalmát és származtatását a valósághoz kapcsolódó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datmodel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zokat a valóságban létező fogalmakat, objektumokat, entitásokat fogja össze, amelyekről bizonyos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információkat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 köztük fennálló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apcsolatok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oljá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olyamatmodell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elyben a való világ szerkezete, tevékenységeinek irányítási struktúrája fogalmazódi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50F-3F22-4FF2-A8D2-07C0E2C2D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modellek ábrázolási típus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odellek leírása valamilyen ábrázolás technika segítségével történi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ábrázolások típusa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Fogalmi vagy logikai ábrázol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műszaki vagy fizikai ábrázol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megvalósítás ábrázolás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4B5-19D5-4E57-81BD-287FE6C60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Fogalmi vagy logikai ábráz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z az ábrázolási mód a fentebbi négy modellt absztrakt, de a felhasználók számára érthető, döntően nem műszaki szakkifejezések segítségével írja 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szervezet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modell ebben az ábrázolásban a szervezet tevékenységeit tartalmazza, valamint ezeknek az információkhoz, illetve anyagokhoz való viszonyá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információ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okat az információkat gyűjti össze, amelyek a szervezeten belüli káosz csökkentéséhez (az entrópia növekedésének fékezéséhez) vezetnek, valamint az információk forrását és származtatási/levezetési módjait tartalmazz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dat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a szervezet tevékenységei közötti kommunikáció megvalósításához tárolandó adatok meghatározását és az adatok között fennálló kapcsolatokat adja me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olyamat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szervezeti tevékenységekben végrehajtott folyamatokat mutatja be, amelyek a szervezet működtetéséhez, irányításához szükségesek és a szervezeti valamint jogi szabályozást jelenítik me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F04-D355-428D-B96E-5D2E0D37C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A műszaki vagy fizikai ábrázolás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bben az ábrázolásában a rendszernek azt a részét jelenítjük meg, amelyet számítógép fog végrehajtani vagy segíteni. A leírásnál műszaki/technikai vagy fizikai kifejezéseket használnak. Azt mutatja meg, hogy a felhasználó számára hogyan fog kinézni a rendszer műszaki vagy fizikai szempontbó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szervezet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modell a számítógépesített tevékenységek számítógépes tranzakcióit, programjait fogja ábrázolni, beleértve a szervezet telephelyeit összekötő számítógép-hálózatot és az ezekhez kötődő, a felhasználók által elvégzendő, de nem számítógépesített tevékenységek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információ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z információk megjelenítését, megjelenítési formáját mutatja b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dat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tárolandó adatok leírását az adatbázis-kezelők műszaki nyelvén fogalmazza me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olyamatmodel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programterveket önti formába, a bemenetek, kimenetek és a moduláris szerkezetük értelmében, továbbá az egymással kommunikáló számítógép-folyamatokat az adott adatkommunikációt kezelő rendszernek megfelelően mutatja b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9D5-920A-4589-B73F-769D349AB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A megvalósítás ábrázol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A négy modellnek ez az ábrázolása azt írja le, hogy a leendő rendszer hogyan valósul meg számítógépeken, terminálokon, hálózatokon, adatállományokon és adatbázis-kezelő rendszereken st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szervezeti modell a tevékenységeket a szervezeti környezetbe ágyazva érzékelteti: a szervezeti egységeket a jelentési kötelezettségek, az alá-fölé rendeltség hierarchiájában, a szervezeti egységek és az alkalmazottak funkcióiból származó feladatok (task) értelmében, továbbá az összes feladatra vonatkozóan a felhasználók által követendő eljárásokat jeleníti meg. A kommunikációs hálózat szintén ehhez az ábrázolási módhoz tartozi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információmodell az információkat a programozási nyelvek formalizmusának megfelelően adja meg, azaz deklarációk formájáb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datmodell azt mutatja be, hogy a háttértárakon (lemez, szalag, egyéb) milyen módon tárolják az adatok szerkezetét és a köztük fennálló kapcsolatoka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lyamatmodell az adatfeldolgozást és az adatkommunikációt valamilyen programozási nyelv [A programozási nyelvek bármelyik generációjáról szó lehet (3GL, 4GL).] segítségével jeleníti me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510-5A8D-46BD-8B48-C3EC8184D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fejlesz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fejlesztési munkát leírhatjuk különböző életciklus modellek segítségével. Az alábbi modelleket vizsgálju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lasszikus vagy egyszerű vízesésmod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sszacsatolásos vízesésmod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 mod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EE5-AE5F-4BCD-A25C-E19A0D1B55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lasszikus vízesés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379520"/>
            <a:ext cx="5365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6F3-8876-437C-B192-623F02787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klasszikus vízesés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almazá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hagyomány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bármely szakaszból bármely másikba vissza lehet lépni; - szoftvermérnöki - visszalépés csak a ciklus legelejére lehetség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ototípu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- a követelményspecifikáció és a részletes tervezés között ciklikus visszalépé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számítógéppel támogatott szoftverfejlesztés) a fejlesztés minden lépésébe bekerü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6AF-9598-4B02-A017-E056AA5D46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Visszacsatolásos vízesésmodell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visszacsatolásos vízesésmodell esetén az egyes lépésekből nem csak előre lehet haladni, hanem visszafele 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6FB-30DE-48D7-856C-8F2418A6AE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8360" y="1700280"/>
            <a:ext cx="8280000" cy="4608360"/>
            <a:chOff x="468360" y="1700280"/>
            <a:chExt cx="8280000" cy="4608360"/>
          </a:xfrm>
        </p:grpSpPr>
        <p:grpSp>
          <p:nvGrpSpPr>
            <p:cNvPr id="168" name=""/>
            <p:cNvGrpSpPr/>
            <p:nvPr/>
          </p:nvGrpSpPr>
          <p:grpSpPr>
            <a:xfrm>
              <a:off x="468360" y="1700280"/>
              <a:ext cx="8280000" cy="4608360"/>
              <a:chOff x="468360" y="1700280"/>
              <a:chExt cx="8280000" cy="4608360"/>
            </a:xfrm>
          </p:grpSpPr>
          <p:sp>
            <p:nvSpPr>
              <p:cNvPr id="169" name=""/>
              <p:cNvSpPr/>
              <p:nvPr/>
            </p:nvSpPr>
            <p:spPr>
              <a:xfrm>
                <a:off x="1256760" y="2132280"/>
                <a:ext cx="2759400" cy="37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935600" y="2132280"/>
                <a:ext cx="2759400" cy="37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8360" y="1700280"/>
                <a:ext cx="18396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Követelmény meghatározá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06960" y="1700280"/>
                <a:ext cx="18414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Átvételi/elfogadási tesztel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1160" y="2420280"/>
                <a:ext cx="144540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2560" y="2564280"/>
                <a:ext cx="1051200" cy="2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Specifikáció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12760" y="2420280"/>
                <a:ext cx="201492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4160" y="2564280"/>
                <a:ext cx="1708200" cy="2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Tesztelt rendsz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93960" y="3284280"/>
                <a:ext cx="2233800" cy="2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Szoftver/rendszer strukturált ter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18560" y="3140280"/>
                <a:ext cx="223452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Rendszerintegráció és rendszertesz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82360" y="3716280"/>
                <a:ext cx="131400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13760" y="3860280"/>
                <a:ext cx="1051200" cy="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Rendszerter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24360" y="3572280"/>
                <a:ext cx="131400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55760" y="3716280"/>
                <a:ext cx="1182600" cy="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Tesztelt szoft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19560" y="4292280"/>
                <a:ext cx="19710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Részletes tervez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98760" y="4292280"/>
                <a:ext cx="18396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Modulvalidálás, integráció, tesz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07960" y="4868280"/>
                <a:ext cx="1708200" cy="720000"/>
                <a:chOff x="2307960" y="4868280"/>
                <a:chExt cx="1708200" cy="720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570760" y="4868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439360" y="5012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307960" y="5156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935960" y="4868280"/>
                <a:ext cx="1708200" cy="720000"/>
                <a:chOff x="4935960" y="4868280"/>
                <a:chExt cx="1708200" cy="720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198760" y="4868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067360" y="5012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35960" y="5156280"/>
                  <a:ext cx="1445400" cy="432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439360" y="5300640"/>
                <a:ext cx="1051200" cy="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Modulterv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0560" y="5876640"/>
                <a:ext cx="19710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000000"/>
                    </a:solidFill>
                    <a:latin typeface="Times New Roman"/>
                  </a:rPr>
                  <a:t>Megvalósítás, kódolás, tesztel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10480" y="2666160"/>
                <a:ext cx="40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27760" y="3860280"/>
                <a:ext cx="236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16160" y="5300640"/>
                <a:ext cx="91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5300640"/>
              <a:ext cx="11826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Tesztelt kó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4A6-B576-4CBC-9A5E-EE038ABC4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s rendszerek fejlesz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773-A5A5-43ED-B198-9F332CBB01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 modell szemlélteti a két korábban említett rendszermegközelítési elvet (top-down és bottom-up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 modell a rendszer egészét tekintve fokozatosan finomítva halad a alrendszerek pontos megismerése fele, míg az absztrakció után az újonnan fejlesztett rendszert fokozatosan, modulonként építi integrált egységg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 modellnek van néhány előnye a vízesési modellekkel szemb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ik szakaszban létrehozott termékek közvetlenül átkerülnek a rákövetkező szakaszb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térő szintű hibaellenőrzési eljárásokkal kell ellenőrizni, tesztelni a termékeket a különböző szakaszok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2A4-2529-4D89-986B-A458D7EB5C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fejlesztés dokumentá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okumentációcsomago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valósíthatósági vizsgálat PF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endszerkövetelmények analízise SR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őzetes, nagyvonalú tervek áttekintése PR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észletes tervek áttekintése C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készített forráskódok felülvizsgálata SC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fogadhatósági teszt vizsgálata AT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Átadás előtti áttekintés PR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projekttevékenység kiértékelése RP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llenőrzés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erifikáció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hogy az átadott termék valóban a számára előírt algoritmus szerint működik-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alidáció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hogy a specifikáció mennyire illeszkedik a követelményekhez, a fejlesztés indításakor megfogalmazott elvárásokho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EED-B9ED-4E70-9876-AD894CE1E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3467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oehm, spirális életcikl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5310000" cy="528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284-D363-4A91-B1AE-D703E6D7A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zt a modellt különösen alkalmas használn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gyors fejlesztéseknél (Rapid Application Development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prototípus alapú, evolúciós megközelítésekné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zakértő és ismeretbázisú rendszerekné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pecifikációorientált, automatikus transzformációt alkalmazó, szimulációt használó megközelítésekné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inkrementális fejlesztésekné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898-B76C-41FE-8389-17D5D79E0A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mberi tényező a fejlesztésb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gazgatóság/vezetőség részéről kinevezett felelő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jlesztési koordináto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szervező (üzleti elemző, business analyst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tervező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használói képviselő/átvevő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használ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vitelezési terv átvevőj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vitelező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rőforrás-menedz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33E-BBDE-4A09-8687-4EA197F3C7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mberi tényező a fejlesztésb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Igazgatóság/vezetőség részéről kinevezett felelős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igazgatóságnak, igazgató tanácsnak felelős személy, akinek a feladata az egész információs rendszer sikeres kialakítása (felelős az egész ”IR adaptáció”-ért, lásd Euromethod 6.4.2 fejezet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Fejlesztési koordinátor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agy információs rendszerfejlesztési projekteknél, ahol a projekt szerepköreit különböző személyek és csoportok töltik be, szükség van koordinátorra, aki napról napra megvalósítja a projekt különálló részei között az összeköttetést, és az igazgatósági felelősnek megküldi a jelentéseit. Egyes szervezeteknél a fejlesztési koordinátor egynél több projektet is felügyelhe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Rendszerszervező (üzleti elemző, business analyst)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zervezetet, a szervezet működését, tevékenységét elemzi annak érdekében, hogy olyan kiindulópontot hozzon létre, amely az informatikai rendszer kialakításának alapjául szolgálhat. Fő tevékenysége az üzleti és/vagy működési szabályok feltárása szervezeti, szervezési, gazdasági, szociális, szociológiai szempontbó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750-FFDB-48EF-B039-D7C2570E78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mberi tényező a fejlesztésb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Rendszerelemző (system analyst)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Fő tevékenysége az üzleti és/vagy működési szabályok feltárása és dokumentálása az informatika keretén belül elfogadott eljárásokkal, technikákkal, lehetőleg széles körben olvasható jelölésrendszert használva. Gyakran a rendszerszervezési és rendszerelemzési feladatokat ugyanaz a személy látja 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Rendszertervező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z a személy felelős a tervezési termékek előállításáért, azaz a leendő rendszer különböző szintű specifikációjaiért, amelyek alapján a rendszer kivitelezése megtörténhet. Ez kifejezetten informatikai szakképzettséget igényel, specializálódva az információs rendszerek készítésére, és a kapcsolódó technológiákra; mérnöki szabatosságú, tudományosan megalapozott eljárások, technikák alkalmazására kell képesnek lennie. Vannak olyan szakemberek, akik egyszerre képesek a rendszerszervező, -elemző és -tervező szerepkörét betölten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Felhasználói képviselő/átvevő</a:t>
            </a:r>
            <a:br>
              <a:rPr sz="1700"/>
            </a:b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hogy a neve is mutatja, elsősorban a felhasználói érdekeket képviseli, és esetleg az igazgatóság érdekeit is. Fő feladata a rendszer átadásához/átvételéhez szükséges felhasználói szintű dokumentáció ellenőrzése és elfogadása a rendszer kivitelezésének megkezdése előt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D9B-873E-4B6F-9B60-2BDD4B9636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mberi tényező a fejlesztésb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Felhasználó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felhasználó az a személy, aki a leendő információs rendszert használni fogja, amint az rendelkezésre áll. Általában sok felhasználó van, esetleg több ezer. Ilyen esetekben meg kell különböztetnünk a felhasználók típusait, szerepköreit. A szervezetet jól ismerő, az adott területen nagy jártasságot szerzett felhasználókat kell a tervezési folyamatba bevonni, a konzultációk, interjúk, minőségi szemlék sorá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Kivitelezési terv átvevője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nnek a szerepkörnek az a feladata, hogy a rendszer kivitelezőjének specifikációját felülvizsgálja a kivitelező szempontjából, és leellenőrizze, hogy minden előírásnak, szabálynak, szabványnak, ami a rendszerre vonatkozik, megfelel-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Kivitelező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a valaki, szervezet, aki a rendszer kivitelezését a tervspecifikációkkal összhangban végrehajtja. Hagyományosan a kivitelező az alkalmazási program fejlesztője, programozó lehet, de a magas szintű nyelvek terjedése (4GL stb.) a programozási tudás iránti igényt csökkentet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Erőforrás-menedzser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erőforrás menedzser felelős a szükséges erőforrások biztosításáért és ezen keresztül a fejlesztés zökkenőmentes előrehaladásáért. Ezt a szerepet össze lehet kapcsolni az igazgatósági képviselőével vagy a fejlesztési koordinátorév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BD-2AE5-4A68-BAE9-8ACA570D13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ntosabb 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ndszerfejlesztés fogal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odell fogal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brázolási típuso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ogalmi vagy logikai ábrázol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műszaki vagy fizikai ábráz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megvalósítás ábrázol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ndszerfejlesztés leírására szolgáló modell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lasszikus vagy egyszerű vízesé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csatolásos vízesé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 mod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irális 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mberi szerepek és funkciók a rendszerfejlesztés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89B-C197-4593-B460-BFCB64D77D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5E6-D210-4E70-B083-F49B521304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rendszerek fejleszt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rendszerek modelljei és ábrázolás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fejlesztés szakasz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mberi tényezők a fejlesztés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4AC-B56D-4203-8971-4E39912E8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fejlesz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rendszerfejlesztés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meghatározott elvek, módszerek, eljárások és eszközök tudatos, a rendszer céljának megfelelő alkalmazása, amelynek során a felhasználói igényeket, minőségi követelményeket kielégítő, az alaptevékenység hatékonyságát növelő, számítógéppel támogatott megoldást hozunk lét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75F-3598-4B98-8761-7EC7EBF503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fejlesz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1413000"/>
            <a:ext cx="8425080" cy="4537080"/>
            <a:chOff x="179280" y="1413000"/>
            <a:chExt cx="8425080" cy="4537080"/>
          </a:xfrm>
        </p:grpSpPr>
        <p:sp>
          <p:nvSpPr>
            <p:cNvPr id="107" name=""/>
            <p:cNvSpPr/>
            <p:nvPr/>
          </p:nvSpPr>
          <p:spPr>
            <a:xfrm>
              <a:off x="3749040" y="5011560"/>
              <a:ext cx="171360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Visszacsatol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9320" y="2038680"/>
              <a:ext cx="3855600" cy="2972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1840" y="2664360"/>
              <a:ext cx="1570680" cy="78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ényszer a változás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33680" y="2508120"/>
              <a:ext cx="142776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nformációs rends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4880" y="2664360"/>
              <a:ext cx="1142280" cy="62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lemz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78080" y="3759840"/>
              <a:ext cx="1284840" cy="62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rvez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34240" y="3759840"/>
              <a:ext cx="1427760" cy="62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100" spc="-1" strike="noStrike">
                  <a:solidFill>
                    <a:srgbClr val="000000"/>
                  </a:solidFill>
                  <a:latin typeface="Times New Roman"/>
                </a:rPr>
                <a:t>Megvalósítá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4880" y="2820960"/>
              <a:ext cx="0" cy="93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7160" y="2820960"/>
              <a:ext cx="0" cy="93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462920" y="4072680"/>
              <a:ext cx="570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480" y="1413000"/>
              <a:ext cx="1999080" cy="46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FELDOLGOZ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80" y="1882440"/>
              <a:ext cx="1999080" cy="46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05280" y="1882440"/>
              <a:ext cx="1999080" cy="46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1960" y="5324400"/>
              <a:ext cx="157068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 rendszer működteté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47560" y="3133800"/>
              <a:ext cx="0" cy="23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62640" y="5480640"/>
              <a:ext cx="22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178640" y="5480640"/>
              <a:ext cx="27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20360" y="2195280"/>
              <a:ext cx="71352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Times New Roman"/>
                </a:rPr>
                <a:t>MI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178640" y="3446280"/>
              <a:ext cx="0" cy="20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92240" y="3290400"/>
              <a:ext cx="9993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Times New Roman"/>
                </a:rPr>
                <a:t>HOGYAN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0080" y="3290400"/>
              <a:ext cx="114228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800" spc="-1" strike="noStrike">
                  <a:solidFill>
                    <a:srgbClr val="000000"/>
                  </a:solidFill>
                  <a:latin typeface="Times New Roman"/>
                </a:rPr>
                <a:t>KIVEL</a:t>
              </a:r>
              <a:r>
                <a:rPr b="1" lang="hu-HU" sz="1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CE1-495B-41FA-8031-2F72C920CA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rendszer fejlesz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nformációs rendszerfejlesztés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 meghatározott elvek, módszerek, eljárások, eszközök olyan tudatos, a rendszer céljainak megfelelő alkalmazása, amely a szervezeti és az IT-stratégiával összhangban, az alaptevékenységre és a felhasználó igényeire alapoz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alós probléma felmerülésétől kezdődő folyamatt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feladat megismerési és elemzési munkájának az elvégzése u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hatékony, számítógéppel támogatott rendszert tervez és valósít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oly módon, hogy a minőségi követelményeket is kielégítő, működőképes, információfeldolgozó rendszert hoz létre és felügyeli annak működésé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62B-AE9E-467D-AE6E-90229DE8D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oftverfejlesztési háromszö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32000" y="1844640"/>
            <a:ext cx="6237000" cy="4105440"/>
            <a:chOff x="1332000" y="1844640"/>
            <a:chExt cx="6237000" cy="4105440"/>
          </a:xfrm>
        </p:grpSpPr>
        <p:sp>
          <p:nvSpPr>
            <p:cNvPr id="132" name=""/>
            <p:cNvSpPr/>
            <p:nvPr/>
          </p:nvSpPr>
          <p:spPr>
            <a:xfrm>
              <a:off x="2163600" y="1844640"/>
              <a:ext cx="2286720" cy="608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Elv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0200">
              <a:off x="1955520" y="3364920"/>
              <a:ext cx="2287080" cy="608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Módszer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5520" y="4733640"/>
              <a:ext cx="2287080" cy="608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Eljárás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4200" y="4581360"/>
              <a:ext cx="2286720" cy="6080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Eszközö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2452680"/>
              <a:ext cx="0" cy="9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18720" y="39733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2600" y="5037480"/>
              <a:ext cx="103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50320" y="2148480"/>
              <a:ext cx="2287080" cy="243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32000" y="2756880"/>
              <a:ext cx="1870920" cy="45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Megvalósí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2000" y="4277520"/>
              <a:ext cx="1870920" cy="45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Realizál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98080" y="2756880"/>
              <a:ext cx="187092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Közvetlen megvalósí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26800" y="5493960"/>
              <a:ext cx="1870920" cy="45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Automatizál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508-8BF4-489E-8D46-9B371738C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jlesztési folya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gy fejlesztési folyamatban az elveket módszereken keresztül valósítjuk meg, a módszereket eljárások realizálják, az eljárások végrehajtását pedig különböző technikák, eszközök segítik, illetve támogató szoftverek automatizáljá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hatékonyabb tervezési módszertanok kidolgozásánál a kutatók abból indultak ki, hogy a számítógépnek, mint eszköznek különböző feladatok megoldására történő alkalmazása a valós világ valamilyen elvont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modelljének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létrehozását teszi szükségessé. Ahhoz, hogy megértsük a támogatandó rendszer természetét és viselkedését, ki kell alakítani annak modelljé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modell kialakítása lehetővé teszi a tervező számár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egvalósítandó rendszer szemléletességé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egvalósítandó rendszer struktúrájának és viselkedésének alapos feltárásá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inták szolgáltatását az új rendszer számá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döntések dokumentálhatóságát a fejlesztés sorá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9A2-A9A2-4225-A6CE-3450B808D7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odell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a valóság leegyszerűsített változata. Egy olyan absztrakció, amely tartalmazza a tervezési cél szempontjából legfontosabb,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lényeges, tartós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valamint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általános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elemeket és sajátosságokat és figyelmen kívül hagyja a cél szempontjából kevésbé meghatározó összetevő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odell alkalmas egy rendszer egyszerűsített leírására és a rendszerben zajló főbb folyamatok szemléltetésé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F54-6569-4A7B-B906-0E855F5A7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10-24T12:55:56Z</dcterms:modified>
  <cp:revision>107</cp:revision>
  <dc:subject/>
  <dc:title>PowerPoint bemutató</dc:title>
</cp:coreProperties>
</file>