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532F-2B5A-430B-9822-CB564735AC7B}"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D6D4A-908A-443B-9374-BE6B407FA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23346-AEEB-4842-8DBE-F9D2BFF5D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C2766-C008-4380-8054-CE96A7F23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F0D72-30CC-4E38-BEBE-DCA47D97C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AF805-52E7-4B8C-991E-37157F403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4FC72-6287-45F9-9528-F04799301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7"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F9B73-BA3D-4180-BF04-BB863A46B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9"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FBEFE-CC18-4412-AE66-F6FE28818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59532-28C1-453D-8EB3-F4046BF47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27B8C-F346-471D-8E1A-C81BE69CB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4"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7FF4A-D9B0-45AB-8D87-4DDCF8C4E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B5DDD-AB58-4EFC-9085-66FAC6E09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165F4-9A8D-41B0-BF1E-FF572A18A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2"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DA3A8-88B9-4CE4-89C3-E7DA55CFC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6"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C1A2C-28AD-42EA-BA66-D7B72185B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9"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0496C-D637-4031-A06C-1E7CED54A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84"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F398D-4817-4973-B154-E617B9B69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538F8-0901-4E03-8699-73B9C895E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8220B-9433-4405-8B2D-B376D028C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D44D0-BEAD-43EF-BB9C-E7ECBBF95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05579-78FB-4924-BA66-D365964A3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C742-B5CB-47CB-9D62-D9C1E614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01BC9-C8DA-4F76-9F37-A86B37B1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B0BD0-1396-4F99-A6E3-0B1D0ECEC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D693-DF14-4330-97A3-F6811A73294B}"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A2C7-1E84-47F3-AEA9-0C2864BC742E}"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BDCF-44FE-428C-87B8-AA55DACD867A}"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72FC-3106-4150-A1D0-9B662E8C32B9}"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Információs rendszere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Szenteleki Károly</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BCE</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ózsa Tünde</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Stratégiai választás / döntés</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lternatívák kidolgozása:</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jelenlegi rendszer továbbfejlesztése vagy új </a:t>
            </a:r>
            <a:r>
              <a:rPr b="1" lang="hu-HU" sz="1900" spc="-1" strike="noStrike">
                <a:solidFill>
                  <a:srgbClr val="000000"/>
                </a:solidFill>
                <a:latin typeface="Arial"/>
              </a:rPr>
              <a:t>rendszer megvalósítása, </a:t>
            </a:r>
            <a:r>
              <a:rPr b="0" lang="hu-HU" sz="1900" spc="-1" strike="noStrike">
                <a:solidFill>
                  <a:srgbClr val="000000"/>
                </a:solidFill>
                <a:latin typeface="Arial"/>
              </a:rPr>
              <a:t>utóbbi esetben standard rendszer adaptálása vagy célfejlesztés, vagy a kettő megfelelő kombinációja, milyen lépések szükségesek az adott alternatíva választása esetén a célul kitűzött új informatikai állapot eléréséhez?</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lternatívák értékelése: az egyes alternatívák előnyei / hátrányai, választási javaslat</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Stratégiai választás az alternatívák közül: az alternatívák előnyeinek és hátrányainak mérlegelése, és a döntési javaslat után a legjobbnak ítélt alternatíva kiválasztása.</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lternatívák kritériumai:</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megvalósíthatóság: az alternatíva reális-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lkalmasság: az alternatíva beilleszthető-e a szervezetb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lfogadhatóság: el lehet-e fogadtatni az adott alternatívát a döntéshozókkal</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C55807D-7A8E-4C2F-9293-8572101A81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tratégiai terv készítés lépései</a:t>
            </a:r>
            <a:endParaRPr b="1" lang="en-US" sz="3900" spc="-1" strike="noStrike">
              <a:solidFill>
                <a:srgbClr val="330066"/>
              </a:solidFill>
              <a:latin typeface="Arial"/>
            </a:endParaRPr>
          </a:p>
        </p:txBody>
      </p:sp>
      <p:grpSp>
        <p:nvGrpSpPr>
          <p:cNvPr id="155" name=""/>
          <p:cNvGrpSpPr/>
          <p:nvPr/>
        </p:nvGrpSpPr>
        <p:grpSpPr>
          <a:xfrm>
            <a:off x="1927080" y="1341360"/>
            <a:ext cx="5740560" cy="4751640"/>
            <a:chOff x="1927080" y="1341360"/>
            <a:chExt cx="5740560" cy="4751640"/>
          </a:xfrm>
        </p:grpSpPr>
        <p:sp>
          <p:nvSpPr>
            <p:cNvPr id="156" name=""/>
            <p:cNvSpPr/>
            <p:nvPr/>
          </p:nvSpPr>
          <p:spPr>
            <a:xfrm>
              <a:off x="2264760" y="1341360"/>
              <a:ext cx="1856880" cy="67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A koncepció előkészítése</a:t>
              </a:r>
              <a:endParaRPr b="0" lang="en-US" sz="1200" spc="-1" strike="noStrike">
                <a:solidFill>
                  <a:srgbClr val="000000"/>
                </a:solidFill>
                <a:latin typeface="Times New Roman"/>
              </a:endParaRPr>
            </a:p>
          </p:txBody>
        </p:sp>
        <p:sp>
          <p:nvSpPr>
            <p:cNvPr id="157" name=""/>
            <p:cNvSpPr/>
            <p:nvPr/>
          </p:nvSpPr>
          <p:spPr>
            <a:xfrm>
              <a:off x="3108600" y="2291400"/>
              <a:ext cx="2026080" cy="67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áltozatok generálása, alternatívák fejlesztése</a:t>
              </a:r>
              <a:endParaRPr b="0" lang="en-US" sz="1200" spc="-1" strike="noStrike">
                <a:solidFill>
                  <a:srgbClr val="000000"/>
                </a:solidFill>
                <a:latin typeface="Times New Roman"/>
              </a:endParaRPr>
            </a:p>
          </p:txBody>
        </p:sp>
        <p:sp>
          <p:nvSpPr>
            <p:cNvPr id="158" name=""/>
            <p:cNvSpPr/>
            <p:nvPr/>
          </p:nvSpPr>
          <p:spPr>
            <a:xfrm>
              <a:off x="4122000" y="3241800"/>
              <a:ext cx="2026080" cy="67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A generált változatok áttekintése, megvitatása</a:t>
              </a:r>
              <a:endParaRPr b="0" lang="en-US" sz="1200" spc="-1" strike="noStrike">
                <a:solidFill>
                  <a:srgbClr val="000000"/>
                </a:solidFill>
                <a:latin typeface="Times New Roman"/>
              </a:endParaRPr>
            </a:p>
          </p:txBody>
        </p:sp>
        <p:sp>
          <p:nvSpPr>
            <p:cNvPr id="159" name=""/>
            <p:cNvSpPr/>
            <p:nvPr/>
          </p:nvSpPr>
          <p:spPr>
            <a:xfrm>
              <a:off x="4797360" y="4192200"/>
              <a:ext cx="2026080" cy="67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A koncepció előterjesztése, döntés a koncepcióról</a:t>
              </a:r>
              <a:endParaRPr b="0" lang="en-US" sz="1200" spc="-1" strike="noStrike">
                <a:solidFill>
                  <a:srgbClr val="000000"/>
                </a:solidFill>
                <a:latin typeface="Times New Roman"/>
              </a:endParaRPr>
            </a:p>
          </p:txBody>
        </p:sp>
        <p:sp>
          <p:nvSpPr>
            <p:cNvPr id="160" name=""/>
            <p:cNvSpPr/>
            <p:nvPr/>
          </p:nvSpPr>
          <p:spPr>
            <a:xfrm>
              <a:off x="5641560" y="5142600"/>
              <a:ext cx="2026080" cy="678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Stratégiai ter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elkészítése, elfogadása</a:t>
              </a:r>
              <a:endParaRPr b="0" lang="en-US" sz="1200" spc="-1" strike="noStrike">
                <a:solidFill>
                  <a:srgbClr val="000000"/>
                </a:solidFill>
                <a:latin typeface="Times New Roman"/>
              </a:endParaRPr>
            </a:p>
          </p:txBody>
        </p:sp>
        <p:sp>
          <p:nvSpPr>
            <p:cNvPr id="161" name=""/>
            <p:cNvSpPr/>
            <p:nvPr/>
          </p:nvSpPr>
          <p:spPr>
            <a:xfrm>
              <a:off x="2433240" y="2019960"/>
              <a:ext cx="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3240" y="2562840"/>
              <a:ext cx="67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615480" y="2970360"/>
              <a:ext cx="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615480" y="351360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290840" y="3920760"/>
              <a:ext cx="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290840" y="446364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134680" y="4871160"/>
              <a:ext cx="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34680" y="5414040"/>
              <a:ext cx="50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85400" y="5821560"/>
              <a:ext cx="0" cy="27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1927080" y="6093000"/>
              <a:ext cx="455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1927080" y="1748520"/>
              <a:ext cx="0" cy="434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927080" y="1748520"/>
              <a:ext cx="337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0B857EE-C95F-4FF8-8448-E274B3DF07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stratégia elkészítése egy team fela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team szigorú szabályok szerint dolgozik. Ezek közül talán a legfontosabbak:</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üggetlenség,</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egyenlő jogok (team-en belül nincs hierarchia; a team vezetője egy az</a:t>
            </a:r>
            <a:r>
              <a:rPr b="1" lang="hu-HU" sz="2600" spc="-1" strike="noStrike">
                <a:solidFill>
                  <a:srgbClr val="000000"/>
                </a:solidFill>
                <a:latin typeface="Arial"/>
              </a:rPr>
              <a:t> </a:t>
            </a:r>
            <a:r>
              <a:rPr b="0" lang="hu-HU" sz="2600" spc="-1" strike="noStrike">
                <a:solidFill>
                  <a:srgbClr val="000000"/>
                </a:solidFill>
                <a:latin typeface="Arial"/>
              </a:rPr>
              <a:t>egyenlők közü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reatív módszere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4E3E65D-3BC5-4AB6-8882-EB1B6A151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csoportmunka formái</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csoport szakirodalomban javasolt létszáma 10-12 fő.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brain storming</a:t>
            </a:r>
            <a:r>
              <a:rPr b="0" lang="hu-HU" sz="2100" spc="-1" strike="noStrike">
                <a:solidFill>
                  <a:srgbClr val="000000"/>
                </a:solidFill>
                <a:latin typeface="Arial"/>
              </a:rPr>
              <a:t> azon a pszichológiai tényen alapul, hogy a részvevők egymás ötletei hallatán, a asszociációs képességük révén, kreatívabba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gy másik módszer a </a:t>
            </a:r>
            <a:r>
              <a:rPr b="1" lang="hu-HU" sz="2100" spc="-1" strike="noStrike">
                <a:solidFill>
                  <a:srgbClr val="000000"/>
                </a:solidFill>
                <a:latin typeface="Arial"/>
              </a:rPr>
              <a:t>nominál csoport</a:t>
            </a:r>
            <a:r>
              <a:rPr b="0" lang="hu-HU" sz="2100" spc="-1" strike="noStrike">
                <a:solidFill>
                  <a:srgbClr val="000000"/>
                </a:solidFill>
                <a:latin typeface="Arial"/>
              </a:rPr>
              <a:t> </a:t>
            </a:r>
            <a:r>
              <a:rPr b="1" lang="hu-HU" sz="2100" spc="-1" strike="noStrike">
                <a:solidFill>
                  <a:srgbClr val="000000"/>
                </a:solidFill>
                <a:latin typeface="Arial"/>
              </a:rPr>
              <a:t>módszer</a:t>
            </a:r>
            <a:r>
              <a:rPr b="0" lang="hu-HU" sz="2100" spc="-1" strike="noStrike">
                <a:solidFill>
                  <a:srgbClr val="000000"/>
                </a:solidFill>
                <a:latin typeface="Arial"/>
              </a:rPr>
              <a:t>, ami egy olyan csoportos eljárás, amely alkalmas vélemények összegyűjtésére és az ítéletek csoportosítására nem strukturált problémák eseté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metaplan</a:t>
            </a:r>
            <a:r>
              <a:rPr b="0" lang="hu-HU" sz="2100" spc="-1" strike="noStrike">
                <a:solidFill>
                  <a:srgbClr val="000000"/>
                </a:solidFill>
                <a:latin typeface="Arial"/>
              </a:rPr>
              <a:t> módszer lényege a csoportdinamizmuson alapul. Igazából az eredményesség növelése érdekében vizuális táblával, vagy táblákkal egészül ki egy brain storming.</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6EBE023-C0CD-4802-ADA6-5E294C701B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atégia tervező team feladatai:</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idolgozni a stratégiai opcióka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Meghatározni a prioritásoka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rmonizálni az erőforrásoka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Írásos dokumentációt készítni</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atégiai javaslatot készíteni</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eggyőzni a döntéshozókat az elkészített tervek és javaslatok hasznosságáró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ovábbfejleszteni a kritikai észrevételek tükrében a visszautasított terve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8C44EF8-E005-428B-A6E3-693645E934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ációs rendszer kiválasztása</a:t>
            </a: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álasztási folyamat segédeszközei</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Jól előkészített pályázati felhívás</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Külső tanácsadó cégek, rendszerintegrátorok bevonása</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Különböző ajánlások, szabványok és módszertanok</a:t>
            </a:r>
            <a:r>
              <a:rPr b="0" lang="hu-HU"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B36D442-8B24-4077-A2BD-C7F053E5CC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900" spc="-1" strike="noStrike">
                <a:solidFill>
                  <a:srgbClr val="330066"/>
                </a:solidFill>
                <a:latin typeface="Arial"/>
              </a:rPr>
              <a:t>Euromethod módszertan</a:t>
            </a:r>
            <a:endParaRPr b="1" lang="en-US" sz="3900" spc="-1" strike="noStrike">
              <a:solidFill>
                <a:srgbClr val="330066"/>
              </a:solidFill>
              <a:latin typeface="Arial"/>
            </a:endParaRPr>
          </a:p>
        </p:txBody>
      </p:sp>
      <p:sp>
        <p:nvSpPr>
          <p:cNvPr id="1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Euromethod információs rendszerek beszerzésével, fejlesztésével és adaptációjával foglalkozó módszertan.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lkalmazható az információs rendszert szállító és az azt alkalmazni kívánó vállalatok közötti kapcsolattartásra, a szállított termék elfogadásánál és egy-egy projekt lépés jóváhagyásánál is.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Euromethod” alkalmazásával a vevők könnyebben értékelhetik a tendereke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E074785-5FF6-4155-87DB-CB49A0C9C2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módszertan felépítése</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Áttekintés (bevezető a módszer alkalmazásához),</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Vevői útmutató,</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Szállítói útmutató,</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ivitelezés tervezési útmutató (az információs rendszer kezdő és végállapotának pontos leírásához),</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Útmutató a vevőnél és a szállítóknál használt adaptálási módszerek közötti különbségek áthidalására,</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settanulmányo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uromethod fogalmi kézikönyvek (modellek a vevő-szállító kapcsolatra, az információs rendszer meghatározására és az adaptációs projekt kockázatának kezelésér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uromethod szótár (a felhasznált kifejezések lehetőleg szabványos (ISO) értelmezés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9A377EF-8AE3-4D2D-9303-4087E4CE7D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900" spc="-1" strike="noStrike">
                <a:solidFill>
                  <a:srgbClr val="330066"/>
                </a:solidFill>
                <a:latin typeface="Arial"/>
              </a:rPr>
              <a:t>ISO/IEC 9126 szabvány</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oftvertermékek minősítésére született a </a:t>
            </a:r>
            <a:r>
              <a:rPr b="0" i="1" lang="hu-HU" sz="1900" spc="-1" strike="noStrike">
                <a:solidFill>
                  <a:srgbClr val="000000"/>
                </a:solidFill>
                <a:latin typeface="Arial"/>
              </a:rPr>
              <a:t>ISO/IEC 9126 </a:t>
            </a:r>
            <a:r>
              <a:rPr b="0" lang="hu-HU" sz="1900" spc="-1" strike="noStrike">
                <a:solidFill>
                  <a:srgbClr val="000000"/>
                </a:solidFill>
                <a:latin typeface="Arial"/>
              </a:rPr>
              <a:t>szabvány.</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Ez a szabvány meghatároz egy hierarchikus szempontrendszert, amely segítségével megállapítható, hogy a szoftver megfelel-e a felhasználói követelményekne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oftverek minőség jellemzőit a szabvány hat csoportba sorolja. Ezek a funkcionalitás, megbízhatóság, használhatóság, hatékonyság, karbantarthatóság és hordozhatóság.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empontrendszereknek további bontásával és mérhető tulajdonságok megadásával a pályázó rendszerek között felállítható egy rangsor.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verseny azonban nem csak szoftvertermékről szól, hanem ennél bonyolultabb, elsősorban azért, mert a mai megoldásokhoz egy úgynevezett alkalmazásszolgáltatás is kapcsolódik, és nem ritka az az eset sem, amikor a hardver termékeket is beveszik a tenderbe.</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B585187-BE02-4833-BB05-41AF4209A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500" spc="-1" strike="noStrike">
                <a:solidFill>
                  <a:srgbClr val="330066"/>
                </a:solidFill>
                <a:latin typeface="Arial"/>
              </a:rPr>
              <a:t>Többtényezős értékelési eljárások</a:t>
            </a:r>
            <a:br>
              <a:rPr sz="3500"/>
            </a:br>
            <a:endParaRPr b="1" lang="en-US" sz="35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értékelést ebben az esetben egy szempont- vagy kritériumrendszer alapján végezzük. Ennek összeállításhoz több szakember csoportmunkájára van szükség. A szempontokat célszerű két csoportba sorolni:</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kizáró szempontok: alapkövetelmények megadását jelenti, amelyeket az információs rendszereknek feltétlenül teljesíteni kell, különben a szállító ill. a megoldás automatikusan kiesik a versenyből.</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soroló szempontok: a kívánatos jellemzők megadását jelenti.</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indkét esetben törekedni kell az összemérést segítő pontos – lehetőség szerint számszerűsített – megfogalmazásokra.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0379379-C5BE-4AEF-AF95-6C9E95BE3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Információs rendszere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200"/>
            <a:ext cx="6248520" cy="290052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endszerfejlesztési módszertanok a gyakorlatba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5045863F-2E50-4D55-AFA8-973DB7F4F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élda többtényezős értékelési eljárásra</a:t>
            </a:r>
            <a:endParaRPr b="1" lang="en-US" sz="3900" spc="-1" strike="noStrike">
              <a:solidFill>
                <a:srgbClr val="330066"/>
              </a:solidFill>
              <a:latin typeface="Arial"/>
            </a:endParaRPr>
          </a:p>
        </p:txBody>
      </p:sp>
      <p:graphicFrame>
        <p:nvGraphicFramePr>
          <p:cNvPr id="190" name=""/>
          <p:cNvGraphicFramePr/>
          <p:nvPr/>
        </p:nvGraphicFramePr>
        <p:xfrm>
          <a:off x="457200" y="1484280"/>
          <a:ext cx="8229240" cy="4646160"/>
        </p:xfrm>
        <a:graphic>
          <a:graphicData uri="http://schemas.openxmlformats.org/drawingml/2006/table">
            <a:tbl>
              <a:tblPr/>
              <a:tblGrid>
                <a:gridCol w="1960920"/>
                <a:gridCol w="2626200"/>
                <a:gridCol w="980280"/>
                <a:gridCol w="718200"/>
                <a:gridCol w="1015560"/>
                <a:gridCol w="928080"/>
              </a:tblGrid>
              <a:tr h="438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ea typeface="Times New Roman"/>
                        </a:rPr>
                        <a:t>Megnevezé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ea typeface="Times New Roman"/>
                        </a:rPr>
                        <a:t>Megnevezé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ea typeface="Times New Roman"/>
                        </a:rPr>
                        <a:t>Súlyszi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ea typeface="Times New Roman"/>
                        </a:rPr>
                        <a:t>Súly</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ea typeface="Times New Roman"/>
                        </a:rPr>
                        <a:t>Pontigény</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ea typeface="Times New Roman"/>
                        </a:rPr>
                        <a:t>Max.pon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280">
                <a:tc rowSpan="9">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ea typeface="Times New Roman"/>
                        </a:rPr>
                        <a:t>Gazdasági szemponto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8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Beszerzési költség</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2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Üzemeltetési költség</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Bérleti dijak</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8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Tanácsadás költségei</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Betanítás költségei</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Adaptálás költségei</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Karbantartási költségek</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Fizetési feltételekből származó költségek</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8920">
                <a:tc row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ea typeface="Times New Roman"/>
                        </a:rPr>
                        <a:t>Szoftverjellemző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Adatbiztonság</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4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Kezelőfelület</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Állományméretek</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Futási idők</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2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9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Leállás miatt kieső idők</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BFC61505-4FB8-430F-8BD8-71EA40B9A3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emzési szempontok</a:t>
            </a:r>
            <a:endParaRPr b="1" lang="en-US" sz="3900" spc="-1" strike="noStrike">
              <a:solidFill>
                <a:srgbClr val="330066"/>
              </a:solidFill>
              <a:latin typeface="Arial"/>
            </a:endParaRPr>
          </a:p>
        </p:txBody>
      </p:sp>
      <p:pic>
        <p:nvPicPr>
          <p:cNvPr id="192" name="" descr=""/>
          <p:cNvPicPr/>
          <p:nvPr/>
        </p:nvPicPr>
        <p:blipFill>
          <a:blip r:embed="rId1"/>
          <a:stretch/>
        </p:blipFill>
        <p:spPr>
          <a:xfrm>
            <a:off x="611280" y="1924200"/>
            <a:ext cx="7192800" cy="39178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06CA0CA-6DF4-4EC0-AB82-00BFD82821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áltozás menedzsment</a:t>
            </a:r>
            <a:endParaRPr b="1" lang="en-US" sz="3900" spc="-1" strike="noStrike">
              <a:solidFill>
                <a:srgbClr val="330066"/>
              </a:solidFill>
              <a:latin typeface="Arial"/>
            </a:endParaRPr>
          </a:p>
        </p:txBody>
      </p:sp>
      <p:sp>
        <p:nvSpPr>
          <p:cNvPr id="19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gy új, integrált irányítási rendszer megvalósítása komoly változást jelent a szervezet életében, különösen, ha figyelembe vesszük, hogy ez nem csak a már jól ismert rendszer vagy a jól begyakorolt „kézi” módszerek, eljárások újra, ismeretlenre történő lecserélését jelenti, hanem nagyon gyakran együtt jár a működési folyamatok, sőt bizonyos esetekben a szervezeti struktúra kisebb-nagyobb megváltozásával is.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változás elhatározása egy szervezeten belül fontos döntés, mivel a szervezetet emberek alkotják, akikben gyakran negatív benyomások, elképzelések, tapasztalatok is kapcsolódnak e fogalomhoz.</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változások bevezetése minden esetben kivált kisebb vagy nagyobb ellenállást a szervezeten belül, melynek fő oka a bizonytalanság: az emberek gyakran bizonytalanok a változás hatását illetően.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AEA51B8-9C3C-4ADF-A7BE-A06D285546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330066"/>
                </a:solidFill>
                <a:latin typeface="Arial"/>
              </a:rPr>
              <a:t>A változással, amit egy integrált rendszer bevezetése jelent, szembeni ellenállás konkrét okai nagyon gyakran az alábbiak:</a:t>
            </a:r>
            <a:endParaRPr b="1" lang="en-US" sz="24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félelem a munkaerő-felesleggé válástól, az elbocsátástó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félelem a tradicionális munkacsoportok felbomlásátó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bizonytalanság az új készségek, képességek, ismeretek elsajátítását illetően,</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félelem a szervezeti struktúrában bekövetkező változásoktól, s ezzel az elért státusz elvesztésétő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bizonytalanság az új rendszerrel kapcsolatban, idegenkedés az új eszköztől, módszertő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félelem a várható többletmunkátó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ragaszkodás a már ismert elvárásokhoz, magatartásokhoz, a bevett szokásaikhoz,</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félelem a várható, új elvárásoktó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orábbi, kedvezőtlen tapasztalatok</a:t>
            </a:r>
            <a:r>
              <a:rPr b="1" lang="hu-HU"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ollégák negatív attitűdje, elutasító gondolkodása.</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6C4987D-5E87-4665-86F2-EE668E6AE3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áltozásmenedzsment módszerei megoldási javaslatokat kínálnak a változás okán felmerült problémák orvoslására.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áltozásmenedzsment négy alapvető módszerét tárgyalju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B56A7D2-F0CB-468B-BC3F-D2D926B8D5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Kényszerítő menedzsment</a:t>
            </a:r>
            <a:endParaRPr b="1" lang="en-US" sz="3900" spc="-1" strike="noStrike">
              <a:solidFill>
                <a:srgbClr val="330066"/>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ényszerítő menedzsmentről akkor beszélünk, ha a menedzsment minden eszközzel kikényszeríti a változások végrehajtását. Akkor érdemes alkalmaznunk, ha a menedzsment erős, az idő rövid, a bukás veszélye nagy, és ennek kockázatát nem képes ellensúlyozni az előny, ami abból adódik, hogy a menedzsment képes az embereket „magával vinn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D8EBDDA-272A-4ECA-9F46-C1462E9535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Alkalmazkodó változásmenedzsment</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alkalmazkodó változásmenedzsmentről akkor beszélhetünk, ha a szükséges változásokat megtárgyalják, az érintettek aktívan részt vesznek a folyamatban, és támogatást kapnak. Akkor alkalmazzuk, ha elegendő idő áll rendelkezésre a változások megtárgyalására, az érintettek bevonására, s a bukás kockázatát lényegesen csökkenti az az előny, ami abból adódik, hogy a menedzsment képes az embereket meggyőzni a változás szükségességéről, s őket azok végrehajtásába aktívan bevonni.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3928BF6-CEAE-4751-9F06-00F0A7BF6B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Az ellenállás menedzselése</a:t>
            </a:r>
            <a:br>
              <a:rPr sz="3900"/>
            </a:b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ellenállás-menedzsment az előbbi két módszer együttes vagy „kevert” alkalmazása, vagyis, a korai elfogadókat, a pozitív gondolkodásúakat az alkalmazkodó módszerrel, míg az elutasítókat a kényszerítő változásmenedzsment módszerével kezeljük. Akkor kell alkalmaznunk, ha nem áll elegendő idő arra a rendelkezésre, hogy minden munkatársat megpróbáljunk „magunkkal vinni”, s ha a menedzsment elég erős ahhoz, hogy az elutasítók esetében a változások végrehajtását kikényszeríts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C74A763-E7E7-43E3-8F35-40B04FDFD3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Válságmenedzsme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álságmenedzsmentről akkor beszélünk, amikor a menedzserek reagálnak az eseményekre, de nem tervezik és nem ellenőrzik a lépéseket, mert a helyzet ezt nem teszi lehetővé. Olyankor alkalmazzuk, ha nincs más lehetőség, ha ez az egyetlen út és mód arra, hogy a válsághelyzeten túljussunk. Nagyon fontos, hogy a menedzsment minden szempontból jól ítélje meg az adott szituációt: a rendelkezésre álló időt, a saját erejét, az egyes módszerek kockázatát és előnyeit, s mindig a legmegfelelőbb módszert válassza k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FA1A68A-5014-4E5C-8E06-C59D4A0692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330066"/>
                </a:solidFill>
                <a:latin typeface="Arial"/>
              </a:rPr>
              <a:t>A létrehozott vagy kikényszerített változások elfogadásának fokozatai</a:t>
            </a:r>
            <a:endParaRPr b="1" lang="en-US" sz="28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Elfogadás</a:t>
            </a:r>
            <a:r>
              <a:rPr b="0" lang="hu-HU" sz="2100" spc="-1" strike="noStrike">
                <a:solidFill>
                  <a:srgbClr val="000000"/>
                </a:solidFill>
                <a:latin typeface="Arial"/>
              </a:rPr>
              <a:t>: az alkalmazottak elfogadják a változást, de nem azonosulnak azzal, s nem is hisznek benne. Ebben az esetben, ha eredményt akarunk elérni a végrehajtást folyamatosan ellenőrizni kell, mert ennek hiányában az előrehaladás, és így az eredmény nem biztosított.</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zonosulás</a:t>
            </a:r>
            <a:r>
              <a:rPr b="0" lang="hu-HU" sz="2100" spc="-1" strike="noStrike">
                <a:solidFill>
                  <a:srgbClr val="000000"/>
                </a:solidFill>
                <a:latin typeface="Arial"/>
              </a:rPr>
              <a:t>: Az alkalmazottak elfogadják a változást, mert azonosulni tudnak a változást támogatókkal, akik mintegy modellként is szolgálnak számukra a követendő magatartást illetően.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Belső meggyőződés</a:t>
            </a:r>
            <a:r>
              <a:rPr b="0" lang="hu-HU" sz="2100" spc="-1" strike="noStrike">
                <a:solidFill>
                  <a:srgbClr val="000000"/>
                </a:solidFill>
                <a:latin typeface="Arial"/>
              </a:rPr>
              <a:t>: az alkalmazottak elfogadják a változást, mert az új helyzet számukra megelégedettséget eredményez, összhangban van a saját érdekeikkel, értékeikkel. Nyilvánvalóan ez az a stratégia, amire minden szervezet törekszik, bár eléggé nyilvánvaló az is, hogy ezt a legnehezebb a gyakorlatban megvalósítani.</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0E3EE03-F931-4C89-AAEC-F83D5742F7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óra tematikája</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formatikai stratégi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Projektmenedzsmen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837D097-6790-4F02-B845-46161BBD0D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rojektmenedzsment</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információs rendszerek tervezése és bevezetése mindig projektszemléletben történik.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 projekt, olyan összefüggő tevékenység sorozat, amely valamilyen kitűzött eredmény elérésére irányul, meghatározott idő alatt végezhető el és többnyire adott költségkeretek közt kell megvalósítan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3E3E2D4-AB2A-4FDD-9D9C-2D844FA302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projekt jellemző elemei</a:t>
            </a: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Minden projektnek van egy jól meghatározott célja: egy meghatározott végeredmény, egy végtermék, amelynek eléréséhez meghatározott költség, minőség és időtartam tartozik.</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Egy projekt sikeres végrehajtása érdekében több különböző tevékenységet kell elvégezni. A kapcsolat ezen részfeladatok között lehet nagyon összetett, különösen ha az elkülönült feladatok száma a projektben igen nagy.</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 projektek többsége egyszer hajtható végre. Még a megismételt projektek is különbözni fognak egymástól a felhasznált erőforrásokban és az aktuális környezetben.</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Minden projekt magában hordozza a bizonytalanságot, pl. a projekt végrehajtása túllépheti az eredetileg tervezett költséget, határidőt, eredménye elmaradhat az elvárt minőségtől.</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 projekt végrehajtása során a szükséges erőforrások koncentrációja időleges; ha a projekt elérte a célját, az erőforrások részvétele befejeződik, azok máshová telepíthetők. Pl.: az információs rendszer-megvalósításban a különböző vállalati szakterületek részéről közreműködő szakértők a projekt befejezése után visszatérhetnek eredeti feladataikhoz.</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 projekt életciklusa során változnak azok az erőforrások, amelyekre a projekt adott szakaszában szükség van, s ezek a változások előre láthatók, s így tervezhetők.</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1AB7CDA-3EBF-4D42-B6E9-4DA9247629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projektmenedzsment munkaráfordítása</a:t>
            </a:r>
            <a:endParaRPr b="1" lang="en-US" sz="3900" spc="-1" strike="noStrike">
              <a:solidFill>
                <a:srgbClr val="330066"/>
              </a:solidFill>
              <a:latin typeface="Arial"/>
            </a:endParaRPr>
          </a:p>
        </p:txBody>
      </p:sp>
      <p:pic>
        <p:nvPicPr>
          <p:cNvPr id="214" name="" descr=""/>
          <p:cNvPicPr/>
          <p:nvPr/>
        </p:nvPicPr>
        <p:blipFill>
          <a:blip r:embed="rId1"/>
          <a:stretch/>
        </p:blipFill>
        <p:spPr>
          <a:xfrm>
            <a:off x="1692360" y="2852640"/>
            <a:ext cx="5724360" cy="22478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2F7A4B5F-FC48-4CFF-9379-53ED7DB68D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rojekttervezés</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projekt tervezés, mint tevékenység négy egyértelmű célt szolgál:</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eghatározza a projekt költségeit és időtartamá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eghatározza a projekt számára szükséges erőforrások szintjé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egítséget nyújt a feladatok allokálásában és a folyamatok ellenőrzésében;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egít megbecsülni / megállapítani / értékelni bármely változás hatását a projektr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4EA31E0-C7B0-4916-BC96-1D06848856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projekttervezés feladatai</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Arial"/>
              </a:rPr>
              <a:t>A tevékenységek azonosítása</a:t>
            </a:r>
            <a:br>
              <a:rPr sz="1500"/>
            </a:br>
            <a:r>
              <a:rPr b="0" lang="hu-HU" sz="1500" spc="-1" strike="noStrike">
                <a:solidFill>
                  <a:srgbClr val="000000"/>
                </a:solidFill>
                <a:latin typeface="Arial"/>
              </a:rPr>
              <a:t>A projektek többsége túl komplex ahhoz, hogy hatékonyan lehessen azokat egészben tervezni és irányítani, ezért ezeket le kell bontanunk kisebb feladatok jól definiált, irányítható sorozatára, úgynevezett munkacsomagokra. Minden egyes munkacsomaghoz saját célok, határidők, költségek és minőség tartoznak. A lebontási folyamat végeredménye az ún. munka-lebontási struktúra, amely tiszta, definiált helyzetet teremt a projekttervezési folyamat számára</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Arial"/>
              </a:rPr>
              <a:t>Az időtartam és az erőforrások megbecsülése</a:t>
            </a:r>
            <a:br>
              <a:rPr sz="1500"/>
            </a:br>
            <a:r>
              <a:rPr b="0" lang="hu-HU" sz="1500" spc="-1" strike="noStrike">
                <a:solidFill>
                  <a:srgbClr val="000000"/>
                </a:solidFill>
                <a:latin typeface="Arial"/>
              </a:rPr>
              <a:t>Anélkül, hogy ne lenne némi elképzelésünk arról, hogy a projekt egyes részei mennyi időt igényelnek majd, lehetetlen meghatározni, minek kellene történni bármely időben a projekt végrehajtása során. A becslés pontosságának mértéke erősen kapcsolódik a projekt életciklusának azon fázisához, amely azt használja. A projekt kezdetén az aktuális becslés csak egy szemléltető érték, ezzel szemben a projekt részletes végrehajtása során, végső, végleges becslés szükséges a napról-napra bázison történő (napi bázisú) ellenőrzéshez. A becsült időszükséglet okozta bizonytalanság hatásának mérlegelésére egy valószínűségi eloszlási görbét használhatunk. A tevékenységek időtartama vonatkozásában ez a görbe megmutatja az optimista, a legvalószínűbb és a pesszimista becsléseket és ezek valószínűségét. Miután ez a görbe áltanában pozitív irányban ferde eloszlás, a tevékenységek elvárt ideje nem fog megegyezni a legvalószínűbb időtartammal.</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7BE010B-70DA-4D35-A823-F922715E18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projekttervezés feladatai</a:t>
            </a: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 kapcsolatok és a függőségek azonosítása</a:t>
            </a:r>
            <a:br>
              <a:rPr sz="1900"/>
            </a:br>
            <a:r>
              <a:rPr b="0" lang="hu-HU" sz="1900" spc="-1" strike="noStrike">
                <a:solidFill>
                  <a:srgbClr val="000000"/>
                </a:solidFill>
                <a:latin typeface="Arial"/>
              </a:rPr>
              <a:t>A</a:t>
            </a:r>
            <a:r>
              <a:rPr b="1" lang="hu-HU" sz="1900" spc="-1" strike="noStrike">
                <a:solidFill>
                  <a:srgbClr val="000000"/>
                </a:solidFill>
                <a:latin typeface="Arial"/>
              </a:rPr>
              <a:t> </a:t>
            </a:r>
            <a:r>
              <a:rPr b="0" lang="hu-HU" sz="1900" spc="-1" strike="noStrike">
                <a:solidFill>
                  <a:srgbClr val="000000"/>
                </a:solidFill>
                <a:latin typeface="Arial"/>
              </a:rPr>
              <a:t>projekt bizonyos tevékenységeit egy bizonyos sorrendben kell végrehajtani; ezen tevékenységek között függőségi vagy sorrendi kapcsolat van. Más tevékenységek között nincs ilyen jellegű függőségi kapcsolat, ez utóbbi tevékenységek egymástól függetlenek vagy párhuzamosan végrehajthatók.</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z ütemezési korlátozások azonosítása</a:t>
            </a:r>
            <a:br>
              <a:rPr sz="1900"/>
            </a:br>
            <a:r>
              <a:rPr b="0" lang="hu-HU" sz="1900" spc="-1" strike="noStrike">
                <a:solidFill>
                  <a:srgbClr val="000000"/>
                </a:solidFill>
                <a:latin typeface="Arial"/>
              </a:rPr>
              <a:t>Ha csak a rendelkezésre álló erőforrások használata lehetséges az erőforrások ütemezése során, és lehetetlen azokat túllépni, akkor korlátozott erőforrásokról beszélünk. Idő-korlátról beszélhetünk, ha mindenképpen be kell fejeznünk a projektet egy megadott időn belül. Ha a rendes körülmények között rendelkezésre álló erőforrások felhasználásra kerültek, alternatív erőforrásokat kell ütemezni.</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z ütemterv rögzítése</a:t>
            </a:r>
            <a:br>
              <a:rPr sz="1900"/>
            </a:br>
            <a:r>
              <a:rPr b="0" lang="hu-HU" sz="1900" spc="-1" strike="noStrike">
                <a:solidFill>
                  <a:srgbClr val="000000"/>
                </a:solidFill>
                <a:latin typeface="Arial"/>
              </a:rPr>
              <a:t>Ha a projekt tervezője abban az ideális helyzetben van, hogy több alternatív ütemezés között választhat, azt kell kiválasztania vagy kialakítania, amelyik a legjobban megfelel a projekt céljainak.</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6FAD305-6972-4E2B-BBD3-CC2B7A0A83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rojektirányítás</a:t>
            </a:r>
            <a:endParaRPr b="1" lang="en-US" sz="39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projekt előrehaladásának kontrollja az alapvető kapcsolat a tervezés és a végrehajtás között, amely három döntéscsoportot foglal magába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C54C99C-3A40-431A-B0BB-63561A6911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rojekt kontrolling</a:t>
            </a: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A projekt teljesítményének kiértékelése</a:t>
            </a:r>
            <a:br>
              <a:rPr sz="1700"/>
            </a:br>
            <a:r>
              <a:rPr b="1" lang="hu-HU" sz="1700" spc="-1" strike="noStrike">
                <a:solidFill>
                  <a:srgbClr val="000000"/>
                </a:solidFill>
                <a:latin typeface="Arial"/>
              </a:rPr>
              <a:t>A </a:t>
            </a:r>
            <a:r>
              <a:rPr b="0" lang="hu-HU" sz="1700" spc="-1" strike="noStrike">
                <a:solidFill>
                  <a:srgbClr val="000000"/>
                </a:solidFill>
                <a:latin typeface="Arial"/>
              </a:rPr>
              <a:t>projektteljesítmény megfigyelt / ellenőrzött mérőszámai bármely pillanatban értékelhetőknek kell lenniük úgy, hogy a projektmenedzsment meg tudja ítélni a globális, átfogó teljesítményt. A legrészletesebb erőfeszítések gyakran irányulnak a költségek és a határidők értékelésére, azonban a minőségi problémák végső soron mint költség és határidő problémák jelennek meg.</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Beavatkozás a projekt megváltoztatásába</a:t>
            </a:r>
            <a:br>
              <a:rPr sz="1700"/>
            </a:br>
            <a:r>
              <a:rPr b="0" lang="hu-HU" sz="1700" spc="-1" strike="noStrike">
                <a:solidFill>
                  <a:srgbClr val="000000"/>
                </a:solidFill>
                <a:latin typeface="Arial"/>
              </a:rPr>
              <a:t>Ha a projekt végrehajtása során nyilvánvalóvá válik hogy költsége, minőségi színvonala vagy a megvalósulás határideje jelentősen eltér a tervezettől, néhány intézkedést biztos, hogy meg kell tenni. A tényleges beavatkozás függ a projekt technikai sajátosságaitól. A projekt egyes részei kölcsönös kapcsolatban állnak egymással, így az egyik rész megváltoztatása a többire is hatással lesz, így a beavatkozás általában széles körű konzultációt igényel. Néha akkor is szükség van beavatkozásra, ha úgy tűnik, a projekt a terveknek megfelelően halad előre. Mégis, ha a projektmenedzserek előretekintenek, és így előrevetítik a tevékenységeket, láthatják, hogy valószínűleg problémák merülnek majd fel. Ebben az esetben a teljesítmények trendjéről van szó, amely intézkedést vált ki.</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65D8A3E-4C52-416B-A8C0-3711235905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A projekt tervezését és irányítását támogató technikák</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500" spc="-1" strike="noStrike">
                <a:solidFill>
                  <a:srgbClr val="000000"/>
                </a:solidFill>
                <a:latin typeface="Arial"/>
              </a:rPr>
              <a:t>A Gantt diagram használata</a:t>
            </a:r>
            <a:br>
              <a:rPr sz="1500"/>
            </a:br>
            <a:r>
              <a:rPr b="0" lang="hu-HU" sz="1500" spc="-1" strike="noStrike">
                <a:solidFill>
                  <a:srgbClr val="000000"/>
                </a:solidFill>
                <a:latin typeface="Arial"/>
              </a:rPr>
              <a:t>A legegyszerűbb módja annak, hogy bemutassunk egy átfogó projekttervet. E módszer nagy vizuális hatással bír, és könnyű megérteni. Különösen arra alkalmas, hogy bemutassuk a menedzsmentnek a projekttervet, a projekt helyzetét, valamint arra is, hogy napról-napra kövessük a projekt előrehaladását. A Gantt diagram csak korlátozott számú tevékenységből álló projektet tud kezelni anélkül, hogy túl bonyolulttá, áttekinthetetlenné válna.</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500" spc="-1" strike="noStrike">
                <a:solidFill>
                  <a:srgbClr val="000000"/>
                </a:solidFill>
                <a:latin typeface="Arial"/>
              </a:rPr>
              <a:t>Hálózat-elemzési módszerek</a:t>
            </a:r>
            <a:br>
              <a:rPr sz="1500"/>
            </a:br>
            <a:r>
              <a:rPr b="0" lang="hu-HU" sz="1500" spc="-1" strike="noStrike">
                <a:solidFill>
                  <a:srgbClr val="000000"/>
                </a:solidFill>
                <a:latin typeface="Arial"/>
              </a:rPr>
              <a:t>Minden hálózati diagramban, ahol a tevékenységek között sorosan és párhuzamosan végrehajtható tevékenységek is vannak, többféle úton is eljuthatunk a kezdőponttól a projekt végpontjáig. Azt az útvonalat, amely a tevékenységek leghosszabb sorozatát tartalmazza, az adott hálózat kritikus útvonalának nevezzük, miután az ezen útvonalon található tevékenységek bármelyike esetében a késedelmes befejezés a teljes projekt késedelmes befejezéséhez vezet majd. Az ezen útvonalon található tevékenységek idő-szükségletének összege adja a teljes projekt időtartamát. A hálózat-elemzési módszerek célja megtalálni a kritikus útvonalat a hálózatban, mely kritikus út lesz a projekt tervezésének és irányításának az alapja.</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500" spc="-1" strike="noStrike">
                <a:solidFill>
                  <a:srgbClr val="000000"/>
                </a:solidFill>
                <a:latin typeface="Arial"/>
              </a:rPr>
              <a:t>A CPM technika</a:t>
            </a:r>
            <a:br>
              <a:rPr sz="1500"/>
            </a:br>
            <a:r>
              <a:rPr b="0" lang="hu-HU" sz="1500" spc="-1" strike="noStrike">
                <a:solidFill>
                  <a:srgbClr val="000000"/>
                </a:solidFill>
                <a:latin typeface="Arial"/>
              </a:rPr>
              <a:t>A CPM (Critical Path Method, Kritikus út módszere) modellezi a projektet azáltal, hogy tisztázza a kapcsolatot az egyes tevékenységek között és ezt diagramon ábrázolja. A projekt minden egyes eseményéhez több idő-adat tartozik. A legkorábbi esemény-idő az a legkorábbi időpont, amikor az adott esemény végbemehet, vagyis amikor már minden, őt megelőző tevékenység befejeződött. </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51A43FF-0342-46D6-8F4D-BD7A42EEFC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Köszönöm a figyelmet!</a:t>
            </a:r>
            <a:endParaRPr b="1" lang="en-US" sz="4800" spc="-1" strike="noStrike">
              <a:solidFill>
                <a:srgbClr val="330066"/>
              </a:solidFill>
              <a:latin typeface="Arial"/>
            </a:endParaRPr>
          </a:p>
        </p:txBody>
      </p:sp>
      <p:sp>
        <p:nvSpPr>
          <p:cNvPr id="22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69C0E833-AF95-47D6-B698-A9C9CF5328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atikai stratégia szerepe</a:t>
            </a: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gy szervezet működési célja egy hosszú távú tervben, úgynevezett stratégiai tervben van meghatározva.</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gy hatékonyan működő szervezet stratégiai tervének különböző funkcionális részei vannak vagy lehetne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ervezet a működési célját akkor tudja hatékonyan elérni, ha a felső színtű vezetők és az informatikai vezetésért felelős személyek egymást segítve, a korszerű informatikai technológiák lehetőségeit kihasználva szervezik tevékenységüke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hatékonyság egyik kulcsa, hogy az információmenedzsment valóban képes legyen a felhasználó és az informatikus szakemberek közötti űr áthidalására, és az informatikai erőforrások lehető leghatékonyabb kihasználásra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6D2F3B0-9E44-4F06-9639-40F0251D27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atikai menedzsment kapcsolatrendszere</a:t>
            </a:r>
            <a:endParaRPr b="1" lang="en-US" sz="3900" spc="-1" strike="noStrike">
              <a:solidFill>
                <a:srgbClr val="330066"/>
              </a:solidFill>
              <a:latin typeface="Arial"/>
            </a:endParaRPr>
          </a:p>
        </p:txBody>
      </p:sp>
      <p:grpSp>
        <p:nvGrpSpPr>
          <p:cNvPr id="106" name=""/>
          <p:cNvGrpSpPr/>
          <p:nvPr/>
        </p:nvGrpSpPr>
        <p:grpSpPr>
          <a:xfrm>
            <a:off x="539640" y="2205000"/>
            <a:ext cx="7632720" cy="3529080"/>
            <a:chOff x="539640" y="2205000"/>
            <a:chExt cx="7632720" cy="3529080"/>
          </a:xfrm>
        </p:grpSpPr>
        <p:sp>
          <p:nvSpPr>
            <p:cNvPr id="107" name=""/>
            <p:cNvSpPr/>
            <p:nvPr/>
          </p:nvSpPr>
          <p:spPr>
            <a:xfrm>
              <a:off x="539640" y="2205000"/>
              <a:ext cx="7632720" cy="3529080"/>
            </a:xfrm>
            <a:prstGeom prst="hexagon">
              <a:avLst>
                <a:gd name="adj" fmla="val 54070"/>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557160" y="2340360"/>
              <a:ext cx="2307240" cy="95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Stratégia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menedzsment</a:t>
              </a:r>
              <a:endParaRPr b="0" lang="en-US" sz="1200" spc="-1" strike="noStrike">
                <a:solidFill>
                  <a:srgbClr val="000000"/>
                </a:solidFill>
                <a:latin typeface="Times New Roman"/>
              </a:endParaRPr>
            </a:p>
          </p:txBody>
        </p:sp>
        <p:sp>
          <p:nvSpPr>
            <p:cNvPr id="109" name=""/>
            <p:cNvSpPr/>
            <p:nvPr/>
          </p:nvSpPr>
          <p:spPr>
            <a:xfrm>
              <a:off x="1249560" y="3019320"/>
              <a:ext cx="2307600" cy="95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Innováció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menedzsment</a:t>
              </a:r>
              <a:endParaRPr b="0" lang="en-US" sz="1200" spc="-1" strike="noStrike">
                <a:solidFill>
                  <a:srgbClr val="000000"/>
                </a:solidFill>
                <a:latin typeface="Times New Roman"/>
              </a:endParaRPr>
            </a:p>
          </p:txBody>
        </p:sp>
        <p:sp>
          <p:nvSpPr>
            <p:cNvPr id="110" name=""/>
            <p:cNvSpPr/>
            <p:nvPr/>
          </p:nvSpPr>
          <p:spPr>
            <a:xfrm>
              <a:off x="5332320" y="3155040"/>
              <a:ext cx="2307600" cy="95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Marke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menedzsment</a:t>
              </a:r>
              <a:endParaRPr b="0" lang="en-US" sz="1200" spc="-1" strike="noStrike">
                <a:solidFill>
                  <a:srgbClr val="000000"/>
                </a:solidFill>
                <a:latin typeface="Times New Roman"/>
              </a:endParaRPr>
            </a:p>
          </p:txBody>
        </p:sp>
        <p:sp>
          <p:nvSpPr>
            <p:cNvPr id="111" name=""/>
            <p:cNvSpPr/>
            <p:nvPr/>
          </p:nvSpPr>
          <p:spPr>
            <a:xfrm>
              <a:off x="1604520" y="4240800"/>
              <a:ext cx="2307600" cy="95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Projek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menedzsment</a:t>
              </a:r>
              <a:endParaRPr b="0" lang="en-US" sz="1200" spc="-1" strike="noStrike">
                <a:solidFill>
                  <a:srgbClr val="000000"/>
                </a:solidFill>
                <a:latin typeface="Times New Roman"/>
              </a:endParaRPr>
            </a:p>
          </p:txBody>
        </p:sp>
        <p:sp>
          <p:nvSpPr>
            <p:cNvPr id="112" name=""/>
            <p:cNvSpPr/>
            <p:nvPr/>
          </p:nvSpPr>
          <p:spPr>
            <a:xfrm>
              <a:off x="4799520" y="4240800"/>
              <a:ext cx="2307600" cy="950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Termelé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menedzsment</a:t>
              </a:r>
              <a:endParaRPr b="0" lang="en-US" sz="1200" spc="-1" strike="noStrike">
                <a:solidFill>
                  <a:srgbClr val="000000"/>
                </a:solidFill>
                <a:latin typeface="Times New Roman"/>
              </a:endParaRPr>
            </a:p>
          </p:txBody>
        </p:sp>
        <p:sp>
          <p:nvSpPr>
            <p:cNvPr id="113" name=""/>
            <p:cNvSpPr/>
            <p:nvPr/>
          </p:nvSpPr>
          <p:spPr>
            <a:xfrm>
              <a:off x="3202200" y="3155040"/>
              <a:ext cx="2307600" cy="149292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Informatika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menedzsment</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203CECD-C28F-4FD3-BF08-2120548DB3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atikai stratégiai terv</a:t>
            </a: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nformatikai stratégiai menedzsment célja és feladata olyan informatikai megoldás megvalósítása, amely az adott szervezet szükségletei, adottságai és lehetőségei között a legjobban támogatja a szervezetet stratégiai céljai elérésében, stratégiái megvalósításában az informatika eszközeivel.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nformatikai stratégiai terv tehát rögzíti</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kiinduló állapotot, vagyis az informatika, az információs rendszer helyzetét a stratégia kidolgozásának pillanatába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zt a célt, amit a megvalósítás során el kell érni, azt az állapotot, ahová el kell jutni,</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mindazon lépéseket, amelyek révén a kiinduláskori állapotból a kívánt állapotot el szeretnénk érni.</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93F5AC2-8BB0-4A33-871C-711B443C77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atikai stratégia kapcsolatrendszere</a:t>
            </a:r>
            <a:endParaRPr b="1" lang="en-US" sz="3900" spc="-1" strike="noStrike">
              <a:solidFill>
                <a:srgbClr val="330066"/>
              </a:solidFill>
              <a:latin typeface="Arial"/>
            </a:endParaRPr>
          </a:p>
        </p:txBody>
      </p:sp>
      <p:grpSp>
        <p:nvGrpSpPr>
          <p:cNvPr id="117" name=""/>
          <p:cNvGrpSpPr/>
          <p:nvPr/>
        </p:nvGrpSpPr>
        <p:grpSpPr>
          <a:xfrm>
            <a:off x="1270080" y="1844640"/>
            <a:ext cx="6902280" cy="4176720"/>
            <a:chOff x="1270080" y="1844640"/>
            <a:chExt cx="6902280" cy="4176720"/>
          </a:xfrm>
        </p:grpSpPr>
        <p:sp>
          <p:nvSpPr>
            <p:cNvPr id="118" name=""/>
            <p:cNvSpPr/>
            <p:nvPr/>
          </p:nvSpPr>
          <p:spPr>
            <a:xfrm>
              <a:off x="4314960" y="1844640"/>
              <a:ext cx="812160" cy="974520"/>
            </a:xfrm>
            <a:prstGeom prst="ellipse">
              <a:avLst/>
            </a:prstGeom>
            <a:solidFill>
              <a:srgbClr val="ffffff"/>
            </a:solidFill>
            <a:ln w="9360">
              <a:solidFill>
                <a:srgbClr val="000000"/>
              </a:solidFill>
              <a:miter/>
            </a:ln>
            <a:effectLst>
              <a:outerShdw dist="40186" dir="4303641"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487960" y="3376080"/>
              <a:ext cx="812160" cy="974520"/>
            </a:xfrm>
            <a:prstGeom prst="ellipse">
              <a:avLst/>
            </a:prstGeom>
            <a:solidFill>
              <a:srgbClr val="ffffff"/>
            </a:solidFill>
            <a:ln w="9360">
              <a:solidFill>
                <a:srgbClr val="000000"/>
              </a:solidFill>
              <a:miter/>
            </a:ln>
            <a:effectLst>
              <a:outerShdw dist="40186" dir="4303641"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41960" y="3376080"/>
              <a:ext cx="812160" cy="974520"/>
            </a:xfrm>
            <a:prstGeom prst="ellipse">
              <a:avLst/>
            </a:prstGeom>
            <a:solidFill>
              <a:srgbClr val="ffffff"/>
            </a:solidFill>
            <a:ln w="9360">
              <a:solidFill>
                <a:srgbClr val="000000"/>
              </a:solidFill>
              <a:miter/>
            </a:ln>
            <a:effectLst>
              <a:outerShdw dist="40186" dir="4303641"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360200" y="3376080"/>
              <a:ext cx="812160" cy="974520"/>
            </a:xfrm>
            <a:prstGeom prst="ellipse">
              <a:avLst/>
            </a:prstGeom>
            <a:solidFill>
              <a:srgbClr val="ffffff"/>
            </a:solidFill>
            <a:ln w="9360">
              <a:solidFill>
                <a:srgbClr val="000000"/>
              </a:solidFill>
              <a:miter/>
            </a:ln>
            <a:effectLst>
              <a:outerShdw dist="40186" dir="4303641"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70080" y="3376080"/>
              <a:ext cx="812160" cy="974520"/>
            </a:xfrm>
            <a:prstGeom prst="ellipse">
              <a:avLst/>
            </a:prstGeom>
            <a:solidFill>
              <a:srgbClr val="ffffff"/>
            </a:solidFill>
            <a:ln w="9360">
              <a:solidFill>
                <a:srgbClr val="000000"/>
              </a:solidFill>
              <a:miter/>
            </a:ln>
            <a:effectLst>
              <a:outerShdw dist="40186" dir="4303641"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14960" y="5046840"/>
              <a:ext cx="812160" cy="974520"/>
            </a:xfrm>
            <a:prstGeom prst="ellipse">
              <a:avLst/>
            </a:prstGeom>
            <a:solidFill>
              <a:srgbClr val="ffffff"/>
            </a:solidFill>
            <a:ln w="9360">
              <a:solidFill>
                <a:srgbClr val="000000"/>
              </a:solidFill>
              <a:miter/>
            </a:ln>
            <a:effectLst>
              <a:outerShdw dist="40186" dir="4303641"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13960" y="2126160"/>
              <a:ext cx="560880" cy="4143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Vállalati stratégia</a:t>
              </a:r>
              <a:endParaRPr b="0" lang="en-US" sz="1100" spc="-1" strike="noStrike">
                <a:solidFill>
                  <a:srgbClr val="000000"/>
                </a:solidFill>
                <a:latin typeface="Times New Roman"/>
              </a:endParaRPr>
            </a:p>
          </p:txBody>
        </p:sp>
        <p:sp>
          <p:nvSpPr>
            <p:cNvPr id="125" name=""/>
            <p:cNvSpPr/>
            <p:nvPr/>
          </p:nvSpPr>
          <p:spPr>
            <a:xfrm>
              <a:off x="1371240" y="3654360"/>
              <a:ext cx="560880" cy="4140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Pénzügyi stratégia</a:t>
              </a:r>
              <a:endParaRPr b="0" lang="en-US" sz="1100" spc="-1" strike="noStrike">
                <a:solidFill>
                  <a:srgbClr val="000000"/>
                </a:solidFill>
                <a:latin typeface="Times New Roman"/>
              </a:endParaRPr>
            </a:p>
          </p:txBody>
        </p:sp>
        <p:sp>
          <p:nvSpPr>
            <p:cNvPr id="126" name=""/>
            <p:cNvSpPr/>
            <p:nvPr/>
          </p:nvSpPr>
          <p:spPr>
            <a:xfrm>
              <a:off x="2589480" y="3654360"/>
              <a:ext cx="611640" cy="4140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Marketing stratégia</a:t>
              </a:r>
              <a:endParaRPr b="0" lang="en-US" sz="1100" spc="-1" strike="noStrike">
                <a:solidFill>
                  <a:srgbClr val="000000"/>
                </a:solidFill>
                <a:latin typeface="Times New Roman"/>
              </a:endParaRPr>
            </a:p>
          </p:txBody>
        </p:sp>
        <p:sp>
          <p:nvSpPr>
            <p:cNvPr id="127" name=""/>
            <p:cNvSpPr/>
            <p:nvPr/>
          </p:nvSpPr>
          <p:spPr>
            <a:xfrm>
              <a:off x="6243480" y="3515040"/>
              <a:ext cx="560880" cy="695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umán erőforrás stratégia</a:t>
              </a:r>
              <a:endParaRPr b="0" lang="en-US" sz="1100" spc="-1" strike="noStrike">
                <a:solidFill>
                  <a:srgbClr val="000000"/>
                </a:solidFill>
                <a:latin typeface="Times New Roman"/>
              </a:endParaRPr>
            </a:p>
          </p:txBody>
        </p:sp>
        <p:sp>
          <p:nvSpPr>
            <p:cNvPr id="128" name=""/>
            <p:cNvSpPr/>
            <p:nvPr/>
          </p:nvSpPr>
          <p:spPr>
            <a:xfrm>
              <a:off x="7461720" y="3598560"/>
              <a:ext cx="623160" cy="46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Logisztikai stratégia</a:t>
              </a:r>
              <a:endParaRPr b="0" lang="en-US" sz="1100" spc="-1" strike="noStrike">
                <a:solidFill>
                  <a:srgbClr val="000000"/>
                </a:solidFill>
                <a:latin typeface="Times New Roman"/>
              </a:endParaRPr>
            </a:p>
          </p:txBody>
        </p:sp>
        <p:sp>
          <p:nvSpPr>
            <p:cNvPr id="129" name=""/>
            <p:cNvSpPr/>
            <p:nvPr/>
          </p:nvSpPr>
          <p:spPr>
            <a:xfrm>
              <a:off x="4413960" y="5269320"/>
              <a:ext cx="695160" cy="417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Informatikai stratégia</a:t>
              </a:r>
              <a:endParaRPr b="0" lang="en-US" sz="1100" spc="-1" strike="noStrike">
                <a:solidFill>
                  <a:srgbClr val="000000"/>
                </a:solidFill>
                <a:latin typeface="Times New Roman"/>
              </a:endParaRPr>
            </a:p>
          </p:txBody>
        </p:sp>
        <p:sp>
          <p:nvSpPr>
            <p:cNvPr id="130" name=""/>
            <p:cNvSpPr/>
            <p:nvPr/>
          </p:nvSpPr>
          <p:spPr>
            <a:xfrm>
              <a:off x="4721040" y="3042000"/>
              <a:ext cx="0" cy="19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082240" y="2345760"/>
              <a:ext cx="2131200" cy="111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3299760" y="2624040"/>
              <a:ext cx="1014840" cy="97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28640" y="2345760"/>
              <a:ext cx="2131200" cy="111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27120" y="2624040"/>
              <a:ext cx="1116360" cy="83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80360" y="4294800"/>
              <a:ext cx="2334600" cy="97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300120" y="4294800"/>
              <a:ext cx="1116360" cy="83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5025240" y="4294800"/>
              <a:ext cx="1217880" cy="83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127120" y="4294800"/>
              <a:ext cx="2334240" cy="97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19B2366-A21D-421E-B691-C585A1B5E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atikai stratégia alkotása</a:t>
            </a:r>
            <a:endParaRPr b="1" lang="en-US" sz="3900" spc="-1" strike="noStrike">
              <a:solidFill>
                <a:srgbClr val="330066"/>
              </a:solidFill>
              <a:latin typeface="Arial"/>
            </a:endParaRPr>
          </a:p>
        </p:txBody>
      </p:sp>
      <p:grpSp>
        <p:nvGrpSpPr>
          <p:cNvPr id="140" name=""/>
          <p:cNvGrpSpPr/>
          <p:nvPr/>
        </p:nvGrpSpPr>
        <p:grpSpPr>
          <a:xfrm>
            <a:off x="1574640" y="1463760"/>
            <a:ext cx="6310440" cy="3620520"/>
            <a:chOff x="1574640" y="1463760"/>
            <a:chExt cx="6310440" cy="3620520"/>
          </a:xfrm>
        </p:grpSpPr>
        <p:sp>
          <p:nvSpPr>
            <p:cNvPr id="141" name=""/>
            <p:cNvSpPr/>
            <p:nvPr/>
          </p:nvSpPr>
          <p:spPr>
            <a:xfrm>
              <a:off x="4248360" y="1463760"/>
              <a:ext cx="1283400" cy="1593000"/>
            </a:xfrm>
            <a:prstGeom prst="ellipse">
              <a:avLst/>
            </a:prstGeom>
            <a:solidFill>
              <a:srgbClr val="ffffff"/>
            </a:solidFill>
            <a:ln w="9360">
              <a:solidFill>
                <a:srgbClr val="000000"/>
              </a:solidFill>
              <a:miter/>
            </a:ln>
            <a:effectLst>
              <a:outerShdw dist="89808" dir="483908"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601680" y="3491280"/>
              <a:ext cx="1283400" cy="1593000"/>
            </a:xfrm>
            <a:prstGeom prst="ellipse">
              <a:avLst/>
            </a:prstGeom>
            <a:solidFill>
              <a:srgbClr val="ffffff"/>
            </a:solidFill>
            <a:ln w="9360">
              <a:solidFill>
                <a:srgbClr val="000000"/>
              </a:solidFill>
              <a:miter/>
            </a:ln>
            <a:effectLst>
              <a:outerShdw dist="102298" dir="424499"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574640" y="3491280"/>
              <a:ext cx="1283400" cy="1593000"/>
            </a:xfrm>
            <a:prstGeom prst="ellipse">
              <a:avLst/>
            </a:prstGeom>
            <a:solidFill>
              <a:srgbClr val="ffffff"/>
            </a:solidFill>
            <a:ln w="9360">
              <a:solidFill>
                <a:srgbClr val="000000"/>
              </a:solidFill>
              <a:miter/>
            </a:ln>
            <a:effectLst>
              <a:outerShdw dist="96762" dir="1393594"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62200" y="1685520"/>
              <a:ext cx="855720" cy="11433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informatikai stratégiai elemzés</a:t>
              </a:r>
              <a:endParaRPr b="0" lang="en-US" sz="1200" spc="-1" strike="noStrike">
                <a:solidFill>
                  <a:srgbClr val="000000"/>
                </a:solidFill>
                <a:latin typeface="Times New Roman"/>
              </a:endParaRPr>
            </a:p>
          </p:txBody>
        </p:sp>
        <p:sp>
          <p:nvSpPr>
            <p:cNvPr id="145" name=""/>
            <p:cNvSpPr/>
            <p:nvPr/>
          </p:nvSpPr>
          <p:spPr>
            <a:xfrm>
              <a:off x="1788480" y="3718800"/>
              <a:ext cx="855360" cy="11379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Informatikai stratégiai választás</a:t>
              </a:r>
              <a:endParaRPr b="0" lang="en-US" sz="1200" spc="-1" strike="noStrike">
                <a:solidFill>
                  <a:srgbClr val="000000"/>
                </a:solidFill>
                <a:latin typeface="Times New Roman"/>
              </a:endParaRPr>
            </a:p>
          </p:txBody>
        </p:sp>
        <p:sp>
          <p:nvSpPr>
            <p:cNvPr id="146" name=""/>
            <p:cNvSpPr/>
            <p:nvPr/>
          </p:nvSpPr>
          <p:spPr>
            <a:xfrm>
              <a:off x="6815520" y="3718800"/>
              <a:ext cx="855360" cy="11379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informatikai stratégiai végrehajtás</a:t>
              </a:r>
              <a:endParaRPr b="0" lang="en-US" sz="1200" spc="-1" strike="noStrike">
                <a:solidFill>
                  <a:srgbClr val="000000"/>
                </a:solidFill>
                <a:latin typeface="Times New Roman"/>
              </a:endParaRPr>
            </a:p>
          </p:txBody>
        </p:sp>
        <p:sp>
          <p:nvSpPr>
            <p:cNvPr id="147" name=""/>
            <p:cNvSpPr/>
            <p:nvPr/>
          </p:nvSpPr>
          <p:spPr>
            <a:xfrm flipH="1">
              <a:off x="2858040" y="2601360"/>
              <a:ext cx="1390320" cy="11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64960" y="4401360"/>
              <a:ext cx="36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5531400" y="2580120"/>
              <a:ext cx="1283400" cy="91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2E313CB-AC0E-4FE1-93D2-4E0C591551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Stratégiai elemzés</a:t>
            </a: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Célok meghatározása:</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eg kell határozni azt az állapotot, ahová informatikai szempontból a szervezet el akar jutn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eg kell határozni a menedzsment, illetve az egyes vállalati szakterületek információs igényeit, megkülönböztetve az információigényeket prioritási szempontok szerin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környezet meghatározása:</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jelenlegi informatikai rendszer és eszközök meghatározása</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számba vehető rendszerek, eszközök, szolgáltatások, vagyis az informatikai piac meghatározása</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erőforrások meghatározása:</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mberi erőforrások meghatározása</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ükséges hardver eszközök meghatározása</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ükséges szoftver eszközök meghatározás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D3B2E8C-02E1-47CC-869D-D31514F73E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ózsa Tünde</cp:lastModifiedBy>
  <dcterms:modified xsi:type="dcterms:W3CDTF">2007-10-24T12:58:06Z</dcterms:modified>
  <cp:revision>107</cp:revision>
  <dc:subject/>
  <dc:title>PowerPoint bemutató</dc:title>
</cp:coreProperties>
</file>