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BDD7-317D-47F4-95D7-C5025681A2F7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280-D3C4-4D12-8612-2C88E2F0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D7B-3D0A-46C7-B61F-83E124C4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5A9-473B-48AB-A472-845A96E1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FD9-694A-46F7-AB6F-3F0D29C2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2926-C925-41A0-A218-B200A60A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0067-B703-48A7-B9B1-F099FB57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1470-5357-4790-AEF6-AD70C5D0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C626-949D-4C63-8A2A-D7DF3B6D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36BA-BF4F-41E1-8B98-8493A849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AA44-4BDD-47C7-9871-3A28E607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E567-0C03-4BA6-B40B-E458616A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E0B-8ED1-4464-8A1A-BAE05A28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3458-368F-4393-8AFA-5EC2A7D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B466-66A5-4F65-B69A-4BD107BA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A6E3-F417-4C79-A70B-ED6EAA30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CB84-EC6D-4317-B488-B24B101B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1AD3-BF4E-42A2-9D4E-054E321F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0DD-4B8C-4D15-896B-3952DDFE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00C-5004-4FB6-B261-1292EDEB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5DB-0376-4074-8201-129918EB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6AF-4BFE-4FB8-95C4-C29A4FF8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4AB-54D2-4967-A1B0-D224214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87E-DC24-4E8E-8617-0B450A24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B80-DA93-4946-9CE4-55388ABB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9AE-FD66-479E-970D-F03DFA23901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B95-11C5-4E4D-B982-67F32DE808D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0570-02E9-465C-A9D6-511AE8B8E6A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3C5A-11B9-4F11-B760-AD029BD21A0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Szenteleki Ká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MRP</a:t>
            </a:r>
            <a:br>
              <a:rPr sz="3500"/>
            </a:b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Material Requirements Planning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Lénye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aktározás-menedzsment technológiai támogatása volt és ebből fejlődött egyre komplexebb alkalmazássá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FA1-B06F-408C-AB58-32CDF36B57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PS</a:t>
            </a:r>
            <a:br>
              <a:rPr sz="3900"/>
            </a:b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aster Production Schedu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aktározás később bővült az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nyagszükségle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tervezéssel, amiből kiindult egy újabb Gyártásütemezés néven ismert alkalmaz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gyártásütemezésre alkalmas szoftver termékek specifikált termékstruktúrán keresztül az árukészlet figyelembe vételével ütemezte a beszerzési és gyártási rendelések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5B8-491F-4574-9EFB-5ABF16955F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RP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zzel az alkalmazással megvalósítható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ártás erőforrás tervez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gyártó vállalat valamennyi erőforrásának hatékony tervez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tegrált pénzügyi kimutatások készít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B64-E948-40D1-BBFE-0CD5EA8363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eljeskörű vállalaton belüli integráci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tlen adatbáz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szeri adatrögzí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inden vállalaton belüli gazdasági folyamat kezel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208-D89F-425D-B638-63892E6022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ternal ERP/SC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vállalaton belüli folyamatok kiterjesztése a vevőkre és szállítók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5D2-9191-409A-835F-8FF903D62B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Üzleti intelligencia eszköztá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B8D-943F-4B2C-96A6-C0631AE9DA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s rendszerek kiválasztásának szempontj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legfontosabb kiválasztási szempont az informatikai stratégiában rögzített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unkcionális megfelelő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eruházás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költsége: hardver+szoftver (bekerülési költsé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üzemeltetés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költségeket több évre előre vetítve kell figyelembe venn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rendszer teljes költségének meghatározására a TCO (total cost of ownership) mutató kiválóan alkalmas. TCO megmutatja a rendszer teljes birtoklási költségét, azaz, hogy mibe kerül az első lépéstől a rendszer lecserélési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A40-F23C-48BD-89EE-22556FDE5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s rendszerek kiválasztásának szempontj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használói-támogatás és szolgáltatás a bevezetési idő alat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használói-támogatás és szolgáltatás az üzemeltetés alat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szközök korszerűsé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Értékesítők referenciaszá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440-58A0-41D7-8B1E-0799D27F73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 „értéke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vállalatirányítási információs rendszer, még a legkiválóbb is, annyit ér a felhasználó, amennyit használni tud belő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599-98DF-4A9F-8145-47AC14110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ERP rendszerek funkcionális megközelítése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 modulokra bontása, bizonyos összetartozó funkcionalitások alapján történ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zt azonban alapvetően a szervezeti egységek feladatai szerint csoportosítva kell megoldan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gyes ERP rendszereknél előfordulhat, hogy  más-más funkciókat csoportosít egy modul alá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Így hát előfordulhat, hogy az itt ismertetett modulok egyes rendszerekben összevontan vannak jelen, más rendszerben pedig éppen szétdarabolta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6EF-8943-49E6-887F-D7BF4392A6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egrált Információs ren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RP ren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D775-D515-4D6F-A85A-5412F4CAA8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lyamatszemlé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9640" y="1700280"/>
            <a:ext cx="7778520" cy="3393720"/>
            <a:chOff x="539640" y="1700280"/>
            <a:chExt cx="7778520" cy="3393720"/>
          </a:xfrm>
        </p:grpSpPr>
        <p:sp>
          <p:nvSpPr>
            <p:cNvPr id="209" name=""/>
            <p:cNvSpPr/>
            <p:nvPr/>
          </p:nvSpPr>
          <p:spPr>
            <a:xfrm>
              <a:off x="838800" y="1700280"/>
              <a:ext cx="1196640" cy="14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Beszerzé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34600" y="1700280"/>
              <a:ext cx="1196640" cy="14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Raktároz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30760" y="1700280"/>
              <a:ext cx="1196640" cy="14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Átalakí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2720" y="1700280"/>
              <a:ext cx="1196640" cy="14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Értékesíté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26560" y="1700280"/>
              <a:ext cx="1196640" cy="14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Raktároz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800" y="3639600"/>
              <a:ext cx="7180560" cy="14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Számvitel, pénzügy, kontro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7120" y="31546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32920" y="31546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29080" y="31546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24880" y="31546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0440" y="31546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35440" y="2669400"/>
              <a:ext cx="2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31240" y="2669400"/>
              <a:ext cx="29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7400" y="2669400"/>
              <a:ext cx="2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23200" y="2669400"/>
              <a:ext cx="29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640" y="2669400"/>
              <a:ext cx="29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19360" y="4609080"/>
              <a:ext cx="2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9640" y="4123800"/>
              <a:ext cx="34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19360" y="2669400"/>
              <a:ext cx="2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90C-2765-4B9D-813F-55CFA5A92D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 folyamato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Logisztikai jellegű funkciókat tartalmazó modulo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es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szer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aktár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énzügy, számvitel, kontrolling funkciókat tartalmazó modulo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nzügyi modul (számlák, pénztár, ba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viteli modulok (könyvel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trolling modul (tervezés, elemz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Gyártáshoz kapcsolódó funkciókkal rendelkező modulo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ártásterv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ártásvezér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umánerőforrás és bérkezel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861-D0E1-4041-9D93-EE8CF0C7D8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Értékesítési modul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rtékesítés, mint tevékenység minden vállalkozásnál előford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erméke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ki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olgáltat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rtékesí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rtékesítési modullal kapcsolatosan az alábbi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génye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erülhetnek fel egy integrált vállalatirányítási rendszerrel kapcsolatos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gyen képe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jánlato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észíteni a termékekre és szolgáltatásokra, illetve ezeket az ajánlatokat tudja kezel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gyen képes az ajánlatok alapján, vagy ajánlat nélkül készült vevői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rendeléseke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ezel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gyen képes a vevői megrendelésekből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állítólevele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észít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gyen képes a szállítólevélből, vagy a vevői megrendelésből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imen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ámlá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lőállít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udja kezelni a felsorolt tevékenységekhez kapcsolódóan a javításból, stornózásból, helyesbítésből fakadó problémákat, melyek tévedésből vagy a gazdasági tevékenységekből adódóan következhetnek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8D6-ED51-4D0A-A72B-6B010E3818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Értékesítési folya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95280" y="1484280"/>
            <a:ext cx="5829480" cy="4343400"/>
            <a:chOff x="395280" y="1484280"/>
            <a:chExt cx="5829480" cy="4343400"/>
          </a:xfrm>
        </p:grpSpPr>
        <p:sp>
          <p:nvSpPr>
            <p:cNvPr id="234" name=""/>
            <p:cNvSpPr/>
            <p:nvPr/>
          </p:nvSpPr>
          <p:spPr>
            <a:xfrm>
              <a:off x="3481560" y="2627280"/>
              <a:ext cx="194328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81760" y="1598400"/>
              <a:ext cx="1143000" cy="34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eszt vev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81760" y="2627280"/>
              <a:ext cx="1143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jánl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10160" y="5370480"/>
              <a:ext cx="1143000" cy="4572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Helyesbített szám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81760" y="5370480"/>
              <a:ext cx="1143000" cy="4572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tornó szám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81760" y="4684680"/>
              <a:ext cx="1143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ám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81760" y="3998880"/>
              <a:ext cx="1143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állítólevé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81760" y="3313080"/>
              <a:ext cx="1143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egrendel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1760" y="2169720"/>
              <a:ext cx="1143000" cy="34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eszt cik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5280" y="1484280"/>
              <a:ext cx="1028520" cy="457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VEV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4080" y="159840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jánl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24080" y="239868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egrendel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24080" y="354168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állít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24080" y="457020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ámláz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66600" y="5370480"/>
              <a:ext cx="1600200" cy="457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Javítás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823920" y="171252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95600" y="2284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395960" y="17121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309680" y="1598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09680" y="182700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82040" y="3084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82040" y="3770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824280" y="2855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738680" y="29700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38680" y="2741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824280" y="2741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24280" y="1941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52880" y="1941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52880" y="262728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24560" y="3427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624560" y="28555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823920" y="365580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24280" y="38847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95960" y="38847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95960" y="422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1080360" y="1941480"/>
              <a:ext cx="1143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24280" y="4684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624560" y="4341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24560" y="4341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24280" y="491328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966600" y="1941480"/>
              <a:ext cx="1257120" cy="28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2480" y="1941480"/>
              <a:ext cx="1028520" cy="342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852480" y="1941120"/>
              <a:ext cx="799920" cy="342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10360" y="5141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510080" y="5141880"/>
              <a:ext cx="79992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138480" y="514188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38480" y="5141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566440" y="54849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6800" y="571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954-7900-4CA7-9C96-41CDA86645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Beszerzési modu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szerzési modul kezeli a vállalat anyag-, árú-, vagy szolgáltatás beszerzései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 vállalatirányítási rendszer beszerzési moduljával szemben az alábbi igények merülnek f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egyen képes a beszerzési ajánlatokat kezelni (felvitel, módosítás, törlés, optimális kiválasztás stb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egyen képes a beszerzési rendeléseket kezel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egyen képes a beszállításokat kezel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egyen képes a beérkező számlákat kezel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rmészetesen, ugyanúgy mint az értékesítésnél itt is támogatni kell a felmerült folyamatrészekkel kapcsolatos módosíthatóságot, törölhetőséget, jóváírások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F6A-0A92-41DB-9066-F298456388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Beszerzési modu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gényeket úgy kell egy integrált rendszerben teljesíteni, hogy minden egyes lépés után csak a módosításokat kelljen elvégezni, amellett, hogy az eredeti példányokat mindig megőrizzü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Vegyük példának, hogy kapunk egy </a:t>
            </a: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ajánlatott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100 darab termékről 100 Ft.-os egységáron. Felvisszünk a rendszerbe egy A001 számú ajánlatot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ajánlatra készítünk egy </a:t>
            </a: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megrendelést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mi már csak 80 darabról szól, mert csak ennyire van szükségünk. Készítünk egy új megrendelést mondjuk B001-es azonosítóval, az A001-es ajánlat alapjá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 u="sng">
                <a:solidFill>
                  <a:srgbClr val="000000"/>
                </a:solidFill>
                <a:uFillTx/>
                <a:latin typeface="Arial"/>
              </a:rPr>
              <a:t>Megérkezi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70 darab ebből a termékből, ár nélkül. Készítünk egy áruátvételt a B001-es megrendelés alapján, ahol csak a mennyiségeket kell javítani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gérkezik a </a:t>
            </a: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számla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mi szerint 95,-Ft egy darab mert nem tudták számunkra a megfelelő mennyiséget biztosítani. Az elkészült szállítólevél, vagy beszerzési megrendelés alapján rögzíteni lehet a beérkező számlát, ahol már csak az árat kell módosítanun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24B-6045-40E1-9D51-3B939F08C8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aktározási modu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vállalat logisztikai folyamatainak egyik legfontosabb területe a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raktározás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Informatikai szemszögből megközelítve ez nem más mint adatot tárolni arról, hogy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van,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hol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van és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mennyi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van belő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folyamatot tekintve a raktárba történik az alapanyagok, áruk bevételezése. Ezt a műveletet néztük meg amikor a </a:t>
            </a:r>
            <a:r>
              <a:rPr b="0" i="1" lang="hu-HU" sz="1500" spc="-1" strike="noStrike">
                <a:solidFill>
                  <a:srgbClr val="000000"/>
                </a:solidFill>
                <a:latin typeface="Arial"/>
              </a:rPr>
              <a:t>beszerzésről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esett sz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raktárból történik az anyagok összegyűjtése és gyártásba adása, a gyártási folyamat végén a késztermék bevételezése, illetve értékesítés esetén a termékek kiadá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raktári feladat tehát leegyszerűsítve a következő: bevételezés, kiadá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Pontosan kell tudni, hogy a raktárban milyen termékek vanna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Tárolni kell a termék mennyiségét, mértékegységét, egységárát (ebből többféle is lehet), esetleg minimumkészlet vagy maximumkészlet értéke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raktárban ki és berakodásnál vagy átpakolásnál figyelni kell a termékek szavatossági idejé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logisztikai költségek kézbentartása és optimalizálása céljából tudni kell minden kiszerelési vagy csomagolási egységről, hogy az hol található (amennyiben szavatossági időről is szó van még inkább rendelkezni kell ezzel az információval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Természetesen az egyes cégek és egyes termékek raktározási technikái eltérnek egymástól, ezért a raktárkezelő modulnak is paraméterezhetőnek kell lenn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149-23F6-4C0A-8999-0434CD964C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aktárkezelő modul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kintsük át, hogy a raktárkezelő modul milyen főbb funkcionalitással kell rendelkezze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Több raktár kezelés, logikai és fizikai szinten 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Raktárak adatbázisának karbantartá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raktárak szerkezetének kezelésére alkalmas funkció (bővebben elképzelhető, hogy egy raktár csupa polcokból áll, egy sor polcon belül elképzelhető kisebb nagyobb polctávolság. Ilyen esetben a beraktározásnál, fontos, hogy olyan helyet ajánljon a rendszer ahová elfér és a helyfoglalás is gazdaság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Biztosítani tudja minőségi, mennyiségi átvétel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épes legyen just-in-time követni a raktározási mozgásoka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épes legyen a szállítási egységek kezelésé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épes legyen a nyomonkövetésre. Tehát egy termékről mindig meg kell tudnom mondani, hogy a vállalaton belül éppen hol va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Tudja kezelni az idegen, nem saját tulajdonú árukat 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épes legyen leltározási listák kiadására és a leltározási tevékenység támogatásár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észítsen készletértékelé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Támogasson több féle módszert az anyag és árú felhasználások kezelésére (FIFO, lejárat szerinti, stb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D36-C9BA-4F5E-B94F-9B65768EE9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nzügyi modu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énzügy alatt értjük tipikusan a beérkező számlák, a kimenő számlák, a pénztárak és a bankok kezelésé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szerzési folyamat ily módon a beérkező számlával kapcsolódik a pénzügyhöz, míg az értékesítési folyamat a kimenő számlán keresztü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kár a bejövő akár a kimenő számlákat tekintjük a gazdasági folyamat nem ér véget a számla regisztrálásával, hisz ezeket a kötelezettségeket, vagy követeléseket még ki kell egyenlíteni pénzügyileg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AFA-47DB-4180-ACB5-56E5A2BF06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nzügyi modul funkció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Szállítói folyószámla kezelés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(több pénznembe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szállító folyószámlán a beérkező számlákat kezelik a hozzuk tartozó pénzügyi kiegyenlítésekke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szállítóknál elért későbbi fizetési lehetőség pontos nyilvántartás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Általában bizonyos idő elteltével, határidőre történő fizetések sorozata után sikerül ilyen kedvezményt elérni egy szállítóná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hosszú fizetési határidőt tekinthetjük úgy is, mint a vállalkozásnak nyújtott kamatmentes hite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onban figyelni kell az esedékességekre, a késedelmes fizetés, rontja a vállalkozás megítélését, bizalomvesztéssel jár és ez a fizetési határidőre vonatkozó előnyök elvesztéséhez vezethe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Vevő folyószámlájának kezelése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(több pénznemben)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vevői folyószámla a vevői számlákat tartalmazza a hozzájuk tartozó pénzügyi kiegyenlítésekkel és egyéb információkka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előzőekkel ellentétben azt szeretnénk, ha a vevőink minél hamarabb fizetnének. Ennek érdekében néha kedvezményeket adunk bizonyos határidőn belüli fizetésekért, illetve késedelmi kamatot számítunk fel a késedelmesen fizetőkne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lőfordulhat, hogy sürgető és figyelmeztető leveleket kell küldenünk. Célszerű az összes ilyen eseményt regisztrálni, és visszakereshető formátumban tárolni, hogy a következő értékesítésnél ezek szerint tudjunk eljárn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7F1-3080-4EFC-80F4-408A4E4141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óra temat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RP rendsz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RP rendszerek evolúció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RP rendszerek funkcionális megközelít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BCA-D4A0-4724-B2E8-03DFD87598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nzügyi modul funkció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Bankszámla-forgalom kezelé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banki forgalom kezelése azt jelenti, hogy figyelemmel kísérjük a bankszámlán lévő pénzösszegeket, pénzmozgásokat a jóváírásokat illetve terheléseke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banki forgalom szoros kapcsoltba van a vevő és szállító számlák kiegyenlítésével, hisz általában banki átutalással kerülnek kiegyenlítésre az említett számlá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lektronikus banki terminá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viza felhasználások kezelé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Árfolyam különbözetek kezelé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Pénztár kezelé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pénztárak kezelése alatt értjük készpénzes műveletek nyilvántartásá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gy általános vállalakozásnál több pénztárban kezelhetnek készpénzt. Alapvetően elkülönülnek a földrajzilag különálló pénztárak, de az is lehetséges, hogy egy helyen kezelnek több pénzneme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Pénzügyi befektetések kezelé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elszámolási bankszámlákon vagy a pénztárakban a pénz nem, vagy csak kismértékben kamatozi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zért, ha egy vállalkozásnak adott időszakban nagyobb pénzeszközzel rendelkezik valamilyen pénzügyi befektetésben gondolkodhat. Ilyen lehet az értékpapír-vásárlás, részvényvásárlás, különböző lejáratú bankbetét kezelé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zeket a pénzügyi befektetéseket hivatott kezelni ez a funkci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473-3584-42E9-93CE-0FE4C85506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viteli modu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ámviteli folyamatok kezelését minden integrált rendszernek támogatni kell. A számviteli folyamatok kezelésének szükségessége minden vállalkozásnál elfordul, tehát azt is mondhatjuk, hogy ez az a rész, ami minden esetben számítógépes támogatottságot kap, függetlenül attól, hogy helyileg vállalati szinten oldják meg, vagy pedig egy igénybevett szolgáltatáské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ámviteli modul a termelésirányítás, pénzügy koronája, azaz itt csak akkor lesznek korrekt adatok egy integrált rendszer alkalmazása esetén, ha a kapcsolódó modulokban a beállítások megfelelően történne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92A-23A9-4B9C-A418-00528338D6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ámviteli modul funkció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Vállalati számlatükör kezel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imenő számlák könyvel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eérkező számlák könyvel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énztári bizonylatok könyvel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anki bizonylatok könyvel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árgyi eszközöket érintő műveletek kezel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Vegyes könyvelési feladat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izetendő adók meghatározás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öltségek gyűjtése kalkulációkh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Utókalkulációs visszacsatolá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érlegek készít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énzügyi kimutatások támogatá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redménykimutatáso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B4E-FE6A-4EE7-AF72-319C06DABB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ontrolling modu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ontrolling modul a vállalkozások döntéstámogatásához szolgáltat információkat, alapvetően a pénzügyi és számviteli modulból nyert adatok alapjá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ontrolling modul főbb funkciói a következő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szolidációs mérlegek és eredménykimutatások előáll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bontott mérlegek és eredménykimutatások előállítása, pl. egy gyáregységre, egy telephelyre, esetleg egy üzletkötő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tségek és bevételek tervezett és várható alakulá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v-tény költségek és bevételek összehasonlítása. Folyamatok lebontása, az eltérések tényezőinek kiszűr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kviditási és egyéb a vállalkozás számára fontos mérleg és eredménykimutatás elemzéséhez tartozó mutatók aktuális értékének kiszám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böző pénzforgalmi tervek előáll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ash-flow elemzések biztos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3D5-16FA-4C77-A456-4724C115E7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yártásterve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hhoz, hogy egy terméket előállítsunk alapanyagokra, műveletekre, eszközökre, energiára és emberekre van szükségün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gyártástervezésnek, majd később természetesen a tervezés alapján a gyártásnak is szüksége van bizonyos alapadatokr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egfontosabb alapadat a gyártástervezéshez az előállítandó termék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gyártmánystruktúráj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gyártmánystruktúra, tartalmazza a termék előírt életútját az alapanyagtól a végterméki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ülönböző termelő vállalatok gyártmánystruktúráinak összetettsége változó.(egyszintű</a:t>
            </a:r>
            <a:r>
              <a:rPr b="0" lang="hu-HU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öbbszintű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417-5ABD-473A-9DE3-881801317F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gyártástervezés alapvető funkció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etszőleges” gyártmánystruktúra támoga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nyagszükséglet tervez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pacitásszükséglet tervezé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rőforrások ütemezésének tervez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ütemterv variá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rbantartási művelet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7DB-52DE-4757-8A9F-229CEB028D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yártásvezérl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gyártás lényege, hogy a gyártmánystruktúrába előírt folyamatok megvalósuljanak időben és térben az adottságoknak megfelelőe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gyártási folyamat végrehajtásához a szinteknek megfelelően a kiinduló anyagokat időben a gyártás helyszínére kell szállítani, ahol a szükséges műveleteket el lehet végez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gyártási folyamat irányítása matematikailag egy rendkívül komplex feladat, sok kényszertényezővel, változóval és sok peremfeltétell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Így a tervezés következtében mindig csak megközelítőleg jó megoldások születnek. A célhoz, a sok változót figyelembe véve nem csak egy úton lehet eljutni, ami nagyban megnehezíti a gyártási folyamatok modellezésé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389-1ED7-4898-9632-727FEC8E64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Gyártásvezérlő funkciók  </a:t>
            </a:r>
            <a:br>
              <a:rPr sz="3900"/>
            </a:b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(teljesség igénye nélkül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ártási helyek keze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ártási rendelések keze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edi rendelések keze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ártási feltételek ellenőrz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ártásütemez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apacitás-sim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ooperációkezel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ártásind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ártáselszámol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épülések nyomonkövet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25C-0833-427F-AC40-A72E197FB8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Humánerőforrás- és bérkezel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vállalati értékteremtés fő mozgatórugója a humánerőforrás szaktudása, rátermettsége és tacit tudás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humánerőforrás-kezelés szintén szerves része kell legyen az integrált vállalatirányítási rendszerne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zt a modult funkcionálisan két részre bonthatju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humánerőforrás tervezésével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, beosztásával, felhasználásával foglalkozik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bérelszámolással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bérelszámolási terület nagy mértékben függ az adott ország törvényi előírásaitól és az előírt adatszolgáltatási kötelezettségektő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Bérmodul funkciói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Munkaerőnyilvántartá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Munkaerőtervezés (a termelési modullal összhangba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Munkaerőbeosztás (a termelési modullal összhangba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Bérelszámolás támogatása (havi, órabéres, teljesítménybéres vagy egyéb formába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datszolgáltatások előállítá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Információk a főkönyvi modul számá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Információk a kontrolling modul számá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68E-CDFC-411A-9ABC-CEFF1C1451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ntosabb 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RP fogal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RP modulj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es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szer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aktár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nzügyi modul (számlák, pénztár, ba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viteli modulok (könyvel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trolling modul (tervezés, elemz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ártásterv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ártásvezér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umánerőforrás és bérkezel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F89-7BA0-4776-8A98-91DDE357DE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</a:t>
            </a:r>
            <a:br>
              <a:rPr sz="3900"/>
            </a:b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nterpice Resource Plan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ntegrált vállalatirányítási információs rendszer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alatt az egy adott vállalat valamennyi feldolgozását megvalósító, egységes információs rendszert értjü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049-8841-4D54-BBB8-E321E573B3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Köszönöm a figyelmet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934A-ECA1-44AA-B58F-BC0BD0465D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RP az egész vállalatra kiterjedő adat- és folyamatintegrációt valósítanak me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integráció ma már olyan magas fokot ért el, hogy olyan vállalatirányítási megoldások is léteznek, amely egy rendszeren belül képesek kezelni, pl. a legkülönbözőbb ágazatokban (gyártóipari, kereskedelmi vállalatok, bankok, biztosító társaságok, média-ipar, egészségügy, járműipar, olajipar, kereskedelem és így tovább) érdekeltséggel rendelkező, nagy multinacionális vállalatok valamennyi adatát, s elvégezni valamennyi feldolgozásá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E03-1109-4E8A-8CBA-1BBBB8D4C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állalatirányítási rendszerek, a vállalatoknál kialakult horizontális és vertikális munkamegosztásnak megfelelően,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unkcionáli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részekre oszlana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vertikáli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vállalati munkamegosztásnak felel meg a vezetői információs és döntéstámogató funkciókra, valamint a tranzakció-feldolgozási funkciókra történő felosztá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horizontáli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munkamegosztást követi a vállalatirányítási információs rendszerek funkcionális modulokra történő felbontása, amikor is ezen rendszereken belül pénzügyi-számviteli, kontrolling, tárgyi-eszköz gazdálkodási, termelésirányítási, készletgazdálkodási, kereskedelmi, humánerőforrás-gazdálkodási és egyéb modulokat különböztetünk me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5C6-6689-4DC6-AD95-1F1282F790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 fő feladat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orsan, hatékonyan feldolgozni a vállalatoknál keletkező, nagy számú üzleti tranzakciót (tranzakció-feldolgozási funkció; OLTP: On-line Transaction Processing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látni a vállalat vezetőit a döntéseik meghozatalához szükséges információkkal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mogatni döntéseik meghozatalát azáltal, hogy lehetővé teszik bizonyos, pl. pénzügyi problémák modellezését, s így különböző döntési változatok elemzését (vezetői információs és döntés-támogató funkció, OLAP: On-line Analytical Processing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E12-4089-46AE-84FD-305DBF588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Értékesítési folya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26920" y="1484280"/>
            <a:ext cx="5829480" cy="4343400"/>
            <a:chOff x="826920" y="1484280"/>
            <a:chExt cx="5829480" cy="4343400"/>
          </a:xfrm>
        </p:grpSpPr>
        <p:sp>
          <p:nvSpPr>
            <p:cNvPr id="113" name=""/>
            <p:cNvSpPr/>
            <p:nvPr/>
          </p:nvSpPr>
          <p:spPr>
            <a:xfrm>
              <a:off x="3913200" y="2627280"/>
              <a:ext cx="194328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13400" y="1598400"/>
              <a:ext cx="1143000" cy="34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eszt vev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13400" y="2627280"/>
              <a:ext cx="1143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jánl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41800" y="5370480"/>
              <a:ext cx="1143000" cy="4572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Helyesbített szám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13400" y="5370480"/>
              <a:ext cx="1143000" cy="4572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tornó szám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13400" y="4684680"/>
              <a:ext cx="1143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ám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13400" y="3998880"/>
              <a:ext cx="1143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állítólevé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13400" y="3313080"/>
              <a:ext cx="1143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egrendel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13400" y="2169720"/>
              <a:ext cx="1143000" cy="34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eszt cik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6920" y="1484280"/>
              <a:ext cx="1028520" cy="457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VEV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55720" y="159840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jánl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55720" y="239868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egrendel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5720" y="354168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állít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55720" y="457020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zámláz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98240" y="5370480"/>
              <a:ext cx="1600200" cy="457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Javítás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255560" y="171252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27240" y="2284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827600" y="17121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741320" y="1598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41320" y="182700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13680" y="3084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3680" y="3770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255920" y="28558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70320" y="29700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170320" y="2741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55920" y="2741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55920" y="1941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84520" y="1941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84520" y="262728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56200" y="3427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056200" y="28555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255560" y="365580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55920" y="38847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27600" y="38847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27600" y="422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512000" y="1941480"/>
              <a:ext cx="1143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55920" y="4684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056200" y="4341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56200" y="4341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55920" y="491328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1398240" y="1941480"/>
              <a:ext cx="1257120" cy="28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84120" y="1941480"/>
              <a:ext cx="1028520" cy="342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284120" y="1941120"/>
              <a:ext cx="799920" cy="342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42000" y="5141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941720" y="5141880"/>
              <a:ext cx="79992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570120" y="514188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70120" y="5141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998080" y="548496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98440" y="571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D6A-4991-4263-B629-524A31A329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RP rendszerek evolúció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60640"/>
            <a:ext cx="7101000" cy="3595680"/>
            <a:chOff x="1187280" y="2060640"/>
            <a:chExt cx="7101000" cy="3595680"/>
          </a:xfrm>
        </p:grpSpPr>
        <p:sp>
          <p:nvSpPr>
            <p:cNvPr id="164" name=""/>
            <p:cNvSpPr/>
            <p:nvPr/>
          </p:nvSpPr>
          <p:spPr>
            <a:xfrm>
              <a:off x="1187280" y="5002560"/>
              <a:ext cx="755280" cy="32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19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87280" y="4185360"/>
              <a:ext cx="75528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7280" y="3531600"/>
              <a:ext cx="75528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7280" y="2877840"/>
              <a:ext cx="75528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7280" y="2224080"/>
              <a:ext cx="75528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42560" y="5329440"/>
              <a:ext cx="1359720" cy="32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Raktároz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2560" y="4839120"/>
              <a:ext cx="1359720" cy="32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Beszerz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42560" y="4185360"/>
              <a:ext cx="135972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42560" y="3531600"/>
              <a:ext cx="135972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RP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42560" y="2877840"/>
              <a:ext cx="135972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42560" y="2060640"/>
              <a:ext cx="1359720" cy="65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nternal ERP/S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53480" y="2224080"/>
              <a:ext cx="452880" cy="343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5320" y="2224080"/>
              <a:ext cx="452880" cy="343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06720" y="2224080"/>
              <a:ext cx="241740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Üzleti intelli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6720" y="2877840"/>
              <a:ext cx="241740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Vevők és szállítók integrálá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06720" y="3531600"/>
              <a:ext cx="241740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inden belső forrás kezelé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6720" y="4185360"/>
              <a:ext cx="241740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Pénzü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06720" y="4839120"/>
              <a:ext cx="241740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Gyártás tervez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8560" y="4839120"/>
              <a:ext cx="135972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8560" y="4185360"/>
              <a:ext cx="135972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RP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28560" y="3531600"/>
              <a:ext cx="1359720" cy="48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8560" y="2714400"/>
              <a:ext cx="1359720" cy="65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nternal ERP/S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28560" y="2060640"/>
              <a:ext cx="1359720" cy="49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RP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F06-19DA-4C5A-8B10-AC015B9BDD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ózsa Tünde</cp:lastModifiedBy>
  <dcterms:modified xsi:type="dcterms:W3CDTF">2007-09-20T13:06:46Z</dcterms:modified>
  <cp:revision>106</cp:revision>
  <dc:subject/>
  <dc:title>PowerPoint bemutató</dc:title>
</cp:coreProperties>
</file>