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3085F-53C0-4A61-90CC-AEDECB9BA1FB}" type="slidenum">
              <a:rPr b="0" lang="hu-H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CÍMDIA: logó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futóláb: hefop, témakör, diaszá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Gyakran olyan hallgatóságnak kell szakmai előadást tartani, amely nem ismeri a témát vagy a szakszavakat. Az anyag esetleg összetett és rengeteg adatot tartalmaz. A hatékony előadáshoz alkalmazzuk a Dale Carnegie Training® által kialakított irányelvek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Vegyük figyelembe a rendelkezésre álló időt és rendszerezzük megfelelően a tananyagot. Szűkítsük le a témakört. Osszuk fel a bemutatót világosan elkülönített részekre. Állítsunk fel logikus sorrendet. Végig egy témára összpontosítsunk. A bemutatót összefoglalással zárjuk, ismételjük meg a fontos lépéseket vagy vonjunk le következteté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Ne feledkezzünk el a hallgatóságról. Fontos például, hogy az adatok érthetőek és lényegesek legyenek a téma szempontjából. Az adatok és a szakszavak mennyiségét igazítsuk a hallgatósághoz. A fontosabb pontok és lépések magyarázatához használjunk szemléltetőeszközöket. Mindig tartsuk szem előtt a hallgatóság igényeit, és akkor képesebbek lesznek az elhangzottak befogadásár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7321-991B-4535-8D18-5F8F9453F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BAB1-13B1-4313-8043-5F41602B8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CB99-F028-4DBB-96A7-6C9B700D2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528B-009D-401D-906F-D599F5008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00007-5451-46EF-837F-90CA1DCE9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5C2B3-7B66-4EB9-B20A-2564CEF3F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9F270-D770-44F7-83BA-06D88335B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D89B0-F79B-4A2D-86E5-14DFFCA3C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51E26-833C-4B20-85EE-2BDC3EAC6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27192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2E4EA-5424-4C70-A57C-9B507C02A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D6449-FABE-4C17-A64B-3D92DC00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82B6-5EB8-4D78-BF0F-1E8AC2599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845C9-A83B-4D47-A2B7-5FEF6813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0C1AA-AE2B-4A9B-A003-7C6A86E6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B33FF-7766-4EE6-8ECD-E0D0BC24D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C009E-A644-41FF-9C2C-604A68677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86FB8-A9A1-4F77-83C7-874580099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38FD-D066-4E9E-8D21-2C24EBE82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853F-9682-4CB0-9BD7-C0549FA5C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4281-E9E0-46D2-8B9D-51905B0D0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27192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A175-0C7E-49FD-893E-EC09AE655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659B-D473-4357-9EC1-A86CFFBF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B3A6-F055-40BC-9246-1C460E91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2A48-ACB9-44B3-BDDA-F030199F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6837F-DD32-40A1-A0C6-E5931D94B663}" type="datetime">
              <a:rPr b="0" lang="hu-HU" sz="1000" spc="-1" strike="noStrike">
                <a:solidFill>
                  <a:srgbClr val="000000"/>
                </a:solidFill>
                <a:latin typeface="Arial"/>
              </a:rPr>
              <a:t>26.07.31.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2F09A-63C3-469C-9B86-B571B67185AB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6138720"/>
            <a:ext cx="1403280" cy="71928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101080" y="0"/>
            <a:ext cx="1042920" cy="1042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1CB6D-FF53-44BF-BB82-C55CF695B1AA}" type="datetime">
              <a:rPr b="0" lang="hu-HU" sz="1000" spc="-1" strike="noStrike">
                <a:solidFill>
                  <a:srgbClr val="000000"/>
                </a:solidFill>
                <a:latin typeface="Arial"/>
              </a:rPr>
              <a:t>26.07.31.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2916000" y="6248520"/>
            <a:ext cx="3103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0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ff0000"/>
                </a:solidFill>
                <a:latin typeface="Arial"/>
              </a:rPr>
              <a:t>A projekt az Európai Unió társfinanszírozásával, az Európa terv keretében valósul meg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43A05-9B74-4DDD-A21E-8B7B86E2A72D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948360" y="0"/>
            <a:ext cx="2195640" cy="1123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716360" y="115920"/>
            <a:ext cx="2195640" cy="906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7524720" y="1197000"/>
            <a:ext cx="1419120" cy="14191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330066"/>
                </a:solidFill>
                <a:latin typeface="Arial"/>
              </a:rPr>
              <a:t>Információs rendszerek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Dr. Szenteleki Kár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B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Rózsa Tü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DE AVK G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EFOP 3.3.1–P-2004-06-0071/1.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MERIS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 MERISE-t Franciaország Ipari Minisztériuma fejlesztette ki az 1970-es évek végén (1976-1980) több szoftverház együttműködésével (közreműködött CGI Informatique, Bull and Sema Group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Két jelentősebb dialektusa van, az egyiknek a Sema Group, a másiknak a CGI Informatique a birtokos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ACBF-1D0D-4165-8A7F-9BEE06F902F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MERIS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 MERISE nyílt módszerta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Nagyon fontos tulajdonsága, hogy a projektvezetési módszertant és a szoftverfejlesztési módszertant összeötvözték, ezáltal egységes keretben folyhat a munk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E2D2-5D12-42A1-B607-C5F4E9EE324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MERIS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900" spc="-1" strike="noStrike">
                <a:solidFill>
                  <a:srgbClr val="000000"/>
                </a:solidFill>
                <a:latin typeface="Arial"/>
              </a:rPr>
              <a:t>Filozófia</a:t>
            </a:r>
            <a:br>
              <a:rPr sz="1900"/>
            </a:b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A MERISE-t olyan rendszerszemléletű módszertanok közé sorolhatjuk, amely alkalmazza a felülről lefelé lebontás eljárását. Nagy hangsúlyt helyez a rendszer szereplőinek, az emberi szereplőknek a nézőpontjára, ezenkívül a különböző modellek által feltárt tények és nézetek összeütköztetése és harmonizálása szintén lényeges alapelv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900" spc="-1" strike="noStrike">
                <a:solidFill>
                  <a:srgbClr val="000000"/>
                </a:solidFill>
                <a:latin typeface="Arial"/>
              </a:rPr>
              <a:t>Modellek</a:t>
            </a:r>
            <a:br>
              <a:rPr sz="1900"/>
            </a:b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Adat- és folyamatmodellt alakít ki, több szinten: fogalmi (vezetői szint), logikai (szervezeti, működési szint), fizikai (üzemeltetési, műszaki szint). Az entitás-kapcsolat modell egyik változatát használja, a folyamatok és az események leírására pedig Petri-háló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900" spc="-1" strike="noStrike">
                <a:solidFill>
                  <a:srgbClr val="000000"/>
                </a:solidFill>
                <a:latin typeface="Arial"/>
              </a:rPr>
              <a:t>Életciklus lefedése</a:t>
            </a:r>
            <a:br>
              <a:rPr sz="1900"/>
            </a:b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A teljes életciklust megpróbálja lefedni, ezért ún. életciklus-módszertannak is nevezik. A módszertan tartalmaz rendszermodellezési, projektirányítási, döntés-előkészítési és minőségbiztosítási feladatokat. Az egész folyamat a szervezet egészére vonatkozó stratégiai tervből indul ki, és nagyjából a vízesés életciklusmodelt követi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06FC-B211-47FE-9863-DFCA2EA3880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MERIS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600" spc="-1" strike="noStrike">
                <a:solidFill>
                  <a:srgbClr val="000000"/>
                </a:solidFill>
                <a:latin typeface="Arial"/>
              </a:rPr>
              <a:t>Leszállítandó termékek</a:t>
            </a:r>
            <a:br>
              <a:rPr sz="2600"/>
            </a:b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z életciklus egyes szakaszaihoz csatlakozó dokumentumhalmazokat kell előállítani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hosszú távú terv, informatikai stratégia kialakítása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helyzetfelmérő tanulmány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részletes elemzés leírása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megvalósítás és üzembe helyezés dokumentumai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üzemszerű működés és utómunkálatok dokumentuma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600" spc="-1" strike="noStrike">
                <a:solidFill>
                  <a:srgbClr val="000000"/>
                </a:solidFill>
                <a:latin typeface="Arial"/>
              </a:rPr>
              <a:t>Előfeltételezések</a:t>
            </a:r>
            <a:br>
              <a:rPr sz="2600"/>
            </a:br>
            <a:r>
              <a:rPr b="0" i="1" lang="hu-HU" sz="2600" spc="-1" strike="noStrike">
                <a:solidFill>
                  <a:srgbClr val="000000"/>
                </a:solidFill>
                <a:latin typeface="Arial"/>
              </a:rPr>
              <a:t>A MERISE 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feltételezi, hogy a rendszerfejlesztés célja egy információs rendszer létrehozása, azaz egy adatbázis-központú, tranzakció-orientált rendszer elkészítés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232D-DC95-4F05-A64A-4A4BFB97DC7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Information Engineering (IE, J. Martin)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Jelenleg a James Martin Associates forgalmazza </a:t>
            </a: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Information Engineering Method (IEM) 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néven, egy változatot pedig az Ernst &amp; Young. Finkelstein és Martin dolgozott ki egy módszertant a 70-es évek végé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000" spc="-1" strike="noStrike">
                <a:solidFill>
                  <a:srgbClr val="000000"/>
                </a:solidFill>
                <a:latin typeface="Arial"/>
              </a:rPr>
              <a:t>Az IE 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tulajdonképpen a strukturált módszertanok kiterjesztése az életciklusmodelben a rendszerszervezés és a stratégiai tervezés irányába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7482-F06A-4F3B-BD18-3D4714C9DFA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IE szakasza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informatikai stratégiai tervezés (Information System Strategy Planning, ISP</a:t>
            </a: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működési területek elemzése (Business Area Analysis, BAA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szervezeti rendszerterv készítése (Business Systems Design, BSD)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technikai, műszaki terv (Technical Design, TD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rendszerkészítés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áttéré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üzemszerű működé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8B9B-C960-47DA-97FB-5313B5D1246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I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100" spc="-1" strike="noStrike">
                <a:solidFill>
                  <a:srgbClr val="000000"/>
                </a:solidFill>
                <a:latin typeface="Arial"/>
              </a:rPr>
              <a:t>Filozófia</a:t>
            </a:r>
            <a:br>
              <a:rPr sz="2100"/>
            </a:b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Z IE a tudományos alapú, felülről lefelé haladó elemzést követő módszertan, adatközpontú, amely a szervezet igényeire helyez különösen nagy hangsúlyt. A különböző modellek keresztellenőrzése, helyességük ellenőrzése egymás eltérő nézőpontjához képest szintén fontos alapelv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100" spc="-1" strike="noStrike">
                <a:solidFill>
                  <a:srgbClr val="000000"/>
                </a:solidFill>
                <a:latin typeface="Arial"/>
              </a:rPr>
              <a:t>Modellek</a:t>
            </a:r>
            <a:br>
              <a:rPr sz="2100"/>
            </a:b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Magas szintű funkció- és adatmodellt készítenek a stratégiai tervezési szakaszban, majd részletesebbet a működési területek elemzése és a rendszertervezés szakaszában: funkcionális lebontási diagramot, részletes entitáskapcsolati diagramot, entitás-életciklusleírást és entitás-állapotmátrixot. A fizikai tervezéskor a fizikai eljárásokra, a folyamatok közti összefüggésekre, dialógusfolyamatokra készítenek modelleket, illetve fizikai adatbázisterve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1EB4-2090-4771-BF5F-9F7140C7DD3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I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900" spc="-1" strike="noStrike">
                <a:solidFill>
                  <a:srgbClr val="000000"/>
                </a:solidFill>
                <a:latin typeface="Arial"/>
              </a:rPr>
              <a:t>Életciklus lefedése</a:t>
            </a:r>
            <a:br>
              <a:rPr sz="1900"/>
            </a:b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A teljes életciklust megpróbálja lefedni, a stratégiai tervezéstől az üzemeltetésig, karbantartásig terjedőe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900" spc="-1" strike="noStrike">
                <a:solidFill>
                  <a:srgbClr val="000000"/>
                </a:solidFill>
                <a:latin typeface="Arial"/>
              </a:rPr>
              <a:t>Leszállítandó termékek</a:t>
            </a:r>
            <a:br>
              <a:rPr sz="1900"/>
            </a:b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Az életciklus egyes szakaszaihoz csatlakozó dokumentumhalmazokat kell előállítani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informatikai stratégia (ISP) kialakítása: magas szintű funkcionális modell, magas szintű adatmodell, CRUD (Create, Read, Update, Delete) mátrix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működési területek elemzése (BAA): részletes funkcionális lebontás, függőségi diagram, tevékenységdiagram, részletes entitás-kapcsolat diagram, entitás életciklus- és entitás-állapotmátrix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rendszertervezés (BSD): fizikai eljárások, folyamatok közti összefüggések, dialógusfolyamatok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technikai, műszaki terv (TD): fizikai adatbázisterv;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megvalósítás és üzembe helyezés dokumentumai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üzemszerű működés és utómunkálatok dokumentumai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B31F-5BB5-4019-A9D4-DB7CA957894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I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100" spc="-1" strike="noStrike">
                <a:solidFill>
                  <a:srgbClr val="000000"/>
                </a:solidFill>
                <a:latin typeface="Arial"/>
              </a:rPr>
              <a:t>Előfeltételezések</a:t>
            </a:r>
            <a:br>
              <a:rPr sz="2100"/>
            </a:br>
            <a:r>
              <a:rPr b="0" i="1" lang="hu-HU" sz="2100" spc="-1" strike="noStrike">
                <a:solidFill>
                  <a:srgbClr val="000000"/>
                </a:solidFill>
                <a:latin typeface="Arial"/>
              </a:rPr>
              <a:t>A IE 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feltételezi, hogy a rendszerfejlesztés célja egy információs rendszer létrehozása, azaz egy adatbázis-központú, tranzakció-orientált rendszer elkészítése, amelyet a nulláról indulva hoznak létre a szervezet stratégiai céljainak támogatására.</a:t>
            </a:r>
            <a:br>
              <a:rPr sz="2100"/>
            </a:b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Ez a módszertan a fogantatásától fogva erős technológiai támogatást tételezett fel, nevezetesen valamilyen CASE eszköz alkalmazását. Noha ezt a módszertant is lehet követni manuálisan, de nagy könnyítést jelent egy alkalmas technológia segítsége, a keresztellenőrzések nagyobb szigorúságának, kódgenerálásnak, és a képernyő- és jelentéstervezés automatizálása révé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17EE-5971-4128-A844-21BD05D2A7B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Fejlesztési projek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 tapasztalatok azt mutatják, hogy egy sikeres rendszerfejlesztés nemcsak egy koherens és jól definiált technikai/műszaki megközelítést igényel, hanem nagyon gondos </a:t>
            </a: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irányításra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 és </a:t>
            </a: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koordinációra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 van szükség ahhoz, hogy a technikák alkalmazása a fejlesztés során költségtakarékosan történjék, és a projekt költségvetésében meghatározott keretek között maradj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C6B0-7182-4E21-8547-65D1731B096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330066"/>
                </a:solidFill>
                <a:latin typeface="Arial"/>
              </a:rPr>
              <a:t>Információs rendszerek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48880" y="3049200"/>
            <a:ext cx="6248520" cy="29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Rendszerfejlesztési módszertanok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gyakorlatb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4F6F8-0AA2-4ECD-A2D9-4D703B8ADC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Projektirányítási techniká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Döntési kritériumo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döntési kritériumok módszere több különböző technikát foglal magában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döntéselméle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ini-max kritériumok st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felhasználó számára az ide tartozó technikák lehetővé teszik, hogy a piaci helyzet értékelése alapján, saját elvárásaira támaszkodva hozzon döntéseket. A döntési kritériumok, a vezetési tapasztalatok együtt segítik a tevékenységek optimális sorozatának a kialakítását, amelyet a becsült számadatokra alapozva határoznak meg. Ennek alapján a projekt életképességéről, megvalósíthatóságáról lehet következtetést levonni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D2A7-78F2-4256-9AB8-A4BE424D829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Projektirányítási techniká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000000"/>
                </a:solidFill>
                <a:latin typeface="Arial"/>
              </a:rPr>
              <a:t>Gantt-diagra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A legfontosabb projekt-mérföldköveket tartalmazza. Az elvégzendő feladatokat mutatja meg, elkülönített módon egy diagramon, ahol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 feladatok megnevezése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 tervezett időkeretek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esetleg az egyes feladatok végrehajtásáért felelős személyek, csoportok megnevezése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 minőségi szemlék, és a végleges befejezés tervezett ideje jelenik meg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A Gantt-diagram egy könnyen áttekinthető táblázat, amiből az esedékes határidők könnyen láthatók, és a feladatok teljesítéséhez mérten a projekt előrehaladása követhető. A hátránya viszont az, hogy ha egy feladat nem teljesült időre, akkor ennek a hatását a többi feladatra és az egész projektre nehezen lehet áttekinteni. A többi projekt változó értékét sem ábrázolja, nevezetesen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erőforrás-felhasználás és -ütemezés (emberi, gépi stb.);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 tervezett és aktuális költségfelhasználást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1EF0-D8B8-4AB5-925B-03D551BA739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Projektirányítási techniká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62120" indent="-76212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000000"/>
                </a:solidFill>
                <a:latin typeface="Arial"/>
              </a:rPr>
              <a:t>Hálótervek (tevékenység hálók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762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A hálótervezés célja az emberi és egyéb erőforrások, a költségek kézben tartása egy fejlesztési projekt sorá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Az elméleti alapokat az Amerikai Egyesült Államok Haditengerészetének egyik projektje keretében dolgozták ki (US Navy, Special Projects Office, 1958). Ezt a technikát nevezték el PERT (Project Evaluation and Review Technique, projekt értékelési és követési technika). Egy másik változatát kritikus út módszernek hívják (Critical Path Analysis, CPA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Az ábrán csomópontok jelennek meg (négyzetek, vagy körök ábrázolják), amelyek az elvégzendő feladatoknak felelnek meg ( ezeket eseményeknek nevezzük). A köztük vezető vonalak a feladatok végrehajtását és a köztük fennálló összefüggéseket jelenítik meg (ezeket tevékenységeknek nevezzük), ki kit előz meg és mi után következik. A diagram egyes elemeihez további adatok kapcsolódnak, mint például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004760" indent="-660240">
              <a:lnSpc>
                <a:spcPct val="80000"/>
              </a:lnSpc>
              <a:spcBef>
                <a:spcPts val="32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Arial"/>
              </a:rPr>
              <a:t>a feladatok (események) kezdési és befejezési idej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004760" indent="-660240">
              <a:lnSpc>
                <a:spcPct val="80000"/>
              </a:lnSpc>
              <a:spcBef>
                <a:spcPts val="32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Arial"/>
              </a:rPr>
              <a:t>a ( tevékenységek) végrehajtási időtartama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Ezekből az adatokból meghatározható a kritikus út, amely megmutatja azokat a tevékenységeket és eseményeket, amelyek végrehajtására, illetve bekövetkezésére a legnagyobb figyelmet kell fordítani, valamint kiszámolható a kritikus út hossza, amely azt az időt mutatja, amelynél rövidebb idő alatt a projekt nem hajtható végr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D323-6A96-48B2-B453-A43BAF18B13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PRIN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PRINCE 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PR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ojects </a:t>
            </a: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IN C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ontrolled </a:t>
            </a: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nvironments) egy olyan strukturált projektvezetési módszertan, amely információs rendszerek </a:t>
            </a: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(IS) 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készítésének, előrehaladásának és minőségének ellenőrzésére szolgál. A tulajdonosa a </a:t>
            </a: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CCTA 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(Central Computer and Telecommunications Agency) Nagy-Britanniába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Célja, hogy a különböző szintű vezetők, a felhasználók és a fejlesztők súrlódásmentesen tudjanak együtt dolgozni annak érdekében, hogy a projekt célkitűzéseit a lehető legmagasabb minőségi színvonalon teljesítsék. </a:t>
            </a:r>
            <a:r>
              <a:rPr b="0" i="1" lang="hu-HU" sz="2100" spc="-1" strike="noStrike">
                <a:solidFill>
                  <a:srgbClr val="000000"/>
                </a:solidFill>
                <a:latin typeface="Arial"/>
              </a:rPr>
              <a:t>A PRINCE-t 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kormányzati igények kielégítésére tervezték, de más területeken is alkalmazható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11FA-F497-466A-9FC3-E1F8DF38EEF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PRIN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900" spc="-1" strike="noStrike">
                <a:solidFill>
                  <a:srgbClr val="000000"/>
                </a:solidFill>
                <a:latin typeface="Arial"/>
              </a:rPr>
              <a:t>A PRINCE 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előírja, hogy milyen „termékeknek” kell létrejönniük, például minőségbiztosítási kézikönyv, ütemtervek, erőforrástervek stb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Megkülönbözteti a </a:t>
            </a:r>
            <a:r>
              <a:rPr b="1" lang="hu-HU" sz="1900" spc="-1" strike="noStrike">
                <a:solidFill>
                  <a:srgbClr val="000000"/>
                </a:solidFill>
                <a:latin typeface="Arial"/>
              </a:rPr>
              <a:t>vezetés/irányítás, 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900" spc="-1" strike="noStrike">
                <a:solidFill>
                  <a:srgbClr val="000000"/>
                </a:solidFill>
                <a:latin typeface="Arial"/>
              </a:rPr>
              <a:t>műszaki fejlesztés 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és a </a:t>
            </a:r>
            <a:r>
              <a:rPr b="1" lang="hu-HU" sz="1900" spc="-1" strike="noStrike">
                <a:solidFill>
                  <a:srgbClr val="000000"/>
                </a:solidFill>
                <a:latin typeface="Arial"/>
              </a:rPr>
              <a:t>minőségbiztosítás 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termékeit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Javaslatot tesz a projekt </a:t>
            </a:r>
            <a:r>
              <a:rPr b="0" i="1" lang="hu-HU" sz="1900" spc="-1" strike="noStrike">
                <a:solidFill>
                  <a:srgbClr val="000000"/>
                </a:solidFill>
                <a:latin typeface="Arial"/>
              </a:rPr>
              <a:t>szervezeti felépítésére, 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a vezetés struktúrájára, a projektben betöltendő </a:t>
            </a:r>
            <a:r>
              <a:rPr b="0" i="1" lang="hu-HU" sz="1900" spc="-1" strike="noStrike">
                <a:solidFill>
                  <a:srgbClr val="000000"/>
                </a:solidFill>
                <a:latin typeface="Arial"/>
              </a:rPr>
              <a:t>szerepekr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Az információs rendszerek fejlesztésének tipikus szakaszolására is ajánlásokat határoz meg. Rögzíti ebben a projektstruktúrában a beszámolási útvonalakat, időpontokat, az előrehaladás kiértékelésének módját, gyakoriságát, a projekt szereplői közötti hivatalos érintkezés mikéntjé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Különös hangsúlyt helyez az egyes szakaszokat megelőző tervezési és definíciós lépésekre. Ezáltal a megfelelő vezetési szintek áttekintést kaphatnak a megvalósítást megelőző fázisban, és így elegendő információ birtokában hozhatják meg döntéseiket, kötelezhetik el magukat a projekt folytatása mellett, tudatában lévén az erőforrás- és költségigényeknek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8BC4-BF15-4EDA-A40A-3D923B5C895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SD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z </a:t>
            </a: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SDM (System Development Methodology) 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első változata 1974-ben jelent meg, egy újabb pedig 1978-ban, eredetileg a PANDATA dolgozta ki. Az </a:t>
            </a: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SDM II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-nek nevezett változatot a CAP GEMINI PUBLISHING publikálta a 80-as évekb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C70B-0479-4E29-B121-00E86BD1124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SD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z </a:t>
            </a:r>
            <a:r>
              <a:rPr b="0" i="1" lang="hu-HU" sz="2600" spc="-1" strike="noStrike">
                <a:solidFill>
                  <a:srgbClr val="000000"/>
                </a:solidFill>
                <a:latin typeface="Arial"/>
              </a:rPr>
              <a:t>SDM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tulajdonképpen </a:t>
            </a: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projektirányítási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módszerta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Főleg a rendszerfejlesztés megtervezésével és megszervezésével foglalkozik, az információs rendszer életciklusában megjelenő folyamatokat írja le a karbantartásig bezárólag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Előnyben részesíti a felülről lefelé haladó folyamatlebontást - amit lépésenkénti finomítással kombinál -, a jól definiált mérföldkövekhez kötött termékeket/dokumentumokat, amiket a projekt vezetésében, tervezésében és irányításában lehet használn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E684-F46C-4349-820D-C51FFE7E142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SD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100" spc="-1" strike="noStrike">
                <a:solidFill>
                  <a:srgbClr val="000000"/>
                </a:solidFill>
                <a:latin typeface="Arial"/>
              </a:rPr>
              <a:t>Az SDM filozófiája az, 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hogy egy módszernek elsődlegesen a projektek megtervezésével és megszervezésével kel foglalkoznia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Ezért a PRINCE-hez hasonlóan nem próbálja a projektirányítási módszereket egy adott fejlesztési módszertanba ágyazni; noha egy kiinduló, alapértelmezésként kezelt szakaszfelosztást és tevékenységhalmazt javaso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100" spc="-1" strike="noStrike">
                <a:solidFill>
                  <a:srgbClr val="000000"/>
                </a:solidFill>
                <a:latin typeface="Arial"/>
              </a:rPr>
              <a:t>Az SDM az 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informatikai rendszerek, és a felhasználók készítésének igényeire koncentrál; sőt manuális információs rendszerekre is alkalmazható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z </a:t>
            </a:r>
            <a:r>
              <a:rPr b="0" i="1" lang="hu-HU" sz="2100" spc="-1" strike="noStrike">
                <a:solidFill>
                  <a:srgbClr val="000000"/>
                </a:solidFill>
                <a:latin typeface="Arial"/>
              </a:rPr>
              <a:t>SDM 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egyaránt hangsúlyt helyez </a:t>
            </a:r>
            <a:r>
              <a:rPr b="0" i="1" lang="hu-HU" sz="2100" spc="-1" strike="noStrike">
                <a:solidFill>
                  <a:srgbClr val="000000"/>
                </a:solidFill>
                <a:latin typeface="Arial"/>
              </a:rPr>
              <a:t>a tevékenységekre 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és </a:t>
            </a:r>
            <a:r>
              <a:rPr b="0" i="1" lang="hu-HU" sz="2100" spc="-1" strike="noStrike">
                <a:solidFill>
                  <a:srgbClr val="000000"/>
                </a:solidFill>
                <a:latin typeface="Arial"/>
              </a:rPr>
              <a:t>a termékekre, 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és ezt a két megközelítési oldalt megpróbálja kiegyensúlyozni. A termékek formáját és tartalmát a kiválasztott rendszerfejlesztési módszertan szolgáltatj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BB0A-1EBE-467D-94E2-EB56D0F3C67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SD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z SDM életciklus-felfogása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információs rendszer stratégiai tervezé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helyzetfelmérés (követelményspecifikáció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rendszertervezé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részletes fizikai tervezés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megvalósítá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üzembe helyezé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üzemeltetés, ellenőrzés stb. (a folyamatos informatikai szolgáltatások részeként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EB5A-B104-407D-80B2-A8ACD293168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SD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Ennek a módszertannak különös erőssége az, hogy a teljes életciklust lefedi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Negatív oldalának azt tartják, hogy túlságosan is rugalmas abban a tekintetben, hogy szabadon megengedi más módszertanoktól, módszerektől a bevált technikák átvételé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AEB7-7CF5-4050-9F1F-BCE8FD3C21E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z óra tematikáj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SSAD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MERI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Information Enginee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PRI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SD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Információs rendszeradaptáció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7036-F2D0-4977-8917-5D2B94E0A94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500" spc="-1" strike="noStrike">
                <a:solidFill>
                  <a:srgbClr val="330066"/>
                </a:solidFill>
                <a:latin typeface="Arial"/>
              </a:rPr>
              <a:t>Információs rendszeradaptációk készítésének szakaszai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z információs rendszerek fejlesztése a konkrét szoftverfejlesztésnél nagyobb területet fog át, így itt módszertanonként különböző szakaszolással találkozhatun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z információs rendszerek stratégiai tervezése magába foglalja 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rendszerelemzést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rendszertervezést és 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rendszerkészítés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z Euromethod ezt összefoglaló névvel </a:t>
            </a: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információs rendszeradaptációnak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nevezi (IR-adaptáció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E7BD-6230-4DD5-B33D-272C74C4A0A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900" spc="-1" strike="noStrike">
                <a:solidFill>
                  <a:srgbClr val="330066"/>
                </a:solidFill>
                <a:latin typeface="Arial"/>
              </a:rPr>
              <a:t>Információs rendszerek stratégiai tervezés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szervezet tevékenységét, működését elemzi, de nem olyan részletességgel, mint amikor egy konkrét rendszert akarunk megtervezni, amely egy adott tevékenység egészét vagy annak egy részét segítené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z információs rendszerek stratégiai tervének meg kell jelölnie azokat a rendszereket, amelyeket létre kellene hozni, és azt a sorrendét, amelyben a kivitelezésük megtörténhetne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rákövetkező szakaszok a szervezet, illetve a működés, a tevékenységek egyre szűkebb körére koncentrálnak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Ennek a szakasznak a végterméke, a megrendelőnek átadandó terméke a leendő információs rendszerek terveinek egy portfoliója, melyet tulajdonképpen tervezési terméknek tekinthetünk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D907-6806-46B6-B97B-B60D8CB97DC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900" spc="-1" strike="noStrike">
                <a:solidFill>
                  <a:srgbClr val="330066"/>
                </a:solidFill>
                <a:latin typeface="Arial"/>
              </a:rPr>
              <a:t>Rendszerelemzé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Ez a szakasz a szervezet egy meghatározott működési területének helyzetét vizsgálja meg, amely alapján helyzetfelmérési tanulmányt készítenek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létező információs rendszereket tanulmányozzák, akár manuális akár automatizált rendszerről is legyen szó. Elemzik, hogy valójában mit is csinálnak a szervezetben, és tulajdonképpen mit kellene tenni ahhoz, hogy egy sokkal fejlettebb információs rendszer működését támogassák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Ebben a szakaszban is keletkezik egy a megrendelőnek átadandó termék, amit ugyanakkor a rendszerelemzés termékének tekinthetünk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Ez a szakasz leíró és nem előíró jellegű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9454-47B4-4C49-9AF9-AF850B03BA5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900" spc="-1" strike="noStrike">
                <a:solidFill>
                  <a:srgbClr val="330066"/>
                </a:solidFill>
                <a:latin typeface="Arial"/>
              </a:rPr>
              <a:t>Rendszertervezé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rendszertervezési szakasz a leendő információs rendszerre vonatkozó előírást állít elő általában elektronikus formában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z alkalmazási terület kiterjedése sokkal szűkítettebb, mint a megelőző rendszerelemzési szakaszban vizsgált területé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Gyakran a tervezési szakasz eredményeként megjelenő </a:t>
            </a:r>
            <a:r>
              <a:rPr b="0" i="1" lang="hu-HU" sz="2100" spc="-1" strike="noStrike">
                <a:solidFill>
                  <a:srgbClr val="000000"/>
                </a:solidFill>
                <a:latin typeface="Arial"/>
              </a:rPr>
              <a:t>tervezési termék 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független a rendszer létrehozása során használandó eszközöktől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zonban sokszor már ekkor lehet tudni, hogy mik lesznek a készítés során használt eszközök, és ezeknek a tulajdonságait figyelembe lehet venni, különösen teljesítménytervezési szempontbó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1ADE-8B3E-45AC-9B89-B2148A15767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900" spc="-1" strike="noStrike">
                <a:solidFill>
                  <a:srgbClr val="330066"/>
                </a:solidFill>
                <a:latin typeface="Arial"/>
              </a:rPr>
              <a:t>Rendszerkészítés (létrehozá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rendszerkészítési tevékenység tulajdonképpen nagymértékben függ a rendelkezésre álló hardver- és szoftverkörnyezettől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rendszerfejlesztési környezet általában a következő eszközöket tartalmazz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datbázis-kezelő rendszer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datszótárak, repozitóriumok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képernyőtervező eszközök, grafikus felhasználói felületet tervező eszközök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tranzakció-feldolgozó eszközök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programozási nyelvek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lkalmazás generátoro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60D7-B67B-420E-B1AB-40A18B1325E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Fontos fogalma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Módszertanok fontossága a rendszerfejlesztési folyamatb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Rendszerfejlesztési módszertanok alapfilózófiája, , modelljeik, termékeik, életciklus lefedésük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SSAD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MERI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Information Enginee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PRI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SD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Információs rendszeradaptáció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E890-BFD0-4CE6-923D-0C3C37EF3D4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330066"/>
                </a:solidFill>
                <a:latin typeface="Arial"/>
              </a:rPr>
              <a:t>Köszönöm a figyelmet!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59054-CE9B-4321-9803-7C84B212F40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Az információs rendszerek (iparszerű) készítésének nagyon fontos segédeszközei a szoftveréletciklus több fázisát, illetve egyes fázisait támogató módszertanok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Hosszú évek kutatásai/fejlesztései során alakultak ki a jelenlegi módszertanok jellemzői, az ún. strukturált módszerek alkalmazása és a különböző diagramtechnikák, amelyek közérthető ábrák felhasználásával jelentősen megkönnyítik a műszaki/technikai szakemberek és végfelhasználók közötti kommunikációs szakadék leküzdésé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Nagy-Britanniában, Franciaországban és Hollandiában egyértelműen vezető szerepet játszanak a kormányzati szabványok, nevezetesen </a:t>
            </a:r>
            <a:r>
              <a:rPr b="0" i="1" lang="hu-HU" sz="1900" spc="-1" strike="noStrike">
                <a:solidFill>
                  <a:srgbClr val="000000"/>
                </a:solidFill>
                <a:latin typeface="Arial"/>
              </a:rPr>
              <a:t>az </a:t>
            </a:r>
            <a:r>
              <a:rPr b="1" i="1" lang="hu-HU" sz="1900" spc="-1" strike="noStrike">
                <a:solidFill>
                  <a:srgbClr val="000000"/>
                </a:solidFill>
                <a:latin typeface="Arial"/>
              </a:rPr>
              <a:t>SSADM, </a:t>
            </a:r>
            <a:r>
              <a:rPr b="0" i="1" lang="hu-HU" sz="19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hu-HU" sz="1900" spc="-1" strike="noStrike">
                <a:solidFill>
                  <a:srgbClr val="000000"/>
                </a:solidFill>
                <a:latin typeface="Arial"/>
              </a:rPr>
              <a:t>MERISE 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és </a:t>
            </a:r>
            <a:r>
              <a:rPr b="0" i="1" lang="hu-HU" sz="1900" spc="-1" strike="noStrike">
                <a:solidFill>
                  <a:srgbClr val="000000"/>
                </a:solidFill>
                <a:latin typeface="Arial"/>
              </a:rPr>
              <a:t>az </a:t>
            </a:r>
            <a:r>
              <a:rPr b="1" i="1" lang="hu-HU" sz="1900" spc="-1" strike="noStrike">
                <a:solidFill>
                  <a:srgbClr val="000000"/>
                </a:solidFill>
                <a:latin typeface="Arial"/>
              </a:rPr>
              <a:t>SDM(részletes kifejtésüket lásd később).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Nemcsak az országos és helyi kormányzatokban folyó rendszerfejlesztésekben, hanem más alkalmazási területeken is használják ezeket a módszertanokat, vagy a módszertanok egyes elemeit, például pénzügyi és biztosítási rendszerek, ipari gyártórendszerek, kis- és nagykereskedelem, stb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A strukturált rendszerelemzési/-fejlesztési technikákat döntően nagy és közepes projektekben használták, de néhány kisebb munkában is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F033-7658-4E7D-B2C9-33C1B96AD5B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Strukturált módszertano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 strukturált módszertanok fejlődése több évtizedre tekint vissza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Ennek köszönhetően a legjobban kidolgozott, érett módszertanok alkalmas eljárás- és technikahalmazzal tartalmazna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Ezek a módszertanok azért jöttek létre, hogy az információs rendszerek tervezésének minőségi problémáit kezeljék, illetve enyhítsék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5E5A-9AD6-4DDD-8666-608E792F57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SSAD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z </a:t>
            </a: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SSADM 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(Structured Systems Analysis and Design Method) tulajdonosa a </a:t>
            </a: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CCTA 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(Central Computer and Telecommunications Agency), amely Nagy-Britannia pénzügy-minisztériumához tartozik, és a kormányzati információs rendszerek beszerzése és készítése felett lát el felügyeletet, valamint az információs rendszerek és az informatika területén a kormányzati politikát alakítja ki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továbbfejlesztését a Nemzetközi SSADM Felhasználók Csoportja (International SSADM User's Group, ISUG), illetve annak egy arra illetékes testülete felügyeli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5250-C5E5-4D70-B290-5F8B0ACBCAD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SSAD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100" spc="-1" strike="noStrike">
                <a:solidFill>
                  <a:srgbClr val="000000"/>
                </a:solidFill>
                <a:latin typeface="Arial"/>
              </a:rPr>
              <a:t>Az SSADM 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tulajdonképpen eljárási, műszaki és dokumentációs szabványok gyűjteménye, amelyet úgy terveztek meg, hogy kifejezetten a rendszerelemzést és a szoftverfejlesztést támogassa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Két fő részből áll, az egyik a felhasználói követelmények elemzése, a másik a rendszer tervezése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Ezeket a részeket szakaszokra és lépésekre tagolj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100" spc="-1" strike="noStrike">
                <a:solidFill>
                  <a:srgbClr val="000000"/>
                </a:solidFill>
                <a:latin typeface="Arial"/>
              </a:rPr>
              <a:t>Az SSADM 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egyik legfontosabb tulajdonsága, hogy rugalmas, azaz az adott (fejlesztési) körülményekhez igazítható, továbbá az egyik leghatékonyabb módszer, amely olyan szervezetek rendelkezésére áll, amelyeknek szabványos rendszerfejlesztési filozófiára és megközelítésre van szükségük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100" spc="-1" strike="noStrike">
                <a:solidFill>
                  <a:srgbClr val="000000"/>
                </a:solidFill>
                <a:latin typeface="Arial"/>
              </a:rPr>
              <a:t>Az SSADM 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nyílt rendszer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F15D-DEF6-4892-A43C-AB0E0D3E8E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SSAD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Filozófia</a:t>
            </a:r>
            <a:br>
              <a:rPr sz="2100"/>
            </a:b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z SSADM a különböző nézetek tudatos ütköztetésére, az adatvezérelt, folyamatközpontú és eseményirányított megközelítések tudatos kompromisszumának kialakítására törekszik. Alapvetően felülről lefelé haladó és adatközpontú elemzési és tervezési módszer, valamint nagy hangsúlyt helyez a felhasználók bevonására. Strukturált módszertan, ezért a tudományos alapúak közé soroljuk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100" spc="-1" strike="noStrike">
                <a:solidFill>
                  <a:srgbClr val="000000"/>
                </a:solidFill>
                <a:latin typeface="Arial"/>
              </a:rPr>
              <a:t>Modellek</a:t>
            </a:r>
            <a:br>
              <a:rPr sz="2100"/>
            </a:b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z entitáskapcsolat, adatfolyam, entitás-élettörténet és esemény-hatás diagramok (Jackson-szerű diagramok), valamint a relációs technika azok a legfontosabb eszközök, amelyekkel modellezi, leírja a rendszer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59EE-8D40-4675-A7E8-218B8C7CDF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SSAD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500" spc="-1" strike="noStrike">
                <a:solidFill>
                  <a:srgbClr val="000000"/>
                </a:solidFill>
                <a:latin typeface="Arial"/>
              </a:rPr>
              <a:t>Életciklus lefedése</a:t>
            </a:r>
            <a:br>
              <a:rPr sz="1500"/>
            </a:br>
            <a:r>
              <a:rPr b="0" i="1" lang="hu-HU" sz="1500" spc="-1" strike="noStrike">
                <a:solidFill>
                  <a:srgbClr val="000000"/>
                </a:solidFill>
                <a:latin typeface="Arial"/>
              </a:rPr>
              <a:t>Az SSADM </a:t>
            </a: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nem foglalkozik informatikai stratégiai tervezéssel (de feltételezi a létét pontosabban a rövid projektspecifikációk/-meghatározások létét), az opcionális megvalósíthatósági tanulmány készítésétől a fizikai rendszertervezéséig terjedően fedi le a rendszerelemzés és a -tervezés szakaszait. Vagyis csak részleges, nem teljes az életciklus lefedése. </a:t>
            </a:r>
            <a:r>
              <a:rPr b="0" i="1" lang="hu-HU" sz="1500" spc="-1" strike="noStrike">
                <a:solidFill>
                  <a:srgbClr val="000000"/>
                </a:solidFill>
                <a:latin typeface="Arial"/>
              </a:rPr>
              <a:t>Az SSADM </a:t>
            </a: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nem</a:t>
            </a:r>
            <a:r>
              <a:rPr b="0" i="1" lang="hu-H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foglalkozik a rendszerkészítés, -karbantartás, üzembe helyezés és egyéb kiegészítő területek (ide értve a projektirányítást is) módszereivel se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500" spc="-1" strike="noStrike">
                <a:solidFill>
                  <a:srgbClr val="000000"/>
                </a:solidFill>
                <a:latin typeface="Arial"/>
              </a:rPr>
              <a:t>Leszállítandó termékek</a:t>
            </a:r>
            <a:br>
              <a:rPr sz="1500"/>
            </a:b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Alapértelmezésben mindegyik szakasz végén egy pontosan meghatározott dokumentációkészletet kell átadni, amelyek az adott szakaszban alkalmazott modellezési eljárások és technikák eredményeit tartalmazzák, például az adatfolyammodell és a logikai adatszerkezet dokumentumai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500" spc="-1" strike="noStrike">
                <a:solidFill>
                  <a:srgbClr val="000000"/>
                </a:solidFill>
                <a:latin typeface="Arial"/>
              </a:rPr>
              <a:t>Előfeltételezések</a:t>
            </a:r>
            <a:br>
              <a:rPr sz="1500"/>
            </a:br>
            <a:r>
              <a:rPr b="0" i="1" lang="hu-HU" sz="1500" spc="-1" strike="noStrike">
                <a:solidFill>
                  <a:srgbClr val="000000"/>
                </a:solidFill>
                <a:latin typeface="Arial"/>
              </a:rPr>
              <a:t> Az SSADM </a:t>
            </a: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feltételezi, hogy a rendszerfejlesztés célja egy információs rendszer létrehozása, azaz egy adatbázis-központú, tranzakció-orientált rendszer elkészítése. Feltételezi, hogy létezik a szervezet meghatározott, kezelhető méretű részére vonatkozó projektalapító okirat, amire alapozva indulhat a munka. Továbbá a szervezetben van elfogadott projektirányítási módszertan és gyakorlat, valamint több területre kiterjedő szabályok, helyi szabványok és előírások (szervezeti és alkalmazási szintű felhasználói felület tervezésére vonatkozó útmutatók, programozási, kódolási, biztonsági szabványok stb.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0F8B-0545-4174-B9A9-B3077507F54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ózsa Tünde</cp:lastModifiedBy>
  <dcterms:modified xsi:type="dcterms:W3CDTF">2007-10-24T12:57:05Z</dcterms:modified>
  <cp:revision>105</cp:revision>
  <dc:subject/>
  <dc:title>PowerPoint bemutató</dc:title>
</cp:coreProperties>
</file>