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1207-5ABF-4136-A40A-A6557183D08E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103-A780-4149-96E9-BC1DB9CC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146-B254-42DA-9AEF-B2034745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9FC-9F62-450F-AA22-F2C889BF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839-B9FF-495E-B765-684D1DB5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1BA-11D7-4C80-8B18-EC639CC3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A0BA-1172-4AC3-9A05-BFF4E7E4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A77A-D292-48FA-9C16-B7D2B029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0B26-1D4A-4ACE-87E9-410C937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ACB5-A9A8-4D22-BBC1-7BC1C50C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6AF3-93BA-427C-A085-5C23A7D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E3FD-02A4-4845-8BFF-0D3827F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3CE-4914-49CF-8C5A-DE1F93B6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714C-CCA8-4789-A831-521C664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0B3B-B219-4F85-A22E-E822B23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FE2C-1F2E-49FA-B784-AFBB6EDE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6618-E44A-4DE8-A5A7-AEC42E21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AEC7-4083-4440-BD66-12DF7C93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34B-9D23-464E-BA23-09B80783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8D8-CE91-4DE8-95D1-7F204ED5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9F3-29B7-468D-8FBF-3799D900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C89-7906-48C9-BB4E-AC4126C4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165-F1A5-4A37-A153-927D7156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8E6-1723-42FA-AF77-87EBFED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3C8-B628-4FEB-AD79-C33F862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54D-1201-4414-A4DD-DF66AF86689F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C2DA-0C1A-4272-AA82-3B4809DBE76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B072-709F-45E8-97EE-C47E303BAC41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500-C5CE-4B2B-8DE8-0778037A64D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b-system.com/home/index.php?content=produkte/qls/qls&amp;language=945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0066"/>
                </a:solidFill>
                <a:latin typeface="Arial"/>
              </a:rPr>
              <a:t>Az AGRO-MAP egy térinformatikai szoftver, mely képes grafikus adatok létrehozására, karbantartására, elemzésére és megjelenítésére. Kezeli a vektoros és raszteres adatokat egyaránt, és számos elemzésre ad lehetőséget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rendszer néhány szolgáltatása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eíró adatok és térképi információk összekapcsolá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Lekérdezés, szűré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matikus térképezé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Rétegek egymásra illesztés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éretarányos nyomtatá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mport, export műveletek támogatás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utomatikus jelmagyarázat-készíté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onaltípusok, kitöltési minták, megírások definiálás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A88-CDAE-4DD4-B2D9-DD6E6BB36C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 u="sng">
                <a:solidFill>
                  <a:srgbClr val="330066"/>
                </a:solidFill>
                <a:uFillTx/>
                <a:latin typeface="Arial"/>
              </a:rPr>
              <a:t>Sertéstelepi információs rendszer (AGRI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F62-2946-47D6-B51E-99A5989B9A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 u="sng">
                <a:solidFill>
                  <a:srgbClr val="330066"/>
                </a:solidFill>
                <a:uFillTx/>
                <a:latin typeface="Arial"/>
              </a:rPr>
              <a:t>Szarvasmarha telep információs rendszere (AGRI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Tehenészetek teljes körű tenyésztési, termelési nyilvántartása: tervezés, nyilvántartás és elemzé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gyedek, takarmányozási csoportok, befejések adatvezetése teszi lehetővé a helyes állományfigyelés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mindennapi munkát megkönnyítő listák is rendelkezésre állnak, ilyenek a napi elvégzendő teendők listája, a meddőségi és vemhességvizsgálatra küldött tehenek csoportja, az elkülönített és tőgykezelt csoport adatainak kezelés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program segít kiválasztani a bikaborjak és növendékek közül a továbbtenyésztésre alkalmas egyedeke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dolgozók adatainak tárolására is lehetőség van, az egyes dolgozók által elvégzett munkák, és ezek díjazásából a szoftver automatikusan számítja a dolgozónak a munkáért járó bér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A napi tejhozam és a napi tejadatok naplózása, összesítése, átlagok számítás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datkapcsolatok a főbb ellenőrző szervek felé és viszont: ellenőrző fejések adatainak beolvasása a programba, ENÁR bejelenté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847-2F01-43FD-A448-5731896F0E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 RISKA telepirányítási rendszer a gyakorlatb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rogramrendszer fő modulja, a tenyésztési progra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Része a tehénállomány nyilvántartó, amely a telepi alapnyilvántartásból gyűjti a származási, termelési, tenyésztési adatok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olyamatosan felvitt adatokból a program eseménynaptárt készít, ahol a tehén összes adata időrendi sorrendben áttekinthető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rogram 20 rokonsági szintig keres anyai, nagyanyai háttere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823-95A4-4F76-B588-B97E6CE9FC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 u="sng">
                <a:solidFill>
                  <a:srgbClr val="330066"/>
                </a:solidFill>
                <a:uFillTx/>
                <a:latin typeface="Arial"/>
              </a:rPr>
              <a:t>Juh állomány és egyednyilvántartá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SZÁMADÓ® Juh Telepirányítási Rendsz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yilvántartandó, gyűjtendő adato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nyészet, telep adata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ármazási adato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nyésztési adato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örzskönyvi nyilvántartásban tartott egyed(ek)től született bárányok adat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nyészkosok, növendék kosok adat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sterséges termékenyítés adat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llési adato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iesési adato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stsúlymérések adat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rmelési adat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Gyapjútermelési adato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jtermelési adato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üllemi bírálat adat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9F7-FC80-43C7-80EB-6123613FB1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0066"/>
                </a:solidFill>
                <a:latin typeface="Arial"/>
              </a:rPr>
              <a:t>HEGYIR-BORIR-NETIR</a:t>
            </a:r>
            <a:br>
              <a:rPr sz="1400"/>
            </a:br>
            <a:r>
              <a:rPr b="1" lang="hu-HU" sz="1400" spc="-1" strike="noStrike">
                <a:solidFill>
                  <a:srgbClr val="330066"/>
                </a:solidFill>
                <a:latin typeface="Arial"/>
              </a:rPr>
              <a:t>A HEGYIR informatikai rendszer alapvető és legfontosabb célja - a hegyközségekről szóló 1994. évi CII. törvény által megfogalmazott adatgyűjtési, nyilvántartási és adatszolgáltatási kötelezettségek teljesítése mellett - a hegyközségek teljes körű támogatása hatósági, szakmai, ügyviteli és pénzügyi tevékenységük során.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16800" cy="454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030-1995-4C98-8883-C38229D1A5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HEGYIR kezelőfelüle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37765" b="27685"/>
          <a:stretch/>
        </p:blipFill>
        <p:spPr>
          <a:xfrm>
            <a:off x="684360" y="1495440"/>
            <a:ext cx="7416720" cy="463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B93-9F98-4634-B9C7-EC1806A7BC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ejip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CSB-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637000"/>
            <a:ext cx="324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Beszerzé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jpénz elszámolá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vóta kezel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ntegrált beszerzés kezel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erződés kezel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everés kezel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ntegrált terv-tény kiegyenlítés az anyagmérlegb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833760"/>
            <a:ext cx="27208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aktár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rületeket átfogó diszpozíci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imális eltarthatósá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imális készletkezel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olyamatos leltá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AN 128 címkéz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inamikus raktárkezel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IM integráció (magasállvány raktár, szállítmányozás logisztik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3426480"/>
            <a:ext cx="312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Gyártá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szintű receptúra kalkuláci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edezetszámít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olyamat költség elszámol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verés optimalizálás ömlesztett saj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tegrált P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Üzemi adatrögzítés (BD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IM integráció (tartály, kiöntő berendezés, mérőrendszerek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4147200"/>
            <a:ext cx="3355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Értékesíté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ociális vaj, iskolate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tegrált értékesítés kezel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llandó megbízás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tegrált EDI (adatcsere az élelmiszeripari kiskereskedőkkel, szállítmányozókk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rződés kezel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D62-8C09-4D3A-A42B-C5A8F485DD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Húsipari megoldások funkció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89280" y="1339200"/>
            <a:ext cx="5324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egység kezelése a cikkek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öngyölegkezel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DI eljár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kenner- és mérleg kapcsolat minden terüle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ármazásbiztosítás minden terüle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verés nyomon követ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tegrált laborinformációs- és menedzsment rendszer </a:t>
            </a:r>
            <a:r>
              <a:rPr b="0" lang="hu-HU" sz="1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QLS/LIM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138480"/>
            <a:ext cx="4176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ermelteté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gástervezés beszállítás tervezéss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vágóvonalak üzemi adatainak rögzítése (BDE) (nagyvágóállat, kisvágóálla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gás elszámolás (minőségbiztosítás elszámolás, bérvágás, szolgáltatás elszámolá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gás kiértékelése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ősítés (CSB-Image Meate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ármazás biztosítás (származási adatbank a HIT (Származásbiztosítási és Információs Rendszer) központi adatbankba történő csatlakozási lehetőségge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27800" y="3281040"/>
            <a:ext cx="4295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Gyártá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ceptúra kezelés fedezetszámításs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nalízis érték számítás - Tápérték számít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ímkézés az élelmiszerazonosítási rendelet szeri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Összetétel standardizálás (hú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ceptúra optimalizálás (szárazkészítmények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verés- és gyártás mennyiség felvit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verés utókalkuláci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ártástervez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ártási megbízás kezel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ép lefoglalás tervezés - munkaerő tervez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apacitás vizsgálat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ártás kontro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63B-802B-48E9-B7C7-BC2E1B0F1A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lektronikus keresked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CSB-online.ERP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szoftver a CSB-System olyan termékcsoportja, amely megfelelő infrastruktúrát kínál az internetes tevékenységekhez. Ilyen módon több vállalati- és üzemi telephelyet is csatlakoztathatunk online és real time a központi alkalmazásokhoz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CSB-online.ERP az alábbi funkciókkal rendelkezik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-Business B2B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rmékmozgások összehangolása a gyártó és a kereskedő köz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lektronikus CRM (ügyfélkapcsola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-Procurent (elektronikus stratégiai tervezé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-Sh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Online hozzáférés a CSB-systemhez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CSB-online.ERP-vel a komplett ágazatra szabott ERP használható az Interneten. A felhasználó a weben minden lényeges információt megkap, az adatok központilag és egységesen állnak rendelkezésére. A workflow-val célzottan és biztonságosan lehet a felhasználókat irányítani. A felhasználóra szabott Internet alkalmazás folyamatosan rendelkezésre ál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02F-699C-4824-9707-ADF3E65070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formációs rendszerek az agrárvállalkozásokb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F3CF-ACB4-48CD-AD91-927087D828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lektronikus keresked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300" spc="-1" strike="noStrike">
                <a:solidFill>
                  <a:srgbClr val="000000"/>
                </a:solidFill>
                <a:latin typeface="Arial"/>
              </a:rPr>
              <a:t>Oracle E-Business Suite</a:t>
            </a: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-ot elsődlegesen olyan nagyvállalatok és gazdálkodási szervezetek számára ajánlják, amelyek szeretnék automatizálni és optimalizálni gazdálkodási folyamataikat. A rendszer előnye, hogy lehetőséget biztosít a teljes alkalmazás együttes, vagy lépcsőzetesen történő (moduláris) bevezetésér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Főbb modulok és funkció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Pénzügy/Számvitel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Főkönyv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Kinnlevőségek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Kötelezettségek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Pénzkezelé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Befektetett eszközö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Készletnyilvántartá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Beszerzé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Értékesíté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Rendelés-nyilvántartá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Kiszállítá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Termelésirányítá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Műszaki törzsadat kezelé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Gyártá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Termeléstervezé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Költséggazdálkodá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Szerződés nyilvántartá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Ügyfélkapcsolat kezelés (CRM)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Értékesíté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Ügyfél kapcsolattartás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- Szervi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100" spc="-1" strike="noStrike" u="sng">
                <a:solidFill>
                  <a:srgbClr val="000000"/>
                </a:solidFill>
                <a:uFillTx/>
                <a:latin typeface="Arial"/>
              </a:rPr>
              <a:t>Üzleti intelligenc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F54-9107-4EED-B68A-A3B7DF42F3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Elektronikus kereskede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ySAP.co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e-business platformja mögött megoldások egész sora rejli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éhány mySAP.com e-business platform alkotóelemei közü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ross-Industry Solutions (ágazatközi megoldások) az átfogó üzleti megoldások kész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dustry Solutions (iparági megoldások)– az ágazatközi megoldásokra épülő speciális iparági funkciókat valósítanak me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frastruktúra és szolgáltatások – Olyan technológiával és szolgáltatásokkal támogatja az ágazatokat átfogó és az iparági megoldásokat, amelyek biztosítják ezek gyors bevezetését és folyamatos működésé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1B6-37DA-4DC5-AC09-0BCFFFC14E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ogisztika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DigiMap program-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igiMap programrendszer segítségével Magyarország és Budapest vektoros térképén jeleníthetőek meg a GPS fedélzeti rendszer által gyűjtött adato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ádiós vagy SMS-es távellenőrzés esetén látható a gépjármű pillanatnyi pozíciója és státusz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ávfelügyeleti rendszerek használatakor esemény esetén, a jelző objektum pozícionálhatja a térképet - azonnali megjelenés - megjelenhet a védendő objektumalaprajza, bejutási értesítés lehetősége st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érkép pozíció és ikon események külső applikációkkal kommunikációs kapcsolatot alakíthat ki, így alkalmazására tág lehetőség nyíli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3E9-78AA-42F7-BF1D-ABA61A4097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ogisztika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 u="sng">
                <a:solidFill>
                  <a:srgbClr val="000000"/>
                </a:solidFill>
                <a:uFillTx/>
                <a:latin typeface="Arial"/>
              </a:rPr>
              <a:t>A Scriptor mobil SFA-rendsz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Sciptor egy olyan moduláris PDA-alapú SFA-rendszer, amely az értékesítés teljes területét lefed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szoftver PDA-alapú mobilkliensekkel rendelkezik, így a területi képviselők külső munkájuk során minden olyan információhoz könnyen hozzáférhetnek, amelyek ez idáig csak az irodában voltak elérhetőek számukr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adatáramlás kétirányú, a cégvezetés folyamatosan ellenőrizni tudja alkalmazottai munkájá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képviselő az egyedi azonosítókódja megadása után áttekintheti a napi túráját és a következő napok menetrendjé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kommunikációs modul segítségével megnézheti az üzeneteit, és még az elindulás előtt láthatja azokat a teendőit, melyeket korábban jegyzett fel a túranapban szereplő ügyfelekkel kapcsolatba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értékesítő ezzel elkerülheti azt, hogy elfelejt magával vinni pl. új katalógust, vagy árlistát, amit az előző látogatáskor ígért me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080-4A78-49D6-8088-201A57FAE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Logisztikai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Mobil P@rtner 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obil P@rtner rendszer három funkcionális modulból áll, melyek az alábbi területekhez kapcsolódnak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akt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m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O (minőség ellenőrz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rendszer működését tekintve illeszthető több integrált vállalatirányítási rendszerhez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lkalmazása akkor célszerű, ha a beavatkozási pontokon nem áll rendelkezésre egy számítógép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ipikusan ilyen területek lehetnek a nagy területű raktárak, gyártelepek, stb, ahol a dolgozóknak többletmunkát és időkiesést okoz mindig egy rögzített terminálon elvégezni a szükséges adatbevitelt, vagy lekérdezé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C2C-868F-4A1B-BAF2-66D21026B5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obil P@rt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469880"/>
            <a:ext cx="684072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A6A-1876-42F6-B50D-5A12E8871E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Fontosabb terület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D-e-meter földminősítési 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gro-net növénytermesztési alkalmazás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grin állattenyésztési alkalmazás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Risk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ÁMADÓ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HEGYI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CSB-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Oracle E-Business Su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yS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DigiM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Scriptor mobil SFA-rends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Mobil P@rtn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A2D-5719-4450-89F0-40F59B8FD7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Köszönöm a figyelmet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AEFD-84D1-40B1-A759-7AD756BB5A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óra temat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övénytermesztési alkalmazá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Állattenyésztési alkalmazás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ertészeti információs 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s rendszerek az élelmiszer feldolgozásb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ektronikus kereskede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Logisztikai ren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01C-A5B7-4FE0-B78E-44235DF4E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 u="sng">
                <a:solidFill>
                  <a:srgbClr val="330066"/>
                </a:solidFill>
                <a:uFillTx/>
                <a:latin typeface="Arial"/>
              </a:rPr>
              <a:t>D-</a:t>
            </a:r>
            <a:r>
              <a:rPr b="1" i="1" lang="hu-HU" sz="3500" spc="-1" strike="noStrike" u="sng">
                <a:solidFill>
                  <a:srgbClr val="330066"/>
                </a:solidFill>
                <a:uFillTx/>
                <a:latin typeface="Arial"/>
              </a:rPr>
              <a:t>e</a:t>
            </a:r>
            <a:r>
              <a:rPr b="1" lang="hu-HU" sz="3500" spc="-1" strike="noStrike" u="sng">
                <a:solidFill>
                  <a:srgbClr val="330066"/>
                </a:solidFill>
                <a:uFillTx/>
                <a:latin typeface="Arial"/>
              </a:rPr>
              <a:t>-meter</a:t>
            </a: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 az intelligens környezeti földminősítő rendsz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projekt fő célja, hogy javítsa a földminősítési eljárá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fejlesztők az elavult aranykorona alapú földminősítést kívánják felváltani az informatikai eszközökkel támogatott rendszerr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új földminősítés alapján lehetővé válna a termőföldek termékenységének pontosabb meghatározása, valamint lehetőség nyílik az időjárási szélsőségek alapján bekövetkező termésveszteség reális felmérésére 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-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-meter rendszer másik eleme a növénytermesztéshez kapcsolódó, az (európai uniós) támogatási forrásokhoz jutás feltételét jelentő adatszolgáltatás megkönnyítése, egyúttal a szántóföldi földhasználat területi eloszlásának pontos rögzítés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-</a:t>
            </a:r>
            <a:r>
              <a:rPr b="0" i="1" lang="hu-HU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-meter rendszer alkalmazásával a parcella alapú földhasználat-tervezés az EU normáinak megfelelően, az Integrált Igazgatási és Ellenőrzési Rendszer követelményeivel teljes kompatibilitásban történh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C39-A804-429D-A5BF-19B05AC4B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18960"/>
            <a:ext cx="7311960" cy="565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1B1-5E8A-4E29-9607-25E9D10F07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A D-e-meter rendszer alkalmazásának előnyei lehetnek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számszerűen határozza meg és viszonyszámokkal fejezi ki a termőhelyek produkciós potenciáljá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őbb gazdasági növények illetve növénycsoportok szerinti értékelésre is lehetőséget a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tartalmazza a termelési kockázat úgymint aszály, belvíz-kifejezésének lehetőségé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produkciós viszonyokat különböző művelési intenzitási szinteken is jellemz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információcserét biztosítja a mezőgazdaság és földügy területén, különös tekintettel a környezetgazdálkodásra, birtokrendezési feladatokra, a támogatási-elvonási rendszerek üzemeltetésére, tájékoztatásr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D-e-meter rendszer ily módon egyesíti magában a Nemzeti Fejlesztési Terv (NFT) Gazdasági Versenyképesség Operatív Programjának Információs társadalom- és gazdaságfejlesztési prioritásában meghatározott e-gazdaság és e-közigazgatási intézkedések céljai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vidéki népesség számára az IT készségek megszerzésének ösztönzése révén növeli az információs társadalomban való aktív részvétel esélyei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lősegíti a termelőszektor modernizációját, és ily módon szolgálja környezetminőség javítását, fenntartható erőforrás gazdálkodás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E6A-8162-42A8-A11C-0B5C3637B4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Az AGRO-NET növénytermesztő rendszer főbb elemei: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áblatörzskönyv szoft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recision Farming hardvereszköze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recision Farming szoftvereszközei (AGRO-MAP Basic, szakértői modulok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GRO-MAP Proffesional, térinformatikai szoft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142-C8A4-4F7F-8490-F9CA76765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0066"/>
                </a:solidFill>
                <a:latin typeface="Arial"/>
              </a:rPr>
              <a:t>Táblatörzskönyv </a:t>
            </a:r>
            <a:r>
              <a:rPr b="1" lang="hu-HU" sz="1400" spc="-1" strike="noStrike">
                <a:solidFill>
                  <a:srgbClr val="330066"/>
                </a:solidFill>
                <a:latin typeface="Arial"/>
              </a:rPr>
              <a:t>szoftver a növénytermesztés naturális és pénzügyi paramétereinek bevitelére és elemzésére szolgál. A bevitt adatok (táblák, műveletek, tápanyag-utánpótlás, növényvédelem) alapján a lekérdezések, listák készíthetők el, amelyek révén a munkafolyamatok nem csak elemezhetők, de tervezhetők is.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Főbb funkciók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áblákon történt események időrendi sorrendisége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öltség-elszámolá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észletnyilvántartá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lkalmazási statisztika (melyik traktor, személy, hol, mennyit dolgozott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lekkönyvi adatok rendezése, táblákkal kapcsolt értékelése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"slágerlista", tetszőleges összetételű értékelé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dőjárási adatok grafikus megjelenítése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datexport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ápanyag mérleg a kijuttatott, kimosódott és betakarított tápanyagokból számolva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vetéstervezé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unkatervezé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ápanyag-visszapótlás optimalizálás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5AE-00B5-438A-8EE5-9124A7A57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77412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357-B7E5-45FF-BFF1-5557D5FF36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10-24T12:40:54Z</dcterms:modified>
  <cp:revision>104</cp:revision>
  <dc:subject/>
  <dc:title>PowerPoint bemutató</dc:title>
</cp:coreProperties>
</file>