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3C8-3415-4890-BEBD-F20F53F9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F6E-95D7-4D67-AA09-3FF0B4B6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C3A-E4CC-4764-8B9F-53FAC858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FAE-995C-42C0-9978-87B4D8C2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920-8B87-42EF-A414-B25A77C0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BB3-BEA5-420C-BA99-6CF1A769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346-6A61-4B5D-A4CE-8E30EC97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B5B-2841-4F25-AA65-E54E6B9A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D13-573B-47DE-95F8-9B56E697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E31-C0A3-4A35-8CF0-F51506E7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0BB-8BD9-45BE-9CEB-4253D639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861-A0AE-48C4-9757-18DFEF3C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C7B0-8997-4A5B-A275-7AA7AA44F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32000" y="2276640"/>
            <a:ext cx="482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 Narrow"/>
              </a:rPr>
              <a:t>Back office a közigazgatásb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126828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Tartal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ack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2924280"/>
            <a:ext cx="624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ack office folyam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eroperabilitás (E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yílt forráskód a közigazgatá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ack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4805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476280"/>
            <a:ext cx="7067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S-EÖR megoldástérké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ack office rendszerekről általá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ndszerek, részren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zetői Információs Rendszerek (VIR – 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egrált programrészek – döntéstámogató modul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LAP rendszerek (valósidejű elemzés és irányít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ügyeleti és monitoring ren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gyviteli ren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báziskezelő ren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ack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teroperabili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Europe 2005 – E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A, IDA II, ID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ntj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vez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mantik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chnik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orizontális progra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TESTA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: az európai közigazgatási szervek összekapcsolódását segítő infrastrukturális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IRCA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: közös ügyiratkezelsét, biztonságos virtuális munkateret létrehozó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PKICUG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: az IDA programban résztvevők közötti elektronikus azonosítást garantáló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: a technológiai egységesítést szolgáló hálózati irányelvekre vonatkozó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ack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trukturált adatok szabványos elektronikus cseréje kettő vagy több, előzetesen egyeztetett üzenettovábbító szabványt használó számítógéprendszer közöt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élszerű használ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 résztvev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agymennyiségű kritikus a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ndszeres, szabványos és automatik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ovábbításánál és cseréjén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ffline környe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abványosság – nagy kapacitású adatkonverziós, adat be- és kiviteli tulajdon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ack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549360"/>
            <a:ext cx="44020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ílt forráskó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őtörtén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ény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atibilitási problém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rvek és ellenér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zigazgatási bevezetés indok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zetközi trendek, tendenc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ack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42847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32000" y="652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2960" y="1584000"/>
            <a:ext cx="6443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2781360"/>
            <a:ext cx="4495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 Antiqua"/>
              </a:rPr>
              <a:t>balazs.budai@e-government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ack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08:36:04Z</dcterms:created>
  <dc:creator>horsoly</dc:creator>
  <dc:description/>
  <dc:language>en-US</dc:language>
  <cp:lastModifiedBy>QStudios</cp:lastModifiedBy>
  <dcterms:modified xsi:type="dcterms:W3CDTF">2007-05-01T00:02:55Z</dcterms:modified>
  <cp:revision>19</cp:revision>
  <dc:subject/>
  <dc:title>1. dia</dc:title>
</cp:coreProperties>
</file>