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5.jpeg" ContentType="image/jpeg"/>
  <Override PartName="/ppt/media/image26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6D1-634C-4055-9BC4-B8D300C9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637-2512-44A9-A726-24791473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EDA-EB08-4C93-8DEE-BE8CFB77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24F-5EFC-47B2-A330-3F568220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C8B-BA69-4BE8-8245-2CF2B48C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773-6695-4393-8BB0-F2C0E0D3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B45-22E5-49B7-A682-1755344F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0D8-29D9-41D7-8E25-0C81B740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651-2AA1-423F-9485-4C26414B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CA2-8CA5-46BA-B1FE-7C3D90E8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4B6-BF82-464D-B055-485922E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891-5C90-4EE0-A043-9126D4D2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BC4E-6074-4AEF-9590-D02D672244D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gyarorszag.hu/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hyperlink" Target="http://www.terapia2007.hu/" TargetMode="External"/><Relationship Id="rId6" Type="http://schemas.openxmlformats.org/officeDocument/2006/relationships/image" Target="../media/image19.gif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agyarorszag.hu/" TargetMode="External"/><Relationship Id="rId2" Type="http://schemas.openxmlformats.org/officeDocument/2006/relationships/hyperlink" Target="http://www.magyarorszag.hu/" TargetMode="External"/><Relationship Id="rId3" Type="http://schemas.openxmlformats.org/officeDocument/2006/relationships/hyperlink" Target="http://www.magyarorszag.hu/" TargetMode="External"/><Relationship Id="rId4" Type="http://schemas.openxmlformats.org/officeDocument/2006/relationships/hyperlink" Target="http://www.magyarorszag.hu/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onlowery.com/galleryEE1.html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5867280"/>
            <a:ext cx="3047760" cy="703440"/>
          </a:xfrm>
          <a:prstGeom prst="rect">
            <a:avLst/>
          </a:prstGeom>
          <a:solidFill>
            <a:srgbClr val="000000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1990  -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49696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743200" cy="190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362320" y="2666880"/>
            <a:ext cx="3357360" cy="255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876920" y="457200"/>
            <a:ext cx="4267080" cy="640080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2592720" y="73080"/>
            <a:ext cx="388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i reform – területi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453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5120" y="228600"/>
            <a:ext cx="5333760" cy="581400"/>
          </a:xfrm>
          <a:prstGeom prst="rect">
            <a:avLst/>
          </a:prstGeom>
          <a:solidFill>
            <a:srgbClr val="336600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 KÖZIGAZGATÁSI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600 hivatalból 260 térségi központi hiv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21320" y="6491160"/>
            <a:ext cx="388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i reform – területi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521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228600" y="52578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+ KOMMUNIKÁCIÓ polgármesteri hivatal: nem csökken, minden lakásban megjelenik; megyei közgyűlés: nem szűnik meg, parlamentté alak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6400" y="6491160"/>
            <a:ext cx="388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i reform – területi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agyarorszag.h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ÜGYFÉLKA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8755200" cy="617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-23922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-2080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-189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-18241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-2465532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0" y="-24655320"/>
            <a:ext cx="11160" cy="10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-166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-16195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Terápia 20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2280" y="5334120"/>
            <a:ext cx="1977840" cy="765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85800" y="1481040"/>
            <a:ext cx="7594560" cy="5376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8600" y="457200"/>
            <a:ext cx="213372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049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Elektronikus Közszolgáltatások Központi Hivatala (BM Központi Adatfeldolgozó Nyilvántartó és Választási Hivatal) szerepe, jellemzői és feladat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Felelős a magyar államigazgatási adatvagyon jelentős részéért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(rendelkezésre állás, hozzáférés, biztonsá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z adatvagyon kezelése a polgárok jogbiztonságának és a bűnmegelőzésnek kulcsfontosságú el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Book Antiqua"/>
              </a:rPr>
              <a:t>Hiteles és megbízható nyilvántartások keze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 Hivatal működteti az államigazgatás egyik legnagyobb informatikai infrastruktúrájá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 Hivatalnak hatósági feladatokkal együtt </a:t>
            </a:r>
            <a:r>
              <a:rPr b="1" lang="en-US" sz="1800" spc="-1" strike="noStrike">
                <a:solidFill>
                  <a:srgbClr val="003366"/>
                </a:solidFill>
                <a:latin typeface="Book Antiqua"/>
              </a:rPr>
              <a:t>egyre több szolgáltatást kell nyújtania a közigazgatás és a vállalkozási szféra részér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4343400"/>
            <a:ext cx="7925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Feladat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Országos nyilvántartások kezelé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Választások szervezése és bonyolítá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Anyakönyvi igazgatási feladat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Statisztikai adatfeldolgoz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Okmányirodai rendszer működtetése, felügyelete, logisztikai támogatá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Okmány előállítás (zárt rendsze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A Hivatal a hatáskörébe utalt ügyekben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első és másodfokú hatósági feladatokat lát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0"/>
            <a:ext cx="6019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5335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kmányirodák főbb jogszabályi előírás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z új, korszerű okmánycsalád kidolgozásáról és bevezetéséről szóló 2380/1996. (XII.20.) Kormány határoz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Korszerű okmánycsalád bevezetésével összefüggő egyes intézkedésekről szóló 2231/1999 (IX.8.) Kormány határoz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z okmányirodák kijelöléséről és illetékességi területéről szóló 143/1999. (IX.25) Kormány rendeletet módosító 62/2000 (V.4.) számú rendele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 gazdasági kamarák feladatainak átadásával összefüggő törvénymódosításokról szóló 2000. évi LXXXIII. törvén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z egyéni vállalkozói igazolványról szóló 129/2000. (VII.11.) Kormány rendele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 közúti közlekedési nyilvántartásról szóló 1999. évi LXXXIV. törvén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 biztonsági okmányok védelmének rendjéről szóló 86/1998. (VI.14.) Kormány rendelet, amely a vállalkozói igazolvánnyal bővítette a jogosultságokat igazoló okmányok köré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ook Antiqua"/>
              </a:rPr>
              <a:t>a külföldre utazásról szóló 1998. évi XII. törvény tervezett módosítása (szolgáltatási képessé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6172200"/>
            <a:ext cx="6019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8088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Book Antiqua"/>
              </a:rPr>
              <a:t>Az okmányirodai projekt célj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Országos okmányirodai hálózat létrehozása az igazolványok kiadása céljáb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On-line személyadat és lakcímnyilvántartás új igazgatási és ügyviteli modelljének kialak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On-line népesség nyilvánta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Lépés az egykapus ügyintézés f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Centralizált központi adatbázis létreh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Gazdaságos és költség-hatékony igazolvány-gyá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Gyorsabb, biztonságosabb és megbízhatóbb ügyinté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EU előírásoknak megfelelő modern igazolványok kiad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Egységes IT platform kialakítása az elektronikus közigazgatás megteremtése érdeké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6248520"/>
            <a:ext cx="6019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3352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</a:rPr>
              <a:t>Az okmányirodák történe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Book Antiqua"/>
              </a:rPr>
              <a:t>1999 november: megbízás a Siemens részére a megvalósítá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Book Antiqua"/>
              </a:rPr>
              <a:t>2000 január: 152 okmányiroda, 600 ügyintéző, 2 féle igazolvány (személyazonosító igazolvány és lakcím igazolvá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Book Antiqua"/>
              </a:rPr>
              <a:t>2003: 285 okmányiroda, 3500 ügyintéző, 7 féle igazolvány </a:t>
            </a:r>
            <a:br>
              <a:rPr sz="2400"/>
            </a:br>
            <a:r>
              <a:rPr b="0" lang="hu-HU" sz="2400" spc="-1" strike="noStrike">
                <a:solidFill>
                  <a:srgbClr val="003366"/>
                </a:solidFill>
                <a:latin typeface="Book Antiqua"/>
              </a:rPr>
              <a:t>(4 év alatt több mint 8 millió igazolvány készült el) – </a:t>
            </a:r>
            <a:br>
              <a:rPr sz="2400"/>
            </a:br>
            <a:r>
              <a:rPr b="0" lang="hu-HU" sz="2400" spc="-1" strike="noStrike">
                <a:solidFill>
                  <a:srgbClr val="003366"/>
                </a:solidFill>
                <a:latin typeface="Book Antiqua"/>
              </a:rPr>
              <a:t>11 ezer elemű komplex integrált informatikai rends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Book Antiqua"/>
              </a:rPr>
              <a:t>2004: Outsourc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6248520"/>
            <a:ext cx="6019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30492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hívások - Megol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419720" y="990720"/>
            <a:ext cx="3504960" cy="1821240"/>
            <a:chOff x="4419720" y="990720"/>
            <a:chExt cx="3504960" cy="1821240"/>
          </a:xfrm>
        </p:grpSpPr>
        <p:sp>
          <p:nvSpPr>
            <p:cNvPr id="203" name=""/>
            <p:cNvSpPr/>
            <p:nvPr/>
          </p:nvSpPr>
          <p:spPr>
            <a:xfrm>
              <a:off x="4419720" y="990720"/>
              <a:ext cx="3504960" cy="360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4000" tIns="54000" bIns="54000" anchor="ctr">
              <a:noAutofit/>
            </a:bodyPr>
            <a:p>
              <a:pPr marL="1936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őnyö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9720" y="1400040"/>
              <a:ext cx="3504960" cy="14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Gyorsabb, biztonságosabb és megbízhatóbb ügyintéz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Gazdaságos és költséghatékony igazolvány-gyártás és kiadá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Statisztikailag tervezető terhel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09480" y="914400"/>
            <a:ext cx="3504960" cy="2121480"/>
            <a:chOff x="609480" y="914400"/>
            <a:chExt cx="3504960" cy="2121480"/>
          </a:xfrm>
        </p:grpSpPr>
        <p:sp>
          <p:nvSpPr>
            <p:cNvPr id="206" name=""/>
            <p:cNvSpPr/>
            <p:nvPr/>
          </p:nvSpPr>
          <p:spPr>
            <a:xfrm>
              <a:off x="609480" y="1322280"/>
              <a:ext cx="3504960" cy="17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Logisztika (pl. 2 hónap alatt 150 iroda létrehozása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Új szervezeti kerete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Egységes adatstruktú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mission critical” működ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datbiztonság és hozzáférés garantál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914400"/>
              <a:ext cx="3504960" cy="360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4000" tIns="54000" bIns="54000" anchor="ctr">
              <a:noAutofit/>
            </a:bodyPr>
            <a:p>
              <a:pPr marL="1936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ihív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09480" y="3048120"/>
            <a:ext cx="3504960" cy="3019680"/>
            <a:chOff x="609480" y="3048120"/>
            <a:chExt cx="3504960" cy="3019680"/>
          </a:xfrm>
        </p:grpSpPr>
        <p:sp>
          <p:nvSpPr>
            <p:cNvPr id="209" name=""/>
            <p:cNvSpPr/>
            <p:nvPr/>
          </p:nvSpPr>
          <p:spPr>
            <a:xfrm>
              <a:off x="609480" y="3457440"/>
              <a:ext cx="3504960" cy="26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Közel 300 okmányiro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7 különböző EU konform igazolvány kezelése, gyárt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Centralizált 3 rétegű szerver kliens alkalmazá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Felhasználóbarát felület és működ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Zárt VPN alapú architektú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End to end security (lehető legmodernebb biztonsági megoldásokkal, pl. chip kártya, digitális aláírá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480" y="3048120"/>
              <a:ext cx="3504960" cy="360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4000" tIns="54000" bIns="54000" anchor="ctr">
              <a:noAutofit/>
            </a:bodyPr>
            <a:p>
              <a:pPr marL="1936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goldá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rcRect l="0" t="0" r="2086" b="1351"/>
          <a:stretch/>
        </p:blipFill>
        <p:spPr>
          <a:xfrm>
            <a:off x="4572000" y="3657600"/>
            <a:ext cx="3382920" cy="1944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76520" y="6324480"/>
            <a:ext cx="6019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60948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eg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4867200"/>
            <a:ext cx="3962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Book Antiqua"/>
              </a:rPr>
              <a:t>Lépés az e-közigazgatás f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2086" b="1351"/>
          <a:stretch/>
        </p:blipFill>
        <p:spPr>
          <a:xfrm>
            <a:off x="4876920" y="914400"/>
            <a:ext cx="3136680" cy="18050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42880" y="2535120"/>
            <a:ext cx="163440" cy="2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88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440" y="2548080"/>
            <a:ext cx="1025640" cy="987120"/>
          </a:xfrm>
          <a:prstGeom prst="hexagon">
            <a:avLst>
              <a:gd name="adj" fmla="val 25976"/>
              <a:gd name="vf" fmla="val 115470"/>
            </a:avLst>
          </a:prstGeom>
          <a:gradFill rotWithShape="0">
            <a:gsLst>
              <a:gs pos="0">
                <a:srgbClr val="a1d8d8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 Narrow"/>
              </a:rPr>
              <a:t>id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 Narrow"/>
              </a:rPr>
              <a:t>Okmányirodai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 Narrow"/>
              </a:rPr>
              <a:t>rends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21040" y="2054160"/>
            <a:ext cx="1027080" cy="988920"/>
          </a:xfrm>
          <a:prstGeom prst="hexagon">
            <a:avLst>
              <a:gd name="adj" fmla="val 25965"/>
              <a:gd name="vf" fmla="val 115470"/>
            </a:avLst>
          </a:prstGeom>
          <a:solidFill>
            <a:srgbClr val="00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39600" bIns="39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Biztosítók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rendsz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21040" y="3043080"/>
            <a:ext cx="1027080" cy="989280"/>
          </a:xfrm>
          <a:prstGeom prst="hexagon">
            <a:avLst>
              <a:gd name="adj" fmla="val 25955"/>
              <a:gd name="vf" fmla="val 115470"/>
            </a:avLst>
          </a:prstGeom>
          <a:solidFill>
            <a:srgbClr val="00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80" rIns="15480" tIns="39600" bIns="39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Mainframe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rends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6280" y="3049560"/>
            <a:ext cx="1023840" cy="987480"/>
          </a:xfrm>
          <a:prstGeom prst="hexagon">
            <a:avLst>
              <a:gd name="adj" fmla="val 25921"/>
              <a:gd name="vf" fmla="val 115470"/>
            </a:avLst>
          </a:prstGeom>
          <a:solidFill>
            <a:srgbClr val="00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Online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népesség-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nyilván-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tar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2440" y="3537000"/>
            <a:ext cx="1025640" cy="990720"/>
          </a:xfrm>
          <a:prstGeom prst="hexagon">
            <a:avLst>
              <a:gd name="adj" fmla="val 25881"/>
              <a:gd name="vf" fmla="val 115470"/>
            </a:avLst>
          </a:prstGeom>
          <a:solidFill>
            <a:srgbClr val="00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480" rIns="15480" tIns="39600" bIns="39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 Narrow"/>
              </a:rPr>
              <a:t>Központi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Arial Narrow"/>
              </a:rPr>
              <a:t>okmányir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95760" y="1558800"/>
            <a:ext cx="1025280" cy="987480"/>
          </a:xfrm>
          <a:prstGeom prst="hexagon">
            <a:avLst>
              <a:gd name="adj" fmla="val 25957"/>
              <a:gd name="vf" fmla="val 115470"/>
            </a:avLst>
          </a:prstGeom>
          <a:solidFill>
            <a:srgbClr val="00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9600" bIns="39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Parlamenti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választás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5760" y="3543480"/>
            <a:ext cx="1025280" cy="988920"/>
          </a:xfrm>
          <a:prstGeom prst="hexagon">
            <a:avLst>
              <a:gd name="adj" fmla="val 25919"/>
              <a:gd name="vf" fmla="val 115470"/>
            </a:avLst>
          </a:prstGeom>
          <a:solidFill>
            <a:srgbClr val="00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9600" bIns="39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Magyar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igazolv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5120" y="2044800"/>
            <a:ext cx="1023840" cy="987480"/>
          </a:xfrm>
          <a:prstGeom prst="hexagon">
            <a:avLst>
              <a:gd name="adj" fmla="val 25921"/>
              <a:gd name="vf" fmla="val 115470"/>
            </a:avLst>
          </a:prstGeom>
          <a:solidFill>
            <a:srgbClr val="00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9600" bIns="39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Kormányzati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port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03680" y="2556000"/>
            <a:ext cx="1025280" cy="987480"/>
          </a:xfrm>
          <a:prstGeom prst="hexagon">
            <a:avLst>
              <a:gd name="adj" fmla="val 25957"/>
              <a:gd name="vf" fmla="val 115470"/>
            </a:avLst>
          </a:prstGeom>
          <a:solidFill>
            <a:srgbClr val="00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9600" bIns="39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Autópálya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ellenőrz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41280" y="1549440"/>
            <a:ext cx="1025640" cy="987480"/>
          </a:xfrm>
          <a:prstGeom prst="hexagon">
            <a:avLst>
              <a:gd name="adj" fmla="val 25966"/>
              <a:gd name="vf" fmla="val 115470"/>
            </a:avLst>
          </a:prstGeom>
          <a:solidFill>
            <a:srgbClr val="00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9600" bIns="39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Karban-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 Narrow"/>
              </a:rPr>
              <a:t>tar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76760" y="3645000"/>
            <a:ext cx="5367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3366"/>
                </a:solidFill>
                <a:latin typeface="Book Antiqua"/>
              </a:rPr>
              <a:t>Siemens Busines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Rendszertervezés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Tanácsadás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Számítógéprendszerek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Komm. hálóz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Rendszerintegráció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Biztonságtech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Projektmenedzsment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PKI rendszer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SW fejlesztés 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IP hálózatok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Implementáció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Adatbázis rendszer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Karbantartás 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E-kormányz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Üzemeltetés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hu-HU" sz="1600" spc="-1" strike="noStrike">
                <a:solidFill>
                  <a:srgbClr val="003366"/>
                </a:solidFill>
                <a:latin typeface="Book Antiqua"/>
              </a:rPr>
              <a:t>Java SW technoló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152280"/>
            <a:ext cx="6019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84720" y="2060640"/>
            <a:ext cx="403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Regionális és kistérségi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e-közigazgat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38800" cy="4946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600200" y="6248520"/>
            <a:ext cx="6019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304920"/>
            <a:ext cx="8534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www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.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magyarorszag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Book Antiqua"/>
                <a:hlinkClick r:id="rId4"/>
              </a:rPr>
              <a:t>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</a:rPr>
              <a:t>Az XR jelentő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Book Antiqua"/>
              </a:rPr>
              <a:t>Kistérségi modellre átállás = </a:t>
            </a:r>
            <a:r>
              <a:rPr b="1" lang="hu-HU" sz="2000" spc="-1" strike="noStrike">
                <a:solidFill>
                  <a:srgbClr val="000000"/>
                </a:solidFill>
                <a:latin typeface="Book Antiqua"/>
              </a:rPr>
              <a:t>regionális elektronikus kormány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Book Antiqua"/>
              </a:rPr>
              <a:t>Formalizált (fél)automatizált okmányki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Book Antiqua"/>
              </a:rPr>
              <a:t>CLBPS (azaz EU) konform ügyinté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rcRect l="0" t="6535" r="0" b="3268"/>
          <a:stretch/>
        </p:blipFill>
        <p:spPr>
          <a:xfrm>
            <a:off x="1143000" y="2362320"/>
            <a:ext cx="6324480" cy="4281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743200" y="0"/>
            <a:ext cx="6019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" y="-63849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15289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0" t="0" r="2035" b="0"/>
          <a:stretch/>
        </p:blipFill>
        <p:spPr>
          <a:xfrm>
            <a:off x="457200" y="228600"/>
            <a:ext cx="822960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0" y="4952880"/>
            <a:ext cx="457200" cy="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686800" y="4952880"/>
            <a:ext cx="457200" cy="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5240" y="533520"/>
            <a:ext cx="2998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BPS – az Unió elvá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0" t="1840" r="2344" b="1840"/>
          <a:stretch/>
        </p:blipFill>
        <p:spPr>
          <a:xfrm>
            <a:off x="380880" y="304920"/>
            <a:ext cx="2976840" cy="18698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rcRect l="0" t="1840" r="2344" b="1840"/>
          <a:stretch/>
        </p:blipFill>
        <p:spPr>
          <a:xfrm>
            <a:off x="5410080" y="1219320"/>
            <a:ext cx="2976840" cy="1869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543800" y="20574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1522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ktronikus személyi igazol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3352680"/>
            <a:ext cx="4724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zemélyi adatok + lakc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4114800"/>
            <a:ext cx="4724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-Azonosítási tanusít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4952880"/>
            <a:ext cx="4724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-Aláírási tanusít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5146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atali ügyintézés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9625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ulcs adatbázisok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556272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zerződések, megrendel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2743200" y="2971800"/>
            <a:ext cx="91440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43200" y="43434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743200" y="5334120"/>
            <a:ext cx="91440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1143000"/>
            <a:ext cx="20574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16080" y="6248520"/>
            <a:ext cx="2239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ID – a belga 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905120" cy="30477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257" name=""/>
          <p:cNvSpPr/>
          <p:nvPr/>
        </p:nvSpPr>
        <p:spPr>
          <a:xfrm>
            <a:off x="426708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-Közigazga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-közigazga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505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-Közigazga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10280" y="6248520"/>
            <a:ext cx="1905120" cy="3682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on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658800" cy="1020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038480" y="4267080"/>
            <a:ext cx="1981440" cy="16081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962520" y="533520"/>
            <a:ext cx="1981080" cy="1204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914400" y="2895480"/>
            <a:ext cx="1562040" cy="920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kártyaolvas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228600"/>
            <a:ext cx="2514600" cy="64008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200400"/>
            <a:ext cx="1752840" cy="121932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3124080"/>
            <a:ext cx="228600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362320" y="1676160"/>
            <a:ext cx="1676160" cy="14475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7010280" y="3886200"/>
            <a:ext cx="1900440" cy="2209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943600" y="838080"/>
            <a:ext cx="1066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943600" y="3276360"/>
            <a:ext cx="1066680" cy="10666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590920"/>
            <a:ext cx="17524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7"/>
          <a:srcRect l="0" t="1840" r="2344" b="1840"/>
          <a:stretch/>
        </p:blipFill>
        <p:spPr>
          <a:xfrm>
            <a:off x="228600" y="264960"/>
            <a:ext cx="2976480" cy="1870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514600" y="99072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1460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48006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új                    e-government stratégia elem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2133720"/>
            <a:ext cx="0" cy="7617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72400" y="33526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840" y="6324480"/>
            <a:ext cx="2239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ID – a belga pé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489924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2280" y="1981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 E-GOVERNMENT TÉRKÉ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80" y="6248520"/>
            <a:ext cx="2908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e-government térké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429000" y="304920"/>
            <a:ext cx="556272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LEKTRONIKUS ÖNKORMÁNYZ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304920"/>
            <a:ext cx="1828800" cy="22446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ivatali elérhető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914400"/>
            <a:ext cx="914400" cy="1472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C + INTER-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914400"/>
            <a:ext cx="1295280" cy="1472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MA: HAGYO-MÁNY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48720" y="914400"/>
            <a:ext cx="1143000" cy="1472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OLNAP UTÁN : M-D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62720" y="914400"/>
            <a:ext cx="990360" cy="1472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MOBIL: WAP, 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629400" y="914400"/>
            <a:ext cx="1143000" cy="163116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OLNAP D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914400"/>
            <a:ext cx="1066680" cy="17773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OTE- BOOK + GPRS, W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2514600"/>
            <a:ext cx="1828800" cy="11692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IK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3352680"/>
            <a:ext cx="1828800" cy="10159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ENNYI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4191120"/>
            <a:ext cx="18288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NN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5029200"/>
            <a:ext cx="18288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GY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5791320"/>
            <a:ext cx="1828800" cy="10159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ENNYIÉ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2514600"/>
            <a:ext cx="1218960" cy="923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40: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NÉ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2514600"/>
            <a:ext cx="990360" cy="7340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8: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514600"/>
            <a:ext cx="990720" cy="7340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8: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514600"/>
            <a:ext cx="990720" cy="7340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8: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2514600"/>
            <a:ext cx="990720" cy="7340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8: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24680" y="2514600"/>
            <a:ext cx="1067040" cy="7340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8: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N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3429000"/>
            <a:ext cx="990360" cy="707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KEV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3429000"/>
            <a:ext cx="1295280" cy="8625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INDEN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3429000"/>
            <a:ext cx="990720" cy="580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NAGYON KEV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3429000"/>
            <a:ext cx="99072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AGYON SO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3429000"/>
            <a:ext cx="99072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AGYON SO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924680" y="3429000"/>
            <a:ext cx="106704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AGYON SO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4191120"/>
            <a:ext cx="1295280" cy="707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1 HELYRŐ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81680" y="4191120"/>
            <a:ext cx="990720" cy="580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1 HELYRŐ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4191120"/>
            <a:ext cx="990360" cy="580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NÉHÁNY HELYRŐ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4191120"/>
            <a:ext cx="99072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ÁR-HON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4191120"/>
            <a:ext cx="99072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ÁR-HON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24680" y="4191120"/>
            <a:ext cx="106704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ÁR-HON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4952880"/>
            <a:ext cx="1218960" cy="8625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I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4952880"/>
            <a:ext cx="106668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JDNEM MI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4952880"/>
            <a:ext cx="106668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JDNEM MI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4952880"/>
            <a:ext cx="106704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JDNEM MI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4952880"/>
            <a:ext cx="1066680" cy="5806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JDNEM MI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4952880"/>
            <a:ext cx="914400" cy="580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NEM SOK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33720" y="5791320"/>
            <a:ext cx="1218960" cy="8445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LCSÓN EGYSZERÜ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5791320"/>
            <a:ext cx="990720" cy="7333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LCSÓN, EGYSZE-RÜ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81680" y="5791320"/>
            <a:ext cx="990720" cy="7333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. ÁRON, EGYSZE-RÜ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924680" y="5791320"/>
            <a:ext cx="1067040" cy="7333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. ÁRON, EGYSZE-RÜ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5791320"/>
            <a:ext cx="106668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DRÁGÁN, TUDÁSÉ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5791320"/>
            <a:ext cx="106668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DRÁGÁN, TUDÁSÉ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80" y="0"/>
            <a:ext cx="2670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jövő útja és eszköz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85800" y="609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ÁLIS FÖ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17520" y="6491160"/>
            <a:ext cx="6601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ális Föld – információs társadalom: helyfüggő kínála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2060640"/>
            <a:ext cx="64882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 Narrow"/>
              </a:rPr>
              <a:t>Köszönöm a figyelme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 Narrow"/>
              </a:rPr>
              <a:t>Istvan.tozsa@uni-corvinus.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16360" y="6237360"/>
            <a:ext cx="44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ális és kistérségi e-közigazga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143000"/>
            <a:ext cx="8610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égiók – államtípu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onális” rendszervál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zigazgatási reform – területi e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-közigazgatási körzetközpontok – e-okmányirod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LBPS – az Unió elvár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ID – a belga 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z e-government térké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jövő útja és eszköz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igitális Föld – információs társadalom: helyfüggő kínála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9144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1143000"/>
            <a:ext cx="1523880" cy="45972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143000"/>
            <a:ext cx="1676520" cy="45972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1143000"/>
            <a:ext cx="1981440" cy="45972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143000"/>
            <a:ext cx="1752840" cy="45972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04920"/>
            <a:ext cx="1447920" cy="52056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ÉG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828800"/>
            <a:ext cx="1676520" cy="82548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YI KÖZ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819520"/>
            <a:ext cx="1676520" cy="82548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ÉNZ-Ü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886200"/>
            <a:ext cx="1676520" cy="45972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ÖRV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572000"/>
            <a:ext cx="1676520" cy="82548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RM. KÉP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867280"/>
            <a:ext cx="1676520" cy="459720"/>
          </a:xfrm>
          <a:prstGeom prst="rect">
            <a:avLst/>
          </a:prstGeom>
          <a:solidFill>
            <a:srgbClr val="ffcc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É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3048120"/>
            <a:ext cx="16002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4876920"/>
            <a:ext cx="1447920" cy="459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876920"/>
            <a:ext cx="1447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962520"/>
            <a:ext cx="16002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árend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876920"/>
            <a:ext cx="144792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2057400"/>
            <a:ext cx="15238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962520"/>
            <a:ext cx="144792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á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048120"/>
            <a:ext cx="144792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057400"/>
            <a:ext cx="1524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3962520"/>
            <a:ext cx="1676160" cy="459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876920"/>
            <a:ext cx="1600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3048120"/>
            <a:ext cx="1524240" cy="398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nó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2057400"/>
            <a:ext cx="1447920" cy="459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3962520"/>
            <a:ext cx="1447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048120"/>
            <a:ext cx="1523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2057400"/>
            <a:ext cx="1600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380880"/>
            <a:ext cx="6553080" cy="642600"/>
          </a:xfrm>
          <a:prstGeom prst="rect">
            <a:avLst/>
          </a:prstGeom>
          <a:gradFill rotWithShape="0">
            <a:gsLst>
              <a:gs pos="0">
                <a:srgbClr val="bda792"/>
              </a:gs>
              <a:gs pos="100000">
                <a:srgbClr val="66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99"/>
                </a:solidFill>
                <a:latin typeface="Times New Roman"/>
              </a:rPr>
              <a:t>EURÓPAI ÁLLAMTÍPU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14400"/>
            <a:ext cx="0" cy="68580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3895" t="26495" r="15748" b="7570"/>
          <a:stretch/>
        </p:blipFill>
        <p:spPr>
          <a:xfrm>
            <a:off x="2057400" y="5562720"/>
            <a:ext cx="1600200" cy="1066680"/>
          </a:xfrm>
          <a:prstGeom prst="rect">
            <a:avLst/>
          </a:prstGeom>
          <a:ln w="31680">
            <a:solidFill>
              <a:srgbClr val="00ff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rcRect l="13495" t="13236" r="14845" b="28458"/>
          <a:stretch/>
        </p:blipFill>
        <p:spPr>
          <a:xfrm>
            <a:off x="3809880" y="5562720"/>
            <a:ext cx="1600200" cy="1066680"/>
          </a:xfrm>
          <a:prstGeom prst="rect">
            <a:avLst/>
          </a:prstGeom>
          <a:ln w="31680">
            <a:solidFill>
              <a:srgbClr val="00ff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rcRect l="11319" t="22710" r="14764" b="22710"/>
          <a:stretch/>
        </p:blipFill>
        <p:spPr>
          <a:xfrm>
            <a:off x="5562720" y="5562720"/>
            <a:ext cx="1596960" cy="1066680"/>
          </a:xfrm>
          <a:prstGeom prst="rect">
            <a:avLst/>
          </a:prstGeom>
          <a:ln w="31680">
            <a:solidFill>
              <a:srgbClr val="00ff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rcRect l="14764" t="17411" r="7382" b="17411"/>
          <a:stretch/>
        </p:blipFill>
        <p:spPr>
          <a:xfrm>
            <a:off x="7315200" y="5562720"/>
            <a:ext cx="1600200" cy="1066680"/>
          </a:xfrm>
          <a:prstGeom prst="rect">
            <a:avLst/>
          </a:prstGeom>
          <a:ln w="31680">
            <a:solidFill>
              <a:srgbClr val="00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58680" y="0"/>
            <a:ext cx="259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giók – államtípu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314640" y="4177440"/>
            <a:ext cx="232236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aci viszony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122920" y="4197960"/>
            <a:ext cx="236376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yi önálló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5620320" y="4158360"/>
            <a:ext cx="24368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ülés irány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-74880" y="2806560"/>
            <a:ext cx="4953240" cy="1015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ülés irány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430440" y="2806560"/>
            <a:ext cx="4953240" cy="1015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aci viszo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5258520" y="2807280"/>
            <a:ext cx="4954680" cy="1015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yi önálló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791320"/>
            <a:ext cx="41911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izáció: intervenciós közigaz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791320"/>
            <a:ext cx="41911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entralizáció: szolgáltató közigaz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80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erületi- és településfejlődés környez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960" y="0"/>
            <a:ext cx="3227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ális” rendszervál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1990. évi LXV. Önkormányzati Törvény  következményei a területi- és településfejlesztés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600200"/>
            <a:ext cx="20574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zp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1337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133720"/>
            <a:ext cx="20574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ális, megy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2362320"/>
            <a:ext cx="20574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lyi taná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központi, megyei és helyi kompetenciák 1990 elő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572000"/>
            <a:ext cx="205740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zp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114800"/>
            <a:ext cx="2057400" cy="135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lyi önkormányz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központi, megyei és helyi kompetenciák 1990 u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6483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gionális, megy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8000" y="6491160"/>
            <a:ext cx="3227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ális” rendszervál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387"/>
          <a:stretch/>
        </p:blipFill>
        <p:spPr>
          <a:xfrm>
            <a:off x="304920" y="304920"/>
            <a:ext cx="3317760" cy="607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0" r="0" b="385"/>
          <a:stretch/>
        </p:blipFill>
        <p:spPr>
          <a:xfrm>
            <a:off x="3581280" y="1600200"/>
            <a:ext cx="5334120" cy="375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9880" y="304920"/>
            <a:ext cx="5105520" cy="1191240"/>
          </a:xfrm>
          <a:prstGeom prst="rect">
            <a:avLst/>
          </a:prstGeom>
          <a:gradFill rotWithShape="0">
            <a:gsLst>
              <a:gs pos="0">
                <a:srgbClr val="bda792"/>
              </a:gs>
              <a:gs pos="100000">
                <a:srgbClr val="66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99"/>
                </a:solidFill>
                <a:latin typeface="Times New Roman"/>
              </a:rPr>
              <a:t>MAGYAR  NUTS SZIN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04920"/>
            <a:ext cx="68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286000"/>
            <a:ext cx="68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267080"/>
            <a:ext cx="68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752480"/>
            <a:ext cx="68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286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6095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8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200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5562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200 – 600 (körjegyzőség)  = 2600 hiv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8200" y="6473880"/>
            <a:ext cx="3227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ális” rendszervál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049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unkci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díció/identitá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területi szint</a:t>
            </a:r>
            <a:r>
              <a:rPr b="1" lang="en-US" sz="32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1066680"/>
            <a:ext cx="609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1981080"/>
            <a:ext cx="609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2895480"/>
            <a:ext cx="609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3886200"/>
            <a:ext cx="609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77320" y="4800600"/>
            <a:ext cx="609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77320" y="5638680"/>
            <a:ext cx="609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1066680"/>
            <a:ext cx="228600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 rég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981080"/>
            <a:ext cx="228600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g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971800"/>
            <a:ext cx="22860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lomer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3886200"/>
            <a:ext cx="228600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stér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800600"/>
            <a:ext cx="228600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zövet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5562720"/>
            <a:ext cx="228600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ü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066680"/>
            <a:ext cx="213372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(forr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213372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y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971800"/>
            <a:ext cx="213372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nin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886200"/>
            <a:ext cx="213372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nin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800600"/>
            <a:ext cx="213372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(forr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5562720"/>
            <a:ext cx="213372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.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06668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nin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1981080"/>
            <a:ext cx="2286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.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97180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nin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886200"/>
            <a:ext cx="2286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.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480060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nin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5562720"/>
            <a:ext cx="2286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.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40800" y="6473880"/>
            <a:ext cx="3227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ális” rendszervál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42920" y="64832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Tózsa Ist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843440"/>
          </a:xfrm>
          <a:prstGeom prst="rect">
            <a:avLst/>
          </a:prstGeom>
          <a:ln w="6480">
            <a:solidFill>
              <a:srgbClr val="0000ff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905120" y="457200"/>
            <a:ext cx="5333760" cy="581400"/>
          </a:xfrm>
          <a:prstGeom prst="rect">
            <a:avLst/>
          </a:prstGeom>
          <a:solidFill>
            <a:srgbClr val="336600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 KÖZIGAZGATÁSI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038480" y="2743200"/>
            <a:ext cx="914400" cy="839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914400" cy="839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914400" cy="839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4800600" y="4724280"/>
            <a:ext cx="914400" cy="839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666880" y="5105520"/>
            <a:ext cx="914400" cy="839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2743200" y="3657600"/>
            <a:ext cx="914400" cy="839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1523880" y="2133720"/>
            <a:ext cx="914400" cy="839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68680" y="6324480"/>
            <a:ext cx="388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i reform – területi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8:36:04Z</dcterms:created>
  <dc:creator>horsoly</dc:creator>
  <dc:description/>
  <dc:language>en-US</dc:language>
  <cp:lastModifiedBy>itozsa</cp:lastModifiedBy>
  <dcterms:modified xsi:type="dcterms:W3CDTF">2007-04-25T13:14:08Z</dcterms:modified>
  <cp:revision>15</cp:revision>
  <dc:subject/>
  <dc:title>1. dia</dc:title>
</cp:coreProperties>
</file>