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FC6-C8E4-47A5-8ABD-20DFD5BD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70F-DC07-49E8-932B-C85D7681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758-8C42-45F7-9485-FCEB6F1A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121-934B-4D5E-8ED3-702520FE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3D8-3AF7-497F-89D0-8B3F9171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BC9-97AB-4902-966A-220381CB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C02-7B12-43DA-A24A-4EB150EE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813-5D05-4D1C-B28A-6B955F89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34FA-22AF-4020-B913-033857CE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347-AB41-492D-B337-AB3F18DE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CC3-6364-44BC-AF2F-F6294B72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D22-D8B3-46A9-BE9B-1C749F44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5F5E-E44A-43F8-B01C-3C5FBA92D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azai jogszabályo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e és KET (1957. évi IV. És 2004. évi CXL T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e is számos lehetőséget biztosított módosításai u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T önálló X. fejezete szól az e-ügyintézésrő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intézhető elektronikusan, amit jogszabály nem zár ki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Ügyfélka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0. évi XCIII. Törvény (illeték T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hetőség az elektronikus lerovás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2. véi LXIII. Törvény (adatvédelmi T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-közigazgatásban a hatósági adatkezelés során számos helyen sérülhetnek személyiségi jog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001. évi XXXV. Törvény (e-aláírás T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-aláírást (minősítettet) közigazgatási eljárásban el kell foga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elektronikus közigazgatá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gi környe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ntézményi hátté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ntézményi képviselet szere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tpólusú (hárompólusú) igazga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HM (önkormányza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H-EKK (kormányzati) (korábban MEH-KITK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GK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akran előzetes egyeztetéssel, társelőterjesztéssel (folyamatlassítá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Korábban egypólusú MEH, majd MEH-IK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éb szervek: ITKTB, KIETB (ex IT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ETB 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-kormányzati Operatív Bizotts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isztérium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ivil szervez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udományos tömörülé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ikertényező: wilson-i tengelyek vastagság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elektronikus közigazgatá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gi környe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32000" y="6524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2960" y="1584000"/>
            <a:ext cx="64436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2781360"/>
            <a:ext cx="4495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 Antiqua"/>
              </a:rPr>
              <a:t>balazs.budai@e-government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elektronikus közigazgatá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gi környe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00360" y="206064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Az elektronikus közigazgatás jogi környeze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9810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Tartal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elektronikus közigazgatá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gi környe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84560"/>
            <a:ext cx="624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jogi környezet logikai felépítése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jogi piramis és jogi prizma modell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zai infokommunikációs jogszabál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abályozás intézményei hátt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gi szabályozás je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elektronikus közigazgatá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gi környe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125360"/>
            <a:ext cx="8388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nformációs társadalom mibenléte, követelmény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abályozás célja: keretek megállapítása, akadálymentes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ierarch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zeten belül eltérő szintek, eltérő kihasználtság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-jogok: önálló jogterüle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Immateriális e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Végrehajtási jellegű jogszabályok dominanciá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Elektronikus interfész használat a jogviszony (ki)alakításáh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343224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333360"/>
            <a:ext cx="34923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izma elmé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zösségi alapító szerződés elve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ávközlési polit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fokommunikációs szabályoz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urópai ipari versenyképesség szabály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ranszeurópai hálózati polit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ásodlagos jog (intézmények jo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tratégiá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atároz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rányelv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endele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elektronikus közigazgatá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gi környe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68600" y="0"/>
            <a:ext cx="567540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harmonizáció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urópai Közösség Alapító Szerződéséből négy terület adja az elsődleges joganyag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vközlési politikai szabályozás (95. cikk a belső piac létrehozását és működését segítő harmonizációról, 81-82. cikkek a versenyjogról, 47. és 55. cikkek a letelepedés és szolgáltatásnyújtás szabadságáró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kommunikációs technológiák technológiai fejlődésének támogatásáról szóló szabályozás (163-172 cikkek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urópai ipar versenyképességének fokozását segítő szabályozás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157. cik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ranszeurópai hálózatokra vonatkozó szabályozás (154-156. cikk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ket a magyar jog a következőképpen dolgozta f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elektronikus közigazgatá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gi környe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ogharmonizáció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vközlési szabályo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1. évi XL. TV a Hírközlésről, ma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3. évi C. TV a Hírközlés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redmény: liberalizálódó távközlési p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ktronikus aláí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1. évi XXXV. TV és rendele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zigazgatási alkalmazásához a KET-re várni kell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-Kereskede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1. évi CVIII. Törvény az elektronikus kereskedelmi szolgáltatások és az információs társadalommal összefüggő szolgáltatások egyes kérdései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rzői Jog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99. évi LXXVI. Törvény a szerzői jog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IPO (World Intellectulal Property Organisation) irányelveket követ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U-t megelőzv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elektronikus közigazgatá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gi környe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rnyezeti fejlődé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zai környezet az EU árnyéká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elentős fáziskésés – 1993: indu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apvető szabály: központi államigazgatás informatikai koordinációjának továbbfejlesztéséről (több évb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998-2003: felzárkózási forgatókönyv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nemzetközi egyezményekhez csatlakoz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000: új lendü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ratégia (igazi): tervezés, irányítás, jogalkotás egy központ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001: Első Hírközlési Tv, E-aláírás, E-Kereskedelem és információs társadalmi szolgáltatások T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003: Újra induló jogszabálygyár: Új Hkt, Iparjogvédelmi és szerzői jogi Tv, E-ker módosítás, Közbeszerzési T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004: Nemzeti Audiovizuális Archívumról szóló Tv, K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005: Elektronikus információszabadságról szóló Tv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elektronikus közigazgatá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gi környe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azai jogszabályo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1997. évi CXLV törvény és az  ezt módosító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3. évi LXXXI. Törvény az elektronikus cégeljárásról és a cégiratok elektronikus úton történő megismer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ft és Rt. esetében elektronikusan jegyezhető cé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lleték szintén elektronikus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1. évi XL.  és a 2003. évi C. Törvény a hírközlés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on a teljes liberalizáció fel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gyasztóvédelmi rendelkezés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H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3. évi CXXIX. Tv. A közbeszerzés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-közbeszerzés (EKR) lehetőségének megterem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. évi CXXXVII. Törvény a Nemzeti Audiovizuális Archívumró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udiovizuális kulturális örökség védelméről és digitalizálásáró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5. évi XC. Törvény az elektronikus információszabadság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inden közérdekű adat és jogszabály elér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öbb lépcsős végrehajtás: teljes hatályosulás 2008-tó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elektronikus közigazgatá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gi környe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08:36:04Z</dcterms:created>
  <dc:creator>horsoly</dc:creator>
  <dc:description/>
  <dc:language>en-US</dc:language>
  <cp:lastModifiedBy>QStudios</cp:lastModifiedBy>
  <dcterms:modified xsi:type="dcterms:W3CDTF">2007-04-16T18:35:30Z</dcterms:modified>
  <cp:revision>12</cp:revision>
  <dc:subject/>
  <dc:title>1. dia</dc:title>
</cp:coreProperties>
</file>