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76E-92AB-4B7E-AF7E-B691D5AF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74C-0BE7-4E76-8184-E5B684A5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33BC-666A-4023-B4EB-284E7C53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0EB5-528A-44AF-B02B-033F514A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83D-5B42-48C3-B618-5EEA31B0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758-48DD-4636-8BFD-0215F14A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ED1-1E3D-4867-B5BB-BCF86890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FC9-1032-47FA-BF39-96E3642A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F1B-DAC5-47B8-A6E6-CEF4A38F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6D26-0F05-4401-9A0D-683B5A26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D37-1DF9-48C8-85E7-8AE74B7F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96F4-E4E6-4546-B0D2-38E8D4C4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53AF-539B-429A-8407-8BEB440A4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biztonság – Adatvéde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ztonsági rendszerek tervezé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édelmi igények feltárás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itt kell kiválasztani azokat az alkalmazásokat, amely a szervezet szempontjából a legfontosabb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enyegetettség elemzés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itt kell megkeresni az informatikai rendszer gyenge pontjait, és azokat a fenyegetettségeket, amelyek a kiválasztott alkalmazásokra veszélyt jelenthetnek. (az e-mail helytelen használata: az NFO WorldGroup szerin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ockázatelemzés: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tt kell megvizsgálni, hogy az IR-re milyen hatással lehetnek a fenyegető tényezők, itt kell meghatározni a lehetséges kár gyakoriságát és a kárérté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ockázat-menedzselé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Itt választjuk ki a fenyegető tényezők elleni intézkedéseket és azok hatásait értékeljük. Költség-haszon elemzé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özigazgatás-technológiai kérdé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udásmenedz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ellektuális tő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umán (alkalmazotti) tudástőke 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amit a dolgozók „kölcsönadnak” a vállalatna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trukturális tudástőke 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szabadalmak, K+F anyagok, dolgozóktól független tőkejava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Ügyfél (piaci) tudástőke 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iparról, vevőkről, partnerekről, versenytársakról szerzett ismeret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UDÁS = EXPLICIT INFORMÁCIÓ + TACIT TU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állami szerepvállalás szempontjából viszonylag homogén módon viselkedikn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 jellegű (public sector) információ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ájékoztató jellegű (kereskedelmi) tartalm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édia jellegű (entertainment) típusú tartalm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udásmegosztás, tudásspirál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ompetencia-má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eb 2.0.(e-mail listák, fórumo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özigazgatás-technológiai kérdé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dásmenedz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özigazgatás-technológiai kérdé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8145360" cy="42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32000" y="6524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2960" y="1584000"/>
            <a:ext cx="64436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51280" y="2781360"/>
            <a:ext cx="4495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 Antiqua"/>
              </a:rPr>
              <a:t>balazs.budai@e-government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16360" y="62164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özigazgatás-technológiai kérdé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32000" y="2276640"/>
            <a:ext cx="4822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Közigazgatás-technológiai kérdése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6524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126828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Tartal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özigazgatás-technológiai kérdé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6524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2276640"/>
            <a:ext cx="624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őségbizt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ektronikus ügyv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biztonság – adatvéd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udásmenedz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őségbiztosí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FQM kiválóság mod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AF – Common Assesmen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özigazgatás-technológiai kérdé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50920" y="2276640"/>
            <a:ext cx="504036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őségbiztosí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enchmarking és minőségi körö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enchmarking adaptációs folyam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Tervezé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Szükséges feltérképeznünk a folyamat gyenge pontjait, majd azok javításának lehetséges (kontingencia-alapú) forgatókönyve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Gyűjté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Össze kell gyűjtenünk a legjobb gyakorlatokat (ezeket kategorizálnunk és azonosítanunk kell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nalizál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A kiválasztott megoldás teljesítményét össze kell hasonlítanunk a javítandó területt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daptáció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A kiválasztott megoldást át kell ültetni a saját szervezetre, folyamatos kontroll ala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Q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özigazgatás-technológiai kérdé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nikus ügyv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elektronikus ügyvitel indokoltsá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pír alapú dokumentumkezelés előnyei és hátrány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elektronikus dokumentumkezelés előnyei és hátrány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nikus aláí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jtái és jogi relevanciáj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terjedésük akadály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ív megoldás: W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 elektronikus aláírás jövő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özigazgatás-technológiai kérdé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biztonság – Adatvéde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Adatvédelem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az adatok kezelése során, azok meghatározott csoportjára vonatkozó jogszabályi előírások érvényesíté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zetközi adatvédelmi alapelvek (vö. Hazaia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datgyűjtés szigorúan specifikált célját meg kell ismertetni az adatszolgáltató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specifikálásból eredően meg kell húzni a gyűjtendő adatok határ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datvédelmi rendszert az adatok meghatározott csoportjához kell felépíte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smertetni kell az állampolgárral, hogy kik juthatnak hozzá a szolgáltatott adataiho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iztosítani kell, hogy mindenki a róla szóló adatokhoz hozzáférjen, valamint hogy az esetleges hibák kijavítása megtörténjé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 kell határozni a kizárólag az érintett külön engedélyével tárolható adatcsoportok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öteles az adatkezelő az általa tárolt adatok védelmét biztosíta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datvédelemre vonatkozó előírások betartásának ellenőrzéséről gondoskodni ke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özigazgatás-technológiai kérdé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tbiztonság – Adatvéde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datbiztonsá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z adatok jogosulatlan megszerzése, módosítása és tönkretétele elleni műszaki és szervezési intézkedések és eljárások együttes rendsz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adatbiztonság főbb motívum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delkezésre állá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 adatoknak megfelelő helyen és időben rendelkezésre kell állnia a jogosultak számá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értetlenség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 adatokat csak a tulajdonos engedélyével, vagy közreműködésével lehet megváltoztat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zalmas kezelé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ban az esetben, ha az adatok természete ezt szükségessé teszi (pl.: személyes adatok, vagy különleges adat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elesség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 adatokat egyértelmű azonosítókkal kell ellát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űködőképesség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 adatok feldolgozásának zavartalannak kell lennie, a működőképes állapotot meg kell őriz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özigazgatás-technológiai kérdé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tbiztonság – Adatvéde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adatbiztonság összetevő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ánbiztonsá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z Információrendszer sérelmére  a szervezettel  bármely kapcsolatban álló személyek által elkövethető szándékos vagy véletlen humántámadások elleni védett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örnyezeti biztonsá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z IR rendelkezésre állásának és sértetlenségének a természeti katasztrófákkal szembeni védettsé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zikai biztonsá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z IR erőforrásai, valamint rendelkezésre állásuk sérelmére elkövethető szándékos vagy véletlen fizikai támadásokkal szembeni védettsé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kai biztonsá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z IR adatainak és programjainak sértetlensége, valamint a rendelkezésre állása sérelmére elkövethető szándékos, vagy véletlen támadásokkal szembeni védettsé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özigazgatás-technológiai kérdé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08:36:04Z</dcterms:created>
  <dc:creator>horsoly</dc:creator>
  <dc:description/>
  <dc:language>en-US</dc:language>
  <cp:lastModifiedBy>QStudios</cp:lastModifiedBy>
  <dcterms:modified xsi:type="dcterms:W3CDTF">2007-05-01T00:27:46Z</dcterms:modified>
  <cp:revision>24</cp:revision>
  <dc:subject/>
  <dc:title>1. dia</dc:title>
</cp:coreProperties>
</file>