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5BE0-4D14-4D6B-A32F-6F715FE2D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E36F-C6D1-4130-B67F-2E46D78D5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817A-ADA0-43EB-8574-F27D3207E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0542-34D4-4043-9D48-0B238DBAD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6E62-27CA-47B3-90C3-6253FB3A9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23F0-3E96-46CC-903D-F26107A1F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3E16-6C3C-4BD3-805F-85CD51E7F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AE54-FD46-4CD2-9D82-9408AEA91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4FDF-98DA-4C66-A75C-8F7CA52F3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BAB3-A9CA-4B15-BF76-13AEA052F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1F03-5210-42C2-980C-9841FB878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ADA7-08B1-4DE1-9854-F2C6E82E5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7C6F4-1722-4F16-9D3E-CF211F1EB5E7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68360" y="333360"/>
            <a:ext cx="8229600" cy="55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Portalóg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Ügytípus centrikus felület, ügyintéző centrikus felület helyet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átrix felépítés ügytípus és ügyintéző nézetek keresztezésével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116000" y="652464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. Budai Balázs Benjá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6237360"/>
            <a:ext cx="38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Front office a közigazgatásb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0" descr=""/>
          <p:cNvPicPr/>
          <p:nvPr/>
        </p:nvPicPr>
        <p:blipFill>
          <a:blip r:embed="rId2"/>
          <a:stretch/>
        </p:blipFill>
        <p:spPr>
          <a:xfrm>
            <a:off x="0" y="2705040"/>
            <a:ext cx="914400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68360" y="333360"/>
            <a:ext cx="8229600" cy="55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Portalóg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lső klikkelés után az almenük közül választhat az ügyfé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Redundancia: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l.: az ügyintéző e-mail címe, a szükséges iratok, az ügyintézés helyszíne, időpontja stb. akár több almenüben is feltüntetésre kerülh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16000" y="652464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. Budai Balázs Benjá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716360" y="6237360"/>
            <a:ext cx="38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Front office a közigazgatásb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1" descr=""/>
          <p:cNvPicPr/>
          <p:nvPr/>
        </p:nvPicPr>
        <p:blipFill>
          <a:blip r:embed="rId2"/>
          <a:stretch/>
        </p:blipFill>
        <p:spPr>
          <a:xfrm>
            <a:off x="0" y="2268360"/>
            <a:ext cx="914400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68360" y="333360"/>
            <a:ext cx="8229600" cy="55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Portalóg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116000" y="652464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. Budai Balázs Benjá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716360" y="6237360"/>
            <a:ext cx="38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Front office a közigazgatásb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2" descr=""/>
          <p:cNvPicPr/>
          <p:nvPr/>
        </p:nvPicPr>
        <p:blipFill>
          <a:blip r:embed="rId2"/>
          <a:stretch/>
        </p:blipFill>
        <p:spPr>
          <a:xfrm>
            <a:off x="0" y="1217520"/>
            <a:ext cx="9144000" cy="48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68360" y="333360"/>
            <a:ext cx="8229600" cy="55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Portalóg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i alkot ideális település portál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ki a fenti szempontokat tart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ki az ügyfélnek kedvez, magának is kedvez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elkergetett ügyfél visszabátorkodik! A kielégített ügyfél nem jön vissz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ügyfél többnyire kérdez! Információéhes! Etessük meg, de ne tömjük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osszú távon az nyer, aki a valós életet virtuálisan le tudja képezni! 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település valamennyi funkcióját (a közösségszervezéstől az e-közigazgatáson keresztül az e-businessig) létre tudja hozni a virtuális térbe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zervezési és nem pénzkérdé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16000" y="652464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. Budai Balázs Benjá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16360" y="6237360"/>
            <a:ext cx="38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Front office a közigazgatásb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68360" y="333360"/>
            <a:ext cx="8229600" cy="55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Portalóg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özponti (kormányportál) rendezőelv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ilozóf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zerkezet és tartal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Célközönsé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egjelen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Online szöveg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Visszacsatol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elhasználóbarátság, eligazodást segítő opció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Látogatottság, előtörténet, frissít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Nyel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Domainné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16000" y="652464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. Budai Balázs Benjá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716360" y="6237360"/>
            <a:ext cx="38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Front office a közigazgatásb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332000" y="652464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. Budai Balázs Benjá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02960" y="1584000"/>
            <a:ext cx="644364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Köszönöm figyelmüke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51280" y="2781360"/>
            <a:ext cx="44956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Book Antiqua"/>
              </a:rPr>
              <a:t>balazs.budai@e-government.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716360" y="6237360"/>
            <a:ext cx="38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Front office a közigazgatásb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132000" y="2276640"/>
            <a:ext cx="4822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>
                <a:solidFill>
                  <a:srgbClr val="000000"/>
                </a:solidFill>
                <a:latin typeface="Arial Narrow"/>
              </a:rPr>
              <a:t>Front office a közigazgatásba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42920" y="6524640"/>
            <a:ext cx="34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. Budai Balázs Benjá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042920" y="1268280"/>
            <a:ext cx="367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Narrow"/>
              </a:rPr>
              <a:t>Tartalo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716360" y="6237360"/>
            <a:ext cx="38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Front office a közigazgatásb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2920" y="6524640"/>
            <a:ext cx="34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. Budai Balázs Benjá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68360" y="2924280"/>
            <a:ext cx="624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ITS-EÖR megoldástérké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ortaló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57200" y="549360"/>
            <a:ext cx="8229600" cy="55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MITS-EÖ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egfogalmazza a szolgáltató típusú, hatékony e-önkormányzat követelménye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feladatok legszélesebb körét átfogó, integrált, a hatékony ügyintézést, ügyfél-kezelés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papíralapú működést felváltó elektronikus iratkezelés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munkafolyamat-kezelést (work-flow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hatékony gazdálkodást, az adatvagyon hasznosításá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döntéstámogatást, az önkormányzati tudás integrálásá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tudás-bázis kiépítését, hasznosítását, és további feladatokat támogató önkormányzati információs rendszer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valamint a korszerű, megbízható, költség-hatékony infokommunikációs infrastruktúrá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652464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. Budai Balázs Benjá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716360" y="6237360"/>
            <a:ext cx="38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Front office a közigazgatásb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68360" y="333360"/>
            <a:ext cx="8229600" cy="55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16000" y="652464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. Budai Balázs Benjá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16360" y="6237360"/>
            <a:ext cx="38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Front office a közigazgatásb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1125360"/>
            <a:ext cx="9144000" cy="48056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95280" y="476280"/>
            <a:ext cx="7067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MITS-EÖR megoldástérké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68360" y="333360"/>
            <a:ext cx="8229600" cy="55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Portalóg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Útban a második generációs oldalak felé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1. generáció: van oldalunk, tegyünk rá valamit, dőljünk hátr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Cél: legyen oldalunk, mert mindenkinek van! Jót tesz az idegenforgalomnak(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2. generáció: valamilyen strukturáltság, hivatalt követő felépíté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önnyű bővíthetőség, skálázhatóság, adatbázison nyugvó alap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Nem prospektus, tájékoztató felü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Gyors, többnyelvű, átláthat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Visszacsatolást talán nézzük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Ügyintézés: 1-2 szint: információ, letöltések korlátozott számb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Cél: adjunk valami képet a hivatalról, elektronizálju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16000" y="652464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. Budai Balázs Benjá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716360" y="6237360"/>
            <a:ext cx="38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Front office a közigazgatásb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68360" y="333360"/>
            <a:ext cx="8229600" cy="55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Portalóg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Útban a harmadik generációs oldalak felé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3. generáció: ügyintézzünk elektronikusa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ematikus egységek: pl.: idegenforgalom-kultúra, gazdaság, ügyintézés, tevékenységre vonatkozó adatok st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Cél: tehermentesítsük az ügyintézőt, feleljünk meg a törvényi kötelezettségeknek, termeljünk pénzt (nem csak bevállalós pályázatokk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eressük meg az ügyfelet! (Hol van? Mit akar? -&gt; visszacsatoláso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Optimalizáljuk az ügyfél tudásá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em látott még közigazgatá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em látott még internet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Funkcionális analfabéta, nem azt látja, ami oda van írva, többszörös didaktikus visszacsatolás kell ne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Türelmetlen: „három egérkattintás” után felad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etárcsázós, ne flasheljünk neki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Gondolkodjunk a fejével: nyomtatási funkció, keresés kulcsszóra, akadálymentesít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16000" y="652464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. Budai Balázs Benjá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6237360"/>
            <a:ext cx="38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Front office a közigazgatásb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68360" y="333360"/>
            <a:ext cx="8229600" cy="55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Portalóg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16000" y="652464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. Budai Balázs Benjá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716360" y="6237360"/>
            <a:ext cx="38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Front office a közigazgatásb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1197000"/>
            <a:ext cx="9144000" cy="46800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65000" indent="-285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gyre több jogszabály a közigazgatási honlapokr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ET X. fejeze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193/2005. Korm. Rendelet az e-ügyintézésrő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195/2005. Korm. Rendelet a biztonságró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2005. évi XC. Tv. Az elektronikus információszabadságró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5000" indent="-28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-info Tv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Önkormányzati honlap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344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Digitális formáb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344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Bárki számá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344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zemélyazonosítás nélkü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344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orlátozásoktól mente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344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ngyene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22960" y="4272120"/>
            <a:ext cx="27925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esz közzé adatok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619440" y="3895560"/>
            <a:ext cx="16383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82840" y="4205160"/>
            <a:ext cx="1992600" cy="1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4287960" y="4406400"/>
            <a:ext cx="988920" cy="8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4325760" y="4506840"/>
            <a:ext cx="943200" cy="29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851280" y="4606560"/>
            <a:ext cx="1409760" cy="48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68360" y="333360"/>
            <a:ext cx="8229600" cy="55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Portalóg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Információk körének négy csoportj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1.) Rendeletek nyilvánossága (részben abszolvál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2.) Szervezeti, személyzeti adatok (10 feladatcsopor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3.) Tevékenységre vonatkozó adatok (18 feladatcsoport: önálló tematikus egységként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4.) Gazdálkodási adatok (üvegzseb követelmények, máshol is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195/2005: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30. § (1) Az elektronikus ügyintézés használatának könnyítése céljából az informatikai célrendszerek kialakítása során törekedni kell az egységes arculati és felhasználói felületi elemek használatá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16000" y="652464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. Budai Balázs Benjá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716360" y="6237360"/>
            <a:ext cx="38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Front office a közigazgatásb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9T08:36:04Z</dcterms:created>
  <dc:creator>horsoly</dc:creator>
  <dc:description/>
  <dc:language>en-US</dc:language>
  <cp:lastModifiedBy>QStudios</cp:lastModifiedBy>
  <dcterms:modified xsi:type="dcterms:W3CDTF">2007-04-16T20:11:41Z</dcterms:modified>
  <cp:revision>19</cp:revision>
  <dc:subject/>
  <dc:title>1. dia</dc:title>
</cp:coreProperties>
</file>