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0C7-E4B2-4435-AE4F-23EBD554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3EA-2B36-4910-AFA1-B8DA0EBA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770-EBD7-4307-8CE1-29AEECB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5EF-552D-4DD7-9B42-C075CC3D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ACF-EFAB-4682-8FFE-B274D8B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F05-7531-43FA-9E5B-2375C8A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A7C-32EF-4E78-AEE9-C956C8DE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EAD-181A-4565-84C4-4C788F9F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8F5-EEC9-49BC-B75F-2C212528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9FC-E47A-4405-98A8-5248B5B8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05E-0381-4085-AC86-6E69B53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53F-8C42-43E4-BD8A-E93A31D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05E6-722C-469C-AD17-A6B34794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A –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rastruktúra és információcsere program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ökés az e-közigazgatásh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let és munka az Információs társadalomban: az ember az első helyen” c. Zöld könyv -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mberek életminőségének változásá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futól Dublinig – Kibontakozó, új prioritások”  közlemény -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egészítő jellegű közösségi tevékenységek akciót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kommunikáció, a media és az információtechnológia közös fejlődési tendenciái, konvergenciája” c. Zöld könyv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tairat az életminőségről és a szabályozandó területekről, hasonló a korábbiakh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EN – TEN-TELECOM program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1997 (e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Trans Európai Hálózatok e-szolgáltatásoké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ső Szintű Szakétrői Csoport végső jelentése az információs társadalomról -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európai Információs Társadalom építése mindannyiunkna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 mint 30 ajánlás, a korábbiak fényé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P5 – 1998-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ördülő terv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matikus prioritás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világ és ökosziszt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elhasználóbarát információ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rsenyképes és fenntartható növekedés előseg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cs 253/1998/EK döntése az Információs Társadalom Promóciójáról: PROMISE program -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olgáltatások és hasznosítási lehetőségek promóci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szógyár” helyett új információs társadalmi megközelítés és valódi terv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lami szektorból származó információk – kulcsfontosságú erőforrás Európa számára” c. Zöld könyv -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lzárkózás (USA-hoz képest) a közhasznú adatok szabályozása ter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ö: Információszabadságról szóló hazai TV – 2005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r Internet Action Plan (SIAP) rendelet -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gy tevékenységcsoport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tonságosabb környezet megterem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űrő és osztályozó rendszerek 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meretterjesztő tevékenységek támog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gram megvalósítását segítő akciók. (Itt kaptak helyet a belső szabályozás és önszabályozás kialakítását segítő akciók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gramot többször hosszabbították, még most is tar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A II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zetközi és internetes technológi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ioritás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cs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elematikai megoldások, hálózatok fejlesz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2B, G2C, G2G kapcsolatok költséghatékonyabb kialak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zetközi, online tudás-, ismeret- és tapasztalati tá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orizontális program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ESTA – infrastrukturális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IRCA – virtuális munkatér – ügyiratkezelő rends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KICUG – e-azonosí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 – Technológiai egységesítést szolgáló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hér könyv az európai kormányzásról –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jó kormányzás építőkövei: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yitottság, részvétel, elszámoltathatóság, hatékonyság és koherencia, megerősítve az arányosság és szubszidiaritás, valamint a partnerség figyelembevételével, az általános és tematikus hálózatok szükségességéve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ngsúly a civil kooperáció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40672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Europe -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LBPS 12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olgáltatási szint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- Offline vil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- Információ – jelenl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- Egyirányú kapcso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- Interaktivi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- Tranzak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- Targetiz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65480" y="0"/>
            <a:ext cx="50785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 a Hatodik Keretprogramban (FP6 – 2002-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ópai Kutatási Térség megvalósításá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közig kapcsolód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55800" y="3086280"/>
            <a:ext cx="58802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ja az európai digitális nemzeti adatvagyon megőrzése és bővítése, a nyelvi és kulturális sokszínűség megőrzésé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Europe 2002 és 2005-ben is kapcsolódik (gördülő terve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ami és önkormányzat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nyelvű, multikulturális digitális tartalomfejlesz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gitális tartalomfejlesz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Europe 2003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csatlakozó 10-ek módosított forgatóköny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vetelmények és prioritások a csatlakozók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overnment Online alprogram – forgatókönyv határidőkk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ületek: nyilvános adatok hozzáférése, közszolgáltatások hozzáférése, egyszerűsített ügyintézés, nyílt forráskódú szoftverek preferenciája, e-szignó, e-piactér, PIAP-ok sűríté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Europe 2005 (-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élessávon működő Euró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-kormányzati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pcsolódások eTEN, IDA, eCONTENT, FP6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IF – Európai Interoperabilitási Ke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vezet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mantikai- (adatform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chnikai- (front office és back-office ajánlás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52720" y="1989000"/>
            <a:ext cx="52912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 „Tervezés időszak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Role of E-government for Europes’s Future – Európai Bizottsági közlemény –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ntosítja és aktualizálja az eEurope 2005-ö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sszacsatol a csatlakozás utáni állapotról, ezek fényében ajá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Ab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rjesztés üzletre és civilekre 2005. január 1-t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fer Internet Plus program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iztonsági követelmények igazítása az új technológiák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zel kapcsolatos jogalkotási fel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lileo Program (2002)- 200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PS európai alternatívá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 „Kijózanodás és realitás időszak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2010: Európai Információs Társadalom a növekedésért és foglalkoztatásért” Straté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%-os K+F ráfordítás nem realizálódi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sszaboni kiábrándult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rom társadalmi prioritá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séges Európai Információs Tér (szélessávú, nagytartalmú, biztonságos, interoperábi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okommunikációs K+F beruházások növ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fogadó (inklúzív) Európa: (e-Gap!) a hátrányos helyzetűek felzárkó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P7 –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fogadása 2006-ra vár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orsabb adminisztráció és pályáztatás, kevesebb rész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2708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Stratégiá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zai 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atégiai ismérve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rsadalmat és nemzetgazdaságot átfogó programoz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rmányszintű – intézményi - képvise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zmény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ámos, de nem átfog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éhány, de nem intézmén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ponti államigazgatás informatikai stratégiája 1995-1997. évek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i és tárgyi feltételekről szó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S – Nemzeti Informatikai Stratégia – 1995-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2, főleg EU-ból adaptált stratégiai cé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„informatikai társadalom” kialakításának kormányzati teend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Zöld könyvre emlékeztető, antropocentrikus tanulmány 20 feladat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válasz –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ézisek az információs társadalomról –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ét „előzménydokumentum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zai 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yar Informatikai Charta -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RUM – figyelemfelhívás a lemaradásra és hiányo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os eleme megjelenik a NITS-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P – Technológiai Előretekintési Program  -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árom éves (OMFB) bizottsági munka eredmén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gy problémát vet f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rhatóan milyen társadalmi, gazdasági, környezeti és piaci trendek bontakoznak ki hosszú táv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+F mely területei a legfontosabbak ezen trendek szempontjából (hasznosítás, ill. a kedvezőtlen hatások enyhítése, kivédése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ogyan lehet a versenyképesség növelése és az életminőség javítása érdekében a leghatékonyabban felhasználni az állami forrásoka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lyen kölcsönhatások érvényesülnek az intézmény-rendszer, illetve a műszaki-technikai és a piaci lehetőségek közöt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ami szerepvállalás szükségességét állapítja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zai 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TS –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ézményi háttér: I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ódik a Széchenyi Terv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ráshiány és zárt költségvetési keret: szűk kereteket biztosí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TS – EK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igazgatás kopernikuszi fordulata – szolgált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v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rastrukturális alapok (infrastruktúra, biztonság, kép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lgárbarát ügyintézés (e-ügyinté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ékonyabb hivatali munka (funkcionális feladatok informatikai támogatá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ITS-EKP az e-Kormányzat 2005. előzménydokument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zai 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S -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avatkozási területek (6) – főirányok (13) - program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őirányok fedik le a beavatkozási területek és a programok közötti ré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gram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emelt Központi Program (KK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gazati Kiemelt Program (ÁK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gazati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ször jelenik meg a benchmarking, mutató-elvű köv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S – E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várás-halmaz – az ideális önkormányzat képének lefes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ront Office és Back office tudatos szétválasz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zai 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-Kormányza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H-EKK kvázi önálló, de a MITS rés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emelendő az „e-kormányzat 2005 programozása” c. anyag, mely részletes forgatókönyvet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rmányzati programok és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okommunikációs Iparpolitikai Ajánlás –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apcsolódik az NFT II-hö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 kitörési irányok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 termelő ágazatok informatizálása (Eü, oktatás, környezetvédelem, kultúra st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csó, szolgáltató állam fejlesz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azdasági versenyképesség fokozása informatizálás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övő iparágainak informatikai katalizál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formatikai infrastruktúra továbbfejlesz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rópa Terv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zeti konszenzusra épülne, informatikai része tárgyalás al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981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8456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U stratégi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zai stratégiák – stratégiai jelentőségű dokumentumok és ezek hat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Stratégiák és rész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zdetek – 1993 – 1999 a remény év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vezés időszaka 1999-2004 – Európa és az információs társadalom átérték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józanodás és a realitás időszaka – 2005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erseny ahol EU a harmadik, tét a versenyképesség és a gazdasági prosperitás: a lelkesedés túlzott optimizmusba haj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hér könyv a növekedésről, versenyképességről és a foglalkoztatásról –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án-Európai infrastruktúra, lehetőségteremtő h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gemann Jelentés -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rmációs forradalom és anomáli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olgáltatások: prémium, testreszabott csomagok, meglévők új technológiá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leti és tudományos szféra szer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ioritások: távközlési liberalizáció, „EU-NHH”, szabványosítás, szellemi tulajdonjog védelme, titokvédelem szabályozá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pítőkockák: hálózatok, alapszolgáltatások, alkalmazások, interkonnektivitás és interoperabili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angemann Jelentés – 10 kezdemény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vmunka vég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vtanu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temi és kutatói háló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ematikai szolgálta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u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légi u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észségügyi hálóz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közbeszerzés (EK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ransz-európai államigazgatási háló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rosi információs hálóz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rfui európai csúcs –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hér könyv és Bangemann elfogadása – innentől stratégiai cél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rópa útja az információs társadalomba – a Tanács esseni nyilatkozata –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rvényi és jogi keretek szükségessé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általános szolgáltatás definiálása és finanszíroz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konnektivitás és interoperabili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llemi tulajdonjogok védel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ektronikus és jogi véde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édiumok ellenőr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zetközi vonatkozás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PO projektiroda feláll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led-i közép-európai miniszteri tanácsk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ép-Európa országainak reménykeltő nyilatkozata a terület fontosságáról és lehetőségei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4: 1994-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tprogramok: tudományos kutatás és technológiai fejlesztés prioritásai (1984-, 1987-, 1990-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4: nagyságrendekkel nagyobb tőke, nagyobb jelentő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állalatok, a kutató intézetek és az egyetemek közötti együttműködést erősítő kutatási programok támogatás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Unión kívüli tagországokkal és nemzetközi szervezetekkel való kutatási együttműködés támogatás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özösségi támogatással keletkezett kutatási és fejlesztési eredmények elterjesztése és optimalizálás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ók képzésének és mobilitásának a támogatá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„remény éve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7 konferencia az információs társadalomról –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kukktojás, de nagy európai jelentősége miatt fo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alapelv a beruházások ösztönzésé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inamikus verseny elősegí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agánberuházások bátorít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ptálható szabályzó keretek definiál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álózatokhoz történő szabad hozzáfé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olgálatokkal történő egyetemes ellátottság és az azokhoz történő hozzáférés biztosít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állampolgárok egyenlő lehetőségeinek elősegí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artalom diverzitásának biztosítása, köztük a kulturális és nyelvi diverzitásé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lágot átfogó együttműködés szükségességének felismerése, különös tekintettel a gyengén fejlett országok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4-16T18:36:28Z</dcterms:modified>
  <cp:revision>14</cp:revision>
  <dc:subject/>
  <dc:title>1. dia</dc:title>
</cp:coreProperties>
</file>