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B11-8E75-48B1-8A10-37440BA2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717-8A3F-46FC-9866-3BD113FC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13A5-14D7-4AEA-B724-4E06C9B0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28C-0174-4898-AB9B-F9ED720F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061-7CD8-4B56-88D0-AB9DCA9F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7DB-95CC-4198-87E8-FC978B1D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98F-16B2-4FDE-B41A-BC514D3F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821-BBAE-4360-9BE0-0324E640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A22A-C908-4F33-9FFE-2EFFBCE6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1EE-F4FA-408D-91D6-7E840FA0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30C-9D49-414E-BEDB-7B32C9D8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583-56C5-4E3A-AD24-33EBD6E0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4B4D-3330-4B00-8EA7-802F91F0B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vipnet.org/mobilegov/" TargetMode="External"/><Relationship Id="rId3" Type="http://schemas.openxmlformats.org/officeDocument/2006/relationships/hyperlink" Target="http://www.vipnet.org/mobilegov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lévő minták, pilo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ri Lanka – Finnország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Véradás SMS-ben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előzetes egyeztetés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örökország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Földrengés figyelmeztetés SMS-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ushmoo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Anglia): Infotxt – akutális szórakozási időtöltési lehetőségekről, árvízről, útkarbantartásról (vö: Hajdúszoboszló: Méhészek értesítése permetezésk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Canne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Közhasznú és szórakoztató információk SMS-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Norvégi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Adózás SMS-ben (Finnek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Norvégi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Körzetfüggő trafipax szolgálta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elsinki, Béc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Jegyvásárlás SMS-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New Yor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Terroristaveszély értesítés az eü-személyzet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kóci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SMS emlékeztető a lakbér tartozások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vőbe mutató közigazgatási megold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lévő minták, pilo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Cape Tow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SMS-értesítés gyógyszerek beszedésérő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e-Merge (GPS automatikával, légzsáktól függő működ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alajzi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SMS-ben kimondható vá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Németország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SMS alapú katasztrófa-értesítő rendszer (20 perc alatt az egész lakosságot elé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ingapú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My eCitizen feliratkozás után figyelmeztet pl.: lejárt igazolványra, adófizetésre, könyvtári díjfizetésre, orvosi vizsgálatra, valamint közleményeket 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nad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Wireless Portál (Kontaktok, határátlépésnél becsült várakozási idő, útlevéllel kapcsolatos szolgáltatások: kétnyelv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vőbe mutató közigazgatási megold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lévő minták, pilo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ált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Mobil kormányzati portál (igazolványok lejárata, turisztikai-, kereskedelmi és hajózási engedélyekről értesítés, vizsgaeredmény értesítő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irginia állam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USA): Mobil eszközökre optimalizált információ lekérések 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ipnet.org/mobilegov</a:t>
            </a: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Dél-Kore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U-Korea program (Ubiquitous);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árhonnan-bármik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Dél-Afrik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M-kormányzati alapozó tanulmány (nem kockáztatja a tecnhológiák közötti választást, minden technológiához elterjedtséget, árat, fejlesztési időtávot, felhasználási lehetőséget kö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olgáltatások száma napról napra tömegesen nő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vőbe mutató közigazgatási megold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zigazgatási IKT használat, műveltség, attitű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özigazgatás „öröksége” a korszerűtlen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ttitűdvizsgálat több helyü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redménye: tudás, eszköz, affinitás alacs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ókuszt a mobiltelefonr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Ügyélkapcsolati prioritás miat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all centerek és contact center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egrált CRM megoldá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éb IP-alapú (mobiltelefonos) kapcsolattartási lehetőség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„hagyományos” párhuzamos fenntartása melle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vőbe mutató közigazgatási megold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zigazgatási korszerűsí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istérségi együttműködés, szervezet-átvilágítás, ügymenet-racionalizál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azai önkormányzati rendszer korszerűtle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hézkes, túlsúlyos 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gymenetek ugyancs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alap (a talaj) inog: kistérségek, régi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gy nemcsak a jövő, de a jelen is meghatároz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vőbe mutató közigazgatási megold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chnikai szabályozottság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szabványok, kompatibilit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abályozottság, vagy annak hiánya meghatározó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pl.: 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rekvencihasználat államon kívüli szabványosítása (gyártói konzorcium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özigazgatás akkor tudja nyújtani szolgáltatásait, ha mindenki számára egyformán elérhető (Vo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DA program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Interchange of Data between Administ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zel elkerülhetők a vertikálisan és horizontálisan is „szigetszerű alkalmazás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vőbe mutató közigazgatási megold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Jogi szabályozottság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ánia „pokla” versus állami monopólium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i szabályozás minden eddigi terület mögött felfedezhet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llamfelfogás lehet liberális és konzervatí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nnak árnyalat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nzervatív Szingapúr vs. konzervatív K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berális USA vs. liberális Dá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án diszkont szolgáltatók – dán mobil pok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fizetés 0 EUR, SMS 0,03 EUR, percdíj 0,09 EU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ek gerjesztik a használato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isszaveti az adatvédelem és adatbiztonság alulszabályozása, kiforratlansága – lassú felzárkóz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Új KET? Ügyfélkapú? M-adózá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vőbe mutató közigazgatási megold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Jogi szabályozottság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ánia „pokla” versus állami monopólium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i szabályozás minden eddigi terület mögött felfedezhet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llamfelfogás lehet liberális és konzervatí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nnak árnyalat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nzervatív Szingapúr vs. konzervatív K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berális USA vs. liberális Dá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án diszkont szolgáltatók – dán mobil pok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fizetés 0 EUR, SMS 0,03 EUR, percdíj 0,09 EU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ek gerjesztik a használato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isszaveti az adatvédelem és adatbiztonság alulszabályozása, kiforratlansága – lassú felzárkóz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Új KET? Ügyfélkapú? M-adózá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vőbe mutató közigazgatási megold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28548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mergens terület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elyzettudatosságra épülő technológiák és szolgáltatás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ai 2-2,5 G-s technológiák csúcsa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egyben a közigazgatás egyik lehetősé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reskedelem már felismerte (N-g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U-s közigazgatás felismerte (e-Me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a a felhasználó-barátságra, szolgáltató jelle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eszély: intim-szférába behatolás riasz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PS, GPS, LB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U: EGNOSS, GALI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vőbe mutató közigazgatási megold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356000" y="333360"/>
            <a:ext cx="433080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28548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mergens terület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-go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igitális átállás: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tirányú hitelesített interaktivi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szerűbb kezelőfelü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gasabb induló penetrációs érté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vőbe mutató közigazgatási megold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32000" y="2276640"/>
            <a:ext cx="482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Jövőbe mutató közigazgatási megoldáso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6524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6524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2960" y="1584000"/>
            <a:ext cx="64436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51280" y="2781360"/>
            <a:ext cx="4495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 Antiqua"/>
              </a:rPr>
              <a:t>balazs.budai@e-government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vőbe mutató közigazgatási megold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126828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Tartal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vőbe mutató közigazgatási megold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6524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2276640"/>
            <a:ext cx="624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-közigazg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elyzettudatosságra épülő technológiák és szolgált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-közigazg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-közigazga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obil-kommunikáción alapuló szolgáltatásokat befolyásoló tényező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rekvenciák használata, telítetts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használók száma, intenzitása, attitű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lévő pilotok száma, nemzetközi (leginkább EU-s) mint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igazgatási IKT használat, műveltség és attitűd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zirci tr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igazgatási korszerűsítés (kistérségi együttműködés), szervezet-átvilágítás, ügymenet-racionalizál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chnikai szabályozottság (szabványok - kompatibilitá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ogi szabályozott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ötét lovak: emergens területek, technológi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vőbe mutató közigazgatási megold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rekv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asznosítható frekvencia nem korlátlan erőforrá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rekvenciák az állami akarat és a technológia fejlődése függvényében nyílnak m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9KHz-100 illetve 275 GHz-ig szabályozott (NHH jelentősé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abályozási szemponto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unkcionális (mit szolgáljon?) -  (pl.: EDR: TETRA – TETRAPOL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azdaságossági (mit érdemes, hogy szolgáljon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lyen formában – beruházás, szolgáltatás-vásárlás, bérl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ncesszió (koncesszió Magyarország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ötödik koncesszió és a közigazgatás (mint a wholesale piac lehetséges meghatározója) lehetősé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+2 piaci szereplő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vőbe mutató közigazgatási megold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vőbe mutató közigazgatási megold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frekvencia tabla1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lhasználók száma, intenzitás, attitű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ogers S-görbé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Újítók (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Korai adaptálók (13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Korai többség (3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Kései (szükségszerű) többség (3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Lemaradók (1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tthon is megfigyelhető, az IKT majd minden terület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enleg intenzív fejlő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nyer, aki szolgáltat, ebben a közigazgatás előtt óriási lehetőségek nyílnak m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vőbe mutató közigazgatási megold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vőbe mutató közigazgatási megold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9640" y="620640"/>
          <a:ext cx="8151840" cy="5013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620640"/>
                    <a:ext cx="815184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lévő minták, pilo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tletforráso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lévő (nem feltétlenül elektronikus és nem feltétlenül közigazgatási) módszerek adaptá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ülföldi (bevált) módszerek adaptá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gyarország SMS-alapú (!) „best practice-ei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VIII. Kerületi önkormányzat SMS-ügyfélszolgálati modu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M i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ntkérés okmányok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M gépjárműlekérde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I információk felvételizők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FK segélyké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jdúszoboszló és környéke 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M-par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chnológiá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 Finnország – NOK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WP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övőbe mutató közigazgatási megold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08:36:04Z</dcterms:created>
  <dc:creator>horsoly</dc:creator>
  <dc:description/>
  <dc:language>en-US</dc:language>
  <cp:lastModifiedBy>QStudios</cp:lastModifiedBy>
  <dcterms:modified xsi:type="dcterms:W3CDTF">2007-04-30T23:03:00Z</dcterms:modified>
  <cp:revision>27</cp:revision>
  <dc:subject/>
  <dc:title>1. dia</dc:title>
</cp:coreProperties>
</file>