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FB1-C53D-4E2F-BA8C-2976679A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D69-BF15-489C-B6EB-9AC49D2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E6D-E731-4C86-BE87-0DBE502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25E-BF38-44B7-8D0F-944F2EB4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31D-6D21-4B70-8A82-D2D8291E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065-A685-4B81-BBF1-E1A0948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21B-1CC8-4490-A125-F9948ECE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CBA-26A3-4568-9624-D2D94D0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B27-FE64-4139-85D4-68FB849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745-5F86-4EEB-966A-20E4A21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194-2BC1-479A-9CF9-BE56693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352-CAA0-44D0-8B5E-0D98B2F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EA3-F714-4DC8-B8A8-491CC608945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inco.hu/" TargetMode="External"/><Relationship Id="rId3" Type="http://schemas.openxmlformats.org/officeDocument/2006/relationships/hyperlink" Target="http://www.infopen.hu/" TargetMode="External"/><Relationship Id="rId4" Type="http://schemas.openxmlformats.org/officeDocument/2006/relationships/hyperlink" Target="http://www.ittk.hu/" TargetMode="External"/><Relationship Id="rId5" Type="http://schemas.openxmlformats.org/officeDocument/2006/relationships/hyperlink" Target="http://www.e-government.hu/" TargetMode="External"/><Relationship Id="rId6" Type="http://schemas.openxmlformats.org/officeDocument/2006/relationships/hyperlink" Target="http://www.mgsg.org/" TargetMode="External"/><Relationship Id="rId7" Type="http://schemas.openxmlformats.org/officeDocument/2006/relationships/hyperlink" Target="http://www.telehaz.hu/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ntosabb webhely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9999"/>
                </a:solidFill>
                <a:uFillTx/>
                <a:latin typeface="Arial"/>
              </a:rPr>
              <a:t>http://lgi.osi.hu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Open Society Institu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co.hu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Információs társadalmi port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nfopen.h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E-business információs port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ttk.hu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BMGE-ITT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e-government.hu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gsg.or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-government Kutatócso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telehaz.hu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– www.telefalu.hu – www.euta.h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Teleház mozgal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ww.meh.hu/ek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EH-EK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ww.magyarorszag.h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I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ww.ihm.hu, www.infotars.hu, www.itktb.hu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652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2960" y="1584000"/>
            <a:ext cx="6443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2781360"/>
            <a:ext cx="449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</a:rPr>
              <a:t>balazs.budai@e-government.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40360" y="1844640"/>
            <a:ext cx="35272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 Narrow"/>
              </a:rPr>
              <a:t>Információ </a:t>
            </a:r>
            <a:br>
              <a:rPr sz="5400"/>
            </a:br>
            <a:r>
              <a:rPr b="1" lang="hu-HU" sz="5400" spc="-1" strike="noStrike">
                <a:solidFill>
                  <a:srgbClr val="000000"/>
                </a:solidFill>
                <a:latin typeface="Arial Narrow"/>
              </a:rPr>
              <a:t>Tudás </a:t>
            </a:r>
            <a:br>
              <a:rPr sz="5400"/>
            </a:br>
            <a:r>
              <a:rPr b="1" lang="hu-HU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981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Tartal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28456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 az információ – tudás – tartalom  fogalomhármas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merkedés az információs infrastruktúra jelentő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ációs társadalom és a közigazgatás kapcsolata – útban az e-közigazgatás f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 Tartal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-kormányzat társ- és határtudomány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4408560" cy="4233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 Tartal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özigazgatási technológiák viszo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534000" cy="467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 Tartal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Társadal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udományos és műszaki információ évente 13%-kal növekszik (5,5 évente duplázódi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interneten található adatmennyiség 300%-kal emelkedett az előző évhez kép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információkból élők (azt hasznosítók) száma fokozatosan emelked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információ értéke nő – Az információ hatalom  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legfontosabb erőforrá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ilág GDP-jének közel 10%-a ered az infokommunikációs iparbó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em a „humanoid robotok” kora (Polli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annak olyan információk, melyeknél a társadalom közös érdeke, hogy azokat mindenki ismerje. (közigazgatás) (Nemzeti adatvagyon – NDA, NA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 Tartal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nomáliá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ársadalom az információhoz való hozzáférés alapján szegmentálódik, kialakul az e-Gap! v. Digital Divide (DID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kadékok több sík menté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letk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öldraj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nyagi-egzisztenci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gzettsé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ládi háttérben mutatk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elvisme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nkahel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jékozottsági (igényhiányból fakad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yatékkal élők sík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 Tartal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16360" y="623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áció – Tudás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t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társadalom itth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zai kontextusban 1960-as évekre nyúlik viss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COM lista hátráltató h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atégiák ITB (Magyar Válasz),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TS, MITS, EÖR, E-kormányzat 2005, Európa Terv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södő informatikai háttér (IKB-tól IHM-ig és tovább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litikai jelenlét, pártstratégiák, informatikai csoportok, netpár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ház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I. János Pál 2001. November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zent Titusz Brandsma, Sevillai Szent Izi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-vangélikus.hu, katolikus egyhá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él a térségi vezető szerep – fokozatos pozícióvesz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s „barátságos” verseny a térség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33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lson Gyémánt (Ernest Wilson: Wilson Qu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égy nagy a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vil sz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 önálló teljesítmény a lényeg,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nem a közöttük kiépülő csatorná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udomány-Civil tengely (hagyományosan erő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ág-Tudomány tengely (lassú felértékelő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litika-Gazdaság és Politika-Tudomány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tagnálás alacsony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6524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Budai Balázs Benjá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836640"/>
            <a:ext cx="2412720" cy="295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623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elektronikus közigazgatá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gi környe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8:36:04Z</dcterms:created>
  <dc:creator>horsoly</dc:creator>
  <dc:description/>
  <dc:language>en-US</dc:language>
  <cp:lastModifiedBy>QStudios</cp:lastModifiedBy>
  <dcterms:modified xsi:type="dcterms:W3CDTF">2007-04-16T17:44:52Z</dcterms:modified>
  <cp:revision>12</cp:revision>
  <dc:subject/>
  <dc:title>1. dia</dc:title>
</cp:coreProperties>
</file>