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F7F-6A4E-41CE-BA44-E2D8D30E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981-1448-4A40-81AF-9EE3C5E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8B3-7FF1-4D80-A464-E9C6B54F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009-CDB9-41DC-B010-ABCF48E1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443-4B3C-4247-BC4B-58081F26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039-96F4-4092-9083-09F93FED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094-CBA1-46B3-AB75-3FBF092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B62-6BA0-4B75-86D8-DB63FC36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AF2-32C7-4349-8CAE-8AD81AEE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024-2AB6-4C4C-A0A6-B3B076B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2A2-E8D2-46C9-A6A2-92248DF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A10-DE67-40C3-A38F-B41A1BB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8FD-F967-466E-9305-7948727DEA0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téságazat jellemz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84582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lelmiszerellátásban és exportban betöltött sze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braktakarmány fogyasz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ját előállítás: takarmánykeve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sár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nyésztés elválhat a termékpál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érő üzemi formák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azdasági szerveze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55-60%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884 db/gazda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gyéni gazdaság: 40-45%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7 db/gazda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lyamatos (ütemes) termelés biztosí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ális struktúra (rotáci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akaszok időbeli összehangolása (szinkronizálás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úgatások üteme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z épületegységekbe egyszerre történő ki- és betelepítés előny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tekinthetőbb, tervezhetőbb az állomány mozg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arítás és fertőtleníté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rtőtlenítési lá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gközelítően azonos korú állatok együttes kezelése révén csökken a betegségek kocká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armányozási, állatgondozási és –mozgatási munkák ésszerűbb szerve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ozható istálló klíma (állatok termelésének megfelelő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kban kifejezve az az időtartam, amely alatt azonos életkori fázisban lévő állománycsoportot lehet kialakí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induló pont: vemhes koca mikor fog fial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cacsoport nagy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kciós ci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ománynagyságtól függően: (4) 7, 10, 21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cacsoport nagyságát befolyás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az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nev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ízlalás szerv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476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Ütemid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téstelep épület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mékenyítő istálló/te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emheskoca istálló/te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iaztató istálló/te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lacnevelő istálló/te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zlaló istálló/te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mheskoca istáll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8868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szeri igénybevételi id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temid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31240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caférőhely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pületegység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4495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ocacsoportok induló lét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724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221000"/>
            <a:ext cx="8001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484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pületegységek szá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0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aztató istáll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énybevételi id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yhez szok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alás-szopt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setleges malac-előnevel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rítás-fertőtlen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pületegységek szá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4450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501336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szeri igénybevételi id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temid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őbb döntési problém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zlalás optimális időtartamának meghatár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caselejtezés optimális idejének megválasz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adag optimaliz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26920" y="1268280"/>
          <a:ext cx="759636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9636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omány alak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tésállomány megoszlása gazdálkodási formák szerint 1998-2006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628640"/>
          <a:ext cx="8229600" cy="4967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1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asági szervez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ni vállalkoz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4854600" y="2637000"/>
            <a:ext cx="0" cy="395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6093000"/>
            <a:ext cx="936720" cy="57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172360" y="2636640"/>
            <a:ext cx="0" cy="38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6093000"/>
            <a:ext cx="936720" cy="57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tést tartó gazdálkodók (április. 1-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25360"/>
          <a:ext cx="8496360" cy="5316840"/>
        </p:xfrm>
        <a:graphic>
          <a:graphicData uri="http://schemas.openxmlformats.org/drawingml/2006/table">
            <a:tbl>
              <a:tblPr/>
              <a:tblGrid>
                <a:gridCol w="1182960"/>
                <a:gridCol w="1698480"/>
                <a:gridCol w="1773360"/>
                <a:gridCol w="1965240"/>
                <a:gridCol w="1876320"/>
              </a:tblGrid>
              <a:tr h="79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p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ést tart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a- és előhasi kocát tart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. Szer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ni gaz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d. Szer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ni gaz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9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 6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0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763640" y="2708280"/>
            <a:ext cx="0" cy="36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781360"/>
            <a:ext cx="0" cy="35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2781360"/>
            <a:ext cx="0" cy="35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2781360"/>
            <a:ext cx="0" cy="35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yészkoca tart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351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mhessé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alás, szoptatá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-35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ri ciklu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ő búgatá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14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mhesülési %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-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caforgó (fialások száma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1-2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caselejtezé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628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elési (reprodukciós) ciklus paraméter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lacnevel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asztási idő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h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lési idő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-80 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és az előnevelésk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és utónevelésk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 felhasznál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8-1,0 kg/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meggyarapod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-460 g/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hasznosít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8-2,5 k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töme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-3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yészsüldő nevelé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828440"/>
            <a:ext cx="878544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lés kezdő testtömeg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2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ző” felnevelé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kg-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 felhasznál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2-2,5 kg/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meggyarapod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-480 k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yészérettsé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-12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zlal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zlalás kezdő testtöme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2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és hizlalás alat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5-2,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kfelhasznál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2-2,5 kg/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meggyarapod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0-740 g/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armányhasznosítá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2-4,0 k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égtöme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-10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z ágazat szerkez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43828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yé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209680"/>
            <a:ext cx="1174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ac nev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4382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zla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5080" y="2438280"/>
            <a:ext cx="1521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rték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209680"/>
            <a:ext cx="1676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gás és feldolg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86200"/>
            <a:ext cx="4343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armány keverék gyá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029200"/>
            <a:ext cx="4343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armányterm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4343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9907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9092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9112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26:08Z</dcterms:created>
  <dc:creator>Györök Balázs</dc:creator>
  <dc:description/>
  <dc:language>en-US</dc:language>
  <cp:lastModifiedBy>Györök Balázs</cp:lastModifiedBy>
  <dcterms:modified xsi:type="dcterms:W3CDTF">2007-03-27T08:13:20Z</dcterms:modified>
  <cp:revision>2</cp:revision>
  <dc:subject/>
  <dc:title>Sertéságazat jellemzői</dc:title>
</cp:coreProperties>
</file>