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4.jpeg" ContentType="image/jpeg"/>
  <Override PartName="/ppt/media/image33.png" ContentType="image/png"/>
  <Override PartName="/ppt/media/image53.wmf" ContentType="image/x-wmf"/>
  <Override PartName="/ppt/media/image51.wmf" ContentType="image/x-wmf"/>
  <Override PartName="/ppt/media/image29.png" ContentType="image/png"/>
  <Override PartName="/ppt/media/image48.png" ContentType="image/png"/>
  <Override PartName="/ppt/media/image23.jpeg" ContentType="image/jpeg"/>
  <Override PartName="/ppt/media/image52.wmf" ContentType="image/x-wmf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1.png" ContentType="image/png"/>
  <Override PartName="/ppt/media/image14.wmf" ContentType="image/x-wmf"/>
  <Override PartName="/ppt/media/image2.wmf" ContentType="image/x-wmf"/>
  <Override PartName="/ppt/media/image41.jpeg" ContentType="image/jpeg"/>
  <Override PartName="/ppt/media/image67.wmf" ContentType="image/x-wmf"/>
  <Override PartName="/ppt/media/image25.jpeg" ContentType="image/jpeg"/>
  <Override PartName="/ppt/media/image32.png" ContentType="image/png"/>
  <Override PartName="/ppt/media/image22.jpeg" ContentType="image/jpeg"/>
  <Override PartName="/ppt/media/image15.wmf" ContentType="image/x-wmf"/>
  <Override PartName="/ppt/media/image3.wmf" ContentType="image/x-wmf"/>
  <Override PartName="/ppt/media/image63.wmf" ContentType="image/x-wmf"/>
  <Override PartName="/ppt/media/image61.png" ContentType="image/png"/>
  <Override PartName="/ppt/media/image59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60.wmf" ContentType="image/x-wmf"/>
  <Override PartName="/ppt/media/image24.wmf" ContentType="image/x-wmf"/>
  <Override PartName="/ppt/media/image26.jpeg" ContentType="image/jpeg"/>
  <Override PartName="/ppt/media/image18.jpeg" ContentType="image/jpeg"/>
  <Override PartName="/ppt/media/image68.gif" ContentType="image/gif"/>
  <Override PartName="/ppt/media/image19.png" ContentType="image/png"/>
  <Override PartName="/ppt/media/image62.jpeg" ContentType="image/jpeg"/>
  <Override PartName="/ppt/media/image11.wmf" ContentType="image/x-wmf"/>
  <Override PartName="/ppt/media/image50.png" ContentType="image/png"/>
  <Override PartName="/ppt/media/image66.jpeg" ContentType="image/jpeg"/>
  <Override PartName="/ppt/media/image16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6.wmf" ContentType="image/x-wmf"/>
  <Override PartName="/ppt/media/image27.jpeg" ContentType="image/jpeg"/>
  <Override PartName="/ppt/media/image5.wmf" ContentType="image/x-wmf"/>
  <Override PartName="/ppt/media/image17.wmf" ContentType="image/x-wmf"/>
  <Override PartName="/ppt/media/image10.jpeg" ContentType="image/jpeg"/>
  <Override PartName="/ppt/media/image55.png" ContentType="image/png"/>
  <Override PartName="/ppt/media/image12.wmf" ContentType="image/x-wmf"/>
  <Override PartName="/ppt/media/image30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3.wmf" ContentType="image/x-wmf"/>
  <Override PartName="/ppt/media/image40.jpeg" ContentType="image/jpeg"/>
  <Override PartName="/ppt/media/image42.jpeg" ContentType="image/jpe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EED-8262-4467-B41E-5B1340E8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9E8-0020-4665-AE51-EA4D688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87C-B7FB-4CE5-A03B-781ED882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A0D-24FA-4467-AC8D-12ACC3A3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143-ED9D-4888-9EF2-A44FF02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118-0109-48E1-B7DA-3612545C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DB7-EABD-451F-B0F4-61C8958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E89-B6FF-4A93-9272-DBEA4539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E55-496E-4054-9B4A-0CC0C47C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32E-4AD9-45C5-95CC-145DA386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0F9-9AC3-4943-B8B3-8B39A480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228-6CE7-4DCA-A286-C7837F7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7AA-AFFB-458A-8E2A-3492DA1C9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13800" cy="223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7628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 baromfiágaza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41360"/>
            <a:ext cx="914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gazdasági kérdése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997360"/>
            <a:ext cx="9144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Copperplate Gothic Bold"/>
              </a:rPr>
              <a:t>Vágóbaromfi termelé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3700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zőllősi Lászl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Nábrádi And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E13-85AA-4E7D-8E6C-B1307A4E42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ágóbaromfi-termelés az  EU-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6120" y="1341360"/>
            <a:ext cx="88678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3. legnagyobb baromfihús termelő a vilá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melés: 2006-ban 10,8 millió tonna (2015-re 11,6 millió to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leg önellátó az EU, de folyamatosan csökken az export m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használás: 2006-ban 10,3 millió tonna (2015-re 11,5 millió to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gyasztás: 22 kg/fő/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xport 1,4 millió tonna (2006), Import 0,9 millió tonna (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gnagyobb termelő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esült Királyság (1,6 Mt),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ranciao. (1,8 Mt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émeto. (1,2 Mt), Spanyolo. (1,3 Mt), Olaszo. (1 Mt), Lengyelo. (1 M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r.o., Olaszo. visszae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öbb országban stagn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xportorientált: Hollandia, Franci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mportorientált: Németo., Egyesült Király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8172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VEC, 2007; FAO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4FF-206F-4A90-A7C3-7C99D63CA5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gy főre jutó baromfihús-fogyasztás az EU-ban (2005-b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30864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VEC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628640"/>
          <a:ext cx="9144000" cy="44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2C6-6BB8-4C54-9631-0509D4745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magyar baromfifeldolgozás szerkezete (2000-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38172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BTT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1160" y="24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71520"/>
          <a:ext cx="914256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1520"/>
                    <a:ext cx="9142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E2F-BF4A-485F-8171-CFE25A541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gyarország baromfihús termelésének megoszlása 1988-ban és 2006-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38172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417680"/>
          <a:ext cx="4716360" cy="38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471636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211640" y="1413000"/>
          <a:ext cx="4681440" cy="38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413000"/>
                    <a:ext cx="46814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F92-3E01-4F1C-A87F-7E10A1A9FD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gyarország baromfihús exportjának és importjának alaku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520" y="623736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KSH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125360"/>
          <a:ext cx="9144000" cy="44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89B-FF0A-4041-994F-2DD6FFAE2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ágóbaromfi-termelés nemzetgazdasági jelentősé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8960" y="1700280"/>
            <a:ext cx="882504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 mezőgazdaság BTÉ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1%,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z állattenyésztés BTÉ 31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~175 milliárd Ft (200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 vágóállat-termelés 43-45%-át adj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Termelés: 450 ezer tonna (élő tömegbe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(2007: 51%-230 ezer tonna csirke, </a:t>
            </a:r>
            <a:br>
              <a:rPr sz="2300"/>
            </a:b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   27% pulyka, 7% liba, 16% kacs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z EU termelésének 4,2%-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Fogyasztás: 32 kg/fő/év (2006)</a:t>
            </a:r>
            <a:br>
              <a:rPr sz="2300"/>
            </a:b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  (18,8 kg csirke, 1,5 kg egyéb tyúkféle, 8 kg pulyka, </a:t>
            </a:r>
            <a:br>
              <a:rPr sz="2300"/>
            </a:b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    2,5 kg kacsa, 1,2 kg li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Export: 91 ezer tonna, (1988. 225 ezer t) (236 millió EUR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Import: 35 ezer tonna (30 millió EUR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320" y="6237360"/>
            <a:ext cx="29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KSH, 2008; AKI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237-0ABF-4817-AED9-205E51632E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ágóbaromfi-termelés jelentősége, problémái, kihívá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41000"/>
            <a:ext cx="8915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áztáji termelés további 100 ezer tonna nem regisztrált „ szürke termelé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irke-pulyka elsődlegesen hazai piac, vízi-szárnyas alapvetően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eldolgozók kapacitásának 1/3-a nem felel meg a korszerű, versenyképes műszaki technológiai színvonalna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összesen 47 vágóüzem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0 regisztrált termelő, integrátorokon keresztül további 2300 (kis-, őstermelő, egyéni vállalkozó), a baromfiiparban 15 ezer fő, a teljes integráció kb. 150 ezer főt ér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everéktakarmány felhasználáshoz kb. 1 millió tonna gab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aromfi férőhelyek kb. 40-45 %-a felel meg a korszerű versenyképes feltételeknek, a férőhelyek 20-30%-át nem lehet, vagy nem célszerű felújít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EU piacain egyre nagyobb hányadot (6-8%) képvisel a szabadtartásos baromfitermel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882-7FDD-4673-B9E2-951AC9C14C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86800" cy="495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aromfiállomány alakulása Magyarorszá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illió 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461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7; KSH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341360"/>
          <a:ext cx="8640720" cy="495144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41440"/>
                <a:gridCol w="1439640"/>
                <a:gridCol w="1440000"/>
                <a:gridCol w="1440000"/>
              </a:tblGrid>
              <a:tr h="49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Arial"/>
                          <a:ea typeface="Times New Roman"/>
                        </a:rPr>
                        <a:t>É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Arial"/>
                          <a:ea typeface="Times New Roman"/>
                        </a:rPr>
                        <a:t>Tyúkfé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Arial"/>
                          <a:ea typeface="Times New Roman"/>
                        </a:rPr>
                        <a:t>Puly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Arial"/>
                          <a:ea typeface="Times New Roman"/>
                        </a:rPr>
                        <a:t>Kac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Arial"/>
                          <a:ea typeface="Times New Roman"/>
                        </a:rPr>
                        <a:t>Li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ff"/>
                          </a:solidFill>
                          <a:latin typeface="Arial"/>
                          <a:ea typeface="Times New Roman"/>
                        </a:rPr>
                        <a:t>Össze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0-as évek átl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36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36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5F7-9A45-43F3-A2E4-F18472C84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48720" cy="531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461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35C-1348-40F8-9A62-81BDDC299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6028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vágóbaromfi-termelés előny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341360"/>
            <a:ext cx="86868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kedvezőbb szaporodásbiológiai adottságok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"tetszés szerint " szaporítható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jobb fehérje transzformáció, kisebb termőföld hasznosítá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zonylag kis eszközigén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nagyobb az egységnyi férőhelyen előállított hú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nyisége, kiváló istállókihasználtság, legjobb produkciós 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rodukciós képes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nagyobb élőmunka hatékonyság, legkisebb élőmun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gény, jól szervezhető munkar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konszolidáltabb (és korszerű) technológia,iparszerű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melés lehetősé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efektetett tőke gyors mozgása, likviditás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őnyö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9640" y="1454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9640" y="2111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8600" y="412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0280" y="4876920"/>
            <a:ext cx="1593720" cy="19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1FC-C025-43CC-B7A0-62FF594865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1197000"/>
          <a:ext cx="8118720" cy="50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811872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18900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ilág hústermelésének megoszlása 2005-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világ összes termelése: 265 millió t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0" y="63086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882-7C66-4B8C-9E5B-7A29F45C4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40480" y="5491080"/>
            <a:ext cx="1703520" cy="136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45720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vágóbaromfi-termelés hátrány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821240"/>
            <a:ext cx="853416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acsony jövedelemtermelő képesség, rekonstrukciós ig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lentős import fehérje felhasznál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ldolgozók előfinanszírozási nehézség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termelők nem rendelkeznek elég működő tőké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árt technológia, szigorú, nagy fegyelem és hozzáértés ig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opóliumok, kartellek kialakulásának veszélye na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korszerű fajták igényesebbek a takarmánnyal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hnológiával szem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etenként élőmunka csúcsok (csőrözés, vakcinázá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kodás, stb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E03-131A-4474-AFAE-79654B8F72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rmelési- és tartásmód-megválasz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rvényes, megbízható értékesítési szerző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j telep létesítése – teleprendsz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pületek méretezése (10-12m * 90-100m; 10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llományváltás, rotációk számának megállap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ízlalási időszak hossza (39-47 n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rvizperiódus hos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scsibék fogadása – telepítési sűrűség (15-18 db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– optimum elérése (gazdaságosság &lt;&gt; elhull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lyalmos csirkehizla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óvízellátás, világítás, fűtés, szellőztetés kérdés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ömeggyarapodás, takarmányfogyasztás, elhul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410080"/>
            <a:ext cx="1150920" cy="287280"/>
          </a:xfrm>
          <a:prstGeom prst="rightArrow">
            <a:avLst>
              <a:gd name="adj1" fmla="val 50000"/>
              <a:gd name="adj2" fmla="val 1001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7BF-034A-4B3D-97AB-AC6240AF9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6028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tikai alapok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1905120" cy="2276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1341360"/>
            <a:ext cx="633564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egjellemzőbb hibrid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oss 308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200" spc="-1" strike="noStrike">
                <a:solidFill>
                  <a:srgbClr val="0000ff"/>
                </a:solidFill>
                <a:latin typeface="Arial"/>
              </a:rPr>
              <a:t>http://www.aviagen.com/docs/Ross%20308%20Broiler%20PO%20HU.p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ob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ybro PG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1905120" cy="227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BAD-42CB-4579-A5A9-B38A26AEE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hazai brojler-állomány üzemméret szerinti megoszlása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989000"/>
          <a:ext cx="8447040" cy="2730600"/>
        </p:xfrm>
        <a:graphic>
          <a:graphicData uri="http://schemas.openxmlformats.org/drawingml/2006/table">
            <a:tbl>
              <a:tblPr/>
              <a:tblGrid>
                <a:gridCol w="2160360"/>
                <a:gridCol w="1116000"/>
                <a:gridCol w="1295640"/>
                <a:gridCol w="1447560"/>
                <a:gridCol w="1325520"/>
                <a:gridCol w="1101960"/>
              </a:tblGrid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retkategória (d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000 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 000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≥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ü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zesedés az üzemek számábó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zesedés a brojler-állománybó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79280" y="5805360"/>
            <a:ext cx="59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NYÁRS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4AE-03FB-49F2-AC30-272692461C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nagyüzemi és a szabadtartásos brojler hizlalás összehason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700280"/>
          <a:ext cx="872316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72316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50920" y="4724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yarországon jellemzően nagyüzemi brojler hizlalás folyik, a vágott csirke mindöss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-1,2%-a (1350 ezer db) szabadtartásos (2005-b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237360"/>
            <a:ext cx="59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Baromfi Coop Kft.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AF0-70C0-49C2-A91C-F8231E2548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1160" y="260280"/>
            <a:ext cx="6910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z ágazat berendezkedési költ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6640" y="1052640"/>
            <a:ext cx="85107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I. Befektetett eszközö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Szántóföl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- A fajlagos takarmányfogyasztás alapján (kg/k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- Saját termelésű és vásárolt takarmány ará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Telek (ipari létesítmén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Épülete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- istállók, szociális épület, stb.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25-35 ezer Ft/m</a:t>
            </a:r>
            <a:r>
              <a:rPr b="1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Berendezése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- belső technológia (fűtés, önetető, önitató)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8-15 ezer Ft/m</a:t>
            </a:r>
            <a:r>
              <a:rPr b="1" lang="hu-H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II. Forgóeszközök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~ a TK 80-85%-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- takarmány, napos állat, energia, vakcina,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gyógyszer, munkabér, fertőtlenítő szerek,</a:t>
            </a:r>
            <a:br>
              <a:rPr sz="2200"/>
            </a:b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st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5880" y="4564080"/>
            <a:ext cx="3048120" cy="229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90B-6841-4AE4-A9BC-D52B9189A8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491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317840" y="2625840"/>
            <a:ext cx="4826160" cy="42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CD2-B11C-405E-A2C3-6A231AFA5E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1359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809880" cy="178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43280" y="3114720"/>
            <a:ext cx="4500720" cy="20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908000" y="3759120"/>
            <a:ext cx="26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651640" y="0"/>
            <a:ext cx="3492360" cy="2930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105680" y="5373720"/>
            <a:ext cx="2038320" cy="1333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4067280" y="0"/>
            <a:ext cx="1504800" cy="2708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324000" y="3716280"/>
            <a:ext cx="14000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4859280" y="5373720"/>
            <a:ext cx="2238480" cy="134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5CE-AEBD-47EA-A8E8-DD222161A6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3961080" cy="2509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987640" cy="2603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308448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132000" y="189000"/>
            <a:ext cx="25117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500720" y="2637000"/>
            <a:ext cx="4174920" cy="261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BD6-C45E-4860-B237-0664B4E92A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604960" cy="2877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7440" y="1197000"/>
            <a:ext cx="1707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II. Munkaer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9480" y="1617840"/>
            <a:ext cx="65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~100 ezer fő az baromfi ágazatban (BT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8040" y="2036880"/>
            <a:ext cx="7030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Az egy fő által gondozható egyedek szá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5400" y="2455920"/>
            <a:ext cx="344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csirke 10-15 ezer db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5760" y="2874960"/>
            <a:ext cx="343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egyéb   3-4   ezer d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83080" y="3292560"/>
            <a:ext cx="335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Kritikus" időszako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99480" y="3733920"/>
            <a:ext cx="1158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épé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99480" y="4191120"/>
            <a:ext cx="1268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ömé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98760" y="4648320"/>
            <a:ext cx="173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csőrözé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9120" y="5105520"/>
            <a:ext cx="1564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rakodá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5562720"/>
            <a:ext cx="143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- állat e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2440" y="333360"/>
            <a:ext cx="6910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z ágazat berendezkedési költ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08F-6EF2-43A0-B504-ED1F5ECDF2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2160" y="716040"/>
          <a:ext cx="918360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716040"/>
                    <a:ext cx="918360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8900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z EU (25) hústermelésének megoszlása 2006-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z EU (25) összes termelése: 42,4 millió to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0" y="63086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CA9-A9D6-4B85-B297-B55C210A6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781680" y="5943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89240" y="409680"/>
            <a:ext cx="2217960" cy="471240"/>
          </a:xfrm>
          <a:prstGeom prst="roundRect">
            <a:avLst>
              <a:gd name="adj" fmla="val 154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93920" y="414360"/>
            <a:ext cx="2208240" cy="461880"/>
          </a:xfrm>
          <a:prstGeom prst="roundRect">
            <a:avLst>
              <a:gd name="adj" fmla="val 15468"/>
            </a:avLst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2400" y="457200"/>
            <a:ext cx="205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termelési ért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2920" y="1379520"/>
            <a:ext cx="2219040" cy="473040"/>
          </a:xfrm>
          <a:prstGeom prst="roundRect">
            <a:avLst>
              <a:gd name="adj" fmla="val 154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7600" y="1384200"/>
            <a:ext cx="2209680" cy="463680"/>
          </a:xfrm>
          <a:prstGeom prst="roundRect">
            <a:avLst>
              <a:gd name="adj" fmla="val 15468"/>
            </a:avLst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48428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010"/>
                </a:solidFill>
                <a:latin typeface="Arial"/>
              </a:rPr>
              <a:t>Hoz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2406600"/>
            <a:ext cx="177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iológiai</a:t>
            </a: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ap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4240" y="2890800"/>
            <a:ext cx="235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2. Tenyésztési színv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3520" y="3375000"/>
            <a:ext cx="193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Állategészségü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3860640"/>
            <a:ext cx="196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4. Tartástechnoló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4240" y="4346640"/>
            <a:ext cx="128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5. Mikroklí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320" y="4830840"/>
            <a:ext cx="255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6. Ráfordítások színvon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080" y="5315040"/>
            <a:ext cx="182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7. Munkaszervez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3880" y="5800680"/>
            <a:ext cx="183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8. Humán tényező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89240" y="1379520"/>
            <a:ext cx="2217960" cy="473040"/>
          </a:xfrm>
          <a:prstGeom prst="roundRect">
            <a:avLst>
              <a:gd name="adj" fmla="val 154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93920" y="1384200"/>
            <a:ext cx="2208240" cy="463680"/>
          </a:xfrm>
          <a:prstGeom prst="roundRect">
            <a:avLst>
              <a:gd name="adj" fmla="val 15468"/>
            </a:avLst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80360" y="14842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010"/>
                </a:solidFill>
                <a:latin typeface="Arial"/>
              </a:rPr>
              <a:t>Egységá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0560" y="2406600"/>
            <a:ext cx="12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sttöm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2890800"/>
            <a:ext cx="183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rmék minősé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2720" y="3375000"/>
            <a:ext cx="175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(3. Toll összetét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8400" y="386064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4. Kobz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64120" y="1379520"/>
            <a:ext cx="2219400" cy="473040"/>
          </a:xfrm>
          <a:prstGeom prst="roundRect">
            <a:avLst>
              <a:gd name="adj" fmla="val 154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69160" y="1384200"/>
            <a:ext cx="2209680" cy="463680"/>
          </a:xfrm>
          <a:prstGeom prst="roundRect">
            <a:avLst>
              <a:gd name="adj" fmla="val 15468"/>
            </a:avLst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2360" y="14842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010"/>
                </a:solidFill>
                <a:latin typeface="Arial"/>
              </a:rPr>
              <a:t>Egyé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55080" y="2406600"/>
            <a:ext cx="117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1. Kártér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3280" y="2890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010"/>
                </a:solidFill>
                <a:latin typeface="Arial"/>
              </a:rPr>
              <a:t>2. Egyé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99120" y="890640"/>
            <a:ext cx="1440" cy="23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22080" y="1130400"/>
            <a:ext cx="2776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440" y="1130400"/>
            <a:ext cx="1440" cy="23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99120" y="890640"/>
            <a:ext cx="1440" cy="23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9120" y="1130400"/>
            <a:ext cx="1440" cy="23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99120" y="890640"/>
            <a:ext cx="1440" cy="23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99120" y="1130400"/>
            <a:ext cx="2774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74000" y="1130400"/>
            <a:ext cx="1440" cy="23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803240"/>
            <a:ext cx="1440" cy="78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2920" y="2585880"/>
            <a:ext cx="27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2920" y="1803240"/>
            <a:ext cx="1440" cy="126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3070080"/>
            <a:ext cx="27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1803240"/>
            <a:ext cx="1440" cy="175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920" y="3556080"/>
            <a:ext cx="27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2920" y="1803240"/>
            <a:ext cx="1440" cy="2237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2920" y="4040280"/>
            <a:ext cx="27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920" y="1803240"/>
            <a:ext cx="1440" cy="272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2920" y="4525920"/>
            <a:ext cx="27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920" y="1803240"/>
            <a:ext cx="1440" cy="320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2920" y="5010120"/>
            <a:ext cx="27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2920" y="1803240"/>
            <a:ext cx="1440" cy="3691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2920" y="5494320"/>
            <a:ext cx="27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2920" y="1803240"/>
            <a:ext cx="1440" cy="4176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2920" y="5979960"/>
            <a:ext cx="27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89240" y="1803240"/>
            <a:ext cx="1800" cy="78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89240" y="2585880"/>
            <a:ext cx="2700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89240" y="1803240"/>
            <a:ext cx="1800" cy="126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240" y="3070080"/>
            <a:ext cx="2700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89240" y="1803240"/>
            <a:ext cx="1800" cy="175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89240" y="3556080"/>
            <a:ext cx="2700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89240" y="1803240"/>
            <a:ext cx="1800" cy="2237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89240" y="4040280"/>
            <a:ext cx="2700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64120" y="1803240"/>
            <a:ext cx="1800" cy="78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4120" y="2585880"/>
            <a:ext cx="27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64120" y="1803240"/>
            <a:ext cx="1800" cy="126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64120" y="3070080"/>
            <a:ext cx="27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AB9-EC1F-45ED-8E62-71771D6C69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34136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rás: AVIEGEN – ROSS 308-as brojler teljesítménymutatók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iológiai alap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11280" y="2133720"/>
          <a:ext cx="7772400" cy="32605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letk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ap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töme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karmány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rtékesí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g/k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2D1-D295-47D1-966F-B6DCDD5B19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5214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ágócsirke havi termelői értékesítési árának alakulása (2004-2007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0" y="1104840"/>
          <a:ext cx="9025200" cy="486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104840"/>
                    <a:ext cx="90252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012-693D-4D77-9583-C1FB78EC81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5214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600" y="1054080"/>
          <a:ext cx="9093240" cy="53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054080"/>
                    <a:ext cx="909324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irke egészben (65%) havi feldolgozói értékesítési árának alakulása (2004-2007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B7D-AB11-4780-B702-C072335D3A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14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irkecomb havi feldolgozói értékesítési árának alakulása (2004-2007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093680"/>
          <a:ext cx="9144000" cy="51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369-5624-4A45-8E0B-07C368843B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214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irkemell havi feldolgozói értékesítési árának alakulása (2004-2007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240" y="1274760"/>
          <a:ext cx="913608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274760"/>
                    <a:ext cx="913608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A5C-8A0A-478C-A991-72E563A875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6248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1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5E3-977C-4011-A328-E1E1F3321C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6248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0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113-14D6-456C-948D-E501AE349F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62373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0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AF1-D410-4CA9-B0E4-678EB46C2B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1928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hirek_52d" descr=""/>
          <p:cNvPicPr/>
          <p:nvPr/>
        </p:nvPicPr>
        <p:blipFill>
          <a:blip r:embed="rId1"/>
          <a:stretch/>
        </p:blipFill>
        <p:spPr>
          <a:xfrm>
            <a:off x="304920" y="579600"/>
            <a:ext cx="8458200" cy="5184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04920" y="62485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BTT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E4F-4DF0-4457-BE01-19E9E41F95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aromfihús-termelés megoszlása a főbb termelő országokban</a:t>
            </a:r>
            <a:br>
              <a:rPr sz="3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világ összes termelése: 83,7 millió tonna (2006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2015-re 103 millió to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8172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 2008, AKI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2128680"/>
          <a:ext cx="777240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28680"/>
                    <a:ext cx="77724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858-729F-4473-9DB5-954ED4CCB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 – Dél-Amer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él-Amerikában engedélyezett a húsliszt és a csontliszt használata, míg az EU-ban csak növényi eredetűek a takarmányo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él-Amerikában engedélyezett olyan hozamfokozó szerek, takarmány adalékok és állatgyógyászati szerek használata, melyeket az EU-ban betiltotta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 EU állatvédelmi és állatjóléti  intézkedései (tartás, takarmányozás, szállítás, stb.) szigorúak és kötelezőek, míg Dél-Amerikában nincsenek ilyene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dvezőbb klíma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acsonyabb energia költség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797-43C8-4534-BC51-0609DE9AB9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89000"/>
            <a:ext cx="9144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Brojlerhízlalás önköltsége 2007. 1. negyedé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Arial"/>
              </a:rPr>
              <a:t>(Országos átlag a BTT adatbázisa alapjá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1040" y="5923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16572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ÖLDI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0920" y="1413000"/>
          <a:ext cx="8569080" cy="4087800"/>
        </p:xfrm>
        <a:graphic>
          <a:graphicData uri="http://schemas.openxmlformats.org/drawingml/2006/table">
            <a:tbl>
              <a:tblPr/>
              <a:tblGrid>
                <a:gridCol w="3384360"/>
                <a:gridCol w="2592360"/>
                <a:gridCol w="2592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öltségn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t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rojler naposcs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4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akarmá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9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yógyszer, fertőtlenítő 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ér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éb közvetlen 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rtékcsökken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érleti dí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jes ön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72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528-7A39-456C-A3A7-2E90E5E88A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145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5214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armánykeverékek havi értékesítési árának alakulása (2004-200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197000"/>
          <a:ext cx="914400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C1F-8653-4EDB-ACF0-814E2C5C84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5214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PAPP, 2007 AKI adatok alapj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Vágócsirke költség és bevétel alakulása (piacmeghatározó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0" y="981000"/>
          <a:ext cx="8820000" cy="60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82000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DDB-9AF3-414A-A682-C3AC2B60B3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6521400"/>
            <a:ext cx="65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PAPP, 2007 AKI adatok alapj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Csirkehízlalás költség és jövedelem alakulása Magyarországon 2005-ben (piacmeghatározó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98100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0A4-2DBF-4073-8453-D138E9B973C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öltség-, árbevétel- és jövedelemkalkuláció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TT 2007. decemberi adatai* alapj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6165720"/>
            <a:ext cx="754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*napos baromfi 78 Ft/db, takarmány 82 Ft/kg, értékesítési ár 225 Ft/k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652140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Saját kalkuláció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0920" y="1052640"/>
          <a:ext cx="8642160" cy="5024160"/>
        </p:xfrm>
        <a:graphic>
          <a:graphicData uri="http://schemas.openxmlformats.org/drawingml/2006/table">
            <a:tbl>
              <a:tblPr/>
              <a:tblGrid>
                <a:gridCol w="3076560"/>
                <a:gridCol w="1398600"/>
                <a:gridCol w="1396800"/>
                <a:gridCol w="1384560"/>
                <a:gridCol w="1385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technoló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echnoló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dási tömeg (kg/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hullás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karmányértékesítés (kg/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t/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t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t/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t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yagjellegű költség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,89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,6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,3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6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ől: Napos barom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,62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,0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69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,4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karmá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36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3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76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7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zemélyi jellegű költség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0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76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6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rtékcsökkenési leír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6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3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5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zolgáltatás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6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8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yéb közvetlen költség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9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2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Közvetlen termelés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69,6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60,9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75,0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15,92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elés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,0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,0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5,0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,0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edezeti 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     64,6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     35,9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,9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,08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1B5-F059-42F9-8F6F-AB1E0AA3E1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ágócsirke-termelé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turális hatékonysága 2004-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587700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orrás: PAPP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79280" y="1341360"/>
          <a:ext cx="8782200" cy="3311640"/>
        </p:xfrm>
        <a:graphic>
          <a:graphicData uri="http://schemas.openxmlformats.org/drawingml/2006/table">
            <a:tbl>
              <a:tblPr/>
              <a:tblGrid>
                <a:gridCol w="2305080"/>
                <a:gridCol w="2158920"/>
                <a:gridCol w="2159280"/>
                <a:gridCol w="2158920"/>
              </a:tblGrid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szág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ágási töm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armány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lhaszná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hul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émet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cia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esült Királys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ngyel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agyarország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2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1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*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159480" y="4867560"/>
            <a:ext cx="5161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2005. évi adat (AKI tesztüzemi adatai alapján, országos átla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2002. évi adat (Baromfi Termék Tanács felméré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34120" y="4869000"/>
            <a:ext cx="3809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C51-2E55-4915-B382-1E6BCF3AAE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grár- és Vidékfejlesztési Támogatások 200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858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7. Nemzeti hatáskörbe tartozó támogatá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./ Az állat-egészségügyi és élelmiszer-higiéniai vizsgálat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költség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b./ A vágóbaromfi állat-egészségügyi prevenciós 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gyógyszerköltségeinek 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c./ A növendékliba- és növendékkacsa-nevelő telep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állategészségügyi prevenciós és gyógyszerköltségein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d./ Étkezésitojás-termelő baromfi állategészségügyi prevenciós 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gyógyszerköltségeinek 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g./ A mezőgazdasági haszonállattartás állatvédelmi szabályain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megfelelően előállított vágóbaromfi termelési 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10. EMVA-támogatá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./ Állattartótelepek korszerűsítésének 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b./ Önálló, építéssel nem járó gépek, technológiai berendezés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beszerzésének támog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55308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orrás: MVH, Agrár- és Vidékfejlesztési Támogatások 200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B99-DD5D-4055-B5EC-4D18ECE63E3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2280" y="228600"/>
            <a:ext cx="899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z ágazat versenyképességének jav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914400"/>
            <a:ext cx="88390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tékonyság javítása: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- Élőtömeg növelés      (1,8 &gt;&gt; 2,1-2,2 kg/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Elhullás csökkentés   (7 &gt;&gt; 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Takarmányértékesítés javítása (2,0 &gt;&gt; 1,7-1,9 kg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 (12-13 MJ/kg), fehérje (20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Technológia, tartási körülmények modernizál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Állategészségügy (mikoplazma mentesí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Kobzás csökken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karmány fertőzöt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ztonságos élelmiszer előállítás követelményeinek megterem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eredetazonosítás, nyomon-követhetősé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termékpálya egészét felölelő koordinációk vagy integráci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ialakításának és működtetésének ösztönzése, támogatá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termékpálya szervezettségének javítása, hosszú távú szerződé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pcsolatok kiépítése, megfelelő marketingstratégia kialakítá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Ökológiai (szabad)tartás feltételeinek megteremt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467480" y="1989000"/>
            <a:ext cx="1438560" cy="14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24B-2D84-4828-900C-192FD8998B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z EU-csatlakozás hatása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aromfiágazatra vonatkozó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romfihús közös piaci szervezetének átvételével a hazai szabályozás lényegesen egyszerűsödö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szűntek a közvetlen ágazat-specifikus nemzeti támogatások, beleértve az árhoz kötött minőségi támogatást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gyar termelőknek élesebb versenyben kell helytállniuk EU piacá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ősödő nemzetközi verseny, növekvő takarmányár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nyomás (brazil csirkehú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acionalizálódási folyamat a mezőgazdasági fázisban és a feldolgozásban felgyor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igorodó állatjóléti és környezetvédelmi előírások, melyek a megfelelni nem képes gazdaságok bezárását jelenti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ló jövedelmezőség az ágazatb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romfiágazat jelenleg a kritikus ágazatok közé sorolhat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EU szigorú forgalmazási szabályai és szabványai hatására az előírásoknak nem megfelelő vágóhidakról, továbbá a feketegazdaságból származó baromfihús visszaszorulása hosszú távon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4EA-FF08-4EC4-B946-CC9183EA061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96720" y="1338120"/>
          <a:ext cx="850932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338120"/>
                    <a:ext cx="850932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világ baromfihús termelésének megoszlá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világ összes baromfihús termelése: 83,7 millió tonna (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8172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59A-1834-466D-95B3-B2A0C5938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dárinfluenza pánik, s annak hatá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5. novembertől 2006. július-augusztusig tarto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reslet visszaesés (30-40%), elsősorban csirkehú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rcsökkenés (10-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eszteségek kétharmad része - 12-13 milliárd forint - az árak, a tárolási többletköltségek és a magas finanszírozási költségek miatt a feldolgozói szektorban jelentkezt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melői oldalon mintegy 7,8 milliárd forint kár keletkeze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sszaesés a termelésben: viziszárnyas: 18-19%, csirke 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sszességében mind a termékkibocsátásban, mind az árbevételben a baromfiipar 12-15%-kal esett viss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6. júniusban kedvező tendencia vette kezdetét: a fogyasztók akkorra jöttek rá, hogy sokan ,,túllihegték" az ügyet, és a madárvész nem jelent veszélyt az emberekre, hiszen Európában senki sem betegedett m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TT: Szigorú intézkedések, ,,Ellenőrzött magyar baromfi" védjegy (2002) a fogyasztói tudatosság támogatása érdeké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55308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orrás: B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ED2-30AC-4A90-9DBD-41F211890D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világ pulykahús termelése 2006-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55640" y="549360"/>
          <a:ext cx="7526520" cy="6002280"/>
        </p:xfrm>
        <a:graphic>
          <a:graphicData uri="http://schemas.openxmlformats.org/drawingml/2006/table">
            <a:tbl>
              <a:tblPr/>
              <a:tblGrid>
                <a:gridCol w="614520"/>
                <a:gridCol w="2801880"/>
                <a:gridCol w="2527200"/>
                <a:gridCol w="1582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szá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lykahús terme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zer ton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gosz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ates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i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oc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ssz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0" y="65214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B4D-C2EE-470F-BA94-942E7E3C6C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247680" y="326880"/>
          <a:ext cx="870120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6880"/>
                    <a:ext cx="870120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24000" y="56610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A7E-D166-4949-B4E6-80A088E120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pulyka ágazat jellemző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4000" y="119700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981000"/>
            <a:ext cx="8569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azdasági jelentősége: hústerm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melés 120-130 ezer tonna (élő súlyban), 25%-a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Óriási mértékű növekedés (1975-95 között), az állomán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és a termelés 4-szeresére nő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zai pulykahús fogyasztás fokozatos növekedése: 8 kg/fő/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azai pulykahús-termelés kizárólag import tenyészállományokra alapoz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ulykatermelésben a Nagy-Britanniából és Izraelből importált szülőpároktól származnak a napospulykák. Az éves keltetés 11 millió napospuly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lacsony a tojók tojástermelése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(100-110 db/tojó, 70-75%-a keltethető)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&gt;&gt;&gt; viszonylag magas a napospipe ára (2007-ben 354 Ft/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014-BE4F-4261-907B-D98BDCE6B6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03280" y="1052640"/>
            <a:ext cx="864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ajátossága az integr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agyarországon egyedüli teljes, vertikális integráció: Gallicoop Z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tozó lehet a kívánt tömeg &gt;&gt; hizlalási idő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692360" y="2421000"/>
          <a:ext cx="6194520" cy="1785600"/>
        </p:xfrm>
        <a:graphic>
          <a:graphicData uri="http://schemas.openxmlformats.org/drawingml/2006/table">
            <a:tbl>
              <a:tblPr/>
              <a:tblGrid>
                <a:gridCol w="1540080"/>
                <a:gridCol w="2174760"/>
                <a:gridCol w="1042920"/>
                <a:gridCol w="14367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lőtöm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jler puly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-6 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g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16 hé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ly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tér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g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hét fele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4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gant puly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. 2,5 kg mellhú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-14 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j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hét fele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k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hét fele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5640" y="4869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0200" y="4508640"/>
            <a:ext cx="871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rtási forma: intenzív, zárt, mélyalmos jellegű (félintenzív, extenzí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fázisú és kétfázisú (elő- és utó-) ne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pulyka ágazat gazdasági kérdés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1F5-A4E7-4D05-8655-148D8D3DA1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pulyka ágazat gazdasági kérdés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1557360"/>
            <a:ext cx="8424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lepítési sűrűség: 30-35 kg élőtömeg négyzetméterenként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vegyes ivarban 5-7 db/m</a:t>
            </a:r>
            <a:r>
              <a:rPr b="1" lang="hu-H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iatal korban igényes a klímára, később kevésbé érzék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karmányozás sajátosságai: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csökkenő növekedési erél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ivar tekintetében lényeges különbségek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&gt;&gt; ivar szerinti elkülönített nevelés és takarmány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ajlagos takarmány felhasználás: 3,0-3,2 kg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hullás: 0-10 nap között 1,5-2,0%; leadásig 5-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72E-18A9-447F-B70F-0BF38983570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ulyka ágazat főbb ökonómiai adata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6-2007. év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24000" y="1390680"/>
            <a:ext cx="8208720" cy="39448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6461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BTT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2CE-F5CC-4631-8A7A-14A8405BBCA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65214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ágópulyka havi termelői árának alaku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-47520" y="557280"/>
            <a:ext cx="924084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B60-3381-47DF-BEB1-FBB31439FF0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ulykahízlalás (élősúly) költsége és jövedelme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5-2006. év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5214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tesztüzemi adatok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50120" y="126828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értékegység: Ft/k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68360" y="1700280"/>
          <a:ext cx="8280360" cy="3384360"/>
        </p:xfrm>
        <a:graphic>
          <a:graphicData uri="http://schemas.openxmlformats.org/drawingml/2006/table">
            <a:tbl>
              <a:tblPr/>
              <a:tblGrid>
                <a:gridCol w="3452760"/>
                <a:gridCol w="2413080"/>
                <a:gridCol w="2414520"/>
              </a:tblGrid>
              <a:tr h="428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szágos át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rtékesítési átlag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elés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elés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bből: Alapanyag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armány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Ágaz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lősúly önköltsé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1A0-08D1-49B0-8C89-AD8DF837055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A pulykahízlalás (élősúly) költsége és jövedelme a piacmeghatározó gazdaságok átlagában (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65214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PAPP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0" y="620640"/>
          <a:ext cx="9936000" cy="60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93600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327672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redmé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8000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Önkölt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FDD-785F-4CC0-BA4D-80688EDAA4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381720"/>
            <a:ext cx="34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USDA, 2007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PP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7760" y="188640"/>
            <a:ext cx="843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ilág jelentős baromfihús-exportőr és importő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szágai (brojler + pulyk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052640"/>
          <a:ext cx="9144000" cy="44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1FF-5B02-4A3B-B331-BB7537DC68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ulyka ágazat jövő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5214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ERDÉLYI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1844640"/>
            <a:ext cx="8136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akarmány és energiaárak drasztikus emelked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ersenyképesség megőrzésének legfontosabb eleme a technikai és technológiai megújulás, fajtavál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ntos a teljes integráció meglé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elmúlt évek madárinfluenza problémáját leszámítva a pulykaágazat jelenlegi nehézségei és problámái ellenére versenyképes ágaz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9BA-1BD8-4790-8417-42F915CB656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világ libahús termelése 2006-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95280" y="1197000"/>
          <a:ext cx="8137080" cy="4716360"/>
        </p:xfrm>
        <a:graphic>
          <a:graphicData uri="http://schemas.openxmlformats.org/drawingml/2006/table">
            <a:tbl>
              <a:tblPr/>
              <a:tblGrid>
                <a:gridCol w="626760"/>
                <a:gridCol w="2772000"/>
                <a:gridCol w="3042360"/>
                <a:gridCol w="169596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hu-H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z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szá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ahús termel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zer tonn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goszlá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8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ung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ech Republ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Kingdo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 (2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sszes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28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0" y="6461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58B-565C-47BB-85B1-280EC2AEF3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8360" y="461880"/>
            <a:ext cx="8280360" cy="5330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04920" y="57913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, FAO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4CB-2A3D-47A0-99FC-1A2681FC58E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lúd ágazat jellemző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1341360"/>
            <a:ext cx="889308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sznosítási irány: hús, máj, t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melés 30-40 ezer tonna (élő súlyban), exportorientált ágazat (3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entős libamáj export: ~1300 tonna, ~25 millió U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aromfiágazat exportárbevételének 1/3%-át ad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utóbbi évtizedben ingadozások tapasztalhatók (40-50 ezer to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azai libahús fogyasztás: 1,2 kg/fő/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fajtaválaszték bőséges: 10 hústípusú és 6 májtípusú fajta és hibrid áll rendelkezésre. Hústípusú lúdból 4 millió, májtípusból 3 millió naposlibát keltetnek ki év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C37-BC93-49AC-946B-7D7344A8ABA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2987640" y="1916280"/>
          <a:ext cx="5973840" cy="2009520"/>
        </p:xfrm>
        <a:graphic>
          <a:graphicData uri="http://schemas.openxmlformats.org/drawingml/2006/table">
            <a:tbl>
              <a:tblPr/>
              <a:tblGrid>
                <a:gridCol w="2232000"/>
                <a:gridCol w="1157400"/>
                <a:gridCol w="2584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lőtöm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csenyel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4,5 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-9 hé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úsl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6 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16 &gt;&gt; 30-37 hé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bos l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6 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ízott liba / májl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-10 hét vagy időseb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ll-l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lúd ágazat gazdasági kérdés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5280" y="3860640"/>
            <a:ext cx="8748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észetes vízfelületek, legelő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tenzí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ípusú hasznosítása a cé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&gt; tömegtakarmányt hasznosító szere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&gt; gazdaságosság, versenyképesség jav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armány felhasználás: 3 kg abrak + 0,1-0,5 kg tömegtakarmány 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ökonómiai alapú döntések hátterében a hús, a máj és a toll ára, értékesíthetőségi lehetőségei, a várható jövedelem a dön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 &gt;&gt;  főtermék &gt;&gt; fajta &gt;&gt; tartási mód &gt;&gt; takarmány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620640"/>
            <a:ext cx="8820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csony reprodukciós képesség (szezonális jellegű tojástermel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magasabb tojástermelés a 2-3. évben (40-50 db/é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ús-, máj-, tolltermelés vegy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19D-44DE-4BC0-A862-BBF712F9AB8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50920" y="1268280"/>
            <a:ext cx="88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lalatgazdaságtani előnyei: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nagy fiatalkori növekedési erél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relatíve kisebb táplálóanyag igén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olcsóbb tömegtakarmányok felhasználása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jó legelőkészség, csekély értékű legelők hasznosítása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épülettel, berendezésekkel szemben viszonylag igénytelenebb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jó ellenálló kép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lalatgazdaságtani hátrányai: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gyenge szaporaság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termék-előállítás szezonális jellege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labilis tűrőképesség a tömeges tartással szemben (stressz)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legelőterület és a kifutó erős igénybevé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ágazat visszaszorulása legtöbb országban a többi baromfi fajhoz képest (intenzív termelés, környezetvéde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lúd ágazat jellemző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0B7-5073-4549-87EC-B995C034D4E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lúd ágazat főbb ökonómiai adata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6-2007. év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6461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BTT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68360" y="1341360"/>
          <a:ext cx="8272440" cy="3816360"/>
        </p:xfrm>
        <a:graphic>
          <a:graphicData uri="http://schemas.openxmlformats.org/drawingml/2006/table">
            <a:tbl>
              <a:tblPr/>
              <a:tblGrid>
                <a:gridCol w="1871640"/>
                <a:gridCol w="1066680"/>
                <a:gridCol w="1067040"/>
                <a:gridCol w="1066680"/>
                <a:gridCol w="1066680"/>
                <a:gridCol w="1067040"/>
                <a:gridCol w="1066680"/>
              </a:tblGrid>
              <a:tr h="48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ústípus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jtípus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/200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/200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keltetett nap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zer d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os á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t/d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armányár (nevelőtáp) (Ft/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lvásárlási á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t/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2B1-68AF-4011-A992-09193A4345D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hízott liba havi termelői árának alaku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5214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-47520" y="557280"/>
            <a:ext cx="924084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343-E87D-4C7A-B9BA-E20340D1C7B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libahízlalás (élősúly) költsége és jövedelme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5-2006. év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65214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tesztüzemi adatok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50120" y="126828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értékegység: Ft/k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00280"/>
          <a:ext cx="8280360" cy="3744720"/>
        </p:xfrm>
        <a:graphic>
          <a:graphicData uri="http://schemas.openxmlformats.org/drawingml/2006/table">
            <a:tbl>
              <a:tblPr/>
              <a:tblGrid>
                <a:gridCol w="3452760"/>
                <a:gridCol w="2413080"/>
                <a:gridCol w="2414520"/>
              </a:tblGrid>
              <a:tr h="428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szágos át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rtékesítési átlag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6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l értékesítési átlagá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4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1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elés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9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elés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9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bből: Alapanyag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armány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Ágazati eredm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lősúly önköltsé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6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54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7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54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386-2A41-44AB-8A6E-C2D7B461076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324000" y="476280"/>
          <a:ext cx="8496000" cy="5999040"/>
        </p:xfrm>
        <a:graphic>
          <a:graphicData uri="http://schemas.openxmlformats.org/drawingml/2006/table">
            <a:tbl>
              <a:tblPr/>
              <a:tblGrid>
                <a:gridCol w="726840"/>
                <a:gridCol w="2584440"/>
                <a:gridCol w="2695680"/>
                <a:gridCol w="2489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z.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szá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csahús termel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zer tonn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goszlá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y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 N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ates of Amer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Republic o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anm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Kingdo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ung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 (2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sszes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72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8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72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világ kacsahús termelése 2006-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5214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0D7-4C10-488F-BA76-EF05EE21D6A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522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ágóbaromfi-termelés világgazdasági jelentősé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19040" y="981000"/>
            <a:ext cx="70081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Termelés 83,7 millió tonna, évi 3-6%-os emelkedé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(86% csirke, 6,5% pulyka, 7,5% viziszárny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23720" y="2637000"/>
            <a:ext cx="59094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Fogyasztás: Világ: 13 kg/fő/év (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7),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EU-25 átlag: 22 kg/fő/év (200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3240" y="3573360"/>
            <a:ext cx="739656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áltás vörös és fehér húsok közöt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új étkezési szokások (alacson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zénhidrát tartalmú táplálkozás, növekvő jövedele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onyhakész terméke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yorsbüfé hálózato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80360" y="2349360"/>
            <a:ext cx="154944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35760" y="5286240"/>
            <a:ext cx="2208240" cy="1571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1295280" cy="1071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5877000"/>
            <a:ext cx="563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ezetők: USA, Kína, Brazí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542916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35760" y="1916280"/>
            <a:ext cx="5761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-Iparszerű termelési rendszerek terjedé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46B-C79E-4945-B772-9368FB423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544680"/>
            <a:ext cx="8207280" cy="53053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24000" y="58770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, FAO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7E6-7BFA-45C6-BC9C-788C71FDC1C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9280" y="765000"/>
            <a:ext cx="896472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sznosítási irány: hús (máj, tenyésztoj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melés 50-60 ezer tonna (élő súlyban), exportorientált (3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aromfiágazat exportárbevételének 16%-át ad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Utóbbi évtizedben 2-szeresére nőtt az állomány és a term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gyasztás: 2,5 kg/fő/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őnye: - idényszerű tartá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- természetes vízforrások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- integrált termelés előnyinek kihasznál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agas tojástermelés (230-250 db/év)  &gt;&gt;&gt; viszonylag alacsony a naposkacsa önköltsége (95 Ft/db pekingi kac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acsakeltetés évente 15-16 millió kiskac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csa X pézsmakacsa &gt;&gt;&gt; mulard kacsa (fajhibr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acsa ágazatban a hagyományos pekingi típusú kacsák részben hazai, részben import tenyésztésből, míg a Barbarie kacsák importból, a mulardok hazai és import tenyésztésből származna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kacsa ágazat jellemző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52C-64EB-4E04-AC67-3C8CC40A462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771640" cy="1839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4000" y="1052640"/>
            <a:ext cx="88200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élintenzív pecsenyekacsa- nevelés (brojler típusú hízla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ő- és utónevelés (zárt, intenzív &gt;&gt; szabadtartás, extenzí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őnevelés 18 napig, utónevelés 49-52 napos ko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agy növekedési erély jellemző rá (7 hetes korra 3 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vari diformizmus &gt;&gt; ivarilag elkülönített hízla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nőivar 2,5-3 kg; hímivar + 2 hét 4,5-4,8 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térő hús- és májtermelő kép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pekingi kacs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&gt;&gt; hú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pézsmaréce (barbarie)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&gt;&gt; hús-máj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mulard kacs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&gt;&gt; máj-hú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tegrált termelés lehető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lastavi kacsatartás &gt;&gt; árbevétel és takarmányhasznosítás foko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kacsa ágazat gazdasági kérdés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D07-AB7D-41D9-B76F-67177290116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kacsa ágazat főbb ökonómiai adata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6-2007. év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461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BTT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1197000"/>
          <a:ext cx="8642160" cy="4319640"/>
        </p:xfrm>
        <a:graphic>
          <a:graphicData uri="http://schemas.openxmlformats.org/drawingml/2006/table">
            <a:tbl>
              <a:tblPr/>
              <a:tblGrid>
                <a:gridCol w="1552320"/>
                <a:gridCol w="787680"/>
                <a:gridCol w="787320"/>
                <a:gridCol w="787320"/>
                <a:gridCol w="789120"/>
                <a:gridCol w="787320"/>
                <a:gridCol w="787320"/>
                <a:gridCol w="787320"/>
                <a:gridCol w="789120"/>
                <a:gridCol w="787320"/>
              </a:tblGrid>
              <a:tr h="584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/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kin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ba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kin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ba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kin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ba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os kelte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zer d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os 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t/d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karmányár (Ft/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lvásárlási 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t/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40F-6DFD-4083-BE35-B9216F1291D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65214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KI PÁIR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ecsenyekacsa havi termelői árának alaku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47520" y="557280"/>
            <a:ext cx="924084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FAE-36E1-4D40-A87E-C6C055A539F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34560" y="3716280"/>
            <a:ext cx="7274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öszönjük a megtisztelő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75240" y="4869000"/>
            <a:ext cx="3045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igyelme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456000" cy="289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A8F-15E5-472B-B66A-D9CF5876C51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38172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AVEC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52280"/>
            <a:ext cx="9144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Az EU baromfihús termelése, fogyasztása és kereskedelme (M.e.: millió ton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D9D-C9F8-4D85-932B-14A5579A73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b8dbb8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z EU (27) baromfihús termelésének megoszlá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z EU (27) összes baromfihús termelése: 10,8 millió tonna (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81720"/>
            <a:ext cx="34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rás: FAO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95280" y="1344600"/>
          <a:ext cx="835344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4600"/>
                    <a:ext cx="835344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C31-1CBA-4336-9C6B-3AF21FA4BA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9:14:44Z</dcterms:created>
  <dc:creator>Vállalatgazdaságtan</dc:creator>
  <dc:description/>
  <dc:language>en-US</dc:language>
  <cp:lastModifiedBy>Szőllősi László</cp:lastModifiedBy>
  <cp:lastPrinted>1999-11-10T14:35:02Z</cp:lastPrinted>
  <dcterms:modified xsi:type="dcterms:W3CDTF">2008-04-01T09:32:13Z</dcterms:modified>
  <cp:revision>250</cp:revision>
  <dc:subject/>
  <dc:title>Nincs diacím</dc:title>
</cp:coreProperties>
</file>