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13DC-9AAE-41E4-9B63-1A88159E0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374E-0D52-4BAC-BB38-09C69FB4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75E7-7989-491F-842A-50BE0B9EC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D715-F91C-44C8-95DF-9C055B4D6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5634-1B2E-401A-A18C-2A34E5C0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AF96-FE11-4C21-8306-83E2CDB3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2793-889C-49EB-AFF9-E5289CE1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A93C-B34C-46E8-96DA-261B17B0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969F-7A48-4928-A005-88345807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B34B-859B-4F69-A4E1-BBDBD7E3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6DCE-DAF4-4D20-8FF8-E7AE89CF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61A8-9C5E-4AC3-BBC9-C8599F66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536D-E2BF-4027-B1A8-DE42F7110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Üzemt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A vállalkozások elemz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zés módszer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Általános módszer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edukció (levezető mó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dukció (felépítő mó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peciális módszer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utatószám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rendszám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térések számszerűsítése módszer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azdasági kalkuláció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Ökonometriai módszer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odell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perációkutatás módszer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mzés eredményeinek közlé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zöveges értékel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zdasági folyamatok hátterének bemuta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-okozati összefüggések leír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yamatok jellemz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zám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ény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Összefoglaló értékelés: következtetések, javaslatok (alternatívá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övid, tömör, lényeges információt tartalmaz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áblázat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brák, diagram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áncbehelyettesítés módsz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79182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lapmodell: termelési érték tényez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É=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   [Ft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 = kapacitás (h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q = produktivitás (t/h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 = ár (Ft/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0686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égső állapot (té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5805360"/>
            <a:ext cx="1441440" cy="0"/>
          </a:xfrm>
          <a:prstGeom prst="line">
            <a:avLst/>
          </a:prstGeom>
          <a:ln w="63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5157720"/>
            <a:ext cx="208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99"/>
                </a:solidFill>
                <a:latin typeface="Arial"/>
              </a:rPr>
              <a:t>TÉ</a:t>
            </a:r>
            <a:r>
              <a:rPr b="0" lang="hu-HU" sz="2400" spc="-1" strike="noStrike" baseline="-25000">
                <a:solidFill>
                  <a:srgbClr val="000099"/>
                </a:solidFill>
                <a:latin typeface="Arial"/>
              </a:rPr>
              <a:t>0</a:t>
            </a:r>
            <a:r>
              <a:rPr b="0" lang="hu-HU" sz="2400" spc="-1" strike="noStrike">
                <a:solidFill>
                  <a:srgbClr val="000099"/>
                </a:solidFill>
                <a:latin typeface="Arial"/>
              </a:rPr>
              <a:t>=k</a:t>
            </a:r>
            <a:r>
              <a:rPr b="0" lang="hu-HU" sz="2400" spc="-1" strike="noStrike" baseline="-25000">
                <a:solidFill>
                  <a:srgbClr val="000099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·</a:t>
            </a:r>
            <a:r>
              <a:rPr b="0" lang="hu-H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q</a:t>
            </a:r>
            <a:r>
              <a:rPr b="0" lang="hu-HU" sz="2400" spc="-1" strike="noStrike" baseline="-25000">
                <a:solidFill>
                  <a:srgbClr val="000099"/>
                </a:solidFill>
                <a:latin typeface="Arial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·</a:t>
            </a:r>
            <a:r>
              <a:rPr b="0" lang="hu-H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</a:t>
            </a:r>
            <a:r>
              <a:rPr b="0" lang="hu-HU" sz="2400" spc="-1" strike="noStrike" baseline="-25000">
                <a:solidFill>
                  <a:srgbClr val="000099"/>
                </a:solidFill>
                <a:latin typeface="Arial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40360" y="4076640"/>
            <a:ext cx="151308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68360" y="3789360"/>
            <a:ext cx="179892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40360" y="3500280"/>
            <a:ext cx="201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TÉ</a:t>
            </a:r>
            <a:r>
              <a:rPr b="0" lang="hu-HU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=k</a:t>
            </a:r>
            <a:r>
              <a:rPr b="0" lang="hu-HU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·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q</a:t>
            </a:r>
            <a:r>
              <a:rPr b="0" lang="hu-HU" sz="2400" spc="-1" strike="noStrike" baseline="-25000">
                <a:solidFill>
                  <a:srgbClr val="ff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·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p</a:t>
            </a:r>
            <a:r>
              <a:rPr b="0" lang="hu-HU" sz="2400" spc="-1" strike="noStrike" baseline="-25000">
                <a:solidFill>
                  <a:srgbClr val="ff0000"/>
                </a:solidFill>
                <a:latin typeface="Arial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268360" y="3789360"/>
            <a:ext cx="0" cy="2016000"/>
          </a:xfrm>
          <a:prstGeom prst="line">
            <a:avLst/>
          </a:prstGeom>
          <a:ln w="38160">
            <a:solidFill>
              <a:srgbClr val="07670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4365720"/>
            <a:ext cx="266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76707"/>
                </a:solidFill>
                <a:latin typeface="Arial"/>
                <a:ea typeface="Times New Roman"/>
              </a:rPr>
              <a:t>Δ</a:t>
            </a:r>
            <a:r>
              <a:rPr b="0" lang="hu-HU" sz="2400" spc="-1" strike="noStrike">
                <a:solidFill>
                  <a:srgbClr val="076707"/>
                </a:solidFill>
                <a:latin typeface="Arial"/>
                <a:ea typeface="Times New Roman"/>
              </a:rPr>
              <a:t>TÉ</a:t>
            </a:r>
            <a:r>
              <a:rPr b="0" lang="hu-HU" sz="2400" spc="-1" strike="noStrike" baseline="-25000">
                <a:solidFill>
                  <a:srgbClr val="076707"/>
                </a:solidFill>
                <a:latin typeface="Arial"/>
                <a:ea typeface="Times New Roman"/>
              </a:rPr>
              <a:t>k</a:t>
            </a:r>
            <a:r>
              <a:rPr b="0" lang="hu-HU" sz="2400" spc="-1" strike="noStrike">
                <a:solidFill>
                  <a:srgbClr val="076707"/>
                </a:solidFill>
                <a:latin typeface="Arial"/>
                <a:ea typeface="Times New Roman"/>
              </a:rPr>
              <a:t>=</a:t>
            </a:r>
            <a:r>
              <a:rPr b="0" lang="hu-HU" sz="2400" spc="-1" strike="noStrike">
                <a:solidFill>
                  <a:srgbClr val="076707"/>
                </a:solidFill>
                <a:latin typeface="Arial"/>
              </a:rPr>
              <a:t>k</a:t>
            </a:r>
            <a:r>
              <a:rPr b="0" lang="hu-HU" sz="2400" spc="-1" strike="noStrike" baseline="-25000">
                <a:solidFill>
                  <a:srgbClr val="076707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76707"/>
                </a:solidFill>
                <a:latin typeface="Arial"/>
              </a:rPr>
              <a:t>·</a:t>
            </a:r>
            <a:r>
              <a:rPr b="0" lang="hu-HU" sz="2400" spc="-1" strike="noStrike">
                <a:solidFill>
                  <a:srgbClr val="076707"/>
                </a:solidFill>
                <a:latin typeface="Arial"/>
              </a:rPr>
              <a:t>q</a:t>
            </a:r>
            <a:r>
              <a:rPr b="0" lang="hu-HU" sz="2400" spc="-1" strike="noStrike" baseline="-25000">
                <a:solidFill>
                  <a:srgbClr val="076707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76707"/>
                </a:solidFill>
                <a:latin typeface="Arial"/>
              </a:rPr>
              <a:t>·</a:t>
            </a:r>
            <a:r>
              <a:rPr b="0" lang="hu-HU" sz="2400" spc="-1" strike="noStrike">
                <a:solidFill>
                  <a:srgbClr val="076707"/>
                </a:solidFill>
                <a:latin typeface="Arial"/>
              </a:rPr>
              <a:t>p</a:t>
            </a:r>
            <a:r>
              <a:rPr b="0" lang="hu-HU" sz="2400" spc="-1" strike="noStrike" baseline="-25000">
                <a:solidFill>
                  <a:srgbClr val="076707"/>
                </a:solidFill>
                <a:latin typeface="Arial"/>
              </a:rPr>
              <a:t>0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hu-H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TÉ</a:t>
            </a:r>
            <a:r>
              <a:rPr b="0" lang="hu-HU" sz="2400" spc="-1" strike="noStrike" baseline="-25000">
                <a:solidFill>
                  <a:srgbClr val="000099"/>
                </a:solidFill>
                <a:latin typeface="Arial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067280" y="3789360"/>
            <a:ext cx="0" cy="151128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5300640"/>
            <a:ext cx="18748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4508640"/>
            <a:ext cx="10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76707"/>
                </a:solidFill>
                <a:latin typeface="Arial"/>
                <a:ea typeface="Times New Roman"/>
              </a:rPr>
              <a:t>Δ</a:t>
            </a:r>
            <a:r>
              <a:rPr b="0" i="1" lang="hu-HU" sz="2400" spc="-1" strike="noStrike">
                <a:solidFill>
                  <a:srgbClr val="076707"/>
                </a:solidFill>
                <a:latin typeface="Arial"/>
                <a:ea typeface="Times New Roman"/>
              </a:rPr>
              <a:t>TÉ</a:t>
            </a:r>
            <a:r>
              <a:rPr b="0" i="1" lang="hu-HU" sz="2400" spc="-1" strike="noStrike" baseline="-25000">
                <a:solidFill>
                  <a:srgbClr val="076707"/>
                </a:solidFill>
                <a:latin typeface="Arial"/>
                <a:ea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940360" y="4869000"/>
            <a:ext cx="320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76707"/>
                </a:solidFill>
                <a:latin typeface="Arial"/>
                <a:ea typeface="Times New Roman"/>
              </a:rPr>
              <a:t>Δ</a:t>
            </a:r>
            <a:r>
              <a:rPr b="0" lang="hu-HU" sz="2400" spc="-1" strike="noStrike">
                <a:solidFill>
                  <a:srgbClr val="076707"/>
                </a:solidFill>
                <a:latin typeface="Arial"/>
                <a:ea typeface="Times New Roman"/>
              </a:rPr>
              <a:t>TÉ</a:t>
            </a:r>
            <a:r>
              <a:rPr b="0" lang="hu-HU" sz="2400" spc="-1" strike="noStrike" baseline="-25000">
                <a:solidFill>
                  <a:srgbClr val="076707"/>
                </a:solidFill>
                <a:latin typeface="Arial"/>
                <a:ea typeface="Times New Roman"/>
              </a:rPr>
              <a:t>q</a:t>
            </a:r>
            <a:r>
              <a:rPr b="0" lang="hu-HU" sz="2400" spc="-1" strike="noStrike">
                <a:solidFill>
                  <a:srgbClr val="076707"/>
                </a:solidFill>
                <a:latin typeface="Arial"/>
                <a:ea typeface="Times New Roman"/>
              </a:rPr>
              <a:t>=</a:t>
            </a:r>
            <a:r>
              <a:rPr b="0" lang="hu-HU" sz="2400" spc="-1" strike="noStrike">
                <a:solidFill>
                  <a:srgbClr val="076707"/>
                </a:solidFill>
                <a:latin typeface="Arial"/>
              </a:rPr>
              <a:t>k</a:t>
            </a:r>
            <a:r>
              <a:rPr b="0" lang="hu-HU" sz="2400" spc="-1" strike="noStrike" baseline="-25000">
                <a:solidFill>
                  <a:srgbClr val="076707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76707"/>
                </a:solidFill>
                <a:latin typeface="Arial"/>
              </a:rPr>
              <a:t>·</a:t>
            </a:r>
            <a:r>
              <a:rPr b="0" lang="hu-HU" sz="2400" spc="-1" strike="noStrike">
                <a:solidFill>
                  <a:srgbClr val="076707"/>
                </a:solidFill>
                <a:latin typeface="Arial"/>
              </a:rPr>
              <a:t>q</a:t>
            </a:r>
            <a:r>
              <a:rPr b="0" lang="hu-HU" sz="2400" spc="-1" strike="noStrike" baseline="-25000">
                <a:solidFill>
                  <a:srgbClr val="076707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76707"/>
                </a:solidFill>
                <a:latin typeface="Arial"/>
              </a:rPr>
              <a:t>·</a:t>
            </a:r>
            <a:r>
              <a:rPr b="0" lang="hu-HU" sz="2400" spc="-1" strike="noStrike">
                <a:solidFill>
                  <a:srgbClr val="076707"/>
                </a:solidFill>
                <a:latin typeface="Arial"/>
              </a:rPr>
              <a:t>p</a:t>
            </a:r>
            <a:r>
              <a:rPr b="0" lang="hu-HU" sz="2400" spc="-1" strike="noStrike" baseline="-25000">
                <a:solidFill>
                  <a:srgbClr val="076707"/>
                </a:solidFill>
                <a:latin typeface="Arial"/>
              </a:rPr>
              <a:t>0</a:t>
            </a:r>
            <a:r>
              <a:rPr b="0" lang="hu-HU" sz="2400" spc="-1" strike="noStrike">
                <a:solidFill>
                  <a:srgbClr val="076707"/>
                </a:solidFill>
                <a:latin typeface="Arial"/>
              </a:rPr>
              <a:t>-k</a:t>
            </a:r>
            <a:r>
              <a:rPr b="0" lang="hu-HU" sz="2400" spc="-1" strike="noStrike" baseline="-25000">
                <a:solidFill>
                  <a:srgbClr val="076707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76707"/>
                </a:solidFill>
                <a:latin typeface="Arial"/>
              </a:rPr>
              <a:t>·</a:t>
            </a:r>
            <a:r>
              <a:rPr b="0" lang="hu-HU" sz="2400" spc="-1" strike="noStrike">
                <a:solidFill>
                  <a:srgbClr val="076707"/>
                </a:solidFill>
                <a:latin typeface="Arial"/>
              </a:rPr>
              <a:t>q</a:t>
            </a:r>
            <a:r>
              <a:rPr b="0" lang="hu-HU" sz="2400" spc="-1" strike="noStrike" baseline="-25000">
                <a:solidFill>
                  <a:srgbClr val="076707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76707"/>
                </a:solidFill>
                <a:latin typeface="Arial"/>
              </a:rPr>
              <a:t>·</a:t>
            </a:r>
            <a:r>
              <a:rPr b="0" lang="hu-HU" sz="2400" spc="-1" strike="noStrike">
                <a:solidFill>
                  <a:srgbClr val="076707"/>
                </a:solidFill>
                <a:latin typeface="Arial"/>
              </a:rPr>
              <a:t>p</a:t>
            </a:r>
            <a:r>
              <a:rPr b="0" lang="hu-HU" sz="2400" spc="-1" strike="noStrike" baseline="-25000">
                <a:solidFill>
                  <a:srgbClr val="076707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67280" y="4292640"/>
            <a:ext cx="93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Δ</a:t>
            </a:r>
            <a:r>
              <a:rPr b="0" i="1" lang="hu-HU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TÉ</a:t>
            </a:r>
            <a:r>
              <a:rPr b="0" i="1" lang="hu-HU" sz="2400" spc="-1" strike="noStrike" baseline="-25000">
                <a:solidFill>
                  <a:srgbClr val="99cc00"/>
                </a:solidFill>
                <a:latin typeface="Arial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940360" y="4076640"/>
            <a:ext cx="0" cy="12240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40360" y="5373720"/>
            <a:ext cx="266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76707"/>
                </a:solidFill>
                <a:latin typeface="Arial"/>
                <a:ea typeface="Times New Roman"/>
              </a:rPr>
              <a:t>Δ</a:t>
            </a:r>
            <a:r>
              <a:rPr b="0" lang="hu-HU" sz="2400" spc="-1" strike="noStrike">
                <a:solidFill>
                  <a:srgbClr val="076707"/>
                </a:solidFill>
                <a:latin typeface="Arial"/>
                <a:ea typeface="Times New Roman"/>
              </a:rPr>
              <a:t>TÉ</a:t>
            </a:r>
            <a:r>
              <a:rPr b="0" lang="hu-HU" sz="2400" spc="-1" strike="noStrike" baseline="-25000">
                <a:solidFill>
                  <a:srgbClr val="076707"/>
                </a:solidFill>
                <a:latin typeface="Arial"/>
                <a:ea typeface="Times New Roman"/>
              </a:rPr>
              <a:t>p</a:t>
            </a:r>
            <a:r>
              <a:rPr b="0" lang="hu-HU" sz="2400" spc="-1" strike="noStrike">
                <a:solidFill>
                  <a:srgbClr val="076707"/>
                </a:solidFill>
                <a:latin typeface="Arial"/>
                <a:ea typeface="Times New Roman"/>
              </a:rPr>
              <a:t>=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TÉ</a:t>
            </a:r>
            <a:r>
              <a:rPr b="0" lang="hu-HU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hu-HU" sz="2400" spc="-1" strike="noStrike">
                <a:solidFill>
                  <a:srgbClr val="076707"/>
                </a:solidFill>
                <a:latin typeface="Arial"/>
              </a:rPr>
              <a:t>-k</a:t>
            </a:r>
            <a:r>
              <a:rPr b="0" lang="hu-HU" sz="2400" spc="-1" strike="noStrike" baseline="-25000">
                <a:solidFill>
                  <a:srgbClr val="076707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76707"/>
                </a:solidFill>
                <a:latin typeface="Arial"/>
              </a:rPr>
              <a:t>·</a:t>
            </a:r>
            <a:r>
              <a:rPr b="0" lang="hu-HU" sz="2400" spc="-1" strike="noStrike">
                <a:solidFill>
                  <a:srgbClr val="076707"/>
                </a:solidFill>
                <a:latin typeface="Arial"/>
              </a:rPr>
              <a:t>q</a:t>
            </a:r>
            <a:r>
              <a:rPr b="0" lang="hu-HU" sz="2400" spc="-1" strike="noStrike" baseline="-25000">
                <a:solidFill>
                  <a:srgbClr val="076707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76707"/>
                </a:solidFill>
                <a:latin typeface="Arial"/>
              </a:rPr>
              <a:t>·</a:t>
            </a:r>
            <a:r>
              <a:rPr b="0" lang="hu-HU" sz="2400" spc="-1" strike="noStrike">
                <a:solidFill>
                  <a:srgbClr val="076707"/>
                </a:solidFill>
                <a:latin typeface="Arial"/>
              </a:rPr>
              <a:t>p</a:t>
            </a:r>
            <a:r>
              <a:rPr b="0" lang="hu-HU" sz="2400" spc="-1" strike="noStrike" baseline="-25000">
                <a:solidFill>
                  <a:srgbClr val="076707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59961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ló állapot (báz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24000" y="3284640"/>
            <a:ext cx="266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76707"/>
                </a:solidFill>
                <a:latin typeface="Arial"/>
                <a:ea typeface="Times New Roman"/>
              </a:rPr>
              <a:t>TÉ</a:t>
            </a:r>
            <a:r>
              <a:rPr b="0" i="1" lang="hu-HU" sz="2400" spc="-1" strike="noStrike" baseline="-25000">
                <a:solidFill>
                  <a:srgbClr val="076707"/>
                </a:solidFill>
                <a:latin typeface="Arial"/>
                <a:ea typeface="Times New Roman"/>
              </a:rPr>
              <a:t>k</a:t>
            </a:r>
            <a:r>
              <a:rPr b="0" i="1" lang="hu-HU" sz="2400" spc="-1" strike="noStrike">
                <a:solidFill>
                  <a:srgbClr val="076707"/>
                </a:solidFill>
                <a:latin typeface="Arial"/>
                <a:ea typeface="Times New Roman"/>
              </a:rPr>
              <a:t>=</a:t>
            </a:r>
            <a:r>
              <a:rPr b="0" i="1" lang="hu-HU" sz="2400" spc="-1" strike="noStrike">
                <a:solidFill>
                  <a:srgbClr val="076707"/>
                </a:solidFill>
                <a:latin typeface="Arial"/>
              </a:rPr>
              <a:t>k</a:t>
            </a:r>
            <a:r>
              <a:rPr b="0" i="1" lang="hu-HU" sz="2400" spc="-1" strike="noStrike" baseline="-25000">
                <a:solidFill>
                  <a:srgbClr val="076707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76707"/>
                </a:solidFill>
                <a:latin typeface="Arial"/>
              </a:rPr>
              <a:t>·</a:t>
            </a:r>
            <a:r>
              <a:rPr b="0" i="1" lang="hu-HU" sz="2400" spc="-1" strike="noStrike">
                <a:solidFill>
                  <a:srgbClr val="076707"/>
                </a:solidFill>
                <a:latin typeface="Arial"/>
              </a:rPr>
              <a:t>q</a:t>
            </a:r>
            <a:r>
              <a:rPr b="0" i="1" lang="hu-HU" sz="2400" spc="-1" strike="noStrike" baseline="-25000">
                <a:solidFill>
                  <a:srgbClr val="076707"/>
                </a:solidFill>
                <a:latin typeface="Arial"/>
              </a:rPr>
              <a:t>0</a:t>
            </a:r>
            <a:r>
              <a:rPr b="0" i="1" lang="en-US" sz="2400" spc="-1" strike="noStrike">
                <a:solidFill>
                  <a:srgbClr val="076707"/>
                </a:solidFill>
                <a:latin typeface="Arial"/>
              </a:rPr>
              <a:t>·</a:t>
            </a:r>
            <a:r>
              <a:rPr b="0" i="1" lang="hu-HU" sz="2400" spc="-1" strike="noStrike">
                <a:solidFill>
                  <a:srgbClr val="076707"/>
                </a:solidFill>
                <a:latin typeface="Arial"/>
              </a:rPr>
              <a:t>p</a:t>
            </a:r>
            <a:r>
              <a:rPr b="0" i="1" lang="hu-HU" sz="2400" spc="-1" strike="noStrike" baseline="-25000">
                <a:solidFill>
                  <a:srgbClr val="076707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67280" y="5373720"/>
            <a:ext cx="208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76707"/>
                </a:solidFill>
                <a:latin typeface="Arial"/>
                <a:ea typeface="Times New Roman"/>
              </a:rPr>
              <a:t>TÉ</a:t>
            </a:r>
            <a:r>
              <a:rPr b="0" i="1" lang="hu-HU" sz="2400" spc="-1" strike="noStrike" baseline="-25000">
                <a:solidFill>
                  <a:srgbClr val="076707"/>
                </a:solidFill>
                <a:latin typeface="Arial"/>
                <a:ea typeface="Times New Roman"/>
              </a:rPr>
              <a:t>q</a:t>
            </a:r>
            <a:r>
              <a:rPr b="0" i="1" lang="hu-HU" sz="2400" spc="-1" strike="noStrike">
                <a:solidFill>
                  <a:srgbClr val="076707"/>
                </a:solidFill>
                <a:latin typeface="Arial"/>
                <a:ea typeface="Times New Roman"/>
              </a:rPr>
              <a:t>=</a:t>
            </a:r>
            <a:r>
              <a:rPr b="0" i="1" lang="hu-HU" sz="2400" spc="-1" strike="noStrike">
                <a:solidFill>
                  <a:srgbClr val="076707"/>
                </a:solidFill>
                <a:latin typeface="Arial"/>
              </a:rPr>
              <a:t>k</a:t>
            </a:r>
            <a:r>
              <a:rPr b="0" i="1" lang="hu-HU" sz="2400" spc="-1" strike="noStrike" baseline="-25000">
                <a:solidFill>
                  <a:srgbClr val="076707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76707"/>
                </a:solidFill>
                <a:latin typeface="Arial"/>
              </a:rPr>
              <a:t>·</a:t>
            </a:r>
            <a:r>
              <a:rPr b="0" i="1" lang="hu-HU" sz="2400" spc="-1" strike="noStrike">
                <a:solidFill>
                  <a:srgbClr val="076707"/>
                </a:solidFill>
                <a:latin typeface="Arial"/>
              </a:rPr>
              <a:t>q</a:t>
            </a:r>
            <a:r>
              <a:rPr b="0" i="1" lang="hu-HU" sz="2400" spc="-1" strike="noStrike" baseline="-25000">
                <a:solidFill>
                  <a:srgbClr val="076707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76707"/>
                </a:solidFill>
                <a:latin typeface="Arial"/>
              </a:rPr>
              <a:t>·</a:t>
            </a:r>
            <a:r>
              <a:rPr b="0" i="1" lang="hu-HU" sz="2400" spc="-1" strike="noStrike">
                <a:solidFill>
                  <a:srgbClr val="076707"/>
                </a:solidFill>
                <a:latin typeface="Arial"/>
              </a:rPr>
              <a:t>p</a:t>
            </a:r>
            <a:r>
              <a:rPr b="0" i="1" lang="hu-HU" sz="2400" spc="-1" strike="noStrike" baseline="-25000">
                <a:solidFill>
                  <a:srgbClr val="076707"/>
                </a:solidFill>
                <a:latin typeface="Arial"/>
              </a:rPr>
              <a:t>0</a:t>
            </a:r>
            <a:r>
              <a:rPr b="0" lang="hu-HU" sz="2400" spc="-1" strike="noStrike" baseline="-25000">
                <a:solidFill>
                  <a:srgbClr val="07670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03640" y="450864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0a724"/>
                </a:solidFill>
                <a:latin typeface="Arial"/>
                <a:ea typeface="Times New Roman"/>
              </a:rPr>
              <a:t>Δ</a:t>
            </a:r>
            <a:r>
              <a:rPr b="0" i="1" lang="hu-HU" sz="2400" spc="-1" strike="noStrike">
                <a:solidFill>
                  <a:srgbClr val="f0a724"/>
                </a:solidFill>
                <a:latin typeface="Arial"/>
                <a:ea typeface="Times New Roman"/>
              </a:rPr>
              <a:t>TÉ</a:t>
            </a:r>
            <a:r>
              <a:rPr b="0" i="1" lang="hu-HU" sz="2400" spc="-1" strike="noStrike" baseline="-25000">
                <a:solidFill>
                  <a:srgbClr val="f0a724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vékenység elemz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aci tevékenység elemz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elés és értékesítés elemz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öltséggazdálkodás elemz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őségelemzés, minőség költség elemz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állalati erőforrások elemz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nkaerő és bérgazdálkodás elemz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árgyi eszköz gazdálkodás elemz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góeszköz gazdálkodás elemz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észletgazdálkodás elemz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öltséggazdálkodási mutatószámo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278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öltségváltozási jelzőszám vagy másként reagálási fok (r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gálási fok alkalmaz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elési költségek egy év alatt 8%-kal nőtt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elési érték 10%-kal növekede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16000" y="2997360"/>
                <a:ext cx="70563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ermelés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öltségekek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áltozásának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érték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öltségjellemző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áltozásának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érték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635280" y="5869080"/>
                <a:ext cx="14400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8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öltségek viselkedésének reagálási fo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71640" y="2060640"/>
          <a:ext cx="7488000" cy="2832120"/>
        </p:xfrm>
        <a:graphic>
          <a:graphicData uri="http://schemas.openxmlformats.org/drawingml/2006/table">
            <a:tbl>
              <a:tblPr/>
              <a:tblGrid>
                <a:gridCol w="5059440"/>
                <a:gridCol w="2428560"/>
              </a:tblGrid>
              <a:tr h="53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öltségviselkedés jelle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gálási f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Állandó költség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ányosan változó proporcionális költség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gresszíven változó költség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-1 közö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esszíven változó költség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fe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971640" y="522936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olumen csökkenése degresszíven változó költségek esetén:  költség-remanencia jelensé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góeszköz gazdálkod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5300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zőgazdaság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3 fordulat/é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eskedelem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-14 fordulat/é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a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4 fordulat/é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11280" y="1413000"/>
            <a:ext cx="8064000" cy="3960360"/>
            <a:chOff x="611280" y="1413000"/>
            <a:chExt cx="8064000" cy="3960360"/>
          </a:xfrm>
        </p:grpSpPr>
        <p:sp>
          <p:nvSpPr>
            <p:cNvPr id="111" name=""/>
            <p:cNvSpPr/>
            <p:nvPr/>
          </p:nvSpPr>
          <p:spPr>
            <a:xfrm>
              <a:off x="2224080" y="2002320"/>
              <a:ext cx="806400" cy="84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én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02600" y="1413000"/>
              <a:ext cx="1343880" cy="11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lapany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52880" y="1413000"/>
              <a:ext cx="1747080" cy="84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élkész termé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31400" y="2827440"/>
              <a:ext cx="1343880" cy="84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ész-termé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15400" y="4524840"/>
              <a:ext cx="1343880" cy="84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övetelé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030480" y="1978560"/>
              <a:ext cx="806400" cy="44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81120" y="1978560"/>
              <a:ext cx="671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66040" y="2261520"/>
              <a:ext cx="671760" cy="84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659640" y="3675960"/>
              <a:ext cx="1209600" cy="113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3299400" y="4121640"/>
              <a:ext cx="2016000" cy="84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374360" y="2544480"/>
              <a:ext cx="2419200" cy="1697400"/>
            </a:xfrm>
            <a:custGeom>
              <a:avLst/>
              <a:gdLst>
                <a:gd name="textAreaLeft" fmla="*/ 324000 w 2419200"/>
                <a:gd name="textAreaRight" fmla="*/ 2095200 w 2419200"/>
                <a:gd name="textAreaTop" fmla="*/ 297000 h 1697400"/>
                <a:gd name="textAreaBottom" fmla="*/ 1230840 h 169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24080" y="3556080"/>
              <a:ext cx="806400" cy="84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énz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11280" y="2850840"/>
              <a:ext cx="2688120" cy="11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redmény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84360" y="126828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44f5"/>
                </a:solidFill>
                <a:latin typeface="Arial"/>
              </a:rPr>
              <a:t>Forgóeszközök körforg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árgyi eszközök elemz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67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76707"/>
                </a:solidFill>
                <a:latin typeface="Arial"/>
                <a:ea typeface="Times New Roman"/>
              </a:rPr>
              <a:t>összetétel alakulá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67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76707"/>
                </a:solidFill>
                <a:latin typeface="Arial"/>
              </a:rPr>
              <a:t>t</a:t>
            </a:r>
            <a:r>
              <a:rPr b="0" lang="hu-HU" sz="3200" spc="-1" strike="noStrike">
                <a:solidFill>
                  <a:srgbClr val="076707"/>
                </a:solidFill>
                <a:latin typeface="Arial"/>
                <a:ea typeface="Times New Roman"/>
              </a:rPr>
              <a:t>árgyi eszközök állag</a:t>
            </a:r>
            <a:r>
              <a:rPr b="0" lang="hu-HU" sz="3200" spc="-1" strike="noStrike">
                <a:solidFill>
                  <a:srgbClr val="076707"/>
                </a:solidFill>
                <a:latin typeface="Arial"/>
              </a:rPr>
              <a:t>a,</a:t>
            </a:r>
            <a:r>
              <a:rPr b="0" lang="hu-HU" sz="3200" spc="-1" strike="noStrike">
                <a:solidFill>
                  <a:srgbClr val="076707"/>
                </a:solidFill>
                <a:latin typeface="Arial"/>
                <a:ea typeface="Times New Roman"/>
              </a:rPr>
              <a:t> korszerűség</a:t>
            </a:r>
            <a:r>
              <a:rPr b="0" lang="hu-HU" sz="3200" spc="-1" strike="noStrike">
                <a:solidFill>
                  <a:srgbClr val="076707"/>
                </a:solidFill>
                <a:latin typeface="Arial"/>
              </a:rPr>
              <a:t>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67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76707"/>
                </a:solidFill>
                <a:latin typeface="Arial"/>
                <a:ea typeface="Times New Roman"/>
              </a:rPr>
              <a:t>tárgyi eszközökkel való ellátottsá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67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76707"/>
                </a:solidFill>
                <a:latin typeface="Arial"/>
                <a:ea typeface="Times New Roman"/>
              </a:rPr>
              <a:t>kapacitáskihasználás</a:t>
            </a:r>
            <a:r>
              <a:rPr b="0" lang="en-US" sz="3200" spc="-1" strike="noStrike">
                <a:solidFill>
                  <a:srgbClr val="076707"/>
                </a:solidFill>
                <a:latin typeface="Arial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7670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4648320"/>
            <a:ext cx="769644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76707"/>
                </a:solidFill>
                <a:latin typeface="Times New Roman"/>
              </a:rPr>
              <a:t>Adatbáz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44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iti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á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44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jesítményre és üzemidőre vonatkozó nyilvántartás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4267080"/>
            <a:ext cx="6094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83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000000"/>
                </a:solidFill>
                <a:latin typeface="Arial"/>
                <a:ea typeface="Times New Roman"/>
              </a:rPr>
              <a:t>Kapacitáskihasználás </a:t>
            </a:r>
            <a:r>
              <a:rPr b="0" lang="hu-HU" sz="3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hu-HU" sz="3800" spc="-1" strike="noStrike">
                <a:solidFill>
                  <a:srgbClr val="000000"/>
                </a:solidFill>
                <a:latin typeface="Arial"/>
                <a:ea typeface="Times New Roman"/>
              </a:rPr>
              <a:t>utatószámrendsze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219320" y="1773360"/>
          <a:ext cx="6858000" cy="44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73360"/>
                    <a:ext cx="6858000" cy="44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990720" y="3429000"/>
            <a:ext cx="3886200" cy="2971800"/>
          </a:xfrm>
          <a:prstGeom prst="rect">
            <a:avLst/>
          </a:prstGeom>
          <a:noFill/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67280" y="5181480"/>
            <a:ext cx="2971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pacitáskihasználás nagyvonalú vizsgál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5257800"/>
            <a:ext cx="60948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énzügyi mutató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432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28e2"/>
                </a:solidFill>
                <a:latin typeface="Arial"/>
                <a:ea typeface="Times New Roman"/>
              </a:rPr>
              <a:t>likviditási rátá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megmutatják milyen könnyen tud a vállalat pénzhez jutn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432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28e2"/>
                </a:solidFill>
                <a:latin typeface="Arial"/>
                <a:ea typeface="Times New Roman"/>
              </a:rPr>
              <a:t>jövedelmezőségi</a:t>
            </a:r>
            <a:r>
              <a:rPr b="1" lang="en-US" sz="2800" spc="-1" strike="noStrike">
                <a:solidFill>
                  <a:srgbClr val="4328e2"/>
                </a:solidFill>
                <a:latin typeface="Arial"/>
              </a:rPr>
              <a:t> és</a:t>
            </a:r>
            <a:r>
              <a:rPr b="1" lang="en-US" sz="2800" spc="-1" strike="noStrike">
                <a:solidFill>
                  <a:srgbClr val="4328e2"/>
                </a:solidFill>
                <a:latin typeface="Arial"/>
                <a:ea typeface="Times New Roman"/>
              </a:rPr>
              <a:t> hatékonysági mutató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vállalat milyen hatékonysággal használja fel az eszköze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432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28e2"/>
                </a:solidFill>
                <a:latin typeface="Arial"/>
                <a:ea typeface="Times New Roman"/>
              </a:rPr>
              <a:t>eszközstruktúra mutató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jelzik a tartós eszközszükségletet, tevékenység jellegét</a:t>
            </a:r>
            <a:r>
              <a:rPr b="1" lang="en-US" sz="2800" spc="-1" strike="noStrike">
                <a:solidFill>
                  <a:srgbClr val="4328e2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432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28e2"/>
                </a:solidFill>
                <a:latin typeface="Arial"/>
                <a:ea typeface="Times New Roman"/>
              </a:rPr>
              <a:t>tőkeszerkezeti és tőkeáttételi mutató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jelzik a vállalat eladósodottságát, a finanszírozás kockázatá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432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28e2"/>
                </a:solidFill>
                <a:latin typeface="Arial"/>
                <a:ea typeface="Times New Roman"/>
              </a:rPr>
              <a:t>piaci érték-mutató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hogyan értékelik a befektetők a vállalat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Előadás témakör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lemzés fogal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lemzés cé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lemzés tárg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Gazdasági elemzés fajt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lemzés módszer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Összegz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Likviditási mutató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748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600" spc="-1" strike="noStrike">
                <a:solidFill>
                  <a:srgbClr val="000000"/>
                </a:solidFill>
                <a:latin typeface="Arial"/>
              </a:rPr>
              <a:t>rövid távú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2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adott időpontra vonatkozó) fizetőképesség = </a:t>
            </a:r>
            <a:r>
              <a:rPr b="0" i="1" lang="hu-HU" sz="2600" spc="-1" strike="noStrike">
                <a:solidFill>
                  <a:srgbClr val="ff0000"/>
                </a:solidFill>
                <a:latin typeface="Arial"/>
              </a:rPr>
              <a:t>likviditá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600" spc="-1" strike="noStrike">
                <a:solidFill>
                  <a:srgbClr val="000000"/>
                </a:solidFill>
                <a:latin typeface="Arial"/>
              </a:rPr>
              <a:t>hosszabb távra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vonatkozó fizetőképesség </a:t>
            </a:r>
            <a:br>
              <a:rPr sz="2600"/>
            </a:b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hu-HU" sz="2600" spc="-1" strike="noStrike">
                <a:solidFill>
                  <a:srgbClr val="ff0000"/>
                </a:solidFill>
                <a:latin typeface="Arial"/>
              </a:rPr>
              <a:t>diszponibilitá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600" spc="-1" strike="noStrike">
                <a:solidFill>
                  <a:srgbClr val="000000"/>
                </a:solidFill>
                <a:latin typeface="Arial"/>
              </a:rPr>
              <a:t>likviditási mutatók megmutatják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énzügyi stabilitás hogyan alaku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milyen módon képes eleget tenni fizetési kötelezettségein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hhoz milyen könnyen tud pénzhez jut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600" spc="-1" strike="noStrike">
                <a:solidFill>
                  <a:srgbClr val="000000"/>
                </a:solidFill>
                <a:latin typeface="Arial"/>
              </a:rPr>
              <a:t>likviditási mutatók </a:t>
            </a:r>
            <a:br>
              <a:rPr sz="2600"/>
            </a:br>
            <a:r>
              <a:rPr b="0" lang="hu-HU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 mértékegység nélküli viszonyszám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t/Ft hányadost rejtik magukb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 Ft kötelezettség teljesítésére hány Ft fizetésre felhasználható pénz, vagy könnyen pénzzé tehető eszköz áll a vállalkozás rendelkezésé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Likviditási mutató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66ff"/>
                </a:solidFill>
                <a:latin typeface="Arial"/>
              </a:rPr>
              <a:t>L</a:t>
            </a:r>
            <a:r>
              <a:rPr b="0" i="1" lang="hu-HU" sz="3200" spc="-1" strike="noStrike">
                <a:solidFill>
                  <a:srgbClr val="0066ff"/>
                </a:solidFill>
                <a:latin typeface="Arial"/>
                <a:ea typeface="Times New Roman"/>
              </a:rPr>
              <a:t>ikviditási mutat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66ff"/>
                </a:solidFill>
                <a:latin typeface="Arial"/>
                <a:ea typeface="Times New Roman"/>
              </a:rPr>
              <a:t>Likviditási gyorsráta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66ff"/>
                </a:solidFill>
                <a:latin typeface="Arial"/>
                <a:ea typeface="Times New Roman"/>
              </a:rPr>
              <a:t>Pénzhányad mutató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14400" y="2349360"/>
                <a:ext cx="541008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kviditási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utató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orgóeszközö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övi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ejáratú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ötelezettsége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914400" y="3836880"/>
                <a:ext cx="5715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kviditási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gyorsrát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orgóeszközö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észlete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övi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ejáratú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ötelezettsége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914400" y="5429160"/>
                <a:ext cx="67816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énzhánya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utató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orgóeszközö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észlete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övetelése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övi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ejáratú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ötelezettsége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7524720" y="39751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gt;1,3-1,5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0,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24720" y="2467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gt;1,8-2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96360" y="556416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gt;0,4-0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500"/>
                            </p:stCondLst>
                            <p:childTnLst>
                              <p:par>
                                <p:cTn id="3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Jövedelmezőségi mutatók (rátá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66ff"/>
                </a:solidFill>
                <a:latin typeface="Arial"/>
              </a:rPr>
              <a:t>ROE</a:t>
            </a:r>
            <a:r>
              <a:rPr b="0" lang="hu-HU" sz="3200" spc="-1" strike="noStrike">
                <a:solidFill>
                  <a:srgbClr val="0066ff"/>
                </a:solidFill>
                <a:latin typeface="Arial"/>
              </a:rPr>
              <a:t> (Return on Equ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30000"/>
              </a:lnSpc>
              <a:spcBef>
                <a:spcPts val="11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[%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66ff"/>
                </a:solidFill>
                <a:latin typeface="Arial"/>
              </a:rPr>
              <a:t>ROA</a:t>
            </a:r>
            <a:r>
              <a:rPr b="0" lang="hu-HU" sz="3200" spc="-1" strike="noStrike">
                <a:solidFill>
                  <a:srgbClr val="0066ff"/>
                </a:solidFill>
                <a:latin typeface="Arial"/>
              </a:rPr>
              <a:t> (Return on As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3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[%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66ff"/>
                </a:solidFill>
                <a:latin typeface="Arial"/>
              </a:rPr>
              <a:t>ROS</a:t>
            </a:r>
            <a:r>
              <a:rPr b="0" lang="hu-HU" sz="3200" spc="-1" strike="noStrike">
                <a:solidFill>
                  <a:srgbClr val="0066ff"/>
                </a:solidFill>
                <a:latin typeface="Arial"/>
              </a:rPr>
              <a:t> (Return on Sa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[%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066680" y="3789360"/>
                <a:ext cx="61851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zközök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jövedelmezőség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ózot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redmén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össz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szköz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268596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066680" y="2438280"/>
                <a:ext cx="63849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já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ők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jövedelmezőség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ózot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redmén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ajá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őke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066680" y="5300640"/>
                <a:ext cx="61945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Árbevételarányo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jövedele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ózot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redmén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ettó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árbevétel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Hatékonysági mutató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4328e2"/>
                </a:solidFill>
                <a:latin typeface="Arial"/>
                <a:ea typeface="Times New Roman"/>
              </a:rPr>
              <a:t>Rugalmassági mutató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rőforrások 1%-os növekedése árbevétel (vagy termelési érték) hány %-os növekedését idézte el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4328e2"/>
                </a:solidFill>
                <a:latin typeface="Arial"/>
                <a:ea typeface="Times New Roman"/>
              </a:rPr>
              <a:t>Forgási sebesség mutató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elhasznált erőforrások megtérülése az árbevételben (termelési értékb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orgási sebesség fordulatokb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orgási sebesség napokb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4328e2"/>
                </a:solidFill>
                <a:latin typeface="Arial"/>
              </a:rPr>
              <a:t>Egyéb </a:t>
            </a:r>
            <a:r>
              <a:rPr b="0" i="1" lang="hu-HU" sz="3200" spc="-1" strike="noStrike">
                <a:solidFill>
                  <a:srgbClr val="4328e2"/>
                </a:solidFill>
                <a:latin typeface="Arial"/>
                <a:ea typeface="Times New Roman"/>
              </a:rPr>
              <a:t>hatékonysági mutató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Élőmunka hatékonysá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észlet hatékonysá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érhatékonysá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t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Forgási sebesség mutató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Forgási sebessé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egtérülés fordulatszá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258920" y="2482920"/>
                <a:ext cx="722772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gási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besség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értékesíté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ettó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árbevétel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szközök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ag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őke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orrás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átlag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érték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395280" y="3427560"/>
            <a:ext cx="813744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Forgási napokban kifejezet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forgási sebessé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258920" y="4221000"/>
                <a:ext cx="504036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gási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a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szközök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átlag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érték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értékesíté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ettó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árbevétele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őkeszerkez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82072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állalkozás gazdálkodásában rejlő, </a:t>
            </a:r>
            <a:r>
              <a:rPr b="0" lang="en-US" sz="2400" spc="-1" strike="noStrike">
                <a:solidFill>
                  <a:srgbClr val="2144f5"/>
                </a:solidFill>
                <a:latin typeface="Arial"/>
              </a:rPr>
              <a:t>hitelnyújtáss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apcsolatos </a:t>
            </a:r>
            <a:r>
              <a:rPr b="0" lang="en-US" sz="2400" spc="-1" strike="noStrike">
                <a:solidFill>
                  <a:srgbClr val="2144f5"/>
                </a:solidFill>
                <a:latin typeface="Arial"/>
              </a:rPr>
              <a:t>pénzügyi kockáz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llege és mértéke határozható m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énzügyi kockázat füg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állalkozás finanszírozási szerkezetétő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degen forrásokat mekkora mértékben vonják be a vállalkozás tőkeszerkezetébe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őkeáttét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328e2"/>
                </a:solidFill>
                <a:latin typeface="Arial"/>
              </a:rPr>
              <a:t>eladósodottsági mutat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%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703440" y="4799160"/>
                <a:ext cx="721980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ladósodottsági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utató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ötelezettségek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deg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rások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össz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rás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Piaci érték mutató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4328e2"/>
                </a:solidFill>
                <a:latin typeface="Arial"/>
                <a:ea typeface="Times New Roman"/>
              </a:rPr>
              <a:t>Piaci érték – könyv szerinti érték aránya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512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512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szközök értékelése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eszközök piaci értékét számviteli elveknek megfelelően mérlegben szerepeltetett értékhez viszonyítjá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512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4328e2"/>
                </a:solidFill>
                <a:latin typeface="Arial"/>
                <a:ea typeface="Times New Roman"/>
              </a:rPr>
              <a:t>Árfolyam/nyereség ráta</a:t>
            </a:r>
            <a:r>
              <a:rPr b="0" lang="hu-HU" sz="2400" spc="-1" strike="noStrike">
                <a:solidFill>
                  <a:srgbClr val="4328e2"/>
                </a:solidFill>
                <a:latin typeface="Arial"/>
                <a:ea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Price – Earnings Ratio, P/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[%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befektetők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számár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nyújt információt: vállalkozás részvényeinek milyen a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piaci</a:t>
            </a:r>
            <a:br>
              <a:rPr sz="1800"/>
            </a:b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   megítél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763560" y="2338560"/>
                <a:ext cx="7310520" cy="76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iaci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érték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öny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zerinti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érték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rány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iac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érté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önyv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zerint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érték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8153280" y="2421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[%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11280" y="4770360"/>
                <a:ext cx="756108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árfolya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yereség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át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észvén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iac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árfolyam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g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észvényr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jutó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dózot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redmény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ruházás-gazdaságossági elemzés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űszaki megvalósíthatósá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énzügyi megvalósíthatósá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zdasági megvalósíthatósá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namikus mutató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tó jelenérték mutató (NPV)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zam-költség arány mutató (BCR) 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ső megtérülési kamatláb (IRR) &gt; alternatív hoz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zés fogal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ódsz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azdasági vezet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észé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zés tárgyát képező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azdasági rendsz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i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ódsze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izsgálatáv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formációt nyúj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rendszer működésérő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zés cél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állalati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vezetés támogat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eltárj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zámszerűen értékelj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zokat a körülményeket, amelyek befolyásolják a vállalkozás gazdálkodásá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egalapozz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vezeté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öntése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és a hozott intézkedések végrehajtásá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Symbol"/>
                <a:ea typeface="Symbol"/>
              </a:rPr>
              <a:t>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mz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k-feltáró tudomá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Elemzés fela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azdasági </a:t>
            </a:r>
            <a:r>
              <a:rPr b="0" lang="en-US" sz="2800" spc="-1" strike="noStrike">
                <a:solidFill>
                  <a:srgbClr val="f82900"/>
                </a:solidFill>
                <a:latin typeface="Arial"/>
                <a:ea typeface="Times New Roman"/>
              </a:rPr>
              <a:t>döntések megalapozás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vállalkozás gazdasági feladatainak előkészítés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82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2900"/>
                </a:solidFill>
                <a:latin typeface="Arial"/>
                <a:ea typeface="Times New Roman"/>
              </a:rPr>
              <a:t>fejlőd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tendenciáinak </a:t>
            </a:r>
            <a:r>
              <a:rPr b="0" lang="en-US" sz="2800" spc="-1" strike="noStrike">
                <a:solidFill>
                  <a:srgbClr val="f82900"/>
                </a:solidFill>
                <a:latin typeface="Arial"/>
                <a:ea typeface="Times New Roman"/>
              </a:rPr>
              <a:t>mérés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itőzött feladatok </a:t>
            </a:r>
            <a:r>
              <a:rPr b="0" lang="en-US" sz="2800" spc="-1" strike="noStrike">
                <a:solidFill>
                  <a:srgbClr val="f82900"/>
                </a:solidFill>
                <a:latin typeface="Arial"/>
                <a:ea typeface="Times New Roman"/>
              </a:rPr>
              <a:t>végrehajtásának minősíté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eltérések okainak feltárás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82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2900"/>
                </a:solidFill>
                <a:latin typeface="Arial"/>
                <a:ea typeface="Times New Roman"/>
              </a:rPr>
              <a:t>kapacitáskihasználá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érése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őforrások hasznosításának színvonala, belső tartalékok feltárás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rmelés</a:t>
            </a:r>
            <a:r>
              <a:rPr b="0" lang="en-US" sz="2800" spc="-1" strike="noStrike">
                <a:solidFill>
                  <a:srgbClr val="f82900"/>
                </a:solidFill>
                <a:latin typeface="Arial"/>
                <a:ea typeface="Times New Roman"/>
              </a:rPr>
              <a:t> hatékonyságána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jövedelmezőségének vizsgálat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azdálkodás </a:t>
            </a:r>
            <a:r>
              <a:rPr b="0" lang="en-US" sz="2800" spc="-1" strike="noStrike">
                <a:solidFill>
                  <a:srgbClr val="f82900"/>
                </a:solidFill>
                <a:latin typeface="Arial"/>
                <a:ea typeface="Times New Roman"/>
              </a:rPr>
              <a:t>ellenőrzé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zdasági elem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kció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öntés-előkészít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k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lenőrző funkci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la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hatékonyabb és eredményesebb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azdálkodás segí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árg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állalkozás, mint gazdasági rendsz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iaci, beszerzési, termelési, fejlesztési tevékenységének, valamint a működésének komplex értékel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azdasági elemzés célja és módszerei a gazdasági folyamat szakaszaiba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79280" y="1484280"/>
          <a:ext cx="8785440" cy="4846680"/>
        </p:xfrm>
        <a:graphic>
          <a:graphicData uri="http://schemas.openxmlformats.org/drawingml/2006/table">
            <a:tbl>
              <a:tblPr/>
              <a:tblGrid>
                <a:gridCol w="1351080"/>
                <a:gridCol w="2478240"/>
                <a:gridCol w="2101680"/>
                <a:gridCol w="2854440"/>
              </a:tblGrid>
              <a:tr h="590040"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yamat szakasz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000"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él és módszer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a0f2"/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öntést megelőző szakasz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égrehajtás </a:t>
                      </a:r>
                      <a:br>
                        <a:rPr sz="2200"/>
                      </a:b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akasza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ólagos szakasz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5120"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él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a0f2"/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mális dönté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tűzött cél megvalósításának biztosítás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nyleges eredmények elemzés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9880"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ódszer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a0f2"/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zdaságossági számítások, gazdasági döntéseket megelőző elemzések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égrehajtás állásáról szóló folyamatos infor-máció elemzés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Összehasonlítás, tényezőkre bontá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18000" rIns="18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ív elemzés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íziós jellegű, retrospektív elemzés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997360"/>
            <a:ext cx="3276720" cy="2952720"/>
          </a:xfrm>
          <a:custGeom>
            <a:avLst/>
            <a:gdLst>
              <a:gd name="textAreaLeft" fmla="*/ 0 w 3276720"/>
              <a:gd name="textAreaRight" fmla="*/ 3277080 w 3276720"/>
              <a:gd name="textAreaTop" fmla="*/ 0 h 2952720"/>
              <a:gd name="textAreaBottom" fmla="*/ 2953080 h 29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72360" y="2924280"/>
            <a:ext cx="2700360" cy="2952720"/>
          </a:xfrm>
          <a:custGeom>
            <a:avLst/>
            <a:gdLst>
              <a:gd name="textAreaLeft" fmla="*/ 0 w 2700360"/>
              <a:gd name="textAreaRight" fmla="*/ 2700720 w 2700360"/>
              <a:gd name="textAreaTop" fmla="*/ 0 h 2952720"/>
              <a:gd name="textAreaBottom" fmla="*/ 2953080 h 29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2685960"/>
            <a:ext cx="4038480" cy="3657600"/>
          </a:xfrm>
          <a:custGeom>
            <a:avLst/>
            <a:gdLst/>
            <a:ahLst/>
            <a:rect l="l" t="t" r="r" b="b"/>
            <a:pathLst>
              <a:path w="4650" h="3270">
                <a:moveTo>
                  <a:pt x="810" y="2880"/>
                </a:moveTo>
                <a:cubicBezTo>
                  <a:pt x="720" y="2880"/>
                  <a:pt x="570" y="2940"/>
                  <a:pt x="450" y="2880"/>
                </a:cubicBezTo>
                <a:cubicBezTo>
                  <a:pt x="330" y="2820"/>
                  <a:pt x="120" y="2670"/>
                  <a:pt x="90" y="2520"/>
                </a:cubicBezTo>
                <a:cubicBezTo>
                  <a:pt x="60" y="2370"/>
                  <a:pt x="270" y="2160"/>
                  <a:pt x="270" y="1980"/>
                </a:cubicBezTo>
                <a:cubicBezTo>
                  <a:pt x="270" y="1800"/>
                  <a:pt x="0" y="1680"/>
                  <a:pt x="90" y="1440"/>
                </a:cubicBezTo>
                <a:cubicBezTo>
                  <a:pt x="180" y="1200"/>
                  <a:pt x="480" y="690"/>
                  <a:pt x="810" y="540"/>
                </a:cubicBezTo>
                <a:cubicBezTo>
                  <a:pt x="1140" y="390"/>
                  <a:pt x="1770" y="570"/>
                  <a:pt x="2070" y="540"/>
                </a:cubicBezTo>
                <a:cubicBezTo>
                  <a:pt x="2370" y="510"/>
                  <a:pt x="2400" y="450"/>
                  <a:pt x="2610" y="360"/>
                </a:cubicBezTo>
                <a:cubicBezTo>
                  <a:pt x="2820" y="270"/>
                  <a:pt x="3060" y="0"/>
                  <a:pt x="3330" y="0"/>
                </a:cubicBezTo>
                <a:cubicBezTo>
                  <a:pt x="3600" y="0"/>
                  <a:pt x="4020" y="120"/>
                  <a:pt x="4230" y="360"/>
                </a:cubicBezTo>
                <a:cubicBezTo>
                  <a:pt x="4440" y="600"/>
                  <a:pt x="4530" y="1140"/>
                  <a:pt x="4590" y="1440"/>
                </a:cubicBezTo>
                <a:cubicBezTo>
                  <a:pt x="4650" y="1740"/>
                  <a:pt x="4650" y="1950"/>
                  <a:pt x="4590" y="2160"/>
                </a:cubicBezTo>
                <a:cubicBezTo>
                  <a:pt x="4530" y="2370"/>
                  <a:pt x="4440" y="2520"/>
                  <a:pt x="4230" y="2700"/>
                </a:cubicBezTo>
                <a:cubicBezTo>
                  <a:pt x="4020" y="2880"/>
                  <a:pt x="3540" y="3210"/>
                  <a:pt x="3330" y="3240"/>
                </a:cubicBezTo>
                <a:cubicBezTo>
                  <a:pt x="3120" y="3270"/>
                  <a:pt x="3090" y="2940"/>
                  <a:pt x="2970" y="2880"/>
                </a:cubicBezTo>
                <a:cubicBezTo>
                  <a:pt x="2850" y="2820"/>
                  <a:pt x="2760" y="2880"/>
                  <a:pt x="2610" y="2880"/>
                </a:cubicBezTo>
                <a:cubicBezTo>
                  <a:pt x="2460" y="2880"/>
                  <a:pt x="2310" y="2850"/>
                  <a:pt x="2070" y="2880"/>
                </a:cubicBezTo>
                <a:cubicBezTo>
                  <a:pt x="1830" y="2910"/>
                  <a:pt x="1350" y="3060"/>
                  <a:pt x="1170" y="3060"/>
                </a:cubicBezTo>
                <a:cubicBezTo>
                  <a:pt x="990" y="3060"/>
                  <a:pt x="1050" y="2910"/>
                  <a:pt x="990" y="2880"/>
                </a:cubicBezTo>
                <a:cubicBezTo>
                  <a:pt x="930" y="2850"/>
                  <a:pt x="900" y="2880"/>
                  <a:pt x="810" y="2880"/>
                </a:cubicBez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38680" y="2457360"/>
            <a:ext cx="0" cy="4400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4057560"/>
            <a:ext cx="2743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e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elési szerkez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oló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elési előírás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6021360"/>
            <a:ext cx="48387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őállított termékmennyiség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6021360"/>
            <a:ext cx="31244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izált bevé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4286160"/>
            <a:ext cx="99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Érté-kesí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té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93080" y="3357720"/>
            <a:ext cx="1908000" cy="20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e00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rtékesítet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termé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zolgáltatá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övede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ez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2924280"/>
            <a:ext cx="2819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e00"/>
                </a:solidFill>
                <a:latin typeface="Arial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adás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zkö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nkaer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é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észeti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erőforrás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gyasztói igé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38320" y="1104840"/>
            <a:ext cx="51976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e00"/>
                </a:solidFill>
                <a:latin typeface="Arial"/>
              </a:rPr>
              <a:t>Gazdasági és társadalmi környez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zabályozó rendszer (jogszabályok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enytárs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yüttműködő partner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gyasztó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ársadalmi szervezet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329580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328e2"/>
                </a:solidFill>
                <a:latin typeface="Arial"/>
              </a:rPr>
              <a:t>VÁLLAL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9360"/>
            <a:ext cx="8497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Vállalat rendszermodellje</a:t>
            </a:r>
            <a:br>
              <a:rPr sz="32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zámviteli rends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5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500"/>
                            </p:stCondLst>
                            <p:childTnLst>
                              <p:par>
                                <p:cTn id="18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zdasági elemzés fajtá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Terjedelem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sze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Átfogó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vállalat egészének komplex elemzé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észlege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lrendszerek elemzése: például készletgazdálkodá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elhasznált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adatok milyenség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szer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űszaki-gazdasági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zámviteli adatok + műszaki paraméter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zdasági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számviteli adat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Időbeni megközelíté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szer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k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namik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7:37:45Z</dcterms:created>
  <dc:creator>Dr Takacs Istvan</dc:creator>
  <dc:description/>
  <dc:language>en-US</dc:language>
  <cp:lastModifiedBy>Dr Takacs Istvan</cp:lastModifiedBy>
  <dcterms:modified xsi:type="dcterms:W3CDTF">2007-03-14T10:08:52Z</dcterms:modified>
  <cp:revision>34</cp:revision>
  <dc:subject/>
  <dc:title>Üzemtan</dc:title>
</cp:coreProperties>
</file>