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DA5D-FB33-44D6-A77F-E44BC9A17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DD0E-112E-44D5-B786-A5F8ABD79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ECBD-3F0D-41E5-9E20-B9969DD90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CB54-AD10-4F87-8D8F-E6CADC12A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F442-2866-4113-B674-87BA9F145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F942-4491-4BF3-8F84-687DFBB07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52AF-AA3E-421E-A3A5-5B87B3247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5299-D303-471B-ABA0-B4E700ED8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6D54-F8CF-43B2-B4B6-273B05993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90BB-AFC3-41E7-8F27-245FE4C8C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343D-1EEF-4946-BF24-F8E01ED0A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D515-74DA-4199-B4F1-CFD905F83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C4C5F-6F74-4CDA-9491-32DD7E6CF5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 TAKARMÁNYGAZDÁLKODÁS SZERVEZÉSE ÉS ÖKONÓMIÁJ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takarmánygazdálkodás leegyszerűsítve a növénytermesztést és az állattenyésztést összekapcsoló tevékenységet jelent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Biológiai oldalró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 növényekben lévő tápanyagok transzformációját jelenti állati eredetű termékekké (tej, tojás, hús stb.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Gazdasági oldalró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 takarmánygazdálkodás útján a ráfordítások, költségek hozammá, termelési értékké, árbevétellé alakulnak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Végső célj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 jövedelem vagy jövedelmezőség növelése, melynek megvalósítása azonban bonyolultan, a gazdálkodás szintjei szerint rendkívül differenciáltan érhető 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 takarmánygazdálkodás eleme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rmeszt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ásárlá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takarítá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rtósítá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árolá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őkészít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letet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 takarmánygazdálkodás főbb területe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akarmányellátás: 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saját forrás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idegen forrás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növényi eredet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állati eredet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rmeszt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hasznosítá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Készletgazdálkodá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akarmányfelhasználá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 takarmányok gazdasági értékmérő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öltség: közvetlen, teljes, haszonáldozat, korrigál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ár: elszámoló, piaci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őforrás igény: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rület, eszköz, munkaerő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övedelem: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özvetlen, közvetett, számított, realizál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 gazdasági értéket mérő mutatószámo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Önköltsé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Haszonáldozati költsé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Korrigált költsé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Helyettesítési érték és á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akarmányfelhasználás hatékonysá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akarmányok pénzbeni értékesülé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akarmányfelhasználás jövedelmezősé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Komplex ökonómiai érté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3T15:22:43Z</dcterms:created>
  <dc:creator>Dr. Kalmár Sándor</dc:creator>
  <dc:description/>
  <dc:language>en-US</dc:language>
  <cp:lastModifiedBy>Dr. Kalmár Sándor</cp:lastModifiedBy>
  <dcterms:modified xsi:type="dcterms:W3CDTF">2007-03-23T15:33:10Z</dcterms:modified>
  <cp:revision>7</cp:revision>
  <dc:subject/>
  <dc:title>A TAKARMÁNYGAZDÁLKODÁS SZERVEZÉSE ÉS ÖKONÓMIÁJA</dc:title>
</cp:coreProperties>
</file>