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8.wmf" ContentType="image/x-wmf"/>
  <Override PartName="/ppt/media/image7.jpeg" ContentType="image/jpeg"/>
  <Override PartName="/ppt/media/image15.gif" ContentType="image/gif"/>
  <Override PartName="/ppt/media/image19.wmf" ContentType="image/x-wmf"/>
  <Override PartName="/ppt/media/image17.jpeg" ContentType="image/jpeg"/>
  <Override PartName="/ppt/media/image16.wmf" ContentType="image/x-wmf"/>
  <Override PartName="/ppt/media/image14.gif" ContentType="image/gif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2.wmf" ContentType="image/x-wmf"/>
  <Override PartName="/ppt/media/image18.wmf" ContentType="image/x-wmf"/>
  <Override PartName="/ppt/media/image5.jpeg" ContentType="image/jpeg"/>
  <Override PartName="/ppt/media/image11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668016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58920" y="3999600"/>
            <a:ext cx="668016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58920" y="399960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82160" y="399960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417560" y="137124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76200" y="137124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58920" y="399960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417560" y="399960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76200" y="399960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58920" y="1371240"/>
            <a:ext cx="668016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668016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095560" y="255240"/>
            <a:ext cx="668016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58920" y="399960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58920" y="1371240"/>
            <a:ext cx="668016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82160" y="399960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58920" y="3999600"/>
            <a:ext cx="668016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668016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58920" y="3999600"/>
            <a:ext cx="668016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158920" y="399960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82160" y="399960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17560" y="137124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76200" y="137124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158920" y="399960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17560" y="399960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76200" y="3999600"/>
            <a:ext cx="215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668016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95560" y="255240"/>
            <a:ext cx="668016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58920" y="399960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82160" y="399960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5892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82160" y="1371240"/>
            <a:ext cx="3259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58920" y="3999600"/>
            <a:ext cx="668016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9520" y="6404040"/>
            <a:ext cx="180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oor Richard"/>
              </a:rPr>
              <a:t>©</a:t>
            </a:r>
            <a:r>
              <a:rPr b="1" lang="hu-HU" sz="1200" spc="-1" strike="noStrike">
                <a:solidFill>
                  <a:srgbClr val="000000"/>
                </a:solidFill>
                <a:latin typeface="Poor Richard"/>
              </a:rPr>
              <a:t> Dr. Nábrádi Andr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hu-HU" sz="1200" spc="-1" strike="noStrike">
                <a:solidFill>
                  <a:srgbClr val="000000"/>
                </a:solidFill>
                <a:latin typeface="Poor Richard"/>
              </a:rPr>
              <a:t>DE-AV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05000"/>
            <a:ext cx="179244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89200" y="0"/>
            <a:ext cx="160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95560" y="255240"/>
            <a:ext cx="6680160" cy="77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1840" y="1887480"/>
            <a:ext cx="1307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7120"/>
            <a:ext cx="172548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1734120" y="254520"/>
            <a:ext cx="1057320" cy="71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158920" y="1371240"/>
            <a:ext cx="668016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17600" y="1471680"/>
            <a:ext cx="663732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84320" y="1368360"/>
            <a:ext cx="14270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040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9520" y="6404040"/>
            <a:ext cx="180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oor Richard"/>
              </a:rPr>
              <a:t>©</a:t>
            </a:r>
            <a:r>
              <a:rPr b="1" lang="hu-HU" sz="1200" spc="-1" strike="noStrike">
                <a:solidFill>
                  <a:srgbClr val="000000"/>
                </a:solidFill>
                <a:latin typeface="Poor Richard"/>
              </a:rPr>
              <a:t> Dr. Nábrádi Andr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hu-HU" sz="1200" spc="-1" strike="noStrike">
                <a:solidFill>
                  <a:srgbClr val="000000"/>
                </a:solidFill>
                <a:latin typeface="Poor Richard"/>
              </a:rPr>
              <a:t>DE-AV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94000"/>
            <a:ext cx="1792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9360" y="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89200" y="0"/>
            <a:ext cx="1602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38320" y="272520"/>
            <a:ext cx="6926400" cy="738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1840" y="1887480"/>
            <a:ext cx="1307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27120"/>
            <a:ext cx="172548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320840"/>
            <a:ext cx="143676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46040" y="1371240"/>
            <a:ext cx="65926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17600" y="1471680"/>
            <a:ext cx="663732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4320" y="1368360"/>
            <a:ext cx="14270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4320" y="1171440"/>
            <a:ext cx="14094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03400" y="2755800"/>
            <a:ext cx="673416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Times New Roman"/>
              </a:rPr>
              <a:t>Előadó: Dr. Nábrádi András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Times New Roman"/>
              </a:rPr>
              <a:t>                egyetemi taná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2800" y="787320"/>
            <a:ext cx="660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0" spc="-1" strike="noStrike">
                <a:solidFill>
                  <a:srgbClr val="333399"/>
                </a:solidFill>
                <a:latin typeface="Arial Narrow"/>
              </a:rPr>
              <a:t>Alapfogalmak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826160"/>
            <a:ext cx="7848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pperplate Gothic Light"/>
              </a:rPr>
              <a:t>Debreceni Egye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pperplate Gothic Light"/>
              </a:rPr>
              <a:t>Agrárgazdasági és Vidékfejlesztési K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pperplate Gothic Light"/>
              </a:rPr>
              <a:t>Vállalatgazdasági é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opperplate Gothic Light"/>
              </a:rPr>
              <a:t>Marketing Tansz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-1712160" y="3307320"/>
            <a:ext cx="5100480" cy="885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bbe0e3">
                    <a:alpha val="3000"/>
                  </a:srgbClr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énzügy számvitel</a:t>
            </a:r>
            <a:endParaRPr b="0" lang="en-US" sz="2000" spc="1" strike="noStrike">
              <a:ln w="0">
                <a:noFill/>
              </a:ln>
              <a:solidFill>
                <a:srgbClr val="bbe0e3">
                  <a:alpha val="3000"/>
                </a:srgbClr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Egy ágazat termelési érté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92240" y="1523880"/>
            <a:ext cx="71517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Árbevé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értékesíte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ő-, iker- és melléktermék után kapott bevé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Közvetlen támoga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gazat (termőföld, állat) megléte esetén kap a termelő (bérlő), egyértelműen az ágazathoz, illetve tevékenységhez kapcsolódn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Egyéb bevétel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nem-árjellegű, de az ágazathoz kapcsolható bevétel, pl. biztosító térítése, kárrend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Egyéb előállított, de még </a:t>
            </a: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nem értékesített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 termék, illetve szolgálta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z árak fajtá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82680" y="1233360"/>
            <a:ext cx="661356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aci á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értékesíté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eszerzé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ermelői, nagykereskedelmi, fogyasztói (kiskereskede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édőá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tósági (fix, rögzített) 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lról védett (intervenciós) ár,a termelőt vé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ülről védett ár a fogyasztót vé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nköltségi 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ső elszámolások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z EU agrárpiaci rendtartás alapj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6760" y="1523880"/>
            <a:ext cx="6875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1. alapár: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melyhez az agrárpiaci rendtartás egyes eszközeinek alkalmazása köthető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irányár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mely a piaci viszonyok függvényében a várható áringadozások centrumát jelö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minimumár: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elvásárló által a termelő részére fizetendő minimális átvételi á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hu-HU" sz="2400" spc="-1" strike="noStrike">
                <a:solidFill>
                  <a:srgbClr val="ff0000"/>
                </a:solidFill>
                <a:latin typeface="Arial"/>
              </a:rPr>
              <a:t>intervenciós felvásárlási ár: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a termelőknek méltányos jövedelmet biztosító, előre meghirdetett - ár, amelyet ha a piaci ár elér és a külön jogszabályban meghatározott feltételek teljesülnek, az állami felvásárlás megindul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l: gabona 2007-ben 101 € (~27 000 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 termelési érték növel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14920" y="3251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92760" y="2233440"/>
            <a:ext cx="91440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48560" y="2003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07240" y="2771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0080" y="4006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1480" y="1523880"/>
            <a:ext cx="48434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hoza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övelé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ára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övelé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gyé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845480" y="1200240"/>
          <a:ext cx="103644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5480" y="1200240"/>
                    <a:ext cx="103644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897600" y="4260960"/>
            <a:ext cx="182880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 termelési érték növel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14920" y="3251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92760" y="2233440"/>
            <a:ext cx="91440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2003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07240" y="2771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50080" y="4006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97320" y="1254240"/>
            <a:ext cx="2371680" cy="60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3300"/>
                </a:solidFill>
                <a:latin typeface="Times New Roman"/>
              </a:rPr>
              <a:t>TERMELÉSI ÉRTÉ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59160" y="2233440"/>
            <a:ext cx="1660320" cy="677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imes New Roman"/>
              </a:rPr>
              <a:t>Hoz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33840" y="2233440"/>
            <a:ext cx="1838520" cy="677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imes New Roman"/>
              </a:rPr>
              <a:t>Értékesítési ár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69000" y="2233440"/>
            <a:ext cx="1957320" cy="677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imes New Roman"/>
              </a:rPr>
              <a:t>TÉ-t növelő egyé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Times New Roman"/>
              </a:rPr>
              <a:t>bevét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8" idx="2"/>
            <a:endCxn id="160" idx="0"/>
          </p:cNvCxnSpPr>
          <p:nvPr/>
        </p:nvCxnSpPr>
        <p:spPr>
          <a:xfrm rot="5400000">
            <a:off x="5279760" y="2030040"/>
            <a:ext cx="376920" cy="30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59" idx="0"/>
            <a:endCxn id="158" idx="2"/>
          </p:cNvCxnSpPr>
          <p:nvPr/>
        </p:nvCxnSpPr>
        <p:spPr>
          <a:xfrm flipH="1" flipV="1" rot="5400000">
            <a:off x="4197960" y="947880"/>
            <a:ext cx="376920" cy="2194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61" idx="0"/>
            <a:endCxn id="158" idx="2"/>
          </p:cNvCxnSpPr>
          <p:nvPr/>
        </p:nvCxnSpPr>
        <p:spPr>
          <a:xfrm flipV="1" rot="16200000">
            <a:off x="6377040" y="961920"/>
            <a:ext cx="376920" cy="2166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2104560" y="2986200"/>
            <a:ext cx="206748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Input anyag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Technoló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észségü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áf.-ok színvon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Munkaszervez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Humán tényező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yéb ráfordít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74080" y="2986200"/>
            <a:ext cx="24498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Minőség </a:t>
            </a: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(EUROP, IS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Termék je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yöntetű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Integrác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Kereslet - Kíná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rtékesítés ide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rtékesítés mennyi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rtékesítés hel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29480" y="2986200"/>
            <a:ext cx="21970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Támogat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iztosítási kártérí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Pénzügyi művelete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redmén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yéb bevét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44720" y="2397240"/>
            <a:ext cx="69771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A termelési költséghez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tartozó alapfogalmak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rmelési költséghez tartozó alapfogalm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14920" y="3251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92760" y="2233440"/>
            <a:ext cx="91440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48560" y="2003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07240" y="2771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3000" y="1523880"/>
            <a:ext cx="6265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áfordí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galma, típu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áfordítás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egységá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226200" y="1689120"/>
            <a:ext cx="2192400" cy="21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 ráfordítás fogalma, típus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92760" y="2233440"/>
            <a:ext cx="91440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48560" y="2003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66760" y="1278000"/>
            <a:ext cx="678816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rmelés érdekében felhasznált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rőforrások naturális mértékegysé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 kifejezett mennyisé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unkaerő, élőmu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ermelési eszközök, holtmu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jlagos ráfordít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491240" y="5018040"/>
            <a:ext cx="1378080" cy="1341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481880" y="2881440"/>
            <a:ext cx="1463760" cy="147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 termelési költség fogal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81160" y="1523880"/>
            <a:ext cx="67881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ermelés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zolgáltatás érdekében felhasznál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áfordítások pénzben kifejezett érté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04960" y="4233960"/>
            <a:ext cx="5867640" cy="13716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K = Ráfordítás X Egységá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áfordítás-tartalom nélküli költ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8400" y="1523880"/>
            <a:ext cx="36813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önböző ad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ztosítási díj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sági díj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mat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öldbérleti díjak, st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4368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8728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grárgazdasági és Vidékfejlesztési K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51520" y="6372360"/>
            <a:ext cx="71100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0440" y="5529240"/>
            <a:ext cx="745920" cy="74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87720" y="1606680"/>
            <a:ext cx="6956280" cy="381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00240" y="5761080"/>
            <a:ext cx="6853320" cy="91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Vállalatgazdasági és Marketing Tansz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52)"/>
                                      </p:to>
                                    </p:set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52)"/>
                                      </p:to>
                                    </p:set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52)"/>
                                      </p:to>
                                    </p:set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52)"/>
                                      </p:to>
                                    </p:set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36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36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36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3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36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3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költségek csoportos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5320" y="1523880"/>
            <a:ext cx="70786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észpén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énzmozgást okozó)  és v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A termelés különböző szintjeihez kapcsolt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kaművelet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gazat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lalat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zetgazdaság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07240" y="3905280"/>
            <a:ext cx="2971800" cy="24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" presetSubtype="3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3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3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3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3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költségek csoportos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95560" y="1523880"/>
            <a:ext cx="66866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számolhatósá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ze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zvetlen, általá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ermelés volumenével v. kapcsol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e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landó, változ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vékenységek, munkaműveletek szerint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, költséglá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elési költség elszámolhatóság sze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70160" y="1523880"/>
            <a:ext cx="6467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özvetlen költ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agjellegű ktg-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mélyi jellegű ktg-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édüzemi szolg.költség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ektetett eszközök költsége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éb költ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Közvetett költ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ltalános költ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azgatá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éb általá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zámvitel szerint felosztott költsé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Számvitel szerint csak az amortizáci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elési költség a termelés volumenével v. kapcsolat sze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4320" y="1523880"/>
            <a:ext cx="65563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A költségek reagálása a kibocsátásra (out-put, volum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 kibocsátásra reagál válto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A kibocsátásra nem reag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8840" y="4383000"/>
            <a:ext cx="2293920" cy="1538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LTOZ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30840" y="4379760"/>
            <a:ext cx="2293920" cy="1538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ÁLLAN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elési költség a termelés volumenével v. kapcsolat sze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1523880"/>
            <a:ext cx="65563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Állandó költ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Értékcsökkenési leírás költ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ltalán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öltségek közü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rtékcsökkenési 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ír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amortizáci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ölt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ítás, karbantartás bizonyos hány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azgatás költség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egyéb általá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. Bérleti díj, rendszer díj,  hozamtól függetle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ztosítás dí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áltozó költs</a:t>
            </a:r>
            <a:r>
              <a:rPr b="1" lang="hu-HU" sz="2400" spc="-1" strike="noStrike">
                <a:solidFill>
                  <a:srgbClr val="000099"/>
                </a:solidFill>
                <a:latin typeface="Arial"/>
              </a:rPr>
              <a:t>é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nyagjellegű költ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zemélyi jellegű költ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édüzem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zolgáltatás döntő ré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Egyéb közvetlen költ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állandó költségek jellemző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9840" y="1523880"/>
            <a:ext cx="67579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állandó költséget szoká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épcsőze-tesen változó költségn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vez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használás függvényében,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egységnyi teljesítményre vonatkozóan változ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öltségként viselked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elés megszünésével, csökkené-sével egyes eszközök feleslegessé vál-nak, de az állandó költsége viszont megmarad.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Költségremanencia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állandó költségek jellemző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9840" y="1523880"/>
            <a:ext cx="6757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állandó költséget szoká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épcsőze-tesen változó költségn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vez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655720" y="2771640"/>
            <a:ext cx="0" cy="3121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55720" y="5850000"/>
            <a:ext cx="5805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1240" y="6146640"/>
            <a:ext cx="29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bocsátás, 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0120" y="5065560"/>
            <a:ext cx="1960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30680" y="444132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5080" y="4441680"/>
            <a:ext cx="1131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776920" y="35985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76920" y="3598920"/>
            <a:ext cx="1712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57440" y="3940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állandó költségek jellemző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9840" y="1365120"/>
            <a:ext cx="67579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használás függvényében,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egységnyi teljesítményre vonatkozóan változ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öltségként viselked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655720" y="2771640"/>
            <a:ext cx="0" cy="3121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55720" y="5850000"/>
            <a:ext cx="5805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12040" y="6307200"/>
            <a:ext cx="29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bocsátás, 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57440" y="312732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26840" y="3579840"/>
            <a:ext cx="13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t/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9600" y="5864400"/>
            <a:ext cx="14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003560" y="5862600"/>
            <a:ext cx="1440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655880" y="5862600"/>
            <a:ext cx="140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252760" y="5848200"/>
            <a:ext cx="140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76640" y="5877000"/>
            <a:ext cx="1404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27520" y="5877000"/>
            <a:ext cx="1404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59400" y="6073920"/>
            <a:ext cx="9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86600" y="6089760"/>
            <a:ext cx="9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53320" y="6089760"/>
            <a:ext cx="9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48760" y="6102360"/>
            <a:ext cx="9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72640" y="6087960"/>
            <a:ext cx="9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53400" y="6102360"/>
            <a:ext cx="9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27280" y="3351240"/>
            <a:ext cx="595440" cy="1440"/>
          </a:xfrm>
          <a:custGeom>
            <a:avLst/>
            <a:gdLst/>
            <a:ahLst/>
            <a:rect l="l" t="t" r="r" b="b"/>
            <a:pathLst>
              <a:path w="375" h="1">
                <a:moveTo>
                  <a:pt x="0" y="1"/>
                </a:moveTo>
                <a:cubicBezTo>
                  <a:pt x="158" y="0"/>
                  <a:pt x="317" y="0"/>
                  <a:pt x="375" y="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22720" y="3352680"/>
            <a:ext cx="782640" cy="1219320"/>
          </a:xfrm>
          <a:custGeom>
            <a:avLst/>
            <a:gdLst/>
            <a:ahLst/>
            <a:rect l="l" t="t" r="r" b="b"/>
            <a:pathLst>
              <a:path w="493" h="768">
                <a:moveTo>
                  <a:pt x="0" y="0"/>
                </a:moveTo>
                <a:cubicBezTo>
                  <a:pt x="205" y="320"/>
                  <a:pt x="411" y="640"/>
                  <a:pt x="493" y="7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90960" y="4557600"/>
            <a:ext cx="682560" cy="595440"/>
          </a:xfrm>
          <a:custGeom>
            <a:avLst/>
            <a:gdLst/>
            <a:ahLst/>
            <a:rect l="l" t="t" r="r" b="b"/>
            <a:pathLst>
              <a:path w="430" h="375">
                <a:moveTo>
                  <a:pt x="0" y="0"/>
                </a:moveTo>
                <a:cubicBezTo>
                  <a:pt x="179" y="157"/>
                  <a:pt x="358" y="314"/>
                  <a:pt x="430" y="37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30680" y="5122800"/>
            <a:ext cx="623880" cy="219240"/>
          </a:xfrm>
          <a:custGeom>
            <a:avLst/>
            <a:gdLst/>
            <a:ahLst/>
            <a:rect l="l" t="t" r="r" b="b"/>
            <a:pathLst>
              <a:path w="393" h="138">
                <a:moveTo>
                  <a:pt x="0" y="0"/>
                </a:moveTo>
                <a:cubicBezTo>
                  <a:pt x="0" y="0"/>
                  <a:pt x="196" y="69"/>
                  <a:pt x="393" y="1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48440" y="5334120"/>
            <a:ext cx="65700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05440" y="5448240"/>
            <a:ext cx="628560" cy="104760"/>
          </a:xfrm>
          <a:custGeom>
            <a:avLst/>
            <a:gdLst/>
            <a:ahLst/>
            <a:rect l="l" t="t" r="r" b="b"/>
            <a:pathLst>
              <a:path w="396" h="66">
                <a:moveTo>
                  <a:pt x="0" y="0"/>
                </a:moveTo>
                <a:cubicBezTo>
                  <a:pt x="0" y="0"/>
                  <a:pt x="198" y="33"/>
                  <a:pt x="396" y="6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 változó köl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81240" y="1352520"/>
            <a:ext cx="671652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Azok a költségek, amelyek nagyságát a döntéshozó a döntéseivel rövidtávon is befolyásolhatja, vagyis a döntés következményeként változn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A változó költségek 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állított termékmennyiségg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forgalmazott áru mennyiségév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is a termelési méret, volumen és termelési színvonallal összefüggésben ezek változásával együ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de nem egyenlő mértékben és arányban) változn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termelés szüneteltetése esetén nem merülnek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áltozó költségek jellemzői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ív költségváltozás alaku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98520" y="161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öltségnövekmény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57760" y="6084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növekmény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33720" y="2209680"/>
          <a:ext cx="609588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09680"/>
                    <a:ext cx="60958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62440" y="3166920"/>
            <a:ext cx="6825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A termelési értékhez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tartozó alapfogalmak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49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rmelési költség munkaműveletek szerinti csoportosítása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 költséglá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54240" y="1523880"/>
            <a:ext cx="65689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ényeges, mert ezzel deríthetjük k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lyik művelet határozza meg alapvetően a költségeket, illetve ezen belül melyik költség a meghatároz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öltségek csökkentése potenciálisan ott lehet a leghatékonyabb, ahol a költséghányad ma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jlagos termelési köl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82680" y="1523880"/>
            <a:ext cx="66722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ékegységre, szolgáltatásr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gy termelési kapacitásra vetített költsé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rmékegységre, vagy szolgáltatásra jutó költsége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önköltség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vezzü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4419720"/>
            <a:ext cx="6324480" cy="1447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nköltsé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4648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elé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ölt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ék, szolgáltatás mennyis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5181480"/>
            <a:ext cx="35049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373480" y="3448080"/>
            <a:ext cx="73152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3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3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5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5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z önköltségszámítás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módszer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68640" y="1523880"/>
            <a:ext cx="6642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I. Osztókalkul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zer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ányszá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nértékszá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II. Pótlékol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A költségeket bontja közvetlen és közvetett költségekre, a pótlékolás az általános költségek felosztását teszi lehetővé pótlékkulcsok segítségével, anyagköltég, munkabér, energia stb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cc"/>
                </a:solidFill>
                <a:latin typeface="Arial"/>
              </a:rPr>
              <a:t>III. Veg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osztókalkuláci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1480" y="1523880"/>
            <a:ext cx="6627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ő- és melléktermék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ertermékek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ányszámos osztókalkul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enértékszámos osztókalkul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74840" y="4492800"/>
            <a:ext cx="6564240" cy="16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ttó tk.= Bruttó tk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elléktermék értéke, 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önköltsé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sökkentésének lehetőség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82680" y="1523880"/>
            <a:ext cx="6540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rmelési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öltség csökken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áfordítás x egységá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ermé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zolgáltatás)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növel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elléktermé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sszerű hasznosítása (NKt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419720"/>
            <a:ext cx="1371600" cy="12952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d9fc44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7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7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ermelési költséget befolyásoló tényez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78160" y="1473120"/>
            <a:ext cx="2694240" cy="600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3300"/>
                </a:solidFill>
                <a:latin typeface="Times New Roman"/>
              </a:rPr>
              <a:t>TERMELÉSI KÖLT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38360" y="2449440"/>
            <a:ext cx="1639800" cy="674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Ráfordí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6520" y="2449440"/>
            <a:ext cx="1757520" cy="674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Ráfordí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árszínvon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97800" y="2449440"/>
            <a:ext cx="1931760" cy="674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TK-t növelő egyé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kiad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5" idx="2"/>
            <a:endCxn id="287" idx="0"/>
          </p:cNvCxnSpPr>
          <p:nvPr/>
        </p:nvCxnSpPr>
        <p:spPr>
          <a:xfrm flipV="1" rot="10800000">
            <a:off x="5525280" y="2072880"/>
            <a:ext cx="1080" cy="376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"/>
          <p:cNvCxnSpPr>
            <a:stCxn id="286" idx="0"/>
            <a:endCxn id="285" idx="2"/>
          </p:cNvCxnSpPr>
          <p:nvPr/>
        </p:nvCxnSpPr>
        <p:spPr>
          <a:xfrm flipH="1" flipV="1" rot="5400000">
            <a:off x="4254120" y="1177200"/>
            <a:ext cx="376920" cy="2167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88" idx="0"/>
            <a:endCxn id="285" idx="2"/>
          </p:cNvCxnSpPr>
          <p:nvPr/>
        </p:nvCxnSpPr>
        <p:spPr>
          <a:xfrm flipV="1" rot="16200000">
            <a:off x="6405840" y="1191960"/>
            <a:ext cx="376920" cy="2137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2" name=""/>
          <p:cNvSpPr/>
          <p:nvPr/>
        </p:nvSpPr>
        <p:spPr>
          <a:xfrm>
            <a:off x="2188080" y="3201840"/>
            <a:ext cx="213912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Anyag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Munkaid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Gépi üz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Fogyó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Termelési 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Egyéb ráfordí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57880" y="3201840"/>
            <a:ext cx="241812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Saját előállítás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ráfordítások á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Vásáro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ráfordítások á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beszerzés ideje, hel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A beszerzés volum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Kapcsol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68880" y="3216240"/>
            <a:ext cx="21754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Kam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Pénzügyi művele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költség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Biztosítási díj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Tagsági díj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Illetékek, ad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Egyéb kiad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GYELMEZTETÉ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6600" y="2143080"/>
            <a:ext cx="6818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3300"/>
                </a:solidFill>
                <a:latin typeface="Arial"/>
              </a:rPr>
              <a:t>2008. október 22-én az első előadás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66920" y="1636560"/>
            <a:ext cx="6248520" cy="175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. Zárthelyi dolgoz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062440" y="3166920"/>
            <a:ext cx="6825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A jövedelemhez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tartozó alapfogalmak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jövede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6600" y="2143080"/>
            <a:ext cx="6818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övedelemmel szinoním fogalmak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yereség,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redmén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zte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66920" y="1636560"/>
            <a:ext cx="6248520" cy="175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elési érték - Termelési költ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Egy ágazat termelési érté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92240" y="1523880"/>
            <a:ext cx="71517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Árbevé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értékesíte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ő-, iker- és melléktermék után kapott bevé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Közvetlen támoga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gazat (termőföld, állat) megléte esetén kap a termelő (bérlő), egyértelműen az ágazathoz, illetve tevékenységhez kapcsolódn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Egyéb bevétel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nem-árjellegű, de az ágazathoz kapcsolható bevétel, pl. biztosító térítése, belvíz-, aszály kárrend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Egyéb előállított, de még </a:t>
            </a: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nem értékesített</a:t>
            </a:r>
            <a:r>
              <a:rPr b="1" lang="hu-HU" sz="2800" spc="-1" strike="noStrike">
                <a:solidFill>
                  <a:srgbClr val="000099"/>
                </a:solidFill>
                <a:latin typeface="Arial"/>
              </a:rPr>
              <a:t> termék, illetve szolgálta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8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3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8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ermelési érték alapelem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1440" y="1523880"/>
            <a:ext cx="64407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z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rmékek, szolgáltatá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Á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z árak fajtá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Egyéb tényező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52640" y="5780160"/>
            <a:ext cx="719136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költségek csoportos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95560" y="1523880"/>
            <a:ext cx="66866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számolhatósá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ze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zvetlen, általá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ermelés volumenével v. kapcsol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e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landó, változ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vékenységek, munkaműveletek sze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jövedelem kategóriá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82680" y="1523880"/>
            <a:ext cx="65995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ttó jövedel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j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TÉ-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ruttó jövedelem = TÉ - TK + Sz. K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j + Személyi jellegű Kt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dezeti hozzájárulás = TÉ- Vált.K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j + Állandó Kt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dezeti összeg = TÉ - Közv. K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j + Általános Kt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redmény számviteli kimu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54240" y="1523880"/>
            <a:ext cx="67435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hu-HU" sz="2500" spc="-1" strike="noStrike">
                <a:solidFill>
                  <a:srgbClr val="0000cc"/>
                </a:solidFill>
                <a:latin typeface="Arial"/>
              </a:rPr>
              <a:t>Értékesítés nettó árbevéte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hu-HU" sz="2500" spc="-1" strike="noStrike">
                <a:solidFill>
                  <a:srgbClr val="0000cc"/>
                </a:solidFill>
                <a:latin typeface="Arial"/>
              </a:rPr>
              <a:t>üzemi (üzleti) tevékenység költsé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Arial"/>
              </a:rPr>
              <a:t>Üzemi (üzleti) eredmén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+/- Pénzügyi műveletek eredmény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Arial"/>
              </a:rPr>
              <a:t>Szokásos vállalkozási eredmén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+/- Rendkívüli kiadások-bevételek egyenle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Arial"/>
              </a:rPr>
              <a:t>Adózás előtti eredmén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-   Adófizetési kötelezettsé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Arial"/>
              </a:rPr>
              <a:t>Adózott eredmén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-    Jóváhagyott osztalék és részesedé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Arial"/>
              </a:rPr>
              <a:t>Mérleg szerinti eredmén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jövedelem növelésének lehetőség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09960" y="1523880"/>
            <a:ext cx="67449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lapvetően két módon lehetsé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elési érték növelésé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elési költség csökkentésé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agy még pontosabb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áfordítások és ezen keresz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a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rmelési költsé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lyan mértékű növelésével, amel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ényeként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rmelési érté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gyobb mértékben n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jövedelem növelésének lehetőség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592600" y="2449440"/>
            <a:ext cx="3376800" cy="2697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000160" y="2490840"/>
            <a:ext cx="3522600" cy="2792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021120" y="5248440"/>
            <a:ext cx="14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95080" y="5554800"/>
            <a:ext cx="116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8200" y="5121360"/>
            <a:ext cx="123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89440" y="5427720"/>
            <a:ext cx="1495080" cy="10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94360" y="5342040"/>
            <a:ext cx="2104920" cy="10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7760" y="1370160"/>
            <a:ext cx="33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9900"/>
                </a:solidFill>
                <a:latin typeface="Arial"/>
              </a:rPr>
              <a:t>J= TÉ-T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30880" y="3166920"/>
            <a:ext cx="5677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A hatékonyság és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200" spc="-1" strike="noStrike">
                <a:solidFill>
                  <a:srgbClr val="000099"/>
                </a:solidFill>
                <a:latin typeface="Arial Narrow"/>
              </a:rPr>
              <a:t>mérése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atékony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65680" y="1568520"/>
            <a:ext cx="2681280" cy="1712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állal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4800" y="2044800"/>
            <a:ext cx="10828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58760" y="1995480"/>
            <a:ext cx="140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7920" y="2338560"/>
            <a:ext cx="617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46960" y="2338560"/>
            <a:ext cx="790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86080" y="3903840"/>
            <a:ext cx="221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redményes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azdaságos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övedelmező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tékony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melékeny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92640" y="3965400"/>
            <a:ext cx="60120" cy="1884600"/>
          </a:xfrm>
          <a:custGeom>
            <a:avLst/>
            <a:gdLst>
              <a:gd name="textAreaLeft" fmla="*/ 0 w 60120"/>
              <a:gd name="textAreaRight" fmla="*/ 21600 w 60120"/>
              <a:gd name="textAreaTop" fmla="*/ 48960 h 1884600"/>
              <a:gd name="textAreaBottom" fmla="*/ 1835640 h 188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93240" y="475920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UT-PUT/ INPUT, vagy v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atékony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11400" y="1398600"/>
            <a:ext cx="68374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hu-HU" sz="3800" spc="-1" strike="noStrike">
                <a:solidFill>
                  <a:srgbClr val="000000"/>
                </a:solidFill>
                <a:latin typeface="Arial Narrow"/>
              </a:rPr>
              <a:t>hatékonyság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 az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800" spc="-1" strike="noStrike">
                <a:solidFill>
                  <a:srgbClr val="ff0000"/>
                </a:solidFill>
                <a:latin typeface="Arial Narrow"/>
              </a:rPr>
              <a:t>Eredmény (output) </a:t>
            </a:r>
            <a:r>
              <a:rPr b="1" i="1" lang="hu-HU" sz="3800" spc="-1" strike="noStrike">
                <a:solidFill>
                  <a:srgbClr val="000000"/>
                </a:solidFill>
                <a:latin typeface="Arial Narrow"/>
              </a:rPr>
              <a:t>és a</a:t>
            </a:r>
            <a:r>
              <a:rPr b="1" i="1" lang="hu-HU" sz="3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i="1" lang="hu-HU" sz="3800" spc="-1" strike="noStrike">
                <a:solidFill>
                  <a:srgbClr val="0000cc"/>
                </a:solidFill>
                <a:latin typeface="Arial Narrow"/>
              </a:rPr>
              <a:t>Ráfordítás (input)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hu-HU" sz="3800" spc="-1" strike="noStrike">
                <a:solidFill>
                  <a:srgbClr val="008000"/>
                </a:solidFill>
                <a:latin typeface="Arial Narrow"/>
              </a:rPr>
              <a:t>különböző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  ( </a:t>
            </a:r>
            <a:r>
              <a:rPr b="0" lang="hu-HU" sz="3800" spc="-1" strike="noStrike">
                <a:solidFill>
                  <a:srgbClr val="ff0000"/>
                </a:solidFill>
                <a:latin typeface="Arial Narrow"/>
              </a:rPr>
              <a:t>E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hu-HU" sz="3800" spc="-1" strike="noStrike">
                <a:solidFill>
                  <a:srgbClr val="0000ff"/>
                </a:solidFill>
                <a:latin typeface="Arial Narrow"/>
              </a:rPr>
              <a:t>R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hu-HU" sz="3800" spc="-1" strike="noStrike">
                <a:solidFill>
                  <a:srgbClr val="0000ff"/>
                </a:solidFill>
                <a:latin typeface="Arial Narrow"/>
              </a:rPr>
              <a:t>R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hu-HU" sz="3800" spc="-1" strike="noStrike">
                <a:solidFill>
                  <a:srgbClr val="ff0000"/>
                </a:solidFill>
                <a:latin typeface="Arial Narrow"/>
              </a:rPr>
              <a:t>E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hu-HU" sz="3800" spc="-1" strike="noStrike">
                <a:solidFill>
                  <a:srgbClr val="0000ff"/>
                </a:solidFill>
                <a:latin typeface="Arial Narrow"/>
              </a:rPr>
              <a:t>R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hu-HU" sz="3800" spc="-1" strike="noStrike">
                <a:solidFill>
                  <a:srgbClr val="0000ff"/>
                </a:solidFill>
                <a:latin typeface="Arial Narrow"/>
              </a:rPr>
              <a:t>R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hu-HU" sz="3800" spc="-1" strike="noStrike">
                <a:solidFill>
                  <a:srgbClr val="ff0000"/>
                </a:solidFill>
                <a:latin typeface="Arial Narrow"/>
              </a:rPr>
              <a:t>E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hu-HU" sz="3800" spc="-1" strike="noStrike">
                <a:solidFill>
                  <a:srgbClr val="ff0000"/>
                </a:solidFill>
                <a:latin typeface="Arial Narrow"/>
              </a:rPr>
              <a:t>E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) viszonyait fejezi ki, ahol az </a:t>
            </a:r>
            <a:r>
              <a:rPr b="0" lang="hu-HU" sz="3800" spc="-1" strike="noStrike">
                <a:solidFill>
                  <a:srgbClr val="ff0000"/>
                </a:solidFill>
                <a:latin typeface="Arial Narrow"/>
              </a:rPr>
              <a:t>eredmény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, vagy a </a:t>
            </a:r>
            <a:r>
              <a:rPr b="0" lang="hu-HU" sz="3800" spc="-1" strike="noStrike">
                <a:solidFill>
                  <a:srgbClr val="0000cc"/>
                </a:solidFill>
                <a:latin typeface="Arial Narrow"/>
              </a:rPr>
              <a:t>ráfordítás </a:t>
            </a:r>
            <a:r>
              <a:rPr b="0" lang="hu-HU" sz="3800" spc="-1" strike="noStrike">
                <a:solidFill>
                  <a:srgbClr val="000000"/>
                </a:solidFill>
                <a:latin typeface="Arial Narrow"/>
              </a:rPr>
              <a:t>naturális-, vagy pénzben kifejezett mutatószámot jelöl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atékonyság szám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1398600"/>
            <a:ext cx="6299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f0000"/>
                </a:solidFill>
                <a:latin typeface="Arial Narrow"/>
              </a:rPr>
              <a:t>Eredménykategóriák (output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Naturális (Kg, L, T, M, stb.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Ökonómiai (Ft, EUR, stb.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3399"/>
                </a:solidFill>
                <a:latin typeface="Arial Narrow"/>
              </a:rPr>
              <a:t>Ráfordítás-kategóriák (input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Naturális (Kg, L,T, M stb.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Ökonómiai (Ft, EUR, stb.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atékonyság kategóriái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22480" y="1198440"/>
            <a:ext cx="69343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cc"/>
                </a:solidFill>
                <a:latin typeface="Arial"/>
              </a:rPr>
              <a:t>Ha a nevező és a számláló természetes egységű, akkor </a:t>
            </a:r>
            <a:r>
              <a:rPr b="0" lang="hu-HU" sz="4000" spc="-1" strike="noStrike">
                <a:solidFill>
                  <a:srgbClr val="009900"/>
                </a:solidFill>
                <a:latin typeface="Arial"/>
              </a:rPr>
              <a:t>naturális</a:t>
            </a:r>
            <a:r>
              <a:rPr b="0" lang="hu-HU" sz="4000" spc="-1" strike="noStrike">
                <a:solidFill>
                  <a:srgbClr val="0000cc"/>
                </a:solidFill>
                <a:latin typeface="Arial"/>
              </a:rPr>
              <a:t> hatékonyságról, ha valamelyik pénzben kifejezett, akkor </a:t>
            </a:r>
            <a:r>
              <a:rPr b="0" lang="hu-HU" sz="4000" spc="-1" strike="noStrike">
                <a:solidFill>
                  <a:srgbClr val="cc00cc"/>
                </a:solidFill>
                <a:latin typeface="Arial"/>
              </a:rPr>
              <a:t>ökonómiai</a:t>
            </a:r>
            <a:r>
              <a:rPr b="0" lang="hu-HU" sz="4000" spc="-1" strike="noStrike">
                <a:solidFill>
                  <a:srgbClr val="0000cc"/>
                </a:solidFill>
                <a:latin typeface="Arial"/>
              </a:rPr>
              <a:t> hatékonyságról beszélün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 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z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84480" y="1897200"/>
            <a:ext cx="651816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hozam a megtermelt termékek, szolgáltatások naturális egységben kifejezett mérőszá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onos terméket előállító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azdaság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gazatok hasonlíthatók öszz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melőkapacitásra vetítve fajlagos hozamról beszélünk, ami a termelés színvonalát fejezi k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03560" y="301680"/>
          <a:ext cx="67788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3560" y="301680"/>
                    <a:ext cx="6778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atékonyság kategóriái 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22480" y="1198440"/>
            <a:ext cx="69343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8000"/>
                </a:solidFill>
                <a:latin typeface="Arial"/>
              </a:rPr>
              <a:t>Az eredmény-kategóriák (output), és a ráfordítás- kategóriák (input) viszonyítása alapján megkülönböztetün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ermelékenységi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hu-HU" sz="3600" spc="-1" strike="noStrike">
                <a:solidFill>
                  <a:srgbClr val="0000ff"/>
                </a:solidFill>
                <a:latin typeface="Arial"/>
              </a:rPr>
              <a:t>igényességi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hu-HU" sz="3600" spc="-1" strike="noStrike">
                <a:solidFill>
                  <a:srgbClr val="cc00cc"/>
                </a:solidFill>
                <a:latin typeface="Arial"/>
              </a:rPr>
              <a:t>ellátottsági</a:t>
            </a:r>
            <a:r>
              <a:rPr b="0" lang="hu-HU" sz="3600" spc="-1" strike="noStrike">
                <a:solidFill>
                  <a:srgbClr val="008000"/>
                </a:solidFill>
                <a:latin typeface="Arial"/>
              </a:rPr>
              <a:t> 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hu-HU" sz="3600" spc="-1" strike="noStrike">
                <a:solidFill>
                  <a:srgbClr val="ff0000"/>
                </a:solidFill>
                <a:latin typeface="Arial"/>
              </a:rPr>
              <a:t>eredmény-arányossági </a:t>
            </a:r>
            <a:r>
              <a:rPr b="0" lang="hu-HU" sz="3600" spc="-1" strike="noStrike">
                <a:solidFill>
                  <a:srgbClr val="008000"/>
                </a:solidFill>
                <a:latin typeface="Arial"/>
              </a:rPr>
              <a:t>mutatókat.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hatékonyság kategóriái 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2720" y="1170000"/>
            <a:ext cx="68515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3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u-HU" sz="23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300" spc="-1" strike="noStrike" u="sng">
                <a:solidFill>
                  <a:srgbClr val="000000"/>
                </a:solidFill>
                <a:uFillTx/>
                <a:latin typeface="Arial"/>
              </a:rPr>
              <a:t>Termelékenység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, (egységnyi ráfordításra jutó eredmény), ennek része a jövedelmezőség, eredményesség, ráfordítás hatékonyság, ROE, ROA, stb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3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u-HU" sz="23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hu-HU" sz="23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hu-HU" sz="2300" spc="-1" strike="noStrike" u="sng">
                <a:solidFill>
                  <a:srgbClr val="000000"/>
                </a:solidFill>
                <a:uFillTx/>
                <a:latin typeface="Arial"/>
              </a:rPr>
              <a:t>Igényesség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(egységnyi eredményhez szükséges ráfordítá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u-HU" sz="23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u-HU" sz="2300" spc="-1" strike="noStrike" u="sng">
                <a:solidFill>
                  <a:srgbClr val="000000"/>
                </a:solidFill>
                <a:uFillTx/>
                <a:latin typeface="Arial"/>
              </a:rPr>
              <a:t>Ellátottság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(egységnyi ráfordításra jutó erőforrás pl. Földterület / traktor KW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hu-HU" sz="23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u-HU" sz="2300" spc="-1" strike="noStrike" u="sng">
                <a:solidFill>
                  <a:srgbClr val="000000"/>
                </a:solidFill>
                <a:uFillTx/>
                <a:latin typeface="Arial"/>
              </a:rPr>
              <a:t>Eredmény-arányosság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(egységnyi eredmény-kategóriára jutó eredmény, pl. árbevétel arányos jövedelem, Return on Sale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termelékenység egyik ré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1398600"/>
            <a:ext cx="629928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f0000"/>
                </a:solidFill>
                <a:latin typeface="Arial Narrow"/>
              </a:rPr>
              <a:t>Ráfordítások hatékonysága:</a:t>
            </a: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 egységnyi ráfordítás milyen irányú, mértékű, naturálisan, vagy pénzben kifejezett hozam, illetve eredményváltozást idéz elő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lapkategóriá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1398600"/>
            <a:ext cx="629928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3399"/>
                </a:solidFill>
                <a:latin typeface="Arial Narrow"/>
              </a:rPr>
              <a:t>Jövedelem:</a:t>
            </a: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 J=TÉ-TK (Ft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3399"/>
                </a:solidFill>
                <a:latin typeface="Arial Narrow"/>
              </a:rPr>
              <a:t>Viszonyított jövedelem</a:t>
            </a: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: (J/</a:t>
            </a:r>
            <a:r>
              <a:rPr b="1" lang="hu-HU" sz="3400" spc="-1" strike="noStrike">
                <a:solidFill>
                  <a:srgbClr val="009900"/>
                </a:solidFill>
                <a:latin typeface="Arial Narrow"/>
              </a:rPr>
              <a:t>va</a:t>
            </a: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),</a:t>
            </a:r>
            <a:r>
              <a:rPr b="1" lang="hu-HU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J/viszonyítási alap (</a:t>
            </a:r>
            <a:r>
              <a:rPr b="1" lang="hu-HU" sz="3400" spc="-1" strike="noStrike">
                <a:solidFill>
                  <a:srgbClr val="009900"/>
                </a:solidFill>
                <a:latin typeface="Arial Narrow"/>
              </a:rPr>
              <a:t>va</a:t>
            </a: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), ahol az alap lehet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f0000"/>
                </a:solidFill>
                <a:latin typeface="Arial Narrow"/>
              </a:rPr>
              <a:t>Naturális</a:t>
            </a: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 (föld, munkaerő, anyag, szolgáltatás stb.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f0000"/>
                </a:solidFill>
                <a:latin typeface="Arial Narrow"/>
              </a:rPr>
              <a:t>Ökonómiai</a:t>
            </a: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 (Árbevétel, TK, TÉ, eszköz, stb. pénzben kifejezve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3399"/>
                </a:solidFill>
                <a:latin typeface="Arial Narrow"/>
              </a:rPr>
              <a:t>Jövedelmezőség (%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jövedelmező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1398600"/>
            <a:ext cx="629928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Az ökonómiai hatékonyság, egyben viszonyított jövedelem kategória, amit </a:t>
            </a:r>
            <a:r>
              <a:rPr b="1" lang="hu-HU" sz="3400" spc="-1" strike="noStrike">
                <a:solidFill>
                  <a:srgbClr val="009900"/>
                </a:solidFill>
                <a:latin typeface="Arial Narrow"/>
              </a:rPr>
              <a:t>%</a:t>
            </a: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-ban fejezünk ki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f0000"/>
                </a:solidFill>
                <a:latin typeface="Arial Narrow"/>
              </a:rPr>
              <a:t>Számítása pl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11640" y="4210200"/>
            <a:ext cx="4628880" cy="20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Jövedelem (F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------------------------         x  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Termelési költség (F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92240" y="6361200"/>
            <a:ext cx="40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9900"/>
                </a:solidFill>
                <a:latin typeface="Arial"/>
              </a:rPr>
              <a:t>Költségarányos jövede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969920" y="247680"/>
            <a:ext cx="6926400" cy="73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jövedelmező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311120"/>
            <a:ext cx="17413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A hatékonyság fogal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Kategóri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Szám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Tahoma"/>
              </a:rPr>
              <a:t>Mérőszám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1398600"/>
            <a:ext cx="629928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Az ökonómiai hatékonyság, egyben viszonyított jövedelem kategória, amit </a:t>
            </a:r>
            <a:r>
              <a:rPr b="1" lang="hu-HU" sz="3400" spc="-1" strike="noStrike">
                <a:solidFill>
                  <a:srgbClr val="009900"/>
                </a:solidFill>
                <a:latin typeface="Arial Narrow"/>
              </a:rPr>
              <a:t>%</a:t>
            </a:r>
            <a:r>
              <a:rPr b="1" lang="hu-HU" sz="3400" spc="-1" strike="noStrike">
                <a:solidFill>
                  <a:srgbClr val="000000"/>
                </a:solidFill>
                <a:latin typeface="Arial Narrow"/>
              </a:rPr>
              <a:t>-ban fejezünk ki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f0000"/>
                </a:solidFill>
                <a:latin typeface="Arial Narrow"/>
              </a:rPr>
              <a:t>Számítása pl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11640" y="4210200"/>
            <a:ext cx="4628880" cy="20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Jövedelem (F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------------------------         x  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hu-HU" sz="2600" spc="-1" strike="noStrike">
                <a:solidFill>
                  <a:srgbClr val="000000"/>
                </a:solidFill>
                <a:latin typeface="Arial Narrow"/>
              </a:rPr>
              <a:t>Eszközök összesen (F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92600" y="6361200"/>
            <a:ext cx="40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9900"/>
                </a:solidFill>
                <a:latin typeface="Arial"/>
              </a:rPr>
              <a:t>Eszközarányos jövede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ermékek csoportosít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82680" y="1523880"/>
            <a:ext cx="66866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őtermé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rmelés elsődleges célja, produkt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kerterm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rmelés során előállított közel azonos értékű termék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ellékterm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ő- (iker) termék mellett képződő alacsonyabb használati értékű produkt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ermelési érték meghatároz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94040" y="1523880"/>
            <a:ext cx="68022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ozamérté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(szolgáltatás)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lőállíto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ékek és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lgáltatá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k pénzben kifejezett értéke (általában egy évre vonatkozó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95560" y="4097160"/>
            <a:ext cx="6819840" cy="152424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3300"/>
                </a:solidFill>
                <a:latin typeface="Arial"/>
              </a:rPr>
              <a:t>HÉ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= Hozamérték (szolgáltatá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Hozam X Egységá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ermelési érték meghatároz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94040" y="1523880"/>
            <a:ext cx="68022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2.Árbevétel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z </a:t>
            </a:r>
            <a:r>
              <a:rPr b="0" lang="hu-HU" sz="3200" spc="-1" strike="noStrike">
                <a:solidFill>
                  <a:srgbClr val="ff3300"/>
                </a:solidFill>
                <a:latin typeface="Arial"/>
              </a:rPr>
              <a:t>értékesítet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fő-, (iker-, mellék-) termék után kapott pénzössz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71680" y="4097160"/>
            <a:ext cx="6122880" cy="152424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Árbevéte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Értékesített hozamért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87640" y="247680"/>
            <a:ext cx="6853320" cy="9129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ermelési érték meghatároz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43160"/>
            <a:ext cx="1757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Tartal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Arial"/>
              </a:rPr>
              <a:t>A termelési értékhez kapcsolód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termelési költséghez tartozó alapfo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jövedelem-hez kapcso-lódó alapfo-gal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94040" y="1523880"/>
            <a:ext cx="68022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3.Egyéb tényezők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Közvetlen támogatás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z ágazat (termőföld, állat) megléte esetén kap a termelő (bérlő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Egyéb bevétele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5840" y="4475160"/>
            <a:ext cx="6122880" cy="15238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ermelési érté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HÉ + Egyéb tényező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14:54:34Z</dcterms:created>
  <dc:creator>Nábrádi András</dc:creator>
  <dc:description/>
  <dc:language>en-US</dc:language>
  <cp:lastModifiedBy>Dr. Nábrádi András</cp:lastModifiedBy>
  <cp:lastPrinted>2000-06-03T20:14:18Z</cp:lastPrinted>
  <dcterms:modified xsi:type="dcterms:W3CDTF">2008-11-07T14:23:58Z</dcterms:modified>
  <cp:revision>559</cp:revision>
  <dc:subject/>
  <dc:title>Hallgatói tájékoztató</dc:title>
</cp:coreProperties>
</file>