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18.jpeg" ContentType="image/jpeg"/>
  <Override PartName="/ppt/media/image22.wmf" ContentType="image/x-wmf"/>
  <Override PartName="/ppt/media/image21.jpeg" ContentType="image/jpeg"/>
  <Override PartName="/ppt/media/image16.png" ContentType="image/png"/>
  <Override PartName="/ppt/media/image15.wmf" ContentType="image/x-wmf"/>
  <Override PartName="/ppt/media/image19.png" ContentType="image/png"/>
  <Override PartName="/ppt/media/image1.png" ContentType="image/png"/>
  <Override PartName="/ppt/media/image17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7BE-1562-4A95-BDDF-D6FC1338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851-A6FA-4D63-843C-1B423B38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A45-62B6-42E0-9FA9-8246F66D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CE0-C0D0-4C33-9E7D-AC2E2971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719-107D-4EB0-95EE-AE9127A6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B8B-6612-48CA-9121-1820099A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06A-37CF-4790-852C-C85426E1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26F-63E0-4776-8DE4-7C5CD03C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10F-B7EC-4CB3-8FAF-8EF44BAE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C18-4652-45C6-B40C-252B8D78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8B4-1E4F-4636-8A4A-76FA3E6C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510-6C2D-4C50-9BAE-27429DB6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4EEE-7D0A-45D1-8935-B0DB54E61DF1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hu/imgres?imgurl=http://www.baltartarim.com/images/ARPA.JPG&amp;imgrefurl=http://www.baltartarim.com/&amp;h=413&amp;w=550&amp;sz=184&amp;hl=hu&amp;start=3&amp;tbnid=Z24oaX90csJBsM:&amp;tbnh=100&amp;tbnw=133&amp;prev=/images%3Fq%3D%25C3%25A1rpa%26svnum%3D10%26hl%3Dhu%26lr%3D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hu/imgres?imgurl=http://www.nlvk.hu/gyerekoldal/keprajz/kukorica.jpg&amp;imgrefurl=http://www.nlvk.hu/gyerekoldal/keprajz/fotokn.htm&amp;h=238&amp;w=165&amp;sz=16&amp;hl=hu&amp;start=2&amp;tbnid=EvNsb0Sw9qbPiM:&amp;tbnh=109&amp;tbnw=76&amp;prev=/images%3Fq%3Dkukorica%26svnum%3D10%26hl%3Dhu%26lr%3D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38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 GABONAFÉLÉK TERMELÉSÉNEK GAZDASÁGI KÉRDÉS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95280" y="3068640"/>
            <a:ext cx="43131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ák Lászl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.D. hallg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deakla@agr.unideb.h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13640" y="0"/>
            <a:ext cx="1530360" cy="107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363000">
            <a:off x="7092720" y="4653000"/>
            <a:ext cx="13557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20983200">
            <a:off x="395280" y="4436640"/>
            <a:ext cx="1128600" cy="1511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3067920"/>
            <a:ext cx="33415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r. Felföldi Já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gyetemi doc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jfelfoldi@agr.unideb.h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59120" y="53888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gabonatermelés termelési értékét meghatározó főbb tényező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1371600"/>
            <a:ext cx="304776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ELÉSI ÉRT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2349360"/>
            <a:ext cx="213372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zam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2362320"/>
            <a:ext cx="22860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rtékesítési á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00720" y="2349360"/>
            <a:ext cx="251460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-t növelő egyé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véte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0" idx="2"/>
            <a:endCxn id="82" idx="0"/>
          </p:cNvCxnSpPr>
          <p:nvPr/>
        </p:nvCxnSpPr>
        <p:spPr>
          <a:xfrm flipV="1" rot="10800000">
            <a:off x="4571280" y="1980720"/>
            <a:ext cx="108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1" idx="0"/>
            <a:endCxn id="80" idx="2"/>
          </p:cNvCxnSpPr>
          <p:nvPr/>
        </p:nvCxnSpPr>
        <p:spPr>
          <a:xfrm flipH="1" flipV="1" rot="5400000">
            <a:off x="2869200" y="646200"/>
            <a:ext cx="369000" cy="3037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83" idx="0"/>
            <a:endCxn id="80" idx="2"/>
          </p:cNvCxnSpPr>
          <p:nvPr/>
        </p:nvCxnSpPr>
        <p:spPr>
          <a:xfrm flipV="1" rot="16200000">
            <a:off x="5880240" y="671400"/>
            <a:ext cx="369000" cy="2986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"/>
          <p:cNvSpPr/>
          <p:nvPr/>
        </p:nvSpPr>
        <p:spPr>
          <a:xfrm>
            <a:off x="0" y="3124080"/>
            <a:ext cx="3373560" cy="37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iológiai alap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fajta,hibr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alajadottság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Éghajlat, időjárás (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rmesztéstechnoló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intenzitás-öntöz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áfordítások (színvonala-összhang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umán tényez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3480" y="3124080"/>
            <a:ext cx="245160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Kereslet – Kíná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aj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nő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ennyi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Értékesítés ide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tárolókapacitá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Értékesítési csato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szállítá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iacszabályoz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27640" y="3124080"/>
            <a:ext cx="281016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ámog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iztosítási kártér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énzügyi művelet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redmén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gyéb bevéte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gabonatermelés termelési költségét meghatározó főbb tényező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371600"/>
            <a:ext cx="350496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ELÉSI KÖLT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362320"/>
            <a:ext cx="21337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áfordítás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362320"/>
            <a:ext cx="22860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áfordítás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árszínvon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2362320"/>
            <a:ext cx="25146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K-t növelő egyé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kiadás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91" idx="2"/>
            <a:endCxn id="93" idx="0"/>
          </p:cNvCxnSpPr>
          <p:nvPr/>
        </p:nvCxnSpPr>
        <p:spPr>
          <a:xfrm flipV="1" rot="10800000">
            <a:off x="4571280" y="1980720"/>
            <a:ext cx="108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2" idx="0"/>
            <a:endCxn id="91" idx="2"/>
          </p:cNvCxnSpPr>
          <p:nvPr/>
        </p:nvCxnSpPr>
        <p:spPr>
          <a:xfrm flipH="1" flipV="1" rot="5400000">
            <a:off x="2971440" y="761400"/>
            <a:ext cx="381960" cy="2820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0"/>
            <a:endCxn id="91" idx="2"/>
          </p:cNvCxnSpPr>
          <p:nvPr/>
        </p:nvCxnSpPr>
        <p:spPr>
          <a:xfrm flipV="1" rot="16200000">
            <a:off x="5771520" y="780120"/>
            <a:ext cx="381960" cy="2782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229680" y="3124080"/>
            <a:ext cx="2696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yag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Élő mun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épi mun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gyéb ráfordí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000" y="3124080"/>
            <a:ext cx="27655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eszerzés id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eszerzés volu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Kapcsol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1840" y="3124080"/>
            <a:ext cx="278208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Kam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énzügyi művele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költség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iztosítási díj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agsági díj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lleték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gyéb kiad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 búza termelésének gazdasági kérdései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006-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11280" y="3141720"/>
            <a:ext cx="431964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búza hazai és világpiaci árának alaku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640080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Forrás: AKI Piaci Információs Osztály, F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7160" y="1298520"/>
          <a:ext cx="845964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298520"/>
                    <a:ext cx="845964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067600" y="152280"/>
            <a:ext cx="10764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85248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8920" y="64022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rrás: A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97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77280" y="64022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rrás: A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640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z őszi búza termelés közvetlen költségeinek munkaműveletenkénti megoszlása (%)</a:t>
            </a:r>
            <a:br>
              <a:rPr sz="2600"/>
            </a:b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2006-b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8229600" cy="4786200"/>
        </p:xfrm>
        <a:graphic>
          <a:graphicData uri="http://schemas.openxmlformats.org/drawingml/2006/table">
            <a:tbl>
              <a:tblPr/>
              <a:tblGrid>
                <a:gridCol w="4240080"/>
                <a:gridCol w="1325520"/>
                <a:gridCol w="2664000"/>
              </a:tblGrid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Munkaművel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t/ha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Talaj előkészí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 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Trágyáz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23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23-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Ve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6 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8-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Növényápolás, növényvédel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22 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6-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Betakarítás, szállí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2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20-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Szárítás, tisztí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3 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3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Összes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96 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993080" y="5996160"/>
            <a:ext cx="1150920" cy="861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15720" y="6400800"/>
            <a:ext cx="339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rrás: AKI, 2006 adatai alapján saját számít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*Saját adatgyűj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Őszi búza termelés közvetlen költségeinek szerkezete (%) 2006-b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052640"/>
          <a:ext cx="8002440" cy="5327640"/>
        </p:xfrm>
        <a:graphic>
          <a:graphicData uri="http://schemas.openxmlformats.org/drawingml/2006/table">
            <a:tbl>
              <a:tblPr/>
              <a:tblGrid>
                <a:gridCol w="4599000"/>
                <a:gridCol w="1701720"/>
                <a:gridCol w="17017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Megnevez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t/ha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Anyag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43 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40-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Ebbő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Vetőm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9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9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Műtrág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5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Növényvédős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6 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Egyéb any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Személyi jellegű 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0,5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Segédüzemi 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52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50-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Ebbő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Trak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28 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25-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Teheraut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7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3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Kombáj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0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Szárít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3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3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Egyéb közvetlen 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0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Közvetlen költség össze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96 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242640" y="6400800"/>
            <a:ext cx="339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rrás: AKI, 2006 adatai alapján saját számít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*Saját adatgyűj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LŐADÁSVÁZ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Gabonavertikum jelentősége, helyzete, kilátás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Búza termelésének gazdasági kérdése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Árpa termelésének gazdasági kérdése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Kukorica termelésének gazdasági kérdése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Hibridkukorica termelésének gazdasági kérdése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Siló kukorica termelésének gazdasági kérdés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Szója termelésének gazdasági kérdés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Olajos növények jelentősége, helyzete, kilátás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Napraforgó termelésének gazdasági kérdése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Repcetermelésének gazdasági kérdése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GOF-szektor közös piaci rendtartása napjaink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551640" y="0"/>
          <a:ext cx="25923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1640" y="0"/>
                    <a:ext cx="2592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úzatermesztés eredménye 2006-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052640"/>
          <a:ext cx="8218440" cy="5024160"/>
        </p:xfrm>
        <a:graphic>
          <a:graphicData uri="http://schemas.openxmlformats.org/drawingml/2006/table">
            <a:tbl>
              <a:tblPr/>
              <a:tblGrid>
                <a:gridCol w="4103640"/>
                <a:gridCol w="1728720"/>
                <a:gridCol w="23860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Megnevez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Mértékegy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Érték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Hoz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Ért. egységá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Ft/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2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Mellékterm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2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Egyéb bevétel (pl. támogatá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43 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Termelési ért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145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Közvetlen 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96 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edezeti össz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49 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Egyéb költség (pl. földbérleti díj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2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Ágazati általános 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Termelési 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124 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Ön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t/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31 0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Jövedelem 1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-13 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Jövedelem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21 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Jöv. Rá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303480" y="6165720"/>
            <a:ext cx="528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*Egyszerűsített és közvetlen nemzeti támogatás nélk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rás: Saját adatgyűjtés, AKI adatok alapján végzett becslés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z árpa termelésének gazdasági kérdései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006-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3141720"/>
            <a:ext cx="33112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0720" cy="5977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77280" y="64022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rrás: A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z őszi árpa termelés közvetlen költségeinek munkaműveletenkénti megoszlása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844640"/>
          <a:ext cx="7772400" cy="4673520"/>
        </p:xfrm>
        <a:graphic>
          <a:graphicData uri="http://schemas.openxmlformats.org/drawingml/2006/table">
            <a:tbl>
              <a:tblPr/>
              <a:tblGrid>
                <a:gridCol w="4343400"/>
                <a:gridCol w="342900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nkaművelet megnevezé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vaszi ár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laj előkészíté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6-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ágyázá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-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té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2-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övényápolás, növényvédel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1-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takarítás, szállítá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4-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zárítás, tisztítá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-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Összesen</a:t>
                      </a:r>
                      <a:r>
                        <a:rPr b="1" lang="en-US" sz="22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*</a:t>
                      </a: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*egyéb  közvetlen költségek (pl. földbérleti díj nélkü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rás: Pfau,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Őszi árpa termelés közvetlen költségeinek szerkezete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4360" y="1557360"/>
          <a:ext cx="7772400" cy="53150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gnevez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vaszi ár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yagköltsé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5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bből: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tőm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űtrág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övényvédő sz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gyéb any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zemélyi jellegű költsé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,5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gédüzemi költsé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-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bből: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a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ehergépko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ombá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zárít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8-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gyéb közvetlen költsé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4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özvetlen költségek össze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rás: Pfau,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8088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z őszi árpa költség - hozam - jövedelem viszonyai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átlagos körülmények közö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2286000"/>
          <a:ext cx="815364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8153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19320" y="616572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rás: Pfau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 kukorica termelésének gazdasági kérdései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006-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3068640"/>
            <a:ext cx="176868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77280" y="64022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rrás: A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kukoricatermelés közvetlen költségeinek munkaműveletenkénti megoszlása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1413000"/>
          <a:ext cx="8291520" cy="4843440"/>
        </p:xfrm>
        <a:graphic>
          <a:graphicData uri="http://schemas.openxmlformats.org/drawingml/2006/table">
            <a:tbl>
              <a:tblPr/>
              <a:tblGrid>
                <a:gridCol w="4273560"/>
                <a:gridCol w="2089080"/>
                <a:gridCol w="1928880"/>
              </a:tblGrid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Munkaművel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t/ha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Talaj előkészí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32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5-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Trágyáz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20 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3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Ve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26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4-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Növényápolás, növényvédel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5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9-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Betakarítás, szállí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8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5-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Szállí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5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Szárítás, tisztí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4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20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Összes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64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315720" y="6289560"/>
            <a:ext cx="339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rrás: AKI, 2006 adatai alapján saját számít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*Saját adatgyűj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ukoricatermelés közvetlen költségeinek szerkezete (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0920" y="1341360"/>
          <a:ext cx="8713800" cy="5010120"/>
        </p:xfrm>
        <a:graphic>
          <a:graphicData uri="http://schemas.openxmlformats.org/drawingml/2006/table">
            <a:tbl>
              <a:tblPr/>
              <a:tblGrid>
                <a:gridCol w="4957560"/>
                <a:gridCol w="1919520"/>
                <a:gridCol w="18367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Megnevez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t/ha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Anyag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50 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30-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Ebbő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Vetőm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23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0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Műtrág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8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0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Növényvédős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9 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8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Egyéb any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Személyi jellegű 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0,5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Segédüzemi 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13 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50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Ebbő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Trak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43 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20-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Teher gépkoc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1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4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Kombáj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8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0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Szárít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4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5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Egyéb közvetlen 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0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Közvetlen költség össze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64 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171360" y="6400800"/>
            <a:ext cx="339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rrás: AKI, 2006 adatai alapján saját számít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*Saját adatgyűj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ukoricatermesztés eredménye 2006-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125360"/>
          <a:ext cx="7991280" cy="5024520"/>
        </p:xfrm>
        <a:graphic>
          <a:graphicData uri="http://schemas.openxmlformats.org/drawingml/2006/table">
            <a:tbl>
              <a:tblPr/>
              <a:tblGrid>
                <a:gridCol w="4174920"/>
                <a:gridCol w="1944720"/>
                <a:gridCol w="18716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Megnevez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Mértékegy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Kuko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Hoz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Ért. egységá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Ft/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27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Mellékterm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Egyéb bevétel (pl. támogatá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3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Termelési ért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22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Közvetlen 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164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edezeti össz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59 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Egyéb költség (pl. földbérleti díj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2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Ágazati általános 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7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Termelési 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193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Önkölt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t/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27 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Jövedelem 1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-4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Jövedelem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F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 CE"/>
                        </a:rPr>
                        <a:t>30 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Jöv. Rá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CE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35440" y="6237360"/>
            <a:ext cx="488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*Egyszerűsített és közvetlen nemzeti támogatás nélkü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rrás: Saját adatgyűjtés, AKI adatok alapján végzett becslés alapjá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bonafélék jelene, jövője, versenyképesség javításának feltéte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817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gnáló humán és ipari felhasznál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isszaeső takarmány kereslet, belpiaci túlkínálat, intervenciós nyomá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sak hatékonyság javulással együtt járó termelésnövelés kívána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U búzából nettó exportő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zért „áldozatok” vagy speciális igények kielégíté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U kukoricából nettó importő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ürgető az intervenció valódi működtetése, infrastrukturális háttér megteremté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formációáramlás javítás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ermelői szerveződések támogatás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iacorientált minőségi termelési programok támogatás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atégiai fókuszpontok: termelés, raktározás, árukezelés, minőségbiztosítás és fuvarozás hatékonyság-növelő tartalékainak érvényre juttatá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szántóföldi növények piacszabályozása az EU-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mogatható növények köre (GOFR növények): gabonafélék, olajos magvak, fehérjetartalmú növények, olajlen, rostnöv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zabályozás fő eleme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erületalapú támogatás (egyszerűsítet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erületpihent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tervenciós felvásárlás (központi intervenci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ülpiaci (export-import) szabályoz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elföldi előállítású keményítő felhasználásána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moga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en-szalma és kenderkóró elsődleges feldolgozásána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moga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ratégiai irányok- szántóföldi ágaz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312560"/>
            <a:ext cx="88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Termelők és feldolgozók közötti közvetlen és stabil kapcsolat kialakítá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Termelők szervezettségének javítása (TC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Hatékonyságnövel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termelés: fajlagos hozamok növelé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raktározás, árukezelés, minőségbiztosítás és fuvarozá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Infrastruktúrális hátté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intervenciós raktárkapacitá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elöregedett eszközpark cseré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Egységes árualap előállítá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Minőségtanúsítás a teljes termelés-értékesítés láncb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A kockázatkezelési technikák alkalmazásának ösztönzése – biztosítás stb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Információ áramlás javítá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ÖSZÖNÖM A MEGTISZTELŐ FIGYELM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34286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 GABONAFÉLÉK TERMELÉSÉNEK GAZDASÁGI KÉRDÉS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5084640"/>
            <a:ext cx="457200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Deák Lászl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Ph.D. hallg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(deakla@agr.unideb.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külkereskedelmi forgalom áruszerkezete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1960" y="-264960"/>
            <a:ext cx="0" cy="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71960" y="-204840"/>
            <a:ext cx="0" cy="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1125360"/>
          <a:ext cx="8497800" cy="5099040"/>
        </p:xfrm>
        <a:graphic>
          <a:graphicData uri="http://schemas.openxmlformats.org/drawingml/2006/table">
            <a:tbl>
              <a:tblPr/>
              <a:tblGrid>
                <a:gridCol w="371520"/>
                <a:gridCol w="2325600"/>
                <a:gridCol w="722160"/>
                <a:gridCol w="717480"/>
                <a:gridCol w="714600"/>
                <a:gridCol w="755640"/>
                <a:gridCol w="722160"/>
                <a:gridCol w="723960"/>
                <a:gridCol w="720720"/>
                <a:gridCol w="723960"/>
              </a:tblGrid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HS kó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Árucso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ivi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Behoza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folyó áron, milliárd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Élő állat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Hús, vágási melléktermék és belsősé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Halak, édesvízi állat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ejtermékek és egyéb élelmezési célra alkalmas állati eredetű élelmisz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gyéb állati termé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övényi termék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Zöldségfélé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Gyümölcs, dió, citrusfélé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ávé, tea, fűsz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abonafélé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9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8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9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1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alomipari termék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lajos mag, takarmá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Zöldség, gyümölcskészítmé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hány és termék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gyéb itt fel nem soro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1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4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Összes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68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72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77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82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3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7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0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9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79640" y="6452640"/>
            <a:ext cx="28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Times New Roman"/>
              </a:rPr>
              <a:t>Forrás: AKI adat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k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Times New Roman"/>
              </a:rPr>
              <a:t> alapján saját szemlélte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z élelmiszer, ital, dohány árufőcsoport külkereskedelmi forgalma ( ezer euró, 2005. )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557360"/>
          <a:ext cx="8064360" cy="4679640"/>
        </p:xfrm>
        <a:graphic>
          <a:graphicData uri="http://schemas.openxmlformats.org/drawingml/2006/table">
            <a:tbl>
              <a:tblPr/>
              <a:tblGrid>
                <a:gridCol w="1827000"/>
                <a:gridCol w="771840"/>
                <a:gridCol w="771480"/>
                <a:gridCol w="769680"/>
                <a:gridCol w="771840"/>
                <a:gridCol w="771480"/>
                <a:gridCol w="769680"/>
                <a:gridCol w="770040"/>
                <a:gridCol w="841320"/>
              </a:tblGrid>
              <a:tr h="299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Élelmiszer, ital, dohá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ivi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Behoza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gyenl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5/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és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5/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és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5-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Élő áll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6 5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5 5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7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8 0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0 9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Hús és húskészítmé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95 6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9 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07 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35 8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ejtermék, toj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5 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4 1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21 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68 8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Hal, rák, puhatestű áll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 6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2 4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29 6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35 7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abona és gabonakészítmé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88 5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3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84 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0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69 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404 2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Zöldség- és gyümölcsfélé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03 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72 0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66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31 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ukor, cukorkészítmé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86 9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1 7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4 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5 2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ávé, tea, kakaó, fűsz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2 2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16 7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82 8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94 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Állati takarmá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95 3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35 6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0 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9 7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gyéb, táplálkozásra alkalmas termé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3 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16 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01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103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4 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6 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20 5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32 2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ohány és dohányá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 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6 4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29 7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67 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Összes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 046 8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 141 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2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888 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904 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396720" y="6307920"/>
            <a:ext cx="178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Times New Roman"/>
              </a:rPr>
              <a:t>Forrás: AKI adat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k alapjá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gyarország földterületének művelési ágak szerinti szerkez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4928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492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3803760" y="1967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240" y="6337080"/>
            <a:ext cx="224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rás: AKI, KSH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125360"/>
          <a:ext cx="8229600" cy="511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6200" y="625788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Forrás: KSH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8360" y="404640"/>
          <a:ext cx="8280360" cy="583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280360" cy="58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mezőgazdasági terület fontosabb növényeinek vetésterület-megoszlása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640" y="63810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Times New Roman"/>
              </a:rPr>
              <a:t>Forrás: K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1125360"/>
          <a:ext cx="828036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25360"/>
                    <a:ext cx="828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jelentősebb szántóföldi növények termésátl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1844640"/>
          <a:ext cx="864216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44640"/>
                    <a:ext cx="864216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81080" y="5589000"/>
            <a:ext cx="178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Times New Roman"/>
              </a:rPr>
              <a:t>Forrás: AKI adat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k alapjá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6:19:00Z</dcterms:created>
  <dc:creator>Felföldi János</dc:creator>
  <dc:description/>
  <dc:language>en-US</dc:language>
  <cp:lastModifiedBy>Dr. Felföldi János</cp:lastModifiedBy>
  <dcterms:modified xsi:type="dcterms:W3CDTF">2008-11-04T09:55:49Z</dcterms:modified>
  <cp:revision>110</cp:revision>
  <dc:subject/>
  <dc:title>A gabonafélék termelésének gazdasági kérdései</dc:title>
</cp:coreProperties>
</file>