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2D8-68D1-49AD-9E2B-F8324AB3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4E5-AD78-48E2-A090-83736F18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07A-6015-4B6A-A6F9-87D2AF02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0FD-39DA-4CC7-B541-40130E29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4D2-95DA-4A27-B737-BFD5947C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53A-AAB7-4CE2-8B1E-961DBC06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CE1-B000-4F9B-9764-D54E79F2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CCA3-DEAD-4248-A158-9F2CD0FE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F50-67E4-4E64-94E2-99B95267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7DC-2834-4B8B-9D03-40B7DD97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BBC-CF90-4279-989C-9EF480B4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93F-CC0F-45A9-8D24-77F405BF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3358-3E80-48E9-AC72-11A80EACF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lalko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988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a a gazdasági tevékenység folyta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700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zdasági tevéken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338560"/>
            <a:ext cx="767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vétel szerzés érdekében, rendszeresen folytatott értékesítés, függetlenül annak eredményét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341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la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84660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zervezeti keret, amelyben a vállalkozást folytatj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437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rve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4941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amely gazdasági rendszerben működő emberek együttese, ahol a rendező elv a vállalati érd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lalkozás jellemzők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930320"/>
            <a:ext cx="792000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yéni vállalk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y személy adja a tők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y személy a döntéshozó  és végrehaj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y személy, a tulajdonos dönt az eredményr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előssége korlát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ckázatot váll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étesítése, megszüntetése a legegyszerű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lalkozás jellemzők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930320"/>
            <a:ext cx="792000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azdasági társasá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bb személy adja a tők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különülhet a tulajdonos és menedz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ás személy a döntéshozó  és végrehaj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sődlegesen a tulajdonos dönt az eredményr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lelőssége korlátlan (bt, kkt) vagy a társaság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gyonának erejéig korlátozott (kft, 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ckázatot váll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étesítése, megszüntetése jogilag szabályozott, bonyol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lalkozás jellemzők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341360"/>
            <a:ext cx="79200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övetke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profit orientáltság (cél: a tagok egyéni érde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rvényesíté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őkéje több személy tulajdonát képe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öntést közösen, a tagok együttesen hozz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eredményt nem oszthatják 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zetési feladatokat is (általában) a szövetkezet tagja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égz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agok személyesen közreműköd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5445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em tőkehasznosítás a cé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elési szerkez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elési alrendszer szerkezete, amely leírja a vállalati tevékenységeket (ágazatok) és a köztük lévő kapcsolatrendsz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124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ékszerke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73392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állalat által kibocsátott végtermékek és szolgáltatások szerkez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vállalati végtermékek szerkezet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gaz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elési szerkezet azon eleme, amely önálló jövedelem előállító folyamatot képvisel, vagyis a vállalati jövedelemhez való hozzájárulása mérhető   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FH; K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197000"/>
            <a:ext cx="73915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zközök és emberek tovább már nem bontható egysége, amely még rendelkezik azzal a képességgel, hogy a vállalati célnak megfelelő, annak részét képező tevékenységet folytas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ghatározott erőforrás és időigény, elkülöníthető munkafázis jellemz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76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gazati e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733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2565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vékenysé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0686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 vagy több elem meghatározott termék előállítása érdekében történő, szabályozott összekapcsolá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3716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Ágazati szaka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42210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öbb tevékenység egységbe kapcsolása (biológiai, technológiai vagy ökonómiai okokból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gazati kapcsolato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752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kai kapcsolat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495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látozott erőforr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34290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rbeli és időbeli koordináció kell az ágazatok közöt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502920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rőforrás allokáció; többlet jövedelem maximalizálá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2743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2514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áció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743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2362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őforrás áramlás az ágazatok közöt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971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zdasági kapcsolat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343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495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öbb ágaz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14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ya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5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gaz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ialakítás lépés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elési cél meghatározása (áru – belső felhasználás – tárolás- feldolgoz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5909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gazati mé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286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gazati változat kialakítása és érték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29718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hetséges termelési c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3526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ógiai változatok – termelési színv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038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áfordítások mennyisége, összetétele, jellege, helyettesíthető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7339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térő gazdálkodási, műszaki színv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gazatok mérete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648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gazatok közötti kapcsolatrends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áfordítás – hozam kapcsolatok (erőforrás szükségl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lalati rendszer rendező e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7988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állalati érdek, amely a vállalati célban nyilvánul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174760"/>
            <a:ext cx="84247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lalati c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edményes műkö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tás (tartós fennmaradás a piaci szereplők közöt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300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yon növelés, vagyonérdekelt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1640" y="40831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tározatlan időre létesített vállalat cé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798804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szabb időtáv átlagában az időegység alatt elérhető, vállalati célra felhasználható eredmény nagyságának a maximalizá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57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tározott időre létesített vállalat cé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4221000"/>
            <a:ext cx="767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tt projekt elvégzése és a projekten elérhető eredmény maximalizá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200" y="765000"/>
            <a:ext cx="151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la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028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őkebefektetés cé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3068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lalkozás lény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716280"/>
            <a:ext cx="8137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lenlegi értékben meglévő tőkéről kell lemond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maradó haszon kér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lentős kockázattal j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76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765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őkebefekt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1700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1700280"/>
            <a:ext cx="3958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it elér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őke értéknövekmé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7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 mezőgazdasági rendszerek struktúrája és jellemzői</a:t>
            </a:r>
            <a:br>
              <a:rPr sz="29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a termelés erőforrás rendszere és a befolyásoló környezeti kapcsolato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1628640"/>
            <a:ext cx="9051840" cy="4402440"/>
            <a:chOff x="0" y="1628640"/>
            <a:chExt cx="9051840" cy="4402440"/>
          </a:xfrm>
        </p:grpSpPr>
        <p:sp>
          <p:nvSpPr>
            <p:cNvPr id="68" name=""/>
            <p:cNvSpPr/>
            <p:nvPr/>
          </p:nvSpPr>
          <p:spPr>
            <a:xfrm>
              <a:off x="0" y="2192400"/>
              <a:ext cx="2340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iológiai erőforrások alrendszerének komplexu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89480" y="2365200"/>
              <a:ext cx="1550880" cy="1279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08240" y="3166920"/>
              <a:ext cx="1371600" cy="1279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51440" y="3166920"/>
              <a:ext cx="1463760" cy="1279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57600" y="4672080"/>
              <a:ext cx="1461960" cy="1085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76760" y="4660920"/>
              <a:ext cx="1463760" cy="1096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35280" y="4843440"/>
              <a:ext cx="1544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rmészeti erőforrások alrendsz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51640" y="4843440"/>
              <a:ext cx="1423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rmelő eszközök alrendsz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8240" y="3349800"/>
              <a:ext cx="12812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övényi szervezetek alrendsz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29480" y="3381480"/>
              <a:ext cx="14065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Állati szervezetek alrendsz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27640" y="2349360"/>
              <a:ext cx="160488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 termelés és irányítás emberi tényező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19560" y="52704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119560" y="54529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308640" y="4446360"/>
              <a:ext cx="921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6491160" y="4446720"/>
              <a:ext cx="921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3995280" y="4436640"/>
              <a:ext cx="18252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51280" y="4437000"/>
              <a:ext cx="18252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211640" y="3141720"/>
              <a:ext cx="203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066920" y="2852640"/>
              <a:ext cx="3603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940360" y="3068280"/>
              <a:ext cx="2174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0360" y="2852640"/>
              <a:ext cx="36684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33560" y="2984400"/>
              <a:ext cx="4846680" cy="164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8360" y="1844640"/>
              <a:ext cx="91440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51040" y="2282760"/>
              <a:ext cx="5303880" cy="3748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680" y="3564000"/>
              <a:ext cx="1646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övényökológiai környez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920960" y="374652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11320" y="383868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57600" y="1628640"/>
              <a:ext cx="2743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ársadalmi, gazdasági környez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937040" y="211572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211720" y="211572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28000" y="3289320"/>
              <a:ext cx="1023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Állat-ökoló-giai kör-nyez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315200" y="3716280"/>
              <a:ext cx="857160" cy="30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7314840" y="3838320"/>
              <a:ext cx="785880" cy="21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6000" y="5118120"/>
              <a:ext cx="1992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rmészetföldrajzi környez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108240" y="5210280"/>
              <a:ext cx="549360" cy="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108240" y="5392800"/>
              <a:ext cx="549360" cy="9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88080" y="5027760"/>
              <a:ext cx="14637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pari és műszaki környez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40520" y="5118120"/>
              <a:ext cx="457200" cy="9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7040520" y="5300640"/>
              <a:ext cx="457200" cy="9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zőgazdasági rendszerek sajátossága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kus alrendszerei is vann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észeti erőforrások alrendsz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övényi szervez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lati szervezet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kális (időbeli) struktúra, amely az egyes részfolyamatok meghatározott időbeli sorrendjét jel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gyob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töttség (megszakíthatatlansá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gyob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ckáz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zőgazdasági rendszerek sajátossága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99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ényszerűség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őszakos maga a termék előállítás (készletezés, tartósítás; ez kockázatot növel és veszteséggel jár)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gyes erőforrások működése is időszak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ékértékesítés is időszakos (bevétel keletkezés) szemben a folyamatos ráfordításokka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nanszír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pcsolódó feldolgozó tevékenységek is időszakos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folyamatszervezési nehézség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dő előrehaladtával egyre csökken a folyamat megváltoztathatóságára vonatkozó döntés lehetősé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5141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elési szerkezet, rotáció kialak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elési funkció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1400" y="1913040"/>
            <a:ext cx="79516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34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élelmiszer és élelmiszeripari alapanyagok; egyéb nyersanyag termelés; energia termelés; elsődleges élelmiszer feldolgozás, csomagolás, tárolás, értékesíté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3860640"/>
            <a:ext cx="5181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épesség megtartás és foglalkoztat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kaerő kiegyenlíté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ktúra fenntartás és fejlesz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usi turizmus előseg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3213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rségi vagy regionális funkció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funkcionális mezőgazdasági vállalat jellemző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funkcionális mezőgazdasági vállalat jellemző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ölddel kapcsolatos és ökológiai funkciók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jfenntart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ld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észetgazdálkod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diverzitás megőrzé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ociális és kulturális funkciók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éki életmód, hagyományok és kultúra őrzé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reációs feltételek biztosítás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éki életközösségek életképességének fenntartás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4:25:27Z</dcterms:created>
  <dc:creator>Takácsné Gy. Katalin</dc:creator>
  <dc:description/>
  <dc:language>en-US</dc:language>
  <cp:lastModifiedBy>Takácsné Gy. Katalin</cp:lastModifiedBy>
  <dcterms:modified xsi:type="dcterms:W3CDTF">2007-03-21T11:11:54Z</dcterms:modified>
  <cp:revision>5</cp:revision>
  <dc:subject/>
  <dc:title>1. dia</dc:title>
</cp:coreProperties>
</file>