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58.jpeg" ContentType="image/jpeg"/>
  <Override PartName="/ppt/media/image30.wmf" ContentType="image/x-wmf"/>
  <Override PartName="/ppt/media/image57.jpeg" ContentType="image/jpeg"/>
  <Override PartName="/ppt/media/image20.wmf" ContentType="image/x-wmf"/>
  <Override PartName="/ppt/media/image56.jpeg" ContentType="image/jpeg"/>
  <Override PartName="/ppt/media/image10.wmf" ContentType="image/x-wmf"/>
  <Override PartName="/ppt/media/image54.jpeg" ContentType="image/jpeg"/>
  <Override PartName="/ppt/media/image51.wmf" ContentType="image/x-wmf"/>
  <Override PartName="/ppt/media/image63.jpeg" ContentType="image/jpeg"/>
  <Override PartName="/ppt/media/image46.wmf" ContentType="image/x-wmf"/>
  <Override PartName="/ppt/media/image69.jpeg" ContentType="image/jpeg"/>
  <Override PartName="/ppt/media/image45.wmf" ContentType="image/x-wmf"/>
  <Override PartName="/ppt/media/image44.wmf" ContentType="image/x-wmf"/>
  <Override PartName="/ppt/media/image53.jpeg" ContentType="image/jpeg"/>
  <Override PartName="/ppt/media/image43.wmf" ContentType="image/x-wmf"/>
  <Override PartName="/ppt/media/image42.png" ContentType="image/png"/>
  <Override PartName="/ppt/media/image39.png" ContentType="image/png"/>
  <Override PartName="/ppt/media/image37.png" ContentType="image/png"/>
  <Override PartName="/ppt/media/image36.png" ContentType="image/png"/>
  <Override PartName="/ppt/media/image35.png" ContentType="image/png"/>
  <Override PartName="/ppt/media/image34.wmf" ContentType="image/x-wmf"/>
  <Override PartName="/ppt/media/image2.jpeg" ContentType="image/jpeg"/>
  <Override PartName="/ppt/media/image18.wmf" ContentType="image/x-wmf"/>
  <Override PartName="/ppt/media/image32.jpeg" ContentType="image/jpeg"/>
  <Override PartName="/ppt/media/image24.gif" ContentType="image/gif"/>
  <Override PartName="/ppt/media/image66.wmf" ContentType="image/x-wmf"/>
  <Override PartName="/ppt/media/image22.wmf" ContentType="image/x-wmf"/>
  <Override PartName="/ppt/media/image23.wmf" ContentType="image/x-wmf"/>
  <Override PartName="/ppt/media/image6.jpeg" ContentType="image/jpeg"/>
  <Override PartName="/ppt/media/image62.jpeg" ContentType="image/jpeg"/>
  <Override PartName="/ppt/media/image11.wmf" ContentType="image/x-wmf"/>
  <Override PartName="/ppt/media/image48.wmf" ContentType="image/x-wmf"/>
  <Override PartName="/ppt/media/image27.wmf" ContentType="image/x-wmf"/>
  <Override PartName="/ppt/media/image64.wmf" ContentType="image/x-wmf"/>
  <Override PartName="/ppt/media/image65.wmf" ContentType="image/x-wmf"/>
  <Override PartName="/ppt/media/image19.jpeg" ContentType="image/jpeg"/>
  <Override PartName="/ppt/media/image80.png" ContentType="image/png"/>
  <Override PartName="/ppt/media/image78.wmf" ContentType="image/x-wmf"/>
  <Override PartName="/ppt/media/image38.png" ContentType="image/png"/>
  <Override PartName="/ppt/media/image26.png" ContentType="image/png"/>
  <Override PartName="/ppt/media/image8.jpeg" ContentType="image/jpeg"/>
  <Override PartName="/ppt/media/image79.wmf" ContentType="image/x-wmf"/>
  <Override PartName="/ppt/media/image67.wmf" ContentType="image/x-wmf"/>
  <Override PartName="/ppt/media/image29.wmf" ContentType="image/x-wmf"/>
  <Override PartName="/ppt/media/image71.wmf" ContentType="image/x-wmf"/>
  <Override PartName="/ppt/media/image76.wmf" ContentType="image/x-wmf"/>
  <Override PartName="/ppt/media/image74.wmf" ContentType="image/x-wmf"/>
  <Override PartName="/ppt/media/image77.jpeg" ContentType="image/jpeg"/>
  <Override PartName="/ppt/media/image21.wmf" ContentType="image/x-wmf"/>
  <Override PartName="/ppt/media/image60.jpeg" ContentType="image/jpeg"/>
  <Override PartName="/ppt/media/image70.wmf" ContentType="image/x-wmf"/>
  <Override PartName="/ppt/media/image28.wmf" ContentType="image/x-wmf"/>
  <Override PartName="/ppt/media/image73.wmf" ContentType="image/x-wmf"/>
  <Override PartName="/ppt/media/image75.wmf" ContentType="image/x-wmf"/>
  <Override PartName="/ppt/media/image72.jpeg" ContentType="image/jpeg"/>
  <Override PartName="/ppt/media/image68.wmf" ContentType="image/x-wmf"/>
  <Override PartName="/ppt/media/image16.wmf" ContentType="image/x-wmf"/>
  <Override PartName="/ppt/media/image81.wmf" ContentType="image/x-wmf"/>
  <Override PartName="/ppt/media/image9.wmf" ContentType="image/x-wmf"/>
  <Override PartName="/ppt/media/image41.png" ContentType="image/png"/>
  <Override PartName="/ppt/media/image14.gif" ContentType="image/gif"/>
  <Override PartName="/ppt/media/image1.jpeg" ContentType="image/jpeg"/>
  <Override PartName="/ppt/media/image50.wmf" ContentType="image/x-wmf"/>
  <Override PartName="/ppt/media/image25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52.jpeg" ContentType="image/jpeg"/>
  <Override PartName="/ppt/media/image47.wmf" ContentType="image/x-wmf"/>
  <Override PartName="/ppt/media/image13.jpeg" ContentType="image/jpeg"/>
  <Override PartName="/ppt/media/image4.jpeg" ContentType="image/jpeg"/>
  <Override PartName="/ppt/media/image40.png" ContentType="image/png"/>
  <Override PartName="/ppt/media/image31.wmf" ContentType="image/x-wmf"/>
  <Override PartName="/ppt/media/image61.jpeg" ContentType="image/jpeg"/>
  <Override PartName="/ppt/media/image17.wmf" ContentType="image/x-wmf"/>
  <Override PartName="/ppt/media/image5.wmf" ContentType="image/x-wmf"/>
  <Override PartName="/ppt/media/image7.wmf" ContentType="image/x-wmf"/>
  <Override PartName="/ppt/media/image55.png" ContentType="image/png"/>
  <Override PartName="/ppt/media/image12.wmf" ContentType="image/x-wmf"/>
  <Override PartName="/ppt/media/image49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AD38-AC0D-436E-87ED-1AC8B737D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F48F-AD83-4F27-9B93-AA2F680F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D4D9-8D68-435D-A762-2CCB0BF05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51B0-439F-430E-B925-ABE87E368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6EE6-D6FB-429D-B1D8-D180B46F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5901-F5E1-4839-BC95-FA18185D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2A9D-B9B6-4ED0-A526-7EA0D181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A2DA-D7CC-4053-A788-7FF704DC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2BA0-73F0-44C5-8262-4D9071BB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C576-C279-4255-A937-B72FAC11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5FD8-7B1C-4506-BD23-88596F4E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B47E-5673-4DEB-91EB-D9918C65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FFA7-ACF5-41CF-A869-509A250D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DB94-BB62-4584-8FFE-84C359F1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22F2-7B27-45C5-AEEA-07156967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163D-61E3-4C42-BB9B-974B12F97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7CD3-307F-4A0D-AF4A-AB8E63738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1C71-D04B-42A3-A325-605B81C0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3A70-4463-4F7A-B06E-DF288590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F5D1-BA19-4899-8099-187CF0CF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7CA3-7F7C-498F-8EE7-5ADE31BD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E689-05D4-4785-82A8-F7FA9F8D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1473-BF47-4A3A-A4D3-073D5D2E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E840-C36E-4795-9E17-0C8EC9C4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CCE9-7198-4780-BE3F-85D30807B3C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FB5C-7527-4C14-AAD3-BA20639A4D0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image" Target="../media/image61.jpeg"/><Relationship Id="rId7" Type="http://schemas.openxmlformats.org/officeDocument/2006/relationships/slideLayout" Target="../slideLayouts/slideLayout1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8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image" Target="../media/image75.wmf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1736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 szőlészet és a borászat gazdasági kérdései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32000" y="5084640"/>
            <a:ext cx="662472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Dr. Grasselli Norbe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Dr. Szűcs Istvá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Dr. Nagy Adriá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ermésátlag 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átlag 33 hl/h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06200" y="1832040"/>
          <a:ext cx="8966520" cy="48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" y="1832040"/>
                    <a:ext cx="896652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6191280" y="64911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m mind bortermelő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6516720" y="2205000"/>
            <a:ext cx="153972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ndenciá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+ A bortermő terület csökken 10 év alatt 13%-kal (elsősorban EU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+ Bortermelés lassabban csökk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Termésátlag nő (műtrágya és növ. véd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2700000" y="3500280"/>
            <a:ext cx="863640" cy="720720"/>
          </a:xfrm>
          <a:prstGeom prst="rightArrow">
            <a:avLst>
              <a:gd name="adj1" fmla="val 50000"/>
              <a:gd name="adj2" fmla="val 29958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300720" y="3284640"/>
            <a:ext cx="15112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 borforgalom megoszlása főbb exportőrök szerint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08000" y="1989000"/>
          <a:ext cx="4497480" cy="357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989000"/>
                    <a:ext cx="4497480" cy="35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4648320" y="1600200"/>
          <a:ext cx="4030560" cy="2187720"/>
        </p:xfrm>
        <a:graphic>
          <a:graphicData uri="http://schemas.openxmlformats.org/drawingml/2006/table">
            <a:tbl>
              <a:tblPr/>
              <a:tblGrid>
                <a:gridCol w="4030560"/>
              </a:tblGrid>
              <a:tr h="2187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4643280" y="2060640"/>
          <a:ext cx="4408560" cy="3830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2060640"/>
                    <a:ext cx="4408560" cy="38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468360" y="616572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orrás: OI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835280" y="1484280"/>
            <a:ext cx="799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cccc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2000</a:t>
            </a:r>
            <a:endParaRPr b="0" lang="en-US" sz="2400" spc="1" strike="noStrike">
              <a:ln w="12600">
                <a:solidFill>
                  <a:srgbClr val="33cccc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372360" y="1484280"/>
            <a:ext cx="799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cccc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2003</a:t>
            </a:r>
            <a:endParaRPr b="0" lang="en-US" sz="2400" spc="1" strike="noStrike">
              <a:ln w="12600">
                <a:solidFill>
                  <a:srgbClr val="33cccc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z egy üzemre jutó átlagos szőlőterület változása az Európai Unióban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11280" y="1916280"/>
          <a:ext cx="740880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916280"/>
                    <a:ext cx="740880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755640" y="638172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orrás: EUROST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55640" y="33336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404640"/>
            <a:ext cx="86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33336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bor átlagtermése az EU főbb termelő országaib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758880" y="1197000"/>
          <a:ext cx="6977160" cy="489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8880" y="1197000"/>
                    <a:ext cx="69771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684360" y="630864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orrás: Európai Bizottság, KS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orértékesít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Franciaország: 14,1 md USD/év </a:t>
            </a: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3200" spc="-1" strike="noStrike">
                <a:solidFill>
                  <a:srgbClr val="ff66cc"/>
                </a:solidFill>
                <a:latin typeface="Verdana"/>
              </a:rPr>
              <a:t>(242 USD/fő/év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USA: 10,5 md USD/év</a:t>
            </a: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3200" spc="-1" strike="noStrike">
                <a:solidFill>
                  <a:srgbClr val="ff66cc"/>
                </a:solidFill>
                <a:latin typeface="Verdana"/>
              </a:rPr>
              <a:t>(40 USD/fő/év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932360" y="4005360"/>
            <a:ext cx="3457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ontosabb nemzetközi szőlőfajták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(összesen több száz fajta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970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Verdana"/>
              </a:rPr>
              <a:t>Chardonn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Verdana"/>
              </a:rPr>
              <a:t>Rajnai riz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Verdana"/>
              </a:rPr>
              <a:t>Sauvignon blan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Verdana"/>
              </a:rPr>
              <a:t>Semill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Verdana"/>
              </a:rPr>
              <a:t>Fűszeres tramin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4356000" y="1628640"/>
            <a:ext cx="478800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66cc"/>
                </a:solidFill>
                <a:latin typeface="Verdana"/>
              </a:rPr>
              <a:t>Cabernet sauvign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66cc"/>
                </a:solidFill>
                <a:latin typeface="Verdana"/>
              </a:rPr>
              <a:t>Merl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66cc"/>
                </a:solidFill>
                <a:latin typeface="Verdana"/>
              </a:rPr>
              <a:t>Pinot no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66cc"/>
                </a:solidFill>
                <a:latin typeface="Verdana"/>
              </a:rPr>
              <a:t>Shira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859280" y="4076640"/>
            <a:ext cx="252108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 szőlő és bortermelés Magyarország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843280" y="3860640"/>
            <a:ext cx="309708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6560" y="336240"/>
            <a:ext cx="698508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gyarország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zőlőterülete é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rtermelése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57200" y="1600200"/>
          <a:ext cx="4030560" cy="4530600"/>
        </p:xfrm>
        <a:graphic>
          <a:graphicData uri="http://schemas.openxmlformats.org/drawingml/2006/table">
            <a:tbl>
              <a:tblPr/>
              <a:tblGrid>
                <a:gridCol w="4030560"/>
              </a:tblGrid>
              <a:tr h="453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755640" y="1363680"/>
          <a:ext cx="7561440" cy="39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63680"/>
                    <a:ext cx="7561440" cy="39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971640" y="609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orrás: KS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300800" y="0"/>
            <a:ext cx="1843200" cy="23320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gyarország </a:t>
            </a:r>
            <a:br>
              <a:rPr sz="40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(10 év átlaga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7200" y="1916280"/>
          <a:ext cx="8229600" cy="4017960"/>
        </p:xfrm>
        <a:graphic>
          <a:graphicData uri="http://schemas.openxmlformats.org/drawingml/2006/table">
            <a:tbl>
              <a:tblPr/>
              <a:tblGrid>
                <a:gridCol w="1378080"/>
                <a:gridCol w="1365120"/>
                <a:gridCol w="1371600"/>
                <a:gridCol w="1371600"/>
                <a:gridCol w="1371600"/>
                <a:gridCol w="1371600"/>
              </a:tblGrid>
              <a:tr h="9356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rszá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Szől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cc"/>
                          </a:solidFill>
                          <a:latin typeface="Arial"/>
                          <a:ea typeface="Arial"/>
                        </a:rPr>
                        <a:t>B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7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rül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rmé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rmelé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por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por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0 h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0 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0 h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0 h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0 h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5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Magyar-orszá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5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418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15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elhasznált irodalo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Radóczné K. T.: A szőlő- és borágazat versenyhelyzete </a:t>
            </a:r>
            <a:br>
              <a:rPr sz="2000"/>
            </a:b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 csatlakozás után az Európai Unióban, előadás, Agrárgazdasági Kutató Intéze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Mikulás I.: A bor EU szabályozása, előadás, 2003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AKII: A főbb mezőgazdasági ágazatok jövedelmi helyzete, 2004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R. Kocsis T.: A közös piaci rendtartások hazai alkalmazása: szőlő-bor, 2003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Szerk.: Magda S.: Mezőgazdasági üzemtan, 2001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Miller Gy. - Szerk.: Magda S. : Kertészeti ágazatok szervezése és ökonómiája, 2003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H. Johnson – J. Robinson: A bor világatlasza, 2001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FVM: Szőlészeti-borászati szabályozás az EU-ban, 2003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zőlő termelés alakulás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680" y="2093760"/>
          <a:ext cx="9134640" cy="44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" y="2093760"/>
                    <a:ext cx="9134640" cy="44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7596360" y="1484280"/>
            <a:ext cx="80928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zőlőterület Magyarországon </a:t>
            </a:r>
            <a:br>
              <a:rPr sz="4000"/>
            </a:b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(~93 000 ha, teljes mg terület ~1,5%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79200" y="1486080"/>
          <a:ext cx="8998200" cy="52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" y="1486080"/>
                    <a:ext cx="8998200" cy="52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6568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8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b76"/>
                </a:solidFill>
                <a:latin typeface="Arial"/>
              </a:rPr>
              <a:t>Magyar borvidékek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575568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66ff33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66ff33"/>
                </a:solidFill>
                <a:latin typeface="Verdana"/>
              </a:rPr>
              <a:t>Észak-Dunántúl:</a:t>
            </a:r>
            <a:r>
              <a:rPr b="1" lang="hu-HU" sz="1000" spc="-1" strike="noStrike">
                <a:solidFill>
                  <a:srgbClr val="ffffff"/>
                </a:solidFill>
                <a:latin typeface="Verdana"/>
              </a:rPr>
              <a:t> Ászár-Neszmély (4), Etyek-Buda (8), Pannonhalma (9), Mór (10), Sopron (1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ff33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66ff33"/>
                </a:solidFill>
                <a:latin typeface="Verdana"/>
              </a:rPr>
              <a:t>Balaton:</a:t>
            </a:r>
            <a:r>
              <a:rPr b="1" lang="hu-HU" sz="1000" spc="-1" strike="noStrike">
                <a:solidFill>
                  <a:srgbClr val="ffffff"/>
                </a:solidFill>
                <a:latin typeface="Verdana"/>
              </a:rPr>
              <a:t> Balatonfüred-Csopak (6), Balatonfelvidék (7), Balatonboglár (13), Balatonmelléke (21), Badacsony (5), Somló (13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ff33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66ff33"/>
                </a:solidFill>
                <a:latin typeface="Verdana"/>
              </a:rPr>
              <a:t>Pannon Borrégió:</a:t>
            </a:r>
            <a:r>
              <a:rPr b="1" lang="hu-HU" sz="1000" spc="-1" strike="noStrike">
                <a:solidFill>
                  <a:srgbClr val="ffffff"/>
                </a:solidFill>
                <a:latin typeface="Verdana"/>
              </a:rPr>
              <a:t> Pécs (14), Szekszárd (15), Tolna (22), Villány (16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ff33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66ff33"/>
                </a:solidFill>
                <a:latin typeface="Verdana"/>
              </a:rPr>
              <a:t>Duna Borrégió:</a:t>
            </a:r>
            <a:r>
              <a:rPr b="1" lang="hu-HU" sz="1000" spc="-1" strike="noStrike">
                <a:solidFill>
                  <a:srgbClr val="ffffff"/>
                </a:solidFill>
                <a:latin typeface="Verdana"/>
              </a:rPr>
              <a:t> Kunság (3), Csongrád (1), Hajós-Baja (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ff33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66ff33"/>
                </a:solidFill>
                <a:latin typeface="Verdana"/>
              </a:rPr>
              <a:t>Észak-Magyarország:</a:t>
            </a:r>
            <a:r>
              <a:rPr b="1" lang="hu-HU" sz="1000" spc="-1" strike="noStrike">
                <a:solidFill>
                  <a:srgbClr val="ffffff"/>
                </a:solidFill>
                <a:latin typeface="Verdana"/>
              </a:rPr>
              <a:t> Bükkalja (17), Eger (18), Mátra (19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ff33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66ff33"/>
                </a:solidFill>
                <a:latin typeface="Verdana"/>
              </a:rPr>
              <a:t>Tokaj (20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29200" y="5157000"/>
            <a:ext cx="20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Forrás: Archimedia, 2006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gyar borvidék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483552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Csongrá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Hajós-Baja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Kunság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Ászár-Neszmé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Badacson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Balatonfüred-Csopa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Balatonfelvidé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Etyek-Bud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Mó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Pannonhalma-Sokoróalj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Somló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/>
          <p:nvPr/>
        </p:nvSpPr>
        <p:spPr>
          <a:xfrm>
            <a:off x="5292720" y="981000"/>
            <a:ext cx="33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Sopr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Dél-Bala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Mecsekal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Szekszá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Villá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Bükkal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E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Mátraal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Tokaj-Hegyal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Balatonmellé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Tol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780000" y="1484280"/>
            <a:ext cx="1531800" cy="18306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63560" y="5373360"/>
            <a:ext cx="764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Észak-Dunántúl: Ászár-Neszmély (4), Etyek-Buda (8), Pannonhalma (9), Mór (10), Sopron (1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Balaton: Balatonfüred-Csopak (6), Balatonfelvidék (7), Balatonboglár (13), Balatonmelléke (21), Badacsony (5), Somló (13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Pannon Borrégió: Pécs (14), Szekszárd (15), Tolna (22), Villány (16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Duna Borrégió: Kunság (3), Csongrád (1), Hajós-Baja (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Észak-Magyarország: Bükkalja (17), Eger (18), Mátra (19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Tokaj (20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 szőlőterület megoszlása fajta-csoportok szerin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457200" y="1600200"/>
          <a:ext cx="8147160" cy="5148360"/>
        </p:xfrm>
        <a:graphic>
          <a:graphicData uri="http://schemas.openxmlformats.org/drawingml/2006/table">
            <a:tbl>
              <a:tblPr/>
              <a:tblGrid>
                <a:gridCol w="2530440"/>
                <a:gridCol w="2736720"/>
                <a:gridCol w="28800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 szőlőterület arány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z összes területbő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 termő területbő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ehérb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8,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9,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örösb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3,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2,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seme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,5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,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rek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,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,6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Összes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100,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100,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gyarországon termesztett fontosabb szőlőfajták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3610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66"/>
                </a:solidFill>
                <a:latin typeface="Verdana"/>
              </a:rPr>
              <a:t>Budai zöl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66"/>
                </a:solidFill>
                <a:latin typeface="Verdana"/>
              </a:rPr>
              <a:t>Chardonna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66"/>
                </a:solidFill>
                <a:latin typeface="Verdana"/>
              </a:rPr>
              <a:t>Ezerjó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66"/>
                </a:solidFill>
                <a:latin typeface="Verdana"/>
              </a:rPr>
              <a:t>Irsai olivé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66"/>
                </a:solidFill>
                <a:latin typeface="Verdana"/>
              </a:rPr>
              <a:t>Leányk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66"/>
                </a:solidFill>
                <a:latin typeface="Verdana"/>
              </a:rPr>
              <a:t>Ottonel muskotál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66"/>
                </a:solidFill>
                <a:latin typeface="Verdana"/>
              </a:rPr>
              <a:t>Rizlingszilván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66"/>
                </a:solidFill>
                <a:latin typeface="Verdana"/>
              </a:rPr>
              <a:t>Szürkebará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66"/>
                </a:solidFill>
                <a:latin typeface="Verdana"/>
              </a:rPr>
              <a:t>Semill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66"/>
                </a:solidFill>
                <a:latin typeface="Verdana"/>
              </a:rPr>
              <a:t>Tramin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66"/>
                </a:solidFill>
                <a:latin typeface="Verdana"/>
              </a:rPr>
              <a:t>Királyleányk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66"/>
                </a:solidFill>
                <a:latin typeface="Verdana"/>
              </a:rPr>
              <a:t>Sárga muskotál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66"/>
                </a:solidFill>
                <a:latin typeface="Verdana"/>
              </a:rPr>
              <a:t>Sauvignon blan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"/>
          <p:cNvSpPr/>
          <p:nvPr/>
        </p:nvSpPr>
        <p:spPr>
          <a:xfrm>
            <a:off x="4643280" y="1700280"/>
            <a:ext cx="3610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56000" y="1628640"/>
            <a:ext cx="37544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66"/>
                </a:solidFill>
                <a:latin typeface="Verdana"/>
              </a:rPr>
              <a:t>Furm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66"/>
                </a:solidFill>
                <a:latin typeface="Verdana"/>
              </a:rPr>
              <a:t>Hárslevel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66"/>
                </a:solidFill>
                <a:latin typeface="Verdana"/>
              </a:rPr>
              <a:t>Juhfa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66"/>
                </a:solidFill>
                <a:latin typeface="Verdana"/>
              </a:rPr>
              <a:t>Kéknyel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66"/>
                </a:solidFill>
                <a:latin typeface="Verdana"/>
              </a:rPr>
              <a:t>Kövidin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 u="sng">
                <a:solidFill>
                  <a:srgbClr val="ffcc66"/>
                </a:solidFill>
                <a:uFillTx/>
                <a:latin typeface="Verdana"/>
              </a:rPr>
              <a:t>Olaszriz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66"/>
                </a:solidFill>
                <a:latin typeface="Verdana"/>
              </a:rPr>
              <a:t>Rajnai riz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66cc"/>
                </a:solidFill>
                <a:latin typeface="Verdana"/>
              </a:rPr>
              <a:t>Kékoport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66cc"/>
                </a:solidFill>
                <a:latin typeface="Verdana"/>
              </a:rPr>
              <a:t>Zweige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 u="sng">
                <a:solidFill>
                  <a:srgbClr val="ff66cc"/>
                </a:solidFill>
                <a:uFillTx/>
                <a:latin typeface="Verdana"/>
              </a:rPr>
              <a:t>Kékfrank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66cc"/>
                </a:solidFill>
                <a:latin typeface="Verdana"/>
              </a:rPr>
              <a:t>Merl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66cc"/>
                </a:solidFill>
                <a:latin typeface="Verdana"/>
              </a:rPr>
              <a:t>Cabernet fran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66cc"/>
                </a:solidFill>
                <a:latin typeface="Verdana"/>
              </a:rPr>
              <a:t>Cabernet sauvugn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66cc"/>
                </a:solidFill>
                <a:latin typeface="Verdana"/>
              </a:rPr>
              <a:t>Kadar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66cc"/>
                </a:solidFill>
                <a:latin typeface="Verdana"/>
              </a:rPr>
              <a:t>Shira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659640" y="2060640"/>
            <a:ext cx="199872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orvidéki terület összes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324000" y="1600200"/>
          <a:ext cx="8362800" cy="4924440"/>
        </p:xfrm>
        <a:graphic>
          <a:graphicData uri="http://schemas.openxmlformats.org/drawingml/2006/table">
            <a:tbl>
              <a:tblPr/>
              <a:tblGrid>
                <a:gridCol w="2663640"/>
                <a:gridCol w="1152720"/>
                <a:gridCol w="1152360"/>
                <a:gridCol w="1800360"/>
                <a:gridCol w="159372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rmesztéshe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ekvé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laj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rmelés-biztonsá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rület (ha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iválóan alkalm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ivál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g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9 7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iválóan alkalm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g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 0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Arial"/>
                        </a:rPr>
                        <a:t>Alkalm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Arial"/>
                        </a:rPr>
                        <a:t>közep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Arial"/>
                        </a:rPr>
                        <a:t>j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Arial"/>
                        </a:rPr>
                        <a:t>nag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Arial"/>
                        </a:rPr>
                        <a:t>27 6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Arial"/>
                        </a:rPr>
                        <a:t>Alkalm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Arial"/>
                        </a:rPr>
                        <a:t>közep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Arial"/>
                        </a:rPr>
                        <a:t>j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Arial"/>
                        </a:rPr>
                        <a:t>változ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Arial"/>
                        </a:rPr>
                        <a:t>2 8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4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Arial"/>
                        </a:rPr>
                        <a:t>Alkalm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Arial"/>
                        </a:rPr>
                        <a:t>közep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Arial"/>
                        </a:rPr>
                        <a:t>j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Arial"/>
                        </a:rPr>
                        <a:t>gye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Arial"/>
                        </a:rPr>
                        <a:t>5 4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Arial"/>
                        </a:rPr>
                        <a:t>Alkalm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Arial"/>
                        </a:rPr>
                        <a:t>közep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Arial"/>
                        </a:rPr>
                        <a:t>közep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Arial"/>
                        </a:rPr>
                        <a:t>változ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Arial"/>
                        </a:rPr>
                        <a:t>30 8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Feltételesen alkalm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gye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közep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gye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28 0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cc"/>
                          </a:solidFill>
                          <a:latin typeface="Arial"/>
                          <a:ea typeface="Arial"/>
                        </a:rPr>
                        <a:t>Összesen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cc"/>
                          </a:solidFill>
                          <a:latin typeface="Arial"/>
                          <a:ea typeface="Arial"/>
                        </a:rPr>
                        <a:t>224 5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cc"/>
                          </a:solidFill>
                          <a:latin typeface="Arial"/>
                        </a:rPr>
                        <a:t>Jelenleg termelő terül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cc"/>
                          </a:solidFill>
                          <a:latin typeface="Arial"/>
                        </a:rPr>
                        <a:t>93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zőlőterületet használók szám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395280" y="2060640"/>
          <a:ext cx="8280360" cy="4465440"/>
        </p:xfrm>
        <a:graphic>
          <a:graphicData uri="http://schemas.openxmlformats.org/drawingml/2006/table">
            <a:tbl>
              <a:tblPr/>
              <a:tblGrid>
                <a:gridCol w="1982880"/>
                <a:gridCol w="2071440"/>
                <a:gridCol w="2586240"/>
                <a:gridCol w="1639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zőlőterület használó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zőgazdasági terület használó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azdasági szervez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7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 38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gyéni gazdasá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9 43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20 44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1,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Összes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199 8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924 8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21,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orszőlő átlagos hozamainak alakulása  </a:t>
            </a:r>
            <a:r>
              <a:rPr b="0" lang="en-US" sz="4000" spc="-1" strike="noStrike">
                <a:solidFill>
                  <a:srgbClr val="d60093"/>
                </a:solidFill>
                <a:latin typeface="Arial"/>
              </a:rPr>
              <a:t>(átlag 7,5 – 9,0 t/ha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0" y="1830240"/>
          <a:ext cx="9144000" cy="502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30240"/>
                    <a:ext cx="9144000" cy="50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ccecff"/>
                </a:solidFill>
                <a:latin typeface="Arial"/>
              </a:rPr>
              <a:t>Borszőlő termelési költségének alakulása </a:t>
            </a:r>
            <a:r>
              <a:rPr b="0" lang="hu-HU" sz="4000" spc="-1" strike="noStrike">
                <a:solidFill>
                  <a:srgbClr val="d60093"/>
                </a:solidFill>
                <a:latin typeface="Arial"/>
              </a:rPr>
              <a:t>(átlag 330 eFt/ha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0" y="2093760"/>
          <a:ext cx="9144000" cy="44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93760"/>
                    <a:ext cx="9144000" cy="44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6588000" y="1700280"/>
            <a:ext cx="226872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bor definíciój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lkoholos erjesztés útján, e törvény-ben (2004. XVIII tv.) szabályozott módon, adott településen osztályba sorolt szőlőfajta felhasználásával, friss szőlőből és friss mustból készült ita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971640" y="630864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100 kg szőlőből kb. 75 liter must nyerhet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 szőlőtermesztés fontosabb költsége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673200" y="1844640"/>
          <a:ext cx="7714800" cy="4683240"/>
        </p:xfrm>
        <a:graphic>
          <a:graphicData uri="http://schemas.openxmlformats.org/drawingml/2006/table">
            <a:tbl>
              <a:tblPr/>
              <a:tblGrid>
                <a:gridCol w="5788080"/>
                <a:gridCol w="1926720"/>
              </a:tblGrid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Költsé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yagköltsé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,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ebből növényvédősz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ebből energ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nkabé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0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gédüzemi szolgáltatá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ortizáci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ermelési költsé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100,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borágazat költségszerkeze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684360" y="1844640"/>
          <a:ext cx="8064360" cy="3384720"/>
        </p:xfrm>
        <a:graphic>
          <a:graphicData uri="http://schemas.openxmlformats.org/drawingml/2006/table">
            <a:tbl>
              <a:tblPr/>
              <a:tblGrid>
                <a:gridCol w="4176720"/>
                <a:gridCol w="388764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Megnevezé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b76"/>
                      </a:solidFill>
                    </a:lnL>
                    <a:lnR w="13680">
                      <a:solidFill>
                        <a:srgbClr val="003b76"/>
                      </a:solidFill>
                    </a:lnR>
                    <a:lnT w="13680">
                      <a:solidFill>
                        <a:srgbClr val="003b76"/>
                      </a:solidFill>
                    </a:lnT>
                    <a:lnB w="13680">
                      <a:solidFill>
                        <a:srgbClr val="003b76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Százalék (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b76"/>
                      </a:solidFill>
                    </a:lnL>
                    <a:lnR w="13680">
                      <a:solidFill>
                        <a:srgbClr val="003b76"/>
                      </a:solidFill>
                    </a:lnR>
                    <a:lnT w="13680">
                      <a:solidFill>
                        <a:srgbClr val="003b76"/>
                      </a:solidFill>
                    </a:lnT>
                    <a:lnB w="13680">
                      <a:solidFill>
                        <a:srgbClr val="003b76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Szőlőtermelé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b76"/>
                      </a:solidFill>
                    </a:lnL>
                    <a:lnR w="13680">
                      <a:solidFill>
                        <a:srgbClr val="003b76"/>
                      </a:solidFill>
                    </a:lnR>
                    <a:lnT w="13680">
                      <a:solidFill>
                        <a:srgbClr val="003b76"/>
                      </a:solidFill>
                    </a:lnT>
                    <a:lnB w="13680">
                      <a:solidFill>
                        <a:srgbClr val="003b7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35-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b76"/>
                      </a:solidFill>
                    </a:lnL>
                    <a:lnR w="13680">
                      <a:solidFill>
                        <a:srgbClr val="003b76"/>
                      </a:solidFill>
                    </a:lnR>
                    <a:lnT w="13680">
                      <a:solidFill>
                        <a:srgbClr val="003b76"/>
                      </a:solidFill>
                    </a:lnT>
                    <a:lnB w="13680">
                      <a:solidFill>
                        <a:srgbClr val="003b7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Feldolgozá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b76"/>
                      </a:solidFill>
                    </a:lnL>
                    <a:lnR w="13680">
                      <a:solidFill>
                        <a:srgbClr val="003b76"/>
                      </a:solidFill>
                    </a:lnR>
                    <a:lnT w="13680">
                      <a:solidFill>
                        <a:srgbClr val="003b76"/>
                      </a:solidFill>
                    </a:lnT>
                    <a:lnB w="13680">
                      <a:solidFill>
                        <a:srgbClr val="003b7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4-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b76"/>
                      </a:solidFill>
                    </a:lnL>
                    <a:lnR w="13680">
                      <a:solidFill>
                        <a:srgbClr val="003b76"/>
                      </a:solidFill>
                    </a:lnR>
                    <a:lnT w="13680">
                      <a:solidFill>
                        <a:srgbClr val="003b76"/>
                      </a:solidFill>
                    </a:lnT>
                    <a:lnB w="13680">
                      <a:solidFill>
                        <a:srgbClr val="003b7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Borász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b76"/>
                      </a:solidFill>
                    </a:lnL>
                    <a:lnR w="13680">
                      <a:solidFill>
                        <a:srgbClr val="003b76"/>
                      </a:solidFill>
                    </a:lnR>
                    <a:lnT w="13680">
                      <a:solidFill>
                        <a:srgbClr val="003b76"/>
                      </a:solidFill>
                    </a:lnT>
                    <a:lnB w="13680">
                      <a:solidFill>
                        <a:srgbClr val="003b7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0-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b76"/>
                      </a:solidFill>
                    </a:lnL>
                    <a:lnR w="13680">
                      <a:solidFill>
                        <a:srgbClr val="003b76"/>
                      </a:solidFill>
                    </a:lnR>
                    <a:lnT w="13680">
                      <a:solidFill>
                        <a:srgbClr val="003b76"/>
                      </a:solidFill>
                    </a:lnT>
                    <a:lnB w="13680">
                      <a:solidFill>
                        <a:srgbClr val="003b7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Palackozá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b76"/>
                      </a:solidFill>
                    </a:lnL>
                    <a:lnR w="13680">
                      <a:solidFill>
                        <a:srgbClr val="003b76"/>
                      </a:solidFill>
                    </a:lnR>
                    <a:lnT w="13680">
                      <a:solidFill>
                        <a:srgbClr val="003b76"/>
                      </a:solidFill>
                    </a:lnT>
                    <a:lnB w="13680">
                      <a:solidFill>
                        <a:srgbClr val="003b7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32-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b76"/>
                      </a:solidFill>
                    </a:lnL>
                    <a:lnR w="13680">
                      <a:solidFill>
                        <a:srgbClr val="003b76"/>
                      </a:solidFill>
                    </a:lnR>
                    <a:lnT w="13680">
                      <a:solidFill>
                        <a:srgbClr val="003b76"/>
                      </a:solidFill>
                    </a:lnT>
                    <a:lnB w="13680">
                      <a:solidFill>
                        <a:srgbClr val="003b7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Összes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b76"/>
                      </a:solidFill>
                    </a:lnL>
                    <a:lnR w="13680">
                      <a:solidFill>
                        <a:srgbClr val="003b76"/>
                      </a:solidFill>
                    </a:lnR>
                    <a:lnT w="13680">
                      <a:solidFill>
                        <a:srgbClr val="003b76"/>
                      </a:solidFill>
                    </a:lnT>
                    <a:lnB w="13680">
                      <a:solidFill>
                        <a:srgbClr val="003b7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b76"/>
                      </a:solidFill>
                    </a:lnL>
                    <a:lnR w="13680">
                      <a:solidFill>
                        <a:srgbClr val="003b76"/>
                      </a:solidFill>
                    </a:lnR>
                    <a:lnT w="13680">
                      <a:solidFill>
                        <a:srgbClr val="003b76"/>
                      </a:solidFill>
                    </a:lnT>
                    <a:lnB w="13680">
                      <a:solidFill>
                        <a:srgbClr val="003b76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617400" y="6236640"/>
            <a:ext cx="15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Forrás: Üzemtan I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 minőségi bor és üveg legfontosabb költsége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6264000" cy="48546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H="1">
            <a:off x="3276360" y="1916280"/>
            <a:ext cx="93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84720" y="170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ugó: 60 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3347640" y="234936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84720" y="2205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apszula: 40 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3492360" y="314172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84720" y="2997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Üveg: 150 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563640" y="3860640"/>
            <a:ext cx="5763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84720" y="3716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ímkék: 100 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003640" y="4724280"/>
            <a:ext cx="3745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Az árak csökkenhetnek nagyobb mennyiség eseté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-pl. közös beszerz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00720" y="4292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És a b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ccecff"/>
                </a:solidFill>
                <a:latin typeface="Arial"/>
              </a:rPr>
              <a:t>Borszőlő önköltségének alakulása </a:t>
            </a:r>
            <a:r>
              <a:rPr b="0" lang="hu-HU" sz="4000" spc="-1" strike="noStrike">
                <a:solidFill>
                  <a:srgbClr val="d60093"/>
                </a:solidFill>
                <a:latin typeface="Arial"/>
              </a:rPr>
              <a:t>(átlag 45 eFt/t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0" y="2093760"/>
          <a:ext cx="9144000" cy="44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93760"/>
                    <a:ext cx="9144000" cy="44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ccecff"/>
                </a:solidFill>
                <a:latin typeface="Arial"/>
              </a:rPr>
              <a:t>Borszőlő értékesítési árának alakulása </a:t>
            </a:r>
            <a:r>
              <a:rPr b="0" lang="hu-HU" sz="4000" spc="-1" strike="noStrike">
                <a:solidFill>
                  <a:srgbClr val="d60093"/>
                </a:solidFill>
                <a:latin typeface="Arial"/>
              </a:rPr>
              <a:t>(átlag 45 eFt/t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0" y="2093760"/>
          <a:ext cx="9144000" cy="44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93760"/>
                    <a:ext cx="9144000" cy="44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orkategóriá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Verdana"/>
              </a:rPr>
              <a:t>Asztali bor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: legalább 13 mustfokos, természetes eredetű mustból készül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Verdana"/>
              </a:rPr>
              <a:t>Tájbor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: min 15 mM mustból, meghatározott szőlőtájon, elismert fajtákból készül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Verdana"/>
              </a:rPr>
              <a:t>Minőségi bor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: min 15 mM mustból, meghatározott termőhelyen, a termőhelyen elismert fajtákból, max 100 hl/ha terhelés mellett készült, jellemző illat-, íz-, zamatanyagokat tartalmaz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Verdana"/>
              </a:rPr>
              <a:t>Különleges minőségű bor, muzeális bor, tokaji borkülönlegessé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601040" y="0"/>
            <a:ext cx="154296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Borszőlő és must felvásárlási indexe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(1990 = 100%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0" y="1414440"/>
          <a:ext cx="8964720" cy="53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4440"/>
                    <a:ext cx="896472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2771640" y="1916280"/>
            <a:ext cx="141948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zőlő és bor felvásárlási ár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4680" y="2093760"/>
          <a:ext cx="9134640" cy="44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" y="2093760"/>
                    <a:ext cx="9134640" cy="44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6834240" y="1341360"/>
            <a:ext cx="2074680" cy="21589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395280" y="1052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7: 65-80 Ft/kg, aszúszemek: 1800-2000 Ft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ccecff"/>
                </a:solidFill>
                <a:latin typeface="Arial"/>
              </a:rPr>
              <a:t>Borszőlő fedezeti hozzájárulásának alakulása </a:t>
            </a:r>
            <a:r>
              <a:rPr b="0" lang="hu-HU" sz="4000" spc="-1" strike="noStrike">
                <a:solidFill>
                  <a:srgbClr val="d60093"/>
                </a:solidFill>
                <a:latin typeface="Arial"/>
              </a:rPr>
              <a:t>(átlag 285 eFt/t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0" y="2093760"/>
          <a:ext cx="9144000" cy="44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93760"/>
                    <a:ext cx="9144000" cy="44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ccecff"/>
                </a:solidFill>
                <a:latin typeface="Arial"/>
              </a:rPr>
              <a:t>Borszőlő jövedelmének alakulása </a:t>
            </a:r>
            <a:r>
              <a:rPr b="0" lang="hu-HU" sz="4000" spc="-1" strike="noStrike">
                <a:solidFill>
                  <a:srgbClr val="d60093"/>
                </a:solidFill>
                <a:latin typeface="Arial"/>
              </a:rPr>
              <a:t>(átlag -4 eFt/t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0" y="2093760"/>
          <a:ext cx="9144000" cy="44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93760"/>
                    <a:ext cx="9144000" cy="44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6804000" y="1557360"/>
            <a:ext cx="17636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orszőlő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Költség és bevétel alakulása (egyéni gazdaságok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468360" y="1773360"/>
          <a:ext cx="820728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820728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5008680" y="1484280"/>
            <a:ext cx="98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9,50 t/h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44 400 Ft/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232680" y="1484280"/>
            <a:ext cx="98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9,00 t/h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48 000 Ft/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85400" y="1484280"/>
            <a:ext cx="98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9,00 t/h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50 000 Ft/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944840" y="285264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Jövedelem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31 234 Ft/h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24000" y="6381720"/>
            <a:ext cx="511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orrás: AKI Ágazati Ökonómiai Osztályán készült számítás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or termelői mérleg (2001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468360" y="1197000"/>
          <a:ext cx="8292960" cy="5467320"/>
        </p:xfrm>
        <a:graphic>
          <a:graphicData uri="http://schemas.openxmlformats.org/drawingml/2006/table">
            <a:tbl>
              <a:tblPr/>
              <a:tblGrid>
                <a:gridCol w="4546440"/>
                <a:gridCol w="1873440"/>
                <a:gridCol w="1873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érle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ektoli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Összes termelé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 406 22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2,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ásárlá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41 39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,5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Forrás összes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5 847 6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100,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Értékesítés sajá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97 19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,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Értékesítés felvásárlóna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 784 1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,5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Értékesítés piac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50 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,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Üzemen belüli felhasználá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 190 3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,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ját fogyasztá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00 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3,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árolási vesztesé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8 1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,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észletváltozá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77 8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,8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Felhasználás összes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5 847 6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100,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Berendezkedés a szőlő és bortermelésr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2411280" y="3213000"/>
            <a:ext cx="412452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ustfok és alkoholf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17 mustfok esetén a várható alkoholtartal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(17 x 0,74)-2 = 10,58 v/v% vagy </a:t>
            </a: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maligánfo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9280" y="3860640"/>
            <a:ext cx="3745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495680" cy="33577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148360" y="620640"/>
            <a:ext cx="1197000" cy="27370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4648320" y="4111560"/>
            <a:ext cx="4495680" cy="2746440"/>
          </a:xfrm>
          <a:prstGeom prst="rect">
            <a:avLst/>
          </a:prstGeom>
          <a:ln w="0">
            <a:noFill/>
          </a:ln>
        </p:spPr>
      </p:pic>
      <p:cxnSp>
        <p:nvCxnSpPr>
          <p:cNvPr id="339" name=""/>
          <p:cNvCxnSpPr>
            <a:stCxn id="336" idx="3"/>
            <a:endCxn id="337" idx="1"/>
          </p:cNvCxnSpPr>
          <p:nvPr/>
        </p:nvCxnSpPr>
        <p:spPr>
          <a:xfrm flipV="1">
            <a:off x="4495320" y="1988640"/>
            <a:ext cx="653400" cy="1248480"/>
          </a:xfrm>
          <a:prstGeom prst="bentConnector3">
            <a:avLst>
              <a:gd name="adj1" fmla="val 49834"/>
            </a:avLst>
          </a:prstGeom>
          <a:ln w="63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6" idx="2"/>
            <a:endCxn id="338" idx="1"/>
          </p:cNvCxnSpPr>
          <p:nvPr/>
        </p:nvCxnSpPr>
        <p:spPr>
          <a:xfrm flipH="1" rot="16200000">
            <a:off x="3162960" y="3999240"/>
            <a:ext cx="570600" cy="2401200"/>
          </a:xfrm>
          <a:prstGeom prst="bentConnector2">
            <a:avLst/>
          </a:prstGeom>
          <a:ln w="63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50920" y="47628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cc"/>
                </a:solidFill>
                <a:uFillTx/>
                <a:latin typeface="Verdana"/>
              </a:rPr>
              <a:t>Manufakturális vörösbor készít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2" name=""/>
          <p:cNvCxnSpPr>
            <a:stCxn id="337" idx="2"/>
            <a:endCxn id="338" idx="0"/>
          </p:cNvCxnSpPr>
          <p:nvPr/>
        </p:nvCxnSpPr>
        <p:spPr>
          <a:xfrm flipH="1" rot="16200000">
            <a:off x="5943600" y="3159720"/>
            <a:ext cx="754560" cy="1150200"/>
          </a:xfrm>
          <a:prstGeom prst="bentConnector3">
            <a:avLst>
              <a:gd name="adj1" fmla="val 49880"/>
            </a:avLst>
          </a:prstGeom>
          <a:ln w="63360">
            <a:solidFill>
              <a:srgbClr val="ff00ff"/>
            </a:solidFill>
            <a:miter/>
            <a:tailEnd len="med" type="triangle" w="med"/>
          </a:ln>
        </p:spPr>
      </p:cxnSp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2484360" y="2205000"/>
            <a:ext cx="2879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50289E-006 L 0.39375 -0.30404 E">
                                      <p:cBhvr>
                                        <p:cTn id="12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9000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" dur="1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19400" cy="36450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4067280" y="0"/>
            <a:ext cx="4321080" cy="36450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1125360" y="4365720"/>
            <a:ext cx="1695600" cy="24922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2874960" y="4365720"/>
            <a:ext cx="1515960" cy="24922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4427640" y="4365720"/>
            <a:ext cx="1714320" cy="24922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6"/>
          <a:stretch/>
        </p:blipFill>
        <p:spPr>
          <a:xfrm>
            <a:off x="6804000" y="4365720"/>
            <a:ext cx="2340000" cy="2492280"/>
          </a:xfrm>
          <a:prstGeom prst="rect">
            <a:avLst/>
          </a:prstGeom>
          <a:ln w="0">
            <a:noFill/>
          </a:ln>
        </p:spPr>
      </p:pic>
      <p:cxnSp>
        <p:nvCxnSpPr>
          <p:cNvPr id="350" name=""/>
          <p:cNvCxnSpPr>
            <a:stCxn id="344" idx="3"/>
            <a:endCxn id="345" idx="1"/>
          </p:cNvCxnSpPr>
          <p:nvPr/>
        </p:nvCxnSpPr>
        <p:spPr>
          <a:xfrm>
            <a:off x="3119040" y="1821960"/>
            <a:ext cx="948600" cy="1080"/>
          </a:xfrm>
          <a:prstGeom prst="bentConnector2">
            <a:avLst/>
          </a:prstGeom>
          <a:ln w="633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2"/>
            <a:endCxn id="346" idx="0"/>
          </p:cNvCxnSpPr>
          <p:nvPr/>
        </p:nvCxnSpPr>
        <p:spPr>
          <a:xfrm rot="5400000">
            <a:off x="3739320" y="1878120"/>
            <a:ext cx="721440" cy="4255200"/>
          </a:xfrm>
          <a:prstGeom prst="bentConnector3">
            <a:avLst>
              <a:gd name="adj1" fmla="val 49975"/>
            </a:avLst>
          </a:prstGeom>
          <a:ln w="633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8" idx="3"/>
            <a:endCxn id="349" idx="1"/>
          </p:cNvCxnSpPr>
          <p:nvPr/>
        </p:nvCxnSpPr>
        <p:spPr>
          <a:xfrm>
            <a:off x="6141600" y="5611320"/>
            <a:ext cx="662760" cy="1080"/>
          </a:xfrm>
          <a:prstGeom prst="bentConnector2">
            <a:avLst/>
          </a:prstGeom>
          <a:ln w="6336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4643280" y="1700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33"/>
                </a:solidFill>
                <a:latin typeface="Verdana"/>
              </a:rPr>
              <a:t>Hőcserélő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59280" y="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00"/>
                </a:solidFill>
                <a:uFillTx/>
                <a:latin typeface="Verdana"/>
              </a:rPr>
              <a:t>Ipari fehérbor készít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gy borászati üzem felépíté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5110200" y="836640"/>
            <a:ext cx="4033800" cy="43210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5435640" y="479736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66cc"/>
                </a:solidFill>
                <a:latin typeface="Verdana"/>
              </a:rPr>
              <a:t>Johnson-Robinson, 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5076720" cy="29224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6659640" y="5516640"/>
            <a:ext cx="223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Borraktá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Tartálycsarn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Hordóspi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4005360"/>
            <a:ext cx="43927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Bortároló konténer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Szállításra váró b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Palackozó gép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Munkafolyos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Zúzógé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Bormúze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Borkostoló szo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059280" y="4014720"/>
            <a:ext cx="4392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. Laboratóri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. Irodá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. Hordó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. Futóhid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. Fedett folyosó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Átlagos bortároló kapacitás</a:t>
            </a:r>
            <a:br>
              <a:rPr sz="4000"/>
            </a:br>
            <a:r>
              <a:rPr b="0" lang="en-US" sz="4000" spc="-1" strike="noStrike">
                <a:solidFill>
                  <a:srgbClr val="ff66cc"/>
                </a:solidFill>
                <a:latin typeface="Arial"/>
              </a:rPr>
              <a:t>átlag: 47 h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98280" y="1628640"/>
          <a:ext cx="8958240" cy="515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" y="1628640"/>
                    <a:ext cx="8958240" cy="515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borászati üzem kapacitás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0 000 t kapacitású feldolgoz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0 nap szüreti idősza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50 t napi teljesítmén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0 t/ha terhelésű ültetvén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000 ha termé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 a fajtaösszetétel érése megfelel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7308720" y="2565360"/>
            <a:ext cx="14004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 szőlőtelepítés beruházási költsége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0. év: Előkészítés: 111 e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1. év: Telepítés: 939 e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2. év: Ápolás: 1 390 e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3. év: Ápolás: 273 e 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4. év: Ápolás: 260 e 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Verdana"/>
              </a:rPr>
              <a:t>Összes költség: 2 973 e Ft 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(termőre fordulásig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Legfőbb költségek: támberendezés, szaporítóanya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6659640" y="1700280"/>
            <a:ext cx="196668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 szőlőterület költségei a világ leghíresebb borvidékein (ha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ccecff"/>
                </a:solidFill>
                <a:latin typeface="Verdana"/>
              </a:rPr>
              <a:t>Bordeaux: EUR 20.000-30.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Rioja: EUR 150.000-300.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ccecff"/>
                </a:solidFill>
                <a:latin typeface="Verdana"/>
              </a:rPr>
              <a:t>Toscana: EUR 150.00-250.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Duoro: EUR 20.000-80.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ccecff"/>
                </a:solidFill>
                <a:latin typeface="Verdana"/>
              </a:rPr>
              <a:t>Napa Valley: EUR 210.000-700.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Barossa Valley: EUR 4.000-13.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orászati befektetés külföldön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- alapadatok -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 tőke 1-2 üveg bort a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 ha 3000-6000 tők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 1 ha 3000-12000 üveg b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apberendezések ára: 135.000 EU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on vagy acéltartá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rdó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őmérséklet és páratartalom szabályozó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és, szivattyúk, szűrő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orászati befektetés külföldön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- alapadatok -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5 ha személyi állomány min.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 teljes munkaidős borász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 teljes munkaidős segédmunká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 65000 EUR/év + járuléko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züretnél +10 munká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6012000" y="4076640"/>
            <a:ext cx="240480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orászati előírások külföldö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Franciaország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 bort a termelés helyszínén kell elkészíten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 földművelési engedélyt a mg. hivatal 4 hónap alatt adja k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 „földügynökség” elővásárlási joggal rendelkezi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Borászati Tanács határozza meg évente a max. szüretelhető mennyisége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7740720" y="1484280"/>
            <a:ext cx="54432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 világ szőlőterülete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összesen 7,5 millió h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8680" y="1828800"/>
          <a:ext cx="9014040" cy="49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80" y="1828800"/>
                    <a:ext cx="9014040" cy="49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6191280" y="64911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m mind bortermelő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796000" y="2205000"/>
            <a:ext cx="236052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 szőlő és bor EU szabályozás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916360" y="3789360"/>
            <a:ext cx="331308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z EU borpia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z EU a világ legnagyobb bortermelőj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szőlőterület 10 év alatt 700 ezer hektárral csökk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nek ellenére a borexport 17%-kal nőt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rmelt mennyiség: 184 631 000 hl (2002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mport nő, már több, mint 5%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gnagyobb termelő: Franciaország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legfőbb konkurens: az Újvilá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Dél-Amerika: Argentína, Chi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Észak-Amerika: USA, Kanad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Afrika: Dél-Afrik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Óceánia: Ausztrália, Új-Zéla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ó minőségű bor, olcsón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Öntözés: nagyobb termésbiztonsá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zőlőtőkék élettartama hosszabb (átlag 60-70 év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Az EU bortermelésének megoszlás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585720" y="1606680"/>
          <a:ext cx="7629480" cy="51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720" y="1606680"/>
                    <a:ext cx="7629480" cy="51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"/>
          <p:cNvSpPr/>
          <p:nvPr/>
        </p:nvSpPr>
        <p:spPr>
          <a:xfrm>
            <a:off x="2050920" y="4149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sztali b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932360" y="57340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ájb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788000" y="3357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inőségi b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1413000"/>
            <a:ext cx="28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180 millió h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7308720" y="3645000"/>
            <a:ext cx="96228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6300720" y="2852640"/>
            <a:ext cx="2432160" cy="36576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özös borpiaci szervez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960-tól működi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orpiaci alaprendelet 1987, 2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él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iac stabilizálá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rmelők jövedelmének biztosítá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tézkedések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venció: lepárlá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zőlőtermelési potenciál szabályozá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481400" cy="179244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ülönbség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z egység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í</a:t>
            </a: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tés nem mindig lehetséges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pl. különbségek vannak a déli és északi term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ő</a:t>
            </a: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helyek adottságai között – nem lehet egységes a borászati technológ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sok a hagyományos, különleges eljárás és megnevezé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néha szükséges lehet és nem piactorz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í</a:t>
            </a: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tó a nemzeti támogatás (pl. fagykár enyh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í</a:t>
            </a: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tés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özös borpiaci szervez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468360" y="1424160"/>
          <a:ext cx="8069040" cy="54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24160"/>
                    <a:ext cx="8069040" cy="54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3276720" y="1341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porttámogat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88000" y="1844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gántárol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55640" y="6021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ustfelhasznál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292720" y="6237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lkohol felvásárl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516720" y="3789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párl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55640" y="5084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ivág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285264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zerkezetátalakít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6804000" y="1341360"/>
            <a:ext cx="212904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7020000" y="2637000"/>
            <a:ext cx="1724040" cy="182376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ttős szabályozás (mindenhol)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U alaprendelet és végrehajtási rendelete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yar bortörvény (2004) és rendelete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zabályozás kiterjed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lepítési jogo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zőlőfajta használ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orászati eljárások (Tokaji fordítás, máslá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ímkézés (Siller, Bikavér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nőségi borok minősítésének rend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port szabályozás (támogatás) asztali borr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özös borpiaci szervez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 csatlakozási tárgyalások eredménye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Verdana"/>
              </a:rPr>
              <a:t>Szőlőtermesztési övezeti beosztás: C I/b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Min. alkoholtartalom: asztali bor 8 vol%, minőségi bor 9 vol%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Magyaro. 10 év derogációt kapott (7,6 vol%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Engedélyezték a répacukor használatá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 csatlakozási tárgyalások eredménye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Borpiaci intézkedések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ivágá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z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ő</a:t>
            </a: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ő</a:t>
            </a: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lékész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í</a:t>
            </a: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tés, mustjav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í</a:t>
            </a: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tás támogatá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zeszesital-piac ellátását szolgáló lepárlás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max. 12 mhl/év, 61 Ft/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K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í</a:t>
            </a: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zislepárlás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max 6-7 mhl/év, 47 Ft/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árolási támogatá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xport-támogatás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fr-BE" sz="2000" spc="-1" strike="noStrike">
                <a:solidFill>
                  <a:srgbClr val="ffffff"/>
                </a:solidFill>
                <a:latin typeface="Verdana"/>
              </a:rPr>
              <a:t>max 2,4 mhl/év, 9-22 Ft/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 világ éves bortermelés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összesen 258 776 000 h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8680" y="1830240"/>
          <a:ext cx="9014040" cy="494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80" y="1830240"/>
                    <a:ext cx="9014040" cy="494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508720" y="2205000"/>
            <a:ext cx="24480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468360" y="1159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Az EU-csatlakozás hatásai</a:t>
            </a:r>
            <a:r>
              <a:rPr b="0" lang="hu-H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58920" y="692280"/>
            <a:ext cx="878508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elepítési jog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7017 hektár borszőlő ültetvénnyel rendelkezünk. Új borszőlő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ültetvények telepítésére nincs lehetősé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z 1996. május 1. és 2004. április 30. között engedéllyel kivágot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szőlőültetvények után keletkezett újratelepítési jogok mennyiség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12 500 hektár. Ezzel bővíthetünk. (A 100/2004 FVM rendele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alapján 2010. július 31-ig használhatók fel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Kivágási támoga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folyó borpiaci év tapasztalatai alapján a kivágási támogatáso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meghirdetése megfontolásra kerü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kivágási támogatás igénybevétele szociális feszültségekhez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ökológiai problémákhoz és az újratelepítési jogok elvesztéséhez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vezet. A kivágandó ültetvények támogatással átállíthatók. (Ehhez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nemzeti forrás is kellene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616572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Forrás: Radóczné,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324000" y="765000"/>
            <a:ext cx="8569080" cy="48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zerkezetátalakí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Szerkezetátalakítási támogatást a 2004/05. borpiaci évben az</a:t>
            </a:r>
            <a:br>
              <a:rPr sz="2300"/>
            </a:b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Európai Bizottság 2004/687/EK határozata alapján 1261hektárra</a:t>
            </a:r>
            <a:br>
              <a:rPr sz="2300"/>
            </a:b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10 millió euró értékben kapunk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A szőlőültetvények újratelepítésére és korszerűsítésére tehát 8000 </a:t>
            </a:r>
            <a:br>
              <a:rPr sz="2300"/>
            </a:b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euró, azaz 2 millió Ft használható fel hektáronként. Feltétel: a </a:t>
            </a:r>
            <a:br>
              <a:rPr sz="2300"/>
            </a:b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beruházásoknak meg kell felelniük a borvidéki szerkezetátalakítási</a:t>
            </a:r>
            <a:br>
              <a:rPr sz="2300"/>
            </a:b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terveknek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A csatlakozás előtt az ültetvénytelepítési beruházás költségének </a:t>
            </a:r>
            <a:br>
              <a:rPr sz="2300"/>
            </a:b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50%-át adta a támogatás (+kamattámogatás járt). 2002-ben 1900, </a:t>
            </a:r>
            <a:br>
              <a:rPr sz="2300"/>
            </a:b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2003-ban 3500 hektár ültetvénytelepítési támogatási pályázat</a:t>
            </a:r>
            <a:br>
              <a:rPr sz="2300"/>
            </a:b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került elfogadásra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5280" y="616572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Forrás: Radóczné,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79280" y="907920"/>
            <a:ext cx="8785440" cy="46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ervenció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agántárolási támogatá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génybevételére folyamatban van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támogatási ígérvény kérelmek befogadása. Eddig 15 kérele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érkezett, mintegy 80 ezer hektoliter asztali bor támogatásá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elléktermékek kötelező lepárlásáná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kapacitáshiány, ezért a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Bizottság 1990/2004/EK rendelete lehetővé teszi, hog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Magyarországon a 2004/05. borpiaci évben azok a termelők, akik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nem lépik át a 500 hl-es termelési szintet, a melléktermék lepárlási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kötelezettségüknek ezen termékek ellenőrzés melletti kivonásával 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eleget tegyen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5280" y="616572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Forrás: Radóczné,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24000" y="476280"/>
            <a:ext cx="8351640" cy="60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hu-HU" sz="2400" spc="-1" strike="noStrike">
                <a:solidFill>
                  <a:srgbClr val="ff3300"/>
                </a:solidFill>
                <a:latin typeface="Times New Roman"/>
              </a:rPr>
              <a:t>szeszesital piac ellátását szolgáló lepárlás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keretében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  Magyarországon 50055 hektoliter asztali bor lepárlására történt 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  szerződéskötés. Mivel közösségi szinten mintegy 2 millió 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  hektoliteres túljegyzés keletkezett, a Bizottság a tagállami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  igényeknek csak a 83,4 %-át fogadta el (146/2005/EK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Spanyolországban 7,8, Olaszországban pedig 4,2 millió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  hektoliter asztali bort kívánnak lepárolni a szeszesital piac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  ellátását támogató lepárlási intézkedés keretéb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hu-HU" sz="2400" spc="-1" strike="noStrike">
                <a:solidFill>
                  <a:srgbClr val="ff3300"/>
                </a:solidFill>
                <a:latin typeface="Times New Roman"/>
              </a:rPr>
              <a:t>szőlőlékészítés támogatására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2 db feldolgozói nyilatkozat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  érkezett az MVH-hoz, ebből 1 db került elfogadás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hu-HU" sz="2400" spc="-1" strike="noStrike">
                <a:solidFill>
                  <a:srgbClr val="ff3300"/>
                </a:solidFill>
                <a:latin typeface="Times New Roman"/>
              </a:rPr>
              <a:t>borászati termékek természetes alkoholtartalmának</a:t>
            </a:r>
            <a:br>
              <a:rPr sz="2400"/>
            </a:br>
            <a:r>
              <a:rPr b="0" lang="hu-HU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3300"/>
                </a:solidFill>
                <a:latin typeface="Times New Roman"/>
              </a:rPr>
              <a:t>kiegészítésére felhasznált must támogatására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10 db kérelem 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  érkezett 200 millió Ft támogatási igénnyel. A kérelmek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  benyújtása még folyamatban van, benyújtásukra az első fejtés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  napját követő 2 hónapon belül van lehetőség</a:t>
            </a:r>
            <a:r>
              <a:rPr b="0" lang="hu-HU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50920" y="63086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Forrás: Radóczné,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468360" y="333360"/>
            <a:ext cx="835164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Külkereskede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Magyarország borexportjának 80-90 százaléka az EU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  tagállamaiba, valamint a velünk együtt csatlakozott országokba 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  irányul, így exportunknak csak elenyésző része kaphat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  exportvisszatérítést, és csak az eddiginél szűkebb termékkör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Nem várható az EU-ba irányuló exportunk növekedése: 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  a palackozott boroknál az EU 0 vámos kontingensét 2000 óta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  egyik évben sem tudtuk kihasználni. A hordós bor kiviteli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  lehetősége a korábbi évek kvótateljesítése alapján jobb lehet, de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  ezúttal már exporttámogatás nélkül kell helytállni a piaci 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  versenyb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csatlakozás után egyértelműen csökken a piacvédelem szintje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  a harmadik országok szállítóival szemben. Az EU specifikus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  vámjai elsősorban a magasabb értékű palackozott termékeknél 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  okoznak védelmi szint csökkené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5280" y="63086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Forrás: Radóczné,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0" name=""/>
          <p:cNvGraphicFramePr/>
          <p:nvPr/>
        </p:nvGraphicFramePr>
        <p:xfrm>
          <a:off x="0" y="1492200"/>
          <a:ext cx="9144000" cy="5157720"/>
        </p:xfrm>
        <a:graphic>
          <a:graphicData uri="http://schemas.openxmlformats.org/drawingml/2006/table">
            <a:tbl>
              <a:tblPr/>
              <a:tblGrid>
                <a:gridCol w="3059280"/>
                <a:gridCol w="1225440"/>
                <a:gridCol w="1224000"/>
                <a:gridCol w="1150920"/>
                <a:gridCol w="1225440"/>
                <a:gridCol w="1258920"/>
              </a:tblGrid>
              <a:tr h="126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egnevezé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000. évi adatok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001. évi adatok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002. évi adatok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00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 évi adatok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005. évi adatok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ermelési költség (Ft/h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86 99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87 49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69 40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405 00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418 47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ermelési érték I. (Ft/h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456 48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477 37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37 82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477 02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455 41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Jövedelem I</a:t>
                      </a: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 (Ft/h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280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9 49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280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89 87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280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31 57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280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72 02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280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6 93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280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Arial Unicode MS"/>
                        </a:rPr>
                        <a:t>SAPS támogatás (Ft/h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7 38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1 28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özv. nemzeti tám./Top-up (Ft/h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 88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8 25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8 86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ermelési érték II. (Ft/h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463 36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485 62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46 69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494 41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476 70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Jövedelem II. </a:t>
                      </a: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(Ft/h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280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76 37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280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98 12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280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22 71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280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89 41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280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58 22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280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ermésátlag (t/h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9,3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9,8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7,5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9,0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9,0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Értékesítési átlagár (Ft/t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49 37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49 13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44 89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53 00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50 60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1" name=""/>
          <p:cNvSpPr/>
          <p:nvPr/>
        </p:nvSpPr>
        <p:spPr>
          <a:xfrm>
            <a:off x="395280" y="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Verdana"/>
              </a:rPr>
              <a:t>A borszőlőtermesztés jövedelmi helyzete a csatlakozás előtt és utá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826920" y="1628640"/>
            <a:ext cx="777744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ukturális problémák kezelé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Ültetvény átalakí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ldolgozó kapacitások korszerűsít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melői összefogás erősít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lföldi piactisztítás, csak hiteles borok piacra juttat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zabályozás: a fajta hangsúlyozása a termőhellyel szemb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keting: együttes fellépés, pótlólagos források bevon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atégiaváltás: az export korlátozottan bővíthető, a hazai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iac megtartása a cé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735920" y="615960"/>
            <a:ext cx="63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 versenyképesség javításának feltétel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95280" y="616572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Forrás: Radóczné,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rízislepárl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3059280" y="2060640"/>
            <a:ext cx="304776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émet borok árának változás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71280" y="1828800"/>
          <a:ext cx="8990280" cy="49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1828800"/>
                    <a:ext cx="8990280" cy="49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6588000" y="549360"/>
            <a:ext cx="1206720" cy="17906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orpiaci intézkedés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Krízislepárlá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Jelentős beavatkozá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2001-ben az asztali borok ára 15%-kal esett vissz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2001: 7,2 mh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z összes bortermelő EU országban (kivéve Ausztria, Görögo.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 támogatásokat csak 2002. költségvetés terhére tudták kifizetn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lág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rtermelés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és fogyasztás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1125360"/>
          <a:ext cx="9005760" cy="558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25360"/>
                    <a:ext cx="9005760" cy="558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547640" y="141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47640" y="35002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ff"/>
                </a:solidFill>
                <a:latin typeface="Times New Roman"/>
              </a:rPr>
              <a:t>53,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59280" y="3573360"/>
            <a:ext cx="5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ff"/>
                </a:solidFill>
                <a:latin typeface="Times New Roman"/>
              </a:rPr>
              <a:t>37,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16360" y="36450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ff"/>
                </a:solidFill>
                <a:latin typeface="Times New Roman"/>
              </a:rPr>
              <a:t>30,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372360" y="36450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ff"/>
                </a:solidFill>
                <a:latin typeface="Times New Roman"/>
              </a:rPr>
              <a:t>28,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638172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orrás: OI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51640" y="321300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Garamond"/>
              </a:rPr>
              <a:t>bortermel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451640" y="4149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Garamond"/>
              </a:rPr>
              <a:t>borfogyaszt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08720" y="3357720"/>
            <a:ext cx="0" cy="1079280"/>
          </a:xfrm>
          <a:prstGeom prst="line">
            <a:avLst/>
          </a:prstGeom>
          <a:ln w="25560">
            <a:solidFill>
              <a:srgbClr val="00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08720" y="3716280"/>
            <a:ext cx="16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ff"/>
                </a:solidFill>
                <a:latin typeface="Garamond"/>
              </a:rPr>
              <a:t>különbsé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párlási kötelezettség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borpiaci évben előállított bor: </a:t>
            </a:r>
            <a:r>
              <a:rPr b="0" lang="en-US" sz="3200" spc="-1" strike="noStrike">
                <a:solidFill>
                  <a:srgbClr val="ff66cc"/>
                </a:solidFill>
                <a:latin typeface="Verdana"/>
              </a:rPr>
              <a:t>1000 h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72 l/100 kg szőlő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4648320" y="1600200"/>
          <a:ext cx="4038480" cy="47815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596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Anyagmérl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zől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00 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örköl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0 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ocsán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7 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pr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5 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00 q (h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esztesé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 q (2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cc"/>
                          </a:solidFill>
                          <a:latin typeface="Verdana"/>
                        </a:rPr>
                        <a:t>Összes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cc"/>
                          </a:solidFill>
                          <a:latin typeface="Verdana"/>
                        </a:rPr>
                        <a:t>1400 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párlási kötelezettsé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457200" y="1600200"/>
          <a:ext cx="8218440" cy="4853160"/>
        </p:xfrm>
        <a:graphic>
          <a:graphicData uri="http://schemas.openxmlformats.org/drawingml/2006/table">
            <a:tbl>
              <a:tblPr/>
              <a:tblGrid>
                <a:gridCol w="1932120"/>
                <a:gridCol w="1933560"/>
                <a:gridCol w="2257200"/>
                <a:gridCol w="2095560"/>
              </a:tblGrid>
              <a:tr h="16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Bor-mennyisé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Átalán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Alkohol-tartalo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ljes bor-mennyisé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00 hl b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 v/v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000 hl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66cc"/>
                          </a:solidFill>
                          <a:latin typeface="Verdana"/>
                        </a:rPr>
                        <a:t>Leadási kötelezett-sé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cc"/>
                          </a:solidFill>
                          <a:latin typeface="Verdana"/>
                        </a:rPr>
                        <a:t>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66cc"/>
                          </a:solidFill>
                          <a:latin typeface="Verdana"/>
                        </a:rPr>
                        <a:t>900 hl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párlási kötelezettsé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melléktermékekkel leadható alkohol mennyiség (normál eset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324000" y="2997360"/>
          <a:ext cx="8496000" cy="3673440"/>
        </p:xfrm>
        <a:graphic>
          <a:graphicData uri="http://schemas.openxmlformats.org/drawingml/2006/table">
            <a:tbl>
              <a:tblPr/>
              <a:tblGrid>
                <a:gridCol w="2124000"/>
                <a:gridCol w="2124000"/>
                <a:gridCol w="2124000"/>
                <a:gridCol w="2124000"/>
              </a:tblGrid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ennyisé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lkohol tartalo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lkohol mennyisé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örkö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0 q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,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32 hl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pr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5 q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,0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85 hl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cc"/>
                          </a:solidFill>
                          <a:latin typeface="Verdana"/>
                        </a:rPr>
                        <a:t>Összes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66cc"/>
                          </a:solidFill>
                          <a:latin typeface="Verdana"/>
                        </a:rPr>
                        <a:t>917 hl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párlási kötelezettsé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jelenlegi helyzet: a szőlőtörkölyt túlpréselik (alkoholtartalma nem éri el a kötelező minimumot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324000" y="2997360"/>
          <a:ext cx="8496000" cy="3673440"/>
        </p:xfrm>
        <a:graphic>
          <a:graphicData uri="http://schemas.openxmlformats.org/drawingml/2006/table">
            <a:tbl>
              <a:tblPr/>
              <a:tblGrid>
                <a:gridCol w="2124000"/>
                <a:gridCol w="2124000"/>
                <a:gridCol w="2124000"/>
                <a:gridCol w="2124000"/>
              </a:tblGrid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Mennyisé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Alkohol tartalo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Alkohol mennyisé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örkö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0 q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,0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0 hl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pr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5 q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,5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12 hl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cc"/>
                          </a:solidFill>
                          <a:latin typeface="Verdana"/>
                        </a:rPr>
                        <a:t>Összes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66cc"/>
                          </a:solidFill>
                          <a:latin typeface="Verdana"/>
                        </a:rPr>
                        <a:t>712 hl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párlási kötelezettsé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324000" y="2781360"/>
          <a:ext cx="8229600" cy="30211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Előírt mennyisé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Jelenlegi mennyisé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Hiányzi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Pótlá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00 hl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12 hl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8 hl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0 hlf (11 v/v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párlási kötelezettsé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rmál esetben árbevét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179280" y="2492280"/>
          <a:ext cx="8785440" cy="4105440"/>
        </p:xfrm>
        <a:graphic>
          <a:graphicData uri="http://schemas.openxmlformats.org/drawingml/2006/table">
            <a:tbl>
              <a:tblPr/>
              <a:tblGrid>
                <a:gridCol w="1452600"/>
                <a:gridCol w="1284480"/>
                <a:gridCol w="2303280"/>
                <a:gridCol w="1728720"/>
                <a:gridCol w="2016360"/>
              </a:tblGrid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Alkohol-tartalo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Alkohol-mennyisé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Átvételi ár (0,995 eur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Kifizetett össze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örköl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0 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,8 l/100 k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0 Ft/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33 000 F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pr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5 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,0 l/100 k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0 Ft/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6 250 F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cc"/>
                          </a:solidFill>
                          <a:latin typeface="Verdana"/>
                        </a:rPr>
                        <a:t>Összes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cc"/>
                          </a:solidFill>
                          <a:latin typeface="Verdana"/>
                        </a:rPr>
                        <a:t>229 250 F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179280" y="1484280"/>
            <a:ext cx="8856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KÖSZÖNJÜK A MEGTISZTELŐ FIGYELMET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 rot="1001400">
            <a:off x="2268000" y="3428640"/>
            <a:ext cx="1919520" cy="194472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 rot="20059800">
            <a:off x="4787640" y="3284280"/>
            <a:ext cx="21445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 világ borfogyasztása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átlagosan 4 l/fő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0" y="1600200"/>
          <a:ext cx="914400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5724360" y="1989000"/>
            <a:ext cx="2249640" cy="22892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851280" y="393372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28,5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4:59:52Z</dcterms:created>
  <dc:creator>ngrasselli</dc:creator>
  <dc:description/>
  <dc:language>en-US</dc:language>
  <cp:lastModifiedBy>Apáti Ferenc</cp:lastModifiedBy>
  <dcterms:modified xsi:type="dcterms:W3CDTF">2008-11-07T01:20:33Z</dcterms:modified>
  <cp:revision>38</cp:revision>
  <dc:subject/>
  <dc:title>1. dia</dc:title>
</cp:coreProperties>
</file>