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021-73D7-40F0-8FB1-5CCF880F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C85-85CC-46B6-9AA0-5AB824CB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4A2-C203-4807-BCBE-1C1BB0BB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A32-0CDB-4D12-913D-B0DCF8E8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64F-26D0-471C-8D11-C0C4D3AB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BAB-4CF8-4018-BC74-57D7C13B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8BE-32C0-4EB5-895C-545EF82E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51A-D276-4097-8F00-C4E398AB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711-3511-4AEE-A6E4-921D09EE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7DD-4610-4ED8-AB3D-0A66091E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91C-86EC-458E-A05C-CB5FB6DA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AC75-1060-455C-B4A7-58279B84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2CBC-AA02-4413-A46E-535F8C952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KARMÁNYNÖV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karmánynövények termesztésének célja az állatok takarmányigényének kielégítése a lehető leggazdaságosabb mód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armánynövények kö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gabb értelemb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űkebb értelem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zdasági döntések alap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talaj- és éghajlati adottságo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lkalmazható technológiá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önköltsé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területigé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ucernatermesztés szervezése és ökonómiá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lep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énakész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ilázskész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isztkész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gfog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sp>
        <p:nvSpPr>
          <p:cNvPr id="49" name=""/>
          <p:cNvSpPr/>
          <p:nvPr/>
        </p:nvSpPr>
        <p:spPr>
          <a:xfrm>
            <a:off x="902880" y="50256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lucernatermelés költsége és jövedelme az egyéni gazdaságok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981000"/>
          <a:ext cx="7848720" cy="5416560"/>
        </p:xfrm>
        <a:graphic>
          <a:graphicData uri="http://schemas.openxmlformats.org/drawingml/2006/table">
            <a:tbl>
              <a:tblPr/>
              <a:tblGrid>
                <a:gridCol w="2455920"/>
                <a:gridCol w="1433520"/>
                <a:gridCol w="1319040"/>
                <a:gridCol w="1320840"/>
                <a:gridCol w="1319400"/>
              </a:tblGrid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gnevezé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rtékegysé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elési érté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4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ékesítési átlagá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tőmagköltsé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űtrágyaköltsé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övényvédőszer-költsé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özvetlen változó költség összes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rvestrágya költsé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pköltség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kabé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ékcsökkenési leírá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vékenység általános költsé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dasági általános költsé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elési költségek összes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3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8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őtermék önköltsé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tlaghoza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323000" y="12143160"/>
            <a:ext cx="138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rás: AKI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6308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rás: AKI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ucernatermelés költsége és jövedelme a társas gazdaságok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765000"/>
          <a:ext cx="8229600" cy="5400360"/>
        </p:xfrm>
        <a:graphic>
          <a:graphicData uri="http://schemas.openxmlformats.org/drawingml/2006/table">
            <a:tbl>
              <a:tblPr/>
              <a:tblGrid>
                <a:gridCol w="2676600"/>
                <a:gridCol w="1477800"/>
                <a:gridCol w="1359000"/>
                <a:gridCol w="1357200"/>
                <a:gridCol w="1359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gnevez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rtékegysé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elési érté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0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ékesítési átlagá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tőmagköltsé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űtrágyaköltsé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övényvédőszer-költsé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özvetlen változó költség összes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rvestrágya költsé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pköltség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9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kabé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ékcsökkenési leírá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vékenység általános költsé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dasági általános költsé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elési költségek összes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4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8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őtermék önköltsé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tlaghoz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/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611280" y="6381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rás: AKI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ilókukorica-termesztés szervezése és ökonómiá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lókukorica gazdasági előny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s tápanyaghoz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csony önkölt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iatakarékossá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alacsony hozamszintek ok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zonylag alacsonyabb termőképességű terüle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csonyabb ráfordít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korica, silókukorica dile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ozam alulértékelé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ilókukorica-termelés költsége és jövedelme a társas gazdaságok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1125360"/>
          <a:ext cx="8013600" cy="5365800"/>
        </p:xfrm>
        <a:graphic>
          <a:graphicData uri="http://schemas.openxmlformats.org/drawingml/2006/table">
            <a:tbl>
              <a:tblPr/>
              <a:tblGrid>
                <a:gridCol w="2460600"/>
                <a:gridCol w="1477800"/>
                <a:gridCol w="1359000"/>
                <a:gridCol w="1357200"/>
                <a:gridCol w="135900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gnevez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rtékegysé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elési érté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7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8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2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ékesítési átlagá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 ágazat összes árbevéte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tőmagköltsé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űtrágyaköltsé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övényvédőszer-költsé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özvetlen változó költség összes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4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rvestrágya költsé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pköltség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4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kabé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ékcsökkenési leírá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vékenység általános költsé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dasági általános költsé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elési költségek összes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1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1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3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őtermék önköltsé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tlaghoza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11280" y="6381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rás: AKI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lókukorica-termelés költsége és jövedelme az egyéni gazdaságok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981000"/>
          <a:ext cx="8229600" cy="5040000"/>
        </p:xfrm>
        <a:graphic>
          <a:graphicData uri="http://schemas.openxmlformats.org/drawingml/2006/table">
            <a:tbl>
              <a:tblPr/>
              <a:tblGrid>
                <a:gridCol w="2676600"/>
                <a:gridCol w="1477800"/>
                <a:gridCol w="1359000"/>
                <a:gridCol w="1357200"/>
                <a:gridCol w="1359000"/>
              </a:tblGrid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gnevezé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rtékegysé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elési érté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3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5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76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ékesítési átlagá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tőmagköltsé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űtrágyaköltsé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övényvédőszer-költsé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özvetlen változó költség összes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rvestrágya költsé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pköltség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kabé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ékcsökkenési leírá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vékenység általános költsé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dasági általános költsé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elési költségek összes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7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0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4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őtermék önköltsé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/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tlaghoza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/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11280" y="61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rás: AKI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3:00:40Z</dcterms:created>
  <dc:creator>Dr. Kalmár Sándor</dc:creator>
  <dc:description/>
  <dc:language>en-US</dc:language>
  <cp:lastModifiedBy>Dr. Kalmár Sándor</cp:lastModifiedBy>
  <dcterms:modified xsi:type="dcterms:W3CDTF">2007-03-25T13:30:26Z</dcterms:modified>
  <cp:revision>14</cp:revision>
  <dc:subject/>
  <dc:title>TAKARMÁNYNÖVÉNYEK</dc:title>
</cp:coreProperties>
</file>