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wmf" ContentType="image/x-wmf"/>
  <Override PartName="/ppt/media/image16.wmf" ContentType="image/x-wmf"/>
  <Override PartName="/ppt/media/image45.jpeg" ContentType="image/jpeg"/>
  <Override PartName="/ppt/media/image14.jpeg" ContentType="image/jpeg"/>
  <Override PartName="/ppt/media/image15.wmf" ContentType="image/x-wmf"/>
  <Override PartName="/ppt/media/image2.wmf" ContentType="image/x-wmf"/>
  <Override PartName="/ppt/media/image26.png" ContentType="image/png"/>
  <Override PartName="/ppt/media/image17.jpeg" ContentType="image/jpeg"/>
  <Override PartName="/ppt/media/image13.wmf" ContentType="image/x-wmf"/>
  <Override PartName="/ppt/media/image29.jpeg" ContentType="image/jpeg"/>
  <Override PartName="/ppt/media/image28.png" ContentType="image/png"/>
  <Override PartName="/ppt/media/image38.jpeg" ContentType="image/jpeg"/>
  <Override PartName="/ppt/media/image11.png" ContentType="image/png"/>
  <Override PartName="/ppt/media/image31.jpeg" ContentType="image/jpeg"/>
  <Override PartName="/ppt/media/image8.jpeg" ContentType="image/jpeg"/>
  <Override PartName="/ppt/media/image41.wmf" ContentType="image/x-wmf"/>
  <Override PartName="/ppt/media/image37.jpeg" ContentType="image/jpeg"/>
  <Override PartName="/ppt/media/image36.jpeg" ContentType="image/jpeg"/>
  <Override PartName="/ppt/media/image40.jpeg" ContentType="image/jpeg"/>
  <Override PartName="/ppt/media/image44.png" ContentType="image/png"/>
  <Override PartName="/ppt/media/image30.jpeg" ContentType="image/jpeg"/>
  <Override PartName="/ppt/media/image42.wmf" ContentType="image/x-wmf"/>
  <Override PartName="/ppt/media/image10.gif" ContentType="image/gif"/>
  <Override PartName="/ppt/media/image43.wmf" ContentType="image/x-wm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4.gif" ContentType="image/gif"/>
  <Override PartName="/ppt/media/image33.jpeg" ContentType="image/jpeg"/>
  <Override PartName="/ppt/media/image39.wmf" ContentType="image/x-wmf"/>
  <Override PartName="/ppt/media/image9.wmf" ContentType="image/x-wmf"/>
  <Override PartName="/ppt/media/image5.jpeg" ContentType="image/jpeg"/>
  <Override PartName="/ppt/media/image32.jpeg" ContentType="image/jpeg"/>
  <Override PartName="/ppt/media/image20.wmf" ContentType="image/x-wmf"/>
  <Override PartName="/ppt/media/image12.wmf" ContentType="image/x-wmf"/>
  <Override PartName="/ppt/media/image3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06CA-0DE7-4209-8679-39F008DCD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77E4-C061-490F-8693-D18CA383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C565-5ED9-4C2F-9A5E-2F12B845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B9C6-485C-4216-8829-9B7C2106F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3767-5A71-42BD-A2D3-ADE2D2CE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D813-1C8B-4A7C-B4D8-43102B2E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32D3-E276-4489-A3DB-90D15B13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6E59-640A-4C4D-891B-92758FE6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D719-B7A5-4FC0-8192-8D08AA80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4E58-0B44-4322-AE5C-84D596C8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5B9B-A0DA-47C9-B9C9-AB495589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817E-4E58-4477-99B7-3184119E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DE9B-CC03-4324-A545-9899F9D03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28600"/>
            <a:ext cx="76629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BRECENI EGYET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GRÁRTUDOMÁNYI CENTRU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00"/>
                </a:solidFill>
                <a:latin typeface="Times New Roman"/>
              </a:rPr>
              <a:t>Agrárgazdasági és Vidékfejlesztési Intéz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523880"/>
            <a:ext cx="9144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300" spc="-1" strike="noStrike">
                <a:solidFill>
                  <a:srgbClr val="f1330d"/>
                </a:solidFill>
                <a:latin typeface="Times New Roman"/>
                <a:ea typeface="Times New Roman"/>
              </a:rPr>
              <a:t>A</a:t>
            </a:r>
            <a:r>
              <a:rPr b="1" lang="en-GB" sz="4300" spc="-1" strike="noStrike">
                <a:solidFill>
                  <a:srgbClr val="f1330d"/>
                </a:solidFill>
                <a:latin typeface="Times New Roman"/>
                <a:ea typeface="Times New Roman"/>
              </a:rPr>
              <a:t> Juh</a:t>
            </a:r>
            <a:r>
              <a:rPr b="1" lang="hu-HU" sz="4300" spc="-1" strike="noStrike">
                <a:solidFill>
                  <a:srgbClr val="f1330d"/>
                </a:solidFill>
                <a:latin typeface="Times New Roman"/>
              </a:rPr>
              <a:t>tenyésztés gazdasági kérdései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3352680"/>
            <a:ext cx="3962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cc3300"/>
                </a:solidFill>
                <a:latin typeface="Times New Roman"/>
              </a:rPr>
              <a:t>KÉSZÍTET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9933"/>
                </a:solidFill>
                <a:latin typeface="Times New Roman"/>
              </a:rPr>
              <a:t>N</a:t>
            </a:r>
            <a:r>
              <a:rPr b="1" lang="hu-HU" sz="4000" spc="-1" strike="noStrike">
                <a:solidFill>
                  <a:srgbClr val="ff9933"/>
                </a:solidFill>
                <a:latin typeface="Times New Roman"/>
              </a:rPr>
              <a:t>ábrádi András</a:t>
            </a:r>
            <a:r>
              <a:rPr b="1" lang="hu-HU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97080" y="611496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543440" y="304920"/>
          <a:ext cx="1219320" cy="1218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43440" y="304920"/>
                    <a:ext cx="12193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821a"/>
            </a:gs>
            <a:gs pos="50000">
              <a:srgbClr val="66ff33"/>
            </a:gs>
            <a:gs pos="100000">
              <a:srgbClr val="34821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04920" y="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A juhállomány régiónkénti alakulás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57200" y="838080"/>
          <a:ext cx="8381880" cy="542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38080"/>
                    <a:ext cx="8381880" cy="542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6e00"/>
            </a:gs>
            <a:gs pos="50000">
              <a:srgbClr val="ffcc00"/>
            </a:gs>
            <a:gs pos="100000">
              <a:srgbClr val="8a6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304920"/>
            <a:ext cx="712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A magyarországi juhtartók megoszlása üzemelési forma szerint (199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295280" y="914400"/>
          <a:ext cx="7239240" cy="482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14400"/>
                    <a:ext cx="7239240" cy="48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992160" y="28195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 CE"/>
              </a:rPr>
              <a:t>9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08440" y="48909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foto168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457200" y="533520"/>
            <a:ext cx="8282880" cy="5885280"/>
            <a:chOff x="457200" y="533520"/>
            <a:chExt cx="8282880" cy="5885280"/>
          </a:xfrm>
        </p:grpSpPr>
        <p:sp>
          <p:nvSpPr>
            <p:cNvPr id="249" name=""/>
            <p:cNvSpPr/>
            <p:nvPr/>
          </p:nvSpPr>
          <p:spPr>
            <a:xfrm>
              <a:off x="457200" y="533520"/>
              <a:ext cx="8228520" cy="11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0000ff"/>
                  </a:solidFill>
                  <a:latin typeface="Arial"/>
                </a:rPr>
                <a:t>A juhtenyésztés vállalatgazdasági előnyei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07120" y="1733400"/>
              <a:ext cx="76482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1. 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Feltétlen takarmánytermő-területek, melléktermékek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19360" y="2166480"/>
              <a:ext cx="2161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hasznosítása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0360" y="3033000"/>
              <a:ext cx="6262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2. 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Csak saját takarmánybázisra is alapozható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6760" y="3899880"/>
              <a:ext cx="7933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3. 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Hármas (kettős) hasznosítás esetén likviditási gondok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07120" y="4335120"/>
              <a:ext cx="7413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csökkentése, egész évben át árbevételt biztosíthat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14680" y="5201640"/>
              <a:ext cx="521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4. 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Viszonylag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kis élőmunka ráfordítá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09640" y="6068160"/>
              <a:ext cx="54201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5. 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rágyatermelés (600-700 kg/év/anya)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7" name="pe01675_" descr=""/>
          <p:cNvPicPr/>
          <p:nvPr/>
        </p:nvPicPr>
        <p:blipFill>
          <a:blip r:embed="rId2"/>
          <a:stretch/>
        </p:blipFill>
        <p:spPr>
          <a:xfrm>
            <a:off x="7550280" y="4876920"/>
            <a:ext cx="159372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df2c"/>
            </a:gs>
            <a:gs pos="50000">
              <a:srgbClr val="66ff33"/>
            </a:gs>
            <a:gs pos="100000">
              <a:srgbClr val="59df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366480" y="282600"/>
            <a:ext cx="8776800" cy="6575040"/>
            <a:chOff x="366480" y="282600"/>
            <a:chExt cx="8776800" cy="6575040"/>
          </a:xfrm>
        </p:grpSpPr>
        <p:sp>
          <p:nvSpPr>
            <p:cNvPr id="259" name=""/>
            <p:cNvSpPr/>
            <p:nvPr/>
          </p:nvSpPr>
          <p:spPr>
            <a:xfrm>
              <a:off x="366480" y="282600"/>
              <a:ext cx="7700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80"/>
                  </a:solidFill>
                  <a:latin typeface="Arial"/>
                </a:rPr>
                <a:t>A juhtenyésztés vállalatgazdasági hátrányai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22240" y="664524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98120" y="1245240"/>
              <a:ext cx="5638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Tartósan befektetett eszközigénye bár</a:t>
              </a:r>
              <a:r>
                <a:rPr b="1" lang="hu-HU" sz="1900" spc="-1" strike="noStrike">
                  <a:solidFill>
                    <a:srgbClr val="000000"/>
                  </a:solidFill>
                  <a:latin typeface="Arial"/>
                </a:rPr>
                <a:t> kevés,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81280" y="1630080"/>
              <a:ext cx="8262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e lassú a megtérülés, alacsony az eszközhatékonyság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03520" y="2112120"/>
              <a:ext cx="6142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.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Kedvezőtlen munkakörülmények, a juh és a juhász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9200" y="2496960"/>
              <a:ext cx="3678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hu-HU" sz="1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az egyik legkiszolgáltatottab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05680" y="2882160"/>
              <a:ext cx="730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. Nem koncentrálódott megfelelő nagyságú szellem</a:t>
              </a:r>
              <a:r>
                <a:rPr b="1" lang="hu-HU" sz="1900" spc="-1" strike="noStrike">
                  <a:solidFill>
                    <a:srgbClr val="000000"/>
                  </a:solidFill>
                  <a:latin typeface="Arial"/>
                </a:rPr>
                <a:t>i kapacitás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98120" y="326736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98120" y="3652200"/>
              <a:ext cx="6885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4.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A tulajdonlásban szétválik a takarmánytermő</a:t>
              </a:r>
              <a:r>
                <a:rPr b="1" lang="hu-HU" sz="1900" spc="-1" strike="noStrike">
                  <a:solidFill>
                    <a:srgbClr val="000000"/>
                  </a:solidFill>
                  <a:latin typeface="Arial"/>
                </a:rPr>
                <a:t> terület, az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9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hu-HU" sz="1900" spc="-1" strike="noStrike">
                  <a:solidFill>
                    <a:srgbClr val="000000"/>
                  </a:solidFill>
                  <a:latin typeface="Arial"/>
                </a:rPr>
                <a:t>épület és az álla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7400" y="40374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00280" y="4422600"/>
              <a:ext cx="3140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5.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Export kiszolgáltatottság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04960" y="4903920"/>
              <a:ext cx="5229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6.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Etikátlan kereskedői magatartás, az ágazat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02440" y="5289120"/>
              <a:ext cx="3995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u-HU" sz="1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presztizse, gyökértelen termelők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23600" y="5673960"/>
              <a:ext cx="69274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7.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Nem alakult ki megfelelő koncentráció (300-500 db anya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3" name="pe01677_" descr=""/>
          <p:cNvPicPr/>
          <p:nvPr/>
        </p:nvPicPr>
        <p:blipFill>
          <a:blip r:embed="rId1"/>
          <a:stretch/>
        </p:blipFill>
        <p:spPr>
          <a:xfrm>
            <a:off x="7440480" y="4191120"/>
            <a:ext cx="1703520" cy="1366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762120" y="380880"/>
            <a:ext cx="7757640" cy="6055200"/>
            <a:chOff x="762120" y="380880"/>
            <a:chExt cx="7757640" cy="6055200"/>
          </a:xfrm>
        </p:grpSpPr>
        <p:sp>
          <p:nvSpPr>
            <p:cNvPr id="275" name=""/>
            <p:cNvSpPr/>
            <p:nvPr/>
          </p:nvSpPr>
          <p:spPr>
            <a:xfrm>
              <a:off x="1138320" y="380880"/>
              <a:ext cx="6910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Az ágazat berendezkedési költsége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97960" y="1083960"/>
              <a:ext cx="1012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Arial"/>
                </a:rPr>
                <a:t>1. Föl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7040" y="6222600"/>
              <a:ext cx="72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ábrádi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2120" y="1636560"/>
              <a:ext cx="2701800" cy="487800"/>
            </a:xfrm>
            <a:prstGeom prst="rect">
              <a:avLst/>
            </a:pr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63920" y="1636560"/>
              <a:ext cx="2526840" cy="487800"/>
            </a:xfrm>
            <a:prstGeom prst="rect">
              <a:avLst/>
            </a:pr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990760" y="1636560"/>
              <a:ext cx="2526840" cy="487800"/>
            </a:xfrm>
            <a:prstGeom prst="rect">
              <a:avLst/>
            </a:pr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62120" y="2124720"/>
              <a:ext cx="2701800" cy="48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63920" y="2124720"/>
              <a:ext cx="2526840" cy="48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990760" y="2124720"/>
              <a:ext cx="2526840" cy="48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62120" y="2611080"/>
              <a:ext cx="2701800" cy="74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63920" y="2611080"/>
              <a:ext cx="2526840" cy="74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0760" y="2611080"/>
              <a:ext cx="2526840" cy="74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2120" y="3353760"/>
              <a:ext cx="2701800" cy="49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63920" y="3353760"/>
              <a:ext cx="2526840" cy="49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90760" y="3353760"/>
              <a:ext cx="2526840" cy="49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62120" y="3849840"/>
              <a:ext cx="2701800" cy="49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63920" y="3849840"/>
              <a:ext cx="2526840" cy="49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990760" y="3849840"/>
              <a:ext cx="2526840" cy="49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62120" y="4343760"/>
              <a:ext cx="2701800" cy="74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63920" y="4343760"/>
              <a:ext cx="2526840" cy="74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90760" y="4343760"/>
              <a:ext cx="2526840" cy="74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62120" y="5086440"/>
              <a:ext cx="2701800" cy="49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463920" y="5086440"/>
              <a:ext cx="2526840" cy="49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990760" y="5086440"/>
              <a:ext cx="2526840" cy="49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2120" y="5582520"/>
              <a:ext cx="2701800" cy="49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63920" y="5582520"/>
              <a:ext cx="2526840" cy="49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90760" y="5582520"/>
              <a:ext cx="2526840" cy="49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497240" y="1743120"/>
              <a:ext cx="1070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akarmán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70200" y="1743120"/>
              <a:ext cx="27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318000" y="1743120"/>
              <a:ext cx="1631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rületigény (h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84120" y="2230920"/>
              <a:ext cx="144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Zöldtakarmán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035960" y="2230920"/>
              <a:ext cx="113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00 - 1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760800" y="2230920"/>
              <a:ext cx="80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,2 - 0,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154160" y="2846880"/>
              <a:ext cx="166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édús takarmán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166280" y="2846880"/>
              <a:ext cx="91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50 - 4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29760" y="2846880"/>
              <a:ext cx="102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,02 - 0,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73720" y="3463920"/>
              <a:ext cx="58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zé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166280" y="3463920"/>
              <a:ext cx="91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0 - 2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629760" y="3463920"/>
              <a:ext cx="102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,02 - 0,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02040" y="3958200"/>
              <a:ext cx="1588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braktakarmán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66280" y="3958200"/>
              <a:ext cx="91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0 - 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629760" y="3958200"/>
              <a:ext cx="102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,03 - 0,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74600" y="4579200"/>
              <a:ext cx="180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akarmány szal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30440" y="4579200"/>
              <a:ext cx="68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0 -7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151400" y="45792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34240" y="5196960"/>
              <a:ext cx="1183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lomszal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166280" y="5196960"/>
              <a:ext cx="91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20 - 2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151400" y="51969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475640" y="5692680"/>
              <a:ext cx="1105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ÖSSZES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696000" y="5692680"/>
              <a:ext cx="102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,27 - 0,4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62120" y="1636560"/>
              <a:ext cx="775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62120" y="2124720"/>
              <a:ext cx="775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2120" y="2611080"/>
              <a:ext cx="775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62120" y="3353760"/>
              <a:ext cx="775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2120" y="3849840"/>
              <a:ext cx="775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62120" y="4343760"/>
              <a:ext cx="775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62120" y="5086440"/>
              <a:ext cx="775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62120" y="5582520"/>
              <a:ext cx="775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62120" y="6078240"/>
              <a:ext cx="775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62120" y="1636560"/>
              <a:ext cx="1440" cy="444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463920" y="1636560"/>
              <a:ext cx="1440" cy="444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990760" y="1636560"/>
              <a:ext cx="1440" cy="444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517960" y="1636560"/>
              <a:ext cx="1800" cy="444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1141560" y="284040"/>
              <a:ext cx="6477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z ágazat berendezkedési költségei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59240" y="943200"/>
              <a:ext cx="3644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2. Befektetett eszközigény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2560" y="6432480"/>
              <a:ext cx="72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ábrádi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0040" y="1486440"/>
              <a:ext cx="4237920" cy="482400"/>
            </a:xfrm>
            <a:prstGeom prst="rect">
              <a:avLst/>
            </a:pr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737960" y="1486440"/>
              <a:ext cx="3491280" cy="482400"/>
            </a:xfrm>
            <a:prstGeom prst="rect">
              <a:avLst/>
            </a:pr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0040" y="1969200"/>
              <a:ext cx="4237920" cy="48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737960" y="1969200"/>
              <a:ext cx="3491280" cy="48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0040" y="2451240"/>
              <a:ext cx="4237920" cy="48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737960" y="2451240"/>
              <a:ext cx="3491280" cy="48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0040" y="2934000"/>
              <a:ext cx="4237920" cy="48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737960" y="2934000"/>
              <a:ext cx="3491280" cy="48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0040" y="3416040"/>
              <a:ext cx="4237920" cy="48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737960" y="3416040"/>
              <a:ext cx="3491280" cy="48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00040" y="3898800"/>
              <a:ext cx="4237920" cy="48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737960" y="3898800"/>
              <a:ext cx="3491280" cy="48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00040" y="4381200"/>
              <a:ext cx="4237920" cy="48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737960" y="4381200"/>
              <a:ext cx="3491280" cy="48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0040" y="4865400"/>
              <a:ext cx="4237920" cy="48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737960" y="4865400"/>
              <a:ext cx="3491280" cy="48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0040" y="5347440"/>
              <a:ext cx="4237920" cy="48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737960" y="5347440"/>
              <a:ext cx="3491280" cy="48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58520" y="1540080"/>
              <a:ext cx="179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gnevezé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635080" y="1540080"/>
              <a:ext cx="1578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t/fh, Ft/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575720" y="2027880"/>
              <a:ext cx="1962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nyajuh istáll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39880" y="2027880"/>
              <a:ext cx="2050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00 - 25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12200" y="2512080"/>
              <a:ext cx="76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llet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23840" y="2512080"/>
              <a:ext cx="179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5000-35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589040" y="2994480"/>
              <a:ext cx="1929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árány hízlal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13840" y="2994480"/>
              <a:ext cx="1625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00-10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022040" y="3476880"/>
              <a:ext cx="2981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épek, berendezése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898280" y="39592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juhnyír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940360" y="3959280"/>
              <a:ext cx="1015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0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338480" y="4442040"/>
              <a:ext cx="2305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 villamos kará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40360" y="4442040"/>
              <a:ext cx="1015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50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75440" y="4924080"/>
              <a:ext cx="1677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állatrakod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940360" y="4924080"/>
              <a:ext cx="1015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0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441080" y="5406840"/>
              <a:ext cx="2106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 fm etető (F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04560" y="5406840"/>
              <a:ext cx="1456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500-4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0040" y="1486440"/>
              <a:ext cx="773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0040" y="1969200"/>
              <a:ext cx="773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00040" y="2451240"/>
              <a:ext cx="77306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00040" y="2934000"/>
              <a:ext cx="773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00040" y="3416040"/>
              <a:ext cx="77306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00040" y="3898800"/>
              <a:ext cx="773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0040" y="4381200"/>
              <a:ext cx="773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0040" y="4865400"/>
              <a:ext cx="773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00040" y="5347440"/>
              <a:ext cx="77306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0040" y="5830200"/>
              <a:ext cx="773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00040" y="1486440"/>
              <a:ext cx="1800" cy="4345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737960" y="1486440"/>
              <a:ext cx="1440" cy="4345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229600" y="1486440"/>
              <a:ext cx="1440" cy="4345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628560" y="203040"/>
            <a:ext cx="712476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frastruktúra a juhászatb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279360" y="1287360"/>
          <a:ext cx="3841920" cy="41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1287360"/>
                    <a:ext cx="3841920" cy="41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"/>
          <p:cNvSpPr/>
          <p:nvPr/>
        </p:nvSpPr>
        <p:spPr>
          <a:xfrm>
            <a:off x="4260960" y="1287360"/>
            <a:ext cx="4578120" cy="46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76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a a hodályoknak több mint 10 éves (41 % több mint 2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46%-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z épületeknek fából v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7 %-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hodályoknak bére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58.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% a legelőknek nem a juhász tulajd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228600" y="5410080"/>
            <a:ext cx="86868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"/>
          <p:cNvGrpSpPr/>
          <p:nvPr/>
        </p:nvGrpSpPr>
        <p:grpSpPr>
          <a:xfrm>
            <a:off x="511200" y="326880"/>
            <a:ext cx="8051400" cy="6480000"/>
            <a:chOff x="511200" y="326880"/>
            <a:chExt cx="8051400" cy="6480000"/>
          </a:xfrm>
        </p:grpSpPr>
        <p:sp>
          <p:nvSpPr>
            <p:cNvPr id="397" name=""/>
            <p:cNvSpPr/>
            <p:nvPr/>
          </p:nvSpPr>
          <p:spPr>
            <a:xfrm>
              <a:off x="1244520" y="326880"/>
              <a:ext cx="62841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80"/>
                  </a:solidFill>
                  <a:latin typeface="Arial"/>
                </a:rPr>
                <a:t>Az ágazat berendezkedési költségei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41120" y="1046160"/>
              <a:ext cx="5490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. Munkaerő, munkaszervezeti formá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1200" y="6532560"/>
              <a:ext cx="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094400" y="1857960"/>
              <a:ext cx="4094280" cy="925920"/>
            </a:xfrm>
            <a:prstGeom prst="rect">
              <a:avLst/>
            </a:pr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189040" y="1857960"/>
              <a:ext cx="3371760" cy="925920"/>
            </a:xfrm>
            <a:prstGeom prst="rect">
              <a:avLst/>
            </a:pr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094400" y="2784240"/>
              <a:ext cx="4094280" cy="46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189040" y="2784240"/>
              <a:ext cx="3371760" cy="46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094400" y="3246480"/>
              <a:ext cx="40942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89040" y="3246480"/>
              <a:ext cx="337176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94400" y="3710520"/>
              <a:ext cx="4094280" cy="46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189040" y="3710520"/>
              <a:ext cx="3371760" cy="46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193480" y="2151000"/>
              <a:ext cx="1512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egnevezé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33120" y="1969200"/>
              <a:ext cx="23720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Gondozható állatok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381000" y="2331720"/>
              <a:ext cx="786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zám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541600" y="2846520"/>
              <a:ext cx="963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nyajuh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077160" y="2846520"/>
              <a:ext cx="1199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200 - 5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89320" y="3308760"/>
              <a:ext cx="1200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Növendék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76800" y="3308760"/>
              <a:ext cx="1347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400 - 10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289960" y="3772800"/>
              <a:ext cx="136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Hízóbárán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85000" y="3772800"/>
              <a:ext cx="1347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500 - 20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094400" y="1857960"/>
              <a:ext cx="74678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94400" y="2784240"/>
              <a:ext cx="74678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94400" y="3246480"/>
              <a:ext cx="74678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094400" y="3710520"/>
              <a:ext cx="74678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094400" y="4174920"/>
              <a:ext cx="7467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094400" y="1857960"/>
              <a:ext cx="1800" cy="231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189040" y="1857960"/>
              <a:ext cx="2160" cy="231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560800" y="1857960"/>
              <a:ext cx="1800" cy="231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44240" y="4604760"/>
              <a:ext cx="4981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. Egy nyáj , egy juhász (350-400 db felnőt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342440" y="4950720"/>
              <a:ext cx="5450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. Két nyáj, két juhász (párosnorma 700-800 db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343160" y="5296320"/>
              <a:ext cx="5124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. Hármasnorma (900-1200 juhlétszám felet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347120" y="5643720"/>
              <a:ext cx="2494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. Munkakörök szer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350720" y="5989320"/>
              <a:ext cx="2321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. Komplex brigád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46"/>
            </a:gs>
            <a:gs pos="5000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28560" y="541440"/>
            <a:ext cx="813456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 juhászok iskolai végzettsé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80880" y="1523880"/>
          <a:ext cx="7753320" cy="39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775332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cf6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"/>
          <p:cNvGrpSpPr/>
          <p:nvPr/>
        </p:nvGrpSpPr>
        <p:grpSpPr>
          <a:xfrm>
            <a:off x="465120" y="298440"/>
            <a:ext cx="8471880" cy="6509880"/>
            <a:chOff x="465120" y="298440"/>
            <a:chExt cx="8471880" cy="6509880"/>
          </a:xfrm>
        </p:grpSpPr>
        <p:sp>
          <p:nvSpPr>
            <p:cNvPr id="434" name=""/>
            <p:cNvSpPr/>
            <p:nvPr/>
          </p:nvSpPr>
          <p:spPr>
            <a:xfrm>
              <a:off x="3055320" y="298440"/>
              <a:ext cx="29908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80"/>
                  </a:solidFill>
                  <a:latin typeface="Arial"/>
                </a:rPr>
                <a:t>Anyahasznosítá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5120" y="6534000"/>
              <a:ext cx="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46840" y="1140840"/>
              <a:ext cx="5732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1. Évi egyszeri elletés nyújtott szoptatáss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021320" y="1531080"/>
              <a:ext cx="6410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Októberi termékenyítés, elletés befejeződése két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020240" y="1927080"/>
              <a:ext cx="6639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héttel a kihajtás előtt, bárányok értékesítése április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43600" y="2321640"/>
              <a:ext cx="397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2. Évi egyszeri elletés fejésse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20960" y="2711520"/>
              <a:ext cx="5891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Kihajtás előtt a bárányokat  4-6 hetes korban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20960" y="3107880"/>
              <a:ext cx="6698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értékesítik, vagy megkezdik a "bőgőre" fejést (fejés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30320" y="3502080"/>
              <a:ext cx="2001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után szoptatás)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43600" y="3899880"/>
              <a:ext cx="2236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3. Sűrített elleté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143160" y="3898080"/>
              <a:ext cx="4817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(7-9 hónaponként, 4-6 hetes korban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8920" y="4293720"/>
              <a:ext cx="1319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választás)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034640" y="4690080"/>
              <a:ext cx="1710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z üzetés    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036600" y="4688280"/>
              <a:ext cx="1939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                      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283000" y="4690080"/>
              <a:ext cx="3295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z elletés             az ért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026000" y="5084280"/>
              <a:ext cx="6509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-  április -május                 -   január- február          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46760" y="5084280"/>
              <a:ext cx="293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3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024560" y="5478120"/>
              <a:ext cx="6564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-  augusztus szeptember  -  május-június               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604000" y="5478120"/>
              <a:ext cx="293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3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022040" y="5874480"/>
              <a:ext cx="6550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-  december -január          -  szeptember-október   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579880" y="5874480"/>
              <a:ext cx="35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300" spc="-1" strike="noStrike">
                  <a:solidFill>
                    <a:srgbClr val="ff0000"/>
                  </a:solidFill>
                  <a:latin typeface="Arial"/>
                </a:rPr>
                <a:t>K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jánlott szakirodal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1560" y="1981080"/>
            <a:ext cx="2896920" cy="4114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956720" y="83664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99080" y="1989000"/>
            <a:ext cx="2625480" cy="4106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af6"/>
            </a:gs>
            <a:gs pos="50000">
              <a:srgbClr val="008000"/>
            </a:gs>
            <a:gs pos="100000">
              <a:srgbClr val="f6fa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"/>
          <p:cNvGrpSpPr/>
          <p:nvPr/>
        </p:nvGrpSpPr>
        <p:grpSpPr>
          <a:xfrm>
            <a:off x="380880" y="68400"/>
            <a:ext cx="8496000" cy="6789240"/>
            <a:chOff x="380880" y="68400"/>
            <a:chExt cx="8496000" cy="6789240"/>
          </a:xfrm>
        </p:grpSpPr>
        <p:sp>
          <p:nvSpPr>
            <p:cNvPr id="456" name=""/>
            <p:cNvSpPr/>
            <p:nvPr/>
          </p:nvSpPr>
          <p:spPr>
            <a:xfrm>
              <a:off x="564480" y="68400"/>
              <a:ext cx="8080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80"/>
                  </a:solidFill>
                  <a:latin typeface="Arial"/>
                </a:rPr>
                <a:t>  </a:t>
              </a:r>
              <a:r>
                <a:rPr b="1" lang="en-US" sz="3000" spc="-1" strike="noStrike">
                  <a:solidFill>
                    <a:srgbClr val="000080"/>
                  </a:solidFill>
                  <a:latin typeface="Arial"/>
                </a:rPr>
                <a:t>A juhászat termékeinek értékesítési arányai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495680" y="800280"/>
              <a:ext cx="26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Arial"/>
                </a:rPr>
                <a:t>%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79240" y="6553800"/>
              <a:ext cx="36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80880" y="1403280"/>
              <a:ext cx="2584080" cy="102456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964960" y="1403280"/>
              <a:ext cx="2027520" cy="1024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92840" y="1403280"/>
              <a:ext cx="1984320" cy="1024560"/>
            </a:xfrm>
            <a:prstGeom prst="rect">
              <a:avLst/>
            </a:prstGeom>
            <a:solidFill>
              <a:srgbClr val="ffc0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977160" y="1403280"/>
              <a:ext cx="1897920" cy="1024560"/>
            </a:xfrm>
            <a:prstGeom prst="rect">
              <a:avLst/>
            </a:prstGeom>
            <a:solidFill>
              <a:srgbClr val="8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80880" y="2427840"/>
              <a:ext cx="2584080" cy="102420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964960" y="2427840"/>
              <a:ext cx="2027520" cy="102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992840" y="2427840"/>
              <a:ext cx="1984320" cy="102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977160" y="2427840"/>
              <a:ext cx="1897920" cy="102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80880" y="3452040"/>
              <a:ext cx="2584080" cy="102672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64960" y="3452040"/>
              <a:ext cx="2027520" cy="102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992840" y="3452040"/>
              <a:ext cx="1984320" cy="102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977160" y="3452040"/>
              <a:ext cx="1897920" cy="102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0880" y="4479120"/>
              <a:ext cx="2584080" cy="102456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964960" y="4479120"/>
              <a:ext cx="2027520" cy="102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92840" y="4479120"/>
              <a:ext cx="1984320" cy="102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977160" y="4479120"/>
              <a:ext cx="1897920" cy="102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80880" y="5503680"/>
              <a:ext cx="2584080" cy="102636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64960" y="5503680"/>
              <a:ext cx="2027520" cy="102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992840" y="5503680"/>
              <a:ext cx="1984320" cy="102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977160" y="5503680"/>
              <a:ext cx="1897920" cy="102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15320" y="1712880"/>
              <a:ext cx="1727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gnevezé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678480" y="1712880"/>
              <a:ext cx="541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ú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456160" y="1712880"/>
              <a:ext cx="965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yapj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694280" y="1712880"/>
              <a:ext cx="42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1680" y="2525760"/>
              <a:ext cx="1661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u-HU" sz="2400" spc="-1" strike="noStrike">
                  <a:solidFill>
                    <a:srgbClr val="000000"/>
                  </a:solidFill>
                  <a:latin typeface="Arial"/>
                </a:rPr>
                <a:t>60-as éve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792240" y="273996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797440" y="273996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738920" y="273996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1680" y="3550320"/>
              <a:ext cx="1661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u-HU" sz="2400" spc="-1" strike="noStrike">
                  <a:solidFill>
                    <a:srgbClr val="000000"/>
                  </a:solidFill>
                  <a:latin typeface="Arial"/>
                </a:rPr>
                <a:t>70-es éve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792240" y="37645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797440" y="37645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832520" y="3764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1680" y="4577040"/>
              <a:ext cx="1661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u-HU" sz="2400" spc="-1" strike="noStrike">
                  <a:solidFill>
                    <a:srgbClr val="000000"/>
                  </a:solidFill>
                  <a:latin typeface="Arial"/>
                </a:rPr>
                <a:t>80-as éve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792240" y="47908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797440" y="47908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832520" y="479088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45640" y="5601600"/>
              <a:ext cx="157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Arial"/>
                </a:rPr>
                <a:t>90-es éve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792240" y="5815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891760" y="58158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32520" y="58158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0880" y="1403280"/>
              <a:ext cx="8496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80880" y="2427840"/>
              <a:ext cx="8496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0880" y="3452040"/>
              <a:ext cx="849600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80880" y="4479120"/>
              <a:ext cx="8496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80880" y="5503680"/>
              <a:ext cx="8496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6530040"/>
              <a:ext cx="8496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0880" y="1403280"/>
              <a:ext cx="1800" cy="5126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964960" y="1403280"/>
              <a:ext cx="1800" cy="5126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992840" y="1403280"/>
              <a:ext cx="1440" cy="5126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977160" y="1403280"/>
              <a:ext cx="1800" cy="5126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875440" y="1403280"/>
              <a:ext cx="1440" cy="5126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0" y="2423520"/>
              <a:ext cx="9143640" cy="44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3640" cy="44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2242800" y="514080"/>
              <a:ext cx="50284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Árbevétel kalkulációk I</a:t>
              </a: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57800" y="1285560"/>
              <a:ext cx="59641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00"/>
                  </a:solidFill>
                  <a:latin typeface="Arial"/>
                </a:rPr>
                <a:t>az országos átlag értékeivel számolv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224360" y="1882440"/>
              <a:ext cx="2166120" cy="71964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390840" y="1882440"/>
              <a:ext cx="1783440" cy="719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74280" y="1882440"/>
              <a:ext cx="1745640" cy="719640"/>
            </a:xfrm>
            <a:prstGeom prst="rect">
              <a:avLst/>
            </a:prstGeom>
            <a:solidFill>
              <a:srgbClr val="ffc0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920280" y="1882440"/>
              <a:ext cx="1669320" cy="719640"/>
            </a:xfrm>
            <a:prstGeom prst="rect">
              <a:avLst/>
            </a:prstGeom>
            <a:solidFill>
              <a:srgbClr val="8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224360" y="2602080"/>
              <a:ext cx="2166120" cy="108036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174280" y="2602080"/>
              <a:ext cx="1745640" cy="108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920280" y="2602080"/>
              <a:ext cx="1669320" cy="108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224360" y="3682440"/>
              <a:ext cx="2166120" cy="71784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74280" y="3682440"/>
              <a:ext cx="1745640" cy="71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920280" y="3682440"/>
              <a:ext cx="1669320" cy="71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224360" y="4400640"/>
              <a:ext cx="2166120" cy="53892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74280" y="4400640"/>
              <a:ext cx="1745640" cy="53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920280" y="4400640"/>
              <a:ext cx="1669320" cy="53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224360" y="4939560"/>
              <a:ext cx="2166120" cy="54108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174280" y="4939560"/>
              <a:ext cx="1745640" cy="54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920280" y="4939560"/>
              <a:ext cx="1669320" cy="54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24360" y="5480640"/>
              <a:ext cx="2166120" cy="53928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174280" y="5480640"/>
              <a:ext cx="1745640" cy="53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920280" y="5480640"/>
              <a:ext cx="1669320" cy="53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490760" y="2080440"/>
              <a:ext cx="1512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egnevezé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25520" y="20804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Hú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591160" y="2080440"/>
              <a:ext cx="844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Gyapjú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553520" y="2080440"/>
              <a:ext cx="371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ej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10360" y="2807280"/>
              <a:ext cx="1186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 anyára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393200" y="3151800"/>
              <a:ext cx="169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zámított Kg, 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22360" y="2980800"/>
              <a:ext cx="296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967000" y="29808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674480" y="29808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427760" y="3879000"/>
              <a:ext cx="163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Ár (Ft/kg, Ft,l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043520" y="3879000"/>
              <a:ext cx="444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65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807880" y="3879000"/>
              <a:ext cx="444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515720" y="3879000"/>
              <a:ext cx="444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3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698840" y="4507560"/>
              <a:ext cx="1126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Árbevéte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83320" y="4507560"/>
              <a:ext cx="739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26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807880" y="4507560"/>
              <a:ext cx="444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515720" y="4507560"/>
              <a:ext cx="444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39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618560" y="5048640"/>
              <a:ext cx="1276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egoszlá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122360" y="5048640"/>
              <a:ext cx="296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93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967000" y="50486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674480" y="50486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666080" y="5587920"/>
              <a:ext cx="1188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Összese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224360" y="1882440"/>
              <a:ext cx="7365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224360" y="2602080"/>
              <a:ext cx="7365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224360" y="3682440"/>
              <a:ext cx="7365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224360" y="4400640"/>
              <a:ext cx="7365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224360" y="4939560"/>
              <a:ext cx="7365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224360" y="5480640"/>
              <a:ext cx="7365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224360" y="6020280"/>
              <a:ext cx="7365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224360" y="1882440"/>
              <a:ext cx="1440" cy="413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390840" y="1882440"/>
              <a:ext cx="1800" cy="413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174280" y="1882440"/>
              <a:ext cx="1800" cy="413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920280" y="1882440"/>
              <a:ext cx="1800" cy="413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589600" y="1882440"/>
              <a:ext cx="1800" cy="413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382200" y="5505840"/>
              <a:ext cx="5216040" cy="51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387240" y="5511240"/>
              <a:ext cx="5204160" cy="509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458320" y="5609520"/>
              <a:ext cx="739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359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57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44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" descr=""/>
            <p:cNvPicPr/>
            <p:nvPr/>
          </p:nvPicPr>
          <p:blipFill>
            <a:blip r:embed="rId2"/>
            <a:stretch/>
          </p:blipFill>
          <p:spPr>
            <a:xfrm>
              <a:off x="0" y="2423520"/>
              <a:ext cx="9143640" cy="44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2481840" y="537120"/>
              <a:ext cx="53240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3333cc"/>
                  </a:solidFill>
                  <a:latin typeface="Arial"/>
                </a:rPr>
                <a:t>Árbevétel kalkulációk II.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556640" y="1181880"/>
              <a:ext cx="7450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Főleg hús hasznosítás 1,7 bárányszaporula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85880" y="6098760"/>
              <a:ext cx="62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Nábrád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51680" y="1721520"/>
              <a:ext cx="2876040" cy="69120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27720" y="1721520"/>
              <a:ext cx="2367360" cy="691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95080" y="1721520"/>
              <a:ext cx="2317320" cy="691200"/>
            </a:xfrm>
            <a:prstGeom prst="rect">
              <a:avLst/>
            </a:prstGeom>
            <a:solidFill>
              <a:srgbClr val="ffc0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51680" y="2412720"/>
              <a:ext cx="2876040" cy="79092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627720" y="2412720"/>
              <a:ext cx="2367360" cy="79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995080" y="2412720"/>
              <a:ext cx="2317320" cy="79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51680" y="3203640"/>
              <a:ext cx="2876040" cy="69120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27720" y="3203640"/>
              <a:ext cx="2367360" cy="69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995080" y="3203640"/>
              <a:ext cx="2317320" cy="69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51680" y="3895200"/>
              <a:ext cx="2876040" cy="69084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627720" y="3895200"/>
              <a:ext cx="2367360" cy="69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95080" y="3895200"/>
              <a:ext cx="2317320" cy="69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51680" y="4586040"/>
              <a:ext cx="2876040" cy="69120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27720" y="4586040"/>
              <a:ext cx="2367360" cy="69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95080" y="4586040"/>
              <a:ext cx="2317320" cy="69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51680" y="5277600"/>
              <a:ext cx="2876040" cy="69084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627720" y="5277600"/>
              <a:ext cx="2367360" cy="69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995080" y="5277600"/>
              <a:ext cx="2317320" cy="69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321560" y="1896480"/>
              <a:ext cx="1570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Megnevezé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532040" y="1896480"/>
              <a:ext cx="503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Hú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54960" y="1896480"/>
              <a:ext cx="904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Gyapjú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575000" y="2466360"/>
              <a:ext cx="1186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 anyára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274760" y="2818080"/>
              <a:ext cx="1501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zámított kg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647600" y="2641320"/>
              <a:ext cx="518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35.7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71840" y="2641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417320" y="3382560"/>
              <a:ext cx="1247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Ár (Ft/ kgl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564440" y="3382560"/>
              <a:ext cx="444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07680" y="3382560"/>
              <a:ext cx="444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563840" y="4073760"/>
              <a:ext cx="1126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Árbevéte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399200" y="4073760"/>
              <a:ext cx="739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2142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07680" y="4073760"/>
              <a:ext cx="444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481400" y="4764600"/>
              <a:ext cx="1276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egoszlá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648320" y="4764600"/>
              <a:ext cx="296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071840" y="4764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529640" y="5456160"/>
              <a:ext cx="1188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Összese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51680" y="1721520"/>
              <a:ext cx="7561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51680" y="2412720"/>
              <a:ext cx="7561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51680" y="3203640"/>
              <a:ext cx="7561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51680" y="3895200"/>
              <a:ext cx="7561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51680" y="4586040"/>
              <a:ext cx="7561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51680" y="5277600"/>
              <a:ext cx="7561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51680" y="5968440"/>
              <a:ext cx="7561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51680" y="1721520"/>
              <a:ext cx="1440" cy="4248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627720" y="1721520"/>
              <a:ext cx="1800" cy="4248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995080" y="1721520"/>
              <a:ext cx="1800" cy="4248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312760" y="1721520"/>
              <a:ext cx="1440" cy="4248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638520" y="5291640"/>
              <a:ext cx="4682880" cy="67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643560" y="5297040"/>
              <a:ext cx="4672080" cy="662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498640" y="5522040"/>
              <a:ext cx="8845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22020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"/>
          <p:cNvGrpSpPr/>
          <p:nvPr/>
        </p:nvGrpSpPr>
        <p:grpSpPr>
          <a:xfrm>
            <a:off x="0" y="228600"/>
            <a:ext cx="9143640" cy="6629040"/>
            <a:chOff x="0" y="228600"/>
            <a:chExt cx="9143640" cy="6629040"/>
          </a:xfrm>
        </p:grpSpPr>
        <p:pic>
          <p:nvPicPr>
            <p:cNvPr id="627" name="" descr=""/>
            <p:cNvPicPr/>
            <p:nvPr/>
          </p:nvPicPr>
          <p:blipFill>
            <a:blip r:embed="rId1"/>
            <a:stretch/>
          </p:blipFill>
          <p:spPr>
            <a:xfrm>
              <a:off x="0" y="228600"/>
              <a:ext cx="9143640" cy="445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" descr=""/>
            <p:cNvPicPr/>
            <p:nvPr/>
          </p:nvPicPr>
          <p:blipFill>
            <a:blip r:embed="rId2"/>
            <a:stretch/>
          </p:blipFill>
          <p:spPr>
            <a:xfrm>
              <a:off x="0" y="2404080"/>
              <a:ext cx="9143640" cy="445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2486520" y="517320"/>
              <a:ext cx="50101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80"/>
                  </a:solidFill>
                  <a:latin typeface="Arial"/>
                </a:rPr>
                <a:t>Árbevétel kalkulációk III.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342240" y="1184400"/>
              <a:ext cx="2637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Tejtermelés esetén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01720" y="6264360"/>
              <a:ext cx="62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Nábrád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5360" y="1731240"/>
              <a:ext cx="2289600" cy="78948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054960" y="1731240"/>
              <a:ext cx="1882080" cy="789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937400" y="1731240"/>
              <a:ext cx="1843920" cy="789480"/>
            </a:xfrm>
            <a:prstGeom prst="rect">
              <a:avLst/>
            </a:prstGeom>
            <a:solidFill>
              <a:srgbClr val="ffc0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781680" y="1731240"/>
              <a:ext cx="1763280" cy="789480"/>
            </a:xfrm>
            <a:prstGeom prst="rect">
              <a:avLst/>
            </a:prstGeom>
            <a:solidFill>
              <a:srgbClr val="8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65360" y="2521080"/>
              <a:ext cx="2289600" cy="118332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054960" y="2521080"/>
              <a:ext cx="1882080" cy="118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937400" y="2521080"/>
              <a:ext cx="1843920" cy="118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781680" y="2521080"/>
              <a:ext cx="1763280" cy="118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5360" y="3704400"/>
              <a:ext cx="2289600" cy="60264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054960" y="3704400"/>
              <a:ext cx="1882080" cy="60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937400" y="3704400"/>
              <a:ext cx="1843920" cy="60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781680" y="3704400"/>
              <a:ext cx="1763280" cy="60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5360" y="4307400"/>
              <a:ext cx="2289600" cy="60444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054960" y="4307400"/>
              <a:ext cx="1882080" cy="60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937400" y="4307400"/>
              <a:ext cx="1843920" cy="60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781680" y="4307400"/>
              <a:ext cx="1763280" cy="60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65360" y="4911840"/>
              <a:ext cx="2289600" cy="60444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054960" y="4911840"/>
              <a:ext cx="1882080" cy="60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937400" y="4911840"/>
              <a:ext cx="1843920" cy="60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781680" y="4911840"/>
              <a:ext cx="1763280" cy="60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65360" y="5516280"/>
              <a:ext cx="2289600" cy="60444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054960" y="5516280"/>
              <a:ext cx="1882080" cy="60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937400" y="5516280"/>
              <a:ext cx="1843920" cy="60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781680" y="5516280"/>
              <a:ext cx="1763280" cy="60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049400" y="1953720"/>
              <a:ext cx="1585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egnevezé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724920" y="1953720"/>
              <a:ext cx="497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ú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378400" y="1953720"/>
              <a:ext cx="886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Gyapjú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450200" y="1953720"/>
              <a:ext cx="389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Tej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79800" y="2757600"/>
              <a:ext cx="1244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 anyára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947160" y="3121560"/>
              <a:ext cx="1771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zámított Kg, 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827160" y="294084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649120" y="2940840"/>
              <a:ext cx="389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410600" y="2940840"/>
              <a:ext cx="466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159560" y="3834000"/>
              <a:ext cx="1383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Ár (Ft/kg, l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744000" y="3834000"/>
              <a:ext cx="466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607000" y="3834000"/>
              <a:ext cx="466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410600" y="3834000"/>
              <a:ext cx="466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3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267200" y="4438440"/>
              <a:ext cx="1181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Árbevéte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659040" y="4438440"/>
              <a:ext cx="615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607000" y="4438440"/>
              <a:ext cx="466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7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242120" y="4438440"/>
              <a:ext cx="777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300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184400" y="5042880"/>
              <a:ext cx="1337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egoszlá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26800" y="5042880"/>
              <a:ext cx="30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775480" y="5042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494480" y="504288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234080" y="5647320"/>
              <a:ext cx="1244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Összese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5360" y="1731240"/>
              <a:ext cx="7781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5360" y="2521080"/>
              <a:ext cx="77810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65360" y="3704400"/>
              <a:ext cx="77810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65360" y="4307400"/>
              <a:ext cx="77810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65360" y="4911840"/>
              <a:ext cx="77810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65360" y="5516280"/>
              <a:ext cx="77810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5360" y="6120720"/>
              <a:ext cx="77810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65360" y="1731240"/>
              <a:ext cx="1800" cy="4389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054960" y="1731240"/>
              <a:ext cx="1440" cy="4389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37400" y="1731240"/>
              <a:ext cx="1800" cy="4389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781680" y="1731240"/>
              <a:ext cx="1800" cy="4389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544960" y="1731240"/>
              <a:ext cx="1440" cy="4389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044160" y="5528880"/>
              <a:ext cx="5509080" cy="58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049920" y="5534280"/>
              <a:ext cx="5497920" cy="5720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394240" y="5645160"/>
              <a:ext cx="777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2237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005e46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"/>
          <p:cNvGrpSpPr/>
          <p:nvPr/>
        </p:nvGrpSpPr>
        <p:grpSpPr>
          <a:xfrm>
            <a:off x="658800" y="385920"/>
            <a:ext cx="8256240" cy="6231960"/>
            <a:chOff x="658800" y="385920"/>
            <a:chExt cx="8256240" cy="6231960"/>
          </a:xfrm>
        </p:grpSpPr>
        <p:sp>
          <p:nvSpPr>
            <p:cNvPr id="694" name=""/>
            <p:cNvSpPr/>
            <p:nvPr/>
          </p:nvSpPr>
          <p:spPr>
            <a:xfrm>
              <a:off x="1056960" y="385920"/>
              <a:ext cx="6602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00"/>
                  </a:solidFill>
                  <a:latin typeface="Arial"/>
                </a:rPr>
                <a:t>Termelési költségek egy anyára vetítv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58800" y="1060560"/>
              <a:ext cx="3139200" cy="400320"/>
            </a:xfrm>
            <a:prstGeom prst="rect">
              <a:avLst/>
            </a:pr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798000" y="1060560"/>
              <a:ext cx="2585880" cy="400320"/>
            </a:xfrm>
            <a:prstGeom prst="rect">
              <a:avLst/>
            </a:pr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383880" y="1060560"/>
              <a:ext cx="2529360" cy="400320"/>
            </a:xfrm>
            <a:prstGeom prst="rect">
              <a:avLst/>
            </a:pr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58800" y="1460880"/>
              <a:ext cx="3139200" cy="35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798000" y="1460880"/>
              <a:ext cx="2585880" cy="35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83880" y="1460880"/>
              <a:ext cx="2529360" cy="35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58800" y="1816560"/>
              <a:ext cx="3139200" cy="35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98000" y="1816560"/>
              <a:ext cx="2585880" cy="35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83880" y="1816560"/>
              <a:ext cx="2529360" cy="35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8800" y="2172600"/>
              <a:ext cx="3139200" cy="67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798000" y="2172600"/>
              <a:ext cx="2585880" cy="67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383880" y="2172600"/>
              <a:ext cx="2529360" cy="67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8800" y="2844000"/>
              <a:ext cx="3139200" cy="70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798000" y="2844000"/>
              <a:ext cx="2585880" cy="70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383880" y="2844000"/>
              <a:ext cx="2529360" cy="70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58800" y="3553560"/>
              <a:ext cx="3139200" cy="35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798000" y="3553560"/>
              <a:ext cx="2585880" cy="35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383880" y="3553560"/>
              <a:ext cx="2529360" cy="35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58800" y="3909600"/>
              <a:ext cx="3139200" cy="39816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798000" y="3909600"/>
              <a:ext cx="2585880" cy="39816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383880" y="3909600"/>
              <a:ext cx="2529360" cy="39816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58800" y="4307760"/>
              <a:ext cx="3139200" cy="39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798000" y="4307760"/>
              <a:ext cx="2585880" cy="39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383880" y="4307760"/>
              <a:ext cx="2529360" cy="39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58800" y="4707720"/>
              <a:ext cx="3139200" cy="39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798000" y="4707720"/>
              <a:ext cx="2585880" cy="39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383880" y="4707720"/>
              <a:ext cx="2529360" cy="39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58800" y="5107680"/>
              <a:ext cx="3139200" cy="70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798000" y="5107680"/>
              <a:ext cx="2585880" cy="70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383880" y="5107680"/>
              <a:ext cx="2529360" cy="70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58800" y="5817960"/>
              <a:ext cx="3139200" cy="399960"/>
            </a:xfrm>
            <a:prstGeom prst="rect">
              <a:avLst/>
            </a:prstGeom>
            <a:solidFill>
              <a:srgbClr val="8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798000" y="5817960"/>
              <a:ext cx="2585880" cy="399960"/>
            </a:xfrm>
            <a:prstGeom prst="rect">
              <a:avLst/>
            </a:prstGeom>
            <a:solidFill>
              <a:srgbClr val="8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383880" y="5817960"/>
              <a:ext cx="2529360" cy="399960"/>
            </a:xfrm>
            <a:prstGeom prst="rect">
              <a:avLst/>
            </a:prstGeom>
            <a:solidFill>
              <a:srgbClr val="8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58800" y="6217920"/>
              <a:ext cx="3139200" cy="398160"/>
            </a:xfrm>
            <a:prstGeom prst="rect">
              <a:avLst/>
            </a:prstGeom>
            <a:solidFill>
              <a:srgbClr val="80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798000" y="6217920"/>
              <a:ext cx="2585880" cy="398160"/>
            </a:xfrm>
            <a:prstGeom prst="rect">
              <a:avLst/>
            </a:prstGeom>
            <a:solidFill>
              <a:srgbClr val="80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383880" y="6217920"/>
              <a:ext cx="2529360" cy="398160"/>
            </a:xfrm>
            <a:prstGeom prst="rect">
              <a:avLst/>
            </a:prstGeom>
            <a:solidFill>
              <a:srgbClr val="80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531800" y="1122120"/>
              <a:ext cx="1195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gnevezé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678920" y="1122120"/>
              <a:ext cx="70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t/any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914880" y="1122120"/>
              <a:ext cx="1262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goszlás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637640" y="1503360"/>
              <a:ext cx="1015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karmán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24480" y="1503360"/>
              <a:ext cx="969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000-96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344720" y="1503360"/>
              <a:ext cx="51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6-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638000" y="1858680"/>
              <a:ext cx="101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omanya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592160" y="1858680"/>
              <a:ext cx="80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40-3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581960" y="18586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227240" y="2372760"/>
              <a:ext cx="172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ergia (áram, víz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592160" y="2372760"/>
              <a:ext cx="80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80-2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78920" y="23727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-1,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089000" y="3063240"/>
              <a:ext cx="19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lejtezési vesztesé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590000" y="3063240"/>
              <a:ext cx="969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500-2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81720" y="306324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,5-6,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541520" y="3596040"/>
              <a:ext cx="118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gyéb anya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655160" y="359604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00-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378920" y="35960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-2,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257480" y="39733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YAGKÖLTSÉ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524480" y="3973320"/>
              <a:ext cx="1082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220-127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344720" y="3973320"/>
              <a:ext cx="51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4-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374120" y="4373280"/>
              <a:ext cx="1471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zemélyi jelleg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524480" y="4373280"/>
              <a:ext cx="969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0-4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311600" y="437328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,7-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323720" y="4771440"/>
              <a:ext cx="155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mort. fenntartá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655160" y="477144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00-4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378920" y="47714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,6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145880" y="5182920"/>
              <a:ext cx="19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gédüzem + egyéb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602720" y="5471640"/>
              <a:ext cx="1075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zolgáltatá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55160" y="532728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00-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378920" y="532728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-2,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362960" y="5881320"/>
              <a:ext cx="1492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gyéb közvetl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524480" y="5881320"/>
              <a:ext cx="969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100-4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344720" y="5881320"/>
              <a:ext cx="51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-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529640" y="6281280"/>
              <a:ext cx="120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lőállítási kt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392000" y="6281280"/>
              <a:ext cx="1195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3920-176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449120" y="62812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58800" y="1060560"/>
              <a:ext cx="825480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58800" y="1460880"/>
              <a:ext cx="8254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58800" y="1816560"/>
              <a:ext cx="825480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58800" y="2172600"/>
              <a:ext cx="825480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58800" y="2844000"/>
              <a:ext cx="825480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58800" y="3553560"/>
              <a:ext cx="825480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58800" y="3909600"/>
              <a:ext cx="825480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58800" y="4307760"/>
              <a:ext cx="8254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58800" y="4707720"/>
              <a:ext cx="825480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58800" y="5107680"/>
              <a:ext cx="825480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58800" y="5817960"/>
              <a:ext cx="8254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58800" y="6217920"/>
              <a:ext cx="8254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58800" y="6616080"/>
              <a:ext cx="8254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58800" y="1060560"/>
              <a:ext cx="1440" cy="5557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798000" y="1060560"/>
              <a:ext cx="1800" cy="5557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383880" y="1060560"/>
              <a:ext cx="1440" cy="5557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8913600" y="1060560"/>
              <a:ext cx="1440" cy="5557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46"/>
            </a:gs>
            <a:gs pos="5000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609480" y="304920"/>
            <a:ext cx="7981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Saját termelésű és vásárolt takarmányok arány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628560" y="1760400"/>
          <a:ext cx="7829640" cy="40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1760400"/>
                    <a:ext cx="7829640" cy="40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</a:rPr>
              <a:t>JÖVEDELEM AZ ÁGAZATBAN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791" name="ausmeri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>
              <a:off x="2484000" y="279000"/>
              <a:ext cx="4232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Fejlesztési lehetőségek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46280" y="5989320"/>
              <a:ext cx="777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ff"/>
                  </a:solidFill>
                  <a:latin typeface="Arial"/>
                </a:rPr>
                <a:t>Nábrádi,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90400" y="969480"/>
              <a:ext cx="76237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1. Genetikai potenciál kihasználása, gyapjú&gt;hús&gt;tej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033560" y="1387800"/>
              <a:ext cx="60098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0,1  ért. bárányszaporulat= 1000-1400 F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034280" y="1804680"/>
              <a:ext cx="43912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1 kg gyapjú növ. = 140-200 F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036080" y="2221200"/>
              <a:ext cx="33948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1 l tej növ.= 120-140 F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94360" y="2638080"/>
              <a:ext cx="44186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2. Szakosodás?  tej, hús irán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90040" y="3054960"/>
              <a:ext cx="73663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3. Aszezonális ciklusok kihasználása, a beelletési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92560" y="3471840"/>
              <a:ext cx="6259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időszak csökkentése, folyamatos elleté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94000" y="3890160"/>
              <a:ext cx="29664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4. Állategészségüg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94000" y="4306680"/>
              <a:ext cx="77443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5. Kormányzati beavatkozás ( fajta frissítés, áll. növ.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91120" y="4723560"/>
              <a:ext cx="76878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6. Törzsállomány (40 anya 1 kos= 25000) 1995-ben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96880" y="5140440"/>
              <a:ext cx="33292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1500 minősített kos!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93640" y="5557320"/>
              <a:ext cx="55054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7. A </a:t>
              </a:r>
              <a:r>
                <a:rPr b="0" lang="hu-HU" sz="2600" spc="-1" strike="noStrike">
                  <a:solidFill>
                    <a:srgbClr val="000000"/>
                  </a:solidFill>
                  <a:latin typeface="Arial"/>
                </a:rPr>
                <a:t>hatékonyság növelése,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tartaléka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efe7b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628560" y="271440"/>
            <a:ext cx="712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A hatékonyság növelésének lehetősége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28560" y="1625760"/>
            <a:ext cx="7124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övedelem növelé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ermelési költség csökkent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ermelési érték növel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 termelési költség növekedésének mértéke kisebb mint a termelési érték növekedés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907920" y="1828800"/>
            <a:ext cx="6635880" cy="1287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057040" y="2133720"/>
            <a:ext cx="47124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Jövedelem = TÉ</a:t>
            </a:r>
            <a:r>
              <a:rPr b="1" lang="en-US" sz="3700" spc="-1" strike="noStrike">
                <a:solidFill>
                  <a:srgbClr val="008000"/>
                </a:solidFill>
                <a:latin typeface="Times New Roman"/>
              </a:rPr>
              <a:t>. 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7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700" spc="-1" strike="noStrike">
                <a:solidFill>
                  <a:srgbClr val="0000ff"/>
                </a:solidFill>
                <a:latin typeface="Times New Roman"/>
              </a:rPr>
              <a:t>TK</a:t>
            </a:r>
            <a:r>
              <a:rPr b="1" lang="en-US" sz="37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efecb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"/>
          <p:cNvGrpSpPr/>
          <p:nvPr/>
        </p:nvGrpSpPr>
        <p:grpSpPr>
          <a:xfrm>
            <a:off x="378000" y="203040"/>
            <a:ext cx="8525880" cy="6608520"/>
            <a:chOff x="378000" y="203040"/>
            <a:chExt cx="8525880" cy="6608520"/>
          </a:xfrm>
        </p:grpSpPr>
        <p:sp>
          <p:nvSpPr>
            <p:cNvPr id="811" name=""/>
            <p:cNvSpPr/>
            <p:nvPr/>
          </p:nvSpPr>
          <p:spPr>
            <a:xfrm>
              <a:off x="3438360" y="203040"/>
              <a:ext cx="2593080" cy="718560"/>
            </a:xfrm>
            <a:prstGeom prst="roundRect">
              <a:avLst>
                <a:gd name="adj" fmla="val 1546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430800" y="417240"/>
              <a:ext cx="2423520" cy="533160"/>
            </a:xfrm>
            <a:prstGeom prst="roundRect">
              <a:avLst>
                <a:gd name="adj" fmla="val 15468"/>
              </a:avLst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522600" y="466560"/>
              <a:ext cx="2238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ermelési érté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78000" y="1529280"/>
              <a:ext cx="2436840" cy="545760"/>
            </a:xfrm>
            <a:prstGeom prst="roundRect">
              <a:avLst>
                <a:gd name="adj" fmla="val 1546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83400" y="1535760"/>
              <a:ext cx="2425680" cy="534960"/>
            </a:xfrm>
            <a:prstGeom prst="roundRect">
              <a:avLst>
                <a:gd name="adj" fmla="val 15468"/>
              </a:avLst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20240" y="1609560"/>
              <a:ext cx="992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Hoz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04240" y="2715480"/>
              <a:ext cx="181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1500" spc="-1" strike="noStrike">
                  <a:solidFill>
                    <a:srgbClr val="101010"/>
                  </a:solidFill>
                  <a:latin typeface="Arial"/>
                </a:rPr>
                <a:t>1.</a:t>
              </a:r>
              <a:r>
                <a:rPr b="1" lang="en-US" sz="1700" spc="-1" strike="noStrike">
                  <a:solidFill>
                    <a:srgbClr val="101010"/>
                  </a:solidFill>
                  <a:latin typeface="Arial"/>
                </a:rPr>
                <a:t>Biológiai alapo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04960" y="3273480"/>
              <a:ext cx="140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1700" spc="-1" strike="noStrike">
                  <a:solidFill>
                    <a:srgbClr val="101010"/>
                  </a:solidFill>
                  <a:latin typeface="Arial"/>
                </a:rPr>
                <a:t>2.Tenyészté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03880" y="3831480"/>
              <a:ext cx="1054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hu-HU" sz="1500" spc="-1" strike="noStrike">
                  <a:solidFill>
                    <a:srgbClr val="101010"/>
                  </a:solidFill>
                  <a:latin typeface="Arial"/>
                </a:rPr>
                <a:t>3. </a:t>
              </a:r>
              <a:r>
                <a:rPr b="1" lang="hu-HU" sz="1700" spc="-1" strike="noStrike">
                  <a:solidFill>
                    <a:srgbClr val="101010"/>
                  </a:solidFill>
                  <a:latin typeface="Arial"/>
                </a:rPr>
                <a:t>Állat eü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01720" y="4392000"/>
              <a:ext cx="1489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1500" spc="-1" strike="noStrike">
                  <a:solidFill>
                    <a:srgbClr val="101010"/>
                  </a:solidFill>
                  <a:latin typeface="Arial"/>
                </a:rPr>
                <a:t>4. </a:t>
              </a:r>
              <a:r>
                <a:rPr b="1" lang="en-US" sz="1700" spc="-1" strike="noStrike">
                  <a:solidFill>
                    <a:srgbClr val="101010"/>
                  </a:solidFill>
                  <a:latin typeface="Arial"/>
                </a:rPr>
                <a:t>Technológi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02800" y="4951800"/>
              <a:ext cx="175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1500" spc="-1" strike="noStrike">
                  <a:solidFill>
                    <a:srgbClr val="101010"/>
                  </a:solidFill>
                  <a:latin typeface="Arial"/>
                </a:rPr>
                <a:t>5. </a:t>
              </a:r>
              <a:r>
                <a:rPr b="1" lang="en-US" sz="1700" spc="-1" strike="noStrike">
                  <a:solidFill>
                    <a:srgbClr val="101010"/>
                  </a:solidFill>
                  <a:latin typeface="Arial"/>
                </a:rPr>
                <a:t> Input minősé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03520" y="5510160"/>
              <a:ext cx="1879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1500" spc="-1" strike="noStrike">
                  <a:solidFill>
                    <a:srgbClr val="101010"/>
                  </a:solidFill>
                  <a:latin typeface="Arial"/>
                </a:rPr>
                <a:t>6.</a:t>
              </a:r>
              <a:r>
                <a:rPr b="1" lang="en-US" sz="1700" spc="-1" strike="noStrike">
                  <a:solidFill>
                    <a:srgbClr val="101010"/>
                  </a:solidFill>
                  <a:latin typeface="Arial"/>
                </a:rPr>
                <a:t>Emberi tényező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4600" y="6628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hu-HU" sz="1200" spc="-1" strike="noStrike">
                  <a:solidFill>
                    <a:srgbClr val="10101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427200" y="1529280"/>
              <a:ext cx="2432880" cy="545760"/>
            </a:xfrm>
            <a:prstGeom prst="roundRect">
              <a:avLst>
                <a:gd name="adj" fmla="val 1546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430800" y="1535760"/>
              <a:ext cx="2423520" cy="534960"/>
            </a:xfrm>
            <a:prstGeom prst="roundRect">
              <a:avLst>
                <a:gd name="adj" fmla="val 15468"/>
              </a:avLst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277160" y="159516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Arial"/>
                </a:rPr>
                <a:t>Á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854880" y="2715480"/>
              <a:ext cx="1151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1700" spc="-1" strike="noStrike">
                  <a:solidFill>
                    <a:srgbClr val="101010"/>
                  </a:solidFill>
                  <a:latin typeface="Arial"/>
                </a:rPr>
                <a:t>1. Ért. idej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853440" y="3273480"/>
              <a:ext cx="1308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1700" spc="-1" strike="noStrike">
                  <a:solidFill>
                    <a:srgbClr val="101010"/>
                  </a:solidFill>
                  <a:latin typeface="Arial"/>
                </a:rPr>
                <a:t>2. Ért. töme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852720" y="3831480"/>
              <a:ext cx="1117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1700" spc="-1" strike="noStrike">
                  <a:solidFill>
                    <a:srgbClr val="101010"/>
                  </a:solidFill>
                  <a:latin typeface="Arial"/>
                </a:rPr>
                <a:t>3. Minősé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854160" y="4392000"/>
              <a:ext cx="1789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1700" spc="-1" strike="noStrike">
                  <a:solidFill>
                    <a:srgbClr val="101010"/>
                  </a:solidFill>
                  <a:latin typeface="Arial"/>
                </a:rPr>
                <a:t>4. Ért. mennyisé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449760" y="1521360"/>
              <a:ext cx="2436840" cy="545400"/>
            </a:xfrm>
            <a:prstGeom prst="roundRect">
              <a:avLst>
                <a:gd name="adj" fmla="val 1546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478200" y="1535760"/>
              <a:ext cx="2425680" cy="534960"/>
            </a:xfrm>
            <a:prstGeom prst="roundRect">
              <a:avLst>
                <a:gd name="adj" fmla="val 15468"/>
              </a:avLst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369560" y="1609560"/>
              <a:ext cx="764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2000" spc="-1" strike="noStrike">
                  <a:solidFill>
                    <a:srgbClr val="9933ff"/>
                  </a:solidFill>
                  <a:latin typeface="Arial"/>
                </a:rPr>
                <a:t>Egyé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867360" y="2750400"/>
              <a:ext cx="138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1700" spc="-1" strike="noStrike">
                  <a:solidFill>
                    <a:srgbClr val="101010"/>
                  </a:solidFill>
                  <a:latin typeface="Arial"/>
                </a:rPr>
                <a:t>1. Támogatá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868440" y="3277800"/>
              <a:ext cx="1899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1700" spc="-1" strike="noStrike">
                  <a:solidFill>
                    <a:srgbClr val="101010"/>
                  </a:solidFill>
                  <a:latin typeface="Arial"/>
                </a:rPr>
                <a:t>2.Emberi tényező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643640" y="966960"/>
              <a:ext cx="1440" cy="275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1595880" y="1243080"/>
              <a:ext cx="304740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596240" y="1243080"/>
              <a:ext cx="1800" cy="275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643640" y="966960"/>
              <a:ext cx="1440" cy="275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643640" y="1243080"/>
              <a:ext cx="1440" cy="275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643640" y="966960"/>
              <a:ext cx="1440" cy="275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643640" y="1243080"/>
              <a:ext cx="304740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691400" y="1243080"/>
              <a:ext cx="1440" cy="275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78000" y="2019600"/>
              <a:ext cx="1440" cy="90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78000" y="2921400"/>
              <a:ext cx="29808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78000" y="2019600"/>
              <a:ext cx="1440" cy="1459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78000" y="3479400"/>
              <a:ext cx="29808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78000" y="2019600"/>
              <a:ext cx="1440" cy="2020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78000" y="4039920"/>
              <a:ext cx="298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78000" y="2019600"/>
              <a:ext cx="1440" cy="2578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78000" y="4597920"/>
              <a:ext cx="298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78000" y="2019600"/>
              <a:ext cx="1440" cy="3138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78000" y="5158080"/>
              <a:ext cx="29808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78000" y="2019600"/>
              <a:ext cx="1440" cy="3696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78000" y="5716080"/>
              <a:ext cx="29808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427200" y="2019600"/>
              <a:ext cx="1440" cy="90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427200" y="2921400"/>
              <a:ext cx="262080" cy="6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427200" y="2019600"/>
              <a:ext cx="1440" cy="1459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427200" y="3479400"/>
              <a:ext cx="29412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427200" y="2019600"/>
              <a:ext cx="1440" cy="2020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427200" y="4039920"/>
              <a:ext cx="294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427200" y="2019600"/>
              <a:ext cx="11160" cy="3191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427200" y="4597920"/>
              <a:ext cx="294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472440" y="2019600"/>
              <a:ext cx="1440" cy="90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472440" y="2921400"/>
              <a:ext cx="29808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472440" y="2019600"/>
              <a:ext cx="1440" cy="1459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472440" y="3479400"/>
              <a:ext cx="29808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438360" y="5211720"/>
              <a:ext cx="2962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772800" y="4859640"/>
              <a:ext cx="192384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1700" spc="-1" strike="noStrike">
                  <a:solidFill>
                    <a:srgbClr val="101010"/>
                  </a:solidFill>
                  <a:latin typeface="Arial"/>
                </a:rPr>
                <a:t>5.Feldolgozá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0760" y="506520"/>
            <a:ext cx="5685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 juhtenyésztés gazdasági kérdés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09480" y="993600"/>
            <a:ext cx="1942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El</a:t>
            </a:r>
            <a:r>
              <a:rPr b="1" lang="hu-HU" sz="2200" spc="-1" strike="noStrike">
                <a:solidFill>
                  <a:srgbClr val="ff0000"/>
                </a:solidFill>
                <a:latin typeface="Arial"/>
              </a:rPr>
              <a:t>ő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dás-vázl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040" y="540396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30600" y="1442880"/>
            <a:ext cx="4995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A juhtenyésztés gazdasági jelentősé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44600" y="1735200"/>
            <a:ext cx="3597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nemzetgazdasági jelentősé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6440" y="2027160"/>
            <a:ext cx="2904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xport, belső fogyaszt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56440" y="2319480"/>
            <a:ext cx="355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erületi, szektorális megoszl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44960" y="2611440"/>
            <a:ext cx="4248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vállalatgazdasági előnyei, hátrány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32400" y="2903400"/>
            <a:ext cx="365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Berendezkedés az ágazat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50000" y="3195720"/>
            <a:ext cx="721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Föl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41000" y="3487680"/>
            <a:ext cx="4447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Befektetett eszközigény, beruház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46760" y="3780000"/>
            <a:ext cx="196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unkaerő igé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27360" y="4071960"/>
            <a:ext cx="650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Termelési érték az ágazatban, árbevétel kalkuláció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9360" y="4343400"/>
            <a:ext cx="2827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 A termelés költség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09360" y="4724280"/>
            <a:ext cx="311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Fejlesztési lehetőség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83280" y="1407960"/>
            <a:ext cx="385920" cy="150840"/>
          </a:xfrm>
          <a:custGeom>
            <a:avLst/>
            <a:gdLst/>
            <a:ahLst/>
            <a:rect l="l" t="t" r="r" b="b"/>
            <a:pathLst>
              <a:path w="731" h="379">
                <a:moveTo>
                  <a:pt x="0" y="32"/>
                </a:moveTo>
                <a:lnTo>
                  <a:pt x="33" y="85"/>
                </a:lnTo>
                <a:lnTo>
                  <a:pt x="108" y="209"/>
                </a:lnTo>
                <a:lnTo>
                  <a:pt x="191" y="302"/>
                </a:lnTo>
                <a:lnTo>
                  <a:pt x="282" y="340"/>
                </a:lnTo>
                <a:lnTo>
                  <a:pt x="710" y="379"/>
                </a:lnTo>
                <a:lnTo>
                  <a:pt x="731" y="317"/>
                </a:lnTo>
                <a:lnTo>
                  <a:pt x="706" y="317"/>
                </a:lnTo>
                <a:lnTo>
                  <a:pt x="672" y="302"/>
                </a:lnTo>
                <a:lnTo>
                  <a:pt x="631" y="255"/>
                </a:lnTo>
                <a:lnTo>
                  <a:pt x="591" y="197"/>
                </a:lnTo>
                <a:lnTo>
                  <a:pt x="568" y="144"/>
                </a:lnTo>
                <a:lnTo>
                  <a:pt x="557" y="101"/>
                </a:lnTo>
                <a:lnTo>
                  <a:pt x="549" y="73"/>
                </a:lnTo>
                <a:lnTo>
                  <a:pt x="539" y="97"/>
                </a:lnTo>
                <a:lnTo>
                  <a:pt x="530" y="116"/>
                </a:lnTo>
                <a:lnTo>
                  <a:pt x="541" y="140"/>
                </a:lnTo>
                <a:lnTo>
                  <a:pt x="541" y="162"/>
                </a:lnTo>
                <a:lnTo>
                  <a:pt x="537" y="170"/>
                </a:lnTo>
                <a:lnTo>
                  <a:pt x="520" y="190"/>
                </a:lnTo>
                <a:lnTo>
                  <a:pt x="499" y="178"/>
                </a:lnTo>
                <a:lnTo>
                  <a:pt x="481" y="132"/>
                </a:lnTo>
                <a:lnTo>
                  <a:pt x="478" y="54"/>
                </a:lnTo>
                <a:lnTo>
                  <a:pt x="494" y="0"/>
                </a:lnTo>
                <a:lnTo>
                  <a:pt x="481" y="32"/>
                </a:lnTo>
                <a:lnTo>
                  <a:pt x="4" y="32"/>
                </a:lnTo>
                <a:lnTo>
                  <a:pt x="0" y="32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21400" y="1460520"/>
            <a:ext cx="168480" cy="104760"/>
          </a:xfrm>
          <a:custGeom>
            <a:avLst/>
            <a:gdLst/>
            <a:ahLst/>
            <a:rect l="l" t="t" r="r" b="b"/>
            <a:pathLst>
              <a:path w="319" h="263">
                <a:moveTo>
                  <a:pt x="4" y="248"/>
                </a:moveTo>
                <a:lnTo>
                  <a:pt x="37" y="171"/>
                </a:lnTo>
                <a:lnTo>
                  <a:pt x="69" y="108"/>
                </a:lnTo>
                <a:lnTo>
                  <a:pt x="119" y="31"/>
                </a:lnTo>
                <a:lnTo>
                  <a:pt x="136" y="0"/>
                </a:lnTo>
                <a:lnTo>
                  <a:pt x="203" y="47"/>
                </a:lnTo>
                <a:lnTo>
                  <a:pt x="244" y="139"/>
                </a:lnTo>
                <a:lnTo>
                  <a:pt x="261" y="185"/>
                </a:lnTo>
                <a:lnTo>
                  <a:pt x="294" y="232"/>
                </a:lnTo>
                <a:lnTo>
                  <a:pt x="319" y="263"/>
                </a:lnTo>
                <a:lnTo>
                  <a:pt x="0" y="263"/>
                </a:lnTo>
                <a:lnTo>
                  <a:pt x="4" y="248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400880" y="1111320"/>
            <a:ext cx="85680" cy="325440"/>
          </a:xfrm>
          <a:custGeom>
            <a:avLst/>
            <a:gdLst/>
            <a:ahLst/>
            <a:rect l="l" t="t" r="r" b="b"/>
            <a:pathLst>
              <a:path w="163" h="819">
                <a:moveTo>
                  <a:pt x="66" y="804"/>
                </a:moveTo>
                <a:lnTo>
                  <a:pt x="53" y="758"/>
                </a:lnTo>
                <a:lnTo>
                  <a:pt x="45" y="719"/>
                </a:lnTo>
                <a:lnTo>
                  <a:pt x="34" y="677"/>
                </a:lnTo>
                <a:lnTo>
                  <a:pt x="22" y="619"/>
                </a:lnTo>
                <a:lnTo>
                  <a:pt x="0" y="581"/>
                </a:lnTo>
                <a:lnTo>
                  <a:pt x="17" y="542"/>
                </a:lnTo>
                <a:lnTo>
                  <a:pt x="66" y="386"/>
                </a:lnTo>
                <a:lnTo>
                  <a:pt x="8" y="371"/>
                </a:lnTo>
                <a:lnTo>
                  <a:pt x="33" y="232"/>
                </a:lnTo>
                <a:lnTo>
                  <a:pt x="66" y="124"/>
                </a:lnTo>
                <a:lnTo>
                  <a:pt x="82" y="63"/>
                </a:lnTo>
                <a:lnTo>
                  <a:pt x="100" y="16"/>
                </a:lnTo>
                <a:lnTo>
                  <a:pt x="107" y="0"/>
                </a:lnTo>
                <a:lnTo>
                  <a:pt x="117" y="31"/>
                </a:lnTo>
                <a:lnTo>
                  <a:pt x="124" y="78"/>
                </a:lnTo>
                <a:lnTo>
                  <a:pt x="143" y="121"/>
                </a:lnTo>
                <a:lnTo>
                  <a:pt x="157" y="155"/>
                </a:lnTo>
                <a:lnTo>
                  <a:pt x="163" y="187"/>
                </a:lnTo>
                <a:lnTo>
                  <a:pt x="147" y="234"/>
                </a:lnTo>
                <a:lnTo>
                  <a:pt x="143" y="275"/>
                </a:lnTo>
                <a:lnTo>
                  <a:pt x="145" y="309"/>
                </a:lnTo>
                <a:lnTo>
                  <a:pt x="145" y="334"/>
                </a:lnTo>
                <a:lnTo>
                  <a:pt x="149" y="364"/>
                </a:lnTo>
                <a:lnTo>
                  <a:pt x="149" y="386"/>
                </a:lnTo>
                <a:lnTo>
                  <a:pt x="149" y="418"/>
                </a:lnTo>
                <a:lnTo>
                  <a:pt x="111" y="804"/>
                </a:lnTo>
                <a:lnTo>
                  <a:pt x="93" y="774"/>
                </a:lnTo>
                <a:lnTo>
                  <a:pt x="66" y="81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35800" y="143028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72440" y="1098720"/>
            <a:ext cx="81000" cy="239400"/>
          </a:xfrm>
          <a:custGeom>
            <a:avLst/>
            <a:gdLst/>
            <a:ahLst/>
            <a:rect l="l" t="t" r="r" b="b"/>
            <a:pathLst>
              <a:path w="154" h="603">
                <a:moveTo>
                  <a:pt x="154" y="0"/>
                </a:moveTo>
                <a:lnTo>
                  <a:pt x="104" y="140"/>
                </a:lnTo>
                <a:lnTo>
                  <a:pt x="21" y="418"/>
                </a:lnTo>
                <a:lnTo>
                  <a:pt x="96" y="433"/>
                </a:lnTo>
                <a:lnTo>
                  <a:pt x="46" y="603"/>
                </a:lnTo>
                <a:lnTo>
                  <a:pt x="17" y="557"/>
                </a:lnTo>
                <a:lnTo>
                  <a:pt x="8" y="542"/>
                </a:lnTo>
                <a:lnTo>
                  <a:pt x="0" y="506"/>
                </a:lnTo>
                <a:lnTo>
                  <a:pt x="2" y="483"/>
                </a:lnTo>
                <a:lnTo>
                  <a:pt x="8" y="23"/>
                </a:lnTo>
                <a:lnTo>
                  <a:pt x="29" y="51"/>
                </a:lnTo>
                <a:lnTo>
                  <a:pt x="46" y="47"/>
                </a:lnTo>
                <a:lnTo>
                  <a:pt x="96" y="16"/>
                </a:lnTo>
                <a:lnTo>
                  <a:pt x="121" y="0"/>
                </a:lnTo>
                <a:lnTo>
                  <a:pt x="146" y="0"/>
                </a:lnTo>
                <a:lnTo>
                  <a:pt x="154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80440" y="1270080"/>
            <a:ext cx="236520" cy="171360"/>
          </a:xfrm>
          <a:custGeom>
            <a:avLst/>
            <a:gdLst/>
            <a:ahLst/>
            <a:rect l="l" t="t" r="r" b="b"/>
            <a:pathLst>
              <a:path w="448" h="433">
                <a:moveTo>
                  <a:pt x="24" y="62"/>
                </a:moveTo>
                <a:lnTo>
                  <a:pt x="7" y="171"/>
                </a:lnTo>
                <a:lnTo>
                  <a:pt x="5" y="248"/>
                </a:lnTo>
                <a:lnTo>
                  <a:pt x="7" y="164"/>
                </a:lnTo>
                <a:lnTo>
                  <a:pt x="50" y="155"/>
                </a:lnTo>
                <a:lnTo>
                  <a:pt x="57" y="232"/>
                </a:lnTo>
                <a:lnTo>
                  <a:pt x="7" y="251"/>
                </a:lnTo>
                <a:lnTo>
                  <a:pt x="0" y="387"/>
                </a:lnTo>
                <a:lnTo>
                  <a:pt x="153" y="310"/>
                </a:lnTo>
                <a:lnTo>
                  <a:pt x="161" y="233"/>
                </a:lnTo>
                <a:lnTo>
                  <a:pt x="107" y="218"/>
                </a:lnTo>
                <a:lnTo>
                  <a:pt x="132" y="144"/>
                </a:lnTo>
                <a:lnTo>
                  <a:pt x="182" y="155"/>
                </a:lnTo>
                <a:lnTo>
                  <a:pt x="157" y="248"/>
                </a:lnTo>
                <a:lnTo>
                  <a:pt x="157" y="310"/>
                </a:lnTo>
                <a:lnTo>
                  <a:pt x="174" y="372"/>
                </a:lnTo>
                <a:lnTo>
                  <a:pt x="227" y="336"/>
                </a:lnTo>
                <a:lnTo>
                  <a:pt x="215" y="279"/>
                </a:lnTo>
                <a:lnTo>
                  <a:pt x="257" y="201"/>
                </a:lnTo>
                <a:lnTo>
                  <a:pt x="274" y="279"/>
                </a:lnTo>
                <a:lnTo>
                  <a:pt x="224" y="340"/>
                </a:lnTo>
                <a:lnTo>
                  <a:pt x="230" y="336"/>
                </a:lnTo>
                <a:lnTo>
                  <a:pt x="273" y="283"/>
                </a:lnTo>
                <a:lnTo>
                  <a:pt x="281" y="325"/>
                </a:lnTo>
                <a:lnTo>
                  <a:pt x="315" y="372"/>
                </a:lnTo>
                <a:lnTo>
                  <a:pt x="365" y="417"/>
                </a:lnTo>
                <a:lnTo>
                  <a:pt x="389" y="433"/>
                </a:lnTo>
                <a:lnTo>
                  <a:pt x="410" y="364"/>
                </a:lnTo>
                <a:lnTo>
                  <a:pt x="365" y="325"/>
                </a:lnTo>
                <a:lnTo>
                  <a:pt x="389" y="248"/>
                </a:lnTo>
                <a:lnTo>
                  <a:pt x="439" y="271"/>
                </a:lnTo>
                <a:lnTo>
                  <a:pt x="407" y="372"/>
                </a:lnTo>
                <a:lnTo>
                  <a:pt x="407" y="387"/>
                </a:lnTo>
                <a:lnTo>
                  <a:pt x="439" y="293"/>
                </a:lnTo>
                <a:lnTo>
                  <a:pt x="448" y="218"/>
                </a:lnTo>
                <a:lnTo>
                  <a:pt x="448" y="171"/>
                </a:lnTo>
                <a:lnTo>
                  <a:pt x="414" y="171"/>
                </a:lnTo>
                <a:lnTo>
                  <a:pt x="407" y="78"/>
                </a:lnTo>
                <a:lnTo>
                  <a:pt x="439" y="62"/>
                </a:lnTo>
                <a:lnTo>
                  <a:pt x="439" y="171"/>
                </a:lnTo>
                <a:lnTo>
                  <a:pt x="448" y="171"/>
                </a:lnTo>
                <a:lnTo>
                  <a:pt x="431" y="0"/>
                </a:lnTo>
                <a:lnTo>
                  <a:pt x="414" y="17"/>
                </a:lnTo>
                <a:lnTo>
                  <a:pt x="389" y="62"/>
                </a:lnTo>
                <a:lnTo>
                  <a:pt x="365" y="92"/>
                </a:lnTo>
                <a:lnTo>
                  <a:pt x="373" y="171"/>
                </a:lnTo>
                <a:lnTo>
                  <a:pt x="315" y="232"/>
                </a:lnTo>
                <a:lnTo>
                  <a:pt x="299" y="139"/>
                </a:lnTo>
                <a:lnTo>
                  <a:pt x="357" y="92"/>
                </a:lnTo>
                <a:lnTo>
                  <a:pt x="340" y="92"/>
                </a:lnTo>
                <a:lnTo>
                  <a:pt x="307" y="124"/>
                </a:lnTo>
                <a:lnTo>
                  <a:pt x="281" y="139"/>
                </a:lnTo>
                <a:lnTo>
                  <a:pt x="261" y="147"/>
                </a:lnTo>
                <a:lnTo>
                  <a:pt x="227" y="139"/>
                </a:lnTo>
                <a:lnTo>
                  <a:pt x="190" y="155"/>
                </a:lnTo>
                <a:lnTo>
                  <a:pt x="157" y="237"/>
                </a:lnTo>
                <a:lnTo>
                  <a:pt x="107" y="218"/>
                </a:lnTo>
                <a:lnTo>
                  <a:pt x="130" y="139"/>
                </a:lnTo>
                <a:lnTo>
                  <a:pt x="174" y="155"/>
                </a:lnTo>
                <a:lnTo>
                  <a:pt x="172" y="159"/>
                </a:lnTo>
                <a:lnTo>
                  <a:pt x="157" y="151"/>
                </a:lnTo>
                <a:lnTo>
                  <a:pt x="140" y="139"/>
                </a:lnTo>
                <a:lnTo>
                  <a:pt x="124" y="139"/>
                </a:lnTo>
                <a:lnTo>
                  <a:pt x="82" y="108"/>
                </a:lnTo>
                <a:lnTo>
                  <a:pt x="55" y="90"/>
                </a:lnTo>
                <a:lnTo>
                  <a:pt x="33" y="62"/>
                </a:lnTo>
                <a:lnTo>
                  <a:pt x="24" y="62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16960" y="1065240"/>
            <a:ext cx="193680" cy="487440"/>
          </a:xfrm>
          <a:custGeom>
            <a:avLst/>
            <a:gdLst/>
            <a:ahLst/>
            <a:rect l="l" t="t" r="r" b="b"/>
            <a:pathLst>
              <a:path w="365" h="1229">
                <a:moveTo>
                  <a:pt x="3" y="1222"/>
                </a:moveTo>
                <a:lnTo>
                  <a:pt x="11" y="1182"/>
                </a:lnTo>
                <a:lnTo>
                  <a:pt x="26" y="1105"/>
                </a:lnTo>
                <a:lnTo>
                  <a:pt x="40" y="1013"/>
                </a:lnTo>
                <a:lnTo>
                  <a:pt x="48" y="934"/>
                </a:lnTo>
                <a:lnTo>
                  <a:pt x="65" y="827"/>
                </a:lnTo>
                <a:lnTo>
                  <a:pt x="82" y="735"/>
                </a:lnTo>
                <a:lnTo>
                  <a:pt x="98" y="658"/>
                </a:lnTo>
                <a:lnTo>
                  <a:pt x="115" y="534"/>
                </a:lnTo>
                <a:lnTo>
                  <a:pt x="123" y="473"/>
                </a:lnTo>
                <a:lnTo>
                  <a:pt x="132" y="380"/>
                </a:lnTo>
                <a:lnTo>
                  <a:pt x="132" y="317"/>
                </a:lnTo>
                <a:lnTo>
                  <a:pt x="140" y="225"/>
                </a:lnTo>
                <a:lnTo>
                  <a:pt x="140" y="148"/>
                </a:lnTo>
                <a:lnTo>
                  <a:pt x="157" y="102"/>
                </a:lnTo>
                <a:lnTo>
                  <a:pt x="157" y="55"/>
                </a:lnTo>
                <a:lnTo>
                  <a:pt x="173" y="9"/>
                </a:lnTo>
                <a:lnTo>
                  <a:pt x="178" y="0"/>
                </a:lnTo>
                <a:lnTo>
                  <a:pt x="365" y="503"/>
                </a:lnTo>
                <a:lnTo>
                  <a:pt x="248" y="550"/>
                </a:lnTo>
                <a:lnTo>
                  <a:pt x="348" y="704"/>
                </a:lnTo>
                <a:lnTo>
                  <a:pt x="307" y="859"/>
                </a:lnTo>
                <a:lnTo>
                  <a:pt x="283" y="824"/>
                </a:lnTo>
                <a:lnTo>
                  <a:pt x="282" y="827"/>
                </a:lnTo>
                <a:lnTo>
                  <a:pt x="271" y="800"/>
                </a:lnTo>
                <a:lnTo>
                  <a:pt x="253" y="774"/>
                </a:lnTo>
                <a:lnTo>
                  <a:pt x="282" y="782"/>
                </a:lnTo>
                <a:lnTo>
                  <a:pt x="282" y="751"/>
                </a:lnTo>
                <a:lnTo>
                  <a:pt x="257" y="719"/>
                </a:lnTo>
                <a:lnTo>
                  <a:pt x="265" y="704"/>
                </a:lnTo>
                <a:lnTo>
                  <a:pt x="265" y="688"/>
                </a:lnTo>
                <a:lnTo>
                  <a:pt x="248" y="688"/>
                </a:lnTo>
                <a:lnTo>
                  <a:pt x="239" y="704"/>
                </a:lnTo>
                <a:lnTo>
                  <a:pt x="231" y="704"/>
                </a:lnTo>
                <a:lnTo>
                  <a:pt x="231" y="688"/>
                </a:lnTo>
                <a:lnTo>
                  <a:pt x="202" y="711"/>
                </a:lnTo>
                <a:lnTo>
                  <a:pt x="185" y="672"/>
                </a:lnTo>
                <a:lnTo>
                  <a:pt x="157" y="672"/>
                </a:lnTo>
                <a:lnTo>
                  <a:pt x="157" y="704"/>
                </a:lnTo>
                <a:lnTo>
                  <a:pt x="123" y="719"/>
                </a:lnTo>
                <a:lnTo>
                  <a:pt x="148" y="766"/>
                </a:lnTo>
                <a:lnTo>
                  <a:pt x="111" y="804"/>
                </a:lnTo>
                <a:lnTo>
                  <a:pt x="103" y="842"/>
                </a:lnTo>
                <a:lnTo>
                  <a:pt x="132" y="861"/>
                </a:lnTo>
                <a:lnTo>
                  <a:pt x="126" y="901"/>
                </a:lnTo>
                <a:lnTo>
                  <a:pt x="148" y="908"/>
                </a:lnTo>
                <a:lnTo>
                  <a:pt x="169" y="885"/>
                </a:lnTo>
                <a:lnTo>
                  <a:pt x="196" y="865"/>
                </a:lnTo>
                <a:lnTo>
                  <a:pt x="213" y="897"/>
                </a:lnTo>
                <a:lnTo>
                  <a:pt x="231" y="854"/>
                </a:lnTo>
                <a:lnTo>
                  <a:pt x="257" y="865"/>
                </a:lnTo>
                <a:lnTo>
                  <a:pt x="279" y="813"/>
                </a:lnTo>
                <a:lnTo>
                  <a:pt x="307" y="859"/>
                </a:lnTo>
                <a:lnTo>
                  <a:pt x="207" y="1229"/>
                </a:lnTo>
                <a:lnTo>
                  <a:pt x="0" y="1229"/>
                </a:lnTo>
                <a:lnTo>
                  <a:pt x="3" y="1222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831080" y="1063800"/>
            <a:ext cx="312840" cy="490320"/>
          </a:xfrm>
          <a:custGeom>
            <a:avLst/>
            <a:gdLst/>
            <a:ahLst/>
            <a:rect l="l" t="t" r="r" b="b"/>
            <a:pathLst>
              <a:path w="590" h="1236">
                <a:moveTo>
                  <a:pt x="6" y="1236"/>
                </a:moveTo>
                <a:lnTo>
                  <a:pt x="158" y="702"/>
                </a:lnTo>
                <a:lnTo>
                  <a:pt x="65" y="568"/>
                </a:lnTo>
                <a:lnTo>
                  <a:pt x="174" y="525"/>
                </a:lnTo>
                <a:lnTo>
                  <a:pt x="0" y="0"/>
                </a:lnTo>
                <a:lnTo>
                  <a:pt x="42" y="0"/>
                </a:lnTo>
                <a:lnTo>
                  <a:pt x="67" y="30"/>
                </a:lnTo>
                <a:lnTo>
                  <a:pt x="124" y="77"/>
                </a:lnTo>
                <a:lnTo>
                  <a:pt x="166" y="123"/>
                </a:lnTo>
                <a:lnTo>
                  <a:pt x="199" y="170"/>
                </a:lnTo>
                <a:lnTo>
                  <a:pt x="242" y="138"/>
                </a:lnTo>
                <a:lnTo>
                  <a:pt x="274" y="123"/>
                </a:lnTo>
                <a:lnTo>
                  <a:pt x="299" y="108"/>
                </a:lnTo>
                <a:lnTo>
                  <a:pt x="357" y="123"/>
                </a:lnTo>
                <a:lnTo>
                  <a:pt x="399" y="170"/>
                </a:lnTo>
                <a:lnTo>
                  <a:pt x="449" y="247"/>
                </a:lnTo>
                <a:lnTo>
                  <a:pt x="499" y="339"/>
                </a:lnTo>
                <a:lnTo>
                  <a:pt x="524" y="462"/>
                </a:lnTo>
                <a:lnTo>
                  <a:pt x="549" y="602"/>
                </a:lnTo>
                <a:lnTo>
                  <a:pt x="564" y="694"/>
                </a:lnTo>
                <a:lnTo>
                  <a:pt x="585" y="834"/>
                </a:lnTo>
                <a:lnTo>
                  <a:pt x="590" y="972"/>
                </a:lnTo>
                <a:lnTo>
                  <a:pt x="590" y="1065"/>
                </a:lnTo>
                <a:lnTo>
                  <a:pt x="589" y="1230"/>
                </a:lnTo>
                <a:lnTo>
                  <a:pt x="17" y="1230"/>
                </a:lnTo>
                <a:lnTo>
                  <a:pt x="6" y="1236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751880" y="841320"/>
            <a:ext cx="137880" cy="185760"/>
          </a:xfrm>
          <a:custGeom>
            <a:avLst/>
            <a:gdLst/>
            <a:ahLst/>
            <a:rect l="l" t="t" r="r" b="b"/>
            <a:pathLst>
              <a:path w="259" h="468">
                <a:moveTo>
                  <a:pt x="249" y="186"/>
                </a:moveTo>
                <a:lnTo>
                  <a:pt x="259" y="147"/>
                </a:lnTo>
                <a:lnTo>
                  <a:pt x="257" y="109"/>
                </a:lnTo>
                <a:lnTo>
                  <a:pt x="247" y="81"/>
                </a:lnTo>
                <a:lnTo>
                  <a:pt x="232" y="77"/>
                </a:lnTo>
                <a:lnTo>
                  <a:pt x="222" y="70"/>
                </a:lnTo>
                <a:lnTo>
                  <a:pt x="224" y="44"/>
                </a:lnTo>
                <a:lnTo>
                  <a:pt x="207" y="16"/>
                </a:lnTo>
                <a:lnTo>
                  <a:pt x="191" y="0"/>
                </a:lnTo>
                <a:lnTo>
                  <a:pt x="166" y="0"/>
                </a:lnTo>
                <a:lnTo>
                  <a:pt x="141" y="0"/>
                </a:lnTo>
                <a:lnTo>
                  <a:pt x="107" y="16"/>
                </a:lnTo>
                <a:lnTo>
                  <a:pt x="82" y="46"/>
                </a:lnTo>
                <a:lnTo>
                  <a:pt x="66" y="77"/>
                </a:lnTo>
                <a:lnTo>
                  <a:pt x="66" y="109"/>
                </a:lnTo>
                <a:lnTo>
                  <a:pt x="49" y="124"/>
                </a:lnTo>
                <a:lnTo>
                  <a:pt x="24" y="154"/>
                </a:lnTo>
                <a:lnTo>
                  <a:pt x="7" y="194"/>
                </a:lnTo>
                <a:lnTo>
                  <a:pt x="0" y="233"/>
                </a:lnTo>
                <a:lnTo>
                  <a:pt x="0" y="263"/>
                </a:lnTo>
                <a:lnTo>
                  <a:pt x="22" y="290"/>
                </a:lnTo>
                <a:lnTo>
                  <a:pt x="39" y="294"/>
                </a:lnTo>
                <a:lnTo>
                  <a:pt x="32" y="340"/>
                </a:lnTo>
                <a:lnTo>
                  <a:pt x="32" y="371"/>
                </a:lnTo>
                <a:lnTo>
                  <a:pt x="32" y="402"/>
                </a:lnTo>
                <a:lnTo>
                  <a:pt x="41" y="432"/>
                </a:lnTo>
                <a:lnTo>
                  <a:pt x="58" y="448"/>
                </a:lnTo>
                <a:lnTo>
                  <a:pt x="75" y="464"/>
                </a:lnTo>
                <a:lnTo>
                  <a:pt x="93" y="468"/>
                </a:lnTo>
                <a:lnTo>
                  <a:pt x="107" y="464"/>
                </a:lnTo>
                <a:lnTo>
                  <a:pt x="128" y="402"/>
                </a:lnTo>
                <a:lnTo>
                  <a:pt x="132" y="371"/>
                </a:lnTo>
                <a:lnTo>
                  <a:pt x="141" y="325"/>
                </a:lnTo>
                <a:lnTo>
                  <a:pt x="147" y="306"/>
                </a:lnTo>
                <a:lnTo>
                  <a:pt x="166" y="263"/>
                </a:lnTo>
                <a:lnTo>
                  <a:pt x="182" y="233"/>
                </a:lnTo>
                <a:lnTo>
                  <a:pt x="193" y="213"/>
                </a:lnTo>
                <a:lnTo>
                  <a:pt x="207" y="201"/>
                </a:lnTo>
                <a:lnTo>
                  <a:pt x="218" y="198"/>
                </a:lnTo>
                <a:lnTo>
                  <a:pt x="241" y="186"/>
                </a:lnTo>
                <a:lnTo>
                  <a:pt x="249" y="186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07160" y="824040"/>
            <a:ext cx="106560" cy="56880"/>
          </a:xfrm>
          <a:custGeom>
            <a:avLst/>
            <a:gdLst/>
            <a:ahLst/>
            <a:rect l="l" t="t" r="r" b="b"/>
            <a:pathLst>
              <a:path w="200" h="142">
                <a:moveTo>
                  <a:pt x="196" y="123"/>
                </a:moveTo>
                <a:lnTo>
                  <a:pt x="200" y="84"/>
                </a:lnTo>
                <a:lnTo>
                  <a:pt x="190" y="61"/>
                </a:lnTo>
                <a:lnTo>
                  <a:pt x="173" y="42"/>
                </a:lnTo>
                <a:lnTo>
                  <a:pt x="142" y="34"/>
                </a:lnTo>
                <a:lnTo>
                  <a:pt x="138" y="7"/>
                </a:lnTo>
                <a:lnTo>
                  <a:pt x="109" y="0"/>
                </a:lnTo>
                <a:lnTo>
                  <a:pt x="83" y="14"/>
                </a:lnTo>
                <a:lnTo>
                  <a:pt x="65" y="14"/>
                </a:lnTo>
                <a:lnTo>
                  <a:pt x="40" y="30"/>
                </a:lnTo>
                <a:lnTo>
                  <a:pt x="30" y="69"/>
                </a:lnTo>
                <a:lnTo>
                  <a:pt x="7" y="93"/>
                </a:lnTo>
                <a:lnTo>
                  <a:pt x="0" y="127"/>
                </a:lnTo>
                <a:lnTo>
                  <a:pt x="19" y="142"/>
                </a:lnTo>
                <a:lnTo>
                  <a:pt x="45" y="131"/>
                </a:lnTo>
                <a:lnTo>
                  <a:pt x="69" y="119"/>
                </a:lnTo>
                <a:lnTo>
                  <a:pt x="109" y="115"/>
                </a:lnTo>
                <a:lnTo>
                  <a:pt x="165" y="138"/>
                </a:lnTo>
                <a:lnTo>
                  <a:pt x="196" y="123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461360" y="1038240"/>
            <a:ext cx="290520" cy="101520"/>
          </a:xfrm>
          <a:custGeom>
            <a:avLst/>
            <a:gdLst/>
            <a:ahLst/>
            <a:rect l="l" t="t" r="r" b="b"/>
            <a:pathLst>
              <a:path w="549" h="258">
                <a:moveTo>
                  <a:pt x="150" y="77"/>
                </a:moveTo>
                <a:lnTo>
                  <a:pt x="117" y="85"/>
                </a:lnTo>
                <a:lnTo>
                  <a:pt x="96" y="128"/>
                </a:lnTo>
                <a:lnTo>
                  <a:pt x="75" y="123"/>
                </a:lnTo>
                <a:lnTo>
                  <a:pt x="59" y="138"/>
                </a:lnTo>
                <a:lnTo>
                  <a:pt x="43" y="154"/>
                </a:lnTo>
                <a:lnTo>
                  <a:pt x="27" y="177"/>
                </a:lnTo>
                <a:lnTo>
                  <a:pt x="18" y="201"/>
                </a:lnTo>
                <a:lnTo>
                  <a:pt x="1" y="213"/>
                </a:lnTo>
                <a:lnTo>
                  <a:pt x="0" y="227"/>
                </a:lnTo>
                <a:lnTo>
                  <a:pt x="10" y="247"/>
                </a:lnTo>
                <a:lnTo>
                  <a:pt x="43" y="247"/>
                </a:lnTo>
                <a:lnTo>
                  <a:pt x="80" y="236"/>
                </a:lnTo>
                <a:lnTo>
                  <a:pt x="96" y="258"/>
                </a:lnTo>
                <a:lnTo>
                  <a:pt x="161" y="254"/>
                </a:lnTo>
                <a:lnTo>
                  <a:pt x="192" y="247"/>
                </a:lnTo>
                <a:lnTo>
                  <a:pt x="234" y="231"/>
                </a:lnTo>
                <a:lnTo>
                  <a:pt x="259" y="201"/>
                </a:lnTo>
                <a:lnTo>
                  <a:pt x="275" y="217"/>
                </a:lnTo>
                <a:lnTo>
                  <a:pt x="292" y="231"/>
                </a:lnTo>
                <a:lnTo>
                  <a:pt x="309" y="231"/>
                </a:lnTo>
                <a:lnTo>
                  <a:pt x="334" y="217"/>
                </a:lnTo>
                <a:lnTo>
                  <a:pt x="342" y="231"/>
                </a:lnTo>
                <a:lnTo>
                  <a:pt x="375" y="231"/>
                </a:lnTo>
                <a:lnTo>
                  <a:pt x="433" y="231"/>
                </a:lnTo>
                <a:lnTo>
                  <a:pt x="466" y="217"/>
                </a:lnTo>
                <a:lnTo>
                  <a:pt x="474" y="201"/>
                </a:lnTo>
                <a:lnTo>
                  <a:pt x="491" y="170"/>
                </a:lnTo>
                <a:lnTo>
                  <a:pt x="507" y="184"/>
                </a:lnTo>
                <a:lnTo>
                  <a:pt x="541" y="138"/>
                </a:lnTo>
                <a:lnTo>
                  <a:pt x="549" y="91"/>
                </a:lnTo>
                <a:lnTo>
                  <a:pt x="532" y="61"/>
                </a:lnTo>
                <a:lnTo>
                  <a:pt x="532" y="77"/>
                </a:lnTo>
                <a:lnTo>
                  <a:pt x="532" y="30"/>
                </a:lnTo>
                <a:lnTo>
                  <a:pt x="516" y="0"/>
                </a:lnTo>
                <a:lnTo>
                  <a:pt x="499" y="0"/>
                </a:lnTo>
                <a:lnTo>
                  <a:pt x="466" y="30"/>
                </a:lnTo>
                <a:lnTo>
                  <a:pt x="442" y="30"/>
                </a:lnTo>
                <a:lnTo>
                  <a:pt x="416" y="46"/>
                </a:lnTo>
                <a:lnTo>
                  <a:pt x="400" y="30"/>
                </a:lnTo>
                <a:lnTo>
                  <a:pt x="384" y="30"/>
                </a:lnTo>
                <a:lnTo>
                  <a:pt x="384" y="46"/>
                </a:lnTo>
                <a:lnTo>
                  <a:pt x="367" y="77"/>
                </a:lnTo>
                <a:lnTo>
                  <a:pt x="342" y="108"/>
                </a:lnTo>
                <a:lnTo>
                  <a:pt x="317" y="123"/>
                </a:lnTo>
                <a:lnTo>
                  <a:pt x="309" y="108"/>
                </a:lnTo>
                <a:lnTo>
                  <a:pt x="292" y="77"/>
                </a:lnTo>
                <a:lnTo>
                  <a:pt x="275" y="91"/>
                </a:lnTo>
                <a:lnTo>
                  <a:pt x="259" y="108"/>
                </a:lnTo>
                <a:lnTo>
                  <a:pt x="225" y="138"/>
                </a:lnTo>
                <a:lnTo>
                  <a:pt x="192" y="154"/>
                </a:lnTo>
                <a:lnTo>
                  <a:pt x="175" y="138"/>
                </a:lnTo>
                <a:lnTo>
                  <a:pt x="167" y="91"/>
                </a:lnTo>
                <a:lnTo>
                  <a:pt x="150" y="77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34040" y="934920"/>
            <a:ext cx="32040" cy="20880"/>
          </a:xfrm>
          <a:custGeom>
            <a:avLst/>
            <a:gdLst/>
            <a:ahLst/>
            <a:rect l="l" t="t" r="r" b="b"/>
            <a:pathLst>
              <a:path w="59" h="50">
                <a:moveTo>
                  <a:pt x="53" y="50"/>
                </a:moveTo>
                <a:lnTo>
                  <a:pt x="59" y="12"/>
                </a:lnTo>
                <a:lnTo>
                  <a:pt x="49" y="0"/>
                </a:lnTo>
                <a:lnTo>
                  <a:pt x="29" y="3"/>
                </a:lnTo>
                <a:lnTo>
                  <a:pt x="0" y="4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39000" y="927000"/>
            <a:ext cx="69840" cy="73080"/>
          </a:xfrm>
          <a:custGeom>
            <a:avLst/>
            <a:gdLst/>
            <a:ahLst/>
            <a:rect l="l" t="t" r="r" b="b"/>
            <a:pathLst>
              <a:path w="133" h="185">
                <a:moveTo>
                  <a:pt x="133" y="78"/>
                </a:moveTo>
                <a:lnTo>
                  <a:pt x="116" y="15"/>
                </a:lnTo>
                <a:lnTo>
                  <a:pt x="83" y="0"/>
                </a:lnTo>
                <a:lnTo>
                  <a:pt x="45" y="5"/>
                </a:lnTo>
                <a:lnTo>
                  <a:pt x="16" y="31"/>
                </a:lnTo>
                <a:lnTo>
                  <a:pt x="9" y="78"/>
                </a:lnTo>
                <a:lnTo>
                  <a:pt x="0" y="108"/>
                </a:lnTo>
                <a:lnTo>
                  <a:pt x="0" y="154"/>
                </a:lnTo>
                <a:lnTo>
                  <a:pt x="0" y="185"/>
                </a:lnTo>
                <a:lnTo>
                  <a:pt x="25" y="185"/>
                </a:lnTo>
                <a:lnTo>
                  <a:pt x="41" y="169"/>
                </a:lnTo>
                <a:lnTo>
                  <a:pt x="58" y="139"/>
                </a:lnTo>
                <a:lnTo>
                  <a:pt x="58" y="108"/>
                </a:lnTo>
                <a:lnTo>
                  <a:pt x="66" y="78"/>
                </a:lnTo>
                <a:lnTo>
                  <a:pt x="100" y="78"/>
                </a:lnTo>
                <a:lnTo>
                  <a:pt x="116" y="7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43680" y="976320"/>
            <a:ext cx="7920" cy="23760"/>
          </a:xfrm>
          <a:custGeom>
            <a:avLst/>
            <a:gdLst/>
            <a:ahLst/>
            <a:rect l="l" t="t" r="r" b="b"/>
            <a:pathLst>
              <a:path w="17" h="57">
                <a:moveTo>
                  <a:pt x="15" y="57"/>
                </a:moveTo>
                <a:lnTo>
                  <a:pt x="17" y="46"/>
                </a:lnTo>
                <a:lnTo>
                  <a:pt x="17" y="16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94360" y="923760"/>
            <a:ext cx="59040" cy="103320"/>
          </a:xfrm>
          <a:custGeom>
            <a:avLst/>
            <a:gdLst/>
            <a:ahLst/>
            <a:rect l="l" t="t" r="r" b="b"/>
            <a:pathLst>
              <a:path w="109" h="259">
                <a:moveTo>
                  <a:pt x="109" y="22"/>
                </a:moveTo>
                <a:lnTo>
                  <a:pt x="75" y="0"/>
                </a:lnTo>
                <a:lnTo>
                  <a:pt x="42" y="7"/>
                </a:lnTo>
                <a:lnTo>
                  <a:pt x="23" y="62"/>
                </a:lnTo>
                <a:lnTo>
                  <a:pt x="10" y="101"/>
                </a:lnTo>
                <a:lnTo>
                  <a:pt x="3" y="158"/>
                </a:lnTo>
                <a:lnTo>
                  <a:pt x="0" y="217"/>
                </a:lnTo>
                <a:lnTo>
                  <a:pt x="10" y="259"/>
                </a:lnTo>
                <a:lnTo>
                  <a:pt x="44" y="255"/>
                </a:lnTo>
                <a:lnTo>
                  <a:pt x="63" y="186"/>
                </a:lnTo>
                <a:lnTo>
                  <a:pt x="84" y="14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900840" y="988920"/>
            <a:ext cx="12600" cy="34920"/>
          </a:xfrm>
          <a:custGeom>
            <a:avLst/>
            <a:gdLst/>
            <a:ahLst/>
            <a:rect l="l" t="t" r="r" b="b"/>
            <a:pathLst>
              <a:path w="24" h="89">
                <a:moveTo>
                  <a:pt x="11" y="89"/>
                </a:moveTo>
                <a:lnTo>
                  <a:pt x="24" y="30"/>
                </a:lnTo>
                <a:lnTo>
                  <a:pt x="24" y="16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69160" y="919080"/>
            <a:ext cx="38160" cy="82800"/>
          </a:xfrm>
          <a:custGeom>
            <a:avLst/>
            <a:gdLst/>
            <a:ahLst/>
            <a:rect l="l" t="t" r="r" b="b"/>
            <a:pathLst>
              <a:path w="72" h="209">
                <a:moveTo>
                  <a:pt x="72" y="38"/>
                </a:moveTo>
                <a:lnTo>
                  <a:pt x="56" y="6"/>
                </a:lnTo>
                <a:lnTo>
                  <a:pt x="33" y="0"/>
                </a:lnTo>
                <a:lnTo>
                  <a:pt x="14" y="22"/>
                </a:lnTo>
                <a:lnTo>
                  <a:pt x="6" y="69"/>
                </a:lnTo>
                <a:lnTo>
                  <a:pt x="0" y="128"/>
                </a:lnTo>
                <a:lnTo>
                  <a:pt x="6" y="173"/>
                </a:lnTo>
                <a:lnTo>
                  <a:pt x="16" y="209"/>
                </a:lnTo>
                <a:lnTo>
                  <a:pt x="39" y="20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875280" y="982800"/>
            <a:ext cx="1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11920" y="920880"/>
            <a:ext cx="61920" cy="50760"/>
          </a:xfrm>
          <a:custGeom>
            <a:avLst/>
            <a:gdLst/>
            <a:ahLst/>
            <a:rect l="l" t="t" r="r" b="b"/>
            <a:pathLst>
              <a:path w="119" h="128">
                <a:moveTo>
                  <a:pt x="119" y="39"/>
                </a:moveTo>
                <a:lnTo>
                  <a:pt x="83" y="43"/>
                </a:lnTo>
                <a:lnTo>
                  <a:pt x="50" y="35"/>
                </a:lnTo>
                <a:lnTo>
                  <a:pt x="34" y="19"/>
                </a:lnTo>
                <a:lnTo>
                  <a:pt x="11" y="0"/>
                </a:lnTo>
                <a:lnTo>
                  <a:pt x="0" y="4"/>
                </a:lnTo>
                <a:lnTo>
                  <a:pt x="0" y="35"/>
                </a:lnTo>
                <a:lnTo>
                  <a:pt x="9" y="81"/>
                </a:lnTo>
                <a:lnTo>
                  <a:pt x="34" y="112"/>
                </a:lnTo>
                <a:lnTo>
                  <a:pt x="59" y="128"/>
                </a:lnTo>
                <a:lnTo>
                  <a:pt x="92" y="1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16600" y="933480"/>
            <a:ext cx="17640" cy="1440"/>
          </a:xfrm>
          <a:custGeom>
            <a:avLst/>
            <a:gdLst/>
            <a:ahLst/>
            <a:rect l="l" t="t" r="r" b="b"/>
            <a:pathLst>
              <a:path w="32" h="0">
                <a:moveTo>
                  <a:pt x="32" y="0"/>
                </a:moveTo>
                <a:lnTo>
                  <a:pt x="15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973920" y="957240"/>
            <a:ext cx="39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77000" y="958680"/>
            <a:ext cx="459000" cy="459000"/>
          </a:xfrm>
          <a:custGeom>
            <a:avLst/>
            <a:gdLst/>
            <a:ahLst/>
            <a:rect l="l" t="t" r="r" b="b"/>
            <a:pathLst>
              <a:path w="868" h="1159">
                <a:moveTo>
                  <a:pt x="83" y="0"/>
                </a:moveTo>
                <a:lnTo>
                  <a:pt x="0" y="0"/>
                </a:lnTo>
                <a:lnTo>
                  <a:pt x="0" y="1159"/>
                </a:lnTo>
                <a:lnTo>
                  <a:pt x="868" y="115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94640" y="976320"/>
            <a:ext cx="450720" cy="425520"/>
          </a:xfrm>
          <a:custGeom>
            <a:avLst/>
            <a:gdLst/>
            <a:ahLst/>
            <a:rect l="l" t="t" r="r" b="b"/>
            <a:pathLst>
              <a:path w="851" h="1070">
                <a:moveTo>
                  <a:pt x="851" y="1070"/>
                </a:moveTo>
                <a:lnTo>
                  <a:pt x="0" y="1066"/>
                </a:lnTo>
                <a:lnTo>
                  <a:pt x="0" y="0"/>
                </a:lnTo>
                <a:lnTo>
                  <a:pt x="14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69240" y="976320"/>
            <a:ext cx="388800" cy="299880"/>
          </a:xfrm>
          <a:custGeom>
            <a:avLst/>
            <a:gdLst/>
            <a:ahLst/>
            <a:rect l="l" t="t" r="r" b="b"/>
            <a:pathLst>
              <a:path w="735" h="757">
                <a:moveTo>
                  <a:pt x="0" y="0"/>
                </a:moveTo>
                <a:lnTo>
                  <a:pt x="735" y="0"/>
                </a:lnTo>
                <a:lnTo>
                  <a:pt x="735" y="75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72440" y="958680"/>
            <a:ext cx="1440" cy="32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69120" y="1216080"/>
            <a:ext cx="166680" cy="214200"/>
          </a:xfrm>
          <a:custGeom>
            <a:avLst/>
            <a:gdLst/>
            <a:ahLst/>
            <a:rect l="l" t="t" r="r" b="b"/>
            <a:pathLst>
              <a:path w="315" h="540">
                <a:moveTo>
                  <a:pt x="315" y="540"/>
                </a:moveTo>
                <a:lnTo>
                  <a:pt x="291" y="448"/>
                </a:lnTo>
                <a:lnTo>
                  <a:pt x="274" y="356"/>
                </a:lnTo>
                <a:lnTo>
                  <a:pt x="216" y="262"/>
                </a:lnTo>
                <a:lnTo>
                  <a:pt x="182" y="201"/>
                </a:lnTo>
                <a:lnTo>
                  <a:pt x="166" y="155"/>
                </a:lnTo>
                <a:lnTo>
                  <a:pt x="124" y="108"/>
                </a:lnTo>
                <a:lnTo>
                  <a:pt x="82" y="45"/>
                </a:lnTo>
                <a:lnTo>
                  <a:pt x="59" y="15"/>
                </a:lnTo>
                <a:lnTo>
                  <a:pt x="32" y="0"/>
                </a:lnTo>
                <a:lnTo>
                  <a:pt x="9" y="31"/>
                </a:lnTo>
                <a:lnTo>
                  <a:pt x="0" y="77"/>
                </a:lnTo>
                <a:lnTo>
                  <a:pt x="9" y="108"/>
                </a:lnTo>
                <a:lnTo>
                  <a:pt x="32" y="138"/>
                </a:lnTo>
                <a:lnTo>
                  <a:pt x="59" y="138"/>
                </a:lnTo>
                <a:lnTo>
                  <a:pt x="66" y="185"/>
                </a:lnTo>
                <a:lnTo>
                  <a:pt x="75" y="246"/>
                </a:lnTo>
                <a:lnTo>
                  <a:pt x="85" y="27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92880" y="1320840"/>
            <a:ext cx="68400" cy="41400"/>
          </a:xfrm>
          <a:custGeom>
            <a:avLst/>
            <a:gdLst/>
            <a:ahLst/>
            <a:rect l="l" t="t" r="r" b="b"/>
            <a:pathLst>
              <a:path w="129" h="104">
                <a:moveTo>
                  <a:pt x="129" y="104"/>
                </a:moveTo>
                <a:lnTo>
                  <a:pt x="121" y="57"/>
                </a:lnTo>
                <a:lnTo>
                  <a:pt x="79" y="12"/>
                </a:lnTo>
                <a:lnTo>
                  <a:pt x="42" y="0"/>
                </a:lnTo>
                <a:lnTo>
                  <a:pt x="21" y="12"/>
                </a:lnTo>
                <a:lnTo>
                  <a:pt x="14" y="43"/>
                </a:lnTo>
                <a:lnTo>
                  <a:pt x="0" y="7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269120" y="1351080"/>
            <a:ext cx="69840" cy="36360"/>
          </a:xfrm>
          <a:custGeom>
            <a:avLst/>
            <a:gdLst/>
            <a:ahLst/>
            <a:rect l="l" t="t" r="r" b="b"/>
            <a:pathLst>
              <a:path w="133" h="92">
                <a:moveTo>
                  <a:pt x="133" y="92"/>
                </a:moveTo>
                <a:lnTo>
                  <a:pt x="108" y="46"/>
                </a:lnTo>
                <a:lnTo>
                  <a:pt x="67" y="16"/>
                </a:lnTo>
                <a:lnTo>
                  <a:pt x="42" y="0"/>
                </a:lnTo>
                <a:lnTo>
                  <a:pt x="10" y="30"/>
                </a:lnTo>
                <a:lnTo>
                  <a:pt x="0" y="62"/>
                </a:lnTo>
                <a:lnTo>
                  <a:pt x="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242120" y="1393920"/>
            <a:ext cx="74520" cy="30240"/>
          </a:xfrm>
          <a:custGeom>
            <a:avLst/>
            <a:gdLst/>
            <a:ahLst/>
            <a:rect l="l" t="t" r="r" b="b"/>
            <a:pathLst>
              <a:path w="142" h="77">
                <a:moveTo>
                  <a:pt x="142" y="77"/>
                </a:moveTo>
                <a:lnTo>
                  <a:pt x="117" y="32"/>
                </a:lnTo>
                <a:lnTo>
                  <a:pt x="67" y="0"/>
                </a:lnTo>
                <a:lnTo>
                  <a:pt x="25" y="0"/>
                </a:lnTo>
                <a:lnTo>
                  <a:pt x="0" y="4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56600" y="1417680"/>
            <a:ext cx="133200" cy="135000"/>
          </a:xfrm>
          <a:custGeom>
            <a:avLst/>
            <a:gdLst/>
            <a:ahLst/>
            <a:rect l="l" t="t" r="r" b="b"/>
            <a:pathLst>
              <a:path w="252" h="339">
                <a:moveTo>
                  <a:pt x="0" y="339"/>
                </a:moveTo>
                <a:lnTo>
                  <a:pt x="175" y="0"/>
                </a:lnTo>
                <a:lnTo>
                  <a:pt x="252" y="10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816680" y="914400"/>
            <a:ext cx="86040" cy="147600"/>
          </a:xfrm>
          <a:custGeom>
            <a:avLst/>
            <a:gdLst/>
            <a:ahLst/>
            <a:rect l="l" t="t" r="r" b="b"/>
            <a:pathLst>
              <a:path w="162" h="370">
                <a:moveTo>
                  <a:pt x="0" y="370"/>
                </a:moveTo>
                <a:lnTo>
                  <a:pt x="34" y="355"/>
                </a:lnTo>
                <a:lnTo>
                  <a:pt x="58" y="323"/>
                </a:lnTo>
                <a:lnTo>
                  <a:pt x="83" y="293"/>
                </a:lnTo>
                <a:lnTo>
                  <a:pt x="100" y="262"/>
                </a:lnTo>
                <a:lnTo>
                  <a:pt x="117" y="216"/>
                </a:lnTo>
                <a:lnTo>
                  <a:pt x="125" y="201"/>
                </a:lnTo>
                <a:lnTo>
                  <a:pt x="133" y="169"/>
                </a:lnTo>
                <a:lnTo>
                  <a:pt x="154" y="108"/>
                </a:lnTo>
                <a:lnTo>
                  <a:pt x="162" y="53"/>
                </a:lnTo>
                <a:lnTo>
                  <a:pt x="150" y="12"/>
                </a:lnTo>
                <a:lnTo>
                  <a:pt x="12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835760" y="952560"/>
            <a:ext cx="44640" cy="79200"/>
          </a:xfrm>
          <a:custGeom>
            <a:avLst/>
            <a:gdLst/>
            <a:ahLst/>
            <a:rect l="l" t="t" r="r" b="b"/>
            <a:pathLst>
              <a:path w="84" h="201">
                <a:moveTo>
                  <a:pt x="0" y="201"/>
                </a:moveTo>
                <a:lnTo>
                  <a:pt x="9" y="140"/>
                </a:lnTo>
                <a:lnTo>
                  <a:pt x="14" y="109"/>
                </a:lnTo>
                <a:lnTo>
                  <a:pt x="30" y="77"/>
                </a:lnTo>
                <a:lnTo>
                  <a:pt x="42" y="47"/>
                </a:lnTo>
                <a:lnTo>
                  <a:pt x="54" y="32"/>
                </a:lnTo>
                <a:lnTo>
                  <a:pt x="67" y="16"/>
                </a:lnTo>
                <a:lnTo>
                  <a:pt x="8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00960" y="695160"/>
            <a:ext cx="355680" cy="152640"/>
          </a:xfrm>
          <a:custGeom>
            <a:avLst/>
            <a:gdLst/>
            <a:ahLst/>
            <a:rect l="l" t="t" r="r" b="b"/>
            <a:pathLst>
              <a:path w="673" h="386">
                <a:moveTo>
                  <a:pt x="673" y="355"/>
                </a:moveTo>
                <a:lnTo>
                  <a:pt x="673" y="309"/>
                </a:lnTo>
                <a:lnTo>
                  <a:pt x="665" y="278"/>
                </a:lnTo>
                <a:lnTo>
                  <a:pt x="656" y="247"/>
                </a:lnTo>
                <a:lnTo>
                  <a:pt x="640" y="201"/>
                </a:lnTo>
                <a:lnTo>
                  <a:pt x="632" y="170"/>
                </a:lnTo>
                <a:lnTo>
                  <a:pt x="591" y="108"/>
                </a:lnTo>
                <a:lnTo>
                  <a:pt x="557" y="62"/>
                </a:lnTo>
                <a:lnTo>
                  <a:pt x="516" y="31"/>
                </a:lnTo>
                <a:lnTo>
                  <a:pt x="466" y="16"/>
                </a:lnTo>
                <a:lnTo>
                  <a:pt x="416" y="0"/>
                </a:lnTo>
                <a:lnTo>
                  <a:pt x="349" y="0"/>
                </a:lnTo>
                <a:lnTo>
                  <a:pt x="316" y="0"/>
                </a:lnTo>
                <a:lnTo>
                  <a:pt x="259" y="16"/>
                </a:lnTo>
                <a:lnTo>
                  <a:pt x="184" y="46"/>
                </a:lnTo>
                <a:lnTo>
                  <a:pt x="117" y="93"/>
                </a:lnTo>
                <a:lnTo>
                  <a:pt x="84" y="154"/>
                </a:lnTo>
                <a:lnTo>
                  <a:pt x="34" y="232"/>
                </a:lnTo>
                <a:lnTo>
                  <a:pt x="25" y="294"/>
                </a:lnTo>
                <a:lnTo>
                  <a:pt x="10" y="355"/>
                </a:lnTo>
                <a:lnTo>
                  <a:pt x="0" y="38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45240" y="914400"/>
            <a:ext cx="39960" cy="160200"/>
          </a:xfrm>
          <a:custGeom>
            <a:avLst/>
            <a:gdLst/>
            <a:ahLst/>
            <a:rect l="l" t="t" r="r" b="b"/>
            <a:pathLst>
              <a:path w="75" h="402">
                <a:moveTo>
                  <a:pt x="58" y="0"/>
                </a:moveTo>
                <a:lnTo>
                  <a:pt x="75" y="47"/>
                </a:lnTo>
                <a:lnTo>
                  <a:pt x="66" y="110"/>
                </a:lnTo>
                <a:lnTo>
                  <a:pt x="41" y="186"/>
                </a:lnTo>
                <a:lnTo>
                  <a:pt x="25" y="233"/>
                </a:lnTo>
                <a:lnTo>
                  <a:pt x="16" y="295"/>
                </a:lnTo>
                <a:lnTo>
                  <a:pt x="8" y="341"/>
                </a:lnTo>
                <a:lnTo>
                  <a:pt x="0" y="372"/>
                </a:lnTo>
                <a:lnTo>
                  <a:pt x="0" y="40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27960" y="1025640"/>
            <a:ext cx="7920" cy="42840"/>
          </a:xfrm>
          <a:custGeom>
            <a:avLst/>
            <a:gdLst/>
            <a:ahLst/>
            <a:rect l="l" t="t" r="r" b="b"/>
            <a:pathLst>
              <a:path w="17" h="108">
                <a:moveTo>
                  <a:pt x="17" y="0"/>
                </a:moveTo>
                <a:lnTo>
                  <a:pt x="9" y="46"/>
                </a:lnTo>
                <a:lnTo>
                  <a:pt x="0" y="10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47120" y="1025640"/>
            <a:ext cx="12600" cy="55440"/>
          </a:xfrm>
          <a:custGeom>
            <a:avLst/>
            <a:gdLst/>
            <a:ahLst/>
            <a:rect l="l" t="t" r="r" b="b"/>
            <a:pathLst>
              <a:path w="24" h="138">
                <a:moveTo>
                  <a:pt x="0" y="138"/>
                </a:moveTo>
                <a:lnTo>
                  <a:pt x="16" y="108"/>
                </a:lnTo>
                <a:lnTo>
                  <a:pt x="24" y="61"/>
                </a:lnTo>
                <a:lnTo>
                  <a:pt x="24" y="30"/>
                </a:lnTo>
                <a:lnTo>
                  <a:pt x="1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4800" y="909720"/>
            <a:ext cx="52200" cy="39600"/>
          </a:xfrm>
          <a:custGeom>
            <a:avLst/>
            <a:gdLst/>
            <a:ahLst/>
            <a:rect l="l" t="t" r="r" b="b"/>
            <a:pathLst>
              <a:path w="99" h="101">
                <a:moveTo>
                  <a:pt x="82" y="101"/>
                </a:moveTo>
                <a:lnTo>
                  <a:pt x="99" y="62"/>
                </a:lnTo>
                <a:lnTo>
                  <a:pt x="99" y="46"/>
                </a:lnTo>
                <a:lnTo>
                  <a:pt x="91" y="16"/>
                </a:lnTo>
                <a:lnTo>
                  <a:pt x="74" y="0"/>
                </a:lnTo>
                <a:lnTo>
                  <a:pt x="50" y="0"/>
                </a:lnTo>
                <a:lnTo>
                  <a:pt x="24" y="16"/>
                </a:lnTo>
                <a:lnTo>
                  <a:pt x="7" y="30"/>
                </a:lnTo>
                <a:lnTo>
                  <a:pt x="0" y="62"/>
                </a:lnTo>
                <a:lnTo>
                  <a:pt x="0" y="93"/>
                </a:lnTo>
                <a:lnTo>
                  <a:pt x="44" y="81"/>
                </a:lnTo>
                <a:lnTo>
                  <a:pt x="65" y="85"/>
                </a:lnTo>
                <a:lnTo>
                  <a:pt x="80" y="9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47120" y="909720"/>
            <a:ext cx="4680" cy="30240"/>
          </a:xfrm>
          <a:custGeom>
            <a:avLst/>
            <a:gdLst/>
            <a:ahLst/>
            <a:rect l="l" t="t" r="r" b="b"/>
            <a:pathLst>
              <a:path w="9" h="78">
                <a:moveTo>
                  <a:pt x="9" y="0"/>
                </a:moveTo>
                <a:lnTo>
                  <a:pt x="0" y="31"/>
                </a:lnTo>
                <a:lnTo>
                  <a:pt x="2" y="7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61160" y="917640"/>
            <a:ext cx="11160" cy="25200"/>
          </a:xfrm>
          <a:custGeom>
            <a:avLst/>
            <a:gdLst/>
            <a:ahLst/>
            <a:rect l="l" t="t" r="r" b="b"/>
            <a:pathLst>
              <a:path w="23" h="65">
                <a:moveTo>
                  <a:pt x="0" y="65"/>
                </a:moveTo>
                <a:lnTo>
                  <a:pt x="9" y="53"/>
                </a:lnTo>
                <a:lnTo>
                  <a:pt x="23" y="16"/>
                </a:lnTo>
                <a:lnTo>
                  <a:pt x="1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94480" y="914400"/>
            <a:ext cx="58680" cy="49320"/>
          </a:xfrm>
          <a:custGeom>
            <a:avLst/>
            <a:gdLst/>
            <a:ahLst/>
            <a:rect l="l" t="t" r="r" b="b"/>
            <a:pathLst>
              <a:path w="112" h="122">
                <a:moveTo>
                  <a:pt x="112" y="77"/>
                </a:moveTo>
                <a:lnTo>
                  <a:pt x="112" y="45"/>
                </a:lnTo>
                <a:lnTo>
                  <a:pt x="104" y="14"/>
                </a:lnTo>
                <a:lnTo>
                  <a:pt x="87" y="0"/>
                </a:lnTo>
                <a:lnTo>
                  <a:pt x="62" y="0"/>
                </a:lnTo>
                <a:lnTo>
                  <a:pt x="29" y="14"/>
                </a:lnTo>
                <a:lnTo>
                  <a:pt x="10" y="34"/>
                </a:lnTo>
                <a:lnTo>
                  <a:pt x="0" y="69"/>
                </a:lnTo>
                <a:lnTo>
                  <a:pt x="5" y="108"/>
                </a:lnTo>
                <a:lnTo>
                  <a:pt x="12" y="122"/>
                </a:lnTo>
                <a:lnTo>
                  <a:pt x="27" y="122"/>
                </a:lnTo>
                <a:lnTo>
                  <a:pt x="37" y="108"/>
                </a:lnTo>
                <a:lnTo>
                  <a:pt x="54" y="92"/>
                </a:lnTo>
                <a:lnTo>
                  <a:pt x="79" y="77"/>
                </a:lnTo>
                <a:lnTo>
                  <a:pt x="96" y="77"/>
                </a:lnTo>
                <a:lnTo>
                  <a:pt x="110" y="8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45240" y="917640"/>
            <a:ext cx="3240" cy="27000"/>
          </a:xfrm>
          <a:custGeom>
            <a:avLst/>
            <a:gdLst/>
            <a:ahLst/>
            <a:rect l="l" t="t" r="r" b="b"/>
            <a:pathLst>
              <a:path w="6" h="69">
                <a:moveTo>
                  <a:pt x="0" y="69"/>
                </a:moveTo>
                <a:lnTo>
                  <a:pt x="6" y="5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21480" y="919080"/>
            <a:ext cx="3240" cy="31680"/>
          </a:xfrm>
          <a:custGeom>
            <a:avLst/>
            <a:gdLst/>
            <a:ahLst/>
            <a:rect l="l" t="t" r="r" b="b"/>
            <a:pathLst>
              <a:path w="8" h="81">
                <a:moveTo>
                  <a:pt x="8" y="81"/>
                </a:moveTo>
                <a:lnTo>
                  <a:pt x="0" y="42"/>
                </a:lnTo>
                <a:lnTo>
                  <a:pt x="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83320" y="903240"/>
            <a:ext cx="9720" cy="92160"/>
          </a:xfrm>
          <a:custGeom>
            <a:avLst/>
            <a:gdLst/>
            <a:ahLst/>
            <a:rect l="l" t="t" r="r" b="b"/>
            <a:pathLst>
              <a:path w="17" h="233">
                <a:moveTo>
                  <a:pt x="17" y="0"/>
                </a:moveTo>
                <a:lnTo>
                  <a:pt x="9" y="47"/>
                </a:lnTo>
                <a:lnTo>
                  <a:pt x="9" y="93"/>
                </a:lnTo>
                <a:lnTo>
                  <a:pt x="9" y="124"/>
                </a:lnTo>
                <a:lnTo>
                  <a:pt x="0" y="171"/>
                </a:lnTo>
                <a:lnTo>
                  <a:pt x="0" y="201"/>
                </a:lnTo>
                <a:lnTo>
                  <a:pt x="9" y="2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62800" y="995400"/>
            <a:ext cx="42840" cy="115920"/>
          </a:xfrm>
          <a:custGeom>
            <a:avLst/>
            <a:gdLst/>
            <a:ahLst/>
            <a:rect l="l" t="t" r="r" b="b"/>
            <a:pathLst>
              <a:path w="83" h="292">
                <a:moveTo>
                  <a:pt x="83" y="0"/>
                </a:moveTo>
                <a:lnTo>
                  <a:pt x="58" y="0"/>
                </a:lnTo>
                <a:lnTo>
                  <a:pt x="33" y="45"/>
                </a:lnTo>
                <a:lnTo>
                  <a:pt x="25" y="77"/>
                </a:lnTo>
                <a:lnTo>
                  <a:pt x="16" y="108"/>
                </a:lnTo>
                <a:lnTo>
                  <a:pt x="8" y="154"/>
                </a:lnTo>
                <a:lnTo>
                  <a:pt x="6" y="173"/>
                </a:lnTo>
                <a:lnTo>
                  <a:pt x="2" y="205"/>
                </a:lnTo>
                <a:lnTo>
                  <a:pt x="0" y="231"/>
                </a:lnTo>
                <a:lnTo>
                  <a:pt x="8" y="2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75400" y="1141560"/>
            <a:ext cx="276480" cy="185760"/>
          </a:xfrm>
          <a:custGeom>
            <a:avLst/>
            <a:gdLst/>
            <a:ahLst/>
            <a:rect l="l" t="t" r="r" b="b"/>
            <a:pathLst>
              <a:path w="521" h="467">
                <a:moveTo>
                  <a:pt x="72" y="46"/>
                </a:moveTo>
                <a:lnTo>
                  <a:pt x="47" y="63"/>
                </a:lnTo>
                <a:lnTo>
                  <a:pt x="23" y="93"/>
                </a:lnTo>
                <a:lnTo>
                  <a:pt x="12" y="136"/>
                </a:lnTo>
                <a:lnTo>
                  <a:pt x="0" y="174"/>
                </a:lnTo>
                <a:lnTo>
                  <a:pt x="0" y="221"/>
                </a:lnTo>
                <a:lnTo>
                  <a:pt x="4" y="260"/>
                </a:lnTo>
                <a:lnTo>
                  <a:pt x="6" y="278"/>
                </a:lnTo>
                <a:lnTo>
                  <a:pt x="18" y="333"/>
                </a:lnTo>
                <a:lnTo>
                  <a:pt x="39" y="387"/>
                </a:lnTo>
                <a:lnTo>
                  <a:pt x="56" y="402"/>
                </a:lnTo>
                <a:lnTo>
                  <a:pt x="89" y="432"/>
                </a:lnTo>
                <a:lnTo>
                  <a:pt x="122" y="448"/>
                </a:lnTo>
                <a:lnTo>
                  <a:pt x="164" y="464"/>
                </a:lnTo>
                <a:lnTo>
                  <a:pt x="212" y="467"/>
                </a:lnTo>
                <a:lnTo>
                  <a:pt x="263" y="464"/>
                </a:lnTo>
                <a:lnTo>
                  <a:pt x="305" y="448"/>
                </a:lnTo>
                <a:lnTo>
                  <a:pt x="372" y="402"/>
                </a:lnTo>
                <a:lnTo>
                  <a:pt x="453" y="294"/>
                </a:lnTo>
                <a:lnTo>
                  <a:pt x="471" y="247"/>
                </a:lnTo>
                <a:lnTo>
                  <a:pt x="487" y="201"/>
                </a:lnTo>
                <a:lnTo>
                  <a:pt x="499" y="154"/>
                </a:lnTo>
                <a:lnTo>
                  <a:pt x="503" y="109"/>
                </a:lnTo>
                <a:lnTo>
                  <a:pt x="513" y="32"/>
                </a:lnTo>
                <a:lnTo>
                  <a:pt x="52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746840" y="1085760"/>
            <a:ext cx="55800" cy="87480"/>
          </a:xfrm>
          <a:custGeom>
            <a:avLst/>
            <a:gdLst/>
            <a:ahLst/>
            <a:rect l="l" t="t" r="r" b="b"/>
            <a:pathLst>
              <a:path w="103" h="216">
                <a:moveTo>
                  <a:pt x="0" y="216"/>
                </a:moveTo>
                <a:lnTo>
                  <a:pt x="25" y="202"/>
                </a:lnTo>
                <a:lnTo>
                  <a:pt x="66" y="139"/>
                </a:lnTo>
                <a:lnTo>
                  <a:pt x="10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45240" y="1265400"/>
            <a:ext cx="79560" cy="20520"/>
          </a:xfrm>
          <a:custGeom>
            <a:avLst/>
            <a:gdLst/>
            <a:ahLst/>
            <a:rect l="l" t="t" r="r" b="b"/>
            <a:pathLst>
              <a:path w="150" h="53">
                <a:moveTo>
                  <a:pt x="0" y="0"/>
                </a:moveTo>
                <a:lnTo>
                  <a:pt x="8" y="23"/>
                </a:lnTo>
                <a:lnTo>
                  <a:pt x="25" y="44"/>
                </a:lnTo>
                <a:lnTo>
                  <a:pt x="50" y="53"/>
                </a:lnTo>
                <a:lnTo>
                  <a:pt x="91" y="53"/>
                </a:lnTo>
                <a:lnTo>
                  <a:pt x="116" y="44"/>
                </a:lnTo>
                <a:lnTo>
                  <a:pt x="133" y="44"/>
                </a:lnTo>
                <a:lnTo>
                  <a:pt x="150" y="3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43800" y="1128600"/>
            <a:ext cx="133200" cy="66960"/>
          </a:xfrm>
          <a:custGeom>
            <a:avLst/>
            <a:gdLst/>
            <a:ahLst/>
            <a:rect l="l" t="t" r="r" b="b"/>
            <a:pathLst>
              <a:path w="252" h="167">
                <a:moveTo>
                  <a:pt x="2" y="31"/>
                </a:moveTo>
                <a:lnTo>
                  <a:pt x="2" y="47"/>
                </a:lnTo>
                <a:lnTo>
                  <a:pt x="0" y="74"/>
                </a:lnTo>
                <a:lnTo>
                  <a:pt x="10" y="124"/>
                </a:lnTo>
                <a:lnTo>
                  <a:pt x="27" y="140"/>
                </a:lnTo>
                <a:lnTo>
                  <a:pt x="50" y="159"/>
                </a:lnTo>
                <a:lnTo>
                  <a:pt x="77" y="167"/>
                </a:lnTo>
                <a:lnTo>
                  <a:pt x="108" y="163"/>
                </a:lnTo>
                <a:lnTo>
                  <a:pt x="135" y="159"/>
                </a:lnTo>
                <a:lnTo>
                  <a:pt x="160" y="144"/>
                </a:lnTo>
                <a:lnTo>
                  <a:pt x="177" y="124"/>
                </a:lnTo>
                <a:lnTo>
                  <a:pt x="202" y="94"/>
                </a:lnTo>
                <a:lnTo>
                  <a:pt x="235" y="47"/>
                </a:lnTo>
                <a:lnTo>
                  <a:pt x="243" y="31"/>
                </a:lnTo>
                <a:lnTo>
                  <a:pt x="2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53160" y="1130400"/>
            <a:ext cx="115920" cy="48960"/>
          </a:xfrm>
          <a:custGeom>
            <a:avLst/>
            <a:gdLst/>
            <a:ahLst/>
            <a:rect l="l" t="t" r="r" b="b"/>
            <a:pathLst>
              <a:path w="217" h="126">
                <a:moveTo>
                  <a:pt x="217" y="0"/>
                </a:moveTo>
                <a:lnTo>
                  <a:pt x="209" y="16"/>
                </a:lnTo>
                <a:lnTo>
                  <a:pt x="192" y="47"/>
                </a:lnTo>
                <a:lnTo>
                  <a:pt x="159" y="77"/>
                </a:lnTo>
                <a:lnTo>
                  <a:pt x="132" y="106"/>
                </a:lnTo>
                <a:lnTo>
                  <a:pt x="117" y="109"/>
                </a:lnTo>
                <a:lnTo>
                  <a:pt x="90" y="126"/>
                </a:lnTo>
                <a:lnTo>
                  <a:pt x="60" y="124"/>
                </a:lnTo>
                <a:lnTo>
                  <a:pt x="35" y="109"/>
                </a:lnTo>
                <a:lnTo>
                  <a:pt x="13" y="79"/>
                </a:lnTo>
                <a:lnTo>
                  <a:pt x="0" y="47"/>
                </a:lnTo>
                <a:lnTo>
                  <a:pt x="0" y="3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62880" y="1135080"/>
            <a:ext cx="88920" cy="12600"/>
          </a:xfrm>
          <a:custGeom>
            <a:avLst/>
            <a:gdLst/>
            <a:ahLst/>
            <a:rect l="l" t="t" r="r" b="b"/>
            <a:pathLst>
              <a:path w="167" h="31">
                <a:moveTo>
                  <a:pt x="0" y="15"/>
                </a:moveTo>
                <a:lnTo>
                  <a:pt x="49" y="31"/>
                </a:lnTo>
                <a:lnTo>
                  <a:pt x="111" y="23"/>
                </a:lnTo>
                <a:lnTo>
                  <a:pt x="16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35800" y="939960"/>
            <a:ext cx="47520" cy="106200"/>
          </a:xfrm>
          <a:custGeom>
            <a:avLst/>
            <a:gdLst/>
            <a:ahLst/>
            <a:rect l="l" t="t" r="r" b="b"/>
            <a:pathLst>
              <a:path w="91" h="267">
                <a:moveTo>
                  <a:pt x="91" y="47"/>
                </a:moveTo>
                <a:lnTo>
                  <a:pt x="83" y="16"/>
                </a:lnTo>
                <a:lnTo>
                  <a:pt x="58" y="0"/>
                </a:lnTo>
                <a:lnTo>
                  <a:pt x="25" y="16"/>
                </a:lnTo>
                <a:lnTo>
                  <a:pt x="0" y="77"/>
                </a:lnTo>
                <a:lnTo>
                  <a:pt x="0" y="124"/>
                </a:lnTo>
                <a:lnTo>
                  <a:pt x="0" y="170"/>
                </a:lnTo>
                <a:lnTo>
                  <a:pt x="9" y="201"/>
                </a:lnTo>
                <a:lnTo>
                  <a:pt x="16" y="233"/>
                </a:lnTo>
                <a:lnTo>
                  <a:pt x="41" y="263"/>
                </a:lnTo>
                <a:lnTo>
                  <a:pt x="58" y="26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62800" y="984240"/>
            <a:ext cx="7920" cy="34920"/>
          </a:xfrm>
          <a:custGeom>
            <a:avLst/>
            <a:gdLst/>
            <a:ahLst/>
            <a:rect l="l" t="t" r="r" b="b"/>
            <a:pathLst>
              <a:path w="16" h="91">
                <a:moveTo>
                  <a:pt x="16" y="91"/>
                </a:moveTo>
                <a:lnTo>
                  <a:pt x="16" y="77"/>
                </a:lnTo>
                <a:lnTo>
                  <a:pt x="8" y="46"/>
                </a:lnTo>
                <a:lnTo>
                  <a:pt x="8" y="1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66040" y="838080"/>
            <a:ext cx="98280" cy="65160"/>
          </a:xfrm>
          <a:custGeom>
            <a:avLst/>
            <a:gdLst/>
            <a:ahLst/>
            <a:rect l="l" t="t" r="r" b="b"/>
            <a:pathLst>
              <a:path w="185" h="161">
                <a:moveTo>
                  <a:pt x="183" y="81"/>
                </a:moveTo>
                <a:lnTo>
                  <a:pt x="185" y="41"/>
                </a:lnTo>
                <a:lnTo>
                  <a:pt x="174" y="35"/>
                </a:lnTo>
                <a:lnTo>
                  <a:pt x="158" y="53"/>
                </a:lnTo>
                <a:lnTo>
                  <a:pt x="153" y="11"/>
                </a:lnTo>
                <a:lnTo>
                  <a:pt x="131" y="0"/>
                </a:lnTo>
                <a:lnTo>
                  <a:pt x="110" y="27"/>
                </a:lnTo>
                <a:lnTo>
                  <a:pt x="75" y="37"/>
                </a:lnTo>
                <a:lnTo>
                  <a:pt x="50" y="23"/>
                </a:lnTo>
                <a:lnTo>
                  <a:pt x="27" y="37"/>
                </a:lnTo>
                <a:lnTo>
                  <a:pt x="18" y="53"/>
                </a:lnTo>
                <a:lnTo>
                  <a:pt x="0" y="84"/>
                </a:lnTo>
                <a:lnTo>
                  <a:pt x="0" y="116"/>
                </a:lnTo>
                <a:lnTo>
                  <a:pt x="18" y="146"/>
                </a:lnTo>
                <a:lnTo>
                  <a:pt x="34" y="161"/>
                </a:lnTo>
                <a:lnTo>
                  <a:pt x="42" y="161"/>
                </a:lnTo>
                <a:lnTo>
                  <a:pt x="58" y="161"/>
                </a:lnTo>
                <a:lnTo>
                  <a:pt x="71" y="139"/>
                </a:lnTo>
                <a:lnTo>
                  <a:pt x="98" y="146"/>
                </a:lnTo>
                <a:lnTo>
                  <a:pt x="114" y="120"/>
                </a:lnTo>
                <a:lnTo>
                  <a:pt x="137" y="104"/>
                </a:lnTo>
                <a:lnTo>
                  <a:pt x="158" y="116"/>
                </a:lnTo>
                <a:lnTo>
                  <a:pt x="175" y="100"/>
                </a:lnTo>
                <a:lnTo>
                  <a:pt x="183" y="81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58120" y="885960"/>
            <a:ext cx="36360" cy="60120"/>
          </a:xfrm>
          <a:custGeom>
            <a:avLst/>
            <a:gdLst/>
            <a:ahLst/>
            <a:rect l="l" t="t" r="r" b="b"/>
            <a:pathLst>
              <a:path w="68" h="152">
                <a:moveTo>
                  <a:pt x="17" y="0"/>
                </a:moveTo>
                <a:lnTo>
                  <a:pt x="2" y="40"/>
                </a:lnTo>
                <a:lnTo>
                  <a:pt x="0" y="75"/>
                </a:lnTo>
                <a:lnTo>
                  <a:pt x="0" y="105"/>
                </a:lnTo>
                <a:lnTo>
                  <a:pt x="25" y="136"/>
                </a:lnTo>
                <a:lnTo>
                  <a:pt x="39" y="152"/>
                </a:lnTo>
                <a:lnTo>
                  <a:pt x="49" y="152"/>
                </a:lnTo>
                <a:lnTo>
                  <a:pt x="58" y="136"/>
                </a:lnTo>
                <a:lnTo>
                  <a:pt x="58" y="105"/>
                </a:lnTo>
                <a:lnTo>
                  <a:pt x="58" y="75"/>
                </a:lnTo>
                <a:lnTo>
                  <a:pt x="68" y="43"/>
                </a:lnTo>
                <a:lnTo>
                  <a:pt x="43" y="40"/>
                </a:lnTo>
                <a:lnTo>
                  <a:pt x="17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55040" y="933480"/>
            <a:ext cx="7920" cy="6480"/>
          </a:xfrm>
          <a:custGeom>
            <a:avLst/>
            <a:gdLst/>
            <a:ahLst/>
            <a:rect l="l" t="t" r="r" b="b"/>
            <a:pathLst>
              <a:path w="16" h="18">
                <a:moveTo>
                  <a:pt x="16" y="9"/>
                </a:moveTo>
                <a:lnTo>
                  <a:pt x="12" y="3"/>
                </a:lnTo>
                <a:lnTo>
                  <a:pt x="7" y="0"/>
                </a:lnTo>
                <a:lnTo>
                  <a:pt x="2" y="3"/>
                </a:lnTo>
                <a:lnTo>
                  <a:pt x="0" y="9"/>
                </a:lnTo>
                <a:lnTo>
                  <a:pt x="2" y="16"/>
                </a:lnTo>
                <a:lnTo>
                  <a:pt x="7" y="18"/>
                </a:lnTo>
                <a:lnTo>
                  <a:pt x="12" y="16"/>
                </a:lnTo>
                <a:lnTo>
                  <a:pt x="16" y="9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32640" y="934920"/>
            <a:ext cx="7920" cy="7920"/>
          </a:xfrm>
          <a:custGeom>
            <a:avLst/>
            <a:gdLst/>
            <a:ahLst/>
            <a:rect l="l" t="t" r="r" b="b"/>
            <a:pathLst>
              <a:path w="16" h="18">
                <a:moveTo>
                  <a:pt x="16" y="9"/>
                </a:moveTo>
                <a:lnTo>
                  <a:pt x="13" y="3"/>
                </a:lnTo>
                <a:lnTo>
                  <a:pt x="8" y="0"/>
                </a:lnTo>
                <a:lnTo>
                  <a:pt x="3" y="3"/>
                </a:lnTo>
                <a:lnTo>
                  <a:pt x="0" y="9"/>
                </a:lnTo>
                <a:lnTo>
                  <a:pt x="3" y="16"/>
                </a:lnTo>
                <a:lnTo>
                  <a:pt x="8" y="18"/>
                </a:lnTo>
                <a:lnTo>
                  <a:pt x="13" y="16"/>
                </a:lnTo>
                <a:lnTo>
                  <a:pt x="16" y="9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1461960"/>
            <a:ext cx="19080" cy="20880"/>
          </a:xfrm>
          <a:custGeom>
            <a:avLst/>
            <a:gdLst/>
            <a:ahLst/>
            <a:rect l="l" t="t" r="r" b="b"/>
            <a:pathLst>
              <a:path w="34" h="54">
                <a:moveTo>
                  <a:pt x="34" y="54"/>
                </a:moveTo>
                <a:lnTo>
                  <a:pt x="22" y="3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81720" y="1228680"/>
            <a:ext cx="28800" cy="15840"/>
          </a:xfrm>
          <a:custGeom>
            <a:avLst/>
            <a:gdLst/>
            <a:ahLst/>
            <a:rect l="l" t="t" r="r" b="b"/>
            <a:pathLst>
              <a:path w="56" h="42">
                <a:moveTo>
                  <a:pt x="56" y="20"/>
                </a:moveTo>
                <a:lnTo>
                  <a:pt x="40" y="42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"/>
          <p:cNvGrpSpPr/>
          <p:nvPr/>
        </p:nvGrpSpPr>
        <p:grpSpPr>
          <a:xfrm>
            <a:off x="304920" y="0"/>
            <a:ext cx="8506800" cy="6248160"/>
            <a:chOff x="304920" y="0"/>
            <a:chExt cx="8506800" cy="6248160"/>
          </a:xfrm>
        </p:grpSpPr>
        <p:sp>
          <p:nvSpPr>
            <p:cNvPr id="871" name=""/>
            <p:cNvSpPr/>
            <p:nvPr/>
          </p:nvSpPr>
          <p:spPr>
            <a:xfrm>
              <a:off x="2785680" y="0"/>
              <a:ext cx="3762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Az árbevétel tartaléka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04920" y="906120"/>
              <a:ext cx="2524320" cy="356040"/>
            </a:xfrm>
            <a:prstGeom prst="rect">
              <a:avLst/>
            </a:prstGeom>
            <a:solidFill>
              <a:srgbClr val="8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829240" y="906120"/>
              <a:ext cx="1865160" cy="356040"/>
            </a:xfrm>
            <a:prstGeom prst="rect">
              <a:avLst/>
            </a:prstGeom>
            <a:solidFill>
              <a:srgbClr val="8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694400" y="906120"/>
              <a:ext cx="2166840" cy="356040"/>
            </a:xfrm>
            <a:prstGeom prst="rect">
              <a:avLst/>
            </a:prstGeom>
            <a:solidFill>
              <a:srgbClr val="8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861240" y="906120"/>
              <a:ext cx="1948680" cy="356040"/>
            </a:xfrm>
            <a:prstGeom prst="rect">
              <a:avLst/>
            </a:prstGeom>
            <a:solidFill>
              <a:srgbClr val="8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04920" y="1262160"/>
              <a:ext cx="2524320" cy="35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829240" y="1262160"/>
              <a:ext cx="1865160" cy="35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694400" y="1262160"/>
              <a:ext cx="2166840" cy="35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61240" y="1262160"/>
              <a:ext cx="1948680" cy="35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04920" y="1618920"/>
              <a:ext cx="2524320" cy="62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829240" y="1618920"/>
              <a:ext cx="1865160" cy="62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694400" y="1618920"/>
              <a:ext cx="2166840" cy="62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861240" y="1618920"/>
              <a:ext cx="1948680" cy="62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04920" y="2240280"/>
              <a:ext cx="2524320" cy="62496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29240" y="2240280"/>
              <a:ext cx="1865160" cy="62496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694400" y="2240280"/>
              <a:ext cx="2166840" cy="62496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861240" y="2240280"/>
              <a:ext cx="1948680" cy="62496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04920" y="2865240"/>
              <a:ext cx="2524320" cy="71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29240" y="2865240"/>
              <a:ext cx="1865160" cy="71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694400" y="2865240"/>
              <a:ext cx="2166840" cy="71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861240" y="2865240"/>
              <a:ext cx="1948680" cy="71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04920" y="3578040"/>
              <a:ext cx="2524320" cy="710640"/>
            </a:xfrm>
            <a:prstGeom prst="rect">
              <a:avLst/>
            </a:pr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29240" y="3578040"/>
              <a:ext cx="1865160" cy="710640"/>
            </a:xfrm>
            <a:prstGeom prst="rect">
              <a:avLst/>
            </a:pr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694400" y="3578040"/>
              <a:ext cx="2166840" cy="710640"/>
            </a:xfrm>
            <a:prstGeom prst="rect">
              <a:avLst/>
            </a:pr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861240" y="3578040"/>
              <a:ext cx="1948680" cy="710640"/>
            </a:xfrm>
            <a:prstGeom prst="rect">
              <a:avLst/>
            </a:pr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04920" y="4289040"/>
              <a:ext cx="2524320" cy="62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829240" y="4289040"/>
              <a:ext cx="1865160" cy="62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694400" y="4289040"/>
              <a:ext cx="2166840" cy="62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861240" y="4289040"/>
              <a:ext cx="1948680" cy="62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04920" y="4912200"/>
              <a:ext cx="2524320" cy="623520"/>
            </a:xfrm>
            <a:prstGeom prst="rect">
              <a:avLst/>
            </a:pr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829240" y="4912200"/>
              <a:ext cx="1865160" cy="623520"/>
            </a:xfrm>
            <a:prstGeom prst="rect">
              <a:avLst/>
            </a:pr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694400" y="4912200"/>
              <a:ext cx="2166840" cy="623520"/>
            </a:xfrm>
            <a:prstGeom prst="rect">
              <a:avLst/>
            </a:pr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861240" y="4912200"/>
              <a:ext cx="1948680" cy="623520"/>
            </a:xfrm>
            <a:prstGeom prst="rect">
              <a:avLst/>
            </a:pr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04920" y="5535720"/>
              <a:ext cx="2524320" cy="71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829240" y="5535720"/>
              <a:ext cx="1865160" cy="71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694400" y="5535720"/>
              <a:ext cx="2166840" cy="71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861240" y="5535720"/>
              <a:ext cx="1948680" cy="71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928440" y="962280"/>
              <a:ext cx="1195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gnevezé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562560" y="96228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378760" y="942840"/>
              <a:ext cx="773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árá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393320" y="962280"/>
              <a:ext cx="77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yapj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6840" y="1318320"/>
              <a:ext cx="156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elenlegi hoz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426120" y="1318320"/>
              <a:ext cx="711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-30 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718960" y="1318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619040" y="131832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 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17760" y="1806120"/>
              <a:ext cx="2044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hetséges hoz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521160" y="1806120"/>
              <a:ext cx="566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50 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18240" y="18061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619040" y="180612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 k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39000" y="2429640"/>
              <a:ext cx="1954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 hozam tartalék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273120" y="2429640"/>
              <a:ext cx="1162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0-750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470560" y="2429640"/>
              <a:ext cx="721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0 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523640" y="2429640"/>
              <a:ext cx="46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25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43480" y="2966400"/>
              <a:ext cx="193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z értékesítés idej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64080" y="309996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65960" y="309996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621920" y="3099960"/>
              <a:ext cx="35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08560" y="3678480"/>
              <a:ext cx="1802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Értékesítési sú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64080" y="380700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564880" y="3807000"/>
              <a:ext cx="35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739280" y="380700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016640" y="4416840"/>
              <a:ext cx="92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ősé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550320" y="4474800"/>
              <a:ext cx="50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406480" y="4474800"/>
              <a:ext cx="878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-1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621920" y="4474800"/>
              <a:ext cx="35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93160" y="4968360"/>
              <a:ext cx="1181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nnyisé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550320" y="5100120"/>
              <a:ext cx="50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564520" y="5100120"/>
              <a:ext cx="50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621920" y="5100120"/>
              <a:ext cx="35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015560" y="5661720"/>
              <a:ext cx="1387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eldolgozá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551400" y="576828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526360" y="5768280"/>
              <a:ext cx="36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5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621920" y="5768280"/>
              <a:ext cx="35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04920" y="906120"/>
              <a:ext cx="8505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04920" y="1262160"/>
              <a:ext cx="850536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04920" y="1618920"/>
              <a:ext cx="850536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04920" y="2240280"/>
              <a:ext cx="8505360" cy="3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04920" y="2865240"/>
              <a:ext cx="850536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04920" y="3578040"/>
              <a:ext cx="850536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04920" y="4289040"/>
              <a:ext cx="8505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04920" y="4912200"/>
              <a:ext cx="850536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04920" y="5535720"/>
              <a:ext cx="850536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04920" y="6246360"/>
              <a:ext cx="8505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04920" y="906120"/>
              <a:ext cx="1800" cy="5342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829240" y="906120"/>
              <a:ext cx="3240" cy="5342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694400" y="906120"/>
              <a:ext cx="1800" cy="5342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861240" y="906120"/>
              <a:ext cx="1800" cy="5342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810280" y="906120"/>
              <a:ext cx="1440" cy="5342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ile%20de%20France" descr=""/>
          <p:cNvPicPr/>
          <p:nvPr/>
        </p:nvPicPr>
        <p:blipFill>
          <a:blip r:embed="rId2"/>
          <a:stretch/>
        </p:blipFill>
        <p:spPr>
          <a:xfrm>
            <a:off x="209520" y="2166840"/>
            <a:ext cx="2374920" cy="1781280"/>
          </a:xfrm>
          <a:prstGeom prst="rect">
            <a:avLst/>
          </a:prstGeom>
          <a:ln w="0">
            <a:noFill/>
          </a:ln>
        </p:spPr>
      </p:pic>
      <p:pic>
        <p:nvPicPr>
          <p:cNvPr id="960" name="suffolk" descr=""/>
          <p:cNvPicPr/>
          <p:nvPr/>
        </p:nvPicPr>
        <p:blipFill>
          <a:blip r:embed="rId3"/>
          <a:stretch/>
        </p:blipFill>
        <p:spPr>
          <a:xfrm>
            <a:off x="3003480" y="2166840"/>
            <a:ext cx="2584440" cy="1862280"/>
          </a:xfrm>
          <a:prstGeom prst="rect">
            <a:avLst/>
          </a:prstGeom>
          <a:ln w="0">
            <a:noFill/>
          </a:ln>
        </p:spPr>
      </p:pic>
      <p:pic>
        <p:nvPicPr>
          <p:cNvPr id="961" name="texel" descr=""/>
          <p:cNvPicPr/>
          <p:nvPr/>
        </p:nvPicPr>
        <p:blipFill>
          <a:blip r:embed="rId4"/>
          <a:stretch/>
        </p:blipFill>
        <p:spPr>
          <a:xfrm>
            <a:off x="5797440" y="2166840"/>
            <a:ext cx="2374920" cy="1844640"/>
          </a:xfrm>
          <a:prstGeom prst="rect">
            <a:avLst/>
          </a:prstGeom>
          <a:ln w="0">
            <a:noFill/>
          </a:ln>
        </p:spPr>
      </p:pic>
      <p:sp>
        <p:nvSpPr>
          <p:cNvPr id="962" name=""/>
          <p:cNvSpPr/>
          <p:nvPr/>
        </p:nvSpPr>
        <p:spPr>
          <a:xfrm>
            <a:off x="3048840" y="685800"/>
            <a:ext cx="233964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úsfajtá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492360" y="4199040"/>
            <a:ext cx="135576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hu-HU" sz="2500" spc="-1" strike="noStrike">
                <a:solidFill>
                  <a:srgbClr val="000000"/>
                </a:solidFill>
                <a:latin typeface="Times New Roman"/>
              </a:rPr>
              <a:t>Suffol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44960" y="4132440"/>
            <a:ext cx="194328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hu-HU" sz="2500" spc="-1" strike="noStrike">
                <a:solidFill>
                  <a:srgbClr val="000000"/>
                </a:solidFill>
                <a:latin typeface="Times New Roman"/>
              </a:rPr>
              <a:t>Ile de Fran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507000" y="4199040"/>
            <a:ext cx="9054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hu-HU" sz="2500" spc="-1" strike="noStrike">
                <a:solidFill>
                  <a:srgbClr val="000000"/>
                </a:solidFill>
                <a:latin typeface="Times New Roman"/>
              </a:rPr>
              <a:t>Tex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awassi" descr="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349200" y="1084320"/>
            <a:ext cx="2235240" cy="1695240"/>
          </a:xfrm>
          <a:prstGeom prst="rect">
            <a:avLst/>
          </a:prstGeom>
          <a:ln w="0">
            <a:noFill/>
          </a:ln>
        </p:spPr>
      </p:pic>
      <p:pic>
        <p:nvPicPr>
          <p:cNvPr id="967" name="brit%20tejelő" descr=""/>
          <p:cNvPicPr/>
          <p:nvPr/>
        </p:nvPicPr>
        <p:blipFill>
          <a:blip r:embed="rId2"/>
          <a:stretch/>
        </p:blipFill>
        <p:spPr>
          <a:xfrm>
            <a:off x="2863800" y="2573280"/>
            <a:ext cx="2444760" cy="1671840"/>
          </a:xfrm>
          <a:prstGeom prst="rect">
            <a:avLst/>
          </a:prstGeom>
          <a:ln w="0">
            <a:noFill/>
          </a:ln>
        </p:spPr>
      </p:pic>
      <p:pic>
        <p:nvPicPr>
          <p:cNvPr id="968" name="cigaja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5448240" y="947880"/>
            <a:ext cx="2654280" cy="1677960"/>
          </a:xfrm>
          <a:prstGeom prst="rect">
            <a:avLst/>
          </a:prstGeom>
          <a:ln w="0">
            <a:noFill/>
          </a:ln>
        </p:spPr>
      </p:pic>
      <p:pic>
        <p:nvPicPr>
          <p:cNvPr id="969" name="keletfriz" descr=""/>
          <p:cNvPicPr/>
          <p:nvPr/>
        </p:nvPicPr>
        <p:blipFill>
          <a:blip r:embed="rId4">
            <a:lum bright="14000"/>
          </a:blip>
          <a:stretch/>
        </p:blipFill>
        <p:spPr>
          <a:xfrm>
            <a:off x="209520" y="3454560"/>
            <a:ext cx="2444760" cy="1717560"/>
          </a:xfrm>
          <a:prstGeom prst="rect">
            <a:avLst/>
          </a:prstGeom>
          <a:ln w="0">
            <a:noFill/>
          </a:ln>
        </p:spPr>
      </p:pic>
      <p:pic>
        <p:nvPicPr>
          <p:cNvPr id="970" name="Lacaune" descr=""/>
          <p:cNvPicPr/>
          <p:nvPr/>
        </p:nvPicPr>
        <p:blipFill>
          <a:blip r:embed="rId5"/>
          <a:stretch/>
        </p:blipFill>
        <p:spPr>
          <a:xfrm>
            <a:off x="5518080" y="3386160"/>
            <a:ext cx="2514600" cy="1828800"/>
          </a:xfrm>
          <a:prstGeom prst="rect">
            <a:avLst/>
          </a:prstGeom>
          <a:ln w="0">
            <a:noFill/>
          </a:ln>
        </p:spPr>
      </p:pic>
      <p:sp>
        <p:nvSpPr>
          <p:cNvPr id="971" name=""/>
          <p:cNvSpPr/>
          <p:nvPr/>
        </p:nvSpPr>
        <p:spPr>
          <a:xfrm>
            <a:off x="474120" y="2813040"/>
            <a:ext cx="100296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hu-HU" sz="2200" spc="-1" strike="noStrike">
                <a:solidFill>
                  <a:srgbClr val="ffff00"/>
                </a:solidFill>
                <a:latin typeface="Times New Roman"/>
              </a:rPr>
              <a:t>Awass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199320" y="4371840"/>
            <a:ext cx="13672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Brit tejelő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216120" y="2776680"/>
            <a:ext cx="9586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igá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30000" y="5283360"/>
            <a:ext cx="12178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Keletfrí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992200" y="5251320"/>
            <a:ext cx="11905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hu-HU" sz="2200" spc="-1" strike="noStrike">
                <a:solidFill>
                  <a:srgbClr val="ffff00"/>
                </a:solidFill>
                <a:latin typeface="Times New Roman"/>
              </a:rPr>
              <a:t>Lacau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724120" y="297000"/>
            <a:ext cx="26672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ejelő fajtá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dbc04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ph02963j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5486400" cy="223992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533520" y="380880"/>
            <a:ext cx="815328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z értékesítés idejének tartaléka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árány 16-2O kg, 1997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9" name=""/>
          <p:cNvGraphicFramePr/>
          <p:nvPr/>
        </p:nvGraphicFramePr>
        <p:xfrm>
          <a:off x="628560" y="1760400"/>
          <a:ext cx="7123320" cy="365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8560" y="1760400"/>
                    <a:ext cx="71233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1" name=""/>
          <p:cNvSpPr/>
          <p:nvPr/>
        </p:nvSpPr>
        <p:spPr>
          <a:xfrm>
            <a:off x="2863800" y="2573280"/>
            <a:ext cx="419040" cy="812880"/>
          </a:xfrm>
          <a:prstGeom prst="upArrow">
            <a:avLst>
              <a:gd name="adj1" fmla="val 50000"/>
              <a:gd name="adj2" fmla="val 4849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330800" y="2506680"/>
            <a:ext cx="349200" cy="744480"/>
          </a:xfrm>
          <a:prstGeom prst="downArrow">
            <a:avLst>
              <a:gd name="adj1" fmla="val 50000"/>
              <a:gd name="adj2" fmla="val 5329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448240" y="3386160"/>
            <a:ext cx="13971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3300" spc="-1" strike="noStrike">
                <a:solidFill>
                  <a:srgbClr val="ffff00"/>
                </a:solidFill>
                <a:latin typeface="Times New Roman"/>
              </a:rPr>
              <a:t>36 %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ebc7"/>
            </a:gs>
            <a:gs pos="50000">
              <a:srgbClr val="dbc04b"/>
            </a:gs>
            <a:gs pos="100000">
              <a:srgbClr val="f3eb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ausmeri2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6400800" cy="3124080"/>
          </a:xfrm>
          <a:prstGeom prst="rect">
            <a:avLst/>
          </a:prstGeom>
          <a:ln w="0">
            <a:noFill/>
          </a:ln>
        </p:spPr>
      </p:pic>
      <p:sp>
        <p:nvSpPr>
          <p:cNvPr id="985" name=""/>
          <p:cNvSpPr/>
          <p:nvPr/>
        </p:nvSpPr>
        <p:spPr>
          <a:xfrm>
            <a:off x="628560" y="0"/>
            <a:ext cx="72201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Értékesítési súly tartaléka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t/kg, 1998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6" name=""/>
          <p:cNvGraphicFramePr/>
          <p:nvPr/>
        </p:nvGraphicFramePr>
        <p:xfrm>
          <a:off x="628560" y="1760400"/>
          <a:ext cx="8072640" cy="402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8560" y="1760400"/>
                    <a:ext cx="8072640" cy="40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8" name=""/>
          <p:cNvSpPr/>
          <p:nvPr/>
        </p:nvSpPr>
        <p:spPr>
          <a:xfrm>
            <a:off x="6019200" y="3048120"/>
            <a:ext cx="13093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6 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623880" y="457200"/>
            <a:ext cx="73389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minőség tartalé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57200" y="1135080"/>
            <a:ext cx="8273880" cy="53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j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 Source: Hungarian Milk-processing Experimental Institution 1998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sír (min.4.75-max. 10.73, átlag: 7.59 g/cm³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hérje: (min. 3.62-max.7.46, átlag: 5.82 g/cm³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zomatikus sej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in. 85-max.1956 átl.: 340 10³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ú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ource: Classification of Carcases EEC Regulation 461/93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l (S EUR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ggyú fedettsé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alacsony/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nagyon magas/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ömeg, hússzín, zsírosztály (A/B/C fokoz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1" name=""/>
          <p:cNvGrpSpPr/>
          <p:nvPr/>
        </p:nvGrpSpPr>
        <p:grpSpPr>
          <a:xfrm>
            <a:off x="228600" y="0"/>
            <a:ext cx="8610120" cy="6552720"/>
            <a:chOff x="228600" y="0"/>
            <a:chExt cx="8610120" cy="6552720"/>
          </a:xfrm>
        </p:grpSpPr>
        <p:sp>
          <p:nvSpPr>
            <p:cNvPr id="992" name=""/>
            <p:cNvSpPr/>
            <p:nvPr/>
          </p:nvSpPr>
          <p:spPr>
            <a:xfrm>
              <a:off x="599760" y="0"/>
              <a:ext cx="8010360" cy="100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Az értékesítés mennyiségi tartalék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93" name=""/>
            <p:cNvGraphicFramePr/>
            <p:nvPr/>
          </p:nvGraphicFramePr>
          <p:xfrm>
            <a:off x="228600" y="1608480"/>
            <a:ext cx="8610120" cy="49442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9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608480"/>
                      <a:ext cx="8610120" cy="49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5" name=""/>
          <p:cNvGrpSpPr/>
          <p:nvPr/>
        </p:nvGrpSpPr>
        <p:grpSpPr>
          <a:xfrm>
            <a:off x="1353960" y="411120"/>
            <a:ext cx="6643440" cy="5938920"/>
            <a:chOff x="1353960" y="411120"/>
            <a:chExt cx="6643440" cy="5938920"/>
          </a:xfrm>
        </p:grpSpPr>
        <p:sp>
          <p:nvSpPr>
            <p:cNvPr id="996" name=""/>
            <p:cNvSpPr/>
            <p:nvPr/>
          </p:nvSpPr>
          <p:spPr>
            <a:xfrm>
              <a:off x="2874600" y="3610440"/>
              <a:ext cx="1706400" cy="669960"/>
            </a:xfrm>
            <a:custGeom>
              <a:avLst/>
              <a:gdLst/>
              <a:ahLst/>
              <a:rect l="l" t="t" r="r" b="b"/>
              <a:pathLst>
                <a:path w="2568" h="914">
                  <a:moveTo>
                    <a:pt x="0" y="73"/>
                  </a:moveTo>
                  <a:lnTo>
                    <a:pt x="118" y="204"/>
                  </a:lnTo>
                  <a:lnTo>
                    <a:pt x="379" y="502"/>
                  </a:lnTo>
                  <a:lnTo>
                    <a:pt x="672" y="728"/>
                  </a:lnTo>
                  <a:lnTo>
                    <a:pt x="992" y="820"/>
                  </a:lnTo>
                  <a:lnTo>
                    <a:pt x="2495" y="914"/>
                  </a:lnTo>
                  <a:lnTo>
                    <a:pt x="2568" y="764"/>
                  </a:lnTo>
                  <a:lnTo>
                    <a:pt x="2480" y="764"/>
                  </a:lnTo>
                  <a:lnTo>
                    <a:pt x="2365" y="728"/>
                  </a:lnTo>
                  <a:lnTo>
                    <a:pt x="2219" y="616"/>
                  </a:lnTo>
                  <a:lnTo>
                    <a:pt x="2080" y="476"/>
                  </a:lnTo>
                  <a:lnTo>
                    <a:pt x="1999" y="344"/>
                  </a:lnTo>
                  <a:lnTo>
                    <a:pt x="1956" y="241"/>
                  </a:lnTo>
                  <a:lnTo>
                    <a:pt x="1927" y="176"/>
                  </a:lnTo>
                  <a:lnTo>
                    <a:pt x="1897" y="233"/>
                  </a:lnTo>
                  <a:lnTo>
                    <a:pt x="1862" y="279"/>
                  </a:lnTo>
                  <a:lnTo>
                    <a:pt x="1904" y="335"/>
                  </a:lnTo>
                  <a:lnTo>
                    <a:pt x="1904" y="392"/>
                  </a:lnTo>
                  <a:lnTo>
                    <a:pt x="1889" y="411"/>
                  </a:lnTo>
                  <a:lnTo>
                    <a:pt x="1831" y="457"/>
                  </a:lnTo>
                  <a:lnTo>
                    <a:pt x="1751" y="428"/>
                  </a:lnTo>
                  <a:lnTo>
                    <a:pt x="1692" y="316"/>
                  </a:lnTo>
                  <a:lnTo>
                    <a:pt x="1678" y="129"/>
                  </a:lnTo>
                  <a:lnTo>
                    <a:pt x="1738" y="0"/>
                  </a:lnTo>
                  <a:lnTo>
                    <a:pt x="1692" y="73"/>
                  </a:lnTo>
                  <a:lnTo>
                    <a:pt x="13" y="73"/>
                  </a:lnTo>
                  <a:lnTo>
                    <a:pt x="0" y="73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806000" y="3841920"/>
              <a:ext cx="747360" cy="464760"/>
            </a:xfrm>
            <a:custGeom>
              <a:avLst/>
              <a:gdLst/>
              <a:ahLst/>
              <a:rect l="l" t="t" r="r" b="b"/>
              <a:pathLst>
                <a:path w="1124" h="635">
                  <a:moveTo>
                    <a:pt x="16" y="598"/>
                  </a:moveTo>
                  <a:lnTo>
                    <a:pt x="134" y="412"/>
                  </a:lnTo>
                  <a:lnTo>
                    <a:pt x="248" y="262"/>
                  </a:lnTo>
                  <a:lnTo>
                    <a:pt x="424" y="75"/>
                  </a:lnTo>
                  <a:lnTo>
                    <a:pt x="483" y="0"/>
                  </a:lnTo>
                  <a:lnTo>
                    <a:pt x="715" y="113"/>
                  </a:lnTo>
                  <a:lnTo>
                    <a:pt x="862" y="337"/>
                  </a:lnTo>
                  <a:lnTo>
                    <a:pt x="920" y="448"/>
                  </a:lnTo>
                  <a:lnTo>
                    <a:pt x="1037" y="562"/>
                  </a:lnTo>
                  <a:lnTo>
                    <a:pt x="1124" y="635"/>
                  </a:lnTo>
                  <a:lnTo>
                    <a:pt x="0" y="635"/>
                  </a:lnTo>
                  <a:lnTo>
                    <a:pt x="16" y="598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716720" y="2274120"/>
              <a:ext cx="380520" cy="1457280"/>
            </a:xfrm>
            <a:custGeom>
              <a:avLst/>
              <a:gdLst/>
              <a:ahLst/>
              <a:rect l="l" t="t" r="r" b="b"/>
              <a:pathLst>
                <a:path w="574" h="1983">
                  <a:moveTo>
                    <a:pt x="234" y="1944"/>
                  </a:moveTo>
                  <a:lnTo>
                    <a:pt x="189" y="1833"/>
                  </a:lnTo>
                  <a:lnTo>
                    <a:pt x="160" y="1741"/>
                  </a:lnTo>
                  <a:lnTo>
                    <a:pt x="122" y="1638"/>
                  </a:lnTo>
                  <a:lnTo>
                    <a:pt x="79" y="1498"/>
                  </a:lnTo>
                  <a:lnTo>
                    <a:pt x="0" y="1404"/>
                  </a:lnTo>
                  <a:lnTo>
                    <a:pt x="60" y="1310"/>
                  </a:lnTo>
                  <a:lnTo>
                    <a:pt x="234" y="936"/>
                  </a:lnTo>
                  <a:lnTo>
                    <a:pt x="29" y="897"/>
                  </a:lnTo>
                  <a:lnTo>
                    <a:pt x="118" y="562"/>
                  </a:lnTo>
                  <a:lnTo>
                    <a:pt x="234" y="301"/>
                  </a:lnTo>
                  <a:lnTo>
                    <a:pt x="292" y="150"/>
                  </a:lnTo>
                  <a:lnTo>
                    <a:pt x="351" y="39"/>
                  </a:lnTo>
                  <a:lnTo>
                    <a:pt x="379" y="0"/>
                  </a:lnTo>
                  <a:lnTo>
                    <a:pt x="410" y="77"/>
                  </a:lnTo>
                  <a:lnTo>
                    <a:pt x="437" y="188"/>
                  </a:lnTo>
                  <a:lnTo>
                    <a:pt x="502" y="292"/>
                  </a:lnTo>
                  <a:lnTo>
                    <a:pt x="555" y="376"/>
                  </a:lnTo>
                  <a:lnTo>
                    <a:pt x="574" y="451"/>
                  </a:lnTo>
                  <a:lnTo>
                    <a:pt x="516" y="564"/>
                  </a:lnTo>
                  <a:lnTo>
                    <a:pt x="502" y="667"/>
                  </a:lnTo>
                  <a:lnTo>
                    <a:pt x="510" y="749"/>
                  </a:lnTo>
                  <a:lnTo>
                    <a:pt x="510" y="807"/>
                  </a:lnTo>
                  <a:lnTo>
                    <a:pt x="523" y="881"/>
                  </a:lnTo>
                  <a:lnTo>
                    <a:pt x="524" y="936"/>
                  </a:lnTo>
                  <a:lnTo>
                    <a:pt x="524" y="1012"/>
                  </a:lnTo>
                  <a:lnTo>
                    <a:pt x="393" y="1944"/>
                  </a:lnTo>
                  <a:lnTo>
                    <a:pt x="328" y="1871"/>
                  </a:lnTo>
                  <a:lnTo>
                    <a:pt x="234" y="198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869720" y="3709440"/>
              <a:ext cx="2160" cy="1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590720" y="2221560"/>
              <a:ext cx="360720" cy="1071360"/>
            </a:xfrm>
            <a:custGeom>
              <a:avLst/>
              <a:gdLst/>
              <a:ahLst/>
              <a:rect l="l" t="t" r="r" b="b"/>
              <a:pathLst>
                <a:path w="542" h="1458">
                  <a:moveTo>
                    <a:pt x="542" y="0"/>
                  </a:moveTo>
                  <a:lnTo>
                    <a:pt x="365" y="337"/>
                  </a:lnTo>
                  <a:lnTo>
                    <a:pt x="74" y="1009"/>
                  </a:lnTo>
                  <a:lnTo>
                    <a:pt x="338" y="1046"/>
                  </a:lnTo>
                  <a:lnTo>
                    <a:pt x="163" y="1458"/>
                  </a:lnTo>
                  <a:lnTo>
                    <a:pt x="59" y="1347"/>
                  </a:lnTo>
                  <a:lnTo>
                    <a:pt x="29" y="1311"/>
                  </a:lnTo>
                  <a:lnTo>
                    <a:pt x="0" y="1226"/>
                  </a:lnTo>
                  <a:lnTo>
                    <a:pt x="7" y="1168"/>
                  </a:lnTo>
                  <a:lnTo>
                    <a:pt x="29" y="57"/>
                  </a:lnTo>
                  <a:lnTo>
                    <a:pt x="103" y="122"/>
                  </a:lnTo>
                  <a:lnTo>
                    <a:pt x="163" y="114"/>
                  </a:lnTo>
                  <a:lnTo>
                    <a:pt x="338" y="38"/>
                  </a:lnTo>
                  <a:lnTo>
                    <a:pt x="424" y="0"/>
                  </a:lnTo>
                  <a:lnTo>
                    <a:pt x="513" y="0"/>
                  </a:lnTo>
                  <a:lnTo>
                    <a:pt x="54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067360" y="2986560"/>
              <a:ext cx="1047960" cy="769320"/>
            </a:xfrm>
            <a:custGeom>
              <a:avLst/>
              <a:gdLst/>
              <a:ahLst/>
              <a:rect l="l" t="t" r="r" b="b"/>
              <a:pathLst>
                <a:path w="1577" h="1047">
                  <a:moveTo>
                    <a:pt x="87" y="151"/>
                  </a:moveTo>
                  <a:lnTo>
                    <a:pt x="28" y="412"/>
                  </a:lnTo>
                  <a:lnTo>
                    <a:pt x="20" y="600"/>
                  </a:lnTo>
                  <a:lnTo>
                    <a:pt x="27" y="396"/>
                  </a:lnTo>
                  <a:lnTo>
                    <a:pt x="176" y="375"/>
                  </a:lnTo>
                  <a:lnTo>
                    <a:pt x="203" y="562"/>
                  </a:lnTo>
                  <a:lnTo>
                    <a:pt x="27" y="610"/>
                  </a:lnTo>
                  <a:lnTo>
                    <a:pt x="0" y="936"/>
                  </a:lnTo>
                  <a:lnTo>
                    <a:pt x="538" y="749"/>
                  </a:lnTo>
                  <a:lnTo>
                    <a:pt x="568" y="563"/>
                  </a:lnTo>
                  <a:lnTo>
                    <a:pt x="378" y="525"/>
                  </a:lnTo>
                  <a:lnTo>
                    <a:pt x="464" y="348"/>
                  </a:lnTo>
                  <a:lnTo>
                    <a:pt x="641" y="375"/>
                  </a:lnTo>
                  <a:lnTo>
                    <a:pt x="555" y="600"/>
                  </a:lnTo>
                  <a:lnTo>
                    <a:pt x="555" y="749"/>
                  </a:lnTo>
                  <a:lnTo>
                    <a:pt x="613" y="899"/>
                  </a:lnTo>
                  <a:lnTo>
                    <a:pt x="800" y="814"/>
                  </a:lnTo>
                  <a:lnTo>
                    <a:pt x="759" y="674"/>
                  </a:lnTo>
                  <a:lnTo>
                    <a:pt x="905" y="486"/>
                  </a:lnTo>
                  <a:lnTo>
                    <a:pt x="963" y="674"/>
                  </a:lnTo>
                  <a:lnTo>
                    <a:pt x="787" y="825"/>
                  </a:lnTo>
                  <a:lnTo>
                    <a:pt x="808" y="814"/>
                  </a:lnTo>
                  <a:lnTo>
                    <a:pt x="962" y="686"/>
                  </a:lnTo>
                  <a:lnTo>
                    <a:pt x="991" y="785"/>
                  </a:lnTo>
                  <a:lnTo>
                    <a:pt x="1110" y="899"/>
                  </a:lnTo>
                  <a:lnTo>
                    <a:pt x="1287" y="1010"/>
                  </a:lnTo>
                  <a:lnTo>
                    <a:pt x="1371" y="1047"/>
                  </a:lnTo>
                  <a:lnTo>
                    <a:pt x="1443" y="879"/>
                  </a:lnTo>
                  <a:lnTo>
                    <a:pt x="1287" y="785"/>
                  </a:lnTo>
                  <a:lnTo>
                    <a:pt x="1371" y="600"/>
                  </a:lnTo>
                  <a:lnTo>
                    <a:pt x="1547" y="655"/>
                  </a:lnTo>
                  <a:lnTo>
                    <a:pt x="1431" y="899"/>
                  </a:lnTo>
                  <a:lnTo>
                    <a:pt x="1431" y="936"/>
                  </a:lnTo>
                  <a:lnTo>
                    <a:pt x="1547" y="711"/>
                  </a:lnTo>
                  <a:lnTo>
                    <a:pt x="1577" y="525"/>
                  </a:lnTo>
                  <a:lnTo>
                    <a:pt x="1577" y="412"/>
                  </a:lnTo>
                  <a:lnTo>
                    <a:pt x="1459" y="412"/>
                  </a:lnTo>
                  <a:lnTo>
                    <a:pt x="1431" y="187"/>
                  </a:lnTo>
                  <a:lnTo>
                    <a:pt x="1547" y="151"/>
                  </a:lnTo>
                  <a:lnTo>
                    <a:pt x="1547" y="412"/>
                  </a:lnTo>
                  <a:lnTo>
                    <a:pt x="1577" y="412"/>
                  </a:lnTo>
                  <a:lnTo>
                    <a:pt x="1517" y="0"/>
                  </a:lnTo>
                  <a:lnTo>
                    <a:pt x="1459" y="39"/>
                  </a:lnTo>
                  <a:lnTo>
                    <a:pt x="1371" y="151"/>
                  </a:lnTo>
                  <a:lnTo>
                    <a:pt x="1287" y="225"/>
                  </a:lnTo>
                  <a:lnTo>
                    <a:pt x="1313" y="412"/>
                  </a:lnTo>
                  <a:lnTo>
                    <a:pt x="1110" y="562"/>
                  </a:lnTo>
                  <a:lnTo>
                    <a:pt x="1050" y="338"/>
                  </a:lnTo>
                  <a:lnTo>
                    <a:pt x="1255" y="225"/>
                  </a:lnTo>
                  <a:lnTo>
                    <a:pt x="1197" y="225"/>
                  </a:lnTo>
                  <a:lnTo>
                    <a:pt x="1080" y="300"/>
                  </a:lnTo>
                  <a:lnTo>
                    <a:pt x="991" y="338"/>
                  </a:lnTo>
                  <a:lnTo>
                    <a:pt x="919" y="357"/>
                  </a:lnTo>
                  <a:lnTo>
                    <a:pt x="800" y="338"/>
                  </a:lnTo>
                  <a:lnTo>
                    <a:pt x="670" y="375"/>
                  </a:lnTo>
                  <a:lnTo>
                    <a:pt x="554" y="572"/>
                  </a:lnTo>
                  <a:lnTo>
                    <a:pt x="378" y="525"/>
                  </a:lnTo>
                  <a:lnTo>
                    <a:pt x="459" y="338"/>
                  </a:lnTo>
                  <a:lnTo>
                    <a:pt x="613" y="375"/>
                  </a:lnTo>
                  <a:lnTo>
                    <a:pt x="604" y="385"/>
                  </a:lnTo>
                  <a:lnTo>
                    <a:pt x="554" y="367"/>
                  </a:lnTo>
                  <a:lnTo>
                    <a:pt x="495" y="338"/>
                  </a:lnTo>
                  <a:lnTo>
                    <a:pt x="437" y="338"/>
                  </a:lnTo>
                  <a:lnTo>
                    <a:pt x="289" y="262"/>
                  </a:lnTo>
                  <a:lnTo>
                    <a:pt x="195" y="218"/>
                  </a:lnTo>
                  <a:lnTo>
                    <a:pt x="117" y="151"/>
                  </a:lnTo>
                  <a:lnTo>
                    <a:pt x="87" y="151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115680" y="2068920"/>
              <a:ext cx="853200" cy="2184840"/>
            </a:xfrm>
            <a:custGeom>
              <a:avLst/>
              <a:gdLst/>
              <a:ahLst/>
              <a:rect l="l" t="t" r="r" b="b"/>
              <a:pathLst>
                <a:path w="1285" h="2972">
                  <a:moveTo>
                    <a:pt x="13" y="2954"/>
                  </a:moveTo>
                  <a:lnTo>
                    <a:pt x="42" y="2859"/>
                  </a:lnTo>
                  <a:lnTo>
                    <a:pt x="94" y="2672"/>
                  </a:lnTo>
                  <a:lnTo>
                    <a:pt x="145" y="2448"/>
                  </a:lnTo>
                  <a:lnTo>
                    <a:pt x="174" y="2261"/>
                  </a:lnTo>
                  <a:lnTo>
                    <a:pt x="233" y="2001"/>
                  </a:lnTo>
                  <a:lnTo>
                    <a:pt x="291" y="1777"/>
                  </a:lnTo>
                  <a:lnTo>
                    <a:pt x="350" y="1590"/>
                  </a:lnTo>
                  <a:lnTo>
                    <a:pt x="408" y="1291"/>
                  </a:lnTo>
                  <a:lnTo>
                    <a:pt x="438" y="1140"/>
                  </a:lnTo>
                  <a:lnTo>
                    <a:pt x="465" y="917"/>
                  </a:lnTo>
                  <a:lnTo>
                    <a:pt x="465" y="767"/>
                  </a:lnTo>
                  <a:lnTo>
                    <a:pt x="496" y="544"/>
                  </a:lnTo>
                  <a:lnTo>
                    <a:pt x="496" y="357"/>
                  </a:lnTo>
                  <a:lnTo>
                    <a:pt x="554" y="244"/>
                  </a:lnTo>
                  <a:lnTo>
                    <a:pt x="554" y="132"/>
                  </a:lnTo>
                  <a:lnTo>
                    <a:pt x="613" y="20"/>
                  </a:lnTo>
                  <a:lnTo>
                    <a:pt x="626" y="0"/>
                  </a:lnTo>
                  <a:lnTo>
                    <a:pt x="1285" y="1215"/>
                  </a:lnTo>
                  <a:lnTo>
                    <a:pt x="875" y="1327"/>
                  </a:lnTo>
                  <a:lnTo>
                    <a:pt x="1226" y="1701"/>
                  </a:lnTo>
                  <a:lnTo>
                    <a:pt x="1080" y="2076"/>
                  </a:lnTo>
                  <a:lnTo>
                    <a:pt x="998" y="1992"/>
                  </a:lnTo>
                  <a:lnTo>
                    <a:pt x="992" y="2001"/>
                  </a:lnTo>
                  <a:lnTo>
                    <a:pt x="955" y="1935"/>
                  </a:lnTo>
                  <a:lnTo>
                    <a:pt x="890" y="1870"/>
                  </a:lnTo>
                  <a:lnTo>
                    <a:pt x="992" y="1889"/>
                  </a:lnTo>
                  <a:lnTo>
                    <a:pt x="992" y="1814"/>
                  </a:lnTo>
                  <a:lnTo>
                    <a:pt x="904" y="1739"/>
                  </a:lnTo>
                  <a:lnTo>
                    <a:pt x="933" y="1701"/>
                  </a:lnTo>
                  <a:lnTo>
                    <a:pt x="933" y="1664"/>
                  </a:lnTo>
                  <a:lnTo>
                    <a:pt x="875" y="1664"/>
                  </a:lnTo>
                  <a:lnTo>
                    <a:pt x="844" y="1701"/>
                  </a:lnTo>
                  <a:lnTo>
                    <a:pt x="816" y="1701"/>
                  </a:lnTo>
                  <a:lnTo>
                    <a:pt x="816" y="1664"/>
                  </a:lnTo>
                  <a:lnTo>
                    <a:pt x="712" y="1719"/>
                  </a:lnTo>
                  <a:lnTo>
                    <a:pt x="653" y="1626"/>
                  </a:lnTo>
                  <a:lnTo>
                    <a:pt x="554" y="1626"/>
                  </a:lnTo>
                  <a:lnTo>
                    <a:pt x="554" y="1701"/>
                  </a:lnTo>
                  <a:lnTo>
                    <a:pt x="438" y="1739"/>
                  </a:lnTo>
                  <a:lnTo>
                    <a:pt x="524" y="1851"/>
                  </a:lnTo>
                  <a:lnTo>
                    <a:pt x="391" y="1944"/>
                  </a:lnTo>
                  <a:lnTo>
                    <a:pt x="363" y="2036"/>
                  </a:lnTo>
                  <a:lnTo>
                    <a:pt x="465" y="2084"/>
                  </a:lnTo>
                  <a:lnTo>
                    <a:pt x="444" y="2178"/>
                  </a:lnTo>
                  <a:lnTo>
                    <a:pt x="524" y="2197"/>
                  </a:lnTo>
                  <a:lnTo>
                    <a:pt x="598" y="2140"/>
                  </a:lnTo>
                  <a:lnTo>
                    <a:pt x="691" y="2093"/>
                  </a:lnTo>
                  <a:lnTo>
                    <a:pt x="750" y="2168"/>
                  </a:lnTo>
                  <a:lnTo>
                    <a:pt x="816" y="2065"/>
                  </a:lnTo>
                  <a:lnTo>
                    <a:pt x="904" y="2093"/>
                  </a:lnTo>
                  <a:lnTo>
                    <a:pt x="983" y="1966"/>
                  </a:lnTo>
                  <a:lnTo>
                    <a:pt x="1080" y="2076"/>
                  </a:lnTo>
                  <a:lnTo>
                    <a:pt x="731" y="2972"/>
                  </a:lnTo>
                  <a:lnTo>
                    <a:pt x="0" y="2972"/>
                  </a:lnTo>
                  <a:lnTo>
                    <a:pt x="13" y="295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618240" y="2060640"/>
              <a:ext cx="1379160" cy="2196000"/>
            </a:xfrm>
            <a:custGeom>
              <a:avLst/>
              <a:gdLst/>
              <a:ahLst/>
              <a:rect l="l" t="t" r="r" b="b"/>
              <a:pathLst>
                <a:path w="2075" h="2990">
                  <a:moveTo>
                    <a:pt x="22" y="2990"/>
                  </a:moveTo>
                  <a:lnTo>
                    <a:pt x="556" y="1701"/>
                  </a:lnTo>
                  <a:lnTo>
                    <a:pt x="226" y="1374"/>
                  </a:lnTo>
                  <a:lnTo>
                    <a:pt x="614" y="1270"/>
                  </a:lnTo>
                  <a:lnTo>
                    <a:pt x="0" y="0"/>
                  </a:lnTo>
                  <a:lnTo>
                    <a:pt x="148" y="0"/>
                  </a:lnTo>
                  <a:lnTo>
                    <a:pt x="235" y="74"/>
                  </a:lnTo>
                  <a:lnTo>
                    <a:pt x="437" y="186"/>
                  </a:lnTo>
                  <a:lnTo>
                    <a:pt x="585" y="298"/>
                  </a:lnTo>
                  <a:lnTo>
                    <a:pt x="702" y="410"/>
                  </a:lnTo>
                  <a:lnTo>
                    <a:pt x="848" y="336"/>
                  </a:lnTo>
                  <a:lnTo>
                    <a:pt x="965" y="298"/>
                  </a:lnTo>
                  <a:lnTo>
                    <a:pt x="1053" y="261"/>
                  </a:lnTo>
                  <a:lnTo>
                    <a:pt x="1256" y="298"/>
                  </a:lnTo>
                  <a:lnTo>
                    <a:pt x="1402" y="410"/>
                  </a:lnTo>
                  <a:lnTo>
                    <a:pt x="1579" y="597"/>
                  </a:lnTo>
                  <a:lnTo>
                    <a:pt x="1753" y="822"/>
                  </a:lnTo>
                  <a:lnTo>
                    <a:pt x="1841" y="1120"/>
                  </a:lnTo>
                  <a:lnTo>
                    <a:pt x="1929" y="1456"/>
                  </a:lnTo>
                  <a:lnTo>
                    <a:pt x="1986" y="1681"/>
                  </a:lnTo>
                  <a:lnTo>
                    <a:pt x="2059" y="2018"/>
                  </a:lnTo>
                  <a:lnTo>
                    <a:pt x="2075" y="2353"/>
                  </a:lnTo>
                  <a:lnTo>
                    <a:pt x="2075" y="2578"/>
                  </a:lnTo>
                  <a:lnTo>
                    <a:pt x="2073" y="2980"/>
                  </a:lnTo>
                  <a:lnTo>
                    <a:pt x="59" y="2980"/>
                  </a:lnTo>
                  <a:lnTo>
                    <a:pt x="22" y="299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271200" y="1068120"/>
              <a:ext cx="603720" cy="831240"/>
            </a:xfrm>
            <a:custGeom>
              <a:avLst/>
              <a:gdLst/>
              <a:ahLst/>
              <a:rect l="l" t="t" r="r" b="b"/>
              <a:pathLst>
                <a:path w="910" h="1130">
                  <a:moveTo>
                    <a:pt x="874" y="447"/>
                  </a:moveTo>
                  <a:lnTo>
                    <a:pt x="910" y="354"/>
                  </a:lnTo>
                  <a:lnTo>
                    <a:pt x="904" y="260"/>
                  </a:lnTo>
                  <a:lnTo>
                    <a:pt x="866" y="195"/>
                  </a:lnTo>
                  <a:lnTo>
                    <a:pt x="816" y="185"/>
                  </a:lnTo>
                  <a:lnTo>
                    <a:pt x="779" y="166"/>
                  </a:lnTo>
                  <a:lnTo>
                    <a:pt x="786" y="102"/>
                  </a:lnTo>
                  <a:lnTo>
                    <a:pt x="729" y="36"/>
                  </a:lnTo>
                  <a:lnTo>
                    <a:pt x="671" y="0"/>
                  </a:lnTo>
                  <a:lnTo>
                    <a:pt x="582" y="0"/>
                  </a:lnTo>
                  <a:lnTo>
                    <a:pt x="496" y="0"/>
                  </a:lnTo>
                  <a:lnTo>
                    <a:pt x="379" y="36"/>
                  </a:lnTo>
                  <a:lnTo>
                    <a:pt x="290" y="110"/>
                  </a:lnTo>
                  <a:lnTo>
                    <a:pt x="231" y="185"/>
                  </a:lnTo>
                  <a:lnTo>
                    <a:pt x="231" y="260"/>
                  </a:lnTo>
                  <a:lnTo>
                    <a:pt x="173" y="298"/>
                  </a:lnTo>
                  <a:lnTo>
                    <a:pt x="86" y="372"/>
                  </a:lnTo>
                  <a:lnTo>
                    <a:pt x="27" y="468"/>
                  </a:lnTo>
                  <a:lnTo>
                    <a:pt x="0" y="560"/>
                  </a:lnTo>
                  <a:lnTo>
                    <a:pt x="0" y="634"/>
                  </a:lnTo>
                  <a:lnTo>
                    <a:pt x="79" y="700"/>
                  </a:lnTo>
                  <a:lnTo>
                    <a:pt x="137" y="711"/>
                  </a:lnTo>
                  <a:lnTo>
                    <a:pt x="115" y="821"/>
                  </a:lnTo>
                  <a:lnTo>
                    <a:pt x="115" y="895"/>
                  </a:lnTo>
                  <a:lnTo>
                    <a:pt x="115" y="971"/>
                  </a:lnTo>
                  <a:lnTo>
                    <a:pt x="144" y="1046"/>
                  </a:lnTo>
                  <a:lnTo>
                    <a:pt x="204" y="1083"/>
                  </a:lnTo>
                  <a:lnTo>
                    <a:pt x="262" y="1119"/>
                  </a:lnTo>
                  <a:lnTo>
                    <a:pt x="327" y="1130"/>
                  </a:lnTo>
                  <a:lnTo>
                    <a:pt x="379" y="1119"/>
                  </a:lnTo>
                  <a:lnTo>
                    <a:pt x="449" y="971"/>
                  </a:lnTo>
                  <a:lnTo>
                    <a:pt x="466" y="895"/>
                  </a:lnTo>
                  <a:lnTo>
                    <a:pt x="496" y="785"/>
                  </a:lnTo>
                  <a:lnTo>
                    <a:pt x="516" y="737"/>
                  </a:lnTo>
                  <a:lnTo>
                    <a:pt x="582" y="634"/>
                  </a:lnTo>
                  <a:lnTo>
                    <a:pt x="641" y="560"/>
                  </a:lnTo>
                  <a:lnTo>
                    <a:pt x="677" y="512"/>
                  </a:lnTo>
                  <a:lnTo>
                    <a:pt x="729" y="484"/>
                  </a:lnTo>
                  <a:lnTo>
                    <a:pt x="764" y="476"/>
                  </a:lnTo>
                  <a:lnTo>
                    <a:pt x="846" y="447"/>
                  </a:lnTo>
                  <a:lnTo>
                    <a:pt x="874" y="44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633280" y="986400"/>
              <a:ext cx="464400" cy="253440"/>
            </a:xfrm>
            <a:custGeom>
              <a:avLst/>
              <a:gdLst/>
              <a:ahLst/>
              <a:rect l="l" t="t" r="r" b="b"/>
              <a:pathLst>
                <a:path w="701" h="344">
                  <a:moveTo>
                    <a:pt x="686" y="299"/>
                  </a:moveTo>
                  <a:lnTo>
                    <a:pt x="701" y="204"/>
                  </a:lnTo>
                  <a:lnTo>
                    <a:pt x="665" y="150"/>
                  </a:lnTo>
                  <a:lnTo>
                    <a:pt x="605" y="102"/>
                  </a:lnTo>
                  <a:lnTo>
                    <a:pt x="497" y="84"/>
                  </a:lnTo>
                  <a:lnTo>
                    <a:pt x="481" y="18"/>
                  </a:lnTo>
                  <a:lnTo>
                    <a:pt x="379" y="0"/>
                  </a:lnTo>
                  <a:lnTo>
                    <a:pt x="286" y="37"/>
                  </a:lnTo>
                  <a:lnTo>
                    <a:pt x="227" y="37"/>
                  </a:lnTo>
                  <a:lnTo>
                    <a:pt x="139" y="74"/>
                  </a:lnTo>
                  <a:lnTo>
                    <a:pt x="102" y="168"/>
                  </a:lnTo>
                  <a:lnTo>
                    <a:pt x="21" y="225"/>
                  </a:lnTo>
                  <a:lnTo>
                    <a:pt x="0" y="308"/>
                  </a:lnTo>
                  <a:lnTo>
                    <a:pt x="65" y="344"/>
                  </a:lnTo>
                  <a:lnTo>
                    <a:pt x="155" y="319"/>
                  </a:lnTo>
                  <a:lnTo>
                    <a:pt x="241" y="290"/>
                  </a:lnTo>
                  <a:lnTo>
                    <a:pt x="379" y="279"/>
                  </a:lnTo>
                  <a:lnTo>
                    <a:pt x="578" y="335"/>
                  </a:lnTo>
                  <a:lnTo>
                    <a:pt x="686" y="29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983840" y="1945440"/>
              <a:ext cx="1285560" cy="460800"/>
            </a:xfrm>
            <a:custGeom>
              <a:avLst/>
              <a:gdLst/>
              <a:ahLst/>
              <a:rect l="l" t="t" r="r" b="b"/>
              <a:pathLst>
                <a:path w="1936" h="629">
                  <a:moveTo>
                    <a:pt x="533" y="188"/>
                  </a:moveTo>
                  <a:lnTo>
                    <a:pt x="415" y="207"/>
                  </a:lnTo>
                  <a:lnTo>
                    <a:pt x="342" y="310"/>
                  </a:lnTo>
                  <a:lnTo>
                    <a:pt x="270" y="300"/>
                  </a:lnTo>
                  <a:lnTo>
                    <a:pt x="213" y="337"/>
                  </a:lnTo>
                  <a:lnTo>
                    <a:pt x="155" y="374"/>
                  </a:lnTo>
                  <a:lnTo>
                    <a:pt x="96" y="431"/>
                  </a:lnTo>
                  <a:lnTo>
                    <a:pt x="66" y="486"/>
                  </a:lnTo>
                  <a:lnTo>
                    <a:pt x="7" y="516"/>
                  </a:lnTo>
                  <a:lnTo>
                    <a:pt x="0" y="553"/>
                  </a:lnTo>
                  <a:lnTo>
                    <a:pt x="38" y="598"/>
                  </a:lnTo>
                  <a:lnTo>
                    <a:pt x="155" y="598"/>
                  </a:lnTo>
                  <a:lnTo>
                    <a:pt x="285" y="572"/>
                  </a:lnTo>
                  <a:lnTo>
                    <a:pt x="342" y="629"/>
                  </a:lnTo>
                  <a:lnTo>
                    <a:pt x="569" y="618"/>
                  </a:lnTo>
                  <a:lnTo>
                    <a:pt x="681" y="598"/>
                  </a:lnTo>
                  <a:lnTo>
                    <a:pt x="826" y="562"/>
                  </a:lnTo>
                  <a:lnTo>
                    <a:pt x="912" y="486"/>
                  </a:lnTo>
                  <a:lnTo>
                    <a:pt x="970" y="525"/>
                  </a:lnTo>
                  <a:lnTo>
                    <a:pt x="1030" y="562"/>
                  </a:lnTo>
                  <a:lnTo>
                    <a:pt x="1088" y="562"/>
                  </a:lnTo>
                  <a:lnTo>
                    <a:pt x="1176" y="525"/>
                  </a:lnTo>
                  <a:lnTo>
                    <a:pt x="1205" y="562"/>
                  </a:lnTo>
                  <a:lnTo>
                    <a:pt x="1322" y="562"/>
                  </a:lnTo>
                  <a:lnTo>
                    <a:pt x="1526" y="562"/>
                  </a:lnTo>
                  <a:lnTo>
                    <a:pt x="1643" y="525"/>
                  </a:lnTo>
                  <a:lnTo>
                    <a:pt x="1672" y="486"/>
                  </a:lnTo>
                  <a:lnTo>
                    <a:pt x="1730" y="412"/>
                  </a:lnTo>
                  <a:lnTo>
                    <a:pt x="1790" y="448"/>
                  </a:lnTo>
                  <a:lnTo>
                    <a:pt x="1905" y="337"/>
                  </a:lnTo>
                  <a:lnTo>
                    <a:pt x="1936" y="224"/>
                  </a:lnTo>
                  <a:lnTo>
                    <a:pt x="1875" y="151"/>
                  </a:lnTo>
                  <a:lnTo>
                    <a:pt x="1875" y="188"/>
                  </a:lnTo>
                  <a:lnTo>
                    <a:pt x="1875" y="76"/>
                  </a:lnTo>
                  <a:lnTo>
                    <a:pt x="1817" y="0"/>
                  </a:lnTo>
                  <a:lnTo>
                    <a:pt x="1760" y="0"/>
                  </a:lnTo>
                  <a:lnTo>
                    <a:pt x="1643" y="76"/>
                  </a:lnTo>
                  <a:lnTo>
                    <a:pt x="1556" y="76"/>
                  </a:lnTo>
                  <a:lnTo>
                    <a:pt x="1468" y="113"/>
                  </a:lnTo>
                  <a:lnTo>
                    <a:pt x="1412" y="76"/>
                  </a:lnTo>
                  <a:lnTo>
                    <a:pt x="1351" y="76"/>
                  </a:lnTo>
                  <a:lnTo>
                    <a:pt x="1351" y="113"/>
                  </a:lnTo>
                  <a:lnTo>
                    <a:pt x="1293" y="188"/>
                  </a:lnTo>
                  <a:lnTo>
                    <a:pt x="1205" y="263"/>
                  </a:lnTo>
                  <a:lnTo>
                    <a:pt x="1118" y="300"/>
                  </a:lnTo>
                  <a:lnTo>
                    <a:pt x="1088" y="263"/>
                  </a:lnTo>
                  <a:lnTo>
                    <a:pt x="1030" y="188"/>
                  </a:lnTo>
                  <a:lnTo>
                    <a:pt x="970" y="224"/>
                  </a:lnTo>
                  <a:lnTo>
                    <a:pt x="912" y="263"/>
                  </a:lnTo>
                  <a:lnTo>
                    <a:pt x="797" y="337"/>
                  </a:lnTo>
                  <a:lnTo>
                    <a:pt x="681" y="374"/>
                  </a:lnTo>
                  <a:lnTo>
                    <a:pt x="620" y="337"/>
                  </a:lnTo>
                  <a:lnTo>
                    <a:pt x="591" y="224"/>
                  </a:lnTo>
                  <a:lnTo>
                    <a:pt x="533" y="188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101760" y="1488960"/>
              <a:ext cx="139680" cy="88200"/>
            </a:xfrm>
            <a:custGeom>
              <a:avLst/>
              <a:gdLst/>
              <a:ahLst/>
              <a:rect l="l" t="t" r="r" b="b"/>
              <a:pathLst>
                <a:path w="210" h="120">
                  <a:moveTo>
                    <a:pt x="189" y="120"/>
                  </a:moveTo>
                  <a:lnTo>
                    <a:pt x="210" y="26"/>
                  </a:lnTo>
                  <a:lnTo>
                    <a:pt x="174" y="0"/>
                  </a:lnTo>
                  <a:lnTo>
                    <a:pt x="103" y="7"/>
                  </a:lnTo>
                  <a:lnTo>
                    <a:pt x="0" y="1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677320" y="1451880"/>
              <a:ext cx="310320" cy="328320"/>
            </a:xfrm>
            <a:custGeom>
              <a:avLst/>
              <a:gdLst/>
              <a:ahLst/>
              <a:rect l="l" t="t" r="r" b="b"/>
              <a:pathLst>
                <a:path w="467" h="447">
                  <a:moveTo>
                    <a:pt x="467" y="187"/>
                  </a:moveTo>
                  <a:lnTo>
                    <a:pt x="410" y="37"/>
                  </a:lnTo>
                  <a:lnTo>
                    <a:pt x="292" y="0"/>
                  </a:lnTo>
                  <a:lnTo>
                    <a:pt x="161" y="10"/>
                  </a:lnTo>
                  <a:lnTo>
                    <a:pt x="59" y="75"/>
                  </a:lnTo>
                  <a:lnTo>
                    <a:pt x="31" y="187"/>
                  </a:lnTo>
                  <a:lnTo>
                    <a:pt x="0" y="262"/>
                  </a:lnTo>
                  <a:lnTo>
                    <a:pt x="0" y="373"/>
                  </a:lnTo>
                  <a:lnTo>
                    <a:pt x="0" y="447"/>
                  </a:lnTo>
                  <a:lnTo>
                    <a:pt x="88" y="447"/>
                  </a:lnTo>
                  <a:lnTo>
                    <a:pt x="147" y="411"/>
                  </a:lnTo>
                  <a:lnTo>
                    <a:pt x="205" y="336"/>
                  </a:lnTo>
                  <a:lnTo>
                    <a:pt x="205" y="262"/>
                  </a:lnTo>
                  <a:lnTo>
                    <a:pt x="234" y="187"/>
                  </a:lnTo>
                  <a:lnTo>
                    <a:pt x="352" y="187"/>
                  </a:lnTo>
                  <a:lnTo>
                    <a:pt x="410" y="18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698920" y="1671840"/>
              <a:ext cx="37800" cy="103680"/>
            </a:xfrm>
            <a:custGeom>
              <a:avLst/>
              <a:gdLst/>
              <a:ahLst/>
              <a:rect l="l" t="t" r="r" b="b"/>
              <a:pathLst>
                <a:path w="58" h="140">
                  <a:moveTo>
                    <a:pt x="50" y="140"/>
                  </a:moveTo>
                  <a:lnTo>
                    <a:pt x="58" y="110"/>
                  </a:lnTo>
                  <a:lnTo>
                    <a:pt x="58" y="36"/>
                  </a:lnTo>
                  <a:lnTo>
                    <a:pt x="28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487960" y="1438560"/>
              <a:ext cx="253080" cy="460800"/>
            </a:xfrm>
            <a:custGeom>
              <a:avLst/>
              <a:gdLst/>
              <a:ahLst/>
              <a:rect l="l" t="t" r="r" b="b"/>
              <a:pathLst>
                <a:path w="381" h="628">
                  <a:moveTo>
                    <a:pt x="381" y="56"/>
                  </a:moveTo>
                  <a:lnTo>
                    <a:pt x="263" y="0"/>
                  </a:lnTo>
                  <a:lnTo>
                    <a:pt x="147" y="18"/>
                  </a:lnTo>
                  <a:lnTo>
                    <a:pt x="82" y="149"/>
                  </a:lnTo>
                  <a:lnTo>
                    <a:pt x="31" y="243"/>
                  </a:lnTo>
                  <a:lnTo>
                    <a:pt x="6" y="385"/>
                  </a:lnTo>
                  <a:lnTo>
                    <a:pt x="0" y="524"/>
                  </a:lnTo>
                  <a:lnTo>
                    <a:pt x="31" y="628"/>
                  </a:lnTo>
                  <a:lnTo>
                    <a:pt x="154" y="617"/>
                  </a:lnTo>
                  <a:lnTo>
                    <a:pt x="221" y="448"/>
                  </a:lnTo>
                  <a:lnTo>
                    <a:pt x="293" y="3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507760" y="1727640"/>
              <a:ext cx="57600" cy="158400"/>
            </a:xfrm>
            <a:custGeom>
              <a:avLst/>
              <a:gdLst/>
              <a:ahLst/>
              <a:rect l="l" t="t" r="r" b="b"/>
              <a:pathLst>
                <a:path w="86" h="217">
                  <a:moveTo>
                    <a:pt x="42" y="217"/>
                  </a:moveTo>
                  <a:lnTo>
                    <a:pt x="86" y="75"/>
                  </a:lnTo>
                  <a:lnTo>
                    <a:pt x="86" y="37"/>
                  </a:lnTo>
                  <a:lnTo>
                    <a:pt x="28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374200" y="1411920"/>
              <a:ext cx="169200" cy="372240"/>
            </a:xfrm>
            <a:custGeom>
              <a:avLst/>
              <a:gdLst/>
              <a:ahLst/>
              <a:rect l="l" t="t" r="r" b="b"/>
              <a:pathLst>
                <a:path w="256" h="505">
                  <a:moveTo>
                    <a:pt x="256" y="92"/>
                  </a:moveTo>
                  <a:lnTo>
                    <a:pt x="197" y="17"/>
                  </a:lnTo>
                  <a:lnTo>
                    <a:pt x="117" y="0"/>
                  </a:lnTo>
                  <a:lnTo>
                    <a:pt x="52" y="55"/>
                  </a:lnTo>
                  <a:lnTo>
                    <a:pt x="21" y="166"/>
                  </a:lnTo>
                  <a:lnTo>
                    <a:pt x="0" y="307"/>
                  </a:lnTo>
                  <a:lnTo>
                    <a:pt x="21" y="421"/>
                  </a:lnTo>
                  <a:lnTo>
                    <a:pt x="59" y="505"/>
                  </a:lnTo>
                  <a:lnTo>
                    <a:pt x="139" y="5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2403720" y="1701000"/>
              <a:ext cx="57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116800" y="1418400"/>
              <a:ext cx="276840" cy="229320"/>
            </a:xfrm>
            <a:custGeom>
              <a:avLst/>
              <a:gdLst/>
              <a:ahLst/>
              <a:rect l="l" t="t" r="r" b="b"/>
              <a:pathLst>
                <a:path w="416" h="310">
                  <a:moveTo>
                    <a:pt x="416" y="95"/>
                  </a:moveTo>
                  <a:lnTo>
                    <a:pt x="292" y="103"/>
                  </a:lnTo>
                  <a:lnTo>
                    <a:pt x="176" y="84"/>
                  </a:lnTo>
                  <a:lnTo>
                    <a:pt x="115" y="47"/>
                  </a:lnTo>
                  <a:lnTo>
                    <a:pt x="37" y="0"/>
                  </a:lnTo>
                  <a:lnTo>
                    <a:pt x="0" y="9"/>
                  </a:lnTo>
                  <a:lnTo>
                    <a:pt x="0" y="84"/>
                  </a:lnTo>
                  <a:lnTo>
                    <a:pt x="29" y="196"/>
                  </a:lnTo>
                  <a:lnTo>
                    <a:pt x="115" y="272"/>
                  </a:lnTo>
                  <a:lnTo>
                    <a:pt x="202" y="310"/>
                  </a:lnTo>
                  <a:lnTo>
                    <a:pt x="321" y="3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139120" y="1480320"/>
              <a:ext cx="73440" cy="1800"/>
            </a:xfrm>
            <a:custGeom>
              <a:avLst/>
              <a:gdLst/>
              <a:ahLst/>
              <a:rect l="l" t="t" r="r" b="b"/>
              <a:pathLst>
                <a:path w="113" h="0">
                  <a:moveTo>
                    <a:pt x="113" y="0"/>
                  </a:moveTo>
                  <a:lnTo>
                    <a:pt x="56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2838600" y="1586520"/>
              <a:ext cx="1746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963440" y="1588320"/>
              <a:ext cx="2025000" cy="2061360"/>
            </a:xfrm>
            <a:custGeom>
              <a:avLst/>
              <a:gdLst/>
              <a:ahLst/>
              <a:rect l="l" t="t" r="r" b="b"/>
              <a:pathLst>
                <a:path w="3050" h="2804">
                  <a:moveTo>
                    <a:pt x="291" y="0"/>
                  </a:moveTo>
                  <a:lnTo>
                    <a:pt x="0" y="0"/>
                  </a:lnTo>
                  <a:lnTo>
                    <a:pt x="0" y="2804"/>
                  </a:lnTo>
                  <a:lnTo>
                    <a:pt x="3050" y="28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043000" y="1671840"/>
              <a:ext cx="1987560" cy="1902960"/>
            </a:xfrm>
            <a:custGeom>
              <a:avLst/>
              <a:gdLst/>
              <a:ahLst/>
              <a:rect l="l" t="t" r="r" b="b"/>
              <a:pathLst>
                <a:path w="2993" h="2588">
                  <a:moveTo>
                    <a:pt x="2993" y="2588"/>
                  </a:moveTo>
                  <a:lnTo>
                    <a:pt x="0" y="2578"/>
                  </a:lnTo>
                  <a:lnTo>
                    <a:pt x="0" y="0"/>
                  </a:lnTo>
                  <a:lnTo>
                    <a:pt x="49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16640" y="1671840"/>
              <a:ext cx="1714320" cy="1347480"/>
            </a:xfrm>
            <a:custGeom>
              <a:avLst/>
              <a:gdLst/>
              <a:ahLst/>
              <a:rect l="l" t="t" r="r" b="b"/>
              <a:pathLst>
                <a:path w="2581" h="1832">
                  <a:moveTo>
                    <a:pt x="0" y="0"/>
                  </a:moveTo>
                  <a:lnTo>
                    <a:pt x="2581" y="1"/>
                  </a:lnTo>
                  <a:lnTo>
                    <a:pt x="2581" y="18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V="1">
              <a:off x="4595040" y="1594800"/>
              <a:ext cx="1800" cy="144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134240" y="2743920"/>
              <a:ext cx="737640" cy="958680"/>
            </a:xfrm>
            <a:custGeom>
              <a:avLst/>
              <a:gdLst/>
              <a:ahLst/>
              <a:rect l="l" t="t" r="r" b="b"/>
              <a:pathLst>
                <a:path w="1108" h="1306">
                  <a:moveTo>
                    <a:pt x="1108" y="1306"/>
                  </a:moveTo>
                  <a:lnTo>
                    <a:pt x="1022" y="1084"/>
                  </a:lnTo>
                  <a:lnTo>
                    <a:pt x="963" y="860"/>
                  </a:lnTo>
                  <a:lnTo>
                    <a:pt x="757" y="635"/>
                  </a:lnTo>
                  <a:lnTo>
                    <a:pt x="643" y="485"/>
                  </a:lnTo>
                  <a:lnTo>
                    <a:pt x="582" y="374"/>
                  </a:lnTo>
                  <a:lnTo>
                    <a:pt x="437" y="260"/>
                  </a:lnTo>
                  <a:lnTo>
                    <a:pt x="289" y="111"/>
                  </a:lnTo>
                  <a:lnTo>
                    <a:pt x="205" y="37"/>
                  </a:lnTo>
                  <a:lnTo>
                    <a:pt x="116" y="0"/>
                  </a:lnTo>
                  <a:lnTo>
                    <a:pt x="28" y="74"/>
                  </a:lnTo>
                  <a:lnTo>
                    <a:pt x="0" y="186"/>
                  </a:lnTo>
                  <a:lnTo>
                    <a:pt x="28" y="260"/>
                  </a:lnTo>
                  <a:lnTo>
                    <a:pt x="116" y="335"/>
                  </a:lnTo>
                  <a:lnTo>
                    <a:pt x="205" y="335"/>
                  </a:lnTo>
                  <a:lnTo>
                    <a:pt x="233" y="448"/>
                  </a:lnTo>
                  <a:lnTo>
                    <a:pt x="263" y="598"/>
                  </a:lnTo>
                  <a:lnTo>
                    <a:pt x="297" y="6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244040" y="3215520"/>
              <a:ext cx="300600" cy="185400"/>
            </a:xfrm>
            <a:custGeom>
              <a:avLst/>
              <a:gdLst/>
              <a:ahLst/>
              <a:rect l="l" t="t" r="r" b="b"/>
              <a:pathLst>
                <a:path w="453" h="253">
                  <a:moveTo>
                    <a:pt x="453" y="253"/>
                  </a:moveTo>
                  <a:lnTo>
                    <a:pt x="424" y="140"/>
                  </a:lnTo>
                  <a:lnTo>
                    <a:pt x="278" y="29"/>
                  </a:lnTo>
                  <a:lnTo>
                    <a:pt x="145" y="0"/>
                  </a:lnTo>
                  <a:lnTo>
                    <a:pt x="75" y="29"/>
                  </a:lnTo>
                  <a:lnTo>
                    <a:pt x="45" y="103"/>
                  </a:lnTo>
                  <a:lnTo>
                    <a:pt x="0" y="18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136040" y="3345480"/>
              <a:ext cx="310680" cy="165240"/>
            </a:xfrm>
            <a:custGeom>
              <a:avLst/>
              <a:gdLst/>
              <a:ahLst/>
              <a:rect l="l" t="t" r="r" b="b"/>
              <a:pathLst>
                <a:path w="467" h="225">
                  <a:moveTo>
                    <a:pt x="467" y="225"/>
                  </a:moveTo>
                  <a:lnTo>
                    <a:pt x="379" y="114"/>
                  </a:lnTo>
                  <a:lnTo>
                    <a:pt x="234" y="40"/>
                  </a:lnTo>
                  <a:lnTo>
                    <a:pt x="146" y="0"/>
                  </a:lnTo>
                  <a:lnTo>
                    <a:pt x="31" y="76"/>
                  </a:lnTo>
                  <a:lnTo>
                    <a:pt x="0" y="151"/>
                  </a:lnTo>
                  <a:lnTo>
                    <a:pt x="0" y="2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020840" y="3542040"/>
              <a:ext cx="328320" cy="134280"/>
            </a:xfrm>
            <a:custGeom>
              <a:avLst/>
              <a:gdLst/>
              <a:ahLst/>
              <a:rect l="l" t="t" r="r" b="b"/>
              <a:pathLst>
                <a:path w="497" h="184">
                  <a:moveTo>
                    <a:pt x="497" y="184"/>
                  </a:moveTo>
                  <a:lnTo>
                    <a:pt x="408" y="75"/>
                  </a:lnTo>
                  <a:lnTo>
                    <a:pt x="234" y="0"/>
                  </a:lnTo>
                  <a:lnTo>
                    <a:pt x="88" y="0"/>
                  </a:lnTo>
                  <a:lnTo>
                    <a:pt x="0" y="10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524840" y="3650040"/>
              <a:ext cx="586080" cy="603720"/>
            </a:xfrm>
            <a:custGeom>
              <a:avLst/>
              <a:gdLst/>
              <a:ahLst/>
              <a:rect l="l" t="t" r="r" b="b"/>
              <a:pathLst>
                <a:path w="883" h="823">
                  <a:moveTo>
                    <a:pt x="0" y="823"/>
                  </a:moveTo>
                  <a:lnTo>
                    <a:pt x="614" y="0"/>
                  </a:lnTo>
                  <a:lnTo>
                    <a:pt x="883" y="26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558120" y="1396440"/>
              <a:ext cx="378720" cy="659520"/>
            </a:xfrm>
            <a:custGeom>
              <a:avLst/>
              <a:gdLst/>
              <a:ahLst/>
              <a:rect l="l" t="t" r="r" b="b"/>
              <a:pathLst>
                <a:path w="571" h="897">
                  <a:moveTo>
                    <a:pt x="0" y="897"/>
                  </a:moveTo>
                  <a:lnTo>
                    <a:pt x="119" y="860"/>
                  </a:lnTo>
                  <a:lnTo>
                    <a:pt x="207" y="785"/>
                  </a:lnTo>
                  <a:lnTo>
                    <a:pt x="293" y="711"/>
                  </a:lnTo>
                  <a:lnTo>
                    <a:pt x="352" y="636"/>
                  </a:lnTo>
                  <a:lnTo>
                    <a:pt x="411" y="522"/>
                  </a:lnTo>
                  <a:lnTo>
                    <a:pt x="439" y="485"/>
                  </a:lnTo>
                  <a:lnTo>
                    <a:pt x="469" y="411"/>
                  </a:lnTo>
                  <a:lnTo>
                    <a:pt x="540" y="262"/>
                  </a:lnTo>
                  <a:lnTo>
                    <a:pt x="571" y="131"/>
                  </a:lnTo>
                  <a:lnTo>
                    <a:pt x="526" y="28"/>
                  </a:lnTo>
                  <a:lnTo>
                    <a:pt x="43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639840" y="1562040"/>
              <a:ext cx="193320" cy="356760"/>
            </a:xfrm>
            <a:custGeom>
              <a:avLst/>
              <a:gdLst/>
              <a:ahLst/>
              <a:rect l="l" t="t" r="r" b="b"/>
              <a:pathLst>
                <a:path w="293" h="487">
                  <a:moveTo>
                    <a:pt x="0" y="487"/>
                  </a:moveTo>
                  <a:lnTo>
                    <a:pt x="28" y="338"/>
                  </a:lnTo>
                  <a:lnTo>
                    <a:pt x="48" y="262"/>
                  </a:lnTo>
                  <a:lnTo>
                    <a:pt x="102" y="188"/>
                  </a:lnTo>
                  <a:lnTo>
                    <a:pt x="144" y="114"/>
                  </a:lnTo>
                  <a:lnTo>
                    <a:pt x="188" y="76"/>
                  </a:lnTo>
                  <a:lnTo>
                    <a:pt x="232" y="38"/>
                  </a:lnTo>
                  <a:lnTo>
                    <a:pt x="29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162760" y="411120"/>
              <a:ext cx="1570680" cy="685800"/>
            </a:xfrm>
            <a:custGeom>
              <a:avLst/>
              <a:gdLst/>
              <a:ahLst/>
              <a:rect l="l" t="t" r="r" b="b"/>
              <a:pathLst>
                <a:path w="2365" h="934">
                  <a:moveTo>
                    <a:pt x="2365" y="859"/>
                  </a:moveTo>
                  <a:lnTo>
                    <a:pt x="2365" y="747"/>
                  </a:lnTo>
                  <a:lnTo>
                    <a:pt x="2337" y="672"/>
                  </a:lnTo>
                  <a:lnTo>
                    <a:pt x="2307" y="597"/>
                  </a:lnTo>
                  <a:lnTo>
                    <a:pt x="2247" y="486"/>
                  </a:lnTo>
                  <a:lnTo>
                    <a:pt x="2221" y="411"/>
                  </a:lnTo>
                  <a:lnTo>
                    <a:pt x="2074" y="262"/>
                  </a:lnTo>
                  <a:lnTo>
                    <a:pt x="1956" y="150"/>
                  </a:lnTo>
                  <a:lnTo>
                    <a:pt x="1810" y="74"/>
                  </a:lnTo>
                  <a:lnTo>
                    <a:pt x="1635" y="36"/>
                  </a:lnTo>
                  <a:lnTo>
                    <a:pt x="1460" y="0"/>
                  </a:lnTo>
                  <a:lnTo>
                    <a:pt x="1226" y="0"/>
                  </a:lnTo>
                  <a:lnTo>
                    <a:pt x="1110" y="0"/>
                  </a:lnTo>
                  <a:lnTo>
                    <a:pt x="906" y="36"/>
                  </a:lnTo>
                  <a:lnTo>
                    <a:pt x="643" y="111"/>
                  </a:lnTo>
                  <a:lnTo>
                    <a:pt x="411" y="225"/>
                  </a:lnTo>
                  <a:lnTo>
                    <a:pt x="293" y="373"/>
                  </a:lnTo>
                  <a:lnTo>
                    <a:pt x="118" y="560"/>
                  </a:lnTo>
                  <a:lnTo>
                    <a:pt x="88" y="709"/>
                  </a:lnTo>
                  <a:lnTo>
                    <a:pt x="32" y="859"/>
                  </a:lnTo>
                  <a:lnTo>
                    <a:pt x="0" y="9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358600" y="1394640"/>
              <a:ext cx="175320" cy="714240"/>
            </a:xfrm>
            <a:custGeom>
              <a:avLst/>
              <a:gdLst/>
              <a:ahLst/>
              <a:rect l="l" t="t" r="r" b="b"/>
              <a:pathLst>
                <a:path w="264" h="971">
                  <a:moveTo>
                    <a:pt x="205" y="0"/>
                  </a:moveTo>
                  <a:lnTo>
                    <a:pt x="264" y="113"/>
                  </a:lnTo>
                  <a:lnTo>
                    <a:pt x="233" y="263"/>
                  </a:lnTo>
                  <a:lnTo>
                    <a:pt x="146" y="448"/>
                  </a:lnTo>
                  <a:lnTo>
                    <a:pt x="88" y="562"/>
                  </a:lnTo>
                  <a:lnTo>
                    <a:pt x="58" y="711"/>
                  </a:lnTo>
                  <a:lnTo>
                    <a:pt x="30" y="823"/>
                  </a:lnTo>
                  <a:lnTo>
                    <a:pt x="0" y="898"/>
                  </a:lnTo>
                  <a:lnTo>
                    <a:pt x="0" y="9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280840" y="1892520"/>
              <a:ext cx="37440" cy="191880"/>
            </a:xfrm>
            <a:custGeom>
              <a:avLst/>
              <a:gdLst/>
              <a:ahLst/>
              <a:rect l="l" t="t" r="r" b="b"/>
              <a:pathLst>
                <a:path w="56" h="262">
                  <a:moveTo>
                    <a:pt x="56" y="0"/>
                  </a:moveTo>
                  <a:lnTo>
                    <a:pt x="28" y="112"/>
                  </a:lnTo>
                  <a:lnTo>
                    <a:pt x="0" y="26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804640" y="1890360"/>
              <a:ext cx="57600" cy="246960"/>
            </a:xfrm>
            <a:custGeom>
              <a:avLst/>
              <a:gdLst/>
              <a:ahLst/>
              <a:rect l="l" t="t" r="r" b="b"/>
              <a:pathLst>
                <a:path w="86" h="338">
                  <a:moveTo>
                    <a:pt x="0" y="338"/>
                  </a:moveTo>
                  <a:lnTo>
                    <a:pt x="57" y="263"/>
                  </a:lnTo>
                  <a:lnTo>
                    <a:pt x="86" y="150"/>
                  </a:lnTo>
                  <a:lnTo>
                    <a:pt x="86" y="75"/>
                  </a:lnTo>
                  <a:lnTo>
                    <a:pt x="5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707080" y="1369800"/>
              <a:ext cx="232920" cy="178920"/>
            </a:xfrm>
            <a:custGeom>
              <a:avLst/>
              <a:gdLst/>
              <a:ahLst/>
              <a:rect l="l" t="t" r="r" b="b"/>
              <a:pathLst>
                <a:path w="349" h="243">
                  <a:moveTo>
                    <a:pt x="291" y="243"/>
                  </a:moveTo>
                  <a:lnTo>
                    <a:pt x="349" y="151"/>
                  </a:lnTo>
                  <a:lnTo>
                    <a:pt x="349" y="113"/>
                  </a:lnTo>
                  <a:lnTo>
                    <a:pt x="323" y="38"/>
                  </a:lnTo>
                  <a:lnTo>
                    <a:pt x="261" y="0"/>
                  </a:lnTo>
                  <a:lnTo>
                    <a:pt x="176" y="0"/>
                  </a:lnTo>
                  <a:lnTo>
                    <a:pt x="87" y="38"/>
                  </a:lnTo>
                  <a:lnTo>
                    <a:pt x="29" y="76"/>
                  </a:lnTo>
                  <a:lnTo>
                    <a:pt x="0" y="151"/>
                  </a:lnTo>
                  <a:lnTo>
                    <a:pt x="0" y="225"/>
                  </a:lnTo>
                  <a:lnTo>
                    <a:pt x="158" y="198"/>
                  </a:lnTo>
                  <a:lnTo>
                    <a:pt x="233" y="207"/>
                  </a:lnTo>
                  <a:lnTo>
                    <a:pt x="284" y="2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804640" y="1368000"/>
              <a:ext cx="20160" cy="138960"/>
            </a:xfrm>
            <a:custGeom>
              <a:avLst/>
              <a:gdLst/>
              <a:ahLst/>
              <a:rect l="l" t="t" r="r" b="b"/>
              <a:pathLst>
                <a:path w="29" h="189">
                  <a:moveTo>
                    <a:pt x="29" y="0"/>
                  </a:moveTo>
                  <a:lnTo>
                    <a:pt x="0" y="75"/>
                  </a:lnTo>
                  <a:lnTo>
                    <a:pt x="6" y="18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868720" y="1405440"/>
              <a:ext cx="53640" cy="117000"/>
            </a:xfrm>
            <a:custGeom>
              <a:avLst/>
              <a:gdLst/>
              <a:ahLst/>
              <a:rect l="l" t="t" r="r" b="b"/>
              <a:pathLst>
                <a:path w="80" h="158">
                  <a:moveTo>
                    <a:pt x="0" y="158"/>
                  </a:moveTo>
                  <a:lnTo>
                    <a:pt x="29" y="130"/>
                  </a:lnTo>
                  <a:lnTo>
                    <a:pt x="80" y="38"/>
                  </a:lnTo>
                  <a:lnTo>
                    <a:pt x="6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132880" y="1396440"/>
              <a:ext cx="262800" cy="220320"/>
            </a:xfrm>
            <a:custGeom>
              <a:avLst/>
              <a:gdLst/>
              <a:ahLst/>
              <a:rect l="l" t="t" r="r" b="b"/>
              <a:pathLst>
                <a:path w="395" h="300">
                  <a:moveTo>
                    <a:pt x="395" y="187"/>
                  </a:moveTo>
                  <a:lnTo>
                    <a:pt x="395" y="113"/>
                  </a:lnTo>
                  <a:lnTo>
                    <a:pt x="367" y="37"/>
                  </a:lnTo>
                  <a:lnTo>
                    <a:pt x="308" y="0"/>
                  </a:lnTo>
                  <a:lnTo>
                    <a:pt x="221" y="0"/>
                  </a:lnTo>
                  <a:lnTo>
                    <a:pt x="104" y="37"/>
                  </a:lnTo>
                  <a:lnTo>
                    <a:pt x="38" y="84"/>
                  </a:lnTo>
                  <a:lnTo>
                    <a:pt x="0" y="169"/>
                  </a:lnTo>
                  <a:lnTo>
                    <a:pt x="16" y="262"/>
                  </a:lnTo>
                  <a:lnTo>
                    <a:pt x="45" y="300"/>
                  </a:lnTo>
                  <a:lnTo>
                    <a:pt x="96" y="300"/>
                  </a:lnTo>
                  <a:lnTo>
                    <a:pt x="132" y="262"/>
                  </a:lnTo>
                  <a:lnTo>
                    <a:pt x="190" y="224"/>
                  </a:lnTo>
                  <a:lnTo>
                    <a:pt x="280" y="187"/>
                  </a:lnTo>
                  <a:lnTo>
                    <a:pt x="337" y="187"/>
                  </a:lnTo>
                  <a:lnTo>
                    <a:pt x="388" y="19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360400" y="1407600"/>
              <a:ext cx="13680" cy="123480"/>
            </a:xfrm>
            <a:custGeom>
              <a:avLst/>
              <a:gdLst/>
              <a:ahLst/>
              <a:rect l="l" t="t" r="r" b="b"/>
              <a:pathLst>
                <a:path w="21" h="168">
                  <a:moveTo>
                    <a:pt x="0" y="168"/>
                  </a:moveTo>
                  <a:lnTo>
                    <a:pt x="21" y="11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250960" y="1411920"/>
              <a:ext cx="17280" cy="143280"/>
            </a:xfrm>
            <a:custGeom>
              <a:avLst/>
              <a:gdLst/>
              <a:ahLst/>
              <a:rect l="l" t="t" r="r" b="b"/>
              <a:pathLst>
                <a:path w="27" h="195">
                  <a:moveTo>
                    <a:pt x="27" y="195"/>
                  </a:moveTo>
                  <a:lnTo>
                    <a:pt x="0" y="101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087160" y="1341360"/>
              <a:ext cx="37800" cy="412200"/>
            </a:xfrm>
            <a:custGeom>
              <a:avLst/>
              <a:gdLst/>
              <a:ahLst/>
              <a:rect l="l" t="t" r="r" b="b"/>
              <a:pathLst>
                <a:path w="57" h="560">
                  <a:moveTo>
                    <a:pt x="57" y="0"/>
                  </a:moveTo>
                  <a:lnTo>
                    <a:pt x="27" y="111"/>
                  </a:lnTo>
                  <a:lnTo>
                    <a:pt x="27" y="225"/>
                  </a:lnTo>
                  <a:lnTo>
                    <a:pt x="27" y="299"/>
                  </a:lnTo>
                  <a:lnTo>
                    <a:pt x="0" y="412"/>
                  </a:lnTo>
                  <a:lnTo>
                    <a:pt x="0" y="486"/>
                  </a:lnTo>
                  <a:lnTo>
                    <a:pt x="27" y="5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991400" y="1753920"/>
              <a:ext cx="193320" cy="519840"/>
            </a:xfrm>
            <a:custGeom>
              <a:avLst/>
              <a:gdLst/>
              <a:ahLst/>
              <a:rect l="l" t="t" r="r" b="b"/>
              <a:pathLst>
                <a:path w="293" h="710">
                  <a:moveTo>
                    <a:pt x="293" y="0"/>
                  </a:moveTo>
                  <a:lnTo>
                    <a:pt x="205" y="0"/>
                  </a:lnTo>
                  <a:lnTo>
                    <a:pt x="117" y="113"/>
                  </a:lnTo>
                  <a:lnTo>
                    <a:pt x="88" y="187"/>
                  </a:lnTo>
                  <a:lnTo>
                    <a:pt x="58" y="262"/>
                  </a:lnTo>
                  <a:lnTo>
                    <a:pt x="29" y="375"/>
                  </a:lnTo>
                  <a:lnTo>
                    <a:pt x="20" y="422"/>
                  </a:lnTo>
                  <a:lnTo>
                    <a:pt x="5" y="497"/>
                  </a:lnTo>
                  <a:lnTo>
                    <a:pt x="0" y="561"/>
                  </a:lnTo>
                  <a:lnTo>
                    <a:pt x="29" y="7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049360" y="2413080"/>
              <a:ext cx="1220040" cy="831240"/>
            </a:xfrm>
            <a:custGeom>
              <a:avLst/>
              <a:gdLst/>
              <a:ahLst/>
              <a:rect l="l" t="t" r="r" b="b"/>
              <a:pathLst>
                <a:path w="1834" h="1130">
                  <a:moveTo>
                    <a:pt x="256" y="111"/>
                  </a:moveTo>
                  <a:lnTo>
                    <a:pt x="169" y="151"/>
                  </a:lnTo>
                  <a:lnTo>
                    <a:pt x="80" y="224"/>
                  </a:lnTo>
                  <a:lnTo>
                    <a:pt x="45" y="327"/>
                  </a:lnTo>
                  <a:lnTo>
                    <a:pt x="0" y="420"/>
                  </a:lnTo>
                  <a:lnTo>
                    <a:pt x="0" y="534"/>
                  </a:lnTo>
                  <a:lnTo>
                    <a:pt x="14" y="627"/>
                  </a:lnTo>
                  <a:lnTo>
                    <a:pt x="22" y="672"/>
                  </a:lnTo>
                  <a:lnTo>
                    <a:pt x="67" y="805"/>
                  </a:lnTo>
                  <a:lnTo>
                    <a:pt x="140" y="934"/>
                  </a:lnTo>
                  <a:lnTo>
                    <a:pt x="199" y="971"/>
                  </a:lnTo>
                  <a:lnTo>
                    <a:pt x="314" y="1047"/>
                  </a:lnTo>
                  <a:lnTo>
                    <a:pt x="432" y="1084"/>
                  </a:lnTo>
                  <a:lnTo>
                    <a:pt x="578" y="1121"/>
                  </a:lnTo>
                  <a:lnTo>
                    <a:pt x="746" y="1130"/>
                  </a:lnTo>
                  <a:lnTo>
                    <a:pt x="928" y="1121"/>
                  </a:lnTo>
                  <a:lnTo>
                    <a:pt x="1074" y="1084"/>
                  </a:lnTo>
                  <a:lnTo>
                    <a:pt x="1310" y="971"/>
                  </a:lnTo>
                  <a:lnTo>
                    <a:pt x="1597" y="709"/>
                  </a:lnTo>
                  <a:lnTo>
                    <a:pt x="1658" y="598"/>
                  </a:lnTo>
                  <a:lnTo>
                    <a:pt x="1716" y="485"/>
                  </a:lnTo>
                  <a:lnTo>
                    <a:pt x="1760" y="374"/>
                  </a:lnTo>
                  <a:lnTo>
                    <a:pt x="1773" y="261"/>
                  </a:lnTo>
                  <a:lnTo>
                    <a:pt x="1804" y="75"/>
                  </a:lnTo>
                  <a:lnTo>
                    <a:pt x="18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247080" y="2166120"/>
              <a:ext cx="243000" cy="385920"/>
            </a:xfrm>
            <a:custGeom>
              <a:avLst/>
              <a:gdLst/>
              <a:ahLst/>
              <a:rect l="l" t="t" r="r" b="b"/>
              <a:pathLst>
                <a:path w="364" h="525">
                  <a:moveTo>
                    <a:pt x="0" y="525"/>
                  </a:moveTo>
                  <a:lnTo>
                    <a:pt x="89" y="488"/>
                  </a:lnTo>
                  <a:lnTo>
                    <a:pt x="235" y="336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356080" y="2962080"/>
              <a:ext cx="348840" cy="94680"/>
            </a:xfrm>
            <a:custGeom>
              <a:avLst/>
              <a:gdLst/>
              <a:ahLst/>
              <a:rect l="l" t="t" r="r" b="b"/>
              <a:pathLst>
                <a:path w="526" h="130">
                  <a:moveTo>
                    <a:pt x="0" y="0"/>
                  </a:moveTo>
                  <a:lnTo>
                    <a:pt x="27" y="58"/>
                  </a:lnTo>
                  <a:lnTo>
                    <a:pt x="87" y="111"/>
                  </a:lnTo>
                  <a:lnTo>
                    <a:pt x="173" y="130"/>
                  </a:lnTo>
                  <a:lnTo>
                    <a:pt x="320" y="130"/>
                  </a:lnTo>
                  <a:lnTo>
                    <a:pt x="407" y="111"/>
                  </a:lnTo>
                  <a:lnTo>
                    <a:pt x="468" y="111"/>
                  </a:lnTo>
                  <a:lnTo>
                    <a:pt x="526" y="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52120" y="2358000"/>
              <a:ext cx="587880" cy="295200"/>
            </a:xfrm>
            <a:custGeom>
              <a:avLst/>
              <a:gdLst/>
              <a:ahLst/>
              <a:rect l="l" t="t" r="r" b="b"/>
              <a:pathLst>
                <a:path w="885" h="402">
                  <a:moveTo>
                    <a:pt x="8" y="74"/>
                  </a:moveTo>
                  <a:lnTo>
                    <a:pt x="8" y="111"/>
                  </a:lnTo>
                  <a:lnTo>
                    <a:pt x="0" y="178"/>
                  </a:lnTo>
                  <a:lnTo>
                    <a:pt x="39" y="298"/>
                  </a:lnTo>
                  <a:lnTo>
                    <a:pt x="97" y="336"/>
                  </a:lnTo>
                  <a:lnTo>
                    <a:pt x="176" y="384"/>
                  </a:lnTo>
                  <a:lnTo>
                    <a:pt x="272" y="402"/>
                  </a:lnTo>
                  <a:lnTo>
                    <a:pt x="379" y="394"/>
                  </a:lnTo>
                  <a:lnTo>
                    <a:pt x="476" y="384"/>
                  </a:lnTo>
                  <a:lnTo>
                    <a:pt x="563" y="347"/>
                  </a:lnTo>
                  <a:lnTo>
                    <a:pt x="622" y="298"/>
                  </a:lnTo>
                  <a:lnTo>
                    <a:pt x="711" y="225"/>
                  </a:lnTo>
                  <a:lnTo>
                    <a:pt x="827" y="111"/>
                  </a:lnTo>
                  <a:lnTo>
                    <a:pt x="858" y="74"/>
                  </a:lnTo>
                  <a:lnTo>
                    <a:pt x="88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96040" y="2360160"/>
              <a:ext cx="504360" cy="220320"/>
            </a:xfrm>
            <a:custGeom>
              <a:avLst/>
              <a:gdLst/>
              <a:ahLst/>
              <a:rect l="l" t="t" r="r" b="b"/>
              <a:pathLst>
                <a:path w="759" h="301">
                  <a:moveTo>
                    <a:pt x="759" y="0"/>
                  </a:moveTo>
                  <a:lnTo>
                    <a:pt x="730" y="37"/>
                  </a:lnTo>
                  <a:lnTo>
                    <a:pt x="672" y="112"/>
                  </a:lnTo>
                  <a:lnTo>
                    <a:pt x="555" y="187"/>
                  </a:lnTo>
                  <a:lnTo>
                    <a:pt x="460" y="255"/>
                  </a:lnTo>
                  <a:lnTo>
                    <a:pt x="410" y="263"/>
                  </a:lnTo>
                  <a:lnTo>
                    <a:pt x="313" y="301"/>
                  </a:lnTo>
                  <a:lnTo>
                    <a:pt x="205" y="299"/>
                  </a:lnTo>
                  <a:lnTo>
                    <a:pt x="118" y="263"/>
                  </a:lnTo>
                  <a:lnTo>
                    <a:pt x="43" y="188"/>
                  </a:lnTo>
                  <a:lnTo>
                    <a:pt x="0" y="112"/>
                  </a:lnTo>
                  <a:lnTo>
                    <a:pt x="0" y="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436360" y="2386440"/>
              <a:ext cx="386280" cy="52920"/>
            </a:xfrm>
            <a:custGeom>
              <a:avLst/>
              <a:gdLst/>
              <a:ahLst/>
              <a:rect l="l" t="t" r="r" b="b"/>
              <a:pathLst>
                <a:path w="584" h="73">
                  <a:moveTo>
                    <a:pt x="0" y="37"/>
                  </a:moveTo>
                  <a:lnTo>
                    <a:pt x="173" y="73"/>
                  </a:lnTo>
                  <a:lnTo>
                    <a:pt x="391" y="56"/>
                  </a:lnTo>
                  <a:lnTo>
                    <a:pt x="58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871880" y="1506960"/>
              <a:ext cx="212760" cy="473760"/>
            </a:xfrm>
            <a:custGeom>
              <a:avLst/>
              <a:gdLst/>
              <a:ahLst/>
              <a:rect l="l" t="t" r="r" b="b"/>
              <a:pathLst>
                <a:path w="321" h="645">
                  <a:moveTo>
                    <a:pt x="321" y="114"/>
                  </a:moveTo>
                  <a:lnTo>
                    <a:pt x="292" y="37"/>
                  </a:lnTo>
                  <a:lnTo>
                    <a:pt x="203" y="0"/>
                  </a:lnTo>
                  <a:lnTo>
                    <a:pt x="88" y="37"/>
                  </a:lnTo>
                  <a:lnTo>
                    <a:pt x="0" y="188"/>
                  </a:lnTo>
                  <a:lnTo>
                    <a:pt x="0" y="299"/>
                  </a:lnTo>
                  <a:lnTo>
                    <a:pt x="0" y="412"/>
                  </a:lnTo>
                  <a:lnTo>
                    <a:pt x="31" y="486"/>
                  </a:lnTo>
                  <a:lnTo>
                    <a:pt x="58" y="561"/>
                  </a:lnTo>
                  <a:lnTo>
                    <a:pt x="146" y="636"/>
                  </a:lnTo>
                  <a:lnTo>
                    <a:pt x="203" y="64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993560" y="1701000"/>
              <a:ext cx="35640" cy="165240"/>
            </a:xfrm>
            <a:custGeom>
              <a:avLst/>
              <a:gdLst/>
              <a:ahLst/>
              <a:rect l="l" t="t" r="r" b="b"/>
              <a:pathLst>
                <a:path w="56" h="225">
                  <a:moveTo>
                    <a:pt x="56" y="225"/>
                  </a:moveTo>
                  <a:lnTo>
                    <a:pt x="56" y="187"/>
                  </a:lnTo>
                  <a:lnTo>
                    <a:pt x="28" y="112"/>
                  </a:lnTo>
                  <a:lnTo>
                    <a:pt x="28" y="3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007600" y="1052640"/>
              <a:ext cx="430200" cy="288720"/>
            </a:xfrm>
            <a:custGeom>
              <a:avLst/>
              <a:gdLst/>
              <a:ahLst/>
              <a:rect l="l" t="t" r="r" b="b"/>
              <a:pathLst>
                <a:path w="650" h="393">
                  <a:moveTo>
                    <a:pt x="642" y="198"/>
                  </a:moveTo>
                  <a:lnTo>
                    <a:pt x="650" y="103"/>
                  </a:lnTo>
                  <a:lnTo>
                    <a:pt x="612" y="84"/>
                  </a:lnTo>
                  <a:lnTo>
                    <a:pt x="554" y="131"/>
                  </a:lnTo>
                  <a:lnTo>
                    <a:pt x="539" y="29"/>
                  </a:lnTo>
                  <a:lnTo>
                    <a:pt x="460" y="0"/>
                  </a:lnTo>
                  <a:lnTo>
                    <a:pt x="387" y="67"/>
                  </a:lnTo>
                  <a:lnTo>
                    <a:pt x="265" y="94"/>
                  </a:lnTo>
                  <a:lnTo>
                    <a:pt x="176" y="57"/>
                  </a:lnTo>
                  <a:lnTo>
                    <a:pt x="94" y="94"/>
                  </a:lnTo>
                  <a:lnTo>
                    <a:pt x="60" y="131"/>
                  </a:lnTo>
                  <a:lnTo>
                    <a:pt x="0" y="206"/>
                  </a:lnTo>
                  <a:lnTo>
                    <a:pt x="0" y="280"/>
                  </a:lnTo>
                  <a:lnTo>
                    <a:pt x="60" y="355"/>
                  </a:lnTo>
                  <a:lnTo>
                    <a:pt x="118" y="393"/>
                  </a:lnTo>
                  <a:lnTo>
                    <a:pt x="146" y="393"/>
                  </a:lnTo>
                  <a:lnTo>
                    <a:pt x="206" y="393"/>
                  </a:lnTo>
                  <a:lnTo>
                    <a:pt x="249" y="338"/>
                  </a:lnTo>
                  <a:lnTo>
                    <a:pt x="342" y="356"/>
                  </a:lnTo>
                  <a:lnTo>
                    <a:pt x="402" y="291"/>
                  </a:lnTo>
                  <a:lnTo>
                    <a:pt x="481" y="252"/>
                  </a:lnTo>
                  <a:lnTo>
                    <a:pt x="554" y="280"/>
                  </a:lnTo>
                  <a:lnTo>
                    <a:pt x="613" y="243"/>
                  </a:lnTo>
                  <a:lnTo>
                    <a:pt x="642" y="198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971600" y="1266480"/>
              <a:ext cx="157680" cy="266760"/>
            </a:xfrm>
            <a:custGeom>
              <a:avLst/>
              <a:gdLst/>
              <a:ahLst/>
              <a:rect l="l" t="t" r="r" b="b"/>
              <a:pathLst>
                <a:path w="238" h="364">
                  <a:moveTo>
                    <a:pt x="58" y="0"/>
                  </a:moveTo>
                  <a:lnTo>
                    <a:pt x="8" y="93"/>
                  </a:lnTo>
                  <a:lnTo>
                    <a:pt x="0" y="177"/>
                  </a:lnTo>
                  <a:lnTo>
                    <a:pt x="0" y="252"/>
                  </a:lnTo>
                  <a:lnTo>
                    <a:pt x="90" y="327"/>
                  </a:lnTo>
                  <a:lnTo>
                    <a:pt x="135" y="364"/>
                  </a:lnTo>
                  <a:lnTo>
                    <a:pt x="173" y="363"/>
                  </a:lnTo>
                  <a:lnTo>
                    <a:pt x="201" y="327"/>
                  </a:lnTo>
                  <a:lnTo>
                    <a:pt x="201" y="252"/>
                  </a:lnTo>
                  <a:lnTo>
                    <a:pt x="201" y="177"/>
                  </a:lnTo>
                  <a:lnTo>
                    <a:pt x="238" y="102"/>
                  </a:lnTo>
                  <a:lnTo>
                    <a:pt x="151" y="93"/>
                  </a:lnTo>
                  <a:lnTo>
                    <a:pt x="58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836680" y="1476000"/>
              <a:ext cx="37800" cy="3096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5" y="20"/>
                  </a:moveTo>
                  <a:lnTo>
                    <a:pt x="47" y="5"/>
                  </a:lnTo>
                  <a:lnTo>
                    <a:pt x="27" y="0"/>
                  </a:lnTo>
                  <a:lnTo>
                    <a:pt x="8" y="5"/>
                  </a:lnTo>
                  <a:lnTo>
                    <a:pt x="0" y="20"/>
                  </a:lnTo>
                  <a:lnTo>
                    <a:pt x="8" y="35"/>
                  </a:lnTo>
                  <a:lnTo>
                    <a:pt x="27" y="41"/>
                  </a:lnTo>
                  <a:lnTo>
                    <a:pt x="47" y="35"/>
                  </a:lnTo>
                  <a:lnTo>
                    <a:pt x="55" y="2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302440" y="1491480"/>
              <a:ext cx="36000" cy="3096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5" y="21"/>
                  </a:moveTo>
                  <a:lnTo>
                    <a:pt x="48" y="5"/>
                  </a:lnTo>
                  <a:lnTo>
                    <a:pt x="29" y="0"/>
                  </a:lnTo>
                  <a:lnTo>
                    <a:pt x="8" y="5"/>
                  </a:lnTo>
                  <a:lnTo>
                    <a:pt x="0" y="21"/>
                  </a:lnTo>
                  <a:lnTo>
                    <a:pt x="8" y="35"/>
                  </a:lnTo>
                  <a:lnTo>
                    <a:pt x="29" y="41"/>
                  </a:lnTo>
                  <a:lnTo>
                    <a:pt x="48" y="35"/>
                  </a:lnTo>
                  <a:lnTo>
                    <a:pt x="55" y="21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06800" y="3844080"/>
              <a:ext cx="79560" cy="94680"/>
            </a:xfrm>
            <a:custGeom>
              <a:avLst/>
              <a:gdLst/>
              <a:ahLst/>
              <a:rect l="l" t="t" r="r" b="b"/>
              <a:pathLst>
                <a:path w="122" h="130">
                  <a:moveTo>
                    <a:pt x="122" y="130"/>
                  </a:moveTo>
                  <a:lnTo>
                    <a:pt x="79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192200" y="2801160"/>
              <a:ext cx="131400" cy="74880"/>
            </a:xfrm>
            <a:custGeom>
              <a:avLst/>
              <a:gdLst/>
              <a:ahLst/>
              <a:rect l="l" t="t" r="r" b="b"/>
              <a:pathLst>
                <a:path w="196" h="102">
                  <a:moveTo>
                    <a:pt x="196" y="45"/>
                  </a:moveTo>
                  <a:lnTo>
                    <a:pt x="138" y="10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618280" y="2379960"/>
              <a:ext cx="948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Vég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353960" y="4862520"/>
              <a:ext cx="59641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</a:rPr>
                <a:t>Köszönöm a megtisztelõ 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557520" y="5709600"/>
              <a:ext cx="22852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</a:rPr>
                <a:t>figyelmet!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57" name=""/>
            <p:cNvGraphicFramePr/>
            <p:nvPr/>
          </p:nvGraphicFramePr>
          <p:xfrm>
            <a:off x="2906640" y="1744920"/>
            <a:ext cx="669240" cy="546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06640" y="1744920"/>
                      <a:ext cx="669240" cy="54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304920" y="380880"/>
            <a:ext cx="85150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ellemes Ünnepeke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0" name="" descr=""/>
          <p:cNvPicPr/>
          <p:nvPr/>
        </p:nvPicPr>
        <p:blipFill>
          <a:blip r:embed="rId1"/>
          <a:stretch/>
        </p:blipFill>
        <p:spPr>
          <a:xfrm>
            <a:off x="696960" y="1635120"/>
            <a:ext cx="7792920" cy="4834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Birka" descr=""/>
          <p:cNvPicPr/>
          <p:nvPr/>
        </p:nvPicPr>
        <p:blipFill>
          <a:blip r:embed="rId1"/>
          <a:stretch/>
        </p:blipFill>
        <p:spPr>
          <a:xfrm>
            <a:off x="0" y="82440"/>
            <a:ext cx="9144000" cy="67755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A juhtenyésztés gazdasági jelentősé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A világ teljes juhállománya 1,2 Md db, a haszonállat 8 %-a, a teljes hústermelés 192 millió tonna,ebből a juh 1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millió  (5,2 %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Termékeinek több mint 1/3-a nemzetközi piacra kerü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Legnagyobb termelők: Ausztrália, Új-Zéland, Kína és a FÁK ország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image001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5867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A juhtenyésztés gazdasági jelentősé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1889280"/>
          <a:ext cx="8346960" cy="432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889280"/>
                    <a:ext cx="8346960" cy="43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2361240" y="617112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juhlétszám alakulása, 1OOO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6172200"/>
            <a:ext cx="609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1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 juhtenyésztés gazdasági jelentősé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A BTÉ 11 milliárd Ft, a mezőgazdaság 1 %-a, az állattenyésztés 2 %-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Export orientált, évi 5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-6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 millió US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vágójuh előállítás évi 9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00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 ezer db élő, testtömegben 16-17 ezer tonn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Nyers juhhús 4-5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00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 to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Tejtermék: 15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 tonna sajt (1 millió l te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A gyapjú 95 %-a export, mert nincs feldolgozás, az összes termelés 3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5 millió to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Fogyasztás: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,2-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,3 kg, nincs belső puffer kapacitás. A termelés/fogyasztás aránya: 1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 szer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ag00212_" descr=""/>
          <p:cNvPicPr/>
          <p:nvPr/>
        </p:nvPicPr>
        <p:blipFill>
          <a:blip r:embed="rId1"/>
          <a:stretch/>
        </p:blipFill>
        <p:spPr>
          <a:xfrm>
            <a:off x="228600" y="6033960"/>
            <a:ext cx="1222200" cy="824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37" name="cigaja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1428120" y="541080"/>
              <a:ext cx="618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80"/>
                  </a:solidFill>
                  <a:latin typeface="Arial"/>
                </a:rPr>
                <a:t>A juhászat nemzetgazdasági előnyei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41560" y="1573200"/>
              <a:ext cx="64274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Magyarország kedvező helyzete az élőállat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46600" y="2000160"/>
              <a:ext cx="20962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szállítás miatt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40120" y="2428560"/>
              <a:ext cx="66315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Kiváló bárányhús minőség.</a:t>
              </a:r>
              <a:r>
                <a:rPr b="0" lang="hu-HU" sz="2600" spc="-1" strike="noStrike">
                  <a:solidFill>
                    <a:srgbClr val="000000"/>
                  </a:solidFill>
                  <a:latin typeface="Arial"/>
                </a:rPr>
                <a:t>(hagyományosan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41920" y="2855520"/>
              <a:ext cx="5452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A konkurens országok termelésének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9400" y="3283920"/>
              <a:ext cx="7015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visszaesése. (Románia erős konkurens maradt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41200" y="3710880"/>
              <a:ext cx="69058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Az EU-ban Magyarország élvezi a legnagyobb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45880" y="4139640"/>
              <a:ext cx="27057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beszállítási kvótát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44800" y="4566600"/>
              <a:ext cx="66409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A feltétlen takarmánytermő területek, legelők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44440" y="4993560"/>
              <a:ext cx="63298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szabad kapacitása biztosított(1.1 millió ha)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43360" y="5421960"/>
              <a:ext cx="70142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Az ágzati támogatás fokozottan kiszámíthatóvá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45520" y="5848920"/>
              <a:ext cx="23187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és stabillá válik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1280" y="1714320"/>
              <a:ext cx="101880" cy="107280"/>
            </a:xfrm>
            <a:custGeom>
              <a:avLst/>
              <a:gdLst/>
              <a:ahLst/>
              <a:rect l="l" t="t" r="r" b="b"/>
              <a:pathLst>
                <a:path w="235" h="181">
                  <a:moveTo>
                    <a:pt x="0" y="90"/>
                  </a:moveTo>
                  <a:lnTo>
                    <a:pt x="0" y="99"/>
                  </a:lnTo>
                  <a:lnTo>
                    <a:pt x="3" y="108"/>
                  </a:lnTo>
                  <a:lnTo>
                    <a:pt x="5" y="118"/>
                  </a:lnTo>
                  <a:lnTo>
                    <a:pt x="9" y="126"/>
                  </a:lnTo>
                  <a:lnTo>
                    <a:pt x="15" y="134"/>
                  </a:lnTo>
                  <a:lnTo>
                    <a:pt x="20" y="141"/>
                  </a:lnTo>
                  <a:lnTo>
                    <a:pt x="26" y="148"/>
                  </a:lnTo>
                  <a:lnTo>
                    <a:pt x="34" y="154"/>
                  </a:lnTo>
                  <a:lnTo>
                    <a:pt x="42" y="161"/>
                  </a:lnTo>
                  <a:lnTo>
                    <a:pt x="52" y="166"/>
                  </a:lnTo>
                  <a:lnTo>
                    <a:pt x="61" y="170"/>
                  </a:lnTo>
                  <a:lnTo>
                    <a:pt x="72" y="174"/>
                  </a:lnTo>
                  <a:lnTo>
                    <a:pt x="82" y="177"/>
                  </a:lnTo>
                  <a:lnTo>
                    <a:pt x="93" y="179"/>
                  </a:lnTo>
                  <a:lnTo>
                    <a:pt x="105" y="181"/>
                  </a:lnTo>
                  <a:lnTo>
                    <a:pt x="117" y="181"/>
                  </a:lnTo>
                  <a:lnTo>
                    <a:pt x="129" y="181"/>
                  </a:lnTo>
                  <a:lnTo>
                    <a:pt x="140" y="179"/>
                  </a:lnTo>
                  <a:lnTo>
                    <a:pt x="152" y="177"/>
                  </a:lnTo>
                  <a:lnTo>
                    <a:pt x="163" y="174"/>
                  </a:lnTo>
                  <a:lnTo>
                    <a:pt x="174" y="170"/>
                  </a:lnTo>
                  <a:lnTo>
                    <a:pt x="183" y="166"/>
                  </a:lnTo>
                  <a:lnTo>
                    <a:pt x="192" y="161"/>
                  </a:lnTo>
                  <a:lnTo>
                    <a:pt x="200" y="154"/>
                  </a:lnTo>
                  <a:lnTo>
                    <a:pt x="208" y="147"/>
                  </a:lnTo>
                  <a:lnTo>
                    <a:pt x="215" y="141"/>
                  </a:lnTo>
                  <a:lnTo>
                    <a:pt x="220" y="133"/>
                  </a:lnTo>
                  <a:lnTo>
                    <a:pt x="225" y="125"/>
                  </a:lnTo>
                  <a:lnTo>
                    <a:pt x="229" y="117"/>
                  </a:lnTo>
                  <a:lnTo>
                    <a:pt x="232" y="108"/>
                  </a:lnTo>
                  <a:lnTo>
                    <a:pt x="235" y="99"/>
                  </a:lnTo>
                  <a:lnTo>
                    <a:pt x="235" y="90"/>
                  </a:lnTo>
                  <a:lnTo>
                    <a:pt x="235" y="81"/>
                  </a:lnTo>
                  <a:lnTo>
                    <a:pt x="232" y="72"/>
                  </a:lnTo>
                  <a:lnTo>
                    <a:pt x="229" y="63"/>
                  </a:lnTo>
                  <a:lnTo>
                    <a:pt x="225" y="55"/>
                  </a:lnTo>
                  <a:lnTo>
                    <a:pt x="220" y="47"/>
                  </a:lnTo>
                  <a:lnTo>
                    <a:pt x="215" y="40"/>
                  </a:lnTo>
                  <a:lnTo>
                    <a:pt x="208" y="33"/>
                  </a:lnTo>
                  <a:lnTo>
                    <a:pt x="200" y="27"/>
                  </a:lnTo>
                  <a:lnTo>
                    <a:pt x="192" y="20"/>
                  </a:lnTo>
                  <a:lnTo>
                    <a:pt x="183" y="15"/>
                  </a:lnTo>
                  <a:lnTo>
                    <a:pt x="174" y="11"/>
                  </a:lnTo>
                  <a:lnTo>
                    <a:pt x="163" y="7"/>
                  </a:lnTo>
                  <a:lnTo>
                    <a:pt x="152" y="4"/>
                  </a:lnTo>
                  <a:lnTo>
                    <a:pt x="142" y="2"/>
                  </a:lnTo>
                  <a:lnTo>
                    <a:pt x="130" y="0"/>
                  </a:lnTo>
                  <a:lnTo>
                    <a:pt x="118" y="0"/>
                  </a:lnTo>
                  <a:lnTo>
                    <a:pt x="106" y="0"/>
                  </a:lnTo>
                  <a:lnTo>
                    <a:pt x="94" y="2"/>
                  </a:lnTo>
                  <a:lnTo>
                    <a:pt x="82" y="4"/>
                  </a:lnTo>
                  <a:lnTo>
                    <a:pt x="72" y="7"/>
                  </a:lnTo>
                  <a:lnTo>
                    <a:pt x="62" y="11"/>
                  </a:lnTo>
                  <a:lnTo>
                    <a:pt x="52" y="15"/>
                  </a:lnTo>
                  <a:lnTo>
                    <a:pt x="42" y="20"/>
                  </a:lnTo>
                  <a:lnTo>
                    <a:pt x="34" y="27"/>
                  </a:lnTo>
                  <a:lnTo>
                    <a:pt x="26" y="33"/>
                  </a:lnTo>
                  <a:lnTo>
                    <a:pt x="20" y="40"/>
                  </a:lnTo>
                  <a:lnTo>
                    <a:pt x="15" y="47"/>
                  </a:lnTo>
                  <a:lnTo>
                    <a:pt x="9" y="55"/>
                  </a:lnTo>
                  <a:lnTo>
                    <a:pt x="5" y="63"/>
                  </a:lnTo>
                  <a:lnTo>
                    <a:pt x="3" y="72"/>
                  </a:lnTo>
                  <a:lnTo>
                    <a:pt x="0" y="81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91280" y="2570040"/>
              <a:ext cx="101880" cy="106920"/>
            </a:xfrm>
            <a:custGeom>
              <a:avLst/>
              <a:gdLst/>
              <a:ahLst/>
              <a:rect l="l" t="t" r="r" b="b"/>
              <a:pathLst>
                <a:path w="235" h="181">
                  <a:moveTo>
                    <a:pt x="0" y="90"/>
                  </a:moveTo>
                  <a:lnTo>
                    <a:pt x="0" y="99"/>
                  </a:lnTo>
                  <a:lnTo>
                    <a:pt x="3" y="108"/>
                  </a:lnTo>
                  <a:lnTo>
                    <a:pt x="5" y="117"/>
                  </a:lnTo>
                  <a:lnTo>
                    <a:pt x="9" y="125"/>
                  </a:lnTo>
                  <a:lnTo>
                    <a:pt x="15" y="134"/>
                  </a:lnTo>
                  <a:lnTo>
                    <a:pt x="20" y="141"/>
                  </a:lnTo>
                  <a:lnTo>
                    <a:pt x="26" y="148"/>
                  </a:lnTo>
                  <a:lnTo>
                    <a:pt x="34" y="154"/>
                  </a:lnTo>
                  <a:lnTo>
                    <a:pt x="42" y="160"/>
                  </a:lnTo>
                  <a:lnTo>
                    <a:pt x="52" y="165"/>
                  </a:lnTo>
                  <a:lnTo>
                    <a:pt x="61" y="169"/>
                  </a:lnTo>
                  <a:lnTo>
                    <a:pt x="72" y="174"/>
                  </a:lnTo>
                  <a:lnTo>
                    <a:pt x="82" y="177"/>
                  </a:lnTo>
                  <a:lnTo>
                    <a:pt x="93" y="179"/>
                  </a:lnTo>
                  <a:lnTo>
                    <a:pt x="105" y="181"/>
                  </a:lnTo>
                  <a:lnTo>
                    <a:pt x="117" y="181"/>
                  </a:lnTo>
                  <a:lnTo>
                    <a:pt x="129" y="181"/>
                  </a:lnTo>
                  <a:lnTo>
                    <a:pt x="140" y="179"/>
                  </a:lnTo>
                  <a:lnTo>
                    <a:pt x="152" y="177"/>
                  </a:lnTo>
                  <a:lnTo>
                    <a:pt x="163" y="174"/>
                  </a:lnTo>
                  <a:lnTo>
                    <a:pt x="174" y="169"/>
                  </a:lnTo>
                  <a:lnTo>
                    <a:pt x="183" y="165"/>
                  </a:lnTo>
                  <a:lnTo>
                    <a:pt x="192" y="160"/>
                  </a:lnTo>
                  <a:lnTo>
                    <a:pt x="200" y="154"/>
                  </a:lnTo>
                  <a:lnTo>
                    <a:pt x="208" y="147"/>
                  </a:lnTo>
                  <a:lnTo>
                    <a:pt x="215" y="141"/>
                  </a:lnTo>
                  <a:lnTo>
                    <a:pt x="220" y="133"/>
                  </a:lnTo>
                  <a:lnTo>
                    <a:pt x="225" y="124"/>
                  </a:lnTo>
                  <a:lnTo>
                    <a:pt x="229" y="116"/>
                  </a:lnTo>
                  <a:lnTo>
                    <a:pt x="232" y="108"/>
                  </a:lnTo>
                  <a:lnTo>
                    <a:pt x="235" y="99"/>
                  </a:lnTo>
                  <a:lnTo>
                    <a:pt x="235" y="90"/>
                  </a:lnTo>
                  <a:lnTo>
                    <a:pt x="235" y="80"/>
                  </a:lnTo>
                  <a:lnTo>
                    <a:pt x="232" y="71"/>
                  </a:lnTo>
                  <a:lnTo>
                    <a:pt x="229" y="63"/>
                  </a:lnTo>
                  <a:lnTo>
                    <a:pt x="225" y="55"/>
                  </a:lnTo>
                  <a:lnTo>
                    <a:pt x="220" y="47"/>
                  </a:lnTo>
                  <a:lnTo>
                    <a:pt x="215" y="40"/>
                  </a:lnTo>
                  <a:lnTo>
                    <a:pt x="208" y="32"/>
                  </a:lnTo>
                  <a:lnTo>
                    <a:pt x="200" y="26"/>
                  </a:lnTo>
                  <a:lnTo>
                    <a:pt x="192" y="20"/>
                  </a:lnTo>
                  <a:lnTo>
                    <a:pt x="183" y="15"/>
                  </a:lnTo>
                  <a:lnTo>
                    <a:pt x="174" y="11"/>
                  </a:lnTo>
                  <a:lnTo>
                    <a:pt x="163" y="7"/>
                  </a:lnTo>
                  <a:lnTo>
                    <a:pt x="152" y="4"/>
                  </a:lnTo>
                  <a:lnTo>
                    <a:pt x="142" y="2"/>
                  </a:lnTo>
                  <a:lnTo>
                    <a:pt x="130" y="0"/>
                  </a:lnTo>
                  <a:lnTo>
                    <a:pt x="118" y="0"/>
                  </a:lnTo>
                  <a:lnTo>
                    <a:pt x="106" y="0"/>
                  </a:lnTo>
                  <a:lnTo>
                    <a:pt x="94" y="2"/>
                  </a:lnTo>
                  <a:lnTo>
                    <a:pt x="82" y="4"/>
                  </a:lnTo>
                  <a:lnTo>
                    <a:pt x="72" y="7"/>
                  </a:lnTo>
                  <a:lnTo>
                    <a:pt x="62" y="11"/>
                  </a:lnTo>
                  <a:lnTo>
                    <a:pt x="52" y="15"/>
                  </a:lnTo>
                  <a:lnTo>
                    <a:pt x="42" y="20"/>
                  </a:lnTo>
                  <a:lnTo>
                    <a:pt x="34" y="26"/>
                  </a:lnTo>
                  <a:lnTo>
                    <a:pt x="26" y="32"/>
                  </a:lnTo>
                  <a:lnTo>
                    <a:pt x="20" y="40"/>
                  </a:lnTo>
                  <a:lnTo>
                    <a:pt x="15" y="47"/>
                  </a:lnTo>
                  <a:lnTo>
                    <a:pt x="9" y="55"/>
                  </a:lnTo>
                  <a:lnTo>
                    <a:pt x="5" y="63"/>
                  </a:lnTo>
                  <a:lnTo>
                    <a:pt x="3" y="71"/>
                  </a:lnTo>
                  <a:lnTo>
                    <a:pt x="0" y="8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91280" y="2997000"/>
              <a:ext cx="101880" cy="108720"/>
            </a:xfrm>
            <a:custGeom>
              <a:avLst/>
              <a:gdLst/>
              <a:ahLst/>
              <a:rect l="l" t="t" r="r" b="b"/>
              <a:pathLst>
                <a:path w="235" h="181">
                  <a:moveTo>
                    <a:pt x="0" y="90"/>
                  </a:moveTo>
                  <a:lnTo>
                    <a:pt x="0" y="99"/>
                  </a:lnTo>
                  <a:lnTo>
                    <a:pt x="3" y="108"/>
                  </a:lnTo>
                  <a:lnTo>
                    <a:pt x="5" y="118"/>
                  </a:lnTo>
                  <a:lnTo>
                    <a:pt x="9" y="126"/>
                  </a:lnTo>
                  <a:lnTo>
                    <a:pt x="15" y="134"/>
                  </a:lnTo>
                  <a:lnTo>
                    <a:pt x="20" y="141"/>
                  </a:lnTo>
                  <a:lnTo>
                    <a:pt x="26" y="148"/>
                  </a:lnTo>
                  <a:lnTo>
                    <a:pt x="34" y="154"/>
                  </a:lnTo>
                  <a:lnTo>
                    <a:pt x="42" y="161"/>
                  </a:lnTo>
                  <a:lnTo>
                    <a:pt x="52" y="166"/>
                  </a:lnTo>
                  <a:lnTo>
                    <a:pt x="61" y="170"/>
                  </a:lnTo>
                  <a:lnTo>
                    <a:pt x="72" y="174"/>
                  </a:lnTo>
                  <a:lnTo>
                    <a:pt x="82" y="177"/>
                  </a:lnTo>
                  <a:lnTo>
                    <a:pt x="93" y="179"/>
                  </a:lnTo>
                  <a:lnTo>
                    <a:pt x="105" y="181"/>
                  </a:lnTo>
                  <a:lnTo>
                    <a:pt x="117" y="181"/>
                  </a:lnTo>
                  <a:lnTo>
                    <a:pt x="129" y="181"/>
                  </a:lnTo>
                  <a:lnTo>
                    <a:pt x="140" y="179"/>
                  </a:lnTo>
                  <a:lnTo>
                    <a:pt x="152" y="177"/>
                  </a:lnTo>
                  <a:lnTo>
                    <a:pt x="163" y="174"/>
                  </a:lnTo>
                  <a:lnTo>
                    <a:pt x="174" y="170"/>
                  </a:lnTo>
                  <a:lnTo>
                    <a:pt x="183" y="166"/>
                  </a:lnTo>
                  <a:lnTo>
                    <a:pt x="192" y="161"/>
                  </a:lnTo>
                  <a:lnTo>
                    <a:pt x="200" y="154"/>
                  </a:lnTo>
                  <a:lnTo>
                    <a:pt x="208" y="147"/>
                  </a:lnTo>
                  <a:lnTo>
                    <a:pt x="215" y="141"/>
                  </a:lnTo>
                  <a:lnTo>
                    <a:pt x="220" y="133"/>
                  </a:lnTo>
                  <a:lnTo>
                    <a:pt x="225" y="125"/>
                  </a:lnTo>
                  <a:lnTo>
                    <a:pt x="229" y="117"/>
                  </a:lnTo>
                  <a:lnTo>
                    <a:pt x="232" y="108"/>
                  </a:lnTo>
                  <a:lnTo>
                    <a:pt x="235" y="99"/>
                  </a:lnTo>
                  <a:lnTo>
                    <a:pt x="235" y="90"/>
                  </a:lnTo>
                  <a:lnTo>
                    <a:pt x="235" y="81"/>
                  </a:lnTo>
                  <a:lnTo>
                    <a:pt x="232" y="72"/>
                  </a:lnTo>
                  <a:lnTo>
                    <a:pt x="229" y="63"/>
                  </a:lnTo>
                  <a:lnTo>
                    <a:pt x="225" y="55"/>
                  </a:lnTo>
                  <a:lnTo>
                    <a:pt x="220" y="47"/>
                  </a:lnTo>
                  <a:lnTo>
                    <a:pt x="215" y="40"/>
                  </a:lnTo>
                  <a:lnTo>
                    <a:pt x="208" y="33"/>
                  </a:lnTo>
                  <a:lnTo>
                    <a:pt x="200" y="27"/>
                  </a:lnTo>
                  <a:lnTo>
                    <a:pt x="192" y="20"/>
                  </a:lnTo>
                  <a:lnTo>
                    <a:pt x="183" y="15"/>
                  </a:lnTo>
                  <a:lnTo>
                    <a:pt x="174" y="11"/>
                  </a:lnTo>
                  <a:lnTo>
                    <a:pt x="163" y="7"/>
                  </a:lnTo>
                  <a:lnTo>
                    <a:pt x="152" y="4"/>
                  </a:lnTo>
                  <a:lnTo>
                    <a:pt x="142" y="2"/>
                  </a:lnTo>
                  <a:lnTo>
                    <a:pt x="130" y="0"/>
                  </a:lnTo>
                  <a:lnTo>
                    <a:pt x="118" y="0"/>
                  </a:lnTo>
                  <a:lnTo>
                    <a:pt x="106" y="0"/>
                  </a:lnTo>
                  <a:lnTo>
                    <a:pt x="94" y="2"/>
                  </a:lnTo>
                  <a:lnTo>
                    <a:pt x="82" y="4"/>
                  </a:lnTo>
                  <a:lnTo>
                    <a:pt x="72" y="7"/>
                  </a:lnTo>
                  <a:lnTo>
                    <a:pt x="62" y="11"/>
                  </a:lnTo>
                  <a:lnTo>
                    <a:pt x="52" y="15"/>
                  </a:lnTo>
                  <a:lnTo>
                    <a:pt x="42" y="20"/>
                  </a:lnTo>
                  <a:lnTo>
                    <a:pt x="34" y="27"/>
                  </a:lnTo>
                  <a:lnTo>
                    <a:pt x="26" y="33"/>
                  </a:lnTo>
                  <a:lnTo>
                    <a:pt x="20" y="40"/>
                  </a:lnTo>
                  <a:lnTo>
                    <a:pt x="15" y="47"/>
                  </a:lnTo>
                  <a:lnTo>
                    <a:pt x="9" y="55"/>
                  </a:lnTo>
                  <a:lnTo>
                    <a:pt x="5" y="63"/>
                  </a:lnTo>
                  <a:lnTo>
                    <a:pt x="3" y="72"/>
                  </a:lnTo>
                  <a:lnTo>
                    <a:pt x="0" y="81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91280" y="3852360"/>
              <a:ext cx="101880" cy="108720"/>
            </a:xfrm>
            <a:custGeom>
              <a:avLst/>
              <a:gdLst/>
              <a:ahLst/>
              <a:rect l="l" t="t" r="r" b="b"/>
              <a:pathLst>
                <a:path w="235" h="181">
                  <a:moveTo>
                    <a:pt x="0" y="90"/>
                  </a:moveTo>
                  <a:lnTo>
                    <a:pt x="0" y="99"/>
                  </a:lnTo>
                  <a:lnTo>
                    <a:pt x="3" y="108"/>
                  </a:lnTo>
                  <a:lnTo>
                    <a:pt x="5" y="117"/>
                  </a:lnTo>
                  <a:lnTo>
                    <a:pt x="9" y="126"/>
                  </a:lnTo>
                  <a:lnTo>
                    <a:pt x="15" y="134"/>
                  </a:lnTo>
                  <a:lnTo>
                    <a:pt x="20" y="141"/>
                  </a:lnTo>
                  <a:lnTo>
                    <a:pt x="26" y="148"/>
                  </a:lnTo>
                  <a:lnTo>
                    <a:pt x="34" y="154"/>
                  </a:lnTo>
                  <a:lnTo>
                    <a:pt x="42" y="160"/>
                  </a:lnTo>
                  <a:lnTo>
                    <a:pt x="52" y="165"/>
                  </a:lnTo>
                  <a:lnTo>
                    <a:pt x="61" y="170"/>
                  </a:lnTo>
                  <a:lnTo>
                    <a:pt x="72" y="174"/>
                  </a:lnTo>
                  <a:lnTo>
                    <a:pt x="82" y="177"/>
                  </a:lnTo>
                  <a:lnTo>
                    <a:pt x="93" y="179"/>
                  </a:lnTo>
                  <a:lnTo>
                    <a:pt x="105" y="181"/>
                  </a:lnTo>
                  <a:lnTo>
                    <a:pt x="117" y="181"/>
                  </a:lnTo>
                  <a:lnTo>
                    <a:pt x="129" y="181"/>
                  </a:lnTo>
                  <a:lnTo>
                    <a:pt x="140" y="179"/>
                  </a:lnTo>
                  <a:lnTo>
                    <a:pt x="152" y="177"/>
                  </a:lnTo>
                  <a:lnTo>
                    <a:pt x="163" y="174"/>
                  </a:lnTo>
                  <a:lnTo>
                    <a:pt x="174" y="170"/>
                  </a:lnTo>
                  <a:lnTo>
                    <a:pt x="183" y="165"/>
                  </a:lnTo>
                  <a:lnTo>
                    <a:pt x="192" y="160"/>
                  </a:lnTo>
                  <a:lnTo>
                    <a:pt x="200" y="154"/>
                  </a:lnTo>
                  <a:lnTo>
                    <a:pt x="208" y="147"/>
                  </a:lnTo>
                  <a:lnTo>
                    <a:pt x="215" y="141"/>
                  </a:lnTo>
                  <a:lnTo>
                    <a:pt x="220" y="133"/>
                  </a:lnTo>
                  <a:lnTo>
                    <a:pt x="225" y="125"/>
                  </a:lnTo>
                  <a:lnTo>
                    <a:pt x="229" y="116"/>
                  </a:lnTo>
                  <a:lnTo>
                    <a:pt x="232" y="108"/>
                  </a:lnTo>
                  <a:lnTo>
                    <a:pt x="235" y="99"/>
                  </a:lnTo>
                  <a:lnTo>
                    <a:pt x="235" y="90"/>
                  </a:lnTo>
                  <a:lnTo>
                    <a:pt x="235" y="81"/>
                  </a:lnTo>
                  <a:lnTo>
                    <a:pt x="232" y="71"/>
                  </a:lnTo>
                  <a:lnTo>
                    <a:pt x="229" y="63"/>
                  </a:lnTo>
                  <a:lnTo>
                    <a:pt x="225" y="55"/>
                  </a:lnTo>
                  <a:lnTo>
                    <a:pt x="220" y="47"/>
                  </a:lnTo>
                  <a:lnTo>
                    <a:pt x="215" y="40"/>
                  </a:lnTo>
                  <a:lnTo>
                    <a:pt x="208" y="32"/>
                  </a:lnTo>
                  <a:lnTo>
                    <a:pt x="200" y="26"/>
                  </a:lnTo>
                  <a:lnTo>
                    <a:pt x="192" y="20"/>
                  </a:lnTo>
                  <a:lnTo>
                    <a:pt x="183" y="15"/>
                  </a:lnTo>
                  <a:lnTo>
                    <a:pt x="174" y="11"/>
                  </a:lnTo>
                  <a:lnTo>
                    <a:pt x="163" y="7"/>
                  </a:lnTo>
                  <a:lnTo>
                    <a:pt x="152" y="4"/>
                  </a:lnTo>
                  <a:lnTo>
                    <a:pt x="142" y="2"/>
                  </a:lnTo>
                  <a:lnTo>
                    <a:pt x="130" y="0"/>
                  </a:lnTo>
                  <a:lnTo>
                    <a:pt x="118" y="0"/>
                  </a:lnTo>
                  <a:lnTo>
                    <a:pt x="106" y="0"/>
                  </a:lnTo>
                  <a:lnTo>
                    <a:pt x="94" y="2"/>
                  </a:lnTo>
                  <a:lnTo>
                    <a:pt x="82" y="4"/>
                  </a:lnTo>
                  <a:lnTo>
                    <a:pt x="72" y="7"/>
                  </a:lnTo>
                  <a:lnTo>
                    <a:pt x="62" y="11"/>
                  </a:lnTo>
                  <a:lnTo>
                    <a:pt x="52" y="15"/>
                  </a:lnTo>
                  <a:lnTo>
                    <a:pt x="42" y="20"/>
                  </a:lnTo>
                  <a:lnTo>
                    <a:pt x="34" y="26"/>
                  </a:lnTo>
                  <a:lnTo>
                    <a:pt x="26" y="32"/>
                  </a:lnTo>
                  <a:lnTo>
                    <a:pt x="20" y="40"/>
                  </a:lnTo>
                  <a:lnTo>
                    <a:pt x="15" y="47"/>
                  </a:lnTo>
                  <a:lnTo>
                    <a:pt x="9" y="55"/>
                  </a:lnTo>
                  <a:lnTo>
                    <a:pt x="5" y="63"/>
                  </a:lnTo>
                  <a:lnTo>
                    <a:pt x="3" y="71"/>
                  </a:lnTo>
                  <a:lnTo>
                    <a:pt x="0" y="81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91280" y="4707720"/>
              <a:ext cx="101880" cy="108720"/>
            </a:xfrm>
            <a:custGeom>
              <a:avLst/>
              <a:gdLst/>
              <a:ahLst/>
              <a:rect l="l" t="t" r="r" b="b"/>
              <a:pathLst>
                <a:path w="235" h="182">
                  <a:moveTo>
                    <a:pt x="0" y="90"/>
                  </a:moveTo>
                  <a:lnTo>
                    <a:pt x="0" y="100"/>
                  </a:lnTo>
                  <a:lnTo>
                    <a:pt x="3" y="109"/>
                  </a:lnTo>
                  <a:lnTo>
                    <a:pt x="5" y="118"/>
                  </a:lnTo>
                  <a:lnTo>
                    <a:pt x="9" y="126"/>
                  </a:lnTo>
                  <a:lnTo>
                    <a:pt x="15" y="134"/>
                  </a:lnTo>
                  <a:lnTo>
                    <a:pt x="20" y="142"/>
                  </a:lnTo>
                  <a:lnTo>
                    <a:pt x="26" y="149"/>
                  </a:lnTo>
                  <a:lnTo>
                    <a:pt x="34" y="155"/>
                  </a:lnTo>
                  <a:lnTo>
                    <a:pt x="42" y="161"/>
                  </a:lnTo>
                  <a:lnTo>
                    <a:pt x="52" y="166"/>
                  </a:lnTo>
                  <a:lnTo>
                    <a:pt x="61" y="170"/>
                  </a:lnTo>
                  <a:lnTo>
                    <a:pt x="72" y="174"/>
                  </a:lnTo>
                  <a:lnTo>
                    <a:pt x="82" y="177"/>
                  </a:lnTo>
                  <a:lnTo>
                    <a:pt x="93" y="179"/>
                  </a:lnTo>
                  <a:lnTo>
                    <a:pt x="105" y="182"/>
                  </a:lnTo>
                  <a:lnTo>
                    <a:pt x="117" y="182"/>
                  </a:lnTo>
                  <a:lnTo>
                    <a:pt x="129" y="182"/>
                  </a:lnTo>
                  <a:lnTo>
                    <a:pt x="140" y="179"/>
                  </a:lnTo>
                  <a:lnTo>
                    <a:pt x="152" y="177"/>
                  </a:lnTo>
                  <a:lnTo>
                    <a:pt x="163" y="174"/>
                  </a:lnTo>
                  <a:lnTo>
                    <a:pt x="174" y="170"/>
                  </a:lnTo>
                  <a:lnTo>
                    <a:pt x="183" y="166"/>
                  </a:lnTo>
                  <a:lnTo>
                    <a:pt x="192" y="161"/>
                  </a:lnTo>
                  <a:lnTo>
                    <a:pt x="200" y="155"/>
                  </a:lnTo>
                  <a:lnTo>
                    <a:pt x="208" y="148"/>
                  </a:lnTo>
                  <a:lnTo>
                    <a:pt x="215" y="142"/>
                  </a:lnTo>
                  <a:lnTo>
                    <a:pt x="220" y="133"/>
                  </a:lnTo>
                  <a:lnTo>
                    <a:pt x="225" y="125"/>
                  </a:lnTo>
                  <a:lnTo>
                    <a:pt x="229" y="117"/>
                  </a:lnTo>
                  <a:lnTo>
                    <a:pt x="232" y="109"/>
                  </a:lnTo>
                  <a:lnTo>
                    <a:pt x="235" y="100"/>
                  </a:lnTo>
                  <a:lnTo>
                    <a:pt x="235" y="90"/>
                  </a:lnTo>
                  <a:lnTo>
                    <a:pt x="235" y="81"/>
                  </a:lnTo>
                  <a:lnTo>
                    <a:pt x="232" y="72"/>
                  </a:lnTo>
                  <a:lnTo>
                    <a:pt x="229" y="64"/>
                  </a:lnTo>
                  <a:lnTo>
                    <a:pt x="225" y="56"/>
                  </a:lnTo>
                  <a:lnTo>
                    <a:pt x="220" y="47"/>
                  </a:lnTo>
                  <a:lnTo>
                    <a:pt x="215" y="40"/>
                  </a:lnTo>
                  <a:lnTo>
                    <a:pt x="208" y="33"/>
                  </a:lnTo>
                  <a:lnTo>
                    <a:pt x="200" y="27"/>
                  </a:lnTo>
                  <a:lnTo>
                    <a:pt x="192" y="21"/>
                  </a:lnTo>
                  <a:lnTo>
                    <a:pt x="183" y="16"/>
                  </a:lnTo>
                  <a:lnTo>
                    <a:pt x="174" y="12"/>
                  </a:lnTo>
                  <a:lnTo>
                    <a:pt x="163" y="8"/>
                  </a:lnTo>
                  <a:lnTo>
                    <a:pt x="152" y="5"/>
                  </a:lnTo>
                  <a:lnTo>
                    <a:pt x="142" y="2"/>
                  </a:lnTo>
                  <a:lnTo>
                    <a:pt x="130" y="0"/>
                  </a:lnTo>
                  <a:lnTo>
                    <a:pt x="118" y="0"/>
                  </a:lnTo>
                  <a:lnTo>
                    <a:pt x="106" y="0"/>
                  </a:lnTo>
                  <a:lnTo>
                    <a:pt x="94" y="2"/>
                  </a:lnTo>
                  <a:lnTo>
                    <a:pt x="82" y="5"/>
                  </a:lnTo>
                  <a:lnTo>
                    <a:pt x="72" y="8"/>
                  </a:lnTo>
                  <a:lnTo>
                    <a:pt x="62" y="12"/>
                  </a:lnTo>
                  <a:lnTo>
                    <a:pt x="52" y="16"/>
                  </a:lnTo>
                  <a:lnTo>
                    <a:pt x="42" y="21"/>
                  </a:lnTo>
                  <a:lnTo>
                    <a:pt x="34" y="27"/>
                  </a:lnTo>
                  <a:lnTo>
                    <a:pt x="26" y="33"/>
                  </a:lnTo>
                  <a:lnTo>
                    <a:pt x="20" y="40"/>
                  </a:lnTo>
                  <a:lnTo>
                    <a:pt x="15" y="47"/>
                  </a:lnTo>
                  <a:lnTo>
                    <a:pt x="9" y="56"/>
                  </a:lnTo>
                  <a:lnTo>
                    <a:pt x="5" y="64"/>
                  </a:lnTo>
                  <a:lnTo>
                    <a:pt x="3" y="72"/>
                  </a:lnTo>
                  <a:lnTo>
                    <a:pt x="0" y="81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91280" y="5563080"/>
              <a:ext cx="101880" cy="107280"/>
            </a:xfrm>
            <a:custGeom>
              <a:avLst/>
              <a:gdLst/>
              <a:ahLst/>
              <a:rect l="l" t="t" r="r" b="b"/>
              <a:pathLst>
                <a:path w="235" h="181">
                  <a:moveTo>
                    <a:pt x="0" y="90"/>
                  </a:moveTo>
                  <a:lnTo>
                    <a:pt x="0" y="99"/>
                  </a:lnTo>
                  <a:lnTo>
                    <a:pt x="3" y="109"/>
                  </a:lnTo>
                  <a:lnTo>
                    <a:pt x="5" y="118"/>
                  </a:lnTo>
                  <a:lnTo>
                    <a:pt x="9" y="126"/>
                  </a:lnTo>
                  <a:lnTo>
                    <a:pt x="15" y="134"/>
                  </a:lnTo>
                  <a:lnTo>
                    <a:pt x="20" y="141"/>
                  </a:lnTo>
                  <a:lnTo>
                    <a:pt x="26" y="149"/>
                  </a:lnTo>
                  <a:lnTo>
                    <a:pt x="34" y="155"/>
                  </a:lnTo>
                  <a:lnTo>
                    <a:pt x="42" y="161"/>
                  </a:lnTo>
                  <a:lnTo>
                    <a:pt x="52" y="166"/>
                  </a:lnTo>
                  <a:lnTo>
                    <a:pt x="61" y="170"/>
                  </a:lnTo>
                  <a:lnTo>
                    <a:pt x="72" y="174"/>
                  </a:lnTo>
                  <a:lnTo>
                    <a:pt x="82" y="177"/>
                  </a:lnTo>
                  <a:lnTo>
                    <a:pt x="93" y="179"/>
                  </a:lnTo>
                  <a:lnTo>
                    <a:pt x="105" y="181"/>
                  </a:lnTo>
                  <a:lnTo>
                    <a:pt x="117" y="181"/>
                  </a:lnTo>
                  <a:lnTo>
                    <a:pt x="129" y="181"/>
                  </a:lnTo>
                  <a:lnTo>
                    <a:pt x="140" y="179"/>
                  </a:lnTo>
                  <a:lnTo>
                    <a:pt x="152" y="177"/>
                  </a:lnTo>
                  <a:lnTo>
                    <a:pt x="163" y="174"/>
                  </a:lnTo>
                  <a:lnTo>
                    <a:pt x="174" y="170"/>
                  </a:lnTo>
                  <a:lnTo>
                    <a:pt x="183" y="166"/>
                  </a:lnTo>
                  <a:lnTo>
                    <a:pt x="192" y="161"/>
                  </a:lnTo>
                  <a:lnTo>
                    <a:pt x="200" y="155"/>
                  </a:lnTo>
                  <a:lnTo>
                    <a:pt x="208" y="147"/>
                  </a:lnTo>
                  <a:lnTo>
                    <a:pt x="215" y="141"/>
                  </a:lnTo>
                  <a:lnTo>
                    <a:pt x="220" y="133"/>
                  </a:lnTo>
                  <a:lnTo>
                    <a:pt x="225" y="125"/>
                  </a:lnTo>
                  <a:lnTo>
                    <a:pt x="229" y="117"/>
                  </a:lnTo>
                  <a:lnTo>
                    <a:pt x="232" y="109"/>
                  </a:lnTo>
                  <a:lnTo>
                    <a:pt x="235" y="99"/>
                  </a:lnTo>
                  <a:lnTo>
                    <a:pt x="235" y="90"/>
                  </a:lnTo>
                  <a:lnTo>
                    <a:pt x="235" y="81"/>
                  </a:lnTo>
                  <a:lnTo>
                    <a:pt x="232" y="72"/>
                  </a:lnTo>
                  <a:lnTo>
                    <a:pt x="229" y="64"/>
                  </a:lnTo>
                  <a:lnTo>
                    <a:pt x="225" y="55"/>
                  </a:lnTo>
                  <a:lnTo>
                    <a:pt x="220" y="47"/>
                  </a:lnTo>
                  <a:lnTo>
                    <a:pt x="215" y="40"/>
                  </a:lnTo>
                  <a:lnTo>
                    <a:pt x="208" y="33"/>
                  </a:lnTo>
                  <a:lnTo>
                    <a:pt x="200" y="27"/>
                  </a:lnTo>
                  <a:lnTo>
                    <a:pt x="192" y="21"/>
                  </a:lnTo>
                  <a:lnTo>
                    <a:pt x="183" y="15"/>
                  </a:lnTo>
                  <a:lnTo>
                    <a:pt x="174" y="11"/>
                  </a:lnTo>
                  <a:lnTo>
                    <a:pt x="163" y="7"/>
                  </a:lnTo>
                  <a:lnTo>
                    <a:pt x="152" y="4"/>
                  </a:lnTo>
                  <a:lnTo>
                    <a:pt x="142" y="2"/>
                  </a:lnTo>
                  <a:lnTo>
                    <a:pt x="130" y="0"/>
                  </a:lnTo>
                  <a:lnTo>
                    <a:pt x="118" y="0"/>
                  </a:lnTo>
                  <a:lnTo>
                    <a:pt x="106" y="0"/>
                  </a:lnTo>
                  <a:lnTo>
                    <a:pt x="94" y="2"/>
                  </a:lnTo>
                  <a:lnTo>
                    <a:pt x="82" y="4"/>
                  </a:lnTo>
                  <a:lnTo>
                    <a:pt x="72" y="7"/>
                  </a:lnTo>
                  <a:lnTo>
                    <a:pt x="62" y="11"/>
                  </a:lnTo>
                  <a:lnTo>
                    <a:pt x="52" y="15"/>
                  </a:lnTo>
                  <a:lnTo>
                    <a:pt x="42" y="21"/>
                  </a:lnTo>
                  <a:lnTo>
                    <a:pt x="34" y="27"/>
                  </a:lnTo>
                  <a:lnTo>
                    <a:pt x="26" y="33"/>
                  </a:lnTo>
                  <a:lnTo>
                    <a:pt x="20" y="40"/>
                  </a:lnTo>
                  <a:lnTo>
                    <a:pt x="15" y="47"/>
                  </a:lnTo>
                  <a:lnTo>
                    <a:pt x="9" y="55"/>
                  </a:lnTo>
                  <a:lnTo>
                    <a:pt x="5" y="64"/>
                  </a:lnTo>
                  <a:lnTo>
                    <a:pt x="3" y="72"/>
                  </a:lnTo>
                  <a:lnTo>
                    <a:pt x="0" y="81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228600" y="228600"/>
            <a:ext cx="8839080" cy="5927040"/>
            <a:chOff x="228600" y="228600"/>
            <a:chExt cx="8839080" cy="5927040"/>
          </a:xfrm>
        </p:grpSpPr>
        <p:sp>
          <p:nvSpPr>
            <p:cNvPr id="157" name=""/>
            <p:cNvSpPr/>
            <p:nvPr/>
          </p:nvSpPr>
          <p:spPr>
            <a:xfrm>
              <a:off x="228600" y="228600"/>
              <a:ext cx="845820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A magyarországi gyepterületek anyajuh-sűrűsége (db/100ha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4920" y="1095480"/>
              <a:ext cx="7543800" cy="469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67400" y="1241280"/>
              <a:ext cx="2119320" cy="1568520"/>
            </a:xfrm>
            <a:custGeom>
              <a:avLst/>
              <a:gdLst/>
              <a:ahLst/>
              <a:rect l="l" t="t" r="r" b="b"/>
              <a:pathLst>
                <a:path w="4005" h="1977">
                  <a:moveTo>
                    <a:pt x="2422" y="70"/>
                  </a:moveTo>
                  <a:lnTo>
                    <a:pt x="2418" y="61"/>
                  </a:lnTo>
                  <a:lnTo>
                    <a:pt x="2425" y="53"/>
                  </a:lnTo>
                  <a:lnTo>
                    <a:pt x="2438" y="52"/>
                  </a:lnTo>
                  <a:lnTo>
                    <a:pt x="2435" y="61"/>
                  </a:lnTo>
                  <a:lnTo>
                    <a:pt x="2442" y="58"/>
                  </a:lnTo>
                  <a:lnTo>
                    <a:pt x="2454" y="58"/>
                  </a:lnTo>
                  <a:lnTo>
                    <a:pt x="2465" y="57"/>
                  </a:lnTo>
                  <a:lnTo>
                    <a:pt x="2479" y="56"/>
                  </a:lnTo>
                  <a:lnTo>
                    <a:pt x="2492" y="55"/>
                  </a:lnTo>
                  <a:lnTo>
                    <a:pt x="2505" y="54"/>
                  </a:lnTo>
                  <a:lnTo>
                    <a:pt x="2517" y="55"/>
                  </a:lnTo>
                  <a:lnTo>
                    <a:pt x="2530" y="57"/>
                  </a:lnTo>
                  <a:lnTo>
                    <a:pt x="2541" y="59"/>
                  </a:lnTo>
                  <a:lnTo>
                    <a:pt x="2551" y="54"/>
                  </a:lnTo>
                  <a:lnTo>
                    <a:pt x="2563" y="50"/>
                  </a:lnTo>
                  <a:lnTo>
                    <a:pt x="2575" y="46"/>
                  </a:lnTo>
                  <a:lnTo>
                    <a:pt x="2587" y="47"/>
                  </a:lnTo>
                  <a:lnTo>
                    <a:pt x="2595" y="55"/>
                  </a:lnTo>
                  <a:lnTo>
                    <a:pt x="2608" y="56"/>
                  </a:lnTo>
                  <a:lnTo>
                    <a:pt x="2619" y="51"/>
                  </a:lnTo>
                  <a:lnTo>
                    <a:pt x="2622" y="42"/>
                  </a:lnTo>
                  <a:lnTo>
                    <a:pt x="2622" y="32"/>
                  </a:lnTo>
                  <a:lnTo>
                    <a:pt x="2621" y="23"/>
                  </a:lnTo>
                  <a:lnTo>
                    <a:pt x="2623" y="14"/>
                  </a:lnTo>
                  <a:lnTo>
                    <a:pt x="2632" y="8"/>
                  </a:lnTo>
                  <a:lnTo>
                    <a:pt x="2640" y="3"/>
                  </a:lnTo>
                  <a:lnTo>
                    <a:pt x="2651" y="0"/>
                  </a:lnTo>
                  <a:lnTo>
                    <a:pt x="2661" y="4"/>
                  </a:lnTo>
                  <a:lnTo>
                    <a:pt x="2671" y="10"/>
                  </a:lnTo>
                  <a:lnTo>
                    <a:pt x="2675" y="19"/>
                  </a:lnTo>
                  <a:lnTo>
                    <a:pt x="2686" y="19"/>
                  </a:lnTo>
                  <a:lnTo>
                    <a:pt x="2696" y="21"/>
                  </a:lnTo>
                  <a:lnTo>
                    <a:pt x="2706" y="26"/>
                  </a:lnTo>
                  <a:lnTo>
                    <a:pt x="2714" y="33"/>
                  </a:lnTo>
                  <a:lnTo>
                    <a:pt x="2723" y="40"/>
                  </a:lnTo>
                  <a:lnTo>
                    <a:pt x="2735" y="39"/>
                  </a:lnTo>
                  <a:lnTo>
                    <a:pt x="2745" y="46"/>
                  </a:lnTo>
                  <a:lnTo>
                    <a:pt x="2751" y="53"/>
                  </a:lnTo>
                  <a:lnTo>
                    <a:pt x="2765" y="53"/>
                  </a:lnTo>
                  <a:lnTo>
                    <a:pt x="2772" y="49"/>
                  </a:lnTo>
                  <a:lnTo>
                    <a:pt x="2773" y="58"/>
                  </a:lnTo>
                  <a:lnTo>
                    <a:pt x="2784" y="61"/>
                  </a:lnTo>
                  <a:lnTo>
                    <a:pt x="2788" y="64"/>
                  </a:lnTo>
                  <a:lnTo>
                    <a:pt x="2794" y="66"/>
                  </a:lnTo>
                  <a:lnTo>
                    <a:pt x="2804" y="70"/>
                  </a:lnTo>
                  <a:lnTo>
                    <a:pt x="2811" y="77"/>
                  </a:lnTo>
                  <a:lnTo>
                    <a:pt x="2808" y="86"/>
                  </a:lnTo>
                  <a:lnTo>
                    <a:pt x="2809" y="95"/>
                  </a:lnTo>
                  <a:lnTo>
                    <a:pt x="2818" y="103"/>
                  </a:lnTo>
                  <a:lnTo>
                    <a:pt x="2819" y="111"/>
                  </a:lnTo>
                  <a:lnTo>
                    <a:pt x="2826" y="120"/>
                  </a:lnTo>
                  <a:lnTo>
                    <a:pt x="2828" y="128"/>
                  </a:lnTo>
                  <a:lnTo>
                    <a:pt x="2837" y="134"/>
                  </a:lnTo>
                  <a:lnTo>
                    <a:pt x="2847" y="140"/>
                  </a:lnTo>
                  <a:lnTo>
                    <a:pt x="2857" y="145"/>
                  </a:lnTo>
                  <a:lnTo>
                    <a:pt x="2860" y="155"/>
                  </a:lnTo>
                  <a:lnTo>
                    <a:pt x="2872" y="153"/>
                  </a:lnTo>
                  <a:lnTo>
                    <a:pt x="2883" y="154"/>
                  </a:lnTo>
                  <a:lnTo>
                    <a:pt x="2895" y="148"/>
                  </a:lnTo>
                  <a:lnTo>
                    <a:pt x="2900" y="155"/>
                  </a:lnTo>
                  <a:lnTo>
                    <a:pt x="2907" y="161"/>
                  </a:lnTo>
                  <a:lnTo>
                    <a:pt x="2921" y="160"/>
                  </a:lnTo>
                  <a:lnTo>
                    <a:pt x="2931" y="162"/>
                  </a:lnTo>
                  <a:lnTo>
                    <a:pt x="2939" y="154"/>
                  </a:lnTo>
                  <a:lnTo>
                    <a:pt x="2944" y="145"/>
                  </a:lnTo>
                  <a:lnTo>
                    <a:pt x="2956" y="144"/>
                  </a:lnTo>
                  <a:lnTo>
                    <a:pt x="2969" y="148"/>
                  </a:lnTo>
                  <a:lnTo>
                    <a:pt x="2979" y="154"/>
                  </a:lnTo>
                  <a:lnTo>
                    <a:pt x="2987" y="149"/>
                  </a:lnTo>
                  <a:lnTo>
                    <a:pt x="2997" y="152"/>
                  </a:lnTo>
                  <a:lnTo>
                    <a:pt x="2998" y="161"/>
                  </a:lnTo>
                  <a:lnTo>
                    <a:pt x="2998" y="171"/>
                  </a:lnTo>
                  <a:lnTo>
                    <a:pt x="3006" y="174"/>
                  </a:lnTo>
                  <a:lnTo>
                    <a:pt x="3009" y="183"/>
                  </a:lnTo>
                  <a:lnTo>
                    <a:pt x="3012" y="192"/>
                  </a:lnTo>
                  <a:lnTo>
                    <a:pt x="3012" y="201"/>
                  </a:lnTo>
                  <a:lnTo>
                    <a:pt x="3013" y="211"/>
                  </a:lnTo>
                  <a:lnTo>
                    <a:pt x="3015" y="220"/>
                  </a:lnTo>
                  <a:lnTo>
                    <a:pt x="3011" y="227"/>
                  </a:lnTo>
                  <a:lnTo>
                    <a:pt x="3012" y="237"/>
                  </a:lnTo>
                  <a:lnTo>
                    <a:pt x="3019" y="245"/>
                  </a:lnTo>
                  <a:lnTo>
                    <a:pt x="3029" y="251"/>
                  </a:lnTo>
                  <a:lnTo>
                    <a:pt x="3029" y="258"/>
                  </a:lnTo>
                  <a:lnTo>
                    <a:pt x="3032" y="267"/>
                  </a:lnTo>
                  <a:lnTo>
                    <a:pt x="3036" y="275"/>
                  </a:lnTo>
                  <a:lnTo>
                    <a:pt x="3048" y="276"/>
                  </a:lnTo>
                  <a:lnTo>
                    <a:pt x="3055" y="284"/>
                  </a:lnTo>
                  <a:lnTo>
                    <a:pt x="3061" y="292"/>
                  </a:lnTo>
                  <a:lnTo>
                    <a:pt x="3071" y="298"/>
                  </a:lnTo>
                  <a:lnTo>
                    <a:pt x="3071" y="306"/>
                  </a:lnTo>
                  <a:lnTo>
                    <a:pt x="3079" y="313"/>
                  </a:lnTo>
                  <a:lnTo>
                    <a:pt x="3083" y="322"/>
                  </a:lnTo>
                  <a:lnTo>
                    <a:pt x="3088" y="332"/>
                  </a:lnTo>
                  <a:lnTo>
                    <a:pt x="3092" y="339"/>
                  </a:lnTo>
                  <a:lnTo>
                    <a:pt x="3103" y="337"/>
                  </a:lnTo>
                  <a:lnTo>
                    <a:pt x="3107" y="346"/>
                  </a:lnTo>
                  <a:lnTo>
                    <a:pt x="3106" y="355"/>
                  </a:lnTo>
                  <a:lnTo>
                    <a:pt x="3107" y="364"/>
                  </a:lnTo>
                  <a:lnTo>
                    <a:pt x="3111" y="372"/>
                  </a:lnTo>
                  <a:lnTo>
                    <a:pt x="3111" y="381"/>
                  </a:lnTo>
                  <a:lnTo>
                    <a:pt x="3111" y="390"/>
                  </a:lnTo>
                  <a:lnTo>
                    <a:pt x="3120" y="393"/>
                  </a:lnTo>
                  <a:lnTo>
                    <a:pt x="3134" y="390"/>
                  </a:lnTo>
                  <a:lnTo>
                    <a:pt x="3142" y="393"/>
                  </a:lnTo>
                  <a:lnTo>
                    <a:pt x="3148" y="400"/>
                  </a:lnTo>
                  <a:lnTo>
                    <a:pt x="3160" y="404"/>
                  </a:lnTo>
                  <a:lnTo>
                    <a:pt x="3173" y="406"/>
                  </a:lnTo>
                  <a:lnTo>
                    <a:pt x="3180" y="413"/>
                  </a:lnTo>
                  <a:lnTo>
                    <a:pt x="3187" y="422"/>
                  </a:lnTo>
                  <a:lnTo>
                    <a:pt x="3181" y="430"/>
                  </a:lnTo>
                  <a:lnTo>
                    <a:pt x="3184" y="440"/>
                  </a:lnTo>
                  <a:lnTo>
                    <a:pt x="3195" y="440"/>
                  </a:lnTo>
                  <a:lnTo>
                    <a:pt x="3205" y="444"/>
                  </a:lnTo>
                  <a:lnTo>
                    <a:pt x="3202" y="453"/>
                  </a:lnTo>
                  <a:lnTo>
                    <a:pt x="3201" y="462"/>
                  </a:lnTo>
                  <a:lnTo>
                    <a:pt x="3212" y="467"/>
                  </a:lnTo>
                  <a:lnTo>
                    <a:pt x="3219" y="475"/>
                  </a:lnTo>
                  <a:lnTo>
                    <a:pt x="3230" y="478"/>
                  </a:lnTo>
                  <a:lnTo>
                    <a:pt x="3243" y="477"/>
                  </a:lnTo>
                  <a:lnTo>
                    <a:pt x="3255" y="475"/>
                  </a:lnTo>
                  <a:lnTo>
                    <a:pt x="3268" y="476"/>
                  </a:lnTo>
                  <a:lnTo>
                    <a:pt x="3279" y="480"/>
                  </a:lnTo>
                  <a:lnTo>
                    <a:pt x="3292" y="483"/>
                  </a:lnTo>
                  <a:lnTo>
                    <a:pt x="3299" y="490"/>
                  </a:lnTo>
                  <a:lnTo>
                    <a:pt x="3310" y="494"/>
                  </a:lnTo>
                  <a:lnTo>
                    <a:pt x="3322" y="492"/>
                  </a:lnTo>
                  <a:lnTo>
                    <a:pt x="3335" y="492"/>
                  </a:lnTo>
                  <a:lnTo>
                    <a:pt x="3346" y="491"/>
                  </a:lnTo>
                  <a:lnTo>
                    <a:pt x="3359" y="489"/>
                  </a:lnTo>
                  <a:lnTo>
                    <a:pt x="3371" y="486"/>
                  </a:lnTo>
                  <a:lnTo>
                    <a:pt x="3381" y="490"/>
                  </a:lnTo>
                  <a:lnTo>
                    <a:pt x="3391" y="492"/>
                  </a:lnTo>
                  <a:lnTo>
                    <a:pt x="3403" y="495"/>
                  </a:lnTo>
                  <a:lnTo>
                    <a:pt x="3405" y="502"/>
                  </a:lnTo>
                  <a:lnTo>
                    <a:pt x="3409" y="509"/>
                  </a:lnTo>
                  <a:lnTo>
                    <a:pt x="3420" y="505"/>
                  </a:lnTo>
                  <a:lnTo>
                    <a:pt x="3431" y="502"/>
                  </a:lnTo>
                  <a:lnTo>
                    <a:pt x="3438" y="497"/>
                  </a:lnTo>
                  <a:lnTo>
                    <a:pt x="3437" y="489"/>
                  </a:lnTo>
                  <a:lnTo>
                    <a:pt x="3441" y="482"/>
                  </a:lnTo>
                  <a:lnTo>
                    <a:pt x="3441" y="473"/>
                  </a:lnTo>
                  <a:lnTo>
                    <a:pt x="3441" y="464"/>
                  </a:lnTo>
                  <a:lnTo>
                    <a:pt x="3438" y="455"/>
                  </a:lnTo>
                  <a:lnTo>
                    <a:pt x="3437" y="446"/>
                  </a:lnTo>
                  <a:lnTo>
                    <a:pt x="3447" y="440"/>
                  </a:lnTo>
                  <a:lnTo>
                    <a:pt x="3459" y="439"/>
                  </a:lnTo>
                  <a:lnTo>
                    <a:pt x="3471" y="435"/>
                  </a:lnTo>
                  <a:lnTo>
                    <a:pt x="3483" y="438"/>
                  </a:lnTo>
                  <a:lnTo>
                    <a:pt x="3487" y="447"/>
                  </a:lnTo>
                  <a:lnTo>
                    <a:pt x="3490" y="455"/>
                  </a:lnTo>
                  <a:lnTo>
                    <a:pt x="3493" y="452"/>
                  </a:lnTo>
                  <a:lnTo>
                    <a:pt x="3500" y="447"/>
                  </a:lnTo>
                  <a:lnTo>
                    <a:pt x="3508" y="454"/>
                  </a:lnTo>
                  <a:lnTo>
                    <a:pt x="3513" y="451"/>
                  </a:lnTo>
                  <a:lnTo>
                    <a:pt x="3518" y="443"/>
                  </a:lnTo>
                  <a:lnTo>
                    <a:pt x="3532" y="443"/>
                  </a:lnTo>
                  <a:lnTo>
                    <a:pt x="3532" y="430"/>
                  </a:lnTo>
                  <a:lnTo>
                    <a:pt x="3543" y="426"/>
                  </a:lnTo>
                  <a:lnTo>
                    <a:pt x="3546" y="433"/>
                  </a:lnTo>
                  <a:lnTo>
                    <a:pt x="3543" y="438"/>
                  </a:lnTo>
                  <a:lnTo>
                    <a:pt x="3556" y="440"/>
                  </a:lnTo>
                  <a:lnTo>
                    <a:pt x="3557" y="433"/>
                  </a:lnTo>
                  <a:lnTo>
                    <a:pt x="3560" y="425"/>
                  </a:lnTo>
                  <a:lnTo>
                    <a:pt x="3566" y="431"/>
                  </a:lnTo>
                  <a:lnTo>
                    <a:pt x="3571" y="431"/>
                  </a:lnTo>
                  <a:lnTo>
                    <a:pt x="3582" y="427"/>
                  </a:lnTo>
                  <a:lnTo>
                    <a:pt x="3587" y="430"/>
                  </a:lnTo>
                  <a:lnTo>
                    <a:pt x="3596" y="435"/>
                  </a:lnTo>
                  <a:lnTo>
                    <a:pt x="3608" y="437"/>
                  </a:lnTo>
                  <a:lnTo>
                    <a:pt x="3620" y="440"/>
                  </a:lnTo>
                  <a:lnTo>
                    <a:pt x="3620" y="432"/>
                  </a:lnTo>
                  <a:lnTo>
                    <a:pt x="3612" y="425"/>
                  </a:lnTo>
                  <a:lnTo>
                    <a:pt x="3620" y="421"/>
                  </a:lnTo>
                  <a:lnTo>
                    <a:pt x="3631" y="420"/>
                  </a:lnTo>
                  <a:lnTo>
                    <a:pt x="3637" y="413"/>
                  </a:lnTo>
                  <a:lnTo>
                    <a:pt x="3650" y="413"/>
                  </a:lnTo>
                  <a:lnTo>
                    <a:pt x="3657" y="405"/>
                  </a:lnTo>
                  <a:lnTo>
                    <a:pt x="3669" y="402"/>
                  </a:lnTo>
                  <a:lnTo>
                    <a:pt x="3679" y="407"/>
                  </a:lnTo>
                  <a:lnTo>
                    <a:pt x="3683" y="401"/>
                  </a:lnTo>
                  <a:lnTo>
                    <a:pt x="3694" y="404"/>
                  </a:lnTo>
                  <a:lnTo>
                    <a:pt x="3704" y="404"/>
                  </a:lnTo>
                  <a:lnTo>
                    <a:pt x="3717" y="401"/>
                  </a:lnTo>
                  <a:lnTo>
                    <a:pt x="3725" y="405"/>
                  </a:lnTo>
                  <a:lnTo>
                    <a:pt x="3731" y="404"/>
                  </a:lnTo>
                  <a:lnTo>
                    <a:pt x="3740" y="403"/>
                  </a:lnTo>
                  <a:lnTo>
                    <a:pt x="3750" y="401"/>
                  </a:lnTo>
                  <a:lnTo>
                    <a:pt x="3760" y="396"/>
                  </a:lnTo>
                  <a:lnTo>
                    <a:pt x="3767" y="389"/>
                  </a:lnTo>
                  <a:lnTo>
                    <a:pt x="3780" y="385"/>
                  </a:lnTo>
                  <a:lnTo>
                    <a:pt x="3792" y="382"/>
                  </a:lnTo>
                  <a:lnTo>
                    <a:pt x="3800" y="377"/>
                  </a:lnTo>
                  <a:lnTo>
                    <a:pt x="3795" y="371"/>
                  </a:lnTo>
                  <a:lnTo>
                    <a:pt x="3809" y="371"/>
                  </a:lnTo>
                  <a:lnTo>
                    <a:pt x="3817" y="377"/>
                  </a:lnTo>
                  <a:lnTo>
                    <a:pt x="3827" y="384"/>
                  </a:lnTo>
                  <a:lnTo>
                    <a:pt x="3840" y="387"/>
                  </a:lnTo>
                  <a:lnTo>
                    <a:pt x="3849" y="393"/>
                  </a:lnTo>
                  <a:lnTo>
                    <a:pt x="3859" y="400"/>
                  </a:lnTo>
                  <a:lnTo>
                    <a:pt x="3866" y="398"/>
                  </a:lnTo>
                  <a:lnTo>
                    <a:pt x="3872" y="390"/>
                  </a:lnTo>
                  <a:lnTo>
                    <a:pt x="3884" y="392"/>
                  </a:lnTo>
                  <a:lnTo>
                    <a:pt x="3894" y="392"/>
                  </a:lnTo>
                  <a:lnTo>
                    <a:pt x="3894" y="384"/>
                  </a:lnTo>
                  <a:lnTo>
                    <a:pt x="3905" y="382"/>
                  </a:lnTo>
                  <a:lnTo>
                    <a:pt x="3914" y="389"/>
                  </a:lnTo>
                  <a:lnTo>
                    <a:pt x="3914" y="397"/>
                  </a:lnTo>
                  <a:lnTo>
                    <a:pt x="3919" y="406"/>
                  </a:lnTo>
                  <a:lnTo>
                    <a:pt x="3925" y="411"/>
                  </a:lnTo>
                  <a:lnTo>
                    <a:pt x="3930" y="402"/>
                  </a:lnTo>
                  <a:lnTo>
                    <a:pt x="3937" y="398"/>
                  </a:lnTo>
                  <a:lnTo>
                    <a:pt x="3950" y="401"/>
                  </a:lnTo>
                  <a:lnTo>
                    <a:pt x="3960" y="395"/>
                  </a:lnTo>
                  <a:lnTo>
                    <a:pt x="3970" y="390"/>
                  </a:lnTo>
                  <a:lnTo>
                    <a:pt x="3982" y="394"/>
                  </a:lnTo>
                  <a:lnTo>
                    <a:pt x="3988" y="393"/>
                  </a:lnTo>
                  <a:lnTo>
                    <a:pt x="3985" y="405"/>
                  </a:lnTo>
                  <a:lnTo>
                    <a:pt x="3984" y="414"/>
                  </a:lnTo>
                  <a:lnTo>
                    <a:pt x="3984" y="421"/>
                  </a:lnTo>
                  <a:lnTo>
                    <a:pt x="3996" y="424"/>
                  </a:lnTo>
                  <a:lnTo>
                    <a:pt x="4005" y="427"/>
                  </a:lnTo>
                  <a:lnTo>
                    <a:pt x="4002" y="436"/>
                  </a:lnTo>
                  <a:lnTo>
                    <a:pt x="3992" y="431"/>
                  </a:lnTo>
                  <a:lnTo>
                    <a:pt x="3979" y="428"/>
                  </a:lnTo>
                  <a:lnTo>
                    <a:pt x="3967" y="430"/>
                  </a:lnTo>
                  <a:lnTo>
                    <a:pt x="3967" y="436"/>
                  </a:lnTo>
                  <a:lnTo>
                    <a:pt x="3981" y="436"/>
                  </a:lnTo>
                  <a:lnTo>
                    <a:pt x="3992" y="440"/>
                  </a:lnTo>
                  <a:lnTo>
                    <a:pt x="3999" y="448"/>
                  </a:lnTo>
                  <a:lnTo>
                    <a:pt x="3993" y="455"/>
                  </a:lnTo>
                  <a:lnTo>
                    <a:pt x="3981" y="451"/>
                  </a:lnTo>
                  <a:lnTo>
                    <a:pt x="3970" y="455"/>
                  </a:lnTo>
                  <a:lnTo>
                    <a:pt x="3961" y="462"/>
                  </a:lnTo>
                  <a:lnTo>
                    <a:pt x="3957" y="471"/>
                  </a:lnTo>
                  <a:lnTo>
                    <a:pt x="3970" y="471"/>
                  </a:lnTo>
                  <a:lnTo>
                    <a:pt x="3972" y="476"/>
                  </a:lnTo>
                  <a:lnTo>
                    <a:pt x="3960" y="478"/>
                  </a:lnTo>
                  <a:lnTo>
                    <a:pt x="3951" y="483"/>
                  </a:lnTo>
                  <a:lnTo>
                    <a:pt x="3949" y="490"/>
                  </a:lnTo>
                  <a:lnTo>
                    <a:pt x="3960" y="495"/>
                  </a:lnTo>
                  <a:lnTo>
                    <a:pt x="3963" y="506"/>
                  </a:lnTo>
                  <a:lnTo>
                    <a:pt x="3953" y="511"/>
                  </a:lnTo>
                  <a:lnTo>
                    <a:pt x="3943" y="508"/>
                  </a:lnTo>
                  <a:lnTo>
                    <a:pt x="3951" y="499"/>
                  </a:lnTo>
                  <a:lnTo>
                    <a:pt x="3944" y="493"/>
                  </a:lnTo>
                  <a:lnTo>
                    <a:pt x="3933" y="494"/>
                  </a:lnTo>
                  <a:lnTo>
                    <a:pt x="3925" y="502"/>
                  </a:lnTo>
                  <a:lnTo>
                    <a:pt x="3922" y="512"/>
                  </a:lnTo>
                  <a:lnTo>
                    <a:pt x="3926" y="521"/>
                  </a:lnTo>
                  <a:lnTo>
                    <a:pt x="3930" y="530"/>
                  </a:lnTo>
                  <a:lnTo>
                    <a:pt x="3930" y="539"/>
                  </a:lnTo>
                  <a:lnTo>
                    <a:pt x="3919" y="541"/>
                  </a:lnTo>
                  <a:lnTo>
                    <a:pt x="3907" y="538"/>
                  </a:lnTo>
                  <a:lnTo>
                    <a:pt x="3894" y="535"/>
                  </a:lnTo>
                  <a:lnTo>
                    <a:pt x="3889" y="540"/>
                  </a:lnTo>
                  <a:lnTo>
                    <a:pt x="3893" y="548"/>
                  </a:lnTo>
                  <a:lnTo>
                    <a:pt x="3897" y="557"/>
                  </a:lnTo>
                  <a:lnTo>
                    <a:pt x="3891" y="565"/>
                  </a:lnTo>
                  <a:lnTo>
                    <a:pt x="3879" y="568"/>
                  </a:lnTo>
                  <a:lnTo>
                    <a:pt x="3876" y="574"/>
                  </a:lnTo>
                  <a:lnTo>
                    <a:pt x="3877" y="581"/>
                  </a:lnTo>
                  <a:lnTo>
                    <a:pt x="3865" y="583"/>
                  </a:lnTo>
                  <a:lnTo>
                    <a:pt x="3858" y="576"/>
                  </a:lnTo>
                  <a:lnTo>
                    <a:pt x="3861" y="567"/>
                  </a:lnTo>
                  <a:lnTo>
                    <a:pt x="3858" y="560"/>
                  </a:lnTo>
                  <a:lnTo>
                    <a:pt x="3845" y="557"/>
                  </a:lnTo>
                  <a:lnTo>
                    <a:pt x="3833" y="554"/>
                  </a:lnTo>
                  <a:lnTo>
                    <a:pt x="3821" y="558"/>
                  </a:lnTo>
                  <a:lnTo>
                    <a:pt x="3809" y="559"/>
                  </a:lnTo>
                  <a:lnTo>
                    <a:pt x="3813" y="550"/>
                  </a:lnTo>
                  <a:lnTo>
                    <a:pt x="3817" y="540"/>
                  </a:lnTo>
                  <a:lnTo>
                    <a:pt x="3810" y="537"/>
                  </a:lnTo>
                  <a:lnTo>
                    <a:pt x="3795" y="540"/>
                  </a:lnTo>
                  <a:lnTo>
                    <a:pt x="3784" y="544"/>
                  </a:lnTo>
                  <a:lnTo>
                    <a:pt x="3784" y="554"/>
                  </a:lnTo>
                  <a:lnTo>
                    <a:pt x="3778" y="561"/>
                  </a:lnTo>
                  <a:lnTo>
                    <a:pt x="3767" y="565"/>
                  </a:lnTo>
                  <a:lnTo>
                    <a:pt x="3760" y="571"/>
                  </a:lnTo>
                  <a:lnTo>
                    <a:pt x="3747" y="575"/>
                  </a:lnTo>
                  <a:lnTo>
                    <a:pt x="3736" y="579"/>
                  </a:lnTo>
                  <a:lnTo>
                    <a:pt x="3729" y="587"/>
                  </a:lnTo>
                  <a:lnTo>
                    <a:pt x="3726" y="596"/>
                  </a:lnTo>
                  <a:lnTo>
                    <a:pt x="3722" y="605"/>
                  </a:lnTo>
                  <a:lnTo>
                    <a:pt x="3714" y="612"/>
                  </a:lnTo>
                  <a:lnTo>
                    <a:pt x="3705" y="618"/>
                  </a:lnTo>
                  <a:lnTo>
                    <a:pt x="3697" y="626"/>
                  </a:lnTo>
                  <a:lnTo>
                    <a:pt x="3691" y="634"/>
                  </a:lnTo>
                  <a:lnTo>
                    <a:pt x="3683" y="641"/>
                  </a:lnTo>
                  <a:lnTo>
                    <a:pt x="3670" y="645"/>
                  </a:lnTo>
                  <a:lnTo>
                    <a:pt x="3662" y="652"/>
                  </a:lnTo>
                  <a:lnTo>
                    <a:pt x="3654" y="646"/>
                  </a:lnTo>
                  <a:lnTo>
                    <a:pt x="3650" y="652"/>
                  </a:lnTo>
                  <a:lnTo>
                    <a:pt x="3652" y="661"/>
                  </a:lnTo>
                  <a:lnTo>
                    <a:pt x="3633" y="669"/>
                  </a:lnTo>
                  <a:lnTo>
                    <a:pt x="3620" y="683"/>
                  </a:lnTo>
                  <a:lnTo>
                    <a:pt x="3619" y="692"/>
                  </a:lnTo>
                  <a:lnTo>
                    <a:pt x="3610" y="699"/>
                  </a:lnTo>
                  <a:lnTo>
                    <a:pt x="3598" y="695"/>
                  </a:lnTo>
                  <a:lnTo>
                    <a:pt x="3588" y="689"/>
                  </a:lnTo>
                  <a:lnTo>
                    <a:pt x="3577" y="684"/>
                  </a:lnTo>
                  <a:lnTo>
                    <a:pt x="3564" y="685"/>
                  </a:lnTo>
                  <a:lnTo>
                    <a:pt x="3553" y="690"/>
                  </a:lnTo>
                  <a:lnTo>
                    <a:pt x="3543" y="696"/>
                  </a:lnTo>
                  <a:lnTo>
                    <a:pt x="3533" y="701"/>
                  </a:lnTo>
                  <a:lnTo>
                    <a:pt x="3521" y="704"/>
                  </a:lnTo>
                  <a:lnTo>
                    <a:pt x="3508" y="704"/>
                  </a:lnTo>
                  <a:lnTo>
                    <a:pt x="3494" y="703"/>
                  </a:lnTo>
                  <a:lnTo>
                    <a:pt x="3482" y="699"/>
                  </a:lnTo>
                  <a:lnTo>
                    <a:pt x="3479" y="705"/>
                  </a:lnTo>
                  <a:lnTo>
                    <a:pt x="3483" y="714"/>
                  </a:lnTo>
                  <a:lnTo>
                    <a:pt x="3476" y="720"/>
                  </a:lnTo>
                  <a:lnTo>
                    <a:pt x="3462" y="718"/>
                  </a:lnTo>
                  <a:lnTo>
                    <a:pt x="3462" y="724"/>
                  </a:lnTo>
                  <a:lnTo>
                    <a:pt x="3469" y="732"/>
                  </a:lnTo>
                  <a:lnTo>
                    <a:pt x="3461" y="732"/>
                  </a:lnTo>
                  <a:lnTo>
                    <a:pt x="3451" y="725"/>
                  </a:lnTo>
                  <a:lnTo>
                    <a:pt x="3444" y="717"/>
                  </a:lnTo>
                  <a:lnTo>
                    <a:pt x="3455" y="712"/>
                  </a:lnTo>
                  <a:lnTo>
                    <a:pt x="3448" y="705"/>
                  </a:lnTo>
                  <a:lnTo>
                    <a:pt x="3443" y="697"/>
                  </a:lnTo>
                  <a:lnTo>
                    <a:pt x="3433" y="694"/>
                  </a:lnTo>
                  <a:lnTo>
                    <a:pt x="3430" y="700"/>
                  </a:lnTo>
                  <a:lnTo>
                    <a:pt x="3436" y="709"/>
                  </a:lnTo>
                  <a:lnTo>
                    <a:pt x="3431" y="718"/>
                  </a:lnTo>
                  <a:lnTo>
                    <a:pt x="3420" y="717"/>
                  </a:lnTo>
                  <a:lnTo>
                    <a:pt x="3416" y="708"/>
                  </a:lnTo>
                  <a:lnTo>
                    <a:pt x="3410" y="703"/>
                  </a:lnTo>
                  <a:lnTo>
                    <a:pt x="3406" y="712"/>
                  </a:lnTo>
                  <a:lnTo>
                    <a:pt x="3409" y="720"/>
                  </a:lnTo>
                  <a:lnTo>
                    <a:pt x="3410" y="728"/>
                  </a:lnTo>
                  <a:lnTo>
                    <a:pt x="3398" y="732"/>
                  </a:lnTo>
                  <a:lnTo>
                    <a:pt x="3387" y="736"/>
                  </a:lnTo>
                  <a:lnTo>
                    <a:pt x="3378" y="743"/>
                  </a:lnTo>
                  <a:lnTo>
                    <a:pt x="3383" y="752"/>
                  </a:lnTo>
                  <a:lnTo>
                    <a:pt x="3380" y="761"/>
                  </a:lnTo>
                  <a:lnTo>
                    <a:pt x="3369" y="763"/>
                  </a:lnTo>
                  <a:lnTo>
                    <a:pt x="3357" y="767"/>
                  </a:lnTo>
                  <a:lnTo>
                    <a:pt x="3355" y="777"/>
                  </a:lnTo>
                  <a:lnTo>
                    <a:pt x="3345" y="779"/>
                  </a:lnTo>
                  <a:lnTo>
                    <a:pt x="3334" y="772"/>
                  </a:lnTo>
                  <a:lnTo>
                    <a:pt x="3332" y="777"/>
                  </a:lnTo>
                  <a:lnTo>
                    <a:pt x="3331" y="786"/>
                  </a:lnTo>
                  <a:lnTo>
                    <a:pt x="3322" y="791"/>
                  </a:lnTo>
                  <a:lnTo>
                    <a:pt x="3325" y="797"/>
                  </a:lnTo>
                  <a:lnTo>
                    <a:pt x="3313" y="795"/>
                  </a:lnTo>
                  <a:lnTo>
                    <a:pt x="3303" y="799"/>
                  </a:lnTo>
                  <a:lnTo>
                    <a:pt x="3294" y="787"/>
                  </a:lnTo>
                  <a:lnTo>
                    <a:pt x="3297" y="778"/>
                  </a:lnTo>
                  <a:lnTo>
                    <a:pt x="3286" y="780"/>
                  </a:lnTo>
                  <a:lnTo>
                    <a:pt x="3273" y="784"/>
                  </a:lnTo>
                  <a:lnTo>
                    <a:pt x="3262" y="789"/>
                  </a:lnTo>
                  <a:lnTo>
                    <a:pt x="3254" y="789"/>
                  </a:lnTo>
                  <a:lnTo>
                    <a:pt x="3247" y="782"/>
                  </a:lnTo>
                  <a:lnTo>
                    <a:pt x="3236" y="783"/>
                  </a:lnTo>
                  <a:lnTo>
                    <a:pt x="3239" y="792"/>
                  </a:lnTo>
                  <a:lnTo>
                    <a:pt x="3241" y="802"/>
                  </a:lnTo>
                  <a:lnTo>
                    <a:pt x="3215" y="798"/>
                  </a:lnTo>
                  <a:lnTo>
                    <a:pt x="3205" y="799"/>
                  </a:lnTo>
                  <a:lnTo>
                    <a:pt x="3191" y="798"/>
                  </a:lnTo>
                  <a:lnTo>
                    <a:pt x="3178" y="797"/>
                  </a:lnTo>
                  <a:lnTo>
                    <a:pt x="3167" y="802"/>
                  </a:lnTo>
                  <a:lnTo>
                    <a:pt x="3156" y="807"/>
                  </a:lnTo>
                  <a:lnTo>
                    <a:pt x="3143" y="807"/>
                  </a:lnTo>
                  <a:lnTo>
                    <a:pt x="3131" y="806"/>
                  </a:lnTo>
                  <a:lnTo>
                    <a:pt x="3118" y="805"/>
                  </a:lnTo>
                  <a:lnTo>
                    <a:pt x="3104" y="804"/>
                  </a:lnTo>
                  <a:lnTo>
                    <a:pt x="3092" y="803"/>
                  </a:lnTo>
                  <a:lnTo>
                    <a:pt x="3079" y="804"/>
                  </a:lnTo>
                  <a:lnTo>
                    <a:pt x="3067" y="805"/>
                  </a:lnTo>
                  <a:lnTo>
                    <a:pt x="3053" y="807"/>
                  </a:lnTo>
                  <a:lnTo>
                    <a:pt x="3040" y="805"/>
                  </a:lnTo>
                  <a:lnTo>
                    <a:pt x="3029" y="801"/>
                  </a:lnTo>
                  <a:lnTo>
                    <a:pt x="3009" y="798"/>
                  </a:lnTo>
                  <a:lnTo>
                    <a:pt x="2997" y="795"/>
                  </a:lnTo>
                  <a:lnTo>
                    <a:pt x="2987" y="789"/>
                  </a:lnTo>
                  <a:lnTo>
                    <a:pt x="2979" y="782"/>
                  </a:lnTo>
                  <a:lnTo>
                    <a:pt x="2969" y="775"/>
                  </a:lnTo>
                  <a:lnTo>
                    <a:pt x="2956" y="775"/>
                  </a:lnTo>
                  <a:lnTo>
                    <a:pt x="2952" y="780"/>
                  </a:lnTo>
                  <a:lnTo>
                    <a:pt x="2942" y="782"/>
                  </a:lnTo>
                  <a:lnTo>
                    <a:pt x="2939" y="791"/>
                  </a:lnTo>
                  <a:lnTo>
                    <a:pt x="2927" y="792"/>
                  </a:lnTo>
                  <a:lnTo>
                    <a:pt x="2914" y="793"/>
                  </a:lnTo>
                  <a:lnTo>
                    <a:pt x="2907" y="798"/>
                  </a:lnTo>
                  <a:lnTo>
                    <a:pt x="2895" y="802"/>
                  </a:lnTo>
                  <a:lnTo>
                    <a:pt x="2874" y="803"/>
                  </a:lnTo>
                  <a:lnTo>
                    <a:pt x="2872" y="811"/>
                  </a:lnTo>
                  <a:lnTo>
                    <a:pt x="2862" y="818"/>
                  </a:lnTo>
                  <a:lnTo>
                    <a:pt x="2853" y="824"/>
                  </a:lnTo>
                  <a:lnTo>
                    <a:pt x="2840" y="825"/>
                  </a:lnTo>
                  <a:lnTo>
                    <a:pt x="2840" y="832"/>
                  </a:lnTo>
                  <a:lnTo>
                    <a:pt x="2851" y="836"/>
                  </a:lnTo>
                  <a:lnTo>
                    <a:pt x="2851" y="840"/>
                  </a:lnTo>
                  <a:lnTo>
                    <a:pt x="2837" y="841"/>
                  </a:lnTo>
                  <a:lnTo>
                    <a:pt x="2825" y="842"/>
                  </a:lnTo>
                  <a:lnTo>
                    <a:pt x="2822" y="851"/>
                  </a:lnTo>
                  <a:lnTo>
                    <a:pt x="2812" y="852"/>
                  </a:lnTo>
                  <a:lnTo>
                    <a:pt x="2811" y="842"/>
                  </a:lnTo>
                  <a:lnTo>
                    <a:pt x="2798" y="839"/>
                  </a:lnTo>
                  <a:lnTo>
                    <a:pt x="2786" y="837"/>
                  </a:lnTo>
                  <a:lnTo>
                    <a:pt x="2773" y="837"/>
                  </a:lnTo>
                  <a:lnTo>
                    <a:pt x="2762" y="841"/>
                  </a:lnTo>
                  <a:lnTo>
                    <a:pt x="2758" y="850"/>
                  </a:lnTo>
                  <a:lnTo>
                    <a:pt x="2758" y="859"/>
                  </a:lnTo>
                  <a:lnTo>
                    <a:pt x="2753" y="867"/>
                  </a:lnTo>
                  <a:lnTo>
                    <a:pt x="2742" y="863"/>
                  </a:lnTo>
                  <a:lnTo>
                    <a:pt x="2731" y="860"/>
                  </a:lnTo>
                  <a:lnTo>
                    <a:pt x="2732" y="850"/>
                  </a:lnTo>
                  <a:lnTo>
                    <a:pt x="2727" y="843"/>
                  </a:lnTo>
                  <a:lnTo>
                    <a:pt x="2714" y="840"/>
                  </a:lnTo>
                  <a:lnTo>
                    <a:pt x="2702" y="842"/>
                  </a:lnTo>
                  <a:lnTo>
                    <a:pt x="2691" y="847"/>
                  </a:lnTo>
                  <a:lnTo>
                    <a:pt x="2686" y="856"/>
                  </a:lnTo>
                  <a:lnTo>
                    <a:pt x="2689" y="863"/>
                  </a:lnTo>
                  <a:lnTo>
                    <a:pt x="2685" y="872"/>
                  </a:lnTo>
                  <a:lnTo>
                    <a:pt x="2675" y="876"/>
                  </a:lnTo>
                  <a:lnTo>
                    <a:pt x="2665" y="882"/>
                  </a:lnTo>
                  <a:lnTo>
                    <a:pt x="2668" y="889"/>
                  </a:lnTo>
                  <a:lnTo>
                    <a:pt x="2665" y="898"/>
                  </a:lnTo>
                  <a:lnTo>
                    <a:pt x="2668" y="907"/>
                  </a:lnTo>
                  <a:lnTo>
                    <a:pt x="2670" y="916"/>
                  </a:lnTo>
                  <a:lnTo>
                    <a:pt x="2665" y="925"/>
                  </a:lnTo>
                  <a:lnTo>
                    <a:pt x="2668" y="934"/>
                  </a:lnTo>
                  <a:lnTo>
                    <a:pt x="2674" y="941"/>
                  </a:lnTo>
                  <a:lnTo>
                    <a:pt x="2665" y="949"/>
                  </a:lnTo>
                  <a:lnTo>
                    <a:pt x="2656" y="955"/>
                  </a:lnTo>
                  <a:lnTo>
                    <a:pt x="2646" y="960"/>
                  </a:lnTo>
                  <a:lnTo>
                    <a:pt x="2649" y="970"/>
                  </a:lnTo>
                  <a:lnTo>
                    <a:pt x="2654" y="979"/>
                  </a:lnTo>
                  <a:lnTo>
                    <a:pt x="2660" y="987"/>
                  </a:lnTo>
                  <a:lnTo>
                    <a:pt x="2667" y="995"/>
                  </a:lnTo>
                  <a:lnTo>
                    <a:pt x="2677" y="1001"/>
                  </a:lnTo>
                  <a:lnTo>
                    <a:pt x="2688" y="1006"/>
                  </a:lnTo>
                  <a:lnTo>
                    <a:pt x="2699" y="1011"/>
                  </a:lnTo>
                  <a:lnTo>
                    <a:pt x="2709" y="1017"/>
                  </a:lnTo>
                  <a:lnTo>
                    <a:pt x="2717" y="1024"/>
                  </a:lnTo>
                  <a:lnTo>
                    <a:pt x="2720" y="1033"/>
                  </a:lnTo>
                  <a:lnTo>
                    <a:pt x="2707" y="1036"/>
                  </a:lnTo>
                  <a:lnTo>
                    <a:pt x="2696" y="1033"/>
                  </a:lnTo>
                  <a:lnTo>
                    <a:pt x="2684" y="1031"/>
                  </a:lnTo>
                  <a:lnTo>
                    <a:pt x="2686" y="1040"/>
                  </a:lnTo>
                  <a:lnTo>
                    <a:pt x="2692" y="1048"/>
                  </a:lnTo>
                  <a:lnTo>
                    <a:pt x="2702" y="1052"/>
                  </a:lnTo>
                  <a:lnTo>
                    <a:pt x="2712" y="1047"/>
                  </a:lnTo>
                  <a:lnTo>
                    <a:pt x="2724" y="1050"/>
                  </a:lnTo>
                  <a:lnTo>
                    <a:pt x="2731" y="1058"/>
                  </a:lnTo>
                  <a:lnTo>
                    <a:pt x="2742" y="1062"/>
                  </a:lnTo>
                  <a:lnTo>
                    <a:pt x="2735" y="1066"/>
                  </a:lnTo>
                  <a:lnTo>
                    <a:pt x="2723" y="1068"/>
                  </a:lnTo>
                  <a:lnTo>
                    <a:pt x="2712" y="1074"/>
                  </a:lnTo>
                  <a:lnTo>
                    <a:pt x="2700" y="1077"/>
                  </a:lnTo>
                  <a:lnTo>
                    <a:pt x="2695" y="1085"/>
                  </a:lnTo>
                  <a:lnTo>
                    <a:pt x="2695" y="1094"/>
                  </a:lnTo>
                  <a:lnTo>
                    <a:pt x="2696" y="1103"/>
                  </a:lnTo>
                  <a:lnTo>
                    <a:pt x="2698" y="1113"/>
                  </a:lnTo>
                  <a:lnTo>
                    <a:pt x="2689" y="1119"/>
                  </a:lnTo>
                  <a:lnTo>
                    <a:pt x="2677" y="1118"/>
                  </a:lnTo>
                  <a:lnTo>
                    <a:pt x="2665" y="1115"/>
                  </a:lnTo>
                  <a:lnTo>
                    <a:pt x="2656" y="1109"/>
                  </a:lnTo>
                  <a:lnTo>
                    <a:pt x="2644" y="1108"/>
                  </a:lnTo>
                  <a:lnTo>
                    <a:pt x="2640" y="1117"/>
                  </a:lnTo>
                  <a:lnTo>
                    <a:pt x="2642" y="1126"/>
                  </a:lnTo>
                  <a:lnTo>
                    <a:pt x="2649" y="1134"/>
                  </a:lnTo>
                  <a:lnTo>
                    <a:pt x="2657" y="1141"/>
                  </a:lnTo>
                  <a:lnTo>
                    <a:pt x="2647" y="1148"/>
                  </a:lnTo>
                  <a:lnTo>
                    <a:pt x="2636" y="1152"/>
                  </a:lnTo>
                  <a:lnTo>
                    <a:pt x="2623" y="1152"/>
                  </a:lnTo>
                  <a:lnTo>
                    <a:pt x="2611" y="1149"/>
                  </a:lnTo>
                  <a:lnTo>
                    <a:pt x="2600" y="1145"/>
                  </a:lnTo>
                  <a:lnTo>
                    <a:pt x="2587" y="1145"/>
                  </a:lnTo>
                  <a:lnTo>
                    <a:pt x="2575" y="1148"/>
                  </a:lnTo>
                  <a:lnTo>
                    <a:pt x="2562" y="1150"/>
                  </a:lnTo>
                  <a:lnTo>
                    <a:pt x="2549" y="1150"/>
                  </a:lnTo>
                  <a:lnTo>
                    <a:pt x="2537" y="1148"/>
                  </a:lnTo>
                  <a:lnTo>
                    <a:pt x="2528" y="1153"/>
                  </a:lnTo>
                  <a:lnTo>
                    <a:pt x="2527" y="1162"/>
                  </a:lnTo>
                  <a:lnTo>
                    <a:pt x="2517" y="1169"/>
                  </a:lnTo>
                  <a:lnTo>
                    <a:pt x="2506" y="1173"/>
                  </a:lnTo>
                  <a:lnTo>
                    <a:pt x="2492" y="1174"/>
                  </a:lnTo>
                  <a:lnTo>
                    <a:pt x="2484" y="1168"/>
                  </a:lnTo>
                  <a:lnTo>
                    <a:pt x="2478" y="1160"/>
                  </a:lnTo>
                  <a:lnTo>
                    <a:pt x="2468" y="1154"/>
                  </a:lnTo>
                  <a:lnTo>
                    <a:pt x="2456" y="1154"/>
                  </a:lnTo>
                  <a:lnTo>
                    <a:pt x="2443" y="1156"/>
                  </a:lnTo>
                  <a:lnTo>
                    <a:pt x="2431" y="1159"/>
                  </a:lnTo>
                  <a:lnTo>
                    <a:pt x="2424" y="1157"/>
                  </a:lnTo>
                  <a:lnTo>
                    <a:pt x="2429" y="1148"/>
                  </a:lnTo>
                  <a:lnTo>
                    <a:pt x="2426" y="1140"/>
                  </a:lnTo>
                  <a:lnTo>
                    <a:pt x="2415" y="1140"/>
                  </a:lnTo>
                  <a:lnTo>
                    <a:pt x="2407" y="1147"/>
                  </a:lnTo>
                  <a:lnTo>
                    <a:pt x="2394" y="1147"/>
                  </a:lnTo>
                  <a:lnTo>
                    <a:pt x="2382" y="1145"/>
                  </a:lnTo>
                  <a:lnTo>
                    <a:pt x="2368" y="1143"/>
                  </a:lnTo>
                  <a:lnTo>
                    <a:pt x="2358" y="1137"/>
                  </a:lnTo>
                  <a:lnTo>
                    <a:pt x="2352" y="1128"/>
                  </a:lnTo>
                  <a:lnTo>
                    <a:pt x="2349" y="1119"/>
                  </a:lnTo>
                  <a:lnTo>
                    <a:pt x="2351" y="1110"/>
                  </a:lnTo>
                  <a:lnTo>
                    <a:pt x="2352" y="1101"/>
                  </a:lnTo>
                  <a:lnTo>
                    <a:pt x="2342" y="1102"/>
                  </a:lnTo>
                  <a:lnTo>
                    <a:pt x="2335" y="1109"/>
                  </a:lnTo>
                  <a:lnTo>
                    <a:pt x="2324" y="1114"/>
                  </a:lnTo>
                  <a:lnTo>
                    <a:pt x="2312" y="1117"/>
                  </a:lnTo>
                  <a:lnTo>
                    <a:pt x="2306" y="1126"/>
                  </a:lnTo>
                  <a:lnTo>
                    <a:pt x="2296" y="1132"/>
                  </a:lnTo>
                  <a:lnTo>
                    <a:pt x="2287" y="1138"/>
                  </a:lnTo>
                  <a:lnTo>
                    <a:pt x="2281" y="1147"/>
                  </a:lnTo>
                  <a:lnTo>
                    <a:pt x="2285" y="1155"/>
                  </a:lnTo>
                  <a:lnTo>
                    <a:pt x="2295" y="1161"/>
                  </a:lnTo>
                  <a:lnTo>
                    <a:pt x="2291" y="1169"/>
                  </a:lnTo>
                  <a:lnTo>
                    <a:pt x="2280" y="1174"/>
                  </a:lnTo>
                  <a:lnTo>
                    <a:pt x="2267" y="1176"/>
                  </a:lnTo>
                  <a:lnTo>
                    <a:pt x="2254" y="1175"/>
                  </a:lnTo>
                  <a:lnTo>
                    <a:pt x="2243" y="1171"/>
                  </a:lnTo>
                  <a:lnTo>
                    <a:pt x="2232" y="1165"/>
                  </a:lnTo>
                  <a:lnTo>
                    <a:pt x="2219" y="1163"/>
                  </a:lnTo>
                  <a:lnTo>
                    <a:pt x="2207" y="1164"/>
                  </a:lnTo>
                  <a:lnTo>
                    <a:pt x="2194" y="1166"/>
                  </a:lnTo>
                  <a:lnTo>
                    <a:pt x="2182" y="1170"/>
                  </a:lnTo>
                  <a:lnTo>
                    <a:pt x="2173" y="1165"/>
                  </a:lnTo>
                  <a:lnTo>
                    <a:pt x="2175" y="1155"/>
                  </a:lnTo>
                  <a:lnTo>
                    <a:pt x="2183" y="1150"/>
                  </a:lnTo>
                  <a:lnTo>
                    <a:pt x="2184" y="1141"/>
                  </a:lnTo>
                  <a:lnTo>
                    <a:pt x="2173" y="1136"/>
                  </a:lnTo>
                  <a:lnTo>
                    <a:pt x="2161" y="1136"/>
                  </a:lnTo>
                  <a:lnTo>
                    <a:pt x="2151" y="1141"/>
                  </a:lnTo>
                  <a:lnTo>
                    <a:pt x="2140" y="1146"/>
                  </a:lnTo>
                  <a:lnTo>
                    <a:pt x="2131" y="1140"/>
                  </a:lnTo>
                  <a:lnTo>
                    <a:pt x="2126" y="1132"/>
                  </a:lnTo>
                  <a:lnTo>
                    <a:pt x="2115" y="1134"/>
                  </a:lnTo>
                  <a:lnTo>
                    <a:pt x="2106" y="1128"/>
                  </a:lnTo>
                  <a:lnTo>
                    <a:pt x="2096" y="1134"/>
                  </a:lnTo>
                  <a:lnTo>
                    <a:pt x="2103" y="1142"/>
                  </a:lnTo>
                  <a:lnTo>
                    <a:pt x="2095" y="1146"/>
                  </a:lnTo>
                  <a:lnTo>
                    <a:pt x="2087" y="1153"/>
                  </a:lnTo>
                  <a:lnTo>
                    <a:pt x="2078" y="1160"/>
                  </a:lnTo>
                  <a:lnTo>
                    <a:pt x="2068" y="1162"/>
                  </a:lnTo>
                  <a:lnTo>
                    <a:pt x="2064" y="1171"/>
                  </a:lnTo>
                  <a:lnTo>
                    <a:pt x="2060" y="1179"/>
                  </a:lnTo>
                  <a:lnTo>
                    <a:pt x="2049" y="1178"/>
                  </a:lnTo>
                  <a:lnTo>
                    <a:pt x="2038" y="1182"/>
                  </a:lnTo>
                  <a:lnTo>
                    <a:pt x="2031" y="1190"/>
                  </a:lnTo>
                  <a:lnTo>
                    <a:pt x="2029" y="1198"/>
                  </a:lnTo>
                  <a:lnTo>
                    <a:pt x="2029" y="1207"/>
                  </a:lnTo>
                  <a:lnTo>
                    <a:pt x="2024" y="1212"/>
                  </a:lnTo>
                  <a:lnTo>
                    <a:pt x="2010" y="1210"/>
                  </a:lnTo>
                  <a:lnTo>
                    <a:pt x="2007" y="1219"/>
                  </a:lnTo>
                  <a:lnTo>
                    <a:pt x="2013" y="1227"/>
                  </a:lnTo>
                  <a:lnTo>
                    <a:pt x="2021" y="1235"/>
                  </a:lnTo>
                  <a:lnTo>
                    <a:pt x="2028" y="1243"/>
                  </a:lnTo>
                  <a:lnTo>
                    <a:pt x="2036" y="1250"/>
                  </a:lnTo>
                  <a:lnTo>
                    <a:pt x="2046" y="1254"/>
                  </a:lnTo>
                  <a:lnTo>
                    <a:pt x="2053" y="1261"/>
                  </a:lnTo>
                  <a:lnTo>
                    <a:pt x="2053" y="1270"/>
                  </a:lnTo>
                  <a:lnTo>
                    <a:pt x="2056" y="1278"/>
                  </a:lnTo>
                  <a:lnTo>
                    <a:pt x="2049" y="1286"/>
                  </a:lnTo>
                  <a:lnTo>
                    <a:pt x="2059" y="1288"/>
                  </a:lnTo>
                  <a:lnTo>
                    <a:pt x="2068" y="1290"/>
                  </a:lnTo>
                  <a:lnTo>
                    <a:pt x="2081" y="1291"/>
                  </a:lnTo>
                  <a:lnTo>
                    <a:pt x="2087" y="1299"/>
                  </a:lnTo>
                  <a:lnTo>
                    <a:pt x="2091" y="1307"/>
                  </a:lnTo>
                  <a:lnTo>
                    <a:pt x="2088" y="1319"/>
                  </a:lnTo>
                  <a:lnTo>
                    <a:pt x="2085" y="1328"/>
                  </a:lnTo>
                  <a:lnTo>
                    <a:pt x="2082" y="1337"/>
                  </a:lnTo>
                  <a:lnTo>
                    <a:pt x="2081" y="1346"/>
                  </a:lnTo>
                  <a:lnTo>
                    <a:pt x="2078" y="1355"/>
                  </a:lnTo>
                  <a:lnTo>
                    <a:pt x="2075" y="1364"/>
                  </a:lnTo>
                  <a:lnTo>
                    <a:pt x="2067" y="1372"/>
                  </a:lnTo>
                  <a:lnTo>
                    <a:pt x="2056" y="1376"/>
                  </a:lnTo>
                  <a:lnTo>
                    <a:pt x="2045" y="1380"/>
                  </a:lnTo>
                  <a:lnTo>
                    <a:pt x="2036" y="1387"/>
                  </a:lnTo>
                  <a:lnTo>
                    <a:pt x="2035" y="1396"/>
                  </a:lnTo>
                  <a:lnTo>
                    <a:pt x="2046" y="1398"/>
                  </a:lnTo>
                  <a:lnTo>
                    <a:pt x="2060" y="1397"/>
                  </a:lnTo>
                  <a:lnTo>
                    <a:pt x="2074" y="1397"/>
                  </a:lnTo>
                  <a:lnTo>
                    <a:pt x="2087" y="1395"/>
                  </a:lnTo>
                  <a:lnTo>
                    <a:pt x="2096" y="1399"/>
                  </a:lnTo>
                  <a:lnTo>
                    <a:pt x="2099" y="1413"/>
                  </a:lnTo>
                  <a:lnTo>
                    <a:pt x="2092" y="1420"/>
                  </a:lnTo>
                  <a:lnTo>
                    <a:pt x="2081" y="1426"/>
                  </a:lnTo>
                  <a:lnTo>
                    <a:pt x="2067" y="1426"/>
                  </a:lnTo>
                  <a:lnTo>
                    <a:pt x="2056" y="1431"/>
                  </a:lnTo>
                  <a:lnTo>
                    <a:pt x="2045" y="1436"/>
                  </a:lnTo>
                  <a:lnTo>
                    <a:pt x="2041" y="1444"/>
                  </a:lnTo>
                  <a:lnTo>
                    <a:pt x="2031" y="1450"/>
                  </a:lnTo>
                  <a:lnTo>
                    <a:pt x="2022" y="1458"/>
                  </a:lnTo>
                  <a:lnTo>
                    <a:pt x="2029" y="1465"/>
                  </a:lnTo>
                  <a:lnTo>
                    <a:pt x="2027" y="1475"/>
                  </a:lnTo>
                  <a:lnTo>
                    <a:pt x="2024" y="1484"/>
                  </a:lnTo>
                  <a:lnTo>
                    <a:pt x="2024" y="1493"/>
                  </a:lnTo>
                  <a:lnTo>
                    <a:pt x="2025" y="1502"/>
                  </a:lnTo>
                  <a:lnTo>
                    <a:pt x="2024" y="1512"/>
                  </a:lnTo>
                  <a:lnTo>
                    <a:pt x="2011" y="1513"/>
                  </a:lnTo>
                  <a:lnTo>
                    <a:pt x="2001" y="1519"/>
                  </a:lnTo>
                  <a:lnTo>
                    <a:pt x="1996" y="1525"/>
                  </a:lnTo>
                  <a:lnTo>
                    <a:pt x="1983" y="1524"/>
                  </a:lnTo>
                  <a:lnTo>
                    <a:pt x="1973" y="1530"/>
                  </a:lnTo>
                  <a:lnTo>
                    <a:pt x="1968" y="1538"/>
                  </a:lnTo>
                  <a:lnTo>
                    <a:pt x="1976" y="1543"/>
                  </a:lnTo>
                  <a:lnTo>
                    <a:pt x="1982" y="1549"/>
                  </a:lnTo>
                  <a:lnTo>
                    <a:pt x="1980" y="1555"/>
                  </a:lnTo>
                  <a:lnTo>
                    <a:pt x="1989" y="1562"/>
                  </a:lnTo>
                  <a:lnTo>
                    <a:pt x="1997" y="1570"/>
                  </a:lnTo>
                  <a:lnTo>
                    <a:pt x="2008" y="1574"/>
                  </a:lnTo>
                  <a:lnTo>
                    <a:pt x="2013" y="1582"/>
                  </a:lnTo>
                  <a:lnTo>
                    <a:pt x="2014" y="1592"/>
                  </a:lnTo>
                  <a:lnTo>
                    <a:pt x="2021" y="1601"/>
                  </a:lnTo>
                  <a:lnTo>
                    <a:pt x="2018" y="1609"/>
                  </a:lnTo>
                  <a:lnTo>
                    <a:pt x="2011" y="1617"/>
                  </a:lnTo>
                  <a:lnTo>
                    <a:pt x="2004" y="1624"/>
                  </a:lnTo>
                  <a:lnTo>
                    <a:pt x="1999" y="1632"/>
                  </a:lnTo>
                  <a:lnTo>
                    <a:pt x="1997" y="1641"/>
                  </a:lnTo>
                  <a:lnTo>
                    <a:pt x="1997" y="1651"/>
                  </a:lnTo>
                  <a:lnTo>
                    <a:pt x="1997" y="1660"/>
                  </a:lnTo>
                  <a:lnTo>
                    <a:pt x="1993" y="1667"/>
                  </a:lnTo>
                  <a:lnTo>
                    <a:pt x="1983" y="1672"/>
                  </a:lnTo>
                  <a:lnTo>
                    <a:pt x="1979" y="1682"/>
                  </a:lnTo>
                  <a:lnTo>
                    <a:pt x="1975" y="1690"/>
                  </a:lnTo>
                  <a:lnTo>
                    <a:pt x="1964" y="1694"/>
                  </a:lnTo>
                  <a:lnTo>
                    <a:pt x="1972" y="1701"/>
                  </a:lnTo>
                  <a:lnTo>
                    <a:pt x="1968" y="1710"/>
                  </a:lnTo>
                  <a:lnTo>
                    <a:pt x="1962" y="1718"/>
                  </a:lnTo>
                  <a:lnTo>
                    <a:pt x="1951" y="1718"/>
                  </a:lnTo>
                  <a:lnTo>
                    <a:pt x="1947" y="1727"/>
                  </a:lnTo>
                  <a:lnTo>
                    <a:pt x="1954" y="1734"/>
                  </a:lnTo>
                  <a:lnTo>
                    <a:pt x="1950" y="1743"/>
                  </a:lnTo>
                  <a:lnTo>
                    <a:pt x="1945" y="1752"/>
                  </a:lnTo>
                  <a:lnTo>
                    <a:pt x="1938" y="1759"/>
                  </a:lnTo>
                  <a:lnTo>
                    <a:pt x="1930" y="1752"/>
                  </a:lnTo>
                  <a:lnTo>
                    <a:pt x="1926" y="1743"/>
                  </a:lnTo>
                  <a:lnTo>
                    <a:pt x="1919" y="1735"/>
                  </a:lnTo>
                  <a:lnTo>
                    <a:pt x="1908" y="1732"/>
                  </a:lnTo>
                  <a:lnTo>
                    <a:pt x="1894" y="1732"/>
                  </a:lnTo>
                  <a:lnTo>
                    <a:pt x="1884" y="1737"/>
                  </a:lnTo>
                  <a:lnTo>
                    <a:pt x="1876" y="1744"/>
                  </a:lnTo>
                  <a:lnTo>
                    <a:pt x="1866" y="1751"/>
                  </a:lnTo>
                  <a:lnTo>
                    <a:pt x="1863" y="1760"/>
                  </a:lnTo>
                  <a:lnTo>
                    <a:pt x="1870" y="1767"/>
                  </a:lnTo>
                  <a:lnTo>
                    <a:pt x="1863" y="1774"/>
                  </a:lnTo>
                  <a:lnTo>
                    <a:pt x="1864" y="1781"/>
                  </a:lnTo>
                  <a:lnTo>
                    <a:pt x="1867" y="1788"/>
                  </a:lnTo>
                  <a:lnTo>
                    <a:pt x="1871" y="1797"/>
                  </a:lnTo>
                  <a:lnTo>
                    <a:pt x="1870" y="1807"/>
                  </a:lnTo>
                  <a:lnTo>
                    <a:pt x="1863" y="1814"/>
                  </a:lnTo>
                  <a:lnTo>
                    <a:pt x="1850" y="1817"/>
                  </a:lnTo>
                  <a:lnTo>
                    <a:pt x="1838" y="1817"/>
                  </a:lnTo>
                  <a:lnTo>
                    <a:pt x="1825" y="1816"/>
                  </a:lnTo>
                  <a:lnTo>
                    <a:pt x="1813" y="1814"/>
                  </a:lnTo>
                  <a:lnTo>
                    <a:pt x="1799" y="1814"/>
                  </a:lnTo>
                  <a:lnTo>
                    <a:pt x="1787" y="1818"/>
                  </a:lnTo>
                  <a:lnTo>
                    <a:pt x="1776" y="1823"/>
                  </a:lnTo>
                  <a:lnTo>
                    <a:pt x="1769" y="1830"/>
                  </a:lnTo>
                  <a:lnTo>
                    <a:pt x="1761" y="1836"/>
                  </a:lnTo>
                  <a:lnTo>
                    <a:pt x="1750" y="1842"/>
                  </a:lnTo>
                  <a:lnTo>
                    <a:pt x="1743" y="1850"/>
                  </a:lnTo>
                  <a:lnTo>
                    <a:pt x="1744" y="1859"/>
                  </a:lnTo>
                  <a:lnTo>
                    <a:pt x="1750" y="1869"/>
                  </a:lnTo>
                  <a:lnTo>
                    <a:pt x="1741" y="1869"/>
                  </a:lnTo>
                  <a:lnTo>
                    <a:pt x="1727" y="1866"/>
                  </a:lnTo>
                  <a:lnTo>
                    <a:pt x="1715" y="1870"/>
                  </a:lnTo>
                  <a:lnTo>
                    <a:pt x="1704" y="1875"/>
                  </a:lnTo>
                  <a:lnTo>
                    <a:pt x="1695" y="1882"/>
                  </a:lnTo>
                  <a:lnTo>
                    <a:pt x="1684" y="1886"/>
                  </a:lnTo>
                  <a:lnTo>
                    <a:pt x="1673" y="1882"/>
                  </a:lnTo>
                  <a:lnTo>
                    <a:pt x="1666" y="1873"/>
                  </a:lnTo>
                  <a:lnTo>
                    <a:pt x="1663" y="1864"/>
                  </a:lnTo>
                  <a:lnTo>
                    <a:pt x="1652" y="1860"/>
                  </a:lnTo>
                  <a:lnTo>
                    <a:pt x="1645" y="1868"/>
                  </a:lnTo>
                  <a:lnTo>
                    <a:pt x="1643" y="1877"/>
                  </a:lnTo>
                  <a:lnTo>
                    <a:pt x="1646" y="1887"/>
                  </a:lnTo>
                  <a:lnTo>
                    <a:pt x="1652" y="1895"/>
                  </a:lnTo>
                  <a:lnTo>
                    <a:pt x="1655" y="1904"/>
                  </a:lnTo>
                  <a:lnTo>
                    <a:pt x="1667" y="1899"/>
                  </a:lnTo>
                  <a:lnTo>
                    <a:pt x="1680" y="1901"/>
                  </a:lnTo>
                  <a:lnTo>
                    <a:pt x="1683" y="1910"/>
                  </a:lnTo>
                  <a:lnTo>
                    <a:pt x="1673" y="1916"/>
                  </a:lnTo>
                  <a:lnTo>
                    <a:pt x="1660" y="1918"/>
                  </a:lnTo>
                  <a:lnTo>
                    <a:pt x="1648" y="1915"/>
                  </a:lnTo>
                  <a:lnTo>
                    <a:pt x="1637" y="1915"/>
                  </a:lnTo>
                  <a:lnTo>
                    <a:pt x="1624" y="1915"/>
                  </a:lnTo>
                  <a:lnTo>
                    <a:pt x="1610" y="1913"/>
                  </a:lnTo>
                  <a:lnTo>
                    <a:pt x="1597" y="1911"/>
                  </a:lnTo>
                  <a:lnTo>
                    <a:pt x="1585" y="1913"/>
                  </a:lnTo>
                  <a:lnTo>
                    <a:pt x="1586" y="1922"/>
                  </a:lnTo>
                  <a:lnTo>
                    <a:pt x="1588" y="1932"/>
                  </a:lnTo>
                  <a:lnTo>
                    <a:pt x="1593" y="1940"/>
                  </a:lnTo>
                  <a:lnTo>
                    <a:pt x="1600" y="1948"/>
                  </a:lnTo>
                  <a:lnTo>
                    <a:pt x="1611" y="1953"/>
                  </a:lnTo>
                  <a:lnTo>
                    <a:pt x="1623" y="1957"/>
                  </a:lnTo>
                  <a:lnTo>
                    <a:pt x="1634" y="1961"/>
                  </a:lnTo>
                  <a:lnTo>
                    <a:pt x="1638" y="1970"/>
                  </a:lnTo>
                  <a:lnTo>
                    <a:pt x="1632" y="1977"/>
                  </a:lnTo>
                  <a:lnTo>
                    <a:pt x="1620" y="1977"/>
                  </a:lnTo>
                  <a:lnTo>
                    <a:pt x="1607" y="1974"/>
                  </a:lnTo>
                  <a:lnTo>
                    <a:pt x="1597" y="1968"/>
                  </a:lnTo>
                  <a:lnTo>
                    <a:pt x="1592" y="1959"/>
                  </a:lnTo>
                  <a:lnTo>
                    <a:pt x="1592" y="1950"/>
                  </a:lnTo>
                  <a:lnTo>
                    <a:pt x="1579" y="1951"/>
                  </a:lnTo>
                  <a:lnTo>
                    <a:pt x="1568" y="1949"/>
                  </a:lnTo>
                  <a:lnTo>
                    <a:pt x="1560" y="1943"/>
                  </a:lnTo>
                  <a:lnTo>
                    <a:pt x="1551" y="1951"/>
                  </a:lnTo>
                  <a:lnTo>
                    <a:pt x="1540" y="1948"/>
                  </a:lnTo>
                  <a:lnTo>
                    <a:pt x="1541" y="1932"/>
                  </a:lnTo>
                  <a:lnTo>
                    <a:pt x="1540" y="1925"/>
                  </a:lnTo>
                  <a:lnTo>
                    <a:pt x="1526" y="1924"/>
                  </a:lnTo>
                  <a:lnTo>
                    <a:pt x="1515" y="1920"/>
                  </a:lnTo>
                  <a:lnTo>
                    <a:pt x="1505" y="1914"/>
                  </a:lnTo>
                  <a:lnTo>
                    <a:pt x="1495" y="1907"/>
                  </a:lnTo>
                  <a:lnTo>
                    <a:pt x="1488" y="1900"/>
                  </a:lnTo>
                  <a:lnTo>
                    <a:pt x="1476" y="1898"/>
                  </a:lnTo>
                  <a:lnTo>
                    <a:pt x="1463" y="1902"/>
                  </a:lnTo>
                  <a:lnTo>
                    <a:pt x="1452" y="1907"/>
                  </a:lnTo>
                  <a:lnTo>
                    <a:pt x="1442" y="1913"/>
                  </a:lnTo>
                  <a:lnTo>
                    <a:pt x="1432" y="1919"/>
                  </a:lnTo>
                  <a:lnTo>
                    <a:pt x="1423" y="1925"/>
                  </a:lnTo>
                  <a:lnTo>
                    <a:pt x="1416" y="1933"/>
                  </a:lnTo>
                  <a:lnTo>
                    <a:pt x="1416" y="1942"/>
                  </a:lnTo>
                  <a:lnTo>
                    <a:pt x="1423" y="1950"/>
                  </a:lnTo>
                  <a:lnTo>
                    <a:pt x="1430" y="1957"/>
                  </a:lnTo>
                  <a:lnTo>
                    <a:pt x="1410" y="1949"/>
                  </a:lnTo>
                  <a:lnTo>
                    <a:pt x="1402" y="1942"/>
                  </a:lnTo>
                  <a:lnTo>
                    <a:pt x="1395" y="1934"/>
                  </a:lnTo>
                  <a:lnTo>
                    <a:pt x="1383" y="1932"/>
                  </a:lnTo>
                  <a:lnTo>
                    <a:pt x="1372" y="1929"/>
                  </a:lnTo>
                  <a:lnTo>
                    <a:pt x="1364" y="1921"/>
                  </a:lnTo>
                  <a:lnTo>
                    <a:pt x="1354" y="1916"/>
                  </a:lnTo>
                  <a:lnTo>
                    <a:pt x="1343" y="1910"/>
                  </a:lnTo>
                  <a:lnTo>
                    <a:pt x="1336" y="1903"/>
                  </a:lnTo>
                  <a:lnTo>
                    <a:pt x="1328" y="1896"/>
                  </a:lnTo>
                  <a:lnTo>
                    <a:pt x="1315" y="1893"/>
                  </a:lnTo>
                  <a:lnTo>
                    <a:pt x="1305" y="1887"/>
                  </a:lnTo>
                  <a:lnTo>
                    <a:pt x="1293" y="1889"/>
                  </a:lnTo>
                  <a:lnTo>
                    <a:pt x="1280" y="1892"/>
                  </a:lnTo>
                  <a:lnTo>
                    <a:pt x="1267" y="1893"/>
                  </a:lnTo>
                  <a:lnTo>
                    <a:pt x="1255" y="1890"/>
                  </a:lnTo>
                  <a:lnTo>
                    <a:pt x="1246" y="1881"/>
                  </a:lnTo>
                  <a:lnTo>
                    <a:pt x="1239" y="1882"/>
                  </a:lnTo>
                  <a:lnTo>
                    <a:pt x="1237" y="1893"/>
                  </a:lnTo>
                  <a:lnTo>
                    <a:pt x="1226" y="1893"/>
                  </a:lnTo>
                  <a:lnTo>
                    <a:pt x="1213" y="1893"/>
                  </a:lnTo>
                  <a:lnTo>
                    <a:pt x="1199" y="1894"/>
                  </a:lnTo>
                  <a:lnTo>
                    <a:pt x="1188" y="1897"/>
                  </a:lnTo>
                  <a:lnTo>
                    <a:pt x="1174" y="1896"/>
                  </a:lnTo>
                  <a:lnTo>
                    <a:pt x="1163" y="1892"/>
                  </a:lnTo>
                  <a:lnTo>
                    <a:pt x="1154" y="1885"/>
                  </a:lnTo>
                  <a:lnTo>
                    <a:pt x="1142" y="1882"/>
                  </a:lnTo>
                  <a:lnTo>
                    <a:pt x="1129" y="1877"/>
                  </a:lnTo>
                  <a:lnTo>
                    <a:pt x="1105" y="1873"/>
                  </a:lnTo>
                  <a:lnTo>
                    <a:pt x="1094" y="1868"/>
                  </a:lnTo>
                  <a:lnTo>
                    <a:pt x="1086" y="1862"/>
                  </a:lnTo>
                  <a:lnTo>
                    <a:pt x="1079" y="1854"/>
                  </a:lnTo>
                  <a:lnTo>
                    <a:pt x="1068" y="1851"/>
                  </a:lnTo>
                  <a:lnTo>
                    <a:pt x="1065" y="1843"/>
                  </a:lnTo>
                  <a:lnTo>
                    <a:pt x="1052" y="1845"/>
                  </a:lnTo>
                  <a:lnTo>
                    <a:pt x="1044" y="1841"/>
                  </a:lnTo>
                  <a:lnTo>
                    <a:pt x="1033" y="1834"/>
                  </a:lnTo>
                  <a:lnTo>
                    <a:pt x="1035" y="1827"/>
                  </a:lnTo>
                  <a:lnTo>
                    <a:pt x="1045" y="1820"/>
                  </a:lnTo>
                  <a:lnTo>
                    <a:pt x="1047" y="1811"/>
                  </a:lnTo>
                  <a:lnTo>
                    <a:pt x="1054" y="1803"/>
                  </a:lnTo>
                  <a:lnTo>
                    <a:pt x="1065" y="1797"/>
                  </a:lnTo>
                  <a:lnTo>
                    <a:pt x="1075" y="1791"/>
                  </a:lnTo>
                  <a:lnTo>
                    <a:pt x="1079" y="1784"/>
                  </a:lnTo>
                  <a:lnTo>
                    <a:pt x="1068" y="1779"/>
                  </a:lnTo>
                  <a:lnTo>
                    <a:pt x="1058" y="1773"/>
                  </a:lnTo>
                  <a:lnTo>
                    <a:pt x="1048" y="1766"/>
                  </a:lnTo>
                  <a:lnTo>
                    <a:pt x="1040" y="1759"/>
                  </a:lnTo>
                  <a:lnTo>
                    <a:pt x="1028" y="1757"/>
                  </a:lnTo>
                  <a:lnTo>
                    <a:pt x="1017" y="1751"/>
                  </a:lnTo>
                  <a:lnTo>
                    <a:pt x="1010" y="1743"/>
                  </a:lnTo>
                  <a:lnTo>
                    <a:pt x="1000" y="1737"/>
                  </a:lnTo>
                  <a:lnTo>
                    <a:pt x="995" y="1729"/>
                  </a:lnTo>
                  <a:lnTo>
                    <a:pt x="982" y="1727"/>
                  </a:lnTo>
                  <a:lnTo>
                    <a:pt x="977" y="1718"/>
                  </a:lnTo>
                  <a:lnTo>
                    <a:pt x="967" y="1715"/>
                  </a:lnTo>
                  <a:lnTo>
                    <a:pt x="954" y="1715"/>
                  </a:lnTo>
                  <a:lnTo>
                    <a:pt x="947" y="1707"/>
                  </a:lnTo>
                  <a:lnTo>
                    <a:pt x="940" y="1699"/>
                  </a:lnTo>
                  <a:lnTo>
                    <a:pt x="933" y="1691"/>
                  </a:lnTo>
                  <a:lnTo>
                    <a:pt x="931" y="1684"/>
                  </a:lnTo>
                  <a:lnTo>
                    <a:pt x="928" y="1676"/>
                  </a:lnTo>
                  <a:lnTo>
                    <a:pt x="918" y="1669"/>
                  </a:lnTo>
                  <a:lnTo>
                    <a:pt x="908" y="1663"/>
                  </a:lnTo>
                  <a:lnTo>
                    <a:pt x="903" y="1658"/>
                  </a:lnTo>
                  <a:lnTo>
                    <a:pt x="896" y="1651"/>
                  </a:lnTo>
                  <a:lnTo>
                    <a:pt x="891" y="1642"/>
                  </a:lnTo>
                  <a:lnTo>
                    <a:pt x="893" y="1633"/>
                  </a:lnTo>
                  <a:lnTo>
                    <a:pt x="894" y="1626"/>
                  </a:lnTo>
                  <a:lnTo>
                    <a:pt x="897" y="1618"/>
                  </a:lnTo>
                  <a:lnTo>
                    <a:pt x="904" y="1610"/>
                  </a:lnTo>
                  <a:lnTo>
                    <a:pt x="911" y="1606"/>
                  </a:lnTo>
                  <a:lnTo>
                    <a:pt x="915" y="1598"/>
                  </a:lnTo>
                  <a:lnTo>
                    <a:pt x="915" y="1589"/>
                  </a:lnTo>
                  <a:lnTo>
                    <a:pt x="915" y="1579"/>
                  </a:lnTo>
                  <a:lnTo>
                    <a:pt x="912" y="1570"/>
                  </a:lnTo>
                  <a:lnTo>
                    <a:pt x="907" y="1562"/>
                  </a:lnTo>
                  <a:lnTo>
                    <a:pt x="901" y="1553"/>
                  </a:lnTo>
                  <a:lnTo>
                    <a:pt x="900" y="1544"/>
                  </a:lnTo>
                  <a:lnTo>
                    <a:pt x="897" y="1535"/>
                  </a:lnTo>
                  <a:lnTo>
                    <a:pt x="890" y="1527"/>
                  </a:lnTo>
                  <a:lnTo>
                    <a:pt x="879" y="1522"/>
                  </a:lnTo>
                  <a:lnTo>
                    <a:pt x="868" y="1518"/>
                  </a:lnTo>
                  <a:lnTo>
                    <a:pt x="855" y="1515"/>
                  </a:lnTo>
                  <a:lnTo>
                    <a:pt x="842" y="1513"/>
                  </a:lnTo>
                  <a:lnTo>
                    <a:pt x="830" y="1511"/>
                  </a:lnTo>
                  <a:lnTo>
                    <a:pt x="817" y="1508"/>
                  </a:lnTo>
                  <a:lnTo>
                    <a:pt x="808" y="1503"/>
                  </a:lnTo>
                  <a:lnTo>
                    <a:pt x="801" y="1495"/>
                  </a:lnTo>
                  <a:lnTo>
                    <a:pt x="796" y="1486"/>
                  </a:lnTo>
                  <a:lnTo>
                    <a:pt x="788" y="1479"/>
                  </a:lnTo>
                  <a:lnTo>
                    <a:pt x="787" y="1470"/>
                  </a:lnTo>
                  <a:lnTo>
                    <a:pt x="784" y="1462"/>
                  </a:lnTo>
                  <a:lnTo>
                    <a:pt x="788" y="1454"/>
                  </a:lnTo>
                  <a:lnTo>
                    <a:pt x="801" y="1450"/>
                  </a:lnTo>
                  <a:lnTo>
                    <a:pt x="809" y="1447"/>
                  </a:lnTo>
                  <a:lnTo>
                    <a:pt x="810" y="1438"/>
                  </a:lnTo>
                  <a:lnTo>
                    <a:pt x="822" y="1434"/>
                  </a:lnTo>
                  <a:lnTo>
                    <a:pt x="833" y="1436"/>
                  </a:lnTo>
                  <a:lnTo>
                    <a:pt x="840" y="1439"/>
                  </a:lnTo>
                  <a:lnTo>
                    <a:pt x="848" y="1443"/>
                  </a:lnTo>
                  <a:lnTo>
                    <a:pt x="861" y="1442"/>
                  </a:lnTo>
                  <a:lnTo>
                    <a:pt x="872" y="1438"/>
                  </a:lnTo>
                  <a:lnTo>
                    <a:pt x="883" y="1443"/>
                  </a:lnTo>
                  <a:lnTo>
                    <a:pt x="882" y="1437"/>
                  </a:lnTo>
                  <a:lnTo>
                    <a:pt x="873" y="1429"/>
                  </a:lnTo>
                  <a:lnTo>
                    <a:pt x="870" y="1420"/>
                  </a:lnTo>
                  <a:lnTo>
                    <a:pt x="879" y="1413"/>
                  </a:lnTo>
                  <a:lnTo>
                    <a:pt x="886" y="1409"/>
                  </a:lnTo>
                  <a:lnTo>
                    <a:pt x="896" y="1405"/>
                  </a:lnTo>
                  <a:lnTo>
                    <a:pt x="901" y="1399"/>
                  </a:lnTo>
                  <a:lnTo>
                    <a:pt x="914" y="1395"/>
                  </a:lnTo>
                  <a:lnTo>
                    <a:pt x="918" y="1390"/>
                  </a:lnTo>
                  <a:lnTo>
                    <a:pt x="912" y="1381"/>
                  </a:lnTo>
                  <a:lnTo>
                    <a:pt x="904" y="1373"/>
                  </a:lnTo>
                  <a:lnTo>
                    <a:pt x="893" y="1370"/>
                  </a:lnTo>
                  <a:lnTo>
                    <a:pt x="886" y="1371"/>
                  </a:lnTo>
                  <a:lnTo>
                    <a:pt x="877" y="1368"/>
                  </a:lnTo>
                  <a:lnTo>
                    <a:pt x="866" y="1363"/>
                  </a:lnTo>
                  <a:lnTo>
                    <a:pt x="856" y="1356"/>
                  </a:lnTo>
                  <a:lnTo>
                    <a:pt x="847" y="1351"/>
                  </a:lnTo>
                  <a:lnTo>
                    <a:pt x="835" y="1345"/>
                  </a:lnTo>
                  <a:lnTo>
                    <a:pt x="830" y="1337"/>
                  </a:lnTo>
                  <a:lnTo>
                    <a:pt x="822" y="1331"/>
                  </a:lnTo>
                  <a:lnTo>
                    <a:pt x="810" y="1326"/>
                  </a:lnTo>
                  <a:lnTo>
                    <a:pt x="802" y="1319"/>
                  </a:lnTo>
                  <a:lnTo>
                    <a:pt x="791" y="1315"/>
                  </a:lnTo>
                  <a:lnTo>
                    <a:pt x="788" y="1306"/>
                  </a:lnTo>
                  <a:lnTo>
                    <a:pt x="801" y="1305"/>
                  </a:lnTo>
                  <a:lnTo>
                    <a:pt x="805" y="1297"/>
                  </a:lnTo>
                  <a:lnTo>
                    <a:pt x="809" y="1287"/>
                  </a:lnTo>
                  <a:lnTo>
                    <a:pt x="813" y="1278"/>
                  </a:lnTo>
                  <a:lnTo>
                    <a:pt x="819" y="1270"/>
                  </a:lnTo>
                  <a:lnTo>
                    <a:pt x="830" y="1267"/>
                  </a:lnTo>
                  <a:lnTo>
                    <a:pt x="838" y="1262"/>
                  </a:lnTo>
                  <a:lnTo>
                    <a:pt x="838" y="1253"/>
                  </a:lnTo>
                  <a:lnTo>
                    <a:pt x="841" y="1244"/>
                  </a:lnTo>
                  <a:lnTo>
                    <a:pt x="840" y="1235"/>
                  </a:lnTo>
                  <a:lnTo>
                    <a:pt x="842" y="1226"/>
                  </a:lnTo>
                  <a:lnTo>
                    <a:pt x="847" y="1217"/>
                  </a:lnTo>
                  <a:lnTo>
                    <a:pt x="845" y="1208"/>
                  </a:lnTo>
                  <a:lnTo>
                    <a:pt x="854" y="1202"/>
                  </a:lnTo>
                  <a:lnTo>
                    <a:pt x="859" y="1194"/>
                  </a:lnTo>
                  <a:lnTo>
                    <a:pt x="862" y="1184"/>
                  </a:lnTo>
                  <a:lnTo>
                    <a:pt x="861" y="1175"/>
                  </a:lnTo>
                  <a:lnTo>
                    <a:pt x="858" y="1166"/>
                  </a:lnTo>
                  <a:lnTo>
                    <a:pt x="856" y="1157"/>
                  </a:lnTo>
                  <a:lnTo>
                    <a:pt x="847" y="1150"/>
                  </a:lnTo>
                  <a:lnTo>
                    <a:pt x="840" y="1143"/>
                  </a:lnTo>
                  <a:lnTo>
                    <a:pt x="838" y="1134"/>
                  </a:lnTo>
                  <a:lnTo>
                    <a:pt x="834" y="1125"/>
                  </a:lnTo>
                  <a:lnTo>
                    <a:pt x="845" y="1123"/>
                  </a:lnTo>
                  <a:lnTo>
                    <a:pt x="859" y="1121"/>
                  </a:lnTo>
                  <a:lnTo>
                    <a:pt x="872" y="1119"/>
                  </a:lnTo>
                  <a:lnTo>
                    <a:pt x="882" y="1112"/>
                  </a:lnTo>
                  <a:lnTo>
                    <a:pt x="880" y="1105"/>
                  </a:lnTo>
                  <a:lnTo>
                    <a:pt x="870" y="1097"/>
                  </a:lnTo>
                  <a:lnTo>
                    <a:pt x="866" y="1089"/>
                  </a:lnTo>
                  <a:lnTo>
                    <a:pt x="863" y="1079"/>
                  </a:lnTo>
                  <a:lnTo>
                    <a:pt x="856" y="1072"/>
                  </a:lnTo>
                  <a:lnTo>
                    <a:pt x="848" y="1064"/>
                  </a:lnTo>
                  <a:lnTo>
                    <a:pt x="841" y="1056"/>
                  </a:lnTo>
                  <a:lnTo>
                    <a:pt x="838" y="1047"/>
                  </a:lnTo>
                  <a:lnTo>
                    <a:pt x="841" y="1038"/>
                  </a:lnTo>
                  <a:lnTo>
                    <a:pt x="842" y="1029"/>
                  </a:lnTo>
                  <a:lnTo>
                    <a:pt x="842" y="1019"/>
                  </a:lnTo>
                  <a:lnTo>
                    <a:pt x="840" y="1011"/>
                  </a:lnTo>
                  <a:lnTo>
                    <a:pt x="829" y="1005"/>
                  </a:lnTo>
                  <a:lnTo>
                    <a:pt x="824" y="996"/>
                  </a:lnTo>
                  <a:lnTo>
                    <a:pt x="823" y="987"/>
                  </a:lnTo>
                  <a:lnTo>
                    <a:pt x="824" y="978"/>
                  </a:lnTo>
                  <a:lnTo>
                    <a:pt x="816" y="973"/>
                  </a:lnTo>
                  <a:lnTo>
                    <a:pt x="803" y="973"/>
                  </a:lnTo>
                  <a:lnTo>
                    <a:pt x="798" y="964"/>
                  </a:lnTo>
                  <a:lnTo>
                    <a:pt x="796" y="953"/>
                  </a:lnTo>
                  <a:lnTo>
                    <a:pt x="791" y="945"/>
                  </a:lnTo>
                  <a:lnTo>
                    <a:pt x="780" y="942"/>
                  </a:lnTo>
                  <a:lnTo>
                    <a:pt x="782" y="934"/>
                  </a:lnTo>
                  <a:lnTo>
                    <a:pt x="770" y="932"/>
                  </a:lnTo>
                  <a:lnTo>
                    <a:pt x="756" y="930"/>
                  </a:lnTo>
                  <a:lnTo>
                    <a:pt x="746" y="933"/>
                  </a:lnTo>
                  <a:lnTo>
                    <a:pt x="735" y="938"/>
                  </a:lnTo>
                  <a:lnTo>
                    <a:pt x="724" y="938"/>
                  </a:lnTo>
                  <a:lnTo>
                    <a:pt x="714" y="937"/>
                  </a:lnTo>
                  <a:lnTo>
                    <a:pt x="700" y="936"/>
                  </a:lnTo>
                  <a:lnTo>
                    <a:pt x="693" y="930"/>
                  </a:lnTo>
                  <a:lnTo>
                    <a:pt x="683" y="936"/>
                  </a:lnTo>
                  <a:lnTo>
                    <a:pt x="669" y="937"/>
                  </a:lnTo>
                  <a:lnTo>
                    <a:pt x="658" y="939"/>
                  </a:lnTo>
                  <a:lnTo>
                    <a:pt x="655" y="943"/>
                  </a:lnTo>
                  <a:lnTo>
                    <a:pt x="662" y="952"/>
                  </a:lnTo>
                  <a:lnTo>
                    <a:pt x="669" y="960"/>
                  </a:lnTo>
                  <a:lnTo>
                    <a:pt x="666" y="969"/>
                  </a:lnTo>
                  <a:lnTo>
                    <a:pt x="658" y="977"/>
                  </a:lnTo>
                  <a:lnTo>
                    <a:pt x="647" y="975"/>
                  </a:lnTo>
                  <a:lnTo>
                    <a:pt x="634" y="979"/>
                  </a:lnTo>
                  <a:lnTo>
                    <a:pt x="630" y="987"/>
                  </a:lnTo>
                  <a:lnTo>
                    <a:pt x="630" y="997"/>
                  </a:lnTo>
                  <a:lnTo>
                    <a:pt x="622" y="1002"/>
                  </a:lnTo>
                  <a:lnTo>
                    <a:pt x="615" y="1009"/>
                  </a:lnTo>
                  <a:lnTo>
                    <a:pt x="608" y="1017"/>
                  </a:lnTo>
                  <a:lnTo>
                    <a:pt x="608" y="1026"/>
                  </a:lnTo>
                  <a:lnTo>
                    <a:pt x="601" y="1034"/>
                  </a:lnTo>
                  <a:lnTo>
                    <a:pt x="608" y="1040"/>
                  </a:lnTo>
                  <a:lnTo>
                    <a:pt x="602" y="1049"/>
                  </a:lnTo>
                  <a:lnTo>
                    <a:pt x="608" y="1057"/>
                  </a:lnTo>
                  <a:lnTo>
                    <a:pt x="595" y="1061"/>
                  </a:lnTo>
                  <a:lnTo>
                    <a:pt x="589" y="1052"/>
                  </a:lnTo>
                  <a:lnTo>
                    <a:pt x="581" y="1048"/>
                  </a:lnTo>
                  <a:lnTo>
                    <a:pt x="574" y="1040"/>
                  </a:lnTo>
                  <a:lnTo>
                    <a:pt x="564" y="1034"/>
                  </a:lnTo>
                  <a:lnTo>
                    <a:pt x="552" y="1033"/>
                  </a:lnTo>
                  <a:lnTo>
                    <a:pt x="543" y="1026"/>
                  </a:lnTo>
                  <a:lnTo>
                    <a:pt x="532" y="1023"/>
                  </a:lnTo>
                  <a:lnTo>
                    <a:pt x="531" y="1016"/>
                  </a:lnTo>
                  <a:lnTo>
                    <a:pt x="529" y="1010"/>
                  </a:lnTo>
                  <a:lnTo>
                    <a:pt x="527" y="1002"/>
                  </a:lnTo>
                  <a:lnTo>
                    <a:pt x="520" y="995"/>
                  </a:lnTo>
                  <a:lnTo>
                    <a:pt x="508" y="999"/>
                  </a:lnTo>
                  <a:lnTo>
                    <a:pt x="496" y="1002"/>
                  </a:lnTo>
                  <a:lnTo>
                    <a:pt x="487" y="1007"/>
                  </a:lnTo>
                  <a:lnTo>
                    <a:pt x="476" y="1002"/>
                  </a:lnTo>
                  <a:lnTo>
                    <a:pt x="464" y="996"/>
                  </a:lnTo>
                  <a:lnTo>
                    <a:pt x="457" y="999"/>
                  </a:lnTo>
                  <a:lnTo>
                    <a:pt x="457" y="1009"/>
                  </a:lnTo>
                  <a:lnTo>
                    <a:pt x="451" y="1017"/>
                  </a:lnTo>
                  <a:lnTo>
                    <a:pt x="445" y="1026"/>
                  </a:lnTo>
                  <a:lnTo>
                    <a:pt x="450" y="1034"/>
                  </a:lnTo>
                  <a:lnTo>
                    <a:pt x="448" y="1042"/>
                  </a:lnTo>
                  <a:lnTo>
                    <a:pt x="447" y="1050"/>
                  </a:lnTo>
                  <a:lnTo>
                    <a:pt x="436" y="1055"/>
                  </a:lnTo>
                  <a:lnTo>
                    <a:pt x="423" y="1051"/>
                  </a:lnTo>
                  <a:lnTo>
                    <a:pt x="409" y="1051"/>
                  </a:lnTo>
                  <a:lnTo>
                    <a:pt x="405" y="1058"/>
                  </a:lnTo>
                  <a:lnTo>
                    <a:pt x="392" y="1061"/>
                  </a:lnTo>
                  <a:lnTo>
                    <a:pt x="385" y="1067"/>
                  </a:lnTo>
                  <a:lnTo>
                    <a:pt x="371" y="1065"/>
                  </a:lnTo>
                  <a:lnTo>
                    <a:pt x="366" y="1059"/>
                  </a:lnTo>
                  <a:lnTo>
                    <a:pt x="353" y="1061"/>
                  </a:lnTo>
                  <a:lnTo>
                    <a:pt x="339" y="1062"/>
                  </a:lnTo>
                  <a:lnTo>
                    <a:pt x="328" y="1060"/>
                  </a:lnTo>
                  <a:lnTo>
                    <a:pt x="315" y="1057"/>
                  </a:lnTo>
                  <a:lnTo>
                    <a:pt x="303" y="1055"/>
                  </a:lnTo>
                  <a:lnTo>
                    <a:pt x="296" y="1050"/>
                  </a:lnTo>
                  <a:lnTo>
                    <a:pt x="296" y="1039"/>
                  </a:lnTo>
                  <a:lnTo>
                    <a:pt x="296" y="1030"/>
                  </a:lnTo>
                  <a:lnTo>
                    <a:pt x="285" y="1029"/>
                  </a:lnTo>
                  <a:lnTo>
                    <a:pt x="272" y="1027"/>
                  </a:lnTo>
                  <a:lnTo>
                    <a:pt x="261" y="1022"/>
                  </a:lnTo>
                  <a:lnTo>
                    <a:pt x="247" y="1020"/>
                  </a:lnTo>
                  <a:lnTo>
                    <a:pt x="236" y="1018"/>
                  </a:lnTo>
                  <a:lnTo>
                    <a:pt x="230" y="1010"/>
                  </a:lnTo>
                  <a:lnTo>
                    <a:pt x="227" y="1000"/>
                  </a:lnTo>
                  <a:lnTo>
                    <a:pt x="225" y="991"/>
                  </a:lnTo>
                  <a:lnTo>
                    <a:pt x="225" y="981"/>
                  </a:lnTo>
                  <a:lnTo>
                    <a:pt x="219" y="974"/>
                  </a:lnTo>
                  <a:lnTo>
                    <a:pt x="205" y="975"/>
                  </a:lnTo>
                  <a:lnTo>
                    <a:pt x="194" y="973"/>
                  </a:lnTo>
                  <a:lnTo>
                    <a:pt x="187" y="965"/>
                  </a:lnTo>
                  <a:lnTo>
                    <a:pt x="174" y="959"/>
                  </a:lnTo>
                  <a:lnTo>
                    <a:pt x="162" y="958"/>
                  </a:lnTo>
                  <a:lnTo>
                    <a:pt x="151" y="954"/>
                  </a:lnTo>
                  <a:lnTo>
                    <a:pt x="138" y="958"/>
                  </a:lnTo>
                  <a:lnTo>
                    <a:pt x="125" y="962"/>
                  </a:lnTo>
                  <a:lnTo>
                    <a:pt x="113" y="967"/>
                  </a:lnTo>
                  <a:lnTo>
                    <a:pt x="100" y="969"/>
                  </a:lnTo>
                  <a:lnTo>
                    <a:pt x="92" y="966"/>
                  </a:lnTo>
                  <a:lnTo>
                    <a:pt x="81" y="959"/>
                  </a:lnTo>
                  <a:lnTo>
                    <a:pt x="79" y="949"/>
                  </a:lnTo>
                  <a:lnTo>
                    <a:pt x="76" y="942"/>
                  </a:lnTo>
                  <a:lnTo>
                    <a:pt x="69" y="938"/>
                  </a:lnTo>
                  <a:lnTo>
                    <a:pt x="57" y="941"/>
                  </a:lnTo>
                  <a:lnTo>
                    <a:pt x="47" y="933"/>
                  </a:lnTo>
                  <a:lnTo>
                    <a:pt x="39" y="939"/>
                  </a:lnTo>
                  <a:lnTo>
                    <a:pt x="26" y="935"/>
                  </a:lnTo>
                  <a:lnTo>
                    <a:pt x="25" y="927"/>
                  </a:lnTo>
                  <a:lnTo>
                    <a:pt x="22" y="918"/>
                  </a:lnTo>
                  <a:lnTo>
                    <a:pt x="16" y="909"/>
                  </a:lnTo>
                  <a:lnTo>
                    <a:pt x="0" y="907"/>
                  </a:lnTo>
                  <a:lnTo>
                    <a:pt x="8" y="894"/>
                  </a:lnTo>
                  <a:lnTo>
                    <a:pt x="16" y="889"/>
                  </a:lnTo>
                  <a:lnTo>
                    <a:pt x="26" y="885"/>
                  </a:lnTo>
                  <a:lnTo>
                    <a:pt x="39" y="884"/>
                  </a:lnTo>
                  <a:lnTo>
                    <a:pt x="47" y="877"/>
                  </a:lnTo>
                  <a:lnTo>
                    <a:pt x="50" y="871"/>
                  </a:lnTo>
                  <a:lnTo>
                    <a:pt x="37" y="868"/>
                  </a:lnTo>
                  <a:lnTo>
                    <a:pt x="32" y="862"/>
                  </a:lnTo>
                  <a:lnTo>
                    <a:pt x="47" y="850"/>
                  </a:lnTo>
                  <a:lnTo>
                    <a:pt x="58" y="847"/>
                  </a:lnTo>
                  <a:lnTo>
                    <a:pt x="69" y="848"/>
                  </a:lnTo>
                  <a:lnTo>
                    <a:pt x="79" y="842"/>
                  </a:lnTo>
                  <a:lnTo>
                    <a:pt x="82" y="833"/>
                  </a:lnTo>
                  <a:lnTo>
                    <a:pt x="95" y="830"/>
                  </a:lnTo>
                  <a:lnTo>
                    <a:pt x="95" y="822"/>
                  </a:lnTo>
                  <a:lnTo>
                    <a:pt x="106" y="817"/>
                  </a:lnTo>
                  <a:lnTo>
                    <a:pt x="113" y="810"/>
                  </a:lnTo>
                  <a:lnTo>
                    <a:pt x="124" y="806"/>
                  </a:lnTo>
                  <a:lnTo>
                    <a:pt x="134" y="801"/>
                  </a:lnTo>
                  <a:lnTo>
                    <a:pt x="144" y="797"/>
                  </a:lnTo>
                  <a:lnTo>
                    <a:pt x="152" y="791"/>
                  </a:lnTo>
                  <a:lnTo>
                    <a:pt x="158" y="784"/>
                  </a:lnTo>
                  <a:lnTo>
                    <a:pt x="156" y="774"/>
                  </a:lnTo>
                  <a:lnTo>
                    <a:pt x="159" y="765"/>
                  </a:lnTo>
                  <a:lnTo>
                    <a:pt x="166" y="757"/>
                  </a:lnTo>
                  <a:lnTo>
                    <a:pt x="164" y="749"/>
                  </a:lnTo>
                  <a:lnTo>
                    <a:pt x="155" y="743"/>
                  </a:lnTo>
                  <a:lnTo>
                    <a:pt x="156" y="734"/>
                  </a:lnTo>
                  <a:lnTo>
                    <a:pt x="159" y="727"/>
                  </a:lnTo>
                  <a:lnTo>
                    <a:pt x="171" y="726"/>
                  </a:lnTo>
                  <a:lnTo>
                    <a:pt x="183" y="727"/>
                  </a:lnTo>
                  <a:lnTo>
                    <a:pt x="191" y="734"/>
                  </a:lnTo>
                  <a:lnTo>
                    <a:pt x="202" y="733"/>
                  </a:lnTo>
                  <a:lnTo>
                    <a:pt x="215" y="734"/>
                  </a:lnTo>
                  <a:lnTo>
                    <a:pt x="227" y="734"/>
                  </a:lnTo>
                  <a:lnTo>
                    <a:pt x="239" y="737"/>
                  </a:lnTo>
                  <a:lnTo>
                    <a:pt x="253" y="739"/>
                  </a:lnTo>
                  <a:lnTo>
                    <a:pt x="265" y="739"/>
                  </a:lnTo>
                  <a:lnTo>
                    <a:pt x="278" y="737"/>
                  </a:lnTo>
                  <a:lnTo>
                    <a:pt x="289" y="734"/>
                  </a:lnTo>
                  <a:lnTo>
                    <a:pt x="299" y="729"/>
                  </a:lnTo>
                  <a:lnTo>
                    <a:pt x="292" y="721"/>
                  </a:lnTo>
                  <a:lnTo>
                    <a:pt x="290" y="712"/>
                  </a:lnTo>
                  <a:lnTo>
                    <a:pt x="300" y="713"/>
                  </a:lnTo>
                  <a:lnTo>
                    <a:pt x="313" y="715"/>
                  </a:lnTo>
                  <a:lnTo>
                    <a:pt x="322" y="709"/>
                  </a:lnTo>
                  <a:lnTo>
                    <a:pt x="335" y="708"/>
                  </a:lnTo>
                  <a:lnTo>
                    <a:pt x="339" y="702"/>
                  </a:lnTo>
                  <a:lnTo>
                    <a:pt x="348" y="694"/>
                  </a:lnTo>
                  <a:lnTo>
                    <a:pt x="349" y="686"/>
                  </a:lnTo>
                  <a:lnTo>
                    <a:pt x="339" y="681"/>
                  </a:lnTo>
                  <a:lnTo>
                    <a:pt x="346" y="675"/>
                  </a:lnTo>
                  <a:lnTo>
                    <a:pt x="357" y="673"/>
                  </a:lnTo>
                  <a:lnTo>
                    <a:pt x="369" y="675"/>
                  </a:lnTo>
                  <a:lnTo>
                    <a:pt x="381" y="676"/>
                  </a:lnTo>
                  <a:lnTo>
                    <a:pt x="392" y="682"/>
                  </a:lnTo>
                  <a:lnTo>
                    <a:pt x="402" y="686"/>
                  </a:lnTo>
                  <a:lnTo>
                    <a:pt x="413" y="690"/>
                  </a:lnTo>
                  <a:lnTo>
                    <a:pt x="420" y="697"/>
                  </a:lnTo>
                  <a:lnTo>
                    <a:pt x="433" y="699"/>
                  </a:lnTo>
                  <a:lnTo>
                    <a:pt x="443" y="703"/>
                  </a:lnTo>
                  <a:lnTo>
                    <a:pt x="451" y="709"/>
                  </a:lnTo>
                  <a:lnTo>
                    <a:pt x="465" y="708"/>
                  </a:lnTo>
                  <a:lnTo>
                    <a:pt x="478" y="706"/>
                  </a:lnTo>
                  <a:lnTo>
                    <a:pt x="490" y="703"/>
                  </a:lnTo>
                  <a:lnTo>
                    <a:pt x="499" y="698"/>
                  </a:lnTo>
                  <a:lnTo>
                    <a:pt x="489" y="692"/>
                  </a:lnTo>
                  <a:lnTo>
                    <a:pt x="494" y="684"/>
                  </a:lnTo>
                  <a:lnTo>
                    <a:pt x="507" y="685"/>
                  </a:lnTo>
                  <a:lnTo>
                    <a:pt x="522" y="686"/>
                  </a:lnTo>
                  <a:lnTo>
                    <a:pt x="529" y="681"/>
                  </a:lnTo>
                  <a:lnTo>
                    <a:pt x="529" y="671"/>
                  </a:lnTo>
                  <a:lnTo>
                    <a:pt x="529" y="661"/>
                  </a:lnTo>
                  <a:lnTo>
                    <a:pt x="532" y="652"/>
                  </a:lnTo>
                  <a:lnTo>
                    <a:pt x="543" y="654"/>
                  </a:lnTo>
                  <a:lnTo>
                    <a:pt x="546" y="648"/>
                  </a:lnTo>
                  <a:lnTo>
                    <a:pt x="539" y="641"/>
                  </a:lnTo>
                  <a:lnTo>
                    <a:pt x="545" y="635"/>
                  </a:lnTo>
                  <a:lnTo>
                    <a:pt x="549" y="627"/>
                  </a:lnTo>
                  <a:lnTo>
                    <a:pt x="560" y="621"/>
                  </a:lnTo>
                  <a:lnTo>
                    <a:pt x="571" y="616"/>
                  </a:lnTo>
                  <a:lnTo>
                    <a:pt x="582" y="610"/>
                  </a:lnTo>
                  <a:lnTo>
                    <a:pt x="585" y="603"/>
                  </a:lnTo>
                  <a:lnTo>
                    <a:pt x="594" y="598"/>
                  </a:lnTo>
                  <a:lnTo>
                    <a:pt x="605" y="592"/>
                  </a:lnTo>
                  <a:lnTo>
                    <a:pt x="610" y="584"/>
                  </a:lnTo>
                  <a:lnTo>
                    <a:pt x="616" y="575"/>
                  </a:lnTo>
                  <a:lnTo>
                    <a:pt x="612" y="569"/>
                  </a:lnTo>
                  <a:lnTo>
                    <a:pt x="605" y="561"/>
                  </a:lnTo>
                  <a:lnTo>
                    <a:pt x="615" y="556"/>
                  </a:lnTo>
                  <a:lnTo>
                    <a:pt x="623" y="548"/>
                  </a:lnTo>
                  <a:lnTo>
                    <a:pt x="631" y="541"/>
                  </a:lnTo>
                  <a:lnTo>
                    <a:pt x="638" y="533"/>
                  </a:lnTo>
                  <a:lnTo>
                    <a:pt x="640" y="524"/>
                  </a:lnTo>
                  <a:lnTo>
                    <a:pt x="641" y="517"/>
                  </a:lnTo>
                  <a:lnTo>
                    <a:pt x="652" y="512"/>
                  </a:lnTo>
                  <a:lnTo>
                    <a:pt x="665" y="510"/>
                  </a:lnTo>
                  <a:lnTo>
                    <a:pt x="669" y="501"/>
                  </a:lnTo>
                  <a:lnTo>
                    <a:pt x="680" y="496"/>
                  </a:lnTo>
                  <a:lnTo>
                    <a:pt x="686" y="488"/>
                  </a:lnTo>
                  <a:lnTo>
                    <a:pt x="689" y="480"/>
                  </a:lnTo>
                  <a:lnTo>
                    <a:pt x="685" y="471"/>
                  </a:lnTo>
                  <a:lnTo>
                    <a:pt x="680" y="462"/>
                  </a:lnTo>
                  <a:lnTo>
                    <a:pt x="671" y="455"/>
                  </a:lnTo>
                  <a:lnTo>
                    <a:pt x="679" y="450"/>
                  </a:lnTo>
                  <a:lnTo>
                    <a:pt x="690" y="444"/>
                  </a:lnTo>
                  <a:lnTo>
                    <a:pt x="693" y="435"/>
                  </a:lnTo>
                  <a:lnTo>
                    <a:pt x="697" y="426"/>
                  </a:lnTo>
                  <a:lnTo>
                    <a:pt x="699" y="417"/>
                  </a:lnTo>
                  <a:lnTo>
                    <a:pt x="705" y="409"/>
                  </a:lnTo>
                  <a:lnTo>
                    <a:pt x="700" y="401"/>
                  </a:lnTo>
                  <a:lnTo>
                    <a:pt x="692" y="394"/>
                  </a:lnTo>
                  <a:lnTo>
                    <a:pt x="694" y="385"/>
                  </a:lnTo>
                  <a:lnTo>
                    <a:pt x="699" y="376"/>
                  </a:lnTo>
                  <a:lnTo>
                    <a:pt x="708" y="370"/>
                  </a:lnTo>
                  <a:lnTo>
                    <a:pt x="717" y="363"/>
                  </a:lnTo>
                  <a:lnTo>
                    <a:pt x="725" y="358"/>
                  </a:lnTo>
                  <a:lnTo>
                    <a:pt x="732" y="351"/>
                  </a:lnTo>
                  <a:lnTo>
                    <a:pt x="740" y="343"/>
                  </a:lnTo>
                  <a:lnTo>
                    <a:pt x="746" y="335"/>
                  </a:lnTo>
                  <a:lnTo>
                    <a:pt x="750" y="326"/>
                  </a:lnTo>
                  <a:lnTo>
                    <a:pt x="757" y="318"/>
                  </a:lnTo>
                  <a:lnTo>
                    <a:pt x="768" y="314"/>
                  </a:lnTo>
                  <a:lnTo>
                    <a:pt x="781" y="312"/>
                  </a:lnTo>
                  <a:lnTo>
                    <a:pt x="791" y="306"/>
                  </a:lnTo>
                  <a:lnTo>
                    <a:pt x="798" y="301"/>
                  </a:lnTo>
                  <a:lnTo>
                    <a:pt x="795" y="292"/>
                  </a:lnTo>
                  <a:lnTo>
                    <a:pt x="785" y="285"/>
                  </a:lnTo>
                  <a:lnTo>
                    <a:pt x="795" y="281"/>
                  </a:lnTo>
                  <a:lnTo>
                    <a:pt x="808" y="277"/>
                  </a:lnTo>
                  <a:lnTo>
                    <a:pt x="817" y="271"/>
                  </a:lnTo>
                  <a:lnTo>
                    <a:pt x="826" y="264"/>
                  </a:lnTo>
                  <a:lnTo>
                    <a:pt x="833" y="256"/>
                  </a:lnTo>
                  <a:lnTo>
                    <a:pt x="837" y="247"/>
                  </a:lnTo>
                  <a:lnTo>
                    <a:pt x="840" y="238"/>
                  </a:lnTo>
                  <a:lnTo>
                    <a:pt x="851" y="233"/>
                  </a:lnTo>
                  <a:lnTo>
                    <a:pt x="863" y="232"/>
                  </a:lnTo>
                  <a:lnTo>
                    <a:pt x="862" y="228"/>
                  </a:lnTo>
                  <a:lnTo>
                    <a:pt x="862" y="219"/>
                  </a:lnTo>
                  <a:lnTo>
                    <a:pt x="862" y="210"/>
                  </a:lnTo>
                  <a:lnTo>
                    <a:pt x="863" y="200"/>
                  </a:lnTo>
                  <a:lnTo>
                    <a:pt x="865" y="191"/>
                  </a:lnTo>
                  <a:lnTo>
                    <a:pt x="869" y="182"/>
                  </a:lnTo>
                  <a:lnTo>
                    <a:pt x="868" y="173"/>
                  </a:lnTo>
                  <a:lnTo>
                    <a:pt x="858" y="167"/>
                  </a:lnTo>
                  <a:lnTo>
                    <a:pt x="855" y="160"/>
                  </a:lnTo>
                  <a:lnTo>
                    <a:pt x="855" y="153"/>
                  </a:lnTo>
                  <a:lnTo>
                    <a:pt x="858" y="144"/>
                  </a:lnTo>
                  <a:lnTo>
                    <a:pt x="866" y="143"/>
                  </a:lnTo>
                  <a:lnTo>
                    <a:pt x="865" y="136"/>
                  </a:lnTo>
                  <a:lnTo>
                    <a:pt x="879" y="134"/>
                  </a:lnTo>
                  <a:lnTo>
                    <a:pt x="889" y="132"/>
                  </a:lnTo>
                  <a:lnTo>
                    <a:pt x="896" y="141"/>
                  </a:lnTo>
                  <a:lnTo>
                    <a:pt x="905" y="145"/>
                  </a:lnTo>
                  <a:lnTo>
                    <a:pt x="917" y="150"/>
                  </a:lnTo>
                  <a:lnTo>
                    <a:pt x="925" y="147"/>
                  </a:lnTo>
                  <a:lnTo>
                    <a:pt x="928" y="137"/>
                  </a:lnTo>
                  <a:lnTo>
                    <a:pt x="931" y="128"/>
                  </a:lnTo>
                  <a:lnTo>
                    <a:pt x="936" y="119"/>
                  </a:lnTo>
                  <a:lnTo>
                    <a:pt x="946" y="118"/>
                  </a:lnTo>
                  <a:lnTo>
                    <a:pt x="959" y="119"/>
                  </a:lnTo>
                  <a:lnTo>
                    <a:pt x="970" y="120"/>
                  </a:lnTo>
                  <a:lnTo>
                    <a:pt x="982" y="123"/>
                  </a:lnTo>
                  <a:lnTo>
                    <a:pt x="995" y="127"/>
                  </a:lnTo>
                  <a:lnTo>
                    <a:pt x="1007" y="131"/>
                  </a:lnTo>
                  <a:lnTo>
                    <a:pt x="1017" y="131"/>
                  </a:lnTo>
                  <a:lnTo>
                    <a:pt x="1023" y="123"/>
                  </a:lnTo>
                  <a:lnTo>
                    <a:pt x="1035" y="120"/>
                  </a:lnTo>
                  <a:lnTo>
                    <a:pt x="1048" y="117"/>
                  </a:lnTo>
                  <a:lnTo>
                    <a:pt x="1061" y="117"/>
                  </a:lnTo>
                  <a:lnTo>
                    <a:pt x="1073" y="115"/>
                  </a:lnTo>
                  <a:lnTo>
                    <a:pt x="1079" y="107"/>
                  </a:lnTo>
                  <a:lnTo>
                    <a:pt x="1087" y="100"/>
                  </a:lnTo>
                  <a:lnTo>
                    <a:pt x="1101" y="100"/>
                  </a:lnTo>
                  <a:lnTo>
                    <a:pt x="1112" y="97"/>
                  </a:lnTo>
                  <a:lnTo>
                    <a:pt x="1121" y="90"/>
                  </a:lnTo>
                  <a:lnTo>
                    <a:pt x="1126" y="98"/>
                  </a:lnTo>
                  <a:lnTo>
                    <a:pt x="1133" y="93"/>
                  </a:lnTo>
                  <a:lnTo>
                    <a:pt x="1139" y="85"/>
                  </a:lnTo>
                  <a:lnTo>
                    <a:pt x="1147" y="78"/>
                  </a:lnTo>
                  <a:lnTo>
                    <a:pt x="1160" y="79"/>
                  </a:lnTo>
                  <a:lnTo>
                    <a:pt x="1172" y="77"/>
                  </a:lnTo>
                  <a:lnTo>
                    <a:pt x="1184" y="77"/>
                  </a:lnTo>
                  <a:lnTo>
                    <a:pt x="1196" y="81"/>
                  </a:lnTo>
                  <a:lnTo>
                    <a:pt x="1205" y="75"/>
                  </a:lnTo>
                  <a:lnTo>
                    <a:pt x="1217" y="71"/>
                  </a:lnTo>
                  <a:lnTo>
                    <a:pt x="1228" y="67"/>
                  </a:lnTo>
                  <a:lnTo>
                    <a:pt x="1241" y="63"/>
                  </a:lnTo>
                  <a:lnTo>
                    <a:pt x="1251" y="61"/>
                  </a:lnTo>
                  <a:lnTo>
                    <a:pt x="1262" y="58"/>
                  </a:lnTo>
                  <a:lnTo>
                    <a:pt x="1274" y="59"/>
                  </a:lnTo>
                  <a:lnTo>
                    <a:pt x="1286" y="60"/>
                  </a:lnTo>
                  <a:lnTo>
                    <a:pt x="1287" y="69"/>
                  </a:lnTo>
                  <a:lnTo>
                    <a:pt x="1295" y="65"/>
                  </a:lnTo>
                  <a:lnTo>
                    <a:pt x="1298" y="59"/>
                  </a:lnTo>
                  <a:lnTo>
                    <a:pt x="1308" y="56"/>
                  </a:lnTo>
                  <a:lnTo>
                    <a:pt x="1322" y="55"/>
                  </a:lnTo>
                  <a:lnTo>
                    <a:pt x="1335" y="54"/>
                  </a:lnTo>
                  <a:lnTo>
                    <a:pt x="1347" y="53"/>
                  </a:lnTo>
                  <a:lnTo>
                    <a:pt x="1360" y="52"/>
                  </a:lnTo>
                  <a:lnTo>
                    <a:pt x="1372" y="50"/>
                  </a:lnTo>
                  <a:lnTo>
                    <a:pt x="1386" y="48"/>
                  </a:lnTo>
                  <a:lnTo>
                    <a:pt x="1399" y="47"/>
                  </a:lnTo>
                  <a:lnTo>
                    <a:pt x="1411" y="44"/>
                  </a:lnTo>
                  <a:lnTo>
                    <a:pt x="1424" y="46"/>
                  </a:lnTo>
                  <a:lnTo>
                    <a:pt x="1437" y="42"/>
                  </a:lnTo>
                  <a:lnTo>
                    <a:pt x="1449" y="40"/>
                  </a:lnTo>
                  <a:lnTo>
                    <a:pt x="1459" y="35"/>
                  </a:lnTo>
                  <a:lnTo>
                    <a:pt x="1472" y="33"/>
                  </a:lnTo>
                  <a:lnTo>
                    <a:pt x="1484" y="29"/>
                  </a:lnTo>
                  <a:lnTo>
                    <a:pt x="1495" y="27"/>
                  </a:lnTo>
                  <a:lnTo>
                    <a:pt x="1501" y="34"/>
                  </a:lnTo>
                  <a:lnTo>
                    <a:pt x="1493" y="42"/>
                  </a:lnTo>
                  <a:lnTo>
                    <a:pt x="1502" y="47"/>
                  </a:lnTo>
                  <a:lnTo>
                    <a:pt x="1513" y="39"/>
                  </a:lnTo>
                  <a:lnTo>
                    <a:pt x="1523" y="33"/>
                  </a:lnTo>
                  <a:lnTo>
                    <a:pt x="1523" y="39"/>
                  </a:lnTo>
                  <a:lnTo>
                    <a:pt x="1520" y="52"/>
                  </a:lnTo>
                  <a:lnTo>
                    <a:pt x="1511" y="57"/>
                  </a:lnTo>
                  <a:lnTo>
                    <a:pt x="1519" y="63"/>
                  </a:lnTo>
                  <a:lnTo>
                    <a:pt x="1532" y="60"/>
                  </a:lnTo>
                  <a:lnTo>
                    <a:pt x="1537" y="67"/>
                  </a:lnTo>
                  <a:lnTo>
                    <a:pt x="1543" y="76"/>
                  </a:lnTo>
                  <a:lnTo>
                    <a:pt x="1550" y="82"/>
                  </a:lnTo>
                  <a:lnTo>
                    <a:pt x="1557" y="90"/>
                  </a:lnTo>
                  <a:lnTo>
                    <a:pt x="1569" y="87"/>
                  </a:lnTo>
                  <a:lnTo>
                    <a:pt x="1578" y="92"/>
                  </a:lnTo>
                  <a:lnTo>
                    <a:pt x="1589" y="90"/>
                  </a:lnTo>
                  <a:lnTo>
                    <a:pt x="1602" y="86"/>
                  </a:lnTo>
                  <a:lnTo>
                    <a:pt x="1614" y="83"/>
                  </a:lnTo>
                  <a:lnTo>
                    <a:pt x="1627" y="79"/>
                  </a:lnTo>
                  <a:lnTo>
                    <a:pt x="1638" y="75"/>
                  </a:lnTo>
                  <a:lnTo>
                    <a:pt x="1650" y="72"/>
                  </a:lnTo>
                  <a:lnTo>
                    <a:pt x="1660" y="75"/>
                  </a:lnTo>
                  <a:lnTo>
                    <a:pt x="1669" y="80"/>
                  </a:lnTo>
                  <a:lnTo>
                    <a:pt x="1676" y="88"/>
                  </a:lnTo>
                  <a:lnTo>
                    <a:pt x="1678" y="97"/>
                  </a:lnTo>
                  <a:lnTo>
                    <a:pt x="1683" y="106"/>
                  </a:lnTo>
                  <a:lnTo>
                    <a:pt x="1687" y="114"/>
                  </a:lnTo>
                  <a:lnTo>
                    <a:pt x="1692" y="112"/>
                  </a:lnTo>
                  <a:lnTo>
                    <a:pt x="1702" y="108"/>
                  </a:lnTo>
                  <a:lnTo>
                    <a:pt x="1701" y="118"/>
                  </a:lnTo>
                  <a:lnTo>
                    <a:pt x="1702" y="124"/>
                  </a:lnTo>
                  <a:lnTo>
                    <a:pt x="1715" y="120"/>
                  </a:lnTo>
                  <a:lnTo>
                    <a:pt x="1727" y="124"/>
                  </a:lnTo>
                  <a:lnTo>
                    <a:pt x="1730" y="133"/>
                  </a:lnTo>
                  <a:lnTo>
                    <a:pt x="1729" y="143"/>
                  </a:lnTo>
                  <a:lnTo>
                    <a:pt x="1732" y="151"/>
                  </a:lnTo>
                  <a:lnTo>
                    <a:pt x="1744" y="152"/>
                  </a:lnTo>
                  <a:lnTo>
                    <a:pt x="1757" y="148"/>
                  </a:lnTo>
                  <a:lnTo>
                    <a:pt x="1768" y="144"/>
                  </a:lnTo>
                  <a:lnTo>
                    <a:pt x="1775" y="152"/>
                  </a:lnTo>
                  <a:lnTo>
                    <a:pt x="1783" y="158"/>
                  </a:lnTo>
                  <a:lnTo>
                    <a:pt x="1792" y="150"/>
                  </a:lnTo>
                  <a:lnTo>
                    <a:pt x="1794" y="142"/>
                  </a:lnTo>
                  <a:lnTo>
                    <a:pt x="1804" y="137"/>
                  </a:lnTo>
                  <a:lnTo>
                    <a:pt x="1817" y="138"/>
                  </a:lnTo>
                  <a:lnTo>
                    <a:pt x="1829" y="134"/>
                  </a:lnTo>
                  <a:lnTo>
                    <a:pt x="1839" y="127"/>
                  </a:lnTo>
                  <a:lnTo>
                    <a:pt x="1850" y="128"/>
                  </a:lnTo>
                  <a:lnTo>
                    <a:pt x="1862" y="131"/>
                  </a:lnTo>
                  <a:lnTo>
                    <a:pt x="1871" y="129"/>
                  </a:lnTo>
                  <a:lnTo>
                    <a:pt x="1878" y="137"/>
                  </a:lnTo>
                  <a:lnTo>
                    <a:pt x="1890" y="136"/>
                  </a:lnTo>
                  <a:lnTo>
                    <a:pt x="1902" y="139"/>
                  </a:lnTo>
                  <a:lnTo>
                    <a:pt x="1916" y="138"/>
                  </a:lnTo>
                  <a:lnTo>
                    <a:pt x="1916" y="146"/>
                  </a:lnTo>
                  <a:lnTo>
                    <a:pt x="1929" y="142"/>
                  </a:lnTo>
                  <a:lnTo>
                    <a:pt x="1941" y="138"/>
                  </a:lnTo>
                  <a:lnTo>
                    <a:pt x="1948" y="143"/>
                  </a:lnTo>
                  <a:lnTo>
                    <a:pt x="1959" y="148"/>
                  </a:lnTo>
                  <a:lnTo>
                    <a:pt x="1972" y="150"/>
                  </a:lnTo>
                  <a:lnTo>
                    <a:pt x="1986" y="152"/>
                  </a:lnTo>
                  <a:lnTo>
                    <a:pt x="1994" y="158"/>
                  </a:lnTo>
                  <a:lnTo>
                    <a:pt x="2003" y="165"/>
                  </a:lnTo>
                  <a:lnTo>
                    <a:pt x="2007" y="174"/>
                  </a:lnTo>
                  <a:lnTo>
                    <a:pt x="2004" y="183"/>
                  </a:lnTo>
                  <a:lnTo>
                    <a:pt x="1999" y="191"/>
                  </a:lnTo>
                  <a:lnTo>
                    <a:pt x="2010" y="197"/>
                  </a:lnTo>
                  <a:lnTo>
                    <a:pt x="2021" y="202"/>
                  </a:lnTo>
                  <a:lnTo>
                    <a:pt x="2031" y="206"/>
                  </a:lnTo>
                  <a:lnTo>
                    <a:pt x="2043" y="208"/>
                  </a:lnTo>
                  <a:lnTo>
                    <a:pt x="2056" y="206"/>
                  </a:lnTo>
                  <a:lnTo>
                    <a:pt x="2068" y="203"/>
                  </a:lnTo>
                  <a:lnTo>
                    <a:pt x="2075" y="195"/>
                  </a:lnTo>
                  <a:lnTo>
                    <a:pt x="2080" y="186"/>
                  </a:lnTo>
                  <a:lnTo>
                    <a:pt x="2084" y="178"/>
                  </a:lnTo>
                  <a:lnTo>
                    <a:pt x="2091" y="170"/>
                  </a:lnTo>
                  <a:lnTo>
                    <a:pt x="2098" y="163"/>
                  </a:lnTo>
                  <a:lnTo>
                    <a:pt x="2103" y="156"/>
                  </a:lnTo>
                  <a:lnTo>
                    <a:pt x="2113" y="153"/>
                  </a:lnTo>
                  <a:lnTo>
                    <a:pt x="2122" y="146"/>
                  </a:lnTo>
                  <a:lnTo>
                    <a:pt x="2133" y="144"/>
                  </a:lnTo>
                  <a:lnTo>
                    <a:pt x="2144" y="141"/>
                  </a:lnTo>
                  <a:lnTo>
                    <a:pt x="2155" y="147"/>
                  </a:lnTo>
                  <a:lnTo>
                    <a:pt x="2164" y="147"/>
                  </a:lnTo>
                  <a:lnTo>
                    <a:pt x="2172" y="141"/>
                  </a:lnTo>
                  <a:lnTo>
                    <a:pt x="2182" y="140"/>
                  </a:lnTo>
                  <a:lnTo>
                    <a:pt x="2184" y="131"/>
                  </a:lnTo>
                  <a:lnTo>
                    <a:pt x="2191" y="136"/>
                  </a:lnTo>
                  <a:lnTo>
                    <a:pt x="2204" y="133"/>
                  </a:lnTo>
                  <a:lnTo>
                    <a:pt x="2217" y="130"/>
                  </a:lnTo>
                  <a:lnTo>
                    <a:pt x="2214" y="119"/>
                  </a:lnTo>
                  <a:lnTo>
                    <a:pt x="2222" y="118"/>
                  </a:lnTo>
                  <a:lnTo>
                    <a:pt x="2232" y="116"/>
                  </a:lnTo>
                  <a:lnTo>
                    <a:pt x="2239" y="108"/>
                  </a:lnTo>
                  <a:lnTo>
                    <a:pt x="2252" y="112"/>
                  </a:lnTo>
                  <a:lnTo>
                    <a:pt x="2263" y="114"/>
                  </a:lnTo>
                  <a:lnTo>
                    <a:pt x="2260" y="104"/>
                  </a:lnTo>
                  <a:lnTo>
                    <a:pt x="2274" y="103"/>
                  </a:lnTo>
                  <a:lnTo>
                    <a:pt x="2284" y="109"/>
                  </a:lnTo>
                  <a:lnTo>
                    <a:pt x="2294" y="115"/>
                  </a:lnTo>
                  <a:lnTo>
                    <a:pt x="2305" y="120"/>
                  </a:lnTo>
                  <a:lnTo>
                    <a:pt x="2316" y="124"/>
                  </a:lnTo>
                  <a:lnTo>
                    <a:pt x="2327" y="130"/>
                  </a:lnTo>
                  <a:lnTo>
                    <a:pt x="2337" y="127"/>
                  </a:lnTo>
                  <a:lnTo>
                    <a:pt x="2348" y="129"/>
                  </a:lnTo>
                  <a:lnTo>
                    <a:pt x="2361" y="133"/>
                  </a:lnTo>
                  <a:lnTo>
                    <a:pt x="2372" y="134"/>
                  </a:lnTo>
                  <a:lnTo>
                    <a:pt x="2383" y="137"/>
                  </a:lnTo>
                  <a:lnTo>
                    <a:pt x="2393" y="133"/>
                  </a:lnTo>
                  <a:lnTo>
                    <a:pt x="2403" y="132"/>
                  </a:lnTo>
                  <a:lnTo>
                    <a:pt x="2394" y="128"/>
                  </a:lnTo>
                  <a:lnTo>
                    <a:pt x="2403" y="121"/>
                  </a:lnTo>
                  <a:lnTo>
                    <a:pt x="2414" y="117"/>
                  </a:lnTo>
                  <a:lnTo>
                    <a:pt x="2417" y="110"/>
                  </a:lnTo>
                  <a:lnTo>
                    <a:pt x="2408" y="104"/>
                  </a:lnTo>
                  <a:lnTo>
                    <a:pt x="2412" y="96"/>
                  </a:lnTo>
                  <a:lnTo>
                    <a:pt x="2421" y="96"/>
                  </a:lnTo>
                  <a:lnTo>
                    <a:pt x="2424" y="88"/>
                  </a:lnTo>
                  <a:lnTo>
                    <a:pt x="2424" y="82"/>
                  </a:lnTo>
                  <a:lnTo>
                    <a:pt x="2414" y="79"/>
                  </a:lnTo>
                  <a:lnTo>
                    <a:pt x="2422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48320" y="1295280"/>
              <a:ext cx="2119320" cy="1568520"/>
            </a:xfrm>
            <a:custGeom>
              <a:avLst/>
              <a:gdLst/>
              <a:ahLst/>
              <a:rect l="l" t="t" r="r" b="b"/>
              <a:pathLst>
                <a:path w="4005" h="1977">
                  <a:moveTo>
                    <a:pt x="2423" y="69"/>
                  </a:moveTo>
                  <a:lnTo>
                    <a:pt x="2419" y="60"/>
                  </a:lnTo>
                  <a:lnTo>
                    <a:pt x="2426" y="52"/>
                  </a:lnTo>
                  <a:lnTo>
                    <a:pt x="2438" y="51"/>
                  </a:lnTo>
                  <a:lnTo>
                    <a:pt x="2435" y="60"/>
                  </a:lnTo>
                  <a:lnTo>
                    <a:pt x="2442" y="57"/>
                  </a:lnTo>
                  <a:lnTo>
                    <a:pt x="2455" y="57"/>
                  </a:lnTo>
                  <a:lnTo>
                    <a:pt x="2466" y="56"/>
                  </a:lnTo>
                  <a:lnTo>
                    <a:pt x="2480" y="55"/>
                  </a:lnTo>
                  <a:lnTo>
                    <a:pt x="2493" y="54"/>
                  </a:lnTo>
                  <a:lnTo>
                    <a:pt x="2505" y="53"/>
                  </a:lnTo>
                  <a:lnTo>
                    <a:pt x="2518" y="54"/>
                  </a:lnTo>
                  <a:lnTo>
                    <a:pt x="2530" y="56"/>
                  </a:lnTo>
                  <a:lnTo>
                    <a:pt x="2542" y="58"/>
                  </a:lnTo>
                  <a:lnTo>
                    <a:pt x="2551" y="53"/>
                  </a:lnTo>
                  <a:lnTo>
                    <a:pt x="2564" y="49"/>
                  </a:lnTo>
                  <a:lnTo>
                    <a:pt x="2575" y="45"/>
                  </a:lnTo>
                  <a:lnTo>
                    <a:pt x="2588" y="46"/>
                  </a:lnTo>
                  <a:lnTo>
                    <a:pt x="2596" y="54"/>
                  </a:lnTo>
                  <a:lnTo>
                    <a:pt x="2609" y="55"/>
                  </a:lnTo>
                  <a:lnTo>
                    <a:pt x="2620" y="50"/>
                  </a:lnTo>
                  <a:lnTo>
                    <a:pt x="2623" y="42"/>
                  </a:lnTo>
                  <a:lnTo>
                    <a:pt x="2623" y="32"/>
                  </a:lnTo>
                  <a:lnTo>
                    <a:pt x="2621" y="23"/>
                  </a:lnTo>
                  <a:lnTo>
                    <a:pt x="2624" y="14"/>
                  </a:lnTo>
                  <a:lnTo>
                    <a:pt x="2632" y="8"/>
                  </a:lnTo>
                  <a:lnTo>
                    <a:pt x="2641" y="3"/>
                  </a:lnTo>
                  <a:lnTo>
                    <a:pt x="2652" y="0"/>
                  </a:lnTo>
                  <a:lnTo>
                    <a:pt x="2662" y="4"/>
                  </a:lnTo>
                  <a:lnTo>
                    <a:pt x="2672" y="10"/>
                  </a:lnTo>
                  <a:lnTo>
                    <a:pt x="2676" y="19"/>
                  </a:lnTo>
                  <a:lnTo>
                    <a:pt x="2687" y="19"/>
                  </a:lnTo>
                  <a:lnTo>
                    <a:pt x="2697" y="21"/>
                  </a:lnTo>
                  <a:lnTo>
                    <a:pt x="2707" y="26"/>
                  </a:lnTo>
                  <a:lnTo>
                    <a:pt x="2715" y="33"/>
                  </a:lnTo>
                  <a:lnTo>
                    <a:pt x="2723" y="40"/>
                  </a:lnTo>
                  <a:lnTo>
                    <a:pt x="2736" y="39"/>
                  </a:lnTo>
                  <a:lnTo>
                    <a:pt x="2746" y="45"/>
                  </a:lnTo>
                  <a:lnTo>
                    <a:pt x="2751" y="52"/>
                  </a:lnTo>
                  <a:lnTo>
                    <a:pt x="2765" y="52"/>
                  </a:lnTo>
                  <a:lnTo>
                    <a:pt x="2772" y="48"/>
                  </a:lnTo>
                  <a:lnTo>
                    <a:pt x="2774" y="57"/>
                  </a:lnTo>
                  <a:lnTo>
                    <a:pt x="2785" y="60"/>
                  </a:lnTo>
                  <a:lnTo>
                    <a:pt x="2789" y="63"/>
                  </a:lnTo>
                  <a:lnTo>
                    <a:pt x="2795" y="65"/>
                  </a:lnTo>
                  <a:lnTo>
                    <a:pt x="2804" y="69"/>
                  </a:lnTo>
                  <a:lnTo>
                    <a:pt x="2811" y="76"/>
                  </a:lnTo>
                  <a:lnTo>
                    <a:pt x="2809" y="85"/>
                  </a:lnTo>
                  <a:lnTo>
                    <a:pt x="2810" y="94"/>
                  </a:lnTo>
                  <a:lnTo>
                    <a:pt x="2818" y="102"/>
                  </a:lnTo>
                  <a:lnTo>
                    <a:pt x="2820" y="111"/>
                  </a:lnTo>
                  <a:lnTo>
                    <a:pt x="2827" y="120"/>
                  </a:lnTo>
                  <a:lnTo>
                    <a:pt x="2828" y="128"/>
                  </a:lnTo>
                  <a:lnTo>
                    <a:pt x="2838" y="134"/>
                  </a:lnTo>
                  <a:lnTo>
                    <a:pt x="2848" y="140"/>
                  </a:lnTo>
                  <a:lnTo>
                    <a:pt x="2857" y="145"/>
                  </a:lnTo>
                  <a:lnTo>
                    <a:pt x="2860" y="155"/>
                  </a:lnTo>
                  <a:lnTo>
                    <a:pt x="2873" y="153"/>
                  </a:lnTo>
                  <a:lnTo>
                    <a:pt x="2884" y="154"/>
                  </a:lnTo>
                  <a:lnTo>
                    <a:pt x="2895" y="148"/>
                  </a:lnTo>
                  <a:lnTo>
                    <a:pt x="2901" y="155"/>
                  </a:lnTo>
                  <a:lnTo>
                    <a:pt x="2908" y="161"/>
                  </a:lnTo>
                  <a:lnTo>
                    <a:pt x="2922" y="160"/>
                  </a:lnTo>
                  <a:lnTo>
                    <a:pt x="2932" y="162"/>
                  </a:lnTo>
                  <a:lnTo>
                    <a:pt x="2940" y="154"/>
                  </a:lnTo>
                  <a:lnTo>
                    <a:pt x="2944" y="145"/>
                  </a:lnTo>
                  <a:lnTo>
                    <a:pt x="2957" y="144"/>
                  </a:lnTo>
                  <a:lnTo>
                    <a:pt x="2969" y="148"/>
                  </a:lnTo>
                  <a:lnTo>
                    <a:pt x="2979" y="154"/>
                  </a:lnTo>
                  <a:lnTo>
                    <a:pt x="2988" y="149"/>
                  </a:lnTo>
                  <a:lnTo>
                    <a:pt x="2997" y="152"/>
                  </a:lnTo>
                  <a:lnTo>
                    <a:pt x="2999" y="161"/>
                  </a:lnTo>
                  <a:lnTo>
                    <a:pt x="2999" y="171"/>
                  </a:lnTo>
                  <a:lnTo>
                    <a:pt x="3007" y="174"/>
                  </a:lnTo>
                  <a:lnTo>
                    <a:pt x="3010" y="183"/>
                  </a:lnTo>
                  <a:lnTo>
                    <a:pt x="3013" y="192"/>
                  </a:lnTo>
                  <a:lnTo>
                    <a:pt x="3013" y="201"/>
                  </a:lnTo>
                  <a:lnTo>
                    <a:pt x="3014" y="211"/>
                  </a:lnTo>
                  <a:lnTo>
                    <a:pt x="3015" y="220"/>
                  </a:lnTo>
                  <a:lnTo>
                    <a:pt x="3011" y="227"/>
                  </a:lnTo>
                  <a:lnTo>
                    <a:pt x="3013" y="237"/>
                  </a:lnTo>
                  <a:lnTo>
                    <a:pt x="3020" y="245"/>
                  </a:lnTo>
                  <a:lnTo>
                    <a:pt x="3029" y="251"/>
                  </a:lnTo>
                  <a:lnTo>
                    <a:pt x="3029" y="258"/>
                  </a:lnTo>
                  <a:lnTo>
                    <a:pt x="3032" y="267"/>
                  </a:lnTo>
                  <a:lnTo>
                    <a:pt x="3036" y="275"/>
                  </a:lnTo>
                  <a:lnTo>
                    <a:pt x="3049" y="276"/>
                  </a:lnTo>
                  <a:lnTo>
                    <a:pt x="3056" y="284"/>
                  </a:lnTo>
                  <a:lnTo>
                    <a:pt x="3062" y="292"/>
                  </a:lnTo>
                  <a:lnTo>
                    <a:pt x="3071" y="298"/>
                  </a:lnTo>
                  <a:lnTo>
                    <a:pt x="3071" y="306"/>
                  </a:lnTo>
                  <a:lnTo>
                    <a:pt x="3080" y="313"/>
                  </a:lnTo>
                  <a:lnTo>
                    <a:pt x="3084" y="322"/>
                  </a:lnTo>
                  <a:lnTo>
                    <a:pt x="3088" y="332"/>
                  </a:lnTo>
                  <a:lnTo>
                    <a:pt x="3092" y="339"/>
                  </a:lnTo>
                  <a:lnTo>
                    <a:pt x="3104" y="337"/>
                  </a:lnTo>
                  <a:lnTo>
                    <a:pt x="3108" y="346"/>
                  </a:lnTo>
                  <a:lnTo>
                    <a:pt x="3106" y="355"/>
                  </a:lnTo>
                  <a:lnTo>
                    <a:pt x="3108" y="364"/>
                  </a:lnTo>
                  <a:lnTo>
                    <a:pt x="3112" y="372"/>
                  </a:lnTo>
                  <a:lnTo>
                    <a:pt x="3112" y="381"/>
                  </a:lnTo>
                  <a:lnTo>
                    <a:pt x="3112" y="390"/>
                  </a:lnTo>
                  <a:lnTo>
                    <a:pt x="3120" y="393"/>
                  </a:lnTo>
                  <a:lnTo>
                    <a:pt x="3134" y="390"/>
                  </a:lnTo>
                  <a:lnTo>
                    <a:pt x="3143" y="393"/>
                  </a:lnTo>
                  <a:lnTo>
                    <a:pt x="3148" y="400"/>
                  </a:lnTo>
                  <a:lnTo>
                    <a:pt x="3161" y="404"/>
                  </a:lnTo>
                  <a:lnTo>
                    <a:pt x="3173" y="406"/>
                  </a:lnTo>
                  <a:lnTo>
                    <a:pt x="3180" y="413"/>
                  </a:lnTo>
                  <a:lnTo>
                    <a:pt x="3187" y="422"/>
                  </a:lnTo>
                  <a:lnTo>
                    <a:pt x="3182" y="430"/>
                  </a:lnTo>
                  <a:lnTo>
                    <a:pt x="3185" y="440"/>
                  </a:lnTo>
                  <a:lnTo>
                    <a:pt x="3196" y="440"/>
                  </a:lnTo>
                  <a:lnTo>
                    <a:pt x="3206" y="444"/>
                  </a:lnTo>
                  <a:lnTo>
                    <a:pt x="3203" y="453"/>
                  </a:lnTo>
                  <a:lnTo>
                    <a:pt x="3201" y="462"/>
                  </a:lnTo>
                  <a:lnTo>
                    <a:pt x="3213" y="467"/>
                  </a:lnTo>
                  <a:lnTo>
                    <a:pt x="3220" y="475"/>
                  </a:lnTo>
                  <a:lnTo>
                    <a:pt x="3231" y="478"/>
                  </a:lnTo>
                  <a:lnTo>
                    <a:pt x="3243" y="477"/>
                  </a:lnTo>
                  <a:lnTo>
                    <a:pt x="3256" y="475"/>
                  </a:lnTo>
                  <a:lnTo>
                    <a:pt x="3268" y="476"/>
                  </a:lnTo>
                  <a:lnTo>
                    <a:pt x="3280" y="480"/>
                  </a:lnTo>
                  <a:lnTo>
                    <a:pt x="3292" y="483"/>
                  </a:lnTo>
                  <a:lnTo>
                    <a:pt x="3299" y="490"/>
                  </a:lnTo>
                  <a:lnTo>
                    <a:pt x="3310" y="494"/>
                  </a:lnTo>
                  <a:lnTo>
                    <a:pt x="3323" y="492"/>
                  </a:lnTo>
                  <a:lnTo>
                    <a:pt x="3336" y="492"/>
                  </a:lnTo>
                  <a:lnTo>
                    <a:pt x="3347" y="491"/>
                  </a:lnTo>
                  <a:lnTo>
                    <a:pt x="3359" y="489"/>
                  </a:lnTo>
                  <a:lnTo>
                    <a:pt x="3372" y="486"/>
                  </a:lnTo>
                  <a:lnTo>
                    <a:pt x="3382" y="490"/>
                  </a:lnTo>
                  <a:lnTo>
                    <a:pt x="3392" y="492"/>
                  </a:lnTo>
                  <a:lnTo>
                    <a:pt x="3404" y="495"/>
                  </a:lnTo>
                  <a:lnTo>
                    <a:pt x="3405" y="502"/>
                  </a:lnTo>
                  <a:lnTo>
                    <a:pt x="3410" y="508"/>
                  </a:lnTo>
                  <a:lnTo>
                    <a:pt x="3421" y="504"/>
                  </a:lnTo>
                  <a:lnTo>
                    <a:pt x="3432" y="502"/>
                  </a:lnTo>
                  <a:lnTo>
                    <a:pt x="3439" y="497"/>
                  </a:lnTo>
                  <a:lnTo>
                    <a:pt x="3438" y="489"/>
                  </a:lnTo>
                  <a:lnTo>
                    <a:pt x="3442" y="482"/>
                  </a:lnTo>
                  <a:lnTo>
                    <a:pt x="3442" y="473"/>
                  </a:lnTo>
                  <a:lnTo>
                    <a:pt x="3442" y="464"/>
                  </a:lnTo>
                  <a:lnTo>
                    <a:pt x="3439" y="455"/>
                  </a:lnTo>
                  <a:lnTo>
                    <a:pt x="3438" y="446"/>
                  </a:lnTo>
                  <a:lnTo>
                    <a:pt x="3447" y="440"/>
                  </a:lnTo>
                  <a:lnTo>
                    <a:pt x="3460" y="439"/>
                  </a:lnTo>
                  <a:lnTo>
                    <a:pt x="3471" y="435"/>
                  </a:lnTo>
                  <a:lnTo>
                    <a:pt x="3484" y="438"/>
                  </a:lnTo>
                  <a:lnTo>
                    <a:pt x="3488" y="447"/>
                  </a:lnTo>
                  <a:lnTo>
                    <a:pt x="3491" y="455"/>
                  </a:lnTo>
                  <a:lnTo>
                    <a:pt x="3494" y="452"/>
                  </a:lnTo>
                  <a:lnTo>
                    <a:pt x="3501" y="447"/>
                  </a:lnTo>
                  <a:lnTo>
                    <a:pt x="3509" y="454"/>
                  </a:lnTo>
                  <a:lnTo>
                    <a:pt x="3513" y="451"/>
                  </a:lnTo>
                  <a:lnTo>
                    <a:pt x="3519" y="443"/>
                  </a:lnTo>
                  <a:lnTo>
                    <a:pt x="3533" y="443"/>
                  </a:lnTo>
                  <a:lnTo>
                    <a:pt x="3533" y="430"/>
                  </a:lnTo>
                  <a:lnTo>
                    <a:pt x="3544" y="426"/>
                  </a:lnTo>
                  <a:lnTo>
                    <a:pt x="3547" y="433"/>
                  </a:lnTo>
                  <a:lnTo>
                    <a:pt x="3544" y="438"/>
                  </a:lnTo>
                  <a:lnTo>
                    <a:pt x="3556" y="440"/>
                  </a:lnTo>
                  <a:lnTo>
                    <a:pt x="3558" y="433"/>
                  </a:lnTo>
                  <a:lnTo>
                    <a:pt x="3561" y="425"/>
                  </a:lnTo>
                  <a:lnTo>
                    <a:pt x="3566" y="431"/>
                  </a:lnTo>
                  <a:lnTo>
                    <a:pt x="3572" y="431"/>
                  </a:lnTo>
                  <a:lnTo>
                    <a:pt x="3583" y="427"/>
                  </a:lnTo>
                  <a:lnTo>
                    <a:pt x="3587" y="430"/>
                  </a:lnTo>
                  <a:lnTo>
                    <a:pt x="3597" y="435"/>
                  </a:lnTo>
                  <a:lnTo>
                    <a:pt x="3608" y="437"/>
                  </a:lnTo>
                  <a:lnTo>
                    <a:pt x="3621" y="440"/>
                  </a:lnTo>
                  <a:lnTo>
                    <a:pt x="3621" y="432"/>
                  </a:lnTo>
                  <a:lnTo>
                    <a:pt x="3612" y="425"/>
                  </a:lnTo>
                  <a:lnTo>
                    <a:pt x="3621" y="421"/>
                  </a:lnTo>
                  <a:lnTo>
                    <a:pt x="3632" y="420"/>
                  </a:lnTo>
                  <a:lnTo>
                    <a:pt x="3638" y="413"/>
                  </a:lnTo>
                  <a:lnTo>
                    <a:pt x="3650" y="413"/>
                  </a:lnTo>
                  <a:lnTo>
                    <a:pt x="3657" y="405"/>
                  </a:lnTo>
                  <a:lnTo>
                    <a:pt x="3670" y="402"/>
                  </a:lnTo>
                  <a:lnTo>
                    <a:pt x="3679" y="407"/>
                  </a:lnTo>
                  <a:lnTo>
                    <a:pt x="3684" y="401"/>
                  </a:lnTo>
                  <a:lnTo>
                    <a:pt x="3695" y="404"/>
                  </a:lnTo>
                  <a:lnTo>
                    <a:pt x="3705" y="404"/>
                  </a:lnTo>
                  <a:lnTo>
                    <a:pt x="3717" y="401"/>
                  </a:lnTo>
                  <a:lnTo>
                    <a:pt x="3726" y="405"/>
                  </a:lnTo>
                  <a:lnTo>
                    <a:pt x="3731" y="404"/>
                  </a:lnTo>
                  <a:lnTo>
                    <a:pt x="3741" y="403"/>
                  </a:lnTo>
                  <a:lnTo>
                    <a:pt x="3751" y="401"/>
                  </a:lnTo>
                  <a:lnTo>
                    <a:pt x="3761" y="396"/>
                  </a:lnTo>
                  <a:lnTo>
                    <a:pt x="3768" y="389"/>
                  </a:lnTo>
                  <a:lnTo>
                    <a:pt x="3780" y="385"/>
                  </a:lnTo>
                  <a:lnTo>
                    <a:pt x="3793" y="382"/>
                  </a:lnTo>
                  <a:lnTo>
                    <a:pt x="3801" y="377"/>
                  </a:lnTo>
                  <a:lnTo>
                    <a:pt x="3796" y="371"/>
                  </a:lnTo>
                  <a:lnTo>
                    <a:pt x="3809" y="371"/>
                  </a:lnTo>
                  <a:lnTo>
                    <a:pt x="3818" y="377"/>
                  </a:lnTo>
                  <a:lnTo>
                    <a:pt x="3828" y="384"/>
                  </a:lnTo>
                  <a:lnTo>
                    <a:pt x="3840" y="387"/>
                  </a:lnTo>
                  <a:lnTo>
                    <a:pt x="3850" y="393"/>
                  </a:lnTo>
                  <a:lnTo>
                    <a:pt x="3860" y="400"/>
                  </a:lnTo>
                  <a:lnTo>
                    <a:pt x="3867" y="398"/>
                  </a:lnTo>
                  <a:lnTo>
                    <a:pt x="3872" y="390"/>
                  </a:lnTo>
                  <a:lnTo>
                    <a:pt x="3885" y="392"/>
                  </a:lnTo>
                  <a:lnTo>
                    <a:pt x="3895" y="392"/>
                  </a:lnTo>
                  <a:lnTo>
                    <a:pt x="3895" y="384"/>
                  </a:lnTo>
                  <a:lnTo>
                    <a:pt x="3906" y="382"/>
                  </a:lnTo>
                  <a:lnTo>
                    <a:pt x="3914" y="389"/>
                  </a:lnTo>
                  <a:lnTo>
                    <a:pt x="3914" y="397"/>
                  </a:lnTo>
                  <a:lnTo>
                    <a:pt x="3920" y="406"/>
                  </a:lnTo>
                  <a:lnTo>
                    <a:pt x="3926" y="411"/>
                  </a:lnTo>
                  <a:lnTo>
                    <a:pt x="3931" y="402"/>
                  </a:lnTo>
                  <a:lnTo>
                    <a:pt x="3938" y="398"/>
                  </a:lnTo>
                  <a:lnTo>
                    <a:pt x="3951" y="401"/>
                  </a:lnTo>
                  <a:lnTo>
                    <a:pt x="3960" y="395"/>
                  </a:lnTo>
                  <a:lnTo>
                    <a:pt x="3970" y="390"/>
                  </a:lnTo>
                  <a:lnTo>
                    <a:pt x="3983" y="394"/>
                  </a:lnTo>
                  <a:lnTo>
                    <a:pt x="3988" y="393"/>
                  </a:lnTo>
                  <a:lnTo>
                    <a:pt x="3986" y="405"/>
                  </a:lnTo>
                  <a:lnTo>
                    <a:pt x="3984" y="414"/>
                  </a:lnTo>
                  <a:lnTo>
                    <a:pt x="3984" y="421"/>
                  </a:lnTo>
                  <a:lnTo>
                    <a:pt x="3997" y="424"/>
                  </a:lnTo>
                  <a:lnTo>
                    <a:pt x="4005" y="427"/>
                  </a:lnTo>
                  <a:lnTo>
                    <a:pt x="4002" y="436"/>
                  </a:lnTo>
                  <a:lnTo>
                    <a:pt x="3993" y="431"/>
                  </a:lnTo>
                  <a:lnTo>
                    <a:pt x="3980" y="428"/>
                  </a:lnTo>
                  <a:lnTo>
                    <a:pt x="3967" y="430"/>
                  </a:lnTo>
                  <a:lnTo>
                    <a:pt x="3967" y="436"/>
                  </a:lnTo>
                  <a:lnTo>
                    <a:pt x="3981" y="436"/>
                  </a:lnTo>
                  <a:lnTo>
                    <a:pt x="3993" y="440"/>
                  </a:lnTo>
                  <a:lnTo>
                    <a:pt x="4000" y="448"/>
                  </a:lnTo>
                  <a:lnTo>
                    <a:pt x="3994" y="455"/>
                  </a:lnTo>
                  <a:lnTo>
                    <a:pt x="3981" y="451"/>
                  </a:lnTo>
                  <a:lnTo>
                    <a:pt x="3970" y="455"/>
                  </a:lnTo>
                  <a:lnTo>
                    <a:pt x="3962" y="462"/>
                  </a:lnTo>
                  <a:lnTo>
                    <a:pt x="3958" y="471"/>
                  </a:lnTo>
                  <a:lnTo>
                    <a:pt x="3970" y="471"/>
                  </a:lnTo>
                  <a:lnTo>
                    <a:pt x="3973" y="476"/>
                  </a:lnTo>
                  <a:lnTo>
                    <a:pt x="3960" y="478"/>
                  </a:lnTo>
                  <a:lnTo>
                    <a:pt x="3952" y="483"/>
                  </a:lnTo>
                  <a:lnTo>
                    <a:pt x="3949" y="490"/>
                  </a:lnTo>
                  <a:lnTo>
                    <a:pt x="3960" y="495"/>
                  </a:lnTo>
                  <a:lnTo>
                    <a:pt x="3963" y="505"/>
                  </a:lnTo>
                  <a:lnTo>
                    <a:pt x="3953" y="510"/>
                  </a:lnTo>
                  <a:lnTo>
                    <a:pt x="3944" y="507"/>
                  </a:lnTo>
                  <a:lnTo>
                    <a:pt x="3952" y="499"/>
                  </a:lnTo>
                  <a:lnTo>
                    <a:pt x="3945" y="493"/>
                  </a:lnTo>
                  <a:lnTo>
                    <a:pt x="3934" y="494"/>
                  </a:lnTo>
                  <a:lnTo>
                    <a:pt x="3926" y="502"/>
                  </a:lnTo>
                  <a:lnTo>
                    <a:pt x="3923" y="511"/>
                  </a:lnTo>
                  <a:lnTo>
                    <a:pt x="3927" y="520"/>
                  </a:lnTo>
                  <a:lnTo>
                    <a:pt x="3931" y="529"/>
                  </a:lnTo>
                  <a:lnTo>
                    <a:pt x="3931" y="538"/>
                  </a:lnTo>
                  <a:lnTo>
                    <a:pt x="3920" y="540"/>
                  </a:lnTo>
                  <a:lnTo>
                    <a:pt x="3907" y="537"/>
                  </a:lnTo>
                  <a:lnTo>
                    <a:pt x="3895" y="534"/>
                  </a:lnTo>
                  <a:lnTo>
                    <a:pt x="3889" y="539"/>
                  </a:lnTo>
                  <a:lnTo>
                    <a:pt x="3893" y="547"/>
                  </a:lnTo>
                  <a:lnTo>
                    <a:pt x="3898" y="556"/>
                  </a:lnTo>
                  <a:lnTo>
                    <a:pt x="3892" y="564"/>
                  </a:lnTo>
                  <a:lnTo>
                    <a:pt x="3879" y="568"/>
                  </a:lnTo>
                  <a:lnTo>
                    <a:pt x="3877" y="574"/>
                  </a:lnTo>
                  <a:lnTo>
                    <a:pt x="3878" y="581"/>
                  </a:lnTo>
                  <a:lnTo>
                    <a:pt x="3865" y="583"/>
                  </a:lnTo>
                  <a:lnTo>
                    <a:pt x="3858" y="576"/>
                  </a:lnTo>
                  <a:lnTo>
                    <a:pt x="3861" y="567"/>
                  </a:lnTo>
                  <a:lnTo>
                    <a:pt x="3858" y="559"/>
                  </a:lnTo>
                  <a:lnTo>
                    <a:pt x="3846" y="556"/>
                  </a:lnTo>
                  <a:lnTo>
                    <a:pt x="3833" y="553"/>
                  </a:lnTo>
                  <a:lnTo>
                    <a:pt x="3822" y="557"/>
                  </a:lnTo>
                  <a:lnTo>
                    <a:pt x="3809" y="558"/>
                  </a:lnTo>
                  <a:lnTo>
                    <a:pt x="3814" y="549"/>
                  </a:lnTo>
                  <a:lnTo>
                    <a:pt x="3818" y="539"/>
                  </a:lnTo>
                  <a:lnTo>
                    <a:pt x="3811" y="536"/>
                  </a:lnTo>
                  <a:lnTo>
                    <a:pt x="3796" y="539"/>
                  </a:lnTo>
                  <a:lnTo>
                    <a:pt x="3784" y="543"/>
                  </a:lnTo>
                  <a:lnTo>
                    <a:pt x="3784" y="553"/>
                  </a:lnTo>
                  <a:lnTo>
                    <a:pt x="3779" y="560"/>
                  </a:lnTo>
                  <a:lnTo>
                    <a:pt x="3768" y="564"/>
                  </a:lnTo>
                  <a:lnTo>
                    <a:pt x="3761" y="571"/>
                  </a:lnTo>
                  <a:lnTo>
                    <a:pt x="3748" y="575"/>
                  </a:lnTo>
                  <a:lnTo>
                    <a:pt x="3737" y="579"/>
                  </a:lnTo>
                  <a:lnTo>
                    <a:pt x="3730" y="587"/>
                  </a:lnTo>
                  <a:lnTo>
                    <a:pt x="3727" y="596"/>
                  </a:lnTo>
                  <a:lnTo>
                    <a:pt x="3723" y="605"/>
                  </a:lnTo>
                  <a:lnTo>
                    <a:pt x="3714" y="612"/>
                  </a:lnTo>
                  <a:lnTo>
                    <a:pt x="3706" y="618"/>
                  </a:lnTo>
                  <a:lnTo>
                    <a:pt x="3698" y="626"/>
                  </a:lnTo>
                  <a:lnTo>
                    <a:pt x="3692" y="634"/>
                  </a:lnTo>
                  <a:lnTo>
                    <a:pt x="3684" y="641"/>
                  </a:lnTo>
                  <a:lnTo>
                    <a:pt x="3671" y="645"/>
                  </a:lnTo>
                  <a:lnTo>
                    <a:pt x="3663" y="652"/>
                  </a:lnTo>
                  <a:lnTo>
                    <a:pt x="3654" y="646"/>
                  </a:lnTo>
                  <a:lnTo>
                    <a:pt x="3650" y="652"/>
                  </a:lnTo>
                  <a:lnTo>
                    <a:pt x="3653" y="661"/>
                  </a:lnTo>
                  <a:lnTo>
                    <a:pt x="3633" y="669"/>
                  </a:lnTo>
                  <a:lnTo>
                    <a:pt x="3621" y="683"/>
                  </a:lnTo>
                  <a:lnTo>
                    <a:pt x="3619" y="692"/>
                  </a:lnTo>
                  <a:lnTo>
                    <a:pt x="3611" y="699"/>
                  </a:lnTo>
                  <a:lnTo>
                    <a:pt x="3598" y="695"/>
                  </a:lnTo>
                  <a:lnTo>
                    <a:pt x="3589" y="689"/>
                  </a:lnTo>
                  <a:lnTo>
                    <a:pt x="3577" y="684"/>
                  </a:lnTo>
                  <a:lnTo>
                    <a:pt x="3565" y="685"/>
                  </a:lnTo>
                  <a:lnTo>
                    <a:pt x="3554" y="690"/>
                  </a:lnTo>
                  <a:lnTo>
                    <a:pt x="3544" y="696"/>
                  </a:lnTo>
                  <a:lnTo>
                    <a:pt x="3534" y="701"/>
                  </a:lnTo>
                  <a:lnTo>
                    <a:pt x="3522" y="704"/>
                  </a:lnTo>
                  <a:lnTo>
                    <a:pt x="3509" y="704"/>
                  </a:lnTo>
                  <a:lnTo>
                    <a:pt x="3495" y="703"/>
                  </a:lnTo>
                  <a:lnTo>
                    <a:pt x="3482" y="699"/>
                  </a:lnTo>
                  <a:lnTo>
                    <a:pt x="3480" y="705"/>
                  </a:lnTo>
                  <a:lnTo>
                    <a:pt x="3484" y="714"/>
                  </a:lnTo>
                  <a:lnTo>
                    <a:pt x="3477" y="720"/>
                  </a:lnTo>
                  <a:lnTo>
                    <a:pt x="3463" y="718"/>
                  </a:lnTo>
                  <a:lnTo>
                    <a:pt x="3463" y="724"/>
                  </a:lnTo>
                  <a:lnTo>
                    <a:pt x="3470" y="732"/>
                  </a:lnTo>
                  <a:lnTo>
                    <a:pt x="3461" y="732"/>
                  </a:lnTo>
                  <a:lnTo>
                    <a:pt x="3452" y="725"/>
                  </a:lnTo>
                  <a:lnTo>
                    <a:pt x="3445" y="717"/>
                  </a:lnTo>
                  <a:lnTo>
                    <a:pt x="3456" y="712"/>
                  </a:lnTo>
                  <a:lnTo>
                    <a:pt x="3449" y="705"/>
                  </a:lnTo>
                  <a:lnTo>
                    <a:pt x="3443" y="697"/>
                  </a:lnTo>
                  <a:lnTo>
                    <a:pt x="3433" y="694"/>
                  </a:lnTo>
                  <a:lnTo>
                    <a:pt x="3431" y="700"/>
                  </a:lnTo>
                  <a:lnTo>
                    <a:pt x="3436" y="709"/>
                  </a:lnTo>
                  <a:lnTo>
                    <a:pt x="3432" y="718"/>
                  </a:lnTo>
                  <a:lnTo>
                    <a:pt x="3421" y="717"/>
                  </a:lnTo>
                  <a:lnTo>
                    <a:pt x="3417" y="708"/>
                  </a:lnTo>
                  <a:lnTo>
                    <a:pt x="3411" y="703"/>
                  </a:lnTo>
                  <a:lnTo>
                    <a:pt x="3407" y="712"/>
                  </a:lnTo>
                  <a:lnTo>
                    <a:pt x="3410" y="720"/>
                  </a:lnTo>
                  <a:lnTo>
                    <a:pt x="3411" y="728"/>
                  </a:lnTo>
                  <a:lnTo>
                    <a:pt x="3398" y="732"/>
                  </a:lnTo>
                  <a:lnTo>
                    <a:pt x="3387" y="736"/>
                  </a:lnTo>
                  <a:lnTo>
                    <a:pt x="3379" y="743"/>
                  </a:lnTo>
                  <a:lnTo>
                    <a:pt x="3383" y="752"/>
                  </a:lnTo>
                  <a:lnTo>
                    <a:pt x="3380" y="761"/>
                  </a:lnTo>
                  <a:lnTo>
                    <a:pt x="3369" y="763"/>
                  </a:lnTo>
                  <a:lnTo>
                    <a:pt x="3358" y="767"/>
                  </a:lnTo>
                  <a:lnTo>
                    <a:pt x="3355" y="777"/>
                  </a:lnTo>
                  <a:lnTo>
                    <a:pt x="3345" y="779"/>
                  </a:lnTo>
                  <a:lnTo>
                    <a:pt x="3334" y="772"/>
                  </a:lnTo>
                  <a:lnTo>
                    <a:pt x="3333" y="777"/>
                  </a:lnTo>
                  <a:lnTo>
                    <a:pt x="3331" y="786"/>
                  </a:lnTo>
                  <a:lnTo>
                    <a:pt x="3323" y="791"/>
                  </a:lnTo>
                  <a:lnTo>
                    <a:pt x="3326" y="797"/>
                  </a:lnTo>
                  <a:lnTo>
                    <a:pt x="3313" y="795"/>
                  </a:lnTo>
                  <a:lnTo>
                    <a:pt x="3303" y="799"/>
                  </a:lnTo>
                  <a:lnTo>
                    <a:pt x="3295" y="787"/>
                  </a:lnTo>
                  <a:lnTo>
                    <a:pt x="3298" y="778"/>
                  </a:lnTo>
                  <a:lnTo>
                    <a:pt x="3287" y="780"/>
                  </a:lnTo>
                  <a:lnTo>
                    <a:pt x="3274" y="784"/>
                  </a:lnTo>
                  <a:lnTo>
                    <a:pt x="3263" y="789"/>
                  </a:lnTo>
                  <a:lnTo>
                    <a:pt x="3255" y="789"/>
                  </a:lnTo>
                  <a:lnTo>
                    <a:pt x="3248" y="782"/>
                  </a:lnTo>
                  <a:lnTo>
                    <a:pt x="3236" y="783"/>
                  </a:lnTo>
                  <a:lnTo>
                    <a:pt x="3239" y="792"/>
                  </a:lnTo>
                  <a:lnTo>
                    <a:pt x="3242" y="802"/>
                  </a:lnTo>
                  <a:lnTo>
                    <a:pt x="3215" y="798"/>
                  </a:lnTo>
                  <a:lnTo>
                    <a:pt x="3206" y="799"/>
                  </a:lnTo>
                  <a:lnTo>
                    <a:pt x="3192" y="798"/>
                  </a:lnTo>
                  <a:lnTo>
                    <a:pt x="3179" y="797"/>
                  </a:lnTo>
                  <a:lnTo>
                    <a:pt x="3168" y="802"/>
                  </a:lnTo>
                  <a:lnTo>
                    <a:pt x="3157" y="807"/>
                  </a:lnTo>
                  <a:lnTo>
                    <a:pt x="3144" y="807"/>
                  </a:lnTo>
                  <a:lnTo>
                    <a:pt x="3131" y="806"/>
                  </a:lnTo>
                  <a:lnTo>
                    <a:pt x="3119" y="805"/>
                  </a:lnTo>
                  <a:lnTo>
                    <a:pt x="3105" y="804"/>
                  </a:lnTo>
                  <a:lnTo>
                    <a:pt x="3092" y="803"/>
                  </a:lnTo>
                  <a:lnTo>
                    <a:pt x="3080" y="804"/>
                  </a:lnTo>
                  <a:lnTo>
                    <a:pt x="3067" y="805"/>
                  </a:lnTo>
                  <a:lnTo>
                    <a:pt x="3053" y="807"/>
                  </a:lnTo>
                  <a:lnTo>
                    <a:pt x="3041" y="805"/>
                  </a:lnTo>
                  <a:lnTo>
                    <a:pt x="3029" y="801"/>
                  </a:lnTo>
                  <a:lnTo>
                    <a:pt x="3010" y="798"/>
                  </a:lnTo>
                  <a:lnTo>
                    <a:pt x="2997" y="795"/>
                  </a:lnTo>
                  <a:lnTo>
                    <a:pt x="2988" y="789"/>
                  </a:lnTo>
                  <a:lnTo>
                    <a:pt x="2979" y="782"/>
                  </a:lnTo>
                  <a:lnTo>
                    <a:pt x="2969" y="775"/>
                  </a:lnTo>
                  <a:lnTo>
                    <a:pt x="2957" y="775"/>
                  </a:lnTo>
                  <a:lnTo>
                    <a:pt x="2953" y="780"/>
                  </a:lnTo>
                  <a:lnTo>
                    <a:pt x="2943" y="782"/>
                  </a:lnTo>
                  <a:lnTo>
                    <a:pt x="2940" y="791"/>
                  </a:lnTo>
                  <a:lnTo>
                    <a:pt x="2927" y="792"/>
                  </a:lnTo>
                  <a:lnTo>
                    <a:pt x="2915" y="793"/>
                  </a:lnTo>
                  <a:lnTo>
                    <a:pt x="2908" y="798"/>
                  </a:lnTo>
                  <a:lnTo>
                    <a:pt x="2895" y="802"/>
                  </a:lnTo>
                  <a:lnTo>
                    <a:pt x="2874" y="803"/>
                  </a:lnTo>
                  <a:lnTo>
                    <a:pt x="2873" y="811"/>
                  </a:lnTo>
                  <a:lnTo>
                    <a:pt x="2863" y="818"/>
                  </a:lnTo>
                  <a:lnTo>
                    <a:pt x="2853" y="824"/>
                  </a:lnTo>
                  <a:lnTo>
                    <a:pt x="2841" y="825"/>
                  </a:lnTo>
                  <a:lnTo>
                    <a:pt x="2841" y="832"/>
                  </a:lnTo>
                  <a:lnTo>
                    <a:pt x="2852" y="836"/>
                  </a:lnTo>
                  <a:lnTo>
                    <a:pt x="2852" y="840"/>
                  </a:lnTo>
                  <a:lnTo>
                    <a:pt x="2838" y="841"/>
                  </a:lnTo>
                  <a:lnTo>
                    <a:pt x="2825" y="842"/>
                  </a:lnTo>
                  <a:lnTo>
                    <a:pt x="2823" y="851"/>
                  </a:lnTo>
                  <a:lnTo>
                    <a:pt x="2813" y="852"/>
                  </a:lnTo>
                  <a:lnTo>
                    <a:pt x="2811" y="842"/>
                  </a:lnTo>
                  <a:lnTo>
                    <a:pt x="2799" y="839"/>
                  </a:lnTo>
                  <a:lnTo>
                    <a:pt x="2786" y="837"/>
                  </a:lnTo>
                  <a:lnTo>
                    <a:pt x="2774" y="837"/>
                  </a:lnTo>
                  <a:lnTo>
                    <a:pt x="2762" y="841"/>
                  </a:lnTo>
                  <a:lnTo>
                    <a:pt x="2758" y="850"/>
                  </a:lnTo>
                  <a:lnTo>
                    <a:pt x="2758" y="859"/>
                  </a:lnTo>
                  <a:lnTo>
                    <a:pt x="2754" y="867"/>
                  </a:lnTo>
                  <a:lnTo>
                    <a:pt x="2743" y="863"/>
                  </a:lnTo>
                  <a:lnTo>
                    <a:pt x="2732" y="860"/>
                  </a:lnTo>
                  <a:lnTo>
                    <a:pt x="2733" y="850"/>
                  </a:lnTo>
                  <a:lnTo>
                    <a:pt x="2727" y="843"/>
                  </a:lnTo>
                  <a:lnTo>
                    <a:pt x="2715" y="840"/>
                  </a:lnTo>
                  <a:lnTo>
                    <a:pt x="2702" y="842"/>
                  </a:lnTo>
                  <a:lnTo>
                    <a:pt x="2691" y="847"/>
                  </a:lnTo>
                  <a:lnTo>
                    <a:pt x="2687" y="856"/>
                  </a:lnTo>
                  <a:lnTo>
                    <a:pt x="2690" y="863"/>
                  </a:lnTo>
                  <a:lnTo>
                    <a:pt x="2686" y="872"/>
                  </a:lnTo>
                  <a:lnTo>
                    <a:pt x="2676" y="876"/>
                  </a:lnTo>
                  <a:lnTo>
                    <a:pt x="2666" y="882"/>
                  </a:lnTo>
                  <a:lnTo>
                    <a:pt x="2669" y="889"/>
                  </a:lnTo>
                  <a:lnTo>
                    <a:pt x="2666" y="898"/>
                  </a:lnTo>
                  <a:lnTo>
                    <a:pt x="2669" y="907"/>
                  </a:lnTo>
                  <a:lnTo>
                    <a:pt x="2670" y="916"/>
                  </a:lnTo>
                  <a:lnTo>
                    <a:pt x="2666" y="925"/>
                  </a:lnTo>
                  <a:lnTo>
                    <a:pt x="2669" y="934"/>
                  </a:lnTo>
                  <a:lnTo>
                    <a:pt x="2674" y="941"/>
                  </a:lnTo>
                  <a:lnTo>
                    <a:pt x="2666" y="949"/>
                  </a:lnTo>
                  <a:lnTo>
                    <a:pt x="2656" y="955"/>
                  </a:lnTo>
                  <a:lnTo>
                    <a:pt x="2646" y="960"/>
                  </a:lnTo>
                  <a:lnTo>
                    <a:pt x="2649" y="969"/>
                  </a:lnTo>
                  <a:lnTo>
                    <a:pt x="2655" y="978"/>
                  </a:lnTo>
                  <a:lnTo>
                    <a:pt x="2660" y="986"/>
                  </a:lnTo>
                  <a:lnTo>
                    <a:pt x="2667" y="994"/>
                  </a:lnTo>
                  <a:lnTo>
                    <a:pt x="2677" y="1000"/>
                  </a:lnTo>
                  <a:lnTo>
                    <a:pt x="2688" y="1005"/>
                  </a:lnTo>
                  <a:lnTo>
                    <a:pt x="2700" y="1010"/>
                  </a:lnTo>
                  <a:lnTo>
                    <a:pt x="2709" y="1016"/>
                  </a:lnTo>
                  <a:lnTo>
                    <a:pt x="2718" y="1023"/>
                  </a:lnTo>
                  <a:lnTo>
                    <a:pt x="2721" y="1033"/>
                  </a:lnTo>
                  <a:lnTo>
                    <a:pt x="2708" y="1036"/>
                  </a:lnTo>
                  <a:lnTo>
                    <a:pt x="2697" y="1033"/>
                  </a:lnTo>
                  <a:lnTo>
                    <a:pt x="2684" y="1031"/>
                  </a:lnTo>
                  <a:lnTo>
                    <a:pt x="2687" y="1040"/>
                  </a:lnTo>
                  <a:lnTo>
                    <a:pt x="2693" y="1048"/>
                  </a:lnTo>
                  <a:lnTo>
                    <a:pt x="2702" y="1052"/>
                  </a:lnTo>
                  <a:lnTo>
                    <a:pt x="2712" y="1047"/>
                  </a:lnTo>
                  <a:lnTo>
                    <a:pt x="2725" y="1050"/>
                  </a:lnTo>
                  <a:lnTo>
                    <a:pt x="2732" y="1058"/>
                  </a:lnTo>
                  <a:lnTo>
                    <a:pt x="2743" y="1062"/>
                  </a:lnTo>
                  <a:lnTo>
                    <a:pt x="2736" y="1066"/>
                  </a:lnTo>
                  <a:lnTo>
                    <a:pt x="2723" y="1068"/>
                  </a:lnTo>
                  <a:lnTo>
                    <a:pt x="2712" y="1074"/>
                  </a:lnTo>
                  <a:lnTo>
                    <a:pt x="2701" y="1077"/>
                  </a:lnTo>
                  <a:lnTo>
                    <a:pt x="2695" y="1085"/>
                  </a:lnTo>
                  <a:lnTo>
                    <a:pt x="2695" y="1094"/>
                  </a:lnTo>
                  <a:lnTo>
                    <a:pt x="2697" y="1103"/>
                  </a:lnTo>
                  <a:lnTo>
                    <a:pt x="2698" y="1113"/>
                  </a:lnTo>
                  <a:lnTo>
                    <a:pt x="2690" y="1119"/>
                  </a:lnTo>
                  <a:lnTo>
                    <a:pt x="2677" y="1118"/>
                  </a:lnTo>
                  <a:lnTo>
                    <a:pt x="2666" y="1115"/>
                  </a:lnTo>
                  <a:lnTo>
                    <a:pt x="2656" y="1109"/>
                  </a:lnTo>
                  <a:lnTo>
                    <a:pt x="2645" y="1108"/>
                  </a:lnTo>
                  <a:lnTo>
                    <a:pt x="2641" y="1117"/>
                  </a:lnTo>
                  <a:lnTo>
                    <a:pt x="2642" y="1126"/>
                  </a:lnTo>
                  <a:lnTo>
                    <a:pt x="2649" y="1134"/>
                  </a:lnTo>
                  <a:lnTo>
                    <a:pt x="2658" y="1141"/>
                  </a:lnTo>
                  <a:lnTo>
                    <a:pt x="2648" y="1148"/>
                  </a:lnTo>
                  <a:lnTo>
                    <a:pt x="2637" y="1152"/>
                  </a:lnTo>
                  <a:lnTo>
                    <a:pt x="2624" y="1152"/>
                  </a:lnTo>
                  <a:lnTo>
                    <a:pt x="2611" y="1149"/>
                  </a:lnTo>
                  <a:lnTo>
                    <a:pt x="2600" y="1145"/>
                  </a:lnTo>
                  <a:lnTo>
                    <a:pt x="2588" y="1145"/>
                  </a:lnTo>
                  <a:lnTo>
                    <a:pt x="2575" y="1148"/>
                  </a:lnTo>
                  <a:lnTo>
                    <a:pt x="2563" y="1150"/>
                  </a:lnTo>
                  <a:lnTo>
                    <a:pt x="2550" y="1150"/>
                  </a:lnTo>
                  <a:lnTo>
                    <a:pt x="2537" y="1148"/>
                  </a:lnTo>
                  <a:lnTo>
                    <a:pt x="2529" y="1153"/>
                  </a:lnTo>
                  <a:lnTo>
                    <a:pt x="2528" y="1162"/>
                  </a:lnTo>
                  <a:lnTo>
                    <a:pt x="2518" y="1169"/>
                  </a:lnTo>
                  <a:lnTo>
                    <a:pt x="2507" y="1173"/>
                  </a:lnTo>
                  <a:lnTo>
                    <a:pt x="2493" y="1174"/>
                  </a:lnTo>
                  <a:lnTo>
                    <a:pt x="2484" y="1168"/>
                  </a:lnTo>
                  <a:lnTo>
                    <a:pt x="2479" y="1160"/>
                  </a:lnTo>
                  <a:lnTo>
                    <a:pt x="2469" y="1154"/>
                  </a:lnTo>
                  <a:lnTo>
                    <a:pt x="2456" y="1154"/>
                  </a:lnTo>
                  <a:lnTo>
                    <a:pt x="2444" y="1156"/>
                  </a:lnTo>
                  <a:lnTo>
                    <a:pt x="2431" y="1159"/>
                  </a:lnTo>
                  <a:lnTo>
                    <a:pt x="2424" y="1157"/>
                  </a:lnTo>
                  <a:lnTo>
                    <a:pt x="2430" y="1148"/>
                  </a:lnTo>
                  <a:lnTo>
                    <a:pt x="2427" y="1140"/>
                  </a:lnTo>
                  <a:lnTo>
                    <a:pt x="2416" y="1140"/>
                  </a:lnTo>
                  <a:lnTo>
                    <a:pt x="2407" y="1147"/>
                  </a:lnTo>
                  <a:lnTo>
                    <a:pt x="2395" y="1147"/>
                  </a:lnTo>
                  <a:lnTo>
                    <a:pt x="2382" y="1145"/>
                  </a:lnTo>
                  <a:lnTo>
                    <a:pt x="2368" y="1143"/>
                  </a:lnTo>
                  <a:lnTo>
                    <a:pt x="2358" y="1137"/>
                  </a:lnTo>
                  <a:lnTo>
                    <a:pt x="2353" y="1128"/>
                  </a:lnTo>
                  <a:lnTo>
                    <a:pt x="2350" y="1119"/>
                  </a:lnTo>
                  <a:lnTo>
                    <a:pt x="2351" y="1110"/>
                  </a:lnTo>
                  <a:lnTo>
                    <a:pt x="2353" y="1101"/>
                  </a:lnTo>
                  <a:lnTo>
                    <a:pt x="2343" y="1102"/>
                  </a:lnTo>
                  <a:lnTo>
                    <a:pt x="2336" y="1109"/>
                  </a:lnTo>
                  <a:lnTo>
                    <a:pt x="2325" y="1114"/>
                  </a:lnTo>
                  <a:lnTo>
                    <a:pt x="2312" y="1117"/>
                  </a:lnTo>
                  <a:lnTo>
                    <a:pt x="2307" y="1126"/>
                  </a:lnTo>
                  <a:lnTo>
                    <a:pt x="2297" y="1132"/>
                  </a:lnTo>
                  <a:lnTo>
                    <a:pt x="2287" y="1138"/>
                  </a:lnTo>
                  <a:lnTo>
                    <a:pt x="2282" y="1147"/>
                  </a:lnTo>
                  <a:lnTo>
                    <a:pt x="2286" y="1155"/>
                  </a:lnTo>
                  <a:lnTo>
                    <a:pt x="2296" y="1161"/>
                  </a:lnTo>
                  <a:lnTo>
                    <a:pt x="2291" y="1169"/>
                  </a:lnTo>
                  <a:lnTo>
                    <a:pt x="2280" y="1174"/>
                  </a:lnTo>
                  <a:lnTo>
                    <a:pt x="2268" y="1176"/>
                  </a:lnTo>
                  <a:lnTo>
                    <a:pt x="2255" y="1175"/>
                  </a:lnTo>
                  <a:lnTo>
                    <a:pt x="2244" y="1171"/>
                  </a:lnTo>
                  <a:lnTo>
                    <a:pt x="2233" y="1165"/>
                  </a:lnTo>
                  <a:lnTo>
                    <a:pt x="2220" y="1163"/>
                  </a:lnTo>
                  <a:lnTo>
                    <a:pt x="2207" y="1164"/>
                  </a:lnTo>
                  <a:lnTo>
                    <a:pt x="2195" y="1166"/>
                  </a:lnTo>
                  <a:lnTo>
                    <a:pt x="2182" y="1170"/>
                  </a:lnTo>
                  <a:lnTo>
                    <a:pt x="2174" y="1165"/>
                  </a:lnTo>
                  <a:lnTo>
                    <a:pt x="2175" y="1155"/>
                  </a:lnTo>
                  <a:lnTo>
                    <a:pt x="2184" y="1150"/>
                  </a:lnTo>
                  <a:lnTo>
                    <a:pt x="2185" y="1141"/>
                  </a:lnTo>
                  <a:lnTo>
                    <a:pt x="2174" y="1136"/>
                  </a:lnTo>
                  <a:lnTo>
                    <a:pt x="2161" y="1136"/>
                  </a:lnTo>
                  <a:lnTo>
                    <a:pt x="2152" y="1141"/>
                  </a:lnTo>
                  <a:lnTo>
                    <a:pt x="2140" y="1146"/>
                  </a:lnTo>
                  <a:lnTo>
                    <a:pt x="2132" y="1140"/>
                  </a:lnTo>
                  <a:lnTo>
                    <a:pt x="2126" y="1132"/>
                  </a:lnTo>
                  <a:lnTo>
                    <a:pt x="2115" y="1134"/>
                  </a:lnTo>
                  <a:lnTo>
                    <a:pt x="2107" y="1128"/>
                  </a:lnTo>
                  <a:lnTo>
                    <a:pt x="2097" y="1134"/>
                  </a:lnTo>
                  <a:lnTo>
                    <a:pt x="2104" y="1142"/>
                  </a:lnTo>
                  <a:lnTo>
                    <a:pt x="2096" y="1146"/>
                  </a:lnTo>
                  <a:lnTo>
                    <a:pt x="2087" y="1153"/>
                  </a:lnTo>
                  <a:lnTo>
                    <a:pt x="2079" y="1160"/>
                  </a:lnTo>
                  <a:lnTo>
                    <a:pt x="2069" y="1162"/>
                  </a:lnTo>
                  <a:lnTo>
                    <a:pt x="2065" y="1171"/>
                  </a:lnTo>
                  <a:lnTo>
                    <a:pt x="2061" y="1179"/>
                  </a:lnTo>
                  <a:lnTo>
                    <a:pt x="2049" y="1178"/>
                  </a:lnTo>
                  <a:lnTo>
                    <a:pt x="2038" y="1182"/>
                  </a:lnTo>
                  <a:lnTo>
                    <a:pt x="2031" y="1190"/>
                  </a:lnTo>
                  <a:lnTo>
                    <a:pt x="2030" y="1198"/>
                  </a:lnTo>
                  <a:lnTo>
                    <a:pt x="2030" y="1207"/>
                  </a:lnTo>
                  <a:lnTo>
                    <a:pt x="2024" y="1212"/>
                  </a:lnTo>
                  <a:lnTo>
                    <a:pt x="2010" y="1210"/>
                  </a:lnTo>
                  <a:lnTo>
                    <a:pt x="2008" y="1219"/>
                  </a:lnTo>
                  <a:lnTo>
                    <a:pt x="2013" y="1227"/>
                  </a:lnTo>
                  <a:lnTo>
                    <a:pt x="2022" y="1235"/>
                  </a:lnTo>
                  <a:lnTo>
                    <a:pt x="2029" y="1243"/>
                  </a:lnTo>
                  <a:lnTo>
                    <a:pt x="2037" y="1250"/>
                  </a:lnTo>
                  <a:lnTo>
                    <a:pt x="2047" y="1254"/>
                  </a:lnTo>
                  <a:lnTo>
                    <a:pt x="2054" y="1261"/>
                  </a:lnTo>
                  <a:lnTo>
                    <a:pt x="2054" y="1270"/>
                  </a:lnTo>
                  <a:lnTo>
                    <a:pt x="2056" y="1278"/>
                  </a:lnTo>
                  <a:lnTo>
                    <a:pt x="2049" y="1286"/>
                  </a:lnTo>
                  <a:lnTo>
                    <a:pt x="2059" y="1288"/>
                  </a:lnTo>
                  <a:lnTo>
                    <a:pt x="2069" y="1290"/>
                  </a:lnTo>
                  <a:lnTo>
                    <a:pt x="2082" y="1291"/>
                  </a:lnTo>
                  <a:lnTo>
                    <a:pt x="2087" y="1299"/>
                  </a:lnTo>
                  <a:lnTo>
                    <a:pt x="2091" y="1307"/>
                  </a:lnTo>
                  <a:lnTo>
                    <a:pt x="2089" y="1319"/>
                  </a:lnTo>
                  <a:lnTo>
                    <a:pt x="2086" y="1328"/>
                  </a:lnTo>
                  <a:lnTo>
                    <a:pt x="2083" y="1337"/>
                  </a:lnTo>
                  <a:lnTo>
                    <a:pt x="2082" y="1346"/>
                  </a:lnTo>
                  <a:lnTo>
                    <a:pt x="2079" y="1355"/>
                  </a:lnTo>
                  <a:lnTo>
                    <a:pt x="2076" y="1364"/>
                  </a:lnTo>
                  <a:lnTo>
                    <a:pt x="2068" y="1372"/>
                  </a:lnTo>
                  <a:lnTo>
                    <a:pt x="2056" y="1376"/>
                  </a:lnTo>
                  <a:lnTo>
                    <a:pt x="2045" y="1380"/>
                  </a:lnTo>
                  <a:lnTo>
                    <a:pt x="2037" y="1387"/>
                  </a:lnTo>
                  <a:lnTo>
                    <a:pt x="2036" y="1396"/>
                  </a:lnTo>
                  <a:lnTo>
                    <a:pt x="2047" y="1398"/>
                  </a:lnTo>
                  <a:lnTo>
                    <a:pt x="2061" y="1397"/>
                  </a:lnTo>
                  <a:lnTo>
                    <a:pt x="2075" y="1397"/>
                  </a:lnTo>
                  <a:lnTo>
                    <a:pt x="2087" y="1395"/>
                  </a:lnTo>
                  <a:lnTo>
                    <a:pt x="2097" y="1399"/>
                  </a:lnTo>
                  <a:lnTo>
                    <a:pt x="2100" y="1413"/>
                  </a:lnTo>
                  <a:lnTo>
                    <a:pt x="2093" y="1420"/>
                  </a:lnTo>
                  <a:lnTo>
                    <a:pt x="2082" y="1425"/>
                  </a:lnTo>
                  <a:lnTo>
                    <a:pt x="2068" y="1425"/>
                  </a:lnTo>
                  <a:lnTo>
                    <a:pt x="2056" y="1430"/>
                  </a:lnTo>
                  <a:lnTo>
                    <a:pt x="2045" y="1435"/>
                  </a:lnTo>
                  <a:lnTo>
                    <a:pt x="2041" y="1443"/>
                  </a:lnTo>
                  <a:lnTo>
                    <a:pt x="2031" y="1449"/>
                  </a:lnTo>
                  <a:lnTo>
                    <a:pt x="2023" y="1457"/>
                  </a:lnTo>
                  <a:lnTo>
                    <a:pt x="2030" y="1464"/>
                  </a:lnTo>
                  <a:lnTo>
                    <a:pt x="2027" y="1474"/>
                  </a:lnTo>
                  <a:lnTo>
                    <a:pt x="2024" y="1484"/>
                  </a:lnTo>
                  <a:lnTo>
                    <a:pt x="2024" y="1493"/>
                  </a:lnTo>
                  <a:lnTo>
                    <a:pt x="2026" y="1502"/>
                  </a:lnTo>
                  <a:lnTo>
                    <a:pt x="2024" y="1512"/>
                  </a:lnTo>
                  <a:lnTo>
                    <a:pt x="2012" y="1513"/>
                  </a:lnTo>
                  <a:lnTo>
                    <a:pt x="2002" y="1519"/>
                  </a:lnTo>
                  <a:lnTo>
                    <a:pt x="1996" y="1525"/>
                  </a:lnTo>
                  <a:lnTo>
                    <a:pt x="1984" y="1524"/>
                  </a:lnTo>
                  <a:lnTo>
                    <a:pt x="1974" y="1530"/>
                  </a:lnTo>
                  <a:lnTo>
                    <a:pt x="1968" y="1538"/>
                  </a:lnTo>
                  <a:lnTo>
                    <a:pt x="1977" y="1543"/>
                  </a:lnTo>
                  <a:lnTo>
                    <a:pt x="1982" y="1549"/>
                  </a:lnTo>
                  <a:lnTo>
                    <a:pt x="1981" y="1555"/>
                  </a:lnTo>
                  <a:lnTo>
                    <a:pt x="1989" y="1562"/>
                  </a:lnTo>
                  <a:lnTo>
                    <a:pt x="1998" y="1570"/>
                  </a:lnTo>
                  <a:lnTo>
                    <a:pt x="2009" y="1574"/>
                  </a:lnTo>
                  <a:lnTo>
                    <a:pt x="2013" y="1582"/>
                  </a:lnTo>
                  <a:lnTo>
                    <a:pt x="2015" y="1592"/>
                  </a:lnTo>
                  <a:lnTo>
                    <a:pt x="2022" y="1601"/>
                  </a:lnTo>
                  <a:lnTo>
                    <a:pt x="2019" y="1609"/>
                  </a:lnTo>
                  <a:lnTo>
                    <a:pt x="2012" y="1617"/>
                  </a:lnTo>
                  <a:lnTo>
                    <a:pt x="2005" y="1624"/>
                  </a:lnTo>
                  <a:lnTo>
                    <a:pt x="1999" y="1632"/>
                  </a:lnTo>
                  <a:lnTo>
                    <a:pt x="1998" y="1641"/>
                  </a:lnTo>
                  <a:lnTo>
                    <a:pt x="1998" y="1651"/>
                  </a:lnTo>
                  <a:lnTo>
                    <a:pt x="1998" y="1660"/>
                  </a:lnTo>
                  <a:lnTo>
                    <a:pt x="1994" y="1667"/>
                  </a:lnTo>
                  <a:lnTo>
                    <a:pt x="1984" y="1672"/>
                  </a:lnTo>
                  <a:lnTo>
                    <a:pt x="1980" y="1682"/>
                  </a:lnTo>
                  <a:lnTo>
                    <a:pt x="1975" y="1690"/>
                  </a:lnTo>
                  <a:lnTo>
                    <a:pt x="1964" y="1694"/>
                  </a:lnTo>
                  <a:lnTo>
                    <a:pt x="1973" y="1701"/>
                  </a:lnTo>
                  <a:lnTo>
                    <a:pt x="1968" y="1710"/>
                  </a:lnTo>
                  <a:lnTo>
                    <a:pt x="1963" y="1718"/>
                  </a:lnTo>
                  <a:lnTo>
                    <a:pt x="1952" y="1718"/>
                  </a:lnTo>
                  <a:lnTo>
                    <a:pt x="1947" y="1727"/>
                  </a:lnTo>
                  <a:lnTo>
                    <a:pt x="1954" y="1734"/>
                  </a:lnTo>
                  <a:lnTo>
                    <a:pt x="1950" y="1743"/>
                  </a:lnTo>
                  <a:lnTo>
                    <a:pt x="1946" y="1752"/>
                  </a:lnTo>
                  <a:lnTo>
                    <a:pt x="1939" y="1759"/>
                  </a:lnTo>
                  <a:lnTo>
                    <a:pt x="1931" y="1752"/>
                  </a:lnTo>
                  <a:lnTo>
                    <a:pt x="1926" y="1743"/>
                  </a:lnTo>
                  <a:lnTo>
                    <a:pt x="1919" y="1735"/>
                  </a:lnTo>
                  <a:lnTo>
                    <a:pt x="1908" y="1732"/>
                  </a:lnTo>
                  <a:lnTo>
                    <a:pt x="1894" y="1732"/>
                  </a:lnTo>
                  <a:lnTo>
                    <a:pt x="1885" y="1737"/>
                  </a:lnTo>
                  <a:lnTo>
                    <a:pt x="1876" y="1744"/>
                  </a:lnTo>
                  <a:lnTo>
                    <a:pt x="1866" y="1751"/>
                  </a:lnTo>
                  <a:lnTo>
                    <a:pt x="1864" y="1760"/>
                  </a:lnTo>
                  <a:lnTo>
                    <a:pt x="1871" y="1767"/>
                  </a:lnTo>
                  <a:lnTo>
                    <a:pt x="1864" y="1774"/>
                  </a:lnTo>
                  <a:lnTo>
                    <a:pt x="1865" y="1781"/>
                  </a:lnTo>
                  <a:lnTo>
                    <a:pt x="1868" y="1788"/>
                  </a:lnTo>
                  <a:lnTo>
                    <a:pt x="1872" y="1797"/>
                  </a:lnTo>
                  <a:lnTo>
                    <a:pt x="1871" y="1807"/>
                  </a:lnTo>
                  <a:lnTo>
                    <a:pt x="1864" y="1814"/>
                  </a:lnTo>
                  <a:lnTo>
                    <a:pt x="1851" y="1817"/>
                  </a:lnTo>
                  <a:lnTo>
                    <a:pt x="1838" y="1817"/>
                  </a:lnTo>
                  <a:lnTo>
                    <a:pt x="1826" y="1816"/>
                  </a:lnTo>
                  <a:lnTo>
                    <a:pt x="1813" y="1814"/>
                  </a:lnTo>
                  <a:lnTo>
                    <a:pt x="1799" y="1814"/>
                  </a:lnTo>
                  <a:lnTo>
                    <a:pt x="1788" y="1818"/>
                  </a:lnTo>
                  <a:lnTo>
                    <a:pt x="1777" y="1823"/>
                  </a:lnTo>
                  <a:lnTo>
                    <a:pt x="1770" y="1830"/>
                  </a:lnTo>
                  <a:lnTo>
                    <a:pt x="1762" y="1836"/>
                  </a:lnTo>
                  <a:lnTo>
                    <a:pt x="1750" y="1842"/>
                  </a:lnTo>
                  <a:lnTo>
                    <a:pt x="1743" y="1850"/>
                  </a:lnTo>
                  <a:lnTo>
                    <a:pt x="1745" y="1859"/>
                  </a:lnTo>
                  <a:lnTo>
                    <a:pt x="1750" y="1869"/>
                  </a:lnTo>
                  <a:lnTo>
                    <a:pt x="1742" y="1869"/>
                  </a:lnTo>
                  <a:lnTo>
                    <a:pt x="1728" y="1866"/>
                  </a:lnTo>
                  <a:lnTo>
                    <a:pt x="1715" y="1870"/>
                  </a:lnTo>
                  <a:lnTo>
                    <a:pt x="1704" y="1875"/>
                  </a:lnTo>
                  <a:lnTo>
                    <a:pt x="1696" y="1881"/>
                  </a:lnTo>
                  <a:lnTo>
                    <a:pt x="1685" y="1885"/>
                  </a:lnTo>
                  <a:lnTo>
                    <a:pt x="1673" y="1881"/>
                  </a:lnTo>
                  <a:lnTo>
                    <a:pt x="1666" y="1873"/>
                  </a:lnTo>
                  <a:lnTo>
                    <a:pt x="1664" y="1864"/>
                  </a:lnTo>
                  <a:lnTo>
                    <a:pt x="1652" y="1860"/>
                  </a:lnTo>
                  <a:lnTo>
                    <a:pt x="1646" y="1868"/>
                  </a:lnTo>
                  <a:lnTo>
                    <a:pt x="1644" y="1877"/>
                  </a:lnTo>
                  <a:lnTo>
                    <a:pt x="1647" y="1886"/>
                  </a:lnTo>
                  <a:lnTo>
                    <a:pt x="1652" y="1894"/>
                  </a:lnTo>
                  <a:lnTo>
                    <a:pt x="1655" y="1903"/>
                  </a:lnTo>
                  <a:lnTo>
                    <a:pt x="1668" y="1898"/>
                  </a:lnTo>
                  <a:lnTo>
                    <a:pt x="1680" y="1900"/>
                  </a:lnTo>
                  <a:lnTo>
                    <a:pt x="1683" y="1909"/>
                  </a:lnTo>
                  <a:lnTo>
                    <a:pt x="1673" y="1915"/>
                  </a:lnTo>
                  <a:lnTo>
                    <a:pt x="1661" y="1917"/>
                  </a:lnTo>
                  <a:lnTo>
                    <a:pt x="1648" y="1914"/>
                  </a:lnTo>
                  <a:lnTo>
                    <a:pt x="1637" y="1914"/>
                  </a:lnTo>
                  <a:lnTo>
                    <a:pt x="1625" y="1914"/>
                  </a:lnTo>
                  <a:lnTo>
                    <a:pt x="1611" y="1912"/>
                  </a:lnTo>
                  <a:lnTo>
                    <a:pt x="1598" y="1910"/>
                  </a:lnTo>
                  <a:lnTo>
                    <a:pt x="1585" y="1912"/>
                  </a:lnTo>
                  <a:lnTo>
                    <a:pt x="1587" y="1921"/>
                  </a:lnTo>
                  <a:lnTo>
                    <a:pt x="1588" y="1931"/>
                  </a:lnTo>
                  <a:lnTo>
                    <a:pt x="1594" y="1939"/>
                  </a:lnTo>
                  <a:lnTo>
                    <a:pt x="1601" y="1948"/>
                  </a:lnTo>
                  <a:lnTo>
                    <a:pt x="1612" y="1953"/>
                  </a:lnTo>
                  <a:lnTo>
                    <a:pt x="1623" y="1957"/>
                  </a:lnTo>
                  <a:lnTo>
                    <a:pt x="1634" y="1961"/>
                  </a:lnTo>
                  <a:lnTo>
                    <a:pt x="1639" y="1970"/>
                  </a:lnTo>
                  <a:lnTo>
                    <a:pt x="1633" y="1977"/>
                  </a:lnTo>
                  <a:lnTo>
                    <a:pt x="1620" y="1977"/>
                  </a:lnTo>
                  <a:lnTo>
                    <a:pt x="1608" y="1974"/>
                  </a:lnTo>
                  <a:lnTo>
                    <a:pt x="1598" y="1968"/>
                  </a:lnTo>
                  <a:lnTo>
                    <a:pt x="1592" y="1959"/>
                  </a:lnTo>
                  <a:lnTo>
                    <a:pt x="1592" y="1950"/>
                  </a:lnTo>
                  <a:lnTo>
                    <a:pt x="1580" y="1951"/>
                  </a:lnTo>
                  <a:lnTo>
                    <a:pt x="1569" y="1949"/>
                  </a:lnTo>
                  <a:lnTo>
                    <a:pt x="1560" y="1943"/>
                  </a:lnTo>
                  <a:lnTo>
                    <a:pt x="1552" y="1951"/>
                  </a:lnTo>
                  <a:lnTo>
                    <a:pt x="1541" y="1948"/>
                  </a:lnTo>
                  <a:lnTo>
                    <a:pt x="1542" y="1931"/>
                  </a:lnTo>
                  <a:lnTo>
                    <a:pt x="1541" y="1924"/>
                  </a:lnTo>
                  <a:lnTo>
                    <a:pt x="1527" y="1923"/>
                  </a:lnTo>
                  <a:lnTo>
                    <a:pt x="1515" y="1919"/>
                  </a:lnTo>
                  <a:lnTo>
                    <a:pt x="1506" y="1913"/>
                  </a:lnTo>
                  <a:lnTo>
                    <a:pt x="1496" y="1906"/>
                  </a:lnTo>
                  <a:lnTo>
                    <a:pt x="1489" y="1899"/>
                  </a:lnTo>
                  <a:lnTo>
                    <a:pt x="1476" y="1897"/>
                  </a:lnTo>
                  <a:lnTo>
                    <a:pt x="1464" y="1901"/>
                  </a:lnTo>
                  <a:lnTo>
                    <a:pt x="1453" y="1906"/>
                  </a:lnTo>
                  <a:lnTo>
                    <a:pt x="1443" y="1912"/>
                  </a:lnTo>
                  <a:lnTo>
                    <a:pt x="1433" y="1918"/>
                  </a:lnTo>
                  <a:lnTo>
                    <a:pt x="1423" y="1924"/>
                  </a:lnTo>
                  <a:lnTo>
                    <a:pt x="1416" y="1932"/>
                  </a:lnTo>
                  <a:lnTo>
                    <a:pt x="1416" y="1942"/>
                  </a:lnTo>
                  <a:lnTo>
                    <a:pt x="1423" y="1950"/>
                  </a:lnTo>
                  <a:lnTo>
                    <a:pt x="1430" y="1957"/>
                  </a:lnTo>
                  <a:lnTo>
                    <a:pt x="1411" y="1949"/>
                  </a:lnTo>
                  <a:lnTo>
                    <a:pt x="1402" y="1942"/>
                  </a:lnTo>
                  <a:lnTo>
                    <a:pt x="1395" y="1933"/>
                  </a:lnTo>
                  <a:lnTo>
                    <a:pt x="1384" y="1931"/>
                  </a:lnTo>
                  <a:lnTo>
                    <a:pt x="1373" y="1928"/>
                  </a:lnTo>
                  <a:lnTo>
                    <a:pt x="1365" y="1920"/>
                  </a:lnTo>
                  <a:lnTo>
                    <a:pt x="1355" y="1915"/>
                  </a:lnTo>
                  <a:lnTo>
                    <a:pt x="1344" y="1909"/>
                  </a:lnTo>
                  <a:lnTo>
                    <a:pt x="1337" y="1902"/>
                  </a:lnTo>
                  <a:lnTo>
                    <a:pt x="1328" y="1895"/>
                  </a:lnTo>
                  <a:lnTo>
                    <a:pt x="1316" y="1892"/>
                  </a:lnTo>
                  <a:lnTo>
                    <a:pt x="1306" y="1886"/>
                  </a:lnTo>
                  <a:lnTo>
                    <a:pt x="1293" y="1888"/>
                  </a:lnTo>
                  <a:lnTo>
                    <a:pt x="1281" y="1891"/>
                  </a:lnTo>
                  <a:lnTo>
                    <a:pt x="1268" y="1892"/>
                  </a:lnTo>
                  <a:lnTo>
                    <a:pt x="1255" y="1889"/>
                  </a:lnTo>
                  <a:lnTo>
                    <a:pt x="1247" y="1880"/>
                  </a:lnTo>
                  <a:lnTo>
                    <a:pt x="1240" y="1881"/>
                  </a:lnTo>
                  <a:lnTo>
                    <a:pt x="1237" y="1892"/>
                  </a:lnTo>
                  <a:lnTo>
                    <a:pt x="1226" y="1892"/>
                  </a:lnTo>
                  <a:lnTo>
                    <a:pt x="1214" y="1892"/>
                  </a:lnTo>
                  <a:lnTo>
                    <a:pt x="1200" y="1893"/>
                  </a:lnTo>
                  <a:lnTo>
                    <a:pt x="1188" y="1896"/>
                  </a:lnTo>
                  <a:lnTo>
                    <a:pt x="1174" y="1895"/>
                  </a:lnTo>
                  <a:lnTo>
                    <a:pt x="1163" y="1891"/>
                  </a:lnTo>
                  <a:lnTo>
                    <a:pt x="1155" y="1884"/>
                  </a:lnTo>
                  <a:lnTo>
                    <a:pt x="1142" y="1881"/>
                  </a:lnTo>
                  <a:lnTo>
                    <a:pt x="1130" y="1877"/>
                  </a:lnTo>
                  <a:lnTo>
                    <a:pt x="1106" y="1873"/>
                  </a:lnTo>
                  <a:lnTo>
                    <a:pt x="1095" y="1868"/>
                  </a:lnTo>
                  <a:lnTo>
                    <a:pt x="1086" y="1862"/>
                  </a:lnTo>
                  <a:lnTo>
                    <a:pt x="1079" y="1854"/>
                  </a:lnTo>
                  <a:lnTo>
                    <a:pt x="1068" y="1851"/>
                  </a:lnTo>
                  <a:lnTo>
                    <a:pt x="1065" y="1843"/>
                  </a:lnTo>
                  <a:lnTo>
                    <a:pt x="1053" y="1845"/>
                  </a:lnTo>
                  <a:lnTo>
                    <a:pt x="1044" y="1841"/>
                  </a:lnTo>
                  <a:lnTo>
                    <a:pt x="1033" y="1834"/>
                  </a:lnTo>
                  <a:lnTo>
                    <a:pt x="1036" y="1827"/>
                  </a:lnTo>
                  <a:lnTo>
                    <a:pt x="1046" y="1820"/>
                  </a:lnTo>
                  <a:lnTo>
                    <a:pt x="1047" y="1811"/>
                  </a:lnTo>
                  <a:lnTo>
                    <a:pt x="1054" y="1803"/>
                  </a:lnTo>
                  <a:lnTo>
                    <a:pt x="1065" y="1797"/>
                  </a:lnTo>
                  <a:lnTo>
                    <a:pt x="1075" y="1791"/>
                  </a:lnTo>
                  <a:lnTo>
                    <a:pt x="1079" y="1784"/>
                  </a:lnTo>
                  <a:lnTo>
                    <a:pt x="1068" y="1779"/>
                  </a:lnTo>
                  <a:lnTo>
                    <a:pt x="1058" y="1773"/>
                  </a:lnTo>
                  <a:lnTo>
                    <a:pt x="1049" y="1766"/>
                  </a:lnTo>
                  <a:lnTo>
                    <a:pt x="1040" y="1759"/>
                  </a:lnTo>
                  <a:lnTo>
                    <a:pt x="1029" y="1757"/>
                  </a:lnTo>
                  <a:lnTo>
                    <a:pt x="1018" y="1751"/>
                  </a:lnTo>
                  <a:lnTo>
                    <a:pt x="1011" y="1743"/>
                  </a:lnTo>
                  <a:lnTo>
                    <a:pt x="1001" y="1737"/>
                  </a:lnTo>
                  <a:lnTo>
                    <a:pt x="995" y="1729"/>
                  </a:lnTo>
                  <a:lnTo>
                    <a:pt x="983" y="1727"/>
                  </a:lnTo>
                  <a:lnTo>
                    <a:pt x="977" y="1718"/>
                  </a:lnTo>
                  <a:lnTo>
                    <a:pt x="968" y="1715"/>
                  </a:lnTo>
                  <a:lnTo>
                    <a:pt x="955" y="1715"/>
                  </a:lnTo>
                  <a:lnTo>
                    <a:pt x="948" y="1707"/>
                  </a:lnTo>
                  <a:lnTo>
                    <a:pt x="941" y="1699"/>
                  </a:lnTo>
                  <a:lnTo>
                    <a:pt x="934" y="1691"/>
                  </a:lnTo>
                  <a:lnTo>
                    <a:pt x="931" y="1684"/>
                  </a:lnTo>
                  <a:lnTo>
                    <a:pt x="928" y="1676"/>
                  </a:lnTo>
                  <a:lnTo>
                    <a:pt x="919" y="1669"/>
                  </a:lnTo>
                  <a:lnTo>
                    <a:pt x="909" y="1663"/>
                  </a:lnTo>
                  <a:lnTo>
                    <a:pt x="903" y="1658"/>
                  </a:lnTo>
                  <a:lnTo>
                    <a:pt x="896" y="1651"/>
                  </a:lnTo>
                  <a:lnTo>
                    <a:pt x="892" y="1642"/>
                  </a:lnTo>
                  <a:lnTo>
                    <a:pt x="893" y="1633"/>
                  </a:lnTo>
                  <a:lnTo>
                    <a:pt x="895" y="1626"/>
                  </a:lnTo>
                  <a:lnTo>
                    <a:pt x="898" y="1618"/>
                  </a:lnTo>
                  <a:lnTo>
                    <a:pt x="905" y="1610"/>
                  </a:lnTo>
                  <a:lnTo>
                    <a:pt x="912" y="1606"/>
                  </a:lnTo>
                  <a:lnTo>
                    <a:pt x="916" y="1598"/>
                  </a:lnTo>
                  <a:lnTo>
                    <a:pt x="916" y="1589"/>
                  </a:lnTo>
                  <a:lnTo>
                    <a:pt x="916" y="1579"/>
                  </a:lnTo>
                  <a:lnTo>
                    <a:pt x="913" y="1570"/>
                  </a:lnTo>
                  <a:lnTo>
                    <a:pt x="907" y="1562"/>
                  </a:lnTo>
                  <a:lnTo>
                    <a:pt x="902" y="1553"/>
                  </a:lnTo>
                  <a:lnTo>
                    <a:pt x="900" y="1544"/>
                  </a:lnTo>
                  <a:lnTo>
                    <a:pt x="898" y="1535"/>
                  </a:lnTo>
                  <a:lnTo>
                    <a:pt x="891" y="1527"/>
                  </a:lnTo>
                  <a:lnTo>
                    <a:pt x="879" y="1522"/>
                  </a:lnTo>
                  <a:lnTo>
                    <a:pt x="868" y="1518"/>
                  </a:lnTo>
                  <a:lnTo>
                    <a:pt x="856" y="1515"/>
                  </a:lnTo>
                  <a:lnTo>
                    <a:pt x="843" y="1513"/>
                  </a:lnTo>
                  <a:lnTo>
                    <a:pt x="831" y="1511"/>
                  </a:lnTo>
                  <a:lnTo>
                    <a:pt x="818" y="1508"/>
                  </a:lnTo>
                  <a:lnTo>
                    <a:pt x="808" y="1503"/>
                  </a:lnTo>
                  <a:lnTo>
                    <a:pt x="801" y="1495"/>
                  </a:lnTo>
                  <a:lnTo>
                    <a:pt x="797" y="1486"/>
                  </a:lnTo>
                  <a:lnTo>
                    <a:pt x="789" y="1478"/>
                  </a:lnTo>
                  <a:lnTo>
                    <a:pt x="787" y="1469"/>
                  </a:lnTo>
                  <a:lnTo>
                    <a:pt x="784" y="1461"/>
                  </a:lnTo>
                  <a:lnTo>
                    <a:pt x="789" y="1453"/>
                  </a:lnTo>
                  <a:lnTo>
                    <a:pt x="801" y="1449"/>
                  </a:lnTo>
                  <a:lnTo>
                    <a:pt x="810" y="1446"/>
                  </a:lnTo>
                  <a:lnTo>
                    <a:pt x="811" y="1437"/>
                  </a:lnTo>
                  <a:lnTo>
                    <a:pt x="822" y="1433"/>
                  </a:lnTo>
                  <a:lnTo>
                    <a:pt x="833" y="1435"/>
                  </a:lnTo>
                  <a:lnTo>
                    <a:pt x="840" y="1438"/>
                  </a:lnTo>
                  <a:lnTo>
                    <a:pt x="849" y="1442"/>
                  </a:lnTo>
                  <a:lnTo>
                    <a:pt x="861" y="1441"/>
                  </a:lnTo>
                  <a:lnTo>
                    <a:pt x="872" y="1437"/>
                  </a:lnTo>
                  <a:lnTo>
                    <a:pt x="884" y="1442"/>
                  </a:lnTo>
                  <a:lnTo>
                    <a:pt x="882" y="1436"/>
                  </a:lnTo>
                  <a:lnTo>
                    <a:pt x="874" y="1428"/>
                  </a:lnTo>
                  <a:lnTo>
                    <a:pt x="871" y="1420"/>
                  </a:lnTo>
                  <a:lnTo>
                    <a:pt x="879" y="1413"/>
                  </a:lnTo>
                  <a:lnTo>
                    <a:pt x="886" y="1409"/>
                  </a:lnTo>
                  <a:lnTo>
                    <a:pt x="896" y="1405"/>
                  </a:lnTo>
                  <a:lnTo>
                    <a:pt x="902" y="1399"/>
                  </a:lnTo>
                  <a:lnTo>
                    <a:pt x="914" y="1395"/>
                  </a:lnTo>
                  <a:lnTo>
                    <a:pt x="919" y="1390"/>
                  </a:lnTo>
                  <a:lnTo>
                    <a:pt x="913" y="1381"/>
                  </a:lnTo>
                  <a:lnTo>
                    <a:pt x="905" y="1373"/>
                  </a:lnTo>
                  <a:lnTo>
                    <a:pt x="893" y="1370"/>
                  </a:lnTo>
                  <a:lnTo>
                    <a:pt x="886" y="1371"/>
                  </a:lnTo>
                  <a:lnTo>
                    <a:pt x="878" y="1368"/>
                  </a:lnTo>
                  <a:lnTo>
                    <a:pt x="867" y="1363"/>
                  </a:lnTo>
                  <a:lnTo>
                    <a:pt x="857" y="1356"/>
                  </a:lnTo>
                  <a:lnTo>
                    <a:pt x="847" y="1351"/>
                  </a:lnTo>
                  <a:lnTo>
                    <a:pt x="836" y="1345"/>
                  </a:lnTo>
                  <a:lnTo>
                    <a:pt x="831" y="1337"/>
                  </a:lnTo>
                  <a:lnTo>
                    <a:pt x="822" y="1331"/>
                  </a:lnTo>
                  <a:lnTo>
                    <a:pt x="811" y="1326"/>
                  </a:lnTo>
                  <a:lnTo>
                    <a:pt x="803" y="1319"/>
                  </a:lnTo>
                  <a:lnTo>
                    <a:pt x="791" y="1315"/>
                  </a:lnTo>
                  <a:lnTo>
                    <a:pt x="789" y="1306"/>
                  </a:lnTo>
                  <a:lnTo>
                    <a:pt x="801" y="1305"/>
                  </a:lnTo>
                  <a:lnTo>
                    <a:pt x="805" y="1297"/>
                  </a:lnTo>
                  <a:lnTo>
                    <a:pt x="810" y="1287"/>
                  </a:lnTo>
                  <a:lnTo>
                    <a:pt x="814" y="1278"/>
                  </a:lnTo>
                  <a:lnTo>
                    <a:pt x="819" y="1270"/>
                  </a:lnTo>
                  <a:lnTo>
                    <a:pt x="831" y="1267"/>
                  </a:lnTo>
                  <a:lnTo>
                    <a:pt x="839" y="1262"/>
                  </a:lnTo>
                  <a:lnTo>
                    <a:pt x="839" y="1253"/>
                  </a:lnTo>
                  <a:lnTo>
                    <a:pt x="842" y="1244"/>
                  </a:lnTo>
                  <a:lnTo>
                    <a:pt x="840" y="1235"/>
                  </a:lnTo>
                  <a:lnTo>
                    <a:pt x="843" y="1226"/>
                  </a:lnTo>
                  <a:lnTo>
                    <a:pt x="847" y="1217"/>
                  </a:lnTo>
                  <a:lnTo>
                    <a:pt x="846" y="1208"/>
                  </a:lnTo>
                  <a:lnTo>
                    <a:pt x="854" y="1202"/>
                  </a:lnTo>
                  <a:lnTo>
                    <a:pt x="860" y="1194"/>
                  </a:lnTo>
                  <a:lnTo>
                    <a:pt x="863" y="1184"/>
                  </a:lnTo>
                  <a:lnTo>
                    <a:pt x="861" y="1175"/>
                  </a:lnTo>
                  <a:lnTo>
                    <a:pt x="858" y="1166"/>
                  </a:lnTo>
                  <a:lnTo>
                    <a:pt x="857" y="1157"/>
                  </a:lnTo>
                  <a:lnTo>
                    <a:pt x="847" y="1150"/>
                  </a:lnTo>
                  <a:lnTo>
                    <a:pt x="840" y="1143"/>
                  </a:lnTo>
                  <a:lnTo>
                    <a:pt x="839" y="1134"/>
                  </a:lnTo>
                  <a:lnTo>
                    <a:pt x="835" y="1125"/>
                  </a:lnTo>
                  <a:lnTo>
                    <a:pt x="846" y="1123"/>
                  </a:lnTo>
                  <a:lnTo>
                    <a:pt x="860" y="1121"/>
                  </a:lnTo>
                  <a:lnTo>
                    <a:pt x="872" y="1119"/>
                  </a:lnTo>
                  <a:lnTo>
                    <a:pt x="882" y="1112"/>
                  </a:lnTo>
                  <a:lnTo>
                    <a:pt x="881" y="1105"/>
                  </a:lnTo>
                  <a:lnTo>
                    <a:pt x="871" y="1097"/>
                  </a:lnTo>
                  <a:lnTo>
                    <a:pt x="867" y="1089"/>
                  </a:lnTo>
                  <a:lnTo>
                    <a:pt x="864" y="1079"/>
                  </a:lnTo>
                  <a:lnTo>
                    <a:pt x="857" y="1072"/>
                  </a:lnTo>
                  <a:lnTo>
                    <a:pt x="849" y="1064"/>
                  </a:lnTo>
                  <a:lnTo>
                    <a:pt x="842" y="1056"/>
                  </a:lnTo>
                  <a:lnTo>
                    <a:pt x="839" y="1047"/>
                  </a:lnTo>
                  <a:lnTo>
                    <a:pt x="842" y="1038"/>
                  </a:lnTo>
                  <a:lnTo>
                    <a:pt x="843" y="1029"/>
                  </a:lnTo>
                  <a:lnTo>
                    <a:pt x="843" y="1018"/>
                  </a:lnTo>
                  <a:lnTo>
                    <a:pt x="840" y="1010"/>
                  </a:lnTo>
                  <a:lnTo>
                    <a:pt x="829" y="1004"/>
                  </a:lnTo>
                  <a:lnTo>
                    <a:pt x="825" y="995"/>
                  </a:lnTo>
                  <a:lnTo>
                    <a:pt x="824" y="986"/>
                  </a:lnTo>
                  <a:lnTo>
                    <a:pt x="825" y="977"/>
                  </a:lnTo>
                  <a:lnTo>
                    <a:pt x="817" y="972"/>
                  </a:lnTo>
                  <a:lnTo>
                    <a:pt x="804" y="972"/>
                  </a:lnTo>
                  <a:lnTo>
                    <a:pt x="798" y="963"/>
                  </a:lnTo>
                  <a:lnTo>
                    <a:pt x="797" y="953"/>
                  </a:lnTo>
                  <a:lnTo>
                    <a:pt x="791" y="945"/>
                  </a:lnTo>
                  <a:lnTo>
                    <a:pt x="780" y="942"/>
                  </a:lnTo>
                  <a:lnTo>
                    <a:pt x="783" y="934"/>
                  </a:lnTo>
                  <a:lnTo>
                    <a:pt x="770" y="932"/>
                  </a:lnTo>
                  <a:lnTo>
                    <a:pt x="756" y="930"/>
                  </a:lnTo>
                  <a:lnTo>
                    <a:pt x="747" y="933"/>
                  </a:lnTo>
                  <a:lnTo>
                    <a:pt x="735" y="938"/>
                  </a:lnTo>
                  <a:lnTo>
                    <a:pt x="724" y="938"/>
                  </a:lnTo>
                  <a:lnTo>
                    <a:pt x="714" y="937"/>
                  </a:lnTo>
                  <a:lnTo>
                    <a:pt x="701" y="936"/>
                  </a:lnTo>
                  <a:lnTo>
                    <a:pt x="694" y="930"/>
                  </a:lnTo>
                  <a:lnTo>
                    <a:pt x="684" y="936"/>
                  </a:lnTo>
                  <a:lnTo>
                    <a:pt x="670" y="937"/>
                  </a:lnTo>
                  <a:lnTo>
                    <a:pt x="659" y="939"/>
                  </a:lnTo>
                  <a:lnTo>
                    <a:pt x="656" y="943"/>
                  </a:lnTo>
                  <a:lnTo>
                    <a:pt x="663" y="952"/>
                  </a:lnTo>
                  <a:lnTo>
                    <a:pt x="670" y="960"/>
                  </a:lnTo>
                  <a:lnTo>
                    <a:pt x="667" y="968"/>
                  </a:lnTo>
                  <a:lnTo>
                    <a:pt x="659" y="976"/>
                  </a:lnTo>
                  <a:lnTo>
                    <a:pt x="647" y="974"/>
                  </a:lnTo>
                  <a:lnTo>
                    <a:pt x="635" y="978"/>
                  </a:lnTo>
                  <a:lnTo>
                    <a:pt x="631" y="986"/>
                  </a:lnTo>
                  <a:lnTo>
                    <a:pt x="631" y="996"/>
                  </a:lnTo>
                  <a:lnTo>
                    <a:pt x="622" y="1001"/>
                  </a:lnTo>
                  <a:lnTo>
                    <a:pt x="615" y="1008"/>
                  </a:lnTo>
                  <a:lnTo>
                    <a:pt x="608" y="1016"/>
                  </a:lnTo>
                  <a:lnTo>
                    <a:pt x="608" y="1026"/>
                  </a:lnTo>
                  <a:lnTo>
                    <a:pt x="601" y="1034"/>
                  </a:lnTo>
                  <a:lnTo>
                    <a:pt x="608" y="1040"/>
                  </a:lnTo>
                  <a:lnTo>
                    <a:pt x="603" y="1049"/>
                  </a:lnTo>
                  <a:lnTo>
                    <a:pt x="608" y="1057"/>
                  </a:lnTo>
                  <a:lnTo>
                    <a:pt x="596" y="1061"/>
                  </a:lnTo>
                  <a:lnTo>
                    <a:pt x="590" y="1052"/>
                  </a:lnTo>
                  <a:lnTo>
                    <a:pt x="582" y="1048"/>
                  </a:lnTo>
                  <a:lnTo>
                    <a:pt x="575" y="1040"/>
                  </a:lnTo>
                  <a:lnTo>
                    <a:pt x="565" y="1034"/>
                  </a:lnTo>
                  <a:lnTo>
                    <a:pt x="552" y="1033"/>
                  </a:lnTo>
                  <a:lnTo>
                    <a:pt x="544" y="1026"/>
                  </a:lnTo>
                  <a:lnTo>
                    <a:pt x="533" y="1022"/>
                  </a:lnTo>
                  <a:lnTo>
                    <a:pt x="531" y="1015"/>
                  </a:lnTo>
                  <a:lnTo>
                    <a:pt x="530" y="1009"/>
                  </a:lnTo>
                  <a:lnTo>
                    <a:pt x="527" y="1001"/>
                  </a:lnTo>
                  <a:lnTo>
                    <a:pt x="520" y="994"/>
                  </a:lnTo>
                  <a:lnTo>
                    <a:pt x="509" y="998"/>
                  </a:lnTo>
                  <a:lnTo>
                    <a:pt x="496" y="1001"/>
                  </a:lnTo>
                  <a:lnTo>
                    <a:pt x="488" y="1006"/>
                  </a:lnTo>
                  <a:lnTo>
                    <a:pt x="477" y="1001"/>
                  </a:lnTo>
                  <a:lnTo>
                    <a:pt x="464" y="995"/>
                  </a:lnTo>
                  <a:lnTo>
                    <a:pt x="457" y="998"/>
                  </a:lnTo>
                  <a:lnTo>
                    <a:pt x="457" y="1008"/>
                  </a:lnTo>
                  <a:lnTo>
                    <a:pt x="452" y="1016"/>
                  </a:lnTo>
                  <a:lnTo>
                    <a:pt x="446" y="1026"/>
                  </a:lnTo>
                  <a:lnTo>
                    <a:pt x="450" y="1034"/>
                  </a:lnTo>
                  <a:lnTo>
                    <a:pt x="449" y="1042"/>
                  </a:lnTo>
                  <a:lnTo>
                    <a:pt x="447" y="1050"/>
                  </a:lnTo>
                  <a:lnTo>
                    <a:pt x="436" y="1055"/>
                  </a:lnTo>
                  <a:lnTo>
                    <a:pt x="424" y="1051"/>
                  </a:lnTo>
                  <a:lnTo>
                    <a:pt x="410" y="1051"/>
                  </a:lnTo>
                  <a:lnTo>
                    <a:pt x="406" y="1058"/>
                  </a:lnTo>
                  <a:lnTo>
                    <a:pt x="393" y="1061"/>
                  </a:lnTo>
                  <a:lnTo>
                    <a:pt x="386" y="1067"/>
                  </a:lnTo>
                  <a:lnTo>
                    <a:pt x="372" y="1065"/>
                  </a:lnTo>
                  <a:lnTo>
                    <a:pt x="366" y="1059"/>
                  </a:lnTo>
                  <a:lnTo>
                    <a:pt x="354" y="1061"/>
                  </a:lnTo>
                  <a:lnTo>
                    <a:pt x="340" y="1062"/>
                  </a:lnTo>
                  <a:lnTo>
                    <a:pt x="329" y="1060"/>
                  </a:lnTo>
                  <a:lnTo>
                    <a:pt x="316" y="1057"/>
                  </a:lnTo>
                  <a:lnTo>
                    <a:pt x="303" y="1055"/>
                  </a:lnTo>
                  <a:lnTo>
                    <a:pt x="297" y="1050"/>
                  </a:lnTo>
                  <a:lnTo>
                    <a:pt x="297" y="1039"/>
                  </a:lnTo>
                  <a:lnTo>
                    <a:pt x="297" y="1030"/>
                  </a:lnTo>
                  <a:lnTo>
                    <a:pt x="285" y="1029"/>
                  </a:lnTo>
                  <a:lnTo>
                    <a:pt x="273" y="1027"/>
                  </a:lnTo>
                  <a:lnTo>
                    <a:pt x="262" y="1021"/>
                  </a:lnTo>
                  <a:lnTo>
                    <a:pt x="248" y="1019"/>
                  </a:lnTo>
                  <a:lnTo>
                    <a:pt x="236" y="1017"/>
                  </a:lnTo>
                  <a:lnTo>
                    <a:pt x="231" y="1009"/>
                  </a:lnTo>
                  <a:lnTo>
                    <a:pt x="228" y="999"/>
                  </a:lnTo>
                  <a:lnTo>
                    <a:pt x="225" y="990"/>
                  </a:lnTo>
                  <a:lnTo>
                    <a:pt x="225" y="980"/>
                  </a:lnTo>
                  <a:lnTo>
                    <a:pt x="220" y="973"/>
                  </a:lnTo>
                  <a:lnTo>
                    <a:pt x="206" y="974"/>
                  </a:lnTo>
                  <a:lnTo>
                    <a:pt x="194" y="972"/>
                  </a:lnTo>
                  <a:lnTo>
                    <a:pt x="187" y="964"/>
                  </a:lnTo>
                  <a:lnTo>
                    <a:pt x="175" y="959"/>
                  </a:lnTo>
                  <a:lnTo>
                    <a:pt x="162" y="958"/>
                  </a:lnTo>
                  <a:lnTo>
                    <a:pt x="151" y="954"/>
                  </a:lnTo>
                  <a:lnTo>
                    <a:pt x="139" y="958"/>
                  </a:lnTo>
                  <a:lnTo>
                    <a:pt x="126" y="962"/>
                  </a:lnTo>
                  <a:lnTo>
                    <a:pt x="113" y="966"/>
                  </a:lnTo>
                  <a:lnTo>
                    <a:pt x="101" y="968"/>
                  </a:lnTo>
                  <a:lnTo>
                    <a:pt x="92" y="965"/>
                  </a:lnTo>
                  <a:lnTo>
                    <a:pt x="81" y="959"/>
                  </a:lnTo>
                  <a:lnTo>
                    <a:pt x="80" y="949"/>
                  </a:lnTo>
                  <a:lnTo>
                    <a:pt x="77" y="942"/>
                  </a:lnTo>
                  <a:lnTo>
                    <a:pt x="70" y="938"/>
                  </a:lnTo>
                  <a:lnTo>
                    <a:pt x="57" y="941"/>
                  </a:lnTo>
                  <a:lnTo>
                    <a:pt x="48" y="933"/>
                  </a:lnTo>
                  <a:lnTo>
                    <a:pt x="39" y="939"/>
                  </a:lnTo>
                  <a:lnTo>
                    <a:pt x="27" y="935"/>
                  </a:lnTo>
                  <a:lnTo>
                    <a:pt x="25" y="927"/>
                  </a:lnTo>
                  <a:lnTo>
                    <a:pt x="23" y="918"/>
                  </a:lnTo>
                  <a:lnTo>
                    <a:pt x="17" y="909"/>
                  </a:lnTo>
                  <a:lnTo>
                    <a:pt x="0" y="907"/>
                  </a:lnTo>
                  <a:lnTo>
                    <a:pt x="9" y="894"/>
                  </a:lnTo>
                  <a:lnTo>
                    <a:pt x="17" y="889"/>
                  </a:lnTo>
                  <a:lnTo>
                    <a:pt x="27" y="885"/>
                  </a:lnTo>
                  <a:lnTo>
                    <a:pt x="39" y="884"/>
                  </a:lnTo>
                  <a:lnTo>
                    <a:pt x="48" y="877"/>
                  </a:lnTo>
                  <a:lnTo>
                    <a:pt x="50" y="871"/>
                  </a:lnTo>
                  <a:lnTo>
                    <a:pt x="38" y="868"/>
                  </a:lnTo>
                  <a:lnTo>
                    <a:pt x="32" y="862"/>
                  </a:lnTo>
                  <a:lnTo>
                    <a:pt x="48" y="850"/>
                  </a:lnTo>
                  <a:lnTo>
                    <a:pt x="59" y="847"/>
                  </a:lnTo>
                  <a:lnTo>
                    <a:pt x="70" y="848"/>
                  </a:lnTo>
                  <a:lnTo>
                    <a:pt x="80" y="842"/>
                  </a:lnTo>
                  <a:lnTo>
                    <a:pt x="83" y="833"/>
                  </a:lnTo>
                  <a:lnTo>
                    <a:pt x="95" y="830"/>
                  </a:lnTo>
                  <a:lnTo>
                    <a:pt x="95" y="822"/>
                  </a:lnTo>
                  <a:lnTo>
                    <a:pt x="106" y="817"/>
                  </a:lnTo>
                  <a:lnTo>
                    <a:pt x="113" y="810"/>
                  </a:lnTo>
                  <a:lnTo>
                    <a:pt x="125" y="806"/>
                  </a:lnTo>
                  <a:lnTo>
                    <a:pt x="134" y="801"/>
                  </a:lnTo>
                  <a:lnTo>
                    <a:pt x="144" y="797"/>
                  </a:lnTo>
                  <a:lnTo>
                    <a:pt x="153" y="791"/>
                  </a:lnTo>
                  <a:lnTo>
                    <a:pt x="158" y="784"/>
                  </a:lnTo>
                  <a:lnTo>
                    <a:pt x="157" y="774"/>
                  </a:lnTo>
                  <a:lnTo>
                    <a:pt x="160" y="765"/>
                  </a:lnTo>
                  <a:lnTo>
                    <a:pt x="166" y="757"/>
                  </a:lnTo>
                  <a:lnTo>
                    <a:pt x="165" y="749"/>
                  </a:lnTo>
                  <a:lnTo>
                    <a:pt x="155" y="743"/>
                  </a:lnTo>
                  <a:lnTo>
                    <a:pt x="157" y="734"/>
                  </a:lnTo>
                  <a:lnTo>
                    <a:pt x="160" y="727"/>
                  </a:lnTo>
                  <a:lnTo>
                    <a:pt x="172" y="726"/>
                  </a:lnTo>
                  <a:lnTo>
                    <a:pt x="183" y="727"/>
                  </a:lnTo>
                  <a:lnTo>
                    <a:pt x="192" y="734"/>
                  </a:lnTo>
                  <a:lnTo>
                    <a:pt x="203" y="733"/>
                  </a:lnTo>
                  <a:lnTo>
                    <a:pt x="215" y="734"/>
                  </a:lnTo>
                  <a:lnTo>
                    <a:pt x="228" y="734"/>
                  </a:lnTo>
                  <a:lnTo>
                    <a:pt x="239" y="737"/>
                  </a:lnTo>
                  <a:lnTo>
                    <a:pt x="253" y="739"/>
                  </a:lnTo>
                  <a:lnTo>
                    <a:pt x="266" y="739"/>
                  </a:lnTo>
                  <a:lnTo>
                    <a:pt x="278" y="737"/>
                  </a:lnTo>
                  <a:lnTo>
                    <a:pt x="290" y="734"/>
                  </a:lnTo>
                  <a:lnTo>
                    <a:pt x="299" y="729"/>
                  </a:lnTo>
                  <a:lnTo>
                    <a:pt x="292" y="721"/>
                  </a:lnTo>
                  <a:lnTo>
                    <a:pt x="291" y="712"/>
                  </a:lnTo>
                  <a:lnTo>
                    <a:pt x="301" y="713"/>
                  </a:lnTo>
                  <a:lnTo>
                    <a:pt x="313" y="715"/>
                  </a:lnTo>
                  <a:lnTo>
                    <a:pt x="323" y="709"/>
                  </a:lnTo>
                  <a:lnTo>
                    <a:pt x="336" y="708"/>
                  </a:lnTo>
                  <a:lnTo>
                    <a:pt x="340" y="702"/>
                  </a:lnTo>
                  <a:lnTo>
                    <a:pt x="348" y="694"/>
                  </a:lnTo>
                  <a:lnTo>
                    <a:pt x="350" y="686"/>
                  </a:lnTo>
                  <a:lnTo>
                    <a:pt x="340" y="681"/>
                  </a:lnTo>
                  <a:lnTo>
                    <a:pt x="347" y="675"/>
                  </a:lnTo>
                  <a:lnTo>
                    <a:pt x="358" y="673"/>
                  </a:lnTo>
                  <a:lnTo>
                    <a:pt x="369" y="675"/>
                  </a:lnTo>
                  <a:lnTo>
                    <a:pt x="382" y="676"/>
                  </a:lnTo>
                  <a:lnTo>
                    <a:pt x="393" y="682"/>
                  </a:lnTo>
                  <a:lnTo>
                    <a:pt x="403" y="686"/>
                  </a:lnTo>
                  <a:lnTo>
                    <a:pt x="414" y="690"/>
                  </a:lnTo>
                  <a:lnTo>
                    <a:pt x="421" y="697"/>
                  </a:lnTo>
                  <a:lnTo>
                    <a:pt x="434" y="699"/>
                  </a:lnTo>
                  <a:lnTo>
                    <a:pt x="443" y="703"/>
                  </a:lnTo>
                  <a:lnTo>
                    <a:pt x="452" y="709"/>
                  </a:lnTo>
                  <a:lnTo>
                    <a:pt x="466" y="708"/>
                  </a:lnTo>
                  <a:lnTo>
                    <a:pt x="478" y="706"/>
                  </a:lnTo>
                  <a:lnTo>
                    <a:pt x="491" y="703"/>
                  </a:lnTo>
                  <a:lnTo>
                    <a:pt x="499" y="698"/>
                  </a:lnTo>
                  <a:lnTo>
                    <a:pt x="489" y="692"/>
                  </a:lnTo>
                  <a:lnTo>
                    <a:pt x="495" y="684"/>
                  </a:lnTo>
                  <a:lnTo>
                    <a:pt x="508" y="685"/>
                  </a:lnTo>
                  <a:lnTo>
                    <a:pt x="523" y="686"/>
                  </a:lnTo>
                  <a:lnTo>
                    <a:pt x="530" y="681"/>
                  </a:lnTo>
                  <a:lnTo>
                    <a:pt x="530" y="671"/>
                  </a:lnTo>
                  <a:lnTo>
                    <a:pt x="530" y="661"/>
                  </a:lnTo>
                  <a:lnTo>
                    <a:pt x="533" y="652"/>
                  </a:lnTo>
                  <a:lnTo>
                    <a:pt x="544" y="654"/>
                  </a:lnTo>
                  <a:lnTo>
                    <a:pt x="547" y="648"/>
                  </a:lnTo>
                  <a:lnTo>
                    <a:pt x="540" y="641"/>
                  </a:lnTo>
                  <a:lnTo>
                    <a:pt x="545" y="635"/>
                  </a:lnTo>
                  <a:lnTo>
                    <a:pt x="550" y="627"/>
                  </a:lnTo>
                  <a:lnTo>
                    <a:pt x="561" y="621"/>
                  </a:lnTo>
                  <a:lnTo>
                    <a:pt x="572" y="616"/>
                  </a:lnTo>
                  <a:lnTo>
                    <a:pt x="583" y="610"/>
                  </a:lnTo>
                  <a:lnTo>
                    <a:pt x="586" y="603"/>
                  </a:lnTo>
                  <a:lnTo>
                    <a:pt x="594" y="598"/>
                  </a:lnTo>
                  <a:lnTo>
                    <a:pt x="605" y="592"/>
                  </a:lnTo>
                  <a:lnTo>
                    <a:pt x="611" y="584"/>
                  </a:lnTo>
                  <a:lnTo>
                    <a:pt x="617" y="575"/>
                  </a:lnTo>
                  <a:lnTo>
                    <a:pt x="612" y="569"/>
                  </a:lnTo>
                  <a:lnTo>
                    <a:pt x="605" y="560"/>
                  </a:lnTo>
                  <a:lnTo>
                    <a:pt x="615" y="555"/>
                  </a:lnTo>
                  <a:lnTo>
                    <a:pt x="624" y="547"/>
                  </a:lnTo>
                  <a:lnTo>
                    <a:pt x="632" y="540"/>
                  </a:lnTo>
                  <a:lnTo>
                    <a:pt x="639" y="532"/>
                  </a:lnTo>
                  <a:lnTo>
                    <a:pt x="640" y="523"/>
                  </a:lnTo>
                  <a:lnTo>
                    <a:pt x="642" y="516"/>
                  </a:lnTo>
                  <a:lnTo>
                    <a:pt x="653" y="511"/>
                  </a:lnTo>
                  <a:lnTo>
                    <a:pt x="666" y="509"/>
                  </a:lnTo>
                  <a:lnTo>
                    <a:pt x="670" y="501"/>
                  </a:lnTo>
                  <a:lnTo>
                    <a:pt x="681" y="496"/>
                  </a:lnTo>
                  <a:lnTo>
                    <a:pt x="687" y="488"/>
                  </a:lnTo>
                  <a:lnTo>
                    <a:pt x="689" y="480"/>
                  </a:lnTo>
                  <a:lnTo>
                    <a:pt x="685" y="471"/>
                  </a:lnTo>
                  <a:lnTo>
                    <a:pt x="681" y="462"/>
                  </a:lnTo>
                  <a:lnTo>
                    <a:pt x="671" y="455"/>
                  </a:lnTo>
                  <a:lnTo>
                    <a:pt x="680" y="450"/>
                  </a:lnTo>
                  <a:lnTo>
                    <a:pt x="691" y="444"/>
                  </a:lnTo>
                  <a:lnTo>
                    <a:pt x="694" y="435"/>
                  </a:lnTo>
                  <a:lnTo>
                    <a:pt x="698" y="426"/>
                  </a:lnTo>
                  <a:lnTo>
                    <a:pt x="699" y="417"/>
                  </a:lnTo>
                  <a:lnTo>
                    <a:pt x="706" y="409"/>
                  </a:lnTo>
                  <a:lnTo>
                    <a:pt x="701" y="401"/>
                  </a:lnTo>
                  <a:lnTo>
                    <a:pt x="692" y="394"/>
                  </a:lnTo>
                  <a:lnTo>
                    <a:pt x="695" y="385"/>
                  </a:lnTo>
                  <a:lnTo>
                    <a:pt x="699" y="376"/>
                  </a:lnTo>
                  <a:lnTo>
                    <a:pt x="709" y="370"/>
                  </a:lnTo>
                  <a:lnTo>
                    <a:pt x="717" y="363"/>
                  </a:lnTo>
                  <a:lnTo>
                    <a:pt x="726" y="358"/>
                  </a:lnTo>
                  <a:lnTo>
                    <a:pt x="733" y="351"/>
                  </a:lnTo>
                  <a:lnTo>
                    <a:pt x="741" y="343"/>
                  </a:lnTo>
                  <a:lnTo>
                    <a:pt x="747" y="335"/>
                  </a:lnTo>
                  <a:lnTo>
                    <a:pt x="751" y="326"/>
                  </a:lnTo>
                  <a:lnTo>
                    <a:pt x="758" y="318"/>
                  </a:lnTo>
                  <a:lnTo>
                    <a:pt x="769" y="314"/>
                  </a:lnTo>
                  <a:lnTo>
                    <a:pt x="782" y="312"/>
                  </a:lnTo>
                  <a:lnTo>
                    <a:pt x="791" y="306"/>
                  </a:lnTo>
                  <a:lnTo>
                    <a:pt x="798" y="301"/>
                  </a:lnTo>
                  <a:lnTo>
                    <a:pt x="796" y="292"/>
                  </a:lnTo>
                  <a:lnTo>
                    <a:pt x="786" y="285"/>
                  </a:lnTo>
                  <a:lnTo>
                    <a:pt x="796" y="281"/>
                  </a:lnTo>
                  <a:lnTo>
                    <a:pt x="808" y="277"/>
                  </a:lnTo>
                  <a:lnTo>
                    <a:pt x="818" y="271"/>
                  </a:lnTo>
                  <a:lnTo>
                    <a:pt x="826" y="264"/>
                  </a:lnTo>
                  <a:lnTo>
                    <a:pt x="833" y="256"/>
                  </a:lnTo>
                  <a:lnTo>
                    <a:pt x="838" y="247"/>
                  </a:lnTo>
                  <a:lnTo>
                    <a:pt x="840" y="238"/>
                  </a:lnTo>
                  <a:lnTo>
                    <a:pt x="851" y="233"/>
                  </a:lnTo>
                  <a:lnTo>
                    <a:pt x="864" y="232"/>
                  </a:lnTo>
                  <a:lnTo>
                    <a:pt x="863" y="228"/>
                  </a:lnTo>
                  <a:lnTo>
                    <a:pt x="863" y="219"/>
                  </a:lnTo>
                  <a:lnTo>
                    <a:pt x="863" y="210"/>
                  </a:lnTo>
                  <a:lnTo>
                    <a:pt x="864" y="200"/>
                  </a:lnTo>
                  <a:lnTo>
                    <a:pt x="865" y="191"/>
                  </a:lnTo>
                  <a:lnTo>
                    <a:pt x="870" y="182"/>
                  </a:lnTo>
                  <a:lnTo>
                    <a:pt x="868" y="173"/>
                  </a:lnTo>
                  <a:lnTo>
                    <a:pt x="858" y="167"/>
                  </a:lnTo>
                  <a:lnTo>
                    <a:pt x="856" y="160"/>
                  </a:lnTo>
                  <a:lnTo>
                    <a:pt x="856" y="153"/>
                  </a:lnTo>
                  <a:lnTo>
                    <a:pt x="858" y="144"/>
                  </a:lnTo>
                  <a:lnTo>
                    <a:pt x="867" y="143"/>
                  </a:lnTo>
                  <a:lnTo>
                    <a:pt x="865" y="136"/>
                  </a:lnTo>
                  <a:lnTo>
                    <a:pt x="879" y="134"/>
                  </a:lnTo>
                  <a:lnTo>
                    <a:pt x="889" y="132"/>
                  </a:lnTo>
                  <a:lnTo>
                    <a:pt x="896" y="141"/>
                  </a:lnTo>
                  <a:lnTo>
                    <a:pt x="906" y="145"/>
                  </a:lnTo>
                  <a:lnTo>
                    <a:pt x="917" y="150"/>
                  </a:lnTo>
                  <a:lnTo>
                    <a:pt x="926" y="147"/>
                  </a:lnTo>
                  <a:lnTo>
                    <a:pt x="928" y="137"/>
                  </a:lnTo>
                  <a:lnTo>
                    <a:pt x="931" y="128"/>
                  </a:lnTo>
                  <a:lnTo>
                    <a:pt x="937" y="119"/>
                  </a:lnTo>
                  <a:lnTo>
                    <a:pt x="947" y="118"/>
                  </a:lnTo>
                  <a:lnTo>
                    <a:pt x="959" y="119"/>
                  </a:lnTo>
                  <a:lnTo>
                    <a:pt x="970" y="120"/>
                  </a:lnTo>
                  <a:lnTo>
                    <a:pt x="983" y="123"/>
                  </a:lnTo>
                  <a:lnTo>
                    <a:pt x="995" y="127"/>
                  </a:lnTo>
                  <a:lnTo>
                    <a:pt x="1008" y="131"/>
                  </a:lnTo>
                  <a:lnTo>
                    <a:pt x="1018" y="131"/>
                  </a:lnTo>
                  <a:lnTo>
                    <a:pt x="1023" y="123"/>
                  </a:lnTo>
                  <a:lnTo>
                    <a:pt x="1036" y="120"/>
                  </a:lnTo>
                  <a:lnTo>
                    <a:pt x="1049" y="117"/>
                  </a:lnTo>
                  <a:lnTo>
                    <a:pt x="1061" y="117"/>
                  </a:lnTo>
                  <a:lnTo>
                    <a:pt x="1074" y="115"/>
                  </a:lnTo>
                  <a:lnTo>
                    <a:pt x="1079" y="107"/>
                  </a:lnTo>
                  <a:lnTo>
                    <a:pt x="1088" y="99"/>
                  </a:lnTo>
                  <a:lnTo>
                    <a:pt x="1102" y="99"/>
                  </a:lnTo>
                  <a:lnTo>
                    <a:pt x="1113" y="96"/>
                  </a:lnTo>
                  <a:lnTo>
                    <a:pt x="1121" y="89"/>
                  </a:lnTo>
                  <a:lnTo>
                    <a:pt x="1127" y="97"/>
                  </a:lnTo>
                  <a:lnTo>
                    <a:pt x="1134" y="92"/>
                  </a:lnTo>
                  <a:lnTo>
                    <a:pt x="1139" y="84"/>
                  </a:lnTo>
                  <a:lnTo>
                    <a:pt x="1148" y="77"/>
                  </a:lnTo>
                  <a:lnTo>
                    <a:pt x="1160" y="78"/>
                  </a:lnTo>
                  <a:lnTo>
                    <a:pt x="1173" y="76"/>
                  </a:lnTo>
                  <a:lnTo>
                    <a:pt x="1184" y="76"/>
                  </a:lnTo>
                  <a:lnTo>
                    <a:pt x="1197" y="80"/>
                  </a:lnTo>
                  <a:lnTo>
                    <a:pt x="1205" y="74"/>
                  </a:lnTo>
                  <a:lnTo>
                    <a:pt x="1218" y="70"/>
                  </a:lnTo>
                  <a:lnTo>
                    <a:pt x="1229" y="66"/>
                  </a:lnTo>
                  <a:lnTo>
                    <a:pt x="1242" y="62"/>
                  </a:lnTo>
                  <a:lnTo>
                    <a:pt x="1251" y="60"/>
                  </a:lnTo>
                  <a:lnTo>
                    <a:pt x="1262" y="57"/>
                  </a:lnTo>
                  <a:lnTo>
                    <a:pt x="1275" y="58"/>
                  </a:lnTo>
                  <a:lnTo>
                    <a:pt x="1286" y="59"/>
                  </a:lnTo>
                  <a:lnTo>
                    <a:pt x="1288" y="68"/>
                  </a:lnTo>
                  <a:lnTo>
                    <a:pt x="1296" y="64"/>
                  </a:lnTo>
                  <a:lnTo>
                    <a:pt x="1299" y="58"/>
                  </a:lnTo>
                  <a:lnTo>
                    <a:pt x="1309" y="55"/>
                  </a:lnTo>
                  <a:lnTo>
                    <a:pt x="1323" y="54"/>
                  </a:lnTo>
                  <a:lnTo>
                    <a:pt x="1335" y="53"/>
                  </a:lnTo>
                  <a:lnTo>
                    <a:pt x="1348" y="52"/>
                  </a:lnTo>
                  <a:lnTo>
                    <a:pt x="1360" y="51"/>
                  </a:lnTo>
                  <a:lnTo>
                    <a:pt x="1373" y="49"/>
                  </a:lnTo>
                  <a:lnTo>
                    <a:pt x="1387" y="47"/>
                  </a:lnTo>
                  <a:lnTo>
                    <a:pt x="1399" y="46"/>
                  </a:lnTo>
                  <a:lnTo>
                    <a:pt x="1412" y="44"/>
                  </a:lnTo>
                  <a:lnTo>
                    <a:pt x="1425" y="45"/>
                  </a:lnTo>
                  <a:lnTo>
                    <a:pt x="1437" y="42"/>
                  </a:lnTo>
                  <a:lnTo>
                    <a:pt x="1450" y="40"/>
                  </a:lnTo>
                  <a:lnTo>
                    <a:pt x="1460" y="35"/>
                  </a:lnTo>
                  <a:lnTo>
                    <a:pt x="1472" y="33"/>
                  </a:lnTo>
                  <a:lnTo>
                    <a:pt x="1485" y="29"/>
                  </a:lnTo>
                  <a:lnTo>
                    <a:pt x="1496" y="27"/>
                  </a:lnTo>
                  <a:lnTo>
                    <a:pt x="1502" y="34"/>
                  </a:lnTo>
                  <a:lnTo>
                    <a:pt x="1493" y="42"/>
                  </a:lnTo>
                  <a:lnTo>
                    <a:pt x="1503" y="46"/>
                  </a:lnTo>
                  <a:lnTo>
                    <a:pt x="1514" y="39"/>
                  </a:lnTo>
                  <a:lnTo>
                    <a:pt x="1524" y="33"/>
                  </a:lnTo>
                  <a:lnTo>
                    <a:pt x="1524" y="39"/>
                  </a:lnTo>
                  <a:lnTo>
                    <a:pt x="1521" y="51"/>
                  </a:lnTo>
                  <a:lnTo>
                    <a:pt x="1511" y="56"/>
                  </a:lnTo>
                  <a:lnTo>
                    <a:pt x="1520" y="62"/>
                  </a:lnTo>
                  <a:lnTo>
                    <a:pt x="1532" y="59"/>
                  </a:lnTo>
                  <a:lnTo>
                    <a:pt x="1538" y="66"/>
                  </a:lnTo>
                  <a:lnTo>
                    <a:pt x="1543" y="75"/>
                  </a:lnTo>
                  <a:lnTo>
                    <a:pt x="1550" y="81"/>
                  </a:lnTo>
                  <a:lnTo>
                    <a:pt x="1557" y="89"/>
                  </a:lnTo>
                  <a:lnTo>
                    <a:pt x="1570" y="86"/>
                  </a:lnTo>
                  <a:lnTo>
                    <a:pt x="1578" y="91"/>
                  </a:lnTo>
                  <a:lnTo>
                    <a:pt x="1590" y="89"/>
                  </a:lnTo>
                  <a:lnTo>
                    <a:pt x="1602" y="85"/>
                  </a:lnTo>
                  <a:lnTo>
                    <a:pt x="1615" y="82"/>
                  </a:lnTo>
                  <a:lnTo>
                    <a:pt x="1627" y="78"/>
                  </a:lnTo>
                  <a:lnTo>
                    <a:pt x="1639" y="74"/>
                  </a:lnTo>
                  <a:lnTo>
                    <a:pt x="1651" y="71"/>
                  </a:lnTo>
                  <a:lnTo>
                    <a:pt x="1661" y="74"/>
                  </a:lnTo>
                  <a:lnTo>
                    <a:pt x="1669" y="79"/>
                  </a:lnTo>
                  <a:lnTo>
                    <a:pt x="1676" y="87"/>
                  </a:lnTo>
                  <a:lnTo>
                    <a:pt x="1679" y="96"/>
                  </a:lnTo>
                  <a:lnTo>
                    <a:pt x="1683" y="105"/>
                  </a:lnTo>
                  <a:lnTo>
                    <a:pt x="1687" y="114"/>
                  </a:lnTo>
                  <a:lnTo>
                    <a:pt x="1693" y="112"/>
                  </a:lnTo>
                  <a:lnTo>
                    <a:pt x="1703" y="108"/>
                  </a:lnTo>
                  <a:lnTo>
                    <a:pt x="1701" y="118"/>
                  </a:lnTo>
                  <a:lnTo>
                    <a:pt x="1703" y="124"/>
                  </a:lnTo>
                  <a:lnTo>
                    <a:pt x="1715" y="120"/>
                  </a:lnTo>
                  <a:lnTo>
                    <a:pt x="1728" y="124"/>
                  </a:lnTo>
                  <a:lnTo>
                    <a:pt x="1731" y="133"/>
                  </a:lnTo>
                  <a:lnTo>
                    <a:pt x="1729" y="143"/>
                  </a:lnTo>
                  <a:lnTo>
                    <a:pt x="1732" y="151"/>
                  </a:lnTo>
                  <a:lnTo>
                    <a:pt x="1745" y="152"/>
                  </a:lnTo>
                  <a:lnTo>
                    <a:pt x="1757" y="148"/>
                  </a:lnTo>
                  <a:lnTo>
                    <a:pt x="1769" y="144"/>
                  </a:lnTo>
                  <a:lnTo>
                    <a:pt x="1776" y="152"/>
                  </a:lnTo>
                  <a:lnTo>
                    <a:pt x="1784" y="158"/>
                  </a:lnTo>
                  <a:lnTo>
                    <a:pt x="1792" y="150"/>
                  </a:lnTo>
                  <a:lnTo>
                    <a:pt x="1795" y="142"/>
                  </a:lnTo>
                  <a:lnTo>
                    <a:pt x="1805" y="137"/>
                  </a:lnTo>
                  <a:lnTo>
                    <a:pt x="1817" y="138"/>
                  </a:lnTo>
                  <a:lnTo>
                    <a:pt x="1830" y="134"/>
                  </a:lnTo>
                  <a:lnTo>
                    <a:pt x="1840" y="127"/>
                  </a:lnTo>
                  <a:lnTo>
                    <a:pt x="1851" y="128"/>
                  </a:lnTo>
                  <a:lnTo>
                    <a:pt x="1862" y="131"/>
                  </a:lnTo>
                  <a:lnTo>
                    <a:pt x="1872" y="129"/>
                  </a:lnTo>
                  <a:lnTo>
                    <a:pt x="1879" y="137"/>
                  </a:lnTo>
                  <a:lnTo>
                    <a:pt x="1890" y="136"/>
                  </a:lnTo>
                  <a:lnTo>
                    <a:pt x="1903" y="139"/>
                  </a:lnTo>
                  <a:lnTo>
                    <a:pt x="1917" y="138"/>
                  </a:lnTo>
                  <a:lnTo>
                    <a:pt x="1917" y="146"/>
                  </a:lnTo>
                  <a:lnTo>
                    <a:pt x="1929" y="142"/>
                  </a:lnTo>
                  <a:lnTo>
                    <a:pt x="1942" y="138"/>
                  </a:lnTo>
                  <a:lnTo>
                    <a:pt x="1949" y="143"/>
                  </a:lnTo>
                  <a:lnTo>
                    <a:pt x="1960" y="148"/>
                  </a:lnTo>
                  <a:lnTo>
                    <a:pt x="1973" y="150"/>
                  </a:lnTo>
                  <a:lnTo>
                    <a:pt x="1987" y="152"/>
                  </a:lnTo>
                  <a:lnTo>
                    <a:pt x="1995" y="158"/>
                  </a:lnTo>
                  <a:lnTo>
                    <a:pt x="2003" y="165"/>
                  </a:lnTo>
                  <a:lnTo>
                    <a:pt x="2008" y="174"/>
                  </a:lnTo>
                  <a:lnTo>
                    <a:pt x="2005" y="183"/>
                  </a:lnTo>
                  <a:lnTo>
                    <a:pt x="1999" y="191"/>
                  </a:lnTo>
                  <a:lnTo>
                    <a:pt x="2010" y="197"/>
                  </a:lnTo>
                  <a:lnTo>
                    <a:pt x="2022" y="202"/>
                  </a:lnTo>
                  <a:lnTo>
                    <a:pt x="2031" y="206"/>
                  </a:lnTo>
                  <a:lnTo>
                    <a:pt x="2044" y="208"/>
                  </a:lnTo>
                  <a:lnTo>
                    <a:pt x="2056" y="206"/>
                  </a:lnTo>
                  <a:lnTo>
                    <a:pt x="2069" y="203"/>
                  </a:lnTo>
                  <a:lnTo>
                    <a:pt x="2076" y="195"/>
                  </a:lnTo>
                  <a:lnTo>
                    <a:pt x="2080" y="186"/>
                  </a:lnTo>
                  <a:lnTo>
                    <a:pt x="2084" y="178"/>
                  </a:lnTo>
                  <a:lnTo>
                    <a:pt x="2091" y="170"/>
                  </a:lnTo>
                  <a:lnTo>
                    <a:pt x="2098" y="163"/>
                  </a:lnTo>
                  <a:lnTo>
                    <a:pt x="2104" y="156"/>
                  </a:lnTo>
                  <a:lnTo>
                    <a:pt x="2114" y="153"/>
                  </a:lnTo>
                  <a:lnTo>
                    <a:pt x="2122" y="146"/>
                  </a:lnTo>
                  <a:lnTo>
                    <a:pt x="2133" y="144"/>
                  </a:lnTo>
                  <a:lnTo>
                    <a:pt x="2145" y="141"/>
                  </a:lnTo>
                  <a:lnTo>
                    <a:pt x="2156" y="147"/>
                  </a:lnTo>
                  <a:lnTo>
                    <a:pt x="2164" y="147"/>
                  </a:lnTo>
                  <a:lnTo>
                    <a:pt x="2173" y="141"/>
                  </a:lnTo>
                  <a:lnTo>
                    <a:pt x="2182" y="140"/>
                  </a:lnTo>
                  <a:lnTo>
                    <a:pt x="2185" y="131"/>
                  </a:lnTo>
                  <a:lnTo>
                    <a:pt x="2192" y="136"/>
                  </a:lnTo>
                  <a:lnTo>
                    <a:pt x="2205" y="133"/>
                  </a:lnTo>
                  <a:lnTo>
                    <a:pt x="2217" y="130"/>
                  </a:lnTo>
                  <a:lnTo>
                    <a:pt x="2214" y="119"/>
                  </a:lnTo>
                  <a:lnTo>
                    <a:pt x="2223" y="118"/>
                  </a:lnTo>
                  <a:lnTo>
                    <a:pt x="2233" y="116"/>
                  </a:lnTo>
                  <a:lnTo>
                    <a:pt x="2240" y="108"/>
                  </a:lnTo>
                  <a:lnTo>
                    <a:pt x="2252" y="112"/>
                  </a:lnTo>
                  <a:lnTo>
                    <a:pt x="2263" y="114"/>
                  </a:lnTo>
                  <a:lnTo>
                    <a:pt x="2261" y="103"/>
                  </a:lnTo>
                  <a:lnTo>
                    <a:pt x="2275" y="102"/>
                  </a:lnTo>
                  <a:lnTo>
                    <a:pt x="2284" y="109"/>
                  </a:lnTo>
                  <a:lnTo>
                    <a:pt x="2294" y="115"/>
                  </a:lnTo>
                  <a:lnTo>
                    <a:pt x="2305" y="120"/>
                  </a:lnTo>
                  <a:lnTo>
                    <a:pt x="2317" y="124"/>
                  </a:lnTo>
                  <a:lnTo>
                    <a:pt x="2328" y="130"/>
                  </a:lnTo>
                  <a:lnTo>
                    <a:pt x="2337" y="127"/>
                  </a:lnTo>
                  <a:lnTo>
                    <a:pt x="2349" y="129"/>
                  </a:lnTo>
                  <a:lnTo>
                    <a:pt x="2361" y="133"/>
                  </a:lnTo>
                  <a:lnTo>
                    <a:pt x="2372" y="134"/>
                  </a:lnTo>
                  <a:lnTo>
                    <a:pt x="2384" y="137"/>
                  </a:lnTo>
                  <a:lnTo>
                    <a:pt x="2393" y="133"/>
                  </a:lnTo>
                  <a:lnTo>
                    <a:pt x="2403" y="132"/>
                  </a:lnTo>
                  <a:lnTo>
                    <a:pt x="2395" y="128"/>
                  </a:lnTo>
                  <a:lnTo>
                    <a:pt x="2403" y="121"/>
                  </a:lnTo>
                  <a:lnTo>
                    <a:pt x="2414" y="117"/>
                  </a:lnTo>
                  <a:lnTo>
                    <a:pt x="2417" y="110"/>
                  </a:lnTo>
                  <a:lnTo>
                    <a:pt x="2409" y="103"/>
                  </a:lnTo>
                  <a:lnTo>
                    <a:pt x="2413" y="95"/>
                  </a:lnTo>
                  <a:lnTo>
                    <a:pt x="2421" y="95"/>
                  </a:lnTo>
                  <a:lnTo>
                    <a:pt x="2424" y="87"/>
                  </a:lnTo>
                  <a:lnTo>
                    <a:pt x="2424" y="81"/>
                  </a:lnTo>
                  <a:lnTo>
                    <a:pt x="2414" y="78"/>
                  </a:lnTo>
                  <a:lnTo>
                    <a:pt x="2423" y="69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17880" y="4856040"/>
              <a:ext cx="1330200" cy="1117800"/>
            </a:xfrm>
            <a:custGeom>
              <a:avLst/>
              <a:gdLst/>
              <a:ahLst/>
              <a:rect l="l" t="t" r="r" b="b"/>
              <a:pathLst>
                <a:path w="2514" h="1408">
                  <a:moveTo>
                    <a:pt x="877" y="243"/>
                  </a:moveTo>
                  <a:lnTo>
                    <a:pt x="889" y="246"/>
                  </a:lnTo>
                  <a:lnTo>
                    <a:pt x="901" y="251"/>
                  </a:lnTo>
                  <a:lnTo>
                    <a:pt x="912" y="249"/>
                  </a:lnTo>
                  <a:lnTo>
                    <a:pt x="922" y="250"/>
                  </a:lnTo>
                  <a:lnTo>
                    <a:pt x="924" y="240"/>
                  </a:lnTo>
                  <a:lnTo>
                    <a:pt x="943" y="233"/>
                  </a:lnTo>
                  <a:lnTo>
                    <a:pt x="954" y="236"/>
                  </a:lnTo>
                  <a:lnTo>
                    <a:pt x="965" y="232"/>
                  </a:lnTo>
                  <a:lnTo>
                    <a:pt x="976" y="236"/>
                  </a:lnTo>
                  <a:lnTo>
                    <a:pt x="982" y="245"/>
                  </a:lnTo>
                  <a:lnTo>
                    <a:pt x="989" y="253"/>
                  </a:lnTo>
                  <a:lnTo>
                    <a:pt x="991" y="263"/>
                  </a:lnTo>
                  <a:lnTo>
                    <a:pt x="994" y="271"/>
                  </a:lnTo>
                  <a:lnTo>
                    <a:pt x="1004" y="267"/>
                  </a:lnTo>
                  <a:lnTo>
                    <a:pt x="1015" y="274"/>
                  </a:lnTo>
                  <a:lnTo>
                    <a:pt x="1024" y="267"/>
                  </a:lnTo>
                  <a:lnTo>
                    <a:pt x="1031" y="258"/>
                  </a:lnTo>
                  <a:lnTo>
                    <a:pt x="1031" y="250"/>
                  </a:lnTo>
                  <a:lnTo>
                    <a:pt x="1018" y="253"/>
                  </a:lnTo>
                  <a:lnTo>
                    <a:pt x="1014" y="265"/>
                  </a:lnTo>
                  <a:lnTo>
                    <a:pt x="1012" y="259"/>
                  </a:lnTo>
                  <a:lnTo>
                    <a:pt x="1000" y="253"/>
                  </a:lnTo>
                  <a:lnTo>
                    <a:pt x="1001" y="244"/>
                  </a:lnTo>
                  <a:lnTo>
                    <a:pt x="998" y="234"/>
                  </a:lnTo>
                  <a:lnTo>
                    <a:pt x="996" y="225"/>
                  </a:lnTo>
                  <a:lnTo>
                    <a:pt x="991" y="217"/>
                  </a:lnTo>
                  <a:lnTo>
                    <a:pt x="986" y="208"/>
                  </a:lnTo>
                  <a:lnTo>
                    <a:pt x="989" y="199"/>
                  </a:lnTo>
                  <a:lnTo>
                    <a:pt x="1000" y="196"/>
                  </a:lnTo>
                  <a:lnTo>
                    <a:pt x="1012" y="196"/>
                  </a:lnTo>
                  <a:lnTo>
                    <a:pt x="1024" y="190"/>
                  </a:lnTo>
                  <a:lnTo>
                    <a:pt x="1035" y="189"/>
                  </a:lnTo>
                  <a:lnTo>
                    <a:pt x="1049" y="190"/>
                  </a:lnTo>
                  <a:lnTo>
                    <a:pt x="1046" y="200"/>
                  </a:lnTo>
                  <a:lnTo>
                    <a:pt x="1056" y="202"/>
                  </a:lnTo>
                  <a:lnTo>
                    <a:pt x="1070" y="202"/>
                  </a:lnTo>
                  <a:lnTo>
                    <a:pt x="1074" y="194"/>
                  </a:lnTo>
                  <a:lnTo>
                    <a:pt x="1078" y="186"/>
                  </a:lnTo>
                  <a:lnTo>
                    <a:pt x="1081" y="196"/>
                  </a:lnTo>
                  <a:lnTo>
                    <a:pt x="1091" y="197"/>
                  </a:lnTo>
                  <a:lnTo>
                    <a:pt x="1102" y="193"/>
                  </a:lnTo>
                  <a:lnTo>
                    <a:pt x="1107" y="185"/>
                  </a:lnTo>
                  <a:lnTo>
                    <a:pt x="1117" y="179"/>
                  </a:lnTo>
                  <a:lnTo>
                    <a:pt x="1128" y="174"/>
                  </a:lnTo>
                  <a:lnTo>
                    <a:pt x="1135" y="168"/>
                  </a:lnTo>
                  <a:lnTo>
                    <a:pt x="1148" y="166"/>
                  </a:lnTo>
                  <a:lnTo>
                    <a:pt x="1162" y="168"/>
                  </a:lnTo>
                  <a:lnTo>
                    <a:pt x="1168" y="161"/>
                  </a:lnTo>
                  <a:lnTo>
                    <a:pt x="1172" y="152"/>
                  </a:lnTo>
                  <a:lnTo>
                    <a:pt x="1175" y="142"/>
                  </a:lnTo>
                  <a:lnTo>
                    <a:pt x="1176" y="133"/>
                  </a:lnTo>
                  <a:lnTo>
                    <a:pt x="1177" y="125"/>
                  </a:lnTo>
                  <a:lnTo>
                    <a:pt x="1169" y="118"/>
                  </a:lnTo>
                  <a:lnTo>
                    <a:pt x="1161" y="111"/>
                  </a:lnTo>
                  <a:lnTo>
                    <a:pt x="1151" y="106"/>
                  </a:lnTo>
                  <a:lnTo>
                    <a:pt x="1144" y="97"/>
                  </a:lnTo>
                  <a:lnTo>
                    <a:pt x="1144" y="88"/>
                  </a:lnTo>
                  <a:lnTo>
                    <a:pt x="1145" y="79"/>
                  </a:lnTo>
                  <a:lnTo>
                    <a:pt x="1148" y="69"/>
                  </a:lnTo>
                  <a:lnTo>
                    <a:pt x="1148" y="59"/>
                  </a:lnTo>
                  <a:lnTo>
                    <a:pt x="1147" y="50"/>
                  </a:lnTo>
                  <a:lnTo>
                    <a:pt x="1141" y="41"/>
                  </a:lnTo>
                  <a:lnTo>
                    <a:pt x="1144" y="34"/>
                  </a:lnTo>
                  <a:lnTo>
                    <a:pt x="1158" y="31"/>
                  </a:lnTo>
                  <a:lnTo>
                    <a:pt x="1170" y="28"/>
                  </a:lnTo>
                  <a:lnTo>
                    <a:pt x="1183" y="25"/>
                  </a:lnTo>
                  <a:lnTo>
                    <a:pt x="1194" y="21"/>
                  </a:lnTo>
                  <a:lnTo>
                    <a:pt x="1207" y="18"/>
                  </a:lnTo>
                  <a:lnTo>
                    <a:pt x="1219" y="21"/>
                  </a:lnTo>
                  <a:lnTo>
                    <a:pt x="1232" y="23"/>
                  </a:lnTo>
                  <a:lnTo>
                    <a:pt x="1244" y="24"/>
                  </a:lnTo>
                  <a:lnTo>
                    <a:pt x="1253" y="16"/>
                  </a:lnTo>
                  <a:lnTo>
                    <a:pt x="1261" y="15"/>
                  </a:lnTo>
                  <a:lnTo>
                    <a:pt x="1272" y="22"/>
                  </a:lnTo>
                  <a:lnTo>
                    <a:pt x="1285" y="25"/>
                  </a:lnTo>
                  <a:lnTo>
                    <a:pt x="1298" y="28"/>
                  </a:lnTo>
                  <a:lnTo>
                    <a:pt x="1310" y="27"/>
                  </a:lnTo>
                  <a:lnTo>
                    <a:pt x="1316" y="18"/>
                  </a:lnTo>
                  <a:lnTo>
                    <a:pt x="1328" y="17"/>
                  </a:lnTo>
                  <a:lnTo>
                    <a:pt x="1341" y="16"/>
                  </a:lnTo>
                  <a:lnTo>
                    <a:pt x="1353" y="13"/>
                  </a:lnTo>
                  <a:lnTo>
                    <a:pt x="1366" y="10"/>
                  </a:lnTo>
                  <a:lnTo>
                    <a:pt x="1379" y="9"/>
                  </a:lnTo>
                  <a:lnTo>
                    <a:pt x="1390" y="4"/>
                  </a:lnTo>
                  <a:lnTo>
                    <a:pt x="1401" y="0"/>
                  </a:lnTo>
                  <a:lnTo>
                    <a:pt x="1414" y="2"/>
                  </a:lnTo>
                  <a:lnTo>
                    <a:pt x="1423" y="7"/>
                  </a:lnTo>
                  <a:lnTo>
                    <a:pt x="1435" y="12"/>
                  </a:lnTo>
                  <a:lnTo>
                    <a:pt x="1446" y="18"/>
                  </a:lnTo>
                  <a:lnTo>
                    <a:pt x="1454" y="25"/>
                  </a:lnTo>
                  <a:lnTo>
                    <a:pt x="1463" y="32"/>
                  </a:lnTo>
                  <a:lnTo>
                    <a:pt x="1461" y="40"/>
                  </a:lnTo>
                  <a:lnTo>
                    <a:pt x="1458" y="50"/>
                  </a:lnTo>
                  <a:lnTo>
                    <a:pt x="1456" y="59"/>
                  </a:lnTo>
                  <a:lnTo>
                    <a:pt x="1454" y="68"/>
                  </a:lnTo>
                  <a:lnTo>
                    <a:pt x="1456" y="77"/>
                  </a:lnTo>
                  <a:lnTo>
                    <a:pt x="1460" y="87"/>
                  </a:lnTo>
                  <a:lnTo>
                    <a:pt x="1465" y="96"/>
                  </a:lnTo>
                  <a:lnTo>
                    <a:pt x="1472" y="104"/>
                  </a:lnTo>
                  <a:lnTo>
                    <a:pt x="1475" y="113"/>
                  </a:lnTo>
                  <a:lnTo>
                    <a:pt x="1485" y="114"/>
                  </a:lnTo>
                  <a:lnTo>
                    <a:pt x="1497" y="118"/>
                  </a:lnTo>
                  <a:lnTo>
                    <a:pt x="1510" y="121"/>
                  </a:lnTo>
                  <a:lnTo>
                    <a:pt x="1521" y="124"/>
                  </a:lnTo>
                  <a:lnTo>
                    <a:pt x="1528" y="131"/>
                  </a:lnTo>
                  <a:lnTo>
                    <a:pt x="1541" y="134"/>
                  </a:lnTo>
                  <a:lnTo>
                    <a:pt x="1546" y="142"/>
                  </a:lnTo>
                  <a:lnTo>
                    <a:pt x="1551" y="151"/>
                  </a:lnTo>
                  <a:lnTo>
                    <a:pt x="1553" y="160"/>
                  </a:lnTo>
                  <a:lnTo>
                    <a:pt x="1549" y="168"/>
                  </a:lnTo>
                  <a:lnTo>
                    <a:pt x="1537" y="170"/>
                  </a:lnTo>
                  <a:lnTo>
                    <a:pt x="1527" y="177"/>
                  </a:lnTo>
                  <a:lnTo>
                    <a:pt x="1520" y="184"/>
                  </a:lnTo>
                  <a:lnTo>
                    <a:pt x="1520" y="193"/>
                  </a:lnTo>
                  <a:lnTo>
                    <a:pt x="1521" y="203"/>
                  </a:lnTo>
                  <a:lnTo>
                    <a:pt x="1523" y="212"/>
                  </a:lnTo>
                  <a:lnTo>
                    <a:pt x="1520" y="221"/>
                  </a:lnTo>
                  <a:lnTo>
                    <a:pt x="1520" y="229"/>
                  </a:lnTo>
                  <a:lnTo>
                    <a:pt x="1518" y="237"/>
                  </a:lnTo>
                  <a:lnTo>
                    <a:pt x="1517" y="246"/>
                  </a:lnTo>
                  <a:lnTo>
                    <a:pt x="1524" y="252"/>
                  </a:lnTo>
                  <a:lnTo>
                    <a:pt x="1538" y="254"/>
                  </a:lnTo>
                  <a:lnTo>
                    <a:pt x="1548" y="260"/>
                  </a:lnTo>
                  <a:lnTo>
                    <a:pt x="1556" y="258"/>
                  </a:lnTo>
                  <a:lnTo>
                    <a:pt x="1565" y="265"/>
                  </a:lnTo>
                  <a:lnTo>
                    <a:pt x="1574" y="266"/>
                  </a:lnTo>
                  <a:lnTo>
                    <a:pt x="1588" y="261"/>
                  </a:lnTo>
                  <a:lnTo>
                    <a:pt x="1600" y="259"/>
                  </a:lnTo>
                  <a:lnTo>
                    <a:pt x="1605" y="264"/>
                  </a:lnTo>
                  <a:lnTo>
                    <a:pt x="1611" y="282"/>
                  </a:lnTo>
                  <a:lnTo>
                    <a:pt x="1602" y="288"/>
                  </a:lnTo>
                  <a:lnTo>
                    <a:pt x="1607" y="293"/>
                  </a:lnTo>
                  <a:lnTo>
                    <a:pt x="1602" y="297"/>
                  </a:lnTo>
                  <a:lnTo>
                    <a:pt x="1595" y="304"/>
                  </a:lnTo>
                  <a:lnTo>
                    <a:pt x="1593" y="313"/>
                  </a:lnTo>
                  <a:lnTo>
                    <a:pt x="1591" y="322"/>
                  </a:lnTo>
                  <a:lnTo>
                    <a:pt x="1587" y="331"/>
                  </a:lnTo>
                  <a:lnTo>
                    <a:pt x="1581" y="339"/>
                  </a:lnTo>
                  <a:lnTo>
                    <a:pt x="1581" y="348"/>
                  </a:lnTo>
                  <a:lnTo>
                    <a:pt x="1579" y="357"/>
                  </a:lnTo>
                  <a:lnTo>
                    <a:pt x="1567" y="363"/>
                  </a:lnTo>
                  <a:lnTo>
                    <a:pt x="1559" y="370"/>
                  </a:lnTo>
                  <a:lnTo>
                    <a:pt x="1546" y="374"/>
                  </a:lnTo>
                  <a:lnTo>
                    <a:pt x="1535" y="376"/>
                  </a:lnTo>
                  <a:lnTo>
                    <a:pt x="1527" y="383"/>
                  </a:lnTo>
                  <a:lnTo>
                    <a:pt x="1514" y="384"/>
                  </a:lnTo>
                  <a:lnTo>
                    <a:pt x="1500" y="385"/>
                  </a:lnTo>
                  <a:lnTo>
                    <a:pt x="1489" y="388"/>
                  </a:lnTo>
                  <a:lnTo>
                    <a:pt x="1493" y="397"/>
                  </a:lnTo>
                  <a:lnTo>
                    <a:pt x="1499" y="405"/>
                  </a:lnTo>
                  <a:lnTo>
                    <a:pt x="1509" y="412"/>
                  </a:lnTo>
                  <a:lnTo>
                    <a:pt x="1521" y="416"/>
                  </a:lnTo>
                  <a:lnTo>
                    <a:pt x="1534" y="416"/>
                  </a:lnTo>
                  <a:lnTo>
                    <a:pt x="1544" y="410"/>
                  </a:lnTo>
                  <a:lnTo>
                    <a:pt x="1552" y="403"/>
                  </a:lnTo>
                  <a:lnTo>
                    <a:pt x="1560" y="396"/>
                  </a:lnTo>
                  <a:lnTo>
                    <a:pt x="1572" y="391"/>
                  </a:lnTo>
                  <a:lnTo>
                    <a:pt x="1586" y="390"/>
                  </a:lnTo>
                  <a:lnTo>
                    <a:pt x="1595" y="386"/>
                  </a:lnTo>
                  <a:lnTo>
                    <a:pt x="1604" y="378"/>
                  </a:lnTo>
                  <a:lnTo>
                    <a:pt x="1614" y="373"/>
                  </a:lnTo>
                  <a:lnTo>
                    <a:pt x="1625" y="369"/>
                  </a:lnTo>
                  <a:lnTo>
                    <a:pt x="1636" y="365"/>
                  </a:lnTo>
                  <a:lnTo>
                    <a:pt x="1648" y="361"/>
                  </a:lnTo>
                  <a:lnTo>
                    <a:pt x="1660" y="357"/>
                  </a:lnTo>
                  <a:lnTo>
                    <a:pt x="1660" y="347"/>
                  </a:lnTo>
                  <a:lnTo>
                    <a:pt x="1658" y="339"/>
                  </a:lnTo>
                  <a:lnTo>
                    <a:pt x="1671" y="337"/>
                  </a:lnTo>
                  <a:lnTo>
                    <a:pt x="1683" y="340"/>
                  </a:lnTo>
                  <a:lnTo>
                    <a:pt x="1696" y="339"/>
                  </a:lnTo>
                  <a:lnTo>
                    <a:pt x="1707" y="334"/>
                  </a:lnTo>
                  <a:lnTo>
                    <a:pt x="1696" y="328"/>
                  </a:lnTo>
                  <a:lnTo>
                    <a:pt x="1696" y="320"/>
                  </a:lnTo>
                  <a:lnTo>
                    <a:pt x="1706" y="315"/>
                  </a:lnTo>
                  <a:lnTo>
                    <a:pt x="1718" y="310"/>
                  </a:lnTo>
                  <a:lnTo>
                    <a:pt x="1731" y="306"/>
                  </a:lnTo>
                  <a:lnTo>
                    <a:pt x="1732" y="298"/>
                  </a:lnTo>
                  <a:lnTo>
                    <a:pt x="1731" y="289"/>
                  </a:lnTo>
                  <a:lnTo>
                    <a:pt x="1732" y="279"/>
                  </a:lnTo>
                  <a:lnTo>
                    <a:pt x="1732" y="270"/>
                  </a:lnTo>
                  <a:lnTo>
                    <a:pt x="1730" y="261"/>
                  </a:lnTo>
                  <a:lnTo>
                    <a:pt x="1725" y="252"/>
                  </a:lnTo>
                  <a:lnTo>
                    <a:pt x="1723" y="243"/>
                  </a:lnTo>
                  <a:lnTo>
                    <a:pt x="1731" y="240"/>
                  </a:lnTo>
                  <a:lnTo>
                    <a:pt x="1738" y="248"/>
                  </a:lnTo>
                  <a:lnTo>
                    <a:pt x="1745" y="254"/>
                  </a:lnTo>
                  <a:lnTo>
                    <a:pt x="1757" y="256"/>
                  </a:lnTo>
                  <a:lnTo>
                    <a:pt x="1771" y="257"/>
                  </a:lnTo>
                  <a:lnTo>
                    <a:pt x="1784" y="258"/>
                  </a:lnTo>
                  <a:lnTo>
                    <a:pt x="1790" y="266"/>
                  </a:lnTo>
                  <a:lnTo>
                    <a:pt x="1797" y="272"/>
                  </a:lnTo>
                  <a:lnTo>
                    <a:pt x="1809" y="277"/>
                  </a:lnTo>
                  <a:lnTo>
                    <a:pt x="1811" y="285"/>
                  </a:lnTo>
                  <a:lnTo>
                    <a:pt x="1805" y="294"/>
                  </a:lnTo>
                  <a:lnTo>
                    <a:pt x="1812" y="301"/>
                  </a:lnTo>
                  <a:lnTo>
                    <a:pt x="1823" y="306"/>
                  </a:lnTo>
                  <a:lnTo>
                    <a:pt x="1834" y="308"/>
                  </a:lnTo>
                  <a:lnTo>
                    <a:pt x="1839" y="298"/>
                  </a:lnTo>
                  <a:lnTo>
                    <a:pt x="1851" y="297"/>
                  </a:lnTo>
                  <a:lnTo>
                    <a:pt x="1855" y="303"/>
                  </a:lnTo>
                  <a:lnTo>
                    <a:pt x="1847" y="311"/>
                  </a:lnTo>
                  <a:lnTo>
                    <a:pt x="1843" y="318"/>
                  </a:lnTo>
                  <a:lnTo>
                    <a:pt x="1850" y="325"/>
                  </a:lnTo>
                  <a:lnTo>
                    <a:pt x="1851" y="334"/>
                  </a:lnTo>
                  <a:lnTo>
                    <a:pt x="1853" y="343"/>
                  </a:lnTo>
                  <a:lnTo>
                    <a:pt x="1848" y="352"/>
                  </a:lnTo>
                  <a:lnTo>
                    <a:pt x="1848" y="361"/>
                  </a:lnTo>
                  <a:lnTo>
                    <a:pt x="1841" y="369"/>
                  </a:lnTo>
                  <a:lnTo>
                    <a:pt x="1833" y="376"/>
                  </a:lnTo>
                  <a:lnTo>
                    <a:pt x="1827" y="384"/>
                  </a:lnTo>
                  <a:lnTo>
                    <a:pt x="1836" y="390"/>
                  </a:lnTo>
                  <a:lnTo>
                    <a:pt x="1848" y="394"/>
                  </a:lnTo>
                  <a:lnTo>
                    <a:pt x="1860" y="397"/>
                  </a:lnTo>
                  <a:lnTo>
                    <a:pt x="1868" y="404"/>
                  </a:lnTo>
                  <a:lnTo>
                    <a:pt x="1878" y="408"/>
                  </a:lnTo>
                  <a:lnTo>
                    <a:pt x="1890" y="409"/>
                  </a:lnTo>
                  <a:lnTo>
                    <a:pt x="1901" y="404"/>
                  </a:lnTo>
                  <a:lnTo>
                    <a:pt x="1911" y="400"/>
                  </a:lnTo>
                  <a:lnTo>
                    <a:pt x="1920" y="408"/>
                  </a:lnTo>
                  <a:lnTo>
                    <a:pt x="1917" y="416"/>
                  </a:lnTo>
                  <a:lnTo>
                    <a:pt x="1904" y="419"/>
                  </a:lnTo>
                  <a:lnTo>
                    <a:pt x="1901" y="426"/>
                  </a:lnTo>
                  <a:lnTo>
                    <a:pt x="1910" y="433"/>
                  </a:lnTo>
                  <a:lnTo>
                    <a:pt x="1914" y="451"/>
                  </a:lnTo>
                  <a:lnTo>
                    <a:pt x="1921" y="456"/>
                  </a:lnTo>
                  <a:lnTo>
                    <a:pt x="1935" y="459"/>
                  </a:lnTo>
                  <a:lnTo>
                    <a:pt x="1945" y="465"/>
                  </a:lnTo>
                  <a:lnTo>
                    <a:pt x="1953" y="472"/>
                  </a:lnTo>
                  <a:lnTo>
                    <a:pt x="1955" y="481"/>
                  </a:lnTo>
                  <a:lnTo>
                    <a:pt x="1959" y="488"/>
                  </a:lnTo>
                  <a:lnTo>
                    <a:pt x="1971" y="485"/>
                  </a:lnTo>
                  <a:lnTo>
                    <a:pt x="1978" y="478"/>
                  </a:lnTo>
                  <a:lnTo>
                    <a:pt x="1987" y="471"/>
                  </a:lnTo>
                  <a:lnTo>
                    <a:pt x="1999" y="468"/>
                  </a:lnTo>
                  <a:lnTo>
                    <a:pt x="2005" y="476"/>
                  </a:lnTo>
                  <a:lnTo>
                    <a:pt x="2005" y="486"/>
                  </a:lnTo>
                  <a:lnTo>
                    <a:pt x="2012" y="493"/>
                  </a:lnTo>
                  <a:lnTo>
                    <a:pt x="2023" y="498"/>
                  </a:lnTo>
                  <a:lnTo>
                    <a:pt x="2034" y="503"/>
                  </a:lnTo>
                  <a:lnTo>
                    <a:pt x="2045" y="508"/>
                  </a:lnTo>
                  <a:lnTo>
                    <a:pt x="2055" y="514"/>
                  </a:lnTo>
                  <a:lnTo>
                    <a:pt x="2062" y="522"/>
                  </a:lnTo>
                  <a:lnTo>
                    <a:pt x="2069" y="530"/>
                  </a:lnTo>
                  <a:lnTo>
                    <a:pt x="2078" y="538"/>
                  </a:lnTo>
                  <a:lnTo>
                    <a:pt x="2085" y="546"/>
                  </a:lnTo>
                  <a:lnTo>
                    <a:pt x="2092" y="553"/>
                  </a:lnTo>
                  <a:lnTo>
                    <a:pt x="2103" y="559"/>
                  </a:lnTo>
                  <a:lnTo>
                    <a:pt x="2111" y="566"/>
                  </a:lnTo>
                  <a:lnTo>
                    <a:pt x="2120" y="573"/>
                  </a:lnTo>
                  <a:lnTo>
                    <a:pt x="2131" y="578"/>
                  </a:lnTo>
                  <a:lnTo>
                    <a:pt x="2136" y="586"/>
                  </a:lnTo>
                  <a:lnTo>
                    <a:pt x="2142" y="595"/>
                  </a:lnTo>
                  <a:lnTo>
                    <a:pt x="2145" y="605"/>
                  </a:lnTo>
                  <a:lnTo>
                    <a:pt x="2152" y="600"/>
                  </a:lnTo>
                  <a:lnTo>
                    <a:pt x="2161" y="593"/>
                  </a:lnTo>
                  <a:lnTo>
                    <a:pt x="2171" y="597"/>
                  </a:lnTo>
                  <a:lnTo>
                    <a:pt x="2182" y="602"/>
                  </a:lnTo>
                  <a:lnTo>
                    <a:pt x="2194" y="607"/>
                  </a:lnTo>
                  <a:lnTo>
                    <a:pt x="2205" y="611"/>
                  </a:lnTo>
                  <a:lnTo>
                    <a:pt x="2212" y="619"/>
                  </a:lnTo>
                  <a:lnTo>
                    <a:pt x="2222" y="615"/>
                  </a:lnTo>
                  <a:lnTo>
                    <a:pt x="2231" y="615"/>
                  </a:lnTo>
                  <a:lnTo>
                    <a:pt x="2241" y="622"/>
                  </a:lnTo>
                  <a:lnTo>
                    <a:pt x="2251" y="628"/>
                  </a:lnTo>
                  <a:lnTo>
                    <a:pt x="2258" y="637"/>
                  </a:lnTo>
                  <a:lnTo>
                    <a:pt x="2268" y="637"/>
                  </a:lnTo>
                  <a:lnTo>
                    <a:pt x="2279" y="634"/>
                  </a:lnTo>
                  <a:lnTo>
                    <a:pt x="2290" y="634"/>
                  </a:lnTo>
                  <a:lnTo>
                    <a:pt x="2303" y="631"/>
                  </a:lnTo>
                  <a:lnTo>
                    <a:pt x="2315" y="629"/>
                  </a:lnTo>
                  <a:lnTo>
                    <a:pt x="2326" y="633"/>
                  </a:lnTo>
                  <a:lnTo>
                    <a:pt x="2332" y="642"/>
                  </a:lnTo>
                  <a:lnTo>
                    <a:pt x="2345" y="642"/>
                  </a:lnTo>
                  <a:lnTo>
                    <a:pt x="2357" y="641"/>
                  </a:lnTo>
                  <a:lnTo>
                    <a:pt x="2371" y="641"/>
                  </a:lnTo>
                  <a:lnTo>
                    <a:pt x="2384" y="641"/>
                  </a:lnTo>
                  <a:lnTo>
                    <a:pt x="2408" y="641"/>
                  </a:lnTo>
                  <a:lnTo>
                    <a:pt x="2420" y="641"/>
                  </a:lnTo>
                  <a:lnTo>
                    <a:pt x="2431" y="643"/>
                  </a:lnTo>
                  <a:lnTo>
                    <a:pt x="2444" y="647"/>
                  </a:lnTo>
                  <a:lnTo>
                    <a:pt x="2456" y="650"/>
                  </a:lnTo>
                  <a:lnTo>
                    <a:pt x="2455" y="658"/>
                  </a:lnTo>
                  <a:lnTo>
                    <a:pt x="2452" y="668"/>
                  </a:lnTo>
                  <a:lnTo>
                    <a:pt x="2445" y="674"/>
                  </a:lnTo>
                  <a:lnTo>
                    <a:pt x="2444" y="683"/>
                  </a:lnTo>
                  <a:lnTo>
                    <a:pt x="2444" y="692"/>
                  </a:lnTo>
                  <a:lnTo>
                    <a:pt x="2447" y="701"/>
                  </a:lnTo>
                  <a:lnTo>
                    <a:pt x="2449" y="710"/>
                  </a:lnTo>
                  <a:lnTo>
                    <a:pt x="2458" y="718"/>
                  </a:lnTo>
                  <a:lnTo>
                    <a:pt x="2458" y="726"/>
                  </a:lnTo>
                  <a:lnTo>
                    <a:pt x="2455" y="736"/>
                  </a:lnTo>
                  <a:lnTo>
                    <a:pt x="2454" y="745"/>
                  </a:lnTo>
                  <a:lnTo>
                    <a:pt x="2459" y="753"/>
                  </a:lnTo>
                  <a:lnTo>
                    <a:pt x="2468" y="760"/>
                  </a:lnTo>
                  <a:lnTo>
                    <a:pt x="2480" y="758"/>
                  </a:lnTo>
                  <a:lnTo>
                    <a:pt x="2493" y="757"/>
                  </a:lnTo>
                  <a:lnTo>
                    <a:pt x="2507" y="758"/>
                  </a:lnTo>
                  <a:lnTo>
                    <a:pt x="2514" y="765"/>
                  </a:lnTo>
                  <a:lnTo>
                    <a:pt x="2511" y="771"/>
                  </a:lnTo>
                  <a:lnTo>
                    <a:pt x="2498" y="774"/>
                  </a:lnTo>
                  <a:lnTo>
                    <a:pt x="2491" y="782"/>
                  </a:lnTo>
                  <a:lnTo>
                    <a:pt x="2480" y="785"/>
                  </a:lnTo>
                  <a:lnTo>
                    <a:pt x="2469" y="780"/>
                  </a:lnTo>
                  <a:lnTo>
                    <a:pt x="2463" y="788"/>
                  </a:lnTo>
                  <a:lnTo>
                    <a:pt x="2469" y="796"/>
                  </a:lnTo>
                  <a:lnTo>
                    <a:pt x="2476" y="800"/>
                  </a:lnTo>
                  <a:lnTo>
                    <a:pt x="2470" y="808"/>
                  </a:lnTo>
                  <a:lnTo>
                    <a:pt x="2482" y="813"/>
                  </a:lnTo>
                  <a:lnTo>
                    <a:pt x="2493" y="819"/>
                  </a:lnTo>
                  <a:lnTo>
                    <a:pt x="2505" y="823"/>
                  </a:lnTo>
                  <a:lnTo>
                    <a:pt x="2504" y="830"/>
                  </a:lnTo>
                  <a:lnTo>
                    <a:pt x="2496" y="838"/>
                  </a:lnTo>
                  <a:lnTo>
                    <a:pt x="2491" y="847"/>
                  </a:lnTo>
                  <a:lnTo>
                    <a:pt x="2486" y="855"/>
                  </a:lnTo>
                  <a:lnTo>
                    <a:pt x="2480" y="864"/>
                  </a:lnTo>
                  <a:lnTo>
                    <a:pt x="2473" y="872"/>
                  </a:lnTo>
                  <a:lnTo>
                    <a:pt x="2466" y="880"/>
                  </a:lnTo>
                  <a:lnTo>
                    <a:pt x="2459" y="887"/>
                  </a:lnTo>
                  <a:lnTo>
                    <a:pt x="2451" y="895"/>
                  </a:lnTo>
                  <a:lnTo>
                    <a:pt x="2445" y="903"/>
                  </a:lnTo>
                  <a:lnTo>
                    <a:pt x="2447" y="912"/>
                  </a:lnTo>
                  <a:lnTo>
                    <a:pt x="2449" y="921"/>
                  </a:lnTo>
                  <a:lnTo>
                    <a:pt x="2445" y="930"/>
                  </a:lnTo>
                  <a:lnTo>
                    <a:pt x="2440" y="939"/>
                  </a:lnTo>
                  <a:lnTo>
                    <a:pt x="2431" y="947"/>
                  </a:lnTo>
                  <a:lnTo>
                    <a:pt x="2423" y="950"/>
                  </a:lnTo>
                  <a:lnTo>
                    <a:pt x="2419" y="956"/>
                  </a:lnTo>
                  <a:lnTo>
                    <a:pt x="2430" y="957"/>
                  </a:lnTo>
                  <a:lnTo>
                    <a:pt x="2442" y="959"/>
                  </a:lnTo>
                  <a:lnTo>
                    <a:pt x="2451" y="965"/>
                  </a:lnTo>
                  <a:lnTo>
                    <a:pt x="2458" y="972"/>
                  </a:lnTo>
                  <a:lnTo>
                    <a:pt x="2468" y="976"/>
                  </a:lnTo>
                  <a:lnTo>
                    <a:pt x="2480" y="979"/>
                  </a:lnTo>
                  <a:lnTo>
                    <a:pt x="2484" y="988"/>
                  </a:lnTo>
                  <a:lnTo>
                    <a:pt x="2470" y="989"/>
                  </a:lnTo>
                  <a:lnTo>
                    <a:pt x="2461" y="986"/>
                  </a:lnTo>
                  <a:lnTo>
                    <a:pt x="2461" y="976"/>
                  </a:lnTo>
                  <a:lnTo>
                    <a:pt x="2448" y="976"/>
                  </a:lnTo>
                  <a:lnTo>
                    <a:pt x="2449" y="985"/>
                  </a:lnTo>
                  <a:lnTo>
                    <a:pt x="2440" y="981"/>
                  </a:lnTo>
                  <a:lnTo>
                    <a:pt x="2438" y="990"/>
                  </a:lnTo>
                  <a:lnTo>
                    <a:pt x="2428" y="990"/>
                  </a:lnTo>
                  <a:lnTo>
                    <a:pt x="2424" y="995"/>
                  </a:lnTo>
                  <a:lnTo>
                    <a:pt x="2412" y="999"/>
                  </a:lnTo>
                  <a:lnTo>
                    <a:pt x="2399" y="1001"/>
                  </a:lnTo>
                  <a:lnTo>
                    <a:pt x="2388" y="1003"/>
                  </a:lnTo>
                  <a:lnTo>
                    <a:pt x="2377" y="1008"/>
                  </a:lnTo>
                  <a:lnTo>
                    <a:pt x="2378" y="1016"/>
                  </a:lnTo>
                  <a:lnTo>
                    <a:pt x="2387" y="1022"/>
                  </a:lnTo>
                  <a:lnTo>
                    <a:pt x="2410" y="1046"/>
                  </a:lnTo>
                  <a:lnTo>
                    <a:pt x="2401" y="1053"/>
                  </a:lnTo>
                  <a:lnTo>
                    <a:pt x="2392" y="1061"/>
                  </a:lnTo>
                  <a:lnTo>
                    <a:pt x="2385" y="1069"/>
                  </a:lnTo>
                  <a:lnTo>
                    <a:pt x="2392" y="1077"/>
                  </a:lnTo>
                  <a:lnTo>
                    <a:pt x="2395" y="1086"/>
                  </a:lnTo>
                  <a:lnTo>
                    <a:pt x="2395" y="1095"/>
                  </a:lnTo>
                  <a:lnTo>
                    <a:pt x="2394" y="1104"/>
                  </a:lnTo>
                  <a:lnTo>
                    <a:pt x="2392" y="1114"/>
                  </a:lnTo>
                  <a:lnTo>
                    <a:pt x="2382" y="1119"/>
                  </a:lnTo>
                  <a:lnTo>
                    <a:pt x="2370" y="1120"/>
                  </a:lnTo>
                  <a:lnTo>
                    <a:pt x="2356" y="1120"/>
                  </a:lnTo>
                  <a:lnTo>
                    <a:pt x="2343" y="1118"/>
                  </a:lnTo>
                  <a:lnTo>
                    <a:pt x="2333" y="1112"/>
                  </a:lnTo>
                  <a:lnTo>
                    <a:pt x="2326" y="1104"/>
                  </a:lnTo>
                  <a:lnTo>
                    <a:pt x="2314" y="1100"/>
                  </a:lnTo>
                  <a:lnTo>
                    <a:pt x="2301" y="1098"/>
                  </a:lnTo>
                  <a:lnTo>
                    <a:pt x="2290" y="1098"/>
                  </a:lnTo>
                  <a:lnTo>
                    <a:pt x="2290" y="1089"/>
                  </a:lnTo>
                  <a:lnTo>
                    <a:pt x="2282" y="1082"/>
                  </a:lnTo>
                  <a:lnTo>
                    <a:pt x="2269" y="1079"/>
                  </a:lnTo>
                  <a:lnTo>
                    <a:pt x="2262" y="1075"/>
                  </a:lnTo>
                  <a:lnTo>
                    <a:pt x="2250" y="1074"/>
                  </a:lnTo>
                  <a:lnTo>
                    <a:pt x="2237" y="1071"/>
                  </a:lnTo>
                  <a:lnTo>
                    <a:pt x="2224" y="1068"/>
                  </a:lnTo>
                  <a:lnTo>
                    <a:pt x="2213" y="1064"/>
                  </a:lnTo>
                  <a:lnTo>
                    <a:pt x="2202" y="1059"/>
                  </a:lnTo>
                  <a:lnTo>
                    <a:pt x="2194" y="1052"/>
                  </a:lnTo>
                  <a:lnTo>
                    <a:pt x="2187" y="1043"/>
                  </a:lnTo>
                  <a:lnTo>
                    <a:pt x="2178" y="1036"/>
                  </a:lnTo>
                  <a:lnTo>
                    <a:pt x="2167" y="1036"/>
                  </a:lnTo>
                  <a:lnTo>
                    <a:pt x="2153" y="1037"/>
                  </a:lnTo>
                  <a:lnTo>
                    <a:pt x="2141" y="1040"/>
                  </a:lnTo>
                  <a:lnTo>
                    <a:pt x="2127" y="1042"/>
                  </a:lnTo>
                  <a:lnTo>
                    <a:pt x="2115" y="1046"/>
                  </a:lnTo>
                  <a:lnTo>
                    <a:pt x="2107" y="1051"/>
                  </a:lnTo>
                  <a:lnTo>
                    <a:pt x="2099" y="1043"/>
                  </a:lnTo>
                  <a:lnTo>
                    <a:pt x="2090" y="1041"/>
                  </a:lnTo>
                  <a:lnTo>
                    <a:pt x="2090" y="1050"/>
                  </a:lnTo>
                  <a:lnTo>
                    <a:pt x="2092" y="1060"/>
                  </a:lnTo>
                  <a:lnTo>
                    <a:pt x="2093" y="1069"/>
                  </a:lnTo>
                  <a:lnTo>
                    <a:pt x="2094" y="1076"/>
                  </a:lnTo>
                  <a:lnTo>
                    <a:pt x="2089" y="1083"/>
                  </a:lnTo>
                  <a:lnTo>
                    <a:pt x="2076" y="1085"/>
                  </a:lnTo>
                  <a:lnTo>
                    <a:pt x="2065" y="1089"/>
                  </a:lnTo>
                  <a:lnTo>
                    <a:pt x="2054" y="1094"/>
                  </a:lnTo>
                  <a:lnTo>
                    <a:pt x="2051" y="1103"/>
                  </a:lnTo>
                  <a:lnTo>
                    <a:pt x="2057" y="1111"/>
                  </a:lnTo>
                  <a:lnTo>
                    <a:pt x="2066" y="1118"/>
                  </a:lnTo>
                  <a:lnTo>
                    <a:pt x="2076" y="1124"/>
                  </a:lnTo>
                  <a:lnTo>
                    <a:pt x="2072" y="1130"/>
                  </a:lnTo>
                  <a:lnTo>
                    <a:pt x="2059" y="1133"/>
                  </a:lnTo>
                  <a:lnTo>
                    <a:pt x="2048" y="1140"/>
                  </a:lnTo>
                  <a:lnTo>
                    <a:pt x="2040" y="1138"/>
                  </a:lnTo>
                  <a:lnTo>
                    <a:pt x="2034" y="1128"/>
                  </a:lnTo>
                  <a:lnTo>
                    <a:pt x="2030" y="1125"/>
                  </a:lnTo>
                  <a:lnTo>
                    <a:pt x="2023" y="1132"/>
                  </a:lnTo>
                  <a:lnTo>
                    <a:pt x="2022" y="1142"/>
                  </a:lnTo>
                  <a:lnTo>
                    <a:pt x="2020" y="1152"/>
                  </a:lnTo>
                  <a:lnTo>
                    <a:pt x="2019" y="1161"/>
                  </a:lnTo>
                  <a:lnTo>
                    <a:pt x="2015" y="1169"/>
                  </a:lnTo>
                  <a:lnTo>
                    <a:pt x="1999" y="1170"/>
                  </a:lnTo>
                  <a:lnTo>
                    <a:pt x="1998" y="1176"/>
                  </a:lnTo>
                  <a:lnTo>
                    <a:pt x="2006" y="1185"/>
                  </a:lnTo>
                  <a:lnTo>
                    <a:pt x="2013" y="1194"/>
                  </a:lnTo>
                  <a:lnTo>
                    <a:pt x="2011" y="1201"/>
                  </a:lnTo>
                  <a:lnTo>
                    <a:pt x="1999" y="1204"/>
                  </a:lnTo>
                  <a:lnTo>
                    <a:pt x="1984" y="1206"/>
                  </a:lnTo>
                  <a:lnTo>
                    <a:pt x="1970" y="1209"/>
                  </a:lnTo>
                  <a:lnTo>
                    <a:pt x="1969" y="1215"/>
                  </a:lnTo>
                  <a:lnTo>
                    <a:pt x="1974" y="1224"/>
                  </a:lnTo>
                  <a:lnTo>
                    <a:pt x="1964" y="1231"/>
                  </a:lnTo>
                  <a:lnTo>
                    <a:pt x="1955" y="1237"/>
                  </a:lnTo>
                  <a:lnTo>
                    <a:pt x="1943" y="1242"/>
                  </a:lnTo>
                  <a:lnTo>
                    <a:pt x="1931" y="1246"/>
                  </a:lnTo>
                  <a:lnTo>
                    <a:pt x="1917" y="1248"/>
                  </a:lnTo>
                  <a:lnTo>
                    <a:pt x="1911" y="1254"/>
                  </a:lnTo>
                  <a:lnTo>
                    <a:pt x="1913" y="1265"/>
                  </a:lnTo>
                  <a:lnTo>
                    <a:pt x="1915" y="1275"/>
                  </a:lnTo>
                  <a:lnTo>
                    <a:pt x="1913" y="1280"/>
                  </a:lnTo>
                  <a:lnTo>
                    <a:pt x="1899" y="1277"/>
                  </a:lnTo>
                  <a:lnTo>
                    <a:pt x="1885" y="1273"/>
                  </a:lnTo>
                  <a:lnTo>
                    <a:pt x="1879" y="1279"/>
                  </a:lnTo>
                  <a:lnTo>
                    <a:pt x="1876" y="1290"/>
                  </a:lnTo>
                  <a:lnTo>
                    <a:pt x="1868" y="1294"/>
                  </a:lnTo>
                  <a:lnTo>
                    <a:pt x="1855" y="1290"/>
                  </a:lnTo>
                  <a:lnTo>
                    <a:pt x="1843" y="1292"/>
                  </a:lnTo>
                  <a:lnTo>
                    <a:pt x="1830" y="1295"/>
                  </a:lnTo>
                  <a:lnTo>
                    <a:pt x="1818" y="1299"/>
                  </a:lnTo>
                  <a:lnTo>
                    <a:pt x="1806" y="1304"/>
                  </a:lnTo>
                  <a:lnTo>
                    <a:pt x="1808" y="1312"/>
                  </a:lnTo>
                  <a:lnTo>
                    <a:pt x="1802" y="1314"/>
                  </a:lnTo>
                  <a:lnTo>
                    <a:pt x="1790" y="1312"/>
                  </a:lnTo>
                  <a:lnTo>
                    <a:pt x="1778" y="1309"/>
                  </a:lnTo>
                  <a:lnTo>
                    <a:pt x="1774" y="1301"/>
                  </a:lnTo>
                  <a:lnTo>
                    <a:pt x="1767" y="1293"/>
                  </a:lnTo>
                  <a:lnTo>
                    <a:pt x="1756" y="1289"/>
                  </a:lnTo>
                  <a:lnTo>
                    <a:pt x="1744" y="1292"/>
                  </a:lnTo>
                  <a:lnTo>
                    <a:pt x="1739" y="1301"/>
                  </a:lnTo>
                  <a:lnTo>
                    <a:pt x="1734" y="1309"/>
                  </a:lnTo>
                  <a:lnTo>
                    <a:pt x="1732" y="1318"/>
                  </a:lnTo>
                  <a:lnTo>
                    <a:pt x="1730" y="1327"/>
                  </a:lnTo>
                  <a:lnTo>
                    <a:pt x="1727" y="1336"/>
                  </a:lnTo>
                  <a:lnTo>
                    <a:pt x="1728" y="1347"/>
                  </a:lnTo>
                  <a:lnTo>
                    <a:pt x="1721" y="1351"/>
                  </a:lnTo>
                  <a:lnTo>
                    <a:pt x="1709" y="1351"/>
                  </a:lnTo>
                  <a:lnTo>
                    <a:pt x="1693" y="1350"/>
                  </a:lnTo>
                  <a:lnTo>
                    <a:pt x="1682" y="1345"/>
                  </a:lnTo>
                  <a:lnTo>
                    <a:pt x="1672" y="1343"/>
                  </a:lnTo>
                  <a:lnTo>
                    <a:pt x="1661" y="1349"/>
                  </a:lnTo>
                  <a:lnTo>
                    <a:pt x="1653" y="1357"/>
                  </a:lnTo>
                  <a:lnTo>
                    <a:pt x="1654" y="1363"/>
                  </a:lnTo>
                  <a:lnTo>
                    <a:pt x="1660" y="1371"/>
                  </a:lnTo>
                  <a:lnTo>
                    <a:pt x="1657" y="1381"/>
                  </a:lnTo>
                  <a:lnTo>
                    <a:pt x="1660" y="1390"/>
                  </a:lnTo>
                  <a:lnTo>
                    <a:pt x="1657" y="1399"/>
                  </a:lnTo>
                  <a:lnTo>
                    <a:pt x="1654" y="1408"/>
                  </a:lnTo>
                  <a:lnTo>
                    <a:pt x="1637" y="1408"/>
                  </a:lnTo>
                  <a:lnTo>
                    <a:pt x="1625" y="1404"/>
                  </a:lnTo>
                  <a:lnTo>
                    <a:pt x="1615" y="1402"/>
                  </a:lnTo>
                  <a:lnTo>
                    <a:pt x="1602" y="1401"/>
                  </a:lnTo>
                  <a:lnTo>
                    <a:pt x="1590" y="1402"/>
                  </a:lnTo>
                  <a:lnTo>
                    <a:pt x="1579" y="1407"/>
                  </a:lnTo>
                  <a:lnTo>
                    <a:pt x="1569" y="1401"/>
                  </a:lnTo>
                  <a:lnTo>
                    <a:pt x="1558" y="1395"/>
                  </a:lnTo>
                  <a:lnTo>
                    <a:pt x="1553" y="1388"/>
                  </a:lnTo>
                  <a:lnTo>
                    <a:pt x="1556" y="1378"/>
                  </a:lnTo>
                  <a:lnTo>
                    <a:pt x="1559" y="1373"/>
                  </a:lnTo>
                  <a:lnTo>
                    <a:pt x="1552" y="1372"/>
                  </a:lnTo>
                  <a:lnTo>
                    <a:pt x="1546" y="1363"/>
                  </a:lnTo>
                  <a:lnTo>
                    <a:pt x="1538" y="1355"/>
                  </a:lnTo>
                  <a:lnTo>
                    <a:pt x="1527" y="1352"/>
                  </a:lnTo>
                  <a:lnTo>
                    <a:pt x="1517" y="1354"/>
                  </a:lnTo>
                  <a:lnTo>
                    <a:pt x="1509" y="1346"/>
                  </a:lnTo>
                  <a:lnTo>
                    <a:pt x="1497" y="1340"/>
                  </a:lnTo>
                  <a:lnTo>
                    <a:pt x="1489" y="1334"/>
                  </a:lnTo>
                  <a:lnTo>
                    <a:pt x="1492" y="1343"/>
                  </a:lnTo>
                  <a:lnTo>
                    <a:pt x="1486" y="1349"/>
                  </a:lnTo>
                  <a:lnTo>
                    <a:pt x="1472" y="1346"/>
                  </a:lnTo>
                  <a:lnTo>
                    <a:pt x="1471" y="1352"/>
                  </a:lnTo>
                  <a:lnTo>
                    <a:pt x="1461" y="1358"/>
                  </a:lnTo>
                  <a:lnTo>
                    <a:pt x="1454" y="1366"/>
                  </a:lnTo>
                  <a:lnTo>
                    <a:pt x="1451" y="1375"/>
                  </a:lnTo>
                  <a:lnTo>
                    <a:pt x="1444" y="1384"/>
                  </a:lnTo>
                  <a:lnTo>
                    <a:pt x="1435" y="1385"/>
                  </a:lnTo>
                  <a:lnTo>
                    <a:pt x="1429" y="1376"/>
                  </a:lnTo>
                  <a:lnTo>
                    <a:pt x="1418" y="1372"/>
                  </a:lnTo>
                  <a:lnTo>
                    <a:pt x="1405" y="1371"/>
                  </a:lnTo>
                  <a:lnTo>
                    <a:pt x="1393" y="1368"/>
                  </a:lnTo>
                  <a:lnTo>
                    <a:pt x="1379" y="1367"/>
                  </a:lnTo>
                  <a:lnTo>
                    <a:pt x="1366" y="1366"/>
                  </a:lnTo>
                  <a:lnTo>
                    <a:pt x="1356" y="1361"/>
                  </a:lnTo>
                  <a:lnTo>
                    <a:pt x="1345" y="1356"/>
                  </a:lnTo>
                  <a:lnTo>
                    <a:pt x="1334" y="1360"/>
                  </a:lnTo>
                  <a:lnTo>
                    <a:pt x="1321" y="1365"/>
                  </a:lnTo>
                  <a:lnTo>
                    <a:pt x="1310" y="1368"/>
                  </a:lnTo>
                  <a:lnTo>
                    <a:pt x="1298" y="1365"/>
                  </a:lnTo>
                  <a:lnTo>
                    <a:pt x="1286" y="1360"/>
                  </a:lnTo>
                  <a:lnTo>
                    <a:pt x="1274" y="1357"/>
                  </a:lnTo>
                  <a:lnTo>
                    <a:pt x="1261" y="1355"/>
                  </a:lnTo>
                  <a:lnTo>
                    <a:pt x="1247" y="1356"/>
                  </a:lnTo>
                  <a:lnTo>
                    <a:pt x="1237" y="1352"/>
                  </a:lnTo>
                  <a:lnTo>
                    <a:pt x="1232" y="1343"/>
                  </a:lnTo>
                  <a:lnTo>
                    <a:pt x="1228" y="1335"/>
                  </a:lnTo>
                  <a:lnTo>
                    <a:pt x="1222" y="1326"/>
                  </a:lnTo>
                  <a:lnTo>
                    <a:pt x="1214" y="1319"/>
                  </a:lnTo>
                  <a:lnTo>
                    <a:pt x="1201" y="1317"/>
                  </a:lnTo>
                  <a:lnTo>
                    <a:pt x="1189" y="1316"/>
                  </a:lnTo>
                  <a:lnTo>
                    <a:pt x="1176" y="1314"/>
                  </a:lnTo>
                  <a:lnTo>
                    <a:pt x="1163" y="1310"/>
                  </a:lnTo>
                  <a:lnTo>
                    <a:pt x="1151" y="1306"/>
                  </a:lnTo>
                  <a:lnTo>
                    <a:pt x="1138" y="1301"/>
                  </a:lnTo>
                  <a:lnTo>
                    <a:pt x="1127" y="1300"/>
                  </a:lnTo>
                  <a:lnTo>
                    <a:pt x="1117" y="1305"/>
                  </a:lnTo>
                  <a:lnTo>
                    <a:pt x="1109" y="1314"/>
                  </a:lnTo>
                  <a:lnTo>
                    <a:pt x="1100" y="1321"/>
                  </a:lnTo>
                  <a:lnTo>
                    <a:pt x="1089" y="1325"/>
                  </a:lnTo>
                  <a:lnTo>
                    <a:pt x="1078" y="1319"/>
                  </a:lnTo>
                  <a:lnTo>
                    <a:pt x="1070" y="1312"/>
                  </a:lnTo>
                  <a:lnTo>
                    <a:pt x="1061" y="1304"/>
                  </a:lnTo>
                  <a:lnTo>
                    <a:pt x="1050" y="1300"/>
                  </a:lnTo>
                  <a:lnTo>
                    <a:pt x="1038" y="1298"/>
                  </a:lnTo>
                  <a:lnTo>
                    <a:pt x="1025" y="1300"/>
                  </a:lnTo>
                  <a:lnTo>
                    <a:pt x="1012" y="1298"/>
                  </a:lnTo>
                  <a:lnTo>
                    <a:pt x="1000" y="1296"/>
                  </a:lnTo>
                  <a:lnTo>
                    <a:pt x="990" y="1301"/>
                  </a:lnTo>
                  <a:lnTo>
                    <a:pt x="984" y="1310"/>
                  </a:lnTo>
                  <a:lnTo>
                    <a:pt x="979" y="1318"/>
                  </a:lnTo>
                  <a:lnTo>
                    <a:pt x="972" y="1326"/>
                  </a:lnTo>
                  <a:lnTo>
                    <a:pt x="963" y="1334"/>
                  </a:lnTo>
                  <a:lnTo>
                    <a:pt x="954" y="1340"/>
                  </a:lnTo>
                  <a:lnTo>
                    <a:pt x="943" y="1344"/>
                  </a:lnTo>
                  <a:lnTo>
                    <a:pt x="930" y="1346"/>
                  </a:lnTo>
                  <a:lnTo>
                    <a:pt x="917" y="1348"/>
                  </a:lnTo>
                  <a:lnTo>
                    <a:pt x="905" y="1345"/>
                  </a:lnTo>
                  <a:lnTo>
                    <a:pt x="894" y="1341"/>
                  </a:lnTo>
                  <a:lnTo>
                    <a:pt x="881" y="1336"/>
                  </a:lnTo>
                  <a:lnTo>
                    <a:pt x="870" y="1332"/>
                  </a:lnTo>
                  <a:lnTo>
                    <a:pt x="857" y="1329"/>
                  </a:lnTo>
                  <a:lnTo>
                    <a:pt x="845" y="1327"/>
                  </a:lnTo>
                  <a:lnTo>
                    <a:pt x="832" y="1326"/>
                  </a:lnTo>
                  <a:lnTo>
                    <a:pt x="819" y="1324"/>
                  </a:lnTo>
                  <a:lnTo>
                    <a:pt x="807" y="1321"/>
                  </a:lnTo>
                  <a:lnTo>
                    <a:pt x="794" y="1317"/>
                  </a:lnTo>
                  <a:lnTo>
                    <a:pt x="785" y="1312"/>
                  </a:lnTo>
                  <a:lnTo>
                    <a:pt x="776" y="1305"/>
                  </a:lnTo>
                  <a:lnTo>
                    <a:pt x="768" y="1297"/>
                  </a:lnTo>
                  <a:lnTo>
                    <a:pt x="759" y="1290"/>
                  </a:lnTo>
                  <a:lnTo>
                    <a:pt x="750" y="1284"/>
                  </a:lnTo>
                  <a:lnTo>
                    <a:pt x="737" y="1282"/>
                  </a:lnTo>
                  <a:lnTo>
                    <a:pt x="724" y="1283"/>
                  </a:lnTo>
                  <a:lnTo>
                    <a:pt x="713" y="1288"/>
                  </a:lnTo>
                  <a:lnTo>
                    <a:pt x="702" y="1293"/>
                  </a:lnTo>
                  <a:lnTo>
                    <a:pt x="689" y="1295"/>
                  </a:lnTo>
                  <a:lnTo>
                    <a:pt x="677" y="1294"/>
                  </a:lnTo>
                  <a:lnTo>
                    <a:pt x="666" y="1290"/>
                  </a:lnTo>
                  <a:lnTo>
                    <a:pt x="653" y="1287"/>
                  </a:lnTo>
                  <a:lnTo>
                    <a:pt x="641" y="1288"/>
                  </a:lnTo>
                  <a:lnTo>
                    <a:pt x="628" y="1292"/>
                  </a:lnTo>
                  <a:lnTo>
                    <a:pt x="618" y="1297"/>
                  </a:lnTo>
                  <a:lnTo>
                    <a:pt x="606" y="1300"/>
                  </a:lnTo>
                  <a:lnTo>
                    <a:pt x="593" y="1300"/>
                  </a:lnTo>
                  <a:lnTo>
                    <a:pt x="580" y="1295"/>
                  </a:lnTo>
                  <a:lnTo>
                    <a:pt x="569" y="1290"/>
                  </a:lnTo>
                  <a:lnTo>
                    <a:pt x="558" y="1287"/>
                  </a:lnTo>
                  <a:lnTo>
                    <a:pt x="545" y="1288"/>
                  </a:lnTo>
                  <a:lnTo>
                    <a:pt x="534" y="1294"/>
                  </a:lnTo>
                  <a:lnTo>
                    <a:pt x="525" y="1299"/>
                  </a:lnTo>
                  <a:lnTo>
                    <a:pt x="513" y="1304"/>
                  </a:lnTo>
                  <a:lnTo>
                    <a:pt x="504" y="1310"/>
                  </a:lnTo>
                  <a:lnTo>
                    <a:pt x="492" y="1315"/>
                  </a:lnTo>
                  <a:lnTo>
                    <a:pt x="485" y="1323"/>
                  </a:lnTo>
                  <a:lnTo>
                    <a:pt x="483" y="1332"/>
                  </a:lnTo>
                  <a:lnTo>
                    <a:pt x="474" y="1338"/>
                  </a:lnTo>
                  <a:lnTo>
                    <a:pt x="462" y="1336"/>
                  </a:lnTo>
                  <a:lnTo>
                    <a:pt x="455" y="1329"/>
                  </a:lnTo>
                  <a:lnTo>
                    <a:pt x="449" y="1320"/>
                  </a:lnTo>
                  <a:lnTo>
                    <a:pt x="449" y="1311"/>
                  </a:lnTo>
                  <a:lnTo>
                    <a:pt x="443" y="1303"/>
                  </a:lnTo>
                  <a:lnTo>
                    <a:pt x="429" y="1301"/>
                  </a:lnTo>
                  <a:lnTo>
                    <a:pt x="420" y="1295"/>
                  </a:lnTo>
                  <a:lnTo>
                    <a:pt x="411" y="1288"/>
                  </a:lnTo>
                  <a:lnTo>
                    <a:pt x="407" y="1280"/>
                  </a:lnTo>
                  <a:lnTo>
                    <a:pt x="407" y="1270"/>
                  </a:lnTo>
                  <a:lnTo>
                    <a:pt x="407" y="1261"/>
                  </a:lnTo>
                  <a:lnTo>
                    <a:pt x="403" y="1252"/>
                  </a:lnTo>
                  <a:lnTo>
                    <a:pt x="392" y="1248"/>
                  </a:lnTo>
                  <a:lnTo>
                    <a:pt x="379" y="1251"/>
                  </a:lnTo>
                  <a:lnTo>
                    <a:pt x="374" y="1259"/>
                  </a:lnTo>
                  <a:lnTo>
                    <a:pt x="361" y="1260"/>
                  </a:lnTo>
                  <a:lnTo>
                    <a:pt x="348" y="1258"/>
                  </a:lnTo>
                  <a:lnTo>
                    <a:pt x="337" y="1253"/>
                  </a:lnTo>
                  <a:lnTo>
                    <a:pt x="327" y="1247"/>
                  </a:lnTo>
                  <a:lnTo>
                    <a:pt x="320" y="1239"/>
                  </a:lnTo>
                  <a:lnTo>
                    <a:pt x="311" y="1234"/>
                  </a:lnTo>
                  <a:lnTo>
                    <a:pt x="298" y="1232"/>
                  </a:lnTo>
                  <a:lnTo>
                    <a:pt x="284" y="1233"/>
                  </a:lnTo>
                  <a:lnTo>
                    <a:pt x="274" y="1238"/>
                  </a:lnTo>
                  <a:lnTo>
                    <a:pt x="263" y="1243"/>
                  </a:lnTo>
                  <a:lnTo>
                    <a:pt x="255" y="1237"/>
                  </a:lnTo>
                  <a:lnTo>
                    <a:pt x="248" y="1229"/>
                  </a:lnTo>
                  <a:lnTo>
                    <a:pt x="241" y="1221"/>
                  </a:lnTo>
                  <a:lnTo>
                    <a:pt x="237" y="1212"/>
                  </a:lnTo>
                  <a:lnTo>
                    <a:pt x="220" y="1205"/>
                  </a:lnTo>
                  <a:lnTo>
                    <a:pt x="206" y="1203"/>
                  </a:lnTo>
                  <a:lnTo>
                    <a:pt x="193" y="1203"/>
                  </a:lnTo>
                  <a:lnTo>
                    <a:pt x="181" y="1202"/>
                  </a:lnTo>
                  <a:lnTo>
                    <a:pt x="168" y="1199"/>
                  </a:lnTo>
                  <a:lnTo>
                    <a:pt x="155" y="1199"/>
                  </a:lnTo>
                  <a:lnTo>
                    <a:pt x="148" y="1191"/>
                  </a:lnTo>
                  <a:lnTo>
                    <a:pt x="137" y="1187"/>
                  </a:lnTo>
                  <a:lnTo>
                    <a:pt x="125" y="1185"/>
                  </a:lnTo>
                  <a:lnTo>
                    <a:pt x="112" y="1187"/>
                  </a:lnTo>
                  <a:lnTo>
                    <a:pt x="101" y="1191"/>
                  </a:lnTo>
                  <a:lnTo>
                    <a:pt x="88" y="1193"/>
                  </a:lnTo>
                  <a:lnTo>
                    <a:pt x="76" y="1190"/>
                  </a:lnTo>
                  <a:lnTo>
                    <a:pt x="66" y="1184"/>
                  </a:lnTo>
                  <a:lnTo>
                    <a:pt x="56" y="1177"/>
                  </a:lnTo>
                  <a:lnTo>
                    <a:pt x="49" y="1170"/>
                  </a:lnTo>
                  <a:lnTo>
                    <a:pt x="45" y="1163"/>
                  </a:lnTo>
                  <a:lnTo>
                    <a:pt x="66" y="1162"/>
                  </a:lnTo>
                  <a:lnTo>
                    <a:pt x="77" y="1157"/>
                  </a:lnTo>
                  <a:lnTo>
                    <a:pt x="81" y="1149"/>
                  </a:lnTo>
                  <a:lnTo>
                    <a:pt x="83" y="1139"/>
                  </a:lnTo>
                  <a:lnTo>
                    <a:pt x="84" y="1130"/>
                  </a:lnTo>
                  <a:lnTo>
                    <a:pt x="95" y="1127"/>
                  </a:lnTo>
                  <a:lnTo>
                    <a:pt x="107" y="1121"/>
                  </a:lnTo>
                  <a:lnTo>
                    <a:pt x="116" y="1115"/>
                  </a:lnTo>
                  <a:lnTo>
                    <a:pt x="125" y="1118"/>
                  </a:lnTo>
                  <a:lnTo>
                    <a:pt x="133" y="1126"/>
                  </a:lnTo>
                  <a:lnTo>
                    <a:pt x="132" y="1135"/>
                  </a:lnTo>
                  <a:lnTo>
                    <a:pt x="132" y="1144"/>
                  </a:lnTo>
                  <a:lnTo>
                    <a:pt x="140" y="1137"/>
                  </a:lnTo>
                  <a:lnTo>
                    <a:pt x="147" y="1129"/>
                  </a:lnTo>
                  <a:lnTo>
                    <a:pt x="154" y="1130"/>
                  </a:lnTo>
                  <a:lnTo>
                    <a:pt x="167" y="1131"/>
                  </a:lnTo>
                  <a:lnTo>
                    <a:pt x="176" y="1130"/>
                  </a:lnTo>
                  <a:lnTo>
                    <a:pt x="188" y="1129"/>
                  </a:lnTo>
                  <a:lnTo>
                    <a:pt x="200" y="1133"/>
                  </a:lnTo>
                  <a:lnTo>
                    <a:pt x="204" y="1125"/>
                  </a:lnTo>
                  <a:lnTo>
                    <a:pt x="202" y="1117"/>
                  </a:lnTo>
                  <a:lnTo>
                    <a:pt x="211" y="1111"/>
                  </a:lnTo>
                  <a:lnTo>
                    <a:pt x="213" y="1103"/>
                  </a:lnTo>
                  <a:lnTo>
                    <a:pt x="203" y="1096"/>
                  </a:lnTo>
                  <a:lnTo>
                    <a:pt x="202" y="1087"/>
                  </a:lnTo>
                  <a:lnTo>
                    <a:pt x="200" y="1078"/>
                  </a:lnTo>
                  <a:lnTo>
                    <a:pt x="203" y="1070"/>
                  </a:lnTo>
                  <a:lnTo>
                    <a:pt x="213" y="1068"/>
                  </a:lnTo>
                  <a:lnTo>
                    <a:pt x="211" y="1059"/>
                  </a:lnTo>
                  <a:lnTo>
                    <a:pt x="199" y="1054"/>
                  </a:lnTo>
                  <a:lnTo>
                    <a:pt x="189" y="1048"/>
                  </a:lnTo>
                  <a:lnTo>
                    <a:pt x="193" y="1041"/>
                  </a:lnTo>
                  <a:lnTo>
                    <a:pt x="192" y="1032"/>
                  </a:lnTo>
                  <a:lnTo>
                    <a:pt x="186" y="1023"/>
                  </a:lnTo>
                  <a:lnTo>
                    <a:pt x="175" y="1018"/>
                  </a:lnTo>
                  <a:lnTo>
                    <a:pt x="162" y="1015"/>
                  </a:lnTo>
                  <a:lnTo>
                    <a:pt x="150" y="1012"/>
                  </a:lnTo>
                  <a:lnTo>
                    <a:pt x="139" y="1008"/>
                  </a:lnTo>
                  <a:lnTo>
                    <a:pt x="130" y="1004"/>
                  </a:lnTo>
                  <a:lnTo>
                    <a:pt x="118" y="1006"/>
                  </a:lnTo>
                  <a:lnTo>
                    <a:pt x="108" y="999"/>
                  </a:lnTo>
                  <a:lnTo>
                    <a:pt x="101" y="990"/>
                  </a:lnTo>
                  <a:lnTo>
                    <a:pt x="97" y="982"/>
                  </a:lnTo>
                  <a:lnTo>
                    <a:pt x="109" y="980"/>
                  </a:lnTo>
                  <a:lnTo>
                    <a:pt x="122" y="976"/>
                  </a:lnTo>
                  <a:lnTo>
                    <a:pt x="115" y="968"/>
                  </a:lnTo>
                  <a:lnTo>
                    <a:pt x="102" y="968"/>
                  </a:lnTo>
                  <a:lnTo>
                    <a:pt x="88" y="971"/>
                  </a:lnTo>
                  <a:lnTo>
                    <a:pt x="81" y="967"/>
                  </a:lnTo>
                  <a:lnTo>
                    <a:pt x="76" y="961"/>
                  </a:lnTo>
                  <a:lnTo>
                    <a:pt x="69" y="957"/>
                  </a:lnTo>
                  <a:lnTo>
                    <a:pt x="63" y="950"/>
                  </a:lnTo>
                  <a:lnTo>
                    <a:pt x="56" y="956"/>
                  </a:lnTo>
                  <a:lnTo>
                    <a:pt x="60" y="966"/>
                  </a:lnTo>
                  <a:lnTo>
                    <a:pt x="65" y="975"/>
                  </a:lnTo>
                  <a:lnTo>
                    <a:pt x="62" y="982"/>
                  </a:lnTo>
                  <a:lnTo>
                    <a:pt x="48" y="984"/>
                  </a:lnTo>
                  <a:lnTo>
                    <a:pt x="34" y="983"/>
                  </a:lnTo>
                  <a:lnTo>
                    <a:pt x="34" y="973"/>
                  </a:lnTo>
                  <a:lnTo>
                    <a:pt x="34" y="964"/>
                  </a:lnTo>
                  <a:lnTo>
                    <a:pt x="32" y="955"/>
                  </a:lnTo>
                  <a:lnTo>
                    <a:pt x="31" y="945"/>
                  </a:lnTo>
                  <a:lnTo>
                    <a:pt x="28" y="936"/>
                  </a:lnTo>
                  <a:lnTo>
                    <a:pt x="23" y="928"/>
                  </a:lnTo>
                  <a:lnTo>
                    <a:pt x="17" y="919"/>
                  </a:lnTo>
                  <a:lnTo>
                    <a:pt x="13" y="910"/>
                  </a:lnTo>
                  <a:lnTo>
                    <a:pt x="13" y="901"/>
                  </a:lnTo>
                  <a:lnTo>
                    <a:pt x="10" y="892"/>
                  </a:lnTo>
                  <a:lnTo>
                    <a:pt x="10" y="883"/>
                  </a:lnTo>
                  <a:lnTo>
                    <a:pt x="6" y="875"/>
                  </a:lnTo>
                  <a:lnTo>
                    <a:pt x="0" y="872"/>
                  </a:lnTo>
                  <a:lnTo>
                    <a:pt x="14" y="870"/>
                  </a:lnTo>
                  <a:lnTo>
                    <a:pt x="27" y="869"/>
                  </a:lnTo>
                  <a:lnTo>
                    <a:pt x="39" y="869"/>
                  </a:lnTo>
                  <a:lnTo>
                    <a:pt x="53" y="868"/>
                  </a:lnTo>
                  <a:lnTo>
                    <a:pt x="58" y="860"/>
                  </a:lnTo>
                  <a:lnTo>
                    <a:pt x="56" y="850"/>
                  </a:lnTo>
                  <a:lnTo>
                    <a:pt x="56" y="841"/>
                  </a:lnTo>
                  <a:lnTo>
                    <a:pt x="62" y="834"/>
                  </a:lnTo>
                  <a:lnTo>
                    <a:pt x="59" y="825"/>
                  </a:lnTo>
                  <a:lnTo>
                    <a:pt x="48" y="820"/>
                  </a:lnTo>
                  <a:lnTo>
                    <a:pt x="35" y="817"/>
                  </a:lnTo>
                  <a:lnTo>
                    <a:pt x="27" y="810"/>
                  </a:lnTo>
                  <a:lnTo>
                    <a:pt x="25" y="801"/>
                  </a:lnTo>
                  <a:lnTo>
                    <a:pt x="24" y="793"/>
                  </a:lnTo>
                  <a:lnTo>
                    <a:pt x="18" y="786"/>
                  </a:lnTo>
                  <a:lnTo>
                    <a:pt x="18" y="778"/>
                  </a:lnTo>
                  <a:lnTo>
                    <a:pt x="14" y="769"/>
                  </a:lnTo>
                  <a:lnTo>
                    <a:pt x="11" y="760"/>
                  </a:lnTo>
                  <a:lnTo>
                    <a:pt x="14" y="753"/>
                  </a:lnTo>
                  <a:lnTo>
                    <a:pt x="16" y="746"/>
                  </a:lnTo>
                  <a:lnTo>
                    <a:pt x="30" y="746"/>
                  </a:lnTo>
                  <a:lnTo>
                    <a:pt x="42" y="744"/>
                  </a:lnTo>
                  <a:lnTo>
                    <a:pt x="55" y="741"/>
                  </a:lnTo>
                  <a:lnTo>
                    <a:pt x="67" y="738"/>
                  </a:lnTo>
                  <a:lnTo>
                    <a:pt x="67" y="728"/>
                  </a:lnTo>
                  <a:lnTo>
                    <a:pt x="69" y="721"/>
                  </a:lnTo>
                  <a:lnTo>
                    <a:pt x="83" y="720"/>
                  </a:lnTo>
                  <a:lnTo>
                    <a:pt x="93" y="715"/>
                  </a:lnTo>
                  <a:lnTo>
                    <a:pt x="93" y="705"/>
                  </a:lnTo>
                  <a:lnTo>
                    <a:pt x="95" y="698"/>
                  </a:lnTo>
                  <a:lnTo>
                    <a:pt x="109" y="697"/>
                  </a:lnTo>
                  <a:lnTo>
                    <a:pt x="105" y="688"/>
                  </a:lnTo>
                  <a:lnTo>
                    <a:pt x="109" y="681"/>
                  </a:lnTo>
                  <a:lnTo>
                    <a:pt x="112" y="673"/>
                  </a:lnTo>
                  <a:lnTo>
                    <a:pt x="111" y="664"/>
                  </a:lnTo>
                  <a:lnTo>
                    <a:pt x="112" y="658"/>
                  </a:lnTo>
                  <a:lnTo>
                    <a:pt x="100" y="653"/>
                  </a:lnTo>
                  <a:lnTo>
                    <a:pt x="91" y="646"/>
                  </a:lnTo>
                  <a:lnTo>
                    <a:pt x="84" y="638"/>
                  </a:lnTo>
                  <a:lnTo>
                    <a:pt x="94" y="634"/>
                  </a:lnTo>
                  <a:lnTo>
                    <a:pt x="107" y="630"/>
                  </a:lnTo>
                  <a:lnTo>
                    <a:pt x="119" y="626"/>
                  </a:lnTo>
                  <a:lnTo>
                    <a:pt x="128" y="622"/>
                  </a:lnTo>
                  <a:lnTo>
                    <a:pt x="122" y="614"/>
                  </a:lnTo>
                  <a:lnTo>
                    <a:pt x="119" y="605"/>
                  </a:lnTo>
                  <a:lnTo>
                    <a:pt x="123" y="599"/>
                  </a:lnTo>
                  <a:lnTo>
                    <a:pt x="121" y="590"/>
                  </a:lnTo>
                  <a:lnTo>
                    <a:pt x="121" y="581"/>
                  </a:lnTo>
                  <a:lnTo>
                    <a:pt x="121" y="571"/>
                  </a:lnTo>
                  <a:lnTo>
                    <a:pt x="125" y="562"/>
                  </a:lnTo>
                  <a:lnTo>
                    <a:pt x="123" y="553"/>
                  </a:lnTo>
                  <a:lnTo>
                    <a:pt x="129" y="545"/>
                  </a:lnTo>
                  <a:lnTo>
                    <a:pt x="135" y="535"/>
                  </a:lnTo>
                  <a:lnTo>
                    <a:pt x="133" y="526"/>
                  </a:lnTo>
                  <a:lnTo>
                    <a:pt x="133" y="517"/>
                  </a:lnTo>
                  <a:lnTo>
                    <a:pt x="143" y="512"/>
                  </a:lnTo>
                  <a:lnTo>
                    <a:pt x="147" y="503"/>
                  </a:lnTo>
                  <a:lnTo>
                    <a:pt x="151" y="494"/>
                  </a:lnTo>
                  <a:lnTo>
                    <a:pt x="164" y="491"/>
                  </a:lnTo>
                  <a:lnTo>
                    <a:pt x="169" y="483"/>
                  </a:lnTo>
                  <a:lnTo>
                    <a:pt x="172" y="474"/>
                  </a:lnTo>
                  <a:lnTo>
                    <a:pt x="181" y="467"/>
                  </a:lnTo>
                  <a:lnTo>
                    <a:pt x="183" y="458"/>
                  </a:lnTo>
                  <a:lnTo>
                    <a:pt x="182" y="449"/>
                  </a:lnTo>
                  <a:lnTo>
                    <a:pt x="176" y="442"/>
                  </a:lnTo>
                  <a:lnTo>
                    <a:pt x="183" y="433"/>
                  </a:lnTo>
                  <a:lnTo>
                    <a:pt x="189" y="420"/>
                  </a:lnTo>
                  <a:lnTo>
                    <a:pt x="196" y="412"/>
                  </a:lnTo>
                  <a:lnTo>
                    <a:pt x="209" y="415"/>
                  </a:lnTo>
                  <a:lnTo>
                    <a:pt x="209" y="410"/>
                  </a:lnTo>
                  <a:lnTo>
                    <a:pt x="206" y="401"/>
                  </a:lnTo>
                  <a:lnTo>
                    <a:pt x="199" y="395"/>
                  </a:lnTo>
                  <a:lnTo>
                    <a:pt x="188" y="394"/>
                  </a:lnTo>
                  <a:lnTo>
                    <a:pt x="189" y="385"/>
                  </a:lnTo>
                  <a:lnTo>
                    <a:pt x="197" y="377"/>
                  </a:lnTo>
                  <a:lnTo>
                    <a:pt x="207" y="376"/>
                  </a:lnTo>
                  <a:lnTo>
                    <a:pt x="217" y="370"/>
                  </a:lnTo>
                  <a:lnTo>
                    <a:pt x="228" y="372"/>
                  </a:lnTo>
                  <a:lnTo>
                    <a:pt x="237" y="379"/>
                  </a:lnTo>
                  <a:lnTo>
                    <a:pt x="241" y="387"/>
                  </a:lnTo>
                  <a:lnTo>
                    <a:pt x="245" y="396"/>
                  </a:lnTo>
                  <a:lnTo>
                    <a:pt x="249" y="405"/>
                  </a:lnTo>
                  <a:lnTo>
                    <a:pt x="253" y="414"/>
                  </a:lnTo>
                  <a:lnTo>
                    <a:pt x="256" y="423"/>
                  </a:lnTo>
                  <a:lnTo>
                    <a:pt x="267" y="428"/>
                  </a:lnTo>
                  <a:lnTo>
                    <a:pt x="278" y="432"/>
                  </a:lnTo>
                  <a:lnTo>
                    <a:pt x="291" y="432"/>
                  </a:lnTo>
                  <a:lnTo>
                    <a:pt x="304" y="432"/>
                  </a:lnTo>
                  <a:lnTo>
                    <a:pt x="312" y="427"/>
                  </a:lnTo>
                  <a:lnTo>
                    <a:pt x="319" y="419"/>
                  </a:lnTo>
                  <a:lnTo>
                    <a:pt x="327" y="413"/>
                  </a:lnTo>
                  <a:lnTo>
                    <a:pt x="329" y="403"/>
                  </a:lnTo>
                  <a:lnTo>
                    <a:pt x="327" y="394"/>
                  </a:lnTo>
                  <a:lnTo>
                    <a:pt x="334" y="388"/>
                  </a:lnTo>
                  <a:lnTo>
                    <a:pt x="346" y="383"/>
                  </a:lnTo>
                  <a:lnTo>
                    <a:pt x="355" y="384"/>
                  </a:lnTo>
                  <a:lnTo>
                    <a:pt x="355" y="393"/>
                  </a:lnTo>
                  <a:lnTo>
                    <a:pt x="365" y="398"/>
                  </a:lnTo>
                  <a:lnTo>
                    <a:pt x="379" y="398"/>
                  </a:lnTo>
                  <a:lnTo>
                    <a:pt x="392" y="398"/>
                  </a:lnTo>
                  <a:lnTo>
                    <a:pt x="395" y="406"/>
                  </a:lnTo>
                  <a:lnTo>
                    <a:pt x="396" y="414"/>
                  </a:lnTo>
                  <a:lnTo>
                    <a:pt x="406" y="415"/>
                  </a:lnTo>
                  <a:lnTo>
                    <a:pt x="418" y="417"/>
                  </a:lnTo>
                  <a:lnTo>
                    <a:pt x="429" y="420"/>
                  </a:lnTo>
                  <a:lnTo>
                    <a:pt x="442" y="425"/>
                  </a:lnTo>
                  <a:lnTo>
                    <a:pt x="449" y="418"/>
                  </a:lnTo>
                  <a:lnTo>
                    <a:pt x="455" y="410"/>
                  </a:lnTo>
                  <a:lnTo>
                    <a:pt x="460" y="411"/>
                  </a:lnTo>
                  <a:lnTo>
                    <a:pt x="469" y="408"/>
                  </a:lnTo>
                  <a:lnTo>
                    <a:pt x="474" y="400"/>
                  </a:lnTo>
                  <a:lnTo>
                    <a:pt x="484" y="398"/>
                  </a:lnTo>
                  <a:lnTo>
                    <a:pt x="494" y="404"/>
                  </a:lnTo>
                  <a:lnTo>
                    <a:pt x="504" y="410"/>
                  </a:lnTo>
                  <a:lnTo>
                    <a:pt x="505" y="402"/>
                  </a:lnTo>
                  <a:lnTo>
                    <a:pt x="513" y="396"/>
                  </a:lnTo>
                  <a:lnTo>
                    <a:pt x="522" y="391"/>
                  </a:lnTo>
                  <a:lnTo>
                    <a:pt x="532" y="391"/>
                  </a:lnTo>
                  <a:lnTo>
                    <a:pt x="544" y="395"/>
                  </a:lnTo>
                  <a:lnTo>
                    <a:pt x="557" y="395"/>
                  </a:lnTo>
                  <a:lnTo>
                    <a:pt x="568" y="391"/>
                  </a:lnTo>
                  <a:lnTo>
                    <a:pt x="572" y="383"/>
                  </a:lnTo>
                  <a:lnTo>
                    <a:pt x="585" y="381"/>
                  </a:lnTo>
                  <a:lnTo>
                    <a:pt x="596" y="386"/>
                  </a:lnTo>
                  <a:lnTo>
                    <a:pt x="606" y="385"/>
                  </a:lnTo>
                  <a:lnTo>
                    <a:pt x="611" y="377"/>
                  </a:lnTo>
                  <a:lnTo>
                    <a:pt x="620" y="370"/>
                  </a:lnTo>
                  <a:lnTo>
                    <a:pt x="625" y="362"/>
                  </a:lnTo>
                  <a:lnTo>
                    <a:pt x="628" y="353"/>
                  </a:lnTo>
                  <a:lnTo>
                    <a:pt x="629" y="344"/>
                  </a:lnTo>
                  <a:lnTo>
                    <a:pt x="627" y="335"/>
                  </a:lnTo>
                  <a:lnTo>
                    <a:pt x="620" y="327"/>
                  </a:lnTo>
                  <a:lnTo>
                    <a:pt x="620" y="318"/>
                  </a:lnTo>
                  <a:lnTo>
                    <a:pt x="629" y="311"/>
                  </a:lnTo>
                  <a:lnTo>
                    <a:pt x="635" y="303"/>
                  </a:lnTo>
                  <a:lnTo>
                    <a:pt x="636" y="294"/>
                  </a:lnTo>
                  <a:lnTo>
                    <a:pt x="641" y="285"/>
                  </a:lnTo>
                  <a:lnTo>
                    <a:pt x="635" y="277"/>
                  </a:lnTo>
                  <a:lnTo>
                    <a:pt x="632" y="268"/>
                  </a:lnTo>
                  <a:lnTo>
                    <a:pt x="635" y="259"/>
                  </a:lnTo>
                  <a:lnTo>
                    <a:pt x="643" y="251"/>
                  </a:lnTo>
                  <a:lnTo>
                    <a:pt x="653" y="246"/>
                  </a:lnTo>
                  <a:lnTo>
                    <a:pt x="664" y="248"/>
                  </a:lnTo>
                  <a:lnTo>
                    <a:pt x="669" y="244"/>
                  </a:lnTo>
                  <a:lnTo>
                    <a:pt x="673" y="235"/>
                  </a:lnTo>
                  <a:lnTo>
                    <a:pt x="680" y="228"/>
                  </a:lnTo>
                  <a:lnTo>
                    <a:pt x="691" y="224"/>
                  </a:lnTo>
                  <a:lnTo>
                    <a:pt x="703" y="220"/>
                  </a:lnTo>
                  <a:lnTo>
                    <a:pt x="716" y="218"/>
                  </a:lnTo>
                  <a:lnTo>
                    <a:pt x="724" y="218"/>
                  </a:lnTo>
                  <a:lnTo>
                    <a:pt x="737" y="217"/>
                  </a:lnTo>
                  <a:lnTo>
                    <a:pt x="750" y="216"/>
                  </a:lnTo>
                  <a:lnTo>
                    <a:pt x="764" y="216"/>
                  </a:lnTo>
                  <a:lnTo>
                    <a:pt x="772" y="219"/>
                  </a:lnTo>
                  <a:lnTo>
                    <a:pt x="769" y="229"/>
                  </a:lnTo>
                  <a:lnTo>
                    <a:pt x="779" y="232"/>
                  </a:lnTo>
                  <a:lnTo>
                    <a:pt x="786" y="235"/>
                  </a:lnTo>
                  <a:lnTo>
                    <a:pt x="794" y="236"/>
                  </a:lnTo>
                  <a:lnTo>
                    <a:pt x="804" y="240"/>
                  </a:lnTo>
                  <a:lnTo>
                    <a:pt x="814" y="234"/>
                  </a:lnTo>
                  <a:lnTo>
                    <a:pt x="824" y="235"/>
                  </a:lnTo>
                  <a:lnTo>
                    <a:pt x="833" y="241"/>
                  </a:lnTo>
                  <a:lnTo>
                    <a:pt x="843" y="246"/>
                  </a:lnTo>
                  <a:lnTo>
                    <a:pt x="856" y="250"/>
                  </a:lnTo>
                  <a:lnTo>
                    <a:pt x="867" y="250"/>
                  </a:lnTo>
                  <a:lnTo>
                    <a:pt x="877" y="24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44800" y="4808520"/>
              <a:ext cx="1330200" cy="1117440"/>
            </a:xfrm>
            <a:custGeom>
              <a:avLst/>
              <a:gdLst/>
              <a:ahLst/>
              <a:rect l="l" t="t" r="r" b="b"/>
              <a:pathLst>
                <a:path w="2513" h="1408">
                  <a:moveTo>
                    <a:pt x="876" y="243"/>
                  </a:moveTo>
                  <a:lnTo>
                    <a:pt x="889" y="246"/>
                  </a:lnTo>
                  <a:lnTo>
                    <a:pt x="900" y="251"/>
                  </a:lnTo>
                  <a:lnTo>
                    <a:pt x="911" y="249"/>
                  </a:lnTo>
                  <a:lnTo>
                    <a:pt x="921" y="250"/>
                  </a:lnTo>
                  <a:lnTo>
                    <a:pt x="924" y="240"/>
                  </a:lnTo>
                  <a:lnTo>
                    <a:pt x="942" y="233"/>
                  </a:lnTo>
                  <a:lnTo>
                    <a:pt x="953" y="236"/>
                  </a:lnTo>
                  <a:lnTo>
                    <a:pt x="964" y="232"/>
                  </a:lnTo>
                  <a:lnTo>
                    <a:pt x="976" y="236"/>
                  </a:lnTo>
                  <a:lnTo>
                    <a:pt x="981" y="245"/>
                  </a:lnTo>
                  <a:lnTo>
                    <a:pt x="988" y="253"/>
                  </a:lnTo>
                  <a:lnTo>
                    <a:pt x="991" y="263"/>
                  </a:lnTo>
                  <a:lnTo>
                    <a:pt x="994" y="271"/>
                  </a:lnTo>
                  <a:lnTo>
                    <a:pt x="1004" y="267"/>
                  </a:lnTo>
                  <a:lnTo>
                    <a:pt x="1015" y="274"/>
                  </a:lnTo>
                  <a:lnTo>
                    <a:pt x="1023" y="267"/>
                  </a:lnTo>
                  <a:lnTo>
                    <a:pt x="1030" y="258"/>
                  </a:lnTo>
                  <a:lnTo>
                    <a:pt x="1030" y="250"/>
                  </a:lnTo>
                  <a:lnTo>
                    <a:pt x="1018" y="253"/>
                  </a:lnTo>
                  <a:lnTo>
                    <a:pt x="1013" y="265"/>
                  </a:lnTo>
                  <a:lnTo>
                    <a:pt x="1012" y="259"/>
                  </a:lnTo>
                  <a:lnTo>
                    <a:pt x="999" y="253"/>
                  </a:lnTo>
                  <a:lnTo>
                    <a:pt x="1001" y="244"/>
                  </a:lnTo>
                  <a:lnTo>
                    <a:pt x="998" y="234"/>
                  </a:lnTo>
                  <a:lnTo>
                    <a:pt x="995" y="225"/>
                  </a:lnTo>
                  <a:lnTo>
                    <a:pt x="991" y="217"/>
                  </a:lnTo>
                  <a:lnTo>
                    <a:pt x="985" y="208"/>
                  </a:lnTo>
                  <a:lnTo>
                    <a:pt x="988" y="199"/>
                  </a:lnTo>
                  <a:lnTo>
                    <a:pt x="999" y="196"/>
                  </a:lnTo>
                  <a:lnTo>
                    <a:pt x="1012" y="196"/>
                  </a:lnTo>
                  <a:lnTo>
                    <a:pt x="1023" y="190"/>
                  </a:lnTo>
                  <a:lnTo>
                    <a:pt x="1034" y="189"/>
                  </a:lnTo>
                  <a:lnTo>
                    <a:pt x="1048" y="190"/>
                  </a:lnTo>
                  <a:lnTo>
                    <a:pt x="1046" y="200"/>
                  </a:lnTo>
                  <a:lnTo>
                    <a:pt x="1055" y="202"/>
                  </a:lnTo>
                  <a:lnTo>
                    <a:pt x="1069" y="202"/>
                  </a:lnTo>
                  <a:lnTo>
                    <a:pt x="1074" y="194"/>
                  </a:lnTo>
                  <a:lnTo>
                    <a:pt x="1078" y="186"/>
                  </a:lnTo>
                  <a:lnTo>
                    <a:pt x="1081" y="196"/>
                  </a:lnTo>
                  <a:lnTo>
                    <a:pt x="1090" y="197"/>
                  </a:lnTo>
                  <a:lnTo>
                    <a:pt x="1101" y="193"/>
                  </a:lnTo>
                  <a:lnTo>
                    <a:pt x="1107" y="185"/>
                  </a:lnTo>
                  <a:lnTo>
                    <a:pt x="1117" y="179"/>
                  </a:lnTo>
                  <a:lnTo>
                    <a:pt x="1128" y="174"/>
                  </a:lnTo>
                  <a:lnTo>
                    <a:pt x="1135" y="168"/>
                  </a:lnTo>
                  <a:lnTo>
                    <a:pt x="1148" y="166"/>
                  </a:lnTo>
                  <a:lnTo>
                    <a:pt x="1162" y="168"/>
                  </a:lnTo>
                  <a:lnTo>
                    <a:pt x="1167" y="161"/>
                  </a:lnTo>
                  <a:lnTo>
                    <a:pt x="1171" y="152"/>
                  </a:lnTo>
                  <a:lnTo>
                    <a:pt x="1174" y="142"/>
                  </a:lnTo>
                  <a:lnTo>
                    <a:pt x="1176" y="132"/>
                  </a:lnTo>
                  <a:lnTo>
                    <a:pt x="1177" y="124"/>
                  </a:lnTo>
                  <a:lnTo>
                    <a:pt x="1169" y="117"/>
                  </a:lnTo>
                  <a:lnTo>
                    <a:pt x="1160" y="110"/>
                  </a:lnTo>
                  <a:lnTo>
                    <a:pt x="1150" y="105"/>
                  </a:lnTo>
                  <a:lnTo>
                    <a:pt x="1143" y="96"/>
                  </a:lnTo>
                  <a:lnTo>
                    <a:pt x="1143" y="87"/>
                  </a:lnTo>
                  <a:lnTo>
                    <a:pt x="1145" y="78"/>
                  </a:lnTo>
                  <a:lnTo>
                    <a:pt x="1148" y="69"/>
                  </a:lnTo>
                  <a:lnTo>
                    <a:pt x="1148" y="59"/>
                  </a:lnTo>
                  <a:lnTo>
                    <a:pt x="1146" y="50"/>
                  </a:lnTo>
                  <a:lnTo>
                    <a:pt x="1141" y="41"/>
                  </a:lnTo>
                  <a:lnTo>
                    <a:pt x="1143" y="34"/>
                  </a:lnTo>
                  <a:lnTo>
                    <a:pt x="1157" y="31"/>
                  </a:lnTo>
                  <a:lnTo>
                    <a:pt x="1170" y="28"/>
                  </a:lnTo>
                  <a:lnTo>
                    <a:pt x="1183" y="25"/>
                  </a:lnTo>
                  <a:lnTo>
                    <a:pt x="1194" y="21"/>
                  </a:lnTo>
                  <a:lnTo>
                    <a:pt x="1206" y="18"/>
                  </a:lnTo>
                  <a:lnTo>
                    <a:pt x="1219" y="21"/>
                  </a:lnTo>
                  <a:lnTo>
                    <a:pt x="1231" y="23"/>
                  </a:lnTo>
                  <a:lnTo>
                    <a:pt x="1244" y="24"/>
                  </a:lnTo>
                  <a:lnTo>
                    <a:pt x="1252" y="16"/>
                  </a:lnTo>
                  <a:lnTo>
                    <a:pt x="1261" y="15"/>
                  </a:lnTo>
                  <a:lnTo>
                    <a:pt x="1272" y="22"/>
                  </a:lnTo>
                  <a:lnTo>
                    <a:pt x="1285" y="25"/>
                  </a:lnTo>
                  <a:lnTo>
                    <a:pt x="1297" y="28"/>
                  </a:lnTo>
                  <a:lnTo>
                    <a:pt x="1310" y="27"/>
                  </a:lnTo>
                  <a:lnTo>
                    <a:pt x="1315" y="18"/>
                  </a:lnTo>
                  <a:lnTo>
                    <a:pt x="1328" y="17"/>
                  </a:lnTo>
                  <a:lnTo>
                    <a:pt x="1341" y="16"/>
                  </a:lnTo>
                  <a:lnTo>
                    <a:pt x="1353" y="13"/>
                  </a:lnTo>
                  <a:lnTo>
                    <a:pt x="1366" y="10"/>
                  </a:lnTo>
                  <a:lnTo>
                    <a:pt x="1378" y="9"/>
                  </a:lnTo>
                  <a:lnTo>
                    <a:pt x="1389" y="4"/>
                  </a:lnTo>
                  <a:lnTo>
                    <a:pt x="1401" y="0"/>
                  </a:lnTo>
                  <a:lnTo>
                    <a:pt x="1413" y="2"/>
                  </a:lnTo>
                  <a:lnTo>
                    <a:pt x="1423" y="7"/>
                  </a:lnTo>
                  <a:lnTo>
                    <a:pt x="1434" y="12"/>
                  </a:lnTo>
                  <a:lnTo>
                    <a:pt x="1445" y="18"/>
                  </a:lnTo>
                  <a:lnTo>
                    <a:pt x="1454" y="25"/>
                  </a:lnTo>
                  <a:lnTo>
                    <a:pt x="1462" y="32"/>
                  </a:lnTo>
                  <a:lnTo>
                    <a:pt x="1461" y="40"/>
                  </a:lnTo>
                  <a:lnTo>
                    <a:pt x="1458" y="50"/>
                  </a:lnTo>
                  <a:lnTo>
                    <a:pt x="1455" y="59"/>
                  </a:lnTo>
                  <a:lnTo>
                    <a:pt x="1454" y="68"/>
                  </a:lnTo>
                  <a:lnTo>
                    <a:pt x="1455" y="77"/>
                  </a:lnTo>
                  <a:lnTo>
                    <a:pt x="1459" y="86"/>
                  </a:lnTo>
                  <a:lnTo>
                    <a:pt x="1465" y="95"/>
                  </a:lnTo>
                  <a:lnTo>
                    <a:pt x="1472" y="103"/>
                  </a:lnTo>
                  <a:lnTo>
                    <a:pt x="1475" y="112"/>
                  </a:lnTo>
                  <a:lnTo>
                    <a:pt x="1485" y="113"/>
                  </a:lnTo>
                  <a:lnTo>
                    <a:pt x="1497" y="117"/>
                  </a:lnTo>
                  <a:lnTo>
                    <a:pt x="1510" y="120"/>
                  </a:lnTo>
                  <a:lnTo>
                    <a:pt x="1521" y="123"/>
                  </a:lnTo>
                  <a:lnTo>
                    <a:pt x="1528" y="130"/>
                  </a:lnTo>
                  <a:lnTo>
                    <a:pt x="1540" y="133"/>
                  </a:lnTo>
                  <a:lnTo>
                    <a:pt x="1546" y="142"/>
                  </a:lnTo>
                  <a:lnTo>
                    <a:pt x="1550" y="151"/>
                  </a:lnTo>
                  <a:lnTo>
                    <a:pt x="1553" y="160"/>
                  </a:lnTo>
                  <a:lnTo>
                    <a:pt x="1549" y="168"/>
                  </a:lnTo>
                  <a:lnTo>
                    <a:pt x="1536" y="170"/>
                  </a:lnTo>
                  <a:lnTo>
                    <a:pt x="1526" y="177"/>
                  </a:lnTo>
                  <a:lnTo>
                    <a:pt x="1519" y="184"/>
                  </a:lnTo>
                  <a:lnTo>
                    <a:pt x="1519" y="193"/>
                  </a:lnTo>
                  <a:lnTo>
                    <a:pt x="1521" y="203"/>
                  </a:lnTo>
                  <a:lnTo>
                    <a:pt x="1522" y="212"/>
                  </a:lnTo>
                  <a:lnTo>
                    <a:pt x="1519" y="221"/>
                  </a:lnTo>
                  <a:lnTo>
                    <a:pt x="1519" y="229"/>
                  </a:lnTo>
                  <a:lnTo>
                    <a:pt x="1518" y="237"/>
                  </a:lnTo>
                  <a:lnTo>
                    <a:pt x="1517" y="246"/>
                  </a:lnTo>
                  <a:lnTo>
                    <a:pt x="1524" y="252"/>
                  </a:lnTo>
                  <a:lnTo>
                    <a:pt x="1538" y="254"/>
                  </a:lnTo>
                  <a:lnTo>
                    <a:pt x="1547" y="260"/>
                  </a:lnTo>
                  <a:lnTo>
                    <a:pt x="1556" y="258"/>
                  </a:lnTo>
                  <a:lnTo>
                    <a:pt x="1564" y="265"/>
                  </a:lnTo>
                  <a:lnTo>
                    <a:pt x="1574" y="266"/>
                  </a:lnTo>
                  <a:lnTo>
                    <a:pt x="1588" y="261"/>
                  </a:lnTo>
                  <a:lnTo>
                    <a:pt x="1599" y="259"/>
                  </a:lnTo>
                  <a:lnTo>
                    <a:pt x="1605" y="264"/>
                  </a:lnTo>
                  <a:lnTo>
                    <a:pt x="1610" y="282"/>
                  </a:lnTo>
                  <a:lnTo>
                    <a:pt x="1602" y="288"/>
                  </a:lnTo>
                  <a:lnTo>
                    <a:pt x="1606" y="293"/>
                  </a:lnTo>
                  <a:lnTo>
                    <a:pt x="1602" y="297"/>
                  </a:lnTo>
                  <a:lnTo>
                    <a:pt x="1595" y="304"/>
                  </a:lnTo>
                  <a:lnTo>
                    <a:pt x="1592" y="313"/>
                  </a:lnTo>
                  <a:lnTo>
                    <a:pt x="1591" y="322"/>
                  </a:lnTo>
                  <a:lnTo>
                    <a:pt x="1587" y="331"/>
                  </a:lnTo>
                  <a:lnTo>
                    <a:pt x="1581" y="339"/>
                  </a:lnTo>
                  <a:lnTo>
                    <a:pt x="1581" y="348"/>
                  </a:lnTo>
                  <a:lnTo>
                    <a:pt x="1578" y="357"/>
                  </a:lnTo>
                  <a:lnTo>
                    <a:pt x="1567" y="363"/>
                  </a:lnTo>
                  <a:lnTo>
                    <a:pt x="1559" y="370"/>
                  </a:lnTo>
                  <a:lnTo>
                    <a:pt x="1546" y="374"/>
                  </a:lnTo>
                  <a:lnTo>
                    <a:pt x="1535" y="376"/>
                  </a:lnTo>
                  <a:lnTo>
                    <a:pt x="1526" y="383"/>
                  </a:lnTo>
                  <a:lnTo>
                    <a:pt x="1514" y="384"/>
                  </a:lnTo>
                  <a:lnTo>
                    <a:pt x="1500" y="385"/>
                  </a:lnTo>
                  <a:lnTo>
                    <a:pt x="1489" y="388"/>
                  </a:lnTo>
                  <a:lnTo>
                    <a:pt x="1493" y="397"/>
                  </a:lnTo>
                  <a:lnTo>
                    <a:pt x="1498" y="405"/>
                  </a:lnTo>
                  <a:lnTo>
                    <a:pt x="1508" y="412"/>
                  </a:lnTo>
                  <a:lnTo>
                    <a:pt x="1521" y="416"/>
                  </a:lnTo>
                  <a:lnTo>
                    <a:pt x="1533" y="416"/>
                  </a:lnTo>
                  <a:lnTo>
                    <a:pt x="1543" y="410"/>
                  </a:lnTo>
                  <a:lnTo>
                    <a:pt x="1552" y="403"/>
                  </a:lnTo>
                  <a:lnTo>
                    <a:pt x="1560" y="396"/>
                  </a:lnTo>
                  <a:lnTo>
                    <a:pt x="1571" y="391"/>
                  </a:lnTo>
                  <a:lnTo>
                    <a:pt x="1585" y="390"/>
                  </a:lnTo>
                  <a:lnTo>
                    <a:pt x="1595" y="386"/>
                  </a:lnTo>
                  <a:lnTo>
                    <a:pt x="1603" y="378"/>
                  </a:lnTo>
                  <a:lnTo>
                    <a:pt x="1613" y="373"/>
                  </a:lnTo>
                  <a:lnTo>
                    <a:pt x="1624" y="369"/>
                  </a:lnTo>
                  <a:lnTo>
                    <a:pt x="1635" y="365"/>
                  </a:lnTo>
                  <a:lnTo>
                    <a:pt x="1648" y="361"/>
                  </a:lnTo>
                  <a:lnTo>
                    <a:pt x="1659" y="357"/>
                  </a:lnTo>
                  <a:lnTo>
                    <a:pt x="1659" y="347"/>
                  </a:lnTo>
                  <a:lnTo>
                    <a:pt x="1658" y="339"/>
                  </a:lnTo>
                  <a:lnTo>
                    <a:pt x="1670" y="337"/>
                  </a:lnTo>
                  <a:lnTo>
                    <a:pt x="1683" y="340"/>
                  </a:lnTo>
                  <a:lnTo>
                    <a:pt x="1696" y="339"/>
                  </a:lnTo>
                  <a:lnTo>
                    <a:pt x="1707" y="334"/>
                  </a:lnTo>
                  <a:lnTo>
                    <a:pt x="1696" y="328"/>
                  </a:lnTo>
                  <a:lnTo>
                    <a:pt x="1696" y="320"/>
                  </a:lnTo>
                  <a:lnTo>
                    <a:pt x="1705" y="315"/>
                  </a:lnTo>
                  <a:lnTo>
                    <a:pt x="1718" y="310"/>
                  </a:lnTo>
                  <a:lnTo>
                    <a:pt x="1731" y="306"/>
                  </a:lnTo>
                  <a:lnTo>
                    <a:pt x="1732" y="298"/>
                  </a:lnTo>
                  <a:lnTo>
                    <a:pt x="1731" y="289"/>
                  </a:lnTo>
                  <a:lnTo>
                    <a:pt x="1732" y="279"/>
                  </a:lnTo>
                  <a:lnTo>
                    <a:pt x="1732" y="270"/>
                  </a:lnTo>
                  <a:lnTo>
                    <a:pt x="1729" y="261"/>
                  </a:lnTo>
                  <a:lnTo>
                    <a:pt x="1725" y="252"/>
                  </a:lnTo>
                  <a:lnTo>
                    <a:pt x="1722" y="243"/>
                  </a:lnTo>
                  <a:lnTo>
                    <a:pt x="1731" y="240"/>
                  </a:lnTo>
                  <a:lnTo>
                    <a:pt x="1738" y="248"/>
                  </a:lnTo>
                  <a:lnTo>
                    <a:pt x="1745" y="254"/>
                  </a:lnTo>
                  <a:lnTo>
                    <a:pt x="1757" y="256"/>
                  </a:lnTo>
                  <a:lnTo>
                    <a:pt x="1771" y="257"/>
                  </a:lnTo>
                  <a:lnTo>
                    <a:pt x="1784" y="258"/>
                  </a:lnTo>
                  <a:lnTo>
                    <a:pt x="1789" y="266"/>
                  </a:lnTo>
                  <a:lnTo>
                    <a:pt x="1796" y="272"/>
                  </a:lnTo>
                  <a:lnTo>
                    <a:pt x="1809" y="277"/>
                  </a:lnTo>
                  <a:lnTo>
                    <a:pt x="1810" y="285"/>
                  </a:lnTo>
                  <a:lnTo>
                    <a:pt x="1805" y="294"/>
                  </a:lnTo>
                  <a:lnTo>
                    <a:pt x="1812" y="301"/>
                  </a:lnTo>
                  <a:lnTo>
                    <a:pt x="1823" y="306"/>
                  </a:lnTo>
                  <a:lnTo>
                    <a:pt x="1834" y="308"/>
                  </a:lnTo>
                  <a:lnTo>
                    <a:pt x="1838" y="298"/>
                  </a:lnTo>
                  <a:lnTo>
                    <a:pt x="1851" y="297"/>
                  </a:lnTo>
                  <a:lnTo>
                    <a:pt x="1855" y="303"/>
                  </a:lnTo>
                  <a:lnTo>
                    <a:pt x="1847" y="311"/>
                  </a:lnTo>
                  <a:lnTo>
                    <a:pt x="1842" y="318"/>
                  </a:lnTo>
                  <a:lnTo>
                    <a:pt x="1849" y="325"/>
                  </a:lnTo>
                  <a:lnTo>
                    <a:pt x="1851" y="334"/>
                  </a:lnTo>
                  <a:lnTo>
                    <a:pt x="1852" y="343"/>
                  </a:lnTo>
                  <a:lnTo>
                    <a:pt x="1848" y="352"/>
                  </a:lnTo>
                  <a:lnTo>
                    <a:pt x="1848" y="361"/>
                  </a:lnTo>
                  <a:lnTo>
                    <a:pt x="1841" y="369"/>
                  </a:lnTo>
                  <a:lnTo>
                    <a:pt x="1833" y="376"/>
                  </a:lnTo>
                  <a:lnTo>
                    <a:pt x="1827" y="384"/>
                  </a:lnTo>
                  <a:lnTo>
                    <a:pt x="1835" y="390"/>
                  </a:lnTo>
                  <a:lnTo>
                    <a:pt x="1848" y="394"/>
                  </a:lnTo>
                  <a:lnTo>
                    <a:pt x="1859" y="397"/>
                  </a:lnTo>
                  <a:lnTo>
                    <a:pt x="1868" y="404"/>
                  </a:lnTo>
                  <a:lnTo>
                    <a:pt x="1877" y="408"/>
                  </a:lnTo>
                  <a:lnTo>
                    <a:pt x="1890" y="409"/>
                  </a:lnTo>
                  <a:lnTo>
                    <a:pt x="1901" y="404"/>
                  </a:lnTo>
                  <a:lnTo>
                    <a:pt x="1911" y="400"/>
                  </a:lnTo>
                  <a:lnTo>
                    <a:pt x="1919" y="408"/>
                  </a:lnTo>
                  <a:lnTo>
                    <a:pt x="1916" y="416"/>
                  </a:lnTo>
                  <a:lnTo>
                    <a:pt x="1904" y="419"/>
                  </a:lnTo>
                  <a:lnTo>
                    <a:pt x="1901" y="426"/>
                  </a:lnTo>
                  <a:lnTo>
                    <a:pt x="1909" y="433"/>
                  </a:lnTo>
                  <a:lnTo>
                    <a:pt x="1914" y="451"/>
                  </a:lnTo>
                  <a:lnTo>
                    <a:pt x="1921" y="456"/>
                  </a:lnTo>
                  <a:lnTo>
                    <a:pt x="1935" y="459"/>
                  </a:lnTo>
                  <a:lnTo>
                    <a:pt x="1944" y="465"/>
                  </a:lnTo>
                  <a:lnTo>
                    <a:pt x="1953" y="472"/>
                  </a:lnTo>
                  <a:lnTo>
                    <a:pt x="1954" y="481"/>
                  </a:lnTo>
                  <a:lnTo>
                    <a:pt x="1958" y="488"/>
                  </a:lnTo>
                  <a:lnTo>
                    <a:pt x="1971" y="485"/>
                  </a:lnTo>
                  <a:lnTo>
                    <a:pt x="1978" y="478"/>
                  </a:lnTo>
                  <a:lnTo>
                    <a:pt x="1986" y="471"/>
                  </a:lnTo>
                  <a:lnTo>
                    <a:pt x="1999" y="468"/>
                  </a:lnTo>
                  <a:lnTo>
                    <a:pt x="2005" y="476"/>
                  </a:lnTo>
                  <a:lnTo>
                    <a:pt x="2005" y="486"/>
                  </a:lnTo>
                  <a:lnTo>
                    <a:pt x="2012" y="493"/>
                  </a:lnTo>
                  <a:lnTo>
                    <a:pt x="2023" y="498"/>
                  </a:lnTo>
                  <a:lnTo>
                    <a:pt x="2034" y="503"/>
                  </a:lnTo>
                  <a:lnTo>
                    <a:pt x="2045" y="508"/>
                  </a:lnTo>
                  <a:lnTo>
                    <a:pt x="2055" y="514"/>
                  </a:lnTo>
                  <a:lnTo>
                    <a:pt x="2062" y="522"/>
                  </a:lnTo>
                  <a:lnTo>
                    <a:pt x="2069" y="530"/>
                  </a:lnTo>
                  <a:lnTo>
                    <a:pt x="2077" y="537"/>
                  </a:lnTo>
                  <a:lnTo>
                    <a:pt x="2084" y="545"/>
                  </a:lnTo>
                  <a:lnTo>
                    <a:pt x="2091" y="552"/>
                  </a:lnTo>
                  <a:lnTo>
                    <a:pt x="2102" y="558"/>
                  </a:lnTo>
                  <a:lnTo>
                    <a:pt x="2111" y="565"/>
                  </a:lnTo>
                  <a:lnTo>
                    <a:pt x="2119" y="572"/>
                  </a:lnTo>
                  <a:lnTo>
                    <a:pt x="2130" y="577"/>
                  </a:lnTo>
                  <a:lnTo>
                    <a:pt x="2136" y="585"/>
                  </a:lnTo>
                  <a:lnTo>
                    <a:pt x="2142" y="594"/>
                  </a:lnTo>
                  <a:lnTo>
                    <a:pt x="2144" y="605"/>
                  </a:lnTo>
                  <a:lnTo>
                    <a:pt x="2151" y="600"/>
                  </a:lnTo>
                  <a:lnTo>
                    <a:pt x="2161" y="592"/>
                  </a:lnTo>
                  <a:lnTo>
                    <a:pt x="2171" y="596"/>
                  </a:lnTo>
                  <a:lnTo>
                    <a:pt x="2182" y="602"/>
                  </a:lnTo>
                  <a:lnTo>
                    <a:pt x="2193" y="607"/>
                  </a:lnTo>
                  <a:lnTo>
                    <a:pt x="2204" y="611"/>
                  </a:lnTo>
                  <a:lnTo>
                    <a:pt x="2211" y="619"/>
                  </a:lnTo>
                  <a:lnTo>
                    <a:pt x="2221" y="615"/>
                  </a:lnTo>
                  <a:lnTo>
                    <a:pt x="2231" y="615"/>
                  </a:lnTo>
                  <a:lnTo>
                    <a:pt x="2241" y="622"/>
                  </a:lnTo>
                  <a:lnTo>
                    <a:pt x="2251" y="628"/>
                  </a:lnTo>
                  <a:lnTo>
                    <a:pt x="2258" y="637"/>
                  </a:lnTo>
                  <a:lnTo>
                    <a:pt x="2267" y="637"/>
                  </a:lnTo>
                  <a:lnTo>
                    <a:pt x="2279" y="634"/>
                  </a:lnTo>
                  <a:lnTo>
                    <a:pt x="2290" y="634"/>
                  </a:lnTo>
                  <a:lnTo>
                    <a:pt x="2302" y="631"/>
                  </a:lnTo>
                  <a:lnTo>
                    <a:pt x="2315" y="629"/>
                  </a:lnTo>
                  <a:lnTo>
                    <a:pt x="2326" y="633"/>
                  </a:lnTo>
                  <a:lnTo>
                    <a:pt x="2332" y="642"/>
                  </a:lnTo>
                  <a:lnTo>
                    <a:pt x="2344" y="642"/>
                  </a:lnTo>
                  <a:lnTo>
                    <a:pt x="2357" y="641"/>
                  </a:lnTo>
                  <a:lnTo>
                    <a:pt x="2371" y="641"/>
                  </a:lnTo>
                  <a:lnTo>
                    <a:pt x="2383" y="641"/>
                  </a:lnTo>
                  <a:lnTo>
                    <a:pt x="2407" y="641"/>
                  </a:lnTo>
                  <a:lnTo>
                    <a:pt x="2420" y="641"/>
                  </a:lnTo>
                  <a:lnTo>
                    <a:pt x="2431" y="643"/>
                  </a:lnTo>
                  <a:lnTo>
                    <a:pt x="2443" y="647"/>
                  </a:lnTo>
                  <a:lnTo>
                    <a:pt x="2456" y="650"/>
                  </a:lnTo>
                  <a:lnTo>
                    <a:pt x="2455" y="658"/>
                  </a:lnTo>
                  <a:lnTo>
                    <a:pt x="2452" y="668"/>
                  </a:lnTo>
                  <a:lnTo>
                    <a:pt x="2445" y="674"/>
                  </a:lnTo>
                  <a:lnTo>
                    <a:pt x="2443" y="683"/>
                  </a:lnTo>
                  <a:lnTo>
                    <a:pt x="2443" y="692"/>
                  </a:lnTo>
                  <a:lnTo>
                    <a:pt x="2446" y="701"/>
                  </a:lnTo>
                  <a:lnTo>
                    <a:pt x="2449" y="710"/>
                  </a:lnTo>
                  <a:lnTo>
                    <a:pt x="2457" y="718"/>
                  </a:lnTo>
                  <a:lnTo>
                    <a:pt x="2457" y="726"/>
                  </a:lnTo>
                  <a:lnTo>
                    <a:pt x="2455" y="736"/>
                  </a:lnTo>
                  <a:lnTo>
                    <a:pt x="2453" y="745"/>
                  </a:lnTo>
                  <a:lnTo>
                    <a:pt x="2459" y="753"/>
                  </a:lnTo>
                  <a:lnTo>
                    <a:pt x="2467" y="760"/>
                  </a:lnTo>
                  <a:lnTo>
                    <a:pt x="2480" y="758"/>
                  </a:lnTo>
                  <a:lnTo>
                    <a:pt x="2492" y="757"/>
                  </a:lnTo>
                  <a:lnTo>
                    <a:pt x="2506" y="758"/>
                  </a:lnTo>
                  <a:lnTo>
                    <a:pt x="2513" y="765"/>
                  </a:lnTo>
                  <a:lnTo>
                    <a:pt x="2511" y="771"/>
                  </a:lnTo>
                  <a:lnTo>
                    <a:pt x="2498" y="774"/>
                  </a:lnTo>
                  <a:lnTo>
                    <a:pt x="2491" y="782"/>
                  </a:lnTo>
                  <a:lnTo>
                    <a:pt x="2480" y="785"/>
                  </a:lnTo>
                  <a:lnTo>
                    <a:pt x="2469" y="780"/>
                  </a:lnTo>
                  <a:lnTo>
                    <a:pt x="2463" y="788"/>
                  </a:lnTo>
                  <a:lnTo>
                    <a:pt x="2469" y="796"/>
                  </a:lnTo>
                  <a:lnTo>
                    <a:pt x="2476" y="800"/>
                  </a:lnTo>
                  <a:lnTo>
                    <a:pt x="2470" y="808"/>
                  </a:lnTo>
                  <a:lnTo>
                    <a:pt x="2481" y="813"/>
                  </a:lnTo>
                  <a:lnTo>
                    <a:pt x="2492" y="819"/>
                  </a:lnTo>
                  <a:lnTo>
                    <a:pt x="2505" y="823"/>
                  </a:lnTo>
                  <a:lnTo>
                    <a:pt x="2504" y="830"/>
                  </a:lnTo>
                  <a:lnTo>
                    <a:pt x="2495" y="838"/>
                  </a:lnTo>
                  <a:lnTo>
                    <a:pt x="2491" y="847"/>
                  </a:lnTo>
                  <a:lnTo>
                    <a:pt x="2485" y="855"/>
                  </a:lnTo>
                  <a:lnTo>
                    <a:pt x="2480" y="864"/>
                  </a:lnTo>
                  <a:lnTo>
                    <a:pt x="2473" y="872"/>
                  </a:lnTo>
                  <a:lnTo>
                    <a:pt x="2466" y="880"/>
                  </a:lnTo>
                  <a:lnTo>
                    <a:pt x="2459" y="887"/>
                  </a:lnTo>
                  <a:lnTo>
                    <a:pt x="2450" y="895"/>
                  </a:lnTo>
                  <a:lnTo>
                    <a:pt x="2445" y="903"/>
                  </a:lnTo>
                  <a:lnTo>
                    <a:pt x="2446" y="912"/>
                  </a:lnTo>
                  <a:lnTo>
                    <a:pt x="2449" y="921"/>
                  </a:lnTo>
                  <a:lnTo>
                    <a:pt x="2445" y="930"/>
                  </a:lnTo>
                  <a:lnTo>
                    <a:pt x="2439" y="939"/>
                  </a:lnTo>
                  <a:lnTo>
                    <a:pt x="2431" y="947"/>
                  </a:lnTo>
                  <a:lnTo>
                    <a:pt x="2423" y="950"/>
                  </a:lnTo>
                  <a:lnTo>
                    <a:pt x="2418" y="956"/>
                  </a:lnTo>
                  <a:lnTo>
                    <a:pt x="2429" y="957"/>
                  </a:lnTo>
                  <a:lnTo>
                    <a:pt x="2442" y="959"/>
                  </a:lnTo>
                  <a:lnTo>
                    <a:pt x="2450" y="965"/>
                  </a:lnTo>
                  <a:lnTo>
                    <a:pt x="2457" y="972"/>
                  </a:lnTo>
                  <a:lnTo>
                    <a:pt x="2467" y="976"/>
                  </a:lnTo>
                  <a:lnTo>
                    <a:pt x="2480" y="979"/>
                  </a:lnTo>
                  <a:lnTo>
                    <a:pt x="2484" y="988"/>
                  </a:lnTo>
                  <a:lnTo>
                    <a:pt x="2470" y="989"/>
                  </a:lnTo>
                  <a:lnTo>
                    <a:pt x="2460" y="986"/>
                  </a:lnTo>
                  <a:lnTo>
                    <a:pt x="2460" y="976"/>
                  </a:lnTo>
                  <a:lnTo>
                    <a:pt x="2448" y="976"/>
                  </a:lnTo>
                  <a:lnTo>
                    <a:pt x="2449" y="985"/>
                  </a:lnTo>
                  <a:lnTo>
                    <a:pt x="2439" y="981"/>
                  </a:lnTo>
                  <a:lnTo>
                    <a:pt x="2438" y="990"/>
                  </a:lnTo>
                  <a:lnTo>
                    <a:pt x="2428" y="990"/>
                  </a:lnTo>
                  <a:lnTo>
                    <a:pt x="2424" y="995"/>
                  </a:lnTo>
                  <a:lnTo>
                    <a:pt x="2411" y="998"/>
                  </a:lnTo>
                  <a:lnTo>
                    <a:pt x="2399" y="1000"/>
                  </a:lnTo>
                  <a:lnTo>
                    <a:pt x="2388" y="1002"/>
                  </a:lnTo>
                  <a:lnTo>
                    <a:pt x="2376" y="1007"/>
                  </a:lnTo>
                  <a:lnTo>
                    <a:pt x="2378" y="1015"/>
                  </a:lnTo>
                  <a:lnTo>
                    <a:pt x="2386" y="1021"/>
                  </a:lnTo>
                  <a:lnTo>
                    <a:pt x="2410" y="1045"/>
                  </a:lnTo>
                  <a:lnTo>
                    <a:pt x="2400" y="1052"/>
                  </a:lnTo>
                  <a:lnTo>
                    <a:pt x="2392" y="1061"/>
                  </a:lnTo>
                  <a:lnTo>
                    <a:pt x="2385" y="1069"/>
                  </a:lnTo>
                  <a:lnTo>
                    <a:pt x="2392" y="1077"/>
                  </a:lnTo>
                  <a:lnTo>
                    <a:pt x="2395" y="1086"/>
                  </a:lnTo>
                  <a:lnTo>
                    <a:pt x="2395" y="1095"/>
                  </a:lnTo>
                  <a:lnTo>
                    <a:pt x="2393" y="1104"/>
                  </a:lnTo>
                  <a:lnTo>
                    <a:pt x="2392" y="1114"/>
                  </a:lnTo>
                  <a:lnTo>
                    <a:pt x="2382" y="1119"/>
                  </a:lnTo>
                  <a:lnTo>
                    <a:pt x="2369" y="1120"/>
                  </a:lnTo>
                  <a:lnTo>
                    <a:pt x="2355" y="1120"/>
                  </a:lnTo>
                  <a:lnTo>
                    <a:pt x="2343" y="1118"/>
                  </a:lnTo>
                  <a:lnTo>
                    <a:pt x="2333" y="1112"/>
                  </a:lnTo>
                  <a:lnTo>
                    <a:pt x="2326" y="1104"/>
                  </a:lnTo>
                  <a:lnTo>
                    <a:pt x="2313" y="1100"/>
                  </a:lnTo>
                  <a:lnTo>
                    <a:pt x="2301" y="1098"/>
                  </a:lnTo>
                  <a:lnTo>
                    <a:pt x="2290" y="1098"/>
                  </a:lnTo>
                  <a:lnTo>
                    <a:pt x="2290" y="1089"/>
                  </a:lnTo>
                  <a:lnTo>
                    <a:pt x="2281" y="1082"/>
                  </a:lnTo>
                  <a:lnTo>
                    <a:pt x="2269" y="1079"/>
                  </a:lnTo>
                  <a:lnTo>
                    <a:pt x="2262" y="1075"/>
                  </a:lnTo>
                  <a:lnTo>
                    <a:pt x="2249" y="1074"/>
                  </a:lnTo>
                  <a:lnTo>
                    <a:pt x="2237" y="1071"/>
                  </a:lnTo>
                  <a:lnTo>
                    <a:pt x="2224" y="1068"/>
                  </a:lnTo>
                  <a:lnTo>
                    <a:pt x="2213" y="1064"/>
                  </a:lnTo>
                  <a:lnTo>
                    <a:pt x="2202" y="1059"/>
                  </a:lnTo>
                  <a:lnTo>
                    <a:pt x="2193" y="1051"/>
                  </a:lnTo>
                  <a:lnTo>
                    <a:pt x="2186" y="1042"/>
                  </a:lnTo>
                  <a:lnTo>
                    <a:pt x="2178" y="1035"/>
                  </a:lnTo>
                  <a:lnTo>
                    <a:pt x="2167" y="1035"/>
                  </a:lnTo>
                  <a:lnTo>
                    <a:pt x="2153" y="1036"/>
                  </a:lnTo>
                  <a:lnTo>
                    <a:pt x="2140" y="1039"/>
                  </a:lnTo>
                  <a:lnTo>
                    <a:pt x="2126" y="1041"/>
                  </a:lnTo>
                  <a:lnTo>
                    <a:pt x="2115" y="1045"/>
                  </a:lnTo>
                  <a:lnTo>
                    <a:pt x="2107" y="1050"/>
                  </a:lnTo>
                  <a:lnTo>
                    <a:pt x="2098" y="1042"/>
                  </a:lnTo>
                  <a:lnTo>
                    <a:pt x="2090" y="1040"/>
                  </a:lnTo>
                  <a:lnTo>
                    <a:pt x="2090" y="1049"/>
                  </a:lnTo>
                  <a:lnTo>
                    <a:pt x="2091" y="1060"/>
                  </a:lnTo>
                  <a:lnTo>
                    <a:pt x="2093" y="1069"/>
                  </a:lnTo>
                  <a:lnTo>
                    <a:pt x="2094" y="1076"/>
                  </a:lnTo>
                  <a:lnTo>
                    <a:pt x="2088" y="1083"/>
                  </a:lnTo>
                  <a:lnTo>
                    <a:pt x="2076" y="1085"/>
                  </a:lnTo>
                  <a:lnTo>
                    <a:pt x="2065" y="1089"/>
                  </a:lnTo>
                  <a:lnTo>
                    <a:pt x="2053" y="1094"/>
                  </a:lnTo>
                  <a:lnTo>
                    <a:pt x="2051" y="1103"/>
                  </a:lnTo>
                  <a:lnTo>
                    <a:pt x="2056" y="1111"/>
                  </a:lnTo>
                  <a:lnTo>
                    <a:pt x="2066" y="1118"/>
                  </a:lnTo>
                  <a:lnTo>
                    <a:pt x="2076" y="1124"/>
                  </a:lnTo>
                  <a:lnTo>
                    <a:pt x="2072" y="1130"/>
                  </a:lnTo>
                  <a:lnTo>
                    <a:pt x="2059" y="1133"/>
                  </a:lnTo>
                  <a:lnTo>
                    <a:pt x="2048" y="1140"/>
                  </a:lnTo>
                  <a:lnTo>
                    <a:pt x="2039" y="1138"/>
                  </a:lnTo>
                  <a:lnTo>
                    <a:pt x="2034" y="1128"/>
                  </a:lnTo>
                  <a:lnTo>
                    <a:pt x="2030" y="1125"/>
                  </a:lnTo>
                  <a:lnTo>
                    <a:pt x="2023" y="1132"/>
                  </a:lnTo>
                  <a:lnTo>
                    <a:pt x="2021" y="1142"/>
                  </a:lnTo>
                  <a:lnTo>
                    <a:pt x="2020" y="1152"/>
                  </a:lnTo>
                  <a:lnTo>
                    <a:pt x="2019" y="1161"/>
                  </a:lnTo>
                  <a:lnTo>
                    <a:pt x="2014" y="1169"/>
                  </a:lnTo>
                  <a:lnTo>
                    <a:pt x="1999" y="1170"/>
                  </a:lnTo>
                  <a:lnTo>
                    <a:pt x="1998" y="1176"/>
                  </a:lnTo>
                  <a:lnTo>
                    <a:pt x="2006" y="1185"/>
                  </a:lnTo>
                  <a:lnTo>
                    <a:pt x="2013" y="1194"/>
                  </a:lnTo>
                  <a:lnTo>
                    <a:pt x="2010" y="1201"/>
                  </a:lnTo>
                  <a:lnTo>
                    <a:pt x="1999" y="1204"/>
                  </a:lnTo>
                  <a:lnTo>
                    <a:pt x="1984" y="1206"/>
                  </a:lnTo>
                  <a:lnTo>
                    <a:pt x="1970" y="1209"/>
                  </a:lnTo>
                  <a:lnTo>
                    <a:pt x="1968" y="1215"/>
                  </a:lnTo>
                  <a:lnTo>
                    <a:pt x="1974" y="1224"/>
                  </a:lnTo>
                  <a:lnTo>
                    <a:pt x="1964" y="1231"/>
                  </a:lnTo>
                  <a:lnTo>
                    <a:pt x="1954" y="1237"/>
                  </a:lnTo>
                  <a:lnTo>
                    <a:pt x="1943" y="1242"/>
                  </a:lnTo>
                  <a:lnTo>
                    <a:pt x="1930" y="1246"/>
                  </a:lnTo>
                  <a:lnTo>
                    <a:pt x="1916" y="1248"/>
                  </a:lnTo>
                  <a:lnTo>
                    <a:pt x="1911" y="1254"/>
                  </a:lnTo>
                  <a:lnTo>
                    <a:pt x="1912" y="1265"/>
                  </a:lnTo>
                  <a:lnTo>
                    <a:pt x="1915" y="1275"/>
                  </a:lnTo>
                  <a:lnTo>
                    <a:pt x="1912" y="1280"/>
                  </a:lnTo>
                  <a:lnTo>
                    <a:pt x="1898" y="1277"/>
                  </a:lnTo>
                  <a:lnTo>
                    <a:pt x="1884" y="1273"/>
                  </a:lnTo>
                  <a:lnTo>
                    <a:pt x="1879" y="1279"/>
                  </a:lnTo>
                  <a:lnTo>
                    <a:pt x="1876" y="1290"/>
                  </a:lnTo>
                  <a:lnTo>
                    <a:pt x="1868" y="1294"/>
                  </a:lnTo>
                  <a:lnTo>
                    <a:pt x="1855" y="1290"/>
                  </a:lnTo>
                  <a:lnTo>
                    <a:pt x="1842" y="1292"/>
                  </a:lnTo>
                  <a:lnTo>
                    <a:pt x="1830" y="1295"/>
                  </a:lnTo>
                  <a:lnTo>
                    <a:pt x="1817" y="1299"/>
                  </a:lnTo>
                  <a:lnTo>
                    <a:pt x="1806" y="1304"/>
                  </a:lnTo>
                  <a:lnTo>
                    <a:pt x="1807" y="1312"/>
                  </a:lnTo>
                  <a:lnTo>
                    <a:pt x="1802" y="1314"/>
                  </a:lnTo>
                  <a:lnTo>
                    <a:pt x="1789" y="1312"/>
                  </a:lnTo>
                  <a:lnTo>
                    <a:pt x="1778" y="1309"/>
                  </a:lnTo>
                  <a:lnTo>
                    <a:pt x="1774" y="1301"/>
                  </a:lnTo>
                  <a:lnTo>
                    <a:pt x="1767" y="1293"/>
                  </a:lnTo>
                  <a:lnTo>
                    <a:pt x="1756" y="1289"/>
                  </a:lnTo>
                  <a:lnTo>
                    <a:pt x="1743" y="1292"/>
                  </a:lnTo>
                  <a:lnTo>
                    <a:pt x="1739" y="1301"/>
                  </a:lnTo>
                  <a:lnTo>
                    <a:pt x="1733" y="1309"/>
                  </a:lnTo>
                  <a:lnTo>
                    <a:pt x="1732" y="1318"/>
                  </a:lnTo>
                  <a:lnTo>
                    <a:pt x="1729" y="1327"/>
                  </a:lnTo>
                  <a:lnTo>
                    <a:pt x="1726" y="1336"/>
                  </a:lnTo>
                  <a:lnTo>
                    <a:pt x="1728" y="1347"/>
                  </a:lnTo>
                  <a:lnTo>
                    <a:pt x="1721" y="1351"/>
                  </a:lnTo>
                  <a:lnTo>
                    <a:pt x="1708" y="1351"/>
                  </a:lnTo>
                  <a:lnTo>
                    <a:pt x="1693" y="1350"/>
                  </a:lnTo>
                  <a:lnTo>
                    <a:pt x="1682" y="1345"/>
                  </a:lnTo>
                  <a:lnTo>
                    <a:pt x="1672" y="1343"/>
                  </a:lnTo>
                  <a:lnTo>
                    <a:pt x="1661" y="1349"/>
                  </a:lnTo>
                  <a:lnTo>
                    <a:pt x="1652" y="1357"/>
                  </a:lnTo>
                  <a:lnTo>
                    <a:pt x="1654" y="1363"/>
                  </a:lnTo>
                  <a:lnTo>
                    <a:pt x="1659" y="1371"/>
                  </a:lnTo>
                  <a:lnTo>
                    <a:pt x="1656" y="1381"/>
                  </a:lnTo>
                  <a:lnTo>
                    <a:pt x="1659" y="1390"/>
                  </a:lnTo>
                  <a:lnTo>
                    <a:pt x="1656" y="1399"/>
                  </a:lnTo>
                  <a:lnTo>
                    <a:pt x="1654" y="1408"/>
                  </a:lnTo>
                  <a:lnTo>
                    <a:pt x="1637" y="1408"/>
                  </a:lnTo>
                  <a:lnTo>
                    <a:pt x="1624" y="1404"/>
                  </a:lnTo>
                  <a:lnTo>
                    <a:pt x="1615" y="1402"/>
                  </a:lnTo>
                  <a:lnTo>
                    <a:pt x="1602" y="1401"/>
                  </a:lnTo>
                  <a:lnTo>
                    <a:pt x="1589" y="1402"/>
                  </a:lnTo>
                  <a:lnTo>
                    <a:pt x="1578" y="1407"/>
                  </a:lnTo>
                  <a:lnTo>
                    <a:pt x="1568" y="1401"/>
                  </a:lnTo>
                  <a:lnTo>
                    <a:pt x="1557" y="1395"/>
                  </a:lnTo>
                  <a:lnTo>
                    <a:pt x="1553" y="1388"/>
                  </a:lnTo>
                  <a:lnTo>
                    <a:pt x="1556" y="1378"/>
                  </a:lnTo>
                  <a:lnTo>
                    <a:pt x="1559" y="1373"/>
                  </a:lnTo>
                  <a:lnTo>
                    <a:pt x="1552" y="1372"/>
                  </a:lnTo>
                  <a:lnTo>
                    <a:pt x="1546" y="1363"/>
                  </a:lnTo>
                  <a:lnTo>
                    <a:pt x="1538" y="1355"/>
                  </a:lnTo>
                  <a:lnTo>
                    <a:pt x="1526" y="1352"/>
                  </a:lnTo>
                  <a:lnTo>
                    <a:pt x="1517" y="1354"/>
                  </a:lnTo>
                  <a:lnTo>
                    <a:pt x="1508" y="1346"/>
                  </a:lnTo>
                  <a:lnTo>
                    <a:pt x="1497" y="1340"/>
                  </a:lnTo>
                  <a:lnTo>
                    <a:pt x="1489" y="1334"/>
                  </a:lnTo>
                  <a:lnTo>
                    <a:pt x="1491" y="1343"/>
                  </a:lnTo>
                  <a:lnTo>
                    <a:pt x="1486" y="1349"/>
                  </a:lnTo>
                  <a:lnTo>
                    <a:pt x="1472" y="1346"/>
                  </a:lnTo>
                  <a:lnTo>
                    <a:pt x="1471" y="1352"/>
                  </a:lnTo>
                  <a:lnTo>
                    <a:pt x="1461" y="1358"/>
                  </a:lnTo>
                  <a:lnTo>
                    <a:pt x="1454" y="1366"/>
                  </a:lnTo>
                  <a:lnTo>
                    <a:pt x="1451" y="1375"/>
                  </a:lnTo>
                  <a:lnTo>
                    <a:pt x="1444" y="1384"/>
                  </a:lnTo>
                  <a:lnTo>
                    <a:pt x="1434" y="1385"/>
                  </a:lnTo>
                  <a:lnTo>
                    <a:pt x="1429" y="1376"/>
                  </a:lnTo>
                  <a:lnTo>
                    <a:pt x="1417" y="1372"/>
                  </a:lnTo>
                  <a:lnTo>
                    <a:pt x="1405" y="1371"/>
                  </a:lnTo>
                  <a:lnTo>
                    <a:pt x="1392" y="1368"/>
                  </a:lnTo>
                  <a:lnTo>
                    <a:pt x="1378" y="1367"/>
                  </a:lnTo>
                  <a:lnTo>
                    <a:pt x="1366" y="1366"/>
                  </a:lnTo>
                  <a:lnTo>
                    <a:pt x="1356" y="1361"/>
                  </a:lnTo>
                  <a:lnTo>
                    <a:pt x="1345" y="1356"/>
                  </a:lnTo>
                  <a:lnTo>
                    <a:pt x="1334" y="1360"/>
                  </a:lnTo>
                  <a:lnTo>
                    <a:pt x="1321" y="1365"/>
                  </a:lnTo>
                  <a:lnTo>
                    <a:pt x="1310" y="1368"/>
                  </a:lnTo>
                  <a:lnTo>
                    <a:pt x="1297" y="1365"/>
                  </a:lnTo>
                  <a:lnTo>
                    <a:pt x="1286" y="1360"/>
                  </a:lnTo>
                  <a:lnTo>
                    <a:pt x="1273" y="1357"/>
                  </a:lnTo>
                  <a:lnTo>
                    <a:pt x="1261" y="1355"/>
                  </a:lnTo>
                  <a:lnTo>
                    <a:pt x="1247" y="1356"/>
                  </a:lnTo>
                  <a:lnTo>
                    <a:pt x="1237" y="1352"/>
                  </a:lnTo>
                  <a:lnTo>
                    <a:pt x="1231" y="1343"/>
                  </a:lnTo>
                  <a:lnTo>
                    <a:pt x="1227" y="1335"/>
                  </a:lnTo>
                  <a:lnTo>
                    <a:pt x="1222" y="1326"/>
                  </a:lnTo>
                  <a:lnTo>
                    <a:pt x="1213" y="1319"/>
                  </a:lnTo>
                  <a:lnTo>
                    <a:pt x="1201" y="1317"/>
                  </a:lnTo>
                  <a:lnTo>
                    <a:pt x="1188" y="1316"/>
                  </a:lnTo>
                  <a:lnTo>
                    <a:pt x="1176" y="1314"/>
                  </a:lnTo>
                  <a:lnTo>
                    <a:pt x="1163" y="1310"/>
                  </a:lnTo>
                  <a:lnTo>
                    <a:pt x="1150" y="1306"/>
                  </a:lnTo>
                  <a:lnTo>
                    <a:pt x="1138" y="1301"/>
                  </a:lnTo>
                  <a:lnTo>
                    <a:pt x="1127" y="1300"/>
                  </a:lnTo>
                  <a:lnTo>
                    <a:pt x="1117" y="1305"/>
                  </a:lnTo>
                  <a:lnTo>
                    <a:pt x="1108" y="1314"/>
                  </a:lnTo>
                  <a:lnTo>
                    <a:pt x="1100" y="1321"/>
                  </a:lnTo>
                  <a:lnTo>
                    <a:pt x="1089" y="1325"/>
                  </a:lnTo>
                  <a:lnTo>
                    <a:pt x="1078" y="1319"/>
                  </a:lnTo>
                  <a:lnTo>
                    <a:pt x="1069" y="1312"/>
                  </a:lnTo>
                  <a:lnTo>
                    <a:pt x="1061" y="1304"/>
                  </a:lnTo>
                  <a:lnTo>
                    <a:pt x="1050" y="1300"/>
                  </a:lnTo>
                  <a:lnTo>
                    <a:pt x="1037" y="1298"/>
                  </a:lnTo>
                  <a:lnTo>
                    <a:pt x="1025" y="1300"/>
                  </a:lnTo>
                  <a:lnTo>
                    <a:pt x="1012" y="1298"/>
                  </a:lnTo>
                  <a:lnTo>
                    <a:pt x="999" y="1296"/>
                  </a:lnTo>
                  <a:lnTo>
                    <a:pt x="990" y="1301"/>
                  </a:lnTo>
                  <a:lnTo>
                    <a:pt x="984" y="1310"/>
                  </a:lnTo>
                  <a:lnTo>
                    <a:pt x="978" y="1318"/>
                  </a:lnTo>
                  <a:lnTo>
                    <a:pt x="971" y="1326"/>
                  </a:lnTo>
                  <a:lnTo>
                    <a:pt x="963" y="1334"/>
                  </a:lnTo>
                  <a:lnTo>
                    <a:pt x="953" y="1340"/>
                  </a:lnTo>
                  <a:lnTo>
                    <a:pt x="942" y="1344"/>
                  </a:lnTo>
                  <a:lnTo>
                    <a:pt x="930" y="1346"/>
                  </a:lnTo>
                  <a:lnTo>
                    <a:pt x="917" y="1348"/>
                  </a:lnTo>
                  <a:lnTo>
                    <a:pt x="904" y="1345"/>
                  </a:lnTo>
                  <a:lnTo>
                    <a:pt x="893" y="1341"/>
                  </a:lnTo>
                  <a:lnTo>
                    <a:pt x="881" y="1336"/>
                  </a:lnTo>
                  <a:lnTo>
                    <a:pt x="869" y="1332"/>
                  </a:lnTo>
                  <a:lnTo>
                    <a:pt x="857" y="1329"/>
                  </a:lnTo>
                  <a:lnTo>
                    <a:pt x="844" y="1327"/>
                  </a:lnTo>
                  <a:lnTo>
                    <a:pt x="832" y="1326"/>
                  </a:lnTo>
                  <a:lnTo>
                    <a:pt x="819" y="1324"/>
                  </a:lnTo>
                  <a:lnTo>
                    <a:pt x="807" y="1321"/>
                  </a:lnTo>
                  <a:lnTo>
                    <a:pt x="794" y="1317"/>
                  </a:lnTo>
                  <a:lnTo>
                    <a:pt x="784" y="1312"/>
                  </a:lnTo>
                  <a:lnTo>
                    <a:pt x="776" y="1305"/>
                  </a:lnTo>
                  <a:lnTo>
                    <a:pt x="767" y="1297"/>
                  </a:lnTo>
                  <a:lnTo>
                    <a:pt x="759" y="1290"/>
                  </a:lnTo>
                  <a:lnTo>
                    <a:pt x="749" y="1284"/>
                  </a:lnTo>
                  <a:lnTo>
                    <a:pt x="737" y="1282"/>
                  </a:lnTo>
                  <a:lnTo>
                    <a:pt x="724" y="1283"/>
                  </a:lnTo>
                  <a:lnTo>
                    <a:pt x="713" y="1288"/>
                  </a:lnTo>
                  <a:lnTo>
                    <a:pt x="702" y="1293"/>
                  </a:lnTo>
                  <a:lnTo>
                    <a:pt x="689" y="1295"/>
                  </a:lnTo>
                  <a:lnTo>
                    <a:pt x="677" y="1294"/>
                  </a:lnTo>
                  <a:lnTo>
                    <a:pt x="665" y="1290"/>
                  </a:lnTo>
                  <a:lnTo>
                    <a:pt x="653" y="1287"/>
                  </a:lnTo>
                  <a:lnTo>
                    <a:pt x="640" y="1288"/>
                  </a:lnTo>
                  <a:lnTo>
                    <a:pt x="628" y="1292"/>
                  </a:lnTo>
                  <a:lnTo>
                    <a:pt x="618" y="1297"/>
                  </a:lnTo>
                  <a:lnTo>
                    <a:pt x="605" y="1300"/>
                  </a:lnTo>
                  <a:lnTo>
                    <a:pt x="593" y="1300"/>
                  </a:lnTo>
                  <a:lnTo>
                    <a:pt x="580" y="1295"/>
                  </a:lnTo>
                  <a:lnTo>
                    <a:pt x="569" y="1290"/>
                  </a:lnTo>
                  <a:lnTo>
                    <a:pt x="558" y="1287"/>
                  </a:lnTo>
                  <a:lnTo>
                    <a:pt x="545" y="1288"/>
                  </a:lnTo>
                  <a:lnTo>
                    <a:pt x="534" y="1294"/>
                  </a:lnTo>
                  <a:lnTo>
                    <a:pt x="524" y="1299"/>
                  </a:lnTo>
                  <a:lnTo>
                    <a:pt x="513" y="1304"/>
                  </a:lnTo>
                  <a:lnTo>
                    <a:pt x="503" y="1310"/>
                  </a:lnTo>
                  <a:lnTo>
                    <a:pt x="492" y="1315"/>
                  </a:lnTo>
                  <a:lnTo>
                    <a:pt x="485" y="1323"/>
                  </a:lnTo>
                  <a:lnTo>
                    <a:pt x="482" y="1332"/>
                  </a:lnTo>
                  <a:lnTo>
                    <a:pt x="474" y="1338"/>
                  </a:lnTo>
                  <a:lnTo>
                    <a:pt x="461" y="1336"/>
                  </a:lnTo>
                  <a:lnTo>
                    <a:pt x="454" y="1329"/>
                  </a:lnTo>
                  <a:lnTo>
                    <a:pt x="449" y="1320"/>
                  </a:lnTo>
                  <a:lnTo>
                    <a:pt x="449" y="1311"/>
                  </a:lnTo>
                  <a:lnTo>
                    <a:pt x="443" y="1303"/>
                  </a:lnTo>
                  <a:lnTo>
                    <a:pt x="429" y="1301"/>
                  </a:lnTo>
                  <a:lnTo>
                    <a:pt x="419" y="1295"/>
                  </a:lnTo>
                  <a:lnTo>
                    <a:pt x="411" y="1288"/>
                  </a:lnTo>
                  <a:lnTo>
                    <a:pt x="407" y="1280"/>
                  </a:lnTo>
                  <a:lnTo>
                    <a:pt x="407" y="1270"/>
                  </a:lnTo>
                  <a:lnTo>
                    <a:pt x="407" y="1261"/>
                  </a:lnTo>
                  <a:lnTo>
                    <a:pt x="403" y="1252"/>
                  </a:lnTo>
                  <a:lnTo>
                    <a:pt x="391" y="1248"/>
                  </a:lnTo>
                  <a:lnTo>
                    <a:pt x="379" y="1251"/>
                  </a:lnTo>
                  <a:lnTo>
                    <a:pt x="373" y="1259"/>
                  </a:lnTo>
                  <a:lnTo>
                    <a:pt x="361" y="1260"/>
                  </a:lnTo>
                  <a:lnTo>
                    <a:pt x="348" y="1258"/>
                  </a:lnTo>
                  <a:lnTo>
                    <a:pt x="337" y="1253"/>
                  </a:lnTo>
                  <a:lnTo>
                    <a:pt x="327" y="1247"/>
                  </a:lnTo>
                  <a:lnTo>
                    <a:pt x="320" y="1239"/>
                  </a:lnTo>
                  <a:lnTo>
                    <a:pt x="310" y="1234"/>
                  </a:lnTo>
                  <a:lnTo>
                    <a:pt x="298" y="1232"/>
                  </a:lnTo>
                  <a:lnTo>
                    <a:pt x="284" y="1233"/>
                  </a:lnTo>
                  <a:lnTo>
                    <a:pt x="274" y="1238"/>
                  </a:lnTo>
                  <a:lnTo>
                    <a:pt x="263" y="1243"/>
                  </a:lnTo>
                  <a:lnTo>
                    <a:pt x="254" y="1237"/>
                  </a:lnTo>
                  <a:lnTo>
                    <a:pt x="247" y="1229"/>
                  </a:lnTo>
                  <a:lnTo>
                    <a:pt x="240" y="1221"/>
                  </a:lnTo>
                  <a:lnTo>
                    <a:pt x="236" y="1212"/>
                  </a:lnTo>
                  <a:lnTo>
                    <a:pt x="219" y="1205"/>
                  </a:lnTo>
                  <a:lnTo>
                    <a:pt x="205" y="1203"/>
                  </a:lnTo>
                  <a:lnTo>
                    <a:pt x="193" y="1203"/>
                  </a:lnTo>
                  <a:lnTo>
                    <a:pt x="180" y="1202"/>
                  </a:lnTo>
                  <a:lnTo>
                    <a:pt x="168" y="1199"/>
                  </a:lnTo>
                  <a:lnTo>
                    <a:pt x="155" y="1199"/>
                  </a:lnTo>
                  <a:lnTo>
                    <a:pt x="148" y="1191"/>
                  </a:lnTo>
                  <a:lnTo>
                    <a:pt x="137" y="1187"/>
                  </a:lnTo>
                  <a:lnTo>
                    <a:pt x="124" y="1185"/>
                  </a:lnTo>
                  <a:lnTo>
                    <a:pt x="112" y="1187"/>
                  </a:lnTo>
                  <a:lnTo>
                    <a:pt x="101" y="1191"/>
                  </a:lnTo>
                  <a:lnTo>
                    <a:pt x="88" y="1193"/>
                  </a:lnTo>
                  <a:lnTo>
                    <a:pt x="75" y="1190"/>
                  </a:lnTo>
                  <a:lnTo>
                    <a:pt x="66" y="1184"/>
                  </a:lnTo>
                  <a:lnTo>
                    <a:pt x="56" y="1177"/>
                  </a:lnTo>
                  <a:lnTo>
                    <a:pt x="49" y="1170"/>
                  </a:lnTo>
                  <a:lnTo>
                    <a:pt x="45" y="1163"/>
                  </a:lnTo>
                  <a:lnTo>
                    <a:pt x="66" y="1162"/>
                  </a:lnTo>
                  <a:lnTo>
                    <a:pt x="77" y="1157"/>
                  </a:lnTo>
                  <a:lnTo>
                    <a:pt x="81" y="1149"/>
                  </a:lnTo>
                  <a:lnTo>
                    <a:pt x="82" y="1139"/>
                  </a:lnTo>
                  <a:lnTo>
                    <a:pt x="84" y="1130"/>
                  </a:lnTo>
                  <a:lnTo>
                    <a:pt x="95" y="1127"/>
                  </a:lnTo>
                  <a:lnTo>
                    <a:pt x="106" y="1121"/>
                  </a:lnTo>
                  <a:lnTo>
                    <a:pt x="116" y="1115"/>
                  </a:lnTo>
                  <a:lnTo>
                    <a:pt x="124" y="1118"/>
                  </a:lnTo>
                  <a:lnTo>
                    <a:pt x="133" y="1126"/>
                  </a:lnTo>
                  <a:lnTo>
                    <a:pt x="131" y="1135"/>
                  </a:lnTo>
                  <a:lnTo>
                    <a:pt x="131" y="1144"/>
                  </a:lnTo>
                  <a:lnTo>
                    <a:pt x="140" y="1137"/>
                  </a:lnTo>
                  <a:lnTo>
                    <a:pt x="147" y="1129"/>
                  </a:lnTo>
                  <a:lnTo>
                    <a:pt x="154" y="1130"/>
                  </a:lnTo>
                  <a:lnTo>
                    <a:pt x="166" y="1131"/>
                  </a:lnTo>
                  <a:lnTo>
                    <a:pt x="176" y="1130"/>
                  </a:lnTo>
                  <a:lnTo>
                    <a:pt x="187" y="1129"/>
                  </a:lnTo>
                  <a:lnTo>
                    <a:pt x="200" y="1133"/>
                  </a:lnTo>
                  <a:lnTo>
                    <a:pt x="204" y="1125"/>
                  </a:lnTo>
                  <a:lnTo>
                    <a:pt x="201" y="1117"/>
                  </a:lnTo>
                  <a:lnTo>
                    <a:pt x="211" y="1111"/>
                  </a:lnTo>
                  <a:lnTo>
                    <a:pt x="212" y="1103"/>
                  </a:lnTo>
                  <a:lnTo>
                    <a:pt x="203" y="1096"/>
                  </a:lnTo>
                  <a:lnTo>
                    <a:pt x="201" y="1087"/>
                  </a:lnTo>
                  <a:lnTo>
                    <a:pt x="200" y="1078"/>
                  </a:lnTo>
                  <a:lnTo>
                    <a:pt x="203" y="1070"/>
                  </a:lnTo>
                  <a:lnTo>
                    <a:pt x="212" y="1068"/>
                  </a:lnTo>
                  <a:lnTo>
                    <a:pt x="211" y="1059"/>
                  </a:lnTo>
                  <a:lnTo>
                    <a:pt x="198" y="1053"/>
                  </a:lnTo>
                  <a:lnTo>
                    <a:pt x="189" y="1047"/>
                  </a:lnTo>
                  <a:lnTo>
                    <a:pt x="193" y="1040"/>
                  </a:lnTo>
                  <a:lnTo>
                    <a:pt x="191" y="1031"/>
                  </a:lnTo>
                  <a:lnTo>
                    <a:pt x="186" y="1022"/>
                  </a:lnTo>
                  <a:lnTo>
                    <a:pt x="175" y="1017"/>
                  </a:lnTo>
                  <a:lnTo>
                    <a:pt x="162" y="1014"/>
                  </a:lnTo>
                  <a:lnTo>
                    <a:pt x="149" y="1011"/>
                  </a:lnTo>
                  <a:lnTo>
                    <a:pt x="138" y="1007"/>
                  </a:lnTo>
                  <a:lnTo>
                    <a:pt x="130" y="1003"/>
                  </a:lnTo>
                  <a:lnTo>
                    <a:pt x="117" y="1005"/>
                  </a:lnTo>
                  <a:lnTo>
                    <a:pt x="108" y="998"/>
                  </a:lnTo>
                  <a:lnTo>
                    <a:pt x="101" y="990"/>
                  </a:lnTo>
                  <a:lnTo>
                    <a:pt x="96" y="982"/>
                  </a:lnTo>
                  <a:lnTo>
                    <a:pt x="109" y="980"/>
                  </a:lnTo>
                  <a:lnTo>
                    <a:pt x="122" y="976"/>
                  </a:lnTo>
                  <a:lnTo>
                    <a:pt x="115" y="968"/>
                  </a:lnTo>
                  <a:lnTo>
                    <a:pt x="102" y="968"/>
                  </a:lnTo>
                  <a:lnTo>
                    <a:pt x="88" y="971"/>
                  </a:lnTo>
                  <a:lnTo>
                    <a:pt x="81" y="967"/>
                  </a:lnTo>
                  <a:lnTo>
                    <a:pt x="75" y="961"/>
                  </a:lnTo>
                  <a:lnTo>
                    <a:pt x="68" y="957"/>
                  </a:lnTo>
                  <a:lnTo>
                    <a:pt x="63" y="950"/>
                  </a:lnTo>
                  <a:lnTo>
                    <a:pt x="56" y="956"/>
                  </a:lnTo>
                  <a:lnTo>
                    <a:pt x="60" y="966"/>
                  </a:lnTo>
                  <a:lnTo>
                    <a:pt x="64" y="975"/>
                  </a:lnTo>
                  <a:lnTo>
                    <a:pt x="61" y="982"/>
                  </a:lnTo>
                  <a:lnTo>
                    <a:pt x="47" y="984"/>
                  </a:lnTo>
                  <a:lnTo>
                    <a:pt x="33" y="983"/>
                  </a:lnTo>
                  <a:lnTo>
                    <a:pt x="33" y="973"/>
                  </a:lnTo>
                  <a:lnTo>
                    <a:pt x="33" y="964"/>
                  </a:lnTo>
                  <a:lnTo>
                    <a:pt x="32" y="955"/>
                  </a:lnTo>
                  <a:lnTo>
                    <a:pt x="31" y="945"/>
                  </a:lnTo>
                  <a:lnTo>
                    <a:pt x="28" y="936"/>
                  </a:lnTo>
                  <a:lnTo>
                    <a:pt x="22" y="928"/>
                  </a:lnTo>
                  <a:lnTo>
                    <a:pt x="17" y="919"/>
                  </a:lnTo>
                  <a:lnTo>
                    <a:pt x="12" y="910"/>
                  </a:lnTo>
                  <a:lnTo>
                    <a:pt x="12" y="901"/>
                  </a:lnTo>
                  <a:lnTo>
                    <a:pt x="10" y="892"/>
                  </a:lnTo>
                  <a:lnTo>
                    <a:pt x="10" y="883"/>
                  </a:lnTo>
                  <a:lnTo>
                    <a:pt x="6" y="875"/>
                  </a:lnTo>
                  <a:lnTo>
                    <a:pt x="0" y="872"/>
                  </a:lnTo>
                  <a:lnTo>
                    <a:pt x="14" y="870"/>
                  </a:lnTo>
                  <a:lnTo>
                    <a:pt x="26" y="869"/>
                  </a:lnTo>
                  <a:lnTo>
                    <a:pt x="39" y="869"/>
                  </a:lnTo>
                  <a:lnTo>
                    <a:pt x="53" y="868"/>
                  </a:lnTo>
                  <a:lnTo>
                    <a:pt x="57" y="860"/>
                  </a:lnTo>
                  <a:lnTo>
                    <a:pt x="56" y="850"/>
                  </a:lnTo>
                  <a:lnTo>
                    <a:pt x="56" y="841"/>
                  </a:lnTo>
                  <a:lnTo>
                    <a:pt x="61" y="834"/>
                  </a:lnTo>
                  <a:lnTo>
                    <a:pt x="59" y="825"/>
                  </a:lnTo>
                  <a:lnTo>
                    <a:pt x="47" y="820"/>
                  </a:lnTo>
                  <a:lnTo>
                    <a:pt x="35" y="817"/>
                  </a:lnTo>
                  <a:lnTo>
                    <a:pt x="26" y="810"/>
                  </a:lnTo>
                  <a:lnTo>
                    <a:pt x="25" y="801"/>
                  </a:lnTo>
                  <a:lnTo>
                    <a:pt x="24" y="793"/>
                  </a:lnTo>
                  <a:lnTo>
                    <a:pt x="18" y="786"/>
                  </a:lnTo>
                  <a:lnTo>
                    <a:pt x="18" y="778"/>
                  </a:lnTo>
                  <a:lnTo>
                    <a:pt x="14" y="769"/>
                  </a:lnTo>
                  <a:lnTo>
                    <a:pt x="11" y="760"/>
                  </a:lnTo>
                  <a:lnTo>
                    <a:pt x="14" y="753"/>
                  </a:lnTo>
                  <a:lnTo>
                    <a:pt x="15" y="746"/>
                  </a:lnTo>
                  <a:lnTo>
                    <a:pt x="29" y="746"/>
                  </a:lnTo>
                  <a:lnTo>
                    <a:pt x="42" y="744"/>
                  </a:lnTo>
                  <a:lnTo>
                    <a:pt x="54" y="741"/>
                  </a:lnTo>
                  <a:lnTo>
                    <a:pt x="67" y="738"/>
                  </a:lnTo>
                  <a:lnTo>
                    <a:pt x="67" y="728"/>
                  </a:lnTo>
                  <a:lnTo>
                    <a:pt x="68" y="721"/>
                  </a:lnTo>
                  <a:lnTo>
                    <a:pt x="82" y="720"/>
                  </a:lnTo>
                  <a:lnTo>
                    <a:pt x="92" y="715"/>
                  </a:lnTo>
                  <a:lnTo>
                    <a:pt x="92" y="705"/>
                  </a:lnTo>
                  <a:lnTo>
                    <a:pt x="95" y="698"/>
                  </a:lnTo>
                  <a:lnTo>
                    <a:pt x="109" y="697"/>
                  </a:lnTo>
                  <a:lnTo>
                    <a:pt x="105" y="688"/>
                  </a:lnTo>
                  <a:lnTo>
                    <a:pt x="109" y="681"/>
                  </a:lnTo>
                  <a:lnTo>
                    <a:pt x="112" y="673"/>
                  </a:lnTo>
                  <a:lnTo>
                    <a:pt x="110" y="664"/>
                  </a:lnTo>
                  <a:lnTo>
                    <a:pt x="112" y="658"/>
                  </a:lnTo>
                  <a:lnTo>
                    <a:pt x="99" y="653"/>
                  </a:lnTo>
                  <a:lnTo>
                    <a:pt x="91" y="646"/>
                  </a:lnTo>
                  <a:lnTo>
                    <a:pt x="84" y="638"/>
                  </a:lnTo>
                  <a:lnTo>
                    <a:pt x="94" y="634"/>
                  </a:lnTo>
                  <a:lnTo>
                    <a:pt x="106" y="630"/>
                  </a:lnTo>
                  <a:lnTo>
                    <a:pt x="119" y="626"/>
                  </a:lnTo>
                  <a:lnTo>
                    <a:pt x="127" y="622"/>
                  </a:lnTo>
                  <a:lnTo>
                    <a:pt x="122" y="614"/>
                  </a:lnTo>
                  <a:lnTo>
                    <a:pt x="119" y="605"/>
                  </a:lnTo>
                  <a:lnTo>
                    <a:pt x="123" y="599"/>
                  </a:lnTo>
                  <a:lnTo>
                    <a:pt x="120" y="589"/>
                  </a:lnTo>
                  <a:lnTo>
                    <a:pt x="120" y="580"/>
                  </a:lnTo>
                  <a:lnTo>
                    <a:pt x="120" y="570"/>
                  </a:lnTo>
                  <a:lnTo>
                    <a:pt x="124" y="561"/>
                  </a:lnTo>
                  <a:lnTo>
                    <a:pt x="123" y="552"/>
                  </a:lnTo>
                  <a:lnTo>
                    <a:pt x="129" y="544"/>
                  </a:lnTo>
                  <a:lnTo>
                    <a:pt x="134" y="535"/>
                  </a:lnTo>
                  <a:lnTo>
                    <a:pt x="133" y="526"/>
                  </a:lnTo>
                  <a:lnTo>
                    <a:pt x="133" y="517"/>
                  </a:lnTo>
                  <a:lnTo>
                    <a:pt x="142" y="512"/>
                  </a:lnTo>
                  <a:lnTo>
                    <a:pt x="147" y="503"/>
                  </a:lnTo>
                  <a:lnTo>
                    <a:pt x="151" y="494"/>
                  </a:lnTo>
                  <a:lnTo>
                    <a:pt x="163" y="491"/>
                  </a:lnTo>
                  <a:lnTo>
                    <a:pt x="169" y="483"/>
                  </a:lnTo>
                  <a:lnTo>
                    <a:pt x="172" y="474"/>
                  </a:lnTo>
                  <a:lnTo>
                    <a:pt x="180" y="467"/>
                  </a:lnTo>
                  <a:lnTo>
                    <a:pt x="183" y="458"/>
                  </a:lnTo>
                  <a:lnTo>
                    <a:pt x="182" y="449"/>
                  </a:lnTo>
                  <a:lnTo>
                    <a:pt x="176" y="442"/>
                  </a:lnTo>
                  <a:lnTo>
                    <a:pt x="183" y="433"/>
                  </a:lnTo>
                  <a:lnTo>
                    <a:pt x="189" y="420"/>
                  </a:lnTo>
                  <a:lnTo>
                    <a:pt x="196" y="412"/>
                  </a:lnTo>
                  <a:lnTo>
                    <a:pt x="208" y="415"/>
                  </a:lnTo>
                  <a:lnTo>
                    <a:pt x="208" y="410"/>
                  </a:lnTo>
                  <a:lnTo>
                    <a:pt x="205" y="401"/>
                  </a:lnTo>
                  <a:lnTo>
                    <a:pt x="198" y="395"/>
                  </a:lnTo>
                  <a:lnTo>
                    <a:pt x="187" y="394"/>
                  </a:lnTo>
                  <a:lnTo>
                    <a:pt x="189" y="385"/>
                  </a:lnTo>
                  <a:lnTo>
                    <a:pt x="197" y="377"/>
                  </a:lnTo>
                  <a:lnTo>
                    <a:pt x="207" y="376"/>
                  </a:lnTo>
                  <a:lnTo>
                    <a:pt x="217" y="370"/>
                  </a:lnTo>
                  <a:lnTo>
                    <a:pt x="228" y="372"/>
                  </a:lnTo>
                  <a:lnTo>
                    <a:pt x="236" y="379"/>
                  </a:lnTo>
                  <a:lnTo>
                    <a:pt x="240" y="387"/>
                  </a:lnTo>
                  <a:lnTo>
                    <a:pt x="245" y="396"/>
                  </a:lnTo>
                  <a:lnTo>
                    <a:pt x="249" y="405"/>
                  </a:lnTo>
                  <a:lnTo>
                    <a:pt x="253" y="414"/>
                  </a:lnTo>
                  <a:lnTo>
                    <a:pt x="256" y="423"/>
                  </a:lnTo>
                  <a:lnTo>
                    <a:pt x="267" y="428"/>
                  </a:lnTo>
                  <a:lnTo>
                    <a:pt x="278" y="432"/>
                  </a:lnTo>
                  <a:lnTo>
                    <a:pt x="291" y="432"/>
                  </a:lnTo>
                  <a:lnTo>
                    <a:pt x="303" y="432"/>
                  </a:lnTo>
                  <a:lnTo>
                    <a:pt x="312" y="427"/>
                  </a:lnTo>
                  <a:lnTo>
                    <a:pt x="319" y="419"/>
                  </a:lnTo>
                  <a:lnTo>
                    <a:pt x="327" y="413"/>
                  </a:lnTo>
                  <a:lnTo>
                    <a:pt x="328" y="403"/>
                  </a:lnTo>
                  <a:lnTo>
                    <a:pt x="327" y="394"/>
                  </a:lnTo>
                  <a:lnTo>
                    <a:pt x="334" y="388"/>
                  </a:lnTo>
                  <a:lnTo>
                    <a:pt x="345" y="383"/>
                  </a:lnTo>
                  <a:lnTo>
                    <a:pt x="355" y="384"/>
                  </a:lnTo>
                  <a:lnTo>
                    <a:pt x="355" y="393"/>
                  </a:lnTo>
                  <a:lnTo>
                    <a:pt x="365" y="398"/>
                  </a:lnTo>
                  <a:lnTo>
                    <a:pt x="379" y="398"/>
                  </a:lnTo>
                  <a:lnTo>
                    <a:pt x="391" y="398"/>
                  </a:lnTo>
                  <a:lnTo>
                    <a:pt x="394" y="406"/>
                  </a:lnTo>
                  <a:lnTo>
                    <a:pt x="396" y="414"/>
                  </a:lnTo>
                  <a:lnTo>
                    <a:pt x="405" y="415"/>
                  </a:lnTo>
                  <a:lnTo>
                    <a:pt x="418" y="417"/>
                  </a:lnTo>
                  <a:lnTo>
                    <a:pt x="429" y="420"/>
                  </a:lnTo>
                  <a:lnTo>
                    <a:pt x="442" y="425"/>
                  </a:lnTo>
                  <a:lnTo>
                    <a:pt x="449" y="418"/>
                  </a:lnTo>
                  <a:lnTo>
                    <a:pt x="454" y="410"/>
                  </a:lnTo>
                  <a:lnTo>
                    <a:pt x="460" y="411"/>
                  </a:lnTo>
                  <a:lnTo>
                    <a:pt x="468" y="408"/>
                  </a:lnTo>
                  <a:lnTo>
                    <a:pt x="474" y="400"/>
                  </a:lnTo>
                  <a:lnTo>
                    <a:pt x="484" y="398"/>
                  </a:lnTo>
                  <a:lnTo>
                    <a:pt x="493" y="404"/>
                  </a:lnTo>
                  <a:lnTo>
                    <a:pt x="503" y="410"/>
                  </a:lnTo>
                  <a:lnTo>
                    <a:pt x="505" y="402"/>
                  </a:lnTo>
                  <a:lnTo>
                    <a:pt x="513" y="396"/>
                  </a:lnTo>
                  <a:lnTo>
                    <a:pt x="521" y="391"/>
                  </a:lnTo>
                  <a:lnTo>
                    <a:pt x="531" y="391"/>
                  </a:lnTo>
                  <a:lnTo>
                    <a:pt x="544" y="395"/>
                  </a:lnTo>
                  <a:lnTo>
                    <a:pt x="556" y="395"/>
                  </a:lnTo>
                  <a:lnTo>
                    <a:pt x="567" y="391"/>
                  </a:lnTo>
                  <a:lnTo>
                    <a:pt x="572" y="383"/>
                  </a:lnTo>
                  <a:lnTo>
                    <a:pt x="584" y="381"/>
                  </a:lnTo>
                  <a:lnTo>
                    <a:pt x="595" y="386"/>
                  </a:lnTo>
                  <a:lnTo>
                    <a:pt x="605" y="385"/>
                  </a:lnTo>
                  <a:lnTo>
                    <a:pt x="611" y="377"/>
                  </a:lnTo>
                  <a:lnTo>
                    <a:pt x="619" y="370"/>
                  </a:lnTo>
                  <a:lnTo>
                    <a:pt x="625" y="362"/>
                  </a:lnTo>
                  <a:lnTo>
                    <a:pt x="628" y="353"/>
                  </a:lnTo>
                  <a:lnTo>
                    <a:pt x="629" y="344"/>
                  </a:lnTo>
                  <a:lnTo>
                    <a:pt x="626" y="335"/>
                  </a:lnTo>
                  <a:lnTo>
                    <a:pt x="619" y="327"/>
                  </a:lnTo>
                  <a:lnTo>
                    <a:pt x="619" y="318"/>
                  </a:lnTo>
                  <a:lnTo>
                    <a:pt x="629" y="311"/>
                  </a:lnTo>
                  <a:lnTo>
                    <a:pt x="635" y="303"/>
                  </a:lnTo>
                  <a:lnTo>
                    <a:pt x="636" y="294"/>
                  </a:lnTo>
                  <a:lnTo>
                    <a:pt x="640" y="285"/>
                  </a:lnTo>
                  <a:lnTo>
                    <a:pt x="635" y="277"/>
                  </a:lnTo>
                  <a:lnTo>
                    <a:pt x="632" y="268"/>
                  </a:lnTo>
                  <a:lnTo>
                    <a:pt x="635" y="259"/>
                  </a:lnTo>
                  <a:lnTo>
                    <a:pt x="643" y="251"/>
                  </a:lnTo>
                  <a:lnTo>
                    <a:pt x="653" y="246"/>
                  </a:lnTo>
                  <a:lnTo>
                    <a:pt x="664" y="248"/>
                  </a:lnTo>
                  <a:lnTo>
                    <a:pt x="668" y="244"/>
                  </a:lnTo>
                  <a:lnTo>
                    <a:pt x="672" y="235"/>
                  </a:lnTo>
                  <a:lnTo>
                    <a:pt x="679" y="228"/>
                  </a:lnTo>
                  <a:lnTo>
                    <a:pt x="690" y="224"/>
                  </a:lnTo>
                  <a:lnTo>
                    <a:pt x="703" y="220"/>
                  </a:lnTo>
                  <a:lnTo>
                    <a:pt x="716" y="218"/>
                  </a:lnTo>
                  <a:lnTo>
                    <a:pt x="724" y="218"/>
                  </a:lnTo>
                  <a:lnTo>
                    <a:pt x="737" y="217"/>
                  </a:lnTo>
                  <a:lnTo>
                    <a:pt x="749" y="216"/>
                  </a:lnTo>
                  <a:lnTo>
                    <a:pt x="763" y="216"/>
                  </a:lnTo>
                  <a:lnTo>
                    <a:pt x="772" y="219"/>
                  </a:lnTo>
                  <a:lnTo>
                    <a:pt x="769" y="229"/>
                  </a:lnTo>
                  <a:lnTo>
                    <a:pt x="779" y="232"/>
                  </a:lnTo>
                  <a:lnTo>
                    <a:pt x="786" y="235"/>
                  </a:lnTo>
                  <a:lnTo>
                    <a:pt x="794" y="236"/>
                  </a:lnTo>
                  <a:lnTo>
                    <a:pt x="804" y="240"/>
                  </a:lnTo>
                  <a:lnTo>
                    <a:pt x="814" y="234"/>
                  </a:lnTo>
                  <a:lnTo>
                    <a:pt x="823" y="235"/>
                  </a:lnTo>
                  <a:lnTo>
                    <a:pt x="833" y="241"/>
                  </a:lnTo>
                  <a:lnTo>
                    <a:pt x="843" y="246"/>
                  </a:lnTo>
                  <a:lnTo>
                    <a:pt x="855" y="250"/>
                  </a:lnTo>
                  <a:lnTo>
                    <a:pt x="867" y="250"/>
                  </a:lnTo>
                  <a:lnTo>
                    <a:pt x="876" y="243"/>
                  </a:lnTo>
                  <a:close/>
                </a:path>
              </a:pathLst>
            </a:custGeom>
            <a:solidFill>
              <a:srgbClr val="ffff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67360" y="3486240"/>
              <a:ext cx="1341360" cy="1627200"/>
            </a:xfrm>
            <a:custGeom>
              <a:avLst/>
              <a:gdLst/>
              <a:ahLst/>
              <a:rect l="l" t="t" r="r" b="b"/>
              <a:pathLst>
                <a:path w="2533" h="2048">
                  <a:moveTo>
                    <a:pt x="1134" y="0"/>
                  </a:moveTo>
                  <a:lnTo>
                    <a:pt x="1148" y="0"/>
                  </a:lnTo>
                  <a:lnTo>
                    <a:pt x="1160" y="1"/>
                  </a:lnTo>
                  <a:lnTo>
                    <a:pt x="1170" y="4"/>
                  </a:lnTo>
                  <a:lnTo>
                    <a:pt x="1176" y="13"/>
                  </a:lnTo>
                  <a:lnTo>
                    <a:pt x="1188" y="14"/>
                  </a:lnTo>
                  <a:lnTo>
                    <a:pt x="1195" y="21"/>
                  </a:lnTo>
                  <a:lnTo>
                    <a:pt x="1204" y="28"/>
                  </a:lnTo>
                  <a:lnTo>
                    <a:pt x="1211" y="36"/>
                  </a:lnTo>
                  <a:lnTo>
                    <a:pt x="1219" y="43"/>
                  </a:lnTo>
                  <a:lnTo>
                    <a:pt x="1226" y="51"/>
                  </a:lnTo>
                  <a:lnTo>
                    <a:pt x="1235" y="58"/>
                  </a:lnTo>
                  <a:lnTo>
                    <a:pt x="1242" y="66"/>
                  </a:lnTo>
                  <a:lnTo>
                    <a:pt x="1249" y="74"/>
                  </a:lnTo>
                  <a:lnTo>
                    <a:pt x="1257" y="81"/>
                  </a:lnTo>
                  <a:lnTo>
                    <a:pt x="1270" y="79"/>
                  </a:lnTo>
                  <a:lnTo>
                    <a:pt x="1282" y="75"/>
                  </a:lnTo>
                  <a:lnTo>
                    <a:pt x="1279" y="66"/>
                  </a:lnTo>
                  <a:lnTo>
                    <a:pt x="1274" y="56"/>
                  </a:lnTo>
                  <a:lnTo>
                    <a:pt x="1272" y="48"/>
                  </a:lnTo>
                  <a:lnTo>
                    <a:pt x="1285" y="49"/>
                  </a:lnTo>
                  <a:lnTo>
                    <a:pt x="1295" y="55"/>
                  </a:lnTo>
                  <a:lnTo>
                    <a:pt x="1306" y="61"/>
                  </a:lnTo>
                  <a:lnTo>
                    <a:pt x="1316" y="66"/>
                  </a:lnTo>
                  <a:lnTo>
                    <a:pt x="1325" y="72"/>
                  </a:lnTo>
                  <a:lnTo>
                    <a:pt x="1337" y="78"/>
                  </a:lnTo>
                  <a:lnTo>
                    <a:pt x="1346" y="83"/>
                  </a:lnTo>
                  <a:lnTo>
                    <a:pt x="1358" y="89"/>
                  </a:lnTo>
                  <a:lnTo>
                    <a:pt x="1367" y="95"/>
                  </a:lnTo>
                  <a:lnTo>
                    <a:pt x="1377" y="100"/>
                  </a:lnTo>
                  <a:lnTo>
                    <a:pt x="1388" y="106"/>
                  </a:lnTo>
                  <a:lnTo>
                    <a:pt x="1398" y="112"/>
                  </a:lnTo>
                  <a:lnTo>
                    <a:pt x="1411" y="115"/>
                  </a:lnTo>
                  <a:lnTo>
                    <a:pt x="1423" y="116"/>
                  </a:lnTo>
                  <a:lnTo>
                    <a:pt x="1437" y="117"/>
                  </a:lnTo>
                  <a:lnTo>
                    <a:pt x="1450" y="118"/>
                  </a:lnTo>
                  <a:lnTo>
                    <a:pt x="1462" y="119"/>
                  </a:lnTo>
                  <a:lnTo>
                    <a:pt x="1476" y="120"/>
                  </a:lnTo>
                  <a:lnTo>
                    <a:pt x="1489" y="121"/>
                  </a:lnTo>
                  <a:lnTo>
                    <a:pt x="1503" y="122"/>
                  </a:lnTo>
                  <a:lnTo>
                    <a:pt x="1516" y="124"/>
                  </a:lnTo>
                  <a:lnTo>
                    <a:pt x="1528" y="125"/>
                  </a:lnTo>
                  <a:lnTo>
                    <a:pt x="1541" y="127"/>
                  </a:lnTo>
                  <a:lnTo>
                    <a:pt x="1553" y="129"/>
                  </a:lnTo>
                  <a:lnTo>
                    <a:pt x="1566" y="131"/>
                  </a:lnTo>
                  <a:lnTo>
                    <a:pt x="1577" y="135"/>
                  </a:lnTo>
                  <a:lnTo>
                    <a:pt x="1587" y="142"/>
                  </a:lnTo>
                  <a:lnTo>
                    <a:pt x="1595" y="150"/>
                  </a:lnTo>
                  <a:lnTo>
                    <a:pt x="1604" y="157"/>
                  </a:lnTo>
                  <a:lnTo>
                    <a:pt x="1625" y="153"/>
                  </a:lnTo>
                  <a:lnTo>
                    <a:pt x="1637" y="154"/>
                  </a:lnTo>
                  <a:lnTo>
                    <a:pt x="1647" y="159"/>
                  </a:lnTo>
                  <a:lnTo>
                    <a:pt x="1660" y="164"/>
                  </a:lnTo>
                  <a:lnTo>
                    <a:pt x="1672" y="164"/>
                  </a:lnTo>
                  <a:lnTo>
                    <a:pt x="1685" y="164"/>
                  </a:lnTo>
                  <a:lnTo>
                    <a:pt x="1697" y="163"/>
                  </a:lnTo>
                  <a:lnTo>
                    <a:pt x="1711" y="163"/>
                  </a:lnTo>
                  <a:lnTo>
                    <a:pt x="1724" y="162"/>
                  </a:lnTo>
                  <a:lnTo>
                    <a:pt x="1736" y="161"/>
                  </a:lnTo>
                  <a:lnTo>
                    <a:pt x="1748" y="156"/>
                  </a:lnTo>
                  <a:lnTo>
                    <a:pt x="1749" y="165"/>
                  </a:lnTo>
                  <a:lnTo>
                    <a:pt x="1746" y="174"/>
                  </a:lnTo>
                  <a:lnTo>
                    <a:pt x="1742" y="183"/>
                  </a:lnTo>
                  <a:lnTo>
                    <a:pt x="1741" y="192"/>
                  </a:lnTo>
                  <a:lnTo>
                    <a:pt x="1742" y="201"/>
                  </a:lnTo>
                  <a:lnTo>
                    <a:pt x="1753" y="203"/>
                  </a:lnTo>
                  <a:lnTo>
                    <a:pt x="1755" y="212"/>
                  </a:lnTo>
                  <a:lnTo>
                    <a:pt x="1755" y="221"/>
                  </a:lnTo>
                  <a:lnTo>
                    <a:pt x="1756" y="230"/>
                  </a:lnTo>
                  <a:lnTo>
                    <a:pt x="1763" y="238"/>
                  </a:lnTo>
                  <a:lnTo>
                    <a:pt x="1753" y="243"/>
                  </a:lnTo>
                  <a:lnTo>
                    <a:pt x="1741" y="248"/>
                  </a:lnTo>
                  <a:lnTo>
                    <a:pt x="1731" y="254"/>
                  </a:lnTo>
                  <a:lnTo>
                    <a:pt x="1738" y="262"/>
                  </a:lnTo>
                  <a:lnTo>
                    <a:pt x="1741" y="271"/>
                  </a:lnTo>
                  <a:lnTo>
                    <a:pt x="1743" y="281"/>
                  </a:lnTo>
                  <a:lnTo>
                    <a:pt x="1738" y="289"/>
                  </a:lnTo>
                  <a:lnTo>
                    <a:pt x="1728" y="295"/>
                  </a:lnTo>
                  <a:lnTo>
                    <a:pt x="1718" y="300"/>
                  </a:lnTo>
                  <a:lnTo>
                    <a:pt x="1707" y="305"/>
                  </a:lnTo>
                  <a:lnTo>
                    <a:pt x="1696" y="310"/>
                  </a:lnTo>
                  <a:lnTo>
                    <a:pt x="1685" y="315"/>
                  </a:lnTo>
                  <a:lnTo>
                    <a:pt x="1674" y="320"/>
                  </a:lnTo>
                  <a:lnTo>
                    <a:pt x="1662" y="325"/>
                  </a:lnTo>
                  <a:lnTo>
                    <a:pt x="1651" y="330"/>
                  </a:lnTo>
                  <a:lnTo>
                    <a:pt x="1640" y="335"/>
                  </a:lnTo>
                  <a:lnTo>
                    <a:pt x="1625" y="341"/>
                  </a:lnTo>
                  <a:lnTo>
                    <a:pt x="1633" y="373"/>
                  </a:lnTo>
                  <a:lnTo>
                    <a:pt x="1637" y="382"/>
                  </a:lnTo>
                  <a:lnTo>
                    <a:pt x="1639" y="391"/>
                  </a:lnTo>
                  <a:lnTo>
                    <a:pt x="1634" y="400"/>
                  </a:lnTo>
                  <a:lnTo>
                    <a:pt x="1629" y="408"/>
                  </a:lnTo>
                  <a:lnTo>
                    <a:pt x="1626" y="418"/>
                  </a:lnTo>
                  <a:lnTo>
                    <a:pt x="1632" y="425"/>
                  </a:lnTo>
                  <a:lnTo>
                    <a:pt x="1639" y="434"/>
                  </a:lnTo>
                  <a:lnTo>
                    <a:pt x="1646" y="442"/>
                  </a:lnTo>
                  <a:lnTo>
                    <a:pt x="1654" y="450"/>
                  </a:lnTo>
                  <a:lnTo>
                    <a:pt x="1664" y="452"/>
                  </a:lnTo>
                  <a:lnTo>
                    <a:pt x="1676" y="453"/>
                  </a:lnTo>
                  <a:lnTo>
                    <a:pt x="1688" y="457"/>
                  </a:lnTo>
                  <a:lnTo>
                    <a:pt x="1700" y="459"/>
                  </a:lnTo>
                  <a:lnTo>
                    <a:pt x="1713" y="461"/>
                  </a:lnTo>
                  <a:lnTo>
                    <a:pt x="1725" y="465"/>
                  </a:lnTo>
                  <a:lnTo>
                    <a:pt x="1736" y="469"/>
                  </a:lnTo>
                  <a:lnTo>
                    <a:pt x="1749" y="473"/>
                  </a:lnTo>
                  <a:lnTo>
                    <a:pt x="1760" y="476"/>
                  </a:lnTo>
                  <a:lnTo>
                    <a:pt x="1773" y="480"/>
                  </a:lnTo>
                  <a:lnTo>
                    <a:pt x="1785" y="483"/>
                  </a:lnTo>
                  <a:lnTo>
                    <a:pt x="1798" y="486"/>
                  </a:lnTo>
                  <a:lnTo>
                    <a:pt x="1809" y="489"/>
                  </a:lnTo>
                  <a:lnTo>
                    <a:pt x="1822" y="492"/>
                  </a:lnTo>
                  <a:lnTo>
                    <a:pt x="1834" y="496"/>
                  </a:lnTo>
                  <a:lnTo>
                    <a:pt x="1845" y="500"/>
                  </a:lnTo>
                  <a:lnTo>
                    <a:pt x="1858" y="504"/>
                  </a:lnTo>
                  <a:lnTo>
                    <a:pt x="1869" y="508"/>
                  </a:lnTo>
                  <a:lnTo>
                    <a:pt x="1882" y="511"/>
                  </a:lnTo>
                  <a:lnTo>
                    <a:pt x="1894" y="512"/>
                  </a:lnTo>
                  <a:lnTo>
                    <a:pt x="1907" y="512"/>
                  </a:lnTo>
                  <a:lnTo>
                    <a:pt x="1921" y="512"/>
                  </a:lnTo>
                  <a:lnTo>
                    <a:pt x="1934" y="513"/>
                  </a:lnTo>
                  <a:lnTo>
                    <a:pt x="1946" y="514"/>
                  </a:lnTo>
                  <a:lnTo>
                    <a:pt x="1959" y="515"/>
                  </a:lnTo>
                  <a:lnTo>
                    <a:pt x="1973" y="515"/>
                  </a:lnTo>
                  <a:lnTo>
                    <a:pt x="1985" y="515"/>
                  </a:lnTo>
                  <a:lnTo>
                    <a:pt x="1998" y="518"/>
                  </a:lnTo>
                  <a:lnTo>
                    <a:pt x="2006" y="523"/>
                  </a:lnTo>
                  <a:lnTo>
                    <a:pt x="2015" y="529"/>
                  </a:lnTo>
                  <a:lnTo>
                    <a:pt x="2029" y="525"/>
                  </a:lnTo>
                  <a:lnTo>
                    <a:pt x="2040" y="525"/>
                  </a:lnTo>
                  <a:lnTo>
                    <a:pt x="2045" y="534"/>
                  </a:lnTo>
                  <a:lnTo>
                    <a:pt x="2047" y="544"/>
                  </a:lnTo>
                  <a:lnTo>
                    <a:pt x="2043" y="551"/>
                  </a:lnTo>
                  <a:lnTo>
                    <a:pt x="2027" y="552"/>
                  </a:lnTo>
                  <a:lnTo>
                    <a:pt x="2024" y="559"/>
                  </a:lnTo>
                  <a:lnTo>
                    <a:pt x="2019" y="565"/>
                  </a:lnTo>
                  <a:lnTo>
                    <a:pt x="2016" y="575"/>
                  </a:lnTo>
                  <a:lnTo>
                    <a:pt x="2019" y="579"/>
                  </a:lnTo>
                  <a:lnTo>
                    <a:pt x="2026" y="572"/>
                  </a:lnTo>
                  <a:lnTo>
                    <a:pt x="2034" y="563"/>
                  </a:lnTo>
                  <a:lnTo>
                    <a:pt x="2044" y="555"/>
                  </a:lnTo>
                  <a:lnTo>
                    <a:pt x="2054" y="554"/>
                  </a:lnTo>
                  <a:lnTo>
                    <a:pt x="2066" y="555"/>
                  </a:lnTo>
                  <a:lnTo>
                    <a:pt x="2079" y="558"/>
                  </a:lnTo>
                  <a:lnTo>
                    <a:pt x="2093" y="562"/>
                  </a:lnTo>
                  <a:lnTo>
                    <a:pt x="2105" y="566"/>
                  </a:lnTo>
                  <a:lnTo>
                    <a:pt x="2111" y="572"/>
                  </a:lnTo>
                  <a:lnTo>
                    <a:pt x="2117" y="580"/>
                  </a:lnTo>
                  <a:lnTo>
                    <a:pt x="2128" y="578"/>
                  </a:lnTo>
                  <a:lnTo>
                    <a:pt x="2136" y="581"/>
                  </a:lnTo>
                  <a:lnTo>
                    <a:pt x="2142" y="573"/>
                  </a:lnTo>
                  <a:lnTo>
                    <a:pt x="2150" y="566"/>
                  </a:lnTo>
                  <a:lnTo>
                    <a:pt x="2157" y="559"/>
                  </a:lnTo>
                  <a:lnTo>
                    <a:pt x="2170" y="562"/>
                  </a:lnTo>
                  <a:lnTo>
                    <a:pt x="2181" y="558"/>
                  </a:lnTo>
                  <a:lnTo>
                    <a:pt x="2194" y="555"/>
                  </a:lnTo>
                  <a:lnTo>
                    <a:pt x="2206" y="551"/>
                  </a:lnTo>
                  <a:lnTo>
                    <a:pt x="2216" y="555"/>
                  </a:lnTo>
                  <a:lnTo>
                    <a:pt x="2223" y="562"/>
                  </a:lnTo>
                  <a:lnTo>
                    <a:pt x="2234" y="557"/>
                  </a:lnTo>
                  <a:lnTo>
                    <a:pt x="2233" y="548"/>
                  </a:lnTo>
                  <a:lnTo>
                    <a:pt x="2241" y="541"/>
                  </a:lnTo>
                  <a:lnTo>
                    <a:pt x="2252" y="543"/>
                  </a:lnTo>
                  <a:lnTo>
                    <a:pt x="2265" y="543"/>
                  </a:lnTo>
                  <a:lnTo>
                    <a:pt x="2279" y="541"/>
                  </a:lnTo>
                  <a:lnTo>
                    <a:pt x="2286" y="537"/>
                  </a:lnTo>
                  <a:lnTo>
                    <a:pt x="2280" y="528"/>
                  </a:lnTo>
                  <a:lnTo>
                    <a:pt x="2275" y="519"/>
                  </a:lnTo>
                  <a:lnTo>
                    <a:pt x="2269" y="511"/>
                  </a:lnTo>
                  <a:lnTo>
                    <a:pt x="2266" y="502"/>
                  </a:lnTo>
                  <a:lnTo>
                    <a:pt x="2268" y="493"/>
                  </a:lnTo>
                  <a:lnTo>
                    <a:pt x="2273" y="484"/>
                  </a:lnTo>
                  <a:lnTo>
                    <a:pt x="2282" y="477"/>
                  </a:lnTo>
                  <a:lnTo>
                    <a:pt x="2289" y="470"/>
                  </a:lnTo>
                  <a:lnTo>
                    <a:pt x="2290" y="460"/>
                  </a:lnTo>
                  <a:lnTo>
                    <a:pt x="2296" y="453"/>
                  </a:lnTo>
                  <a:lnTo>
                    <a:pt x="2305" y="459"/>
                  </a:lnTo>
                  <a:lnTo>
                    <a:pt x="2318" y="460"/>
                  </a:lnTo>
                  <a:lnTo>
                    <a:pt x="2331" y="461"/>
                  </a:lnTo>
                  <a:lnTo>
                    <a:pt x="2345" y="462"/>
                  </a:lnTo>
                  <a:lnTo>
                    <a:pt x="2357" y="463"/>
                  </a:lnTo>
                  <a:lnTo>
                    <a:pt x="2368" y="459"/>
                  </a:lnTo>
                  <a:lnTo>
                    <a:pt x="2375" y="451"/>
                  </a:lnTo>
                  <a:lnTo>
                    <a:pt x="2386" y="446"/>
                  </a:lnTo>
                  <a:lnTo>
                    <a:pt x="2395" y="439"/>
                  </a:lnTo>
                  <a:lnTo>
                    <a:pt x="2402" y="434"/>
                  </a:lnTo>
                  <a:lnTo>
                    <a:pt x="2396" y="425"/>
                  </a:lnTo>
                  <a:lnTo>
                    <a:pt x="2409" y="422"/>
                  </a:lnTo>
                  <a:lnTo>
                    <a:pt x="2409" y="413"/>
                  </a:lnTo>
                  <a:lnTo>
                    <a:pt x="2417" y="405"/>
                  </a:lnTo>
                  <a:lnTo>
                    <a:pt x="2424" y="407"/>
                  </a:lnTo>
                  <a:lnTo>
                    <a:pt x="2431" y="414"/>
                  </a:lnTo>
                  <a:lnTo>
                    <a:pt x="2444" y="412"/>
                  </a:lnTo>
                  <a:lnTo>
                    <a:pt x="2458" y="409"/>
                  </a:lnTo>
                  <a:lnTo>
                    <a:pt x="2469" y="404"/>
                  </a:lnTo>
                  <a:lnTo>
                    <a:pt x="2477" y="410"/>
                  </a:lnTo>
                  <a:lnTo>
                    <a:pt x="2490" y="412"/>
                  </a:lnTo>
                  <a:lnTo>
                    <a:pt x="2504" y="412"/>
                  </a:lnTo>
                  <a:lnTo>
                    <a:pt x="2511" y="417"/>
                  </a:lnTo>
                  <a:lnTo>
                    <a:pt x="2511" y="429"/>
                  </a:lnTo>
                  <a:lnTo>
                    <a:pt x="2515" y="438"/>
                  </a:lnTo>
                  <a:lnTo>
                    <a:pt x="2522" y="445"/>
                  </a:lnTo>
                  <a:lnTo>
                    <a:pt x="2533" y="448"/>
                  </a:lnTo>
                  <a:lnTo>
                    <a:pt x="2526" y="455"/>
                  </a:lnTo>
                  <a:lnTo>
                    <a:pt x="2514" y="457"/>
                  </a:lnTo>
                  <a:lnTo>
                    <a:pt x="2508" y="465"/>
                  </a:lnTo>
                  <a:lnTo>
                    <a:pt x="2511" y="474"/>
                  </a:lnTo>
                  <a:lnTo>
                    <a:pt x="2507" y="483"/>
                  </a:lnTo>
                  <a:lnTo>
                    <a:pt x="2504" y="492"/>
                  </a:lnTo>
                  <a:lnTo>
                    <a:pt x="2498" y="498"/>
                  </a:lnTo>
                  <a:lnTo>
                    <a:pt x="2493" y="508"/>
                  </a:lnTo>
                  <a:lnTo>
                    <a:pt x="2494" y="514"/>
                  </a:lnTo>
                  <a:lnTo>
                    <a:pt x="2509" y="514"/>
                  </a:lnTo>
                  <a:lnTo>
                    <a:pt x="2521" y="518"/>
                  </a:lnTo>
                  <a:lnTo>
                    <a:pt x="2522" y="526"/>
                  </a:lnTo>
                  <a:lnTo>
                    <a:pt x="2516" y="534"/>
                  </a:lnTo>
                  <a:lnTo>
                    <a:pt x="2509" y="542"/>
                  </a:lnTo>
                  <a:lnTo>
                    <a:pt x="2502" y="549"/>
                  </a:lnTo>
                  <a:lnTo>
                    <a:pt x="2490" y="547"/>
                  </a:lnTo>
                  <a:lnTo>
                    <a:pt x="2477" y="544"/>
                  </a:lnTo>
                  <a:lnTo>
                    <a:pt x="2473" y="551"/>
                  </a:lnTo>
                  <a:lnTo>
                    <a:pt x="2470" y="559"/>
                  </a:lnTo>
                  <a:lnTo>
                    <a:pt x="2462" y="566"/>
                  </a:lnTo>
                  <a:lnTo>
                    <a:pt x="2456" y="574"/>
                  </a:lnTo>
                  <a:lnTo>
                    <a:pt x="2445" y="579"/>
                  </a:lnTo>
                  <a:lnTo>
                    <a:pt x="2441" y="588"/>
                  </a:lnTo>
                  <a:lnTo>
                    <a:pt x="2434" y="594"/>
                  </a:lnTo>
                  <a:lnTo>
                    <a:pt x="2421" y="595"/>
                  </a:lnTo>
                  <a:lnTo>
                    <a:pt x="2407" y="595"/>
                  </a:lnTo>
                  <a:lnTo>
                    <a:pt x="2393" y="595"/>
                  </a:lnTo>
                  <a:lnTo>
                    <a:pt x="2381" y="595"/>
                  </a:lnTo>
                  <a:lnTo>
                    <a:pt x="2368" y="597"/>
                  </a:lnTo>
                  <a:lnTo>
                    <a:pt x="2361" y="605"/>
                  </a:lnTo>
                  <a:lnTo>
                    <a:pt x="2359" y="615"/>
                  </a:lnTo>
                  <a:lnTo>
                    <a:pt x="2359" y="624"/>
                  </a:lnTo>
                  <a:lnTo>
                    <a:pt x="2363" y="632"/>
                  </a:lnTo>
                  <a:lnTo>
                    <a:pt x="2363" y="642"/>
                  </a:lnTo>
                  <a:lnTo>
                    <a:pt x="2368" y="650"/>
                  </a:lnTo>
                  <a:lnTo>
                    <a:pt x="2379" y="653"/>
                  </a:lnTo>
                  <a:lnTo>
                    <a:pt x="2382" y="662"/>
                  </a:lnTo>
                  <a:lnTo>
                    <a:pt x="2385" y="671"/>
                  </a:lnTo>
                  <a:lnTo>
                    <a:pt x="2391" y="680"/>
                  </a:lnTo>
                  <a:lnTo>
                    <a:pt x="2395" y="689"/>
                  </a:lnTo>
                  <a:lnTo>
                    <a:pt x="2385" y="692"/>
                  </a:lnTo>
                  <a:lnTo>
                    <a:pt x="2375" y="696"/>
                  </a:lnTo>
                  <a:lnTo>
                    <a:pt x="2371" y="705"/>
                  </a:lnTo>
                  <a:lnTo>
                    <a:pt x="2372" y="715"/>
                  </a:lnTo>
                  <a:lnTo>
                    <a:pt x="2374" y="724"/>
                  </a:lnTo>
                  <a:lnTo>
                    <a:pt x="2371" y="733"/>
                  </a:lnTo>
                  <a:lnTo>
                    <a:pt x="2365" y="737"/>
                  </a:lnTo>
                  <a:lnTo>
                    <a:pt x="2361" y="746"/>
                  </a:lnTo>
                  <a:lnTo>
                    <a:pt x="2349" y="747"/>
                  </a:lnTo>
                  <a:lnTo>
                    <a:pt x="2336" y="749"/>
                  </a:lnTo>
                  <a:lnTo>
                    <a:pt x="2326" y="754"/>
                  </a:lnTo>
                  <a:lnTo>
                    <a:pt x="2314" y="757"/>
                  </a:lnTo>
                  <a:lnTo>
                    <a:pt x="2303" y="761"/>
                  </a:lnTo>
                  <a:lnTo>
                    <a:pt x="2290" y="761"/>
                  </a:lnTo>
                  <a:lnTo>
                    <a:pt x="2277" y="765"/>
                  </a:lnTo>
                  <a:lnTo>
                    <a:pt x="2269" y="771"/>
                  </a:lnTo>
                  <a:lnTo>
                    <a:pt x="2258" y="776"/>
                  </a:lnTo>
                  <a:lnTo>
                    <a:pt x="2247" y="777"/>
                  </a:lnTo>
                  <a:lnTo>
                    <a:pt x="2245" y="787"/>
                  </a:lnTo>
                  <a:lnTo>
                    <a:pt x="2235" y="792"/>
                  </a:lnTo>
                  <a:lnTo>
                    <a:pt x="2223" y="792"/>
                  </a:lnTo>
                  <a:lnTo>
                    <a:pt x="2215" y="799"/>
                  </a:lnTo>
                  <a:lnTo>
                    <a:pt x="2215" y="808"/>
                  </a:lnTo>
                  <a:lnTo>
                    <a:pt x="2215" y="817"/>
                  </a:lnTo>
                  <a:lnTo>
                    <a:pt x="2213" y="826"/>
                  </a:lnTo>
                  <a:lnTo>
                    <a:pt x="2217" y="834"/>
                  </a:lnTo>
                  <a:lnTo>
                    <a:pt x="2219" y="843"/>
                  </a:lnTo>
                  <a:lnTo>
                    <a:pt x="2220" y="853"/>
                  </a:lnTo>
                  <a:lnTo>
                    <a:pt x="2217" y="861"/>
                  </a:lnTo>
                  <a:lnTo>
                    <a:pt x="2213" y="870"/>
                  </a:lnTo>
                  <a:lnTo>
                    <a:pt x="2210" y="879"/>
                  </a:lnTo>
                  <a:lnTo>
                    <a:pt x="2205" y="888"/>
                  </a:lnTo>
                  <a:lnTo>
                    <a:pt x="2202" y="895"/>
                  </a:lnTo>
                  <a:lnTo>
                    <a:pt x="2198" y="904"/>
                  </a:lnTo>
                  <a:lnTo>
                    <a:pt x="2194" y="913"/>
                  </a:lnTo>
                  <a:lnTo>
                    <a:pt x="2184" y="919"/>
                  </a:lnTo>
                  <a:lnTo>
                    <a:pt x="2174" y="925"/>
                  </a:lnTo>
                  <a:lnTo>
                    <a:pt x="2163" y="929"/>
                  </a:lnTo>
                  <a:lnTo>
                    <a:pt x="2156" y="934"/>
                  </a:lnTo>
                  <a:lnTo>
                    <a:pt x="2152" y="944"/>
                  </a:lnTo>
                  <a:lnTo>
                    <a:pt x="2146" y="951"/>
                  </a:lnTo>
                  <a:lnTo>
                    <a:pt x="2150" y="960"/>
                  </a:lnTo>
                  <a:lnTo>
                    <a:pt x="2160" y="963"/>
                  </a:lnTo>
                  <a:lnTo>
                    <a:pt x="2173" y="966"/>
                  </a:lnTo>
                  <a:lnTo>
                    <a:pt x="2181" y="974"/>
                  </a:lnTo>
                  <a:lnTo>
                    <a:pt x="2189" y="980"/>
                  </a:lnTo>
                  <a:lnTo>
                    <a:pt x="2199" y="986"/>
                  </a:lnTo>
                  <a:lnTo>
                    <a:pt x="2210" y="992"/>
                  </a:lnTo>
                  <a:lnTo>
                    <a:pt x="2222" y="996"/>
                  </a:lnTo>
                  <a:lnTo>
                    <a:pt x="2233" y="1000"/>
                  </a:lnTo>
                  <a:lnTo>
                    <a:pt x="2237" y="1009"/>
                  </a:lnTo>
                  <a:lnTo>
                    <a:pt x="2240" y="1018"/>
                  </a:lnTo>
                  <a:lnTo>
                    <a:pt x="2242" y="1027"/>
                  </a:lnTo>
                  <a:lnTo>
                    <a:pt x="2242" y="1036"/>
                  </a:lnTo>
                  <a:lnTo>
                    <a:pt x="2235" y="1044"/>
                  </a:lnTo>
                  <a:lnTo>
                    <a:pt x="2227" y="1051"/>
                  </a:lnTo>
                  <a:lnTo>
                    <a:pt x="2217" y="1057"/>
                  </a:lnTo>
                  <a:lnTo>
                    <a:pt x="2208" y="1061"/>
                  </a:lnTo>
                  <a:lnTo>
                    <a:pt x="2203" y="1069"/>
                  </a:lnTo>
                  <a:lnTo>
                    <a:pt x="2201" y="1077"/>
                  </a:lnTo>
                  <a:lnTo>
                    <a:pt x="2199" y="1085"/>
                  </a:lnTo>
                  <a:lnTo>
                    <a:pt x="2188" y="1090"/>
                  </a:lnTo>
                  <a:lnTo>
                    <a:pt x="2182" y="1098"/>
                  </a:lnTo>
                  <a:lnTo>
                    <a:pt x="2178" y="1107"/>
                  </a:lnTo>
                  <a:lnTo>
                    <a:pt x="2170" y="1112"/>
                  </a:lnTo>
                  <a:lnTo>
                    <a:pt x="2160" y="1107"/>
                  </a:lnTo>
                  <a:lnTo>
                    <a:pt x="2150" y="1101"/>
                  </a:lnTo>
                  <a:lnTo>
                    <a:pt x="2139" y="1097"/>
                  </a:lnTo>
                  <a:lnTo>
                    <a:pt x="2129" y="1094"/>
                  </a:lnTo>
                  <a:lnTo>
                    <a:pt x="2117" y="1099"/>
                  </a:lnTo>
                  <a:lnTo>
                    <a:pt x="2105" y="1104"/>
                  </a:lnTo>
                  <a:lnTo>
                    <a:pt x="2094" y="1108"/>
                  </a:lnTo>
                  <a:lnTo>
                    <a:pt x="2083" y="1108"/>
                  </a:lnTo>
                  <a:lnTo>
                    <a:pt x="2071" y="1103"/>
                  </a:lnTo>
                  <a:lnTo>
                    <a:pt x="2059" y="1098"/>
                  </a:lnTo>
                  <a:lnTo>
                    <a:pt x="2048" y="1100"/>
                  </a:lnTo>
                  <a:lnTo>
                    <a:pt x="2045" y="1109"/>
                  </a:lnTo>
                  <a:lnTo>
                    <a:pt x="2048" y="1117"/>
                  </a:lnTo>
                  <a:lnTo>
                    <a:pt x="2052" y="1126"/>
                  </a:lnTo>
                  <a:lnTo>
                    <a:pt x="2058" y="1134"/>
                  </a:lnTo>
                  <a:lnTo>
                    <a:pt x="2065" y="1142"/>
                  </a:lnTo>
                  <a:lnTo>
                    <a:pt x="2072" y="1149"/>
                  </a:lnTo>
                  <a:lnTo>
                    <a:pt x="2082" y="1154"/>
                  </a:lnTo>
                  <a:lnTo>
                    <a:pt x="2094" y="1150"/>
                  </a:lnTo>
                  <a:lnTo>
                    <a:pt x="2103" y="1154"/>
                  </a:lnTo>
                  <a:lnTo>
                    <a:pt x="2101" y="1164"/>
                  </a:lnTo>
                  <a:lnTo>
                    <a:pt x="2093" y="1171"/>
                  </a:lnTo>
                  <a:lnTo>
                    <a:pt x="2085" y="1178"/>
                  </a:lnTo>
                  <a:lnTo>
                    <a:pt x="2076" y="1186"/>
                  </a:lnTo>
                  <a:lnTo>
                    <a:pt x="2065" y="1191"/>
                  </a:lnTo>
                  <a:lnTo>
                    <a:pt x="2054" y="1195"/>
                  </a:lnTo>
                  <a:lnTo>
                    <a:pt x="2040" y="1196"/>
                  </a:lnTo>
                  <a:lnTo>
                    <a:pt x="2030" y="1201"/>
                  </a:lnTo>
                  <a:lnTo>
                    <a:pt x="2024" y="1209"/>
                  </a:lnTo>
                  <a:lnTo>
                    <a:pt x="2023" y="1219"/>
                  </a:lnTo>
                  <a:lnTo>
                    <a:pt x="2020" y="1228"/>
                  </a:lnTo>
                  <a:lnTo>
                    <a:pt x="2019" y="1237"/>
                  </a:lnTo>
                  <a:lnTo>
                    <a:pt x="2016" y="1246"/>
                  </a:lnTo>
                  <a:lnTo>
                    <a:pt x="2005" y="1248"/>
                  </a:lnTo>
                  <a:lnTo>
                    <a:pt x="1992" y="1246"/>
                  </a:lnTo>
                  <a:lnTo>
                    <a:pt x="1980" y="1243"/>
                  </a:lnTo>
                  <a:lnTo>
                    <a:pt x="1967" y="1241"/>
                  </a:lnTo>
                  <a:lnTo>
                    <a:pt x="1955" y="1237"/>
                  </a:lnTo>
                  <a:lnTo>
                    <a:pt x="1950" y="1229"/>
                  </a:lnTo>
                  <a:lnTo>
                    <a:pt x="1941" y="1222"/>
                  </a:lnTo>
                  <a:lnTo>
                    <a:pt x="1928" y="1218"/>
                  </a:lnTo>
                  <a:lnTo>
                    <a:pt x="1918" y="1220"/>
                  </a:lnTo>
                  <a:lnTo>
                    <a:pt x="1908" y="1228"/>
                  </a:lnTo>
                  <a:lnTo>
                    <a:pt x="1900" y="1234"/>
                  </a:lnTo>
                  <a:lnTo>
                    <a:pt x="1886" y="1233"/>
                  </a:lnTo>
                  <a:lnTo>
                    <a:pt x="1873" y="1235"/>
                  </a:lnTo>
                  <a:lnTo>
                    <a:pt x="1861" y="1237"/>
                  </a:lnTo>
                  <a:lnTo>
                    <a:pt x="1851" y="1233"/>
                  </a:lnTo>
                  <a:lnTo>
                    <a:pt x="1843" y="1240"/>
                  </a:lnTo>
                  <a:lnTo>
                    <a:pt x="1834" y="1248"/>
                  </a:lnTo>
                  <a:lnTo>
                    <a:pt x="1827" y="1256"/>
                  </a:lnTo>
                  <a:lnTo>
                    <a:pt x="1822" y="1265"/>
                  </a:lnTo>
                  <a:lnTo>
                    <a:pt x="1820" y="1274"/>
                  </a:lnTo>
                  <a:lnTo>
                    <a:pt x="1815" y="1282"/>
                  </a:lnTo>
                  <a:lnTo>
                    <a:pt x="1809" y="1291"/>
                  </a:lnTo>
                  <a:lnTo>
                    <a:pt x="1809" y="1300"/>
                  </a:lnTo>
                  <a:lnTo>
                    <a:pt x="1804" y="1308"/>
                  </a:lnTo>
                  <a:lnTo>
                    <a:pt x="1798" y="1317"/>
                  </a:lnTo>
                  <a:lnTo>
                    <a:pt x="1806" y="1324"/>
                  </a:lnTo>
                  <a:lnTo>
                    <a:pt x="1818" y="1327"/>
                  </a:lnTo>
                  <a:lnTo>
                    <a:pt x="1827" y="1329"/>
                  </a:lnTo>
                  <a:lnTo>
                    <a:pt x="1838" y="1333"/>
                  </a:lnTo>
                  <a:lnTo>
                    <a:pt x="1834" y="1341"/>
                  </a:lnTo>
                  <a:lnTo>
                    <a:pt x="1827" y="1350"/>
                  </a:lnTo>
                  <a:lnTo>
                    <a:pt x="1822" y="1358"/>
                  </a:lnTo>
                  <a:lnTo>
                    <a:pt x="1813" y="1366"/>
                  </a:lnTo>
                  <a:lnTo>
                    <a:pt x="1806" y="1373"/>
                  </a:lnTo>
                  <a:lnTo>
                    <a:pt x="1808" y="1382"/>
                  </a:lnTo>
                  <a:lnTo>
                    <a:pt x="1802" y="1390"/>
                  </a:lnTo>
                  <a:lnTo>
                    <a:pt x="1792" y="1397"/>
                  </a:lnTo>
                  <a:lnTo>
                    <a:pt x="1784" y="1403"/>
                  </a:lnTo>
                  <a:lnTo>
                    <a:pt x="1781" y="1413"/>
                  </a:lnTo>
                  <a:lnTo>
                    <a:pt x="1771" y="1416"/>
                  </a:lnTo>
                  <a:lnTo>
                    <a:pt x="1759" y="1416"/>
                  </a:lnTo>
                  <a:lnTo>
                    <a:pt x="1750" y="1423"/>
                  </a:lnTo>
                  <a:lnTo>
                    <a:pt x="1752" y="1432"/>
                  </a:lnTo>
                  <a:lnTo>
                    <a:pt x="1750" y="1441"/>
                  </a:lnTo>
                  <a:lnTo>
                    <a:pt x="1746" y="1450"/>
                  </a:lnTo>
                  <a:lnTo>
                    <a:pt x="1742" y="1459"/>
                  </a:lnTo>
                  <a:lnTo>
                    <a:pt x="1736" y="1468"/>
                  </a:lnTo>
                  <a:lnTo>
                    <a:pt x="1732" y="1477"/>
                  </a:lnTo>
                  <a:lnTo>
                    <a:pt x="1728" y="1486"/>
                  </a:lnTo>
                  <a:lnTo>
                    <a:pt x="1725" y="1495"/>
                  </a:lnTo>
                  <a:lnTo>
                    <a:pt x="1724" y="1504"/>
                  </a:lnTo>
                  <a:lnTo>
                    <a:pt x="1727" y="1512"/>
                  </a:lnTo>
                  <a:lnTo>
                    <a:pt x="1731" y="1521"/>
                  </a:lnTo>
                  <a:lnTo>
                    <a:pt x="1739" y="1529"/>
                  </a:lnTo>
                  <a:lnTo>
                    <a:pt x="1746" y="1537"/>
                  </a:lnTo>
                  <a:lnTo>
                    <a:pt x="1752" y="1546"/>
                  </a:lnTo>
                  <a:lnTo>
                    <a:pt x="1753" y="1556"/>
                  </a:lnTo>
                  <a:lnTo>
                    <a:pt x="1763" y="1557"/>
                  </a:lnTo>
                  <a:lnTo>
                    <a:pt x="1777" y="1555"/>
                  </a:lnTo>
                  <a:lnTo>
                    <a:pt x="1791" y="1557"/>
                  </a:lnTo>
                  <a:lnTo>
                    <a:pt x="1801" y="1559"/>
                  </a:lnTo>
                  <a:lnTo>
                    <a:pt x="1808" y="1568"/>
                  </a:lnTo>
                  <a:lnTo>
                    <a:pt x="1815" y="1576"/>
                  </a:lnTo>
                  <a:lnTo>
                    <a:pt x="1822" y="1584"/>
                  </a:lnTo>
                  <a:lnTo>
                    <a:pt x="1830" y="1592"/>
                  </a:lnTo>
                  <a:lnTo>
                    <a:pt x="1837" y="1599"/>
                  </a:lnTo>
                  <a:lnTo>
                    <a:pt x="1843" y="1607"/>
                  </a:lnTo>
                  <a:lnTo>
                    <a:pt x="1836" y="1611"/>
                  </a:lnTo>
                  <a:lnTo>
                    <a:pt x="1834" y="1621"/>
                  </a:lnTo>
                  <a:lnTo>
                    <a:pt x="1833" y="1630"/>
                  </a:lnTo>
                  <a:lnTo>
                    <a:pt x="1826" y="1638"/>
                  </a:lnTo>
                  <a:lnTo>
                    <a:pt x="1819" y="1645"/>
                  </a:lnTo>
                  <a:lnTo>
                    <a:pt x="1812" y="1653"/>
                  </a:lnTo>
                  <a:lnTo>
                    <a:pt x="1806" y="1662"/>
                  </a:lnTo>
                  <a:lnTo>
                    <a:pt x="1802" y="1671"/>
                  </a:lnTo>
                  <a:lnTo>
                    <a:pt x="1798" y="1679"/>
                  </a:lnTo>
                  <a:lnTo>
                    <a:pt x="1790" y="1686"/>
                  </a:lnTo>
                  <a:lnTo>
                    <a:pt x="1798" y="1694"/>
                  </a:lnTo>
                  <a:lnTo>
                    <a:pt x="1805" y="1701"/>
                  </a:lnTo>
                  <a:lnTo>
                    <a:pt x="1795" y="1706"/>
                  </a:lnTo>
                  <a:lnTo>
                    <a:pt x="1781" y="1709"/>
                  </a:lnTo>
                  <a:lnTo>
                    <a:pt x="1770" y="1704"/>
                  </a:lnTo>
                  <a:lnTo>
                    <a:pt x="1757" y="1700"/>
                  </a:lnTo>
                  <a:lnTo>
                    <a:pt x="1745" y="1699"/>
                  </a:lnTo>
                  <a:lnTo>
                    <a:pt x="1732" y="1699"/>
                  </a:lnTo>
                  <a:lnTo>
                    <a:pt x="1720" y="1696"/>
                  </a:lnTo>
                  <a:lnTo>
                    <a:pt x="1706" y="1695"/>
                  </a:lnTo>
                  <a:lnTo>
                    <a:pt x="1693" y="1696"/>
                  </a:lnTo>
                  <a:lnTo>
                    <a:pt x="1681" y="1693"/>
                  </a:lnTo>
                  <a:lnTo>
                    <a:pt x="1669" y="1691"/>
                  </a:lnTo>
                  <a:lnTo>
                    <a:pt x="1655" y="1691"/>
                  </a:lnTo>
                  <a:lnTo>
                    <a:pt x="1648" y="1699"/>
                  </a:lnTo>
                  <a:lnTo>
                    <a:pt x="1648" y="1709"/>
                  </a:lnTo>
                  <a:lnTo>
                    <a:pt x="1643" y="1715"/>
                  </a:lnTo>
                  <a:lnTo>
                    <a:pt x="1627" y="1710"/>
                  </a:lnTo>
                  <a:lnTo>
                    <a:pt x="1622" y="1715"/>
                  </a:lnTo>
                  <a:lnTo>
                    <a:pt x="1618" y="1723"/>
                  </a:lnTo>
                  <a:lnTo>
                    <a:pt x="1615" y="1732"/>
                  </a:lnTo>
                  <a:lnTo>
                    <a:pt x="1613" y="1742"/>
                  </a:lnTo>
                  <a:lnTo>
                    <a:pt x="1611" y="1751"/>
                  </a:lnTo>
                  <a:lnTo>
                    <a:pt x="1609" y="1761"/>
                  </a:lnTo>
                  <a:lnTo>
                    <a:pt x="1608" y="1771"/>
                  </a:lnTo>
                  <a:lnTo>
                    <a:pt x="1608" y="1780"/>
                  </a:lnTo>
                  <a:lnTo>
                    <a:pt x="1611" y="1789"/>
                  </a:lnTo>
                  <a:lnTo>
                    <a:pt x="1612" y="1799"/>
                  </a:lnTo>
                  <a:lnTo>
                    <a:pt x="1615" y="1809"/>
                  </a:lnTo>
                  <a:lnTo>
                    <a:pt x="1615" y="1818"/>
                  </a:lnTo>
                  <a:lnTo>
                    <a:pt x="1615" y="1827"/>
                  </a:lnTo>
                  <a:lnTo>
                    <a:pt x="1609" y="1836"/>
                  </a:lnTo>
                  <a:lnTo>
                    <a:pt x="1599" y="1843"/>
                  </a:lnTo>
                  <a:lnTo>
                    <a:pt x="1590" y="1848"/>
                  </a:lnTo>
                  <a:lnTo>
                    <a:pt x="1576" y="1851"/>
                  </a:lnTo>
                  <a:lnTo>
                    <a:pt x="1567" y="1855"/>
                  </a:lnTo>
                  <a:lnTo>
                    <a:pt x="1570" y="1864"/>
                  </a:lnTo>
                  <a:lnTo>
                    <a:pt x="1569" y="1872"/>
                  </a:lnTo>
                  <a:lnTo>
                    <a:pt x="1570" y="1881"/>
                  </a:lnTo>
                  <a:lnTo>
                    <a:pt x="1563" y="1889"/>
                  </a:lnTo>
                  <a:lnTo>
                    <a:pt x="1567" y="1898"/>
                  </a:lnTo>
                  <a:lnTo>
                    <a:pt x="1573" y="1907"/>
                  </a:lnTo>
                  <a:lnTo>
                    <a:pt x="1578" y="1915"/>
                  </a:lnTo>
                  <a:lnTo>
                    <a:pt x="1571" y="1920"/>
                  </a:lnTo>
                  <a:lnTo>
                    <a:pt x="1564" y="1927"/>
                  </a:lnTo>
                  <a:lnTo>
                    <a:pt x="1555" y="1932"/>
                  </a:lnTo>
                  <a:lnTo>
                    <a:pt x="1541" y="1931"/>
                  </a:lnTo>
                  <a:lnTo>
                    <a:pt x="1528" y="1931"/>
                  </a:lnTo>
                  <a:lnTo>
                    <a:pt x="1516" y="1931"/>
                  </a:lnTo>
                  <a:lnTo>
                    <a:pt x="1511" y="1922"/>
                  </a:lnTo>
                  <a:lnTo>
                    <a:pt x="1503" y="1918"/>
                  </a:lnTo>
                  <a:lnTo>
                    <a:pt x="1492" y="1921"/>
                  </a:lnTo>
                  <a:lnTo>
                    <a:pt x="1478" y="1924"/>
                  </a:lnTo>
                  <a:lnTo>
                    <a:pt x="1465" y="1927"/>
                  </a:lnTo>
                  <a:lnTo>
                    <a:pt x="1450" y="1925"/>
                  </a:lnTo>
                  <a:lnTo>
                    <a:pt x="1446" y="1931"/>
                  </a:lnTo>
                  <a:lnTo>
                    <a:pt x="1443" y="1940"/>
                  </a:lnTo>
                  <a:lnTo>
                    <a:pt x="1441" y="1949"/>
                  </a:lnTo>
                  <a:lnTo>
                    <a:pt x="1440" y="1959"/>
                  </a:lnTo>
                  <a:lnTo>
                    <a:pt x="1439" y="1969"/>
                  </a:lnTo>
                  <a:lnTo>
                    <a:pt x="1436" y="1978"/>
                  </a:lnTo>
                  <a:lnTo>
                    <a:pt x="1433" y="1987"/>
                  </a:lnTo>
                  <a:lnTo>
                    <a:pt x="1430" y="1996"/>
                  </a:lnTo>
                  <a:lnTo>
                    <a:pt x="1427" y="2005"/>
                  </a:lnTo>
                  <a:lnTo>
                    <a:pt x="1422" y="2005"/>
                  </a:lnTo>
                  <a:lnTo>
                    <a:pt x="1409" y="2009"/>
                  </a:lnTo>
                  <a:lnTo>
                    <a:pt x="1401" y="2016"/>
                  </a:lnTo>
                  <a:lnTo>
                    <a:pt x="1391" y="2022"/>
                  </a:lnTo>
                  <a:lnTo>
                    <a:pt x="1383" y="2026"/>
                  </a:lnTo>
                  <a:lnTo>
                    <a:pt x="1374" y="2029"/>
                  </a:lnTo>
                  <a:lnTo>
                    <a:pt x="1362" y="2027"/>
                  </a:lnTo>
                  <a:lnTo>
                    <a:pt x="1358" y="2036"/>
                  </a:lnTo>
                  <a:lnTo>
                    <a:pt x="1355" y="2046"/>
                  </a:lnTo>
                  <a:lnTo>
                    <a:pt x="1348" y="2048"/>
                  </a:lnTo>
                  <a:lnTo>
                    <a:pt x="1334" y="2045"/>
                  </a:lnTo>
                  <a:lnTo>
                    <a:pt x="1320" y="2044"/>
                  </a:lnTo>
                  <a:lnTo>
                    <a:pt x="1306" y="2044"/>
                  </a:lnTo>
                  <a:lnTo>
                    <a:pt x="1295" y="2041"/>
                  </a:lnTo>
                  <a:lnTo>
                    <a:pt x="1288" y="2035"/>
                  </a:lnTo>
                  <a:lnTo>
                    <a:pt x="1282" y="2025"/>
                  </a:lnTo>
                  <a:lnTo>
                    <a:pt x="1278" y="2015"/>
                  </a:lnTo>
                  <a:lnTo>
                    <a:pt x="1274" y="2006"/>
                  </a:lnTo>
                  <a:lnTo>
                    <a:pt x="1267" y="2001"/>
                  </a:lnTo>
                  <a:lnTo>
                    <a:pt x="1254" y="2007"/>
                  </a:lnTo>
                  <a:lnTo>
                    <a:pt x="1242" y="2011"/>
                  </a:lnTo>
                  <a:lnTo>
                    <a:pt x="1229" y="2013"/>
                  </a:lnTo>
                  <a:lnTo>
                    <a:pt x="1216" y="2016"/>
                  </a:lnTo>
                  <a:lnTo>
                    <a:pt x="1204" y="2018"/>
                  </a:lnTo>
                  <a:lnTo>
                    <a:pt x="1191" y="2018"/>
                  </a:lnTo>
                  <a:lnTo>
                    <a:pt x="1179" y="2017"/>
                  </a:lnTo>
                  <a:lnTo>
                    <a:pt x="1165" y="2016"/>
                  </a:lnTo>
                  <a:lnTo>
                    <a:pt x="1152" y="2015"/>
                  </a:lnTo>
                  <a:lnTo>
                    <a:pt x="1140" y="2013"/>
                  </a:lnTo>
                  <a:lnTo>
                    <a:pt x="1127" y="2010"/>
                  </a:lnTo>
                  <a:lnTo>
                    <a:pt x="1121" y="2002"/>
                  </a:lnTo>
                  <a:lnTo>
                    <a:pt x="1119" y="1991"/>
                  </a:lnTo>
                  <a:lnTo>
                    <a:pt x="1116" y="1982"/>
                  </a:lnTo>
                  <a:lnTo>
                    <a:pt x="1109" y="1977"/>
                  </a:lnTo>
                  <a:lnTo>
                    <a:pt x="1095" y="1978"/>
                  </a:lnTo>
                  <a:lnTo>
                    <a:pt x="1079" y="1981"/>
                  </a:lnTo>
                  <a:lnTo>
                    <a:pt x="1070" y="1986"/>
                  </a:lnTo>
                  <a:lnTo>
                    <a:pt x="1067" y="1995"/>
                  </a:lnTo>
                  <a:lnTo>
                    <a:pt x="1068" y="2007"/>
                  </a:lnTo>
                  <a:lnTo>
                    <a:pt x="1065" y="2015"/>
                  </a:lnTo>
                  <a:lnTo>
                    <a:pt x="1057" y="2015"/>
                  </a:lnTo>
                  <a:lnTo>
                    <a:pt x="1044" y="2013"/>
                  </a:lnTo>
                  <a:lnTo>
                    <a:pt x="1032" y="2010"/>
                  </a:lnTo>
                  <a:lnTo>
                    <a:pt x="1018" y="2005"/>
                  </a:lnTo>
                  <a:lnTo>
                    <a:pt x="1005" y="2000"/>
                  </a:lnTo>
                  <a:lnTo>
                    <a:pt x="996" y="1994"/>
                  </a:lnTo>
                  <a:lnTo>
                    <a:pt x="987" y="1985"/>
                  </a:lnTo>
                  <a:lnTo>
                    <a:pt x="980" y="1975"/>
                  </a:lnTo>
                  <a:lnTo>
                    <a:pt x="973" y="1968"/>
                  </a:lnTo>
                  <a:lnTo>
                    <a:pt x="963" y="1964"/>
                  </a:lnTo>
                  <a:lnTo>
                    <a:pt x="952" y="1964"/>
                  </a:lnTo>
                  <a:lnTo>
                    <a:pt x="940" y="1965"/>
                  </a:lnTo>
                  <a:lnTo>
                    <a:pt x="928" y="1967"/>
                  </a:lnTo>
                  <a:lnTo>
                    <a:pt x="916" y="1969"/>
                  </a:lnTo>
                  <a:lnTo>
                    <a:pt x="902" y="1972"/>
                  </a:lnTo>
                  <a:lnTo>
                    <a:pt x="889" y="1975"/>
                  </a:lnTo>
                  <a:lnTo>
                    <a:pt x="877" y="1979"/>
                  </a:lnTo>
                  <a:lnTo>
                    <a:pt x="863" y="1982"/>
                  </a:lnTo>
                  <a:lnTo>
                    <a:pt x="850" y="1985"/>
                  </a:lnTo>
                  <a:lnTo>
                    <a:pt x="838" y="1988"/>
                  </a:lnTo>
                  <a:lnTo>
                    <a:pt x="825" y="1990"/>
                  </a:lnTo>
                  <a:lnTo>
                    <a:pt x="812" y="1993"/>
                  </a:lnTo>
                  <a:lnTo>
                    <a:pt x="800" y="1996"/>
                  </a:lnTo>
                  <a:lnTo>
                    <a:pt x="787" y="1996"/>
                  </a:lnTo>
                  <a:lnTo>
                    <a:pt x="773" y="1991"/>
                  </a:lnTo>
                  <a:lnTo>
                    <a:pt x="769" y="1992"/>
                  </a:lnTo>
                  <a:lnTo>
                    <a:pt x="754" y="1986"/>
                  </a:lnTo>
                  <a:lnTo>
                    <a:pt x="743" y="1982"/>
                  </a:lnTo>
                  <a:lnTo>
                    <a:pt x="733" y="1976"/>
                  </a:lnTo>
                  <a:lnTo>
                    <a:pt x="722" y="1970"/>
                  </a:lnTo>
                  <a:lnTo>
                    <a:pt x="716" y="1963"/>
                  </a:lnTo>
                  <a:lnTo>
                    <a:pt x="717" y="1954"/>
                  </a:lnTo>
                  <a:lnTo>
                    <a:pt x="719" y="1945"/>
                  </a:lnTo>
                  <a:lnTo>
                    <a:pt x="722" y="1935"/>
                  </a:lnTo>
                  <a:lnTo>
                    <a:pt x="724" y="1926"/>
                  </a:lnTo>
                  <a:lnTo>
                    <a:pt x="727" y="1917"/>
                  </a:lnTo>
                  <a:lnTo>
                    <a:pt x="730" y="1908"/>
                  </a:lnTo>
                  <a:lnTo>
                    <a:pt x="733" y="1898"/>
                  </a:lnTo>
                  <a:lnTo>
                    <a:pt x="734" y="1889"/>
                  </a:lnTo>
                  <a:lnTo>
                    <a:pt x="737" y="1880"/>
                  </a:lnTo>
                  <a:lnTo>
                    <a:pt x="738" y="1871"/>
                  </a:lnTo>
                  <a:lnTo>
                    <a:pt x="740" y="1861"/>
                  </a:lnTo>
                  <a:lnTo>
                    <a:pt x="740" y="1852"/>
                  </a:lnTo>
                  <a:lnTo>
                    <a:pt x="737" y="1844"/>
                  </a:lnTo>
                  <a:lnTo>
                    <a:pt x="730" y="1835"/>
                  </a:lnTo>
                  <a:lnTo>
                    <a:pt x="724" y="1827"/>
                  </a:lnTo>
                  <a:lnTo>
                    <a:pt x="719" y="1818"/>
                  </a:lnTo>
                  <a:lnTo>
                    <a:pt x="715" y="1809"/>
                  </a:lnTo>
                  <a:lnTo>
                    <a:pt x="708" y="1800"/>
                  </a:lnTo>
                  <a:lnTo>
                    <a:pt x="701" y="1793"/>
                  </a:lnTo>
                  <a:lnTo>
                    <a:pt x="695" y="1784"/>
                  </a:lnTo>
                  <a:lnTo>
                    <a:pt x="692" y="1775"/>
                  </a:lnTo>
                  <a:lnTo>
                    <a:pt x="688" y="1767"/>
                  </a:lnTo>
                  <a:lnTo>
                    <a:pt x="674" y="1767"/>
                  </a:lnTo>
                  <a:lnTo>
                    <a:pt x="660" y="1766"/>
                  </a:lnTo>
                  <a:lnTo>
                    <a:pt x="646" y="1766"/>
                  </a:lnTo>
                  <a:lnTo>
                    <a:pt x="631" y="1766"/>
                  </a:lnTo>
                  <a:lnTo>
                    <a:pt x="618" y="1767"/>
                  </a:lnTo>
                  <a:lnTo>
                    <a:pt x="606" y="1769"/>
                  </a:lnTo>
                  <a:lnTo>
                    <a:pt x="597" y="1773"/>
                  </a:lnTo>
                  <a:lnTo>
                    <a:pt x="590" y="1780"/>
                  </a:lnTo>
                  <a:lnTo>
                    <a:pt x="587" y="1790"/>
                  </a:lnTo>
                  <a:lnTo>
                    <a:pt x="587" y="1801"/>
                  </a:lnTo>
                  <a:lnTo>
                    <a:pt x="587" y="1813"/>
                  </a:lnTo>
                  <a:lnTo>
                    <a:pt x="586" y="1824"/>
                  </a:lnTo>
                  <a:lnTo>
                    <a:pt x="583" y="1832"/>
                  </a:lnTo>
                  <a:lnTo>
                    <a:pt x="576" y="1838"/>
                  </a:lnTo>
                  <a:lnTo>
                    <a:pt x="566" y="1840"/>
                  </a:lnTo>
                  <a:lnTo>
                    <a:pt x="555" y="1841"/>
                  </a:lnTo>
                  <a:lnTo>
                    <a:pt x="543" y="1841"/>
                  </a:lnTo>
                  <a:lnTo>
                    <a:pt x="529" y="1839"/>
                  </a:lnTo>
                  <a:lnTo>
                    <a:pt x="515" y="1837"/>
                  </a:lnTo>
                  <a:lnTo>
                    <a:pt x="499" y="1835"/>
                  </a:lnTo>
                  <a:lnTo>
                    <a:pt x="485" y="1834"/>
                  </a:lnTo>
                  <a:lnTo>
                    <a:pt x="471" y="1832"/>
                  </a:lnTo>
                  <a:lnTo>
                    <a:pt x="460" y="1833"/>
                  </a:lnTo>
                  <a:lnTo>
                    <a:pt x="456" y="1840"/>
                  </a:lnTo>
                  <a:lnTo>
                    <a:pt x="443" y="1837"/>
                  </a:lnTo>
                  <a:lnTo>
                    <a:pt x="431" y="1832"/>
                  </a:lnTo>
                  <a:lnTo>
                    <a:pt x="420" y="1828"/>
                  </a:lnTo>
                  <a:lnTo>
                    <a:pt x="407" y="1823"/>
                  </a:lnTo>
                  <a:lnTo>
                    <a:pt x="394" y="1818"/>
                  </a:lnTo>
                  <a:lnTo>
                    <a:pt x="385" y="1815"/>
                  </a:lnTo>
                  <a:lnTo>
                    <a:pt x="379" y="1822"/>
                  </a:lnTo>
                  <a:lnTo>
                    <a:pt x="372" y="1827"/>
                  </a:lnTo>
                  <a:lnTo>
                    <a:pt x="361" y="1822"/>
                  </a:lnTo>
                  <a:lnTo>
                    <a:pt x="350" y="1817"/>
                  </a:lnTo>
                  <a:lnTo>
                    <a:pt x="357" y="1812"/>
                  </a:lnTo>
                  <a:lnTo>
                    <a:pt x="359" y="1805"/>
                  </a:lnTo>
                  <a:lnTo>
                    <a:pt x="366" y="1797"/>
                  </a:lnTo>
                  <a:lnTo>
                    <a:pt x="358" y="1789"/>
                  </a:lnTo>
                  <a:lnTo>
                    <a:pt x="348" y="1782"/>
                  </a:lnTo>
                  <a:lnTo>
                    <a:pt x="340" y="1780"/>
                  </a:lnTo>
                  <a:lnTo>
                    <a:pt x="332" y="1779"/>
                  </a:lnTo>
                  <a:lnTo>
                    <a:pt x="323" y="1772"/>
                  </a:lnTo>
                  <a:lnTo>
                    <a:pt x="312" y="1765"/>
                  </a:lnTo>
                  <a:lnTo>
                    <a:pt x="304" y="1759"/>
                  </a:lnTo>
                  <a:lnTo>
                    <a:pt x="305" y="1750"/>
                  </a:lnTo>
                  <a:lnTo>
                    <a:pt x="313" y="1741"/>
                  </a:lnTo>
                  <a:lnTo>
                    <a:pt x="320" y="1738"/>
                  </a:lnTo>
                  <a:lnTo>
                    <a:pt x="327" y="1730"/>
                  </a:lnTo>
                  <a:lnTo>
                    <a:pt x="340" y="1725"/>
                  </a:lnTo>
                  <a:lnTo>
                    <a:pt x="344" y="1720"/>
                  </a:lnTo>
                  <a:lnTo>
                    <a:pt x="357" y="1718"/>
                  </a:lnTo>
                  <a:lnTo>
                    <a:pt x="371" y="1720"/>
                  </a:lnTo>
                  <a:lnTo>
                    <a:pt x="372" y="1712"/>
                  </a:lnTo>
                  <a:lnTo>
                    <a:pt x="372" y="1703"/>
                  </a:lnTo>
                  <a:lnTo>
                    <a:pt x="371" y="1693"/>
                  </a:lnTo>
                  <a:lnTo>
                    <a:pt x="371" y="1683"/>
                  </a:lnTo>
                  <a:lnTo>
                    <a:pt x="371" y="1674"/>
                  </a:lnTo>
                  <a:lnTo>
                    <a:pt x="369" y="1664"/>
                  </a:lnTo>
                  <a:lnTo>
                    <a:pt x="369" y="1655"/>
                  </a:lnTo>
                  <a:lnTo>
                    <a:pt x="371" y="1646"/>
                  </a:lnTo>
                  <a:lnTo>
                    <a:pt x="371" y="1637"/>
                  </a:lnTo>
                  <a:lnTo>
                    <a:pt x="372" y="1629"/>
                  </a:lnTo>
                  <a:lnTo>
                    <a:pt x="399" y="1627"/>
                  </a:lnTo>
                  <a:lnTo>
                    <a:pt x="411" y="1626"/>
                  </a:lnTo>
                  <a:lnTo>
                    <a:pt x="414" y="1619"/>
                  </a:lnTo>
                  <a:lnTo>
                    <a:pt x="417" y="1612"/>
                  </a:lnTo>
                  <a:lnTo>
                    <a:pt x="413" y="1603"/>
                  </a:lnTo>
                  <a:lnTo>
                    <a:pt x="410" y="1594"/>
                  </a:lnTo>
                  <a:lnTo>
                    <a:pt x="401" y="1591"/>
                  </a:lnTo>
                  <a:lnTo>
                    <a:pt x="394" y="1582"/>
                  </a:lnTo>
                  <a:lnTo>
                    <a:pt x="406" y="1578"/>
                  </a:lnTo>
                  <a:lnTo>
                    <a:pt x="408" y="1570"/>
                  </a:lnTo>
                  <a:lnTo>
                    <a:pt x="404" y="1561"/>
                  </a:lnTo>
                  <a:lnTo>
                    <a:pt x="404" y="1546"/>
                  </a:lnTo>
                  <a:lnTo>
                    <a:pt x="404" y="1537"/>
                  </a:lnTo>
                  <a:lnTo>
                    <a:pt x="404" y="1528"/>
                  </a:lnTo>
                  <a:lnTo>
                    <a:pt x="410" y="1520"/>
                  </a:lnTo>
                  <a:lnTo>
                    <a:pt x="411" y="1511"/>
                  </a:lnTo>
                  <a:lnTo>
                    <a:pt x="415" y="1502"/>
                  </a:lnTo>
                  <a:lnTo>
                    <a:pt x="422" y="1496"/>
                  </a:lnTo>
                  <a:lnTo>
                    <a:pt x="427" y="1487"/>
                  </a:lnTo>
                  <a:lnTo>
                    <a:pt x="428" y="1478"/>
                  </a:lnTo>
                  <a:lnTo>
                    <a:pt x="428" y="1470"/>
                  </a:lnTo>
                  <a:lnTo>
                    <a:pt x="422" y="1461"/>
                  </a:lnTo>
                  <a:lnTo>
                    <a:pt x="428" y="1455"/>
                  </a:lnTo>
                  <a:lnTo>
                    <a:pt x="438" y="1450"/>
                  </a:lnTo>
                  <a:lnTo>
                    <a:pt x="425" y="1451"/>
                  </a:lnTo>
                  <a:lnTo>
                    <a:pt x="413" y="1449"/>
                  </a:lnTo>
                  <a:lnTo>
                    <a:pt x="404" y="1442"/>
                  </a:lnTo>
                  <a:lnTo>
                    <a:pt x="396" y="1435"/>
                  </a:lnTo>
                  <a:lnTo>
                    <a:pt x="389" y="1427"/>
                  </a:lnTo>
                  <a:lnTo>
                    <a:pt x="380" y="1420"/>
                  </a:lnTo>
                  <a:lnTo>
                    <a:pt x="372" y="1413"/>
                  </a:lnTo>
                  <a:lnTo>
                    <a:pt x="364" y="1405"/>
                  </a:lnTo>
                  <a:lnTo>
                    <a:pt x="358" y="1396"/>
                  </a:lnTo>
                  <a:lnTo>
                    <a:pt x="358" y="1387"/>
                  </a:lnTo>
                  <a:lnTo>
                    <a:pt x="357" y="1378"/>
                  </a:lnTo>
                  <a:lnTo>
                    <a:pt x="357" y="1368"/>
                  </a:lnTo>
                  <a:lnTo>
                    <a:pt x="355" y="1359"/>
                  </a:lnTo>
                  <a:lnTo>
                    <a:pt x="354" y="1350"/>
                  </a:lnTo>
                  <a:lnTo>
                    <a:pt x="352" y="1339"/>
                  </a:lnTo>
                  <a:lnTo>
                    <a:pt x="351" y="1330"/>
                  </a:lnTo>
                  <a:lnTo>
                    <a:pt x="351" y="1321"/>
                  </a:lnTo>
                  <a:lnTo>
                    <a:pt x="350" y="1312"/>
                  </a:lnTo>
                  <a:lnTo>
                    <a:pt x="350" y="1302"/>
                  </a:lnTo>
                  <a:lnTo>
                    <a:pt x="351" y="1292"/>
                  </a:lnTo>
                  <a:lnTo>
                    <a:pt x="351" y="1282"/>
                  </a:lnTo>
                  <a:lnTo>
                    <a:pt x="352" y="1273"/>
                  </a:lnTo>
                  <a:lnTo>
                    <a:pt x="351" y="1264"/>
                  </a:lnTo>
                  <a:lnTo>
                    <a:pt x="348" y="1257"/>
                  </a:lnTo>
                  <a:lnTo>
                    <a:pt x="333" y="1257"/>
                  </a:lnTo>
                  <a:lnTo>
                    <a:pt x="333" y="1249"/>
                  </a:lnTo>
                  <a:lnTo>
                    <a:pt x="334" y="1240"/>
                  </a:lnTo>
                  <a:lnTo>
                    <a:pt x="336" y="1231"/>
                  </a:lnTo>
                  <a:lnTo>
                    <a:pt x="339" y="1222"/>
                  </a:lnTo>
                  <a:lnTo>
                    <a:pt x="340" y="1212"/>
                  </a:lnTo>
                  <a:lnTo>
                    <a:pt x="343" y="1202"/>
                  </a:lnTo>
                  <a:lnTo>
                    <a:pt x="344" y="1193"/>
                  </a:lnTo>
                  <a:lnTo>
                    <a:pt x="344" y="1183"/>
                  </a:lnTo>
                  <a:lnTo>
                    <a:pt x="341" y="1173"/>
                  </a:lnTo>
                  <a:lnTo>
                    <a:pt x="340" y="1164"/>
                  </a:lnTo>
                  <a:lnTo>
                    <a:pt x="344" y="1158"/>
                  </a:lnTo>
                  <a:lnTo>
                    <a:pt x="358" y="1157"/>
                  </a:lnTo>
                  <a:lnTo>
                    <a:pt x="372" y="1158"/>
                  </a:lnTo>
                  <a:lnTo>
                    <a:pt x="364" y="1131"/>
                  </a:lnTo>
                  <a:lnTo>
                    <a:pt x="359" y="1122"/>
                  </a:lnTo>
                  <a:lnTo>
                    <a:pt x="359" y="1113"/>
                  </a:lnTo>
                  <a:lnTo>
                    <a:pt x="359" y="1103"/>
                  </a:lnTo>
                  <a:lnTo>
                    <a:pt x="358" y="1094"/>
                  </a:lnTo>
                  <a:lnTo>
                    <a:pt x="357" y="1085"/>
                  </a:lnTo>
                  <a:lnTo>
                    <a:pt x="351" y="1076"/>
                  </a:lnTo>
                  <a:lnTo>
                    <a:pt x="354" y="1067"/>
                  </a:lnTo>
                  <a:lnTo>
                    <a:pt x="357" y="1058"/>
                  </a:lnTo>
                  <a:lnTo>
                    <a:pt x="359" y="1049"/>
                  </a:lnTo>
                  <a:lnTo>
                    <a:pt x="362" y="1040"/>
                  </a:lnTo>
                  <a:lnTo>
                    <a:pt x="366" y="1031"/>
                  </a:lnTo>
                  <a:lnTo>
                    <a:pt x="369" y="1022"/>
                  </a:lnTo>
                  <a:lnTo>
                    <a:pt x="372" y="988"/>
                  </a:lnTo>
                  <a:lnTo>
                    <a:pt x="355" y="979"/>
                  </a:lnTo>
                  <a:lnTo>
                    <a:pt x="344" y="974"/>
                  </a:lnTo>
                  <a:lnTo>
                    <a:pt x="334" y="968"/>
                  </a:lnTo>
                  <a:lnTo>
                    <a:pt x="323" y="963"/>
                  </a:lnTo>
                  <a:lnTo>
                    <a:pt x="266" y="965"/>
                  </a:lnTo>
                  <a:lnTo>
                    <a:pt x="253" y="965"/>
                  </a:lnTo>
                  <a:lnTo>
                    <a:pt x="239" y="966"/>
                  </a:lnTo>
                  <a:lnTo>
                    <a:pt x="227" y="967"/>
                  </a:lnTo>
                  <a:lnTo>
                    <a:pt x="214" y="967"/>
                  </a:lnTo>
                  <a:lnTo>
                    <a:pt x="202" y="968"/>
                  </a:lnTo>
                  <a:lnTo>
                    <a:pt x="190" y="963"/>
                  </a:lnTo>
                  <a:lnTo>
                    <a:pt x="185" y="953"/>
                  </a:lnTo>
                  <a:lnTo>
                    <a:pt x="179" y="944"/>
                  </a:lnTo>
                  <a:lnTo>
                    <a:pt x="174" y="936"/>
                  </a:lnTo>
                  <a:lnTo>
                    <a:pt x="165" y="929"/>
                  </a:lnTo>
                  <a:lnTo>
                    <a:pt x="155" y="923"/>
                  </a:lnTo>
                  <a:lnTo>
                    <a:pt x="144" y="919"/>
                  </a:lnTo>
                  <a:lnTo>
                    <a:pt x="133" y="914"/>
                  </a:lnTo>
                  <a:lnTo>
                    <a:pt x="123" y="908"/>
                  </a:lnTo>
                  <a:lnTo>
                    <a:pt x="115" y="900"/>
                  </a:lnTo>
                  <a:lnTo>
                    <a:pt x="105" y="893"/>
                  </a:lnTo>
                  <a:lnTo>
                    <a:pt x="95" y="887"/>
                  </a:lnTo>
                  <a:lnTo>
                    <a:pt x="85" y="891"/>
                  </a:lnTo>
                  <a:lnTo>
                    <a:pt x="76" y="898"/>
                  </a:lnTo>
                  <a:lnTo>
                    <a:pt x="63" y="901"/>
                  </a:lnTo>
                  <a:lnTo>
                    <a:pt x="51" y="903"/>
                  </a:lnTo>
                  <a:lnTo>
                    <a:pt x="39" y="907"/>
                  </a:lnTo>
                  <a:lnTo>
                    <a:pt x="35" y="896"/>
                  </a:lnTo>
                  <a:lnTo>
                    <a:pt x="31" y="887"/>
                  </a:lnTo>
                  <a:lnTo>
                    <a:pt x="27" y="877"/>
                  </a:lnTo>
                  <a:lnTo>
                    <a:pt x="24" y="868"/>
                  </a:lnTo>
                  <a:lnTo>
                    <a:pt x="24" y="859"/>
                  </a:lnTo>
                  <a:lnTo>
                    <a:pt x="23" y="849"/>
                  </a:lnTo>
                  <a:lnTo>
                    <a:pt x="20" y="840"/>
                  </a:lnTo>
                  <a:lnTo>
                    <a:pt x="16" y="831"/>
                  </a:lnTo>
                  <a:lnTo>
                    <a:pt x="13" y="822"/>
                  </a:lnTo>
                  <a:lnTo>
                    <a:pt x="10" y="813"/>
                  </a:lnTo>
                  <a:lnTo>
                    <a:pt x="4" y="805"/>
                  </a:lnTo>
                  <a:lnTo>
                    <a:pt x="0" y="796"/>
                  </a:lnTo>
                  <a:lnTo>
                    <a:pt x="2" y="788"/>
                  </a:lnTo>
                  <a:lnTo>
                    <a:pt x="13" y="782"/>
                  </a:lnTo>
                  <a:lnTo>
                    <a:pt x="23" y="775"/>
                  </a:lnTo>
                  <a:lnTo>
                    <a:pt x="32" y="769"/>
                  </a:lnTo>
                  <a:lnTo>
                    <a:pt x="42" y="763"/>
                  </a:lnTo>
                  <a:lnTo>
                    <a:pt x="52" y="756"/>
                  </a:lnTo>
                  <a:lnTo>
                    <a:pt x="58" y="748"/>
                  </a:lnTo>
                  <a:lnTo>
                    <a:pt x="63" y="740"/>
                  </a:lnTo>
                  <a:lnTo>
                    <a:pt x="69" y="731"/>
                  </a:lnTo>
                  <a:lnTo>
                    <a:pt x="74" y="723"/>
                  </a:lnTo>
                  <a:lnTo>
                    <a:pt x="83" y="715"/>
                  </a:lnTo>
                  <a:lnTo>
                    <a:pt x="94" y="709"/>
                  </a:lnTo>
                  <a:lnTo>
                    <a:pt x="104" y="706"/>
                  </a:lnTo>
                  <a:lnTo>
                    <a:pt x="116" y="711"/>
                  </a:lnTo>
                  <a:lnTo>
                    <a:pt x="126" y="717"/>
                  </a:lnTo>
                  <a:lnTo>
                    <a:pt x="132" y="710"/>
                  </a:lnTo>
                  <a:lnTo>
                    <a:pt x="141" y="715"/>
                  </a:lnTo>
                  <a:lnTo>
                    <a:pt x="154" y="718"/>
                  </a:lnTo>
                  <a:lnTo>
                    <a:pt x="168" y="720"/>
                  </a:lnTo>
                  <a:lnTo>
                    <a:pt x="181" y="720"/>
                  </a:lnTo>
                  <a:lnTo>
                    <a:pt x="192" y="718"/>
                  </a:lnTo>
                  <a:lnTo>
                    <a:pt x="204" y="714"/>
                  </a:lnTo>
                  <a:lnTo>
                    <a:pt x="217" y="711"/>
                  </a:lnTo>
                  <a:lnTo>
                    <a:pt x="229" y="707"/>
                  </a:lnTo>
                  <a:lnTo>
                    <a:pt x="241" y="704"/>
                  </a:lnTo>
                  <a:lnTo>
                    <a:pt x="253" y="700"/>
                  </a:lnTo>
                  <a:lnTo>
                    <a:pt x="264" y="695"/>
                  </a:lnTo>
                  <a:lnTo>
                    <a:pt x="270" y="687"/>
                  </a:lnTo>
                  <a:lnTo>
                    <a:pt x="271" y="678"/>
                  </a:lnTo>
                  <a:lnTo>
                    <a:pt x="274" y="669"/>
                  </a:lnTo>
                  <a:lnTo>
                    <a:pt x="287" y="665"/>
                  </a:lnTo>
                  <a:lnTo>
                    <a:pt x="298" y="669"/>
                  </a:lnTo>
                  <a:lnTo>
                    <a:pt x="311" y="671"/>
                  </a:lnTo>
                  <a:lnTo>
                    <a:pt x="323" y="673"/>
                  </a:lnTo>
                  <a:lnTo>
                    <a:pt x="337" y="673"/>
                  </a:lnTo>
                  <a:lnTo>
                    <a:pt x="350" y="673"/>
                  </a:lnTo>
                  <a:lnTo>
                    <a:pt x="362" y="670"/>
                  </a:lnTo>
                  <a:lnTo>
                    <a:pt x="372" y="664"/>
                  </a:lnTo>
                  <a:lnTo>
                    <a:pt x="393" y="664"/>
                  </a:lnTo>
                  <a:lnTo>
                    <a:pt x="399" y="669"/>
                  </a:lnTo>
                  <a:lnTo>
                    <a:pt x="408" y="675"/>
                  </a:lnTo>
                  <a:lnTo>
                    <a:pt x="420" y="680"/>
                  </a:lnTo>
                  <a:lnTo>
                    <a:pt x="431" y="686"/>
                  </a:lnTo>
                  <a:lnTo>
                    <a:pt x="442" y="691"/>
                  </a:lnTo>
                  <a:lnTo>
                    <a:pt x="452" y="698"/>
                  </a:lnTo>
                  <a:lnTo>
                    <a:pt x="463" y="698"/>
                  </a:lnTo>
                  <a:lnTo>
                    <a:pt x="473" y="694"/>
                  </a:lnTo>
                  <a:lnTo>
                    <a:pt x="484" y="687"/>
                  </a:lnTo>
                  <a:lnTo>
                    <a:pt x="494" y="681"/>
                  </a:lnTo>
                  <a:lnTo>
                    <a:pt x="505" y="675"/>
                  </a:lnTo>
                  <a:lnTo>
                    <a:pt x="516" y="671"/>
                  </a:lnTo>
                  <a:lnTo>
                    <a:pt x="529" y="668"/>
                  </a:lnTo>
                  <a:lnTo>
                    <a:pt x="540" y="671"/>
                  </a:lnTo>
                  <a:lnTo>
                    <a:pt x="552" y="674"/>
                  </a:lnTo>
                  <a:lnTo>
                    <a:pt x="565" y="674"/>
                  </a:lnTo>
                  <a:lnTo>
                    <a:pt x="572" y="667"/>
                  </a:lnTo>
                  <a:lnTo>
                    <a:pt x="579" y="658"/>
                  </a:lnTo>
                  <a:lnTo>
                    <a:pt x="589" y="654"/>
                  </a:lnTo>
                  <a:lnTo>
                    <a:pt x="599" y="648"/>
                  </a:lnTo>
                  <a:lnTo>
                    <a:pt x="604" y="640"/>
                  </a:lnTo>
                  <a:lnTo>
                    <a:pt x="615" y="634"/>
                  </a:lnTo>
                  <a:lnTo>
                    <a:pt x="619" y="626"/>
                  </a:lnTo>
                  <a:lnTo>
                    <a:pt x="626" y="618"/>
                  </a:lnTo>
                  <a:lnTo>
                    <a:pt x="631" y="610"/>
                  </a:lnTo>
                  <a:lnTo>
                    <a:pt x="632" y="601"/>
                  </a:lnTo>
                  <a:lnTo>
                    <a:pt x="632" y="591"/>
                  </a:lnTo>
                  <a:lnTo>
                    <a:pt x="629" y="582"/>
                  </a:lnTo>
                  <a:lnTo>
                    <a:pt x="617" y="580"/>
                  </a:lnTo>
                  <a:lnTo>
                    <a:pt x="604" y="581"/>
                  </a:lnTo>
                  <a:lnTo>
                    <a:pt x="592" y="579"/>
                  </a:lnTo>
                  <a:lnTo>
                    <a:pt x="587" y="573"/>
                  </a:lnTo>
                  <a:lnTo>
                    <a:pt x="599" y="570"/>
                  </a:lnTo>
                  <a:lnTo>
                    <a:pt x="611" y="575"/>
                  </a:lnTo>
                  <a:lnTo>
                    <a:pt x="624" y="577"/>
                  </a:lnTo>
                  <a:lnTo>
                    <a:pt x="628" y="570"/>
                  </a:lnTo>
                  <a:lnTo>
                    <a:pt x="625" y="560"/>
                  </a:lnTo>
                  <a:lnTo>
                    <a:pt x="618" y="553"/>
                  </a:lnTo>
                  <a:lnTo>
                    <a:pt x="607" y="548"/>
                  </a:lnTo>
                  <a:lnTo>
                    <a:pt x="608" y="542"/>
                  </a:lnTo>
                  <a:lnTo>
                    <a:pt x="611" y="541"/>
                  </a:lnTo>
                  <a:lnTo>
                    <a:pt x="597" y="537"/>
                  </a:lnTo>
                  <a:lnTo>
                    <a:pt x="589" y="531"/>
                  </a:lnTo>
                  <a:lnTo>
                    <a:pt x="593" y="521"/>
                  </a:lnTo>
                  <a:lnTo>
                    <a:pt x="596" y="513"/>
                  </a:lnTo>
                  <a:lnTo>
                    <a:pt x="596" y="503"/>
                  </a:lnTo>
                  <a:lnTo>
                    <a:pt x="599" y="494"/>
                  </a:lnTo>
                  <a:lnTo>
                    <a:pt x="601" y="487"/>
                  </a:lnTo>
                  <a:lnTo>
                    <a:pt x="603" y="478"/>
                  </a:lnTo>
                  <a:lnTo>
                    <a:pt x="594" y="470"/>
                  </a:lnTo>
                  <a:lnTo>
                    <a:pt x="585" y="465"/>
                  </a:lnTo>
                  <a:lnTo>
                    <a:pt x="575" y="463"/>
                  </a:lnTo>
                  <a:lnTo>
                    <a:pt x="576" y="455"/>
                  </a:lnTo>
                  <a:lnTo>
                    <a:pt x="579" y="445"/>
                  </a:lnTo>
                  <a:lnTo>
                    <a:pt x="582" y="435"/>
                  </a:lnTo>
                  <a:lnTo>
                    <a:pt x="585" y="425"/>
                  </a:lnTo>
                  <a:lnTo>
                    <a:pt x="587" y="416"/>
                  </a:lnTo>
                  <a:lnTo>
                    <a:pt x="604" y="416"/>
                  </a:lnTo>
                  <a:lnTo>
                    <a:pt x="613" y="423"/>
                  </a:lnTo>
                  <a:lnTo>
                    <a:pt x="621" y="417"/>
                  </a:lnTo>
                  <a:lnTo>
                    <a:pt x="622" y="407"/>
                  </a:lnTo>
                  <a:lnTo>
                    <a:pt x="625" y="398"/>
                  </a:lnTo>
                  <a:lnTo>
                    <a:pt x="635" y="393"/>
                  </a:lnTo>
                  <a:lnTo>
                    <a:pt x="647" y="388"/>
                  </a:lnTo>
                  <a:lnTo>
                    <a:pt x="657" y="383"/>
                  </a:lnTo>
                  <a:lnTo>
                    <a:pt x="670" y="378"/>
                  </a:lnTo>
                  <a:lnTo>
                    <a:pt x="682" y="376"/>
                  </a:lnTo>
                  <a:lnTo>
                    <a:pt x="688" y="383"/>
                  </a:lnTo>
                  <a:lnTo>
                    <a:pt x="689" y="393"/>
                  </a:lnTo>
                  <a:lnTo>
                    <a:pt x="689" y="402"/>
                  </a:lnTo>
                  <a:lnTo>
                    <a:pt x="689" y="411"/>
                  </a:lnTo>
                  <a:lnTo>
                    <a:pt x="701" y="413"/>
                  </a:lnTo>
                  <a:lnTo>
                    <a:pt x="713" y="412"/>
                  </a:lnTo>
                  <a:lnTo>
                    <a:pt x="727" y="412"/>
                  </a:lnTo>
                  <a:lnTo>
                    <a:pt x="740" y="411"/>
                  </a:lnTo>
                  <a:lnTo>
                    <a:pt x="752" y="411"/>
                  </a:lnTo>
                  <a:lnTo>
                    <a:pt x="766" y="410"/>
                  </a:lnTo>
                  <a:lnTo>
                    <a:pt x="779" y="410"/>
                  </a:lnTo>
                  <a:lnTo>
                    <a:pt x="790" y="407"/>
                  </a:lnTo>
                  <a:lnTo>
                    <a:pt x="780" y="399"/>
                  </a:lnTo>
                  <a:lnTo>
                    <a:pt x="775" y="392"/>
                  </a:lnTo>
                  <a:lnTo>
                    <a:pt x="787" y="390"/>
                  </a:lnTo>
                  <a:lnTo>
                    <a:pt x="796" y="385"/>
                  </a:lnTo>
                  <a:lnTo>
                    <a:pt x="808" y="381"/>
                  </a:lnTo>
                  <a:lnTo>
                    <a:pt x="819" y="377"/>
                  </a:lnTo>
                  <a:lnTo>
                    <a:pt x="829" y="371"/>
                  </a:lnTo>
                  <a:lnTo>
                    <a:pt x="839" y="364"/>
                  </a:lnTo>
                  <a:lnTo>
                    <a:pt x="849" y="360"/>
                  </a:lnTo>
                  <a:lnTo>
                    <a:pt x="849" y="351"/>
                  </a:lnTo>
                  <a:lnTo>
                    <a:pt x="856" y="342"/>
                  </a:lnTo>
                  <a:lnTo>
                    <a:pt x="866" y="346"/>
                  </a:lnTo>
                  <a:lnTo>
                    <a:pt x="878" y="349"/>
                  </a:lnTo>
                  <a:lnTo>
                    <a:pt x="880" y="356"/>
                  </a:lnTo>
                  <a:lnTo>
                    <a:pt x="891" y="351"/>
                  </a:lnTo>
                  <a:lnTo>
                    <a:pt x="886" y="342"/>
                  </a:lnTo>
                  <a:lnTo>
                    <a:pt x="875" y="337"/>
                  </a:lnTo>
                  <a:lnTo>
                    <a:pt x="864" y="332"/>
                  </a:lnTo>
                  <a:lnTo>
                    <a:pt x="853" y="327"/>
                  </a:lnTo>
                  <a:lnTo>
                    <a:pt x="852" y="319"/>
                  </a:lnTo>
                  <a:lnTo>
                    <a:pt x="857" y="310"/>
                  </a:lnTo>
                  <a:lnTo>
                    <a:pt x="861" y="302"/>
                  </a:lnTo>
                  <a:lnTo>
                    <a:pt x="867" y="293"/>
                  </a:lnTo>
                  <a:lnTo>
                    <a:pt x="860" y="290"/>
                  </a:lnTo>
                  <a:lnTo>
                    <a:pt x="857" y="285"/>
                  </a:lnTo>
                  <a:lnTo>
                    <a:pt x="860" y="276"/>
                  </a:lnTo>
                  <a:lnTo>
                    <a:pt x="857" y="267"/>
                  </a:lnTo>
                  <a:lnTo>
                    <a:pt x="849" y="260"/>
                  </a:lnTo>
                  <a:lnTo>
                    <a:pt x="850" y="252"/>
                  </a:lnTo>
                  <a:lnTo>
                    <a:pt x="852" y="243"/>
                  </a:lnTo>
                  <a:lnTo>
                    <a:pt x="864" y="239"/>
                  </a:lnTo>
                  <a:lnTo>
                    <a:pt x="877" y="238"/>
                  </a:lnTo>
                  <a:lnTo>
                    <a:pt x="889" y="236"/>
                  </a:lnTo>
                  <a:lnTo>
                    <a:pt x="895" y="231"/>
                  </a:lnTo>
                  <a:lnTo>
                    <a:pt x="886" y="224"/>
                  </a:lnTo>
                  <a:lnTo>
                    <a:pt x="882" y="215"/>
                  </a:lnTo>
                  <a:lnTo>
                    <a:pt x="878" y="207"/>
                  </a:lnTo>
                  <a:lnTo>
                    <a:pt x="871" y="199"/>
                  </a:lnTo>
                  <a:lnTo>
                    <a:pt x="867" y="190"/>
                  </a:lnTo>
                  <a:lnTo>
                    <a:pt x="860" y="182"/>
                  </a:lnTo>
                  <a:lnTo>
                    <a:pt x="863" y="175"/>
                  </a:lnTo>
                  <a:lnTo>
                    <a:pt x="871" y="169"/>
                  </a:lnTo>
                  <a:lnTo>
                    <a:pt x="881" y="162"/>
                  </a:lnTo>
                  <a:lnTo>
                    <a:pt x="891" y="156"/>
                  </a:lnTo>
                  <a:lnTo>
                    <a:pt x="900" y="149"/>
                  </a:lnTo>
                  <a:lnTo>
                    <a:pt x="910" y="143"/>
                  </a:lnTo>
                  <a:lnTo>
                    <a:pt x="920" y="137"/>
                  </a:lnTo>
                  <a:lnTo>
                    <a:pt x="931" y="131"/>
                  </a:lnTo>
                  <a:lnTo>
                    <a:pt x="941" y="126"/>
                  </a:lnTo>
                  <a:lnTo>
                    <a:pt x="952" y="121"/>
                  </a:lnTo>
                  <a:lnTo>
                    <a:pt x="966" y="122"/>
                  </a:lnTo>
                  <a:lnTo>
                    <a:pt x="976" y="121"/>
                  </a:lnTo>
                  <a:lnTo>
                    <a:pt x="983" y="113"/>
                  </a:lnTo>
                  <a:lnTo>
                    <a:pt x="991" y="106"/>
                  </a:lnTo>
                  <a:lnTo>
                    <a:pt x="1003" y="103"/>
                  </a:lnTo>
                  <a:lnTo>
                    <a:pt x="1011" y="97"/>
                  </a:lnTo>
                  <a:lnTo>
                    <a:pt x="1021" y="91"/>
                  </a:lnTo>
                  <a:lnTo>
                    <a:pt x="1033" y="94"/>
                  </a:lnTo>
                  <a:lnTo>
                    <a:pt x="1046" y="97"/>
                  </a:lnTo>
                  <a:lnTo>
                    <a:pt x="1049" y="87"/>
                  </a:lnTo>
                  <a:lnTo>
                    <a:pt x="1051" y="78"/>
                  </a:lnTo>
                  <a:lnTo>
                    <a:pt x="1056" y="69"/>
                  </a:lnTo>
                  <a:lnTo>
                    <a:pt x="1061" y="61"/>
                  </a:lnTo>
                  <a:lnTo>
                    <a:pt x="1065" y="52"/>
                  </a:lnTo>
                  <a:lnTo>
                    <a:pt x="1071" y="44"/>
                  </a:lnTo>
                  <a:lnTo>
                    <a:pt x="1078" y="36"/>
                  </a:lnTo>
                  <a:lnTo>
                    <a:pt x="1084" y="27"/>
                  </a:lnTo>
                  <a:lnTo>
                    <a:pt x="1086" y="18"/>
                  </a:lnTo>
                  <a:lnTo>
                    <a:pt x="1091" y="9"/>
                  </a:lnTo>
                  <a:lnTo>
                    <a:pt x="1100" y="3"/>
                  </a:lnTo>
                  <a:lnTo>
                    <a:pt x="1113" y="0"/>
                  </a:lnTo>
                  <a:lnTo>
                    <a:pt x="11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94280" y="3438360"/>
              <a:ext cx="1341360" cy="1625760"/>
            </a:xfrm>
            <a:custGeom>
              <a:avLst/>
              <a:gdLst/>
              <a:ahLst/>
              <a:rect l="l" t="t" r="r" b="b"/>
              <a:pathLst>
                <a:path w="2533" h="2049">
                  <a:moveTo>
                    <a:pt x="1134" y="0"/>
                  </a:moveTo>
                  <a:lnTo>
                    <a:pt x="1148" y="0"/>
                  </a:lnTo>
                  <a:lnTo>
                    <a:pt x="1160" y="1"/>
                  </a:lnTo>
                  <a:lnTo>
                    <a:pt x="1170" y="4"/>
                  </a:lnTo>
                  <a:lnTo>
                    <a:pt x="1175" y="13"/>
                  </a:lnTo>
                  <a:lnTo>
                    <a:pt x="1188" y="14"/>
                  </a:lnTo>
                  <a:lnTo>
                    <a:pt x="1195" y="21"/>
                  </a:lnTo>
                  <a:lnTo>
                    <a:pt x="1203" y="28"/>
                  </a:lnTo>
                  <a:lnTo>
                    <a:pt x="1210" y="37"/>
                  </a:lnTo>
                  <a:lnTo>
                    <a:pt x="1219" y="44"/>
                  </a:lnTo>
                  <a:lnTo>
                    <a:pt x="1226" y="52"/>
                  </a:lnTo>
                  <a:lnTo>
                    <a:pt x="1234" y="59"/>
                  </a:lnTo>
                  <a:lnTo>
                    <a:pt x="1241" y="67"/>
                  </a:lnTo>
                  <a:lnTo>
                    <a:pt x="1248" y="75"/>
                  </a:lnTo>
                  <a:lnTo>
                    <a:pt x="1257" y="82"/>
                  </a:lnTo>
                  <a:lnTo>
                    <a:pt x="1269" y="80"/>
                  </a:lnTo>
                  <a:lnTo>
                    <a:pt x="1282" y="76"/>
                  </a:lnTo>
                  <a:lnTo>
                    <a:pt x="1279" y="67"/>
                  </a:lnTo>
                  <a:lnTo>
                    <a:pt x="1273" y="57"/>
                  </a:lnTo>
                  <a:lnTo>
                    <a:pt x="1272" y="49"/>
                  </a:lnTo>
                  <a:lnTo>
                    <a:pt x="1285" y="50"/>
                  </a:lnTo>
                  <a:lnTo>
                    <a:pt x="1294" y="56"/>
                  </a:lnTo>
                  <a:lnTo>
                    <a:pt x="1305" y="62"/>
                  </a:lnTo>
                  <a:lnTo>
                    <a:pt x="1315" y="67"/>
                  </a:lnTo>
                  <a:lnTo>
                    <a:pt x="1325" y="73"/>
                  </a:lnTo>
                  <a:lnTo>
                    <a:pt x="1336" y="79"/>
                  </a:lnTo>
                  <a:lnTo>
                    <a:pt x="1346" y="84"/>
                  </a:lnTo>
                  <a:lnTo>
                    <a:pt x="1357" y="90"/>
                  </a:lnTo>
                  <a:lnTo>
                    <a:pt x="1367" y="96"/>
                  </a:lnTo>
                  <a:lnTo>
                    <a:pt x="1377" y="101"/>
                  </a:lnTo>
                  <a:lnTo>
                    <a:pt x="1388" y="107"/>
                  </a:lnTo>
                  <a:lnTo>
                    <a:pt x="1398" y="113"/>
                  </a:lnTo>
                  <a:lnTo>
                    <a:pt x="1410" y="116"/>
                  </a:lnTo>
                  <a:lnTo>
                    <a:pt x="1423" y="117"/>
                  </a:lnTo>
                  <a:lnTo>
                    <a:pt x="1437" y="118"/>
                  </a:lnTo>
                  <a:lnTo>
                    <a:pt x="1449" y="119"/>
                  </a:lnTo>
                  <a:lnTo>
                    <a:pt x="1462" y="120"/>
                  </a:lnTo>
                  <a:lnTo>
                    <a:pt x="1476" y="121"/>
                  </a:lnTo>
                  <a:lnTo>
                    <a:pt x="1489" y="122"/>
                  </a:lnTo>
                  <a:lnTo>
                    <a:pt x="1503" y="123"/>
                  </a:lnTo>
                  <a:lnTo>
                    <a:pt x="1515" y="125"/>
                  </a:lnTo>
                  <a:lnTo>
                    <a:pt x="1528" y="126"/>
                  </a:lnTo>
                  <a:lnTo>
                    <a:pt x="1540" y="128"/>
                  </a:lnTo>
                  <a:lnTo>
                    <a:pt x="1553" y="130"/>
                  </a:lnTo>
                  <a:lnTo>
                    <a:pt x="1565" y="132"/>
                  </a:lnTo>
                  <a:lnTo>
                    <a:pt x="1577" y="136"/>
                  </a:lnTo>
                  <a:lnTo>
                    <a:pt x="1586" y="143"/>
                  </a:lnTo>
                  <a:lnTo>
                    <a:pt x="1595" y="151"/>
                  </a:lnTo>
                  <a:lnTo>
                    <a:pt x="1603" y="158"/>
                  </a:lnTo>
                  <a:lnTo>
                    <a:pt x="1624" y="154"/>
                  </a:lnTo>
                  <a:lnTo>
                    <a:pt x="1637" y="155"/>
                  </a:lnTo>
                  <a:lnTo>
                    <a:pt x="1647" y="160"/>
                  </a:lnTo>
                  <a:lnTo>
                    <a:pt x="1659" y="165"/>
                  </a:lnTo>
                  <a:lnTo>
                    <a:pt x="1672" y="165"/>
                  </a:lnTo>
                  <a:lnTo>
                    <a:pt x="1684" y="165"/>
                  </a:lnTo>
                  <a:lnTo>
                    <a:pt x="1697" y="164"/>
                  </a:lnTo>
                  <a:lnTo>
                    <a:pt x="1711" y="164"/>
                  </a:lnTo>
                  <a:lnTo>
                    <a:pt x="1723" y="163"/>
                  </a:lnTo>
                  <a:lnTo>
                    <a:pt x="1736" y="162"/>
                  </a:lnTo>
                  <a:lnTo>
                    <a:pt x="1747" y="157"/>
                  </a:lnTo>
                  <a:lnTo>
                    <a:pt x="1749" y="166"/>
                  </a:lnTo>
                  <a:lnTo>
                    <a:pt x="1746" y="175"/>
                  </a:lnTo>
                  <a:lnTo>
                    <a:pt x="1742" y="184"/>
                  </a:lnTo>
                  <a:lnTo>
                    <a:pt x="1740" y="193"/>
                  </a:lnTo>
                  <a:lnTo>
                    <a:pt x="1742" y="202"/>
                  </a:lnTo>
                  <a:lnTo>
                    <a:pt x="1753" y="204"/>
                  </a:lnTo>
                  <a:lnTo>
                    <a:pt x="1754" y="213"/>
                  </a:lnTo>
                  <a:lnTo>
                    <a:pt x="1754" y="222"/>
                  </a:lnTo>
                  <a:lnTo>
                    <a:pt x="1756" y="231"/>
                  </a:lnTo>
                  <a:lnTo>
                    <a:pt x="1763" y="239"/>
                  </a:lnTo>
                  <a:lnTo>
                    <a:pt x="1753" y="244"/>
                  </a:lnTo>
                  <a:lnTo>
                    <a:pt x="1740" y="249"/>
                  </a:lnTo>
                  <a:lnTo>
                    <a:pt x="1730" y="255"/>
                  </a:lnTo>
                  <a:lnTo>
                    <a:pt x="1737" y="263"/>
                  </a:lnTo>
                  <a:lnTo>
                    <a:pt x="1740" y="272"/>
                  </a:lnTo>
                  <a:lnTo>
                    <a:pt x="1743" y="282"/>
                  </a:lnTo>
                  <a:lnTo>
                    <a:pt x="1737" y="290"/>
                  </a:lnTo>
                  <a:lnTo>
                    <a:pt x="1728" y="296"/>
                  </a:lnTo>
                  <a:lnTo>
                    <a:pt x="1718" y="301"/>
                  </a:lnTo>
                  <a:lnTo>
                    <a:pt x="1707" y="306"/>
                  </a:lnTo>
                  <a:lnTo>
                    <a:pt x="1695" y="311"/>
                  </a:lnTo>
                  <a:lnTo>
                    <a:pt x="1684" y="316"/>
                  </a:lnTo>
                  <a:lnTo>
                    <a:pt x="1673" y="321"/>
                  </a:lnTo>
                  <a:lnTo>
                    <a:pt x="1662" y="326"/>
                  </a:lnTo>
                  <a:lnTo>
                    <a:pt x="1651" y="331"/>
                  </a:lnTo>
                  <a:lnTo>
                    <a:pt x="1640" y="336"/>
                  </a:lnTo>
                  <a:lnTo>
                    <a:pt x="1624" y="342"/>
                  </a:lnTo>
                  <a:lnTo>
                    <a:pt x="1633" y="374"/>
                  </a:lnTo>
                  <a:lnTo>
                    <a:pt x="1637" y="383"/>
                  </a:lnTo>
                  <a:lnTo>
                    <a:pt x="1638" y="392"/>
                  </a:lnTo>
                  <a:lnTo>
                    <a:pt x="1634" y="401"/>
                  </a:lnTo>
                  <a:lnTo>
                    <a:pt x="1628" y="409"/>
                  </a:lnTo>
                  <a:lnTo>
                    <a:pt x="1626" y="419"/>
                  </a:lnTo>
                  <a:lnTo>
                    <a:pt x="1631" y="426"/>
                  </a:lnTo>
                  <a:lnTo>
                    <a:pt x="1638" y="434"/>
                  </a:lnTo>
                  <a:lnTo>
                    <a:pt x="1645" y="442"/>
                  </a:lnTo>
                  <a:lnTo>
                    <a:pt x="1654" y="450"/>
                  </a:lnTo>
                  <a:lnTo>
                    <a:pt x="1663" y="452"/>
                  </a:lnTo>
                  <a:lnTo>
                    <a:pt x="1676" y="453"/>
                  </a:lnTo>
                  <a:lnTo>
                    <a:pt x="1687" y="457"/>
                  </a:lnTo>
                  <a:lnTo>
                    <a:pt x="1700" y="459"/>
                  </a:lnTo>
                  <a:lnTo>
                    <a:pt x="1712" y="461"/>
                  </a:lnTo>
                  <a:lnTo>
                    <a:pt x="1725" y="465"/>
                  </a:lnTo>
                  <a:lnTo>
                    <a:pt x="1736" y="469"/>
                  </a:lnTo>
                  <a:lnTo>
                    <a:pt x="1749" y="473"/>
                  </a:lnTo>
                  <a:lnTo>
                    <a:pt x="1760" y="476"/>
                  </a:lnTo>
                  <a:lnTo>
                    <a:pt x="1772" y="480"/>
                  </a:lnTo>
                  <a:lnTo>
                    <a:pt x="1785" y="483"/>
                  </a:lnTo>
                  <a:lnTo>
                    <a:pt x="1798" y="486"/>
                  </a:lnTo>
                  <a:lnTo>
                    <a:pt x="1809" y="490"/>
                  </a:lnTo>
                  <a:lnTo>
                    <a:pt x="1821" y="493"/>
                  </a:lnTo>
                  <a:lnTo>
                    <a:pt x="1834" y="497"/>
                  </a:lnTo>
                  <a:lnTo>
                    <a:pt x="1845" y="501"/>
                  </a:lnTo>
                  <a:lnTo>
                    <a:pt x="1858" y="505"/>
                  </a:lnTo>
                  <a:lnTo>
                    <a:pt x="1869" y="509"/>
                  </a:lnTo>
                  <a:lnTo>
                    <a:pt x="1881" y="512"/>
                  </a:lnTo>
                  <a:lnTo>
                    <a:pt x="1894" y="513"/>
                  </a:lnTo>
                  <a:lnTo>
                    <a:pt x="1907" y="513"/>
                  </a:lnTo>
                  <a:lnTo>
                    <a:pt x="1921" y="513"/>
                  </a:lnTo>
                  <a:lnTo>
                    <a:pt x="1933" y="514"/>
                  </a:lnTo>
                  <a:lnTo>
                    <a:pt x="1946" y="515"/>
                  </a:lnTo>
                  <a:lnTo>
                    <a:pt x="1958" y="516"/>
                  </a:lnTo>
                  <a:lnTo>
                    <a:pt x="1972" y="516"/>
                  </a:lnTo>
                  <a:lnTo>
                    <a:pt x="1985" y="516"/>
                  </a:lnTo>
                  <a:lnTo>
                    <a:pt x="1997" y="519"/>
                  </a:lnTo>
                  <a:lnTo>
                    <a:pt x="2006" y="524"/>
                  </a:lnTo>
                  <a:lnTo>
                    <a:pt x="2014" y="530"/>
                  </a:lnTo>
                  <a:lnTo>
                    <a:pt x="2028" y="526"/>
                  </a:lnTo>
                  <a:lnTo>
                    <a:pt x="2039" y="526"/>
                  </a:lnTo>
                  <a:lnTo>
                    <a:pt x="2045" y="535"/>
                  </a:lnTo>
                  <a:lnTo>
                    <a:pt x="2046" y="545"/>
                  </a:lnTo>
                  <a:lnTo>
                    <a:pt x="2042" y="552"/>
                  </a:lnTo>
                  <a:lnTo>
                    <a:pt x="2027" y="553"/>
                  </a:lnTo>
                  <a:lnTo>
                    <a:pt x="2024" y="560"/>
                  </a:lnTo>
                  <a:lnTo>
                    <a:pt x="2018" y="566"/>
                  </a:lnTo>
                  <a:lnTo>
                    <a:pt x="2016" y="576"/>
                  </a:lnTo>
                  <a:lnTo>
                    <a:pt x="2018" y="580"/>
                  </a:lnTo>
                  <a:lnTo>
                    <a:pt x="2025" y="573"/>
                  </a:lnTo>
                  <a:lnTo>
                    <a:pt x="2034" y="564"/>
                  </a:lnTo>
                  <a:lnTo>
                    <a:pt x="2044" y="556"/>
                  </a:lnTo>
                  <a:lnTo>
                    <a:pt x="2053" y="555"/>
                  </a:lnTo>
                  <a:lnTo>
                    <a:pt x="2066" y="556"/>
                  </a:lnTo>
                  <a:lnTo>
                    <a:pt x="2079" y="559"/>
                  </a:lnTo>
                  <a:lnTo>
                    <a:pt x="2093" y="563"/>
                  </a:lnTo>
                  <a:lnTo>
                    <a:pt x="2105" y="567"/>
                  </a:lnTo>
                  <a:lnTo>
                    <a:pt x="2111" y="573"/>
                  </a:lnTo>
                  <a:lnTo>
                    <a:pt x="2116" y="581"/>
                  </a:lnTo>
                  <a:lnTo>
                    <a:pt x="2127" y="579"/>
                  </a:lnTo>
                  <a:lnTo>
                    <a:pt x="2136" y="582"/>
                  </a:lnTo>
                  <a:lnTo>
                    <a:pt x="2141" y="574"/>
                  </a:lnTo>
                  <a:lnTo>
                    <a:pt x="2150" y="567"/>
                  </a:lnTo>
                  <a:lnTo>
                    <a:pt x="2157" y="560"/>
                  </a:lnTo>
                  <a:lnTo>
                    <a:pt x="2169" y="563"/>
                  </a:lnTo>
                  <a:lnTo>
                    <a:pt x="2181" y="559"/>
                  </a:lnTo>
                  <a:lnTo>
                    <a:pt x="2193" y="556"/>
                  </a:lnTo>
                  <a:lnTo>
                    <a:pt x="2206" y="552"/>
                  </a:lnTo>
                  <a:lnTo>
                    <a:pt x="2216" y="556"/>
                  </a:lnTo>
                  <a:lnTo>
                    <a:pt x="2223" y="563"/>
                  </a:lnTo>
                  <a:lnTo>
                    <a:pt x="2234" y="558"/>
                  </a:lnTo>
                  <a:lnTo>
                    <a:pt x="2232" y="549"/>
                  </a:lnTo>
                  <a:lnTo>
                    <a:pt x="2241" y="542"/>
                  </a:lnTo>
                  <a:lnTo>
                    <a:pt x="2252" y="544"/>
                  </a:lnTo>
                  <a:lnTo>
                    <a:pt x="2264" y="544"/>
                  </a:lnTo>
                  <a:lnTo>
                    <a:pt x="2278" y="542"/>
                  </a:lnTo>
                  <a:lnTo>
                    <a:pt x="2285" y="538"/>
                  </a:lnTo>
                  <a:lnTo>
                    <a:pt x="2280" y="529"/>
                  </a:lnTo>
                  <a:lnTo>
                    <a:pt x="2274" y="520"/>
                  </a:lnTo>
                  <a:lnTo>
                    <a:pt x="2269" y="512"/>
                  </a:lnTo>
                  <a:lnTo>
                    <a:pt x="2266" y="503"/>
                  </a:lnTo>
                  <a:lnTo>
                    <a:pt x="2267" y="494"/>
                  </a:lnTo>
                  <a:lnTo>
                    <a:pt x="2273" y="484"/>
                  </a:lnTo>
                  <a:lnTo>
                    <a:pt x="2281" y="477"/>
                  </a:lnTo>
                  <a:lnTo>
                    <a:pt x="2288" y="470"/>
                  </a:lnTo>
                  <a:lnTo>
                    <a:pt x="2290" y="460"/>
                  </a:lnTo>
                  <a:lnTo>
                    <a:pt x="2295" y="453"/>
                  </a:lnTo>
                  <a:lnTo>
                    <a:pt x="2305" y="459"/>
                  </a:lnTo>
                  <a:lnTo>
                    <a:pt x="2318" y="460"/>
                  </a:lnTo>
                  <a:lnTo>
                    <a:pt x="2330" y="461"/>
                  </a:lnTo>
                  <a:lnTo>
                    <a:pt x="2344" y="462"/>
                  </a:lnTo>
                  <a:lnTo>
                    <a:pt x="2357" y="463"/>
                  </a:lnTo>
                  <a:lnTo>
                    <a:pt x="2368" y="459"/>
                  </a:lnTo>
                  <a:lnTo>
                    <a:pt x="2375" y="451"/>
                  </a:lnTo>
                  <a:lnTo>
                    <a:pt x="2386" y="446"/>
                  </a:lnTo>
                  <a:lnTo>
                    <a:pt x="2394" y="439"/>
                  </a:lnTo>
                  <a:lnTo>
                    <a:pt x="2401" y="434"/>
                  </a:lnTo>
                  <a:lnTo>
                    <a:pt x="2396" y="426"/>
                  </a:lnTo>
                  <a:lnTo>
                    <a:pt x="2408" y="423"/>
                  </a:lnTo>
                  <a:lnTo>
                    <a:pt x="2408" y="414"/>
                  </a:lnTo>
                  <a:lnTo>
                    <a:pt x="2417" y="406"/>
                  </a:lnTo>
                  <a:lnTo>
                    <a:pt x="2424" y="408"/>
                  </a:lnTo>
                  <a:lnTo>
                    <a:pt x="2431" y="415"/>
                  </a:lnTo>
                  <a:lnTo>
                    <a:pt x="2443" y="413"/>
                  </a:lnTo>
                  <a:lnTo>
                    <a:pt x="2457" y="410"/>
                  </a:lnTo>
                  <a:lnTo>
                    <a:pt x="2469" y="405"/>
                  </a:lnTo>
                  <a:lnTo>
                    <a:pt x="2477" y="411"/>
                  </a:lnTo>
                  <a:lnTo>
                    <a:pt x="2490" y="413"/>
                  </a:lnTo>
                  <a:lnTo>
                    <a:pt x="2503" y="413"/>
                  </a:lnTo>
                  <a:lnTo>
                    <a:pt x="2510" y="418"/>
                  </a:lnTo>
                  <a:lnTo>
                    <a:pt x="2510" y="429"/>
                  </a:lnTo>
                  <a:lnTo>
                    <a:pt x="2515" y="438"/>
                  </a:lnTo>
                  <a:lnTo>
                    <a:pt x="2522" y="445"/>
                  </a:lnTo>
                  <a:lnTo>
                    <a:pt x="2533" y="448"/>
                  </a:lnTo>
                  <a:lnTo>
                    <a:pt x="2526" y="455"/>
                  </a:lnTo>
                  <a:lnTo>
                    <a:pt x="2513" y="457"/>
                  </a:lnTo>
                  <a:lnTo>
                    <a:pt x="2508" y="465"/>
                  </a:lnTo>
                  <a:lnTo>
                    <a:pt x="2510" y="474"/>
                  </a:lnTo>
                  <a:lnTo>
                    <a:pt x="2506" y="483"/>
                  </a:lnTo>
                  <a:lnTo>
                    <a:pt x="2503" y="493"/>
                  </a:lnTo>
                  <a:lnTo>
                    <a:pt x="2498" y="499"/>
                  </a:lnTo>
                  <a:lnTo>
                    <a:pt x="2492" y="509"/>
                  </a:lnTo>
                  <a:lnTo>
                    <a:pt x="2494" y="515"/>
                  </a:lnTo>
                  <a:lnTo>
                    <a:pt x="2509" y="515"/>
                  </a:lnTo>
                  <a:lnTo>
                    <a:pt x="2520" y="519"/>
                  </a:lnTo>
                  <a:lnTo>
                    <a:pt x="2522" y="527"/>
                  </a:lnTo>
                  <a:lnTo>
                    <a:pt x="2516" y="535"/>
                  </a:lnTo>
                  <a:lnTo>
                    <a:pt x="2509" y="543"/>
                  </a:lnTo>
                  <a:lnTo>
                    <a:pt x="2502" y="550"/>
                  </a:lnTo>
                  <a:lnTo>
                    <a:pt x="2490" y="548"/>
                  </a:lnTo>
                  <a:lnTo>
                    <a:pt x="2477" y="545"/>
                  </a:lnTo>
                  <a:lnTo>
                    <a:pt x="2473" y="552"/>
                  </a:lnTo>
                  <a:lnTo>
                    <a:pt x="2470" y="560"/>
                  </a:lnTo>
                  <a:lnTo>
                    <a:pt x="2462" y="567"/>
                  </a:lnTo>
                  <a:lnTo>
                    <a:pt x="2456" y="575"/>
                  </a:lnTo>
                  <a:lnTo>
                    <a:pt x="2445" y="580"/>
                  </a:lnTo>
                  <a:lnTo>
                    <a:pt x="2441" y="589"/>
                  </a:lnTo>
                  <a:lnTo>
                    <a:pt x="2434" y="595"/>
                  </a:lnTo>
                  <a:lnTo>
                    <a:pt x="2421" y="596"/>
                  </a:lnTo>
                  <a:lnTo>
                    <a:pt x="2407" y="596"/>
                  </a:lnTo>
                  <a:lnTo>
                    <a:pt x="2393" y="596"/>
                  </a:lnTo>
                  <a:lnTo>
                    <a:pt x="2380" y="596"/>
                  </a:lnTo>
                  <a:lnTo>
                    <a:pt x="2368" y="598"/>
                  </a:lnTo>
                  <a:lnTo>
                    <a:pt x="2361" y="606"/>
                  </a:lnTo>
                  <a:lnTo>
                    <a:pt x="2358" y="616"/>
                  </a:lnTo>
                  <a:lnTo>
                    <a:pt x="2358" y="625"/>
                  </a:lnTo>
                  <a:lnTo>
                    <a:pt x="2362" y="633"/>
                  </a:lnTo>
                  <a:lnTo>
                    <a:pt x="2362" y="643"/>
                  </a:lnTo>
                  <a:lnTo>
                    <a:pt x="2368" y="651"/>
                  </a:lnTo>
                  <a:lnTo>
                    <a:pt x="2379" y="654"/>
                  </a:lnTo>
                  <a:lnTo>
                    <a:pt x="2382" y="663"/>
                  </a:lnTo>
                  <a:lnTo>
                    <a:pt x="2385" y="672"/>
                  </a:lnTo>
                  <a:lnTo>
                    <a:pt x="2390" y="681"/>
                  </a:lnTo>
                  <a:lnTo>
                    <a:pt x="2394" y="690"/>
                  </a:lnTo>
                  <a:lnTo>
                    <a:pt x="2385" y="693"/>
                  </a:lnTo>
                  <a:lnTo>
                    <a:pt x="2375" y="697"/>
                  </a:lnTo>
                  <a:lnTo>
                    <a:pt x="2371" y="706"/>
                  </a:lnTo>
                  <a:lnTo>
                    <a:pt x="2372" y="716"/>
                  </a:lnTo>
                  <a:lnTo>
                    <a:pt x="2373" y="725"/>
                  </a:lnTo>
                  <a:lnTo>
                    <a:pt x="2371" y="734"/>
                  </a:lnTo>
                  <a:lnTo>
                    <a:pt x="2365" y="738"/>
                  </a:lnTo>
                  <a:lnTo>
                    <a:pt x="2361" y="747"/>
                  </a:lnTo>
                  <a:lnTo>
                    <a:pt x="2348" y="748"/>
                  </a:lnTo>
                  <a:lnTo>
                    <a:pt x="2336" y="750"/>
                  </a:lnTo>
                  <a:lnTo>
                    <a:pt x="2326" y="755"/>
                  </a:lnTo>
                  <a:lnTo>
                    <a:pt x="2313" y="758"/>
                  </a:lnTo>
                  <a:lnTo>
                    <a:pt x="2302" y="762"/>
                  </a:lnTo>
                  <a:lnTo>
                    <a:pt x="2290" y="762"/>
                  </a:lnTo>
                  <a:lnTo>
                    <a:pt x="2277" y="766"/>
                  </a:lnTo>
                  <a:lnTo>
                    <a:pt x="2269" y="772"/>
                  </a:lnTo>
                  <a:lnTo>
                    <a:pt x="2257" y="777"/>
                  </a:lnTo>
                  <a:lnTo>
                    <a:pt x="2246" y="778"/>
                  </a:lnTo>
                  <a:lnTo>
                    <a:pt x="2245" y="788"/>
                  </a:lnTo>
                  <a:lnTo>
                    <a:pt x="2235" y="793"/>
                  </a:lnTo>
                  <a:lnTo>
                    <a:pt x="2223" y="793"/>
                  </a:lnTo>
                  <a:lnTo>
                    <a:pt x="2214" y="800"/>
                  </a:lnTo>
                  <a:lnTo>
                    <a:pt x="2214" y="809"/>
                  </a:lnTo>
                  <a:lnTo>
                    <a:pt x="2214" y="818"/>
                  </a:lnTo>
                  <a:lnTo>
                    <a:pt x="2213" y="827"/>
                  </a:lnTo>
                  <a:lnTo>
                    <a:pt x="2217" y="835"/>
                  </a:lnTo>
                  <a:lnTo>
                    <a:pt x="2218" y="844"/>
                  </a:lnTo>
                  <a:lnTo>
                    <a:pt x="2220" y="854"/>
                  </a:lnTo>
                  <a:lnTo>
                    <a:pt x="2217" y="862"/>
                  </a:lnTo>
                  <a:lnTo>
                    <a:pt x="2213" y="871"/>
                  </a:lnTo>
                  <a:lnTo>
                    <a:pt x="2210" y="880"/>
                  </a:lnTo>
                  <a:lnTo>
                    <a:pt x="2204" y="888"/>
                  </a:lnTo>
                  <a:lnTo>
                    <a:pt x="2202" y="895"/>
                  </a:lnTo>
                  <a:lnTo>
                    <a:pt x="2197" y="904"/>
                  </a:lnTo>
                  <a:lnTo>
                    <a:pt x="2193" y="913"/>
                  </a:lnTo>
                  <a:lnTo>
                    <a:pt x="2183" y="919"/>
                  </a:lnTo>
                  <a:lnTo>
                    <a:pt x="2174" y="925"/>
                  </a:lnTo>
                  <a:lnTo>
                    <a:pt x="2162" y="929"/>
                  </a:lnTo>
                  <a:lnTo>
                    <a:pt x="2155" y="934"/>
                  </a:lnTo>
                  <a:lnTo>
                    <a:pt x="2151" y="944"/>
                  </a:lnTo>
                  <a:lnTo>
                    <a:pt x="2146" y="952"/>
                  </a:lnTo>
                  <a:lnTo>
                    <a:pt x="2150" y="961"/>
                  </a:lnTo>
                  <a:lnTo>
                    <a:pt x="2160" y="964"/>
                  </a:lnTo>
                  <a:lnTo>
                    <a:pt x="2172" y="967"/>
                  </a:lnTo>
                  <a:lnTo>
                    <a:pt x="2181" y="975"/>
                  </a:lnTo>
                  <a:lnTo>
                    <a:pt x="2189" y="981"/>
                  </a:lnTo>
                  <a:lnTo>
                    <a:pt x="2199" y="987"/>
                  </a:lnTo>
                  <a:lnTo>
                    <a:pt x="2210" y="993"/>
                  </a:lnTo>
                  <a:lnTo>
                    <a:pt x="2221" y="997"/>
                  </a:lnTo>
                  <a:lnTo>
                    <a:pt x="2232" y="1001"/>
                  </a:lnTo>
                  <a:lnTo>
                    <a:pt x="2236" y="1010"/>
                  </a:lnTo>
                  <a:lnTo>
                    <a:pt x="2239" y="1019"/>
                  </a:lnTo>
                  <a:lnTo>
                    <a:pt x="2242" y="1028"/>
                  </a:lnTo>
                  <a:lnTo>
                    <a:pt x="2242" y="1037"/>
                  </a:lnTo>
                  <a:lnTo>
                    <a:pt x="2235" y="1045"/>
                  </a:lnTo>
                  <a:lnTo>
                    <a:pt x="2227" y="1052"/>
                  </a:lnTo>
                  <a:lnTo>
                    <a:pt x="2217" y="1058"/>
                  </a:lnTo>
                  <a:lnTo>
                    <a:pt x="2207" y="1062"/>
                  </a:lnTo>
                  <a:lnTo>
                    <a:pt x="2203" y="1070"/>
                  </a:lnTo>
                  <a:lnTo>
                    <a:pt x="2200" y="1078"/>
                  </a:lnTo>
                  <a:lnTo>
                    <a:pt x="2199" y="1086"/>
                  </a:lnTo>
                  <a:lnTo>
                    <a:pt x="2188" y="1091"/>
                  </a:lnTo>
                  <a:lnTo>
                    <a:pt x="2182" y="1099"/>
                  </a:lnTo>
                  <a:lnTo>
                    <a:pt x="2178" y="1108"/>
                  </a:lnTo>
                  <a:lnTo>
                    <a:pt x="2169" y="1113"/>
                  </a:lnTo>
                  <a:lnTo>
                    <a:pt x="2160" y="1108"/>
                  </a:lnTo>
                  <a:lnTo>
                    <a:pt x="2150" y="1102"/>
                  </a:lnTo>
                  <a:lnTo>
                    <a:pt x="2139" y="1098"/>
                  </a:lnTo>
                  <a:lnTo>
                    <a:pt x="2129" y="1095"/>
                  </a:lnTo>
                  <a:lnTo>
                    <a:pt x="2116" y="1100"/>
                  </a:lnTo>
                  <a:lnTo>
                    <a:pt x="2105" y="1105"/>
                  </a:lnTo>
                  <a:lnTo>
                    <a:pt x="2094" y="1109"/>
                  </a:lnTo>
                  <a:lnTo>
                    <a:pt x="2083" y="1109"/>
                  </a:lnTo>
                  <a:lnTo>
                    <a:pt x="2070" y="1104"/>
                  </a:lnTo>
                  <a:lnTo>
                    <a:pt x="2059" y="1099"/>
                  </a:lnTo>
                  <a:lnTo>
                    <a:pt x="2048" y="1101"/>
                  </a:lnTo>
                  <a:lnTo>
                    <a:pt x="2045" y="1110"/>
                  </a:lnTo>
                  <a:lnTo>
                    <a:pt x="2048" y="1118"/>
                  </a:lnTo>
                  <a:lnTo>
                    <a:pt x="2052" y="1127"/>
                  </a:lnTo>
                  <a:lnTo>
                    <a:pt x="2058" y="1135"/>
                  </a:lnTo>
                  <a:lnTo>
                    <a:pt x="2065" y="1143"/>
                  </a:lnTo>
                  <a:lnTo>
                    <a:pt x="2072" y="1150"/>
                  </a:lnTo>
                  <a:lnTo>
                    <a:pt x="2081" y="1155"/>
                  </a:lnTo>
                  <a:lnTo>
                    <a:pt x="2094" y="1151"/>
                  </a:lnTo>
                  <a:lnTo>
                    <a:pt x="2102" y="1155"/>
                  </a:lnTo>
                  <a:lnTo>
                    <a:pt x="2101" y="1165"/>
                  </a:lnTo>
                  <a:lnTo>
                    <a:pt x="2093" y="1172"/>
                  </a:lnTo>
                  <a:lnTo>
                    <a:pt x="2084" y="1179"/>
                  </a:lnTo>
                  <a:lnTo>
                    <a:pt x="2076" y="1187"/>
                  </a:lnTo>
                  <a:lnTo>
                    <a:pt x="2065" y="1192"/>
                  </a:lnTo>
                  <a:lnTo>
                    <a:pt x="2053" y="1196"/>
                  </a:lnTo>
                  <a:lnTo>
                    <a:pt x="2039" y="1197"/>
                  </a:lnTo>
                  <a:lnTo>
                    <a:pt x="2030" y="1202"/>
                  </a:lnTo>
                  <a:lnTo>
                    <a:pt x="2024" y="1210"/>
                  </a:lnTo>
                  <a:lnTo>
                    <a:pt x="2023" y="1220"/>
                  </a:lnTo>
                  <a:lnTo>
                    <a:pt x="2020" y="1229"/>
                  </a:lnTo>
                  <a:lnTo>
                    <a:pt x="2018" y="1238"/>
                  </a:lnTo>
                  <a:lnTo>
                    <a:pt x="2016" y="1247"/>
                  </a:lnTo>
                  <a:lnTo>
                    <a:pt x="2004" y="1249"/>
                  </a:lnTo>
                  <a:lnTo>
                    <a:pt x="1992" y="1247"/>
                  </a:lnTo>
                  <a:lnTo>
                    <a:pt x="1979" y="1244"/>
                  </a:lnTo>
                  <a:lnTo>
                    <a:pt x="1967" y="1242"/>
                  </a:lnTo>
                  <a:lnTo>
                    <a:pt x="1954" y="1238"/>
                  </a:lnTo>
                  <a:lnTo>
                    <a:pt x="1950" y="1230"/>
                  </a:lnTo>
                  <a:lnTo>
                    <a:pt x="1940" y="1223"/>
                  </a:lnTo>
                  <a:lnTo>
                    <a:pt x="1928" y="1219"/>
                  </a:lnTo>
                  <a:lnTo>
                    <a:pt x="1918" y="1221"/>
                  </a:lnTo>
                  <a:lnTo>
                    <a:pt x="1908" y="1229"/>
                  </a:lnTo>
                  <a:lnTo>
                    <a:pt x="1900" y="1235"/>
                  </a:lnTo>
                  <a:lnTo>
                    <a:pt x="1886" y="1234"/>
                  </a:lnTo>
                  <a:lnTo>
                    <a:pt x="1873" y="1236"/>
                  </a:lnTo>
                  <a:lnTo>
                    <a:pt x="1860" y="1238"/>
                  </a:lnTo>
                  <a:lnTo>
                    <a:pt x="1851" y="1234"/>
                  </a:lnTo>
                  <a:lnTo>
                    <a:pt x="1842" y="1241"/>
                  </a:lnTo>
                  <a:lnTo>
                    <a:pt x="1834" y="1249"/>
                  </a:lnTo>
                  <a:lnTo>
                    <a:pt x="1827" y="1257"/>
                  </a:lnTo>
                  <a:lnTo>
                    <a:pt x="1821" y="1266"/>
                  </a:lnTo>
                  <a:lnTo>
                    <a:pt x="1820" y="1275"/>
                  </a:lnTo>
                  <a:lnTo>
                    <a:pt x="1814" y="1283"/>
                  </a:lnTo>
                  <a:lnTo>
                    <a:pt x="1809" y="1292"/>
                  </a:lnTo>
                  <a:lnTo>
                    <a:pt x="1809" y="1301"/>
                  </a:lnTo>
                  <a:lnTo>
                    <a:pt x="1803" y="1309"/>
                  </a:lnTo>
                  <a:lnTo>
                    <a:pt x="1798" y="1318"/>
                  </a:lnTo>
                  <a:lnTo>
                    <a:pt x="1806" y="1325"/>
                  </a:lnTo>
                  <a:lnTo>
                    <a:pt x="1817" y="1328"/>
                  </a:lnTo>
                  <a:lnTo>
                    <a:pt x="1827" y="1330"/>
                  </a:lnTo>
                  <a:lnTo>
                    <a:pt x="1838" y="1334"/>
                  </a:lnTo>
                  <a:lnTo>
                    <a:pt x="1834" y="1342"/>
                  </a:lnTo>
                  <a:lnTo>
                    <a:pt x="1827" y="1350"/>
                  </a:lnTo>
                  <a:lnTo>
                    <a:pt x="1821" y="1358"/>
                  </a:lnTo>
                  <a:lnTo>
                    <a:pt x="1813" y="1366"/>
                  </a:lnTo>
                  <a:lnTo>
                    <a:pt x="1806" y="1373"/>
                  </a:lnTo>
                  <a:lnTo>
                    <a:pt x="1807" y="1382"/>
                  </a:lnTo>
                  <a:lnTo>
                    <a:pt x="1802" y="1390"/>
                  </a:lnTo>
                  <a:lnTo>
                    <a:pt x="1792" y="1397"/>
                  </a:lnTo>
                  <a:lnTo>
                    <a:pt x="1784" y="1403"/>
                  </a:lnTo>
                  <a:lnTo>
                    <a:pt x="1781" y="1414"/>
                  </a:lnTo>
                  <a:lnTo>
                    <a:pt x="1771" y="1417"/>
                  </a:lnTo>
                  <a:lnTo>
                    <a:pt x="1758" y="1417"/>
                  </a:lnTo>
                  <a:lnTo>
                    <a:pt x="1750" y="1424"/>
                  </a:lnTo>
                  <a:lnTo>
                    <a:pt x="1751" y="1433"/>
                  </a:lnTo>
                  <a:lnTo>
                    <a:pt x="1750" y="1442"/>
                  </a:lnTo>
                  <a:lnTo>
                    <a:pt x="1746" y="1451"/>
                  </a:lnTo>
                  <a:lnTo>
                    <a:pt x="1742" y="1460"/>
                  </a:lnTo>
                  <a:lnTo>
                    <a:pt x="1736" y="1469"/>
                  </a:lnTo>
                  <a:lnTo>
                    <a:pt x="1732" y="1478"/>
                  </a:lnTo>
                  <a:lnTo>
                    <a:pt x="1728" y="1487"/>
                  </a:lnTo>
                  <a:lnTo>
                    <a:pt x="1725" y="1496"/>
                  </a:lnTo>
                  <a:lnTo>
                    <a:pt x="1723" y="1505"/>
                  </a:lnTo>
                  <a:lnTo>
                    <a:pt x="1726" y="1513"/>
                  </a:lnTo>
                  <a:lnTo>
                    <a:pt x="1730" y="1522"/>
                  </a:lnTo>
                  <a:lnTo>
                    <a:pt x="1739" y="1530"/>
                  </a:lnTo>
                  <a:lnTo>
                    <a:pt x="1746" y="1538"/>
                  </a:lnTo>
                  <a:lnTo>
                    <a:pt x="1751" y="1547"/>
                  </a:lnTo>
                  <a:lnTo>
                    <a:pt x="1753" y="1557"/>
                  </a:lnTo>
                  <a:lnTo>
                    <a:pt x="1763" y="1558"/>
                  </a:lnTo>
                  <a:lnTo>
                    <a:pt x="1777" y="1556"/>
                  </a:lnTo>
                  <a:lnTo>
                    <a:pt x="1791" y="1558"/>
                  </a:lnTo>
                  <a:lnTo>
                    <a:pt x="1800" y="1560"/>
                  </a:lnTo>
                  <a:lnTo>
                    <a:pt x="1807" y="1569"/>
                  </a:lnTo>
                  <a:lnTo>
                    <a:pt x="1814" y="1577"/>
                  </a:lnTo>
                  <a:lnTo>
                    <a:pt x="1821" y="1585"/>
                  </a:lnTo>
                  <a:lnTo>
                    <a:pt x="1830" y="1593"/>
                  </a:lnTo>
                  <a:lnTo>
                    <a:pt x="1837" y="1600"/>
                  </a:lnTo>
                  <a:lnTo>
                    <a:pt x="1842" y="1608"/>
                  </a:lnTo>
                  <a:lnTo>
                    <a:pt x="1835" y="1612"/>
                  </a:lnTo>
                  <a:lnTo>
                    <a:pt x="1834" y="1622"/>
                  </a:lnTo>
                  <a:lnTo>
                    <a:pt x="1832" y="1631"/>
                  </a:lnTo>
                  <a:lnTo>
                    <a:pt x="1826" y="1639"/>
                  </a:lnTo>
                  <a:lnTo>
                    <a:pt x="1819" y="1646"/>
                  </a:lnTo>
                  <a:lnTo>
                    <a:pt x="1812" y="1654"/>
                  </a:lnTo>
                  <a:lnTo>
                    <a:pt x="1806" y="1663"/>
                  </a:lnTo>
                  <a:lnTo>
                    <a:pt x="1802" y="1672"/>
                  </a:lnTo>
                  <a:lnTo>
                    <a:pt x="1798" y="1680"/>
                  </a:lnTo>
                  <a:lnTo>
                    <a:pt x="1789" y="1687"/>
                  </a:lnTo>
                  <a:lnTo>
                    <a:pt x="1798" y="1695"/>
                  </a:lnTo>
                  <a:lnTo>
                    <a:pt x="1805" y="1702"/>
                  </a:lnTo>
                  <a:lnTo>
                    <a:pt x="1795" y="1707"/>
                  </a:lnTo>
                  <a:lnTo>
                    <a:pt x="1781" y="1710"/>
                  </a:lnTo>
                  <a:lnTo>
                    <a:pt x="1770" y="1705"/>
                  </a:lnTo>
                  <a:lnTo>
                    <a:pt x="1757" y="1701"/>
                  </a:lnTo>
                  <a:lnTo>
                    <a:pt x="1744" y="1700"/>
                  </a:lnTo>
                  <a:lnTo>
                    <a:pt x="1732" y="1700"/>
                  </a:lnTo>
                  <a:lnTo>
                    <a:pt x="1719" y="1697"/>
                  </a:lnTo>
                  <a:lnTo>
                    <a:pt x="1705" y="1696"/>
                  </a:lnTo>
                  <a:lnTo>
                    <a:pt x="1693" y="1697"/>
                  </a:lnTo>
                  <a:lnTo>
                    <a:pt x="1680" y="1694"/>
                  </a:lnTo>
                  <a:lnTo>
                    <a:pt x="1669" y="1692"/>
                  </a:lnTo>
                  <a:lnTo>
                    <a:pt x="1655" y="1692"/>
                  </a:lnTo>
                  <a:lnTo>
                    <a:pt x="1648" y="1700"/>
                  </a:lnTo>
                  <a:lnTo>
                    <a:pt x="1648" y="1710"/>
                  </a:lnTo>
                  <a:lnTo>
                    <a:pt x="1642" y="1716"/>
                  </a:lnTo>
                  <a:lnTo>
                    <a:pt x="1627" y="1711"/>
                  </a:lnTo>
                  <a:lnTo>
                    <a:pt x="1621" y="1716"/>
                  </a:lnTo>
                  <a:lnTo>
                    <a:pt x="1617" y="1724"/>
                  </a:lnTo>
                  <a:lnTo>
                    <a:pt x="1614" y="1733"/>
                  </a:lnTo>
                  <a:lnTo>
                    <a:pt x="1613" y="1743"/>
                  </a:lnTo>
                  <a:lnTo>
                    <a:pt x="1610" y="1752"/>
                  </a:lnTo>
                  <a:lnTo>
                    <a:pt x="1609" y="1762"/>
                  </a:lnTo>
                  <a:lnTo>
                    <a:pt x="1607" y="1772"/>
                  </a:lnTo>
                  <a:lnTo>
                    <a:pt x="1607" y="1781"/>
                  </a:lnTo>
                  <a:lnTo>
                    <a:pt x="1610" y="1790"/>
                  </a:lnTo>
                  <a:lnTo>
                    <a:pt x="1612" y="1800"/>
                  </a:lnTo>
                  <a:lnTo>
                    <a:pt x="1614" y="1809"/>
                  </a:lnTo>
                  <a:lnTo>
                    <a:pt x="1614" y="1818"/>
                  </a:lnTo>
                  <a:lnTo>
                    <a:pt x="1614" y="1827"/>
                  </a:lnTo>
                  <a:lnTo>
                    <a:pt x="1609" y="1836"/>
                  </a:lnTo>
                  <a:lnTo>
                    <a:pt x="1599" y="1843"/>
                  </a:lnTo>
                  <a:lnTo>
                    <a:pt x="1589" y="1848"/>
                  </a:lnTo>
                  <a:lnTo>
                    <a:pt x="1575" y="1851"/>
                  </a:lnTo>
                  <a:lnTo>
                    <a:pt x="1567" y="1855"/>
                  </a:lnTo>
                  <a:lnTo>
                    <a:pt x="1570" y="1864"/>
                  </a:lnTo>
                  <a:lnTo>
                    <a:pt x="1568" y="1873"/>
                  </a:lnTo>
                  <a:lnTo>
                    <a:pt x="1570" y="1882"/>
                  </a:lnTo>
                  <a:lnTo>
                    <a:pt x="1563" y="1890"/>
                  </a:lnTo>
                  <a:lnTo>
                    <a:pt x="1567" y="1899"/>
                  </a:lnTo>
                  <a:lnTo>
                    <a:pt x="1572" y="1908"/>
                  </a:lnTo>
                  <a:lnTo>
                    <a:pt x="1578" y="1916"/>
                  </a:lnTo>
                  <a:lnTo>
                    <a:pt x="1571" y="1921"/>
                  </a:lnTo>
                  <a:lnTo>
                    <a:pt x="1564" y="1928"/>
                  </a:lnTo>
                  <a:lnTo>
                    <a:pt x="1554" y="1933"/>
                  </a:lnTo>
                  <a:lnTo>
                    <a:pt x="1540" y="1932"/>
                  </a:lnTo>
                  <a:lnTo>
                    <a:pt x="1528" y="1932"/>
                  </a:lnTo>
                  <a:lnTo>
                    <a:pt x="1515" y="1932"/>
                  </a:lnTo>
                  <a:lnTo>
                    <a:pt x="1511" y="1923"/>
                  </a:lnTo>
                  <a:lnTo>
                    <a:pt x="1503" y="1919"/>
                  </a:lnTo>
                  <a:lnTo>
                    <a:pt x="1491" y="1922"/>
                  </a:lnTo>
                  <a:lnTo>
                    <a:pt x="1477" y="1925"/>
                  </a:lnTo>
                  <a:lnTo>
                    <a:pt x="1465" y="1928"/>
                  </a:lnTo>
                  <a:lnTo>
                    <a:pt x="1449" y="1926"/>
                  </a:lnTo>
                  <a:lnTo>
                    <a:pt x="1445" y="1932"/>
                  </a:lnTo>
                  <a:lnTo>
                    <a:pt x="1442" y="1941"/>
                  </a:lnTo>
                  <a:lnTo>
                    <a:pt x="1441" y="1950"/>
                  </a:lnTo>
                  <a:lnTo>
                    <a:pt x="1440" y="1960"/>
                  </a:lnTo>
                  <a:lnTo>
                    <a:pt x="1438" y="1970"/>
                  </a:lnTo>
                  <a:lnTo>
                    <a:pt x="1435" y="1979"/>
                  </a:lnTo>
                  <a:lnTo>
                    <a:pt x="1433" y="1988"/>
                  </a:lnTo>
                  <a:lnTo>
                    <a:pt x="1430" y="1997"/>
                  </a:lnTo>
                  <a:lnTo>
                    <a:pt x="1427" y="2006"/>
                  </a:lnTo>
                  <a:lnTo>
                    <a:pt x="1422" y="2006"/>
                  </a:lnTo>
                  <a:lnTo>
                    <a:pt x="1409" y="2010"/>
                  </a:lnTo>
                  <a:lnTo>
                    <a:pt x="1401" y="2017"/>
                  </a:lnTo>
                  <a:lnTo>
                    <a:pt x="1391" y="2023"/>
                  </a:lnTo>
                  <a:lnTo>
                    <a:pt x="1382" y="2027"/>
                  </a:lnTo>
                  <a:lnTo>
                    <a:pt x="1374" y="2030"/>
                  </a:lnTo>
                  <a:lnTo>
                    <a:pt x="1361" y="2028"/>
                  </a:lnTo>
                  <a:lnTo>
                    <a:pt x="1357" y="2037"/>
                  </a:lnTo>
                  <a:lnTo>
                    <a:pt x="1354" y="2047"/>
                  </a:lnTo>
                  <a:lnTo>
                    <a:pt x="1347" y="2049"/>
                  </a:lnTo>
                  <a:lnTo>
                    <a:pt x="1333" y="2046"/>
                  </a:lnTo>
                  <a:lnTo>
                    <a:pt x="1319" y="2045"/>
                  </a:lnTo>
                  <a:lnTo>
                    <a:pt x="1305" y="2045"/>
                  </a:lnTo>
                  <a:lnTo>
                    <a:pt x="1294" y="2042"/>
                  </a:lnTo>
                  <a:lnTo>
                    <a:pt x="1287" y="2036"/>
                  </a:lnTo>
                  <a:lnTo>
                    <a:pt x="1282" y="2026"/>
                  </a:lnTo>
                  <a:lnTo>
                    <a:pt x="1278" y="2016"/>
                  </a:lnTo>
                  <a:lnTo>
                    <a:pt x="1273" y="2007"/>
                  </a:lnTo>
                  <a:lnTo>
                    <a:pt x="1266" y="2002"/>
                  </a:lnTo>
                  <a:lnTo>
                    <a:pt x="1254" y="2008"/>
                  </a:lnTo>
                  <a:lnTo>
                    <a:pt x="1241" y="2012"/>
                  </a:lnTo>
                  <a:lnTo>
                    <a:pt x="1229" y="2014"/>
                  </a:lnTo>
                  <a:lnTo>
                    <a:pt x="1216" y="2017"/>
                  </a:lnTo>
                  <a:lnTo>
                    <a:pt x="1203" y="2019"/>
                  </a:lnTo>
                  <a:lnTo>
                    <a:pt x="1191" y="2019"/>
                  </a:lnTo>
                  <a:lnTo>
                    <a:pt x="1178" y="2018"/>
                  </a:lnTo>
                  <a:lnTo>
                    <a:pt x="1164" y="2017"/>
                  </a:lnTo>
                  <a:lnTo>
                    <a:pt x="1152" y="2016"/>
                  </a:lnTo>
                  <a:lnTo>
                    <a:pt x="1139" y="2014"/>
                  </a:lnTo>
                  <a:lnTo>
                    <a:pt x="1127" y="2011"/>
                  </a:lnTo>
                  <a:lnTo>
                    <a:pt x="1121" y="2003"/>
                  </a:lnTo>
                  <a:lnTo>
                    <a:pt x="1118" y="1992"/>
                  </a:lnTo>
                  <a:lnTo>
                    <a:pt x="1115" y="1983"/>
                  </a:lnTo>
                  <a:lnTo>
                    <a:pt x="1108" y="1978"/>
                  </a:lnTo>
                  <a:lnTo>
                    <a:pt x="1094" y="1979"/>
                  </a:lnTo>
                  <a:lnTo>
                    <a:pt x="1079" y="1982"/>
                  </a:lnTo>
                  <a:lnTo>
                    <a:pt x="1069" y="1987"/>
                  </a:lnTo>
                  <a:lnTo>
                    <a:pt x="1066" y="1996"/>
                  </a:lnTo>
                  <a:lnTo>
                    <a:pt x="1068" y="2008"/>
                  </a:lnTo>
                  <a:lnTo>
                    <a:pt x="1065" y="2016"/>
                  </a:lnTo>
                  <a:lnTo>
                    <a:pt x="1057" y="2016"/>
                  </a:lnTo>
                  <a:lnTo>
                    <a:pt x="1044" y="2014"/>
                  </a:lnTo>
                  <a:lnTo>
                    <a:pt x="1031" y="2011"/>
                  </a:lnTo>
                  <a:lnTo>
                    <a:pt x="1018" y="2006"/>
                  </a:lnTo>
                  <a:lnTo>
                    <a:pt x="1005" y="2001"/>
                  </a:lnTo>
                  <a:lnTo>
                    <a:pt x="995" y="1995"/>
                  </a:lnTo>
                  <a:lnTo>
                    <a:pt x="987" y="1986"/>
                  </a:lnTo>
                  <a:lnTo>
                    <a:pt x="980" y="1976"/>
                  </a:lnTo>
                  <a:lnTo>
                    <a:pt x="973" y="1969"/>
                  </a:lnTo>
                  <a:lnTo>
                    <a:pt x="963" y="1965"/>
                  </a:lnTo>
                  <a:lnTo>
                    <a:pt x="952" y="1965"/>
                  </a:lnTo>
                  <a:lnTo>
                    <a:pt x="939" y="1966"/>
                  </a:lnTo>
                  <a:lnTo>
                    <a:pt x="928" y="1968"/>
                  </a:lnTo>
                  <a:lnTo>
                    <a:pt x="915" y="1970"/>
                  </a:lnTo>
                  <a:lnTo>
                    <a:pt x="901" y="1973"/>
                  </a:lnTo>
                  <a:lnTo>
                    <a:pt x="889" y="1976"/>
                  </a:lnTo>
                  <a:lnTo>
                    <a:pt x="876" y="1980"/>
                  </a:lnTo>
                  <a:lnTo>
                    <a:pt x="862" y="1983"/>
                  </a:lnTo>
                  <a:lnTo>
                    <a:pt x="850" y="1986"/>
                  </a:lnTo>
                  <a:lnTo>
                    <a:pt x="837" y="1989"/>
                  </a:lnTo>
                  <a:lnTo>
                    <a:pt x="825" y="1991"/>
                  </a:lnTo>
                  <a:lnTo>
                    <a:pt x="812" y="1994"/>
                  </a:lnTo>
                  <a:lnTo>
                    <a:pt x="799" y="1997"/>
                  </a:lnTo>
                  <a:lnTo>
                    <a:pt x="787" y="1997"/>
                  </a:lnTo>
                  <a:lnTo>
                    <a:pt x="773" y="1992"/>
                  </a:lnTo>
                  <a:lnTo>
                    <a:pt x="769" y="1993"/>
                  </a:lnTo>
                  <a:lnTo>
                    <a:pt x="753" y="1987"/>
                  </a:lnTo>
                  <a:lnTo>
                    <a:pt x="742" y="1983"/>
                  </a:lnTo>
                  <a:lnTo>
                    <a:pt x="732" y="1977"/>
                  </a:lnTo>
                  <a:lnTo>
                    <a:pt x="721" y="1971"/>
                  </a:lnTo>
                  <a:lnTo>
                    <a:pt x="716" y="1964"/>
                  </a:lnTo>
                  <a:lnTo>
                    <a:pt x="717" y="1955"/>
                  </a:lnTo>
                  <a:lnTo>
                    <a:pt x="718" y="1946"/>
                  </a:lnTo>
                  <a:lnTo>
                    <a:pt x="721" y="1936"/>
                  </a:lnTo>
                  <a:lnTo>
                    <a:pt x="724" y="1927"/>
                  </a:lnTo>
                  <a:lnTo>
                    <a:pt x="727" y="1918"/>
                  </a:lnTo>
                  <a:lnTo>
                    <a:pt x="730" y="1909"/>
                  </a:lnTo>
                  <a:lnTo>
                    <a:pt x="732" y="1899"/>
                  </a:lnTo>
                  <a:lnTo>
                    <a:pt x="734" y="1890"/>
                  </a:lnTo>
                  <a:lnTo>
                    <a:pt x="737" y="1881"/>
                  </a:lnTo>
                  <a:lnTo>
                    <a:pt x="738" y="1872"/>
                  </a:lnTo>
                  <a:lnTo>
                    <a:pt x="739" y="1861"/>
                  </a:lnTo>
                  <a:lnTo>
                    <a:pt x="739" y="1852"/>
                  </a:lnTo>
                  <a:lnTo>
                    <a:pt x="737" y="1844"/>
                  </a:lnTo>
                  <a:lnTo>
                    <a:pt x="730" y="1835"/>
                  </a:lnTo>
                  <a:lnTo>
                    <a:pt x="724" y="1827"/>
                  </a:lnTo>
                  <a:lnTo>
                    <a:pt x="718" y="1818"/>
                  </a:lnTo>
                  <a:lnTo>
                    <a:pt x="714" y="1809"/>
                  </a:lnTo>
                  <a:lnTo>
                    <a:pt x="707" y="1801"/>
                  </a:lnTo>
                  <a:lnTo>
                    <a:pt x="700" y="1794"/>
                  </a:lnTo>
                  <a:lnTo>
                    <a:pt x="695" y="1785"/>
                  </a:lnTo>
                  <a:lnTo>
                    <a:pt x="692" y="1776"/>
                  </a:lnTo>
                  <a:lnTo>
                    <a:pt x="688" y="1768"/>
                  </a:lnTo>
                  <a:lnTo>
                    <a:pt x="674" y="1768"/>
                  </a:lnTo>
                  <a:lnTo>
                    <a:pt x="660" y="1767"/>
                  </a:lnTo>
                  <a:lnTo>
                    <a:pt x="646" y="1767"/>
                  </a:lnTo>
                  <a:lnTo>
                    <a:pt x="630" y="1767"/>
                  </a:lnTo>
                  <a:lnTo>
                    <a:pt x="618" y="1768"/>
                  </a:lnTo>
                  <a:lnTo>
                    <a:pt x="605" y="1770"/>
                  </a:lnTo>
                  <a:lnTo>
                    <a:pt x="597" y="1774"/>
                  </a:lnTo>
                  <a:lnTo>
                    <a:pt x="590" y="1781"/>
                  </a:lnTo>
                  <a:lnTo>
                    <a:pt x="587" y="1791"/>
                  </a:lnTo>
                  <a:lnTo>
                    <a:pt x="587" y="1802"/>
                  </a:lnTo>
                  <a:lnTo>
                    <a:pt x="587" y="1813"/>
                  </a:lnTo>
                  <a:lnTo>
                    <a:pt x="586" y="1824"/>
                  </a:lnTo>
                  <a:lnTo>
                    <a:pt x="583" y="1832"/>
                  </a:lnTo>
                  <a:lnTo>
                    <a:pt x="576" y="1838"/>
                  </a:lnTo>
                  <a:lnTo>
                    <a:pt x="566" y="1840"/>
                  </a:lnTo>
                  <a:lnTo>
                    <a:pt x="555" y="1841"/>
                  </a:lnTo>
                  <a:lnTo>
                    <a:pt x="542" y="1841"/>
                  </a:lnTo>
                  <a:lnTo>
                    <a:pt x="528" y="1839"/>
                  </a:lnTo>
                  <a:lnTo>
                    <a:pt x="514" y="1837"/>
                  </a:lnTo>
                  <a:lnTo>
                    <a:pt x="499" y="1835"/>
                  </a:lnTo>
                  <a:lnTo>
                    <a:pt x="485" y="1834"/>
                  </a:lnTo>
                  <a:lnTo>
                    <a:pt x="471" y="1832"/>
                  </a:lnTo>
                  <a:lnTo>
                    <a:pt x="460" y="1833"/>
                  </a:lnTo>
                  <a:lnTo>
                    <a:pt x="456" y="1840"/>
                  </a:lnTo>
                  <a:lnTo>
                    <a:pt x="443" y="1837"/>
                  </a:lnTo>
                  <a:lnTo>
                    <a:pt x="430" y="1832"/>
                  </a:lnTo>
                  <a:lnTo>
                    <a:pt x="419" y="1828"/>
                  </a:lnTo>
                  <a:lnTo>
                    <a:pt x="407" y="1823"/>
                  </a:lnTo>
                  <a:lnTo>
                    <a:pt x="394" y="1818"/>
                  </a:lnTo>
                  <a:lnTo>
                    <a:pt x="384" y="1815"/>
                  </a:lnTo>
                  <a:lnTo>
                    <a:pt x="379" y="1822"/>
                  </a:lnTo>
                  <a:lnTo>
                    <a:pt x="372" y="1827"/>
                  </a:lnTo>
                  <a:lnTo>
                    <a:pt x="360" y="1822"/>
                  </a:lnTo>
                  <a:lnTo>
                    <a:pt x="349" y="1817"/>
                  </a:lnTo>
                  <a:lnTo>
                    <a:pt x="356" y="1812"/>
                  </a:lnTo>
                  <a:lnTo>
                    <a:pt x="359" y="1805"/>
                  </a:lnTo>
                  <a:lnTo>
                    <a:pt x="366" y="1798"/>
                  </a:lnTo>
                  <a:lnTo>
                    <a:pt x="358" y="1790"/>
                  </a:lnTo>
                  <a:lnTo>
                    <a:pt x="348" y="1783"/>
                  </a:lnTo>
                  <a:lnTo>
                    <a:pt x="340" y="1781"/>
                  </a:lnTo>
                  <a:lnTo>
                    <a:pt x="331" y="1780"/>
                  </a:lnTo>
                  <a:lnTo>
                    <a:pt x="323" y="1773"/>
                  </a:lnTo>
                  <a:lnTo>
                    <a:pt x="312" y="1766"/>
                  </a:lnTo>
                  <a:lnTo>
                    <a:pt x="303" y="1760"/>
                  </a:lnTo>
                  <a:lnTo>
                    <a:pt x="305" y="1751"/>
                  </a:lnTo>
                  <a:lnTo>
                    <a:pt x="313" y="1742"/>
                  </a:lnTo>
                  <a:lnTo>
                    <a:pt x="320" y="1739"/>
                  </a:lnTo>
                  <a:lnTo>
                    <a:pt x="327" y="1731"/>
                  </a:lnTo>
                  <a:lnTo>
                    <a:pt x="340" y="1726"/>
                  </a:lnTo>
                  <a:lnTo>
                    <a:pt x="344" y="1721"/>
                  </a:lnTo>
                  <a:lnTo>
                    <a:pt x="356" y="1719"/>
                  </a:lnTo>
                  <a:lnTo>
                    <a:pt x="370" y="1721"/>
                  </a:lnTo>
                  <a:lnTo>
                    <a:pt x="372" y="1713"/>
                  </a:lnTo>
                  <a:lnTo>
                    <a:pt x="372" y="1704"/>
                  </a:lnTo>
                  <a:lnTo>
                    <a:pt x="370" y="1694"/>
                  </a:lnTo>
                  <a:lnTo>
                    <a:pt x="370" y="1684"/>
                  </a:lnTo>
                  <a:lnTo>
                    <a:pt x="370" y="1675"/>
                  </a:lnTo>
                  <a:lnTo>
                    <a:pt x="369" y="1665"/>
                  </a:lnTo>
                  <a:lnTo>
                    <a:pt x="369" y="1656"/>
                  </a:lnTo>
                  <a:lnTo>
                    <a:pt x="370" y="1647"/>
                  </a:lnTo>
                  <a:lnTo>
                    <a:pt x="370" y="1638"/>
                  </a:lnTo>
                  <a:lnTo>
                    <a:pt x="372" y="1630"/>
                  </a:lnTo>
                  <a:lnTo>
                    <a:pt x="398" y="1628"/>
                  </a:lnTo>
                  <a:lnTo>
                    <a:pt x="411" y="1627"/>
                  </a:lnTo>
                  <a:lnTo>
                    <a:pt x="414" y="1620"/>
                  </a:lnTo>
                  <a:lnTo>
                    <a:pt x="416" y="1613"/>
                  </a:lnTo>
                  <a:lnTo>
                    <a:pt x="412" y="1604"/>
                  </a:lnTo>
                  <a:lnTo>
                    <a:pt x="409" y="1595"/>
                  </a:lnTo>
                  <a:lnTo>
                    <a:pt x="401" y="1592"/>
                  </a:lnTo>
                  <a:lnTo>
                    <a:pt x="394" y="1583"/>
                  </a:lnTo>
                  <a:lnTo>
                    <a:pt x="405" y="1579"/>
                  </a:lnTo>
                  <a:lnTo>
                    <a:pt x="408" y="1571"/>
                  </a:lnTo>
                  <a:lnTo>
                    <a:pt x="404" y="1562"/>
                  </a:lnTo>
                  <a:lnTo>
                    <a:pt x="404" y="1547"/>
                  </a:lnTo>
                  <a:lnTo>
                    <a:pt x="404" y="1538"/>
                  </a:lnTo>
                  <a:lnTo>
                    <a:pt x="404" y="1529"/>
                  </a:lnTo>
                  <a:lnTo>
                    <a:pt x="409" y="1521"/>
                  </a:lnTo>
                  <a:lnTo>
                    <a:pt x="411" y="1512"/>
                  </a:lnTo>
                  <a:lnTo>
                    <a:pt x="415" y="1503"/>
                  </a:lnTo>
                  <a:lnTo>
                    <a:pt x="422" y="1497"/>
                  </a:lnTo>
                  <a:lnTo>
                    <a:pt x="426" y="1488"/>
                  </a:lnTo>
                  <a:lnTo>
                    <a:pt x="428" y="1479"/>
                  </a:lnTo>
                  <a:lnTo>
                    <a:pt x="428" y="1471"/>
                  </a:lnTo>
                  <a:lnTo>
                    <a:pt x="422" y="1462"/>
                  </a:lnTo>
                  <a:lnTo>
                    <a:pt x="428" y="1456"/>
                  </a:lnTo>
                  <a:lnTo>
                    <a:pt x="437" y="1451"/>
                  </a:lnTo>
                  <a:lnTo>
                    <a:pt x="425" y="1452"/>
                  </a:lnTo>
                  <a:lnTo>
                    <a:pt x="412" y="1450"/>
                  </a:lnTo>
                  <a:lnTo>
                    <a:pt x="404" y="1443"/>
                  </a:lnTo>
                  <a:lnTo>
                    <a:pt x="395" y="1436"/>
                  </a:lnTo>
                  <a:lnTo>
                    <a:pt x="388" y="1428"/>
                  </a:lnTo>
                  <a:lnTo>
                    <a:pt x="380" y="1421"/>
                  </a:lnTo>
                  <a:lnTo>
                    <a:pt x="372" y="1414"/>
                  </a:lnTo>
                  <a:lnTo>
                    <a:pt x="363" y="1405"/>
                  </a:lnTo>
                  <a:lnTo>
                    <a:pt x="358" y="1396"/>
                  </a:lnTo>
                  <a:lnTo>
                    <a:pt x="358" y="1387"/>
                  </a:lnTo>
                  <a:lnTo>
                    <a:pt x="356" y="1378"/>
                  </a:lnTo>
                  <a:lnTo>
                    <a:pt x="356" y="1368"/>
                  </a:lnTo>
                  <a:lnTo>
                    <a:pt x="355" y="1359"/>
                  </a:lnTo>
                  <a:lnTo>
                    <a:pt x="353" y="1350"/>
                  </a:lnTo>
                  <a:lnTo>
                    <a:pt x="352" y="1340"/>
                  </a:lnTo>
                  <a:lnTo>
                    <a:pt x="351" y="1331"/>
                  </a:lnTo>
                  <a:lnTo>
                    <a:pt x="351" y="1322"/>
                  </a:lnTo>
                  <a:lnTo>
                    <a:pt x="349" y="1313"/>
                  </a:lnTo>
                  <a:lnTo>
                    <a:pt x="349" y="1303"/>
                  </a:lnTo>
                  <a:lnTo>
                    <a:pt x="351" y="1293"/>
                  </a:lnTo>
                  <a:lnTo>
                    <a:pt x="351" y="1283"/>
                  </a:lnTo>
                  <a:lnTo>
                    <a:pt x="352" y="1274"/>
                  </a:lnTo>
                  <a:lnTo>
                    <a:pt x="351" y="1265"/>
                  </a:lnTo>
                  <a:lnTo>
                    <a:pt x="348" y="1258"/>
                  </a:lnTo>
                  <a:lnTo>
                    <a:pt x="333" y="1258"/>
                  </a:lnTo>
                  <a:lnTo>
                    <a:pt x="333" y="1250"/>
                  </a:lnTo>
                  <a:lnTo>
                    <a:pt x="334" y="1241"/>
                  </a:lnTo>
                  <a:lnTo>
                    <a:pt x="335" y="1232"/>
                  </a:lnTo>
                  <a:lnTo>
                    <a:pt x="338" y="1223"/>
                  </a:lnTo>
                  <a:lnTo>
                    <a:pt x="340" y="1213"/>
                  </a:lnTo>
                  <a:lnTo>
                    <a:pt x="342" y="1203"/>
                  </a:lnTo>
                  <a:lnTo>
                    <a:pt x="344" y="1194"/>
                  </a:lnTo>
                  <a:lnTo>
                    <a:pt x="344" y="1184"/>
                  </a:lnTo>
                  <a:lnTo>
                    <a:pt x="341" y="1174"/>
                  </a:lnTo>
                  <a:lnTo>
                    <a:pt x="340" y="1165"/>
                  </a:lnTo>
                  <a:lnTo>
                    <a:pt x="344" y="1159"/>
                  </a:lnTo>
                  <a:lnTo>
                    <a:pt x="358" y="1158"/>
                  </a:lnTo>
                  <a:lnTo>
                    <a:pt x="372" y="1159"/>
                  </a:lnTo>
                  <a:lnTo>
                    <a:pt x="363" y="1132"/>
                  </a:lnTo>
                  <a:lnTo>
                    <a:pt x="359" y="1123"/>
                  </a:lnTo>
                  <a:lnTo>
                    <a:pt x="359" y="1114"/>
                  </a:lnTo>
                  <a:lnTo>
                    <a:pt x="359" y="1104"/>
                  </a:lnTo>
                  <a:lnTo>
                    <a:pt x="358" y="1095"/>
                  </a:lnTo>
                  <a:lnTo>
                    <a:pt x="356" y="1086"/>
                  </a:lnTo>
                  <a:lnTo>
                    <a:pt x="351" y="1077"/>
                  </a:lnTo>
                  <a:lnTo>
                    <a:pt x="353" y="1068"/>
                  </a:lnTo>
                  <a:lnTo>
                    <a:pt x="356" y="1059"/>
                  </a:lnTo>
                  <a:lnTo>
                    <a:pt x="359" y="1050"/>
                  </a:lnTo>
                  <a:lnTo>
                    <a:pt x="362" y="1041"/>
                  </a:lnTo>
                  <a:lnTo>
                    <a:pt x="366" y="1032"/>
                  </a:lnTo>
                  <a:lnTo>
                    <a:pt x="369" y="1023"/>
                  </a:lnTo>
                  <a:lnTo>
                    <a:pt x="372" y="989"/>
                  </a:lnTo>
                  <a:lnTo>
                    <a:pt x="355" y="980"/>
                  </a:lnTo>
                  <a:lnTo>
                    <a:pt x="344" y="975"/>
                  </a:lnTo>
                  <a:lnTo>
                    <a:pt x="334" y="969"/>
                  </a:lnTo>
                  <a:lnTo>
                    <a:pt x="323" y="964"/>
                  </a:lnTo>
                  <a:lnTo>
                    <a:pt x="265" y="966"/>
                  </a:lnTo>
                  <a:lnTo>
                    <a:pt x="253" y="966"/>
                  </a:lnTo>
                  <a:lnTo>
                    <a:pt x="239" y="967"/>
                  </a:lnTo>
                  <a:lnTo>
                    <a:pt x="226" y="968"/>
                  </a:lnTo>
                  <a:lnTo>
                    <a:pt x="214" y="968"/>
                  </a:lnTo>
                  <a:lnTo>
                    <a:pt x="201" y="969"/>
                  </a:lnTo>
                  <a:lnTo>
                    <a:pt x="190" y="964"/>
                  </a:lnTo>
                  <a:lnTo>
                    <a:pt x="184" y="954"/>
                  </a:lnTo>
                  <a:lnTo>
                    <a:pt x="179" y="944"/>
                  </a:lnTo>
                  <a:lnTo>
                    <a:pt x="173" y="936"/>
                  </a:lnTo>
                  <a:lnTo>
                    <a:pt x="165" y="929"/>
                  </a:lnTo>
                  <a:lnTo>
                    <a:pt x="155" y="923"/>
                  </a:lnTo>
                  <a:lnTo>
                    <a:pt x="144" y="919"/>
                  </a:lnTo>
                  <a:lnTo>
                    <a:pt x="133" y="914"/>
                  </a:lnTo>
                  <a:lnTo>
                    <a:pt x="123" y="908"/>
                  </a:lnTo>
                  <a:lnTo>
                    <a:pt x="114" y="900"/>
                  </a:lnTo>
                  <a:lnTo>
                    <a:pt x="105" y="893"/>
                  </a:lnTo>
                  <a:lnTo>
                    <a:pt x="95" y="887"/>
                  </a:lnTo>
                  <a:lnTo>
                    <a:pt x="85" y="891"/>
                  </a:lnTo>
                  <a:lnTo>
                    <a:pt x="75" y="898"/>
                  </a:lnTo>
                  <a:lnTo>
                    <a:pt x="63" y="901"/>
                  </a:lnTo>
                  <a:lnTo>
                    <a:pt x="50" y="903"/>
                  </a:lnTo>
                  <a:lnTo>
                    <a:pt x="39" y="907"/>
                  </a:lnTo>
                  <a:lnTo>
                    <a:pt x="35" y="896"/>
                  </a:lnTo>
                  <a:lnTo>
                    <a:pt x="31" y="887"/>
                  </a:lnTo>
                  <a:lnTo>
                    <a:pt x="26" y="878"/>
                  </a:lnTo>
                  <a:lnTo>
                    <a:pt x="24" y="869"/>
                  </a:lnTo>
                  <a:lnTo>
                    <a:pt x="24" y="860"/>
                  </a:lnTo>
                  <a:lnTo>
                    <a:pt x="22" y="850"/>
                  </a:lnTo>
                  <a:lnTo>
                    <a:pt x="19" y="841"/>
                  </a:lnTo>
                  <a:lnTo>
                    <a:pt x="15" y="832"/>
                  </a:lnTo>
                  <a:lnTo>
                    <a:pt x="12" y="823"/>
                  </a:lnTo>
                  <a:lnTo>
                    <a:pt x="10" y="814"/>
                  </a:lnTo>
                  <a:lnTo>
                    <a:pt x="4" y="806"/>
                  </a:lnTo>
                  <a:lnTo>
                    <a:pt x="0" y="797"/>
                  </a:lnTo>
                  <a:lnTo>
                    <a:pt x="1" y="789"/>
                  </a:lnTo>
                  <a:lnTo>
                    <a:pt x="12" y="783"/>
                  </a:lnTo>
                  <a:lnTo>
                    <a:pt x="22" y="776"/>
                  </a:lnTo>
                  <a:lnTo>
                    <a:pt x="32" y="770"/>
                  </a:lnTo>
                  <a:lnTo>
                    <a:pt x="42" y="764"/>
                  </a:lnTo>
                  <a:lnTo>
                    <a:pt x="52" y="757"/>
                  </a:lnTo>
                  <a:lnTo>
                    <a:pt x="57" y="749"/>
                  </a:lnTo>
                  <a:lnTo>
                    <a:pt x="63" y="741"/>
                  </a:lnTo>
                  <a:lnTo>
                    <a:pt x="68" y="732"/>
                  </a:lnTo>
                  <a:lnTo>
                    <a:pt x="74" y="724"/>
                  </a:lnTo>
                  <a:lnTo>
                    <a:pt x="82" y="716"/>
                  </a:lnTo>
                  <a:lnTo>
                    <a:pt x="93" y="710"/>
                  </a:lnTo>
                  <a:lnTo>
                    <a:pt x="103" y="707"/>
                  </a:lnTo>
                  <a:lnTo>
                    <a:pt x="116" y="712"/>
                  </a:lnTo>
                  <a:lnTo>
                    <a:pt x="126" y="718"/>
                  </a:lnTo>
                  <a:lnTo>
                    <a:pt x="131" y="711"/>
                  </a:lnTo>
                  <a:lnTo>
                    <a:pt x="141" y="716"/>
                  </a:lnTo>
                  <a:lnTo>
                    <a:pt x="154" y="719"/>
                  </a:lnTo>
                  <a:lnTo>
                    <a:pt x="168" y="721"/>
                  </a:lnTo>
                  <a:lnTo>
                    <a:pt x="180" y="721"/>
                  </a:lnTo>
                  <a:lnTo>
                    <a:pt x="191" y="719"/>
                  </a:lnTo>
                  <a:lnTo>
                    <a:pt x="204" y="715"/>
                  </a:lnTo>
                  <a:lnTo>
                    <a:pt x="216" y="712"/>
                  </a:lnTo>
                  <a:lnTo>
                    <a:pt x="229" y="708"/>
                  </a:lnTo>
                  <a:lnTo>
                    <a:pt x="240" y="705"/>
                  </a:lnTo>
                  <a:lnTo>
                    <a:pt x="253" y="701"/>
                  </a:lnTo>
                  <a:lnTo>
                    <a:pt x="264" y="696"/>
                  </a:lnTo>
                  <a:lnTo>
                    <a:pt x="270" y="688"/>
                  </a:lnTo>
                  <a:lnTo>
                    <a:pt x="271" y="679"/>
                  </a:lnTo>
                  <a:lnTo>
                    <a:pt x="274" y="670"/>
                  </a:lnTo>
                  <a:lnTo>
                    <a:pt x="286" y="666"/>
                  </a:lnTo>
                  <a:lnTo>
                    <a:pt x="298" y="670"/>
                  </a:lnTo>
                  <a:lnTo>
                    <a:pt x="310" y="672"/>
                  </a:lnTo>
                  <a:lnTo>
                    <a:pt x="323" y="674"/>
                  </a:lnTo>
                  <a:lnTo>
                    <a:pt x="337" y="674"/>
                  </a:lnTo>
                  <a:lnTo>
                    <a:pt x="349" y="674"/>
                  </a:lnTo>
                  <a:lnTo>
                    <a:pt x="362" y="671"/>
                  </a:lnTo>
                  <a:lnTo>
                    <a:pt x="372" y="665"/>
                  </a:lnTo>
                  <a:lnTo>
                    <a:pt x="393" y="665"/>
                  </a:lnTo>
                  <a:lnTo>
                    <a:pt x="398" y="670"/>
                  </a:lnTo>
                  <a:lnTo>
                    <a:pt x="408" y="676"/>
                  </a:lnTo>
                  <a:lnTo>
                    <a:pt x="419" y="681"/>
                  </a:lnTo>
                  <a:lnTo>
                    <a:pt x="430" y="687"/>
                  </a:lnTo>
                  <a:lnTo>
                    <a:pt x="442" y="692"/>
                  </a:lnTo>
                  <a:lnTo>
                    <a:pt x="451" y="699"/>
                  </a:lnTo>
                  <a:lnTo>
                    <a:pt x="463" y="699"/>
                  </a:lnTo>
                  <a:lnTo>
                    <a:pt x="472" y="695"/>
                  </a:lnTo>
                  <a:lnTo>
                    <a:pt x="484" y="688"/>
                  </a:lnTo>
                  <a:lnTo>
                    <a:pt x="493" y="682"/>
                  </a:lnTo>
                  <a:lnTo>
                    <a:pt x="504" y="676"/>
                  </a:lnTo>
                  <a:lnTo>
                    <a:pt x="516" y="672"/>
                  </a:lnTo>
                  <a:lnTo>
                    <a:pt x="528" y="669"/>
                  </a:lnTo>
                  <a:lnTo>
                    <a:pt x="539" y="672"/>
                  </a:lnTo>
                  <a:lnTo>
                    <a:pt x="552" y="675"/>
                  </a:lnTo>
                  <a:lnTo>
                    <a:pt x="565" y="675"/>
                  </a:lnTo>
                  <a:lnTo>
                    <a:pt x="572" y="668"/>
                  </a:lnTo>
                  <a:lnTo>
                    <a:pt x="579" y="659"/>
                  </a:lnTo>
                  <a:lnTo>
                    <a:pt x="588" y="655"/>
                  </a:lnTo>
                  <a:lnTo>
                    <a:pt x="598" y="649"/>
                  </a:lnTo>
                  <a:lnTo>
                    <a:pt x="604" y="641"/>
                  </a:lnTo>
                  <a:lnTo>
                    <a:pt x="615" y="635"/>
                  </a:lnTo>
                  <a:lnTo>
                    <a:pt x="619" y="627"/>
                  </a:lnTo>
                  <a:lnTo>
                    <a:pt x="626" y="619"/>
                  </a:lnTo>
                  <a:lnTo>
                    <a:pt x="630" y="611"/>
                  </a:lnTo>
                  <a:lnTo>
                    <a:pt x="632" y="602"/>
                  </a:lnTo>
                  <a:lnTo>
                    <a:pt x="632" y="592"/>
                  </a:lnTo>
                  <a:lnTo>
                    <a:pt x="629" y="583"/>
                  </a:lnTo>
                  <a:lnTo>
                    <a:pt x="616" y="581"/>
                  </a:lnTo>
                  <a:lnTo>
                    <a:pt x="604" y="582"/>
                  </a:lnTo>
                  <a:lnTo>
                    <a:pt x="591" y="580"/>
                  </a:lnTo>
                  <a:lnTo>
                    <a:pt x="587" y="574"/>
                  </a:lnTo>
                  <a:lnTo>
                    <a:pt x="598" y="571"/>
                  </a:lnTo>
                  <a:lnTo>
                    <a:pt x="611" y="576"/>
                  </a:lnTo>
                  <a:lnTo>
                    <a:pt x="623" y="578"/>
                  </a:lnTo>
                  <a:lnTo>
                    <a:pt x="627" y="571"/>
                  </a:lnTo>
                  <a:lnTo>
                    <a:pt x="625" y="561"/>
                  </a:lnTo>
                  <a:lnTo>
                    <a:pt x="618" y="554"/>
                  </a:lnTo>
                  <a:lnTo>
                    <a:pt x="607" y="549"/>
                  </a:lnTo>
                  <a:lnTo>
                    <a:pt x="608" y="543"/>
                  </a:lnTo>
                  <a:lnTo>
                    <a:pt x="611" y="542"/>
                  </a:lnTo>
                  <a:lnTo>
                    <a:pt x="597" y="538"/>
                  </a:lnTo>
                  <a:lnTo>
                    <a:pt x="588" y="532"/>
                  </a:lnTo>
                  <a:lnTo>
                    <a:pt x="593" y="522"/>
                  </a:lnTo>
                  <a:lnTo>
                    <a:pt x="595" y="514"/>
                  </a:lnTo>
                  <a:lnTo>
                    <a:pt x="595" y="504"/>
                  </a:lnTo>
                  <a:lnTo>
                    <a:pt x="598" y="495"/>
                  </a:lnTo>
                  <a:lnTo>
                    <a:pt x="601" y="487"/>
                  </a:lnTo>
                  <a:lnTo>
                    <a:pt x="602" y="478"/>
                  </a:lnTo>
                  <a:lnTo>
                    <a:pt x="594" y="470"/>
                  </a:lnTo>
                  <a:lnTo>
                    <a:pt x="584" y="465"/>
                  </a:lnTo>
                  <a:lnTo>
                    <a:pt x="574" y="463"/>
                  </a:lnTo>
                  <a:lnTo>
                    <a:pt x="576" y="455"/>
                  </a:lnTo>
                  <a:lnTo>
                    <a:pt x="579" y="445"/>
                  </a:lnTo>
                  <a:lnTo>
                    <a:pt x="581" y="435"/>
                  </a:lnTo>
                  <a:lnTo>
                    <a:pt x="584" y="426"/>
                  </a:lnTo>
                  <a:lnTo>
                    <a:pt x="587" y="417"/>
                  </a:lnTo>
                  <a:lnTo>
                    <a:pt x="604" y="417"/>
                  </a:lnTo>
                  <a:lnTo>
                    <a:pt x="612" y="424"/>
                  </a:lnTo>
                  <a:lnTo>
                    <a:pt x="620" y="418"/>
                  </a:lnTo>
                  <a:lnTo>
                    <a:pt x="622" y="408"/>
                  </a:lnTo>
                  <a:lnTo>
                    <a:pt x="625" y="399"/>
                  </a:lnTo>
                  <a:lnTo>
                    <a:pt x="634" y="394"/>
                  </a:lnTo>
                  <a:lnTo>
                    <a:pt x="647" y="389"/>
                  </a:lnTo>
                  <a:lnTo>
                    <a:pt x="657" y="384"/>
                  </a:lnTo>
                  <a:lnTo>
                    <a:pt x="669" y="379"/>
                  </a:lnTo>
                  <a:lnTo>
                    <a:pt x="682" y="377"/>
                  </a:lnTo>
                  <a:lnTo>
                    <a:pt x="688" y="384"/>
                  </a:lnTo>
                  <a:lnTo>
                    <a:pt x="689" y="394"/>
                  </a:lnTo>
                  <a:lnTo>
                    <a:pt x="689" y="403"/>
                  </a:lnTo>
                  <a:lnTo>
                    <a:pt x="689" y="412"/>
                  </a:lnTo>
                  <a:lnTo>
                    <a:pt x="700" y="414"/>
                  </a:lnTo>
                  <a:lnTo>
                    <a:pt x="713" y="413"/>
                  </a:lnTo>
                  <a:lnTo>
                    <a:pt x="727" y="413"/>
                  </a:lnTo>
                  <a:lnTo>
                    <a:pt x="739" y="412"/>
                  </a:lnTo>
                  <a:lnTo>
                    <a:pt x="752" y="412"/>
                  </a:lnTo>
                  <a:lnTo>
                    <a:pt x="766" y="411"/>
                  </a:lnTo>
                  <a:lnTo>
                    <a:pt x="778" y="411"/>
                  </a:lnTo>
                  <a:lnTo>
                    <a:pt x="790" y="408"/>
                  </a:lnTo>
                  <a:lnTo>
                    <a:pt x="780" y="400"/>
                  </a:lnTo>
                  <a:lnTo>
                    <a:pt x="774" y="393"/>
                  </a:lnTo>
                  <a:lnTo>
                    <a:pt x="787" y="391"/>
                  </a:lnTo>
                  <a:lnTo>
                    <a:pt x="795" y="386"/>
                  </a:lnTo>
                  <a:lnTo>
                    <a:pt x="808" y="382"/>
                  </a:lnTo>
                  <a:lnTo>
                    <a:pt x="819" y="378"/>
                  </a:lnTo>
                  <a:lnTo>
                    <a:pt x="829" y="372"/>
                  </a:lnTo>
                  <a:lnTo>
                    <a:pt x="839" y="365"/>
                  </a:lnTo>
                  <a:lnTo>
                    <a:pt x="848" y="361"/>
                  </a:lnTo>
                  <a:lnTo>
                    <a:pt x="848" y="352"/>
                  </a:lnTo>
                  <a:lnTo>
                    <a:pt x="855" y="343"/>
                  </a:lnTo>
                  <a:lnTo>
                    <a:pt x="865" y="347"/>
                  </a:lnTo>
                  <a:lnTo>
                    <a:pt x="878" y="350"/>
                  </a:lnTo>
                  <a:lnTo>
                    <a:pt x="879" y="357"/>
                  </a:lnTo>
                  <a:lnTo>
                    <a:pt x="890" y="352"/>
                  </a:lnTo>
                  <a:lnTo>
                    <a:pt x="886" y="343"/>
                  </a:lnTo>
                  <a:lnTo>
                    <a:pt x="875" y="338"/>
                  </a:lnTo>
                  <a:lnTo>
                    <a:pt x="864" y="333"/>
                  </a:lnTo>
                  <a:lnTo>
                    <a:pt x="853" y="328"/>
                  </a:lnTo>
                  <a:lnTo>
                    <a:pt x="851" y="320"/>
                  </a:lnTo>
                  <a:lnTo>
                    <a:pt x="857" y="311"/>
                  </a:lnTo>
                  <a:lnTo>
                    <a:pt x="861" y="303"/>
                  </a:lnTo>
                  <a:lnTo>
                    <a:pt x="867" y="294"/>
                  </a:lnTo>
                  <a:lnTo>
                    <a:pt x="860" y="291"/>
                  </a:lnTo>
                  <a:lnTo>
                    <a:pt x="857" y="286"/>
                  </a:lnTo>
                  <a:lnTo>
                    <a:pt x="860" y="277"/>
                  </a:lnTo>
                  <a:lnTo>
                    <a:pt x="857" y="268"/>
                  </a:lnTo>
                  <a:lnTo>
                    <a:pt x="848" y="261"/>
                  </a:lnTo>
                  <a:lnTo>
                    <a:pt x="850" y="253"/>
                  </a:lnTo>
                  <a:lnTo>
                    <a:pt x="851" y="244"/>
                  </a:lnTo>
                  <a:lnTo>
                    <a:pt x="864" y="240"/>
                  </a:lnTo>
                  <a:lnTo>
                    <a:pt x="876" y="239"/>
                  </a:lnTo>
                  <a:lnTo>
                    <a:pt x="889" y="237"/>
                  </a:lnTo>
                  <a:lnTo>
                    <a:pt x="894" y="232"/>
                  </a:lnTo>
                  <a:lnTo>
                    <a:pt x="886" y="225"/>
                  </a:lnTo>
                  <a:lnTo>
                    <a:pt x="882" y="216"/>
                  </a:lnTo>
                  <a:lnTo>
                    <a:pt x="878" y="208"/>
                  </a:lnTo>
                  <a:lnTo>
                    <a:pt x="871" y="200"/>
                  </a:lnTo>
                  <a:lnTo>
                    <a:pt x="867" y="191"/>
                  </a:lnTo>
                  <a:lnTo>
                    <a:pt x="860" y="183"/>
                  </a:lnTo>
                  <a:lnTo>
                    <a:pt x="862" y="176"/>
                  </a:lnTo>
                  <a:lnTo>
                    <a:pt x="871" y="170"/>
                  </a:lnTo>
                  <a:lnTo>
                    <a:pt x="881" y="163"/>
                  </a:lnTo>
                  <a:lnTo>
                    <a:pt x="890" y="157"/>
                  </a:lnTo>
                  <a:lnTo>
                    <a:pt x="900" y="150"/>
                  </a:lnTo>
                  <a:lnTo>
                    <a:pt x="910" y="144"/>
                  </a:lnTo>
                  <a:lnTo>
                    <a:pt x="920" y="138"/>
                  </a:lnTo>
                  <a:lnTo>
                    <a:pt x="931" y="132"/>
                  </a:lnTo>
                  <a:lnTo>
                    <a:pt x="941" y="127"/>
                  </a:lnTo>
                  <a:lnTo>
                    <a:pt x="952" y="122"/>
                  </a:lnTo>
                  <a:lnTo>
                    <a:pt x="966" y="123"/>
                  </a:lnTo>
                  <a:lnTo>
                    <a:pt x="976" y="122"/>
                  </a:lnTo>
                  <a:lnTo>
                    <a:pt x="983" y="114"/>
                  </a:lnTo>
                  <a:lnTo>
                    <a:pt x="991" y="107"/>
                  </a:lnTo>
                  <a:lnTo>
                    <a:pt x="1002" y="104"/>
                  </a:lnTo>
                  <a:lnTo>
                    <a:pt x="1011" y="98"/>
                  </a:lnTo>
                  <a:lnTo>
                    <a:pt x="1020" y="92"/>
                  </a:lnTo>
                  <a:lnTo>
                    <a:pt x="1033" y="95"/>
                  </a:lnTo>
                  <a:lnTo>
                    <a:pt x="1045" y="98"/>
                  </a:lnTo>
                  <a:lnTo>
                    <a:pt x="1048" y="88"/>
                  </a:lnTo>
                  <a:lnTo>
                    <a:pt x="1051" y="79"/>
                  </a:lnTo>
                  <a:lnTo>
                    <a:pt x="1055" y="70"/>
                  </a:lnTo>
                  <a:lnTo>
                    <a:pt x="1061" y="62"/>
                  </a:lnTo>
                  <a:lnTo>
                    <a:pt x="1065" y="53"/>
                  </a:lnTo>
                  <a:lnTo>
                    <a:pt x="1071" y="45"/>
                  </a:lnTo>
                  <a:lnTo>
                    <a:pt x="1078" y="37"/>
                  </a:lnTo>
                  <a:lnTo>
                    <a:pt x="1083" y="27"/>
                  </a:lnTo>
                  <a:lnTo>
                    <a:pt x="1086" y="18"/>
                  </a:lnTo>
                  <a:lnTo>
                    <a:pt x="1090" y="9"/>
                  </a:lnTo>
                  <a:lnTo>
                    <a:pt x="1100" y="3"/>
                  </a:lnTo>
                  <a:lnTo>
                    <a:pt x="1113" y="0"/>
                  </a:lnTo>
                  <a:lnTo>
                    <a:pt x="113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75000" y="3675240"/>
              <a:ext cx="1430280" cy="2025360"/>
            </a:xfrm>
            <a:custGeom>
              <a:avLst/>
              <a:gdLst/>
              <a:ahLst/>
              <a:rect l="l" t="t" r="r" b="b"/>
              <a:pathLst>
                <a:path w="2702" h="2554">
                  <a:moveTo>
                    <a:pt x="335" y="219"/>
                  </a:moveTo>
                  <a:lnTo>
                    <a:pt x="344" y="212"/>
                  </a:lnTo>
                  <a:lnTo>
                    <a:pt x="349" y="204"/>
                  </a:lnTo>
                  <a:lnTo>
                    <a:pt x="353" y="195"/>
                  </a:lnTo>
                  <a:lnTo>
                    <a:pt x="349" y="185"/>
                  </a:lnTo>
                  <a:lnTo>
                    <a:pt x="341" y="179"/>
                  </a:lnTo>
                  <a:lnTo>
                    <a:pt x="331" y="172"/>
                  </a:lnTo>
                  <a:lnTo>
                    <a:pt x="321" y="166"/>
                  </a:lnTo>
                  <a:lnTo>
                    <a:pt x="314" y="158"/>
                  </a:lnTo>
                  <a:lnTo>
                    <a:pt x="313" y="149"/>
                  </a:lnTo>
                  <a:lnTo>
                    <a:pt x="321" y="147"/>
                  </a:lnTo>
                  <a:lnTo>
                    <a:pt x="334" y="149"/>
                  </a:lnTo>
                  <a:lnTo>
                    <a:pt x="346" y="151"/>
                  </a:lnTo>
                  <a:lnTo>
                    <a:pt x="359" y="154"/>
                  </a:lnTo>
                  <a:lnTo>
                    <a:pt x="372" y="156"/>
                  </a:lnTo>
                  <a:lnTo>
                    <a:pt x="384" y="158"/>
                  </a:lnTo>
                  <a:lnTo>
                    <a:pt x="397" y="161"/>
                  </a:lnTo>
                  <a:lnTo>
                    <a:pt x="409" y="162"/>
                  </a:lnTo>
                  <a:lnTo>
                    <a:pt x="423" y="163"/>
                  </a:lnTo>
                  <a:lnTo>
                    <a:pt x="436" y="165"/>
                  </a:lnTo>
                  <a:lnTo>
                    <a:pt x="446" y="169"/>
                  </a:lnTo>
                  <a:lnTo>
                    <a:pt x="447" y="179"/>
                  </a:lnTo>
                  <a:lnTo>
                    <a:pt x="460" y="181"/>
                  </a:lnTo>
                  <a:lnTo>
                    <a:pt x="472" y="185"/>
                  </a:lnTo>
                  <a:lnTo>
                    <a:pt x="483" y="188"/>
                  </a:lnTo>
                  <a:lnTo>
                    <a:pt x="497" y="190"/>
                  </a:lnTo>
                  <a:lnTo>
                    <a:pt x="509" y="195"/>
                  </a:lnTo>
                  <a:lnTo>
                    <a:pt x="520" y="199"/>
                  </a:lnTo>
                  <a:lnTo>
                    <a:pt x="532" y="204"/>
                  </a:lnTo>
                  <a:lnTo>
                    <a:pt x="539" y="202"/>
                  </a:lnTo>
                  <a:lnTo>
                    <a:pt x="551" y="198"/>
                  </a:lnTo>
                  <a:lnTo>
                    <a:pt x="563" y="194"/>
                  </a:lnTo>
                  <a:lnTo>
                    <a:pt x="576" y="190"/>
                  </a:lnTo>
                  <a:lnTo>
                    <a:pt x="587" y="185"/>
                  </a:lnTo>
                  <a:lnTo>
                    <a:pt x="591" y="177"/>
                  </a:lnTo>
                  <a:lnTo>
                    <a:pt x="594" y="167"/>
                  </a:lnTo>
                  <a:lnTo>
                    <a:pt x="595" y="158"/>
                  </a:lnTo>
                  <a:lnTo>
                    <a:pt x="597" y="149"/>
                  </a:lnTo>
                  <a:lnTo>
                    <a:pt x="604" y="142"/>
                  </a:lnTo>
                  <a:lnTo>
                    <a:pt x="616" y="139"/>
                  </a:lnTo>
                  <a:lnTo>
                    <a:pt x="629" y="136"/>
                  </a:lnTo>
                  <a:lnTo>
                    <a:pt x="641" y="134"/>
                  </a:lnTo>
                  <a:lnTo>
                    <a:pt x="667" y="128"/>
                  </a:lnTo>
                  <a:lnTo>
                    <a:pt x="672" y="120"/>
                  </a:lnTo>
                  <a:lnTo>
                    <a:pt x="678" y="111"/>
                  </a:lnTo>
                  <a:lnTo>
                    <a:pt x="683" y="103"/>
                  </a:lnTo>
                  <a:lnTo>
                    <a:pt x="693" y="97"/>
                  </a:lnTo>
                  <a:lnTo>
                    <a:pt x="704" y="92"/>
                  </a:lnTo>
                  <a:lnTo>
                    <a:pt x="714" y="86"/>
                  </a:lnTo>
                  <a:lnTo>
                    <a:pt x="724" y="80"/>
                  </a:lnTo>
                  <a:lnTo>
                    <a:pt x="736" y="80"/>
                  </a:lnTo>
                  <a:lnTo>
                    <a:pt x="750" y="79"/>
                  </a:lnTo>
                  <a:lnTo>
                    <a:pt x="764" y="78"/>
                  </a:lnTo>
                  <a:lnTo>
                    <a:pt x="777" y="77"/>
                  </a:lnTo>
                  <a:lnTo>
                    <a:pt x="791" y="77"/>
                  </a:lnTo>
                  <a:lnTo>
                    <a:pt x="802" y="78"/>
                  </a:lnTo>
                  <a:lnTo>
                    <a:pt x="809" y="87"/>
                  </a:lnTo>
                  <a:lnTo>
                    <a:pt x="812" y="96"/>
                  </a:lnTo>
                  <a:lnTo>
                    <a:pt x="819" y="89"/>
                  </a:lnTo>
                  <a:lnTo>
                    <a:pt x="825" y="80"/>
                  </a:lnTo>
                  <a:lnTo>
                    <a:pt x="830" y="72"/>
                  </a:lnTo>
                  <a:lnTo>
                    <a:pt x="836" y="63"/>
                  </a:lnTo>
                  <a:lnTo>
                    <a:pt x="840" y="54"/>
                  </a:lnTo>
                  <a:lnTo>
                    <a:pt x="844" y="45"/>
                  </a:lnTo>
                  <a:lnTo>
                    <a:pt x="850" y="37"/>
                  </a:lnTo>
                  <a:lnTo>
                    <a:pt x="854" y="27"/>
                  </a:lnTo>
                  <a:lnTo>
                    <a:pt x="858" y="18"/>
                  </a:lnTo>
                  <a:lnTo>
                    <a:pt x="864" y="10"/>
                  </a:lnTo>
                  <a:lnTo>
                    <a:pt x="872" y="4"/>
                  </a:lnTo>
                  <a:lnTo>
                    <a:pt x="885" y="1"/>
                  </a:lnTo>
                  <a:lnTo>
                    <a:pt x="899" y="1"/>
                  </a:lnTo>
                  <a:lnTo>
                    <a:pt x="911" y="0"/>
                  </a:lnTo>
                  <a:lnTo>
                    <a:pt x="925" y="2"/>
                  </a:lnTo>
                  <a:lnTo>
                    <a:pt x="936" y="5"/>
                  </a:lnTo>
                  <a:lnTo>
                    <a:pt x="948" y="10"/>
                  </a:lnTo>
                  <a:lnTo>
                    <a:pt x="960" y="13"/>
                  </a:lnTo>
                  <a:lnTo>
                    <a:pt x="973" y="15"/>
                  </a:lnTo>
                  <a:lnTo>
                    <a:pt x="985" y="18"/>
                  </a:lnTo>
                  <a:lnTo>
                    <a:pt x="996" y="22"/>
                  </a:lnTo>
                  <a:lnTo>
                    <a:pt x="1009" y="25"/>
                  </a:lnTo>
                  <a:lnTo>
                    <a:pt x="1020" y="30"/>
                  </a:lnTo>
                  <a:lnTo>
                    <a:pt x="1030" y="36"/>
                  </a:lnTo>
                  <a:lnTo>
                    <a:pt x="1038" y="43"/>
                  </a:lnTo>
                  <a:lnTo>
                    <a:pt x="1047" y="50"/>
                  </a:lnTo>
                  <a:lnTo>
                    <a:pt x="1055" y="58"/>
                  </a:lnTo>
                  <a:lnTo>
                    <a:pt x="1068" y="70"/>
                  </a:lnTo>
                  <a:lnTo>
                    <a:pt x="1079" y="76"/>
                  </a:lnTo>
                  <a:lnTo>
                    <a:pt x="1087" y="83"/>
                  </a:lnTo>
                  <a:lnTo>
                    <a:pt x="1085" y="91"/>
                  </a:lnTo>
                  <a:lnTo>
                    <a:pt x="1068" y="105"/>
                  </a:lnTo>
                  <a:lnTo>
                    <a:pt x="1054" y="109"/>
                  </a:lnTo>
                  <a:lnTo>
                    <a:pt x="1051" y="118"/>
                  </a:lnTo>
                  <a:lnTo>
                    <a:pt x="1040" y="121"/>
                  </a:lnTo>
                  <a:lnTo>
                    <a:pt x="1033" y="128"/>
                  </a:lnTo>
                  <a:lnTo>
                    <a:pt x="1024" y="136"/>
                  </a:lnTo>
                  <a:lnTo>
                    <a:pt x="1019" y="144"/>
                  </a:lnTo>
                  <a:lnTo>
                    <a:pt x="1015" y="153"/>
                  </a:lnTo>
                  <a:lnTo>
                    <a:pt x="1009" y="162"/>
                  </a:lnTo>
                  <a:lnTo>
                    <a:pt x="1003" y="170"/>
                  </a:lnTo>
                  <a:lnTo>
                    <a:pt x="998" y="178"/>
                  </a:lnTo>
                  <a:lnTo>
                    <a:pt x="991" y="187"/>
                  </a:lnTo>
                  <a:lnTo>
                    <a:pt x="985" y="196"/>
                  </a:lnTo>
                  <a:lnTo>
                    <a:pt x="984" y="205"/>
                  </a:lnTo>
                  <a:lnTo>
                    <a:pt x="992" y="212"/>
                  </a:lnTo>
                  <a:lnTo>
                    <a:pt x="999" y="220"/>
                  </a:lnTo>
                  <a:lnTo>
                    <a:pt x="1006" y="228"/>
                  </a:lnTo>
                  <a:lnTo>
                    <a:pt x="1015" y="237"/>
                  </a:lnTo>
                  <a:lnTo>
                    <a:pt x="1024" y="245"/>
                  </a:lnTo>
                  <a:lnTo>
                    <a:pt x="1033" y="251"/>
                  </a:lnTo>
                  <a:lnTo>
                    <a:pt x="1040" y="249"/>
                  </a:lnTo>
                  <a:lnTo>
                    <a:pt x="1043" y="239"/>
                  </a:lnTo>
                  <a:lnTo>
                    <a:pt x="1050" y="230"/>
                  </a:lnTo>
                  <a:lnTo>
                    <a:pt x="1068" y="221"/>
                  </a:lnTo>
                  <a:lnTo>
                    <a:pt x="1080" y="218"/>
                  </a:lnTo>
                  <a:lnTo>
                    <a:pt x="1093" y="216"/>
                  </a:lnTo>
                  <a:lnTo>
                    <a:pt x="1106" y="214"/>
                  </a:lnTo>
                  <a:lnTo>
                    <a:pt x="1118" y="212"/>
                  </a:lnTo>
                  <a:lnTo>
                    <a:pt x="1132" y="211"/>
                  </a:lnTo>
                  <a:lnTo>
                    <a:pt x="1145" y="209"/>
                  </a:lnTo>
                  <a:lnTo>
                    <a:pt x="1154" y="204"/>
                  </a:lnTo>
                  <a:lnTo>
                    <a:pt x="1164" y="198"/>
                  </a:lnTo>
                  <a:lnTo>
                    <a:pt x="1175" y="192"/>
                  </a:lnTo>
                  <a:lnTo>
                    <a:pt x="1185" y="184"/>
                  </a:lnTo>
                  <a:lnTo>
                    <a:pt x="1195" y="178"/>
                  </a:lnTo>
                  <a:lnTo>
                    <a:pt x="1205" y="171"/>
                  </a:lnTo>
                  <a:lnTo>
                    <a:pt x="1215" y="165"/>
                  </a:lnTo>
                  <a:lnTo>
                    <a:pt x="1224" y="159"/>
                  </a:lnTo>
                  <a:lnTo>
                    <a:pt x="1234" y="153"/>
                  </a:lnTo>
                  <a:lnTo>
                    <a:pt x="1244" y="148"/>
                  </a:lnTo>
                  <a:lnTo>
                    <a:pt x="1254" y="145"/>
                  </a:lnTo>
                  <a:lnTo>
                    <a:pt x="1265" y="153"/>
                  </a:lnTo>
                  <a:lnTo>
                    <a:pt x="1276" y="157"/>
                  </a:lnTo>
                  <a:lnTo>
                    <a:pt x="1289" y="160"/>
                  </a:lnTo>
                  <a:lnTo>
                    <a:pt x="1301" y="163"/>
                  </a:lnTo>
                  <a:lnTo>
                    <a:pt x="1314" y="166"/>
                  </a:lnTo>
                  <a:lnTo>
                    <a:pt x="1326" y="165"/>
                  </a:lnTo>
                  <a:lnTo>
                    <a:pt x="1339" y="165"/>
                  </a:lnTo>
                  <a:lnTo>
                    <a:pt x="1345" y="157"/>
                  </a:lnTo>
                  <a:lnTo>
                    <a:pt x="1350" y="149"/>
                  </a:lnTo>
                  <a:lnTo>
                    <a:pt x="1356" y="140"/>
                  </a:lnTo>
                  <a:lnTo>
                    <a:pt x="1361" y="128"/>
                  </a:lnTo>
                  <a:lnTo>
                    <a:pt x="1366" y="119"/>
                  </a:lnTo>
                  <a:lnTo>
                    <a:pt x="1368" y="110"/>
                  </a:lnTo>
                  <a:lnTo>
                    <a:pt x="1370" y="101"/>
                  </a:lnTo>
                  <a:lnTo>
                    <a:pt x="1371" y="92"/>
                  </a:lnTo>
                  <a:lnTo>
                    <a:pt x="1374" y="82"/>
                  </a:lnTo>
                  <a:lnTo>
                    <a:pt x="1377" y="73"/>
                  </a:lnTo>
                  <a:lnTo>
                    <a:pt x="1382" y="65"/>
                  </a:lnTo>
                  <a:lnTo>
                    <a:pt x="1388" y="56"/>
                  </a:lnTo>
                  <a:lnTo>
                    <a:pt x="1392" y="47"/>
                  </a:lnTo>
                  <a:lnTo>
                    <a:pt x="1395" y="36"/>
                  </a:lnTo>
                  <a:lnTo>
                    <a:pt x="1399" y="29"/>
                  </a:lnTo>
                  <a:lnTo>
                    <a:pt x="1409" y="30"/>
                  </a:lnTo>
                  <a:lnTo>
                    <a:pt x="1421" y="33"/>
                  </a:lnTo>
                  <a:lnTo>
                    <a:pt x="1434" y="38"/>
                  </a:lnTo>
                  <a:lnTo>
                    <a:pt x="1447" y="43"/>
                  </a:lnTo>
                  <a:lnTo>
                    <a:pt x="1459" y="46"/>
                  </a:lnTo>
                  <a:lnTo>
                    <a:pt x="1472" y="48"/>
                  </a:lnTo>
                  <a:lnTo>
                    <a:pt x="1484" y="50"/>
                  </a:lnTo>
                  <a:lnTo>
                    <a:pt x="1498" y="51"/>
                  </a:lnTo>
                  <a:lnTo>
                    <a:pt x="1510" y="54"/>
                  </a:lnTo>
                  <a:lnTo>
                    <a:pt x="1522" y="52"/>
                  </a:lnTo>
                  <a:lnTo>
                    <a:pt x="1533" y="47"/>
                  </a:lnTo>
                  <a:lnTo>
                    <a:pt x="1543" y="41"/>
                  </a:lnTo>
                  <a:lnTo>
                    <a:pt x="1551" y="31"/>
                  </a:lnTo>
                  <a:lnTo>
                    <a:pt x="1558" y="24"/>
                  </a:lnTo>
                  <a:lnTo>
                    <a:pt x="1567" y="26"/>
                  </a:lnTo>
                  <a:lnTo>
                    <a:pt x="1574" y="34"/>
                  </a:lnTo>
                  <a:lnTo>
                    <a:pt x="1581" y="43"/>
                  </a:lnTo>
                  <a:lnTo>
                    <a:pt x="1586" y="53"/>
                  </a:lnTo>
                  <a:lnTo>
                    <a:pt x="1593" y="61"/>
                  </a:lnTo>
                  <a:lnTo>
                    <a:pt x="1600" y="69"/>
                  </a:lnTo>
                  <a:lnTo>
                    <a:pt x="1606" y="77"/>
                  </a:lnTo>
                  <a:lnTo>
                    <a:pt x="1613" y="85"/>
                  </a:lnTo>
                  <a:lnTo>
                    <a:pt x="1619" y="94"/>
                  </a:lnTo>
                  <a:lnTo>
                    <a:pt x="1624" y="102"/>
                  </a:lnTo>
                  <a:lnTo>
                    <a:pt x="1630" y="110"/>
                  </a:lnTo>
                  <a:lnTo>
                    <a:pt x="1633" y="119"/>
                  </a:lnTo>
                  <a:lnTo>
                    <a:pt x="1637" y="128"/>
                  </a:lnTo>
                  <a:lnTo>
                    <a:pt x="1640" y="137"/>
                  </a:lnTo>
                  <a:lnTo>
                    <a:pt x="1642" y="146"/>
                  </a:lnTo>
                  <a:lnTo>
                    <a:pt x="1647" y="155"/>
                  </a:lnTo>
                  <a:lnTo>
                    <a:pt x="1649" y="164"/>
                  </a:lnTo>
                  <a:lnTo>
                    <a:pt x="1652" y="174"/>
                  </a:lnTo>
                  <a:lnTo>
                    <a:pt x="1655" y="183"/>
                  </a:lnTo>
                  <a:lnTo>
                    <a:pt x="1659" y="193"/>
                  </a:lnTo>
                  <a:lnTo>
                    <a:pt x="1665" y="201"/>
                  </a:lnTo>
                  <a:lnTo>
                    <a:pt x="1673" y="208"/>
                  </a:lnTo>
                  <a:lnTo>
                    <a:pt x="1681" y="215"/>
                  </a:lnTo>
                  <a:lnTo>
                    <a:pt x="1690" y="223"/>
                  </a:lnTo>
                  <a:lnTo>
                    <a:pt x="1698" y="230"/>
                  </a:lnTo>
                  <a:lnTo>
                    <a:pt x="1705" y="237"/>
                  </a:lnTo>
                  <a:lnTo>
                    <a:pt x="1714" y="245"/>
                  </a:lnTo>
                  <a:lnTo>
                    <a:pt x="1722" y="252"/>
                  </a:lnTo>
                  <a:lnTo>
                    <a:pt x="1729" y="260"/>
                  </a:lnTo>
                  <a:lnTo>
                    <a:pt x="1737" y="267"/>
                  </a:lnTo>
                  <a:lnTo>
                    <a:pt x="1746" y="274"/>
                  </a:lnTo>
                  <a:lnTo>
                    <a:pt x="1754" y="281"/>
                  </a:lnTo>
                  <a:lnTo>
                    <a:pt x="1764" y="287"/>
                  </a:lnTo>
                  <a:lnTo>
                    <a:pt x="1775" y="293"/>
                  </a:lnTo>
                  <a:lnTo>
                    <a:pt x="1785" y="298"/>
                  </a:lnTo>
                  <a:lnTo>
                    <a:pt x="1796" y="303"/>
                  </a:lnTo>
                  <a:lnTo>
                    <a:pt x="1807" y="308"/>
                  </a:lnTo>
                  <a:lnTo>
                    <a:pt x="1818" y="313"/>
                  </a:lnTo>
                  <a:lnTo>
                    <a:pt x="1830" y="317"/>
                  </a:lnTo>
                  <a:lnTo>
                    <a:pt x="1841" y="322"/>
                  </a:lnTo>
                  <a:lnTo>
                    <a:pt x="1852" y="328"/>
                  </a:lnTo>
                  <a:lnTo>
                    <a:pt x="1862" y="334"/>
                  </a:lnTo>
                  <a:lnTo>
                    <a:pt x="1873" y="340"/>
                  </a:lnTo>
                  <a:lnTo>
                    <a:pt x="1883" y="347"/>
                  </a:lnTo>
                  <a:lnTo>
                    <a:pt x="1893" y="353"/>
                  </a:lnTo>
                  <a:lnTo>
                    <a:pt x="1904" y="359"/>
                  </a:lnTo>
                  <a:lnTo>
                    <a:pt x="1914" y="365"/>
                  </a:lnTo>
                  <a:lnTo>
                    <a:pt x="1923" y="371"/>
                  </a:lnTo>
                  <a:lnTo>
                    <a:pt x="1934" y="375"/>
                  </a:lnTo>
                  <a:lnTo>
                    <a:pt x="1946" y="379"/>
                  </a:lnTo>
                  <a:lnTo>
                    <a:pt x="1957" y="380"/>
                  </a:lnTo>
                  <a:lnTo>
                    <a:pt x="1968" y="375"/>
                  </a:lnTo>
                  <a:lnTo>
                    <a:pt x="1981" y="369"/>
                  </a:lnTo>
                  <a:lnTo>
                    <a:pt x="1992" y="366"/>
                  </a:lnTo>
                  <a:lnTo>
                    <a:pt x="2003" y="369"/>
                  </a:lnTo>
                  <a:lnTo>
                    <a:pt x="2014" y="374"/>
                  </a:lnTo>
                  <a:lnTo>
                    <a:pt x="2025" y="380"/>
                  </a:lnTo>
                  <a:lnTo>
                    <a:pt x="2037" y="386"/>
                  </a:lnTo>
                  <a:lnTo>
                    <a:pt x="2049" y="390"/>
                  </a:lnTo>
                  <a:lnTo>
                    <a:pt x="2063" y="389"/>
                  </a:lnTo>
                  <a:lnTo>
                    <a:pt x="2073" y="385"/>
                  </a:lnTo>
                  <a:lnTo>
                    <a:pt x="2078" y="376"/>
                  </a:lnTo>
                  <a:lnTo>
                    <a:pt x="2085" y="368"/>
                  </a:lnTo>
                  <a:lnTo>
                    <a:pt x="2091" y="359"/>
                  </a:lnTo>
                  <a:lnTo>
                    <a:pt x="2097" y="351"/>
                  </a:lnTo>
                  <a:lnTo>
                    <a:pt x="2101" y="342"/>
                  </a:lnTo>
                  <a:lnTo>
                    <a:pt x="2106" y="334"/>
                  </a:lnTo>
                  <a:lnTo>
                    <a:pt x="2109" y="325"/>
                  </a:lnTo>
                  <a:lnTo>
                    <a:pt x="2113" y="316"/>
                  </a:lnTo>
                  <a:lnTo>
                    <a:pt x="2119" y="305"/>
                  </a:lnTo>
                  <a:lnTo>
                    <a:pt x="2123" y="295"/>
                  </a:lnTo>
                  <a:lnTo>
                    <a:pt x="2129" y="287"/>
                  </a:lnTo>
                  <a:lnTo>
                    <a:pt x="2136" y="281"/>
                  </a:lnTo>
                  <a:lnTo>
                    <a:pt x="2144" y="279"/>
                  </a:lnTo>
                  <a:lnTo>
                    <a:pt x="2154" y="282"/>
                  </a:lnTo>
                  <a:lnTo>
                    <a:pt x="2165" y="289"/>
                  </a:lnTo>
                  <a:lnTo>
                    <a:pt x="2176" y="297"/>
                  </a:lnTo>
                  <a:lnTo>
                    <a:pt x="2188" y="303"/>
                  </a:lnTo>
                  <a:lnTo>
                    <a:pt x="2197" y="309"/>
                  </a:lnTo>
                  <a:lnTo>
                    <a:pt x="2210" y="314"/>
                  </a:lnTo>
                  <a:lnTo>
                    <a:pt x="2222" y="316"/>
                  </a:lnTo>
                  <a:lnTo>
                    <a:pt x="2232" y="321"/>
                  </a:lnTo>
                  <a:lnTo>
                    <a:pt x="2243" y="326"/>
                  </a:lnTo>
                  <a:lnTo>
                    <a:pt x="2256" y="329"/>
                  </a:lnTo>
                  <a:lnTo>
                    <a:pt x="2270" y="329"/>
                  </a:lnTo>
                  <a:lnTo>
                    <a:pt x="2283" y="329"/>
                  </a:lnTo>
                  <a:lnTo>
                    <a:pt x="2295" y="331"/>
                  </a:lnTo>
                  <a:lnTo>
                    <a:pt x="2306" y="335"/>
                  </a:lnTo>
                  <a:lnTo>
                    <a:pt x="2319" y="338"/>
                  </a:lnTo>
                  <a:lnTo>
                    <a:pt x="2333" y="343"/>
                  </a:lnTo>
                  <a:lnTo>
                    <a:pt x="2347" y="347"/>
                  </a:lnTo>
                  <a:lnTo>
                    <a:pt x="2351" y="344"/>
                  </a:lnTo>
                  <a:lnTo>
                    <a:pt x="2350" y="335"/>
                  </a:lnTo>
                  <a:lnTo>
                    <a:pt x="2347" y="325"/>
                  </a:lnTo>
                  <a:lnTo>
                    <a:pt x="2345" y="314"/>
                  </a:lnTo>
                  <a:lnTo>
                    <a:pt x="2347" y="305"/>
                  </a:lnTo>
                  <a:lnTo>
                    <a:pt x="2352" y="297"/>
                  </a:lnTo>
                  <a:lnTo>
                    <a:pt x="2361" y="289"/>
                  </a:lnTo>
                  <a:lnTo>
                    <a:pt x="2369" y="282"/>
                  </a:lnTo>
                  <a:lnTo>
                    <a:pt x="2379" y="275"/>
                  </a:lnTo>
                  <a:lnTo>
                    <a:pt x="2390" y="270"/>
                  </a:lnTo>
                  <a:lnTo>
                    <a:pt x="2401" y="265"/>
                  </a:lnTo>
                  <a:lnTo>
                    <a:pt x="2413" y="261"/>
                  </a:lnTo>
                  <a:lnTo>
                    <a:pt x="2425" y="258"/>
                  </a:lnTo>
                  <a:lnTo>
                    <a:pt x="2438" y="254"/>
                  </a:lnTo>
                  <a:lnTo>
                    <a:pt x="2450" y="251"/>
                  </a:lnTo>
                  <a:lnTo>
                    <a:pt x="2463" y="249"/>
                  </a:lnTo>
                  <a:lnTo>
                    <a:pt x="2475" y="247"/>
                  </a:lnTo>
                  <a:lnTo>
                    <a:pt x="2488" y="245"/>
                  </a:lnTo>
                  <a:lnTo>
                    <a:pt x="2501" y="242"/>
                  </a:lnTo>
                  <a:lnTo>
                    <a:pt x="2510" y="236"/>
                  </a:lnTo>
                  <a:lnTo>
                    <a:pt x="2522" y="232"/>
                  </a:lnTo>
                  <a:lnTo>
                    <a:pt x="2533" y="237"/>
                  </a:lnTo>
                  <a:lnTo>
                    <a:pt x="2544" y="243"/>
                  </a:lnTo>
                  <a:lnTo>
                    <a:pt x="2554" y="249"/>
                  </a:lnTo>
                  <a:lnTo>
                    <a:pt x="2569" y="255"/>
                  </a:lnTo>
                  <a:lnTo>
                    <a:pt x="2586" y="262"/>
                  </a:lnTo>
                  <a:lnTo>
                    <a:pt x="2597" y="267"/>
                  </a:lnTo>
                  <a:lnTo>
                    <a:pt x="2608" y="271"/>
                  </a:lnTo>
                  <a:lnTo>
                    <a:pt x="2619" y="276"/>
                  </a:lnTo>
                  <a:lnTo>
                    <a:pt x="2629" y="277"/>
                  </a:lnTo>
                  <a:lnTo>
                    <a:pt x="2639" y="283"/>
                  </a:lnTo>
                  <a:lnTo>
                    <a:pt x="2649" y="290"/>
                  </a:lnTo>
                  <a:lnTo>
                    <a:pt x="2659" y="298"/>
                  </a:lnTo>
                  <a:lnTo>
                    <a:pt x="2660" y="304"/>
                  </a:lnTo>
                  <a:lnTo>
                    <a:pt x="2647" y="309"/>
                  </a:lnTo>
                  <a:lnTo>
                    <a:pt x="2639" y="316"/>
                  </a:lnTo>
                  <a:lnTo>
                    <a:pt x="2638" y="325"/>
                  </a:lnTo>
                  <a:lnTo>
                    <a:pt x="2643" y="334"/>
                  </a:lnTo>
                  <a:lnTo>
                    <a:pt x="2650" y="341"/>
                  </a:lnTo>
                  <a:lnTo>
                    <a:pt x="2646" y="350"/>
                  </a:lnTo>
                  <a:lnTo>
                    <a:pt x="2635" y="354"/>
                  </a:lnTo>
                  <a:lnTo>
                    <a:pt x="2622" y="356"/>
                  </a:lnTo>
                  <a:lnTo>
                    <a:pt x="2608" y="358"/>
                  </a:lnTo>
                  <a:lnTo>
                    <a:pt x="2597" y="362"/>
                  </a:lnTo>
                  <a:lnTo>
                    <a:pt x="2592" y="370"/>
                  </a:lnTo>
                  <a:lnTo>
                    <a:pt x="2590" y="380"/>
                  </a:lnTo>
                  <a:lnTo>
                    <a:pt x="2593" y="389"/>
                  </a:lnTo>
                  <a:lnTo>
                    <a:pt x="2599" y="397"/>
                  </a:lnTo>
                  <a:lnTo>
                    <a:pt x="2610" y="397"/>
                  </a:lnTo>
                  <a:lnTo>
                    <a:pt x="2619" y="390"/>
                  </a:lnTo>
                  <a:lnTo>
                    <a:pt x="2631" y="386"/>
                  </a:lnTo>
                  <a:lnTo>
                    <a:pt x="2645" y="386"/>
                  </a:lnTo>
                  <a:lnTo>
                    <a:pt x="2657" y="388"/>
                  </a:lnTo>
                  <a:lnTo>
                    <a:pt x="2670" y="390"/>
                  </a:lnTo>
                  <a:lnTo>
                    <a:pt x="2681" y="395"/>
                  </a:lnTo>
                  <a:lnTo>
                    <a:pt x="2689" y="402"/>
                  </a:lnTo>
                  <a:lnTo>
                    <a:pt x="2696" y="410"/>
                  </a:lnTo>
                  <a:lnTo>
                    <a:pt x="2701" y="419"/>
                  </a:lnTo>
                  <a:lnTo>
                    <a:pt x="2702" y="428"/>
                  </a:lnTo>
                  <a:lnTo>
                    <a:pt x="2702" y="438"/>
                  </a:lnTo>
                  <a:lnTo>
                    <a:pt x="2695" y="445"/>
                  </a:lnTo>
                  <a:lnTo>
                    <a:pt x="2685" y="452"/>
                  </a:lnTo>
                  <a:lnTo>
                    <a:pt x="2673" y="455"/>
                  </a:lnTo>
                  <a:lnTo>
                    <a:pt x="2660" y="457"/>
                  </a:lnTo>
                  <a:lnTo>
                    <a:pt x="2647" y="460"/>
                  </a:lnTo>
                  <a:lnTo>
                    <a:pt x="2635" y="462"/>
                  </a:lnTo>
                  <a:lnTo>
                    <a:pt x="2631" y="471"/>
                  </a:lnTo>
                  <a:lnTo>
                    <a:pt x="2631" y="480"/>
                  </a:lnTo>
                  <a:lnTo>
                    <a:pt x="2625" y="488"/>
                  </a:lnTo>
                  <a:lnTo>
                    <a:pt x="2615" y="494"/>
                  </a:lnTo>
                  <a:lnTo>
                    <a:pt x="2605" y="501"/>
                  </a:lnTo>
                  <a:lnTo>
                    <a:pt x="2596" y="507"/>
                  </a:lnTo>
                  <a:lnTo>
                    <a:pt x="2586" y="513"/>
                  </a:lnTo>
                  <a:lnTo>
                    <a:pt x="2578" y="520"/>
                  </a:lnTo>
                  <a:lnTo>
                    <a:pt x="2568" y="526"/>
                  </a:lnTo>
                  <a:lnTo>
                    <a:pt x="2555" y="529"/>
                  </a:lnTo>
                  <a:lnTo>
                    <a:pt x="2543" y="526"/>
                  </a:lnTo>
                  <a:lnTo>
                    <a:pt x="2536" y="519"/>
                  </a:lnTo>
                  <a:lnTo>
                    <a:pt x="2529" y="511"/>
                  </a:lnTo>
                  <a:lnTo>
                    <a:pt x="2516" y="511"/>
                  </a:lnTo>
                  <a:lnTo>
                    <a:pt x="2505" y="516"/>
                  </a:lnTo>
                  <a:lnTo>
                    <a:pt x="2498" y="524"/>
                  </a:lnTo>
                  <a:lnTo>
                    <a:pt x="2491" y="532"/>
                  </a:lnTo>
                  <a:lnTo>
                    <a:pt x="2485" y="540"/>
                  </a:lnTo>
                  <a:lnTo>
                    <a:pt x="2482" y="551"/>
                  </a:lnTo>
                  <a:lnTo>
                    <a:pt x="2480" y="560"/>
                  </a:lnTo>
                  <a:lnTo>
                    <a:pt x="2473" y="558"/>
                  </a:lnTo>
                  <a:lnTo>
                    <a:pt x="2464" y="550"/>
                  </a:lnTo>
                  <a:lnTo>
                    <a:pt x="2453" y="555"/>
                  </a:lnTo>
                  <a:lnTo>
                    <a:pt x="2445" y="562"/>
                  </a:lnTo>
                  <a:lnTo>
                    <a:pt x="2436" y="569"/>
                  </a:lnTo>
                  <a:lnTo>
                    <a:pt x="2428" y="576"/>
                  </a:lnTo>
                  <a:lnTo>
                    <a:pt x="2415" y="579"/>
                  </a:lnTo>
                  <a:lnTo>
                    <a:pt x="2401" y="579"/>
                  </a:lnTo>
                  <a:lnTo>
                    <a:pt x="2390" y="576"/>
                  </a:lnTo>
                  <a:lnTo>
                    <a:pt x="2379" y="571"/>
                  </a:lnTo>
                  <a:lnTo>
                    <a:pt x="2366" y="569"/>
                  </a:lnTo>
                  <a:lnTo>
                    <a:pt x="2371" y="574"/>
                  </a:lnTo>
                  <a:lnTo>
                    <a:pt x="2382" y="580"/>
                  </a:lnTo>
                  <a:lnTo>
                    <a:pt x="2390" y="587"/>
                  </a:lnTo>
                  <a:lnTo>
                    <a:pt x="2399" y="595"/>
                  </a:lnTo>
                  <a:lnTo>
                    <a:pt x="2406" y="603"/>
                  </a:lnTo>
                  <a:lnTo>
                    <a:pt x="2414" y="610"/>
                  </a:lnTo>
                  <a:lnTo>
                    <a:pt x="2425" y="614"/>
                  </a:lnTo>
                  <a:lnTo>
                    <a:pt x="2439" y="614"/>
                  </a:lnTo>
                  <a:lnTo>
                    <a:pt x="2452" y="613"/>
                  </a:lnTo>
                  <a:lnTo>
                    <a:pt x="2463" y="607"/>
                  </a:lnTo>
                  <a:lnTo>
                    <a:pt x="2471" y="605"/>
                  </a:lnTo>
                  <a:lnTo>
                    <a:pt x="2475" y="615"/>
                  </a:lnTo>
                  <a:lnTo>
                    <a:pt x="2467" y="622"/>
                  </a:lnTo>
                  <a:lnTo>
                    <a:pt x="2455" y="624"/>
                  </a:lnTo>
                  <a:lnTo>
                    <a:pt x="2441" y="625"/>
                  </a:lnTo>
                  <a:lnTo>
                    <a:pt x="2428" y="626"/>
                  </a:lnTo>
                  <a:lnTo>
                    <a:pt x="2415" y="625"/>
                  </a:lnTo>
                  <a:lnTo>
                    <a:pt x="2403" y="626"/>
                  </a:lnTo>
                  <a:lnTo>
                    <a:pt x="2393" y="632"/>
                  </a:lnTo>
                  <a:lnTo>
                    <a:pt x="2390" y="642"/>
                  </a:lnTo>
                  <a:lnTo>
                    <a:pt x="2390" y="652"/>
                  </a:lnTo>
                  <a:lnTo>
                    <a:pt x="2396" y="661"/>
                  </a:lnTo>
                  <a:lnTo>
                    <a:pt x="2403" y="668"/>
                  </a:lnTo>
                  <a:lnTo>
                    <a:pt x="2413" y="675"/>
                  </a:lnTo>
                  <a:lnTo>
                    <a:pt x="2425" y="679"/>
                  </a:lnTo>
                  <a:lnTo>
                    <a:pt x="2435" y="684"/>
                  </a:lnTo>
                  <a:lnTo>
                    <a:pt x="2442" y="691"/>
                  </a:lnTo>
                  <a:lnTo>
                    <a:pt x="2455" y="693"/>
                  </a:lnTo>
                  <a:lnTo>
                    <a:pt x="2466" y="688"/>
                  </a:lnTo>
                  <a:lnTo>
                    <a:pt x="2470" y="679"/>
                  </a:lnTo>
                  <a:lnTo>
                    <a:pt x="2471" y="670"/>
                  </a:lnTo>
                  <a:lnTo>
                    <a:pt x="2466" y="662"/>
                  </a:lnTo>
                  <a:lnTo>
                    <a:pt x="2456" y="655"/>
                  </a:lnTo>
                  <a:lnTo>
                    <a:pt x="2450" y="646"/>
                  </a:lnTo>
                  <a:lnTo>
                    <a:pt x="2456" y="638"/>
                  </a:lnTo>
                  <a:lnTo>
                    <a:pt x="2468" y="634"/>
                  </a:lnTo>
                  <a:lnTo>
                    <a:pt x="2478" y="637"/>
                  </a:lnTo>
                  <a:lnTo>
                    <a:pt x="2484" y="646"/>
                  </a:lnTo>
                  <a:lnTo>
                    <a:pt x="2494" y="653"/>
                  </a:lnTo>
                  <a:lnTo>
                    <a:pt x="2506" y="656"/>
                  </a:lnTo>
                  <a:lnTo>
                    <a:pt x="2512" y="664"/>
                  </a:lnTo>
                  <a:lnTo>
                    <a:pt x="2510" y="673"/>
                  </a:lnTo>
                  <a:lnTo>
                    <a:pt x="2492" y="686"/>
                  </a:lnTo>
                  <a:lnTo>
                    <a:pt x="2484" y="693"/>
                  </a:lnTo>
                  <a:lnTo>
                    <a:pt x="2475" y="700"/>
                  </a:lnTo>
                  <a:lnTo>
                    <a:pt x="2466" y="707"/>
                  </a:lnTo>
                  <a:lnTo>
                    <a:pt x="2457" y="713"/>
                  </a:lnTo>
                  <a:lnTo>
                    <a:pt x="2448" y="720"/>
                  </a:lnTo>
                  <a:lnTo>
                    <a:pt x="2439" y="727"/>
                  </a:lnTo>
                  <a:lnTo>
                    <a:pt x="2427" y="743"/>
                  </a:lnTo>
                  <a:lnTo>
                    <a:pt x="2420" y="751"/>
                  </a:lnTo>
                  <a:lnTo>
                    <a:pt x="2414" y="759"/>
                  </a:lnTo>
                  <a:lnTo>
                    <a:pt x="2407" y="768"/>
                  </a:lnTo>
                  <a:lnTo>
                    <a:pt x="2400" y="775"/>
                  </a:lnTo>
                  <a:lnTo>
                    <a:pt x="2393" y="783"/>
                  </a:lnTo>
                  <a:lnTo>
                    <a:pt x="2385" y="790"/>
                  </a:lnTo>
                  <a:lnTo>
                    <a:pt x="2375" y="797"/>
                  </a:lnTo>
                  <a:lnTo>
                    <a:pt x="2366" y="804"/>
                  </a:lnTo>
                  <a:lnTo>
                    <a:pt x="2357" y="811"/>
                  </a:lnTo>
                  <a:lnTo>
                    <a:pt x="2348" y="818"/>
                  </a:lnTo>
                  <a:lnTo>
                    <a:pt x="2338" y="826"/>
                  </a:lnTo>
                  <a:lnTo>
                    <a:pt x="2330" y="833"/>
                  </a:lnTo>
                  <a:lnTo>
                    <a:pt x="2330" y="841"/>
                  </a:lnTo>
                  <a:lnTo>
                    <a:pt x="2337" y="847"/>
                  </a:lnTo>
                  <a:lnTo>
                    <a:pt x="2350" y="853"/>
                  </a:lnTo>
                  <a:lnTo>
                    <a:pt x="2361" y="860"/>
                  </a:lnTo>
                  <a:lnTo>
                    <a:pt x="2371" y="865"/>
                  </a:lnTo>
                  <a:lnTo>
                    <a:pt x="2382" y="871"/>
                  </a:lnTo>
                  <a:lnTo>
                    <a:pt x="2392" y="877"/>
                  </a:lnTo>
                  <a:lnTo>
                    <a:pt x="2401" y="883"/>
                  </a:lnTo>
                  <a:lnTo>
                    <a:pt x="2410" y="890"/>
                  </a:lnTo>
                  <a:lnTo>
                    <a:pt x="2414" y="899"/>
                  </a:lnTo>
                  <a:lnTo>
                    <a:pt x="2415" y="908"/>
                  </a:lnTo>
                  <a:lnTo>
                    <a:pt x="2415" y="918"/>
                  </a:lnTo>
                  <a:lnTo>
                    <a:pt x="2414" y="927"/>
                  </a:lnTo>
                  <a:lnTo>
                    <a:pt x="2410" y="936"/>
                  </a:lnTo>
                  <a:lnTo>
                    <a:pt x="2404" y="944"/>
                  </a:lnTo>
                  <a:lnTo>
                    <a:pt x="2397" y="952"/>
                  </a:lnTo>
                  <a:lnTo>
                    <a:pt x="2390" y="960"/>
                  </a:lnTo>
                  <a:lnTo>
                    <a:pt x="2382" y="968"/>
                  </a:lnTo>
                  <a:lnTo>
                    <a:pt x="2375" y="976"/>
                  </a:lnTo>
                  <a:lnTo>
                    <a:pt x="2369" y="984"/>
                  </a:lnTo>
                  <a:lnTo>
                    <a:pt x="2364" y="992"/>
                  </a:lnTo>
                  <a:lnTo>
                    <a:pt x="2361" y="1001"/>
                  </a:lnTo>
                  <a:lnTo>
                    <a:pt x="2358" y="1011"/>
                  </a:lnTo>
                  <a:lnTo>
                    <a:pt x="2357" y="1020"/>
                  </a:lnTo>
                  <a:lnTo>
                    <a:pt x="2361" y="1028"/>
                  </a:lnTo>
                  <a:lnTo>
                    <a:pt x="2372" y="1034"/>
                  </a:lnTo>
                  <a:lnTo>
                    <a:pt x="2375" y="1043"/>
                  </a:lnTo>
                  <a:lnTo>
                    <a:pt x="2378" y="1052"/>
                  </a:lnTo>
                  <a:lnTo>
                    <a:pt x="2379" y="1061"/>
                  </a:lnTo>
                  <a:lnTo>
                    <a:pt x="2380" y="1071"/>
                  </a:lnTo>
                  <a:lnTo>
                    <a:pt x="2382" y="1080"/>
                  </a:lnTo>
                  <a:lnTo>
                    <a:pt x="2376" y="1089"/>
                  </a:lnTo>
                  <a:lnTo>
                    <a:pt x="2378" y="1098"/>
                  </a:lnTo>
                  <a:lnTo>
                    <a:pt x="2383" y="1108"/>
                  </a:lnTo>
                  <a:lnTo>
                    <a:pt x="2385" y="1117"/>
                  </a:lnTo>
                  <a:lnTo>
                    <a:pt x="2379" y="1125"/>
                  </a:lnTo>
                  <a:lnTo>
                    <a:pt x="2372" y="1132"/>
                  </a:lnTo>
                  <a:lnTo>
                    <a:pt x="2364" y="1139"/>
                  </a:lnTo>
                  <a:lnTo>
                    <a:pt x="2354" y="1146"/>
                  </a:lnTo>
                  <a:lnTo>
                    <a:pt x="2344" y="1153"/>
                  </a:lnTo>
                  <a:lnTo>
                    <a:pt x="2334" y="1160"/>
                  </a:lnTo>
                  <a:lnTo>
                    <a:pt x="2326" y="1167"/>
                  </a:lnTo>
                  <a:lnTo>
                    <a:pt x="2319" y="1175"/>
                  </a:lnTo>
                  <a:lnTo>
                    <a:pt x="2312" y="1184"/>
                  </a:lnTo>
                  <a:lnTo>
                    <a:pt x="2305" y="1194"/>
                  </a:lnTo>
                  <a:lnTo>
                    <a:pt x="2298" y="1202"/>
                  </a:lnTo>
                  <a:lnTo>
                    <a:pt x="2290" y="1207"/>
                  </a:lnTo>
                  <a:lnTo>
                    <a:pt x="2280" y="1207"/>
                  </a:lnTo>
                  <a:lnTo>
                    <a:pt x="2270" y="1203"/>
                  </a:lnTo>
                  <a:lnTo>
                    <a:pt x="2260" y="1197"/>
                  </a:lnTo>
                  <a:lnTo>
                    <a:pt x="2249" y="1189"/>
                  </a:lnTo>
                  <a:lnTo>
                    <a:pt x="2239" y="1182"/>
                  </a:lnTo>
                  <a:lnTo>
                    <a:pt x="2228" y="1175"/>
                  </a:lnTo>
                  <a:lnTo>
                    <a:pt x="2218" y="1168"/>
                  </a:lnTo>
                  <a:lnTo>
                    <a:pt x="2208" y="1161"/>
                  </a:lnTo>
                  <a:lnTo>
                    <a:pt x="2199" y="1153"/>
                  </a:lnTo>
                  <a:lnTo>
                    <a:pt x="2188" y="1148"/>
                  </a:lnTo>
                  <a:lnTo>
                    <a:pt x="2178" y="1146"/>
                  </a:lnTo>
                  <a:lnTo>
                    <a:pt x="2167" y="1148"/>
                  </a:lnTo>
                  <a:lnTo>
                    <a:pt x="2155" y="1152"/>
                  </a:lnTo>
                  <a:lnTo>
                    <a:pt x="2144" y="1158"/>
                  </a:lnTo>
                  <a:lnTo>
                    <a:pt x="2133" y="1164"/>
                  </a:lnTo>
                  <a:lnTo>
                    <a:pt x="2122" y="1170"/>
                  </a:lnTo>
                  <a:lnTo>
                    <a:pt x="2111" y="1176"/>
                  </a:lnTo>
                  <a:lnTo>
                    <a:pt x="2099" y="1181"/>
                  </a:lnTo>
                  <a:lnTo>
                    <a:pt x="2088" y="1185"/>
                  </a:lnTo>
                  <a:lnTo>
                    <a:pt x="2077" y="1190"/>
                  </a:lnTo>
                  <a:lnTo>
                    <a:pt x="2066" y="1195"/>
                  </a:lnTo>
                  <a:lnTo>
                    <a:pt x="2055" y="1200"/>
                  </a:lnTo>
                  <a:lnTo>
                    <a:pt x="2044" y="1205"/>
                  </a:lnTo>
                  <a:lnTo>
                    <a:pt x="2032" y="1209"/>
                  </a:lnTo>
                  <a:lnTo>
                    <a:pt x="2021" y="1214"/>
                  </a:lnTo>
                  <a:lnTo>
                    <a:pt x="2010" y="1219"/>
                  </a:lnTo>
                  <a:lnTo>
                    <a:pt x="1997" y="1224"/>
                  </a:lnTo>
                  <a:lnTo>
                    <a:pt x="1983" y="1229"/>
                  </a:lnTo>
                  <a:lnTo>
                    <a:pt x="1971" y="1235"/>
                  </a:lnTo>
                  <a:lnTo>
                    <a:pt x="1962" y="1241"/>
                  </a:lnTo>
                  <a:lnTo>
                    <a:pt x="1960" y="1247"/>
                  </a:lnTo>
                  <a:lnTo>
                    <a:pt x="1964" y="1254"/>
                  </a:lnTo>
                  <a:lnTo>
                    <a:pt x="1971" y="1261"/>
                  </a:lnTo>
                  <a:lnTo>
                    <a:pt x="1982" y="1269"/>
                  </a:lnTo>
                  <a:lnTo>
                    <a:pt x="1993" y="1276"/>
                  </a:lnTo>
                  <a:lnTo>
                    <a:pt x="2002" y="1284"/>
                  </a:lnTo>
                  <a:lnTo>
                    <a:pt x="2010" y="1292"/>
                  </a:lnTo>
                  <a:lnTo>
                    <a:pt x="2020" y="1298"/>
                  </a:lnTo>
                  <a:lnTo>
                    <a:pt x="2031" y="1298"/>
                  </a:lnTo>
                  <a:lnTo>
                    <a:pt x="2045" y="1296"/>
                  </a:lnTo>
                  <a:lnTo>
                    <a:pt x="2058" y="1293"/>
                  </a:lnTo>
                  <a:lnTo>
                    <a:pt x="2071" y="1290"/>
                  </a:lnTo>
                  <a:lnTo>
                    <a:pt x="2084" y="1289"/>
                  </a:lnTo>
                  <a:lnTo>
                    <a:pt x="2097" y="1289"/>
                  </a:lnTo>
                  <a:lnTo>
                    <a:pt x="2108" y="1292"/>
                  </a:lnTo>
                  <a:lnTo>
                    <a:pt x="2118" y="1298"/>
                  </a:lnTo>
                  <a:lnTo>
                    <a:pt x="2127" y="1304"/>
                  </a:lnTo>
                  <a:lnTo>
                    <a:pt x="2136" y="1312"/>
                  </a:lnTo>
                  <a:lnTo>
                    <a:pt x="2153" y="1325"/>
                  </a:lnTo>
                  <a:lnTo>
                    <a:pt x="2171" y="1333"/>
                  </a:lnTo>
                  <a:lnTo>
                    <a:pt x="2181" y="1339"/>
                  </a:lnTo>
                  <a:lnTo>
                    <a:pt x="2189" y="1347"/>
                  </a:lnTo>
                  <a:lnTo>
                    <a:pt x="2195" y="1355"/>
                  </a:lnTo>
                  <a:lnTo>
                    <a:pt x="2200" y="1363"/>
                  </a:lnTo>
                  <a:lnTo>
                    <a:pt x="2203" y="1372"/>
                  </a:lnTo>
                  <a:lnTo>
                    <a:pt x="2204" y="1382"/>
                  </a:lnTo>
                  <a:lnTo>
                    <a:pt x="2201" y="1391"/>
                  </a:lnTo>
                  <a:lnTo>
                    <a:pt x="2196" y="1399"/>
                  </a:lnTo>
                  <a:lnTo>
                    <a:pt x="2188" y="1407"/>
                  </a:lnTo>
                  <a:lnTo>
                    <a:pt x="2178" y="1414"/>
                  </a:lnTo>
                  <a:lnTo>
                    <a:pt x="2168" y="1421"/>
                  </a:lnTo>
                  <a:lnTo>
                    <a:pt x="2165" y="1428"/>
                  </a:lnTo>
                  <a:lnTo>
                    <a:pt x="2172" y="1436"/>
                  </a:lnTo>
                  <a:lnTo>
                    <a:pt x="2182" y="1443"/>
                  </a:lnTo>
                  <a:lnTo>
                    <a:pt x="2190" y="1451"/>
                  </a:lnTo>
                  <a:lnTo>
                    <a:pt x="2196" y="1459"/>
                  </a:lnTo>
                  <a:lnTo>
                    <a:pt x="2197" y="1468"/>
                  </a:lnTo>
                  <a:lnTo>
                    <a:pt x="2196" y="1477"/>
                  </a:lnTo>
                  <a:lnTo>
                    <a:pt x="2193" y="1486"/>
                  </a:lnTo>
                  <a:lnTo>
                    <a:pt x="2192" y="1496"/>
                  </a:lnTo>
                  <a:lnTo>
                    <a:pt x="2185" y="1503"/>
                  </a:lnTo>
                  <a:lnTo>
                    <a:pt x="2175" y="1510"/>
                  </a:lnTo>
                  <a:lnTo>
                    <a:pt x="2171" y="1519"/>
                  </a:lnTo>
                  <a:lnTo>
                    <a:pt x="2167" y="1528"/>
                  </a:lnTo>
                  <a:lnTo>
                    <a:pt x="2164" y="1537"/>
                  </a:lnTo>
                  <a:lnTo>
                    <a:pt x="2161" y="1546"/>
                  </a:lnTo>
                  <a:lnTo>
                    <a:pt x="2157" y="1555"/>
                  </a:lnTo>
                  <a:lnTo>
                    <a:pt x="2148" y="1562"/>
                  </a:lnTo>
                  <a:lnTo>
                    <a:pt x="2137" y="1568"/>
                  </a:lnTo>
                  <a:lnTo>
                    <a:pt x="2125" y="1571"/>
                  </a:lnTo>
                  <a:lnTo>
                    <a:pt x="2115" y="1572"/>
                  </a:lnTo>
                  <a:lnTo>
                    <a:pt x="2102" y="1566"/>
                  </a:lnTo>
                  <a:lnTo>
                    <a:pt x="2091" y="1561"/>
                  </a:lnTo>
                  <a:lnTo>
                    <a:pt x="2080" y="1556"/>
                  </a:lnTo>
                  <a:lnTo>
                    <a:pt x="2067" y="1551"/>
                  </a:lnTo>
                  <a:lnTo>
                    <a:pt x="2056" y="1547"/>
                  </a:lnTo>
                  <a:lnTo>
                    <a:pt x="2045" y="1544"/>
                  </a:lnTo>
                  <a:lnTo>
                    <a:pt x="2035" y="1547"/>
                  </a:lnTo>
                  <a:lnTo>
                    <a:pt x="2025" y="1554"/>
                  </a:lnTo>
                  <a:lnTo>
                    <a:pt x="2016" y="1560"/>
                  </a:lnTo>
                  <a:lnTo>
                    <a:pt x="2006" y="1566"/>
                  </a:lnTo>
                  <a:lnTo>
                    <a:pt x="1996" y="1573"/>
                  </a:lnTo>
                  <a:lnTo>
                    <a:pt x="1986" y="1579"/>
                  </a:lnTo>
                  <a:lnTo>
                    <a:pt x="1975" y="1584"/>
                  </a:lnTo>
                  <a:lnTo>
                    <a:pt x="1964" y="1589"/>
                  </a:lnTo>
                  <a:lnTo>
                    <a:pt x="1954" y="1595"/>
                  </a:lnTo>
                  <a:lnTo>
                    <a:pt x="1943" y="1600"/>
                  </a:lnTo>
                  <a:lnTo>
                    <a:pt x="1932" y="1605"/>
                  </a:lnTo>
                  <a:lnTo>
                    <a:pt x="1921" y="1609"/>
                  </a:lnTo>
                  <a:lnTo>
                    <a:pt x="1909" y="1614"/>
                  </a:lnTo>
                  <a:lnTo>
                    <a:pt x="1898" y="1619"/>
                  </a:lnTo>
                  <a:lnTo>
                    <a:pt x="1887" y="1624"/>
                  </a:lnTo>
                  <a:lnTo>
                    <a:pt x="1877" y="1618"/>
                  </a:lnTo>
                  <a:lnTo>
                    <a:pt x="1869" y="1611"/>
                  </a:lnTo>
                  <a:lnTo>
                    <a:pt x="1858" y="1604"/>
                  </a:lnTo>
                  <a:lnTo>
                    <a:pt x="1848" y="1600"/>
                  </a:lnTo>
                  <a:lnTo>
                    <a:pt x="1835" y="1600"/>
                  </a:lnTo>
                  <a:lnTo>
                    <a:pt x="1823" y="1602"/>
                  </a:lnTo>
                  <a:lnTo>
                    <a:pt x="1809" y="1605"/>
                  </a:lnTo>
                  <a:lnTo>
                    <a:pt x="1796" y="1607"/>
                  </a:lnTo>
                  <a:lnTo>
                    <a:pt x="1784" y="1610"/>
                  </a:lnTo>
                  <a:lnTo>
                    <a:pt x="1772" y="1614"/>
                  </a:lnTo>
                  <a:lnTo>
                    <a:pt x="1760" y="1617"/>
                  </a:lnTo>
                  <a:lnTo>
                    <a:pt x="1747" y="1621"/>
                  </a:lnTo>
                  <a:lnTo>
                    <a:pt x="1736" y="1624"/>
                  </a:lnTo>
                  <a:lnTo>
                    <a:pt x="1723" y="1627"/>
                  </a:lnTo>
                  <a:lnTo>
                    <a:pt x="1712" y="1632"/>
                  </a:lnTo>
                  <a:lnTo>
                    <a:pt x="1719" y="1639"/>
                  </a:lnTo>
                  <a:lnTo>
                    <a:pt x="1722" y="1648"/>
                  </a:lnTo>
                  <a:lnTo>
                    <a:pt x="1725" y="1657"/>
                  </a:lnTo>
                  <a:lnTo>
                    <a:pt x="1732" y="1665"/>
                  </a:lnTo>
                  <a:lnTo>
                    <a:pt x="1742" y="1672"/>
                  </a:lnTo>
                  <a:lnTo>
                    <a:pt x="1750" y="1678"/>
                  </a:lnTo>
                  <a:lnTo>
                    <a:pt x="1757" y="1686"/>
                  </a:lnTo>
                  <a:lnTo>
                    <a:pt x="1764" y="1694"/>
                  </a:lnTo>
                  <a:lnTo>
                    <a:pt x="1770" y="1702"/>
                  </a:lnTo>
                  <a:lnTo>
                    <a:pt x="1777" y="1711"/>
                  </a:lnTo>
                  <a:lnTo>
                    <a:pt x="1779" y="1718"/>
                  </a:lnTo>
                  <a:lnTo>
                    <a:pt x="1770" y="1725"/>
                  </a:lnTo>
                  <a:lnTo>
                    <a:pt x="1763" y="1733"/>
                  </a:lnTo>
                  <a:lnTo>
                    <a:pt x="1754" y="1740"/>
                  </a:lnTo>
                  <a:lnTo>
                    <a:pt x="1746" y="1747"/>
                  </a:lnTo>
                  <a:lnTo>
                    <a:pt x="1737" y="1755"/>
                  </a:lnTo>
                  <a:lnTo>
                    <a:pt x="1729" y="1762"/>
                  </a:lnTo>
                  <a:lnTo>
                    <a:pt x="1721" y="1769"/>
                  </a:lnTo>
                  <a:lnTo>
                    <a:pt x="1709" y="1774"/>
                  </a:lnTo>
                  <a:lnTo>
                    <a:pt x="1701" y="1781"/>
                  </a:lnTo>
                  <a:lnTo>
                    <a:pt x="1694" y="1789"/>
                  </a:lnTo>
                  <a:lnTo>
                    <a:pt x="1690" y="1797"/>
                  </a:lnTo>
                  <a:lnTo>
                    <a:pt x="1683" y="1805"/>
                  </a:lnTo>
                  <a:lnTo>
                    <a:pt x="1688" y="1812"/>
                  </a:lnTo>
                  <a:lnTo>
                    <a:pt x="1698" y="1820"/>
                  </a:lnTo>
                  <a:lnTo>
                    <a:pt x="1705" y="1828"/>
                  </a:lnTo>
                  <a:lnTo>
                    <a:pt x="1714" y="1835"/>
                  </a:lnTo>
                  <a:lnTo>
                    <a:pt x="1721" y="1843"/>
                  </a:lnTo>
                  <a:lnTo>
                    <a:pt x="1729" y="1850"/>
                  </a:lnTo>
                  <a:lnTo>
                    <a:pt x="1736" y="1858"/>
                  </a:lnTo>
                  <a:lnTo>
                    <a:pt x="1743" y="1866"/>
                  </a:lnTo>
                  <a:lnTo>
                    <a:pt x="1750" y="1874"/>
                  </a:lnTo>
                  <a:lnTo>
                    <a:pt x="1757" y="1882"/>
                  </a:lnTo>
                  <a:lnTo>
                    <a:pt x="1764" y="1889"/>
                  </a:lnTo>
                  <a:lnTo>
                    <a:pt x="1771" y="1897"/>
                  </a:lnTo>
                  <a:lnTo>
                    <a:pt x="1778" y="1905"/>
                  </a:lnTo>
                  <a:lnTo>
                    <a:pt x="1785" y="1913"/>
                  </a:lnTo>
                  <a:lnTo>
                    <a:pt x="1785" y="1922"/>
                  </a:lnTo>
                  <a:lnTo>
                    <a:pt x="1789" y="1931"/>
                  </a:lnTo>
                  <a:lnTo>
                    <a:pt x="1793" y="1940"/>
                  </a:lnTo>
                  <a:lnTo>
                    <a:pt x="1793" y="1949"/>
                  </a:lnTo>
                  <a:lnTo>
                    <a:pt x="1807" y="1964"/>
                  </a:lnTo>
                  <a:lnTo>
                    <a:pt x="1797" y="1965"/>
                  </a:lnTo>
                  <a:lnTo>
                    <a:pt x="1786" y="1971"/>
                  </a:lnTo>
                  <a:lnTo>
                    <a:pt x="1781" y="1978"/>
                  </a:lnTo>
                  <a:lnTo>
                    <a:pt x="1768" y="1977"/>
                  </a:lnTo>
                  <a:lnTo>
                    <a:pt x="1757" y="1972"/>
                  </a:lnTo>
                  <a:lnTo>
                    <a:pt x="1749" y="1964"/>
                  </a:lnTo>
                  <a:lnTo>
                    <a:pt x="1746" y="1971"/>
                  </a:lnTo>
                  <a:lnTo>
                    <a:pt x="1737" y="1964"/>
                  </a:lnTo>
                  <a:lnTo>
                    <a:pt x="1729" y="1958"/>
                  </a:lnTo>
                  <a:lnTo>
                    <a:pt x="1721" y="1964"/>
                  </a:lnTo>
                  <a:lnTo>
                    <a:pt x="1711" y="1971"/>
                  </a:lnTo>
                  <a:lnTo>
                    <a:pt x="1702" y="1979"/>
                  </a:lnTo>
                  <a:lnTo>
                    <a:pt x="1694" y="1986"/>
                  </a:lnTo>
                  <a:lnTo>
                    <a:pt x="1684" y="1993"/>
                  </a:lnTo>
                  <a:lnTo>
                    <a:pt x="1674" y="1999"/>
                  </a:lnTo>
                  <a:lnTo>
                    <a:pt x="1663" y="2002"/>
                  </a:lnTo>
                  <a:lnTo>
                    <a:pt x="1651" y="2001"/>
                  </a:lnTo>
                  <a:lnTo>
                    <a:pt x="1638" y="1997"/>
                  </a:lnTo>
                  <a:lnTo>
                    <a:pt x="1624" y="1995"/>
                  </a:lnTo>
                  <a:lnTo>
                    <a:pt x="1612" y="1994"/>
                  </a:lnTo>
                  <a:lnTo>
                    <a:pt x="1599" y="1992"/>
                  </a:lnTo>
                  <a:lnTo>
                    <a:pt x="1586" y="1989"/>
                  </a:lnTo>
                  <a:lnTo>
                    <a:pt x="1574" y="1987"/>
                  </a:lnTo>
                  <a:lnTo>
                    <a:pt x="1561" y="1985"/>
                  </a:lnTo>
                  <a:lnTo>
                    <a:pt x="1549" y="1983"/>
                  </a:lnTo>
                  <a:lnTo>
                    <a:pt x="1536" y="1984"/>
                  </a:lnTo>
                  <a:lnTo>
                    <a:pt x="1530" y="1989"/>
                  </a:lnTo>
                  <a:lnTo>
                    <a:pt x="1528" y="1996"/>
                  </a:lnTo>
                  <a:lnTo>
                    <a:pt x="1529" y="2003"/>
                  </a:lnTo>
                  <a:lnTo>
                    <a:pt x="1526" y="2007"/>
                  </a:lnTo>
                  <a:lnTo>
                    <a:pt x="1519" y="2013"/>
                  </a:lnTo>
                  <a:lnTo>
                    <a:pt x="1510" y="2019"/>
                  </a:lnTo>
                  <a:lnTo>
                    <a:pt x="1498" y="2024"/>
                  </a:lnTo>
                  <a:lnTo>
                    <a:pt x="1487" y="2031"/>
                  </a:lnTo>
                  <a:lnTo>
                    <a:pt x="1477" y="2037"/>
                  </a:lnTo>
                  <a:lnTo>
                    <a:pt x="1468" y="2044"/>
                  </a:lnTo>
                  <a:lnTo>
                    <a:pt x="1458" y="2048"/>
                  </a:lnTo>
                  <a:lnTo>
                    <a:pt x="1445" y="2042"/>
                  </a:lnTo>
                  <a:lnTo>
                    <a:pt x="1434" y="2041"/>
                  </a:lnTo>
                  <a:lnTo>
                    <a:pt x="1423" y="2047"/>
                  </a:lnTo>
                  <a:lnTo>
                    <a:pt x="1413" y="2055"/>
                  </a:lnTo>
                  <a:lnTo>
                    <a:pt x="1410" y="2062"/>
                  </a:lnTo>
                  <a:lnTo>
                    <a:pt x="1421" y="2068"/>
                  </a:lnTo>
                  <a:lnTo>
                    <a:pt x="1421" y="2076"/>
                  </a:lnTo>
                  <a:lnTo>
                    <a:pt x="1431" y="2083"/>
                  </a:lnTo>
                  <a:lnTo>
                    <a:pt x="1444" y="2090"/>
                  </a:lnTo>
                  <a:lnTo>
                    <a:pt x="1455" y="2096"/>
                  </a:lnTo>
                  <a:lnTo>
                    <a:pt x="1461" y="2102"/>
                  </a:lnTo>
                  <a:lnTo>
                    <a:pt x="1458" y="2108"/>
                  </a:lnTo>
                  <a:lnTo>
                    <a:pt x="1448" y="2115"/>
                  </a:lnTo>
                  <a:lnTo>
                    <a:pt x="1434" y="2121"/>
                  </a:lnTo>
                  <a:lnTo>
                    <a:pt x="1423" y="2126"/>
                  </a:lnTo>
                  <a:lnTo>
                    <a:pt x="1410" y="2129"/>
                  </a:lnTo>
                  <a:lnTo>
                    <a:pt x="1398" y="2133"/>
                  </a:lnTo>
                  <a:lnTo>
                    <a:pt x="1387" y="2138"/>
                  </a:lnTo>
                  <a:lnTo>
                    <a:pt x="1377" y="2139"/>
                  </a:lnTo>
                  <a:lnTo>
                    <a:pt x="1368" y="2141"/>
                  </a:lnTo>
                  <a:lnTo>
                    <a:pt x="1360" y="2147"/>
                  </a:lnTo>
                  <a:lnTo>
                    <a:pt x="1349" y="2152"/>
                  </a:lnTo>
                  <a:lnTo>
                    <a:pt x="1338" y="2156"/>
                  </a:lnTo>
                  <a:lnTo>
                    <a:pt x="1336" y="2162"/>
                  </a:lnTo>
                  <a:lnTo>
                    <a:pt x="1342" y="2172"/>
                  </a:lnTo>
                  <a:lnTo>
                    <a:pt x="1343" y="2182"/>
                  </a:lnTo>
                  <a:lnTo>
                    <a:pt x="1336" y="2189"/>
                  </a:lnTo>
                  <a:lnTo>
                    <a:pt x="1326" y="2195"/>
                  </a:lnTo>
                  <a:lnTo>
                    <a:pt x="1315" y="2200"/>
                  </a:lnTo>
                  <a:lnTo>
                    <a:pt x="1304" y="2206"/>
                  </a:lnTo>
                  <a:lnTo>
                    <a:pt x="1294" y="2212"/>
                  </a:lnTo>
                  <a:lnTo>
                    <a:pt x="1284" y="2218"/>
                  </a:lnTo>
                  <a:lnTo>
                    <a:pt x="1275" y="2224"/>
                  </a:lnTo>
                  <a:lnTo>
                    <a:pt x="1266" y="2231"/>
                  </a:lnTo>
                  <a:lnTo>
                    <a:pt x="1257" y="2238"/>
                  </a:lnTo>
                  <a:lnTo>
                    <a:pt x="1250" y="2245"/>
                  </a:lnTo>
                  <a:lnTo>
                    <a:pt x="1244" y="2254"/>
                  </a:lnTo>
                  <a:lnTo>
                    <a:pt x="1236" y="2261"/>
                  </a:lnTo>
                  <a:lnTo>
                    <a:pt x="1224" y="2263"/>
                  </a:lnTo>
                  <a:lnTo>
                    <a:pt x="1210" y="2265"/>
                  </a:lnTo>
                  <a:lnTo>
                    <a:pt x="1198" y="2268"/>
                  </a:lnTo>
                  <a:lnTo>
                    <a:pt x="1187" y="2273"/>
                  </a:lnTo>
                  <a:lnTo>
                    <a:pt x="1175" y="2280"/>
                  </a:lnTo>
                  <a:lnTo>
                    <a:pt x="1166" y="2280"/>
                  </a:lnTo>
                  <a:lnTo>
                    <a:pt x="1159" y="2274"/>
                  </a:lnTo>
                  <a:lnTo>
                    <a:pt x="1152" y="2264"/>
                  </a:lnTo>
                  <a:lnTo>
                    <a:pt x="1145" y="2255"/>
                  </a:lnTo>
                  <a:lnTo>
                    <a:pt x="1136" y="2248"/>
                  </a:lnTo>
                  <a:lnTo>
                    <a:pt x="1125" y="2251"/>
                  </a:lnTo>
                  <a:lnTo>
                    <a:pt x="1113" y="2256"/>
                  </a:lnTo>
                  <a:lnTo>
                    <a:pt x="1101" y="2260"/>
                  </a:lnTo>
                  <a:lnTo>
                    <a:pt x="1089" y="2265"/>
                  </a:lnTo>
                  <a:lnTo>
                    <a:pt x="1076" y="2270"/>
                  </a:lnTo>
                  <a:lnTo>
                    <a:pt x="1064" y="2274"/>
                  </a:lnTo>
                  <a:lnTo>
                    <a:pt x="1051" y="2279"/>
                  </a:lnTo>
                  <a:lnTo>
                    <a:pt x="1038" y="2284"/>
                  </a:lnTo>
                  <a:lnTo>
                    <a:pt x="1027" y="2290"/>
                  </a:lnTo>
                  <a:lnTo>
                    <a:pt x="1015" y="2295"/>
                  </a:lnTo>
                  <a:lnTo>
                    <a:pt x="1005" y="2300"/>
                  </a:lnTo>
                  <a:lnTo>
                    <a:pt x="994" y="2306"/>
                  </a:lnTo>
                  <a:lnTo>
                    <a:pt x="985" y="2311"/>
                  </a:lnTo>
                  <a:lnTo>
                    <a:pt x="977" y="2317"/>
                  </a:lnTo>
                  <a:lnTo>
                    <a:pt x="970" y="2323"/>
                  </a:lnTo>
                  <a:lnTo>
                    <a:pt x="966" y="2329"/>
                  </a:lnTo>
                  <a:lnTo>
                    <a:pt x="969" y="2336"/>
                  </a:lnTo>
                  <a:lnTo>
                    <a:pt x="977" y="2344"/>
                  </a:lnTo>
                  <a:lnTo>
                    <a:pt x="988" y="2353"/>
                  </a:lnTo>
                  <a:lnTo>
                    <a:pt x="999" y="2361"/>
                  </a:lnTo>
                  <a:lnTo>
                    <a:pt x="1008" y="2370"/>
                  </a:lnTo>
                  <a:lnTo>
                    <a:pt x="1008" y="2378"/>
                  </a:lnTo>
                  <a:lnTo>
                    <a:pt x="995" y="2379"/>
                  </a:lnTo>
                  <a:lnTo>
                    <a:pt x="988" y="2371"/>
                  </a:lnTo>
                  <a:lnTo>
                    <a:pt x="978" y="2363"/>
                  </a:lnTo>
                  <a:lnTo>
                    <a:pt x="967" y="2361"/>
                  </a:lnTo>
                  <a:lnTo>
                    <a:pt x="955" y="2361"/>
                  </a:lnTo>
                  <a:lnTo>
                    <a:pt x="941" y="2362"/>
                  </a:lnTo>
                  <a:lnTo>
                    <a:pt x="928" y="2363"/>
                  </a:lnTo>
                  <a:lnTo>
                    <a:pt x="914" y="2364"/>
                  </a:lnTo>
                  <a:lnTo>
                    <a:pt x="900" y="2366"/>
                  </a:lnTo>
                  <a:lnTo>
                    <a:pt x="887" y="2366"/>
                  </a:lnTo>
                  <a:lnTo>
                    <a:pt x="875" y="2366"/>
                  </a:lnTo>
                  <a:lnTo>
                    <a:pt x="869" y="2357"/>
                  </a:lnTo>
                  <a:lnTo>
                    <a:pt x="855" y="2356"/>
                  </a:lnTo>
                  <a:lnTo>
                    <a:pt x="841" y="2356"/>
                  </a:lnTo>
                  <a:lnTo>
                    <a:pt x="827" y="2357"/>
                  </a:lnTo>
                  <a:lnTo>
                    <a:pt x="813" y="2358"/>
                  </a:lnTo>
                  <a:lnTo>
                    <a:pt x="804" y="2359"/>
                  </a:lnTo>
                  <a:lnTo>
                    <a:pt x="809" y="2367"/>
                  </a:lnTo>
                  <a:lnTo>
                    <a:pt x="808" y="2371"/>
                  </a:lnTo>
                  <a:lnTo>
                    <a:pt x="798" y="2370"/>
                  </a:lnTo>
                  <a:lnTo>
                    <a:pt x="784" y="2369"/>
                  </a:lnTo>
                  <a:lnTo>
                    <a:pt x="771" y="2368"/>
                  </a:lnTo>
                  <a:lnTo>
                    <a:pt x="756" y="2366"/>
                  </a:lnTo>
                  <a:lnTo>
                    <a:pt x="742" y="2364"/>
                  </a:lnTo>
                  <a:lnTo>
                    <a:pt x="729" y="2364"/>
                  </a:lnTo>
                  <a:lnTo>
                    <a:pt x="716" y="2364"/>
                  </a:lnTo>
                  <a:lnTo>
                    <a:pt x="703" y="2365"/>
                  </a:lnTo>
                  <a:lnTo>
                    <a:pt x="693" y="2360"/>
                  </a:lnTo>
                  <a:lnTo>
                    <a:pt x="693" y="2350"/>
                  </a:lnTo>
                  <a:lnTo>
                    <a:pt x="696" y="2341"/>
                  </a:lnTo>
                  <a:lnTo>
                    <a:pt x="695" y="2331"/>
                  </a:lnTo>
                  <a:lnTo>
                    <a:pt x="693" y="2322"/>
                  </a:lnTo>
                  <a:lnTo>
                    <a:pt x="692" y="2311"/>
                  </a:lnTo>
                  <a:lnTo>
                    <a:pt x="689" y="2302"/>
                  </a:lnTo>
                  <a:lnTo>
                    <a:pt x="686" y="2293"/>
                  </a:lnTo>
                  <a:lnTo>
                    <a:pt x="681" y="2285"/>
                  </a:lnTo>
                  <a:lnTo>
                    <a:pt x="674" y="2279"/>
                  </a:lnTo>
                  <a:lnTo>
                    <a:pt x="662" y="2277"/>
                  </a:lnTo>
                  <a:lnTo>
                    <a:pt x="648" y="2277"/>
                  </a:lnTo>
                  <a:lnTo>
                    <a:pt x="633" y="2277"/>
                  </a:lnTo>
                  <a:lnTo>
                    <a:pt x="620" y="2275"/>
                  </a:lnTo>
                  <a:lnTo>
                    <a:pt x="608" y="2275"/>
                  </a:lnTo>
                  <a:lnTo>
                    <a:pt x="599" y="2282"/>
                  </a:lnTo>
                  <a:lnTo>
                    <a:pt x="591" y="2289"/>
                  </a:lnTo>
                  <a:lnTo>
                    <a:pt x="583" y="2296"/>
                  </a:lnTo>
                  <a:lnTo>
                    <a:pt x="573" y="2304"/>
                  </a:lnTo>
                  <a:lnTo>
                    <a:pt x="565" y="2311"/>
                  </a:lnTo>
                  <a:lnTo>
                    <a:pt x="556" y="2319"/>
                  </a:lnTo>
                  <a:lnTo>
                    <a:pt x="549" y="2327"/>
                  </a:lnTo>
                  <a:lnTo>
                    <a:pt x="542" y="2336"/>
                  </a:lnTo>
                  <a:lnTo>
                    <a:pt x="537" y="2344"/>
                  </a:lnTo>
                  <a:lnTo>
                    <a:pt x="534" y="2352"/>
                  </a:lnTo>
                  <a:lnTo>
                    <a:pt x="531" y="2360"/>
                  </a:lnTo>
                  <a:lnTo>
                    <a:pt x="532" y="2369"/>
                  </a:lnTo>
                  <a:lnTo>
                    <a:pt x="535" y="2379"/>
                  </a:lnTo>
                  <a:lnTo>
                    <a:pt x="539" y="2388"/>
                  </a:lnTo>
                  <a:lnTo>
                    <a:pt x="545" y="2398"/>
                  </a:lnTo>
                  <a:lnTo>
                    <a:pt x="549" y="2407"/>
                  </a:lnTo>
                  <a:lnTo>
                    <a:pt x="555" y="2416"/>
                  </a:lnTo>
                  <a:lnTo>
                    <a:pt x="558" y="2425"/>
                  </a:lnTo>
                  <a:lnTo>
                    <a:pt x="559" y="2433"/>
                  </a:lnTo>
                  <a:lnTo>
                    <a:pt x="546" y="2432"/>
                  </a:lnTo>
                  <a:lnTo>
                    <a:pt x="532" y="2431"/>
                  </a:lnTo>
                  <a:lnTo>
                    <a:pt x="520" y="2428"/>
                  </a:lnTo>
                  <a:lnTo>
                    <a:pt x="506" y="2427"/>
                  </a:lnTo>
                  <a:lnTo>
                    <a:pt x="493" y="2427"/>
                  </a:lnTo>
                  <a:lnTo>
                    <a:pt x="481" y="2427"/>
                  </a:lnTo>
                  <a:lnTo>
                    <a:pt x="467" y="2427"/>
                  </a:lnTo>
                  <a:lnTo>
                    <a:pt x="454" y="2428"/>
                  </a:lnTo>
                  <a:lnTo>
                    <a:pt x="442" y="2431"/>
                  </a:lnTo>
                  <a:lnTo>
                    <a:pt x="429" y="2434"/>
                  </a:lnTo>
                  <a:lnTo>
                    <a:pt x="418" y="2438"/>
                  </a:lnTo>
                  <a:lnTo>
                    <a:pt x="408" y="2444"/>
                  </a:lnTo>
                  <a:lnTo>
                    <a:pt x="400" y="2452"/>
                  </a:lnTo>
                  <a:lnTo>
                    <a:pt x="394" y="2461"/>
                  </a:lnTo>
                  <a:lnTo>
                    <a:pt x="394" y="2470"/>
                  </a:lnTo>
                  <a:lnTo>
                    <a:pt x="398" y="2479"/>
                  </a:lnTo>
                  <a:lnTo>
                    <a:pt x="404" y="2490"/>
                  </a:lnTo>
                  <a:lnTo>
                    <a:pt x="409" y="2499"/>
                  </a:lnTo>
                  <a:lnTo>
                    <a:pt x="415" y="2508"/>
                  </a:lnTo>
                  <a:lnTo>
                    <a:pt x="416" y="2515"/>
                  </a:lnTo>
                  <a:lnTo>
                    <a:pt x="408" y="2518"/>
                  </a:lnTo>
                  <a:lnTo>
                    <a:pt x="391" y="2516"/>
                  </a:lnTo>
                  <a:lnTo>
                    <a:pt x="383" y="2510"/>
                  </a:lnTo>
                  <a:lnTo>
                    <a:pt x="377" y="2500"/>
                  </a:lnTo>
                  <a:lnTo>
                    <a:pt x="367" y="2498"/>
                  </a:lnTo>
                  <a:lnTo>
                    <a:pt x="356" y="2501"/>
                  </a:lnTo>
                  <a:lnTo>
                    <a:pt x="344" y="2505"/>
                  </a:lnTo>
                  <a:lnTo>
                    <a:pt x="330" y="2509"/>
                  </a:lnTo>
                  <a:lnTo>
                    <a:pt x="317" y="2511"/>
                  </a:lnTo>
                  <a:lnTo>
                    <a:pt x="305" y="2509"/>
                  </a:lnTo>
                  <a:lnTo>
                    <a:pt x="292" y="2507"/>
                  </a:lnTo>
                  <a:lnTo>
                    <a:pt x="279" y="2504"/>
                  </a:lnTo>
                  <a:lnTo>
                    <a:pt x="267" y="2501"/>
                  </a:lnTo>
                  <a:lnTo>
                    <a:pt x="254" y="2498"/>
                  </a:lnTo>
                  <a:lnTo>
                    <a:pt x="242" y="2494"/>
                  </a:lnTo>
                  <a:lnTo>
                    <a:pt x="228" y="2491"/>
                  </a:lnTo>
                  <a:lnTo>
                    <a:pt x="216" y="2490"/>
                  </a:lnTo>
                  <a:lnTo>
                    <a:pt x="205" y="2491"/>
                  </a:lnTo>
                  <a:lnTo>
                    <a:pt x="195" y="2497"/>
                  </a:lnTo>
                  <a:lnTo>
                    <a:pt x="186" y="2505"/>
                  </a:lnTo>
                  <a:lnTo>
                    <a:pt x="177" y="2512"/>
                  </a:lnTo>
                  <a:lnTo>
                    <a:pt x="169" y="2520"/>
                  </a:lnTo>
                  <a:lnTo>
                    <a:pt x="161" y="2526"/>
                  </a:lnTo>
                  <a:lnTo>
                    <a:pt x="149" y="2531"/>
                  </a:lnTo>
                  <a:lnTo>
                    <a:pt x="137" y="2531"/>
                  </a:lnTo>
                  <a:lnTo>
                    <a:pt x="127" y="2524"/>
                  </a:lnTo>
                  <a:lnTo>
                    <a:pt x="123" y="2527"/>
                  </a:lnTo>
                  <a:lnTo>
                    <a:pt x="128" y="2536"/>
                  </a:lnTo>
                  <a:lnTo>
                    <a:pt x="128" y="2542"/>
                  </a:lnTo>
                  <a:lnTo>
                    <a:pt x="117" y="2545"/>
                  </a:lnTo>
                  <a:lnTo>
                    <a:pt x="105" y="2547"/>
                  </a:lnTo>
                  <a:lnTo>
                    <a:pt x="91" y="2549"/>
                  </a:lnTo>
                  <a:lnTo>
                    <a:pt x="77" y="2551"/>
                  </a:lnTo>
                  <a:lnTo>
                    <a:pt x="64" y="2553"/>
                  </a:lnTo>
                  <a:lnTo>
                    <a:pt x="51" y="2554"/>
                  </a:lnTo>
                  <a:lnTo>
                    <a:pt x="47" y="2547"/>
                  </a:lnTo>
                  <a:lnTo>
                    <a:pt x="42" y="2537"/>
                  </a:lnTo>
                  <a:lnTo>
                    <a:pt x="33" y="2535"/>
                  </a:lnTo>
                  <a:lnTo>
                    <a:pt x="10" y="2511"/>
                  </a:lnTo>
                  <a:lnTo>
                    <a:pt x="1" y="2505"/>
                  </a:lnTo>
                  <a:lnTo>
                    <a:pt x="0" y="2497"/>
                  </a:lnTo>
                  <a:lnTo>
                    <a:pt x="11" y="2492"/>
                  </a:lnTo>
                  <a:lnTo>
                    <a:pt x="22" y="2490"/>
                  </a:lnTo>
                  <a:lnTo>
                    <a:pt x="35" y="2488"/>
                  </a:lnTo>
                  <a:lnTo>
                    <a:pt x="47" y="2484"/>
                  </a:lnTo>
                  <a:lnTo>
                    <a:pt x="51" y="2479"/>
                  </a:lnTo>
                  <a:lnTo>
                    <a:pt x="61" y="2479"/>
                  </a:lnTo>
                  <a:lnTo>
                    <a:pt x="63" y="2470"/>
                  </a:lnTo>
                  <a:lnTo>
                    <a:pt x="72" y="2474"/>
                  </a:lnTo>
                  <a:lnTo>
                    <a:pt x="71" y="2465"/>
                  </a:lnTo>
                  <a:lnTo>
                    <a:pt x="84" y="2465"/>
                  </a:lnTo>
                  <a:lnTo>
                    <a:pt x="84" y="2475"/>
                  </a:lnTo>
                  <a:lnTo>
                    <a:pt x="93" y="2478"/>
                  </a:lnTo>
                  <a:lnTo>
                    <a:pt x="107" y="2477"/>
                  </a:lnTo>
                  <a:lnTo>
                    <a:pt x="103" y="2468"/>
                  </a:lnTo>
                  <a:lnTo>
                    <a:pt x="91" y="2465"/>
                  </a:lnTo>
                  <a:lnTo>
                    <a:pt x="81" y="2461"/>
                  </a:lnTo>
                  <a:lnTo>
                    <a:pt x="74" y="2454"/>
                  </a:lnTo>
                  <a:lnTo>
                    <a:pt x="65" y="2448"/>
                  </a:lnTo>
                  <a:lnTo>
                    <a:pt x="53" y="2446"/>
                  </a:lnTo>
                  <a:lnTo>
                    <a:pt x="42" y="2445"/>
                  </a:lnTo>
                  <a:lnTo>
                    <a:pt x="46" y="2439"/>
                  </a:lnTo>
                  <a:lnTo>
                    <a:pt x="54" y="2436"/>
                  </a:lnTo>
                  <a:lnTo>
                    <a:pt x="63" y="2428"/>
                  </a:lnTo>
                  <a:lnTo>
                    <a:pt x="68" y="2419"/>
                  </a:lnTo>
                  <a:lnTo>
                    <a:pt x="72" y="2410"/>
                  </a:lnTo>
                  <a:lnTo>
                    <a:pt x="70" y="2401"/>
                  </a:lnTo>
                  <a:lnTo>
                    <a:pt x="68" y="2392"/>
                  </a:lnTo>
                  <a:lnTo>
                    <a:pt x="74" y="2384"/>
                  </a:lnTo>
                  <a:lnTo>
                    <a:pt x="82" y="2376"/>
                  </a:lnTo>
                  <a:lnTo>
                    <a:pt x="89" y="2369"/>
                  </a:lnTo>
                  <a:lnTo>
                    <a:pt x="96" y="2361"/>
                  </a:lnTo>
                  <a:lnTo>
                    <a:pt x="103" y="2353"/>
                  </a:lnTo>
                  <a:lnTo>
                    <a:pt x="109" y="2344"/>
                  </a:lnTo>
                  <a:lnTo>
                    <a:pt x="114" y="2336"/>
                  </a:lnTo>
                  <a:lnTo>
                    <a:pt x="119" y="2327"/>
                  </a:lnTo>
                  <a:lnTo>
                    <a:pt x="127" y="2319"/>
                  </a:lnTo>
                  <a:lnTo>
                    <a:pt x="128" y="2312"/>
                  </a:lnTo>
                  <a:lnTo>
                    <a:pt x="116" y="2308"/>
                  </a:lnTo>
                  <a:lnTo>
                    <a:pt x="105" y="2302"/>
                  </a:lnTo>
                  <a:lnTo>
                    <a:pt x="93" y="2297"/>
                  </a:lnTo>
                  <a:lnTo>
                    <a:pt x="99" y="2289"/>
                  </a:lnTo>
                  <a:lnTo>
                    <a:pt x="92" y="2285"/>
                  </a:lnTo>
                  <a:lnTo>
                    <a:pt x="86" y="2277"/>
                  </a:lnTo>
                  <a:lnTo>
                    <a:pt x="92" y="2269"/>
                  </a:lnTo>
                  <a:lnTo>
                    <a:pt x="103" y="2274"/>
                  </a:lnTo>
                  <a:lnTo>
                    <a:pt x="114" y="2271"/>
                  </a:lnTo>
                  <a:lnTo>
                    <a:pt x="121" y="2263"/>
                  </a:lnTo>
                  <a:lnTo>
                    <a:pt x="134" y="2260"/>
                  </a:lnTo>
                  <a:lnTo>
                    <a:pt x="137" y="2254"/>
                  </a:lnTo>
                  <a:lnTo>
                    <a:pt x="130" y="2247"/>
                  </a:lnTo>
                  <a:lnTo>
                    <a:pt x="116" y="2246"/>
                  </a:lnTo>
                  <a:lnTo>
                    <a:pt x="103" y="2247"/>
                  </a:lnTo>
                  <a:lnTo>
                    <a:pt x="91" y="2249"/>
                  </a:lnTo>
                  <a:lnTo>
                    <a:pt x="82" y="2242"/>
                  </a:lnTo>
                  <a:lnTo>
                    <a:pt x="77" y="2234"/>
                  </a:lnTo>
                  <a:lnTo>
                    <a:pt x="78" y="2225"/>
                  </a:lnTo>
                  <a:lnTo>
                    <a:pt x="81" y="2215"/>
                  </a:lnTo>
                  <a:lnTo>
                    <a:pt x="81" y="2207"/>
                  </a:lnTo>
                  <a:lnTo>
                    <a:pt x="72" y="2199"/>
                  </a:lnTo>
                  <a:lnTo>
                    <a:pt x="70" y="2190"/>
                  </a:lnTo>
                  <a:lnTo>
                    <a:pt x="67" y="2181"/>
                  </a:lnTo>
                  <a:lnTo>
                    <a:pt x="67" y="2172"/>
                  </a:lnTo>
                  <a:lnTo>
                    <a:pt x="68" y="2163"/>
                  </a:lnTo>
                  <a:lnTo>
                    <a:pt x="75" y="2157"/>
                  </a:lnTo>
                  <a:lnTo>
                    <a:pt x="78" y="2147"/>
                  </a:lnTo>
                  <a:lnTo>
                    <a:pt x="79" y="2139"/>
                  </a:lnTo>
                  <a:lnTo>
                    <a:pt x="67" y="2136"/>
                  </a:lnTo>
                  <a:lnTo>
                    <a:pt x="54" y="2132"/>
                  </a:lnTo>
                  <a:lnTo>
                    <a:pt x="43" y="2130"/>
                  </a:lnTo>
                  <a:lnTo>
                    <a:pt x="31" y="2130"/>
                  </a:lnTo>
                  <a:lnTo>
                    <a:pt x="17" y="2115"/>
                  </a:lnTo>
                  <a:lnTo>
                    <a:pt x="25" y="2107"/>
                  </a:lnTo>
                  <a:lnTo>
                    <a:pt x="32" y="2099"/>
                  </a:lnTo>
                  <a:lnTo>
                    <a:pt x="39" y="2092"/>
                  </a:lnTo>
                  <a:lnTo>
                    <a:pt x="47" y="2085"/>
                  </a:lnTo>
                  <a:lnTo>
                    <a:pt x="56" y="2077"/>
                  </a:lnTo>
                  <a:lnTo>
                    <a:pt x="64" y="2070"/>
                  </a:lnTo>
                  <a:lnTo>
                    <a:pt x="71" y="2062"/>
                  </a:lnTo>
                  <a:lnTo>
                    <a:pt x="74" y="2053"/>
                  </a:lnTo>
                  <a:lnTo>
                    <a:pt x="75" y="2044"/>
                  </a:lnTo>
                  <a:lnTo>
                    <a:pt x="75" y="2034"/>
                  </a:lnTo>
                  <a:lnTo>
                    <a:pt x="75" y="2024"/>
                  </a:lnTo>
                  <a:lnTo>
                    <a:pt x="70" y="2018"/>
                  </a:lnTo>
                  <a:lnTo>
                    <a:pt x="72" y="2008"/>
                  </a:lnTo>
                  <a:lnTo>
                    <a:pt x="77" y="2000"/>
                  </a:lnTo>
                  <a:lnTo>
                    <a:pt x="81" y="1991"/>
                  </a:lnTo>
                  <a:lnTo>
                    <a:pt x="84" y="1981"/>
                  </a:lnTo>
                  <a:lnTo>
                    <a:pt x="88" y="1975"/>
                  </a:lnTo>
                  <a:lnTo>
                    <a:pt x="95" y="1969"/>
                  </a:lnTo>
                  <a:lnTo>
                    <a:pt x="98" y="1960"/>
                  </a:lnTo>
                  <a:lnTo>
                    <a:pt x="109" y="1956"/>
                  </a:lnTo>
                  <a:lnTo>
                    <a:pt x="123" y="1957"/>
                  </a:lnTo>
                  <a:lnTo>
                    <a:pt x="135" y="1956"/>
                  </a:lnTo>
                  <a:lnTo>
                    <a:pt x="138" y="1948"/>
                  </a:lnTo>
                  <a:lnTo>
                    <a:pt x="130" y="1941"/>
                  </a:lnTo>
                  <a:lnTo>
                    <a:pt x="130" y="1932"/>
                  </a:lnTo>
                  <a:lnTo>
                    <a:pt x="131" y="1922"/>
                  </a:lnTo>
                  <a:lnTo>
                    <a:pt x="141" y="1911"/>
                  </a:lnTo>
                  <a:lnTo>
                    <a:pt x="142" y="1901"/>
                  </a:lnTo>
                  <a:lnTo>
                    <a:pt x="140" y="1893"/>
                  </a:lnTo>
                  <a:lnTo>
                    <a:pt x="128" y="1898"/>
                  </a:lnTo>
                  <a:lnTo>
                    <a:pt x="120" y="1905"/>
                  </a:lnTo>
                  <a:lnTo>
                    <a:pt x="112" y="1912"/>
                  </a:lnTo>
                  <a:lnTo>
                    <a:pt x="100" y="1916"/>
                  </a:lnTo>
                  <a:lnTo>
                    <a:pt x="91" y="1923"/>
                  </a:lnTo>
                  <a:lnTo>
                    <a:pt x="79" y="1929"/>
                  </a:lnTo>
                  <a:lnTo>
                    <a:pt x="68" y="1935"/>
                  </a:lnTo>
                  <a:lnTo>
                    <a:pt x="57" y="1936"/>
                  </a:lnTo>
                  <a:lnTo>
                    <a:pt x="46" y="1930"/>
                  </a:lnTo>
                  <a:lnTo>
                    <a:pt x="45" y="1922"/>
                  </a:lnTo>
                  <a:lnTo>
                    <a:pt x="51" y="1909"/>
                  </a:lnTo>
                  <a:lnTo>
                    <a:pt x="56" y="1900"/>
                  </a:lnTo>
                  <a:lnTo>
                    <a:pt x="65" y="1895"/>
                  </a:lnTo>
                  <a:lnTo>
                    <a:pt x="78" y="1891"/>
                  </a:lnTo>
                  <a:lnTo>
                    <a:pt x="86" y="1884"/>
                  </a:lnTo>
                  <a:lnTo>
                    <a:pt x="93" y="1876"/>
                  </a:lnTo>
                  <a:lnTo>
                    <a:pt x="102" y="1869"/>
                  </a:lnTo>
                  <a:lnTo>
                    <a:pt x="113" y="1867"/>
                  </a:lnTo>
                  <a:lnTo>
                    <a:pt x="127" y="1871"/>
                  </a:lnTo>
                  <a:lnTo>
                    <a:pt x="137" y="1867"/>
                  </a:lnTo>
                  <a:lnTo>
                    <a:pt x="145" y="1859"/>
                  </a:lnTo>
                  <a:lnTo>
                    <a:pt x="149" y="1850"/>
                  </a:lnTo>
                  <a:lnTo>
                    <a:pt x="149" y="1840"/>
                  </a:lnTo>
                  <a:lnTo>
                    <a:pt x="141" y="1832"/>
                  </a:lnTo>
                  <a:lnTo>
                    <a:pt x="135" y="1824"/>
                  </a:lnTo>
                  <a:lnTo>
                    <a:pt x="130" y="1815"/>
                  </a:lnTo>
                  <a:lnTo>
                    <a:pt x="127" y="1806"/>
                  </a:lnTo>
                  <a:lnTo>
                    <a:pt x="131" y="1798"/>
                  </a:lnTo>
                  <a:lnTo>
                    <a:pt x="144" y="1796"/>
                  </a:lnTo>
                  <a:lnTo>
                    <a:pt x="154" y="1800"/>
                  </a:lnTo>
                  <a:lnTo>
                    <a:pt x="163" y="1807"/>
                  </a:lnTo>
                  <a:lnTo>
                    <a:pt x="172" y="1814"/>
                  </a:lnTo>
                  <a:lnTo>
                    <a:pt x="183" y="1820"/>
                  </a:lnTo>
                  <a:lnTo>
                    <a:pt x="195" y="1821"/>
                  </a:lnTo>
                  <a:lnTo>
                    <a:pt x="208" y="1821"/>
                  </a:lnTo>
                  <a:lnTo>
                    <a:pt x="215" y="1815"/>
                  </a:lnTo>
                  <a:lnTo>
                    <a:pt x="215" y="1805"/>
                  </a:lnTo>
                  <a:lnTo>
                    <a:pt x="216" y="1796"/>
                  </a:lnTo>
                  <a:lnTo>
                    <a:pt x="218" y="1787"/>
                  </a:lnTo>
                  <a:lnTo>
                    <a:pt x="225" y="1782"/>
                  </a:lnTo>
                  <a:lnTo>
                    <a:pt x="226" y="1772"/>
                  </a:lnTo>
                  <a:lnTo>
                    <a:pt x="229" y="1763"/>
                  </a:lnTo>
                  <a:lnTo>
                    <a:pt x="233" y="1754"/>
                  </a:lnTo>
                  <a:lnTo>
                    <a:pt x="236" y="1745"/>
                  </a:lnTo>
                  <a:lnTo>
                    <a:pt x="239" y="1736"/>
                  </a:lnTo>
                  <a:lnTo>
                    <a:pt x="242" y="1727"/>
                  </a:lnTo>
                  <a:lnTo>
                    <a:pt x="244" y="1717"/>
                  </a:lnTo>
                  <a:lnTo>
                    <a:pt x="243" y="1708"/>
                  </a:lnTo>
                  <a:lnTo>
                    <a:pt x="236" y="1700"/>
                  </a:lnTo>
                  <a:lnTo>
                    <a:pt x="228" y="1693"/>
                  </a:lnTo>
                  <a:lnTo>
                    <a:pt x="219" y="1685"/>
                  </a:lnTo>
                  <a:lnTo>
                    <a:pt x="212" y="1678"/>
                  </a:lnTo>
                  <a:lnTo>
                    <a:pt x="205" y="1670"/>
                  </a:lnTo>
                  <a:lnTo>
                    <a:pt x="197" y="1663"/>
                  </a:lnTo>
                  <a:lnTo>
                    <a:pt x="194" y="1654"/>
                  </a:lnTo>
                  <a:lnTo>
                    <a:pt x="191" y="1645"/>
                  </a:lnTo>
                  <a:lnTo>
                    <a:pt x="190" y="1635"/>
                  </a:lnTo>
                  <a:lnTo>
                    <a:pt x="188" y="1626"/>
                  </a:lnTo>
                  <a:lnTo>
                    <a:pt x="188" y="1617"/>
                  </a:lnTo>
                  <a:lnTo>
                    <a:pt x="187" y="1607"/>
                  </a:lnTo>
                  <a:lnTo>
                    <a:pt x="186" y="1598"/>
                  </a:lnTo>
                  <a:lnTo>
                    <a:pt x="184" y="1589"/>
                  </a:lnTo>
                  <a:lnTo>
                    <a:pt x="183" y="1580"/>
                  </a:lnTo>
                  <a:lnTo>
                    <a:pt x="180" y="1571"/>
                  </a:lnTo>
                  <a:lnTo>
                    <a:pt x="176" y="1561"/>
                  </a:lnTo>
                  <a:lnTo>
                    <a:pt x="173" y="1551"/>
                  </a:lnTo>
                  <a:lnTo>
                    <a:pt x="172" y="1542"/>
                  </a:lnTo>
                  <a:lnTo>
                    <a:pt x="169" y="1533"/>
                  </a:lnTo>
                  <a:lnTo>
                    <a:pt x="169" y="1524"/>
                  </a:lnTo>
                  <a:lnTo>
                    <a:pt x="170" y="1514"/>
                  </a:lnTo>
                  <a:lnTo>
                    <a:pt x="173" y="1505"/>
                  </a:lnTo>
                  <a:lnTo>
                    <a:pt x="180" y="1497"/>
                  </a:lnTo>
                  <a:lnTo>
                    <a:pt x="187" y="1489"/>
                  </a:lnTo>
                  <a:lnTo>
                    <a:pt x="194" y="1482"/>
                  </a:lnTo>
                  <a:lnTo>
                    <a:pt x="201" y="1474"/>
                  </a:lnTo>
                  <a:lnTo>
                    <a:pt x="207" y="1466"/>
                  </a:lnTo>
                  <a:lnTo>
                    <a:pt x="214" y="1458"/>
                  </a:lnTo>
                  <a:lnTo>
                    <a:pt x="221" y="1450"/>
                  </a:lnTo>
                  <a:lnTo>
                    <a:pt x="228" y="1442"/>
                  </a:lnTo>
                  <a:lnTo>
                    <a:pt x="232" y="1433"/>
                  </a:lnTo>
                  <a:lnTo>
                    <a:pt x="237" y="1425"/>
                  </a:lnTo>
                  <a:lnTo>
                    <a:pt x="242" y="1416"/>
                  </a:lnTo>
                  <a:lnTo>
                    <a:pt x="243" y="1407"/>
                  </a:lnTo>
                  <a:lnTo>
                    <a:pt x="244" y="1397"/>
                  </a:lnTo>
                  <a:lnTo>
                    <a:pt x="246" y="1388"/>
                  </a:lnTo>
                  <a:lnTo>
                    <a:pt x="246" y="1379"/>
                  </a:lnTo>
                  <a:lnTo>
                    <a:pt x="244" y="1369"/>
                  </a:lnTo>
                  <a:lnTo>
                    <a:pt x="242" y="1360"/>
                  </a:lnTo>
                  <a:lnTo>
                    <a:pt x="237" y="1351"/>
                  </a:lnTo>
                  <a:lnTo>
                    <a:pt x="233" y="1343"/>
                  </a:lnTo>
                  <a:lnTo>
                    <a:pt x="229" y="1334"/>
                  </a:lnTo>
                  <a:lnTo>
                    <a:pt x="225" y="1325"/>
                  </a:lnTo>
                  <a:lnTo>
                    <a:pt x="214" y="1309"/>
                  </a:lnTo>
                  <a:lnTo>
                    <a:pt x="207" y="1301"/>
                  </a:lnTo>
                  <a:lnTo>
                    <a:pt x="201" y="1293"/>
                  </a:lnTo>
                  <a:lnTo>
                    <a:pt x="195" y="1284"/>
                  </a:lnTo>
                  <a:lnTo>
                    <a:pt x="193" y="1275"/>
                  </a:lnTo>
                  <a:lnTo>
                    <a:pt x="191" y="1266"/>
                  </a:lnTo>
                  <a:lnTo>
                    <a:pt x="191" y="1256"/>
                  </a:lnTo>
                  <a:lnTo>
                    <a:pt x="197" y="1248"/>
                  </a:lnTo>
                  <a:lnTo>
                    <a:pt x="198" y="1241"/>
                  </a:lnTo>
                  <a:lnTo>
                    <a:pt x="198" y="1232"/>
                  </a:lnTo>
                  <a:lnTo>
                    <a:pt x="198" y="1222"/>
                  </a:lnTo>
                  <a:lnTo>
                    <a:pt x="194" y="1217"/>
                  </a:lnTo>
                  <a:lnTo>
                    <a:pt x="190" y="1212"/>
                  </a:lnTo>
                  <a:lnTo>
                    <a:pt x="191" y="1202"/>
                  </a:lnTo>
                  <a:lnTo>
                    <a:pt x="186" y="1195"/>
                  </a:lnTo>
                  <a:lnTo>
                    <a:pt x="190" y="1187"/>
                  </a:lnTo>
                  <a:lnTo>
                    <a:pt x="186" y="1178"/>
                  </a:lnTo>
                  <a:lnTo>
                    <a:pt x="182" y="1169"/>
                  </a:lnTo>
                  <a:lnTo>
                    <a:pt x="173" y="1161"/>
                  </a:lnTo>
                  <a:lnTo>
                    <a:pt x="166" y="1154"/>
                  </a:lnTo>
                  <a:lnTo>
                    <a:pt x="158" y="1146"/>
                  </a:lnTo>
                  <a:lnTo>
                    <a:pt x="149" y="1139"/>
                  </a:lnTo>
                  <a:lnTo>
                    <a:pt x="142" y="1132"/>
                  </a:lnTo>
                  <a:lnTo>
                    <a:pt x="134" y="1124"/>
                  </a:lnTo>
                  <a:lnTo>
                    <a:pt x="127" y="1116"/>
                  </a:lnTo>
                  <a:lnTo>
                    <a:pt x="121" y="1107"/>
                  </a:lnTo>
                  <a:lnTo>
                    <a:pt x="119" y="1098"/>
                  </a:lnTo>
                  <a:lnTo>
                    <a:pt x="119" y="1089"/>
                  </a:lnTo>
                  <a:lnTo>
                    <a:pt x="121" y="1079"/>
                  </a:lnTo>
                  <a:lnTo>
                    <a:pt x="127" y="1071"/>
                  </a:lnTo>
                  <a:lnTo>
                    <a:pt x="135" y="1064"/>
                  </a:lnTo>
                  <a:lnTo>
                    <a:pt x="142" y="1056"/>
                  </a:lnTo>
                  <a:lnTo>
                    <a:pt x="149" y="1048"/>
                  </a:lnTo>
                  <a:lnTo>
                    <a:pt x="156" y="1040"/>
                  </a:lnTo>
                  <a:lnTo>
                    <a:pt x="165" y="1033"/>
                  </a:lnTo>
                  <a:lnTo>
                    <a:pt x="177" y="1030"/>
                  </a:lnTo>
                  <a:lnTo>
                    <a:pt x="190" y="1029"/>
                  </a:lnTo>
                  <a:lnTo>
                    <a:pt x="204" y="1030"/>
                  </a:lnTo>
                  <a:lnTo>
                    <a:pt x="216" y="1032"/>
                  </a:lnTo>
                  <a:lnTo>
                    <a:pt x="222" y="1027"/>
                  </a:lnTo>
                  <a:lnTo>
                    <a:pt x="232" y="1026"/>
                  </a:lnTo>
                  <a:lnTo>
                    <a:pt x="244" y="1025"/>
                  </a:lnTo>
                  <a:lnTo>
                    <a:pt x="257" y="1023"/>
                  </a:lnTo>
                  <a:lnTo>
                    <a:pt x="268" y="1019"/>
                  </a:lnTo>
                  <a:lnTo>
                    <a:pt x="279" y="1014"/>
                  </a:lnTo>
                  <a:lnTo>
                    <a:pt x="291" y="1009"/>
                  </a:lnTo>
                  <a:lnTo>
                    <a:pt x="302" y="1003"/>
                  </a:lnTo>
                  <a:lnTo>
                    <a:pt x="313" y="1002"/>
                  </a:lnTo>
                  <a:lnTo>
                    <a:pt x="323" y="1002"/>
                  </a:lnTo>
                  <a:lnTo>
                    <a:pt x="331" y="994"/>
                  </a:lnTo>
                  <a:lnTo>
                    <a:pt x="339" y="987"/>
                  </a:lnTo>
                  <a:lnTo>
                    <a:pt x="348" y="980"/>
                  </a:lnTo>
                  <a:lnTo>
                    <a:pt x="356" y="973"/>
                  </a:lnTo>
                  <a:lnTo>
                    <a:pt x="363" y="965"/>
                  </a:lnTo>
                  <a:lnTo>
                    <a:pt x="370" y="957"/>
                  </a:lnTo>
                  <a:lnTo>
                    <a:pt x="377" y="949"/>
                  </a:lnTo>
                  <a:lnTo>
                    <a:pt x="384" y="942"/>
                  </a:lnTo>
                  <a:lnTo>
                    <a:pt x="393" y="934"/>
                  </a:lnTo>
                  <a:lnTo>
                    <a:pt x="401" y="927"/>
                  </a:lnTo>
                  <a:lnTo>
                    <a:pt x="408" y="919"/>
                  </a:lnTo>
                  <a:lnTo>
                    <a:pt x="411" y="910"/>
                  </a:lnTo>
                  <a:lnTo>
                    <a:pt x="414" y="901"/>
                  </a:lnTo>
                  <a:lnTo>
                    <a:pt x="414" y="892"/>
                  </a:lnTo>
                  <a:lnTo>
                    <a:pt x="412" y="883"/>
                  </a:lnTo>
                  <a:lnTo>
                    <a:pt x="407" y="874"/>
                  </a:lnTo>
                  <a:lnTo>
                    <a:pt x="400" y="866"/>
                  </a:lnTo>
                  <a:lnTo>
                    <a:pt x="393" y="858"/>
                  </a:lnTo>
                  <a:lnTo>
                    <a:pt x="386" y="850"/>
                  </a:lnTo>
                  <a:lnTo>
                    <a:pt x="380" y="842"/>
                  </a:lnTo>
                  <a:lnTo>
                    <a:pt x="374" y="833"/>
                  </a:lnTo>
                  <a:lnTo>
                    <a:pt x="370" y="825"/>
                  </a:lnTo>
                  <a:lnTo>
                    <a:pt x="366" y="816"/>
                  </a:lnTo>
                  <a:lnTo>
                    <a:pt x="363" y="807"/>
                  </a:lnTo>
                  <a:lnTo>
                    <a:pt x="362" y="797"/>
                  </a:lnTo>
                  <a:lnTo>
                    <a:pt x="356" y="791"/>
                  </a:lnTo>
                  <a:lnTo>
                    <a:pt x="353" y="782"/>
                  </a:lnTo>
                  <a:lnTo>
                    <a:pt x="353" y="773"/>
                  </a:lnTo>
                  <a:lnTo>
                    <a:pt x="349" y="766"/>
                  </a:lnTo>
                  <a:lnTo>
                    <a:pt x="349" y="759"/>
                  </a:lnTo>
                  <a:lnTo>
                    <a:pt x="348" y="751"/>
                  </a:lnTo>
                  <a:lnTo>
                    <a:pt x="339" y="743"/>
                  </a:lnTo>
                  <a:lnTo>
                    <a:pt x="332" y="735"/>
                  </a:lnTo>
                  <a:lnTo>
                    <a:pt x="327" y="727"/>
                  </a:lnTo>
                  <a:lnTo>
                    <a:pt x="314" y="714"/>
                  </a:lnTo>
                  <a:lnTo>
                    <a:pt x="310" y="705"/>
                  </a:lnTo>
                  <a:lnTo>
                    <a:pt x="303" y="697"/>
                  </a:lnTo>
                  <a:lnTo>
                    <a:pt x="300" y="690"/>
                  </a:lnTo>
                  <a:lnTo>
                    <a:pt x="289" y="686"/>
                  </a:lnTo>
                  <a:lnTo>
                    <a:pt x="279" y="680"/>
                  </a:lnTo>
                  <a:lnTo>
                    <a:pt x="270" y="673"/>
                  </a:lnTo>
                  <a:lnTo>
                    <a:pt x="261" y="666"/>
                  </a:lnTo>
                  <a:lnTo>
                    <a:pt x="254" y="658"/>
                  </a:lnTo>
                  <a:lnTo>
                    <a:pt x="249" y="649"/>
                  </a:lnTo>
                  <a:lnTo>
                    <a:pt x="250" y="639"/>
                  </a:lnTo>
                  <a:lnTo>
                    <a:pt x="250" y="630"/>
                  </a:lnTo>
                  <a:lnTo>
                    <a:pt x="250" y="621"/>
                  </a:lnTo>
                  <a:lnTo>
                    <a:pt x="250" y="611"/>
                  </a:lnTo>
                  <a:lnTo>
                    <a:pt x="250" y="602"/>
                  </a:lnTo>
                  <a:lnTo>
                    <a:pt x="250" y="593"/>
                  </a:lnTo>
                  <a:lnTo>
                    <a:pt x="251" y="583"/>
                  </a:lnTo>
                  <a:lnTo>
                    <a:pt x="251" y="574"/>
                  </a:lnTo>
                  <a:lnTo>
                    <a:pt x="253" y="559"/>
                  </a:lnTo>
                  <a:lnTo>
                    <a:pt x="254" y="550"/>
                  </a:lnTo>
                  <a:lnTo>
                    <a:pt x="260" y="541"/>
                  </a:lnTo>
                  <a:lnTo>
                    <a:pt x="268" y="533"/>
                  </a:lnTo>
                  <a:lnTo>
                    <a:pt x="275" y="526"/>
                  </a:lnTo>
                  <a:lnTo>
                    <a:pt x="282" y="518"/>
                  </a:lnTo>
                  <a:lnTo>
                    <a:pt x="289" y="510"/>
                  </a:lnTo>
                  <a:lnTo>
                    <a:pt x="298" y="503"/>
                  </a:lnTo>
                  <a:lnTo>
                    <a:pt x="305" y="495"/>
                  </a:lnTo>
                  <a:lnTo>
                    <a:pt x="312" y="487"/>
                  </a:lnTo>
                  <a:lnTo>
                    <a:pt x="316" y="478"/>
                  </a:lnTo>
                  <a:lnTo>
                    <a:pt x="321" y="470"/>
                  </a:lnTo>
                  <a:lnTo>
                    <a:pt x="324" y="461"/>
                  </a:lnTo>
                  <a:lnTo>
                    <a:pt x="327" y="451"/>
                  </a:lnTo>
                  <a:lnTo>
                    <a:pt x="328" y="442"/>
                  </a:lnTo>
                  <a:lnTo>
                    <a:pt x="330" y="433"/>
                  </a:lnTo>
                  <a:lnTo>
                    <a:pt x="331" y="424"/>
                  </a:lnTo>
                  <a:lnTo>
                    <a:pt x="332" y="414"/>
                  </a:lnTo>
                  <a:lnTo>
                    <a:pt x="331" y="405"/>
                  </a:lnTo>
                  <a:lnTo>
                    <a:pt x="330" y="396"/>
                  </a:lnTo>
                  <a:lnTo>
                    <a:pt x="327" y="387"/>
                  </a:lnTo>
                  <a:lnTo>
                    <a:pt x="323" y="378"/>
                  </a:lnTo>
                  <a:lnTo>
                    <a:pt x="320" y="369"/>
                  </a:lnTo>
                  <a:lnTo>
                    <a:pt x="314" y="360"/>
                  </a:lnTo>
                  <a:lnTo>
                    <a:pt x="310" y="351"/>
                  </a:lnTo>
                  <a:lnTo>
                    <a:pt x="307" y="342"/>
                  </a:lnTo>
                  <a:lnTo>
                    <a:pt x="305" y="333"/>
                  </a:lnTo>
                  <a:lnTo>
                    <a:pt x="303" y="324"/>
                  </a:lnTo>
                  <a:lnTo>
                    <a:pt x="302" y="315"/>
                  </a:lnTo>
                  <a:lnTo>
                    <a:pt x="302" y="305"/>
                  </a:lnTo>
                  <a:lnTo>
                    <a:pt x="305" y="296"/>
                  </a:lnTo>
                  <a:lnTo>
                    <a:pt x="307" y="287"/>
                  </a:lnTo>
                  <a:lnTo>
                    <a:pt x="314" y="279"/>
                  </a:lnTo>
                  <a:lnTo>
                    <a:pt x="323" y="272"/>
                  </a:lnTo>
                  <a:lnTo>
                    <a:pt x="330" y="264"/>
                  </a:lnTo>
                  <a:lnTo>
                    <a:pt x="337" y="256"/>
                  </a:lnTo>
                  <a:lnTo>
                    <a:pt x="338" y="247"/>
                  </a:lnTo>
                  <a:lnTo>
                    <a:pt x="338" y="238"/>
                  </a:lnTo>
                  <a:lnTo>
                    <a:pt x="338" y="228"/>
                  </a:lnTo>
                  <a:lnTo>
                    <a:pt x="335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01920" y="3625920"/>
              <a:ext cx="1430280" cy="2027160"/>
            </a:xfrm>
            <a:custGeom>
              <a:avLst/>
              <a:gdLst/>
              <a:ahLst/>
              <a:rect l="l" t="t" r="r" b="b"/>
              <a:pathLst>
                <a:path w="2703" h="2554">
                  <a:moveTo>
                    <a:pt x="336" y="218"/>
                  </a:moveTo>
                  <a:lnTo>
                    <a:pt x="344" y="211"/>
                  </a:lnTo>
                  <a:lnTo>
                    <a:pt x="350" y="203"/>
                  </a:lnTo>
                  <a:lnTo>
                    <a:pt x="354" y="194"/>
                  </a:lnTo>
                  <a:lnTo>
                    <a:pt x="350" y="185"/>
                  </a:lnTo>
                  <a:lnTo>
                    <a:pt x="341" y="179"/>
                  </a:lnTo>
                  <a:lnTo>
                    <a:pt x="332" y="172"/>
                  </a:lnTo>
                  <a:lnTo>
                    <a:pt x="322" y="166"/>
                  </a:lnTo>
                  <a:lnTo>
                    <a:pt x="315" y="158"/>
                  </a:lnTo>
                  <a:lnTo>
                    <a:pt x="314" y="149"/>
                  </a:lnTo>
                  <a:lnTo>
                    <a:pt x="322" y="147"/>
                  </a:lnTo>
                  <a:lnTo>
                    <a:pt x="334" y="149"/>
                  </a:lnTo>
                  <a:lnTo>
                    <a:pt x="347" y="151"/>
                  </a:lnTo>
                  <a:lnTo>
                    <a:pt x="360" y="154"/>
                  </a:lnTo>
                  <a:lnTo>
                    <a:pt x="372" y="156"/>
                  </a:lnTo>
                  <a:lnTo>
                    <a:pt x="385" y="158"/>
                  </a:lnTo>
                  <a:lnTo>
                    <a:pt x="397" y="161"/>
                  </a:lnTo>
                  <a:lnTo>
                    <a:pt x="410" y="162"/>
                  </a:lnTo>
                  <a:lnTo>
                    <a:pt x="424" y="163"/>
                  </a:lnTo>
                  <a:lnTo>
                    <a:pt x="437" y="165"/>
                  </a:lnTo>
                  <a:lnTo>
                    <a:pt x="446" y="169"/>
                  </a:lnTo>
                  <a:lnTo>
                    <a:pt x="448" y="179"/>
                  </a:lnTo>
                  <a:lnTo>
                    <a:pt x="460" y="181"/>
                  </a:lnTo>
                  <a:lnTo>
                    <a:pt x="473" y="185"/>
                  </a:lnTo>
                  <a:lnTo>
                    <a:pt x="484" y="188"/>
                  </a:lnTo>
                  <a:lnTo>
                    <a:pt x="498" y="190"/>
                  </a:lnTo>
                  <a:lnTo>
                    <a:pt x="509" y="194"/>
                  </a:lnTo>
                  <a:lnTo>
                    <a:pt x="520" y="198"/>
                  </a:lnTo>
                  <a:lnTo>
                    <a:pt x="533" y="203"/>
                  </a:lnTo>
                  <a:lnTo>
                    <a:pt x="540" y="201"/>
                  </a:lnTo>
                  <a:lnTo>
                    <a:pt x="551" y="197"/>
                  </a:lnTo>
                  <a:lnTo>
                    <a:pt x="564" y="193"/>
                  </a:lnTo>
                  <a:lnTo>
                    <a:pt x="576" y="190"/>
                  </a:lnTo>
                  <a:lnTo>
                    <a:pt x="588" y="185"/>
                  </a:lnTo>
                  <a:lnTo>
                    <a:pt x="592" y="177"/>
                  </a:lnTo>
                  <a:lnTo>
                    <a:pt x="594" y="167"/>
                  </a:lnTo>
                  <a:lnTo>
                    <a:pt x="596" y="158"/>
                  </a:lnTo>
                  <a:lnTo>
                    <a:pt x="597" y="149"/>
                  </a:lnTo>
                  <a:lnTo>
                    <a:pt x="604" y="142"/>
                  </a:lnTo>
                  <a:lnTo>
                    <a:pt x="617" y="139"/>
                  </a:lnTo>
                  <a:lnTo>
                    <a:pt x="629" y="136"/>
                  </a:lnTo>
                  <a:lnTo>
                    <a:pt x="642" y="134"/>
                  </a:lnTo>
                  <a:lnTo>
                    <a:pt x="667" y="128"/>
                  </a:lnTo>
                  <a:lnTo>
                    <a:pt x="673" y="120"/>
                  </a:lnTo>
                  <a:lnTo>
                    <a:pt x="678" y="111"/>
                  </a:lnTo>
                  <a:lnTo>
                    <a:pt x="684" y="103"/>
                  </a:lnTo>
                  <a:lnTo>
                    <a:pt x="694" y="97"/>
                  </a:lnTo>
                  <a:lnTo>
                    <a:pt x="705" y="92"/>
                  </a:lnTo>
                  <a:lnTo>
                    <a:pt x="715" y="86"/>
                  </a:lnTo>
                  <a:lnTo>
                    <a:pt x="724" y="80"/>
                  </a:lnTo>
                  <a:lnTo>
                    <a:pt x="737" y="80"/>
                  </a:lnTo>
                  <a:lnTo>
                    <a:pt x="751" y="79"/>
                  </a:lnTo>
                  <a:lnTo>
                    <a:pt x="765" y="78"/>
                  </a:lnTo>
                  <a:lnTo>
                    <a:pt x="778" y="77"/>
                  </a:lnTo>
                  <a:lnTo>
                    <a:pt x="792" y="77"/>
                  </a:lnTo>
                  <a:lnTo>
                    <a:pt x="803" y="78"/>
                  </a:lnTo>
                  <a:lnTo>
                    <a:pt x="810" y="87"/>
                  </a:lnTo>
                  <a:lnTo>
                    <a:pt x="813" y="96"/>
                  </a:lnTo>
                  <a:lnTo>
                    <a:pt x="820" y="89"/>
                  </a:lnTo>
                  <a:lnTo>
                    <a:pt x="825" y="80"/>
                  </a:lnTo>
                  <a:lnTo>
                    <a:pt x="831" y="72"/>
                  </a:lnTo>
                  <a:lnTo>
                    <a:pt x="836" y="63"/>
                  </a:lnTo>
                  <a:lnTo>
                    <a:pt x="841" y="54"/>
                  </a:lnTo>
                  <a:lnTo>
                    <a:pt x="845" y="45"/>
                  </a:lnTo>
                  <a:lnTo>
                    <a:pt x="850" y="37"/>
                  </a:lnTo>
                  <a:lnTo>
                    <a:pt x="855" y="27"/>
                  </a:lnTo>
                  <a:lnTo>
                    <a:pt x="859" y="18"/>
                  </a:lnTo>
                  <a:lnTo>
                    <a:pt x="864" y="10"/>
                  </a:lnTo>
                  <a:lnTo>
                    <a:pt x="873" y="4"/>
                  </a:lnTo>
                  <a:lnTo>
                    <a:pt x="885" y="1"/>
                  </a:lnTo>
                  <a:lnTo>
                    <a:pt x="899" y="1"/>
                  </a:lnTo>
                  <a:lnTo>
                    <a:pt x="912" y="0"/>
                  </a:lnTo>
                  <a:lnTo>
                    <a:pt x="926" y="2"/>
                  </a:lnTo>
                  <a:lnTo>
                    <a:pt x="937" y="5"/>
                  </a:lnTo>
                  <a:lnTo>
                    <a:pt x="948" y="10"/>
                  </a:lnTo>
                  <a:lnTo>
                    <a:pt x="961" y="13"/>
                  </a:lnTo>
                  <a:lnTo>
                    <a:pt x="973" y="15"/>
                  </a:lnTo>
                  <a:lnTo>
                    <a:pt x="986" y="18"/>
                  </a:lnTo>
                  <a:lnTo>
                    <a:pt x="997" y="22"/>
                  </a:lnTo>
                  <a:lnTo>
                    <a:pt x="1010" y="25"/>
                  </a:lnTo>
                  <a:lnTo>
                    <a:pt x="1021" y="30"/>
                  </a:lnTo>
                  <a:lnTo>
                    <a:pt x="1031" y="36"/>
                  </a:lnTo>
                  <a:lnTo>
                    <a:pt x="1039" y="43"/>
                  </a:lnTo>
                  <a:lnTo>
                    <a:pt x="1047" y="50"/>
                  </a:lnTo>
                  <a:lnTo>
                    <a:pt x="1056" y="58"/>
                  </a:lnTo>
                  <a:lnTo>
                    <a:pt x="1068" y="70"/>
                  </a:lnTo>
                  <a:lnTo>
                    <a:pt x="1080" y="76"/>
                  </a:lnTo>
                  <a:lnTo>
                    <a:pt x="1088" y="83"/>
                  </a:lnTo>
                  <a:lnTo>
                    <a:pt x="1085" y="91"/>
                  </a:lnTo>
                  <a:lnTo>
                    <a:pt x="1068" y="105"/>
                  </a:lnTo>
                  <a:lnTo>
                    <a:pt x="1054" y="109"/>
                  </a:lnTo>
                  <a:lnTo>
                    <a:pt x="1052" y="118"/>
                  </a:lnTo>
                  <a:lnTo>
                    <a:pt x="1040" y="121"/>
                  </a:lnTo>
                  <a:lnTo>
                    <a:pt x="1033" y="128"/>
                  </a:lnTo>
                  <a:lnTo>
                    <a:pt x="1025" y="136"/>
                  </a:lnTo>
                  <a:lnTo>
                    <a:pt x="1019" y="144"/>
                  </a:lnTo>
                  <a:lnTo>
                    <a:pt x="1015" y="153"/>
                  </a:lnTo>
                  <a:lnTo>
                    <a:pt x="1010" y="162"/>
                  </a:lnTo>
                  <a:lnTo>
                    <a:pt x="1004" y="170"/>
                  </a:lnTo>
                  <a:lnTo>
                    <a:pt x="998" y="178"/>
                  </a:lnTo>
                  <a:lnTo>
                    <a:pt x="992" y="187"/>
                  </a:lnTo>
                  <a:lnTo>
                    <a:pt x="986" y="195"/>
                  </a:lnTo>
                  <a:lnTo>
                    <a:pt x="985" y="204"/>
                  </a:lnTo>
                  <a:lnTo>
                    <a:pt x="993" y="211"/>
                  </a:lnTo>
                  <a:lnTo>
                    <a:pt x="1000" y="219"/>
                  </a:lnTo>
                  <a:lnTo>
                    <a:pt x="1007" y="227"/>
                  </a:lnTo>
                  <a:lnTo>
                    <a:pt x="1015" y="236"/>
                  </a:lnTo>
                  <a:lnTo>
                    <a:pt x="1025" y="244"/>
                  </a:lnTo>
                  <a:lnTo>
                    <a:pt x="1033" y="250"/>
                  </a:lnTo>
                  <a:lnTo>
                    <a:pt x="1040" y="248"/>
                  </a:lnTo>
                  <a:lnTo>
                    <a:pt x="1043" y="238"/>
                  </a:lnTo>
                  <a:lnTo>
                    <a:pt x="1050" y="229"/>
                  </a:lnTo>
                  <a:lnTo>
                    <a:pt x="1068" y="220"/>
                  </a:lnTo>
                  <a:lnTo>
                    <a:pt x="1081" y="217"/>
                  </a:lnTo>
                  <a:lnTo>
                    <a:pt x="1094" y="215"/>
                  </a:lnTo>
                  <a:lnTo>
                    <a:pt x="1106" y="213"/>
                  </a:lnTo>
                  <a:lnTo>
                    <a:pt x="1119" y="211"/>
                  </a:lnTo>
                  <a:lnTo>
                    <a:pt x="1133" y="210"/>
                  </a:lnTo>
                  <a:lnTo>
                    <a:pt x="1145" y="208"/>
                  </a:lnTo>
                  <a:lnTo>
                    <a:pt x="1155" y="203"/>
                  </a:lnTo>
                  <a:lnTo>
                    <a:pt x="1165" y="197"/>
                  </a:lnTo>
                  <a:lnTo>
                    <a:pt x="1176" y="191"/>
                  </a:lnTo>
                  <a:lnTo>
                    <a:pt x="1186" y="184"/>
                  </a:lnTo>
                  <a:lnTo>
                    <a:pt x="1196" y="178"/>
                  </a:lnTo>
                  <a:lnTo>
                    <a:pt x="1205" y="171"/>
                  </a:lnTo>
                  <a:lnTo>
                    <a:pt x="1215" y="165"/>
                  </a:lnTo>
                  <a:lnTo>
                    <a:pt x="1225" y="159"/>
                  </a:lnTo>
                  <a:lnTo>
                    <a:pt x="1235" y="153"/>
                  </a:lnTo>
                  <a:lnTo>
                    <a:pt x="1245" y="148"/>
                  </a:lnTo>
                  <a:lnTo>
                    <a:pt x="1254" y="145"/>
                  </a:lnTo>
                  <a:lnTo>
                    <a:pt x="1265" y="153"/>
                  </a:lnTo>
                  <a:lnTo>
                    <a:pt x="1277" y="157"/>
                  </a:lnTo>
                  <a:lnTo>
                    <a:pt x="1289" y="160"/>
                  </a:lnTo>
                  <a:lnTo>
                    <a:pt x="1302" y="163"/>
                  </a:lnTo>
                  <a:lnTo>
                    <a:pt x="1314" y="166"/>
                  </a:lnTo>
                  <a:lnTo>
                    <a:pt x="1327" y="165"/>
                  </a:lnTo>
                  <a:lnTo>
                    <a:pt x="1340" y="165"/>
                  </a:lnTo>
                  <a:lnTo>
                    <a:pt x="1345" y="157"/>
                  </a:lnTo>
                  <a:lnTo>
                    <a:pt x="1351" y="149"/>
                  </a:lnTo>
                  <a:lnTo>
                    <a:pt x="1356" y="140"/>
                  </a:lnTo>
                  <a:lnTo>
                    <a:pt x="1362" y="128"/>
                  </a:lnTo>
                  <a:lnTo>
                    <a:pt x="1366" y="119"/>
                  </a:lnTo>
                  <a:lnTo>
                    <a:pt x="1369" y="110"/>
                  </a:lnTo>
                  <a:lnTo>
                    <a:pt x="1370" y="101"/>
                  </a:lnTo>
                  <a:lnTo>
                    <a:pt x="1372" y="92"/>
                  </a:lnTo>
                  <a:lnTo>
                    <a:pt x="1375" y="82"/>
                  </a:lnTo>
                  <a:lnTo>
                    <a:pt x="1377" y="73"/>
                  </a:lnTo>
                  <a:lnTo>
                    <a:pt x="1383" y="65"/>
                  </a:lnTo>
                  <a:lnTo>
                    <a:pt x="1389" y="56"/>
                  </a:lnTo>
                  <a:lnTo>
                    <a:pt x="1393" y="47"/>
                  </a:lnTo>
                  <a:lnTo>
                    <a:pt x="1396" y="36"/>
                  </a:lnTo>
                  <a:lnTo>
                    <a:pt x="1400" y="29"/>
                  </a:lnTo>
                  <a:lnTo>
                    <a:pt x="1409" y="30"/>
                  </a:lnTo>
                  <a:lnTo>
                    <a:pt x="1422" y="33"/>
                  </a:lnTo>
                  <a:lnTo>
                    <a:pt x="1435" y="38"/>
                  </a:lnTo>
                  <a:lnTo>
                    <a:pt x="1447" y="43"/>
                  </a:lnTo>
                  <a:lnTo>
                    <a:pt x="1460" y="46"/>
                  </a:lnTo>
                  <a:lnTo>
                    <a:pt x="1472" y="48"/>
                  </a:lnTo>
                  <a:lnTo>
                    <a:pt x="1485" y="50"/>
                  </a:lnTo>
                  <a:lnTo>
                    <a:pt x="1499" y="51"/>
                  </a:lnTo>
                  <a:lnTo>
                    <a:pt x="1510" y="54"/>
                  </a:lnTo>
                  <a:lnTo>
                    <a:pt x="1523" y="52"/>
                  </a:lnTo>
                  <a:lnTo>
                    <a:pt x="1534" y="47"/>
                  </a:lnTo>
                  <a:lnTo>
                    <a:pt x="1544" y="41"/>
                  </a:lnTo>
                  <a:lnTo>
                    <a:pt x="1552" y="31"/>
                  </a:lnTo>
                  <a:lnTo>
                    <a:pt x="1559" y="24"/>
                  </a:lnTo>
                  <a:lnTo>
                    <a:pt x="1567" y="26"/>
                  </a:lnTo>
                  <a:lnTo>
                    <a:pt x="1574" y="34"/>
                  </a:lnTo>
                  <a:lnTo>
                    <a:pt x="1581" y="43"/>
                  </a:lnTo>
                  <a:lnTo>
                    <a:pt x="1587" y="53"/>
                  </a:lnTo>
                  <a:lnTo>
                    <a:pt x="1594" y="61"/>
                  </a:lnTo>
                  <a:lnTo>
                    <a:pt x="1601" y="69"/>
                  </a:lnTo>
                  <a:lnTo>
                    <a:pt x="1607" y="77"/>
                  </a:lnTo>
                  <a:lnTo>
                    <a:pt x="1614" y="85"/>
                  </a:lnTo>
                  <a:lnTo>
                    <a:pt x="1619" y="94"/>
                  </a:lnTo>
                  <a:lnTo>
                    <a:pt x="1625" y="102"/>
                  </a:lnTo>
                  <a:lnTo>
                    <a:pt x="1630" y="110"/>
                  </a:lnTo>
                  <a:lnTo>
                    <a:pt x="1633" y="119"/>
                  </a:lnTo>
                  <a:lnTo>
                    <a:pt x="1637" y="128"/>
                  </a:lnTo>
                  <a:lnTo>
                    <a:pt x="1640" y="137"/>
                  </a:lnTo>
                  <a:lnTo>
                    <a:pt x="1643" y="146"/>
                  </a:lnTo>
                  <a:lnTo>
                    <a:pt x="1647" y="155"/>
                  </a:lnTo>
                  <a:lnTo>
                    <a:pt x="1650" y="164"/>
                  </a:lnTo>
                  <a:lnTo>
                    <a:pt x="1653" y="174"/>
                  </a:lnTo>
                  <a:lnTo>
                    <a:pt x="1656" y="183"/>
                  </a:lnTo>
                  <a:lnTo>
                    <a:pt x="1660" y="192"/>
                  </a:lnTo>
                  <a:lnTo>
                    <a:pt x="1665" y="200"/>
                  </a:lnTo>
                  <a:lnTo>
                    <a:pt x="1674" y="207"/>
                  </a:lnTo>
                  <a:lnTo>
                    <a:pt x="1682" y="214"/>
                  </a:lnTo>
                  <a:lnTo>
                    <a:pt x="1690" y="222"/>
                  </a:lnTo>
                  <a:lnTo>
                    <a:pt x="1699" y="229"/>
                  </a:lnTo>
                  <a:lnTo>
                    <a:pt x="1706" y="236"/>
                  </a:lnTo>
                  <a:lnTo>
                    <a:pt x="1714" y="244"/>
                  </a:lnTo>
                  <a:lnTo>
                    <a:pt x="1723" y="251"/>
                  </a:lnTo>
                  <a:lnTo>
                    <a:pt x="1730" y="260"/>
                  </a:lnTo>
                  <a:lnTo>
                    <a:pt x="1738" y="267"/>
                  </a:lnTo>
                  <a:lnTo>
                    <a:pt x="1746" y="274"/>
                  </a:lnTo>
                  <a:lnTo>
                    <a:pt x="1755" y="281"/>
                  </a:lnTo>
                  <a:lnTo>
                    <a:pt x="1765" y="287"/>
                  </a:lnTo>
                  <a:lnTo>
                    <a:pt x="1776" y="293"/>
                  </a:lnTo>
                  <a:lnTo>
                    <a:pt x="1786" y="298"/>
                  </a:lnTo>
                  <a:lnTo>
                    <a:pt x="1797" y="303"/>
                  </a:lnTo>
                  <a:lnTo>
                    <a:pt x="1808" y="308"/>
                  </a:lnTo>
                  <a:lnTo>
                    <a:pt x="1819" y="313"/>
                  </a:lnTo>
                  <a:lnTo>
                    <a:pt x="1830" y="317"/>
                  </a:lnTo>
                  <a:lnTo>
                    <a:pt x="1841" y="322"/>
                  </a:lnTo>
                  <a:lnTo>
                    <a:pt x="1853" y="328"/>
                  </a:lnTo>
                  <a:lnTo>
                    <a:pt x="1862" y="334"/>
                  </a:lnTo>
                  <a:lnTo>
                    <a:pt x="1874" y="340"/>
                  </a:lnTo>
                  <a:lnTo>
                    <a:pt x="1883" y="347"/>
                  </a:lnTo>
                  <a:lnTo>
                    <a:pt x="1893" y="353"/>
                  </a:lnTo>
                  <a:lnTo>
                    <a:pt x="1904" y="359"/>
                  </a:lnTo>
                  <a:lnTo>
                    <a:pt x="1914" y="365"/>
                  </a:lnTo>
                  <a:lnTo>
                    <a:pt x="1924" y="371"/>
                  </a:lnTo>
                  <a:lnTo>
                    <a:pt x="1935" y="375"/>
                  </a:lnTo>
                  <a:lnTo>
                    <a:pt x="1946" y="379"/>
                  </a:lnTo>
                  <a:lnTo>
                    <a:pt x="1957" y="380"/>
                  </a:lnTo>
                  <a:lnTo>
                    <a:pt x="1969" y="375"/>
                  </a:lnTo>
                  <a:lnTo>
                    <a:pt x="1981" y="369"/>
                  </a:lnTo>
                  <a:lnTo>
                    <a:pt x="1992" y="366"/>
                  </a:lnTo>
                  <a:lnTo>
                    <a:pt x="2004" y="369"/>
                  </a:lnTo>
                  <a:lnTo>
                    <a:pt x="2015" y="374"/>
                  </a:lnTo>
                  <a:lnTo>
                    <a:pt x="2026" y="380"/>
                  </a:lnTo>
                  <a:lnTo>
                    <a:pt x="2037" y="386"/>
                  </a:lnTo>
                  <a:lnTo>
                    <a:pt x="2050" y="390"/>
                  </a:lnTo>
                  <a:lnTo>
                    <a:pt x="2064" y="389"/>
                  </a:lnTo>
                  <a:lnTo>
                    <a:pt x="2073" y="385"/>
                  </a:lnTo>
                  <a:lnTo>
                    <a:pt x="2079" y="376"/>
                  </a:lnTo>
                  <a:lnTo>
                    <a:pt x="2086" y="368"/>
                  </a:lnTo>
                  <a:lnTo>
                    <a:pt x="2092" y="359"/>
                  </a:lnTo>
                  <a:lnTo>
                    <a:pt x="2097" y="351"/>
                  </a:lnTo>
                  <a:lnTo>
                    <a:pt x="2101" y="342"/>
                  </a:lnTo>
                  <a:lnTo>
                    <a:pt x="2107" y="334"/>
                  </a:lnTo>
                  <a:lnTo>
                    <a:pt x="2110" y="325"/>
                  </a:lnTo>
                  <a:lnTo>
                    <a:pt x="2114" y="316"/>
                  </a:lnTo>
                  <a:lnTo>
                    <a:pt x="2120" y="305"/>
                  </a:lnTo>
                  <a:lnTo>
                    <a:pt x="2124" y="295"/>
                  </a:lnTo>
                  <a:lnTo>
                    <a:pt x="2129" y="287"/>
                  </a:lnTo>
                  <a:lnTo>
                    <a:pt x="2136" y="281"/>
                  </a:lnTo>
                  <a:lnTo>
                    <a:pt x="2145" y="279"/>
                  </a:lnTo>
                  <a:lnTo>
                    <a:pt x="2155" y="282"/>
                  </a:lnTo>
                  <a:lnTo>
                    <a:pt x="2166" y="289"/>
                  </a:lnTo>
                  <a:lnTo>
                    <a:pt x="2177" y="297"/>
                  </a:lnTo>
                  <a:lnTo>
                    <a:pt x="2188" y="303"/>
                  </a:lnTo>
                  <a:lnTo>
                    <a:pt x="2198" y="309"/>
                  </a:lnTo>
                  <a:lnTo>
                    <a:pt x="2210" y="314"/>
                  </a:lnTo>
                  <a:lnTo>
                    <a:pt x="2223" y="316"/>
                  </a:lnTo>
                  <a:lnTo>
                    <a:pt x="2233" y="321"/>
                  </a:lnTo>
                  <a:lnTo>
                    <a:pt x="2244" y="326"/>
                  </a:lnTo>
                  <a:lnTo>
                    <a:pt x="2257" y="329"/>
                  </a:lnTo>
                  <a:lnTo>
                    <a:pt x="2271" y="329"/>
                  </a:lnTo>
                  <a:lnTo>
                    <a:pt x="2283" y="329"/>
                  </a:lnTo>
                  <a:lnTo>
                    <a:pt x="2296" y="331"/>
                  </a:lnTo>
                  <a:lnTo>
                    <a:pt x="2307" y="335"/>
                  </a:lnTo>
                  <a:lnTo>
                    <a:pt x="2320" y="338"/>
                  </a:lnTo>
                  <a:lnTo>
                    <a:pt x="2334" y="343"/>
                  </a:lnTo>
                  <a:lnTo>
                    <a:pt x="2347" y="347"/>
                  </a:lnTo>
                  <a:lnTo>
                    <a:pt x="2352" y="344"/>
                  </a:lnTo>
                  <a:lnTo>
                    <a:pt x="2350" y="335"/>
                  </a:lnTo>
                  <a:lnTo>
                    <a:pt x="2347" y="325"/>
                  </a:lnTo>
                  <a:lnTo>
                    <a:pt x="2346" y="314"/>
                  </a:lnTo>
                  <a:lnTo>
                    <a:pt x="2347" y="305"/>
                  </a:lnTo>
                  <a:lnTo>
                    <a:pt x="2353" y="297"/>
                  </a:lnTo>
                  <a:lnTo>
                    <a:pt x="2361" y="289"/>
                  </a:lnTo>
                  <a:lnTo>
                    <a:pt x="2370" y="282"/>
                  </a:lnTo>
                  <a:lnTo>
                    <a:pt x="2380" y="275"/>
                  </a:lnTo>
                  <a:lnTo>
                    <a:pt x="2391" y="270"/>
                  </a:lnTo>
                  <a:lnTo>
                    <a:pt x="2402" y="265"/>
                  </a:lnTo>
                  <a:lnTo>
                    <a:pt x="2413" y="261"/>
                  </a:lnTo>
                  <a:lnTo>
                    <a:pt x="2426" y="258"/>
                  </a:lnTo>
                  <a:lnTo>
                    <a:pt x="2438" y="254"/>
                  </a:lnTo>
                  <a:lnTo>
                    <a:pt x="2451" y="250"/>
                  </a:lnTo>
                  <a:lnTo>
                    <a:pt x="2464" y="248"/>
                  </a:lnTo>
                  <a:lnTo>
                    <a:pt x="2476" y="246"/>
                  </a:lnTo>
                  <a:lnTo>
                    <a:pt x="2489" y="244"/>
                  </a:lnTo>
                  <a:lnTo>
                    <a:pt x="2501" y="241"/>
                  </a:lnTo>
                  <a:lnTo>
                    <a:pt x="2511" y="235"/>
                  </a:lnTo>
                  <a:lnTo>
                    <a:pt x="2522" y="231"/>
                  </a:lnTo>
                  <a:lnTo>
                    <a:pt x="2533" y="236"/>
                  </a:lnTo>
                  <a:lnTo>
                    <a:pt x="2545" y="242"/>
                  </a:lnTo>
                  <a:lnTo>
                    <a:pt x="2554" y="248"/>
                  </a:lnTo>
                  <a:lnTo>
                    <a:pt x="2570" y="255"/>
                  </a:lnTo>
                  <a:lnTo>
                    <a:pt x="2587" y="262"/>
                  </a:lnTo>
                  <a:lnTo>
                    <a:pt x="2598" y="267"/>
                  </a:lnTo>
                  <a:lnTo>
                    <a:pt x="2609" y="271"/>
                  </a:lnTo>
                  <a:lnTo>
                    <a:pt x="2620" y="276"/>
                  </a:lnTo>
                  <a:lnTo>
                    <a:pt x="2630" y="277"/>
                  </a:lnTo>
                  <a:lnTo>
                    <a:pt x="2640" y="283"/>
                  </a:lnTo>
                  <a:lnTo>
                    <a:pt x="2649" y="290"/>
                  </a:lnTo>
                  <a:lnTo>
                    <a:pt x="2659" y="298"/>
                  </a:lnTo>
                  <a:lnTo>
                    <a:pt x="2661" y="304"/>
                  </a:lnTo>
                  <a:lnTo>
                    <a:pt x="2648" y="309"/>
                  </a:lnTo>
                  <a:lnTo>
                    <a:pt x="2640" y="316"/>
                  </a:lnTo>
                  <a:lnTo>
                    <a:pt x="2638" y="325"/>
                  </a:lnTo>
                  <a:lnTo>
                    <a:pt x="2644" y="334"/>
                  </a:lnTo>
                  <a:lnTo>
                    <a:pt x="2651" y="341"/>
                  </a:lnTo>
                  <a:lnTo>
                    <a:pt x="2647" y="350"/>
                  </a:lnTo>
                  <a:lnTo>
                    <a:pt x="2635" y="354"/>
                  </a:lnTo>
                  <a:lnTo>
                    <a:pt x="2623" y="356"/>
                  </a:lnTo>
                  <a:lnTo>
                    <a:pt x="2609" y="358"/>
                  </a:lnTo>
                  <a:lnTo>
                    <a:pt x="2598" y="362"/>
                  </a:lnTo>
                  <a:lnTo>
                    <a:pt x="2592" y="370"/>
                  </a:lnTo>
                  <a:lnTo>
                    <a:pt x="2591" y="380"/>
                  </a:lnTo>
                  <a:lnTo>
                    <a:pt x="2594" y="389"/>
                  </a:lnTo>
                  <a:lnTo>
                    <a:pt x="2599" y="397"/>
                  </a:lnTo>
                  <a:lnTo>
                    <a:pt x="2610" y="397"/>
                  </a:lnTo>
                  <a:lnTo>
                    <a:pt x="2620" y="390"/>
                  </a:lnTo>
                  <a:lnTo>
                    <a:pt x="2631" y="386"/>
                  </a:lnTo>
                  <a:lnTo>
                    <a:pt x="2645" y="386"/>
                  </a:lnTo>
                  <a:lnTo>
                    <a:pt x="2658" y="388"/>
                  </a:lnTo>
                  <a:lnTo>
                    <a:pt x="2670" y="390"/>
                  </a:lnTo>
                  <a:lnTo>
                    <a:pt x="2682" y="395"/>
                  </a:lnTo>
                  <a:lnTo>
                    <a:pt x="2690" y="402"/>
                  </a:lnTo>
                  <a:lnTo>
                    <a:pt x="2697" y="410"/>
                  </a:lnTo>
                  <a:lnTo>
                    <a:pt x="2701" y="419"/>
                  </a:lnTo>
                  <a:lnTo>
                    <a:pt x="2703" y="428"/>
                  </a:lnTo>
                  <a:lnTo>
                    <a:pt x="2703" y="438"/>
                  </a:lnTo>
                  <a:lnTo>
                    <a:pt x="2696" y="445"/>
                  </a:lnTo>
                  <a:lnTo>
                    <a:pt x="2686" y="452"/>
                  </a:lnTo>
                  <a:lnTo>
                    <a:pt x="2673" y="455"/>
                  </a:lnTo>
                  <a:lnTo>
                    <a:pt x="2661" y="457"/>
                  </a:lnTo>
                  <a:lnTo>
                    <a:pt x="2648" y="460"/>
                  </a:lnTo>
                  <a:lnTo>
                    <a:pt x="2635" y="462"/>
                  </a:lnTo>
                  <a:lnTo>
                    <a:pt x="2631" y="471"/>
                  </a:lnTo>
                  <a:lnTo>
                    <a:pt x="2631" y="480"/>
                  </a:lnTo>
                  <a:lnTo>
                    <a:pt x="2626" y="488"/>
                  </a:lnTo>
                  <a:lnTo>
                    <a:pt x="2616" y="494"/>
                  </a:lnTo>
                  <a:lnTo>
                    <a:pt x="2606" y="501"/>
                  </a:lnTo>
                  <a:lnTo>
                    <a:pt x="2596" y="507"/>
                  </a:lnTo>
                  <a:lnTo>
                    <a:pt x="2587" y="513"/>
                  </a:lnTo>
                  <a:lnTo>
                    <a:pt x="2578" y="520"/>
                  </a:lnTo>
                  <a:lnTo>
                    <a:pt x="2568" y="526"/>
                  </a:lnTo>
                  <a:lnTo>
                    <a:pt x="2556" y="529"/>
                  </a:lnTo>
                  <a:lnTo>
                    <a:pt x="2543" y="526"/>
                  </a:lnTo>
                  <a:lnTo>
                    <a:pt x="2536" y="519"/>
                  </a:lnTo>
                  <a:lnTo>
                    <a:pt x="2529" y="511"/>
                  </a:lnTo>
                  <a:lnTo>
                    <a:pt x="2517" y="511"/>
                  </a:lnTo>
                  <a:lnTo>
                    <a:pt x="2505" y="516"/>
                  </a:lnTo>
                  <a:lnTo>
                    <a:pt x="2498" y="524"/>
                  </a:lnTo>
                  <a:lnTo>
                    <a:pt x="2491" y="532"/>
                  </a:lnTo>
                  <a:lnTo>
                    <a:pt x="2486" y="540"/>
                  </a:lnTo>
                  <a:lnTo>
                    <a:pt x="2483" y="551"/>
                  </a:lnTo>
                  <a:lnTo>
                    <a:pt x="2480" y="560"/>
                  </a:lnTo>
                  <a:lnTo>
                    <a:pt x="2473" y="558"/>
                  </a:lnTo>
                  <a:lnTo>
                    <a:pt x="2465" y="550"/>
                  </a:lnTo>
                  <a:lnTo>
                    <a:pt x="2454" y="555"/>
                  </a:lnTo>
                  <a:lnTo>
                    <a:pt x="2445" y="562"/>
                  </a:lnTo>
                  <a:lnTo>
                    <a:pt x="2437" y="569"/>
                  </a:lnTo>
                  <a:lnTo>
                    <a:pt x="2429" y="576"/>
                  </a:lnTo>
                  <a:lnTo>
                    <a:pt x="2416" y="579"/>
                  </a:lnTo>
                  <a:lnTo>
                    <a:pt x="2402" y="579"/>
                  </a:lnTo>
                  <a:lnTo>
                    <a:pt x="2391" y="576"/>
                  </a:lnTo>
                  <a:lnTo>
                    <a:pt x="2380" y="571"/>
                  </a:lnTo>
                  <a:lnTo>
                    <a:pt x="2367" y="569"/>
                  </a:lnTo>
                  <a:lnTo>
                    <a:pt x="2371" y="574"/>
                  </a:lnTo>
                  <a:lnTo>
                    <a:pt x="2382" y="580"/>
                  </a:lnTo>
                  <a:lnTo>
                    <a:pt x="2391" y="587"/>
                  </a:lnTo>
                  <a:lnTo>
                    <a:pt x="2399" y="595"/>
                  </a:lnTo>
                  <a:lnTo>
                    <a:pt x="2406" y="603"/>
                  </a:lnTo>
                  <a:lnTo>
                    <a:pt x="2415" y="610"/>
                  </a:lnTo>
                  <a:lnTo>
                    <a:pt x="2426" y="614"/>
                  </a:lnTo>
                  <a:lnTo>
                    <a:pt x="2440" y="614"/>
                  </a:lnTo>
                  <a:lnTo>
                    <a:pt x="2452" y="613"/>
                  </a:lnTo>
                  <a:lnTo>
                    <a:pt x="2464" y="607"/>
                  </a:lnTo>
                  <a:lnTo>
                    <a:pt x="2472" y="605"/>
                  </a:lnTo>
                  <a:lnTo>
                    <a:pt x="2476" y="615"/>
                  </a:lnTo>
                  <a:lnTo>
                    <a:pt x="2468" y="622"/>
                  </a:lnTo>
                  <a:lnTo>
                    <a:pt x="2455" y="624"/>
                  </a:lnTo>
                  <a:lnTo>
                    <a:pt x="2441" y="625"/>
                  </a:lnTo>
                  <a:lnTo>
                    <a:pt x="2429" y="626"/>
                  </a:lnTo>
                  <a:lnTo>
                    <a:pt x="2416" y="625"/>
                  </a:lnTo>
                  <a:lnTo>
                    <a:pt x="2403" y="626"/>
                  </a:lnTo>
                  <a:lnTo>
                    <a:pt x="2394" y="632"/>
                  </a:lnTo>
                  <a:lnTo>
                    <a:pt x="2391" y="642"/>
                  </a:lnTo>
                  <a:lnTo>
                    <a:pt x="2391" y="651"/>
                  </a:lnTo>
                  <a:lnTo>
                    <a:pt x="2396" y="660"/>
                  </a:lnTo>
                  <a:lnTo>
                    <a:pt x="2403" y="667"/>
                  </a:lnTo>
                  <a:lnTo>
                    <a:pt x="2413" y="674"/>
                  </a:lnTo>
                  <a:lnTo>
                    <a:pt x="2426" y="678"/>
                  </a:lnTo>
                  <a:lnTo>
                    <a:pt x="2436" y="683"/>
                  </a:lnTo>
                  <a:lnTo>
                    <a:pt x="2443" y="690"/>
                  </a:lnTo>
                  <a:lnTo>
                    <a:pt x="2455" y="692"/>
                  </a:lnTo>
                  <a:lnTo>
                    <a:pt x="2466" y="687"/>
                  </a:lnTo>
                  <a:lnTo>
                    <a:pt x="2471" y="678"/>
                  </a:lnTo>
                  <a:lnTo>
                    <a:pt x="2472" y="669"/>
                  </a:lnTo>
                  <a:lnTo>
                    <a:pt x="2466" y="661"/>
                  </a:lnTo>
                  <a:lnTo>
                    <a:pt x="2457" y="654"/>
                  </a:lnTo>
                  <a:lnTo>
                    <a:pt x="2451" y="646"/>
                  </a:lnTo>
                  <a:lnTo>
                    <a:pt x="2457" y="638"/>
                  </a:lnTo>
                  <a:lnTo>
                    <a:pt x="2469" y="634"/>
                  </a:lnTo>
                  <a:lnTo>
                    <a:pt x="2479" y="637"/>
                  </a:lnTo>
                  <a:lnTo>
                    <a:pt x="2484" y="646"/>
                  </a:lnTo>
                  <a:lnTo>
                    <a:pt x="2494" y="652"/>
                  </a:lnTo>
                  <a:lnTo>
                    <a:pt x="2507" y="655"/>
                  </a:lnTo>
                  <a:lnTo>
                    <a:pt x="2512" y="663"/>
                  </a:lnTo>
                  <a:lnTo>
                    <a:pt x="2511" y="672"/>
                  </a:lnTo>
                  <a:lnTo>
                    <a:pt x="2493" y="685"/>
                  </a:lnTo>
                  <a:lnTo>
                    <a:pt x="2484" y="692"/>
                  </a:lnTo>
                  <a:lnTo>
                    <a:pt x="2476" y="699"/>
                  </a:lnTo>
                  <a:lnTo>
                    <a:pt x="2466" y="706"/>
                  </a:lnTo>
                  <a:lnTo>
                    <a:pt x="2458" y="713"/>
                  </a:lnTo>
                  <a:lnTo>
                    <a:pt x="2448" y="720"/>
                  </a:lnTo>
                  <a:lnTo>
                    <a:pt x="2440" y="727"/>
                  </a:lnTo>
                  <a:lnTo>
                    <a:pt x="2427" y="743"/>
                  </a:lnTo>
                  <a:lnTo>
                    <a:pt x="2420" y="751"/>
                  </a:lnTo>
                  <a:lnTo>
                    <a:pt x="2415" y="759"/>
                  </a:lnTo>
                  <a:lnTo>
                    <a:pt x="2408" y="768"/>
                  </a:lnTo>
                  <a:lnTo>
                    <a:pt x="2401" y="775"/>
                  </a:lnTo>
                  <a:lnTo>
                    <a:pt x="2394" y="783"/>
                  </a:lnTo>
                  <a:lnTo>
                    <a:pt x="2385" y="790"/>
                  </a:lnTo>
                  <a:lnTo>
                    <a:pt x="2375" y="797"/>
                  </a:lnTo>
                  <a:lnTo>
                    <a:pt x="2367" y="804"/>
                  </a:lnTo>
                  <a:lnTo>
                    <a:pt x="2357" y="811"/>
                  </a:lnTo>
                  <a:lnTo>
                    <a:pt x="2349" y="818"/>
                  </a:lnTo>
                  <a:lnTo>
                    <a:pt x="2339" y="826"/>
                  </a:lnTo>
                  <a:lnTo>
                    <a:pt x="2331" y="833"/>
                  </a:lnTo>
                  <a:lnTo>
                    <a:pt x="2331" y="841"/>
                  </a:lnTo>
                  <a:lnTo>
                    <a:pt x="2338" y="847"/>
                  </a:lnTo>
                  <a:lnTo>
                    <a:pt x="2350" y="853"/>
                  </a:lnTo>
                  <a:lnTo>
                    <a:pt x="2361" y="860"/>
                  </a:lnTo>
                  <a:lnTo>
                    <a:pt x="2371" y="865"/>
                  </a:lnTo>
                  <a:lnTo>
                    <a:pt x="2382" y="871"/>
                  </a:lnTo>
                  <a:lnTo>
                    <a:pt x="2392" y="877"/>
                  </a:lnTo>
                  <a:lnTo>
                    <a:pt x="2402" y="883"/>
                  </a:lnTo>
                  <a:lnTo>
                    <a:pt x="2410" y="890"/>
                  </a:lnTo>
                  <a:lnTo>
                    <a:pt x="2415" y="899"/>
                  </a:lnTo>
                  <a:lnTo>
                    <a:pt x="2416" y="908"/>
                  </a:lnTo>
                  <a:lnTo>
                    <a:pt x="2416" y="918"/>
                  </a:lnTo>
                  <a:lnTo>
                    <a:pt x="2415" y="927"/>
                  </a:lnTo>
                  <a:lnTo>
                    <a:pt x="2410" y="936"/>
                  </a:lnTo>
                  <a:lnTo>
                    <a:pt x="2405" y="944"/>
                  </a:lnTo>
                  <a:lnTo>
                    <a:pt x="2398" y="952"/>
                  </a:lnTo>
                  <a:lnTo>
                    <a:pt x="2391" y="960"/>
                  </a:lnTo>
                  <a:lnTo>
                    <a:pt x="2382" y="968"/>
                  </a:lnTo>
                  <a:lnTo>
                    <a:pt x="2375" y="976"/>
                  </a:lnTo>
                  <a:lnTo>
                    <a:pt x="2370" y="984"/>
                  </a:lnTo>
                  <a:lnTo>
                    <a:pt x="2364" y="992"/>
                  </a:lnTo>
                  <a:lnTo>
                    <a:pt x="2361" y="1001"/>
                  </a:lnTo>
                  <a:lnTo>
                    <a:pt x="2359" y="1011"/>
                  </a:lnTo>
                  <a:lnTo>
                    <a:pt x="2357" y="1020"/>
                  </a:lnTo>
                  <a:lnTo>
                    <a:pt x="2361" y="1028"/>
                  </a:lnTo>
                  <a:lnTo>
                    <a:pt x="2373" y="1034"/>
                  </a:lnTo>
                  <a:lnTo>
                    <a:pt x="2375" y="1043"/>
                  </a:lnTo>
                  <a:lnTo>
                    <a:pt x="2378" y="1052"/>
                  </a:lnTo>
                  <a:lnTo>
                    <a:pt x="2380" y="1061"/>
                  </a:lnTo>
                  <a:lnTo>
                    <a:pt x="2381" y="1071"/>
                  </a:lnTo>
                  <a:lnTo>
                    <a:pt x="2382" y="1080"/>
                  </a:lnTo>
                  <a:lnTo>
                    <a:pt x="2377" y="1089"/>
                  </a:lnTo>
                  <a:lnTo>
                    <a:pt x="2378" y="1098"/>
                  </a:lnTo>
                  <a:lnTo>
                    <a:pt x="2384" y="1108"/>
                  </a:lnTo>
                  <a:lnTo>
                    <a:pt x="2385" y="1116"/>
                  </a:lnTo>
                  <a:lnTo>
                    <a:pt x="2380" y="1124"/>
                  </a:lnTo>
                  <a:lnTo>
                    <a:pt x="2373" y="1131"/>
                  </a:lnTo>
                  <a:lnTo>
                    <a:pt x="2364" y="1138"/>
                  </a:lnTo>
                  <a:lnTo>
                    <a:pt x="2354" y="1145"/>
                  </a:lnTo>
                  <a:lnTo>
                    <a:pt x="2345" y="1152"/>
                  </a:lnTo>
                  <a:lnTo>
                    <a:pt x="2335" y="1159"/>
                  </a:lnTo>
                  <a:lnTo>
                    <a:pt x="2327" y="1166"/>
                  </a:lnTo>
                  <a:lnTo>
                    <a:pt x="2320" y="1175"/>
                  </a:lnTo>
                  <a:lnTo>
                    <a:pt x="2313" y="1184"/>
                  </a:lnTo>
                  <a:lnTo>
                    <a:pt x="2306" y="1194"/>
                  </a:lnTo>
                  <a:lnTo>
                    <a:pt x="2299" y="1202"/>
                  </a:lnTo>
                  <a:lnTo>
                    <a:pt x="2290" y="1207"/>
                  </a:lnTo>
                  <a:lnTo>
                    <a:pt x="2280" y="1207"/>
                  </a:lnTo>
                  <a:lnTo>
                    <a:pt x="2271" y="1203"/>
                  </a:lnTo>
                  <a:lnTo>
                    <a:pt x="2261" y="1197"/>
                  </a:lnTo>
                  <a:lnTo>
                    <a:pt x="2250" y="1189"/>
                  </a:lnTo>
                  <a:lnTo>
                    <a:pt x="2240" y="1182"/>
                  </a:lnTo>
                  <a:lnTo>
                    <a:pt x="2229" y="1175"/>
                  </a:lnTo>
                  <a:lnTo>
                    <a:pt x="2219" y="1167"/>
                  </a:lnTo>
                  <a:lnTo>
                    <a:pt x="2209" y="1160"/>
                  </a:lnTo>
                  <a:lnTo>
                    <a:pt x="2199" y="1152"/>
                  </a:lnTo>
                  <a:lnTo>
                    <a:pt x="2188" y="1147"/>
                  </a:lnTo>
                  <a:lnTo>
                    <a:pt x="2178" y="1145"/>
                  </a:lnTo>
                  <a:lnTo>
                    <a:pt x="2167" y="1147"/>
                  </a:lnTo>
                  <a:lnTo>
                    <a:pt x="2156" y="1151"/>
                  </a:lnTo>
                  <a:lnTo>
                    <a:pt x="2145" y="1157"/>
                  </a:lnTo>
                  <a:lnTo>
                    <a:pt x="2134" y="1163"/>
                  </a:lnTo>
                  <a:lnTo>
                    <a:pt x="2122" y="1169"/>
                  </a:lnTo>
                  <a:lnTo>
                    <a:pt x="2111" y="1176"/>
                  </a:lnTo>
                  <a:lnTo>
                    <a:pt x="2100" y="1181"/>
                  </a:lnTo>
                  <a:lnTo>
                    <a:pt x="2089" y="1185"/>
                  </a:lnTo>
                  <a:lnTo>
                    <a:pt x="2078" y="1190"/>
                  </a:lnTo>
                  <a:lnTo>
                    <a:pt x="2067" y="1195"/>
                  </a:lnTo>
                  <a:lnTo>
                    <a:pt x="2055" y="1200"/>
                  </a:lnTo>
                  <a:lnTo>
                    <a:pt x="2044" y="1205"/>
                  </a:lnTo>
                  <a:lnTo>
                    <a:pt x="2033" y="1209"/>
                  </a:lnTo>
                  <a:lnTo>
                    <a:pt x="2022" y="1214"/>
                  </a:lnTo>
                  <a:lnTo>
                    <a:pt x="2011" y="1219"/>
                  </a:lnTo>
                  <a:lnTo>
                    <a:pt x="1998" y="1224"/>
                  </a:lnTo>
                  <a:lnTo>
                    <a:pt x="1984" y="1229"/>
                  </a:lnTo>
                  <a:lnTo>
                    <a:pt x="1971" y="1235"/>
                  </a:lnTo>
                  <a:lnTo>
                    <a:pt x="1963" y="1241"/>
                  </a:lnTo>
                  <a:lnTo>
                    <a:pt x="1960" y="1247"/>
                  </a:lnTo>
                  <a:lnTo>
                    <a:pt x="1964" y="1254"/>
                  </a:lnTo>
                  <a:lnTo>
                    <a:pt x="1971" y="1261"/>
                  </a:lnTo>
                  <a:lnTo>
                    <a:pt x="1983" y="1269"/>
                  </a:lnTo>
                  <a:lnTo>
                    <a:pt x="1994" y="1276"/>
                  </a:lnTo>
                  <a:lnTo>
                    <a:pt x="2002" y="1284"/>
                  </a:lnTo>
                  <a:lnTo>
                    <a:pt x="2011" y="1292"/>
                  </a:lnTo>
                  <a:lnTo>
                    <a:pt x="2020" y="1298"/>
                  </a:lnTo>
                  <a:lnTo>
                    <a:pt x="2032" y="1298"/>
                  </a:lnTo>
                  <a:lnTo>
                    <a:pt x="2046" y="1296"/>
                  </a:lnTo>
                  <a:lnTo>
                    <a:pt x="2058" y="1293"/>
                  </a:lnTo>
                  <a:lnTo>
                    <a:pt x="2072" y="1290"/>
                  </a:lnTo>
                  <a:lnTo>
                    <a:pt x="2085" y="1289"/>
                  </a:lnTo>
                  <a:lnTo>
                    <a:pt x="2097" y="1289"/>
                  </a:lnTo>
                  <a:lnTo>
                    <a:pt x="2108" y="1292"/>
                  </a:lnTo>
                  <a:lnTo>
                    <a:pt x="2118" y="1298"/>
                  </a:lnTo>
                  <a:lnTo>
                    <a:pt x="2128" y="1304"/>
                  </a:lnTo>
                  <a:lnTo>
                    <a:pt x="2136" y="1312"/>
                  </a:lnTo>
                  <a:lnTo>
                    <a:pt x="2153" y="1325"/>
                  </a:lnTo>
                  <a:lnTo>
                    <a:pt x="2171" y="1333"/>
                  </a:lnTo>
                  <a:lnTo>
                    <a:pt x="2181" y="1339"/>
                  </a:lnTo>
                  <a:lnTo>
                    <a:pt x="2190" y="1347"/>
                  </a:lnTo>
                  <a:lnTo>
                    <a:pt x="2195" y="1355"/>
                  </a:lnTo>
                  <a:lnTo>
                    <a:pt x="2201" y="1363"/>
                  </a:lnTo>
                  <a:lnTo>
                    <a:pt x="2204" y="1372"/>
                  </a:lnTo>
                  <a:lnTo>
                    <a:pt x="2205" y="1382"/>
                  </a:lnTo>
                  <a:lnTo>
                    <a:pt x="2202" y="1391"/>
                  </a:lnTo>
                  <a:lnTo>
                    <a:pt x="2197" y="1399"/>
                  </a:lnTo>
                  <a:lnTo>
                    <a:pt x="2188" y="1407"/>
                  </a:lnTo>
                  <a:lnTo>
                    <a:pt x="2178" y="1414"/>
                  </a:lnTo>
                  <a:lnTo>
                    <a:pt x="2169" y="1421"/>
                  </a:lnTo>
                  <a:lnTo>
                    <a:pt x="2166" y="1428"/>
                  </a:lnTo>
                  <a:lnTo>
                    <a:pt x="2173" y="1436"/>
                  </a:lnTo>
                  <a:lnTo>
                    <a:pt x="2183" y="1443"/>
                  </a:lnTo>
                  <a:lnTo>
                    <a:pt x="2191" y="1451"/>
                  </a:lnTo>
                  <a:lnTo>
                    <a:pt x="2197" y="1459"/>
                  </a:lnTo>
                  <a:lnTo>
                    <a:pt x="2198" y="1468"/>
                  </a:lnTo>
                  <a:lnTo>
                    <a:pt x="2197" y="1477"/>
                  </a:lnTo>
                  <a:lnTo>
                    <a:pt x="2194" y="1486"/>
                  </a:lnTo>
                  <a:lnTo>
                    <a:pt x="2192" y="1496"/>
                  </a:lnTo>
                  <a:lnTo>
                    <a:pt x="2185" y="1503"/>
                  </a:lnTo>
                  <a:lnTo>
                    <a:pt x="2176" y="1510"/>
                  </a:lnTo>
                  <a:lnTo>
                    <a:pt x="2171" y="1519"/>
                  </a:lnTo>
                  <a:lnTo>
                    <a:pt x="2167" y="1528"/>
                  </a:lnTo>
                  <a:lnTo>
                    <a:pt x="2164" y="1537"/>
                  </a:lnTo>
                  <a:lnTo>
                    <a:pt x="2162" y="1546"/>
                  </a:lnTo>
                  <a:lnTo>
                    <a:pt x="2157" y="1555"/>
                  </a:lnTo>
                  <a:lnTo>
                    <a:pt x="2149" y="1562"/>
                  </a:lnTo>
                  <a:lnTo>
                    <a:pt x="2138" y="1567"/>
                  </a:lnTo>
                  <a:lnTo>
                    <a:pt x="2125" y="1570"/>
                  </a:lnTo>
                  <a:lnTo>
                    <a:pt x="2115" y="1571"/>
                  </a:lnTo>
                  <a:lnTo>
                    <a:pt x="2103" y="1566"/>
                  </a:lnTo>
                  <a:lnTo>
                    <a:pt x="2092" y="1561"/>
                  </a:lnTo>
                  <a:lnTo>
                    <a:pt x="2080" y="1556"/>
                  </a:lnTo>
                  <a:lnTo>
                    <a:pt x="2068" y="1551"/>
                  </a:lnTo>
                  <a:lnTo>
                    <a:pt x="2057" y="1547"/>
                  </a:lnTo>
                  <a:lnTo>
                    <a:pt x="2046" y="1544"/>
                  </a:lnTo>
                  <a:lnTo>
                    <a:pt x="2036" y="1547"/>
                  </a:lnTo>
                  <a:lnTo>
                    <a:pt x="2026" y="1554"/>
                  </a:lnTo>
                  <a:lnTo>
                    <a:pt x="2016" y="1560"/>
                  </a:lnTo>
                  <a:lnTo>
                    <a:pt x="2006" y="1566"/>
                  </a:lnTo>
                  <a:lnTo>
                    <a:pt x="1997" y="1572"/>
                  </a:lnTo>
                  <a:lnTo>
                    <a:pt x="1987" y="1578"/>
                  </a:lnTo>
                  <a:lnTo>
                    <a:pt x="1976" y="1583"/>
                  </a:lnTo>
                  <a:lnTo>
                    <a:pt x="1964" y="1588"/>
                  </a:lnTo>
                  <a:lnTo>
                    <a:pt x="1955" y="1594"/>
                  </a:lnTo>
                  <a:lnTo>
                    <a:pt x="1943" y="1599"/>
                  </a:lnTo>
                  <a:lnTo>
                    <a:pt x="1932" y="1604"/>
                  </a:lnTo>
                  <a:lnTo>
                    <a:pt x="1921" y="1608"/>
                  </a:lnTo>
                  <a:lnTo>
                    <a:pt x="1910" y="1613"/>
                  </a:lnTo>
                  <a:lnTo>
                    <a:pt x="1899" y="1618"/>
                  </a:lnTo>
                  <a:lnTo>
                    <a:pt x="1888" y="1623"/>
                  </a:lnTo>
                  <a:lnTo>
                    <a:pt x="1878" y="1617"/>
                  </a:lnTo>
                  <a:lnTo>
                    <a:pt x="1869" y="1610"/>
                  </a:lnTo>
                  <a:lnTo>
                    <a:pt x="1858" y="1603"/>
                  </a:lnTo>
                  <a:lnTo>
                    <a:pt x="1848" y="1599"/>
                  </a:lnTo>
                  <a:lnTo>
                    <a:pt x="1836" y="1599"/>
                  </a:lnTo>
                  <a:lnTo>
                    <a:pt x="1823" y="1601"/>
                  </a:lnTo>
                  <a:lnTo>
                    <a:pt x="1809" y="1604"/>
                  </a:lnTo>
                  <a:lnTo>
                    <a:pt x="1797" y="1606"/>
                  </a:lnTo>
                  <a:lnTo>
                    <a:pt x="1784" y="1609"/>
                  </a:lnTo>
                  <a:lnTo>
                    <a:pt x="1773" y="1613"/>
                  </a:lnTo>
                  <a:lnTo>
                    <a:pt x="1760" y="1616"/>
                  </a:lnTo>
                  <a:lnTo>
                    <a:pt x="1748" y="1620"/>
                  </a:lnTo>
                  <a:lnTo>
                    <a:pt x="1737" y="1623"/>
                  </a:lnTo>
                  <a:lnTo>
                    <a:pt x="1724" y="1626"/>
                  </a:lnTo>
                  <a:lnTo>
                    <a:pt x="1713" y="1632"/>
                  </a:lnTo>
                  <a:lnTo>
                    <a:pt x="1720" y="1639"/>
                  </a:lnTo>
                  <a:lnTo>
                    <a:pt x="1723" y="1648"/>
                  </a:lnTo>
                  <a:lnTo>
                    <a:pt x="1725" y="1657"/>
                  </a:lnTo>
                  <a:lnTo>
                    <a:pt x="1732" y="1665"/>
                  </a:lnTo>
                  <a:lnTo>
                    <a:pt x="1742" y="1672"/>
                  </a:lnTo>
                  <a:lnTo>
                    <a:pt x="1751" y="1678"/>
                  </a:lnTo>
                  <a:lnTo>
                    <a:pt x="1758" y="1686"/>
                  </a:lnTo>
                  <a:lnTo>
                    <a:pt x="1765" y="1694"/>
                  </a:lnTo>
                  <a:lnTo>
                    <a:pt x="1770" y="1702"/>
                  </a:lnTo>
                  <a:lnTo>
                    <a:pt x="1777" y="1711"/>
                  </a:lnTo>
                  <a:lnTo>
                    <a:pt x="1780" y="1718"/>
                  </a:lnTo>
                  <a:lnTo>
                    <a:pt x="1770" y="1725"/>
                  </a:lnTo>
                  <a:lnTo>
                    <a:pt x="1763" y="1733"/>
                  </a:lnTo>
                  <a:lnTo>
                    <a:pt x="1755" y="1740"/>
                  </a:lnTo>
                  <a:lnTo>
                    <a:pt x="1746" y="1747"/>
                  </a:lnTo>
                  <a:lnTo>
                    <a:pt x="1738" y="1755"/>
                  </a:lnTo>
                  <a:lnTo>
                    <a:pt x="1730" y="1762"/>
                  </a:lnTo>
                  <a:lnTo>
                    <a:pt x="1721" y="1769"/>
                  </a:lnTo>
                  <a:lnTo>
                    <a:pt x="1710" y="1774"/>
                  </a:lnTo>
                  <a:lnTo>
                    <a:pt x="1702" y="1781"/>
                  </a:lnTo>
                  <a:lnTo>
                    <a:pt x="1695" y="1789"/>
                  </a:lnTo>
                  <a:lnTo>
                    <a:pt x="1690" y="1797"/>
                  </a:lnTo>
                  <a:lnTo>
                    <a:pt x="1683" y="1805"/>
                  </a:lnTo>
                  <a:lnTo>
                    <a:pt x="1689" y="1812"/>
                  </a:lnTo>
                  <a:lnTo>
                    <a:pt x="1699" y="1820"/>
                  </a:lnTo>
                  <a:lnTo>
                    <a:pt x="1706" y="1828"/>
                  </a:lnTo>
                  <a:lnTo>
                    <a:pt x="1714" y="1835"/>
                  </a:lnTo>
                  <a:lnTo>
                    <a:pt x="1721" y="1843"/>
                  </a:lnTo>
                  <a:lnTo>
                    <a:pt x="1730" y="1850"/>
                  </a:lnTo>
                  <a:lnTo>
                    <a:pt x="1737" y="1858"/>
                  </a:lnTo>
                  <a:lnTo>
                    <a:pt x="1744" y="1866"/>
                  </a:lnTo>
                  <a:lnTo>
                    <a:pt x="1751" y="1874"/>
                  </a:lnTo>
                  <a:lnTo>
                    <a:pt x="1758" y="1882"/>
                  </a:lnTo>
                  <a:lnTo>
                    <a:pt x="1765" y="1889"/>
                  </a:lnTo>
                  <a:lnTo>
                    <a:pt x="1772" y="1897"/>
                  </a:lnTo>
                  <a:lnTo>
                    <a:pt x="1779" y="1905"/>
                  </a:lnTo>
                  <a:lnTo>
                    <a:pt x="1786" y="1913"/>
                  </a:lnTo>
                  <a:lnTo>
                    <a:pt x="1786" y="1922"/>
                  </a:lnTo>
                  <a:lnTo>
                    <a:pt x="1790" y="1931"/>
                  </a:lnTo>
                  <a:lnTo>
                    <a:pt x="1794" y="1940"/>
                  </a:lnTo>
                  <a:lnTo>
                    <a:pt x="1794" y="1949"/>
                  </a:lnTo>
                  <a:lnTo>
                    <a:pt x="1808" y="1964"/>
                  </a:lnTo>
                  <a:lnTo>
                    <a:pt x="1798" y="1965"/>
                  </a:lnTo>
                  <a:lnTo>
                    <a:pt x="1787" y="1971"/>
                  </a:lnTo>
                  <a:lnTo>
                    <a:pt x="1781" y="1978"/>
                  </a:lnTo>
                  <a:lnTo>
                    <a:pt x="1769" y="1977"/>
                  </a:lnTo>
                  <a:lnTo>
                    <a:pt x="1758" y="1972"/>
                  </a:lnTo>
                  <a:lnTo>
                    <a:pt x="1749" y="1964"/>
                  </a:lnTo>
                  <a:lnTo>
                    <a:pt x="1746" y="1971"/>
                  </a:lnTo>
                  <a:lnTo>
                    <a:pt x="1738" y="1964"/>
                  </a:lnTo>
                  <a:lnTo>
                    <a:pt x="1730" y="1958"/>
                  </a:lnTo>
                  <a:lnTo>
                    <a:pt x="1721" y="1964"/>
                  </a:lnTo>
                  <a:lnTo>
                    <a:pt x="1711" y="1971"/>
                  </a:lnTo>
                  <a:lnTo>
                    <a:pt x="1703" y="1979"/>
                  </a:lnTo>
                  <a:lnTo>
                    <a:pt x="1695" y="1986"/>
                  </a:lnTo>
                  <a:lnTo>
                    <a:pt x="1685" y="1993"/>
                  </a:lnTo>
                  <a:lnTo>
                    <a:pt x="1675" y="1999"/>
                  </a:lnTo>
                  <a:lnTo>
                    <a:pt x="1664" y="2002"/>
                  </a:lnTo>
                  <a:lnTo>
                    <a:pt x="1651" y="2001"/>
                  </a:lnTo>
                  <a:lnTo>
                    <a:pt x="1639" y="1997"/>
                  </a:lnTo>
                  <a:lnTo>
                    <a:pt x="1625" y="1995"/>
                  </a:lnTo>
                  <a:lnTo>
                    <a:pt x="1612" y="1994"/>
                  </a:lnTo>
                  <a:lnTo>
                    <a:pt x="1600" y="1992"/>
                  </a:lnTo>
                  <a:lnTo>
                    <a:pt x="1587" y="1989"/>
                  </a:lnTo>
                  <a:lnTo>
                    <a:pt x="1574" y="1987"/>
                  </a:lnTo>
                  <a:lnTo>
                    <a:pt x="1562" y="1985"/>
                  </a:lnTo>
                  <a:lnTo>
                    <a:pt x="1549" y="1983"/>
                  </a:lnTo>
                  <a:lnTo>
                    <a:pt x="1537" y="1984"/>
                  </a:lnTo>
                  <a:lnTo>
                    <a:pt x="1531" y="1989"/>
                  </a:lnTo>
                  <a:lnTo>
                    <a:pt x="1528" y="1996"/>
                  </a:lnTo>
                  <a:lnTo>
                    <a:pt x="1530" y="2003"/>
                  </a:lnTo>
                  <a:lnTo>
                    <a:pt x="1527" y="2007"/>
                  </a:lnTo>
                  <a:lnTo>
                    <a:pt x="1520" y="2013"/>
                  </a:lnTo>
                  <a:lnTo>
                    <a:pt x="1510" y="2019"/>
                  </a:lnTo>
                  <a:lnTo>
                    <a:pt x="1499" y="2024"/>
                  </a:lnTo>
                  <a:lnTo>
                    <a:pt x="1488" y="2030"/>
                  </a:lnTo>
                  <a:lnTo>
                    <a:pt x="1478" y="2036"/>
                  </a:lnTo>
                  <a:lnTo>
                    <a:pt x="1468" y="2043"/>
                  </a:lnTo>
                  <a:lnTo>
                    <a:pt x="1458" y="2047"/>
                  </a:lnTo>
                  <a:lnTo>
                    <a:pt x="1446" y="2041"/>
                  </a:lnTo>
                  <a:lnTo>
                    <a:pt x="1435" y="2040"/>
                  </a:lnTo>
                  <a:lnTo>
                    <a:pt x="1423" y="2046"/>
                  </a:lnTo>
                  <a:lnTo>
                    <a:pt x="1414" y="2054"/>
                  </a:lnTo>
                  <a:lnTo>
                    <a:pt x="1411" y="2061"/>
                  </a:lnTo>
                  <a:lnTo>
                    <a:pt x="1422" y="2067"/>
                  </a:lnTo>
                  <a:lnTo>
                    <a:pt x="1422" y="2075"/>
                  </a:lnTo>
                  <a:lnTo>
                    <a:pt x="1432" y="2082"/>
                  </a:lnTo>
                  <a:lnTo>
                    <a:pt x="1444" y="2090"/>
                  </a:lnTo>
                  <a:lnTo>
                    <a:pt x="1456" y="2096"/>
                  </a:lnTo>
                  <a:lnTo>
                    <a:pt x="1461" y="2102"/>
                  </a:lnTo>
                  <a:lnTo>
                    <a:pt x="1458" y="2108"/>
                  </a:lnTo>
                  <a:lnTo>
                    <a:pt x="1449" y="2115"/>
                  </a:lnTo>
                  <a:lnTo>
                    <a:pt x="1435" y="2121"/>
                  </a:lnTo>
                  <a:lnTo>
                    <a:pt x="1423" y="2126"/>
                  </a:lnTo>
                  <a:lnTo>
                    <a:pt x="1411" y="2129"/>
                  </a:lnTo>
                  <a:lnTo>
                    <a:pt x="1398" y="2133"/>
                  </a:lnTo>
                  <a:lnTo>
                    <a:pt x="1387" y="2138"/>
                  </a:lnTo>
                  <a:lnTo>
                    <a:pt x="1377" y="2139"/>
                  </a:lnTo>
                  <a:lnTo>
                    <a:pt x="1369" y="2141"/>
                  </a:lnTo>
                  <a:lnTo>
                    <a:pt x="1361" y="2147"/>
                  </a:lnTo>
                  <a:lnTo>
                    <a:pt x="1349" y="2152"/>
                  </a:lnTo>
                  <a:lnTo>
                    <a:pt x="1338" y="2156"/>
                  </a:lnTo>
                  <a:lnTo>
                    <a:pt x="1337" y="2162"/>
                  </a:lnTo>
                  <a:lnTo>
                    <a:pt x="1342" y="2172"/>
                  </a:lnTo>
                  <a:lnTo>
                    <a:pt x="1344" y="2182"/>
                  </a:lnTo>
                  <a:lnTo>
                    <a:pt x="1337" y="2189"/>
                  </a:lnTo>
                  <a:lnTo>
                    <a:pt x="1327" y="2195"/>
                  </a:lnTo>
                  <a:lnTo>
                    <a:pt x="1316" y="2200"/>
                  </a:lnTo>
                  <a:lnTo>
                    <a:pt x="1305" y="2206"/>
                  </a:lnTo>
                  <a:lnTo>
                    <a:pt x="1295" y="2212"/>
                  </a:lnTo>
                  <a:lnTo>
                    <a:pt x="1285" y="2218"/>
                  </a:lnTo>
                  <a:lnTo>
                    <a:pt x="1275" y="2224"/>
                  </a:lnTo>
                  <a:lnTo>
                    <a:pt x="1267" y="2231"/>
                  </a:lnTo>
                  <a:lnTo>
                    <a:pt x="1257" y="2238"/>
                  </a:lnTo>
                  <a:lnTo>
                    <a:pt x="1250" y="2245"/>
                  </a:lnTo>
                  <a:lnTo>
                    <a:pt x="1245" y="2254"/>
                  </a:lnTo>
                  <a:lnTo>
                    <a:pt x="1236" y="2261"/>
                  </a:lnTo>
                  <a:lnTo>
                    <a:pt x="1225" y="2263"/>
                  </a:lnTo>
                  <a:lnTo>
                    <a:pt x="1211" y="2265"/>
                  </a:lnTo>
                  <a:lnTo>
                    <a:pt x="1198" y="2268"/>
                  </a:lnTo>
                  <a:lnTo>
                    <a:pt x="1187" y="2273"/>
                  </a:lnTo>
                  <a:lnTo>
                    <a:pt x="1176" y="2280"/>
                  </a:lnTo>
                  <a:lnTo>
                    <a:pt x="1166" y="2280"/>
                  </a:lnTo>
                  <a:lnTo>
                    <a:pt x="1159" y="2274"/>
                  </a:lnTo>
                  <a:lnTo>
                    <a:pt x="1152" y="2264"/>
                  </a:lnTo>
                  <a:lnTo>
                    <a:pt x="1145" y="2255"/>
                  </a:lnTo>
                  <a:lnTo>
                    <a:pt x="1137" y="2248"/>
                  </a:lnTo>
                  <a:lnTo>
                    <a:pt x="1126" y="2251"/>
                  </a:lnTo>
                  <a:lnTo>
                    <a:pt x="1113" y="2256"/>
                  </a:lnTo>
                  <a:lnTo>
                    <a:pt x="1102" y="2260"/>
                  </a:lnTo>
                  <a:lnTo>
                    <a:pt x="1089" y="2265"/>
                  </a:lnTo>
                  <a:lnTo>
                    <a:pt x="1077" y="2270"/>
                  </a:lnTo>
                  <a:lnTo>
                    <a:pt x="1064" y="2274"/>
                  </a:lnTo>
                  <a:lnTo>
                    <a:pt x="1052" y="2279"/>
                  </a:lnTo>
                  <a:lnTo>
                    <a:pt x="1039" y="2284"/>
                  </a:lnTo>
                  <a:lnTo>
                    <a:pt x="1028" y="2290"/>
                  </a:lnTo>
                  <a:lnTo>
                    <a:pt x="1015" y="2295"/>
                  </a:lnTo>
                  <a:lnTo>
                    <a:pt x="1005" y="2300"/>
                  </a:lnTo>
                  <a:lnTo>
                    <a:pt x="994" y="2306"/>
                  </a:lnTo>
                  <a:lnTo>
                    <a:pt x="986" y="2311"/>
                  </a:lnTo>
                  <a:lnTo>
                    <a:pt x="978" y="2317"/>
                  </a:lnTo>
                  <a:lnTo>
                    <a:pt x="971" y="2323"/>
                  </a:lnTo>
                  <a:lnTo>
                    <a:pt x="966" y="2329"/>
                  </a:lnTo>
                  <a:lnTo>
                    <a:pt x="969" y="2336"/>
                  </a:lnTo>
                  <a:lnTo>
                    <a:pt x="978" y="2344"/>
                  </a:lnTo>
                  <a:lnTo>
                    <a:pt x="989" y="2353"/>
                  </a:lnTo>
                  <a:lnTo>
                    <a:pt x="1000" y="2361"/>
                  </a:lnTo>
                  <a:lnTo>
                    <a:pt x="1008" y="2370"/>
                  </a:lnTo>
                  <a:lnTo>
                    <a:pt x="1008" y="2378"/>
                  </a:lnTo>
                  <a:lnTo>
                    <a:pt x="996" y="2379"/>
                  </a:lnTo>
                  <a:lnTo>
                    <a:pt x="989" y="2371"/>
                  </a:lnTo>
                  <a:lnTo>
                    <a:pt x="979" y="2363"/>
                  </a:lnTo>
                  <a:lnTo>
                    <a:pt x="968" y="2361"/>
                  </a:lnTo>
                  <a:lnTo>
                    <a:pt x="955" y="2361"/>
                  </a:lnTo>
                  <a:lnTo>
                    <a:pt x="941" y="2362"/>
                  </a:lnTo>
                  <a:lnTo>
                    <a:pt x="929" y="2363"/>
                  </a:lnTo>
                  <a:lnTo>
                    <a:pt x="915" y="2364"/>
                  </a:lnTo>
                  <a:lnTo>
                    <a:pt x="901" y="2366"/>
                  </a:lnTo>
                  <a:lnTo>
                    <a:pt x="888" y="2366"/>
                  </a:lnTo>
                  <a:lnTo>
                    <a:pt x="875" y="2366"/>
                  </a:lnTo>
                  <a:lnTo>
                    <a:pt x="870" y="2357"/>
                  </a:lnTo>
                  <a:lnTo>
                    <a:pt x="856" y="2356"/>
                  </a:lnTo>
                  <a:lnTo>
                    <a:pt x="842" y="2356"/>
                  </a:lnTo>
                  <a:lnTo>
                    <a:pt x="828" y="2357"/>
                  </a:lnTo>
                  <a:lnTo>
                    <a:pt x="814" y="2358"/>
                  </a:lnTo>
                  <a:lnTo>
                    <a:pt x="804" y="2359"/>
                  </a:lnTo>
                  <a:lnTo>
                    <a:pt x="810" y="2367"/>
                  </a:lnTo>
                  <a:lnTo>
                    <a:pt x="808" y="2371"/>
                  </a:lnTo>
                  <a:lnTo>
                    <a:pt x="799" y="2370"/>
                  </a:lnTo>
                  <a:lnTo>
                    <a:pt x="785" y="2369"/>
                  </a:lnTo>
                  <a:lnTo>
                    <a:pt x="772" y="2368"/>
                  </a:lnTo>
                  <a:lnTo>
                    <a:pt x="757" y="2366"/>
                  </a:lnTo>
                  <a:lnTo>
                    <a:pt x="743" y="2364"/>
                  </a:lnTo>
                  <a:lnTo>
                    <a:pt x="730" y="2364"/>
                  </a:lnTo>
                  <a:lnTo>
                    <a:pt x="716" y="2364"/>
                  </a:lnTo>
                  <a:lnTo>
                    <a:pt x="704" y="2365"/>
                  </a:lnTo>
                  <a:lnTo>
                    <a:pt x="694" y="2360"/>
                  </a:lnTo>
                  <a:lnTo>
                    <a:pt x="694" y="2350"/>
                  </a:lnTo>
                  <a:lnTo>
                    <a:pt x="697" y="2341"/>
                  </a:lnTo>
                  <a:lnTo>
                    <a:pt x="695" y="2331"/>
                  </a:lnTo>
                  <a:lnTo>
                    <a:pt x="694" y="2322"/>
                  </a:lnTo>
                  <a:lnTo>
                    <a:pt x="692" y="2311"/>
                  </a:lnTo>
                  <a:lnTo>
                    <a:pt x="690" y="2302"/>
                  </a:lnTo>
                  <a:lnTo>
                    <a:pt x="687" y="2293"/>
                  </a:lnTo>
                  <a:lnTo>
                    <a:pt x="681" y="2285"/>
                  </a:lnTo>
                  <a:lnTo>
                    <a:pt x="674" y="2279"/>
                  </a:lnTo>
                  <a:lnTo>
                    <a:pt x="663" y="2277"/>
                  </a:lnTo>
                  <a:lnTo>
                    <a:pt x="649" y="2277"/>
                  </a:lnTo>
                  <a:lnTo>
                    <a:pt x="634" y="2277"/>
                  </a:lnTo>
                  <a:lnTo>
                    <a:pt x="621" y="2275"/>
                  </a:lnTo>
                  <a:lnTo>
                    <a:pt x="608" y="2275"/>
                  </a:lnTo>
                  <a:lnTo>
                    <a:pt x="600" y="2282"/>
                  </a:lnTo>
                  <a:lnTo>
                    <a:pt x="592" y="2289"/>
                  </a:lnTo>
                  <a:lnTo>
                    <a:pt x="583" y="2296"/>
                  </a:lnTo>
                  <a:lnTo>
                    <a:pt x="574" y="2304"/>
                  </a:lnTo>
                  <a:lnTo>
                    <a:pt x="565" y="2311"/>
                  </a:lnTo>
                  <a:lnTo>
                    <a:pt x="557" y="2319"/>
                  </a:lnTo>
                  <a:lnTo>
                    <a:pt x="550" y="2327"/>
                  </a:lnTo>
                  <a:lnTo>
                    <a:pt x="543" y="2336"/>
                  </a:lnTo>
                  <a:lnTo>
                    <a:pt x="537" y="2344"/>
                  </a:lnTo>
                  <a:lnTo>
                    <a:pt x="534" y="2352"/>
                  </a:lnTo>
                  <a:lnTo>
                    <a:pt x="532" y="2360"/>
                  </a:lnTo>
                  <a:lnTo>
                    <a:pt x="533" y="2369"/>
                  </a:lnTo>
                  <a:lnTo>
                    <a:pt x="536" y="2379"/>
                  </a:lnTo>
                  <a:lnTo>
                    <a:pt x="540" y="2388"/>
                  </a:lnTo>
                  <a:lnTo>
                    <a:pt x="546" y="2398"/>
                  </a:lnTo>
                  <a:lnTo>
                    <a:pt x="550" y="2407"/>
                  </a:lnTo>
                  <a:lnTo>
                    <a:pt x="555" y="2416"/>
                  </a:lnTo>
                  <a:lnTo>
                    <a:pt x="558" y="2425"/>
                  </a:lnTo>
                  <a:lnTo>
                    <a:pt x="560" y="2433"/>
                  </a:lnTo>
                  <a:lnTo>
                    <a:pt x="547" y="2432"/>
                  </a:lnTo>
                  <a:lnTo>
                    <a:pt x="533" y="2431"/>
                  </a:lnTo>
                  <a:lnTo>
                    <a:pt x="520" y="2428"/>
                  </a:lnTo>
                  <a:lnTo>
                    <a:pt x="506" y="2427"/>
                  </a:lnTo>
                  <a:lnTo>
                    <a:pt x="494" y="2427"/>
                  </a:lnTo>
                  <a:lnTo>
                    <a:pt x="481" y="2427"/>
                  </a:lnTo>
                  <a:lnTo>
                    <a:pt x="467" y="2427"/>
                  </a:lnTo>
                  <a:lnTo>
                    <a:pt x="455" y="2428"/>
                  </a:lnTo>
                  <a:lnTo>
                    <a:pt x="442" y="2431"/>
                  </a:lnTo>
                  <a:lnTo>
                    <a:pt x="430" y="2434"/>
                  </a:lnTo>
                  <a:lnTo>
                    <a:pt x="418" y="2438"/>
                  </a:lnTo>
                  <a:lnTo>
                    <a:pt x="409" y="2444"/>
                  </a:lnTo>
                  <a:lnTo>
                    <a:pt x="400" y="2452"/>
                  </a:lnTo>
                  <a:lnTo>
                    <a:pt x="395" y="2461"/>
                  </a:lnTo>
                  <a:lnTo>
                    <a:pt x="395" y="2470"/>
                  </a:lnTo>
                  <a:lnTo>
                    <a:pt x="399" y="2479"/>
                  </a:lnTo>
                  <a:lnTo>
                    <a:pt x="404" y="2489"/>
                  </a:lnTo>
                  <a:lnTo>
                    <a:pt x="410" y="2498"/>
                  </a:lnTo>
                  <a:lnTo>
                    <a:pt x="416" y="2507"/>
                  </a:lnTo>
                  <a:lnTo>
                    <a:pt x="417" y="2514"/>
                  </a:lnTo>
                  <a:lnTo>
                    <a:pt x="409" y="2517"/>
                  </a:lnTo>
                  <a:lnTo>
                    <a:pt x="392" y="2515"/>
                  </a:lnTo>
                  <a:lnTo>
                    <a:pt x="383" y="2509"/>
                  </a:lnTo>
                  <a:lnTo>
                    <a:pt x="378" y="2499"/>
                  </a:lnTo>
                  <a:lnTo>
                    <a:pt x="368" y="2497"/>
                  </a:lnTo>
                  <a:lnTo>
                    <a:pt x="357" y="2500"/>
                  </a:lnTo>
                  <a:lnTo>
                    <a:pt x="344" y="2504"/>
                  </a:lnTo>
                  <a:lnTo>
                    <a:pt x="330" y="2508"/>
                  </a:lnTo>
                  <a:lnTo>
                    <a:pt x="318" y="2510"/>
                  </a:lnTo>
                  <a:lnTo>
                    <a:pt x="305" y="2508"/>
                  </a:lnTo>
                  <a:lnTo>
                    <a:pt x="293" y="2506"/>
                  </a:lnTo>
                  <a:lnTo>
                    <a:pt x="280" y="2503"/>
                  </a:lnTo>
                  <a:lnTo>
                    <a:pt x="267" y="2500"/>
                  </a:lnTo>
                  <a:lnTo>
                    <a:pt x="255" y="2497"/>
                  </a:lnTo>
                  <a:lnTo>
                    <a:pt x="242" y="2493"/>
                  </a:lnTo>
                  <a:lnTo>
                    <a:pt x="228" y="2490"/>
                  </a:lnTo>
                  <a:lnTo>
                    <a:pt x="217" y="2489"/>
                  </a:lnTo>
                  <a:lnTo>
                    <a:pt x="206" y="2490"/>
                  </a:lnTo>
                  <a:lnTo>
                    <a:pt x="196" y="2496"/>
                  </a:lnTo>
                  <a:lnTo>
                    <a:pt x="186" y="2504"/>
                  </a:lnTo>
                  <a:lnTo>
                    <a:pt x="178" y="2511"/>
                  </a:lnTo>
                  <a:lnTo>
                    <a:pt x="170" y="2519"/>
                  </a:lnTo>
                  <a:lnTo>
                    <a:pt x="161" y="2525"/>
                  </a:lnTo>
                  <a:lnTo>
                    <a:pt x="150" y="2530"/>
                  </a:lnTo>
                  <a:lnTo>
                    <a:pt x="137" y="2530"/>
                  </a:lnTo>
                  <a:lnTo>
                    <a:pt x="128" y="2523"/>
                  </a:lnTo>
                  <a:lnTo>
                    <a:pt x="123" y="2526"/>
                  </a:lnTo>
                  <a:lnTo>
                    <a:pt x="129" y="2535"/>
                  </a:lnTo>
                  <a:lnTo>
                    <a:pt x="129" y="2541"/>
                  </a:lnTo>
                  <a:lnTo>
                    <a:pt x="118" y="2544"/>
                  </a:lnTo>
                  <a:lnTo>
                    <a:pt x="105" y="2547"/>
                  </a:lnTo>
                  <a:lnTo>
                    <a:pt x="91" y="2549"/>
                  </a:lnTo>
                  <a:lnTo>
                    <a:pt x="77" y="2551"/>
                  </a:lnTo>
                  <a:lnTo>
                    <a:pt x="65" y="2553"/>
                  </a:lnTo>
                  <a:lnTo>
                    <a:pt x="52" y="2554"/>
                  </a:lnTo>
                  <a:lnTo>
                    <a:pt x="48" y="2547"/>
                  </a:lnTo>
                  <a:lnTo>
                    <a:pt x="42" y="2536"/>
                  </a:lnTo>
                  <a:lnTo>
                    <a:pt x="34" y="2534"/>
                  </a:lnTo>
                  <a:lnTo>
                    <a:pt x="10" y="2510"/>
                  </a:lnTo>
                  <a:lnTo>
                    <a:pt x="2" y="2504"/>
                  </a:lnTo>
                  <a:lnTo>
                    <a:pt x="0" y="2496"/>
                  </a:lnTo>
                  <a:lnTo>
                    <a:pt x="12" y="2491"/>
                  </a:lnTo>
                  <a:lnTo>
                    <a:pt x="23" y="2489"/>
                  </a:lnTo>
                  <a:lnTo>
                    <a:pt x="35" y="2487"/>
                  </a:lnTo>
                  <a:lnTo>
                    <a:pt x="48" y="2484"/>
                  </a:lnTo>
                  <a:lnTo>
                    <a:pt x="52" y="2479"/>
                  </a:lnTo>
                  <a:lnTo>
                    <a:pt x="62" y="2479"/>
                  </a:lnTo>
                  <a:lnTo>
                    <a:pt x="63" y="2470"/>
                  </a:lnTo>
                  <a:lnTo>
                    <a:pt x="73" y="2474"/>
                  </a:lnTo>
                  <a:lnTo>
                    <a:pt x="72" y="2465"/>
                  </a:lnTo>
                  <a:lnTo>
                    <a:pt x="84" y="2465"/>
                  </a:lnTo>
                  <a:lnTo>
                    <a:pt x="84" y="2475"/>
                  </a:lnTo>
                  <a:lnTo>
                    <a:pt x="94" y="2478"/>
                  </a:lnTo>
                  <a:lnTo>
                    <a:pt x="108" y="2477"/>
                  </a:lnTo>
                  <a:lnTo>
                    <a:pt x="104" y="2468"/>
                  </a:lnTo>
                  <a:lnTo>
                    <a:pt x="91" y="2465"/>
                  </a:lnTo>
                  <a:lnTo>
                    <a:pt x="81" y="2461"/>
                  </a:lnTo>
                  <a:lnTo>
                    <a:pt x="74" y="2454"/>
                  </a:lnTo>
                  <a:lnTo>
                    <a:pt x="66" y="2448"/>
                  </a:lnTo>
                  <a:lnTo>
                    <a:pt x="53" y="2446"/>
                  </a:lnTo>
                  <a:lnTo>
                    <a:pt x="42" y="2445"/>
                  </a:lnTo>
                  <a:lnTo>
                    <a:pt x="47" y="2439"/>
                  </a:lnTo>
                  <a:lnTo>
                    <a:pt x="55" y="2436"/>
                  </a:lnTo>
                  <a:lnTo>
                    <a:pt x="63" y="2428"/>
                  </a:lnTo>
                  <a:lnTo>
                    <a:pt x="69" y="2419"/>
                  </a:lnTo>
                  <a:lnTo>
                    <a:pt x="73" y="2410"/>
                  </a:lnTo>
                  <a:lnTo>
                    <a:pt x="70" y="2401"/>
                  </a:lnTo>
                  <a:lnTo>
                    <a:pt x="69" y="2392"/>
                  </a:lnTo>
                  <a:lnTo>
                    <a:pt x="74" y="2384"/>
                  </a:lnTo>
                  <a:lnTo>
                    <a:pt x="83" y="2376"/>
                  </a:lnTo>
                  <a:lnTo>
                    <a:pt x="90" y="2369"/>
                  </a:lnTo>
                  <a:lnTo>
                    <a:pt x="97" y="2361"/>
                  </a:lnTo>
                  <a:lnTo>
                    <a:pt x="104" y="2353"/>
                  </a:lnTo>
                  <a:lnTo>
                    <a:pt x="109" y="2344"/>
                  </a:lnTo>
                  <a:lnTo>
                    <a:pt x="115" y="2336"/>
                  </a:lnTo>
                  <a:lnTo>
                    <a:pt x="119" y="2327"/>
                  </a:lnTo>
                  <a:lnTo>
                    <a:pt x="128" y="2319"/>
                  </a:lnTo>
                  <a:lnTo>
                    <a:pt x="129" y="2312"/>
                  </a:lnTo>
                  <a:lnTo>
                    <a:pt x="116" y="2308"/>
                  </a:lnTo>
                  <a:lnTo>
                    <a:pt x="105" y="2302"/>
                  </a:lnTo>
                  <a:lnTo>
                    <a:pt x="94" y="2297"/>
                  </a:lnTo>
                  <a:lnTo>
                    <a:pt x="100" y="2289"/>
                  </a:lnTo>
                  <a:lnTo>
                    <a:pt x="93" y="2285"/>
                  </a:lnTo>
                  <a:lnTo>
                    <a:pt x="87" y="2277"/>
                  </a:lnTo>
                  <a:lnTo>
                    <a:pt x="93" y="2269"/>
                  </a:lnTo>
                  <a:lnTo>
                    <a:pt x="104" y="2274"/>
                  </a:lnTo>
                  <a:lnTo>
                    <a:pt x="115" y="2271"/>
                  </a:lnTo>
                  <a:lnTo>
                    <a:pt x="122" y="2263"/>
                  </a:lnTo>
                  <a:lnTo>
                    <a:pt x="135" y="2260"/>
                  </a:lnTo>
                  <a:lnTo>
                    <a:pt x="137" y="2254"/>
                  </a:lnTo>
                  <a:lnTo>
                    <a:pt x="130" y="2247"/>
                  </a:lnTo>
                  <a:lnTo>
                    <a:pt x="116" y="2246"/>
                  </a:lnTo>
                  <a:lnTo>
                    <a:pt x="104" y="2247"/>
                  </a:lnTo>
                  <a:lnTo>
                    <a:pt x="91" y="2249"/>
                  </a:lnTo>
                  <a:lnTo>
                    <a:pt x="83" y="2242"/>
                  </a:lnTo>
                  <a:lnTo>
                    <a:pt x="77" y="2234"/>
                  </a:lnTo>
                  <a:lnTo>
                    <a:pt x="79" y="2225"/>
                  </a:lnTo>
                  <a:lnTo>
                    <a:pt x="81" y="2215"/>
                  </a:lnTo>
                  <a:lnTo>
                    <a:pt x="81" y="2207"/>
                  </a:lnTo>
                  <a:lnTo>
                    <a:pt x="73" y="2199"/>
                  </a:lnTo>
                  <a:lnTo>
                    <a:pt x="70" y="2190"/>
                  </a:lnTo>
                  <a:lnTo>
                    <a:pt x="67" y="2181"/>
                  </a:lnTo>
                  <a:lnTo>
                    <a:pt x="67" y="2172"/>
                  </a:lnTo>
                  <a:lnTo>
                    <a:pt x="69" y="2163"/>
                  </a:lnTo>
                  <a:lnTo>
                    <a:pt x="76" y="2157"/>
                  </a:lnTo>
                  <a:lnTo>
                    <a:pt x="79" y="2147"/>
                  </a:lnTo>
                  <a:lnTo>
                    <a:pt x="80" y="2139"/>
                  </a:lnTo>
                  <a:lnTo>
                    <a:pt x="67" y="2136"/>
                  </a:lnTo>
                  <a:lnTo>
                    <a:pt x="55" y="2132"/>
                  </a:lnTo>
                  <a:lnTo>
                    <a:pt x="44" y="2130"/>
                  </a:lnTo>
                  <a:lnTo>
                    <a:pt x="31" y="2130"/>
                  </a:lnTo>
                  <a:lnTo>
                    <a:pt x="17" y="2115"/>
                  </a:lnTo>
                  <a:lnTo>
                    <a:pt x="26" y="2107"/>
                  </a:lnTo>
                  <a:lnTo>
                    <a:pt x="33" y="2099"/>
                  </a:lnTo>
                  <a:lnTo>
                    <a:pt x="40" y="2092"/>
                  </a:lnTo>
                  <a:lnTo>
                    <a:pt x="48" y="2084"/>
                  </a:lnTo>
                  <a:lnTo>
                    <a:pt x="56" y="2076"/>
                  </a:lnTo>
                  <a:lnTo>
                    <a:pt x="65" y="2069"/>
                  </a:lnTo>
                  <a:lnTo>
                    <a:pt x="72" y="2061"/>
                  </a:lnTo>
                  <a:lnTo>
                    <a:pt x="74" y="2052"/>
                  </a:lnTo>
                  <a:lnTo>
                    <a:pt x="76" y="2043"/>
                  </a:lnTo>
                  <a:lnTo>
                    <a:pt x="76" y="2033"/>
                  </a:lnTo>
                  <a:lnTo>
                    <a:pt x="76" y="2024"/>
                  </a:lnTo>
                  <a:lnTo>
                    <a:pt x="70" y="2018"/>
                  </a:lnTo>
                  <a:lnTo>
                    <a:pt x="73" y="2008"/>
                  </a:lnTo>
                  <a:lnTo>
                    <a:pt x="77" y="2000"/>
                  </a:lnTo>
                  <a:lnTo>
                    <a:pt x="81" y="1991"/>
                  </a:lnTo>
                  <a:lnTo>
                    <a:pt x="84" y="1981"/>
                  </a:lnTo>
                  <a:lnTo>
                    <a:pt x="88" y="1975"/>
                  </a:lnTo>
                  <a:lnTo>
                    <a:pt x="95" y="1969"/>
                  </a:lnTo>
                  <a:lnTo>
                    <a:pt x="98" y="1960"/>
                  </a:lnTo>
                  <a:lnTo>
                    <a:pt x="109" y="1956"/>
                  </a:lnTo>
                  <a:lnTo>
                    <a:pt x="123" y="1957"/>
                  </a:lnTo>
                  <a:lnTo>
                    <a:pt x="136" y="1956"/>
                  </a:lnTo>
                  <a:lnTo>
                    <a:pt x="139" y="1948"/>
                  </a:lnTo>
                  <a:lnTo>
                    <a:pt x="130" y="1941"/>
                  </a:lnTo>
                  <a:lnTo>
                    <a:pt x="130" y="1932"/>
                  </a:lnTo>
                  <a:lnTo>
                    <a:pt x="132" y="1922"/>
                  </a:lnTo>
                  <a:lnTo>
                    <a:pt x="142" y="1911"/>
                  </a:lnTo>
                  <a:lnTo>
                    <a:pt x="143" y="1901"/>
                  </a:lnTo>
                  <a:lnTo>
                    <a:pt x="140" y="1893"/>
                  </a:lnTo>
                  <a:lnTo>
                    <a:pt x="129" y="1898"/>
                  </a:lnTo>
                  <a:lnTo>
                    <a:pt x="121" y="1905"/>
                  </a:lnTo>
                  <a:lnTo>
                    <a:pt x="112" y="1912"/>
                  </a:lnTo>
                  <a:lnTo>
                    <a:pt x="101" y="1916"/>
                  </a:lnTo>
                  <a:lnTo>
                    <a:pt x="91" y="1923"/>
                  </a:lnTo>
                  <a:lnTo>
                    <a:pt x="80" y="1929"/>
                  </a:lnTo>
                  <a:lnTo>
                    <a:pt x="69" y="1935"/>
                  </a:lnTo>
                  <a:lnTo>
                    <a:pt x="58" y="1936"/>
                  </a:lnTo>
                  <a:lnTo>
                    <a:pt x="47" y="1930"/>
                  </a:lnTo>
                  <a:lnTo>
                    <a:pt x="45" y="1922"/>
                  </a:lnTo>
                  <a:lnTo>
                    <a:pt x="52" y="1909"/>
                  </a:lnTo>
                  <a:lnTo>
                    <a:pt x="56" y="1900"/>
                  </a:lnTo>
                  <a:lnTo>
                    <a:pt x="66" y="1895"/>
                  </a:lnTo>
                  <a:lnTo>
                    <a:pt x="79" y="1891"/>
                  </a:lnTo>
                  <a:lnTo>
                    <a:pt x="87" y="1884"/>
                  </a:lnTo>
                  <a:lnTo>
                    <a:pt x="94" y="1876"/>
                  </a:lnTo>
                  <a:lnTo>
                    <a:pt x="102" y="1869"/>
                  </a:lnTo>
                  <a:lnTo>
                    <a:pt x="114" y="1867"/>
                  </a:lnTo>
                  <a:lnTo>
                    <a:pt x="128" y="1871"/>
                  </a:lnTo>
                  <a:lnTo>
                    <a:pt x="137" y="1867"/>
                  </a:lnTo>
                  <a:lnTo>
                    <a:pt x="146" y="1859"/>
                  </a:lnTo>
                  <a:lnTo>
                    <a:pt x="150" y="1850"/>
                  </a:lnTo>
                  <a:lnTo>
                    <a:pt x="150" y="1840"/>
                  </a:lnTo>
                  <a:lnTo>
                    <a:pt x="142" y="1832"/>
                  </a:lnTo>
                  <a:lnTo>
                    <a:pt x="136" y="1824"/>
                  </a:lnTo>
                  <a:lnTo>
                    <a:pt x="130" y="1815"/>
                  </a:lnTo>
                  <a:lnTo>
                    <a:pt x="128" y="1806"/>
                  </a:lnTo>
                  <a:lnTo>
                    <a:pt x="132" y="1798"/>
                  </a:lnTo>
                  <a:lnTo>
                    <a:pt x="144" y="1796"/>
                  </a:lnTo>
                  <a:lnTo>
                    <a:pt x="154" y="1800"/>
                  </a:lnTo>
                  <a:lnTo>
                    <a:pt x="164" y="1807"/>
                  </a:lnTo>
                  <a:lnTo>
                    <a:pt x="172" y="1814"/>
                  </a:lnTo>
                  <a:lnTo>
                    <a:pt x="184" y="1820"/>
                  </a:lnTo>
                  <a:lnTo>
                    <a:pt x="196" y="1821"/>
                  </a:lnTo>
                  <a:lnTo>
                    <a:pt x="209" y="1821"/>
                  </a:lnTo>
                  <a:lnTo>
                    <a:pt x="216" y="1815"/>
                  </a:lnTo>
                  <a:lnTo>
                    <a:pt x="216" y="1805"/>
                  </a:lnTo>
                  <a:lnTo>
                    <a:pt x="217" y="1796"/>
                  </a:lnTo>
                  <a:lnTo>
                    <a:pt x="218" y="1787"/>
                  </a:lnTo>
                  <a:lnTo>
                    <a:pt x="225" y="1782"/>
                  </a:lnTo>
                  <a:lnTo>
                    <a:pt x="227" y="1772"/>
                  </a:lnTo>
                  <a:lnTo>
                    <a:pt x="230" y="1763"/>
                  </a:lnTo>
                  <a:lnTo>
                    <a:pt x="234" y="1754"/>
                  </a:lnTo>
                  <a:lnTo>
                    <a:pt x="237" y="1745"/>
                  </a:lnTo>
                  <a:lnTo>
                    <a:pt x="239" y="1736"/>
                  </a:lnTo>
                  <a:lnTo>
                    <a:pt x="242" y="1727"/>
                  </a:lnTo>
                  <a:lnTo>
                    <a:pt x="245" y="1717"/>
                  </a:lnTo>
                  <a:lnTo>
                    <a:pt x="244" y="1708"/>
                  </a:lnTo>
                  <a:lnTo>
                    <a:pt x="237" y="1700"/>
                  </a:lnTo>
                  <a:lnTo>
                    <a:pt x="228" y="1693"/>
                  </a:lnTo>
                  <a:lnTo>
                    <a:pt x="220" y="1685"/>
                  </a:lnTo>
                  <a:lnTo>
                    <a:pt x="213" y="1678"/>
                  </a:lnTo>
                  <a:lnTo>
                    <a:pt x="206" y="1670"/>
                  </a:lnTo>
                  <a:lnTo>
                    <a:pt x="197" y="1663"/>
                  </a:lnTo>
                  <a:lnTo>
                    <a:pt x="195" y="1654"/>
                  </a:lnTo>
                  <a:lnTo>
                    <a:pt x="192" y="1645"/>
                  </a:lnTo>
                  <a:lnTo>
                    <a:pt x="190" y="1635"/>
                  </a:lnTo>
                  <a:lnTo>
                    <a:pt x="189" y="1625"/>
                  </a:lnTo>
                  <a:lnTo>
                    <a:pt x="189" y="1616"/>
                  </a:lnTo>
                  <a:lnTo>
                    <a:pt x="188" y="1606"/>
                  </a:lnTo>
                  <a:lnTo>
                    <a:pt x="186" y="1597"/>
                  </a:lnTo>
                  <a:lnTo>
                    <a:pt x="185" y="1588"/>
                  </a:lnTo>
                  <a:lnTo>
                    <a:pt x="184" y="1579"/>
                  </a:lnTo>
                  <a:lnTo>
                    <a:pt x="181" y="1570"/>
                  </a:lnTo>
                  <a:lnTo>
                    <a:pt x="177" y="1561"/>
                  </a:lnTo>
                  <a:lnTo>
                    <a:pt x="174" y="1551"/>
                  </a:lnTo>
                  <a:lnTo>
                    <a:pt x="172" y="1542"/>
                  </a:lnTo>
                  <a:lnTo>
                    <a:pt x="170" y="1533"/>
                  </a:lnTo>
                  <a:lnTo>
                    <a:pt x="170" y="1524"/>
                  </a:lnTo>
                  <a:lnTo>
                    <a:pt x="171" y="1514"/>
                  </a:lnTo>
                  <a:lnTo>
                    <a:pt x="174" y="1505"/>
                  </a:lnTo>
                  <a:lnTo>
                    <a:pt x="181" y="1497"/>
                  </a:lnTo>
                  <a:lnTo>
                    <a:pt x="188" y="1489"/>
                  </a:lnTo>
                  <a:lnTo>
                    <a:pt x="195" y="1482"/>
                  </a:lnTo>
                  <a:lnTo>
                    <a:pt x="202" y="1474"/>
                  </a:lnTo>
                  <a:lnTo>
                    <a:pt x="207" y="1466"/>
                  </a:lnTo>
                  <a:lnTo>
                    <a:pt x="214" y="1458"/>
                  </a:lnTo>
                  <a:lnTo>
                    <a:pt x="221" y="1450"/>
                  </a:lnTo>
                  <a:lnTo>
                    <a:pt x="228" y="1442"/>
                  </a:lnTo>
                  <a:lnTo>
                    <a:pt x="232" y="1433"/>
                  </a:lnTo>
                  <a:lnTo>
                    <a:pt x="238" y="1425"/>
                  </a:lnTo>
                  <a:lnTo>
                    <a:pt x="242" y="1416"/>
                  </a:lnTo>
                  <a:lnTo>
                    <a:pt x="244" y="1407"/>
                  </a:lnTo>
                  <a:lnTo>
                    <a:pt x="245" y="1397"/>
                  </a:lnTo>
                  <a:lnTo>
                    <a:pt x="246" y="1388"/>
                  </a:lnTo>
                  <a:lnTo>
                    <a:pt x="246" y="1379"/>
                  </a:lnTo>
                  <a:lnTo>
                    <a:pt x="245" y="1369"/>
                  </a:lnTo>
                  <a:lnTo>
                    <a:pt x="242" y="1360"/>
                  </a:lnTo>
                  <a:lnTo>
                    <a:pt x="238" y="1351"/>
                  </a:lnTo>
                  <a:lnTo>
                    <a:pt x="234" y="1343"/>
                  </a:lnTo>
                  <a:lnTo>
                    <a:pt x="230" y="1334"/>
                  </a:lnTo>
                  <a:lnTo>
                    <a:pt x="225" y="1325"/>
                  </a:lnTo>
                  <a:lnTo>
                    <a:pt x="214" y="1309"/>
                  </a:lnTo>
                  <a:lnTo>
                    <a:pt x="207" y="1301"/>
                  </a:lnTo>
                  <a:lnTo>
                    <a:pt x="202" y="1293"/>
                  </a:lnTo>
                  <a:lnTo>
                    <a:pt x="196" y="1284"/>
                  </a:lnTo>
                  <a:lnTo>
                    <a:pt x="193" y="1275"/>
                  </a:lnTo>
                  <a:lnTo>
                    <a:pt x="192" y="1266"/>
                  </a:lnTo>
                  <a:lnTo>
                    <a:pt x="192" y="1256"/>
                  </a:lnTo>
                  <a:lnTo>
                    <a:pt x="197" y="1248"/>
                  </a:lnTo>
                  <a:lnTo>
                    <a:pt x="199" y="1241"/>
                  </a:lnTo>
                  <a:lnTo>
                    <a:pt x="199" y="1232"/>
                  </a:lnTo>
                  <a:lnTo>
                    <a:pt x="199" y="1222"/>
                  </a:lnTo>
                  <a:lnTo>
                    <a:pt x="195" y="1217"/>
                  </a:lnTo>
                  <a:lnTo>
                    <a:pt x="190" y="1212"/>
                  </a:lnTo>
                  <a:lnTo>
                    <a:pt x="192" y="1202"/>
                  </a:lnTo>
                  <a:lnTo>
                    <a:pt x="186" y="1195"/>
                  </a:lnTo>
                  <a:lnTo>
                    <a:pt x="190" y="1187"/>
                  </a:lnTo>
                  <a:lnTo>
                    <a:pt x="186" y="1178"/>
                  </a:lnTo>
                  <a:lnTo>
                    <a:pt x="182" y="1168"/>
                  </a:lnTo>
                  <a:lnTo>
                    <a:pt x="174" y="1160"/>
                  </a:lnTo>
                  <a:lnTo>
                    <a:pt x="167" y="1153"/>
                  </a:lnTo>
                  <a:lnTo>
                    <a:pt x="158" y="1145"/>
                  </a:lnTo>
                  <a:lnTo>
                    <a:pt x="150" y="1138"/>
                  </a:lnTo>
                  <a:lnTo>
                    <a:pt x="143" y="1131"/>
                  </a:lnTo>
                  <a:lnTo>
                    <a:pt x="135" y="1123"/>
                  </a:lnTo>
                  <a:lnTo>
                    <a:pt x="128" y="1115"/>
                  </a:lnTo>
                  <a:lnTo>
                    <a:pt x="122" y="1107"/>
                  </a:lnTo>
                  <a:lnTo>
                    <a:pt x="119" y="1098"/>
                  </a:lnTo>
                  <a:lnTo>
                    <a:pt x="119" y="1089"/>
                  </a:lnTo>
                  <a:lnTo>
                    <a:pt x="122" y="1079"/>
                  </a:lnTo>
                  <a:lnTo>
                    <a:pt x="128" y="1071"/>
                  </a:lnTo>
                  <a:lnTo>
                    <a:pt x="136" y="1064"/>
                  </a:lnTo>
                  <a:lnTo>
                    <a:pt x="143" y="1056"/>
                  </a:lnTo>
                  <a:lnTo>
                    <a:pt x="150" y="1048"/>
                  </a:lnTo>
                  <a:lnTo>
                    <a:pt x="157" y="1040"/>
                  </a:lnTo>
                  <a:lnTo>
                    <a:pt x="165" y="1033"/>
                  </a:lnTo>
                  <a:lnTo>
                    <a:pt x="178" y="1030"/>
                  </a:lnTo>
                  <a:lnTo>
                    <a:pt x="190" y="1029"/>
                  </a:lnTo>
                  <a:lnTo>
                    <a:pt x="204" y="1030"/>
                  </a:lnTo>
                  <a:lnTo>
                    <a:pt x="217" y="1032"/>
                  </a:lnTo>
                  <a:lnTo>
                    <a:pt x="223" y="1027"/>
                  </a:lnTo>
                  <a:lnTo>
                    <a:pt x="232" y="1026"/>
                  </a:lnTo>
                  <a:lnTo>
                    <a:pt x="245" y="1025"/>
                  </a:lnTo>
                  <a:lnTo>
                    <a:pt x="258" y="1023"/>
                  </a:lnTo>
                  <a:lnTo>
                    <a:pt x="269" y="1019"/>
                  </a:lnTo>
                  <a:lnTo>
                    <a:pt x="280" y="1014"/>
                  </a:lnTo>
                  <a:lnTo>
                    <a:pt x="291" y="1009"/>
                  </a:lnTo>
                  <a:lnTo>
                    <a:pt x="302" y="1003"/>
                  </a:lnTo>
                  <a:lnTo>
                    <a:pt x="314" y="1002"/>
                  </a:lnTo>
                  <a:lnTo>
                    <a:pt x="323" y="1002"/>
                  </a:lnTo>
                  <a:lnTo>
                    <a:pt x="332" y="994"/>
                  </a:lnTo>
                  <a:lnTo>
                    <a:pt x="340" y="987"/>
                  </a:lnTo>
                  <a:lnTo>
                    <a:pt x="348" y="980"/>
                  </a:lnTo>
                  <a:lnTo>
                    <a:pt x="357" y="973"/>
                  </a:lnTo>
                  <a:lnTo>
                    <a:pt x="364" y="965"/>
                  </a:lnTo>
                  <a:lnTo>
                    <a:pt x="371" y="957"/>
                  </a:lnTo>
                  <a:lnTo>
                    <a:pt x="378" y="949"/>
                  </a:lnTo>
                  <a:lnTo>
                    <a:pt x="385" y="942"/>
                  </a:lnTo>
                  <a:lnTo>
                    <a:pt x="393" y="934"/>
                  </a:lnTo>
                  <a:lnTo>
                    <a:pt x="402" y="927"/>
                  </a:lnTo>
                  <a:lnTo>
                    <a:pt x="409" y="919"/>
                  </a:lnTo>
                  <a:lnTo>
                    <a:pt x="411" y="910"/>
                  </a:lnTo>
                  <a:lnTo>
                    <a:pt x="414" y="901"/>
                  </a:lnTo>
                  <a:lnTo>
                    <a:pt x="414" y="892"/>
                  </a:lnTo>
                  <a:lnTo>
                    <a:pt x="413" y="883"/>
                  </a:lnTo>
                  <a:lnTo>
                    <a:pt x="407" y="874"/>
                  </a:lnTo>
                  <a:lnTo>
                    <a:pt x="400" y="866"/>
                  </a:lnTo>
                  <a:lnTo>
                    <a:pt x="393" y="858"/>
                  </a:lnTo>
                  <a:lnTo>
                    <a:pt x="386" y="850"/>
                  </a:lnTo>
                  <a:lnTo>
                    <a:pt x="381" y="842"/>
                  </a:lnTo>
                  <a:lnTo>
                    <a:pt x="375" y="833"/>
                  </a:lnTo>
                  <a:lnTo>
                    <a:pt x="371" y="825"/>
                  </a:lnTo>
                  <a:lnTo>
                    <a:pt x="367" y="816"/>
                  </a:lnTo>
                  <a:lnTo>
                    <a:pt x="364" y="807"/>
                  </a:lnTo>
                  <a:lnTo>
                    <a:pt x="362" y="797"/>
                  </a:lnTo>
                  <a:lnTo>
                    <a:pt x="357" y="791"/>
                  </a:lnTo>
                  <a:lnTo>
                    <a:pt x="354" y="782"/>
                  </a:lnTo>
                  <a:lnTo>
                    <a:pt x="354" y="773"/>
                  </a:lnTo>
                  <a:lnTo>
                    <a:pt x="350" y="766"/>
                  </a:lnTo>
                  <a:lnTo>
                    <a:pt x="350" y="759"/>
                  </a:lnTo>
                  <a:lnTo>
                    <a:pt x="348" y="751"/>
                  </a:lnTo>
                  <a:lnTo>
                    <a:pt x="340" y="743"/>
                  </a:lnTo>
                  <a:lnTo>
                    <a:pt x="333" y="735"/>
                  </a:lnTo>
                  <a:lnTo>
                    <a:pt x="327" y="727"/>
                  </a:lnTo>
                  <a:lnTo>
                    <a:pt x="315" y="714"/>
                  </a:lnTo>
                  <a:lnTo>
                    <a:pt x="311" y="704"/>
                  </a:lnTo>
                  <a:lnTo>
                    <a:pt x="304" y="696"/>
                  </a:lnTo>
                  <a:lnTo>
                    <a:pt x="301" y="689"/>
                  </a:lnTo>
                  <a:lnTo>
                    <a:pt x="290" y="685"/>
                  </a:lnTo>
                  <a:lnTo>
                    <a:pt x="280" y="679"/>
                  </a:lnTo>
                  <a:lnTo>
                    <a:pt x="270" y="672"/>
                  </a:lnTo>
                  <a:lnTo>
                    <a:pt x="262" y="665"/>
                  </a:lnTo>
                  <a:lnTo>
                    <a:pt x="255" y="657"/>
                  </a:lnTo>
                  <a:lnTo>
                    <a:pt x="249" y="649"/>
                  </a:lnTo>
                  <a:lnTo>
                    <a:pt x="251" y="639"/>
                  </a:lnTo>
                  <a:lnTo>
                    <a:pt x="251" y="630"/>
                  </a:lnTo>
                  <a:lnTo>
                    <a:pt x="251" y="621"/>
                  </a:lnTo>
                  <a:lnTo>
                    <a:pt x="251" y="611"/>
                  </a:lnTo>
                  <a:lnTo>
                    <a:pt x="251" y="602"/>
                  </a:lnTo>
                  <a:lnTo>
                    <a:pt x="251" y="593"/>
                  </a:lnTo>
                  <a:lnTo>
                    <a:pt x="252" y="583"/>
                  </a:lnTo>
                  <a:lnTo>
                    <a:pt x="252" y="574"/>
                  </a:lnTo>
                  <a:lnTo>
                    <a:pt x="253" y="559"/>
                  </a:lnTo>
                  <a:lnTo>
                    <a:pt x="255" y="550"/>
                  </a:lnTo>
                  <a:lnTo>
                    <a:pt x="260" y="541"/>
                  </a:lnTo>
                  <a:lnTo>
                    <a:pt x="269" y="533"/>
                  </a:lnTo>
                  <a:lnTo>
                    <a:pt x="276" y="526"/>
                  </a:lnTo>
                  <a:lnTo>
                    <a:pt x="283" y="518"/>
                  </a:lnTo>
                  <a:lnTo>
                    <a:pt x="290" y="510"/>
                  </a:lnTo>
                  <a:lnTo>
                    <a:pt x="298" y="503"/>
                  </a:lnTo>
                  <a:lnTo>
                    <a:pt x="305" y="495"/>
                  </a:lnTo>
                  <a:lnTo>
                    <a:pt x="312" y="487"/>
                  </a:lnTo>
                  <a:lnTo>
                    <a:pt x="316" y="478"/>
                  </a:lnTo>
                  <a:lnTo>
                    <a:pt x="322" y="470"/>
                  </a:lnTo>
                  <a:lnTo>
                    <a:pt x="325" y="461"/>
                  </a:lnTo>
                  <a:lnTo>
                    <a:pt x="327" y="451"/>
                  </a:lnTo>
                  <a:lnTo>
                    <a:pt x="329" y="442"/>
                  </a:lnTo>
                  <a:lnTo>
                    <a:pt x="330" y="433"/>
                  </a:lnTo>
                  <a:lnTo>
                    <a:pt x="332" y="424"/>
                  </a:lnTo>
                  <a:lnTo>
                    <a:pt x="333" y="414"/>
                  </a:lnTo>
                  <a:lnTo>
                    <a:pt x="332" y="405"/>
                  </a:lnTo>
                  <a:lnTo>
                    <a:pt x="330" y="396"/>
                  </a:lnTo>
                  <a:lnTo>
                    <a:pt x="327" y="387"/>
                  </a:lnTo>
                  <a:lnTo>
                    <a:pt x="323" y="378"/>
                  </a:lnTo>
                  <a:lnTo>
                    <a:pt x="321" y="369"/>
                  </a:lnTo>
                  <a:lnTo>
                    <a:pt x="315" y="360"/>
                  </a:lnTo>
                  <a:lnTo>
                    <a:pt x="311" y="351"/>
                  </a:lnTo>
                  <a:lnTo>
                    <a:pt x="308" y="342"/>
                  </a:lnTo>
                  <a:lnTo>
                    <a:pt x="305" y="333"/>
                  </a:lnTo>
                  <a:lnTo>
                    <a:pt x="304" y="324"/>
                  </a:lnTo>
                  <a:lnTo>
                    <a:pt x="302" y="315"/>
                  </a:lnTo>
                  <a:lnTo>
                    <a:pt x="302" y="305"/>
                  </a:lnTo>
                  <a:lnTo>
                    <a:pt x="305" y="296"/>
                  </a:lnTo>
                  <a:lnTo>
                    <a:pt x="308" y="287"/>
                  </a:lnTo>
                  <a:lnTo>
                    <a:pt x="315" y="279"/>
                  </a:lnTo>
                  <a:lnTo>
                    <a:pt x="323" y="272"/>
                  </a:lnTo>
                  <a:lnTo>
                    <a:pt x="330" y="264"/>
                  </a:lnTo>
                  <a:lnTo>
                    <a:pt x="337" y="256"/>
                  </a:lnTo>
                  <a:lnTo>
                    <a:pt x="339" y="246"/>
                  </a:lnTo>
                  <a:lnTo>
                    <a:pt x="339" y="237"/>
                  </a:lnTo>
                  <a:lnTo>
                    <a:pt x="339" y="227"/>
                  </a:lnTo>
                  <a:lnTo>
                    <a:pt x="336" y="218"/>
                  </a:lnTo>
                  <a:close/>
                </a:path>
              </a:pathLst>
            </a:custGeom>
            <a:solidFill>
              <a:srgbClr val="ffff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65640" y="4191120"/>
              <a:ext cx="1209600" cy="1150920"/>
            </a:xfrm>
            <a:custGeom>
              <a:avLst/>
              <a:gdLst/>
              <a:ahLst/>
              <a:rect l="l" t="t" r="r" b="b"/>
              <a:pathLst>
                <a:path w="2284" h="1451">
                  <a:moveTo>
                    <a:pt x="827" y="22"/>
                  </a:moveTo>
                  <a:lnTo>
                    <a:pt x="829" y="31"/>
                  </a:lnTo>
                  <a:lnTo>
                    <a:pt x="832" y="40"/>
                  </a:lnTo>
                  <a:lnTo>
                    <a:pt x="836" y="49"/>
                  </a:lnTo>
                  <a:lnTo>
                    <a:pt x="844" y="56"/>
                  </a:lnTo>
                  <a:lnTo>
                    <a:pt x="858" y="56"/>
                  </a:lnTo>
                  <a:lnTo>
                    <a:pt x="869" y="60"/>
                  </a:lnTo>
                  <a:lnTo>
                    <a:pt x="878" y="76"/>
                  </a:lnTo>
                  <a:lnTo>
                    <a:pt x="885" y="84"/>
                  </a:lnTo>
                  <a:lnTo>
                    <a:pt x="889" y="92"/>
                  </a:lnTo>
                  <a:lnTo>
                    <a:pt x="885" y="101"/>
                  </a:lnTo>
                  <a:lnTo>
                    <a:pt x="888" y="111"/>
                  </a:lnTo>
                  <a:lnTo>
                    <a:pt x="899" y="110"/>
                  </a:lnTo>
                  <a:lnTo>
                    <a:pt x="913" y="107"/>
                  </a:lnTo>
                  <a:lnTo>
                    <a:pt x="921" y="101"/>
                  </a:lnTo>
                  <a:lnTo>
                    <a:pt x="916" y="93"/>
                  </a:lnTo>
                  <a:lnTo>
                    <a:pt x="910" y="76"/>
                  </a:lnTo>
                  <a:lnTo>
                    <a:pt x="922" y="62"/>
                  </a:lnTo>
                  <a:lnTo>
                    <a:pt x="934" y="65"/>
                  </a:lnTo>
                  <a:lnTo>
                    <a:pt x="945" y="69"/>
                  </a:lnTo>
                  <a:lnTo>
                    <a:pt x="955" y="76"/>
                  </a:lnTo>
                  <a:lnTo>
                    <a:pt x="963" y="80"/>
                  </a:lnTo>
                  <a:lnTo>
                    <a:pt x="971" y="87"/>
                  </a:lnTo>
                  <a:lnTo>
                    <a:pt x="981" y="93"/>
                  </a:lnTo>
                  <a:lnTo>
                    <a:pt x="992" y="99"/>
                  </a:lnTo>
                  <a:lnTo>
                    <a:pt x="1004" y="105"/>
                  </a:lnTo>
                  <a:lnTo>
                    <a:pt x="1015" y="111"/>
                  </a:lnTo>
                  <a:lnTo>
                    <a:pt x="1026" y="116"/>
                  </a:lnTo>
                  <a:lnTo>
                    <a:pt x="1037" y="121"/>
                  </a:lnTo>
                  <a:lnTo>
                    <a:pt x="1048" y="125"/>
                  </a:lnTo>
                  <a:lnTo>
                    <a:pt x="1059" y="128"/>
                  </a:lnTo>
                  <a:lnTo>
                    <a:pt x="1066" y="122"/>
                  </a:lnTo>
                  <a:lnTo>
                    <a:pt x="1073" y="111"/>
                  </a:lnTo>
                  <a:lnTo>
                    <a:pt x="1078" y="103"/>
                  </a:lnTo>
                  <a:lnTo>
                    <a:pt x="1082" y="94"/>
                  </a:lnTo>
                  <a:lnTo>
                    <a:pt x="1087" y="86"/>
                  </a:lnTo>
                  <a:lnTo>
                    <a:pt x="1094" y="76"/>
                  </a:lnTo>
                  <a:lnTo>
                    <a:pt x="1103" y="69"/>
                  </a:lnTo>
                  <a:lnTo>
                    <a:pt x="1111" y="63"/>
                  </a:lnTo>
                  <a:lnTo>
                    <a:pt x="1122" y="67"/>
                  </a:lnTo>
                  <a:lnTo>
                    <a:pt x="1134" y="73"/>
                  </a:lnTo>
                  <a:lnTo>
                    <a:pt x="1146" y="69"/>
                  </a:lnTo>
                  <a:lnTo>
                    <a:pt x="1152" y="61"/>
                  </a:lnTo>
                  <a:lnTo>
                    <a:pt x="1142" y="56"/>
                  </a:lnTo>
                  <a:lnTo>
                    <a:pt x="1142" y="48"/>
                  </a:lnTo>
                  <a:lnTo>
                    <a:pt x="1153" y="45"/>
                  </a:lnTo>
                  <a:lnTo>
                    <a:pt x="1156" y="38"/>
                  </a:lnTo>
                  <a:lnTo>
                    <a:pt x="1167" y="32"/>
                  </a:lnTo>
                  <a:lnTo>
                    <a:pt x="1180" y="31"/>
                  </a:lnTo>
                  <a:lnTo>
                    <a:pt x="1192" y="34"/>
                  </a:lnTo>
                  <a:lnTo>
                    <a:pt x="1205" y="37"/>
                  </a:lnTo>
                  <a:lnTo>
                    <a:pt x="1217" y="40"/>
                  </a:lnTo>
                  <a:lnTo>
                    <a:pt x="1229" y="44"/>
                  </a:lnTo>
                  <a:lnTo>
                    <a:pt x="1238" y="50"/>
                  </a:lnTo>
                  <a:lnTo>
                    <a:pt x="1247" y="57"/>
                  </a:lnTo>
                  <a:lnTo>
                    <a:pt x="1255" y="65"/>
                  </a:lnTo>
                  <a:lnTo>
                    <a:pt x="1271" y="76"/>
                  </a:lnTo>
                  <a:lnTo>
                    <a:pt x="1276" y="84"/>
                  </a:lnTo>
                  <a:lnTo>
                    <a:pt x="1282" y="94"/>
                  </a:lnTo>
                  <a:lnTo>
                    <a:pt x="1292" y="98"/>
                  </a:lnTo>
                  <a:lnTo>
                    <a:pt x="1304" y="99"/>
                  </a:lnTo>
                  <a:lnTo>
                    <a:pt x="1317" y="100"/>
                  </a:lnTo>
                  <a:lnTo>
                    <a:pt x="1331" y="100"/>
                  </a:lnTo>
                  <a:lnTo>
                    <a:pt x="1343" y="102"/>
                  </a:lnTo>
                  <a:lnTo>
                    <a:pt x="1356" y="105"/>
                  </a:lnTo>
                  <a:lnTo>
                    <a:pt x="1368" y="106"/>
                  </a:lnTo>
                  <a:lnTo>
                    <a:pt x="1381" y="103"/>
                  </a:lnTo>
                  <a:lnTo>
                    <a:pt x="1392" y="97"/>
                  </a:lnTo>
                  <a:lnTo>
                    <a:pt x="1396" y="89"/>
                  </a:lnTo>
                  <a:lnTo>
                    <a:pt x="1398" y="76"/>
                  </a:lnTo>
                  <a:lnTo>
                    <a:pt x="1405" y="65"/>
                  </a:lnTo>
                  <a:lnTo>
                    <a:pt x="1409" y="58"/>
                  </a:lnTo>
                  <a:lnTo>
                    <a:pt x="1423" y="59"/>
                  </a:lnTo>
                  <a:lnTo>
                    <a:pt x="1436" y="59"/>
                  </a:lnTo>
                  <a:lnTo>
                    <a:pt x="1448" y="57"/>
                  </a:lnTo>
                  <a:lnTo>
                    <a:pt x="1461" y="55"/>
                  </a:lnTo>
                  <a:lnTo>
                    <a:pt x="1473" y="54"/>
                  </a:lnTo>
                  <a:lnTo>
                    <a:pt x="1487" y="53"/>
                  </a:lnTo>
                  <a:lnTo>
                    <a:pt x="1500" y="53"/>
                  </a:lnTo>
                  <a:lnTo>
                    <a:pt x="1511" y="50"/>
                  </a:lnTo>
                  <a:lnTo>
                    <a:pt x="1518" y="43"/>
                  </a:lnTo>
                  <a:lnTo>
                    <a:pt x="1531" y="39"/>
                  </a:lnTo>
                  <a:lnTo>
                    <a:pt x="1542" y="35"/>
                  </a:lnTo>
                  <a:lnTo>
                    <a:pt x="1553" y="29"/>
                  </a:lnTo>
                  <a:lnTo>
                    <a:pt x="1554" y="20"/>
                  </a:lnTo>
                  <a:lnTo>
                    <a:pt x="1566" y="16"/>
                  </a:lnTo>
                  <a:lnTo>
                    <a:pt x="1578" y="14"/>
                  </a:lnTo>
                  <a:lnTo>
                    <a:pt x="1591" y="11"/>
                  </a:lnTo>
                  <a:lnTo>
                    <a:pt x="1600" y="4"/>
                  </a:lnTo>
                  <a:lnTo>
                    <a:pt x="1610" y="0"/>
                  </a:lnTo>
                  <a:lnTo>
                    <a:pt x="1620" y="6"/>
                  </a:lnTo>
                  <a:lnTo>
                    <a:pt x="1630" y="13"/>
                  </a:lnTo>
                  <a:lnTo>
                    <a:pt x="1638" y="21"/>
                  </a:lnTo>
                  <a:lnTo>
                    <a:pt x="1648" y="27"/>
                  </a:lnTo>
                  <a:lnTo>
                    <a:pt x="1659" y="32"/>
                  </a:lnTo>
                  <a:lnTo>
                    <a:pt x="1670" y="36"/>
                  </a:lnTo>
                  <a:lnTo>
                    <a:pt x="1680" y="42"/>
                  </a:lnTo>
                  <a:lnTo>
                    <a:pt x="1689" y="49"/>
                  </a:lnTo>
                  <a:lnTo>
                    <a:pt x="1694" y="57"/>
                  </a:lnTo>
                  <a:lnTo>
                    <a:pt x="1700" y="66"/>
                  </a:lnTo>
                  <a:lnTo>
                    <a:pt x="1705" y="76"/>
                  </a:lnTo>
                  <a:lnTo>
                    <a:pt x="1717" y="81"/>
                  </a:lnTo>
                  <a:lnTo>
                    <a:pt x="1729" y="80"/>
                  </a:lnTo>
                  <a:lnTo>
                    <a:pt x="1742" y="80"/>
                  </a:lnTo>
                  <a:lnTo>
                    <a:pt x="1754" y="79"/>
                  </a:lnTo>
                  <a:lnTo>
                    <a:pt x="1768" y="78"/>
                  </a:lnTo>
                  <a:lnTo>
                    <a:pt x="1781" y="78"/>
                  </a:lnTo>
                  <a:lnTo>
                    <a:pt x="1838" y="76"/>
                  </a:lnTo>
                  <a:lnTo>
                    <a:pt x="1849" y="81"/>
                  </a:lnTo>
                  <a:lnTo>
                    <a:pt x="1859" y="87"/>
                  </a:lnTo>
                  <a:lnTo>
                    <a:pt x="1870" y="92"/>
                  </a:lnTo>
                  <a:lnTo>
                    <a:pt x="1887" y="101"/>
                  </a:lnTo>
                  <a:lnTo>
                    <a:pt x="1884" y="135"/>
                  </a:lnTo>
                  <a:lnTo>
                    <a:pt x="1881" y="144"/>
                  </a:lnTo>
                  <a:lnTo>
                    <a:pt x="1877" y="153"/>
                  </a:lnTo>
                  <a:lnTo>
                    <a:pt x="1874" y="162"/>
                  </a:lnTo>
                  <a:lnTo>
                    <a:pt x="1872" y="171"/>
                  </a:lnTo>
                  <a:lnTo>
                    <a:pt x="1869" y="180"/>
                  </a:lnTo>
                  <a:lnTo>
                    <a:pt x="1866" y="189"/>
                  </a:lnTo>
                  <a:lnTo>
                    <a:pt x="1872" y="198"/>
                  </a:lnTo>
                  <a:lnTo>
                    <a:pt x="1873" y="207"/>
                  </a:lnTo>
                  <a:lnTo>
                    <a:pt x="1874" y="216"/>
                  </a:lnTo>
                  <a:lnTo>
                    <a:pt x="1874" y="226"/>
                  </a:lnTo>
                  <a:lnTo>
                    <a:pt x="1874" y="235"/>
                  </a:lnTo>
                  <a:lnTo>
                    <a:pt x="1879" y="244"/>
                  </a:lnTo>
                  <a:lnTo>
                    <a:pt x="1887" y="271"/>
                  </a:lnTo>
                  <a:lnTo>
                    <a:pt x="1873" y="270"/>
                  </a:lnTo>
                  <a:lnTo>
                    <a:pt x="1859" y="271"/>
                  </a:lnTo>
                  <a:lnTo>
                    <a:pt x="1855" y="277"/>
                  </a:lnTo>
                  <a:lnTo>
                    <a:pt x="1856" y="286"/>
                  </a:lnTo>
                  <a:lnTo>
                    <a:pt x="1859" y="296"/>
                  </a:lnTo>
                  <a:lnTo>
                    <a:pt x="1859" y="306"/>
                  </a:lnTo>
                  <a:lnTo>
                    <a:pt x="1858" y="315"/>
                  </a:lnTo>
                  <a:lnTo>
                    <a:pt x="1855" y="325"/>
                  </a:lnTo>
                  <a:lnTo>
                    <a:pt x="1854" y="335"/>
                  </a:lnTo>
                  <a:lnTo>
                    <a:pt x="1851" y="344"/>
                  </a:lnTo>
                  <a:lnTo>
                    <a:pt x="1849" y="353"/>
                  </a:lnTo>
                  <a:lnTo>
                    <a:pt x="1848" y="362"/>
                  </a:lnTo>
                  <a:lnTo>
                    <a:pt x="1848" y="370"/>
                  </a:lnTo>
                  <a:lnTo>
                    <a:pt x="1863" y="370"/>
                  </a:lnTo>
                  <a:lnTo>
                    <a:pt x="1866" y="377"/>
                  </a:lnTo>
                  <a:lnTo>
                    <a:pt x="1867" y="386"/>
                  </a:lnTo>
                  <a:lnTo>
                    <a:pt x="1866" y="395"/>
                  </a:lnTo>
                  <a:lnTo>
                    <a:pt x="1866" y="405"/>
                  </a:lnTo>
                  <a:lnTo>
                    <a:pt x="1865" y="415"/>
                  </a:lnTo>
                  <a:lnTo>
                    <a:pt x="1865" y="425"/>
                  </a:lnTo>
                  <a:lnTo>
                    <a:pt x="1866" y="434"/>
                  </a:lnTo>
                  <a:lnTo>
                    <a:pt x="1866" y="443"/>
                  </a:lnTo>
                  <a:lnTo>
                    <a:pt x="1867" y="452"/>
                  </a:lnTo>
                  <a:lnTo>
                    <a:pt x="1869" y="463"/>
                  </a:lnTo>
                  <a:lnTo>
                    <a:pt x="1870" y="472"/>
                  </a:lnTo>
                  <a:lnTo>
                    <a:pt x="1872" y="481"/>
                  </a:lnTo>
                  <a:lnTo>
                    <a:pt x="1872" y="491"/>
                  </a:lnTo>
                  <a:lnTo>
                    <a:pt x="1873" y="500"/>
                  </a:lnTo>
                  <a:lnTo>
                    <a:pt x="1873" y="509"/>
                  </a:lnTo>
                  <a:lnTo>
                    <a:pt x="1879" y="518"/>
                  </a:lnTo>
                  <a:lnTo>
                    <a:pt x="1887" y="526"/>
                  </a:lnTo>
                  <a:lnTo>
                    <a:pt x="1895" y="533"/>
                  </a:lnTo>
                  <a:lnTo>
                    <a:pt x="1904" y="540"/>
                  </a:lnTo>
                  <a:lnTo>
                    <a:pt x="1911" y="548"/>
                  </a:lnTo>
                  <a:lnTo>
                    <a:pt x="1919" y="555"/>
                  </a:lnTo>
                  <a:lnTo>
                    <a:pt x="1928" y="562"/>
                  </a:lnTo>
                  <a:lnTo>
                    <a:pt x="1940" y="564"/>
                  </a:lnTo>
                  <a:lnTo>
                    <a:pt x="1953" y="563"/>
                  </a:lnTo>
                  <a:lnTo>
                    <a:pt x="1943" y="568"/>
                  </a:lnTo>
                  <a:lnTo>
                    <a:pt x="1937" y="574"/>
                  </a:lnTo>
                  <a:lnTo>
                    <a:pt x="1943" y="583"/>
                  </a:lnTo>
                  <a:lnTo>
                    <a:pt x="1943" y="591"/>
                  </a:lnTo>
                  <a:lnTo>
                    <a:pt x="1942" y="600"/>
                  </a:lnTo>
                  <a:lnTo>
                    <a:pt x="1937" y="609"/>
                  </a:lnTo>
                  <a:lnTo>
                    <a:pt x="1930" y="615"/>
                  </a:lnTo>
                  <a:lnTo>
                    <a:pt x="1926" y="624"/>
                  </a:lnTo>
                  <a:lnTo>
                    <a:pt x="1925" y="633"/>
                  </a:lnTo>
                  <a:lnTo>
                    <a:pt x="1919" y="641"/>
                  </a:lnTo>
                  <a:lnTo>
                    <a:pt x="1919" y="650"/>
                  </a:lnTo>
                  <a:lnTo>
                    <a:pt x="1919" y="659"/>
                  </a:lnTo>
                  <a:lnTo>
                    <a:pt x="1919" y="674"/>
                  </a:lnTo>
                  <a:lnTo>
                    <a:pt x="1923" y="683"/>
                  </a:lnTo>
                  <a:lnTo>
                    <a:pt x="1921" y="691"/>
                  </a:lnTo>
                  <a:lnTo>
                    <a:pt x="1909" y="695"/>
                  </a:lnTo>
                  <a:lnTo>
                    <a:pt x="1916" y="704"/>
                  </a:lnTo>
                  <a:lnTo>
                    <a:pt x="1925" y="707"/>
                  </a:lnTo>
                  <a:lnTo>
                    <a:pt x="1928" y="716"/>
                  </a:lnTo>
                  <a:lnTo>
                    <a:pt x="1932" y="725"/>
                  </a:lnTo>
                  <a:lnTo>
                    <a:pt x="1929" y="732"/>
                  </a:lnTo>
                  <a:lnTo>
                    <a:pt x="1926" y="739"/>
                  </a:lnTo>
                  <a:lnTo>
                    <a:pt x="1914" y="740"/>
                  </a:lnTo>
                  <a:lnTo>
                    <a:pt x="1887" y="742"/>
                  </a:lnTo>
                  <a:lnTo>
                    <a:pt x="1886" y="750"/>
                  </a:lnTo>
                  <a:lnTo>
                    <a:pt x="1886" y="759"/>
                  </a:lnTo>
                  <a:lnTo>
                    <a:pt x="1884" y="768"/>
                  </a:lnTo>
                  <a:lnTo>
                    <a:pt x="1884" y="777"/>
                  </a:lnTo>
                  <a:lnTo>
                    <a:pt x="1886" y="787"/>
                  </a:lnTo>
                  <a:lnTo>
                    <a:pt x="1886" y="796"/>
                  </a:lnTo>
                  <a:lnTo>
                    <a:pt x="1886" y="806"/>
                  </a:lnTo>
                  <a:lnTo>
                    <a:pt x="1887" y="816"/>
                  </a:lnTo>
                  <a:lnTo>
                    <a:pt x="1887" y="825"/>
                  </a:lnTo>
                  <a:lnTo>
                    <a:pt x="1886" y="833"/>
                  </a:lnTo>
                  <a:lnTo>
                    <a:pt x="1872" y="831"/>
                  </a:lnTo>
                  <a:lnTo>
                    <a:pt x="1859" y="833"/>
                  </a:lnTo>
                  <a:lnTo>
                    <a:pt x="1855" y="838"/>
                  </a:lnTo>
                  <a:lnTo>
                    <a:pt x="1842" y="843"/>
                  </a:lnTo>
                  <a:lnTo>
                    <a:pt x="1835" y="851"/>
                  </a:lnTo>
                  <a:lnTo>
                    <a:pt x="1828" y="854"/>
                  </a:lnTo>
                  <a:lnTo>
                    <a:pt x="1820" y="863"/>
                  </a:lnTo>
                  <a:lnTo>
                    <a:pt x="1819" y="872"/>
                  </a:lnTo>
                  <a:lnTo>
                    <a:pt x="1827" y="878"/>
                  </a:lnTo>
                  <a:lnTo>
                    <a:pt x="1838" y="885"/>
                  </a:lnTo>
                  <a:lnTo>
                    <a:pt x="1847" y="892"/>
                  </a:lnTo>
                  <a:lnTo>
                    <a:pt x="1855" y="893"/>
                  </a:lnTo>
                  <a:lnTo>
                    <a:pt x="1863" y="895"/>
                  </a:lnTo>
                  <a:lnTo>
                    <a:pt x="1873" y="902"/>
                  </a:lnTo>
                  <a:lnTo>
                    <a:pt x="1881" y="910"/>
                  </a:lnTo>
                  <a:lnTo>
                    <a:pt x="1874" y="918"/>
                  </a:lnTo>
                  <a:lnTo>
                    <a:pt x="1872" y="925"/>
                  </a:lnTo>
                  <a:lnTo>
                    <a:pt x="1865" y="930"/>
                  </a:lnTo>
                  <a:lnTo>
                    <a:pt x="1876" y="935"/>
                  </a:lnTo>
                  <a:lnTo>
                    <a:pt x="1887" y="940"/>
                  </a:lnTo>
                  <a:lnTo>
                    <a:pt x="1894" y="935"/>
                  </a:lnTo>
                  <a:lnTo>
                    <a:pt x="1900" y="928"/>
                  </a:lnTo>
                  <a:lnTo>
                    <a:pt x="1909" y="931"/>
                  </a:lnTo>
                  <a:lnTo>
                    <a:pt x="1922" y="936"/>
                  </a:lnTo>
                  <a:lnTo>
                    <a:pt x="1935" y="941"/>
                  </a:lnTo>
                  <a:lnTo>
                    <a:pt x="1946" y="945"/>
                  </a:lnTo>
                  <a:lnTo>
                    <a:pt x="1958" y="950"/>
                  </a:lnTo>
                  <a:lnTo>
                    <a:pt x="1971" y="953"/>
                  </a:lnTo>
                  <a:lnTo>
                    <a:pt x="1975" y="946"/>
                  </a:lnTo>
                  <a:lnTo>
                    <a:pt x="1986" y="945"/>
                  </a:lnTo>
                  <a:lnTo>
                    <a:pt x="2000" y="947"/>
                  </a:lnTo>
                  <a:lnTo>
                    <a:pt x="2014" y="948"/>
                  </a:lnTo>
                  <a:lnTo>
                    <a:pt x="2030" y="950"/>
                  </a:lnTo>
                  <a:lnTo>
                    <a:pt x="2044" y="952"/>
                  </a:lnTo>
                  <a:lnTo>
                    <a:pt x="2058" y="954"/>
                  </a:lnTo>
                  <a:lnTo>
                    <a:pt x="2070" y="954"/>
                  </a:lnTo>
                  <a:lnTo>
                    <a:pt x="2081" y="953"/>
                  </a:lnTo>
                  <a:lnTo>
                    <a:pt x="2091" y="951"/>
                  </a:lnTo>
                  <a:lnTo>
                    <a:pt x="2098" y="945"/>
                  </a:lnTo>
                  <a:lnTo>
                    <a:pt x="2101" y="937"/>
                  </a:lnTo>
                  <a:lnTo>
                    <a:pt x="2102" y="926"/>
                  </a:lnTo>
                  <a:lnTo>
                    <a:pt x="2102" y="914"/>
                  </a:lnTo>
                  <a:lnTo>
                    <a:pt x="2102" y="903"/>
                  </a:lnTo>
                  <a:lnTo>
                    <a:pt x="2105" y="893"/>
                  </a:lnTo>
                  <a:lnTo>
                    <a:pt x="2112" y="886"/>
                  </a:lnTo>
                  <a:lnTo>
                    <a:pt x="2121" y="882"/>
                  </a:lnTo>
                  <a:lnTo>
                    <a:pt x="2133" y="880"/>
                  </a:lnTo>
                  <a:lnTo>
                    <a:pt x="2146" y="879"/>
                  </a:lnTo>
                  <a:lnTo>
                    <a:pt x="2161" y="879"/>
                  </a:lnTo>
                  <a:lnTo>
                    <a:pt x="2175" y="879"/>
                  </a:lnTo>
                  <a:lnTo>
                    <a:pt x="2189" y="880"/>
                  </a:lnTo>
                  <a:lnTo>
                    <a:pt x="2203" y="880"/>
                  </a:lnTo>
                  <a:lnTo>
                    <a:pt x="2207" y="888"/>
                  </a:lnTo>
                  <a:lnTo>
                    <a:pt x="2210" y="897"/>
                  </a:lnTo>
                  <a:lnTo>
                    <a:pt x="2216" y="906"/>
                  </a:lnTo>
                  <a:lnTo>
                    <a:pt x="2223" y="913"/>
                  </a:lnTo>
                  <a:lnTo>
                    <a:pt x="2230" y="922"/>
                  </a:lnTo>
                  <a:lnTo>
                    <a:pt x="2234" y="931"/>
                  </a:lnTo>
                  <a:lnTo>
                    <a:pt x="2239" y="940"/>
                  </a:lnTo>
                  <a:lnTo>
                    <a:pt x="2245" y="948"/>
                  </a:lnTo>
                  <a:lnTo>
                    <a:pt x="2252" y="957"/>
                  </a:lnTo>
                  <a:lnTo>
                    <a:pt x="2255" y="965"/>
                  </a:lnTo>
                  <a:lnTo>
                    <a:pt x="2255" y="974"/>
                  </a:lnTo>
                  <a:lnTo>
                    <a:pt x="2253" y="984"/>
                  </a:lnTo>
                  <a:lnTo>
                    <a:pt x="2252" y="993"/>
                  </a:lnTo>
                  <a:lnTo>
                    <a:pt x="2249" y="1002"/>
                  </a:lnTo>
                  <a:lnTo>
                    <a:pt x="2248" y="1011"/>
                  </a:lnTo>
                  <a:lnTo>
                    <a:pt x="2245" y="1021"/>
                  </a:lnTo>
                  <a:lnTo>
                    <a:pt x="2242" y="1030"/>
                  </a:lnTo>
                  <a:lnTo>
                    <a:pt x="2239" y="1039"/>
                  </a:lnTo>
                  <a:lnTo>
                    <a:pt x="2237" y="1048"/>
                  </a:lnTo>
                  <a:lnTo>
                    <a:pt x="2234" y="1058"/>
                  </a:lnTo>
                  <a:lnTo>
                    <a:pt x="2232" y="1067"/>
                  </a:lnTo>
                  <a:lnTo>
                    <a:pt x="2231" y="1076"/>
                  </a:lnTo>
                  <a:lnTo>
                    <a:pt x="2237" y="1083"/>
                  </a:lnTo>
                  <a:lnTo>
                    <a:pt x="2248" y="1089"/>
                  </a:lnTo>
                  <a:lnTo>
                    <a:pt x="2258" y="1095"/>
                  </a:lnTo>
                  <a:lnTo>
                    <a:pt x="2269" y="1099"/>
                  </a:lnTo>
                  <a:lnTo>
                    <a:pt x="2284" y="1105"/>
                  </a:lnTo>
                  <a:lnTo>
                    <a:pt x="2280" y="1107"/>
                  </a:lnTo>
                  <a:lnTo>
                    <a:pt x="2270" y="1113"/>
                  </a:lnTo>
                  <a:lnTo>
                    <a:pt x="2260" y="1121"/>
                  </a:lnTo>
                  <a:lnTo>
                    <a:pt x="2252" y="1128"/>
                  </a:lnTo>
                  <a:lnTo>
                    <a:pt x="2244" y="1136"/>
                  </a:lnTo>
                  <a:lnTo>
                    <a:pt x="2237" y="1145"/>
                  </a:lnTo>
                  <a:lnTo>
                    <a:pt x="2234" y="1153"/>
                  </a:lnTo>
                  <a:lnTo>
                    <a:pt x="2232" y="1162"/>
                  </a:lnTo>
                  <a:lnTo>
                    <a:pt x="2232" y="1171"/>
                  </a:lnTo>
                  <a:lnTo>
                    <a:pt x="2235" y="1181"/>
                  </a:lnTo>
                  <a:lnTo>
                    <a:pt x="2239" y="1191"/>
                  </a:lnTo>
                  <a:lnTo>
                    <a:pt x="2244" y="1202"/>
                  </a:lnTo>
                  <a:lnTo>
                    <a:pt x="2249" y="1212"/>
                  </a:lnTo>
                  <a:lnTo>
                    <a:pt x="2253" y="1222"/>
                  </a:lnTo>
                  <a:lnTo>
                    <a:pt x="2258" y="1231"/>
                  </a:lnTo>
                  <a:lnTo>
                    <a:pt x="2260" y="1239"/>
                  </a:lnTo>
                  <a:lnTo>
                    <a:pt x="2262" y="1247"/>
                  </a:lnTo>
                  <a:lnTo>
                    <a:pt x="2259" y="1253"/>
                  </a:lnTo>
                  <a:lnTo>
                    <a:pt x="2252" y="1256"/>
                  </a:lnTo>
                  <a:lnTo>
                    <a:pt x="2239" y="1255"/>
                  </a:lnTo>
                  <a:lnTo>
                    <a:pt x="2223" y="1252"/>
                  </a:lnTo>
                  <a:lnTo>
                    <a:pt x="2207" y="1249"/>
                  </a:lnTo>
                  <a:lnTo>
                    <a:pt x="2193" y="1248"/>
                  </a:lnTo>
                  <a:lnTo>
                    <a:pt x="2195" y="1255"/>
                  </a:lnTo>
                  <a:lnTo>
                    <a:pt x="2192" y="1264"/>
                  </a:lnTo>
                  <a:lnTo>
                    <a:pt x="2192" y="1271"/>
                  </a:lnTo>
                  <a:lnTo>
                    <a:pt x="2204" y="1275"/>
                  </a:lnTo>
                  <a:lnTo>
                    <a:pt x="2202" y="1282"/>
                  </a:lnTo>
                  <a:lnTo>
                    <a:pt x="2190" y="1287"/>
                  </a:lnTo>
                  <a:lnTo>
                    <a:pt x="2182" y="1292"/>
                  </a:lnTo>
                  <a:lnTo>
                    <a:pt x="2179" y="1301"/>
                  </a:lnTo>
                  <a:lnTo>
                    <a:pt x="2178" y="1311"/>
                  </a:lnTo>
                  <a:lnTo>
                    <a:pt x="2175" y="1320"/>
                  </a:lnTo>
                  <a:lnTo>
                    <a:pt x="2172" y="1329"/>
                  </a:lnTo>
                  <a:lnTo>
                    <a:pt x="2165" y="1336"/>
                  </a:lnTo>
                  <a:lnTo>
                    <a:pt x="2155" y="1342"/>
                  </a:lnTo>
                  <a:lnTo>
                    <a:pt x="2144" y="1346"/>
                  </a:lnTo>
                  <a:lnTo>
                    <a:pt x="2132" y="1348"/>
                  </a:lnTo>
                  <a:lnTo>
                    <a:pt x="2126" y="1356"/>
                  </a:lnTo>
                  <a:lnTo>
                    <a:pt x="2125" y="1365"/>
                  </a:lnTo>
                  <a:lnTo>
                    <a:pt x="2119" y="1373"/>
                  </a:lnTo>
                  <a:lnTo>
                    <a:pt x="2108" y="1379"/>
                  </a:lnTo>
                  <a:lnTo>
                    <a:pt x="2095" y="1377"/>
                  </a:lnTo>
                  <a:lnTo>
                    <a:pt x="2084" y="1371"/>
                  </a:lnTo>
                  <a:lnTo>
                    <a:pt x="2074" y="1366"/>
                  </a:lnTo>
                  <a:lnTo>
                    <a:pt x="2060" y="1367"/>
                  </a:lnTo>
                  <a:lnTo>
                    <a:pt x="2049" y="1371"/>
                  </a:lnTo>
                  <a:lnTo>
                    <a:pt x="2041" y="1379"/>
                  </a:lnTo>
                  <a:lnTo>
                    <a:pt x="2038" y="1388"/>
                  </a:lnTo>
                  <a:lnTo>
                    <a:pt x="2038" y="1397"/>
                  </a:lnTo>
                  <a:lnTo>
                    <a:pt x="2034" y="1406"/>
                  </a:lnTo>
                  <a:lnTo>
                    <a:pt x="2027" y="1413"/>
                  </a:lnTo>
                  <a:lnTo>
                    <a:pt x="2016" y="1418"/>
                  </a:lnTo>
                  <a:lnTo>
                    <a:pt x="2003" y="1416"/>
                  </a:lnTo>
                  <a:lnTo>
                    <a:pt x="1989" y="1403"/>
                  </a:lnTo>
                  <a:lnTo>
                    <a:pt x="1981" y="1396"/>
                  </a:lnTo>
                  <a:lnTo>
                    <a:pt x="1970" y="1391"/>
                  </a:lnTo>
                  <a:lnTo>
                    <a:pt x="1963" y="1383"/>
                  </a:lnTo>
                  <a:lnTo>
                    <a:pt x="1953" y="1378"/>
                  </a:lnTo>
                  <a:lnTo>
                    <a:pt x="1940" y="1373"/>
                  </a:lnTo>
                  <a:lnTo>
                    <a:pt x="1928" y="1370"/>
                  </a:lnTo>
                  <a:lnTo>
                    <a:pt x="1918" y="1364"/>
                  </a:lnTo>
                  <a:lnTo>
                    <a:pt x="1908" y="1359"/>
                  </a:lnTo>
                  <a:lnTo>
                    <a:pt x="1898" y="1353"/>
                  </a:lnTo>
                  <a:lnTo>
                    <a:pt x="1887" y="1348"/>
                  </a:lnTo>
                  <a:lnTo>
                    <a:pt x="1877" y="1342"/>
                  </a:lnTo>
                  <a:lnTo>
                    <a:pt x="1867" y="1336"/>
                  </a:lnTo>
                  <a:lnTo>
                    <a:pt x="1858" y="1330"/>
                  </a:lnTo>
                  <a:lnTo>
                    <a:pt x="1847" y="1325"/>
                  </a:lnTo>
                  <a:lnTo>
                    <a:pt x="1837" y="1319"/>
                  </a:lnTo>
                  <a:lnTo>
                    <a:pt x="1827" y="1313"/>
                  </a:lnTo>
                  <a:lnTo>
                    <a:pt x="1814" y="1310"/>
                  </a:lnTo>
                  <a:lnTo>
                    <a:pt x="1800" y="1309"/>
                  </a:lnTo>
                  <a:lnTo>
                    <a:pt x="1788" y="1308"/>
                  </a:lnTo>
                  <a:lnTo>
                    <a:pt x="1775" y="1305"/>
                  </a:lnTo>
                  <a:lnTo>
                    <a:pt x="1764" y="1300"/>
                  </a:lnTo>
                  <a:lnTo>
                    <a:pt x="1753" y="1295"/>
                  </a:lnTo>
                  <a:lnTo>
                    <a:pt x="1742" y="1291"/>
                  </a:lnTo>
                  <a:lnTo>
                    <a:pt x="1733" y="1294"/>
                  </a:lnTo>
                  <a:lnTo>
                    <a:pt x="1728" y="1299"/>
                  </a:lnTo>
                  <a:lnTo>
                    <a:pt x="1728" y="1305"/>
                  </a:lnTo>
                  <a:lnTo>
                    <a:pt x="1721" y="1311"/>
                  </a:lnTo>
                  <a:lnTo>
                    <a:pt x="1726" y="1318"/>
                  </a:lnTo>
                  <a:lnTo>
                    <a:pt x="1724" y="1326"/>
                  </a:lnTo>
                  <a:lnTo>
                    <a:pt x="1724" y="1334"/>
                  </a:lnTo>
                  <a:lnTo>
                    <a:pt x="1715" y="1341"/>
                  </a:lnTo>
                  <a:lnTo>
                    <a:pt x="1705" y="1348"/>
                  </a:lnTo>
                  <a:lnTo>
                    <a:pt x="1697" y="1355"/>
                  </a:lnTo>
                  <a:lnTo>
                    <a:pt x="1689" y="1362"/>
                  </a:lnTo>
                  <a:lnTo>
                    <a:pt x="1682" y="1370"/>
                  </a:lnTo>
                  <a:lnTo>
                    <a:pt x="1673" y="1378"/>
                  </a:lnTo>
                  <a:lnTo>
                    <a:pt x="1663" y="1385"/>
                  </a:lnTo>
                  <a:lnTo>
                    <a:pt x="1654" y="1390"/>
                  </a:lnTo>
                  <a:lnTo>
                    <a:pt x="1641" y="1392"/>
                  </a:lnTo>
                  <a:lnTo>
                    <a:pt x="1627" y="1392"/>
                  </a:lnTo>
                  <a:lnTo>
                    <a:pt x="1614" y="1391"/>
                  </a:lnTo>
                  <a:lnTo>
                    <a:pt x="1602" y="1388"/>
                  </a:lnTo>
                  <a:lnTo>
                    <a:pt x="1589" y="1386"/>
                  </a:lnTo>
                  <a:lnTo>
                    <a:pt x="1571" y="1380"/>
                  </a:lnTo>
                  <a:lnTo>
                    <a:pt x="1559" y="1376"/>
                  </a:lnTo>
                  <a:lnTo>
                    <a:pt x="1547" y="1371"/>
                  </a:lnTo>
                  <a:lnTo>
                    <a:pt x="1539" y="1364"/>
                  </a:lnTo>
                  <a:lnTo>
                    <a:pt x="1529" y="1363"/>
                  </a:lnTo>
                  <a:lnTo>
                    <a:pt x="1524" y="1371"/>
                  </a:lnTo>
                  <a:lnTo>
                    <a:pt x="1514" y="1368"/>
                  </a:lnTo>
                  <a:lnTo>
                    <a:pt x="1501" y="1362"/>
                  </a:lnTo>
                  <a:lnTo>
                    <a:pt x="1489" y="1361"/>
                  </a:lnTo>
                  <a:lnTo>
                    <a:pt x="1479" y="1369"/>
                  </a:lnTo>
                  <a:lnTo>
                    <a:pt x="1470" y="1370"/>
                  </a:lnTo>
                  <a:lnTo>
                    <a:pt x="1465" y="1361"/>
                  </a:lnTo>
                  <a:lnTo>
                    <a:pt x="1459" y="1350"/>
                  </a:lnTo>
                  <a:lnTo>
                    <a:pt x="1454" y="1340"/>
                  </a:lnTo>
                  <a:lnTo>
                    <a:pt x="1445" y="1336"/>
                  </a:lnTo>
                  <a:lnTo>
                    <a:pt x="1436" y="1338"/>
                  </a:lnTo>
                  <a:lnTo>
                    <a:pt x="1426" y="1342"/>
                  </a:lnTo>
                  <a:lnTo>
                    <a:pt x="1415" y="1348"/>
                  </a:lnTo>
                  <a:lnTo>
                    <a:pt x="1403" y="1354"/>
                  </a:lnTo>
                  <a:lnTo>
                    <a:pt x="1392" y="1362"/>
                  </a:lnTo>
                  <a:lnTo>
                    <a:pt x="1381" y="1368"/>
                  </a:lnTo>
                  <a:lnTo>
                    <a:pt x="1370" y="1374"/>
                  </a:lnTo>
                  <a:lnTo>
                    <a:pt x="1360" y="1379"/>
                  </a:lnTo>
                  <a:lnTo>
                    <a:pt x="1354" y="1369"/>
                  </a:lnTo>
                  <a:lnTo>
                    <a:pt x="1347" y="1366"/>
                  </a:lnTo>
                  <a:lnTo>
                    <a:pt x="1336" y="1373"/>
                  </a:lnTo>
                  <a:lnTo>
                    <a:pt x="1325" y="1376"/>
                  </a:lnTo>
                  <a:lnTo>
                    <a:pt x="1315" y="1383"/>
                  </a:lnTo>
                  <a:lnTo>
                    <a:pt x="1307" y="1390"/>
                  </a:lnTo>
                  <a:lnTo>
                    <a:pt x="1300" y="1398"/>
                  </a:lnTo>
                  <a:lnTo>
                    <a:pt x="1293" y="1406"/>
                  </a:lnTo>
                  <a:lnTo>
                    <a:pt x="1286" y="1414"/>
                  </a:lnTo>
                  <a:lnTo>
                    <a:pt x="1278" y="1416"/>
                  </a:lnTo>
                  <a:lnTo>
                    <a:pt x="1276" y="1425"/>
                  </a:lnTo>
                  <a:lnTo>
                    <a:pt x="1266" y="1428"/>
                  </a:lnTo>
                  <a:lnTo>
                    <a:pt x="1257" y="1434"/>
                  </a:lnTo>
                  <a:lnTo>
                    <a:pt x="1251" y="1444"/>
                  </a:lnTo>
                  <a:lnTo>
                    <a:pt x="1245" y="1451"/>
                  </a:lnTo>
                  <a:lnTo>
                    <a:pt x="1237" y="1446"/>
                  </a:lnTo>
                  <a:lnTo>
                    <a:pt x="1234" y="1437"/>
                  </a:lnTo>
                  <a:lnTo>
                    <a:pt x="1237" y="1428"/>
                  </a:lnTo>
                  <a:lnTo>
                    <a:pt x="1229" y="1423"/>
                  </a:lnTo>
                  <a:lnTo>
                    <a:pt x="1217" y="1428"/>
                  </a:lnTo>
                  <a:lnTo>
                    <a:pt x="1206" y="1434"/>
                  </a:lnTo>
                  <a:lnTo>
                    <a:pt x="1198" y="1432"/>
                  </a:lnTo>
                  <a:lnTo>
                    <a:pt x="1191" y="1424"/>
                  </a:lnTo>
                  <a:lnTo>
                    <a:pt x="1178" y="1420"/>
                  </a:lnTo>
                  <a:lnTo>
                    <a:pt x="1166" y="1417"/>
                  </a:lnTo>
                  <a:lnTo>
                    <a:pt x="1155" y="1413"/>
                  </a:lnTo>
                  <a:lnTo>
                    <a:pt x="1150" y="1404"/>
                  </a:lnTo>
                  <a:lnTo>
                    <a:pt x="1149" y="1394"/>
                  </a:lnTo>
                  <a:lnTo>
                    <a:pt x="1141" y="1388"/>
                  </a:lnTo>
                  <a:lnTo>
                    <a:pt x="1131" y="1381"/>
                  </a:lnTo>
                  <a:lnTo>
                    <a:pt x="1120" y="1374"/>
                  </a:lnTo>
                  <a:lnTo>
                    <a:pt x="1110" y="1368"/>
                  </a:lnTo>
                  <a:lnTo>
                    <a:pt x="1100" y="1362"/>
                  </a:lnTo>
                  <a:lnTo>
                    <a:pt x="1090" y="1365"/>
                  </a:lnTo>
                  <a:lnTo>
                    <a:pt x="1080" y="1371"/>
                  </a:lnTo>
                  <a:lnTo>
                    <a:pt x="1069" y="1377"/>
                  </a:lnTo>
                  <a:lnTo>
                    <a:pt x="1058" y="1382"/>
                  </a:lnTo>
                  <a:lnTo>
                    <a:pt x="1047" y="1386"/>
                  </a:lnTo>
                  <a:lnTo>
                    <a:pt x="1036" y="1391"/>
                  </a:lnTo>
                  <a:lnTo>
                    <a:pt x="1023" y="1394"/>
                  </a:lnTo>
                  <a:lnTo>
                    <a:pt x="1011" y="1396"/>
                  </a:lnTo>
                  <a:lnTo>
                    <a:pt x="1005" y="1389"/>
                  </a:lnTo>
                  <a:lnTo>
                    <a:pt x="997" y="1385"/>
                  </a:lnTo>
                  <a:lnTo>
                    <a:pt x="985" y="1379"/>
                  </a:lnTo>
                  <a:lnTo>
                    <a:pt x="976" y="1376"/>
                  </a:lnTo>
                  <a:lnTo>
                    <a:pt x="966" y="1370"/>
                  </a:lnTo>
                  <a:lnTo>
                    <a:pt x="955" y="1364"/>
                  </a:lnTo>
                  <a:lnTo>
                    <a:pt x="945" y="1358"/>
                  </a:lnTo>
                  <a:lnTo>
                    <a:pt x="938" y="1350"/>
                  </a:lnTo>
                  <a:lnTo>
                    <a:pt x="936" y="1341"/>
                  </a:lnTo>
                  <a:lnTo>
                    <a:pt x="942" y="1333"/>
                  </a:lnTo>
                  <a:lnTo>
                    <a:pt x="932" y="1327"/>
                  </a:lnTo>
                  <a:lnTo>
                    <a:pt x="920" y="1329"/>
                  </a:lnTo>
                  <a:lnTo>
                    <a:pt x="911" y="1336"/>
                  </a:lnTo>
                  <a:lnTo>
                    <a:pt x="903" y="1343"/>
                  </a:lnTo>
                  <a:lnTo>
                    <a:pt x="896" y="1351"/>
                  </a:lnTo>
                  <a:lnTo>
                    <a:pt x="889" y="1359"/>
                  </a:lnTo>
                  <a:lnTo>
                    <a:pt x="882" y="1367"/>
                  </a:lnTo>
                  <a:lnTo>
                    <a:pt x="875" y="1376"/>
                  </a:lnTo>
                  <a:lnTo>
                    <a:pt x="868" y="1385"/>
                  </a:lnTo>
                  <a:lnTo>
                    <a:pt x="862" y="1393"/>
                  </a:lnTo>
                  <a:lnTo>
                    <a:pt x="855" y="1395"/>
                  </a:lnTo>
                  <a:lnTo>
                    <a:pt x="846" y="1389"/>
                  </a:lnTo>
                  <a:lnTo>
                    <a:pt x="834" y="1391"/>
                  </a:lnTo>
                  <a:lnTo>
                    <a:pt x="822" y="1395"/>
                  </a:lnTo>
                  <a:lnTo>
                    <a:pt x="809" y="1397"/>
                  </a:lnTo>
                  <a:lnTo>
                    <a:pt x="798" y="1393"/>
                  </a:lnTo>
                  <a:lnTo>
                    <a:pt x="791" y="1385"/>
                  </a:lnTo>
                  <a:lnTo>
                    <a:pt x="787" y="1376"/>
                  </a:lnTo>
                  <a:lnTo>
                    <a:pt x="784" y="1366"/>
                  </a:lnTo>
                  <a:lnTo>
                    <a:pt x="783" y="1357"/>
                  </a:lnTo>
                  <a:lnTo>
                    <a:pt x="779" y="1347"/>
                  </a:lnTo>
                  <a:lnTo>
                    <a:pt x="776" y="1339"/>
                  </a:lnTo>
                  <a:lnTo>
                    <a:pt x="767" y="1332"/>
                  </a:lnTo>
                  <a:lnTo>
                    <a:pt x="753" y="1331"/>
                  </a:lnTo>
                  <a:lnTo>
                    <a:pt x="741" y="1330"/>
                  </a:lnTo>
                  <a:lnTo>
                    <a:pt x="727" y="1330"/>
                  </a:lnTo>
                  <a:lnTo>
                    <a:pt x="714" y="1329"/>
                  </a:lnTo>
                  <a:lnTo>
                    <a:pt x="702" y="1329"/>
                  </a:lnTo>
                  <a:lnTo>
                    <a:pt x="688" y="1329"/>
                  </a:lnTo>
                  <a:lnTo>
                    <a:pt x="675" y="1328"/>
                  </a:lnTo>
                  <a:lnTo>
                    <a:pt x="661" y="1328"/>
                  </a:lnTo>
                  <a:lnTo>
                    <a:pt x="649" y="1328"/>
                  </a:lnTo>
                  <a:lnTo>
                    <a:pt x="635" y="1329"/>
                  </a:lnTo>
                  <a:lnTo>
                    <a:pt x="622" y="1329"/>
                  </a:lnTo>
                  <a:lnTo>
                    <a:pt x="609" y="1330"/>
                  </a:lnTo>
                  <a:lnTo>
                    <a:pt x="597" y="1331"/>
                  </a:lnTo>
                  <a:lnTo>
                    <a:pt x="587" y="1336"/>
                  </a:lnTo>
                  <a:lnTo>
                    <a:pt x="579" y="1344"/>
                  </a:lnTo>
                  <a:lnTo>
                    <a:pt x="570" y="1352"/>
                  </a:lnTo>
                  <a:lnTo>
                    <a:pt x="559" y="1357"/>
                  </a:lnTo>
                  <a:lnTo>
                    <a:pt x="546" y="1359"/>
                  </a:lnTo>
                  <a:lnTo>
                    <a:pt x="534" y="1363"/>
                  </a:lnTo>
                  <a:lnTo>
                    <a:pt x="523" y="1366"/>
                  </a:lnTo>
                  <a:lnTo>
                    <a:pt x="510" y="1370"/>
                  </a:lnTo>
                  <a:lnTo>
                    <a:pt x="499" y="1376"/>
                  </a:lnTo>
                  <a:lnTo>
                    <a:pt x="488" y="1381"/>
                  </a:lnTo>
                  <a:lnTo>
                    <a:pt x="475" y="1384"/>
                  </a:lnTo>
                  <a:lnTo>
                    <a:pt x="463" y="1386"/>
                  </a:lnTo>
                  <a:lnTo>
                    <a:pt x="450" y="1387"/>
                  </a:lnTo>
                  <a:lnTo>
                    <a:pt x="437" y="1388"/>
                  </a:lnTo>
                  <a:lnTo>
                    <a:pt x="429" y="1394"/>
                  </a:lnTo>
                  <a:lnTo>
                    <a:pt x="422" y="1403"/>
                  </a:lnTo>
                  <a:lnTo>
                    <a:pt x="412" y="1409"/>
                  </a:lnTo>
                  <a:lnTo>
                    <a:pt x="402" y="1415"/>
                  </a:lnTo>
                  <a:lnTo>
                    <a:pt x="391" y="1422"/>
                  </a:lnTo>
                  <a:lnTo>
                    <a:pt x="382" y="1428"/>
                  </a:lnTo>
                  <a:lnTo>
                    <a:pt x="372" y="1433"/>
                  </a:lnTo>
                  <a:lnTo>
                    <a:pt x="361" y="1435"/>
                  </a:lnTo>
                  <a:lnTo>
                    <a:pt x="351" y="1428"/>
                  </a:lnTo>
                  <a:lnTo>
                    <a:pt x="338" y="1425"/>
                  </a:lnTo>
                  <a:lnTo>
                    <a:pt x="327" y="1420"/>
                  </a:lnTo>
                  <a:lnTo>
                    <a:pt x="320" y="1412"/>
                  </a:lnTo>
                  <a:lnTo>
                    <a:pt x="307" y="1411"/>
                  </a:lnTo>
                  <a:lnTo>
                    <a:pt x="296" y="1406"/>
                  </a:lnTo>
                  <a:lnTo>
                    <a:pt x="286" y="1400"/>
                  </a:lnTo>
                  <a:lnTo>
                    <a:pt x="274" y="1402"/>
                  </a:lnTo>
                  <a:lnTo>
                    <a:pt x="261" y="1400"/>
                  </a:lnTo>
                  <a:lnTo>
                    <a:pt x="249" y="1396"/>
                  </a:lnTo>
                  <a:lnTo>
                    <a:pt x="239" y="1391"/>
                  </a:lnTo>
                  <a:lnTo>
                    <a:pt x="231" y="1384"/>
                  </a:lnTo>
                  <a:lnTo>
                    <a:pt x="222" y="1376"/>
                  </a:lnTo>
                  <a:lnTo>
                    <a:pt x="215" y="1368"/>
                  </a:lnTo>
                  <a:lnTo>
                    <a:pt x="210" y="1359"/>
                  </a:lnTo>
                  <a:lnTo>
                    <a:pt x="201" y="1353"/>
                  </a:lnTo>
                  <a:lnTo>
                    <a:pt x="189" y="1349"/>
                  </a:lnTo>
                  <a:lnTo>
                    <a:pt x="177" y="1351"/>
                  </a:lnTo>
                  <a:lnTo>
                    <a:pt x="165" y="1348"/>
                  </a:lnTo>
                  <a:lnTo>
                    <a:pt x="159" y="1340"/>
                  </a:lnTo>
                  <a:lnTo>
                    <a:pt x="154" y="1332"/>
                  </a:lnTo>
                  <a:lnTo>
                    <a:pt x="142" y="1326"/>
                  </a:lnTo>
                  <a:lnTo>
                    <a:pt x="133" y="1320"/>
                  </a:lnTo>
                  <a:lnTo>
                    <a:pt x="124" y="1313"/>
                  </a:lnTo>
                  <a:lnTo>
                    <a:pt x="110" y="1298"/>
                  </a:lnTo>
                  <a:lnTo>
                    <a:pt x="110" y="1289"/>
                  </a:lnTo>
                  <a:lnTo>
                    <a:pt x="106" y="1280"/>
                  </a:lnTo>
                  <a:lnTo>
                    <a:pt x="102" y="1271"/>
                  </a:lnTo>
                  <a:lnTo>
                    <a:pt x="102" y="1262"/>
                  </a:lnTo>
                  <a:lnTo>
                    <a:pt x="95" y="1254"/>
                  </a:lnTo>
                  <a:lnTo>
                    <a:pt x="88" y="1246"/>
                  </a:lnTo>
                  <a:lnTo>
                    <a:pt x="81" y="1238"/>
                  </a:lnTo>
                  <a:lnTo>
                    <a:pt x="74" y="1231"/>
                  </a:lnTo>
                  <a:lnTo>
                    <a:pt x="67" y="1223"/>
                  </a:lnTo>
                  <a:lnTo>
                    <a:pt x="60" y="1215"/>
                  </a:lnTo>
                  <a:lnTo>
                    <a:pt x="53" y="1207"/>
                  </a:lnTo>
                  <a:lnTo>
                    <a:pt x="46" y="1199"/>
                  </a:lnTo>
                  <a:lnTo>
                    <a:pt x="38" y="1192"/>
                  </a:lnTo>
                  <a:lnTo>
                    <a:pt x="31" y="1184"/>
                  </a:lnTo>
                  <a:lnTo>
                    <a:pt x="22" y="1177"/>
                  </a:lnTo>
                  <a:lnTo>
                    <a:pt x="15" y="1169"/>
                  </a:lnTo>
                  <a:lnTo>
                    <a:pt x="5" y="1161"/>
                  </a:lnTo>
                  <a:lnTo>
                    <a:pt x="0" y="1154"/>
                  </a:lnTo>
                  <a:lnTo>
                    <a:pt x="7" y="1146"/>
                  </a:lnTo>
                  <a:lnTo>
                    <a:pt x="11" y="1138"/>
                  </a:lnTo>
                  <a:lnTo>
                    <a:pt x="18" y="1130"/>
                  </a:lnTo>
                  <a:lnTo>
                    <a:pt x="26" y="1123"/>
                  </a:lnTo>
                  <a:lnTo>
                    <a:pt x="38" y="1118"/>
                  </a:lnTo>
                  <a:lnTo>
                    <a:pt x="46" y="1111"/>
                  </a:lnTo>
                  <a:lnTo>
                    <a:pt x="54" y="1104"/>
                  </a:lnTo>
                  <a:lnTo>
                    <a:pt x="63" y="1096"/>
                  </a:lnTo>
                  <a:lnTo>
                    <a:pt x="71" y="1089"/>
                  </a:lnTo>
                  <a:lnTo>
                    <a:pt x="80" y="1082"/>
                  </a:lnTo>
                  <a:lnTo>
                    <a:pt x="87" y="1074"/>
                  </a:lnTo>
                  <a:lnTo>
                    <a:pt x="96" y="1067"/>
                  </a:lnTo>
                  <a:lnTo>
                    <a:pt x="94" y="1060"/>
                  </a:lnTo>
                  <a:lnTo>
                    <a:pt x="87" y="1051"/>
                  </a:lnTo>
                  <a:lnTo>
                    <a:pt x="81" y="1043"/>
                  </a:lnTo>
                  <a:lnTo>
                    <a:pt x="74" y="1035"/>
                  </a:lnTo>
                  <a:lnTo>
                    <a:pt x="67" y="1027"/>
                  </a:lnTo>
                  <a:lnTo>
                    <a:pt x="59" y="1021"/>
                  </a:lnTo>
                  <a:lnTo>
                    <a:pt x="49" y="1014"/>
                  </a:lnTo>
                  <a:lnTo>
                    <a:pt x="42" y="1006"/>
                  </a:lnTo>
                  <a:lnTo>
                    <a:pt x="39" y="997"/>
                  </a:lnTo>
                  <a:lnTo>
                    <a:pt x="36" y="988"/>
                  </a:lnTo>
                  <a:lnTo>
                    <a:pt x="29" y="981"/>
                  </a:lnTo>
                  <a:lnTo>
                    <a:pt x="40" y="976"/>
                  </a:lnTo>
                  <a:lnTo>
                    <a:pt x="53" y="973"/>
                  </a:lnTo>
                  <a:lnTo>
                    <a:pt x="64" y="970"/>
                  </a:lnTo>
                  <a:lnTo>
                    <a:pt x="77" y="966"/>
                  </a:lnTo>
                  <a:lnTo>
                    <a:pt x="89" y="963"/>
                  </a:lnTo>
                  <a:lnTo>
                    <a:pt x="101" y="959"/>
                  </a:lnTo>
                  <a:lnTo>
                    <a:pt x="113" y="956"/>
                  </a:lnTo>
                  <a:lnTo>
                    <a:pt x="126" y="954"/>
                  </a:lnTo>
                  <a:lnTo>
                    <a:pt x="140" y="951"/>
                  </a:lnTo>
                  <a:lnTo>
                    <a:pt x="152" y="949"/>
                  </a:lnTo>
                  <a:lnTo>
                    <a:pt x="165" y="949"/>
                  </a:lnTo>
                  <a:lnTo>
                    <a:pt x="175" y="953"/>
                  </a:lnTo>
                  <a:lnTo>
                    <a:pt x="186" y="960"/>
                  </a:lnTo>
                  <a:lnTo>
                    <a:pt x="194" y="967"/>
                  </a:lnTo>
                  <a:lnTo>
                    <a:pt x="204" y="973"/>
                  </a:lnTo>
                  <a:lnTo>
                    <a:pt x="215" y="968"/>
                  </a:lnTo>
                  <a:lnTo>
                    <a:pt x="226" y="963"/>
                  </a:lnTo>
                  <a:lnTo>
                    <a:pt x="238" y="958"/>
                  </a:lnTo>
                  <a:lnTo>
                    <a:pt x="249" y="954"/>
                  </a:lnTo>
                  <a:lnTo>
                    <a:pt x="260" y="949"/>
                  </a:lnTo>
                  <a:lnTo>
                    <a:pt x="271" y="944"/>
                  </a:lnTo>
                  <a:lnTo>
                    <a:pt x="281" y="938"/>
                  </a:lnTo>
                  <a:lnTo>
                    <a:pt x="292" y="933"/>
                  </a:lnTo>
                  <a:lnTo>
                    <a:pt x="303" y="928"/>
                  </a:lnTo>
                  <a:lnTo>
                    <a:pt x="313" y="922"/>
                  </a:lnTo>
                  <a:lnTo>
                    <a:pt x="323" y="915"/>
                  </a:lnTo>
                  <a:lnTo>
                    <a:pt x="333" y="909"/>
                  </a:lnTo>
                  <a:lnTo>
                    <a:pt x="342" y="903"/>
                  </a:lnTo>
                  <a:lnTo>
                    <a:pt x="352" y="896"/>
                  </a:lnTo>
                  <a:lnTo>
                    <a:pt x="362" y="893"/>
                  </a:lnTo>
                  <a:lnTo>
                    <a:pt x="373" y="896"/>
                  </a:lnTo>
                  <a:lnTo>
                    <a:pt x="384" y="900"/>
                  </a:lnTo>
                  <a:lnTo>
                    <a:pt x="397" y="905"/>
                  </a:lnTo>
                  <a:lnTo>
                    <a:pt x="408" y="910"/>
                  </a:lnTo>
                  <a:lnTo>
                    <a:pt x="419" y="915"/>
                  </a:lnTo>
                  <a:lnTo>
                    <a:pt x="432" y="921"/>
                  </a:lnTo>
                  <a:lnTo>
                    <a:pt x="442" y="920"/>
                  </a:lnTo>
                  <a:lnTo>
                    <a:pt x="454" y="917"/>
                  </a:lnTo>
                  <a:lnTo>
                    <a:pt x="465" y="911"/>
                  </a:lnTo>
                  <a:lnTo>
                    <a:pt x="474" y="904"/>
                  </a:lnTo>
                  <a:lnTo>
                    <a:pt x="478" y="895"/>
                  </a:lnTo>
                  <a:lnTo>
                    <a:pt x="481" y="886"/>
                  </a:lnTo>
                  <a:lnTo>
                    <a:pt x="484" y="877"/>
                  </a:lnTo>
                  <a:lnTo>
                    <a:pt x="488" y="868"/>
                  </a:lnTo>
                  <a:lnTo>
                    <a:pt x="492" y="859"/>
                  </a:lnTo>
                  <a:lnTo>
                    <a:pt x="502" y="852"/>
                  </a:lnTo>
                  <a:lnTo>
                    <a:pt x="509" y="845"/>
                  </a:lnTo>
                  <a:lnTo>
                    <a:pt x="510" y="835"/>
                  </a:lnTo>
                  <a:lnTo>
                    <a:pt x="513" y="826"/>
                  </a:lnTo>
                  <a:lnTo>
                    <a:pt x="514" y="817"/>
                  </a:lnTo>
                  <a:lnTo>
                    <a:pt x="513" y="808"/>
                  </a:lnTo>
                  <a:lnTo>
                    <a:pt x="507" y="800"/>
                  </a:lnTo>
                  <a:lnTo>
                    <a:pt x="499" y="792"/>
                  </a:lnTo>
                  <a:lnTo>
                    <a:pt x="489" y="785"/>
                  </a:lnTo>
                  <a:lnTo>
                    <a:pt x="482" y="777"/>
                  </a:lnTo>
                  <a:lnTo>
                    <a:pt x="485" y="770"/>
                  </a:lnTo>
                  <a:lnTo>
                    <a:pt x="495" y="763"/>
                  </a:lnTo>
                  <a:lnTo>
                    <a:pt x="505" y="756"/>
                  </a:lnTo>
                  <a:lnTo>
                    <a:pt x="513" y="748"/>
                  </a:lnTo>
                  <a:lnTo>
                    <a:pt x="518" y="740"/>
                  </a:lnTo>
                  <a:lnTo>
                    <a:pt x="521" y="731"/>
                  </a:lnTo>
                  <a:lnTo>
                    <a:pt x="520" y="721"/>
                  </a:lnTo>
                  <a:lnTo>
                    <a:pt x="517" y="712"/>
                  </a:lnTo>
                  <a:lnTo>
                    <a:pt x="512" y="704"/>
                  </a:lnTo>
                  <a:lnTo>
                    <a:pt x="506" y="696"/>
                  </a:lnTo>
                  <a:lnTo>
                    <a:pt x="498" y="688"/>
                  </a:lnTo>
                  <a:lnTo>
                    <a:pt x="488" y="682"/>
                  </a:lnTo>
                  <a:lnTo>
                    <a:pt x="470" y="674"/>
                  </a:lnTo>
                  <a:lnTo>
                    <a:pt x="453" y="661"/>
                  </a:lnTo>
                  <a:lnTo>
                    <a:pt x="444" y="653"/>
                  </a:lnTo>
                  <a:lnTo>
                    <a:pt x="435" y="647"/>
                  </a:lnTo>
                  <a:lnTo>
                    <a:pt x="425" y="641"/>
                  </a:lnTo>
                  <a:lnTo>
                    <a:pt x="414" y="638"/>
                  </a:lnTo>
                  <a:lnTo>
                    <a:pt x="401" y="638"/>
                  </a:lnTo>
                  <a:lnTo>
                    <a:pt x="388" y="639"/>
                  </a:lnTo>
                  <a:lnTo>
                    <a:pt x="375" y="642"/>
                  </a:lnTo>
                  <a:lnTo>
                    <a:pt x="362" y="645"/>
                  </a:lnTo>
                  <a:lnTo>
                    <a:pt x="348" y="647"/>
                  </a:lnTo>
                  <a:lnTo>
                    <a:pt x="337" y="647"/>
                  </a:lnTo>
                  <a:lnTo>
                    <a:pt x="327" y="641"/>
                  </a:lnTo>
                  <a:lnTo>
                    <a:pt x="319" y="633"/>
                  </a:lnTo>
                  <a:lnTo>
                    <a:pt x="310" y="625"/>
                  </a:lnTo>
                  <a:lnTo>
                    <a:pt x="299" y="618"/>
                  </a:lnTo>
                  <a:lnTo>
                    <a:pt x="288" y="610"/>
                  </a:lnTo>
                  <a:lnTo>
                    <a:pt x="281" y="603"/>
                  </a:lnTo>
                  <a:lnTo>
                    <a:pt x="277" y="596"/>
                  </a:lnTo>
                  <a:lnTo>
                    <a:pt x="279" y="590"/>
                  </a:lnTo>
                  <a:lnTo>
                    <a:pt x="288" y="584"/>
                  </a:lnTo>
                  <a:lnTo>
                    <a:pt x="300" y="578"/>
                  </a:lnTo>
                  <a:lnTo>
                    <a:pt x="314" y="573"/>
                  </a:lnTo>
                  <a:lnTo>
                    <a:pt x="327" y="568"/>
                  </a:lnTo>
                  <a:lnTo>
                    <a:pt x="338" y="563"/>
                  </a:lnTo>
                  <a:lnTo>
                    <a:pt x="349" y="558"/>
                  </a:lnTo>
                  <a:lnTo>
                    <a:pt x="361" y="554"/>
                  </a:lnTo>
                  <a:lnTo>
                    <a:pt x="372" y="549"/>
                  </a:lnTo>
                  <a:lnTo>
                    <a:pt x="383" y="544"/>
                  </a:lnTo>
                  <a:lnTo>
                    <a:pt x="394" y="539"/>
                  </a:lnTo>
                  <a:lnTo>
                    <a:pt x="405" y="534"/>
                  </a:lnTo>
                  <a:lnTo>
                    <a:pt x="416" y="530"/>
                  </a:lnTo>
                  <a:lnTo>
                    <a:pt x="428" y="525"/>
                  </a:lnTo>
                  <a:lnTo>
                    <a:pt x="439" y="519"/>
                  </a:lnTo>
                  <a:lnTo>
                    <a:pt x="450" y="513"/>
                  </a:lnTo>
                  <a:lnTo>
                    <a:pt x="461" y="507"/>
                  </a:lnTo>
                  <a:lnTo>
                    <a:pt x="472" y="501"/>
                  </a:lnTo>
                  <a:lnTo>
                    <a:pt x="484" y="497"/>
                  </a:lnTo>
                  <a:lnTo>
                    <a:pt x="495" y="495"/>
                  </a:lnTo>
                  <a:lnTo>
                    <a:pt x="505" y="497"/>
                  </a:lnTo>
                  <a:lnTo>
                    <a:pt x="516" y="502"/>
                  </a:lnTo>
                  <a:lnTo>
                    <a:pt x="525" y="510"/>
                  </a:lnTo>
                  <a:lnTo>
                    <a:pt x="535" y="517"/>
                  </a:lnTo>
                  <a:lnTo>
                    <a:pt x="545" y="524"/>
                  </a:lnTo>
                  <a:lnTo>
                    <a:pt x="556" y="531"/>
                  </a:lnTo>
                  <a:lnTo>
                    <a:pt x="566" y="538"/>
                  </a:lnTo>
                  <a:lnTo>
                    <a:pt x="577" y="546"/>
                  </a:lnTo>
                  <a:lnTo>
                    <a:pt x="587" y="552"/>
                  </a:lnTo>
                  <a:lnTo>
                    <a:pt x="597" y="556"/>
                  </a:lnTo>
                  <a:lnTo>
                    <a:pt x="607" y="556"/>
                  </a:lnTo>
                  <a:lnTo>
                    <a:pt x="615" y="551"/>
                  </a:lnTo>
                  <a:lnTo>
                    <a:pt x="622" y="543"/>
                  </a:lnTo>
                  <a:lnTo>
                    <a:pt x="629" y="533"/>
                  </a:lnTo>
                  <a:lnTo>
                    <a:pt x="636" y="524"/>
                  </a:lnTo>
                  <a:lnTo>
                    <a:pt x="643" y="516"/>
                  </a:lnTo>
                  <a:lnTo>
                    <a:pt x="651" y="509"/>
                  </a:lnTo>
                  <a:lnTo>
                    <a:pt x="661" y="502"/>
                  </a:lnTo>
                  <a:lnTo>
                    <a:pt x="671" y="495"/>
                  </a:lnTo>
                  <a:lnTo>
                    <a:pt x="681" y="488"/>
                  </a:lnTo>
                  <a:lnTo>
                    <a:pt x="689" y="481"/>
                  </a:lnTo>
                  <a:lnTo>
                    <a:pt x="696" y="474"/>
                  </a:lnTo>
                  <a:lnTo>
                    <a:pt x="702" y="466"/>
                  </a:lnTo>
                  <a:lnTo>
                    <a:pt x="700" y="457"/>
                  </a:lnTo>
                  <a:lnTo>
                    <a:pt x="695" y="447"/>
                  </a:lnTo>
                  <a:lnTo>
                    <a:pt x="693" y="438"/>
                  </a:lnTo>
                  <a:lnTo>
                    <a:pt x="699" y="429"/>
                  </a:lnTo>
                  <a:lnTo>
                    <a:pt x="697" y="420"/>
                  </a:lnTo>
                  <a:lnTo>
                    <a:pt x="696" y="410"/>
                  </a:lnTo>
                  <a:lnTo>
                    <a:pt x="695" y="401"/>
                  </a:lnTo>
                  <a:lnTo>
                    <a:pt x="692" y="392"/>
                  </a:lnTo>
                  <a:lnTo>
                    <a:pt x="689" y="383"/>
                  </a:lnTo>
                  <a:lnTo>
                    <a:pt x="678" y="377"/>
                  </a:lnTo>
                  <a:lnTo>
                    <a:pt x="674" y="369"/>
                  </a:lnTo>
                  <a:lnTo>
                    <a:pt x="675" y="360"/>
                  </a:lnTo>
                  <a:lnTo>
                    <a:pt x="678" y="350"/>
                  </a:lnTo>
                  <a:lnTo>
                    <a:pt x="681" y="341"/>
                  </a:lnTo>
                  <a:lnTo>
                    <a:pt x="686" y="333"/>
                  </a:lnTo>
                  <a:lnTo>
                    <a:pt x="692" y="325"/>
                  </a:lnTo>
                  <a:lnTo>
                    <a:pt x="699" y="317"/>
                  </a:lnTo>
                  <a:lnTo>
                    <a:pt x="707" y="309"/>
                  </a:lnTo>
                  <a:lnTo>
                    <a:pt x="714" y="301"/>
                  </a:lnTo>
                  <a:lnTo>
                    <a:pt x="721" y="293"/>
                  </a:lnTo>
                  <a:lnTo>
                    <a:pt x="727" y="285"/>
                  </a:lnTo>
                  <a:lnTo>
                    <a:pt x="731" y="276"/>
                  </a:lnTo>
                  <a:lnTo>
                    <a:pt x="732" y="267"/>
                  </a:lnTo>
                  <a:lnTo>
                    <a:pt x="732" y="257"/>
                  </a:lnTo>
                  <a:lnTo>
                    <a:pt x="731" y="248"/>
                  </a:lnTo>
                  <a:lnTo>
                    <a:pt x="727" y="239"/>
                  </a:lnTo>
                  <a:lnTo>
                    <a:pt x="718" y="232"/>
                  </a:lnTo>
                  <a:lnTo>
                    <a:pt x="709" y="226"/>
                  </a:lnTo>
                  <a:lnTo>
                    <a:pt x="699" y="220"/>
                  </a:lnTo>
                  <a:lnTo>
                    <a:pt x="688" y="214"/>
                  </a:lnTo>
                  <a:lnTo>
                    <a:pt x="678" y="209"/>
                  </a:lnTo>
                  <a:lnTo>
                    <a:pt x="667" y="202"/>
                  </a:lnTo>
                  <a:lnTo>
                    <a:pt x="654" y="196"/>
                  </a:lnTo>
                  <a:lnTo>
                    <a:pt x="647" y="190"/>
                  </a:lnTo>
                  <a:lnTo>
                    <a:pt x="647" y="182"/>
                  </a:lnTo>
                  <a:lnTo>
                    <a:pt x="655" y="175"/>
                  </a:lnTo>
                  <a:lnTo>
                    <a:pt x="665" y="167"/>
                  </a:lnTo>
                  <a:lnTo>
                    <a:pt x="674" y="160"/>
                  </a:lnTo>
                  <a:lnTo>
                    <a:pt x="683" y="153"/>
                  </a:lnTo>
                  <a:lnTo>
                    <a:pt x="692" y="146"/>
                  </a:lnTo>
                  <a:lnTo>
                    <a:pt x="702" y="139"/>
                  </a:lnTo>
                  <a:lnTo>
                    <a:pt x="710" y="132"/>
                  </a:lnTo>
                  <a:lnTo>
                    <a:pt x="717" y="124"/>
                  </a:lnTo>
                  <a:lnTo>
                    <a:pt x="724" y="117"/>
                  </a:lnTo>
                  <a:lnTo>
                    <a:pt x="731" y="108"/>
                  </a:lnTo>
                  <a:lnTo>
                    <a:pt x="737" y="100"/>
                  </a:lnTo>
                  <a:lnTo>
                    <a:pt x="744" y="92"/>
                  </a:lnTo>
                  <a:lnTo>
                    <a:pt x="756" y="76"/>
                  </a:lnTo>
                  <a:lnTo>
                    <a:pt x="765" y="69"/>
                  </a:lnTo>
                  <a:lnTo>
                    <a:pt x="774" y="62"/>
                  </a:lnTo>
                  <a:lnTo>
                    <a:pt x="783" y="56"/>
                  </a:lnTo>
                  <a:lnTo>
                    <a:pt x="792" y="49"/>
                  </a:lnTo>
                  <a:lnTo>
                    <a:pt x="801" y="42"/>
                  </a:lnTo>
                  <a:lnTo>
                    <a:pt x="809" y="35"/>
                  </a:lnTo>
                  <a:lnTo>
                    <a:pt x="82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92560" y="4141800"/>
              <a:ext cx="1209600" cy="1152360"/>
            </a:xfrm>
            <a:custGeom>
              <a:avLst/>
              <a:gdLst/>
              <a:ahLst/>
              <a:rect l="l" t="t" r="r" b="b"/>
              <a:pathLst>
                <a:path w="2285" h="1452">
                  <a:moveTo>
                    <a:pt x="828" y="22"/>
                  </a:moveTo>
                  <a:lnTo>
                    <a:pt x="829" y="31"/>
                  </a:lnTo>
                  <a:lnTo>
                    <a:pt x="832" y="40"/>
                  </a:lnTo>
                  <a:lnTo>
                    <a:pt x="836" y="49"/>
                  </a:lnTo>
                  <a:lnTo>
                    <a:pt x="845" y="56"/>
                  </a:lnTo>
                  <a:lnTo>
                    <a:pt x="859" y="56"/>
                  </a:lnTo>
                  <a:lnTo>
                    <a:pt x="870" y="60"/>
                  </a:lnTo>
                  <a:lnTo>
                    <a:pt x="878" y="77"/>
                  </a:lnTo>
                  <a:lnTo>
                    <a:pt x="885" y="85"/>
                  </a:lnTo>
                  <a:lnTo>
                    <a:pt x="890" y="93"/>
                  </a:lnTo>
                  <a:lnTo>
                    <a:pt x="885" y="102"/>
                  </a:lnTo>
                  <a:lnTo>
                    <a:pt x="888" y="112"/>
                  </a:lnTo>
                  <a:lnTo>
                    <a:pt x="899" y="111"/>
                  </a:lnTo>
                  <a:lnTo>
                    <a:pt x="913" y="108"/>
                  </a:lnTo>
                  <a:lnTo>
                    <a:pt x="922" y="102"/>
                  </a:lnTo>
                  <a:lnTo>
                    <a:pt x="916" y="94"/>
                  </a:lnTo>
                  <a:lnTo>
                    <a:pt x="911" y="77"/>
                  </a:lnTo>
                  <a:lnTo>
                    <a:pt x="923" y="63"/>
                  </a:lnTo>
                  <a:lnTo>
                    <a:pt x="934" y="66"/>
                  </a:lnTo>
                  <a:lnTo>
                    <a:pt x="945" y="70"/>
                  </a:lnTo>
                  <a:lnTo>
                    <a:pt x="955" y="77"/>
                  </a:lnTo>
                  <a:lnTo>
                    <a:pt x="964" y="81"/>
                  </a:lnTo>
                  <a:lnTo>
                    <a:pt x="972" y="88"/>
                  </a:lnTo>
                  <a:lnTo>
                    <a:pt x="982" y="94"/>
                  </a:lnTo>
                  <a:lnTo>
                    <a:pt x="993" y="100"/>
                  </a:lnTo>
                  <a:lnTo>
                    <a:pt x="1004" y="106"/>
                  </a:lnTo>
                  <a:lnTo>
                    <a:pt x="1015" y="112"/>
                  </a:lnTo>
                  <a:lnTo>
                    <a:pt x="1027" y="117"/>
                  </a:lnTo>
                  <a:lnTo>
                    <a:pt x="1038" y="122"/>
                  </a:lnTo>
                  <a:lnTo>
                    <a:pt x="1049" y="126"/>
                  </a:lnTo>
                  <a:lnTo>
                    <a:pt x="1060" y="129"/>
                  </a:lnTo>
                  <a:lnTo>
                    <a:pt x="1067" y="123"/>
                  </a:lnTo>
                  <a:lnTo>
                    <a:pt x="1074" y="112"/>
                  </a:lnTo>
                  <a:lnTo>
                    <a:pt x="1078" y="104"/>
                  </a:lnTo>
                  <a:lnTo>
                    <a:pt x="1082" y="95"/>
                  </a:lnTo>
                  <a:lnTo>
                    <a:pt x="1088" y="87"/>
                  </a:lnTo>
                  <a:lnTo>
                    <a:pt x="1095" y="77"/>
                  </a:lnTo>
                  <a:lnTo>
                    <a:pt x="1103" y="70"/>
                  </a:lnTo>
                  <a:lnTo>
                    <a:pt x="1112" y="64"/>
                  </a:lnTo>
                  <a:lnTo>
                    <a:pt x="1123" y="68"/>
                  </a:lnTo>
                  <a:lnTo>
                    <a:pt x="1134" y="74"/>
                  </a:lnTo>
                  <a:lnTo>
                    <a:pt x="1147" y="70"/>
                  </a:lnTo>
                  <a:lnTo>
                    <a:pt x="1152" y="62"/>
                  </a:lnTo>
                  <a:lnTo>
                    <a:pt x="1143" y="56"/>
                  </a:lnTo>
                  <a:lnTo>
                    <a:pt x="1143" y="48"/>
                  </a:lnTo>
                  <a:lnTo>
                    <a:pt x="1154" y="45"/>
                  </a:lnTo>
                  <a:lnTo>
                    <a:pt x="1157" y="38"/>
                  </a:lnTo>
                  <a:lnTo>
                    <a:pt x="1168" y="32"/>
                  </a:lnTo>
                  <a:lnTo>
                    <a:pt x="1180" y="31"/>
                  </a:lnTo>
                  <a:lnTo>
                    <a:pt x="1193" y="34"/>
                  </a:lnTo>
                  <a:lnTo>
                    <a:pt x="1205" y="37"/>
                  </a:lnTo>
                  <a:lnTo>
                    <a:pt x="1218" y="40"/>
                  </a:lnTo>
                  <a:lnTo>
                    <a:pt x="1229" y="44"/>
                  </a:lnTo>
                  <a:lnTo>
                    <a:pt x="1239" y="50"/>
                  </a:lnTo>
                  <a:lnTo>
                    <a:pt x="1247" y="57"/>
                  </a:lnTo>
                  <a:lnTo>
                    <a:pt x="1256" y="66"/>
                  </a:lnTo>
                  <a:lnTo>
                    <a:pt x="1271" y="77"/>
                  </a:lnTo>
                  <a:lnTo>
                    <a:pt x="1277" y="85"/>
                  </a:lnTo>
                  <a:lnTo>
                    <a:pt x="1282" y="95"/>
                  </a:lnTo>
                  <a:lnTo>
                    <a:pt x="1292" y="99"/>
                  </a:lnTo>
                  <a:lnTo>
                    <a:pt x="1305" y="100"/>
                  </a:lnTo>
                  <a:lnTo>
                    <a:pt x="1317" y="101"/>
                  </a:lnTo>
                  <a:lnTo>
                    <a:pt x="1331" y="101"/>
                  </a:lnTo>
                  <a:lnTo>
                    <a:pt x="1344" y="103"/>
                  </a:lnTo>
                  <a:lnTo>
                    <a:pt x="1356" y="106"/>
                  </a:lnTo>
                  <a:lnTo>
                    <a:pt x="1369" y="107"/>
                  </a:lnTo>
                  <a:lnTo>
                    <a:pt x="1382" y="104"/>
                  </a:lnTo>
                  <a:lnTo>
                    <a:pt x="1393" y="98"/>
                  </a:lnTo>
                  <a:lnTo>
                    <a:pt x="1397" y="90"/>
                  </a:lnTo>
                  <a:lnTo>
                    <a:pt x="1398" y="77"/>
                  </a:lnTo>
                  <a:lnTo>
                    <a:pt x="1405" y="66"/>
                  </a:lnTo>
                  <a:lnTo>
                    <a:pt x="1410" y="58"/>
                  </a:lnTo>
                  <a:lnTo>
                    <a:pt x="1424" y="59"/>
                  </a:lnTo>
                  <a:lnTo>
                    <a:pt x="1436" y="59"/>
                  </a:lnTo>
                  <a:lnTo>
                    <a:pt x="1449" y="57"/>
                  </a:lnTo>
                  <a:lnTo>
                    <a:pt x="1461" y="55"/>
                  </a:lnTo>
                  <a:lnTo>
                    <a:pt x="1474" y="54"/>
                  </a:lnTo>
                  <a:lnTo>
                    <a:pt x="1488" y="53"/>
                  </a:lnTo>
                  <a:lnTo>
                    <a:pt x="1500" y="53"/>
                  </a:lnTo>
                  <a:lnTo>
                    <a:pt x="1512" y="50"/>
                  </a:lnTo>
                  <a:lnTo>
                    <a:pt x="1519" y="43"/>
                  </a:lnTo>
                  <a:lnTo>
                    <a:pt x="1531" y="39"/>
                  </a:lnTo>
                  <a:lnTo>
                    <a:pt x="1542" y="35"/>
                  </a:lnTo>
                  <a:lnTo>
                    <a:pt x="1554" y="29"/>
                  </a:lnTo>
                  <a:lnTo>
                    <a:pt x="1555" y="20"/>
                  </a:lnTo>
                  <a:lnTo>
                    <a:pt x="1566" y="16"/>
                  </a:lnTo>
                  <a:lnTo>
                    <a:pt x="1579" y="14"/>
                  </a:lnTo>
                  <a:lnTo>
                    <a:pt x="1591" y="11"/>
                  </a:lnTo>
                  <a:lnTo>
                    <a:pt x="1601" y="4"/>
                  </a:lnTo>
                  <a:lnTo>
                    <a:pt x="1611" y="0"/>
                  </a:lnTo>
                  <a:lnTo>
                    <a:pt x="1621" y="6"/>
                  </a:lnTo>
                  <a:lnTo>
                    <a:pt x="1630" y="13"/>
                  </a:lnTo>
                  <a:lnTo>
                    <a:pt x="1639" y="21"/>
                  </a:lnTo>
                  <a:lnTo>
                    <a:pt x="1649" y="27"/>
                  </a:lnTo>
                  <a:lnTo>
                    <a:pt x="1660" y="32"/>
                  </a:lnTo>
                  <a:lnTo>
                    <a:pt x="1671" y="36"/>
                  </a:lnTo>
                  <a:lnTo>
                    <a:pt x="1681" y="42"/>
                  </a:lnTo>
                  <a:lnTo>
                    <a:pt x="1689" y="49"/>
                  </a:lnTo>
                  <a:lnTo>
                    <a:pt x="1695" y="57"/>
                  </a:lnTo>
                  <a:lnTo>
                    <a:pt x="1700" y="67"/>
                  </a:lnTo>
                  <a:lnTo>
                    <a:pt x="1706" y="77"/>
                  </a:lnTo>
                  <a:lnTo>
                    <a:pt x="1717" y="82"/>
                  </a:lnTo>
                  <a:lnTo>
                    <a:pt x="1730" y="81"/>
                  </a:lnTo>
                  <a:lnTo>
                    <a:pt x="1742" y="81"/>
                  </a:lnTo>
                  <a:lnTo>
                    <a:pt x="1755" y="80"/>
                  </a:lnTo>
                  <a:lnTo>
                    <a:pt x="1769" y="79"/>
                  </a:lnTo>
                  <a:lnTo>
                    <a:pt x="1781" y="79"/>
                  </a:lnTo>
                  <a:lnTo>
                    <a:pt x="1839" y="77"/>
                  </a:lnTo>
                  <a:lnTo>
                    <a:pt x="1850" y="82"/>
                  </a:lnTo>
                  <a:lnTo>
                    <a:pt x="1860" y="88"/>
                  </a:lnTo>
                  <a:lnTo>
                    <a:pt x="1871" y="93"/>
                  </a:lnTo>
                  <a:lnTo>
                    <a:pt x="1888" y="102"/>
                  </a:lnTo>
                  <a:lnTo>
                    <a:pt x="1885" y="136"/>
                  </a:lnTo>
                  <a:lnTo>
                    <a:pt x="1882" y="145"/>
                  </a:lnTo>
                  <a:lnTo>
                    <a:pt x="1878" y="154"/>
                  </a:lnTo>
                  <a:lnTo>
                    <a:pt x="1875" y="163"/>
                  </a:lnTo>
                  <a:lnTo>
                    <a:pt x="1872" y="172"/>
                  </a:lnTo>
                  <a:lnTo>
                    <a:pt x="1869" y="181"/>
                  </a:lnTo>
                  <a:lnTo>
                    <a:pt x="1867" y="190"/>
                  </a:lnTo>
                  <a:lnTo>
                    <a:pt x="1872" y="199"/>
                  </a:lnTo>
                  <a:lnTo>
                    <a:pt x="1874" y="208"/>
                  </a:lnTo>
                  <a:lnTo>
                    <a:pt x="1875" y="217"/>
                  </a:lnTo>
                  <a:lnTo>
                    <a:pt x="1875" y="227"/>
                  </a:lnTo>
                  <a:lnTo>
                    <a:pt x="1875" y="236"/>
                  </a:lnTo>
                  <a:lnTo>
                    <a:pt x="1879" y="245"/>
                  </a:lnTo>
                  <a:lnTo>
                    <a:pt x="1888" y="272"/>
                  </a:lnTo>
                  <a:lnTo>
                    <a:pt x="1874" y="271"/>
                  </a:lnTo>
                  <a:lnTo>
                    <a:pt x="1860" y="272"/>
                  </a:lnTo>
                  <a:lnTo>
                    <a:pt x="1856" y="278"/>
                  </a:lnTo>
                  <a:lnTo>
                    <a:pt x="1857" y="287"/>
                  </a:lnTo>
                  <a:lnTo>
                    <a:pt x="1860" y="297"/>
                  </a:lnTo>
                  <a:lnTo>
                    <a:pt x="1860" y="307"/>
                  </a:lnTo>
                  <a:lnTo>
                    <a:pt x="1858" y="316"/>
                  </a:lnTo>
                  <a:lnTo>
                    <a:pt x="1856" y="326"/>
                  </a:lnTo>
                  <a:lnTo>
                    <a:pt x="1854" y="336"/>
                  </a:lnTo>
                  <a:lnTo>
                    <a:pt x="1851" y="345"/>
                  </a:lnTo>
                  <a:lnTo>
                    <a:pt x="1850" y="354"/>
                  </a:lnTo>
                  <a:lnTo>
                    <a:pt x="1849" y="363"/>
                  </a:lnTo>
                  <a:lnTo>
                    <a:pt x="1849" y="371"/>
                  </a:lnTo>
                  <a:lnTo>
                    <a:pt x="1864" y="371"/>
                  </a:lnTo>
                  <a:lnTo>
                    <a:pt x="1867" y="378"/>
                  </a:lnTo>
                  <a:lnTo>
                    <a:pt x="1868" y="387"/>
                  </a:lnTo>
                  <a:lnTo>
                    <a:pt x="1867" y="396"/>
                  </a:lnTo>
                  <a:lnTo>
                    <a:pt x="1867" y="406"/>
                  </a:lnTo>
                  <a:lnTo>
                    <a:pt x="1865" y="416"/>
                  </a:lnTo>
                  <a:lnTo>
                    <a:pt x="1865" y="426"/>
                  </a:lnTo>
                  <a:lnTo>
                    <a:pt x="1867" y="435"/>
                  </a:lnTo>
                  <a:lnTo>
                    <a:pt x="1867" y="444"/>
                  </a:lnTo>
                  <a:lnTo>
                    <a:pt x="1868" y="453"/>
                  </a:lnTo>
                  <a:lnTo>
                    <a:pt x="1869" y="463"/>
                  </a:lnTo>
                  <a:lnTo>
                    <a:pt x="1871" y="472"/>
                  </a:lnTo>
                  <a:lnTo>
                    <a:pt x="1872" y="481"/>
                  </a:lnTo>
                  <a:lnTo>
                    <a:pt x="1872" y="491"/>
                  </a:lnTo>
                  <a:lnTo>
                    <a:pt x="1874" y="500"/>
                  </a:lnTo>
                  <a:lnTo>
                    <a:pt x="1874" y="509"/>
                  </a:lnTo>
                  <a:lnTo>
                    <a:pt x="1879" y="518"/>
                  </a:lnTo>
                  <a:lnTo>
                    <a:pt x="1888" y="527"/>
                  </a:lnTo>
                  <a:lnTo>
                    <a:pt x="1896" y="534"/>
                  </a:lnTo>
                  <a:lnTo>
                    <a:pt x="1904" y="541"/>
                  </a:lnTo>
                  <a:lnTo>
                    <a:pt x="1911" y="549"/>
                  </a:lnTo>
                  <a:lnTo>
                    <a:pt x="1920" y="556"/>
                  </a:lnTo>
                  <a:lnTo>
                    <a:pt x="1928" y="563"/>
                  </a:lnTo>
                  <a:lnTo>
                    <a:pt x="1941" y="565"/>
                  </a:lnTo>
                  <a:lnTo>
                    <a:pt x="1953" y="564"/>
                  </a:lnTo>
                  <a:lnTo>
                    <a:pt x="1944" y="569"/>
                  </a:lnTo>
                  <a:lnTo>
                    <a:pt x="1938" y="575"/>
                  </a:lnTo>
                  <a:lnTo>
                    <a:pt x="1944" y="584"/>
                  </a:lnTo>
                  <a:lnTo>
                    <a:pt x="1944" y="592"/>
                  </a:lnTo>
                  <a:lnTo>
                    <a:pt x="1942" y="601"/>
                  </a:lnTo>
                  <a:lnTo>
                    <a:pt x="1938" y="610"/>
                  </a:lnTo>
                  <a:lnTo>
                    <a:pt x="1931" y="616"/>
                  </a:lnTo>
                  <a:lnTo>
                    <a:pt x="1927" y="625"/>
                  </a:lnTo>
                  <a:lnTo>
                    <a:pt x="1925" y="634"/>
                  </a:lnTo>
                  <a:lnTo>
                    <a:pt x="1920" y="642"/>
                  </a:lnTo>
                  <a:lnTo>
                    <a:pt x="1920" y="651"/>
                  </a:lnTo>
                  <a:lnTo>
                    <a:pt x="1920" y="660"/>
                  </a:lnTo>
                  <a:lnTo>
                    <a:pt x="1920" y="675"/>
                  </a:lnTo>
                  <a:lnTo>
                    <a:pt x="1924" y="684"/>
                  </a:lnTo>
                  <a:lnTo>
                    <a:pt x="1921" y="692"/>
                  </a:lnTo>
                  <a:lnTo>
                    <a:pt x="1910" y="696"/>
                  </a:lnTo>
                  <a:lnTo>
                    <a:pt x="1917" y="705"/>
                  </a:lnTo>
                  <a:lnTo>
                    <a:pt x="1925" y="708"/>
                  </a:lnTo>
                  <a:lnTo>
                    <a:pt x="1928" y="717"/>
                  </a:lnTo>
                  <a:lnTo>
                    <a:pt x="1932" y="726"/>
                  </a:lnTo>
                  <a:lnTo>
                    <a:pt x="1930" y="733"/>
                  </a:lnTo>
                  <a:lnTo>
                    <a:pt x="1927" y="740"/>
                  </a:lnTo>
                  <a:lnTo>
                    <a:pt x="1914" y="741"/>
                  </a:lnTo>
                  <a:lnTo>
                    <a:pt x="1888" y="743"/>
                  </a:lnTo>
                  <a:lnTo>
                    <a:pt x="1886" y="751"/>
                  </a:lnTo>
                  <a:lnTo>
                    <a:pt x="1886" y="760"/>
                  </a:lnTo>
                  <a:lnTo>
                    <a:pt x="1885" y="769"/>
                  </a:lnTo>
                  <a:lnTo>
                    <a:pt x="1885" y="778"/>
                  </a:lnTo>
                  <a:lnTo>
                    <a:pt x="1886" y="788"/>
                  </a:lnTo>
                  <a:lnTo>
                    <a:pt x="1886" y="797"/>
                  </a:lnTo>
                  <a:lnTo>
                    <a:pt x="1886" y="807"/>
                  </a:lnTo>
                  <a:lnTo>
                    <a:pt x="1888" y="817"/>
                  </a:lnTo>
                  <a:lnTo>
                    <a:pt x="1888" y="826"/>
                  </a:lnTo>
                  <a:lnTo>
                    <a:pt x="1886" y="834"/>
                  </a:lnTo>
                  <a:lnTo>
                    <a:pt x="1872" y="832"/>
                  </a:lnTo>
                  <a:lnTo>
                    <a:pt x="1860" y="834"/>
                  </a:lnTo>
                  <a:lnTo>
                    <a:pt x="1856" y="839"/>
                  </a:lnTo>
                  <a:lnTo>
                    <a:pt x="1843" y="844"/>
                  </a:lnTo>
                  <a:lnTo>
                    <a:pt x="1836" y="852"/>
                  </a:lnTo>
                  <a:lnTo>
                    <a:pt x="1829" y="855"/>
                  </a:lnTo>
                  <a:lnTo>
                    <a:pt x="1821" y="864"/>
                  </a:lnTo>
                  <a:lnTo>
                    <a:pt x="1819" y="873"/>
                  </a:lnTo>
                  <a:lnTo>
                    <a:pt x="1828" y="879"/>
                  </a:lnTo>
                  <a:lnTo>
                    <a:pt x="1839" y="886"/>
                  </a:lnTo>
                  <a:lnTo>
                    <a:pt x="1847" y="893"/>
                  </a:lnTo>
                  <a:lnTo>
                    <a:pt x="1856" y="894"/>
                  </a:lnTo>
                  <a:lnTo>
                    <a:pt x="1864" y="896"/>
                  </a:lnTo>
                  <a:lnTo>
                    <a:pt x="1874" y="903"/>
                  </a:lnTo>
                  <a:lnTo>
                    <a:pt x="1882" y="911"/>
                  </a:lnTo>
                  <a:lnTo>
                    <a:pt x="1875" y="918"/>
                  </a:lnTo>
                  <a:lnTo>
                    <a:pt x="1872" y="925"/>
                  </a:lnTo>
                  <a:lnTo>
                    <a:pt x="1865" y="930"/>
                  </a:lnTo>
                  <a:lnTo>
                    <a:pt x="1876" y="935"/>
                  </a:lnTo>
                  <a:lnTo>
                    <a:pt x="1888" y="940"/>
                  </a:lnTo>
                  <a:lnTo>
                    <a:pt x="1895" y="935"/>
                  </a:lnTo>
                  <a:lnTo>
                    <a:pt x="1900" y="928"/>
                  </a:lnTo>
                  <a:lnTo>
                    <a:pt x="1910" y="931"/>
                  </a:lnTo>
                  <a:lnTo>
                    <a:pt x="1923" y="936"/>
                  </a:lnTo>
                  <a:lnTo>
                    <a:pt x="1935" y="941"/>
                  </a:lnTo>
                  <a:lnTo>
                    <a:pt x="1946" y="945"/>
                  </a:lnTo>
                  <a:lnTo>
                    <a:pt x="1959" y="950"/>
                  </a:lnTo>
                  <a:lnTo>
                    <a:pt x="1972" y="953"/>
                  </a:lnTo>
                  <a:lnTo>
                    <a:pt x="1976" y="946"/>
                  </a:lnTo>
                  <a:lnTo>
                    <a:pt x="1987" y="945"/>
                  </a:lnTo>
                  <a:lnTo>
                    <a:pt x="2001" y="947"/>
                  </a:lnTo>
                  <a:lnTo>
                    <a:pt x="2015" y="948"/>
                  </a:lnTo>
                  <a:lnTo>
                    <a:pt x="2030" y="950"/>
                  </a:lnTo>
                  <a:lnTo>
                    <a:pt x="2044" y="952"/>
                  </a:lnTo>
                  <a:lnTo>
                    <a:pt x="2058" y="954"/>
                  </a:lnTo>
                  <a:lnTo>
                    <a:pt x="2071" y="954"/>
                  </a:lnTo>
                  <a:lnTo>
                    <a:pt x="2082" y="953"/>
                  </a:lnTo>
                  <a:lnTo>
                    <a:pt x="2092" y="951"/>
                  </a:lnTo>
                  <a:lnTo>
                    <a:pt x="2099" y="945"/>
                  </a:lnTo>
                  <a:lnTo>
                    <a:pt x="2102" y="937"/>
                  </a:lnTo>
                  <a:lnTo>
                    <a:pt x="2103" y="926"/>
                  </a:lnTo>
                  <a:lnTo>
                    <a:pt x="2103" y="915"/>
                  </a:lnTo>
                  <a:lnTo>
                    <a:pt x="2103" y="904"/>
                  </a:lnTo>
                  <a:lnTo>
                    <a:pt x="2106" y="894"/>
                  </a:lnTo>
                  <a:lnTo>
                    <a:pt x="2113" y="887"/>
                  </a:lnTo>
                  <a:lnTo>
                    <a:pt x="2121" y="883"/>
                  </a:lnTo>
                  <a:lnTo>
                    <a:pt x="2134" y="881"/>
                  </a:lnTo>
                  <a:lnTo>
                    <a:pt x="2146" y="880"/>
                  </a:lnTo>
                  <a:lnTo>
                    <a:pt x="2162" y="880"/>
                  </a:lnTo>
                  <a:lnTo>
                    <a:pt x="2176" y="880"/>
                  </a:lnTo>
                  <a:lnTo>
                    <a:pt x="2190" y="881"/>
                  </a:lnTo>
                  <a:lnTo>
                    <a:pt x="2204" y="881"/>
                  </a:lnTo>
                  <a:lnTo>
                    <a:pt x="2208" y="889"/>
                  </a:lnTo>
                  <a:lnTo>
                    <a:pt x="2211" y="898"/>
                  </a:lnTo>
                  <a:lnTo>
                    <a:pt x="2216" y="907"/>
                  </a:lnTo>
                  <a:lnTo>
                    <a:pt x="2223" y="914"/>
                  </a:lnTo>
                  <a:lnTo>
                    <a:pt x="2230" y="922"/>
                  </a:lnTo>
                  <a:lnTo>
                    <a:pt x="2234" y="931"/>
                  </a:lnTo>
                  <a:lnTo>
                    <a:pt x="2240" y="940"/>
                  </a:lnTo>
                  <a:lnTo>
                    <a:pt x="2246" y="948"/>
                  </a:lnTo>
                  <a:lnTo>
                    <a:pt x="2253" y="957"/>
                  </a:lnTo>
                  <a:lnTo>
                    <a:pt x="2255" y="965"/>
                  </a:lnTo>
                  <a:lnTo>
                    <a:pt x="2255" y="974"/>
                  </a:lnTo>
                  <a:lnTo>
                    <a:pt x="2254" y="985"/>
                  </a:lnTo>
                  <a:lnTo>
                    <a:pt x="2253" y="994"/>
                  </a:lnTo>
                  <a:lnTo>
                    <a:pt x="2250" y="1003"/>
                  </a:lnTo>
                  <a:lnTo>
                    <a:pt x="2248" y="1012"/>
                  </a:lnTo>
                  <a:lnTo>
                    <a:pt x="2246" y="1022"/>
                  </a:lnTo>
                  <a:lnTo>
                    <a:pt x="2243" y="1031"/>
                  </a:lnTo>
                  <a:lnTo>
                    <a:pt x="2240" y="1040"/>
                  </a:lnTo>
                  <a:lnTo>
                    <a:pt x="2237" y="1049"/>
                  </a:lnTo>
                  <a:lnTo>
                    <a:pt x="2234" y="1059"/>
                  </a:lnTo>
                  <a:lnTo>
                    <a:pt x="2233" y="1068"/>
                  </a:lnTo>
                  <a:lnTo>
                    <a:pt x="2232" y="1077"/>
                  </a:lnTo>
                  <a:lnTo>
                    <a:pt x="2237" y="1084"/>
                  </a:lnTo>
                  <a:lnTo>
                    <a:pt x="2248" y="1090"/>
                  </a:lnTo>
                  <a:lnTo>
                    <a:pt x="2258" y="1096"/>
                  </a:lnTo>
                  <a:lnTo>
                    <a:pt x="2269" y="1100"/>
                  </a:lnTo>
                  <a:lnTo>
                    <a:pt x="2285" y="1106"/>
                  </a:lnTo>
                  <a:lnTo>
                    <a:pt x="2280" y="1108"/>
                  </a:lnTo>
                  <a:lnTo>
                    <a:pt x="2271" y="1114"/>
                  </a:lnTo>
                  <a:lnTo>
                    <a:pt x="2261" y="1122"/>
                  </a:lnTo>
                  <a:lnTo>
                    <a:pt x="2253" y="1129"/>
                  </a:lnTo>
                  <a:lnTo>
                    <a:pt x="2244" y="1137"/>
                  </a:lnTo>
                  <a:lnTo>
                    <a:pt x="2237" y="1146"/>
                  </a:lnTo>
                  <a:lnTo>
                    <a:pt x="2234" y="1154"/>
                  </a:lnTo>
                  <a:lnTo>
                    <a:pt x="2233" y="1163"/>
                  </a:lnTo>
                  <a:lnTo>
                    <a:pt x="2233" y="1172"/>
                  </a:lnTo>
                  <a:lnTo>
                    <a:pt x="2236" y="1182"/>
                  </a:lnTo>
                  <a:lnTo>
                    <a:pt x="2240" y="1192"/>
                  </a:lnTo>
                  <a:lnTo>
                    <a:pt x="2244" y="1203"/>
                  </a:lnTo>
                  <a:lnTo>
                    <a:pt x="2250" y="1213"/>
                  </a:lnTo>
                  <a:lnTo>
                    <a:pt x="2254" y="1223"/>
                  </a:lnTo>
                  <a:lnTo>
                    <a:pt x="2258" y="1232"/>
                  </a:lnTo>
                  <a:lnTo>
                    <a:pt x="2261" y="1240"/>
                  </a:lnTo>
                  <a:lnTo>
                    <a:pt x="2262" y="1248"/>
                  </a:lnTo>
                  <a:lnTo>
                    <a:pt x="2260" y="1254"/>
                  </a:lnTo>
                  <a:lnTo>
                    <a:pt x="2253" y="1257"/>
                  </a:lnTo>
                  <a:lnTo>
                    <a:pt x="2240" y="1256"/>
                  </a:lnTo>
                  <a:lnTo>
                    <a:pt x="2223" y="1253"/>
                  </a:lnTo>
                  <a:lnTo>
                    <a:pt x="2208" y="1250"/>
                  </a:lnTo>
                  <a:lnTo>
                    <a:pt x="2194" y="1249"/>
                  </a:lnTo>
                  <a:lnTo>
                    <a:pt x="2195" y="1256"/>
                  </a:lnTo>
                  <a:lnTo>
                    <a:pt x="2192" y="1265"/>
                  </a:lnTo>
                  <a:lnTo>
                    <a:pt x="2192" y="1272"/>
                  </a:lnTo>
                  <a:lnTo>
                    <a:pt x="2205" y="1276"/>
                  </a:lnTo>
                  <a:lnTo>
                    <a:pt x="2202" y="1283"/>
                  </a:lnTo>
                  <a:lnTo>
                    <a:pt x="2191" y="1288"/>
                  </a:lnTo>
                  <a:lnTo>
                    <a:pt x="2183" y="1293"/>
                  </a:lnTo>
                  <a:lnTo>
                    <a:pt x="2180" y="1302"/>
                  </a:lnTo>
                  <a:lnTo>
                    <a:pt x="2178" y="1312"/>
                  </a:lnTo>
                  <a:lnTo>
                    <a:pt x="2176" y="1321"/>
                  </a:lnTo>
                  <a:lnTo>
                    <a:pt x="2173" y="1330"/>
                  </a:lnTo>
                  <a:lnTo>
                    <a:pt x="2166" y="1337"/>
                  </a:lnTo>
                  <a:lnTo>
                    <a:pt x="2156" y="1343"/>
                  </a:lnTo>
                  <a:lnTo>
                    <a:pt x="2145" y="1347"/>
                  </a:lnTo>
                  <a:lnTo>
                    <a:pt x="2132" y="1349"/>
                  </a:lnTo>
                  <a:lnTo>
                    <a:pt x="2127" y="1357"/>
                  </a:lnTo>
                  <a:lnTo>
                    <a:pt x="2125" y="1366"/>
                  </a:lnTo>
                  <a:lnTo>
                    <a:pt x="2120" y="1374"/>
                  </a:lnTo>
                  <a:lnTo>
                    <a:pt x="2109" y="1379"/>
                  </a:lnTo>
                  <a:lnTo>
                    <a:pt x="2096" y="1377"/>
                  </a:lnTo>
                  <a:lnTo>
                    <a:pt x="2085" y="1372"/>
                  </a:lnTo>
                  <a:lnTo>
                    <a:pt x="2075" y="1367"/>
                  </a:lnTo>
                  <a:lnTo>
                    <a:pt x="2061" y="1368"/>
                  </a:lnTo>
                  <a:lnTo>
                    <a:pt x="2050" y="1372"/>
                  </a:lnTo>
                  <a:lnTo>
                    <a:pt x="2041" y="1379"/>
                  </a:lnTo>
                  <a:lnTo>
                    <a:pt x="2039" y="1388"/>
                  </a:lnTo>
                  <a:lnTo>
                    <a:pt x="2039" y="1397"/>
                  </a:lnTo>
                  <a:lnTo>
                    <a:pt x="2034" y="1406"/>
                  </a:lnTo>
                  <a:lnTo>
                    <a:pt x="2027" y="1413"/>
                  </a:lnTo>
                  <a:lnTo>
                    <a:pt x="2016" y="1418"/>
                  </a:lnTo>
                  <a:lnTo>
                    <a:pt x="2004" y="1416"/>
                  </a:lnTo>
                  <a:lnTo>
                    <a:pt x="1990" y="1403"/>
                  </a:lnTo>
                  <a:lnTo>
                    <a:pt x="1981" y="1396"/>
                  </a:lnTo>
                  <a:lnTo>
                    <a:pt x="1970" y="1391"/>
                  </a:lnTo>
                  <a:lnTo>
                    <a:pt x="1963" y="1383"/>
                  </a:lnTo>
                  <a:lnTo>
                    <a:pt x="1953" y="1378"/>
                  </a:lnTo>
                  <a:lnTo>
                    <a:pt x="1941" y="1374"/>
                  </a:lnTo>
                  <a:lnTo>
                    <a:pt x="1928" y="1371"/>
                  </a:lnTo>
                  <a:lnTo>
                    <a:pt x="1918" y="1365"/>
                  </a:lnTo>
                  <a:lnTo>
                    <a:pt x="1909" y="1360"/>
                  </a:lnTo>
                  <a:lnTo>
                    <a:pt x="1899" y="1354"/>
                  </a:lnTo>
                  <a:lnTo>
                    <a:pt x="1888" y="1349"/>
                  </a:lnTo>
                  <a:lnTo>
                    <a:pt x="1878" y="1343"/>
                  </a:lnTo>
                  <a:lnTo>
                    <a:pt x="1868" y="1337"/>
                  </a:lnTo>
                  <a:lnTo>
                    <a:pt x="1858" y="1331"/>
                  </a:lnTo>
                  <a:lnTo>
                    <a:pt x="1847" y="1326"/>
                  </a:lnTo>
                  <a:lnTo>
                    <a:pt x="1837" y="1320"/>
                  </a:lnTo>
                  <a:lnTo>
                    <a:pt x="1828" y="1314"/>
                  </a:lnTo>
                  <a:lnTo>
                    <a:pt x="1815" y="1311"/>
                  </a:lnTo>
                  <a:lnTo>
                    <a:pt x="1801" y="1310"/>
                  </a:lnTo>
                  <a:lnTo>
                    <a:pt x="1788" y="1309"/>
                  </a:lnTo>
                  <a:lnTo>
                    <a:pt x="1776" y="1306"/>
                  </a:lnTo>
                  <a:lnTo>
                    <a:pt x="1765" y="1301"/>
                  </a:lnTo>
                  <a:lnTo>
                    <a:pt x="1753" y="1296"/>
                  </a:lnTo>
                  <a:lnTo>
                    <a:pt x="1742" y="1292"/>
                  </a:lnTo>
                  <a:lnTo>
                    <a:pt x="1734" y="1295"/>
                  </a:lnTo>
                  <a:lnTo>
                    <a:pt x="1728" y="1300"/>
                  </a:lnTo>
                  <a:lnTo>
                    <a:pt x="1728" y="1306"/>
                  </a:lnTo>
                  <a:lnTo>
                    <a:pt x="1721" y="1312"/>
                  </a:lnTo>
                  <a:lnTo>
                    <a:pt x="1727" y="1319"/>
                  </a:lnTo>
                  <a:lnTo>
                    <a:pt x="1724" y="1327"/>
                  </a:lnTo>
                  <a:lnTo>
                    <a:pt x="1724" y="1335"/>
                  </a:lnTo>
                  <a:lnTo>
                    <a:pt x="1716" y="1342"/>
                  </a:lnTo>
                  <a:lnTo>
                    <a:pt x="1706" y="1349"/>
                  </a:lnTo>
                  <a:lnTo>
                    <a:pt x="1698" y="1356"/>
                  </a:lnTo>
                  <a:lnTo>
                    <a:pt x="1689" y="1363"/>
                  </a:lnTo>
                  <a:lnTo>
                    <a:pt x="1682" y="1371"/>
                  </a:lnTo>
                  <a:lnTo>
                    <a:pt x="1674" y="1378"/>
                  </a:lnTo>
                  <a:lnTo>
                    <a:pt x="1664" y="1385"/>
                  </a:lnTo>
                  <a:lnTo>
                    <a:pt x="1654" y="1390"/>
                  </a:lnTo>
                  <a:lnTo>
                    <a:pt x="1642" y="1392"/>
                  </a:lnTo>
                  <a:lnTo>
                    <a:pt x="1628" y="1392"/>
                  </a:lnTo>
                  <a:lnTo>
                    <a:pt x="1615" y="1391"/>
                  </a:lnTo>
                  <a:lnTo>
                    <a:pt x="1602" y="1388"/>
                  </a:lnTo>
                  <a:lnTo>
                    <a:pt x="1590" y="1386"/>
                  </a:lnTo>
                  <a:lnTo>
                    <a:pt x="1572" y="1380"/>
                  </a:lnTo>
                  <a:lnTo>
                    <a:pt x="1559" y="1376"/>
                  </a:lnTo>
                  <a:lnTo>
                    <a:pt x="1548" y="1372"/>
                  </a:lnTo>
                  <a:lnTo>
                    <a:pt x="1540" y="1365"/>
                  </a:lnTo>
                  <a:lnTo>
                    <a:pt x="1530" y="1364"/>
                  </a:lnTo>
                  <a:lnTo>
                    <a:pt x="1524" y="1372"/>
                  </a:lnTo>
                  <a:lnTo>
                    <a:pt x="1514" y="1369"/>
                  </a:lnTo>
                  <a:lnTo>
                    <a:pt x="1502" y="1363"/>
                  </a:lnTo>
                  <a:lnTo>
                    <a:pt x="1489" y="1362"/>
                  </a:lnTo>
                  <a:lnTo>
                    <a:pt x="1479" y="1370"/>
                  </a:lnTo>
                  <a:lnTo>
                    <a:pt x="1471" y="1371"/>
                  </a:lnTo>
                  <a:lnTo>
                    <a:pt x="1465" y="1362"/>
                  </a:lnTo>
                  <a:lnTo>
                    <a:pt x="1460" y="1351"/>
                  </a:lnTo>
                  <a:lnTo>
                    <a:pt x="1454" y="1341"/>
                  </a:lnTo>
                  <a:lnTo>
                    <a:pt x="1446" y="1337"/>
                  </a:lnTo>
                  <a:lnTo>
                    <a:pt x="1436" y="1339"/>
                  </a:lnTo>
                  <a:lnTo>
                    <a:pt x="1426" y="1343"/>
                  </a:lnTo>
                  <a:lnTo>
                    <a:pt x="1415" y="1349"/>
                  </a:lnTo>
                  <a:lnTo>
                    <a:pt x="1404" y="1355"/>
                  </a:lnTo>
                  <a:lnTo>
                    <a:pt x="1393" y="1363"/>
                  </a:lnTo>
                  <a:lnTo>
                    <a:pt x="1382" y="1369"/>
                  </a:lnTo>
                  <a:lnTo>
                    <a:pt x="1370" y="1375"/>
                  </a:lnTo>
                  <a:lnTo>
                    <a:pt x="1361" y="1379"/>
                  </a:lnTo>
                  <a:lnTo>
                    <a:pt x="1355" y="1370"/>
                  </a:lnTo>
                  <a:lnTo>
                    <a:pt x="1348" y="1367"/>
                  </a:lnTo>
                  <a:lnTo>
                    <a:pt x="1337" y="1374"/>
                  </a:lnTo>
                  <a:lnTo>
                    <a:pt x="1326" y="1376"/>
                  </a:lnTo>
                  <a:lnTo>
                    <a:pt x="1316" y="1383"/>
                  </a:lnTo>
                  <a:lnTo>
                    <a:pt x="1308" y="1390"/>
                  </a:lnTo>
                  <a:lnTo>
                    <a:pt x="1301" y="1398"/>
                  </a:lnTo>
                  <a:lnTo>
                    <a:pt x="1294" y="1406"/>
                  </a:lnTo>
                  <a:lnTo>
                    <a:pt x="1287" y="1414"/>
                  </a:lnTo>
                  <a:lnTo>
                    <a:pt x="1278" y="1416"/>
                  </a:lnTo>
                  <a:lnTo>
                    <a:pt x="1277" y="1425"/>
                  </a:lnTo>
                  <a:lnTo>
                    <a:pt x="1267" y="1428"/>
                  </a:lnTo>
                  <a:lnTo>
                    <a:pt x="1257" y="1434"/>
                  </a:lnTo>
                  <a:lnTo>
                    <a:pt x="1252" y="1445"/>
                  </a:lnTo>
                  <a:lnTo>
                    <a:pt x="1246" y="1452"/>
                  </a:lnTo>
                  <a:lnTo>
                    <a:pt x="1238" y="1447"/>
                  </a:lnTo>
                  <a:lnTo>
                    <a:pt x="1235" y="1438"/>
                  </a:lnTo>
                  <a:lnTo>
                    <a:pt x="1238" y="1428"/>
                  </a:lnTo>
                  <a:lnTo>
                    <a:pt x="1229" y="1423"/>
                  </a:lnTo>
                  <a:lnTo>
                    <a:pt x="1218" y="1428"/>
                  </a:lnTo>
                  <a:lnTo>
                    <a:pt x="1207" y="1434"/>
                  </a:lnTo>
                  <a:lnTo>
                    <a:pt x="1198" y="1432"/>
                  </a:lnTo>
                  <a:lnTo>
                    <a:pt x="1192" y="1424"/>
                  </a:lnTo>
                  <a:lnTo>
                    <a:pt x="1179" y="1420"/>
                  </a:lnTo>
                  <a:lnTo>
                    <a:pt x="1166" y="1417"/>
                  </a:lnTo>
                  <a:lnTo>
                    <a:pt x="1155" y="1413"/>
                  </a:lnTo>
                  <a:lnTo>
                    <a:pt x="1151" y="1404"/>
                  </a:lnTo>
                  <a:lnTo>
                    <a:pt x="1150" y="1394"/>
                  </a:lnTo>
                  <a:lnTo>
                    <a:pt x="1141" y="1388"/>
                  </a:lnTo>
                  <a:lnTo>
                    <a:pt x="1131" y="1381"/>
                  </a:lnTo>
                  <a:lnTo>
                    <a:pt x="1120" y="1375"/>
                  </a:lnTo>
                  <a:lnTo>
                    <a:pt x="1110" y="1369"/>
                  </a:lnTo>
                  <a:lnTo>
                    <a:pt x="1101" y="1363"/>
                  </a:lnTo>
                  <a:lnTo>
                    <a:pt x="1091" y="1366"/>
                  </a:lnTo>
                  <a:lnTo>
                    <a:pt x="1081" y="1372"/>
                  </a:lnTo>
                  <a:lnTo>
                    <a:pt x="1070" y="1377"/>
                  </a:lnTo>
                  <a:lnTo>
                    <a:pt x="1059" y="1382"/>
                  </a:lnTo>
                  <a:lnTo>
                    <a:pt x="1048" y="1386"/>
                  </a:lnTo>
                  <a:lnTo>
                    <a:pt x="1036" y="1391"/>
                  </a:lnTo>
                  <a:lnTo>
                    <a:pt x="1024" y="1394"/>
                  </a:lnTo>
                  <a:lnTo>
                    <a:pt x="1011" y="1396"/>
                  </a:lnTo>
                  <a:lnTo>
                    <a:pt x="1006" y="1389"/>
                  </a:lnTo>
                  <a:lnTo>
                    <a:pt x="997" y="1385"/>
                  </a:lnTo>
                  <a:lnTo>
                    <a:pt x="986" y="1379"/>
                  </a:lnTo>
                  <a:lnTo>
                    <a:pt x="976" y="1376"/>
                  </a:lnTo>
                  <a:lnTo>
                    <a:pt x="966" y="1371"/>
                  </a:lnTo>
                  <a:lnTo>
                    <a:pt x="955" y="1365"/>
                  </a:lnTo>
                  <a:lnTo>
                    <a:pt x="945" y="1359"/>
                  </a:lnTo>
                  <a:lnTo>
                    <a:pt x="938" y="1351"/>
                  </a:lnTo>
                  <a:lnTo>
                    <a:pt x="937" y="1342"/>
                  </a:lnTo>
                  <a:lnTo>
                    <a:pt x="943" y="1334"/>
                  </a:lnTo>
                  <a:lnTo>
                    <a:pt x="933" y="1328"/>
                  </a:lnTo>
                  <a:lnTo>
                    <a:pt x="920" y="1330"/>
                  </a:lnTo>
                  <a:lnTo>
                    <a:pt x="912" y="1337"/>
                  </a:lnTo>
                  <a:lnTo>
                    <a:pt x="904" y="1344"/>
                  </a:lnTo>
                  <a:lnTo>
                    <a:pt x="897" y="1352"/>
                  </a:lnTo>
                  <a:lnTo>
                    <a:pt x="890" y="1360"/>
                  </a:lnTo>
                  <a:lnTo>
                    <a:pt x="883" y="1368"/>
                  </a:lnTo>
                  <a:lnTo>
                    <a:pt x="876" y="1376"/>
                  </a:lnTo>
                  <a:lnTo>
                    <a:pt x="869" y="1385"/>
                  </a:lnTo>
                  <a:lnTo>
                    <a:pt x="863" y="1393"/>
                  </a:lnTo>
                  <a:lnTo>
                    <a:pt x="856" y="1395"/>
                  </a:lnTo>
                  <a:lnTo>
                    <a:pt x="846" y="1389"/>
                  </a:lnTo>
                  <a:lnTo>
                    <a:pt x="835" y="1391"/>
                  </a:lnTo>
                  <a:lnTo>
                    <a:pt x="822" y="1395"/>
                  </a:lnTo>
                  <a:lnTo>
                    <a:pt x="810" y="1397"/>
                  </a:lnTo>
                  <a:lnTo>
                    <a:pt x="799" y="1393"/>
                  </a:lnTo>
                  <a:lnTo>
                    <a:pt x="792" y="1385"/>
                  </a:lnTo>
                  <a:lnTo>
                    <a:pt x="788" y="1376"/>
                  </a:lnTo>
                  <a:lnTo>
                    <a:pt x="785" y="1367"/>
                  </a:lnTo>
                  <a:lnTo>
                    <a:pt x="783" y="1358"/>
                  </a:lnTo>
                  <a:lnTo>
                    <a:pt x="779" y="1348"/>
                  </a:lnTo>
                  <a:lnTo>
                    <a:pt x="776" y="1340"/>
                  </a:lnTo>
                  <a:lnTo>
                    <a:pt x="768" y="1333"/>
                  </a:lnTo>
                  <a:lnTo>
                    <a:pt x="754" y="1332"/>
                  </a:lnTo>
                  <a:lnTo>
                    <a:pt x="741" y="1331"/>
                  </a:lnTo>
                  <a:lnTo>
                    <a:pt x="727" y="1331"/>
                  </a:lnTo>
                  <a:lnTo>
                    <a:pt x="715" y="1330"/>
                  </a:lnTo>
                  <a:lnTo>
                    <a:pt x="702" y="1330"/>
                  </a:lnTo>
                  <a:lnTo>
                    <a:pt x="688" y="1330"/>
                  </a:lnTo>
                  <a:lnTo>
                    <a:pt x="676" y="1329"/>
                  </a:lnTo>
                  <a:lnTo>
                    <a:pt x="662" y="1329"/>
                  </a:lnTo>
                  <a:lnTo>
                    <a:pt x="649" y="1329"/>
                  </a:lnTo>
                  <a:lnTo>
                    <a:pt x="635" y="1330"/>
                  </a:lnTo>
                  <a:lnTo>
                    <a:pt x="623" y="1330"/>
                  </a:lnTo>
                  <a:lnTo>
                    <a:pt x="610" y="1331"/>
                  </a:lnTo>
                  <a:lnTo>
                    <a:pt x="597" y="1332"/>
                  </a:lnTo>
                  <a:lnTo>
                    <a:pt x="588" y="1337"/>
                  </a:lnTo>
                  <a:lnTo>
                    <a:pt x="579" y="1345"/>
                  </a:lnTo>
                  <a:lnTo>
                    <a:pt x="571" y="1353"/>
                  </a:lnTo>
                  <a:lnTo>
                    <a:pt x="560" y="1358"/>
                  </a:lnTo>
                  <a:lnTo>
                    <a:pt x="547" y="1360"/>
                  </a:lnTo>
                  <a:lnTo>
                    <a:pt x="534" y="1364"/>
                  </a:lnTo>
                  <a:lnTo>
                    <a:pt x="523" y="1367"/>
                  </a:lnTo>
                  <a:lnTo>
                    <a:pt x="511" y="1371"/>
                  </a:lnTo>
                  <a:lnTo>
                    <a:pt x="500" y="1376"/>
                  </a:lnTo>
                  <a:lnTo>
                    <a:pt x="488" y="1381"/>
                  </a:lnTo>
                  <a:lnTo>
                    <a:pt x="476" y="1384"/>
                  </a:lnTo>
                  <a:lnTo>
                    <a:pt x="463" y="1386"/>
                  </a:lnTo>
                  <a:lnTo>
                    <a:pt x="451" y="1387"/>
                  </a:lnTo>
                  <a:lnTo>
                    <a:pt x="438" y="1388"/>
                  </a:lnTo>
                  <a:lnTo>
                    <a:pt x="430" y="1394"/>
                  </a:lnTo>
                  <a:lnTo>
                    <a:pt x="423" y="1403"/>
                  </a:lnTo>
                  <a:lnTo>
                    <a:pt x="413" y="1409"/>
                  </a:lnTo>
                  <a:lnTo>
                    <a:pt x="403" y="1415"/>
                  </a:lnTo>
                  <a:lnTo>
                    <a:pt x="392" y="1422"/>
                  </a:lnTo>
                  <a:lnTo>
                    <a:pt x="382" y="1428"/>
                  </a:lnTo>
                  <a:lnTo>
                    <a:pt x="372" y="1433"/>
                  </a:lnTo>
                  <a:lnTo>
                    <a:pt x="361" y="1435"/>
                  </a:lnTo>
                  <a:lnTo>
                    <a:pt x="351" y="1428"/>
                  </a:lnTo>
                  <a:lnTo>
                    <a:pt x="339" y="1425"/>
                  </a:lnTo>
                  <a:lnTo>
                    <a:pt x="328" y="1420"/>
                  </a:lnTo>
                  <a:lnTo>
                    <a:pt x="321" y="1412"/>
                  </a:lnTo>
                  <a:lnTo>
                    <a:pt x="308" y="1411"/>
                  </a:lnTo>
                  <a:lnTo>
                    <a:pt x="297" y="1406"/>
                  </a:lnTo>
                  <a:lnTo>
                    <a:pt x="287" y="1400"/>
                  </a:lnTo>
                  <a:lnTo>
                    <a:pt x="274" y="1402"/>
                  </a:lnTo>
                  <a:lnTo>
                    <a:pt x="262" y="1400"/>
                  </a:lnTo>
                  <a:lnTo>
                    <a:pt x="249" y="1396"/>
                  </a:lnTo>
                  <a:lnTo>
                    <a:pt x="240" y="1391"/>
                  </a:lnTo>
                  <a:lnTo>
                    <a:pt x="231" y="1384"/>
                  </a:lnTo>
                  <a:lnTo>
                    <a:pt x="223" y="1376"/>
                  </a:lnTo>
                  <a:lnTo>
                    <a:pt x="216" y="1369"/>
                  </a:lnTo>
                  <a:lnTo>
                    <a:pt x="210" y="1360"/>
                  </a:lnTo>
                  <a:lnTo>
                    <a:pt x="202" y="1354"/>
                  </a:lnTo>
                  <a:lnTo>
                    <a:pt x="189" y="1350"/>
                  </a:lnTo>
                  <a:lnTo>
                    <a:pt x="178" y="1352"/>
                  </a:lnTo>
                  <a:lnTo>
                    <a:pt x="165" y="1349"/>
                  </a:lnTo>
                  <a:lnTo>
                    <a:pt x="160" y="1341"/>
                  </a:lnTo>
                  <a:lnTo>
                    <a:pt x="154" y="1333"/>
                  </a:lnTo>
                  <a:lnTo>
                    <a:pt x="143" y="1327"/>
                  </a:lnTo>
                  <a:lnTo>
                    <a:pt x="133" y="1321"/>
                  </a:lnTo>
                  <a:lnTo>
                    <a:pt x="125" y="1314"/>
                  </a:lnTo>
                  <a:lnTo>
                    <a:pt x="111" y="1299"/>
                  </a:lnTo>
                  <a:lnTo>
                    <a:pt x="111" y="1290"/>
                  </a:lnTo>
                  <a:lnTo>
                    <a:pt x="107" y="1281"/>
                  </a:lnTo>
                  <a:lnTo>
                    <a:pt x="103" y="1272"/>
                  </a:lnTo>
                  <a:lnTo>
                    <a:pt x="103" y="1263"/>
                  </a:lnTo>
                  <a:lnTo>
                    <a:pt x="96" y="1255"/>
                  </a:lnTo>
                  <a:lnTo>
                    <a:pt x="89" y="1247"/>
                  </a:lnTo>
                  <a:lnTo>
                    <a:pt x="82" y="1239"/>
                  </a:lnTo>
                  <a:lnTo>
                    <a:pt x="75" y="1232"/>
                  </a:lnTo>
                  <a:lnTo>
                    <a:pt x="68" y="1224"/>
                  </a:lnTo>
                  <a:lnTo>
                    <a:pt x="61" y="1216"/>
                  </a:lnTo>
                  <a:lnTo>
                    <a:pt x="54" y="1208"/>
                  </a:lnTo>
                  <a:lnTo>
                    <a:pt x="47" y="1200"/>
                  </a:lnTo>
                  <a:lnTo>
                    <a:pt x="38" y="1193"/>
                  </a:lnTo>
                  <a:lnTo>
                    <a:pt x="31" y="1185"/>
                  </a:lnTo>
                  <a:lnTo>
                    <a:pt x="23" y="1178"/>
                  </a:lnTo>
                  <a:lnTo>
                    <a:pt x="16" y="1170"/>
                  </a:lnTo>
                  <a:lnTo>
                    <a:pt x="6" y="1162"/>
                  </a:lnTo>
                  <a:lnTo>
                    <a:pt x="0" y="1155"/>
                  </a:lnTo>
                  <a:lnTo>
                    <a:pt x="7" y="1147"/>
                  </a:lnTo>
                  <a:lnTo>
                    <a:pt x="12" y="1139"/>
                  </a:lnTo>
                  <a:lnTo>
                    <a:pt x="19" y="1131"/>
                  </a:lnTo>
                  <a:lnTo>
                    <a:pt x="27" y="1124"/>
                  </a:lnTo>
                  <a:lnTo>
                    <a:pt x="38" y="1119"/>
                  </a:lnTo>
                  <a:lnTo>
                    <a:pt x="47" y="1112"/>
                  </a:lnTo>
                  <a:lnTo>
                    <a:pt x="55" y="1105"/>
                  </a:lnTo>
                  <a:lnTo>
                    <a:pt x="63" y="1097"/>
                  </a:lnTo>
                  <a:lnTo>
                    <a:pt x="72" y="1090"/>
                  </a:lnTo>
                  <a:lnTo>
                    <a:pt x="80" y="1083"/>
                  </a:lnTo>
                  <a:lnTo>
                    <a:pt x="87" y="1075"/>
                  </a:lnTo>
                  <a:lnTo>
                    <a:pt x="97" y="1068"/>
                  </a:lnTo>
                  <a:lnTo>
                    <a:pt x="94" y="1061"/>
                  </a:lnTo>
                  <a:lnTo>
                    <a:pt x="87" y="1052"/>
                  </a:lnTo>
                  <a:lnTo>
                    <a:pt x="82" y="1044"/>
                  </a:lnTo>
                  <a:lnTo>
                    <a:pt x="75" y="1036"/>
                  </a:lnTo>
                  <a:lnTo>
                    <a:pt x="68" y="1028"/>
                  </a:lnTo>
                  <a:lnTo>
                    <a:pt x="59" y="1022"/>
                  </a:lnTo>
                  <a:lnTo>
                    <a:pt x="49" y="1015"/>
                  </a:lnTo>
                  <a:lnTo>
                    <a:pt x="42" y="1007"/>
                  </a:lnTo>
                  <a:lnTo>
                    <a:pt x="40" y="998"/>
                  </a:lnTo>
                  <a:lnTo>
                    <a:pt x="37" y="989"/>
                  </a:lnTo>
                  <a:lnTo>
                    <a:pt x="30" y="982"/>
                  </a:lnTo>
                  <a:lnTo>
                    <a:pt x="41" y="976"/>
                  </a:lnTo>
                  <a:lnTo>
                    <a:pt x="54" y="973"/>
                  </a:lnTo>
                  <a:lnTo>
                    <a:pt x="65" y="970"/>
                  </a:lnTo>
                  <a:lnTo>
                    <a:pt x="77" y="966"/>
                  </a:lnTo>
                  <a:lnTo>
                    <a:pt x="90" y="963"/>
                  </a:lnTo>
                  <a:lnTo>
                    <a:pt x="101" y="959"/>
                  </a:lnTo>
                  <a:lnTo>
                    <a:pt x="114" y="956"/>
                  </a:lnTo>
                  <a:lnTo>
                    <a:pt x="126" y="954"/>
                  </a:lnTo>
                  <a:lnTo>
                    <a:pt x="140" y="951"/>
                  </a:lnTo>
                  <a:lnTo>
                    <a:pt x="153" y="949"/>
                  </a:lnTo>
                  <a:lnTo>
                    <a:pt x="165" y="949"/>
                  </a:lnTo>
                  <a:lnTo>
                    <a:pt x="175" y="953"/>
                  </a:lnTo>
                  <a:lnTo>
                    <a:pt x="186" y="960"/>
                  </a:lnTo>
                  <a:lnTo>
                    <a:pt x="195" y="967"/>
                  </a:lnTo>
                  <a:lnTo>
                    <a:pt x="205" y="973"/>
                  </a:lnTo>
                  <a:lnTo>
                    <a:pt x="216" y="968"/>
                  </a:lnTo>
                  <a:lnTo>
                    <a:pt x="227" y="963"/>
                  </a:lnTo>
                  <a:lnTo>
                    <a:pt x="238" y="958"/>
                  </a:lnTo>
                  <a:lnTo>
                    <a:pt x="249" y="954"/>
                  </a:lnTo>
                  <a:lnTo>
                    <a:pt x="260" y="949"/>
                  </a:lnTo>
                  <a:lnTo>
                    <a:pt x="272" y="944"/>
                  </a:lnTo>
                  <a:lnTo>
                    <a:pt x="281" y="938"/>
                  </a:lnTo>
                  <a:lnTo>
                    <a:pt x="293" y="933"/>
                  </a:lnTo>
                  <a:lnTo>
                    <a:pt x="304" y="928"/>
                  </a:lnTo>
                  <a:lnTo>
                    <a:pt x="314" y="922"/>
                  </a:lnTo>
                  <a:lnTo>
                    <a:pt x="323" y="916"/>
                  </a:lnTo>
                  <a:lnTo>
                    <a:pt x="333" y="910"/>
                  </a:lnTo>
                  <a:lnTo>
                    <a:pt x="343" y="904"/>
                  </a:lnTo>
                  <a:lnTo>
                    <a:pt x="353" y="897"/>
                  </a:lnTo>
                  <a:lnTo>
                    <a:pt x="363" y="894"/>
                  </a:lnTo>
                  <a:lnTo>
                    <a:pt x="374" y="897"/>
                  </a:lnTo>
                  <a:lnTo>
                    <a:pt x="385" y="901"/>
                  </a:lnTo>
                  <a:lnTo>
                    <a:pt x="397" y="906"/>
                  </a:lnTo>
                  <a:lnTo>
                    <a:pt x="409" y="911"/>
                  </a:lnTo>
                  <a:lnTo>
                    <a:pt x="420" y="916"/>
                  </a:lnTo>
                  <a:lnTo>
                    <a:pt x="432" y="921"/>
                  </a:lnTo>
                  <a:lnTo>
                    <a:pt x="442" y="920"/>
                  </a:lnTo>
                  <a:lnTo>
                    <a:pt x="455" y="917"/>
                  </a:lnTo>
                  <a:lnTo>
                    <a:pt x="466" y="912"/>
                  </a:lnTo>
                  <a:lnTo>
                    <a:pt x="474" y="905"/>
                  </a:lnTo>
                  <a:lnTo>
                    <a:pt x="479" y="896"/>
                  </a:lnTo>
                  <a:lnTo>
                    <a:pt x="481" y="887"/>
                  </a:lnTo>
                  <a:lnTo>
                    <a:pt x="484" y="878"/>
                  </a:lnTo>
                  <a:lnTo>
                    <a:pt x="488" y="869"/>
                  </a:lnTo>
                  <a:lnTo>
                    <a:pt x="493" y="860"/>
                  </a:lnTo>
                  <a:lnTo>
                    <a:pt x="502" y="853"/>
                  </a:lnTo>
                  <a:lnTo>
                    <a:pt x="509" y="846"/>
                  </a:lnTo>
                  <a:lnTo>
                    <a:pt x="511" y="836"/>
                  </a:lnTo>
                  <a:lnTo>
                    <a:pt x="514" y="827"/>
                  </a:lnTo>
                  <a:lnTo>
                    <a:pt x="515" y="818"/>
                  </a:lnTo>
                  <a:lnTo>
                    <a:pt x="514" y="809"/>
                  </a:lnTo>
                  <a:lnTo>
                    <a:pt x="508" y="801"/>
                  </a:lnTo>
                  <a:lnTo>
                    <a:pt x="500" y="793"/>
                  </a:lnTo>
                  <a:lnTo>
                    <a:pt x="490" y="786"/>
                  </a:lnTo>
                  <a:lnTo>
                    <a:pt x="483" y="778"/>
                  </a:lnTo>
                  <a:lnTo>
                    <a:pt x="486" y="771"/>
                  </a:lnTo>
                  <a:lnTo>
                    <a:pt x="495" y="764"/>
                  </a:lnTo>
                  <a:lnTo>
                    <a:pt x="505" y="757"/>
                  </a:lnTo>
                  <a:lnTo>
                    <a:pt x="514" y="749"/>
                  </a:lnTo>
                  <a:lnTo>
                    <a:pt x="519" y="741"/>
                  </a:lnTo>
                  <a:lnTo>
                    <a:pt x="522" y="732"/>
                  </a:lnTo>
                  <a:lnTo>
                    <a:pt x="521" y="722"/>
                  </a:lnTo>
                  <a:lnTo>
                    <a:pt x="518" y="713"/>
                  </a:lnTo>
                  <a:lnTo>
                    <a:pt x="512" y="705"/>
                  </a:lnTo>
                  <a:lnTo>
                    <a:pt x="507" y="697"/>
                  </a:lnTo>
                  <a:lnTo>
                    <a:pt x="498" y="689"/>
                  </a:lnTo>
                  <a:lnTo>
                    <a:pt x="488" y="683"/>
                  </a:lnTo>
                  <a:lnTo>
                    <a:pt x="470" y="675"/>
                  </a:lnTo>
                  <a:lnTo>
                    <a:pt x="453" y="662"/>
                  </a:lnTo>
                  <a:lnTo>
                    <a:pt x="445" y="654"/>
                  </a:lnTo>
                  <a:lnTo>
                    <a:pt x="435" y="648"/>
                  </a:lnTo>
                  <a:lnTo>
                    <a:pt x="425" y="642"/>
                  </a:lnTo>
                  <a:lnTo>
                    <a:pt x="414" y="639"/>
                  </a:lnTo>
                  <a:lnTo>
                    <a:pt x="402" y="639"/>
                  </a:lnTo>
                  <a:lnTo>
                    <a:pt x="389" y="640"/>
                  </a:lnTo>
                  <a:lnTo>
                    <a:pt x="375" y="643"/>
                  </a:lnTo>
                  <a:lnTo>
                    <a:pt x="363" y="646"/>
                  </a:lnTo>
                  <a:lnTo>
                    <a:pt x="349" y="648"/>
                  </a:lnTo>
                  <a:lnTo>
                    <a:pt x="337" y="648"/>
                  </a:lnTo>
                  <a:lnTo>
                    <a:pt x="328" y="642"/>
                  </a:lnTo>
                  <a:lnTo>
                    <a:pt x="319" y="634"/>
                  </a:lnTo>
                  <a:lnTo>
                    <a:pt x="311" y="626"/>
                  </a:lnTo>
                  <a:lnTo>
                    <a:pt x="300" y="619"/>
                  </a:lnTo>
                  <a:lnTo>
                    <a:pt x="288" y="611"/>
                  </a:lnTo>
                  <a:lnTo>
                    <a:pt x="281" y="604"/>
                  </a:lnTo>
                  <a:lnTo>
                    <a:pt x="277" y="597"/>
                  </a:lnTo>
                  <a:lnTo>
                    <a:pt x="280" y="591"/>
                  </a:lnTo>
                  <a:lnTo>
                    <a:pt x="288" y="585"/>
                  </a:lnTo>
                  <a:lnTo>
                    <a:pt x="301" y="579"/>
                  </a:lnTo>
                  <a:lnTo>
                    <a:pt x="315" y="574"/>
                  </a:lnTo>
                  <a:lnTo>
                    <a:pt x="328" y="569"/>
                  </a:lnTo>
                  <a:lnTo>
                    <a:pt x="339" y="564"/>
                  </a:lnTo>
                  <a:lnTo>
                    <a:pt x="350" y="559"/>
                  </a:lnTo>
                  <a:lnTo>
                    <a:pt x="361" y="555"/>
                  </a:lnTo>
                  <a:lnTo>
                    <a:pt x="372" y="550"/>
                  </a:lnTo>
                  <a:lnTo>
                    <a:pt x="384" y="545"/>
                  </a:lnTo>
                  <a:lnTo>
                    <a:pt x="395" y="540"/>
                  </a:lnTo>
                  <a:lnTo>
                    <a:pt x="406" y="535"/>
                  </a:lnTo>
                  <a:lnTo>
                    <a:pt x="417" y="531"/>
                  </a:lnTo>
                  <a:lnTo>
                    <a:pt x="428" y="526"/>
                  </a:lnTo>
                  <a:lnTo>
                    <a:pt x="439" y="519"/>
                  </a:lnTo>
                  <a:lnTo>
                    <a:pt x="451" y="513"/>
                  </a:lnTo>
                  <a:lnTo>
                    <a:pt x="462" y="507"/>
                  </a:lnTo>
                  <a:lnTo>
                    <a:pt x="473" y="501"/>
                  </a:lnTo>
                  <a:lnTo>
                    <a:pt x="484" y="497"/>
                  </a:lnTo>
                  <a:lnTo>
                    <a:pt x="495" y="495"/>
                  </a:lnTo>
                  <a:lnTo>
                    <a:pt x="505" y="497"/>
                  </a:lnTo>
                  <a:lnTo>
                    <a:pt x="516" y="502"/>
                  </a:lnTo>
                  <a:lnTo>
                    <a:pt x="526" y="510"/>
                  </a:lnTo>
                  <a:lnTo>
                    <a:pt x="536" y="517"/>
                  </a:lnTo>
                  <a:lnTo>
                    <a:pt x="546" y="525"/>
                  </a:lnTo>
                  <a:lnTo>
                    <a:pt x="557" y="532"/>
                  </a:lnTo>
                  <a:lnTo>
                    <a:pt x="567" y="539"/>
                  </a:lnTo>
                  <a:lnTo>
                    <a:pt x="578" y="547"/>
                  </a:lnTo>
                  <a:lnTo>
                    <a:pt x="588" y="553"/>
                  </a:lnTo>
                  <a:lnTo>
                    <a:pt x="597" y="557"/>
                  </a:lnTo>
                  <a:lnTo>
                    <a:pt x="607" y="557"/>
                  </a:lnTo>
                  <a:lnTo>
                    <a:pt x="616" y="552"/>
                  </a:lnTo>
                  <a:lnTo>
                    <a:pt x="623" y="544"/>
                  </a:lnTo>
                  <a:lnTo>
                    <a:pt x="630" y="534"/>
                  </a:lnTo>
                  <a:lnTo>
                    <a:pt x="637" y="525"/>
                  </a:lnTo>
                  <a:lnTo>
                    <a:pt x="644" y="516"/>
                  </a:lnTo>
                  <a:lnTo>
                    <a:pt x="652" y="509"/>
                  </a:lnTo>
                  <a:lnTo>
                    <a:pt x="662" y="502"/>
                  </a:lnTo>
                  <a:lnTo>
                    <a:pt x="671" y="495"/>
                  </a:lnTo>
                  <a:lnTo>
                    <a:pt x="681" y="488"/>
                  </a:lnTo>
                  <a:lnTo>
                    <a:pt x="690" y="481"/>
                  </a:lnTo>
                  <a:lnTo>
                    <a:pt x="697" y="474"/>
                  </a:lnTo>
                  <a:lnTo>
                    <a:pt x="702" y="466"/>
                  </a:lnTo>
                  <a:lnTo>
                    <a:pt x="701" y="458"/>
                  </a:lnTo>
                  <a:lnTo>
                    <a:pt x="695" y="448"/>
                  </a:lnTo>
                  <a:lnTo>
                    <a:pt x="694" y="439"/>
                  </a:lnTo>
                  <a:lnTo>
                    <a:pt x="699" y="430"/>
                  </a:lnTo>
                  <a:lnTo>
                    <a:pt x="698" y="421"/>
                  </a:lnTo>
                  <a:lnTo>
                    <a:pt x="697" y="411"/>
                  </a:lnTo>
                  <a:lnTo>
                    <a:pt x="695" y="402"/>
                  </a:lnTo>
                  <a:lnTo>
                    <a:pt x="692" y="393"/>
                  </a:lnTo>
                  <a:lnTo>
                    <a:pt x="690" y="384"/>
                  </a:lnTo>
                  <a:lnTo>
                    <a:pt x="678" y="378"/>
                  </a:lnTo>
                  <a:lnTo>
                    <a:pt x="674" y="370"/>
                  </a:lnTo>
                  <a:lnTo>
                    <a:pt x="676" y="361"/>
                  </a:lnTo>
                  <a:lnTo>
                    <a:pt x="678" y="351"/>
                  </a:lnTo>
                  <a:lnTo>
                    <a:pt x="681" y="342"/>
                  </a:lnTo>
                  <a:lnTo>
                    <a:pt x="687" y="334"/>
                  </a:lnTo>
                  <a:lnTo>
                    <a:pt x="692" y="326"/>
                  </a:lnTo>
                  <a:lnTo>
                    <a:pt x="699" y="318"/>
                  </a:lnTo>
                  <a:lnTo>
                    <a:pt x="708" y="310"/>
                  </a:lnTo>
                  <a:lnTo>
                    <a:pt x="715" y="302"/>
                  </a:lnTo>
                  <a:lnTo>
                    <a:pt x="722" y="294"/>
                  </a:lnTo>
                  <a:lnTo>
                    <a:pt x="727" y="286"/>
                  </a:lnTo>
                  <a:lnTo>
                    <a:pt x="732" y="277"/>
                  </a:lnTo>
                  <a:lnTo>
                    <a:pt x="733" y="268"/>
                  </a:lnTo>
                  <a:lnTo>
                    <a:pt x="733" y="258"/>
                  </a:lnTo>
                  <a:lnTo>
                    <a:pt x="732" y="249"/>
                  </a:lnTo>
                  <a:lnTo>
                    <a:pt x="727" y="240"/>
                  </a:lnTo>
                  <a:lnTo>
                    <a:pt x="719" y="233"/>
                  </a:lnTo>
                  <a:lnTo>
                    <a:pt x="709" y="227"/>
                  </a:lnTo>
                  <a:lnTo>
                    <a:pt x="699" y="221"/>
                  </a:lnTo>
                  <a:lnTo>
                    <a:pt x="688" y="215"/>
                  </a:lnTo>
                  <a:lnTo>
                    <a:pt x="678" y="210"/>
                  </a:lnTo>
                  <a:lnTo>
                    <a:pt x="667" y="203"/>
                  </a:lnTo>
                  <a:lnTo>
                    <a:pt x="655" y="197"/>
                  </a:lnTo>
                  <a:lnTo>
                    <a:pt x="648" y="191"/>
                  </a:lnTo>
                  <a:lnTo>
                    <a:pt x="648" y="183"/>
                  </a:lnTo>
                  <a:lnTo>
                    <a:pt x="656" y="176"/>
                  </a:lnTo>
                  <a:lnTo>
                    <a:pt x="666" y="168"/>
                  </a:lnTo>
                  <a:lnTo>
                    <a:pt x="674" y="161"/>
                  </a:lnTo>
                  <a:lnTo>
                    <a:pt x="684" y="154"/>
                  </a:lnTo>
                  <a:lnTo>
                    <a:pt x="692" y="147"/>
                  </a:lnTo>
                  <a:lnTo>
                    <a:pt x="702" y="140"/>
                  </a:lnTo>
                  <a:lnTo>
                    <a:pt x="711" y="133"/>
                  </a:lnTo>
                  <a:lnTo>
                    <a:pt x="718" y="125"/>
                  </a:lnTo>
                  <a:lnTo>
                    <a:pt x="725" y="118"/>
                  </a:lnTo>
                  <a:lnTo>
                    <a:pt x="732" y="109"/>
                  </a:lnTo>
                  <a:lnTo>
                    <a:pt x="737" y="101"/>
                  </a:lnTo>
                  <a:lnTo>
                    <a:pt x="744" y="93"/>
                  </a:lnTo>
                  <a:lnTo>
                    <a:pt x="757" y="77"/>
                  </a:lnTo>
                  <a:lnTo>
                    <a:pt x="765" y="70"/>
                  </a:lnTo>
                  <a:lnTo>
                    <a:pt x="775" y="63"/>
                  </a:lnTo>
                  <a:lnTo>
                    <a:pt x="783" y="56"/>
                  </a:lnTo>
                  <a:lnTo>
                    <a:pt x="793" y="49"/>
                  </a:lnTo>
                  <a:lnTo>
                    <a:pt x="801" y="42"/>
                  </a:lnTo>
                  <a:lnTo>
                    <a:pt x="810" y="35"/>
                  </a:lnTo>
                  <a:lnTo>
                    <a:pt x="828" y="22"/>
                  </a:lnTo>
                  <a:close/>
                </a:path>
              </a:pathLst>
            </a:custGeom>
            <a:solidFill>
              <a:srgbClr val="ffff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79760" y="2943360"/>
              <a:ext cx="974520" cy="1466640"/>
            </a:xfrm>
            <a:custGeom>
              <a:avLst/>
              <a:gdLst/>
              <a:ahLst/>
              <a:rect l="l" t="t" r="r" b="b"/>
              <a:pathLst>
                <a:path w="1841" h="1848">
                  <a:moveTo>
                    <a:pt x="4" y="497"/>
                  </a:moveTo>
                  <a:lnTo>
                    <a:pt x="0" y="488"/>
                  </a:lnTo>
                  <a:lnTo>
                    <a:pt x="7" y="481"/>
                  </a:lnTo>
                  <a:lnTo>
                    <a:pt x="17" y="474"/>
                  </a:lnTo>
                  <a:lnTo>
                    <a:pt x="27" y="468"/>
                  </a:lnTo>
                  <a:lnTo>
                    <a:pt x="38" y="463"/>
                  </a:lnTo>
                  <a:lnTo>
                    <a:pt x="49" y="459"/>
                  </a:lnTo>
                  <a:lnTo>
                    <a:pt x="69" y="455"/>
                  </a:lnTo>
                  <a:lnTo>
                    <a:pt x="84" y="455"/>
                  </a:lnTo>
                  <a:lnTo>
                    <a:pt x="96" y="453"/>
                  </a:lnTo>
                  <a:lnTo>
                    <a:pt x="101" y="441"/>
                  </a:lnTo>
                  <a:lnTo>
                    <a:pt x="92" y="433"/>
                  </a:lnTo>
                  <a:lnTo>
                    <a:pt x="88" y="424"/>
                  </a:lnTo>
                  <a:lnTo>
                    <a:pt x="92" y="415"/>
                  </a:lnTo>
                  <a:lnTo>
                    <a:pt x="101" y="407"/>
                  </a:lnTo>
                  <a:lnTo>
                    <a:pt x="102" y="398"/>
                  </a:lnTo>
                  <a:lnTo>
                    <a:pt x="106" y="390"/>
                  </a:lnTo>
                  <a:lnTo>
                    <a:pt x="115" y="382"/>
                  </a:lnTo>
                  <a:lnTo>
                    <a:pt x="126" y="377"/>
                  </a:lnTo>
                  <a:lnTo>
                    <a:pt x="136" y="372"/>
                  </a:lnTo>
                  <a:lnTo>
                    <a:pt x="145" y="365"/>
                  </a:lnTo>
                  <a:lnTo>
                    <a:pt x="151" y="357"/>
                  </a:lnTo>
                  <a:lnTo>
                    <a:pt x="152" y="347"/>
                  </a:lnTo>
                  <a:lnTo>
                    <a:pt x="151" y="338"/>
                  </a:lnTo>
                  <a:lnTo>
                    <a:pt x="147" y="329"/>
                  </a:lnTo>
                  <a:lnTo>
                    <a:pt x="140" y="321"/>
                  </a:lnTo>
                  <a:lnTo>
                    <a:pt x="150" y="316"/>
                  </a:lnTo>
                  <a:lnTo>
                    <a:pt x="162" y="313"/>
                  </a:lnTo>
                  <a:lnTo>
                    <a:pt x="172" y="307"/>
                  </a:lnTo>
                  <a:lnTo>
                    <a:pt x="172" y="297"/>
                  </a:lnTo>
                  <a:lnTo>
                    <a:pt x="165" y="289"/>
                  </a:lnTo>
                  <a:lnTo>
                    <a:pt x="159" y="281"/>
                  </a:lnTo>
                  <a:lnTo>
                    <a:pt x="161" y="271"/>
                  </a:lnTo>
                  <a:lnTo>
                    <a:pt x="171" y="267"/>
                  </a:lnTo>
                  <a:lnTo>
                    <a:pt x="183" y="265"/>
                  </a:lnTo>
                  <a:lnTo>
                    <a:pt x="194" y="260"/>
                  </a:lnTo>
                  <a:lnTo>
                    <a:pt x="205" y="255"/>
                  </a:lnTo>
                  <a:lnTo>
                    <a:pt x="212" y="261"/>
                  </a:lnTo>
                  <a:lnTo>
                    <a:pt x="219" y="263"/>
                  </a:lnTo>
                  <a:lnTo>
                    <a:pt x="226" y="271"/>
                  </a:lnTo>
                  <a:lnTo>
                    <a:pt x="233" y="279"/>
                  </a:lnTo>
                  <a:lnTo>
                    <a:pt x="246" y="278"/>
                  </a:lnTo>
                  <a:lnTo>
                    <a:pt x="254" y="271"/>
                  </a:lnTo>
                  <a:lnTo>
                    <a:pt x="266" y="266"/>
                  </a:lnTo>
                  <a:lnTo>
                    <a:pt x="277" y="263"/>
                  </a:lnTo>
                  <a:lnTo>
                    <a:pt x="287" y="270"/>
                  </a:lnTo>
                  <a:lnTo>
                    <a:pt x="298" y="272"/>
                  </a:lnTo>
                  <a:lnTo>
                    <a:pt x="308" y="266"/>
                  </a:lnTo>
                  <a:lnTo>
                    <a:pt x="317" y="259"/>
                  </a:lnTo>
                  <a:lnTo>
                    <a:pt x="319" y="250"/>
                  </a:lnTo>
                  <a:lnTo>
                    <a:pt x="315" y="243"/>
                  </a:lnTo>
                  <a:lnTo>
                    <a:pt x="320" y="234"/>
                  </a:lnTo>
                  <a:lnTo>
                    <a:pt x="320" y="224"/>
                  </a:lnTo>
                  <a:lnTo>
                    <a:pt x="315" y="215"/>
                  </a:lnTo>
                  <a:lnTo>
                    <a:pt x="306" y="207"/>
                  </a:lnTo>
                  <a:lnTo>
                    <a:pt x="310" y="202"/>
                  </a:lnTo>
                  <a:lnTo>
                    <a:pt x="326" y="204"/>
                  </a:lnTo>
                  <a:lnTo>
                    <a:pt x="337" y="209"/>
                  </a:lnTo>
                  <a:lnTo>
                    <a:pt x="345" y="216"/>
                  </a:lnTo>
                  <a:lnTo>
                    <a:pt x="354" y="223"/>
                  </a:lnTo>
                  <a:lnTo>
                    <a:pt x="365" y="228"/>
                  </a:lnTo>
                  <a:lnTo>
                    <a:pt x="379" y="232"/>
                  </a:lnTo>
                  <a:lnTo>
                    <a:pt x="391" y="235"/>
                  </a:lnTo>
                  <a:lnTo>
                    <a:pt x="404" y="239"/>
                  </a:lnTo>
                  <a:lnTo>
                    <a:pt x="412" y="244"/>
                  </a:lnTo>
                  <a:lnTo>
                    <a:pt x="414" y="251"/>
                  </a:lnTo>
                  <a:lnTo>
                    <a:pt x="405" y="261"/>
                  </a:lnTo>
                  <a:lnTo>
                    <a:pt x="414" y="266"/>
                  </a:lnTo>
                  <a:lnTo>
                    <a:pt x="408" y="275"/>
                  </a:lnTo>
                  <a:lnTo>
                    <a:pt x="415" y="283"/>
                  </a:lnTo>
                  <a:lnTo>
                    <a:pt x="422" y="291"/>
                  </a:lnTo>
                  <a:lnTo>
                    <a:pt x="432" y="297"/>
                  </a:lnTo>
                  <a:lnTo>
                    <a:pt x="443" y="302"/>
                  </a:lnTo>
                  <a:lnTo>
                    <a:pt x="454" y="306"/>
                  </a:lnTo>
                  <a:lnTo>
                    <a:pt x="468" y="308"/>
                  </a:lnTo>
                  <a:lnTo>
                    <a:pt x="478" y="312"/>
                  </a:lnTo>
                  <a:lnTo>
                    <a:pt x="482" y="321"/>
                  </a:lnTo>
                  <a:lnTo>
                    <a:pt x="489" y="329"/>
                  </a:lnTo>
                  <a:lnTo>
                    <a:pt x="496" y="337"/>
                  </a:lnTo>
                  <a:lnTo>
                    <a:pt x="505" y="345"/>
                  </a:lnTo>
                  <a:lnTo>
                    <a:pt x="514" y="351"/>
                  </a:lnTo>
                  <a:lnTo>
                    <a:pt x="524" y="355"/>
                  </a:lnTo>
                  <a:lnTo>
                    <a:pt x="535" y="359"/>
                  </a:lnTo>
                  <a:lnTo>
                    <a:pt x="547" y="365"/>
                  </a:lnTo>
                  <a:lnTo>
                    <a:pt x="554" y="361"/>
                  </a:lnTo>
                  <a:lnTo>
                    <a:pt x="566" y="357"/>
                  </a:lnTo>
                  <a:lnTo>
                    <a:pt x="576" y="352"/>
                  </a:lnTo>
                  <a:lnTo>
                    <a:pt x="582" y="343"/>
                  </a:lnTo>
                  <a:lnTo>
                    <a:pt x="584" y="333"/>
                  </a:lnTo>
                  <a:lnTo>
                    <a:pt x="594" y="336"/>
                  </a:lnTo>
                  <a:lnTo>
                    <a:pt x="603" y="344"/>
                  </a:lnTo>
                  <a:lnTo>
                    <a:pt x="614" y="342"/>
                  </a:lnTo>
                  <a:lnTo>
                    <a:pt x="625" y="337"/>
                  </a:lnTo>
                  <a:lnTo>
                    <a:pt x="639" y="335"/>
                  </a:lnTo>
                  <a:lnTo>
                    <a:pt x="653" y="333"/>
                  </a:lnTo>
                  <a:lnTo>
                    <a:pt x="665" y="331"/>
                  </a:lnTo>
                  <a:lnTo>
                    <a:pt x="677" y="328"/>
                  </a:lnTo>
                  <a:lnTo>
                    <a:pt x="671" y="325"/>
                  </a:lnTo>
                  <a:lnTo>
                    <a:pt x="663" y="318"/>
                  </a:lnTo>
                  <a:lnTo>
                    <a:pt x="656" y="310"/>
                  </a:lnTo>
                  <a:lnTo>
                    <a:pt x="644" y="306"/>
                  </a:lnTo>
                  <a:lnTo>
                    <a:pt x="635" y="299"/>
                  </a:lnTo>
                  <a:lnTo>
                    <a:pt x="628" y="291"/>
                  </a:lnTo>
                  <a:lnTo>
                    <a:pt x="628" y="282"/>
                  </a:lnTo>
                  <a:lnTo>
                    <a:pt x="633" y="274"/>
                  </a:lnTo>
                  <a:lnTo>
                    <a:pt x="642" y="267"/>
                  </a:lnTo>
                  <a:lnTo>
                    <a:pt x="647" y="259"/>
                  </a:lnTo>
                  <a:lnTo>
                    <a:pt x="658" y="254"/>
                  </a:lnTo>
                  <a:lnTo>
                    <a:pt x="664" y="246"/>
                  </a:lnTo>
                  <a:lnTo>
                    <a:pt x="675" y="241"/>
                  </a:lnTo>
                  <a:lnTo>
                    <a:pt x="686" y="243"/>
                  </a:lnTo>
                  <a:lnTo>
                    <a:pt x="691" y="251"/>
                  </a:lnTo>
                  <a:lnTo>
                    <a:pt x="699" y="259"/>
                  </a:lnTo>
                  <a:lnTo>
                    <a:pt x="709" y="264"/>
                  </a:lnTo>
                  <a:lnTo>
                    <a:pt x="719" y="257"/>
                  </a:lnTo>
                  <a:lnTo>
                    <a:pt x="723" y="254"/>
                  </a:lnTo>
                  <a:lnTo>
                    <a:pt x="733" y="248"/>
                  </a:lnTo>
                  <a:lnTo>
                    <a:pt x="738" y="240"/>
                  </a:lnTo>
                  <a:lnTo>
                    <a:pt x="744" y="231"/>
                  </a:lnTo>
                  <a:lnTo>
                    <a:pt x="752" y="224"/>
                  </a:lnTo>
                  <a:lnTo>
                    <a:pt x="762" y="220"/>
                  </a:lnTo>
                  <a:lnTo>
                    <a:pt x="769" y="212"/>
                  </a:lnTo>
                  <a:lnTo>
                    <a:pt x="769" y="204"/>
                  </a:lnTo>
                  <a:lnTo>
                    <a:pt x="773" y="194"/>
                  </a:lnTo>
                  <a:lnTo>
                    <a:pt x="779" y="187"/>
                  </a:lnTo>
                  <a:lnTo>
                    <a:pt x="791" y="186"/>
                  </a:lnTo>
                  <a:lnTo>
                    <a:pt x="797" y="179"/>
                  </a:lnTo>
                  <a:lnTo>
                    <a:pt x="804" y="175"/>
                  </a:lnTo>
                  <a:lnTo>
                    <a:pt x="811" y="183"/>
                  </a:lnTo>
                  <a:lnTo>
                    <a:pt x="819" y="190"/>
                  </a:lnTo>
                  <a:lnTo>
                    <a:pt x="830" y="185"/>
                  </a:lnTo>
                  <a:lnTo>
                    <a:pt x="839" y="177"/>
                  </a:lnTo>
                  <a:lnTo>
                    <a:pt x="835" y="171"/>
                  </a:lnTo>
                  <a:lnTo>
                    <a:pt x="839" y="167"/>
                  </a:lnTo>
                  <a:lnTo>
                    <a:pt x="851" y="163"/>
                  </a:lnTo>
                  <a:lnTo>
                    <a:pt x="860" y="157"/>
                  </a:lnTo>
                  <a:lnTo>
                    <a:pt x="872" y="153"/>
                  </a:lnTo>
                  <a:lnTo>
                    <a:pt x="882" y="149"/>
                  </a:lnTo>
                  <a:lnTo>
                    <a:pt x="877" y="140"/>
                  </a:lnTo>
                  <a:lnTo>
                    <a:pt x="878" y="134"/>
                  </a:lnTo>
                  <a:lnTo>
                    <a:pt x="892" y="135"/>
                  </a:lnTo>
                  <a:lnTo>
                    <a:pt x="896" y="129"/>
                  </a:lnTo>
                  <a:lnTo>
                    <a:pt x="893" y="120"/>
                  </a:lnTo>
                  <a:lnTo>
                    <a:pt x="885" y="114"/>
                  </a:lnTo>
                  <a:lnTo>
                    <a:pt x="872" y="108"/>
                  </a:lnTo>
                  <a:lnTo>
                    <a:pt x="878" y="105"/>
                  </a:lnTo>
                  <a:lnTo>
                    <a:pt x="892" y="105"/>
                  </a:lnTo>
                  <a:lnTo>
                    <a:pt x="906" y="106"/>
                  </a:lnTo>
                  <a:lnTo>
                    <a:pt x="914" y="101"/>
                  </a:lnTo>
                  <a:lnTo>
                    <a:pt x="910" y="92"/>
                  </a:lnTo>
                  <a:lnTo>
                    <a:pt x="904" y="83"/>
                  </a:lnTo>
                  <a:lnTo>
                    <a:pt x="897" y="75"/>
                  </a:lnTo>
                  <a:lnTo>
                    <a:pt x="892" y="66"/>
                  </a:lnTo>
                  <a:lnTo>
                    <a:pt x="889" y="58"/>
                  </a:lnTo>
                  <a:lnTo>
                    <a:pt x="897" y="53"/>
                  </a:lnTo>
                  <a:lnTo>
                    <a:pt x="903" y="44"/>
                  </a:lnTo>
                  <a:lnTo>
                    <a:pt x="914" y="42"/>
                  </a:lnTo>
                  <a:lnTo>
                    <a:pt x="927" y="42"/>
                  </a:lnTo>
                  <a:lnTo>
                    <a:pt x="941" y="43"/>
                  </a:lnTo>
                  <a:lnTo>
                    <a:pt x="953" y="42"/>
                  </a:lnTo>
                  <a:lnTo>
                    <a:pt x="966" y="40"/>
                  </a:lnTo>
                  <a:lnTo>
                    <a:pt x="976" y="47"/>
                  </a:lnTo>
                  <a:lnTo>
                    <a:pt x="987" y="52"/>
                  </a:lnTo>
                  <a:lnTo>
                    <a:pt x="995" y="48"/>
                  </a:lnTo>
                  <a:lnTo>
                    <a:pt x="1001" y="38"/>
                  </a:lnTo>
                  <a:lnTo>
                    <a:pt x="1005" y="29"/>
                  </a:lnTo>
                  <a:lnTo>
                    <a:pt x="1011" y="20"/>
                  </a:lnTo>
                  <a:lnTo>
                    <a:pt x="1018" y="14"/>
                  </a:lnTo>
                  <a:lnTo>
                    <a:pt x="1030" y="20"/>
                  </a:lnTo>
                  <a:lnTo>
                    <a:pt x="1043" y="19"/>
                  </a:lnTo>
                  <a:lnTo>
                    <a:pt x="1054" y="14"/>
                  </a:lnTo>
                  <a:lnTo>
                    <a:pt x="1062" y="8"/>
                  </a:lnTo>
                  <a:lnTo>
                    <a:pt x="1074" y="4"/>
                  </a:lnTo>
                  <a:lnTo>
                    <a:pt x="1088" y="6"/>
                  </a:lnTo>
                  <a:lnTo>
                    <a:pt x="1099" y="11"/>
                  </a:lnTo>
                  <a:lnTo>
                    <a:pt x="1110" y="14"/>
                  </a:lnTo>
                  <a:lnTo>
                    <a:pt x="1123" y="17"/>
                  </a:lnTo>
                  <a:lnTo>
                    <a:pt x="1134" y="21"/>
                  </a:lnTo>
                  <a:lnTo>
                    <a:pt x="1146" y="26"/>
                  </a:lnTo>
                  <a:lnTo>
                    <a:pt x="1157" y="24"/>
                  </a:lnTo>
                  <a:lnTo>
                    <a:pt x="1163" y="15"/>
                  </a:lnTo>
                  <a:lnTo>
                    <a:pt x="1170" y="13"/>
                  </a:lnTo>
                  <a:lnTo>
                    <a:pt x="1183" y="13"/>
                  </a:lnTo>
                  <a:lnTo>
                    <a:pt x="1195" y="11"/>
                  </a:lnTo>
                  <a:lnTo>
                    <a:pt x="1208" y="9"/>
                  </a:lnTo>
                  <a:lnTo>
                    <a:pt x="1222" y="10"/>
                  </a:lnTo>
                  <a:lnTo>
                    <a:pt x="1234" y="11"/>
                  </a:lnTo>
                  <a:lnTo>
                    <a:pt x="1247" y="11"/>
                  </a:lnTo>
                  <a:lnTo>
                    <a:pt x="1260" y="11"/>
                  </a:lnTo>
                  <a:lnTo>
                    <a:pt x="1269" y="4"/>
                  </a:lnTo>
                  <a:lnTo>
                    <a:pt x="1282" y="4"/>
                  </a:lnTo>
                  <a:lnTo>
                    <a:pt x="1293" y="0"/>
                  </a:lnTo>
                  <a:lnTo>
                    <a:pt x="1300" y="8"/>
                  </a:lnTo>
                  <a:lnTo>
                    <a:pt x="1307" y="16"/>
                  </a:lnTo>
                  <a:lnTo>
                    <a:pt x="1314" y="23"/>
                  </a:lnTo>
                  <a:lnTo>
                    <a:pt x="1314" y="33"/>
                  </a:lnTo>
                  <a:lnTo>
                    <a:pt x="1308" y="41"/>
                  </a:lnTo>
                  <a:lnTo>
                    <a:pt x="1301" y="49"/>
                  </a:lnTo>
                  <a:lnTo>
                    <a:pt x="1300" y="58"/>
                  </a:lnTo>
                  <a:lnTo>
                    <a:pt x="1304" y="67"/>
                  </a:lnTo>
                  <a:lnTo>
                    <a:pt x="1304" y="76"/>
                  </a:lnTo>
                  <a:lnTo>
                    <a:pt x="1307" y="85"/>
                  </a:lnTo>
                  <a:lnTo>
                    <a:pt x="1306" y="94"/>
                  </a:lnTo>
                  <a:lnTo>
                    <a:pt x="1320" y="109"/>
                  </a:lnTo>
                  <a:lnTo>
                    <a:pt x="1327" y="116"/>
                  </a:lnTo>
                  <a:lnTo>
                    <a:pt x="1334" y="124"/>
                  </a:lnTo>
                  <a:lnTo>
                    <a:pt x="1338" y="133"/>
                  </a:lnTo>
                  <a:lnTo>
                    <a:pt x="1343" y="141"/>
                  </a:lnTo>
                  <a:lnTo>
                    <a:pt x="1350" y="150"/>
                  </a:lnTo>
                  <a:lnTo>
                    <a:pt x="1356" y="158"/>
                  </a:lnTo>
                  <a:lnTo>
                    <a:pt x="1360" y="167"/>
                  </a:lnTo>
                  <a:lnTo>
                    <a:pt x="1369" y="174"/>
                  </a:lnTo>
                  <a:lnTo>
                    <a:pt x="1378" y="176"/>
                  </a:lnTo>
                  <a:lnTo>
                    <a:pt x="1388" y="180"/>
                  </a:lnTo>
                  <a:lnTo>
                    <a:pt x="1401" y="180"/>
                  </a:lnTo>
                  <a:lnTo>
                    <a:pt x="1413" y="177"/>
                  </a:lnTo>
                  <a:lnTo>
                    <a:pt x="1423" y="182"/>
                  </a:lnTo>
                  <a:lnTo>
                    <a:pt x="1429" y="189"/>
                  </a:lnTo>
                  <a:lnTo>
                    <a:pt x="1433" y="199"/>
                  </a:lnTo>
                  <a:lnTo>
                    <a:pt x="1437" y="208"/>
                  </a:lnTo>
                  <a:lnTo>
                    <a:pt x="1447" y="213"/>
                  </a:lnTo>
                  <a:lnTo>
                    <a:pt x="1458" y="218"/>
                  </a:lnTo>
                  <a:lnTo>
                    <a:pt x="1466" y="225"/>
                  </a:lnTo>
                  <a:lnTo>
                    <a:pt x="1473" y="233"/>
                  </a:lnTo>
                  <a:lnTo>
                    <a:pt x="1476" y="242"/>
                  </a:lnTo>
                  <a:lnTo>
                    <a:pt x="1485" y="250"/>
                  </a:lnTo>
                  <a:lnTo>
                    <a:pt x="1485" y="259"/>
                  </a:lnTo>
                  <a:lnTo>
                    <a:pt x="1485" y="268"/>
                  </a:lnTo>
                  <a:lnTo>
                    <a:pt x="1485" y="277"/>
                  </a:lnTo>
                  <a:lnTo>
                    <a:pt x="1487" y="287"/>
                  </a:lnTo>
                  <a:lnTo>
                    <a:pt x="1492" y="295"/>
                  </a:lnTo>
                  <a:lnTo>
                    <a:pt x="1487" y="303"/>
                  </a:lnTo>
                  <a:lnTo>
                    <a:pt x="1489" y="312"/>
                  </a:lnTo>
                  <a:lnTo>
                    <a:pt x="1483" y="319"/>
                  </a:lnTo>
                  <a:lnTo>
                    <a:pt x="1475" y="326"/>
                  </a:lnTo>
                  <a:lnTo>
                    <a:pt x="1465" y="331"/>
                  </a:lnTo>
                  <a:lnTo>
                    <a:pt x="1452" y="335"/>
                  </a:lnTo>
                  <a:lnTo>
                    <a:pt x="1443" y="341"/>
                  </a:lnTo>
                  <a:lnTo>
                    <a:pt x="1436" y="348"/>
                  </a:lnTo>
                  <a:lnTo>
                    <a:pt x="1430" y="357"/>
                  </a:lnTo>
                  <a:lnTo>
                    <a:pt x="1430" y="365"/>
                  </a:lnTo>
                  <a:lnTo>
                    <a:pt x="1440" y="371"/>
                  </a:lnTo>
                  <a:lnTo>
                    <a:pt x="1450" y="377"/>
                  </a:lnTo>
                  <a:lnTo>
                    <a:pt x="1458" y="384"/>
                  </a:lnTo>
                  <a:lnTo>
                    <a:pt x="1466" y="392"/>
                  </a:lnTo>
                  <a:lnTo>
                    <a:pt x="1472" y="400"/>
                  </a:lnTo>
                  <a:lnTo>
                    <a:pt x="1478" y="409"/>
                  </a:lnTo>
                  <a:lnTo>
                    <a:pt x="1485" y="416"/>
                  </a:lnTo>
                  <a:lnTo>
                    <a:pt x="1492" y="424"/>
                  </a:lnTo>
                  <a:lnTo>
                    <a:pt x="1500" y="430"/>
                  </a:lnTo>
                  <a:lnTo>
                    <a:pt x="1508" y="436"/>
                  </a:lnTo>
                  <a:lnTo>
                    <a:pt x="1518" y="443"/>
                  </a:lnTo>
                  <a:lnTo>
                    <a:pt x="1525" y="453"/>
                  </a:lnTo>
                  <a:lnTo>
                    <a:pt x="1527" y="460"/>
                  </a:lnTo>
                  <a:lnTo>
                    <a:pt x="1535" y="467"/>
                  </a:lnTo>
                  <a:lnTo>
                    <a:pt x="1542" y="476"/>
                  </a:lnTo>
                  <a:lnTo>
                    <a:pt x="1550" y="482"/>
                  </a:lnTo>
                  <a:lnTo>
                    <a:pt x="1561" y="488"/>
                  </a:lnTo>
                  <a:lnTo>
                    <a:pt x="1570" y="495"/>
                  </a:lnTo>
                  <a:lnTo>
                    <a:pt x="1580" y="495"/>
                  </a:lnTo>
                  <a:lnTo>
                    <a:pt x="1589" y="501"/>
                  </a:lnTo>
                  <a:lnTo>
                    <a:pt x="1599" y="508"/>
                  </a:lnTo>
                  <a:lnTo>
                    <a:pt x="1608" y="514"/>
                  </a:lnTo>
                  <a:lnTo>
                    <a:pt x="1617" y="521"/>
                  </a:lnTo>
                  <a:lnTo>
                    <a:pt x="1626" y="528"/>
                  </a:lnTo>
                  <a:lnTo>
                    <a:pt x="1634" y="535"/>
                  </a:lnTo>
                  <a:lnTo>
                    <a:pt x="1643" y="543"/>
                  </a:lnTo>
                  <a:lnTo>
                    <a:pt x="1641" y="551"/>
                  </a:lnTo>
                  <a:lnTo>
                    <a:pt x="1631" y="558"/>
                  </a:lnTo>
                  <a:lnTo>
                    <a:pt x="1622" y="564"/>
                  </a:lnTo>
                  <a:lnTo>
                    <a:pt x="1631" y="566"/>
                  </a:lnTo>
                  <a:lnTo>
                    <a:pt x="1644" y="565"/>
                  </a:lnTo>
                  <a:lnTo>
                    <a:pt x="1657" y="569"/>
                  </a:lnTo>
                  <a:lnTo>
                    <a:pt x="1668" y="574"/>
                  </a:lnTo>
                  <a:lnTo>
                    <a:pt x="1662" y="582"/>
                  </a:lnTo>
                  <a:lnTo>
                    <a:pt x="1665" y="588"/>
                  </a:lnTo>
                  <a:lnTo>
                    <a:pt x="1659" y="597"/>
                  </a:lnTo>
                  <a:lnTo>
                    <a:pt x="1655" y="606"/>
                  </a:lnTo>
                  <a:lnTo>
                    <a:pt x="1664" y="613"/>
                  </a:lnTo>
                  <a:lnTo>
                    <a:pt x="1664" y="623"/>
                  </a:lnTo>
                  <a:lnTo>
                    <a:pt x="1673" y="623"/>
                  </a:lnTo>
                  <a:lnTo>
                    <a:pt x="1686" y="626"/>
                  </a:lnTo>
                  <a:lnTo>
                    <a:pt x="1698" y="627"/>
                  </a:lnTo>
                  <a:lnTo>
                    <a:pt x="1712" y="629"/>
                  </a:lnTo>
                  <a:lnTo>
                    <a:pt x="1725" y="630"/>
                  </a:lnTo>
                  <a:lnTo>
                    <a:pt x="1739" y="628"/>
                  </a:lnTo>
                  <a:lnTo>
                    <a:pt x="1747" y="632"/>
                  </a:lnTo>
                  <a:lnTo>
                    <a:pt x="1747" y="642"/>
                  </a:lnTo>
                  <a:lnTo>
                    <a:pt x="1746" y="652"/>
                  </a:lnTo>
                  <a:lnTo>
                    <a:pt x="1742" y="662"/>
                  </a:lnTo>
                  <a:lnTo>
                    <a:pt x="1738" y="671"/>
                  </a:lnTo>
                  <a:lnTo>
                    <a:pt x="1735" y="680"/>
                  </a:lnTo>
                  <a:lnTo>
                    <a:pt x="1731" y="689"/>
                  </a:lnTo>
                  <a:lnTo>
                    <a:pt x="1728" y="698"/>
                  </a:lnTo>
                  <a:lnTo>
                    <a:pt x="1725" y="707"/>
                  </a:lnTo>
                  <a:lnTo>
                    <a:pt x="1724" y="716"/>
                  </a:lnTo>
                  <a:lnTo>
                    <a:pt x="1721" y="725"/>
                  </a:lnTo>
                  <a:lnTo>
                    <a:pt x="1714" y="733"/>
                  </a:lnTo>
                  <a:lnTo>
                    <a:pt x="1708" y="741"/>
                  </a:lnTo>
                  <a:lnTo>
                    <a:pt x="1701" y="749"/>
                  </a:lnTo>
                  <a:lnTo>
                    <a:pt x="1694" y="757"/>
                  </a:lnTo>
                  <a:lnTo>
                    <a:pt x="1687" y="765"/>
                  </a:lnTo>
                  <a:lnTo>
                    <a:pt x="1680" y="773"/>
                  </a:lnTo>
                  <a:lnTo>
                    <a:pt x="1675" y="781"/>
                  </a:lnTo>
                  <a:lnTo>
                    <a:pt x="1671" y="790"/>
                  </a:lnTo>
                  <a:lnTo>
                    <a:pt x="1668" y="799"/>
                  </a:lnTo>
                  <a:lnTo>
                    <a:pt x="1666" y="809"/>
                  </a:lnTo>
                  <a:lnTo>
                    <a:pt x="1665" y="818"/>
                  </a:lnTo>
                  <a:lnTo>
                    <a:pt x="1662" y="827"/>
                  </a:lnTo>
                  <a:lnTo>
                    <a:pt x="1659" y="836"/>
                  </a:lnTo>
                  <a:lnTo>
                    <a:pt x="1658" y="845"/>
                  </a:lnTo>
                  <a:lnTo>
                    <a:pt x="1655" y="855"/>
                  </a:lnTo>
                  <a:lnTo>
                    <a:pt x="1654" y="864"/>
                  </a:lnTo>
                  <a:lnTo>
                    <a:pt x="1654" y="873"/>
                  </a:lnTo>
                  <a:lnTo>
                    <a:pt x="1654" y="883"/>
                  </a:lnTo>
                  <a:lnTo>
                    <a:pt x="1655" y="892"/>
                  </a:lnTo>
                  <a:lnTo>
                    <a:pt x="1658" y="901"/>
                  </a:lnTo>
                  <a:lnTo>
                    <a:pt x="1661" y="910"/>
                  </a:lnTo>
                  <a:lnTo>
                    <a:pt x="1664" y="919"/>
                  </a:lnTo>
                  <a:lnTo>
                    <a:pt x="1668" y="928"/>
                  </a:lnTo>
                  <a:lnTo>
                    <a:pt x="1671" y="937"/>
                  </a:lnTo>
                  <a:lnTo>
                    <a:pt x="1672" y="946"/>
                  </a:lnTo>
                  <a:lnTo>
                    <a:pt x="1673" y="956"/>
                  </a:lnTo>
                  <a:lnTo>
                    <a:pt x="1676" y="965"/>
                  </a:lnTo>
                  <a:lnTo>
                    <a:pt x="1678" y="974"/>
                  </a:lnTo>
                  <a:lnTo>
                    <a:pt x="1680" y="983"/>
                  </a:lnTo>
                  <a:lnTo>
                    <a:pt x="1683" y="992"/>
                  </a:lnTo>
                  <a:lnTo>
                    <a:pt x="1686" y="1001"/>
                  </a:lnTo>
                  <a:lnTo>
                    <a:pt x="1690" y="1010"/>
                  </a:lnTo>
                  <a:lnTo>
                    <a:pt x="1693" y="1019"/>
                  </a:lnTo>
                  <a:lnTo>
                    <a:pt x="1697" y="1028"/>
                  </a:lnTo>
                  <a:lnTo>
                    <a:pt x="1701" y="1037"/>
                  </a:lnTo>
                  <a:lnTo>
                    <a:pt x="1714" y="1050"/>
                  </a:lnTo>
                  <a:lnTo>
                    <a:pt x="1724" y="1057"/>
                  </a:lnTo>
                  <a:lnTo>
                    <a:pt x="1733" y="1062"/>
                  </a:lnTo>
                  <a:lnTo>
                    <a:pt x="1743" y="1068"/>
                  </a:lnTo>
                  <a:lnTo>
                    <a:pt x="1754" y="1073"/>
                  </a:lnTo>
                  <a:lnTo>
                    <a:pt x="1764" y="1079"/>
                  </a:lnTo>
                  <a:lnTo>
                    <a:pt x="1775" y="1085"/>
                  </a:lnTo>
                  <a:lnTo>
                    <a:pt x="1785" y="1091"/>
                  </a:lnTo>
                  <a:lnTo>
                    <a:pt x="1795" y="1097"/>
                  </a:lnTo>
                  <a:lnTo>
                    <a:pt x="1803" y="1104"/>
                  </a:lnTo>
                  <a:lnTo>
                    <a:pt x="1812" y="1111"/>
                  </a:lnTo>
                  <a:lnTo>
                    <a:pt x="1820" y="1119"/>
                  </a:lnTo>
                  <a:lnTo>
                    <a:pt x="1827" y="1127"/>
                  </a:lnTo>
                  <a:lnTo>
                    <a:pt x="1838" y="1141"/>
                  </a:lnTo>
                  <a:lnTo>
                    <a:pt x="1841" y="1150"/>
                  </a:lnTo>
                  <a:lnTo>
                    <a:pt x="1841" y="1160"/>
                  </a:lnTo>
                  <a:lnTo>
                    <a:pt x="1841" y="1169"/>
                  </a:lnTo>
                  <a:lnTo>
                    <a:pt x="1840" y="1178"/>
                  </a:lnTo>
                  <a:lnTo>
                    <a:pt x="1833" y="1186"/>
                  </a:lnTo>
                  <a:lnTo>
                    <a:pt x="1826" y="1194"/>
                  </a:lnTo>
                  <a:lnTo>
                    <a:pt x="1817" y="1201"/>
                  </a:lnTo>
                  <a:lnTo>
                    <a:pt x="1810" y="1209"/>
                  </a:lnTo>
                  <a:lnTo>
                    <a:pt x="1808" y="1218"/>
                  </a:lnTo>
                  <a:lnTo>
                    <a:pt x="1805" y="1227"/>
                  </a:lnTo>
                  <a:lnTo>
                    <a:pt x="1805" y="1237"/>
                  </a:lnTo>
                  <a:lnTo>
                    <a:pt x="1806" y="1246"/>
                  </a:lnTo>
                  <a:lnTo>
                    <a:pt x="1808" y="1255"/>
                  </a:lnTo>
                  <a:lnTo>
                    <a:pt x="1810" y="1264"/>
                  </a:lnTo>
                  <a:lnTo>
                    <a:pt x="1813" y="1273"/>
                  </a:lnTo>
                  <a:lnTo>
                    <a:pt x="1817" y="1282"/>
                  </a:lnTo>
                  <a:lnTo>
                    <a:pt x="1823" y="1291"/>
                  </a:lnTo>
                  <a:lnTo>
                    <a:pt x="1826" y="1300"/>
                  </a:lnTo>
                  <a:lnTo>
                    <a:pt x="1830" y="1309"/>
                  </a:lnTo>
                  <a:lnTo>
                    <a:pt x="1833" y="1318"/>
                  </a:lnTo>
                  <a:lnTo>
                    <a:pt x="1834" y="1327"/>
                  </a:lnTo>
                  <a:lnTo>
                    <a:pt x="1835" y="1336"/>
                  </a:lnTo>
                  <a:lnTo>
                    <a:pt x="1834" y="1346"/>
                  </a:lnTo>
                  <a:lnTo>
                    <a:pt x="1833" y="1355"/>
                  </a:lnTo>
                  <a:lnTo>
                    <a:pt x="1831" y="1364"/>
                  </a:lnTo>
                  <a:lnTo>
                    <a:pt x="1830" y="1373"/>
                  </a:lnTo>
                  <a:lnTo>
                    <a:pt x="1827" y="1383"/>
                  </a:lnTo>
                  <a:lnTo>
                    <a:pt x="1824" y="1392"/>
                  </a:lnTo>
                  <a:lnTo>
                    <a:pt x="1819" y="1400"/>
                  </a:lnTo>
                  <a:lnTo>
                    <a:pt x="1815" y="1409"/>
                  </a:lnTo>
                  <a:lnTo>
                    <a:pt x="1808" y="1417"/>
                  </a:lnTo>
                  <a:lnTo>
                    <a:pt x="1801" y="1425"/>
                  </a:lnTo>
                  <a:lnTo>
                    <a:pt x="1792" y="1432"/>
                  </a:lnTo>
                  <a:lnTo>
                    <a:pt x="1785" y="1440"/>
                  </a:lnTo>
                  <a:lnTo>
                    <a:pt x="1778" y="1448"/>
                  </a:lnTo>
                  <a:lnTo>
                    <a:pt x="1771" y="1455"/>
                  </a:lnTo>
                  <a:lnTo>
                    <a:pt x="1763" y="1463"/>
                  </a:lnTo>
                  <a:lnTo>
                    <a:pt x="1757" y="1472"/>
                  </a:lnTo>
                  <a:lnTo>
                    <a:pt x="1756" y="1481"/>
                  </a:lnTo>
                  <a:lnTo>
                    <a:pt x="1754" y="1496"/>
                  </a:lnTo>
                  <a:lnTo>
                    <a:pt x="1740" y="1498"/>
                  </a:lnTo>
                  <a:lnTo>
                    <a:pt x="1736" y="1492"/>
                  </a:lnTo>
                  <a:lnTo>
                    <a:pt x="1724" y="1493"/>
                  </a:lnTo>
                  <a:lnTo>
                    <a:pt x="1714" y="1490"/>
                  </a:lnTo>
                  <a:lnTo>
                    <a:pt x="1712" y="1497"/>
                  </a:lnTo>
                  <a:lnTo>
                    <a:pt x="1700" y="1499"/>
                  </a:lnTo>
                  <a:lnTo>
                    <a:pt x="1686" y="1501"/>
                  </a:lnTo>
                  <a:lnTo>
                    <a:pt x="1679" y="1497"/>
                  </a:lnTo>
                  <a:lnTo>
                    <a:pt x="1666" y="1500"/>
                  </a:lnTo>
                  <a:lnTo>
                    <a:pt x="1654" y="1504"/>
                  </a:lnTo>
                  <a:lnTo>
                    <a:pt x="1641" y="1507"/>
                  </a:lnTo>
                  <a:lnTo>
                    <a:pt x="1627" y="1510"/>
                  </a:lnTo>
                  <a:lnTo>
                    <a:pt x="1626" y="1516"/>
                  </a:lnTo>
                  <a:lnTo>
                    <a:pt x="1636" y="1524"/>
                  </a:lnTo>
                  <a:lnTo>
                    <a:pt x="1645" y="1531"/>
                  </a:lnTo>
                  <a:lnTo>
                    <a:pt x="1657" y="1535"/>
                  </a:lnTo>
                  <a:lnTo>
                    <a:pt x="1651" y="1539"/>
                  </a:lnTo>
                  <a:lnTo>
                    <a:pt x="1645" y="1546"/>
                  </a:lnTo>
                  <a:lnTo>
                    <a:pt x="1638" y="1552"/>
                  </a:lnTo>
                  <a:lnTo>
                    <a:pt x="1636" y="1562"/>
                  </a:lnTo>
                  <a:lnTo>
                    <a:pt x="1629" y="1570"/>
                  </a:lnTo>
                  <a:lnTo>
                    <a:pt x="1620" y="1578"/>
                  </a:lnTo>
                  <a:lnTo>
                    <a:pt x="1610" y="1584"/>
                  </a:lnTo>
                  <a:lnTo>
                    <a:pt x="1601" y="1590"/>
                  </a:lnTo>
                  <a:lnTo>
                    <a:pt x="1591" y="1596"/>
                  </a:lnTo>
                  <a:lnTo>
                    <a:pt x="1581" y="1603"/>
                  </a:lnTo>
                  <a:lnTo>
                    <a:pt x="1571" y="1609"/>
                  </a:lnTo>
                  <a:lnTo>
                    <a:pt x="1561" y="1615"/>
                  </a:lnTo>
                  <a:lnTo>
                    <a:pt x="1550" y="1620"/>
                  </a:lnTo>
                  <a:lnTo>
                    <a:pt x="1539" y="1624"/>
                  </a:lnTo>
                  <a:lnTo>
                    <a:pt x="1527" y="1628"/>
                  </a:lnTo>
                  <a:lnTo>
                    <a:pt x="1515" y="1632"/>
                  </a:lnTo>
                  <a:lnTo>
                    <a:pt x="1504" y="1637"/>
                  </a:lnTo>
                  <a:lnTo>
                    <a:pt x="1490" y="1649"/>
                  </a:lnTo>
                  <a:lnTo>
                    <a:pt x="1494" y="1658"/>
                  </a:lnTo>
                  <a:lnTo>
                    <a:pt x="1493" y="1667"/>
                  </a:lnTo>
                  <a:lnTo>
                    <a:pt x="1497" y="1677"/>
                  </a:lnTo>
                  <a:lnTo>
                    <a:pt x="1490" y="1680"/>
                  </a:lnTo>
                  <a:lnTo>
                    <a:pt x="1476" y="1680"/>
                  </a:lnTo>
                  <a:lnTo>
                    <a:pt x="1465" y="1682"/>
                  </a:lnTo>
                  <a:lnTo>
                    <a:pt x="1451" y="1682"/>
                  </a:lnTo>
                  <a:lnTo>
                    <a:pt x="1438" y="1682"/>
                  </a:lnTo>
                  <a:lnTo>
                    <a:pt x="1426" y="1684"/>
                  </a:lnTo>
                  <a:lnTo>
                    <a:pt x="1413" y="1684"/>
                  </a:lnTo>
                  <a:lnTo>
                    <a:pt x="1399" y="1683"/>
                  </a:lnTo>
                  <a:lnTo>
                    <a:pt x="1394" y="1692"/>
                  </a:lnTo>
                  <a:lnTo>
                    <a:pt x="1385" y="1698"/>
                  </a:lnTo>
                  <a:lnTo>
                    <a:pt x="1373" y="1699"/>
                  </a:lnTo>
                  <a:lnTo>
                    <a:pt x="1363" y="1697"/>
                  </a:lnTo>
                  <a:lnTo>
                    <a:pt x="1350" y="1701"/>
                  </a:lnTo>
                  <a:lnTo>
                    <a:pt x="1338" y="1705"/>
                  </a:lnTo>
                  <a:lnTo>
                    <a:pt x="1331" y="1711"/>
                  </a:lnTo>
                  <a:lnTo>
                    <a:pt x="1338" y="1720"/>
                  </a:lnTo>
                  <a:lnTo>
                    <a:pt x="1345" y="1728"/>
                  </a:lnTo>
                  <a:lnTo>
                    <a:pt x="1350" y="1736"/>
                  </a:lnTo>
                  <a:lnTo>
                    <a:pt x="1355" y="1745"/>
                  </a:lnTo>
                  <a:lnTo>
                    <a:pt x="1359" y="1754"/>
                  </a:lnTo>
                  <a:lnTo>
                    <a:pt x="1364" y="1763"/>
                  </a:lnTo>
                  <a:lnTo>
                    <a:pt x="1366" y="1771"/>
                  </a:lnTo>
                  <a:lnTo>
                    <a:pt x="1360" y="1777"/>
                  </a:lnTo>
                  <a:lnTo>
                    <a:pt x="1356" y="1784"/>
                  </a:lnTo>
                  <a:lnTo>
                    <a:pt x="1346" y="1780"/>
                  </a:lnTo>
                  <a:lnTo>
                    <a:pt x="1335" y="1782"/>
                  </a:lnTo>
                  <a:lnTo>
                    <a:pt x="1320" y="1792"/>
                  </a:lnTo>
                  <a:lnTo>
                    <a:pt x="1304" y="1803"/>
                  </a:lnTo>
                  <a:lnTo>
                    <a:pt x="1294" y="1810"/>
                  </a:lnTo>
                  <a:lnTo>
                    <a:pt x="1287" y="1818"/>
                  </a:lnTo>
                  <a:lnTo>
                    <a:pt x="1279" y="1825"/>
                  </a:lnTo>
                  <a:lnTo>
                    <a:pt x="1269" y="1831"/>
                  </a:lnTo>
                  <a:lnTo>
                    <a:pt x="1257" y="1835"/>
                  </a:lnTo>
                  <a:lnTo>
                    <a:pt x="1244" y="1837"/>
                  </a:lnTo>
                  <a:lnTo>
                    <a:pt x="1232" y="1837"/>
                  </a:lnTo>
                  <a:lnTo>
                    <a:pt x="1220" y="1842"/>
                  </a:lnTo>
                  <a:lnTo>
                    <a:pt x="1208" y="1844"/>
                  </a:lnTo>
                  <a:lnTo>
                    <a:pt x="1195" y="1845"/>
                  </a:lnTo>
                  <a:lnTo>
                    <a:pt x="1183" y="1848"/>
                  </a:lnTo>
                  <a:lnTo>
                    <a:pt x="1177" y="1845"/>
                  </a:lnTo>
                  <a:lnTo>
                    <a:pt x="1171" y="1839"/>
                  </a:lnTo>
                  <a:lnTo>
                    <a:pt x="1164" y="1834"/>
                  </a:lnTo>
                  <a:lnTo>
                    <a:pt x="1166" y="1824"/>
                  </a:lnTo>
                  <a:lnTo>
                    <a:pt x="1163" y="1817"/>
                  </a:lnTo>
                  <a:lnTo>
                    <a:pt x="1163" y="1812"/>
                  </a:lnTo>
                  <a:lnTo>
                    <a:pt x="1166" y="1807"/>
                  </a:lnTo>
                  <a:lnTo>
                    <a:pt x="1160" y="1801"/>
                  </a:lnTo>
                  <a:lnTo>
                    <a:pt x="1152" y="1795"/>
                  </a:lnTo>
                  <a:lnTo>
                    <a:pt x="1149" y="1786"/>
                  </a:lnTo>
                  <a:lnTo>
                    <a:pt x="1150" y="1777"/>
                  </a:lnTo>
                  <a:lnTo>
                    <a:pt x="1163" y="1774"/>
                  </a:lnTo>
                  <a:lnTo>
                    <a:pt x="1145" y="1763"/>
                  </a:lnTo>
                  <a:lnTo>
                    <a:pt x="1138" y="1755"/>
                  </a:lnTo>
                  <a:lnTo>
                    <a:pt x="1137" y="1745"/>
                  </a:lnTo>
                  <a:lnTo>
                    <a:pt x="1141" y="1741"/>
                  </a:lnTo>
                  <a:lnTo>
                    <a:pt x="1141" y="1734"/>
                  </a:lnTo>
                  <a:lnTo>
                    <a:pt x="1134" y="1726"/>
                  </a:lnTo>
                  <a:lnTo>
                    <a:pt x="1123" y="1725"/>
                  </a:lnTo>
                  <a:lnTo>
                    <a:pt x="1110" y="1729"/>
                  </a:lnTo>
                  <a:lnTo>
                    <a:pt x="1100" y="1722"/>
                  </a:lnTo>
                  <a:lnTo>
                    <a:pt x="1092" y="1714"/>
                  </a:lnTo>
                  <a:lnTo>
                    <a:pt x="1082" y="1713"/>
                  </a:lnTo>
                  <a:lnTo>
                    <a:pt x="1071" y="1713"/>
                  </a:lnTo>
                  <a:lnTo>
                    <a:pt x="1061" y="1706"/>
                  </a:lnTo>
                  <a:lnTo>
                    <a:pt x="1051" y="1700"/>
                  </a:lnTo>
                  <a:lnTo>
                    <a:pt x="1048" y="1691"/>
                  </a:lnTo>
                  <a:lnTo>
                    <a:pt x="1044" y="1682"/>
                  </a:lnTo>
                  <a:lnTo>
                    <a:pt x="1039" y="1674"/>
                  </a:lnTo>
                  <a:lnTo>
                    <a:pt x="1032" y="1665"/>
                  </a:lnTo>
                  <a:lnTo>
                    <a:pt x="1026" y="1657"/>
                  </a:lnTo>
                  <a:lnTo>
                    <a:pt x="1019" y="1649"/>
                  </a:lnTo>
                  <a:lnTo>
                    <a:pt x="1002" y="1655"/>
                  </a:lnTo>
                  <a:lnTo>
                    <a:pt x="990" y="1659"/>
                  </a:lnTo>
                  <a:lnTo>
                    <a:pt x="979" y="1663"/>
                  </a:lnTo>
                  <a:lnTo>
                    <a:pt x="969" y="1669"/>
                  </a:lnTo>
                  <a:lnTo>
                    <a:pt x="958" y="1675"/>
                  </a:lnTo>
                  <a:lnTo>
                    <a:pt x="946" y="1678"/>
                  </a:lnTo>
                  <a:lnTo>
                    <a:pt x="934" y="1681"/>
                  </a:lnTo>
                  <a:lnTo>
                    <a:pt x="924" y="1687"/>
                  </a:lnTo>
                  <a:lnTo>
                    <a:pt x="918" y="1693"/>
                  </a:lnTo>
                  <a:lnTo>
                    <a:pt x="921" y="1702"/>
                  </a:lnTo>
                  <a:lnTo>
                    <a:pt x="927" y="1711"/>
                  </a:lnTo>
                  <a:lnTo>
                    <a:pt x="931" y="1720"/>
                  </a:lnTo>
                  <a:lnTo>
                    <a:pt x="928" y="1727"/>
                  </a:lnTo>
                  <a:lnTo>
                    <a:pt x="916" y="1725"/>
                  </a:lnTo>
                  <a:lnTo>
                    <a:pt x="907" y="1724"/>
                  </a:lnTo>
                  <a:lnTo>
                    <a:pt x="895" y="1727"/>
                  </a:lnTo>
                  <a:lnTo>
                    <a:pt x="882" y="1729"/>
                  </a:lnTo>
                  <a:lnTo>
                    <a:pt x="874" y="1721"/>
                  </a:lnTo>
                  <a:lnTo>
                    <a:pt x="863" y="1722"/>
                  </a:lnTo>
                  <a:lnTo>
                    <a:pt x="851" y="1726"/>
                  </a:lnTo>
                  <a:lnTo>
                    <a:pt x="840" y="1731"/>
                  </a:lnTo>
                  <a:lnTo>
                    <a:pt x="830" y="1738"/>
                  </a:lnTo>
                  <a:lnTo>
                    <a:pt x="821" y="1740"/>
                  </a:lnTo>
                  <a:lnTo>
                    <a:pt x="808" y="1736"/>
                  </a:lnTo>
                  <a:lnTo>
                    <a:pt x="795" y="1732"/>
                  </a:lnTo>
                  <a:lnTo>
                    <a:pt x="784" y="1728"/>
                  </a:lnTo>
                  <a:lnTo>
                    <a:pt x="772" y="1724"/>
                  </a:lnTo>
                  <a:lnTo>
                    <a:pt x="759" y="1720"/>
                  </a:lnTo>
                  <a:lnTo>
                    <a:pt x="748" y="1716"/>
                  </a:lnTo>
                  <a:lnTo>
                    <a:pt x="745" y="1710"/>
                  </a:lnTo>
                  <a:lnTo>
                    <a:pt x="752" y="1700"/>
                  </a:lnTo>
                  <a:lnTo>
                    <a:pt x="753" y="1691"/>
                  </a:lnTo>
                  <a:lnTo>
                    <a:pt x="760" y="1683"/>
                  </a:lnTo>
                  <a:lnTo>
                    <a:pt x="758" y="1674"/>
                  </a:lnTo>
                  <a:lnTo>
                    <a:pt x="752" y="1665"/>
                  </a:lnTo>
                  <a:lnTo>
                    <a:pt x="745" y="1657"/>
                  </a:lnTo>
                  <a:lnTo>
                    <a:pt x="744" y="1649"/>
                  </a:lnTo>
                  <a:lnTo>
                    <a:pt x="751" y="1637"/>
                  </a:lnTo>
                  <a:lnTo>
                    <a:pt x="751" y="1629"/>
                  </a:lnTo>
                  <a:lnTo>
                    <a:pt x="744" y="1621"/>
                  </a:lnTo>
                  <a:lnTo>
                    <a:pt x="737" y="1613"/>
                  </a:lnTo>
                  <a:lnTo>
                    <a:pt x="727" y="1604"/>
                  </a:lnTo>
                  <a:lnTo>
                    <a:pt x="724" y="1610"/>
                  </a:lnTo>
                  <a:lnTo>
                    <a:pt x="723" y="1620"/>
                  </a:lnTo>
                  <a:lnTo>
                    <a:pt x="723" y="1630"/>
                  </a:lnTo>
                  <a:lnTo>
                    <a:pt x="721" y="1640"/>
                  </a:lnTo>
                  <a:lnTo>
                    <a:pt x="723" y="1649"/>
                  </a:lnTo>
                  <a:lnTo>
                    <a:pt x="720" y="1659"/>
                  </a:lnTo>
                  <a:lnTo>
                    <a:pt x="719" y="1668"/>
                  </a:lnTo>
                  <a:lnTo>
                    <a:pt x="716" y="1677"/>
                  </a:lnTo>
                  <a:lnTo>
                    <a:pt x="702" y="1676"/>
                  </a:lnTo>
                  <a:lnTo>
                    <a:pt x="699" y="1668"/>
                  </a:lnTo>
                  <a:lnTo>
                    <a:pt x="702" y="1658"/>
                  </a:lnTo>
                  <a:lnTo>
                    <a:pt x="700" y="1649"/>
                  </a:lnTo>
                  <a:lnTo>
                    <a:pt x="689" y="1642"/>
                  </a:lnTo>
                  <a:lnTo>
                    <a:pt x="682" y="1646"/>
                  </a:lnTo>
                  <a:lnTo>
                    <a:pt x="678" y="1636"/>
                  </a:lnTo>
                  <a:lnTo>
                    <a:pt x="670" y="1631"/>
                  </a:lnTo>
                  <a:lnTo>
                    <a:pt x="658" y="1636"/>
                  </a:lnTo>
                  <a:lnTo>
                    <a:pt x="650" y="1643"/>
                  </a:lnTo>
                  <a:lnTo>
                    <a:pt x="649" y="1652"/>
                  </a:lnTo>
                  <a:lnTo>
                    <a:pt x="637" y="1663"/>
                  </a:lnTo>
                  <a:lnTo>
                    <a:pt x="626" y="1657"/>
                  </a:lnTo>
                  <a:lnTo>
                    <a:pt x="614" y="1655"/>
                  </a:lnTo>
                  <a:lnTo>
                    <a:pt x="604" y="1649"/>
                  </a:lnTo>
                  <a:lnTo>
                    <a:pt x="593" y="1644"/>
                  </a:lnTo>
                  <a:lnTo>
                    <a:pt x="584" y="1637"/>
                  </a:lnTo>
                  <a:lnTo>
                    <a:pt x="573" y="1633"/>
                  </a:lnTo>
                  <a:lnTo>
                    <a:pt x="559" y="1633"/>
                  </a:lnTo>
                  <a:lnTo>
                    <a:pt x="547" y="1631"/>
                  </a:lnTo>
                  <a:lnTo>
                    <a:pt x="535" y="1626"/>
                  </a:lnTo>
                  <a:lnTo>
                    <a:pt x="528" y="1618"/>
                  </a:lnTo>
                  <a:lnTo>
                    <a:pt x="530" y="1609"/>
                  </a:lnTo>
                  <a:lnTo>
                    <a:pt x="533" y="1599"/>
                  </a:lnTo>
                  <a:lnTo>
                    <a:pt x="534" y="1590"/>
                  </a:lnTo>
                  <a:lnTo>
                    <a:pt x="530" y="1581"/>
                  </a:lnTo>
                  <a:lnTo>
                    <a:pt x="519" y="1576"/>
                  </a:lnTo>
                  <a:lnTo>
                    <a:pt x="507" y="1578"/>
                  </a:lnTo>
                  <a:lnTo>
                    <a:pt x="496" y="1583"/>
                  </a:lnTo>
                  <a:lnTo>
                    <a:pt x="485" y="1589"/>
                  </a:lnTo>
                  <a:lnTo>
                    <a:pt x="475" y="1595"/>
                  </a:lnTo>
                  <a:lnTo>
                    <a:pt x="467" y="1600"/>
                  </a:lnTo>
                  <a:lnTo>
                    <a:pt x="456" y="1606"/>
                  </a:lnTo>
                  <a:lnTo>
                    <a:pt x="446" y="1612"/>
                  </a:lnTo>
                  <a:lnTo>
                    <a:pt x="440" y="1620"/>
                  </a:lnTo>
                  <a:lnTo>
                    <a:pt x="433" y="1628"/>
                  </a:lnTo>
                  <a:lnTo>
                    <a:pt x="424" y="1634"/>
                  </a:lnTo>
                  <a:lnTo>
                    <a:pt x="411" y="1632"/>
                  </a:lnTo>
                  <a:lnTo>
                    <a:pt x="412" y="1639"/>
                  </a:lnTo>
                  <a:lnTo>
                    <a:pt x="407" y="1645"/>
                  </a:lnTo>
                  <a:lnTo>
                    <a:pt x="386" y="1649"/>
                  </a:lnTo>
                  <a:lnTo>
                    <a:pt x="373" y="1652"/>
                  </a:lnTo>
                  <a:lnTo>
                    <a:pt x="361" y="1652"/>
                  </a:lnTo>
                  <a:lnTo>
                    <a:pt x="347" y="1652"/>
                  </a:lnTo>
                  <a:lnTo>
                    <a:pt x="330" y="1657"/>
                  </a:lnTo>
                  <a:lnTo>
                    <a:pt x="327" y="1649"/>
                  </a:lnTo>
                  <a:lnTo>
                    <a:pt x="319" y="1635"/>
                  </a:lnTo>
                  <a:lnTo>
                    <a:pt x="316" y="1626"/>
                  </a:lnTo>
                  <a:lnTo>
                    <a:pt x="317" y="1617"/>
                  </a:lnTo>
                  <a:lnTo>
                    <a:pt x="317" y="1607"/>
                  </a:lnTo>
                  <a:lnTo>
                    <a:pt x="316" y="1598"/>
                  </a:lnTo>
                  <a:lnTo>
                    <a:pt x="312" y="1589"/>
                  </a:lnTo>
                  <a:lnTo>
                    <a:pt x="309" y="1580"/>
                  </a:lnTo>
                  <a:lnTo>
                    <a:pt x="308" y="1570"/>
                  </a:lnTo>
                  <a:lnTo>
                    <a:pt x="310" y="1561"/>
                  </a:lnTo>
                  <a:lnTo>
                    <a:pt x="316" y="1552"/>
                  </a:lnTo>
                  <a:lnTo>
                    <a:pt x="320" y="1543"/>
                  </a:lnTo>
                  <a:lnTo>
                    <a:pt x="323" y="1534"/>
                  </a:lnTo>
                  <a:lnTo>
                    <a:pt x="317" y="1526"/>
                  </a:lnTo>
                  <a:lnTo>
                    <a:pt x="316" y="1516"/>
                  </a:lnTo>
                  <a:lnTo>
                    <a:pt x="316" y="1507"/>
                  </a:lnTo>
                  <a:lnTo>
                    <a:pt x="315" y="1498"/>
                  </a:lnTo>
                  <a:lnTo>
                    <a:pt x="310" y="1488"/>
                  </a:lnTo>
                  <a:lnTo>
                    <a:pt x="308" y="1479"/>
                  </a:lnTo>
                  <a:lnTo>
                    <a:pt x="312" y="1472"/>
                  </a:lnTo>
                  <a:lnTo>
                    <a:pt x="326" y="1469"/>
                  </a:lnTo>
                  <a:lnTo>
                    <a:pt x="316" y="1464"/>
                  </a:lnTo>
                  <a:lnTo>
                    <a:pt x="301" y="1459"/>
                  </a:lnTo>
                  <a:lnTo>
                    <a:pt x="294" y="1454"/>
                  </a:lnTo>
                  <a:lnTo>
                    <a:pt x="301" y="1449"/>
                  </a:lnTo>
                  <a:lnTo>
                    <a:pt x="313" y="1443"/>
                  </a:lnTo>
                  <a:lnTo>
                    <a:pt x="326" y="1438"/>
                  </a:lnTo>
                  <a:lnTo>
                    <a:pt x="337" y="1432"/>
                  </a:lnTo>
                  <a:lnTo>
                    <a:pt x="341" y="1425"/>
                  </a:lnTo>
                  <a:lnTo>
                    <a:pt x="333" y="1416"/>
                  </a:lnTo>
                  <a:lnTo>
                    <a:pt x="330" y="1408"/>
                  </a:lnTo>
                  <a:lnTo>
                    <a:pt x="326" y="1400"/>
                  </a:lnTo>
                  <a:lnTo>
                    <a:pt x="322" y="1391"/>
                  </a:lnTo>
                  <a:lnTo>
                    <a:pt x="319" y="1382"/>
                  </a:lnTo>
                  <a:lnTo>
                    <a:pt x="313" y="1374"/>
                  </a:lnTo>
                  <a:lnTo>
                    <a:pt x="306" y="1365"/>
                  </a:lnTo>
                  <a:lnTo>
                    <a:pt x="301" y="1357"/>
                  </a:lnTo>
                  <a:lnTo>
                    <a:pt x="296" y="1349"/>
                  </a:lnTo>
                  <a:lnTo>
                    <a:pt x="302" y="1341"/>
                  </a:lnTo>
                  <a:lnTo>
                    <a:pt x="295" y="1333"/>
                  </a:lnTo>
                  <a:lnTo>
                    <a:pt x="285" y="1326"/>
                  </a:lnTo>
                  <a:lnTo>
                    <a:pt x="278" y="1319"/>
                  </a:lnTo>
                  <a:lnTo>
                    <a:pt x="270" y="1311"/>
                  </a:lnTo>
                  <a:lnTo>
                    <a:pt x="261" y="1304"/>
                  </a:lnTo>
                  <a:lnTo>
                    <a:pt x="280" y="1291"/>
                  </a:lnTo>
                  <a:lnTo>
                    <a:pt x="287" y="1283"/>
                  </a:lnTo>
                  <a:lnTo>
                    <a:pt x="298" y="1280"/>
                  </a:lnTo>
                  <a:lnTo>
                    <a:pt x="306" y="1273"/>
                  </a:lnTo>
                  <a:lnTo>
                    <a:pt x="315" y="1266"/>
                  </a:lnTo>
                  <a:lnTo>
                    <a:pt x="324" y="1260"/>
                  </a:lnTo>
                  <a:lnTo>
                    <a:pt x="330" y="1252"/>
                  </a:lnTo>
                  <a:lnTo>
                    <a:pt x="329" y="1243"/>
                  </a:lnTo>
                  <a:lnTo>
                    <a:pt x="329" y="1233"/>
                  </a:lnTo>
                  <a:lnTo>
                    <a:pt x="333" y="1224"/>
                  </a:lnTo>
                  <a:lnTo>
                    <a:pt x="338" y="1216"/>
                  </a:lnTo>
                  <a:lnTo>
                    <a:pt x="340" y="1206"/>
                  </a:lnTo>
                  <a:lnTo>
                    <a:pt x="341" y="1197"/>
                  </a:lnTo>
                  <a:lnTo>
                    <a:pt x="351" y="1191"/>
                  </a:lnTo>
                  <a:lnTo>
                    <a:pt x="363" y="1190"/>
                  </a:lnTo>
                  <a:lnTo>
                    <a:pt x="375" y="1185"/>
                  </a:lnTo>
                  <a:lnTo>
                    <a:pt x="382" y="1178"/>
                  </a:lnTo>
                  <a:lnTo>
                    <a:pt x="384" y="1170"/>
                  </a:lnTo>
                  <a:lnTo>
                    <a:pt x="390" y="1164"/>
                  </a:lnTo>
                  <a:lnTo>
                    <a:pt x="403" y="1164"/>
                  </a:lnTo>
                  <a:lnTo>
                    <a:pt x="415" y="1161"/>
                  </a:lnTo>
                  <a:lnTo>
                    <a:pt x="428" y="1157"/>
                  </a:lnTo>
                  <a:lnTo>
                    <a:pt x="439" y="1154"/>
                  </a:lnTo>
                  <a:lnTo>
                    <a:pt x="436" y="1145"/>
                  </a:lnTo>
                  <a:lnTo>
                    <a:pt x="424" y="1145"/>
                  </a:lnTo>
                  <a:lnTo>
                    <a:pt x="411" y="1150"/>
                  </a:lnTo>
                  <a:lnTo>
                    <a:pt x="400" y="1155"/>
                  </a:lnTo>
                  <a:lnTo>
                    <a:pt x="391" y="1152"/>
                  </a:lnTo>
                  <a:lnTo>
                    <a:pt x="386" y="1144"/>
                  </a:lnTo>
                  <a:lnTo>
                    <a:pt x="383" y="1134"/>
                  </a:lnTo>
                  <a:lnTo>
                    <a:pt x="377" y="1125"/>
                  </a:lnTo>
                  <a:lnTo>
                    <a:pt x="368" y="1120"/>
                  </a:lnTo>
                  <a:lnTo>
                    <a:pt x="359" y="1111"/>
                  </a:lnTo>
                  <a:lnTo>
                    <a:pt x="352" y="1103"/>
                  </a:lnTo>
                  <a:lnTo>
                    <a:pt x="347" y="1095"/>
                  </a:lnTo>
                  <a:lnTo>
                    <a:pt x="344" y="1086"/>
                  </a:lnTo>
                  <a:lnTo>
                    <a:pt x="340" y="1078"/>
                  </a:lnTo>
                  <a:lnTo>
                    <a:pt x="337" y="1069"/>
                  </a:lnTo>
                  <a:lnTo>
                    <a:pt x="334" y="1059"/>
                  </a:lnTo>
                  <a:lnTo>
                    <a:pt x="331" y="1050"/>
                  </a:lnTo>
                  <a:lnTo>
                    <a:pt x="331" y="1041"/>
                  </a:lnTo>
                  <a:lnTo>
                    <a:pt x="326" y="1032"/>
                  </a:lnTo>
                  <a:lnTo>
                    <a:pt x="333" y="1026"/>
                  </a:lnTo>
                  <a:lnTo>
                    <a:pt x="341" y="1019"/>
                  </a:lnTo>
                  <a:lnTo>
                    <a:pt x="349" y="1012"/>
                  </a:lnTo>
                  <a:lnTo>
                    <a:pt x="362" y="1009"/>
                  </a:lnTo>
                  <a:lnTo>
                    <a:pt x="373" y="1004"/>
                  </a:lnTo>
                  <a:lnTo>
                    <a:pt x="386" y="1001"/>
                  </a:lnTo>
                  <a:lnTo>
                    <a:pt x="386" y="993"/>
                  </a:lnTo>
                  <a:lnTo>
                    <a:pt x="377" y="986"/>
                  </a:lnTo>
                  <a:lnTo>
                    <a:pt x="368" y="980"/>
                  </a:lnTo>
                  <a:lnTo>
                    <a:pt x="366" y="971"/>
                  </a:lnTo>
                  <a:lnTo>
                    <a:pt x="366" y="962"/>
                  </a:lnTo>
                  <a:lnTo>
                    <a:pt x="368" y="952"/>
                  </a:lnTo>
                  <a:lnTo>
                    <a:pt x="369" y="943"/>
                  </a:lnTo>
                  <a:lnTo>
                    <a:pt x="368" y="934"/>
                  </a:lnTo>
                  <a:lnTo>
                    <a:pt x="362" y="925"/>
                  </a:lnTo>
                  <a:lnTo>
                    <a:pt x="358" y="916"/>
                  </a:lnTo>
                  <a:lnTo>
                    <a:pt x="355" y="907"/>
                  </a:lnTo>
                  <a:lnTo>
                    <a:pt x="354" y="898"/>
                  </a:lnTo>
                  <a:lnTo>
                    <a:pt x="352" y="889"/>
                  </a:lnTo>
                  <a:lnTo>
                    <a:pt x="351" y="880"/>
                  </a:lnTo>
                  <a:lnTo>
                    <a:pt x="348" y="870"/>
                  </a:lnTo>
                  <a:lnTo>
                    <a:pt x="347" y="861"/>
                  </a:lnTo>
                  <a:lnTo>
                    <a:pt x="348" y="853"/>
                  </a:lnTo>
                  <a:lnTo>
                    <a:pt x="362" y="850"/>
                  </a:lnTo>
                  <a:lnTo>
                    <a:pt x="355" y="841"/>
                  </a:lnTo>
                  <a:lnTo>
                    <a:pt x="358" y="835"/>
                  </a:lnTo>
                  <a:lnTo>
                    <a:pt x="372" y="836"/>
                  </a:lnTo>
                  <a:lnTo>
                    <a:pt x="370" y="828"/>
                  </a:lnTo>
                  <a:lnTo>
                    <a:pt x="363" y="820"/>
                  </a:lnTo>
                  <a:lnTo>
                    <a:pt x="363" y="811"/>
                  </a:lnTo>
                  <a:lnTo>
                    <a:pt x="365" y="801"/>
                  </a:lnTo>
                  <a:lnTo>
                    <a:pt x="366" y="792"/>
                  </a:lnTo>
                  <a:lnTo>
                    <a:pt x="368" y="783"/>
                  </a:lnTo>
                  <a:lnTo>
                    <a:pt x="366" y="774"/>
                  </a:lnTo>
                  <a:lnTo>
                    <a:pt x="373" y="767"/>
                  </a:lnTo>
                  <a:lnTo>
                    <a:pt x="373" y="757"/>
                  </a:lnTo>
                  <a:lnTo>
                    <a:pt x="370" y="748"/>
                  </a:lnTo>
                  <a:lnTo>
                    <a:pt x="363" y="740"/>
                  </a:lnTo>
                  <a:lnTo>
                    <a:pt x="358" y="731"/>
                  </a:lnTo>
                  <a:lnTo>
                    <a:pt x="348" y="729"/>
                  </a:lnTo>
                  <a:lnTo>
                    <a:pt x="334" y="730"/>
                  </a:lnTo>
                  <a:lnTo>
                    <a:pt x="322" y="730"/>
                  </a:lnTo>
                  <a:lnTo>
                    <a:pt x="310" y="726"/>
                  </a:lnTo>
                  <a:lnTo>
                    <a:pt x="301" y="719"/>
                  </a:lnTo>
                  <a:lnTo>
                    <a:pt x="292" y="712"/>
                  </a:lnTo>
                  <a:lnTo>
                    <a:pt x="285" y="704"/>
                  </a:lnTo>
                  <a:lnTo>
                    <a:pt x="274" y="699"/>
                  </a:lnTo>
                  <a:lnTo>
                    <a:pt x="268" y="691"/>
                  </a:lnTo>
                  <a:lnTo>
                    <a:pt x="268" y="682"/>
                  </a:lnTo>
                  <a:lnTo>
                    <a:pt x="264" y="673"/>
                  </a:lnTo>
                  <a:lnTo>
                    <a:pt x="261" y="665"/>
                  </a:lnTo>
                  <a:lnTo>
                    <a:pt x="254" y="656"/>
                  </a:lnTo>
                  <a:lnTo>
                    <a:pt x="247" y="647"/>
                  </a:lnTo>
                  <a:lnTo>
                    <a:pt x="238" y="642"/>
                  </a:lnTo>
                  <a:lnTo>
                    <a:pt x="224" y="642"/>
                  </a:lnTo>
                  <a:lnTo>
                    <a:pt x="211" y="645"/>
                  </a:lnTo>
                  <a:lnTo>
                    <a:pt x="200" y="650"/>
                  </a:lnTo>
                  <a:lnTo>
                    <a:pt x="190" y="656"/>
                  </a:lnTo>
                  <a:lnTo>
                    <a:pt x="179" y="662"/>
                  </a:lnTo>
                  <a:lnTo>
                    <a:pt x="168" y="667"/>
                  </a:lnTo>
                  <a:lnTo>
                    <a:pt x="155" y="671"/>
                  </a:lnTo>
                  <a:lnTo>
                    <a:pt x="145" y="676"/>
                  </a:lnTo>
                  <a:lnTo>
                    <a:pt x="137" y="676"/>
                  </a:lnTo>
                  <a:lnTo>
                    <a:pt x="130" y="668"/>
                  </a:lnTo>
                  <a:lnTo>
                    <a:pt x="119" y="662"/>
                  </a:lnTo>
                  <a:lnTo>
                    <a:pt x="110" y="654"/>
                  </a:lnTo>
                  <a:lnTo>
                    <a:pt x="109" y="645"/>
                  </a:lnTo>
                  <a:lnTo>
                    <a:pt x="102" y="637"/>
                  </a:lnTo>
                  <a:lnTo>
                    <a:pt x="94" y="630"/>
                  </a:lnTo>
                  <a:lnTo>
                    <a:pt x="88" y="622"/>
                  </a:lnTo>
                  <a:lnTo>
                    <a:pt x="82" y="614"/>
                  </a:lnTo>
                  <a:lnTo>
                    <a:pt x="69" y="613"/>
                  </a:lnTo>
                  <a:lnTo>
                    <a:pt x="52" y="617"/>
                  </a:lnTo>
                  <a:lnTo>
                    <a:pt x="42" y="616"/>
                  </a:lnTo>
                  <a:lnTo>
                    <a:pt x="35" y="608"/>
                  </a:lnTo>
                  <a:lnTo>
                    <a:pt x="31" y="599"/>
                  </a:lnTo>
                  <a:lnTo>
                    <a:pt x="29" y="589"/>
                  </a:lnTo>
                  <a:lnTo>
                    <a:pt x="29" y="580"/>
                  </a:lnTo>
                  <a:lnTo>
                    <a:pt x="25" y="571"/>
                  </a:lnTo>
                  <a:lnTo>
                    <a:pt x="25" y="562"/>
                  </a:lnTo>
                  <a:lnTo>
                    <a:pt x="28" y="554"/>
                  </a:lnTo>
                  <a:lnTo>
                    <a:pt x="38" y="547"/>
                  </a:lnTo>
                  <a:lnTo>
                    <a:pt x="49" y="543"/>
                  </a:lnTo>
                  <a:lnTo>
                    <a:pt x="60" y="537"/>
                  </a:lnTo>
                  <a:lnTo>
                    <a:pt x="59" y="529"/>
                  </a:lnTo>
                  <a:lnTo>
                    <a:pt x="46" y="528"/>
                  </a:lnTo>
                  <a:lnTo>
                    <a:pt x="34" y="525"/>
                  </a:lnTo>
                  <a:lnTo>
                    <a:pt x="22" y="520"/>
                  </a:lnTo>
                  <a:lnTo>
                    <a:pt x="14" y="513"/>
                  </a:lnTo>
                  <a:lnTo>
                    <a:pt x="8" y="505"/>
                  </a:lnTo>
                  <a:lnTo>
                    <a:pt x="4" y="49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06680" y="2894040"/>
              <a:ext cx="974880" cy="1467000"/>
            </a:xfrm>
            <a:custGeom>
              <a:avLst/>
              <a:gdLst/>
              <a:ahLst/>
              <a:rect l="l" t="t" r="r" b="b"/>
              <a:pathLst>
                <a:path w="1841" h="1848">
                  <a:moveTo>
                    <a:pt x="4" y="497"/>
                  </a:moveTo>
                  <a:lnTo>
                    <a:pt x="0" y="488"/>
                  </a:lnTo>
                  <a:lnTo>
                    <a:pt x="7" y="481"/>
                  </a:lnTo>
                  <a:lnTo>
                    <a:pt x="16" y="474"/>
                  </a:lnTo>
                  <a:lnTo>
                    <a:pt x="26" y="468"/>
                  </a:lnTo>
                  <a:lnTo>
                    <a:pt x="37" y="463"/>
                  </a:lnTo>
                  <a:lnTo>
                    <a:pt x="49" y="459"/>
                  </a:lnTo>
                  <a:lnTo>
                    <a:pt x="68" y="455"/>
                  </a:lnTo>
                  <a:lnTo>
                    <a:pt x="83" y="455"/>
                  </a:lnTo>
                  <a:lnTo>
                    <a:pt x="96" y="453"/>
                  </a:lnTo>
                  <a:lnTo>
                    <a:pt x="100" y="441"/>
                  </a:lnTo>
                  <a:lnTo>
                    <a:pt x="92" y="433"/>
                  </a:lnTo>
                  <a:lnTo>
                    <a:pt x="88" y="424"/>
                  </a:lnTo>
                  <a:lnTo>
                    <a:pt x="92" y="415"/>
                  </a:lnTo>
                  <a:lnTo>
                    <a:pt x="100" y="407"/>
                  </a:lnTo>
                  <a:lnTo>
                    <a:pt x="102" y="398"/>
                  </a:lnTo>
                  <a:lnTo>
                    <a:pt x="106" y="390"/>
                  </a:lnTo>
                  <a:lnTo>
                    <a:pt x="114" y="382"/>
                  </a:lnTo>
                  <a:lnTo>
                    <a:pt x="125" y="377"/>
                  </a:lnTo>
                  <a:lnTo>
                    <a:pt x="135" y="372"/>
                  </a:lnTo>
                  <a:lnTo>
                    <a:pt x="145" y="365"/>
                  </a:lnTo>
                  <a:lnTo>
                    <a:pt x="151" y="357"/>
                  </a:lnTo>
                  <a:lnTo>
                    <a:pt x="152" y="347"/>
                  </a:lnTo>
                  <a:lnTo>
                    <a:pt x="151" y="338"/>
                  </a:lnTo>
                  <a:lnTo>
                    <a:pt x="146" y="329"/>
                  </a:lnTo>
                  <a:lnTo>
                    <a:pt x="139" y="321"/>
                  </a:lnTo>
                  <a:lnTo>
                    <a:pt x="149" y="316"/>
                  </a:lnTo>
                  <a:lnTo>
                    <a:pt x="162" y="313"/>
                  </a:lnTo>
                  <a:lnTo>
                    <a:pt x="172" y="307"/>
                  </a:lnTo>
                  <a:lnTo>
                    <a:pt x="172" y="297"/>
                  </a:lnTo>
                  <a:lnTo>
                    <a:pt x="165" y="289"/>
                  </a:lnTo>
                  <a:lnTo>
                    <a:pt x="159" y="281"/>
                  </a:lnTo>
                  <a:lnTo>
                    <a:pt x="160" y="271"/>
                  </a:lnTo>
                  <a:lnTo>
                    <a:pt x="170" y="267"/>
                  </a:lnTo>
                  <a:lnTo>
                    <a:pt x="183" y="265"/>
                  </a:lnTo>
                  <a:lnTo>
                    <a:pt x="194" y="260"/>
                  </a:lnTo>
                  <a:lnTo>
                    <a:pt x="205" y="254"/>
                  </a:lnTo>
                  <a:lnTo>
                    <a:pt x="212" y="261"/>
                  </a:lnTo>
                  <a:lnTo>
                    <a:pt x="219" y="263"/>
                  </a:lnTo>
                  <a:lnTo>
                    <a:pt x="226" y="271"/>
                  </a:lnTo>
                  <a:lnTo>
                    <a:pt x="233" y="279"/>
                  </a:lnTo>
                  <a:lnTo>
                    <a:pt x="246" y="278"/>
                  </a:lnTo>
                  <a:lnTo>
                    <a:pt x="254" y="271"/>
                  </a:lnTo>
                  <a:lnTo>
                    <a:pt x="265" y="266"/>
                  </a:lnTo>
                  <a:lnTo>
                    <a:pt x="276" y="263"/>
                  </a:lnTo>
                  <a:lnTo>
                    <a:pt x="286" y="270"/>
                  </a:lnTo>
                  <a:lnTo>
                    <a:pt x="297" y="272"/>
                  </a:lnTo>
                  <a:lnTo>
                    <a:pt x="307" y="266"/>
                  </a:lnTo>
                  <a:lnTo>
                    <a:pt x="317" y="259"/>
                  </a:lnTo>
                  <a:lnTo>
                    <a:pt x="318" y="249"/>
                  </a:lnTo>
                  <a:lnTo>
                    <a:pt x="314" y="242"/>
                  </a:lnTo>
                  <a:lnTo>
                    <a:pt x="320" y="233"/>
                  </a:lnTo>
                  <a:lnTo>
                    <a:pt x="320" y="223"/>
                  </a:lnTo>
                  <a:lnTo>
                    <a:pt x="314" y="214"/>
                  </a:lnTo>
                  <a:lnTo>
                    <a:pt x="306" y="206"/>
                  </a:lnTo>
                  <a:lnTo>
                    <a:pt x="310" y="201"/>
                  </a:lnTo>
                  <a:lnTo>
                    <a:pt x="325" y="203"/>
                  </a:lnTo>
                  <a:lnTo>
                    <a:pt x="337" y="208"/>
                  </a:lnTo>
                  <a:lnTo>
                    <a:pt x="345" y="215"/>
                  </a:lnTo>
                  <a:lnTo>
                    <a:pt x="353" y="222"/>
                  </a:lnTo>
                  <a:lnTo>
                    <a:pt x="364" y="227"/>
                  </a:lnTo>
                  <a:lnTo>
                    <a:pt x="378" y="231"/>
                  </a:lnTo>
                  <a:lnTo>
                    <a:pt x="391" y="234"/>
                  </a:lnTo>
                  <a:lnTo>
                    <a:pt x="404" y="238"/>
                  </a:lnTo>
                  <a:lnTo>
                    <a:pt x="412" y="243"/>
                  </a:lnTo>
                  <a:lnTo>
                    <a:pt x="413" y="250"/>
                  </a:lnTo>
                  <a:lnTo>
                    <a:pt x="405" y="261"/>
                  </a:lnTo>
                  <a:lnTo>
                    <a:pt x="413" y="266"/>
                  </a:lnTo>
                  <a:lnTo>
                    <a:pt x="408" y="275"/>
                  </a:lnTo>
                  <a:lnTo>
                    <a:pt x="415" y="283"/>
                  </a:lnTo>
                  <a:lnTo>
                    <a:pt x="422" y="291"/>
                  </a:lnTo>
                  <a:lnTo>
                    <a:pt x="432" y="297"/>
                  </a:lnTo>
                  <a:lnTo>
                    <a:pt x="443" y="302"/>
                  </a:lnTo>
                  <a:lnTo>
                    <a:pt x="454" y="306"/>
                  </a:lnTo>
                  <a:lnTo>
                    <a:pt x="468" y="308"/>
                  </a:lnTo>
                  <a:lnTo>
                    <a:pt x="478" y="312"/>
                  </a:lnTo>
                  <a:lnTo>
                    <a:pt x="482" y="321"/>
                  </a:lnTo>
                  <a:lnTo>
                    <a:pt x="489" y="329"/>
                  </a:lnTo>
                  <a:lnTo>
                    <a:pt x="496" y="337"/>
                  </a:lnTo>
                  <a:lnTo>
                    <a:pt x="504" y="345"/>
                  </a:lnTo>
                  <a:lnTo>
                    <a:pt x="514" y="351"/>
                  </a:lnTo>
                  <a:lnTo>
                    <a:pt x="524" y="355"/>
                  </a:lnTo>
                  <a:lnTo>
                    <a:pt x="535" y="359"/>
                  </a:lnTo>
                  <a:lnTo>
                    <a:pt x="546" y="365"/>
                  </a:lnTo>
                  <a:lnTo>
                    <a:pt x="553" y="361"/>
                  </a:lnTo>
                  <a:lnTo>
                    <a:pt x="566" y="357"/>
                  </a:lnTo>
                  <a:lnTo>
                    <a:pt x="576" y="352"/>
                  </a:lnTo>
                  <a:lnTo>
                    <a:pt x="581" y="343"/>
                  </a:lnTo>
                  <a:lnTo>
                    <a:pt x="584" y="333"/>
                  </a:lnTo>
                  <a:lnTo>
                    <a:pt x="594" y="336"/>
                  </a:lnTo>
                  <a:lnTo>
                    <a:pt x="602" y="344"/>
                  </a:lnTo>
                  <a:lnTo>
                    <a:pt x="613" y="342"/>
                  </a:lnTo>
                  <a:lnTo>
                    <a:pt x="624" y="337"/>
                  </a:lnTo>
                  <a:lnTo>
                    <a:pt x="638" y="335"/>
                  </a:lnTo>
                  <a:lnTo>
                    <a:pt x="652" y="333"/>
                  </a:lnTo>
                  <a:lnTo>
                    <a:pt x="665" y="331"/>
                  </a:lnTo>
                  <a:lnTo>
                    <a:pt x="676" y="328"/>
                  </a:lnTo>
                  <a:lnTo>
                    <a:pt x="671" y="325"/>
                  </a:lnTo>
                  <a:lnTo>
                    <a:pt x="662" y="318"/>
                  </a:lnTo>
                  <a:lnTo>
                    <a:pt x="655" y="310"/>
                  </a:lnTo>
                  <a:lnTo>
                    <a:pt x="644" y="306"/>
                  </a:lnTo>
                  <a:lnTo>
                    <a:pt x="634" y="299"/>
                  </a:lnTo>
                  <a:lnTo>
                    <a:pt x="627" y="291"/>
                  </a:lnTo>
                  <a:lnTo>
                    <a:pt x="627" y="282"/>
                  </a:lnTo>
                  <a:lnTo>
                    <a:pt x="633" y="274"/>
                  </a:lnTo>
                  <a:lnTo>
                    <a:pt x="641" y="267"/>
                  </a:lnTo>
                  <a:lnTo>
                    <a:pt x="647" y="259"/>
                  </a:lnTo>
                  <a:lnTo>
                    <a:pt x="658" y="253"/>
                  </a:lnTo>
                  <a:lnTo>
                    <a:pt x="664" y="245"/>
                  </a:lnTo>
                  <a:lnTo>
                    <a:pt x="675" y="240"/>
                  </a:lnTo>
                  <a:lnTo>
                    <a:pt x="686" y="242"/>
                  </a:lnTo>
                  <a:lnTo>
                    <a:pt x="690" y="250"/>
                  </a:lnTo>
                  <a:lnTo>
                    <a:pt x="699" y="259"/>
                  </a:lnTo>
                  <a:lnTo>
                    <a:pt x="708" y="264"/>
                  </a:lnTo>
                  <a:lnTo>
                    <a:pt x="718" y="256"/>
                  </a:lnTo>
                  <a:lnTo>
                    <a:pt x="722" y="253"/>
                  </a:lnTo>
                  <a:lnTo>
                    <a:pt x="732" y="247"/>
                  </a:lnTo>
                  <a:lnTo>
                    <a:pt x="738" y="239"/>
                  </a:lnTo>
                  <a:lnTo>
                    <a:pt x="743" y="230"/>
                  </a:lnTo>
                  <a:lnTo>
                    <a:pt x="752" y="223"/>
                  </a:lnTo>
                  <a:lnTo>
                    <a:pt x="761" y="219"/>
                  </a:lnTo>
                  <a:lnTo>
                    <a:pt x="768" y="211"/>
                  </a:lnTo>
                  <a:lnTo>
                    <a:pt x="768" y="203"/>
                  </a:lnTo>
                  <a:lnTo>
                    <a:pt x="773" y="194"/>
                  </a:lnTo>
                  <a:lnTo>
                    <a:pt x="778" y="187"/>
                  </a:lnTo>
                  <a:lnTo>
                    <a:pt x="791" y="186"/>
                  </a:lnTo>
                  <a:lnTo>
                    <a:pt x="796" y="179"/>
                  </a:lnTo>
                  <a:lnTo>
                    <a:pt x="803" y="175"/>
                  </a:lnTo>
                  <a:lnTo>
                    <a:pt x="810" y="183"/>
                  </a:lnTo>
                  <a:lnTo>
                    <a:pt x="819" y="190"/>
                  </a:lnTo>
                  <a:lnTo>
                    <a:pt x="830" y="185"/>
                  </a:lnTo>
                  <a:lnTo>
                    <a:pt x="838" y="177"/>
                  </a:lnTo>
                  <a:lnTo>
                    <a:pt x="834" y="171"/>
                  </a:lnTo>
                  <a:lnTo>
                    <a:pt x="838" y="167"/>
                  </a:lnTo>
                  <a:lnTo>
                    <a:pt x="851" y="163"/>
                  </a:lnTo>
                  <a:lnTo>
                    <a:pt x="859" y="157"/>
                  </a:lnTo>
                  <a:lnTo>
                    <a:pt x="872" y="153"/>
                  </a:lnTo>
                  <a:lnTo>
                    <a:pt x="882" y="149"/>
                  </a:lnTo>
                  <a:lnTo>
                    <a:pt x="876" y="140"/>
                  </a:lnTo>
                  <a:lnTo>
                    <a:pt x="878" y="134"/>
                  </a:lnTo>
                  <a:lnTo>
                    <a:pt x="891" y="135"/>
                  </a:lnTo>
                  <a:lnTo>
                    <a:pt x="896" y="129"/>
                  </a:lnTo>
                  <a:lnTo>
                    <a:pt x="893" y="120"/>
                  </a:lnTo>
                  <a:lnTo>
                    <a:pt x="884" y="114"/>
                  </a:lnTo>
                  <a:lnTo>
                    <a:pt x="872" y="108"/>
                  </a:lnTo>
                  <a:lnTo>
                    <a:pt x="878" y="105"/>
                  </a:lnTo>
                  <a:lnTo>
                    <a:pt x="891" y="105"/>
                  </a:lnTo>
                  <a:lnTo>
                    <a:pt x="905" y="106"/>
                  </a:lnTo>
                  <a:lnTo>
                    <a:pt x="914" y="101"/>
                  </a:lnTo>
                  <a:lnTo>
                    <a:pt x="910" y="92"/>
                  </a:lnTo>
                  <a:lnTo>
                    <a:pt x="904" y="83"/>
                  </a:lnTo>
                  <a:lnTo>
                    <a:pt x="897" y="75"/>
                  </a:lnTo>
                  <a:lnTo>
                    <a:pt x="891" y="66"/>
                  </a:lnTo>
                  <a:lnTo>
                    <a:pt x="889" y="58"/>
                  </a:lnTo>
                  <a:lnTo>
                    <a:pt x="897" y="53"/>
                  </a:lnTo>
                  <a:lnTo>
                    <a:pt x="903" y="44"/>
                  </a:lnTo>
                  <a:lnTo>
                    <a:pt x="914" y="42"/>
                  </a:lnTo>
                  <a:lnTo>
                    <a:pt x="926" y="42"/>
                  </a:lnTo>
                  <a:lnTo>
                    <a:pt x="940" y="43"/>
                  </a:lnTo>
                  <a:lnTo>
                    <a:pt x="953" y="42"/>
                  </a:lnTo>
                  <a:lnTo>
                    <a:pt x="966" y="40"/>
                  </a:lnTo>
                  <a:lnTo>
                    <a:pt x="975" y="47"/>
                  </a:lnTo>
                  <a:lnTo>
                    <a:pt x="987" y="52"/>
                  </a:lnTo>
                  <a:lnTo>
                    <a:pt x="995" y="48"/>
                  </a:lnTo>
                  <a:lnTo>
                    <a:pt x="1001" y="38"/>
                  </a:lnTo>
                  <a:lnTo>
                    <a:pt x="1005" y="29"/>
                  </a:lnTo>
                  <a:lnTo>
                    <a:pt x="1010" y="20"/>
                  </a:lnTo>
                  <a:lnTo>
                    <a:pt x="1017" y="14"/>
                  </a:lnTo>
                  <a:lnTo>
                    <a:pt x="1030" y="20"/>
                  </a:lnTo>
                  <a:lnTo>
                    <a:pt x="1042" y="19"/>
                  </a:lnTo>
                  <a:lnTo>
                    <a:pt x="1054" y="14"/>
                  </a:lnTo>
                  <a:lnTo>
                    <a:pt x="1062" y="8"/>
                  </a:lnTo>
                  <a:lnTo>
                    <a:pt x="1073" y="4"/>
                  </a:lnTo>
                  <a:lnTo>
                    <a:pt x="1087" y="6"/>
                  </a:lnTo>
                  <a:lnTo>
                    <a:pt x="1098" y="11"/>
                  </a:lnTo>
                  <a:lnTo>
                    <a:pt x="1110" y="14"/>
                  </a:lnTo>
                  <a:lnTo>
                    <a:pt x="1122" y="17"/>
                  </a:lnTo>
                  <a:lnTo>
                    <a:pt x="1133" y="21"/>
                  </a:lnTo>
                  <a:lnTo>
                    <a:pt x="1146" y="26"/>
                  </a:lnTo>
                  <a:lnTo>
                    <a:pt x="1157" y="24"/>
                  </a:lnTo>
                  <a:lnTo>
                    <a:pt x="1163" y="15"/>
                  </a:lnTo>
                  <a:lnTo>
                    <a:pt x="1170" y="13"/>
                  </a:lnTo>
                  <a:lnTo>
                    <a:pt x="1182" y="13"/>
                  </a:lnTo>
                  <a:lnTo>
                    <a:pt x="1195" y="11"/>
                  </a:lnTo>
                  <a:lnTo>
                    <a:pt x="1207" y="9"/>
                  </a:lnTo>
                  <a:lnTo>
                    <a:pt x="1221" y="10"/>
                  </a:lnTo>
                  <a:lnTo>
                    <a:pt x="1234" y="11"/>
                  </a:lnTo>
                  <a:lnTo>
                    <a:pt x="1247" y="11"/>
                  </a:lnTo>
                  <a:lnTo>
                    <a:pt x="1259" y="11"/>
                  </a:lnTo>
                  <a:lnTo>
                    <a:pt x="1269" y="4"/>
                  </a:lnTo>
                  <a:lnTo>
                    <a:pt x="1282" y="4"/>
                  </a:lnTo>
                  <a:lnTo>
                    <a:pt x="1293" y="0"/>
                  </a:lnTo>
                  <a:lnTo>
                    <a:pt x="1300" y="8"/>
                  </a:lnTo>
                  <a:lnTo>
                    <a:pt x="1307" y="16"/>
                  </a:lnTo>
                  <a:lnTo>
                    <a:pt x="1314" y="23"/>
                  </a:lnTo>
                  <a:lnTo>
                    <a:pt x="1314" y="33"/>
                  </a:lnTo>
                  <a:lnTo>
                    <a:pt x="1308" y="41"/>
                  </a:lnTo>
                  <a:lnTo>
                    <a:pt x="1301" y="49"/>
                  </a:lnTo>
                  <a:lnTo>
                    <a:pt x="1300" y="58"/>
                  </a:lnTo>
                  <a:lnTo>
                    <a:pt x="1304" y="67"/>
                  </a:lnTo>
                  <a:lnTo>
                    <a:pt x="1304" y="76"/>
                  </a:lnTo>
                  <a:lnTo>
                    <a:pt x="1307" y="85"/>
                  </a:lnTo>
                  <a:lnTo>
                    <a:pt x="1305" y="94"/>
                  </a:lnTo>
                  <a:lnTo>
                    <a:pt x="1319" y="109"/>
                  </a:lnTo>
                  <a:lnTo>
                    <a:pt x="1326" y="116"/>
                  </a:lnTo>
                  <a:lnTo>
                    <a:pt x="1333" y="124"/>
                  </a:lnTo>
                  <a:lnTo>
                    <a:pt x="1337" y="133"/>
                  </a:lnTo>
                  <a:lnTo>
                    <a:pt x="1343" y="141"/>
                  </a:lnTo>
                  <a:lnTo>
                    <a:pt x="1350" y="150"/>
                  </a:lnTo>
                  <a:lnTo>
                    <a:pt x="1356" y="158"/>
                  </a:lnTo>
                  <a:lnTo>
                    <a:pt x="1360" y="167"/>
                  </a:lnTo>
                  <a:lnTo>
                    <a:pt x="1368" y="174"/>
                  </a:lnTo>
                  <a:lnTo>
                    <a:pt x="1378" y="176"/>
                  </a:lnTo>
                  <a:lnTo>
                    <a:pt x="1388" y="180"/>
                  </a:lnTo>
                  <a:lnTo>
                    <a:pt x="1400" y="180"/>
                  </a:lnTo>
                  <a:lnTo>
                    <a:pt x="1413" y="177"/>
                  </a:lnTo>
                  <a:lnTo>
                    <a:pt x="1423" y="182"/>
                  </a:lnTo>
                  <a:lnTo>
                    <a:pt x="1428" y="189"/>
                  </a:lnTo>
                  <a:lnTo>
                    <a:pt x="1432" y="198"/>
                  </a:lnTo>
                  <a:lnTo>
                    <a:pt x="1437" y="207"/>
                  </a:lnTo>
                  <a:lnTo>
                    <a:pt x="1446" y="212"/>
                  </a:lnTo>
                  <a:lnTo>
                    <a:pt x="1458" y="217"/>
                  </a:lnTo>
                  <a:lnTo>
                    <a:pt x="1466" y="224"/>
                  </a:lnTo>
                  <a:lnTo>
                    <a:pt x="1473" y="232"/>
                  </a:lnTo>
                  <a:lnTo>
                    <a:pt x="1476" y="241"/>
                  </a:lnTo>
                  <a:lnTo>
                    <a:pt x="1484" y="249"/>
                  </a:lnTo>
                  <a:lnTo>
                    <a:pt x="1484" y="259"/>
                  </a:lnTo>
                  <a:lnTo>
                    <a:pt x="1484" y="268"/>
                  </a:lnTo>
                  <a:lnTo>
                    <a:pt x="1484" y="277"/>
                  </a:lnTo>
                  <a:lnTo>
                    <a:pt x="1487" y="287"/>
                  </a:lnTo>
                  <a:lnTo>
                    <a:pt x="1491" y="295"/>
                  </a:lnTo>
                  <a:lnTo>
                    <a:pt x="1487" y="303"/>
                  </a:lnTo>
                  <a:lnTo>
                    <a:pt x="1488" y="312"/>
                  </a:lnTo>
                  <a:lnTo>
                    <a:pt x="1483" y="319"/>
                  </a:lnTo>
                  <a:lnTo>
                    <a:pt x="1474" y="326"/>
                  </a:lnTo>
                  <a:lnTo>
                    <a:pt x="1465" y="331"/>
                  </a:lnTo>
                  <a:lnTo>
                    <a:pt x="1452" y="335"/>
                  </a:lnTo>
                  <a:lnTo>
                    <a:pt x="1442" y="341"/>
                  </a:lnTo>
                  <a:lnTo>
                    <a:pt x="1435" y="348"/>
                  </a:lnTo>
                  <a:lnTo>
                    <a:pt x="1430" y="357"/>
                  </a:lnTo>
                  <a:lnTo>
                    <a:pt x="1430" y="365"/>
                  </a:lnTo>
                  <a:lnTo>
                    <a:pt x="1439" y="371"/>
                  </a:lnTo>
                  <a:lnTo>
                    <a:pt x="1449" y="377"/>
                  </a:lnTo>
                  <a:lnTo>
                    <a:pt x="1458" y="384"/>
                  </a:lnTo>
                  <a:lnTo>
                    <a:pt x="1466" y="392"/>
                  </a:lnTo>
                  <a:lnTo>
                    <a:pt x="1472" y="400"/>
                  </a:lnTo>
                  <a:lnTo>
                    <a:pt x="1477" y="409"/>
                  </a:lnTo>
                  <a:lnTo>
                    <a:pt x="1484" y="416"/>
                  </a:lnTo>
                  <a:lnTo>
                    <a:pt x="1491" y="424"/>
                  </a:lnTo>
                  <a:lnTo>
                    <a:pt x="1500" y="430"/>
                  </a:lnTo>
                  <a:lnTo>
                    <a:pt x="1508" y="436"/>
                  </a:lnTo>
                  <a:lnTo>
                    <a:pt x="1518" y="443"/>
                  </a:lnTo>
                  <a:lnTo>
                    <a:pt x="1525" y="453"/>
                  </a:lnTo>
                  <a:lnTo>
                    <a:pt x="1526" y="460"/>
                  </a:lnTo>
                  <a:lnTo>
                    <a:pt x="1535" y="467"/>
                  </a:lnTo>
                  <a:lnTo>
                    <a:pt x="1542" y="476"/>
                  </a:lnTo>
                  <a:lnTo>
                    <a:pt x="1550" y="482"/>
                  </a:lnTo>
                  <a:lnTo>
                    <a:pt x="1561" y="488"/>
                  </a:lnTo>
                  <a:lnTo>
                    <a:pt x="1569" y="495"/>
                  </a:lnTo>
                  <a:lnTo>
                    <a:pt x="1579" y="495"/>
                  </a:lnTo>
                  <a:lnTo>
                    <a:pt x="1589" y="501"/>
                  </a:lnTo>
                  <a:lnTo>
                    <a:pt x="1599" y="508"/>
                  </a:lnTo>
                  <a:lnTo>
                    <a:pt x="1607" y="514"/>
                  </a:lnTo>
                  <a:lnTo>
                    <a:pt x="1617" y="521"/>
                  </a:lnTo>
                  <a:lnTo>
                    <a:pt x="1625" y="528"/>
                  </a:lnTo>
                  <a:lnTo>
                    <a:pt x="1634" y="535"/>
                  </a:lnTo>
                  <a:lnTo>
                    <a:pt x="1642" y="543"/>
                  </a:lnTo>
                  <a:lnTo>
                    <a:pt x="1641" y="551"/>
                  </a:lnTo>
                  <a:lnTo>
                    <a:pt x="1631" y="558"/>
                  </a:lnTo>
                  <a:lnTo>
                    <a:pt x="1621" y="564"/>
                  </a:lnTo>
                  <a:lnTo>
                    <a:pt x="1631" y="566"/>
                  </a:lnTo>
                  <a:lnTo>
                    <a:pt x="1644" y="565"/>
                  </a:lnTo>
                  <a:lnTo>
                    <a:pt x="1656" y="569"/>
                  </a:lnTo>
                  <a:lnTo>
                    <a:pt x="1667" y="574"/>
                  </a:lnTo>
                  <a:lnTo>
                    <a:pt x="1662" y="582"/>
                  </a:lnTo>
                  <a:lnTo>
                    <a:pt x="1665" y="588"/>
                  </a:lnTo>
                  <a:lnTo>
                    <a:pt x="1659" y="597"/>
                  </a:lnTo>
                  <a:lnTo>
                    <a:pt x="1655" y="606"/>
                  </a:lnTo>
                  <a:lnTo>
                    <a:pt x="1663" y="613"/>
                  </a:lnTo>
                  <a:lnTo>
                    <a:pt x="1663" y="623"/>
                  </a:lnTo>
                  <a:lnTo>
                    <a:pt x="1673" y="623"/>
                  </a:lnTo>
                  <a:lnTo>
                    <a:pt x="1686" y="626"/>
                  </a:lnTo>
                  <a:lnTo>
                    <a:pt x="1698" y="627"/>
                  </a:lnTo>
                  <a:lnTo>
                    <a:pt x="1712" y="629"/>
                  </a:lnTo>
                  <a:lnTo>
                    <a:pt x="1725" y="630"/>
                  </a:lnTo>
                  <a:lnTo>
                    <a:pt x="1739" y="628"/>
                  </a:lnTo>
                  <a:lnTo>
                    <a:pt x="1747" y="632"/>
                  </a:lnTo>
                  <a:lnTo>
                    <a:pt x="1747" y="642"/>
                  </a:lnTo>
                  <a:lnTo>
                    <a:pt x="1746" y="652"/>
                  </a:lnTo>
                  <a:lnTo>
                    <a:pt x="1741" y="661"/>
                  </a:lnTo>
                  <a:lnTo>
                    <a:pt x="1737" y="670"/>
                  </a:lnTo>
                  <a:lnTo>
                    <a:pt x="1734" y="679"/>
                  </a:lnTo>
                  <a:lnTo>
                    <a:pt x="1730" y="688"/>
                  </a:lnTo>
                  <a:lnTo>
                    <a:pt x="1727" y="697"/>
                  </a:lnTo>
                  <a:lnTo>
                    <a:pt x="1725" y="706"/>
                  </a:lnTo>
                  <a:lnTo>
                    <a:pt x="1723" y="715"/>
                  </a:lnTo>
                  <a:lnTo>
                    <a:pt x="1720" y="725"/>
                  </a:lnTo>
                  <a:lnTo>
                    <a:pt x="1713" y="733"/>
                  </a:lnTo>
                  <a:lnTo>
                    <a:pt x="1708" y="741"/>
                  </a:lnTo>
                  <a:lnTo>
                    <a:pt x="1701" y="749"/>
                  </a:lnTo>
                  <a:lnTo>
                    <a:pt x="1694" y="757"/>
                  </a:lnTo>
                  <a:lnTo>
                    <a:pt x="1687" y="765"/>
                  </a:lnTo>
                  <a:lnTo>
                    <a:pt x="1680" y="773"/>
                  </a:lnTo>
                  <a:lnTo>
                    <a:pt x="1674" y="781"/>
                  </a:lnTo>
                  <a:lnTo>
                    <a:pt x="1670" y="790"/>
                  </a:lnTo>
                  <a:lnTo>
                    <a:pt x="1667" y="799"/>
                  </a:lnTo>
                  <a:lnTo>
                    <a:pt x="1666" y="809"/>
                  </a:lnTo>
                  <a:lnTo>
                    <a:pt x="1665" y="818"/>
                  </a:lnTo>
                  <a:lnTo>
                    <a:pt x="1662" y="827"/>
                  </a:lnTo>
                  <a:lnTo>
                    <a:pt x="1659" y="836"/>
                  </a:lnTo>
                  <a:lnTo>
                    <a:pt x="1658" y="845"/>
                  </a:lnTo>
                  <a:lnTo>
                    <a:pt x="1655" y="855"/>
                  </a:lnTo>
                  <a:lnTo>
                    <a:pt x="1653" y="864"/>
                  </a:lnTo>
                  <a:lnTo>
                    <a:pt x="1653" y="873"/>
                  </a:lnTo>
                  <a:lnTo>
                    <a:pt x="1653" y="883"/>
                  </a:lnTo>
                  <a:lnTo>
                    <a:pt x="1655" y="892"/>
                  </a:lnTo>
                  <a:lnTo>
                    <a:pt x="1658" y="901"/>
                  </a:lnTo>
                  <a:lnTo>
                    <a:pt x="1660" y="910"/>
                  </a:lnTo>
                  <a:lnTo>
                    <a:pt x="1663" y="919"/>
                  </a:lnTo>
                  <a:lnTo>
                    <a:pt x="1667" y="928"/>
                  </a:lnTo>
                  <a:lnTo>
                    <a:pt x="1670" y="937"/>
                  </a:lnTo>
                  <a:lnTo>
                    <a:pt x="1672" y="946"/>
                  </a:lnTo>
                  <a:lnTo>
                    <a:pt x="1673" y="956"/>
                  </a:lnTo>
                  <a:lnTo>
                    <a:pt x="1676" y="965"/>
                  </a:lnTo>
                  <a:lnTo>
                    <a:pt x="1677" y="974"/>
                  </a:lnTo>
                  <a:lnTo>
                    <a:pt x="1680" y="983"/>
                  </a:lnTo>
                  <a:lnTo>
                    <a:pt x="1683" y="992"/>
                  </a:lnTo>
                  <a:lnTo>
                    <a:pt x="1686" y="1001"/>
                  </a:lnTo>
                  <a:lnTo>
                    <a:pt x="1690" y="1010"/>
                  </a:lnTo>
                  <a:lnTo>
                    <a:pt x="1692" y="1019"/>
                  </a:lnTo>
                  <a:lnTo>
                    <a:pt x="1697" y="1028"/>
                  </a:lnTo>
                  <a:lnTo>
                    <a:pt x="1701" y="1037"/>
                  </a:lnTo>
                  <a:lnTo>
                    <a:pt x="1713" y="1050"/>
                  </a:lnTo>
                  <a:lnTo>
                    <a:pt x="1723" y="1057"/>
                  </a:lnTo>
                  <a:lnTo>
                    <a:pt x="1733" y="1062"/>
                  </a:lnTo>
                  <a:lnTo>
                    <a:pt x="1743" y="1068"/>
                  </a:lnTo>
                  <a:lnTo>
                    <a:pt x="1754" y="1073"/>
                  </a:lnTo>
                  <a:lnTo>
                    <a:pt x="1764" y="1079"/>
                  </a:lnTo>
                  <a:lnTo>
                    <a:pt x="1775" y="1085"/>
                  </a:lnTo>
                  <a:lnTo>
                    <a:pt x="1785" y="1091"/>
                  </a:lnTo>
                  <a:lnTo>
                    <a:pt x="1795" y="1097"/>
                  </a:lnTo>
                  <a:lnTo>
                    <a:pt x="1803" y="1104"/>
                  </a:lnTo>
                  <a:lnTo>
                    <a:pt x="1811" y="1111"/>
                  </a:lnTo>
                  <a:lnTo>
                    <a:pt x="1820" y="1118"/>
                  </a:lnTo>
                  <a:lnTo>
                    <a:pt x="1827" y="1126"/>
                  </a:lnTo>
                  <a:lnTo>
                    <a:pt x="1838" y="1140"/>
                  </a:lnTo>
                  <a:lnTo>
                    <a:pt x="1841" y="1149"/>
                  </a:lnTo>
                  <a:lnTo>
                    <a:pt x="1841" y="1159"/>
                  </a:lnTo>
                  <a:lnTo>
                    <a:pt x="1841" y="1168"/>
                  </a:lnTo>
                  <a:lnTo>
                    <a:pt x="1839" y="1178"/>
                  </a:lnTo>
                  <a:lnTo>
                    <a:pt x="1832" y="1186"/>
                  </a:lnTo>
                  <a:lnTo>
                    <a:pt x="1825" y="1194"/>
                  </a:lnTo>
                  <a:lnTo>
                    <a:pt x="1817" y="1201"/>
                  </a:lnTo>
                  <a:lnTo>
                    <a:pt x="1810" y="1209"/>
                  </a:lnTo>
                  <a:lnTo>
                    <a:pt x="1807" y="1218"/>
                  </a:lnTo>
                  <a:lnTo>
                    <a:pt x="1804" y="1227"/>
                  </a:lnTo>
                  <a:lnTo>
                    <a:pt x="1804" y="1237"/>
                  </a:lnTo>
                  <a:lnTo>
                    <a:pt x="1806" y="1246"/>
                  </a:lnTo>
                  <a:lnTo>
                    <a:pt x="1807" y="1255"/>
                  </a:lnTo>
                  <a:lnTo>
                    <a:pt x="1810" y="1264"/>
                  </a:lnTo>
                  <a:lnTo>
                    <a:pt x="1813" y="1273"/>
                  </a:lnTo>
                  <a:lnTo>
                    <a:pt x="1817" y="1282"/>
                  </a:lnTo>
                  <a:lnTo>
                    <a:pt x="1823" y="1291"/>
                  </a:lnTo>
                  <a:lnTo>
                    <a:pt x="1825" y="1300"/>
                  </a:lnTo>
                  <a:lnTo>
                    <a:pt x="1829" y="1309"/>
                  </a:lnTo>
                  <a:lnTo>
                    <a:pt x="1832" y="1318"/>
                  </a:lnTo>
                  <a:lnTo>
                    <a:pt x="1834" y="1327"/>
                  </a:lnTo>
                  <a:lnTo>
                    <a:pt x="1835" y="1336"/>
                  </a:lnTo>
                  <a:lnTo>
                    <a:pt x="1834" y="1346"/>
                  </a:lnTo>
                  <a:lnTo>
                    <a:pt x="1832" y="1355"/>
                  </a:lnTo>
                  <a:lnTo>
                    <a:pt x="1831" y="1364"/>
                  </a:lnTo>
                  <a:lnTo>
                    <a:pt x="1829" y="1373"/>
                  </a:lnTo>
                  <a:lnTo>
                    <a:pt x="1827" y="1383"/>
                  </a:lnTo>
                  <a:lnTo>
                    <a:pt x="1824" y="1392"/>
                  </a:lnTo>
                  <a:lnTo>
                    <a:pt x="1818" y="1400"/>
                  </a:lnTo>
                  <a:lnTo>
                    <a:pt x="1814" y="1409"/>
                  </a:lnTo>
                  <a:lnTo>
                    <a:pt x="1807" y="1417"/>
                  </a:lnTo>
                  <a:lnTo>
                    <a:pt x="1800" y="1425"/>
                  </a:lnTo>
                  <a:lnTo>
                    <a:pt x="1792" y="1432"/>
                  </a:lnTo>
                  <a:lnTo>
                    <a:pt x="1785" y="1440"/>
                  </a:lnTo>
                  <a:lnTo>
                    <a:pt x="1778" y="1448"/>
                  </a:lnTo>
                  <a:lnTo>
                    <a:pt x="1771" y="1455"/>
                  </a:lnTo>
                  <a:lnTo>
                    <a:pt x="1762" y="1463"/>
                  </a:lnTo>
                  <a:lnTo>
                    <a:pt x="1757" y="1472"/>
                  </a:lnTo>
                  <a:lnTo>
                    <a:pt x="1755" y="1481"/>
                  </a:lnTo>
                  <a:lnTo>
                    <a:pt x="1754" y="1496"/>
                  </a:lnTo>
                  <a:lnTo>
                    <a:pt x="1740" y="1498"/>
                  </a:lnTo>
                  <a:lnTo>
                    <a:pt x="1736" y="1492"/>
                  </a:lnTo>
                  <a:lnTo>
                    <a:pt x="1723" y="1493"/>
                  </a:lnTo>
                  <a:lnTo>
                    <a:pt x="1713" y="1490"/>
                  </a:lnTo>
                  <a:lnTo>
                    <a:pt x="1712" y="1497"/>
                  </a:lnTo>
                  <a:lnTo>
                    <a:pt x="1699" y="1499"/>
                  </a:lnTo>
                  <a:lnTo>
                    <a:pt x="1686" y="1501"/>
                  </a:lnTo>
                  <a:lnTo>
                    <a:pt x="1679" y="1497"/>
                  </a:lnTo>
                  <a:lnTo>
                    <a:pt x="1666" y="1500"/>
                  </a:lnTo>
                  <a:lnTo>
                    <a:pt x="1653" y="1504"/>
                  </a:lnTo>
                  <a:lnTo>
                    <a:pt x="1641" y="1507"/>
                  </a:lnTo>
                  <a:lnTo>
                    <a:pt x="1627" y="1510"/>
                  </a:lnTo>
                  <a:lnTo>
                    <a:pt x="1625" y="1516"/>
                  </a:lnTo>
                  <a:lnTo>
                    <a:pt x="1635" y="1524"/>
                  </a:lnTo>
                  <a:lnTo>
                    <a:pt x="1645" y="1531"/>
                  </a:lnTo>
                  <a:lnTo>
                    <a:pt x="1656" y="1535"/>
                  </a:lnTo>
                  <a:lnTo>
                    <a:pt x="1651" y="1539"/>
                  </a:lnTo>
                  <a:lnTo>
                    <a:pt x="1645" y="1546"/>
                  </a:lnTo>
                  <a:lnTo>
                    <a:pt x="1638" y="1552"/>
                  </a:lnTo>
                  <a:lnTo>
                    <a:pt x="1635" y="1562"/>
                  </a:lnTo>
                  <a:lnTo>
                    <a:pt x="1628" y="1570"/>
                  </a:lnTo>
                  <a:lnTo>
                    <a:pt x="1620" y="1577"/>
                  </a:lnTo>
                  <a:lnTo>
                    <a:pt x="1610" y="1583"/>
                  </a:lnTo>
                  <a:lnTo>
                    <a:pt x="1600" y="1589"/>
                  </a:lnTo>
                  <a:lnTo>
                    <a:pt x="1590" y="1595"/>
                  </a:lnTo>
                  <a:lnTo>
                    <a:pt x="1581" y="1602"/>
                  </a:lnTo>
                  <a:lnTo>
                    <a:pt x="1571" y="1608"/>
                  </a:lnTo>
                  <a:lnTo>
                    <a:pt x="1561" y="1614"/>
                  </a:lnTo>
                  <a:lnTo>
                    <a:pt x="1550" y="1619"/>
                  </a:lnTo>
                  <a:lnTo>
                    <a:pt x="1539" y="1623"/>
                  </a:lnTo>
                  <a:lnTo>
                    <a:pt x="1526" y="1627"/>
                  </a:lnTo>
                  <a:lnTo>
                    <a:pt x="1515" y="1631"/>
                  </a:lnTo>
                  <a:lnTo>
                    <a:pt x="1504" y="1637"/>
                  </a:lnTo>
                  <a:lnTo>
                    <a:pt x="1490" y="1649"/>
                  </a:lnTo>
                  <a:lnTo>
                    <a:pt x="1494" y="1658"/>
                  </a:lnTo>
                  <a:lnTo>
                    <a:pt x="1493" y="1667"/>
                  </a:lnTo>
                  <a:lnTo>
                    <a:pt x="1497" y="1677"/>
                  </a:lnTo>
                  <a:lnTo>
                    <a:pt x="1490" y="1680"/>
                  </a:lnTo>
                  <a:lnTo>
                    <a:pt x="1476" y="1680"/>
                  </a:lnTo>
                  <a:lnTo>
                    <a:pt x="1465" y="1682"/>
                  </a:lnTo>
                  <a:lnTo>
                    <a:pt x="1451" y="1682"/>
                  </a:lnTo>
                  <a:lnTo>
                    <a:pt x="1438" y="1682"/>
                  </a:lnTo>
                  <a:lnTo>
                    <a:pt x="1425" y="1684"/>
                  </a:lnTo>
                  <a:lnTo>
                    <a:pt x="1413" y="1684"/>
                  </a:lnTo>
                  <a:lnTo>
                    <a:pt x="1399" y="1683"/>
                  </a:lnTo>
                  <a:lnTo>
                    <a:pt x="1393" y="1692"/>
                  </a:lnTo>
                  <a:lnTo>
                    <a:pt x="1385" y="1698"/>
                  </a:lnTo>
                  <a:lnTo>
                    <a:pt x="1372" y="1699"/>
                  </a:lnTo>
                  <a:lnTo>
                    <a:pt x="1363" y="1697"/>
                  </a:lnTo>
                  <a:lnTo>
                    <a:pt x="1350" y="1701"/>
                  </a:lnTo>
                  <a:lnTo>
                    <a:pt x="1337" y="1705"/>
                  </a:lnTo>
                  <a:lnTo>
                    <a:pt x="1330" y="1711"/>
                  </a:lnTo>
                  <a:lnTo>
                    <a:pt x="1337" y="1720"/>
                  </a:lnTo>
                  <a:lnTo>
                    <a:pt x="1344" y="1728"/>
                  </a:lnTo>
                  <a:lnTo>
                    <a:pt x="1350" y="1736"/>
                  </a:lnTo>
                  <a:lnTo>
                    <a:pt x="1354" y="1745"/>
                  </a:lnTo>
                  <a:lnTo>
                    <a:pt x="1358" y="1754"/>
                  </a:lnTo>
                  <a:lnTo>
                    <a:pt x="1364" y="1763"/>
                  </a:lnTo>
                  <a:lnTo>
                    <a:pt x="1365" y="1771"/>
                  </a:lnTo>
                  <a:lnTo>
                    <a:pt x="1360" y="1777"/>
                  </a:lnTo>
                  <a:lnTo>
                    <a:pt x="1356" y="1784"/>
                  </a:lnTo>
                  <a:lnTo>
                    <a:pt x="1346" y="1780"/>
                  </a:lnTo>
                  <a:lnTo>
                    <a:pt x="1335" y="1782"/>
                  </a:lnTo>
                  <a:lnTo>
                    <a:pt x="1319" y="1792"/>
                  </a:lnTo>
                  <a:lnTo>
                    <a:pt x="1304" y="1803"/>
                  </a:lnTo>
                  <a:lnTo>
                    <a:pt x="1294" y="1810"/>
                  </a:lnTo>
                  <a:lnTo>
                    <a:pt x="1287" y="1818"/>
                  </a:lnTo>
                  <a:lnTo>
                    <a:pt x="1279" y="1825"/>
                  </a:lnTo>
                  <a:lnTo>
                    <a:pt x="1269" y="1831"/>
                  </a:lnTo>
                  <a:lnTo>
                    <a:pt x="1256" y="1835"/>
                  </a:lnTo>
                  <a:lnTo>
                    <a:pt x="1244" y="1837"/>
                  </a:lnTo>
                  <a:lnTo>
                    <a:pt x="1231" y="1837"/>
                  </a:lnTo>
                  <a:lnTo>
                    <a:pt x="1220" y="1842"/>
                  </a:lnTo>
                  <a:lnTo>
                    <a:pt x="1207" y="1844"/>
                  </a:lnTo>
                  <a:lnTo>
                    <a:pt x="1195" y="1845"/>
                  </a:lnTo>
                  <a:lnTo>
                    <a:pt x="1182" y="1848"/>
                  </a:lnTo>
                  <a:lnTo>
                    <a:pt x="1177" y="1845"/>
                  </a:lnTo>
                  <a:lnTo>
                    <a:pt x="1171" y="1839"/>
                  </a:lnTo>
                  <a:lnTo>
                    <a:pt x="1164" y="1834"/>
                  </a:lnTo>
                  <a:lnTo>
                    <a:pt x="1165" y="1824"/>
                  </a:lnTo>
                  <a:lnTo>
                    <a:pt x="1163" y="1817"/>
                  </a:lnTo>
                  <a:lnTo>
                    <a:pt x="1163" y="1812"/>
                  </a:lnTo>
                  <a:lnTo>
                    <a:pt x="1165" y="1807"/>
                  </a:lnTo>
                  <a:lnTo>
                    <a:pt x="1160" y="1801"/>
                  </a:lnTo>
                  <a:lnTo>
                    <a:pt x="1151" y="1795"/>
                  </a:lnTo>
                  <a:lnTo>
                    <a:pt x="1149" y="1786"/>
                  </a:lnTo>
                  <a:lnTo>
                    <a:pt x="1150" y="1777"/>
                  </a:lnTo>
                  <a:lnTo>
                    <a:pt x="1163" y="1774"/>
                  </a:lnTo>
                  <a:lnTo>
                    <a:pt x="1145" y="1763"/>
                  </a:lnTo>
                  <a:lnTo>
                    <a:pt x="1138" y="1755"/>
                  </a:lnTo>
                  <a:lnTo>
                    <a:pt x="1136" y="1745"/>
                  </a:lnTo>
                  <a:lnTo>
                    <a:pt x="1140" y="1741"/>
                  </a:lnTo>
                  <a:lnTo>
                    <a:pt x="1140" y="1734"/>
                  </a:lnTo>
                  <a:lnTo>
                    <a:pt x="1133" y="1726"/>
                  </a:lnTo>
                  <a:lnTo>
                    <a:pt x="1122" y="1725"/>
                  </a:lnTo>
                  <a:lnTo>
                    <a:pt x="1110" y="1729"/>
                  </a:lnTo>
                  <a:lnTo>
                    <a:pt x="1100" y="1722"/>
                  </a:lnTo>
                  <a:lnTo>
                    <a:pt x="1091" y="1714"/>
                  </a:lnTo>
                  <a:lnTo>
                    <a:pt x="1082" y="1713"/>
                  </a:lnTo>
                  <a:lnTo>
                    <a:pt x="1070" y="1713"/>
                  </a:lnTo>
                  <a:lnTo>
                    <a:pt x="1061" y="1706"/>
                  </a:lnTo>
                  <a:lnTo>
                    <a:pt x="1051" y="1700"/>
                  </a:lnTo>
                  <a:lnTo>
                    <a:pt x="1048" y="1691"/>
                  </a:lnTo>
                  <a:lnTo>
                    <a:pt x="1044" y="1682"/>
                  </a:lnTo>
                  <a:lnTo>
                    <a:pt x="1038" y="1674"/>
                  </a:lnTo>
                  <a:lnTo>
                    <a:pt x="1031" y="1665"/>
                  </a:lnTo>
                  <a:lnTo>
                    <a:pt x="1026" y="1657"/>
                  </a:lnTo>
                  <a:lnTo>
                    <a:pt x="1019" y="1649"/>
                  </a:lnTo>
                  <a:lnTo>
                    <a:pt x="1002" y="1655"/>
                  </a:lnTo>
                  <a:lnTo>
                    <a:pt x="989" y="1659"/>
                  </a:lnTo>
                  <a:lnTo>
                    <a:pt x="978" y="1663"/>
                  </a:lnTo>
                  <a:lnTo>
                    <a:pt x="968" y="1669"/>
                  </a:lnTo>
                  <a:lnTo>
                    <a:pt x="957" y="1675"/>
                  </a:lnTo>
                  <a:lnTo>
                    <a:pt x="946" y="1678"/>
                  </a:lnTo>
                  <a:lnTo>
                    <a:pt x="933" y="1681"/>
                  </a:lnTo>
                  <a:lnTo>
                    <a:pt x="924" y="1687"/>
                  </a:lnTo>
                  <a:lnTo>
                    <a:pt x="918" y="1693"/>
                  </a:lnTo>
                  <a:lnTo>
                    <a:pt x="921" y="1702"/>
                  </a:lnTo>
                  <a:lnTo>
                    <a:pt x="926" y="1711"/>
                  </a:lnTo>
                  <a:lnTo>
                    <a:pt x="931" y="1720"/>
                  </a:lnTo>
                  <a:lnTo>
                    <a:pt x="928" y="1727"/>
                  </a:lnTo>
                  <a:lnTo>
                    <a:pt x="915" y="1725"/>
                  </a:lnTo>
                  <a:lnTo>
                    <a:pt x="907" y="1724"/>
                  </a:lnTo>
                  <a:lnTo>
                    <a:pt x="894" y="1727"/>
                  </a:lnTo>
                  <a:lnTo>
                    <a:pt x="882" y="1729"/>
                  </a:lnTo>
                  <a:lnTo>
                    <a:pt x="873" y="1721"/>
                  </a:lnTo>
                  <a:lnTo>
                    <a:pt x="862" y="1722"/>
                  </a:lnTo>
                  <a:lnTo>
                    <a:pt x="851" y="1726"/>
                  </a:lnTo>
                  <a:lnTo>
                    <a:pt x="840" y="1731"/>
                  </a:lnTo>
                  <a:lnTo>
                    <a:pt x="830" y="1738"/>
                  </a:lnTo>
                  <a:lnTo>
                    <a:pt x="820" y="1740"/>
                  </a:lnTo>
                  <a:lnTo>
                    <a:pt x="808" y="1736"/>
                  </a:lnTo>
                  <a:lnTo>
                    <a:pt x="795" y="1732"/>
                  </a:lnTo>
                  <a:lnTo>
                    <a:pt x="784" y="1728"/>
                  </a:lnTo>
                  <a:lnTo>
                    <a:pt x="771" y="1724"/>
                  </a:lnTo>
                  <a:lnTo>
                    <a:pt x="759" y="1720"/>
                  </a:lnTo>
                  <a:lnTo>
                    <a:pt x="747" y="1716"/>
                  </a:lnTo>
                  <a:lnTo>
                    <a:pt x="745" y="1710"/>
                  </a:lnTo>
                  <a:lnTo>
                    <a:pt x="752" y="1700"/>
                  </a:lnTo>
                  <a:lnTo>
                    <a:pt x="753" y="1691"/>
                  </a:lnTo>
                  <a:lnTo>
                    <a:pt x="760" y="1683"/>
                  </a:lnTo>
                  <a:lnTo>
                    <a:pt x="757" y="1674"/>
                  </a:lnTo>
                  <a:lnTo>
                    <a:pt x="752" y="1665"/>
                  </a:lnTo>
                  <a:lnTo>
                    <a:pt x="745" y="1657"/>
                  </a:lnTo>
                  <a:lnTo>
                    <a:pt x="743" y="1649"/>
                  </a:lnTo>
                  <a:lnTo>
                    <a:pt x="750" y="1637"/>
                  </a:lnTo>
                  <a:lnTo>
                    <a:pt x="750" y="1628"/>
                  </a:lnTo>
                  <a:lnTo>
                    <a:pt x="743" y="1620"/>
                  </a:lnTo>
                  <a:lnTo>
                    <a:pt x="736" y="1612"/>
                  </a:lnTo>
                  <a:lnTo>
                    <a:pt x="727" y="1603"/>
                  </a:lnTo>
                  <a:lnTo>
                    <a:pt x="724" y="1609"/>
                  </a:lnTo>
                  <a:lnTo>
                    <a:pt x="722" y="1619"/>
                  </a:lnTo>
                  <a:lnTo>
                    <a:pt x="722" y="1629"/>
                  </a:lnTo>
                  <a:lnTo>
                    <a:pt x="721" y="1640"/>
                  </a:lnTo>
                  <a:lnTo>
                    <a:pt x="722" y="1649"/>
                  </a:lnTo>
                  <a:lnTo>
                    <a:pt x="720" y="1659"/>
                  </a:lnTo>
                  <a:lnTo>
                    <a:pt x="718" y="1668"/>
                  </a:lnTo>
                  <a:lnTo>
                    <a:pt x="715" y="1677"/>
                  </a:lnTo>
                  <a:lnTo>
                    <a:pt x="701" y="1676"/>
                  </a:lnTo>
                  <a:lnTo>
                    <a:pt x="699" y="1668"/>
                  </a:lnTo>
                  <a:lnTo>
                    <a:pt x="701" y="1658"/>
                  </a:lnTo>
                  <a:lnTo>
                    <a:pt x="700" y="1649"/>
                  </a:lnTo>
                  <a:lnTo>
                    <a:pt x="689" y="1642"/>
                  </a:lnTo>
                  <a:lnTo>
                    <a:pt x="682" y="1646"/>
                  </a:lnTo>
                  <a:lnTo>
                    <a:pt x="678" y="1636"/>
                  </a:lnTo>
                  <a:lnTo>
                    <a:pt x="669" y="1630"/>
                  </a:lnTo>
                  <a:lnTo>
                    <a:pt x="658" y="1636"/>
                  </a:lnTo>
                  <a:lnTo>
                    <a:pt x="650" y="1643"/>
                  </a:lnTo>
                  <a:lnTo>
                    <a:pt x="648" y="1652"/>
                  </a:lnTo>
                  <a:lnTo>
                    <a:pt x="637" y="1663"/>
                  </a:lnTo>
                  <a:lnTo>
                    <a:pt x="626" y="1657"/>
                  </a:lnTo>
                  <a:lnTo>
                    <a:pt x="613" y="1655"/>
                  </a:lnTo>
                  <a:lnTo>
                    <a:pt x="604" y="1649"/>
                  </a:lnTo>
                  <a:lnTo>
                    <a:pt x="592" y="1644"/>
                  </a:lnTo>
                  <a:lnTo>
                    <a:pt x="584" y="1637"/>
                  </a:lnTo>
                  <a:lnTo>
                    <a:pt x="573" y="1632"/>
                  </a:lnTo>
                  <a:lnTo>
                    <a:pt x="559" y="1632"/>
                  </a:lnTo>
                  <a:lnTo>
                    <a:pt x="546" y="1630"/>
                  </a:lnTo>
                  <a:lnTo>
                    <a:pt x="535" y="1625"/>
                  </a:lnTo>
                  <a:lnTo>
                    <a:pt x="528" y="1617"/>
                  </a:lnTo>
                  <a:lnTo>
                    <a:pt x="529" y="1608"/>
                  </a:lnTo>
                  <a:lnTo>
                    <a:pt x="532" y="1598"/>
                  </a:lnTo>
                  <a:lnTo>
                    <a:pt x="534" y="1589"/>
                  </a:lnTo>
                  <a:lnTo>
                    <a:pt x="529" y="1580"/>
                  </a:lnTo>
                  <a:lnTo>
                    <a:pt x="518" y="1575"/>
                  </a:lnTo>
                  <a:lnTo>
                    <a:pt x="507" y="1577"/>
                  </a:lnTo>
                  <a:lnTo>
                    <a:pt x="496" y="1582"/>
                  </a:lnTo>
                  <a:lnTo>
                    <a:pt x="485" y="1588"/>
                  </a:lnTo>
                  <a:lnTo>
                    <a:pt x="475" y="1594"/>
                  </a:lnTo>
                  <a:lnTo>
                    <a:pt x="467" y="1599"/>
                  </a:lnTo>
                  <a:lnTo>
                    <a:pt x="455" y="1605"/>
                  </a:lnTo>
                  <a:lnTo>
                    <a:pt x="446" y="1611"/>
                  </a:lnTo>
                  <a:lnTo>
                    <a:pt x="440" y="1619"/>
                  </a:lnTo>
                  <a:lnTo>
                    <a:pt x="433" y="1627"/>
                  </a:lnTo>
                  <a:lnTo>
                    <a:pt x="423" y="1634"/>
                  </a:lnTo>
                  <a:lnTo>
                    <a:pt x="411" y="1631"/>
                  </a:lnTo>
                  <a:lnTo>
                    <a:pt x="412" y="1639"/>
                  </a:lnTo>
                  <a:lnTo>
                    <a:pt x="406" y="1645"/>
                  </a:lnTo>
                  <a:lnTo>
                    <a:pt x="385" y="1649"/>
                  </a:lnTo>
                  <a:lnTo>
                    <a:pt x="373" y="1652"/>
                  </a:lnTo>
                  <a:lnTo>
                    <a:pt x="360" y="1652"/>
                  </a:lnTo>
                  <a:lnTo>
                    <a:pt x="346" y="1652"/>
                  </a:lnTo>
                  <a:lnTo>
                    <a:pt x="330" y="1657"/>
                  </a:lnTo>
                  <a:lnTo>
                    <a:pt x="327" y="1649"/>
                  </a:lnTo>
                  <a:lnTo>
                    <a:pt x="318" y="1635"/>
                  </a:lnTo>
                  <a:lnTo>
                    <a:pt x="316" y="1625"/>
                  </a:lnTo>
                  <a:lnTo>
                    <a:pt x="317" y="1616"/>
                  </a:lnTo>
                  <a:lnTo>
                    <a:pt x="317" y="1606"/>
                  </a:lnTo>
                  <a:lnTo>
                    <a:pt x="316" y="1597"/>
                  </a:lnTo>
                  <a:lnTo>
                    <a:pt x="311" y="1588"/>
                  </a:lnTo>
                  <a:lnTo>
                    <a:pt x="309" y="1579"/>
                  </a:lnTo>
                  <a:lnTo>
                    <a:pt x="307" y="1570"/>
                  </a:lnTo>
                  <a:lnTo>
                    <a:pt x="310" y="1561"/>
                  </a:lnTo>
                  <a:lnTo>
                    <a:pt x="316" y="1552"/>
                  </a:lnTo>
                  <a:lnTo>
                    <a:pt x="320" y="1543"/>
                  </a:lnTo>
                  <a:lnTo>
                    <a:pt x="323" y="1534"/>
                  </a:lnTo>
                  <a:lnTo>
                    <a:pt x="317" y="1526"/>
                  </a:lnTo>
                  <a:lnTo>
                    <a:pt x="316" y="1516"/>
                  </a:lnTo>
                  <a:lnTo>
                    <a:pt x="316" y="1507"/>
                  </a:lnTo>
                  <a:lnTo>
                    <a:pt x="314" y="1498"/>
                  </a:lnTo>
                  <a:lnTo>
                    <a:pt x="310" y="1488"/>
                  </a:lnTo>
                  <a:lnTo>
                    <a:pt x="307" y="1479"/>
                  </a:lnTo>
                  <a:lnTo>
                    <a:pt x="311" y="1472"/>
                  </a:lnTo>
                  <a:lnTo>
                    <a:pt x="325" y="1469"/>
                  </a:lnTo>
                  <a:lnTo>
                    <a:pt x="316" y="1464"/>
                  </a:lnTo>
                  <a:lnTo>
                    <a:pt x="300" y="1459"/>
                  </a:lnTo>
                  <a:lnTo>
                    <a:pt x="293" y="1454"/>
                  </a:lnTo>
                  <a:lnTo>
                    <a:pt x="300" y="1449"/>
                  </a:lnTo>
                  <a:lnTo>
                    <a:pt x="313" y="1443"/>
                  </a:lnTo>
                  <a:lnTo>
                    <a:pt x="325" y="1438"/>
                  </a:lnTo>
                  <a:lnTo>
                    <a:pt x="337" y="1432"/>
                  </a:lnTo>
                  <a:lnTo>
                    <a:pt x="341" y="1425"/>
                  </a:lnTo>
                  <a:lnTo>
                    <a:pt x="332" y="1416"/>
                  </a:lnTo>
                  <a:lnTo>
                    <a:pt x="330" y="1408"/>
                  </a:lnTo>
                  <a:lnTo>
                    <a:pt x="325" y="1400"/>
                  </a:lnTo>
                  <a:lnTo>
                    <a:pt x="321" y="1391"/>
                  </a:lnTo>
                  <a:lnTo>
                    <a:pt x="318" y="1382"/>
                  </a:lnTo>
                  <a:lnTo>
                    <a:pt x="313" y="1374"/>
                  </a:lnTo>
                  <a:lnTo>
                    <a:pt x="306" y="1365"/>
                  </a:lnTo>
                  <a:lnTo>
                    <a:pt x="300" y="1357"/>
                  </a:lnTo>
                  <a:lnTo>
                    <a:pt x="296" y="1349"/>
                  </a:lnTo>
                  <a:lnTo>
                    <a:pt x="302" y="1341"/>
                  </a:lnTo>
                  <a:lnTo>
                    <a:pt x="295" y="1333"/>
                  </a:lnTo>
                  <a:lnTo>
                    <a:pt x="285" y="1326"/>
                  </a:lnTo>
                  <a:lnTo>
                    <a:pt x="278" y="1319"/>
                  </a:lnTo>
                  <a:lnTo>
                    <a:pt x="269" y="1311"/>
                  </a:lnTo>
                  <a:lnTo>
                    <a:pt x="261" y="1304"/>
                  </a:lnTo>
                  <a:lnTo>
                    <a:pt x="279" y="1291"/>
                  </a:lnTo>
                  <a:lnTo>
                    <a:pt x="286" y="1283"/>
                  </a:lnTo>
                  <a:lnTo>
                    <a:pt x="297" y="1280"/>
                  </a:lnTo>
                  <a:lnTo>
                    <a:pt x="306" y="1273"/>
                  </a:lnTo>
                  <a:lnTo>
                    <a:pt x="314" y="1266"/>
                  </a:lnTo>
                  <a:lnTo>
                    <a:pt x="324" y="1260"/>
                  </a:lnTo>
                  <a:lnTo>
                    <a:pt x="330" y="1252"/>
                  </a:lnTo>
                  <a:lnTo>
                    <a:pt x="328" y="1243"/>
                  </a:lnTo>
                  <a:lnTo>
                    <a:pt x="328" y="1233"/>
                  </a:lnTo>
                  <a:lnTo>
                    <a:pt x="332" y="1224"/>
                  </a:lnTo>
                  <a:lnTo>
                    <a:pt x="338" y="1216"/>
                  </a:lnTo>
                  <a:lnTo>
                    <a:pt x="339" y="1206"/>
                  </a:lnTo>
                  <a:lnTo>
                    <a:pt x="341" y="1197"/>
                  </a:lnTo>
                  <a:lnTo>
                    <a:pt x="350" y="1191"/>
                  </a:lnTo>
                  <a:lnTo>
                    <a:pt x="363" y="1190"/>
                  </a:lnTo>
                  <a:lnTo>
                    <a:pt x="374" y="1185"/>
                  </a:lnTo>
                  <a:lnTo>
                    <a:pt x="381" y="1178"/>
                  </a:lnTo>
                  <a:lnTo>
                    <a:pt x="384" y="1169"/>
                  </a:lnTo>
                  <a:lnTo>
                    <a:pt x="390" y="1163"/>
                  </a:lnTo>
                  <a:lnTo>
                    <a:pt x="402" y="1163"/>
                  </a:lnTo>
                  <a:lnTo>
                    <a:pt x="415" y="1160"/>
                  </a:lnTo>
                  <a:lnTo>
                    <a:pt x="427" y="1156"/>
                  </a:lnTo>
                  <a:lnTo>
                    <a:pt x="439" y="1153"/>
                  </a:lnTo>
                  <a:lnTo>
                    <a:pt x="436" y="1144"/>
                  </a:lnTo>
                  <a:lnTo>
                    <a:pt x="423" y="1144"/>
                  </a:lnTo>
                  <a:lnTo>
                    <a:pt x="411" y="1149"/>
                  </a:lnTo>
                  <a:lnTo>
                    <a:pt x="399" y="1154"/>
                  </a:lnTo>
                  <a:lnTo>
                    <a:pt x="391" y="1151"/>
                  </a:lnTo>
                  <a:lnTo>
                    <a:pt x="385" y="1143"/>
                  </a:lnTo>
                  <a:lnTo>
                    <a:pt x="383" y="1133"/>
                  </a:lnTo>
                  <a:lnTo>
                    <a:pt x="377" y="1124"/>
                  </a:lnTo>
                  <a:lnTo>
                    <a:pt x="367" y="1119"/>
                  </a:lnTo>
                  <a:lnTo>
                    <a:pt x="359" y="1111"/>
                  </a:lnTo>
                  <a:lnTo>
                    <a:pt x="352" y="1103"/>
                  </a:lnTo>
                  <a:lnTo>
                    <a:pt x="346" y="1095"/>
                  </a:lnTo>
                  <a:lnTo>
                    <a:pt x="343" y="1086"/>
                  </a:lnTo>
                  <a:lnTo>
                    <a:pt x="339" y="1078"/>
                  </a:lnTo>
                  <a:lnTo>
                    <a:pt x="337" y="1069"/>
                  </a:lnTo>
                  <a:lnTo>
                    <a:pt x="334" y="1059"/>
                  </a:lnTo>
                  <a:lnTo>
                    <a:pt x="331" y="1050"/>
                  </a:lnTo>
                  <a:lnTo>
                    <a:pt x="331" y="1041"/>
                  </a:lnTo>
                  <a:lnTo>
                    <a:pt x="325" y="1032"/>
                  </a:lnTo>
                  <a:lnTo>
                    <a:pt x="332" y="1026"/>
                  </a:lnTo>
                  <a:lnTo>
                    <a:pt x="341" y="1019"/>
                  </a:lnTo>
                  <a:lnTo>
                    <a:pt x="349" y="1012"/>
                  </a:lnTo>
                  <a:lnTo>
                    <a:pt x="362" y="1009"/>
                  </a:lnTo>
                  <a:lnTo>
                    <a:pt x="373" y="1004"/>
                  </a:lnTo>
                  <a:lnTo>
                    <a:pt x="385" y="1001"/>
                  </a:lnTo>
                  <a:lnTo>
                    <a:pt x="385" y="993"/>
                  </a:lnTo>
                  <a:lnTo>
                    <a:pt x="377" y="986"/>
                  </a:lnTo>
                  <a:lnTo>
                    <a:pt x="367" y="980"/>
                  </a:lnTo>
                  <a:lnTo>
                    <a:pt x="366" y="971"/>
                  </a:lnTo>
                  <a:lnTo>
                    <a:pt x="366" y="962"/>
                  </a:lnTo>
                  <a:lnTo>
                    <a:pt x="367" y="952"/>
                  </a:lnTo>
                  <a:lnTo>
                    <a:pt x="369" y="943"/>
                  </a:lnTo>
                  <a:lnTo>
                    <a:pt x="367" y="934"/>
                  </a:lnTo>
                  <a:lnTo>
                    <a:pt x="362" y="925"/>
                  </a:lnTo>
                  <a:lnTo>
                    <a:pt x="357" y="916"/>
                  </a:lnTo>
                  <a:lnTo>
                    <a:pt x="355" y="907"/>
                  </a:lnTo>
                  <a:lnTo>
                    <a:pt x="353" y="898"/>
                  </a:lnTo>
                  <a:lnTo>
                    <a:pt x="352" y="889"/>
                  </a:lnTo>
                  <a:lnTo>
                    <a:pt x="350" y="880"/>
                  </a:lnTo>
                  <a:lnTo>
                    <a:pt x="348" y="870"/>
                  </a:lnTo>
                  <a:lnTo>
                    <a:pt x="346" y="861"/>
                  </a:lnTo>
                  <a:lnTo>
                    <a:pt x="348" y="853"/>
                  </a:lnTo>
                  <a:lnTo>
                    <a:pt x="362" y="850"/>
                  </a:lnTo>
                  <a:lnTo>
                    <a:pt x="355" y="841"/>
                  </a:lnTo>
                  <a:lnTo>
                    <a:pt x="357" y="835"/>
                  </a:lnTo>
                  <a:lnTo>
                    <a:pt x="371" y="836"/>
                  </a:lnTo>
                  <a:lnTo>
                    <a:pt x="370" y="828"/>
                  </a:lnTo>
                  <a:lnTo>
                    <a:pt x="363" y="820"/>
                  </a:lnTo>
                  <a:lnTo>
                    <a:pt x="363" y="811"/>
                  </a:lnTo>
                  <a:lnTo>
                    <a:pt x="364" y="801"/>
                  </a:lnTo>
                  <a:lnTo>
                    <a:pt x="366" y="792"/>
                  </a:lnTo>
                  <a:lnTo>
                    <a:pt x="367" y="783"/>
                  </a:lnTo>
                  <a:lnTo>
                    <a:pt x="366" y="774"/>
                  </a:lnTo>
                  <a:lnTo>
                    <a:pt x="373" y="767"/>
                  </a:lnTo>
                  <a:lnTo>
                    <a:pt x="373" y="757"/>
                  </a:lnTo>
                  <a:lnTo>
                    <a:pt x="370" y="748"/>
                  </a:lnTo>
                  <a:lnTo>
                    <a:pt x="363" y="740"/>
                  </a:lnTo>
                  <a:lnTo>
                    <a:pt x="357" y="731"/>
                  </a:lnTo>
                  <a:lnTo>
                    <a:pt x="348" y="729"/>
                  </a:lnTo>
                  <a:lnTo>
                    <a:pt x="334" y="730"/>
                  </a:lnTo>
                  <a:lnTo>
                    <a:pt x="321" y="730"/>
                  </a:lnTo>
                  <a:lnTo>
                    <a:pt x="310" y="726"/>
                  </a:lnTo>
                  <a:lnTo>
                    <a:pt x="300" y="719"/>
                  </a:lnTo>
                  <a:lnTo>
                    <a:pt x="292" y="711"/>
                  </a:lnTo>
                  <a:lnTo>
                    <a:pt x="285" y="703"/>
                  </a:lnTo>
                  <a:lnTo>
                    <a:pt x="274" y="698"/>
                  </a:lnTo>
                  <a:lnTo>
                    <a:pt x="268" y="690"/>
                  </a:lnTo>
                  <a:lnTo>
                    <a:pt x="268" y="681"/>
                  </a:lnTo>
                  <a:lnTo>
                    <a:pt x="264" y="672"/>
                  </a:lnTo>
                  <a:lnTo>
                    <a:pt x="261" y="664"/>
                  </a:lnTo>
                  <a:lnTo>
                    <a:pt x="254" y="655"/>
                  </a:lnTo>
                  <a:lnTo>
                    <a:pt x="247" y="647"/>
                  </a:lnTo>
                  <a:lnTo>
                    <a:pt x="237" y="642"/>
                  </a:lnTo>
                  <a:lnTo>
                    <a:pt x="223" y="642"/>
                  </a:lnTo>
                  <a:lnTo>
                    <a:pt x="211" y="645"/>
                  </a:lnTo>
                  <a:lnTo>
                    <a:pt x="200" y="650"/>
                  </a:lnTo>
                  <a:lnTo>
                    <a:pt x="190" y="655"/>
                  </a:lnTo>
                  <a:lnTo>
                    <a:pt x="179" y="661"/>
                  </a:lnTo>
                  <a:lnTo>
                    <a:pt x="167" y="666"/>
                  </a:lnTo>
                  <a:lnTo>
                    <a:pt x="155" y="670"/>
                  </a:lnTo>
                  <a:lnTo>
                    <a:pt x="145" y="675"/>
                  </a:lnTo>
                  <a:lnTo>
                    <a:pt x="137" y="675"/>
                  </a:lnTo>
                  <a:lnTo>
                    <a:pt x="130" y="667"/>
                  </a:lnTo>
                  <a:lnTo>
                    <a:pt x="118" y="661"/>
                  </a:lnTo>
                  <a:lnTo>
                    <a:pt x="110" y="654"/>
                  </a:lnTo>
                  <a:lnTo>
                    <a:pt x="109" y="645"/>
                  </a:lnTo>
                  <a:lnTo>
                    <a:pt x="102" y="637"/>
                  </a:lnTo>
                  <a:lnTo>
                    <a:pt x="93" y="630"/>
                  </a:lnTo>
                  <a:lnTo>
                    <a:pt x="88" y="622"/>
                  </a:lnTo>
                  <a:lnTo>
                    <a:pt x="82" y="614"/>
                  </a:lnTo>
                  <a:lnTo>
                    <a:pt x="68" y="613"/>
                  </a:lnTo>
                  <a:lnTo>
                    <a:pt x="51" y="617"/>
                  </a:lnTo>
                  <a:lnTo>
                    <a:pt x="42" y="616"/>
                  </a:lnTo>
                  <a:lnTo>
                    <a:pt x="35" y="608"/>
                  </a:lnTo>
                  <a:lnTo>
                    <a:pt x="30" y="599"/>
                  </a:lnTo>
                  <a:lnTo>
                    <a:pt x="29" y="589"/>
                  </a:lnTo>
                  <a:lnTo>
                    <a:pt x="29" y="580"/>
                  </a:lnTo>
                  <a:lnTo>
                    <a:pt x="25" y="571"/>
                  </a:lnTo>
                  <a:lnTo>
                    <a:pt x="25" y="562"/>
                  </a:lnTo>
                  <a:lnTo>
                    <a:pt x="28" y="554"/>
                  </a:lnTo>
                  <a:lnTo>
                    <a:pt x="37" y="547"/>
                  </a:lnTo>
                  <a:lnTo>
                    <a:pt x="49" y="543"/>
                  </a:lnTo>
                  <a:lnTo>
                    <a:pt x="60" y="537"/>
                  </a:lnTo>
                  <a:lnTo>
                    <a:pt x="58" y="529"/>
                  </a:lnTo>
                  <a:lnTo>
                    <a:pt x="46" y="528"/>
                  </a:lnTo>
                  <a:lnTo>
                    <a:pt x="33" y="525"/>
                  </a:lnTo>
                  <a:lnTo>
                    <a:pt x="22" y="520"/>
                  </a:lnTo>
                  <a:lnTo>
                    <a:pt x="14" y="513"/>
                  </a:lnTo>
                  <a:lnTo>
                    <a:pt x="8" y="505"/>
                  </a:lnTo>
                  <a:lnTo>
                    <a:pt x="4" y="497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6000" y="2139840"/>
              <a:ext cx="1563840" cy="1025640"/>
            </a:xfrm>
            <a:custGeom>
              <a:avLst/>
              <a:gdLst/>
              <a:ahLst/>
              <a:rect l="l" t="t" r="r" b="b"/>
              <a:pathLst>
                <a:path w="2955" h="1292">
                  <a:moveTo>
                    <a:pt x="794" y="686"/>
                  </a:moveTo>
                  <a:lnTo>
                    <a:pt x="804" y="671"/>
                  </a:lnTo>
                  <a:lnTo>
                    <a:pt x="806" y="662"/>
                  </a:lnTo>
                  <a:lnTo>
                    <a:pt x="809" y="653"/>
                  </a:lnTo>
                  <a:lnTo>
                    <a:pt x="815" y="644"/>
                  </a:lnTo>
                  <a:lnTo>
                    <a:pt x="822" y="637"/>
                  </a:lnTo>
                  <a:lnTo>
                    <a:pt x="833" y="633"/>
                  </a:lnTo>
                  <a:lnTo>
                    <a:pt x="847" y="630"/>
                  </a:lnTo>
                  <a:lnTo>
                    <a:pt x="854" y="623"/>
                  </a:lnTo>
                  <a:lnTo>
                    <a:pt x="862" y="615"/>
                  </a:lnTo>
                  <a:lnTo>
                    <a:pt x="871" y="608"/>
                  </a:lnTo>
                  <a:lnTo>
                    <a:pt x="878" y="614"/>
                  </a:lnTo>
                  <a:lnTo>
                    <a:pt x="878" y="623"/>
                  </a:lnTo>
                  <a:lnTo>
                    <a:pt x="878" y="633"/>
                  </a:lnTo>
                  <a:lnTo>
                    <a:pt x="876" y="642"/>
                  </a:lnTo>
                  <a:lnTo>
                    <a:pt x="876" y="652"/>
                  </a:lnTo>
                  <a:lnTo>
                    <a:pt x="878" y="661"/>
                  </a:lnTo>
                  <a:lnTo>
                    <a:pt x="878" y="670"/>
                  </a:lnTo>
                  <a:lnTo>
                    <a:pt x="886" y="676"/>
                  </a:lnTo>
                  <a:lnTo>
                    <a:pt x="899" y="677"/>
                  </a:lnTo>
                  <a:lnTo>
                    <a:pt x="913" y="678"/>
                  </a:lnTo>
                  <a:lnTo>
                    <a:pt x="925" y="678"/>
                  </a:lnTo>
                  <a:lnTo>
                    <a:pt x="938" y="678"/>
                  </a:lnTo>
                  <a:lnTo>
                    <a:pt x="952" y="678"/>
                  </a:lnTo>
                  <a:lnTo>
                    <a:pt x="964" y="678"/>
                  </a:lnTo>
                  <a:lnTo>
                    <a:pt x="977" y="677"/>
                  </a:lnTo>
                  <a:lnTo>
                    <a:pt x="991" y="676"/>
                  </a:lnTo>
                  <a:lnTo>
                    <a:pt x="1004" y="675"/>
                  </a:lnTo>
                  <a:lnTo>
                    <a:pt x="1016" y="674"/>
                  </a:lnTo>
                  <a:lnTo>
                    <a:pt x="1029" y="673"/>
                  </a:lnTo>
                  <a:lnTo>
                    <a:pt x="1043" y="671"/>
                  </a:lnTo>
                  <a:lnTo>
                    <a:pt x="1055" y="670"/>
                  </a:lnTo>
                  <a:lnTo>
                    <a:pt x="1068" y="669"/>
                  </a:lnTo>
                  <a:lnTo>
                    <a:pt x="1080" y="667"/>
                  </a:lnTo>
                  <a:lnTo>
                    <a:pt x="1094" y="666"/>
                  </a:lnTo>
                  <a:lnTo>
                    <a:pt x="1107" y="665"/>
                  </a:lnTo>
                  <a:lnTo>
                    <a:pt x="1120" y="663"/>
                  </a:lnTo>
                  <a:lnTo>
                    <a:pt x="1132" y="661"/>
                  </a:lnTo>
                  <a:lnTo>
                    <a:pt x="1145" y="660"/>
                  </a:lnTo>
                  <a:lnTo>
                    <a:pt x="1159" y="658"/>
                  </a:lnTo>
                  <a:lnTo>
                    <a:pt x="1171" y="656"/>
                  </a:lnTo>
                  <a:lnTo>
                    <a:pt x="1184" y="654"/>
                  </a:lnTo>
                  <a:lnTo>
                    <a:pt x="1197" y="652"/>
                  </a:lnTo>
                  <a:lnTo>
                    <a:pt x="1209" y="651"/>
                  </a:lnTo>
                  <a:lnTo>
                    <a:pt x="1222" y="649"/>
                  </a:lnTo>
                  <a:lnTo>
                    <a:pt x="1237" y="649"/>
                  </a:lnTo>
                  <a:lnTo>
                    <a:pt x="1252" y="648"/>
                  </a:lnTo>
                  <a:lnTo>
                    <a:pt x="1269" y="649"/>
                  </a:lnTo>
                  <a:lnTo>
                    <a:pt x="1283" y="648"/>
                  </a:lnTo>
                  <a:lnTo>
                    <a:pt x="1296" y="647"/>
                  </a:lnTo>
                  <a:lnTo>
                    <a:pt x="1306" y="646"/>
                  </a:lnTo>
                  <a:lnTo>
                    <a:pt x="1310" y="642"/>
                  </a:lnTo>
                  <a:lnTo>
                    <a:pt x="1307" y="637"/>
                  </a:lnTo>
                  <a:lnTo>
                    <a:pt x="1299" y="630"/>
                  </a:lnTo>
                  <a:lnTo>
                    <a:pt x="1286" y="622"/>
                  </a:lnTo>
                  <a:lnTo>
                    <a:pt x="1273" y="614"/>
                  </a:lnTo>
                  <a:lnTo>
                    <a:pt x="1264" y="606"/>
                  </a:lnTo>
                  <a:lnTo>
                    <a:pt x="1264" y="597"/>
                  </a:lnTo>
                  <a:lnTo>
                    <a:pt x="1265" y="588"/>
                  </a:lnTo>
                  <a:lnTo>
                    <a:pt x="1266" y="578"/>
                  </a:lnTo>
                  <a:lnTo>
                    <a:pt x="1266" y="569"/>
                  </a:lnTo>
                  <a:lnTo>
                    <a:pt x="1266" y="560"/>
                  </a:lnTo>
                  <a:lnTo>
                    <a:pt x="1266" y="550"/>
                  </a:lnTo>
                  <a:lnTo>
                    <a:pt x="1265" y="541"/>
                  </a:lnTo>
                  <a:lnTo>
                    <a:pt x="1261" y="533"/>
                  </a:lnTo>
                  <a:lnTo>
                    <a:pt x="1259" y="524"/>
                  </a:lnTo>
                  <a:lnTo>
                    <a:pt x="1262" y="516"/>
                  </a:lnTo>
                  <a:lnTo>
                    <a:pt x="1261" y="507"/>
                  </a:lnTo>
                  <a:lnTo>
                    <a:pt x="1255" y="502"/>
                  </a:lnTo>
                  <a:lnTo>
                    <a:pt x="1252" y="495"/>
                  </a:lnTo>
                  <a:lnTo>
                    <a:pt x="1251" y="485"/>
                  </a:lnTo>
                  <a:lnTo>
                    <a:pt x="1247" y="477"/>
                  </a:lnTo>
                  <a:lnTo>
                    <a:pt x="1240" y="469"/>
                  </a:lnTo>
                  <a:lnTo>
                    <a:pt x="1240" y="460"/>
                  </a:lnTo>
                  <a:lnTo>
                    <a:pt x="1250" y="453"/>
                  </a:lnTo>
                  <a:lnTo>
                    <a:pt x="1259" y="447"/>
                  </a:lnTo>
                  <a:lnTo>
                    <a:pt x="1269" y="441"/>
                  </a:lnTo>
                  <a:lnTo>
                    <a:pt x="1280" y="436"/>
                  </a:lnTo>
                  <a:lnTo>
                    <a:pt x="1279" y="431"/>
                  </a:lnTo>
                  <a:lnTo>
                    <a:pt x="1271" y="424"/>
                  </a:lnTo>
                  <a:lnTo>
                    <a:pt x="1262" y="417"/>
                  </a:lnTo>
                  <a:lnTo>
                    <a:pt x="1257" y="409"/>
                  </a:lnTo>
                  <a:lnTo>
                    <a:pt x="1251" y="402"/>
                  </a:lnTo>
                  <a:lnTo>
                    <a:pt x="1238" y="397"/>
                  </a:lnTo>
                  <a:lnTo>
                    <a:pt x="1231" y="392"/>
                  </a:lnTo>
                  <a:lnTo>
                    <a:pt x="1231" y="385"/>
                  </a:lnTo>
                  <a:lnTo>
                    <a:pt x="1240" y="377"/>
                  </a:lnTo>
                  <a:lnTo>
                    <a:pt x="1236" y="371"/>
                  </a:lnTo>
                  <a:lnTo>
                    <a:pt x="1226" y="365"/>
                  </a:lnTo>
                  <a:lnTo>
                    <a:pt x="1216" y="359"/>
                  </a:lnTo>
                  <a:lnTo>
                    <a:pt x="1203" y="354"/>
                  </a:lnTo>
                  <a:lnTo>
                    <a:pt x="1192" y="348"/>
                  </a:lnTo>
                  <a:lnTo>
                    <a:pt x="1181" y="343"/>
                  </a:lnTo>
                  <a:lnTo>
                    <a:pt x="1171" y="337"/>
                  </a:lnTo>
                  <a:lnTo>
                    <a:pt x="1163" y="331"/>
                  </a:lnTo>
                  <a:lnTo>
                    <a:pt x="1164" y="323"/>
                  </a:lnTo>
                  <a:lnTo>
                    <a:pt x="1173" y="314"/>
                  </a:lnTo>
                  <a:lnTo>
                    <a:pt x="1183" y="310"/>
                  </a:lnTo>
                  <a:lnTo>
                    <a:pt x="1195" y="312"/>
                  </a:lnTo>
                  <a:lnTo>
                    <a:pt x="1209" y="312"/>
                  </a:lnTo>
                  <a:lnTo>
                    <a:pt x="1222" y="313"/>
                  </a:lnTo>
                  <a:lnTo>
                    <a:pt x="1234" y="310"/>
                  </a:lnTo>
                  <a:lnTo>
                    <a:pt x="1237" y="303"/>
                  </a:lnTo>
                  <a:lnTo>
                    <a:pt x="1248" y="302"/>
                  </a:lnTo>
                  <a:lnTo>
                    <a:pt x="1262" y="301"/>
                  </a:lnTo>
                  <a:lnTo>
                    <a:pt x="1275" y="298"/>
                  </a:lnTo>
                  <a:lnTo>
                    <a:pt x="1287" y="295"/>
                  </a:lnTo>
                  <a:lnTo>
                    <a:pt x="1297" y="296"/>
                  </a:lnTo>
                  <a:lnTo>
                    <a:pt x="1308" y="301"/>
                  </a:lnTo>
                  <a:lnTo>
                    <a:pt x="1317" y="294"/>
                  </a:lnTo>
                  <a:lnTo>
                    <a:pt x="1324" y="285"/>
                  </a:lnTo>
                  <a:lnTo>
                    <a:pt x="1331" y="276"/>
                  </a:lnTo>
                  <a:lnTo>
                    <a:pt x="1336" y="268"/>
                  </a:lnTo>
                  <a:lnTo>
                    <a:pt x="1342" y="259"/>
                  </a:lnTo>
                  <a:lnTo>
                    <a:pt x="1347" y="251"/>
                  </a:lnTo>
                  <a:lnTo>
                    <a:pt x="1346" y="244"/>
                  </a:lnTo>
                  <a:lnTo>
                    <a:pt x="1333" y="238"/>
                  </a:lnTo>
                  <a:lnTo>
                    <a:pt x="1339" y="230"/>
                  </a:lnTo>
                  <a:lnTo>
                    <a:pt x="1347" y="223"/>
                  </a:lnTo>
                  <a:lnTo>
                    <a:pt x="1353" y="214"/>
                  </a:lnTo>
                  <a:lnTo>
                    <a:pt x="1360" y="206"/>
                  </a:lnTo>
                  <a:lnTo>
                    <a:pt x="1366" y="198"/>
                  </a:lnTo>
                  <a:lnTo>
                    <a:pt x="1368" y="189"/>
                  </a:lnTo>
                  <a:lnTo>
                    <a:pt x="1357" y="186"/>
                  </a:lnTo>
                  <a:lnTo>
                    <a:pt x="1345" y="181"/>
                  </a:lnTo>
                  <a:lnTo>
                    <a:pt x="1333" y="176"/>
                  </a:lnTo>
                  <a:lnTo>
                    <a:pt x="1332" y="170"/>
                  </a:lnTo>
                  <a:lnTo>
                    <a:pt x="1342" y="163"/>
                  </a:lnTo>
                  <a:lnTo>
                    <a:pt x="1349" y="156"/>
                  </a:lnTo>
                  <a:lnTo>
                    <a:pt x="1357" y="148"/>
                  </a:lnTo>
                  <a:lnTo>
                    <a:pt x="1363" y="140"/>
                  </a:lnTo>
                  <a:lnTo>
                    <a:pt x="1370" y="132"/>
                  </a:lnTo>
                  <a:lnTo>
                    <a:pt x="1377" y="124"/>
                  </a:lnTo>
                  <a:lnTo>
                    <a:pt x="1370" y="117"/>
                  </a:lnTo>
                  <a:lnTo>
                    <a:pt x="1357" y="114"/>
                  </a:lnTo>
                  <a:lnTo>
                    <a:pt x="1346" y="109"/>
                  </a:lnTo>
                  <a:lnTo>
                    <a:pt x="1336" y="103"/>
                  </a:lnTo>
                  <a:lnTo>
                    <a:pt x="1342" y="98"/>
                  </a:lnTo>
                  <a:lnTo>
                    <a:pt x="1354" y="93"/>
                  </a:lnTo>
                  <a:lnTo>
                    <a:pt x="1364" y="87"/>
                  </a:lnTo>
                  <a:lnTo>
                    <a:pt x="1374" y="81"/>
                  </a:lnTo>
                  <a:lnTo>
                    <a:pt x="1382" y="74"/>
                  </a:lnTo>
                  <a:lnTo>
                    <a:pt x="1394" y="69"/>
                  </a:lnTo>
                  <a:lnTo>
                    <a:pt x="1405" y="63"/>
                  </a:lnTo>
                  <a:lnTo>
                    <a:pt x="1415" y="57"/>
                  </a:lnTo>
                  <a:lnTo>
                    <a:pt x="1419" y="52"/>
                  </a:lnTo>
                  <a:lnTo>
                    <a:pt x="1430" y="47"/>
                  </a:lnTo>
                  <a:lnTo>
                    <a:pt x="1440" y="41"/>
                  </a:lnTo>
                  <a:lnTo>
                    <a:pt x="1451" y="36"/>
                  </a:lnTo>
                  <a:lnTo>
                    <a:pt x="1462" y="31"/>
                  </a:lnTo>
                  <a:lnTo>
                    <a:pt x="1470" y="24"/>
                  </a:lnTo>
                  <a:lnTo>
                    <a:pt x="1482" y="20"/>
                  </a:lnTo>
                  <a:lnTo>
                    <a:pt x="1494" y="16"/>
                  </a:lnTo>
                  <a:lnTo>
                    <a:pt x="1507" y="12"/>
                  </a:lnTo>
                  <a:lnTo>
                    <a:pt x="1518" y="8"/>
                  </a:lnTo>
                  <a:lnTo>
                    <a:pt x="1529" y="5"/>
                  </a:lnTo>
                  <a:lnTo>
                    <a:pt x="1540" y="3"/>
                  </a:lnTo>
                  <a:lnTo>
                    <a:pt x="1552" y="1"/>
                  </a:lnTo>
                  <a:lnTo>
                    <a:pt x="1563" y="3"/>
                  </a:lnTo>
                  <a:lnTo>
                    <a:pt x="1575" y="5"/>
                  </a:lnTo>
                  <a:lnTo>
                    <a:pt x="1587" y="10"/>
                  </a:lnTo>
                  <a:lnTo>
                    <a:pt x="1599" y="9"/>
                  </a:lnTo>
                  <a:lnTo>
                    <a:pt x="1610" y="5"/>
                  </a:lnTo>
                  <a:lnTo>
                    <a:pt x="1620" y="0"/>
                  </a:lnTo>
                  <a:lnTo>
                    <a:pt x="1631" y="0"/>
                  </a:lnTo>
                  <a:lnTo>
                    <a:pt x="1635" y="9"/>
                  </a:lnTo>
                  <a:lnTo>
                    <a:pt x="1635" y="18"/>
                  </a:lnTo>
                  <a:lnTo>
                    <a:pt x="1635" y="28"/>
                  </a:lnTo>
                  <a:lnTo>
                    <a:pt x="1638" y="37"/>
                  </a:lnTo>
                  <a:lnTo>
                    <a:pt x="1647" y="44"/>
                  </a:lnTo>
                  <a:lnTo>
                    <a:pt x="1658" y="49"/>
                  </a:lnTo>
                  <a:lnTo>
                    <a:pt x="1669" y="53"/>
                  </a:lnTo>
                  <a:lnTo>
                    <a:pt x="1682" y="56"/>
                  </a:lnTo>
                  <a:lnTo>
                    <a:pt x="1694" y="58"/>
                  </a:lnTo>
                  <a:lnTo>
                    <a:pt x="1707" y="58"/>
                  </a:lnTo>
                  <a:lnTo>
                    <a:pt x="1721" y="57"/>
                  </a:lnTo>
                  <a:lnTo>
                    <a:pt x="1733" y="55"/>
                  </a:lnTo>
                  <a:lnTo>
                    <a:pt x="1746" y="54"/>
                  </a:lnTo>
                  <a:lnTo>
                    <a:pt x="1758" y="54"/>
                  </a:lnTo>
                  <a:lnTo>
                    <a:pt x="1772" y="55"/>
                  </a:lnTo>
                  <a:lnTo>
                    <a:pt x="1785" y="57"/>
                  </a:lnTo>
                  <a:lnTo>
                    <a:pt x="1798" y="59"/>
                  </a:lnTo>
                  <a:lnTo>
                    <a:pt x="1807" y="64"/>
                  </a:lnTo>
                  <a:lnTo>
                    <a:pt x="1816" y="72"/>
                  </a:lnTo>
                  <a:lnTo>
                    <a:pt x="1824" y="79"/>
                  </a:lnTo>
                  <a:lnTo>
                    <a:pt x="1831" y="86"/>
                  </a:lnTo>
                  <a:lnTo>
                    <a:pt x="1840" y="94"/>
                  </a:lnTo>
                  <a:lnTo>
                    <a:pt x="1848" y="101"/>
                  </a:lnTo>
                  <a:lnTo>
                    <a:pt x="1858" y="107"/>
                  </a:lnTo>
                  <a:lnTo>
                    <a:pt x="1866" y="114"/>
                  </a:lnTo>
                  <a:lnTo>
                    <a:pt x="1873" y="122"/>
                  </a:lnTo>
                  <a:lnTo>
                    <a:pt x="1880" y="130"/>
                  </a:lnTo>
                  <a:lnTo>
                    <a:pt x="1888" y="137"/>
                  </a:lnTo>
                  <a:lnTo>
                    <a:pt x="1900" y="142"/>
                  </a:lnTo>
                  <a:lnTo>
                    <a:pt x="1912" y="145"/>
                  </a:lnTo>
                  <a:lnTo>
                    <a:pt x="1923" y="150"/>
                  </a:lnTo>
                  <a:lnTo>
                    <a:pt x="1933" y="156"/>
                  </a:lnTo>
                  <a:lnTo>
                    <a:pt x="1939" y="165"/>
                  </a:lnTo>
                  <a:lnTo>
                    <a:pt x="1943" y="173"/>
                  </a:lnTo>
                  <a:lnTo>
                    <a:pt x="1950" y="182"/>
                  </a:lnTo>
                  <a:lnTo>
                    <a:pt x="1958" y="189"/>
                  </a:lnTo>
                  <a:lnTo>
                    <a:pt x="1968" y="194"/>
                  </a:lnTo>
                  <a:lnTo>
                    <a:pt x="1977" y="201"/>
                  </a:lnTo>
                  <a:lnTo>
                    <a:pt x="1985" y="208"/>
                  </a:lnTo>
                  <a:lnTo>
                    <a:pt x="1992" y="216"/>
                  </a:lnTo>
                  <a:lnTo>
                    <a:pt x="1996" y="225"/>
                  </a:lnTo>
                  <a:lnTo>
                    <a:pt x="1996" y="234"/>
                  </a:lnTo>
                  <a:lnTo>
                    <a:pt x="2000" y="243"/>
                  </a:lnTo>
                  <a:lnTo>
                    <a:pt x="2006" y="251"/>
                  </a:lnTo>
                  <a:lnTo>
                    <a:pt x="2013" y="259"/>
                  </a:lnTo>
                  <a:lnTo>
                    <a:pt x="2018" y="268"/>
                  </a:lnTo>
                  <a:lnTo>
                    <a:pt x="2024" y="276"/>
                  </a:lnTo>
                  <a:lnTo>
                    <a:pt x="2028" y="285"/>
                  </a:lnTo>
                  <a:lnTo>
                    <a:pt x="2038" y="292"/>
                  </a:lnTo>
                  <a:lnTo>
                    <a:pt x="2049" y="297"/>
                  </a:lnTo>
                  <a:lnTo>
                    <a:pt x="2062" y="299"/>
                  </a:lnTo>
                  <a:lnTo>
                    <a:pt x="2073" y="303"/>
                  </a:lnTo>
                  <a:lnTo>
                    <a:pt x="2084" y="309"/>
                  </a:lnTo>
                  <a:lnTo>
                    <a:pt x="2094" y="315"/>
                  </a:lnTo>
                  <a:lnTo>
                    <a:pt x="2104" y="321"/>
                  </a:lnTo>
                  <a:lnTo>
                    <a:pt x="2115" y="326"/>
                  </a:lnTo>
                  <a:lnTo>
                    <a:pt x="2126" y="330"/>
                  </a:lnTo>
                  <a:lnTo>
                    <a:pt x="2140" y="329"/>
                  </a:lnTo>
                  <a:lnTo>
                    <a:pt x="2153" y="328"/>
                  </a:lnTo>
                  <a:lnTo>
                    <a:pt x="2165" y="329"/>
                  </a:lnTo>
                  <a:lnTo>
                    <a:pt x="2174" y="336"/>
                  </a:lnTo>
                  <a:lnTo>
                    <a:pt x="2181" y="344"/>
                  </a:lnTo>
                  <a:lnTo>
                    <a:pt x="2189" y="351"/>
                  </a:lnTo>
                  <a:lnTo>
                    <a:pt x="2197" y="358"/>
                  </a:lnTo>
                  <a:lnTo>
                    <a:pt x="2202" y="366"/>
                  </a:lnTo>
                  <a:lnTo>
                    <a:pt x="2200" y="375"/>
                  </a:lnTo>
                  <a:lnTo>
                    <a:pt x="2206" y="384"/>
                  </a:lnTo>
                  <a:lnTo>
                    <a:pt x="2211" y="392"/>
                  </a:lnTo>
                  <a:lnTo>
                    <a:pt x="2214" y="401"/>
                  </a:lnTo>
                  <a:lnTo>
                    <a:pt x="2220" y="409"/>
                  </a:lnTo>
                  <a:lnTo>
                    <a:pt x="2228" y="416"/>
                  </a:lnTo>
                  <a:lnTo>
                    <a:pt x="2234" y="424"/>
                  </a:lnTo>
                  <a:lnTo>
                    <a:pt x="2241" y="433"/>
                  </a:lnTo>
                  <a:lnTo>
                    <a:pt x="2251" y="439"/>
                  </a:lnTo>
                  <a:lnTo>
                    <a:pt x="2262" y="439"/>
                  </a:lnTo>
                  <a:lnTo>
                    <a:pt x="2273" y="434"/>
                  </a:lnTo>
                  <a:lnTo>
                    <a:pt x="2284" y="428"/>
                  </a:lnTo>
                  <a:lnTo>
                    <a:pt x="2295" y="425"/>
                  </a:lnTo>
                  <a:lnTo>
                    <a:pt x="2309" y="425"/>
                  </a:lnTo>
                  <a:lnTo>
                    <a:pt x="2322" y="423"/>
                  </a:lnTo>
                  <a:lnTo>
                    <a:pt x="2333" y="428"/>
                  </a:lnTo>
                  <a:lnTo>
                    <a:pt x="2341" y="435"/>
                  </a:lnTo>
                  <a:lnTo>
                    <a:pt x="2348" y="443"/>
                  </a:lnTo>
                  <a:lnTo>
                    <a:pt x="2357" y="450"/>
                  </a:lnTo>
                  <a:lnTo>
                    <a:pt x="2362" y="458"/>
                  </a:lnTo>
                  <a:lnTo>
                    <a:pt x="2371" y="466"/>
                  </a:lnTo>
                  <a:lnTo>
                    <a:pt x="2379" y="472"/>
                  </a:lnTo>
                  <a:lnTo>
                    <a:pt x="2390" y="478"/>
                  </a:lnTo>
                  <a:lnTo>
                    <a:pt x="2402" y="483"/>
                  </a:lnTo>
                  <a:lnTo>
                    <a:pt x="2413" y="488"/>
                  </a:lnTo>
                  <a:lnTo>
                    <a:pt x="2422" y="494"/>
                  </a:lnTo>
                  <a:lnTo>
                    <a:pt x="2434" y="499"/>
                  </a:lnTo>
                  <a:lnTo>
                    <a:pt x="2445" y="503"/>
                  </a:lnTo>
                  <a:lnTo>
                    <a:pt x="2456" y="508"/>
                  </a:lnTo>
                  <a:lnTo>
                    <a:pt x="2466" y="514"/>
                  </a:lnTo>
                  <a:lnTo>
                    <a:pt x="2476" y="521"/>
                  </a:lnTo>
                  <a:lnTo>
                    <a:pt x="2483" y="528"/>
                  </a:lnTo>
                  <a:lnTo>
                    <a:pt x="2491" y="535"/>
                  </a:lnTo>
                  <a:lnTo>
                    <a:pt x="2499" y="543"/>
                  </a:lnTo>
                  <a:lnTo>
                    <a:pt x="2506" y="550"/>
                  </a:lnTo>
                  <a:lnTo>
                    <a:pt x="2515" y="558"/>
                  </a:lnTo>
                  <a:lnTo>
                    <a:pt x="2525" y="564"/>
                  </a:lnTo>
                  <a:lnTo>
                    <a:pt x="2536" y="567"/>
                  </a:lnTo>
                  <a:lnTo>
                    <a:pt x="2550" y="569"/>
                  </a:lnTo>
                  <a:lnTo>
                    <a:pt x="2561" y="572"/>
                  </a:lnTo>
                  <a:lnTo>
                    <a:pt x="2575" y="573"/>
                  </a:lnTo>
                  <a:lnTo>
                    <a:pt x="2587" y="576"/>
                  </a:lnTo>
                  <a:lnTo>
                    <a:pt x="2600" y="578"/>
                  </a:lnTo>
                  <a:lnTo>
                    <a:pt x="2613" y="578"/>
                  </a:lnTo>
                  <a:lnTo>
                    <a:pt x="2625" y="580"/>
                  </a:lnTo>
                  <a:lnTo>
                    <a:pt x="2636" y="584"/>
                  </a:lnTo>
                  <a:lnTo>
                    <a:pt x="2646" y="591"/>
                  </a:lnTo>
                  <a:lnTo>
                    <a:pt x="2656" y="596"/>
                  </a:lnTo>
                  <a:lnTo>
                    <a:pt x="2669" y="599"/>
                  </a:lnTo>
                  <a:lnTo>
                    <a:pt x="2681" y="597"/>
                  </a:lnTo>
                  <a:lnTo>
                    <a:pt x="2694" y="594"/>
                  </a:lnTo>
                  <a:lnTo>
                    <a:pt x="2706" y="593"/>
                  </a:lnTo>
                  <a:lnTo>
                    <a:pt x="2720" y="593"/>
                  </a:lnTo>
                  <a:lnTo>
                    <a:pt x="2733" y="593"/>
                  </a:lnTo>
                  <a:lnTo>
                    <a:pt x="2745" y="594"/>
                  </a:lnTo>
                  <a:lnTo>
                    <a:pt x="2759" y="595"/>
                  </a:lnTo>
                  <a:lnTo>
                    <a:pt x="2772" y="597"/>
                  </a:lnTo>
                  <a:lnTo>
                    <a:pt x="2785" y="596"/>
                  </a:lnTo>
                  <a:lnTo>
                    <a:pt x="2797" y="593"/>
                  </a:lnTo>
                  <a:lnTo>
                    <a:pt x="2808" y="588"/>
                  </a:lnTo>
                  <a:lnTo>
                    <a:pt x="2821" y="586"/>
                  </a:lnTo>
                  <a:lnTo>
                    <a:pt x="2833" y="588"/>
                  </a:lnTo>
                  <a:lnTo>
                    <a:pt x="2845" y="592"/>
                  </a:lnTo>
                  <a:lnTo>
                    <a:pt x="2856" y="597"/>
                  </a:lnTo>
                  <a:lnTo>
                    <a:pt x="2868" y="601"/>
                  </a:lnTo>
                  <a:lnTo>
                    <a:pt x="2881" y="602"/>
                  </a:lnTo>
                  <a:lnTo>
                    <a:pt x="2887" y="614"/>
                  </a:lnTo>
                  <a:lnTo>
                    <a:pt x="2891" y="623"/>
                  </a:lnTo>
                  <a:lnTo>
                    <a:pt x="2892" y="632"/>
                  </a:lnTo>
                  <a:lnTo>
                    <a:pt x="2892" y="641"/>
                  </a:lnTo>
                  <a:lnTo>
                    <a:pt x="2892" y="650"/>
                  </a:lnTo>
                  <a:lnTo>
                    <a:pt x="2894" y="660"/>
                  </a:lnTo>
                  <a:lnTo>
                    <a:pt x="2896" y="669"/>
                  </a:lnTo>
                  <a:lnTo>
                    <a:pt x="2896" y="678"/>
                  </a:lnTo>
                  <a:lnTo>
                    <a:pt x="2891" y="686"/>
                  </a:lnTo>
                  <a:lnTo>
                    <a:pt x="2885" y="694"/>
                  </a:lnTo>
                  <a:lnTo>
                    <a:pt x="2880" y="703"/>
                  </a:lnTo>
                  <a:lnTo>
                    <a:pt x="2877" y="711"/>
                  </a:lnTo>
                  <a:lnTo>
                    <a:pt x="2871" y="720"/>
                  </a:lnTo>
                  <a:lnTo>
                    <a:pt x="2880" y="726"/>
                  </a:lnTo>
                  <a:lnTo>
                    <a:pt x="2889" y="731"/>
                  </a:lnTo>
                  <a:lnTo>
                    <a:pt x="2894" y="740"/>
                  </a:lnTo>
                  <a:lnTo>
                    <a:pt x="2891" y="750"/>
                  </a:lnTo>
                  <a:lnTo>
                    <a:pt x="2889" y="759"/>
                  </a:lnTo>
                  <a:lnTo>
                    <a:pt x="2885" y="768"/>
                  </a:lnTo>
                  <a:lnTo>
                    <a:pt x="2884" y="777"/>
                  </a:lnTo>
                  <a:lnTo>
                    <a:pt x="2881" y="786"/>
                  </a:lnTo>
                  <a:lnTo>
                    <a:pt x="2878" y="796"/>
                  </a:lnTo>
                  <a:lnTo>
                    <a:pt x="2873" y="804"/>
                  </a:lnTo>
                  <a:lnTo>
                    <a:pt x="2866" y="814"/>
                  </a:lnTo>
                  <a:lnTo>
                    <a:pt x="2871" y="823"/>
                  </a:lnTo>
                  <a:lnTo>
                    <a:pt x="2877" y="831"/>
                  </a:lnTo>
                  <a:lnTo>
                    <a:pt x="2884" y="837"/>
                  </a:lnTo>
                  <a:lnTo>
                    <a:pt x="2894" y="842"/>
                  </a:lnTo>
                  <a:lnTo>
                    <a:pt x="2906" y="847"/>
                  </a:lnTo>
                  <a:lnTo>
                    <a:pt x="2917" y="850"/>
                  </a:lnTo>
                  <a:lnTo>
                    <a:pt x="2930" y="853"/>
                  </a:lnTo>
                  <a:lnTo>
                    <a:pt x="2940" y="852"/>
                  </a:lnTo>
                  <a:lnTo>
                    <a:pt x="2949" y="857"/>
                  </a:lnTo>
                  <a:lnTo>
                    <a:pt x="2949" y="865"/>
                  </a:lnTo>
                  <a:lnTo>
                    <a:pt x="2945" y="875"/>
                  </a:lnTo>
                  <a:lnTo>
                    <a:pt x="2943" y="884"/>
                  </a:lnTo>
                  <a:lnTo>
                    <a:pt x="2938" y="893"/>
                  </a:lnTo>
                  <a:lnTo>
                    <a:pt x="2936" y="902"/>
                  </a:lnTo>
                  <a:lnTo>
                    <a:pt x="2930" y="910"/>
                  </a:lnTo>
                  <a:lnTo>
                    <a:pt x="2922" y="918"/>
                  </a:lnTo>
                  <a:lnTo>
                    <a:pt x="2910" y="923"/>
                  </a:lnTo>
                  <a:lnTo>
                    <a:pt x="2920" y="927"/>
                  </a:lnTo>
                  <a:lnTo>
                    <a:pt x="2929" y="933"/>
                  </a:lnTo>
                  <a:lnTo>
                    <a:pt x="2920" y="940"/>
                  </a:lnTo>
                  <a:lnTo>
                    <a:pt x="2916" y="949"/>
                  </a:lnTo>
                  <a:lnTo>
                    <a:pt x="2908" y="958"/>
                  </a:lnTo>
                  <a:lnTo>
                    <a:pt x="2901" y="966"/>
                  </a:lnTo>
                  <a:lnTo>
                    <a:pt x="2895" y="974"/>
                  </a:lnTo>
                  <a:lnTo>
                    <a:pt x="2901" y="980"/>
                  </a:lnTo>
                  <a:lnTo>
                    <a:pt x="2913" y="985"/>
                  </a:lnTo>
                  <a:lnTo>
                    <a:pt x="2926" y="990"/>
                  </a:lnTo>
                  <a:lnTo>
                    <a:pt x="2936" y="992"/>
                  </a:lnTo>
                  <a:lnTo>
                    <a:pt x="2940" y="984"/>
                  </a:lnTo>
                  <a:lnTo>
                    <a:pt x="2948" y="990"/>
                  </a:lnTo>
                  <a:lnTo>
                    <a:pt x="2955" y="999"/>
                  </a:lnTo>
                  <a:lnTo>
                    <a:pt x="2945" y="1002"/>
                  </a:lnTo>
                  <a:lnTo>
                    <a:pt x="2933" y="1007"/>
                  </a:lnTo>
                  <a:lnTo>
                    <a:pt x="2922" y="1010"/>
                  </a:lnTo>
                  <a:lnTo>
                    <a:pt x="2908" y="1012"/>
                  </a:lnTo>
                  <a:lnTo>
                    <a:pt x="2896" y="1011"/>
                  </a:lnTo>
                  <a:lnTo>
                    <a:pt x="2884" y="1006"/>
                  </a:lnTo>
                  <a:lnTo>
                    <a:pt x="2871" y="1004"/>
                  </a:lnTo>
                  <a:lnTo>
                    <a:pt x="2860" y="1001"/>
                  </a:lnTo>
                  <a:lnTo>
                    <a:pt x="2857" y="992"/>
                  </a:lnTo>
                  <a:lnTo>
                    <a:pt x="2852" y="1001"/>
                  </a:lnTo>
                  <a:lnTo>
                    <a:pt x="2853" y="1010"/>
                  </a:lnTo>
                  <a:lnTo>
                    <a:pt x="2856" y="1019"/>
                  </a:lnTo>
                  <a:lnTo>
                    <a:pt x="2856" y="1028"/>
                  </a:lnTo>
                  <a:lnTo>
                    <a:pt x="2856" y="1037"/>
                  </a:lnTo>
                  <a:lnTo>
                    <a:pt x="2864" y="1041"/>
                  </a:lnTo>
                  <a:lnTo>
                    <a:pt x="2871" y="1047"/>
                  </a:lnTo>
                  <a:lnTo>
                    <a:pt x="2875" y="1056"/>
                  </a:lnTo>
                  <a:lnTo>
                    <a:pt x="2881" y="1064"/>
                  </a:lnTo>
                  <a:lnTo>
                    <a:pt x="2887" y="1073"/>
                  </a:lnTo>
                  <a:lnTo>
                    <a:pt x="2895" y="1080"/>
                  </a:lnTo>
                  <a:lnTo>
                    <a:pt x="2905" y="1087"/>
                  </a:lnTo>
                  <a:lnTo>
                    <a:pt x="2895" y="1092"/>
                  </a:lnTo>
                  <a:lnTo>
                    <a:pt x="2902" y="1100"/>
                  </a:lnTo>
                  <a:lnTo>
                    <a:pt x="2895" y="1102"/>
                  </a:lnTo>
                  <a:lnTo>
                    <a:pt x="2885" y="1102"/>
                  </a:lnTo>
                  <a:lnTo>
                    <a:pt x="2874" y="1108"/>
                  </a:lnTo>
                  <a:lnTo>
                    <a:pt x="2864" y="1114"/>
                  </a:lnTo>
                  <a:lnTo>
                    <a:pt x="2853" y="1120"/>
                  </a:lnTo>
                  <a:lnTo>
                    <a:pt x="2850" y="1128"/>
                  </a:lnTo>
                  <a:lnTo>
                    <a:pt x="2856" y="1136"/>
                  </a:lnTo>
                  <a:lnTo>
                    <a:pt x="2860" y="1144"/>
                  </a:lnTo>
                  <a:lnTo>
                    <a:pt x="2847" y="1141"/>
                  </a:lnTo>
                  <a:lnTo>
                    <a:pt x="2835" y="1144"/>
                  </a:lnTo>
                  <a:lnTo>
                    <a:pt x="2829" y="1149"/>
                  </a:lnTo>
                  <a:lnTo>
                    <a:pt x="2833" y="1156"/>
                  </a:lnTo>
                  <a:lnTo>
                    <a:pt x="2832" y="1164"/>
                  </a:lnTo>
                  <a:lnTo>
                    <a:pt x="2845" y="1169"/>
                  </a:lnTo>
                  <a:lnTo>
                    <a:pt x="2854" y="1173"/>
                  </a:lnTo>
                  <a:lnTo>
                    <a:pt x="2843" y="1178"/>
                  </a:lnTo>
                  <a:lnTo>
                    <a:pt x="2829" y="1181"/>
                  </a:lnTo>
                  <a:lnTo>
                    <a:pt x="2819" y="1185"/>
                  </a:lnTo>
                  <a:lnTo>
                    <a:pt x="2814" y="1175"/>
                  </a:lnTo>
                  <a:lnTo>
                    <a:pt x="2812" y="1166"/>
                  </a:lnTo>
                  <a:lnTo>
                    <a:pt x="2810" y="1157"/>
                  </a:lnTo>
                  <a:lnTo>
                    <a:pt x="2806" y="1148"/>
                  </a:lnTo>
                  <a:lnTo>
                    <a:pt x="2799" y="1140"/>
                  </a:lnTo>
                  <a:lnTo>
                    <a:pt x="2789" y="1134"/>
                  </a:lnTo>
                  <a:lnTo>
                    <a:pt x="2779" y="1127"/>
                  </a:lnTo>
                  <a:lnTo>
                    <a:pt x="2769" y="1130"/>
                  </a:lnTo>
                  <a:lnTo>
                    <a:pt x="2762" y="1123"/>
                  </a:lnTo>
                  <a:lnTo>
                    <a:pt x="2750" y="1119"/>
                  </a:lnTo>
                  <a:lnTo>
                    <a:pt x="2747" y="1114"/>
                  </a:lnTo>
                  <a:lnTo>
                    <a:pt x="2740" y="1120"/>
                  </a:lnTo>
                  <a:lnTo>
                    <a:pt x="2731" y="1128"/>
                  </a:lnTo>
                  <a:lnTo>
                    <a:pt x="2723" y="1136"/>
                  </a:lnTo>
                  <a:lnTo>
                    <a:pt x="2715" y="1144"/>
                  </a:lnTo>
                  <a:lnTo>
                    <a:pt x="2705" y="1150"/>
                  </a:lnTo>
                  <a:lnTo>
                    <a:pt x="2692" y="1148"/>
                  </a:lnTo>
                  <a:lnTo>
                    <a:pt x="2682" y="1145"/>
                  </a:lnTo>
                  <a:lnTo>
                    <a:pt x="2682" y="1135"/>
                  </a:lnTo>
                  <a:lnTo>
                    <a:pt x="2682" y="1126"/>
                  </a:lnTo>
                  <a:lnTo>
                    <a:pt x="2678" y="1117"/>
                  </a:lnTo>
                  <a:lnTo>
                    <a:pt x="2676" y="1115"/>
                  </a:lnTo>
                  <a:lnTo>
                    <a:pt x="2666" y="1121"/>
                  </a:lnTo>
                  <a:lnTo>
                    <a:pt x="2656" y="1128"/>
                  </a:lnTo>
                  <a:lnTo>
                    <a:pt x="2650" y="1137"/>
                  </a:lnTo>
                  <a:lnTo>
                    <a:pt x="2639" y="1141"/>
                  </a:lnTo>
                  <a:lnTo>
                    <a:pt x="2634" y="1149"/>
                  </a:lnTo>
                  <a:lnTo>
                    <a:pt x="2638" y="1158"/>
                  </a:lnTo>
                  <a:lnTo>
                    <a:pt x="2627" y="1163"/>
                  </a:lnTo>
                  <a:lnTo>
                    <a:pt x="2618" y="1170"/>
                  </a:lnTo>
                  <a:lnTo>
                    <a:pt x="2608" y="1178"/>
                  </a:lnTo>
                  <a:lnTo>
                    <a:pt x="2599" y="1185"/>
                  </a:lnTo>
                  <a:lnTo>
                    <a:pt x="2590" y="1183"/>
                  </a:lnTo>
                  <a:lnTo>
                    <a:pt x="2582" y="1176"/>
                  </a:lnTo>
                  <a:lnTo>
                    <a:pt x="2575" y="1167"/>
                  </a:lnTo>
                  <a:lnTo>
                    <a:pt x="2568" y="1157"/>
                  </a:lnTo>
                  <a:lnTo>
                    <a:pt x="2561" y="1150"/>
                  </a:lnTo>
                  <a:lnTo>
                    <a:pt x="2552" y="1151"/>
                  </a:lnTo>
                  <a:lnTo>
                    <a:pt x="2545" y="1161"/>
                  </a:lnTo>
                  <a:lnTo>
                    <a:pt x="2541" y="1161"/>
                  </a:lnTo>
                  <a:lnTo>
                    <a:pt x="2533" y="1169"/>
                  </a:lnTo>
                  <a:lnTo>
                    <a:pt x="2532" y="1178"/>
                  </a:lnTo>
                  <a:lnTo>
                    <a:pt x="2541" y="1185"/>
                  </a:lnTo>
                  <a:lnTo>
                    <a:pt x="2545" y="1192"/>
                  </a:lnTo>
                  <a:lnTo>
                    <a:pt x="2533" y="1198"/>
                  </a:lnTo>
                  <a:lnTo>
                    <a:pt x="2525" y="1191"/>
                  </a:lnTo>
                  <a:lnTo>
                    <a:pt x="2515" y="1195"/>
                  </a:lnTo>
                  <a:lnTo>
                    <a:pt x="2501" y="1198"/>
                  </a:lnTo>
                  <a:lnTo>
                    <a:pt x="2491" y="1193"/>
                  </a:lnTo>
                  <a:lnTo>
                    <a:pt x="2494" y="1185"/>
                  </a:lnTo>
                  <a:lnTo>
                    <a:pt x="2504" y="1178"/>
                  </a:lnTo>
                  <a:lnTo>
                    <a:pt x="2511" y="1171"/>
                  </a:lnTo>
                  <a:lnTo>
                    <a:pt x="2506" y="1161"/>
                  </a:lnTo>
                  <a:lnTo>
                    <a:pt x="2498" y="1154"/>
                  </a:lnTo>
                  <a:lnTo>
                    <a:pt x="2487" y="1154"/>
                  </a:lnTo>
                  <a:lnTo>
                    <a:pt x="2476" y="1160"/>
                  </a:lnTo>
                  <a:lnTo>
                    <a:pt x="2466" y="1157"/>
                  </a:lnTo>
                  <a:lnTo>
                    <a:pt x="2455" y="1164"/>
                  </a:lnTo>
                  <a:lnTo>
                    <a:pt x="2446" y="1160"/>
                  </a:lnTo>
                  <a:lnTo>
                    <a:pt x="2438" y="1151"/>
                  </a:lnTo>
                  <a:lnTo>
                    <a:pt x="2427" y="1153"/>
                  </a:lnTo>
                  <a:lnTo>
                    <a:pt x="2417" y="1160"/>
                  </a:lnTo>
                  <a:lnTo>
                    <a:pt x="2418" y="1169"/>
                  </a:lnTo>
                  <a:lnTo>
                    <a:pt x="2414" y="1178"/>
                  </a:lnTo>
                  <a:lnTo>
                    <a:pt x="2410" y="1184"/>
                  </a:lnTo>
                  <a:lnTo>
                    <a:pt x="2396" y="1186"/>
                  </a:lnTo>
                  <a:lnTo>
                    <a:pt x="2382" y="1191"/>
                  </a:lnTo>
                  <a:lnTo>
                    <a:pt x="2372" y="1193"/>
                  </a:lnTo>
                  <a:lnTo>
                    <a:pt x="2376" y="1186"/>
                  </a:lnTo>
                  <a:lnTo>
                    <a:pt x="2367" y="1182"/>
                  </a:lnTo>
                  <a:lnTo>
                    <a:pt x="2355" y="1181"/>
                  </a:lnTo>
                  <a:lnTo>
                    <a:pt x="2346" y="1177"/>
                  </a:lnTo>
                  <a:lnTo>
                    <a:pt x="2337" y="1168"/>
                  </a:lnTo>
                  <a:lnTo>
                    <a:pt x="2329" y="1162"/>
                  </a:lnTo>
                  <a:lnTo>
                    <a:pt x="2318" y="1164"/>
                  </a:lnTo>
                  <a:lnTo>
                    <a:pt x="2308" y="1172"/>
                  </a:lnTo>
                  <a:lnTo>
                    <a:pt x="2297" y="1178"/>
                  </a:lnTo>
                  <a:lnTo>
                    <a:pt x="2292" y="1171"/>
                  </a:lnTo>
                  <a:lnTo>
                    <a:pt x="2284" y="1163"/>
                  </a:lnTo>
                  <a:lnTo>
                    <a:pt x="2274" y="1157"/>
                  </a:lnTo>
                  <a:lnTo>
                    <a:pt x="2266" y="1150"/>
                  </a:lnTo>
                  <a:lnTo>
                    <a:pt x="2258" y="1143"/>
                  </a:lnTo>
                  <a:lnTo>
                    <a:pt x="2252" y="1134"/>
                  </a:lnTo>
                  <a:lnTo>
                    <a:pt x="2244" y="1130"/>
                  </a:lnTo>
                  <a:lnTo>
                    <a:pt x="2237" y="1121"/>
                  </a:lnTo>
                  <a:lnTo>
                    <a:pt x="2227" y="1123"/>
                  </a:lnTo>
                  <a:lnTo>
                    <a:pt x="2217" y="1131"/>
                  </a:lnTo>
                  <a:lnTo>
                    <a:pt x="2207" y="1137"/>
                  </a:lnTo>
                  <a:lnTo>
                    <a:pt x="2196" y="1143"/>
                  </a:lnTo>
                  <a:lnTo>
                    <a:pt x="2185" y="1149"/>
                  </a:lnTo>
                  <a:lnTo>
                    <a:pt x="2174" y="1153"/>
                  </a:lnTo>
                  <a:lnTo>
                    <a:pt x="2165" y="1151"/>
                  </a:lnTo>
                  <a:lnTo>
                    <a:pt x="2154" y="1147"/>
                  </a:lnTo>
                  <a:lnTo>
                    <a:pt x="2141" y="1148"/>
                  </a:lnTo>
                  <a:lnTo>
                    <a:pt x="2129" y="1146"/>
                  </a:lnTo>
                  <a:lnTo>
                    <a:pt x="2116" y="1143"/>
                  </a:lnTo>
                  <a:lnTo>
                    <a:pt x="2104" y="1140"/>
                  </a:lnTo>
                  <a:lnTo>
                    <a:pt x="2091" y="1136"/>
                  </a:lnTo>
                  <a:lnTo>
                    <a:pt x="2080" y="1132"/>
                  </a:lnTo>
                  <a:lnTo>
                    <a:pt x="2069" y="1127"/>
                  </a:lnTo>
                  <a:lnTo>
                    <a:pt x="2058" y="1122"/>
                  </a:lnTo>
                  <a:lnTo>
                    <a:pt x="2046" y="1118"/>
                  </a:lnTo>
                  <a:lnTo>
                    <a:pt x="2034" y="1115"/>
                  </a:lnTo>
                  <a:lnTo>
                    <a:pt x="2021" y="1112"/>
                  </a:lnTo>
                  <a:lnTo>
                    <a:pt x="2009" y="1111"/>
                  </a:lnTo>
                  <a:lnTo>
                    <a:pt x="1996" y="1110"/>
                  </a:lnTo>
                  <a:lnTo>
                    <a:pt x="1986" y="1107"/>
                  </a:lnTo>
                  <a:lnTo>
                    <a:pt x="1975" y="1112"/>
                  </a:lnTo>
                  <a:lnTo>
                    <a:pt x="1965" y="1119"/>
                  </a:lnTo>
                  <a:lnTo>
                    <a:pt x="1956" y="1125"/>
                  </a:lnTo>
                  <a:lnTo>
                    <a:pt x="1937" y="1131"/>
                  </a:lnTo>
                  <a:lnTo>
                    <a:pt x="1926" y="1126"/>
                  </a:lnTo>
                  <a:lnTo>
                    <a:pt x="1914" y="1123"/>
                  </a:lnTo>
                  <a:lnTo>
                    <a:pt x="1901" y="1123"/>
                  </a:lnTo>
                  <a:lnTo>
                    <a:pt x="1887" y="1123"/>
                  </a:lnTo>
                  <a:lnTo>
                    <a:pt x="1876" y="1121"/>
                  </a:lnTo>
                  <a:lnTo>
                    <a:pt x="1872" y="1130"/>
                  </a:lnTo>
                  <a:lnTo>
                    <a:pt x="1869" y="1139"/>
                  </a:lnTo>
                  <a:lnTo>
                    <a:pt x="1870" y="1148"/>
                  </a:lnTo>
                  <a:lnTo>
                    <a:pt x="1869" y="1157"/>
                  </a:lnTo>
                  <a:lnTo>
                    <a:pt x="1865" y="1166"/>
                  </a:lnTo>
                  <a:lnTo>
                    <a:pt x="1859" y="1174"/>
                  </a:lnTo>
                  <a:lnTo>
                    <a:pt x="1851" y="1181"/>
                  </a:lnTo>
                  <a:lnTo>
                    <a:pt x="1842" y="1188"/>
                  </a:lnTo>
                  <a:lnTo>
                    <a:pt x="1834" y="1195"/>
                  </a:lnTo>
                  <a:lnTo>
                    <a:pt x="1824" y="1201"/>
                  </a:lnTo>
                  <a:lnTo>
                    <a:pt x="1812" y="1202"/>
                  </a:lnTo>
                  <a:lnTo>
                    <a:pt x="1799" y="1202"/>
                  </a:lnTo>
                  <a:lnTo>
                    <a:pt x="1786" y="1207"/>
                  </a:lnTo>
                  <a:lnTo>
                    <a:pt x="1774" y="1209"/>
                  </a:lnTo>
                  <a:lnTo>
                    <a:pt x="1761" y="1210"/>
                  </a:lnTo>
                  <a:lnTo>
                    <a:pt x="1750" y="1205"/>
                  </a:lnTo>
                  <a:lnTo>
                    <a:pt x="1739" y="1205"/>
                  </a:lnTo>
                  <a:lnTo>
                    <a:pt x="1726" y="1209"/>
                  </a:lnTo>
                  <a:lnTo>
                    <a:pt x="1722" y="1215"/>
                  </a:lnTo>
                  <a:lnTo>
                    <a:pt x="1708" y="1217"/>
                  </a:lnTo>
                  <a:lnTo>
                    <a:pt x="1697" y="1221"/>
                  </a:lnTo>
                  <a:lnTo>
                    <a:pt x="1689" y="1228"/>
                  </a:lnTo>
                  <a:lnTo>
                    <a:pt x="1679" y="1225"/>
                  </a:lnTo>
                  <a:lnTo>
                    <a:pt x="1666" y="1225"/>
                  </a:lnTo>
                  <a:lnTo>
                    <a:pt x="1654" y="1223"/>
                  </a:lnTo>
                  <a:lnTo>
                    <a:pt x="1648" y="1229"/>
                  </a:lnTo>
                  <a:lnTo>
                    <a:pt x="1642" y="1223"/>
                  </a:lnTo>
                  <a:lnTo>
                    <a:pt x="1633" y="1228"/>
                  </a:lnTo>
                  <a:lnTo>
                    <a:pt x="1626" y="1223"/>
                  </a:lnTo>
                  <a:lnTo>
                    <a:pt x="1613" y="1221"/>
                  </a:lnTo>
                  <a:lnTo>
                    <a:pt x="1601" y="1220"/>
                  </a:lnTo>
                  <a:lnTo>
                    <a:pt x="1588" y="1221"/>
                  </a:lnTo>
                  <a:lnTo>
                    <a:pt x="1577" y="1217"/>
                  </a:lnTo>
                  <a:lnTo>
                    <a:pt x="1573" y="1209"/>
                  </a:lnTo>
                  <a:lnTo>
                    <a:pt x="1568" y="1212"/>
                  </a:lnTo>
                  <a:lnTo>
                    <a:pt x="1563" y="1208"/>
                  </a:lnTo>
                  <a:lnTo>
                    <a:pt x="1553" y="1210"/>
                  </a:lnTo>
                  <a:lnTo>
                    <a:pt x="1545" y="1213"/>
                  </a:lnTo>
                  <a:lnTo>
                    <a:pt x="1546" y="1222"/>
                  </a:lnTo>
                  <a:lnTo>
                    <a:pt x="1535" y="1221"/>
                  </a:lnTo>
                  <a:lnTo>
                    <a:pt x="1522" y="1217"/>
                  </a:lnTo>
                  <a:lnTo>
                    <a:pt x="1510" y="1216"/>
                  </a:lnTo>
                  <a:lnTo>
                    <a:pt x="1501" y="1210"/>
                  </a:lnTo>
                  <a:lnTo>
                    <a:pt x="1497" y="1200"/>
                  </a:lnTo>
                  <a:lnTo>
                    <a:pt x="1489" y="1200"/>
                  </a:lnTo>
                  <a:lnTo>
                    <a:pt x="1476" y="1203"/>
                  </a:lnTo>
                  <a:lnTo>
                    <a:pt x="1466" y="1210"/>
                  </a:lnTo>
                  <a:lnTo>
                    <a:pt x="1455" y="1214"/>
                  </a:lnTo>
                  <a:lnTo>
                    <a:pt x="1451" y="1220"/>
                  </a:lnTo>
                  <a:lnTo>
                    <a:pt x="1431" y="1219"/>
                  </a:lnTo>
                  <a:lnTo>
                    <a:pt x="1419" y="1215"/>
                  </a:lnTo>
                  <a:lnTo>
                    <a:pt x="1408" y="1211"/>
                  </a:lnTo>
                  <a:lnTo>
                    <a:pt x="1395" y="1211"/>
                  </a:lnTo>
                  <a:lnTo>
                    <a:pt x="1385" y="1217"/>
                  </a:lnTo>
                  <a:lnTo>
                    <a:pt x="1375" y="1224"/>
                  </a:lnTo>
                  <a:lnTo>
                    <a:pt x="1371" y="1233"/>
                  </a:lnTo>
                  <a:lnTo>
                    <a:pt x="1363" y="1240"/>
                  </a:lnTo>
                  <a:lnTo>
                    <a:pt x="1359" y="1247"/>
                  </a:lnTo>
                  <a:lnTo>
                    <a:pt x="1349" y="1251"/>
                  </a:lnTo>
                  <a:lnTo>
                    <a:pt x="1338" y="1250"/>
                  </a:lnTo>
                  <a:lnTo>
                    <a:pt x="1325" y="1253"/>
                  </a:lnTo>
                  <a:lnTo>
                    <a:pt x="1313" y="1257"/>
                  </a:lnTo>
                  <a:lnTo>
                    <a:pt x="1301" y="1261"/>
                  </a:lnTo>
                  <a:lnTo>
                    <a:pt x="1289" y="1265"/>
                  </a:lnTo>
                  <a:lnTo>
                    <a:pt x="1276" y="1268"/>
                  </a:lnTo>
                  <a:lnTo>
                    <a:pt x="1264" y="1267"/>
                  </a:lnTo>
                  <a:lnTo>
                    <a:pt x="1251" y="1268"/>
                  </a:lnTo>
                  <a:lnTo>
                    <a:pt x="1240" y="1270"/>
                  </a:lnTo>
                  <a:lnTo>
                    <a:pt x="1229" y="1275"/>
                  </a:lnTo>
                  <a:lnTo>
                    <a:pt x="1219" y="1281"/>
                  </a:lnTo>
                  <a:lnTo>
                    <a:pt x="1209" y="1288"/>
                  </a:lnTo>
                  <a:lnTo>
                    <a:pt x="1201" y="1292"/>
                  </a:lnTo>
                  <a:lnTo>
                    <a:pt x="1198" y="1288"/>
                  </a:lnTo>
                  <a:lnTo>
                    <a:pt x="1194" y="1284"/>
                  </a:lnTo>
                  <a:lnTo>
                    <a:pt x="1199" y="1281"/>
                  </a:lnTo>
                  <a:lnTo>
                    <a:pt x="1205" y="1275"/>
                  </a:lnTo>
                  <a:lnTo>
                    <a:pt x="1210" y="1266"/>
                  </a:lnTo>
                  <a:lnTo>
                    <a:pt x="1212" y="1257"/>
                  </a:lnTo>
                  <a:lnTo>
                    <a:pt x="1216" y="1248"/>
                  </a:lnTo>
                  <a:lnTo>
                    <a:pt x="1219" y="1239"/>
                  </a:lnTo>
                  <a:lnTo>
                    <a:pt x="1223" y="1230"/>
                  </a:lnTo>
                  <a:lnTo>
                    <a:pt x="1227" y="1221"/>
                  </a:lnTo>
                  <a:lnTo>
                    <a:pt x="1233" y="1213"/>
                  </a:lnTo>
                  <a:lnTo>
                    <a:pt x="1241" y="1205"/>
                  </a:lnTo>
                  <a:lnTo>
                    <a:pt x="1250" y="1198"/>
                  </a:lnTo>
                  <a:lnTo>
                    <a:pt x="1245" y="1190"/>
                  </a:lnTo>
                  <a:lnTo>
                    <a:pt x="1238" y="1184"/>
                  </a:lnTo>
                  <a:lnTo>
                    <a:pt x="1227" y="1180"/>
                  </a:lnTo>
                  <a:lnTo>
                    <a:pt x="1223" y="1171"/>
                  </a:lnTo>
                  <a:lnTo>
                    <a:pt x="1220" y="1162"/>
                  </a:lnTo>
                  <a:lnTo>
                    <a:pt x="1215" y="1159"/>
                  </a:lnTo>
                  <a:lnTo>
                    <a:pt x="1209" y="1166"/>
                  </a:lnTo>
                  <a:lnTo>
                    <a:pt x="1199" y="1172"/>
                  </a:lnTo>
                  <a:lnTo>
                    <a:pt x="1190" y="1178"/>
                  </a:lnTo>
                  <a:lnTo>
                    <a:pt x="1177" y="1182"/>
                  </a:lnTo>
                  <a:lnTo>
                    <a:pt x="1167" y="1188"/>
                  </a:lnTo>
                  <a:lnTo>
                    <a:pt x="1157" y="1194"/>
                  </a:lnTo>
                  <a:lnTo>
                    <a:pt x="1149" y="1199"/>
                  </a:lnTo>
                  <a:lnTo>
                    <a:pt x="1141" y="1201"/>
                  </a:lnTo>
                  <a:lnTo>
                    <a:pt x="1129" y="1205"/>
                  </a:lnTo>
                  <a:lnTo>
                    <a:pt x="1122" y="1213"/>
                  </a:lnTo>
                  <a:lnTo>
                    <a:pt x="1114" y="1220"/>
                  </a:lnTo>
                  <a:lnTo>
                    <a:pt x="1107" y="1224"/>
                  </a:lnTo>
                  <a:lnTo>
                    <a:pt x="1118" y="1228"/>
                  </a:lnTo>
                  <a:lnTo>
                    <a:pt x="1106" y="1228"/>
                  </a:lnTo>
                  <a:lnTo>
                    <a:pt x="1094" y="1231"/>
                  </a:lnTo>
                  <a:lnTo>
                    <a:pt x="1082" y="1234"/>
                  </a:lnTo>
                  <a:lnTo>
                    <a:pt x="1071" y="1238"/>
                  </a:lnTo>
                  <a:lnTo>
                    <a:pt x="1064" y="1246"/>
                  </a:lnTo>
                  <a:lnTo>
                    <a:pt x="1051" y="1248"/>
                  </a:lnTo>
                  <a:lnTo>
                    <a:pt x="1044" y="1255"/>
                  </a:lnTo>
                  <a:lnTo>
                    <a:pt x="1032" y="1259"/>
                  </a:lnTo>
                  <a:lnTo>
                    <a:pt x="1023" y="1264"/>
                  </a:lnTo>
                  <a:lnTo>
                    <a:pt x="1016" y="1272"/>
                  </a:lnTo>
                  <a:lnTo>
                    <a:pt x="1008" y="1279"/>
                  </a:lnTo>
                  <a:lnTo>
                    <a:pt x="1001" y="1287"/>
                  </a:lnTo>
                  <a:lnTo>
                    <a:pt x="991" y="1283"/>
                  </a:lnTo>
                  <a:lnTo>
                    <a:pt x="984" y="1275"/>
                  </a:lnTo>
                  <a:lnTo>
                    <a:pt x="977" y="1267"/>
                  </a:lnTo>
                  <a:lnTo>
                    <a:pt x="973" y="1258"/>
                  </a:lnTo>
                  <a:lnTo>
                    <a:pt x="966" y="1254"/>
                  </a:lnTo>
                  <a:lnTo>
                    <a:pt x="952" y="1254"/>
                  </a:lnTo>
                  <a:lnTo>
                    <a:pt x="942" y="1250"/>
                  </a:lnTo>
                  <a:lnTo>
                    <a:pt x="928" y="1250"/>
                  </a:lnTo>
                  <a:lnTo>
                    <a:pt x="935" y="1243"/>
                  </a:lnTo>
                  <a:lnTo>
                    <a:pt x="927" y="1240"/>
                  </a:lnTo>
                  <a:lnTo>
                    <a:pt x="914" y="1241"/>
                  </a:lnTo>
                  <a:lnTo>
                    <a:pt x="900" y="1241"/>
                  </a:lnTo>
                  <a:lnTo>
                    <a:pt x="892" y="1247"/>
                  </a:lnTo>
                  <a:lnTo>
                    <a:pt x="882" y="1250"/>
                  </a:lnTo>
                  <a:lnTo>
                    <a:pt x="875" y="1241"/>
                  </a:lnTo>
                  <a:lnTo>
                    <a:pt x="868" y="1234"/>
                  </a:lnTo>
                  <a:lnTo>
                    <a:pt x="858" y="1227"/>
                  </a:lnTo>
                  <a:lnTo>
                    <a:pt x="846" y="1225"/>
                  </a:lnTo>
                  <a:lnTo>
                    <a:pt x="843" y="1216"/>
                  </a:lnTo>
                  <a:lnTo>
                    <a:pt x="836" y="1208"/>
                  </a:lnTo>
                  <a:lnTo>
                    <a:pt x="829" y="1199"/>
                  </a:lnTo>
                  <a:lnTo>
                    <a:pt x="822" y="1191"/>
                  </a:lnTo>
                  <a:lnTo>
                    <a:pt x="819" y="1182"/>
                  </a:lnTo>
                  <a:lnTo>
                    <a:pt x="815" y="1174"/>
                  </a:lnTo>
                  <a:lnTo>
                    <a:pt x="804" y="1174"/>
                  </a:lnTo>
                  <a:lnTo>
                    <a:pt x="794" y="1180"/>
                  </a:lnTo>
                  <a:lnTo>
                    <a:pt x="783" y="1185"/>
                  </a:lnTo>
                  <a:lnTo>
                    <a:pt x="772" y="1189"/>
                  </a:lnTo>
                  <a:lnTo>
                    <a:pt x="760" y="1194"/>
                  </a:lnTo>
                  <a:lnTo>
                    <a:pt x="749" y="1198"/>
                  </a:lnTo>
                  <a:lnTo>
                    <a:pt x="737" y="1199"/>
                  </a:lnTo>
                  <a:lnTo>
                    <a:pt x="732" y="1189"/>
                  </a:lnTo>
                  <a:lnTo>
                    <a:pt x="727" y="1182"/>
                  </a:lnTo>
                  <a:lnTo>
                    <a:pt x="717" y="1185"/>
                  </a:lnTo>
                  <a:lnTo>
                    <a:pt x="704" y="1193"/>
                  </a:lnTo>
                  <a:lnTo>
                    <a:pt x="693" y="1189"/>
                  </a:lnTo>
                  <a:lnTo>
                    <a:pt x="686" y="1183"/>
                  </a:lnTo>
                  <a:lnTo>
                    <a:pt x="674" y="1187"/>
                  </a:lnTo>
                  <a:lnTo>
                    <a:pt x="661" y="1190"/>
                  </a:lnTo>
                  <a:lnTo>
                    <a:pt x="650" y="1193"/>
                  </a:lnTo>
                  <a:lnTo>
                    <a:pt x="639" y="1199"/>
                  </a:lnTo>
                  <a:lnTo>
                    <a:pt x="629" y="1197"/>
                  </a:lnTo>
                  <a:lnTo>
                    <a:pt x="619" y="1202"/>
                  </a:lnTo>
                  <a:lnTo>
                    <a:pt x="608" y="1209"/>
                  </a:lnTo>
                  <a:lnTo>
                    <a:pt x="598" y="1214"/>
                  </a:lnTo>
                  <a:lnTo>
                    <a:pt x="587" y="1219"/>
                  </a:lnTo>
                  <a:lnTo>
                    <a:pt x="574" y="1223"/>
                  </a:lnTo>
                  <a:lnTo>
                    <a:pt x="569" y="1229"/>
                  </a:lnTo>
                  <a:lnTo>
                    <a:pt x="556" y="1233"/>
                  </a:lnTo>
                  <a:lnTo>
                    <a:pt x="552" y="1240"/>
                  </a:lnTo>
                  <a:lnTo>
                    <a:pt x="542" y="1240"/>
                  </a:lnTo>
                  <a:lnTo>
                    <a:pt x="535" y="1233"/>
                  </a:lnTo>
                  <a:lnTo>
                    <a:pt x="525" y="1232"/>
                  </a:lnTo>
                  <a:lnTo>
                    <a:pt x="516" y="1231"/>
                  </a:lnTo>
                  <a:lnTo>
                    <a:pt x="503" y="1235"/>
                  </a:lnTo>
                  <a:lnTo>
                    <a:pt x="496" y="1226"/>
                  </a:lnTo>
                  <a:lnTo>
                    <a:pt x="486" y="1225"/>
                  </a:lnTo>
                  <a:lnTo>
                    <a:pt x="477" y="1226"/>
                  </a:lnTo>
                  <a:lnTo>
                    <a:pt x="468" y="1217"/>
                  </a:lnTo>
                  <a:lnTo>
                    <a:pt x="461" y="1215"/>
                  </a:lnTo>
                  <a:lnTo>
                    <a:pt x="451" y="1208"/>
                  </a:lnTo>
                  <a:lnTo>
                    <a:pt x="443" y="1200"/>
                  </a:lnTo>
                  <a:lnTo>
                    <a:pt x="433" y="1195"/>
                  </a:lnTo>
                  <a:lnTo>
                    <a:pt x="428" y="1187"/>
                  </a:lnTo>
                  <a:lnTo>
                    <a:pt x="423" y="1178"/>
                  </a:lnTo>
                  <a:lnTo>
                    <a:pt x="421" y="1169"/>
                  </a:lnTo>
                  <a:lnTo>
                    <a:pt x="426" y="1163"/>
                  </a:lnTo>
                  <a:lnTo>
                    <a:pt x="429" y="1157"/>
                  </a:lnTo>
                  <a:lnTo>
                    <a:pt x="443" y="1154"/>
                  </a:lnTo>
                  <a:lnTo>
                    <a:pt x="449" y="1147"/>
                  </a:lnTo>
                  <a:lnTo>
                    <a:pt x="446" y="1138"/>
                  </a:lnTo>
                  <a:lnTo>
                    <a:pt x="450" y="1129"/>
                  </a:lnTo>
                  <a:lnTo>
                    <a:pt x="457" y="1121"/>
                  </a:lnTo>
                  <a:lnTo>
                    <a:pt x="465" y="1113"/>
                  </a:lnTo>
                  <a:lnTo>
                    <a:pt x="465" y="1105"/>
                  </a:lnTo>
                  <a:lnTo>
                    <a:pt x="457" y="1097"/>
                  </a:lnTo>
                  <a:lnTo>
                    <a:pt x="450" y="1090"/>
                  </a:lnTo>
                  <a:lnTo>
                    <a:pt x="446" y="1082"/>
                  </a:lnTo>
                  <a:lnTo>
                    <a:pt x="440" y="1073"/>
                  </a:lnTo>
                  <a:lnTo>
                    <a:pt x="436" y="1064"/>
                  </a:lnTo>
                  <a:lnTo>
                    <a:pt x="436" y="1056"/>
                  </a:lnTo>
                  <a:lnTo>
                    <a:pt x="443" y="1048"/>
                  </a:lnTo>
                  <a:lnTo>
                    <a:pt x="454" y="1042"/>
                  </a:lnTo>
                  <a:lnTo>
                    <a:pt x="463" y="1047"/>
                  </a:lnTo>
                  <a:lnTo>
                    <a:pt x="471" y="1051"/>
                  </a:lnTo>
                  <a:lnTo>
                    <a:pt x="484" y="1046"/>
                  </a:lnTo>
                  <a:lnTo>
                    <a:pt x="495" y="1043"/>
                  </a:lnTo>
                  <a:lnTo>
                    <a:pt x="507" y="1039"/>
                  </a:lnTo>
                  <a:lnTo>
                    <a:pt x="514" y="1032"/>
                  </a:lnTo>
                  <a:lnTo>
                    <a:pt x="520" y="1024"/>
                  </a:lnTo>
                  <a:lnTo>
                    <a:pt x="532" y="1019"/>
                  </a:lnTo>
                  <a:lnTo>
                    <a:pt x="541" y="1013"/>
                  </a:lnTo>
                  <a:lnTo>
                    <a:pt x="539" y="1004"/>
                  </a:lnTo>
                  <a:lnTo>
                    <a:pt x="537" y="994"/>
                  </a:lnTo>
                  <a:lnTo>
                    <a:pt x="542" y="987"/>
                  </a:lnTo>
                  <a:lnTo>
                    <a:pt x="555" y="982"/>
                  </a:lnTo>
                  <a:lnTo>
                    <a:pt x="556" y="975"/>
                  </a:lnTo>
                  <a:lnTo>
                    <a:pt x="544" y="974"/>
                  </a:lnTo>
                  <a:lnTo>
                    <a:pt x="539" y="966"/>
                  </a:lnTo>
                  <a:lnTo>
                    <a:pt x="527" y="965"/>
                  </a:lnTo>
                  <a:lnTo>
                    <a:pt x="521" y="957"/>
                  </a:lnTo>
                  <a:lnTo>
                    <a:pt x="516" y="948"/>
                  </a:lnTo>
                  <a:lnTo>
                    <a:pt x="513" y="939"/>
                  </a:lnTo>
                  <a:lnTo>
                    <a:pt x="502" y="934"/>
                  </a:lnTo>
                  <a:lnTo>
                    <a:pt x="489" y="934"/>
                  </a:lnTo>
                  <a:lnTo>
                    <a:pt x="477" y="935"/>
                  </a:lnTo>
                  <a:lnTo>
                    <a:pt x="471" y="927"/>
                  </a:lnTo>
                  <a:lnTo>
                    <a:pt x="463" y="920"/>
                  </a:lnTo>
                  <a:lnTo>
                    <a:pt x="468" y="915"/>
                  </a:lnTo>
                  <a:lnTo>
                    <a:pt x="478" y="910"/>
                  </a:lnTo>
                  <a:lnTo>
                    <a:pt x="482" y="901"/>
                  </a:lnTo>
                  <a:lnTo>
                    <a:pt x="486" y="892"/>
                  </a:lnTo>
                  <a:lnTo>
                    <a:pt x="484" y="883"/>
                  </a:lnTo>
                  <a:lnTo>
                    <a:pt x="478" y="875"/>
                  </a:lnTo>
                  <a:lnTo>
                    <a:pt x="477" y="867"/>
                  </a:lnTo>
                  <a:lnTo>
                    <a:pt x="470" y="859"/>
                  </a:lnTo>
                  <a:lnTo>
                    <a:pt x="475" y="851"/>
                  </a:lnTo>
                  <a:lnTo>
                    <a:pt x="481" y="845"/>
                  </a:lnTo>
                  <a:lnTo>
                    <a:pt x="477" y="840"/>
                  </a:lnTo>
                  <a:lnTo>
                    <a:pt x="464" y="840"/>
                  </a:lnTo>
                  <a:lnTo>
                    <a:pt x="456" y="835"/>
                  </a:lnTo>
                  <a:lnTo>
                    <a:pt x="454" y="826"/>
                  </a:lnTo>
                  <a:lnTo>
                    <a:pt x="450" y="817"/>
                  </a:lnTo>
                  <a:lnTo>
                    <a:pt x="446" y="808"/>
                  </a:lnTo>
                  <a:lnTo>
                    <a:pt x="437" y="802"/>
                  </a:lnTo>
                  <a:lnTo>
                    <a:pt x="425" y="798"/>
                  </a:lnTo>
                  <a:lnTo>
                    <a:pt x="414" y="794"/>
                  </a:lnTo>
                  <a:lnTo>
                    <a:pt x="401" y="792"/>
                  </a:lnTo>
                  <a:lnTo>
                    <a:pt x="389" y="795"/>
                  </a:lnTo>
                  <a:lnTo>
                    <a:pt x="376" y="798"/>
                  </a:lnTo>
                  <a:lnTo>
                    <a:pt x="366" y="803"/>
                  </a:lnTo>
                  <a:lnTo>
                    <a:pt x="354" y="806"/>
                  </a:lnTo>
                  <a:lnTo>
                    <a:pt x="341" y="809"/>
                  </a:lnTo>
                  <a:lnTo>
                    <a:pt x="328" y="812"/>
                  </a:lnTo>
                  <a:lnTo>
                    <a:pt x="316" y="811"/>
                  </a:lnTo>
                  <a:lnTo>
                    <a:pt x="303" y="809"/>
                  </a:lnTo>
                  <a:lnTo>
                    <a:pt x="291" y="808"/>
                  </a:lnTo>
                  <a:lnTo>
                    <a:pt x="281" y="801"/>
                  </a:lnTo>
                  <a:lnTo>
                    <a:pt x="270" y="796"/>
                  </a:lnTo>
                  <a:lnTo>
                    <a:pt x="261" y="790"/>
                  </a:lnTo>
                  <a:lnTo>
                    <a:pt x="250" y="784"/>
                  </a:lnTo>
                  <a:lnTo>
                    <a:pt x="242" y="777"/>
                  </a:lnTo>
                  <a:lnTo>
                    <a:pt x="231" y="772"/>
                  </a:lnTo>
                  <a:lnTo>
                    <a:pt x="219" y="767"/>
                  </a:lnTo>
                  <a:lnTo>
                    <a:pt x="208" y="762"/>
                  </a:lnTo>
                  <a:lnTo>
                    <a:pt x="197" y="759"/>
                  </a:lnTo>
                  <a:lnTo>
                    <a:pt x="187" y="755"/>
                  </a:lnTo>
                  <a:lnTo>
                    <a:pt x="177" y="749"/>
                  </a:lnTo>
                  <a:lnTo>
                    <a:pt x="172" y="756"/>
                  </a:lnTo>
                  <a:lnTo>
                    <a:pt x="162" y="762"/>
                  </a:lnTo>
                  <a:lnTo>
                    <a:pt x="152" y="762"/>
                  </a:lnTo>
                  <a:lnTo>
                    <a:pt x="141" y="761"/>
                  </a:lnTo>
                  <a:lnTo>
                    <a:pt x="130" y="757"/>
                  </a:lnTo>
                  <a:lnTo>
                    <a:pt x="120" y="753"/>
                  </a:lnTo>
                  <a:lnTo>
                    <a:pt x="115" y="743"/>
                  </a:lnTo>
                  <a:lnTo>
                    <a:pt x="106" y="738"/>
                  </a:lnTo>
                  <a:lnTo>
                    <a:pt x="94" y="735"/>
                  </a:lnTo>
                  <a:lnTo>
                    <a:pt x="80" y="735"/>
                  </a:lnTo>
                  <a:lnTo>
                    <a:pt x="70" y="731"/>
                  </a:lnTo>
                  <a:lnTo>
                    <a:pt x="59" y="727"/>
                  </a:lnTo>
                  <a:lnTo>
                    <a:pt x="45" y="724"/>
                  </a:lnTo>
                  <a:lnTo>
                    <a:pt x="32" y="723"/>
                  </a:lnTo>
                  <a:lnTo>
                    <a:pt x="21" y="718"/>
                  </a:lnTo>
                  <a:lnTo>
                    <a:pt x="10" y="714"/>
                  </a:lnTo>
                  <a:lnTo>
                    <a:pt x="0" y="709"/>
                  </a:lnTo>
                  <a:lnTo>
                    <a:pt x="0" y="700"/>
                  </a:lnTo>
                  <a:lnTo>
                    <a:pt x="12" y="697"/>
                  </a:lnTo>
                  <a:lnTo>
                    <a:pt x="25" y="694"/>
                  </a:lnTo>
                  <a:lnTo>
                    <a:pt x="36" y="689"/>
                  </a:lnTo>
                  <a:lnTo>
                    <a:pt x="38" y="681"/>
                  </a:lnTo>
                  <a:lnTo>
                    <a:pt x="40" y="672"/>
                  </a:lnTo>
                  <a:lnTo>
                    <a:pt x="45" y="663"/>
                  </a:lnTo>
                  <a:lnTo>
                    <a:pt x="47" y="654"/>
                  </a:lnTo>
                  <a:lnTo>
                    <a:pt x="49" y="644"/>
                  </a:lnTo>
                  <a:lnTo>
                    <a:pt x="57" y="638"/>
                  </a:lnTo>
                  <a:lnTo>
                    <a:pt x="64" y="643"/>
                  </a:lnTo>
                  <a:lnTo>
                    <a:pt x="67" y="653"/>
                  </a:lnTo>
                  <a:lnTo>
                    <a:pt x="70" y="662"/>
                  </a:lnTo>
                  <a:lnTo>
                    <a:pt x="78" y="668"/>
                  </a:lnTo>
                  <a:lnTo>
                    <a:pt x="87" y="673"/>
                  </a:lnTo>
                  <a:lnTo>
                    <a:pt x="99" y="673"/>
                  </a:lnTo>
                  <a:lnTo>
                    <a:pt x="105" y="667"/>
                  </a:lnTo>
                  <a:lnTo>
                    <a:pt x="103" y="658"/>
                  </a:lnTo>
                  <a:lnTo>
                    <a:pt x="112" y="653"/>
                  </a:lnTo>
                  <a:lnTo>
                    <a:pt x="121" y="654"/>
                  </a:lnTo>
                  <a:lnTo>
                    <a:pt x="124" y="646"/>
                  </a:lnTo>
                  <a:lnTo>
                    <a:pt x="133" y="638"/>
                  </a:lnTo>
                  <a:lnTo>
                    <a:pt x="144" y="635"/>
                  </a:lnTo>
                  <a:lnTo>
                    <a:pt x="148" y="628"/>
                  </a:lnTo>
                  <a:lnTo>
                    <a:pt x="159" y="629"/>
                  </a:lnTo>
                  <a:lnTo>
                    <a:pt x="169" y="626"/>
                  </a:lnTo>
                  <a:lnTo>
                    <a:pt x="180" y="623"/>
                  </a:lnTo>
                  <a:lnTo>
                    <a:pt x="190" y="618"/>
                  </a:lnTo>
                  <a:lnTo>
                    <a:pt x="197" y="613"/>
                  </a:lnTo>
                  <a:lnTo>
                    <a:pt x="210" y="616"/>
                  </a:lnTo>
                  <a:lnTo>
                    <a:pt x="222" y="615"/>
                  </a:lnTo>
                  <a:lnTo>
                    <a:pt x="235" y="613"/>
                  </a:lnTo>
                  <a:lnTo>
                    <a:pt x="239" y="606"/>
                  </a:lnTo>
                  <a:lnTo>
                    <a:pt x="250" y="599"/>
                  </a:lnTo>
                  <a:lnTo>
                    <a:pt x="257" y="593"/>
                  </a:lnTo>
                  <a:lnTo>
                    <a:pt x="253" y="585"/>
                  </a:lnTo>
                  <a:lnTo>
                    <a:pt x="245" y="577"/>
                  </a:lnTo>
                  <a:lnTo>
                    <a:pt x="235" y="570"/>
                  </a:lnTo>
                  <a:lnTo>
                    <a:pt x="228" y="562"/>
                  </a:lnTo>
                  <a:lnTo>
                    <a:pt x="231" y="554"/>
                  </a:lnTo>
                  <a:lnTo>
                    <a:pt x="243" y="550"/>
                  </a:lnTo>
                  <a:lnTo>
                    <a:pt x="252" y="548"/>
                  </a:lnTo>
                  <a:lnTo>
                    <a:pt x="247" y="539"/>
                  </a:lnTo>
                  <a:lnTo>
                    <a:pt x="254" y="532"/>
                  </a:lnTo>
                  <a:lnTo>
                    <a:pt x="267" y="533"/>
                  </a:lnTo>
                  <a:lnTo>
                    <a:pt x="281" y="533"/>
                  </a:lnTo>
                  <a:lnTo>
                    <a:pt x="293" y="532"/>
                  </a:lnTo>
                  <a:lnTo>
                    <a:pt x="306" y="530"/>
                  </a:lnTo>
                  <a:lnTo>
                    <a:pt x="319" y="527"/>
                  </a:lnTo>
                  <a:lnTo>
                    <a:pt x="331" y="524"/>
                  </a:lnTo>
                  <a:lnTo>
                    <a:pt x="340" y="519"/>
                  </a:lnTo>
                  <a:lnTo>
                    <a:pt x="351" y="525"/>
                  </a:lnTo>
                  <a:lnTo>
                    <a:pt x="362" y="520"/>
                  </a:lnTo>
                  <a:lnTo>
                    <a:pt x="375" y="517"/>
                  </a:lnTo>
                  <a:lnTo>
                    <a:pt x="387" y="520"/>
                  </a:lnTo>
                  <a:lnTo>
                    <a:pt x="398" y="524"/>
                  </a:lnTo>
                  <a:lnTo>
                    <a:pt x="411" y="522"/>
                  </a:lnTo>
                  <a:lnTo>
                    <a:pt x="422" y="522"/>
                  </a:lnTo>
                  <a:lnTo>
                    <a:pt x="429" y="530"/>
                  </a:lnTo>
                  <a:lnTo>
                    <a:pt x="429" y="540"/>
                  </a:lnTo>
                  <a:lnTo>
                    <a:pt x="437" y="546"/>
                  </a:lnTo>
                  <a:lnTo>
                    <a:pt x="449" y="551"/>
                  </a:lnTo>
                  <a:lnTo>
                    <a:pt x="460" y="556"/>
                  </a:lnTo>
                  <a:lnTo>
                    <a:pt x="470" y="555"/>
                  </a:lnTo>
                  <a:lnTo>
                    <a:pt x="481" y="558"/>
                  </a:lnTo>
                  <a:lnTo>
                    <a:pt x="493" y="561"/>
                  </a:lnTo>
                  <a:lnTo>
                    <a:pt x="507" y="562"/>
                  </a:lnTo>
                  <a:lnTo>
                    <a:pt x="521" y="563"/>
                  </a:lnTo>
                  <a:lnTo>
                    <a:pt x="535" y="565"/>
                  </a:lnTo>
                  <a:lnTo>
                    <a:pt x="549" y="566"/>
                  </a:lnTo>
                  <a:lnTo>
                    <a:pt x="562" y="567"/>
                  </a:lnTo>
                  <a:lnTo>
                    <a:pt x="574" y="569"/>
                  </a:lnTo>
                  <a:lnTo>
                    <a:pt x="584" y="572"/>
                  </a:lnTo>
                  <a:lnTo>
                    <a:pt x="591" y="578"/>
                  </a:lnTo>
                  <a:lnTo>
                    <a:pt x="588" y="588"/>
                  </a:lnTo>
                  <a:lnTo>
                    <a:pt x="588" y="598"/>
                  </a:lnTo>
                  <a:lnTo>
                    <a:pt x="591" y="607"/>
                  </a:lnTo>
                  <a:lnTo>
                    <a:pt x="595" y="617"/>
                  </a:lnTo>
                  <a:lnTo>
                    <a:pt x="598" y="627"/>
                  </a:lnTo>
                  <a:lnTo>
                    <a:pt x="602" y="637"/>
                  </a:lnTo>
                  <a:lnTo>
                    <a:pt x="607" y="647"/>
                  </a:lnTo>
                  <a:lnTo>
                    <a:pt x="611" y="657"/>
                  </a:lnTo>
                  <a:lnTo>
                    <a:pt x="615" y="666"/>
                  </a:lnTo>
                  <a:lnTo>
                    <a:pt x="622" y="673"/>
                  </a:lnTo>
                  <a:lnTo>
                    <a:pt x="629" y="680"/>
                  </a:lnTo>
                  <a:lnTo>
                    <a:pt x="637" y="685"/>
                  </a:lnTo>
                  <a:lnTo>
                    <a:pt x="647" y="689"/>
                  </a:lnTo>
                  <a:lnTo>
                    <a:pt x="658" y="691"/>
                  </a:lnTo>
                  <a:lnTo>
                    <a:pt x="669" y="692"/>
                  </a:lnTo>
                  <a:lnTo>
                    <a:pt x="682" y="693"/>
                  </a:lnTo>
                  <a:lnTo>
                    <a:pt x="696" y="693"/>
                  </a:lnTo>
                  <a:lnTo>
                    <a:pt x="710" y="692"/>
                  </a:lnTo>
                  <a:lnTo>
                    <a:pt x="724" y="691"/>
                  </a:lnTo>
                  <a:lnTo>
                    <a:pt x="738" y="690"/>
                  </a:lnTo>
                  <a:lnTo>
                    <a:pt x="752" y="688"/>
                  </a:lnTo>
                  <a:lnTo>
                    <a:pt x="766" y="687"/>
                  </a:lnTo>
                  <a:lnTo>
                    <a:pt x="780" y="687"/>
                  </a:lnTo>
                  <a:lnTo>
                    <a:pt x="794" y="686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78480" y="2273400"/>
              <a:ext cx="1355760" cy="1674720"/>
            </a:xfrm>
            <a:custGeom>
              <a:avLst/>
              <a:gdLst/>
              <a:ahLst/>
              <a:rect l="l" t="t" r="r" b="b"/>
              <a:pathLst>
                <a:path w="2563" h="2111">
                  <a:moveTo>
                    <a:pt x="8" y="649"/>
                  </a:moveTo>
                  <a:lnTo>
                    <a:pt x="19" y="652"/>
                  </a:lnTo>
                  <a:lnTo>
                    <a:pt x="28" y="644"/>
                  </a:lnTo>
                  <a:lnTo>
                    <a:pt x="36" y="650"/>
                  </a:lnTo>
                  <a:lnTo>
                    <a:pt x="47" y="652"/>
                  </a:lnTo>
                  <a:lnTo>
                    <a:pt x="60" y="651"/>
                  </a:lnTo>
                  <a:lnTo>
                    <a:pt x="60" y="660"/>
                  </a:lnTo>
                  <a:lnTo>
                    <a:pt x="65" y="669"/>
                  </a:lnTo>
                  <a:lnTo>
                    <a:pt x="75" y="675"/>
                  </a:lnTo>
                  <a:lnTo>
                    <a:pt x="88" y="678"/>
                  </a:lnTo>
                  <a:lnTo>
                    <a:pt x="100" y="678"/>
                  </a:lnTo>
                  <a:lnTo>
                    <a:pt x="106" y="671"/>
                  </a:lnTo>
                  <a:lnTo>
                    <a:pt x="102" y="662"/>
                  </a:lnTo>
                  <a:lnTo>
                    <a:pt x="91" y="658"/>
                  </a:lnTo>
                  <a:lnTo>
                    <a:pt x="79" y="654"/>
                  </a:lnTo>
                  <a:lnTo>
                    <a:pt x="68" y="649"/>
                  </a:lnTo>
                  <a:lnTo>
                    <a:pt x="61" y="641"/>
                  </a:lnTo>
                  <a:lnTo>
                    <a:pt x="56" y="633"/>
                  </a:lnTo>
                  <a:lnTo>
                    <a:pt x="54" y="623"/>
                  </a:lnTo>
                  <a:lnTo>
                    <a:pt x="53" y="614"/>
                  </a:lnTo>
                  <a:lnTo>
                    <a:pt x="65" y="612"/>
                  </a:lnTo>
                  <a:lnTo>
                    <a:pt x="78" y="614"/>
                  </a:lnTo>
                  <a:lnTo>
                    <a:pt x="92" y="616"/>
                  </a:lnTo>
                  <a:lnTo>
                    <a:pt x="105" y="616"/>
                  </a:lnTo>
                  <a:lnTo>
                    <a:pt x="116" y="616"/>
                  </a:lnTo>
                  <a:lnTo>
                    <a:pt x="128" y="619"/>
                  </a:lnTo>
                  <a:lnTo>
                    <a:pt x="141" y="617"/>
                  </a:lnTo>
                  <a:lnTo>
                    <a:pt x="151" y="611"/>
                  </a:lnTo>
                  <a:lnTo>
                    <a:pt x="148" y="602"/>
                  </a:lnTo>
                  <a:lnTo>
                    <a:pt x="135" y="600"/>
                  </a:lnTo>
                  <a:lnTo>
                    <a:pt x="123" y="605"/>
                  </a:lnTo>
                  <a:lnTo>
                    <a:pt x="120" y="596"/>
                  </a:lnTo>
                  <a:lnTo>
                    <a:pt x="114" y="588"/>
                  </a:lnTo>
                  <a:lnTo>
                    <a:pt x="111" y="578"/>
                  </a:lnTo>
                  <a:lnTo>
                    <a:pt x="113" y="569"/>
                  </a:lnTo>
                  <a:lnTo>
                    <a:pt x="120" y="561"/>
                  </a:lnTo>
                  <a:lnTo>
                    <a:pt x="131" y="565"/>
                  </a:lnTo>
                  <a:lnTo>
                    <a:pt x="134" y="574"/>
                  </a:lnTo>
                  <a:lnTo>
                    <a:pt x="141" y="583"/>
                  </a:lnTo>
                  <a:lnTo>
                    <a:pt x="152" y="587"/>
                  </a:lnTo>
                  <a:lnTo>
                    <a:pt x="163" y="583"/>
                  </a:lnTo>
                  <a:lnTo>
                    <a:pt x="172" y="576"/>
                  </a:lnTo>
                  <a:lnTo>
                    <a:pt x="183" y="571"/>
                  </a:lnTo>
                  <a:lnTo>
                    <a:pt x="195" y="567"/>
                  </a:lnTo>
                  <a:lnTo>
                    <a:pt x="209" y="570"/>
                  </a:lnTo>
                  <a:lnTo>
                    <a:pt x="218" y="570"/>
                  </a:lnTo>
                  <a:lnTo>
                    <a:pt x="212" y="560"/>
                  </a:lnTo>
                  <a:lnTo>
                    <a:pt x="211" y="551"/>
                  </a:lnTo>
                  <a:lnTo>
                    <a:pt x="218" y="543"/>
                  </a:lnTo>
                  <a:lnTo>
                    <a:pt x="229" y="537"/>
                  </a:lnTo>
                  <a:lnTo>
                    <a:pt x="237" y="531"/>
                  </a:lnTo>
                  <a:lnTo>
                    <a:pt x="244" y="524"/>
                  </a:lnTo>
                  <a:lnTo>
                    <a:pt x="255" y="519"/>
                  </a:lnTo>
                  <a:lnTo>
                    <a:pt x="267" y="515"/>
                  </a:lnTo>
                  <a:lnTo>
                    <a:pt x="281" y="515"/>
                  </a:lnTo>
                  <a:lnTo>
                    <a:pt x="293" y="517"/>
                  </a:lnTo>
                  <a:lnTo>
                    <a:pt x="306" y="518"/>
                  </a:lnTo>
                  <a:lnTo>
                    <a:pt x="318" y="518"/>
                  </a:lnTo>
                  <a:lnTo>
                    <a:pt x="331" y="515"/>
                  </a:lnTo>
                  <a:lnTo>
                    <a:pt x="338" y="508"/>
                  </a:lnTo>
                  <a:lnTo>
                    <a:pt x="339" y="498"/>
                  </a:lnTo>
                  <a:lnTo>
                    <a:pt x="335" y="489"/>
                  </a:lnTo>
                  <a:lnTo>
                    <a:pt x="332" y="482"/>
                  </a:lnTo>
                  <a:lnTo>
                    <a:pt x="331" y="475"/>
                  </a:lnTo>
                  <a:lnTo>
                    <a:pt x="338" y="468"/>
                  </a:lnTo>
                  <a:lnTo>
                    <a:pt x="331" y="461"/>
                  </a:lnTo>
                  <a:lnTo>
                    <a:pt x="334" y="452"/>
                  </a:lnTo>
                  <a:lnTo>
                    <a:pt x="344" y="445"/>
                  </a:lnTo>
                  <a:lnTo>
                    <a:pt x="352" y="438"/>
                  </a:lnTo>
                  <a:lnTo>
                    <a:pt x="362" y="433"/>
                  </a:lnTo>
                  <a:lnTo>
                    <a:pt x="376" y="433"/>
                  </a:lnTo>
                  <a:lnTo>
                    <a:pt x="387" y="436"/>
                  </a:lnTo>
                  <a:lnTo>
                    <a:pt x="394" y="444"/>
                  </a:lnTo>
                  <a:lnTo>
                    <a:pt x="398" y="453"/>
                  </a:lnTo>
                  <a:lnTo>
                    <a:pt x="406" y="460"/>
                  </a:lnTo>
                  <a:lnTo>
                    <a:pt x="413" y="453"/>
                  </a:lnTo>
                  <a:lnTo>
                    <a:pt x="418" y="444"/>
                  </a:lnTo>
                  <a:lnTo>
                    <a:pt x="422" y="435"/>
                  </a:lnTo>
                  <a:lnTo>
                    <a:pt x="415" y="428"/>
                  </a:lnTo>
                  <a:lnTo>
                    <a:pt x="419" y="419"/>
                  </a:lnTo>
                  <a:lnTo>
                    <a:pt x="430" y="419"/>
                  </a:lnTo>
                  <a:lnTo>
                    <a:pt x="436" y="411"/>
                  </a:lnTo>
                  <a:lnTo>
                    <a:pt x="440" y="402"/>
                  </a:lnTo>
                  <a:lnTo>
                    <a:pt x="432" y="395"/>
                  </a:lnTo>
                  <a:lnTo>
                    <a:pt x="443" y="391"/>
                  </a:lnTo>
                  <a:lnTo>
                    <a:pt x="447" y="383"/>
                  </a:lnTo>
                  <a:lnTo>
                    <a:pt x="451" y="373"/>
                  </a:lnTo>
                  <a:lnTo>
                    <a:pt x="461" y="368"/>
                  </a:lnTo>
                  <a:lnTo>
                    <a:pt x="465" y="361"/>
                  </a:lnTo>
                  <a:lnTo>
                    <a:pt x="465" y="352"/>
                  </a:lnTo>
                  <a:lnTo>
                    <a:pt x="465" y="342"/>
                  </a:lnTo>
                  <a:lnTo>
                    <a:pt x="467" y="333"/>
                  </a:lnTo>
                  <a:lnTo>
                    <a:pt x="472" y="325"/>
                  </a:lnTo>
                  <a:lnTo>
                    <a:pt x="479" y="318"/>
                  </a:lnTo>
                  <a:lnTo>
                    <a:pt x="486" y="310"/>
                  </a:lnTo>
                  <a:lnTo>
                    <a:pt x="489" y="302"/>
                  </a:lnTo>
                  <a:lnTo>
                    <a:pt x="482" y="293"/>
                  </a:lnTo>
                  <a:lnTo>
                    <a:pt x="481" y="283"/>
                  </a:lnTo>
                  <a:lnTo>
                    <a:pt x="476" y="275"/>
                  </a:lnTo>
                  <a:lnTo>
                    <a:pt x="465" y="271"/>
                  </a:lnTo>
                  <a:lnTo>
                    <a:pt x="457" y="263"/>
                  </a:lnTo>
                  <a:lnTo>
                    <a:pt x="448" y="256"/>
                  </a:lnTo>
                  <a:lnTo>
                    <a:pt x="450" y="250"/>
                  </a:lnTo>
                  <a:lnTo>
                    <a:pt x="444" y="244"/>
                  </a:lnTo>
                  <a:lnTo>
                    <a:pt x="436" y="239"/>
                  </a:lnTo>
                  <a:lnTo>
                    <a:pt x="441" y="231"/>
                  </a:lnTo>
                  <a:lnTo>
                    <a:pt x="451" y="225"/>
                  </a:lnTo>
                  <a:lnTo>
                    <a:pt x="464" y="226"/>
                  </a:lnTo>
                  <a:lnTo>
                    <a:pt x="469" y="220"/>
                  </a:lnTo>
                  <a:lnTo>
                    <a:pt x="479" y="214"/>
                  </a:lnTo>
                  <a:lnTo>
                    <a:pt x="492" y="213"/>
                  </a:lnTo>
                  <a:lnTo>
                    <a:pt x="493" y="203"/>
                  </a:lnTo>
                  <a:lnTo>
                    <a:pt x="492" y="194"/>
                  </a:lnTo>
                  <a:lnTo>
                    <a:pt x="492" y="185"/>
                  </a:lnTo>
                  <a:lnTo>
                    <a:pt x="495" y="176"/>
                  </a:lnTo>
                  <a:lnTo>
                    <a:pt x="497" y="166"/>
                  </a:lnTo>
                  <a:lnTo>
                    <a:pt x="490" y="159"/>
                  </a:lnTo>
                  <a:lnTo>
                    <a:pt x="499" y="151"/>
                  </a:lnTo>
                  <a:lnTo>
                    <a:pt x="509" y="145"/>
                  </a:lnTo>
                  <a:lnTo>
                    <a:pt x="513" y="137"/>
                  </a:lnTo>
                  <a:lnTo>
                    <a:pt x="524" y="132"/>
                  </a:lnTo>
                  <a:lnTo>
                    <a:pt x="535" y="127"/>
                  </a:lnTo>
                  <a:lnTo>
                    <a:pt x="549" y="127"/>
                  </a:lnTo>
                  <a:lnTo>
                    <a:pt x="560" y="121"/>
                  </a:lnTo>
                  <a:lnTo>
                    <a:pt x="567" y="114"/>
                  </a:lnTo>
                  <a:lnTo>
                    <a:pt x="564" y="100"/>
                  </a:lnTo>
                  <a:lnTo>
                    <a:pt x="555" y="96"/>
                  </a:lnTo>
                  <a:lnTo>
                    <a:pt x="542" y="98"/>
                  </a:lnTo>
                  <a:lnTo>
                    <a:pt x="528" y="98"/>
                  </a:lnTo>
                  <a:lnTo>
                    <a:pt x="514" y="99"/>
                  </a:lnTo>
                  <a:lnTo>
                    <a:pt x="503" y="97"/>
                  </a:lnTo>
                  <a:lnTo>
                    <a:pt x="504" y="88"/>
                  </a:lnTo>
                  <a:lnTo>
                    <a:pt x="513" y="81"/>
                  </a:lnTo>
                  <a:lnTo>
                    <a:pt x="524" y="77"/>
                  </a:lnTo>
                  <a:lnTo>
                    <a:pt x="535" y="73"/>
                  </a:lnTo>
                  <a:lnTo>
                    <a:pt x="543" y="65"/>
                  </a:lnTo>
                  <a:lnTo>
                    <a:pt x="546" y="56"/>
                  </a:lnTo>
                  <a:lnTo>
                    <a:pt x="549" y="47"/>
                  </a:lnTo>
                  <a:lnTo>
                    <a:pt x="550" y="38"/>
                  </a:lnTo>
                  <a:lnTo>
                    <a:pt x="553" y="29"/>
                  </a:lnTo>
                  <a:lnTo>
                    <a:pt x="556" y="20"/>
                  </a:lnTo>
                  <a:lnTo>
                    <a:pt x="559" y="8"/>
                  </a:lnTo>
                  <a:lnTo>
                    <a:pt x="569" y="15"/>
                  </a:lnTo>
                  <a:lnTo>
                    <a:pt x="578" y="12"/>
                  </a:lnTo>
                  <a:lnTo>
                    <a:pt x="590" y="10"/>
                  </a:lnTo>
                  <a:lnTo>
                    <a:pt x="599" y="18"/>
                  </a:lnTo>
                  <a:lnTo>
                    <a:pt x="608" y="22"/>
                  </a:lnTo>
                  <a:lnTo>
                    <a:pt x="613" y="13"/>
                  </a:lnTo>
                  <a:lnTo>
                    <a:pt x="619" y="5"/>
                  </a:lnTo>
                  <a:lnTo>
                    <a:pt x="626" y="0"/>
                  </a:lnTo>
                  <a:lnTo>
                    <a:pt x="640" y="1"/>
                  </a:lnTo>
                  <a:lnTo>
                    <a:pt x="652" y="2"/>
                  </a:lnTo>
                  <a:lnTo>
                    <a:pt x="665" y="6"/>
                  </a:lnTo>
                  <a:lnTo>
                    <a:pt x="675" y="11"/>
                  </a:lnTo>
                  <a:lnTo>
                    <a:pt x="686" y="13"/>
                  </a:lnTo>
                  <a:lnTo>
                    <a:pt x="697" y="11"/>
                  </a:lnTo>
                  <a:lnTo>
                    <a:pt x="708" y="16"/>
                  </a:lnTo>
                  <a:lnTo>
                    <a:pt x="720" y="22"/>
                  </a:lnTo>
                  <a:lnTo>
                    <a:pt x="729" y="27"/>
                  </a:lnTo>
                  <a:lnTo>
                    <a:pt x="741" y="32"/>
                  </a:lnTo>
                  <a:lnTo>
                    <a:pt x="752" y="36"/>
                  </a:lnTo>
                  <a:lnTo>
                    <a:pt x="763" y="41"/>
                  </a:lnTo>
                  <a:lnTo>
                    <a:pt x="776" y="45"/>
                  </a:lnTo>
                  <a:lnTo>
                    <a:pt x="780" y="54"/>
                  </a:lnTo>
                  <a:lnTo>
                    <a:pt x="784" y="63"/>
                  </a:lnTo>
                  <a:lnTo>
                    <a:pt x="795" y="68"/>
                  </a:lnTo>
                  <a:lnTo>
                    <a:pt x="806" y="71"/>
                  </a:lnTo>
                  <a:lnTo>
                    <a:pt x="820" y="73"/>
                  </a:lnTo>
                  <a:lnTo>
                    <a:pt x="831" y="77"/>
                  </a:lnTo>
                  <a:lnTo>
                    <a:pt x="834" y="86"/>
                  </a:lnTo>
                  <a:lnTo>
                    <a:pt x="834" y="100"/>
                  </a:lnTo>
                  <a:lnTo>
                    <a:pt x="857" y="120"/>
                  </a:lnTo>
                  <a:lnTo>
                    <a:pt x="869" y="118"/>
                  </a:lnTo>
                  <a:lnTo>
                    <a:pt x="882" y="114"/>
                  </a:lnTo>
                  <a:lnTo>
                    <a:pt x="894" y="111"/>
                  </a:lnTo>
                  <a:lnTo>
                    <a:pt x="907" y="108"/>
                  </a:lnTo>
                  <a:lnTo>
                    <a:pt x="917" y="100"/>
                  </a:lnTo>
                  <a:lnTo>
                    <a:pt x="925" y="94"/>
                  </a:lnTo>
                  <a:lnTo>
                    <a:pt x="938" y="90"/>
                  </a:lnTo>
                  <a:lnTo>
                    <a:pt x="950" y="87"/>
                  </a:lnTo>
                  <a:lnTo>
                    <a:pt x="963" y="86"/>
                  </a:lnTo>
                  <a:lnTo>
                    <a:pt x="975" y="84"/>
                  </a:lnTo>
                  <a:lnTo>
                    <a:pt x="988" y="83"/>
                  </a:lnTo>
                  <a:lnTo>
                    <a:pt x="1002" y="82"/>
                  </a:lnTo>
                  <a:lnTo>
                    <a:pt x="1015" y="82"/>
                  </a:lnTo>
                  <a:lnTo>
                    <a:pt x="1023" y="85"/>
                  </a:lnTo>
                  <a:lnTo>
                    <a:pt x="1037" y="86"/>
                  </a:lnTo>
                  <a:lnTo>
                    <a:pt x="1050" y="87"/>
                  </a:lnTo>
                  <a:lnTo>
                    <a:pt x="1062" y="84"/>
                  </a:lnTo>
                  <a:lnTo>
                    <a:pt x="1075" y="83"/>
                  </a:lnTo>
                  <a:lnTo>
                    <a:pt x="1087" y="83"/>
                  </a:lnTo>
                  <a:lnTo>
                    <a:pt x="1100" y="83"/>
                  </a:lnTo>
                  <a:lnTo>
                    <a:pt x="1114" y="82"/>
                  </a:lnTo>
                  <a:lnTo>
                    <a:pt x="1126" y="82"/>
                  </a:lnTo>
                  <a:lnTo>
                    <a:pt x="1138" y="78"/>
                  </a:lnTo>
                  <a:lnTo>
                    <a:pt x="1150" y="78"/>
                  </a:lnTo>
                  <a:lnTo>
                    <a:pt x="1161" y="74"/>
                  </a:lnTo>
                  <a:lnTo>
                    <a:pt x="1163" y="65"/>
                  </a:lnTo>
                  <a:lnTo>
                    <a:pt x="1174" y="65"/>
                  </a:lnTo>
                  <a:lnTo>
                    <a:pt x="1188" y="65"/>
                  </a:lnTo>
                  <a:lnTo>
                    <a:pt x="1200" y="65"/>
                  </a:lnTo>
                  <a:lnTo>
                    <a:pt x="1213" y="65"/>
                  </a:lnTo>
                  <a:lnTo>
                    <a:pt x="1226" y="66"/>
                  </a:lnTo>
                  <a:lnTo>
                    <a:pt x="1240" y="68"/>
                  </a:lnTo>
                  <a:lnTo>
                    <a:pt x="1252" y="69"/>
                  </a:lnTo>
                  <a:lnTo>
                    <a:pt x="1265" y="69"/>
                  </a:lnTo>
                  <a:lnTo>
                    <a:pt x="1279" y="69"/>
                  </a:lnTo>
                  <a:lnTo>
                    <a:pt x="1291" y="69"/>
                  </a:lnTo>
                  <a:lnTo>
                    <a:pt x="1293" y="61"/>
                  </a:lnTo>
                  <a:lnTo>
                    <a:pt x="1294" y="51"/>
                  </a:lnTo>
                  <a:lnTo>
                    <a:pt x="1305" y="48"/>
                  </a:lnTo>
                  <a:lnTo>
                    <a:pt x="1318" y="48"/>
                  </a:lnTo>
                  <a:lnTo>
                    <a:pt x="1323" y="43"/>
                  </a:lnTo>
                  <a:lnTo>
                    <a:pt x="1326" y="34"/>
                  </a:lnTo>
                  <a:lnTo>
                    <a:pt x="1336" y="33"/>
                  </a:lnTo>
                  <a:lnTo>
                    <a:pt x="1350" y="36"/>
                  </a:lnTo>
                  <a:lnTo>
                    <a:pt x="1363" y="39"/>
                  </a:lnTo>
                  <a:lnTo>
                    <a:pt x="1375" y="42"/>
                  </a:lnTo>
                  <a:lnTo>
                    <a:pt x="1388" y="45"/>
                  </a:lnTo>
                  <a:lnTo>
                    <a:pt x="1400" y="49"/>
                  </a:lnTo>
                  <a:lnTo>
                    <a:pt x="1412" y="52"/>
                  </a:lnTo>
                  <a:lnTo>
                    <a:pt x="1426" y="55"/>
                  </a:lnTo>
                  <a:lnTo>
                    <a:pt x="1423" y="61"/>
                  </a:lnTo>
                  <a:lnTo>
                    <a:pt x="1417" y="69"/>
                  </a:lnTo>
                  <a:lnTo>
                    <a:pt x="1413" y="78"/>
                  </a:lnTo>
                  <a:lnTo>
                    <a:pt x="1410" y="87"/>
                  </a:lnTo>
                  <a:lnTo>
                    <a:pt x="1406" y="100"/>
                  </a:lnTo>
                  <a:lnTo>
                    <a:pt x="1405" y="109"/>
                  </a:lnTo>
                  <a:lnTo>
                    <a:pt x="1407" y="118"/>
                  </a:lnTo>
                  <a:lnTo>
                    <a:pt x="1410" y="129"/>
                  </a:lnTo>
                  <a:lnTo>
                    <a:pt x="1409" y="139"/>
                  </a:lnTo>
                  <a:lnTo>
                    <a:pt x="1420" y="141"/>
                  </a:lnTo>
                  <a:lnTo>
                    <a:pt x="1430" y="144"/>
                  </a:lnTo>
                  <a:lnTo>
                    <a:pt x="1426" y="152"/>
                  </a:lnTo>
                  <a:lnTo>
                    <a:pt x="1420" y="162"/>
                  </a:lnTo>
                  <a:lnTo>
                    <a:pt x="1416" y="171"/>
                  </a:lnTo>
                  <a:lnTo>
                    <a:pt x="1413" y="180"/>
                  </a:lnTo>
                  <a:lnTo>
                    <a:pt x="1412" y="189"/>
                  </a:lnTo>
                  <a:lnTo>
                    <a:pt x="1410" y="199"/>
                  </a:lnTo>
                  <a:lnTo>
                    <a:pt x="1409" y="208"/>
                  </a:lnTo>
                  <a:lnTo>
                    <a:pt x="1407" y="217"/>
                  </a:lnTo>
                  <a:lnTo>
                    <a:pt x="1406" y="226"/>
                  </a:lnTo>
                  <a:lnTo>
                    <a:pt x="1403" y="235"/>
                  </a:lnTo>
                  <a:lnTo>
                    <a:pt x="1402" y="245"/>
                  </a:lnTo>
                  <a:lnTo>
                    <a:pt x="1399" y="254"/>
                  </a:lnTo>
                  <a:lnTo>
                    <a:pt x="1398" y="263"/>
                  </a:lnTo>
                  <a:lnTo>
                    <a:pt x="1396" y="272"/>
                  </a:lnTo>
                  <a:lnTo>
                    <a:pt x="1395" y="282"/>
                  </a:lnTo>
                  <a:lnTo>
                    <a:pt x="1396" y="291"/>
                  </a:lnTo>
                  <a:lnTo>
                    <a:pt x="1398" y="300"/>
                  </a:lnTo>
                  <a:lnTo>
                    <a:pt x="1396" y="310"/>
                  </a:lnTo>
                  <a:lnTo>
                    <a:pt x="1396" y="319"/>
                  </a:lnTo>
                  <a:lnTo>
                    <a:pt x="1395" y="329"/>
                  </a:lnTo>
                  <a:lnTo>
                    <a:pt x="1392" y="338"/>
                  </a:lnTo>
                  <a:lnTo>
                    <a:pt x="1395" y="346"/>
                  </a:lnTo>
                  <a:lnTo>
                    <a:pt x="1405" y="351"/>
                  </a:lnTo>
                  <a:lnTo>
                    <a:pt x="1419" y="355"/>
                  </a:lnTo>
                  <a:lnTo>
                    <a:pt x="1431" y="359"/>
                  </a:lnTo>
                  <a:lnTo>
                    <a:pt x="1442" y="363"/>
                  </a:lnTo>
                  <a:lnTo>
                    <a:pt x="1455" y="367"/>
                  </a:lnTo>
                  <a:lnTo>
                    <a:pt x="1466" y="371"/>
                  </a:lnTo>
                  <a:lnTo>
                    <a:pt x="1479" y="375"/>
                  </a:lnTo>
                  <a:lnTo>
                    <a:pt x="1490" y="379"/>
                  </a:lnTo>
                  <a:lnTo>
                    <a:pt x="1501" y="384"/>
                  </a:lnTo>
                  <a:lnTo>
                    <a:pt x="1511" y="390"/>
                  </a:lnTo>
                  <a:lnTo>
                    <a:pt x="1521" y="397"/>
                  </a:lnTo>
                  <a:lnTo>
                    <a:pt x="1529" y="403"/>
                  </a:lnTo>
                  <a:lnTo>
                    <a:pt x="1537" y="410"/>
                  </a:lnTo>
                  <a:lnTo>
                    <a:pt x="1540" y="420"/>
                  </a:lnTo>
                  <a:lnTo>
                    <a:pt x="1544" y="427"/>
                  </a:lnTo>
                  <a:lnTo>
                    <a:pt x="1558" y="431"/>
                  </a:lnTo>
                  <a:lnTo>
                    <a:pt x="1563" y="439"/>
                  </a:lnTo>
                  <a:lnTo>
                    <a:pt x="1563" y="449"/>
                  </a:lnTo>
                  <a:lnTo>
                    <a:pt x="1567" y="457"/>
                  </a:lnTo>
                  <a:lnTo>
                    <a:pt x="1574" y="466"/>
                  </a:lnTo>
                  <a:lnTo>
                    <a:pt x="1584" y="472"/>
                  </a:lnTo>
                  <a:lnTo>
                    <a:pt x="1596" y="473"/>
                  </a:lnTo>
                  <a:lnTo>
                    <a:pt x="1609" y="473"/>
                  </a:lnTo>
                  <a:lnTo>
                    <a:pt x="1623" y="472"/>
                  </a:lnTo>
                  <a:lnTo>
                    <a:pt x="1637" y="471"/>
                  </a:lnTo>
                  <a:lnTo>
                    <a:pt x="1648" y="474"/>
                  </a:lnTo>
                  <a:lnTo>
                    <a:pt x="1662" y="475"/>
                  </a:lnTo>
                  <a:lnTo>
                    <a:pt x="1676" y="475"/>
                  </a:lnTo>
                  <a:lnTo>
                    <a:pt x="1687" y="472"/>
                  </a:lnTo>
                  <a:lnTo>
                    <a:pt x="1688" y="462"/>
                  </a:lnTo>
                  <a:lnTo>
                    <a:pt x="1698" y="460"/>
                  </a:lnTo>
                  <a:lnTo>
                    <a:pt x="1712" y="462"/>
                  </a:lnTo>
                  <a:lnTo>
                    <a:pt x="1722" y="467"/>
                  </a:lnTo>
                  <a:lnTo>
                    <a:pt x="1727" y="476"/>
                  </a:lnTo>
                  <a:lnTo>
                    <a:pt x="1733" y="484"/>
                  </a:lnTo>
                  <a:lnTo>
                    <a:pt x="1737" y="493"/>
                  </a:lnTo>
                  <a:lnTo>
                    <a:pt x="1741" y="503"/>
                  </a:lnTo>
                  <a:lnTo>
                    <a:pt x="1746" y="511"/>
                  </a:lnTo>
                  <a:lnTo>
                    <a:pt x="1757" y="510"/>
                  </a:lnTo>
                  <a:lnTo>
                    <a:pt x="1771" y="507"/>
                  </a:lnTo>
                  <a:lnTo>
                    <a:pt x="1783" y="509"/>
                  </a:lnTo>
                  <a:lnTo>
                    <a:pt x="1796" y="512"/>
                  </a:lnTo>
                  <a:lnTo>
                    <a:pt x="1809" y="513"/>
                  </a:lnTo>
                  <a:lnTo>
                    <a:pt x="1823" y="512"/>
                  </a:lnTo>
                  <a:lnTo>
                    <a:pt x="1835" y="510"/>
                  </a:lnTo>
                  <a:lnTo>
                    <a:pt x="1848" y="513"/>
                  </a:lnTo>
                  <a:lnTo>
                    <a:pt x="1849" y="522"/>
                  </a:lnTo>
                  <a:lnTo>
                    <a:pt x="1846" y="532"/>
                  </a:lnTo>
                  <a:lnTo>
                    <a:pt x="1841" y="541"/>
                  </a:lnTo>
                  <a:lnTo>
                    <a:pt x="1844" y="547"/>
                  </a:lnTo>
                  <a:lnTo>
                    <a:pt x="1856" y="549"/>
                  </a:lnTo>
                  <a:lnTo>
                    <a:pt x="1870" y="550"/>
                  </a:lnTo>
                  <a:lnTo>
                    <a:pt x="1884" y="552"/>
                  </a:lnTo>
                  <a:lnTo>
                    <a:pt x="1897" y="554"/>
                  </a:lnTo>
                  <a:lnTo>
                    <a:pt x="1905" y="560"/>
                  </a:lnTo>
                  <a:lnTo>
                    <a:pt x="1909" y="569"/>
                  </a:lnTo>
                  <a:lnTo>
                    <a:pt x="1915" y="577"/>
                  </a:lnTo>
                  <a:lnTo>
                    <a:pt x="1929" y="576"/>
                  </a:lnTo>
                  <a:lnTo>
                    <a:pt x="1941" y="577"/>
                  </a:lnTo>
                  <a:lnTo>
                    <a:pt x="1954" y="579"/>
                  </a:lnTo>
                  <a:lnTo>
                    <a:pt x="1967" y="584"/>
                  </a:lnTo>
                  <a:lnTo>
                    <a:pt x="1981" y="585"/>
                  </a:lnTo>
                  <a:lnTo>
                    <a:pt x="1992" y="583"/>
                  </a:lnTo>
                  <a:lnTo>
                    <a:pt x="2001" y="575"/>
                  </a:lnTo>
                  <a:lnTo>
                    <a:pt x="2014" y="571"/>
                  </a:lnTo>
                  <a:lnTo>
                    <a:pt x="2018" y="563"/>
                  </a:lnTo>
                  <a:lnTo>
                    <a:pt x="2020" y="554"/>
                  </a:lnTo>
                  <a:lnTo>
                    <a:pt x="2029" y="548"/>
                  </a:lnTo>
                  <a:lnTo>
                    <a:pt x="2042" y="544"/>
                  </a:lnTo>
                  <a:lnTo>
                    <a:pt x="2050" y="537"/>
                  </a:lnTo>
                  <a:lnTo>
                    <a:pt x="2059" y="530"/>
                  </a:lnTo>
                  <a:lnTo>
                    <a:pt x="2069" y="524"/>
                  </a:lnTo>
                  <a:lnTo>
                    <a:pt x="2071" y="515"/>
                  </a:lnTo>
                  <a:lnTo>
                    <a:pt x="2074" y="506"/>
                  </a:lnTo>
                  <a:lnTo>
                    <a:pt x="2076" y="496"/>
                  </a:lnTo>
                  <a:lnTo>
                    <a:pt x="2074" y="487"/>
                  </a:lnTo>
                  <a:lnTo>
                    <a:pt x="2073" y="478"/>
                  </a:lnTo>
                  <a:lnTo>
                    <a:pt x="2074" y="468"/>
                  </a:lnTo>
                  <a:lnTo>
                    <a:pt x="2083" y="462"/>
                  </a:lnTo>
                  <a:lnTo>
                    <a:pt x="2099" y="459"/>
                  </a:lnTo>
                  <a:lnTo>
                    <a:pt x="2112" y="456"/>
                  </a:lnTo>
                  <a:lnTo>
                    <a:pt x="2120" y="458"/>
                  </a:lnTo>
                  <a:lnTo>
                    <a:pt x="2133" y="453"/>
                  </a:lnTo>
                  <a:lnTo>
                    <a:pt x="2145" y="449"/>
                  </a:lnTo>
                  <a:lnTo>
                    <a:pt x="2150" y="457"/>
                  </a:lnTo>
                  <a:lnTo>
                    <a:pt x="2162" y="456"/>
                  </a:lnTo>
                  <a:lnTo>
                    <a:pt x="2171" y="463"/>
                  </a:lnTo>
                  <a:lnTo>
                    <a:pt x="2182" y="466"/>
                  </a:lnTo>
                  <a:lnTo>
                    <a:pt x="2193" y="471"/>
                  </a:lnTo>
                  <a:lnTo>
                    <a:pt x="2196" y="480"/>
                  </a:lnTo>
                  <a:lnTo>
                    <a:pt x="2206" y="485"/>
                  </a:lnTo>
                  <a:lnTo>
                    <a:pt x="2217" y="489"/>
                  </a:lnTo>
                  <a:lnTo>
                    <a:pt x="2221" y="498"/>
                  </a:lnTo>
                  <a:lnTo>
                    <a:pt x="2234" y="501"/>
                  </a:lnTo>
                  <a:lnTo>
                    <a:pt x="2248" y="502"/>
                  </a:lnTo>
                  <a:lnTo>
                    <a:pt x="2260" y="503"/>
                  </a:lnTo>
                  <a:lnTo>
                    <a:pt x="2271" y="506"/>
                  </a:lnTo>
                  <a:lnTo>
                    <a:pt x="2270" y="516"/>
                  </a:lnTo>
                  <a:lnTo>
                    <a:pt x="2267" y="525"/>
                  </a:lnTo>
                  <a:lnTo>
                    <a:pt x="2263" y="534"/>
                  </a:lnTo>
                  <a:lnTo>
                    <a:pt x="2263" y="543"/>
                  </a:lnTo>
                  <a:lnTo>
                    <a:pt x="2263" y="553"/>
                  </a:lnTo>
                  <a:lnTo>
                    <a:pt x="2263" y="563"/>
                  </a:lnTo>
                  <a:lnTo>
                    <a:pt x="2273" y="564"/>
                  </a:lnTo>
                  <a:lnTo>
                    <a:pt x="2287" y="563"/>
                  </a:lnTo>
                  <a:lnTo>
                    <a:pt x="2294" y="570"/>
                  </a:lnTo>
                  <a:lnTo>
                    <a:pt x="2298" y="579"/>
                  </a:lnTo>
                  <a:lnTo>
                    <a:pt x="2310" y="583"/>
                  </a:lnTo>
                  <a:lnTo>
                    <a:pt x="2322" y="588"/>
                  </a:lnTo>
                  <a:lnTo>
                    <a:pt x="2323" y="593"/>
                  </a:lnTo>
                  <a:lnTo>
                    <a:pt x="2317" y="601"/>
                  </a:lnTo>
                  <a:lnTo>
                    <a:pt x="2313" y="611"/>
                  </a:lnTo>
                  <a:lnTo>
                    <a:pt x="2309" y="620"/>
                  </a:lnTo>
                  <a:lnTo>
                    <a:pt x="2309" y="629"/>
                  </a:lnTo>
                  <a:lnTo>
                    <a:pt x="2312" y="638"/>
                  </a:lnTo>
                  <a:lnTo>
                    <a:pt x="2319" y="646"/>
                  </a:lnTo>
                  <a:lnTo>
                    <a:pt x="2327" y="653"/>
                  </a:lnTo>
                  <a:lnTo>
                    <a:pt x="2338" y="659"/>
                  </a:lnTo>
                  <a:lnTo>
                    <a:pt x="2345" y="665"/>
                  </a:lnTo>
                  <a:lnTo>
                    <a:pt x="2347" y="675"/>
                  </a:lnTo>
                  <a:lnTo>
                    <a:pt x="2358" y="675"/>
                  </a:lnTo>
                  <a:lnTo>
                    <a:pt x="2357" y="665"/>
                  </a:lnTo>
                  <a:lnTo>
                    <a:pt x="2366" y="659"/>
                  </a:lnTo>
                  <a:lnTo>
                    <a:pt x="2375" y="653"/>
                  </a:lnTo>
                  <a:lnTo>
                    <a:pt x="2386" y="648"/>
                  </a:lnTo>
                  <a:lnTo>
                    <a:pt x="2394" y="641"/>
                  </a:lnTo>
                  <a:lnTo>
                    <a:pt x="2398" y="632"/>
                  </a:lnTo>
                  <a:lnTo>
                    <a:pt x="2403" y="623"/>
                  </a:lnTo>
                  <a:lnTo>
                    <a:pt x="2410" y="615"/>
                  </a:lnTo>
                  <a:lnTo>
                    <a:pt x="2415" y="606"/>
                  </a:lnTo>
                  <a:lnTo>
                    <a:pt x="2419" y="598"/>
                  </a:lnTo>
                  <a:lnTo>
                    <a:pt x="2424" y="589"/>
                  </a:lnTo>
                  <a:lnTo>
                    <a:pt x="2426" y="578"/>
                  </a:lnTo>
                  <a:lnTo>
                    <a:pt x="2431" y="570"/>
                  </a:lnTo>
                  <a:lnTo>
                    <a:pt x="2445" y="567"/>
                  </a:lnTo>
                  <a:lnTo>
                    <a:pt x="2454" y="572"/>
                  </a:lnTo>
                  <a:lnTo>
                    <a:pt x="2464" y="578"/>
                  </a:lnTo>
                  <a:lnTo>
                    <a:pt x="2475" y="585"/>
                  </a:lnTo>
                  <a:lnTo>
                    <a:pt x="2487" y="589"/>
                  </a:lnTo>
                  <a:lnTo>
                    <a:pt x="2499" y="592"/>
                  </a:lnTo>
                  <a:lnTo>
                    <a:pt x="2505" y="599"/>
                  </a:lnTo>
                  <a:lnTo>
                    <a:pt x="2503" y="608"/>
                  </a:lnTo>
                  <a:lnTo>
                    <a:pt x="2505" y="617"/>
                  </a:lnTo>
                  <a:lnTo>
                    <a:pt x="2509" y="626"/>
                  </a:lnTo>
                  <a:lnTo>
                    <a:pt x="2512" y="635"/>
                  </a:lnTo>
                  <a:lnTo>
                    <a:pt x="2513" y="645"/>
                  </a:lnTo>
                  <a:lnTo>
                    <a:pt x="2515" y="654"/>
                  </a:lnTo>
                  <a:lnTo>
                    <a:pt x="2517" y="663"/>
                  </a:lnTo>
                  <a:lnTo>
                    <a:pt x="2523" y="671"/>
                  </a:lnTo>
                  <a:lnTo>
                    <a:pt x="2530" y="679"/>
                  </a:lnTo>
                  <a:lnTo>
                    <a:pt x="2537" y="687"/>
                  </a:lnTo>
                  <a:lnTo>
                    <a:pt x="2562" y="718"/>
                  </a:lnTo>
                  <a:lnTo>
                    <a:pt x="2563" y="728"/>
                  </a:lnTo>
                  <a:lnTo>
                    <a:pt x="2561" y="737"/>
                  </a:lnTo>
                  <a:lnTo>
                    <a:pt x="2551" y="743"/>
                  </a:lnTo>
                  <a:lnTo>
                    <a:pt x="2548" y="752"/>
                  </a:lnTo>
                  <a:lnTo>
                    <a:pt x="2540" y="759"/>
                  </a:lnTo>
                  <a:lnTo>
                    <a:pt x="2531" y="766"/>
                  </a:lnTo>
                  <a:lnTo>
                    <a:pt x="2520" y="770"/>
                  </a:lnTo>
                  <a:lnTo>
                    <a:pt x="2513" y="778"/>
                  </a:lnTo>
                  <a:lnTo>
                    <a:pt x="2510" y="787"/>
                  </a:lnTo>
                  <a:lnTo>
                    <a:pt x="2503" y="795"/>
                  </a:lnTo>
                  <a:lnTo>
                    <a:pt x="2495" y="802"/>
                  </a:lnTo>
                  <a:lnTo>
                    <a:pt x="2485" y="797"/>
                  </a:lnTo>
                  <a:lnTo>
                    <a:pt x="2474" y="794"/>
                  </a:lnTo>
                  <a:lnTo>
                    <a:pt x="2461" y="796"/>
                  </a:lnTo>
                  <a:lnTo>
                    <a:pt x="2454" y="804"/>
                  </a:lnTo>
                  <a:lnTo>
                    <a:pt x="2446" y="809"/>
                  </a:lnTo>
                  <a:lnTo>
                    <a:pt x="2435" y="814"/>
                  </a:lnTo>
                  <a:lnTo>
                    <a:pt x="2425" y="820"/>
                  </a:lnTo>
                  <a:lnTo>
                    <a:pt x="2425" y="828"/>
                  </a:lnTo>
                  <a:lnTo>
                    <a:pt x="2438" y="834"/>
                  </a:lnTo>
                  <a:lnTo>
                    <a:pt x="2449" y="839"/>
                  </a:lnTo>
                  <a:lnTo>
                    <a:pt x="2456" y="845"/>
                  </a:lnTo>
                  <a:lnTo>
                    <a:pt x="2452" y="854"/>
                  </a:lnTo>
                  <a:lnTo>
                    <a:pt x="2440" y="862"/>
                  </a:lnTo>
                  <a:lnTo>
                    <a:pt x="2432" y="861"/>
                  </a:lnTo>
                  <a:lnTo>
                    <a:pt x="2422" y="853"/>
                  </a:lnTo>
                  <a:lnTo>
                    <a:pt x="2411" y="844"/>
                  </a:lnTo>
                  <a:lnTo>
                    <a:pt x="2403" y="842"/>
                  </a:lnTo>
                  <a:lnTo>
                    <a:pt x="2397" y="850"/>
                  </a:lnTo>
                  <a:lnTo>
                    <a:pt x="2390" y="860"/>
                  </a:lnTo>
                  <a:lnTo>
                    <a:pt x="2383" y="868"/>
                  </a:lnTo>
                  <a:lnTo>
                    <a:pt x="2376" y="876"/>
                  </a:lnTo>
                  <a:lnTo>
                    <a:pt x="2366" y="883"/>
                  </a:lnTo>
                  <a:lnTo>
                    <a:pt x="2361" y="891"/>
                  </a:lnTo>
                  <a:lnTo>
                    <a:pt x="2357" y="900"/>
                  </a:lnTo>
                  <a:lnTo>
                    <a:pt x="2354" y="909"/>
                  </a:lnTo>
                  <a:lnTo>
                    <a:pt x="2350" y="917"/>
                  </a:lnTo>
                  <a:lnTo>
                    <a:pt x="2344" y="926"/>
                  </a:lnTo>
                  <a:lnTo>
                    <a:pt x="2344" y="935"/>
                  </a:lnTo>
                  <a:lnTo>
                    <a:pt x="2343" y="945"/>
                  </a:lnTo>
                  <a:lnTo>
                    <a:pt x="2338" y="954"/>
                  </a:lnTo>
                  <a:lnTo>
                    <a:pt x="2336" y="963"/>
                  </a:lnTo>
                  <a:lnTo>
                    <a:pt x="2337" y="972"/>
                  </a:lnTo>
                  <a:lnTo>
                    <a:pt x="2341" y="980"/>
                  </a:lnTo>
                  <a:lnTo>
                    <a:pt x="2348" y="988"/>
                  </a:lnTo>
                  <a:lnTo>
                    <a:pt x="2351" y="997"/>
                  </a:lnTo>
                  <a:lnTo>
                    <a:pt x="2355" y="1006"/>
                  </a:lnTo>
                  <a:lnTo>
                    <a:pt x="2361" y="1015"/>
                  </a:lnTo>
                  <a:lnTo>
                    <a:pt x="2369" y="1022"/>
                  </a:lnTo>
                  <a:lnTo>
                    <a:pt x="2383" y="1024"/>
                  </a:lnTo>
                  <a:lnTo>
                    <a:pt x="2390" y="1029"/>
                  </a:lnTo>
                  <a:lnTo>
                    <a:pt x="2383" y="1038"/>
                  </a:lnTo>
                  <a:lnTo>
                    <a:pt x="2376" y="1047"/>
                  </a:lnTo>
                  <a:lnTo>
                    <a:pt x="2382" y="1055"/>
                  </a:lnTo>
                  <a:lnTo>
                    <a:pt x="2389" y="1063"/>
                  </a:lnTo>
                  <a:lnTo>
                    <a:pt x="2396" y="1071"/>
                  </a:lnTo>
                  <a:lnTo>
                    <a:pt x="2392" y="1078"/>
                  </a:lnTo>
                  <a:lnTo>
                    <a:pt x="2389" y="1085"/>
                  </a:lnTo>
                  <a:lnTo>
                    <a:pt x="2390" y="1092"/>
                  </a:lnTo>
                  <a:lnTo>
                    <a:pt x="2398" y="1100"/>
                  </a:lnTo>
                  <a:lnTo>
                    <a:pt x="2397" y="1109"/>
                  </a:lnTo>
                  <a:lnTo>
                    <a:pt x="2393" y="1118"/>
                  </a:lnTo>
                  <a:lnTo>
                    <a:pt x="2389" y="1126"/>
                  </a:lnTo>
                  <a:lnTo>
                    <a:pt x="2385" y="1135"/>
                  </a:lnTo>
                  <a:lnTo>
                    <a:pt x="2380" y="1144"/>
                  </a:lnTo>
                  <a:lnTo>
                    <a:pt x="2376" y="1153"/>
                  </a:lnTo>
                  <a:lnTo>
                    <a:pt x="2371" y="1161"/>
                  </a:lnTo>
                  <a:lnTo>
                    <a:pt x="2364" y="1169"/>
                  </a:lnTo>
                  <a:lnTo>
                    <a:pt x="2359" y="1178"/>
                  </a:lnTo>
                  <a:lnTo>
                    <a:pt x="2354" y="1183"/>
                  </a:lnTo>
                  <a:lnTo>
                    <a:pt x="2340" y="1183"/>
                  </a:lnTo>
                  <a:lnTo>
                    <a:pt x="2327" y="1181"/>
                  </a:lnTo>
                  <a:lnTo>
                    <a:pt x="2322" y="1174"/>
                  </a:lnTo>
                  <a:lnTo>
                    <a:pt x="2308" y="1174"/>
                  </a:lnTo>
                  <a:lnTo>
                    <a:pt x="2299" y="1180"/>
                  </a:lnTo>
                  <a:lnTo>
                    <a:pt x="2287" y="1182"/>
                  </a:lnTo>
                  <a:lnTo>
                    <a:pt x="2275" y="1179"/>
                  </a:lnTo>
                  <a:lnTo>
                    <a:pt x="2263" y="1178"/>
                  </a:lnTo>
                  <a:lnTo>
                    <a:pt x="2255" y="1182"/>
                  </a:lnTo>
                  <a:lnTo>
                    <a:pt x="2245" y="1188"/>
                  </a:lnTo>
                  <a:lnTo>
                    <a:pt x="2234" y="1190"/>
                  </a:lnTo>
                  <a:lnTo>
                    <a:pt x="2221" y="1191"/>
                  </a:lnTo>
                  <a:lnTo>
                    <a:pt x="2215" y="1203"/>
                  </a:lnTo>
                  <a:lnTo>
                    <a:pt x="2211" y="1212"/>
                  </a:lnTo>
                  <a:lnTo>
                    <a:pt x="2208" y="1221"/>
                  </a:lnTo>
                  <a:lnTo>
                    <a:pt x="2200" y="1228"/>
                  </a:lnTo>
                  <a:lnTo>
                    <a:pt x="2190" y="1234"/>
                  </a:lnTo>
                  <a:lnTo>
                    <a:pt x="2186" y="1243"/>
                  </a:lnTo>
                  <a:lnTo>
                    <a:pt x="2186" y="1252"/>
                  </a:lnTo>
                  <a:lnTo>
                    <a:pt x="2182" y="1261"/>
                  </a:lnTo>
                  <a:lnTo>
                    <a:pt x="2178" y="1270"/>
                  </a:lnTo>
                  <a:lnTo>
                    <a:pt x="2169" y="1277"/>
                  </a:lnTo>
                  <a:lnTo>
                    <a:pt x="2162" y="1285"/>
                  </a:lnTo>
                  <a:lnTo>
                    <a:pt x="2154" y="1292"/>
                  </a:lnTo>
                  <a:lnTo>
                    <a:pt x="2150" y="1301"/>
                  </a:lnTo>
                  <a:lnTo>
                    <a:pt x="2143" y="1308"/>
                  </a:lnTo>
                  <a:lnTo>
                    <a:pt x="2134" y="1315"/>
                  </a:lnTo>
                  <a:lnTo>
                    <a:pt x="2131" y="1324"/>
                  </a:lnTo>
                  <a:lnTo>
                    <a:pt x="2129" y="1333"/>
                  </a:lnTo>
                  <a:lnTo>
                    <a:pt x="2126" y="1343"/>
                  </a:lnTo>
                  <a:lnTo>
                    <a:pt x="2125" y="1352"/>
                  </a:lnTo>
                  <a:lnTo>
                    <a:pt x="2120" y="1361"/>
                  </a:lnTo>
                  <a:lnTo>
                    <a:pt x="2118" y="1368"/>
                  </a:lnTo>
                  <a:lnTo>
                    <a:pt x="2109" y="1372"/>
                  </a:lnTo>
                  <a:lnTo>
                    <a:pt x="2102" y="1379"/>
                  </a:lnTo>
                  <a:lnTo>
                    <a:pt x="2113" y="1390"/>
                  </a:lnTo>
                  <a:lnTo>
                    <a:pt x="2125" y="1394"/>
                  </a:lnTo>
                  <a:lnTo>
                    <a:pt x="2122" y="1402"/>
                  </a:lnTo>
                  <a:lnTo>
                    <a:pt x="2119" y="1411"/>
                  </a:lnTo>
                  <a:lnTo>
                    <a:pt x="2111" y="1418"/>
                  </a:lnTo>
                  <a:lnTo>
                    <a:pt x="2099" y="1422"/>
                  </a:lnTo>
                  <a:lnTo>
                    <a:pt x="2090" y="1428"/>
                  </a:lnTo>
                  <a:lnTo>
                    <a:pt x="2081" y="1435"/>
                  </a:lnTo>
                  <a:lnTo>
                    <a:pt x="2078" y="1444"/>
                  </a:lnTo>
                  <a:lnTo>
                    <a:pt x="2074" y="1452"/>
                  </a:lnTo>
                  <a:lnTo>
                    <a:pt x="2067" y="1460"/>
                  </a:lnTo>
                  <a:lnTo>
                    <a:pt x="2063" y="1469"/>
                  </a:lnTo>
                  <a:lnTo>
                    <a:pt x="2055" y="1476"/>
                  </a:lnTo>
                  <a:lnTo>
                    <a:pt x="2053" y="1485"/>
                  </a:lnTo>
                  <a:lnTo>
                    <a:pt x="2050" y="1494"/>
                  </a:lnTo>
                  <a:lnTo>
                    <a:pt x="2048" y="1504"/>
                  </a:lnTo>
                  <a:lnTo>
                    <a:pt x="2049" y="1513"/>
                  </a:lnTo>
                  <a:lnTo>
                    <a:pt x="2062" y="1516"/>
                  </a:lnTo>
                  <a:lnTo>
                    <a:pt x="2070" y="1521"/>
                  </a:lnTo>
                  <a:lnTo>
                    <a:pt x="2071" y="1530"/>
                  </a:lnTo>
                  <a:lnTo>
                    <a:pt x="2073" y="1539"/>
                  </a:lnTo>
                  <a:lnTo>
                    <a:pt x="2074" y="1549"/>
                  </a:lnTo>
                  <a:lnTo>
                    <a:pt x="2074" y="1558"/>
                  </a:lnTo>
                  <a:lnTo>
                    <a:pt x="2074" y="1568"/>
                  </a:lnTo>
                  <a:lnTo>
                    <a:pt x="2074" y="1577"/>
                  </a:lnTo>
                  <a:lnTo>
                    <a:pt x="2071" y="1586"/>
                  </a:lnTo>
                  <a:lnTo>
                    <a:pt x="2059" y="1589"/>
                  </a:lnTo>
                  <a:lnTo>
                    <a:pt x="2048" y="1594"/>
                  </a:lnTo>
                  <a:lnTo>
                    <a:pt x="2042" y="1602"/>
                  </a:lnTo>
                  <a:lnTo>
                    <a:pt x="2032" y="1607"/>
                  </a:lnTo>
                  <a:lnTo>
                    <a:pt x="2020" y="1604"/>
                  </a:lnTo>
                  <a:lnTo>
                    <a:pt x="2017" y="1613"/>
                  </a:lnTo>
                  <a:lnTo>
                    <a:pt x="2006" y="1614"/>
                  </a:lnTo>
                  <a:lnTo>
                    <a:pt x="1993" y="1616"/>
                  </a:lnTo>
                  <a:lnTo>
                    <a:pt x="1989" y="1624"/>
                  </a:lnTo>
                  <a:lnTo>
                    <a:pt x="1985" y="1632"/>
                  </a:lnTo>
                  <a:lnTo>
                    <a:pt x="1981" y="1639"/>
                  </a:lnTo>
                  <a:lnTo>
                    <a:pt x="1978" y="1649"/>
                  </a:lnTo>
                  <a:lnTo>
                    <a:pt x="1975" y="1658"/>
                  </a:lnTo>
                  <a:lnTo>
                    <a:pt x="1972" y="1667"/>
                  </a:lnTo>
                  <a:lnTo>
                    <a:pt x="1968" y="1676"/>
                  </a:lnTo>
                  <a:lnTo>
                    <a:pt x="1965" y="1685"/>
                  </a:lnTo>
                  <a:lnTo>
                    <a:pt x="1968" y="1693"/>
                  </a:lnTo>
                  <a:lnTo>
                    <a:pt x="1965" y="1702"/>
                  </a:lnTo>
                  <a:lnTo>
                    <a:pt x="1961" y="1711"/>
                  </a:lnTo>
                  <a:lnTo>
                    <a:pt x="1951" y="1714"/>
                  </a:lnTo>
                  <a:lnTo>
                    <a:pt x="1948" y="1723"/>
                  </a:lnTo>
                  <a:lnTo>
                    <a:pt x="1946" y="1732"/>
                  </a:lnTo>
                  <a:lnTo>
                    <a:pt x="1948" y="1739"/>
                  </a:lnTo>
                  <a:lnTo>
                    <a:pt x="1951" y="1745"/>
                  </a:lnTo>
                  <a:lnTo>
                    <a:pt x="1951" y="1753"/>
                  </a:lnTo>
                  <a:lnTo>
                    <a:pt x="1940" y="1755"/>
                  </a:lnTo>
                  <a:lnTo>
                    <a:pt x="1927" y="1753"/>
                  </a:lnTo>
                  <a:lnTo>
                    <a:pt x="1915" y="1752"/>
                  </a:lnTo>
                  <a:lnTo>
                    <a:pt x="1902" y="1752"/>
                  </a:lnTo>
                  <a:lnTo>
                    <a:pt x="1890" y="1754"/>
                  </a:lnTo>
                  <a:lnTo>
                    <a:pt x="1877" y="1757"/>
                  </a:lnTo>
                  <a:lnTo>
                    <a:pt x="1864" y="1760"/>
                  </a:lnTo>
                  <a:lnTo>
                    <a:pt x="1852" y="1764"/>
                  </a:lnTo>
                  <a:lnTo>
                    <a:pt x="1839" y="1768"/>
                  </a:lnTo>
                  <a:lnTo>
                    <a:pt x="1828" y="1772"/>
                  </a:lnTo>
                  <a:lnTo>
                    <a:pt x="1818" y="1777"/>
                  </a:lnTo>
                  <a:lnTo>
                    <a:pt x="1813" y="1786"/>
                  </a:lnTo>
                  <a:lnTo>
                    <a:pt x="1806" y="1794"/>
                  </a:lnTo>
                  <a:lnTo>
                    <a:pt x="1800" y="1802"/>
                  </a:lnTo>
                  <a:lnTo>
                    <a:pt x="1795" y="1810"/>
                  </a:lnTo>
                  <a:lnTo>
                    <a:pt x="1802" y="1819"/>
                  </a:lnTo>
                  <a:lnTo>
                    <a:pt x="1802" y="1827"/>
                  </a:lnTo>
                  <a:lnTo>
                    <a:pt x="1789" y="1831"/>
                  </a:lnTo>
                  <a:lnTo>
                    <a:pt x="1782" y="1835"/>
                  </a:lnTo>
                  <a:lnTo>
                    <a:pt x="1774" y="1840"/>
                  </a:lnTo>
                  <a:lnTo>
                    <a:pt x="1782" y="1848"/>
                  </a:lnTo>
                  <a:lnTo>
                    <a:pt x="1772" y="1853"/>
                  </a:lnTo>
                  <a:lnTo>
                    <a:pt x="1767" y="1858"/>
                  </a:lnTo>
                  <a:lnTo>
                    <a:pt x="1757" y="1863"/>
                  </a:lnTo>
                  <a:lnTo>
                    <a:pt x="1754" y="1869"/>
                  </a:lnTo>
                  <a:lnTo>
                    <a:pt x="1743" y="1874"/>
                  </a:lnTo>
                  <a:lnTo>
                    <a:pt x="1740" y="1883"/>
                  </a:lnTo>
                  <a:lnTo>
                    <a:pt x="1733" y="1889"/>
                  </a:lnTo>
                  <a:lnTo>
                    <a:pt x="1719" y="1889"/>
                  </a:lnTo>
                  <a:lnTo>
                    <a:pt x="1707" y="1892"/>
                  </a:lnTo>
                  <a:lnTo>
                    <a:pt x="1697" y="1897"/>
                  </a:lnTo>
                  <a:lnTo>
                    <a:pt x="1683" y="1898"/>
                  </a:lnTo>
                  <a:lnTo>
                    <a:pt x="1672" y="1899"/>
                  </a:lnTo>
                  <a:lnTo>
                    <a:pt x="1676" y="1908"/>
                  </a:lnTo>
                  <a:lnTo>
                    <a:pt x="1681" y="1917"/>
                  </a:lnTo>
                  <a:lnTo>
                    <a:pt x="1687" y="1926"/>
                  </a:lnTo>
                  <a:lnTo>
                    <a:pt x="1694" y="1934"/>
                  </a:lnTo>
                  <a:lnTo>
                    <a:pt x="1683" y="1939"/>
                  </a:lnTo>
                  <a:lnTo>
                    <a:pt x="1669" y="1942"/>
                  </a:lnTo>
                  <a:lnTo>
                    <a:pt x="1656" y="1944"/>
                  </a:lnTo>
                  <a:lnTo>
                    <a:pt x="1649" y="1937"/>
                  </a:lnTo>
                  <a:lnTo>
                    <a:pt x="1642" y="1935"/>
                  </a:lnTo>
                  <a:lnTo>
                    <a:pt x="1634" y="1943"/>
                  </a:lnTo>
                  <a:lnTo>
                    <a:pt x="1634" y="1952"/>
                  </a:lnTo>
                  <a:lnTo>
                    <a:pt x="1621" y="1955"/>
                  </a:lnTo>
                  <a:lnTo>
                    <a:pt x="1627" y="1964"/>
                  </a:lnTo>
                  <a:lnTo>
                    <a:pt x="1620" y="1969"/>
                  </a:lnTo>
                  <a:lnTo>
                    <a:pt x="1611" y="1976"/>
                  </a:lnTo>
                  <a:lnTo>
                    <a:pt x="1600" y="1981"/>
                  </a:lnTo>
                  <a:lnTo>
                    <a:pt x="1593" y="1989"/>
                  </a:lnTo>
                  <a:lnTo>
                    <a:pt x="1582" y="1993"/>
                  </a:lnTo>
                  <a:lnTo>
                    <a:pt x="1570" y="1992"/>
                  </a:lnTo>
                  <a:lnTo>
                    <a:pt x="1556" y="1991"/>
                  </a:lnTo>
                  <a:lnTo>
                    <a:pt x="1543" y="1990"/>
                  </a:lnTo>
                  <a:lnTo>
                    <a:pt x="1530" y="1989"/>
                  </a:lnTo>
                  <a:lnTo>
                    <a:pt x="1521" y="1983"/>
                  </a:lnTo>
                  <a:lnTo>
                    <a:pt x="1515" y="1990"/>
                  </a:lnTo>
                  <a:lnTo>
                    <a:pt x="1514" y="2000"/>
                  </a:lnTo>
                  <a:lnTo>
                    <a:pt x="1507" y="2007"/>
                  </a:lnTo>
                  <a:lnTo>
                    <a:pt x="1498" y="2014"/>
                  </a:lnTo>
                  <a:lnTo>
                    <a:pt x="1493" y="2023"/>
                  </a:lnTo>
                  <a:lnTo>
                    <a:pt x="1491" y="2032"/>
                  </a:lnTo>
                  <a:lnTo>
                    <a:pt x="1494" y="2041"/>
                  </a:lnTo>
                  <a:lnTo>
                    <a:pt x="1500" y="2049"/>
                  </a:lnTo>
                  <a:lnTo>
                    <a:pt x="1505" y="2058"/>
                  </a:lnTo>
                  <a:lnTo>
                    <a:pt x="1511" y="2067"/>
                  </a:lnTo>
                  <a:lnTo>
                    <a:pt x="1504" y="2071"/>
                  </a:lnTo>
                  <a:lnTo>
                    <a:pt x="1490" y="2073"/>
                  </a:lnTo>
                  <a:lnTo>
                    <a:pt x="1477" y="2073"/>
                  </a:lnTo>
                  <a:lnTo>
                    <a:pt x="1466" y="2071"/>
                  </a:lnTo>
                  <a:lnTo>
                    <a:pt x="1458" y="2078"/>
                  </a:lnTo>
                  <a:lnTo>
                    <a:pt x="1459" y="2087"/>
                  </a:lnTo>
                  <a:lnTo>
                    <a:pt x="1448" y="2092"/>
                  </a:lnTo>
                  <a:lnTo>
                    <a:pt x="1441" y="2085"/>
                  </a:lnTo>
                  <a:lnTo>
                    <a:pt x="1431" y="2081"/>
                  </a:lnTo>
                  <a:lnTo>
                    <a:pt x="1419" y="2085"/>
                  </a:lnTo>
                  <a:lnTo>
                    <a:pt x="1406" y="2088"/>
                  </a:lnTo>
                  <a:lnTo>
                    <a:pt x="1395" y="2092"/>
                  </a:lnTo>
                  <a:lnTo>
                    <a:pt x="1382" y="2089"/>
                  </a:lnTo>
                  <a:lnTo>
                    <a:pt x="1375" y="2096"/>
                  </a:lnTo>
                  <a:lnTo>
                    <a:pt x="1367" y="2103"/>
                  </a:lnTo>
                  <a:lnTo>
                    <a:pt x="1361" y="2111"/>
                  </a:lnTo>
                  <a:lnTo>
                    <a:pt x="1353" y="2108"/>
                  </a:lnTo>
                  <a:lnTo>
                    <a:pt x="1342" y="2110"/>
                  </a:lnTo>
                  <a:lnTo>
                    <a:pt x="1336" y="2102"/>
                  </a:lnTo>
                  <a:lnTo>
                    <a:pt x="1330" y="2096"/>
                  </a:lnTo>
                  <a:lnTo>
                    <a:pt x="1318" y="2092"/>
                  </a:lnTo>
                  <a:lnTo>
                    <a:pt x="1304" y="2088"/>
                  </a:lnTo>
                  <a:lnTo>
                    <a:pt x="1291" y="2085"/>
                  </a:lnTo>
                  <a:lnTo>
                    <a:pt x="1279" y="2084"/>
                  </a:lnTo>
                  <a:lnTo>
                    <a:pt x="1269" y="2085"/>
                  </a:lnTo>
                  <a:lnTo>
                    <a:pt x="1259" y="2093"/>
                  </a:lnTo>
                  <a:lnTo>
                    <a:pt x="1251" y="2102"/>
                  </a:lnTo>
                  <a:lnTo>
                    <a:pt x="1244" y="2109"/>
                  </a:lnTo>
                  <a:lnTo>
                    <a:pt x="1241" y="2105"/>
                  </a:lnTo>
                  <a:lnTo>
                    <a:pt x="1244" y="2095"/>
                  </a:lnTo>
                  <a:lnTo>
                    <a:pt x="1249" y="2089"/>
                  </a:lnTo>
                  <a:lnTo>
                    <a:pt x="1252" y="2082"/>
                  </a:lnTo>
                  <a:lnTo>
                    <a:pt x="1268" y="2081"/>
                  </a:lnTo>
                  <a:lnTo>
                    <a:pt x="1272" y="2074"/>
                  </a:lnTo>
                  <a:lnTo>
                    <a:pt x="1270" y="2064"/>
                  </a:lnTo>
                  <a:lnTo>
                    <a:pt x="1265" y="2055"/>
                  </a:lnTo>
                  <a:lnTo>
                    <a:pt x="1254" y="2055"/>
                  </a:lnTo>
                  <a:lnTo>
                    <a:pt x="1240" y="2059"/>
                  </a:lnTo>
                  <a:lnTo>
                    <a:pt x="1231" y="2053"/>
                  </a:lnTo>
                  <a:lnTo>
                    <a:pt x="1223" y="2048"/>
                  </a:lnTo>
                  <a:lnTo>
                    <a:pt x="1210" y="2045"/>
                  </a:lnTo>
                  <a:lnTo>
                    <a:pt x="1198" y="2045"/>
                  </a:lnTo>
                  <a:lnTo>
                    <a:pt x="1184" y="2045"/>
                  </a:lnTo>
                  <a:lnTo>
                    <a:pt x="1171" y="2044"/>
                  </a:lnTo>
                  <a:lnTo>
                    <a:pt x="1159" y="2043"/>
                  </a:lnTo>
                  <a:lnTo>
                    <a:pt x="1146" y="2042"/>
                  </a:lnTo>
                  <a:lnTo>
                    <a:pt x="1132" y="2042"/>
                  </a:lnTo>
                  <a:lnTo>
                    <a:pt x="1119" y="2042"/>
                  </a:lnTo>
                  <a:lnTo>
                    <a:pt x="1107" y="2041"/>
                  </a:lnTo>
                  <a:lnTo>
                    <a:pt x="1094" y="2038"/>
                  </a:lnTo>
                  <a:lnTo>
                    <a:pt x="1083" y="2034"/>
                  </a:lnTo>
                  <a:lnTo>
                    <a:pt x="1070" y="2030"/>
                  </a:lnTo>
                  <a:lnTo>
                    <a:pt x="1059" y="2026"/>
                  </a:lnTo>
                  <a:lnTo>
                    <a:pt x="1047" y="2022"/>
                  </a:lnTo>
                  <a:lnTo>
                    <a:pt x="1034" y="2019"/>
                  </a:lnTo>
                  <a:lnTo>
                    <a:pt x="1023" y="2016"/>
                  </a:lnTo>
                  <a:lnTo>
                    <a:pt x="1010" y="2013"/>
                  </a:lnTo>
                  <a:lnTo>
                    <a:pt x="998" y="2010"/>
                  </a:lnTo>
                  <a:lnTo>
                    <a:pt x="985" y="2006"/>
                  </a:lnTo>
                  <a:lnTo>
                    <a:pt x="974" y="2003"/>
                  </a:lnTo>
                  <a:lnTo>
                    <a:pt x="961" y="1999"/>
                  </a:lnTo>
                  <a:lnTo>
                    <a:pt x="950" y="1995"/>
                  </a:lnTo>
                  <a:lnTo>
                    <a:pt x="938" y="1991"/>
                  </a:lnTo>
                  <a:lnTo>
                    <a:pt x="925" y="1989"/>
                  </a:lnTo>
                  <a:lnTo>
                    <a:pt x="913" y="1987"/>
                  </a:lnTo>
                  <a:lnTo>
                    <a:pt x="901" y="1983"/>
                  </a:lnTo>
                  <a:lnTo>
                    <a:pt x="889" y="1982"/>
                  </a:lnTo>
                  <a:lnTo>
                    <a:pt x="879" y="1980"/>
                  </a:lnTo>
                  <a:lnTo>
                    <a:pt x="871" y="1972"/>
                  </a:lnTo>
                  <a:lnTo>
                    <a:pt x="864" y="1964"/>
                  </a:lnTo>
                  <a:lnTo>
                    <a:pt x="857" y="1955"/>
                  </a:lnTo>
                  <a:lnTo>
                    <a:pt x="851" y="1948"/>
                  </a:lnTo>
                  <a:lnTo>
                    <a:pt x="854" y="1938"/>
                  </a:lnTo>
                  <a:lnTo>
                    <a:pt x="859" y="1930"/>
                  </a:lnTo>
                  <a:lnTo>
                    <a:pt x="864" y="1921"/>
                  </a:lnTo>
                  <a:lnTo>
                    <a:pt x="862" y="1912"/>
                  </a:lnTo>
                  <a:lnTo>
                    <a:pt x="858" y="1903"/>
                  </a:lnTo>
                  <a:lnTo>
                    <a:pt x="850" y="1871"/>
                  </a:lnTo>
                  <a:lnTo>
                    <a:pt x="865" y="1865"/>
                  </a:lnTo>
                  <a:lnTo>
                    <a:pt x="876" y="1860"/>
                  </a:lnTo>
                  <a:lnTo>
                    <a:pt x="887" y="1855"/>
                  </a:lnTo>
                  <a:lnTo>
                    <a:pt x="899" y="1850"/>
                  </a:lnTo>
                  <a:lnTo>
                    <a:pt x="910" y="1845"/>
                  </a:lnTo>
                  <a:lnTo>
                    <a:pt x="921" y="1840"/>
                  </a:lnTo>
                  <a:lnTo>
                    <a:pt x="932" y="1835"/>
                  </a:lnTo>
                  <a:lnTo>
                    <a:pt x="943" y="1830"/>
                  </a:lnTo>
                  <a:lnTo>
                    <a:pt x="953" y="1825"/>
                  </a:lnTo>
                  <a:lnTo>
                    <a:pt x="963" y="1819"/>
                  </a:lnTo>
                  <a:lnTo>
                    <a:pt x="968" y="1811"/>
                  </a:lnTo>
                  <a:lnTo>
                    <a:pt x="966" y="1801"/>
                  </a:lnTo>
                  <a:lnTo>
                    <a:pt x="963" y="1792"/>
                  </a:lnTo>
                  <a:lnTo>
                    <a:pt x="956" y="1784"/>
                  </a:lnTo>
                  <a:lnTo>
                    <a:pt x="966" y="1778"/>
                  </a:lnTo>
                  <a:lnTo>
                    <a:pt x="978" y="1773"/>
                  </a:lnTo>
                  <a:lnTo>
                    <a:pt x="988" y="1768"/>
                  </a:lnTo>
                  <a:lnTo>
                    <a:pt x="981" y="1760"/>
                  </a:lnTo>
                  <a:lnTo>
                    <a:pt x="980" y="1751"/>
                  </a:lnTo>
                  <a:lnTo>
                    <a:pt x="980" y="1742"/>
                  </a:lnTo>
                  <a:lnTo>
                    <a:pt x="978" y="1733"/>
                  </a:lnTo>
                  <a:lnTo>
                    <a:pt x="967" y="1731"/>
                  </a:lnTo>
                  <a:lnTo>
                    <a:pt x="966" y="1722"/>
                  </a:lnTo>
                  <a:lnTo>
                    <a:pt x="967" y="1713"/>
                  </a:lnTo>
                  <a:lnTo>
                    <a:pt x="971" y="1704"/>
                  </a:lnTo>
                  <a:lnTo>
                    <a:pt x="974" y="1695"/>
                  </a:lnTo>
                  <a:lnTo>
                    <a:pt x="973" y="1686"/>
                  </a:lnTo>
                  <a:lnTo>
                    <a:pt x="961" y="1691"/>
                  </a:lnTo>
                  <a:lnTo>
                    <a:pt x="949" y="1692"/>
                  </a:lnTo>
                  <a:lnTo>
                    <a:pt x="936" y="1693"/>
                  </a:lnTo>
                  <a:lnTo>
                    <a:pt x="922" y="1693"/>
                  </a:lnTo>
                  <a:lnTo>
                    <a:pt x="910" y="1694"/>
                  </a:lnTo>
                  <a:lnTo>
                    <a:pt x="897" y="1694"/>
                  </a:lnTo>
                  <a:lnTo>
                    <a:pt x="885" y="1694"/>
                  </a:lnTo>
                  <a:lnTo>
                    <a:pt x="872" y="1689"/>
                  </a:lnTo>
                  <a:lnTo>
                    <a:pt x="862" y="1684"/>
                  </a:lnTo>
                  <a:lnTo>
                    <a:pt x="850" y="1683"/>
                  </a:lnTo>
                  <a:lnTo>
                    <a:pt x="829" y="1687"/>
                  </a:lnTo>
                  <a:lnTo>
                    <a:pt x="820" y="1680"/>
                  </a:lnTo>
                  <a:lnTo>
                    <a:pt x="812" y="1672"/>
                  </a:lnTo>
                  <a:lnTo>
                    <a:pt x="802" y="1665"/>
                  </a:lnTo>
                  <a:lnTo>
                    <a:pt x="791" y="1661"/>
                  </a:lnTo>
                  <a:lnTo>
                    <a:pt x="778" y="1659"/>
                  </a:lnTo>
                  <a:lnTo>
                    <a:pt x="766" y="1657"/>
                  </a:lnTo>
                  <a:lnTo>
                    <a:pt x="753" y="1655"/>
                  </a:lnTo>
                  <a:lnTo>
                    <a:pt x="741" y="1654"/>
                  </a:lnTo>
                  <a:lnTo>
                    <a:pt x="728" y="1652"/>
                  </a:lnTo>
                  <a:lnTo>
                    <a:pt x="714" y="1651"/>
                  </a:lnTo>
                  <a:lnTo>
                    <a:pt x="701" y="1650"/>
                  </a:lnTo>
                  <a:lnTo>
                    <a:pt x="687" y="1649"/>
                  </a:lnTo>
                  <a:lnTo>
                    <a:pt x="675" y="1648"/>
                  </a:lnTo>
                  <a:lnTo>
                    <a:pt x="662" y="1647"/>
                  </a:lnTo>
                  <a:lnTo>
                    <a:pt x="648" y="1646"/>
                  </a:lnTo>
                  <a:lnTo>
                    <a:pt x="636" y="1645"/>
                  </a:lnTo>
                  <a:lnTo>
                    <a:pt x="623" y="1642"/>
                  </a:lnTo>
                  <a:lnTo>
                    <a:pt x="613" y="1636"/>
                  </a:lnTo>
                  <a:lnTo>
                    <a:pt x="602" y="1630"/>
                  </a:lnTo>
                  <a:lnTo>
                    <a:pt x="592" y="1625"/>
                  </a:lnTo>
                  <a:lnTo>
                    <a:pt x="583" y="1619"/>
                  </a:lnTo>
                  <a:lnTo>
                    <a:pt x="571" y="1613"/>
                  </a:lnTo>
                  <a:lnTo>
                    <a:pt x="562" y="1608"/>
                  </a:lnTo>
                  <a:lnTo>
                    <a:pt x="550" y="1602"/>
                  </a:lnTo>
                  <a:lnTo>
                    <a:pt x="541" y="1596"/>
                  </a:lnTo>
                  <a:lnTo>
                    <a:pt x="531" y="1591"/>
                  </a:lnTo>
                  <a:lnTo>
                    <a:pt x="520" y="1585"/>
                  </a:lnTo>
                  <a:lnTo>
                    <a:pt x="510" y="1579"/>
                  </a:lnTo>
                  <a:lnTo>
                    <a:pt x="497" y="1578"/>
                  </a:lnTo>
                  <a:lnTo>
                    <a:pt x="499" y="1586"/>
                  </a:lnTo>
                  <a:lnTo>
                    <a:pt x="504" y="1596"/>
                  </a:lnTo>
                  <a:lnTo>
                    <a:pt x="507" y="1605"/>
                  </a:lnTo>
                  <a:lnTo>
                    <a:pt x="495" y="1609"/>
                  </a:lnTo>
                  <a:lnTo>
                    <a:pt x="482" y="1611"/>
                  </a:lnTo>
                  <a:lnTo>
                    <a:pt x="474" y="1604"/>
                  </a:lnTo>
                  <a:lnTo>
                    <a:pt x="467" y="1596"/>
                  </a:lnTo>
                  <a:lnTo>
                    <a:pt x="460" y="1588"/>
                  </a:lnTo>
                  <a:lnTo>
                    <a:pt x="451" y="1581"/>
                  </a:lnTo>
                  <a:lnTo>
                    <a:pt x="444" y="1573"/>
                  </a:lnTo>
                  <a:lnTo>
                    <a:pt x="436" y="1566"/>
                  </a:lnTo>
                  <a:lnTo>
                    <a:pt x="429" y="1558"/>
                  </a:lnTo>
                  <a:lnTo>
                    <a:pt x="420" y="1551"/>
                  </a:lnTo>
                  <a:lnTo>
                    <a:pt x="413" y="1544"/>
                  </a:lnTo>
                  <a:lnTo>
                    <a:pt x="401" y="1543"/>
                  </a:lnTo>
                  <a:lnTo>
                    <a:pt x="395" y="1534"/>
                  </a:lnTo>
                  <a:lnTo>
                    <a:pt x="385" y="1531"/>
                  </a:lnTo>
                  <a:lnTo>
                    <a:pt x="373" y="1530"/>
                  </a:lnTo>
                  <a:lnTo>
                    <a:pt x="359" y="1530"/>
                  </a:lnTo>
                  <a:lnTo>
                    <a:pt x="367" y="1522"/>
                  </a:lnTo>
                  <a:lnTo>
                    <a:pt x="374" y="1515"/>
                  </a:lnTo>
                  <a:lnTo>
                    <a:pt x="384" y="1508"/>
                  </a:lnTo>
                  <a:lnTo>
                    <a:pt x="395" y="1502"/>
                  </a:lnTo>
                  <a:lnTo>
                    <a:pt x="404" y="1495"/>
                  </a:lnTo>
                  <a:lnTo>
                    <a:pt x="408" y="1486"/>
                  </a:lnTo>
                  <a:lnTo>
                    <a:pt x="411" y="1477"/>
                  </a:lnTo>
                  <a:lnTo>
                    <a:pt x="412" y="1468"/>
                  </a:lnTo>
                  <a:lnTo>
                    <a:pt x="412" y="1459"/>
                  </a:lnTo>
                  <a:lnTo>
                    <a:pt x="413" y="1450"/>
                  </a:lnTo>
                  <a:lnTo>
                    <a:pt x="413" y="1440"/>
                  </a:lnTo>
                  <a:lnTo>
                    <a:pt x="413" y="1431"/>
                  </a:lnTo>
                  <a:lnTo>
                    <a:pt x="413" y="1421"/>
                  </a:lnTo>
                  <a:lnTo>
                    <a:pt x="413" y="1412"/>
                  </a:lnTo>
                  <a:lnTo>
                    <a:pt x="413" y="1402"/>
                  </a:lnTo>
                  <a:lnTo>
                    <a:pt x="415" y="1393"/>
                  </a:lnTo>
                  <a:lnTo>
                    <a:pt x="415" y="1384"/>
                  </a:lnTo>
                  <a:lnTo>
                    <a:pt x="416" y="1374"/>
                  </a:lnTo>
                  <a:lnTo>
                    <a:pt x="416" y="1365"/>
                  </a:lnTo>
                  <a:lnTo>
                    <a:pt x="418" y="1356"/>
                  </a:lnTo>
                  <a:lnTo>
                    <a:pt x="418" y="1346"/>
                  </a:lnTo>
                  <a:lnTo>
                    <a:pt x="419" y="1337"/>
                  </a:lnTo>
                  <a:lnTo>
                    <a:pt x="419" y="1328"/>
                  </a:lnTo>
                  <a:lnTo>
                    <a:pt x="420" y="1319"/>
                  </a:lnTo>
                  <a:lnTo>
                    <a:pt x="422" y="1309"/>
                  </a:lnTo>
                  <a:lnTo>
                    <a:pt x="422" y="1297"/>
                  </a:lnTo>
                  <a:lnTo>
                    <a:pt x="425" y="1281"/>
                  </a:lnTo>
                  <a:lnTo>
                    <a:pt x="425" y="1272"/>
                  </a:lnTo>
                  <a:lnTo>
                    <a:pt x="422" y="1263"/>
                  </a:lnTo>
                  <a:lnTo>
                    <a:pt x="418" y="1254"/>
                  </a:lnTo>
                  <a:lnTo>
                    <a:pt x="412" y="1246"/>
                  </a:lnTo>
                  <a:lnTo>
                    <a:pt x="408" y="1237"/>
                  </a:lnTo>
                  <a:lnTo>
                    <a:pt x="408" y="1228"/>
                  </a:lnTo>
                  <a:lnTo>
                    <a:pt x="402" y="1220"/>
                  </a:lnTo>
                  <a:lnTo>
                    <a:pt x="399" y="1211"/>
                  </a:lnTo>
                  <a:lnTo>
                    <a:pt x="398" y="1202"/>
                  </a:lnTo>
                  <a:lnTo>
                    <a:pt x="397" y="1193"/>
                  </a:lnTo>
                  <a:lnTo>
                    <a:pt x="395" y="1184"/>
                  </a:lnTo>
                  <a:lnTo>
                    <a:pt x="392" y="1175"/>
                  </a:lnTo>
                  <a:lnTo>
                    <a:pt x="390" y="1166"/>
                  </a:lnTo>
                  <a:lnTo>
                    <a:pt x="387" y="1157"/>
                  </a:lnTo>
                  <a:lnTo>
                    <a:pt x="384" y="1147"/>
                  </a:lnTo>
                  <a:lnTo>
                    <a:pt x="381" y="1138"/>
                  </a:lnTo>
                  <a:lnTo>
                    <a:pt x="378" y="1129"/>
                  </a:lnTo>
                  <a:lnTo>
                    <a:pt x="376" y="1120"/>
                  </a:lnTo>
                  <a:lnTo>
                    <a:pt x="373" y="1111"/>
                  </a:lnTo>
                  <a:lnTo>
                    <a:pt x="370" y="1102"/>
                  </a:lnTo>
                  <a:lnTo>
                    <a:pt x="367" y="1093"/>
                  </a:lnTo>
                  <a:lnTo>
                    <a:pt x="366" y="1084"/>
                  </a:lnTo>
                  <a:lnTo>
                    <a:pt x="363" y="1074"/>
                  </a:lnTo>
                  <a:lnTo>
                    <a:pt x="360" y="1065"/>
                  </a:lnTo>
                  <a:lnTo>
                    <a:pt x="355" y="1057"/>
                  </a:lnTo>
                  <a:lnTo>
                    <a:pt x="352" y="1048"/>
                  </a:lnTo>
                  <a:lnTo>
                    <a:pt x="351" y="1038"/>
                  </a:lnTo>
                  <a:lnTo>
                    <a:pt x="348" y="1029"/>
                  </a:lnTo>
                  <a:lnTo>
                    <a:pt x="348" y="1020"/>
                  </a:lnTo>
                  <a:lnTo>
                    <a:pt x="351" y="1011"/>
                  </a:lnTo>
                  <a:lnTo>
                    <a:pt x="356" y="1002"/>
                  </a:lnTo>
                  <a:lnTo>
                    <a:pt x="366" y="996"/>
                  </a:lnTo>
                  <a:lnTo>
                    <a:pt x="367" y="990"/>
                  </a:lnTo>
                  <a:lnTo>
                    <a:pt x="356" y="984"/>
                  </a:lnTo>
                  <a:lnTo>
                    <a:pt x="345" y="980"/>
                  </a:lnTo>
                  <a:lnTo>
                    <a:pt x="342" y="971"/>
                  </a:lnTo>
                  <a:lnTo>
                    <a:pt x="341" y="962"/>
                  </a:lnTo>
                  <a:lnTo>
                    <a:pt x="334" y="954"/>
                  </a:lnTo>
                  <a:lnTo>
                    <a:pt x="331" y="946"/>
                  </a:lnTo>
                  <a:lnTo>
                    <a:pt x="328" y="937"/>
                  </a:lnTo>
                  <a:lnTo>
                    <a:pt x="325" y="928"/>
                  </a:lnTo>
                  <a:lnTo>
                    <a:pt x="332" y="920"/>
                  </a:lnTo>
                  <a:lnTo>
                    <a:pt x="341" y="913"/>
                  </a:lnTo>
                  <a:lnTo>
                    <a:pt x="345" y="904"/>
                  </a:lnTo>
                  <a:lnTo>
                    <a:pt x="346" y="895"/>
                  </a:lnTo>
                  <a:lnTo>
                    <a:pt x="344" y="886"/>
                  </a:lnTo>
                  <a:lnTo>
                    <a:pt x="342" y="877"/>
                  </a:lnTo>
                  <a:lnTo>
                    <a:pt x="339" y="868"/>
                  </a:lnTo>
                  <a:lnTo>
                    <a:pt x="339" y="859"/>
                  </a:lnTo>
                  <a:lnTo>
                    <a:pt x="341" y="849"/>
                  </a:lnTo>
                  <a:lnTo>
                    <a:pt x="342" y="840"/>
                  </a:lnTo>
                  <a:lnTo>
                    <a:pt x="339" y="831"/>
                  </a:lnTo>
                  <a:lnTo>
                    <a:pt x="331" y="824"/>
                  </a:lnTo>
                  <a:lnTo>
                    <a:pt x="321" y="817"/>
                  </a:lnTo>
                  <a:lnTo>
                    <a:pt x="313" y="810"/>
                  </a:lnTo>
                  <a:lnTo>
                    <a:pt x="306" y="802"/>
                  </a:lnTo>
                  <a:lnTo>
                    <a:pt x="297" y="796"/>
                  </a:lnTo>
                  <a:lnTo>
                    <a:pt x="286" y="791"/>
                  </a:lnTo>
                  <a:lnTo>
                    <a:pt x="275" y="787"/>
                  </a:lnTo>
                  <a:lnTo>
                    <a:pt x="264" y="782"/>
                  </a:lnTo>
                  <a:lnTo>
                    <a:pt x="253" y="777"/>
                  </a:lnTo>
                  <a:lnTo>
                    <a:pt x="240" y="774"/>
                  </a:lnTo>
                  <a:lnTo>
                    <a:pt x="230" y="779"/>
                  </a:lnTo>
                  <a:lnTo>
                    <a:pt x="221" y="785"/>
                  </a:lnTo>
                  <a:lnTo>
                    <a:pt x="209" y="790"/>
                  </a:lnTo>
                  <a:lnTo>
                    <a:pt x="197" y="794"/>
                  </a:lnTo>
                  <a:lnTo>
                    <a:pt x="184" y="797"/>
                  </a:lnTo>
                  <a:lnTo>
                    <a:pt x="173" y="799"/>
                  </a:lnTo>
                  <a:lnTo>
                    <a:pt x="159" y="801"/>
                  </a:lnTo>
                  <a:lnTo>
                    <a:pt x="148" y="804"/>
                  </a:lnTo>
                  <a:lnTo>
                    <a:pt x="134" y="804"/>
                  </a:lnTo>
                  <a:lnTo>
                    <a:pt x="121" y="805"/>
                  </a:lnTo>
                  <a:lnTo>
                    <a:pt x="109" y="802"/>
                  </a:lnTo>
                  <a:lnTo>
                    <a:pt x="98" y="798"/>
                  </a:lnTo>
                  <a:lnTo>
                    <a:pt x="85" y="794"/>
                  </a:lnTo>
                  <a:lnTo>
                    <a:pt x="75" y="788"/>
                  </a:lnTo>
                  <a:lnTo>
                    <a:pt x="67" y="781"/>
                  </a:lnTo>
                  <a:lnTo>
                    <a:pt x="56" y="779"/>
                  </a:lnTo>
                  <a:lnTo>
                    <a:pt x="43" y="777"/>
                  </a:lnTo>
                  <a:lnTo>
                    <a:pt x="36" y="769"/>
                  </a:lnTo>
                  <a:lnTo>
                    <a:pt x="32" y="760"/>
                  </a:lnTo>
                  <a:lnTo>
                    <a:pt x="26" y="752"/>
                  </a:lnTo>
                  <a:lnTo>
                    <a:pt x="19" y="744"/>
                  </a:lnTo>
                  <a:lnTo>
                    <a:pt x="15" y="735"/>
                  </a:lnTo>
                  <a:lnTo>
                    <a:pt x="11" y="726"/>
                  </a:lnTo>
                  <a:lnTo>
                    <a:pt x="7" y="717"/>
                  </a:lnTo>
                  <a:lnTo>
                    <a:pt x="4" y="708"/>
                  </a:lnTo>
                  <a:lnTo>
                    <a:pt x="2" y="699"/>
                  </a:lnTo>
                  <a:lnTo>
                    <a:pt x="0" y="685"/>
                  </a:lnTo>
                  <a:lnTo>
                    <a:pt x="4" y="677"/>
                  </a:lnTo>
                  <a:lnTo>
                    <a:pt x="5" y="668"/>
                  </a:lnTo>
                  <a:lnTo>
                    <a:pt x="7" y="658"/>
                  </a:lnTo>
                  <a:lnTo>
                    <a:pt x="8" y="6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86400" y="2209680"/>
              <a:ext cx="1357200" cy="1675080"/>
            </a:xfrm>
            <a:custGeom>
              <a:avLst/>
              <a:gdLst/>
              <a:ahLst/>
              <a:rect l="l" t="t" r="r" b="b"/>
              <a:pathLst>
                <a:path w="2564" h="2111">
                  <a:moveTo>
                    <a:pt x="9" y="649"/>
                  </a:moveTo>
                  <a:lnTo>
                    <a:pt x="20" y="652"/>
                  </a:lnTo>
                  <a:lnTo>
                    <a:pt x="28" y="644"/>
                  </a:lnTo>
                  <a:lnTo>
                    <a:pt x="37" y="650"/>
                  </a:lnTo>
                  <a:lnTo>
                    <a:pt x="48" y="652"/>
                  </a:lnTo>
                  <a:lnTo>
                    <a:pt x="60" y="651"/>
                  </a:lnTo>
                  <a:lnTo>
                    <a:pt x="60" y="660"/>
                  </a:lnTo>
                  <a:lnTo>
                    <a:pt x="66" y="669"/>
                  </a:lnTo>
                  <a:lnTo>
                    <a:pt x="76" y="675"/>
                  </a:lnTo>
                  <a:lnTo>
                    <a:pt x="88" y="678"/>
                  </a:lnTo>
                  <a:lnTo>
                    <a:pt x="101" y="678"/>
                  </a:lnTo>
                  <a:lnTo>
                    <a:pt x="107" y="671"/>
                  </a:lnTo>
                  <a:lnTo>
                    <a:pt x="102" y="662"/>
                  </a:lnTo>
                  <a:lnTo>
                    <a:pt x="91" y="658"/>
                  </a:lnTo>
                  <a:lnTo>
                    <a:pt x="80" y="654"/>
                  </a:lnTo>
                  <a:lnTo>
                    <a:pt x="69" y="649"/>
                  </a:lnTo>
                  <a:lnTo>
                    <a:pt x="62" y="640"/>
                  </a:lnTo>
                  <a:lnTo>
                    <a:pt x="56" y="632"/>
                  </a:lnTo>
                  <a:lnTo>
                    <a:pt x="55" y="622"/>
                  </a:lnTo>
                  <a:lnTo>
                    <a:pt x="53" y="613"/>
                  </a:lnTo>
                  <a:lnTo>
                    <a:pt x="66" y="611"/>
                  </a:lnTo>
                  <a:lnTo>
                    <a:pt x="79" y="613"/>
                  </a:lnTo>
                  <a:lnTo>
                    <a:pt x="93" y="615"/>
                  </a:lnTo>
                  <a:lnTo>
                    <a:pt x="105" y="615"/>
                  </a:lnTo>
                  <a:lnTo>
                    <a:pt x="116" y="615"/>
                  </a:lnTo>
                  <a:lnTo>
                    <a:pt x="129" y="618"/>
                  </a:lnTo>
                  <a:lnTo>
                    <a:pt x="141" y="616"/>
                  </a:lnTo>
                  <a:lnTo>
                    <a:pt x="151" y="610"/>
                  </a:lnTo>
                  <a:lnTo>
                    <a:pt x="148" y="601"/>
                  </a:lnTo>
                  <a:lnTo>
                    <a:pt x="136" y="599"/>
                  </a:lnTo>
                  <a:lnTo>
                    <a:pt x="123" y="604"/>
                  </a:lnTo>
                  <a:lnTo>
                    <a:pt x="120" y="595"/>
                  </a:lnTo>
                  <a:lnTo>
                    <a:pt x="115" y="587"/>
                  </a:lnTo>
                  <a:lnTo>
                    <a:pt x="112" y="578"/>
                  </a:lnTo>
                  <a:lnTo>
                    <a:pt x="114" y="569"/>
                  </a:lnTo>
                  <a:lnTo>
                    <a:pt x="120" y="561"/>
                  </a:lnTo>
                  <a:lnTo>
                    <a:pt x="132" y="565"/>
                  </a:lnTo>
                  <a:lnTo>
                    <a:pt x="134" y="574"/>
                  </a:lnTo>
                  <a:lnTo>
                    <a:pt x="141" y="582"/>
                  </a:lnTo>
                  <a:lnTo>
                    <a:pt x="153" y="586"/>
                  </a:lnTo>
                  <a:lnTo>
                    <a:pt x="164" y="582"/>
                  </a:lnTo>
                  <a:lnTo>
                    <a:pt x="172" y="576"/>
                  </a:lnTo>
                  <a:lnTo>
                    <a:pt x="183" y="571"/>
                  </a:lnTo>
                  <a:lnTo>
                    <a:pt x="196" y="567"/>
                  </a:lnTo>
                  <a:lnTo>
                    <a:pt x="210" y="570"/>
                  </a:lnTo>
                  <a:lnTo>
                    <a:pt x="218" y="570"/>
                  </a:lnTo>
                  <a:lnTo>
                    <a:pt x="213" y="560"/>
                  </a:lnTo>
                  <a:lnTo>
                    <a:pt x="211" y="551"/>
                  </a:lnTo>
                  <a:lnTo>
                    <a:pt x="218" y="543"/>
                  </a:lnTo>
                  <a:lnTo>
                    <a:pt x="230" y="537"/>
                  </a:lnTo>
                  <a:lnTo>
                    <a:pt x="238" y="531"/>
                  </a:lnTo>
                  <a:lnTo>
                    <a:pt x="245" y="524"/>
                  </a:lnTo>
                  <a:lnTo>
                    <a:pt x="256" y="519"/>
                  </a:lnTo>
                  <a:lnTo>
                    <a:pt x="267" y="515"/>
                  </a:lnTo>
                  <a:lnTo>
                    <a:pt x="281" y="515"/>
                  </a:lnTo>
                  <a:lnTo>
                    <a:pt x="294" y="517"/>
                  </a:lnTo>
                  <a:lnTo>
                    <a:pt x="306" y="518"/>
                  </a:lnTo>
                  <a:lnTo>
                    <a:pt x="319" y="518"/>
                  </a:lnTo>
                  <a:lnTo>
                    <a:pt x="332" y="515"/>
                  </a:lnTo>
                  <a:lnTo>
                    <a:pt x="339" y="508"/>
                  </a:lnTo>
                  <a:lnTo>
                    <a:pt x="340" y="498"/>
                  </a:lnTo>
                  <a:lnTo>
                    <a:pt x="336" y="489"/>
                  </a:lnTo>
                  <a:lnTo>
                    <a:pt x="333" y="482"/>
                  </a:lnTo>
                  <a:lnTo>
                    <a:pt x="332" y="475"/>
                  </a:lnTo>
                  <a:lnTo>
                    <a:pt x="339" y="468"/>
                  </a:lnTo>
                  <a:lnTo>
                    <a:pt x="332" y="461"/>
                  </a:lnTo>
                  <a:lnTo>
                    <a:pt x="334" y="452"/>
                  </a:lnTo>
                  <a:lnTo>
                    <a:pt x="344" y="445"/>
                  </a:lnTo>
                  <a:lnTo>
                    <a:pt x="353" y="438"/>
                  </a:lnTo>
                  <a:lnTo>
                    <a:pt x="362" y="433"/>
                  </a:lnTo>
                  <a:lnTo>
                    <a:pt x="376" y="433"/>
                  </a:lnTo>
                  <a:lnTo>
                    <a:pt x="387" y="436"/>
                  </a:lnTo>
                  <a:lnTo>
                    <a:pt x="394" y="444"/>
                  </a:lnTo>
                  <a:lnTo>
                    <a:pt x="399" y="453"/>
                  </a:lnTo>
                  <a:lnTo>
                    <a:pt x="407" y="460"/>
                  </a:lnTo>
                  <a:lnTo>
                    <a:pt x="414" y="453"/>
                  </a:lnTo>
                  <a:lnTo>
                    <a:pt x="418" y="444"/>
                  </a:lnTo>
                  <a:lnTo>
                    <a:pt x="422" y="435"/>
                  </a:lnTo>
                  <a:lnTo>
                    <a:pt x="415" y="428"/>
                  </a:lnTo>
                  <a:lnTo>
                    <a:pt x="420" y="419"/>
                  </a:lnTo>
                  <a:lnTo>
                    <a:pt x="431" y="419"/>
                  </a:lnTo>
                  <a:lnTo>
                    <a:pt x="436" y="411"/>
                  </a:lnTo>
                  <a:lnTo>
                    <a:pt x="441" y="402"/>
                  </a:lnTo>
                  <a:lnTo>
                    <a:pt x="432" y="395"/>
                  </a:lnTo>
                  <a:lnTo>
                    <a:pt x="443" y="391"/>
                  </a:lnTo>
                  <a:lnTo>
                    <a:pt x="448" y="383"/>
                  </a:lnTo>
                  <a:lnTo>
                    <a:pt x="452" y="373"/>
                  </a:lnTo>
                  <a:lnTo>
                    <a:pt x="462" y="368"/>
                  </a:lnTo>
                  <a:lnTo>
                    <a:pt x="466" y="361"/>
                  </a:lnTo>
                  <a:lnTo>
                    <a:pt x="466" y="352"/>
                  </a:lnTo>
                  <a:lnTo>
                    <a:pt x="466" y="342"/>
                  </a:lnTo>
                  <a:lnTo>
                    <a:pt x="467" y="333"/>
                  </a:lnTo>
                  <a:lnTo>
                    <a:pt x="473" y="325"/>
                  </a:lnTo>
                  <a:lnTo>
                    <a:pt x="480" y="318"/>
                  </a:lnTo>
                  <a:lnTo>
                    <a:pt x="487" y="310"/>
                  </a:lnTo>
                  <a:lnTo>
                    <a:pt x="490" y="302"/>
                  </a:lnTo>
                  <a:lnTo>
                    <a:pt x="483" y="293"/>
                  </a:lnTo>
                  <a:lnTo>
                    <a:pt x="481" y="283"/>
                  </a:lnTo>
                  <a:lnTo>
                    <a:pt x="477" y="275"/>
                  </a:lnTo>
                  <a:lnTo>
                    <a:pt x="466" y="271"/>
                  </a:lnTo>
                  <a:lnTo>
                    <a:pt x="457" y="263"/>
                  </a:lnTo>
                  <a:lnTo>
                    <a:pt x="449" y="256"/>
                  </a:lnTo>
                  <a:lnTo>
                    <a:pt x="450" y="250"/>
                  </a:lnTo>
                  <a:lnTo>
                    <a:pt x="445" y="244"/>
                  </a:lnTo>
                  <a:lnTo>
                    <a:pt x="436" y="239"/>
                  </a:lnTo>
                  <a:lnTo>
                    <a:pt x="442" y="231"/>
                  </a:lnTo>
                  <a:lnTo>
                    <a:pt x="452" y="225"/>
                  </a:lnTo>
                  <a:lnTo>
                    <a:pt x="464" y="226"/>
                  </a:lnTo>
                  <a:lnTo>
                    <a:pt x="470" y="220"/>
                  </a:lnTo>
                  <a:lnTo>
                    <a:pt x="480" y="214"/>
                  </a:lnTo>
                  <a:lnTo>
                    <a:pt x="492" y="213"/>
                  </a:lnTo>
                  <a:lnTo>
                    <a:pt x="494" y="203"/>
                  </a:lnTo>
                  <a:lnTo>
                    <a:pt x="492" y="194"/>
                  </a:lnTo>
                  <a:lnTo>
                    <a:pt x="492" y="185"/>
                  </a:lnTo>
                  <a:lnTo>
                    <a:pt x="495" y="175"/>
                  </a:lnTo>
                  <a:lnTo>
                    <a:pt x="498" y="165"/>
                  </a:lnTo>
                  <a:lnTo>
                    <a:pt x="491" y="158"/>
                  </a:lnTo>
                  <a:lnTo>
                    <a:pt x="499" y="150"/>
                  </a:lnTo>
                  <a:lnTo>
                    <a:pt x="509" y="144"/>
                  </a:lnTo>
                  <a:lnTo>
                    <a:pt x="513" y="136"/>
                  </a:lnTo>
                  <a:lnTo>
                    <a:pt x="524" y="131"/>
                  </a:lnTo>
                  <a:lnTo>
                    <a:pt x="536" y="126"/>
                  </a:lnTo>
                  <a:lnTo>
                    <a:pt x="550" y="126"/>
                  </a:lnTo>
                  <a:lnTo>
                    <a:pt x="561" y="121"/>
                  </a:lnTo>
                  <a:lnTo>
                    <a:pt x="568" y="114"/>
                  </a:lnTo>
                  <a:lnTo>
                    <a:pt x="565" y="100"/>
                  </a:lnTo>
                  <a:lnTo>
                    <a:pt x="555" y="96"/>
                  </a:lnTo>
                  <a:lnTo>
                    <a:pt x="543" y="98"/>
                  </a:lnTo>
                  <a:lnTo>
                    <a:pt x="529" y="98"/>
                  </a:lnTo>
                  <a:lnTo>
                    <a:pt x="515" y="99"/>
                  </a:lnTo>
                  <a:lnTo>
                    <a:pt x="504" y="97"/>
                  </a:lnTo>
                  <a:lnTo>
                    <a:pt x="505" y="88"/>
                  </a:lnTo>
                  <a:lnTo>
                    <a:pt x="513" y="81"/>
                  </a:lnTo>
                  <a:lnTo>
                    <a:pt x="524" y="77"/>
                  </a:lnTo>
                  <a:lnTo>
                    <a:pt x="536" y="73"/>
                  </a:lnTo>
                  <a:lnTo>
                    <a:pt x="544" y="65"/>
                  </a:lnTo>
                  <a:lnTo>
                    <a:pt x="547" y="56"/>
                  </a:lnTo>
                  <a:lnTo>
                    <a:pt x="550" y="47"/>
                  </a:lnTo>
                  <a:lnTo>
                    <a:pt x="551" y="38"/>
                  </a:lnTo>
                  <a:lnTo>
                    <a:pt x="554" y="29"/>
                  </a:lnTo>
                  <a:lnTo>
                    <a:pt x="557" y="20"/>
                  </a:lnTo>
                  <a:lnTo>
                    <a:pt x="559" y="8"/>
                  </a:lnTo>
                  <a:lnTo>
                    <a:pt x="569" y="15"/>
                  </a:lnTo>
                  <a:lnTo>
                    <a:pt x="579" y="12"/>
                  </a:lnTo>
                  <a:lnTo>
                    <a:pt x="590" y="10"/>
                  </a:lnTo>
                  <a:lnTo>
                    <a:pt x="600" y="18"/>
                  </a:lnTo>
                  <a:lnTo>
                    <a:pt x="608" y="22"/>
                  </a:lnTo>
                  <a:lnTo>
                    <a:pt x="614" y="13"/>
                  </a:lnTo>
                  <a:lnTo>
                    <a:pt x="620" y="5"/>
                  </a:lnTo>
                  <a:lnTo>
                    <a:pt x="627" y="0"/>
                  </a:lnTo>
                  <a:lnTo>
                    <a:pt x="641" y="1"/>
                  </a:lnTo>
                  <a:lnTo>
                    <a:pt x="653" y="2"/>
                  </a:lnTo>
                  <a:lnTo>
                    <a:pt x="666" y="6"/>
                  </a:lnTo>
                  <a:lnTo>
                    <a:pt x="675" y="11"/>
                  </a:lnTo>
                  <a:lnTo>
                    <a:pt x="687" y="13"/>
                  </a:lnTo>
                  <a:lnTo>
                    <a:pt x="698" y="11"/>
                  </a:lnTo>
                  <a:lnTo>
                    <a:pt x="709" y="16"/>
                  </a:lnTo>
                  <a:lnTo>
                    <a:pt x="720" y="22"/>
                  </a:lnTo>
                  <a:lnTo>
                    <a:pt x="730" y="27"/>
                  </a:lnTo>
                  <a:lnTo>
                    <a:pt x="741" y="32"/>
                  </a:lnTo>
                  <a:lnTo>
                    <a:pt x="752" y="36"/>
                  </a:lnTo>
                  <a:lnTo>
                    <a:pt x="764" y="41"/>
                  </a:lnTo>
                  <a:lnTo>
                    <a:pt x="776" y="45"/>
                  </a:lnTo>
                  <a:lnTo>
                    <a:pt x="780" y="54"/>
                  </a:lnTo>
                  <a:lnTo>
                    <a:pt x="785" y="63"/>
                  </a:lnTo>
                  <a:lnTo>
                    <a:pt x="796" y="68"/>
                  </a:lnTo>
                  <a:lnTo>
                    <a:pt x="807" y="71"/>
                  </a:lnTo>
                  <a:lnTo>
                    <a:pt x="821" y="73"/>
                  </a:lnTo>
                  <a:lnTo>
                    <a:pt x="832" y="77"/>
                  </a:lnTo>
                  <a:lnTo>
                    <a:pt x="835" y="86"/>
                  </a:lnTo>
                  <a:lnTo>
                    <a:pt x="835" y="100"/>
                  </a:lnTo>
                  <a:lnTo>
                    <a:pt x="857" y="120"/>
                  </a:lnTo>
                  <a:lnTo>
                    <a:pt x="870" y="118"/>
                  </a:lnTo>
                  <a:lnTo>
                    <a:pt x="882" y="114"/>
                  </a:lnTo>
                  <a:lnTo>
                    <a:pt x="895" y="111"/>
                  </a:lnTo>
                  <a:lnTo>
                    <a:pt x="908" y="108"/>
                  </a:lnTo>
                  <a:lnTo>
                    <a:pt x="917" y="100"/>
                  </a:lnTo>
                  <a:lnTo>
                    <a:pt x="926" y="94"/>
                  </a:lnTo>
                  <a:lnTo>
                    <a:pt x="938" y="90"/>
                  </a:lnTo>
                  <a:lnTo>
                    <a:pt x="951" y="87"/>
                  </a:lnTo>
                  <a:lnTo>
                    <a:pt x="963" y="86"/>
                  </a:lnTo>
                  <a:lnTo>
                    <a:pt x="976" y="84"/>
                  </a:lnTo>
                  <a:lnTo>
                    <a:pt x="989" y="83"/>
                  </a:lnTo>
                  <a:lnTo>
                    <a:pt x="1003" y="82"/>
                  </a:lnTo>
                  <a:lnTo>
                    <a:pt x="1015" y="82"/>
                  </a:lnTo>
                  <a:lnTo>
                    <a:pt x="1024" y="85"/>
                  </a:lnTo>
                  <a:lnTo>
                    <a:pt x="1038" y="86"/>
                  </a:lnTo>
                  <a:lnTo>
                    <a:pt x="1050" y="87"/>
                  </a:lnTo>
                  <a:lnTo>
                    <a:pt x="1063" y="84"/>
                  </a:lnTo>
                  <a:lnTo>
                    <a:pt x="1075" y="83"/>
                  </a:lnTo>
                  <a:lnTo>
                    <a:pt x="1088" y="83"/>
                  </a:lnTo>
                  <a:lnTo>
                    <a:pt x="1100" y="83"/>
                  </a:lnTo>
                  <a:lnTo>
                    <a:pt x="1114" y="82"/>
                  </a:lnTo>
                  <a:lnTo>
                    <a:pt x="1127" y="82"/>
                  </a:lnTo>
                  <a:lnTo>
                    <a:pt x="1138" y="78"/>
                  </a:lnTo>
                  <a:lnTo>
                    <a:pt x="1151" y="78"/>
                  </a:lnTo>
                  <a:lnTo>
                    <a:pt x="1162" y="74"/>
                  </a:lnTo>
                  <a:lnTo>
                    <a:pt x="1163" y="65"/>
                  </a:lnTo>
                  <a:lnTo>
                    <a:pt x="1175" y="65"/>
                  </a:lnTo>
                  <a:lnTo>
                    <a:pt x="1189" y="65"/>
                  </a:lnTo>
                  <a:lnTo>
                    <a:pt x="1201" y="65"/>
                  </a:lnTo>
                  <a:lnTo>
                    <a:pt x="1214" y="65"/>
                  </a:lnTo>
                  <a:lnTo>
                    <a:pt x="1226" y="66"/>
                  </a:lnTo>
                  <a:lnTo>
                    <a:pt x="1240" y="68"/>
                  </a:lnTo>
                  <a:lnTo>
                    <a:pt x="1253" y="69"/>
                  </a:lnTo>
                  <a:lnTo>
                    <a:pt x="1265" y="69"/>
                  </a:lnTo>
                  <a:lnTo>
                    <a:pt x="1279" y="69"/>
                  </a:lnTo>
                  <a:lnTo>
                    <a:pt x="1292" y="69"/>
                  </a:lnTo>
                  <a:lnTo>
                    <a:pt x="1293" y="61"/>
                  </a:lnTo>
                  <a:lnTo>
                    <a:pt x="1295" y="51"/>
                  </a:lnTo>
                  <a:lnTo>
                    <a:pt x="1306" y="48"/>
                  </a:lnTo>
                  <a:lnTo>
                    <a:pt x="1319" y="48"/>
                  </a:lnTo>
                  <a:lnTo>
                    <a:pt x="1324" y="43"/>
                  </a:lnTo>
                  <a:lnTo>
                    <a:pt x="1327" y="34"/>
                  </a:lnTo>
                  <a:lnTo>
                    <a:pt x="1337" y="33"/>
                  </a:lnTo>
                  <a:lnTo>
                    <a:pt x="1351" y="36"/>
                  </a:lnTo>
                  <a:lnTo>
                    <a:pt x="1363" y="39"/>
                  </a:lnTo>
                  <a:lnTo>
                    <a:pt x="1376" y="42"/>
                  </a:lnTo>
                  <a:lnTo>
                    <a:pt x="1388" y="45"/>
                  </a:lnTo>
                  <a:lnTo>
                    <a:pt x="1401" y="49"/>
                  </a:lnTo>
                  <a:lnTo>
                    <a:pt x="1412" y="52"/>
                  </a:lnTo>
                  <a:lnTo>
                    <a:pt x="1426" y="55"/>
                  </a:lnTo>
                  <a:lnTo>
                    <a:pt x="1423" y="61"/>
                  </a:lnTo>
                  <a:lnTo>
                    <a:pt x="1418" y="69"/>
                  </a:lnTo>
                  <a:lnTo>
                    <a:pt x="1414" y="78"/>
                  </a:lnTo>
                  <a:lnTo>
                    <a:pt x="1411" y="87"/>
                  </a:lnTo>
                  <a:lnTo>
                    <a:pt x="1407" y="100"/>
                  </a:lnTo>
                  <a:lnTo>
                    <a:pt x="1405" y="109"/>
                  </a:lnTo>
                  <a:lnTo>
                    <a:pt x="1408" y="118"/>
                  </a:lnTo>
                  <a:lnTo>
                    <a:pt x="1411" y="128"/>
                  </a:lnTo>
                  <a:lnTo>
                    <a:pt x="1409" y="138"/>
                  </a:lnTo>
                  <a:lnTo>
                    <a:pt x="1421" y="140"/>
                  </a:lnTo>
                  <a:lnTo>
                    <a:pt x="1430" y="143"/>
                  </a:lnTo>
                  <a:lnTo>
                    <a:pt x="1426" y="151"/>
                  </a:lnTo>
                  <a:lnTo>
                    <a:pt x="1421" y="161"/>
                  </a:lnTo>
                  <a:lnTo>
                    <a:pt x="1416" y="170"/>
                  </a:lnTo>
                  <a:lnTo>
                    <a:pt x="1414" y="179"/>
                  </a:lnTo>
                  <a:lnTo>
                    <a:pt x="1412" y="189"/>
                  </a:lnTo>
                  <a:lnTo>
                    <a:pt x="1411" y="199"/>
                  </a:lnTo>
                  <a:lnTo>
                    <a:pt x="1409" y="208"/>
                  </a:lnTo>
                  <a:lnTo>
                    <a:pt x="1408" y="217"/>
                  </a:lnTo>
                  <a:lnTo>
                    <a:pt x="1407" y="226"/>
                  </a:lnTo>
                  <a:lnTo>
                    <a:pt x="1404" y="235"/>
                  </a:lnTo>
                  <a:lnTo>
                    <a:pt x="1402" y="245"/>
                  </a:lnTo>
                  <a:lnTo>
                    <a:pt x="1400" y="254"/>
                  </a:lnTo>
                  <a:lnTo>
                    <a:pt x="1398" y="263"/>
                  </a:lnTo>
                  <a:lnTo>
                    <a:pt x="1397" y="272"/>
                  </a:lnTo>
                  <a:lnTo>
                    <a:pt x="1395" y="282"/>
                  </a:lnTo>
                  <a:lnTo>
                    <a:pt x="1397" y="291"/>
                  </a:lnTo>
                  <a:lnTo>
                    <a:pt x="1398" y="300"/>
                  </a:lnTo>
                  <a:lnTo>
                    <a:pt x="1397" y="310"/>
                  </a:lnTo>
                  <a:lnTo>
                    <a:pt x="1397" y="319"/>
                  </a:lnTo>
                  <a:lnTo>
                    <a:pt x="1395" y="329"/>
                  </a:lnTo>
                  <a:lnTo>
                    <a:pt x="1393" y="338"/>
                  </a:lnTo>
                  <a:lnTo>
                    <a:pt x="1395" y="346"/>
                  </a:lnTo>
                  <a:lnTo>
                    <a:pt x="1405" y="351"/>
                  </a:lnTo>
                  <a:lnTo>
                    <a:pt x="1419" y="355"/>
                  </a:lnTo>
                  <a:lnTo>
                    <a:pt x="1432" y="359"/>
                  </a:lnTo>
                  <a:lnTo>
                    <a:pt x="1443" y="363"/>
                  </a:lnTo>
                  <a:lnTo>
                    <a:pt x="1456" y="367"/>
                  </a:lnTo>
                  <a:lnTo>
                    <a:pt x="1467" y="371"/>
                  </a:lnTo>
                  <a:lnTo>
                    <a:pt x="1479" y="375"/>
                  </a:lnTo>
                  <a:lnTo>
                    <a:pt x="1490" y="379"/>
                  </a:lnTo>
                  <a:lnTo>
                    <a:pt x="1502" y="384"/>
                  </a:lnTo>
                  <a:lnTo>
                    <a:pt x="1511" y="390"/>
                  </a:lnTo>
                  <a:lnTo>
                    <a:pt x="1521" y="397"/>
                  </a:lnTo>
                  <a:lnTo>
                    <a:pt x="1530" y="403"/>
                  </a:lnTo>
                  <a:lnTo>
                    <a:pt x="1538" y="410"/>
                  </a:lnTo>
                  <a:lnTo>
                    <a:pt x="1541" y="420"/>
                  </a:lnTo>
                  <a:lnTo>
                    <a:pt x="1545" y="427"/>
                  </a:lnTo>
                  <a:lnTo>
                    <a:pt x="1559" y="431"/>
                  </a:lnTo>
                  <a:lnTo>
                    <a:pt x="1563" y="439"/>
                  </a:lnTo>
                  <a:lnTo>
                    <a:pt x="1563" y="449"/>
                  </a:lnTo>
                  <a:lnTo>
                    <a:pt x="1567" y="457"/>
                  </a:lnTo>
                  <a:lnTo>
                    <a:pt x="1574" y="466"/>
                  </a:lnTo>
                  <a:lnTo>
                    <a:pt x="1584" y="472"/>
                  </a:lnTo>
                  <a:lnTo>
                    <a:pt x="1597" y="473"/>
                  </a:lnTo>
                  <a:lnTo>
                    <a:pt x="1609" y="473"/>
                  </a:lnTo>
                  <a:lnTo>
                    <a:pt x="1623" y="472"/>
                  </a:lnTo>
                  <a:lnTo>
                    <a:pt x="1637" y="471"/>
                  </a:lnTo>
                  <a:lnTo>
                    <a:pt x="1648" y="474"/>
                  </a:lnTo>
                  <a:lnTo>
                    <a:pt x="1662" y="475"/>
                  </a:lnTo>
                  <a:lnTo>
                    <a:pt x="1676" y="475"/>
                  </a:lnTo>
                  <a:lnTo>
                    <a:pt x="1688" y="472"/>
                  </a:lnTo>
                  <a:lnTo>
                    <a:pt x="1689" y="462"/>
                  </a:lnTo>
                  <a:lnTo>
                    <a:pt x="1699" y="460"/>
                  </a:lnTo>
                  <a:lnTo>
                    <a:pt x="1713" y="462"/>
                  </a:lnTo>
                  <a:lnTo>
                    <a:pt x="1723" y="467"/>
                  </a:lnTo>
                  <a:lnTo>
                    <a:pt x="1728" y="476"/>
                  </a:lnTo>
                  <a:lnTo>
                    <a:pt x="1734" y="484"/>
                  </a:lnTo>
                  <a:lnTo>
                    <a:pt x="1738" y="493"/>
                  </a:lnTo>
                  <a:lnTo>
                    <a:pt x="1742" y="503"/>
                  </a:lnTo>
                  <a:lnTo>
                    <a:pt x="1746" y="511"/>
                  </a:lnTo>
                  <a:lnTo>
                    <a:pt x="1757" y="510"/>
                  </a:lnTo>
                  <a:lnTo>
                    <a:pt x="1771" y="507"/>
                  </a:lnTo>
                  <a:lnTo>
                    <a:pt x="1784" y="509"/>
                  </a:lnTo>
                  <a:lnTo>
                    <a:pt x="1797" y="512"/>
                  </a:lnTo>
                  <a:lnTo>
                    <a:pt x="1809" y="513"/>
                  </a:lnTo>
                  <a:lnTo>
                    <a:pt x="1823" y="512"/>
                  </a:lnTo>
                  <a:lnTo>
                    <a:pt x="1836" y="510"/>
                  </a:lnTo>
                  <a:lnTo>
                    <a:pt x="1848" y="513"/>
                  </a:lnTo>
                  <a:lnTo>
                    <a:pt x="1850" y="522"/>
                  </a:lnTo>
                  <a:lnTo>
                    <a:pt x="1847" y="532"/>
                  </a:lnTo>
                  <a:lnTo>
                    <a:pt x="1841" y="541"/>
                  </a:lnTo>
                  <a:lnTo>
                    <a:pt x="1844" y="547"/>
                  </a:lnTo>
                  <a:lnTo>
                    <a:pt x="1857" y="549"/>
                  </a:lnTo>
                  <a:lnTo>
                    <a:pt x="1871" y="550"/>
                  </a:lnTo>
                  <a:lnTo>
                    <a:pt x="1885" y="552"/>
                  </a:lnTo>
                  <a:lnTo>
                    <a:pt x="1897" y="554"/>
                  </a:lnTo>
                  <a:lnTo>
                    <a:pt x="1906" y="560"/>
                  </a:lnTo>
                  <a:lnTo>
                    <a:pt x="1910" y="569"/>
                  </a:lnTo>
                  <a:lnTo>
                    <a:pt x="1915" y="577"/>
                  </a:lnTo>
                  <a:lnTo>
                    <a:pt x="1929" y="576"/>
                  </a:lnTo>
                  <a:lnTo>
                    <a:pt x="1942" y="577"/>
                  </a:lnTo>
                  <a:lnTo>
                    <a:pt x="1955" y="579"/>
                  </a:lnTo>
                  <a:lnTo>
                    <a:pt x="1967" y="583"/>
                  </a:lnTo>
                  <a:lnTo>
                    <a:pt x="1981" y="584"/>
                  </a:lnTo>
                  <a:lnTo>
                    <a:pt x="1992" y="582"/>
                  </a:lnTo>
                  <a:lnTo>
                    <a:pt x="2002" y="575"/>
                  </a:lnTo>
                  <a:lnTo>
                    <a:pt x="2015" y="571"/>
                  </a:lnTo>
                  <a:lnTo>
                    <a:pt x="2019" y="563"/>
                  </a:lnTo>
                  <a:lnTo>
                    <a:pt x="2020" y="554"/>
                  </a:lnTo>
                  <a:lnTo>
                    <a:pt x="2030" y="548"/>
                  </a:lnTo>
                  <a:lnTo>
                    <a:pt x="2043" y="544"/>
                  </a:lnTo>
                  <a:lnTo>
                    <a:pt x="2051" y="537"/>
                  </a:lnTo>
                  <a:lnTo>
                    <a:pt x="2059" y="530"/>
                  </a:lnTo>
                  <a:lnTo>
                    <a:pt x="2069" y="524"/>
                  </a:lnTo>
                  <a:lnTo>
                    <a:pt x="2072" y="515"/>
                  </a:lnTo>
                  <a:lnTo>
                    <a:pt x="2075" y="506"/>
                  </a:lnTo>
                  <a:lnTo>
                    <a:pt x="2076" y="496"/>
                  </a:lnTo>
                  <a:lnTo>
                    <a:pt x="2075" y="487"/>
                  </a:lnTo>
                  <a:lnTo>
                    <a:pt x="2073" y="478"/>
                  </a:lnTo>
                  <a:lnTo>
                    <a:pt x="2075" y="468"/>
                  </a:lnTo>
                  <a:lnTo>
                    <a:pt x="2083" y="462"/>
                  </a:lnTo>
                  <a:lnTo>
                    <a:pt x="2100" y="459"/>
                  </a:lnTo>
                  <a:lnTo>
                    <a:pt x="2113" y="456"/>
                  </a:lnTo>
                  <a:lnTo>
                    <a:pt x="2121" y="458"/>
                  </a:lnTo>
                  <a:lnTo>
                    <a:pt x="2133" y="453"/>
                  </a:lnTo>
                  <a:lnTo>
                    <a:pt x="2146" y="449"/>
                  </a:lnTo>
                  <a:lnTo>
                    <a:pt x="2150" y="457"/>
                  </a:lnTo>
                  <a:lnTo>
                    <a:pt x="2163" y="456"/>
                  </a:lnTo>
                  <a:lnTo>
                    <a:pt x="2171" y="463"/>
                  </a:lnTo>
                  <a:lnTo>
                    <a:pt x="2182" y="466"/>
                  </a:lnTo>
                  <a:lnTo>
                    <a:pt x="2194" y="471"/>
                  </a:lnTo>
                  <a:lnTo>
                    <a:pt x="2196" y="480"/>
                  </a:lnTo>
                  <a:lnTo>
                    <a:pt x="2206" y="485"/>
                  </a:lnTo>
                  <a:lnTo>
                    <a:pt x="2217" y="489"/>
                  </a:lnTo>
                  <a:lnTo>
                    <a:pt x="2222" y="498"/>
                  </a:lnTo>
                  <a:lnTo>
                    <a:pt x="2234" y="501"/>
                  </a:lnTo>
                  <a:lnTo>
                    <a:pt x="2248" y="502"/>
                  </a:lnTo>
                  <a:lnTo>
                    <a:pt x="2261" y="503"/>
                  </a:lnTo>
                  <a:lnTo>
                    <a:pt x="2272" y="506"/>
                  </a:lnTo>
                  <a:lnTo>
                    <a:pt x="2270" y="516"/>
                  </a:lnTo>
                  <a:lnTo>
                    <a:pt x="2268" y="525"/>
                  </a:lnTo>
                  <a:lnTo>
                    <a:pt x="2264" y="534"/>
                  </a:lnTo>
                  <a:lnTo>
                    <a:pt x="2264" y="543"/>
                  </a:lnTo>
                  <a:lnTo>
                    <a:pt x="2264" y="553"/>
                  </a:lnTo>
                  <a:lnTo>
                    <a:pt x="2264" y="563"/>
                  </a:lnTo>
                  <a:lnTo>
                    <a:pt x="2273" y="564"/>
                  </a:lnTo>
                  <a:lnTo>
                    <a:pt x="2287" y="563"/>
                  </a:lnTo>
                  <a:lnTo>
                    <a:pt x="2294" y="570"/>
                  </a:lnTo>
                  <a:lnTo>
                    <a:pt x="2298" y="579"/>
                  </a:lnTo>
                  <a:lnTo>
                    <a:pt x="2311" y="582"/>
                  </a:lnTo>
                  <a:lnTo>
                    <a:pt x="2322" y="587"/>
                  </a:lnTo>
                  <a:lnTo>
                    <a:pt x="2324" y="592"/>
                  </a:lnTo>
                  <a:lnTo>
                    <a:pt x="2318" y="600"/>
                  </a:lnTo>
                  <a:lnTo>
                    <a:pt x="2314" y="610"/>
                  </a:lnTo>
                  <a:lnTo>
                    <a:pt x="2310" y="619"/>
                  </a:lnTo>
                  <a:lnTo>
                    <a:pt x="2310" y="628"/>
                  </a:lnTo>
                  <a:lnTo>
                    <a:pt x="2312" y="637"/>
                  </a:lnTo>
                  <a:lnTo>
                    <a:pt x="2319" y="646"/>
                  </a:lnTo>
                  <a:lnTo>
                    <a:pt x="2328" y="653"/>
                  </a:lnTo>
                  <a:lnTo>
                    <a:pt x="2339" y="659"/>
                  </a:lnTo>
                  <a:lnTo>
                    <a:pt x="2346" y="665"/>
                  </a:lnTo>
                  <a:lnTo>
                    <a:pt x="2347" y="675"/>
                  </a:lnTo>
                  <a:lnTo>
                    <a:pt x="2359" y="675"/>
                  </a:lnTo>
                  <a:lnTo>
                    <a:pt x="2357" y="665"/>
                  </a:lnTo>
                  <a:lnTo>
                    <a:pt x="2367" y="659"/>
                  </a:lnTo>
                  <a:lnTo>
                    <a:pt x="2375" y="653"/>
                  </a:lnTo>
                  <a:lnTo>
                    <a:pt x="2387" y="648"/>
                  </a:lnTo>
                  <a:lnTo>
                    <a:pt x="2395" y="640"/>
                  </a:lnTo>
                  <a:lnTo>
                    <a:pt x="2399" y="631"/>
                  </a:lnTo>
                  <a:lnTo>
                    <a:pt x="2403" y="622"/>
                  </a:lnTo>
                  <a:lnTo>
                    <a:pt x="2410" y="614"/>
                  </a:lnTo>
                  <a:lnTo>
                    <a:pt x="2416" y="605"/>
                  </a:lnTo>
                  <a:lnTo>
                    <a:pt x="2420" y="597"/>
                  </a:lnTo>
                  <a:lnTo>
                    <a:pt x="2424" y="588"/>
                  </a:lnTo>
                  <a:lnTo>
                    <a:pt x="2427" y="578"/>
                  </a:lnTo>
                  <a:lnTo>
                    <a:pt x="2431" y="570"/>
                  </a:lnTo>
                  <a:lnTo>
                    <a:pt x="2445" y="567"/>
                  </a:lnTo>
                  <a:lnTo>
                    <a:pt x="2455" y="572"/>
                  </a:lnTo>
                  <a:lnTo>
                    <a:pt x="2465" y="578"/>
                  </a:lnTo>
                  <a:lnTo>
                    <a:pt x="2476" y="584"/>
                  </a:lnTo>
                  <a:lnTo>
                    <a:pt x="2487" y="588"/>
                  </a:lnTo>
                  <a:lnTo>
                    <a:pt x="2500" y="591"/>
                  </a:lnTo>
                  <a:lnTo>
                    <a:pt x="2505" y="598"/>
                  </a:lnTo>
                  <a:lnTo>
                    <a:pt x="2504" y="607"/>
                  </a:lnTo>
                  <a:lnTo>
                    <a:pt x="2505" y="616"/>
                  </a:lnTo>
                  <a:lnTo>
                    <a:pt x="2510" y="625"/>
                  </a:lnTo>
                  <a:lnTo>
                    <a:pt x="2512" y="634"/>
                  </a:lnTo>
                  <a:lnTo>
                    <a:pt x="2514" y="645"/>
                  </a:lnTo>
                  <a:lnTo>
                    <a:pt x="2515" y="654"/>
                  </a:lnTo>
                  <a:lnTo>
                    <a:pt x="2518" y="663"/>
                  </a:lnTo>
                  <a:lnTo>
                    <a:pt x="2524" y="671"/>
                  </a:lnTo>
                  <a:lnTo>
                    <a:pt x="2531" y="679"/>
                  </a:lnTo>
                  <a:lnTo>
                    <a:pt x="2537" y="687"/>
                  </a:lnTo>
                  <a:lnTo>
                    <a:pt x="2563" y="718"/>
                  </a:lnTo>
                  <a:lnTo>
                    <a:pt x="2564" y="728"/>
                  </a:lnTo>
                  <a:lnTo>
                    <a:pt x="2561" y="737"/>
                  </a:lnTo>
                  <a:lnTo>
                    <a:pt x="2551" y="743"/>
                  </a:lnTo>
                  <a:lnTo>
                    <a:pt x="2549" y="752"/>
                  </a:lnTo>
                  <a:lnTo>
                    <a:pt x="2540" y="759"/>
                  </a:lnTo>
                  <a:lnTo>
                    <a:pt x="2532" y="766"/>
                  </a:lnTo>
                  <a:lnTo>
                    <a:pt x="2521" y="770"/>
                  </a:lnTo>
                  <a:lnTo>
                    <a:pt x="2514" y="778"/>
                  </a:lnTo>
                  <a:lnTo>
                    <a:pt x="2511" y="787"/>
                  </a:lnTo>
                  <a:lnTo>
                    <a:pt x="2504" y="795"/>
                  </a:lnTo>
                  <a:lnTo>
                    <a:pt x="2496" y="802"/>
                  </a:lnTo>
                  <a:lnTo>
                    <a:pt x="2486" y="797"/>
                  </a:lnTo>
                  <a:lnTo>
                    <a:pt x="2475" y="794"/>
                  </a:lnTo>
                  <a:lnTo>
                    <a:pt x="2462" y="796"/>
                  </a:lnTo>
                  <a:lnTo>
                    <a:pt x="2455" y="804"/>
                  </a:lnTo>
                  <a:lnTo>
                    <a:pt x="2447" y="809"/>
                  </a:lnTo>
                  <a:lnTo>
                    <a:pt x="2435" y="814"/>
                  </a:lnTo>
                  <a:lnTo>
                    <a:pt x="2426" y="820"/>
                  </a:lnTo>
                  <a:lnTo>
                    <a:pt x="2426" y="828"/>
                  </a:lnTo>
                  <a:lnTo>
                    <a:pt x="2438" y="834"/>
                  </a:lnTo>
                  <a:lnTo>
                    <a:pt x="2449" y="839"/>
                  </a:lnTo>
                  <a:lnTo>
                    <a:pt x="2456" y="845"/>
                  </a:lnTo>
                  <a:lnTo>
                    <a:pt x="2452" y="854"/>
                  </a:lnTo>
                  <a:lnTo>
                    <a:pt x="2441" y="862"/>
                  </a:lnTo>
                  <a:lnTo>
                    <a:pt x="2433" y="861"/>
                  </a:lnTo>
                  <a:lnTo>
                    <a:pt x="2423" y="853"/>
                  </a:lnTo>
                  <a:lnTo>
                    <a:pt x="2412" y="844"/>
                  </a:lnTo>
                  <a:lnTo>
                    <a:pt x="2403" y="842"/>
                  </a:lnTo>
                  <a:lnTo>
                    <a:pt x="2398" y="850"/>
                  </a:lnTo>
                  <a:lnTo>
                    <a:pt x="2391" y="860"/>
                  </a:lnTo>
                  <a:lnTo>
                    <a:pt x="2384" y="868"/>
                  </a:lnTo>
                  <a:lnTo>
                    <a:pt x="2377" y="876"/>
                  </a:lnTo>
                  <a:lnTo>
                    <a:pt x="2367" y="883"/>
                  </a:lnTo>
                  <a:lnTo>
                    <a:pt x="2361" y="891"/>
                  </a:lnTo>
                  <a:lnTo>
                    <a:pt x="2357" y="900"/>
                  </a:lnTo>
                  <a:lnTo>
                    <a:pt x="2354" y="909"/>
                  </a:lnTo>
                  <a:lnTo>
                    <a:pt x="2350" y="917"/>
                  </a:lnTo>
                  <a:lnTo>
                    <a:pt x="2345" y="926"/>
                  </a:lnTo>
                  <a:lnTo>
                    <a:pt x="2345" y="935"/>
                  </a:lnTo>
                  <a:lnTo>
                    <a:pt x="2343" y="945"/>
                  </a:lnTo>
                  <a:lnTo>
                    <a:pt x="2339" y="954"/>
                  </a:lnTo>
                  <a:lnTo>
                    <a:pt x="2336" y="963"/>
                  </a:lnTo>
                  <a:lnTo>
                    <a:pt x="2338" y="972"/>
                  </a:lnTo>
                  <a:lnTo>
                    <a:pt x="2342" y="980"/>
                  </a:lnTo>
                  <a:lnTo>
                    <a:pt x="2349" y="988"/>
                  </a:lnTo>
                  <a:lnTo>
                    <a:pt x="2352" y="997"/>
                  </a:lnTo>
                  <a:lnTo>
                    <a:pt x="2356" y="1006"/>
                  </a:lnTo>
                  <a:lnTo>
                    <a:pt x="2361" y="1015"/>
                  </a:lnTo>
                  <a:lnTo>
                    <a:pt x="2370" y="1022"/>
                  </a:lnTo>
                  <a:lnTo>
                    <a:pt x="2384" y="1024"/>
                  </a:lnTo>
                  <a:lnTo>
                    <a:pt x="2391" y="1029"/>
                  </a:lnTo>
                  <a:lnTo>
                    <a:pt x="2384" y="1038"/>
                  </a:lnTo>
                  <a:lnTo>
                    <a:pt x="2377" y="1046"/>
                  </a:lnTo>
                  <a:lnTo>
                    <a:pt x="2382" y="1054"/>
                  </a:lnTo>
                  <a:lnTo>
                    <a:pt x="2389" y="1062"/>
                  </a:lnTo>
                  <a:lnTo>
                    <a:pt x="2396" y="1070"/>
                  </a:lnTo>
                  <a:lnTo>
                    <a:pt x="2392" y="1077"/>
                  </a:lnTo>
                  <a:lnTo>
                    <a:pt x="2389" y="1084"/>
                  </a:lnTo>
                  <a:lnTo>
                    <a:pt x="2391" y="1091"/>
                  </a:lnTo>
                  <a:lnTo>
                    <a:pt x="2399" y="1099"/>
                  </a:lnTo>
                  <a:lnTo>
                    <a:pt x="2398" y="1109"/>
                  </a:lnTo>
                  <a:lnTo>
                    <a:pt x="2394" y="1118"/>
                  </a:lnTo>
                  <a:lnTo>
                    <a:pt x="2389" y="1126"/>
                  </a:lnTo>
                  <a:lnTo>
                    <a:pt x="2385" y="1135"/>
                  </a:lnTo>
                  <a:lnTo>
                    <a:pt x="2381" y="1144"/>
                  </a:lnTo>
                  <a:lnTo>
                    <a:pt x="2377" y="1153"/>
                  </a:lnTo>
                  <a:lnTo>
                    <a:pt x="2371" y="1161"/>
                  </a:lnTo>
                  <a:lnTo>
                    <a:pt x="2364" y="1169"/>
                  </a:lnTo>
                  <a:lnTo>
                    <a:pt x="2360" y="1178"/>
                  </a:lnTo>
                  <a:lnTo>
                    <a:pt x="2354" y="1183"/>
                  </a:lnTo>
                  <a:lnTo>
                    <a:pt x="2340" y="1183"/>
                  </a:lnTo>
                  <a:lnTo>
                    <a:pt x="2328" y="1181"/>
                  </a:lnTo>
                  <a:lnTo>
                    <a:pt x="2322" y="1174"/>
                  </a:lnTo>
                  <a:lnTo>
                    <a:pt x="2308" y="1174"/>
                  </a:lnTo>
                  <a:lnTo>
                    <a:pt x="2300" y="1180"/>
                  </a:lnTo>
                  <a:lnTo>
                    <a:pt x="2287" y="1182"/>
                  </a:lnTo>
                  <a:lnTo>
                    <a:pt x="2276" y="1179"/>
                  </a:lnTo>
                  <a:lnTo>
                    <a:pt x="2264" y="1178"/>
                  </a:lnTo>
                  <a:lnTo>
                    <a:pt x="2255" y="1182"/>
                  </a:lnTo>
                  <a:lnTo>
                    <a:pt x="2245" y="1188"/>
                  </a:lnTo>
                  <a:lnTo>
                    <a:pt x="2234" y="1190"/>
                  </a:lnTo>
                  <a:lnTo>
                    <a:pt x="2222" y="1191"/>
                  </a:lnTo>
                  <a:lnTo>
                    <a:pt x="2216" y="1203"/>
                  </a:lnTo>
                  <a:lnTo>
                    <a:pt x="2212" y="1212"/>
                  </a:lnTo>
                  <a:lnTo>
                    <a:pt x="2209" y="1221"/>
                  </a:lnTo>
                  <a:lnTo>
                    <a:pt x="2201" y="1228"/>
                  </a:lnTo>
                  <a:lnTo>
                    <a:pt x="2191" y="1234"/>
                  </a:lnTo>
                  <a:lnTo>
                    <a:pt x="2187" y="1243"/>
                  </a:lnTo>
                  <a:lnTo>
                    <a:pt x="2187" y="1252"/>
                  </a:lnTo>
                  <a:lnTo>
                    <a:pt x="2182" y="1261"/>
                  </a:lnTo>
                  <a:lnTo>
                    <a:pt x="2178" y="1270"/>
                  </a:lnTo>
                  <a:lnTo>
                    <a:pt x="2170" y="1277"/>
                  </a:lnTo>
                  <a:lnTo>
                    <a:pt x="2163" y="1285"/>
                  </a:lnTo>
                  <a:lnTo>
                    <a:pt x="2154" y="1292"/>
                  </a:lnTo>
                  <a:lnTo>
                    <a:pt x="2150" y="1301"/>
                  </a:lnTo>
                  <a:lnTo>
                    <a:pt x="2143" y="1308"/>
                  </a:lnTo>
                  <a:lnTo>
                    <a:pt x="2135" y="1315"/>
                  </a:lnTo>
                  <a:lnTo>
                    <a:pt x="2132" y="1324"/>
                  </a:lnTo>
                  <a:lnTo>
                    <a:pt x="2129" y="1333"/>
                  </a:lnTo>
                  <a:lnTo>
                    <a:pt x="2127" y="1343"/>
                  </a:lnTo>
                  <a:lnTo>
                    <a:pt x="2125" y="1352"/>
                  </a:lnTo>
                  <a:lnTo>
                    <a:pt x="2121" y="1361"/>
                  </a:lnTo>
                  <a:lnTo>
                    <a:pt x="2118" y="1368"/>
                  </a:lnTo>
                  <a:lnTo>
                    <a:pt x="2110" y="1372"/>
                  </a:lnTo>
                  <a:lnTo>
                    <a:pt x="2103" y="1379"/>
                  </a:lnTo>
                  <a:lnTo>
                    <a:pt x="2114" y="1390"/>
                  </a:lnTo>
                  <a:lnTo>
                    <a:pt x="2125" y="1394"/>
                  </a:lnTo>
                  <a:lnTo>
                    <a:pt x="2122" y="1402"/>
                  </a:lnTo>
                  <a:lnTo>
                    <a:pt x="2120" y="1411"/>
                  </a:lnTo>
                  <a:lnTo>
                    <a:pt x="2111" y="1418"/>
                  </a:lnTo>
                  <a:lnTo>
                    <a:pt x="2100" y="1422"/>
                  </a:lnTo>
                  <a:lnTo>
                    <a:pt x="2090" y="1428"/>
                  </a:lnTo>
                  <a:lnTo>
                    <a:pt x="2082" y="1435"/>
                  </a:lnTo>
                  <a:lnTo>
                    <a:pt x="2079" y="1444"/>
                  </a:lnTo>
                  <a:lnTo>
                    <a:pt x="2075" y="1452"/>
                  </a:lnTo>
                  <a:lnTo>
                    <a:pt x="2068" y="1460"/>
                  </a:lnTo>
                  <a:lnTo>
                    <a:pt x="2064" y="1469"/>
                  </a:lnTo>
                  <a:lnTo>
                    <a:pt x="2055" y="1476"/>
                  </a:lnTo>
                  <a:lnTo>
                    <a:pt x="2054" y="1485"/>
                  </a:lnTo>
                  <a:lnTo>
                    <a:pt x="2051" y="1494"/>
                  </a:lnTo>
                  <a:lnTo>
                    <a:pt x="2048" y="1503"/>
                  </a:lnTo>
                  <a:lnTo>
                    <a:pt x="2050" y="1512"/>
                  </a:lnTo>
                  <a:lnTo>
                    <a:pt x="2062" y="1515"/>
                  </a:lnTo>
                  <a:lnTo>
                    <a:pt x="2071" y="1520"/>
                  </a:lnTo>
                  <a:lnTo>
                    <a:pt x="2072" y="1529"/>
                  </a:lnTo>
                  <a:lnTo>
                    <a:pt x="2073" y="1538"/>
                  </a:lnTo>
                  <a:lnTo>
                    <a:pt x="2075" y="1548"/>
                  </a:lnTo>
                  <a:lnTo>
                    <a:pt x="2075" y="1557"/>
                  </a:lnTo>
                  <a:lnTo>
                    <a:pt x="2075" y="1568"/>
                  </a:lnTo>
                  <a:lnTo>
                    <a:pt x="2075" y="1577"/>
                  </a:lnTo>
                  <a:lnTo>
                    <a:pt x="2072" y="1586"/>
                  </a:lnTo>
                  <a:lnTo>
                    <a:pt x="2059" y="1589"/>
                  </a:lnTo>
                  <a:lnTo>
                    <a:pt x="2048" y="1594"/>
                  </a:lnTo>
                  <a:lnTo>
                    <a:pt x="2043" y="1602"/>
                  </a:lnTo>
                  <a:lnTo>
                    <a:pt x="2033" y="1607"/>
                  </a:lnTo>
                  <a:lnTo>
                    <a:pt x="2020" y="1604"/>
                  </a:lnTo>
                  <a:lnTo>
                    <a:pt x="2017" y="1613"/>
                  </a:lnTo>
                  <a:lnTo>
                    <a:pt x="2006" y="1614"/>
                  </a:lnTo>
                  <a:lnTo>
                    <a:pt x="1994" y="1616"/>
                  </a:lnTo>
                  <a:lnTo>
                    <a:pt x="1990" y="1624"/>
                  </a:lnTo>
                  <a:lnTo>
                    <a:pt x="1985" y="1632"/>
                  </a:lnTo>
                  <a:lnTo>
                    <a:pt x="1981" y="1639"/>
                  </a:lnTo>
                  <a:lnTo>
                    <a:pt x="1978" y="1649"/>
                  </a:lnTo>
                  <a:lnTo>
                    <a:pt x="1976" y="1658"/>
                  </a:lnTo>
                  <a:lnTo>
                    <a:pt x="1973" y="1667"/>
                  </a:lnTo>
                  <a:lnTo>
                    <a:pt x="1969" y="1676"/>
                  </a:lnTo>
                  <a:lnTo>
                    <a:pt x="1966" y="1685"/>
                  </a:lnTo>
                  <a:lnTo>
                    <a:pt x="1969" y="1693"/>
                  </a:lnTo>
                  <a:lnTo>
                    <a:pt x="1966" y="1702"/>
                  </a:lnTo>
                  <a:lnTo>
                    <a:pt x="1962" y="1711"/>
                  </a:lnTo>
                  <a:lnTo>
                    <a:pt x="1952" y="1714"/>
                  </a:lnTo>
                  <a:lnTo>
                    <a:pt x="1949" y="1723"/>
                  </a:lnTo>
                  <a:lnTo>
                    <a:pt x="1946" y="1732"/>
                  </a:lnTo>
                  <a:lnTo>
                    <a:pt x="1949" y="1739"/>
                  </a:lnTo>
                  <a:lnTo>
                    <a:pt x="1952" y="1745"/>
                  </a:lnTo>
                  <a:lnTo>
                    <a:pt x="1952" y="1753"/>
                  </a:lnTo>
                  <a:lnTo>
                    <a:pt x="1941" y="1755"/>
                  </a:lnTo>
                  <a:lnTo>
                    <a:pt x="1928" y="1753"/>
                  </a:lnTo>
                  <a:lnTo>
                    <a:pt x="1915" y="1752"/>
                  </a:lnTo>
                  <a:lnTo>
                    <a:pt x="1903" y="1752"/>
                  </a:lnTo>
                  <a:lnTo>
                    <a:pt x="1890" y="1754"/>
                  </a:lnTo>
                  <a:lnTo>
                    <a:pt x="1878" y="1757"/>
                  </a:lnTo>
                  <a:lnTo>
                    <a:pt x="1865" y="1760"/>
                  </a:lnTo>
                  <a:lnTo>
                    <a:pt x="1853" y="1764"/>
                  </a:lnTo>
                  <a:lnTo>
                    <a:pt x="1840" y="1768"/>
                  </a:lnTo>
                  <a:lnTo>
                    <a:pt x="1829" y="1772"/>
                  </a:lnTo>
                  <a:lnTo>
                    <a:pt x="1819" y="1777"/>
                  </a:lnTo>
                  <a:lnTo>
                    <a:pt x="1813" y="1786"/>
                  </a:lnTo>
                  <a:lnTo>
                    <a:pt x="1806" y="1794"/>
                  </a:lnTo>
                  <a:lnTo>
                    <a:pt x="1801" y="1802"/>
                  </a:lnTo>
                  <a:lnTo>
                    <a:pt x="1795" y="1810"/>
                  </a:lnTo>
                  <a:lnTo>
                    <a:pt x="1802" y="1819"/>
                  </a:lnTo>
                  <a:lnTo>
                    <a:pt x="1802" y="1827"/>
                  </a:lnTo>
                  <a:lnTo>
                    <a:pt x="1790" y="1831"/>
                  </a:lnTo>
                  <a:lnTo>
                    <a:pt x="1783" y="1835"/>
                  </a:lnTo>
                  <a:lnTo>
                    <a:pt x="1774" y="1840"/>
                  </a:lnTo>
                  <a:lnTo>
                    <a:pt x="1783" y="1848"/>
                  </a:lnTo>
                  <a:lnTo>
                    <a:pt x="1773" y="1853"/>
                  </a:lnTo>
                  <a:lnTo>
                    <a:pt x="1767" y="1858"/>
                  </a:lnTo>
                  <a:lnTo>
                    <a:pt x="1757" y="1863"/>
                  </a:lnTo>
                  <a:lnTo>
                    <a:pt x="1755" y="1869"/>
                  </a:lnTo>
                  <a:lnTo>
                    <a:pt x="1743" y="1874"/>
                  </a:lnTo>
                  <a:lnTo>
                    <a:pt x="1741" y="1883"/>
                  </a:lnTo>
                  <a:lnTo>
                    <a:pt x="1734" y="1889"/>
                  </a:lnTo>
                  <a:lnTo>
                    <a:pt x="1720" y="1889"/>
                  </a:lnTo>
                  <a:lnTo>
                    <a:pt x="1707" y="1892"/>
                  </a:lnTo>
                  <a:lnTo>
                    <a:pt x="1697" y="1897"/>
                  </a:lnTo>
                  <a:lnTo>
                    <a:pt x="1683" y="1898"/>
                  </a:lnTo>
                  <a:lnTo>
                    <a:pt x="1672" y="1899"/>
                  </a:lnTo>
                  <a:lnTo>
                    <a:pt x="1676" y="1908"/>
                  </a:lnTo>
                  <a:lnTo>
                    <a:pt x="1682" y="1917"/>
                  </a:lnTo>
                  <a:lnTo>
                    <a:pt x="1688" y="1926"/>
                  </a:lnTo>
                  <a:lnTo>
                    <a:pt x="1695" y="1934"/>
                  </a:lnTo>
                  <a:lnTo>
                    <a:pt x="1683" y="1939"/>
                  </a:lnTo>
                  <a:lnTo>
                    <a:pt x="1669" y="1942"/>
                  </a:lnTo>
                  <a:lnTo>
                    <a:pt x="1657" y="1944"/>
                  </a:lnTo>
                  <a:lnTo>
                    <a:pt x="1650" y="1937"/>
                  </a:lnTo>
                  <a:lnTo>
                    <a:pt x="1643" y="1935"/>
                  </a:lnTo>
                  <a:lnTo>
                    <a:pt x="1634" y="1943"/>
                  </a:lnTo>
                  <a:lnTo>
                    <a:pt x="1634" y="1952"/>
                  </a:lnTo>
                  <a:lnTo>
                    <a:pt x="1622" y="1955"/>
                  </a:lnTo>
                  <a:lnTo>
                    <a:pt x="1627" y="1963"/>
                  </a:lnTo>
                  <a:lnTo>
                    <a:pt x="1620" y="1968"/>
                  </a:lnTo>
                  <a:lnTo>
                    <a:pt x="1612" y="1975"/>
                  </a:lnTo>
                  <a:lnTo>
                    <a:pt x="1601" y="1980"/>
                  </a:lnTo>
                  <a:lnTo>
                    <a:pt x="1594" y="1988"/>
                  </a:lnTo>
                  <a:lnTo>
                    <a:pt x="1583" y="1992"/>
                  </a:lnTo>
                  <a:lnTo>
                    <a:pt x="1570" y="1991"/>
                  </a:lnTo>
                  <a:lnTo>
                    <a:pt x="1556" y="1990"/>
                  </a:lnTo>
                  <a:lnTo>
                    <a:pt x="1544" y="1989"/>
                  </a:lnTo>
                  <a:lnTo>
                    <a:pt x="1531" y="1988"/>
                  </a:lnTo>
                  <a:lnTo>
                    <a:pt x="1521" y="1982"/>
                  </a:lnTo>
                  <a:lnTo>
                    <a:pt x="1516" y="1989"/>
                  </a:lnTo>
                  <a:lnTo>
                    <a:pt x="1514" y="1999"/>
                  </a:lnTo>
                  <a:lnTo>
                    <a:pt x="1507" y="2006"/>
                  </a:lnTo>
                  <a:lnTo>
                    <a:pt x="1499" y="2013"/>
                  </a:lnTo>
                  <a:lnTo>
                    <a:pt x="1493" y="2023"/>
                  </a:lnTo>
                  <a:lnTo>
                    <a:pt x="1492" y="2032"/>
                  </a:lnTo>
                  <a:lnTo>
                    <a:pt x="1495" y="2041"/>
                  </a:lnTo>
                  <a:lnTo>
                    <a:pt x="1500" y="2049"/>
                  </a:lnTo>
                  <a:lnTo>
                    <a:pt x="1506" y="2058"/>
                  </a:lnTo>
                  <a:lnTo>
                    <a:pt x="1511" y="2067"/>
                  </a:lnTo>
                  <a:lnTo>
                    <a:pt x="1504" y="2071"/>
                  </a:lnTo>
                  <a:lnTo>
                    <a:pt x="1490" y="2073"/>
                  </a:lnTo>
                  <a:lnTo>
                    <a:pt x="1478" y="2073"/>
                  </a:lnTo>
                  <a:lnTo>
                    <a:pt x="1467" y="2071"/>
                  </a:lnTo>
                  <a:lnTo>
                    <a:pt x="1458" y="2078"/>
                  </a:lnTo>
                  <a:lnTo>
                    <a:pt x="1460" y="2087"/>
                  </a:lnTo>
                  <a:lnTo>
                    <a:pt x="1449" y="2092"/>
                  </a:lnTo>
                  <a:lnTo>
                    <a:pt x="1442" y="2085"/>
                  </a:lnTo>
                  <a:lnTo>
                    <a:pt x="1432" y="2081"/>
                  </a:lnTo>
                  <a:lnTo>
                    <a:pt x="1419" y="2085"/>
                  </a:lnTo>
                  <a:lnTo>
                    <a:pt x="1407" y="2088"/>
                  </a:lnTo>
                  <a:lnTo>
                    <a:pt x="1395" y="2092"/>
                  </a:lnTo>
                  <a:lnTo>
                    <a:pt x="1383" y="2089"/>
                  </a:lnTo>
                  <a:lnTo>
                    <a:pt x="1376" y="2096"/>
                  </a:lnTo>
                  <a:lnTo>
                    <a:pt x="1367" y="2103"/>
                  </a:lnTo>
                  <a:lnTo>
                    <a:pt x="1362" y="2111"/>
                  </a:lnTo>
                  <a:lnTo>
                    <a:pt x="1353" y="2108"/>
                  </a:lnTo>
                  <a:lnTo>
                    <a:pt x="1342" y="2110"/>
                  </a:lnTo>
                  <a:lnTo>
                    <a:pt x="1337" y="2102"/>
                  </a:lnTo>
                  <a:lnTo>
                    <a:pt x="1331" y="2096"/>
                  </a:lnTo>
                  <a:lnTo>
                    <a:pt x="1319" y="2092"/>
                  </a:lnTo>
                  <a:lnTo>
                    <a:pt x="1305" y="2088"/>
                  </a:lnTo>
                  <a:lnTo>
                    <a:pt x="1292" y="2085"/>
                  </a:lnTo>
                  <a:lnTo>
                    <a:pt x="1279" y="2084"/>
                  </a:lnTo>
                  <a:lnTo>
                    <a:pt x="1270" y="2085"/>
                  </a:lnTo>
                  <a:lnTo>
                    <a:pt x="1260" y="2093"/>
                  </a:lnTo>
                  <a:lnTo>
                    <a:pt x="1251" y="2102"/>
                  </a:lnTo>
                  <a:lnTo>
                    <a:pt x="1244" y="2109"/>
                  </a:lnTo>
                  <a:lnTo>
                    <a:pt x="1242" y="2105"/>
                  </a:lnTo>
                  <a:lnTo>
                    <a:pt x="1244" y="2095"/>
                  </a:lnTo>
                  <a:lnTo>
                    <a:pt x="1250" y="2089"/>
                  </a:lnTo>
                  <a:lnTo>
                    <a:pt x="1253" y="2082"/>
                  </a:lnTo>
                  <a:lnTo>
                    <a:pt x="1268" y="2081"/>
                  </a:lnTo>
                  <a:lnTo>
                    <a:pt x="1272" y="2074"/>
                  </a:lnTo>
                  <a:lnTo>
                    <a:pt x="1271" y="2064"/>
                  </a:lnTo>
                  <a:lnTo>
                    <a:pt x="1265" y="2055"/>
                  </a:lnTo>
                  <a:lnTo>
                    <a:pt x="1254" y="2055"/>
                  </a:lnTo>
                  <a:lnTo>
                    <a:pt x="1240" y="2059"/>
                  </a:lnTo>
                  <a:lnTo>
                    <a:pt x="1232" y="2053"/>
                  </a:lnTo>
                  <a:lnTo>
                    <a:pt x="1223" y="2048"/>
                  </a:lnTo>
                  <a:lnTo>
                    <a:pt x="1211" y="2045"/>
                  </a:lnTo>
                  <a:lnTo>
                    <a:pt x="1198" y="2045"/>
                  </a:lnTo>
                  <a:lnTo>
                    <a:pt x="1184" y="2045"/>
                  </a:lnTo>
                  <a:lnTo>
                    <a:pt x="1172" y="2044"/>
                  </a:lnTo>
                  <a:lnTo>
                    <a:pt x="1159" y="2043"/>
                  </a:lnTo>
                  <a:lnTo>
                    <a:pt x="1147" y="2042"/>
                  </a:lnTo>
                  <a:lnTo>
                    <a:pt x="1133" y="2042"/>
                  </a:lnTo>
                  <a:lnTo>
                    <a:pt x="1120" y="2042"/>
                  </a:lnTo>
                  <a:lnTo>
                    <a:pt x="1107" y="2041"/>
                  </a:lnTo>
                  <a:lnTo>
                    <a:pt x="1095" y="2038"/>
                  </a:lnTo>
                  <a:lnTo>
                    <a:pt x="1084" y="2034"/>
                  </a:lnTo>
                  <a:lnTo>
                    <a:pt x="1071" y="2030"/>
                  </a:lnTo>
                  <a:lnTo>
                    <a:pt x="1060" y="2026"/>
                  </a:lnTo>
                  <a:lnTo>
                    <a:pt x="1047" y="2022"/>
                  </a:lnTo>
                  <a:lnTo>
                    <a:pt x="1035" y="2019"/>
                  </a:lnTo>
                  <a:lnTo>
                    <a:pt x="1024" y="2015"/>
                  </a:lnTo>
                  <a:lnTo>
                    <a:pt x="1011" y="2012"/>
                  </a:lnTo>
                  <a:lnTo>
                    <a:pt x="998" y="2009"/>
                  </a:lnTo>
                  <a:lnTo>
                    <a:pt x="986" y="2005"/>
                  </a:lnTo>
                  <a:lnTo>
                    <a:pt x="975" y="2002"/>
                  </a:lnTo>
                  <a:lnTo>
                    <a:pt x="962" y="1998"/>
                  </a:lnTo>
                  <a:lnTo>
                    <a:pt x="951" y="1994"/>
                  </a:lnTo>
                  <a:lnTo>
                    <a:pt x="938" y="1990"/>
                  </a:lnTo>
                  <a:lnTo>
                    <a:pt x="926" y="1988"/>
                  </a:lnTo>
                  <a:lnTo>
                    <a:pt x="913" y="1986"/>
                  </a:lnTo>
                  <a:lnTo>
                    <a:pt x="902" y="1982"/>
                  </a:lnTo>
                  <a:lnTo>
                    <a:pt x="889" y="1981"/>
                  </a:lnTo>
                  <a:lnTo>
                    <a:pt x="880" y="1979"/>
                  </a:lnTo>
                  <a:lnTo>
                    <a:pt x="871" y="1971"/>
                  </a:lnTo>
                  <a:lnTo>
                    <a:pt x="864" y="1963"/>
                  </a:lnTo>
                  <a:lnTo>
                    <a:pt x="857" y="1955"/>
                  </a:lnTo>
                  <a:lnTo>
                    <a:pt x="852" y="1948"/>
                  </a:lnTo>
                  <a:lnTo>
                    <a:pt x="854" y="1938"/>
                  </a:lnTo>
                  <a:lnTo>
                    <a:pt x="860" y="1930"/>
                  </a:lnTo>
                  <a:lnTo>
                    <a:pt x="864" y="1921"/>
                  </a:lnTo>
                  <a:lnTo>
                    <a:pt x="863" y="1912"/>
                  </a:lnTo>
                  <a:lnTo>
                    <a:pt x="859" y="1903"/>
                  </a:lnTo>
                  <a:lnTo>
                    <a:pt x="850" y="1871"/>
                  </a:lnTo>
                  <a:lnTo>
                    <a:pt x="866" y="1865"/>
                  </a:lnTo>
                  <a:lnTo>
                    <a:pt x="877" y="1860"/>
                  </a:lnTo>
                  <a:lnTo>
                    <a:pt x="888" y="1855"/>
                  </a:lnTo>
                  <a:lnTo>
                    <a:pt x="899" y="1850"/>
                  </a:lnTo>
                  <a:lnTo>
                    <a:pt x="910" y="1845"/>
                  </a:lnTo>
                  <a:lnTo>
                    <a:pt x="921" y="1840"/>
                  </a:lnTo>
                  <a:lnTo>
                    <a:pt x="933" y="1835"/>
                  </a:lnTo>
                  <a:lnTo>
                    <a:pt x="944" y="1830"/>
                  </a:lnTo>
                  <a:lnTo>
                    <a:pt x="954" y="1825"/>
                  </a:lnTo>
                  <a:lnTo>
                    <a:pt x="963" y="1819"/>
                  </a:lnTo>
                  <a:lnTo>
                    <a:pt x="969" y="1811"/>
                  </a:lnTo>
                  <a:lnTo>
                    <a:pt x="966" y="1801"/>
                  </a:lnTo>
                  <a:lnTo>
                    <a:pt x="963" y="1792"/>
                  </a:lnTo>
                  <a:lnTo>
                    <a:pt x="956" y="1784"/>
                  </a:lnTo>
                  <a:lnTo>
                    <a:pt x="966" y="1778"/>
                  </a:lnTo>
                  <a:lnTo>
                    <a:pt x="979" y="1773"/>
                  </a:lnTo>
                  <a:lnTo>
                    <a:pt x="989" y="1768"/>
                  </a:lnTo>
                  <a:lnTo>
                    <a:pt x="982" y="1760"/>
                  </a:lnTo>
                  <a:lnTo>
                    <a:pt x="980" y="1751"/>
                  </a:lnTo>
                  <a:lnTo>
                    <a:pt x="980" y="1742"/>
                  </a:lnTo>
                  <a:lnTo>
                    <a:pt x="979" y="1733"/>
                  </a:lnTo>
                  <a:lnTo>
                    <a:pt x="968" y="1731"/>
                  </a:lnTo>
                  <a:lnTo>
                    <a:pt x="966" y="1722"/>
                  </a:lnTo>
                  <a:lnTo>
                    <a:pt x="968" y="1713"/>
                  </a:lnTo>
                  <a:lnTo>
                    <a:pt x="972" y="1704"/>
                  </a:lnTo>
                  <a:lnTo>
                    <a:pt x="975" y="1695"/>
                  </a:lnTo>
                  <a:lnTo>
                    <a:pt x="973" y="1686"/>
                  </a:lnTo>
                  <a:lnTo>
                    <a:pt x="962" y="1691"/>
                  </a:lnTo>
                  <a:lnTo>
                    <a:pt x="949" y="1692"/>
                  </a:lnTo>
                  <a:lnTo>
                    <a:pt x="937" y="1693"/>
                  </a:lnTo>
                  <a:lnTo>
                    <a:pt x="923" y="1693"/>
                  </a:lnTo>
                  <a:lnTo>
                    <a:pt x="910" y="1694"/>
                  </a:lnTo>
                  <a:lnTo>
                    <a:pt x="898" y="1694"/>
                  </a:lnTo>
                  <a:lnTo>
                    <a:pt x="885" y="1694"/>
                  </a:lnTo>
                  <a:lnTo>
                    <a:pt x="873" y="1689"/>
                  </a:lnTo>
                  <a:lnTo>
                    <a:pt x="863" y="1684"/>
                  </a:lnTo>
                  <a:lnTo>
                    <a:pt x="850" y="1683"/>
                  </a:lnTo>
                  <a:lnTo>
                    <a:pt x="829" y="1687"/>
                  </a:lnTo>
                  <a:lnTo>
                    <a:pt x="821" y="1680"/>
                  </a:lnTo>
                  <a:lnTo>
                    <a:pt x="812" y="1672"/>
                  </a:lnTo>
                  <a:lnTo>
                    <a:pt x="803" y="1665"/>
                  </a:lnTo>
                  <a:lnTo>
                    <a:pt x="791" y="1661"/>
                  </a:lnTo>
                  <a:lnTo>
                    <a:pt x="779" y="1659"/>
                  </a:lnTo>
                  <a:lnTo>
                    <a:pt x="766" y="1657"/>
                  </a:lnTo>
                  <a:lnTo>
                    <a:pt x="754" y="1655"/>
                  </a:lnTo>
                  <a:lnTo>
                    <a:pt x="741" y="1654"/>
                  </a:lnTo>
                  <a:lnTo>
                    <a:pt x="729" y="1652"/>
                  </a:lnTo>
                  <a:lnTo>
                    <a:pt x="715" y="1651"/>
                  </a:lnTo>
                  <a:lnTo>
                    <a:pt x="702" y="1650"/>
                  </a:lnTo>
                  <a:lnTo>
                    <a:pt x="688" y="1649"/>
                  </a:lnTo>
                  <a:lnTo>
                    <a:pt x="675" y="1648"/>
                  </a:lnTo>
                  <a:lnTo>
                    <a:pt x="663" y="1647"/>
                  </a:lnTo>
                  <a:lnTo>
                    <a:pt x="649" y="1646"/>
                  </a:lnTo>
                  <a:lnTo>
                    <a:pt x="636" y="1645"/>
                  </a:lnTo>
                  <a:lnTo>
                    <a:pt x="624" y="1642"/>
                  </a:lnTo>
                  <a:lnTo>
                    <a:pt x="614" y="1636"/>
                  </a:lnTo>
                  <a:lnTo>
                    <a:pt x="603" y="1630"/>
                  </a:lnTo>
                  <a:lnTo>
                    <a:pt x="593" y="1625"/>
                  </a:lnTo>
                  <a:lnTo>
                    <a:pt x="583" y="1619"/>
                  </a:lnTo>
                  <a:lnTo>
                    <a:pt x="572" y="1613"/>
                  </a:lnTo>
                  <a:lnTo>
                    <a:pt x="562" y="1608"/>
                  </a:lnTo>
                  <a:lnTo>
                    <a:pt x="551" y="1602"/>
                  </a:lnTo>
                  <a:lnTo>
                    <a:pt x="541" y="1596"/>
                  </a:lnTo>
                  <a:lnTo>
                    <a:pt x="531" y="1591"/>
                  </a:lnTo>
                  <a:lnTo>
                    <a:pt x="520" y="1585"/>
                  </a:lnTo>
                  <a:lnTo>
                    <a:pt x="511" y="1579"/>
                  </a:lnTo>
                  <a:lnTo>
                    <a:pt x="498" y="1578"/>
                  </a:lnTo>
                  <a:lnTo>
                    <a:pt x="499" y="1586"/>
                  </a:lnTo>
                  <a:lnTo>
                    <a:pt x="505" y="1596"/>
                  </a:lnTo>
                  <a:lnTo>
                    <a:pt x="508" y="1605"/>
                  </a:lnTo>
                  <a:lnTo>
                    <a:pt x="495" y="1609"/>
                  </a:lnTo>
                  <a:lnTo>
                    <a:pt x="483" y="1611"/>
                  </a:lnTo>
                  <a:lnTo>
                    <a:pt x="474" y="1604"/>
                  </a:lnTo>
                  <a:lnTo>
                    <a:pt x="467" y="1596"/>
                  </a:lnTo>
                  <a:lnTo>
                    <a:pt x="460" y="1588"/>
                  </a:lnTo>
                  <a:lnTo>
                    <a:pt x="452" y="1581"/>
                  </a:lnTo>
                  <a:lnTo>
                    <a:pt x="445" y="1573"/>
                  </a:lnTo>
                  <a:lnTo>
                    <a:pt x="436" y="1566"/>
                  </a:lnTo>
                  <a:lnTo>
                    <a:pt x="429" y="1557"/>
                  </a:lnTo>
                  <a:lnTo>
                    <a:pt x="421" y="1550"/>
                  </a:lnTo>
                  <a:lnTo>
                    <a:pt x="414" y="1543"/>
                  </a:lnTo>
                  <a:lnTo>
                    <a:pt x="401" y="1542"/>
                  </a:lnTo>
                  <a:lnTo>
                    <a:pt x="396" y="1533"/>
                  </a:lnTo>
                  <a:lnTo>
                    <a:pt x="386" y="1530"/>
                  </a:lnTo>
                  <a:lnTo>
                    <a:pt x="374" y="1529"/>
                  </a:lnTo>
                  <a:lnTo>
                    <a:pt x="360" y="1529"/>
                  </a:lnTo>
                  <a:lnTo>
                    <a:pt x="368" y="1521"/>
                  </a:lnTo>
                  <a:lnTo>
                    <a:pt x="375" y="1514"/>
                  </a:lnTo>
                  <a:lnTo>
                    <a:pt x="385" y="1507"/>
                  </a:lnTo>
                  <a:lnTo>
                    <a:pt x="396" y="1501"/>
                  </a:lnTo>
                  <a:lnTo>
                    <a:pt x="404" y="1495"/>
                  </a:lnTo>
                  <a:lnTo>
                    <a:pt x="408" y="1486"/>
                  </a:lnTo>
                  <a:lnTo>
                    <a:pt x="411" y="1477"/>
                  </a:lnTo>
                  <a:lnTo>
                    <a:pt x="413" y="1468"/>
                  </a:lnTo>
                  <a:lnTo>
                    <a:pt x="413" y="1459"/>
                  </a:lnTo>
                  <a:lnTo>
                    <a:pt x="414" y="1450"/>
                  </a:lnTo>
                  <a:lnTo>
                    <a:pt x="414" y="1440"/>
                  </a:lnTo>
                  <a:lnTo>
                    <a:pt x="414" y="1431"/>
                  </a:lnTo>
                  <a:lnTo>
                    <a:pt x="414" y="1421"/>
                  </a:lnTo>
                  <a:lnTo>
                    <a:pt x="414" y="1412"/>
                  </a:lnTo>
                  <a:lnTo>
                    <a:pt x="414" y="1402"/>
                  </a:lnTo>
                  <a:lnTo>
                    <a:pt x="415" y="1393"/>
                  </a:lnTo>
                  <a:lnTo>
                    <a:pt x="415" y="1384"/>
                  </a:lnTo>
                  <a:lnTo>
                    <a:pt x="417" y="1374"/>
                  </a:lnTo>
                  <a:lnTo>
                    <a:pt x="417" y="1365"/>
                  </a:lnTo>
                  <a:lnTo>
                    <a:pt x="418" y="1356"/>
                  </a:lnTo>
                  <a:lnTo>
                    <a:pt x="418" y="1346"/>
                  </a:lnTo>
                  <a:lnTo>
                    <a:pt x="420" y="1337"/>
                  </a:lnTo>
                  <a:lnTo>
                    <a:pt x="420" y="1328"/>
                  </a:lnTo>
                  <a:lnTo>
                    <a:pt x="421" y="1319"/>
                  </a:lnTo>
                  <a:lnTo>
                    <a:pt x="422" y="1309"/>
                  </a:lnTo>
                  <a:lnTo>
                    <a:pt x="422" y="1297"/>
                  </a:lnTo>
                  <a:lnTo>
                    <a:pt x="425" y="1281"/>
                  </a:lnTo>
                  <a:lnTo>
                    <a:pt x="425" y="1272"/>
                  </a:lnTo>
                  <a:lnTo>
                    <a:pt x="422" y="1263"/>
                  </a:lnTo>
                  <a:lnTo>
                    <a:pt x="418" y="1254"/>
                  </a:lnTo>
                  <a:lnTo>
                    <a:pt x="413" y="1246"/>
                  </a:lnTo>
                  <a:lnTo>
                    <a:pt x="408" y="1237"/>
                  </a:lnTo>
                  <a:lnTo>
                    <a:pt x="408" y="1228"/>
                  </a:lnTo>
                  <a:lnTo>
                    <a:pt x="403" y="1220"/>
                  </a:lnTo>
                  <a:lnTo>
                    <a:pt x="400" y="1211"/>
                  </a:lnTo>
                  <a:lnTo>
                    <a:pt x="399" y="1202"/>
                  </a:lnTo>
                  <a:lnTo>
                    <a:pt x="397" y="1193"/>
                  </a:lnTo>
                  <a:lnTo>
                    <a:pt x="396" y="1184"/>
                  </a:lnTo>
                  <a:lnTo>
                    <a:pt x="393" y="1175"/>
                  </a:lnTo>
                  <a:lnTo>
                    <a:pt x="390" y="1166"/>
                  </a:lnTo>
                  <a:lnTo>
                    <a:pt x="387" y="1157"/>
                  </a:lnTo>
                  <a:lnTo>
                    <a:pt x="385" y="1147"/>
                  </a:lnTo>
                  <a:lnTo>
                    <a:pt x="382" y="1138"/>
                  </a:lnTo>
                  <a:lnTo>
                    <a:pt x="379" y="1129"/>
                  </a:lnTo>
                  <a:lnTo>
                    <a:pt x="376" y="1120"/>
                  </a:lnTo>
                  <a:lnTo>
                    <a:pt x="374" y="1111"/>
                  </a:lnTo>
                  <a:lnTo>
                    <a:pt x="371" y="1102"/>
                  </a:lnTo>
                  <a:lnTo>
                    <a:pt x="368" y="1092"/>
                  </a:lnTo>
                  <a:lnTo>
                    <a:pt x="367" y="1083"/>
                  </a:lnTo>
                  <a:lnTo>
                    <a:pt x="364" y="1073"/>
                  </a:lnTo>
                  <a:lnTo>
                    <a:pt x="361" y="1064"/>
                  </a:lnTo>
                  <a:lnTo>
                    <a:pt x="355" y="1056"/>
                  </a:lnTo>
                  <a:lnTo>
                    <a:pt x="353" y="1047"/>
                  </a:lnTo>
                  <a:lnTo>
                    <a:pt x="351" y="1038"/>
                  </a:lnTo>
                  <a:lnTo>
                    <a:pt x="348" y="1029"/>
                  </a:lnTo>
                  <a:lnTo>
                    <a:pt x="348" y="1020"/>
                  </a:lnTo>
                  <a:lnTo>
                    <a:pt x="351" y="1011"/>
                  </a:lnTo>
                  <a:lnTo>
                    <a:pt x="357" y="1002"/>
                  </a:lnTo>
                  <a:lnTo>
                    <a:pt x="367" y="996"/>
                  </a:lnTo>
                  <a:lnTo>
                    <a:pt x="368" y="990"/>
                  </a:lnTo>
                  <a:lnTo>
                    <a:pt x="357" y="984"/>
                  </a:lnTo>
                  <a:lnTo>
                    <a:pt x="346" y="980"/>
                  </a:lnTo>
                  <a:lnTo>
                    <a:pt x="343" y="971"/>
                  </a:lnTo>
                  <a:lnTo>
                    <a:pt x="341" y="962"/>
                  </a:lnTo>
                  <a:lnTo>
                    <a:pt x="334" y="954"/>
                  </a:lnTo>
                  <a:lnTo>
                    <a:pt x="332" y="946"/>
                  </a:lnTo>
                  <a:lnTo>
                    <a:pt x="329" y="937"/>
                  </a:lnTo>
                  <a:lnTo>
                    <a:pt x="326" y="928"/>
                  </a:lnTo>
                  <a:lnTo>
                    <a:pt x="333" y="920"/>
                  </a:lnTo>
                  <a:lnTo>
                    <a:pt x="341" y="913"/>
                  </a:lnTo>
                  <a:lnTo>
                    <a:pt x="346" y="904"/>
                  </a:lnTo>
                  <a:lnTo>
                    <a:pt x="347" y="895"/>
                  </a:lnTo>
                  <a:lnTo>
                    <a:pt x="344" y="886"/>
                  </a:lnTo>
                  <a:lnTo>
                    <a:pt x="343" y="877"/>
                  </a:lnTo>
                  <a:lnTo>
                    <a:pt x="340" y="868"/>
                  </a:lnTo>
                  <a:lnTo>
                    <a:pt x="340" y="859"/>
                  </a:lnTo>
                  <a:lnTo>
                    <a:pt x="341" y="849"/>
                  </a:lnTo>
                  <a:lnTo>
                    <a:pt x="343" y="840"/>
                  </a:lnTo>
                  <a:lnTo>
                    <a:pt x="340" y="831"/>
                  </a:lnTo>
                  <a:lnTo>
                    <a:pt x="332" y="824"/>
                  </a:lnTo>
                  <a:lnTo>
                    <a:pt x="322" y="817"/>
                  </a:lnTo>
                  <a:lnTo>
                    <a:pt x="313" y="810"/>
                  </a:lnTo>
                  <a:lnTo>
                    <a:pt x="306" y="802"/>
                  </a:lnTo>
                  <a:lnTo>
                    <a:pt x="298" y="796"/>
                  </a:lnTo>
                  <a:lnTo>
                    <a:pt x="287" y="791"/>
                  </a:lnTo>
                  <a:lnTo>
                    <a:pt x="276" y="787"/>
                  </a:lnTo>
                  <a:lnTo>
                    <a:pt x="264" y="782"/>
                  </a:lnTo>
                  <a:lnTo>
                    <a:pt x="253" y="777"/>
                  </a:lnTo>
                  <a:lnTo>
                    <a:pt x="241" y="774"/>
                  </a:lnTo>
                  <a:lnTo>
                    <a:pt x="231" y="779"/>
                  </a:lnTo>
                  <a:lnTo>
                    <a:pt x="221" y="785"/>
                  </a:lnTo>
                  <a:lnTo>
                    <a:pt x="210" y="790"/>
                  </a:lnTo>
                  <a:lnTo>
                    <a:pt x="197" y="794"/>
                  </a:lnTo>
                  <a:lnTo>
                    <a:pt x="185" y="797"/>
                  </a:lnTo>
                  <a:lnTo>
                    <a:pt x="174" y="799"/>
                  </a:lnTo>
                  <a:lnTo>
                    <a:pt x="160" y="801"/>
                  </a:lnTo>
                  <a:lnTo>
                    <a:pt x="148" y="804"/>
                  </a:lnTo>
                  <a:lnTo>
                    <a:pt x="134" y="804"/>
                  </a:lnTo>
                  <a:lnTo>
                    <a:pt x="122" y="805"/>
                  </a:lnTo>
                  <a:lnTo>
                    <a:pt x="109" y="802"/>
                  </a:lnTo>
                  <a:lnTo>
                    <a:pt x="98" y="798"/>
                  </a:lnTo>
                  <a:lnTo>
                    <a:pt x="86" y="794"/>
                  </a:lnTo>
                  <a:lnTo>
                    <a:pt x="76" y="788"/>
                  </a:lnTo>
                  <a:lnTo>
                    <a:pt x="67" y="781"/>
                  </a:lnTo>
                  <a:lnTo>
                    <a:pt x="56" y="779"/>
                  </a:lnTo>
                  <a:lnTo>
                    <a:pt x="44" y="777"/>
                  </a:lnTo>
                  <a:lnTo>
                    <a:pt x="37" y="769"/>
                  </a:lnTo>
                  <a:lnTo>
                    <a:pt x="32" y="760"/>
                  </a:lnTo>
                  <a:lnTo>
                    <a:pt x="27" y="752"/>
                  </a:lnTo>
                  <a:lnTo>
                    <a:pt x="20" y="744"/>
                  </a:lnTo>
                  <a:lnTo>
                    <a:pt x="16" y="735"/>
                  </a:lnTo>
                  <a:lnTo>
                    <a:pt x="11" y="726"/>
                  </a:lnTo>
                  <a:lnTo>
                    <a:pt x="7" y="717"/>
                  </a:lnTo>
                  <a:lnTo>
                    <a:pt x="4" y="708"/>
                  </a:lnTo>
                  <a:lnTo>
                    <a:pt x="3" y="699"/>
                  </a:lnTo>
                  <a:lnTo>
                    <a:pt x="0" y="685"/>
                  </a:lnTo>
                  <a:lnTo>
                    <a:pt x="4" y="677"/>
                  </a:lnTo>
                  <a:lnTo>
                    <a:pt x="6" y="668"/>
                  </a:lnTo>
                  <a:lnTo>
                    <a:pt x="7" y="658"/>
                  </a:lnTo>
                  <a:lnTo>
                    <a:pt x="9" y="649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79960" y="1979640"/>
              <a:ext cx="1244520" cy="1209600"/>
            </a:xfrm>
            <a:custGeom>
              <a:avLst/>
              <a:gdLst/>
              <a:ahLst/>
              <a:rect l="l" t="t" r="r" b="b"/>
              <a:pathLst>
                <a:path w="2352" h="1524">
                  <a:moveTo>
                    <a:pt x="0" y="882"/>
                  </a:moveTo>
                  <a:lnTo>
                    <a:pt x="9" y="874"/>
                  </a:lnTo>
                  <a:lnTo>
                    <a:pt x="18" y="868"/>
                  </a:lnTo>
                  <a:lnTo>
                    <a:pt x="28" y="862"/>
                  </a:lnTo>
                  <a:lnTo>
                    <a:pt x="38" y="856"/>
                  </a:lnTo>
                  <a:lnTo>
                    <a:pt x="51" y="851"/>
                  </a:lnTo>
                  <a:lnTo>
                    <a:pt x="58" y="844"/>
                  </a:lnTo>
                  <a:lnTo>
                    <a:pt x="67" y="837"/>
                  </a:lnTo>
                  <a:lnTo>
                    <a:pt x="74" y="828"/>
                  </a:lnTo>
                  <a:lnTo>
                    <a:pt x="84" y="826"/>
                  </a:lnTo>
                  <a:lnTo>
                    <a:pt x="97" y="831"/>
                  </a:lnTo>
                  <a:lnTo>
                    <a:pt x="107" y="838"/>
                  </a:lnTo>
                  <a:lnTo>
                    <a:pt x="112" y="845"/>
                  </a:lnTo>
                  <a:lnTo>
                    <a:pt x="121" y="839"/>
                  </a:lnTo>
                  <a:lnTo>
                    <a:pt x="129" y="830"/>
                  </a:lnTo>
                  <a:lnTo>
                    <a:pt x="136" y="821"/>
                  </a:lnTo>
                  <a:lnTo>
                    <a:pt x="136" y="814"/>
                  </a:lnTo>
                  <a:lnTo>
                    <a:pt x="128" y="811"/>
                  </a:lnTo>
                  <a:lnTo>
                    <a:pt x="136" y="802"/>
                  </a:lnTo>
                  <a:lnTo>
                    <a:pt x="140" y="794"/>
                  </a:lnTo>
                  <a:lnTo>
                    <a:pt x="142" y="788"/>
                  </a:lnTo>
                  <a:lnTo>
                    <a:pt x="137" y="779"/>
                  </a:lnTo>
                  <a:lnTo>
                    <a:pt x="133" y="770"/>
                  </a:lnTo>
                  <a:lnTo>
                    <a:pt x="129" y="761"/>
                  </a:lnTo>
                  <a:lnTo>
                    <a:pt x="125" y="752"/>
                  </a:lnTo>
                  <a:lnTo>
                    <a:pt x="121" y="743"/>
                  </a:lnTo>
                  <a:lnTo>
                    <a:pt x="118" y="735"/>
                  </a:lnTo>
                  <a:lnTo>
                    <a:pt x="128" y="730"/>
                  </a:lnTo>
                  <a:lnTo>
                    <a:pt x="140" y="726"/>
                  </a:lnTo>
                  <a:lnTo>
                    <a:pt x="153" y="722"/>
                  </a:lnTo>
                  <a:lnTo>
                    <a:pt x="161" y="726"/>
                  </a:lnTo>
                  <a:lnTo>
                    <a:pt x="157" y="730"/>
                  </a:lnTo>
                  <a:lnTo>
                    <a:pt x="167" y="737"/>
                  </a:lnTo>
                  <a:lnTo>
                    <a:pt x="174" y="746"/>
                  </a:lnTo>
                  <a:lnTo>
                    <a:pt x="181" y="749"/>
                  </a:lnTo>
                  <a:lnTo>
                    <a:pt x="186" y="741"/>
                  </a:lnTo>
                  <a:lnTo>
                    <a:pt x="182" y="731"/>
                  </a:lnTo>
                  <a:lnTo>
                    <a:pt x="190" y="726"/>
                  </a:lnTo>
                  <a:lnTo>
                    <a:pt x="204" y="726"/>
                  </a:lnTo>
                  <a:lnTo>
                    <a:pt x="216" y="726"/>
                  </a:lnTo>
                  <a:lnTo>
                    <a:pt x="220" y="717"/>
                  </a:lnTo>
                  <a:lnTo>
                    <a:pt x="224" y="708"/>
                  </a:lnTo>
                  <a:lnTo>
                    <a:pt x="237" y="707"/>
                  </a:lnTo>
                  <a:lnTo>
                    <a:pt x="248" y="711"/>
                  </a:lnTo>
                  <a:lnTo>
                    <a:pt x="260" y="713"/>
                  </a:lnTo>
                  <a:lnTo>
                    <a:pt x="272" y="714"/>
                  </a:lnTo>
                  <a:lnTo>
                    <a:pt x="285" y="712"/>
                  </a:lnTo>
                  <a:lnTo>
                    <a:pt x="287" y="707"/>
                  </a:lnTo>
                  <a:lnTo>
                    <a:pt x="280" y="700"/>
                  </a:lnTo>
                  <a:lnTo>
                    <a:pt x="285" y="691"/>
                  </a:lnTo>
                  <a:lnTo>
                    <a:pt x="292" y="684"/>
                  </a:lnTo>
                  <a:lnTo>
                    <a:pt x="294" y="675"/>
                  </a:lnTo>
                  <a:lnTo>
                    <a:pt x="298" y="666"/>
                  </a:lnTo>
                  <a:lnTo>
                    <a:pt x="304" y="658"/>
                  </a:lnTo>
                  <a:lnTo>
                    <a:pt x="312" y="650"/>
                  </a:lnTo>
                  <a:lnTo>
                    <a:pt x="320" y="643"/>
                  </a:lnTo>
                  <a:lnTo>
                    <a:pt x="330" y="637"/>
                  </a:lnTo>
                  <a:lnTo>
                    <a:pt x="340" y="630"/>
                  </a:lnTo>
                  <a:lnTo>
                    <a:pt x="350" y="624"/>
                  </a:lnTo>
                  <a:lnTo>
                    <a:pt x="360" y="618"/>
                  </a:lnTo>
                  <a:lnTo>
                    <a:pt x="367" y="611"/>
                  </a:lnTo>
                  <a:lnTo>
                    <a:pt x="371" y="602"/>
                  </a:lnTo>
                  <a:lnTo>
                    <a:pt x="371" y="592"/>
                  </a:lnTo>
                  <a:lnTo>
                    <a:pt x="369" y="583"/>
                  </a:lnTo>
                  <a:lnTo>
                    <a:pt x="376" y="575"/>
                  </a:lnTo>
                  <a:lnTo>
                    <a:pt x="379" y="565"/>
                  </a:lnTo>
                  <a:lnTo>
                    <a:pt x="369" y="562"/>
                  </a:lnTo>
                  <a:lnTo>
                    <a:pt x="368" y="557"/>
                  </a:lnTo>
                  <a:lnTo>
                    <a:pt x="376" y="550"/>
                  </a:lnTo>
                  <a:lnTo>
                    <a:pt x="378" y="540"/>
                  </a:lnTo>
                  <a:lnTo>
                    <a:pt x="382" y="532"/>
                  </a:lnTo>
                  <a:lnTo>
                    <a:pt x="395" y="529"/>
                  </a:lnTo>
                  <a:lnTo>
                    <a:pt x="406" y="533"/>
                  </a:lnTo>
                  <a:lnTo>
                    <a:pt x="415" y="539"/>
                  </a:lnTo>
                  <a:lnTo>
                    <a:pt x="425" y="546"/>
                  </a:lnTo>
                  <a:lnTo>
                    <a:pt x="432" y="553"/>
                  </a:lnTo>
                  <a:lnTo>
                    <a:pt x="439" y="562"/>
                  </a:lnTo>
                  <a:lnTo>
                    <a:pt x="449" y="568"/>
                  </a:lnTo>
                  <a:lnTo>
                    <a:pt x="462" y="570"/>
                  </a:lnTo>
                  <a:lnTo>
                    <a:pt x="474" y="573"/>
                  </a:lnTo>
                  <a:lnTo>
                    <a:pt x="483" y="580"/>
                  </a:lnTo>
                  <a:lnTo>
                    <a:pt x="491" y="587"/>
                  </a:lnTo>
                  <a:lnTo>
                    <a:pt x="504" y="589"/>
                  </a:lnTo>
                  <a:lnTo>
                    <a:pt x="516" y="588"/>
                  </a:lnTo>
                  <a:lnTo>
                    <a:pt x="529" y="586"/>
                  </a:lnTo>
                  <a:lnTo>
                    <a:pt x="534" y="578"/>
                  </a:lnTo>
                  <a:lnTo>
                    <a:pt x="537" y="569"/>
                  </a:lnTo>
                  <a:lnTo>
                    <a:pt x="541" y="560"/>
                  </a:lnTo>
                  <a:lnTo>
                    <a:pt x="551" y="556"/>
                  </a:lnTo>
                  <a:lnTo>
                    <a:pt x="544" y="549"/>
                  </a:lnTo>
                  <a:lnTo>
                    <a:pt x="534" y="541"/>
                  </a:lnTo>
                  <a:lnTo>
                    <a:pt x="523" y="535"/>
                  </a:lnTo>
                  <a:lnTo>
                    <a:pt x="511" y="536"/>
                  </a:lnTo>
                  <a:lnTo>
                    <a:pt x="499" y="532"/>
                  </a:lnTo>
                  <a:lnTo>
                    <a:pt x="488" y="530"/>
                  </a:lnTo>
                  <a:lnTo>
                    <a:pt x="477" y="526"/>
                  </a:lnTo>
                  <a:lnTo>
                    <a:pt x="466" y="522"/>
                  </a:lnTo>
                  <a:lnTo>
                    <a:pt x="459" y="514"/>
                  </a:lnTo>
                  <a:lnTo>
                    <a:pt x="453" y="509"/>
                  </a:lnTo>
                  <a:lnTo>
                    <a:pt x="448" y="501"/>
                  </a:lnTo>
                  <a:lnTo>
                    <a:pt x="449" y="493"/>
                  </a:lnTo>
                  <a:lnTo>
                    <a:pt x="462" y="490"/>
                  </a:lnTo>
                  <a:lnTo>
                    <a:pt x="474" y="490"/>
                  </a:lnTo>
                  <a:lnTo>
                    <a:pt x="483" y="483"/>
                  </a:lnTo>
                  <a:lnTo>
                    <a:pt x="495" y="482"/>
                  </a:lnTo>
                  <a:lnTo>
                    <a:pt x="508" y="479"/>
                  </a:lnTo>
                  <a:lnTo>
                    <a:pt x="520" y="477"/>
                  </a:lnTo>
                  <a:lnTo>
                    <a:pt x="533" y="480"/>
                  </a:lnTo>
                  <a:lnTo>
                    <a:pt x="544" y="475"/>
                  </a:lnTo>
                  <a:lnTo>
                    <a:pt x="557" y="479"/>
                  </a:lnTo>
                  <a:lnTo>
                    <a:pt x="569" y="478"/>
                  </a:lnTo>
                  <a:lnTo>
                    <a:pt x="580" y="474"/>
                  </a:lnTo>
                  <a:lnTo>
                    <a:pt x="594" y="474"/>
                  </a:lnTo>
                  <a:lnTo>
                    <a:pt x="606" y="477"/>
                  </a:lnTo>
                  <a:lnTo>
                    <a:pt x="607" y="486"/>
                  </a:lnTo>
                  <a:lnTo>
                    <a:pt x="617" y="494"/>
                  </a:lnTo>
                  <a:lnTo>
                    <a:pt x="624" y="502"/>
                  </a:lnTo>
                  <a:lnTo>
                    <a:pt x="635" y="503"/>
                  </a:lnTo>
                  <a:lnTo>
                    <a:pt x="648" y="499"/>
                  </a:lnTo>
                  <a:lnTo>
                    <a:pt x="660" y="500"/>
                  </a:lnTo>
                  <a:lnTo>
                    <a:pt x="673" y="503"/>
                  </a:lnTo>
                  <a:lnTo>
                    <a:pt x="682" y="498"/>
                  </a:lnTo>
                  <a:lnTo>
                    <a:pt x="685" y="489"/>
                  </a:lnTo>
                  <a:lnTo>
                    <a:pt x="698" y="486"/>
                  </a:lnTo>
                  <a:lnTo>
                    <a:pt x="705" y="478"/>
                  </a:lnTo>
                  <a:lnTo>
                    <a:pt x="706" y="469"/>
                  </a:lnTo>
                  <a:lnTo>
                    <a:pt x="709" y="454"/>
                  </a:lnTo>
                  <a:lnTo>
                    <a:pt x="715" y="446"/>
                  </a:lnTo>
                  <a:lnTo>
                    <a:pt x="727" y="443"/>
                  </a:lnTo>
                  <a:lnTo>
                    <a:pt x="737" y="438"/>
                  </a:lnTo>
                  <a:lnTo>
                    <a:pt x="750" y="438"/>
                  </a:lnTo>
                  <a:lnTo>
                    <a:pt x="761" y="435"/>
                  </a:lnTo>
                  <a:lnTo>
                    <a:pt x="769" y="428"/>
                  </a:lnTo>
                  <a:lnTo>
                    <a:pt x="771" y="418"/>
                  </a:lnTo>
                  <a:lnTo>
                    <a:pt x="766" y="410"/>
                  </a:lnTo>
                  <a:lnTo>
                    <a:pt x="766" y="401"/>
                  </a:lnTo>
                  <a:lnTo>
                    <a:pt x="759" y="395"/>
                  </a:lnTo>
                  <a:lnTo>
                    <a:pt x="761" y="386"/>
                  </a:lnTo>
                  <a:lnTo>
                    <a:pt x="772" y="382"/>
                  </a:lnTo>
                  <a:lnTo>
                    <a:pt x="785" y="381"/>
                  </a:lnTo>
                  <a:lnTo>
                    <a:pt x="790" y="373"/>
                  </a:lnTo>
                  <a:lnTo>
                    <a:pt x="800" y="368"/>
                  </a:lnTo>
                  <a:lnTo>
                    <a:pt x="793" y="361"/>
                  </a:lnTo>
                  <a:lnTo>
                    <a:pt x="786" y="355"/>
                  </a:lnTo>
                  <a:lnTo>
                    <a:pt x="780" y="348"/>
                  </a:lnTo>
                  <a:lnTo>
                    <a:pt x="789" y="341"/>
                  </a:lnTo>
                  <a:lnTo>
                    <a:pt x="789" y="332"/>
                  </a:lnTo>
                  <a:lnTo>
                    <a:pt x="800" y="328"/>
                  </a:lnTo>
                  <a:lnTo>
                    <a:pt x="814" y="322"/>
                  </a:lnTo>
                  <a:lnTo>
                    <a:pt x="821" y="315"/>
                  </a:lnTo>
                  <a:lnTo>
                    <a:pt x="833" y="318"/>
                  </a:lnTo>
                  <a:lnTo>
                    <a:pt x="846" y="317"/>
                  </a:lnTo>
                  <a:lnTo>
                    <a:pt x="859" y="314"/>
                  </a:lnTo>
                  <a:lnTo>
                    <a:pt x="871" y="314"/>
                  </a:lnTo>
                  <a:lnTo>
                    <a:pt x="882" y="310"/>
                  </a:lnTo>
                  <a:lnTo>
                    <a:pt x="891" y="308"/>
                  </a:lnTo>
                  <a:lnTo>
                    <a:pt x="884" y="302"/>
                  </a:lnTo>
                  <a:lnTo>
                    <a:pt x="874" y="298"/>
                  </a:lnTo>
                  <a:lnTo>
                    <a:pt x="864" y="294"/>
                  </a:lnTo>
                  <a:lnTo>
                    <a:pt x="857" y="287"/>
                  </a:lnTo>
                  <a:lnTo>
                    <a:pt x="854" y="278"/>
                  </a:lnTo>
                  <a:lnTo>
                    <a:pt x="856" y="269"/>
                  </a:lnTo>
                  <a:lnTo>
                    <a:pt x="854" y="261"/>
                  </a:lnTo>
                  <a:lnTo>
                    <a:pt x="853" y="253"/>
                  </a:lnTo>
                  <a:lnTo>
                    <a:pt x="849" y="244"/>
                  </a:lnTo>
                  <a:lnTo>
                    <a:pt x="852" y="236"/>
                  </a:lnTo>
                  <a:lnTo>
                    <a:pt x="849" y="228"/>
                  </a:lnTo>
                  <a:lnTo>
                    <a:pt x="843" y="220"/>
                  </a:lnTo>
                  <a:lnTo>
                    <a:pt x="853" y="217"/>
                  </a:lnTo>
                  <a:lnTo>
                    <a:pt x="856" y="214"/>
                  </a:lnTo>
                  <a:lnTo>
                    <a:pt x="845" y="210"/>
                  </a:lnTo>
                  <a:lnTo>
                    <a:pt x="839" y="206"/>
                  </a:lnTo>
                  <a:lnTo>
                    <a:pt x="838" y="202"/>
                  </a:lnTo>
                  <a:lnTo>
                    <a:pt x="828" y="200"/>
                  </a:lnTo>
                  <a:lnTo>
                    <a:pt x="818" y="194"/>
                  </a:lnTo>
                  <a:lnTo>
                    <a:pt x="813" y="186"/>
                  </a:lnTo>
                  <a:lnTo>
                    <a:pt x="800" y="182"/>
                  </a:lnTo>
                  <a:lnTo>
                    <a:pt x="797" y="174"/>
                  </a:lnTo>
                  <a:lnTo>
                    <a:pt x="786" y="170"/>
                  </a:lnTo>
                  <a:lnTo>
                    <a:pt x="776" y="167"/>
                  </a:lnTo>
                  <a:lnTo>
                    <a:pt x="768" y="164"/>
                  </a:lnTo>
                  <a:lnTo>
                    <a:pt x="771" y="155"/>
                  </a:lnTo>
                  <a:lnTo>
                    <a:pt x="769" y="147"/>
                  </a:lnTo>
                  <a:lnTo>
                    <a:pt x="764" y="140"/>
                  </a:lnTo>
                  <a:lnTo>
                    <a:pt x="773" y="136"/>
                  </a:lnTo>
                  <a:lnTo>
                    <a:pt x="780" y="131"/>
                  </a:lnTo>
                  <a:lnTo>
                    <a:pt x="789" y="134"/>
                  </a:lnTo>
                  <a:lnTo>
                    <a:pt x="800" y="132"/>
                  </a:lnTo>
                  <a:lnTo>
                    <a:pt x="808" y="127"/>
                  </a:lnTo>
                  <a:lnTo>
                    <a:pt x="819" y="124"/>
                  </a:lnTo>
                  <a:lnTo>
                    <a:pt x="829" y="118"/>
                  </a:lnTo>
                  <a:lnTo>
                    <a:pt x="843" y="118"/>
                  </a:lnTo>
                  <a:lnTo>
                    <a:pt x="856" y="116"/>
                  </a:lnTo>
                  <a:lnTo>
                    <a:pt x="866" y="110"/>
                  </a:lnTo>
                  <a:lnTo>
                    <a:pt x="878" y="110"/>
                  </a:lnTo>
                  <a:lnTo>
                    <a:pt x="889" y="106"/>
                  </a:lnTo>
                  <a:lnTo>
                    <a:pt x="903" y="108"/>
                  </a:lnTo>
                  <a:lnTo>
                    <a:pt x="909" y="100"/>
                  </a:lnTo>
                  <a:lnTo>
                    <a:pt x="915" y="91"/>
                  </a:lnTo>
                  <a:lnTo>
                    <a:pt x="915" y="84"/>
                  </a:lnTo>
                  <a:lnTo>
                    <a:pt x="913" y="75"/>
                  </a:lnTo>
                  <a:lnTo>
                    <a:pt x="920" y="67"/>
                  </a:lnTo>
                  <a:lnTo>
                    <a:pt x="930" y="72"/>
                  </a:lnTo>
                  <a:lnTo>
                    <a:pt x="943" y="70"/>
                  </a:lnTo>
                  <a:lnTo>
                    <a:pt x="955" y="71"/>
                  </a:lnTo>
                  <a:lnTo>
                    <a:pt x="966" y="74"/>
                  </a:lnTo>
                  <a:lnTo>
                    <a:pt x="969" y="65"/>
                  </a:lnTo>
                  <a:lnTo>
                    <a:pt x="975" y="59"/>
                  </a:lnTo>
                  <a:lnTo>
                    <a:pt x="977" y="50"/>
                  </a:lnTo>
                  <a:lnTo>
                    <a:pt x="977" y="42"/>
                  </a:lnTo>
                  <a:lnTo>
                    <a:pt x="990" y="39"/>
                  </a:lnTo>
                  <a:lnTo>
                    <a:pt x="1003" y="29"/>
                  </a:lnTo>
                  <a:lnTo>
                    <a:pt x="1014" y="36"/>
                  </a:lnTo>
                  <a:lnTo>
                    <a:pt x="1022" y="39"/>
                  </a:lnTo>
                  <a:lnTo>
                    <a:pt x="1035" y="37"/>
                  </a:lnTo>
                  <a:lnTo>
                    <a:pt x="1047" y="32"/>
                  </a:lnTo>
                  <a:lnTo>
                    <a:pt x="1060" y="28"/>
                  </a:lnTo>
                  <a:lnTo>
                    <a:pt x="1073" y="24"/>
                  </a:lnTo>
                  <a:lnTo>
                    <a:pt x="1084" y="28"/>
                  </a:lnTo>
                  <a:lnTo>
                    <a:pt x="1096" y="29"/>
                  </a:lnTo>
                  <a:lnTo>
                    <a:pt x="1109" y="35"/>
                  </a:lnTo>
                  <a:lnTo>
                    <a:pt x="1116" y="43"/>
                  </a:lnTo>
                  <a:lnTo>
                    <a:pt x="1127" y="45"/>
                  </a:lnTo>
                  <a:lnTo>
                    <a:pt x="1141" y="44"/>
                  </a:lnTo>
                  <a:lnTo>
                    <a:pt x="1147" y="51"/>
                  </a:lnTo>
                  <a:lnTo>
                    <a:pt x="1147" y="61"/>
                  </a:lnTo>
                  <a:lnTo>
                    <a:pt x="1149" y="70"/>
                  </a:lnTo>
                  <a:lnTo>
                    <a:pt x="1152" y="80"/>
                  </a:lnTo>
                  <a:lnTo>
                    <a:pt x="1158" y="88"/>
                  </a:lnTo>
                  <a:lnTo>
                    <a:pt x="1169" y="90"/>
                  </a:lnTo>
                  <a:lnTo>
                    <a:pt x="1183" y="92"/>
                  </a:lnTo>
                  <a:lnTo>
                    <a:pt x="1194" y="97"/>
                  </a:lnTo>
                  <a:lnTo>
                    <a:pt x="1207" y="99"/>
                  </a:lnTo>
                  <a:lnTo>
                    <a:pt x="1218" y="100"/>
                  </a:lnTo>
                  <a:lnTo>
                    <a:pt x="1218" y="109"/>
                  </a:lnTo>
                  <a:lnTo>
                    <a:pt x="1218" y="120"/>
                  </a:lnTo>
                  <a:lnTo>
                    <a:pt x="1225" y="125"/>
                  </a:lnTo>
                  <a:lnTo>
                    <a:pt x="1237" y="127"/>
                  </a:lnTo>
                  <a:lnTo>
                    <a:pt x="1250" y="130"/>
                  </a:lnTo>
                  <a:lnTo>
                    <a:pt x="1261" y="132"/>
                  </a:lnTo>
                  <a:lnTo>
                    <a:pt x="1275" y="131"/>
                  </a:lnTo>
                  <a:lnTo>
                    <a:pt x="1288" y="129"/>
                  </a:lnTo>
                  <a:lnTo>
                    <a:pt x="1293" y="135"/>
                  </a:lnTo>
                  <a:lnTo>
                    <a:pt x="1307" y="137"/>
                  </a:lnTo>
                  <a:lnTo>
                    <a:pt x="1314" y="131"/>
                  </a:lnTo>
                  <a:lnTo>
                    <a:pt x="1327" y="128"/>
                  </a:lnTo>
                  <a:lnTo>
                    <a:pt x="1331" y="121"/>
                  </a:lnTo>
                  <a:lnTo>
                    <a:pt x="1345" y="121"/>
                  </a:lnTo>
                  <a:lnTo>
                    <a:pt x="1358" y="125"/>
                  </a:lnTo>
                  <a:lnTo>
                    <a:pt x="1369" y="120"/>
                  </a:lnTo>
                  <a:lnTo>
                    <a:pt x="1370" y="112"/>
                  </a:lnTo>
                  <a:lnTo>
                    <a:pt x="1372" y="104"/>
                  </a:lnTo>
                  <a:lnTo>
                    <a:pt x="1367" y="96"/>
                  </a:lnTo>
                  <a:lnTo>
                    <a:pt x="1373" y="87"/>
                  </a:lnTo>
                  <a:lnTo>
                    <a:pt x="1379" y="79"/>
                  </a:lnTo>
                  <a:lnTo>
                    <a:pt x="1379" y="69"/>
                  </a:lnTo>
                  <a:lnTo>
                    <a:pt x="1386" y="66"/>
                  </a:lnTo>
                  <a:lnTo>
                    <a:pt x="1398" y="72"/>
                  </a:lnTo>
                  <a:lnTo>
                    <a:pt x="1409" y="77"/>
                  </a:lnTo>
                  <a:lnTo>
                    <a:pt x="1418" y="72"/>
                  </a:lnTo>
                  <a:lnTo>
                    <a:pt x="1430" y="69"/>
                  </a:lnTo>
                  <a:lnTo>
                    <a:pt x="1442" y="65"/>
                  </a:lnTo>
                  <a:lnTo>
                    <a:pt x="1449" y="72"/>
                  </a:lnTo>
                  <a:lnTo>
                    <a:pt x="1451" y="80"/>
                  </a:lnTo>
                  <a:lnTo>
                    <a:pt x="1453" y="86"/>
                  </a:lnTo>
                  <a:lnTo>
                    <a:pt x="1454" y="93"/>
                  </a:lnTo>
                  <a:lnTo>
                    <a:pt x="1465" y="96"/>
                  </a:lnTo>
                  <a:lnTo>
                    <a:pt x="1474" y="103"/>
                  </a:lnTo>
                  <a:lnTo>
                    <a:pt x="1486" y="104"/>
                  </a:lnTo>
                  <a:lnTo>
                    <a:pt x="1496" y="110"/>
                  </a:lnTo>
                  <a:lnTo>
                    <a:pt x="1503" y="118"/>
                  </a:lnTo>
                  <a:lnTo>
                    <a:pt x="1511" y="122"/>
                  </a:lnTo>
                  <a:lnTo>
                    <a:pt x="1517" y="131"/>
                  </a:lnTo>
                  <a:lnTo>
                    <a:pt x="1530" y="127"/>
                  </a:lnTo>
                  <a:lnTo>
                    <a:pt x="1524" y="119"/>
                  </a:lnTo>
                  <a:lnTo>
                    <a:pt x="1530" y="110"/>
                  </a:lnTo>
                  <a:lnTo>
                    <a:pt x="1523" y="104"/>
                  </a:lnTo>
                  <a:lnTo>
                    <a:pt x="1530" y="96"/>
                  </a:lnTo>
                  <a:lnTo>
                    <a:pt x="1530" y="87"/>
                  </a:lnTo>
                  <a:lnTo>
                    <a:pt x="1537" y="79"/>
                  </a:lnTo>
                  <a:lnTo>
                    <a:pt x="1544" y="72"/>
                  </a:lnTo>
                  <a:lnTo>
                    <a:pt x="1552" y="67"/>
                  </a:lnTo>
                  <a:lnTo>
                    <a:pt x="1552" y="57"/>
                  </a:lnTo>
                  <a:lnTo>
                    <a:pt x="1556" y="49"/>
                  </a:lnTo>
                  <a:lnTo>
                    <a:pt x="1569" y="45"/>
                  </a:lnTo>
                  <a:lnTo>
                    <a:pt x="1580" y="47"/>
                  </a:lnTo>
                  <a:lnTo>
                    <a:pt x="1588" y="39"/>
                  </a:lnTo>
                  <a:lnTo>
                    <a:pt x="1591" y="30"/>
                  </a:lnTo>
                  <a:lnTo>
                    <a:pt x="1584" y="22"/>
                  </a:lnTo>
                  <a:lnTo>
                    <a:pt x="1577" y="13"/>
                  </a:lnTo>
                  <a:lnTo>
                    <a:pt x="1580" y="9"/>
                  </a:lnTo>
                  <a:lnTo>
                    <a:pt x="1591" y="7"/>
                  </a:lnTo>
                  <a:lnTo>
                    <a:pt x="1605" y="6"/>
                  </a:lnTo>
                  <a:lnTo>
                    <a:pt x="1615" y="0"/>
                  </a:lnTo>
                  <a:lnTo>
                    <a:pt x="1622" y="6"/>
                  </a:lnTo>
                  <a:lnTo>
                    <a:pt x="1636" y="7"/>
                  </a:lnTo>
                  <a:lnTo>
                    <a:pt x="1646" y="8"/>
                  </a:lnTo>
                  <a:lnTo>
                    <a:pt x="1657" y="8"/>
                  </a:lnTo>
                  <a:lnTo>
                    <a:pt x="1668" y="3"/>
                  </a:lnTo>
                  <a:lnTo>
                    <a:pt x="1678" y="0"/>
                  </a:lnTo>
                  <a:lnTo>
                    <a:pt x="1692" y="2"/>
                  </a:lnTo>
                  <a:lnTo>
                    <a:pt x="1704" y="4"/>
                  </a:lnTo>
                  <a:lnTo>
                    <a:pt x="1702" y="12"/>
                  </a:lnTo>
                  <a:lnTo>
                    <a:pt x="1713" y="15"/>
                  </a:lnTo>
                  <a:lnTo>
                    <a:pt x="1718" y="23"/>
                  </a:lnTo>
                  <a:lnTo>
                    <a:pt x="1720" y="34"/>
                  </a:lnTo>
                  <a:lnTo>
                    <a:pt x="1725" y="43"/>
                  </a:lnTo>
                  <a:lnTo>
                    <a:pt x="1738" y="43"/>
                  </a:lnTo>
                  <a:lnTo>
                    <a:pt x="1746" y="48"/>
                  </a:lnTo>
                  <a:lnTo>
                    <a:pt x="1745" y="57"/>
                  </a:lnTo>
                  <a:lnTo>
                    <a:pt x="1746" y="66"/>
                  </a:lnTo>
                  <a:lnTo>
                    <a:pt x="1751" y="75"/>
                  </a:lnTo>
                  <a:lnTo>
                    <a:pt x="1762" y="81"/>
                  </a:lnTo>
                  <a:lnTo>
                    <a:pt x="1764" y="89"/>
                  </a:lnTo>
                  <a:lnTo>
                    <a:pt x="1764" y="99"/>
                  </a:lnTo>
                  <a:lnTo>
                    <a:pt x="1763" y="108"/>
                  </a:lnTo>
                  <a:lnTo>
                    <a:pt x="1760" y="117"/>
                  </a:lnTo>
                  <a:lnTo>
                    <a:pt x="1763" y="126"/>
                  </a:lnTo>
                  <a:lnTo>
                    <a:pt x="1770" y="134"/>
                  </a:lnTo>
                  <a:lnTo>
                    <a:pt x="1778" y="142"/>
                  </a:lnTo>
                  <a:lnTo>
                    <a:pt x="1785" y="149"/>
                  </a:lnTo>
                  <a:lnTo>
                    <a:pt x="1788" y="159"/>
                  </a:lnTo>
                  <a:lnTo>
                    <a:pt x="1792" y="167"/>
                  </a:lnTo>
                  <a:lnTo>
                    <a:pt x="1802" y="175"/>
                  </a:lnTo>
                  <a:lnTo>
                    <a:pt x="1804" y="182"/>
                  </a:lnTo>
                  <a:lnTo>
                    <a:pt x="1794" y="189"/>
                  </a:lnTo>
                  <a:lnTo>
                    <a:pt x="1781" y="191"/>
                  </a:lnTo>
                  <a:lnTo>
                    <a:pt x="1767" y="193"/>
                  </a:lnTo>
                  <a:lnTo>
                    <a:pt x="1756" y="195"/>
                  </a:lnTo>
                  <a:lnTo>
                    <a:pt x="1760" y="204"/>
                  </a:lnTo>
                  <a:lnTo>
                    <a:pt x="1762" y="213"/>
                  </a:lnTo>
                  <a:lnTo>
                    <a:pt x="1769" y="220"/>
                  </a:lnTo>
                  <a:lnTo>
                    <a:pt x="1778" y="227"/>
                  </a:lnTo>
                  <a:lnTo>
                    <a:pt x="1780" y="236"/>
                  </a:lnTo>
                  <a:lnTo>
                    <a:pt x="1783" y="245"/>
                  </a:lnTo>
                  <a:lnTo>
                    <a:pt x="1784" y="254"/>
                  </a:lnTo>
                  <a:lnTo>
                    <a:pt x="1781" y="264"/>
                  </a:lnTo>
                  <a:lnTo>
                    <a:pt x="1776" y="272"/>
                  </a:lnTo>
                  <a:lnTo>
                    <a:pt x="1767" y="278"/>
                  </a:lnTo>
                  <a:lnTo>
                    <a:pt x="1769" y="287"/>
                  </a:lnTo>
                  <a:lnTo>
                    <a:pt x="1764" y="296"/>
                  </a:lnTo>
                  <a:lnTo>
                    <a:pt x="1762" y="305"/>
                  </a:lnTo>
                  <a:lnTo>
                    <a:pt x="1763" y="314"/>
                  </a:lnTo>
                  <a:lnTo>
                    <a:pt x="1760" y="323"/>
                  </a:lnTo>
                  <a:lnTo>
                    <a:pt x="1760" y="332"/>
                  </a:lnTo>
                  <a:lnTo>
                    <a:pt x="1752" y="337"/>
                  </a:lnTo>
                  <a:lnTo>
                    <a:pt x="1741" y="340"/>
                  </a:lnTo>
                  <a:lnTo>
                    <a:pt x="1735" y="348"/>
                  </a:lnTo>
                  <a:lnTo>
                    <a:pt x="1731" y="357"/>
                  </a:lnTo>
                  <a:lnTo>
                    <a:pt x="1727" y="367"/>
                  </a:lnTo>
                  <a:lnTo>
                    <a:pt x="1723" y="375"/>
                  </a:lnTo>
                  <a:lnTo>
                    <a:pt x="1710" y="376"/>
                  </a:lnTo>
                  <a:lnTo>
                    <a:pt x="1713" y="385"/>
                  </a:lnTo>
                  <a:lnTo>
                    <a:pt x="1724" y="389"/>
                  </a:lnTo>
                  <a:lnTo>
                    <a:pt x="1732" y="396"/>
                  </a:lnTo>
                  <a:lnTo>
                    <a:pt x="1744" y="401"/>
                  </a:lnTo>
                  <a:lnTo>
                    <a:pt x="1752" y="407"/>
                  </a:lnTo>
                  <a:lnTo>
                    <a:pt x="1757" y="415"/>
                  </a:lnTo>
                  <a:lnTo>
                    <a:pt x="1769" y="421"/>
                  </a:lnTo>
                  <a:lnTo>
                    <a:pt x="1778" y="426"/>
                  </a:lnTo>
                  <a:lnTo>
                    <a:pt x="1788" y="433"/>
                  </a:lnTo>
                  <a:lnTo>
                    <a:pt x="1799" y="438"/>
                  </a:lnTo>
                  <a:lnTo>
                    <a:pt x="1808" y="441"/>
                  </a:lnTo>
                  <a:lnTo>
                    <a:pt x="1815" y="440"/>
                  </a:lnTo>
                  <a:lnTo>
                    <a:pt x="1826" y="443"/>
                  </a:lnTo>
                  <a:lnTo>
                    <a:pt x="1834" y="451"/>
                  </a:lnTo>
                  <a:lnTo>
                    <a:pt x="1840" y="460"/>
                  </a:lnTo>
                  <a:lnTo>
                    <a:pt x="1836" y="465"/>
                  </a:lnTo>
                  <a:lnTo>
                    <a:pt x="1823" y="469"/>
                  </a:lnTo>
                  <a:lnTo>
                    <a:pt x="1818" y="475"/>
                  </a:lnTo>
                  <a:lnTo>
                    <a:pt x="1808" y="479"/>
                  </a:lnTo>
                  <a:lnTo>
                    <a:pt x="1801" y="483"/>
                  </a:lnTo>
                  <a:lnTo>
                    <a:pt x="1792" y="490"/>
                  </a:lnTo>
                  <a:lnTo>
                    <a:pt x="1795" y="499"/>
                  </a:lnTo>
                  <a:lnTo>
                    <a:pt x="1804" y="507"/>
                  </a:lnTo>
                  <a:lnTo>
                    <a:pt x="1805" y="513"/>
                  </a:lnTo>
                  <a:lnTo>
                    <a:pt x="1794" y="508"/>
                  </a:lnTo>
                  <a:lnTo>
                    <a:pt x="1783" y="512"/>
                  </a:lnTo>
                  <a:lnTo>
                    <a:pt x="1770" y="513"/>
                  </a:lnTo>
                  <a:lnTo>
                    <a:pt x="1762" y="509"/>
                  </a:lnTo>
                  <a:lnTo>
                    <a:pt x="1755" y="506"/>
                  </a:lnTo>
                  <a:lnTo>
                    <a:pt x="1744" y="504"/>
                  </a:lnTo>
                  <a:lnTo>
                    <a:pt x="1732" y="508"/>
                  </a:lnTo>
                  <a:lnTo>
                    <a:pt x="1731" y="517"/>
                  </a:lnTo>
                  <a:lnTo>
                    <a:pt x="1723" y="520"/>
                  </a:lnTo>
                  <a:lnTo>
                    <a:pt x="1710" y="524"/>
                  </a:lnTo>
                  <a:lnTo>
                    <a:pt x="1706" y="532"/>
                  </a:lnTo>
                  <a:lnTo>
                    <a:pt x="1709" y="540"/>
                  </a:lnTo>
                  <a:lnTo>
                    <a:pt x="1710" y="549"/>
                  </a:lnTo>
                  <a:lnTo>
                    <a:pt x="1718" y="556"/>
                  </a:lnTo>
                  <a:lnTo>
                    <a:pt x="1723" y="565"/>
                  </a:lnTo>
                  <a:lnTo>
                    <a:pt x="1730" y="573"/>
                  </a:lnTo>
                  <a:lnTo>
                    <a:pt x="1739" y="578"/>
                  </a:lnTo>
                  <a:lnTo>
                    <a:pt x="1752" y="581"/>
                  </a:lnTo>
                  <a:lnTo>
                    <a:pt x="1764" y="583"/>
                  </a:lnTo>
                  <a:lnTo>
                    <a:pt x="1777" y="585"/>
                  </a:lnTo>
                  <a:lnTo>
                    <a:pt x="1790" y="588"/>
                  </a:lnTo>
                  <a:lnTo>
                    <a:pt x="1801" y="592"/>
                  </a:lnTo>
                  <a:lnTo>
                    <a:pt x="1812" y="597"/>
                  </a:lnTo>
                  <a:lnTo>
                    <a:pt x="1819" y="605"/>
                  </a:lnTo>
                  <a:lnTo>
                    <a:pt x="1822" y="614"/>
                  </a:lnTo>
                  <a:lnTo>
                    <a:pt x="1823" y="623"/>
                  </a:lnTo>
                  <a:lnTo>
                    <a:pt x="1829" y="632"/>
                  </a:lnTo>
                  <a:lnTo>
                    <a:pt x="1834" y="640"/>
                  </a:lnTo>
                  <a:lnTo>
                    <a:pt x="1837" y="649"/>
                  </a:lnTo>
                  <a:lnTo>
                    <a:pt x="1837" y="659"/>
                  </a:lnTo>
                  <a:lnTo>
                    <a:pt x="1837" y="668"/>
                  </a:lnTo>
                  <a:lnTo>
                    <a:pt x="1833" y="676"/>
                  </a:lnTo>
                  <a:lnTo>
                    <a:pt x="1826" y="680"/>
                  </a:lnTo>
                  <a:lnTo>
                    <a:pt x="1819" y="688"/>
                  </a:lnTo>
                  <a:lnTo>
                    <a:pt x="1816" y="696"/>
                  </a:lnTo>
                  <a:lnTo>
                    <a:pt x="1815" y="703"/>
                  </a:lnTo>
                  <a:lnTo>
                    <a:pt x="1813" y="712"/>
                  </a:lnTo>
                  <a:lnTo>
                    <a:pt x="1818" y="721"/>
                  </a:lnTo>
                  <a:lnTo>
                    <a:pt x="1825" y="728"/>
                  </a:lnTo>
                  <a:lnTo>
                    <a:pt x="1830" y="733"/>
                  </a:lnTo>
                  <a:lnTo>
                    <a:pt x="1840" y="739"/>
                  </a:lnTo>
                  <a:lnTo>
                    <a:pt x="1850" y="746"/>
                  </a:lnTo>
                  <a:lnTo>
                    <a:pt x="1853" y="754"/>
                  </a:lnTo>
                  <a:lnTo>
                    <a:pt x="1855" y="761"/>
                  </a:lnTo>
                  <a:lnTo>
                    <a:pt x="1862" y="769"/>
                  </a:lnTo>
                  <a:lnTo>
                    <a:pt x="1869" y="777"/>
                  </a:lnTo>
                  <a:lnTo>
                    <a:pt x="1876" y="785"/>
                  </a:lnTo>
                  <a:lnTo>
                    <a:pt x="1889" y="785"/>
                  </a:lnTo>
                  <a:lnTo>
                    <a:pt x="1899" y="788"/>
                  </a:lnTo>
                  <a:lnTo>
                    <a:pt x="1904" y="797"/>
                  </a:lnTo>
                  <a:lnTo>
                    <a:pt x="1917" y="799"/>
                  </a:lnTo>
                  <a:lnTo>
                    <a:pt x="1922" y="807"/>
                  </a:lnTo>
                  <a:lnTo>
                    <a:pt x="1932" y="813"/>
                  </a:lnTo>
                  <a:lnTo>
                    <a:pt x="1939" y="821"/>
                  </a:lnTo>
                  <a:lnTo>
                    <a:pt x="1950" y="827"/>
                  </a:lnTo>
                  <a:lnTo>
                    <a:pt x="1962" y="829"/>
                  </a:lnTo>
                  <a:lnTo>
                    <a:pt x="1970" y="836"/>
                  </a:lnTo>
                  <a:lnTo>
                    <a:pt x="1980" y="843"/>
                  </a:lnTo>
                  <a:lnTo>
                    <a:pt x="1990" y="849"/>
                  </a:lnTo>
                  <a:lnTo>
                    <a:pt x="2001" y="854"/>
                  </a:lnTo>
                  <a:lnTo>
                    <a:pt x="1997" y="861"/>
                  </a:lnTo>
                  <a:lnTo>
                    <a:pt x="1987" y="867"/>
                  </a:lnTo>
                  <a:lnTo>
                    <a:pt x="1976" y="873"/>
                  </a:lnTo>
                  <a:lnTo>
                    <a:pt x="1969" y="881"/>
                  </a:lnTo>
                  <a:lnTo>
                    <a:pt x="1967" y="890"/>
                  </a:lnTo>
                  <a:lnTo>
                    <a:pt x="1957" y="897"/>
                  </a:lnTo>
                  <a:lnTo>
                    <a:pt x="1955" y="904"/>
                  </a:lnTo>
                  <a:lnTo>
                    <a:pt x="1966" y="911"/>
                  </a:lnTo>
                  <a:lnTo>
                    <a:pt x="1974" y="915"/>
                  </a:lnTo>
                  <a:lnTo>
                    <a:pt x="1987" y="913"/>
                  </a:lnTo>
                  <a:lnTo>
                    <a:pt x="1990" y="921"/>
                  </a:lnTo>
                  <a:lnTo>
                    <a:pt x="2001" y="924"/>
                  </a:lnTo>
                  <a:lnTo>
                    <a:pt x="2008" y="932"/>
                  </a:lnTo>
                  <a:lnTo>
                    <a:pt x="2016" y="938"/>
                  </a:lnTo>
                  <a:lnTo>
                    <a:pt x="2027" y="943"/>
                  </a:lnTo>
                  <a:lnTo>
                    <a:pt x="2051" y="947"/>
                  </a:lnTo>
                  <a:lnTo>
                    <a:pt x="2064" y="952"/>
                  </a:lnTo>
                  <a:lnTo>
                    <a:pt x="2076" y="955"/>
                  </a:lnTo>
                  <a:lnTo>
                    <a:pt x="2085" y="962"/>
                  </a:lnTo>
                  <a:lnTo>
                    <a:pt x="2096" y="966"/>
                  </a:lnTo>
                  <a:lnTo>
                    <a:pt x="2110" y="967"/>
                  </a:lnTo>
                  <a:lnTo>
                    <a:pt x="2121" y="964"/>
                  </a:lnTo>
                  <a:lnTo>
                    <a:pt x="2135" y="963"/>
                  </a:lnTo>
                  <a:lnTo>
                    <a:pt x="2148" y="963"/>
                  </a:lnTo>
                  <a:lnTo>
                    <a:pt x="2159" y="963"/>
                  </a:lnTo>
                  <a:lnTo>
                    <a:pt x="2161" y="952"/>
                  </a:lnTo>
                  <a:lnTo>
                    <a:pt x="2168" y="951"/>
                  </a:lnTo>
                  <a:lnTo>
                    <a:pt x="2177" y="960"/>
                  </a:lnTo>
                  <a:lnTo>
                    <a:pt x="2189" y="963"/>
                  </a:lnTo>
                  <a:lnTo>
                    <a:pt x="2202" y="962"/>
                  </a:lnTo>
                  <a:lnTo>
                    <a:pt x="2215" y="959"/>
                  </a:lnTo>
                  <a:lnTo>
                    <a:pt x="2227" y="957"/>
                  </a:lnTo>
                  <a:lnTo>
                    <a:pt x="2237" y="963"/>
                  </a:lnTo>
                  <a:lnTo>
                    <a:pt x="2250" y="966"/>
                  </a:lnTo>
                  <a:lnTo>
                    <a:pt x="2258" y="973"/>
                  </a:lnTo>
                  <a:lnTo>
                    <a:pt x="2265" y="980"/>
                  </a:lnTo>
                  <a:lnTo>
                    <a:pt x="2276" y="986"/>
                  </a:lnTo>
                  <a:lnTo>
                    <a:pt x="2286" y="991"/>
                  </a:lnTo>
                  <a:lnTo>
                    <a:pt x="2294" y="999"/>
                  </a:lnTo>
                  <a:lnTo>
                    <a:pt x="2305" y="1002"/>
                  </a:lnTo>
                  <a:lnTo>
                    <a:pt x="2317" y="1004"/>
                  </a:lnTo>
                  <a:lnTo>
                    <a:pt x="2324" y="1012"/>
                  </a:lnTo>
                  <a:lnTo>
                    <a:pt x="2332" y="1019"/>
                  </a:lnTo>
                  <a:lnTo>
                    <a:pt x="2352" y="1027"/>
                  </a:lnTo>
                  <a:lnTo>
                    <a:pt x="2345" y="1036"/>
                  </a:lnTo>
                  <a:lnTo>
                    <a:pt x="2338" y="1043"/>
                  </a:lnTo>
                  <a:lnTo>
                    <a:pt x="2332" y="1051"/>
                  </a:lnTo>
                  <a:lnTo>
                    <a:pt x="2321" y="1057"/>
                  </a:lnTo>
                  <a:lnTo>
                    <a:pt x="2308" y="1057"/>
                  </a:lnTo>
                  <a:lnTo>
                    <a:pt x="2296" y="1055"/>
                  </a:lnTo>
                  <a:lnTo>
                    <a:pt x="2283" y="1053"/>
                  </a:lnTo>
                  <a:lnTo>
                    <a:pt x="2271" y="1055"/>
                  </a:lnTo>
                  <a:lnTo>
                    <a:pt x="2261" y="1061"/>
                  </a:lnTo>
                  <a:lnTo>
                    <a:pt x="2247" y="1068"/>
                  </a:lnTo>
                  <a:lnTo>
                    <a:pt x="2243" y="1077"/>
                  </a:lnTo>
                  <a:lnTo>
                    <a:pt x="2244" y="1086"/>
                  </a:lnTo>
                  <a:lnTo>
                    <a:pt x="2250" y="1094"/>
                  </a:lnTo>
                  <a:lnTo>
                    <a:pt x="2254" y="1103"/>
                  </a:lnTo>
                  <a:lnTo>
                    <a:pt x="2248" y="1111"/>
                  </a:lnTo>
                  <a:lnTo>
                    <a:pt x="2247" y="1120"/>
                  </a:lnTo>
                  <a:lnTo>
                    <a:pt x="2245" y="1128"/>
                  </a:lnTo>
                  <a:lnTo>
                    <a:pt x="2233" y="1132"/>
                  </a:lnTo>
                  <a:lnTo>
                    <a:pt x="2222" y="1135"/>
                  </a:lnTo>
                  <a:lnTo>
                    <a:pt x="2212" y="1142"/>
                  </a:lnTo>
                  <a:lnTo>
                    <a:pt x="2209" y="1151"/>
                  </a:lnTo>
                  <a:lnTo>
                    <a:pt x="2212" y="1159"/>
                  </a:lnTo>
                  <a:lnTo>
                    <a:pt x="2224" y="1163"/>
                  </a:lnTo>
                  <a:lnTo>
                    <a:pt x="2233" y="1168"/>
                  </a:lnTo>
                  <a:lnTo>
                    <a:pt x="2233" y="1178"/>
                  </a:lnTo>
                  <a:lnTo>
                    <a:pt x="2230" y="1187"/>
                  </a:lnTo>
                  <a:lnTo>
                    <a:pt x="2222" y="1194"/>
                  </a:lnTo>
                  <a:lnTo>
                    <a:pt x="2212" y="1200"/>
                  </a:lnTo>
                  <a:lnTo>
                    <a:pt x="2201" y="1204"/>
                  </a:lnTo>
                  <a:lnTo>
                    <a:pt x="2188" y="1207"/>
                  </a:lnTo>
                  <a:lnTo>
                    <a:pt x="2175" y="1208"/>
                  </a:lnTo>
                  <a:lnTo>
                    <a:pt x="2163" y="1207"/>
                  </a:lnTo>
                  <a:lnTo>
                    <a:pt x="2150" y="1205"/>
                  </a:lnTo>
                  <a:lnTo>
                    <a:pt x="2149" y="1212"/>
                  </a:lnTo>
                  <a:lnTo>
                    <a:pt x="2155" y="1220"/>
                  </a:lnTo>
                  <a:lnTo>
                    <a:pt x="2156" y="1229"/>
                  </a:lnTo>
                  <a:lnTo>
                    <a:pt x="2153" y="1238"/>
                  </a:lnTo>
                  <a:lnTo>
                    <a:pt x="2143" y="1244"/>
                  </a:lnTo>
                  <a:lnTo>
                    <a:pt x="2132" y="1248"/>
                  </a:lnTo>
                  <a:lnTo>
                    <a:pt x="2121" y="1252"/>
                  </a:lnTo>
                  <a:lnTo>
                    <a:pt x="2111" y="1259"/>
                  </a:lnTo>
                  <a:lnTo>
                    <a:pt x="2100" y="1264"/>
                  </a:lnTo>
                  <a:lnTo>
                    <a:pt x="2089" y="1267"/>
                  </a:lnTo>
                  <a:lnTo>
                    <a:pt x="2076" y="1271"/>
                  </a:lnTo>
                  <a:lnTo>
                    <a:pt x="2064" y="1274"/>
                  </a:lnTo>
                  <a:lnTo>
                    <a:pt x="2051" y="1281"/>
                  </a:lnTo>
                  <a:lnTo>
                    <a:pt x="2034" y="1280"/>
                  </a:lnTo>
                  <a:lnTo>
                    <a:pt x="2027" y="1288"/>
                  </a:lnTo>
                  <a:lnTo>
                    <a:pt x="2016" y="1293"/>
                  </a:lnTo>
                  <a:lnTo>
                    <a:pt x="2005" y="1298"/>
                  </a:lnTo>
                  <a:lnTo>
                    <a:pt x="1997" y="1305"/>
                  </a:lnTo>
                  <a:lnTo>
                    <a:pt x="1991" y="1313"/>
                  </a:lnTo>
                  <a:lnTo>
                    <a:pt x="1985" y="1322"/>
                  </a:lnTo>
                  <a:lnTo>
                    <a:pt x="1974" y="1326"/>
                  </a:lnTo>
                  <a:lnTo>
                    <a:pt x="1962" y="1330"/>
                  </a:lnTo>
                  <a:lnTo>
                    <a:pt x="1950" y="1334"/>
                  </a:lnTo>
                  <a:lnTo>
                    <a:pt x="1938" y="1337"/>
                  </a:lnTo>
                  <a:lnTo>
                    <a:pt x="1925" y="1340"/>
                  </a:lnTo>
                  <a:lnTo>
                    <a:pt x="1913" y="1343"/>
                  </a:lnTo>
                  <a:lnTo>
                    <a:pt x="1901" y="1347"/>
                  </a:lnTo>
                  <a:lnTo>
                    <a:pt x="1889" y="1351"/>
                  </a:lnTo>
                  <a:lnTo>
                    <a:pt x="1876" y="1353"/>
                  </a:lnTo>
                  <a:lnTo>
                    <a:pt x="1867" y="1359"/>
                  </a:lnTo>
                  <a:lnTo>
                    <a:pt x="1861" y="1367"/>
                  </a:lnTo>
                  <a:lnTo>
                    <a:pt x="1858" y="1376"/>
                  </a:lnTo>
                  <a:lnTo>
                    <a:pt x="1860" y="1385"/>
                  </a:lnTo>
                  <a:lnTo>
                    <a:pt x="1860" y="1395"/>
                  </a:lnTo>
                  <a:lnTo>
                    <a:pt x="1854" y="1403"/>
                  </a:lnTo>
                  <a:lnTo>
                    <a:pt x="1848" y="1413"/>
                  </a:lnTo>
                  <a:lnTo>
                    <a:pt x="1841" y="1420"/>
                  </a:lnTo>
                  <a:lnTo>
                    <a:pt x="1830" y="1426"/>
                  </a:lnTo>
                  <a:lnTo>
                    <a:pt x="1819" y="1430"/>
                  </a:lnTo>
                  <a:lnTo>
                    <a:pt x="1806" y="1434"/>
                  </a:lnTo>
                  <a:lnTo>
                    <a:pt x="1794" y="1433"/>
                  </a:lnTo>
                  <a:lnTo>
                    <a:pt x="1781" y="1430"/>
                  </a:lnTo>
                  <a:lnTo>
                    <a:pt x="1769" y="1431"/>
                  </a:lnTo>
                  <a:lnTo>
                    <a:pt x="1760" y="1438"/>
                  </a:lnTo>
                  <a:lnTo>
                    <a:pt x="1751" y="1444"/>
                  </a:lnTo>
                  <a:lnTo>
                    <a:pt x="1741" y="1450"/>
                  </a:lnTo>
                  <a:lnTo>
                    <a:pt x="1732" y="1457"/>
                  </a:lnTo>
                  <a:lnTo>
                    <a:pt x="1728" y="1466"/>
                  </a:lnTo>
                  <a:lnTo>
                    <a:pt x="1728" y="1475"/>
                  </a:lnTo>
                  <a:lnTo>
                    <a:pt x="1728" y="1484"/>
                  </a:lnTo>
                  <a:lnTo>
                    <a:pt x="1720" y="1492"/>
                  </a:lnTo>
                  <a:lnTo>
                    <a:pt x="1710" y="1498"/>
                  </a:lnTo>
                  <a:lnTo>
                    <a:pt x="1702" y="1505"/>
                  </a:lnTo>
                  <a:lnTo>
                    <a:pt x="1692" y="1511"/>
                  </a:lnTo>
                  <a:lnTo>
                    <a:pt x="1681" y="1516"/>
                  </a:lnTo>
                  <a:lnTo>
                    <a:pt x="1668" y="1519"/>
                  </a:lnTo>
                  <a:lnTo>
                    <a:pt x="1655" y="1520"/>
                  </a:lnTo>
                  <a:lnTo>
                    <a:pt x="1643" y="1522"/>
                  </a:lnTo>
                  <a:lnTo>
                    <a:pt x="1630" y="1524"/>
                  </a:lnTo>
                  <a:lnTo>
                    <a:pt x="1616" y="1523"/>
                  </a:lnTo>
                  <a:lnTo>
                    <a:pt x="1605" y="1520"/>
                  </a:lnTo>
                  <a:lnTo>
                    <a:pt x="1593" y="1515"/>
                  </a:lnTo>
                  <a:lnTo>
                    <a:pt x="1597" y="1506"/>
                  </a:lnTo>
                  <a:lnTo>
                    <a:pt x="1591" y="1498"/>
                  </a:lnTo>
                  <a:lnTo>
                    <a:pt x="1600" y="1492"/>
                  </a:lnTo>
                  <a:lnTo>
                    <a:pt x="1601" y="1483"/>
                  </a:lnTo>
                  <a:lnTo>
                    <a:pt x="1600" y="1474"/>
                  </a:lnTo>
                  <a:lnTo>
                    <a:pt x="1591" y="1469"/>
                  </a:lnTo>
                  <a:lnTo>
                    <a:pt x="1590" y="1475"/>
                  </a:lnTo>
                  <a:lnTo>
                    <a:pt x="1579" y="1480"/>
                  </a:lnTo>
                  <a:lnTo>
                    <a:pt x="1566" y="1483"/>
                  </a:lnTo>
                  <a:lnTo>
                    <a:pt x="1553" y="1486"/>
                  </a:lnTo>
                  <a:lnTo>
                    <a:pt x="1541" y="1486"/>
                  </a:lnTo>
                  <a:lnTo>
                    <a:pt x="1528" y="1483"/>
                  </a:lnTo>
                  <a:lnTo>
                    <a:pt x="1514" y="1482"/>
                  </a:lnTo>
                  <a:lnTo>
                    <a:pt x="1503" y="1478"/>
                  </a:lnTo>
                  <a:lnTo>
                    <a:pt x="1503" y="1470"/>
                  </a:lnTo>
                  <a:lnTo>
                    <a:pt x="1495" y="1463"/>
                  </a:lnTo>
                  <a:lnTo>
                    <a:pt x="1485" y="1456"/>
                  </a:lnTo>
                  <a:lnTo>
                    <a:pt x="1477" y="1449"/>
                  </a:lnTo>
                  <a:lnTo>
                    <a:pt x="1468" y="1442"/>
                  </a:lnTo>
                  <a:lnTo>
                    <a:pt x="1460" y="1434"/>
                  </a:lnTo>
                  <a:lnTo>
                    <a:pt x="1451" y="1427"/>
                  </a:lnTo>
                  <a:lnTo>
                    <a:pt x="1444" y="1421"/>
                  </a:lnTo>
                  <a:lnTo>
                    <a:pt x="1436" y="1416"/>
                  </a:lnTo>
                  <a:lnTo>
                    <a:pt x="1433" y="1408"/>
                  </a:lnTo>
                  <a:lnTo>
                    <a:pt x="1425" y="1400"/>
                  </a:lnTo>
                  <a:lnTo>
                    <a:pt x="1416" y="1393"/>
                  </a:lnTo>
                  <a:lnTo>
                    <a:pt x="1412" y="1384"/>
                  </a:lnTo>
                  <a:lnTo>
                    <a:pt x="1421" y="1378"/>
                  </a:lnTo>
                  <a:lnTo>
                    <a:pt x="1419" y="1370"/>
                  </a:lnTo>
                  <a:lnTo>
                    <a:pt x="1425" y="1361"/>
                  </a:lnTo>
                  <a:lnTo>
                    <a:pt x="1432" y="1353"/>
                  </a:lnTo>
                  <a:lnTo>
                    <a:pt x="1436" y="1344"/>
                  </a:lnTo>
                  <a:lnTo>
                    <a:pt x="1440" y="1335"/>
                  </a:lnTo>
                  <a:lnTo>
                    <a:pt x="1439" y="1326"/>
                  </a:lnTo>
                  <a:lnTo>
                    <a:pt x="1436" y="1317"/>
                  </a:lnTo>
                  <a:lnTo>
                    <a:pt x="1433" y="1308"/>
                  </a:lnTo>
                  <a:lnTo>
                    <a:pt x="1428" y="1299"/>
                  </a:lnTo>
                  <a:lnTo>
                    <a:pt x="1422" y="1291"/>
                  </a:lnTo>
                  <a:lnTo>
                    <a:pt x="1416" y="1282"/>
                  </a:lnTo>
                  <a:lnTo>
                    <a:pt x="1411" y="1274"/>
                  </a:lnTo>
                  <a:lnTo>
                    <a:pt x="1400" y="1270"/>
                  </a:lnTo>
                  <a:lnTo>
                    <a:pt x="1387" y="1270"/>
                  </a:lnTo>
                  <a:lnTo>
                    <a:pt x="1373" y="1268"/>
                  </a:lnTo>
                  <a:lnTo>
                    <a:pt x="1360" y="1268"/>
                  </a:lnTo>
                  <a:lnTo>
                    <a:pt x="1347" y="1265"/>
                  </a:lnTo>
                  <a:lnTo>
                    <a:pt x="1347" y="1258"/>
                  </a:lnTo>
                  <a:lnTo>
                    <a:pt x="1352" y="1248"/>
                  </a:lnTo>
                  <a:lnTo>
                    <a:pt x="1345" y="1244"/>
                  </a:lnTo>
                  <a:lnTo>
                    <a:pt x="1330" y="1243"/>
                  </a:lnTo>
                  <a:lnTo>
                    <a:pt x="1319" y="1239"/>
                  </a:lnTo>
                  <a:lnTo>
                    <a:pt x="1307" y="1234"/>
                  </a:lnTo>
                  <a:lnTo>
                    <a:pt x="1298" y="1231"/>
                  </a:lnTo>
                  <a:lnTo>
                    <a:pt x="1299" y="1221"/>
                  </a:lnTo>
                  <a:lnTo>
                    <a:pt x="1295" y="1212"/>
                  </a:lnTo>
                  <a:lnTo>
                    <a:pt x="1288" y="1205"/>
                  </a:lnTo>
                  <a:lnTo>
                    <a:pt x="1288" y="1195"/>
                  </a:lnTo>
                  <a:lnTo>
                    <a:pt x="1275" y="1192"/>
                  </a:lnTo>
                  <a:lnTo>
                    <a:pt x="1265" y="1188"/>
                  </a:lnTo>
                  <a:lnTo>
                    <a:pt x="1263" y="1179"/>
                  </a:lnTo>
                  <a:lnTo>
                    <a:pt x="1260" y="1170"/>
                  </a:lnTo>
                  <a:lnTo>
                    <a:pt x="1257" y="1161"/>
                  </a:lnTo>
                  <a:lnTo>
                    <a:pt x="1251" y="1153"/>
                  </a:lnTo>
                  <a:lnTo>
                    <a:pt x="1250" y="1143"/>
                  </a:lnTo>
                  <a:lnTo>
                    <a:pt x="1247" y="1138"/>
                  </a:lnTo>
                  <a:lnTo>
                    <a:pt x="1233" y="1141"/>
                  </a:lnTo>
                  <a:lnTo>
                    <a:pt x="1221" y="1141"/>
                  </a:lnTo>
                  <a:lnTo>
                    <a:pt x="1208" y="1141"/>
                  </a:lnTo>
                  <a:lnTo>
                    <a:pt x="1194" y="1141"/>
                  </a:lnTo>
                  <a:lnTo>
                    <a:pt x="1182" y="1143"/>
                  </a:lnTo>
                  <a:lnTo>
                    <a:pt x="1170" y="1147"/>
                  </a:lnTo>
                  <a:lnTo>
                    <a:pt x="1159" y="1152"/>
                  </a:lnTo>
                  <a:lnTo>
                    <a:pt x="1147" y="1155"/>
                  </a:lnTo>
                  <a:lnTo>
                    <a:pt x="1134" y="1156"/>
                  </a:lnTo>
                  <a:lnTo>
                    <a:pt x="1121" y="1158"/>
                  </a:lnTo>
                  <a:lnTo>
                    <a:pt x="1109" y="1161"/>
                  </a:lnTo>
                  <a:lnTo>
                    <a:pt x="1098" y="1164"/>
                  </a:lnTo>
                  <a:lnTo>
                    <a:pt x="1085" y="1167"/>
                  </a:lnTo>
                  <a:lnTo>
                    <a:pt x="1073" y="1171"/>
                  </a:lnTo>
                  <a:lnTo>
                    <a:pt x="1063" y="1172"/>
                  </a:lnTo>
                  <a:lnTo>
                    <a:pt x="1053" y="1176"/>
                  </a:lnTo>
                  <a:lnTo>
                    <a:pt x="1042" y="1179"/>
                  </a:lnTo>
                  <a:lnTo>
                    <a:pt x="1050" y="1186"/>
                  </a:lnTo>
                  <a:lnTo>
                    <a:pt x="1059" y="1191"/>
                  </a:lnTo>
                  <a:lnTo>
                    <a:pt x="1061" y="1200"/>
                  </a:lnTo>
                  <a:lnTo>
                    <a:pt x="1067" y="1209"/>
                  </a:lnTo>
                  <a:lnTo>
                    <a:pt x="1077" y="1214"/>
                  </a:lnTo>
                  <a:lnTo>
                    <a:pt x="1089" y="1216"/>
                  </a:lnTo>
                  <a:lnTo>
                    <a:pt x="1102" y="1220"/>
                  </a:lnTo>
                  <a:lnTo>
                    <a:pt x="1112" y="1224"/>
                  </a:lnTo>
                  <a:lnTo>
                    <a:pt x="1100" y="1227"/>
                  </a:lnTo>
                  <a:lnTo>
                    <a:pt x="1086" y="1232"/>
                  </a:lnTo>
                  <a:lnTo>
                    <a:pt x="1078" y="1239"/>
                  </a:lnTo>
                  <a:lnTo>
                    <a:pt x="1070" y="1246"/>
                  </a:lnTo>
                  <a:lnTo>
                    <a:pt x="1059" y="1242"/>
                  </a:lnTo>
                  <a:lnTo>
                    <a:pt x="1046" y="1240"/>
                  </a:lnTo>
                  <a:lnTo>
                    <a:pt x="1033" y="1238"/>
                  </a:lnTo>
                  <a:lnTo>
                    <a:pt x="1021" y="1236"/>
                  </a:lnTo>
                  <a:lnTo>
                    <a:pt x="1008" y="1234"/>
                  </a:lnTo>
                  <a:lnTo>
                    <a:pt x="996" y="1233"/>
                  </a:lnTo>
                  <a:lnTo>
                    <a:pt x="983" y="1233"/>
                  </a:lnTo>
                  <a:lnTo>
                    <a:pt x="970" y="1229"/>
                  </a:lnTo>
                  <a:lnTo>
                    <a:pt x="959" y="1225"/>
                  </a:lnTo>
                  <a:lnTo>
                    <a:pt x="947" y="1221"/>
                  </a:lnTo>
                  <a:lnTo>
                    <a:pt x="936" y="1220"/>
                  </a:lnTo>
                  <a:lnTo>
                    <a:pt x="926" y="1216"/>
                  </a:lnTo>
                  <a:lnTo>
                    <a:pt x="916" y="1210"/>
                  </a:lnTo>
                  <a:lnTo>
                    <a:pt x="905" y="1206"/>
                  </a:lnTo>
                  <a:lnTo>
                    <a:pt x="891" y="1205"/>
                  </a:lnTo>
                  <a:lnTo>
                    <a:pt x="884" y="1198"/>
                  </a:lnTo>
                  <a:lnTo>
                    <a:pt x="880" y="1189"/>
                  </a:lnTo>
                  <a:lnTo>
                    <a:pt x="871" y="1182"/>
                  </a:lnTo>
                  <a:lnTo>
                    <a:pt x="863" y="1175"/>
                  </a:lnTo>
                  <a:lnTo>
                    <a:pt x="856" y="1168"/>
                  </a:lnTo>
                  <a:lnTo>
                    <a:pt x="857" y="1160"/>
                  </a:lnTo>
                  <a:lnTo>
                    <a:pt x="864" y="1152"/>
                  </a:lnTo>
                  <a:lnTo>
                    <a:pt x="871" y="1144"/>
                  </a:lnTo>
                  <a:lnTo>
                    <a:pt x="877" y="1136"/>
                  </a:lnTo>
                  <a:lnTo>
                    <a:pt x="881" y="1127"/>
                  </a:lnTo>
                  <a:lnTo>
                    <a:pt x="873" y="1119"/>
                  </a:lnTo>
                  <a:lnTo>
                    <a:pt x="863" y="1113"/>
                  </a:lnTo>
                  <a:lnTo>
                    <a:pt x="857" y="1105"/>
                  </a:lnTo>
                  <a:lnTo>
                    <a:pt x="854" y="1096"/>
                  </a:lnTo>
                  <a:lnTo>
                    <a:pt x="852" y="1086"/>
                  </a:lnTo>
                  <a:lnTo>
                    <a:pt x="852" y="1077"/>
                  </a:lnTo>
                  <a:lnTo>
                    <a:pt x="849" y="1068"/>
                  </a:lnTo>
                  <a:lnTo>
                    <a:pt x="847" y="1059"/>
                  </a:lnTo>
                  <a:lnTo>
                    <a:pt x="846" y="1049"/>
                  </a:lnTo>
                  <a:lnTo>
                    <a:pt x="845" y="1040"/>
                  </a:lnTo>
                  <a:lnTo>
                    <a:pt x="846" y="1028"/>
                  </a:lnTo>
                  <a:lnTo>
                    <a:pt x="843" y="1020"/>
                  </a:lnTo>
                  <a:lnTo>
                    <a:pt x="835" y="1013"/>
                  </a:lnTo>
                  <a:lnTo>
                    <a:pt x="826" y="1006"/>
                  </a:lnTo>
                  <a:lnTo>
                    <a:pt x="814" y="1009"/>
                  </a:lnTo>
                  <a:lnTo>
                    <a:pt x="800" y="1012"/>
                  </a:lnTo>
                  <a:lnTo>
                    <a:pt x="785" y="1000"/>
                  </a:lnTo>
                  <a:lnTo>
                    <a:pt x="778" y="1004"/>
                  </a:lnTo>
                  <a:lnTo>
                    <a:pt x="772" y="1013"/>
                  </a:lnTo>
                  <a:lnTo>
                    <a:pt x="764" y="1020"/>
                  </a:lnTo>
                  <a:lnTo>
                    <a:pt x="751" y="1023"/>
                  </a:lnTo>
                  <a:lnTo>
                    <a:pt x="738" y="1025"/>
                  </a:lnTo>
                  <a:lnTo>
                    <a:pt x="726" y="1027"/>
                  </a:lnTo>
                  <a:lnTo>
                    <a:pt x="713" y="1030"/>
                  </a:lnTo>
                  <a:lnTo>
                    <a:pt x="701" y="1034"/>
                  </a:lnTo>
                  <a:lnTo>
                    <a:pt x="689" y="1039"/>
                  </a:lnTo>
                  <a:lnTo>
                    <a:pt x="678" y="1043"/>
                  </a:lnTo>
                  <a:lnTo>
                    <a:pt x="666" y="1046"/>
                  </a:lnTo>
                  <a:lnTo>
                    <a:pt x="653" y="1044"/>
                  </a:lnTo>
                  <a:lnTo>
                    <a:pt x="643" y="1038"/>
                  </a:lnTo>
                  <a:lnTo>
                    <a:pt x="631" y="1035"/>
                  </a:lnTo>
                  <a:lnTo>
                    <a:pt x="620" y="1031"/>
                  </a:lnTo>
                  <a:lnTo>
                    <a:pt x="613" y="1023"/>
                  </a:lnTo>
                  <a:lnTo>
                    <a:pt x="603" y="1018"/>
                  </a:lnTo>
                  <a:lnTo>
                    <a:pt x="597" y="1022"/>
                  </a:lnTo>
                  <a:lnTo>
                    <a:pt x="593" y="1031"/>
                  </a:lnTo>
                  <a:lnTo>
                    <a:pt x="593" y="1040"/>
                  </a:lnTo>
                  <a:lnTo>
                    <a:pt x="590" y="1049"/>
                  </a:lnTo>
                  <a:lnTo>
                    <a:pt x="589" y="1059"/>
                  </a:lnTo>
                  <a:lnTo>
                    <a:pt x="589" y="1068"/>
                  </a:lnTo>
                  <a:lnTo>
                    <a:pt x="587" y="1084"/>
                  </a:lnTo>
                  <a:lnTo>
                    <a:pt x="592" y="1094"/>
                  </a:lnTo>
                  <a:lnTo>
                    <a:pt x="583" y="1098"/>
                  </a:lnTo>
                  <a:lnTo>
                    <a:pt x="571" y="1102"/>
                  </a:lnTo>
                  <a:lnTo>
                    <a:pt x="559" y="1107"/>
                  </a:lnTo>
                  <a:lnTo>
                    <a:pt x="550" y="1112"/>
                  </a:lnTo>
                  <a:lnTo>
                    <a:pt x="539" y="1118"/>
                  </a:lnTo>
                  <a:lnTo>
                    <a:pt x="534" y="1127"/>
                  </a:lnTo>
                  <a:lnTo>
                    <a:pt x="530" y="1136"/>
                  </a:lnTo>
                  <a:lnTo>
                    <a:pt x="525" y="1144"/>
                  </a:lnTo>
                  <a:lnTo>
                    <a:pt x="518" y="1152"/>
                  </a:lnTo>
                  <a:lnTo>
                    <a:pt x="506" y="1157"/>
                  </a:lnTo>
                  <a:lnTo>
                    <a:pt x="499" y="1165"/>
                  </a:lnTo>
                  <a:lnTo>
                    <a:pt x="492" y="1173"/>
                  </a:lnTo>
                  <a:lnTo>
                    <a:pt x="483" y="1170"/>
                  </a:lnTo>
                  <a:lnTo>
                    <a:pt x="473" y="1164"/>
                  </a:lnTo>
                  <a:lnTo>
                    <a:pt x="462" y="1158"/>
                  </a:lnTo>
                  <a:lnTo>
                    <a:pt x="450" y="1154"/>
                  </a:lnTo>
                  <a:lnTo>
                    <a:pt x="439" y="1149"/>
                  </a:lnTo>
                  <a:lnTo>
                    <a:pt x="428" y="1144"/>
                  </a:lnTo>
                  <a:lnTo>
                    <a:pt x="418" y="1139"/>
                  </a:lnTo>
                  <a:lnTo>
                    <a:pt x="407" y="1133"/>
                  </a:lnTo>
                  <a:lnTo>
                    <a:pt x="396" y="1129"/>
                  </a:lnTo>
                  <a:lnTo>
                    <a:pt x="383" y="1125"/>
                  </a:lnTo>
                  <a:lnTo>
                    <a:pt x="374" y="1119"/>
                  </a:lnTo>
                  <a:lnTo>
                    <a:pt x="365" y="1115"/>
                  </a:lnTo>
                  <a:lnTo>
                    <a:pt x="351" y="1117"/>
                  </a:lnTo>
                  <a:lnTo>
                    <a:pt x="351" y="1121"/>
                  </a:lnTo>
                  <a:lnTo>
                    <a:pt x="336" y="1121"/>
                  </a:lnTo>
                  <a:lnTo>
                    <a:pt x="327" y="1126"/>
                  </a:lnTo>
                  <a:lnTo>
                    <a:pt x="315" y="1130"/>
                  </a:lnTo>
                  <a:lnTo>
                    <a:pt x="304" y="1134"/>
                  </a:lnTo>
                  <a:lnTo>
                    <a:pt x="291" y="1137"/>
                  </a:lnTo>
                  <a:lnTo>
                    <a:pt x="280" y="1141"/>
                  </a:lnTo>
                  <a:lnTo>
                    <a:pt x="267" y="1146"/>
                  </a:lnTo>
                  <a:lnTo>
                    <a:pt x="263" y="1153"/>
                  </a:lnTo>
                  <a:lnTo>
                    <a:pt x="265" y="1163"/>
                  </a:lnTo>
                  <a:lnTo>
                    <a:pt x="266" y="1172"/>
                  </a:lnTo>
                  <a:lnTo>
                    <a:pt x="267" y="1181"/>
                  </a:lnTo>
                  <a:lnTo>
                    <a:pt x="269" y="1191"/>
                  </a:lnTo>
                  <a:lnTo>
                    <a:pt x="262" y="1197"/>
                  </a:lnTo>
                  <a:lnTo>
                    <a:pt x="251" y="1192"/>
                  </a:lnTo>
                  <a:lnTo>
                    <a:pt x="239" y="1187"/>
                  </a:lnTo>
                  <a:lnTo>
                    <a:pt x="228" y="1183"/>
                  </a:lnTo>
                  <a:lnTo>
                    <a:pt x="216" y="1181"/>
                  </a:lnTo>
                  <a:lnTo>
                    <a:pt x="203" y="1182"/>
                  </a:lnTo>
                  <a:lnTo>
                    <a:pt x="190" y="1187"/>
                  </a:lnTo>
                  <a:lnTo>
                    <a:pt x="172" y="1174"/>
                  </a:lnTo>
                  <a:lnTo>
                    <a:pt x="164" y="1167"/>
                  </a:lnTo>
                  <a:lnTo>
                    <a:pt x="167" y="1158"/>
                  </a:lnTo>
                  <a:lnTo>
                    <a:pt x="169" y="1149"/>
                  </a:lnTo>
                  <a:lnTo>
                    <a:pt x="172" y="1140"/>
                  </a:lnTo>
                  <a:lnTo>
                    <a:pt x="171" y="1131"/>
                  </a:lnTo>
                  <a:lnTo>
                    <a:pt x="165" y="1122"/>
                  </a:lnTo>
                  <a:lnTo>
                    <a:pt x="158" y="1114"/>
                  </a:lnTo>
                  <a:lnTo>
                    <a:pt x="150" y="1107"/>
                  </a:lnTo>
                  <a:lnTo>
                    <a:pt x="143" y="1099"/>
                  </a:lnTo>
                  <a:lnTo>
                    <a:pt x="143" y="1090"/>
                  </a:lnTo>
                  <a:lnTo>
                    <a:pt x="130" y="1086"/>
                  </a:lnTo>
                  <a:lnTo>
                    <a:pt x="135" y="1078"/>
                  </a:lnTo>
                  <a:lnTo>
                    <a:pt x="144" y="1077"/>
                  </a:lnTo>
                  <a:lnTo>
                    <a:pt x="148" y="1068"/>
                  </a:lnTo>
                  <a:lnTo>
                    <a:pt x="136" y="1066"/>
                  </a:lnTo>
                  <a:lnTo>
                    <a:pt x="123" y="1067"/>
                  </a:lnTo>
                  <a:lnTo>
                    <a:pt x="116" y="1061"/>
                  </a:lnTo>
                  <a:lnTo>
                    <a:pt x="104" y="1059"/>
                  </a:lnTo>
                  <a:lnTo>
                    <a:pt x="93" y="1054"/>
                  </a:lnTo>
                  <a:lnTo>
                    <a:pt x="84" y="1046"/>
                  </a:lnTo>
                  <a:lnTo>
                    <a:pt x="77" y="1038"/>
                  </a:lnTo>
                  <a:lnTo>
                    <a:pt x="70" y="1033"/>
                  </a:lnTo>
                  <a:lnTo>
                    <a:pt x="72" y="1024"/>
                  </a:lnTo>
                  <a:lnTo>
                    <a:pt x="67" y="1015"/>
                  </a:lnTo>
                  <a:lnTo>
                    <a:pt x="59" y="1008"/>
                  </a:lnTo>
                  <a:lnTo>
                    <a:pt x="52" y="1000"/>
                  </a:lnTo>
                  <a:lnTo>
                    <a:pt x="44" y="993"/>
                  </a:lnTo>
                  <a:lnTo>
                    <a:pt x="38" y="984"/>
                  </a:lnTo>
                  <a:lnTo>
                    <a:pt x="46" y="977"/>
                  </a:lnTo>
                  <a:lnTo>
                    <a:pt x="59" y="972"/>
                  </a:lnTo>
                  <a:lnTo>
                    <a:pt x="55" y="967"/>
                  </a:lnTo>
                  <a:lnTo>
                    <a:pt x="49" y="961"/>
                  </a:lnTo>
                  <a:lnTo>
                    <a:pt x="56" y="953"/>
                  </a:lnTo>
                  <a:lnTo>
                    <a:pt x="63" y="943"/>
                  </a:lnTo>
                  <a:lnTo>
                    <a:pt x="69" y="934"/>
                  </a:lnTo>
                  <a:lnTo>
                    <a:pt x="66" y="927"/>
                  </a:lnTo>
                  <a:lnTo>
                    <a:pt x="55" y="922"/>
                  </a:lnTo>
                  <a:lnTo>
                    <a:pt x="42" y="917"/>
                  </a:lnTo>
                  <a:lnTo>
                    <a:pt x="34" y="910"/>
                  </a:lnTo>
                  <a:lnTo>
                    <a:pt x="27" y="902"/>
                  </a:lnTo>
                  <a:lnTo>
                    <a:pt x="18" y="895"/>
                  </a:lnTo>
                  <a:lnTo>
                    <a:pt x="10" y="888"/>
                  </a:lnTo>
                  <a:lnTo>
                    <a:pt x="0" y="88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106880" y="1932120"/>
              <a:ext cx="1243080" cy="1207800"/>
            </a:xfrm>
            <a:custGeom>
              <a:avLst/>
              <a:gdLst/>
              <a:ahLst/>
              <a:rect l="l" t="t" r="r" b="b"/>
              <a:pathLst>
                <a:path w="2351" h="1524">
                  <a:moveTo>
                    <a:pt x="0" y="882"/>
                  </a:moveTo>
                  <a:lnTo>
                    <a:pt x="8" y="874"/>
                  </a:lnTo>
                  <a:lnTo>
                    <a:pt x="18" y="868"/>
                  </a:lnTo>
                  <a:lnTo>
                    <a:pt x="28" y="862"/>
                  </a:lnTo>
                  <a:lnTo>
                    <a:pt x="38" y="856"/>
                  </a:lnTo>
                  <a:lnTo>
                    <a:pt x="50" y="851"/>
                  </a:lnTo>
                  <a:lnTo>
                    <a:pt x="57" y="844"/>
                  </a:lnTo>
                  <a:lnTo>
                    <a:pt x="67" y="837"/>
                  </a:lnTo>
                  <a:lnTo>
                    <a:pt x="74" y="828"/>
                  </a:lnTo>
                  <a:lnTo>
                    <a:pt x="84" y="826"/>
                  </a:lnTo>
                  <a:lnTo>
                    <a:pt x="96" y="831"/>
                  </a:lnTo>
                  <a:lnTo>
                    <a:pt x="106" y="838"/>
                  </a:lnTo>
                  <a:lnTo>
                    <a:pt x="112" y="845"/>
                  </a:lnTo>
                  <a:lnTo>
                    <a:pt x="120" y="839"/>
                  </a:lnTo>
                  <a:lnTo>
                    <a:pt x="129" y="830"/>
                  </a:lnTo>
                  <a:lnTo>
                    <a:pt x="136" y="821"/>
                  </a:lnTo>
                  <a:lnTo>
                    <a:pt x="136" y="814"/>
                  </a:lnTo>
                  <a:lnTo>
                    <a:pt x="127" y="811"/>
                  </a:lnTo>
                  <a:lnTo>
                    <a:pt x="136" y="802"/>
                  </a:lnTo>
                  <a:lnTo>
                    <a:pt x="140" y="794"/>
                  </a:lnTo>
                  <a:lnTo>
                    <a:pt x="141" y="788"/>
                  </a:lnTo>
                  <a:lnTo>
                    <a:pt x="137" y="779"/>
                  </a:lnTo>
                  <a:lnTo>
                    <a:pt x="133" y="770"/>
                  </a:lnTo>
                  <a:lnTo>
                    <a:pt x="129" y="761"/>
                  </a:lnTo>
                  <a:lnTo>
                    <a:pt x="124" y="752"/>
                  </a:lnTo>
                  <a:lnTo>
                    <a:pt x="120" y="743"/>
                  </a:lnTo>
                  <a:lnTo>
                    <a:pt x="117" y="735"/>
                  </a:lnTo>
                  <a:lnTo>
                    <a:pt x="127" y="730"/>
                  </a:lnTo>
                  <a:lnTo>
                    <a:pt x="140" y="726"/>
                  </a:lnTo>
                  <a:lnTo>
                    <a:pt x="152" y="722"/>
                  </a:lnTo>
                  <a:lnTo>
                    <a:pt x="161" y="726"/>
                  </a:lnTo>
                  <a:lnTo>
                    <a:pt x="156" y="730"/>
                  </a:lnTo>
                  <a:lnTo>
                    <a:pt x="166" y="737"/>
                  </a:lnTo>
                  <a:lnTo>
                    <a:pt x="173" y="746"/>
                  </a:lnTo>
                  <a:lnTo>
                    <a:pt x="180" y="749"/>
                  </a:lnTo>
                  <a:lnTo>
                    <a:pt x="186" y="741"/>
                  </a:lnTo>
                  <a:lnTo>
                    <a:pt x="182" y="731"/>
                  </a:lnTo>
                  <a:lnTo>
                    <a:pt x="190" y="726"/>
                  </a:lnTo>
                  <a:lnTo>
                    <a:pt x="204" y="726"/>
                  </a:lnTo>
                  <a:lnTo>
                    <a:pt x="215" y="726"/>
                  </a:lnTo>
                  <a:lnTo>
                    <a:pt x="219" y="717"/>
                  </a:lnTo>
                  <a:lnTo>
                    <a:pt x="224" y="708"/>
                  </a:lnTo>
                  <a:lnTo>
                    <a:pt x="236" y="707"/>
                  </a:lnTo>
                  <a:lnTo>
                    <a:pt x="247" y="711"/>
                  </a:lnTo>
                  <a:lnTo>
                    <a:pt x="260" y="713"/>
                  </a:lnTo>
                  <a:lnTo>
                    <a:pt x="271" y="714"/>
                  </a:lnTo>
                  <a:lnTo>
                    <a:pt x="285" y="712"/>
                  </a:lnTo>
                  <a:lnTo>
                    <a:pt x="286" y="707"/>
                  </a:lnTo>
                  <a:lnTo>
                    <a:pt x="280" y="700"/>
                  </a:lnTo>
                  <a:lnTo>
                    <a:pt x="285" y="691"/>
                  </a:lnTo>
                  <a:lnTo>
                    <a:pt x="292" y="684"/>
                  </a:lnTo>
                  <a:lnTo>
                    <a:pt x="293" y="675"/>
                  </a:lnTo>
                  <a:lnTo>
                    <a:pt x="298" y="666"/>
                  </a:lnTo>
                  <a:lnTo>
                    <a:pt x="303" y="658"/>
                  </a:lnTo>
                  <a:lnTo>
                    <a:pt x="312" y="650"/>
                  </a:lnTo>
                  <a:lnTo>
                    <a:pt x="320" y="643"/>
                  </a:lnTo>
                  <a:lnTo>
                    <a:pt x="330" y="637"/>
                  </a:lnTo>
                  <a:lnTo>
                    <a:pt x="340" y="630"/>
                  </a:lnTo>
                  <a:lnTo>
                    <a:pt x="349" y="624"/>
                  </a:lnTo>
                  <a:lnTo>
                    <a:pt x="359" y="618"/>
                  </a:lnTo>
                  <a:lnTo>
                    <a:pt x="366" y="611"/>
                  </a:lnTo>
                  <a:lnTo>
                    <a:pt x="370" y="602"/>
                  </a:lnTo>
                  <a:lnTo>
                    <a:pt x="370" y="592"/>
                  </a:lnTo>
                  <a:lnTo>
                    <a:pt x="369" y="583"/>
                  </a:lnTo>
                  <a:lnTo>
                    <a:pt x="376" y="575"/>
                  </a:lnTo>
                  <a:lnTo>
                    <a:pt x="379" y="565"/>
                  </a:lnTo>
                  <a:lnTo>
                    <a:pt x="369" y="562"/>
                  </a:lnTo>
                  <a:lnTo>
                    <a:pt x="368" y="557"/>
                  </a:lnTo>
                  <a:lnTo>
                    <a:pt x="376" y="549"/>
                  </a:lnTo>
                  <a:lnTo>
                    <a:pt x="377" y="539"/>
                  </a:lnTo>
                  <a:lnTo>
                    <a:pt x="382" y="531"/>
                  </a:lnTo>
                  <a:lnTo>
                    <a:pt x="394" y="528"/>
                  </a:lnTo>
                  <a:lnTo>
                    <a:pt x="405" y="532"/>
                  </a:lnTo>
                  <a:lnTo>
                    <a:pt x="415" y="538"/>
                  </a:lnTo>
                  <a:lnTo>
                    <a:pt x="425" y="545"/>
                  </a:lnTo>
                  <a:lnTo>
                    <a:pt x="432" y="553"/>
                  </a:lnTo>
                  <a:lnTo>
                    <a:pt x="439" y="562"/>
                  </a:lnTo>
                  <a:lnTo>
                    <a:pt x="449" y="568"/>
                  </a:lnTo>
                  <a:lnTo>
                    <a:pt x="461" y="570"/>
                  </a:lnTo>
                  <a:lnTo>
                    <a:pt x="474" y="573"/>
                  </a:lnTo>
                  <a:lnTo>
                    <a:pt x="482" y="580"/>
                  </a:lnTo>
                  <a:lnTo>
                    <a:pt x="491" y="587"/>
                  </a:lnTo>
                  <a:lnTo>
                    <a:pt x="503" y="589"/>
                  </a:lnTo>
                  <a:lnTo>
                    <a:pt x="516" y="588"/>
                  </a:lnTo>
                  <a:lnTo>
                    <a:pt x="528" y="586"/>
                  </a:lnTo>
                  <a:lnTo>
                    <a:pt x="534" y="578"/>
                  </a:lnTo>
                  <a:lnTo>
                    <a:pt x="537" y="569"/>
                  </a:lnTo>
                  <a:lnTo>
                    <a:pt x="541" y="560"/>
                  </a:lnTo>
                  <a:lnTo>
                    <a:pt x="551" y="556"/>
                  </a:lnTo>
                  <a:lnTo>
                    <a:pt x="544" y="548"/>
                  </a:lnTo>
                  <a:lnTo>
                    <a:pt x="534" y="540"/>
                  </a:lnTo>
                  <a:lnTo>
                    <a:pt x="523" y="534"/>
                  </a:lnTo>
                  <a:lnTo>
                    <a:pt x="510" y="535"/>
                  </a:lnTo>
                  <a:lnTo>
                    <a:pt x="499" y="531"/>
                  </a:lnTo>
                  <a:lnTo>
                    <a:pt x="488" y="529"/>
                  </a:lnTo>
                  <a:lnTo>
                    <a:pt x="477" y="525"/>
                  </a:lnTo>
                  <a:lnTo>
                    <a:pt x="465" y="521"/>
                  </a:lnTo>
                  <a:lnTo>
                    <a:pt x="458" y="513"/>
                  </a:lnTo>
                  <a:lnTo>
                    <a:pt x="453" y="508"/>
                  </a:lnTo>
                  <a:lnTo>
                    <a:pt x="447" y="500"/>
                  </a:lnTo>
                  <a:lnTo>
                    <a:pt x="449" y="492"/>
                  </a:lnTo>
                  <a:lnTo>
                    <a:pt x="461" y="490"/>
                  </a:lnTo>
                  <a:lnTo>
                    <a:pt x="474" y="490"/>
                  </a:lnTo>
                  <a:lnTo>
                    <a:pt x="482" y="483"/>
                  </a:lnTo>
                  <a:lnTo>
                    <a:pt x="495" y="482"/>
                  </a:lnTo>
                  <a:lnTo>
                    <a:pt x="507" y="479"/>
                  </a:lnTo>
                  <a:lnTo>
                    <a:pt x="520" y="477"/>
                  </a:lnTo>
                  <a:lnTo>
                    <a:pt x="533" y="480"/>
                  </a:lnTo>
                  <a:lnTo>
                    <a:pt x="544" y="475"/>
                  </a:lnTo>
                  <a:lnTo>
                    <a:pt x="556" y="479"/>
                  </a:lnTo>
                  <a:lnTo>
                    <a:pt x="569" y="478"/>
                  </a:lnTo>
                  <a:lnTo>
                    <a:pt x="580" y="474"/>
                  </a:lnTo>
                  <a:lnTo>
                    <a:pt x="594" y="474"/>
                  </a:lnTo>
                  <a:lnTo>
                    <a:pt x="605" y="477"/>
                  </a:lnTo>
                  <a:lnTo>
                    <a:pt x="607" y="486"/>
                  </a:lnTo>
                  <a:lnTo>
                    <a:pt x="616" y="493"/>
                  </a:lnTo>
                  <a:lnTo>
                    <a:pt x="623" y="501"/>
                  </a:lnTo>
                  <a:lnTo>
                    <a:pt x="635" y="502"/>
                  </a:lnTo>
                  <a:lnTo>
                    <a:pt x="647" y="498"/>
                  </a:lnTo>
                  <a:lnTo>
                    <a:pt x="660" y="499"/>
                  </a:lnTo>
                  <a:lnTo>
                    <a:pt x="672" y="502"/>
                  </a:lnTo>
                  <a:lnTo>
                    <a:pt x="682" y="497"/>
                  </a:lnTo>
                  <a:lnTo>
                    <a:pt x="685" y="489"/>
                  </a:lnTo>
                  <a:lnTo>
                    <a:pt x="697" y="486"/>
                  </a:lnTo>
                  <a:lnTo>
                    <a:pt x="704" y="478"/>
                  </a:lnTo>
                  <a:lnTo>
                    <a:pt x="706" y="469"/>
                  </a:lnTo>
                  <a:lnTo>
                    <a:pt x="709" y="454"/>
                  </a:lnTo>
                  <a:lnTo>
                    <a:pt x="714" y="446"/>
                  </a:lnTo>
                  <a:lnTo>
                    <a:pt x="727" y="443"/>
                  </a:lnTo>
                  <a:lnTo>
                    <a:pt x="737" y="438"/>
                  </a:lnTo>
                  <a:lnTo>
                    <a:pt x="749" y="438"/>
                  </a:lnTo>
                  <a:lnTo>
                    <a:pt x="760" y="435"/>
                  </a:lnTo>
                  <a:lnTo>
                    <a:pt x="769" y="428"/>
                  </a:lnTo>
                  <a:lnTo>
                    <a:pt x="770" y="418"/>
                  </a:lnTo>
                  <a:lnTo>
                    <a:pt x="766" y="410"/>
                  </a:lnTo>
                  <a:lnTo>
                    <a:pt x="766" y="401"/>
                  </a:lnTo>
                  <a:lnTo>
                    <a:pt x="759" y="395"/>
                  </a:lnTo>
                  <a:lnTo>
                    <a:pt x="760" y="386"/>
                  </a:lnTo>
                  <a:lnTo>
                    <a:pt x="772" y="382"/>
                  </a:lnTo>
                  <a:lnTo>
                    <a:pt x="784" y="381"/>
                  </a:lnTo>
                  <a:lnTo>
                    <a:pt x="790" y="373"/>
                  </a:lnTo>
                  <a:lnTo>
                    <a:pt x="800" y="368"/>
                  </a:lnTo>
                  <a:lnTo>
                    <a:pt x="793" y="361"/>
                  </a:lnTo>
                  <a:lnTo>
                    <a:pt x="786" y="355"/>
                  </a:lnTo>
                  <a:lnTo>
                    <a:pt x="780" y="348"/>
                  </a:lnTo>
                  <a:lnTo>
                    <a:pt x="788" y="341"/>
                  </a:lnTo>
                  <a:lnTo>
                    <a:pt x="788" y="332"/>
                  </a:lnTo>
                  <a:lnTo>
                    <a:pt x="800" y="328"/>
                  </a:lnTo>
                  <a:lnTo>
                    <a:pt x="814" y="322"/>
                  </a:lnTo>
                  <a:lnTo>
                    <a:pt x="820" y="315"/>
                  </a:lnTo>
                  <a:lnTo>
                    <a:pt x="833" y="318"/>
                  </a:lnTo>
                  <a:lnTo>
                    <a:pt x="846" y="317"/>
                  </a:lnTo>
                  <a:lnTo>
                    <a:pt x="858" y="314"/>
                  </a:lnTo>
                  <a:lnTo>
                    <a:pt x="871" y="314"/>
                  </a:lnTo>
                  <a:lnTo>
                    <a:pt x="882" y="310"/>
                  </a:lnTo>
                  <a:lnTo>
                    <a:pt x="890" y="308"/>
                  </a:lnTo>
                  <a:lnTo>
                    <a:pt x="883" y="302"/>
                  </a:lnTo>
                  <a:lnTo>
                    <a:pt x="874" y="298"/>
                  </a:lnTo>
                  <a:lnTo>
                    <a:pt x="864" y="294"/>
                  </a:lnTo>
                  <a:lnTo>
                    <a:pt x="857" y="287"/>
                  </a:lnTo>
                  <a:lnTo>
                    <a:pt x="854" y="278"/>
                  </a:lnTo>
                  <a:lnTo>
                    <a:pt x="855" y="269"/>
                  </a:lnTo>
                  <a:lnTo>
                    <a:pt x="854" y="261"/>
                  </a:lnTo>
                  <a:lnTo>
                    <a:pt x="853" y="253"/>
                  </a:lnTo>
                  <a:lnTo>
                    <a:pt x="848" y="244"/>
                  </a:lnTo>
                  <a:lnTo>
                    <a:pt x="851" y="236"/>
                  </a:lnTo>
                  <a:lnTo>
                    <a:pt x="848" y="228"/>
                  </a:lnTo>
                  <a:lnTo>
                    <a:pt x="843" y="220"/>
                  </a:lnTo>
                  <a:lnTo>
                    <a:pt x="853" y="217"/>
                  </a:lnTo>
                  <a:lnTo>
                    <a:pt x="855" y="214"/>
                  </a:lnTo>
                  <a:lnTo>
                    <a:pt x="844" y="210"/>
                  </a:lnTo>
                  <a:lnTo>
                    <a:pt x="839" y="206"/>
                  </a:lnTo>
                  <a:lnTo>
                    <a:pt x="837" y="202"/>
                  </a:lnTo>
                  <a:lnTo>
                    <a:pt x="827" y="200"/>
                  </a:lnTo>
                  <a:lnTo>
                    <a:pt x="818" y="194"/>
                  </a:lnTo>
                  <a:lnTo>
                    <a:pt x="812" y="186"/>
                  </a:lnTo>
                  <a:lnTo>
                    <a:pt x="800" y="182"/>
                  </a:lnTo>
                  <a:lnTo>
                    <a:pt x="797" y="174"/>
                  </a:lnTo>
                  <a:lnTo>
                    <a:pt x="786" y="170"/>
                  </a:lnTo>
                  <a:lnTo>
                    <a:pt x="776" y="167"/>
                  </a:lnTo>
                  <a:lnTo>
                    <a:pt x="767" y="164"/>
                  </a:lnTo>
                  <a:lnTo>
                    <a:pt x="770" y="155"/>
                  </a:lnTo>
                  <a:lnTo>
                    <a:pt x="769" y="147"/>
                  </a:lnTo>
                  <a:lnTo>
                    <a:pt x="763" y="140"/>
                  </a:lnTo>
                  <a:lnTo>
                    <a:pt x="773" y="136"/>
                  </a:lnTo>
                  <a:lnTo>
                    <a:pt x="780" y="131"/>
                  </a:lnTo>
                  <a:lnTo>
                    <a:pt x="788" y="134"/>
                  </a:lnTo>
                  <a:lnTo>
                    <a:pt x="800" y="132"/>
                  </a:lnTo>
                  <a:lnTo>
                    <a:pt x="808" y="127"/>
                  </a:lnTo>
                  <a:lnTo>
                    <a:pt x="819" y="124"/>
                  </a:lnTo>
                  <a:lnTo>
                    <a:pt x="829" y="118"/>
                  </a:lnTo>
                  <a:lnTo>
                    <a:pt x="843" y="118"/>
                  </a:lnTo>
                  <a:lnTo>
                    <a:pt x="855" y="116"/>
                  </a:lnTo>
                  <a:lnTo>
                    <a:pt x="865" y="110"/>
                  </a:lnTo>
                  <a:lnTo>
                    <a:pt x="878" y="110"/>
                  </a:lnTo>
                  <a:lnTo>
                    <a:pt x="889" y="106"/>
                  </a:lnTo>
                  <a:lnTo>
                    <a:pt x="903" y="108"/>
                  </a:lnTo>
                  <a:lnTo>
                    <a:pt x="909" y="100"/>
                  </a:lnTo>
                  <a:lnTo>
                    <a:pt x="914" y="90"/>
                  </a:lnTo>
                  <a:lnTo>
                    <a:pt x="914" y="83"/>
                  </a:lnTo>
                  <a:lnTo>
                    <a:pt x="913" y="74"/>
                  </a:lnTo>
                  <a:lnTo>
                    <a:pt x="920" y="66"/>
                  </a:lnTo>
                  <a:lnTo>
                    <a:pt x="930" y="71"/>
                  </a:lnTo>
                  <a:lnTo>
                    <a:pt x="942" y="69"/>
                  </a:lnTo>
                  <a:lnTo>
                    <a:pt x="955" y="70"/>
                  </a:lnTo>
                  <a:lnTo>
                    <a:pt x="966" y="73"/>
                  </a:lnTo>
                  <a:lnTo>
                    <a:pt x="969" y="64"/>
                  </a:lnTo>
                  <a:lnTo>
                    <a:pt x="974" y="58"/>
                  </a:lnTo>
                  <a:lnTo>
                    <a:pt x="977" y="49"/>
                  </a:lnTo>
                  <a:lnTo>
                    <a:pt x="977" y="41"/>
                  </a:lnTo>
                  <a:lnTo>
                    <a:pt x="990" y="38"/>
                  </a:lnTo>
                  <a:lnTo>
                    <a:pt x="1002" y="29"/>
                  </a:lnTo>
                  <a:lnTo>
                    <a:pt x="1013" y="35"/>
                  </a:lnTo>
                  <a:lnTo>
                    <a:pt x="1022" y="38"/>
                  </a:lnTo>
                  <a:lnTo>
                    <a:pt x="1034" y="36"/>
                  </a:lnTo>
                  <a:lnTo>
                    <a:pt x="1047" y="32"/>
                  </a:lnTo>
                  <a:lnTo>
                    <a:pt x="1060" y="28"/>
                  </a:lnTo>
                  <a:lnTo>
                    <a:pt x="1072" y="24"/>
                  </a:lnTo>
                  <a:lnTo>
                    <a:pt x="1083" y="28"/>
                  </a:lnTo>
                  <a:lnTo>
                    <a:pt x="1096" y="29"/>
                  </a:lnTo>
                  <a:lnTo>
                    <a:pt x="1108" y="34"/>
                  </a:lnTo>
                  <a:lnTo>
                    <a:pt x="1115" y="42"/>
                  </a:lnTo>
                  <a:lnTo>
                    <a:pt x="1127" y="44"/>
                  </a:lnTo>
                  <a:lnTo>
                    <a:pt x="1141" y="43"/>
                  </a:lnTo>
                  <a:lnTo>
                    <a:pt x="1146" y="50"/>
                  </a:lnTo>
                  <a:lnTo>
                    <a:pt x="1146" y="60"/>
                  </a:lnTo>
                  <a:lnTo>
                    <a:pt x="1149" y="69"/>
                  </a:lnTo>
                  <a:lnTo>
                    <a:pt x="1152" y="79"/>
                  </a:lnTo>
                  <a:lnTo>
                    <a:pt x="1157" y="87"/>
                  </a:lnTo>
                  <a:lnTo>
                    <a:pt x="1169" y="89"/>
                  </a:lnTo>
                  <a:lnTo>
                    <a:pt x="1183" y="91"/>
                  </a:lnTo>
                  <a:lnTo>
                    <a:pt x="1194" y="97"/>
                  </a:lnTo>
                  <a:lnTo>
                    <a:pt x="1206" y="99"/>
                  </a:lnTo>
                  <a:lnTo>
                    <a:pt x="1218" y="100"/>
                  </a:lnTo>
                  <a:lnTo>
                    <a:pt x="1218" y="109"/>
                  </a:lnTo>
                  <a:lnTo>
                    <a:pt x="1218" y="120"/>
                  </a:lnTo>
                  <a:lnTo>
                    <a:pt x="1224" y="125"/>
                  </a:lnTo>
                  <a:lnTo>
                    <a:pt x="1237" y="127"/>
                  </a:lnTo>
                  <a:lnTo>
                    <a:pt x="1250" y="130"/>
                  </a:lnTo>
                  <a:lnTo>
                    <a:pt x="1261" y="132"/>
                  </a:lnTo>
                  <a:lnTo>
                    <a:pt x="1275" y="131"/>
                  </a:lnTo>
                  <a:lnTo>
                    <a:pt x="1287" y="129"/>
                  </a:lnTo>
                  <a:lnTo>
                    <a:pt x="1293" y="135"/>
                  </a:lnTo>
                  <a:lnTo>
                    <a:pt x="1307" y="137"/>
                  </a:lnTo>
                  <a:lnTo>
                    <a:pt x="1314" y="131"/>
                  </a:lnTo>
                  <a:lnTo>
                    <a:pt x="1327" y="128"/>
                  </a:lnTo>
                  <a:lnTo>
                    <a:pt x="1331" y="121"/>
                  </a:lnTo>
                  <a:lnTo>
                    <a:pt x="1345" y="121"/>
                  </a:lnTo>
                  <a:lnTo>
                    <a:pt x="1357" y="125"/>
                  </a:lnTo>
                  <a:lnTo>
                    <a:pt x="1368" y="120"/>
                  </a:lnTo>
                  <a:lnTo>
                    <a:pt x="1370" y="112"/>
                  </a:lnTo>
                  <a:lnTo>
                    <a:pt x="1371" y="104"/>
                  </a:lnTo>
                  <a:lnTo>
                    <a:pt x="1367" y="96"/>
                  </a:lnTo>
                  <a:lnTo>
                    <a:pt x="1373" y="86"/>
                  </a:lnTo>
                  <a:lnTo>
                    <a:pt x="1378" y="78"/>
                  </a:lnTo>
                  <a:lnTo>
                    <a:pt x="1378" y="68"/>
                  </a:lnTo>
                  <a:lnTo>
                    <a:pt x="1385" y="65"/>
                  </a:lnTo>
                  <a:lnTo>
                    <a:pt x="1398" y="71"/>
                  </a:lnTo>
                  <a:lnTo>
                    <a:pt x="1409" y="76"/>
                  </a:lnTo>
                  <a:lnTo>
                    <a:pt x="1417" y="71"/>
                  </a:lnTo>
                  <a:lnTo>
                    <a:pt x="1430" y="68"/>
                  </a:lnTo>
                  <a:lnTo>
                    <a:pt x="1441" y="64"/>
                  </a:lnTo>
                  <a:lnTo>
                    <a:pt x="1448" y="71"/>
                  </a:lnTo>
                  <a:lnTo>
                    <a:pt x="1451" y="79"/>
                  </a:lnTo>
                  <a:lnTo>
                    <a:pt x="1452" y="85"/>
                  </a:lnTo>
                  <a:lnTo>
                    <a:pt x="1454" y="92"/>
                  </a:lnTo>
                  <a:lnTo>
                    <a:pt x="1465" y="96"/>
                  </a:lnTo>
                  <a:lnTo>
                    <a:pt x="1473" y="103"/>
                  </a:lnTo>
                  <a:lnTo>
                    <a:pt x="1486" y="104"/>
                  </a:lnTo>
                  <a:lnTo>
                    <a:pt x="1496" y="110"/>
                  </a:lnTo>
                  <a:lnTo>
                    <a:pt x="1503" y="118"/>
                  </a:lnTo>
                  <a:lnTo>
                    <a:pt x="1511" y="122"/>
                  </a:lnTo>
                  <a:lnTo>
                    <a:pt x="1517" y="131"/>
                  </a:lnTo>
                  <a:lnTo>
                    <a:pt x="1529" y="127"/>
                  </a:lnTo>
                  <a:lnTo>
                    <a:pt x="1524" y="119"/>
                  </a:lnTo>
                  <a:lnTo>
                    <a:pt x="1529" y="110"/>
                  </a:lnTo>
                  <a:lnTo>
                    <a:pt x="1522" y="104"/>
                  </a:lnTo>
                  <a:lnTo>
                    <a:pt x="1529" y="96"/>
                  </a:lnTo>
                  <a:lnTo>
                    <a:pt x="1529" y="86"/>
                  </a:lnTo>
                  <a:lnTo>
                    <a:pt x="1536" y="78"/>
                  </a:lnTo>
                  <a:lnTo>
                    <a:pt x="1543" y="71"/>
                  </a:lnTo>
                  <a:lnTo>
                    <a:pt x="1552" y="66"/>
                  </a:lnTo>
                  <a:lnTo>
                    <a:pt x="1552" y="56"/>
                  </a:lnTo>
                  <a:lnTo>
                    <a:pt x="1556" y="48"/>
                  </a:lnTo>
                  <a:lnTo>
                    <a:pt x="1568" y="44"/>
                  </a:lnTo>
                  <a:lnTo>
                    <a:pt x="1580" y="46"/>
                  </a:lnTo>
                  <a:lnTo>
                    <a:pt x="1588" y="38"/>
                  </a:lnTo>
                  <a:lnTo>
                    <a:pt x="1591" y="30"/>
                  </a:lnTo>
                  <a:lnTo>
                    <a:pt x="1584" y="22"/>
                  </a:lnTo>
                  <a:lnTo>
                    <a:pt x="1577" y="13"/>
                  </a:lnTo>
                  <a:lnTo>
                    <a:pt x="1580" y="9"/>
                  </a:lnTo>
                  <a:lnTo>
                    <a:pt x="1591" y="7"/>
                  </a:lnTo>
                  <a:lnTo>
                    <a:pt x="1605" y="6"/>
                  </a:lnTo>
                  <a:lnTo>
                    <a:pt x="1615" y="0"/>
                  </a:lnTo>
                  <a:lnTo>
                    <a:pt x="1622" y="6"/>
                  </a:lnTo>
                  <a:lnTo>
                    <a:pt x="1635" y="7"/>
                  </a:lnTo>
                  <a:lnTo>
                    <a:pt x="1645" y="8"/>
                  </a:lnTo>
                  <a:lnTo>
                    <a:pt x="1656" y="8"/>
                  </a:lnTo>
                  <a:lnTo>
                    <a:pt x="1668" y="3"/>
                  </a:lnTo>
                  <a:lnTo>
                    <a:pt x="1677" y="0"/>
                  </a:lnTo>
                  <a:lnTo>
                    <a:pt x="1691" y="2"/>
                  </a:lnTo>
                  <a:lnTo>
                    <a:pt x="1704" y="4"/>
                  </a:lnTo>
                  <a:lnTo>
                    <a:pt x="1701" y="12"/>
                  </a:lnTo>
                  <a:lnTo>
                    <a:pt x="1712" y="15"/>
                  </a:lnTo>
                  <a:lnTo>
                    <a:pt x="1718" y="23"/>
                  </a:lnTo>
                  <a:lnTo>
                    <a:pt x="1719" y="33"/>
                  </a:lnTo>
                  <a:lnTo>
                    <a:pt x="1725" y="42"/>
                  </a:lnTo>
                  <a:lnTo>
                    <a:pt x="1738" y="42"/>
                  </a:lnTo>
                  <a:lnTo>
                    <a:pt x="1746" y="47"/>
                  </a:lnTo>
                  <a:lnTo>
                    <a:pt x="1745" y="56"/>
                  </a:lnTo>
                  <a:lnTo>
                    <a:pt x="1746" y="65"/>
                  </a:lnTo>
                  <a:lnTo>
                    <a:pt x="1750" y="74"/>
                  </a:lnTo>
                  <a:lnTo>
                    <a:pt x="1761" y="80"/>
                  </a:lnTo>
                  <a:lnTo>
                    <a:pt x="1764" y="88"/>
                  </a:lnTo>
                  <a:lnTo>
                    <a:pt x="1764" y="99"/>
                  </a:lnTo>
                  <a:lnTo>
                    <a:pt x="1763" y="108"/>
                  </a:lnTo>
                  <a:lnTo>
                    <a:pt x="1760" y="117"/>
                  </a:lnTo>
                  <a:lnTo>
                    <a:pt x="1763" y="126"/>
                  </a:lnTo>
                  <a:lnTo>
                    <a:pt x="1770" y="134"/>
                  </a:lnTo>
                  <a:lnTo>
                    <a:pt x="1778" y="142"/>
                  </a:lnTo>
                  <a:lnTo>
                    <a:pt x="1785" y="149"/>
                  </a:lnTo>
                  <a:lnTo>
                    <a:pt x="1788" y="159"/>
                  </a:lnTo>
                  <a:lnTo>
                    <a:pt x="1792" y="167"/>
                  </a:lnTo>
                  <a:lnTo>
                    <a:pt x="1802" y="175"/>
                  </a:lnTo>
                  <a:lnTo>
                    <a:pt x="1803" y="182"/>
                  </a:lnTo>
                  <a:lnTo>
                    <a:pt x="1793" y="189"/>
                  </a:lnTo>
                  <a:lnTo>
                    <a:pt x="1781" y="191"/>
                  </a:lnTo>
                  <a:lnTo>
                    <a:pt x="1767" y="193"/>
                  </a:lnTo>
                  <a:lnTo>
                    <a:pt x="1756" y="195"/>
                  </a:lnTo>
                  <a:lnTo>
                    <a:pt x="1760" y="204"/>
                  </a:lnTo>
                  <a:lnTo>
                    <a:pt x="1761" y="213"/>
                  </a:lnTo>
                  <a:lnTo>
                    <a:pt x="1768" y="220"/>
                  </a:lnTo>
                  <a:lnTo>
                    <a:pt x="1778" y="227"/>
                  </a:lnTo>
                  <a:lnTo>
                    <a:pt x="1779" y="236"/>
                  </a:lnTo>
                  <a:lnTo>
                    <a:pt x="1782" y="245"/>
                  </a:lnTo>
                  <a:lnTo>
                    <a:pt x="1784" y="254"/>
                  </a:lnTo>
                  <a:lnTo>
                    <a:pt x="1781" y="264"/>
                  </a:lnTo>
                  <a:lnTo>
                    <a:pt x="1775" y="272"/>
                  </a:lnTo>
                  <a:lnTo>
                    <a:pt x="1767" y="278"/>
                  </a:lnTo>
                  <a:lnTo>
                    <a:pt x="1768" y="287"/>
                  </a:lnTo>
                  <a:lnTo>
                    <a:pt x="1764" y="296"/>
                  </a:lnTo>
                  <a:lnTo>
                    <a:pt x="1761" y="305"/>
                  </a:lnTo>
                  <a:lnTo>
                    <a:pt x="1763" y="314"/>
                  </a:lnTo>
                  <a:lnTo>
                    <a:pt x="1760" y="323"/>
                  </a:lnTo>
                  <a:lnTo>
                    <a:pt x="1760" y="332"/>
                  </a:lnTo>
                  <a:lnTo>
                    <a:pt x="1752" y="337"/>
                  </a:lnTo>
                  <a:lnTo>
                    <a:pt x="1740" y="340"/>
                  </a:lnTo>
                  <a:lnTo>
                    <a:pt x="1735" y="348"/>
                  </a:lnTo>
                  <a:lnTo>
                    <a:pt x="1731" y="357"/>
                  </a:lnTo>
                  <a:lnTo>
                    <a:pt x="1726" y="367"/>
                  </a:lnTo>
                  <a:lnTo>
                    <a:pt x="1722" y="375"/>
                  </a:lnTo>
                  <a:lnTo>
                    <a:pt x="1710" y="376"/>
                  </a:lnTo>
                  <a:lnTo>
                    <a:pt x="1712" y="385"/>
                  </a:lnTo>
                  <a:lnTo>
                    <a:pt x="1724" y="389"/>
                  </a:lnTo>
                  <a:lnTo>
                    <a:pt x="1732" y="396"/>
                  </a:lnTo>
                  <a:lnTo>
                    <a:pt x="1743" y="401"/>
                  </a:lnTo>
                  <a:lnTo>
                    <a:pt x="1752" y="407"/>
                  </a:lnTo>
                  <a:lnTo>
                    <a:pt x="1757" y="415"/>
                  </a:lnTo>
                  <a:lnTo>
                    <a:pt x="1768" y="421"/>
                  </a:lnTo>
                  <a:lnTo>
                    <a:pt x="1778" y="426"/>
                  </a:lnTo>
                  <a:lnTo>
                    <a:pt x="1788" y="433"/>
                  </a:lnTo>
                  <a:lnTo>
                    <a:pt x="1799" y="438"/>
                  </a:lnTo>
                  <a:lnTo>
                    <a:pt x="1807" y="441"/>
                  </a:lnTo>
                  <a:lnTo>
                    <a:pt x="1814" y="440"/>
                  </a:lnTo>
                  <a:lnTo>
                    <a:pt x="1826" y="443"/>
                  </a:lnTo>
                  <a:lnTo>
                    <a:pt x="1834" y="451"/>
                  </a:lnTo>
                  <a:lnTo>
                    <a:pt x="1840" y="460"/>
                  </a:lnTo>
                  <a:lnTo>
                    <a:pt x="1835" y="465"/>
                  </a:lnTo>
                  <a:lnTo>
                    <a:pt x="1823" y="469"/>
                  </a:lnTo>
                  <a:lnTo>
                    <a:pt x="1817" y="475"/>
                  </a:lnTo>
                  <a:lnTo>
                    <a:pt x="1807" y="479"/>
                  </a:lnTo>
                  <a:lnTo>
                    <a:pt x="1800" y="483"/>
                  </a:lnTo>
                  <a:lnTo>
                    <a:pt x="1792" y="490"/>
                  </a:lnTo>
                  <a:lnTo>
                    <a:pt x="1795" y="498"/>
                  </a:lnTo>
                  <a:lnTo>
                    <a:pt x="1803" y="506"/>
                  </a:lnTo>
                  <a:lnTo>
                    <a:pt x="1805" y="512"/>
                  </a:lnTo>
                  <a:lnTo>
                    <a:pt x="1793" y="507"/>
                  </a:lnTo>
                  <a:lnTo>
                    <a:pt x="1782" y="511"/>
                  </a:lnTo>
                  <a:lnTo>
                    <a:pt x="1770" y="512"/>
                  </a:lnTo>
                  <a:lnTo>
                    <a:pt x="1761" y="508"/>
                  </a:lnTo>
                  <a:lnTo>
                    <a:pt x="1754" y="505"/>
                  </a:lnTo>
                  <a:lnTo>
                    <a:pt x="1743" y="503"/>
                  </a:lnTo>
                  <a:lnTo>
                    <a:pt x="1732" y="507"/>
                  </a:lnTo>
                  <a:lnTo>
                    <a:pt x="1731" y="516"/>
                  </a:lnTo>
                  <a:lnTo>
                    <a:pt x="1722" y="519"/>
                  </a:lnTo>
                  <a:lnTo>
                    <a:pt x="1710" y="523"/>
                  </a:lnTo>
                  <a:lnTo>
                    <a:pt x="1705" y="531"/>
                  </a:lnTo>
                  <a:lnTo>
                    <a:pt x="1708" y="539"/>
                  </a:lnTo>
                  <a:lnTo>
                    <a:pt x="1710" y="548"/>
                  </a:lnTo>
                  <a:lnTo>
                    <a:pt x="1718" y="556"/>
                  </a:lnTo>
                  <a:lnTo>
                    <a:pt x="1722" y="565"/>
                  </a:lnTo>
                  <a:lnTo>
                    <a:pt x="1729" y="573"/>
                  </a:lnTo>
                  <a:lnTo>
                    <a:pt x="1739" y="578"/>
                  </a:lnTo>
                  <a:lnTo>
                    <a:pt x="1752" y="581"/>
                  </a:lnTo>
                  <a:lnTo>
                    <a:pt x="1764" y="583"/>
                  </a:lnTo>
                  <a:lnTo>
                    <a:pt x="1777" y="585"/>
                  </a:lnTo>
                  <a:lnTo>
                    <a:pt x="1789" y="588"/>
                  </a:lnTo>
                  <a:lnTo>
                    <a:pt x="1800" y="592"/>
                  </a:lnTo>
                  <a:lnTo>
                    <a:pt x="1812" y="597"/>
                  </a:lnTo>
                  <a:lnTo>
                    <a:pt x="1819" y="605"/>
                  </a:lnTo>
                  <a:lnTo>
                    <a:pt x="1821" y="614"/>
                  </a:lnTo>
                  <a:lnTo>
                    <a:pt x="1823" y="623"/>
                  </a:lnTo>
                  <a:lnTo>
                    <a:pt x="1828" y="632"/>
                  </a:lnTo>
                  <a:lnTo>
                    <a:pt x="1834" y="640"/>
                  </a:lnTo>
                  <a:lnTo>
                    <a:pt x="1837" y="649"/>
                  </a:lnTo>
                  <a:lnTo>
                    <a:pt x="1837" y="659"/>
                  </a:lnTo>
                  <a:lnTo>
                    <a:pt x="1837" y="668"/>
                  </a:lnTo>
                  <a:lnTo>
                    <a:pt x="1833" y="676"/>
                  </a:lnTo>
                  <a:lnTo>
                    <a:pt x="1826" y="680"/>
                  </a:lnTo>
                  <a:lnTo>
                    <a:pt x="1819" y="688"/>
                  </a:lnTo>
                  <a:lnTo>
                    <a:pt x="1816" y="696"/>
                  </a:lnTo>
                  <a:lnTo>
                    <a:pt x="1814" y="703"/>
                  </a:lnTo>
                  <a:lnTo>
                    <a:pt x="1813" y="712"/>
                  </a:lnTo>
                  <a:lnTo>
                    <a:pt x="1817" y="721"/>
                  </a:lnTo>
                  <a:lnTo>
                    <a:pt x="1824" y="728"/>
                  </a:lnTo>
                  <a:lnTo>
                    <a:pt x="1830" y="733"/>
                  </a:lnTo>
                  <a:lnTo>
                    <a:pt x="1840" y="739"/>
                  </a:lnTo>
                  <a:lnTo>
                    <a:pt x="1849" y="746"/>
                  </a:lnTo>
                  <a:lnTo>
                    <a:pt x="1852" y="754"/>
                  </a:lnTo>
                  <a:lnTo>
                    <a:pt x="1855" y="761"/>
                  </a:lnTo>
                  <a:lnTo>
                    <a:pt x="1862" y="769"/>
                  </a:lnTo>
                  <a:lnTo>
                    <a:pt x="1869" y="777"/>
                  </a:lnTo>
                  <a:lnTo>
                    <a:pt x="1876" y="785"/>
                  </a:lnTo>
                  <a:lnTo>
                    <a:pt x="1889" y="785"/>
                  </a:lnTo>
                  <a:lnTo>
                    <a:pt x="1898" y="788"/>
                  </a:lnTo>
                  <a:lnTo>
                    <a:pt x="1904" y="797"/>
                  </a:lnTo>
                  <a:lnTo>
                    <a:pt x="1916" y="799"/>
                  </a:lnTo>
                  <a:lnTo>
                    <a:pt x="1922" y="807"/>
                  </a:lnTo>
                  <a:lnTo>
                    <a:pt x="1932" y="813"/>
                  </a:lnTo>
                  <a:lnTo>
                    <a:pt x="1939" y="821"/>
                  </a:lnTo>
                  <a:lnTo>
                    <a:pt x="1950" y="827"/>
                  </a:lnTo>
                  <a:lnTo>
                    <a:pt x="1961" y="829"/>
                  </a:lnTo>
                  <a:lnTo>
                    <a:pt x="1970" y="836"/>
                  </a:lnTo>
                  <a:lnTo>
                    <a:pt x="1979" y="843"/>
                  </a:lnTo>
                  <a:lnTo>
                    <a:pt x="1989" y="849"/>
                  </a:lnTo>
                  <a:lnTo>
                    <a:pt x="2000" y="854"/>
                  </a:lnTo>
                  <a:lnTo>
                    <a:pt x="1996" y="861"/>
                  </a:lnTo>
                  <a:lnTo>
                    <a:pt x="1986" y="867"/>
                  </a:lnTo>
                  <a:lnTo>
                    <a:pt x="1975" y="873"/>
                  </a:lnTo>
                  <a:lnTo>
                    <a:pt x="1968" y="881"/>
                  </a:lnTo>
                  <a:lnTo>
                    <a:pt x="1967" y="890"/>
                  </a:lnTo>
                  <a:lnTo>
                    <a:pt x="1957" y="897"/>
                  </a:lnTo>
                  <a:lnTo>
                    <a:pt x="1954" y="904"/>
                  </a:lnTo>
                  <a:lnTo>
                    <a:pt x="1965" y="911"/>
                  </a:lnTo>
                  <a:lnTo>
                    <a:pt x="1974" y="915"/>
                  </a:lnTo>
                  <a:lnTo>
                    <a:pt x="1986" y="913"/>
                  </a:lnTo>
                  <a:lnTo>
                    <a:pt x="1989" y="921"/>
                  </a:lnTo>
                  <a:lnTo>
                    <a:pt x="2000" y="924"/>
                  </a:lnTo>
                  <a:lnTo>
                    <a:pt x="2007" y="932"/>
                  </a:lnTo>
                  <a:lnTo>
                    <a:pt x="2016" y="938"/>
                  </a:lnTo>
                  <a:lnTo>
                    <a:pt x="2027" y="943"/>
                  </a:lnTo>
                  <a:lnTo>
                    <a:pt x="2051" y="947"/>
                  </a:lnTo>
                  <a:lnTo>
                    <a:pt x="2063" y="951"/>
                  </a:lnTo>
                  <a:lnTo>
                    <a:pt x="2076" y="954"/>
                  </a:lnTo>
                  <a:lnTo>
                    <a:pt x="2084" y="961"/>
                  </a:lnTo>
                  <a:lnTo>
                    <a:pt x="2095" y="965"/>
                  </a:lnTo>
                  <a:lnTo>
                    <a:pt x="2109" y="966"/>
                  </a:lnTo>
                  <a:lnTo>
                    <a:pt x="2121" y="963"/>
                  </a:lnTo>
                  <a:lnTo>
                    <a:pt x="2135" y="962"/>
                  </a:lnTo>
                  <a:lnTo>
                    <a:pt x="2147" y="962"/>
                  </a:lnTo>
                  <a:lnTo>
                    <a:pt x="2158" y="962"/>
                  </a:lnTo>
                  <a:lnTo>
                    <a:pt x="2161" y="951"/>
                  </a:lnTo>
                  <a:lnTo>
                    <a:pt x="2168" y="950"/>
                  </a:lnTo>
                  <a:lnTo>
                    <a:pt x="2176" y="959"/>
                  </a:lnTo>
                  <a:lnTo>
                    <a:pt x="2189" y="962"/>
                  </a:lnTo>
                  <a:lnTo>
                    <a:pt x="2202" y="961"/>
                  </a:lnTo>
                  <a:lnTo>
                    <a:pt x="2214" y="958"/>
                  </a:lnTo>
                  <a:lnTo>
                    <a:pt x="2227" y="956"/>
                  </a:lnTo>
                  <a:lnTo>
                    <a:pt x="2237" y="962"/>
                  </a:lnTo>
                  <a:lnTo>
                    <a:pt x="2249" y="965"/>
                  </a:lnTo>
                  <a:lnTo>
                    <a:pt x="2258" y="972"/>
                  </a:lnTo>
                  <a:lnTo>
                    <a:pt x="2265" y="979"/>
                  </a:lnTo>
                  <a:lnTo>
                    <a:pt x="2276" y="985"/>
                  </a:lnTo>
                  <a:lnTo>
                    <a:pt x="2286" y="990"/>
                  </a:lnTo>
                  <a:lnTo>
                    <a:pt x="2294" y="998"/>
                  </a:lnTo>
                  <a:lnTo>
                    <a:pt x="2305" y="1001"/>
                  </a:lnTo>
                  <a:lnTo>
                    <a:pt x="2316" y="1003"/>
                  </a:lnTo>
                  <a:lnTo>
                    <a:pt x="2323" y="1012"/>
                  </a:lnTo>
                  <a:lnTo>
                    <a:pt x="2332" y="1019"/>
                  </a:lnTo>
                  <a:lnTo>
                    <a:pt x="2351" y="1027"/>
                  </a:lnTo>
                  <a:lnTo>
                    <a:pt x="2344" y="1036"/>
                  </a:lnTo>
                  <a:lnTo>
                    <a:pt x="2337" y="1043"/>
                  </a:lnTo>
                  <a:lnTo>
                    <a:pt x="2332" y="1051"/>
                  </a:lnTo>
                  <a:lnTo>
                    <a:pt x="2320" y="1057"/>
                  </a:lnTo>
                  <a:lnTo>
                    <a:pt x="2308" y="1057"/>
                  </a:lnTo>
                  <a:lnTo>
                    <a:pt x="2295" y="1055"/>
                  </a:lnTo>
                  <a:lnTo>
                    <a:pt x="2283" y="1053"/>
                  </a:lnTo>
                  <a:lnTo>
                    <a:pt x="2270" y="1055"/>
                  </a:lnTo>
                  <a:lnTo>
                    <a:pt x="2260" y="1061"/>
                  </a:lnTo>
                  <a:lnTo>
                    <a:pt x="2246" y="1068"/>
                  </a:lnTo>
                  <a:lnTo>
                    <a:pt x="2242" y="1077"/>
                  </a:lnTo>
                  <a:lnTo>
                    <a:pt x="2244" y="1086"/>
                  </a:lnTo>
                  <a:lnTo>
                    <a:pt x="2249" y="1094"/>
                  </a:lnTo>
                  <a:lnTo>
                    <a:pt x="2253" y="1103"/>
                  </a:lnTo>
                  <a:lnTo>
                    <a:pt x="2248" y="1111"/>
                  </a:lnTo>
                  <a:lnTo>
                    <a:pt x="2246" y="1120"/>
                  </a:lnTo>
                  <a:lnTo>
                    <a:pt x="2245" y="1128"/>
                  </a:lnTo>
                  <a:lnTo>
                    <a:pt x="2232" y="1132"/>
                  </a:lnTo>
                  <a:lnTo>
                    <a:pt x="2221" y="1135"/>
                  </a:lnTo>
                  <a:lnTo>
                    <a:pt x="2211" y="1142"/>
                  </a:lnTo>
                  <a:lnTo>
                    <a:pt x="2209" y="1151"/>
                  </a:lnTo>
                  <a:lnTo>
                    <a:pt x="2211" y="1159"/>
                  </a:lnTo>
                  <a:lnTo>
                    <a:pt x="2224" y="1163"/>
                  </a:lnTo>
                  <a:lnTo>
                    <a:pt x="2232" y="1168"/>
                  </a:lnTo>
                  <a:lnTo>
                    <a:pt x="2232" y="1178"/>
                  </a:lnTo>
                  <a:lnTo>
                    <a:pt x="2230" y="1187"/>
                  </a:lnTo>
                  <a:lnTo>
                    <a:pt x="2221" y="1194"/>
                  </a:lnTo>
                  <a:lnTo>
                    <a:pt x="2211" y="1200"/>
                  </a:lnTo>
                  <a:lnTo>
                    <a:pt x="2200" y="1204"/>
                  </a:lnTo>
                  <a:lnTo>
                    <a:pt x="2188" y="1207"/>
                  </a:lnTo>
                  <a:lnTo>
                    <a:pt x="2175" y="1208"/>
                  </a:lnTo>
                  <a:lnTo>
                    <a:pt x="2163" y="1207"/>
                  </a:lnTo>
                  <a:lnTo>
                    <a:pt x="2150" y="1205"/>
                  </a:lnTo>
                  <a:lnTo>
                    <a:pt x="2149" y="1212"/>
                  </a:lnTo>
                  <a:lnTo>
                    <a:pt x="2154" y="1220"/>
                  </a:lnTo>
                  <a:lnTo>
                    <a:pt x="2156" y="1229"/>
                  </a:lnTo>
                  <a:lnTo>
                    <a:pt x="2153" y="1238"/>
                  </a:lnTo>
                  <a:lnTo>
                    <a:pt x="2143" y="1244"/>
                  </a:lnTo>
                  <a:lnTo>
                    <a:pt x="2132" y="1248"/>
                  </a:lnTo>
                  <a:lnTo>
                    <a:pt x="2121" y="1252"/>
                  </a:lnTo>
                  <a:lnTo>
                    <a:pt x="2111" y="1259"/>
                  </a:lnTo>
                  <a:lnTo>
                    <a:pt x="2100" y="1264"/>
                  </a:lnTo>
                  <a:lnTo>
                    <a:pt x="2088" y="1267"/>
                  </a:lnTo>
                  <a:lnTo>
                    <a:pt x="2076" y="1271"/>
                  </a:lnTo>
                  <a:lnTo>
                    <a:pt x="2063" y="1274"/>
                  </a:lnTo>
                  <a:lnTo>
                    <a:pt x="2051" y="1281"/>
                  </a:lnTo>
                  <a:lnTo>
                    <a:pt x="2034" y="1280"/>
                  </a:lnTo>
                  <a:lnTo>
                    <a:pt x="2027" y="1288"/>
                  </a:lnTo>
                  <a:lnTo>
                    <a:pt x="2016" y="1293"/>
                  </a:lnTo>
                  <a:lnTo>
                    <a:pt x="2005" y="1298"/>
                  </a:lnTo>
                  <a:lnTo>
                    <a:pt x="1996" y="1305"/>
                  </a:lnTo>
                  <a:lnTo>
                    <a:pt x="1991" y="1313"/>
                  </a:lnTo>
                  <a:lnTo>
                    <a:pt x="1985" y="1322"/>
                  </a:lnTo>
                  <a:lnTo>
                    <a:pt x="1974" y="1326"/>
                  </a:lnTo>
                  <a:lnTo>
                    <a:pt x="1961" y="1330"/>
                  </a:lnTo>
                  <a:lnTo>
                    <a:pt x="1950" y="1334"/>
                  </a:lnTo>
                  <a:lnTo>
                    <a:pt x="1937" y="1337"/>
                  </a:lnTo>
                  <a:lnTo>
                    <a:pt x="1925" y="1340"/>
                  </a:lnTo>
                  <a:lnTo>
                    <a:pt x="1912" y="1343"/>
                  </a:lnTo>
                  <a:lnTo>
                    <a:pt x="1901" y="1347"/>
                  </a:lnTo>
                  <a:lnTo>
                    <a:pt x="1889" y="1351"/>
                  </a:lnTo>
                  <a:lnTo>
                    <a:pt x="1876" y="1353"/>
                  </a:lnTo>
                  <a:lnTo>
                    <a:pt x="1866" y="1359"/>
                  </a:lnTo>
                  <a:lnTo>
                    <a:pt x="1861" y="1367"/>
                  </a:lnTo>
                  <a:lnTo>
                    <a:pt x="1858" y="1376"/>
                  </a:lnTo>
                  <a:lnTo>
                    <a:pt x="1859" y="1385"/>
                  </a:lnTo>
                  <a:lnTo>
                    <a:pt x="1859" y="1395"/>
                  </a:lnTo>
                  <a:lnTo>
                    <a:pt x="1854" y="1403"/>
                  </a:lnTo>
                  <a:lnTo>
                    <a:pt x="1848" y="1412"/>
                  </a:lnTo>
                  <a:lnTo>
                    <a:pt x="1841" y="1419"/>
                  </a:lnTo>
                  <a:lnTo>
                    <a:pt x="1830" y="1425"/>
                  </a:lnTo>
                  <a:lnTo>
                    <a:pt x="1819" y="1429"/>
                  </a:lnTo>
                  <a:lnTo>
                    <a:pt x="1806" y="1433"/>
                  </a:lnTo>
                  <a:lnTo>
                    <a:pt x="1793" y="1432"/>
                  </a:lnTo>
                  <a:lnTo>
                    <a:pt x="1781" y="1429"/>
                  </a:lnTo>
                  <a:lnTo>
                    <a:pt x="1768" y="1430"/>
                  </a:lnTo>
                  <a:lnTo>
                    <a:pt x="1760" y="1437"/>
                  </a:lnTo>
                  <a:lnTo>
                    <a:pt x="1750" y="1443"/>
                  </a:lnTo>
                  <a:lnTo>
                    <a:pt x="1740" y="1449"/>
                  </a:lnTo>
                  <a:lnTo>
                    <a:pt x="1732" y="1456"/>
                  </a:lnTo>
                  <a:lnTo>
                    <a:pt x="1728" y="1465"/>
                  </a:lnTo>
                  <a:lnTo>
                    <a:pt x="1728" y="1475"/>
                  </a:lnTo>
                  <a:lnTo>
                    <a:pt x="1728" y="1484"/>
                  </a:lnTo>
                  <a:lnTo>
                    <a:pt x="1719" y="1492"/>
                  </a:lnTo>
                  <a:lnTo>
                    <a:pt x="1710" y="1498"/>
                  </a:lnTo>
                  <a:lnTo>
                    <a:pt x="1701" y="1505"/>
                  </a:lnTo>
                  <a:lnTo>
                    <a:pt x="1691" y="1511"/>
                  </a:lnTo>
                  <a:lnTo>
                    <a:pt x="1680" y="1516"/>
                  </a:lnTo>
                  <a:lnTo>
                    <a:pt x="1668" y="1519"/>
                  </a:lnTo>
                  <a:lnTo>
                    <a:pt x="1655" y="1520"/>
                  </a:lnTo>
                  <a:lnTo>
                    <a:pt x="1642" y="1522"/>
                  </a:lnTo>
                  <a:lnTo>
                    <a:pt x="1630" y="1524"/>
                  </a:lnTo>
                  <a:lnTo>
                    <a:pt x="1616" y="1523"/>
                  </a:lnTo>
                  <a:lnTo>
                    <a:pt x="1605" y="1520"/>
                  </a:lnTo>
                  <a:lnTo>
                    <a:pt x="1592" y="1515"/>
                  </a:lnTo>
                  <a:lnTo>
                    <a:pt x="1596" y="1506"/>
                  </a:lnTo>
                  <a:lnTo>
                    <a:pt x="1591" y="1498"/>
                  </a:lnTo>
                  <a:lnTo>
                    <a:pt x="1599" y="1492"/>
                  </a:lnTo>
                  <a:lnTo>
                    <a:pt x="1601" y="1483"/>
                  </a:lnTo>
                  <a:lnTo>
                    <a:pt x="1599" y="1474"/>
                  </a:lnTo>
                  <a:lnTo>
                    <a:pt x="1591" y="1468"/>
                  </a:lnTo>
                  <a:lnTo>
                    <a:pt x="1589" y="1475"/>
                  </a:lnTo>
                  <a:lnTo>
                    <a:pt x="1578" y="1480"/>
                  </a:lnTo>
                  <a:lnTo>
                    <a:pt x="1566" y="1483"/>
                  </a:lnTo>
                  <a:lnTo>
                    <a:pt x="1553" y="1486"/>
                  </a:lnTo>
                  <a:lnTo>
                    <a:pt x="1540" y="1486"/>
                  </a:lnTo>
                  <a:lnTo>
                    <a:pt x="1528" y="1483"/>
                  </a:lnTo>
                  <a:lnTo>
                    <a:pt x="1514" y="1482"/>
                  </a:lnTo>
                  <a:lnTo>
                    <a:pt x="1503" y="1478"/>
                  </a:lnTo>
                  <a:lnTo>
                    <a:pt x="1503" y="1469"/>
                  </a:lnTo>
                  <a:lnTo>
                    <a:pt x="1494" y="1462"/>
                  </a:lnTo>
                  <a:lnTo>
                    <a:pt x="1485" y="1455"/>
                  </a:lnTo>
                  <a:lnTo>
                    <a:pt x="1476" y="1448"/>
                  </a:lnTo>
                  <a:lnTo>
                    <a:pt x="1468" y="1441"/>
                  </a:lnTo>
                  <a:lnTo>
                    <a:pt x="1459" y="1433"/>
                  </a:lnTo>
                  <a:lnTo>
                    <a:pt x="1451" y="1426"/>
                  </a:lnTo>
                  <a:lnTo>
                    <a:pt x="1444" y="1420"/>
                  </a:lnTo>
                  <a:lnTo>
                    <a:pt x="1436" y="1415"/>
                  </a:lnTo>
                  <a:lnTo>
                    <a:pt x="1433" y="1408"/>
                  </a:lnTo>
                  <a:lnTo>
                    <a:pt x="1424" y="1400"/>
                  </a:lnTo>
                  <a:lnTo>
                    <a:pt x="1416" y="1393"/>
                  </a:lnTo>
                  <a:lnTo>
                    <a:pt x="1412" y="1384"/>
                  </a:lnTo>
                  <a:lnTo>
                    <a:pt x="1420" y="1378"/>
                  </a:lnTo>
                  <a:lnTo>
                    <a:pt x="1419" y="1370"/>
                  </a:lnTo>
                  <a:lnTo>
                    <a:pt x="1424" y="1361"/>
                  </a:lnTo>
                  <a:lnTo>
                    <a:pt x="1431" y="1353"/>
                  </a:lnTo>
                  <a:lnTo>
                    <a:pt x="1436" y="1344"/>
                  </a:lnTo>
                  <a:lnTo>
                    <a:pt x="1440" y="1335"/>
                  </a:lnTo>
                  <a:lnTo>
                    <a:pt x="1438" y="1326"/>
                  </a:lnTo>
                  <a:lnTo>
                    <a:pt x="1436" y="1317"/>
                  </a:lnTo>
                  <a:lnTo>
                    <a:pt x="1433" y="1308"/>
                  </a:lnTo>
                  <a:lnTo>
                    <a:pt x="1427" y="1299"/>
                  </a:lnTo>
                  <a:lnTo>
                    <a:pt x="1422" y="1291"/>
                  </a:lnTo>
                  <a:lnTo>
                    <a:pt x="1416" y="1282"/>
                  </a:lnTo>
                  <a:lnTo>
                    <a:pt x="1410" y="1274"/>
                  </a:lnTo>
                  <a:lnTo>
                    <a:pt x="1399" y="1270"/>
                  </a:lnTo>
                  <a:lnTo>
                    <a:pt x="1387" y="1270"/>
                  </a:lnTo>
                  <a:lnTo>
                    <a:pt x="1373" y="1268"/>
                  </a:lnTo>
                  <a:lnTo>
                    <a:pt x="1360" y="1268"/>
                  </a:lnTo>
                  <a:lnTo>
                    <a:pt x="1346" y="1265"/>
                  </a:lnTo>
                  <a:lnTo>
                    <a:pt x="1346" y="1258"/>
                  </a:lnTo>
                  <a:lnTo>
                    <a:pt x="1352" y="1248"/>
                  </a:lnTo>
                  <a:lnTo>
                    <a:pt x="1345" y="1244"/>
                  </a:lnTo>
                  <a:lnTo>
                    <a:pt x="1329" y="1243"/>
                  </a:lnTo>
                  <a:lnTo>
                    <a:pt x="1318" y="1239"/>
                  </a:lnTo>
                  <a:lnTo>
                    <a:pt x="1307" y="1234"/>
                  </a:lnTo>
                  <a:lnTo>
                    <a:pt x="1297" y="1231"/>
                  </a:lnTo>
                  <a:lnTo>
                    <a:pt x="1299" y="1221"/>
                  </a:lnTo>
                  <a:lnTo>
                    <a:pt x="1294" y="1212"/>
                  </a:lnTo>
                  <a:lnTo>
                    <a:pt x="1287" y="1205"/>
                  </a:lnTo>
                  <a:lnTo>
                    <a:pt x="1287" y="1195"/>
                  </a:lnTo>
                  <a:lnTo>
                    <a:pt x="1275" y="1192"/>
                  </a:lnTo>
                  <a:lnTo>
                    <a:pt x="1265" y="1188"/>
                  </a:lnTo>
                  <a:lnTo>
                    <a:pt x="1262" y="1179"/>
                  </a:lnTo>
                  <a:lnTo>
                    <a:pt x="1259" y="1170"/>
                  </a:lnTo>
                  <a:lnTo>
                    <a:pt x="1257" y="1161"/>
                  </a:lnTo>
                  <a:lnTo>
                    <a:pt x="1251" y="1153"/>
                  </a:lnTo>
                  <a:lnTo>
                    <a:pt x="1250" y="1143"/>
                  </a:lnTo>
                  <a:lnTo>
                    <a:pt x="1247" y="1138"/>
                  </a:lnTo>
                  <a:lnTo>
                    <a:pt x="1233" y="1141"/>
                  </a:lnTo>
                  <a:lnTo>
                    <a:pt x="1220" y="1141"/>
                  </a:lnTo>
                  <a:lnTo>
                    <a:pt x="1208" y="1141"/>
                  </a:lnTo>
                  <a:lnTo>
                    <a:pt x="1194" y="1141"/>
                  </a:lnTo>
                  <a:lnTo>
                    <a:pt x="1181" y="1143"/>
                  </a:lnTo>
                  <a:lnTo>
                    <a:pt x="1170" y="1147"/>
                  </a:lnTo>
                  <a:lnTo>
                    <a:pt x="1159" y="1152"/>
                  </a:lnTo>
                  <a:lnTo>
                    <a:pt x="1146" y="1155"/>
                  </a:lnTo>
                  <a:lnTo>
                    <a:pt x="1134" y="1156"/>
                  </a:lnTo>
                  <a:lnTo>
                    <a:pt x="1121" y="1158"/>
                  </a:lnTo>
                  <a:lnTo>
                    <a:pt x="1108" y="1161"/>
                  </a:lnTo>
                  <a:lnTo>
                    <a:pt x="1097" y="1164"/>
                  </a:lnTo>
                  <a:lnTo>
                    <a:pt x="1085" y="1167"/>
                  </a:lnTo>
                  <a:lnTo>
                    <a:pt x="1072" y="1171"/>
                  </a:lnTo>
                  <a:lnTo>
                    <a:pt x="1062" y="1172"/>
                  </a:lnTo>
                  <a:lnTo>
                    <a:pt x="1053" y="1176"/>
                  </a:lnTo>
                  <a:lnTo>
                    <a:pt x="1041" y="1179"/>
                  </a:lnTo>
                  <a:lnTo>
                    <a:pt x="1050" y="1186"/>
                  </a:lnTo>
                  <a:lnTo>
                    <a:pt x="1058" y="1191"/>
                  </a:lnTo>
                  <a:lnTo>
                    <a:pt x="1061" y="1200"/>
                  </a:lnTo>
                  <a:lnTo>
                    <a:pt x="1067" y="1209"/>
                  </a:lnTo>
                  <a:lnTo>
                    <a:pt x="1076" y="1214"/>
                  </a:lnTo>
                  <a:lnTo>
                    <a:pt x="1089" y="1216"/>
                  </a:lnTo>
                  <a:lnTo>
                    <a:pt x="1101" y="1220"/>
                  </a:lnTo>
                  <a:lnTo>
                    <a:pt x="1111" y="1224"/>
                  </a:lnTo>
                  <a:lnTo>
                    <a:pt x="1100" y="1227"/>
                  </a:lnTo>
                  <a:lnTo>
                    <a:pt x="1086" y="1232"/>
                  </a:lnTo>
                  <a:lnTo>
                    <a:pt x="1078" y="1239"/>
                  </a:lnTo>
                  <a:lnTo>
                    <a:pt x="1069" y="1246"/>
                  </a:lnTo>
                  <a:lnTo>
                    <a:pt x="1058" y="1242"/>
                  </a:lnTo>
                  <a:lnTo>
                    <a:pt x="1046" y="1240"/>
                  </a:lnTo>
                  <a:lnTo>
                    <a:pt x="1033" y="1238"/>
                  </a:lnTo>
                  <a:lnTo>
                    <a:pt x="1020" y="1236"/>
                  </a:lnTo>
                  <a:lnTo>
                    <a:pt x="1008" y="1234"/>
                  </a:lnTo>
                  <a:lnTo>
                    <a:pt x="995" y="1233"/>
                  </a:lnTo>
                  <a:lnTo>
                    <a:pt x="983" y="1233"/>
                  </a:lnTo>
                  <a:lnTo>
                    <a:pt x="970" y="1229"/>
                  </a:lnTo>
                  <a:lnTo>
                    <a:pt x="959" y="1225"/>
                  </a:lnTo>
                  <a:lnTo>
                    <a:pt x="946" y="1221"/>
                  </a:lnTo>
                  <a:lnTo>
                    <a:pt x="935" y="1220"/>
                  </a:lnTo>
                  <a:lnTo>
                    <a:pt x="925" y="1216"/>
                  </a:lnTo>
                  <a:lnTo>
                    <a:pt x="916" y="1210"/>
                  </a:lnTo>
                  <a:lnTo>
                    <a:pt x="904" y="1206"/>
                  </a:lnTo>
                  <a:lnTo>
                    <a:pt x="890" y="1205"/>
                  </a:lnTo>
                  <a:lnTo>
                    <a:pt x="883" y="1198"/>
                  </a:lnTo>
                  <a:lnTo>
                    <a:pt x="879" y="1189"/>
                  </a:lnTo>
                  <a:lnTo>
                    <a:pt x="871" y="1182"/>
                  </a:lnTo>
                  <a:lnTo>
                    <a:pt x="862" y="1175"/>
                  </a:lnTo>
                  <a:lnTo>
                    <a:pt x="855" y="1168"/>
                  </a:lnTo>
                  <a:lnTo>
                    <a:pt x="857" y="1160"/>
                  </a:lnTo>
                  <a:lnTo>
                    <a:pt x="864" y="1152"/>
                  </a:lnTo>
                  <a:lnTo>
                    <a:pt x="871" y="1144"/>
                  </a:lnTo>
                  <a:lnTo>
                    <a:pt x="876" y="1136"/>
                  </a:lnTo>
                  <a:lnTo>
                    <a:pt x="881" y="1127"/>
                  </a:lnTo>
                  <a:lnTo>
                    <a:pt x="872" y="1119"/>
                  </a:lnTo>
                  <a:lnTo>
                    <a:pt x="862" y="1113"/>
                  </a:lnTo>
                  <a:lnTo>
                    <a:pt x="857" y="1105"/>
                  </a:lnTo>
                  <a:lnTo>
                    <a:pt x="854" y="1096"/>
                  </a:lnTo>
                  <a:lnTo>
                    <a:pt x="851" y="1086"/>
                  </a:lnTo>
                  <a:lnTo>
                    <a:pt x="851" y="1077"/>
                  </a:lnTo>
                  <a:lnTo>
                    <a:pt x="848" y="1068"/>
                  </a:lnTo>
                  <a:lnTo>
                    <a:pt x="847" y="1059"/>
                  </a:lnTo>
                  <a:lnTo>
                    <a:pt x="846" y="1049"/>
                  </a:lnTo>
                  <a:lnTo>
                    <a:pt x="844" y="1040"/>
                  </a:lnTo>
                  <a:lnTo>
                    <a:pt x="846" y="1028"/>
                  </a:lnTo>
                  <a:lnTo>
                    <a:pt x="843" y="1020"/>
                  </a:lnTo>
                  <a:lnTo>
                    <a:pt x="834" y="1013"/>
                  </a:lnTo>
                  <a:lnTo>
                    <a:pt x="826" y="1005"/>
                  </a:lnTo>
                  <a:lnTo>
                    <a:pt x="814" y="1008"/>
                  </a:lnTo>
                  <a:lnTo>
                    <a:pt x="800" y="1012"/>
                  </a:lnTo>
                  <a:lnTo>
                    <a:pt x="784" y="999"/>
                  </a:lnTo>
                  <a:lnTo>
                    <a:pt x="777" y="1003"/>
                  </a:lnTo>
                  <a:lnTo>
                    <a:pt x="772" y="1013"/>
                  </a:lnTo>
                  <a:lnTo>
                    <a:pt x="763" y="1020"/>
                  </a:lnTo>
                  <a:lnTo>
                    <a:pt x="751" y="1023"/>
                  </a:lnTo>
                  <a:lnTo>
                    <a:pt x="738" y="1025"/>
                  </a:lnTo>
                  <a:lnTo>
                    <a:pt x="725" y="1027"/>
                  </a:lnTo>
                  <a:lnTo>
                    <a:pt x="713" y="1030"/>
                  </a:lnTo>
                  <a:lnTo>
                    <a:pt x="700" y="1034"/>
                  </a:lnTo>
                  <a:lnTo>
                    <a:pt x="689" y="1039"/>
                  </a:lnTo>
                  <a:lnTo>
                    <a:pt x="678" y="1043"/>
                  </a:lnTo>
                  <a:lnTo>
                    <a:pt x="665" y="1046"/>
                  </a:lnTo>
                  <a:lnTo>
                    <a:pt x="653" y="1044"/>
                  </a:lnTo>
                  <a:lnTo>
                    <a:pt x="643" y="1038"/>
                  </a:lnTo>
                  <a:lnTo>
                    <a:pt x="630" y="1035"/>
                  </a:lnTo>
                  <a:lnTo>
                    <a:pt x="619" y="1031"/>
                  </a:lnTo>
                  <a:lnTo>
                    <a:pt x="612" y="1023"/>
                  </a:lnTo>
                  <a:lnTo>
                    <a:pt x="602" y="1018"/>
                  </a:lnTo>
                  <a:lnTo>
                    <a:pt x="597" y="1022"/>
                  </a:lnTo>
                  <a:lnTo>
                    <a:pt x="593" y="1031"/>
                  </a:lnTo>
                  <a:lnTo>
                    <a:pt x="593" y="1040"/>
                  </a:lnTo>
                  <a:lnTo>
                    <a:pt x="590" y="1049"/>
                  </a:lnTo>
                  <a:lnTo>
                    <a:pt x="588" y="1059"/>
                  </a:lnTo>
                  <a:lnTo>
                    <a:pt x="588" y="1068"/>
                  </a:lnTo>
                  <a:lnTo>
                    <a:pt x="587" y="1084"/>
                  </a:lnTo>
                  <a:lnTo>
                    <a:pt x="591" y="1094"/>
                  </a:lnTo>
                  <a:lnTo>
                    <a:pt x="583" y="1098"/>
                  </a:lnTo>
                  <a:lnTo>
                    <a:pt x="570" y="1102"/>
                  </a:lnTo>
                  <a:lnTo>
                    <a:pt x="559" y="1107"/>
                  </a:lnTo>
                  <a:lnTo>
                    <a:pt x="549" y="1112"/>
                  </a:lnTo>
                  <a:lnTo>
                    <a:pt x="538" y="1118"/>
                  </a:lnTo>
                  <a:lnTo>
                    <a:pt x="534" y="1127"/>
                  </a:lnTo>
                  <a:lnTo>
                    <a:pt x="530" y="1136"/>
                  </a:lnTo>
                  <a:lnTo>
                    <a:pt x="524" y="1144"/>
                  </a:lnTo>
                  <a:lnTo>
                    <a:pt x="517" y="1152"/>
                  </a:lnTo>
                  <a:lnTo>
                    <a:pt x="506" y="1157"/>
                  </a:lnTo>
                  <a:lnTo>
                    <a:pt x="499" y="1165"/>
                  </a:lnTo>
                  <a:lnTo>
                    <a:pt x="492" y="1173"/>
                  </a:lnTo>
                  <a:lnTo>
                    <a:pt x="482" y="1170"/>
                  </a:lnTo>
                  <a:lnTo>
                    <a:pt x="472" y="1164"/>
                  </a:lnTo>
                  <a:lnTo>
                    <a:pt x="461" y="1158"/>
                  </a:lnTo>
                  <a:lnTo>
                    <a:pt x="450" y="1154"/>
                  </a:lnTo>
                  <a:lnTo>
                    <a:pt x="439" y="1149"/>
                  </a:lnTo>
                  <a:lnTo>
                    <a:pt x="428" y="1144"/>
                  </a:lnTo>
                  <a:lnTo>
                    <a:pt x="418" y="1139"/>
                  </a:lnTo>
                  <a:lnTo>
                    <a:pt x="407" y="1133"/>
                  </a:lnTo>
                  <a:lnTo>
                    <a:pt x="396" y="1129"/>
                  </a:lnTo>
                  <a:lnTo>
                    <a:pt x="383" y="1125"/>
                  </a:lnTo>
                  <a:lnTo>
                    <a:pt x="373" y="1119"/>
                  </a:lnTo>
                  <a:lnTo>
                    <a:pt x="365" y="1115"/>
                  </a:lnTo>
                  <a:lnTo>
                    <a:pt x="351" y="1117"/>
                  </a:lnTo>
                  <a:lnTo>
                    <a:pt x="351" y="1121"/>
                  </a:lnTo>
                  <a:lnTo>
                    <a:pt x="335" y="1121"/>
                  </a:lnTo>
                  <a:lnTo>
                    <a:pt x="327" y="1126"/>
                  </a:lnTo>
                  <a:lnTo>
                    <a:pt x="314" y="1130"/>
                  </a:lnTo>
                  <a:lnTo>
                    <a:pt x="303" y="1134"/>
                  </a:lnTo>
                  <a:lnTo>
                    <a:pt x="291" y="1137"/>
                  </a:lnTo>
                  <a:lnTo>
                    <a:pt x="280" y="1141"/>
                  </a:lnTo>
                  <a:lnTo>
                    <a:pt x="267" y="1146"/>
                  </a:lnTo>
                  <a:lnTo>
                    <a:pt x="263" y="1153"/>
                  </a:lnTo>
                  <a:lnTo>
                    <a:pt x="264" y="1163"/>
                  </a:lnTo>
                  <a:lnTo>
                    <a:pt x="266" y="1172"/>
                  </a:lnTo>
                  <a:lnTo>
                    <a:pt x="267" y="1181"/>
                  </a:lnTo>
                  <a:lnTo>
                    <a:pt x="268" y="1191"/>
                  </a:lnTo>
                  <a:lnTo>
                    <a:pt x="261" y="1197"/>
                  </a:lnTo>
                  <a:lnTo>
                    <a:pt x="250" y="1192"/>
                  </a:lnTo>
                  <a:lnTo>
                    <a:pt x="239" y="1187"/>
                  </a:lnTo>
                  <a:lnTo>
                    <a:pt x="228" y="1183"/>
                  </a:lnTo>
                  <a:lnTo>
                    <a:pt x="215" y="1181"/>
                  </a:lnTo>
                  <a:lnTo>
                    <a:pt x="203" y="1182"/>
                  </a:lnTo>
                  <a:lnTo>
                    <a:pt x="190" y="1187"/>
                  </a:lnTo>
                  <a:lnTo>
                    <a:pt x="172" y="1174"/>
                  </a:lnTo>
                  <a:lnTo>
                    <a:pt x="163" y="1167"/>
                  </a:lnTo>
                  <a:lnTo>
                    <a:pt x="166" y="1158"/>
                  </a:lnTo>
                  <a:lnTo>
                    <a:pt x="169" y="1149"/>
                  </a:lnTo>
                  <a:lnTo>
                    <a:pt x="172" y="1140"/>
                  </a:lnTo>
                  <a:lnTo>
                    <a:pt x="170" y="1131"/>
                  </a:lnTo>
                  <a:lnTo>
                    <a:pt x="165" y="1122"/>
                  </a:lnTo>
                  <a:lnTo>
                    <a:pt x="158" y="1114"/>
                  </a:lnTo>
                  <a:lnTo>
                    <a:pt x="149" y="1107"/>
                  </a:lnTo>
                  <a:lnTo>
                    <a:pt x="143" y="1099"/>
                  </a:lnTo>
                  <a:lnTo>
                    <a:pt x="143" y="1090"/>
                  </a:lnTo>
                  <a:lnTo>
                    <a:pt x="130" y="1086"/>
                  </a:lnTo>
                  <a:lnTo>
                    <a:pt x="134" y="1078"/>
                  </a:lnTo>
                  <a:lnTo>
                    <a:pt x="144" y="1077"/>
                  </a:lnTo>
                  <a:lnTo>
                    <a:pt x="148" y="1068"/>
                  </a:lnTo>
                  <a:lnTo>
                    <a:pt x="136" y="1066"/>
                  </a:lnTo>
                  <a:lnTo>
                    <a:pt x="123" y="1067"/>
                  </a:lnTo>
                  <a:lnTo>
                    <a:pt x="116" y="1061"/>
                  </a:lnTo>
                  <a:lnTo>
                    <a:pt x="103" y="1059"/>
                  </a:lnTo>
                  <a:lnTo>
                    <a:pt x="92" y="1054"/>
                  </a:lnTo>
                  <a:lnTo>
                    <a:pt x="84" y="1046"/>
                  </a:lnTo>
                  <a:lnTo>
                    <a:pt x="77" y="1038"/>
                  </a:lnTo>
                  <a:lnTo>
                    <a:pt x="70" y="1033"/>
                  </a:lnTo>
                  <a:lnTo>
                    <a:pt x="71" y="1024"/>
                  </a:lnTo>
                  <a:lnTo>
                    <a:pt x="67" y="1015"/>
                  </a:lnTo>
                  <a:lnTo>
                    <a:pt x="59" y="1007"/>
                  </a:lnTo>
                  <a:lnTo>
                    <a:pt x="52" y="999"/>
                  </a:lnTo>
                  <a:lnTo>
                    <a:pt x="43" y="992"/>
                  </a:lnTo>
                  <a:lnTo>
                    <a:pt x="38" y="983"/>
                  </a:lnTo>
                  <a:lnTo>
                    <a:pt x="46" y="976"/>
                  </a:lnTo>
                  <a:lnTo>
                    <a:pt x="59" y="971"/>
                  </a:lnTo>
                  <a:lnTo>
                    <a:pt x="54" y="966"/>
                  </a:lnTo>
                  <a:lnTo>
                    <a:pt x="49" y="960"/>
                  </a:lnTo>
                  <a:lnTo>
                    <a:pt x="56" y="952"/>
                  </a:lnTo>
                  <a:lnTo>
                    <a:pt x="63" y="943"/>
                  </a:lnTo>
                  <a:lnTo>
                    <a:pt x="68" y="934"/>
                  </a:lnTo>
                  <a:lnTo>
                    <a:pt x="66" y="927"/>
                  </a:lnTo>
                  <a:lnTo>
                    <a:pt x="54" y="922"/>
                  </a:lnTo>
                  <a:lnTo>
                    <a:pt x="42" y="917"/>
                  </a:lnTo>
                  <a:lnTo>
                    <a:pt x="33" y="910"/>
                  </a:lnTo>
                  <a:lnTo>
                    <a:pt x="26" y="902"/>
                  </a:lnTo>
                  <a:lnTo>
                    <a:pt x="18" y="895"/>
                  </a:lnTo>
                  <a:lnTo>
                    <a:pt x="10" y="888"/>
                  </a:lnTo>
                  <a:lnTo>
                    <a:pt x="0" y="882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64200" y="2747880"/>
              <a:ext cx="1438200" cy="1544760"/>
            </a:xfrm>
            <a:custGeom>
              <a:avLst/>
              <a:gdLst/>
              <a:ahLst/>
              <a:rect l="l" t="t" r="r" b="b"/>
              <a:pathLst>
                <a:path w="2718" h="1946">
                  <a:moveTo>
                    <a:pt x="2191" y="59"/>
                  </a:moveTo>
                  <a:lnTo>
                    <a:pt x="2184" y="52"/>
                  </a:lnTo>
                  <a:lnTo>
                    <a:pt x="2177" y="44"/>
                  </a:lnTo>
                  <a:lnTo>
                    <a:pt x="2177" y="35"/>
                  </a:lnTo>
                  <a:lnTo>
                    <a:pt x="2184" y="27"/>
                  </a:lnTo>
                  <a:lnTo>
                    <a:pt x="2193" y="21"/>
                  </a:lnTo>
                  <a:lnTo>
                    <a:pt x="2203" y="15"/>
                  </a:lnTo>
                  <a:lnTo>
                    <a:pt x="2213" y="9"/>
                  </a:lnTo>
                  <a:lnTo>
                    <a:pt x="2224" y="4"/>
                  </a:lnTo>
                  <a:lnTo>
                    <a:pt x="2237" y="0"/>
                  </a:lnTo>
                  <a:lnTo>
                    <a:pt x="2249" y="2"/>
                  </a:lnTo>
                  <a:lnTo>
                    <a:pt x="2256" y="9"/>
                  </a:lnTo>
                  <a:lnTo>
                    <a:pt x="2266" y="16"/>
                  </a:lnTo>
                  <a:lnTo>
                    <a:pt x="2276" y="22"/>
                  </a:lnTo>
                  <a:lnTo>
                    <a:pt x="2287" y="26"/>
                  </a:lnTo>
                  <a:lnTo>
                    <a:pt x="2301" y="27"/>
                  </a:lnTo>
                  <a:lnTo>
                    <a:pt x="2302" y="34"/>
                  </a:lnTo>
                  <a:lnTo>
                    <a:pt x="2301" y="50"/>
                  </a:lnTo>
                  <a:lnTo>
                    <a:pt x="2300" y="59"/>
                  </a:lnTo>
                  <a:lnTo>
                    <a:pt x="2298" y="69"/>
                  </a:lnTo>
                  <a:lnTo>
                    <a:pt x="2297" y="78"/>
                  </a:lnTo>
                  <a:lnTo>
                    <a:pt x="2293" y="86"/>
                  </a:lnTo>
                  <a:lnTo>
                    <a:pt x="2295" y="100"/>
                  </a:lnTo>
                  <a:lnTo>
                    <a:pt x="2297" y="109"/>
                  </a:lnTo>
                  <a:lnTo>
                    <a:pt x="2300" y="118"/>
                  </a:lnTo>
                  <a:lnTo>
                    <a:pt x="2304" y="127"/>
                  </a:lnTo>
                  <a:lnTo>
                    <a:pt x="2308" y="136"/>
                  </a:lnTo>
                  <a:lnTo>
                    <a:pt x="2312" y="145"/>
                  </a:lnTo>
                  <a:lnTo>
                    <a:pt x="2319" y="153"/>
                  </a:lnTo>
                  <a:lnTo>
                    <a:pt x="2325" y="161"/>
                  </a:lnTo>
                  <a:lnTo>
                    <a:pt x="2329" y="170"/>
                  </a:lnTo>
                  <a:lnTo>
                    <a:pt x="2336" y="178"/>
                  </a:lnTo>
                  <a:lnTo>
                    <a:pt x="2349" y="180"/>
                  </a:lnTo>
                  <a:lnTo>
                    <a:pt x="2360" y="182"/>
                  </a:lnTo>
                  <a:lnTo>
                    <a:pt x="2368" y="189"/>
                  </a:lnTo>
                  <a:lnTo>
                    <a:pt x="2378" y="195"/>
                  </a:lnTo>
                  <a:lnTo>
                    <a:pt x="2391" y="199"/>
                  </a:lnTo>
                  <a:lnTo>
                    <a:pt x="2402" y="203"/>
                  </a:lnTo>
                  <a:lnTo>
                    <a:pt x="2414" y="206"/>
                  </a:lnTo>
                  <a:lnTo>
                    <a:pt x="2427" y="205"/>
                  </a:lnTo>
                  <a:lnTo>
                    <a:pt x="2441" y="205"/>
                  </a:lnTo>
                  <a:lnTo>
                    <a:pt x="2452" y="202"/>
                  </a:lnTo>
                  <a:lnTo>
                    <a:pt x="2466" y="200"/>
                  </a:lnTo>
                  <a:lnTo>
                    <a:pt x="2477" y="198"/>
                  </a:lnTo>
                  <a:lnTo>
                    <a:pt x="2490" y="195"/>
                  </a:lnTo>
                  <a:lnTo>
                    <a:pt x="2502" y="191"/>
                  </a:lnTo>
                  <a:lnTo>
                    <a:pt x="2514" y="186"/>
                  </a:lnTo>
                  <a:lnTo>
                    <a:pt x="2523" y="180"/>
                  </a:lnTo>
                  <a:lnTo>
                    <a:pt x="2533" y="175"/>
                  </a:lnTo>
                  <a:lnTo>
                    <a:pt x="2546" y="178"/>
                  </a:lnTo>
                  <a:lnTo>
                    <a:pt x="2557" y="183"/>
                  </a:lnTo>
                  <a:lnTo>
                    <a:pt x="2568" y="188"/>
                  </a:lnTo>
                  <a:lnTo>
                    <a:pt x="2579" y="192"/>
                  </a:lnTo>
                  <a:lnTo>
                    <a:pt x="2590" y="197"/>
                  </a:lnTo>
                  <a:lnTo>
                    <a:pt x="2599" y="203"/>
                  </a:lnTo>
                  <a:lnTo>
                    <a:pt x="2606" y="211"/>
                  </a:lnTo>
                  <a:lnTo>
                    <a:pt x="2614" y="218"/>
                  </a:lnTo>
                  <a:lnTo>
                    <a:pt x="2624" y="225"/>
                  </a:lnTo>
                  <a:lnTo>
                    <a:pt x="2632" y="232"/>
                  </a:lnTo>
                  <a:lnTo>
                    <a:pt x="2635" y="241"/>
                  </a:lnTo>
                  <a:lnTo>
                    <a:pt x="2634" y="250"/>
                  </a:lnTo>
                  <a:lnTo>
                    <a:pt x="2632" y="260"/>
                  </a:lnTo>
                  <a:lnTo>
                    <a:pt x="2632" y="269"/>
                  </a:lnTo>
                  <a:lnTo>
                    <a:pt x="2635" y="278"/>
                  </a:lnTo>
                  <a:lnTo>
                    <a:pt x="2637" y="287"/>
                  </a:lnTo>
                  <a:lnTo>
                    <a:pt x="2639" y="296"/>
                  </a:lnTo>
                  <a:lnTo>
                    <a:pt x="2638" y="305"/>
                  </a:lnTo>
                  <a:lnTo>
                    <a:pt x="2634" y="314"/>
                  </a:lnTo>
                  <a:lnTo>
                    <a:pt x="2625" y="321"/>
                  </a:lnTo>
                  <a:lnTo>
                    <a:pt x="2618" y="329"/>
                  </a:lnTo>
                  <a:lnTo>
                    <a:pt x="2621" y="338"/>
                  </a:lnTo>
                  <a:lnTo>
                    <a:pt x="2624" y="347"/>
                  </a:lnTo>
                  <a:lnTo>
                    <a:pt x="2627" y="355"/>
                  </a:lnTo>
                  <a:lnTo>
                    <a:pt x="2634" y="363"/>
                  </a:lnTo>
                  <a:lnTo>
                    <a:pt x="2635" y="372"/>
                  </a:lnTo>
                  <a:lnTo>
                    <a:pt x="2638" y="381"/>
                  </a:lnTo>
                  <a:lnTo>
                    <a:pt x="2649" y="385"/>
                  </a:lnTo>
                  <a:lnTo>
                    <a:pt x="2660" y="391"/>
                  </a:lnTo>
                  <a:lnTo>
                    <a:pt x="2659" y="397"/>
                  </a:lnTo>
                  <a:lnTo>
                    <a:pt x="2649" y="403"/>
                  </a:lnTo>
                  <a:lnTo>
                    <a:pt x="2644" y="412"/>
                  </a:lnTo>
                  <a:lnTo>
                    <a:pt x="2641" y="421"/>
                  </a:lnTo>
                  <a:lnTo>
                    <a:pt x="2641" y="430"/>
                  </a:lnTo>
                  <a:lnTo>
                    <a:pt x="2644" y="439"/>
                  </a:lnTo>
                  <a:lnTo>
                    <a:pt x="2645" y="449"/>
                  </a:lnTo>
                  <a:lnTo>
                    <a:pt x="2648" y="458"/>
                  </a:lnTo>
                  <a:lnTo>
                    <a:pt x="2653" y="466"/>
                  </a:lnTo>
                  <a:lnTo>
                    <a:pt x="2656" y="475"/>
                  </a:lnTo>
                  <a:lnTo>
                    <a:pt x="2659" y="485"/>
                  </a:lnTo>
                  <a:lnTo>
                    <a:pt x="2660" y="494"/>
                  </a:lnTo>
                  <a:lnTo>
                    <a:pt x="2663" y="503"/>
                  </a:lnTo>
                  <a:lnTo>
                    <a:pt x="2666" y="512"/>
                  </a:lnTo>
                  <a:lnTo>
                    <a:pt x="2669" y="521"/>
                  </a:lnTo>
                  <a:lnTo>
                    <a:pt x="2671" y="530"/>
                  </a:lnTo>
                  <a:lnTo>
                    <a:pt x="2674" y="539"/>
                  </a:lnTo>
                  <a:lnTo>
                    <a:pt x="2677" y="548"/>
                  </a:lnTo>
                  <a:lnTo>
                    <a:pt x="2680" y="558"/>
                  </a:lnTo>
                  <a:lnTo>
                    <a:pt x="2683" y="567"/>
                  </a:lnTo>
                  <a:lnTo>
                    <a:pt x="2685" y="576"/>
                  </a:lnTo>
                  <a:lnTo>
                    <a:pt x="2688" y="585"/>
                  </a:lnTo>
                  <a:lnTo>
                    <a:pt x="2690" y="594"/>
                  </a:lnTo>
                  <a:lnTo>
                    <a:pt x="2691" y="603"/>
                  </a:lnTo>
                  <a:lnTo>
                    <a:pt x="2692" y="612"/>
                  </a:lnTo>
                  <a:lnTo>
                    <a:pt x="2695" y="621"/>
                  </a:lnTo>
                  <a:lnTo>
                    <a:pt x="2701" y="629"/>
                  </a:lnTo>
                  <a:lnTo>
                    <a:pt x="2701" y="638"/>
                  </a:lnTo>
                  <a:lnTo>
                    <a:pt x="2705" y="647"/>
                  </a:lnTo>
                  <a:lnTo>
                    <a:pt x="2711" y="655"/>
                  </a:lnTo>
                  <a:lnTo>
                    <a:pt x="2715" y="664"/>
                  </a:lnTo>
                  <a:lnTo>
                    <a:pt x="2718" y="673"/>
                  </a:lnTo>
                  <a:lnTo>
                    <a:pt x="2718" y="682"/>
                  </a:lnTo>
                  <a:lnTo>
                    <a:pt x="2715" y="698"/>
                  </a:lnTo>
                  <a:lnTo>
                    <a:pt x="2715" y="710"/>
                  </a:lnTo>
                  <a:lnTo>
                    <a:pt x="2713" y="720"/>
                  </a:lnTo>
                  <a:lnTo>
                    <a:pt x="2712" y="729"/>
                  </a:lnTo>
                  <a:lnTo>
                    <a:pt x="2712" y="738"/>
                  </a:lnTo>
                  <a:lnTo>
                    <a:pt x="2711" y="747"/>
                  </a:lnTo>
                  <a:lnTo>
                    <a:pt x="2711" y="757"/>
                  </a:lnTo>
                  <a:lnTo>
                    <a:pt x="2709" y="766"/>
                  </a:lnTo>
                  <a:lnTo>
                    <a:pt x="2709" y="775"/>
                  </a:lnTo>
                  <a:lnTo>
                    <a:pt x="2708" y="785"/>
                  </a:lnTo>
                  <a:lnTo>
                    <a:pt x="2708" y="794"/>
                  </a:lnTo>
                  <a:lnTo>
                    <a:pt x="2706" y="803"/>
                  </a:lnTo>
                  <a:lnTo>
                    <a:pt x="2706" y="813"/>
                  </a:lnTo>
                  <a:lnTo>
                    <a:pt x="2706" y="822"/>
                  </a:lnTo>
                  <a:lnTo>
                    <a:pt x="2706" y="832"/>
                  </a:lnTo>
                  <a:lnTo>
                    <a:pt x="2706" y="841"/>
                  </a:lnTo>
                  <a:lnTo>
                    <a:pt x="2706" y="851"/>
                  </a:lnTo>
                  <a:lnTo>
                    <a:pt x="2705" y="860"/>
                  </a:lnTo>
                  <a:lnTo>
                    <a:pt x="2705" y="869"/>
                  </a:lnTo>
                  <a:lnTo>
                    <a:pt x="2704" y="878"/>
                  </a:lnTo>
                  <a:lnTo>
                    <a:pt x="2701" y="887"/>
                  </a:lnTo>
                  <a:lnTo>
                    <a:pt x="2697" y="896"/>
                  </a:lnTo>
                  <a:lnTo>
                    <a:pt x="2688" y="903"/>
                  </a:lnTo>
                  <a:lnTo>
                    <a:pt x="2677" y="909"/>
                  </a:lnTo>
                  <a:lnTo>
                    <a:pt x="2667" y="916"/>
                  </a:lnTo>
                  <a:lnTo>
                    <a:pt x="2660" y="923"/>
                  </a:lnTo>
                  <a:lnTo>
                    <a:pt x="2652" y="931"/>
                  </a:lnTo>
                  <a:lnTo>
                    <a:pt x="2631" y="931"/>
                  </a:lnTo>
                  <a:lnTo>
                    <a:pt x="2618" y="934"/>
                  </a:lnTo>
                  <a:lnTo>
                    <a:pt x="2609" y="940"/>
                  </a:lnTo>
                  <a:lnTo>
                    <a:pt x="2604" y="949"/>
                  </a:lnTo>
                  <a:lnTo>
                    <a:pt x="2602" y="958"/>
                  </a:lnTo>
                  <a:lnTo>
                    <a:pt x="2596" y="967"/>
                  </a:lnTo>
                  <a:lnTo>
                    <a:pt x="2589" y="975"/>
                  </a:lnTo>
                  <a:lnTo>
                    <a:pt x="2583" y="983"/>
                  </a:lnTo>
                  <a:lnTo>
                    <a:pt x="2579" y="992"/>
                  </a:lnTo>
                  <a:lnTo>
                    <a:pt x="2574" y="1000"/>
                  </a:lnTo>
                  <a:lnTo>
                    <a:pt x="2569" y="1009"/>
                  </a:lnTo>
                  <a:lnTo>
                    <a:pt x="2567" y="1018"/>
                  </a:lnTo>
                  <a:lnTo>
                    <a:pt x="2564" y="1028"/>
                  </a:lnTo>
                  <a:lnTo>
                    <a:pt x="2551" y="1025"/>
                  </a:lnTo>
                  <a:lnTo>
                    <a:pt x="2539" y="1022"/>
                  </a:lnTo>
                  <a:lnTo>
                    <a:pt x="2529" y="1028"/>
                  </a:lnTo>
                  <a:lnTo>
                    <a:pt x="2521" y="1034"/>
                  </a:lnTo>
                  <a:lnTo>
                    <a:pt x="2509" y="1037"/>
                  </a:lnTo>
                  <a:lnTo>
                    <a:pt x="2501" y="1044"/>
                  </a:lnTo>
                  <a:lnTo>
                    <a:pt x="2494" y="1052"/>
                  </a:lnTo>
                  <a:lnTo>
                    <a:pt x="2484" y="1053"/>
                  </a:lnTo>
                  <a:lnTo>
                    <a:pt x="2470" y="1052"/>
                  </a:lnTo>
                  <a:lnTo>
                    <a:pt x="2459" y="1057"/>
                  </a:lnTo>
                  <a:lnTo>
                    <a:pt x="2449" y="1062"/>
                  </a:lnTo>
                  <a:lnTo>
                    <a:pt x="2438" y="1068"/>
                  </a:lnTo>
                  <a:lnTo>
                    <a:pt x="2428" y="1074"/>
                  </a:lnTo>
                  <a:lnTo>
                    <a:pt x="2418" y="1080"/>
                  </a:lnTo>
                  <a:lnTo>
                    <a:pt x="2409" y="1087"/>
                  </a:lnTo>
                  <a:lnTo>
                    <a:pt x="2399" y="1093"/>
                  </a:lnTo>
                  <a:lnTo>
                    <a:pt x="2389" y="1100"/>
                  </a:lnTo>
                  <a:lnTo>
                    <a:pt x="2381" y="1106"/>
                  </a:lnTo>
                  <a:lnTo>
                    <a:pt x="2378" y="1113"/>
                  </a:lnTo>
                  <a:lnTo>
                    <a:pt x="2385" y="1121"/>
                  </a:lnTo>
                  <a:lnTo>
                    <a:pt x="2389" y="1130"/>
                  </a:lnTo>
                  <a:lnTo>
                    <a:pt x="2396" y="1138"/>
                  </a:lnTo>
                  <a:lnTo>
                    <a:pt x="2400" y="1146"/>
                  </a:lnTo>
                  <a:lnTo>
                    <a:pt x="2404" y="1155"/>
                  </a:lnTo>
                  <a:lnTo>
                    <a:pt x="2413" y="1162"/>
                  </a:lnTo>
                  <a:lnTo>
                    <a:pt x="2407" y="1167"/>
                  </a:lnTo>
                  <a:lnTo>
                    <a:pt x="2395" y="1169"/>
                  </a:lnTo>
                  <a:lnTo>
                    <a:pt x="2382" y="1170"/>
                  </a:lnTo>
                  <a:lnTo>
                    <a:pt x="2370" y="1174"/>
                  </a:lnTo>
                  <a:lnTo>
                    <a:pt x="2368" y="1183"/>
                  </a:lnTo>
                  <a:lnTo>
                    <a:pt x="2367" y="1191"/>
                  </a:lnTo>
                  <a:lnTo>
                    <a:pt x="2375" y="1198"/>
                  </a:lnTo>
                  <a:lnTo>
                    <a:pt x="2378" y="1207"/>
                  </a:lnTo>
                  <a:lnTo>
                    <a:pt x="2375" y="1216"/>
                  </a:lnTo>
                  <a:lnTo>
                    <a:pt x="2378" y="1221"/>
                  </a:lnTo>
                  <a:lnTo>
                    <a:pt x="2385" y="1224"/>
                  </a:lnTo>
                  <a:lnTo>
                    <a:pt x="2379" y="1233"/>
                  </a:lnTo>
                  <a:lnTo>
                    <a:pt x="2375" y="1241"/>
                  </a:lnTo>
                  <a:lnTo>
                    <a:pt x="2370" y="1250"/>
                  </a:lnTo>
                  <a:lnTo>
                    <a:pt x="2371" y="1258"/>
                  </a:lnTo>
                  <a:lnTo>
                    <a:pt x="2382" y="1263"/>
                  </a:lnTo>
                  <a:lnTo>
                    <a:pt x="2393" y="1268"/>
                  </a:lnTo>
                  <a:lnTo>
                    <a:pt x="2404" y="1273"/>
                  </a:lnTo>
                  <a:lnTo>
                    <a:pt x="2409" y="1282"/>
                  </a:lnTo>
                  <a:lnTo>
                    <a:pt x="2398" y="1287"/>
                  </a:lnTo>
                  <a:lnTo>
                    <a:pt x="2396" y="1280"/>
                  </a:lnTo>
                  <a:lnTo>
                    <a:pt x="2384" y="1277"/>
                  </a:lnTo>
                  <a:lnTo>
                    <a:pt x="2374" y="1273"/>
                  </a:lnTo>
                  <a:lnTo>
                    <a:pt x="2367" y="1282"/>
                  </a:lnTo>
                  <a:lnTo>
                    <a:pt x="2367" y="1291"/>
                  </a:lnTo>
                  <a:lnTo>
                    <a:pt x="2357" y="1295"/>
                  </a:lnTo>
                  <a:lnTo>
                    <a:pt x="2347" y="1302"/>
                  </a:lnTo>
                  <a:lnTo>
                    <a:pt x="2337" y="1308"/>
                  </a:lnTo>
                  <a:lnTo>
                    <a:pt x="2326" y="1312"/>
                  </a:lnTo>
                  <a:lnTo>
                    <a:pt x="2314" y="1316"/>
                  </a:lnTo>
                  <a:lnTo>
                    <a:pt x="2305" y="1321"/>
                  </a:lnTo>
                  <a:lnTo>
                    <a:pt x="2293" y="1323"/>
                  </a:lnTo>
                  <a:lnTo>
                    <a:pt x="2298" y="1330"/>
                  </a:lnTo>
                  <a:lnTo>
                    <a:pt x="2308" y="1338"/>
                  </a:lnTo>
                  <a:lnTo>
                    <a:pt x="2297" y="1341"/>
                  </a:lnTo>
                  <a:lnTo>
                    <a:pt x="2284" y="1341"/>
                  </a:lnTo>
                  <a:lnTo>
                    <a:pt x="2270" y="1342"/>
                  </a:lnTo>
                  <a:lnTo>
                    <a:pt x="2258" y="1342"/>
                  </a:lnTo>
                  <a:lnTo>
                    <a:pt x="2245" y="1343"/>
                  </a:lnTo>
                  <a:lnTo>
                    <a:pt x="2231" y="1343"/>
                  </a:lnTo>
                  <a:lnTo>
                    <a:pt x="2219" y="1344"/>
                  </a:lnTo>
                  <a:lnTo>
                    <a:pt x="2207" y="1342"/>
                  </a:lnTo>
                  <a:lnTo>
                    <a:pt x="2207" y="1333"/>
                  </a:lnTo>
                  <a:lnTo>
                    <a:pt x="2207" y="1324"/>
                  </a:lnTo>
                  <a:lnTo>
                    <a:pt x="2206" y="1314"/>
                  </a:lnTo>
                  <a:lnTo>
                    <a:pt x="2200" y="1307"/>
                  </a:lnTo>
                  <a:lnTo>
                    <a:pt x="2188" y="1309"/>
                  </a:lnTo>
                  <a:lnTo>
                    <a:pt x="2175" y="1314"/>
                  </a:lnTo>
                  <a:lnTo>
                    <a:pt x="2165" y="1319"/>
                  </a:lnTo>
                  <a:lnTo>
                    <a:pt x="2153" y="1324"/>
                  </a:lnTo>
                  <a:lnTo>
                    <a:pt x="2143" y="1329"/>
                  </a:lnTo>
                  <a:lnTo>
                    <a:pt x="2140" y="1338"/>
                  </a:lnTo>
                  <a:lnTo>
                    <a:pt x="2139" y="1348"/>
                  </a:lnTo>
                  <a:lnTo>
                    <a:pt x="2131" y="1354"/>
                  </a:lnTo>
                  <a:lnTo>
                    <a:pt x="2122" y="1347"/>
                  </a:lnTo>
                  <a:lnTo>
                    <a:pt x="2105" y="1347"/>
                  </a:lnTo>
                  <a:lnTo>
                    <a:pt x="2103" y="1356"/>
                  </a:lnTo>
                  <a:lnTo>
                    <a:pt x="2100" y="1366"/>
                  </a:lnTo>
                  <a:lnTo>
                    <a:pt x="2097" y="1376"/>
                  </a:lnTo>
                  <a:lnTo>
                    <a:pt x="2094" y="1386"/>
                  </a:lnTo>
                  <a:lnTo>
                    <a:pt x="2093" y="1394"/>
                  </a:lnTo>
                  <a:lnTo>
                    <a:pt x="2103" y="1396"/>
                  </a:lnTo>
                  <a:lnTo>
                    <a:pt x="2112" y="1401"/>
                  </a:lnTo>
                  <a:lnTo>
                    <a:pt x="2121" y="1409"/>
                  </a:lnTo>
                  <a:lnTo>
                    <a:pt x="2119" y="1418"/>
                  </a:lnTo>
                  <a:lnTo>
                    <a:pt x="2117" y="1425"/>
                  </a:lnTo>
                  <a:lnTo>
                    <a:pt x="2114" y="1434"/>
                  </a:lnTo>
                  <a:lnTo>
                    <a:pt x="2114" y="1444"/>
                  </a:lnTo>
                  <a:lnTo>
                    <a:pt x="2111" y="1452"/>
                  </a:lnTo>
                  <a:lnTo>
                    <a:pt x="2107" y="1462"/>
                  </a:lnTo>
                  <a:lnTo>
                    <a:pt x="2115" y="1468"/>
                  </a:lnTo>
                  <a:lnTo>
                    <a:pt x="2129" y="1472"/>
                  </a:lnTo>
                  <a:lnTo>
                    <a:pt x="2126" y="1473"/>
                  </a:lnTo>
                  <a:lnTo>
                    <a:pt x="2125" y="1479"/>
                  </a:lnTo>
                  <a:lnTo>
                    <a:pt x="2136" y="1484"/>
                  </a:lnTo>
                  <a:lnTo>
                    <a:pt x="2143" y="1491"/>
                  </a:lnTo>
                  <a:lnTo>
                    <a:pt x="2146" y="1501"/>
                  </a:lnTo>
                  <a:lnTo>
                    <a:pt x="2142" y="1508"/>
                  </a:lnTo>
                  <a:lnTo>
                    <a:pt x="2129" y="1506"/>
                  </a:lnTo>
                  <a:lnTo>
                    <a:pt x="2117" y="1501"/>
                  </a:lnTo>
                  <a:lnTo>
                    <a:pt x="2105" y="1504"/>
                  </a:lnTo>
                  <a:lnTo>
                    <a:pt x="2110" y="1510"/>
                  </a:lnTo>
                  <a:lnTo>
                    <a:pt x="2122" y="1512"/>
                  </a:lnTo>
                  <a:lnTo>
                    <a:pt x="2135" y="1511"/>
                  </a:lnTo>
                  <a:lnTo>
                    <a:pt x="2147" y="1513"/>
                  </a:lnTo>
                  <a:lnTo>
                    <a:pt x="2150" y="1522"/>
                  </a:lnTo>
                  <a:lnTo>
                    <a:pt x="2150" y="1532"/>
                  </a:lnTo>
                  <a:lnTo>
                    <a:pt x="2149" y="1541"/>
                  </a:lnTo>
                  <a:lnTo>
                    <a:pt x="2144" y="1549"/>
                  </a:lnTo>
                  <a:lnTo>
                    <a:pt x="2137" y="1557"/>
                  </a:lnTo>
                  <a:lnTo>
                    <a:pt x="2133" y="1565"/>
                  </a:lnTo>
                  <a:lnTo>
                    <a:pt x="2122" y="1571"/>
                  </a:lnTo>
                  <a:lnTo>
                    <a:pt x="2117" y="1579"/>
                  </a:lnTo>
                  <a:lnTo>
                    <a:pt x="2107" y="1585"/>
                  </a:lnTo>
                  <a:lnTo>
                    <a:pt x="2097" y="1589"/>
                  </a:lnTo>
                  <a:lnTo>
                    <a:pt x="2090" y="1598"/>
                  </a:lnTo>
                  <a:lnTo>
                    <a:pt x="2083" y="1605"/>
                  </a:lnTo>
                  <a:lnTo>
                    <a:pt x="2070" y="1605"/>
                  </a:lnTo>
                  <a:lnTo>
                    <a:pt x="2058" y="1602"/>
                  </a:lnTo>
                  <a:lnTo>
                    <a:pt x="2047" y="1599"/>
                  </a:lnTo>
                  <a:lnTo>
                    <a:pt x="2034" y="1602"/>
                  </a:lnTo>
                  <a:lnTo>
                    <a:pt x="2023" y="1606"/>
                  </a:lnTo>
                  <a:lnTo>
                    <a:pt x="2012" y="1612"/>
                  </a:lnTo>
                  <a:lnTo>
                    <a:pt x="2002" y="1618"/>
                  </a:lnTo>
                  <a:lnTo>
                    <a:pt x="1991" y="1625"/>
                  </a:lnTo>
                  <a:lnTo>
                    <a:pt x="1981" y="1629"/>
                  </a:lnTo>
                  <a:lnTo>
                    <a:pt x="1970" y="1629"/>
                  </a:lnTo>
                  <a:lnTo>
                    <a:pt x="1960" y="1622"/>
                  </a:lnTo>
                  <a:lnTo>
                    <a:pt x="1949" y="1617"/>
                  </a:lnTo>
                  <a:lnTo>
                    <a:pt x="1938" y="1611"/>
                  </a:lnTo>
                  <a:lnTo>
                    <a:pt x="1926" y="1606"/>
                  </a:lnTo>
                  <a:lnTo>
                    <a:pt x="1917" y="1600"/>
                  </a:lnTo>
                  <a:lnTo>
                    <a:pt x="1911" y="1595"/>
                  </a:lnTo>
                  <a:lnTo>
                    <a:pt x="1890" y="1595"/>
                  </a:lnTo>
                  <a:lnTo>
                    <a:pt x="1880" y="1601"/>
                  </a:lnTo>
                  <a:lnTo>
                    <a:pt x="1868" y="1604"/>
                  </a:lnTo>
                  <a:lnTo>
                    <a:pt x="1855" y="1604"/>
                  </a:lnTo>
                  <a:lnTo>
                    <a:pt x="1841" y="1604"/>
                  </a:lnTo>
                  <a:lnTo>
                    <a:pt x="1829" y="1602"/>
                  </a:lnTo>
                  <a:lnTo>
                    <a:pt x="1816" y="1600"/>
                  </a:lnTo>
                  <a:lnTo>
                    <a:pt x="1805" y="1596"/>
                  </a:lnTo>
                  <a:lnTo>
                    <a:pt x="1792" y="1600"/>
                  </a:lnTo>
                  <a:lnTo>
                    <a:pt x="1789" y="1609"/>
                  </a:lnTo>
                  <a:lnTo>
                    <a:pt x="1788" y="1618"/>
                  </a:lnTo>
                  <a:lnTo>
                    <a:pt x="1782" y="1626"/>
                  </a:lnTo>
                  <a:lnTo>
                    <a:pt x="1771" y="1631"/>
                  </a:lnTo>
                  <a:lnTo>
                    <a:pt x="1759" y="1635"/>
                  </a:lnTo>
                  <a:lnTo>
                    <a:pt x="1747" y="1638"/>
                  </a:lnTo>
                  <a:lnTo>
                    <a:pt x="1735" y="1642"/>
                  </a:lnTo>
                  <a:lnTo>
                    <a:pt x="1722" y="1645"/>
                  </a:lnTo>
                  <a:lnTo>
                    <a:pt x="1710" y="1649"/>
                  </a:lnTo>
                  <a:lnTo>
                    <a:pt x="1699" y="1651"/>
                  </a:lnTo>
                  <a:lnTo>
                    <a:pt x="1686" y="1651"/>
                  </a:lnTo>
                  <a:lnTo>
                    <a:pt x="1672" y="1649"/>
                  </a:lnTo>
                  <a:lnTo>
                    <a:pt x="1659" y="1646"/>
                  </a:lnTo>
                  <a:lnTo>
                    <a:pt x="1650" y="1641"/>
                  </a:lnTo>
                  <a:lnTo>
                    <a:pt x="1644" y="1648"/>
                  </a:lnTo>
                  <a:lnTo>
                    <a:pt x="1634" y="1642"/>
                  </a:lnTo>
                  <a:lnTo>
                    <a:pt x="1622" y="1637"/>
                  </a:lnTo>
                  <a:lnTo>
                    <a:pt x="1612" y="1640"/>
                  </a:lnTo>
                  <a:lnTo>
                    <a:pt x="1601" y="1646"/>
                  </a:lnTo>
                  <a:lnTo>
                    <a:pt x="1592" y="1654"/>
                  </a:lnTo>
                  <a:lnTo>
                    <a:pt x="1587" y="1662"/>
                  </a:lnTo>
                  <a:lnTo>
                    <a:pt x="1581" y="1671"/>
                  </a:lnTo>
                  <a:lnTo>
                    <a:pt x="1576" y="1679"/>
                  </a:lnTo>
                  <a:lnTo>
                    <a:pt x="1570" y="1687"/>
                  </a:lnTo>
                  <a:lnTo>
                    <a:pt x="1560" y="1694"/>
                  </a:lnTo>
                  <a:lnTo>
                    <a:pt x="1550" y="1700"/>
                  </a:lnTo>
                  <a:lnTo>
                    <a:pt x="1541" y="1706"/>
                  </a:lnTo>
                  <a:lnTo>
                    <a:pt x="1531" y="1713"/>
                  </a:lnTo>
                  <a:lnTo>
                    <a:pt x="1520" y="1719"/>
                  </a:lnTo>
                  <a:lnTo>
                    <a:pt x="1518" y="1727"/>
                  </a:lnTo>
                  <a:lnTo>
                    <a:pt x="1522" y="1736"/>
                  </a:lnTo>
                  <a:lnTo>
                    <a:pt x="1528" y="1744"/>
                  </a:lnTo>
                  <a:lnTo>
                    <a:pt x="1531" y="1753"/>
                  </a:lnTo>
                  <a:lnTo>
                    <a:pt x="1534" y="1762"/>
                  </a:lnTo>
                  <a:lnTo>
                    <a:pt x="1538" y="1771"/>
                  </a:lnTo>
                  <a:lnTo>
                    <a:pt x="1541" y="1780"/>
                  </a:lnTo>
                  <a:lnTo>
                    <a:pt x="1542" y="1790"/>
                  </a:lnTo>
                  <a:lnTo>
                    <a:pt x="1542" y="1799"/>
                  </a:lnTo>
                  <a:lnTo>
                    <a:pt x="1545" y="1808"/>
                  </a:lnTo>
                  <a:lnTo>
                    <a:pt x="1549" y="1818"/>
                  </a:lnTo>
                  <a:lnTo>
                    <a:pt x="1553" y="1827"/>
                  </a:lnTo>
                  <a:lnTo>
                    <a:pt x="1557" y="1838"/>
                  </a:lnTo>
                  <a:lnTo>
                    <a:pt x="1556" y="1847"/>
                  </a:lnTo>
                  <a:lnTo>
                    <a:pt x="1545" y="1853"/>
                  </a:lnTo>
                  <a:lnTo>
                    <a:pt x="1534" y="1857"/>
                  </a:lnTo>
                  <a:lnTo>
                    <a:pt x="1521" y="1861"/>
                  </a:lnTo>
                  <a:lnTo>
                    <a:pt x="1514" y="1868"/>
                  </a:lnTo>
                  <a:lnTo>
                    <a:pt x="1503" y="1871"/>
                  </a:lnTo>
                  <a:lnTo>
                    <a:pt x="1490" y="1871"/>
                  </a:lnTo>
                  <a:lnTo>
                    <a:pt x="1476" y="1872"/>
                  </a:lnTo>
                  <a:lnTo>
                    <a:pt x="1464" y="1873"/>
                  </a:lnTo>
                  <a:lnTo>
                    <a:pt x="1451" y="1875"/>
                  </a:lnTo>
                  <a:lnTo>
                    <a:pt x="1439" y="1877"/>
                  </a:lnTo>
                  <a:lnTo>
                    <a:pt x="1426" y="1877"/>
                  </a:lnTo>
                  <a:lnTo>
                    <a:pt x="1412" y="1876"/>
                  </a:lnTo>
                  <a:lnTo>
                    <a:pt x="1408" y="1883"/>
                  </a:lnTo>
                  <a:lnTo>
                    <a:pt x="1401" y="1894"/>
                  </a:lnTo>
                  <a:lnTo>
                    <a:pt x="1399" y="1907"/>
                  </a:lnTo>
                  <a:lnTo>
                    <a:pt x="1395" y="1915"/>
                  </a:lnTo>
                  <a:lnTo>
                    <a:pt x="1384" y="1921"/>
                  </a:lnTo>
                  <a:lnTo>
                    <a:pt x="1371" y="1924"/>
                  </a:lnTo>
                  <a:lnTo>
                    <a:pt x="1359" y="1923"/>
                  </a:lnTo>
                  <a:lnTo>
                    <a:pt x="1346" y="1920"/>
                  </a:lnTo>
                  <a:lnTo>
                    <a:pt x="1334" y="1918"/>
                  </a:lnTo>
                  <a:lnTo>
                    <a:pt x="1320" y="1918"/>
                  </a:lnTo>
                  <a:lnTo>
                    <a:pt x="1307" y="1917"/>
                  </a:lnTo>
                  <a:lnTo>
                    <a:pt x="1295" y="1916"/>
                  </a:lnTo>
                  <a:lnTo>
                    <a:pt x="1285" y="1912"/>
                  </a:lnTo>
                  <a:lnTo>
                    <a:pt x="1279" y="1902"/>
                  </a:lnTo>
                  <a:lnTo>
                    <a:pt x="1274" y="1894"/>
                  </a:lnTo>
                  <a:lnTo>
                    <a:pt x="1258" y="1883"/>
                  </a:lnTo>
                  <a:lnTo>
                    <a:pt x="1250" y="1875"/>
                  </a:lnTo>
                  <a:lnTo>
                    <a:pt x="1241" y="1868"/>
                  </a:lnTo>
                  <a:lnTo>
                    <a:pt x="1232" y="1862"/>
                  </a:lnTo>
                  <a:lnTo>
                    <a:pt x="1220" y="1858"/>
                  </a:lnTo>
                  <a:lnTo>
                    <a:pt x="1208" y="1855"/>
                  </a:lnTo>
                  <a:lnTo>
                    <a:pt x="1195" y="1852"/>
                  </a:lnTo>
                  <a:lnTo>
                    <a:pt x="1183" y="1849"/>
                  </a:lnTo>
                  <a:lnTo>
                    <a:pt x="1170" y="1850"/>
                  </a:lnTo>
                  <a:lnTo>
                    <a:pt x="1159" y="1856"/>
                  </a:lnTo>
                  <a:lnTo>
                    <a:pt x="1156" y="1863"/>
                  </a:lnTo>
                  <a:lnTo>
                    <a:pt x="1145" y="1866"/>
                  </a:lnTo>
                  <a:lnTo>
                    <a:pt x="1145" y="1874"/>
                  </a:lnTo>
                  <a:lnTo>
                    <a:pt x="1155" y="1879"/>
                  </a:lnTo>
                  <a:lnTo>
                    <a:pt x="1149" y="1887"/>
                  </a:lnTo>
                  <a:lnTo>
                    <a:pt x="1137" y="1891"/>
                  </a:lnTo>
                  <a:lnTo>
                    <a:pt x="1125" y="1885"/>
                  </a:lnTo>
                  <a:lnTo>
                    <a:pt x="1114" y="1881"/>
                  </a:lnTo>
                  <a:lnTo>
                    <a:pt x="1106" y="1887"/>
                  </a:lnTo>
                  <a:lnTo>
                    <a:pt x="1097" y="1894"/>
                  </a:lnTo>
                  <a:lnTo>
                    <a:pt x="1090" y="1904"/>
                  </a:lnTo>
                  <a:lnTo>
                    <a:pt x="1085" y="1912"/>
                  </a:lnTo>
                  <a:lnTo>
                    <a:pt x="1081" y="1921"/>
                  </a:lnTo>
                  <a:lnTo>
                    <a:pt x="1076" y="1929"/>
                  </a:lnTo>
                  <a:lnTo>
                    <a:pt x="1069" y="1940"/>
                  </a:lnTo>
                  <a:lnTo>
                    <a:pt x="1062" y="1946"/>
                  </a:lnTo>
                  <a:lnTo>
                    <a:pt x="1051" y="1943"/>
                  </a:lnTo>
                  <a:lnTo>
                    <a:pt x="1040" y="1939"/>
                  </a:lnTo>
                  <a:lnTo>
                    <a:pt x="1029" y="1934"/>
                  </a:lnTo>
                  <a:lnTo>
                    <a:pt x="1018" y="1929"/>
                  </a:lnTo>
                  <a:lnTo>
                    <a:pt x="1007" y="1923"/>
                  </a:lnTo>
                  <a:lnTo>
                    <a:pt x="995" y="1917"/>
                  </a:lnTo>
                  <a:lnTo>
                    <a:pt x="984" y="1911"/>
                  </a:lnTo>
                  <a:lnTo>
                    <a:pt x="974" y="1905"/>
                  </a:lnTo>
                  <a:lnTo>
                    <a:pt x="966" y="1898"/>
                  </a:lnTo>
                  <a:lnTo>
                    <a:pt x="958" y="1894"/>
                  </a:lnTo>
                  <a:lnTo>
                    <a:pt x="948" y="1887"/>
                  </a:lnTo>
                  <a:lnTo>
                    <a:pt x="937" y="1883"/>
                  </a:lnTo>
                  <a:lnTo>
                    <a:pt x="925" y="1880"/>
                  </a:lnTo>
                  <a:lnTo>
                    <a:pt x="913" y="1894"/>
                  </a:lnTo>
                  <a:lnTo>
                    <a:pt x="919" y="1911"/>
                  </a:lnTo>
                  <a:lnTo>
                    <a:pt x="924" y="1919"/>
                  </a:lnTo>
                  <a:lnTo>
                    <a:pt x="916" y="1925"/>
                  </a:lnTo>
                  <a:lnTo>
                    <a:pt x="902" y="1928"/>
                  </a:lnTo>
                  <a:lnTo>
                    <a:pt x="891" y="1929"/>
                  </a:lnTo>
                  <a:lnTo>
                    <a:pt x="888" y="1919"/>
                  </a:lnTo>
                  <a:lnTo>
                    <a:pt x="892" y="1910"/>
                  </a:lnTo>
                  <a:lnTo>
                    <a:pt x="888" y="1902"/>
                  </a:lnTo>
                  <a:lnTo>
                    <a:pt x="881" y="1894"/>
                  </a:lnTo>
                  <a:lnTo>
                    <a:pt x="872" y="1878"/>
                  </a:lnTo>
                  <a:lnTo>
                    <a:pt x="861" y="1874"/>
                  </a:lnTo>
                  <a:lnTo>
                    <a:pt x="847" y="1874"/>
                  </a:lnTo>
                  <a:lnTo>
                    <a:pt x="839" y="1867"/>
                  </a:lnTo>
                  <a:lnTo>
                    <a:pt x="835" y="1858"/>
                  </a:lnTo>
                  <a:lnTo>
                    <a:pt x="832" y="1849"/>
                  </a:lnTo>
                  <a:lnTo>
                    <a:pt x="830" y="1840"/>
                  </a:lnTo>
                  <a:lnTo>
                    <a:pt x="832" y="1831"/>
                  </a:lnTo>
                  <a:lnTo>
                    <a:pt x="826" y="1823"/>
                  </a:lnTo>
                  <a:lnTo>
                    <a:pt x="814" y="1820"/>
                  </a:lnTo>
                  <a:lnTo>
                    <a:pt x="804" y="1813"/>
                  </a:lnTo>
                  <a:lnTo>
                    <a:pt x="798" y="1804"/>
                  </a:lnTo>
                  <a:lnTo>
                    <a:pt x="788" y="1801"/>
                  </a:lnTo>
                  <a:lnTo>
                    <a:pt x="776" y="1805"/>
                  </a:lnTo>
                  <a:lnTo>
                    <a:pt x="770" y="1813"/>
                  </a:lnTo>
                  <a:lnTo>
                    <a:pt x="776" y="1822"/>
                  </a:lnTo>
                  <a:lnTo>
                    <a:pt x="786" y="1829"/>
                  </a:lnTo>
                  <a:lnTo>
                    <a:pt x="791" y="1837"/>
                  </a:lnTo>
                  <a:lnTo>
                    <a:pt x="790" y="1846"/>
                  </a:lnTo>
                  <a:lnTo>
                    <a:pt x="786" y="1855"/>
                  </a:lnTo>
                  <a:lnTo>
                    <a:pt x="775" y="1860"/>
                  </a:lnTo>
                  <a:lnTo>
                    <a:pt x="762" y="1858"/>
                  </a:lnTo>
                  <a:lnTo>
                    <a:pt x="755" y="1851"/>
                  </a:lnTo>
                  <a:lnTo>
                    <a:pt x="745" y="1846"/>
                  </a:lnTo>
                  <a:lnTo>
                    <a:pt x="733" y="1842"/>
                  </a:lnTo>
                  <a:lnTo>
                    <a:pt x="723" y="1835"/>
                  </a:lnTo>
                  <a:lnTo>
                    <a:pt x="716" y="1828"/>
                  </a:lnTo>
                  <a:lnTo>
                    <a:pt x="710" y="1819"/>
                  </a:lnTo>
                  <a:lnTo>
                    <a:pt x="710" y="1809"/>
                  </a:lnTo>
                  <a:lnTo>
                    <a:pt x="713" y="1799"/>
                  </a:lnTo>
                  <a:lnTo>
                    <a:pt x="723" y="1793"/>
                  </a:lnTo>
                  <a:lnTo>
                    <a:pt x="735" y="1792"/>
                  </a:lnTo>
                  <a:lnTo>
                    <a:pt x="748" y="1793"/>
                  </a:lnTo>
                  <a:lnTo>
                    <a:pt x="761" y="1792"/>
                  </a:lnTo>
                  <a:lnTo>
                    <a:pt x="775" y="1791"/>
                  </a:lnTo>
                  <a:lnTo>
                    <a:pt x="787" y="1789"/>
                  </a:lnTo>
                  <a:lnTo>
                    <a:pt x="795" y="1782"/>
                  </a:lnTo>
                  <a:lnTo>
                    <a:pt x="791" y="1772"/>
                  </a:lnTo>
                  <a:lnTo>
                    <a:pt x="783" y="1774"/>
                  </a:lnTo>
                  <a:lnTo>
                    <a:pt x="772" y="1780"/>
                  </a:lnTo>
                  <a:lnTo>
                    <a:pt x="759" y="1781"/>
                  </a:lnTo>
                  <a:lnTo>
                    <a:pt x="745" y="1781"/>
                  </a:lnTo>
                  <a:lnTo>
                    <a:pt x="734" y="1777"/>
                  </a:lnTo>
                  <a:lnTo>
                    <a:pt x="726" y="1770"/>
                  </a:lnTo>
                  <a:lnTo>
                    <a:pt x="719" y="1762"/>
                  </a:lnTo>
                  <a:lnTo>
                    <a:pt x="710" y="1754"/>
                  </a:lnTo>
                  <a:lnTo>
                    <a:pt x="702" y="1747"/>
                  </a:lnTo>
                  <a:lnTo>
                    <a:pt x="691" y="1741"/>
                  </a:lnTo>
                  <a:lnTo>
                    <a:pt x="686" y="1736"/>
                  </a:lnTo>
                  <a:lnTo>
                    <a:pt x="699" y="1738"/>
                  </a:lnTo>
                  <a:lnTo>
                    <a:pt x="710" y="1743"/>
                  </a:lnTo>
                  <a:lnTo>
                    <a:pt x="721" y="1746"/>
                  </a:lnTo>
                  <a:lnTo>
                    <a:pt x="735" y="1746"/>
                  </a:lnTo>
                  <a:lnTo>
                    <a:pt x="748" y="1743"/>
                  </a:lnTo>
                  <a:lnTo>
                    <a:pt x="756" y="1736"/>
                  </a:lnTo>
                  <a:lnTo>
                    <a:pt x="765" y="1729"/>
                  </a:lnTo>
                  <a:lnTo>
                    <a:pt x="773" y="1722"/>
                  </a:lnTo>
                  <a:lnTo>
                    <a:pt x="784" y="1717"/>
                  </a:lnTo>
                  <a:lnTo>
                    <a:pt x="793" y="1725"/>
                  </a:lnTo>
                  <a:lnTo>
                    <a:pt x="800" y="1727"/>
                  </a:lnTo>
                  <a:lnTo>
                    <a:pt x="802" y="1718"/>
                  </a:lnTo>
                  <a:lnTo>
                    <a:pt x="805" y="1707"/>
                  </a:lnTo>
                  <a:lnTo>
                    <a:pt x="811" y="1699"/>
                  </a:lnTo>
                  <a:lnTo>
                    <a:pt x="818" y="1691"/>
                  </a:lnTo>
                  <a:lnTo>
                    <a:pt x="825" y="1683"/>
                  </a:lnTo>
                  <a:lnTo>
                    <a:pt x="836" y="1678"/>
                  </a:lnTo>
                  <a:lnTo>
                    <a:pt x="849" y="1678"/>
                  </a:lnTo>
                  <a:lnTo>
                    <a:pt x="856" y="1686"/>
                  </a:lnTo>
                  <a:lnTo>
                    <a:pt x="863" y="1693"/>
                  </a:lnTo>
                  <a:lnTo>
                    <a:pt x="875" y="1696"/>
                  </a:lnTo>
                  <a:lnTo>
                    <a:pt x="888" y="1693"/>
                  </a:lnTo>
                  <a:lnTo>
                    <a:pt x="898" y="1687"/>
                  </a:lnTo>
                  <a:lnTo>
                    <a:pt x="906" y="1680"/>
                  </a:lnTo>
                  <a:lnTo>
                    <a:pt x="916" y="1674"/>
                  </a:lnTo>
                  <a:lnTo>
                    <a:pt x="925" y="1668"/>
                  </a:lnTo>
                  <a:lnTo>
                    <a:pt x="935" y="1661"/>
                  </a:lnTo>
                  <a:lnTo>
                    <a:pt x="945" y="1655"/>
                  </a:lnTo>
                  <a:lnTo>
                    <a:pt x="951" y="1647"/>
                  </a:lnTo>
                  <a:lnTo>
                    <a:pt x="951" y="1638"/>
                  </a:lnTo>
                  <a:lnTo>
                    <a:pt x="955" y="1629"/>
                  </a:lnTo>
                  <a:lnTo>
                    <a:pt x="967" y="1627"/>
                  </a:lnTo>
                  <a:lnTo>
                    <a:pt x="980" y="1624"/>
                  </a:lnTo>
                  <a:lnTo>
                    <a:pt x="993" y="1622"/>
                  </a:lnTo>
                  <a:lnTo>
                    <a:pt x="1005" y="1619"/>
                  </a:lnTo>
                  <a:lnTo>
                    <a:pt x="1015" y="1612"/>
                  </a:lnTo>
                  <a:lnTo>
                    <a:pt x="1022" y="1605"/>
                  </a:lnTo>
                  <a:lnTo>
                    <a:pt x="1022" y="1595"/>
                  </a:lnTo>
                  <a:lnTo>
                    <a:pt x="1021" y="1586"/>
                  </a:lnTo>
                  <a:lnTo>
                    <a:pt x="1016" y="1577"/>
                  </a:lnTo>
                  <a:lnTo>
                    <a:pt x="1009" y="1569"/>
                  </a:lnTo>
                  <a:lnTo>
                    <a:pt x="1001" y="1562"/>
                  </a:lnTo>
                  <a:lnTo>
                    <a:pt x="990" y="1557"/>
                  </a:lnTo>
                  <a:lnTo>
                    <a:pt x="977" y="1555"/>
                  </a:lnTo>
                  <a:lnTo>
                    <a:pt x="965" y="1553"/>
                  </a:lnTo>
                  <a:lnTo>
                    <a:pt x="951" y="1553"/>
                  </a:lnTo>
                  <a:lnTo>
                    <a:pt x="939" y="1557"/>
                  </a:lnTo>
                  <a:lnTo>
                    <a:pt x="930" y="1564"/>
                  </a:lnTo>
                  <a:lnTo>
                    <a:pt x="919" y="1564"/>
                  </a:lnTo>
                  <a:lnTo>
                    <a:pt x="913" y="1556"/>
                  </a:lnTo>
                  <a:lnTo>
                    <a:pt x="910" y="1547"/>
                  </a:lnTo>
                  <a:lnTo>
                    <a:pt x="912" y="1537"/>
                  </a:lnTo>
                  <a:lnTo>
                    <a:pt x="917" y="1529"/>
                  </a:lnTo>
                  <a:lnTo>
                    <a:pt x="928" y="1525"/>
                  </a:lnTo>
                  <a:lnTo>
                    <a:pt x="942" y="1523"/>
                  </a:lnTo>
                  <a:lnTo>
                    <a:pt x="955" y="1521"/>
                  </a:lnTo>
                  <a:lnTo>
                    <a:pt x="966" y="1517"/>
                  </a:lnTo>
                  <a:lnTo>
                    <a:pt x="970" y="1508"/>
                  </a:lnTo>
                  <a:lnTo>
                    <a:pt x="963" y="1501"/>
                  </a:lnTo>
                  <a:lnTo>
                    <a:pt x="958" y="1492"/>
                  </a:lnTo>
                  <a:lnTo>
                    <a:pt x="959" y="1483"/>
                  </a:lnTo>
                  <a:lnTo>
                    <a:pt x="967" y="1476"/>
                  </a:lnTo>
                  <a:lnTo>
                    <a:pt x="980" y="1471"/>
                  </a:lnTo>
                  <a:lnTo>
                    <a:pt x="979" y="1465"/>
                  </a:lnTo>
                  <a:lnTo>
                    <a:pt x="969" y="1457"/>
                  </a:lnTo>
                  <a:lnTo>
                    <a:pt x="959" y="1450"/>
                  </a:lnTo>
                  <a:lnTo>
                    <a:pt x="949" y="1444"/>
                  </a:lnTo>
                  <a:lnTo>
                    <a:pt x="939" y="1443"/>
                  </a:lnTo>
                  <a:lnTo>
                    <a:pt x="928" y="1438"/>
                  </a:lnTo>
                  <a:lnTo>
                    <a:pt x="917" y="1434"/>
                  </a:lnTo>
                  <a:lnTo>
                    <a:pt x="906" y="1429"/>
                  </a:lnTo>
                  <a:lnTo>
                    <a:pt x="889" y="1422"/>
                  </a:lnTo>
                  <a:lnTo>
                    <a:pt x="896" y="1414"/>
                  </a:lnTo>
                  <a:lnTo>
                    <a:pt x="902" y="1405"/>
                  </a:lnTo>
                  <a:lnTo>
                    <a:pt x="907" y="1397"/>
                  </a:lnTo>
                  <a:lnTo>
                    <a:pt x="913" y="1388"/>
                  </a:lnTo>
                  <a:lnTo>
                    <a:pt x="920" y="1380"/>
                  </a:lnTo>
                  <a:lnTo>
                    <a:pt x="925" y="1371"/>
                  </a:lnTo>
                  <a:lnTo>
                    <a:pt x="925" y="1363"/>
                  </a:lnTo>
                  <a:lnTo>
                    <a:pt x="919" y="1353"/>
                  </a:lnTo>
                  <a:lnTo>
                    <a:pt x="907" y="1349"/>
                  </a:lnTo>
                  <a:lnTo>
                    <a:pt x="893" y="1347"/>
                  </a:lnTo>
                  <a:lnTo>
                    <a:pt x="882" y="1343"/>
                  </a:lnTo>
                  <a:lnTo>
                    <a:pt x="877" y="1335"/>
                  </a:lnTo>
                  <a:lnTo>
                    <a:pt x="872" y="1327"/>
                  </a:lnTo>
                  <a:lnTo>
                    <a:pt x="870" y="1317"/>
                  </a:lnTo>
                  <a:lnTo>
                    <a:pt x="867" y="1308"/>
                  </a:lnTo>
                  <a:lnTo>
                    <a:pt x="863" y="1295"/>
                  </a:lnTo>
                  <a:lnTo>
                    <a:pt x="860" y="1286"/>
                  </a:lnTo>
                  <a:lnTo>
                    <a:pt x="856" y="1277"/>
                  </a:lnTo>
                  <a:lnTo>
                    <a:pt x="851" y="1268"/>
                  </a:lnTo>
                  <a:lnTo>
                    <a:pt x="846" y="1260"/>
                  </a:lnTo>
                  <a:lnTo>
                    <a:pt x="836" y="1254"/>
                  </a:lnTo>
                  <a:lnTo>
                    <a:pt x="829" y="1246"/>
                  </a:lnTo>
                  <a:lnTo>
                    <a:pt x="828" y="1237"/>
                  </a:lnTo>
                  <a:lnTo>
                    <a:pt x="819" y="1229"/>
                  </a:lnTo>
                  <a:lnTo>
                    <a:pt x="809" y="1222"/>
                  </a:lnTo>
                  <a:lnTo>
                    <a:pt x="804" y="1215"/>
                  </a:lnTo>
                  <a:lnTo>
                    <a:pt x="816" y="1211"/>
                  </a:lnTo>
                  <a:lnTo>
                    <a:pt x="812" y="1203"/>
                  </a:lnTo>
                  <a:lnTo>
                    <a:pt x="805" y="1194"/>
                  </a:lnTo>
                  <a:lnTo>
                    <a:pt x="797" y="1186"/>
                  </a:lnTo>
                  <a:lnTo>
                    <a:pt x="791" y="1178"/>
                  </a:lnTo>
                  <a:lnTo>
                    <a:pt x="794" y="1170"/>
                  </a:lnTo>
                  <a:lnTo>
                    <a:pt x="798" y="1161"/>
                  </a:lnTo>
                  <a:lnTo>
                    <a:pt x="802" y="1152"/>
                  </a:lnTo>
                  <a:lnTo>
                    <a:pt x="807" y="1143"/>
                  </a:lnTo>
                  <a:lnTo>
                    <a:pt x="807" y="1134"/>
                  </a:lnTo>
                  <a:lnTo>
                    <a:pt x="816" y="1127"/>
                  </a:lnTo>
                  <a:lnTo>
                    <a:pt x="826" y="1121"/>
                  </a:lnTo>
                  <a:lnTo>
                    <a:pt x="833" y="1113"/>
                  </a:lnTo>
                  <a:lnTo>
                    <a:pt x="843" y="1107"/>
                  </a:lnTo>
                  <a:lnTo>
                    <a:pt x="851" y="1100"/>
                  </a:lnTo>
                  <a:lnTo>
                    <a:pt x="860" y="1093"/>
                  </a:lnTo>
                  <a:lnTo>
                    <a:pt x="868" y="1086"/>
                  </a:lnTo>
                  <a:lnTo>
                    <a:pt x="875" y="1078"/>
                  </a:lnTo>
                  <a:lnTo>
                    <a:pt x="882" y="1070"/>
                  </a:lnTo>
                  <a:lnTo>
                    <a:pt x="888" y="1061"/>
                  </a:lnTo>
                  <a:lnTo>
                    <a:pt x="889" y="1053"/>
                  </a:lnTo>
                  <a:lnTo>
                    <a:pt x="884" y="1043"/>
                  </a:lnTo>
                  <a:lnTo>
                    <a:pt x="879" y="1035"/>
                  </a:lnTo>
                  <a:lnTo>
                    <a:pt x="875" y="1026"/>
                  </a:lnTo>
                  <a:lnTo>
                    <a:pt x="868" y="1018"/>
                  </a:lnTo>
                  <a:lnTo>
                    <a:pt x="865" y="1009"/>
                  </a:lnTo>
                  <a:lnTo>
                    <a:pt x="858" y="1002"/>
                  </a:lnTo>
                  <a:lnTo>
                    <a:pt x="853" y="995"/>
                  </a:lnTo>
                  <a:lnTo>
                    <a:pt x="854" y="984"/>
                  </a:lnTo>
                  <a:lnTo>
                    <a:pt x="849" y="977"/>
                  </a:lnTo>
                  <a:lnTo>
                    <a:pt x="836" y="974"/>
                  </a:lnTo>
                  <a:lnTo>
                    <a:pt x="823" y="971"/>
                  </a:lnTo>
                  <a:lnTo>
                    <a:pt x="814" y="964"/>
                  </a:lnTo>
                  <a:lnTo>
                    <a:pt x="805" y="958"/>
                  </a:lnTo>
                  <a:lnTo>
                    <a:pt x="795" y="951"/>
                  </a:lnTo>
                  <a:lnTo>
                    <a:pt x="786" y="945"/>
                  </a:lnTo>
                  <a:lnTo>
                    <a:pt x="776" y="939"/>
                  </a:lnTo>
                  <a:lnTo>
                    <a:pt x="765" y="935"/>
                  </a:lnTo>
                  <a:lnTo>
                    <a:pt x="752" y="932"/>
                  </a:lnTo>
                  <a:lnTo>
                    <a:pt x="740" y="929"/>
                  </a:lnTo>
                  <a:lnTo>
                    <a:pt x="727" y="926"/>
                  </a:lnTo>
                  <a:lnTo>
                    <a:pt x="714" y="923"/>
                  </a:lnTo>
                  <a:lnTo>
                    <a:pt x="702" y="920"/>
                  </a:lnTo>
                  <a:lnTo>
                    <a:pt x="691" y="916"/>
                  </a:lnTo>
                  <a:lnTo>
                    <a:pt x="675" y="915"/>
                  </a:lnTo>
                  <a:lnTo>
                    <a:pt x="668" y="911"/>
                  </a:lnTo>
                  <a:lnTo>
                    <a:pt x="671" y="903"/>
                  </a:lnTo>
                  <a:lnTo>
                    <a:pt x="675" y="894"/>
                  </a:lnTo>
                  <a:lnTo>
                    <a:pt x="679" y="885"/>
                  </a:lnTo>
                  <a:lnTo>
                    <a:pt x="685" y="875"/>
                  </a:lnTo>
                  <a:lnTo>
                    <a:pt x="689" y="866"/>
                  </a:lnTo>
                  <a:lnTo>
                    <a:pt x="695" y="857"/>
                  </a:lnTo>
                  <a:lnTo>
                    <a:pt x="699" y="848"/>
                  </a:lnTo>
                  <a:lnTo>
                    <a:pt x="705" y="840"/>
                  </a:lnTo>
                  <a:lnTo>
                    <a:pt x="712" y="832"/>
                  </a:lnTo>
                  <a:lnTo>
                    <a:pt x="719" y="824"/>
                  </a:lnTo>
                  <a:lnTo>
                    <a:pt x="723" y="815"/>
                  </a:lnTo>
                  <a:lnTo>
                    <a:pt x="726" y="806"/>
                  </a:lnTo>
                  <a:lnTo>
                    <a:pt x="716" y="800"/>
                  </a:lnTo>
                  <a:lnTo>
                    <a:pt x="707" y="793"/>
                  </a:lnTo>
                  <a:lnTo>
                    <a:pt x="702" y="785"/>
                  </a:lnTo>
                  <a:lnTo>
                    <a:pt x="695" y="777"/>
                  </a:lnTo>
                  <a:lnTo>
                    <a:pt x="689" y="769"/>
                  </a:lnTo>
                  <a:lnTo>
                    <a:pt x="682" y="761"/>
                  </a:lnTo>
                  <a:lnTo>
                    <a:pt x="674" y="754"/>
                  </a:lnTo>
                  <a:lnTo>
                    <a:pt x="670" y="745"/>
                  </a:lnTo>
                  <a:lnTo>
                    <a:pt x="670" y="736"/>
                  </a:lnTo>
                  <a:lnTo>
                    <a:pt x="672" y="726"/>
                  </a:lnTo>
                  <a:lnTo>
                    <a:pt x="670" y="718"/>
                  </a:lnTo>
                  <a:lnTo>
                    <a:pt x="661" y="711"/>
                  </a:lnTo>
                  <a:lnTo>
                    <a:pt x="643" y="698"/>
                  </a:lnTo>
                  <a:lnTo>
                    <a:pt x="639" y="689"/>
                  </a:lnTo>
                  <a:lnTo>
                    <a:pt x="628" y="676"/>
                  </a:lnTo>
                  <a:lnTo>
                    <a:pt x="617" y="671"/>
                  </a:lnTo>
                  <a:lnTo>
                    <a:pt x="605" y="667"/>
                  </a:lnTo>
                  <a:lnTo>
                    <a:pt x="593" y="662"/>
                  </a:lnTo>
                  <a:lnTo>
                    <a:pt x="582" y="658"/>
                  </a:lnTo>
                  <a:lnTo>
                    <a:pt x="570" y="654"/>
                  </a:lnTo>
                  <a:lnTo>
                    <a:pt x="558" y="651"/>
                  </a:lnTo>
                  <a:lnTo>
                    <a:pt x="547" y="646"/>
                  </a:lnTo>
                  <a:lnTo>
                    <a:pt x="535" y="641"/>
                  </a:lnTo>
                  <a:lnTo>
                    <a:pt x="524" y="636"/>
                  </a:lnTo>
                  <a:lnTo>
                    <a:pt x="515" y="635"/>
                  </a:lnTo>
                  <a:lnTo>
                    <a:pt x="503" y="629"/>
                  </a:lnTo>
                  <a:lnTo>
                    <a:pt x="494" y="624"/>
                  </a:lnTo>
                  <a:lnTo>
                    <a:pt x="482" y="618"/>
                  </a:lnTo>
                  <a:lnTo>
                    <a:pt x="473" y="612"/>
                  </a:lnTo>
                  <a:lnTo>
                    <a:pt x="463" y="607"/>
                  </a:lnTo>
                  <a:lnTo>
                    <a:pt x="453" y="600"/>
                  </a:lnTo>
                  <a:lnTo>
                    <a:pt x="442" y="596"/>
                  </a:lnTo>
                  <a:lnTo>
                    <a:pt x="429" y="592"/>
                  </a:lnTo>
                  <a:lnTo>
                    <a:pt x="418" y="588"/>
                  </a:lnTo>
                  <a:lnTo>
                    <a:pt x="407" y="583"/>
                  </a:lnTo>
                  <a:lnTo>
                    <a:pt x="397" y="577"/>
                  </a:lnTo>
                  <a:lnTo>
                    <a:pt x="389" y="570"/>
                  </a:lnTo>
                  <a:lnTo>
                    <a:pt x="379" y="563"/>
                  </a:lnTo>
                  <a:lnTo>
                    <a:pt x="369" y="557"/>
                  </a:lnTo>
                  <a:lnTo>
                    <a:pt x="358" y="552"/>
                  </a:lnTo>
                  <a:lnTo>
                    <a:pt x="345" y="551"/>
                  </a:lnTo>
                  <a:lnTo>
                    <a:pt x="345" y="541"/>
                  </a:lnTo>
                  <a:lnTo>
                    <a:pt x="340" y="534"/>
                  </a:lnTo>
                  <a:lnTo>
                    <a:pt x="336" y="525"/>
                  </a:lnTo>
                  <a:lnTo>
                    <a:pt x="330" y="516"/>
                  </a:lnTo>
                  <a:lnTo>
                    <a:pt x="324" y="508"/>
                  </a:lnTo>
                  <a:lnTo>
                    <a:pt x="319" y="500"/>
                  </a:lnTo>
                  <a:lnTo>
                    <a:pt x="309" y="493"/>
                  </a:lnTo>
                  <a:lnTo>
                    <a:pt x="299" y="487"/>
                  </a:lnTo>
                  <a:lnTo>
                    <a:pt x="289" y="481"/>
                  </a:lnTo>
                  <a:lnTo>
                    <a:pt x="280" y="475"/>
                  </a:lnTo>
                  <a:lnTo>
                    <a:pt x="270" y="469"/>
                  </a:lnTo>
                  <a:lnTo>
                    <a:pt x="259" y="463"/>
                  </a:lnTo>
                  <a:lnTo>
                    <a:pt x="249" y="458"/>
                  </a:lnTo>
                  <a:lnTo>
                    <a:pt x="238" y="452"/>
                  </a:lnTo>
                  <a:lnTo>
                    <a:pt x="227" y="447"/>
                  </a:lnTo>
                  <a:lnTo>
                    <a:pt x="215" y="443"/>
                  </a:lnTo>
                  <a:lnTo>
                    <a:pt x="204" y="438"/>
                  </a:lnTo>
                  <a:lnTo>
                    <a:pt x="194" y="431"/>
                  </a:lnTo>
                  <a:lnTo>
                    <a:pt x="192" y="424"/>
                  </a:lnTo>
                  <a:lnTo>
                    <a:pt x="199" y="417"/>
                  </a:lnTo>
                  <a:lnTo>
                    <a:pt x="207" y="409"/>
                  </a:lnTo>
                  <a:lnTo>
                    <a:pt x="217" y="402"/>
                  </a:lnTo>
                  <a:lnTo>
                    <a:pt x="225" y="394"/>
                  </a:lnTo>
                  <a:lnTo>
                    <a:pt x="231" y="386"/>
                  </a:lnTo>
                  <a:lnTo>
                    <a:pt x="236" y="378"/>
                  </a:lnTo>
                  <a:lnTo>
                    <a:pt x="242" y="369"/>
                  </a:lnTo>
                  <a:lnTo>
                    <a:pt x="248" y="361"/>
                  </a:lnTo>
                  <a:lnTo>
                    <a:pt x="254" y="353"/>
                  </a:lnTo>
                  <a:lnTo>
                    <a:pt x="263" y="346"/>
                  </a:lnTo>
                  <a:lnTo>
                    <a:pt x="271" y="339"/>
                  </a:lnTo>
                  <a:lnTo>
                    <a:pt x="274" y="331"/>
                  </a:lnTo>
                  <a:lnTo>
                    <a:pt x="263" y="325"/>
                  </a:lnTo>
                  <a:lnTo>
                    <a:pt x="252" y="320"/>
                  </a:lnTo>
                  <a:lnTo>
                    <a:pt x="245" y="326"/>
                  </a:lnTo>
                  <a:lnTo>
                    <a:pt x="236" y="334"/>
                  </a:lnTo>
                  <a:lnTo>
                    <a:pt x="229" y="340"/>
                  </a:lnTo>
                  <a:lnTo>
                    <a:pt x="220" y="334"/>
                  </a:lnTo>
                  <a:lnTo>
                    <a:pt x="208" y="328"/>
                  </a:lnTo>
                  <a:lnTo>
                    <a:pt x="200" y="330"/>
                  </a:lnTo>
                  <a:lnTo>
                    <a:pt x="190" y="334"/>
                  </a:lnTo>
                  <a:lnTo>
                    <a:pt x="182" y="334"/>
                  </a:lnTo>
                  <a:lnTo>
                    <a:pt x="172" y="327"/>
                  </a:lnTo>
                  <a:lnTo>
                    <a:pt x="164" y="323"/>
                  </a:lnTo>
                  <a:lnTo>
                    <a:pt x="158" y="332"/>
                  </a:lnTo>
                  <a:lnTo>
                    <a:pt x="150" y="338"/>
                  </a:lnTo>
                  <a:lnTo>
                    <a:pt x="137" y="342"/>
                  </a:lnTo>
                  <a:lnTo>
                    <a:pt x="130" y="349"/>
                  </a:lnTo>
                  <a:lnTo>
                    <a:pt x="123" y="357"/>
                  </a:lnTo>
                  <a:lnTo>
                    <a:pt x="115" y="364"/>
                  </a:lnTo>
                  <a:lnTo>
                    <a:pt x="102" y="367"/>
                  </a:lnTo>
                  <a:lnTo>
                    <a:pt x="94" y="361"/>
                  </a:lnTo>
                  <a:lnTo>
                    <a:pt x="85" y="353"/>
                  </a:lnTo>
                  <a:lnTo>
                    <a:pt x="77" y="346"/>
                  </a:lnTo>
                  <a:lnTo>
                    <a:pt x="70" y="338"/>
                  </a:lnTo>
                  <a:lnTo>
                    <a:pt x="60" y="331"/>
                  </a:lnTo>
                  <a:lnTo>
                    <a:pt x="49" y="327"/>
                  </a:lnTo>
                  <a:lnTo>
                    <a:pt x="38" y="322"/>
                  </a:lnTo>
                  <a:lnTo>
                    <a:pt x="27" y="317"/>
                  </a:lnTo>
                  <a:lnTo>
                    <a:pt x="17" y="311"/>
                  </a:lnTo>
                  <a:lnTo>
                    <a:pt x="4" y="306"/>
                  </a:lnTo>
                  <a:lnTo>
                    <a:pt x="7" y="297"/>
                  </a:lnTo>
                  <a:lnTo>
                    <a:pt x="13" y="288"/>
                  </a:lnTo>
                  <a:lnTo>
                    <a:pt x="15" y="280"/>
                  </a:lnTo>
                  <a:lnTo>
                    <a:pt x="3" y="276"/>
                  </a:lnTo>
                  <a:lnTo>
                    <a:pt x="0" y="271"/>
                  </a:lnTo>
                  <a:lnTo>
                    <a:pt x="7" y="262"/>
                  </a:lnTo>
                  <a:lnTo>
                    <a:pt x="11" y="253"/>
                  </a:lnTo>
                  <a:lnTo>
                    <a:pt x="15" y="245"/>
                  </a:lnTo>
                  <a:lnTo>
                    <a:pt x="21" y="236"/>
                  </a:lnTo>
                  <a:lnTo>
                    <a:pt x="25" y="227"/>
                  </a:lnTo>
                  <a:lnTo>
                    <a:pt x="29" y="219"/>
                  </a:lnTo>
                  <a:lnTo>
                    <a:pt x="42" y="214"/>
                  </a:lnTo>
                  <a:lnTo>
                    <a:pt x="55" y="213"/>
                  </a:lnTo>
                  <a:lnTo>
                    <a:pt x="67" y="215"/>
                  </a:lnTo>
                  <a:lnTo>
                    <a:pt x="78" y="219"/>
                  </a:lnTo>
                  <a:lnTo>
                    <a:pt x="90" y="224"/>
                  </a:lnTo>
                  <a:lnTo>
                    <a:pt x="101" y="229"/>
                  </a:lnTo>
                  <a:lnTo>
                    <a:pt x="108" y="223"/>
                  </a:lnTo>
                  <a:lnTo>
                    <a:pt x="106" y="213"/>
                  </a:lnTo>
                  <a:lnTo>
                    <a:pt x="105" y="204"/>
                  </a:lnTo>
                  <a:lnTo>
                    <a:pt x="104" y="195"/>
                  </a:lnTo>
                  <a:lnTo>
                    <a:pt x="102" y="185"/>
                  </a:lnTo>
                  <a:lnTo>
                    <a:pt x="106" y="178"/>
                  </a:lnTo>
                  <a:lnTo>
                    <a:pt x="119" y="173"/>
                  </a:lnTo>
                  <a:lnTo>
                    <a:pt x="130" y="169"/>
                  </a:lnTo>
                  <a:lnTo>
                    <a:pt x="143" y="166"/>
                  </a:lnTo>
                  <a:lnTo>
                    <a:pt x="154" y="162"/>
                  </a:lnTo>
                  <a:lnTo>
                    <a:pt x="166" y="158"/>
                  </a:lnTo>
                  <a:lnTo>
                    <a:pt x="175" y="153"/>
                  </a:lnTo>
                  <a:lnTo>
                    <a:pt x="190" y="153"/>
                  </a:lnTo>
                  <a:lnTo>
                    <a:pt x="190" y="149"/>
                  </a:lnTo>
                  <a:lnTo>
                    <a:pt x="204" y="147"/>
                  </a:lnTo>
                  <a:lnTo>
                    <a:pt x="213" y="151"/>
                  </a:lnTo>
                  <a:lnTo>
                    <a:pt x="222" y="157"/>
                  </a:lnTo>
                  <a:lnTo>
                    <a:pt x="235" y="161"/>
                  </a:lnTo>
                  <a:lnTo>
                    <a:pt x="246" y="165"/>
                  </a:lnTo>
                  <a:lnTo>
                    <a:pt x="257" y="171"/>
                  </a:lnTo>
                  <a:lnTo>
                    <a:pt x="267" y="176"/>
                  </a:lnTo>
                  <a:lnTo>
                    <a:pt x="278" y="181"/>
                  </a:lnTo>
                  <a:lnTo>
                    <a:pt x="289" y="186"/>
                  </a:lnTo>
                  <a:lnTo>
                    <a:pt x="301" y="190"/>
                  </a:lnTo>
                  <a:lnTo>
                    <a:pt x="312" y="196"/>
                  </a:lnTo>
                  <a:lnTo>
                    <a:pt x="322" y="202"/>
                  </a:lnTo>
                  <a:lnTo>
                    <a:pt x="331" y="205"/>
                  </a:lnTo>
                  <a:lnTo>
                    <a:pt x="338" y="197"/>
                  </a:lnTo>
                  <a:lnTo>
                    <a:pt x="345" y="189"/>
                  </a:lnTo>
                  <a:lnTo>
                    <a:pt x="357" y="184"/>
                  </a:lnTo>
                  <a:lnTo>
                    <a:pt x="364" y="176"/>
                  </a:lnTo>
                  <a:lnTo>
                    <a:pt x="369" y="168"/>
                  </a:lnTo>
                  <a:lnTo>
                    <a:pt x="373" y="159"/>
                  </a:lnTo>
                  <a:lnTo>
                    <a:pt x="378" y="150"/>
                  </a:lnTo>
                  <a:lnTo>
                    <a:pt x="389" y="144"/>
                  </a:lnTo>
                  <a:lnTo>
                    <a:pt x="398" y="139"/>
                  </a:lnTo>
                  <a:lnTo>
                    <a:pt x="410" y="134"/>
                  </a:lnTo>
                  <a:lnTo>
                    <a:pt x="422" y="130"/>
                  </a:lnTo>
                  <a:lnTo>
                    <a:pt x="431" y="126"/>
                  </a:lnTo>
                  <a:lnTo>
                    <a:pt x="426" y="116"/>
                  </a:lnTo>
                  <a:lnTo>
                    <a:pt x="428" y="100"/>
                  </a:lnTo>
                  <a:lnTo>
                    <a:pt x="428" y="91"/>
                  </a:lnTo>
                  <a:lnTo>
                    <a:pt x="429" y="81"/>
                  </a:lnTo>
                  <a:lnTo>
                    <a:pt x="432" y="72"/>
                  </a:lnTo>
                  <a:lnTo>
                    <a:pt x="432" y="63"/>
                  </a:lnTo>
                  <a:lnTo>
                    <a:pt x="436" y="54"/>
                  </a:lnTo>
                  <a:lnTo>
                    <a:pt x="442" y="50"/>
                  </a:lnTo>
                  <a:lnTo>
                    <a:pt x="452" y="55"/>
                  </a:lnTo>
                  <a:lnTo>
                    <a:pt x="459" y="63"/>
                  </a:lnTo>
                  <a:lnTo>
                    <a:pt x="470" y="67"/>
                  </a:lnTo>
                  <a:lnTo>
                    <a:pt x="482" y="70"/>
                  </a:lnTo>
                  <a:lnTo>
                    <a:pt x="492" y="76"/>
                  </a:lnTo>
                  <a:lnTo>
                    <a:pt x="505" y="78"/>
                  </a:lnTo>
                  <a:lnTo>
                    <a:pt x="517" y="75"/>
                  </a:lnTo>
                  <a:lnTo>
                    <a:pt x="528" y="71"/>
                  </a:lnTo>
                  <a:lnTo>
                    <a:pt x="540" y="66"/>
                  </a:lnTo>
                  <a:lnTo>
                    <a:pt x="552" y="62"/>
                  </a:lnTo>
                  <a:lnTo>
                    <a:pt x="565" y="59"/>
                  </a:lnTo>
                  <a:lnTo>
                    <a:pt x="577" y="57"/>
                  </a:lnTo>
                  <a:lnTo>
                    <a:pt x="590" y="55"/>
                  </a:lnTo>
                  <a:lnTo>
                    <a:pt x="603" y="52"/>
                  </a:lnTo>
                  <a:lnTo>
                    <a:pt x="611" y="45"/>
                  </a:lnTo>
                  <a:lnTo>
                    <a:pt x="617" y="36"/>
                  </a:lnTo>
                  <a:lnTo>
                    <a:pt x="624" y="32"/>
                  </a:lnTo>
                  <a:lnTo>
                    <a:pt x="639" y="44"/>
                  </a:lnTo>
                  <a:lnTo>
                    <a:pt x="653" y="41"/>
                  </a:lnTo>
                  <a:lnTo>
                    <a:pt x="665" y="38"/>
                  </a:lnTo>
                  <a:lnTo>
                    <a:pt x="674" y="45"/>
                  </a:lnTo>
                  <a:lnTo>
                    <a:pt x="682" y="52"/>
                  </a:lnTo>
                  <a:lnTo>
                    <a:pt x="685" y="60"/>
                  </a:lnTo>
                  <a:lnTo>
                    <a:pt x="684" y="72"/>
                  </a:lnTo>
                  <a:lnTo>
                    <a:pt x="685" y="81"/>
                  </a:lnTo>
                  <a:lnTo>
                    <a:pt x="686" y="91"/>
                  </a:lnTo>
                  <a:lnTo>
                    <a:pt x="688" y="100"/>
                  </a:lnTo>
                  <a:lnTo>
                    <a:pt x="691" y="109"/>
                  </a:lnTo>
                  <a:lnTo>
                    <a:pt x="691" y="118"/>
                  </a:lnTo>
                  <a:lnTo>
                    <a:pt x="693" y="128"/>
                  </a:lnTo>
                  <a:lnTo>
                    <a:pt x="696" y="137"/>
                  </a:lnTo>
                  <a:lnTo>
                    <a:pt x="702" y="145"/>
                  </a:lnTo>
                  <a:lnTo>
                    <a:pt x="712" y="151"/>
                  </a:lnTo>
                  <a:lnTo>
                    <a:pt x="720" y="159"/>
                  </a:lnTo>
                  <a:lnTo>
                    <a:pt x="716" y="168"/>
                  </a:lnTo>
                  <a:lnTo>
                    <a:pt x="710" y="176"/>
                  </a:lnTo>
                  <a:lnTo>
                    <a:pt x="703" y="184"/>
                  </a:lnTo>
                  <a:lnTo>
                    <a:pt x="696" y="192"/>
                  </a:lnTo>
                  <a:lnTo>
                    <a:pt x="695" y="200"/>
                  </a:lnTo>
                  <a:lnTo>
                    <a:pt x="702" y="207"/>
                  </a:lnTo>
                  <a:lnTo>
                    <a:pt x="710" y="214"/>
                  </a:lnTo>
                  <a:lnTo>
                    <a:pt x="719" y="221"/>
                  </a:lnTo>
                  <a:lnTo>
                    <a:pt x="723" y="230"/>
                  </a:lnTo>
                  <a:lnTo>
                    <a:pt x="730" y="237"/>
                  </a:lnTo>
                  <a:lnTo>
                    <a:pt x="744" y="238"/>
                  </a:lnTo>
                  <a:lnTo>
                    <a:pt x="755" y="242"/>
                  </a:lnTo>
                  <a:lnTo>
                    <a:pt x="765" y="248"/>
                  </a:lnTo>
                  <a:lnTo>
                    <a:pt x="775" y="252"/>
                  </a:lnTo>
                  <a:lnTo>
                    <a:pt x="786" y="253"/>
                  </a:lnTo>
                  <a:lnTo>
                    <a:pt x="798" y="257"/>
                  </a:lnTo>
                  <a:lnTo>
                    <a:pt x="809" y="261"/>
                  </a:lnTo>
                  <a:lnTo>
                    <a:pt x="822" y="265"/>
                  </a:lnTo>
                  <a:lnTo>
                    <a:pt x="835" y="265"/>
                  </a:lnTo>
                  <a:lnTo>
                    <a:pt x="847" y="266"/>
                  </a:lnTo>
                  <a:lnTo>
                    <a:pt x="860" y="268"/>
                  </a:lnTo>
                  <a:lnTo>
                    <a:pt x="872" y="270"/>
                  </a:lnTo>
                  <a:lnTo>
                    <a:pt x="885" y="272"/>
                  </a:lnTo>
                  <a:lnTo>
                    <a:pt x="898" y="274"/>
                  </a:lnTo>
                  <a:lnTo>
                    <a:pt x="909" y="278"/>
                  </a:lnTo>
                  <a:lnTo>
                    <a:pt x="917" y="271"/>
                  </a:lnTo>
                  <a:lnTo>
                    <a:pt x="925" y="264"/>
                  </a:lnTo>
                  <a:lnTo>
                    <a:pt x="939" y="259"/>
                  </a:lnTo>
                  <a:lnTo>
                    <a:pt x="951" y="256"/>
                  </a:lnTo>
                  <a:lnTo>
                    <a:pt x="941" y="252"/>
                  </a:lnTo>
                  <a:lnTo>
                    <a:pt x="928" y="248"/>
                  </a:lnTo>
                  <a:lnTo>
                    <a:pt x="916" y="246"/>
                  </a:lnTo>
                  <a:lnTo>
                    <a:pt x="906" y="241"/>
                  </a:lnTo>
                  <a:lnTo>
                    <a:pt x="900" y="232"/>
                  </a:lnTo>
                  <a:lnTo>
                    <a:pt x="898" y="223"/>
                  </a:lnTo>
                  <a:lnTo>
                    <a:pt x="889" y="218"/>
                  </a:lnTo>
                  <a:lnTo>
                    <a:pt x="881" y="211"/>
                  </a:lnTo>
                  <a:lnTo>
                    <a:pt x="892" y="208"/>
                  </a:lnTo>
                  <a:lnTo>
                    <a:pt x="902" y="204"/>
                  </a:lnTo>
                  <a:lnTo>
                    <a:pt x="912" y="203"/>
                  </a:lnTo>
                  <a:lnTo>
                    <a:pt x="924" y="199"/>
                  </a:lnTo>
                  <a:lnTo>
                    <a:pt x="937" y="196"/>
                  </a:lnTo>
                  <a:lnTo>
                    <a:pt x="948" y="193"/>
                  </a:lnTo>
                  <a:lnTo>
                    <a:pt x="960" y="190"/>
                  </a:lnTo>
                  <a:lnTo>
                    <a:pt x="973" y="188"/>
                  </a:lnTo>
                  <a:lnTo>
                    <a:pt x="986" y="187"/>
                  </a:lnTo>
                  <a:lnTo>
                    <a:pt x="998" y="184"/>
                  </a:lnTo>
                  <a:lnTo>
                    <a:pt x="1009" y="179"/>
                  </a:lnTo>
                  <a:lnTo>
                    <a:pt x="1021" y="175"/>
                  </a:lnTo>
                  <a:lnTo>
                    <a:pt x="1033" y="173"/>
                  </a:lnTo>
                  <a:lnTo>
                    <a:pt x="1047" y="173"/>
                  </a:lnTo>
                  <a:lnTo>
                    <a:pt x="1060" y="173"/>
                  </a:lnTo>
                  <a:lnTo>
                    <a:pt x="1072" y="173"/>
                  </a:lnTo>
                  <a:lnTo>
                    <a:pt x="1086" y="170"/>
                  </a:lnTo>
                  <a:lnTo>
                    <a:pt x="1089" y="175"/>
                  </a:lnTo>
                  <a:lnTo>
                    <a:pt x="1090" y="185"/>
                  </a:lnTo>
                  <a:lnTo>
                    <a:pt x="1096" y="193"/>
                  </a:lnTo>
                  <a:lnTo>
                    <a:pt x="1099" y="202"/>
                  </a:lnTo>
                  <a:lnTo>
                    <a:pt x="1102" y="211"/>
                  </a:lnTo>
                  <a:lnTo>
                    <a:pt x="1104" y="220"/>
                  </a:lnTo>
                  <a:lnTo>
                    <a:pt x="1114" y="224"/>
                  </a:lnTo>
                  <a:lnTo>
                    <a:pt x="1127" y="227"/>
                  </a:lnTo>
                  <a:lnTo>
                    <a:pt x="1127" y="237"/>
                  </a:lnTo>
                  <a:lnTo>
                    <a:pt x="1134" y="244"/>
                  </a:lnTo>
                  <a:lnTo>
                    <a:pt x="1138" y="253"/>
                  </a:lnTo>
                  <a:lnTo>
                    <a:pt x="1137" y="263"/>
                  </a:lnTo>
                  <a:lnTo>
                    <a:pt x="1146" y="266"/>
                  </a:lnTo>
                  <a:lnTo>
                    <a:pt x="1158" y="271"/>
                  </a:lnTo>
                  <a:lnTo>
                    <a:pt x="1169" y="275"/>
                  </a:lnTo>
                  <a:lnTo>
                    <a:pt x="1184" y="276"/>
                  </a:lnTo>
                  <a:lnTo>
                    <a:pt x="1191" y="280"/>
                  </a:lnTo>
                  <a:lnTo>
                    <a:pt x="1186" y="290"/>
                  </a:lnTo>
                  <a:lnTo>
                    <a:pt x="1186" y="297"/>
                  </a:lnTo>
                  <a:lnTo>
                    <a:pt x="1199" y="300"/>
                  </a:lnTo>
                  <a:lnTo>
                    <a:pt x="1212" y="300"/>
                  </a:lnTo>
                  <a:lnTo>
                    <a:pt x="1226" y="302"/>
                  </a:lnTo>
                  <a:lnTo>
                    <a:pt x="1239" y="302"/>
                  </a:lnTo>
                  <a:lnTo>
                    <a:pt x="1250" y="306"/>
                  </a:lnTo>
                  <a:lnTo>
                    <a:pt x="1255" y="314"/>
                  </a:lnTo>
                  <a:lnTo>
                    <a:pt x="1261" y="323"/>
                  </a:lnTo>
                  <a:lnTo>
                    <a:pt x="1267" y="331"/>
                  </a:lnTo>
                  <a:lnTo>
                    <a:pt x="1272" y="340"/>
                  </a:lnTo>
                  <a:lnTo>
                    <a:pt x="1275" y="349"/>
                  </a:lnTo>
                  <a:lnTo>
                    <a:pt x="1278" y="358"/>
                  </a:lnTo>
                  <a:lnTo>
                    <a:pt x="1279" y="367"/>
                  </a:lnTo>
                  <a:lnTo>
                    <a:pt x="1275" y="376"/>
                  </a:lnTo>
                  <a:lnTo>
                    <a:pt x="1271" y="385"/>
                  </a:lnTo>
                  <a:lnTo>
                    <a:pt x="1264" y="393"/>
                  </a:lnTo>
                  <a:lnTo>
                    <a:pt x="1258" y="402"/>
                  </a:lnTo>
                  <a:lnTo>
                    <a:pt x="1260" y="410"/>
                  </a:lnTo>
                  <a:lnTo>
                    <a:pt x="1251" y="416"/>
                  </a:lnTo>
                  <a:lnTo>
                    <a:pt x="1255" y="425"/>
                  </a:lnTo>
                  <a:lnTo>
                    <a:pt x="1264" y="432"/>
                  </a:lnTo>
                  <a:lnTo>
                    <a:pt x="1272" y="440"/>
                  </a:lnTo>
                  <a:lnTo>
                    <a:pt x="1275" y="448"/>
                  </a:lnTo>
                  <a:lnTo>
                    <a:pt x="1283" y="453"/>
                  </a:lnTo>
                  <a:lnTo>
                    <a:pt x="1290" y="459"/>
                  </a:lnTo>
                  <a:lnTo>
                    <a:pt x="1299" y="466"/>
                  </a:lnTo>
                  <a:lnTo>
                    <a:pt x="1307" y="474"/>
                  </a:lnTo>
                  <a:lnTo>
                    <a:pt x="1316" y="481"/>
                  </a:lnTo>
                  <a:lnTo>
                    <a:pt x="1324" y="488"/>
                  </a:lnTo>
                  <a:lnTo>
                    <a:pt x="1334" y="495"/>
                  </a:lnTo>
                  <a:lnTo>
                    <a:pt x="1342" y="502"/>
                  </a:lnTo>
                  <a:lnTo>
                    <a:pt x="1342" y="510"/>
                  </a:lnTo>
                  <a:lnTo>
                    <a:pt x="1353" y="514"/>
                  </a:lnTo>
                  <a:lnTo>
                    <a:pt x="1367" y="515"/>
                  </a:lnTo>
                  <a:lnTo>
                    <a:pt x="1380" y="518"/>
                  </a:lnTo>
                  <a:lnTo>
                    <a:pt x="1392" y="518"/>
                  </a:lnTo>
                  <a:lnTo>
                    <a:pt x="1405" y="515"/>
                  </a:lnTo>
                  <a:lnTo>
                    <a:pt x="1418" y="512"/>
                  </a:lnTo>
                  <a:lnTo>
                    <a:pt x="1429" y="507"/>
                  </a:lnTo>
                  <a:lnTo>
                    <a:pt x="1430" y="501"/>
                  </a:lnTo>
                  <a:lnTo>
                    <a:pt x="1439" y="506"/>
                  </a:lnTo>
                  <a:lnTo>
                    <a:pt x="1440" y="515"/>
                  </a:lnTo>
                  <a:lnTo>
                    <a:pt x="1439" y="524"/>
                  </a:lnTo>
                  <a:lnTo>
                    <a:pt x="1430" y="530"/>
                  </a:lnTo>
                  <a:lnTo>
                    <a:pt x="1436" y="538"/>
                  </a:lnTo>
                  <a:lnTo>
                    <a:pt x="1432" y="547"/>
                  </a:lnTo>
                  <a:lnTo>
                    <a:pt x="1444" y="552"/>
                  </a:lnTo>
                  <a:lnTo>
                    <a:pt x="1455" y="555"/>
                  </a:lnTo>
                  <a:lnTo>
                    <a:pt x="1469" y="556"/>
                  </a:lnTo>
                  <a:lnTo>
                    <a:pt x="1482" y="554"/>
                  </a:lnTo>
                  <a:lnTo>
                    <a:pt x="1494" y="552"/>
                  </a:lnTo>
                  <a:lnTo>
                    <a:pt x="1507" y="551"/>
                  </a:lnTo>
                  <a:lnTo>
                    <a:pt x="1520" y="548"/>
                  </a:lnTo>
                  <a:lnTo>
                    <a:pt x="1531" y="543"/>
                  </a:lnTo>
                  <a:lnTo>
                    <a:pt x="1541" y="537"/>
                  </a:lnTo>
                  <a:lnTo>
                    <a:pt x="1549" y="530"/>
                  </a:lnTo>
                  <a:lnTo>
                    <a:pt x="1559" y="524"/>
                  </a:lnTo>
                  <a:lnTo>
                    <a:pt x="1567" y="516"/>
                  </a:lnTo>
                  <a:lnTo>
                    <a:pt x="1567" y="507"/>
                  </a:lnTo>
                  <a:lnTo>
                    <a:pt x="1567" y="498"/>
                  </a:lnTo>
                  <a:lnTo>
                    <a:pt x="1571" y="489"/>
                  </a:lnTo>
                  <a:lnTo>
                    <a:pt x="1580" y="482"/>
                  </a:lnTo>
                  <a:lnTo>
                    <a:pt x="1590" y="476"/>
                  </a:lnTo>
                  <a:lnTo>
                    <a:pt x="1599" y="470"/>
                  </a:lnTo>
                  <a:lnTo>
                    <a:pt x="1608" y="463"/>
                  </a:lnTo>
                  <a:lnTo>
                    <a:pt x="1620" y="462"/>
                  </a:lnTo>
                  <a:lnTo>
                    <a:pt x="1633" y="465"/>
                  </a:lnTo>
                  <a:lnTo>
                    <a:pt x="1645" y="466"/>
                  </a:lnTo>
                  <a:lnTo>
                    <a:pt x="1658" y="462"/>
                  </a:lnTo>
                  <a:lnTo>
                    <a:pt x="1669" y="458"/>
                  </a:lnTo>
                  <a:lnTo>
                    <a:pt x="1680" y="452"/>
                  </a:lnTo>
                  <a:lnTo>
                    <a:pt x="1687" y="445"/>
                  </a:lnTo>
                  <a:lnTo>
                    <a:pt x="1693" y="435"/>
                  </a:lnTo>
                  <a:lnTo>
                    <a:pt x="1699" y="427"/>
                  </a:lnTo>
                  <a:lnTo>
                    <a:pt x="1699" y="417"/>
                  </a:lnTo>
                  <a:lnTo>
                    <a:pt x="1697" y="408"/>
                  </a:lnTo>
                  <a:lnTo>
                    <a:pt x="1700" y="399"/>
                  </a:lnTo>
                  <a:lnTo>
                    <a:pt x="1706" y="391"/>
                  </a:lnTo>
                  <a:lnTo>
                    <a:pt x="1715" y="385"/>
                  </a:lnTo>
                  <a:lnTo>
                    <a:pt x="1728" y="383"/>
                  </a:lnTo>
                  <a:lnTo>
                    <a:pt x="1740" y="379"/>
                  </a:lnTo>
                  <a:lnTo>
                    <a:pt x="1752" y="375"/>
                  </a:lnTo>
                  <a:lnTo>
                    <a:pt x="1764" y="372"/>
                  </a:lnTo>
                  <a:lnTo>
                    <a:pt x="1777" y="369"/>
                  </a:lnTo>
                  <a:lnTo>
                    <a:pt x="1789" y="366"/>
                  </a:lnTo>
                  <a:lnTo>
                    <a:pt x="1801" y="362"/>
                  </a:lnTo>
                  <a:lnTo>
                    <a:pt x="1813" y="358"/>
                  </a:lnTo>
                  <a:lnTo>
                    <a:pt x="1824" y="354"/>
                  </a:lnTo>
                  <a:lnTo>
                    <a:pt x="1830" y="345"/>
                  </a:lnTo>
                  <a:lnTo>
                    <a:pt x="1836" y="337"/>
                  </a:lnTo>
                  <a:lnTo>
                    <a:pt x="1844" y="330"/>
                  </a:lnTo>
                  <a:lnTo>
                    <a:pt x="1855" y="325"/>
                  </a:lnTo>
                  <a:lnTo>
                    <a:pt x="1866" y="320"/>
                  </a:lnTo>
                  <a:lnTo>
                    <a:pt x="1873" y="312"/>
                  </a:lnTo>
                  <a:lnTo>
                    <a:pt x="1890" y="313"/>
                  </a:lnTo>
                  <a:lnTo>
                    <a:pt x="1903" y="306"/>
                  </a:lnTo>
                  <a:lnTo>
                    <a:pt x="1915" y="303"/>
                  </a:lnTo>
                  <a:lnTo>
                    <a:pt x="1928" y="299"/>
                  </a:lnTo>
                  <a:lnTo>
                    <a:pt x="1939" y="296"/>
                  </a:lnTo>
                  <a:lnTo>
                    <a:pt x="1950" y="291"/>
                  </a:lnTo>
                  <a:lnTo>
                    <a:pt x="1960" y="284"/>
                  </a:lnTo>
                  <a:lnTo>
                    <a:pt x="1971" y="280"/>
                  </a:lnTo>
                  <a:lnTo>
                    <a:pt x="1982" y="276"/>
                  </a:lnTo>
                  <a:lnTo>
                    <a:pt x="1992" y="270"/>
                  </a:lnTo>
                  <a:lnTo>
                    <a:pt x="1995" y="261"/>
                  </a:lnTo>
                  <a:lnTo>
                    <a:pt x="1994" y="252"/>
                  </a:lnTo>
                  <a:lnTo>
                    <a:pt x="1988" y="244"/>
                  </a:lnTo>
                  <a:lnTo>
                    <a:pt x="1989" y="237"/>
                  </a:lnTo>
                  <a:lnTo>
                    <a:pt x="2002" y="239"/>
                  </a:lnTo>
                  <a:lnTo>
                    <a:pt x="2014" y="240"/>
                  </a:lnTo>
                  <a:lnTo>
                    <a:pt x="2027" y="239"/>
                  </a:lnTo>
                  <a:lnTo>
                    <a:pt x="2040" y="236"/>
                  </a:lnTo>
                  <a:lnTo>
                    <a:pt x="2051" y="232"/>
                  </a:lnTo>
                  <a:lnTo>
                    <a:pt x="2061" y="226"/>
                  </a:lnTo>
                  <a:lnTo>
                    <a:pt x="2069" y="219"/>
                  </a:lnTo>
                  <a:lnTo>
                    <a:pt x="2072" y="210"/>
                  </a:lnTo>
                  <a:lnTo>
                    <a:pt x="2072" y="200"/>
                  </a:lnTo>
                  <a:lnTo>
                    <a:pt x="2063" y="195"/>
                  </a:lnTo>
                  <a:lnTo>
                    <a:pt x="2051" y="191"/>
                  </a:lnTo>
                  <a:lnTo>
                    <a:pt x="2048" y="183"/>
                  </a:lnTo>
                  <a:lnTo>
                    <a:pt x="2051" y="174"/>
                  </a:lnTo>
                  <a:lnTo>
                    <a:pt x="2061" y="167"/>
                  </a:lnTo>
                  <a:lnTo>
                    <a:pt x="2072" y="164"/>
                  </a:lnTo>
                  <a:lnTo>
                    <a:pt x="2084" y="160"/>
                  </a:lnTo>
                  <a:lnTo>
                    <a:pt x="2086" y="152"/>
                  </a:lnTo>
                  <a:lnTo>
                    <a:pt x="2087" y="143"/>
                  </a:lnTo>
                  <a:lnTo>
                    <a:pt x="2093" y="135"/>
                  </a:lnTo>
                  <a:lnTo>
                    <a:pt x="2089" y="126"/>
                  </a:lnTo>
                  <a:lnTo>
                    <a:pt x="2083" y="118"/>
                  </a:lnTo>
                  <a:lnTo>
                    <a:pt x="2082" y="109"/>
                  </a:lnTo>
                  <a:lnTo>
                    <a:pt x="2086" y="100"/>
                  </a:lnTo>
                  <a:lnTo>
                    <a:pt x="2100" y="93"/>
                  </a:lnTo>
                  <a:lnTo>
                    <a:pt x="2110" y="87"/>
                  </a:lnTo>
                  <a:lnTo>
                    <a:pt x="2122" y="85"/>
                  </a:lnTo>
                  <a:lnTo>
                    <a:pt x="2135" y="87"/>
                  </a:lnTo>
                  <a:lnTo>
                    <a:pt x="2147" y="89"/>
                  </a:lnTo>
                  <a:lnTo>
                    <a:pt x="2160" y="89"/>
                  </a:lnTo>
                  <a:lnTo>
                    <a:pt x="2171" y="83"/>
                  </a:lnTo>
                  <a:lnTo>
                    <a:pt x="2177" y="75"/>
                  </a:lnTo>
                  <a:lnTo>
                    <a:pt x="2184" y="68"/>
                  </a:lnTo>
                  <a:lnTo>
                    <a:pt x="2191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91120" y="2698920"/>
              <a:ext cx="1438200" cy="1544400"/>
            </a:xfrm>
            <a:custGeom>
              <a:avLst/>
              <a:gdLst/>
              <a:ahLst/>
              <a:rect l="l" t="t" r="r" b="b"/>
              <a:pathLst>
                <a:path w="2717" h="1947">
                  <a:moveTo>
                    <a:pt x="2190" y="60"/>
                  </a:moveTo>
                  <a:lnTo>
                    <a:pt x="2183" y="53"/>
                  </a:lnTo>
                  <a:lnTo>
                    <a:pt x="2176" y="45"/>
                  </a:lnTo>
                  <a:lnTo>
                    <a:pt x="2176" y="35"/>
                  </a:lnTo>
                  <a:lnTo>
                    <a:pt x="2183" y="27"/>
                  </a:lnTo>
                  <a:lnTo>
                    <a:pt x="2193" y="21"/>
                  </a:lnTo>
                  <a:lnTo>
                    <a:pt x="2203" y="15"/>
                  </a:lnTo>
                  <a:lnTo>
                    <a:pt x="2213" y="9"/>
                  </a:lnTo>
                  <a:lnTo>
                    <a:pt x="2224" y="4"/>
                  </a:lnTo>
                  <a:lnTo>
                    <a:pt x="2236" y="0"/>
                  </a:lnTo>
                  <a:lnTo>
                    <a:pt x="2249" y="2"/>
                  </a:lnTo>
                  <a:lnTo>
                    <a:pt x="2256" y="9"/>
                  </a:lnTo>
                  <a:lnTo>
                    <a:pt x="2266" y="16"/>
                  </a:lnTo>
                  <a:lnTo>
                    <a:pt x="2275" y="22"/>
                  </a:lnTo>
                  <a:lnTo>
                    <a:pt x="2287" y="26"/>
                  </a:lnTo>
                  <a:lnTo>
                    <a:pt x="2301" y="27"/>
                  </a:lnTo>
                  <a:lnTo>
                    <a:pt x="2302" y="34"/>
                  </a:lnTo>
                  <a:lnTo>
                    <a:pt x="2301" y="51"/>
                  </a:lnTo>
                  <a:lnTo>
                    <a:pt x="2299" y="60"/>
                  </a:lnTo>
                  <a:lnTo>
                    <a:pt x="2298" y="70"/>
                  </a:lnTo>
                  <a:lnTo>
                    <a:pt x="2296" y="79"/>
                  </a:lnTo>
                  <a:lnTo>
                    <a:pt x="2292" y="87"/>
                  </a:lnTo>
                  <a:lnTo>
                    <a:pt x="2295" y="101"/>
                  </a:lnTo>
                  <a:lnTo>
                    <a:pt x="2296" y="110"/>
                  </a:lnTo>
                  <a:lnTo>
                    <a:pt x="2299" y="119"/>
                  </a:lnTo>
                  <a:lnTo>
                    <a:pt x="2303" y="128"/>
                  </a:lnTo>
                  <a:lnTo>
                    <a:pt x="2308" y="137"/>
                  </a:lnTo>
                  <a:lnTo>
                    <a:pt x="2312" y="146"/>
                  </a:lnTo>
                  <a:lnTo>
                    <a:pt x="2319" y="154"/>
                  </a:lnTo>
                  <a:lnTo>
                    <a:pt x="2324" y="162"/>
                  </a:lnTo>
                  <a:lnTo>
                    <a:pt x="2329" y="171"/>
                  </a:lnTo>
                  <a:lnTo>
                    <a:pt x="2336" y="179"/>
                  </a:lnTo>
                  <a:lnTo>
                    <a:pt x="2348" y="181"/>
                  </a:lnTo>
                  <a:lnTo>
                    <a:pt x="2359" y="183"/>
                  </a:lnTo>
                  <a:lnTo>
                    <a:pt x="2368" y="190"/>
                  </a:lnTo>
                  <a:lnTo>
                    <a:pt x="2378" y="196"/>
                  </a:lnTo>
                  <a:lnTo>
                    <a:pt x="2390" y="200"/>
                  </a:lnTo>
                  <a:lnTo>
                    <a:pt x="2401" y="204"/>
                  </a:lnTo>
                  <a:lnTo>
                    <a:pt x="2414" y="207"/>
                  </a:lnTo>
                  <a:lnTo>
                    <a:pt x="2426" y="206"/>
                  </a:lnTo>
                  <a:lnTo>
                    <a:pt x="2440" y="206"/>
                  </a:lnTo>
                  <a:lnTo>
                    <a:pt x="2452" y="203"/>
                  </a:lnTo>
                  <a:lnTo>
                    <a:pt x="2466" y="201"/>
                  </a:lnTo>
                  <a:lnTo>
                    <a:pt x="2477" y="199"/>
                  </a:lnTo>
                  <a:lnTo>
                    <a:pt x="2489" y="196"/>
                  </a:lnTo>
                  <a:lnTo>
                    <a:pt x="2502" y="192"/>
                  </a:lnTo>
                  <a:lnTo>
                    <a:pt x="2513" y="187"/>
                  </a:lnTo>
                  <a:lnTo>
                    <a:pt x="2523" y="181"/>
                  </a:lnTo>
                  <a:lnTo>
                    <a:pt x="2533" y="176"/>
                  </a:lnTo>
                  <a:lnTo>
                    <a:pt x="2545" y="179"/>
                  </a:lnTo>
                  <a:lnTo>
                    <a:pt x="2556" y="184"/>
                  </a:lnTo>
                  <a:lnTo>
                    <a:pt x="2568" y="189"/>
                  </a:lnTo>
                  <a:lnTo>
                    <a:pt x="2579" y="193"/>
                  </a:lnTo>
                  <a:lnTo>
                    <a:pt x="2590" y="198"/>
                  </a:lnTo>
                  <a:lnTo>
                    <a:pt x="2598" y="204"/>
                  </a:lnTo>
                  <a:lnTo>
                    <a:pt x="2605" y="212"/>
                  </a:lnTo>
                  <a:lnTo>
                    <a:pt x="2614" y="219"/>
                  </a:lnTo>
                  <a:lnTo>
                    <a:pt x="2624" y="226"/>
                  </a:lnTo>
                  <a:lnTo>
                    <a:pt x="2632" y="233"/>
                  </a:lnTo>
                  <a:lnTo>
                    <a:pt x="2635" y="242"/>
                  </a:lnTo>
                  <a:lnTo>
                    <a:pt x="2633" y="251"/>
                  </a:lnTo>
                  <a:lnTo>
                    <a:pt x="2632" y="261"/>
                  </a:lnTo>
                  <a:lnTo>
                    <a:pt x="2632" y="270"/>
                  </a:lnTo>
                  <a:lnTo>
                    <a:pt x="2635" y="279"/>
                  </a:lnTo>
                  <a:lnTo>
                    <a:pt x="2636" y="288"/>
                  </a:lnTo>
                  <a:lnTo>
                    <a:pt x="2639" y="297"/>
                  </a:lnTo>
                  <a:lnTo>
                    <a:pt x="2638" y="306"/>
                  </a:lnTo>
                  <a:lnTo>
                    <a:pt x="2633" y="315"/>
                  </a:lnTo>
                  <a:lnTo>
                    <a:pt x="2625" y="322"/>
                  </a:lnTo>
                  <a:lnTo>
                    <a:pt x="2618" y="330"/>
                  </a:lnTo>
                  <a:lnTo>
                    <a:pt x="2621" y="339"/>
                  </a:lnTo>
                  <a:lnTo>
                    <a:pt x="2624" y="348"/>
                  </a:lnTo>
                  <a:lnTo>
                    <a:pt x="2626" y="356"/>
                  </a:lnTo>
                  <a:lnTo>
                    <a:pt x="2633" y="364"/>
                  </a:lnTo>
                  <a:lnTo>
                    <a:pt x="2635" y="373"/>
                  </a:lnTo>
                  <a:lnTo>
                    <a:pt x="2638" y="382"/>
                  </a:lnTo>
                  <a:lnTo>
                    <a:pt x="2649" y="386"/>
                  </a:lnTo>
                  <a:lnTo>
                    <a:pt x="2660" y="392"/>
                  </a:lnTo>
                  <a:lnTo>
                    <a:pt x="2659" y="398"/>
                  </a:lnTo>
                  <a:lnTo>
                    <a:pt x="2649" y="404"/>
                  </a:lnTo>
                  <a:lnTo>
                    <a:pt x="2643" y="413"/>
                  </a:lnTo>
                  <a:lnTo>
                    <a:pt x="2640" y="422"/>
                  </a:lnTo>
                  <a:lnTo>
                    <a:pt x="2640" y="431"/>
                  </a:lnTo>
                  <a:lnTo>
                    <a:pt x="2643" y="440"/>
                  </a:lnTo>
                  <a:lnTo>
                    <a:pt x="2645" y="449"/>
                  </a:lnTo>
                  <a:lnTo>
                    <a:pt x="2647" y="458"/>
                  </a:lnTo>
                  <a:lnTo>
                    <a:pt x="2653" y="466"/>
                  </a:lnTo>
                  <a:lnTo>
                    <a:pt x="2656" y="475"/>
                  </a:lnTo>
                  <a:lnTo>
                    <a:pt x="2659" y="485"/>
                  </a:lnTo>
                  <a:lnTo>
                    <a:pt x="2660" y="494"/>
                  </a:lnTo>
                  <a:lnTo>
                    <a:pt x="2663" y="504"/>
                  </a:lnTo>
                  <a:lnTo>
                    <a:pt x="2666" y="513"/>
                  </a:lnTo>
                  <a:lnTo>
                    <a:pt x="2668" y="522"/>
                  </a:lnTo>
                  <a:lnTo>
                    <a:pt x="2671" y="531"/>
                  </a:lnTo>
                  <a:lnTo>
                    <a:pt x="2674" y="540"/>
                  </a:lnTo>
                  <a:lnTo>
                    <a:pt x="2677" y="549"/>
                  </a:lnTo>
                  <a:lnTo>
                    <a:pt x="2679" y="559"/>
                  </a:lnTo>
                  <a:lnTo>
                    <a:pt x="2682" y="568"/>
                  </a:lnTo>
                  <a:lnTo>
                    <a:pt x="2685" y="577"/>
                  </a:lnTo>
                  <a:lnTo>
                    <a:pt x="2688" y="586"/>
                  </a:lnTo>
                  <a:lnTo>
                    <a:pt x="2689" y="595"/>
                  </a:lnTo>
                  <a:lnTo>
                    <a:pt x="2691" y="604"/>
                  </a:lnTo>
                  <a:lnTo>
                    <a:pt x="2692" y="613"/>
                  </a:lnTo>
                  <a:lnTo>
                    <a:pt x="2695" y="622"/>
                  </a:lnTo>
                  <a:lnTo>
                    <a:pt x="2700" y="630"/>
                  </a:lnTo>
                  <a:lnTo>
                    <a:pt x="2700" y="639"/>
                  </a:lnTo>
                  <a:lnTo>
                    <a:pt x="2705" y="648"/>
                  </a:lnTo>
                  <a:lnTo>
                    <a:pt x="2710" y="656"/>
                  </a:lnTo>
                  <a:lnTo>
                    <a:pt x="2714" y="665"/>
                  </a:lnTo>
                  <a:lnTo>
                    <a:pt x="2717" y="674"/>
                  </a:lnTo>
                  <a:lnTo>
                    <a:pt x="2717" y="683"/>
                  </a:lnTo>
                  <a:lnTo>
                    <a:pt x="2714" y="699"/>
                  </a:lnTo>
                  <a:lnTo>
                    <a:pt x="2714" y="711"/>
                  </a:lnTo>
                  <a:lnTo>
                    <a:pt x="2713" y="721"/>
                  </a:lnTo>
                  <a:lnTo>
                    <a:pt x="2712" y="730"/>
                  </a:lnTo>
                  <a:lnTo>
                    <a:pt x="2712" y="739"/>
                  </a:lnTo>
                  <a:lnTo>
                    <a:pt x="2710" y="748"/>
                  </a:lnTo>
                  <a:lnTo>
                    <a:pt x="2710" y="758"/>
                  </a:lnTo>
                  <a:lnTo>
                    <a:pt x="2709" y="767"/>
                  </a:lnTo>
                  <a:lnTo>
                    <a:pt x="2709" y="776"/>
                  </a:lnTo>
                  <a:lnTo>
                    <a:pt x="2707" y="786"/>
                  </a:lnTo>
                  <a:lnTo>
                    <a:pt x="2707" y="795"/>
                  </a:lnTo>
                  <a:lnTo>
                    <a:pt x="2706" y="804"/>
                  </a:lnTo>
                  <a:lnTo>
                    <a:pt x="2706" y="814"/>
                  </a:lnTo>
                  <a:lnTo>
                    <a:pt x="2706" y="823"/>
                  </a:lnTo>
                  <a:lnTo>
                    <a:pt x="2706" y="833"/>
                  </a:lnTo>
                  <a:lnTo>
                    <a:pt x="2706" y="842"/>
                  </a:lnTo>
                  <a:lnTo>
                    <a:pt x="2706" y="852"/>
                  </a:lnTo>
                  <a:lnTo>
                    <a:pt x="2705" y="861"/>
                  </a:lnTo>
                  <a:lnTo>
                    <a:pt x="2705" y="870"/>
                  </a:lnTo>
                  <a:lnTo>
                    <a:pt x="2703" y="879"/>
                  </a:lnTo>
                  <a:lnTo>
                    <a:pt x="2700" y="888"/>
                  </a:lnTo>
                  <a:lnTo>
                    <a:pt x="2696" y="897"/>
                  </a:lnTo>
                  <a:lnTo>
                    <a:pt x="2688" y="903"/>
                  </a:lnTo>
                  <a:lnTo>
                    <a:pt x="2677" y="909"/>
                  </a:lnTo>
                  <a:lnTo>
                    <a:pt x="2667" y="916"/>
                  </a:lnTo>
                  <a:lnTo>
                    <a:pt x="2660" y="923"/>
                  </a:lnTo>
                  <a:lnTo>
                    <a:pt x="2652" y="931"/>
                  </a:lnTo>
                  <a:lnTo>
                    <a:pt x="2631" y="931"/>
                  </a:lnTo>
                  <a:lnTo>
                    <a:pt x="2618" y="934"/>
                  </a:lnTo>
                  <a:lnTo>
                    <a:pt x="2608" y="940"/>
                  </a:lnTo>
                  <a:lnTo>
                    <a:pt x="2604" y="949"/>
                  </a:lnTo>
                  <a:lnTo>
                    <a:pt x="2601" y="958"/>
                  </a:lnTo>
                  <a:lnTo>
                    <a:pt x="2596" y="968"/>
                  </a:lnTo>
                  <a:lnTo>
                    <a:pt x="2589" y="976"/>
                  </a:lnTo>
                  <a:lnTo>
                    <a:pt x="2583" y="984"/>
                  </a:lnTo>
                  <a:lnTo>
                    <a:pt x="2579" y="993"/>
                  </a:lnTo>
                  <a:lnTo>
                    <a:pt x="2573" y="1001"/>
                  </a:lnTo>
                  <a:lnTo>
                    <a:pt x="2569" y="1010"/>
                  </a:lnTo>
                  <a:lnTo>
                    <a:pt x="2566" y="1019"/>
                  </a:lnTo>
                  <a:lnTo>
                    <a:pt x="2563" y="1029"/>
                  </a:lnTo>
                  <a:lnTo>
                    <a:pt x="2551" y="1026"/>
                  </a:lnTo>
                  <a:lnTo>
                    <a:pt x="2538" y="1023"/>
                  </a:lnTo>
                  <a:lnTo>
                    <a:pt x="2529" y="1029"/>
                  </a:lnTo>
                  <a:lnTo>
                    <a:pt x="2520" y="1035"/>
                  </a:lnTo>
                  <a:lnTo>
                    <a:pt x="2509" y="1038"/>
                  </a:lnTo>
                  <a:lnTo>
                    <a:pt x="2501" y="1045"/>
                  </a:lnTo>
                  <a:lnTo>
                    <a:pt x="2494" y="1053"/>
                  </a:lnTo>
                  <a:lnTo>
                    <a:pt x="2484" y="1054"/>
                  </a:lnTo>
                  <a:lnTo>
                    <a:pt x="2470" y="1053"/>
                  </a:lnTo>
                  <a:lnTo>
                    <a:pt x="2459" y="1058"/>
                  </a:lnTo>
                  <a:lnTo>
                    <a:pt x="2449" y="1063"/>
                  </a:lnTo>
                  <a:lnTo>
                    <a:pt x="2438" y="1069"/>
                  </a:lnTo>
                  <a:lnTo>
                    <a:pt x="2428" y="1075"/>
                  </a:lnTo>
                  <a:lnTo>
                    <a:pt x="2418" y="1081"/>
                  </a:lnTo>
                  <a:lnTo>
                    <a:pt x="2408" y="1088"/>
                  </a:lnTo>
                  <a:lnTo>
                    <a:pt x="2399" y="1094"/>
                  </a:lnTo>
                  <a:lnTo>
                    <a:pt x="2389" y="1101"/>
                  </a:lnTo>
                  <a:lnTo>
                    <a:pt x="2380" y="1107"/>
                  </a:lnTo>
                  <a:lnTo>
                    <a:pt x="2378" y="1114"/>
                  </a:lnTo>
                  <a:lnTo>
                    <a:pt x="2385" y="1122"/>
                  </a:lnTo>
                  <a:lnTo>
                    <a:pt x="2389" y="1131"/>
                  </a:lnTo>
                  <a:lnTo>
                    <a:pt x="2396" y="1139"/>
                  </a:lnTo>
                  <a:lnTo>
                    <a:pt x="2400" y="1147"/>
                  </a:lnTo>
                  <a:lnTo>
                    <a:pt x="2404" y="1156"/>
                  </a:lnTo>
                  <a:lnTo>
                    <a:pt x="2412" y="1163"/>
                  </a:lnTo>
                  <a:lnTo>
                    <a:pt x="2407" y="1168"/>
                  </a:lnTo>
                  <a:lnTo>
                    <a:pt x="2394" y="1170"/>
                  </a:lnTo>
                  <a:lnTo>
                    <a:pt x="2382" y="1171"/>
                  </a:lnTo>
                  <a:lnTo>
                    <a:pt x="2369" y="1175"/>
                  </a:lnTo>
                  <a:lnTo>
                    <a:pt x="2368" y="1184"/>
                  </a:lnTo>
                  <a:lnTo>
                    <a:pt x="2366" y="1192"/>
                  </a:lnTo>
                  <a:lnTo>
                    <a:pt x="2375" y="1199"/>
                  </a:lnTo>
                  <a:lnTo>
                    <a:pt x="2378" y="1208"/>
                  </a:lnTo>
                  <a:lnTo>
                    <a:pt x="2375" y="1217"/>
                  </a:lnTo>
                  <a:lnTo>
                    <a:pt x="2378" y="1222"/>
                  </a:lnTo>
                  <a:lnTo>
                    <a:pt x="2385" y="1225"/>
                  </a:lnTo>
                  <a:lnTo>
                    <a:pt x="2379" y="1234"/>
                  </a:lnTo>
                  <a:lnTo>
                    <a:pt x="2375" y="1242"/>
                  </a:lnTo>
                  <a:lnTo>
                    <a:pt x="2369" y="1251"/>
                  </a:lnTo>
                  <a:lnTo>
                    <a:pt x="2371" y="1259"/>
                  </a:lnTo>
                  <a:lnTo>
                    <a:pt x="2382" y="1264"/>
                  </a:lnTo>
                  <a:lnTo>
                    <a:pt x="2393" y="1269"/>
                  </a:lnTo>
                  <a:lnTo>
                    <a:pt x="2404" y="1274"/>
                  </a:lnTo>
                  <a:lnTo>
                    <a:pt x="2408" y="1283"/>
                  </a:lnTo>
                  <a:lnTo>
                    <a:pt x="2397" y="1288"/>
                  </a:lnTo>
                  <a:lnTo>
                    <a:pt x="2396" y="1281"/>
                  </a:lnTo>
                  <a:lnTo>
                    <a:pt x="2383" y="1278"/>
                  </a:lnTo>
                  <a:lnTo>
                    <a:pt x="2373" y="1274"/>
                  </a:lnTo>
                  <a:lnTo>
                    <a:pt x="2366" y="1283"/>
                  </a:lnTo>
                  <a:lnTo>
                    <a:pt x="2366" y="1292"/>
                  </a:lnTo>
                  <a:lnTo>
                    <a:pt x="2357" y="1296"/>
                  </a:lnTo>
                  <a:lnTo>
                    <a:pt x="2347" y="1303"/>
                  </a:lnTo>
                  <a:lnTo>
                    <a:pt x="2337" y="1309"/>
                  </a:lnTo>
                  <a:lnTo>
                    <a:pt x="2326" y="1313"/>
                  </a:lnTo>
                  <a:lnTo>
                    <a:pt x="2313" y="1317"/>
                  </a:lnTo>
                  <a:lnTo>
                    <a:pt x="2305" y="1322"/>
                  </a:lnTo>
                  <a:lnTo>
                    <a:pt x="2292" y="1324"/>
                  </a:lnTo>
                  <a:lnTo>
                    <a:pt x="2298" y="1331"/>
                  </a:lnTo>
                  <a:lnTo>
                    <a:pt x="2308" y="1339"/>
                  </a:lnTo>
                  <a:lnTo>
                    <a:pt x="2296" y="1342"/>
                  </a:lnTo>
                  <a:lnTo>
                    <a:pt x="2284" y="1342"/>
                  </a:lnTo>
                  <a:lnTo>
                    <a:pt x="2270" y="1343"/>
                  </a:lnTo>
                  <a:lnTo>
                    <a:pt x="2257" y="1343"/>
                  </a:lnTo>
                  <a:lnTo>
                    <a:pt x="2245" y="1344"/>
                  </a:lnTo>
                  <a:lnTo>
                    <a:pt x="2231" y="1344"/>
                  </a:lnTo>
                  <a:lnTo>
                    <a:pt x="2218" y="1345"/>
                  </a:lnTo>
                  <a:lnTo>
                    <a:pt x="2207" y="1343"/>
                  </a:lnTo>
                  <a:lnTo>
                    <a:pt x="2207" y="1334"/>
                  </a:lnTo>
                  <a:lnTo>
                    <a:pt x="2207" y="1325"/>
                  </a:lnTo>
                  <a:lnTo>
                    <a:pt x="2206" y="1315"/>
                  </a:lnTo>
                  <a:lnTo>
                    <a:pt x="2200" y="1308"/>
                  </a:lnTo>
                  <a:lnTo>
                    <a:pt x="2187" y="1310"/>
                  </a:lnTo>
                  <a:lnTo>
                    <a:pt x="2175" y="1315"/>
                  </a:lnTo>
                  <a:lnTo>
                    <a:pt x="2165" y="1320"/>
                  </a:lnTo>
                  <a:lnTo>
                    <a:pt x="2152" y="1325"/>
                  </a:lnTo>
                  <a:lnTo>
                    <a:pt x="2143" y="1330"/>
                  </a:lnTo>
                  <a:lnTo>
                    <a:pt x="2140" y="1339"/>
                  </a:lnTo>
                  <a:lnTo>
                    <a:pt x="2138" y="1349"/>
                  </a:lnTo>
                  <a:lnTo>
                    <a:pt x="2130" y="1355"/>
                  </a:lnTo>
                  <a:lnTo>
                    <a:pt x="2122" y="1348"/>
                  </a:lnTo>
                  <a:lnTo>
                    <a:pt x="2105" y="1348"/>
                  </a:lnTo>
                  <a:lnTo>
                    <a:pt x="2102" y="1357"/>
                  </a:lnTo>
                  <a:lnTo>
                    <a:pt x="2099" y="1366"/>
                  </a:lnTo>
                  <a:lnTo>
                    <a:pt x="2097" y="1376"/>
                  </a:lnTo>
                  <a:lnTo>
                    <a:pt x="2094" y="1386"/>
                  </a:lnTo>
                  <a:lnTo>
                    <a:pt x="2092" y="1394"/>
                  </a:lnTo>
                  <a:lnTo>
                    <a:pt x="2102" y="1396"/>
                  </a:lnTo>
                  <a:lnTo>
                    <a:pt x="2112" y="1401"/>
                  </a:lnTo>
                  <a:lnTo>
                    <a:pt x="2120" y="1409"/>
                  </a:lnTo>
                  <a:lnTo>
                    <a:pt x="2119" y="1418"/>
                  </a:lnTo>
                  <a:lnTo>
                    <a:pt x="2116" y="1426"/>
                  </a:lnTo>
                  <a:lnTo>
                    <a:pt x="2113" y="1435"/>
                  </a:lnTo>
                  <a:lnTo>
                    <a:pt x="2113" y="1445"/>
                  </a:lnTo>
                  <a:lnTo>
                    <a:pt x="2111" y="1453"/>
                  </a:lnTo>
                  <a:lnTo>
                    <a:pt x="2106" y="1463"/>
                  </a:lnTo>
                  <a:lnTo>
                    <a:pt x="2115" y="1469"/>
                  </a:lnTo>
                  <a:lnTo>
                    <a:pt x="2129" y="1473"/>
                  </a:lnTo>
                  <a:lnTo>
                    <a:pt x="2126" y="1474"/>
                  </a:lnTo>
                  <a:lnTo>
                    <a:pt x="2125" y="1480"/>
                  </a:lnTo>
                  <a:lnTo>
                    <a:pt x="2136" y="1485"/>
                  </a:lnTo>
                  <a:lnTo>
                    <a:pt x="2143" y="1492"/>
                  </a:lnTo>
                  <a:lnTo>
                    <a:pt x="2145" y="1502"/>
                  </a:lnTo>
                  <a:lnTo>
                    <a:pt x="2141" y="1509"/>
                  </a:lnTo>
                  <a:lnTo>
                    <a:pt x="2129" y="1507"/>
                  </a:lnTo>
                  <a:lnTo>
                    <a:pt x="2116" y="1502"/>
                  </a:lnTo>
                  <a:lnTo>
                    <a:pt x="2105" y="1505"/>
                  </a:lnTo>
                  <a:lnTo>
                    <a:pt x="2109" y="1511"/>
                  </a:lnTo>
                  <a:lnTo>
                    <a:pt x="2122" y="1513"/>
                  </a:lnTo>
                  <a:lnTo>
                    <a:pt x="2134" y="1512"/>
                  </a:lnTo>
                  <a:lnTo>
                    <a:pt x="2147" y="1514"/>
                  </a:lnTo>
                  <a:lnTo>
                    <a:pt x="2150" y="1523"/>
                  </a:lnTo>
                  <a:lnTo>
                    <a:pt x="2150" y="1533"/>
                  </a:lnTo>
                  <a:lnTo>
                    <a:pt x="2148" y="1542"/>
                  </a:lnTo>
                  <a:lnTo>
                    <a:pt x="2144" y="1550"/>
                  </a:lnTo>
                  <a:lnTo>
                    <a:pt x="2137" y="1558"/>
                  </a:lnTo>
                  <a:lnTo>
                    <a:pt x="2133" y="1566"/>
                  </a:lnTo>
                  <a:lnTo>
                    <a:pt x="2122" y="1572"/>
                  </a:lnTo>
                  <a:lnTo>
                    <a:pt x="2116" y="1580"/>
                  </a:lnTo>
                  <a:lnTo>
                    <a:pt x="2106" y="1586"/>
                  </a:lnTo>
                  <a:lnTo>
                    <a:pt x="2097" y="1590"/>
                  </a:lnTo>
                  <a:lnTo>
                    <a:pt x="2090" y="1599"/>
                  </a:lnTo>
                  <a:lnTo>
                    <a:pt x="2083" y="1606"/>
                  </a:lnTo>
                  <a:lnTo>
                    <a:pt x="2070" y="1606"/>
                  </a:lnTo>
                  <a:lnTo>
                    <a:pt x="2057" y="1603"/>
                  </a:lnTo>
                  <a:lnTo>
                    <a:pt x="2046" y="1600"/>
                  </a:lnTo>
                  <a:lnTo>
                    <a:pt x="2034" y="1603"/>
                  </a:lnTo>
                  <a:lnTo>
                    <a:pt x="2022" y="1607"/>
                  </a:lnTo>
                  <a:lnTo>
                    <a:pt x="2011" y="1613"/>
                  </a:lnTo>
                  <a:lnTo>
                    <a:pt x="2002" y="1619"/>
                  </a:lnTo>
                  <a:lnTo>
                    <a:pt x="1990" y="1626"/>
                  </a:lnTo>
                  <a:lnTo>
                    <a:pt x="1981" y="1630"/>
                  </a:lnTo>
                  <a:lnTo>
                    <a:pt x="1969" y="1630"/>
                  </a:lnTo>
                  <a:lnTo>
                    <a:pt x="1960" y="1623"/>
                  </a:lnTo>
                  <a:lnTo>
                    <a:pt x="1948" y="1618"/>
                  </a:lnTo>
                  <a:lnTo>
                    <a:pt x="1937" y="1612"/>
                  </a:lnTo>
                  <a:lnTo>
                    <a:pt x="1926" y="1607"/>
                  </a:lnTo>
                  <a:lnTo>
                    <a:pt x="1916" y="1601"/>
                  </a:lnTo>
                  <a:lnTo>
                    <a:pt x="1911" y="1596"/>
                  </a:lnTo>
                  <a:lnTo>
                    <a:pt x="1890" y="1596"/>
                  </a:lnTo>
                  <a:lnTo>
                    <a:pt x="1880" y="1602"/>
                  </a:lnTo>
                  <a:lnTo>
                    <a:pt x="1867" y="1605"/>
                  </a:lnTo>
                  <a:lnTo>
                    <a:pt x="1855" y="1605"/>
                  </a:lnTo>
                  <a:lnTo>
                    <a:pt x="1841" y="1605"/>
                  </a:lnTo>
                  <a:lnTo>
                    <a:pt x="1828" y="1603"/>
                  </a:lnTo>
                  <a:lnTo>
                    <a:pt x="1816" y="1601"/>
                  </a:lnTo>
                  <a:lnTo>
                    <a:pt x="1804" y="1597"/>
                  </a:lnTo>
                  <a:lnTo>
                    <a:pt x="1792" y="1601"/>
                  </a:lnTo>
                  <a:lnTo>
                    <a:pt x="1789" y="1610"/>
                  </a:lnTo>
                  <a:lnTo>
                    <a:pt x="1788" y="1619"/>
                  </a:lnTo>
                  <a:lnTo>
                    <a:pt x="1782" y="1627"/>
                  </a:lnTo>
                  <a:lnTo>
                    <a:pt x="1771" y="1632"/>
                  </a:lnTo>
                  <a:lnTo>
                    <a:pt x="1758" y="1636"/>
                  </a:lnTo>
                  <a:lnTo>
                    <a:pt x="1747" y="1639"/>
                  </a:lnTo>
                  <a:lnTo>
                    <a:pt x="1734" y="1643"/>
                  </a:lnTo>
                  <a:lnTo>
                    <a:pt x="1722" y="1646"/>
                  </a:lnTo>
                  <a:lnTo>
                    <a:pt x="1709" y="1650"/>
                  </a:lnTo>
                  <a:lnTo>
                    <a:pt x="1698" y="1652"/>
                  </a:lnTo>
                  <a:lnTo>
                    <a:pt x="1686" y="1652"/>
                  </a:lnTo>
                  <a:lnTo>
                    <a:pt x="1672" y="1650"/>
                  </a:lnTo>
                  <a:lnTo>
                    <a:pt x="1659" y="1647"/>
                  </a:lnTo>
                  <a:lnTo>
                    <a:pt x="1649" y="1642"/>
                  </a:lnTo>
                  <a:lnTo>
                    <a:pt x="1644" y="1649"/>
                  </a:lnTo>
                  <a:lnTo>
                    <a:pt x="1634" y="1643"/>
                  </a:lnTo>
                  <a:lnTo>
                    <a:pt x="1621" y="1638"/>
                  </a:lnTo>
                  <a:lnTo>
                    <a:pt x="1611" y="1641"/>
                  </a:lnTo>
                  <a:lnTo>
                    <a:pt x="1600" y="1647"/>
                  </a:lnTo>
                  <a:lnTo>
                    <a:pt x="1592" y="1655"/>
                  </a:lnTo>
                  <a:lnTo>
                    <a:pt x="1586" y="1663"/>
                  </a:lnTo>
                  <a:lnTo>
                    <a:pt x="1581" y="1672"/>
                  </a:lnTo>
                  <a:lnTo>
                    <a:pt x="1575" y="1680"/>
                  </a:lnTo>
                  <a:lnTo>
                    <a:pt x="1570" y="1688"/>
                  </a:lnTo>
                  <a:lnTo>
                    <a:pt x="1560" y="1695"/>
                  </a:lnTo>
                  <a:lnTo>
                    <a:pt x="1550" y="1701"/>
                  </a:lnTo>
                  <a:lnTo>
                    <a:pt x="1540" y="1707"/>
                  </a:lnTo>
                  <a:lnTo>
                    <a:pt x="1530" y="1714"/>
                  </a:lnTo>
                  <a:lnTo>
                    <a:pt x="1519" y="1720"/>
                  </a:lnTo>
                  <a:lnTo>
                    <a:pt x="1518" y="1728"/>
                  </a:lnTo>
                  <a:lnTo>
                    <a:pt x="1522" y="1737"/>
                  </a:lnTo>
                  <a:lnTo>
                    <a:pt x="1528" y="1745"/>
                  </a:lnTo>
                  <a:lnTo>
                    <a:pt x="1530" y="1754"/>
                  </a:lnTo>
                  <a:lnTo>
                    <a:pt x="1533" y="1763"/>
                  </a:lnTo>
                  <a:lnTo>
                    <a:pt x="1537" y="1772"/>
                  </a:lnTo>
                  <a:lnTo>
                    <a:pt x="1540" y="1781"/>
                  </a:lnTo>
                  <a:lnTo>
                    <a:pt x="1542" y="1791"/>
                  </a:lnTo>
                  <a:lnTo>
                    <a:pt x="1542" y="1800"/>
                  </a:lnTo>
                  <a:lnTo>
                    <a:pt x="1544" y="1809"/>
                  </a:lnTo>
                  <a:lnTo>
                    <a:pt x="1549" y="1818"/>
                  </a:lnTo>
                  <a:lnTo>
                    <a:pt x="1553" y="1827"/>
                  </a:lnTo>
                  <a:lnTo>
                    <a:pt x="1557" y="1838"/>
                  </a:lnTo>
                  <a:lnTo>
                    <a:pt x="1556" y="1847"/>
                  </a:lnTo>
                  <a:lnTo>
                    <a:pt x="1544" y="1853"/>
                  </a:lnTo>
                  <a:lnTo>
                    <a:pt x="1533" y="1857"/>
                  </a:lnTo>
                  <a:lnTo>
                    <a:pt x="1521" y="1861"/>
                  </a:lnTo>
                  <a:lnTo>
                    <a:pt x="1514" y="1868"/>
                  </a:lnTo>
                  <a:lnTo>
                    <a:pt x="1502" y="1871"/>
                  </a:lnTo>
                  <a:lnTo>
                    <a:pt x="1490" y="1871"/>
                  </a:lnTo>
                  <a:lnTo>
                    <a:pt x="1476" y="1872"/>
                  </a:lnTo>
                  <a:lnTo>
                    <a:pt x="1463" y="1873"/>
                  </a:lnTo>
                  <a:lnTo>
                    <a:pt x="1451" y="1875"/>
                  </a:lnTo>
                  <a:lnTo>
                    <a:pt x="1438" y="1877"/>
                  </a:lnTo>
                  <a:lnTo>
                    <a:pt x="1426" y="1877"/>
                  </a:lnTo>
                  <a:lnTo>
                    <a:pt x="1412" y="1876"/>
                  </a:lnTo>
                  <a:lnTo>
                    <a:pt x="1407" y="1884"/>
                  </a:lnTo>
                  <a:lnTo>
                    <a:pt x="1400" y="1895"/>
                  </a:lnTo>
                  <a:lnTo>
                    <a:pt x="1399" y="1908"/>
                  </a:lnTo>
                  <a:lnTo>
                    <a:pt x="1395" y="1916"/>
                  </a:lnTo>
                  <a:lnTo>
                    <a:pt x="1384" y="1922"/>
                  </a:lnTo>
                  <a:lnTo>
                    <a:pt x="1371" y="1925"/>
                  </a:lnTo>
                  <a:lnTo>
                    <a:pt x="1358" y="1924"/>
                  </a:lnTo>
                  <a:lnTo>
                    <a:pt x="1346" y="1921"/>
                  </a:lnTo>
                  <a:lnTo>
                    <a:pt x="1333" y="1919"/>
                  </a:lnTo>
                  <a:lnTo>
                    <a:pt x="1319" y="1919"/>
                  </a:lnTo>
                  <a:lnTo>
                    <a:pt x="1307" y="1918"/>
                  </a:lnTo>
                  <a:lnTo>
                    <a:pt x="1294" y="1917"/>
                  </a:lnTo>
                  <a:lnTo>
                    <a:pt x="1284" y="1913"/>
                  </a:lnTo>
                  <a:lnTo>
                    <a:pt x="1279" y="1903"/>
                  </a:lnTo>
                  <a:lnTo>
                    <a:pt x="1273" y="1895"/>
                  </a:lnTo>
                  <a:lnTo>
                    <a:pt x="1258" y="1884"/>
                  </a:lnTo>
                  <a:lnTo>
                    <a:pt x="1249" y="1875"/>
                  </a:lnTo>
                  <a:lnTo>
                    <a:pt x="1241" y="1868"/>
                  </a:lnTo>
                  <a:lnTo>
                    <a:pt x="1231" y="1862"/>
                  </a:lnTo>
                  <a:lnTo>
                    <a:pt x="1220" y="1858"/>
                  </a:lnTo>
                  <a:lnTo>
                    <a:pt x="1207" y="1855"/>
                  </a:lnTo>
                  <a:lnTo>
                    <a:pt x="1195" y="1852"/>
                  </a:lnTo>
                  <a:lnTo>
                    <a:pt x="1182" y="1849"/>
                  </a:lnTo>
                  <a:lnTo>
                    <a:pt x="1170" y="1850"/>
                  </a:lnTo>
                  <a:lnTo>
                    <a:pt x="1159" y="1856"/>
                  </a:lnTo>
                  <a:lnTo>
                    <a:pt x="1156" y="1863"/>
                  </a:lnTo>
                  <a:lnTo>
                    <a:pt x="1145" y="1866"/>
                  </a:lnTo>
                  <a:lnTo>
                    <a:pt x="1145" y="1874"/>
                  </a:lnTo>
                  <a:lnTo>
                    <a:pt x="1154" y="1880"/>
                  </a:lnTo>
                  <a:lnTo>
                    <a:pt x="1149" y="1888"/>
                  </a:lnTo>
                  <a:lnTo>
                    <a:pt x="1136" y="1892"/>
                  </a:lnTo>
                  <a:lnTo>
                    <a:pt x="1125" y="1886"/>
                  </a:lnTo>
                  <a:lnTo>
                    <a:pt x="1114" y="1882"/>
                  </a:lnTo>
                  <a:lnTo>
                    <a:pt x="1105" y="1888"/>
                  </a:lnTo>
                  <a:lnTo>
                    <a:pt x="1097" y="1895"/>
                  </a:lnTo>
                  <a:lnTo>
                    <a:pt x="1090" y="1905"/>
                  </a:lnTo>
                  <a:lnTo>
                    <a:pt x="1084" y="1913"/>
                  </a:lnTo>
                  <a:lnTo>
                    <a:pt x="1080" y="1922"/>
                  </a:lnTo>
                  <a:lnTo>
                    <a:pt x="1076" y="1930"/>
                  </a:lnTo>
                  <a:lnTo>
                    <a:pt x="1069" y="1941"/>
                  </a:lnTo>
                  <a:lnTo>
                    <a:pt x="1062" y="1947"/>
                  </a:lnTo>
                  <a:lnTo>
                    <a:pt x="1051" y="1944"/>
                  </a:lnTo>
                  <a:lnTo>
                    <a:pt x="1040" y="1940"/>
                  </a:lnTo>
                  <a:lnTo>
                    <a:pt x="1029" y="1935"/>
                  </a:lnTo>
                  <a:lnTo>
                    <a:pt x="1017" y="1930"/>
                  </a:lnTo>
                  <a:lnTo>
                    <a:pt x="1006" y="1924"/>
                  </a:lnTo>
                  <a:lnTo>
                    <a:pt x="995" y="1918"/>
                  </a:lnTo>
                  <a:lnTo>
                    <a:pt x="984" y="1912"/>
                  </a:lnTo>
                  <a:lnTo>
                    <a:pt x="974" y="1906"/>
                  </a:lnTo>
                  <a:lnTo>
                    <a:pt x="966" y="1899"/>
                  </a:lnTo>
                  <a:lnTo>
                    <a:pt x="957" y="1895"/>
                  </a:lnTo>
                  <a:lnTo>
                    <a:pt x="947" y="1888"/>
                  </a:lnTo>
                  <a:lnTo>
                    <a:pt x="936" y="1884"/>
                  </a:lnTo>
                  <a:lnTo>
                    <a:pt x="925" y="1881"/>
                  </a:lnTo>
                  <a:lnTo>
                    <a:pt x="913" y="1895"/>
                  </a:lnTo>
                  <a:lnTo>
                    <a:pt x="918" y="1912"/>
                  </a:lnTo>
                  <a:lnTo>
                    <a:pt x="924" y="1920"/>
                  </a:lnTo>
                  <a:lnTo>
                    <a:pt x="915" y="1926"/>
                  </a:lnTo>
                  <a:lnTo>
                    <a:pt x="901" y="1929"/>
                  </a:lnTo>
                  <a:lnTo>
                    <a:pt x="890" y="1930"/>
                  </a:lnTo>
                  <a:lnTo>
                    <a:pt x="887" y="1920"/>
                  </a:lnTo>
                  <a:lnTo>
                    <a:pt x="892" y="1911"/>
                  </a:lnTo>
                  <a:lnTo>
                    <a:pt x="887" y="1903"/>
                  </a:lnTo>
                  <a:lnTo>
                    <a:pt x="880" y="1895"/>
                  </a:lnTo>
                  <a:lnTo>
                    <a:pt x="872" y="1878"/>
                  </a:lnTo>
                  <a:lnTo>
                    <a:pt x="861" y="1874"/>
                  </a:lnTo>
                  <a:lnTo>
                    <a:pt x="847" y="1874"/>
                  </a:lnTo>
                  <a:lnTo>
                    <a:pt x="838" y="1867"/>
                  </a:lnTo>
                  <a:lnTo>
                    <a:pt x="834" y="1858"/>
                  </a:lnTo>
                  <a:lnTo>
                    <a:pt x="831" y="1849"/>
                  </a:lnTo>
                  <a:lnTo>
                    <a:pt x="830" y="1840"/>
                  </a:lnTo>
                  <a:lnTo>
                    <a:pt x="831" y="1831"/>
                  </a:lnTo>
                  <a:lnTo>
                    <a:pt x="826" y="1823"/>
                  </a:lnTo>
                  <a:lnTo>
                    <a:pt x="813" y="1820"/>
                  </a:lnTo>
                  <a:lnTo>
                    <a:pt x="803" y="1814"/>
                  </a:lnTo>
                  <a:lnTo>
                    <a:pt x="798" y="1805"/>
                  </a:lnTo>
                  <a:lnTo>
                    <a:pt x="788" y="1802"/>
                  </a:lnTo>
                  <a:lnTo>
                    <a:pt x="776" y="1806"/>
                  </a:lnTo>
                  <a:lnTo>
                    <a:pt x="770" y="1814"/>
                  </a:lnTo>
                  <a:lnTo>
                    <a:pt x="776" y="1822"/>
                  </a:lnTo>
                  <a:lnTo>
                    <a:pt x="785" y="1829"/>
                  </a:lnTo>
                  <a:lnTo>
                    <a:pt x="791" y="1837"/>
                  </a:lnTo>
                  <a:lnTo>
                    <a:pt x="790" y="1846"/>
                  </a:lnTo>
                  <a:lnTo>
                    <a:pt x="785" y="1855"/>
                  </a:lnTo>
                  <a:lnTo>
                    <a:pt x="774" y="1860"/>
                  </a:lnTo>
                  <a:lnTo>
                    <a:pt x="762" y="1858"/>
                  </a:lnTo>
                  <a:lnTo>
                    <a:pt x="755" y="1851"/>
                  </a:lnTo>
                  <a:lnTo>
                    <a:pt x="745" y="1846"/>
                  </a:lnTo>
                  <a:lnTo>
                    <a:pt x="732" y="1842"/>
                  </a:lnTo>
                  <a:lnTo>
                    <a:pt x="722" y="1835"/>
                  </a:lnTo>
                  <a:lnTo>
                    <a:pt x="715" y="1828"/>
                  </a:lnTo>
                  <a:lnTo>
                    <a:pt x="710" y="1819"/>
                  </a:lnTo>
                  <a:lnTo>
                    <a:pt x="710" y="1810"/>
                  </a:lnTo>
                  <a:lnTo>
                    <a:pt x="713" y="1800"/>
                  </a:lnTo>
                  <a:lnTo>
                    <a:pt x="722" y="1794"/>
                  </a:lnTo>
                  <a:lnTo>
                    <a:pt x="735" y="1793"/>
                  </a:lnTo>
                  <a:lnTo>
                    <a:pt x="748" y="1794"/>
                  </a:lnTo>
                  <a:lnTo>
                    <a:pt x="760" y="1793"/>
                  </a:lnTo>
                  <a:lnTo>
                    <a:pt x="774" y="1792"/>
                  </a:lnTo>
                  <a:lnTo>
                    <a:pt x="787" y="1790"/>
                  </a:lnTo>
                  <a:lnTo>
                    <a:pt x="795" y="1783"/>
                  </a:lnTo>
                  <a:lnTo>
                    <a:pt x="791" y="1773"/>
                  </a:lnTo>
                  <a:lnTo>
                    <a:pt x="783" y="1775"/>
                  </a:lnTo>
                  <a:lnTo>
                    <a:pt x="771" y="1781"/>
                  </a:lnTo>
                  <a:lnTo>
                    <a:pt x="759" y="1782"/>
                  </a:lnTo>
                  <a:lnTo>
                    <a:pt x="745" y="1782"/>
                  </a:lnTo>
                  <a:lnTo>
                    <a:pt x="734" y="1778"/>
                  </a:lnTo>
                  <a:lnTo>
                    <a:pt x="725" y="1771"/>
                  </a:lnTo>
                  <a:lnTo>
                    <a:pt x="718" y="1763"/>
                  </a:lnTo>
                  <a:lnTo>
                    <a:pt x="710" y="1755"/>
                  </a:lnTo>
                  <a:lnTo>
                    <a:pt x="701" y="1748"/>
                  </a:lnTo>
                  <a:lnTo>
                    <a:pt x="690" y="1742"/>
                  </a:lnTo>
                  <a:lnTo>
                    <a:pt x="686" y="1737"/>
                  </a:lnTo>
                  <a:lnTo>
                    <a:pt x="699" y="1739"/>
                  </a:lnTo>
                  <a:lnTo>
                    <a:pt x="710" y="1744"/>
                  </a:lnTo>
                  <a:lnTo>
                    <a:pt x="721" y="1747"/>
                  </a:lnTo>
                  <a:lnTo>
                    <a:pt x="735" y="1747"/>
                  </a:lnTo>
                  <a:lnTo>
                    <a:pt x="748" y="1744"/>
                  </a:lnTo>
                  <a:lnTo>
                    <a:pt x="756" y="1737"/>
                  </a:lnTo>
                  <a:lnTo>
                    <a:pt x="764" y="1730"/>
                  </a:lnTo>
                  <a:lnTo>
                    <a:pt x="773" y="1723"/>
                  </a:lnTo>
                  <a:lnTo>
                    <a:pt x="784" y="1718"/>
                  </a:lnTo>
                  <a:lnTo>
                    <a:pt x="792" y="1726"/>
                  </a:lnTo>
                  <a:lnTo>
                    <a:pt x="799" y="1728"/>
                  </a:lnTo>
                  <a:lnTo>
                    <a:pt x="802" y="1719"/>
                  </a:lnTo>
                  <a:lnTo>
                    <a:pt x="805" y="1708"/>
                  </a:lnTo>
                  <a:lnTo>
                    <a:pt x="810" y="1700"/>
                  </a:lnTo>
                  <a:lnTo>
                    <a:pt x="817" y="1692"/>
                  </a:lnTo>
                  <a:lnTo>
                    <a:pt x="824" y="1684"/>
                  </a:lnTo>
                  <a:lnTo>
                    <a:pt x="836" y="1679"/>
                  </a:lnTo>
                  <a:lnTo>
                    <a:pt x="848" y="1679"/>
                  </a:lnTo>
                  <a:lnTo>
                    <a:pt x="855" y="1687"/>
                  </a:lnTo>
                  <a:lnTo>
                    <a:pt x="862" y="1694"/>
                  </a:lnTo>
                  <a:lnTo>
                    <a:pt x="875" y="1697"/>
                  </a:lnTo>
                  <a:lnTo>
                    <a:pt x="887" y="1694"/>
                  </a:lnTo>
                  <a:lnTo>
                    <a:pt x="897" y="1688"/>
                  </a:lnTo>
                  <a:lnTo>
                    <a:pt x="906" y="1681"/>
                  </a:lnTo>
                  <a:lnTo>
                    <a:pt x="915" y="1675"/>
                  </a:lnTo>
                  <a:lnTo>
                    <a:pt x="925" y="1669"/>
                  </a:lnTo>
                  <a:lnTo>
                    <a:pt x="935" y="1662"/>
                  </a:lnTo>
                  <a:lnTo>
                    <a:pt x="945" y="1656"/>
                  </a:lnTo>
                  <a:lnTo>
                    <a:pt x="950" y="1648"/>
                  </a:lnTo>
                  <a:lnTo>
                    <a:pt x="950" y="1639"/>
                  </a:lnTo>
                  <a:lnTo>
                    <a:pt x="954" y="1630"/>
                  </a:lnTo>
                  <a:lnTo>
                    <a:pt x="967" y="1628"/>
                  </a:lnTo>
                  <a:lnTo>
                    <a:pt x="980" y="1625"/>
                  </a:lnTo>
                  <a:lnTo>
                    <a:pt x="992" y="1623"/>
                  </a:lnTo>
                  <a:lnTo>
                    <a:pt x="1005" y="1620"/>
                  </a:lnTo>
                  <a:lnTo>
                    <a:pt x="1015" y="1613"/>
                  </a:lnTo>
                  <a:lnTo>
                    <a:pt x="1022" y="1606"/>
                  </a:lnTo>
                  <a:lnTo>
                    <a:pt x="1022" y="1596"/>
                  </a:lnTo>
                  <a:lnTo>
                    <a:pt x="1020" y="1587"/>
                  </a:lnTo>
                  <a:lnTo>
                    <a:pt x="1016" y="1578"/>
                  </a:lnTo>
                  <a:lnTo>
                    <a:pt x="1009" y="1570"/>
                  </a:lnTo>
                  <a:lnTo>
                    <a:pt x="1001" y="1563"/>
                  </a:lnTo>
                  <a:lnTo>
                    <a:pt x="989" y="1558"/>
                  </a:lnTo>
                  <a:lnTo>
                    <a:pt x="977" y="1556"/>
                  </a:lnTo>
                  <a:lnTo>
                    <a:pt x="964" y="1554"/>
                  </a:lnTo>
                  <a:lnTo>
                    <a:pt x="950" y="1554"/>
                  </a:lnTo>
                  <a:lnTo>
                    <a:pt x="939" y="1558"/>
                  </a:lnTo>
                  <a:lnTo>
                    <a:pt x="929" y="1565"/>
                  </a:lnTo>
                  <a:lnTo>
                    <a:pt x="918" y="1565"/>
                  </a:lnTo>
                  <a:lnTo>
                    <a:pt x="913" y="1557"/>
                  </a:lnTo>
                  <a:lnTo>
                    <a:pt x="910" y="1548"/>
                  </a:lnTo>
                  <a:lnTo>
                    <a:pt x="911" y="1538"/>
                  </a:lnTo>
                  <a:lnTo>
                    <a:pt x="917" y="1530"/>
                  </a:lnTo>
                  <a:lnTo>
                    <a:pt x="928" y="1526"/>
                  </a:lnTo>
                  <a:lnTo>
                    <a:pt x="942" y="1524"/>
                  </a:lnTo>
                  <a:lnTo>
                    <a:pt x="954" y="1522"/>
                  </a:lnTo>
                  <a:lnTo>
                    <a:pt x="966" y="1518"/>
                  </a:lnTo>
                  <a:lnTo>
                    <a:pt x="970" y="1509"/>
                  </a:lnTo>
                  <a:lnTo>
                    <a:pt x="963" y="1502"/>
                  </a:lnTo>
                  <a:lnTo>
                    <a:pt x="957" y="1493"/>
                  </a:lnTo>
                  <a:lnTo>
                    <a:pt x="959" y="1484"/>
                  </a:lnTo>
                  <a:lnTo>
                    <a:pt x="967" y="1477"/>
                  </a:lnTo>
                  <a:lnTo>
                    <a:pt x="980" y="1472"/>
                  </a:lnTo>
                  <a:lnTo>
                    <a:pt x="978" y="1466"/>
                  </a:lnTo>
                  <a:lnTo>
                    <a:pt x="968" y="1458"/>
                  </a:lnTo>
                  <a:lnTo>
                    <a:pt x="959" y="1451"/>
                  </a:lnTo>
                  <a:lnTo>
                    <a:pt x="949" y="1445"/>
                  </a:lnTo>
                  <a:lnTo>
                    <a:pt x="939" y="1444"/>
                  </a:lnTo>
                  <a:lnTo>
                    <a:pt x="928" y="1439"/>
                  </a:lnTo>
                  <a:lnTo>
                    <a:pt x="917" y="1435"/>
                  </a:lnTo>
                  <a:lnTo>
                    <a:pt x="906" y="1430"/>
                  </a:lnTo>
                  <a:lnTo>
                    <a:pt x="889" y="1423"/>
                  </a:lnTo>
                  <a:lnTo>
                    <a:pt x="896" y="1414"/>
                  </a:lnTo>
                  <a:lnTo>
                    <a:pt x="901" y="1405"/>
                  </a:lnTo>
                  <a:lnTo>
                    <a:pt x="907" y="1397"/>
                  </a:lnTo>
                  <a:lnTo>
                    <a:pt x="913" y="1388"/>
                  </a:lnTo>
                  <a:lnTo>
                    <a:pt x="920" y="1380"/>
                  </a:lnTo>
                  <a:lnTo>
                    <a:pt x="925" y="1371"/>
                  </a:lnTo>
                  <a:lnTo>
                    <a:pt x="925" y="1363"/>
                  </a:lnTo>
                  <a:lnTo>
                    <a:pt x="918" y="1354"/>
                  </a:lnTo>
                  <a:lnTo>
                    <a:pt x="907" y="1350"/>
                  </a:lnTo>
                  <a:lnTo>
                    <a:pt x="893" y="1348"/>
                  </a:lnTo>
                  <a:lnTo>
                    <a:pt x="882" y="1344"/>
                  </a:lnTo>
                  <a:lnTo>
                    <a:pt x="876" y="1336"/>
                  </a:lnTo>
                  <a:lnTo>
                    <a:pt x="872" y="1328"/>
                  </a:lnTo>
                  <a:lnTo>
                    <a:pt x="869" y="1318"/>
                  </a:lnTo>
                  <a:lnTo>
                    <a:pt x="866" y="1309"/>
                  </a:lnTo>
                  <a:lnTo>
                    <a:pt x="862" y="1296"/>
                  </a:lnTo>
                  <a:lnTo>
                    <a:pt x="859" y="1287"/>
                  </a:lnTo>
                  <a:lnTo>
                    <a:pt x="855" y="1278"/>
                  </a:lnTo>
                  <a:lnTo>
                    <a:pt x="851" y="1269"/>
                  </a:lnTo>
                  <a:lnTo>
                    <a:pt x="845" y="1261"/>
                  </a:lnTo>
                  <a:lnTo>
                    <a:pt x="836" y="1255"/>
                  </a:lnTo>
                  <a:lnTo>
                    <a:pt x="829" y="1247"/>
                  </a:lnTo>
                  <a:lnTo>
                    <a:pt x="827" y="1238"/>
                  </a:lnTo>
                  <a:lnTo>
                    <a:pt x="819" y="1230"/>
                  </a:lnTo>
                  <a:lnTo>
                    <a:pt x="809" y="1223"/>
                  </a:lnTo>
                  <a:lnTo>
                    <a:pt x="803" y="1216"/>
                  </a:lnTo>
                  <a:lnTo>
                    <a:pt x="816" y="1212"/>
                  </a:lnTo>
                  <a:lnTo>
                    <a:pt x="812" y="1204"/>
                  </a:lnTo>
                  <a:lnTo>
                    <a:pt x="805" y="1195"/>
                  </a:lnTo>
                  <a:lnTo>
                    <a:pt x="796" y="1187"/>
                  </a:lnTo>
                  <a:lnTo>
                    <a:pt x="791" y="1179"/>
                  </a:lnTo>
                  <a:lnTo>
                    <a:pt x="794" y="1171"/>
                  </a:lnTo>
                  <a:lnTo>
                    <a:pt x="798" y="1162"/>
                  </a:lnTo>
                  <a:lnTo>
                    <a:pt x="802" y="1153"/>
                  </a:lnTo>
                  <a:lnTo>
                    <a:pt x="806" y="1144"/>
                  </a:lnTo>
                  <a:lnTo>
                    <a:pt x="806" y="1135"/>
                  </a:lnTo>
                  <a:lnTo>
                    <a:pt x="816" y="1128"/>
                  </a:lnTo>
                  <a:lnTo>
                    <a:pt x="826" y="1122"/>
                  </a:lnTo>
                  <a:lnTo>
                    <a:pt x="833" y="1114"/>
                  </a:lnTo>
                  <a:lnTo>
                    <a:pt x="843" y="1108"/>
                  </a:lnTo>
                  <a:lnTo>
                    <a:pt x="851" y="1101"/>
                  </a:lnTo>
                  <a:lnTo>
                    <a:pt x="859" y="1094"/>
                  </a:lnTo>
                  <a:lnTo>
                    <a:pt x="868" y="1087"/>
                  </a:lnTo>
                  <a:lnTo>
                    <a:pt x="875" y="1079"/>
                  </a:lnTo>
                  <a:lnTo>
                    <a:pt x="882" y="1071"/>
                  </a:lnTo>
                  <a:lnTo>
                    <a:pt x="887" y="1062"/>
                  </a:lnTo>
                  <a:lnTo>
                    <a:pt x="889" y="1054"/>
                  </a:lnTo>
                  <a:lnTo>
                    <a:pt x="883" y="1044"/>
                  </a:lnTo>
                  <a:lnTo>
                    <a:pt x="879" y="1036"/>
                  </a:lnTo>
                  <a:lnTo>
                    <a:pt x="875" y="1027"/>
                  </a:lnTo>
                  <a:lnTo>
                    <a:pt x="868" y="1019"/>
                  </a:lnTo>
                  <a:lnTo>
                    <a:pt x="865" y="1010"/>
                  </a:lnTo>
                  <a:lnTo>
                    <a:pt x="858" y="1003"/>
                  </a:lnTo>
                  <a:lnTo>
                    <a:pt x="852" y="996"/>
                  </a:lnTo>
                  <a:lnTo>
                    <a:pt x="854" y="985"/>
                  </a:lnTo>
                  <a:lnTo>
                    <a:pt x="848" y="978"/>
                  </a:lnTo>
                  <a:lnTo>
                    <a:pt x="836" y="975"/>
                  </a:lnTo>
                  <a:lnTo>
                    <a:pt x="823" y="972"/>
                  </a:lnTo>
                  <a:lnTo>
                    <a:pt x="813" y="965"/>
                  </a:lnTo>
                  <a:lnTo>
                    <a:pt x="805" y="958"/>
                  </a:lnTo>
                  <a:lnTo>
                    <a:pt x="795" y="951"/>
                  </a:lnTo>
                  <a:lnTo>
                    <a:pt x="785" y="945"/>
                  </a:lnTo>
                  <a:lnTo>
                    <a:pt x="776" y="939"/>
                  </a:lnTo>
                  <a:lnTo>
                    <a:pt x="764" y="935"/>
                  </a:lnTo>
                  <a:lnTo>
                    <a:pt x="752" y="932"/>
                  </a:lnTo>
                  <a:lnTo>
                    <a:pt x="739" y="929"/>
                  </a:lnTo>
                  <a:lnTo>
                    <a:pt x="727" y="926"/>
                  </a:lnTo>
                  <a:lnTo>
                    <a:pt x="714" y="923"/>
                  </a:lnTo>
                  <a:lnTo>
                    <a:pt x="701" y="920"/>
                  </a:lnTo>
                  <a:lnTo>
                    <a:pt x="690" y="916"/>
                  </a:lnTo>
                  <a:lnTo>
                    <a:pt x="675" y="915"/>
                  </a:lnTo>
                  <a:lnTo>
                    <a:pt x="668" y="911"/>
                  </a:lnTo>
                  <a:lnTo>
                    <a:pt x="671" y="903"/>
                  </a:lnTo>
                  <a:lnTo>
                    <a:pt x="675" y="895"/>
                  </a:lnTo>
                  <a:lnTo>
                    <a:pt x="679" y="886"/>
                  </a:lnTo>
                  <a:lnTo>
                    <a:pt x="685" y="876"/>
                  </a:lnTo>
                  <a:lnTo>
                    <a:pt x="689" y="867"/>
                  </a:lnTo>
                  <a:lnTo>
                    <a:pt x="694" y="858"/>
                  </a:lnTo>
                  <a:lnTo>
                    <a:pt x="699" y="849"/>
                  </a:lnTo>
                  <a:lnTo>
                    <a:pt x="704" y="841"/>
                  </a:lnTo>
                  <a:lnTo>
                    <a:pt x="711" y="833"/>
                  </a:lnTo>
                  <a:lnTo>
                    <a:pt x="718" y="825"/>
                  </a:lnTo>
                  <a:lnTo>
                    <a:pt x="722" y="816"/>
                  </a:lnTo>
                  <a:lnTo>
                    <a:pt x="725" y="807"/>
                  </a:lnTo>
                  <a:lnTo>
                    <a:pt x="715" y="801"/>
                  </a:lnTo>
                  <a:lnTo>
                    <a:pt x="707" y="794"/>
                  </a:lnTo>
                  <a:lnTo>
                    <a:pt x="701" y="786"/>
                  </a:lnTo>
                  <a:lnTo>
                    <a:pt x="694" y="778"/>
                  </a:lnTo>
                  <a:lnTo>
                    <a:pt x="689" y="770"/>
                  </a:lnTo>
                  <a:lnTo>
                    <a:pt x="682" y="762"/>
                  </a:lnTo>
                  <a:lnTo>
                    <a:pt x="673" y="755"/>
                  </a:lnTo>
                  <a:lnTo>
                    <a:pt x="669" y="746"/>
                  </a:lnTo>
                  <a:lnTo>
                    <a:pt x="669" y="737"/>
                  </a:lnTo>
                  <a:lnTo>
                    <a:pt x="672" y="727"/>
                  </a:lnTo>
                  <a:lnTo>
                    <a:pt x="669" y="719"/>
                  </a:lnTo>
                  <a:lnTo>
                    <a:pt x="661" y="712"/>
                  </a:lnTo>
                  <a:lnTo>
                    <a:pt x="643" y="699"/>
                  </a:lnTo>
                  <a:lnTo>
                    <a:pt x="639" y="690"/>
                  </a:lnTo>
                  <a:lnTo>
                    <a:pt x="627" y="677"/>
                  </a:lnTo>
                  <a:lnTo>
                    <a:pt x="616" y="672"/>
                  </a:lnTo>
                  <a:lnTo>
                    <a:pt x="605" y="668"/>
                  </a:lnTo>
                  <a:lnTo>
                    <a:pt x="592" y="663"/>
                  </a:lnTo>
                  <a:lnTo>
                    <a:pt x="581" y="659"/>
                  </a:lnTo>
                  <a:lnTo>
                    <a:pt x="570" y="655"/>
                  </a:lnTo>
                  <a:lnTo>
                    <a:pt x="557" y="652"/>
                  </a:lnTo>
                  <a:lnTo>
                    <a:pt x="546" y="647"/>
                  </a:lnTo>
                  <a:lnTo>
                    <a:pt x="535" y="642"/>
                  </a:lnTo>
                  <a:lnTo>
                    <a:pt x="524" y="637"/>
                  </a:lnTo>
                  <a:lnTo>
                    <a:pt x="514" y="636"/>
                  </a:lnTo>
                  <a:lnTo>
                    <a:pt x="503" y="630"/>
                  </a:lnTo>
                  <a:lnTo>
                    <a:pt x="493" y="625"/>
                  </a:lnTo>
                  <a:lnTo>
                    <a:pt x="482" y="619"/>
                  </a:lnTo>
                  <a:lnTo>
                    <a:pt x="472" y="613"/>
                  </a:lnTo>
                  <a:lnTo>
                    <a:pt x="462" y="608"/>
                  </a:lnTo>
                  <a:lnTo>
                    <a:pt x="453" y="601"/>
                  </a:lnTo>
                  <a:lnTo>
                    <a:pt x="441" y="597"/>
                  </a:lnTo>
                  <a:lnTo>
                    <a:pt x="429" y="593"/>
                  </a:lnTo>
                  <a:lnTo>
                    <a:pt x="418" y="589"/>
                  </a:lnTo>
                  <a:lnTo>
                    <a:pt x="406" y="584"/>
                  </a:lnTo>
                  <a:lnTo>
                    <a:pt x="397" y="578"/>
                  </a:lnTo>
                  <a:lnTo>
                    <a:pt x="388" y="571"/>
                  </a:lnTo>
                  <a:lnTo>
                    <a:pt x="379" y="564"/>
                  </a:lnTo>
                  <a:lnTo>
                    <a:pt x="369" y="558"/>
                  </a:lnTo>
                  <a:lnTo>
                    <a:pt x="358" y="553"/>
                  </a:lnTo>
                  <a:lnTo>
                    <a:pt x="345" y="552"/>
                  </a:lnTo>
                  <a:lnTo>
                    <a:pt x="345" y="542"/>
                  </a:lnTo>
                  <a:lnTo>
                    <a:pt x="339" y="535"/>
                  </a:lnTo>
                  <a:lnTo>
                    <a:pt x="335" y="526"/>
                  </a:lnTo>
                  <a:lnTo>
                    <a:pt x="330" y="517"/>
                  </a:lnTo>
                  <a:lnTo>
                    <a:pt x="324" y="509"/>
                  </a:lnTo>
                  <a:lnTo>
                    <a:pt x="318" y="500"/>
                  </a:lnTo>
                  <a:lnTo>
                    <a:pt x="309" y="493"/>
                  </a:lnTo>
                  <a:lnTo>
                    <a:pt x="299" y="487"/>
                  </a:lnTo>
                  <a:lnTo>
                    <a:pt x="289" y="481"/>
                  </a:lnTo>
                  <a:lnTo>
                    <a:pt x="279" y="475"/>
                  </a:lnTo>
                  <a:lnTo>
                    <a:pt x="269" y="469"/>
                  </a:lnTo>
                  <a:lnTo>
                    <a:pt x="258" y="463"/>
                  </a:lnTo>
                  <a:lnTo>
                    <a:pt x="249" y="458"/>
                  </a:lnTo>
                  <a:lnTo>
                    <a:pt x="237" y="452"/>
                  </a:lnTo>
                  <a:lnTo>
                    <a:pt x="226" y="447"/>
                  </a:lnTo>
                  <a:lnTo>
                    <a:pt x="215" y="443"/>
                  </a:lnTo>
                  <a:lnTo>
                    <a:pt x="204" y="439"/>
                  </a:lnTo>
                  <a:lnTo>
                    <a:pt x="194" y="432"/>
                  </a:lnTo>
                  <a:lnTo>
                    <a:pt x="191" y="425"/>
                  </a:lnTo>
                  <a:lnTo>
                    <a:pt x="198" y="418"/>
                  </a:lnTo>
                  <a:lnTo>
                    <a:pt x="207" y="410"/>
                  </a:lnTo>
                  <a:lnTo>
                    <a:pt x="216" y="403"/>
                  </a:lnTo>
                  <a:lnTo>
                    <a:pt x="225" y="395"/>
                  </a:lnTo>
                  <a:lnTo>
                    <a:pt x="230" y="387"/>
                  </a:lnTo>
                  <a:lnTo>
                    <a:pt x="236" y="379"/>
                  </a:lnTo>
                  <a:lnTo>
                    <a:pt x="242" y="370"/>
                  </a:lnTo>
                  <a:lnTo>
                    <a:pt x="247" y="362"/>
                  </a:lnTo>
                  <a:lnTo>
                    <a:pt x="254" y="354"/>
                  </a:lnTo>
                  <a:lnTo>
                    <a:pt x="262" y="347"/>
                  </a:lnTo>
                  <a:lnTo>
                    <a:pt x="271" y="340"/>
                  </a:lnTo>
                  <a:lnTo>
                    <a:pt x="274" y="332"/>
                  </a:lnTo>
                  <a:lnTo>
                    <a:pt x="262" y="326"/>
                  </a:lnTo>
                  <a:lnTo>
                    <a:pt x="251" y="321"/>
                  </a:lnTo>
                  <a:lnTo>
                    <a:pt x="244" y="327"/>
                  </a:lnTo>
                  <a:lnTo>
                    <a:pt x="236" y="335"/>
                  </a:lnTo>
                  <a:lnTo>
                    <a:pt x="229" y="341"/>
                  </a:lnTo>
                  <a:lnTo>
                    <a:pt x="219" y="335"/>
                  </a:lnTo>
                  <a:lnTo>
                    <a:pt x="208" y="329"/>
                  </a:lnTo>
                  <a:lnTo>
                    <a:pt x="200" y="331"/>
                  </a:lnTo>
                  <a:lnTo>
                    <a:pt x="190" y="335"/>
                  </a:lnTo>
                  <a:lnTo>
                    <a:pt x="181" y="335"/>
                  </a:lnTo>
                  <a:lnTo>
                    <a:pt x="172" y="328"/>
                  </a:lnTo>
                  <a:lnTo>
                    <a:pt x="163" y="324"/>
                  </a:lnTo>
                  <a:lnTo>
                    <a:pt x="158" y="333"/>
                  </a:lnTo>
                  <a:lnTo>
                    <a:pt x="149" y="339"/>
                  </a:lnTo>
                  <a:lnTo>
                    <a:pt x="137" y="343"/>
                  </a:lnTo>
                  <a:lnTo>
                    <a:pt x="130" y="350"/>
                  </a:lnTo>
                  <a:lnTo>
                    <a:pt x="123" y="358"/>
                  </a:lnTo>
                  <a:lnTo>
                    <a:pt x="114" y="365"/>
                  </a:lnTo>
                  <a:lnTo>
                    <a:pt x="102" y="368"/>
                  </a:lnTo>
                  <a:lnTo>
                    <a:pt x="93" y="362"/>
                  </a:lnTo>
                  <a:lnTo>
                    <a:pt x="85" y="354"/>
                  </a:lnTo>
                  <a:lnTo>
                    <a:pt x="77" y="347"/>
                  </a:lnTo>
                  <a:lnTo>
                    <a:pt x="70" y="339"/>
                  </a:lnTo>
                  <a:lnTo>
                    <a:pt x="60" y="332"/>
                  </a:lnTo>
                  <a:lnTo>
                    <a:pt x="49" y="328"/>
                  </a:lnTo>
                  <a:lnTo>
                    <a:pt x="37" y="323"/>
                  </a:lnTo>
                  <a:lnTo>
                    <a:pt x="26" y="318"/>
                  </a:lnTo>
                  <a:lnTo>
                    <a:pt x="16" y="312"/>
                  </a:lnTo>
                  <a:lnTo>
                    <a:pt x="4" y="307"/>
                  </a:lnTo>
                  <a:lnTo>
                    <a:pt x="7" y="298"/>
                  </a:lnTo>
                  <a:lnTo>
                    <a:pt x="12" y="289"/>
                  </a:lnTo>
                  <a:lnTo>
                    <a:pt x="15" y="281"/>
                  </a:lnTo>
                  <a:lnTo>
                    <a:pt x="2" y="277"/>
                  </a:lnTo>
                  <a:lnTo>
                    <a:pt x="0" y="272"/>
                  </a:lnTo>
                  <a:lnTo>
                    <a:pt x="7" y="263"/>
                  </a:lnTo>
                  <a:lnTo>
                    <a:pt x="11" y="254"/>
                  </a:lnTo>
                  <a:lnTo>
                    <a:pt x="15" y="246"/>
                  </a:lnTo>
                  <a:lnTo>
                    <a:pt x="21" y="237"/>
                  </a:lnTo>
                  <a:lnTo>
                    <a:pt x="25" y="228"/>
                  </a:lnTo>
                  <a:lnTo>
                    <a:pt x="29" y="220"/>
                  </a:lnTo>
                  <a:lnTo>
                    <a:pt x="42" y="215"/>
                  </a:lnTo>
                  <a:lnTo>
                    <a:pt x="54" y="214"/>
                  </a:lnTo>
                  <a:lnTo>
                    <a:pt x="67" y="216"/>
                  </a:lnTo>
                  <a:lnTo>
                    <a:pt x="78" y="220"/>
                  </a:lnTo>
                  <a:lnTo>
                    <a:pt x="89" y="225"/>
                  </a:lnTo>
                  <a:lnTo>
                    <a:pt x="100" y="230"/>
                  </a:lnTo>
                  <a:lnTo>
                    <a:pt x="107" y="224"/>
                  </a:lnTo>
                  <a:lnTo>
                    <a:pt x="106" y="214"/>
                  </a:lnTo>
                  <a:lnTo>
                    <a:pt x="105" y="205"/>
                  </a:lnTo>
                  <a:lnTo>
                    <a:pt x="103" y="196"/>
                  </a:lnTo>
                  <a:lnTo>
                    <a:pt x="102" y="186"/>
                  </a:lnTo>
                  <a:lnTo>
                    <a:pt x="106" y="179"/>
                  </a:lnTo>
                  <a:lnTo>
                    <a:pt x="119" y="174"/>
                  </a:lnTo>
                  <a:lnTo>
                    <a:pt x="130" y="170"/>
                  </a:lnTo>
                  <a:lnTo>
                    <a:pt x="142" y="167"/>
                  </a:lnTo>
                  <a:lnTo>
                    <a:pt x="153" y="163"/>
                  </a:lnTo>
                  <a:lnTo>
                    <a:pt x="166" y="159"/>
                  </a:lnTo>
                  <a:lnTo>
                    <a:pt x="174" y="154"/>
                  </a:lnTo>
                  <a:lnTo>
                    <a:pt x="190" y="154"/>
                  </a:lnTo>
                  <a:lnTo>
                    <a:pt x="190" y="150"/>
                  </a:lnTo>
                  <a:lnTo>
                    <a:pt x="204" y="148"/>
                  </a:lnTo>
                  <a:lnTo>
                    <a:pt x="212" y="152"/>
                  </a:lnTo>
                  <a:lnTo>
                    <a:pt x="222" y="158"/>
                  </a:lnTo>
                  <a:lnTo>
                    <a:pt x="235" y="162"/>
                  </a:lnTo>
                  <a:lnTo>
                    <a:pt x="246" y="166"/>
                  </a:lnTo>
                  <a:lnTo>
                    <a:pt x="257" y="172"/>
                  </a:lnTo>
                  <a:lnTo>
                    <a:pt x="267" y="177"/>
                  </a:lnTo>
                  <a:lnTo>
                    <a:pt x="278" y="182"/>
                  </a:lnTo>
                  <a:lnTo>
                    <a:pt x="289" y="187"/>
                  </a:lnTo>
                  <a:lnTo>
                    <a:pt x="300" y="191"/>
                  </a:lnTo>
                  <a:lnTo>
                    <a:pt x="311" y="197"/>
                  </a:lnTo>
                  <a:lnTo>
                    <a:pt x="321" y="203"/>
                  </a:lnTo>
                  <a:lnTo>
                    <a:pt x="331" y="206"/>
                  </a:lnTo>
                  <a:lnTo>
                    <a:pt x="338" y="198"/>
                  </a:lnTo>
                  <a:lnTo>
                    <a:pt x="345" y="190"/>
                  </a:lnTo>
                  <a:lnTo>
                    <a:pt x="356" y="185"/>
                  </a:lnTo>
                  <a:lnTo>
                    <a:pt x="363" y="177"/>
                  </a:lnTo>
                  <a:lnTo>
                    <a:pt x="369" y="169"/>
                  </a:lnTo>
                  <a:lnTo>
                    <a:pt x="373" y="160"/>
                  </a:lnTo>
                  <a:lnTo>
                    <a:pt x="377" y="151"/>
                  </a:lnTo>
                  <a:lnTo>
                    <a:pt x="388" y="145"/>
                  </a:lnTo>
                  <a:lnTo>
                    <a:pt x="398" y="140"/>
                  </a:lnTo>
                  <a:lnTo>
                    <a:pt x="409" y="135"/>
                  </a:lnTo>
                  <a:lnTo>
                    <a:pt x="422" y="131"/>
                  </a:lnTo>
                  <a:lnTo>
                    <a:pt x="430" y="127"/>
                  </a:lnTo>
                  <a:lnTo>
                    <a:pt x="426" y="117"/>
                  </a:lnTo>
                  <a:lnTo>
                    <a:pt x="427" y="101"/>
                  </a:lnTo>
                  <a:lnTo>
                    <a:pt x="427" y="92"/>
                  </a:lnTo>
                  <a:lnTo>
                    <a:pt x="429" y="82"/>
                  </a:lnTo>
                  <a:lnTo>
                    <a:pt x="432" y="73"/>
                  </a:lnTo>
                  <a:lnTo>
                    <a:pt x="432" y="64"/>
                  </a:lnTo>
                  <a:lnTo>
                    <a:pt x="436" y="55"/>
                  </a:lnTo>
                  <a:lnTo>
                    <a:pt x="441" y="51"/>
                  </a:lnTo>
                  <a:lnTo>
                    <a:pt x="451" y="56"/>
                  </a:lnTo>
                  <a:lnTo>
                    <a:pt x="458" y="64"/>
                  </a:lnTo>
                  <a:lnTo>
                    <a:pt x="469" y="68"/>
                  </a:lnTo>
                  <a:lnTo>
                    <a:pt x="482" y="71"/>
                  </a:lnTo>
                  <a:lnTo>
                    <a:pt x="492" y="77"/>
                  </a:lnTo>
                  <a:lnTo>
                    <a:pt x="504" y="79"/>
                  </a:lnTo>
                  <a:lnTo>
                    <a:pt x="517" y="76"/>
                  </a:lnTo>
                  <a:lnTo>
                    <a:pt x="528" y="72"/>
                  </a:lnTo>
                  <a:lnTo>
                    <a:pt x="539" y="67"/>
                  </a:lnTo>
                  <a:lnTo>
                    <a:pt x="552" y="63"/>
                  </a:lnTo>
                  <a:lnTo>
                    <a:pt x="564" y="60"/>
                  </a:lnTo>
                  <a:lnTo>
                    <a:pt x="577" y="58"/>
                  </a:lnTo>
                  <a:lnTo>
                    <a:pt x="590" y="56"/>
                  </a:lnTo>
                  <a:lnTo>
                    <a:pt x="602" y="53"/>
                  </a:lnTo>
                  <a:lnTo>
                    <a:pt x="611" y="46"/>
                  </a:lnTo>
                  <a:lnTo>
                    <a:pt x="616" y="36"/>
                  </a:lnTo>
                  <a:lnTo>
                    <a:pt x="623" y="32"/>
                  </a:lnTo>
                  <a:lnTo>
                    <a:pt x="639" y="45"/>
                  </a:lnTo>
                  <a:lnTo>
                    <a:pt x="653" y="41"/>
                  </a:lnTo>
                  <a:lnTo>
                    <a:pt x="665" y="38"/>
                  </a:lnTo>
                  <a:lnTo>
                    <a:pt x="673" y="46"/>
                  </a:lnTo>
                  <a:lnTo>
                    <a:pt x="682" y="53"/>
                  </a:lnTo>
                  <a:lnTo>
                    <a:pt x="685" y="61"/>
                  </a:lnTo>
                  <a:lnTo>
                    <a:pt x="683" y="73"/>
                  </a:lnTo>
                  <a:lnTo>
                    <a:pt x="685" y="82"/>
                  </a:lnTo>
                  <a:lnTo>
                    <a:pt x="686" y="92"/>
                  </a:lnTo>
                  <a:lnTo>
                    <a:pt x="687" y="101"/>
                  </a:lnTo>
                  <a:lnTo>
                    <a:pt x="690" y="110"/>
                  </a:lnTo>
                  <a:lnTo>
                    <a:pt x="690" y="119"/>
                  </a:lnTo>
                  <a:lnTo>
                    <a:pt x="693" y="129"/>
                  </a:lnTo>
                  <a:lnTo>
                    <a:pt x="696" y="138"/>
                  </a:lnTo>
                  <a:lnTo>
                    <a:pt x="701" y="146"/>
                  </a:lnTo>
                  <a:lnTo>
                    <a:pt x="711" y="152"/>
                  </a:lnTo>
                  <a:lnTo>
                    <a:pt x="720" y="160"/>
                  </a:lnTo>
                  <a:lnTo>
                    <a:pt x="715" y="169"/>
                  </a:lnTo>
                  <a:lnTo>
                    <a:pt x="710" y="177"/>
                  </a:lnTo>
                  <a:lnTo>
                    <a:pt x="703" y="185"/>
                  </a:lnTo>
                  <a:lnTo>
                    <a:pt x="696" y="193"/>
                  </a:lnTo>
                  <a:lnTo>
                    <a:pt x="694" y="201"/>
                  </a:lnTo>
                  <a:lnTo>
                    <a:pt x="701" y="208"/>
                  </a:lnTo>
                  <a:lnTo>
                    <a:pt x="710" y="215"/>
                  </a:lnTo>
                  <a:lnTo>
                    <a:pt x="718" y="222"/>
                  </a:lnTo>
                  <a:lnTo>
                    <a:pt x="722" y="231"/>
                  </a:lnTo>
                  <a:lnTo>
                    <a:pt x="729" y="238"/>
                  </a:lnTo>
                  <a:lnTo>
                    <a:pt x="743" y="239"/>
                  </a:lnTo>
                  <a:lnTo>
                    <a:pt x="755" y="243"/>
                  </a:lnTo>
                  <a:lnTo>
                    <a:pt x="764" y="249"/>
                  </a:lnTo>
                  <a:lnTo>
                    <a:pt x="774" y="253"/>
                  </a:lnTo>
                  <a:lnTo>
                    <a:pt x="785" y="254"/>
                  </a:lnTo>
                  <a:lnTo>
                    <a:pt x="798" y="258"/>
                  </a:lnTo>
                  <a:lnTo>
                    <a:pt x="809" y="262"/>
                  </a:lnTo>
                  <a:lnTo>
                    <a:pt x="822" y="266"/>
                  </a:lnTo>
                  <a:lnTo>
                    <a:pt x="834" y="266"/>
                  </a:lnTo>
                  <a:lnTo>
                    <a:pt x="847" y="267"/>
                  </a:lnTo>
                  <a:lnTo>
                    <a:pt x="859" y="269"/>
                  </a:lnTo>
                  <a:lnTo>
                    <a:pt x="872" y="271"/>
                  </a:lnTo>
                  <a:lnTo>
                    <a:pt x="885" y="273"/>
                  </a:lnTo>
                  <a:lnTo>
                    <a:pt x="897" y="275"/>
                  </a:lnTo>
                  <a:lnTo>
                    <a:pt x="908" y="279"/>
                  </a:lnTo>
                  <a:lnTo>
                    <a:pt x="917" y="272"/>
                  </a:lnTo>
                  <a:lnTo>
                    <a:pt x="925" y="265"/>
                  </a:lnTo>
                  <a:lnTo>
                    <a:pt x="939" y="260"/>
                  </a:lnTo>
                  <a:lnTo>
                    <a:pt x="950" y="257"/>
                  </a:lnTo>
                  <a:lnTo>
                    <a:pt x="940" y="253"/>
                  </a:lnTo>
                  <a:lnTo>
                    <a:pt x="928" y="249"/>
                  </a:lnTo>
                  <a:lnTo>
                    <a:pt x="915" y="247"/>
                  </a:lnTo>
                  <a:lnTo>
                    <a:pt x="906" y="242"/>
                  </a:lnTo>
                  <a:lnTo>
                    <a:pt x="900" y="233"/>
                  </a:lnTo>
                  <a:lnTo>
                    <a:pt x="897" y="224"/>
                  </a:lnTo>
                  <a:lnTo>
                    <a:pt x="889" y="219"/>
                  </a:lnTo>
                  <a:lnTo>
                    <a:pt x="880" y="212"/>
                  </a:lnTo>
                  <a:lnTo>
                    <a:pt x="892" y="209"/>
                  </a:lnTo>
                  <a:lnTo>
                    <a:pt x="901" y="205"/>
                  </a:lnTo>
                  <a:lnTo>
                    <a:pt x="911" y="204"/>
                  </a:lnTo>
                  <a:lnTo>
                    <a:pt x="924" y="200"/>
                  </a:lnTo>
                  <a:lnTo>
                    <a:pt x="936" y="197"/>
                  </a:lnTo>
                  <a:lnTo>
                    <a:pt x="947" y="194"/>
                  </a:lnTo>
                  <a:lnTo>
                    <a:pt x="960" y="191"/>
                  </a:lnTo>
                  <a:lnTo>
                    <a:pt x="973" y="189"/>
                  </a:lnTo>
                  <a:lnTo>
                    <a:pt x="985" y="188"/>
                  </a:lnTo>
                  <a:lnTo>
                    <a:pt x="998" y="185"/>
                  </a:lnTo>
                  <a:lnTo>
                    <a:pt x="1009" y="180"/>
                  </a:lnTo>
                  <a:lnTo>
                    <a:pt x="1020" y="176"/>
                  </a:lnTo>
                  <a:lnTo>
                    <a:pt x="1033" y="174"/>
                  </a:lnTo>
                  <a:lnTo>
                    <a:pt x="1047" y="174"/>
                  </a:lnTo>
                  <a:lnTo>
                    <a:pt x="1059" y="174"/>
                  </a:lnTo>
                  <a:lnTo>
                    <a:pt x="1072" y="174"/>
                  </a:lnTo>
                  <a:lnTo>
                    <a:pt x="1086" y="171"/>
                  </a:lnTo>
                  <a:lnTo>
                    <a:pt x="1089" y="176"/>
                  </a:lnTo>
                  <a:lnTo>
                    <a:pt x="1090" y="186"/>
                  </a:lnTo>
                  <a:lnTo>
                    <a:pt x="1096" y="194"/>
                  </a:lnTo>
                  <a:lnTo>
                    <a:pt x="1098" y="203"/>
                  </a:lnTo>
                  <a:lnTo>
                    <a:pt x="1101" y="212"/>
                  </a:lnTo>
                  <a:lnTo>
                    <a:pt x="1104" y="221"/>
                  </a:lnTo>
                  <a:lnTo>
                    <a:pt x="1114" y="225"/>
                  </a:lnTo>
                  <a:lnTo>
                    <a:pt x="1126" y="228"/>
                  </a:lnTo>
                  <a:lnTo>
                    <a:pt x="1126" y="238"/>
                  </a:lnTo>
                  <a:lnTo>
                    <a:pt x="1133" y="245"/>
                  </a:lnTo>
                  <a:lnTo>
                    <a:pt x="1138" y="254"/>
                  </a:lnTo>
                  <a:lnTo>
                    <a:pt x="1136" y="264"/>
                  </a:lnTo>
                  <a:lnTo>
                    <a:pt x="1146" y="267"/>
                  </a:lnTo>
                  <a:lnTo>
                    <a:pt x="1157" y="272"/>
                  </a:lnTo>
                  <a:lnTo>
                    <a:pt x="1168" y="276"/>
                  </a:lnTo>
                  <a:lnTo>
                    <a:pt x="1184" y="277"/>
                  </a:lnTo>
                  <a:lnTo>
                    <a:pt x="1191" y="281"/>
                  </a:lnTo>
                  <a:lnTo>
                    <a:pt x="1185" y="291"/>
                  </a:lnTo>
                  <a:lnTo>
                    <a:pt x="1185" y="298"/>
                  </a:lnTo>
                  <a:lnTo>
                    <a:pt x="1199" y="301"/>
                  </a:lnTo>
                  <a:lnTo>
                    <a:pt x="1212" y="301"/>
                  </a:lnTo>
                  <a:lnTo>
                    <a:pt x="1226" y="303"/>
                  </a:lnTo>
                  <a:lnTo>
                    <a:pt x="1238" y="303"/>
                  </a:lnTo>
                  <a:lnTo>
                    <a:pt x="1249" y="307"/>
                  </a:lnTo>
                  <a:lnTo>
                    <a:pt x="1255" y="315"/>
                  </a:lnTo>
                  <a:lnTo>
                    <a:pt x="1261" y="324"/>
                  </a:lnTo>
                  <a:lnTo>
                    <a:pt x="1266" y="332"/>
                  </a:lnTo>
                  <a:lnTo>
                    <a:pt x="1272" y="341"/>
                  </a:lnTo>
                  <a:lnTo>
                    <a:pt x="1275" y="350"/>
                  </a:lnTo>
                  <a:lnTo>
                    <a:pt x="1277" y="359"/>
                  </a:lnTo>
                  <a:lnTo>
                    <a:pt x="1279" y="368"/>
                  </a:lnTo>
                  <a:lnTo>
                    <a:pt x="1275" y="377"/>
                  </a:lnTo>
                  <a:lnTo>
                    <a:pt x="1270" y="386"/>
                  </a:lnTo>
                  <a:lnTo>
                    <a:pt x="1263" y="394"/>
                  </a:lnTo>
                  <a:lnTo>
                    <a:pt x="1258" y="403"/>
                  </a:lnTo>
                  <a:lnTo>
                    <a:pt x="1259" y="411"/>
                  </a:lnTo>
                  <a:lnTo>
                    <a:pt x="1251" y="417"/>
                  </a:lnTo>
                  <a:lnTo>
                    <a:pt x="1255" y="426"/>
                  </a:lnTo>
                  <a:lnTo>
                    <a:pt x="1263" y="433"/>
                  </a:lnTo>
                  <a:lnTo>
                    <a:pt x="1272" y="441"/>
                  </a:lnTo>
                  <a:lnTo>
                    <a:pt x="1275" y="448"/>
                  </a:lnTo>
                  <a:lnTo>
                    <a:pt x="1283" y="453"/>
                  </a:lnTo>
                  <a:lnTo>
                    <a:pt x="1290" y="459"/>
                  </a:lnTo>
                  <a:lnTo>
                    <a:pt x="1298" y="466"/>
                  </a:lnTo>
                  <a:lnTo>
                    <a:pt x="1307" y="474"/>
                  </a:lnTo>
                  <a:lnTo>
                    <a:pt x="1315" y="481"/>
                  </a:lnTo>
                  <a:lnTo>
                    <a:pt x="1324" y="488"/>
                  </a:lnTo>
                  <a:lnTo>
                    <a:pt x="1333" y="495"/>
                  </a:lnTo>
                  <a:lnTo>
                    <a:pt x="1342" y="502"/>
                  </a:lnTo>
                  <a:lnTo>
                    <a:pt x="1342" y="511"/>
                  </a:lnTo>
                  <a:lnTo>
                    <a:pt x="1353" y="515"/>
                  </a:lnTo>
                  <a:lnTo>
                    <a:pt x="1367" y="516"/>
                  </a:lnTo>
                  <a:lnTo>
                    <a:pt x="1379" y="519"/>
                  </a:lnTo>
                  <a:lnTo>
                    <a:pt x="1392" y="519"/>
                  </a:lnTo>
                  <a:lnTo>
                    <a:pt x="1405" y="516"/>
                  </a:lnTo>
                  <a:lnTo>
                    <a:pt x="1417" y="513"/>
                  </a:lnTo>
                  <a:lnTo>
                    <a:pt x="1428" y="508"/>
                  </a:lnTo>
                  <a:lnTo>
                    <a:pt x="1430" y="501"/>
                  </a:lnTo>
                  <a:lnTo>
                    <a:pt x="1438" y="507"/>
                  </a:lnTo>
                  <a:lnTo>
                    <a:pt x="1440" y="516"/>
                  </a:lnTo>
                  <a:lnTo>
                    <a:pt x="1438" y="525"/>
                  </a:lnTo>
                  <a:lnTo>
                    <a:pt x="1430" y="531"/>
                  </a:lnTo>
                  <a:lnTo>
                    <a:pt x="1435" y="539"/>
                  </a:lnTo>
                  <a:lnTo>
                    <a:pt x="1431" y="548"/>
                  </a:lnTo>
                  <a:lnTo>
                    <a:pt x="1444" y="553"/>
                  </a:lnTo>
                  <a:lnTo>
                    <a:pt x="1455" y="556"/>
                  </a:lnTo>
                  <a:lnTo>
                    <a:pt x="1469" y="557"/>
                  </a:lnTo>
                  <a:lnTo>
                    <a:pt x="1481" y="555"/>
                  </a:lnTo>
                  <a:lnTo>
                    <a:pt x="1494" y="553"/>
                  </a:lnTo>
                  <a:lnTo>
                    <a:pt x="1507" y="552"/>
                  </a:lnTo>
                  <a:lnTo>
                    <a:pt x="1519" y="549"/>
                  </a:lnTo>
                  <a:lnTo>
                    <a:pt x="1530" y="544"/>
                  </a:lnTo>
                  <a:lnTo>
                    <a:pt x="1540" y="538"/>
                  </a:lnTo>
                  <a:lnTo>
                    <a:pt x="1549" y="531"/>
                  </a:lnTo>
                  <a:lnTo>
                    <a:pt x="1558" y="525"/>
                  </a:lnTo>
                  <a:lnTo>
                    <a:pt x="1567" y="517"/>
                  </a:lnTo>
                  <a:lnTo>
                    <a:pt x="1567" y="508"/>
                  </a:lnTo>
                  <a:lnTo>
                    <a:pt x="1567" y="498"/>
                  </a:lnTo>
                  <a:lnTo>
                    <a:pt x="1571" y="489"/>
                  </a:lnTo>
                  <a:lnTo>
                    <a:pt x="1579" y="482"/>
                  </a:lnTo>
                  <a:lnTo>
                    <a:pt x="1589" y="476"/>
                  </a:lnTo>
                  <a:lnTo>
                    <a:pt x="1599" y="470"/>
                  </a:lnTo>
                  <a:lnTo>
                    <a:pt x="1607" y="463"/>
                  </a:lnTo>
                  <a:lnTo>
                    <a:pt x="1620" y="462"/>
                  </a:lnTo>
                  <a:lnTo>
                    <a:pt x="1632" y="465"/>
                  </a:lnTo>
                  <a:lnTo>
                    <a:pt x="1645" y="466"/>
                  </a:lnTo>
                  <a:lnTo>
                    <a:pt x="1658" y="462"/>
                  </a:lnTo>
                  <a:lnTo>
                    <a:pt x="1669" y="458"/>
                  </a:lnTo>
                  <a:lnTo>
                    <a:pt x="1680" y="452"/>
                  </a:lnTo>
                  <a:lnTo>
                    <a:pt x="1687" y="445"/>
                  </a:lnTo>
                  <a:lnTo>
                    <a:pt x="1693" y="436"/>
                  </a:lnTo>
                  <a:lnTo>
                    <a:pt x="1698" y="428"/>
                  </a:lnTo>
                  <a:lnTo>
                    <a:pt x="1698" y="418"/>
                  </a:lnTo>
                  <a:lnTo>
                    <a:pt x="1697" y="409"/>
                  </a:lnTo>
                  <a:lnTo>
                    <a:pt x="1700" y="400"/>
                  </a:lnTo>
                  <a:lnTo>
                    <a:pt x="1705" y="392"/>
                  </a:lnTo>
                  <a:lnTo>
                    <a:pt x="1715" y="386"/>
                  </a:lnTo>
                  <a:lnTo>
                    <a:pt x="1728" y="384"/>
                  </a:lnTo>
                  <a:lnTo>
                    <a:pt x="1740" y="380"/>
                  </a:lnTo>
                  <a:lnTo>
                    <a:pt x="1751" y="376"/>
                  </a:lnTo>
                  <a:lnTo>
                    <a:pt x="1764" y="373"/>
                  </a:lnTo>
                  <a:lnTo>
                    <a:pt x="1776" y="370"/>
                  </a:lnTo>
                  <a:lnTo>
                    <a:pt x="1789" y="367"/>
                  </a:lnTo>
                  <a:lnTo>
                    <a:pt x="1800" y="363"/>
                  </a:lnTo>
                  <a:lnTo>
                    <a:pt x="1813" y="359"/>
                  </a:lnTo>
                  <a:lnTo>
                    <a:pt x="1824" y="355"/>
                  </a:lnTo>
                  <a:lnTo>
                    <a:pt x="1830" y="346"/>
                  </a:lnTo>
                  <a:lnTo>
                    <a:pt x="1835" y="338"/>
                  </a:lnTo>
                  <a:lnTo>
                    <a:pt x="1844" y="331"/>
                  </a:lnTo>
                  <a:lnTo>
                    <a:pt x="1855" y="326"/>
                  </a:lnTo>
                  <a:lnTo>
                    <a:pt x="1866" y="321"/>
                  </a:lnTo>
                  <a:lnTo>
                    <a:pt x="1873" y="313"/>
                  </a:lnTo>
                  <a:lnTo>
                    <a:pt x="1890" y="314"/>
                  </a:lnTo>
                  <a:lnTo>
                    <a:pt x="1902" y="307"/>
                  </a:lnTo>
                  <a:lnTo>
                    <a:pt x="1915" y="304"/>
                  </a:lnTo>
                  <a:lnTo>
                    <a:pt x="1927" y="300"/>
                  </a:lnTo>
                  <a:lnTo>
                    <a:pt x="1939" y="297"/>
                  </a:lnTo>
                  <a:lnTo>
                    <a:pt x="1950" y="292"/>
                  </a:lnTo>
                  <a:lnTo>
                    <a:pt x="1960" y="285"/>
                  </a:lnTo>
                  <a:lnTo>
                    <a:pt x="1971" y="281"/>
                  </a:lnTo>
                  <a:lnTo>
                    <a:pt x="1982" y="277"/>
                  </a:lnTo>
                  <a:lnTo>
                    <a:pt x="1992" y="271"/>
                  </a:lnTo>
                  <a:lnTo>
                    <a:pt x="1995" y="262"/>
                  </a:lnTo>
                  <a:lnTo>
                    <a:pt x="1993" y="253"/>
                  </a:lnTo>
                  <a:lnTo>
                    <a:pt x="1988" y="245"/>
                  </a:lnTo>
                  <a:lnTo>
                    <a:pt x="1989" y="238"/>
                  </a:lnTo>
                  <a:lnTo>
                    <a:pt x="2002" y="240"/>
                  </a:lnTo>
                  <a:lnTo>
                    <a:pt x="2014" y="241"/>
                  </a:lnTo>
                  <a:lnTo>
                    <a:pt x="2027" y="240"/>
                  </a:lnTo>
                  <a:lnTo>
                    <a:pt x="2039" y="237"/>
                  </a:lnTo>
                  <a:lnTo>
                    <a:pt x="2050" y="233"/>
                  </a:lnTo>
                  <a:lnTo>
                    <a:pt x="2060" y="227"/>
                  </a:lnTo>
                  <a:lnTo>
                    <a:pt x="2069" y="220"/>
                  </a:lnTo>
                  <a:lnTo>
                    <a:pt x="2071" y="211"/>
                  </a:lnTo>
                  <a:lnTo>
                    <a:pt x="2071" y="201"/>
                  </a:lnTo>
                  <a:lnTo>
                    <a:pt x="2063" y="196"/>
                  </a:lnTo>
                  <a:lnTo>
                    <a:pt x="2050" y="192"/>
                  </a:lnTo>
                  <a:lnTo>
                    <a:pt x="2048" y="184"/>
                  </a:lnTo>
                  <a:lnTo>
                    <a:pt x="2050" y="175"/>
                  </a:lnTo>
                  <a:lnTo>
                    <a:pt x="2060" y="168"/>
                  </a:lnTo>
                  <a:lnTo>
                    <a:pt x="2071" y="165"/>
                  </a:lnTo>
                  <a:lnTo>
                    <a:pt x="2084" y="161"/>
                  </a:lnTo>
                  <a:lnTo>
                    <a:pt x="2085" y="153"/>
                  </a:lnTo>
                  <a:lnTo>
                    <a:pt x="2087" y="144"/>
                  </a:lnTo>
                  <a:lnTo>
                    <a:pt x="2092" y="136"/>
                  </a:lnTo>
                  <a:lnTo>
                    <a:pt x="2088" y="127"/>
                  </a:lnTo>
                  <a:lnTo>
                    <a:pt x="2083" y="119"/>
                  </a:lnTo>
                  <a:lnTo>
                    <a:pt x="2081" y="110"/>
                  </a:lnTo>
                  <a:lnTo>
                    <a:pt x="2085" y="101"/>
                  </a:lnTo>
                  <a:lnTo>
                    <a:pt x="2099" y="94"/>
                  </a:lnTo>
                  <a:lnTo>
                    <a:pt x="2109" y="88"/>
                  </a:lnTo>
                  <a:lnTo>
                    <a:pt x="2122" y="86"/>
                  </a:lnTo>
                  <a:lnTo>
                    <a:pt x="2134" y="88"/>
                  </a:lnTo>
                  <a:lnTo>
                    <a:pt x="2147" y="90"/>
                  </a:lnTo>
                  <a:lnTo>
                    <a:pt x="2159" y="90"/>
                  </a:lnTo>
                  <a:lnTo>
                    <a:pt x="2171" y="84"/>
                  </a:lnTo>
                  <a:lnTo>
                    <a:pt x="2176" y="76"/>
                  </a:lnTo>
                  <a:lnTo>
                    <a:pt x="2183" y="69"/>
                  </a:lnTo>
                  <a:lnTo>
                    <a:pt x="2190" y="6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11280" y="2536920"/>
              <a:ext cx="1114560" cy="799920"/>
            </a:xfrm>
            <a:custGeom>
              <a:avLst/>
              <a:gdLst/>
              <a:ahLst/>
              <a:rect l="l" t="t" r="r" b="b"/>
              <a:pathLst>
                <a:path w="2107" h="1007">
                  <a:moveTo>
                    <a:pt x="1343" y="120"/>
                  </a:moveTo>
                  <a:lnTo>
                    <a:pt x="1367" y="117"/>
                  </a:lnTo>
                  <a:lnTo>
                    <a:pt x="1380" y="117"/>
                  </a:lnTo>
                  <a:lnTo>
                    <a:pt x="1394" y="119"/>
                  </a:lnTo>
                  <a:lnTo>
                    <a:pt x="1406" y="121"/>
                  </a:lnTo>
                  <a:lnTo>
                    <a:pt x="1419" y="123"/>
                  </a:lnTo>
                  <a:lnTo>
                    <a:pt x="1431" y="125"/>
                  </a:lnTo>
                  <a:lnTo>
                    <a:pt x="1443" y="129"/>
                  </a:lnTo>
                  <a:lnTo>
                    <a:pt x="1455" y="132"/>
                  </a:lnTo>
                  <a:lnTo>
                    <a:pt x="1468" y="134"/>
                  </a:lnTo>
                  <a:lnTo>
                    <a:pt x="1482" y="134"/>
                  </a:lnTo>
                  <a:lnTo>
                    <a:pt x="1494" y="133"/>
                  </a:lnTo>
                  <a:lnTo>
                    <a:pt x="1507" y="132"/>
                  </a:lnTo>
                  <a:lnTo>
                    <a:pt x="1521" y="132"/>
                  </a:lnTo>
                  <a:lnTo>
                    <a:pt x="1533" y="131"/>
                  </a:lnTo>
                  <a:lnTo>
                    <a:pt x="1546" y="129"/>
                  </a:lnTo>
                  <a:lnTo>
                    <a:pt x="1559" y="126"/>
                  </a:lnTo>
                  <a:lnTo>
                    <a:pt x="1571" y="123"/>
                  </a:lnTo>
                  <a:lnTo>
                    <a:pt x="1582" y="119"/>
                  </a:lnTo>
                  <a:lnTo>
                    <a:pt x="1595" y="117"/>
                  </a:lnTo>
                  <a:lnTo>
                    <a:pt x="1607" y="113"/>
                  </a:lnTo>
                  <a:lnTo>
                    <a:pt x="1617" y="108"/>
                  </a:lnTo>
                  <a:lnTo>
                    <a:pt x="1627" y="102"/>
                  </a:lnTo>
                  <a:lnTo>
                    <a:pt x="1638" y="96"/>
                  </a:lnTo>
                  <a:lnTo>
                    <a:pt x="1647" y="89"/>
                  </a:lnTo>
                  <a:lnTo>
                    <a:pt x="1658" y="83"/>
                  </a:lnTo>
                  <a:lnTo>
                    <a:pt x="1669" y="81"/>
                  </a:lnTo>
                  <a:lnTo>
                    <a:pt x="1680" y="76"/>
                  </a:lnTo>
                  <a:lnTo>
                    <a:pt x="1690" y="69"/>
                  </a:lnTo>
                  <a:lnTo>
                    <a:pt x="1696" y="61"/>
                  </a:lnTo>
                  <a:lnTo>
                    <a:pt x="1697" y="52"/>
                  </a:lnTo>
                  <a:lnTo>
                    <a:pt x="1698" y="42"/>
                  </a:lnTo>
                  <a:lnTo>
                    <a:pt x="1701" y="33"/>
                  </a:lnTo>
                  <a:lnTo>
                    <a:pt x="1708" y="25"/>
                  </a:lnTo>
                  <a:lnTo>
                    <a:pt x="1717" y="19"/>
                  </a:lnTo>
                  <a:lnTo>
                    <a:pt x="1729" y="16"/>
                  </a:lnTo>
                  <a:lnTo>
                    <a:pt x="1742" y="14"/>
                  </a:lnTo>
                  <a:lnTo>
                    <a:pt x="1756" y="13"/>
                  </a:lnTo>
                  <a:lnTo>
                    <a:pt x="1768" y="12"/>
                  </a:lnTo>
                  <a:lnTo>
                    <a:pt x="1778" y="7"/>
                  </a:lnTo>
                  <a:lnTo>
                    <a:pt x="1791" y="3"/>
                  </a:lnTo>
                  <a:lnTo>
                    <a:pt x="1803" y="1"/>
                  </a:lnTo>
                  <a:lnTo>
                    <a:pt x="1816" y="0"/>
                  </a:lnTo>
                  <a:lnTo>
                    <a:pt x="1830" y="0"/>
                  </a:lnTo>
                  <a:lnTo>
                    <a:pt x="1842" y="2"/>
                  </a:lnTo>
                  <a:lnTo>
                    <a:pt x="1854" y="5"/>
                  </a:lnTo>
                  <a:lnTo>
                    <a:pt x="1866" y="9"/>
                  </a:lnTo>
                  <a:lnTo>
                    <a:pt x="1879" y="9"/>
                  </a:lnTo>
                  <a:lnTo>
                    <a:pt x="1891" y="9"/>
                  </a:lnTo>
                  <a:lnTo>
                    <a:pt x="1904" y="12"/>
                  </a:lnTo>
                  <a:lnTo>
                    <a:pt x="1916" y="14"/>
                  </a:lnTo>
                  <a:lnTo>
                    <a:pt x="1928" y="13"/>
                  </a:lnTo>
                  <a:lnTo>
                    <a:pt x="1943" y="18"/>
                  </a:lnTo>
                  <a:lnTo>
                    <a:pt x="1956" y="20"/>
                  </a:lnTo>
                  <a:lnTo>
                    <a:pt x="1970" y="21"/>
                  </a:lnTo>
                  <a:lnTo>
                    <a:pt x="1982" y="23"/>
                  </a:lnTo>
                  <a:lnTo>
                    <a:pt x="1995" y="26"/>
                  </a:lnTo>
                  <a:lnTo>
                    <a:pt x="2006" y="29"/>
                  </a:lnTo>
                  <a:lnTo>
                    <a:pt x="2018" y="33"/>
                  </a:lnTo>
                  <a:lnTo>
                    <a:pt x="2030" y="38"/>
                  </a:lnTo>
                  <a:lnTo>
                    <a:pt x="2035" y="46"/>
                  </a:lnTo>
                  <a:lnTo>
                    <a:pt x="2038" y="55"/>
                  </a:lnTo>
                  <a:lnTo>
                    <a:pt x="2039" y="65"/>
                  </a:lnTo>
                  <a:lnTo>
                    <a:pt x="2041" y="74"/>
                  </a:lnTo>
                  <a:lnTo>
                    <a:pt x="2044" y="83"/>
                  </a:lnTo>
                  <a:lnTo>
                    <a:pt x="2045" y="92"/>
                  </a:lnTo>
                  <a:lnTo>
                    <a:pt x="2048" y="102"/>
                  </a:lnTo>
                  <a:lnTo>
                    <a:pt x="2053" y="110"/>
                  </a:lnTo>
                  <a:lnTo>
                    <a:pt x="2065" y="115"/>
                  </a:lnTo>
                  <a:lnTo>
                    <a:pt x="2077" y="119"/>
                  </a:lnTo>
                  <a:lnTo>
                    <a:pt x="2079" y="125"/>
                  </a:lnTo>
                  <a:lnTo>
                    <a:pt x="2076" y="134"/>
                  </a:lnTo>
                  <a:lnTo>
                    <a:pt x="2072" y="141"/>
                  </a:lnTo>
                  <a:lnTo>
                    <a:pt x="2074" y="150"/>
                  </a:lnTo>
                  <a:lnTo>
                    <a:pt x="2070" y="159"/>
                  </a:lnTo>
                  <a:lnTo>
                    <a:pt x="2067" y="168"/>
                  </a:lnTo>
                  <a:lnTo>
                    <a:pt x="2070" y="177"/>
                  </a:lnTo>
                  <a:lnTo>
                    <a:pt x="2079" y="183"/>
                  </a:lnTo>
                  <a:lnTo>
                    <a:pt x="2088" y="189"/>
                  </a:lnTo>
                  <a:lnTo>
                    <a:pt x="2093" y="197"/>
                  </a:lnTo>
                  <a:lnTo>
                    <a:pt x="2104" y="204"/>
                  </a:lnTo>
                  <a:lnTo>
                    <a:pt x="2107" y="211"/>
                  </a:lnTo>
                  <a:lnTo>
                    <a:pt x="2100" y="219"/>
                  </a:lnTo>
                  <a:lnTo>
                    <a:pt x="2090" y="226"/>
                  </a:lnTo>
                  <a:lnTo>
                    <a:pt x="2079" y="232"/>
                  </a:lnTo>
                  <a:lnTo>
                    <a:pt x="2067" y="234"/>
                  </a:lnTo>
                  <a:lnTo>
                    <a:pt x="2060" y="226"/>
                  </a:lnTo>
                  <a:lnTo>
                    <a:pt x="2049" y="220"/>
                  </a:lnTo>
                  <a:lnTo>
                    <a:pt x="2038" y="215"/>
                  </a:lnTo>
                  <a:lnTo>
                    <a:pt x="2025" y="213"/>
                  </a:lnTo>
                  <a:lnTo>
                    <a:pt x="2014" y="210"/>
                  </a:lnTo>
                  <a:lnTo>
                    <a:pt x="2000" y="212"/>
                  </a:lnTo>
                  <a:lnTo>
                    <a:pt x="1995" y="219"/>
                  </a:lnTo>
                  <a:lnTo>
                    <a:pt x="1986" y="222"/>
                  </a:lnTo>
                  <a:lnTo>
                    <a:pt x="1975" y="219"/>
                  </a:lnTo>
                  <a:lnTo>
                    <a:pt x="1965" y="222"/>
                  </a:lnTo>
                  <a:lnTo>
                    <a:pt x="1954" y="224"/>
                  </a:lnTo>
                  <a:lnTo>
                    <a:pt x="1943" y="224"/>
                  </a:lnTo>
                  <a:lnTo>
                    <a:pt x="1936" y="230"/>
                  </a:lnTo>
                  <a:lnTo>
                    <a:pt x="1939" y="239"/>
                  </a:lnTo>
                  <a:lnTo>
                    <a:pt x="1939" y="249"/>
                  </a:lnTo>
                  <a:lnTo>
                    <a:pt x="1935" y="257"/>
                  </a:lnTo>
                  <a:lnTo>
                    <a:pt x="1942" y="265"/>
                  </a:lnTo>
                  <a:lnTo>
                    <a:pt x="1930" y="270"/>
                  </a:lnTo>
                  <a:lnTo>
                    <a:pt x="1933" y="278"/>
                  </a:lnTo>
                  <a:lnTo>
                    <a:pt x="1937" y="286"/>
                  </a:lnTo>
                  <a:lnTo>
                    <a:pt x="1940" y="294"/>
                  </a:lnTo>
                  <a:lnTo>
                    <a:pt x="1950" y="301"/>
                  </a:lnTo>
                  <a:lnTo>
                    <a:pt x="1953" y="310"/>
                  </a:lnTo>
                  <a:lnTo>
                    <a:pt x="1954" y="319"/>
                  </a:lnTo>
                  <a:lnTo>
                    <a:pt x="1957" y="328"/>
                  </a:lnTo>
                  <a:lnTo>
                    <a:pt x="1956" y="337"/>
                  </a:lnTo>
                  <a:lnTo>
                    <a:pt x="1954" y="346"/>
                  </a:lnTo>
                  <a:lnTo>
                    <a:pt x="1960" y="355"/>
                  </a:lnTo>
                  <a:lnTo>
                    <a:pt x="1950" y="355"/>
                  </a:lnTo>
                  <a:lnTo>
                    <a:pt x="1937" y="352"/>
                  </a:lnTo>
                  <a:lnTo>
                    <a:pt x="1925" y="350"/>
                  </a:lnTo>
                  <a:lnTo>
                    <a:pt x="1912" y="350"/>
                  </a:lnTo>
                  <a:lnTo>
                    <a:pt x="1900" y="352"/>
                  </a:lnTo>
                  <a:lnTo>
                    <a:pt x="1887" y="352"/>
                  </a:lnTo>
                  <a:lnTo>
                    <a:pt x="1874" y="348"/>
                  </a:lnTo>
                  <a:lnTo>
                    <a:pt x="1862" y="345"/>
                  </a:lnTo>
                  <a:lnTo>
                    <a:pt x="1854" y="339"/>
                  </a:lnTo>
                  <a:lnTo>
                    <a:pt x="1841" y="335"/>
                  </a:lnTo>
                  <a:lnTo>
                    <a:pt x="1831" y="329"/>
                  </a:lnTo>
                  <a:lnTo>
                    <a:pt x="1821" y="323"/>
                  </a:lnTo>
                  <a:lnTo>
                    <a:pt x="1809" y="320"/>
                  </a:lnTo>
                  <a:lnTo>
                    <a:pt x="1796" y="319"/>
                  </a:lnTo>
                  <a:lnTo>
                    <a:pt x="1791" y="322"/>
                  </a:lnTo>
                  <a:lnTo>
                    <a:pt x="1792" y="331"/>
                  </a:lnTo>
                  <a:lnTo>
                    <a:pt x="1786" y="338"/>
                  </a:lnTo>
                  <a:lnTo>
                    <a:pt x="1774" y="338"/>
                  </a:lnTo>
                  <a:lnTo>
                    <a:pt x="1761" y="339"/>
                  </a:lnTo>
                  <a:lnTo>
                    <a:pt x="1749" y="340"/>
                  </a:lnTo>
                  <a:lnTo>
                    <a:pt x="1735" y="338"/>
                  </a:lnTo>
                  <a:lnTo>
                    <a:pt x="1740" y="343"/>
                  </a:lnTo>
                  <a:lnTo>
                    <a:pt x="1750" y="349"/>
                  </a:lnTo>
                  <a:lnTo>
                    <a:pt x="1761" y="354"/>
                  </a:lnTo>
                  <a:lnTo>
                    <a:pt x="1774" y="358"/>
                  </a:lnTo>
                  <a:lnTo>
                    <a:pt x="1782" y="365"/>
                  </a:lnTo>
                  <a:lnTo>
                    <a:pt x="1786" y="374"/>
                  </a:lnTo>
                  <a:lnTo>
                    <a:pt x="1799" y="379"/>
                  </a:lnTo>
                  <a:lnTo>
                    <a:pt x="1793" y="383"/>
                  </a:lnTo>
                  <a:lnTo>
                    <a:pt x="1779" y="386"/>
                  </a:lnTo>
                  <a:lnTo>
                    <a:pt x="1770" y="387"/>
                  </a:lnTo>
                  <a:lnTo>
                    <a:pt x="1760" y="393"/>
                  </a:lnTo>
                  <a:lnTo>
                    <a:pt x="1750" y="399"/>
                  </a:lnTo>
                  <a:lnTo>
                    <a:pt x="1740" y="405"/>
                  </a:lnTo>
                  <a:lnTo>
                    <a:pt x="1729" y="410"/>
                  </a:lnTo>
                  <a:lnTo>
                    <a:pt x="1722" y="417"/>
                  </a:lnTo>
                  <a:lnTo>
                    <a:pt x="1717" y="426"/>
                  </a:lnTo>
                  <a:lnTo>
                    <a:pt x="1710" y="434"/>
                  </a:lnTo>
                  <a:lnTo>
                    <a:pt x="1698" y="437"/>
                  </a:lnTo>
                  <a:lnTo>
                    <a:pt x="1686" y="441"/>
                  </a:lnTo>
                  <a:lnTo>
                    <a:pt x="1675" y="445"/>
                  </a:lnTo>
                  <a:lnTo>
                    <a:pt x="1675" y="455"/>
                  </a:lnTo>
                  <a:lnTo>
                    <a:pt x="1675" y="464"/>
                  </a:lnTo>
                  <a:lnTo>
                    <a:pt x="1676" y="473"/>
                  </a:lnTo>
                  <a:lnTo>
                    <a:pt x="1665" y="478"/>
                  </a:lnTo>
                  <a:lnTo>
                    <a:pt x="1654" y="482"/>
                  </a:lnTo>
                  <a:lnTo>
                    <a:pt x="1640" y="489"/>
                  </a:lnTo>
                  <a:lnTo>
                    <a:pt x="1628" y="494"/>
                  </a:lnTo>
                  <a:lnTo>
                    <a:pt x="1621" y="502"/>
                  </a:lnTo>
                  <a:lnTo>
                    <a:pt x="1613" y="510"/>
                  </a:lnTo>
                  <a:lnTo>
                    <a:pt x="1602" y="514"/>
                  </a:lnTo>
                  <a:lnTo>
                    <a:pt x="1589" y="514"/>
                  </a:lnTo>
                  <a:lnTo>
                    <a:pt x="1580" y="521"/>
                  </a:lnTo>
                  <a:lnTo>
                    <a:pt x="1567" y="521"/>
                  </a:lnTo>
                  <a:lnTo>
                    <a:pt x="1554" y="521"/>
                  </a:lnTo>
                  <a:lnTo>
                    <a:pt x="1542" y="520"/>
                  </a:lnTo>
                  <a:lnTo>
                    <a:pt x="1528" y="519"/>
                  </a:lnTo>
                  <a:lnTo>
                    <a:pt x="1515" y="521"/>
                  </a:lnTo>
                  <a:lnTo>
                    <a:pt x="1503" y="523"/>
                  </a:lnTo>
                  <a:lnTo>
                    <a:pt x="1490" y="523"/>
                  </a:lnTo>
                  <a:lnTo>
                    <a:pt x="1483" y="525"/>
                  </a:lnTo>
                  <a:lnTo>
                    <a:pt x="1477" y="534"/>
                  </a:lnTo>
                  <a:lnTo>
                    <a:pt x="1466" y="536"/>
                  </a:lnTo>
                  <a:lnTo>
                    <a:pt x="1454" y="531"/>
                  </a:lnTo>
                  <a:lnTo>
                    <a:pt x="1443" y="527"/>
                  </a:lnTo>
                  <a:lnTo>
                    <a:pt x="1430" y="524"/>
                  </a:lnTo>
                  <a:lnTo>
                    <a:pt x="1419" y="521"/>
                  </a:lnTo>
                  <a:lnTo>
                    <a:pt x="1408" y="516"/>
                  </a:lnTo>
                  <a:lnTo>
                    <a:pt x="1394" y="514"/>
                  </a:lnTo>
                  <a:lnTo>
                    <a:pt x="1382" y="518"/>
                  </a:lnTo>
                  <a:lnTo>
                    <a:pt x="1374" y="524"/>
                  </a:lnTo>
                  <a:lnTo>
                    <a:pt x="1363" y="529"/>
                  </a:lnTo>
                  <a:lnTo>
                    <a:pt x="1350" y="530"/>
                  </a:lnTo>
                  <a:lnTo>
                    <a:pt x="1338" y="524"/>
                  </a:lnTo>
                  <a:lnTo>
                    <a:pt x="1331" y="530"/>
                  </a:lnTo>
                  <a:lnTo>
                    <a:pt x="1325" y="539"/>
                  </a:lnTo>
                  <a:lnTo>
                    <a:pt x="1321" y="548"/>
                  </a:lnTo>
                  <a:lnTo>
                    <a:pt x="1315" y="558"/>
                  </a:lnTo>
                  <a:lnTo>
                    <a:pt x="1307" y="562"/>
                  </a:lnTo>
                  <a:lnTo>
                    <a:pt x="1296" y="557"/>
                  </a:lnTo>
                  <a:lnTo>
                    <a:pt x="1286" y="550"/>
                  </a:lnTo>
                  <a:lnTo>
                    <a:pt x="1273" y="552"/>
                  </a:lnTo>
                  <a:lnTo>
                    <a:pt x="1261" y="553"/>
                  </a:lnTo>
                  <a:lnTo>
                    <a:pt x="1247" y="552"/>
                  </a:lnTo>
                  <a:lnTo>
                    <a:pt x="1234" y="552"/>
                  </a:lnTo>
                  <a:lnTo>
                    <a:pt x="1223" y="554"/>
                  </a:lnTo>
                  <a:lnTo>
                    <a:pt x="1217" y="563"/>
                  </a:lnTo>
                  <a:lnTo>
                    <a:pt x="1209" y="568"/>
                  </a:lnTo>
                  <a:lnTo>
                    <a:pt x="1212" y="576"/>
                  </a:lnTo>
                  <a:lnTo>
                    <a:pt x="1217" y="585"/>
                  </a:lnTo>
                  <a:lnTo>
                    <a:pt x="1224" y="593"/>
                  </a:lnTo>
                  <a:lnTo>
                    <a:pt x="1230" y="602"/>
                  </a:lnTo>
                  <a:lnTo>
                    <a:pt x="1234" y="611"/>
                  </a:lnTo>
                  <a:lnTo>
                    <a:pt x="1226" y="616"/>
                  </a:lnTo>
                  <a:lnTo>
                    <a:pt x="1212" y="615"/>
                  </a:lnTo>
                  <a:lnTo>
                    <a:pt x="1198" y="615"/>
                  </a:lnTo>
                  <a:lnTo>
                    <a:pt x="1192" y="618"/>
                  </a:lnTo>
                  <a:lnTo>
                    <a:pt x="1205" y="624"/>
                  </a:lnTo>
                  <a:lnTo>
                    <a:pt x="1213" y="630"/>
                  </a:lnTo>
                  <a:lnTo>
                    <a:pt x="1216" y="639"/>
                  </a:lnTo>
                  <a:lnTo>
                    <a:pt x="1212" y="645"/>
                  </a:lnTo>
                  <a:lnTo>
                    <a:pt x="1198" y="644"/>
                  </a:lnTo>
                  <a:lnTo>
                    <a:pt x="1197" y="650"/>
                  </a:lnTo>
                  <a:lnTo>
                    <a:pt x="1202" y="659"/>
                  </a:lnTo>
                  <a:lnTo>
                    <a:pt x="1192" y="663"/>
                  </a:lnTo>
                  <a:lnTo>
                    <a:pt x="1180" y="667"/>
                  </a:lnTo>
                  <a:lnTo>
                    <a:pt x="1171" y="673"/>
                  </a:lnTo>
                  <a:lnTo>
                    <a:pt x="1159" y="677"/>
                  </a:lnTo>
                  <a:lnTo>
                    <a:pt x="1155" y="681"/>
                  </a:lnTo>
                  <a:lnTo>
                    <a:pt x="1159" y="687"/>
                  </a:lnTo>
                  <a:lnTo>
                    <a:pt x="1150" y="695"/>
                  </a:lnTo>
                  <a:lnTo>
                    <a:pt x="1139" y="700"/>
                  </a:lnTo>
                  <a:lnTo>
                    <a:pt x="1131" y="693"/>
                  </a:lnTo>
                  <a:lnTo>
                    <a:pt x="1124" y="685"/>
                  </a:lnTo>
                  <a:lnTo>
                    <a:pt x="1117" y="689"/>
                  </a:lnTo>
                  <a:lnTo>
                    <a:pt x="1111" y="696"/>
                  </a:lnTo>
                  <a:lnTo>
                    <a:pt x="1099" y="697"/>
                  </a:lnTo>
                  <a:lnTo>
                    <a:pt x="1093" y="704"/>
                  </a:lnTo>
                  <a:lnTo>
                    <a:pt x="1089" y="714"/>
                  </a:lnTo>
                  <a:lnTo>
                    <a:pt x="1089" y="722"/>
                  </a:lnTo>
                  <a:lnTo>
                    <a:pt x="1082" y="730"/>
                  </a:lnTo>
                  <a:lnTo>
                    <a:pt x="1072" y="734"/>
                  </a:lnTo>
                  <a:lnTo>
                    <a:pt x="1064" y="741"/>
                  </a:lnTo>
                  <a:lnTo>
                    <a:pt x="1058" y="750"/>
                  </a:lnTo>
                  <a:lnTo>
                    <a:pt x="1053" y="758"/>
                  </a:lnTo>
                  <a:lnTo>
                    <a:pt x="1043" y="764"/>
                  </a:lnTo>
                  <a:lnTo>
                    <a:pt x="1039" y="767"/>
                  </a:lnTo>
                  <a:lnTo>
                    <a:pt x="1029" y="774"/>
                  </a:lnTo>
                  <a:lnTo>
                    <a:pt x="1019" y="769"/>
                  </a:lnTo>
                  <a:lnTo>
                    <a:pt x="1011" y="761"/>
                  </a:lnTo>
                  <a:lnTo>
                    <a:pt x="1006" y="753"/>
                  </a:lnTo>
                  <a:lnTo>
                    <a:pt x="995" y="751"/>
                  </a:lnTo>
                  <a:lnTo>
                    <a:pt x="984" y="756"/>
                  </a:lnTo>
                  <a:lnTo>
                    <a:pt x="978" y="764"/>
                  </a:lnTo>
                  <a:lnTo>
                    <a:pt x="967" y="769"/>
                  </a:lnTo>
                  <a:lnTo>
                    <a:pt x="962" y="777"/>
                  </a:lnTo>
                  <a:lnTo>
                    <a:pt x="953" y="784"/>
                  </a:lnTo>
                  <a:lnTo>
                    <a:pt x="948" y="792"/>
                  </a:lnTo>
                  <a:lnTo>
                    <a:pt x="948" y="801"/>
                  </a:lnTo>
                  <a:lnTo>
                    <a:pt x="955" y="809"/>
                  </a:lnTo>
                  <a:lnTo>
                    <a:pt x="964" y="816"/>
                  </a:lnTo>
                  <a:lnTo>
                    <a:pt x="976" y="820"/>
                  </a:lnTo>
                  <a:lnTo>
                    <a:pt x="983" y="828"/>
                  </a:lnTo>
                  <a:lnTo>
                    <a:pt x="991" y="835"/>
                  </a:lnTo>
                  <a:lnTo>
                    <a:pt x="997" y="838"/>
                  </a:lnTo>
                  <a:lnTo>
                    <a:pt x="985" y="841"/>
                  </a:lnTo>
                  <a:lnTo>
                    <a:pt x="973" y="843"/>
                  </a:lnTo>
                  <a:lnTo>
                    <a:pt x="959" y="845"/>
                  </a:lnTo>
                  <a:lnTo>
                    <a:pt x="945" y="847"/>
                  </a:lnTo>
                  <a:lnTo>
                    <a:pt x="934" y="852"/>
                  </a:lnTo>
                  <a:lnTo>
                    <a:pt x="923" y="854"/>
                  </a:lnTo>
                  <a:lnTo>
                    <a:pt x="914" y="846"/>
                  </a:lnTo>
                  <a:lnTo>
                    <a:pt x="904" y="843"/>
                  </a:lnTo>
                  <a:lnTo>
                    <a:pt x="902" y="853"/>
                  </a:lnTo>
                  <a:lnTo>
                    <a:pt x="896" y="862"/>
                  </a:lnTo>
                  <a:lnTo>
                    <a:pt x="886" y="867"/>
                  </a:lnTo>
                  <a:lnTo>
                    <a:pt x="874" y="871"/>
                  </a:lnTo>
                  <a:lnTo>
                    <a:pt x="867" y="875"/>
                  </a:lnTo>
                  <a:lnTo>
                    <a:pt x="855" y="869"/>
                  </a:lnTo>
                  <a:lnTo>
                    <a:pt x="844" y="865"/>
                  </a:lnTo>
                  <a:lnTo>
                    <a:pt x="834" y="861"/>
                  </a:lnTo>
                  <a:lnTo>
                    <a:pt x="825" y="855"/>
                  </a:lnTo>
                  <a:lnTo>
                    <a:pt x="816" y="847"/>
                  </a:lnTo>
                  <a:lnTo>
                    <a:pt x="809" y="839"/>
                  </a:lnTo>
                  <a:lnTo>
                    <a:pt x="802" y="831"/>
                  </a:lnTo>
                  <a:lnTo>
                    <a:pt x="798" y="822"/>
                  </a:lnTo>
                  <a:lnTo>
                    <a:pt x="788" y="818"/>
                  </a:lnTo>
                  <a:lnTo>
                    <a:pt x="774" y="816"/>
                  </a:lnTo>
                  <a:lnTo>
                    <a:pt x="763" y="812"/>
                  </a:lnTo>
                  <a:lnTo>
                    <a:pt x="752" y="807"/>
                  </a:lnTo>
                  <a:lnTo>
                    <a:pt x="742" y="801"/>
                  </a:lnTo>
                  <a:lnTo>
                    <a:pt x="735" y="793"/>
                  </a:lnTo>
                  <a:lnTo>
                    <a:pt x="728" y="785"/>
                  </a:lnTo>
                  <a:lnTo>
                    <a:pt x="734" y="776"/>
                  </a:lnTo>
                  <a:lnTo>
                    <a:pt x="725" y="771"/>
                  </a:lnTo>
                  <a:lnTo>
                    <a:pt x="734" y="761"/>
                  </a:lnTo>
                  <a:lnTo>
                    <a:pt x="732" y="754"/>
                  </a:lnTo>
                  <a:lnTo>
                    <a:pt x="724" y="749"/>
                  </a:lnTo>
                  <a:lnTo>
                    <a:pt x="711" y="745"/>
                  </a:lnTo>
                  <a:lnTo>
                    <a:pt x="699" y="742"/>
                  </a:lnTo>
                  <a:lnTo>
                    <a:pt x="685" y="738"/>
                  </a:lnTo>
                  <a:lnTo>
                    <a:pt x="674" y="733"/>
                  </a:lnTo>
                  <a:lnTo>
                    <a:pt x="665" y="726"/>
                  </a:lnTo>
                  <a:lnTo>
                    <a:pt x="657" y="719"/>
                  </a:lnTo>
                  <a:lnTo>
                    <a:pt x="646" y="714"/>
                  </a:lnTo>
                  <a:lnTo>
                    <a:pt x="630" y="712"/>
                  </a:lnTo>
                  <a:lnTo>
                    <a:pt x="626" y="717"/>
                  </a:lnTo>
                  <a:lnTo>
                    <a:pt x="635" y="725"/>
                  </a:lnTo>
                  <a:lnTo>
                    <a:pt x="640" y="734"/>
                  </a:lnTo>
                  <a:lnTo>
                    <a:pt x="640" y="744"/>
                  </a:lnTo>
                  <a:lnTo>
                    <a:pt x="635" y="753"/>
                  </a:lnTo>
                  <a:lnTo>
                    <a:pt x="639" y="760"/>
                  </a:lnTo>
                  <a:lnTo>
                    <a:pt x="637" y="769"/>
                  </a:lnTo>
                  <a:lnTo>
                    <a:pt x="628" y="776"/>
                  </a:lnTo>
                  <a:lnTo>
                    <a:pt x="618" y="782"/>
                  </a:lnTo>
                  <a:lnTo>
                    <a:pt x="607" y="780"/>
                  </a:lnTo>
                  <a:lnTo>
                    <a:pt x="597" y="773"/>
                  </a:lnTo>
                  <a:lnTo>
                    <a:pt x="586" y="776"/>
                  </a:lnTo>
                  <a:lnTo>
                    <a:pt x="574" y="781"/>
                  </a:lnTo>
                  <a:lnTo>
                    <a:pt x="566" y="788"/>
                  </a:lnTo>
                  <a:lnTo>
                    <a:pt x="553" y="789"/>
                  </a:lnTo>
                  <a:lnTo>
                    <a:pt x="546" y="781"/>
                  </a:lnTo>
                  <a:lnTo>
                    <a:pt x="539" y="773"/>
                  </a:lnTo>
                  <a:lnTo>
                    <a:pt x="532" y="771"/>
                  </a:lnTo>
                  <a:lnTo>
                    <a:pt x="525" y="765"/>
                  </a:lnTo>
                  <a:lnTo>
                    <a:pt x="514" y="770"/>
                  </a:lnTo>
                  <a:lnTo>
                    <a:pt x="503" y="775"/>
                  </a:lnTo>
                  <a:lnTo>
                    <a:pt x="491" y="777"/>
                  </a:lnTo>
                  <a:lnTo>
                    <a:pt x="481" y="781"/>
                  </a:lnTo>
                  <a:lnTo>
                    <a:pt x="479" y="791"/>
                  </a:lnTo>
                  <a:lnTo>
                    <a:pt x="485" y="799"/>
                  </a:lnTo>
                  <a:lnTo>
                    <a:pt x="492" y="807"/>
                  </a:lnTo>
                  <a:lnTo>
                    <a:pt x="492" y="817"/>
                  </a:lnTo>
                  <a:lnTo>
                    <a:pt x="482" y="823"/>
                  </a:lnTo>
                  <a:lnTo>
                    <a:pt x="470" y="826"/>
                  </a:lnTo>
                  <a:lnTo>
                    <a:pt x="460" y="831"/>
                  </a:lnTo>
                  <a:lnTo>
                    <a:pt x="467" y="839"/>
                  </a:lnTo>
                  <a:lnTo>
                    <a:pt x="471" y="848"/>
                  </a:lnTo>
                  <a:lnTo>
                    <a:pt x="472" y="857"/>
                  </a:lnTo>
                  <a:lnTo>
                    <a:pt x="471" y="867"/>
                  </a:lnTo>
                  <a:lnTo>
                    <a:pt x="465" y="875"/>
                  </a:lnTo>
                  <a:lnTo>
                    <a:pt x="456" y="882"/>
                  </a:lnTo>
                  <a:lnTo>
                    <a:pt x="446" y="887"/>
                  </a:lnTo>
                  <a:lnTo>
                    <a:pt x="435" y="892"/>
                  </a:lnTo>
                  <a:lnTo>
                    <a:pt x="426" y="900"/>
                  </a:lnTo>
                  <a:lnTo>
                    <a:pt x="422" y="908"/>
                  </a:lnTo>
                  <a:lnTo>
                    <a:pt x="421" y="917"/>
                  </a:lnTo>
                  <a:lnTo>
                    <a:pt x="412" y="925"/>
                  </a:lnTo>
                  <a:lnTo>
                    <a:pt x="408" y="934"/>
                  </a:lnTo>
                  <a:lnTo>
                    <a:pt x="412" y="943"/>
                  </a:lnTo>
                  <a:lnTo>
                    <a:pt x="421" y="951"/>
                  </a:lnTo>
                  <a:lnTo>
                    <a:pt x="416" y="963"/>
                  </a:lnTo>
                  <a:lnTo>
                    <a:pt x="404" y="965"/>
                  </a:lnTo>
                  <a:lnTo>
                    <a:pt x="389" y="965"/>
                  </a:lnTo>
                  <a:lnTo>
                    <a:pt x="369" y="969"/>
                  </a:lnTo>
                  <a:lnTo>
                    <a:pt x="358" y="973"/>
                  </a:lnTo>
                  <a:lnTo>
                    <a:pt x="347" y="978"/>
                  </a:lnTo>
                  <a:lnTo>
                    <a:pt x="337" y="984"/>
                  </a:lnTo>
                  <a:lnTo>
                    <a:pt x="327" y="991"/>
                  </a:lnTo>
                  <a:lnTo>
                    <a:pt x="320" y="998"/>
                  </a:lnTo>
                  <a:lnTo>
                    <a:pt x="324" y="1007"/>
                  </a:lnTo>
                  <a:lnTo>
                    <a:pt x="305" y="1002"/>
                  </a:lnTo>
                  <a:lnTo>
                    <a:pt x="296" y="995"/>
                  </a:lnTo>
                  <a:lnTo>
                    <a:pt x="284" y="996"/>
                  </a:lnTo>
                  <a:lnTo>
                    <a:pt x="271" y="999"/>
                  </a:lnTo>
                  <a:lnTo>
                    <a:pt x="257" y="998"/>
                  </a:lnTo>
                  <a:lnTo>
                    <a:pt x="247" y="1004"/>
                  </a:lnTo>
                  <a:lnTo>
                    <a:pt x="239" y="1004"/>
                  </a:lnTo>
                  <a:lnTo>
                    <a:pt x="228" y="1000"/>
                  </a:lnTo>
                  <a:lnTo>
                    <a:pt x="217" y="998"/>
                  </a:lnTo>
                  <a:lnTo>
                    <a:pt x="204" y="999"/>
                  </a:lnTo>
                  <a:lnTo>
                    <a:pt x="193" y="996"/>
                  </a:lnTo>
                  <a:lnTo>
                    <a:pt x="187" y="1003"/>
                  </a:lnTo>
                  <a:lnTo>
                    <a:pt x="177" y="1005"/>
                  </a:lnTo>
                  <a:lnTo>
                    <a:pt x="179" y="995"/>
                  </a:lnTo>
                  <a:lnTo>
                    <a:pt x="176" y="987"/>
                  </a:lnTo>
                  <a:lnTo>
                    <a:pt x="176" y="978"/>
                  </a:lnTo>
                  <a:lnTo>
                    <a:pt x="169" y="970"/>
                  </a:lnTo>
                  <a:lnTo>
                    <a:pt x="162" y="963"/>
                  </a:lnTo>
                  <a:lnTo>
                    <a:pt x="149" y="956"/>
                  </a:lnTo>
                  <a:lnTo>
                    <a:pt x="140" y="950"/>
                  </a:lnTo>
                  <a:lnTo>
                    <a:pt x="127" y="946"/>
                  </a:lnTo>
                  <a:lnTo>
                    <a:pt x="116" y="943"/>
                  </a:lnTo>
                  <a:lnTo>
                    <a:pt x="127" y="938"/>
                  </a:lnTo>
                  <a:lnTo>
                    <a:pt x="141" y="938"/>
                  </a:lnTo>
                  <a:lnTo>
                    <a:pt x="152" y="936"/>
                  </a:lnTo>
                  <a:lnTo>
                    <a:pt x="159" y="928"/>
                  </a:lnTo>
                  <a:lnTo>
                    <a:pt x="156" y="919"/>
                  </a:lnTo>
                  <a:lnTo>
                    <a:pt x="149" y="912"/>
                  </a:lnTo>
                  <a:lnTo>
                    <a:pt x="141" y="907"/>
                  </a:lnTo>
                  <a:lnTo>
                    <a:pt x="135" y="899"/>
                  </a:lnTo>
                  <a:lnTo>
                    <a:pt x="126" y="893"/>
                  </a:lnTo>
                  <a:lnTo>
                    <a:pt x="113" y="895"/>
                  </a:lnTo>
                  <a:lnTo>
                    <a:pt x="102" y="890"/>
                  </a:lnTo>
                  <a:lnTo>
                    <a:pt x="89" y="890"/>
                  </a:lnTo>
                  <a:lnTo>
                    <a:pt x="78" y="896"/>
                  </a:lnTo>
                  <a:lnTo>
                    <a:pt x="70" y="903"/>
                  </a:lnTo>
                  <a:lnTo>
                    <a:pt x="57" y="902"/>
                  </a:lnTo>
                  <a:lnTo>
                    <a:pt x="46" y="898"/>
                  </a:lnTo>
                  <a:lnTo>
                    <a:pt x="33" y="893"/>
                  </a:lnTo>
                  <a:lnTo>
                    <a:pt x="22" y="888"/>
                  </a:lnTo>
                  <a:lnTo>
                    <a:pt x="14" y="882"/>
                  </a:lnTo>
                  <a:lnTo>
                    <a:pt x="15" y="874"/>
                  </a:lnTo>
                  <a:lnTo>
                    <a:pt x="14" y="864"/>
                  </a:lnTo>
                  <a:lnTo>
                    <a:pt x="18" y="855"/>
                  </a:lnTo>
                  <a:lnTo>
                    <a:pt x="22" y="847"/>
                  </a:lnTo>
                  <a:lnTo>
                    <a:pt x="26" y="838"/>
                  </a:lnTo>
                  <a:lnTo>
                    <a:pt x="36" y="832"/>
                  </a:lnTo>
                  <a:lnTo>
                    <a:pt x="43" y="824"/>
                  </a:lnTo>
                  <a:lnTo>
                    <a:pt x="52" y="816"/>
                  </a:lnTo>
                  <a:lnTo>
                    <a:pt x="57" y="808"/>
                  </a:lnTo>
                  <a:lnTo>
                    <a:pt x="53" y="800"/>
                  </a:lnTo>
                  <a:lnTo>
                    <a:pt x="40" y="795"/>
                  </a:lnTo>
                  <a:lnTo>
                    <a:pt x="49" y="792"/>
                  </a:lnTo>
                  <a:lnTo>
                    <a:pt x="43" y="784"/>
                  </a:lnTo>
                  <a:lnTo>
                    <a:pt x="35" y="776"/>
                  </a:lnTo>
                  <a:lnTo>
                    <a:pt x="31" y="767"/>
                  </a:lnTo>
                  <a:lnTo>
                    <a:pt x="26" y="759"/>
                  </a:lnTo>
                  <a:lnTo>
                    <a:pt x="14" y="763"/>
                  </a:lnTo>
                  <a:lnTo>
                    <a:pt x="7" y="756"/>
                  </a:lnTo>
                  <a:lnTo>
                    <a:pt x="0" y="747"/>
                  </a:lnTo>
                  <a:lnTo>
                    <a:pt x="10" y="743"/>
                  </a:lnTo>
                  <a:lnTo>
                    <a:pt x="24" y="740"/>
                  </a:lnTo>
                  <a:lnTo>
                    <a:pt x="35" y="735"/>
                  </a:lnTo>
                  <a:lnTo>
                    <a:pt x="25" y="731"/>
                  </a:lnTo>
                  <a:lnTo>
                    <a:pt x="12" y="726"/>
                  </a:lnTo>
                  <a:lnTo>
                    <a:pt x="14" y="718"/>
                  </a:lnTo>
                  <a:lnTo>
                    <a:pt x="10" y="711"/>
                  </a:lnTo>
                  <a:lnTo>
                    <a:pt x="15" y="705"/>
                  </a:lnTo>
                  <a:lnTo>
                    <a:pt x="28" y="702"/>
                  </a:lnTo>
                  <a:lnTo>
                    <a:pt x="40" y="705"/>
                  </a:lnTo>
                  <a:lnTo>
                    <a:pt x="36" y="697"/>
                  </a:lnTo>
                  <a:lnTo>
                    <a:pt x="31" y="689"/>
                  </a:lnTo>
                  <a:lnTo>
                    <a:pt x="33" y="681"/>
                  </a:lnTo>
                  <a:lnTo>
                    <a:pt x="45" y="675"/>
                  </a:lnTo>
                  <a:lnTo>
                    <a:pt x="54" y="669"/>
                  </a:lnTo>
                  <a:lnTo>
                    <a:pt x="66" y="663"/>
                  </a:lnTo>
                  <a:lnTo>
                    <a:pt x="75" y="663"/>
                  </a:lnTo>
                  <a:lnTo>
                    <a:pt x="82" y="661"/>
                  </a:lnTo>
                  <a:lnTo>
                    <a:pt x="75" y="653"/>
                  </a:lnTo>
                  <a:lnTo>
                    <a:pt x="85" y="648"/>
                  </a:lnTo>
                  <a:lnTo>
                    <a:pt x="75" y="641"/>
                  </a:lnTo>
                  <a:lnTo>
                    <a:pt x="67" y="634"/>
                  </a:lnTo>
                  <a:lnTo>
                    <a:pt x="61" y="625"/>
                  </a:lnTo>
                  <a:lnTo>
                    <a:pt x="56" y="617"/>
                  </a:lnTo>
                  <a:lnTo>
                    <a:pt x="52" y="608"/>
                  </a:lnTo>
                  <a:lnTo>
                    <a:pt x="45" y="602"/>
                  </a:lnTo>
                  <a:lnTo>
                    <a:pt x="36" y="598"/>
                  </a:lnTo>
                  <a:lnTo>
                    <a:pt x="36" y="589"/>
                  </a:lnTo>
                  <a:lnTo>
                    <a:pt x="36" y="580"/>
                  </a:lnTo>
                  <a:lnTo>
                    <a:pt x="33" y="571"/>
                  </a:lnTo>
                  <a:lnTo>
                    <a:pt x="32" y="562"/>
                  </a:lnTo>
                  <a:lnTo>
                    <a:pt x="38" y="553"/>
                  </a:lnTo>
                  <a:lnTo>
                    <a:pt x="40" y="562"/>
                  </a:lnTo>
                  <a:lnTo>
                    <a:pt x="52" y="565"/>
                  </a:lnTo>
                  <a:lnTo>
                    <a:pt x="64" y="567"/>
                  </a:lnTo>
                  <a:lnTo>
                    <a:pt x="77" y="572"/>
                  </a:lnTo>
                  <a:lnTo>
                    <a:pt x="88" y="573"/>
                  </a:lnTo>
                  <a:lnTo>
                    <a:pt x="102" y="571"/>
                  </a:lnTo>
                  <a:lnTo>
                    <a:pt x="113" y="568"/>
                  </a:lnTo>
                  <a:lnTo>
                    <a:pt x="126" y="563"/>
                  </a:lnTo>
                  <a:lnTo>
                    <a:pt x="135" y="560"/>
                  </a:lnTo>
                  <a:lnTo>
                    <a:pt x="128" y="551"/>
                  </a:lnTo>
                  <a:lnTo>
                    <a:pt x="120" y="545"/>
                  </a:lnTo>
                  <a:lnTo>
                    <a:pt x="116" y="553"/>
                  </a:lnTo>
                  <a:lnTo>
                    <a:pt x="106" y="551"/>
                  </a:lnTo>
                  <a:lnTo>
                    <a:pt x="94" y="546"/>
                  </a:lnTo>
                  <a:lnTo>
                    <a:pt x="81" y="541"/>
                  </a:lnTo>
                  <a:lnTo>
                    <a:pt x="75" y="535"/>
                  </a:lnTo>
                  <a:lnTo>
                    <a:pt x="81" y="527"/>
                  </a:lnTo>
                  <a:lnTo>
                    <a:pt x="88" y="519"/>
                  </a:lnTo>
                  <a:lnTo>
                    <a:pt x="96" y="510"/>
                  </a:lnTo>
                  <a:lnTo>
                    <a:pt x="101" y="501"/>
                  </a:lnTo>
                  <a:lnTo>
                    <a:pt x="109" y="494"/>
                  </a:lnTo>
                  <a:lnTo>
                    <a:pt x="101" y="488"/>
                  </a:lnTo>
                  <a:lnTo>
                    <a:pt x="91" y="484"/>
                  </a:lnTo>
                  <a:lnTo>
                    <a:pt x="102" y="479"/>
                  </a:lnTo>
                  <a:lnTo>
                    <a:pt x="110" y="471"/>
                  </a:lnTo>
                  <a:lnTo>
                    <a:pt x="116" y="463"/>
                  </a:lnTo>
                  <a:lnTo>
                    <a:pt x="119" y="454"/>
                  </a:lnTo>
                  <a:lnTo>
                    <a:pt x="123" y="445"/>
                  </a:lnTo>
                  <a:lnTo>
                    <a:pt x="126" y="436"/>
                  </a:lnTo>
                  <a:lnTo>
                    <a:pt x="130" y="426"/>
                  </a:lnTo>
                  <a:lnTo>
                    <a:pt x="130" y="418"/>
                  </a:lnTo>
                  <a:lnTo>
                    <a:pt x="120" y="413"/>
                  </a:lnTo>
                  <a:lnTo>
                    <a:pt x="110" y="414"/>
                  </a:lnTo>
                  <a:lnTo>
                    <a:pt x="98" y="411"/>
                  </a:lnTo>
                  <a:lnTo>
                    <a:pt x="87" y="408"/>
                  </a:lnTo>
                  <a:lnTo>
                    <a:pt x="74" y="403"/>
                  </a:lnTo>
                  <a:lnTo>
                    <a:pt x="64" y="398"/>
                  </a:lnTo>
                  <a:lnTo>
                    <a:pt x="57" y="392"/>
                  </a:lnTo>
                  <a:lnTo>
                    <a:pt x="52" y="384"/>
                  </a:lnTo>
                  <a:lnTo>
                    <a:pt x="46" y="375"/>
                  </a:lnTo>
                  <a:lnTo>
                    <a:pt x="53" y="365"/>
                  </a:lnTo>
                  <a:lnTo>
                    <a:pt x="59" y="357"/>
                  </a:lnTo>
                  <a:lnTo>
                    <a:pt x="61" y="347"/>
                  </a:lnTo>
                  <a:lnTo>
                    <a:pt x="64" y="338"/>
                  </a:lnTo>
                  <a:lnTo>
                    <a:pt x="66" y="329"/>
                  </a:lnTo>
                  <a:lnTo>
                    <a:pt x="70" y="320"/>
                  </a:lnTo>
                  <a:lnTo>
                    <a:pt x="71" y="311"/>
                  </a:lnTo>
                  <a:lnTo>
                    <a:pt x="74" y="302"/>
                  </a:lnTo>
                  <a:lnTo>
                    <a:pt x="70" y="293"/>
                  </a:lnTo>
                  <a:lnTo>
                    <a:pt x="60" y="288"/>
                  </a:lnTo>
                  <a:lnTo>
                    <a:pt x="52" y="282"/>
                  </a:lnTo>
                  <a:lnTo>
                    <a:pt x="57" y="273"/>
                  </a:lnTo>
                  <a:lnTo>
                    <a:pt x="60" y="265"/>
                  </a:lnTo>
                  <a:lnTo>
                    <a:pt x="66" y="256"/>
                  </a:lnTo>
                  <a:lnTo>
                    <a:pt x="71" y="248"/>
                  </a:lnTo>
                  <a:lnTo>
                    <a:pt x="77" y="239"/>
                  </a:lnTo>
                  <a:lnTo>
                    <a:pt x="77" y="230"/>
                  </a:lnTo>
                  <a:lnTo>
                    <a:pt x="74" y="221"/>
                  </a:lnTo>
                  <a:lnTo>
                    <a:pt x="73" y="211"/>
                  </a:lnTo>
                  <a:lnTo>
                    <a:pt x="73" y="202"/>
                  </a:lnTo>
                  <a:lnTo>
                    <a:pt x="73" y="193"/>
                  </a:lnTo>
                  <a:lnTo>
                    <a:pt x="71" y="184"/>
                  </a:lnTo>
                  <a:lnTo>
                    <a:pt x="67" y="175"/>
                  </a:lnTo>
                  <a:lnTo>
                    <a:pt x="61" y="163"/>
                  </a:lnTo>
                  <a:lnTo>
                    <a:pt x="74" y="163"/>
                  </a:lnTo>
                  <a:lnTo>
                    <a:pt x="87" y="159"/>
                  </a:lnTo>
                  <a:lnTo>
                    <a:pt x="98" y="156"/>
                  </a:lnTo>
                  <a:lnTo>
                    <a:pt x="112" y="154"/>
                  </a:lnTo>
                  <a:lnTo>
                    <a:pt x="124" y="153"/>
                  </a:lnTo>
                  <a:lnTo>
                    <a:pt x="137" y="153"/>
                  </a:lnTo>
                  <a:lnTo>
                    <a:pt x="151" y="153"/>
                  </a:lnTo>
                  <a:lnTo>
                    <a:pt x="163" y="153"/>
                  </a:lnTo>
                  <a:lnTo>
                    <a:pt x="175" y="148"/>
                  </a:lnTo>
                  <a:lnTo>
                    <a:pt x="183" y="141"/>
                  </a:lnTo>
                  <a:lnTo>
                    <a:pt x="191" y="134"/>
                  </a:lnTo>
                  <a:lnTo>
                    <a:pt x="201" y="129"/>
                  </a:lnTo>
                  <a:lnTo>
                    <a:pt x="214" y="125"/>
                  </a:lnTo>
                  <a:lnTo>
                    <a:pt x="226" y="128"/>
                  </a:lnTo>
                  <a:lnTo>
                    <a:pt x="236" y="133"/>
                  </a:lnTo>
                  <a:lnTo>
                    <a:pt x="246" y="139"/>
                  </a:lnTo>
                  <a:lnTo>
                    <a:pt x="257" y="145"/>
                  </a:lnTo>
                  <a:lnTo>
                    <a:pt x="268" y="149"/>
                  </a:lnTo>
                  <a:lnTo>
                    <a:pt x="281" y="148"/>
                  </a:lnTo>
                  <a:lnTo>
                    <a:pt x="293" y="145"/>
                  </a:lnTo>
                  <a:lnTo>
                    <a:pt x="305" y="139"/>
                  </a:lnTo>
                  <a:lnTo>
                    <a:pt x="316" y="134"/>
                  </a:lnTo>
                  <a:lnTo>
                    <a:pt x="326" y="129"/>
                  </a:lnTo>
                  <a:lnTo>
                    <a:pt x="338" y="127"/>
                  </a:lnTo>
                  <a:lnTo>
                    <a:pt x="352" y="127"/>
                  </a:lnTo>
                  <a:lnTo>
                    <a:pt x="365" y="127"/>
                  </a:lnTo>
                  <a:lnTo>
                    <a:pt x="377" y="127"/>
                  </a:lnTo>
                  <a:lnTo>
                    <a:pt x="391" y="128"/>
                  </a:lnTo>
                  <a:lnTo>
                    <a:pt x="404" y="128"/>
                  </a:lnTo>
                  <a:lnTo>
                    <a:pt x="416" y="129"/>
                  </a:lnTo>
                  <a:lnTo>
                    <a:pt x="430" y="129"/>
                  </a:lnTo>
                  <a:lnTo>
                    <a:pt x="443" y="130"/>
                  </a:lnTo>
                  <a:lnTo>
                    <a:pt x="456" y="132"/>
                  </a:lnTo>
                  <a:lnTo>
                    <a:pt x="468" y="136"/>
                  </a:lnTo>
                  <a:lnTo>
                    <a:pt x="481" y="138"/>
                  </a:lnTo>
                  <a:lnTo>
                    <a:pt x="493" y="140"/>
                  </a:lnTo>
                  <a:lnTo>
                    <a:pt x="506" y="141"/>
                  </a:lnTo>
                  <a:lnTo>
                    <a:pt x="519" y="142"/>
                  </a:lnTo>
                  <a:lnTo>
                    <a:pt x="532" y="143"/>
                  </a:lnTo>
                  <a:lnTo>
                    <a:pt x="545" y="145"/>
                  </a:lnTo>
                  <a:lnTo>
                    <a:pt x="558" y="147"/>
                  </a:lnTo>
                  <a:lnTo>
                    <a:pt x="570" y="150"/>
                  </a:lnTo>
                  <a:lnTo>
                    <a:pt x="581" y="154"/>
                  </a:lnTo>
                  <a:lnTo>
                    <a:pt x="594" y="157"/>
                  </a:lnTo>
                  <a:lnTo>
                    <a:pt x="605" y="162"/>
                  </a:lnTo>
                  <a:lnTo>
                    <a:pt x="618" y="164"/>
                  </a:lnTo>
                  <a:lnTo>
                    <a:pt x="630" y="164"/>
                  </a:lnTo>
                  <a:lnTo>
                    <a:pt x="644" y="164"/>
                  </a:lnTo>
                  <a:lnTo>
                    <a:pt x="657" y="164"/>
                  </a:lnTo>
                  <a:lnTo>
                    <a:pt x="669" y="164"/>
                  </a:lnTo>
                  <a:lnTo>
                    <a:pt x="682" y="162"/>
                  </a:lnTo>
                  <a:lnTo>
                    <a:pt x="696" y="161"/>
                  </a:lnTo>
                  <a:lnTo>
                    <a:pt x="709" y="162"/>
                  </a:lnTo>
                  <a:lnTo>
                    <a:pt x="721" y="163"/>
                  </a:lnTo>
                  <a:lnTo>
                    <a:pt x="734" y="164"/>
                  </a:lnTo>
                  <a:lnTo>
                    <a:pt x="748" y="166"/>
                  </a:lnTo>
                  <a:lnTo>
                    <a:pt x="760" y="167"/>
                  </a:lnTo>
                  <a:lnTo>
                    <a:pt x="773" y="169"/>
                  </a:lnTo>
                  <a:lnTo>
                    <a:pt x="786" y="171"/>
                  </a:lnTo>
                  <a:lnTo>
                    <a:pt x="797" y="175"/>
                  </a:lnTo>
                  <a:lnTo>
                    <a:pt x="808" y="180"/>
                  </a:lnTo>
                  <a:lnTo>
                    <a:pt x="820" y="183"/>
                  </a:lnTo>
                  <a:lnTo>
                    <a:pt x="833" y="185"/>
                  </a:lnTo>
                  <a:lnTo>
                    <a:pt x="847" y="185"/>
                  </a:lnTo>
                  <a:lnTo>
                    <a:pt x="860" y="183"/>
                  </a:lnTo>
                  <a:lnTo>
                    <a:pt x="871" y="180"/>
                  </a:lnTo>
                  <a:lnTo>
                    <a:pt x="885" y="179"/>
                  </a:lnTo>
                  <a:lnTo>
                    <a:pt x="897" y="178"/>
                  </a:lnTo>
                  <a:lnTo>
                    <a:pt x="910" y="176"/>
                  </a:lnTo>
                  <a:lnTo>
                    <a:pt x="923" y="174"/>
                  </a:lnTo>
                  <a:lnTo>
                    <a:pt x="935" y="172"/>
                  </a:lnTo>
                  <a:lnTo>
                    <a:pt x="948" y="169"/>
                  </a:lnTo>
                  <a:lnTo>
                    <a:pt x="960" y="166"/>
                  </a:lnTo>
                  <a:lnTo>
                    <a:pt x="973" y="163"/>
                  </a:lnTo>
                  <a:lnTo>
                    <a:pt x="985" y="161"/>
                  </a:lnTo>
                  <a:lnTo>
                    <a:pt x="998" y="159"/>
                  </a:lnTo>
                  <a:lnTo>
                    <a:pt x="1009" y="155"/>
                  </a:lnTo>
                  <a:lnTo>
                    <a:pt x="1022" y="151"/>
                  </a:lnTo>
                  <a:lnTo>
                    <a:pt x="1033" y="146"/>
                  </a:lnTo>
                  <a:lnTo>
                    <a:pt x="1046" y="144"/>
                  </a:lnTo>
                  <a:lnTo>
                    <a:pt x="1058" y="143"/>
                  </a:lnTo>
                  <a:lnTo>
                    <a:pt x="1071" y="142"/>
                  </a:lnTo>
                  <a:lnTo>
                    <a:pt x="1083" y="140"/>
                  </a:lnTo>
                  <a:lnTo>
                    <a:pt x="1096" y="138"/>
                  </a:lnTo>
                  <a:lnTo>
                    <a:pt x="1110" y="137"/>
                  </a:lnTo>
                  <a:lnTo>
                    <a:pt x="1121" y="133"/>
                  </a:lnTo>
                  <a:lnTo>
                    <a:pt x="1131" y="127"/>
                  </a:lnTo>
                  <a:lnTo>
                    <a:pt x="1142" y="121"/>
                  </a:lnTo>
                  <a:lnTo>
                    <a:pt x="1153" y="118"/>
                  </a:lnTo>
                  <a:lnTo>
                    <a:pt x="1167" y="118"/>
                  </a:lnTo>
                  <a:lnTo>
                    <a:pt x="1180" y="120"/>
                  </a:lnTo>
                  <a:lnTo>
                    <a:pt x="1191" y="124"/>
                  </a:lnTo>
                  <a:lnTo>
                    <a:pt x="1202" y="129"/>
                  </a:lnTo>
                  <a:lnTo>
                    <a:pt x="1210" y="136"/>
                  </a:lnTo>
                  <a:lnTo>
                    <a:pt x="1220" y="142"/>
                  </a:lnTo>
                  <a:lnTo>
                    <a:pt x="1233" y="144"/>
                  </a:lnTo>
                  <a:lnTo>
                    <a:pt x="1247" y="143"/>
                  </a:lnTo>
                  <a:lnTo>
                    <a:pt x="1259" y="141"/>
                  </a:lnTo>
                  <a:lnTo>
                    <a:pt x="1272" y="138"/>
                  </a:lnTo>
                  <a:lnTo>
                    <a:pt x="1285" y="136"/>
                  </a:lnTo>
                  <a:lnTo>
                    <a:pt x="1296" y="132"/>
                  </a:lnTo>
                  <a:lnTo>
                    <a:pt x="1307" y="127"/>
                  </a:lnTo>
                  <a:lnTo>
                    <a:pt x="1318" y="122"/>
                  </a:lnTo>
                  <a:lnTo>
                    <a:pt x="1329" y="119"/>
                  </a:lnTo>
                  <a:lnTo>
                    <a:pt x="1343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36760" y="2489040"/>
              <a:ext cx="1116000" cy="800280"/>
            </a:xfrm>
            <a:custGeom>
              <a:avLst/>
              <a:gdLst/>
              <a:ahLst/>
              <a:rect l="l" t="t" r="r" b="b"/>
              <a:pathLst>
                <a:path w="2107" h="1007">
                  <a:moveTo>
                    <a:pt x="1344" y="120"/>
                  </a:moveTo>
                  <a:lnTo>
                    <a:pt x="1368" y="117"/>
                  </a:lnTo>
                  <a:lnTo>
                    <a:pt x="1380" y="117"/>
                  </a:lnTo>
                  <a:lnTo>
                    <a:pt x="1394" y="119"/>
                  </a:lnTo>
                  <a:lnTo>
                    <a:pt x="1407" y="121"/>
                  </a:lnTo>
                  <a:lnTo>
                    <a:pt x="1419" y="123"/>
                  </a:lnTo>
                  <a:lnTo>
                    <a:pt x="1432" y="125"/>
                  </a:lnTo>
                  <a:lnTo>
                    <a:pt x="1443" y="129"/>
                  </a:lnTo>
                  <a:lnTo>
                    <a:pt x="1456" y="132"/>
                  </a:lnTo>
                  <a:lnTo>
                    <a:pt x="1468" y="134"/>
                  </a:lnTo>
                  <a:lnTo>
                    <a:pt x="1482" y="134"/>
                  </a:lnTo>
                  <a:lnTo>
                    <a:pt x="1495" y="133"/>
                  </a:lnTo>
                  <a:lnTo>
                    <a:pt x="1507" y="132"/>
                  </a:lnTo>
                  <a:lnTo>
                    <a:pt x="1521" y="132"/>
                  </a:lnTo>
                  <a:lnTo>
                    <a:pt x="1534" y="131"/>
                  </a:lnTo>
                  <a:lnTo>
                    <a:pt x="1547" y="129"/>
                  </a:lnTo>
                  <a:lnTo>
                    <a:pt x="1559" y="126"/>
                  </a:lnTo>
                  <a:lnTo>
                    <a:pt x="1572" y="123"/>
                  </a:lnTo>
                  <a:lnTo>
                    <a:pt x="1583" y="119"/>
                  </a:lnTo>
                  <a:lnTo>
                    <a:pt x="1596" y="117"/>
                  </a:lnTo>
                  <a:lnTo>
                    <a:pt x="1608" y="113"/>
                  </a:lnTo>
                  <a:lnTo>
                    <a:pt x="1618" y="108"/>
                  </a:lnTo>
                  <a:lnTo>
                    <a:pt x="1628" y="102"/>
                  </a:lnTo>
                  <a:lnTo>
                    <a:pt x="1639" y="96"/>
                  </a:lnTo>
                  <a:lnTo>
                    <a:pt x="1647" y="89"/>
                  </a:lnTo>
                  <a:lnTo>
                    <a:pt x="1658" y="83"/>
                  </a:lnTo>
                  <a:lnTo>
                    <a:pt x="1670" y="81"/>
                  </a:lnTo>
                  <a:lnTo>
                    <a:pt x="1681" y="76"/>
                  </a:lnTo>
                  <a:lnTo>
                    <a:pt x="1691" y="69"/>
                  </a:lnTo>
                  <a:lnTo>
                    <a:pt x="1696" y="61"/>
                  </a:lnTo>
                  <a:lnTo>
                    <a:pt x="1698" y="52"/>
                  </a:lnTo>
                  <a:lnTo>
                    <a:pt x="1699" y="42"/>
                  </a:lnTo>
                  <a:lnTo>
                    <a:pt x="1702" y="33"/>
                  </a:lnTo>
                  <a:lnTo>
                    <a:pt x="1709" y="25"/>
                  </a:lnTo>
                  <a:lnTo>
                    <a:pt x="1717" y="19"/>
                  </a:lnTo>
                  <a:lnTo>
                    <a:pt x="1730" y="16"/>
                  </a:lnTo>
                  <a:lnTo>
                    <a:pt x="1742" y="14"/>
                  </a:lnTo>
                  <a:lnTo>
                    <a:pt x="1756" y="13"/>
                  </a:lnTo>
                  <a:lnTo>
                    <a:pt x="1769" y="12"/>
                  </a:lnTo>
                  <a:lnTo>
                    <a:pt x="1779" y="7"/>
                  </a:lnTo>
                  <a:lnTo>
                    <a:pt x="1791" y="3"/>
                  </a:lnTo>
                  <a:lnTo>
                    <a:pt x="1804" y="1"/>
                  </a:lnTo>
                  <a:lnTo>
                    <a:pt x="1816" y="0"/>
                  </a:lnTo>
                  <a:lnTo>
                    <a:pt x="1830" y="0"/>
                  </a:lnTo>
                  <a:lnTo>
                    <a:pt x="1843" y="2"/>
                  </a:lnTo>
                  <a:lnTo>
                    <a:pt x="1854" y="5"/>
                  </a:lnTo>
                  <a:lnTo>
                    <a:pt x="1867" y="9"/>
                  </a:lnTo>
                  <a:lnTo>
                    <a:pt x="1879" y="9"/>
                  </a:lnTo>
                  <a:lnTo>
                    <a:pt x="1892" y="9"/>
                  </a:lnTo>
                  <a:lnTo>
                    <a:pt x="1904" y="12"/>
                  </a:lnTo>
                  <a:lnTo>
                    <a:pt x="1917" y="14"/>
                  </a:lnTo>
                  <a:lnTo>
                    <a:pt x="1928" y="13"/>
                  </a:lnTo>
                  <a:lnTo>
                    <a:pt x="1944" y="18"/>
                  </a:lnTo>
                  <a:lnTo>
                    <a:pt x="1956" y="20"/>
                  </a:lnTo>
                  <a:lnTo>
                    <a:pt x="1970" y="21"/>
                  </a:lnTo>
                  <a:lnTo>
                    <a:pt x="1983" y="23"/>
                  </a:lnTo>
                  <a:lnTo>
                    <a:pt x="1995" y="26"/>
                  </a:lnTo>
                  <a:lnTo>
                    <a:pt x="2007" y="29"/>
                  </a:lnTo>
                  <a:lnTo>
                    <a:pt x="2019" y="33"/>
                  </a:lnTo>
                  <a:lnTo>
                    <a:pt x="2030" y="38"/>
                  </a:lnTo>
                  <a:lnTo>
                    <a:pt x="2036" y="46"/>
                  </a:lnTo>
                  <a:lnTo>
                    <a:pt x="2039" y="55"/>
                  </a:lnTo>
                  <a:lnTo>
                    <a:pt x="2040" y="65"/>
                  </a:lnTo>
                  <a:lnTo>
                    <a:pt x="2041" y="74"/>
                  </a:lnTo>
                  <a:lnTo>
                    <a:pt x="2044" y="83"/>
                  </a:lnTo>
                  <a:lnTo>
                    <a:pt x="2046" y="92"/>
                  </a:lnTo>
                  <a:lnTo>
                    <a:pt x="2048" y="102"/>
                  </a:lnTo>
                  <a:lnTo>
                    <a:pt x="2054" y="110"/>
                  </a:lnTo>
                  <a:lnTo>
                    <a:pt x="2065" y="115"/>
                  </a:lnTo>
                  <a:lnTo>
                    <a:pt x="2078" y="119"/>
                  </a:lnTo>
                  <a:lnTo>
                    <a:pt x="2079" y="125"/>
                  </a:lnTo>
                  <a:lnTo>
                    <a:pt x="2076" y="134"/>
                  </a:lnTo>
                  <a:lnTo>
                    <a:pt x="2072" y="141"/>
                  </a:lnTo>
                  <a:lnTo>
                    <a:pt x="2075" y="150"/>
                  </a:lnTo>
                  <a:lnTo>
                    <a:pt x="2071" y="159"/>
                  </a:lnTo>
                  <a:lnTo>
                    <a:pt x="2068" y="168"/>
                  </a:lnTo>
                  <a:lnTo>
                    <a:pt x="2071" y="177"/>
                  </a:lnTo>
                  <a:lnTo>
                    <a:pt x="2079" y="183"/>
                  </a:lnTo>
                  <a:lnTo>
                    <a:pt x="2089" y="189"/>
                  </a:lnTo>
                  <a:lnTo>
                    <a:pt x="2093" y="197"/>
                  </a:lnTo>
                  <a:lnTo>
                    <a:pt x="2104" y="204"/>
                  </a:lnTo>
                  <a:lnTo>
                    <a:pt x="2107" y="211"/>
                  </a:lnTo>
                  <a:lnTo>
                    <a:pt x="2100" y="219"/>
                  </a:lnTo>
                  <a:lnTo>
                    <a:pt x="2090" y="226"/>
                  </a:lnTo>
                  <a:lnTo>
                    <a:pt x="2079" y="232"/>
                  </a:lnTo>
                  <a:lnTo>
                    <a:pt x="2068" y="234"/>
                  </a:lnTo>
                  <a:lnTo>
                    <a:pt x="2061" y="226"/>
                  </a:lnTo>
                  <a:lnTo>
                    <a:pt x="2050" y="220"/>
                  </a:lnTo>
                  <a:lnTo>
                    <a:pt x="2039" y="215"/>
                  </a:lnTo>
                  <a:lnTo>
                    <a:pt x="2026" y="213"/>
                  </a:lnTo>
                  <a:lnTo>
                    <a:pt x="2015" y="210"/>
                  </a:lnTo>
                  <a:lnTo>
                    <a:pt x="2001" y="212"/>
                  </a:lnTo>
                  <a:lnTo>
                    <a:pt x="1995" y="219"/>
                  </a:lnTo>
                  <a:lnTo>
                    <a:pt x="1987" y="222"/>
                  </a:lnTo>
                  <a:lnTo>
                    <a:pt x="1976" y="219"/>
                  </a:lnTo>
                  <a:lnTo>
                    <a:pt x="1966" y="222"/>
                  </a:lnTo>
                  <a:lnTo>
                    <a:pt x="1955" y="224"/>
                  </a:lnTo>
                  <a:lnTo>
                    <a:pt x="1944" y="224"/>
                  </a:lnTo>
                  <a:lnTo>
                    <a:pt x="1937" y="230"/>
                  </a:lnTo>
                  <a:lnTo>
                    <a:pt x="1939" y="239"/>
                  </a:lnTo>
                  <a:lnTo>
                    <a:pt x="1939" y="248"/>
                  </a:lnTo>
                  <a:lnTo>
                    <a:pt x="1935" y="256"/>
                  </a:lnTo>
                  <a:lnTo>
                    <a:pt x="1942" y="264"/>
                  </a:lnTo>
                  <a:lnTo>
                    <a:pt x="1931" y="269"/>
                  </a:lnTo>
                  <a:lnTo>
                    <a:pt x="1934" y="277"/>
                  </a:lnTo>
                  <a:lnTo>
                    <a:pt x="1938" y="285"/>
                  </a:lnTo>
                  <a:lnTo>
                    <a:pt x="1941" y="293"/>
                  </a:lnTo>
                  <a:lnTo>
                    <a:pt x="1951" y="300"/>
                  </a:lnTo>
                  <a:lnTo>
                    <a:pt x="1953" y="310"/>
                  </a:lnTo>
                  <a:lnTo>
                    <a:pt x="1955" y="319"/>
                  </a:lnTo>
                  <a:lnTo>
                    <a:pt x="1958" y="328"/>
                  </a:lnTo>
                  <a:lnTo>
                    <a:pt x="1956" y="337"/>
                  </a:lnTo>
                  <a:lnTo>
                    <a:pt x="1955" y="346"/>
                  </a:lnTo>
                  <a:lnTo>
                    <a:pt x="1960" y="355"/>
                  </a:lnTo>
                  <a:lnTo>
                    <a:pt x="1951" y="355"/>
                  </a:lnTo>
                  <a:lnTo>
                    <a:pt x="1938" y="352"/>
                  </a:lnTo>
                  <a:lnTo>
                    <a:pt x="1925" y="350"/>
                  </a:lnTo>
                  <a:lnTo>
                    <a:pt x="1913" y="350"/>
                  </a:lnTo>
                  <a:lnTo>
                    <a:pt x="1900" y="352"/>
                  </a:lnTo>
                  <a:lnTo>
                    <a:pt x="1888" y="352"/>
                  </a:lnTo>
                  <a:lnTo>
                    <a:pt x="1875" y="348"/>
                  </a:lnTo>
                  <a:lnTo>
                    <a:pt x="1863" y="345"/>
                  </a:lnTo>
                  <a:lnTo>
                    <a:pt x="1854" y="339"/>
                  </a:lnTo>
                  <a:lnTo>
                    <a:pt x="1842" y="335"/>
                  </a:lnTo>
                  <a:lnTo>
                    <a:pt x="1832" y="329"/>
                  </a:lnTo>
                  <a:lnTo>
                    <a:pt x="1822" y="323"/>
                  </a:lnTo>
                  <a:lnTo>
                    <a:pt x="1809" y="320"/>
                  </a:lnTo>
                  <a:lnTo>
                    <a:pt x="1797" y="319"/>
                  </a:lnTo>
                  <a:lnTo>
                    <a:pt x="1791" y="322"/>
                  </a:lnTo>
                  <a:lnTo>
                    <a:pt x="1793" y="331"/>
                  </a:lnTo>
                  <a:lnTo>
                    <a:pt x="1787" y="338"/>
                  </a:lnTo>
                  <a:lnTo>
                    <a:pt x="1774" y="338"/>
                  </a:lnTo>
                  <a:lnTo>
                    <a:pt x="1762" y="339"/>
                  </a:lnTo>
                  <a:lnTo>
                    <a:pt x="1749" y="340"/>
                  </a:lnTo>
                  <a:lnTo>
                    <a:pt x="1735" y="338"/>
                  </a:lnTo>
                  <a:lnTo>
                    <a:pt x="1741" y="343"/>
                  </a:lnTo>
                  <a:lnTo>
                    <a:pt x="1751" y="349"/>
                  </a:lnTo>
                  <a:lnTo>
                    <a:pt x="1762" y="354"/>
                  </a:lnTo>
                  <a:lnTo>
                    <a:pt x="1774" y="358"/>
                  </a:lnTo>
                  <a:lnTo>
                    <a:pt x="1783" y="365"/>
                  </a:lnTo>
                  <a:lnTo>
                    <a:pt x="1787" y="374"/>
                  </a:lnTo>
                  <a:lnTo>
                    <a:pt x="1800" y="379"/>
                  </a:lnTo>
                  <a:lnTo>
                    <a:pt x="1794" y="383"/>
                  </a:lnTo>
                  <a:lnTo>
                    <a:pt x="1780" y="386"/>
                  </a:lnTo>
                  <a:lnTo>
                    <a:pt x="1770" y="387"/>
                  </a:lnTo>
                  <a:lnTo>
                    <a:pt x="1760" y="393"/>
                  </a:lnTo>
                  <a:lnTo>
                    <a:pt x="1751" y="399"/>
                  </a:lnTo>
                  <a:lnTo>
                    <a:pt x="1741" y="405"/>
                  </a:lnTo>
                  <a:lnTo>
                    <a:pt x="1730" y="410"/>
                  </a:lnTo>
                  <a:lnTo>
                    <a:pt x="1723" y="417"/>
                  </a:lnTo>
                  <a:lnTo>
                    <a:pt x="1717" y="426"/>
                  </a:lnTo>
                  <a:lnTo>
                    <a:pt x="1710" y="434"/>
                  </a:lnTo>
                  <a:lnTo>
                    <a:pt x="1699" y="437"/>
                  </a:lnTo>
                  <a:lnTo>
                    <a:pt x="1686" y="441"/>
                  </a:lnTo>
                  <a:lnTo>
                    <a:pt x="1675" y="445"/>
                  </a:lnTo>
                  <a:lnTo>
                    <a:pt x="1675" y="455"/>
                  </a:lnTo>
                  <a:lnTo>
                    <a:pt x="1675" y="464"/>
                  </a:lnTo>
                  <a:lnTo>
                    <a:pt x="1677" y="473"/>
                  </a:lnTo>
                  <a:lnTo>
                    <a:pt x="1665" y="478"/>
                  </a:lnTo>
                  <a:lnTo>
                    <a:pt x="1654" y="482"/>
                  </a:lnTo>
                  <a:lnTo>
                    <a:pt x="1640" y="489"/>
                  </a:lnTo>
                  <a:lnTo>
                    <a:pt x="1629" y="494"/>
                  </a:lnTo>
                  <a:lnTo>
                    <a:pt x="1622" y="502"/>
                  </a:lnTo>
                  <a:lnTo>
                    <a:pt x="1614" y="510"/>
                  </a:lnTo>
                  <a:lnTo>
                    <a:pt x="1603" y="514"/>
                  </a:lnTo>
                  <a:lnTo>
                    <a:pt x="1590" y="514"/>
                  </a:lnTo>
                  <a:lnTo>
                    <a:pt x="1580" y="521"/>
                  </a:lnTo>
                  <a:lnTo>
                    <a:pt x="1568" y="521"/>
                  </a:lnTo>
                  <a:lnTo>
                    <a:pt x="1555" y="521"/>
                  </a:lnTo>
                  <a:lnTo>
                    <a:pt x="1542" y="520"/>
                  </a:lnTo>
                  <a:lnTo>
                    <a:pt x="1528" y="519"/>
                  </a:lnTo>
                  <a:lnTo>
                    <a:pt x="1516" y="521"/>
                  </a:lnTo>
                  <a:lnTo>
                    <a:pt x="1503" y="523"/>
                  </a:lnTo>
                  <a:lnTo>
                    <a:pt x="1491" y="523"/>
                  </a:lnTo>
                  <a:lnTo>
                    <a:pt x="1484" y="525"/>
                  </a:lnTo>
                  <a:lnTo>
                    <a:pt x="1478" y="534"/>
                  </a:lnTo>
                  <a:lnTo>
                    <a:pt x="1467" y="536"/>
                  </a:lnTo>
                  <a:lnTo>
                    <a:pt x="1454" y="531"/>
                  </a:lnTo>
                  <a:lnTo>
                    <a:pt x="1443" y="527"/>
                  </a:lnTo>
                  <a:lnTo>
                    <a:pt x="1431" y="524"/>
                  </a:lnTo>
                  <a:lnTo>
                    <a:pt x="1419" y="521"/>
                  </a:lnTo>
                  <a:lnTo>
                    <a:pt x="1408" y="516"/>
                  </a:lnTo>
                  <a:lnTo>
                    <a:pt x="1394" y="514"/>
                  </a:lnTo>
                  <a:lnTo>
                    <a:pt x="1383" y="518"/>
                  </a:lnTo>
                  <a:lnTo>
                    <a:pt x="1375" y="524"/>
                  </a:lnTo>
                  <a:lnTo>
                    <a:pt x="1363" y="529"/>
                  </a:lnTo>
                  <a:lnTo>
                    <a:pt x="1351" y="530"/>
                  </a:lnTo>
                  <a:lnTo>
                    <a:pt x="1338" y="524"/>
                  </a:lnTo>
                  <a:lnTo>
                    <a:pt x="1331" y="530"/>
                  </a:lnTo>
                  <a:lnTo>
                    <a:pt x="1326" y="539"/>
                  </a:lnTo>
                  <a:lnTo>
                    <a:pt x="1322" y="548"/>
                  </a:lnTo>
                  <a:lnTo>
                    <a:pt x="1316" y="558"/>
                  </a:lnTo>
                  <a:lnTo>
                    <a:pt x="1308" y="562"/>
                  </a:lnTo>
                  <a:lnTo>
                    <a:pt x="1296" y="557"/>
                  </a:lnTo>
                  <a:lnTo>
                    <a:pt x="1287" y="550"/>
                  </a:lnTo>
                  <a:lnTo>
                    <a:pt x="1274" y="552"/>
                  </a:lnTo>
                  <a:lnTo>
                    <a:pt x="1261" y="553"/>
                  </a:lnTo>
                  <a:lnTo>
                    <a:pt x="1247" y="552"/>
                  </a:lnTo>
                  <a:lnTo>
                    <a:pt x="1235" y="552"/>
                  </a:lnTo>
                  <a:lnTo>
                    <a:pt x="1224" y="554"/>
                  </a:lnTo>
                  <a:lnTo>
                    <a:pt x="1218" y="563"/>
                  </a:lnTo>
                  <a:lnTo>
                    <a:pt x="1210" y="568"/>
                  </a:lnTo>
                  <a:lnTo>
                    <a:pt x="1212" y="576"/>
                  </a:lnTo>
                  <a:lnTo>
                    <a:pt x="1218" y="585"/>
                  </a:lnTo>
                  <a:lnTo>
                    <a:pt x="1225" y="593"/>
                  </a:lnTo>
                  <a:lnTo>
                    <a:pt x="1231" y="602"/>
                  </a:lnTo>
                  <a:lnTo>
                    <a:pt x="1235" y="611"/>
                  </a:lnTo>
                  <a:lnTo>
                    <a:pt x="1226" y="616"/>
                  </a:lnTo>
                  <a:lnTo>
                    <a:pt x="1212" y="615"/>
                  </a:lnTo>
                  <a:lnTo>
                    <a:pt x="1199" y="615"/>
                  </a:lnTo>
                  <a:lnTo>
                    <a:pt x="1193" y="618"/>
                  </a:lnTo>
                  <a:lnTo>
                    <a:pt x="1205" y="624"/>
                  </a:lnTo>
                  <a:lnTo>
                    <a:pt x="1214" y="630"/>
                  </a:lnTo>
                  <a:lnTo>
                    <a:pt x="1217" y="639"/>
                  </a:lnTo>
                  <a:lnTo>
                    <a:pt x="1212" y="645"/>
                  </a:lnTo>
                  <a:lnTo>
                    <a:pt x="1199" y="644"/>
                  </a:lnTo>
                  <a:lnTo>
                    <a:pt x="1197" y="650"/>
                  </a:lnTo>
                  <a:lnTo>
                    <a:pt x="1203" y="659"/>
                  </a:lnTo>
                  <a:lnTo>
                    <a:pt x="1193" y="663"/>
                  </a:lnTo>
                  <a:lnTo>
                    <a:pt x="1180" y="667"/>
                  </a:lnTo>
                  <a:lnTo>
                    <a:pt x="1172" y="673"/>
                  </a:lnTo>
                  <a:lnTo>
                    <a:pt x="1159" y="677"/>
                  </a:lnTo>
                  <a:lnTo>
                    <a:pt x="1155" y="681"/>
                  </a:lnTo>
                  <a:lnTo>
                    <a:pt x="1159" y="687"/>
                  </a:lnTo>
                  <a:lnTo>
                    <a:pt x="1151" y="695"/>
                  </a:lnTo>
                  <a:lnTo>
                    <a:pt x="1140" y="700"/>
                  </a:lnTo>
                  <a:lnTo>
                    <a:pt x="1131" y="693"/>
                  </a:lnTo>
                  <a:lnTo>
                    <a:pt x="1124" y="685"/>
                  </a:lnTo>
                  <a:lnTo>
                    <a:pt x="1117" y="689"/>
                  </a:lnTo>
                  <a:lnTo>
                    <a:pt x="1112" y="696"/>
                  </a:lnTo>
                  <a:lnTo>
                    <a:pt x="1099" y="697"/>
                  </a:lnTo>
                  <a:lnTo>
                    <a:pt x="1094" y="704"/>
                  </a:lnTo>
                  <a:lnTo>
                    <a:pt x="1089" y="713"/>
                  </a:lnTo>
                  <a:lnTo>
                    <a:pt x="1089" y="721"/>
                  </a:lnTo>
                  <a:lnTo>
                    <a:pt x="1082" y="729"/>
                  </a:lnTo>
                  <a:lnTo>
                    <a:pt x="1073" y="733"/>
                  </a:lnTo>
                  <a:lnTo>
                    <a:pt x="1064" y="740"/>
                  </a:lnTo>
                  <a:lnTo>
                    <a:pt x="1059" y="749"/>
                  </a:lnTo>
                  <a:lnTo>
                    <a:pt x="1053" y="757"/>
                  </a:lnTo>
                  <a:lnTo>
                    <a:pt x="1043" y="763"/>
                  </a:lnTo>
                  <a:lnTo>
                    <a:pt x="1039" y="766"/>
                  </a:lnTo>
                  <a:lnTo>
                    <a:pt x="1029" y="774"/>
                  </a:lnTo>
                  <a:lnTo>
                    <a:pt x="1020" y="769"/>
                  </a:lnTo>
                  <a:lnTo>
                    <a:pt x="1011" y="760"/>
                  </a:lnTo>
                  <a:lnTo>
                    <a:pt x="1007" y="752"/>
                  </a:lnTo>
                  <a:lnTo>
                    <a:pt x="996" y="750"/>
                  </a:lnTo>
                  <a:lnTo>
                    <a:pt x="985" y="755"/>
                  </a:lnTo>
                  <a:lnTo>
                    <a:pt x="979" y="763"/>
                  </a:lnTo>
                  <a:lnTo>
                    <a:pt x="968" y="769"/>
                  </a:lnTo>
                  <a:lnTo>
                    <a:pt x="962" y="777"/>
                  </a:lnTo>
                  <a:lnTo>
                    <a:pt x="954" y="784"/>
                  </a:lnTo>
                  <a:lnTo>
                    <a:pt x="948" y="792"/>
                  </a:lnTo>
                  <a:lnTo>
                    <a:pt x="948" y="801"/>
                  </a:lnTo>
                  <a:lnTo>
                    <a:pt x="955" y="809"/>
                  </a:lnTo>
                  <a:lnTo>
                    <a:pt x="965" y="816"/>
                  </a:lnTo>
                  <a:lnTo>
                    <a:pt x="976" y="820"/>
                  </a:lnTo>
                  <a:lnTo>
                    <a:pt x="983" y="828"/>
                  </a:lnTo>
                  <a:lnTo>
                    <a:pt x="992" y="835"/>
                  </a:lnTo>
                  <a:lnTo>
                    <a:pt x="997" y="838"/>
                  </a:lnTo>
                  <a:lnTo>
                    <a:pt x="986" y="841"/>
                  </a:lnTo>
                  <a:lnTo>
                    <a:pt x="973" y="843"/>
                  </a:lnTo>
                  <a:lnTo>
                    <a:pt x="959" y="845"/>
                  </a:lnTo>
                  <a:lnTo>
                    <a:pt x="945" y="847"/>
                  </a:lnTo>
                  <a:lnTo>
                    <a:pt x="934" y="852"/>
                  </a:lnTo>
                  <a:lnTo>
                    <a:pt x="923" y="854"/>
                  </a:lnTo>
                  <a:lnTo>
                    <a:pt x="915" y="846"/>
                  </a:lnTo>
                  <a:lnTo>
                    <a:pt x="905" y="843"/>
                  </a:lnTo>
                  <a:lnTo>
                    <a:pt x="902" y="853"/>
                  </a:lnTo>
                  <a:lnTo>
                    <a:pt x="897" y="862"/>
                  </a:lnTo>
                  <a:lnTo>
                    <a:pt x="887" y="867"/>
                  </a:lnTo>
                  <a:lnTo>
                    <a:pt x="874" y="871"/>
                  </a:lnTo>
                  <a:lnTo>
                    <a:pt x="867" y="875"/>
                  </a:lnTo>
                  <a:lnTo>
                    <a:pt x="856" y="869"/>
                  </a:lnTo>
                  <a:lnTo>
                    <a:pt x="845" y="865"/>
                  </a:lnTo>
                  <a:lnTo>
                    <a:pt x="835" y="861"/>
                  </a:lnTo>
                  <a:lnTo>
                    <a:pt x="825" y="855"/>
                  </a:lnTo>
                  <a:lnTo>
                    <a:pt x="817" y="847"/>
                  </a:lnTo>
                  <a:lnTo>
                    <a:pt x="810" y="839"/>
                  </a:lnTo>
                  <a:lnTo>
                    <a:pt x="803" y="831"/>
                  </a:lnTo>
                  <a:lnTo>
                    <a:pt x="799" y="822"/>
                  </a:lnTo>
                  <a:lnTo>
                    <a:pt x="789" y="818"/>
                  </a:lnTo>
                  <a:lnTo>
                    <a:pt x="775" y="816"/>
                  </a:lnTo>
                  <a:lnTo>
                    <a:pt x="764" y="812"/>
                  </a:lnTo>
                  <a:lnTo>
                    <a:pt x="753" y="807"/>
                  </a:lnTo>
                  <a:lnTo>
                    <a:pt x="743" y="801"/>
                  </a:lnTo>
                  <a:lnTo>
                    <a:pt x="736" y="793"/>
                  </a:lnTo>
                  <a:lnTo>
                    <a:pt x="729" y="785"/>
                  </a:lnTo>
                  <a:lnTo>
                    <a:pt x="734" y="776"/>
                  </a:lnTo>
                  <a:lnTo>
                    <a:pt x="726" y="771"/>
                  </a:lnTo>
                  <a:lnTo>
                    <a:pt x="734" y="760"/>
                  </a:lnTo>
                  <a:lnTo>
                    <a:pt x="733" y="753"/>
                  </a:lnTo>
                  <a:lnTo>
                    <a:pt x="725" y="748"/>
                  </a:lnTo>
                  <a:lnTo>
                    <a:pt x="712" y="744"/>
                  </a:lnTo>
                  <a:lnTo>
                    <a:pt x="699" y="741"/>
                  </a:lnTo>
                  <a:lnTo>
                    <a:pt x="685" y="737"/>
                  </a:lnTo>
                  <a:lnTo>
                    <a:pt x="674" y="732"/>
                  </a:lnTo>
                  <a:lnTo>
                    <a:pt x="666" y="725"/>
                  </a:lnTo>
                  <a:lnTo>
                    <a:pt x="658" y="718"/>
                  </a:lnTo>
                  <a:lnTo>
                    <a:pt x="646" y="713"/>
                  </a:lnTo>
                  <a:lnTo>
                    <a:pt x="631" y="711"/>
                  </a:lnTo>
                  <a:lnTo>
                    <a:pt x="627" y="716"/>
                  </a:lnTo>
                  <a:lnTo>
                    <a:pt x="635" y="724"/>
                  </a:lnTo>
                  <a:lnTo>
                    <a:pt x="641" y="733"/>
                  </a:lnTo>
                  <a:lnTo>
                    <a:pt x="641" y="743"/>
                  </a:lnTo>
                  <a:lnTo>
                    <a:pt x="635" y="752"/>
                  </a:lnTo>
                  <a:lnTo>
                    <a:pt x="639" y="759"/>
                  </a:lnTo>
                  <a:lnTo>
                    <a:pt x="638" y="769"/>
                  </a:lnTo>
                  <a:lnTo>
                    <a:pt x="628" y="776"/>
                  </a:lnTo>
                  <a:lnTo>
                    <a:pt x="618" y="782"/>
                  </a:lnTo>
                  <a:lnTo>
                    <a:pt x="607" y="780"/>
                  </a:lnTo>
                  <a:lnTo>
                    <a:pt x="597" y="773"/>
                  </a:lnTo>
                  <a:lnTo>
                    <a:pt x="586" y="776"/>
                  </a:lnTo>
                  <a:lnTo>
                    <a:pt x="575" y="781"/>
                  </a:lnTo>
                  <a:lnTo>
                    <a:pt x="567" y="788"/>
                  </a:lnTo>
                  <a:lnTo>
                    <a:pt x="554" y="789"/>
                  </a:lnTo>
                  <a:lnTo>
                    <a:pt x="547" y="781"/>
                  </a:lnTo>
                  <a:lnTo>
                    <a:pt x="540" y="773"/>
                  </a:lnTo>
                  <a:lnTo>
                    <a:pt x="533" y="771"/>
                  </a:lnTo>
                  <a:lnTo>
                    <a:pt x="526" y="764"/>
                  </a:lnTo>
                  <a:lnTo>
                    <a:pt x="515" y="770"/>
                  </a:lnTo>
                  <a:lnTo>
                    <a:pt x="504" y="775"/>
                  </a:lnTo>
                  <a:lnTo>
                    <a:pt x="491" y="777"/>
                  </a:lnTo>
                  <a:lnTo>
                    <a:pt x="481" y="781"/>
                  </a:lnTo>
                  <a:lnTo>
                    <a:pt x="480" y="791"/>
                  </a:lnTo>
                  <a:lnTo>
                    <a:pt x="486" y="799"/>
                  </a:lnTo>
                  <a:lnTo>
                    <a:pt x="493" y="807"/>
                  </a:lnTo>
                  <a:lnTo>
                    <a:pt x="493" y="817"/>
                  </a:lnTo>
                  <a:lnTo>
                    <a:pt x="483" y="823"/>
                  </a:lnTo>
                  <a:lnTo>
                    <a:pt x="470" y="826"/>
                  </a:lnTo>
                  <a:lnTo>
                    <a:pt x="460" y="831"/>
                  </a:lnTo>
                  <a:lnTo>
                    <a:pt x="467" y="839"/>
                  </a:lnTo>
                  <a:lnTo>
                    <a:pt x="472" y="848"/>
                  </a:lnTo>
                  <a:lnTo>
                    <a:pt x="473" y="857"/>
                  </a:lnTo>
                  <a:lnTo>
                    <a:pt x="472" y="867"/>
                  </a:lnTo>
                  <a:lnTo>
                    <a:pt x="466" y="875"/>
                  </a:lnTo>
                  <a:lnTo>
                    <a:pt x="456" y="882"/>
                  </a:lnTo>
                  <a:lnTo>
                    <a:pt x="446" y="887"/>
                  </a:lnTo>
                  <a:lnTo>
                    <a:pt x="435" y="892"/>
                  </a:lnTo>
                  <a:lnTo>
                    <a:pt x="427" y="900"/>
                  </a:lnTo>
                  <a:lnTo>
                    <a:pt x="423" y="908"/>
                  </a:lnTo>
                  <a:lnTo>
                    <a:pt x="421" y="917"/>
                  </a:lnTo>
                  <a:lnTo>
                    <a:pt x="413" y="925"/>
                  </a:lnTo>
                  <a:lnTo>
                    <a:pt x="409" y="934"/>
                  </a:lnTo>
                  <a:lnTo>
                    <a:pt x="413" y="943"/>
                  </a:lnTo>
                  <a:lnTo>
                    <a:pt x="421" y="951"/>
                  </a:lnTo>
                  <a:lnTo>
                    <a:pt x="417" y="963"/>
                  </a:lnTo>
                  <a:lnTo>
                    <a:pt x="404" y="965"/>
                  </a:lnTo>
                  <a:lnTo>
                    <a:pt x="389" y="965"/>
                  </a:lnTo>
                  <a:lnTo>
                    <a:pt x="370" y="969"/>
                  </a:lnTo>
                  <a:lnTo>
                    <a:pt x="358" y="973"/>
                  </a:lnTo>
                  <a:lnTo>
                    <a:pt x="347" y="978"/>
                  </a:lnTo>
                  <a:lnTo>
                    <a:pt x="337" y="984"/>
                  </a:lnTo>
                  <a:lnTo>
                    <a:pt x="328" y="991"/>
                  </a:lnTo>
                  <a:lnTo>
                    <a:pt x="321" y="998"/>
                  </a:lnTo>
                  <a:lnTo>
                    <a:pt x="325" y="1007"/>
                  </a:lnTo>
                  <a:lnTo>
                    <a:pt x="305" y="1002"/>
                  </a:lnTo>
                  <a:lnTo>
                    <a:pt x="297" y="995"/>
                  </a:lnTo>
                  <a:lnTo>
                    <a:pt x="284" y="996"/>
                  </a:lnTo>
                  <a:lnTo>
                    <a:pt x="272" y="999"/>
                  </a:lnTo>
                  <a:lnTo>
                    <a:pt x="258" y="998"/>
                  </a:lnTo>
                  <a:lnTo>
                    <a:pt x="248" y="1004"/>
                  </a:lnTo>
                  <a:lnTo>
                    <a:pt x="240" y="1004"/>
                  </a:lnTo>
                  <a:lnTo>
                    <a:pt x="228" y="1000"/>
                  </a:lnTo>
                  <a:lnTo>
                    <a:pt x="217" y="998"/>
                  </a:lnTo>
                  <a:lnTo>
                    <a:pt x="205" y="999"/>
                  </a:lnTo>
                  <a:lnTo>
                    <a:pt x="193" y="996"/>
                  </a:lnTo>
                  <a:lnTo>
                    <a:pt x="188" y="1003"/>
                  </a:lnTo>
                  <a:lnTo>
                    <a:pt x="178" y="1005"/>
                  </a:lnTo>
                  <a:lnTo>
                    <a:pt x="179" y="995"/>
                  </a:lnTo>
                  <a:lnTo>
                    <a:pt x="177" y="987"/>
                  </a:lnTo>
                  <a:lnTo>
                    <a:pt x="177" y="978"/>
                  </a:lnTo>
                  <a:lnTo>
                    <a:pt x="170" y="970"/>
                  </a:lnTo>
                  <a:lnTo>
                    <a:pt x="163" y="963"/>
                  </a:lnTo>
                  <a:lnTo>
                    <a:pt x="150" y="956"/>
                  </a:lnTo>
                  <a:lnTo>
                    <a:pt x="140" y="950"/>
                  </a:lnTo>
                  <a:lnTo>
                    <a:pt x="128" y="946"/>
                  </a:lnTo>
                  <a:lnTo>
                    <a:pt x="117" y="943"/>
                  </a:lnTo>
                  <a:lnTo>
                    <a:pt x="128" y="938"/>
                  </a:lnTo>
                  <a:lnTo>
                    <a:pt x="142" y="938"/>
                  </a:lnTo>
                  <a:lnTo>
                    <a:pt x="153" y="936"/>
                  </a:lnTo>
                  <a:lnTo>
                    <a:pt x="160" y="928"/>
                  </a:lnTo>
                  <a:lnTo>
                    <a:pt x="157" y="919"/>
                  </a:lnTo>
                  <a:lnTo>
                    <a:pt x="150" y="912"/>
                  </a:lnTo>
                  <a:lnTo>
                    <a:pt x="142" y="907"/>
                  </a:lnTo>
                  <a:lnTo>
                    <a:pt x="136" y="899"/>
                  </a:lnTo>
                  <a:lnTo>
                    <a:pt x="126" y="893"/>
                  </a:lnTo>
                  <a:lnTo>
                    <a:pt x="114" y="895"/>
                  </a:lnTo>
                  <a:lnTo>
                    <a:pt x="103" y="890"/>
                  </a:lnTo>
                  <a:lnTo>
                    <a:pt x="90" y="890"/>
                  </a:lnTo>
                  <a:lnTo>
                    <a:pt x="79" y="896"/>
                  </a:lnTo>
                  <a:lnTo>
                    <a:pt x="70" y="903"/>
                  </a:lnTo>
                  <a:lnTo>
                    <a:pt x="58" y="902"/>
                  </a:lnTo>
                  <a:lnTo>
                    <a:pt x="47" y="898"/>
                  </a:lnTo>
                  <a:lnTo>
                    <a:pt x="34" y="893"/>
                  </a:lnTo>
                  <a:lnTo>
                    <a:pt x="23" y="888"/>
                  </a:lnTo>
                  <a:lnTo>
                    <a:pt x="14" y="882"/>
                  </a:lnTo>
                  <a:lnTo>
                    <a:pt x="16" y="874"/>
                  </a:lnTo>
                  <a:lnTo>
                    <a:pt x="14" y="864"/>
                  </a:lnTo>
                  <a:lnTo>
                    <a:pt x="19" y="855"/>
                  </a:lnTo>
                  <a:lnTo>
                    <a:pt x="23" y="847"/>
                  </a:lnTo>
                  <a:lnTo>
                    <a:pt x="27" y="838"/>
                  </a:lnTo>
                  <a:lnTo>
                    <a:pt x="37" y="832"/>
                  </a:lnTo>
                  <a:lnTo>
                    <a:pt x="44" y="824"/>
                  </a:lnTo>
                  <a:lnTo>
                    <a:pt x="52" y="816"/>
                  </a:lnTo>
                  <a:lnTo>
                    <a:pt x="58" y="808"/>
                  </a:lnTo>
                  <a:lnTo>
                    <a:pt x="54" y="800"/>
                  </a:lnTo>
                  <a:lnTo>
                    <a:pt x="41" y="795"/>
                  </a:lnTo>
                  <a:lnTo>
                    <a:pt x="49" y="792"/>
                  </a:lnTo>
                  <a:lnTo>
                    <a:pt x="44" y="784"/>
                  </a:lnTo>
                  <a:lnTo>
                    <a:pt x="35" y="776"/>
                  </a:lnTo>
                  <a:lnTo>
                    <a:pt x="31" y="766"/>
                  </a:lnTo>
                  <a:lnTo>
                    <a:pt x="27" y="758"/>
                  </a:lnTo>
                  <a:lnTo>
                    <a:pt x="14" y="762"/>
                  </a:lnTo>
                  <a:lnTo>
                    <a:pt x="7" y="755"/>
                  </a:lnTo>
                  <a:lnTo>
                    <a:pt x="0" y="746"/>
                  </a:lnTo>
                  <a:lnTo>
                    <a:pt x="10" y="742"/>
                  </a:lnTo>
                  <a:lnTo>
                    <a:pt x="24" y="739"/>
                  </a:lnTo>
                  <a:lnTo>
                    <a:pt x="35" y="734"/>
                  </a:lnTo>
                  <a:lnTo>
                    <a:pt x="26" y="730"/>
                  </a:lnTo>
                  <a:lnTo>
                    <a:pt x="13" y="725"/>
                  </a:lnTo>
                  <a:lnTo>
                    <a:pt x="14" y="717"/>
                  </a:lnTo>
                  <a:lnTo>
                    <a:pt x="10" y="710"/>
                  </a:lnTo>
                  <a:lnTo>
                    <a:pt x="16" y="705"/>
                  </a:lnTo>
                  <a:lnTo>
                    <a:pt x="28" y="702"/>
                  </a:lnTo>
                  <a:lnTo>
                    <a:pt x="41" y="705"/>
                  </a:lnTo>
                  <a:lnTo>
                    <a:pt x="37" y="697"/>
                  </a:lnTo>
                  <a:lnTo>
                    <a:pt x="31" y="689"/>
                  </a:lnTo>
                  <a:lnTo>
                    <a:pt x="34" y="681"/>
                  </a:lnTo>
                  <a:lnTo>
                    <a:pt x="45" y="675"/>
                  </a:lnTo>
                  <a:lnTo>
                    <a:pt x="55" y="669"/>
                  </a:lnTo>
                  <a:lnTo>
                    <a:pt x="66" y="663"/>
                  </a:lnTo>
                  <a:lnTo>
                    <a:pt x="76" y="663"/>
                  </a:lnTo>
                  <a:lnTo>
                    <a:pt x="83" y="661"/>
                  </a:lnTo>
                  <a:lnTo>
                    <a:pt x="76" y="653"/>
                  </a:lnTo>
                  <a:lnTo>
                    <a:pt x="86" y="648"/>
                  </a:lnTo>
                  <a:lnTo>
                    <a:pt x="76" y="641"/>
                  </a:lnTo>
                  <a:lnTo>
                    <a:pt x="68" y="634"/>
                  </a:lnTo>
                  <a:lnTo>
                    <a:pt x="62" y="625"/>
                  </a:lnTo>
                  <a:lnTo>
                    <a:pt x="56" y="617"/>
                  </a:lnTo>
                  <a:lnTo>
                    <a:pt x="52" y="608"/>
                  </a:lnTo>
                  <a:lnTo>
                    <a:pt x="45" y="602"/>
                  </a:lnTo>
                  <a:lnTo>
                    <a:pt x="37" y="598"/>
                  </a:lnTo>
                  <a:lnTo>
                    <a:pt x="37" y="589"/>
                  </a:lnTo>
                  <a:lnTo>
                    <a:pt x="37" y="580"/>
                  </a:lnTo>
                  <a:lnTo>
                    <a:pt x="34" y="571"/>
                  </a:lnTo>
                  <a:lnTo>
                    <a:pt x="33" y="562"/>
                  </a:lnTo>
                  <a:lnTo>
                    <a:pt x="38" y="553"/>
                  </a:lnTo>
                  <a:lnTo>
                    <a:pt x="41" y="562"/>
                  </a:lnTo>
                  <a:lnTo>
                    <a:pt x="52" y="565"/>
                  </a:lnTo>
                  <a:lnTo>
                    <a:pt x="65" y="567"/>
                  </a:lnTo>
                  <a:lnTo>
                    <a:pt x="77" y="572"/>
                  </a:lnTo>
                  <a:lnTo>
                    <a:pt x="89" y="573"/>
                  </a:lnTo>
                  <a:lnTo>
                    <a:pt x="103" y="571"/>
                  </a:lnTo>
                  <a:lnTo>
                    <a:pt x="114" y="568"/>
                  </a:lnTo>
                  <a:lnTo>
                    <a:pt x="126" y="563"/>
                  </a:lnTo>
                  <a:lnTo>
                    <a:pt x="136" y="560"/>
                  </a:lnTo>
                  <a:lnTo>
                    <a:pt x="129" y="551"/>
                  </a:lnTo>
                  <a:lnTo>
                    <a:pt x="121" y="545"/>
                  </a:lnTo>
                  <a:lnTo>
                    <a:pt x="117" y="553"/>
                  </a:lnTo>
                  <a:lnTo>
                    <a:pt x="107" y="551"/>
                  </a:lnTo>
                  <a:lnTo>
                    <a:pt x="94" y="546"/>
                  </a:lnTo>
                  <a:lnTo>
                    <a:pt x="82" y="541"/>
                  </a:lnTo>
                  <a:lnTo>
                    <a:pt x="76" y="535"/>
                  </a:lnTo>
                  <a:lnTo>
                    <a:pt x="82" y="527"/>
                  </a:lnTo>
                  <a:lnTo>
                    <a:pt x="89" y="519"/>
                  </a:lnTo>
                  <a:lnTo>
                    <a:pt x="97" y="510"/>
                  </a:lnTo>
                  <a:lnTo>
                    <a:pt x="101" y="501"/>
                  </a:lnTo>
                  <a:lnTo>
                    <a:pt x="110" y="494"/>
                  </a:lnTo>
                  <a:lnTo>
                    <a:pt x="101" y="488"/>
                  </a:lnTo>
                  <a:lnTo>
                    <a:pt x="91" y="484"/>
                  </a:lnTo>
                  <a:lnTo>
                    <a:pt x="103" y="479"/>
                  </a:lnTo>
                  <a:lnTo>
                    <a:pt x="111" y="471"/>
                  </a:lnTo>
                  <a:lnTo>
                    <a:pt x="117" y="463"/>
                  </a:lnTo>
                  <a:lnTo>
                    <a:pt x="119" y="454"/>
                  </a:lnTo>
                  <a:lnTo>
                    <a:pt x="124" y="445"/>
                  </a:lnTo>
                  <a:lnTo>
                    <a:pt x="126" y="436"/>
                  </a:lnTo>
                  <a:lnTo>
                    <a:pt x="130" y="426"/>
                  </a:lnTo>
                  <a:lnTo>
                    <a:pt x="130" y="418"/>
                  </a:lnTo>
                  <a:lnTo>
                    <a:pt x="121" y="413"/>
                  </a:lnTo>
                  <a:lnTo>
                    <a:pt x="111" y="414"/>
                  </a:lnTo>
                  <a:lnTo>
                    <a:pt x="98" y="411"/>
                  </a:lnTo>
                  <a:lnTo>
                    <a:pt x="87" y="408"/>
                  </a:lnTo>
                  <a:lnTo>
                    <a:pt x="75" y="403"/>
                  </a:lnTo>
                  <a:lnTo>
                    <a:pt x="65" y="398"/>
                  </a:lnTo>
                  <a:lnTo>
                    <a:pt x="58" y="392"/>
                  </a:lnTo>
                  <a:lnTo>
                    <a:pt x="52" y="384"/>
                  </a:lnTo>
                  <a:lnTo>
                    <a:pt x="47" y="375"/>
                  </a:lnTo>
                  <a:lnTo>
                    <a:pt x="54" y="365"/>
                  </a:lnTo>
                  <a:lnTo>
                    <a:pt x="59" y="357"/>
                  </a:lnTo>
                  <a:lnTo>
                    <a:pt x="62" y="347"/>
                  </a:lnTo>
                  <a:lnTo>
                    <a:pt x="65" y="338"/>
                  </a:lnTo>
                  <a:lnTo>
                    <a:pt x="66" y="329"/>
                  </a:lnTo>
                  <a:lnTo>
                    <a:pt x="70" y="320"/>
                  </a:lnTo>
                  <a:lnTo>
                    <a:pt x="72" y="311"/>
                  </a:lnTo>
                  <a:lnTo>
                    <a:pt x="75" y="301"/>
                  </a:lnTo>
                  <a:lnTo>
                    <a:pt x="70" y="292"/>
                  </a:lnTo>
                  <a:lnTo>
                    <a:pt x="61" y="287"/>
                  </a:lnTo>
                  <a:lnTo>
                    <a:pt x="52" y="281"/>
                  </a:lnTo>
                  <a:lnTo>
                    <a:pt x="58" y="272"/>
                  </a:lnTo>
                  <a:lnTo>
                    <a:pt x="61" y="264"/>
                  </a:lnTo>
                  <a:lnTo>
                    <a:pt x="66" y="255"/>
                  </a:lnTo>
                  <a:lnTo>
                    <a:pt x="72" y="247"/>
                  </a:lnTo>
                  <a:lnTo>
                    <a:pt x="77" y="239"/>
                  </a:lnTo>
                  <a:lnTo>
                    <a:pt x="77" y="230"/>
                  </a:lnTo>
                  <a:lnTo>
                    <a:pt x="75" y="221"/>
                  </a:lnTo>
                  <a:lnTo>
                    <a:pt x="73" y="211"/>
                  </a:lnTo>
                  <a:lnTo>
                    <a:pt x="73" y="202"/>
                  </a:lnTo>
                  <a:lnTo>
                    <a:pt x="73" y="193"/>
                  </a:lnTo>
                  <a:lnTo>
                    <a:pt x="72" y="184"/>
                  </a:lnTo>
                  <a:lnTo>
                    <a:pt x="68" y="175"/>
                  </a:lnTo>
                  <a:lnTo>
                    <a:pt x="62" y="163"/>
                  </a:lnTo>
                  <a:lnTo>
                    <a:pt x="75" y="163"/>
                  </a:lnTo>
                  <a:lnTo>
                    <a:pt x="87" y="159"/>
                  </a:lnTo>
                  <a:lnTo>
                    <a:pt x="98" y="156"/>
                  </a:lnTo>
                  <a:lnTo>
                    <a:pt x="112" y="154"/>
                  </a:lnTo>
                  <a:lnTo>
                    <a:pt x="125" y="153"/>
                  </a:lnTo>
                  <a:lnTo>
                    <a:pt x="137" y="153"/>
                  </a:lnTo>
                  <a:lnTo>
                    <a:pt x="151" y="153"/>
                  </a:lnTo>
                  <a:lnTo>
                    <a:pt x="164" y="153"/>
                  </a:lnTo>
                  <a:lnTo>
                    <a:pt x="175" y="148"/>
                  </a:lnTo>
                  <a:lnTo>
                    <a:pt x="184" y="141"/>
                  </a:lnTo>
                  <a:lnTo>
                    <a:pt x="192" y="134"/>
                  </a:lnTo>
                  <a:lnTo>
                    <a:pt x="202" y="129"/>
                  </a:lnTo>
                  <a:lnTo>
                    <a:pt x="214" y="125"/>
                  </a:lnTo>
                  <a:lnTo>
                    <a:pt x="227" y="128"/>
                  </a:lnTo>
                  <a:lnTo>
                    <a:pt x="237" y="133"/>
                  </a:lnTo>
                  <a:lnTo>
                    <a:pt x="247" y="139"/>
                  </a:lnTo>
                  <a:lnTo>
                    <a:pt x="258" y="145"/>
                  </a:lnTo>
                  <a:lnTo>
                    <a:pt x="269" y="149"/>
                  </a:lnTo>
                  <a:lnTo>
                    <a:pt x="281" y="148"/>
                  </a:lnTo>
                  <a:lnTo>
                    <a:pt x="294" y="145"/>
                  </a:lnTo>
                  <a:lnTo>
                    <a:pt x="305" y="139"/>
                  </a:lnTo>
                  <a:lnTo>
                    <a:pt x="316" y="134"/>
                  </a:lnTo>
                  <a:lnTo>
                    <a:pt x="326" y="129"/>
                  </a:lnTo>
                  <a:lnTo>
                    <a:pt x="339" y="127"/>
                  </a:lnTo>
                  <a:lnTo>
                    <a:pt x="353" y="127"/>
                  </a:lnTo>
                  <a:lnTo>
                    <a:pt x="365" y="127"/>
                  </a:lnTo>
                  <a:lnTo>
                    <a:pt x="378" y="127"/>
                  </a:lnTo>
                  <a:lnTo>
                    <a:pt x="392" y="128"/>
                  </a:lnTo>
                  <a:lnTo>
                    <a:pt x="404" y="128"/>
                  </a:lnTo>
                  <a:lnTo>
                    <a:pt x="417" y="129"/>
                  </a:lnTo>
                  <a:lnTo>
                    <a:pt x="431" y="129"/>
                  </a:lnTo>
                  <a:lnTo>
                    <a:pt x="444" y="130"/>
                  </a:lnTo>
                  <a:lnTo>
                    <a:pt x="456" y="132"/>
                  </a:lnTo>
                  <a:lnTo>
                    <a:pt x="469" y="136"/>
                  </a:lnTo>
                  <a:lnTo>
                    <a:pt x="481" y="138"/>
                  </a:lnTo>
                  <a:lnTo>
                    <a:pt x="494" y="140"/>
                  </a:lnTo>
                  <a:lnTo>
                    <a:pt x="507" y="141"/>
                  </a:lnTo>
                  <a:lnTo>
                    <a:pt x="519" y="142"/>
                  </a:lnTo>
                  <a:lnTo>
                    <a:pt x="533" y="143"/>
                  </a:lnTo>
                  <a:lnTo>
                    <a:pt x="546" y="145"/>
                  </a:lnTo>
                  <a:lnTo>
                    <a:pt x="558" y="147"/>
                  </a:lnTo>
                  <a:lnTo>
                    <a:pt x="571" y="150"/>
                  </a:lnTo>
                  <a:lnTo>
                    <a:pt x="582" y="154"/>
                  </a:lnTo>
                  <a:lnTo>
                    <a:pt x="595" y="157"/>
                  </a:lnTo>
                  <a:lnTo>
                    <a:pt x="606" y="162"/>
                  </a:lnTo>
                  <a:lnTo>
                    <a:pt x="618" y="164"/>
                  </a:lnTo>
                  <a:lnTo>
                    <a:pt x="631" y="164"/>
                  </a:lnTo>
                  <a:lnTo>
                    <a:pt x="645" y="164"/>
                  </a:lnTo>
                  <a:lnTo>
                    <a:pt x="658" y="164"/>
                  </a:lnTo>
                  <a:lnTo>
                    <a:pt x="670" y="164"/>
                  </a:lnTo>
                  <a:lnTo>
                    <a:pt x="683" y="162"/>
                  </a:lnTo>
                  <a:lnTo>
                    <a:pt x="697" y="161"/>
                  </a:lnTo>
                  <a:lnTo>
                    <a:pt x="709" y="162"/>
                  </a:lnTo>
                  <a:lnTo>
                    <a:pt x="722" y="163"/>
                  </a:lnTo>
                  <a:lnTo>
                    <a:pt x="734" y="164"/>
                  </a:lnTo>
                  <a:lnTo>
                    <a:pt x="748" y="166"/>
                  </a:lnTo>
                  <a:lnTo>
                    <a:pt x="761" y="167"/>
                  </a:lnTo>
                  <a:lnTo>
                    <a:pt x="774" y="169"/>
                  </a:lnTo>
                  <a:lnTo>
                    <a:pt x="786" y="171"/>
                  </a:lnTo>
                  <a:lnTo>
                    <a:pt x="797" y="175"/>
                  </a:lnTo>
                  <a:lnTo>
                    <a:pt x="808" y="180"/>
                  </a:lnTo>
                  <a:lnTo>
                    <a:pt x="821" y="183"/>
                  </a:lnTo>
                  <a:lnTo>
                    <a:pt x="834" y="185"/>
                  </a:lnTo>
                  <a:lnTo>
                    <a:pt x="848" y="185"/>
                  </a:lnTo>
                  <a:lnTo>
                    <a:pt x="860" y="183"/>
                  </a:lnTo>
                  <a:lnTo>
                    <a:pt x="871" y="180"/>
                  </a:lnTo>
                  <a:lnTo>
                    <a:pt x="885" y="179"/>
                  </a:lnTo>
                  <a:lnTo>
                    <a:pt x="898" y="178"/>
                  </a:lnTo>
                  <a:lnTo>
                    <a:pt x="911" y="176"/>
                  </a:lnTo>
                  <a:lnTo>
                    <a:pt x="923" y="174"/>
                  </a:lnTo>
                  <a:lnTo>
                    <a:pt x="936" y="172"/>
                  </a:lnTo>
                  <a:lnTo>
                    <a:pt x="948" y="169"/>
                  </a:lnTo>
                  <a:lnTo>
                    <a:pt x="961" y="166"/>
                  </a:lnTo>
                  <a:lnTo>
                    <a:pt x="973" y="163"/>
                  </a:lnTo>
                  <a:lnTo>
                    <a:pt x="986" y="161"/>
                  </a:lnTo>
                  <a:lnTo>
                    <a:pt x="999" y="159"/>
                  </a:lnTo>
                  <a:lnTo>
                    <a:pt x="1010" y="155"/>
                  </a:lnTo>
                  <a:lnTo>
                    <a:pt x="1022" y="151"/>
                  </a:lnTo>
                  <a:lnTo>
                    <a:pt x="1034" y="146"/>
                  </a:lnTo>
                  <a:lnTo>
                    <a:pt x="1046" y="144"/>
                  </a:lnTo>
                  <a:lnTo>
                    <a:pt x="1059" y="143"/>
                  </a:lnTo>
                  <a:lnTo>
                    <a:pt x="1071" y="142"/>
                  </a:lnTo>
                  <a:lnTo>
                    <a:pt x="1084" y="140"/>
                  </a:lnTo>
                  <a:lnTo>
                    <a:pt x="1096" y="138"/>
                  </a:lnTo>
                  <a:lnTo>
                    <a:pt x="1110" y="137"/>
                  </a:lnTo>
                  <a:lnTo>
                    <a:pt x="1122" y="133"/>
                  </a:lnTo>
                  <a:lnTo>
                    <a:pt x="1131" y="127"/>
                  </a:lnTo>
                  <a:lnTo>
                    <a:pt x="1143" y="121"/>
                  </a:lnTo>
                  <a:lnTo>
                    <a:pt x="1154" y="118"/>
                  </a:lnTo>
                  <a:lnTo>
                    <a:pt x="1168" y="118"/>
                  </a:lnTo>
                  <a:lnTo>
                    <a:pt x="1180" y="120"/>
                  </a:lnTo>
                  <a:lnTo>
                    <a:pt x="1192" y="124"/>
                  </a:lnTo>
                  <a:lnTo>
                    <a:pt x="1203" y="129"/>
                  </a:lnTo>
                  <a:lnTo>
                    <a:pt x="1211" y="136"/>
                  </a:lnTo>
                  <a:lnTo>
                    <a:pt x="1221" y="142"/>
                  </a:lnTo>
                  <a:lnTo>
                    <a:pt x="1233" y="144"/>
                  </a:lnTo>
                  <a:lnTo>
                    <a:pt x="1247" y="143"/>
                  </a:lnTo>
                  <a:lnTo>
                    <a:pt x="1260" y="141"/>
                  </a:lnTo>
                  <a:lnTo>
                    <a:pt x="1273" y="138"/>
                  </a:lnTo>
                  <a:lnTo>
                    <a:pt x="1285" y="136"/>
                  </a:lnTo>
                  <a:lnTo>
                    <a:pt x="1296" y="132"/>
                  </a:lnTo>
                  <a:lnTo>
                    <a:pt x="1308" y="127"/>
                  </a:lnTo>
                  <a:lnTo>
                    <a:pt x="1319" y="122"/>
                  </a:lnTo>
                  <a:lnTo>
                    <a:pt x="1330" y="119"/>
                  </a:lnTo>
                  <a:lnTo>
                    <a:pt x="1344" y="120"/>
                  </a:lnTo>
                  <a:close/>
                </a:path>
              </a:pathLst>
            </a:custGeom>
            <a:solidFill>
              <a:srgbClr val="ffff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14680" y="1833480"/>
              <a:ext cx="1195560" cy="925560"/>
            </a:xfrm>
            <a:custGeom>
              <a:avLst/>
              <a:gdLst/>
              <a:ahLst/>
              <a:rect l="l" t="t" r="r" b="b"/>
              <a:pathLst>
                <a:path w="2258" h="1168">
                  <a:moveTo>
                    <a:pt x="2177" y="162"/>
                  </a:moveTo>
                  <a:lnTo>
                    <a:pt x="2193" y="164"/>
                  </a:lnTo>
                  <a:lnTo>
                    <a:pt x="2199" y="173"/>
                  </a:lnTo>
                  <a:lnTo>
                    <a:pt x="2202" y="182"/>
                  </a:lnTo>
                  <a:lnTo>
                    <a:pt x="2203" y="190"/>
                  </a:lnTo>
                  <a:lnTo>
                    <a:pt x="2216" y="194"/>
                  </a:lnTo>
                  <a:lnTo>
                    <a:pt x="2224" y="188"/>
                  </a:lnTo>
                  <a:lnTo>
                    <a:pt x="2234" y="196"/>
                  </a:lnTo>
                  <a:lnTo>
                    <a:pt x="2246" y="193"/>
                  </a:lnTo>
                  <a:lnTo>
                    <a:pt x="2253" y="197"/>
                  </a:lnTo>
                  <a:lnTo>
                    <a:pt x="2256" y="204"/>
                  </a:lnTo>
                  <a:lnTo>
                    <a:pt x="2258" y="214"/>
                  </a:lnTo>
                  <a:lnTo>
                    <a:pt x="2245" y="224"/>
                  </a:lnTo>
                  <a:lnTo>
                    <a:pt x="2232" y="227"/>
                  </a:lnTo>
                  <a:lnTo>
                    <a:pt x="2232" y="235"/>
                  </a:lnTo>
                  <a:lnTo>
                    <a:pt x="2230" y="244"/>
                  </a:lnTo>
                  <a:lnTo>
                    <a:pt x="2224" y="250"/>
                  </a:lnTo>
                  <a:lnTo>
                    <a:pt x="2221" y="259"/>
                  </a:lnTo>
                  <a:lnTo>
                    <a:pt x="2210" y="256"/>
                  </a:lnTo>
                  <a:lnTo>
                    <a:pt x="2198" y="255"/>
                  </a:lnTo>
                  <a:lnTo>
                    <a:pt x="2185" y="257"/>
                  </a:lnTo>
                  <a:lnTo>
                    <a:pt x="2175" y="252"/>
                  </a:lnTo>
                  <a:lnTo>
                    <a:pt x="2168" y="260"/>
                  </a:lnTo>
                  <a:lnTo>
                    <a:pt x="2170" y="269"/>
                  </a:lnTo>
                  <a:lnTo>
                    <a:pt x="2170" y="276"/>
                  </a:lnTo>
                  <a:lnTo>
                    <a:pt x="2164" y="285"/>
                  </a:lnTo>
                  <a:lnTo>
                    <a:pt x="2158" y="293"/>
                  </a:lnTo>
                  <a:lnTo>
                    <a:pt x="2144" y="291"/>
                  </a:lnTo>
                  <a:lnTo>
                    <a:pt x="2133" y="295"/>
                  </a:lnTo>
                  <a:lnTo>
                    <a:pt x="2121" y="295"/>
                  </a:lnTo>
                  <a:lnTo>
                    <a:pt x="2111" y="301"/>
                  </a:lnTo>
                  <a:lnTo>
                    <a:pt x="2098" y="303"/>
                  </a:lnTo>
                  <a:lnTo>
                    <a:pt x="2084" y="303"/>
                  </a:lnTo>
                  <a:lnTo>
                    <a:pt x="2074" y="309"/>
                  </a:lnTo>
                  <a:lnTo>
                    <a:pt x="2063" y="312"/>
                  </a:lnTo>
                  <a:lnTo>
                    <a:pt x="2055" y="317"/>
                  </a:lnTo>
                  <a:lnTo>
                    <a:pt x="2044" y="319"/>
                  </a:lnTo>
                  <a:lnTo>
                    <a:pt x="2035" y="316"/>
                  </a:lnTo>
                  <a:lnTo>
                    <a:pt x="2028" y="321"/>
                  </a:lnTo>
                  <a:lnTo>
                    <a:pt x="2019" y="325"/>
                  </a:lnTo>
                  <a:lnTo>
                    <a:pt x="2024" y="332"/>
                  </a:lnTo>
                  <a:lnTo>
                    <a:pt x="2026" y="340"/>
                  </a:lnTo>
                  <a:lnTo>
                    <a:pt x="2023" y="349"/>
                  </a:lnTo>
                  <a:lnTo>
                    <a:pt x="2031" y="352"/>
                  </a:lnTo>
                  <a:lnTo>
                    <a:pt x="2041" y="355"/>
                  </a:lnTo>
                  <a:lnTo>
                    <a:pt x="2052" y="359"/>
                  </a:lnTo>
                  <a:lnTo>
                    <a:pt x="2055" y="367"/>
                  </a:lnTo>
                  <a:lnTo>
                    <a:pt x="2068" y="371"/>
                  </a:lnTo>
                  <a:lnTo>
                    <a:pt x="2073" y="379"/>
                  </a:lnTo>
                  <a:lnTo>
                    <a:pt x="2083" y="385"/>
                  </a:lnTo>
                  <a:lnTo>
                    <a:pt x="2093" y="387"/>
                  </a:lnTo>
                  <a:lnTo>
                    <a:pt x="2094" y="391"/>
                  </a:lnTo>
                  <a:lnTo>
                    <a:pt x="2100" y="395"/>
                  </a:lnTo>
                  <a:lnTo>
                    <a:pt x="2111" y="399"/>
                  </a:lnTo>
                  <a:lnTo>
                    <a:pt x="2108" y="402"/>
                  </a:lnTo>
                  <a:lnTo>
                    <a:pt x="2098" y="405"/>
                  </a:lnTo>
                  <a:lnTo>
                    <a:pt x="2104" y="413"/>
                  </a:lnTo>
                  <a:lnTo>
                    <a:pt x="2107" y="421"/>
                  </a:lnTo>
                  <a:lnTo>
                    <a:pt x="2104" y="429"/>
                  </a:lnTo>
                  <a:lnTo>
                    <a:pt x="2108" y="438"/>
                  </a:lnTo>
                  <a:lnTo>
                    <a:pt x="2109" y="446"/>
                  </a:lnTo>
                  <a:lnTo>
                    <a:pt x="2111" y="454"/>
                  </a:lnTo>
                  <a:lnTo>
                    <a:pt x="2109" y="463"/>
                  </a:lnTo>
                  <a:lnTo>
                    <a:pt x="2112" y="472"/>
                  </a:lnTo>
                  <a:lnTo>
                    <a:pt x="2119" y="479"/>
                  </a:lnTo>
                  <a:lnTo>
                    <a:pt x="2129" y="483"/>
                  </a:lnTo>
                  <a:lnTo>
                    <a:pt x="2139" y="487"/>
                  </a:lnTo>
                  <a:lnTo>
                    <a:pt x="2146" y="493"/>
                  </a:lnTo>
                  <a:lnTo>
                    <a:pt x="2137" y="495"/>
                  </a:lnTo>
                  <a:lnTo>
                    <a:pt x="2126" y="499"/>
                  </a:lnTo>
                  <a:lnTo>
                    <a:pt x="2114" y="499"/>
                  </a:lnTo>
                  <a:lnTo>
                    <a:pt x="2101" y="502"/>
                  </a:lnTo>
                  <a:lnTo>
                    <a:pt x="2088" y="503"/>
                  </a:lnTo>
                  <a:lnTo>
                    <a:pt x="2076" y="500"/>
                  </a:lnTo>
                  <a:lnTo>
                    <a:pt x="2069" y="507"/>
                  </a:lnTo>
                  <a:lnTo>
                    <a:pt x="2055" y="513"/>
                  </a:lnTo>
                  <a:lnTo>
                    <a:pt x="2044" y="517"/>
                  </a:lnTo>
                  <a:lnTo>
                    <a:pt x="2044" y="526"/>
                  </a:lnTo>
                  <a:lnTo>
                    <a:pt x="2035" y="533"/>
                  </a:lnTo>
                  <a:lnTo>
                    <a:pt x="2041" y="540"/>
                  </a:lnTo>
                  <a:lnTo>
                    <a:pt x="2048" y="546"/>
                  </a:lnTo>
                  <a:lnTo>
                    <a:pt x="2055" y="553"/>
                  </a:lnTo>
                  <a:lnTo>
                    <a:pt x="2045" y="558"/>
                  </a:lnTo>
                  <a:lnTo>
                    <a:pt x="2040" y="566"/>
                  </a:lnTo>
                  <a:lnTo>
                    <a:pt x="2027" y="567"/>
                  </a:lnTo>
                  <a:lnTo>
                    <a:pt x="2016" y="571"/>
                  </a:lnTo>
                  <a:lnTo>
                    <a:pt x="2014" y="580"/>
                  </a:lnTo>
                  <a:lnTo>
                    <a:pt x="2021" y="586"/>
                  </a:lnTo>
                  <a:lnTo>
                    <a:pt x="2021" y="595"/>
                  </a:lnTo>
                  <a:lnTo>
                    <a:pt x="2026" y="603"/>
                  </a:lnTo>
                  <a:lnTo>
                    <a:pt x="2024" y="613"/>
                  </a:lnTo>
                  <a:lnTo>
                    <a:pt x="2016" y="620"/>
                  </a:lnTo>
                  <a:lnTo>
                    <a:pt x="2005" y="623"/>
                  </a:lnTo>
                  <a:lnTo>
                    <a:pt x="1992" y="623"/>
                  </a:lnTo>
                  <a:lnTo>
                    <a:pt x="1982" y="628"/>
                  </a:lnTo>
                  <a:lnTo>
                    <a:pt x="1970" y="631"/>
                  </a:lnTo>
                  <a:lnTo>
                    <a:pt x="1964" y="639"/>
                  </a:lnTo>
                  <a:lnTo>
                    <a:pt x="1961" y="654"/>
                  </a:lnTo>
                  <a:lnTo>
                    <a:pt x="1960" y="663"/>
                  </a:lnTo>
                  <a:lnTo>
                    <a:pt x="1953" y="671"/>
                  </a:lnTo>
                  <a:lnTo>
                    <a:pt x="1940" y="674"/>
                  </a:lnTo>
                  <a:lnTo>
                    <a:pt x="1937" y="683"/>
                  </a:lnTo>
                  <a:lnTo>
                    <a:pt x="1928" y="688"/>
                  </a:lnTo>
                  <a:lnTo>
                    <a:pt x="1915" y="685"/>
                  </a:lnTo>
                  <a:lnTo>
                    <a:pt x="1903" y="684"/>
                  </a:lnTo>
                  <a:lnTo>
                    <a:pt x="1890" y="688"/>
                  </a:lnTo>
                  <a:lnTo>
                    <a:pt x="1879" y="687"/>
                  </a:lnTo>
                  <a:lnTo>
                    <a:pt x="1872" y="679"/>
                  </a:lnTo>
                  <a:lnTo>
                    <a:pt x="1862" y="671"/>
                  </a:lnTo>
                  <a:lnTo>
                    <a:pt x="1861" y="662"/>
                  </a:lnTo>
                  <a:lnTo>
                    <a:pt x="1849" y="659"/>
                  </a:lnTo>
                  <a:lnTo>
                    <a:pt x="1835" y="659"/>
                  </a:lnTo>
                  <a:lnTo>
                    <a:pt x="1824" y="663"/>
                  </a:lnTo>
                  <a:lnTo>
                    <a:pt x="1812" y="664"/>
                  </a:lnTo>
                  <a:lnTo>
                    <a:pt x="1799" y="660"/>
                  </a:lnTo>
                  <a:lnTo>
                    <a:pt x="1788" y="665"/>
                  </a:lnTo>
                  <a:lnTo>
                    <a:pt x="1775" y="662"/>
                  </a:lnTo>
                  <a:lnTo>
                    <a:pt x="1763" y="664"/>
                  </a:lnTo>
                  <a:lnTo>
                    <a:pt x="1750" y="667"/>
                  </a:lnTo>
                  <a:lnTo>
                    <a:pt x="1738" y="668"/>
                  </a:lnTo>
                  <a:lnTo>
                    <a:pt x="1729" y="675"/>
                  </a:lnTo>
                  <a:lnTo>
                    <a:pt x="1717" y="675"/>
                  </a:lnTo>
                  <a:lnTo>
                    <a:pt x="1704" y="678"/>
                  </a:lnTo>
                  <a:lnTo>
                    <a:pt x="1703" y="686"/>
                  </a:lnTo>
                  <a:lnTo>
                    <a:pt x="1708" y="694"/>
                  </a:lnTo>
                  <a:lnTo>
                    <a:pt x="1714" y="699"/>
                  </a:lnTo>
                  <a:lnTo>
                    <a:pt x="1721" y="707"/>
                  </a:lnTo>
                  <a:lnTo>
                    <a:pt x="1732" y="711"/>
                  </a:lnTo>
                  <a:lnTo>
                    <a:pt x="1743" y="715"/>
                  </a:lnTo>
                  <a:lnTo>
                    <a:pt x="1754" y="717"/>
                  </a:lnTo>
                  <a:lnTo>
                    <a:pt x="1766" y="721"/>
                  </a:lnTo>
                  <a:lnTo>
                    <a:pt x="1778" y="720"/>
                  </a:lnTo>
                  <a:lnTo>
                    <a:pt x="1789" y="726"/>
                  </a:lnTo>
                  <a:lnTo>
                    <a:pt x="1799" y="734"/>
                  </a:lnTo>
                  <a:lnTo>
                    <a:pt x="1806" y="741"/>
                  </a:lnTo>
                  <a:lnTo>
                    <a:pt x="1796" y="745"/>
                  </a:lnTo>
                  <a:lnTo>
                    <a:pt x="1792" y="754"/>
                  </a:lnTo>
                  <a:lnTo>
                    <a:pt x="1789" y="763"/>
                  </a:lnTo>
                  <a:lnTo>
                    <a:pt x="1784" y="771"/>
                  </a:lnTo>
                  <a:lnTo>
                    <a:pt x="1771" y="773"/>
                  </a:lnTo>
                  <a:lnTo>
                    <a:pt x="1759" y="774"/>
                  </a:lnTo>
                  <a:lnTo>
                    <a:pt x="1746" y="772"/>
                  </a:lnTo>
                  <a:lnTo>
                    <a:pt x="1738" y="765"/>
                  </a:lnTo>
                  <a:lnTo>
                    <a:pt x="1729" y="758"/>
                  </a:lnTo>
                  <a:lnTo>
                    <a:pt x="1717" y="755"/>
                  </a:lnTo>
                  <a:lnTo>
                    <a:pt x="1704" y="753"/>
                  </a:lnTo>
                  <a:lnTo>
                    <a:pt x="1694" y="747"/>
                  </a:lnTo>
                  <a:lnTo>
                    <a:pt x="1687" y="738"/>
                  </a:lnTo>
                  <a:lnTo>
                    <a:pt x="1680" y="731"/>
                  </a:lnTo>
                  <a:lnTo>
                    <a:pt x="1670" y="724"/>
                  </a:lnTo>
                  <a:lnTo>
                    <a:pt x="1661" y="718"/>
                  </a:lnTo>
                  <a:lnTo>
                    <a:pt x="1650" y="714"/>
                  </a:lnTo>
                  <a:lnTo>
                    <a:pt x="1637" y="717"/>
                  </a:lnTo>
                  <a:lnTo>
                    <a:pt x="1633" y="725"/>
                  </a:lnTo>
                  <a:lnTo>
                    <a:pt x="1631" y="735"/>
                  </a:lnTo>
                  <a:lnTo>
                    <a:pt x="1623" y="742"/>
                  </a:lnTo>
                  <a:lnTo>
                    <a:pt x="1624" y="747"/>
                  </a:lnTo>
                  <a:lnTo>
                    <a:pt x="1634" y="750"/>
                  </a:lnTo>
                  <a:lnTo>
                    <a:pt x="1631" y="760"/>
                  </a:lnTo>
                  <a:lnTo>
                    <a:pt x="1624" y="768"/>
                  </a:lnTo>
                  <a:lnTo>
                    <a:pt x="1626" y="777"/>
                  </a:lnTo>
                  <a:lnTo>
                    <a:pt x="1626" y="787"/>
                  </a:lnTo>
                  <a:lnTo>
                    <a:pt x="1622" y="796"/>
                  </a:lnTo>
                  <a:lnTo>
                    <a:pt x="1615" y="803"/>
                  </a:lnTo>
                  <a:lnTo>
                    <a:pt x="1605" y="809"/>
                  </a:lnTo>
                  <a:lnTo>
                    <a:pt x="1595" y="815"/>
                  </a:lnTo>
                  <a:lnTo>
                    <a:pt x="1585" y="822"/>
                  </a:lnTo>
                  <a:lnTo>
                    <a:pt x="1575" y="828"/>
                  </a:lnTo>
                  <a:lnTo>
                    <a:pt x="1567" y="835"/>
                  </a:lnTo>
                  <a:lnTo>
                    <a:pt x="1559" y="843"/>
                  </a:lnTo>
                  <a:lnTo>
                    <a:pt x="1553" y="851"/>
                  </a:lnTo>
                  <a:lnTo>
                    <a:pt x="1549" y="860"/>
                  </a:lnTo>
                  <a:lnTo>
                    <a:pt x="1547" y="869"/>
                  </a:lnTo>
                  <a:lnTo>
                    <a:pt x="1540" y="876"/>
                  </a:lnTo>
                  <a:lnTo>
                    <a:pt x="1535" y="885"/>
                  </a:lnTo>
                  <a:lnTo>
                    <a:pt x="1542" y="892"/>
                  </a:lnTo>
                  <a:lnTo>
                    <a:pt x="1540" y="897"/>
                  </a:lnTo>
                  <a:lnTo>
                    <a:pt x="1527" y="899"/>
                  </a:lnTo>
                  <a:lnTo>
                    <a:pt x="1515" y="898"/>
                  </a:lnTo>
                  <a:lnTo>
                    <a:pt x="1503" y="896"/>
                  </a:lnTo>
                  <a:lnTo>
                    <a:pt x="1492" y="892"/>
                  </a:lnTo>
                  <a:lnTo>
                    <a:pt x="1479" y="893"/>
                  </a:lnTo>
                  <a:lnTo>
                    <a:pt x="1475" y="902"/>
                  </a:lnTo>
                  <a:lnTo>
                    <a:pt x="1471" y="911"/>
                  </a:lnTo>
                  <a:lnTo>
                    <a:pt x="1459" y="911"/>
                  </a:lnTo>
                  <a:lnTo>
                    <a:pt x="1445" y="911"/>
                  </a:lnTo>
                  <a:lnTo>
                    <a:pt x="1437" y="916"/>
                  </a:lnTo>
                  <a:lnTo>
                    <a:pt x="1441" y="926"/>
                  </a:lnTo>
                  <a:lnTo>
                    <a:pt x="1436" y="934"/>
                  </a:lnTo>
                  <a:lnTo>
                    <a:pt x="1429" y="931"/>
                  </a:lnTo>
                  <a:lnTo>
                    <a:pt x="1422" y="922"/>
                  </a:lnTo>
                  <a:lnTo>
                    <a:pt x="1412" y="915"/>
                  </a:lnTo>
                  <a:lnTo>
                    <a:pt x="1416" y="911"/>
                  </a:lnTo>
                  <a:lnTo>
                    <a:pt x="1408" y="907"/>
                  </a:lnTo>
                  <a:lnTo>
                    <a:pt x="1395" y="911"/>
                  </a:lnTo>
                  <a:lnTo>
                    <a:pt x="1383" y="915"/>
                  </a:lnTo>
                  <a:lnTo>
                    <a:pt x="1373" y="920"/>
                  </a:lnTo>
                  <a:lnTo>
                    <a:pt x="1376" y="928"/>
                  </a:lnTo>
                  <a:lnTo>
                    <a:pt x="1380" y="937"/>
                  </a:lnTo>
                  <a:lnTo>
                    <a:pt x="1384" y="946"/>
                  </a:lnTo>
                  <a:lnTo>
                    <a:pt x="1388" y="955"/>
                  </a:lnTo>
                  <a:lnTo>
                    <a:pt x="1392" y="964"/>
                  </a:lnTo>
                  <a:lnTo>
                    <a:pt x="1397" y="973"/>
                  </a:lnTo>
                  <a:lnTo>
                    <a:pt x="1395" y="979"/>
                  </a:lnTo>
                  <a:lnTo>
                    <a:pt x="1391" y="987"/>
                  </a:lnTo>
                  <a:lnTo>
                    <a:pt x="1383" y="996"/>
                  </a:lnTo>
                  <a:lnTo>
                    <a:pt x="1391" y="999"/>
                  </a:lnTo>
                  <a:lnTo>
                    <a:pt x="1391" y="1006"/>
                  </a:lnTo>
                  <a:lnTo>
                    <a:pt x="1384" y="1015"/>
                  </a:lnTo>
                  <a:lnTo>
                    <a:pt x="1376" y="1024"/>
                  </a:lnTo>
                  <a:lnTo>
                    <a:pt x="1367" y="1030"/>
                  </a:lnTo>
                  <a:lnTo>
                    <a:pt x="1362" y="1023"/>
                  </a:lnTo>
                  <a:lnTo>
                    <a:pt x="1352" y="1016"/>
                  </a:lnTo>
                  <a:lnTo>
                    <a:pt x="1339" y="1011"/>
                  </a:lnTo>
                  <a:lnTo>
                    <a:pt x="1329" y="1013"/>
                  </a:lnTo>
                  <a:lnTo>
                    <a:pt x="1322" y="1022"/>
                  </a:lnTo>
                  <a:lnTo>
                    <a:pt x="1313" y="1029"/>
                  </a:lnTo>
                  <a:lnTo>
                    <a:pt x="1306" y="1036"/>
                  </a:lnTo>
                  <a:lnTo>
                    <a:pt x="1293" y="1041"/>
                  </a:lnTo>
                  <a:lnTo>
                    <a:pt x="1283" y="1047"/>
                  </a:lnTo>
                  <a:lnTo>
                    <a:pt x="1273" y="1053"/>
                  </a:lnTo>
                  <a:lnTo>
                    <a:pt x="1264" y="1059"/>
                  </a:lnTo>
                  <a:lnTo>
                    <a:pt x="1255" y="1067"/>
                  </a:lnTo>
                  <a:lnTo>
                    <a:pt x="1241" y="1063"/>
                  </a:lnTo>
                  <a:lnTo>
                    <a:pt x="1230" y="1058"/>
                  </a:lnTo>
                  <a:lnTo>
                    <a:pt x="1219" y="1053"/>
                  </a:lnTo>
                  <a:lnTo>
                    <a:pt x="1208" y="1048"/>
                  </a:lnTo>
                  <a:lnTo>
                    <a:pt x="1197" y="1045"/>
                  </a:lnTo>
                  <a:lnTo>
                    <a:pt x="1188" y="1051"/>
                  </a:lnTo>
                  <a:lnTo>
                    <a:pt x="1181" y="1059"/>
                  </a:lnTo>
                  <a:lnTo>
                    <a:pt x="1176" y="1067"/>
                  </a:lnTo>
                  <a:lnTo>
                    <a:pt x="1171" y="1076"/>
                  </a:lnTo>
                  <a:lnTo>
                    <a:pt x="1163" y="1080"/>
                  </a:lnTo>
                  <a:lnTo>
                    <a:pt x="1153" y="1085"/>
                  </a:lnTo>
                  <a:lnTo>
                    <a:pt x="1150" y="1094"/>
                  </a:lnTo>
                  <a:lnTo>
                    <a:pt x="1138" y="1097"/>
                  </a:lnTo>
                  <a:lnTo>
                    <a:pt x="1125" y="1098"/>
                  </a:lnTo>
                  <a:lnTo>
                    <a:pt x="1113" y="1102"/>
                  </a:lnTo>
                  <a:lnTo>
                    <a:pt x="1103" y="1107"/>
                  </a:lnTo>
                  <a:lnTo>
                    <a:pt x="1097" y="1116"/>
                  </a:lnTo>
                  <a:lnTo>
                    <a:pt x="1096" y="1126"/>
                  </a:lnTo>
                  <a:lnTo>
                    <a:pt x="1104" y="1130"/>
                  </a:lnTo>
                  <a:lnTo>
                    <a:pt x="1118" y="1130"/>
                  </a:lnTo>
                  <a:lnTo>
                    <a:pt x="1131" y="1134"/>
                  </a:lnTo>
                  <a:lnTo>
                    <a:pt x="1136" y="1143"/>
                  </a:lnTo>
                  <a:lnTo>
                    <a:pt x="1138" y="1151"/>
                  </a:lnTo>
                  <a:lnTo>
                    <a:pt x="1128" y="1155"/>
                  </a:lnTo>
                  <a:lnTo>
                    <a:pt x="1116" y="1152"/>
                  </a:lnTo>
                  <a:lnTo>
                    <a:pt x="1104" y="1157"/>
                  </a:lnTo>
                  <a:lnTo>
                    <a:pt x="1093" y="1163"/>
                  </a:lnTo>
                  <a:lnTo>
                    <a:pt x="1081" y="1168"/>
                  </a:lnTo>
                  <a:lnTo>
                    <a:pt x="1071" y="1167"/>
                  </a:lnTo>
                  <a:lnTo>
                    <a:pt x="1065" y="1158"/>
                  </a:lnTo>
                  <a:lnTo>
                    <a:pt x="1060" y="1149"/>
                  </a:lnTo>
                  <a:lnTo>
                    <a:pt x="1054" y="1141"/>
                  </a:lnTo>
                  <a:lnTo>
                    <a:pt x="1051" y="1131"/>
                  </a:lnTo>
                  <a:lnTo>
                    <a:pt x="1050" y="1121"/>
                  </a:lnTo>
                  <a:lnTo>
                    <a:pt x="1047" y="1112"/>
                  </a:lnTo>
                  <a:lnTo>
                    <a:pt x="1034" y="1111"/>
                  </a:lnTo>
                  <a:lnTo>
                    <a:pt x="1022" y="1109"/>
                  </a:lnTo>
                  <a:lnTo>
                    <a:pt x="1015" y="1101"/>
                  </a:lnTo>
                  <a:lnTo>
                    <a:pt x="1011" y="1092"/>
                  </a:lnTo>
                  <a:lnTo>
                    <a:pt x="1006" y="1083"/>
                  </a:lnTo>
                  <a:lnTo>
                    <a:pt x="998" y="1076"/>
                  </a:lnTo>
                  <a:lnTo>
                    <a:pt x="990" y="1069"/>
                  </a:lnTo>
                  <a:lnTo>
                    <a:pt x="987" y="1060"/>
                  </a:lnTo>
                  <a:lnTo>
                    <a:pt x="986" y="1050"/>
                  </a:lnTo>
                  <a:lnTo>
                    <a:pt x="987" y="1041"/>
                  </a:lnTo>
                  <a:lnTo>
                    <a:pt x="994" y="1033"/>
                  </a:lnTo>
                  <a:lnTo>
                    <a:pt x="1004" y="1028"/>
                  </a:lnTo>
                  <a:lnTo>
                    <a:pt x="1012" y="1020"/>
                  </a:lnTo>
                  <a:lnTo>
                    <a:pt x="1013" y="1011"/>
                  </a:lnTo>
                  <a:lnTo>
                    <a:pt x="1009" y="1002"/>
                  </a:lnTo>
                  <a:lnTo>
                    <a:pt x="997" y="999"/>
                  </a:lnTo>
                  <a:lnTo>
                    <a:pt x="984" y="1000"/>
                  </a:lnTo>
                  <a:lnTo>
                    <a:pt x="973" y="996"/>
                  </a:lnTo>
                  <a:lnTo>
                    <a:pt x="962" y="993"/>
                  </a:lnTo>
                  <a:lnTo>
                    <a:pt x="949" y="997"/>
                  </a:lnTo>
                  <a:lnTo>
                    <a:pt x="948" y="988"/>
                  </a:lnTo>
                  <a:lnTo>
                    <a:pt x="952" y="980"/>
                  </a:lnTo>
                  <a:lnTo>
                    <a:pt x="962" y="973"/>
                  </a:lnTo>
                  <a:lnTo>
                    <a:pt x="965" y="964"/>
                  </a:lnTo>
                  <a:lnTo>
                    <a:pt x="967" y="955"/>
                  </a:lnTo>
                  <a:lnTo>
                    <a:pt x="970" y="945"/>
                  </a:lnTo>
                  <a:lnTo>
                    <a:pt x="977" y="939"/>
                  </a:lnTo>
                  <a:lnTo>
                    <a:pt x="991" y="935"/>
                  </a:lnTo>
                  <a:lnTo>
                    <a:pt x="1004" y="932"/>
                  </a:lnTo>
                  <a:lnTo>
                    <a:pt x="1008" y="928"/>
                  </a:lnTo>
                  <a:lnTo>
                    <a:pt x="995" y="921"/>
                  </a:lnTo>
                  <a:lnTo>
                    <a:pt x="987" y="914"/>
                  </a:lnTo>
                  <a:lnTo>
                    <a:pt x="976" y="910"/>
                  </a:lnTo>
                  <a:lnTo>
                    <a:pt x="970" y="901"/>
                  </a:lnTo>
                  <a:lnTo>
                    <a:pt x="958" y="901"/>
                  </a:lnTo>
                  <a:lnTo>
                    <a:pt x="945" y="903"/>
                  </a:lnTo>
                  <a:lnTo>
                    <a:pt x="934" y="898"/>
                  </a:lnTo>
                  <a:lnTo>
                    <a:pt x="923" y="898"/>
                  </a:lnTo>
                  <a:lnTo>
                    <a:pt x="911" y="892"/>
                  </a:lnTo>
                  <a:lnTo>
                    <a:pt x="900" y="889"/>
                  </a:lnTo>
                  <a:lnTo>
                    <a:pt x="886" y="890"/>
                  </a:lnTo>
                  <a:lnTo>
                    <a:pt x="876" y="896"/>
                  </a:lnTo>
                  <a:lnTo>
                    <a:pt x="864" y="898"/>
                  </a:lnTo>
                  <a:lnTo>
                    <a:pt x="851" y="898"/>
                  </a:lnTo>
                  <a:lnTo>
                    <a:pt x="839" y="897"/>
                  </a:lnTo>
                  <a:lnTo>
                    <a:pt x="826" y="894"/>
                  </a:lnTo>
                  <a:lnTo>
                    <a:pt x="816" y="888"/>
                  </a:lnTo>
                  <a:lnTo>
                    <a:pt x="804" y="884"/>
                  </a:lnTo>
                  <a:lnTo>
                    <a:pt x="787" y="874"/>
                  </a:lnTo>
                  <a:lnTo>
                    <a:pt x="777" y="869"/>
                  </a:lnTo>
                  <a:lnTo>
                    <a:pt x="765" y="870"/>
                  </a:lnTo>
                  <a:lnTo>
                    <a:pt x="752" y="871"/>
                  </a:lnTo>
                  <a:lnTo>
                    <a:pt x="738" y="873"/>
                  </a:lnTo>
                  <a:lnTo>
                    <a:pt x="725" y="874"/>
                  </a:lnTo>
                  <a:lnTo>
                    <a:pt x="713" y="877"/>
                  </a:lnTo>
                  <a:lnTo>
                    <a:pt x="700" y="880"/>
                  </a:lnTo>
                  <a:lnTo>
                    <a:pt x="689" y="883"/>
                  </a:lnTo>
                  <a:lnTo>
                    <a:pt x="675" y="883"/>
                  </a:lnTo>
                  <a:lnTo>
                    <a:pt x="663" y="883"/>
                  </a:lnTo>
                  <a:lnTo>
                    <a:pt x="650" y="879"/>
                  </a:lnTo>
                  <a:lnTo>
                    <a:pt x="639" y="881"/>
                  </a:lnTo>
                  <a:lnTo>
                    <a:pt x="626" y="884"/>
                  </a:lnTo>
                  <a:lnTo>
                    <a:pt x="612" y="883"/>
                  </a:lnTo>
                  <a:lnTo>
                    <a:pt x="600" y="882"/>
                  </a:lnTo>
                  <a:lnTo>
                    <a:pt x="589" y="882"/>
                  </a:lnTo>
                  <a:lnTo>
                    <a:pt x="580" y="877"/>
                  </a:lnTo>
                  <a:lnTo>
                    <a:pt x="572" y="870"/>
                  </a:lnTo>
                  <a:lnTo>
                    <a:pt x="565" y="862"/>
                  </a:lnTo>
                  <a:lnTo>
                    <a:pt x="554" y="858"/>
                  </a:lnTo>
                  <a:lnTo>
                    <a:pt x="544" y="852"/>
                  </a:lnTo>
                  <a:lnTo>
                    <a:pt x="533" y="847"/>
                  </a:lnTo>
                  <a:lnTo>
                    <a:pt x="520" y="844"/>
                  </a:lnTo>
                  <a:lnTo>
                    <a:pt x="509" y="840"/>
                  </a:lnTo>
                  <a:lnTo>
                    <a:pt x="496" y="836"/>
                  </a:lnTo>
                  <a:lnTo>
                    <a:pt x="484" y="833"/>
                  </a:lnTo>
                  <a:lnTo>
                    <a:pt x="479" y="837"/>
                  </a:lnTo>
                  <a:lnTo>
                    <a:pt x="467" y="836"/>
                  </a:lnTo>
                  <a:lnTo>
                    <a:pt x="463" y="844"/>
                  </a:lnTo>
                  <a:lnTo>
                    <a:pt x="450" y="843"/>
                  </a:lnTo>
                  <a:lnTo>
                    <a:pt x="438" y="839"/>
                  </a:lnTo>
                  <a:lnTo>
                    <a:pt x="425" y="838"/>
                  </a:lnTo>
                  <a:lnTo>
                    <a:pt x="412" y="837"/>
                  </a:lnTo>
                  <a:lnTo>
                    <a:pt x="400" y="834"/>
                  </a:lnTo>
                  <a:lnTo>
                    <a:pt x="386" y="834"/>
                  </a:lnTo>
                  <a:lnTo>
                    <a:pt x="373" y="835"/>
                  </a:lnTo>
                  <a:lnTo>
                    <a:pt x="361" y="834"/>
                  </a:lnTo>
                  <a:lnTo>
                    <a:pt x="348" y="833"/>
                  </a:lnTo>
                  <a:lnTo>
                    <a:pt x="337" y="837"/>
                  </a:lnTo>
                  <a:lnTo>
                    <a:pt x="333" y="846"/>
                  </a:lnTo>
                  <a:lnTo>
                    <a:pt x="323" y="850"/>
                  </a:lnTo>
                  <a:lnTo>
                    <a:pt x="310" y="849"/>
                  </a:lnTo>
                  <a:lnTo>
                    <a:pt x="308" y="851"/>
                  </a:lnTo>
                  <a:lnTo>
                    <a:pt x="306" y="853"/>
                  </a:lnTo>
                  <a:lnTo>
                    <a:pt x="295" y="848"/>
                  </a:lnTo>
                  <a:lnTo>
                    <a:pt x="284" y="843"/>
                  </a:lnTo>
                  <a:lnTo>
                    <a:pt x="282" y="834"/>
                  </a:lnTo>
                  <a:lnTo>
                    <a:pt x="281" y="826"/>
                  </a:lnTo>
                  <a:lnTo>
                    <a:pt x="273" y="819"/>
                  </a:lnTo>
                  <a:lnTo>
                    <a:pt x="263" y="813"/>
                  </a:lnTo>
                  <a:lnTo>
                    <a:pt x="252" y="816"/>
                  </a:lnTo>
                  <a:lnTo>
                    <a:pt x="238" y="814"/>
                  </a:lnTo>
                  <a:lnTo>
                    <a:pt x="228" y="808"/>
                  </a:lnTo>
                  <a:lnTo>
                    <a:pt x="224" y="799"/>
                  </a:lnTo>
                  <a:lnTo>
                    <a:pt x="224" y="790"/>
                  </a:lnTo>
                  <a:lnTo>
                    <a:pt x="222" y="781"/>
                  </a:lnTo>
                  <a:lnTo>
                    <a:pt x="226" y="773"/>
                  </a:lnTo>
                  <a:lnTo>
                    <a:pt x="215" y="768"/>
                  </a:lnTo>
                  <a:lnTo>
                    <a:pt x="205" y="762"/>
                  </a:lnTo>
                  <a:lnTo>
                    <a:pt x="196" y="756"/>
                  </a:lnTo>
                  <a:lnTo>
                    <a:pt x="186" y="751"/>
                  </a:lnTo>
                  <a:lnTo>
                    <a:pt x="173" y="748"/>
                  </a:lnTo>
                  <a:lnTo>
                    <a:pt x="161" y="746"/>
                  </a:lnTo>
                  <a:lnTo>
                    <a:pt x="151" y="741"/>
                  </a:lnTo>
                  <a:lnTo>
                    <a:pt x="143" y="734"/>
                  </a:lnTo>
                  <a:lnTo>
                    <a:pt x="136" y="726"/>
                  </a:lnTo>
                  <a:lnTo>
                    <a:pt x="131" y="717"/>
                  </a:lnTo>
                  <a:lnTo>
                    <a:pt x="123" y="709"/>
                  </a:lnTo>
                  <a:lnTo>
                    <a:pt x="113" y="705"/>
                  </a:lnTo>
                  <a:lnTo>
                    <a:pt x="103" y="698"/>
                  </a:lnTo>
                  <a:lnTo>
                    <a:pt x="94" y="692"/>
                  </a:lnTo>
                  <a:lnTo>
                    <a:pt x="84" y="686"/>
                  </a:lnTo>
                  <a:lnTo>
                    <a:pt x="74" y="680"/>
                  </a:lnTo>
                  <a:lnTo>
                    <a:pt x="66" y="672"/>
                  </a:lnTo>
                  <a:lnTo>
                    <a:pt x="61" y="663"/>
                  </a:lnTo>
                  <a:lnTo>
                    <a:pt x="57" y="654"/>
                  </a:lnTo>
                  <a:lnTo>
                    <a:pt x="46" y="650"/>
                  </a:lnTo>
                  <a:lnTo>
                    <a:pt x="38" y="644"/>
                  </a:lnTo>
                  <a:lnTo>
                    <a:pt x="31" y="636"/>
                  </a:lnTo>
                  <a:lnTo>
                    <a:pt x="36" y="629"/>
                  </a:lnTo>
                  <a:lnTo>
                    <a:pt x="34" y="623"/>
                  </a:lnTo>
                  <a:lnTo>
                    <a:pt x="24" y="616"/>
                  </a:lnTo>
                  <a:lnTo>
                    <a:pt x="34" y="610"/>
                  </a:lnTo>
                  <a:lnTo>
                    <a:pt x="42" y="605"/>
                  </a:lnTo>
                  <a:lnTo>
                    <a:pt x="52" y="598"/>
                  </a:lnTo>
                  <a:lnTo>
                    <a:pt x="63" y="593"/>
                  </a:lnTo>
                  <a:lnTo>
                    <a:pt x="74" y="589"/>
                  </a:lnTo>
                  <a:lnTo>
                    <a:pt x="85" y="584"/>
                  </a:lnTo>
                  <a:lnTo>
                    <a:pt x="96" y="579"/>
                  </a:lnTo>
                  <a:lnTo>
                    <a:pt x="108" y="573"/>
                  </a:lnTo>
                  <a:lnTo>
                    <a:pt x="117" y="568"/>
                  </a:lnTo>
                  <a:lnTo>
                    <a:pt x="126" y="562"/>
                  </a:lnTo>
                  <a:lnTo>
                    <a:pt x="119" y="554"/>
                  </a:lnTo>
                  <a:lnTo>
                    <a:pt x="113" y="546"/>
                  </a:lnTo>
                  <a:lnTo>
                    <a:pt x="126" y="545"/>
                  </a:lnTo>
                  <a:lnTo>
                    <a:pt x="138" y="544"/>
                  </a:lnTo>
                  <a:lnTo>
                    <a:pt x="150" y="540"/>
                  </a:lnTo>
                  <a:lnTo>
                    <a:pt x="152" y="531"/>
                  </a:lnTo>
                  <a:lnTo>
                    <a:pt x="151" y="522"/>
                  </a:lnTo>
                  <a:lnTo>
                    <a:pt x="145" y="514"/>
                  </a:lnTo>
                  <a:lnTo>
                    <a:pt x="152" y="506"/>
                  </a:lnTo>
                  <a:lnTo>
                    <a:pt x="152" y="498"/>
                  </a:lnTo>
                  <a:lnTo>
                    <a:pt x="144" y="494"/>
                  </a:lnTo>
                  <a:lnTo>
                    <a:pt x="147" y="485"/>
                  </a:lnTo>
                  <a:lnTo>
                    <a:pt x="138" y="479"/>
                  </a:lnTo>
                  <a:lnTo>
                    <a:pt x="133" y="470"/>
                  </a:lnTo>
                  <a:lnTo>
                    <a:pt x="124" y="463"/>
                  </a:lnTo>
                  <a:lnTo>
                    <a:pt x="113" y="460"/>
                  </a:lnTo>
                  <a:lnTo>
                    <a:pt x="101" y="463"/>
                  </a:lnTo>
                  <a:lnTo>
                    <a:pt x="89" y="469"/>
                  </a:lnTo>
                  <a:lnTo>
                    <a:pt x="81" y="465"/>
                  </a:lnTo>
                  <a:lnTo>
                    <a:pt x="68" y="462"/>
                  </a:lnTo>
                  <a:lnTo>
                    <a:pt x="57" y="465"/>
                  </a:lnTo>
                  <a:lnTo>
                    <a:pt x="48" y="458"/>
                  </a:lnTo>
                  <a:lnTo>
                    <a:pt x="43" y="450"/>
                  </a:lnTo>
                  <a:lnTo>
                    <a:pt x="38" y="441"/>
                  </a:lnTo>
                  <a:lnTo>
                    <a:pt x="27" y="436"/>
                  </a:lnTo>
                  <a:lnTo>
                    <a:pt x="21" y="428"/>
                  </a:lnTo>
                  <a:lnTo>
                    <a:pt x="13" y="420"/>
                  </a:lnTo>
                  <a:lnTo>
                    <a:pt x="7" y="412"/>
                  </a:lnTo>
                  <a:lnTo>
                    <a:pt x="0" y="403"/>
                  </a:lnTo>
                  <a:lnTo>
                    <a:pt x="8" y="400"/>
                  </a:lnTo>
                  <a:lnTo>
                    <a:pt x="21" y="398"/>
                  </a:lnTo>
                  <a:lnTo>
                    <a:pt x="34" y="399"/>
                  </a:lnTo>
                  <a:lnTo>
                    <a:pt x="46" y="400"/>
                  </a:lnTo>
                  <a:lnTo>
                    <a:pt x="59" y="399"/>
                  </a:lnTo>
                  <a:lnTo>
                    <a:pt x="71" y="402"/>
                  </a:lnTo>
                  <a:lnTo>
                    <a:pt x="81" y="404"/>
                  </a:lnTo>
                  <a:lnTo>
                    <a:pt x="92" y="406"/>
                  </a:lnTo>
                  <a:lnTo>
                    <a:pt x="105" y="407"/>
                  </a:lnTo>
                  <a:lnTo>
                    <a:pt x="113" y="402"/>
                  </a:lnTo>
                  <a:lnTo>
                    <a:pt x="117" y="398"/>
                  </a:lnTo>
                  <a:lnTo>
                    <a:pt x="120" y="392"/>
                  </a:lnTo>
                  <a:lnTo>
                    <a:pt x="124" y="384"/>
                  </a:lnTo>
                  <a:lnTo>
                    <a:pt x="134" y="378"/>
                  </a:lnTo>
                  <a:lnTo>
                    <a:pt x="148" y="377"/>
                  </a:lnTo>
                  <a:lnTo>
                    <a:pt x="152" y="371"/>
                  </a:lnTo>
                  <a:lnTo>
                    <a:pt x="158" y="370"/>
                  </a:lnTo>
                  <a:lnTo>
                    <a:pt x="152" y="365"/>
                  </a:lnTo>
                  <a:lnTo>
                    <a:pt x="162" y="363"/>
                  </a:lnTo>
                  <a:lnTo>
                    <a:pt x="175" y="358"/>
                  </a:lnTo>
                  <a:lnTo>
                    <a:pt x="172" y="363"/>
                  </a:lnTo>
                  <a:lnTo>
                    <a:pt x="179" y="371"/>
                  </a:lnTo>
                  <a:lnTo>
                    <a:pt x="186" y="371"/>
                  </a:lnTo>
                  <a:lnTo>
                    <a:pt x="194" y="378"/>
                  </a:lnTo>
                  <a:lnTo>
                    <a:pt x="204" y="382"/>
                  </a:lnTo>
                  <a:lnTo>
                    <a:pt x="214" y="385"/>
                  </a:lnTo>
                  <a:lnTo>
                    <a:pt x="226" y="382"/>
                  </a:lnTo>
                  <a:lnTo>
                    <a:pt x="235" y="389"/>
                  </a:lnTo>
                  <a:lnTo>
                    <a:pt x="245" y="395"/>
                  </a:lnTo>
                  <a:lnTo>
                    <a:pt x="254" y="402"/>
                  </a:lnTo>
                  <a:lnTo>
                    <a:pt x="260" y="394"/>
                  </a:lnTo>
                  <a:lnTo>
                    <a:pt x="267" y="387"/>
                  </a:lnTo>
                  <a:lnTo>
                    <a:pt x="280" y="385"/>
                  </a:lnTo>
                  <a:lnTo>
                    <a:pt x="289" y="379"/>
                  </a:lnTo>
                  <a:lnTo>
                    <a:pt x="294" y="371"/>
                  </a:lnTo>
                  <a:lnTo>
                    <a:pt x="305" y="371"/>
                  </a:lnTo>
                  <a:lnTo>
                    <a:pt x="315" y="371"/>
                  </a:lnTo>
                  <a:lnTo>
                    <a:pt x="317" y="376"/>
                  </a:lnTo>
                  <a:lnTo>
                    <a:pt x="327" y="378"/>
                  </a:lnTo>
                  <a:lnTo>
                    <a:pt x="334" y="383"/>
                  </a:lnTo>
                  <a:lnTo>
                    <a:pt x="347" y="383"/>
                  </a:lnTo>
                  <a:lnTo>
                    <a:pt x="359" y="384"/>
                  </a:lnTo>
                  <a:lnTo>
                    <a:pt x="372" y="383"/>
                  </a:lnTo>
                  <a:lnTo>
                    <a:pt x="377" y="375"/>
                  </a:lnTo>
                  <a:lnTo>
                    <a:pt x="387" y="369"/>
                  </a:lnTo>
                  <a:lnTo>
                    <a:pt x="400" y="370"/>
                  </a:lnTo>
                  <a:lnTo>
                    <a:pt x="411" y="368"/>
                  </a:lnTo>
                  <a:lnTo>
                    <a:pt x="419" y="374"/>
                  </a:lnTo>
                  <a:lnTo>
                    <a:pt x="428" y="375"/>
                  </a:lnTo>
                  <a:lnTo>
                    <a:pt x="429" y="380"/>
                  </a:lnTo>
                  <a:lnTo>
                    <a:pt x="435" y="381"/>
                  </a:lnTo>
                  <a:lnTo>
                    <a:pt x="442" y="384"/>
                  </a:lnTo>
                  <a:lnTo>
                    <a:pt x="452" y="384"/>
                  </a:lnTo>
                  <a:lnTo>
                    <a:pt x="454" y="384"/>
                  </a:lnTo>
                  <a:lnTo>
                    <a:pt x="467" y="383"/>
                  </a:lnTo>
                  <a:lnTo>
                    <a:pt x="463" y="390"/>
                  </a:lnTo>
                  <a:lnTo>
                    <a:pt x="475" y="391"/>
                  </a:lnTo>
                  <a:lnTo>
                    <a:pt x="482" y="388"/>
                  </a:lnTo>
                  <a:lnTo>
                    <a:pt x="489" y="393"/>
                  </a:lnTo>
                  <a:lnTo>
                    <a:pt x="500" y="392"/>
                  </a:lnTo>
                  <a:lnTo>
                    <a:pt x="507" y="396"/>
                  </a:lnTo>
                  <a:lnTo>
                    <a:pt x="512" y="394"/>
                  </a:lnTo>
                  <a:lnTo>
                    <a:pt x="520" y="394"/>
                  </a:lnTo>
                  <a:lnTo>
                    <a:pt x="527" y="387"/>
                  </a:lnTo>
                  <a:lnTo>
                    <a:pt x="540" y="387"/>
                  </a:lnTo>
                  <a:lnTo>
                    <a:pt x="548" y="389"/>
                  </a:lnTo>
                  <a:lnTo>
                    <a:pt x="556" y="389"/>
                  </a:lnTo>
                  <a:lnTo>
                    <a:pt x="569" y="389"/>
                  </a:lnTo>
                  <a:lnTo>
                    <a:pt x="580" y="394"/>
                  </a:lnTo>
                  <a:lnTo>
                    <a:pt x="577" y="403"/>
                  </a:lnTo>
                  <a:lnTo>
                    <a:pt x="590" y="406"/>
                  </a:lnTo>
                  <a:lnTo>
                    <a:pt x="602" y="410"/>
                  </a:lnTo>
                  <a:lnTo>
                    <a:pt x="609" y="405"/>
                  </a:lnTo>
                  <a:lnTo>
                    <a:pt x="618" y="402"/>
                  </a:lnTo>
                  <a:lnTo>
                    <a:pt x="618" y="393"/>
                  </a:lnTo>
                  <a:lnTo>
                    <a:pt x="616" y="383"/>
                  </a:lnTo>
                  <a:lnTo>
                    <a:pt x="625" y="379"/>
                  </a:lnTo>
                  <a:lnTo>
                    <a:pt x="632" y="373"/>
                  </a:lnTo>
                  <a:lnTo>
                    <a:pt x="646" y="371"/>
                  </a:lnTo>
                  <a:lnTo>
                    <a:pt x="644" y="362"/>
                  </a:lnTo>
                  <a:lnTo>
                    <a:pt x="656" y="359"/>
                  </a:lnTo>
                  <a:lnTo>
                    <a:pt x="657" y="365"/>
                  </a:lnTo>
                  <a:lnTo>
                    <a:pt x="665" y="369"/>
                  </a:lnTo>
                  <a:lnTo>
                    <a:pt x="678" y="371"/>
                  </a:lnTo>
                  <a:lnTo>
                    <a:pt x="686" y="364"/>
                  </a:lnTo>
                  <a:lnTo>
                    <a:pt x="691" y="355"/>
                  </a:lnTo>
                  <a:lnTo>
                    <a:pt x="703" y="353"/>
                  </a:lnTo>
                  <a:lnTo>
                    <a:pt x="713" y="347"/>
                  </a:lnTo>
                  <a:lnTo>
                    <a:pt x="716" y="338"/>
                  </a:lnTo>
                  <a:lnTo>
                    <a:pt x="728" y="335"/>
                  </a:lnTo>
                  <a:lnTo>
                    <a:pt x="741" y="338"/>
                  </a:lnTo>
                  <a:lnTo>
                    <a:pt x="753" y="337"/>
                  </a:lnTo>
                  <a:lnTo>
                    <a:pt x="766" y="333"/>
                  </a:lnTo>
                  <a:lnTo>
                    <a:pt x="779" y="331"/>
                  </a:lnTo>
                  <a:lnTo>
                    <a:pt x="791" y="335"/>
                  </a:lnTo>
                  <a:lnTo>
                    <a:pt x="802" y="333"/>
                  </a:lnTo>
                  <a:lnTo>
                    <a:pt x="816" y="335"/>
                  </a:lnTo>
                  <a:lnTo>
                    <a:pt x="826" y="333"/>
                  </a:lnTo>
                  <a:lnTo>
                    <a:pt x="837" y="333"/>
                  </a:lnTo>
                  <a:lnTo>
                    <a:pt x="847" y="338"/>
                  </a:lnTo>
                  <a:lnTo>
                    <a:pt x="858" y="335"/>
                  </a:lnTo>
                  <a:lnTo>
                    <a:pt x="871" y="331"/>
                  </a:lnTo>
                  <a:lnTo>
                    <a:pt x="881" y="331"/>
                  </a:lnTo>
                  <a:lnTo>
                    <a:pt x="888" y="330"/>
                  </a:lnTo>
                  <a:lnTo>
                    <a:pt x="892" y="334"/>
                  </a:lnTo>
                  <a:lnTo>
                    <a:pt x="897" y="339"/>
                  </a:lnTo>
                  <a:lnTo>
                    <a:pt x="909" y="342"/>
                  </a:lnTo>
                  <a:lnTo>
                    <a:pt x="917" y="342"/>
                  </a:lnTo>
                  <a:lnTo>
                    <a:pt x="927" y="337"/>
                  </a:lnTo>
                  <a:lnTo>
                    <a:pt x="938" y="335"/>
                  </a:lnTo>
                  <a:lnTo>
                    <a:pt x="948" y="335"/>
                  </a:lnTo>
                  <a:lnTo>
                    <a:pt x="958" y="333"/>
                  </a:lnTo>
                  <a:lnTo>
                    <a:pt x="965" y="330"/>
                  </a:lnTo>
                  <a:lnTo>
                    <a:pt x="974" y="324"/>
                  </a:lnTo>
                  <a:lnTo>
                    <a:pt x="981" y="317"/>
                  </a:lnTo>
                  <a:lnTo>
                    <a:pt x="987" y="312"/>
                  </a:lnTo>
                  <a:lnTo>
                    <a:pt x="998" y="309"/>
                  </a:lnTo>
                  <a:lnTo>
                    <a:pt x="1011" y="310"/>
                  </a:lnTo>
                  <a:lnTo>
                    <a:pt x="1020" y="312"/>
                  </a:lnTo>
                  <a:lnTo>
                    <a:pt x="1025" y="318"/>
                  </a:lnTo>
                  <a:lnTo>
                    <a:pt x="1013" y="320"/>
                  </a:lnTo>
                  <a:lnTo>
                    <a:pt x="1016" y="329"/>
                  </a:lnTo>
                  <a:lnTo>
                    <a:pt x="1023" y="336"/>
                  </a:lnTo>
                  <a:lnTo>
                    <a:pt x="1033" y="341"/>
                  </a:lnTo>
                  <a:lnTo>
                    <a:pt x="1046" y="344"/>
                  </a:lnTo>
                  <a:lnTo>
                    <a:pt x="1041" y="333"/>
                  </a:lnTo>
                  <a:lnTo>
                    <a:pt x="1044" y="327"/>
                  </a:lnTo>
                  <a:lnTo>
                    <a:pt x="1050" y="320"/>
                  </a:lnTo>
                  <a:lnTo>
                    <a:pt x="1061" y="321"/>
                  </a:lnTo>
                  <a:lnTo>
                    <a:pt x="1068" y="317"/>
                  </a:lnTo>
                  <a:lnTo>
                    <a:pt x="1079" y="312"/>
                  </a:lnTo>
                  <a:lnTo>
                    <a:pt x="1081" y="310"/>
                  </a:lnTo>
                  <a:lnTo>
                    <a:pt x="1076" y="301"/>
                  </a:lnTo>
                  <a:lnTo>
                    <a:pt x="1083" y="295"/>
                  </a:lnTo>
                  <a:lnTo>
                    <a:pt x="1090" y="293"/>
                  </a:lnTo>
                  <a:lnTo>
                    <a:pt x="1093" y="288"/>
                  </a:lnTo>
                  <a:lnTo>
                    <a:pt x="1092" y="284"/>
                  </a:lnTo>
                  <a:lnTo>
                    <a:pt x="1090" y="277"/>
                  </a:lnTo>
                  <a:lnTo>
                    <a:pt x="1097" y="269"/>
                  </a:lnTo>
                  <a:lnTo>
                    <a:pt x="1099" y="261"/>
                  </a:lnTo>
                  <a:lnTo>
                    <a:pt x="1096" y="253"/>
                  </a:lnTo>
                  <a:lnTo>
                    <a:pt x="1097" y="244"/>
                  </a:lnTo>
                  <a:lnTo>
                    <a:pt x="1096" y="234"/>
                  </a:lnTo>
                  <a:lnTo>
                    <a:pt x="1096" y="225"/>
                  </a:lnTo>
                  <a:lnTo>
                    <a:pt x="1103" y="223"/>
                  </a:lnTo>
                  <a:lnTo>
                    <a:pt x="1109" y="222"/>
                  </a:lnTo>
                  <a:lnTo>
                    <a:pt x="1110" y="216"/>
                  </a:lnTo>
                  <a:lnTo>
                    <a:pt x="1111" y="212"/>
                  </a:lnTo>
                  <a:lnTo>
                    <a:pt x="1121" y="215"/>
                  </a:lnTo>
                  <a:lnTo>
                    <a:pt x="1120" y="210"/>
                  </a:lnTo>
                  <a:lnTo>
                    <a:pt x="1124" y="201"/>
                  </a:lnTo>
                  <a:lnTo>
                    <a:pt x="1129" y="207"/>
                  </a:lnTo>
                  <a:lnTo>
                    <a:pt x="1131" y="198"/>
                  </a:lnTo>
                  <a:lnTo>
                    <a:pt x="1125" y="194"/>
                  </a:lnTo>
                  <a:lnTo>
                    <a:pt x="1136" y="196"/>
                  </a:lnTo>
                  <a:lnTo>
                    <a:pt x="1127" y="191"/>
                  </a:lnTo>
                  <a:lnTo>
                    <a:pt x="1129" y="187"/>
                  </a:lnTo>
                  <a:lnTo>
                    <a:pt x="1136" y="183"/>
                  </a:lnTo>
                  <a:lnTo>
                    <a:pt x="1128" y="177"/>
                  </a:lnTo>
                  <a:lnTo>
                    <a:pt x="1124" y="168"/>
                  </a:lnTo>
                  <a:lnTo>
                    <a:pt x="1117" y="160"/>
                  </a:lnTo>
                  <a:lnTo>
                    <a:pt x="1121" y="153"/>
                  </a:lnTo>
                  <a:lnTo>
                    <a:pt x="1132" y="138"/>
                  </a:lnTo>
                  <a:lnTo>
                    <a:pt x="1141" y="136"/>
                  </a:lnTo>
                  <a:lnTo>
                    <a:pt x="1150" y="133"/>
                  </a:lnTo>
                  <a:lnTo>
                    <a:pt x="1157" y="126"/>
                  </a:lnTo>
                  <a:lnTo>
                    <a:pt x="1162" y="117"/>
                  </a:lnTo>
                  <a:lnTo>
                    <a:pt x="1160" y="108"/>
                  </a:lnTo>
                  <a:lnTo>
                    <a:pt x="1155" y="100"/>
                  </a:lnTo>
                  <a:lnTo>
                    <a:pt x="1163" y="93"/>
                  </a:lnTo>
                  <a:lnTo>
                    <a:pt x="1173" y="88"/>
                  </a:lnTo>
                  <a:lnTo>
                    <a:pt x="1177" y="87"/>
                  </a:lnTo>
                  <a:lnTo>
                    <a:pt x="1183" y="82"/>
                  </a:lnTo>
                  <a:lnTo>
                    <a:pt x="1192" y="83"/>
                  </a:lnTo>
                  <a:lnTo>
                    <a:pt x="1199" y="89"/>
                  </a:lnTo>
                  <a:lnTo>
                    <a:pt x="1211" y="85"/>
                  </a:lnTo>
                  <a:lnTo>
                    <a:pt x="1216" y="78"/>
                  </a:lnTo>
                  <a:lnTo>
                    <a:pt x="1227" y="73"/>
                  </a:lnTo>
                  <a:lnTo>
                    <a:pt x="1240" y="70"/>
                  </a:lnTo>
                  <a:lnTo>
                    <a:pt x="1250" y="68"/>
                  </a:lnTo>
                  <a:lnTo>
                    <a:pt x="1260" y="64"/>
                  </a:lnTo>
                  <a:lnTo>
                    <a:pt x="1271" y="58"/>
                  </a:lnTo>
                  <a:lnTo>
                    <a:pt x="1279" y="52"/>
                  </a:lnTo>
                  <a:lnTo>
                    <a:pt x="1286" y="44"/>
                  </a:lnTo>
                  <a:lnTo>
                    <a:pt x="1297" y="39"/>
                  </a:lnTo>
                  <a:lnTo>
                    <a:pt x="1307" y="34"/>
                  </a:lnTo>
                  <a:lnTo>
                    <a:pt x="1313" y="25"/>
                  </a:lnTo>
                  <a:lnTo>
                    <a:pt x="1321" y="19"/>
                  </a:lnTo>
                  <a:lnTo>
                    <a:pt x="1334" y="15"/>
                  </a:lnTo>
                  <a:lnTo>
                    <a:pt x="1343" y="10"/>
                  </a:lnTo>
                  <a:lnTo>
                    <a:pt x="1350" y="3"/>
                  </a:lnTo>
                  <a:lnTo>
                    <a:pt x="1356" y="0"/>
                  </a:lnTo>
                  <a:lnTo>
                    <a:pt x="1366" y="2"/>
                  </a:lnTo>
                  <a:lnTo>
                    <a:pt x="1376" y="8"/>
                  </a:lnTo>
                  <a:lnTo>
                    <a:pt x="1385" y="15"/>
                  </a:lnTo>
                  <a:lnTo>
                    <a:pt x="1391" y="23"/>
                  </a:lnTo>
                  <a:lnTo>
                    <a:pt x="1403" y="24"/>
                  </a:lnTo>
                  <a:lnTo>
                    <a:pt x="1412" y="17"/>
                  </a:lnTo>
                  <a:lnTo>
                    <a:pt x="1424" y="16"/>
                  </a:lnTo>
                  <a:lnTo>
                    <a:pt x="1437" y="20"/>
                  </a:lnTo>
                  <a:lnTo>
                    <a:pt x="1438" y="29"/>
                  </a:lnTo>
                  <a:lnTo>
                    <a:pt x="1443" y="37"/>
                  </a:lnTo>
                  <a:lnTo>
                    <a:pt x="1444" y="46"/>
                  </a:lnTo>
                  <a:lnTo>
                    <a:pt x="1447" y="54"/>
                  </a:lnTo>
                  <a:lnTo>
                    <a:pt x="1447" y="62"/>
                  </a:lnTo>
                  <a:lnTo>
                    <a:pt x="1454" y="68"/>
                  </a:lnTo>
                  <a:lnTo>
                    <a:pt x="1457" y="76"/>
                  </a:lnTo>
                  <a:lnTo>
                    <a:pt x="1468" y="82"/>
                  </a:lnTo>
                  <a:lnTo>
                    <a:pt x="1478" y="88"/>
                  </a:lnTo>
                  <a:lnTo>
                    <a:pt x="1486" y="91"/>
                  </a:lnTo>
                  <a:lnTo>
                    <a:pt x="1497" y="93"/>
                  </a:lnTo>
                  <a:lnTo>
                    <a:pt x="1507" y="99"/>
                  </a:lnTo>
                  <a:lnTo>
                    <a:pt x="1518" y="96"/>
                  </a:lnTo>
                  <a:lnTo>
                    <a:pt x="1531" y="97"/>
                  </a:lnTo>
                  <a:lnTo>
                    <a:pt x="1543" y="95"/>
                  </a:lnTo>
                  <a:lnTo>
                    <a:pt x="1543" y="88"/>
                  </a:lnTo>
                  <a:lnTo>
                    <a:pt x="1553" y="82"/>
                  </a:lnTo>
                  <a:lnTo>
                    <a:pt x="1557" y="73"/>
                  </a:lnTo>
                  <a:lnTo>
                    <a:pt x="1567" y="68"/>
                  </a:lnTo>
                  <a:lnTo>
                    <a:pt x="1581" y="66"/>
                  </a:lnTo>
                  <a:lnTo>
                    <a:pt x="1592" y="70"/>
                  </a:lnTo>
                  <a:lnTo>
                    <a:pt x="1605" y="72"/>
                  </a:lnTo>
                  <a:lnTo>
                    <a:pt x="1616" y="75"/>
                  </a:lnTo>
                  <a:lnTo>
                    <a:pt x="1617" y="84"/>
                  </a:lnTo>
                  <a:lnTo>
                    <a:pt x="1629" y="89"/>
                  </a:lnTo>
                  <a:lnTo>
                    <a:pt x="1638" y="93"/>
                  </a:lnTo>
                  <a:lnTo>
                    <a:pt x="1650" y="97"/>
                  </a:lnTo>
                  <a:lnTo>
                    <a:pt x="1659" y="103"/>
                  </a:lnTo>
                  <a:lnTo>
                    <a:pt x="1662" y="113"/>
                  </a:lnTo>
                  <a:lnTo>
                    <a:pt x="1670" y="115"/>
                  </a:lnTo>
                  <a:lnTo>
                    <a:pt x="1683" y="111"/>
                  </a:lnTo>
                  <a:lnTo>
                    <a:pt x="1691" y="116"/>
                  </a:lnTo>
                  <a:lnTo>
                    <a:pt x="1696" y="125"/>
                  </a:lnTo>
                  <a:lnTo>
                    <a:pt x="1698" y="133"/>
                  </a:lnTo>
                  <a:lnTo>
                    <a:pt x="1690" y="140"/>
                  </a:lnTo>
                  <a:lnTo>
                    <a:pt x="1679" y="145"/>
                  </a:lnTo>
                  <a:lnTo>
                    <a:pt x="1670" y="152"/>
                  </a:lnTo>
                  <a:lnTo>
                    <a:pt x="1668" y="160"/>
                  </a:lnTo>
                  <a:lnTo>
                    <a:pt x="1665" y="168"/>
                  </a:lnTo>
                  <a:lnTo>
                    <a:pt x="1655" y="173"/>
                  </a:lnTo>
                  <a:lnTo>
                    <a:pt x="1664" y="180"/>
                  </a:lnTo>
                  <a:lnTo>
                    <a:pt x="1670" y="188"/>
                  </a:lnTo>
                  <a:lnTo>
                    <a:pt x="1677" y="196"/>
                  </a:lnTo>
                  <a:lnTo>
                    <a:pt x="1689" y="196"/>
                  </a:lnTo>
                  <a:lnTo>
                    <a:pt x="1703" y="196"/>
                  </a:lnTo>
                  <a:lnTo>
                    <a:pt x="1705" y="187"/>
                  </a:lnTo>
                  <a:lnTo>
                    <a:pt x="1701" y="179"/>
                  </a:lnTo>
                  <a:lnTo>
                    <a:pt x="1712" y="176"/>
                  </a:lnTo>
                  <a:lnTo>
                    <a:pt x="1717" y="167"/>
                  </a:lnTo>
                  <a:lnTo>
                    <a:pt x="1729" y="164"/>
                  </a:lnTo>
                  <a:lnTo>
                    <a:pt x="1742" y="166"/>
                  </a:lnTo>
                  <a:lnTo>
                    <a:pt x="1747" y="173"/>
                  </a:lnTo>
                  <a:lnTo>
                    <a:pt x="1752" y="177"/>
                  </a:lnTo>
                  <a:lnTo>
                    <a:pt x="1763" y="178"/>
                  </a:lnTo>
                  <a:lnTo>
                    <a:pt x="1777" y="177"/>
                  </a:lnTo>
                  <a:lnTo>
                    <a:pt x="1773" y="168"/>
                  </a:lnTo>
                  <a:lnTo>
                    <a:pt x="1780" y="161"/>
                  </a:lnTo>
                  <a:lnTo>
                    <a:pt x="1789" y="155"/>
                  </a:lnTo>
                  <a:lnTo>
                    <a:pt x="1789" y="145"/>
                  </a:lnTo>
                  <a:lnTo>
                    <a:pt x="1801" y="146"/>
                  </a:lnTo>
                  <a:lnTo>
                    <a:pt x="1799" y="154"/>
                  </a:lnTo>
                  <a:lnTo>
                    <a:pt x="1803" y="160"/>
                  </a:lnTo>
                  <a:lnTo>
                    <a:pt x="1814" y="159"/>
                  </a:lnTo>
                  <a:lnTo>
                    <a:pt x="1826" y="158"/>
                  </a:lnTo>
                  <a:lnTo>
                    <a:pt x="1835" y="161"/>
                  </a:lnTo>
                  <a:lnTo>
                    <a:pt x="1845" y="161"/>
                  </a:lnTo>
                  <a:lnTo>
                    <a:pt x="1847" y="171"/>
                  </a:lnTo>
                  <a:lnTo>
                    <a:pt x="1856" y="174"/>
                  </a:lnTo>
                  <a:lnTo>
                    <a:pt x="1870" y="171"/>
                  </a:lnTo>
                  <a:lnTo>
                    <a:pt x="1882" y="168"/>
                  </a:lnTo>
                  <a:lnTo>
                    <a:pt x="1883" y="178"/>
                  </a:lnTo>
                  <a:lnTo>
                    <a:pt x="1887" y="187"/>
                  </a:lnTo>
                  <a:lnTo>
                    <a:pt x="1891" y="195"/>
                  </a:lnTo>
                  <a:lnTo>
                    <a:pt x="1898" y="203"/>
                  </a:lnTo>
                  <a:lnTo>
                    <a:pt x="1910" y="208"/>
                  </a:lnTo>
                  <a:lnTo>
                    <a:pt x="1907" y="216"/>
                  </a:lnTo>
                  <a:lnTo>
                    <a:pt x="1904" y="226"/>
                  </a:lnTo>
                  <a:lnTo>
                    <a:pt x="1893" y="228"/>
                  </a:lnTo>
                  <a:lnTo>
                    <a:pt x="1887" y="235"/>
                  </a:lnTo>
                  <a:lnTo>
                    <a:pt x="1884" y="244"/>
                  </a:lnTo>
                  <a:lnTo>
                    <a:pt x="1882" y="253"/>
                  </a:lnTo>
                  <a:lnTo>
                    <a:pt x="1890" y="253"/>
                  </a:lnTo>
                  <a:lnTo>
                    <a:pt x="1897" y="247"/>
                  </a:lnTo>
                  <a:lnTo>
                    <a:pt x="1907" y="244"/>
                  </a:lnTo>
                  <a:lnTo>
                    <a:pt x="1918" y="244"/>
                  </a:lnTo>
                  <a:lnTo>
                    <a:pt x="1931" y="245"/>
                  </a:lnTo>
                  <a:lnTo>
                    <a:pt x="1943" y="242"/>
                  </a:lnTo>
                  <a:lnTo>
                    <a:pt x="1956" y="240"/>
                  </a:lnTo>
                  <a:lnTo>
                    <a:pt x="1957" y="233"/>
                  </a:lnTo>
                  <a:lnTo>
                    <a:pt x="1961" y="225"/>
                  </a:lnTo>
                  <a:lnTo>
                    <a:pt x="1971" y="220"/>
                  </a:lnTo>
                  <a:lnTo>
                    <a:pt x="1977" y="212"/>
                  </a:lnTo>
                  <a:lnTo>
                    <a:pt x="1981" y="203"/>
                  </a:lnTo>
                  <a:lnTo>
                    <a:pt x="1988" y="198"/>
                  </a:lnTo>
                  <a:lnTo>
                    <a:pt x="1998" y="198"/>
                  </a:lnTo>
                  <a:lnTo>
                    <a:pt x="2009" y="195"/>
                  </a:lnTo>
                  <a:lnTo>
                    <a:pt x="2014" y="186"/>
                  </a:lnTo>
                  <a:lnTo>
                    <a:pt x="2019" y="177"/>
                  </a:lnTo>
                  <a:lnTo>
                    <a:pt x="2026" y="169"/>
                  </a:lnTo>
                  <a:lnTo>
                    <a:pt x="2037" y="168"/>
                  </a:lnTo>
                  <a:lnTo>
                    <a:pt x="2048" y="174"/>
                  </a:lnTo>
                  <a:lnTo>
                    <a:pt x="2056" y="172"/>
                  </a:lnTo>
                  <a:lnTo>
                    <a:pt x="2062" y="163"/>
                  </a:lnTo>
                  <a:lnTo>
                    <a:pt x="2074" y="161"/>
                  </a:lnTo>
                  <a:lnTo>
                    <a:pt x="2084" y="156"/>
                  </a:lnTo>
                  <a:lnTo>
                    <a:pt x="2095" y="152"/>
                  </a:lnTo>
                  <a:lnTo>
                    <a:pt x="2107" y="150"/>
                  </a:lnTo>
                  <a:lnTo>
                    <a:pt x="2118" y="145"/>
                  </a:lnTo>
                  <a:lnTo>
                    <a:pt x="2130" y="144"/>
                  </a:lnTo>
                  <a:lnTo>
                    <a:pt x="2140" y="145"/>
                  </a:lnTo>
                  <a:lnTo>
                    <a:pt x="2150" y="150"/>
                  </a:lnTo>
                  <a:lnTo>
                    <a:pt x="2161" y="152"/>
                  </a:lnTo>
                  <a:lnTo>
                    <a:pt x="2161" y="162"/>
                  </a:lnTo>
                  <a:lnTo>
                    <a:pt x="2177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05320" y="1828800"/>
              <a:ext cx="1195200" cy="927000"/>
            </a:xfrm>
            <a:custGeom>
              <a:avLst/>
              <a:gdLst/>
              <a:ahLst/>
              <a:rect l="l" t="t" r="r" b="b"/>
              <a:pathLst>
                <a:path w="2257" h="1167">
                  <a:moveTo>
                    <a:pt x="2176" y="162"/>
                  </a:moveTo>
                  <a:lnTo>
                    <a:pt x="2193" y="164"/>
                  </a:lnTo>
                  <a:lnTo>
                    <a:pt x="2199" y="173"/>
                  </a:lnTo>
                  <a:lnTo>
                    <a:pt x="2201" y="182"/>
                  </a:lnTo>
                  <a:lnTo>
                    <a:pt x="2203" y="190"/>
                  </a:lnTo>
                  <a:lnTo>
                    <a:pt x="2215" y="194"/>
                  </a:lnTo>
                  <a:lnTo>
                    <a:pt x="2224" y="188"/>
                  </a:lnTo>
                  <a:lnTo>
                    <a:pt x="2233" y="196"/>
                  </a:lnTo>
                  <a:lnTo>
                    <a:pt x="2246" y="193"/>
                  </a:lnTo>
                  <a:lnTo>
                    <a:pt x="2253" y="197"/>
                  </a:lnTo>
                  <a:lnTo>
                    <a:pt x="2256" y="204"/>
                  </a:lnTo>
                  <a:lnTo>
                    <a:pt x="2257" y="214"/>
                  </a:lnTo>
                  <a:lnTo>
                    <a:pt x="2245" y="223"/>
                  </a:lnTo>
                  <a:lnTo>
                    <a:pt x="2232" y="226"/>
                  </a:lnTo>
                  <a:lnTo>
                    <a:pt x="2232" y="234"/>
                  </a:lnTo>
                  <a:lnTo>
                    <a:pt x="2229" y="243"/>
                  </a:lnTo>
                  <a:lnTo>
                    <a:pt x="2224" y="249"/>
                  </a:lnTo>
                  <a:lnTo>
                    <a:pt x="2221" y="258"/>
                  </a:lnTo>
                  <a:lnTo>
                    <a:pt x="2210" y="255"/>
                  </a:lnTo>
                  <a:lnTo>
                    <a:pt x="2197" y="254"/>
                  </a:lnTo>
                  <a:lnTo>
                    <a:pt x="2185" y="256"/>
                  </a:lnTo>
                  <a:lnTo>
                    <a:pt x="2175" y="251"/>
                  </a:lnTo>
                  <a:lnTo>
                    <a:pt x="2168" y="259"/>
                  </a:lnTo>
                  <a:lnTo>
                    <a:pt x="2169" y="268"/>
                  </a:lnTo>
                  <a:lnTo>
                    <a:pt x="2169" y="275"/>
                  </a:lnTo>
                  <a:lnTo>
                    <a:pt x="2164" y="285"/>
                  </a:lnTo>
                  <a:lnTo>
                    <a:pt x="2158" y="293"/>
                  </a:lnTo>
                  <a:lnTo>
                    <a:pt x="2144" y="291"/>
                  </a:lnTo>
                  <a:lnTo>
                    <a:pt x="2133" y="295"/>
                  </a:lnTo>
                  <a:lnTo>
                    <a:pt x="2120" y="295"/>
                  </a:lnTo>
                  <a:lnTo>
                    <a:pt x="2110" y="301"/>
                  </a:lnTo>
                  <a:lnTo>
                    <a:pt x="2098" y="303"/>
                  </a:lnTo>
                  <a:lnTo>
                    <a:pt x="2084" y="303"/>
                  </a:lnTo>
                  <a:lnTo>
                    <a:pt x="2074" y="309"/>
                  </a:lnTo>
                  <a:lnTo>
                    <a:pt x="2063" y="312"/>
                  </a:lnTo>
                  <a:lnTo>
                    <a:pt x="2055" y="317"/>
                  </a:lnTo>
                  <a:lnTo>
                    <a:pt x="2043" y="319"/>
                  </a:lnTo>
                  <a:lnTo>
                    <a:pt x="2035" y="316"/>
                  </a:lnTo>
                  <a:lnTo>
                    <a:pt x="2028" y="321"/>
                  </a:lnTo>
                  <a:lnTo>
                    <a:pt x="2018" y="325"/>
                  </a:lnTo>
                  <a:lnTo>
                    <a:pt x="2024" y="332"/>
                  </a:lnTo>
                  <a:lnTo>
                    <a:pt x="2025" y="340"/>
                  </a:lnTo>
                  <a:lnTo>
                    <a:pt x="2022" y="349"/>
                  </a:lnTo>
                  <a:lnTo>
                    <a:pt x="2031" y="352"/>
                  </a:lnTo>
                  <a:lnTo>
                    <a:pt x="2041" y="355"/>
                  </a:lnTo>
                  <a:lnTo>
                    <a:pt x="2052" y="359"/>
                  </a:lnTo>
                  <a:lnTo>
                    <a:pt x="2055" y="367"/>
                  </a:lnTo>
                  <a:lnTo>
                    <a:pt x="2067" y="371"/>
                  </a:lnTo>
                  <a:lnTo>
                    <a:pt x="2073" y="379"/>
                  </a:lnTo>
                  <a:lnTo>
                    <a:pt x="2082" y="385"/>
                  </a:lnTo>
                  <a:lnTo>
                    <a:pt x="2092" y="387"/>
                  </a:lnTo>
                  <a:lnTo>
                    <a:pt x="2094" y="391"/>
                  </a:lnTo>
                  <a:lnTo>
                    <a:pt x="2099" y="395"/>
                  </a:lnTo>
                  <a:lnTo>
                    <a:pt x="2110" y="399"/>
                  </a:lnTo>
                  <a:lnTo>
                    <a:pt x="2108" y="402"/>
                  </a:lnTo>
                  <a:lnTo>
                    <a:pt x="2098" y="405"/>
                  </a:lnTo>
                  <a:lnTo>
                    <a:pt x="2103" y="413"/>
                  </a:lnTo>
                  <a:lnTo>
                    <a:pt x="2106" y="421"/>
                  </a:lnTo>
                  <a:lnTo>
                    <a:pt x="2103" y="429"/>
                  </a:lnTo>
                  <a:lnTo>
                    <a:pt x="2108" y="438"/>
                  </a:lnTo>
                  <a:lnTo>
                    <a:pt x="2109" y="446"/>
                  </a:lnTo>
                  <a:lnTo>
                    <a:pt x="2110" y="454"/>
                  </a:lnTo>
                  <a:lnTo>
                    <a:pt x="2109" y="463"/>
                  </a:lnTo>
                  <a:lnTo>
                    <a:pt x="2112" y="472"/>
                  </a:lnTo>
                  <a:lnTo>
                    <a:pt x="2119" y="479"/>
                  </a:lnTo>
                  <a:lnTo>
                    <a:pt x="2129" y="483"/>
                  </a:lnTo>
                  <a:lnTo>
                    <a:pt x="2138" y="487"/>
                  </a:lnTo>
                  <a:lnTo>
                    <a:pt x="2145" y="493"/>
                  </a:lnTo>
                  <a:lnTo>
                    <a:pt x="2137" y="495"/>
                  </a:lnTo>
                  <a:lnTo>
                    <a:pt x="2126" y="499"/>
                  </a:lnTo>
                  <a:lnTo>
                    <a:pt x="2113" y="499"/>
                  </a:lnTo>
                  <a:lnTo>
                    <a:pt x="2101" y="502"/>
                  </a:lnTo>
                  <a:lnTo>
                    <a:pt x="2088" y="503"/>
                  </a:lnTo>
                  <a:lnTo>
                    <a:pt x="2075" y="500"/>
                  </a:lnTo>
                  <a:lnTo>
                    <a:pt x="2069" y="507"/>
                  </a:lnTo>
                  <a:lnTo>
                    <a:pt x="2055" y="513"/>
                  </a:lnTo>
                  <a:lnTo>
                    <a:pt x="2043" y="517"/>
                  </a:lnTo>
                  <a:lnTo>
                    <a:pt x="2043" y="526"/>
                  </a:lnTo>
                  <a:lnTo>
                    <a:pt x="2035" y="533"/>
                  </a:lnTo>
                  <a:lnTo>
                    <a:pt x="2041" y="540"/>
                  </a:lnTo>
                  <a:lnTo>
                    <a:pt x="2048" y="546"/>
                  </a:lnTo>
                  <a:lnTo>
                    <a:pt x="2055" y="553"/>
                  </a:lnTo>
                  <a:lnTo>
                    <a:pt x="2045" y="558"/>
                  </a:lnTo>
                  <a:lnTo>
                    <a:pt x="2039" y="566"/>
                  </a:lnTo>
                  <a:lnTo>
                    <a:pt x="2027" y="567"/>
                  </a:lnTo>
                  <a:lnTo>
                    <a:pt x="2015" y="571"/>
                  </a:lnTo>
                  <a:lnTo>
                    <a:pt x="2014" y="580"/>
                  </a:lnTo>
                  <a:lnTo>
                    <a:pt x="2021" y="586"/>
                  </a:lnTo>
                  <a:lnTo>
                    <a:pt x="2021" y="595"/>
                  </a:lnTo>
                  <a:lnTo>
                    <a:pt x="2025" y="603"/>
                  </a:lnTo>
                  <a:lnTo>
                    <a:pt x="2024" y="613"/>
                  </a:lnTo>
                  <a:lnTo>
                    <a:pt x="2015" y="620"/>
                  </a:lnTo>
                  <a:lnTo>
                    <a:pt x="2004" y="623"/>
                  </a:lnTo>
                  <a:lnTo>
                    <a:pt x="1992" y="623"/>
                  </a:lnTo>
                  <a:lnTo>
                    <a:pt x="1982" y="628"/>
                  </a:lnTo>
                  <a:lnTo>
                    <a:pt x="1969" y="631"/>
                  </a:lnTo>
                  <a:lnTo>
                    <a:pt x="1964" y="639"/>
                  </a:lnTo>
                  <a:lnTo>
                    <a:pt x="1961" y="654"/>
                  </a:lnTo>
                  <a:lnTo>
                    <a:pt x="1959" y="663"/>
                  </a:lnTo>
                  <a:lnTo>
                    <a:pt x="1952" y="671"/>
                  </a:lnTo>
                  <a:lnTo>
                    <a:pt x="1940" y="674"/>
                  </a:lnTo>
                  <a:lnTo>
                    <a:pt x="1937" y="682"/>
                  </a:lnTo>
                  <a:lnTo>
                    <a:pt x="1927" y="687"/>
                  </a:lnTo>
                  <a:lnTo>
                    <a:pt x="1915" y="684"/>
                  </a:lnTo>
                  <a:lnTo>
                    <a:pt x="1902" y="683"/>
                  </a:lnTo>
                  <a:lnTo>
                    <a:pt x="1890" y="687"/>
                  </a:lnTo>
                  <a:lnTo>
                    <a:pt x="1878" y="686"/>
                  </a:lnTo>
                  <a:lnTo>
                    <a:pt x="1871" y="678"/>
                  </a:lnTo>
                  <a:lnTo>
                    <a:pt x="1862" y="671"/>
                  </a:lnTo>
                  <a:lnTo>
                    <a:pt x="1860" y="662"/>
                  </a:lnTo>
                  <a:lnTo>
                    <a:pt x="1849" y="659"/>
                  </a:lnTo>
                  <a:lnTo>
                    <a:pt x="1835" y="659"/>
                  </a:lnTo>
                  <a:lnTo>
                    <a:pt x="1824" y="663"/>
                  </a:lnTo>
                  <a:lnTo>
                    <a:pt x="1811" y="664"/>
                  </a:lnTo>
                  <a:lnTo>
                    <a:pt x="1799" y="660"/>
                  </a:lnTo>
                  <a:lnTo>
                    <a:pt x="1788" y="665"/>
                  </a:lnTo>
                  <a:lnTo>
                    <a:pt x="1775" y="662"/>
                  </a:lnTo>
                  <a:lnTo>
                    <a:pt x="1762" y="664"/>
                  </a:lnTo>
                  <a:lnTo>
                    <a:pt x="1750" y="667"/>
                  </a:lnTo>
                  <a:lnTo>
                    <a:pt x="1737" y="668"/>
                  </a:lnTo>
                  <a:lnTo>
                    <a:pt x="1729" y="675"/>
                  </a:lnTo>
                  <a:lnTo>
                    <a:pt x="1716" y="675"/>
                  </a:lnTo>
                  <a:lnTo>
                    <a:pt x="1704" y="677"/>
                  </a:lnTo>
                  <a:lnTo>
                    <a:pt x="1702" y="685"/>
                  </a:lnTo>
                  <a:lnTo>
                    <a:pt x="1708" y="693"/>
                  </a:lnTo>
                  <a:lnTo>
                    <a:pt x="1713" y="698"/>
                  </a:lnTo>
                  <a:lnTo>
                    <a:pt x="1720" y="706"/>
                  </a:lnTo>
                  <a:lnTo>
                    <a:pt x="1732" y="710"/>
                  </a:lnTo>
                  <a:lnTo>
                    <a:pt x="1743" y="714"/>
                  </a:lnTo>
                  <a:lnTo>
                    <a:pt x="1754" y="716"/>
                  </a:lnTo>
                  <a:lnTo>
                    <a:pt x="1765" y="720"/>
                  </a:lnTo>
                  <a:lnTo>
                    <a:pt x="1778" y="719"/>
                  </a:lnTo>
                  <a:lnTo>
                    <a:pt x="1789" y="725"/>
                  </a:lnTo>
                  <a:lnTo>
                    <a:pt x="1799" y="733"/>
                  </a:lnTo>
                  <a:lnTo>
                    <a:pt x="1806" y="741"/>
                  </a:lnTo>
                  <a:lnTo>
                    <a:pt x="1796" y="745"/>
                  </a:lnTo>
                  <a:lnTo>
                    <a:pt x="1792" y="754"/>
                  </a:lnTo>
                  <a:lnTo>
                    <a:pt x="1789" y="763"/>
                  </a:lnTo>
                  <a:lnTo>
                    <a:pt x="1783" y="771"/>
                  </a:lnTo>
                  <a:lnTo>
                    <a:pt x="1771" y="773"/>
                  </a:lnTo>
                  <a:lnTo>
                    <a:pt x="1758" y="774"/>
                  </a:lnTo>
                  <a:lnTo>
                    <a:pt x="1746" y="772"/>
                  </a:lnTo>
                  <a:lnTo>
                    <a:pt x="1737" y="765"/>
                  </a:lnTo>
                  <a:lnTo>
                    <a:pt x="1729" y="758"/>
                  </a:lnTo>
                  <a:lnTo>
                    <a:pt x="1716" y="755"/>
                  </a:lnTo>
                  <a:lnTo>
                    <a:pt x="1704" y="753"/>
                  </a:lnTo>
                  <a:lnTo>
                    <a:pt x="1694" y="747"/>
                  </a:lnTo>
                  <a:lnTo>
                    <a:pt x="1687" y="738"/>
                  </a:lnTo>
                  <a:lnTo>
                    <a:pt x="1680" y="730"/>
                  </a:lnTo>
                  <a:lnTo>
                    <a:pt x="1670" y="723"/>
                  </a:lnTo>
                  <a:lnTo>
                    <a:pt x="1660" y="717"/>
                  </a:lnTo>
                  <a:lnTo>
                    <a:pt x="1649" y="713"/>
                  </a:lnTo>
                  <a:lnTo>
                    <a:pt x="1637" y="716"/>
                  </a:lnTo>
                  <a:lnTo>
                    <a:pt x="1632" y="724"/>
                  </a:lnTo>
                  <a:lnTo>
                    <a:pt x="1631" y="734"/>
                  </a:lnTo>
                  <a:lnTo>
                    <a:pt x="1623" y="742"/>
                  </a:lnTo>
                  <a:lnTo>
                    <a:pt x="1624" y="747"/>
                  </a:lnTo>
                  <a:lnTo>
                    <a:pt x="1634" y="750"/>
                  </a:lnTo>
                  <a:lnTo>
                    <a:pt x="1631" y="760"/>
                  </a:lnTo>
                  <a:lnTo>
                    <a:pt x="1624" y="768"/>
                  </a:lnTo>
                  <a:lnTo>
                    <a:pt x="1625" y="777"/>
                  </a:lnTo>
                  <a:lnTo>
                    <a:pt x="1625" y="787"/>
                  </a:lnTo>
                  <a:lnTo>
                    <a:pt x="1621" y="796"/>
                  </a:lnTo>
                  <a:lnTo>
                    <a:pt x="1614" y="803"/>
                  </a:lnTo>
                  <a:lnTo>
                    <a:pt x="1604" y="809"/>
                  </a:lnTo>
                  <a:lnTo>
                    <a:pt x="1595" y="815"/>
                  </a:lnTo>
                  <a:lnTo>
                    <a:pt x="1585" y="822"/>
                  </a:lnTo>
                  <a:lnTo>
                    <a:pt x="1575" y="828"/>
                  </a:lnTo>
                  <a:lnTo>
                    <a:pt x="1567" y="835"/>
                  </a:lnTo>
                  <a:lnTo>
                    <a:pt x="1558" y="843"/>
                  </a:lnTo>
                  <a:lnTo>
                    <a:pt x="1553" y="851"/>
                  </a:lnTo>
                  <a:lnTo>
                    <a:pt x="1548" y="860"/>
                  </a:lnTo>
                  <a:lnTo>
                    <a:pt x="1547" y="869"/>
                  </a:lnTo>
                  <a:lnTo>
                    <a:pt x="1540" y="876"/>
                  </a:lnTo>
                  <a:lnTo>
                    <a:pt x="1535" y="885"/>
                  </a:lnTo>
                  <a:lnTo>
                    <a:pt x="1541" y="892"/>
                  </a:lnTo>
                  <a:lnTo>
                    <a:pt x="1540" y="897"/>
                  </a:lnTo>
                  <a:lnTo>
                    <a:pt x="1526" y="899"/>
                  </a:lnTo>
                  <a:lnTo>
                    <a:pt x="1515" y="898"/>
                  </a:lnTo>
                  <a:lnTo>
                    <a:pt x="1502" y="896"/>
                  </a:lnTo>
                  <a:lnTo>
                    <a:pt x="1491" y="892"/>
                  </a:lnTo>
                  <a:lnTo>
                    <a:pt x="1479" y="893"/>
                  </a:lnTo>
                  <a:lnTo>
                    <a:pt x="1474" y="902"/>
                  </a:lnTo>
                  <a:lnTo>
                    <a:pt x="1470" y="911"/>
                  </a:lnTo>
                  <a:lnTo>
                    <a:pt x="1459" y="911"/>
                  </a:lnTo>
                  <a:lnTo>
                    <a:pt x="1445" y="911"/>
                  </a:lnTo>
                  <a:lnTo>
                    <a:pt x="1437" y="916"/>
                  </a:lnTo>
                  <a:lnTo>
                    <a:pt x="1441" y="926"/>
                  </a:lnTo>
                  <a:lnTo>
                    <a:pt x="1435" y="934"/>
                  </a:lnTo>
                  <a:lnTo>
                    <a:pt x="1428" y="931"/>
                  </a:lnTo>
                  <a:lnTo>
                    <a:pt x="1421" y="922"/>
                  </a:lnTo>
                  <a:lnTo>
                    <a:pt x="1411" y="915"/>
                  </a:lnTo>
                  <a:lnTo>
                    <a:pt x="1416" y="911"/>
                  </a:lnTo>
                  <a:lnTo>
                    <a:pt x="1407" y="907"/>
                  </a:lnTo>
                  <a:lnTo>
                    <a:pt x="1395" y="911"/>
                  </a:lnTo>
                  <a:lnTo>
                    <a:pt x="1382" y="915"/>
                  </a:lnTo>
                  <a:lnTo>
                    <a:pt x="1372" y="920"/>
                  </a:lnTo>
                  <a:lnTo>
                    <a:pt x="1375" y="928"/>
                  </a:lnTo>
                  <a:lnTo>
                    <a:pt x="1379" y="937"/>
                  </a:lnTo>
                  <a:lnTo>
                    <a:pt x="1384" y="946"/>
                  </a:lnTo>
                  <a:lnTo>
                    <a:pt x="1388" y="955"/>
                  </a:lnTo>
                  <a:lnTo>
                    <a:pt x="1392" y="964"/>
                  </a:lnTo>
                  <a:lnTo>
                    <a:pt x="1396" y="973"/>
                  </a:lnTo>
                  <a:lnTo>
                    <a:pt x="1395" y="979"/>
                  </a:lnTo>
                  <a:lnTo>
                    <a:pt x="1391" y="987"/>
                  </a:lnTo>
                  <a:lnTo>
                    <a:pt x="1382" y="996"/>
                  </a:lnTo>
                  <a:lnTo>
                    <a:pt x="1391" y="999"/>
                  </a:lnTo>
                  <a:lnTo>
                    <a:pt x="1391" y="1006"/>
                  </a:lnTo>
                  <a:lnTo>
                    <a:pt x="1384" y="1015"/>
                  </a:lnTo>
                  <a:lnTo>
                    <a:pt x="1375" y="1024"/>
                  </a:lnTo>
                  <a:lnTo>
                    <a:pt x="1367" y="1030"/>
                  </a:lnTo>
                  <a:lnTo>
                    <a:pt x="1361" y="1023"/>
                  </a:lnTo>
                  <a:lnTo>
                    <a:pt x="1351" y="1016"/>
                  </a:lnTo>
                  <a:lnTo>
                    <a:pt x="1339" y="1011"/>
                  </a:lnTo>
                  <a:lnTo>
                    <a:pt x="1329" y="1013"/>
                  </a:lnTo>
                  <a:lnTo>
                    <a:pt x="1322" y="1022"/>
                  </a:lnTo>
                  <a:lnTo>
                    <a:pt x="1312" y="1029"/>
                  </a:lnTo>
                  <a:lnTo>
                    <a:pt x="1305" y="1036"/>
                  </a:lnTo>
                  <a:lnTo>
                    <a:pt x="1293" y="1041"/>
                  </a:lnTo>
                  <a:lnTo>
                    <a:pt x="1283" y="1047"/>
                  </a:lnTo>
                  <a:lnTo>
                    <a:pt x="1273" y="1053"/>
                  </a:lnTo>
                  <a:lnTo>
                    <a:pt x="1263" y="1059"/>
                  </a:lnTo>
                  <a:lnTo>
                    <a:pt x="1255" y="1067"/>
                  </a:lnTo>
                  <a:lnTo>
                    <a:pt x="1241" y="1063"/>
                  </a:lnTo>
                  <a:lnTo>
                    <a:pt x="1230" y="1058"/>
                  </a:lnTo>
                  <a:lnTo>
                    <a:pt x="1219" y="1053"/>
                  </a:lnTo>
                  <a:lnTo>
                    <a:pt x="1207" y="1048"/>
                  </a:lnTo>
                  <a:lnTo>
                    <a:pt x="1196" y="1045"/>
                  </a:lnTo>
                  <a:lnTo>
                    <a:pt x="1188" y="1051"/>
                  </a:lnTo>
                  <a:lnTo>
                    <a:pt x="1181" y="1059"/>
                  </a:lnTo>
                  <a:lnTo>
                    <a:pt x="1175" y="1067"/>
                  </a:lnTo>
                  <a:lnTo>
                    <a:pt x="1171" y="1076"/>
                  </a:lnTo>
                  <a:lnTo>
                    <a:pt x="1163" y="1080"/>
                  </a:lnTo>
                  <a:lnTo>
                    <a:pt x="1153" y="1085"/>
                  </a:lnTo>
                  <a:lnTo>
                    <a:pt x="1150" y="1094"/>
                  </a:lnTo>
                  <a:lnTo>
                    <a:pt x="1137" y="1097"/>
                  </a:lnTo>
                  <a:lnTo>
                    <a:pt x="1125" y="1098"/>
                  </a:lnTo>
                  <a:lnTo>
                    <a:pt x="1112" y="1102"/>
                  </a:lnTo>
                  <a:lnTo>
                    <a:pt x="1103" y="1107"/>
                  </a:lnTo>
                  <a:lnTo>
                    <a:pt x="1097" y="1116"/>
                  </a:lnTo>
                  <a:lnTo>
                    <a:pt x="1096" y="1126"/>
                  </a:lnTo>
                  <a:lnTo>
                    <a:pt x="1104" y="1130"/>
                  </a:lnTo>
                  <a:lnTo>
                    <a:pt x="1118" y="1130"/>
                  </a:lnTo>
                  <a:lnTo>
                    <a:pt x="1131" y="1134"/>
                  </a:lnTo>
                  <a:lnTo>
                    <a:pt x="1136" y="1142"/>
                  </a:lnTo>
                  <a:lnTo>
                    <a:pt x="1137" y="1150"/>
                  </a:lnTo>
                  <a:lnTo>
                    <a:pt x="1128" y="1154"/>
                  </a:lnTo>
                  <a:lnTo>
                    <a:pt x="1115" y="1151"/>
                  </a:lnTo>
                  <a:lnTo>
                    <a:pt x="1104" y="1156"/>
                  </a:lnTo>
                  <a:lnTo>
                    <a:pt x="1093" y="1162"/>
                  </a:lnTo>
                  <a:lnTo>
                    <a:pt x="1080" y="1167"/>
                  </a:lnTo>
                  <a:lnTo>
                    <a:pt x="1070" y="1166"/>
                  </a:lnTo>
                  <a:lnTo>
                    <a:pt x="1065" y="1157"/>
                  </a:lnTo>
                  <a:lnTo>
                    <a:pt x="1059" y="1148"/>
                  </a:lnTo>
                  <a:lnTo>
                    <a:pt x="1054" y="1140"/>
                  </a:lnTo>
                  <a:lnTo>
                    <a:pt x="1051" y="1131"/>
                  </a:lnTo>
                  <a:lnTo>
                    <a:pt x="1049" y="1121"/>
                  </a:lnTo>
                  <a:lnTo>
                    <a:pt x="1047" y="1112"/>
                  </a:lnTo>
                  <a:lnTo>
                    <a:pt x="1034" y="1111"/>
                  </a:lnTo>
                  <a:lnTo>
                    <a:pt x="1021" y="1109"/>
                  </a:lnTo>
                  <a:lnTo>
                    <a:pt x="1014" y="1101"/>
                  </a:lnTo>
                  <a:lnTo>
                    <a:pt x="1010" y="1092"/>
                  </a:lnTo>
                  <a:lnTo>
                    <a:pt x="1006" y="1083"/>
                  </a:lnTo>
                  <a:lnTo>
                    <a:pt x="998" y="1076"/>
                  </a:lnTo>
                  <a:lnTo>
                    <a:pt x="989" y="1069"/>
                  </a:lnTo>
                  <a:lnTo>
                    <a:pt x="987" y="1060"/>
                  </a:lnTo>
                  <a:lnTo>
                    <a:pt x="985" y="1050"/>
                  </a:lnTo>
                  <a:lnTo>
                    <a:pt x="987" y="1041"/>
                  </a:lnTo>
                  <a:lnTo>
                    <a:pt x="994" y="1033"/>
                  </a:lnTo>
                  <a:lnTo>
                    <a:pt x="1003" y="1028"/>
                  </a:lnTo>
                  <a:lnTo>
                    <a:pt x="1012" y="1020"/>
                  </a:lnTo>
                  <a:lnTo>
                    <a:pt x="1013" y="1011"/>
                  </a:lnTo>
                  <a:lnTo>
                    <a:pt x="1009" y="1002"/>
                  </a:lnTo>
                  <a:lnTo>
                    <a:pt x="996" y="999"/>
                  </a:lnTo>
                  <a:lnTo>
                    <a:pt x="984" y="1000"/>
                  </a:lnTo>
                  <a:lnTo>
                    <a:pt x="973" y="996"/>
                  </a:lnTo>
                  <a:lnTo>
                    <a:pt x="961" y="993"/>
                  </a:lnTo>
                  <a:lnTo>
                    <a:pt x="949" y="997"/>
                  </a:lnTo>
                  <a:lnTo>
                    <a:pt x="947" y="988"/>
                  </a:lnTo>
                  <a:lnTo>
                    <a:pt x="952" y="980"/>
                  </a:lnTo>
                  <a:lnTo>
                    <a:pt x="961" y="973"/>
                  </a:lnTo>
                  <a:lnTo>
                    <a:pt x="964" y="964"/>
                  </a:lnTo>
                  <a:lnTo>
                    <a:pt x="967" y="955"/>
                  </a:lnTo>
                  <a:lnTo>
                    <a:pt x="970" y="945"/>
                  </a:lnTo>
                  <a:lnTo>
                    <a:pt x="977" y="939"/>
                  </a:lnTo>
                  <a:lnTo>
                    <a:pt x="991" y="935"/>
                  </a:lnTo>
                  <a:lnTo>
                    <a:pt x="1003" y="932"/>
                  </a:lnTo>
                  <a:lnTo>
                    <a:pt x="1007" y="928"/>
                  </a:lnTo>
                  <a:lnTo>
                    <a:pt x="995" y="921"/>
                  </a:lnTo>
                  <a:lnTo>
                    <a:pt x="987" y="914"/>
                  </a:lnTo>
                  <a:lnTo>
                    <a:pt x="975" y="910"/>
                  </a:lnTo>
                  <a:lnTo>
                    <a:pt x="970" y="901"/>
                  </a:lnTo>
                  <a:lnTo>
                    <a:pt x="957" y="901"/>
                  </a:lnTo>
                  <a:lnTo>
                    <a:pt x="945" y="903"/>
                  </a:lnTo>
                  <a:lnTo>
                    <a:pt x="933" y="898"/>
                  </a:lnTo>
                  <a:lnTo>
                    <a:pt x="922" y="898"/>
                  </a:lnTo>
                  <a:lnTo>
                    <a:pt x="911" y="892"/>
                  </a:lnTo>
                  <a:lnTo>
                    <a:pt x="900" y="889"/>
                  </a:lnTo>
                  <a:lnTo>
                    <a:pt x="886" y="890"/>
                  </a:lnTo>
                  <a:lnTo>
                    <a:pt x="876" y="896"/>
                  </a:lnTo>
                  <a:lnTo>
                    <a:pt x="863" y="898"/>
                  </a:lnTo>
                  <a:lnTo>
                    <a:pt x="851" y="898"/>
                  </a:lnTo>
                  <a:lnTo>
                    <a:pt x="838" y="897"/>
                  </a:lnTo>
                  <a:lnTo>
                    <a:pt x="826" y="894"/>
                  </a:lnTo>
                  <a:lnTo>
                    <a:pt x="816" y="888"/>
                  </a:lnTo>
                  <a:lnTo>
                    <a:pt x="803" y="884"/>
                  </a:lnTo>
                  <a:lnTo>
                    <a:pt x="787" y="874"/>
                  </a:lnTo>
                  <a:lnTo>
                    <a:pt x="777" y="869"/>
                  </a:lnTo>
                  <a:lnTo>
                    <a:pt x="764" y="870"/>
                  </a:lnTo>
                  <a:lnTo>
                    <a:pt x="752" y="871"/>
                  </a:lnTo>
                  <a:lnTo>
                    <a:pt x="738" y="873"/>
                  </a:lnTo>
                  <a:lnTo>
                    <a:pt x="725" y="874"/>
                  </a:lnTo>
                  <a:lnTo>
                    <a:pt x="713" y="877"/>
                  </a:lnTo>
                  <a:lnTo>
                    <a:pt x="700" y="880"/>
                  </a:lnTo>
                  <a:lnTo>
                    <a:pt x="689" y="883"/>
                  </a:lnTo>
                  <a:lnTo>
                    <a:pt x="675" y="883"/>
                  </a:lnTo>
                  <a:lnTo>
                    <a:pt x="662" y="883"/>
                  </a:lnTo>
                  <a:lnTo>
                    <a:pt x="650" y="879"/>
                  </a:lnTo>
                  <a:lnTo>
                    <a:pt x="638" y="881"/>
                  </a:lnTo>
                  <a:lnTo>
                    <a:pt x="626" y="884"/>
                  </a:lnTo>
                  <a:lnTo>
                    <a:pt x="612" y="883"/>
                  </a:lnTo>
                  <a:lnTo>
                    <a:pt x="599" y="882"/>
                  </a:lnTo>
                  <a:lnTo>
                    <a:pt x="588" y="882"/>
                  </a:lnTo>
                  <a:lnTo>
                    <a:pt x="580" y="877"/>
                  </a:lnTo>
                  <a:lnTo>
                    <a:pt x="571" y="870"/>
                  </a:lnTo>
                  <a:lnTo>
                    <a:pt x="564" y="862"/>
                  </a:lnTo>
                  <a:lnTo>
                    <a:pt x="553" y="858"/>
                  </a:lnTo>
                  <a:lnTo>
                    <a:pt x="543" y="852"/>
                  </a:lnTo>
                  <a:lnTo>
                    <a:pt x="532" y="847"/>
                  </a:lnTo>
                  <a:lnTo>
                    <a:pt x="520" y="844"/>
                  </a:lnTo>
                  <a:lnTo>
                    <a:pt x="508" y="840"/>
                  </a:lnTo>
                  <a:lnTo>
                    <a:pt x="496" y="836"/>
                  </a:lnTo>
                  <a:lnTo>
                    <a:pt x="483" y="833"/>
                  </a:lnTo>
                  <a:lnTo>
                    <a:pt x="479" y="837"/>
                  </a:lnTo>
                  <a:lnTo>
                    <a:pt x="466" y="836"/>
                  </a:lnTo>
                  <a:lnTo>
                    <a:pt x="462" y="844"/>
                  </a:lnTo>
                  <a:lnTo>
                    <a:pt x="450" y="843"/>
                  </a:lnTo>
                  <a:lnTo>
                    <a:pt x="437" y="839"/>
                  </a:lnTo>
                  <a:lnTo>
                    <a:pt x="425" y="838"/>
                  </a:lnTo>
                  <a:lnTo>
                    <a:pt x="412" y="837"/>
                  </a:lnTo>
                  <a:lnTo>
                    <a:pt x="399" y="834"/>
                  </a:lnTo>
                  <a:lnTo>
                    <a:pt x="385" y="834"/>
                  </a:lnTo>
                  <a:lnTo>
                    <a:pt x="373" y="835"/>
                  </a:lnTo>
                  <a:lnTo>
                    <a:pt x="360" y="834"/>
                  </a:lnTo>
                  <a:lnTo>
                    <a:pt x="348" y="833"/>
                  </a:lnTo>
                  <a:lnTo>
                    <a:pt x="336" y="837"/>
                  </a:lnTo>
                  <a:lnTo>
                    <a:pt x="332" y="846"/>
                  </a:lnTo>
                  <a:lnTo>
                    <a:pt x="323" y="850"/>
                  </a:lnTo>
                  <a:lnTo>
                    <a:pt x="310" y="849"/>
                  </a:lnTo>
                  <a:lnTo>
                    <a:pt x="307" y="851"/>
                  </a:lnTo>
                  <a:lnTo>
                    <a:pt x="306" y="853"/>
                  </a:lnTo>
                  <a:lnTo>
                    <a:pt x="295" y="848"/>
                  </a:lnTo>
                  <a:lnTo>
                    <a:pt x="283" y="843"/>
                  </a:lnTo>
                  <a:lnTo>
                    <a:pt x="282" y="834"/>
                  </a:lnTo>
                  <a:lnTo>
                    <a:pt x="281" y="826"/>
                  </a:lnTo>
                  <a:lnTo>
                    <a:pt x="272" y="819"/>
                  </a:lnTo>
                  <a:lnTo>
                    <a:pt x="262" y="813"/>
                  </a:lnTo>
                  <a:lnTo>
                    <a:pt x="251" y="816"/>
                  </a:lnTo>
                  <a:lnTo>
                    <a:pt x="237" y="814"/>
                  </a:lnTo>
                  <a:lnTo>
                    <a:pt x="227" y="808"/>
                  </a:lnTo>
                  <a:lnTo>
                    <a:pt x="223" y="799"/>
                  </a:lnTo>
                  <a:lnTo>
                    <a:pt x="223" y="790"/>
                  </a:lnTo>
                  <a:lnTo>
                    <a:pt x="222" y="781"/>
                  </a:lnTo>
                  <a:lnTo>
                    <a:pt x="226" y="773"/>
                  </a:lnTo>
                  <a:lnTo>
                    <a:pt x="215" y="768"/>
                  </a:lnTo>
                  <a:lnTo>
                    <a:pt x="205" y="762"/>
                  </a:lnTo>
                  <a:lnTo>
                    <a:pt x="195" y="756"/>
                  </a:lnTo>
                  <a:lnTo>
                    <a:pt x="186" y="751"/>
                  </a:lnTo>
                  <a:lnTo>
                    <a:pt x="173" y="748"/>
                  </a:lnTo>
                  <a:lnTo>
                    <a:pt x="160" y="746"/>
                  </a:lnTo>
                  <a:lnTo>
                    <a:pt x="151" y="741"/>
                  </a:lnTo>
                  <a:lnTo>
                    <a:pt x="142" y="733"/>
                  </a:lnTo>
                  <a:lnTo>
                    <a:pt x="135" y="725"/>
                  </a:lnTo>
                  <a:lnTo>
                    <a:pt x="131" y="716"/>
                  </a:lnTo>
                  <a:lnTo>
                    <a:pt x="123" y="708"/>
                  </a:lnTo>
                  <a:lnTo>
                    <a:pt x="113" y="704"/>
                  </a:lnTo>
                  <a:lnTo>
                    <a:pt x="103" y="697"/>
                  </a:lnTo>
                  <a:lnTo>
                    <a:pt x="93" y="691"/>
                  </a:lnTo>
                  <a:lnTo>
                    <a:pt x="83" y="685"/>
                  </a:lnTo>
                  <a:lnTo>
                    <a:pt x="74" y="679"/>
                  </a:lnTo>
                  <a:lnTo>
                    <a:pt x="65" y="672"/>
                  </a:lnTo>
                  <a:lnTo>
                    <a:pt x="61" y="663"/>
                  </a:lnTo>
                  <a:lnTo>
                    <a:pt x="57" y="654"/>
                  </a:lnTo>
                  <a:lnTo>
                    <a:pt x="46" y="650"/>
                  </a:lnTo>
                  <a:lnTo>
                    <a:pt x="37" y="644"/>
                  </a:lnTo>
                  <a:lnTo>
                    <a:pt x="30" y="636"/>
                  </a:lnTo>
                  <a:lnTo>
                    <a:pt x="36" y="629"/>
                  </a:lnTo>
                  <a:lnTo>
                    <a:pt x="33" y="623"/>
                  </a:lnTo>
                  <a:lnTo>
                    <a:pt x="23" y="616"/>
                  </a:lnTo>
                  <a:lnTo>
                    <a:pt x="33" y="610"/>
                  </a:lnTo>
                  <a:lnTo>
                    <a:pt x="42" y="605"/>
                  </a:lnTo>
                  <a:lnTo>
                    <a:pt x="51" y="598"/>
                  </a:lnTo>
                  <a:lnTo>
                    <a:pt x="62" y="593"/>
                  </a:lnTo>
                  <a:lnTo>
                    <a:pt x="74" y="589"/>
                  </a:lnTo>
                  <a:lnTo>
                    <a:pt x="85" y="584"/>
                  </a:lnTo>
                  <a:lnTo>
                    <a:pt x="96" y="579"/>
                  </a:lnTo>
                  <a:lnTo>
                    <a:pt x="107" y="573"/>
                  </a:lnTo>
                  <a:lnTo>
                    <a:pt x="117" y="568"/>
                  </a:lnTo>
                  <a:lnTo>
                    <a:pt x="125" y="562"/>
                  </a:lnTo>
                  <a:lnTo>
                    <a:pt x="118" y="554"/>
                  </a:lnTo>
                  <a:lnTo>
                    <a:pt x="113" y="546"/>
                  </a:lnTo>
                  <a:lnTo>
                    <a:pt x="125" y="545"/>
                  </a:lnTo>
                  <a:lnTo>
                    <a:pt x="138" y="544"/>
                  </a:lnTo>
                  <a:lnTo>
                    <a:pt x="149" y="540"/>
                  </a:lnTo>
                  <a:lnTo>
                    <a:pt x="152" y="531"/>
                  </a:lnTo>
                  <a:lnTo>
                    <a:pt x="151" y="522"/>
                  </a:lnTo>
                  <a:lnTo>
                    <a:pt x="145" y="514"/>
                  </a:lnTo>
                  <a:lnTo>
                    <a:pt x="152" y="506"/>
                  </a:lnTo>
                  <a:lnTo>
                    <a:pt x="152" y="498"/>
                  </a:lnTo>
                  <a:lnTo>
                    <a:pt x="144" y="494"/>
                  </a:lnTo>
                  <a:lnTo>
                    <a:pt x="146" y="485"/>
                  </a:lnTo>
                  <a:lnTo>
                    <a:pt x="138" y="479"/>
                  </a:lnTo>
                  <a:lnTo>
                    <a:pt x="132" y="470"/>
                  </a:lnTo>
                  <a:lnTo>
                    <a:pt x="124" y="463"/>
                  </a:lnTo>
                  <a:lnTo>
                    <a:pt x="113" y="460"/>
                  </a:lnTo>
                  <a:lnTo>
                    <a:pt x="100" y="463"/>
                  </a:lnTo>
                  <a:lnTo>
                    <a:pt x="89" y="469"/>
                  </a:lnTo>
                  <a:lnTo>
                    <a:pt x="81" y="465"/>
                  </a:lnTo>
                  <a:lnTo>
                    <a:pt x="68" y="462"/>
                  </a:lnTo>
                  <a:lnTo>
                    <a:pt x="57" y="465"/>
                  </a:lnTo>
                  <a:lnTo>
                    <a:pt x="47" y="458"/>
                  </a:lnTo>
                  <a:lnTo>
                    <a:pt x="43" y="450"/>
                  </a:lnTo>
                  <a:lnTo>
                    <a:pt x="37" y="441"/>
                  </a:lnTo>
                  <a:lnTo>
                    <a:pt x="26" y="436"/>
                  </a:lnTo>
                  <a:lnTo>
                    <a:pt x="21" y="428"/>
                  </a:lnTo>
                  <a:lnTo>
                    <a:pt x="12" y="420"/>
                  </a:lnTo>
                  <a:lnTo>
                    <a:pt x="7" y="412"/>
                  </a:lnTo>
                  <a:lnTo>
                    <a:pt x="0" y="403"/>
                  </a:lnTo>
                  <a:lnTo>
                    <a:pt x="8" y="400"/>
                  </a:lnTo>
                  <a:lnTo>
                    <a:pt x="21" y="398"/>
                  </a:lnTo>
                  <a:lnTo>
                    <a:pt x="33" y="399"/>
                  </a:lnTo>
                  <a:lnTo>
                    <a:pt x="46" y="400"/>
                  </a:lnTo>
                  <a:lnTo>
                    <a:pt x="58" y="399"/>
                  </a:lnTo>
                  <a:lnTo>
                    <a:pt x="71" y="402"/>
                  </a:lnTo>
                  <a:lnTo>
                    <a:pt x="81" y="404"/>
                  </a:lnTo>
                  <a:lnTo>
                    <a:pt x="92" y="406"/>
                  </a:lnTo>
                  <a:lnTo>
                    <a:pt x="104" y="407"/>
                  </a:lnTo>
                  <a:lnTo>
                    <a:pt x="113" y="402"/>
                  </a:lnTo>
                  <a:lnTo>
                    <a:pt x="117" y="398"/>
                  </a:lnTo>
                  <a:lnTo>
                    <a:pt x="120" y="392"/>
                  </a:lnTo>
                  <a:lnTo>
                    <a:pt x="124" y="384"/>
                  </a:lnTo>
                  <a:lnTo>
                    <a:pt x="134" y="378"/>
                  </a:lnTo>
                  <a:lnTo>
                    <a:pt x="148" y="377"/>
                  </a:lnTo>
                  <a:lnTo>
                    <a:pt x="152" y="371"/>
                  </a:lnTo>
                  <a:lnTo>
                    <a:pt x="158" y="370"/>
                  </a:lnTo>
                  <a:lnTo>
                    <a:pt x="152" y="365"/>
                  </a:lnTo>
                  <a:lnTo>
                    <a:pt x="162" y="363"/>
                  </a:lnTo>
                  <a:lnTo>
                    <a:pt x="174" y="358"/>
                  </a:lnTo>
                  <a:lnTo>
                    <a:pt x="172" y="363"/>
                  </a:lnTo>
                  <a:lnTo>
                    <a:pt x="179" y="371"/>
                  </a:lnTo>
                  <a:lnTo>
                    <a:pt x="186" y="371"/>
                  </a:lnTo>
                  <a:lnTo>
                    <a:pt x="194" y="378"/>
                  </a:lnTo>
                  <a:lnTo>
                    <a:pt x="204" y="382"/>
                  </a:lnTo>
                  <a:lnTo>
                    <a:pt x="213" y="385"/>
                  </a:lnTo>
                  <a:lnTo>
                    <a:pt x="226" y="382"/>
                  </a:lnTo>
                  <a:lnTo>
                    <a:pt x="234" y="389"/>
                  </a:lnTo>
                  <a:lnTo>
                    <a:pt x="244" y="395"/>
                  </a:lnTo>
                  <a:lnTo>
                    <a:pt x="254" y="402"/>
                  </a:lnTo>
                  <a:lnTo>
                    <a:pt x="260" y="394"/>
                  </a:lnTo>
                  <a:lnTo>
                    <a:pt x="267" y="387"/>
                  </a:lnTo>
                  <a:lnTo>
                    <a:pt x="279" y="385"/>
                  </a:lnTo>
                  <a:lnTo>
                    <a:pt x="289" y="379"/>
                  </a:lnTo>
                  <a:lnTo>
                    <a:pt x="293" y="371"/>
                  </a:lnTo>
                  <a:lnTo>
                    <a:pt x="304" y="371"/>
                  </a:lnTo>
                  <a:lnTo>
                    <a:pt x="314" y="371"/>
                  </a:lnTo>
                  <a:lnTo>
                    <a:pt x="317" y="376"/>
                  </a:lnTo>
                  <a:lnTo>
                    <a:pt x="327" y="378"/>
                  </a:lnTo>
                  <a:lnTo>
                    <a:pt x="334" y="383"/>
                  </a:lnTo>
                  <a:lnTo>
                    <a:pt x="346" y="383"/>
                  </a:lnTo>
                  <a:lnTo>
                    <a:pt x="359" y="384"/>
                  </a:lnTo>
                  <a:lnTo>
                    <a:pt x="371" y="383"/>
                  </a:lnTo>
                  <a:lnTo>
                    <a:pt x="377" y="375"/>
                  </a:lnTo>
                  <a:lnTo>
                    <a:pt x="387" y="369"/>
                  </a:lnTo>
                  <a:lnTo>
                    <a:pt x="399" y="370"/>
                  </a:lnTo>
                  <a:lnTo>
                    <a:pt x="411" y="368"/>
                  </a:lnTo>
                  <a:lnTo>
                    <a:pt x="419" y="374"/>
                  </a:lnTo>
                  <a:lnTo>
                    <a:pt x="427" y="375"/>
                  </a:lnTo>
                  <a:lnTo>
                    <a:pt x="429" y="380"/>
                  </a:lnTo>
                  <a:lnTo>
                    <a:pt x="434" y="381"/>
                  </a:lnTo>
                  <a:lnTo>
                    <a:pt x="441" y="384"/>
                  </a:lnTo>
                  <a:lnTo>
                    <a:pt x="451" y="384"/>
                  </a:lnTo>
                  <a:lnTo>
                    <a:pt x="454" y="384"/>
                  </a:lnTo>
                  <a:lnTo>
                    <a:pt x="466" y="383"/>
                  </a:lnTo>
                  <a:lnTo>
                    <a:pt x="462" y="390"/>
                  </a:lnTo>
                  <a:lnTo>
                    <a:pt x="475" y="391"/>
                  </a:lnTo>
                  <a:lnTo>
                    <a:pt x="482" y="388"/>
                  </a:lnTo>
                  <a:lnTo>
                    <a:pt x="489" y="393"/>
                  </a:lnTo>
                  <a:lnTo>
                    <a:pt x="500" y="392"/>
                  </a:lnTo>
                  <a:lnTo>
                    <a:pt x="507" y="396"/>
                  </a:lnTo>
                  <a:lnTo>
                    <a:pt x="511" y="394"/>
                  </a:lnTo>
                  <a:lnTo>
                    <a:pt x="520" y="394"/>
                  </a:lnTo>
                  <a:lnTo>
                    <a:pt x="527" y="387"/>
                  </a:lnTo>
                  <a:lnTo>
                    <a:pt x="539" y="387"/>
                  </a:lnTo>
                  <a:lnTo>
                    <a:pt x="548" y="389"/>
                  </a:lnTo>
                  <a:lnTo>
                    <a:pt x="556" y="389"/>
                  </a:lnTo>
                  <a:lnTo>
                    <a:pt x="569" y="389"/>
                  </a:lnTo>
                  <a:lnTo>
                    <a:pt x="580" y="394"/>
                  </a:lnTo>
                  <a:lnTo>
                    <a:pt x="577" y="403"/>
                  </a:lnTo>
                  <a:lnTo>
                    <a:pt x="590" y="406"/>
                  </a:lnTo>
                  <a:lnTo>
                    <a:pt x="602" y="410"/>
                  </a:lnTo>
                  <a:lnTo>
                    <a:pt x="609" y="405"/>
                  </a:lnTo>
                  <a:lnTo>
                    <a:pt x="617" y="402"/>
                  </a:lnTo>
                  <a:lnTo>
                    <a:pt x="617" y="393"/>
                  </a:lnTo>
                  <a:lnTo>
                    <a:pt x="616" y="383"/>
                  </a:lnTo>
                  <a:lnTo>
                    <a:pt x="624" y="379"/>
                  </a:lnTo>
                  <a:lnTo>
                    <a:pt x="631" y="373"/>
                  </a:lnTo>
                  <a:lnTo>
                    <a:pt x="645" y="371"/>
                  </a:lnTo>
                  <a:lnTo>
                    <a:pt x="644" y="362"/>
                  </a:lnTo>
                  <a:lnTo>
                    <a:pt x="655" y="359"/>
                  </a:lnTo>
                  <a:lnTo>
                    <a:pt x="657" y="365"/>
                  </a:lnTo>
                  <a:lnTo>
                    <a:pt x="665" y="369"/>
                  </a:lnTo>
                  <a:lnTo>
                    <a:pt x="678" y="371"/>
                  </a:lnTo>
                  <a:lnTo>
                    <a:pt x="686" y="364"/>
                  </a:lnTo>
                  <a:lnTo>
                    <a:pt x="690" y="355"/>
                  </a:lnTo>
                  <a:lnTo>
                    <a:pt x="703" y="353"/>
                  </a:lnTo>
                  <a:lnTo>
                    <a:pt x="713" y="347"/>
                  </a:lnTo>
                  <a:lnTo>
                    <a:pt x="715" y="338"/>
                  </a:lnTo>
                  <a:lnTo>
                    <a:pt x="728" y="335"/>
                  </a:lnTo>
                  <a:lnTo>
                    <a:pt x="740" y="338"/>
                  </a:lnTo>
                  <a:lnTo>
                    <a:pt x="753" y="337"/>
                  </a:lnTo>
                  <a:lnTo>
                    <a:pt x="766" y="333"/>
                  </a:lnTo>
                  <a:lnTo>
                    <a:pt x="778" y="331"/>
                  </a:lnTo>
                  <a:lnTo>
                    <a:pt x="791" y="335"/>
                  </a:lnTo>
                  <a:lnTo>
                    <a:pt x="802" y="333"/>
                  </a:lnTo>
                  <a:lnTo>
                    <a:pt x="816" y="335"/>
                  </a:lnTo>
                  <a:lnTo>
                    <a:pt x="826" y="333"/>
                  </a:lnTo>
                  <a:lnTo>
                    <a:pt x="837" y="333"/>
                  </a:lnTo>
                  <a:lnTo>
                    <a:pt x="847" y="338"/>
                  </a:lnTo>
                  <a:lnTo>
                    <a:pt x="858" y="335"/>
                  </a:lnTo>
                  <a:lnTo>
                    <a:pt x="870" y="331"/>
                  </a:lnTo>
                  <a:lnTo>
                    <a:pt x="880" y="331"/>
                  </a:lnTo>
                  <a:lnTo>
                    <a:pt x="887" y="330"/>
                  </a:lnTo>
                  <a:lnTo>
                    <a:pt x="891" y="334"/>
                  </a:lnTo>
                  <a:lnTo>
                    <a:pt x="897" y="339"/>
                  </a:lnTo>
                  <a:lnTo>
                    <a:pt x="908" y="342"/>
                  </a:lnTo>
                  <a:lnTo>
                    <a:pt x="917" y="342"/>
                  </a:lnTo>
                  <a:lnTo>
                    <a:pt x="926" y="337"/>
                  </a:lnTo>
                  <a:lnTo>
                    <a:pt x="938" y="335"/>
                  </a:lnTo>
                  <a:lnTo>
                    <a:pt x="947" y="335"/>
                  </a:lnTo>
                  <a:lnTo>
                    <a:pt x="957" y="333"/>
                  </a:lnTo>
                  <a:lnTo>
                    <a:pt x="964" y="330"/>
                  </a:lnTo>
                  <a:lnTo>
                    <a:pt x="974" y="324"/>
                  </a:lnTo>
                  <a:lnTo>
                    <a:pt x="981" y="317"/>
                  </a:lnTo>
                  <a:lnTo>
                    <a:pt x="987" y="312"/>
                  </a:lnTo>
                  <a:lnTo>
                    <a:pt x="998" y="309"/>
                  </a:lnTo>
                  <a:lnTo>
                    <a:pt x="1010" y="310"/>
                  </a:lnTo>
                  <a:lnTo>
                    <a:pt x="1020" y="312"/>
                  </a:lnTo>
                  <a:lnTo>
                    <a:pt x="1024" y="318"/>
                  </a:lnTo>
                  <a:lnTo>
                    <a:pt x="1013" y="320"/>
                  </a:lnTo>
                  <a:lnTo>
                    <a:pt x="1016" y="329"/>
                  </a:lnTo>
                  <a:lnTo>
                    <a:pt x="1023" y="336"/>
                  </a:lnTo>
                  <a:lnTo>
                    <a:pt x="1033" y="341"/>
                  </a:lnTo>
                  <a:lnTo>
                    <a:pt x="1045" y="344"/>
                  </a:lnTo>
                  <a:lnTo>
                    <a:pt x="1041" y="333"/>
                  </a:lnTo>
                  <a:lnTo>
                    <a:pt x="1044" y="327"/>
                  </a:lnTo>
                  <a:lnTo>
                    <a:pt x="1049" y="320"/>
                  </a:lnTo>
                  <a:lnTo>
                    <a:pt x="1061" y="321"/>
                  </a:lnTo>
                  <a:lnTo>
                    <a:pt x="1068" y="317"/>
                  </a:lnTo>
                  <a:lnTo>
                    <a:pt x="1079" y="312"/>
                  </a:lnTo>
                  <a:lnTo>
                    <a:pt x="1080" y="310"/>
                  </a:lnTo>
                  <a:lnTo>
                    <a:pt x="1076" y="301"/>
                  </a:lnTo>
                  <a:lnTo>
                    <a:pt x="1083" y="295"/>
                  </a:lnTo>
                  <a:lnTo>
                    <a:pt x="1090" y="293"/>
                  </a:lnTo>
                  <a:lnTo>
                    <a:pt x="1093" y="288"/>
                  </a:lnTo>
                  <a:lnTo>
                    <a:pt x="1091" y="284"/>
                  </a:lnTo>
                  <a:lnTo>
                    <a:pt x="1090" y="276"/>
                  </a:lnTo>
                  <a:lnTo>
                    <a:pt x="1097" y="268"/>
                  </a:lnTo>
                  <a:lnTo>
                    <a:pt x="1098" y="260"/>
                  </a:lnTo>
                  <a:lnTo>
                    <a:pt x="1096" y="252"/>
                  </a:lnTo>
                  <a:lnTo>
                    <a:pt x="1097" y="243"/>
                  </a:lnTo>
                  <a:lnTo>
                    <a:pt x="1096" y="233"/>
                  </a:lnTo>
                  <a:lnTo>
                    <a:pt x="1096" y="224"/>
                  </a:lnTo>
                  <a:lnTo>
                    <a:pt x="1103" y="222"/>
                  </a:lnTo>
                  <a:lnTo>
                    <a:pt x="1108" y="221"/>
                  </a:lnTo>
                  <a:lnTo>
                    <a:pt x="1110" y="216"/>
                  </a:lnTo>
                  <a:lnTo>
                    <a:pt x="1111" y="212"/>
                  </a:lnTo>
                  <a:lnTo>
                    <a:pt x="1121" y="215"/>
                  </a:lnTo>
                  <a:lnTo>
                    <a:pt x="1119" y="210"/>
                  </a:lnTo>
                  <a:lnTo>
                    <a:pt x="1124" y="201"/>
                  </a:lnTo>
                  <a:lnTo>
                    <a:pt x="1129" y="207"/>
                  </a:lnTo>
                  <a:lnTo>
                    <a:pt x="1131" y="198"/>
                  </a:lnTo>
                  <a:lnTo>
                    <a:pt x="1125" y="194"/>
                  </a:lnTo>
                  <a:lnTo>
                    <a:pt x="1136" y="196"/>
                  </a:lnTo>
                  <a:lnTo>
                    <a:pt x="1126" y="191"/>
                  </a:lnTo>
                  <a:lnTo>
                    <a:pt x="1129" y="187"/>
                  </a:lnTo>
                  <a:lnTo>
                    <a:pt x="1136" y="183"/>
                  </a:lnTo>
                  <a:lnTo>
                    <a:pt x="1128" y="177"/>
                  </a:lnTo>
                  <a:lnTo>
                    <a:pt x="1124" y="168"/>
                  </a:lnTo>
                  <a:lnTo>
                    <a:pt x="1117" y="160"/>
                  </a:lnTo>
                  <a:lnTo>
                    <a:pt x="1121" y="153"/>
                  </a:lnTo>
                  <a:lnTo>
                    <a:pt x="1132" y="138"/>
                  </a:lnTo>
                  <a:lnTo>
                    <a:pt x="1140" y="136"/>
                  </a:lnTo>
                  <a:lnTo>
                    <a:pt x="1150" y="133"/>
                  </a:lnTo>
                  <a:lnTo>
                    <a:pt x="1157" y="126"/>
                  </a:lnTo>
                  <a:lnTo>
                    <a:pt x="1161" y="117"/>
                  </a:lnTo>
                  <a:lnTo>
                    <a:pt x="1160" y="108"/>
                  </a:lnTo>
                  <a:lnTo>
                    <a:pt x="1154" y="100"/>
                  </a:lnTo>
                  <a:lnTo>
                    <a:pt x="1163" y="93"/>
                  </a:lnTo>
                  <a:lnTo>
                    <a:pt x="1172" y="88"/>
                  </a:lnTo>
                  <a:lnTo>
                    <a:pt x="1177" y="87"/>
                  </a:lnTo>
                  <a:lnTo>
                    <a:pt x="1182" y="82"/>
                  </a:lnTo>
                  <a:lnTo>
                    <a:pt x="1192" y="83"/>
                  </a:lnTo>
                  <a:lnTo>
                    <a:pt x="1199" y="89"/>
                  </a:lnTo>
                  <a:lnTo>
                    <a:pt x="1210" y="85"/>
                  </a:lnTo>
                  <a:lnTo>
                    <a:pt x="1216" y="78"/>
                  </a:lnTo>
                  <a:lnTo>
                    <a:pt x="1227" y="73"/>
                  </a:lnTo>
                  <a:lnTo>
                    <a:pt x="1240" y="70"/>
                  </a:lnTo>
                  <a:lnTo>
                    <a:pt x="1249" y="68"/>
                  </a:lnTo>
                  <a:lnTo>
                    <a:pt x="1259" y="64"/>
                  </a:lnTo>
                  <a:lnTo>
                    <a:pt x="1270" y="58"/>
                  </a:lnTo>
                  <a:lnTo>
                    <a:pt x="1279" y="52"/>
                  </a:lnTo>
                  <a:lnTo>
                    <a:pt x="1286" y="44"/>
                  </a:lnTo>
                  <a:lnTo>
                    <a:pt x="1297" y="39"/>
                  </a:lnTo>
                  <a:lnTo>
                    <a:pt x="1307" y="34"/>
                  </a:lnTo>
                  <a:lnTo>
                    <a:pt x="1312" y="25"/>
                  </a:lnTo>
                  <a:lnTo>
                    <a:pt x="1321" y="19"/>
                  </a:lnTo>
                  <a:lnTo>
                    <a:pt x="1333" y="15"/>
                  </a:lnTo>
                  <a:lnTo>
                    <a:pt x="1343" y="10"/>
                  </a:lnTo>
                  <a:lnTo>
                    <a:pt x="1350" y="3"/>
                  </a:lnTo>
                  <a:lnTo>
                    <a:pt x="1356" y="0"/>
                  </a:lnTo>
                  <a:lnTo>
                    <a:pt x="1365" y="2"/>
                  </a:lnTo>
                  <a:lnTo>
                    <a:pt x="1375" y="8"/>
                  </a:lnTo>
                  <a:lnTo>
                    <a:pt x="1385" y="15"/>
                  </a:lnTo>
                  <a:lnTo>
                    <a:pt x="1391" y="23"/>
                  </a:lnTo>
                  <a:lnTo>
                    <a:pt x="1403" y="24"/>
                  </a:lnTo>
                  <a:lnTo>
                    <a:pt x="1411" y="17"/>
                  </a:lnTo>
                  <a:lnTo>
                    <a:pt x="1424" y="16"/>
                  </a:lnTo>
                  <a:lnTo>
                    <a:pt x="1437" y="20"/>
                  </a:lnTo>
                  <a:lnTo>
                    <a:pt x="1438" y="29"/>
                  </a:lnTo>
                  <a:lnTo>
                    <a:pt x="1442" y="37"/>
                  </a:lnTo>
                  <a:lnTo>
                    <a:pt x="1444" y="46"/>
                  </a:lnTo>
                  <a:lnTo>
                    <a:pt x="1446" y="54"/>
                  </a:lnTo>
                  <a:lnTo>
                    <a:pt x="1446" y="62"/>
                  </a:lnTo>
                  <a:lnTo>
                    <a:pt x="1453" y="68"/>
                  </a:lnTo>
                  <a:lnTo>
                    <a:pt x="1456" y="76"/>
                  </a:lnTo>
                  <a:lnTo>
                    <a:pt x="1467" y="82"/>
                  </a:lnTo>
                  <a:lnTo>
                    <a:pt x="1477" y="88"/>
                  </a:lnTo>
                  <a:lnTo>
                    <a:pt x="1486" y="91"/>
                  </a:lnTo>
                  <a:lnTo>
                    <a:pt x="1497" y="93"/>
                  </a:lnTo>
                  <a:lnTo>
                    <a:pt x="1507" y="99"/>
                  </a:lnTo>
                  <a:lnTo>
                    <a:pt x="1518" y="96"/>
                  </a:lnTo>
                  <a:lnTo>
                    <a:pt x="1530" y="97"/>
                  </a:lnTo>
                  <a:lnTo>
                    <a:pt x="1543" y="95"/>
                  </a:lnTo>
                  <a:lnTo>
                    <a:pt x="1543" y="88"/>
                  </a:lnTo>
                  <a:lnTo>
                    <a:pt x="1553" y="82"/>
                  </a:lnTo>
                  <a:lnTo>
                    <a:pt x="1557" y="73"/>
                  </a:lnTo>
                  <a:lnTo>
                    <a:pt x="1567" y="68"/>
                  </a:lnTo>
                  <a:lnTo>
                    <a:pt x="1581" y="66"/>
                  </a:lnTo>
                  <a:lnTo>
                    <a:pt x="1592" y="70"/>
                  </a:lnTo>
                  <a:lnTo>
                    <a:pt x="1604" y="72"/>
                  </a:lnTo>
                  <a:lnTo>
                    <a:pt x="1616" y="75"/>
                  </a:lnTo>
                  <a:lnTo>
                    <a:pt x="1617" y="84"/>
                  </a:lnTo>
                  <a:lnTo>
                    <a:pt x="1628" y="89"/>
                  </a:lnTo>
                  <a:lnTo>
                    <a:pt x="1638" y="93"/>
                  </a:lnTo>
                  <a:lnTo>
                    <a:pt x="1649" y="97"/>
                  </a:lnTo>
                  <a:lnTo>
                    <a:pt x="1659" y="103"/>
                  </a:lnTo>
                  <a:lnTo>
                    <a:pt x="1662" y="113"/>
                  </a:lnTo>
                  <a:lnTo>
                    <a:pt x="1670" y="115"/>
                  </a:lnTo>
                  <a:lnTo>
                    <a:pt x="1683" y="111"/>
                  </a:lnTo>
                  <a:lnTo>
                    <a:pt x="1691" y="116"/>
                  </a:lnTo>
                  <a:lnTo>
                    <a:pt x="1695" y="125"/>
                  </a:lnTo>
                  <a:lnTo>
                    <a:pt x="1698" y="133"/>
                  </a:lnTo>
                  <a:lnTo>
                    <a:pt x="1690" y="140"/>
                  </a:lnTo>
                  <a:lnTo>
                    <a:pt x="1678" y="145"/>
                  </a:lnTo>
                  <a:lnTo>
                    <a:pt x="1670" y="152"/>
                  </a:lnTo>
                  <a:lnTo>
                    <a:pt x="1667" y="160"/>
                  </a:lnTo>
                  <a:lnTo>
                    <a:pt x="1665" y="168"/>
                  </a:lnTo>
                  <a:lnTo>
                    <a:pt x="1655" y="173"/>
                  </a:lnTo>
                  <a:lnTo>
                    <a:pt x="1663" y="180"/>
                  </a:lnTo>
                  <a:lnTo>
                    <a:pt x="1670" y="188"/>
                  </a:lnTo>
                  <a:lnTo>
                    <a:pt x="1677" y="196"/>
                  </a:lnTo>
                  <a:lnTo>
                    <a:pt x="1688" y="196"/>
                  </a:lnTo>
                  <a:lnTo>
                    <a:pt x="1702" y="196"/>
                  </a:lnTo>
                  <a:lnTo>
                    <a:pt x="1705" y="187"/>
                  </a:lnTo>
                  <a:lnTo>
                    <a:pt x="1701" y="179"/>
                  </a:lnTo>
                  <a:lnTo>
                    <a:pt x="1712" y="176"/>
                  </a:lnTo>
                  <a:lnTo>
                    <a:pt x="1716" y="167"/>
                  </a:lnTo>
                  <a:lnTo>
                    <a:pt x="1729" y="164"/>
                  </a:lnTo>
                  <a:lnTo>
                    <a:pt x="1741" y="166"/>
                  </a:lnTo>
                  <a:lnTo>
                    <a:pt x="1747" y="173"/>
                  </a:lnTo>
                  <a:lnTo>
                    <a:pt x="1751" y="177"/>
                  </a:lnTo>
                  <a:lnTo>
                    <a:pt x="1762" y="178"/>
                  </a:lnTo>
                  <a:lnTo>
                    <a:pt x="1776" y="177"/>
                  </a:lnTo>
                  <a:lnTo>
                    <a:pt x="1772" y="168"/>
                  </a:lnTo>
                  <a:lnTo>
                    <a:pt x="1779" y="161"/>
                  </a:lnTo>
                  <a:lnTo>
                    <a:pt x="1789" y="155"/>
                  </a:lnTo>
                  <a:lnTo>
                    <a:pt x="1789" y="145"/>
                  </a:lnTo>
                  <a:lnTo>
                    <a:pt x="1800" y="146"/>
                  </a:lnTo>
                  <a:lnTo>
                    <a:pt x="1799" y="154"/>
                  </a:lnTo>
                  <a:lnTo>
                    <a:pt x="1803" y="160"/>
                  </a:lnTo>
                  <a:lnTo>
                    <a:pt x="1814" y="159"/>
                  </a:lnTo>
                  <a:lnTo>
                    <a:pt x="1825" y="158"/>
                  </a:lnTo>
                  <a:lnTo>
                    <a:pt x="1835" y="161"/>
                  </a:lnTo>
                  <a:lnTo>
                    <a:pt x="1845" y="161"/>
                  </a:lnTo>
                  <a:lnTo>
                    <a:pt x="1846" y="171"/>
                  </a:lnTo>
                  <a:lnTo>
                    <a:pt x="1856" y="174"/>
                  </a:lnTo>
                  <a:lnTo>
                    <a:pt x="1870" y="171"/>
                  </a:lnTo>
                  <a:lnTo>
                    <a:pt x="1881" y="168"/>
                  </a:lnTo>
                  <a:lnTo>
                    <a:pt x="1883" y="178"/>
                  </a:lnTo>
                  <a:lnTo>
                    <a:pt x="1887" y="187"/>
                  </a:lnTo>
                  <a:lnTo>
                    <a:pt x="1891" y="195"/>
                  </a:lnTo>
                  <a:lnTo>
                    <a:pt x="1898" y="203"/>
                  </a:lnTo>
                  <a:lnTo>
                    <a:pt x="1909" y="208"/>
                  </a:lnTo>
                  <a:lnTo>
                    <a:pt x="1906" y="216"/>
                  </a:lnTo>
                  <a:lnTo>
                    <a:pt x="1904" y="225"/>
                  </a:lnTo>
                  <a:lnTo>
                    <a:pt x="1892" y="227"/>
                  </a:lnTo>
                  <a:lnTo>
                    <a:pt x="1887" y="234"/>
                  </a:lnTo>
                  <a:lnTo>
                    <a:pt x="1884" y="243"/>
                  </a:lnTo>
                  <a:lnTo>
                    <a:pt x="1881" y="252"/>
                  </a:lnTo>
                  <a:lnTo>
                    <a:pt x="1890" y="252"/>
                  </a:lnTo>
                  <a:lnTo>
                    <a:pt x="1897" y="246"/>
                  </a:lnTo>
                  <a:lnTo>
                    <a:pt x="1906" y="243"/>
                  </a:lnTo>
                  <a:lnTo>
                    <a:pt x="1918" y="243"/>
                  </a:lnTo>
                  <a:lnTo>
                    <a:pt x="1930" y="244"/>
                  </a:lnTo>
                  <a:lnTo>
                    <a:pt x="1943" y="241"/>
                  </a:lnTo>
                  <a:lnTo>
                    <a:pt x="1955" y="239"/>
                  </a:lnTo>
                  <a:lnTo>
                    <a:pt x="1957" y="232"/>
                  </a:lnTo>
                  <a:lnTo>
                    <a:pt x="1961" y="224"/>
                  </a:lnTo>
                  <a:lnTo>
                    <a:pt x="1971" y="219"/>
                  </a:lnTo>
                  <a:lnTo>
                    <a:pt x="1976" y="212"/>
                  </a:lnTo>
                  <a:lnTo>
                    <a:pt x="1980" y="203"/>
                  </a:lnTo>
                  <a:lnTo>
                    <a:pt x="1987" y="198"/>
                  </a:lnTo>
                  <a:lnTo>
                    <a:pt x="1997" y="198"/>
                  </a:lnTo>
                  <a:lnTo>
                    <a:pt x="2008" y="195"/>
                  </a:lnTo>
                  <a:lnTo>
                    <a:pt x="2014" y="186"/>
                  </a:lnTo>
                  <a:lnTo>
                    <a:pt x="2018" y="177"/>
                  </a:lnTo>
                  <a:lnTo>
                    <a:pt x="2025" y="169"/>
                  </a:lnTo>
                  <a:lnTo>
                    <a:pt x="2036" y="168"/>
                  </a:lnTo>
                  <a:lnTo>
                    <a:pt x="2048" y="174"/>
                  </a:lnTo>
                  <a:lnTo>
                    <a:pt x="2056" y="172"/>
                  </a:lnTo>
                  <a:lnTo>
                    <a:pt x="2062" y="163"/>
                  </a:lnTo>
                  <a:lnTo>
                    <a:pt x="2074" y="161"/>
                  </a:lnTo>
                  <a:lnTo>
                    <a:pt x="2084" y="156"/>
                  </a:lnTo>
                  <a:lnTo>
                    <a:pt x="2095" y="152"/>
                  </a:lnTo>
                  <a:lnTo>
                    <a:pt x="2106" y="150"/>
                  </a:lnTo>
                  <a:lnTo>
                    <a:pt x="2117" y="145"/>
                  </a:lnTo>
                  <a:lnTo>
                    <a:pt x="2130" y="144"/>
                  </a:lnTo>
                  <a:lnTo>
                    <a:pt x="2140" y="145"/>
                  </a:lnTo>
                  <a:lnTo>
                    <a:pt x="2150" y="150"/>
                  </a:lnTo>
                  <a:lnTo>
                    <a:pt x="2161" y="152"/>
                  </a:lnTo>
                  <a:lnTo>
                    <a:pt x="2161" y="162"/>
                  </a:lnTo>
                  <a:lnTo>
                    <a:pt x="2176" y="162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91040" y="2100240"/>
              <a:ext cx="1490400" cy="1835280"/>
            </a:xfrm>
            <a:custGeom>
              <a:avLst/>
              <a:gdLst/>
              <a:ahLst/>
              <a:rect l="l" t="t" r="r" b="b"/>
              <a:pathLst>
                <a:path w="2815" h="2311">
                  <a:moveTo>
                    <a:pt x="314" y="502"/>
                  </a:moveTo>
                  <a:lnTo>
                    <a:pt x="314" y="493"/>
                  </a:lnTo>
                  <a:lnTo>
                    <a:pt x="323" y="486"/>
                  </a:lnTo>
                  <a:lnTo>
                    <a:pt x="323" y="479"/>
                  </a:lnTo>
                  <a:lnTo>
                    <a:pt x="311" y="477"/>
                  </a:lnTo>
                  <a:lnTo>
                    <a:pt x="299" y="478"/>
                  </a:lnTo>
                  <a:lnTo>
                    <a:pt x="288" y="473"/>
                  </a:lnTo>
                  <a:lnTo>
                    <a:pt x="276" y="468"/>
                  </a:lnTo>
                  <a:lnTo>
                    <a:pt x="272" y="459"/>
                  </a:lnTo>
                  <a:lnTo>
                    <a:pt x="265" y="452"/>
                  </a:lnTo>
                  <a:lnTo>
                    <a:pt x="262" y="443"/>
                  </a:lnTo>
                  <a:lnTo>
                    <a:pt x="262" y="434"/>
                  </a:lnTo>
                  <a:lnTo>
                    <a:pt x="254" y="427"/>
                  </a:lnTo>
                  <a:lnTo>
                    <a:pt x="243" y="422"/>
                  </a:lnTo>
                  <a:lnTo>
                    <a:pt x="230" y="421"/>
                  </a:lnTo>
                  <a:lnTo>
                    <a:pt x="218" y="419"/>
                  </a:lnTo>
                  <a:lnTo>
                    <a:pt x="209" y="412"/>
                  </a:lnTo>
                  <a:lnTo>
                    <a:pt x="205" y="404"/>
                  </a:lnTo>
                  <a:lnTo>
                    <a:pt x="193" y="403"/>
                  </a:lnTo>
                  <a:lnTo>
                    <a:pt x="183" y="399"/>
                  </a:lnTo>
                  <a:lnTo>
                    <a:pt x="173" y="394"/>
                  </a:lnTo>
                  <a:lnTo>
                    <a:pt x="160" y="395"/>
                  </a:lnTo>
                  <a:lnTo>
                    <a:pt x="156" y="388"/>
                  </a:lnTo>
                  <a:lnTo>
                    <a:pt x="148" y="386"/>
                  </a:lnTo>
                  <a:lnTo>
                    <a:pt x="149" y="377"/>
                  </a:lnTo>
                  <a:lnTo>
                    <a:pt x="144" y="369"/>
                  </a:lnTo>
                  <a:lnTo>
                    <a:pt x="151" y="365"/>
                  </a:lnTo>
                  <a:lnTo>
                    <a:pt x="153" y="360"/>
                  </a:lnTo>
                  <a:lnTo>
                    <a:pt x="148" y="352"/>
                  </a:lnTo>
                  <a:lnTo>
                    <a:pt x="144" y="345"/>
                  </a:lnTo>
                  <a:lnTo>
                    <a:pt x="137" y="337"/>
                  </a:lnTo>
                  <a:lnTo>
                    <a:pt x="138" y="329"/>
                  </a:lnTo>
                  <a:lnTo>
                    <a:pt x="144" y="321"/>
                  </a:lnTo>
                  <a:lnTo>
                    <a:pt x="138" y="314"/>
                  </a:lnTo>
                  <a:lnTo>
                    <a:pt x="148" y="308"/>
                  </a:lnTo>
                  <a:lnTo>
                    <a:pt x="142" y="300"/>
                  </a:lnTo>
                  <a:lnTo>
                    <a:pt x="137" y="292"/>
                  </a:lnTo>
                  <a:lnTo>
                    <a:pt x="138" y="284"/>
                  </a:lnTo>
                  <a:lnTo>
                    <a:pt x="149" y="278"/>
                  </a:lnTo>
                  <a:lnTo>
                    <a:pt x="158" y="271"/>
                  </a:lnTo>
                  <a:lnTo>
                    <a:pt x="165" y="263"/>
                  </a:lnTo>
                  <a:lnTo>
                    <a:pt x="165" y="256"/>
                  </a:lnTo>
                  <a:lnTo>
                    <a:pt x="172" y="249"/>
                  </a:lnTo>
                  <a:lnTo>
                    <a:pt x="172" y="241"/>
                  </a:lnTo>
                  <a:lnTo>
                    <a:pt x="170" y="232"/>
                  </a:lnTo>
                  <a:lnTo>
                    <a:pt x="165" y="223"/>
                  </a:lnTo>
                  <a:lnTo>
                    <a:pt x="173" y="220"/>
                  </a:lnTo>
                  <a:lnTo>
                    <a:pt x="176" y="213"/>
                  </a:lnTo>
                  <a:lnTo>
                    <a:pt x="173" y="205"/>
                  </a:lnTo>
                  <a:lnTo>
                    <a:pt x="169" y="198"/>
                  </a:lnTo>
                  <a:lnTo>
                    <a:pt x="156" y="196"/>
                  </a:lnTo>
                  <a:lnTo>
                    <a:pt x="152" y="188"/>
                  </a:lnTo>
                  <a:lnTo>
                    <a:pt x="139" y="187"/>
                  </a:lnTo>
                  <a:lnTo>
                    <a:pt x="134" y="179"/>
                  </a:lnTo>
                  <a:lnTo>
                    <a:pt x="134" y="172"/>
                  </a:lnTo>
                  <a:lnTo>
                    <a:pt x="141" y="165"/>
                  </a:lnTo>
                  <a:lnTo>
                    <a:pt x="145" y="157"/>
                  </a:lnTo>
                  <a:lnTo>
                    <a:pt x="153" y="158"/>
                  </a:lnTo>
                  <a:lnTo>
                    <a:pt x="160" y="156"/>
                  </a:lnTo>
                  <a:lnTo>
                    <a:pt x="160" y="151"/>
                  </a:lnTo>
                  <a:lnTo>
                    <a:pt x="170" y="146"/>
                  </a:lnTo>
                  <a:lnTo>
                    <a:pt x="176" y="152"/>
                  </a:lnTo>
                  <a:lnTo>
                    <a:pt x="186" y="151"/>
                  </a:lnTo>
                  <a:lnTo>
                    <a:pt x="191" y="146"/>
                  </a:lnTo>
                  <a:lnTo>
                    <a:pt x="204" y="148"/>
                  </a:lnTo>
                  <a:lnTo>
                    <a:pt x="216" y="151"/>
                  </a:lnTo>
                  <a:lnTo>
                    <a:pt x="229" y="151"/>
                  </a:lnTo>
                  <a:lnTo>
                    <a:pt x="240" y="145"/>
                  </a:lnTo>
                  <a:lnTo>
                    <a:pt x="249" y="139"/>
                  </a:lnTo>
                  <a:lnTo>
                    <a:pt x="239" y="137"/>
                  </a:lnTo>
                  <a:lnTo>
                    <a:pt x="247" y="130"/>
                  </a:lnTo>
                  <a:lnTo>
                    <a:pt x="254" y="128"/>
                  </a:lnTo>
                  <a:lnTo>
                    <a:pt x="257" y="117"/>
                  </a:lnTo>
                  <a:lnTo>
                    <a:pt x="262" y="109"/>
                  </a:lnTo>
                  <a:lnTo>
                    <a:pt x="257" y="102"/>
                  </a:lnTo>
                  <a:lnTo>
                    <a:pt x="256" y="93"/>
                  </a:lnTo>
                  <a:lnTo>
                    <a:pt x="251" y="85"/>
                  </a:lnTo>
                  <a:lnTo>
                    <a:pt x="253" y="76"/>
                  </a:lnTo>
                  <a:lnTo>
                    <a:pt x="260" y="76"/>
                  </a:lnTo>
                  <a:lnTo>
                    <a:pt x="261" y="70"/>
                  </a:lnTo>
                  <a:lnTo>
                    <a:pt x="271" y="64"/>
                  </a:lnTo>
                  <a:lnTo>
                    <a:pt x="271" y="57"/>
                  </a:lnTo>
                  <a:lnTo>
                    <a:pt x="272" y="49"/>
                  </a:lnTo>
                  <a:lnTo>
                    <a:pt x="262" y="47"/>
                  </a:lnTo>
                  <a:lnTo>
                    <a:pt x="262" y="37"/>
                  </a:lnTo>
                  <a:lnTo>
                    <a:pt x="272" y="34"/>
                  </a:lnTo>
                  <a:lnTo>
                    <a:pt x="282" y="33"/>
                  </a:lnTo>
                  <a:lnTo>
                    <a:pt x="285" y="23"/>
                  </a:lnTo>
                  <a:lnTo>
                    <a:pt x="296" y="24"/>
                  </a:lnTo>
                  <a:lnTo>
                    <a:pt x="302" y="16"/>
                  </a:lnTo>
                  <a:lnTo>
                    <a:pt x="314" y="13"/>
                  </a:lnTo>
                  <a:lnTo>
                    <a:pt x="324" y="19"/>
                  </a:lnTo>
                  <a:lnTo>
                    <a:pt x="334" y="19"/>
                  </a:lnTo>
                  <a:lnTo>
                    <a:pt x="346" y="18"/>
                  </a:lnTo>
                  <a:lnTo>
                    <a:pt x="359" y="21"/>
                  </a:lnTo>
                  <a:lnTo>
                    <a:pt x="370" y="21"/>
                  </a:lnTo>
                  <a:lnTo>
                    <a:pt x="381" y="19"/>
                  </a:lnTo>
                  <a:lnTo>
                    <a:pt x="386" y="15"/>
                  </a:lnTo>
                  <a:lnTo>
                    <a:pt x="390" y="8"/>
                  </a:lnTo>
                  <a:lnTo>
                    <a:pt x="391" y="0"/>
                  </a:lnTo>
                  <a:lnTo>
                    <a:pt x="399" y="8"/>
                  </a:lnTo>
                  <a:lnTo>
                    <a:pt x="409" y="9"/>
                  </a:lnTo>
                  <a:lnTo>
                    <a:pt x="422" y="12"/>
                  </a:lnTo>
                  <a:lnTo>
                    <a:pt x="433" y="15"/>
                  </a:lnTo>
                  <a:lnTo>
                    <a:pt x="446" y="13"/>
                  </a:lnTo>
                  <a:lnTo>
                    <a:pt x="458" y="9"/>
                  </a:lnTo>
                  <a:lnTo>
                    <a:pt x="469" y="5"/>
                  </a:lnTo>
                  <a:lnTo>
                    <a:pt x="474" y="4"/>
                  </a:lnTo>
                  <a:lnTo>
                    <a:pt x="481" y="13"/>
                  </a:lnTo>
                  <a:lnTo>
                    <a:pt x="486" y="21"/>
                  </a:lnTo>
                  <a:lnTo>
                    <a:pt x="495" y="29"/>
                  </a:lnTo>
                  <a:lnTo>
                    <a:pt x="500" y="37"/>
                  </a:lnTo>
                  <a:lnTo>
                    <a:pt x="511" y="42"/>
                  </a:lnTo>
                  <a:lnTo>
                    <a:pt x="517" y="51"/>
                  </a:lnTo>
                  <a:lnTo>
                    <a:pt x="521" y="59"/>
                  </a:lnTo>
                  <a:lnTo>
                    <a:pt x="531" y="66"/>
                  </a:lnTo>
                  <a:lnTo>
                    <a:pt x="542" y="63"/>
                  </a:lnTo>
                  <a:lnTo>
                    <a:pt x="555" y="66"/>
                  </a:lnTo>
                  <a:lnTo>
                    <a:pt x="563" y="70"/>
                  </a:lnTo>
                  <a:lnTo>
                    <a:pt x="574" y="64"/>
                  </a:lnTo>
                  <a:lnTo>
                    <a:pt x="587" y="61"/>
                  </a:lnTo>
                  <a:lnTo>
                    <a:pt x="598" y="64"/>
                  </a:lnTo>
                  <a:lnTo>
                    <a:pt x="606" y="71"/>
                  </a:lnTo>
                  <a:lnTo>
                    <a:pt x="612" y="80"/>
                  </a:lnTo>
                  <a:lnTo>
                    <a:pt x="620" y="86"/>
                  </a:lnTo>
                  <a:lnTo>
                    <a:pt x="618" y="95"/>
                  </a:lnTo>
                  <a:lnTo>
                    <a:pt x="626" y="99"/>
                  </a:lnTo>
                  <a:lnTo>
                    <a:pt x="626" y="107"/>
                  </a:lnTo>
                  <a:lnTo>
                    <a:pt x="619" y="115"/>
                  </a:lnTo>
                  <a:lnTo>
                    <a:pt x="625" y="123"/>
                  </a:lnTo>
                  <a:lnTo>
                    <a:pt x="626" y="132"/>
                  </a:lnTo>
                  <a:lnTo>
                    <a:pt x="623" y="141"/>
                  </a:lnTo>
                  <a:lnTo>
                    <a:pt x="612" y="145"/>
                  </a:lnTo>
                  <a:lnTo>
                    <a:pt x="599" y="146"/>
                  </a:lnTo>
                  <a:lnTo>
                    <a:pt x="587" y="147"/>
                  </a:lnTo>
                  <a:lnTo>
                    <a:pt x="592" y="155"/>
                  </a:lnTo>
                  <a:lnTo>
                    <a:pt x="599" y="163"/>
                  </a:lnTo>
                  <a:lnTo>
                    <a:pt x="591" y="169"/>
                  </a:lnTo>
                  <a:lnTo>
                    <a:pt x="581" y="174"/>
                  </a:lnTo>
                  <a:lnTo>
                    <a:pt x="570" y="180"/>
                  </a:lnTo>
                  <a:lnTo>
                    <a:pt x="559" y="185"/>
                  </a:lnTo>
                  <a:lnTo>
                    <a:pt x="548" y="190"/>
                  </a:lnTo>
                  <a:lnTo>
                    <a:pt x="536" y="194"/>
                  </a:lnTo>
                  <a:lnTo>
                    <a:pt x="525" y="199"/>
                  </a:lnTo>
                  <a:lnTo>
                    <a:pt x="516" y="206"/>
                  </a:lnTo>
                  <a:lnTo>
                    <a:pt x="507" y="211"/>
                  </a:lnTo>
                  <a:lnTo>
                    <a:pt x="497" y="217"/>
                  </a:lnTo>
                  <a:lnTo>
                    <a:pt x="507" y="224"/>
                  </a:lnTo>
                  <a:lnTo>
                    <a:pt x="510" y="230"/>
                  </a:lnTo>
                  <a:lnTo>
                    <a:pt x="504" y="237"/>
                  </a:lnTo>
                  <a:lnTo>
                    <a:pt x="511" y="245"/>
                  </a:lnTo>
                  <a:lnTo>
                    <a:pt x="520" y="251"/>
                  </a:lnTo>
                  <a:lnTo>
                    <a:pt x="531" y="255"/>
                  </a:lnTo>
                  <a:lnTo>
                    <a:pt x="535" y="264"/>
                  </a:lnTo>
                  <a:lnTo>
                    <a:pt x="539" y="273"/>
                  </a:lnTo>
                  <a:lnTo>
                    <a:pt x="548" y="280"/>
                  </a:lnTo>
                  <a:lnTo>
                    <a:pt x="557" y="286"/>
                  </a:lnTo>
                  <a:lnTo>
                    <a:pt x="567" y="292"/>
                  </a:lnTo>
                  <a:lnTo>
                    <a:pt x="577" y="298"/>
                  </a:lnTo>
                  <a:lnTo>
                    <a:pt x="587" y="305"/>
                  </a:lnTo>
                  <a:lnTo>
                    <a:pt x="597" y="309"/>
                  </a:lnTo>
                  <a:lnTo>
                    <a:pt x="605" y="317"/>
                  </a:lnTo>
                  <a:lnTo>
                    <a:pt x="609" y="326"/>
                  </a:lnTo>
                  <a:lnTo>
                    <a:pt x="616" y="334"/>
                  </a:lnTo>
                  <a:lnTo>
                    <a:pt x="625" y="342"/>
                  </a:lnTo>
                  <a:lnTo>
                    <a:pt x="634" y="347"/>
                  </a:lnTo>
                  <a:lnTo>
                    <a:pt x="647" y="349"/>
                  </a:lnTo>
                  <a:lnTo>
                    <a:pt x="660" y="352"/>
                  </a:lnTo>
                  <a:lnTo>
                    <a:pt x="669" y="357"/>
                  </a:lnTo>
                  <a:lnTo>
                    <a:pt x="679" y="363"/>
                  </a:lnTo>
                  <a:lnTo>
                    <a:pt x="689" y="369"/>
                  </a:lnTo>
                  <a:lnTo>
                    <a:pt x="700" y="374"/>
                  </a:lnTo>
                  <a:lnTo>
                    <a:pt x="696" y="382"/>
                  </a:lnTo>
                  <a:lnTo>
                    <a:pt x="697" y="391"/>
                  </a:lnTo>
                  <a:lnTo>
                    <a:pt x="697" y="400"/>
                  </a:lnTo>
                  <a:lnTo>
                    <a:pt x="701" y="409"/>
                  </a:lnTo>
                  <a:lnTo>
                    <a:pt x="711" y="415"/>
                  </a:lnTo>
                  <a:lnTo>
                    <a:pt x="725" y="417"/>
                  </a:lnTo>
                  <a:lnTo>
                    <a:pt x="736" y="414"/>
                  </a:lnTo>
                  <a:lnTo>
                    <a:pt x="746" y="420"/>
                  </a:lnTo>
                  <a:lnTo>
                    <a:pt x="755" y="427"/>
                  </a:lnTo>
                  <a:lnTo>
                    <a:pt x="756" y="435"/>
                  </a:lnTo>
                  <a:lnTo>
                    <a:pt x="757" y="444"/>
                  </a:lnTo>
                  <a:lnTo>
                    <a:pt x="769" y="449"/>
                  </a:lnTo>
                  <a:lnTo>
                    <a:pt x="780" y="454"/>
                  </a:lnTo>
                  <a:lnTo>
                    <a:pt x="781" y="452"/>
                  </a:lnTo>
                  <a:lnTo>
                    <a:pt x="784" y="450"/>
                  </a:lnTo>
                  <a:lnTo>
                    <a:pt x="797" y="451"/>
                  </a:lnTo>
                  <a:lnTo>
                    <a:pt x="806" y="447"/>
                  </a:lnTo>
                  <a:lnTo>
                    <a:pt x="810" y="438"/>
                  </a:lnTo>
                  <a:lnTo>
                    <a:pt x="822" y="434"/>
                  </a:lnTo>
                  <a:lnTo>
                    <a:pt x="834" y="435"/>
                  </a:lnTo>
                  <a:lnTo>
                    <a:pt x="847" y="436"/>
                  </a:lnTo>
                  <a:lnTo>
                    <a:pt x="859" y="435"/>
                  </a:lnTo>
                  <a:lnTo>
                    <a:pt x="873" y="435"/>
                  </a:lnTo>
                  <a:lnTo>
                    <a:pt x="886" y="438"/>
                  </a:lnTo>
                  <a:lnTo>
                    <a:pt x="899" y="439"/>
                  </a:lnTo>
                  <a:lnTo>
                    <a:pt x="911" y="440"/>
                  </a:lnTo>
                  <a:lnTo>
                    <a:pt x="924" y="444"/>
                  </a:lnTo>
                  <a:lnTo>
                    <a:pt x="936" y="445"/>
                  </a:lnTo>
                  <a:lnTo>
                    <a:pt x="940" y="437"/>
                  </a:lnTo>
                  <a:lnTo>
                    <a:pt x="953" y="438"/>
                  </a:lnTo>
                  <a:lnTo>
                    <a:pt x="957" y="434"/>
                  </a:lnTo>
                  <a:lnTo>
                    <a:pt x="970" y="437"/>
                  </a:lnTo>
                  <a:lnTo>
                    <a:pt x="982" y="441"/>
                  </a:lnTo>
                  <a:lnTo>
                    <a:pt x="994" y="445"/>
                  </a:lnTo>
                  <a:lnTo>
                    <a:pt x="1006" y="448"/>
                  </a:lnTo>
                  <a:lnTo>
                    <a:pt x="1017" y="453"/>
                  </a:lnTo>
                  <a:lnTo>
                    <a:pt x="1027" y="459"/>
                  </a:lnTo>
                  <a:lnTo>
                    <a:pt x="1038" y="463"/>
                  </a:lnTo>
                  <a:lnTo>
                    <a:pt x="1045" y="471"/>
                  </a:lnTo>
                  <a:lnTo>
                    <a:pt x="1054" y="478"/>
                  </a:lnTo>
                  <a:lnTo>
                    <a:pt x="1062" y="483"/>
                  </a:lnTo>
                  <a:lnTo>
                    <a:pt x="1073" y="483"/>
                  </a:lnTo>
                  <a:lnTo>
                    <a:pt x="1086" y="484"/>
                  </a:lnTo>
                  <a:lnTo>
                    <a:pt x="1100" y="485"/>
                  </a:lnTo>
                  <a:lnTo>
                    <a:pt x="1112" y="482"/>
                  </a:lnTo>
                  <a:lnTo>
                    <a:pt x="1124" y="480"/>
                  </a:lnTo>
                  <a:lnTo>
                    <a:pt x="1136" y="484"/>
                  </a:lnTo>
                  <a:lnTo>
                    <a:pt x="1149" y="484"/>
                  </a:lnTo>
                  <a:lnTo>
                    <a:pt x="1163" y="484"/>
                  </a:lnTo>
                  <a:lnTo>
                    <a:pt x="1174" y="481"/>
                  </a:lnTo>
                  <a:lnTo>
                    <a:pt x="1187" y="478"/>
                  </a:lnTo>
                  <a:lnTo>
                    <a:pt x="1199" y="475"/>
                  </a:lnTo>
                  <a:lnTo>
                    <a:pt x="1212" y="474"/>
                  </a:lnTo>
                  <a:lnTo>
                    <a:pt x="1226" y="472"/>
                  </a:lnTo>
                  <a:lnTo>
                    <a:pt x="1238" y="471"/>
                  </a:lnTo>
                  <a:lnTo>
                    <a:pt x="1251" y="470"/>
                  </a:lnTo>
                  <a:lnTo>
                    <a:pt x="1261" y="475"/>
                  </a:lnTo>
                  <a:lnTo>
                    <a:pt x="1277" y="485"/>
                  </a:lnTo>
                  <a:lnTo>
                    <a:pt x="1290" y="489"/>
                  </a:lnTo>
                  <a:lnTo>
                    <a:pt x="1300" y="495"/>
                  </a:lnTo>
                  <a:lnTo>
                    <a:pt x="1312" y="498"/>
                  </a:lnTo>
                  <a:lnTo>
                    <a:pt x="1325" y="499"/>
                  </a:lnTo>
                  <a:lnTo>
                    <a:pt x="1337" y="499"/>
                  </a:lnTo>
                  <a:lnTo>
                    <a:pt x="1350" y="497"/>
                  </a:lnTo>
                  <a:lnTo>
                    <a:pt x="1360" y="491"/>
                  </a:lnTo>
                  <a:lnTo>
                    <a:pt x="1374" y="490"/>
                  </a:lnTo>
                  <a:lnTo>
                    <a:pt x="1385" y="493"/>
                  </a:lnTo>
                  <a:lnTo>
                    <a:pt x="1396" y="499"/>
                  </a:lnTo>
                  <a:lnTo>
                    <a:pt x="1407" y="499"/>
                  </a:lnTo>
                  <a:lnTo>
                    <a:pt x="1419" y="504"/>
                  </a:lnTo>
                  <a:lnTo>
                    <a:pt x="1431" y="502"/>
                  </a:lnTo>
                  <a:lnTo>
                    <a:pt x="1444" y="502"/>
                  </a:lnTo>
                  <a:lnTo>
                    <a:pt x="1449" y="511"/>
                  </a:lnTo>
                  <a:lnTo>
                    <a:pt x="1461" y="515"/>
                  </a:lnTo>
                  <a:lnTo>
                    <a:pt x="1469" y="522"/>
                  </a:lnTo>
                  <a:lnTo>
                    <a:pt x="1481" y="529"/>
                  </a:lnTo>
                  <a:lnTo>
                    <a:pt x="1477" y="533"/>
                  </a:lnTo>
                  <a:lnTo>
                    <a:pt x="1465" y="536"/>
                  </a:lnTo>
                  <a:lnTo>
                    <a:pt x="1451" y="540"/>
                  </a:lnTo>
                  <a:lnTo>
                    <a:pt x="1444" y="546"/>
                  </a:lnTo>
                  <a:lnTo>
                    <a:pt x="1441" y="556"/>
                  </a:lnTo>
                  <a:lnTo>
                    <a:pt x="1438" y="565"/>
                  </a:lnTo>
                  <a:lnTo>
                    <a:pt x="1435" y="574"/>
                  </a:lnTo>
                  <a:lnTo>
                    <a:pt x="1426" y="581"/>
                  </a:lnTo>
                  <a:lnTo>
                    <a:pt x="1421" y="589"/>
                  </a:lnTo>
                  <a:lnTo>
                    <a:pt x="1423" y="598"/>
                  </a:lnTo>
                  <a:lnTo>
                    <a:pt x="1435" y="594"/>
                  </a:lnTo>
                  <a:lnTo>
                    <a:pt x="1447" y="597"/>
                  </a:lnTo>
                  <a:lnTo>
                    <a:pt x="1458" y="601"/>
                  </a:lnTo>
                  <a:lnTo>
                    <a:pt x="1470" y="600"/>
                  </a:lnTo>
                  <a:lnTo>
                    <a:pt x="1483" y="603"/>
                  </a:lnTo>
                  <a:lnTo>
                    <a:pt x="1487" y="612"/>
                  </a:lnTo>
                  <a:lnTo>
                    <a:pt x="1486" y="621"/>
                  </a:lnTo>
                  <a:lnTo>
                    <a:pt x="1477" y="629"/>
                  </a:lnTo>
                  <a:lnTo>
                    <a:pt x="1468" y="634"/>
                  </a:lnTo>
                  <a:lnTo>
                    <a:pt x="1461" y="642"/>
                  </a:lnTo>
                  <a:lnTo>
                    <a:pt x="1459" y="651"/>
                  </a:lnTo>
                  <a:lnTo>
                    <a:pt x="1461" y="661"/>
                  </a:lnTo>
                  <a:lnTo>
                    <a:pt x="1463" y="670"/>
                  </a:lnTo>
                  <a:lnTo>
                    <a:pt x="1472" y="677"/>
                  </a:lnTo>
                  <a:lnTo>
                    <a:pt x="1480" y="684"/>
                  </a:lnTo>
                  <a:lnTo>
                    <a:pt x="1484" y="693"/>
                  </a:lnTo>
                  <a:lnTo>
                    <a:pt x="1488" y="702"/>
                  </a:lnTo>
                  <a:lnTo>
                    <a:pt x="1495" y="710"/>
                  </a:lnTo>
                  <a:lnTo>
                    <a:pt x="1508" y="712"/>
                  </a:lnTo>
                  <a:lnTo>
                    <a:pt x="1521" y="713"/>
                  </a:lnTo>
                  <a:lnTo>
                    <a:pt x="1523" y="722"/>
                  </a:lnTo>
                  <a:lnTo>
                    <a:pt x="1525" y="732"/>
                  </a:lnTo>
                  <a:lnTo>
                    <a:pt x="1528" y="741"/>
                  </a:lnTo>
                  <a:lnTo>
                    <a:pt x="1533" y="749"/>
                  </a:lnTo>
                  <a:lnTo>
                    <a:pt x="1539" y="758"/>
                  </a:lnTo>
                  <a:lnTo>
                    <a:pt x="1544" y="767"/>
                  </a:lnTo>
                  <a:lnTo>
                    <a:pt x="1554" y="768"/>
                  </a:lnTo>
                  <a:lnTo>
                    <a:pt x="1567" y="763"/>
                  </a:lnTo>
                  <a:lnTo>
                    <a:pt x="1578" y="757"/>
                  </a:lnTo>
                  <a:lnTo>
                    <a:pt x="1589" y="752"/>
                  </a:lnTo>
                  <a:lnTo>
                    <a:pt x="1602" y="755"/>
                  </a:lnTo>
                  <a:lnTo>
                    <a:pt x="1611" y="751"/>
                  </a:lnTo>
                  <a:lnTo>
                    <a:pt x="1610" y="743"/>
                  </a:lnTo>
                  <a:lnTo>
                    <a:pt x="1605" y="735"/>
                  </a:lnTo>
                  <a:lnTo>
                    <a:pt x="1592" y="731"/>
                  </a:lnTo>
                  <a:lnTo>
                    <a:pt x="1578" y="731"/>
                  </a:lnTo>
                  <a:lnTo>
                    <a:pt x="1570" y="727"/>
                  </a:lnTo>
                  <a:lnTo>
                    <a:pt x="1571" y="717"/>
                  </a:lnTo>
                  <a:lnTo>
                    <a:pt x="1577" y="708"/>
                  </a:lnTo>
                  <a:lnTo>
                    <a:pt x="1586" y="703"/>
                  </a:lnTo>
                  <a:lnTo>
                    <a:pt x="1599" y="699"/>
                  </a:lnTo>
                  <a:lnTo>
                    <a:pt x="1611" y="698"/>
                  </a:lnTo>
                  <a:lnTo>
                    <a:pt x="1624" y="695"/>
                  </a:lnTo>
                  <a:lnTo>
                    <a:pt x="1627" y="686"/>
                  </a:lnTo>
                  <a:lnTo>
                    <a:pt x="1637" y="681"/>
                  </a:lnTo>
                  <a:lnTo>
                    <a:pt x="1645" y="677"/>
                  </a:lnTo>
                  <a:lnTo>
                    <a:pt x="1649" y="668"/>
                  </a:lnTo>
                  <a:lnTo>
                    <a:pt x="1655" y="660"/>
                  </a:lnTo>
                  <a:lnTo>
                    <a:pt x="1662" y="652"/>
                  </a:lnTo>
                  <a:lnTo>
                    <a:pt x="1670" y="646"/>
                  </a:lnTo>
                  <a:lnTo>
                    <a:pt x="1681" y="649"/>
                  </a:lnTo>
                  <a:lnTo>
                    <a:pt x="1693" y="654"/>
                  </a:lnTo>
                  <a:lnTo>
                    <a:pt x="1704" y="659"/>
                  </a:lnTo>
                  <a:lnTo>
                    <a:pt x="1715" y="664"/>
                  </a:lnTo>
                  <a:lnTo>
                    <a:pt x="1729" y="668"/>
                  </a:lnTo>
                  <a:lnTo>
                    <a:pt x="1739" y="674"/>
                  </a:lnTo>
                  <a:lnTo>
                    <a:pt x="1747" y="681"/>
                  </a:lnTo>
                  <a:lnTo>
                    <a:pt x="1755" y="688"/>
                  </a:lnTo>
                  <a:lnTo>
                    <a:pt x="1762" y="696"/>
                  </a:lnTo>
                  <a:lnTo>
                    <a:pt x="1771" y="703"/>
                  </a:lnTo>
                  <a:lnTo>
                    <a:pt x="1783" y="708"/>
                  </a:lnTo>
                  <a:lnTo>
                    <a:pt x="1795" y="713"/>
                  </a:lnTo>
                  <a:lnTo>
                    <a:pt x="1797" y="720"/>
                  </a:lnTo>
                  <a:lnTo>
                    <a:pt x="1792" y="729"/>
                  </a:lnTo>
                  <a:lnTo>
                    <a:pt x="1785" y="738"/>
                  </a:lnTo>
                  <a:lnTo>
                    <a:pt x="1778" y="746"/>
                  </a:lnTo>
                  <a:lnTo>
                    <a:pt x="1783" y="752"/>
                  </a:lnTo>
                  <a:lnTo>
                    <a:pt x="1788" y="757"/>
                  </a:lnTo>
                  <a:lnTo>
                    <a:pt x="1775" y="762"/>
                  </a:lnTo>
                  <a:lnTo>
                    <a:pt x="1767" y="769"/>
                  </a:lnTo>
                  <a:lnTo>
                    <a:pt x="1772" y="778"/>
                  </a:lnTo>
                  <a:lnTo>
                    <a:pt x="1781" y="785"/>
                  </a:lnTo>
                  <a:lnTo>
                    <a:pt x="1788" y="793"/>
                  </a:lnTo>
                  <a:lnTo>
                    <a:pt x="1796" y="801"/>
                  </a:lnTo>
                  <a:lnTo>
                    <a:pt x="1800" y="810"/>
                  </a:lnTo>
                  <a:lnTo>
                    <a:pt x="1799" y="819"/>
                  </a:lnTo>
                  <a:lnTo>
                    <a:pt x="1806" y="824"/>
                  </a:lnTo>
                  <a:lnTo>
                    <a:pt x="1813" y="832"/>
                  </a:lnTo>
                  <a:lnTo>
                    <a:pt x="1821" y="840"/>
                  </a:lnTo>
                  <a:lnTo>
                    <a:pt x="1832" y="845"/>
                  </a:lnTo>
                  <a:lnTo>
                    <a:pt x="1845" y="847"/>
                  </a:lnTo>
                  <a:lnTo>
                    <a:pt x="1852" y="853"/>
                  </a:lnTo>
                  <a:lnTo>
                    <a:pt x="1865" y="852"/>
                  </a:lnTo>
                  <a:lnTo>
                    <a:pt x="1877" y="854"/>
                  </a:lnTo>
                  <a:lnTo>
                    <a:pt x="1873" y="863"/>
                  </a:lnTo>
                  <a:lnTo>
                    <a:pt x="1863" y="864"/>
                  </a:lnTo>
                  <a:lnTo>
                    <a:pt x="1859" y="872"/>
                  </a:lnTo>
                  <a:lnTo>
                    <a:pt x="1872" y="876"/>
                  </a:lnTo>
                  <a:lnTo>
                    <a:pt x="1872" y="885"/>
                  </a:lnTo>
                  <a:lnTo>
                    <a:pt x="1878" y="893"/>
                  </a:lnTo>
                  <a:lnTo>
                    <a:pt x="1887" y="900"/>
                  </a:lnTo>
                  <a:lnTo>
                    <a:pt x="1894" y="908"/>
                  </a:lnTo>
                  <a:lnTo>
                    <a:pt x="1899" y="917"/>
                  </a:lnTo>
                  <a:lnTo>
                    <a:pt x="1901" y="926"/>
                  </a:lnTo>
                  <a:lnTo>
                    <a:pt x="1898" y="935"/>
                  </a:lnTo>
                  <a:lnTo>
                    <a:pt x="1895" y="944"/>
                  </a:lnTo>
                  <a:lnTo>
                    <a:pt x="1892" y="953"/>
                  </a:lnTo>
                  <a:lnTo>
                    <a:pt x="1901" y="960"/>
                  </a:lnTo>
                  <a:lnTo>
                    <a:pt x="1919" y="973"/>
                  </a:lnTo>
                  <a:lnTo>
                    <a:pt x="1915" y="981"/>
                  </a:lnTo>
                  <a:lnTo>
                    <a:pt x="1911" y="990"/>
                  </a:lnTo>
                  <a:lnTo>
                    <a:pt x="1905" y="999"/>
                  </a:lnTo>
                  <a:lnTo>
                    <a:pt x="1901" y="1007"/>
                  </a:lnTo>
                  <a:lnTo>
                    <a:pt x="1897" y="1016"/>
                  </a:lnTo>
                  <a:lnTo>
                    <a:pt x="1890" y="1025"/>
                  </a:lnTo>
                  <a:lnTo>
                    <a:pt x="1892" y="1030"/>
                  </a:lnTo>
                  <a:lnTo>
                    <a:pt x="1905" y="1034"/>
                  </a:lnTo>
                  <a:lnTo>
                    <a:pt x="1902" y="1042"/>
                  </a:lnTo>
                  <a:lnTo>
                    <a:pt x="1897" y="1051"/>
                  </a:lnTo>
                  <a:lnTo>
                    <a:pt x="1894" y="1060"/>
                  </a:lnTo>
                  <a:lnTo>
                    <a:pt x="1906" y="1065"/>
                  </a:lnTo>
                  <a:lnTo>
                    <a:pt x="1916" y="1071"/>
                  </a:lnTo>
                  <a:lnTo>
                    <a:pt x="1927" y="1076"/>
                  </a:lnTo>
                  <a:lnTo>
                    <a:pt x="1939" y="1081"/>
                  </a:lnTo>
                  <a:lnTo>
                    <a:pt x="1950" y="1085"/>
                  </a:lnTo>
                  <a:lnTo>
                    <a:pt x="1960" y="1092"/>
                  </a:lnTo>
                  <a:lnTo>
                    <a:pt x="1967" y="1100"/>
                  </a:lnTo>
                  <a:lnTo>
                    <a:pt x="1975" y="1107"/>
                  </a:lnTo>
                  <a:lnTo>
                    <a:pt x="1983" y="1115"/>
                  </a:lnTo>
                  <a:lnTo>
                    <a:pt x="1992" y="1121"/>
                  </a:lnTo>
                  <a:lnTo>
                    <a:pt x="2004" y="1118"/>
                  </a:lnTo>
                  <a:lnTo>
                    <a:pt x="2013" y="1111"/>
                  </a:lnTo>
                  <a:lnTo>
                    <a:pt x="2020" y="1103"/>
                  </a:lnTo>
                  <a:lnTo>
                    <a:pt x="2027" y="1096"/>
                  </a:lnTo>
                  <a:lnTo>
                    <a:pt x="2039" y="1092"/>
                  </a:lnTo>
                  <a:lnTo>
                    <a:pt x="2048" y="1086"/>
                  </a:lnTo>
                  <a:lnTo>
                    <a:pt x="2053" y="1077"/>
                  </a:lnTo>
                  <a:lnTo>
                    <a:pt x="2062" y="1081"/>
                  </a:lnTo>
                  <a:lnTo>
                    <a:pt x="2071" y="1088"/>
                  </a:lnTo>
                  <a:lnTo>
                    <a:pt x="2080" y="1088"/>
                  </a:lnTo>
                  <a:lnTo>
                    <a:pt x="2090" y="1084"/>
                  </a:lnTo>
                  <a:lnTo>
                    <a:pt x="2098" y="1082"/>
                  </a:lnTo>
                  <a:lnTo>
                    <a:pt x="2109" y="1088"/>
                  </a:lnTo>
                  <a:lnTo>
                    <a:pt x="2119" y="1094"/>
                  </a:lnTo>
                  <a:lnTo>
                    <a:pt x="2126" y="1088"/>
                  </a:lnTo>
                  <a:lnTo>
                    <a:pt x="2134" y="1080"/>
                  </a:lnTo>
                  <a:lnTo>
                    <a:pt x="2141" y="1074"/>
                  </a:lnTo>
                  <a:lnTo>
                    <a:pt x="2152" y="1079"/>
                  </a:lnTo>
                  <a:lnTo>
                    <a:pt x="2164" y="1085"/>
                  </a:lnTo>
                  <a:lnTo>
                    <a:pt x="2161" y="1093"/>
                  </a:lnTo>
                  <a:lnTo>
                    <a:pt x="2152" y="1100"/>
                  </a:lnTo>
                  <a:lnTo>
                    <a:pt x="2144" y="1107"/>
                  </a:lnTo>
                  <a:lnTo>
                    <a:pt x="2137" y="1115"/>
                  </a:lnTo>
                  <a:lnTo>
                    <a:pt x="2132" y="1123"/>
                  </a:lnTo>
                  <a:lnTo>
                    <a:pt x="2126" y="1132"/>
                  </a:lnTo>
                  <a:lnTo>
                    <a:pt x="2120" y="1140"/>
                  </a:lnTo>
                  <a:lnTo>
                    <a:pt x="2115" y="1148"/>
                  </a:lnTo>
                  <a:lnTo>
                    <a:pt x="2106" y="1156"/>
                  </a:lnTo>
                  <a:lnTo>
                    <a:pt x="2097" y="1163"/>
                  </a:lnTo>
                  <a:lnTo>
                    <a:pt x="2088" y="1171"/>
                  </a:lnTo>
                  <a:lnTo>
                    <a:pt x="2081" y="1178"/>
                  </a:lnTo>
                  <a:lnTo>
                    <a:pt x="2084" y="1185"/>
                  </a:lnTo>
                  <a:lnTo>
                    <a:pt x="2094" y="1192"/>
                  </a:lnTo>
                  <a:lnTo>
                    <a:pt x="2105" y="1196"/>
                  </a:lnTo>
                  <a:lnTo>
                    <a:pt x="2116" y="1200"/>
                  </a:lnTo>
                  <a:lnTo>
                    <a:pt x="2127" y="1205"/>
                  </a:lnTo>
                  <a:lnTo>
                    <a:pt x="2139" y="1211"/>
                  </a:lnTo>
                  <a:lnTo>
                    <a:pt x="2148" y="1216"/>
                  </a:lnTo>
                  <a:lnTo>
                    <a:pt x="2159" y="1222"/>
                  </a:lnTo>
                  <a:lnTo>
                    <a:pt x="2169" y="1228"/>
                  </a:lnTo>
                  <a:lnTo>
                    <a:pt x="2179" y="1234"/>
                  </a:lnTo>
                  <a:lnTo>
                    <a:pt x="2189" y="1240"/>
                  </a:lnTo>
                  <a:lnTo>
                    <a:pt x="2199" y="1246"/>
                  </a:lnTo>
                  <a:lnTo>
                    <a:pt x="2208" y="1253"/>
                  </a:lnTo>
                  <a:lnTo>
                    <a:pt x="2214" y="1262"/>
                  </a:lnTo>
                  <a:lnTo>
                    <a:pt x="2220" y="1270"/>
                  </a:lnTo>
                  <a:lnTo>
                    <a:pt x="2225" y="1279"/>
                  </a:lnTo>
                  <a:lnTo>
                    <a:pt x="2229" y="1288"/>
                  </a:lnTo>
                  <a:lnTo>
                    <a:pt x="2235" y="1295"/>
                  </a:lnTo>
                  <a:lnTo>
                    <a:pt x="2235" y="1305"/>
                  </a:lnTo>
                  <a:lnTo>
                    <a:pt x="2248" y="1306"/>
                  </a:lnTo>
                  <a:lnTo>
                    <a:pt x="2259" y="1311"/>
                  </a:lnTo>
                  <a:lnTo>
                    <a:pt x="2269" y="1317"/>
                  </a:lnTo>
                  <a:lnTo>
                    <a:pt x="2278" y="1324"/>
                  </a:lnTo>
                  <a:lnTo>
                    <a:pt x="2287" y="1331"/>
                  </a:lnTo>
                  <a:lnTo>
                    <a:pt x="2296" y="1337"/>
                  </a:lnTo>
                  <a:lnTo>
                    <a:pt x="2308" y="1342"/>
                  </a:lnTo>
                  <a:lnTo>
                    <a:pt x="2319" y="1346"/>
                  </a:lnTo>
                  <a:lnTo>
                    <a:pt x="2331" y="1350"/>
                  </a:lnTo>
                  <a:lnTo>
                    <a:pt x="2343" y="1354"/>
                  </a:lnTo>
                  <a:lnTo>
                    <a:pt x="2352" y="1361"/>
                  </a:lnTo>
                  <a:lnTo>
                    <a:pt x="2362" y="1366"/>
                  </a:lnTo>
                  <a:lnTo>
                    <a:pt x="2372" y="1372"/>
                  </a:lnTo>
                  <a:lnTo>
                    <a:pt x="2383" y="1378"/>
                  </a:lnTo>
                  <a:lnTo>
                    <a:pt x="2393" y="1383"/>
                  </a:lnTo>
                  <a:lnTo>
                    <a:pt x="2404" y="1389"/>
                  </a:lnTo>
                  <a:lnTo>
                    <a:pt x="2414" y="1390"/>
                  </a:lnTo>
                  <a:lnTo>
                    <a:pt x="2425" y="1395"/>
                  </a:lnTo>
                  <a:lnTo>
                    <a:pt x="2436" y="1400"/>
                  </a:lnTo>
                  <a:lnTo>
                    <a:pt x="2447" y="1405"/>
                  </a:lnTo>
                  <a:lnTo>
                    <a:pt x="2460" y="1408"/>
                  </a:lnTo>
                  <a:lnTo>
                    <a:pt x="2471" y="1412"/>
                  </a:lnTo>
                  <a:lnTo>
                    <a:pt x="2482" y="1416"/>
                  </a:lnTo>
                  <a:lnTo>
                    <a:pt x="2495" y="1421"/>
                  </a:lnTo>
                  <a:lnTo>
                    <a:pt x="2506" y="1425"/>
                  </a:lnTo>
                  <a:lnTo>
                    <a:pt x="2517" y="1430"/>
                  </a:lnTo>
                  <a:lnTo>
                    <a:pt x="2529" y="1443"/>
                  </a:lnTo>
                  <a:lnTo>
                    <a:pt x="2533" y="1452"/>
                  </a:lnTo>
                  <a:lnTo>
                    <a:pt x="2551" y="1465"/>
                  </a:lnTo>
                  <a:lnTo>
                    <a:pt x="2559" y="1472"/>
                  </a:lnTo>
                  <a:lnTo>
                    <a:pt x="2562" y="1480"/>
                  </a:lnTo>
                  <a:lnTo>
                    <a:pt x="2559" y="1490"/>
                  </a:lnTo>
                  <a:lnTo>
                    <a:pt x="2559" y="1499"/>
                  </a:lnTo>
                  <a:lnTo>
                    <a:pt x="2563" y="1508"/>
                  </a:lnTo>
                  <a:lnTo>
                    <a:pt x="2572" y="1515"/>
                  </a:lnTo>
                  <a:lnTo>
                    <a:pt x="2579" y="1523"/>
                  </a:lnTo>
                  <a:lnTo>
                    <a:pt x="2584" y="1531"/>
                  </a:lnTo>
                  <a:lnTo>
                    <a:pt x="2591" y="1539"/>
                  </a:lnTo>
                  <a:lnTo>
                    <a:pt x="2597" y="1547"/>
                  </a:lnTo>
                  <a:lnTo>
                    <a:pt x="2605" y="1554"/>
                  </a:lnTo>
                  <a:lnTo>
                    <a:pt x="2615" y="1560"/>
                  </a:lnTo>
                  <a:lnTo>
                    <a:pt x="2612" y="1569"/>
                  </a:lnTo>
                  <a:lnTo>
                    <a:pt x="2608" y="1578"/>
                  </a:lnTo>
                  <a:lnTo>
                    <a:pt x="2601" y="1586"/>
                  </a:lnTo>
                  <a:lnTo>
                    <a:pt x="2594" y="1594"/>
                  </a:lnTo>
                  <a:lnTo>
                    <a:pt x="2589" y="1602"/>
                  </a:lnTo>
                  <a:lnTo>
                    <a:pt x="2584" y="1611"/>
                  </a:lnTo>
                  <a:lnTo>
                    <a:pt x="2579" y="1620"/>
                  </a:lnTo>
                  <a:lnTo>
                    <a:pt x="2575" y="1629"/>
                  </a:lnTo>
                  <a:lnTo>
                    <a:pt x="2569" y="1639"/>
                  </a:lnTo>
                  <a:lnTo>
                    <a:pt x="2565" y="1648"/>
                  </a:lnTo>
                  <a:lnTo>
                    <a:pt x="2561" y="1656"/>
                  </a:lnTo>
                  <a:lnTo>
                    <a:pt x="2558" y="1664"/>
                  </a:lnTo>
                  <a:lnTo>
                    <a:pt x="2565" y="1668"/>
                  </a:lnTo>
                  <a:lnTo>
                    <a:pt x="2580" y="1669"/>
                  </a:lnTo>
                  <a:lnTo>
                    <a:pt x="2591" y="1673"/>
                  </a:lnTo>
                  <a:lnTo>
                    <a:pt x="2604" y="1676"/>
                  </a:lnTo>
                  <a:lnTo>
                    <a:pt x="2617" y="1679"/>
                  </a:lnTo>
                  <a:lnTo>
                    <a:pt x="2629" y="1682"/>
                  </a:lnTo>
                  <a:lnTo>
                    <a:pt x="2642" y="1685"/>
                  </a:lnTo>
                  <a:lnTo>
                    <a:pt x="2654" y="1688"/>
                  </a:lnTo>
                  <a:lnTo>
                    <a:pt x="2666" y="1692"/>
                  </a:lnTo>
                  <a:lnTo>
                    <a:pt x="2675" y="1698"/>
                  </a:lnTo>
                  <a:lnTo>
                    <a:pt x="2685" y="1704"/>
                  </a:lnTo>
                  <a:lnTo>
                    <a:pt x="2695" y="1711"/>
                  </a:lnTo>
                  <a:lnTo>
                    <a:pt x="2703" y="1718"/>
                  </a:lnTo>
                  <a:lnTo>
                    <a:pt x="2713" y="1725"/>
                  </a:lnTo>
                  <a:lnTo>
                    <a:pt x="2726" y="1728"/>
                  </a:lnTo>
                  <a:lnTo>
                    <a:pt x="2738" y="1731"/>
                  </a:lnTo>
                  <a:lnTo>
                    <a:pt x="2744" y="1738"/>
                  </a:lnTo>
                  <a:lnTo>
                    <a:pt x="2742" y="1749"/>
                  </a:lnTo>
                  <a:lnTo>
                    <a:pt x="2748" y="1756"/>
                  </a:lnTo>
                  <a:lnTo>
                    <a:pt x="2755" y="1763"/>
                  </a:lnTo>
                  <a:lnTo>
                    <a:pt x="2758" y="1772"/>
                  </a:lnTo>
                  <a:lnTo>
                    <a:pt x="2765" y="1780"/>
                  </a:lnTo>
                  <a:lnTo>
                    <a:pt x="2769" y="1789"/>
                  </a:lnTo>
                  <a:lnTo>
                    <a:pt x="2773" y="1797"/>
                  </a:lnTo>
                  <a:lnTo>
                    <a:pt x="2779" y="1807"/>
                  </a:lnTo>
                  <a:lnTo>
                    <a:pt x="2777" y="1815"/>
                  </a:lnTo>
                  <a:lnTo>
                    <a:pt x="2772" y="1824"/>
                  </a:lnTo>
                  <a:lnTo>
                    <a:pt x="2765" y="1832"/>
                  </a:lnTo>
                  <a:lnTo>
                    <a:pt x="2758" y="1840"/>
                  </a:lnTo>
                  <a:lnTo>
                    <a:pt x="2749" y="1847"/>
                  </a:lnTo>
                  <a:lnTo>
                    <a:pt x="2741" y="1854"/>
                  </a:lnTo>
                  <a:lnTo>
                    <a:pt x="2733" y="1861"/>
                  </a:lnTo>
                  <a:lnTo>
                    <a:pt x="2723" y="1867"/>
                  </a:lnTo>
                  <a:lnTo>
                    <a:pt x="2716" y="1875"/>
                  </a:lnTo>
                  <a:lnTo>
                    <a:pt x="2706" y="1881"/>
                  </a:lnTo>
                  <a:lnTo>
                    <a:pt x="2696" y="1888"/>
                  </a:lnTo>
                  <a:lnTo>
                    <a:pt x="2696" y="1897"/>
                  </a:lnTo>
                  <a:lnTo>
                    <a:pt x="2692" y="1906"/>
                  </a:lnTo>
                  <a:lnTo>
                    <a:pt x="2688" y="1915"/>
                  </a:lnTo>
                  <a:lnTo>
                    <a:pt x="2684" y="1924"/>
                  </a:lnTo>
                  <a:lnTo>
                    <a:pt x="2681" y="1932"/>
                  </a:lnTo>
                  <a:lnTo>
                    <a:pt x="2686" y="1940"/>
                  </a:lnTo>
                  <a:lnTo>
                    <a:pt x="2695" y="1948"/>
                  </a:lnTo>
                  <a:lnTo>
                    <a:pt x="2702" y="1957"/>
                  </a:lnTo>
                  <a:lnTo>
                    <a:pt x="2706" y="1965"/>
                  </a:lnTo>
                  <a:lnTo>
                    <a:pt x="2693" y="1969"/>
                  </a:lnTo>
                  <a:lnTo>
                    <a:pt x="2699" y="1976"/>
                  </a:lnTo>
                  <a:lnTo>
                    <a:pt x="2709" y="1983"/>
                  </a:lnTo>
                  <a:lnTo>
                    <a:pt x="2717" y="1991"/>
                  </a:lnTo>
                  <a:lnTo>
                    <a:pt x="2719" y="2000"/>
                  </a:lnTo>
                  <a:lnTo>
                    <a:pt x="2726" y="2008"/>
                  </a:lnTo>
                  <a:lnTo>
                    <a:pt x="2735" y="2014"/>
                  </a:lnTo>
                  <a:lnTo>
                    <a:pt x="2741" y="2022"/>
                  </a:lnTo>
                  <a:lnTo>
                    <a:pt x="2745" y="2031"/>
                  </a:lnTo>
                  <a:lnTo>
                    <a:pt x="2749" y="2040"/>
                  </a:lnTo>
                  <a:lnTo>
                    <a:pt x="2752" y="2049"/>
                  </a:lnTo>
                  <a:lnTo>
                    <a:pt x="2756" y="2062"/>
                  </a:lnTo>
                  <a:lnTo>
                    <a:pt x="2759" y="2071"/>
                  </a:lnTo>
                  <a:lnTo>
                    <a:pt x="2762" y="2081"/>
                  </a:lnTo>
                  <a:lnTo>
                    <a:pt x="2766" y="2089"/>
                  </a:lnTo>
                  <a:lnTo>
                    <a:pt x="2772" y="2097"/>
                  </a:lnTo>
                  <a:lnTo>
                    <a:pt x="2783" y="2101"/>
                  </a:lnTo>
                  <a:lnTo>
                    <a:pt x="2797" y="2103"/>
                  </a:lnTo>
                  <a:lnTo>
                    <a:pt x="2808" y="2107"/>
                  </a:lnTo>
                  <a:lnTo>
                    <a:pt x="2815" y="2116"/>
                  </a:lnTo>
                  <a:lnTo>
                    <a:pt x="2815" y="2124"/>
                  </a:lnTo>
                  <a:lnTo>
                    <a:pt x="2810" y="2133"/>
                  </a:lnTo>
                  <a:lnTo>
                    <a:pt x="2803" y="2141"/>
                  </a:lnTo>
                  <a:lnTo>
                    <a:pt x="2797" y="2150"/>
                  </a:lnTo>
                  <a:lnTo>
                    <a:pt x="2791" y="2158"/>
                  </a:lnTo>
                  <a:lnTo>
                    <a:pt x="2786" y="2167"/>
                  </a:lnTo>
                  <a:lnTo>
                    <a:pt x="2779" y="2176"/>
                  </a:lnTo>
                  <a:lnTo>
                    <a:pt x="2763" y="2169"/>
                  </a:lnTo>
                  <a:lnTo>
                    <a:pt x="2754" y="2163"/>
                  </a:lnTo>
                  <a:lnTo>
                    <a:pt x="2742" y="2157"/>
                  </a:lnTo>
                  <a:lnTo>
                    <a:pt x="2731" y="2152"/>
                  </a:lnTo>
                  <a:lnTo>
                    <a:pt x="2720" y="2156"/>
                  </a:lnTo>
                  <a:lnTo>
                    <a:pt x="2710" y="2162"/>
                  </a:lnTo>
                  <a:lnTo>
                    <a:pt x="2698" y="2165"/>
                  </a:lnTo>
                  <a:lnTo>
                    <a:pt x="2685" y="2167"/>
                  </a:lnTo>
                  <a:lnTo>
                    <a:pt x="2673" y="2169"/>
                  </a:lnTo>
                  <a:lnTo>
                    <a:pt x="2660" y="2171"/>
                  </a:lnTo>
                  <a:lnTo>
                    <a:pt x="2647" y="2175"/>
                  </a:lnTo>
                  <a:lnTo>
                    <a:pt x="2635" y="2179"/>
                  </a:lnTo>
                  <a:lnTo>
                    <a:pt x="2622" y="2182"/>
                  </a:lnTo>
                  <a:lnTo>
                    <a:pt x="2611" y="2186"/>
                  </a:lnTo>
                  <a:lnTo>
                    <a:pt x="2600" y="2191"/>
                  </a:lnTo>
                  <a:lnTo>
                    <a:pt x="2589" y="2196"/>
                  </a:lnTo>
                  <a:lnTo>
                    <a:pt x="2579" y="2203"/>
                  </a:lnTo>
                  <a:lnTo>
                    <a:pt x="2570" y="2210"/>
                  </a:lnTo>
                  <a:lnTo>
                    <a:pt x="2562" y="2218"/>
                  </a:lnTo>
                  <a:lnTo>
                    <a:pt x="2556" y="2226"/>
                  </a:lnTo>
                  <a:lnTo>
                    <a:pt x="2555" y="2235"/>
                  </a:lnTo>
                  <a:lnTo>
                    <a:pt x="2556" y="2246"/>
                  </a:lnTo>
                  <a:lnTo>
                    <a:pt x="2559" y="2256"/>
                  </a:lnTo>
                  <a:lnTo>
                    <a:pt x="2561" y="2265"/>
                  </a:lnTo>
                  <a:lnTo>
                    <a:pt x="2556" y="2268"/>
                  </a:lnTo>
                  <a:lnTo>
                    <a:pt x="2543" y="2264"/>
                  </a:lnTo>
                  <a:lnTo>
                    <a:pt x="2529" y="2259"/>
                  </a:lnTo>
                  <a:lnTo>
                    <a:pt x="2516" y="2256"/>
                  </a:lnTo>
                  <a:lnTo>
                    <a:pt x="2505" y="2252"/>
                  </a:lnTo>
                  <a:lnTo>
                    <a:pt x="2492" y="2250"/>
                  </a:lnTo>
                  <a:lnTo>
                    <a:pt x="2480" y="2250"/>
                  </a:lnTo>
                  <a:lnTo>
                    <a:pt x="2466" y="2250"/>
                  </a:lnTo>
                  <a:lnTo>
                    <a:pt x="2453" y="2247"/>
                  </a:lnTo>
                  <a:lnTo>
                    <a:pt x="2442" y="2242"/>
                  </a:lnTo>
                  <a:lnTo>
                    <a:pt x="2432" y="2237"/>
                  </a:lnTo>
                  <a:lnTo>
                    <a:pt x="2419" y="2235"/>
                  </a:lnTo>
                  <a:lnTo>
                    <a:pt x="2407" y="2230"/>
                  </a:lnTo>
                  <a:lnTo>
                    <a:pt x="2397" y="2224"/>
                  </a:lnTo>
                  <a:lnTo>
                    <a:pt x="2386" y="2218"/>
                  </a:lnTo>
                  <a:lnTo>
                    <a:pt x="2375" y="2210"/>
                  </a:lnTo>
                  <a:lnTo>
                    <a:pt x="2364" y="2203"/>
                  </a:lnTo>
                  <a:lnTo>
                    <a:pt x="2354" y="2200"/>
                  </a:lnTo>
                  <a:lnTo>
                    <a:pt x="2345" y="2202"/>
                  </a:lnTo>
                  <a:lnTo>
                    <a:pt x="2338" y="2208"/>
                  </a:lnTo>
                  <a:lnTo>
                    <a:pt x="2333" y="2216"/>
                  </a:lnTo>
                  <a:lnTo>
                    <a:pt x="2329" y="2226"/>
                  </a:lnTo>
                  <a:lnTo>
                    <a:pt x="2323" y="2237"/>
                  </a:lnTo>
                  <a:lnTo>
                    <a:pt x="2319" y="2246"/>
                  </a:lnTo>
                  <a:lnTo>
                    <a:pt x="2316" y="2255"/>
                  </a:lnTo>
                  <a:lnTo>
                    <a:pt x="2310" y="2263"/>
                  </a:lnTo>
                  <a:lnTo>
                    <a:pt x="2306" y="2272"/>
                  </a:lnTo>
                  <a:lnTo>
                    <a:pt x="2301" y="2280"/>
                  </a:lnTo>
                  <a:lnTo>
                    <a:pt x="2295" y="2289"/>
                  </a:lnTo>
                  <a:lnTo>
                    <a:pt x="2288" y="2297"/>
                  </a:lnTo>
                  <a:lnTo>
                    <a:pt x="2282" y="2306"/>
                  </a:lnTo>
                  <a:lnTo>
                    <a:pt x="2273" y="2310"/>
                  </a:lnTo>
                  <a:lnTo>
                    <a:pt x="2259" y="2311"/>
                  </a:lnTo>
                  <a:lnTo>
                    <a:pt x="2246" y="2307"/>
                  </a:lnTo>
                  <a:lnTo>
                    <a:pt x="2235" y="2301"/>
                  </a:lnTo>
                  <a:lnTo>
                    <a:pt x="2224" y="2295"/>
                  </a:lnTo>
                  <a:lnTo>
                    <a:pt x="2213" y="2290"/>
                  </a:lnTo>
                  <a:lnTo>
                    <a:pt x="2201" y="2287"/>
                  </a:lnTo>
                  <a:lnTo>
                    <a:pt x="2190" y="2290"/>
                  </a:lnTo>
                  <a:lnTo>
                    <a:pt x="2178" y="2296"/>
                  </a:lnTo>
                  <a:lnTo>
                    <a:pt x="2166" y="2301"/>
                  </a:lnTo>
                  <a:lnTo>
                    <a:pt x="2155" y="2300"/>
                  </a:lnTo>
                  <a:lnTo>
                    <a:pt x="2144" y="2296"/>
                  </a:lnTo>
                  <a:lnTo>
                    <a:pt x="2133" y="2292"/>
                  </a:lnTo>
                  <a:lnTo>
                    <a:pt x="2123" y="2286"/>
                  </a:lnTo>
                  <a:lnTo>
                    <a:pt x="2113" y="2280"/>
                  </a:lnTo>
                  <a:lnTo>
                    <a:pt x="2102" y="2274"/>
                  </a:lnTo>
                  <a:lnTo>
                    <a:pt x="2092" y="2268"/>
                  </a:lnTo>
                  <a:lnTo>
                    <a:pt x="2083" y="2261"/>
                  </a:lnTo>
                  <a:lnTo>
                    <a:pt x="2071" y="2255"/>
                  </a:lnTo>
                  <a:lnTo>
                    <a:pt x="2062" y="2249"/>
                  </a:lnTo>
                  <a:lnTo>
                    <a:pt x="2050" y="2243"/>
                  </a:lnTo>
                  <a:lnTo>
                    <a:pt x="2039" y="2238"/>
                  </a:lnTo>
                  <a:lnTo>
                    <a:pt x="2028" y="2234"/>
                  </a:lnTo>
                  <a:lnTo>
                    <a:pt x="2017" y="2229"/>
                  </a:lnTo>
                  <a:lnTo>
                    <a:pt x="2006" y="2224"/>
                  </a:lnTo>
                  <a:lnTo>
                    <a:pt x="1995" y="2219"/>
                  </a:lnTo>
                  <a:lnTo>
                    <a:pt x="1985" y="2214"/>
                  </a:lnTo>
                  <a:lnTo>
                    <a:pt x="1974" y="2208"/>
                  </a:lnTo>
                  <a:lnTo>
                    <a:pt x="1964" y="2202"/>
                  </a:lnTo>
                  <a:lnTo>
                    <a:pt x="1955" y="2195"/>
                  </a:lnTo>
                  <a:lnTo>
                    <a:pt x="1947" y="2188"/>
                  </a:lnTo>
                  <a:lnTo>
                    <a:pt x="1939" y="2181"/>
                  </a:lnTo>
                  <a:lnTo>
                    <a:pt x="1932" y="2172"/>
                  </a:lnTo>
                  <a:lnTo>
                    <a:pt x="1923" y="2165"/>
                  </a:lnTo>
                  <a:lnTo>
                    <a:pt x="1915" y="2157"/>
                  </a:lnTo>
                  <a:lnTo>
                    <a:pt x="1908" y="2150"/>
                  </a:lnTo>
                  <a:lnTo>
                    <a:pt x="1899" y="2143"/>
                  </a:lnTo>
                  <a:lnTo>
                    <a:pt x="1891" y="2135"/>
                  </a:lnTo>
                  <a:lnTo>
                    <a:pt x="1883" y="2128"/>
                  </a:lnTo>
                  <a:lnTo>
                    <a:pt x="1874" y="2121"/>
                  </a:lnTo>
                  <a:lnTo>
                    <a:pt x="1869" y="2113"/>
                  </a:lnTo>
                  <a:lnTo>
                    <a:pt x="1865" y="2104"/>
                  </a:lnTo>
                  <a:lnTo>
                    <a:pt x="1862" y="2095"/>
                  </a:lnTo>
                  <a:lnTo>
                    <a:pt x="1859" y="2085"/>
                  </a:lnTo>
                  <a:lnTo>
                    <a:pt x="1856" y="2076"/>
                  </a:lnTo>
                  <a:lnTo>
                    <a:pt x="1852" y="2067"/>
                  </a:lnTo>
                  <a:lnTo>
                    <a:pt x="1849" y="2058"/>
                  </a:lnTo>
                  <a:lnTo>
                    <a:pt x="1846" y="2049"/>
                  </a:lnTo>
                  <a:lnTo>
                    <a:pt x="1842" y="2040"/>
                  </a:lnTo>
                  <a:lnTo>
                    <a:pt x="1839" y="2031"/>
                  </a:lnTo>
                  <a:lnTo>
                    <a:pt x="1834" y="2023"/>
                  </a:lnTo>
                  <a:lnTo>
                    <a:pt x="1828" y="2015"/>
                  </a:lnTo>
                  <a:lnTo>
                    <a:pt x="1823" y="2006"/>
                  </a:lnTo>
                  <a:lnTo>
                    <a:pt x="1816" y="1998"/>
                  </a:lnTo>
                  <a:lnTo>
                    <a:pt x="1810" y="1990"/>
                  </a:lnTo>
                  <a:lnTo>
                    <a:pt x="1803" y="1982"/>
                  </a:lnTo>
                  <a:lnTo>
                    <a:pt x="1796" y="1974"/>
                  </a:lnTo>
                  <a:lnTo>
                    <a:pt x="1790" y="1964"/>
                  </a:lnTo>
                  <a:lnTo>
                    <a:pt x="1783" y="1955"/>
                  </a:lnTo>
                  <a:lnTo>
                    <a:pt x="1776" y="1947"/>
                  </a:lnTo>
                  <a:lnTo>
                    <a:pt x="1768" y="1945"/>
                  </a:lnTo>
                  <a:lnTo>
                    <a:pt x="1761" y="1952"/>
                  </a:lnTo>
                  <a:lnTo>
                    <a:pt x="1753" y="1962"/>
                  </a:lnTo>
                  <a:lnTo>
                    <a:pt x="1743" y="1968"/>
                  </a:lnTo>
                  <a:lnTo>
                    <a:pt x="1732" y="1973"/>
                  </a:lnTo>
                  <a:lnTo>
                    <a:pt x="1719" y="1975"/>
                  </a:lnTo>
                  <a:lnTo>
                    <a:pt x="1708" y="1972"/>
                  </a:lnTo>
                  <a:lnTo>
                    <a:pt x="1694" y="1971"/>
                  </a:lnTo>
                  <a:lnTo>
                    <a:pt x="1681" y="1969"/>
                  </a:lnTo>
                  <a:lnTo>
                    <a:pt x="1669" y="1967"/>
                  </a:lnTo>
                  <a:lnTo>
                    <a:pt x="1656" y="1964"/>
                  </a:lnTo>
                  <a:lnTo>
                    <a:pt x="1644" y="1959"/>
                  </a:lnTo>
                  <a:lnTo>
                    <a:pt x="1631" y="1954"/>
                  </a:lnTo>
                  <a:lnTo>
                    <a:pt x="1618" y="1951"/>
                  </a:lnTo>
                  <a:lnTo>
                    <a:pt x="1609" y="1950"/>
                  </a:lnTo>
                  <a:lnTo>
                    <a:pt x="1605" y="1957"/>
                  </a:lnTo>
                  <a:lnTo>
                    <a:pt x="1602" y="1968"/>
                  </a:lnTo>
                  <a:lnTo>
                    <a:pt x="1598" y="1977"/>
                  </a:lnTo>
                  <a:lnTo>
                    <a:pt x="1592" y="1986"/>
                  </a:lnTo>
                  <a:lnTo>
                    <a:pt x="1586" y="1994"/>
                  </a:lnTo>
                  <a:lnTo>
                    <a:pt x="1584" y="2003"/>
                  </a:lnTo>
                  <a:lnTo>
                    <a:pt x="1581" y="2013"/>
                  </a:lnTo>
                  <a:lnTo>
                    <a:pt x="1579" y="2022"/>
                  </a:lnTo>
                  <a:lnTo>
                    <a:pt x="1578" y="2031"/>
                  </a:lnTo>
                  <a:lnTo>
                    <a:pt x="1575" y="2040"/>
                  </a:lnTo>
                  <a:lnTo>
                    <a:pt x="1571" y="2049"/>
                  </a:lnTo>
                  <a:lnTo>
                    <a:pt x="1565" y="2061"/>
                  </a:lnTo>
                  <a:lnTo>
                    <a:pt x="1560" y="2070"/>
                  </a:lnTo>
                  <a:lnTo>
                    <a:pt x="1554" y="2078"/>
                  </a:lnTo>
                  <a:lnTo>
                    <a:pt x="1549" y="2086"/>
                  </a:lnTo>
                  <a:lnTo>
                    <a:pt x="1536" y="2086"/>
                  </a:lnTo>
                  <a:lnTo>
                    <a:pt x="1523" y="2087"/>
                  </a:lnTo>
                  <a:lnTo>
                    <a:pt x="1511" y="2084"/>
                  </a:lnTo>
                  <a:lnTo>
                    <a:pt x="1498" y="2081"/>
                  </a:lnTo>
                  <a:lnTo>
                    <a:pt x="1486" y="2078"/>
                  </a:lnTo>
                  <a:lnTo>
                    <a:pt x="1474" y="2074"/>
                  </a:lnTo>
                  <a:lnTo>
                    <a:pt x="1463" y="2066"/>
                  </a:lnTo>
                  <a:lnTo>
                    <a:pt x="1454" y="2069"/>
                  </a:lnTo>
                  <a:lnTo>
                    <a:pt x="1444" y="2074"/>
                  </a:lnTo>
                  <a:lnTo>
                    <a:pt x="1434" y="2080"/>
                  </a:lnTo>
                  <a:lnTo>
                    <a:pt x="1424" y="2086"/>
                  </a:lnTo>
                  <a:lnTo>
                    <a:pt x="1414" y="2092"/>
                  </a:lnTo>
                  <a:lnTo>
                    <a:pt x="1405" y="2099"/>
                  </a:lnTo>
                  <a:lnTo>
                    <a:pt x="1395" y="2105"/>
                  </a:lnTo>
                  <a:lnTo>
                    <a:pt x="1385" y="2112"/>
                  </a:lnTo>
                  <a:lnTo>
                    <a:pt x="1374" y="2118"/>
                  </a:lnTo>
                  <a:lnTo>
                    <a:pt x="1364" y="2124"/>
                  </a:lnTo>
                  <a:lnTo>
                    <a:pt x="1354" y="2129"/>
                  </a:lnTo>
                  <a:lnTo>
                    <a:pt x="1342" y="2131"/>
                  </a:lnTo>
                  <a:lnTo>
                    <a:pt x="1328" y="2132"/>
                  </a:lnTo>
                  <a:lnTo>
                    <a:pt x="1315" y="2134"/>
                  </a:lnTo>
                  <a:lnTo>
                    <a:pt x="1303" y="2136"/>
                  </a:lnTo>
                  <a:lnTo>
                    <a:pt x="1290" y="2138"/>
                  </a:lnTo>
                  <a:lnTo>
                    <a:pt x="1277" y="2141"/>
                  </a:lnTo>
                  <a:lnTo>
                    <a:pt x="1259" y="2150"/>
                  </a:lnTo>
                  <a:lnTo>
                    <a:pt x="1252" y="2159"/>
                  </a:lnTo>
                  <a:lnTo>
                    <a:pt x="1249" y="2169"/>
                  </a:lnTo>
                  <a:lnTo>
                    <a:pt x="1242" y="2171"/>
                  </a:lnTo>
                  <a:lnTo>
                    <a:pt x="1234" y="2165"/>
                  </a:lnTo>
                  <a:lnTo>
                    <a:pt x="1224" y="2157"/>
                  </a:lnTo>
                  <a:lnTo>
                    <a:pt x="1216" y="2148"/>
                  </a:lnTo>
                  <a:lnTo>
                    <a:pt x="1209" y="2140"/>
                  </a:lnTo>
                  <a:lnTo>
                    <a:pt x="1202" y="2132"/>
                  </a:lnTo>
                  <a:lnTo>
                    <a:pt x="1194" y="2125"/>
                  </a:lnTo>
                  <a:lnTo>
                    <a:pt x="1195" y="2116"/>
                  </a:lnTo>
                  <a:lnTo>
                    <a:pt x="1201" y="2108"/>
                  </a:lnTo>
                  <a:lnTo>
                    <a:pt x="1207" y="2099"/>
                  </a:lnTo>
                  <a:lnTo>
                    <a:pt x="1213" y="2091"/>
                  </a:lnTo>
                  <a:lnTo>
                    <a:pt x="1219" y="2083"/>
                  </a:lnTo>
                  <a:lnTo>
                    <a:pt x="1224" y="2074"/>
                  </a:lnTo>
                  <a:lnTo>
                    <a:pt x="1228" y="2065"/>
                  </a:lnTo>
                  <a:lnTo>
                    <a:pt x="1234" y="2057"/>
                  </a:lnTo>
                  <a:lnTo>
                    <a:pt x="1242" y="2049"/>
                  </a:lnTo>
                  <a:lnTo>
                    <a:pt x="1249" y="2042"/>
                  </a:lnTo>
                  <a:lnTo>
                    <a:pt x="1261" y="2039"/>
                  </a:lnTo>
                  <a:lnTo>
                    <a:pt x="1263" y="2030"/>
                  </a:lnTo>
                  <a:lnTo>
                    <a:pt x="1277" y="2026"/>
                  </a:lnTo>
                  <a:lnTo>
                    <a:pt x="1294" y="2012"/>
                  </a:lnTo>
                  <a:lnTo>
                    <a:pt x="1297" y="2004"/>
                  </a:lnTo>
                  <a:lnTo>
                    <a:pt x="1289" y="1997"/>
                  </a:lnTo>
                  <a:lnTo>
                    <a:pt x="1277" y="1991"/>
                  </a:lnTo>
                  <a:lnTo>
                    <a:pt x="1265" y="1979"/>
                  </a:lnTo>
                  <a:lnTo>
                    <a:pt x="1256" y="1971"/>
                  </a:lnTo>
                  <a:lnTo>
                    <a:pt x="1248" y="1964"/>
                  </a:lnTo>
                  <a:lnTo>
                    <a:pt x="1240" y="1957"/>
                  </a:lnTo>
                  <a:lnTo>
                    <a:pt x="1230" y="1951"/>
                  </a:lnTo>
                  <a:lnTo>
                    <a:pt x="1219" y="1946"/>
                  </a:lnTo>
                  <a:lnTo>
                    <a:pt x="1206" y="1943"/>
                  </a:lnTo>
                  <a:lnTo>
                    <a:pt x="1195" y="1939"/>
                  </a:lnTo>
                  <a:lnTo>
                    <a:pt x="1182" y="1936"/>
                  </a:lnTo>
                  <a:lnTo>
                    <a:pt x="1170" y="1934"/>
                  </a:lnTo>
                  <a:lnTo>
                    <a:pt x="1157" y="1931"/>
                  </a:lnTo>
                  <a:lnTo>
                    <a:pt x="1146" y="1926"/>
                  </a:lnTo>
                  <a:lnTo>
                    <a:pt x="1135" y="1923"/>
                  </a:lnTo>
                  <a:lnTo>
                    <a:pt x="1121" y="1921"/>
                  </a:lnTo>
                  <a:lnTo>
                    <a:pt x="1108" y="1922"/>
                  </a:lnTo>
                  <a:lnTo>
                    <a:pt x="1094" y="1922"/>
                  </a:lnTo>
                  <a:lnTo>
                    <a:pt x="1082" y="1925"/>
                  </a:lnTo>
                  <a:lnTo>
                    <a:pt x="1073" y="1931"/>
                  </a:lnTo>
                  <a:lnTo>
                    <a:pt x="1068" y="1939"/>
                  </a:lnTo>
                  <a:lnTo>
                    <a:pt x="1064" y="1948"/>
                  </a:lnTo>
                  <a:lnTo>
                    <a:pt x="1059" y="1958"/>
                  </a:lnTo>
                  <a:lnTo>
                    <a:pt x="1054" y="1966"/>
                  </a:lnTo>
                  <a:lnTo>
                    <a:pt x="1050" y="1975"/>
                  </a:lnTo>
                  <a:lnTo>
                    <a:pt x="1045" y="1984"/>
                  </a:lnTo>
                  <a:lnTo>
                    <a:pt x="1040" y="1993"/>
                  </a:lnTo>
                  <a:lnTo>
                    <a:pt x="1034" y="2001"/>
                  </a:lnTo>
                  <a:lnTo>
                    <a:pt x="1029" y="2010"/>
                  </a:lnTo>
                  <a:lnTo>
                    <a:pt x="1022" y="2017"/>
                  </a:lnTo>
                  <a:lnTo>
                    <a:pt x="1019" y="2008"/>
                  </a:lnTo>
                  <a:lnTo>
                    <a:pt x="1012" y="1999"/>
                  </a:lnTo>
                  <a:lnTo>
                    <a:pt x="1001" y="1998"/>
                  </a:lnTo>
                  <a:lnTo>
                    <a:pt x="987" y="1998"/>
                  </a:lnTo>
                  <a:lnTo>
                    <a:pt x="974" y="1999"/>
                  </a:lnTo>
                  <a:lnTo>
                    <a:pt x="960" y="2000"/>
                  </a:lnTo>
                  <a:lnTo>
                    <a:pt x="946" y="2001"/>
                  </a:lnTo>
                  <a:lnTo>
                    <a:pt x="933" y="2001"/>
                  </a:lnTo>
                  <a:lnTo>
                    <a:pt x="924" y="2007"/>
                  </a:lnTo>
                  <a:lnTo>
                    <a:pt x="914" y="2013"/>
                  </a:lnTo>
                  <a:lnTo>
                    <a:pt x="903" y="2018"/>
                  </a:lnTo>
                  <a:lnTo>
                    <a:pt x="893" y="2024"/>
                  </a:lnTo>
                  <a:lnTo>
                    <a:pt x="887" y="2032"/>
                  </a:lnTo>
                  <a:lnTo>
                    <a:pt x="882" y="2041"/>
                  </a:lnTo>
                  <a:lnTo>
                    <a:pt x="876" y="2049"/>
                  </a:lnTo>
                  <a:lnTo>
                    <a:pt x="851" y="2055"/>
                  </a:lnTo>
                  <a:lnTo>
                    <a:pt x="838" y="2057"/>
                  </a:lnTo>
                  <a:lnTo>
                    <a:pt x="826" y="2060"/>
                  </a:lnTo>
                  <a:lnTo>
                    <a:pt x="813" y="2063"/>
                  </a:lnTo>
                  <a:lnTo>
                    <a:pt x="806" y="2070"/>
                  </a:lnTo>
                  <a:lnTo>
                    <a:pt x="805" y="2079"/>
                  </a:lnTo>
                  <a:lnTo>
                    <a:pt x="803" y="2088"/>
                  </a:lnTo>
                  <a:lnTo>
                    <a:pt x="801" y="2098"/>
                  </a:lnTo>
                  <a:lnTo>
                    <a:pt x="797" y="2106"/>
                  </a:lnTo>
                  <a:lnTo>
                    <a:pt x="785" y="2111"/>
                  </a:lnTo>
                  <a:lnTo>
                    <a:pt x="773" y="2114"/>
                  </a:lnTo>
                  <a:lnTo>
                    <a:pt x="760" y="2118"/>
                  </a:lnTo>
                  <a:lnTo>
                    <a:pt x="749" y="2122"/>
                  </a:lnTo>
                  <a:lnTo>
                    <a:pt x="742" y="2124"/>
                  </a:lnTo>
                  <a:lnTo>
                    <a:pt x="729" y="2119"/>
                  </a:lnTo>
                  <a:lnTo>
                    <a:pt x="718" y="2115"/>
                  </a:lnTo>
                  <a:lnTo>
                    <a:pt x="707" y="2111"/>
                  </a:lnTo>
                  <a:lnTo>
                    <a:pt x="693" y="2109"/>
                  </a:lnTo>
                  <a:lnTo>
                    <a:pt x="682" y="2106"/>
                  </a:lnTo>
                  <a:lnTo>
                    <a:pt x="669" y="2102"/>
                  </a:lnTo>
                  <a:lnTo>
                    <a:pt x="657" y="2100"/>
                  </a:lnTo>
                  <a:lnTo>
                    <a:pt x="655" y="2090"/>
                  </a:lnTo>
                  <a:lnTo>
                    <a:pt x="646" y="2086"/>
                  </a:lnTo>
                  <a:lnTo>
                    <a:pt x="633" y="2084"/>
                  </a:lnTo>
                  <a:lnTo>
                    <a:pt x="619" y="2083"/>
                  </a:lnTo>
                  <a:lnTo>
                    <a:pt x="606" y="2082"/>
                  </a:lnTo>
                  <a:lnTo>
                    <a:pt x="594" y="2079"/>
                  </a:lnTo>
                  <a:lnTo>
                    <a:pt x="581" y="2077"/>
                  </a:lnTo>
                  <a:lnTo>
                    <a:pt x="569" y="2075"/>
                  </a:lnTo>
                  <a:lnTo>
                    <a:pt x="556" y="2072"/>
                  </a:lnTo>
                  <a:lnTo>
                    <a:pt x="543" y="2070"/>
                  </a:lnTo>
                  <a:lnTo>
                    <a:pt x="531" y="2068"/>
                  </a:lnTo>
                  <a:lnTo>
                    <a:pt x="523" y="2070"/>
                  </a:lnTo>
                  <a:lnTo>
                    <a:pt x="524" y="2079"/>
                  </a:lnTo>
                  <a:lnTo>
                    <a:pt x="531" y="2087"/>
                  </a:lnTo>
                  <a:lnTo>
                    <a:pt x="541" y="2093"/>
                  </a:lnTo>
                  <a:lnTo>
                    <a:pt x="550" y="2100"/>
                  </a:lnTo>
                  <a:lnTo>
                    <a:pt x="559" y="2106"/>
                  </a:lnTo>
                  <a:lnTo>
                    <a:pt x="563" y="2115"/>
                  </a:lnTo>
                  <a:lnTo>
                    <a:pt x="559" y="2124"/>
                  </a:lnTo>
                  <a:lnTo>
                    <a:pt x="553" y="2132"/>
                  </a:lnTo>
                  <a:lnTo>
                    <a:pt x="545" y="2139"/>
                  </a:lnTo>
                  <a:lnTo>
                    <a:pt x="534" y="2125"/>
                  </a:lnTo>
                  <a:lnTo>
                    <a:pt x="527" y="2117"/>
                  </a:lnTo>
                  <a:lnTo>
                    <a:pt x="518" y="2110"/>
                  </a:lnTo>
                  <a:lnTo>
                    <a:pt x="510" y="2103"/>
                  </a:lnTo>
                  <a:lnTo>
                    <a:pt x="502" y="2096"/>
                  </a:lnTo>
                  <a:lnTo>
                    <a:pt x="492" y="2090"/>
                  </a:lnTo>
                  <a:lnTo>
                    <a:pt x="482" y="2084"/>
                  </a:lnTo>
                  <a:lnTo>
                    <a:pt x="471" y="2078"/>
                  </a:lnTo>
                  <a:lnTo>
                    <a:pt x="461" y="2072"/>
                  </a:lnTo>
                  <a:lnTo>
                    <a:pt x="450" y="2067"/>
                  </a:lnTo>
                  <a:lnTo>
                    <a:pt x="440" y="2061"/>
                  </a:lnTo>
                  <a:lnTo>
                    <a:pt x="430" y="2056"/>
                  </a:lnTo>
                  <a:lnTo>
                    <a:pt x="420" y="2049"/>
                  </a:lnTo>
                  <a:lnTo>
                    <a:pt x="408" y="2036"/>
                  </a:lnTo>
                  <a:lnTo>
                    <a:pt x="404" y="2027"/>
                  </a:lnTo>
                  <a:lnTo>
                    <a:pt x="399" y="2018"/>
                  </a:lnTo>
                  <a:lnTo>
                    <a:pt x="397" y="2009"/>
                  </a:lnTo>
                  <a:lnTo>
                    <a:pt x="393" y="2000"/>
                  </a:lnTo>
                  <a:lnTo>
                    <a:pt x="390" y="1991"/>
                  </a:lnTo>
                  <a:lnTo>
                    <a:pt x="387" y="1982"/>
                  </a:lnTo>
                  <a:lnTo>
                    <a:pt x="384" y="1973"/>
                  </a:lnTo>
                  <a:lnTo>
                    <a:pt x="383" y="1964"/>
                  </a:lnTo>
                  <a:lnTo>
                    <a:pt x="380" y="1955"/>
                  </a:lnTo>
                  <a:lnTo>
                    <a:pt x="379" y="1945"/>
                  </a:lnTo>
                  <a:lnTo>
                    <a:pt x="377" y="1936"/>
                  </a:lnTo>
                  <a:lnTo>
                    <a:pt x="374" y="1927"/>
                  </a:lnTo>
                  <a:lnTo>
                    <a:pt x="370" y="1918"/>
                  </a:lnTo>
                  <a:lnTo>
                    <a:pt x="367" y="1909"/>
                  </a:lnTo>
                  <a:lnTo>
                    <a:pt x="365" y="1900"/>
                  </a:lnTo>
                  <a:lnTo>
                    <a:pt x="362" y="1891"/>
                  </a:lnTo>
                  <a:lnTo>
                    <a:pt x="360" y="1882"/>
                  </a:lnTo>
                  <a:lnTo>
                    <a:pt x="360" y="1872"/>
                  </a:lnTo>
                  <a:lnTo>
                    <a:pt x="360" y="1863"/>
                  </a:lnTo>
                  <a:lnTo>
                    <a:pt x="362" y="1854"/>
                  </a:lnTo>
                  <a:lnTo>
                    <a:pt x="365" y="1844"/>
                  </a:lnTo>
                  <a:lnTo>
                    <a:pt x="366" y="1835"/>
                  </a:lnTo>
                  <a:lnTo>
                    <a:pt x="369" y="1826"/>
                  </a:lnTo>
                  <a:lnTo>
                    <a:pt x="372" y="1817"/>
                  </a:lnTo>
                  <a:lnTo>
                    <a:pt x="373" y="1808"/>
                  </a:lnTo>
                  <a:lnTo>
                    <a:pt x="374" y="1798"/>
                  </a:lnTo>
                  <a:lnTo>
                    <a:pt x="377" y="1789"/>
                  </a:lnTo>
                  <a:lnTo>
                    <a:pt x="381" y="1780"/>
                  </a:lnTo>
                  <a:lnTo>
                    <a:pt x="387" y="1772"/>
                  </a:lnTo>
                  <a:lnTo>
                    <a:pt x="394" y="1764"/>
                  </a:lnTo>
                  <a:lnTo>
                    <a:pt x="401" y="1756"/>
                  </a:lnTo>
                  <a:lnTo>
                    <a:pt x="408" y="1748"/>
                  </a:lnTo>
                  <a:lnTo>
                    <a:pt x="415" y="1740"/>
                  </a:lnTo>
                  <a:lnTo>
                    <a:pt x="420" y="1732"/>
                  </a:lnTo>
                  <a:lnTo>
                    <a:pt x="427" y="1724"/>
                  </a:lnTo>
                  <a:lnTo>
                    <a:pt x="430" y="1714"/>
                  </a:lnTo>
                  <a:lnTo>
                    <a:pt x="432" y="1705"/>
                  </a:lnTo>
                  <a:lnTo>
                    <a:pt x="434" y="1696"/>
                  </a:lnTo>
                  <a:lnTo>
                    <a:pt x="437" y="1687"/>
                  </a:lnTo>
                  <a:lnTo>
                    <a:pt x="441" y="1678"/>
                  </a:lnTo>
                  <a:lnTo>
                    <a:pt x="444" y="1669"/>
                  </a:lnTo>
                  <a:lnTo>
                    <a:pt x="448" y="1660"/>
                  </a:lnTo>
                  <a:lnTo>
                    <a:pt x="453" y="1651"/>
                  </a:lnTo>
                  <a:lnTo>
                    <a:pt x="454" y="1641"/>
                  </a:lnTo>
                  <a:lnTo>
                    <a:pt x="454" y="1631"/>
                  </a:lnTo>
                  <a:lnTo>
                    <a:pt x="446" y="1627"/>
                  </a:lnTo>
                  <a:lnTo>
                    <a:pt x="432" y="1629"/>
                  </a:lnTo>
                  <a:lnTo>
                    <a:pt x="419" y="1628"/>
                  </a:lnTo>
                  <a:lnTo>
                    <a:pt x="405" y="1626"/>
                  </a:lnTo>
                  <a:lnTo>
                    <a:pt x="393" y="1625"/>
                  </a:lnTo>
                  <a:lnTo>
                    <a:pt x="380" y="1622"/>
                  </a:lnTo>
                  <a:lnTo>
                    <a:pt x="370" y="1622"/>
                  </a:lnTo>
                  <a:lnTo>
                    <a:pt x="370" y="1612"/>
                  </a:lnTo>
                  <a:lnTo>
                    <a:pt x="362" y="1605"/>
                  </a:lnTo>
                  <a:lnTo>
                    <a:pt x="366" y="1596"/>
                  </a:lnTo>
                  <a:lnTo>
                    <a:pt x="372" y="1587"/>
                  </a:lnTo>
                  <a:lnTo>
                    <a:pt x="369" y="1581"/>
                  </a:lnTo>
                  <a:lnTo>
                    <a:pt x="374" y="1573"/>
                  </a:lnTo>
                  <a:lnTo>
                    <a:pt x="363" y="1568"/>
                  </a:lnTo>
                  <a:lnTo>
                    <a:pt x="351" y="1564"/>
                  </a:lnTo>
                  <a:lnTo>
                    <a:pt x="338" y="1565"/>
                  </a:lnTo>
                  <a:lnTo>
                    <a:pt x="328" y="1563"/>
                  </a:lnTo>
                  <a:lnTo>
                    <a:pt x="338" y="1557"/>
                  </a:lnTo>
                  <a:lnTo>
                    <a:pt x="348" y="1550"/>
                  </a:lnTo>
                  <a:lnTo>
                    <a:pt x="349" y="1542"/>
                  </a:lnTo>
                  <a:lnTo>
                    <a:pt x="341" y="1534"/>
                  </a:lnTo>
                  <a:lnTo>
                    <a:pt x="332" y="1527"/>
                  </a:lnTo>
                  <a:lnTo>
                    <a:pt x="324" y="1520"/>
                  </a:lnTo>
                  <a:lnTo>
                    <a:pt x="314" y="1513"/>
                  </a:lnTo>
                  <a:lnTo>
                    <a:pt x="306" y="1507"/>
                  </a:lnTo>
                  <a:lnTo>
                    <a:pt x="296" y="1500"/>
                  </a:lnTo>
                  <a:lnTo>
                    <a:pt x="286" y="1494"/>
                  </a:lnTo>
                  <a:lnTo>
                    <a:pt x="276" y="1494"/>
                  </a:lnTo>
                  <a:lnTo>
                    <a:pt x="268" y="1487"/>
                  </a:lnTo>
                  <a:lnTo>
                    <a:pt x="257" y="1481"/>
                  </a:lnTo>
                  <a:lnTo>
                    <a:pt x="249" y="1475"/>
                  </a:lnTo>
                  <a:lnTo>
                    <a:pt x="242" y="1466"/>
                  </a:lnTo>
                  <a:lnTo>
                    <a:pt x="233" y="1459"/>
                  </a:lnTo>
                  <a:lnTo>
                    <a:pt x="232" y="1452"/>
                  </a:lnTo>
                  <a:lnTo>
                    <a:pt x="225" y="1442"/>
                  </a:lnTo>
                  <a:lnTo>
                    <a:pt x="215" y="1435"/>
                  </a:lnTo>
                  <a:lnTo>
                    <a:pt x="207" y="1429"/>
                  </a:lnTo>
                  <a:lnTo>
                    <a:pt x="198" y="1423"/>
                  </a:lnTo>
                  <a:lnTo>
                    <a:pt x="191" y="1415"/>
                  </a:lnTo>
                  <a:lnTo>
                    <a:pt x="184" y="1408"/>
                  </a:lnTo>
                  <a:lnTo>
                    <a:pt x="179" y="1399"/>
                  </a:lnTo>
                  <a:lnTo>
                    <a:pt x="173" y="1391"/>
                  </a:lnTo>
                  <a:lnTo>
                    <a:pt x="165" y="1383"/>
                  </a:lnTo>
                  <a:lnTo>
                    <a:pt x="156" y="1376"/>
                  </a:lnTo>
                  <a:lnTo>
                    <a:pt x="146" y="1370"/>
                  </a:lnTo>
                  <a:lnTo>
                    <a:pt x="137" y="1364"/>
                  </a:lnTo>
                  <a:lnTo>
                    <a:pt x="137" y="1356"/>
                  </a:lnTo>
                  <a:lnTo>
                    <a:pt x="142" y="1347"/>
                  </a:lnTo>
                  <a:lnTo>
                    <a:pt x="149" y="1340"/>
                  </a:lnTo>
                  <a:lnTo>
                    <a:pt x="159" y="1334"/>
                  </a:lnTo>
                  <a:lnTo>
                    <a:pt x="172" y="1330"/>
                  </a:lnTo>
                  <a:lnTo>
                    <a:pt x="181" y="1325"/>
                  </a:lnTo>
                  <a:lnTo>
                    <a:pt x="190" y="1318"/>
                  </a:lnTo>
                  <a:lnTo>
                    <a:pt x="195" y="1311"/>
                  </a:lnTo>
                  <a:lnTo>
                    <a:pt x="194" y="1302"/>
                  </a:lnTo>
                  <a:lnTo>
                    <a:pt x="198" y="1294"/>
                  </a:lnTo>
                  <a:lnTo>
                    <a:pt x="194" y="1286"/>
                  </a:lnTo>
                  <a:lnTo>
                    <a:pt x="191" y="1276"/>
                  </a:lnTo>
                  <a:lnTo>
                    <a:pt x="191" y="1267"/>
                  </a:lnTo>
                  <a:lnTo>
                    <a:pt x="191" y="1258"/>
                  </a:lnTo>
                  <a:lnTo>
                    <a:pt x="191" y="1248"/>
                  </a:lnTo>
                  <a:lnTo>
                    <a:pt x="183" y="1240"/>
                  </a:lnTo>
                  <a:lnTo>
                    <a:pt x="180" y="1231"/>
                  </a:lnTo>
                  <a:lnTo>
                    <a:pt x="173" y="1223"/>
                  </a:lnTo>
                  <a:lnTo>
                    <a:pt x="165" y="1216"/>
                  </a:lnTo>
                  <a:lnTo>
                    <a:pt x="153" y="1211"/>
                  </a:lnTo>
                  <a:lnTo>
                    <a:pt x="144" y="1206"/>
                  </a:lnTo>
                  <a:lnTo>
                    <a:pt x="139" y="1197"/>
                  </a:lnTo>
                  <a:lnTo>
                    <a:pt x="135" y="1188"/>
                  </a:lnTo>
                  <a:lnTo>
                    <a:pt x="130" y="1181"/>
                  </a:lnTo>
                  <a:lnTo>
                    <a:pt x="120" y="1176"/>
                  </a:lnTo>
                  <a:lnTo>
                    <a:pt x="107" y="1179"/>
                  </a:lnTo>
                  <a:lnTo>
                    <a:pt x="95" y="1179"/>
                  </a:lnTo>
                  <a:lnTo>
                    <a:pt x="85" y="1175"/>
                  </a:lnTo>
                  <a:lnTo>
                    <a:pt x="75" y="1173"/>
                  </a:lnTo>
                  <a:lnTo>
                    <a:pt x="67" y="1166"/>
                  </a:lnTo>
                  <a:lnTo>
                    <a:pt x="63" y="1157"/>
                  </a:lnTo>
                  <a:lnTo>
                    <a:pt x="57" y="1149"/>
                  </a:lnTo>
                  <a:lnTo>
                    <a:pt x="50" y="1140"/>
                  </a:lnTo>
                  <a:lnTo>
                    <a:pt x="44" y="1132"/>
                  </a:lnTo>
                  <a:lnTo>
                    <a:pt x="40" y="1123"/>
                  </a:lnTo>
                  <a:lnTo>
                    <a:pt x="33" y="1115"/>
                  </a:lnTo>
                  <a:lnTo>
                    <a:pt x="26" y="1108"/>
                  </a:lnTo>
                  <a:lnTo>
                    <a:pt x="12" y="1093"/>
                  </a:lnTo>
                  <a:lnTo>
                    <a:pt x="14" y="1084"/>
                  </a:lnTo>
                  <a:lnTo>
                    <a:pt x="11" y="1075"/>
                  </a:lnTo>
                  <a:lnTo>
                    <a:pt x="11" y="1066"/>
                  </a:lnTo>
                  <a:lnTo>
                    <a:pt x="7" y="1057"/>
                  </a:lnTo>
                  <a:lnTo>
                    <a:pt x="8" y="1048"/>
                  </a:lnTo>
                  <a:lnTo>
                    <a:pt x="15" y="1040"/>
                  </a:lnTo>
                  <a:lnTo>
                    <a:pt x="21" y="1032"/>
                  </a:lnTo>
                  <a:lnTo>
                    <a:pt x="21" y="1022"/>
                  </a:lnTo>
                  <a:lnTo>
                    <a:pt x="14" y="1015"/>
                  </a:lnTo>
                  <a:lnTo>
                    <a:pt x="7" y="1007"/>
                  </a:lnTo>
                  <a:lnTo>
                    <a:pt x="0" y="999"/>
                  </a:lnTo>
                  <a:lnTo>
                    <a:pt x="8" y="991"/>
                  </a:lnTo>
                  <a:lnTo>
                    <a:pt x="15" y="983"/>
                  </a:lnTo>
                  <a:lnTo>
                    <a:pt x="26" y="978"/>
                  </a:lnTo>
                  <a:lnTo>
                    <a:pt x="40" y="971"/>
                  </a:lnTo>
                  <a:lnTo>
                    <a:pt x="51" y="967"/>
                  </a:lnTo>
                  <a:lnTo>
                    <a:pt x="63" y="962"/>
                  </a:lnTo>
                  <a:lnTo>
                    <a:pt x="61" y="953"/>
                  </a:lnTo>
                  <a:lnTo>
                    <a:pt x="61" y="944"/>
                  </a:lnTo>
                  <a:lnTo>
                    <a:pt x="61" y="934"/>
                  </a:lnTo>
                  <a:lnTo>
                    <a:pt x="72" y="930"/>
                  </a:lnTo>
                  <a:lnTo>
                    <a:pt x="85" y="926"/>
                  </a:lnTo>
                  <a:lnTo>
                    <a:pt x="96" y="923"/>
                  </a:lnTo>
                  <a:lnTo>
                    <a:pt x="103" y="915"/>
                  </a:lnTo>
                  <a:lnTo>
                    <a:pt x="109" y="906"/>
                  </a:lnTo>
                  <a:lnTo>
                    <a:pt x="116" y="899"/>
                  </a:lnTo>
                  <a:lnTo>
                    <a:pt x="127" y="894"/>
                  </a:lnTo>
                  <a:lnTo>
                    <a:pt x="137" y="888"/>
                  </a:lnTo>
                  <a:lnTo>
                    <a:pt x="146" y="882"/>
                  </a:lnTo>
                  <a:lnTo>
                    <a:pt x="156" y="876"/>
                  </a:lnTo>
                  <a:lnTo>
                    <a:pt x="166" y="875"/>
                  </a:lnTo>
                  <a:lnTo>
                    <a:pt x="180" y="872"/>
                  </a:lnTo>
                  <a:lnTo>
                    <a:pt x="186" y="868"/>
                  </a:lnTo>
                  <a:lnTo>
                    <a:pt x="173" y="863"/>
                  </a:lnTo>
                  <a:lnTo>
                    <a:pt x="169" y="854"/>
                  </a:lnTo>
                  <a:lnTo>
                    <a:pt x="160" y="847"/>
                  </a:lnTo>
                  <a:lnTo>
                    <a:pt x="148" y="843"/>
                  </a:lnTo>
                  <a:lnTo>
                    <a:pt x="137" y="838"/>
                  </a:lnTo>
                  <a:lnTo>
                    <a:pt x="127" y="832"/>
                  </a:lnTo>
                  <a:lnTo>
                    <a:pt x="121" y="827"/>
                  </a:lnTo>
                  <a:lnTo>
                    <a:pt x="135" y="829"/>
                  </a:lnTo>
                  <a:lnTo>
                    <a:pt x="148" y="828"/>
                  </a:lnTo>
                  <a:lnTo>
                    <a:pt x="160" y="827"/>
                  </a:lnTo>
                  <a:lnTo>
                    <a:pt x="173" y="827"/>
                  </a:lnTo>
                  <a:lnTo>
                    <a:pt x="179" y="820"/>
                  </a:lnTo>
                  <a:lnTo>
                    <a:pt x="177" y="811"/>
                  </a:lnTo>
                  <a:lnTo>
                    <a:pt x="183" y="808"/>
                  </a:lnTo>
                  <a:lnTo>
                    <a:pt x="195" y="809"/>
                  </a:lnTo>
                  <a:lnTo>
                    <a:pt x="208" y="812"/>
                  </a:lnTo>
                  <a:lnTo>
                    <a:pt x="218" y="818"/>
                  </a:lnTo>
                  <a:lnTo>
                    <a:pt x="228" y="824"/>
                  </a:lnTo>
                  <a:lnTo>
                    <a:pt x="240" y="828"/>
                  </a:lnTo>
                  <a:lnTo>
                    <a:pt x="249" y="834"/>
                  </a:lnTo>
                  <a:lnTo>
                    <a:pt x="261" y="837"/>
                  </a:lnTo>
                  <a:lnTo>
                    <a:pt x="274" y="841"/>
                  </a:lnTo>
                  <a:lnTo>
                    <a:pt x="286" y="841"/>
                  </a:lnTo>
                  <a:lnTo>
                    <a:pt x="299" y="839"/>
                  </a:lnTo>
                  <a:lnTo>
                    <a:pt x="311" y="839"/>
                  </a:lnTo>
                  <a:lnTo>
                    <a:pt x="324" y="841"/>
                  </a:lnTo>
                  <a:lnTo>
                    <a:pt x="337" y="844"/>
                  </a:lnTo>
                  <a:lnTo>
                    <a:pt x="346" y="844"/>
                  </a:lnTo>
                  <a:lnTo>
                    <a:pt x="341" y="835"/>
                  </a:lnTo>
                  <a:lnTo>
                    <a:pt x="342" y="826"/>
                  </a:lnTo>
                  <a:lnTo>
                    <a:pt x="344" y="817"/>
                  </a:lnTo>
                  <a:lnTo>
                    <a:pt x="341" y="808"/>
                  </a:lnTo>
                  <a:lnTo>
                    <a:pt x="339" y="799"/>
                  </a:lnTo>
                  <a:lnTo>
                    <a:pt x="337" y="789"/>
                  </a:lnTo>
                  <a:lnTo>
                    <a:pt x="327" y="782"/>
                  </a:lnTo>
                  <a:lnTo>
                    <a:pt x="324" y="774"/>
                  </a:lnTo>
                  <a:lnTo>
                    <a:pt x="320" y="766"/>
                  </a:lnTo>
                  <a:lnTo>
                    <a:pt x="317" y="758"/>
                  </a:lnTo>
                  <a:lnTo>
                    <a:pt x="328" y="753"/>
                  </a:lnTo>
                  <a:lnTo>
                    <a:pt x="321" y="745"/>
                  </a:lnTo>
                  <a:lnTo>
                    <a:pt x="325" y="737"/>
                  </a:lnTo>
                  <a:lnTo>
                    <a:pt x="325" y="728"/>
                  </a:lnTo>
                  <a:lnTo>
                    <a:pt x="323" y="719"/>
                  </a:lnTo>
                  <a:lnTo>
                    <a:pt x="330" y="713"/>
                  </a:lnTo>
                  <a:lnTo>
                    <a:pt x="341" y="713"/>
                  </a:lnTo>
                  <a:lnTo>
                    <a:pt x="352" y="711"/>
                  </a:lnTo>
                  <a:lnTo>
                    <a:pt x="362" y="708"/>
                  </a:lnTo>
                  <a:lnTo>
                    <a:pt x="373" y="711"/>
                  </a:lnTo>
                  <a:lnTo>
                    <a:pt x="381" y="708"/>
                  </a:lnTo>
                  <a:lnTo>
                    <a:pt x="387" y="701"/>
                  </a:lnTo>
                  <a:lnTo>
                    <a:pt x="401" y="699"/>
                  </a:lnTo>
                  <a:lnTo>
                    <a:pt x="412" y="702"/>
                  </a:lnTo>
                  <a:lnTo>
                    <a:pt x="425" y="704"/>
                  </a:lnTo>
                  <a:lnTo>
                    <a:pt x="436" y="709"/>
                  </a:lnTo>
                  <a:lnTo>
                    <a:pt x="447" y="715"/>
                  </a:lnTo>
                  <a:lnTo>
                    <a:pt x="454" y="723"/>
                  </a:lnTo>
                  <a:lnTo>
                    <a:pt x="465" y="721"/>
                  </a:lnTo>
                  <a:lnTo>
                    <a:pt x="476" y="715"/>
                  </a:lnTo>
                  <a:lnTo>
                    <a:pt x="486" y="708"/>
                  </a:lnTo>
                  <a:lnTo>
                    <a:pt x="493" y="700"/>
                  </a:lnTo>
                  <a:lnTo>
                    <a:pt x="490" y="693"/>
                  </a:lnTo>
                  <a:lnTo>
                    <a:pt x="479" y="686"/>
                  </a:lnTo>
                  <a:lnTo>
                    <a:pt x="475" y="678"/>
                  </a:lnTo>
                  <a:lnTo>
                    <a:pt x="465" y="672"/>
                  </a:lnTo>
                  <a:lnTo>
                    <a:pt x="457" y="666"/>
                  </a:lnTo>
                  <a:lnTo>
                    <a:pt x="454" y="657"/>
                  </a:lnTo>
                  <a:lnTo>
                    <a:pt x="457" y="648"/>
                  </a:lnTo>
                  <a:lnTo>
                    <a:pt x="461" y="639"/>
                  </a:lnTo>
                  <a:lnTo>
                    <a:pt x="458" y="630"/>
                  </a:lnTo>
                  <a:lnTo>
                    <a:pt x="462" y="623"/>
                  </a:lnTo>
                  <a:lnTo>
                    <a:pt x="465" y="614"/>
                  </a:lnTo>
                  <a:lnTo>
                    <a:pt x="464" y="608"/>
                  </a:lnTo>
                  <a:lnTo>
                    <a:pt x="451" y="604"/>
                  </a:lnTo>
                  <a:lnTo>
                    <a:pt x="440" y="599"/>
                  </a:lnTo>
                  <a:lnTo>
                    <a:pt x="434" y="591"/>
                  </a:lnTo>
                  <a:lnTo>
                    <a:pt x="432" y="581"/>
                  </a:lnTo>
                  <a:lnTo>
                    <a:pt x="430" y="572"/>
                  </a:lnTo>
                  <a:lnTo>
                    <a:pt x="427" y="563"/>
                  </a:lnTo>
                  <a:lnTo>
                    <a:pt x="426" y="554"/>
                  </a:lnTo>
                  <a:lnTo>
                    <a:pt x="425" y="544"/>
                  </a:lnTo>
                  <a:lnTo>
                    <a:pt x="422" y="535"/>
                  </a:lnTo>
                  <a:lnTo>
                    <a:pt x="416" y="527"/>
                  </a:lnTo>
                  <a:lnTo>
                    <a:pt x="405" y="522"/>
                  </a:lnTo>
                  <a:lnTo>
                    <a:pt x="393" y="518"/>
                  </a:lnTo>
                  <a:lnTo>
                    <a:pt x="381" y="515"/>
                  </a:lnTo>
                  <a:lnTo>
                    <a:pt x="369" y="512"/>
                  </a:lnTo>
                  <a:lnTo>
                    <a:pt x="356" y="510"/>
                  </a:lnTo>
                  <a:lnTo>
                    <a:pt x="342" y="509"/>
                  </a:lnTo>
                  <a:lnTo>
                    <a:pt x="330" y="507"/>
                  </a:lnTo>
                  <a:lnTo>
                    <a:pt x="314" y="502"/>
                  </a:lnTo>
                  <a:close/>
                </a:path>
              </a:pathLst>
            </a:custGeom>
            <a:solidFill>
              <a:srgbClr val="ffff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327320" y="3935520"/>
              <a:ext cx="1433520" cy="1842840"/>
            </a:xfrm>
            <a:custGeom>
              <a:avLst/>
              <a:gdLst/>
              <a:ahLst/>
              <a:rect l="l" t="t" r="r" b="b"/>
              <a:pathLst>
                <a:path w="2709" h="2322">
                  <a:moveTo>
                    <a:pt x="2629" y="52"/>
                  </a:moveTo>
                  <a:lnTo>
                    <a:pt x="2638" y="59"/>
                  </a:lnTo>
                  <a:lnTo>
                    <a:pt x="2646" y="67"/>
                  </a:lnTo>
                  <a:lnTo>
                    <a:pt x="2653" y="74"/>
                  </a:lnTo>
                  <a:lnTo>
                    <a:pt x="2663" y="81"/>
                  </a:lnTo>
                  <a:lnTo>
                    <a:pt x="2670" y="89"/>
                  </a:lnTo>
                  <a:lnTo>
                    <a:pt x="2664" y="97"/>
                  </a:lnTo>
                  <a:lnTo>
                    <a:pt x="2669" y="105"/>
                  </a:lnTo>
                  <a:lnTo>
                    <a:pt x="2674" y="113"/>
                  </a:lnTo>
                  <a:lnTo>
                    <a:pt x="2681" y="122"/>
                  </a:lnTo>
                  <a:lnTo>
                    <a:pt x="2687" y="130"/>
                  </a:lnTo>
                  <a:lnTo>
                    <a:pt x="2690" y="139"/>
                  </a:lnTo>
                  <a:lnTo>
                    <a:pt x="2694" y="148"/>
                  </a:lnTo>
                  <a:lnTo>
                    <a:pt x="2698" y="156"/>
                  </a:lnTo>
                  <a:lnTo>
                    <a:pt x="2701" y="164"/>
                  </a:lnTo>
                  <a:lnTo>
                    <a:pt x="2709" y="173"/>
                  </a:lnTo>
                  <a:lnTo>
                    <a:pt x="2705" y="180"/>
                  </a:lnTo>
                  <a:lnTo>
                    <a:pt x="2694" y="186"/>
                  </a:lnTo>
                  <a:lnTo>
                    <a:pt x="2681" y="191"/>
                  </a:lnTo>
                  <a:lnTo>
                    <a:pt x="2669" y="197"/>
                  </a:lnTo>
                  <a:lnTo>
                    <a:pt x="2662" y="202"/>
                  </a:lnTo>
                  <a:lnTo>
                    <a:pt x="2669" y="207"/>
                  </a:lnTo>
                  <a:lnTo>
                    <a:pt x="2684" y="212"/>
                  </a:lnTo>
                  <a:lnTo>
                    <a:pt x="2694" y="217"/>
                  </a:lnTo>
                  <a:lnTo>
                    <a:pt x="2680" y="220"/>
                  </a:lnTo>
                  <a:lnTo>
                    <a:pt x="2676" y="227"/>
                  </a:lnTo>
                  <a:lnTo>
                    <a:pt x="2678" y="236"/>
                  </a:lnTo>
                  <a:lnTo>
                    <a:pt x="2683" y="246"/>
                  </a:lnTo>
                  <a:lnTo>
                    <a:pt x="2684" y="255"/>
                  </a:lnTo>
                  <a:lnTo>
                    <a:pt x="2684" y="264"/>
                  </a:lnTo>
                  <a:lnTo>
                    <a:pt x="2685" y="274"/>
                  </a:lnTo>
                  <a:lnTo>
                    <a:pt x="2691" y="282"/>
                  </a:lnTo>
                  <a:lnTo>
                    <a:pt x="2688" y="291"/>
                  </a:lnTo>
                  <a:lnTo>
                    <a:pt x="2684" y="300"/>
                  </a:lnTo>
                  <a:lnTo>
                    <a:pt x="2678" y="309"/>
                  </a:lnTo>
                  <a:lnTo>
                    <a:pt x="2676" y="318"/>
                  </a:lnTo>
                  <a:lnTo>
                    <a:pt x="2677" y="328"/>
                  </a:lnTo>
                  <a:lnTo>
                    <a:pt x="2680" y="337"/>
                  </a:lnTo>
                  <a:lnTo>
                    <a:pt x="2684" y="346"/>
                  </a:lnTo>
                  <a:lnTo>
                    <a:pt x="2685" y="355"/>
                  </a:lnTo>
                  <a:lnTo>
                    <a:pt x="2685" y="365"/>
                  </a:lnTo>
                  <a:lnTo>
                    <a:pt x="2684" y="374"/>
                  </a:lnTo>
                  <a:lnTo>
                    <a:pt x="2687" y="383"/>
                  </a:lnTo>
                  <a:lnTo>
                    <a:pt x="2695" y="397"/>
                  </a:lnTo>
                  <a:lnTo>
                    <a:pt x="2698" y="405"/>
                  </a:lnTo>
                  <a:lnTo>
                    <a:pt x="2685" y="406"/>
                  </a:lnTo>
                  <a:lnTo>
                    <a:pt x="2673" y="407"/>
                  </a:lnTo>
                  <a:lnTo>
                    <a:pt x="2663" y="413"/>
                  </a:lnTo>
                  <a:lnTo>
                    <a:pt x="2653" y="419"/>
                  </a:lnTo>
                  <a:lnTo>
                    <a:pt x="2641" y="420"/>
                  </a:lnTo>
                  <a:lnTo>
                    <a:pt x="2628" y="417"/>
                  </a:lnTo>
                  <a:lnTo>
                    <a:pt x="2617" y="421"/>
                  </a:lnTo>
                  <a:lnTo>
                    <a:pt x="2613" y="430"/>
                  </a:lnTo>
                  <a:lnTo>
                    <a:pt x="2614" y="439"/>
                  </a:lnTo>
                  <a:lnTo>
                    <a:pt x="2615" y="449"/>
                  </a:lnTo>
                  <a:lnTo>
                    <a:pt x="2618" y="458"/>
                  </a:lnTo>
                  <a:lnTo>
                    <a:pt x="2620" y="468"/>
                  </a:lnTo>
                  <a:lnTo>
                    <a:pt x="2621" y="477"/>
                  </a:lnTo>
                  <a:lnTo>
                    <a:pt x="2611" y="480"/>
                  </a:lnTo>
                  <a:lnTo>
                    <a:pt x="2597" y="480"/>
                  </a:lnTo>
                  <a:lnTo>
                    <a:pt x="2583" y="483"/>
                  </a:lnTo>
                  <a:lnTo>
                    <a:pt x="2576" y="475"/>
                  </a:lnTo>
                  <a:lnTo>
                    <a:pt x="2565" y="473"/>
                  </a:lnTo>
                  <a:lnTo>
                    <a:pt x="2565" y="481"/>
                  </a:lnTo>
                  <a:lnTo>
                    <a:pt x="2554" y="484"/>
                  </a:lnTo>
                  <a:lnTo>
                    <a:pt x="2543" y="489"/>
                  </a:lnTo>
                  <a:lnTo>
                    <a:pt x="2533" y="496"/>
                  </a:lnTo>
                  <a:lnTo>
                    <a:pt x="2525" y="502"/>
                  </a:lnTo>
                  <a:lnTo>
                    <a:pt x="2511" y="502"/>
                  </a:lnTo>
                  <a:lnTo>
                    <a:pt x="2504" y="506"/>
                  </a:lnTo>
                  <a:lnTo>
                    <a:pt x="2513" y="513"/>
                  </a:lnTo>
                  <a:lnTo>
                    <a:pt x="2519" y="521"/>
                  </a:lnTo>
                  <a:lnTo>
                    <a:pt x="2522" y="530"/>
                  </a:lnTo>
                  <a:lnTo>
                    <a:pt x="2526" y="539"/>
                  </a:lnTo>
                  <a:lnTo>
                    <a:pt x="2532" y="547"/>
                  </a:lnTo>
                  <a:lnTo>
                    <a:pt x="2536" y="556"/>
                  </a:lnTo>
                  <a:lnTo>
                    <a:pt x="2539" y="565"/>
                  </a:lnTo>
                  <a:lnTo>
                    <a:pt x="2539" y="575"/>
                  </a:lnTo>
                  <a:lnTo>
                    <a:pt x="2539" y="584"/>
                  </a:lnTo>
                  <a:lnTo>
                    <a:pt x="2534" y="590"/>
                  </a:lnTo>
                  <a:lnTo>
                    <a:pt x="2537" y="600"/>
                  </a:lnTo>
                  <a:lnTo>
                    <a:pt x="2539" y="608"/>
                  </a:lnTo>
                  <a:lnTo>
                    <a:pt x="2529" y="614"/>
                  </a:lnTo>
                  <a:lnTo>
                    <a:pt x="2516" y="618"/>
                  </a:lnTo>
                  <a:lnTo>
                    <a:pt x="2504" y="623"/>
                  </a:lnTo>
                  <a:lnTo>
                    <a:pt x="2499" y="629"/>
                  </a:lnTo>
                  <a:lnTo>
                    <a:pt x="2490" y="635"/>
                  </a:lnTo>
                  <a:lnTo>
                    <a:pt x="2495" y="641"/>
                  </a:lnTo>
                  <a:lnTo>
                    <a:pt x="2485" y="647"/>
                  </a:lnTo>
                  <a:lnTo>
                    <a:pt x="2477" y="652"/>
                  </a:lnTo>
                  <a:lnTo>
                    <a:pt x="2485" y="661"/>
                  </a:lnTo>
                  <a:lnTo>
                    <a:pt x="2487" y="669"/>
                  </a:lnTo>
                  <a:lnTo>
                    <a:pt x="2478" y="675"/>
                  </a:lnTo>
                  <a:lnTo>
                    <a:pt x="2466" y="680"/>
                  </a:lnTo>
                  <a:lnTo>
                    <a:pt x="2455" y="685"/>
                  </a:lnTo>
                  <a:lnTo>
                    <a:pt x="2453" y="693"/>
                  </a:lnTo>
                  <a:lnTo>
                    <a:pt x="2455" y="703"/>
                  </a:lnTo>
                  <a:lnTo>
                    <a:pt x="2448" y="710"/>
                  </a:lnTo>
                  <a:lnTo>
                    <a:pt x="2437" y="715"/>
                  </a:lnTo>
                  <a:lnTo>
                    <a:pt x="2423" y="723"/>
                  </a:lnTo>
                  <a:lnTo>
                    <a:pt x="2417" y="729"/>
                  </a:lnTo>
                  <a:lnTo>
                    <a:pt x="2418" y="739"/>
                  </a:lnTo>
                  <a:lnTo>
                    <a:pt x="2423" y="748"/>
                  </a:lnTo>
                  <a:lnTo>
                    <a:pt x="2430" y="755"/>
                  </a:lnTo>
                  <a:lnTo>
                    <a:pt x="2437" y="764"/>
                  </a:lnTo>
                  <a:lnTo>
                    <a:pt x="2448" y="780"/>
                  </a:lnTo>
                  <a:lnTo>
                    <a:pt x="2441" y="795"/>
                  </a:lnTo>
                  <a:lnTo>
                    <a:pt x="2437" y="809"/>
                  </a:lnTo>
                  <a:lnTo>
                    <a:pt x="2428" y="815"/>
                  </a:lnTo>
                  <a:lnTo>
                    <a:pt x="2424" y="824"/>
                  </a:lnTo>
                  <a:lnTo>
                    <a:pt x="2420" y="833"/>
                  </a:lnTo>
                  <a:lnTo>
                    <a:pt x="2416" y="842"/>
                  </a:lnTo>
                  <a:lnTo>
                    <a:pt x="2411" y="850"/>
                  </a:lnTo>
                  <a:lnTo>
                    <a:pt x="2402" y="856"/>
                  </a:lnTo>
                  <a:lnTo>
                    <a:pt x="2392" y="860"/>
                  </a:lnTo>
                  <a:lnTo>
                    <a:pt x="2379" y="863"/>
                  </a:lnTo>
                  <a:lnTo>
                    <a:pt x="2368" y="865"/>
                  </a:lnTo>
                  <a:lnTo>
                    <a:pt x="2358" y="859"/>
                  </a:lnTo>
                  <a:lnTo>
                    <a:pt x="2347" y="852"/>
                  </a:lnTo>
                  <a:lnTo>
                    <a:pt x="2348" y="859"/>
                  </a:lnTo>
                  <a:lnTo>
                    <a:pt x="2350" y="869"/>
                  </a:lnTo>
                  <a:lnTo>
                    <a:pt x="2350" y="878"/>
                  </a:lnTo>
                  <a:lnTo>
                    <a:pt x="2347" y="887"/>
                  </a:lnTo>
                  <a:lnTo>
                    <a:pt x="2340" y="892"/>
                  </a:lnTo>
                  <a:lnTo>
                    <a:pt x="2350" y="899"/>
                  </a:lnTo>
                  <a:lnTo>
                    <a:pt x="2337" y="900"/>
                  </a:lnTo>
                  <a:lnTo>
                    <a:pt x="2336" y="908"/>
                  </a:lnTo>
                  <a:lnTo>
                    <a:pt x="2336" y="917"/>
                  </a:lnTo>
                  <a:lnTo>
                    <a:pt x="2334" y="927"/>
                  </a:lnTo>
                  <a:lnTo>
                    <a:pt x="2336" y="936"/>
                  </a:lnTo>
                  <a:lnTo>
                    <a:pt x="2340" y="945"/>
                  </a:lnTo>
                  <a:lnTo>
                    <a:pt x="2346" y="953"/>
                  </a:lnTo>
                  <a:lnTo>
                    <a:pt x="2344" y="962"/>
                  </a:lnTo>
                  <a:lnTo>
                    <a:pt x="2340" y="970"/>
                  </a:lnTo>
                  <a:lnTo>
                    <a:pt x="2329" y="975"/>
                  </a:lnTo>
                  <a:lnTo>
                    <a:pt x="2339" y="980"/>
                  </a:lnTo>
                  <a:lnTo>
                    <a:pt x="2348" y="986"/>
                  </a:lnTo>
                  <a:lnTo>
                    <a:pt x="2354" y="995"/>
                  </a:lnTo>
                  <a:lnTo>
                    <a:pt x="2357" y="1004"/>
                  </a:lnTo>
                  <a:lnTo>
                    <a:pt x="2361" y="1013"/>
                  </a:lnTo>
                  <a:lnTo>
                    <a:pt x="2365" y="1021"/>
                  </a:lnTo>
                  <a:lnTo>
                    <a:pt x="2368" y="1030"/>
                  </a:lnTo>
                  <a:lnTo>
                    <a:pt x="2371" y="1039"/>
                  </a:lnTo>
                  <a:lnTo>
                    <a:pt x="2374" y="1049"/>
                  </a:lnTo>
                  <a:lnTo>
                    <a:pt x="2375" y="1058"/>
                  </a:lnTo>
                  <a:lnTo>
                    <a:pt x="2381" y="1066"/>
                  </a:lnTo>
                  <a:lnTo>
                    <a:pt x="2386" y="1074"/>
                  </a:lnTo>
                  <a:lnTo>
                    <a:pt x="2389" y="1083"/>
                  </a:lnTo>
                  <a:lnTo>
                    <a:pt x="2393" y="1092"/>
                  </a:lnTo>
                  <a:lnTo>
                    <a:pt x="2399" y="1101"/>
                  </a:lnTo>
                  <a:lnTo>
                    <a:pt x="2406" y="1109"/>
                  </a:lnTo>
                  <a:lnTo>
                    <a:pt x="2400" y="1112"/>
                  </a:lnTo>
                  <a:lnTo>
                    <a:pt x="2397" y="1119"/>
                  </a:lnTo>
                  <a:lnTo>
                    <a:pt x="2402" y="1129"/>
                  </a:lnTo>
                  <a:lnTo>
                    <a:pt x="2399" y="1137"/>
                  </a:lnTo>
                  <a:lnTo>
                    <a:pt x="2385" y="1137"/>
                  </a:lnTo>
                  <a:lnTo>
                    <a:pt x="2372" y="1139"/>
                  </a:lnTo>
                  <a:lnTo>
                    <a:pt x="2367" y="1144"/>
                  </a:lnTo>
                  <a:lnTo>
                    <a:pt x="2367" y="1151"/>
                  </a:lnTo>
                  <a:lnTo>
                    <a:pt x="2354" y="1153"/>
                  </a:lnTo>
                  <a:lnTo>
                    <a:pt x="2347" y="1145"/>
                  </a:lnTo>
                  <a:lnTo>
                    <a:pt x="2340" y="1150"/>
                  </a:lnTo>
                  <a:lnTo>
                    <a:pt x="2339" y="1157"/>
                  </a:lnTo>
                  <a:lnTo>
                    <a:pt x="2329" y="1157"/>
                  </a:lnTo>
                  <a:lnTo>
                    <a:pt x="2323" y="1164"/>
                  </a:lnTo>
                  <a:lnTo>
                    <a:pt x="2311" y="1166"/>
                  </a:lnTo>
                  <a:lnTo>
                    <a:pt x="2311" y="1173"/>
                  </a:lnTo>
                  <a:lnTo>
                    <a:pt x="2305" y="1179"/>
                  </a:lnTo>
                  <a:lnTo>
                    <a:pt x="2297" y="1174"/>
                  </a:lnTo>
                  <a:lnTo>
                    <a:pt x="2287" y="1172"/>
                  </a:lnTo>
                  <a:lnTo>
                    <a:pt x="2286" y="1180"/>
                  </a:lnTo>
                  <a:lnTo>
                    <a:pt x="2274" y="1184"/>
                  </a:lnTo>
                  <a:lnTo>
                    <a:pt x="2281" y="1192"/>
                  </a:lnTo>
                  <a:lnTo>
                    <a:pt x="2286" y="1200"/>
                  </a:lnTo>
                  <a:lnTo>
                    <a:pt x="2291" y="1209"/>
                  </a:lnTo>
                  <a:lnTo>
                    <a:pt x="2294" y="1218"/>
                  </a:lnTo>
                  <a:lnTo>
                    <a:pt x="2300" y="1215"/>
                  </a:lnTo>
                  <a:lnTo>
                    <a:pt x="2309" y="1210"/>
                  </a:lnTo>
                  <a:lnTo>
                    <a:pt x="2322" y="1206"/>
                  </a:lnTo>
                  <a:lnTo>
                    <a:pt x="2330" y="1209"/>
                  </a:lnTo>
                  <a:lnTo>
                    <a:pt x="2337" y="1215"/>
                  </a:lnTo>
                  <a:lnTo>
                    <a:pt x="2350" y="1209"/>
                  </a:lnTo>
                  <a:lnTo>
                    <a:pt x="2361" y="1203"/>
                  </a:lnTo>
                  <a:lnTo>
                    <a:pt x="2371" y="1202"/>
                  </a:lnTo>
                  <a:lnTo>
                    <a:pt x="2376" y="1210"/>
                  </a:lnTo>
                  <a:lnTo>
                    <a:pt x="2379" y="1221"/>
                  </a:lnTo>
                  <a:lnTo>
                    <a:pt x="2385" y="1229"/>
                  </a:lnTo>
                  <a:lnTo>
                    <a:pt x="2390" y="1239"/>
                  </a:lnTo>
                  <a:lnTo>
                    <a:pt x="2396" y="1247"/>
                  </a:lnTo>
                  <a:lnTo>
                    <a:pt x="2396" y="1257"/>
                  </a:lnTo>
                  <a:lnTo>
                    <a:pt x="2409" y="1256"/>
                  </a:lnTo>
                  <a:lnTo>
                    <a:pt x="2423" y="1254"/>
                  </a:lnTo>
                  <a:lnTo>
                    <a:pt x="2430" y="1259"/>
                  </a:lnTo>
                  <a:lnTo>
                    <a:pt x="2427" y="1268"/>
                  </a:lnTo>
                  <a:lnTo>
                    <a:pt x="2428" y="1277"/>
                  </a:lnTo>
                  <a:lnTo>
                    <a:pt x="2432" y="1286"/>
                  </a:lnTo>
                  <a:lnTo>
                    <a:pt x="2431" y="1296"/>
                  </a:lnTo>
                  <a:lnTo>
                    <a:pt x="2437" y="1311"/>
                  </a:lnTo>
                  <a:lnTo>
                    <a:pt x="2437" y="1320"/>
                  </a:lnTo>
                  <a:lnTo>
                    <a:pt x="2437" y="1332"/>
                  </a:lnTo>
                  <a:lnTo>
                    <a:pt x="2431" y="1340"/>
                  </a:lnTo>
                  <a:lnTo>
                    <a:pt x="2421" y="1348"/>
                  </a:lnTo>
                  <a:lnTo>
                    <a:pt x="2414" y="1355"/>
                  </a:lnTo>
                  <a:lnTo>
                    <a:pt x="2413" y="1364"/>
                  </a:lnTo>
                  <a:lnTo>
                    <a:pt x="2414" y="1374"/>
                  </a:lnTo>
                  <a:lnTo>
                    <a:pt x="2410" y="1382"/>
                  </a:lnTo>
                  <a:lnTo>
                    <a:pt x="2399" y="1385"/>
                  </a:lnTo>
                  <a:lnTo>
                    <a:pt x="2386" y="1388"/>
                  </a:lnTo>
                  <a:lnTo>
                    <a:pt x="2371" y="1402"/>
                  </a:lnTo>
                  <a:lnTo>
                    <a:pt x="2361" y="1409"/>
                  </a:lnTo>
                  <a:lnTo>
                    <a:pt x="2350" y="1409"/>
                  </a:lnTo>
                  <a:lnTo>
                    <a:pt x="2337" y="1405"/>
                  </a:lnTo>
                  <a:lnTo>
                    <a:pt x="2327" y="1400"/>
                  </a:lnTo>
                  <a:lnTo>
                    <a:pt x="2318" y="1394"/>
                  </a:lnTo>
                  <a:lnTo>
                    <a:pt x="2308" y="1393"/>
                  </a:lnTo>
                  <a:lnTo>
                    <a:pt x="2298" y="1399"/>
                  </a:lnTo>
                  <a:lnTo>
                    <a:pt x="2288" y="1395"/>
                  </a:lnTo>
                  <a:lnTo>
                    <a:pt x="2280" y="1394"/>
                  </a:lnTo>
                  <a:lnTo>
                    <a:pt x="2273" y="1391"/>
                  </a:lnTo>
                  <a:lnTo>
                    <a:pt x="2263" y="1388"/>
                  </a:lnTo>
                  <a:lnTo>
                    <a:pt x="2266" y="1378"/>
                  </a:lnTo>
                  <a:lnTo>
                    <a:pt x="2258" y="1375"/>
                  </a:lnTo>
                  <a:lnTo>
                    <a:pt x="2244" y="1375"/>
                  </a:lnTo>
                  <a:lnTo>
                    <a:pt x="2231" y="1376"/>
                  </a:lnTo>
                  <a:lnTo>
                    <a:pt x="2218" y="1377"/>
                  </a:lnTo>
                  <a:lnTo>
                    <a:pt x="2210" y="1377"/>
                  </a:lnTo>
                  <a:lnTo>
                    <a:pt x="2197" y="1379"/>
                  </a:lnTo>
                  <a:lnTo>
                    <a:pt x="2185" y="1383"/>
                  </a:lnTo>
                  <a:lnTo>
                    <a:pt x="2174" y="1387"/>
                  </a:lnTo>
                  <a:lnTo>
                    <a:pt x="2167" y="1394"/>
                  </a:lnTo>
                  <a:lnTo>
                    <a:pt x="2163" y="1403"/>
                  </a:lnTo>
                  <a:lnTo>
                    <a:pt x="2158" y="1407"/>
                  </a:lnTo>
                  <a:lnTo>
                    <a:pt x="2147" y="1405"/>
                  </a:lnTo>
                  <a:lnTo>
                    <a:pt x="2137" y="1410"/>
                  </a:lnTo>
                  <a:lnTo>
                    <a:pt x="2129" y="1418"/>
                  </a:lnTo>
                  <a:lnTo>
                    <a:pt x="2126" y="1427"/>
                  </a:lnTo>
                  <a:lnTo>
                    <a:pt x="2129" y="1436"/>
                  </a:lnTo>
                  <a:lnTo>
                    <a:pt x="2135" y="1444"/>
                  </a:lnTo>
                  <a:lnTo>
                    <a:pt x="2130" y="1453"/>
                  </a:lnTo>
                  <a:lnTo>
                    <a:pt x="2129" y="1462"/>
                  </a:lnTo>
                  <a:lnTo>
                    <a:pt x="2123" y="1470"/>
                  </a:lnTo>
                  <a:lnTo>
                    <a:pt x="2114" y="1477"/>
                  </a:lnTo>
                  <a:lnTo>
                    <a:pt x="2114" y="1486"/>
                  </a:lnTo>
                  <a:lnTo>
                    <a:pt x="2121" y="1494"/>
                  </a:lnTo>
                  <a:lnTo>
                    <a:pt x="2123" y="1503"/>
                  </a:lnTo>
                  <a:lnTo>
                    <a:pt x="2122" y="1512"/>
                  </a:lnTo>
                  <a:lnTo>
                    <a:pt x="2119" y="1521"/>
                  </a:lnTo>
                  <a:lnTo>
                    <a:pt x="2114" y="1529"/>
                  </a:lnTo>
                  <a:lnTo>
                    <a:pt x="2105" y="1536"/>
                  </a:lnTo>
                  <a:lnTo>
                    <a:pt x="2100" y="1544"/>
                  </a:lnTo>
                  <a:lnTo>
                    <a:pt x="2090" y="1545"/>
                  </a:lnTo>
                  <a:lnTo>
                    <a:pt x="2079" y="1540"/>
                  </a:lnTo>
                  <a:lnTo>
                    <a:pt x="2066" y="1542"/>
                  </a:lnTo>
                  <a:lnTo>
                    <a:pt x="2062" y="1550"/>
                  </a:lnTo>
                  <a:lnTo>
                    <a:pt x="2051" y="1554"/>
                  </a:lnTo>
                  <a:lnTo>
                    <a:pt x="2038" y="1554"/>
                  </a:lnTo>
                  <a:lnTo>
                    <a:pt x="2026" y="1550"/>
                  </a:lnTo>
                  <a:lnTo>
                    <a:pt x="2016" y="1550"/>
                  </a:lnTo>
                  <a:lnTo>
                    <a:pt x="2007" y="1555"/>
                  </a:lnTo>
                  <a:lnTo>
                    <a:pt x="1999" y="1561"/>
                  </a:lnTo>
                  <a:lnTo>
                    <a:pt x="1998" y="1569"/>
                  </a:lnTo>
                  <a:lnTo>
                    <a:pt x="1988" y="1563"/>
                  </a:lnTo>
                  <a:lnTo>
                    <a:pt x="1978" y="1557"/>
                  </a:lnTo>
                  <a:lnTo>
                    <a:pt x="1968" y="1559"/>
                  </a:lnTo>
                  <a:lnTo>
                    <a:pt x="1963" y="1567"/>
                  </a:lnTo>
                  <a:lnTo>
                    <a:pt x="1954" y="1570"/>
                  </a:lnTo>
                  <a:lnTo>
                    <a:pt x="1949" y="1569"/>
                  </a:lnTo>
                  <a:lnTo>
                    <a:pt x="1943" y="1577"/>
                  </a:lnTo>
                  <a:lnTo>
                    <a:pt x="1936" y="1584"/>
                  </a:lnTo>
                  <a:lnTo>
                    <a:pt x="1923" y="1579"/>
                  </a:lnTo>
                  <a:lnTo>
                    <a:pt x="1912" y="1576"/>
                  </a:lnTo>
                  <a:lnTo>
                    <a:pt x="1900" y="1574"/>
                  </a:lnTo>
                  <a:lnTo>
                    <a:pt x="1890" y="1573"/>
                  </a:lnTo>
                  <a:lnTo>
                    <a:pt x="1889" y="1565"/>
                  </a:lnTo>
                  <a:lnTo>
                    <a:pt x="1886" y="1557"/>
                  </a:lnTo>
                  <a:lnTo>
                    <a:pt x="1873" y="1557"/>
                  </a:lnTo>
                  <a:lnTo>
                    <a:pt x="1859" y="1557"/>
                  </a:lnTo>
                  <a:lnTo>
                    <a:pt x="1849" y="1552"/>
                  </a:lnTo>
                  <a:lnTo>
                    <a:pt x="1849" y="1543"/>
                  </a:lnTo>
                  <a:lnTo>
                    <a:pt x="1840" y="1542"/>
                  </a:lnTo>
                  <a:lnTo>
                    <a:pt x="1828" y="1547"/>
                  </a:lnTo>
                  <a:lnTo>
                    <a:pt x="1821" y="1553"/>
                  </a:lnTo>
                  <a:lnTo>
                    <a:pt x="1823" y="1562"/>
                  </a:lnTo>
                  <a:lnTo>
                    <a:pt x="1821" y="1572"/>
                  </a:lnTo>
                  <a:lnTo>
                    <a:pt x="1813" y="1578"/>
                  </a:lnTo>
                  <a:lnTo>
                    <a:pt x="1806" y="1586"/>
                  </a:lnTo>
                  <a:lnTo>
                    <a:pt x="1798" y="1591"/>
                  </a:lnTo>
                  <a:lnTo>
                    <a:pt x="1785" y="1591"/>
                  </a:lnTo>
                  <a:lnTo>
                    <a:pt x="1772" y="1591"/>
                  </a:lnTo>
                  <a:lnTo>
                    <a:pt x="1761" y="1587"/>
                  </a:lnTo>
                  <a:lnTo>
                    <a:pt x="1750" y="1582"/>
                  </a:lnTo>
                  <a:lnTo>
                    <a:pt x="1747" y="1573"/>
                  </a:lnTo>
                  <a:lnTo>
                    <a:pt x="1743" y="1564"/>
                  </a:lnTo>
                  <a:lnTo>
                    <a:pt x="1739" y="1555"/>
                  </a:lnTo>
                  <a:lnTo>
                    <a:pt x="1735" y="1546"/>
                  </a:lnTo>
                  <a:lnTo>
                    <a:pt x="1731" y="1538"/>
                  </a:lnTo>
                  <a:lnTo>
                    <a:pt x="1722" y="1531"/>
                  </a:lnTo>
                  <a:lnTo>
                    <a:pt x="1711" y="1529"/>
                  </a:lnTo>
                  <a:lnTo>
                    <a:pt x="1701" y="1535"/>
                  </a:lnTo>
                  <a:lnTo>
                    <a:pt x="1691" y="1536"/>
                  </a:lnTo>
                  <a:lnTo>
                    <a:pt x="1683" y="1544"/>
                  </a:lnTo>
                  <a:lnTo>
                    <a:pt x="1682" y="1553"/>
                  </a:lnTo>
                  <a:lnTo>
                    <a:pt x="1693" y="1554"/>
                  </a:lnTo>
                  <a:lnTo>
                    <a:pt x="1700" y="1560"/>
                  </a:lnTo>
                  <a:lnTo>
                    <a:pt x="1703" y="1569"/>
                  </a:lnTo>
                  <a:lnTo>
                    <a:pt x="1703" y="1574"/>
                  </a:lnTo>
                  <a:lnTo>
                    <a:pt x="1690" y="1571"/>
                  </a:lnTo>
                  <a:lnTo>
                    <a:pt x="1683" y="1579"/>
                  </a:lnTo>
                  <a:lnTo>
                    <a:pt x="1677" y="1592"/>
                  </a:lnTo>
                  <a:lnTo>
                    <a:pt x="1670" y="1601"/>
                  </a:lnTo>
                  <a:lnTo>
                    <a:pt x="1676" y="1608"/>
                  </a:lnTo>
                  <a:lnTo>
                    <a:pt x="1677" y="1617"/>
                  </a:lnTo>
                  <a:lnTo>
                    <a:pt x="1675" y="1626"/>
                  </a:lnTo>
                  <a:lnTo>
                    <a:pt x="1666" y="1633"/>
                  </a:lnTo>
                  <a:lnTo>
                    <a:pt x="1663" y="1642"/>
                  </a:lnTo>
                  <a:lnTo>
                    <a:pt x="1658" y="1650"/>
                  </a:lnTo>
                  <a:lnTo>
                    <a:pt x="1645" y="1653"/>
                  </a:lnTo>
                  <a:lnTo>
                    <a:pt x="1641" y="1662"/>
                  </a:lnTo>
                  <a:lnTo>
                    <a:pt x="1637" y="1671"/>
                  </a:lnTo>
                  <a:lnTo>
                    <a:pt x="1627" y="1676"/>
                  </a:lnTo>
                  <a:lnTo>
                    <a:pt x="1627" y="1685"/>
                  </a:lnTo>
                  <a:lnTo>
                    <a:pt x="1629" y="1694"/>
                  </a:lnTo>
                  <a:lnTo>
                    <a:pt x="1623" y="1704"/>
                  </a:lnTo>
                  <a:lnTo>
                    <a:pt x="1617" y="1712"/>
                  </a:lnTo>
                  <a:lnTo>
                    <a:pt x="1619" y="1721"/>
                  </a:lnTo>
                  <a:lnTo>
                    <a:pt x="1615" y="1730"/>
                  </a:lnTo>
                  <a:lnTo>
                    <a:pt x="1615" y="1740"/>
                  </a:lnTo>
                  <a:lnTo>
                    <a:pt x="1615" y="1749"/>
                  </a:lnTo>
                  <a:lnTo>
                    <a:pt x="1617" y="1758"/>
                  </a:lnTo>
                  <a:lnTo>
                    <a:pt x="1613" y="1764"/>
                  </a:lnTo>
                  <a:lnTo>
                    <a:pt x="1616" y="1773"/>
                  </a:lnTo>
                  <a:lnTo>
                    <a:pt x="1622" y="1781"/>
                  </a:lnTo>
                  <a:lnTo>
                    <a:pt x="1613" y="1785"/>
                  </a:lnTo>
                  <a:lnTo>
                    <a:pt x="1601" y="1789"/>
                  </a:lnTo>
                  <a:lnTo>
                    <a:pt x="1588" y="1793"/>
                  </a:lnTo>
                  <a:lnTo>
                    <a:pt x="1578" y="1797"/>
                  </a:lnTo>
                  <a:lnTo>
                    <a:pt x="1585" y="1805"/>
                  </a:lnTo>
                  <a:lnTo>
                    <a:pt x="1594" y="1812"/>
                  </a:lnTo>
                  <a:lnTo>
                    <a:pt x="1606" y="1817"/>
                  </a:lnTo>
                  <a:lnTo>
                    <a:pt x="1605" y="1823"/>
                  </a:lnTo>
                  <a:lnTo>
                    <a:pt x="1606" y="1832"/>
                  </a:lnTo>
                  <a:lnTo>
                    <a:pt x="1603" y="1840"/>
                  </a:lnTo>
                  <a:lnTo>
                    <a:pt x="1599" y="1847"/>
                  </a:lnTo>
                  <a:lnTo>
                    <a:pt x="1603" y="1856"/>
                  </a:lnTo>
                  <a:lnTo>
                    <a:pt x="1589" y="1857"/>
                  </a:lnTo>
                  <a:lnTo>
                    <a:pt x="1587" y="1864"/>
                  </a:lnTo>
                  <a:lnTo>
                    <a:pt x="1587" y="1874"/>
                  </a:lnTo>
                  <a:lnTo>
                    <a:pt x="1577" y="1879"/>
                  </a:lnTo>
                  <a:lnTo>
                    <a:pt x="1563" y="1880"/>
                  </a:lnTo>
                  <a:lnTo>
                    <a:pt x="1561" y="1887"/>
                  </a:lnTo>
                  <a:lnTo>
                    <a:pt x="1561" y="1897"/>
                  </a:lnTo>
                  <a:lnTo>
                    <a:pt x="1549" y="1900"/>
                  </a:lnTo>
                  <a:lnTo>
                    <a:pt x="1536" y="1903"/>
                  </a:lnTo>
                  <a:lnTo>
                    <a:pt x="1524" y="1905"/>
                  </a:lnTo>
                  <a:lnTo>
                    <a:pt x="1510" y="1905"/>
                  </a:lnTo>
                  <a:lnTo>
                    <a:pt x="1508" y="1912"/>
                  </a:lnTo>
                  <a:lnTo>
                    <a:pt x="1505" y="1919"/>
                  </a:lnTo>
                  <a:lnTo>
                    <a:pt x="1508" y="1928"/>
                  </a:lnTo>
                  <a:lnTo>
                    <a:pt x="1512" y="1937"/>
                  </a:lnTo>
                  <a:lnTo>
                    <a:pt x="1512" y="1945"/>
                  </a:lnTo>
                  <a:lnTo>
                    <a:pt x="1518" y="1952"/>
                  </a:lnTo>
                  <a:lnTo>
                    <a:pt x="1519" y="1960"/>
                  </a:lnTo>
                  <a:lnTo>
                    <a:pt x="1521" y="1969"/>
                  </a:lnTo>
                  <a:lnTo>
                    <a:pt x="1529" y="1976"/>
                  </a:lnTo>
                  <a:lnTo>
                    <a:pt x="1542" y="1979"/>
                  </a:lnTo>
                  <a:lnTo>
                    <a:pt x="1553" y="1984"/>
                  </a:lnTo>
                  <a:lnTo>
                    <a:pt x="1556" y="1993"/>
                  </a:lnTo>
                  <a:lnTo>
                    <a:pt x="1550" y="2000"/>
                  </a:lnTo>
                  <a:lnTo>
                    <a:pt x="1550" y="2009"/>
                  </a:lnTo>
                  <a:lnTo>
                    <a:pt x="1552" y="2019"/>
                  </a:lnTo>
                  <a:lnTo>
                    <a:pt x="1547" y="2027"/>
                  </a:lnTo>
                  <a:lnTo>
                    <a:pt x="1533" y="2028"/>
                  </a:lnTo>
                  <a:lnTo>
                    <a:pt x="1521" y="2028"/>
                  </a:lnTo>
                  <a:lnTo>
                    <a:pt x="1508" y="2029"/>
                  </a:lnTo>
                  <a:lnTo>
                    <a:pt x="1494" y="2031"/>
                  </a:lnTo>
                  <a:lnTo>
                    <a:pt x="1500" y="2034"/>
                  </a:lnTo>
                  <a:lnTo>
                    <a:pt x="1504" y="2042"/>
                  </a:lnTo>
                  <a:lnTo>
                    <a:pt x="1504" y="2051"/>
                  </a:lnTo>
                  <a:lnTo>
                    <a:pt x="1507" y="2060"/>
                  </a:lnTo>
                  <a:lnTo>
                    <a:pt x="1507" y="2069"/>
                  </a:lnTo>
                  <a:lnTo>
                    <a:pt x="1511" y="2078"/>
                  </a:lnTo>
                  <a:lnTo>
                    <a:pt x="1517" y="2087"/>
                  </a:lnTo>
                  <a:lnTo>
                    <a:pt x="1522" y="2095"/>
                  </a:lnTo>
                  <a:lnTo>
                    <a:pt x="1525" y="2104"/>
                  </a:lnTo>
                  <a:lnTo>
                    <a:pt x="1526" y="2114"/>
                  </a:lnTo>
                  <a:lnTo>
                    <a:pt x="1528" y="2123"/>
                  </a:lnTo>
                  <a:lnTo>
                    <a:pt x="1528" y="2132"/>
                  </a:lnTo>
                  <a:lnTo>
                    <a:pt x="1528" y="2142"/>
                  </a:lnTo>
                  <a:lnTo>
                    <a:pt x="1542" y="2143"/>
                  </a:lnTo>
                  <a:lnTo>
                    <a:pt x="1556" y="2141"/>
                  </a:lnTo>
                  <a:lnTo>
                    <a:pt x="1559" y="2134"/>
                  </a:lnTo>
                  <a:lnTo>
                    <a:pt x="1554" y="2125"/>
                  </a:lnTo>
                  <a:lnTo>
                    <a:pt x="1550" y="2115"/>
                  </a:lnTo>
                  <a:lnTo>
                    <a:pt x="1557" y="2109"/>
                  </a:lnTo>
                  <a:lnTo>
                    <a:pt x="1563" y="2116"/>
                  </a:lnTo>
                  <a:lnTo>
                    <a:pt x="1570" y="2120"/>
                  </a:lnTo>
                  <a:lnTo>
                    <a:pt x="1575" y="2126"/>
                  </a:lnTo>
                  <a:lnTo>
                    <a:pt x="1582" y="2130"/>
                  </a:lnTo>
                  <a:lnTo>
                    <a:pt x="1596" y="2127"/>
                  </a:lnTo>
                  <a:lnTo>
                    <a:pt x="1609" y="2127"/>
                  </a:lnTo>
                  <a:lnTo>
                    <a:pt x="1616" y="2135"/>
                  </a:lnTo>
                  <a:lnTo>
                    <a:pt x="1603" y="2139"/>
                  </a:lnTo>
                  <a:lnTo>
                    <a:pt x="1591" y="2141"/>
                  </a:lnTo>
                  <a:lnTo>
                    <a:pt x="1595" y="2149"/>
                  </a:lnTo>
                  <a:lnTo>
                    <a:pt x="1602" y="2158"/>
                  </a:lnTo>
                  <a:lnTo>
                    <a:pt x="1612" y="2165"/>
                  </a:lnTo>
                  <a:lnTo>
                    <a:pt x="1624" y="2163"/>
                  </a:lnTo>
                  <a:lnTo>
                    <a:pt x="1633" y="2167"/>
                  </a:lnTo>
                  <a:lnTo>
                    <a:pt x="1644" y="2171"/>
                  </a:lnTo>
                  <a:lnTo>
                    <a:pt x="1656" y="2174"/>
                  </a:lnTo>
                  <a:lnTo>
                    <a:pt x="1669" y="2177"/>
                  </a:lnTo>
                  <a:lnTo>
                    <a:pt x="1680" y="2182"/>
                  </a:lnTo>
                  <a:lnTo>
                    <a:pt x="1686" y="2191"/>
                  </a:lnTo>
                  <a:lnTo>
                    <a:pt x="1687" y="2200"/>
                  </a:lnTo>
                  <a:lnTo>
                    <a:pt x="1683" y="2207"/>
                  </a:lnTo>
                  <a:lnTo>
                    <a:pt x="1693" y="2213"/>
                  </a:lnTo>
                  <a:lnTo>
                    <a:pt x="1705" y="2218"/>
                  </a:lnTo>
                  <a:lnTo>
                    <a:pt x="1707" y="2227"/>
                  </a:lnTo>
                  <a:lnTo>
                    <a:pt x="1697" y="2229"/>
                  </a:lnTo>
                  <a:lnTo>
                    <a:pt x="1694" y="2237"/>
                  </a:lnTo>
                  <a:lnTo>
                    <a:pt x="1696" y="2246"/>
                  </a:lnTo>
                  <a:lnTo>
                    <a:pt x="1697" y="2255"/>
                  </a:lnTo>
                  <a:lnTo>
                    <a:pt x="1707" y="2262"/>
                  </a:lnTo>
                  <a:lnTo>
                    <a:pt x="1705" y="2270"/>
                  </a:lnTo>
                  <a:lnTo>
                    <a:pt x="1696" y="2276"/>
                  </a:lnTo>
                  <a:lnTo>
                    <a:pt x="1698" y="2284"/>
                  </a:lnTo>
                  <a:lnTo>
                    <a:pt x="1694" y="2292"/>
                  </a:lnTo>
                  <a:lnTo>
                    <a:pt x="1682" y="2288"/>
                  </a:lnTo>
                  <a:lnTo>
                    <a:pt x="1670" y="2289"/>
                  </a:lnTo>
                  <a:lnTo>
                    <a:pt x="1661" y="2290"/>
                  </a:lnTo>
                  <a:lnTo>
                    <a:pt x="1648" y="2289"/>
                  </a:lnTo>
                  <a:lnTo>
                    <a:pt x="1641" y="2288"/>
                  </a:lnTo>
                  <a:lnTo>
                    <a:pt x="1634" y="2296"/>
                  </a:lnTo>
                  <a:lnTo>
                    <a:pt x="1626" y="2303"/>
                  </a:lnTo>
                  <a:lnTo>
                    <a:pt x="1626" y="2294"/>
                  </a:lnTo>
                  <a:lnTo>
                    <a:pt x="1627" y="2285"/>
                  </a:lnTo>
                  <a:lnTo>
                    <a:pt x="1619" y="2277"/>
                  </a:lnTo>
                  <a:lnTo>
                    <a:pt x="1610" y="2274"/>
                  </a:lnTo>
                  <a:lnTo>
                    <a:pt x="1601" y="2280"/>
                  </a:lnTo>
                  <a:lnTo>
                    <a:pt x="1589" y="2286"/>
                  </a:lnTo>
                  <a:lnTo>
                    <a:pt x="1578" y="2289"/>
                  </a:lnTo>
                  <a:lnTo>
                    <a:pt x="1577" y="2298"/>
                  </a:lnTo>
                  <a:lnTo>
                    <a:pt x="1575" y="2308"/>
                  </a:lnTo>
                  <a:lnTo>
                    <a:pt x="1571" y="2316"/>
                  </a:lnTo>
                  <a:lnTo>
                    <a:pt x="1560" y="2321"/>
                  </a:lnTo>
                  <a:lnTo>
                    <a:pt x="1539" y="2322"/>
                  </a:lnTo>
                  <a:lnTo>
                    <a:pt x="1538" y="2320"/>
                  </a:lnTo>
                  <a:lnTo>
                    <a:pt x="1533" y="2311"/>
                  </a:lnTo>
                  <a:lnTo>
                    <a:pt x="1533" y="2302"/>
                  </a:lnTo>
                  <a:lnTo>
                    <a:pt x="1533" y="2293"/>
                  </a:lnTo>
                  <a:lnTo>
                    <a:pt x="1531" y="2284"/>
                  </a:lnTo>
                  <a:lnTo>
                    <a:pt x="1525" y="2275"/>
                  </a:lnTo>
                  <a:lnTo>
                    <a:pt x="1519" y="2267"/>
                  </a:lnTo>
                  <a:lnTo>
                    <a:pt x="1515" y="2258"/>
                  </a:lnTo>
                  <a:lnTo>
                    <a:pt x="1511" y="2249"/>
                  </a:lnTo>
                  <a:lnTo>
                    <a:pt x="1507" y="2241"/>
                  </a:lnTo>
                  <a:lnTo>
                    <a:pt x="1501" y="2232"/>
                  </a:lnTo>
                  <a:lnTo>
                    <a:pt x="1496" y="2224"/>
                  </a:lnTo>
                  <a:lnTo>
                    <a:pt x="1489" y="2216"/>
                  </a:lnTo>
                  <a:lnTo>
                    <a:pt x="1482" y="2208"/>
                  </a:lnTo>
                  <a:lnTo>
                    <a:pt x="1473" y="2200"/>
                  </a:lnTo>
                  <a:lnTo>
                    <a:pt x="1465" y="2193"/>
                  </a:lnTo>
                  <a:lnTo>
                    <a:pt x="1454" y="2190"/>
                  </a:lnTo>
                  <a:lnTo>
                    <a:pt x="1443" y="2185"/>
                  </a:lnTo>
                  <a:lnTo>
                    <a:pt x="1434" y="2178"/>
                  </a:lnTo>
                  <a:lnTo>
                    <a:pt x="1426" y="2171"/>
                  </a:lnTo>
                  <a:lnTo>
                    <a:pt x="1417" y="2164"/>
                  </a:lnTo>
                  <a:lnTo>
                    <a:pt x="1408" y="2157"/>
                  </a:lnTo>
                  <a:lnTo>
                    <a:pt x="1399" y="2149"/>
                  </a:lnTo>
                  <a:lnTo>
                    <a:pt x="1389" y="2143"/>
                  </a:lnTo>
                  <a:lnTo>
                    <a:pt x="1378" y="2138"/>
                  </a:lnTo>
                  <a:lnTo>
                    <a:pt x="1366" y="2135"/>
                  </a:lnTo>
                  <a:lnTo>
                    <a:pt x="1353" y="2134"/>
                  </a:lnTo>
                  <a:lnTo>
                    <a:pt x="1341" y="2135"/>
                  </a:lnTo>
                  <a:lnTo>
                    <a:pt x="1328" y="2138"/>
                  </a:lnTo>
                  <a:lnTo>
                    <a:pt x="1315" y="2139"/>
                  </a:lnTo>
                  <a:lnTo>
                    <a:pt x="1303" y="2142"/>
                  </a:lnTo>
                  <a:lnTo>
                    <a:pt x="1292" y="2139"/>
                  </a:lnTo>
                  <a:lnTo>
                    <a:pt x="1280" y="2134"/>
                  </a:lnTo>
                  <a:lnTo>
                    <a:pt x="1268" y="2130"/>
                  </a:lnTo>
                  <a:lnTo>
                    <a:pt x="1255" y="2129"/>
                  </a:lnTo>
                  <a:lnTo>
                    <a:pt x="1243" y="2126"/>
                  </a:lnTo>
                  <a:lnTo>
                    <a:pt x="1230" y="2124"/>
                  </a:lnTo>
                  <a:lnTo>
                    <a:pt x="1218" y="2123"/>
                  </a:lnTo>
                  <a:lnTo>
                    <a:pt x="1205" y="2123"/>
                  </a:lnTo>
                  <a:lnTo>
                    <a:pt x="1191" y="2122"/>
                  </a:lnTo>
                  <a:lnTo>
                    <a:pt x="1178" y="2121"/>
                  </a:lnTo>
                  <a:lnTo>
                    <a:pt x="1166" y="2119"/>
                  </a:lnTo>
                  <a:lnTo>
                    <a:pt x="1155" y="2114"/>
                  </a:lnTo>
                  <a:lnTo>
                    <a:pt x="1143" y="2110"/>
                  </a:lnTo>
                  <a:lnTo>
                    <a:pt x="1131" y="2106"/>
                  </a:lnTo>
                  <a:lnTo>
                    <a:pt x="1118" y="2104"/>
                  </a:lnTo>
                  <a:lnTo>
                    <a:pt x="1106" y="2105"/>
                  </a:lnTo>
                  <a:lnTo>
                    <a:pt x="1093" y="2109"/>
                  </a:lnTo>
                  <a:lnTo>
                    <a:pt x="1089" y="2117"/>
                  </a:lnTo>
                  <a:lnTo>
                    <a:pt x="1092" y="2125"/>
                  </a:lnTo>
                  <a:lnTo>
                    <a:pt x="1100" y="2132"/>
                  </a:lnTo>
                  <a:lnTo>
                    <a:pt x="1107" y="2140"/>
                  </a:lnTo>
                  <a:lnTo>
                    <a:pt x="1104" y="2149"/>
                  </a:lnTo>
                  <a:lnTo>
                    <a:pt x="1092" y="2152"/>
                  </a:lnTo>
                  <a:lnTo>
                    <a:pt x="1079" y="2151"/>
                  </a:lnTo>
                  <a:lnTo>
                    <a:pt x="1065" y="2149"/>
                  </a:lnTo>
                  <a:lnTo>
                    <a:pt x="1054" y="2145"/>
                  </a:lnTo>
                  <a:lnTo>
                    <a:pt x="1054" y="2136"/>
                  </a:lnTo>
                  <a:lnTo>
                    <a:pt x="1054" y="2126"/>
                  </a:lnTo>
                  <a:lnTo>
                    <a:pt x="1046" y="2131"/>
                  </a:lnTo>
                  <a:lnTo>
                    <a:pt x="1036" y="2137"/>
                  </a:lnTo>
                  <a:lnTo>
                    <a:pt x="1026" y="2143"/>
                  </a:lnTo>
                  <a:lnTo>
                    <a:pt x="1013" y="2143"/>
                  </a:lnTo>
                  <a:lnTo>
                    <a:pt x="1005" y="2137"/>
                  </a:lnTo>
                  <a:lnTo>
                    <a:pt x="1004" y="2128"/>
                  </a:lnTo>
                  <a:lnTo>
                    <a:pt x="1006" y="2119"/>
                  </a:lnTo>
                  <a:lnTo>
                    <a:pt x="1002" y="2110"/>
                  </a:lnTo>
                  <a:lnTo>
                    <a:pt x="990" y="2106"/>
                  </a:lnTo>
                  <a:lnTo>
                    <a:pt x="977" y="2109"/>
                  </a:lnTo>
                  <a:lnTo>
                    <a:pt x="967" y="2114"/>
                  </a:lnTo>
                  <a:lnTo>
                    <a:pt x="956" y="2119"/>
                  </a:lnTo>
                  <a:lnTo>
                    <a:pt x="944" y="2122"/>
                  </a:lnTo>
                  <a:lnTo>
                    <a:pt x="931" y="2121"/>
                  </a:lnTo>
                  <a:lnTo>
                    <a:pt x="920" y="2115"/>
                  </a:lnTo>
                  <a:lnTo>
                    <a:pt x="916" y="2106"/>
                  </a:lnTo>
                  <a:lnTo>
                    <a:pt x="913" y="2097"/>
                  </a:lnTo>
                  <a:lnTo>
                    <a:pt x="917" y="2092"/>
                  </a:lnTo>
                  <a:lnTo>
                    <a:pt x="920" y="2083"/>
                  </a:lnTo>
                  <a:lnTo>
                    <a:pt x="931" y="2084"/>
                  </a:lnTo>
                  <a:lnTo>
                    <a:pt x="930" y="2093"/>
                  </a:lnTo>
                  <a:lnTo>
                    <a:pt x="937" y="2099"/>
                  </a:lnTo>
                  <a:lnTo>
                    <a:pt x="946" y="2094"/>
                  </a:lnTo>
                  <a:lnTo>
                    <a:pt x="952" y="2086"/>
                  </a:lnTo>
                  <a:lnTo>
                    <a:pt x="963" y="2084"/>
                  </a:lnTo>
                  <a:lnTo>
                    <a:pt x="974" y="2088"/>
                  </a:lnTo>
                  <a:lnTo>
                    <a:pt x="987" y="2091"/>
                  </a:lnTo>
                  <a:lnTo>
                    <a:pt x="1001" y="2091"/>
                  </a:lnTo>
                  <a:lnTo>
                    <a:pt x="1012" y="2088"/>
                  </a:lnTo>
                  <a:lnTo>
                    <a:pt x="1016" y="2079"/>
                  </a:lnTo>
                  <a:lnTo>
                    <a:pt x="1008" y="2072"/>
                  </a:lnTo>
                  <a:lnTo>
                    <a:pt x="997" y="2075"/>
                  </a:lnTo>
                  <a:lnTo>
                    <a:pt x="985" y="2080"/>
                  </a:lnTo>
                  <a:lnTo>
                    <a:pt x="973" y="2081"/>
                  </a:lnTo>
                  <a:lnTo>
                    <a:pt x="960" y="2080"/>
                  </a:lnTo>
                  <a:lnTo>
                    <a:pt x="951" y="2074"/>
                  </a:lnTo>
                  <a:lnTo>
                    <a:pt x="955" y="2065"/>
                  </a:lnTo>
                  <a:lnTo>
                    <a:pt x="967" y="2064"/>
                  </a:lnTo>
                  <a:lnTo>
                    <a:pt x="980" y="2066"/>
                  </a:lnTo>
                  <a:lnTo>
                    <a:pt x="983" y="2060"/>
                  </a:lnTo>
                  <a:lnTo>
                    <a:pt x="970" y="2056"/>
                  </a:lnTo>
                  <a:lnTo>
                    <a:pt x="969" y="2048"/>
                  </a:lnTo>
                  <a:lnTo>
                    <a:pt x="978" y="2041"/>
                  </a:lnTo>
                  <a:lnTo>
                    <a:pt x="984" y="2033"/>
                  </a:lnTo>
                  <a:lnTo>
                    <a:pt x="983" y="2024"/>
                  </a:lnTo>
                  <a:lnTo>
                    <a:pt x="973" y="2018"/>
                  </a:lnTo>
                  <a:lnTo>
                    <a:pt x="960" y="2018"/>
                  </a:lnTo>
                  <a:lnTo>
                    <a:pt x="959" y="2028"/>
                  </a:lnTo>
                  <a:lnTo>
                    <a:pt x="959" y="2037"/>
                  </a:lnTo>
                  <a:lnTo>
                    <a:pt x="955" y="2046"/>
                  </a:lnTo>
                  <a:lnTo>
                    <a:pt x="946" y="2052"/>
                  </a:lnTo>
                  <a:lnTo>
                    <a:pt x="934" y="2049"/>
                  </a:lnTo>
                  <a:lnTo>
                    <a:pt x="927" y="2042"/>
                  </a:lnTo>
                  <a:lnTo>
                    <a:pt x="920" y="2033"/>
                  </a:lnTo>
                  <a:lnTo>
                    <a:pt x="918" y="2024"/>
                  </a:lnTo>
                  <a:lnTo>
                    <a:pt x="917" y="2015"/>
                  </a:lnTo>
                  <a:lnTo>
                    <a:pt x="909" y="2008"/>
                  </a:lnTo>
                  <a:lnTo>
                    <a:pt x="896" y="2009"/>
                  </a:lnTo>
                  <a:lnTo>
                    <a:pt x="889" y="2017"/>
                  </a:lnTo>
                  <a:lnTo>
                    <a:pt x="895" y="2025"/>
                  </a:lnTo>
                  <a:lnTo>
                    <a:pt x="906" y="2030"/>
                  </a:lnTo>
                  <a:lnTo>
                    <a:pt x="909" y="2039"/>
                  </a:lnTo>
                  <a:lnTo>
                    <a:pt x="903" y="2048"/>
                  </a:lnTo>
                  <a:lnTo>
                    <a:pt x="897" y="2056"/>
                  </a:lnTo>
                  <a:lnTo>
                    <a:pt x="889" y="2063"/>
                  </a:lnTo>
                  <a:lnTo>
                    <a:pt x="878" y="2068"/>
                  </a:lnTo>
                  <a:lnTo>
                    <a:pt x="864" y="2068"/>
                  </a:lnTo>
                  <a:lnTo>
                    <a:pt x="853" y="2065"/>
                  </a:lnTo>
                  <a:lnTo>
                    <a:pt x="848" y="2056"/>
                  </a:lnTo>
                  <a:lnTo>
                    <a:pt x="860" y="2051"/>
                  </a:lnTo>
                  <a:lnTo>
                    <a:pt x="869" y="2045"/>
                  </a:lnTo>
                  <a:lnTo>
                    <a:pt x="871" y="2037"/>
                  </a:lnTo>
                  <a:lnTo>
                    <a:pt x="881" y="2031"/>
                  </a:lnTo>
                  <a:lnTo>
                    <a:pt x="881" y="2022"/>
                  </a:lnTo>
                  <a:lnTo>
                    <a:pt x="869" y="2017"/>
                  </a:lnTo>
                  <a:lnTo>
                    <a:pt x="857" y="2020"/>
                  </a:lnTo>
                  <a:lnTo>
                    <a:pt x="854" y="2028"/>
                  </a:lnTo>
                  <a:lnTo>
                    <a:pt x="850" y="2037"/>
                  </a:lnTo>
                  <a:lnTo>
                    <a:pt x="837" y="2035"/>
                  </a:lnTo>
                  <a:lnTo>
                    <a:pt x="826" y="2030"/>
                  </a:lnTo>
                  <a:lnTo>
                    <a:pt x="822" y="2021"/>
                  </a:lnTo>
                  <a:lnTo>
                    <a:pt x="825" y="2012"/>
                  </a:lnTo>
                  <a:lnTo>
                    <a:pt x="837" y="2009"/>
                  </a:lnTo>
                  <a:lnTo>
                    <a:pt x="844" y="2003"/>
                  </a:lnTo>
                  <a:lnTo>
                    <a:pt x="846" y="1993"/>
                  </a:lnTo>
                  <a:lnTo>
                    <a:pt x="833" y="1990"/>
                  </a:lnTo>
                  <a:lnTo>
                    <a:pt x="822" y="1994"/>
                  </a:lnTo>
                  <a:lnTo>
                    <a:pt x="809" y="1996"/>
                  </a:lnTo>
                  <a:lnTo>
                    <a:pt x="795" y="1995"/>
                  </a:lnTo>
                  <a:lnTo>
                    <a:pt x="786" y="1990"/>
                  </a:lnTo>
                  <a:lnTo>
                    <a:pt x="777" y="1982"/>
                  </a:lnTo>
                  <a:lnTo>
                    <a:pt x="766" y="1979"/>
                  </a:lnTo>
                  <a:lnTo>
                    <a:pt x="755" y="1974"/>
                  </a:lnTo>
                  <a:lnTo>
                    <a:pt x="752" y="1967"/>
                  </a:lnTo>
                  <a:lnTo>
                    <a:pt x="765" y="1964"/>
                  </a:lnTo>
                  <a:lnTo>
                    <a:pt x="777" y="1961"/>
                  </a:lnTo>
                  <a:lnTo>
                    <a:pt x="780" y="1953"/>
                  </a:lnTo>
                  <a:lnTo>
                    <a:pt x="793" y="1954"/>
                  </a:lnTo>
                  <a:lnTo>
                    <a:pt x="807" y="1952"/>
                  </a:lnTo>
                  <a:lnTo>
                    <a:pt x="819" y="1951"/>
                  </a:lnTo>
                  <a:lnTo>
                    <a:pt x="826" y="1943"/>
                  </a:lnTo>
                  <a:lnTo>
                    <a:pt x="826" y="1934"/>
                  </a:lnTo>
                  <a:lnTo>
                    <a:pt x="815" y="1931"/>
                  </a:lnTo>
                  <a:lnTo>
                    <a:pt x="802" y="1933"/>
                  </a:lnTo>
                  <a:lnTo>
                    <a:pt x="790" y="1930"/>
                  </a:lnTo>
                  <a:lnTo>
                    <a:pt x="777" y="1928"/>
                  </a:lnTo>
                  <a:lnTo>
                    <a:pt x="765" y="1928"/>
                  </a:lnTo>
                  <a:lnTo>
                    <a:pt x="753" y="1933"/>
                  </a:lnTo>
                  <a:lnTo>
                    <a:pt x="746" y="1932"/>
                  </a:lnTo>
                  <a:lnTo>
                    <a:pt x="756" y="1927"/>
                  </a:lnTo>
                  <a:lnTo>
                    <a:pt x="755" y="1917"/>
                  </a:lnTo>
                  <a:lnTo>
                    <a:pt x="752" y="1908"/>
                  </a:lnTo>
                  <a:lnTo>
                    <a:pt x="753" y="1900"/>
                  </a:lnTo>
                  <a:lnTo>
                    <a:pt x="766" y="1896"/>
                  </a:lnTo>
                  <a:lnTo>
                    <a:pt x="776" y="1890"/>
                  </a:lnTo>
                  <a:lnTo>
                    <a:pt x="781" y="1882"/>
                  </a:lnTo>
                  <a:lnTo>
                    <a:pt x="772" y="1878"/>
                  </a:lnTo>
                  <a:lnTo>
                    <a:pt x="760" y="1877"/>
                  </a:lnTo>
                  <a:lnTo>
                    <a:pt x="746" y="1876"/>
                  </a:lnTo>
                  <a:lnTo>
                    <a:pt x="734" y="1876"/>
                  </a:lnTo>
                  <a:lnTo>
                    <a:pt x="721" y="1876"/>
                  </a:lnTo>
                  <a:lnTo>
                    <a:pt x="709" y="1874"/>
                  </a:lnTo>
                  <a:lnTo>
                    <a:pt x="697" y="1869"/>
                  </a:lnTo>
                  <a:lnTo>
                    <a:pt x="699" y="1860"/>
                  </a:lnTo>
                  <a:lnTo>
                    <a:pt x="710" y="1861"/>
                  </a:lnTo>
                  <a:lnTo>
                    <a:pt x="720" y="1868"/>
                  </a:lnTo>
                  <a:lnTo>
                    <a:pt x="732" y="1869"/>
                  </a:lnTo>
                  <a:lnTo>
                    <a:pt x="741" y="1862"/>
                  </a:lnTo>
                  <a:lnTo>
                    <a:pt x="728" y="1863"/>
                  </a:lnTo>
                  <a:lnTo>
                    <a:pt x="718" y="1858"/>
                  </a:lnTo>
                  <a:lnTo>
                    <a:pt x="716" y="1849"/>
                  </a:lnTo>
                  <a:lnTo>
                    <a:pt x="718" y="1839"/>
                  </a:lnTo>
                  <a:lnTo>
                    <a:pt x="710" y="1832"/>
                  </a:lnTo>
                  <a:lnTo>
                    <a:pt x="697" y="1829"/>
                  </a:lnTo>
                  <a:lnTo>
                    <a:pt x="685" y="1828"/>
                  </a:lnTo>
                  <a:lnTo>
                    <a:pt x="672" y="1828"/>
                  </a:lnTo>
                  <a:lnTo>
                    <a:pt x="661" y="1833"/>
                  </a:lnTo>
                  <a:lnTo>
                    <a:pt x="650" y="1837"/>
                  </a:lnTo>
                  <a:lnTo>
                    <a:pt x="642" y="1831"/>
                  </a:lnTo>
                  <a:lnTo>
                    <a:pt x="647" y="1823"/>
                  </a:lnTo>
                  <a:lnTo>
                    <a:pt x="660" y="1823"/>
                  </a:lnTo>
                  <a:lnTo>
                    <a:pt x="672" y="1825"/>
                  </a:lnTo>
                  <a:lnTo>
                    <a:pt x="675" y="1819"/>
                  </a:lnTo>
                  <a:lnTo>
                    <a:pt x="681" y="1810"/>
                  </a:lnTo>
                  <a:lnTo>
                    <a:pt x="685" y="1802"/>
                  </a:lnTo>
                  <a:lnTo>
                    <a:pt x="696" y="1798"/>
                  </a:lnTo>
                  <a:lnTo>
                    <a:pt x="706" y="1794"/>
                  </a:lnTo>
                  <a:lnTo>
                    <a:pt x="696" y="1789"/>
                  </a:lnTo>
                  <a:lnTo>
                    <a:pt x="684" y="1790"/>
                  </a:lnTo>
                  <a:lnTo>
                    <a:pt x="675" y="1792"/>
                  </a:lnTo>
                  <a:lnTo>
                    <a:pt x="663" y="1791"/>
                  </a:lnTo>
                  <a:lnTo>
                    <a:pt x="661" y="1785"/>
                  </a:lnTo>
                  <a:lnTo>
                    <a:pt x="671" y="1777"/>
                  </a:lnTo>
                  <a:lnTo>
                    <a:pt x="677" y="1769"/>
                  </a:lnTo>
                  <a:lnTo>
                    <a:pt x="672" y="1761"/>
                  </a:lnTo>
                  <a:lnTo>
                    <a:pt x="663" y="1761"/>
                  </a:lnTo>
                  <a:lnTo>
                    <a:pt x="660" y="1770"/>
                  </a:lnTo>
                  <a:lnTo>
                    <a:pt x="651" y="1763"/>
                  </a:lnTo>
                  <a:lnTo>
                    <a:pt x="639" y="1763"/>
                  </a:lnTo>
                  <a:lnTo>
                    <a:pt x="626" y="1766"/>
                  </a:lnTo>
                  <a:lnTo>
                    <a:pt x="615" y="1771"/>
                  </a:lnTo>
                  <a:lnTo>
                    <a:pt x="604" y="1774"/>
                  </a:lnTo>
                  <a:lnTo>
                    <a:pt x="593" y="1769"/>
                  </a:lnTo>
                  <a:lnTo>
                    <a:pt x="591" y="1760"/>
                  </a:lnTo>
                  <a:lnTo>
                    <a:pt x="600" y="1753"/>
                  </a:lnTo>
                  <a:lnTo>
                    <a:pt x="602" y="1744"/>
                  </a:lnTo>
                  <a:lnTo>
                    <a:pt x="593" y="1740"/>
                  </a:lnTo>
                  <a:lnTo>
                    <a:pt x="590" y="1731"/>
                  </a:lnTo>
                  <a:lnTo>
                    <a:pt x="594" y="1724"/>
                  </a:lnTo>
                  <a:lnTo>
                    <a:pt x="607" y="1721"/>
                  </a:lnTo>
                  <a:lnTo>
                    <a:pt x="607" y="1714"/>
                  </a:lnTo>
                  <a:lnTo>
                    <a:pt x="601" y="1706"/>
                  </a:lnTo>
                  <a:lnTo>
                    <a:pt x="601" y="1698"/>
                  </a:lnTo>
                  <a:lnTo>
                    <a:pt x="598" y="1689"/>
                  </a:lnTo>
                  <a:lnTo>
                    <a:pt x="604" y="1682"/>
                  </a:lnTo>
                  <a:lnTo>
                    <a:pt x="594" y="1676"/>
                  </a:lnTo>
                  <a:lnTo>
                    <a:pt x="584" y="1670"/>
                  </a:lnTo>
                  <a:lnTo>
                    <a:pt x="573" y="1670"/>
                  </a:lnTo>
                  <a:lnTo>
                    <a:pt x="562" y="1667"/>
                  </a:lnTo>
                  <a:lnTo>
                    <a:pt x="556" y="1661"/>
                  </a:lnTo>
                  <a:lnTo>
                    <a:pt x="558" y="1654"/>
                  </a:lnTo>
                  <a:lnTo>
                    <a:pt x="558" y="1646"/>
                  </a:lnTo>
                  <a:lnTo>
                    <a:pt x="558" y="1639"/>
                  </a:lnTo>
                  <a:lnTo>
                    <a:pt x="547" y="1637"/>
                  </a:lnTo>
                  <a:lnTo>
                    <a:pt x="534" y="1638"/>
                  </a:lnTo>
                  <a:lnTo>
                    <a:pt x="524" y="1633"/>
                  </a:lnTo>
                  <a:lnTo>
                    <a:pt x="514" y="1639"/>
                  </a:lnTo>
                  <a:lnTo>
                    <a:pt x="503" y="1642"/>
                  </a:lnTo>
                  <a:lnTo>
                    <a:pt x="492" y="1640"/>
                  </a:lnTo>
                  <a:lnTo>
                    <a:pt x="491" y="1630"/>
                  </a:lnTo>
                  <a:lnTo>
                    <a:pt x="491" y="1621"/>
                  </a:lnTo>
                  <a:lnTo>
                    <a:pt x="478" y="1619"/>
                  </a:lnTo>
                  <a:lnTo>
                    <a:pt x="461" y="1622"/>
                  </a:lnTo>
                  <a:lnTo>
                    <a:pt x="453" y="1615"/>
                  </a:lnTo>
                  <a:lnTo>
                    <a:pt x="449" y="1607"/>
                  </a:lnTo>
                  <a:lnTo>
                    <a:pt x="439" y="1602"/>
                  </a:lnTo>
                  <a:lnTo>
                    <a:pt x="428" y="1598"/>
                  </a:lnTo>
                  <a:lnTo>
                    <a:pt x="417" y="1599"/>
                  </a:lnTo>
                  <a:lnTo>
                    <a:pt x="408" y="1604"/>
                  </a:lnTo>
                  <a:lnTo>
                    <a:pt x="398" y="1598"/>
                  </a:lnTo>
                  <a:lnTo>
                    <a:pt x="387" y="1593"/>
                  </a:lnTo>
                  <a:lnTo>
                    <a:pt x="379" y="1586"/>
                  </a:lnTo>
                  <a:lnTo>
                    <a:pt x="376" y="1577"/>
                  </a:lnTo>
                  <a:lnTo>
                    <a:pt x="375" y="1570"/>
                  </a:lnTo>
                  <a:lnTo>
                    <a:pt x="361" y="1570"/>
                  </a:lnTo>
                  <a:lnTo>
                    <a:pt x="348" y="1568"/>
                  </a:lnTo>
                  <a:lnTo>
                    <a:pt x="337" y="1563"/>
                  </a:lnTo>
                  <a:lnTo>
                    <a:pt x="326" y="1558"/>
                  </a:lnTo>
                  <a:lnTo>
                    <a:pt x="316" y="1553"/>
                  </a:lnTo>
                  <a:lnTo>
                    <a:pt x="305" y="1547"/>
                  </a:lnTo>
                  <a:lnTo>
                    <a:pt x="293" y="1542"/>
                  </a:lnTo>
                  <a:lnTo>
                    <a:pt x="282" y="1537"/>
                  </a:lnTo>
                  <a:lnTo>
                    <a:pt x="271" y="1532"/>
                  </a:lnTo>
                  <a:lnTo>
                    <a:pt x="260" y="1528"/>
                  </a:lnTo>
                  <a:lnTo>
                    <a:pt x="247" y="1525"/>
                  </a:lnTo>
                  <a:lnTo>
                    <a:pt x="238" y="1528"/>
                  </a:lnTo>
                  <a:lnTo>
                    <a:pt x="226" y="1523"/>
                  </a:lnTo>
                  <a:lnTo>
                    <a:pt x="219" y="1522"/>
                  </a:lnTo>
                  <a:lnTo>
                    <a:pt x="211" y="1523"/>
                  </a:lnTo>
                  <a:lnTo>
                    <a:pt x="201" y="1522"/>
                  </a:lnTo>
                  <a:lnTo>
                    <a:pt x="190" y="1518"/>
                  </a:lnTo>
                  <a:lnTo>
                    <a:pt x="189" y="1509"/>
                  </a:lnTo>
                  <a:lnTo>
                    <a:pt x="187" y="1501"/>
                  </a:lnTo>
                  <a:lnTo>
                    <a:pt x="191" y="1495"/>
                  </a:lnTo>
                  <a:lnTo>
                    <a:pt x="194" y="1486"/>
                  </a:lnTo>
                  <a:lnTo>
                    <a:pt x="186" y="1482"/>
                  </a:lnTo>
                  <a:lnTo>
                    <a:pt x="175" y="1486"/>
                  </a:lnTo>
                  <a:lnTo>
                    <a:pt x="162" y="1485"/>
                  </a:lnTo>
                  <a:lnTo>
                    <a:pt x="154" y="1487"/>
                  </a:lnTo>
                  <a:lnTo>
                    <a:pt x="145" y="1481"/>
                  </a:lnTo>
                  <a:lnTo>
                    <a:pt x="136" y="1474"/>
                  </a:lnTo>
                  <a:lnTo>
                    <a:pt x="126" y="1468"/>
                  </a:lnTo>
                  <a:lnTo>
                    <a:pt x="120" y="1460"/>
                  </a:lnTo>
                  <a:lnTo>
                    <a:pt x="113" y="1455"/>
                  </a:lnTo>
                  <a:lnTo>
                    <a:pt x="105" y="1447"/>
                  </a:lnTo>
                  <a:lnTo>
                    <a:pt x="94" y="1443"/>
                  </a:lnTo>
                  <a:lnTo>
                    <a:pt x="81" y="1442"/>
                  </a:lnTo>
                  <a:lnTo>
                    <a:pt x="71" y="1437"/>
                  </a:lnTo>
                  <a:lnTo>
                    <a:pt x="64" y="1429"/>
                  </a:lnTo>
                  <a:lnTo>
                    <a:pt x="59" y="1420"/>
                  </a:lnTo>
                  <a:lnTo>
                    <a:pt x="52" y="1412"/>
                  </a:lnTo>
                  <a:lnTo>
                    <a:pt x="42" y="1407"/>
                  </a:lnTo>
                  <a:lnTo>
                    <a:pt x="29" y="1403"/>
                  </a:lnTo>
                  <a:lnTo>
                    <a:pt x="21" y="1397"/>
                  </a:lnTo>
                  <a:lnTo>
                    <a:pt x="22" y="1388"/>
                  </a:lnTo>
                  <a:lnTo>
                    <a:pt x="24" y="1378"/>
                  </a:lnTo>
                  <a:lnTo>
                    <a:pt x="24" y="1369"/>
                  </a:lnTo>
                  <a:lnTo>
                    <a:pt x="22" y="1361"/>
                  </a:lnTo>
                  <a:lnTo>
                    <a:pt x="15" y="1354"/>
                  </a:lnTo>
                  <a:lnTo>
                    <a:pt x="7" y="1347"/>
                  </a:lnTo>
                  <a:lnTo>
                    <a:pt x="4" y="1338"/>
                  </a:lnTo>
                  <a:lnTo>
                    <a:pt x="3" y="1329"/>
                  </a:lnTo>
                  <a:lnTo>
                    <a:pt x="6" y="1320"/>
                  </a:lnTo>
                  <a:lnTo>
                    <a:pt x="0" y="1311"/>
                  </a:lnTo>
                  <a:lnTo>
                    <a:pt x="3" y="1301"/>
                  </a:lnTo>
                  <a:lnTo>
                    <a:pt x="18" y="1300"/>
                  </a:lnTo>
                  <a:lnTo>
                    <a:pt x="11" y="1310"/>
                  </a:lnTo>
                  <a:lnTo>
                    <a:pt x="21" y="1312"/>
                  </a:lnTo>
                  <a:lnTo>
                    <a:pt x="19" y="1321"/>
                  </a:lnTo>
                  <a:lnTo>
                    <a:pt x="25" y="1330"/>
                  </a:lnTo>
                  <a:lnTo>
                    <a:pt x="36" y="1335"/>
                  </a:lnTo>
                  <a:lnTo>
                    <a:pt x="46" y="1341"/>
                  </a:lnTo>
                  <a:lnTo>
                    <a:pt x="59" y="1340"/>
                  </a:lnTo>
                  <a:lnTo>
                    <a:pt x="70" y="1337"/>
                  </a:lnTo>
                  <a:lnTo>
                    <a:pt x="84" y="1336"/>
                  </a:lnTo>
                  <a:lnTo>
                    <a:pt x="96" y="1335"/>
                  </a:lnTo>
                  <a:lnTo>
                    <a:pt x="109" y="1332"/>
                  </a:lnTo>
                  <a:lnTo>
                    <a:pt x="123" y="1333"/>
                  </a:lnTo>
                  <a:lnTo>
                    <a:pt x="127" y="1340"/>
                  </a:lnTo>
                  <a:lnTo>
                    <a:pt x="124" y="1350"/>
                  </a:lnTo>
                  <a:lnTo>
                    <a:pt x="122" y="1359"/>
                  </a:lnTo>
                  <a:lnTo>
                    <a:pt x="129" y="1365"/>
                  </a:lnTo>
                  <a:lnTo>
                    <a:pt x="129" y="1373"/>
                  </a:lnTo>
                  <a:lnTo>
                    <a:pt x="127" y="1382"/>
                  </a:lnTo>
                  <a:lnTo>
                    <a:pt x="131" y="1385"/>
                  </a:lnTo>
                  <a:lnTo>
                    <a:pt x="140" y="1385"/>
                  </a:lnTo>
                  <a:lnTo>
                    <a:pt x="150" y="1383"/>
                  </a:lnTo>
                  <a:lnTo>
                    <a:pt x="162" y="1380"/>
                  </a:lnTo>
                  <a:lnTo>
                    <a:pt x="166" y="1372"/>
                  </a:lnTo>
                  <a:lnTo>
                    <a:pt x="172" y="1365"/>
                  </a:lnTo>
                  <a:lnTo>
                    <a:pt x="179" y="1359"/>
                  </a:lnTo>
                  <a:lnTo>
                    <a:pt x="193" y="1360"/>
                  </a:lnTo>
                  <a:lnTo>
                    <a:pt x="204" y="1362"/>
                  </a:lnTo>
                  <a:lnTo>
                    <a:pt x="212" y="1354"/>
                  </a:lnTo>
                  <a:lnTo>
                    <a:pt x="217" y="1345"/>
                  </a:lnTo>
                  <a:lnTo>
                    <a:pt x="225" y="1339"/>
                  </a:lnTo>
                  <a:lnTo>
                    <a:pt x="232" y="1347"/>
                  </a:lnTo>
                  <a:lnTo>
                    <a:pt x="242" y="1345"/>
                  </a:lnTo>
                  <a:lnTo>
                    <a:pt x="252" y="1343"/>
                  </a:lnTo>
                  <a:lnTo>
                    <a:pt x="254" y="1352"/>
                  </a:lnTo>
                  <a:lnTo>
                    <a:pt x="267" y="1350"/>
                  </a:lnTo>
                  <a:lnTo>
                    <a:pt x="274" y="1357"/>
                  </a:lnTo>
                  <a:lnTo>
                    <a:pt x="282" y="1360"/>
                  </a:lnTo>
                  <a:lnTo>
                    <a:pt x="291" y="1356"/>
                  </a:lnTo>
                  <a:lnTo>
                    <a:pt x="303" y="1353"/>
                  </a:lnTo>
                  <a:lnTo>
                    <a:pt x="307" y="1345"/>
                  </a:lnTo>
                  <a:lnTo>
                    <a:pt x="320" y="1342"/>
                  </a:lnTo>
                  <a:lnTo>
                    <a:pt x="333" y="1339"/>
                  </a:lnTo>
                  <a:lnTo>
                    <a:pt x="331" y="1331"/>
                  </a:lnTo>
                  <a:lnTo>
                    <a:pt x="326" y="1322"/>
                  </a:lnTo>
                  <a:lnTo>
                    <a:pt x="326" y="1312"/>
                  </a:lnTo>
                  <a:lnTo>
                    <a:pt x="335" y="1307"/>
                  </a:lnTo>
                  <a:lnTo>
                    <a:pt x="341" y="1299"/>
                  </a:lnTo>
                  <a:lnTo>
                    <a:pt x="347" y="1290"/>
                  </a:lnTo>
                  <a:lnTo>
                    <a:pt x="358" y="1288"/>
                  </a:lnTo>
                  <a:lnTo>
                    <a:pt x="372" y="1290"/>
                  </a:lnTo>
                  <a:lnTo>
                    <a:pt x="373" y="1282"/>
                  </a:lnTo>
                  <a:lnTo>
                    <a:pt x="372" y="1272"/>
                  </a:lnTo>
                  <a:lnTo>
                    <a:pt x="369" y="1263"/>
                  </a:lnTo>
                  <a:lnTo>
                    <a:pt x="366" y="1254"/>
                  </a:lnTo>
                  <a:lnTo>
                    <a:pt x="363" y="1245"/>
                  </a:lnTo>
                  <a:lnTo>
                    <a:pt x="361" y="1235"/>
                  </a:lnTo>
                  <a:lnTo>
                    <a:pt x="361" y="1227"/>
                  </a:lnTo>
                  <a:lnTo>
                    <a:pt x="348" y="1226"/>
                  </a:lnTo>
                  <a:lnTo>
                    <a:pt x="342" y="1218"/>
                  </a:lnTo>
                  <a:lnTo>
                    <a:pt x="347" y="1209"/>
                  </a:lnTo>
                  <a:lnTo>
                    <a:pt x="345" y="1200"/>
                  </a:lnTo>
                  <a:lnTo>
                    <a:pt x="342" y="1192"/>
                  </a:lnTo>
                  <a:lnTo>
                    <a:pt x="338" y="1186"/>
                  </a:lnTo>
                  <a:lnTo>
                    <a:pt x="326" y="1182"/>
                  </a:lnTo>
                  <a:lnTo>
                    <a:pt x="317" y="1175"/>
                  </a:lnTo>
                  <a:lnTo>
                    <a:pt x="317" y="1167"/>
                  </a:lnTo>
                  <a:lnTo>
                    <a:pt x="317" y="1157"/>
                  </a:lnTo>
                  <a:lnTo>
                    <a:pt x="324" y="1150"/>
                  </a:lnTo>
                  <a:lnTo>
                    <a:pt x="333" y="1142"/>
                  </a:lnTo>
                  <a:lnTo>
                    <a:pt x="333" y="1132"/>
                  </a:lnTo>
                  <a:lnTo>
                    <a:pt x="342" y="1129"/>
                  </a:lnTo>
                  <a:lnTo>
                    <a:pt x="355" y="1130"/>
                  </a:lnTo>
                  <a:lnTo>
                    <a:pt x="366" y="1128"/>
                  </a:lnTo>
                  <a:lnTo>
                    <a:pt x="366" y="1137"/>
                  </a:lnTo>
                  <a:lnTo>
                    <a:pt x="370" y="1145"/>
                  </a:lnTo>
                  <a:lnTo>
                    <a:pt x="379" y="1152"/>
                  </a:lnTo>
                  <a:lnTo>
                    <a:pt x="389" y="1156"/>
                  </a:lnTo>
                  <a:lnTo>
                    <a:pt x="397" y="1160"/>
                  </a:lnTo>
                  <a:lnTo>
                    <a:pt x="408" y="1155"/>
                  </a:lnTo>
                  <a:lnTo>
                    <a:pt x="417" y="1151"/>
                  </a:lnTo>
                  <a:lnTo>
                    <a:pt x="417" y="1141"/>
                  </a:lnTo>
                  <a:lnTo>
                    <a:pt x="419" y="1132"/>
                  </a:lnTo>
                  <a:lnTo>
                    <a:pt x="426" y="1125"/>
                  </a:lnTo>
                  <a:lnTo>
                    <a:pt x="437" y="1121"/>
                  </a:lnTo>
                  <a:lnTo>
                    <a:pt x="451" y="1122"/>
                  </a:lnTo>
                  <a:lnTo>
                    <a:pt x="460" y="1128"/>
                  </a:lnTo>
                  <a:lnTo>
                    <a:pt x="470" y="1134"/>
                  </a:lnTo>
                  <a:lnTo>
                    <a:pt x="484" y="1134"/>
                  </a:lnTo>
                  <a:lnTo>
                    <a:pt x="485" y="1142"/>
                  </a:lnTo>
                  <a:lnTo>
                    <a:pt x="486" y="1151"/>
                  </a:lnTo>
                  <a:lnTo>
                    <a:pt x="499" y="1151"/>
                  </a:lnTo>
                  <a:lnTo>
                    <a:pt x="512" y="1154"/>
                  </a:lnTo>
                  <a:lnTo>
                    <a:pt x="524" y="1152"/>
                  </a:lnTo>
                  <a:lnTo>
                    <a:pt x="535" y="1148"/>
                  </a:lnTo>
                  <a:lnTo>
                    <a:pt x="540" y="1141"/>
                  </a:lnTo>
                  <a:lnTo>
                    <a:pt x="538" y="1132"/>
                  </a:lnTo>
                  <a:lnTo>
                    <a:pt x="538" y="1123"/>
                  </a:lnTo>
                  <a:lnTo>
                    <a:pt x="540" y="1113"/>
                  </a:lnTo>
                  <a:lnTo>
                    <a:pt x="545" y="1106"/>
                  </a:lnTo>
                  <a:lnTo>
                    <a:pt x="559" y="1106"/>
                  </a:lnTo>
                  <a:lnTo>
                    <a:pt x="572" y="1104"/>
                  </a:lnTo>
                  <a:lnTo>
                    <a:pt x="586" y="1102"/>
                  </a:lnTo>
                  <a:lnTo>
                    <a:pt x="598" y="1101"/>
                  </a:lnTo>
                  <a:lnTo>
                    <a:pt x="611" y="1099"/>
                  </a:lnTo>
                  <a:lnTo>
                    <a:pt x="622" y="1103"/>
                  </a:lnTo>
                  <a:lnTo>
                    <a:pt x="635" y="1103"/>
                  </a:lnTo>
                  <a:lnTo>
                    <a:pt x="637" y="1094"/>
                  </a:lnTo>
                  <a:lnTo>
                    <a:pt x="640" y="1085"/>
                  </a:lnTo>
                  <a:lnTo>
                    <a:pt x="644" y="1076"/>
                  </a:lnTo>
                  <a:lnTo>
                    <a:pt x="650" y="1068"/>
                  </a:lnTo>
                  <a:lnTo>
                    <a:pt x="650" y="1059"/>
                  </a:lnTo>
                  <a:lnTo>
                    <a:pt x="651" y="1049"/>
                  </a:lnTo>
                  <a:lnTo>
                    <a:pt x="651" y="1040"/>
                  </a:lnTo>
                  <a:lnTo>
                    <a:pt x="653" y="1031"/>
                  </a:lnTo>
                  <a:lnTo>
                    <a:pt x="649" y="1022"/>
                  </a:lnTo>
                  <a:lnTo>
                    <a:pt x="643" y="1013"/>
                  </a:lnTo>
                  <a:lnTo>
                    <a:pt x="644" y="1004"/>
                  </a:lnTo>
                  <a:lnTo>
                    <a:pt x="646" y="995"/>
                  </a:lnTo>
                  <a:lnTo>
                    <a:pt x="646" y="984"/>
                  </a:lnTo>
                  <a:lnTo>
                    <a:pt x="651" y="979"/>
                  </a:lnTo>
                  <a:lnTo>
                    <a:pt x="658" y="984"/>
                  </a:lnTo>
                  <a:lnTo>
                    <a:pt x="668" y="985"/>
                  </a:lnTo>
                  <a:lnTo>
                    <a:pt x="671" y="975"/>
                  </a:lnTo>
                  <a:lnTo>
                    <a:pt x="677" y="968"/>
                  </a:lnTo>
                  <a:lnTo>
                    <a:pt x="691" y="969"/>
                  </a:lnTo>
                  <a:lnTo>
                    <a:pt x="700" y="963"/>
                  </a:lnTo>
                  <a:lnTo>
                    <a:pt x="707" y="955"/>
                  </a:lnTo>
                  <a:lnTo>
                    <a:pt x="714" y="947"/>
                  </a:lnTo>
                  <a:lnTo>
                    <a:pt x="718" y="938"/>
                  </a:lnTo>
                  <a:lnTo>
                    <a:pt x="717" y="929"/>
                  </a:lnTo>
                  <a:lnTo>
                    <a:pt x="717" y="920"/>
                  </a:lnTo>
                  <a:lnTo>
                    <a:pt x="717" y="910"/>
                  </a:lnTo>
                  <a:lnTo>
                    <a:pt x="717" y="901"/>
                  </a:lnTo>
                  <a:lnTo>
                    <a:pt x="717" y="892"/>
                  </a:lnTo>
                  <a:lnTo>
                    <a:pt x="716" y="882"/>
                  </a:lnTo>
                  <a:lnTo>
                    <a:pt x="716" y="873"/>
                  </a:lnTo>
                  <a:lnTo>
                    <a:pt x="716" y="864"/>
                  </a:lnTo>
                  <a:lnTo>
                    <a:pt x="714" y="854"/>
                  </a:lnTo>
                  <a:lnTo>
                    <a:pt x="714" y="845"/>
                  </a:lnTo>
                  <a:lnTo>
                    <a:pt x="713" y="836"/>
                  </a:lnTo>
                  <a:lnTo>
                    <a:pt x="713" y="826"/>
                  </a:lnTo>
                  <a:lnTo>
                    <a:pt x="711" y="817"/>
                  </a:lnTo>
                  <a:lnTo>
                    <a:pt x="711" y="808"/>
                  </a:lnTo>
                  <a:lnTo>
                    <a:pt x="710" y="798"/>
                  </a:lnTo>
                  <a:lnTo>
                    <a:pt x="709" y="789"/>
                  </a:lnTo>
                  <a:lnTo>
                    <a:pt x="707" y="780"/>
                  </a:lnTo>
                  <a:lnTo>
                    <a:pt x="706" y="770"/>
                  </a:lnTo>
                  <a:lnTo>
                    <a:pt x="704" y="760"/>
                  </a:lnTo>
                  <a:lnTo>
                    <a:pt x="704" y="751"/>
                  </a:lnTo>
                  <a:lnTo>
                    <a:pt x="703" y="742"/>
                  </a:lnTo>
                  <a:lnTo>
                    <a:pt x="703" y="732"/>
                  </a:lnTo>
                  <a:lnTo>
                    <a:pt x="703" y="723"/>
                  </a:lnTo>
                  <a:lnTo>
                    <a:pt x="704" y="714"/>
                  </a:lnTo>
                  <a:lnTo>
                    <a:pt x="704" y="704"/>
                  </a:lnTo>
                  <a:lnTo>
                    <a:pt x="706" y="695"/>
                  </a:lnTo>
                  <a:lnTo>
                    <a:pt x="707" y="686"/>
                  </a:lnTo>
                  <a:lnTo>
                    <a:pt x="709" y="677"/>
                  </a:lnTo>
                  <a:lnTo>
                    <a:pt x="710" y="667"/>
                  </a:lnTo>
                  <a:lnTo>
                    <a:pt x="711" y="658"/>
                  </a:lnTo>
                  <a:lnTo>
                    <a:pt x="713" y="649"/>
                  </a:lnTo>
                  <a:lnTo>
                    <a:pt x="716" y="640"/>
                  </a:lnTo>
                  <a:lnTo>
                    <a:pt x="718" y="630"/>
                  </a:lnTo>
                  <a:lnTo>
                    <a:pt x="721" y="621"/>
                  </a:lnTo>
                  <a:lnTo>
                    <a:pt x="725" y="612"/>
                  </a:lnTo>
                  <a:lnTo>
                    <a:pt x="731" y="604"/>
                  </a:lnTo>
                  <a:lnTo>
                    <a:pt x="739" y="598"/>
                  </a:lnTo>
                  <a:lnTo>
                    <a:pt x="751" y="592"/>
                  </a:lnTo>
                  <a:lnTo>
                    <a:pt x="762" y="587"/>
                  </a:lnTo>
                  <a:lnTo>
                    <a:pt x="773" y="582"/>
                  </a:lnTo>
                  <a:lnTo>
                    <a:pt x="786" y="577"/>
                  </a:lnTo>
                  <a:lnTo>
                    <a:pt x="794" y="571"/>
                  </a:lnTo>
                  <a:lnTo>
                    <a:pt x="800" y="563"/>
                  </a:lnTo>
                  <a:lnTo>
                    <a:pt x="802" y="554"/>
                  </a:lnTo>
                  <a:lnTo>
                    <a:pt x="804" y="545"/>
                  </a:lnTo>
                  <a:lnTo>
                    <a:pt x="807" y="535"/>
                  </a:lnTo>
                  <a:lnTo>
                    <a:pt x="808" y="526"/>
                  </a:lnTo>
                  <a:lnTo>
                    <a:pt x="811" y="516"/>
                  </a:lnTo>
                  <a:lnTo>
                    <a:pt x="814" y="507"/>
                  </a:lnTo>
                  <a:lnTo>
                    <a:pt x="816" y="498"/>
                  </a:lnTo>
                  <a:lnTo>
                    <a:pt x="818" y="488"/>
                  </a:lnTo>
                  <a:lnTo>
                    <a:pt x="822" y="479"/>
                  </a:lnTo>
                  <a:lnTo>
                    <a:pt x="825" y="471"/>
                  </a:lnTo>
                  <a:lnTo>
                    <a:pt x="834" y="467"/>
                  </a:lnTo>
                  <a:lnTo>
                    <a:pt x="847" y="467"/>
                  </a:lnTo>
                  <a:lnTo>
                    <a:pt x="861" y="466"/>
                  </a:lnTo>
                  <a:lnTo>
                    <a:pt x="874" y="466"/>
                  </a:lnTo>
                  <a:lnTo>
                    <a:pt x="886" y="466"/>
                  </a:lnTo>
                  <a:lnTo>
                    <a:pt x="899" y="470"/>
                  </a:lnTo>
                  <a:lnTo>
                    <a:pt x="911" y="473"/>
                  </a:lnTo>
                  <a:lnTo>
                    <a:pt x="924" y="475"/>
                  </a:lnTo>
                  <a:lnTo>
                    <a:pt x="937" y="476"/>
                  </a:lnTo>
                  <a:lnTo>
                    <a:pt x="949" y="478"/>
                  </a:lnTo>
                  <a:lnTo>
                    <a:pt x="963" y="479"/>
                  </a:lnTo>
                  <a:lnTo>
                    <a:pt x="976" y="480"/>
                  </a:lnTo>
                  <a:lnTo>
                    <a:pt x="988" y="480"/>
                  </a:lnTo>
                  <a:lnTo>
                    <a:pt x="1001" y="481"/>
                  </a:lnTo>
                  <a:lnTo>
                    <a:pt x="1015" y="480"/>
                  </a:lnTo>
                  <a:lnTo>
                    <a:pt x="1026" y="477"/>
                  </a:lnTo>
                  <a:lnTo>
                    <a:pt x="1037" y="472"/>
                  </a:lnTo>
                  <a:lnTo>
                    <a:pt x="1047" y="465"/>
                  </a:lnTo>
                  <a:lnTo>
                    <a:pt x="1057" y="459"/>
                  </a:lnTo>
                  <a:lnTo>
                    <a:pt x="1068" y="454"/>
                  </a:lnTo>
                  <a:lnTo>
                    <a:pt x="1079" y="450"/>
                  </a:lnTo>
                  <a:lnTo>
                    <a:pt x="1092" y="447"/>
                  </a:lnTo>
                  <a:lnTo>
                    <a:pt x="1104" y="445"/>
                  </a:lnTo>
                  <a:lnTo>
                    <a:pt x="1122" y="443"/>
                  </a:lnTo>
                  <a:lnTo>
                    <a:pt x="1136" y="443"/>
                  </a:lnTo>
                  <a:lnTo>
                    <a:pt x="1149" y="443"/>
                  </a:lnTo>
                  <a:lnTo>
                    <a:pt x="1162" y="443"/>
                  </a:lnTo>
                  <a:lnTo>
                    <a:pt x="1184" y="442"/>
                  </a:lnTo>
                  <a:lnTo>
                    <a:pt x="1198" y="441"/>
                  </a:lnTo>
                  <a:lnTo>
                    <a:pt x="1211" y="441"/>
                  </a:lnTo>
                  <a:lnTo>
                    <a:pt x="1223" y="440"/>
                  </a:lnTo>
                  <a:lnTo>
                    <a:pt x="1237" y="441"/>
                  </a:lnTo>
                  <a:lnTo>
                    <a:pt x="1250" y="441"/>
                  </a:lnTo>
                  <a:lnTo>
                    <a:pt x="1262" y="439"/>
                  </a:lnTo>
                  <a:lnTo>
                    <a:pt x="1275" y="437"/>
                  </a:lnTo>
                  <a:lnTo>
                    <a:pt x="1286" y="432"/>
                  </a:lnTo>
                  <a:lnTo>
                    <a:pt x="1297" y="428"/>
                  </a:lnTo>
                  <a:lnTo>
                    <a:pt x="1308" y="423"/>
                  </a:lnTo>
                  <a:lnTo>
                    <a:pt x="1320" y="418"/>
                  </a:lnTo>
                  <a:lnTo>
                    <a:pt x="1331" y="413"/>
                  </a:lnTo>
                  <a:lnTo>
                    <a:pt x="1341" y="407"/>
                  </a:lnTo>
                  <a:lnTo>
                    <a:pt x="1352" y="402"/>
                  </a:lnTo>
                  <a:lnTo>
                    <a:pt x="1366" y="397"/>
                  </a:lnTo>
                  <a:lnTo>
                    <a:pt x="1385" y="391"/>
                  </a:lnTo>
                  <a:lnTo>
                    <a:pt x="1396" y="387"/>
                  </a:lnTo>
                  <a:lnTo>
                    <a:pt x="1409" y="384"/>
                  </a:lnTo>
                  <a:lnTo>
                    <a:pt x="1422" y="380"/>
                  </a:lnTo>
                  <a:lnTo>
                    <a:pt x="1433" y="376"/>
                  </a:lnTo>
                  <a:lnTo>
                    <a:pt x="1445" y="373"/>
                  </a:lnTo>
                  <a:lnTo>
                    <a:pt x="1457" y="369"/>
                  </a:lnTo>
                  <a:lnTo>
                    <a:pt x="1469" y="365"/>
                  </a:lnTo>
                  <a:lnTo>
                    <a:pt x="1480" y="361"/>
                  </a:lnTo>
                  <a:lnTo>
                    <a:pt x="1493" y="357"/>
                  </a:lnTo>
                  <a:lnTo>
                    <a:pt x="1504" y="353"/>
                  </a:lnTo>
                  <a:lnTo>
                    <a:pt x="1515" y="349"/>
                  </a:lnTo>
                  <a:lnTo>
                    <a:pt x="1528" y="345"/>
                  </a:lnTo>
                  <a:lnTo>
                    <a:pt x="1539" y="341"/>
                  </a:lnTo>
                  <a:lnTo>
                    <a:pt x="1552" y="338"/>
                  </a:lnTo>
                  <a:lnTo>
                    <a:pt x="1564" y="336"/>
                  </a:lnTo>
                  <a:lnTo>
                    <a:pt x="1577" y="333"/>
                  </a:lnTo>
                  <a:lnTo>
                    <a:pt x="1589" y="330"/>
                  </a:lnTo>
                  <a:lnTo>
                    <a:pt x="1602" y="327"/>
                  </a:lnTo>
                  <a:lnTo>
                    <a:pt x="1613" y="324"/>
                  </a:lnTo>
                  <a:lnTo>
                    <a:pt x="1626" y="318"/>
                  </a:lnTo>
                  <a:lnTo>
                    <a:pt x="1635" y="313"/>
                  </a:lnTo>
                  <a:lnTo>
                    <a:pt x="1647" y="308"/>
                  </a:lnTo>
                  <a:lnTo>
                    <a:pt x="1656" y="302"/>
                  </a:lnTo>
                  <a:lnTo>
                    <a:pt x="1668" y="296"/>
                  </a:lnTo>
                  <a:lnTo>
                    <a:pt x="1677" y="290"/>
                  </a:lnTo>
                  <a:lnTo>
                    <a:pt x="1689" y="285"/>
                  </a:lnTo>
                  <a:lnTo>
                    <a:pt x="1700" y="281"/>
                  </a:lnTo>
                  <a:lnTo>
                    <a:pt x="1711" y="276"/>
                  </a:lnTo>
                  <a:lnTo>
                    <a:pt x="1722" y="272"/>
                  </a:lnTo>
                  <a:lnTo>
                    <a:pt x="1735" y="267"/>
                  </a:lnTo>
                  <a:lnTo>
                    <a:pt x="1746" y="263"/>
                  </a:lnTo>
                  <a:lnTo>
                    <a:pt x="1759" y="261"/>
                  </a:lnTo>
                  <a:lnTo>
                    <a:pt x="1771" y="259"/>
                  </a:lnTo>
                  <a:lnTo>
                    <a:pt x="1784" y="256"/>
                  </a:lnTo>
                  <a:lnTo>
                    <a:pt x="1796" y="254"/>
                  </a:lnTo>
                  <a:lnTo>
                    <a:pt x="1809" y="251"/>
                  </a:lnTo>
                  <a:lnTo>
                    <a:pt x="1821" y="248"/>
                  </a:lnTo>
                  <a:lnTo>
                    <a:pt x="1834" y="245"/>
                  </a:lnTo>
                  <a:lnTo>
                    <a:pt x="1845" y="242"/>
                  </a:lnTo>
                  <a:lnTo>
                    <a:pt x="1858" y="239"/>
                  </a:lnTo>
                  <a:lnTo>
                    <a:pt x="1870" y="235"/>
                  </a:lnTo>
                  <a:lnTo>
                    <a:pt x="1882" y="232"/>
                  </a:lnTo>
                  <a:lnTo>
                    <a:pt x="1894" y="228"/>
                  </a:lnTo>
                  <a:lnTo>
                    <a:pt x="1905" y="223"/>
                  </a:lnTo>
                  <a:lnTo>
                    <a:pt x="1916" y="219"/>
                  </a:lnTo>
                  <a:lnTo>
                    <a:pt x="1928" y="214"/>
                  </a:lnTo>
                  <a:lnTo>
                    <a:pt x="1939" y="209"/>
                  </a:lnTo>
                  <a:lnTo>
                    <a:pt x="1950" y="204"/>
                  </a:lnTo>
                  <a:lnTo>
                    <a:pt x="1961" y="200"/>
                  </a:lnTo>
                  <a:lnTo>
                    <a:pt x="1972" y="195"/>
                  </a:lnTo>
                  <a:lnTo>
                    <a:pt x="1984" y="190"/>
                  </a:lnTo>
                  <a:lnTo>
                    <a:pt x="1996" y="191"/>
                  </a:lnTo>
                  <a:lnTo>
                    <a:pt x="2009" y="193"/>
                  </a:lnTo>
                  <a:lnTo>
                    <a:pt x="2021" y="196"/>
                  </a:lnTo>
                  <a:lnTo>
                    <a:pt x="2034" y="198"/>
                  </a:lnTo>
                  <a:lnTo>
                    <a:pt x="2046" y="196"/>
                  </a:lnTo>
                  <a:lnTo>
                    <a:pt x="2059" y="192"/>
                  </a:lnTo>
                  <a:lnTo>
                    <a:pt x="2070" y="187"/>
                  </a:lnTo>
                  <a:lnTo>
                    <a:pt x="2080" y="182"/>
                  </a:lnTo>
                  <a:lnTo>
                    <a:pt x="2090" y="175"/>
                  </a:lnTo>
                  <a:lnTo>
                    <a:pt x="2098" y="168"/>
                  </a:lnTo>
                  <a:lnTo>
                    <a:pt x="2105" y="160"/>
                  </a:lnTo>
                  <a:lnTo>
                    <a:pt x="2109" y="152"/>
                  </a:lnTo>
                  <a:lnTo>
                    <a:pt x="2112" y="142"/>
                  </a:lnTo>
                  <a:lnTo>
                    <a:pt x="2114" y="133"/>
                  </a:lnTo>
                  <a:lnTo>
                    <a:pt x="2111" y="124"/>
                  </a:lnTo>
                  <a:lnTo>
                    <a:pt x="2107" y="115"/>
                  </a:lnTo>
                  <a:lnTo>
                    <a:pt x="2107" y="106"/>
                  </a:lnTo>
                  <a:lnTo>
                    <a:pt x="2118" y="102"/>
                  </a:lnTo>
                  <a:lnTo>
                    <a:pt x="2129" y="97"/>
                  </a:lnTo>
                  <a:lnTo>
                    <a:pt x="2142" y="92"/>
                  </a:lnTo>
                  <a:lnTo>
                    <a:pt x="2153" y="88"/>
                  </a:lnTo>
                  <a:lnTo>
                    <a:pt x="2165" y="85"/>
                  </a:lnTo>
                  <a:lnTo>
                    <a:pt x="2176" y="81"/>
                  </a:lnTo>
                  <a:lnTo>
                    <a:pt x="2189" y="78"/>
                  </a:lnTo>
                  <a:lnTo>
                    <a:pt x="2202" y="75"/>
                  </a:lnTo>
                  <a:lnTo>
                    <a:pt x="2213" y="71"/>
                  </a:lnTo>
                  <a:lnTo>
                    <a:pt x="2225" y="68"/>
                  </a:lnTo>
                  <a:lnTo>
                    <a:pt x="2238" y="64"/>
                  </a:lnTo>
                  <a:lnTo>
                    <a:pt x="2249" y="61"/>
                  </a:lnTo>
                  <a:lnTo>
                    <a:pt x="2262" y="57"/>
                  </a:lnTo>
                  <a:lnTo>
                    <a:pt x="2274" y="54"/>
                  </a:lnTo>
                  <a:lnTo>
                    <a:pt x="2286" y="51"/>
                  </a:lnTo>
                  <a:lnTo>
                    <a:pt x="2298" y="47"/>
                  </a:lnTo>
                  <a:lnTo>
                    <a:pt x="2311" y="44"/>
                  </a:lnTo>
                  <a:lnTo>
                    <a:pt x="2322" y="41"/>
                  </a:lnTo>
                  <a:lnTo>
                    <a:pt x="2334" y="37"/>
                  </a:lnTo>
                  <a:lnTo>
                    <a:pt x="2347" y="34"/>
                  </a:lnTo>
                  <a:lnTo>
                    <a:pt x="2360" y="30"/>
                  </a:lnTo>
                  <a:lnTo>
                    <a:pt x="2371" y="27"/>
                  </a:lnTo>
                  <a:lnTo>
                    <a:pt x="2382" y="23"/>
                  </a:lnTo>
                  <a:lnTo>
                    <a:pt x="2395" y="18"/>
                  </a:lnTo>
                  <a:lnTo>
                    <a:pt x="2404" y="13"/>
                  </a:lnTo>
                  <a:lnTo>
                    <a:pt x="2414" y="7"/>
                  </a:lnTo>
                  <a:lnTo>
                    <a:pt x="2424" y="0"/>
                  </a:lnTo>
                  <a:lnTo>
                    <a:pt x="2437" y="2"/>
                  </a:lnTo>
                  <a:lnTo>
                    <a:pt x="2459" y="8"/>
                  </a:lnTo>
                  <a:lnTo>
                    <a:pt x="2471" y="11"/>
                  </a:lnTo>
                  <a:lnTo>
                    <a:pt x="2484" y="14"/>
                  </a:lnTo>
                  <a:lnTo>
                    <a:pt x="2497" y="18"/>
                  </a:lnTo>
                  <a:lnTo>
                    <a:pt x="2509" y="21"/>
                  </a:lnTo>
                  <a:lnTo>
                    <a:pt x="2522" y="25"/>
                  </a:lnTo>
                  <a:lnTo>
                    <a:pt x="2534" y="28"/>
                  </a:lnTo>
                  <a:lnTo>
                    <a:pt x="2547" y="31"/>
                  </a:lnTo>
                  <a:lnTo>
                    <a:pt x="2560" y="33"/>
                  </a:lnTo>
                  <a:lnTo>
                    <a:pt x="2571" y="35"/>
                  </a:lnTo>
                  <a:lnTo>
                    <a:pt x="2583" y="37"/>
                  </a:lnTo>
                  <a:lnTo>
                    <a:pt x="2592" y="33"/>
                  </a:lnTo>
                  <a:lnTo>
                    <a:pt x="2597" y="23"/>
                  </a:lnTo>
                  <a:lnTo>
                    <a:pt x="2604" y="24"/>
                  </a:lnTo>
                  <a:lnTo>
                    <a:pt x="2603" y="31"/>
                  </a:lnTo>
                  <a:lnTo>
                    <a:pt x="2611" y="38"/>
                  </a:lnTo>
                  <a:lnTo>
                    <a:pt x="2620" y="45"/>
                  </a:lnTo>
                  <a:lnTo>
                    <a:pt x="262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54240" y="3887640"/>
              <a:ext cx="1433520" cy="1843200"/>
            </a:xfrm>
            <a:custGeom>
              <a:avLst/>
              <a:gdLst/>
              <a:ahLst/>
              <a:rect l="l" t="t" r="r" b="b"/>
              <a:pathLst>
                <a:path w="2709" h="2322">
                  <a:moveTo>
                    <a:pt x="2629" y="52"/>
                  </a:moveTo>
                  <a:lnTo>
                    <a:pt x="2637" y="59"/>
                  </a:lnTo>
                  <a:lnTo>
                    <a:pt x="2646" y="67"/>
                  </a:lnTo>
                  <a:lnTo>
                    <a:pt x="2653" y="74"/>
                  </a:lnTo>
                  <a:lnTo>
                    <a:pt x="2663" y="81"/>
                  </a:lnTo>
                  <a:lnTo>
                    <a:pt x="2670" y="89"/>
                  </a:lnTo>
                  <a:lnTo>
                    <a:pt x="2664" y="97"/>
                  </a:lnTo>
                  <a:lnTo>
                    <a:pt x="2668" y="105"/>
                  </a:lnTo>
                  <a:lnTo>
                    <a:pt x="2674" y="113"/>
                  </a:lnTo>
                  <a:lnTo>
                    <a:pt x="2681" y="122"/>
                  </a:lnTo>
                  <a:lnTo>
                    <a:pt x="2686" y="130"/>
                  </a:lnTo>
                  <a:lnTo>
                    <a:pt x="2689" y="139"/>
                  </a:lnTo>
                  <a:lnTo>
                    <a:pt x="2693" y="148"/>
                  </a:lnTo>
                  <a:lnTo>
                    <a:pt x="2698" y="156"/>
                  </a:lnTo>
                  <a:lnTo>
                    <a:pt x="2700" y="164"/>
                  </a:lnTo>
                  <a:lnTo>
                    <a:pt x="2709" y="173"/>
                  </a:lnTo>
                  <a:lnTo>
                    <a:pt x="2705" y="180"/>
                  </a:lnTo>
                  <a:lnTo>
                    <a:pt x="2693" y="186"/>
                  </a:lnTo>
                  <a:lnTo>
                    <a:pt x="2681" y="191"/>
                  </a:lnTo>
                  <a:lnTo>
                    <a:pt x="2668" y="197"/>
                  </a:lnTo>
                  <a:lnTo>
                    <a:pt x="2661" y="202"/>
                  </a:lnTo>
                  <a:lnTo>
                    <a:pt x="2668" y="207"/>
                  </a:lnTo>
                  <a:lnTo>
                    <a:pt x="2684" y="212"/>
                  </a:lnTo>
                  <a:lnTo>
                    <a:pt x="2693" y="217"/>
                  </a:lnTo>
                  <a:lnTo>
                    <a:pt x="2679" y="220"/>
                  </a:lnTo>
                  <a:lnTo>
                    <a:pt x="2675" y="227"/>
                  </a:lnTo>
                  <a:lnTo>
                    <a:pt x="2678" y="236"/>
                  </a:lnTo>
                  <a:lnTo>
                    <a:pt x="2682" y="246"/>
                  </a:lnTo>
                  <a:lnTo>
                    <a:pt x="2684" y="255"/>
                  </a:lnTo>
                  <a:lnTo>
                    <a:pt x="2684" y="264"/>
                  </a:lnTo>
                  <a:lnTo>
                    <a:pt x="2685" y="274"/>
                  </a:lnTo>
                  <a:lnTo>
                    <a:pt x="2691" y="282"/>
                  </a:lnTo>
                  <a:lnTo>
                    <a:pt x="2688" y="291"/>
                  </a:lnTo>
                  <a:lnTo>
                    <a:pt x="2684" y="300"/>
                  </a:lnTo>
                  <a:lnTo>
                    <a:pt x="2678" y="309"/>
                  </a:lnTo>
                  <a:lnTo>
                    <a:pt x="2675" y="318"/>
                  </a:lnTo>
                  <a:lnTo>
                    <a:pt x="2677" y="327"/>
                  </a:lnTo>
                  <a:lnTo>
                    <a:pt x="2679" y="336"/>
                  </a:lnTo>
                  <a:lnTo>
                    <a:pt x="2684" y="345"/>
                  </a:lnTo>
                  <a:lnTo>
                    <a:pt x="2685" y="354"/>
                  </a:lnTo>
                  <a:lnTo>
                    <a:pt x="2685" y="364"/>
                  </a:lnTo>
                  <a:lnTo>
                    <a:pt x="2684" y="373"/>
                  </a:lnTo>
                  <a:lnTo>
                    <a:pt x="2686" y="383"/>
                  </a:lnTo>
                  <a:lnTo>
                    <a:pt x="2695" y="397"/>
                  </a:lnTo>
                  <a:lnTo>
                    <a:pt x="2698" y="405"/>
                  </a:lnTo>
                  <a:lnTo>
                    <a:pt x="2685" y="406"/>
                  </a:lnTo>
                  <a:lnTo>
                    <a:pt x="2672" y="407"/>
                  </a:lnTo>
                  <a:lnTo>
                    <a:pt x="2663" y="413"/>
                  </a:lnTo>
                  <a:lnTo>
                    <a:pt x="2653" y="419"/>
                  </a:lnTo>
                  <a:lnTo>
                    <a:pt x="2640" y="420"/>
                  </a:lnTo>
                  <a:lnTo>
                    <a:pt x="2628" y="417"/>
                  </a:lnTo>
                  <a:lnTo>
                    <a:pt x="2616" y="421"/>
                  </a:lnTo>
                  <a:lnTo>
                    <a:pt x="2612" y="430"/>
                  </a:lnTo>
                  <a:lnTo>
                    <a:pt x="2614" y="439"/>
                  </a:lnTo>
                  <a:lnTo>
                    <a:pt x="2615" y="449"/>
                  </a:lnTo>
                  <a:lnTo>
                    <a:pt x="2618" y="458"/>
                  </a:lnTo>
                  <a:lnTo>
                    <a:pt x="2619" y="468"/>
                  </a:lnTo>
                  <a:lnTo>
                    <a:pt x="2621" y="477"/>
                  </a:lnTo>
                  <a:lnTo>
                    <a:pt x="2611" y="480"/>
                  </a:lnTo>
                  <a:lnTo>
                    <a:pt x="2597" y="480"/>
                  </a:lnTo>
                  <a:lnTo>
                    <a:pt x="2583" y="483"/>
                  </a:lnTo>
                  <a:lnTo>
                    <a:pt x="2576" y="475"/>
                  </a:lnTo>
                  <a:lnTo>
                    <a:pt x="2565" y="473"/>
                  </a:lnTo>
                  <a:lnTo>
                    <a:pt x="2565" y="481"/>
                  </a:lnTo>
                  <a:lnTo>
                    <a:pt x="2554" y="484"/>
                  </a:lnTo>
                  <a:lnTo>
                    <a:pt x="2542" y="489"/>
                  </a:lnTo>
                  <a:lnTo>
                    <a:pt x="2533" y="496"/>
                  </a:lnTo>
                  <a:lnTo>
                    <a:pt x="2524" y="502"/>
                  </a:lnTo>
                  <a:lnTo>
                    <a:pt x="2510" y="502"/>
                  </a:lnTo>
                  <a:lnTo>
                    <a:pt x="2503" y="506"/>
                  </a:lnTo>
                  <a:lnTo>
                    <a:pt x="2513" y="513"/>
                  </a:lnTo>
                  <a:lnTo>
                    <a:pt x="2519" y="521"/>
                  </a:lnTo>
                  <a:lnTo>
                    <a:pt x="2521" y="530"/>
                  </a:lnTo>
                  <a:lnTo>
                    <a:pt x="2526" y="539"/>
                  </a:lnTo>
                  <a:lnTo>
                    <a:pt x="2531" y="547"/>
                  </a:lnTo>
                  <a:lnTo>
                    <a:pt x="2535" y="556"/>
                  </a:lnTo>
                  <a:lnTo>
                    <a:pt x="2538" y="565"/>
                  </a:lnTo>
                  <a:lnTo>
                    <a:pt x="2538" y="575"/>
                  </a:lnTo>
                  <a:lnTo>
                    <a:pt x="2538" y="584"/>
                  </a:lnTo>
                  <a:lnTo>
                    <a:pt x="2534" y="590"/>
                  </a:lnTo>
                  <a:lnTo>
                    <a:pt x="2537" y="600"/>
                  </a:lnTo>
                  <a:lnTo>
                    <a:pt x="2538" y="608"/>
                  </a:lnTo>
                  <a:lnTo>
                    <a:pt x="2528" y="614"/>
                  </a:lnTo>
                  <a:lnTo>
                    <a:pt x="2516" y="618"/>
                  </a:lnTo>
                  <a:lnTo>
                    <a:pt x="2503" y="623"/>
                  </a:lnTo>
                  <a:lnTo>
                    <a:pt x="2499" y="629"/>
                  </a:lnTo>
                  <a:lnTo>
                    <a:pt x="2489" y="635"/>
                  </a:lnTo>
                  <a:lnTo>
                    <a:pt x="2495" y="641"/>
                  </a:lnTo>
                  <a:lnTo>
                    <a:pt x="2485" y="647"/>
                  </a:lnTo>
                  <a:lnTo>
                    <a:pt x="2477" y="652"/>
                  </a:lnTo>
                  <a:lnTo>
                    <a:pt x="2485" y="661"/>
                  </a:lnTo>
                  <a:lnTo>
                    <a:pt x="2486" y="669"/>
                  </a:lnTo>
                  <a:lnTo>
                    <a:pt x="2478" y="675"/>
                  </a:lnTo>
                  <a:lnTo>
                    <a:pt x="2465" y="680"/>
                  </a:lnTo>
                  <a:lnTo>
                    <a:pt x="2454" y="685"/>
                  </a:lnTo>
                  <a:lnTo>
                    <a:pt x="2453" y="693"/>
                  </a:lnTo>
                  <a:lnTo>
                    <a:pt x="2454" y="703"/>
                  </a:lnTo>
                  <a:lnTo>
                    <a:pt x="2447" y="710"/>
                  </a:lnTo>
                  <a:lnTo>
                    <a:pt x="2436" y="715"/>
                  </a:lnTo>
                  <a:lnTo>
                    <a:pt x="2422" y="723"/>
                  </a:lnTo>
                  <a:lnTo>
                    <a:pt x="2417" y="729"/>
                  </a:lnTo>
                  <a:lnTo>
                    <a:pt x="2418" y="739"/>
                  </a:lnTo>
                  <a:lnTo>
                    <a:pt x="2422" y="748"/>
                  </a:lnTo>
                  <a:lnTo>
                    <a:pt x="2429" y="755"/>
                  </a:lnTo>
                  <a:lnTo>
                    <a:pt x="2436" y="764"/>
                  </a:lnTo>
                  <a:lnTo>
                    <a:pt x="2447" y="779"/>
                  </a:lnTo>
                  <a:lnTo>
                    <a:pt x="2440" y="794"/>
                  </a:lnTo>
                  <a:lnTo>
                    <a:pt x="2436" y="808"/>
                  </a:lnTo>
                  <a:lnTo>
                    <a:pt x="2428" y="814"/>
                  </a:lnTo>
                  <a:lnTo>
                    <a:pt x="2424" y="823"/>
                  </a:lnTo>
                  <a:lnTo>
                    <a:pt x="2419" y="832"/>
                  </a:lnTo>
                  <a:lnTo>
                    <a:pt x="2415" y="842"/>
                  </a:lnTo>
                  <a:lnTo>
                    <a:pt x="2411" y="850"/>
                  </a:lnTo>
                  <a:lnTo>
                    <a:pt x="2401" y="856"/>
                  </a:lnTo>
                  <a:lnTo>
                    <a:pt x="2391" y="860"/>
                  </a:lnTo>
                  <a:lnTo>
                    <a:pt x="2379" y="863"/>
                  </a:lnTo>
                  <a:lnTo>
                    <a:pt x="2368" y="865"/>
                  </a:lnTo>
                  <a:lnTo>
                    <a:pt x="2358" y="859"/>
                  </a:lnTo>
                  <a:lnTo>
                    <a:pt x="2347" y="852"/>
                  </a:lnTo>
                  <a:lnTo>
                    <a:pt x="2348" y="859"/>
                  </a:lnTo>
                  <a:lnTo>
                    <a:pt x="2349" y="869"/>
                  </a:lnTo>
                  <a:lnTo>
                    <a:pt x="2349" y="878"/>
                  </a:lnTo>
                  <a:lnTo>
                    <a:pt x="2347" y="887"/>
                  </a:lnTo>
                  <a:lnTo>
                    <a:pt x="2340" y="892"/>
                  </a:lnTo>
                  <a:lnTo>
                    <a:pt x="2349" y="899"/>
                  </a:lnTo>
                  <a:lnTo>
                    <a:pt x="2337" y="900"/>
                  </a:lnTo>
                  <a:lnTo>
                    <a:pt x="2335" y="908"/>
                  </a:lnTo>
                  <a:lnTo>
                    <a:pt x="2335" y="917"/>
                  </a:lnTo>
                  <a:lnTo>
                    <a:pt x="2334" y="927"/>
                  </a:lnTo>
                  <a:lnTo>
                    <a:pt x="2335" y="936"/>
                  </a:lnTo>
                  <a:lnTo>
                    <a:pt x="2340" y="945"/>
                  </a:lnTo>
                  <a:lnTo>
                    <a:pt x="2345" y="953"/>
                  </a:lnTo>
                  <a:lnTo>
                    <a:pt x="2344" y="962"/>
                  </a:lnTo>
                  <a:lnTo>
                    <a:pt x="2340" y="970"/>
                  </a:lnTo>
                  <a:lnTo>
                    <a:pt x="2328" y="975"/>
                  </a:lnTo>
                  <a:lnTo>
                    <a:pt x="2338" y="980"/>
                  </a:lnTo>
                  <a:lnTo>
                    <a:pt x="2348" y="986"/>
                  </a:lnTo>
                  <a:lnTo>
                    <a:pt x="2354" y="995"/>
                  </a:lnTo>
                  <a:lnTo>
                    <a:pt x="2356" y="1004"/>
                  </a:lnTo>
                  <a:lnTo>
                    <a:pt x="2361" y="1013"/>
                  </a:lnTo>
                  <a:lnTo>
                    <a:pt x="2365" y="1021"/>
                  </a:lnTo>
                  <a:lnTo>
                    <a:pt x="2368" y="1030"/>
                  </a:lnTo>
                  <a:lnTo>
                    <a:pt x="2370" y="1039"/>
                  </a:lnTo>
                  <a:lnTo>
                    <a:pt x="2373" y="1049"/>
                  </a:lnTo>
                  <a:lnTo>
                    <a:pt x="2375" y="1058"/>
                  </a:lnTo>
                  <a:lnTo>
                    <a:pt x="2380" y="1066"/>
                  </a:lnTo>
                  <a:lnTo>
                    <a:pt x="2386" y="1074"/>
                  </a:lnTo>
                  <a:lnTo>
                    <a:pt x="2389" y="1083"/>
                  </a:lnTo>
                  <a:lnTo>
                    <a:pt x="2393" y="1092"/>
                  </a:lnTo>
                  <a:lnTo>
                    <a:pt x="2398" y="1101"/>
                  </a:lnTo>
                  <a:lnTo>
                    <a:pt x="2405" y="1109"/>
                  </a:lnTo>
                  <a:lnTo>
                    <a:pt x="2400" y="1112"/>
                  </a:lnTo>
                  <a:lnTo>
                    <a:pt x="2397" y="1119"/>
                  </a:lnTo>
                  <a:lnTo>
                    <a:pt x="2401" y="1129"/>
                  </a:lnTo>
                  <a:lnTo>
                    <a:pt x="2398" y="1137"/>
                  </a:lnTo>
                  <a:lnTo>
                    <a:pt x="2384" y="1137"/>
                  </a:lnTo>
                  <a:lnTo>
                    <a:pt x="2372" y="1139"/>
                  </a:lnTo>
                  <a:lnTo>
                    <a:pt x="2366" y="1144"/>
                  </a:lnTo>
                  <a:lnTo>
                    <a:pt x="2366" y="1151"/>
                  </a:lnTo>
                  <a:lnTo>
                    <a:pt x="2354" y="1153"/>
                  </a:lnTo>
                  <a:lnTo>
                    <a:pt x="2347" y="1145"/>
                  </a:lnTo>
                  <a:lnTo>
                    <a:pt x="2340" y="1150"/>
                  </a:lnTo>
                  <a:lnTo>
                    <a:pt x="2338" y="1157"/>
                  </a:lnTo>
                  <a:lnTo>
                    <a:pt x="2328" y="1157"/>
                  </a:lnTo>
                  <a:lnTo>
                    <a:pt x="2323" y="1164"/>
                  </a:lnTo>
                  <a:lnTo>
                    <a:pt x="2310" y="1166"/>
                  </a:lnTo>
                  <a:lnTo>
                    <a:pt x="2310" y="1173"/>
                  </a:lnTo>
                  <a:lnTo>
                    <a:pt x="2305" y="1179"/>
                  </a:lnTo>
                  <a:lnTo>
                    <a:pt x="2296" y="1174"/>
                  </a:lnTo>
                  <a:lnTo>
                    <a:pt x="2287" y="1172"/>
                  </a:lnTo>
                  <a:lnTo>
                    <a:pt x="2285" y="1180"/>
                  </a:lnTo>
                  <a:lnTo>
                    <a:pt x="2274" y="1184"/>
                  </a:lnTo>
                  <a:lnTo>
                    <a:pt x="2281" y="1192"/>
                  </a:lnTo>
                  <a:lnTo>
                    <a:pt x="2285" y="1200"/>
                  </a:lnTo>
                  <a:lnTo>
                    <a:pt x="2291" y="1209"/>
                  </a:lnTo>
                  <a:lnTo>
                    <a:pt x="2294" y="1218"/>
                  </a:lnTo>
                  <a:lnTo>
                    <a:pt x="2299" y="1215"/>
                  </a:lnTo>
                  <a:lnTo>
                    <a:pt x="2309" y="1210"/>
                  </a:lnTo>
                  <a:lnTo>
                    <a:pt x="2321" y="1206"/>
                  </a:lnTo>
                  <a:lnTo>
                    <a:pt x="2330" y="1209"/>
                  </a:lnTo>
                  <a:lnTo>
                    <a:pt x="2337" y="1215"/>
                  </a:lnTo>
                  <a:lnTo>
                    <a:pt x="2349" y="1209"/>
                  </a:lnTo>
                  <a:lnTo>
                    <a:pt x="2361" y="1203"/>
                  </a:lnTo>
                  <a:lnTo>
                    <a:pt x="2370" y="1202"/>
                  </a:lnTo>
                  <a:lnTo>
                    <a:pt x="2376" y="1210"/>
                  </a:lnTo>
                  <a:lnTo>
                    <a:pt x="2379" y="1221"/>
                  </a:lnTo>
                  <a:lnTo>
                    <a:pt x="2384" y="1229"/>
                  </a:lnTo>
                  <a:lnTo>
                    <a:pt x="2390" y="1238"/>
                  </a:lnTo>
                  <a:lnTo>
                    <a:pt x="2396" y="1246"/>
                  </a:lnTo>
                  <a:lnTo>
                    <a:pt x="2396" y="1256"/>
                  </a:lnTo>
                  <a:lnTo>
                    <a:pt x="2408" y="1255"/>
                  </a:lnTo>
                  <a:lnTo>
                    <a:pt x="2422" y="1253"/>
                  </a:lnTo>
                  <a:lnTo>
                    <a:pt x="2429" y="1258"/>
                  </a:lnTo>
                  <a:lnTo>
                    <a:pt x="2426" y="1267"/>
                  </a:lnTo>
                  <a:lnTo>
                    <a:pt x="2428" y="1276"/>
                  </a:lnTo>
                  <a:lnTo>
                    <a:pt x="2432" y="1285"/>
                  </a:lnTo>
                  <a:lnTo>
                    <a:pt x="2431" y="1295"/>
                  </a:lnTo>
                  <a:lnTo>
                    <a:pt x="2436" y="1311"/>
                  </a:lnTo>
                  <a:lnTo>
                    <a:pt x="2436" y="1320"/>
                  </a:lnTo>
                  <a:lnTo>
                    <a:pt x="2436" y="1332"/>
                  </a:lnTo>
                  <a:lnTo>
                    <a:pt x="2431" y="1340"/>
                  </a:lnTo>
                  <a:lnTo>
                    <a:pt x="2421" y="1348"/>
                  </a:lnTo>
                  <a:lnTo>
                    <a:pt x="2414" y="1355"/>
                  </a:lnTo>
                  <a:lnTo>
                    <a:pt x="2412" y="1364"/>
                  </a:lnTo>
                  <a:lnTo>
                    <a:pt x="2414" y="1374"/>
                  </a:lnTo>
                  <a:lnTo>
                    <a:pt x="2410" y="1382"/>
                  </a:lnTo>
                  <a:lnTo>
                    <a:pt x="2398" y="1385"/>
                  </a:lnTo>
                  <a:lnTo>
                    <a:pt x="2386" y="1388"/>
                  </a:lnTo>
                  <a:lnTo>
                    <a:pt x="2370" y="1402"/>
                  </a:lnTo>
                  <a:lnTo>
                    <a:pt x="2361" y="1409"/>
                  </a:lnTo>
                  <a:lnTo>
                    <a:pt x="2349" y="1409"/>
                  </a:lnTo>
                  <a:lnTo>
                    <a:pt x="2337" y="1405"/>
                  </a:lnTo>
                  <a:lnTo>
                    <a:pt x="2327" y="1400"/>
                  </a:lnTo>
                  <a:lnTo>
                    <a:pt x="2317" y="1394"/>
                  </a:lnTo>
                  <a:lnTo>
                    <a:pt x="2308" y="1393"/>
                  </a:lnTo>
                  <a:lnTo>
                    <a:pt x="2298" y="1399"/>
                  </a:lnTo>
                  <a:lnTo>
                    <a:pt x="2288" y="1395"/>
                  </a:lnTo>
                  <a:lnTo>
                    <a:pt x="2280" y="1394"/>
                  </a:lnTo>
                  <a:lnTo>
                    <a:pt x="2273" y="1391"/>
                  </a:lnTo>
                  <a:lnTo>
                    <a:pt x="2263" y="1388"/>
                  </a:lnTo>
                  <a:lnTo>
                    <a:pt x="2266" y="1378"/>
                  </a:lnTo>
                  <a:lnTo>
                    <a:pt x="2257" y="1375"/>
                  </a:lnTo>
                  <a:lnTo>
                    <a:pt x="2243" y="1375"/>
                  </a:lnTo>
                  <a:lnTo>
                    <a:pt x="2231" y="1376"/>
                  </a:lnTo>
                  <a:lnTo>
                    <a:pt x="2218" y="1377"/>
                  </a:lnTo>
                  <a:lnTo>
                    <a:pt x="2210" y="1377"/>
                  </a:lnTo>
                  <a:lnTo>
                    <a:pt x="2197" y="1379"/>
                  </a:lnTo>
                  <a:lnTo>
                    <a:pt x="2184" y="1383"/>
                  </a:lnTo>
                  <a:lnTo>
                    <a:pt x="2173" y="1387"/>
                  </a:lnTo>
                  <a:lnTo>
                    <a:pt x="2166" y="1394"/>
                  </a:lnTo>
                  <a:lnTo>
                    <a:pt x="2162" y="1403"/>
                  </a:lnTo>
                  <a:lnTo>
                    <a:pt x="2158" y="1407"/>
                  </a:lnTo>
                  <a:lnTo>
                    <a:pt x="2147" y="1405"/>
                  </a:lnTo>
                  <a:lnTo>
                    <a:pt x="2137" y="1410"/>
                  </a:lnTo>
                  <a:lnTo>
                    <a:pt x="2129" y="1418"/>
                  </a:lnTo>
                  <a:lnTo>
                    <a:pt x="2126" y="1427"/>
                  </a:lnTo>
                  <a:lnTo>
                    <a:pt x="2129" y="1436"/>
                  </a:lnTo>
                  <a:lnTo>
                    <a:pt x="2134" y="1444"/>
                  </a:lnTo>
                  <a:lnTo>
                    <a:pt x="2130" y="1453"/>
                  </a:lnTo>
                  <a:lnTo>
                    <a:pt x="2129" y="1462"/>
                  </a:lnTo>
                  <a:lnTo>
                    <a:pt x="2123" y="1470"/>
                  </a:lnTo>
                  <a:lnTo>
                    <a:pt x="2113" y="1477"/>
                  </a:lnTo>
                  <a:lnTo>
                    <a:pt x="2113" y="1486"/>
                  </a:lnTo>
                  <a:lnTo>
                    <a:pt x="2120" y="1494"/>
                  </a:lnTo>
                  <a:lnTo>
                    <a:pt x="2123" y="1503"/>
                  </a:lnTo>
                  <a:lnTo>
                    <a:pt x="2122" y="1512"/>
                  </a:lnTo>
                  <a:lnTo>
                    <a:pt x="2119" y="1521"/>
                  </a:lnTo>
                  <a:lnTo>
                    <a:pt x="2113" y="1529"/>
                  </a:lnTo>
                  <a:lnTo>
                    <a:pt x="2105" y="1536"/>
                  </a:lnTo>
                  <a:lnTo>
                    <a:pt x="2099" y="1544"/>
                  </a:lnTo>
                  <a:lnTo>
                    <a:pt x="2089" y="1545"/>
                  </a:lnTo>
                  <a:lnTo>
                    <a:pt x="2078" y="1540"/>
                  </a:lnTo>
                  <a:lnTo>
                    <a:pt x="2066" y="1542"/>
                  </a:lnTo>
                  <a:lnTo>
                    <a:pt x="2061" y="1550"/>
                  </a:lnTo>
                  <a:lnTo>
                    <a:pt x="2050" y="1554"/>
                  </a:lnTo>
                  <a:lnTo>
                    <a:pt x="2038" y="1554"/>
                  </a:lnTo>
                  <a:lnTo>
                    <a:pt x="2025" y="1550"/>
                  </a:lnTo>
                  <a:lnTo>
                    <a:pt x="2015" y="1550"/>
                  </a:lnTo>
                  <a:lnTo>
                    <a:pt x="2007" y="1555"/>
                  </a:lnTo>
                  <a:lnTo>
                    <a:pt x="1999" y="1561"/>
                  </a:lnTo>
                  <a:lnTo>
                    <a:pt x="1997" y="1569"/>
                  </a:lnTo>
                  <a:lnTo>
                    <a:pt x="1987" y="1563"/>
                  </a:lnTo>
                  <a:lnTo>
                    <a:pt x="1978" y="1557"/>
                  </a:lnTo>
                  <a:lnTo>
                    <a:pt x="1968" y="1559"/>
                  </a:lnTo>
                  <a:lnTo>
                    <a:pt x="1962" y="1567"/>
                  </a:lnTo>
                  <a:lnTo>
                    <a:pt x="1954" y="1570"/>
                  </a:lnTo>
                  <a:lnTo>
                    <a:pt x="1948" y="1569"/>
                  </a:lnTo>
                  <a:lnTo>
                    <a:pt x="1943" y="1577"/>
                  </a:lnTo>
                  <a:lnTo>
                    <a:pt x="1936" y="1584"/>
                  </a:lnTo>
                  <a:lnTo>
                    <a:pt x="1923" y="1579"/>
                  </a:lnTo>
                  <a:lnTo>
                    <a:pt x="1912" y="1576"/>
                  </a:lnTo>
                  <a:lnTo>
                    <a:pt x="1899" y="1574"/>
                  </a:lnTo>
                  <a:lnTo>
                    <a:pt x="1890" y="1573"/>
                  </a:lnTo>
                  <a:lnTo>
                    <a:pt x="1888" y="1565"/>
                  </a:lnTo>
                  <a:lnTo>
                    <a:pt x="1885" y="1557"/>
                  </a:lnTo>
                  <a:lnTo>
                    <a:pt x="1873" y="1557"/>
                  </a:lnTo>
                  <a:lnTo>
                    <a:pt x="1859" y="1557"/>
                  </a:lnTo>
                  <a:lnTo>
                    <a:pt x="1849" y="1552"/>
                  </a:lnTo>
                  <a:lnTo>
                    <a:pt x="1849" y="1543"/>
                  </a:lnTo>
                  <a:lnTo>
                    <a:pt x="1839" y="1542"/>
                  </a:lnTo>
                  <a:lnTo>
                    <a:pt x="1828" y="1547"/>
                  </a:lnTo>
                  <a:lnTo>
                    <a:pt x="1821" y="1553"/>
                  </a:lnTo>
                  <a:lnTo>
                    <a:pt x="1822" y="1562"/>
                  </a:lnTo>
                  <a:lnTo>
                    <a:pt x="1821" y="1572"/>
                  </a:lnTo>
                  <a:lnTo>
                    <a:pt x="1813" y="1578"/>
                  </a:lnTo>
                  <a:lnTo>
                    <a:pt x="1806" y="1586"/>
                  </a:lnTo>
                  <a:lnTo>
                    <a:pt x="1797" y="1591"/>
                  </a:lnTo>
                  <a:lnTo>
                    <a:pt x="1785" y="1591"/>
                  </a:lnTo>
                  <a:lnTo>
                    <a:pt x="1772" y="1591"/>
                  </a:lnTo>
                  <a:lnTo>
                    <a:pt x="1761" y="1587"/>
                  </a:lnTo>
                  <a:lnTo>
                    <a:pt x="1750" y="1582"/>
                  </a:lnTo>
                  <a:lnTo>
                    <a:pt x="1747" y="1573"/>
                  </a:lnTo>
                  <a:lnTo>
                    <a:pt x="1743" y="1564"/>
                  </a:lnTo>
                  <a:lnTo>
                    <a:pt x="1739" y="1555"/>
                  </a:lnTo>
                  <a:lnTo>
                    <a:pt x="1734" y="1546"/>
                  </a:lnTo>
                  <a:lnTo>
                    <a:pt x="1730" y="1538"/>
                  </a:lnTo>
                  <a:lnTo>
                    <a:pt x="1722" y="1531"/>
                  </a:lnTo>
                  <a:lnTo>
                    <a:pt x="1711" y="1529"/>
                  </a:lnTo>
                  <a:lnTo>
                    <a:pt x="1701" y="1535"/>
                  </a:lnTo>
                  <a:lnTo>
                    <a:pt x="1691" y="1536"/>
                  </a:lnTo>
                  <a:lnTo>
                    <a:pt x="1683" y="1544"/>
                  </a:lnTo>
                  <a:lnTo>
                    <a:pt x="1681" y="1553"/>
                  </a:lnTo>
                  <a:lnTo>
                    <a:pt x="1692" y="1554"/>
                  </a:lnTo>
                  <a:lnTo>
                    <a:pt x="1699" y="1560"/>
                  </a:lnTo>
                  <a:lnTo>
                    <a:pt x="1702" y="1569"/>
                  </a:lnTo>
                  <a:lnTo>
                    <a:pt x="1702" y="1574"/>
                  </a:lnTo>
                  <a:lnTo>
                    <a:pt x="1690" y="1571"/>
                  </a:lnTo>
                  <a:lnTo>
                    <a:pt x="1683" y="1579"/>
                  </a:lnTo>
                  <a:lnTo>
                    <a:pt x="1677" y="1592"/>
                  </a:lnTo>
                  <a:lnTo>
                    <a:pt x="1670" y="1601"/>
                  </a:lnTo>
                  <a:lnTo>
                    <a:pt x="1676" y="1608"/>
                  </a:lnTo>
                  <a:lnTo>
                    <a:pt x="1677" y="1617"/>
                  </a:lnTo>
                  <a:lnTo>
                    <a:pt x="1674" y="1626"/>
                  </a:lnTo>
                  <a:lnTo>
                    <a:pt x="1666" y="1633"/>
                  </a:lnTo>
                  <a:lnTo>
                    <a:pt x="1663" y="1642"/>
                  </a:lnTo>
                  <a:lnTo>
                    <a:pt x="1657" y="1650"/>
                  </a:lnTo>
                  <a:lnTo>
                    <a:pt x="1645" y="1653"/>
                  </a:lnTo>
                  <a:lnTo>
                    <a:pt x="1641" y="1662"/>
                  </a:lnTo>
                  <a:lnTo>
                    <a:pt x="1636" y="1671"/>
                  </a:lnTo>
                  <a:lnTo>
                    <a:pt x="1627" y="1676"/>
                  </a:lnTo>
                  <a:lnTo>
                    <a:pt x="1627" y="1685"/>
                  </a:lnTo>
                  <a:lnTo>
                    <a:pt x="1628" y="1694"/>
                  </a:lnTo>
                  <a:lnTo>
                    <a:pt x="1623" y="1703"/>
                  </a:lnTo>
                  <a:lnTo>
                    <a:pt x="1617" y="1711"/>
                  </a:lnTo>
                  <a:lnTo>
                    <a:pt x="1618" y="1720"/>
                  </a:lnTo>
                  <a:lnTo>
                    <a:pt x="1614" y="1729"/>
                  </a:lnTo>
                  <a:lnTo>
                    <a:pt x="1614" y="1739"/>
                  </a:lnTo>
                  <a:lnTo>
                    <a:pt x="1614" y="1748"/>
                  </a:lnTo>
                  <a:lnTo>
                    <a:pt x="1617" y="1758"/>
                  </a:lnTo>
                  <a:lnTo>
                    <a:pt x="1613" y="1764"/>
                  </a:lnTo>
                  <a:lnTo>
                    <a:pt x="1616" y="1773"/>
                  </a:lnTo>
                  <a:lnTo>
                    <a:pt x="1621" y="1781"/>
                  </a:lnTo>
                  <a:lnTo>
                    <a:pt x="1613" y="1785"/>
                  </a:lnTo>
                  <a:lnTo>
                    <a:pt x="1600" y="1789"/>
                  </a:lnTo>
                  <a:lnTo>
                    <a:pt x="1588" y="1793"/>
                  </a:lnTo>
                  <a:lnTo>
                    <a:pt x="1578" y="1797"/>
                  </a:lnTo>
                  <a:lnTo>
                    <a:pt x="1585" y="1805"/>
                  </a:lnTo>
                  <a:lnTo>
                    <a:pt x="1593" y="1812"/>
                  </a:lnTo>
                  <a:lnTo>
                    <a:pt x="1606" y="1817"/>
                  </a:lnTo>
                  <a:lnTo>
                    <a:pt x="1604" y="1823"/>
                  </a:lnTo>
                  <a:lnTo>
                    <a:pt x="1606" y="1832"/>
                  </a:lnTo>
                  <a:lnTo>
                    <a:pt x="1603" y="1840"/>
                  </a:lnTo>
                  <a:lnTo>
                    <a:pt x="1599" y="1847"/>
                  </a:lnTo>
                  <a:lnTo>
                    <a:pt x="1603" y="1856"/>
                  </a:lnTo>
                  <a:lnTo>
                    <a:pt x="1589" y="1857"/>
                  </a:lnTo>
                  <a:lnTo>
                    <a:pt x="1586" y="1864"/>
                  </a:lnTo>
                  <a:lnTo>
                    <a:pt x="1586" y="1874"/>
                  </a:lnTo>
                  <a:lnTo>
                    <a:pt x="1576" y="1879"/>
                  </a:lnTo>
                  <a:lnTo>
                    <a:pt x="1562" y="1880"/>
                  </a:lnTo>
                  <a:lnTo>
                    <a:pt x="1561" y="1887"/>
                  </a:lnTo>
                  <a:lnTo>
                    <a:pt x="1561" y="1897"/>
                  </a:lnTo>
                  <a:lnTo>
                    <a:pt x="1548" y="1900"/>
                  </a:lnTo>
                  <a:lnTo>
                    <a:pt x="1536" y="1903"/>
                  </a:lnTo>
                  <a:lnTo>
                    <a:pt x="1523" y="1905"/>
                  </a:lnTo>
                  <a:lnTo>
                    <a:pt x="1509" y="1905"/>
                  </a:lnTo>
                  <a:lnTo>
                    <a:pt x="1508" y="1912"/>
                  </a:lnTo>
                  <a:lnTo>
                    <a:pt x="1505" y="1919"/>
                  </a:lnTo>
                  <a:lnTo>
                    <a:pt x="1508" y="1928"/>
                  </a:lnTo>
                  <a:lnTo>
                    <a:pt x="1512" y="1937"/>
                  </a:lnTo>
                  <a:lnTo>
                    <a:pt x="1512" y="1945"/>
                  </a:lnTo>
                  <a:lnTo>
                    <a:pt x="1518" y="1952"/>
                  </a:lnTo>
                  <a:lnTo>
                    <a:pt x="1519" y="1960"/>
                  </a:lnTo>
                  <a:lnTo>
                    <a:pt x="1520" y="1969"/>
                  </a:lnTo>
                  <a:lnTo>
                    <a:pt x="1529" y="1976"/>
                  </a:lnTo>
                  <a:lnTo>
                    <a:pt x="1541" y="1979"/>
                  </a:lnTo>
                  <a:lnTo>
                    <a:pt x="1553" y="1984"/>
                  </a:lnTo>
                  <a:lnTo>
                    <a:pt x="1555" y="1993"/>
                  </a:lnTo>
                  <a:lnTo>
                    <a:pt x="1550" y="2000"/>
                  </a:lnTo>
                  <a:lnTo>
                    <a:pt x="1550" y="2009"/>
                  </a:lnTo>
                  <a:lnTo>
                    <a:pt x="1551" y="2019"/>
                  </a:lnTo>
                  <a:lnTo>
                    <a:pt x="1547" y="2027"/>
                  </a:lnTo>
                  <a:lnTo>
                    <a:pt x="1533" y="2028"/>
                  </a:lnTo>
                  <a:lnTo>
                    <a:pt x="1520" y="2028"/>
                  </a:lnTo>
                  <a:lnTo>
                    <a:pt x="1508" y="2029"/>
                  </a:lnTo>
                  <a:lnTo>
                    <a:pt x="1494" y="2031"/>
                  </a:lnTo>
                  <a:lnTo>
                    <a:pt x="1500" y="2034"/>
                  </a:lnTo>
                  <a:lnTo>
                    <a:pt x="1504" y="2042"/>
                  </a:lnTo>
                  <a:lnTo>
                    <a:pt x="1504" y="2051"/>
                  </a:lnTo>
                  <a:lnTo>
                    <a:pt x="1506" y="2060"/>
                  </a:lnTo>
                  <a:lnTo>
                    <a:pt x="1506" y="2069"/>
                  </a:lnTo>
                  <a:lnTo>
                    <a:pt x="1511" y="2078"/>
                  </a:lnTo>
                  <a:lnTo>
                    <a:pt x="1516" y="2087"/>
                  </a:lnTo>
                  <a:lnTo>
                    <a:pt x="1522" y="2095"/>
                  </a:lnTo>
                  <a:lnTo>
                    <a:pt x="1525" y="2104"/>
                  </a:lnTo>
                  <a:lnTo>
                    <a:pt x="1526" y="2114"/>
                  </a:lnTo>
                  <a:lnTo>
                    <a:pt x="1527" y="2123"/>
                  </a:lnTo>
                  <a:lnTo>
                    <a:pt x="1527" y="2132"/>
                  </a:lnTo>
                  <a:lnTo>
                    <a:pt x="1527" y="2142"/>
                  </a:lnTo>
                  <a:lnTo>
                    <a:pt x="1541" y="2143"/>
                  </a:lnTo>
                  <a:lnTo>
                    <a:pt x="1555" y="2141"/>
                  </a:lnTo>
                  <a:lnTo>
                    <a:pt x="1558" y="2134"/>
                  </a:lnTo>
                  <a:lnTo>
                    <a:pt x="1554" y="2125"/>
                  </a:lnTo>
                  <a:lnTo>
                    <a:pt x="1550" y="2115"/>
                  </a:lnTo>
                  <a:lnTo>
                    <a:pt x="1557" y="2109"/>
                  </a:lnTo>
                  <a:lnTo>
                    <a:pt x="1562" y="2116"/>
                  </a:lnTo>
                  <a:lnTo>
                    <a:pt x="1569" y="2120"/>
                  </a:lnTo>
                  <a:lnTo>
                    <a:pt x="1575" y="2126"/>
                  </a:lnTo>
                  <a:lnTo>
                    <a:pt x="1582" y="2130"/>
                  </a:lnTo>
                  <a:lnTo>
                    <a:pt x="1596" y="2127"/>
                  </a:lnTo>
                  <a:lnTo>
                    <a:pt x="1609" y="2127"/>
                  </a:lnTo>
                  <a:lnTo>
                    <a:pt x="1616" y="2135"/>
                  </a:lnTo>
                  <a:lnTo>
                    <a:pt x="1603" y="2139"/>
                  </a:lnTo>
                  <a:lnTo>
                    <a:pt x="1590" y="2141"/>
                  </a:lnTo>
                  <a:lnTo>
                    <a:pt x="1595" y="2149"/>
                  </a:lnTo>
                  <a:lnTo>
                    <a:pt x="1602" y="2157"/>
                  </a:lnTo>
                  <a:lnTo>
                    <a:pt x="1611" y="2164"/>
                  </a:lnTo>
                  <a:lnTo>
                    <a:pt x="1624" y="2162"/>
                  </a:lnTo>
                  <a:lnTo>
                    <a:pt x="1632" y="2166"/>
                  </a:lnTo>
                  <a:lnTo>
                    <a:pt x="1643" y="2170"/>
                  </a:lnTo>
                  <a:lnTo>
                    <a:pt x="1656" y="2173"/>
                  </a:lnTo>
                  <a:lnTo>
                    <a:pt x="1669" y="2176"/>
                  </a:lnTo>
                  <a:lnTo>
                    <a:pt x="1680" y="2181"/>
                  </a:lnTo>
                  <a:lnTo>
                    <a:pt x="1685" y="2190"/>
                  </a:lnTo>
                  <a:lnTo>
                    <a:pt x="1687" y="2199"/>
                  </a:lnTo>
                  <a:lnTo>
                    <a:pt x="1683" y="2206"/>
                  </a:lnTo>
                  <a:lnTo>
                    <a:pt x="1692" y="2212"/>
                  </a:lnTo>
                  <a:lnTo>
                    <a:pt x="1705" y="2218"/>
                  </a:lnTo>
                  <a:lnTo>
                    <a:pt x="1706" y="2227"/>
                  </a:lnTo>
                  <a:lnTo>
                    <a:pt x="1697" y="2229"/>
                  </a:lnTo>
                  <a:lnTo>
                    <a:pt x="1694" y="2237"/>
                  </a:lnTo>
                  <a:lnTo>
                    <a:pt x="1695" y="2246"/>
                  </a:lnTo>
                  <a:lnTo>
                    <a:pt x="1697" y="2255"/>
                  </a:lnTo>
                  <a:lnTo>
                    <a:pt x="1706" y="2262"/>
                  </a:lnTo>
                  <a:lnTo>
                    <a:pt x="1705" y="2270"/>
                  </a:lnTo>
                  <a:lnTo>
                    <a:pt x="1695" y="2276"/>
                  </a:lnTo>
                  <a:lnTo>
                    <a:pt x="1698" y="2284"/>
                  </a:lnTo>
                  <a:lnTo>
                    <a:pt x="1694" y="2292"/>
                  </a:lnTo>
                  <a:lnTo>
                    <a:pt x="1681" y="2288"/>
                  </a:lnTo>
                  <a:lnTo>
                    <a:pt x="1670" y="2289"/>
                  </a:lnTo>
                  <a:lnTo>
                    <a:pt x="1660" y="2290"/>
                  </a:lnTo>
                  <a:lnTo>
                    <a:pt x="1648" y="2289"/>
                  </a:lnTo>
                  <a:lnTo>
                    <a:pt x="1641" y="2288"/>
                  </a:lnTo>
                  <a:lnTo>
                    <a:pt x="1634" y="2296"/>
                  </a:lnTo>
                  <a:lnTo>
                    <a:pt x="1625" y="2303"/>
                  </a:lnTo>
                  <a:lnTo>
                    <a:pt x="1625" y="2294"/>
                  </a:lnTo>
                  <a:lnTo>
                    <a:pt x="1627" y="2285"/>
                  </a:lnTo>
                  <a:lnTo>
                    <a:pt x="1618" y="2277"/>
                  </a:lnTo>
                  <a:lnTo>
                    <a:pt x="1610" y="2274"/>
                  </a:lnTo>
                  <a:lnTo>
                    <a:pt x="1600" y="2280"/>
                  </a:lnTo>
                  <a:lnTo>
                    <a:pt x="1589" y="2286"/>
                  </a:lnTo>
                  <a:lnTo>
                    <a:pt x="1578" y="2289"/>
                  </a:lnTo>
                  <a:lnTo>
                    <a:pt x="1576" y="2298"/>
                  </a:lnTo>
                  <a:lnTo>
                    <a:pt x="1575" y="2308"/>
                  </a:lnTo>
                  <a:lnTo>
                    <a:pt x="1571" y="2316"/>
                  </a:lnTo>
                  <a:lnTo>
                    <a:pt x="1560" y="2321"/>
                  </a:lnTo>
                  <a:lnTo>
                    <a:pt x="1539" y="2322"/>
                  </a:lnTo>
                  <a:lnTo>
                    <a:pt x="1537" y="2320"/>
                  </a:lnTo>
                  <a:lnTo>
                    <a:pt x="1533" y="2311"/>
                  </a:lnTo>
                  <a:lnTo>
                    <a:pt x="1533" y="2302"/>
                  </a:lnTo>
                  <a:lnTo>
                    <a:pt x="1533" y="2293"/>
                  </a:lnTo>
                  <a:lnTo>
                    <a:pt x="1530" y="2284"/>
                  </a:lnTo>
                  <a:lnTo>
                    <a:pt x="1525" y="2275"/>
                  </a:lnTo>
                  <a:lnTo>
                    <a:pt x="1519" y="2267"/>
                  </a:lnTo>
                  <a:lnTo>
                    <a:pt x="1515" y="2258"/>
                  </a:lnTo>
                  <a:lnTo>
                    <a:pt x="1511" y="2249"/>
                  </a:lnTo>
                  <a:lnTo>
                    <a:pt x="1506" y="2241"/>
                  </a:lnTo>
                  <a:lnTo>
                    <a:pt x="1501" y="2232"/>
                  </a:lnTo>
                  <a:lnTo>
                    <a:pt x="1495" y="2224"/>
                  </a:lnTo>
                  <a:lnTo>
                    <a:pt x="1488" y="2215"/>
                  </a:lnTo>
                  <a:lnTo>
                    <a:pt x="1481" y="2207"/>
                  </a:lnTo>
                  <a:lnTo>
                    <a:pt x="1473" y="2199"/>
                  </a:lnTo>
                  <a:lnTo>
                    <a:pt x="1465" y="2192"/>
                  </a:lnTo>
                  <a:lnTo>
                    <a:pt x="1453" y="2189"/>
                  </a:lnTo>
                  <a:lnTo>
                    <a:pt x="1442" y="2184"/>
                  </a:lnTo>
                  <a:lnTo>
                    <a:pt x="1434" y="2177"/>
                  </a:lnTo>
                  <a:lnTo>
                    <a:pt x="1425" y="2170"/>
                  </a:lnTo>
                  <a:lnTo>
                    <a:pt x="1417" y="2163"/>
                  </a:lnTo>
                  <a:lnTo>
                    <a:pt x="1407" y="2156"/>
                  </a:lnTo>
                  <a:lnTo>
                    <a:pt x="1399" y="2149"/>
                  </a:lnTo>
                  <a:lnTo>
                    <a:pt x="1389" y="2143"/>
                  </a:lnTo>
                  <a:lnTo>
                    <a:pt x="1378" y="2138"/>
                  </a:lnTo>
                  <a:lnTo>
                    <a:pt x="1365" y="2135"/>
                  </a:lnTo>
                  <a:lnTo>
                    <a:pt x="1353" y="2134"/>
                  </a:lnTo>
                  <a:lnTo>
                    <a:pt x="1340" y="2135"/>
                  </a:lnTo>
                  <a:lnTo>
                    <a:pt x="1328" y="2138"/>
                  </a:lnTo>
                  <a:lnTo>
                    <a:pt x="1315" y="2139"/>
                  </a:lnTo>
                  <a:lnTo>
                    <a:pt x="1302" y="2142"/>
                  </a:lnTo>
                  <a:lnTo>
                    <a:pt x="1291" y="2139"/>
                  </a:lnTo>
                  <a:lnTo>
                    <a:pt x="1280" y="2134"/>
                  </a:lnTo>
                  <a:lnTo>
                    <a:pt x="1267" y="2130"/>
                  </a:lnTo>
                  <a:lnTo>
                    <a:pt x="1255" y="2129"/>
                  </a:lnTo>
                  <a:lnTo>
                    <a:pt x="1242" y="2126"/>
                  </a:lnTo>
                  <a:lnTo>
                    <a:pt x="1230" y="2124"/>
                  </a:lnTo>
                  <a:lnTo>
                    <a:pt x="1217" y="2123"/>
                  </a:lnTo>
                  <a:lnTo>
                    <a:pt x="1205" y="2123"/>
                  </a:lnTo>
                  <a:lnTo>
                    <a:pt x="1191" y="2122"/>
                  </a:lnTo>
                  <a:lnTo>
                    <a:pt x="1178" y="2121"/>
                  </a:lnTo>
                  <a:lnTo>
                    <a:pt x="1165" y="2119"/>
                  </a:lnTo>
                  <a:lnTo>
                    <a:pt x="1154" y="2114"/>
                  </a:lnTo>
                  <a:lnTo>
                    <a:pt x="1143" y="2110"/>
                  </a:lnTo>
                  <a:lnTo>
                    <a:pt x="1130" y="2106"/>
                  </a:lnTo>
                  <a:lnTo>
                    <a:pt x="1118" y="2104"/>
                  </a:lnTo>
                  <a:lnTo>
                    <a:pt x="1105" y="2105"/>
                  </a:lnTo>
                  <a:lnTo>
                    <a:pt x="1093" y="2109"/>
                  </a:lnTo>
                  <a:lnTo>
                    <a:pt x="1089" y="2117"/>
                  </a:lnTo>
                  <a:lnTo>
                    <a:pt x="1091" y="2125"/>
                  </a:lnTo>
                  <a:lnTo>
                    <a:pt x="1100" y="2132"/>
                  </a:lnTo>
                  <a:lnTo>
                    <a:pt x="1107" y="2140"/>
                  </a:lnTo>
                  <a:lnTo>
                    <a:pt x="1104" y="2149"/>
                  </a:lnTo>
                  <a:lnTo>
                    <a:pt x="1091" y="2152"/>
                  </a:lnTo>
                  <a:lnTo>
                    <a:pt x="1079" y="2151"/>
                  </a:lnTo>
                  <a:lnTo>
                    <a:pt x="1065" y="2149"/>
                  </a:lnTo>
                  <a:lnTo>
                    <a:pt x="1054" y="2145"/>
                  </a:lnTo>
                  <a:lnTo>
                    <a:pt x="1054" y="2136"/>
                  </a:lnTo>
                  <a:lnTo>
                    <a:pt x="1054" y="2126"/>
                  </a:lnTo>
                  <a:lnTo>
                    <a:pt x="1045" y="2131"/>
                  </a:lnTo>
                  <a:lnTo>
                    <a:pt x="1035" y="2137"/>
                  </a:lnTo>
                  <a:lnTo>
                    <a:pt x="1026" y="2143"/>
                  </a:lnTo>
                  <a:lnTo>
                    <a:pt x="1013" y="2143"/>
                  </a:lnTo>
                  <a:lnTo>
                    <a:pt x="1005" y="2137"/>
                  </a:lnTo>
                  <a:lnTo>
                    <a:pt x="1003" y="2128"/>
                  </a:lnTo>
                  <a:lnTo>
                    <a:pt x="1006" y="2119"/>
                  </a:lnTo>
                  <a:lnTo>
                    <a:pt x="1002" y="2110"/>
                  </a:lnTo>
                  <a:lnTo>
                    <a:pt x="989" y="2106"/>
                  </a:lnTo>
                  <a:lnTo>
                    <a:pt x="977" y="2109"/>
                  </a:lnTo>
                  <a:lnTo>
                    <a:pt x="967" y="2114"/>
                  </a:lnTo>
                  <a:lnTo>
                    <a:pt x="956" y="2119"/>
                  </a:lnTo>
                  <a:lnTo>
                    <a:pt x="943" y="2122"/>
                  </a:lnTo>
                  <a:lnTo>
                    <a:pt x="931" y="2121"/>
                  </a:lnTo>
                  <a:lnTo>
                    <a:pt x="919" y="2115"/>
                  </a:lnTo>
                  <a:lnTo>
                    <a:pt x="915" y="2106"/>
                  </a:lnTo>
                  <a:lnTo>
                    <a:pt x="912" y="2097"/>
                  </a:lnTo>
                  <a:lnTo>
                    <a:pt x="917" y="2092"/>
                  </a:lnTo>
                  <a:lnTo>
                    <a:pt x="919" y="2083"/>
                  </a:lnTo>
                  <a:lnTo>
                    <a:pt x="931" y="2084"/>
                  </a:lnTo>
                  <a:lnTo>
                    <a:pt x="929" y="2093"/>
                  </a:lnTo>
                  <a:lnTo>
                    <a:pt x="936" y="2099"/>
                  </a:lnTo>
                  <a:lnTo>
                    <a:pt x="946" y="2094"/>
                  </a:lnTo>
                  <a:lnTo>
                    <a:pt x="952" y="2086"/>
                  </a:lnTo>
                  <a:lnTo>
                    <a:pt x="963" y="2084"/>
                  </a:lnTo>
                  <a:lnTo>
                    <a:pt x="974" y="2088"/>
                  </a:lnTo>
                  <a:lnTo>
                    <a:pt x="986" y="2091"/>
                  </a:lnTo>
                  <a:lnTo>
                    <a:pt x="1000" y="2091"/>
                  </a:lnTo>
                  <a:lnTo>
                    <a:pt x="1012" y="2088"/>
                  </a:lnTo>
                  <a:lnTo>
                    <a:pt x="1016" y="2079"/>
                  </a:lnTo>
                  <a:lnTo>
                    <a:pt x="1007" y="2072"/>
                  </a:lnTo>
                  <a:lnTo>
                    <a:pt x="996" y="2075"/>
                  </a:lnTo>
                  <a:lnTo>
                    <a:pt x="985" y="2080"/>
                  </a:lnTo>
                  <a:lnTo>
                    <a:pt x="972" y="2081"/>
                  </a:lnTo>
                  <a:lnTo>
                    <a:pt x="960" y="2080"/>
                  </a:lnTo>
                  <a:lnTo>
                    <a:pt x="950" y="2074"/>
                  </a:lnTo>
                  <a:lnTo>
                    <a:pt x="954" y="2065"/>
                  </a:lnTo>
                  <a:lnTo>
                    <a:pt x="967" y="2064"/>
                  </a:lnTo>
                  <a:lnTo>
                    <a:pt x="979" y="2066"/>
                  </a:lnTo>
                  <a:lnTo>
                    <a:pt x="982" y="2060"/>
                  </a:lnTo>
                  <a:lnTo>
                    <a:pt x="970" y="2056"/>
                  </a:lnTo>
                  <a:lnTo>
                    <a:pt x="968" y="2048"/>
                  </a:lnTo>
                  <a:lnTo>
                    <a:pt x="978" y="2041"/>
                  </a:lnTo>
                  <a:lnTo>
                    <a:pt x="984" y="2033"/>
                  </a:lnTo>
                  <a:lnTo>
                    <a:pt x="982" y="2024"/>
                  </a:lnTo>
                  <a:lnTo>
                    <a:pt x="972" y="2018"/>
                  </a:lnTo>
                  <a:lnTo>
                    <a:pt x="960" y="2018"/>
                  </a:lnTo>
                  <a:lnTo>
                    <a:pt x="959" y="2028"/>
                  </a:lnTo>
                  <a:lnTo>
                    <a:pt x="959" y="2037"/>
                  </a:lnTo>
                  <a:lnTo>
                    <a:pt x="954" y="2046"/>
                  </a:lnTo>
                  <a:lnTo>
                    <a:pt x="946" y="2052"/>
                  </a:lnTo>
                  <a:lnTo>
                    <a:pt x="933" y="2049"/>
                  </a:lnTo>
                  <a:lnTo>
                    <a:pt x="926" y="2042"/>
                  </a:lnTo>
                  <a:lnTo>
                    <a:pt x="919" y="2033"/>
                  </a:lnTo>
                  <a:lnTo>
                    <a:pt x="918" y="2024"/>
                  </a:lnTo>
                  <a:lnTo>
                    <a:pt x="917" y="2015"/>
                  </a:lnTo>
                  <a:lnTo>
                    <a:pt x="908" y="2008"/>
                  </a:lnTo>
                  <a:lnTo>
                    <a:pt x="896" y="2009"/>
                  </a:lnTo>
                  <a:lnTo>
                    <a:pt x="889" y="2017"/>
                  </a:lnTo>
                  <a:lnTo>
                    <a:pt x="894" y="2025"/>
                  </a:lnTo>
                  <a:lnTo>
                    <a:pt x="905" y="2030"/>
                  </a:lnTo>
                  <a:lnTo>
                    <a:pt x="908" y="2039"/>
                  </a:lnTo>
                  <a:lnTo>
                    <a:pt x="903" y="2048"/>
                  </a:lnTo>
                  <a:lnTo>
                    <a:pt x="897" y="2056"/>
                  </a:lnTo>
                  <a:lnTo>
                    <a:pt x="889" y="2063"/>
                  </a:lnTo>
                  <a:lnTo>
                    <a:pt x="877" y="2068"/>
                  </a:lnTo>
                  <a:lnTo>
                    <a:pt x="863" y="2068"/>
                  </a:lnTo>
                  <a:lnTo>
                    <a:pt x="852" y="2065"/>
                  </a:lnTo>
                  <a:lnTo>
                    <a:pt x="848" y="2056"/>
                  </a:lnTo>
                  <a:lnTo>
                    <a:pt x="859" y="2051"/>
                  </a:lnTo>
                  <a:lnTo>
                    <a:pt x="869" y="2045"/>
                  </a:lnTo>
                  <a:lnTo>
                    <a:pt x="870" y="2037"/>
                  </a:lnTo>
                  <a:lnTo>
                    <a:pt x="880" y="2031"/>
                  </a:lnTo>
                  <a:lnTo>
                    <a:pt x="880" y="2022"/>
                  </a:lnTo>
                  <a:lnTo>
                    <a:pt x="869" y="2017"/>
                  </a:lnTo>
                  <a:lnTo>
                    <a:pt x="856" y="2020"/>
                  </a:lnTo>
                  <a:lnTo>
                    <a:pt x="854" y="2028"/>
                  </a:lnTo>
                  <a:lnTo>
                    <a:pt x="849" y="2037"/>
                  </a:lnTo>
                  <a:lnTo>
                    <a:pt x="837" y="2035"/>
                  </a:lnTo>
                  <a:lnTo>
                    <a:pt x="826" y="2030"/>
                  </a:lnTo>
                  <a:lnTo>
                    <a:pt x="822" y="2021"/>
                  </a:lnTo>
                  <a:lnTo>
                    <a:pt x="824" y="2012"/>
                  </a:lnTo>
                  <a:lnTo>
                    <a:pt x="837" y="2009"/>
                  </a:lnTo>
                  <a:lnTo>
                    <a:pt x="844" y="2003"/>
                  </a:lnTo>
                  <a:lnTo>
                    <a:pt x="845" y="1993"/>
                  </a:lnTo>
                  <a:lnTo>
                    <a:pt x="833" y="1990"/>
                  </a:lnTo>
                  <a:lnTo>
                    <a:pt x="822" y="1994"/>
                  </a:lnTo>
                  <a:lnTo>
                    <a:pt x="809" y="1996"/>
                  </a:lnTo>
                  <a:lnTo>
                    <a:pt x="795" y="1995"/>
                  </a:lnTo>
                  <a:lnTo>
                    <a:pt x="785" y="1990"/>
                  </a:lnTo>
                  <a:lnTo>
                    <a:pt x="777" y="1982"/>
                  </a:lnTo>
                  <a:lnTo>
                    <a:pt x="766" y="1979"/>
                  </a:lnTo>
                  <a:lnTo>
                    <a:pt x="754" y="1974"/>
                  </a:lnTo>
                  <a:lnTo>
                    <a:pt x="752" y="1967"/>
                  </a:lnTo>
                  <a:lnTo>
                    <a:pt x="764" y="1964"/>
                  </a:lnTo>
                  <a:lnTo>
                    <a:pt x="777" y="1961"/>
                  </a:lnTo>
                  <a:lnTo>
                    <a:pt x="780" y="1953"/>
                  </a:lnTo>
                  <a:lnTo>
                    <a:pt x="792" y="1954"/>
                  </a:lnTo>
                  <a:lnTo>
                    <a:pt x="806" y="1952"/>
                  </a:lnTo>
                  <a:lnTo>
                    <a:pt x="819" y="1951"/>
                  </a:lnTo>
                  <a:lnTo>
                    <a:pt x="826" y="1943"/>
                  </a:lnTo>
                  <a:lnTo>
                    <a:pt x="826" y="1934"/>
                  </a:lnTo>
                  <a:lnTo>
                    <a:pt x="815" y="1931"/>
                  </a:lnTo>
                  <a:lnTo>
                    <a:pt x="802" y="1933"/>
                  </a:lnTo>
                  <a:lnTo>
                    <a:pt x="789" y="1930"/>
                  </a:lnTo>
                  <a:lnTo>
                    <a:pt x="777" y="1928"/>
                  </a:lnTo>
                  <a:lnTo>
                    <a:pt x="764" y="1928"/>
                  </a:lnTo>
                  <a:lnTo>
                    <a:pt x="753" y="1933"/>
                  </a:lnTo>
                  <a:lnTo>
                    <a:pt x="746" y="1932"/>
                  </a:lnTo>
                  <a:lnTo>
                    <a:pt x="756" y="1927"/>
                  </a:lnTo>
                  <a:lnTo>
                    <a:pt x="754" y="1917"/>
                  </a:lnTo>
                  <a:lnTo>
                    <a:pt x="752" y="1908"/>
                  </a:lnTo>
                  <a:lnTo>
                    <a:pt x="753" y="1900"/>
                  </a:lnTo>
                  <a:lnTo>
                    <a:pt x="766" y="1896"/>
                  </a:lnTo>
                  <a:lnTo>
                    <a:pt x="775" y="1890"/>
                  </a:lnTo>
                  <a:lnTo>
                    <a:pt x="781" y="1882"/>
                  </a:lnTo>
                  <a:lnTo>
                    <a:pt x="771" y="1878"/>
                  </a:lnTo>
                  <a:lnTo>
                    <a:pt x="760" y="1877"/>
                  </a:lnTo>
                  <a:lnTo>
                    <a:pt x="746" y="1876"/>
                  </a:lnTo>
                  <a:lnTo>
                    <a:pt x="733" y="1876"/>
                  </a:lnTo>
                  <a:lnTo>
                    <a:pt x="721" y="1876"/>
                  </a:lnTo>
                  <a:lnTo>
                    <a:pt x="708" y="1874"/>
                  </a:lnTo>
                  <a:lnTo>
                    <a:pt x="697" y="1869"/>
                  </a:lnTo>
                  <a:lnTo>
                    <a:pt x="698" y="1860"/>
                  </a:lnTo>
                  <a:lnTo>
                    <a:pt x="710" y="1861"/>
                  </a:lnTo>
                  <a:lnTo>
                    <a:pt x="719" y="1868"/>
                  </a:lnTo>
                  <a:lnTo>
                    <a:pt x="732" y="1869"/>
                  </a:lnTo>
                  <a:lnTo>
                    <a:pt x="740" y="1862"/>
                  </a:lnTo>
                  <a:lnTo>
                    <a:pt x="728" y="1863"/>
                  </a:lnTo>
                  <a:lnTo>
                    <a:pt x="718" y="1858"/>
                  </a:lnTo>
                  <a:lnTo>
                    <a:pt x="715" y="1849"/>
                  </a:lnTo>
                  <a:lnTo>
                    <a:pt x="718" y="1839"/>
                  </a:lnTo>
                  <a:lnTo>
                    <a:pt x="710" y="1832"/>
                  </a:lnTo>
                  <a:lnTo>
                    <a:pt x="697" y="1829"/>
                  </a:lnTo>
                  <a:lnTo>
                    <a:pt x="685" y="1828"/>
                  </a:lnTo>
                  <a:lnTo>
                    <a:pt x="672" y="1828"/>
                  </a:lnTo>
                  <a:lnTo>
                    <a:pt x="661" y="1833"/>
                  </a:lnTo>
                  <a:lnTo>
                    <a:pt x="650" y="1837"/>
                  </a:lnTo>
                  <a:lnTo>
                    <a:pt x="641" y="1831"/>
                  </a:lnTo>
                  <a:lnTo>
                    <a:pt x="647" y="1823"/>
                  </a:lnTo>
                  <a:lnTo>
                    <a:pt x="659" y="1823"/>
                  </a:lnTo>
                  <a:lnTo>
                    <a:pt x="672" y="1825"/>
                  </a:lnTo>
                  <a:lnTo>
                    <a:pt x="675" y="1819"/>
                  </a:lnTo>
                  <a:lnTo>
                    <a:pt x="680" y="1810"/>
                  </a:lnTo>
                  <a:lnTo>
                    <a:pt x="685" y="1802"/>
                  </a:lnTo>
                  <a:lnTo>
                    <a:pt x="696" y="1798"/>
                  </a:lnTo>
                  <a:lnTo>
                    <a:pt x="705" y="1794"/>
                  </a:lnTo>
                  <a:lnTo>
                    <a:pt x="696" y="1789"/>
                  </a:lnTo>
                  <a:lnTo>
                    <a:pt x="683" y="1790"/>
                  </a:lnTo>
                  <a:lnTo>
                    <a:pt x="675" y="1792"/>
                  </a:lnTo>
                  <a:lnTo>
                    <a:pt x="662" y="1791"/>
                  </a:lnTo>
                  <a:lnTo>
                    <a:pt x="661" y="1785"/>
                  </a:lnTo>
                  <a:lnTo>
                    <a:pt x="671" y="1777"/>
                  </a:lnTo>
                  <a:lnTo>
                    <a:pt x="676" y="1769"/>
                  </a:lnTo>
                  <a:lnTo>
                    <a:pt x="672" y="1761"/>
                  </a:lnTo>
                  <a:lnTo>
                    <a:pt x="662" y="1761"/>
                  </a:lnTo>
                  <a:lnTo>
                    <a:pt x="659" y="1770"/>
                  </a:lnTo>
                  <a:lnTo>
                    <a:pt x="651" y="1763"/>
                  </a:lnTo>
                  <a:lnTo>
                    <a:pt x="638" y="1763"/>
                  </a:lnTo>
                  <a:lnTo>
                    <a:pt x="626" y="1766"/>
                  </a:lnTo>
                  <a:lnTo>
                    <a:pt x="615" y="1771"/>
                  </a:lnTo>
                  <a:lnTo>
                    <a:pt x="603" y="1774"/>
                  </a:lnTo>
                  <a:lnTo>
                    <a:pt x="592" y="1769"/>
                  </a:lnTo>
                  <a:lnTo>
                    <a:pt x="591" y="1760"/>
                  </a:lnTo>
                  <a:lnTo>
                    <a:pt x="599" y="1752"/>
                  </a:lnTo>
                  <a:lnTo>
                    <a:pt x="602" y="1743"/>
                  </a:lnTo>
                  <a:lnTo>
                    <a:pt x="592" y="1739"/>
                  </a:lnTo>
                  <a:lnTo>
                    <a:pt x="589" y="1730"/>
                  </a:lnTo>
                  <a:lnTo>
                    <a:pt x="594" y="1723"/>
                  </a:lnTo>
                  <a:lnTo>
                    <a:pt x="606" y="1720"/>
                  </a:lnTo>
                  <a:lnTo>
                    <a:pt x="606" y="1713"/>
                  </a:lnTo>
                  <a:lnTo>
                    <a:pt x="601" y="1705"/>
                  </a:lnTo>
                  <a:lnTo>
                    <a:pt x="601" y="1697"/>
                  </a:lnTo>
                  <a:lnTo>
                    <a:pt x="598" y="1689"/>
                  </a:lnTo>
                  <a:lnTo>
                    <a:pt x="603" y="1682"/>
                  </a:lnTo>
                  <a:lnTo>
                    <a:pt x="594" y="1676"/>
                  </a:lnTo>
                  <a:lnTo>
                    <a:pt x="584" y="1670"/>
                  </a:lnTo>
                  <a:lnTo>
                    <a:pt x="573" y="1670"/>
                  </a:lnTo>
                  <a:lnTo>
                    <a:pt x="561" y="1667"/>
                  </a:lnTo>
                  <a:lnTo>
                    <a:pt x="556" y="1661"/>
                  </a:lnTo>
                  <a:lnTo>
                    <a:pt x="557" y="1654"/>
                  </a:lnTo>
                  <a:lnTo>
                    <a:pt x="557" y="1646"/>
                  </a:lnTo>
                  <a:lnTo>
                    <a:pt x="557" y="1639"/>
                  </a:lnTo>
                  <a:lnTo>
                    <a:pt x="546" y="1637"/>
                  </a:lnTo>
                  <a:lnTo>
                    <a:pt x="534" y="1638"/>
                  </a:lnTo>
                  <a:lnTo>
                    <a:pt x="524" y="1633"/>
                  </a:lnTo>
                  <a:lnTo>
                    <a:pt x="514" y="1639"/>
                  </a:lnTo>
                  <a:lnTo>
                    <a:pt x="503" y="1642"/>
                  </a:lnTo>
                  <a:lnTo>
                    <a:pt x="492" y="1640"/>
                  </a:lnTo>
                  <a:lnTo>
                    <a:pt x="490" y="1630"/>
                  </a:lnTo>
                  <a:lnTo>
                    <a:pt x="490" y="1621"/>
                  </a:lnTo>
                  <a:lnTo>
                    <a:pt x="478" y="1619"/>
                  </a:lnTo>
                  <a:lnTo>
                    <a:pt x="461" y="1622"/>
                  </a:lnTo>
                  <a:lnTo>
                    <a:pt x="452" y="1615"/>
                  </a:lnTo>
                  <a:lnTo>
                    <a:pt x="448" y="1607"/>
                  </a:lnTo>
                  <a:lnTo>
                    <a:pt x="438" y="1602"/>
                  </a:lnTo>
                  <a:lnTo>
                    <a:pt x="427" y="1598"/>
                  </a:lnTo>
                  <a:lnTo>
                    <a:pt x="416" y="1599"/>
                  </a:lnTo>
                  <a:lnTo>
                    <a:pt x="408" y="1604"/>
                  </a:lnTo>
                  <a:lnTo>
                    <a:pt x="398" y="1598"/>
                  </a:lnTo>
                  <a:lnTo>
                    <a:pt x="387" y="1593"/>
                  </a:lnTo>
                  <a:lnTo>
                    <a:pt x="378" y="1586"/>
                  </a:lnTo>
                  <a:lnTo>
                    <a:pt x="376" y="1577"/>
                  </a:lnTo>
                  <a:lnTo>
                    <a:pt x="374" y="1570"/>
                  </a:lnTo>
                  <a:lnTo>
                    <a:pt x="360" y="1570"/>
                  </a:lnTo>
                  <a:lnTo>
                    <a:pt x="348" y="1568"/>
                  </a:lnTo>
                  <a:lnTo>
                    <a:pt x="336" y="1563"/>
                  </a:lnTo>
                  <a:lnTo>
                    <a:pt x="325" y="1558"/>
                  </a:lnTo>
                  <a:lnTo>
                    <a:pt x="315" y="1553"/>
                  </a:lnTo>
                  <a:lnTo>
                    <a:pt x="304" y="1547"/>
                  </a:lnTo>
                  <a:lnTo>
                    <a:pt x="293" y="1542"/>
                  </a:lnTo>
                  <a:lnTo>
                    <a:pt x="282" y="1537"/>
                  </a:lnTo>
                  <a:lnTo>
                    <a:pt x="271" y="1532"/>
                  </a:lnTo>
                  <a:lnTo>
                    <a:pt x="260" y="1528"/>
                  </a:lnTo>
                  <a:lnTo>
                    <a:pt x="247" y="1525"/>
                  </a:lnTo>
                  <a:lnTo>
                    <a:pt x="237" y="1528"/>
                  </a:lnTo>
                  <a:lnTo>
                    <a:pt x="226" y="1523"/>
                  </a:lnTo>
                  <a:lnTo>
                    <a:pt x="219" y="1522"/>
                  </a:lnTo>
                  <a:lnTo>
                    <a:pt x="211" y="1523"/>
                  </a:lnTo>
                  <a:lnTo>
                    <a:pt x="201" y="1522"/>
                  </a:lnTo>
                  <a:lnTo>
                    <a:pt x="190" y="1518"/>
                  </a:lnTo>
                  <a:lnTo>
                    <a:pt x="188" y="1509"/>
                  </a:lnTo>
                  <a:lnTo>
                    <a:pt x="187" y="1501"/>
                  </a:lnTo>
                  <a:lnTo>
                    <a:pt x="191" y="1495"/>
                  </a:lnTo>
                  <a:lnTo>
                    <a:pt x="194" y="1486"/>
                  </a:lnTo>
                  <a:lnTo>
                    <a:pt x="185" y="1482"/>
                  </a:lnTo>
                  <a:lnTo>
                    <a:pt x="174" y="1486"/>
                  </a:lnTo>
                  <a:lnTo>
                    <a:pt x="162" y="1485"/>
                  </a:lnTo>
                  <a:lnTo>
                    <a:pt x="153" y="1487"/>
                  </a:lnTo>
                  <a:lnTo>
                    <a:pt x="145" y="1481"/>
                  </a:lnTo>
                  <a:lnTo>
                    <a:pt x="135" y="1474"/>
                  </a:lnTo>
                  <a:lnTo>
                    <a:pt x="125" y="1468"/>
                  </a:lnTo>
                  <a:lnTo>
                    <a:pt x="120" y="1460"/>
                  </a:lnTo>
                  <a:lnTo>
                    <a:pt x="113" y="1455"/>
                  </a:lnTo>
                  <a:lnTo>
                    <a:pt x="104" y="1447"/>
                  </a:lnTo>
                  <a:lnTo>
                    <a:pt x="93" y="1443"/>
                  </a:lnTo>
                  <a:lnTo>
                    <a:pt x="81" y="1442"/>
                  </a:lnTo>
                  <a:lnTo>
                    <a:pt x="71" y="1437"/>
                  </a:lnTo>
                  <a:lnTo>
                    <a:pt x="64" y="1429"/>
                  </a:lnTo>
                  <a:lnTo>
                    <a:pt x="58" y="1420"/>
                  </a:lnTo>
                  <a:lnTo>
                    <a:pt x="51" y="1412"/>
                  </a:lnTo>
                  <a:lnTo>
                    <a:pt x="41" y="1407"/>
                  </a:lnTo>
                  <a:lnTo>
                    <a:pt x="29" y="1403"/>
                  </a:lnTo>
                  <a:lnTo>
                    <a:pt x="21" y="1397"/>
                  </a:lnTo>
                  <a:lnTo>
                    <a:pt x="22" y="1388"/>
                  </a:lnTo>
                  <a:lnTo>
                    <a:pt x="23" y="1378"/>
                  </a:lnTo>
                  <a:lnTo>
                    <a:pt x="23" y="1369"/>
                  </a:lnTo>
                  <a:lnTo>
                    <a:pt x="22" y="1361"/>
                  </a:lnTo>
                  <a:lnTo>
                    <a:pt x="15" y="1354"/>
                  </a:lnTo>
                  <a:lnTo>
                    <a:pt x="7" y="1347"/>
                  </a:lnTo>
                  <a:lnTo>
                    <a:pt x="4" y="1338"/>
                  </a:lnTo>
                  <a:lnTo>
                    <a:pt x="2" y="1329"/>
                  </a:lnTo>
                  <a:lnTo>
                    <a:pt x="5" y="1320"/>
                  </a:lnTo>
                  <a:lnTo>
                    <a:pt x="0" y="1311"/>
                  </a:lnTo>
                  <a:lnTo>
                    <a:pt x="2" y="1301"/>
                  </a:lnTo>
                  <a:lnTo>
                    <a:pt x="18" y="1300"/>
                  </a:lnTo>
                  <a:lnTo>
                    <a:pt x="11" y="1310"/>
                  </a:lnTo>
                  <a:lnTo>
                    <a:pt x="21" y="1312"/>
                  </a:lnTo>
                  <a:lnTo>
                    <a:pt x="19" y="1321"/>
                  </a:lnTo>
                  <a:lnTo>
                    <a:pt x="25" y="1330"/>
                  </a:lnTo>
                  <a:lnTo>
                    <a:pt x="36" y="1335"/>
                  </a:lnTo>
                  <a:lnTo>
                    <a:pt x="46" y="1341"/>
                  </a:lnTo>
                  <a:lnTo>
                    <a:pt x="58" y="1340"/>
                  </a:lnTo>
                  <a:lnTo>
                    <a:pt x="69" y="1337"/>
                  </a:lnTo>
                  <a:lnTo>
                    <a:pt x="83" y="1336"/>
                  </a:lnTo>
                  <a:lnTo>
                    <a:pt x="96" y="1335"/>
                  </a:lnTo>
                  <a:lnTo>
                    <a:pt x="109" y="1332"/>
                  </a:lnTo>
                  <a:lnTo>
                    <a:pt x="123" y="1333"/>
                  </a:lnTo>
                  <a:lnTo>
                    <a:pt x="127" y="1340"/>
                  </a:lnTo>
                  <a:lnTo>
                    <a:pt x="124" y="1350"/>
                  </a:lnTo>
                  <a:lnTo>
                    <a:pt x="121" y="1359"/>
                  </a:lnTo>
                  <a:lnTo>
                    <a:pt x="128" y="1365"/>
                  </a:lnTo>
                  <a:lnTo>
                    <a:pt x="128" y="1373"/>
                  </a:lnTo>
                  <a:lnTo>
                    <a:pt x="127" y="1382"/>
                  </a:lnTo>
                  <a:lnTo>
                    <a:pt x="131" y="1385"/>
                  </a:lnTo>
                  <a:lnTo>
                    <a:pt x="139" y="1385"/>
                  </a:lnTo>
                  <a:lnTo>
                    <a:pt x="149" y="1383"/>
                  </a:lnTo>
                  <a:lnTo>
                    <a:pt x="162" y="1380"/>
                  </a:lnTo>
                  <a:lnTo>
                    <a:pt x="166" y="1372"/>
                  </a:lnTo>
                  <a:lnTo>
                    <a:pt x="171" y="1365"/>
                  </a:lnTo>
                  <a:lnTo>
                    <a:pt x="178" y="1359"/>
                  </a:lnTo>
                  <a:lnTo>
                    <a:pt x="192" y="1360"/>
                  </a:lnTo>
                  <a:lnTo>
                    <a:pt x="204" y="1362"/>
                  </a:lnTo>
                  <a:lnTo>
                    <a:pt x="212" y="1354"/>
                  </a:lnTo>
                  <a:lnTo>
                    <a:pt x="216" y="1345"/>
                  </a:lnTo>
                  <a:lnTo>
                    <a:pt x="225" y="1339"/>
                  </a:lnTo>
                  <a:lnTo>
                    <a:pt x="232" y="1347"/>
                  </a:lnTo>
                  <a:lnTo>
                    <a:pt x="241" y="1345"/>
                  </a:lnTo>
                  <a:lnTo>
                    <a:pt x="251" y="1343"/>
                  </a:lnTo>
                  <a:lnTo>
                    <a:pt x="254" y="1352"/>
                  </a:lnTo>
                  <a:lnTo>
                    <a:pt x="267" y="1350"/>
                  </a:lnTo>
                  <a:lnTo>
                    <a:pt x="274" y="1357"/>
                  </a:lnTo>
                  <a:lnTo>
                    <a:pt x="282" y="1360"/>
                  </a:lnTo>
                  <a:lnTo>
                    <a:pt x="290" y="1356"/>
                  </a:lnTo>
                  <a:lnTo>
                    <a:pt x="303" y="1353"/>
                  </a:lnTo>
                  <a:lnTo>
                    <a:pt x="307" y="1345"/>
                  </a:lnTo>
                  <a:lnTo>
                    <a:pt x="320" y="1342"/>
                  </a:lnTo>
                  <a:lnTo>
                    <a:pt x="332" y="1339"/>
                  </a:lnTo>
                  <a:lnTo>
                    <a:pt x="331" y="1331"/>
                  </a:lnTo>
                  <a:lnTo>
                    <a:pt x="325" y="1322"/>
                  </a:lnTo>
                  <a:lnTo>
                    <a:pt x="325" y="1312"/>
                  </a:lnTo>
                  <a:lnTo>
                    <a:pt x="335" y="1307"/>
                  </a:lnTo>
                  <a:lnTo>
                    <a:pt x="341" y="1299"/>
                  </a:lnTo>
                  <a:lnTo>
                    <a:pt x="346" y="1289"/>
                  </a:lnTo>
                  <a:lnTo>
                    <a:pt x="357" y="1287"/>
                  </a:lnTo>
                  <a:lnTo>
                    <a:pt x="371" y="1289"/>
                  </a:lnTo>
                  <a:lnTo>
                    <a:pt x="373" y="1281"/>
                  </a:lnTo>
                  <a:lnTo>
                    <a:pt x="371" y="1271"/>
                  </a:lnTo>
                  <a:lnTo>
                    <a:pt x="369" y="1262"/>
                  </a:lnTo>
                  <a:lnTo>
                    <a:pt x="366" y="1253"/>
                  </a:lnTo>
                  <a:lnTo>
                    <a:pt x="363" y="1244"/>
                  </a:lnTo>
                  <a:lnTo>
                    <a:pt x="360" y="1235"/>
                  </a:lnTo>
                  <a:lnTo>
                    <a:pt x="360" y="1227"/>
                  </a:lnTo>
                  <a:lnTo>
                    <a:pt x="348" y="1226"/>
                  </a:lnTo>
                  <a:lnTo>
                    <a:pt x="342" y="1218"/>
                  </a:lnTo>
                  <a:lnTo>
                    <a:pt x="346" y="1209"/>
                  </a:lnTo>
                  <a:lnTo>
                    <a:pt x="345" y="1200"/>
                  </a:lnTo>
                  <a:lnTo>
                    <a:pt x="342" y="1192"/>
                  </a:lnTo>
                  <a:lnTo>
                    <a:pt x="338" y="1186"/>
                  </a:lnTo>
                  <a:lnTo>
                    <a:pt x="325" y="1182"/>
                  </a:lnTo>
                  <a:lnTo>
                    <a:pt x="317" y="1175"/>
                  </a:lnTo>
                  <a:lnTo>
                    <a:pt x="317" y="1167"/>
                  </a:lnTo>
                  <a:lnTo>
                    <a:pt x="317" y="1157"/>
                  </a:lnTo>
                  <a:lnTo>
                    <a:pt x="324" y="1150"/>
                  </a:lnTo>
                  <a:lnTo>
                    <a:pt x="332" y="1142"/>
                  </a:lnTo>
                  <a:lnTo>
                    <a:pt x="332" y="1132"/>
                  </a:lnTo>
                  <a:lnTo>
                    <a:pt x="342" y="1129"/>
                  </a:lnTo>
                  <a:lnTo>
                    <a:pt x="355" y="1130"/>
                  </a:lnTo>
                  <a:lnTo>
                    <a:pt x="366" y="1128"/>
                  </a:lnTo>
                  <a:lnTo>
                    <a:pt x="366" y="1137"/>
                  </a:lnTo>
                  <a:lnTo>
                    <a:pt x="370" y="1145"/>
                  </a:lnTo>
                  <a:lnTo>
                    <a:pt x="378" y="1152"/>
                  </a:lnTo>
                  <a:lnTo>
                    <a:pt x="388" y="1156"/>
                  </a:lnTo>
                  <a:lnTo>
                    <a:pt x="397" y="1160"/>
                  </a:lnTo>
                  <a:lnTo>
                    <a:pt x="408" y="1155"/>
                  </a:lnTo>
                  <a:lnTo>
                    <a:pt x="416" y="1151"/>
                  </a:lnTo>
                  <a:lnTo>
                    <a:pt x="416" y="1141"/>
                  </a:lnTo>
                  <a:lnTo>
                    <a:pt x="419" y="1132"/>
                  </a:lnTo>
                  <a:lnTo>
                    <a:pt x="426" y="1125"/>
                  </a:lnTo>
                  <a:lnTo>
                    <a:pt x="437" y="1121"/>
                  </a:lnTo>
                  <a:lnTo>
                    <a:pt x="451" y="1122"/>
                  </a:lnTo>
                  <a:lnTo>
                    <a:pt x="459" y="1128"/>
                  </a:lnTo>
                  <a:lnTo>
                    <a:pt x="469" y="1134"/>
                  </a:lnTo>
                  <a:lnTo>
                    <a:pt x="483" y="1134"/>
                  </a:lnTo>
                  <a:lnTo>
                    <a:pt x="485" y="1142"/>
                  </a:lnTo>
                  <a:lnTo>
                    <a:pt x="486" y="1151"/>
                  </a:lnTo>
                  <a:lnTo>
                    <a:pt x="499" y="1151"/>
                  </a:lnTo>
                  <a:lnTo>
                    <a:pt x="511" y="1154"/>
                  </a:lnTo>
                  <a:lnTo>
                    <a:pt x="524" y="1152"/>
                  </a:lnTo>
                  <a:lnTo>
                    <a:pt x="535" y="1148"/>
                  </a:lnTo>
                  <a:lnTo>
                    <a:pt x="539" y="1141"/>
                  </a:lnTo>
                  <a:lnTo>
                    <a:pt x="538" y="1132"/>
                  </a:lnTo>
                  <a:lnTo>
                    <a:pt x="538" y="1123"/>
                  </a:lnTo>
                  <a:lnTo>
                    <a:pt x="539" y="1113"/>
                  </a:lnTo>
                  <a:lnTo>
                    <a:pt x="545" y="1106"/>
                  </a:lnTo>
                  <a:lnTo>
                    <a:pt x="559" y="1106"/>
                  </a:lnTo>
                  <a:lnTo>
                    <a:pt x="571" y="1104"/>
                  </a:lnTo>
                  <a:lnTo>
                    <a:pt x="585" y="1102"/>
                  </a:lnTo>
                  <a:lnTo>
                    <a:pt x="598" y="1101"/>
                  </a:lnTo>
                  <a:lnTo>
                    <a:pt x="610" y="1099"/>
                  </a:lnTo>
                  <a:lnTo>
                    <a:pt x="622" y="1103"/>
                  </a:lnTo>
                  <a:lnTo>
                    <a:pt x="634" y="1103"/>
                  </a:lnTo>
                  <a:lnTo>
                    <a:pt x="637" y="1094"/>
                  </a:lnTo>
                  <a:lnTo>
                    <a:pt x="640" y="1085"/>
                  </a:lnTo>
                  <a:lnTo>
                    <a:pt x="644" y="1076"/>
                  </a:lnTo>
                  <a:lnTo>
                    <a:pt x="650" y="1068"/>
                  </a:lnTo>
                  <a:lnTo>
                    <a:pt x="650" y="1059"/>
                  </a:lnTo>
                  <a:lnTo>
                    <a:pt x="651" y="1049"/>
                  </a:lnTo>
                  <a:lnTo>
                    <a:pt x="651" y="1040"/>
                  </a:lnTo>
                  <a:lnTo>
                    <a:pt x="652" y="1031"/>
                  </a:lnTo>
                  <a:lnTo>
                    <a:pt x="648" y="1022"/>
                  </a:lnTo>
                  <a:lnTo>
                    <a:pt x="643" y="1013"/>
                  </a:lnTo>
                  <a:lnTo>
                    <a:pt x="644" y="1004"/>
                  </a:lnTo>
                  <a:lnTo>
                    <a:pt x="645" y="995"/>
                  </a:lnTo>
                  <a:lnTo>
                    <a:pt x="645" y="984"/>
                  </a:lnTo>
                  <a:lnTo>
                    <a:pt x="651" y="979"/>
                  </a:lnTo>
                  <a:lnTo>
                    <a:pt x="658" y="984"/>
                  </a:lnTo>
                  <a:lnTo>
                    <a:pt x="668" y="985"/>
                  </a:lnTo>
                  <a:lnTo>
                    <a:pt x="671" y="975"/>
                  </a:lnTo>
                  <a:lnTo>
                    <a:pt x="676" y="968"/>
                  </a:lnTo>
                  <a:lnTo>
                    <a:pt x="690" y="969"/>
                  </a:lnTo>
                  <a:lnTo>
                    <a:pt x="700" y="963"/>
                  </a:lnTo>
                  <a:lnTo>
                    <a:pt x="707" y="955"/>
                  </a:lnTo>
                  <a:lnTo>
                    <a:pt x="714" y="947"/>
                  </a:lnTo>
                  <a:lnTo>
                    <a:pt x="718" y="938"/>
                  </a:lnTo>
                  <a:lnTo>
                    <a:pt x="717" y="929"/>
                  </a:lnTo>
                  <a:lnTo>
                    <a:pt x="717" y="920"/>
                  </a:lnTo>
                  <a:lnTo>
                    <a:pt x="717" y="910"/>
                  </a:lnTo>
                  <a:lnTo>
                    <a:pt x="717" y="901"/>
                  </a:lnTo>
                  <a:lnTo>
                    <a:pt x="717" y="892"/>
                  </a:lnTo>
                  <a:lnTo>
                    <a:pt x="715" y="882"/>
                  </a:lnTo>
                  <a:lnTo>
                    <a:pt x="715" y="873"/>
                  </a:lnTo>
                  <a:lnTo>
                    <a:pt x="715" y="864"/>
                  </a:lnTo>
                  <a:lnTo>
                    <a:pt x="714" y="854"/>
                  </a:lnTo>
                  <a:lnTo>
                    <a:pt x="714" y="845"/>
                  </a:lnTo>
                  <a:lnTo>
                    <a:pt x="712" y="835"/>
                  </a:lnTo>
                  <a:lnTo>
                    <a:pt x="712" y="825"/>
                  </a:lnTo>
                  <a:lnTo>
                    <a:pt x="711" y="816"/>
                  </a:lnTo>
                  <a:lnTo>
                    <a:pt x="711" y="807"/>
                  </a:lnTo>
                  <a:lnTo>
                    <a:pt x="710" y="797"/>
                  </a:lnTo>
                  <a:lnTo>
                    <a:pt x="708" y="788"/>
                  </a:lnTo>
                  <a:lnTo>
                    <a:pt x="707" y="779"/>
                  </a:lnTo>
                  <a:lnTo>
                    <a:pt x="705" y="770"/>
                  </a:lnTo>
                  <a:lnTo>
                    <a:pt x="704" y="760"/>
                  </a:lnTo>
                  <a:lnTo>
                    <a:pt x="704" y="751"/>
                  </a:lnTo>
                  <a:lnTo>
                    <a:pt x="703" y="742"/>
                  </a:lnTo>
                  <a:lnTo>
                    <a:pt x="703" y="732"/>
                  </a:lnTo>
                  <a:lnTo>
                    <a:pt x="703" y="723"/>
                  </a:lnTo>
                  <a:lnTo>
                    <a:pt x="704" y="714"/>
                  </a:lnTo>
                  <a:lnTo>
                    <a:pt x="704" y="704"/>
                  </a:lnTo>
                  <a:lnTo>
                    <a:pt x="705" y="695"/>
                  </a:lnTo>
                  <a:lnTo>
                    <a:pt x="707" y="686"/>
                  </a:lnTo>
                  <a:lnTo>
                    <a:pt x="708" y="677"/>
                  </a:lnTo>
                  <a:lnTo>
                    <a:pt x="710" y="667"/>
                  </a:lnTo>
                  <a:lnTo>
                    <a:pt x="711" y="658"/>
                  </a:lnTo>
                  <a:lnTo>
                    <a:pt x="712" y="649"/>
                  </a:lnTo>
                  <a:lnTo>
                    <a:pt x="715" y="640"/>
                  </a:lnTo>
                  <a:lnTo>
                    <a:pt x="718" y="630"/>
                  </a:lnTo>
                  <a:lnTo>
                    <a:pt x="721" y="621"/>
                  </a:lnTo>
                  <a:lnTo>
                    <a:pt x="725" y="612"/>
                  </a:lnTo>
                  <a:lnTo>
                    <a:pt x="731" y="604"/>
                  </a:lnTo>
                  <a:lnTo>
                    <a:pt x="739" y="598"/>
                  </a:lnTo>
                  <a:lnTo>
                    <a:pt x="750" y="592"/>
                  </a:lnTo>
                  <a:lnTo>
                    <a:pt x="761" y="587"/>
                  </a:lnTo>
                  <a:lnTo>
                    <a:pt x="773" y="582"/>
                  </a:lnTo>
                  <a:lnTo>
                    <a:pt x="785" y="577"/>
                  </a:lnTo>
                  <a:lnTo>
                    <a:pt x="794" y="571"/>
                  </a:lnTo>
                  <a:lnTo>
                    <a:pt x="799" y="563"/>
                  </a:lnTo>
                  <a:lnTo>
                    <a:pt x="802" y="554"/>
                  </a:lnTo>
                  <a:lnTo>
                    <a:pt x="803" y="545"/>
                  </a:lnTo>
                  <a:lnTo>
                    <a:pt x="806" y="535"/>
                  </a:lnTo>
                  <a:lnTo>
                    <a:pt x="808" y="526"/>
                  </a:lnTo>
                  <a:lnTo>
                    <a:pt x="810" y="516"/>
                  </a:lnTo>
                  <a:lnTo>
                    <a:pt x="813" y="507"/>
                  </a:lnTo>
                  <a:lnTo>
                    <a:pt x="816" y="498"/>
                  </a:lnTo>
                  <a:lnTo>
                    <a:pt x="817" y="488"/>
                  </a:lnTo>
                  <a:lnTo>
                    <a:pt x="822" y="479"/>
                  </a:lnTo>
                  <a:lnTo>
                    <a:pt x="824" y="471"/>
                  </a:lnTo>
                  <a:lnTo>
                    <a:pt x="834" y="467"/>
                  </a:lnTo>
                  <a:lnTo>
                    <a:pt x="847" y="467"/>
                  </a:lnTo>
                  <a:lnTo>
                    <a:pt x="861" y="466"/>
                  </a:lnTo>
                  <a:lnTo>
                    <a:pt x="873" y="466"/>
                  </a:lnTo>
                  <a:lnTo>
                    <a:pt x="886" y="466"/>
                  </a:lnTo>
                  <a:lnTo>
                    <a:pt x="898" y="470"/>
                  </a:lnTo>
                  <a:lnTo>
                    <a:pt x="911" y="473"/>
                  </a:lnTo>
                  <a:lnTo>
                    <a:pt x="924" y="475"/>
                  </a:lnTo>
                  <a:lnTo>
                    <a:pt x="936" y="476"/>
                  </a:lnTo>
                  <a:lnTo>
                    <a:pt x="949" y="478"/>
                  </a:lnTo>
                  <a:lnTo>
                    <a:pt x="963" y="479"/>
                  </a:lnTo>
                  <a:lnTo>
                    <a:pt x="975" y="480"/>
                  </a:lnTo>
                  <a:lnTo>
                    <a:pt x="988" y="480"/>
                  </a:lnTo>
                  <a:lnTo>
                    <a:pt x="1000" y="481"/>
                  </a:lnTo>
                  <a:lnTo>
                    <a:pt x="1014" y="480"/>
                  </a:lnTo>
                  <a:lnTo>
                    <a:pt x="1026" y="477"/>
                  </a:lnTo>
                  <a:lnTo>
                    <a:pt x="1037" y="472"/>
                  </a:lnTo>
                  <a:lnTo>
                    <a:pt x="1047" y="465"/>
                  </a:lnTo>
                  <a:lnTo>
                    <a:pt x="1056" y="459"/>
                  </a:lnTo>
                  <a:lnTo>
                    <a:pt x="1068" y="454"/>
                  </a:lnTo>
                  <a:lnTo>
                    <a:pt x="1079" y="450"/>
                  </a:lnTo>
                  <a:lnTo>
                    <a:pt x="1091" y="447"/>
                  </a:lnTo>
                  <a:lnTo>
                    <a:pt x="1104" y="445"/>
                  </a:lnTo>
                  <a:lnTo>
                    <a:pt x="1122" y="443"/>
                  </a:lnTo>
                  <a:lnTo>
                    <a:pt x="1136" y="443"/>
                  </a:lnTo>
                  <a:lnTo>
                    <a:pt x="1149" y="443"/>
                  </a:lnTo>
                  <a:lnTo>
                    <a:pt x="1161" y="443"/>
                  </a:lnTo>
                  <a:lnTo>
                    <a:pt x="1184" y="442"/>
                  </a:lnTo>
                  <a:lnTo>
                    <a:pt x="1198" y="441"/>
                  </a:lnTo>
                  <a:lnTo>
                    <a:pt x="1210" y="441"/>
                  </a:lnTo>
                  <a:lnTo>
                    <a:pt x="1223" y="440"/>
                  </a:lnTo>
                  <a:lnTo>
                    <a:pt x="1237" y="441"/>
                  </a:lnTo>
                  <a:lnTo>
                    <a:pt x="1249" y="441"/>
                  </a:lnTo>
                  <a:lnTo>
                    <a:pt x="1262" y="439"/>
                  </a:lnTo>
                  <a:lnTo>
                    <a:pt x="1274" y="437"/>
                  </a:lnTo>
                  <a:lnTo>
                    <a:pt x="1286" y="432"/>
                  </a:lnTo>
                  <a:lnTo>
                    <a:pt x="1297" y="428"/>
                  </a:lnTo>
                  <a:lnTo>
                    <a:pt x="1308" y="423"/>
                  </a:lnTo>
                  <a:lnTo>
                    <a:pt x="1319" y="418"/>
                  </a:lnTo>
                  <a:lnTo>
                    <a:pt x="1330" y="413"/>
                  </a:lnTo>
                  <a:lnTo>
                    <a:pt x="1340" y="407"/>
                  </a:lnTo>
                  <a:lnTo>
                    <a:pt x="1351" y="402"/>
                  </a:lnTo>
                  <a:lnTo>
                    <a:pt x="1365" y="397"/>
                  </a:lnTo>
                  <a:lnTo>
                    <a:pt x="1385" y="391"/>
                  </a:lnTo>
                  <a:lnTo>
                    <a:pt x="1396" y="387"/>
                  </a:lnTo>
                  <a:lnTo>
                    <a:pt x="1409" y="384"/>
                  </a:lnTo>
                  <a:lnTo>
                    <a:pt x="1421" y="379"/>
                  </a:lnTo>
                  <a:lnTo>
                    <a:pt x="1432" y="375"/>
                  </a:lnTo>
                  <a:lnTo>
                    <a:pt x="1445" y="372"/>
                  </a:lnTo>
                  <a:lnTo>
                    <a:pt x="1456" y="368"/>
                  </a:lnTo>
                  <a:lnTo>
                    <a:pt x="1469" y="364"/>
                  </a:lnTo>
                  <a:lnTo>
                    <a:pt x="1480" y="360"/>
                  </a:lnTo>
                  <a:lnTo>
                    <a:pt x="1493" y="356"/>
                  </a:lnTo>
                  <a:lnTo>
                    <a:pt x="1504" y="352"/>
                  </a:lnTo>
                  <a:lnTo>
                    <a:pt x="1515" y="348"/>
                  </a:lnTo>
                  <a:lnTo>
                    <a:pt x="1527" y="344"/>
                  </a:lnTo>
                  <a:lnTo>
                    <a:pt x="1539" y="340"/>
                  </a:lnTo>
                  <a:lnTo>
                    <a:pt x="1551" y="337"/>
                  </a:lnTo>
                  <a:lnTo>
                    <a:pt x="1564" y="335"/>
                  </a:lnTo>
                  <a:lnTo>
                    <a:pt x="1576" y="332"/>
                  </a:lnTo>
                  <a:lnTo>
                    <a:pt x="1589" y="329"/>
                  </a:lnTo>
                  <a:lnTo>
                    <a:pt x="1602" y="326"/>
                  </a:lnTo>
                  <a:lnTo>
                    <a:pt x="1613" y="323"/>
                  </a:lnTo>
                  <a:lnTo>
                    <a:pt x="1625" y="318"/>
                  </a:lnTo>
                  <a:lnTo>
                    <a:pt x="1635" y="313"/>
                  </a:lnTo>
                  <a:lnTo>
                    <a:pt x="1646" y="308"/>
                  </a:lnTo>
                  <a:lnTo>
                    <a:pt x="1656" y="302"/>
                  </a:lnTo>
                  <a:lnTo>
                    <a:pt x="1667" y="296"/>
                  </a:lnTo>
                  <a:lnTo>
                    <a:pt x="1677" y="290"/>
                  </a:lnTo>
                  <a:lnTo>
                    <a:pt x="1688" y="285"/>
                  </a:lnTo>
                  <a:lnTo>
                    <a:pt x="1699" y="281"/>
                  </a:lnTo>
                  <a:lnTo>
                    <a:pt x="1711" y="276"/>
                  </a:lnTo>
                  <a:lnTo>
                    <a:pt x="1722" y="272"/>
                  </a:lnTo>
                  <a:lnTo>
                    <a:pt x="1734" y="267"/>
                  </a:lnTo>
                  <a:lnTo>
                    <a:pt x="1746" y="263"/>
                  </a:lnTo>
                  <a:lnTo>
                    <a:pt x="1758" y="261"/>
                  </a:lnTo>
                  <a:lnTo>
                    <a:pt x="1771" y="259"/>
                  </a:lnTo>
                  <a:lnTo>
                    <a:pt x="1783" y="256"/>
                  </a:lnTo>
                  <a:lnTo>
                    <a:pt x="1796" y="254"/>
                  </a:lnTo>
                  <a:lnTo>
                    <a:pt x="1808" y="251"/>
                  </a:lnTo>
                  <a:lnTo>
                    <a:pt x="1821" y="248"/>
                  </a:lnTo>
                  <a:lnTo>
                    <a:pt x="1834" y="245"/>
                  </a:lnTo>
                  <a:lnTo>
                    <a:pt x="1845" y="242"/>
                  </a:lnTo>
                  <a:lnTo>
                    <a:pt x="1857" y="239"/>
                  </a:lnTo>
                  <a:lnTo>
                    <a:pt x="1870" y="235"/>
                  </a:lnTo>
                  <a:lnTo>
                    <a:pt x="1881" y="232"/>
                  </a:lnTo>
                  <a:lnTo>
                    <a:pt x="1894" y="228"/>
                  </a:lnTo>
                  <a:lnTo>
                    <a:pt x="1905" y="223"/>
                  </a:lnTo>
                  <a:lnTo>
                    <a:pt x="1916" y="219"/>
                  </a:lnTo>
                  <a:lnTo>
                    <a:pt x="1927" y="214"/>
                  </a:lnTo>
                  <a:lnTo>
                    <a:pt x="1938" y="209"/>
                  </a:lnTo>
                  <a:lnTo>
                    <a:pt x="1950" y="204"/>
                  </a:lnTo>
                  <a:lnTo>
                    <a:pt x="1961" y="200"/>
                  </a:lnTo>
                  <a:lnTo>
                    <a:pt x="1972" y="195"/>
                  </a:lnTo>
                  <a:lnTo>
                    <a:pt x="1983" y="190"/>
                  </a:lnTo>
                  <a:lnTo>
                    <a:pt x="1996" y="191"/>
                  </a:lnTo>
                  <a:lnTo>
                    <a:pt x="2008" y="193"/>
                  </a:lnTo>
                  <a:lnTo>
                    <a:pt x="2021" y="196"/>
                  </a:lnTo>
                  <a:lnTo>
                    <a:pt x="2034" y="198"/>
                  </a:lnTo>
                  <a:lnTo>
                    <a:pt x="2046" y="196"/>
                  </a:lnTo>
                  <a:lnTo>
                    <a:pt x="2059" y="192"/>
                  </a:lnTo>
                  <a:lnTo>
                    <a:pt x="2070" y="187"/>
                  </a:lnTo>
                  <a:lnTo>
                    <a:pt x="2080" y="182"/>
                  </a:lnTo>
                  <a:lnTo>
                    <a:pt x="2089" y="175"/>
                  </a:lnTo>
                  <a:lnTo>
                    <a:pt x="2098" y="168"/>
                  </a:lnTo>
                  <a:lnTo>
                    <a:pt x="2105" y="160"/>
                  </a:lnTo>
                  <a:lnTo>
                    <a:pt x="2109" y="152"/>
                  </a:lnTo>
                  <a:lnTo>
                    <a:pt x="2112" y="142"/>
                  </a:lnTo>
                  <a:lnTo>
                    <a:pt x="2113" y="133"/>
                  </a:lnTo>
                  <a:lnTo>
                    <a:pt x="2110" y="124"/>
                  </a:lnTo>
                  <a:lnTo>
                    <a:pt x="2106" y="115"/>
                  </a:lnTo>
                  <a:lnTo>
                    <a:pt x="2106" y="106"/>
                  </a:lnTo>
                  <a:lnTo>
                    <a:pt x="2117" y="102"/>
                  </a:lnTo>
                  <a:lnTo>
                    <a:pt x="2129" y="97"/>
                  </a:lnTo>
                  <a:lnTo>
                    <a:pt x="2141" y="92"/>
                  </a:lnTo>
                  <a:lnTo>
                    <a:pt x="2152" y="88"/>
                  </a:lnTo>
                  <a:lnTo>
                    <a:pt x="2165" y="85"/>
                  </a:lnTo>
                  <a:lnTo>
                    <a:pt x="2176" y="81"/>
                  </a:lnTo>
                  <a:lnTo>
                    <a:pt x="2189" y="78"/>
                  </a:lnTo>
                  <a:lnTo>
                    <a:pt x="2201" y="75"/>
                  </a:lnTo>
                  <a:lnTo>
                    <a:pt x="2212" y="71"/>
                  </a:lnTo>
                  <a:lnTo>
                    <a:pt x="2225" y="68"/>
                  </a:lnTo>
                  <a:lnTo>
                    <a:pt x="2238" y="64"/>
                  </a:lnTo>
                  <a:lnTo>
                    <a:pt x="2249" y="61"/>
                  </a:lnTo>
                  <a:lnTo>
                    <a:pt x="2261" y="57"/>
                  </a:lnTo>
                  <a:lnTo>
                    <a:pt x="2274" y="54"/>
                  </a:lnTo>
                  <a:lnTo>
                    <a:pt x="2285" y="51"/>
                  </a:lnTo>
                  <a:lnTo>
                    <a:pt x="2298" y="47"/>
                  </a:lnTo>
                  <a:lnTo>
                    <a:pt x="2310" y="44"/>
                  </a:lnTo>
                  <a:lnTo>
                    <a:pt x="2321" y="41"/>
                  </a:lnTo>
                  <a:lnTo>
                    <a:pt x="2334" y="37"/>
                  </a:lnTo>
                  <a:lnTo>
                    <a:pt x="2347" y="34"/>
                  </a:lnTo>
                  <a:lnTo>
                    <a:pt x="2359" y="30"/>
                  </a:lnTo>
                  <a:lnTo>
                    <a:pt x="2370" y="27"/>
                  </a:lnTo>
                  <a:lnTo>
                    <a:pt x="2382" y="23"/>
                  </a:lnTo>
                  <a:lnTo>
                    <a:pt x="2394" y="18"/>
                  </a:lnTo>
                  <a:lnTo>
                    <a:pt x="2404" y="13"/>
                  </a:lnTo>
                  <a:lnTo>
                    <a:pt x="2414" y="7"/>
                  </a:lnTo>
                  <a:lnTo>
                    <a:pt x="2424" y="0"/>
                  </a:lnTo>
                  <a:lnTo>
                    <a:pt x="2436" y="2"/>
                  </a:lnTo>
                  <a:lnTo>
                    <a:pt x="2458" y="8"/>
                  </a:lnTo>
                  <a:lnTo>
                    <a:pt x="2471" y="11"/>
                  </a:lnTo>
                  <a:lnTo>
                    <a:pt x="2484" y="14"/>
                  </a:lnTo>
                  <a:lnTo>
                    <a:pt x="2496" y="18"/>
                  </a:lnTo>
                  <a:lnTo>
                    <a:pt x="2509" y="21"/>
                  </a:lnTo>
                  <a:lnTo>
                    <a:pt x="2521" y="25"/>
                  </a:lnTo>
                  <a:lnTo>
                    <a:pt x="2534" y="28"/>
                  </a:lnTo>
                  <a:lnTo>
                    <a:pt x="2547" y="31"/>
                  </a:lnTo>
                  <a:lnTo>
                    <a:pt x="2559" y="33"/>
                  </a:lnTo>
                  <a:lnTo>
                    <a:pt x="2570" y="35"/>
                  </a:lnTo>
                  <a:lnTo>
                    <a:pt x="2583" y="37"/>
                  </a:lnTo>
                  <a:lnTo>
                    <a:pt x="2591" y="33"/>
                  </a:lnTo>
                  <a:lnTo>
                    <a:pt x="2597" y="23"/>
                  </a:lnTo>
                  <a:lnTo>
                    <a:pt x="2604" y="24"/>
                  </a:lnTo>
                  <a:lnTo>
                    <a:pt x="2602" y="31"/>
                  </a:lnTo>
                  <a:lnTo>
                    <a:pt x="2611" y="38"/>
                  </a:lnTo>
                  <a:lnTo>
                    <a:pt x="2619" y="45"/>
                  </a:lnTo>
                  <a:lnTo>
                    <a:pt x="2629" y="52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29400" y="1474920"/>
              <a:ext cx="1873080" cy="1374480"/>
            </a:xfrm>
            <a:custGeom>
              <a:avLst/>
              <a:gdLst/>
              <a:ahLst/>
              <a:rect l="l" t="t" r="r" b="b"/>
              <a:pathLst>
                <a:path w="3541" h="1733">
                  <a:moveTo>
                    <a:pt x="1981" y="100"/>
                  </a:moveTo>
                  <a:lnTo>
                    <a:pt x="1985" y="100"/>
                  </a:lnTo>
                  <a:lnTo>
                    <a:pt x="1998" y="97"/>
                  </a:lnTo>
                  <a:lnTo>
                    <a:pt x="2010" y="97"/>
                  </a:lnTo>
                  <a:lnTo>
                    <a:pt x="2009" y="89"/>
                  </a:lnTo>
                  <a:lnTo>
                    <a:pt x="2000" y="81"/>
                  </a:lnTo>
                  <a:lnTo>
                    <a:pt x="2002" y="74"/>
                  </a:lnTo>
                  <a:lnTo>
                    <a:pt x="2014" y="72"/>
                  </a:lnTo>
                  <a:lnTo>
                    <a:pt x="2027" y="69"/>
                  </a:lnTo>
                  <a:lnTo>
                    <a:pt x="2040" y="64"/>
                  </a:lnTo>
                  <a:lnTo>
                    <a:pt x="2044" y="56"/>
                  </a:lnTo>
                  <a:lnTo>
                    <a:pt x="2042" y="47"/>
                  </a:lnTo>
                  <a:lnTo>
                    <a:pt x="2045" y="38"/>
                  </a:lnTo>
                  <a:lnTo>
                    <a:pt x="2054" y="31"/>
                  </a:lnTo>
                  <a:lnTo>
                    <a:pt x="2066" y="28"/>
                  </a:lnTo>
                  <a:lnTo>
                    <a:pt x="2079" y="26"/>
                  </a:lnTo>
                  <a:lnTo>
                    <a:pt x="2091" y="25"/>
                  </a:lnTo>
                  <a:lnTo>
                    <a:pt x="2104" y="21"/>
                  </a:lnTo>
                  <a:lnTo>
                    <a:pt x="2114" y="15"/>
                  </a:lnTo>
                  <a:lnTo>
                    <a:pt x="2122" y="8"/>
                  </a:lnTo>
                  <a:lnTo>
                    <a:pt x="2132" y="2"/>
                  </a:lnTo>
                  <a:lnTo>
                    <a:pt x="2144" y="0"/>
                  </a:lnTo>
                  <a:lnTo>
                    <a:pt x="2157" y="2"/>
                  </a:lnTo>
                  <a:lnTo>
                    <a:pt x="2165" y="9"/>
                  </a:lnTo>
                  <a:lnTo>
                    <a:pt x="2174" y="16"/>
                  </a:lnTo>
                  <a:lnTo>
                    <a:pt x="2184" y="23"/>
                  </a:lnTo>
                  <a:lnTo>
                    <a:pt x="2193" y="28"/>
                  </a:lnTo>
                  <a:lnTo>
                    <a:pt x="2206" y="31"/>
                  </a:lnTo>
                  <a:lnTo>
                    <a:pt x="2223" y="29"/>
                  </a:lnTo>
                  <a:lnTo>
                    <a:pt x="2235" y="27"/>
                  </a:lnTo>
                  <a:lnTo>
                    <a:pt x="2249" y="27"/>
                  </a:lnTo>
                  <a:lnTo>
                    <a:pt x="2256" y="33"/>
                  </a:lnTo>
                  <a:lnTo>
                    <a:pt x="2253" y="42"/>
                  </a:lnTo>
                  <a:lnTo>
                    <a:pt x="2249" y="51"/>
                  </a:lnTo>
                  <a:lnTo>
                    <a:pt x="2245" y="60"/>
                  </a:lnTo>
                  <a:lnTo>
                    <a:pt x="2238" y="67"/>
                  </a:lnTo>
                  <a:lnTo>
                    <a:pt x="2227" y="71"/>
                  </a:lnTo>
                  <a:lnTo>
                    <a:pt x="2214" y="75"/>
                  </a:lnTo>
                  <a:lnTo>
                    <a:pt x="2211" y="82"/>
                  </a:lnTo>
                  <a:lnTo>
                    <a:pt x="2224" y="86"/>
                  </a:lnTo>
                  <a:lnTo>
                    <a:pt x="2235" y="91"/>
                  </a:lnTo>
                  <a:lnTo>
                    <a:pt x="2242" y="99"/>
                  </a:lnTo>
                  <a:lnTo>
                    <a:pt x="2246" y="108"/>
                  </a:lnTo>
                  <a:lnTo>
                    <a:pt x="2252" y="116"/>
                  </a:lnTo>
                  <a:lnTo>
                    <a:pt x="2259" y="125"/>
                  </a:lnTo>
                  <a:lnTo>
                    <a:pt x="2267" y="131"/>
                  </a:lnTo>
                  <a:lnTo>
                    <a:pt x="2280" y="134"/>
                  </a:lnTo>
                  <a:lnTo>
                    <a:pt x="2293" y="136"/>
                  </a:lnTo>
                  <a:lnTo>
                    <a:pt x="2307" y="138"/>
                  </a:lnTo>
                  <a:lnTo>
                    <a:pt x="2319" y="138"/>
                  </a:lnTo>
                  <a:lnTo>
                    <a:pt x="2329" y="144"/>
                  </a:lnTo>
                  <a:lnTo>
                    <a:pt x="2341" y="144"/>
                  </a:lnTo>
                  <a:lnTo>
                    <a:pt x="2355" y="143"/>
                  </a:lnTo>
                  <a:lnTo>
                    <a:pt x="2367" y="143"/>
                  </a:lnTo>
                  <a:lnTo>
                    <a:pt x="2368" y="152"/>
                  </a:lnTo>
                  <a:lnTo>
                    <a:pt x="2367" y="162"/>
                  </a:lnTo>
                  <a:lnTo>
                    <a:pt x="2365" y="171"/>
                  </a:lnTo>
                  <a:lnTo>
                    <a:pt x="2367" y="180"/>
                  </a:lnTo>
                  <a:lnTo>
                    <a:pt x="2364" y="189"/>
                  </a:lnTo>
                  <a:lnTo>
                    <a:pt x="2357" y="197"/>
                  </a:lnTo>
                  <a:lnTo>
                    <a:pt x="2361" y="205"/>
                  </a:lnTo>
                  <a:lnTo>
                    <a:pt x="2372" y="210"/>
                  </a:lnTo>
                  <a:lnTo>
                    <a:pt x="2375" y="220"/>
                  </a:lnTo>
                  <a:lnTo>
                    <a:pt x="2383" y="227"/>
                  </a:lnTo>
                  <a:lnTo>
                    <a:pt x="2395" y="231"/>
                  </a:lnTo>
                  <a:lnTo>
                    <a:pt x="2404" y="235"/>
                  </a:lnTo>
                  <a:lnTo>
                    <a:pt x="2406" y="245"/>
                  </a:lnTo>
                  <a:lnTo>
                    <a:pt x="2409" y="254"/>
                  </a:lnTo>
                  <a:lnTo>
                    <a:pt x="2411" y="263"/>
                  </a:lnTo>
                  <a:lnTo>
                    <a:pt x="2413" y="273"/>
                  </a:lnTo>
                  <a:lnTo>
                    <a:pt x="2417" y="281"/>
                  </a:lnTo>
                  <a:lnTo>
                    <a:pt x="2418" y="290"/>
                  </a:lnTo>
                  <a:lnTo>
                    <a:pt x="2417" y="299"/>
                  </a:lnTo>
                  <a:lnTo>
                    <a:pt x="2427" y="305"/>
                  </a:lnTo>
                  <a:lnTo>
                    <a:pt x="2438" y="310"/>
                  </a:lnTo>
                  <a:lnTo>
                    <a:pt x="2448" y="316"/>
                  </a:lnTo>
                  <a:lnTo>
                    <a:pt x="2456" y="323"/>
                  </a:lnTo>
                  <a:lnTo>
                    <a:pt x="2463" y="331"/>
                  </a:lnTo>
                  <a:lnTo>
                    <a:pt x="2469" y="339"/>
                  </a:lnTo>
                  <a:lnTo>
                    <a:pt x="2470" y="348"/>
                  </a:lnTo>
                  <a:lnTo>
                    <a:pt x="2477" y="357"/>
                  </a:lnTo>
                  <a:lnTo>
                    <a:pt x="2477" y="365"/>
                  </a:lnTo>
                  <a:lnTo>
                    <a:pt x="2485" y="371"/>
                  </a:lnTo>
                  <a:lnTo>
                    <a:pt x="2497" y="377"/>
                  </a:lnTo>
                  <a:lnTo>
                    <a:pt x="2502" y="384"/>
                  </a:lnTo>
                  <a:lnTo>
                    <a:pt x="2509" y="382"/>
                  </a:lnTo>
                  <a:lnTo>
                    <a:pt x="2518" y="375"/>
                  </a:lnTo>
                  <a:lnTo>
                    <a:pt x="2527" y="369"/>
                  </a:lnTo>
                  <a:lnTo>
                    <a:pt x="2532" y="360"/>
                  </a:lnTo>
                  <a:lnTo>
                    <a:pt x="2540" y="354"/>
                  </a:lnTo>
                  <a:lnTo>
                    <a:pt x="2553" y="351"/>
                  </a:lnTo>
                  <a:lnTo>
                    <a:pt x="2567" y="350"/>
                  </a:lnTo>
                  <a:lnTo>
                    <a:pt x="2572" y="354"/>
                  </a:lnTo>
                  <a:lnTo>
                    <a:pt x="2585" y="357"/>
                  </a:lnTo>
                  <a:lnTo>
                    <a:pt x="2597" y="358"/>
                  </a:lnTo>
                  <a:lnTo>
                    <a:pt x="2594" y="351"/>
                  </a:lnTo>
                  <a:lnTo>
                    <a:pt x="2603" y="348"/>
                  </a:lnTo>
                  <a:lnTo>
                    <a:pt x="2614" y="350"/>
                  </a:lnTo>
                  <a:lnTo>
                    <a:pt x="2622" y="357"/>
                  </a:lnTo>
                  <a:lnTo>
                    <a:pt x="2631" y="364"/>
                  </a:lnTo>
                  <a:lnTo>
                    <a:pt x="2642" y="364"/>
                  </a:lnTo>
                  <a:lnTo>
                    <a:pt x="2652" y="366"/>
                  </a:lnTo>
                  <a:lnTo>
                    <a:pt x="2664" y="363"/>
                  </a:lnTo>
                  <a:lnTo>
                    <a:pt x="2671" y="357"/>
                  </a:lnTo>
                  <a:lnTo>
                    <a:pt x="2676" y="354"/>
                  </a:lnTo>
                  <a:lnTo>
                    <a:pt x="2687" y="350"/>
                  </a:lnTo>
                  <a:lnTo>
                    <a:pt x="2697" y="343"/>
                  </a:lnTo>
                  <a:lnTo>
                    <a:pt x="2706" y="339"/>
                  </a:lnTo>
                  <a:lnTo>
                    <a:pt x="2716" y="344"/>
                  </a:lnTo>
                  <a:lnTo>
                    <a:pt x="2727" y="349"/>
                  </a:lnTo>
                  <a:lnTo>
                    <a:pt x="2730" y="355"/>
                  </a:lnTo>
                  <a:lnTo>
                    <a:pt x="2737" y="360"/>
                  </a:lnTo>
                  <a:lnTo>
                    <a:pt x="2726" y="366"/>
                  </a:lnTo>
                  <a:lnTo>
                    <a:pt x="2733" y="369"/>
                  </a:lnTo>
                  <a:lnTo>
                    <a:pt x="2745" y="371"/>
                  </a:lnTo>
                  <a:lnTo>
                    <a:pt x="2759" y="372"/>
                  </a:lnTo>
                  <a:lnTo>
                    <a:pt x="2762" y="380"/>
                  </a:lnTo>
                  <a:lnTo>
                    <a:pt x="2759" y="389"/>
                  </a:lnTo>
                  <a:lnTo>
                    <a:pt x="2758" y="398"/>
                  </a:lnTo>
                  <a:lnTo>
                    <a:pt x="2766" y="405"/>
                  </a:lnTo>
                  <a:lnTo>
                    <a:pt x="2778" y="411"/>
                  </a:lnTo>
                  <a:lnTo>
                    <a:pt x="2783" y="419"/>
                  </a:lnTo>
                  <a:lnTo>
                    <a:pt x="2792" y="426"/>
                  </a:lnTo>
                  <a:lnTo>
                    <a:pt x="2801" y="427"/>
                  </a:lnTo>
                  <a:lnTo>
                    <a:pt x="2815" y="429"/>
                  </a:lnTo>
                  <a:lnTo>
                    <a:pt x="2825" y="435"/>
                  </a:lnTo>
                  <a:lnTo>
                    <a:pt x="2835" y="441"/>
                  </a:lnTo>
                  <a:lnTo>
                    <a:pt x="2843" y="448"/>
                  </a:lnTo>
                  <a:lnTo>
                    <a:pt x="2853" y="453"/>
                  </a:lnTo>
                  <a:lnTo>
                    <a:pt x="2864" y="452"/>
                  </a:lnTo>
                  <a:lnTo>
                    <a:pt x="2874" y="456"/>
                  </a:lnTo>
                  <a:lnTo>
                    <a:pt x="2875" y="466"/>
                  </a:lnTo>
                  <a:lnTo>
                    <a:pt x="2874" y="476"/>
                  </a:lnTo>
                  <a:lnTo>
                    <a:pt x="2863" y="479"/>
                  </a:lnTo>
                  <a:lnTo>
                    <a:pt x="2857" y="485"/>
                  </a:lnTo>
                  <a:lnTo>
                    <a:pt x="2867" y="491"/>
                  </a:lnTo>
                  <a:lnTo>
                    <a:pt x="2868" y="499"/>
                  </a:lnTo>
                  <a:lnTo>
                    <a:pt x="2871" y="508"/>
                  </a:lnTo>
                  <a:lnTo>
                    <a:pt x="2878" y="517"/>
                  </a:lnTo>
                  <a:lnTo>
                    <a:pt x="2887" y="523"/>
                  </a:lnTo>
                  <a:lnTo>
                    <a:pt x="2888" y="532"/>
                  </a:lnTo>
                  <a:lnTo>
                    <a:pt x="2899" y="530"/>
                  </a:lnTo>
                  <a:lnTo>
                    <a:pt x="2908" y="537"/>
                  </a:lnTo>
                  <a:lnTo>
                    <a:pt x="2913" y="546"/>
                  </a:lnTo>
                  <a:lnTo>
                    <a:pt x="2923" y="545"/>
                  </a:lnTo>
                  <a:lnTo>
                    <a:pt x="2926" y="553"/>
                  </a:lnTo>
                  <a:lnTo>
                    <a:pt x="2934" y="557"/>
                  </a:lnTo>
                  <a:lnTo>
                    <a:pt x="2926" y="562"/>
                  </a:lnTo>
                  <a:lnTo>
                    <a:pt x="2916" y="567"/>
                  </a:lnTo>
                  <a:lnTo>
                    <a:pt x="2924" y="574"/>
                  </a:lnTo>
                  <a:lnTo>
                    <a:pt x="2931" y="581"/>
                  </a:lnTo>
                  <a:lnTo>
                    <a:pt x="2927" y="590"/>
                  </a:lnTo>
                  <a:lnTo>
                    <a:pt x="2924" y="599"/>
                  </a:lnTo>
                  <a:lnTo>
                    <a:pt x="2926" y="607"/>
                  </a:lnTo>
                  <a:lnTo>
                    <a:pt x="2936" y="614"/>
                  </a:lnTo>
                  <a:lnTo>
                    <a:pt x="2936" y="620"/>
                  </a:lnTo>
                  <a:lnTo>
                    <a:pt x="2926" y="626"/>
                  </a:lnTo>
                  <a:lnTo>
                    <a:pt x="2923" y="636"/>
                  </a:lnTo>
                  <a:lnTo>
                    <a:pt x="2934" y="637"/>
                  </a:lnTo>
                  <a:lnTo>
                    <a:pt x="2944" y="643"/>
                  </a:lnTo>
                  <a:lnTo>
                    <a:pt x="2955" y="646"/>
                  </a:lnTo>
                  <a:lnTo>
                    <a:pt x="2969" y="645"/>
                  </a:lnTo>
                  <a:lnTo>
                    <a:pt x="2979" y="639"/>
                  </a:lnTo>
                  <a:lnTo>
                    <a:pt x="2987" y="643"/>
                  </a:lnTo>
                  <a:lnTo>
                    <a:pt x="2996" y="649"/>
                  </a:lnTo>
                  <a:lnTo>
                    <a:pt x="3004" y="656"/>
                  </a:lnTo>
                  <a:lnTo>
                    <a:pt x="3017" y="658"/>
                  </a:lnTo>
                  <a:lnTo>
                    <a:pt x="3029" y="658"/>
                  </a:lnTo>
                  <a:lnTo>
                    <a:pt x="3043" y="659"/>
                  </a:lnTo>
                  <a:lnTo>
                    <a:pt x="3056" y="658"/>
                  </a:lnTo>
                  <a:lnTo>
                    <a:pt x="3067" y="663"/>
                  </a:lnTo>
                  <a:lnTo>
                    <a:pt x="3080" y="665"/>
                  </a:lnTo>
                  <a:lnTo>
                    <a:pt x="3092" y="663"/>
                  </a:lnTo>
                  <a:lnTo>
                    <a:pt x="3101" y="656"/>
                  </a:lnTo>
                  <a:lnTo>
                    <a:pt x="3109" y="649"/>
                  </a:lnTo>
                  <a:lnTo>
                    <a:pt x="3120" y="644"/>
                  </a:lnTo>
                  <a:lnTo>
                    <a:pt x="3130" y="638"/>
                  </a:lnTo>
                  <a:lnTo>
                    <a:pt x="3140" y="631"/>
                  </a:lnTo>
                  <a:lnTo>
                    <a:pt x="3147" y="624"/>
                  </a:lnTo>
                  <a:lnTo>
                    <a:pt x="3159" y="622"/>
                  </a:lnTo>
                  <a:lnTo>
                    <a:pt x="3169" y="616"/>
                  </a:lnTo>
                  <a:lnTo>
                    <a:pt x="3180" y="613"/>
                  </a:lnTo>
                  <a:lnTo>
                    <a:pt x="3193" y="613"/>
                  </a:lnTo>
                  <a:lnTo>
                    <a:pt x="3198" y="604"/>
                  </a:lnTo>
                  <a:lnTo>
                    <a:pt x="3211" y="603"/>
                  </a:lnTo>
                  <a:lnTo>
                    <a:pt x="3222" y="606"/>
                  </a:lnTo>
                  <a:lnTo>
                    <a:pt x="3233" y="600"/>
                  </a:lnTo>
                  <a:lnTo>
                    <a:pt x="3246" y="602"/>
                  </a:lnTo>
                  <a:lnTo>
                    <a:pt x="3256" y="607"/>
                  </a:lnTo>
                  <a:lnTo>
                    <a:pt x="3256" y="616"/>
                  </a:lnTo>
                  <a:lnTo>
                    <a:pt x="3264" y="622"/>
                  </a:lnTo>
                  <a:lnTo>
                    <a:pt x="3277" y="622"/>
                  </a:lnTo>
                  <a:lnTo>
                    <a:pt x="3285" y="615"/>
                  </a:lnTo>
                  <a:lnTo>
                    <a:pt x="3277" y="609"/>
                  </a:lnTo>
                  <a:lnTo>
                    <a:pt x="3270" y="601"/>
                  </a:lnTo>
                  <a:lnTo>
                    <a:pt x="3278" y="596"/>
                  </a:lnTo>
                  <a:lnTo>
                    <a:pt x="3291" y="599"/>
                  </a:lnTo>
                  <a:lnTo>
                    <a:pt x="3302" y="604"/>
                  </a:lnTo>
                  <a:lnTo>
                    <a:pt x="3314" y="604"/>
                  </a:lnTo>
                  <a:lnTo>
                    <a:pt x="3321" y="596"/>
                  </a:lnTo>
                  <a:lnTo>
                    <a:pt x="3334" y="594"/>
                  </a:lnTo>
                  <a:lnTo>
                    <a:pt x="3340" y="601"/>
                  </a:lnTo>
                  <a:lnTo>
                    <a:pt x="3335" y="609"/>
                  </a:lnTo>
                  <a:lnTo>
                    <a:pt x="3331" y="618"/>
                  </a:lnTo>
                  <a:lnTo>
                    <a:pt x="3337" y="626"/>
                  </a:lnTo>
                  <a:lnTo>
                    <a:pt x="3345" y="621"/>
                  </a:lnTo>
                  <a:lnTo>
                    <a:pt x="3349" y="612"/>
                  </a:lnTo>
                  <a:lnTo>
                    <a:pt x="3355" y="604"/>
                  </a:lnTo>
                  <a:lnTo>
                    <a:pt x="3366" y="600"/>
                  </a:lnTo>
                  <a:lnTo>
                    <a:pt x="3379" y="603"/>
                  </a:lnTo>
                  <a:lnTo>
                    <a:pt x="3387" y="610"/>
                  </a:lnTo>
                  <a:lnTo>
                    <a:pt x="3390" y="619"/>
                  </a:lnTo>
                  <a:lnTo>
                    <a:pt x="3390" y="628"/>
                  </a:lnTo>
                  <a:lnTo>
                    <a:pt x="3384" y="637"/>
                  </a:lnTo>
                  <a:lnTo>
                    <a:pt x="3387" y="645"/>
                  </a:lnTo>
                  <a:lnTo>
                    <a:pt x="3397" y="650"/>
                  </a:lnTo>
                  <a:lnTo>
                    <a:pt x="3400" y="657"/>
                  </a:lnTo>
                  <a:lnTo>
                    <a:pt x="3404" y="665"/>
                  </a:lnTo>
                  <a:lnTo>
                    <a:pt x="3407" y="672"/>
                  </a:lnTo>
                  <a:lnTo>
                    <a:pt x="3411" y="678"/>
                  </a:lnTo>
                  <a:lnTo>
                    <a:pt x="3419" y="669"/>
                  </a:lnTo>
                  <a:lnTo>
                    <a:pt x="3430" y="674"/>
                  </a:lnTo>
                  <a:lnTo>
                    <a:pt x="3440" y="680"/>
                  </a:lnTo>
                  <a:lnTo>
                    <a:pt x="3449" y="687"/>
                  </a:lnTo>
                  <a:lnTo>
                    <a:pt x="3454" y="693"/>
                  </a:lnTo>
                  <a:lnTo>
                    <a:pt x="3454" y="702"/>
                  </a:lnTo>
                  <a:lnTo>
                    <a:pt x="3457" y="709"/>
                  </a:lnTo>
                  <a:lnTo>
                    <a:pt x="3460" y="718"/>
                  </a:lnTo>
                  <a:lnTo>
                    <a:pt x="3458" y="725"/>
                  </a:lnTo>
                  <a:lnTo>
                    <a:pt x="3468" y="731"/>
                  </a:lnTo>
                  <a:lnTo>
                    <a:pt x="3479" y="732"/>
                  </a:lnTo>
                  <a:lnTo>
                    <a:pt x="3488" y="730"/>
                  </a:lnTo>
                  <a:lnTo>
                    <a:pt x="3495" y="731"/>
                  </a:lnTo>
                  <a:lnTo>
                    <a:pt x="3496" y="740"/>
                  </a:lnTo>
                  <a:lnTo>
                    <a:pt x="3496" y="750"/>
                  </a:lnTo>
                  <a:lnTo>
                    <a:pt x="3496" y="759"/>
                  </a:lnTo>
                  <a:lnTo>
                    <a:pt x="3495" y="769"/>
                  </a:lnTo>
                  <a:lnTo>
                    <a:pt x="3491" y="778"/>
                  </a:lnTo>
                  <a:lnTo>
                    <a:pt x="3486" y="787"/>
                  </a:lnTo>
                  <a:lnTo>
                    <a:pt x="3481" y="794"/>
                  </a:lnTo>
                  <a:lnTo>
                    <a:pt x="3470" y="800"/>
                  </a:lnTo>
                  <a:lnTo>
                    <a:pt x="3470" y="809"/>
                  </a:lnTo>
                  <a:lnTo>
                    <a:pt x="3470" y="818"/>
                  </a:lnTo>
                  <a:lnTo>
                    <a:pt x="3460" y="824"/>
                  </a:lnTo>
                  <a:lnTo>
                    <a:pt x="3451" y="831"/>
                  </a:lnTo>
                  <a:lnTo>
                    <a:pt x="3443" y="838"/>
                  </a:lnTo>
                  <a:lnTo>
                    <a:pt x="3440" y="845"/>
                  </a:lnTo>
                  <a:lnTo>
                    <a:pt x="3433" y="849"/>
                  </a:lnTo>
                  <a:lnTo>
                    <a:pt x="3426" y="857"/>
                  </a:lnTo>
                  <a:lnTo>
                    <a:pt x="3425" y="865"/>
                  </a:lnTo>
                  <a:lnTo>
                    <a:pt x="3433" y="870"/>
                  </a:lnTo>
                  <a:lnTo>
                    <a:pt x="3433" y="879"/>
                  </a:lnTo>
                  <a:lnTo>
                    <a:pt x="3442" y="878"/>
                  </a:lnTo>
                  <a:lnTo>
                    <a:pt x="3453" y="881"/>
                  </a:lnTo>
                  <a:lnTo>
                    <a:pt x="3464" y="884"/>
                  </a:lnTo>
                  <a:lnTo>
                    <a:pt x="3472" y="891"/>
                  </a:lnTo>
                  <a:lnTo>
                    <a:pt x="3477" y="892"/>
                  </a:lnTo>
                  <a:lnTo>
                    <a:pt x="3484" y="888"/>
                  </a:lnTo>
                  <a:lnTo>
                    <a:pt x="3493" y="895"/>
                  </a:lnTo>
                  <a:lnTo>
                    <a:pt x="3492" y="903"/>
                  </a:lnTo>
                  <a:lnTo>
                    <a:pt x="3498" y="908"/>
                  </a:lnTo>
                  <a:lnTo>
                    <a:pt x="3506" y="911"/>
                  </a:lnTo>
                  <a:lnTo>
                    <a:pt x="3512" y="912"/>
                  </a:lnTo>
                  <a:lnTo>
                    <a:pt x="3520" y="909"/>
                  </a:lnTo>
                  <a:lnTo>
                    <a:pt x="3531" y="909"/>
                  </a:lnTo>
                  <a:lnTo>
                    <a:pt x="3531" y="918"/>
                  </a:lnTo>
                  <a:lnTo>
                    <a:pt x="3531" y="927"/>
                  </a:lnTo>
                  <a:lnTo>
                    <a:pt x="3539" y="928"/>
                  </a:lnTo>
                  <a:lnTo>
                    <a:pt x="3541" y="937"/>
                  </a:lnTo>
                  <a:lnTo>
                    <a:pt x="3533" y="941"/>
                  </a:lnTo>
                  <a:lnTo>
                    <a:pt x="3521" y="943"/>
                  </a:lnTo>
                  <a:lnTo>
                    <a:pt x="3519" y="951"/>
                  </a:lnTo>
                  <a:lnTo>
                    <a:pt x="3513" y="958"/>
                  </a:lnTo>
                  <a:lnTo>
                    <a:pt x="3503" y="963"/>
                  </a:lnTo>
                  <a:lnTo>
                    <a:pt x="3498" y="972"/>
                  </a:lnTo>
                  <a:lnTo>
                    <a:pt x="3496" y="981"/>
                  </a:lnTo>
                  <a:lnTo>
                    <a:pt x="3486" y="987"/>
                  </a:lnTo>
                  <a:lnTo>
                    <a:pt x="3484" y="995"/>
                  </a:lnTo>
                  <a:lnTo>
                    <a:pt x="3478" y="1004"/>
                  </a:lnTo>
                  <a:lnTo>
                    <a:pt x="3467" y="1008"/>
                  </a:lnTo>
                  <a:lnTo>
                    <a:pt x="3464" y="1018"/>
                  </a:lnTo>
                  <a:lnTo>
                    <a:pt x="3458" y="1026"/>
                  </a:lnTo>
                  <a:lnTo>
                    <a:pt x="3451" y="1034"/>
                  </a:lnTo>
                  <a:lnTo>
                    <a:pt x="3439" y="1034"/>
                  </a:lnTo>
                  <a:lnTo>
                    <a:pt x="3426" y="1035"/>
                  </a:lnTo>
                  <a:lnTo>
                    <a:pt x="3414" y="1035"/>
                  </a:lnTo>
                  <a:lnTo>
                    <a:pt x="3402" y="1040"/>
                  </a:lnTo>
                  <a:lnTo>
                    <a:pt x="3393" y="1046"/>
                  </a:lnTo>
                  <a:lnTo>
                    <a:pt x="3384" y="1053"/>
                  </a:lnTo>
                  <a:lnTo>
                    <a:pt x="3373" y="1057"/>
                  </a:lnTo>
                  <a:lnTo>
                    <a:pt x="3362" y="1062"/>
                  </a:lnTo>
                  <a:lnTo>
                    <a:pt x="3352" y="1068"/>
                  </a:lnTo>
                  <a:lnTo>
                    <a:pt x="3342" y="1072"/>
                  </a:lnTo>
                  <a:lnTo>
                    <a:pt x="3330" y="1068"/>
                  </a:lnTo>
                  <a:lnTo>
                    <a:pt x="3317" y="1071"/>
                  </a:lnTo>
                  <a:lnTo>
                    <a:pt x="3305" y="1070"/>
                  </a:lnTo>
                  <a:lnTo>
                    <a:pt x="3292" y="1067"/>
                  </a:lnTo>
                  <a:lnTo>
                    <a:pt x="3285" y="1069"/>
                  </a:lnTo>
                  <a:lnTo>
                    <a:pt x="3278" y="1073"/>
                  </a:lnTo>
                  <a:lnTo>
                    <a:pt x="3281" y="1082"/>
                  </a:lnTo>
                  <a:lnTo>
                    <a:pt x="3285" y="1089"/>
                  </a:lnTo>
                  <a:lnTo>
                    <a:pt x="3296" y="1095"/>
                  </a:lnTo>
                  <a:lnTo>
                    <a:pt x="3300" y="1103"/>
                  </a:lnTo>
                  <a:lnTo>
                    <a:pt x="3298" y="1112"/>
                  </a:lnTo>
                  <a:lnTo>
                    <a:pt x="3292" y="1121"/>
                  </a:lnTo>
                  <a:lnTo>
                    <a:pt x="3293" y="1130"/>
                  </a:lnTo>
                  <a:lnTo>
                    <a:pt x="3305" y="1132"/>
                  </a:lnTo>
                  <a:lnTo>
                    <a:pt x="3312" y="1139"/>
                  </a:lnTo>
                  <a:lnTo>
                    <a:pt x="3316" y="1147"/>
                  </a:lnTo>
                  <a:lnTo>
                    <a:pt x="3321" y="1156"/>
                  </a:lnTo>
                  <a:lnTo>
                    <a:pt x="3321" y="1165"/>
                  </a:lnTo>
                  <a:lnTo>
                    <a:pt x="3321" y="1174"/>
                  </a:lnTo>
                  <a:lnTo>
                    <a:pt x="3310" y="1179"/>
                  </a:lnTo>
                  <a:lnTo>
                    <a:pt x="3302" y="1177"/>
                  </a:lnTo>
                  <a:lnTo>
                    <a:pt x="3293" y="1184"/>
                  </a:lnTo>
                  <a:lnTo>
                    <a:pt x="3285" y="1191"/>
                  </a:lnTo>
                  <a:lnTo>
                    <a:pt x="3272" y="1194"/>
                  </a:lnTo>
                  <a:lnTo>
                    <a:pt x="3260" y="1194"/>
                  </a:lnTo>
                  <a:lnTo>
                    <a:pt x="3247" y="1194"/>
                  </a:lnTo>
                  <a:lnTo>
                    <a:pt x="3236" y="1192"/>
                  </a:lnTo>
                  <a:lnTo>
                    <a:pt x="3225" y="1189"/>
                  </a:lnTo>
                  <a:lnTo>
                    <a:pt x="3211" y="1189"/>
                  </a:lnTo>
                  <a:lnTo>
                    <a:pt x="3200" y="1193"/>
                  </a:lnTo>
                  <a:lnTo>
                    <a:pt x="3194" y="1201"/>
                  </a:lnTo>
                  <a:lnTo>
                    <a:pt x="3193" y="1211"/>
                  </a:lnTo>
                  <a:lnTo>
                    <a:pt x="3191" y="1220"/>
                  </a:lnTo>
                  <a:lnTo>
                    <a:pt x="3184" y="1226"/>
                  </a:lnTo>
                  <a:lnTo>
                    <a:pt x="3176" y="1232"/>
                  </a:lnTo>
                  <a:lnTo>
                    <a:pt x="3177" y="1241"/>
                  </a:lnTo>
                  <a:lnTo>
                    <a:pt x="3170" y="1249"/>
                  </a:lnTo>
                  <a:lnTo>
                    <a:pt x="3165" y="1257"/>
                  </a:lnTo>
                  <a:lnTo>
                    <a:pt x="3161" y="1266"/>
                  </a:lnTo>
                  <a:lnTo>
                    <a:pt x="3156" y="1275"/>
                  </a:lnTo>
                  <a:lnTo>
                    <a:pt x="3151" y="1283"/>
                  </a:lnTo>
                  <a:lnTo>
                    <a:pt x="3144" y="1291"/>
                  </a:lnTo>
                  <a:lnTo>
                    <a:pt x="3135" y="1296"/>
                  </a:lnTo>
                  <a:lnTo>
                    <a:pt x="3122" y="1296"/>
                  </a:lnTo>
                  <a:lnTo>
                    <a:pt x="3112" y="1301"/>
                  </a:lnTo>
                  <a:lnTo>
                    <a:pt x="3105" y="1308"/>
                  </a:lnTo>
                  <a:lnTo>
                    <a:pt x="3092" y="1312"/>
                  </a:lnTo>
                  <a:lnTo>
                    <a:pt x="3080" y="1315"/>
                  </a:lnTo>
                  <a:lnTo>
                    <a:pt x="3067" y="1315"/>
                  </a:lnTo>
                  <a:lnTo>
                    <a:pt x="3054" y="1314"/>
                  </a:lnTo>
                  <a:lnTo>
                    <a:pt x="3045" y="1320"/>
                  </a:lnTo>
                  <a:lnTo>
                    <a:pt x="3036" y="1323"/>
                  </a:lnTo>
                  <a:lnTo>
                    <a:pt x="3022" y="1321"/>
                  </a:lnTo>
                  <a:lnTo>
                    <a:pt x="3012" y="1326"/>
                  </a:lnTo>
                  <a:lnTo>
                    <a:pt x="3007" y="1333"/>
                  </a:lnTo>
                  <a:lnTo>
                    <a:pt x="2994" y="1334"/>
                  </a:lnTo>
                  <a:lnTo>
                    <a:pt x="2982" y="1335"/>
                  </a:lnTo>
                  <a:lnTo>
                    <a:pt x="2968" y="1335"/>
                  </a:lnTo>
                  <a:lnTo>
                    <a:pt x="2955" y="1335"/>
                  </a:lnTo>
                  <a:lnTo>
                    <a:pt x="2941" y="1335"/>
                  </a:lnTo>
                  <a:lnTo>
                    <a:pt x="2929" y="1335"/>
                  </a:lnTo>
                  <a:lnTo>
                    <a:pt x="2915" y="1335"/>
                  </a:lnTo>
                  <a:lnTo>
                    <a:pt x="2902" y="1335"/>
                  </a:lnTo>
                  <a:lnTo>
                    <a:pt x="2889" y="1335"/>
                  </a:lnTo>
                  <a:lnTo>
                    <a:pt x="2880" y="1329"/>
                  </a:lnTo>
                  <a:lnTo>
                    <a:pt x="2873" y="1321"/>
                  </a:lnTo>
                  <a:lnTo>
                    <a:pt x="2863" y="1315"/>
                  </a:lnTo>
                  <a:lnTo>
                    <a:pt x="2853" y="1310"/>
                  </a:lnTo>
                  <a:lnTo>
                    <a:pt x="2841" y="1305"/>
                  </a:lnTo>
                  <a:lnTo>
                    <a:pt x="2829" y="1301"/>
                  </a:lnTo>
                  <a:lnTo>
                    <a:pt x="2818" y="1296"/>
                  </a:lnTo>
                  <a:lnTo>
                    <a:pt x="2807" y="1291"/>
                  </a:lnTo>
                  <a:lnTo>
                    <a:pt x="2797" y="1286"/>
                  </a:lnTo>
                  <a:lnTo>
                    <a:pt x="2786" y="1280"/>
                  </a:lnTo>
                  <a:lnTo>
                    <a:pt x="2775" y="1275"/>
                  </a:lnTo>
                  <a:lnTo>
                    <a:pt x="2764" y="1270"/>
                  </a:lnTo>
                  <a:lnTo>
                    <a:pt x="2754" y="1264"/>
                  </a:lnTo>
                  <a:lnTo>
                    <a:pt x="2744" y="1262"/>
                  </a:lnTo>
                  <a:lnTo>
                    <a:pt x="2733" y="1267"/>
                  </a:lnTo>
                  <a:lnTo>
                    <a:pt x="2723" y="1273"/>
                  </a:lnTo>
                  <a:lnTo>
                    <a:pt x="2711" y="1275"/>
                  </a:lnTo>
                  <a:lnTo>
                    <a:pt x="2697" y="1276"/>
                  </a:lnTo>
                  <a:lnTo>
                    <a:pt x="2684" y="1279"/>
                  </a:lnTo>
                  <a:lnTo>
                    <a:pt x="2678" y="1286"/>
                  </a:lnTo>
                  <a:lnTo>
                    <a:pt x="2674" y="1295"/>
                  </a:lnTo>
                  <a:lnTo>
                    <a:pt x="2671" y="1305"/>
                  </a:lnTo>
                  <a:lnTo>
                    <a:pt x="2670" y="1314"/>
                  </a:lnTo>
                  <a:lnTo>
                    <a:pt x="2669" y="1323"/>
                  </a:lnTo>
                  <a:lnTo>
                    <a:pt x="2667" y="1332"/>
                  </a:lnTo>
                  <a:lnTo>
                    <a:pt x="2666" y="1342"/>
                  </a:lnTo>
                  <a:lnTo>
                    <a:pt x="2663" y="1351"/>
                  </a:lnTo>
                  <a:lnTo>
                    <a:pt x="2660" y="1360"/>
                  </a:lnTo>
                  <a:lnTo>
                    <a:pt x="2657" y="1369"/>
                  </a:lnTo>
                  <a:lnTo>
                    <a:pt x="2652" y="1377"/>
                  </a:lnTo>
                  <a:lnTo>
                    <a:pt x="2649" y="1387"/>
                  </a:lnTo>
                  <a:lnTo>
                    <a:pt x="2653" y="1393"/>
                  </a:lnTo>
                  <a:lnTo>
                    <a:pt x="2657" y="1401"/>
                  </a:lnTo>
                  <a:lnTo>
                    <a:pt x="2656" y="1409"/>
                  </a:lnTo>
                  <a:lnTo>
                    <a:pt x="2643" y="1409"/>
                  </a:lnTo>
                  <a:lnTo>
                    <a:pt x="2629" y="1408"/>
                  </a:lnTo>
                  <a:lnTo>
                    <a:pt x="2620" y="1404"/>
                  </a:lnTo>
                  <a:lnTo>
                    <a:pt x="2614" y="1398"/>
                  </a:lnTo>
                  <a:lnTo>
                    <a:pt x="2600" y="1398"/>
                  </a:lnTo>
                  <a:lnTo>
                    <a:pt x="2588" y="1397"/>
                  </a:lnTo>
                  <a:lnTo>
                    <a:pt x="2576" y="1402"/>
                  </a:lnTo>
                  <a:lnTo>
                    <a:pt x="2564" y="1401"/>
                  </a:lnTo>
                  <a:lnTo>
                    <a:pt x="2551" y="1400"/>
                  </a:lnTo>
                  <a:lnTo>
                    <a:pt x="2537" y="1399"/>
                  </a:lnTo>
                  <a:lnTo>
                    <a:pt x="2525" y="1398"/>
                  </a:lnTo>
                  <a:lnTo>
                    <a:pt x="2512" y="1396"/>
                  </a:lnTo>
                  <a:lnTo>
                    <a:pt x="2499" y="1392"/>
                  </a:lnTo>
                  <a:lnTo>
                    <a:pt x="2491" y="1386"/>
                  </a:lnTo>
                  <a:lnTo>
                    <a:pt x="2481" y="1380"/>
                  </a:lnTo>
                  <a:lnTo>
                    <a:pt x="2473" y="1373"/>
                  </a:lnTo>
                  <a:lnTo>
                    <a:pt x="2464" y="1366"/>
                  </a:lnTo>
                  <a:lnTo>
                    <a:pt x="2452" y="1362"/>
                  </a:lnTo>
                  <a:lnTo>
                    <a:pt x="2438" y="1362"/>
                  </a:lnTo>
                  <a:lnTo>
                    <a:pt x="2437" y="1369"/>
                  </a:lnTo>
                  <a:lnTo>
                    <a:pt x="2441" y="1378"/>
                  </a:lnTo>
                  <a:lnTo>
                    <a:pt x="2442" y="1387"/>
                  </a:lnTo>
                  <a:lnTo>
                    <a:pt x="2442" y="1397"/>
                  </a:lnTo>
                  <a:lnTo>
                    <a:pt x="2439" y="1406"/>
                  </a:lnTo>
                  <a:lnTo>
                    <a:pt x="2432" y="1412"/>
                  </a:lnTo>
                  <a:lnTo>
                    <a:pt x="2420" y="1414"/>
                  </a:lnTo>
                  <a:lnTo>
                    <a:pt x="2413" y="1421"/>
                  </a:lnTo>
                  <a:lnTo>
                    <a:pt x="2403" y="1425"/>
                  </a:lnTo>
                  <a:lnTo>
                    <a:pt x="2392" y="1430"/>
                  </a:lnTo>
                  <a:lnTo>
                    <a:pt x="2383" y="1437"/>
                  </a:lnTo>
                  <a:lnTo>
                    <a:pt x="2372" y="1441"/>
                  </a:lnTo>
                  <a:lnTo>
                    <a:pt x="2358" y="1440"/>
                  </a:lnTo>
                  <a:lnTo>
                    <a:pt x="2344" y="1437"/>
                  </a:lnTo>
                  <a:lnTo>
                    <a:pt x="2334" y="1439"/>
                  </a:lnTo>
                  <a:lnTo>
                    <a:pt x="2330" y="1447"/>
                  </a:lnTo>
                  <a:lnTo>
                    <a:pt x="2327" y="1458"/>
                  </a:lnTo>
                  <a:lnTo>
                    <a:pt x="2327" y="1467"/>
                  </a:lnTo>
                  <a:lnTo>
                    <a:pt x="2333" y="1474"/>
                  </a:lnTo>
                  <a:lnTo>
                    <a:pt x="2333" y="1484"/>
                  </a:lnTo>
                  <a:lnTo>
                    <a:pt x="2332" y="1493"/>
                  </a:lnTo>
                  <a:lnTo>
                    <a:pt x="2330" y="1502"/>
                  </a:lnTo>
                  <a:lnTo>
                    <a:pt x="2323" y="1508"/>
                  </a:lnTo>
                  <a:lnTo>
                    <a:pt x="2315" y="1515"/>
                  </a:lnTo>
                  <a:lnTo>
                    <a:pt x="2302" y="1514"/>
                  </a:lnTo>
                  <a:lnTo>
                    <a:pt x="2290" y="1514"/>
                  </a:lnTo>
                  <a:lnTo>
                    <a:pt x="2277" y="1518"/>
                  </a:lnTo>
                  <a:lnTo>
                    <a:pt x="2269" y="1525"/>
                  </a:lnTo>
                  <a:lnTo>
                    <a:pt x="2263" y="1533"/>
                  </a:lnTo>
                  <a:lnTo>
                    <a:pt x="2262" y="1542"/>
                  </a:lnTo>
                  <a:lnTo>
                    <a:pt x="2262" y="1550"/>
                  </a:lnTo>
                  <a:lnTo>
                    <a:pt x="2260" y="1560"/>
                  </a:lnTo>
                  <a:lnTo>
                    <a:pt x="2262" y="1569"/>
                  </a:lnTo>
                  <a:lnTo>
                    <a:pt x="2259" y="1578"/>
                  </a:lnTo>
                  <a:lnTo>
                    <a:pt x="2260" y="1586"/>
                  </a:lnTo>
                  <a:lnTo>
                    <a:pt x="2251" y="1593"/>
                  </a:lnTo>
                  <a:lnTo>
                    <a:pt x="2245" y="1601"/>
                  </a:lnTo>
                  <a:lnTo>
                    <a:pt x="2231" y="1601"/>
                  </a:lnTo>
                  <a:lnTo>
                    <a:pt x="2224" y="1604"/>
                  </a:lnTo>
                  <a:lnTo>
                    <a:pt x="2221" y="1613"/>
                  </a:lnTo>
                  <a:lnTo>
                    <a:pt x="2221" y="1623"/>
                  </a:lnTo>
                  <a:lnTo>
                    <a:pt x="2220" y="1633"/>
                  </a:lnTo>
                  <a:lnTo>
                    <a:pt x="2217" y="1641"/>
                  </a:lnTo>
                  <a:lnTo>
                    <a:pt x="2211" y="1650"/>
                  </a:lnTo>
                  <a:lnTo>
                    <a:pt x="2209" y="1659"/>
                  </a:lnTo>
                  <a:lnTo>
                    <a:pt x="2209" y="1668"/>
                  </a:lnTo>
                  <a:lnTo>
                    <a:pt x="2207" y="1677"/>
                  </a:lnTo>
                  <a:lnTo>
                    <a:pt x="2206" y="1687"/>
                  </a:lnTo>
                  <a:lnTo>
                    <a:pt x="2202" y="1695"/>
                  </a:lnTo>
                  <a:lnTo>
                    <a:pt x="2192" y="1702"/>
                  </a:lnTo>
                  <a:lnTo>
                    <a:pt x="2190" y="1711"/>
                  </a:lnTo>
                  <a:lnTo>
                    <a:pt x="2184" y="1718"/>
                  </a:lnTo>
                  <a:lnTo>
                    <a:pt x="2181" y="1727"/>
                  </a:lnTo>
                  <a:lnTo>
                    <a:pt x="2171" y="1733"/>
                  </a:lnTo>
                  <a:lnTo>
                    <a:pt x="2158" y="1733"/>
                  </a:lnTo>
                  <a:lnTo>
                    <a:pt x="2146" y="1732"/>
                  </a:lnTo>
                  <a:lnTo>
                    <a:pt x="2133" y="1730"/>
                  </a:lnTo>
                  <a:lnTo>
                    <a:pt x="2119" y="1728"/>
                  </a:lnTo>
                  <a:lnTo>
                    <a:pt x="2109" y="1723"/>
                  </a:lnTo>
                  <a:lnTo>
                    <a:pt x="2097" y="1722"/>
                  </a:lnTo>
                  <a:lnTo>
                    <a:pt x="2087" y="1724"/>
                  </a:lnTo>
                  <a:lnTo>
                    <a:pt x="2062" y="1693"/>
                  </a:lnTo>
                  <a:lnTo>
                    <a:pt x="2055" y="1685"/>
                  </a:lnTo>
                  <a:lnTo>
                    <a:pt x="2048" y="1677"/>
                  </a:lnTo>
                  <a:lnTo>
                    <a:pt x="2042" y="1669"/>
                  </a:lnTo>
                  <a:lnTo>
                    <a:pt x="2040" y="1660"/>
                  </a:lnTo>
                  <a:lnTo>
                    <a:pt x="2038" y="1651"/>
                  </a:lnTo>
                  <a:lnTo>
                    <a:pt x="2037" y="1641"/>
                  </a:lnTo>
                  <a:lnTo>
                    <a:pt x="2034" y="1632"/>
                  </a:lnTo>
                  <a:lnTo>
                    <a:pt x="2030" y="1623"/>
                  </a:lnTo>
                  <a:lnTo>
                    <a:pt x="2028" y="1614"/>
                  </a:lnTo>
                  <a:lnTo>
                    <a:pt x="2030" y="1605"/>
                  </a:lnTo>
                  <a:lnTo>
                    <a:pt x="2024" y="1598"/>
                  </a:lnTo>
                  <a:lnTo>
                    <a:pt x="2012" y="1595"/>
                  </a:lnTo>
                  <a:lnTo>
                    <a:pt x="2000" y="1591"/>
                  </a:lnTo>
                  <a:lnTo>
                    <a:pt x="1989" y="1584"/>
                  </a:lnTo>
                  <a:lnTo>
                    <a:pt x="1979" y="1578"/>
                  </a:lnTo>
                  <a:lnTo>
                    <a:pt x="1970" y="1573"/>
                  </a:lnTo>
                  <a:lnTo>
                    <a:pt x="1956" y="1576"/>
                  </a:lnTo>
                  <a:lnTo>
                    <a:pt x="1951" y="1584"/>
                  </a:lnTo>
                  <a:lnTo>
                    <a:pt x="1949" y="1595"/>
                  </a:lnTo>
                  <a:lnTo>
                    <a:pt x="1944" y="1604"/>
                  </a:lnTo>
                  <a:lnTo>
                    <a:pt x="1940" y="1612"/>
                  </a:lnTo>
                  <a:lnTo>
                    <a:pt x="1935" y="1621"/>
                  </a:lnTo>
                  <a:lnTo>
                    <a:pt x="1928" y="1629"/>
                  </a:lnTo>
                  <a:lnTo>
                    <a:pt x="1923" y="1638"/>
                  </a:lnTo>
                  <a:lnTo>
                    <a:pt x="1919" y="1647"/>
                  </a:lnTo>
                  <a:lnTo>
                    <a:pt x="1911" y="1654"/>
                  </a:lnTo>
                  <a:lnTo>
                    <a:pt x="1900" y="1659"/>
                  </a:lnTo>
                  <a:lnTo>
                    <a:pt x="1891" y="1665"/>
                  </a:lnTo>
                  <a:lnTo>
                    <a:pt x="1882" y="1671"/>
                  </a:lnTo>
                  <a:lnTo>
                    <a:pt x="1883" y="1681"/>
                  </a:lnTo>
                  <a:lnTo>
                    <a:pt x="1872" y="1681"/>
                  </a:lnTo>
                  <a:lnTo>
                    <a:pt x="1870" y="1671"/>
                  </a:lnTo>
                  <a:lnTo>
                    <a:pt x="1863" y="1665"/>
                  </a:lnTo>
                  <a:lnTo>
                    <a:pt x="1852" y="1659"/>
                  </a:lnTo>
                  <a:lnTo>
                    <a:pt x="1844" y="1652"/>
                  </a:lnTo>
                  <a:lnTo>
                    <a:pt x="1837" y="1644"/>
                  </a:lnTo>
                  <a:lnTo>
                    <a:pt x="1834" y="1635"/>
                  </a:lnTo>
                  <a:lnTo>
                    <a:pt x="1834" y="1626"/>
                  </a:lnTo>
                  <a:lnTo>
                    <a:pt x="1838" y="1617"/>
                  </a:lnTo>
                  <a:lnTo>
                    <a:pt x="1842" y="1607"/>
                  </a:lnTo>
                  <a:lnTo>
                    <a:pt x="1848" y="1599"/>
                  </a:lnTo>
                  <a:lnTo>
                    <a:pt x="1847" y="1594"/>
                  </a:lnTo>
                  <a:lnTo>
                    <a:pt x="1835" y="1589"/>
                  </a:lnTo>
                  <a:lnTo>
                    <a:pt x="1823" y="1585"/>
                  </a:lnTo>
                  <a:lnTo>
                    <a:pt x="1819" y="1576"/>
                  </a:lnTo>
                  <a:lnTo>
                    <a:pt x="1812" y="1569"/>
                  </a:lnTo>
                  <a:lnTo>
                    <a:pt x="1798" y="1570"/>
                  </a:lnTo>
                  <a:lnTo>
                    <a:pt x="1788" y="1569"/>
                  </a:lnTo>
                  <a:lnTo>
                    <a:pt x="1788" y="1559"/>
                  </a:lnTo>
                  <a:lnTo>
                    <a:pt x="1788" y="1549"/>
                  </a:lnTo>
                  <a:lnTo>
                    <a:pt x="1788" y="1540"/>
                  </a:lnTo>
                  <a:lnTo>
                    <a:pt x="1792" y="1531"/>
                  </a:lnTo>
                  <a:lnTo>
                    <a:pt x="1795" y="1522"/>
                  </a:lnTo>
                  <a:lnTo>
                    <a:pt x="1796" y="1512"/>
                  </a:lnTo>
                  <a:lnTo>
                    <a:pt x="1785" y="1509"/>
                  </a:lnTo>
                  <a:lnTo>
                    <a:pt x="1773" y="1508"/>
                  </a:lnTo>
                  <a:lnTo>
                    <a:pt x="1759" y="1507"/>
                  </a:lnTo>
                  <a:lnTo>
                    <a:pt x="1746" y="1504"/>
                  </a:lnTo>
                  <a:lnTo>
                    <a:pt x="1742" y="1495"/>
                  </a:lnTo>
                  <a:lnTo>
                    <a:pt x="1731" y="1491"/>
                  </a:lnTo>
                  <a:lnTo>
                    <a:pt x="1721" y="1486"/>
                  </a:lnTo>
                  <a:lnTo>
                    <a:pt x="1718" y="1477"/>
                  </a:lnTo>
                  <a:lnTo>
                    <a:pt x="1707" y="1472"/>
                  </a:lnTo>
                  <a:lnTo>
                    <a:pt x="1696" y="1469"/>
                  </a:lnTo>
                  <a:lnTo>
                    <a:pt x="1687" y="1462"/>
                  </a:lnTo>
                  <a:lnTo>
                    <a:pt x="1675" y="1463"/>
                  </a:lnTo>
                  <a:lnTo>
                    <a:pt x="1670" y="1455"/>
                  </a:lnTo>
                  <a:lnTo>
                    <a:pt x="1658" y="1459"/>
                  </a:lnTo>
                  <a:lnTo>
                    <a:pt x="1645" y="1464"/>
                  </a:lnTo>
                  <a:lnTo>
                    <a:pt x="1637" y="1462"/>
                  </a:lnTo>
                  <a:lnTo>
                    <a:pt x="1624" y="1465"/>
                  </a:lnTo>
                  <a:lnTo>
                    <a:pt x="1608" y="1468"/>
                  </a:lnTo>
                  <a:lnTo>
                    <a:pt x="1599" y="1474"/>
                  </a:lnTo>
                  <a:lnTo>
                    <a:pt x="1598" y="1484"/>
                  </a:lnTo>
                  <a:lnTo>
                    <a:pt x="1599" y="1493"/>
                  </a:lnTo>
                  <a:lnTo>
                    <a:pt x="1601" y="1502"/>
                  </a:lnTo>
                  <a:lnTo>
                    <a:pt x="1599" y="1512"/>
                  </a:lnTo>
                  <a:lnTo>
                    <a:pt x="1596" y="1521"/>
                  </a:lnTo>
                  <a:lnTo>
                    <a:pt x="1594" y="1530"/>
                  </a:lnTo>
                  <a:lnTo>
                    <a:pt x="1584" y="1536"/>
                  </a:lnTo>
                  <a:lnTo>
                    <a:pt x="1575" y="1543"/>
                  </a:lnTo>
                  <a:lnTo>
                    <a:pt x="1567" y="1550"/>
                  </a:lnTo>
                  <a:lnTo>
                    <a:pt x="1554" y="1554"/>
                  </a:lnTo>
                  <a:lnTo>
                    <a:pt x="1545" y="1560"/>
                  </a:lnTo>
                  <a:lnTo>
                    <a:pt x="1543" y="1569"/>
                  </a:lnTo>
                  <a:lnTo>
                    <a:pt x="1539" y="1577"/>
                  </a:lnTo>
                  <a:lnTo>
                    <a:pt x="1526" y="1581"/>
                  </a:lnTo>
                  <a:lnTo>
                    <a:pt x="1517" y="1589"/>
                  </a:lnTo>
                  <a:lnTo>
                    <a:pt x="1506" y="1591"/>
                  </a:lnTo>
                  <a:lnTo>
                    <a:pt x="1492" y="1590"/>
                  </a:lnTo>
                  <a:lnTo>
                    <a:pt x="1479" y="1585"/>
                  </a:lnTo>
                  <a:lnTo>
                    <a:pt x="1466" y="1583"/>
                  </a:lnTo>
                  <a:lnTo>
                    <a:pt x="1454" y="1582"/>
                  </a:lnTo>
                  <a:lnTo>
                    <a:pt x="1440" y="1583"/>
                  </a:lnTo>
                  <a:lnTo>
                    <a:pt x="1434" y="1575"/>
                  </a:lnTo>
                  <a:lnTo>
                    <a:pt x="1430" y="1566"/>
                  </a:lnTo>
                  <a:lnTo>
                    <a:pt x="1422" y="1560"/>
                  </a:lnTo>
                  <a:lnTo>
                    <a:pt x="1409" y="1558"/>
                  </a:lnTo>
                  <a:lnTo>
                    <a:pt x="1395" y="1556"/>
                  </a:lnTo>
                  <a:lnTo>
                    <a:pt x="1381" y="1555"/>
                  </a:lnTo>
                  <a:lnTo>
                    <a:pt x="1369" y="1553"/>
                  </a:lnTo>
                  <a:lnTo>
                    <a:pt x="1366" y="1547"/>
                  </a:lnTo>
                  <a:lnTo>
                    <a:pt x="1371" y="1538"/>
                  </a:lnTo>
                  <a:lnTo>
                    <a:pt x="1374" y="1528"/>
                  </a:lnTo>
                  <a:lnTo>
                    <a:pt x="1373" y="1519"/>
                  </a:lnTo>
                  <a:lnTo>
                    <a:pt x="1360" y="1516"/>
                  </a:lnTo>
                  <a:lnTo>
                    <a:pt x="1348" y="1518"/>
                  </a:lnTo>
                  <a:lnTo>
                    <a:pt x="1334" y="1519"/>
                  </a:lnTo>
                  <a:lnTo>
                    <a:pt x="1321" y="1518"/>
                  </a:lnTo>
                  <a:lnTo>
                    <a:pt x="1308" y="1515"/>
                  </a:lnTo>
                  <a:lnTo>
                    <a:pt x="1296" y="1513"/>
                  </a:lnTo>
                  <a:lnTo>
                    <a:pt x="1282" y="1516"/>
                  </a:lnTo>
                  <a:lnTo>
                    <a:pt x="1271" y="1517"/>
                  </a:lnTo>
                  <a:lnTo>
                    <a:pt x="1266" y="1509"/>
                  </a:lnTo>
                  <a:lnTo>
                    <a:pt x="1262" y="1499"/>
                  </a:lnTo>
                  <a:lnTo>
                    <a:pt x="1258" y="1490"/>
                  </a:lnTo>
                  <a:lnTo>
                    <a:pt x="1252" y="1482"/>
                  </a:lnTo>
                  <a:lnTo>
                    <a:pt x="1247" y="1473"/>
                  </a:lnTo>
                  <a:lnTo>
                    <a:pt x="1237" y="1468"/>
                  </a:lnTo>
                  <a:lnTo>
                    <a:pt x="1223" y="1466"/>
                  </a:lnTo>
                  <a:lnTo>
                    <a:pt x="1213" y="1468"/>
                  </a:lnTo>
                  <a:lnTo>
                    <a:pt x="1212" y="1478"/>
                  </a:lnTo>
                  <a:lnTo>
                    <a:pt x="1201" y="1481"/>
                  </a:lnTo>
                  <a:lnTo>
                    <a:pt x="1187" y="1481"/>
                  </a:lnTo>
                  <a:lnTo>
                    <a:pt x="1173" y="1480"/>
                  </a:lnTo>
                  <a:lnTo>
                    <a:pt x="1162" y="1477"/>
                  </a:lnTo>
                  <a:lnTo>
                    <a:pt x="1148" y="1478"/>
                  </a:lnTo>
                  <a:lnTo>
                    <a:pt x="1134" y="1479"/>
                  </a:lnTo>
                  <a:lnTo>
                    <a:pt x="1121" y="1479"/>
                  </a:lnTo>
                  <a:lnTo>
                    <a:pt x="1109" y="1478"/>
                  </a:lnTo>
                  <a:lnTo>
                    <a:pt x="1099" y="1472"/>
                  </a:lnTo>
                  <a:lnTo>
                    <a:pt x="1092" y="1463"/>
                  </a:lnTo>
                  <a:lnTo>
                    <a:pt x="1088" y="1455"/>
                  </a:lnTo>
                  <a:lnTo>
                    <a:pt x="1088" y="1445"/>
                  </a:lnTo>
                  <a:lnTo>
                    <a:pt x="1083" y="1437"/>
                  </a:lnTo>
                  <a:lnTo>
                    <a:pt x="1069" y="1433"/>
                  </a:lnTo>
                  <a:lnTo>
                    <a:pt x="1065" y="1426"/>
                  </a:lnTo>
                  <a:lnTo>
                    <a:pt x="1062" y="1416"/>
                  </a:lnTo>
                  <a:lnTo>
                    <a:pt x="1054" y="1409"/>
                  </a:lnTo>
                  <a:lnTo>
                    <a:pt x="1046" y="1403"/>
                  </a:lnTo>
                  <a:lnTo>
                    <a:pt x="1036" y="1396"/>
                  </a:lnTo>
                  <a:lnTo>
                    <a:pt x="1026" y="1390"/>
                  </a:lnTo>
                  <a:lnTo>
                    <a:pt x="1015" y="1385"/>
                  </a:lnTo>
                  <a:lnTo>
                    <a:pt x="1004" y="1381"/>
                  </a:lnTo>
                  <a:lnTo>
                    <a:pt x="991" y="1377"/>
                  </a:lnTo>
                  <a:lnTo>
                    <a:pt x="980" y="1373"/>
                  </a:lnTo>
                  <a:lnTo>
                    <a:pt x="967" y="1369"/>
                  </a:lnTo>
                  <a:lnTo>
                    <a:pt x="956" y="1365"/>
                  </a:lnTo>
                  <a:lnTo>
                    <a:pt x="944" y="1361"/>
                  </a:lnTo>
                  <a:lnTo>
                    <a:pt x="930" y="1357"/>
                  </a:lnTo>
                  <a:lnTo>
                    <a:pt x="920" y="1352"/>
                  </a:lnTo>
                  <a:lnTo>
                    <a:pt x="917" y="1344"/>
                  </a:lnTo>
                  <a:lnTo>
                    <a:pt x="920" y="1335"/>
                  </a:lnTo>
                  <a:lnTo>
                    <a:pt x="921" y="1325"/>
                  </a:lnTo>
                  <a:lnTo>
                    <a:pt x="921" y="1316"/>
                  </a:lnTo>
                  <a:lnTo>
                    <a:pt x="923" y="1306"/>
                  </a:lnTo>
                  <a:lnTo>
                    <a:pt x="921" y="1297"/>
                  </a:lnTo>
                  <a:lnTo>
                    <a:pt x="920" y="1288"/>
                  </a:lnTo>
                  <a:lnTo>
                    <a:pt x="921" y="1278"/>
                  </a:lnTo>
                  <a:lnTo>
                    <a:pt x="923" y="1269"/>
                  </a:lnTo>
                  <a:lnTo>
                    <a:pt x="924" y="1260"/>
                  </a:lnTo>
                  <a:lnTo>
                    <a:pt x="927" y="1251"/>
                  </a:lnTo>
                  <a:lnTo>
                    <a:pt x="928" y="1241"/>
                  </a:lnTo>
                  <a:lnTo>
                    <a:pt x="931" y="1232"/>
                  </a:lnTo>
                  <a:lnTo>
                    <a:pt x="932" y="1223"/>
                  </a:lnTo>
                  <a:lnTo>
                    <a:pt x="934" y="1214"/>
                  </a:lnTo>
                  <a:lnTo>
                    <a:pt x="935" y="1205"/>
                  </a:lnTo>
                  <a:lnTo>
                    <a:pt x="937" y="1195"/>
                  </a:lnTo>
                  <a:lnTo>
                    <a:pt x="938" y="1186"/>
                  </a:lnTo>
                  <a:lnTo>
                    <a:pt x="941" y="1177"/>
                  </a:lnTo>
                  <a:lnTo>
                    <a:pt x="945" y="1168"/>
                  </a:lnTo>
                  <a:lnTo>
                    <a:pt x="951" y="1158"/>
                  </a:lnTo>
                  <a:lnTo>
                    <a:pt x="955" y="1150"/>
                  </a:lnTo>
                  <a:lnTo>
                    <a:pt x="945" y="1147"/>
                  </a:lnTo>
                  <a:lnTo>
                    <a:pt x="934" y="1145"/>
                  </a:lnTo>
                  <a:lnTo>
                    <a:pt x="935" y="1135"/>
                  </a:lnTo>
                  <a:lnTo>
                    <a:pt x="932" y="1124"/>
                  </a:lnTo>
                  <a:lnTo>
                    <a:pt x="930" y="1115"/>
                  </a:lnTo>
                  <a:lnTo>
                    <a:pt x="931" y="1106"/>
                  </a:lnTo>
                  <a:lnTo>
                    <a:pt x="935" y="1093"/>
                  </a:lnTo>
                  <a:lnTo>
                    <a:pt x="938" y="1084"/>
                  </a:lnTo>
                  <a:lnTo>
                    <a:pt x="942" y="1075"/>
                  </a:lnTo>
                  <a:lnTo>
                    <a:pt x="948" y="1067"/>
                  </a:lnTo>
                  <a:lnTo>
                    <a:pt x="951" y="1061"/>
                  </a:lnTo>
                  <a:lnTo>
                    <a:pt x="937" y="1058"/>
                  </a:lnTo>
                  <a:lnTo>
                    <a:pt x="925" y="1055"/>
                  </a:lnTo>
                  <a:lnTo>
                    <a:pt x="913" y="1051"/>
                  </a:lnTo>
                  <a:lnTo>
                    <a:pt x="900" y="1048"/>
                  </a:lnTo>
                  <a:lnTo>
                    <a:pt x="888" y="1045"/>
                  </a:lnTo>
                  <a:lnTo>
                    <a:pt x="875" y="1042"/>
                  </a:lnTo>
                  <a:lnTo>
                    <a:pt x="861" y="1039"/>
                  </a:lnTo>
                  <a:lnTo>
                    <a:pt x="851" y="1040"/>
                  </a:lnTo>
                  <a:lnTo>
                    <a:pt x="848" y="1049"/>
                  </a:lnTo>
                  <a:lnTo>
                    <a:pt x="843" y="1054"/>
                  </a:lnTo>
                  <a:lnTo>
                    <a:pt x="830" y="1054"/>
                  </a:lnTo>
                  <a:lnTo>
                    <a:pt x="819" y="1057"/>
                  </a:lnTo>
                  <a:lnTo>
                    <a:pt x="818" y="1067"/>
                  </a:lnTo>
                  <a:lnTo>
                    <a:pt x="816" y="1075"/>
                  </a:lnTo>
                  <a:lnTo>
                    <a:pt x="804" y="1075"/>
                  </a:lnTo>
                  <a:lnTo>
                    <a:pt x="790" y="1075"/>
                  </a:lnTo>
                  <a:lnTo>
                    <a:pt x="777" y="1075"/>
                  </a:lnTo>
                  <a:lnTo>
                    <a:pt x="765" y="1074"/>
                  </a:lnTo>
                  <a:lnTo>
                    <a:pt x="751" y="1072"/>
                  </a:lnTo>
                  <a:lnTo>
                    <a:pt x="738" y="1071"/>
                  </a:lnTo>
                  <a:lnTo>
                    <a:pt x="725" y="1071"/>
                  </a:lnTo>
                  <a:lnTo>
                    <a:pt x="713" y="1071"/>
                  </a:lnTo>
                  <a:lnTo>
                    <a:pt x="699" y="1071"/>
                  </a:lnTo>
                  <a:lnTo>
                    <a:pt x="688" y="1071"/>
                  </a:lnTo>
                  <a:lnTo>
                    <a:pt x="686" y="1080"/>
                  </a:lnTo>
                  <a:lnTo>
                    <a:pt x="675" y="1084"/>
                  </a:lnTo>
                  <a:lnTo>
                    <a:pt x="663" y="1084"/>
                  </a:lnTo>
                  <a:lnTo>
                    <a:pt x="651" y="1088"/>
                  </a:lnTo>
                  <a:lnTo>
                    <a:pt x="639" y="1088"/>
                  </a:lnTo>
                  <a:lnTo>
                    <a:pt x="625" y="1089"/>
                  </a:lnTo>
                  <a:lnTo>
                    <a:pt x="612" y="1089"/>
                  </a:lnTo>
                  <a:lnTo>
                    <a:pt x="600" y="1089"/>
                  </a:lnTo>
                  <a:lnTo>
                    <a:pt x="587" y="1090"/>
                  </a:lnTo>
                  <a:lnTo>
                    <a:pt x="575" y="1093"/>
                  </a:lnTo>
                  <a:lnTo>
                    <a:pt x="562" y="1092"/>
                  </a:lnTo>
                  <a:lnTo>
                    <a:pt x="548" y="1091"/>
                  </a:lnTo>
                  <a:lnTo>
                    <a:pt x="540" y="1088"/>
                  </a:lnTo>
                  <a:lnTo>
                    <a:pt x="527" y="1088"/>
                  </a:lnTo>
                  <a:lnTo>
                    <a:pt x="513" y="1089"/>
                  </a:lnTo>
                  <a:lnTo>
                    <a:pt x="500" y="1090"/>
                  </a:lnTo>
                  <a:lnTo>
                    <a:pt x="488" y="1092"/>
                  </a:lnTo>
                  <a:lnTo>
                    <a:pt x="475" y="1093"/>
                  </a:lnTo>
                  <a:lnTo>
                    <a:pt x="463" y="1096"/>
                  </a:lnTo>
                  <a:lnTo>
                    <a:pt x="450" y="1100"/>
                  </a:lnTo>
                  <a:lnTo>
                    <a:pt x="442" y="1106"/>
                  </a:lnTo>
                  <a:lnTo>
                    <a:pt x="432" y="1114"/>
                  </a:lnTo>
                  <a:lnTo>
                    <a:pt x="419" y="1117"/>
                  </a:lnTo>
                  <a:lnTo>
                    <a:pt x="407" y="1120"/>
                  </a:lnTo>
                  <a:lnTo>
                    <a:pt x="394" y="1124"/>
                  </a:lnTo>
                  <a:lnTo>
                    <a:pt x="382" y="1126"/>
                  </a:lnTo>
                  <a:lnTo>
                    <a:pt x="359" y="1106"/>
                  </a:lnTo>
                  <a:lnTo>
                    <a:pt x="359" y="1092"/>
                  </a:lnTo>
                  <a:lnTo>
                    <a:pt x="356" y="1083"/>
                  </a:lnTo>
                  <a:lnTo>
                    <a:pt x="345" y="1079"/>
                  </a:lnTo>
                  <a:lnTo>
                    <a:pt x="331" y="1077"/>
                  </a:lnTo>
                  <a:lnTo>
                    <a:pt x="320" y="1074"/>
                  </a:lnTo>
                  <a:lnTo>
                    <a:pt x="309" y="1069"/>
                  </a:lnTo>
                  <a:lnTo>
                    <a:pt x="305" y="1060"/>
                  </a:lnTo>
                  <a:lnTo>
                    <a:pt x="301" y="1051"/>
                  </a:lnTo>
                  <a:lnTo>
                    <a:pt x="288" y="1047"/>
                  </a:lnTo>
                  <a:lnTo>
                    <a:pt x="277" y="1042"/>
                  </a:lnTo>
                  <a:lnTo>
                    <a:pt x="266" y="1038"/>
                  </a:lnTo>
                  <a:lnTo>
                    <a:pt x="254" y="1033"/>
                  </a:lnTo>
                  <a:lnTo>
                    <a:pt x="245" y="1028"/>
                  </a:lnTo>
                  <a:lnTo>
                    <a:pt x="233" y="1022"/>
                  </a:lnTo>
                  <a:lnTo>
                    <a:pt x="222" y="1017"/>
                  </a:lnTo>
                  <a:lnTo>
                    <a:pt x="211" y="1019"/>
                  </a:lnTo>
                  <a:lnTo>
                    <a:pt x="200" y="1017"/>
                  </a:lnTo>
                  <a:lnTo>
                    <a:pt x="190" y="1012"/>
                  </a:lnTo>
                  <a:lnTo>
                    <a:pt x="177" y="1008"/>
                  </a:lnTo>
                  <a:lnTo>
                    <a:pt x="165" y="1007"/>
                  </a:lnTo>
                  <a:lnTo>
                    <a:pt x="151" y="1006"/>
                  </a:lnTo>
                  <a:lnTo>
                    <a:pt x="144" y="1011"/>
                  </a:lnTo>
                  <a:lnTo>
                    <a:pt x="138" y="1019"/>
                  </a:lnTo>
                  <a:lnTo>
                    <a:pt x="133" y="1028"/>
                  </a:lnTo>
                  <a:lnTo>
                    <a:pt x="124" y="1024"/>
                  </a:lnTo>
                  <a:lnTo>
                    <a:pt x="115" y="1016"/>
                  </a:lnTo>
                  <a:lnTo>
                    <a:pt x="103" y="1018"/>
                  </a:lnTo>
                  <a:lnTo>
                    <a:pt x="94" y="1021"/>
                  </a:lnTo>
                  <a:lnTo>
                    <a:pt x="84" y="1014"/>
                  </a:lnTo>
                  <a:lnTo>
                    <a:pt x="80" y="1006"/>
                  </a:lnTo>
                  <a:lnTo>
                    <a:pt x="74" y="998"/>
                  </a:lnTo>
                  <a:lnTo>
                    <a:pt x="61" y="997"/>
                  </a:lnTo>
                  <a:lnTo>
                    <a:pt x="52" y="995"/>
                  </a:lnTo>
                  <a:lnTo>
                    <a:pt x="42" y="993"/>
                  </a:lnTo>
                  <a:lnTo>
                    <a:pt x="49" y="985"/>
                  </a:lnTo>
                  <a:lnTo>
                    <a:pt x="46" y="977"/>
                  </a:lnTo>
                  <a:lnTo>
                    <a:pt x="46" y="968"/>
                  </a:lnTo>
                  <a:lnTo>
                    <a:pt x="39" y="961"/>
                  </a:lnTo>
                  <a:lnTo>
                    <a:pt x="29" y="957"/>
                  </a:lnTo>
                  <a:lnTo>
                    <a:pt x="21" y="950"/>
                  </a:lnTo>
                  <a:lnTo>
                    <a:pt x="14" y="942"/>
                  </a:lnTo>
                  <a:lnTo>
                    <a:pt x="6" y="934"/>
                  </a:lnTo>
                  <a:lnTo>
                    <a:pt x="0" y="926"/>
                  </a:lnTo>
                  <a:lnTo>
                    <a:pt x="3" y="917"/>
                  </a:lnTo>
                  <a:lnTo>
                    <a:pt x="17" y="919"/>
                  </a:lnTo>
                  <a:lnTo>
                    <a:pt x="22" y="914"/>
                  </a:lnTo>
                  <a:lnTo>
                    <a:pt x="22" y="905"/>
                  </a:lnTo>
                  <a:lnTo>
                    <a:pt x="24" y="897"/>
                  </a:lnTo>
                  <a:lnTo>
                    <a:pt x="31" y="889"/>
                  </a:lnTo>
                  <a:lnTo>
                    <a:pt x="42" y="885"/>
                  </a:lnTo>
                  <a:lnTo>
                    <a:pt x="53" y="886"/>
                  </a:lnTo>
                  <a:lnTo>
                    <a:pt x="57" y="878"/>
                  </a:lnTo>
                  <a:lnTo>
                    <a:pt x="61" y="869"/>
                  </a:lnTo>
                  <a:lnTo>
                    <a:pt x="71" y="867"/>
                  </a:lnTo>
                  <a:lnTo>
                    <a:pt x="80" y="860"/>
                  </a:lnTo>
                  <a:lnTo>
                    <a:pt x="88" y="853"/>
                  </a:lnTo>
                  <a:lnTo>
                    <a:pt x="96" y="849"/>
                  </a:lnTo>
                  <a:lnTo>
                    <a:pt x="89" y="841"/>
                  </a:lnTo>
                  <a:lnTo>
                    <a:pt x="99" y="835"/>
                  </a:lnTo>
                  <a:lnTo>
                    <a:pt x="108" y="841"/>
                  </a:lnTo>
                  <a:lnTo>
                    <a:pt x="119" y="839"/>
                  </a:lnTo>
                  <a:lnTo>
                    <a:pt x="124" y="847"/>
                  </a:lnTo>
                  <a:lnTo>
                    <a:pt x="133" y="853"/>
                  </a:lnTo>
                  <a:lnTo>
                    <a:pt x="144" y="848"/>
                  </a:lnTo>
                  <a:lnTo>
                    <a:pt x="154" y="843"/>
                  </a:lnTo>
                  <a:lnTo>
                    <a:pt x="166" y="843"/>
                  </a:lnTo>
                  <a:lnTo>
                    <a:pt x="177" y="848"/>
                  </a:lnTo>
                  <a:lnTo>
                    <a:pt x="176" y="857"/>
                  </a:lnTo>
                  <a:lnTo>
                    <a:pt x="168" y="862"/>
                  </a:lnTo>
                  <a:lnTo>
                    <a:pt x="166" y="872"/>
                  </a:lnTo>
                  <a:lnTo>
                    <a:pt x="175" y="877"/>
                  </a:lnTo>
                  <a:lnTo>
                    <a:pt x="187" y="873"/>
                  </a:lnTo>
                  <a:lnTo>
                    <a:pt x="200" y="871"/>
                  </a:lnTo>
                  <a:lnTo>
                    <a:pt x="212" y="870"/>
                  </a:lnTo>
                  <a:lnTo>
                    <a:pt x="225" y="872"/>
                  </a:lnTo>
                  <a:lnTo>
                    <a:pt x="236" y="878"/>
                  </a:lnTo>
                  <a:lnTo>
                    <a:pt x="247" y="882"/>
                  </a:lnTo>
                  <a:lnTo>
                    <a:pt x="260" y="883"/>
                  </a:lnTo>
                  <a:lnTo>
                    <a:pt x="273" y="881"/>
                  </a:lnTo>
                  <a:lnTo>
                    <a:pt x="284" y="876"/>
                  </a:lnTo>
                  <a:lnTo>
                    <a:pt x="288" y="868"/>
                  </a:lnTo>
                  <a:lnTo>
                    <a:pt x="278" y="862"/>
                  </a:lnTo>
                  <a:lnTo>
                    <a:pt x="274" y="854"/>
                  </a:lnTo>
                  <a:lnTo>
                    <a:pt x="280" y="845"/>
                  </a:lnTo>
                  <a:lnTo>
                    <a:pt x="289" y="839"/>
                  </a:lnTo>
                  <a:lnTo>
                    <a:pt x="299" y="833"/>
                  </a:lnTo>
                  <a:lnTo>
                    <a:pt x="305" y="824"/>
                  </a:lnTo>
                  <a:lnTo>
                    <a:pt x="317" y="821"/>
                  </a:lnTo>
                  <a:lnTo>
                    <a:pt x="328" y="816"/>
                  </a:lnTo>
                  <a:lnTo>
                    <a:pt x="335" y="809"/>
                  </a:lnTo>
                  <a:lnTo>
                    <a:pt x="345" y="808"/>
                  </a:lnTo>
                  <a:lnTo>
                    <a:pt x="344" y="817"/>
                  </a:lnTo>
                  <a:lnTo>
                    <a:pt x="342" y="826"/>
                  </a:lnTo>
                  <a:lnTo>
                    <a:pt x="345" y="835"/>
                  </a:lnTo>
                  <a:lnTo>
                    <a:pt x="351" y="844"/>
                  </a:lnTo>
                  <a:lnTo>
                    <a:pt x="361" y="850"/>
                  </a:lnTo>
                  <a:lnTo>
                    <a:pt x="375" y="852"/>
                  </a:lnTo>
                  <a:lnTo>
                    <a:pt x="387" y="854"/>
                  </a:lnTo>
                  <a:lnTo>
                    <a:pt x="400" y="854"/>
                  </a:lnTo>
                  <a:lnTo>
                    <a:pt x="408" y="847"/>
                  </a:lnTo>
                  <a:lnTo>
                    <a:pt x="419" y="847"/>
                  </a:lnTo>
                  <a:lnTo>
                    <a:pt x="422" y="855"/>
                  </a:lnTo>
                  <a:lnTo>
                    <a:pt x="417" y="864"/>
                  </a:lnTo>
                  <a:lnTo>
                    <a:pt x="424" y="866"/>
                  </a:lnTo>
                  <a:lnTo>
                    <a:pt x="436" y="863"/>
                  </a:lnTo>
                  <a:lnTo>
                    <a:pt x="449" y="861"/>
                  </a:lnTo>
                  <a:lnTo>
                    <a:pt x="461" y="861"/>
                  </a:lnTo>
                  <a:lnTo>
                    <a:pt x="471" y="867"/>
                  </a:lnTo>
                  <a:lnTo>
                    <a:pt x="477" y="875"/>
                  </a:lnTo>
                  <a:lnTo>
                    <a:pt x="485" y="881"/>
                  </a:lnTo>
                  <a:lnTo>
                    <a:pt x="499" y="880"/>
                  </a:lnTo>
                  <a:lnTo>
                    <a:pt x="510" y="876"/>
                  </a:lnTo>
                  <a:lnTo>
                    <a:pt x="520" y="869"/>
                  </a:lnTo>
                  <a:lnTo>
                    <a:pt x="521" y="860"/>
                  </a:lnTo>
                  <a:lnTo>
                    <a:pt x="530" y="855"/>
                  </a:lnTo>
                  <a:lnTo>
                    <a:pt x="542" y="857"/>
                  </a:lnTo>
                  <a:lnTo>
                    <a:pt x="555" y="857"/>
                  </a:lnTo>
                  <a:lnTo>
                    <a:pt x="568" y="855"/>
                  </a:lnTo>
                  <a:lnTo>
                    <a:pt x="580" y="852"/>
                  </a:lnTo>
                  <a:lnTo>
                    <a:pt x="593" y="852"/>
                  </a:lnTo>
                  <a:lnTo>
                    <a:pt x="604" y="856"/>
                  </a:lnTo>
                  <a:lnTo>
                    <a:pt x="616" y="859"/>
                  </a:lnTo>
                  <a:lnTo>
                    <a:pt x="629" y="859"/>
                  </a:lnTo>
                  <a:lnTo>
                    <a:pt x="640" y="855"/>
                  </a:lnTo>
                  <a:lnTo>
                    <a:pt x="650" y="848"/>
                  </a:lnTo>
                  <a:lnTo>
                    <a:pt x="642" y="841"/>
                  </a:lnTo>
                  <a:lnTo>
                    <a:pt x="635" y="833"/>
                  </a:lnTo>
                  <a:lnTo>
                    <a:pt x="633" y="824"/>
                  </a:lnTo>
                  <a:lnTo>
                    <a:pt x="637" y="815"/>
                  </a:lnTo>
                  <a:lnTo>
                    <a:pt x="649" y="816"/>
                  </a:lnTo>
                  <a:lnTo>
                    <a:pt x="658" y="822"/>
                  </a:lnTo>
                  <a:lnTo>
                    <a:pt x="670" y="825"/>
                  </a:lnTo>
                  <a:lnTo>
                    <a:pt x="682" y="826"/>
                  </a:lnTo>
                  <a:lnTo>
                    <a:pt x="691" y="820"/>
                  </a:lnTo>
                  <a:lnTo>
                    <a:pt x="689" y="810"/>
                  </a:lnTo>
                  <a:lnTo>
                    <a:pt x="688" y="801"/>
                  </a:lnTo>
                  <a:lnTo>
                    <a:pt x="688" y="792"/>
                  </a:lnTo>
                  <a:lnTo>
                    <a:pt x="693" y="784"/>
                  </a:lnTo>
                  <a:lnTo>
                    <a:pt x="705" y="781"/>
                  </a:lnTo>
                  <a:lnTo>
                    <a:pt x="716" y="775"/>
                  </a:lnTo>
                  <a:lnTo>
                    <a:pt x="728" y="773"/>
                  </a:lnTo>
                  <a:lnTo>
                    <a:pt x="735" y="769"/>
                  </a:lnTo>
                  <a:lnTo>
                    <a:pt x="724" y="765"/>
                  </a:lnTo>
                  <a:lnTo>
                    <a:pt x="717" y="757"/>
                  </a:lnTo>
                  <a:lnTo>
                    <a:pt x="705" y="754"/>
                  </a:lnTo>
                  <a:lnTo>
                    <a:pt x="695" y="759"/>
                  </a:lnTo>
                  <a:lnTo>
                    <a:pt x="685" y="755"/>
                  </a:lnTo>
                  <a:lnTo>
                    <a:pt x="679" y="747"/>
                  </a:lnTo>
                  <a:lnTo>
                    <a:pt x="677" y="738"/>
                  </a:lnTo>
                  <a:lnTo>
                    <a:pt x="689" y="740"/>
                  </a:lnTo>
                  <a:lnTo>
                    <a:pt x="700" y="743"/>
                  </a:lnTo>
                  <a:lnTo>
                    <a:pt x="713" y="740"/>
                  </a:lnTo>
                  <a:lnTo>
                    <a:pt x="710" y="731"/>
                  </a:lnTo>
                  <a:lnTo>
                    <a:pt x="702" y="724"/>
                  </a:lnTo>
                  <a:lnTo>
                    <a:pt x="692" y="718"/>
                  </a:lnTo>
                  <a:lnTo>
                    <a:pt x="681" y="713"/>
                  </a:lnTo>
                  <a:lnTo>
                    <a:pt x="670" y="708"/>
                  </a:lnTo>
                  <a:lnTo>
                    <a:pt x="660" y="702"/>
                  </a:lnTo>
                  <a:lnTo>
                    <a:pt x="653" y="694"/>
                  </a:lnTo>
                  <a:lnTo>
                    <a:pt x="647" y="686"/>
                  </a:lnTo>
                  <a:lnTo>
                    <a:pt x="642" y="677"/>
                  </a:lnTo>
                  <a:lnTo>
                    <a:pt x="639" y="667"/>
                  </a:lnTo>
                  <a:lnTo>
                    <a:pt x="649" y="662"/>
                  </a:lnTo>
                  <a:lnTo>
                    <a:pt x="658" y="656"/>
                  </a:lnTo>
                  <a:lnTo>
                    <a:pt x="667" y="648"/>
                  </a:lnTo>
                  <a:lnTo>
                    <a:pt x="661" y="641"/>
                  </a:lnTo>
                  <a:lnTo>
                    <a:pt x="658" y="632"/>
                  </a:lnTo>
                  <a:lnTo>
                    <a:pt x="663" y="623"/>
                  </a:lnTo>
                  <a:lnTo>
                    <a:pt x="661" y="614"/>
                  </a:lnTo>
                  <a:lnTo>
                    <a:pt x="658" y="605"/>
                  </a:lnTo>
                  <a:lnTo>
                    <a:pt x="661" y="596"/>
                  </a:lnTo>
                  <a:lnTo>
                    <a:pt x="658" y="589"/>
                  </a:lnTo>
                  <a:lnTo>
                    <a:pt x="668" y="583"/>
                  </a:lnTo>
                  <a:lnTo>
                    <a:pt x="678" y="579"/>
                  </a:lnTo>
                  <a:lnTo>
                    <a:pt x="682" y="570"/>
                  </a:lnTo>
                  <a:lnTo>
                    <a:pt x="679" y="563"/>
                  </a:lnTo>
                  <a:lnTo>
                    <a:pt x="684" y="554"/>
                  </a:lnTo>
                  <a:lnTo>
                    <a:pt x="695" y="549"/>
                  </a:lnTo>
                  <a:lnTo>
                    <a:pt x="707" y="547"/>
                  </a:lnTo>
                  <a:lnTo>
                    <a:pt x="720" y="550"/>
                  </a:lnTo>
                  <a:lnTo>
                    <a:pt x="725" y="557"/>
                  </a:lnTo>
                  <a:lnTo>
                    <a:pt x="724" y="567"/>
                  </a:lnTo>
                  <a:lnTo>
                    <a:pt x="735" y="570"/>
                  </a:lnTo>
                  <a:lnTo>
                    <a:pt x="746" y="574"/>
                  </a:lnTo>
                  <a:lnTo>
                    <a:pt x="751" y="566"/>
                  </a:lnTo>
                  <a:lnTo>
                    <a:pt x="751" y="557"/>
                  </a:lnTo>
                  <a:lnTo>
                    <a:pt x="755" y="548"/>
                  </a:lnTo>
                  <a:lnTo>
                    <a:pt x="766" y="544"/>
                  </a:lnTo>
                  <a:lnTo>
                    <a:pt x="779" y="544"/>
                  </a:lnTo>
                  <a:lnTo>
                    <a:pt x="791" y="546"/>
                  </a:lnTo>
                  <a:lnTo>
                    <a:pt x="804" y="549"/>
                  </a:lnTo>
                  <a:lnTo>
                    <a:pt x="805" y="559"/>
                  </a:lnTo>
                  <a:lnTo>
                    <a:pt x="815" y="558"/>
                  </a:lnTo>
                  <a:lnTo>
                    <a:pt x="818" y="549"/>
                  </a:lnTo>
                  <a:lnTo>
                    <a:pt x="830" y="548"/>
                  </a:lnTo>
                  <a:lnTo>
                    <a:pt x="844" y="547"/>
                  </a:lnTo>
                  <a:lnTo>
                    <a:pt x="844" y="543"/>
                  </a:lnTo>
                  <a:lnTo>
                    <a:pt x="833" y="539"/>
                  </a:lnTo>
                  <a:lnTo>
                    <a:pt x="833" y="532"/>
                  </a:lnTo>
                  <a:lnTo>
                    <a:pt x="846" y="531"/>
                  </a:lnTo>
                  <a:lnTo>
                    <a:pt x="855" y="525"/>
                  </a:lnTo>
                  <a:lnTo>
                    <a:pt x="865" y="518"/>
                  </a:lnTo>
                  <a:lnTo>
                    <a:pt x="867" y="510"/>
                  </a:lnTo>
                  <a:lnTo>
                    <a:pt x="888" y="509"/>
                  </a:lnTo>
                  <a:lnTo>
                    <a:pt x="900" y="505"/>
                  </a:lnTo>
                  <a:lnTo>
                    <a:pt x="907" y="500"/>
                  </a:lnTo>
                  <a:lnTo>
                    <a:pt x="920" y="499"/>
                  </a:lnTo>
                  <a:lnTo>
                    <a:pt x="932" y="498"/>
                  </a:lnTo>
                  <a:lnTo>
                    <a:pt x="935" y="489"/>
                  </a:lnTo>
                  <a:lnTo>
                    <a:pt x="945" y="487"/>
                  </a:lnTo>
                  <a:lnTo>
                    <a:pt x="949" y="482"/>
                  </a:lnTo>
                  <a:lnTo>
                    <a:pt x="962" y="482"/>
                  </a:lnTo>
                  <a:lnTo>
                    <a:pt x="972" y="489"/>
                  </a:lnTo>
                  <a:lnTo>
                    <a:pt x="980" y="496"/>
                  </a:lnTo>
                  <a:lnTo>
                    <a:pt x="990" y="502"/>
                  </a:lnTo>
                  <a:lnTo>
                    <a:pt x="1002" y="505"/>
                  </a:lnTo>
                  <a:lnTo>
                    <a:pt x="1022" y="508"/>
                  </a:lnTo>
                  <a:lnTo>
                    <a:pt x="1033" y="512"/>
                  </a:lnTo>
                  <a:lnTo>
                    <a:pt x="1046" y="514"/>
                  </a:lnTo>
                  <a:lnTo>
                    <a:pt x="1060" y="512"/>
                  </a:lnTo>
                  <a:lnTo>
                    <a:pt x="1072" y="511"/>
                  </a:lnTo>
                  <a:lnTo>
                    <a:pt x="1085" y="510"/>
                  </a:lnTo>
                  <a:lnTo>
                    <a:pt x="1097" y="511"/>
                  </a:lnTo>
                  <a:lnTo>
                    <a:pt x="1111" y="512"/>
                  </a:lnTo>
                  <a:lnTo>
                    <a:pt x="1124" y="513"/>
                  </a:lnTo>
                  <a:lnTo>
                    <a:pt x="1136" y="514"/>
                  </a:lnTo>
                  <a:lnTo>
                    <a:pt x="1149" y="514"/>
                  </a:lnTo>
                  <a:lnTo>
                    <a:pt x="1160" y="509"/>
                  </a:lnTo>
                  <a:lnTo>
                    <a:pt x="1171" y="504"/>
                  </a:lnTo>
                  <a:lnTo>
                    <a:pt x="1184" y="505"/>
                  </a:lnTo>
                  <a:lnTo>
                    <a:pt x="1198" y="506"/>
                  </a:lnTo>
                  <a:lnTo>
                    <a:pt x="1208" y="505"/>
                  </a:lnTo>
                  <a:lnTo>
                    <a:pt x="1234" y="509"/>
                  </a:lnTo>
                  <a:lnTo>
                    <a:pt x="1232" y="499"/>
                  </a:lnTo>
                  <a:lnTo>
                    <a:pt x="1229" y="490"/>
                  </a:lnTo>
                  <a:lnTo>
                    <a:pt x="1240" y="489"/>
                  </a:lnTo>
                  <a:lnTo>
                    <a:pt x="1247" y="496"/>
                  </a:lnTo>
                  <a:lnTo>
                    <a:pt x="1255" y="496"/>
                  </a:lnTo>
                  <a:lnTo>
                    <a:pt x="1266" y="491"/>
                  </a:lnTo>
                  <a:lnTo>
                    <a:pt x="1279" y="487"/>
                  </a:lnTo>
                  <a:lnTo>
                    <a:pt x="1290" y="485"/>
                  </a:lnTo>
                  <a:lnTo>
                    <a:pt x="1287" y="494"/>
                  </a:lnTo>
                  <a:lnTo>
                    <a:pt x="1296" y="506"/>
                  </a:lnTo>
                  <a:lnTo>
                    <a:pt x="1306" y="502"/>
                  </a:lnTo>
                  <a:lnTo>
                    <a:pt x="1318" y="504"/>
                  </a:lnTo>
                  <a:lnTo>
                    <a:pt x="1315" y="498"/>
                  </a:lnTo>
                  <a:lnTo>
                    <a:pt x="1324" y="493"/>
                  </a:lnTo>
                  <a:lnTo>
                    <a:pt x="1325" y="484"/>
                  </a:lnTo>
                  <a:lnTo>
                    <a:pt x="1327" y="479"/>
                  </a:lnTo>
                  <a:lnTo>
                    <a:pt x="1338" y="486"/>
                  </a:lnTo>
                  <a:lnTo>
                    <a:pt x="1348" y="484"/>
                  </a:lnTo>
                  <a:lnTo>
                    <a:pt x="1350" y="474"/>
                  </a:lnTo>
                  <a:lnTo>
                    <a:pt x="1362" y="470"/>
                  </a:lnTo>
                  <a:lnTo>
                    <a:pt x="1373" y="468"/>
                  </a:lnTo>
                  <a:lnTo>
                    <a:pt x="1376" y="459"/>
                  </a:lnTo>
                  <a:lnTo>
                    <a:pt x="1371" y="450"/>
                  </a:lnTo>
                  <a:lnTo>
                    <a:pt x="1380" y="443"/>
                  </a:lnTo>
                  <a:lnTo>
                    <a:pt x="1391" y="439"/>
                  </a:lnTo>
                  <a:lnTo>
                    <a:pt x="1403" y="435"/>
                  </a:lnTo>
                  <a:lnTo>
                    <a:pt x="1402" y="427"/>
                  </a:lnTo>
                  <a:lnTo>
                    <a:pt x="1399" y="419"/>
                  </a:lnTo>
                  <a:lnTo>
                    <a:pt x="1403" y="410"/>
                  </a:lnTo>
                  <a:lnTo>
                    <a:pt x="1409" y="415"/>
                  </a:lnTo>
                  <a:lnTo>
                    <a:pt x="1413" y="424"/>
                  </a:lnTo>
                  <a:lnTo>
                    <a:pt x="1424" y="425"/>
                  </a:lnTo>
                  <a:lnTo>
                    <a:pt x="1429" y="416"/>
                  </a:lnTo>
                  <a:lnTo>
                    <a:pt x="1423" y="407"/>
                  </a:lnTo>
                  <a:lnTo>
                    <a:pt x="1426" y="401"/>
                  </a:lnTo>
                  <a:lnTo>
                    <a:pt x="1436" y="404"/>
                  </a:lnTo>
                  <a:lnTo>
                    <a:pt x="1441" y="412"/>
                  </a:lnTo>
                  <a:lnTo>
                    <a:pt x="1448" y="419"/>
                  </a:lnTo>
                  <a:lnTo>
                    <a:pt x="1437" y="424"/>
                  </a:lnTo>
                  <a:lnTo>
                    <a:pt x="1444" y="432"/>
                  </a:lnTo>
                  <a:lnTo>
                    <a:pt x="1454" y="439"/>
                  </a:lnTo>
                  <a:lnTo>
                    <a:pt x="1462" y="439"/>
                  </a:lnTo>
                  <a:lnTo>
                    <a:pt x="1455" y="431"/>
                  </a:lnTo>
                  <a:lnTo>
                    <a:pt x="1455" y="425"/>
                  </a:lnTo>
                  <a:lnTo>
                    <a:pt x="1469" y="427"/>
                  </a:lnTo>
                  <a:lnTo>
                    <a:pt x="1476" y="421"/>
                  </a:lnTo>
                  <a:lnTo>
                    <a:pt x="1472" y="412"/>
                  </a:lnTo>
                  <a:lnTo>
                    <a:pt x="1475" y="406"/>
                  </a:lnTo>
                  <a:lnTo>
                    <a:pt x="1487" y="410"/>
                  </a:lnTo>
                  <a:lnTo>
                    <a:pt x="1501" y="411"/>
                  </a:lnTo>
                  <a:lnTo>
                    <a:pt x="1514" y="411"/>
                  </a:lnTo>
                  <a:lnTo>
                    <a:pt x="1526" y="408"/>
                  </a:lnTo>
                  <a:lnTo>
                    <a:pt x="1536" y="403"/>
                  </a:lnTo>
                  <a:lnTo>
                    <a:pt x="1546" y="397"/>
                  </a:lnTo>
                  <a:lnTo>
                    <a:pt x="1557" y="392"/>
                  </a:lnTo>
                  <a:lnTo>
                    <a:pt x="1570" y="391"/>
                  </a:lnTo>
                  <a:lnTo>
                    <a:pt x="1581" y="396"/>
                  </a:lnTo>
                  <a:lnTo>
                    <a:pt x="1591" y="402"/>
                  </a:lnTo>
                  <a:lnTo>
                    <a:pt x="1603" y="406"/>
                  </a:lnTo>
                  <a:lnTo>
                    <a:pt x="1612" y="399"/>
                  </a:lnTo>
                  <a:lnTo>
                    <a:pt x="1613" y="390"/>
                  </a:lnTo>
                  <a:lnTo>
                    <a:pt x="1626" y="376"/>
                  </a:lnTo>
                  <a:lnTo>
                    <a:pt x="1645" y="368"/>
                  </a:lnTo>
                  <a:lnTo>
                    <a:pt x="1643" y="359"/>
                  </a:lnTo>
                  <a:lnTo>
                    <a:pt x="1647" y="353"/>
                  </a:lnTo>
                  <a:lnTo>
                    <a:pt x="1655" y="359"/>
                  </a:lnTo>
                  <a:lnTo>
                    <a:pt x="1663" y="352"/>
                  </a:lnTo>
                  <a:lnTo>
                    <a:pt x="1676" y="348"/>
                  </a:lnTo>
                  <a:lnTo>
                    <a:pt x="1684" y="341"/>
                  </a:lnTo>
                  <a:lnTo>
                    <a:pt x="1690" y="333"/>
                  </a:lnTo>
                  <a:lnTo>
                    <a:pt x="1698" y="325"/>
                  </a:lnTo>
                  <a:lnTo>
                    <a:pt x="1707" y="319"/>
                  </a:lnTo>
                  <a:lnTo>
                    <a:pt x="1715" y="312"/>
                  </a:lnTo>
                  <a:lnTo>
                    <a:pt x="1719" y="303"/>
                  </a:lnTo>
                  <a:lnTo>
                    <a:pt x="1722" y="294"/>
                  </a:lnTo>
                  <a:lnTo>
                    <a:pt x="1729" y="286"/>
                  </a:lnTo>
                  <a:lnTo>
                    <a:pt x="1740" y="282"/>
                  </a:lnTo>
                  <a:lnTo>
                    <a:pt x="1753" y="278"/>
                  </a:lnTo>
                  <a:lnTo>
                    <a:pt x="1760" y="272"/>
                  </a:lnTo>
                  <a:lnTo>
                    <a:pt x="1771" y="268"/>
                  </a:lnTo>
                  <a:lnTo>
                    <a:pt x="1777" y="261"/>
                  </a:lnTo>
                  <a:lnTo>
                    <a:pt x="1777" y="251"/>
                  </a:lnTo>
                  <a:lnTo>
                    <a:pt x="1788" y="247"/>
                  </a:lnTo>
                  <a:lnTo>
                    <a:pt x="1803" y="244"/>
                  </a:lnTo>
                  <a:lnTo>
                    <a:pt x="1810" y="247"/>
                  </a:lnTo>
                  <a:lnTo>
                    <a:pt x="1806" y="257"/>
                  </a:lnTo>
                  <a:lnTo>
                    <a:pt x="1802" y="266"/>
                  </a:lnTo>
                  <a:lnTo>
                    <a:pt x="1814" y="265"/>
                  </a:lnTo>
                  <a:lnTo>
                    <a:pt x="1826" y="261"/>
                  </a:lnTo>
                  <a:lnTo>
                    <a:pt x="1838" y="264"/>
                  </a:lnTo>
                  <a:lnTo>
                    <a:pt x="1851" y="267"/>
                  </a:lnTo>
                  <a:lnTo>
                    <a:pt x="1854" y="274"/>
                  </a:lnTo>
                  <a:lnTo>
                    <a:pt x="1851" y="283"/>
                  </a:lnTo>
                  <a:lnTo>
                    <a:pt x="1858" y="290"/>
                  </a:lnTo>
                  <a:lnTo>
                    <a:pt x="1870" y="288"/>
                  </a:lnTo>
                  <a:lnTo>
                    <a:pt x="1869" y="281"/>
                  </a:lnTo>
                  <a:lnTo>
                    <a:pt x="1872" y="275"/>
                  </a:lnTo>
                  <a:lnTo>
                    <a:pt x="1884" y="272"/>
                  </a:lnTo>
                  <a:lnTo>
                    <a:pt x="1890" y="264"/>
                  </a:lnTo>
                  <a:lnTo>
                    <a:pt x="1886" y="255"/>
                  </a:lnTo>
                  <a:lnTo>
                    <a:pt x="1882" y="247"/>
                  </a:lnTo>
                  <a:lnTo>
                    <a:pt x="1887" y="242"/>
                  </a:lnTo>
                  <a:lnTo>
                    <a:pt x="1900" y="245"/>
                  </a:lnTo>
                  <a:lnTo>
                    <a:pt x="1912" y="248"/>
                  </a:lnTo>
                  <a:lnTo>
                    <a:pt x="1923" y="246"/>
                  </a:lnTo>
                  <a:lnTo>
                    <a:pt x="1923" y="237"/>
                  </a:lnTo>
                  <a:lnTo>
                    <a:pt x="1919" y="228"/>
                  </a:lnTo>
                  <a:lnTo>
                    <a:pt x="1915" y="219"/>
                  </a:lnTo>
                  <a:lnTo>
                    <a:pt x="1918" y="209"/>
                  </a:lnTo>
                  <a:lnTo>
                    <a:pt x="1926" y="201"/>
                  </a:lnTo>
                  <a:lnTo>
                    <a:pt x="1937" y="200"/>
                  </a:lnTo>
                  <a:lnTo>
                    <a:pt x="1944" y="206"/>
                  </a:lnTo>
                  <a:lnTo>
                    <a:pt x="1936" y="215"/>
                  </a:lnTo>
                  <a:lnTo>
                    <a:pt x="1946" y="218"/>
                  </a:lnTo>
                  <a:lnTo>
                    <a:pt x="1956" y="213"/>
                  </a:lnTo>
                  <a:lnTo>
                    <a:pt x="1953" y="202"/>
                  </a:lnTo>
                  <a:lnTo>
                    <a:pt x="1942" y="197"/>
                  </a:lnTo>
                  <a:lnTo>
                    <a:pt x="1944" y="190"/>
                  </a:lnTo>
                  <a:lnTo>
                    <a:pt x="1953" y="185"/>
                  </a:lnTo>
                  <a:lnTo>
                    <a:pt x="1965" y="183"/>
                  </a:lnTo>
                  <a:lnTo>
                    <a:pt x="1963" y="178"/>
                  </a:lnTo>
                  <a:lnTo>
                    <a:pt x="1950" y="178"/>
                  </a:lnTo>
                  <a:lnTo>
                    <a:pt x="1954" y="169"/>
                  </a:lnTo>
                  <a:lnTo>
                    <a:pt x="1963" y="162"/>
                  </a:lnTo>
                  <a:lnTo>
                    <a:pt x="1974" y="158"/>
                  </a:lnTo>
                  <a:lnTo>
                    <a:pt x="1986" y="162"/>
                  </a:lnTo>
                  <a:lnTo>
                    <a:pt x="1992" y="155"/>
                  </a:lnTo>
                  <a:lnTo>
                    <a:pt x="1985" y="147"/>
                  </a:lnTo>
                  <a:lnTo>
                    <a:pt x="1974" y="143"/>
                  </a:lnTo>
                  <a:lnTo>
                    <a:pt x="1960" y="143"/>
                  </a:lnTo>
                  <a:lnTo>
                    <a:pt x="1960" y="137"/>
                  </a:lnTo>
                  <a:lnTo>
                    <a:pt x="1972" y="135"/>
                  </a:lnTo>
                  <a:lnTo>
                    <a:pt x="1985" y="138"/>
                  </a:lnTo>
                  <a:lnTo>
                    <a:pt x="1995" y="143"/>
                  </a:lnTo>
                  <a:lnTo>
                    <a:pt x="1998" y="134"/>
                  </a:lnTo>
                  <a:lnTo>
                    <a:pt x="1989" y="131"/>
                  </a:lnTo>
                  <a:lnTo>
                    <a:pt x="1977" y="128"/>
                  </a:lnTo>
                  <a:lnTo>
                    <a:pt x="1977" y="121"/>
                  </a:lnTo>
                  <a:lnTo>
                    <a:pt x="1978" y="112"/>
                  </a:lnTo>
                  <a:lnTo>
                    <a:pt x="1981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56320" y="1425600"/>
              <a:ext cx="1873080" cy="1374840"/>
            </a:xfrm>
            <a:custGeom>
              <a:avLst/>
              <a:gdLst/>
              <a:ahLst/>
              <a:rect l="l" t="t" r="r" b="b"/>
              <a:pathLst>
                <a:path w="3540" h="1733">
                  <a:moveTo>
                    <a:pt x="1980" y="100"/>
                  </a:moveTo>
                  <a:lnTo>
                    <a:pt x="1985" y="100"/>
                  </a:lnTo>
                  <a:lnTo>
                    <a:pt x="1997" y="97"/>
                  </a:lnTo>
                  <a:lnTo>
                    <a:pt x="2010" y="97"/>
                  </a:lnTo>
                  <a:lnTo>
                    <a:pt x="2008" y="89"/>
                  </a:lnTo>
                  <a:lnTo>
                    <a:pt x="2000" y="81"/>
                  </a:lnTo>
                  <a:lnTo>
                    <a:pt x="2001" y="74"/>
                  </a:lnTo>
                  <a:lnTo>
                    <a:pt x="2014" y="72"/>
                  </a:lnTo>
                  <a:lnTo>
                    <a:pt x="2027" y="69"/>
                  </a:lnTo>
                  <a:lnTo>
                    <a:pt x="2039" y="64"/>
                  </a:lnTo>
                  <a:lnTo>
                    <a:pt x="2043" y="56"/>
                  </a:lnTo>
                  <a:lnTo>
                    <a:pt x="2042" y="47"/>
                  </a:lnTo>
                  <a:lnTo>
                    <a:pt x="2045" y="38"/>
                  </a:lnTo>
                  <a:lnTo>
                    <a:pt x="2053" y="31"/>
                  </a:lnTo>
                  <a:lnTo>
                    <a:pt x="2066" y="28"/>
                  </a:lnTo>
                  <a:lnTo>
                    <a:pt x="2078" y="26"/>
                  </a:lnTo>
                  <a:lnTo>
                    <a:pt x="2091" y="25"/>
                  </a:lnTo>
                  <a:lnTo>
                    <a:pt x="2103" y="21"/>
                  </a:lnTo>
                  <a:lnTo>
                    <a:pt x="2113" y="15"/>
                  </a:lnTo>
                  <a:lnTo>
                    <a:pt x="2122" y="8"/>
                  </a:lnTo>
                  <a:lnTo>
                    <a:pt x="2131" y="2"/>
                  </a:lnTo>
                  <a:lnTo>
                    <a:pt x="2144" y="0"/>
                  </a:lnTo>
                  <a:lnTo>
                    <a:pt x="2157" y="2"/>
                  </a:lnTo>
                  <a:lnTo>
                    <a:pt x="2165" y="9"/>
                  </a:lnTo>
                  <a:lnTo>
                    <a:pt x="2173" y="16"/>
                  </a:lnTo>
                  <a:lnTo>
                    <a:pt x="2183" y="23"/>
                  </a:lnTo>
                  <a:lnTo>
                    <a:pt x="2193" y="28"/>
                  </a:lnTo>
                  <a:lnTo>
                    <a:pt x="2205" y="31"/>
                  </a:lnTo>
                  <a:lnTo>
                    <a:pt x="2222" y="29"/>
                  </a:lnTo>
                  <a:lnTo>
                    <a:pt x="2235" y="27"/>
                  </a:lnTo>
                  <a:lnTo>
                    <a:pt x="2249" y="27"/>
                  </a:lnTo>
                  <a:lnTo>
                    <a:pt x="2256" y="33"/>
                  </a:lnTo>
                  <a:lnTo>
                    <a:pt x="2253" y="42"/>
                  </a:lnTo>
                  <a:lnTo>
                    <a:pt x="2249" y="51"/>
                  </a:lnTo>
                  <a:lnTo>
                    <a:pt x="2245" y="60"/>
                  </a:lnTo>
                  <a:lnTo>
                    <a:pt x="2238" y="67"/>
                  </a:lnTo>
                  <a:lnTo>
                    <a:pt x="2226" y="71"/>
                  </a:lnTo>
                  <a:lnTo>
                    <a:pt x="2214" y="75"/>
                  </a:lnTo>
                  <a:lnTo>
                    <a:pt x="2211" y="82"/>
                  </a:lnTo>
                  <a:lnTo>
                    <a:pt x="2224" y="86"/>
                  </a:lnTo>
                  <a:lnTo>
                    <a:pt x="2235" y="91"/>
                  </a:lnTo>
                  <a:lnTo>
                    <a:pt x="2242" y="99"/>
                  </a:lnTo>
                  <a:lnTo>
                    <a:pt x="2246" y="108"/>
                  </a:lnTo>
                  <a:lnTo>
                    <a:pt x="2252" y="116"/>
                  </a:lnTo>
                  <a:lnTo>
                    <a:pt x="2259" y="125"/>
                  </a:lnTo>
                  <a:lnTo>
                    <a:pt x="2267" y="131"/>
                  </a:lnTo>
                  <a:lnTo>
                    <a:pt x="2280" y="134"/>
                  </a:lnTo>
                  <a:lnTo>
                    <a:pt x="2292" y="136"/>
                  </a:lnTo>
                  <a:lnTo>
                    <a:pt x="2306" y="138"/>
                  </a:lnTo>
                  <a:lnTo>
                    <a:pt x="2319" y="138"/>
                  </a:lnTo>
                  <a:lnTo>
                    <a:pt x="2328" y="144"/>
                  </a:lnTo>
                  <a:lnTo>
                    <a:pt x="2341" y="144"/>
                  </a:lnTo>
                  <a:lnTo>
                    <a:pt x="2355" y="143"/>
                  </a:lnTo>
                  <a:lnTo>
                    <a:pt x="2366" y="143"/>
                  </a:lnTo>
                  <a:lnTo>
                    <a:pt x="2368" y="152"/>
                  </a:lnTo>
                  <a:lnTo>
                    <a:pt x="2366" y="162"/>
                  </a:lnTo>
                  <a:lnTo>
                    <a:pt x="2365" y="171"/>
                  </a:lnTo>
                  <a:lnTo>
                    <a:pt x="2366" y="180"/>
                  </a:lnTo>
                  <a:lnTo>
                    <a:pt x="2363" y="189"/>
                  </a:lnTo>
                  <a:lnTo>
                    <a:pt x="2356" y="197"/>
                  </a:lnTo>
                  <a:lnTo>
                    <a:pt x="2361" y="205"/>
                  </a:lnTo>
                  <a:lnTo>
                    <a:pt x="2372" y="210"/>
                  </a:lnTo>
                  <a:lnTo>
                    <a:pt x="2375" y="219"/>
                  </a:lnTo>
                  <a:lnTo>
                    <a:pt x="2383" y="226"/>
                  </a:lnTo>
                  <a:lnTo>
                    <a:pt x="2394" y="230"/>
                  </a:lnTo>
                  <a:lnTo>
                    <a:pt x="2404" y="234"/>
                  </a:lnTo>
                  <a:lnTo>
                    <a:pt x="2405" y="244"/>
                  </a:lnTo>
                  <a:lnTo>
                    <a:pt x="2408" y="253"/>
                  </a:lnTo>
                  <a:lnTo>
                    <a:pt x="2411" y="262"/>
                  </a:lnTo>
                  <a:lnTo>
                    <a:pt x="2412" y="273"/>
                  </a:lnTo>
                  <a:lnTo>
                    <a:pt x="2417" y="281"/>
                  </a:lnTo>
                  <a:lnTo>
                    <a:pt x="2418" y="290"/>
                  </a:lnTo>
                  <a:lnTo>
                    <a:pt x="2417" y="299"/>
                  </a:lnTo>
                  <a:lnTo>
                    <a:pt x="2426" y="305"/>
                  </a:lnTo>
                  <a:lnTo>
                    <a:pt x="2438" y="310"/>
                  </a:lnTo>
                  <a:lnTo>
                    <a:pt x="2447" y="316"/>
                  </a:lnTo>
                  <a:lnTo>
                    <a:pt x="2456" y="323"/>
                  </a:lnTo>
                  <a:lnTo>
                    <a:pt x="2463" y="331"/>
                  </a:lnTo>
                  <a:lnTo>
                    <a:pt x="2468" y="339"/>
                  </a:lnTo>
                  <a:lnTo>
                    <a:pt x="2470" y="348"/>
                  </a:lnTo>
                  <a:lnTo>
                    <a:pt x="2477" y="357"/>
                  </a:lnTo>
                  <a:lnTo>
                    <a:pt x="2477" y="365"/>
                  </a:lnTo>
                  <a:lnTo>
                    <a:pt x="2485" y="371"/>
                  </a:lnTo>
                  <a:lnTo>
                    <a:pt x="2496" y="377"/>
                  </a:lnTo>
                  <a:lnTo>
                    <a:pt x="2502" y="384"/>
                  </a:lnTo>
                  <a:lnTo>
                    <a:pt x="2509" y="382"/>
                  </a:lnTo>
                  <a:lnTo>
                    <a:pt x="2517" y="375"/>
                  </a:lnTo>
                  <a:lnTo>
                    <a:pt x="2527" y="369"/>
                  </a:lnTo>
                  <a:lnTo>
                    <a:pt x="2531" y="360"/>
                  </a:lnTo>
                  <a:lnTo>
                    <a:pt x="2540" y="354"/>
                  </a:lnTo>
                  <a:lnTo>
                    <a:pt x="2552" y="351"/>
                  </a:lnTo>
                  <a:lnTo>
                    <a:pt x="2566" y="350"/>
                  </a:lnTo>
                  <a:lnTo>
                    <a:pt x="2572" y="354"/>
                  </a:lnTo>
                  <a:lnTo>
                    <a:pt x="2584" y="357"/>
                  </a:lnTo>
                  <a:lnTo>
                    <a:pt x="2597" y="358"/>
                  </a:lnTo>
                  <a:lnTo>
                    <a:pt x="2594" y="351"/>
                  </a:lnTo>
                  <a:lnTo>
                    <a:pt x="2602" y="348"/>
                  </a:lnTo>
                  <a:lnTo>
                    <a:pt x="2614" y="350"/>
                  </a:lnTo>
                  <a:lnTo>
                    <a:pt x="2622" y="357"/>
                  </a:lnTo>
                  <a:lnTo>
                    <a:pt x="2630" y="364"/>
                  </a:lnTo>
                  <a:lnTo>
                    <a:pt x="2642" y="364"/>
                  </a:lnTo>
                  <a:lnTo>
                    <a:pt x="2651" y="366"/>
                  </a:lnTo>
                  <a:lnTo>
                    <a:pt x="2664" y="363"/>
                  </a:lnTo>
                  <a:lnTo>
                    <a:pt x="2671" y="357"/>
                  </a:lnTo>
                  <a:lnTo>
                    <a:pt x="2675" y="354"/>
                  </a:lnTo>
                  <a:lnTo>
                    <a:pt x="2686" y="350"/>
                  </a:lnTo>
                  <a:lnTo>
                    <a:pt x="2696" y="343"/>
                  </a:lnTo>
                  <a:lnTo>
                    <a:pt x="2706" y="339"/>
                  </a:lnTo>
                  <a:lnTo>
                    <a:pt x="2716" y="344"/>
                  </a:lnTo>
                  <a:lnTo>
                    <a:pt x="2727" y="349"/>
                  </a:lnTo>
                  <a:lnTo>
                    <a:pt x="2730" y="355"/>
                  </a:lnTo>
                  <a:lnTo>
                    <a:pt x="2737" y="360"/>
                  </a:lnTo>
                  <a:lnTo>
                    <a:pt x="2726" y="366"/>
                  </a:lnTo>
                  <a:lnTo>
                    <a:pt x="2732" y="369"/>
                  </a:lnTo>
                  <a:lnTo>
                    <a:pt x="2745" y="371"/>
                  </a:lnTo>
                  <a:lnTo>
                    <a:pt x="2759" y="372"/>
                  </a:lnTo>
                  <a:lnTo>
                    <a:pt x="2762" y="380"/>
                  </a:lnTo>
                  <a:lnTo>
                    <a:pt x="2759" y="389"/>
                  </a:lnTo>
                  <a:lnTo>
                    <a:pt x="2758" y="398"/>
                  </a:lnTo>
                  <a:lnTo>
                    <a:pt x="2766" y="405"/>
                  </a:lnTo>
                  <a:lnTo>
                    <a:pt x="2777" y="411"/>
                  </a:lnTo>
                  <a:lnTo>
                    <a:pt x="2783" y="419"/>
                  </a:lnTo>
                  <a:lnTo>
                    <a:pt x="2791" y="426"/>
                  </a:lnTo>
                  <a:lnTo>
                    <a:pt x="2801" y="427"/>
                  </a:lnTo>
                  <a:lnTo>
                    <a:pt x="2815" y="429"/>
                  </a:lnTo>
                  <a:lnTo>
                    <a:pt x="2825" y="435"/>
                  </a:lnTo>
                  <a:lnTo>
                    <a:pt x="2835" y="441"/>
                  </a:lnTo>
                  <a:lnTo>
                    <a:pt x="2843" y="448"/>
                  </a:lnTo>
                  <a:lnTo>
                    <a:pt x="2853" y="453"/>
                  </a:lnTo>
                  <a:lnTo>
                    <a:pt x="2864" y="452"/>
                  </a:lnTo>
                  <a:lnTo>
                    <a:pt x="2874" y="456"/>
                  </a:lnTo>
                  <a:lnTo>
                    <a:pt x="2875" y="466"/>
                  </a:lnTo>
                  <a:lnTo>
                    <a:pt x="2874" y="476"/>
                  </a:lnTo>
                  <a:lnTo>
                    <a:pt x="2863" y="479"/>
                  </a:lnTo>
                  <a:lnTo>
                    <a:pt x="2857" y="485"/>
                  </a:lnTo>
                  <a:lnTo>
                    <a:pt x="2867" y="491"/>
                  </a:lnTo>
                  <a:lnTo>
                    <a:pt x="2868" y="499"/>
                  </a:lnTo>
                  <a:lnTo>
                    <a:pt x="2871" y="508"/>
                  </a:lnTo>
                  <a:lnTo>
                    <a:pt x="2878" y="517"/>
                  </a:lnTo>
                  <a:lnTo>
                    <a:pt x="2886" y="523"/>
                  </a:lnTo>
                  <a:lnTo>
                    <a:pt x="2888" y="532"/>
                  </a:lnTo>
                  <a:lnTo>
                    <a:pt x="2899" y="530"/>
                  </a:lnTo>
                  <a:lnTo>
                    <a:pt x="2907" y="537"/>
                  </a:lnTo>
                  <a:lnTo>
                    <a:pt x="2913" y="546"/>
                  </a:lnTo>
                  <a:lnTo>
                    <a:pt x="2923" y="545"/>
                  </a:lnTo>
                  <a:lnTo>
                    <a:pt x="2925" y="553"/>
                  </a:lnTo>
                  <a:lnTo>
                    <a:pt x="2934" y="557"/>
                  </a:lnTo>
                  <a:lnTo>
                    <a:pt x="2925" y="562"/>
                  </a:lnTo>
                  <a:lnTo>
                    <a:pt x="2916" y="567"/>
                  </a:lnTo>
                  <a:lnTo>
                    <a:pt x="2924" y="574"/>
                  </a:lnTo>
                  <a:lnTo>
                    <a:pt x="2931" y="581"/>
                  </a:lnTo>
                  <a:lnTo>
                    <a:pt x="2927" y="590"/>
                  </a:lnTo>
                  <a:lnTo>
                    <a:pt x="2924" y="599"/>
                  </a:lnTo>
                  <a:lnTo>
                    <a:pt x="2925" y="607"/>
                  </a:lnTo>
                  <a:lnTo>
                    <a:pt x="2935" y="614"/>
                  </a:lnTo>
                  <a:lnTo>
                    <a:pt x="2935" y="620"/>
                  </a:lnTo>
                  <a:lnTo>
                    <a:pt x="2925" y="626"/>
                  </a:lnTo>
                  <a:lnTo>
                    <a:pt x="2923" y="636"/>
                  </a:lnTo>
                  <a:lnTo>
                    <a:pt x="2934" y="637"/>
                  </a:lnTo>
                  <a:lnTo>
                    <a:pt x="2944" y="643"/>
                  </a:lnTo>
                  <a:lnTo>
                    <a:pt x="2955" y="646"/>
                  </a:lnTo>
                  <a:lnTo>
                    <a:pt x="2969" y="645"/>
                  </a:lnTo>
                  <a:lnTo>
                    <a:pt x="2979" y="639"/>
                  </a:lnTo>
                  <a:lnTo>
                    <a:pt x="2987" y="643"/>
                  </a:lnTo>
                  <a:lnTo>
                    <a:pt x="2995" y="649"/>
                  </a:lnTo>
                  <a:lnTo>
                    <a:pt x="3004" y="656"/>
                  </a:lnTo>
                  <a:lnTo>
                    <a:pt x="3016" y="658"/>
                  </a:lnTo>
                  <a:lnTo>
                    <a:pt x="3029" y="658"/>
                  </a:lnTo>
                  <a:lnTo>
                    <a:pt x="3043" y="659"/>
                  </a:lnTo>
                  <a:lnTo>
                    <a:pt x="3055" y="658"/>
                  </a:lnTo>
                  <a:lnTo>
                    <a:pt x="3067" y="663"/>
                  </a:lnTo>
                  <a:lnTo>
                    <a:pt x="3079" y="665"/>
                  </a:lnTo>
                  <a:lnTo>
                    <a:pt x="3092" y="663"/>
                  </a:lnTo>
                  <a:lnTo>
                    <a:pt x="3100" y="656"/>
                  </a:lnTo>
                  <a:lnTo>
                    <a:pt x="3109" y="649"/>
                  </a:lnTo>
                  <a:lnTo>
                    <a:pt x="3120" y="644"/>
                  </a:lnTo>
                  <a:lnTo>
                    <a:pt x="3130" y="638"/>
                  </a:lnTo>
                  <a:lnTo>
                    <a:pt x="3139" y="631"/>
                  </a:lnTo>
                  <a:lnTo>
                    <a:pt x="3146" y="624"/>
                  </a:lnTo>
                  <a:lnTo>
                    <a:pt x="3159" y="622"/>
                  </a:lnTo>
                  <a:lnTo>
                    <a:pt x="3169" y="616"/>
                  </a:lnTo>
                  <a:lnTo>
                    <a:pt x="3180" y="613"/>
                  </a:lnTo>
                  <a:lnTo>
                    <a:pt x="3192" y="613"/>
                  </a:lnTo>
                  <a:lnTo>
                    <a:pt x="3198" y="604"/>
                  </a:lnTo>
                  <a:lnTo>
                    <a:pt x="3211" y="603"/>
                  </a:lnTo>
                  <a:lnTo>
                    <a:pt x="3222" y="606"/>
                  </a:lnTo>
                  <a:lnTo>
                    <a:pt x="3233" y="600"/>
                  </a:lnTo>
                  <a:lnTo>
                    <a:pt x="3246" y="602"/>
                  </a:lnTo>
                  <a:lnTo>
                    <a:pt x="3255" y="607"/>
                  </a:lnTo>
                  <a:lnTo>
                    <a:pt x="3255" y="616"/>
                  </a:lnTo>
                  <a:lnTo>
                    <a:pt x="3264" y="622"/>
                  </a:lnTo>
                  <a:lnTo>
                    <a:pt x="3276" y="622"/>
                  </a:lnTo>
                  <a:lnTo>
                    <a:pt x="3285" y="615"/>
                  </a:lnTo>
                  <a:lnTo>
                    <a:pt x="3276" y="609"/>
                  </a:lnTo>
                  <a:lnTo>
                    <a:pt x="3269" y="601"/>
                  </a:lnTo>
                  <a:lnTo>
                    <a:pt x="3278" y="596"/>
                  </a:lnTo>
                  <a:lnTo>
                    <a:pt x="3290" y="599"/>
                  </a:lnTo>
                  <a:lnTo>
                    <a:pt x="3301" y="604"/>
                  </a:lnTo>
                  <a:lnTo>
                    <a:pt x="3314" y="604"/>
                  </a:lnTo>
                  <a:lnTo>
                    <a:pt x="3321" y="596"/>
                  </a:lnTo>
                  <a:lnTo>
                    <a:pt x="3334" y="594"/>
                  </a:lnTo>
                  <a:lnTo>
                    <a:pt x="3339" y="601"/>
                  </a:lnTo>
                  <a:lnTo>
                    <a:pt x="3335" y="609"/>
                  </a:lnTo>
                  <a:lnTo>
                    <a:pt x="3331" y="618"/>
                  </a:lnTo>
                  <a:lnTo>
                    <a:pt x="3336" y="626"/>
                  </a:lnTo>
                  <a:lnTo>
                    <a:pt x="3345" y="621"/>
                  </a:lnTo>
                  <a:lnTo>
                    <a:pt x="3349" y="612"/>
                  </a:lnTo>
                  <a:lnTo>
                    <a:pt x="3355" y="604"/>
                  </a:lnTo>
                  <a:lnTo>
                    <a:pt x="3366" y="600"/>
                  </a:lnTo>
                  <a:lnTo>
                    <a:pt x="3378" y="603"/>
                  </a:lnTo>
                  <a:lnTo>
                    <a:pt x="3387" y="610"/>
                  </a:lnTo>
                  <a:lnTo>
                    <a:pt x="3390" y="619"/>
                  </a:lnTo>
                  <a:lnTo>
                    <a:pt x="3390" y="628"/>
                  </a:lnTo>
                  <a:lnTo>
                    <a:pt x="3384" y="637"/>
                  </a:lnTo>
                  <a:lnTo>
                    <a:pt x="3387" y="645"/>
                  </a:lnTo>
                  <a:lnTo>
                    <a:pt x="3397" y="650"/>
                  </a:lnTo>
                  <a:lnTo>
                    <a:pt x="3399" y="657"/>
                  </a:lnTo>
                  <a:lnTo>
                    <a:pt x="3403" y="665"/>
                  </a:lnTo>
                  <a:lnTo>
                    <a:pt x="3406" y="671"/>
                  </a:lnTo>
                  <a:lnTo>
                    <a:pt x="3410" y="677"/>
                  </a:lnTo>
                  <a:lnTo>
                    <a:pt x="3419" y="669"/>
                  </a:lnTo>
                  <a:lnTo>
                    <a:pt x="3430" y="673"/>
                  </a:lnTo>
                  <a:lnTo>
                    <a:pt x="3440" y="679"/>
                  </a:lnTo>
                  <a:lnTo>
                    <a:pt x="3448" y="686"/>
                  </a:lnTo>
                  <a:lnTo>
                    <a:pt x="3454" y="692"/>
                  </a:lnTo>
                  <a:lnTo>
                    <a:pt x="3454" y="701"/>
                  </a:lnTo>
                  <a:lnTo>
                    <a:pt x="3457" y="708"/>
                  </a:lnTo>
                  <a:lnTo>
                    <a:pt x="3459" y="717"/>
                  </a:lnTo>
                  <a:lnTo>
                    <a:pt x="3458" y="724"/>
                  </a:lnTo>
                  <a:lnTo>
                    <a:pt x="3468" y="730"/>
                  </a:lnTo>
                  <a:lnTo>
                    <a:pt x="3479" y="732"/>
                  </a:lnTo>
                  <a:lnTo>
                    <a:pt x="3487" y="729"/>
                  </a:lnTo>
                  <a:lnTo>
                    <a:pt x="3494" y="730"/>
                  </a:lnTo>
                  <a:lnTo>
                    <a:pt x="3496" y="740"/>
                  </a:lnTo>
                  <a:lnTo>
                    <a:pt x="3496" y="750"/>
                  </a:lnTo>
                  <a:lnTo>
                    <a:pt x="3496" y="759"/>
                  </a:lnTo>
                  <a:lnTo>
                    <a:pt x="3494" y="769"/>
                  </a:lnTo>
                  <a:lnTo>
                    <a:pt x="3490" y="778"/>
                  </a:lnTo>
                  <a:lnTo>
                    <a:pt x="3486" y="787"/>
                  </a:lnTo>
                  <a:lnTo>
                    <a:pt x="3480" y="794"/>
                  </a:lnTo>
                  <a:lnTo>
                    <a:pt x="3469" y="800"/>
                  </a:lnTo>
                  <a:lnTo>
                    <a:pt x="3469" y="809"/>
                  </a:lnTo>
                  <a:lnTo>
                    <a:pt x="3469" y="818"/>
                  </a:lnTo>
                  <a:lnTo>
                    <a:pt x="3459" y="824"/>
                  </a:lnTo>
                  <a:lnTo>
                    <a:pt x="3451" y="831"/>
                  </a:lnTo>
                  <a:lnTo>
                    <a:pt x="3443" y="838"/>
                  </a:lnTo>
                  <a:lnTo>
                    <a:pt x="3440" y="845"/>
                  </a:lnTo>
                  <a:lnTo>
                    <a:pt x="3433" y="849"/>
                  </a:lnTo>
                  <a:lnTo>
                    <a:pt x="3426" y="857"/>
                  </a:lnTo>
                  <a:lnTo>
                    <a:pt x="3424" y="865"/>
                  </a:lnTo>
                  <a:lnTo>
                    <a:pt x="3433" y="870"/>
                  </a:lnTo>
                  <a:lnTo>
                    <a:pt x="3433" y="879"/>
                  </a:lnTo>
                  <a:lnTo>
                    <a:pt x="3441" y="878"/>
                  </a:lnTo>
                  <a:lnTo>
                    <a:pt x="3452" y="881"/>
                  </a:lnTo>
                  <a:lnTo>
                    <a:pt x="3464" y="884"/>
                  </a:lnTo>
                  <a:lnTo>
                    <a:pt x="3472" y="891"/>
                  </a:lnTo>
                  <a:lnTo>
                    <a:pt x="3476" y="892"/>
                  </a:lnTo>
                  <a:lnTo>
                    <a:pt x="3483" y="888"/>
                  </a:lnTo>
                  <a:lnTo>
                    <a:pt x="3493" y="895"/>
                  </a:lnTo>
                  <a:lnTo>
                    <a:pt x="3492" y="903"/>
                  </a:lnTo>
                  <a:lnTo>
                    <a:pt x="3497" y="908"/>
                  </a:lnTo>
                  <a:lnTo>
                    <a:pt x="3506" y="911"/>
                  </a:lnTo>
                  <a:lnTo>
                    <a:pt x="3511" y="912"/>
                  </a:lnTo>
                  <a:lnTo>
                    <a:pt x="3520" y="909"/>
                  </a:lnTo>
                  <a:lnTo>
                    <a:pt x="3531" y="909"/>
                  </a:lnTo>
                  <a:lnTo>
                    <a:pt x="3531" y="918"/>
                  </a:lnTo>
                  <a:lnTo>
                    <a:pt x="3531" y="927"/>
                  </a:lnTo>
                  <a:lnTo>
                    <a:pt x="3539" y="928"/>
                  </a:lnTo>
                  <a:lnTo>
                    <a:pt x="3540" y="937"/>
                  </a:lnTo>
                  <a:lnTo>
                    <a:pt x="3532" y="941"/>
                  </a:lnTo>
                  <a:lnTo>
                    <a:pt x="3521" y="943"/>
                  </a:lnTo>
                  <a:lnTo>
                    <a:pt x="3518" y="951"/>
                  </a:lnTo>
                  <a:lnTo>
                    <a:pt x="3513" y="958"/>
                  </a:lnTo>
                  <a:lnTo>
                    <a:pt x="3503" y="963"/>
                  </a:lnTo>
                  <a:lnTo>
                    <a:pt x="3497" y="972"/>
                  </a:lnTo>
                  <a:lnTo>
                    <a:pt x="3496" y="981"/>
                  </a:lnTo>
                  <a:lnTo>
                    <a:pt x="3486" y="987"/>
                  </a:lnTo>
                  <a:lnTo>
                    <a:pt x="3483" y="995"/>
                  </a:lnTo>
                  <a:lnTo>
                    <a:pt x="3478" y="1004"/>
                  </a:lnTo>
                  <a:lnTo>
                    <a:pt x="3466" y="1008"/>
                  </a:lnTo>
                  <a:lnTo>
                    <a:pt x="3464" y="1018"/>
                  </a:lnTo>
                  <a:lnTo>
                    <a:pt x="3458" y="1026"/>
                  </a:lnTo>
                  <a:lnTo>
                    <a:pt x="3451" y="1034"/>
                  </a:lnTo>
                  <a:lnTo>
                    <a:pt x="3438" y="1034"/>
                  </a:lnTo>
                  <a:lnTo>
                    <a:pt x="3426" y="1035"/>
                  </a:lnTo>
                  <a:lnTo>
                    <a:pt x="3413" y="1035"/>
                  </a:lnTo>
                  <a:lnTo>
                    <a:pt x="3402" y="1040"/>
                  </a:lnTo>
                  <a:lnTo>
                    <a:pt x="3392" y="1046"/>
                  </a:lnTo>
                  <a:lnTo>
                    <a:pt x="3384" y="1053"/>
                  </a:lnTo>
                  <a:lnTo>
                    <a:pt x="3373" y="1057"/>
                  </a:lnTo>
                  <a:lnTo>
                    <a:pt x="3362" y="1062"/>
                  </a:lnTo>
                  <a:lnTo>
                    <a:pt x="3352" y="1068"/>
                  </a:lnTo>
                  <a:lnTo>
                    <a:pt x="3342" y="1072"/>
                  </a:lnTo>
                  <a:lnTo>
                    <a:pt x="3329" y="1068"/>
                  </a:lnTo>
                  <a:lnTo>
                    <a:pt x="3317" y="1071"/>
                  </a:lnTo>
                  <a:lnTo>
                    <a:pt x="3304" y="1070"/>
                  </a:lnTo>
                  <a:lnTo>
                    <a:pt x="3292" y="1067"/>
                  </a:lnTo>
                  <a:lnTo>
                    <a:pt x="3285" y="1069"/>
                  </a:lnTo>
                  <a:lnTo>
                    <a:pt x="3278" y="1073"/>
                  </a:lnTo>
                  <a:lnTo>
                    <a:pt x="3280" y="1082"/>
                  </a:lnTo>
                  <a:lnTo>
                    <a:pt x="3285" y="1089"/>
                  </a:lnTo>
                  <a:lnTo>
                    <a:pt x="3296" y="1095"/>
                  </a:lnTo>
                  <a:lnTo>
                    <a:pt x="3300" y="1103"/>
                  </a:lnTo>
                  <a:lnTo>
                    <a:pt x="3297" y="1112"/>
                  </a:lnTo>
                  <a:lnTo>
                    <a:pt x="3292" y="1121"/>
                  </a:lnTo>
                  <a:lnTo>
                    <a:pt x="3293" y="1129"/>
                  </a:lnTo>
                  <a:lnTo>
                    <a:pt x="3304" y="1131"/>
                  </a:lnTo>
                  <a:lnTo>
                    <a:pt x="3311" y="1138"/>
                  </a:lnTo>
                  <a:lnTo>
                    <a:pt x="3315" y="1146"/>
                  </a:lnTo>
                  <a:lnTo>
                    <a:pt x="3321" y="1155"/>
                  </a:lnTo>
                  <a:lnTo>
                    <a:pt x="3321" y="1164"/>
                  </a:lnTo>
                  <a:lnTo>
                    <a:pt x="3321" y="1173"/>
                  </a:lnTo>
                  <a:lnTo>
                    <a:pt x="3310" y="1178"/>
                  </a:lnTo>
                  <a:lnTo>
                    <a:pt x="3301" y="1176"/>
                  </a:lnTo>
                  <a:lnTo>
                    <a:pt x="3293" y="1183"/>
                  </a:lnTo>
                  <a:lnTo>
                    <a:pt x="3285" y="1191"/>
                  </a:lnTo>
                  <a:lnTo>
                    <a:pt x="3272" y="1194"/>
                  </a:lnTo>
                  <a:lnTo>
                    <a:pt x="3260" y="1194"/>
                  </a:lnTo>
                  <a:lnTo>
                    <a:pt x="3247" y="1194"/>
                  </a:lnTo>
                  <a:lnTo>
                    <a:pt x="3236" y="1192"/>
                  </a:lnTo>
                  <a:lnTo>
                    <a:pt x="3225" y="1188"/>
                  </a:lnTo>
                  <a:lnTo>
                    <a:pt x="3211" y="1188"/>
                  </a:lnTo>
                  <a:lnTo>
                    <a:pt x="3199" y="1193"/>
                  </a:lnTo>
                  <a:lnTo>
                    <a:pt x="3194" y="1201"/>
                  </a:lnTo>
                  <a:lnTo>
                    <a:pt x="3192" y="1211"/>
                  </a:lnTo>
                  <a:lnTo>
                    <a:pt x="3191" y="1220"/>
                  </a:lnTo>
                  <a:lnTo>
                    <a:pt x="3184" y="1226"/>
                  </a:lnTo>
                  <a:lnTo>
                    <a:pt x="3176" y="1232"/>
                  </a:lnTo>
                  <a:lnTo>
                    <a:pt x="3177" y="1241"/>
                  </a:lnTo>
                  <a:lnTo>
                    <a:pt x="3170" y="1249"/>
                  </a:lnTo>
                  <a:lnTo>
                    <a:pt x="3164" y="1257"/>
                  </a:lnTo>
                  <a:lnTo>
                    <a:pt x="3160" y="1266"/>
                  </a:lnTo>
                  <a:lnTo>
                    <a:pt x="3156" y="1275"/>
                  </a:lnTo>
                  <a:lnTo>
                    <a:pt x="3150" y="1283"/>
                  </a:lnTo>
                  <a:lnTo>
                    <a:pt x="3143" y="1291"/>
                  </a:lnTo>
                  <a:lnTo>
                    <a:pt x="3135" y="1296"/>
                  </a:lnTo>
                  <a:lnTo>
                    <a:pt x="3121" y="1296"/>
                  </a:lnTo>
                  <a:lnTo>
                    <a:pt x="3111" y="1301"/>
                  </a:lnTo>
                  <a:lnTo>
                    <a:pt x="3104" y="1308"/>
                  </a:lnTo>
                  <a:lnTo>
                    <a:pt x="3092" y="1312"/>
                  </a:lnTo>
                  <a:lnTo>
                    <a:pt x="3079" y="1315"/>
                  </a:lnTo>
                  <a:lnTo>
                    <a:pt x="3067" y="1315"/>
                  </a:lnTo>
                  <a:lnTo>
                    <a:pt x="3054" y="1314"/>
                  </a:lnTo>
                  <a:lnTo>
                    <a:pt x="3044" y="1320"/>
                  </a:lnTo>
                  <a:lnTo>
                    <a:pt x="3036" y="1323"/>
                  </a:lnTo>
                  <a:lnTo>
                    <a:pt x="3022" y="1321"/>
                  </a:lnTo>
                  <a:lnTo>
                    <a:pt x="3012" y="1326"/>
                  </a:lnTo>
                  <a:lnTo>
                    <a:pt x="3006" y="1333"/>
                  </a:lnTo>
                  <a:lnTo>
                    <a:pt x="2994" y="1334"/>
                  </a:lnTo>
                  <a:lnTo>
                    <a:pt x="2981" y="1335"/>
                  </a:lnTo>
                  <a:lnTo>
                    <a:pt x="2967" y="1335"/>
                  </a:lnTo>
                  <a:lnTo>
                    <a:pt x="2955" y="1335"/>
                  </a:lnTo>
                  <a:lnTo>
                    <a:pt x="2941" y="1335"/>
                  </a:lnTo>
                  <a:lnTo>
                    <a:pt x="2928" y="1335"/>
                  </a:lnTo>
                  <a:lnTo>
                    <a:pt x="2914" y="1335"/>
                  </a:lnTo>
                  <a:lnTo>
                    <a:pt x="2902" y="1335"/>
                  </a:lnTo>
                  <a:lnTo>
                    <a:pt x="2889" y="1335"/>
                  </a:lnTo>
                  <a:lnTo>
                    <a:pt x="2879" y="1329"/>
                  </a:lnTo>
                  <a:lnTo>
                    <a:pt x="2872" y="1321"/>
                  </a:lnTo>
                  <a:lnTo>
                    <a:pt x="2863" y="1315"/>
                  </a:lnTo>
                  <a:lnTo>
                    <a:pt x="2853" y="1310"/>
                  </a:lnTo>
                  <a:lnTo>
                    <a:pt x="2840" y="1305"/>
                  </a:lnTo>
                  <a:lnTo>
                    <a:pt x="2829" y="1301"/>
                  </a:lnTo>
                  <a:lnTo>
                    <a:pt x="2818" y="1296"/>
                  </a:lnTo>
                  <a:lnTo>
                    <a:pt x="2807" y="1291"/>
                  </a:lnTo>
                  <a:lnTo>
                    <a:pt x="2797" y="1286"/>
                  </a:lnTo>
                  <a:lnTo>
                    <a:pt x="2786" y="1280"/>
                  </a:lnTo>
                  <a:lnTo>
                    <a:pt x="2774" y="1275"/>
                  </a:lnTo>
                  <a:lnTo>
                    <a:pt x="2763" y="1270"/>
                  </a:lnTo>
                  <a:lnTo>
                    <a:pt x="2753" y="1264"/>
                  </a:lnTo>
                  <a:lnTo>
                    <a:pt x="2744" y="1262"/>
                  </a:lnTo>
                  <a:lnTo>
                    <a:pt x="2732" y="1267"/>
                  </a:lnTo>
                  <a:lnTo>
                    <a:pt x="2723" y="1273"/>
                  </a:lnTo>
                  <a:lnTo>
                    <a:pt x="2710" y="1275"/>
                  </a:lnTo>
                  <a:lnTo>
                    <a:pt x="2696" y="1276"/>
                  </a:lnTo>
                  <a:lnTo>
                    <a:pt x="2684" y="1279"/>
                  </a:lnTo>
                  <a:lnTo>
                    <a:pt x="2678" y="1286"/>
                  </a:lnTo>
                  <a:lnTo>
                    <a:pt x="2674" y="1295"/>
                  </a:lnTo>
                  <a:lnTo>
                    <a:pt x="2671" y="1305"/>
                  </a:lnTo>
                  <a:lnTo>
                    <a:pt x="2670" y="1314"/>
                  </a:lnTo>
                  <a:lnTo>
                    <a:pt x="2668" y="1323"/>
                  </a:lnTo>
                  <a:lnTo>
                    <a:pt x="2667" y="1332"/>
                  </a:lnTo>
                  <a:lnTo>
                    <a:pt x="2665" y="1342"/>
                  </a:lnTo>
                  <a:lnTo>
                    <a:pt x="2663" y="1351"/>
                  </a:lnTo>
                  <a:lnTo>
                    <a:pt x="2660" y="1360"/>
                  </a:lnTo>
                  <a:lnTo>
                    <a:pt x="2657" y="1369"/>
                  </a:lnTo>
                  <a:lnTo>
                    <a:pt x="2651" y="1377"/>
                  </a:lnTo>
                  <a:lnTo>
                    <a:pt x="2649" y="1387"/>
                  </a:lnTo>
                  <a:lnTo>
                    <a:pt x="2653" y="1393"/>
                  </a:lnTo>
                  <a:lnTo>
                    <a:pt x="2657" y="1401"/>
                  </a:lnTo>
                  <a:lnTo>
                    <a:pt x="2656" y="1409"/>
                  </a:lnTo>
                  <a:lnTo>
                    <a:pt x="2643" y="1409"/>
                  </a:lnTo>
                  <a:lnTo>
                    <a:pt x="2629" y="1408"/>
                  </a:lnTo>
                  <a:lnTo>
                    <a:pt x="2619" y="1404"/>
                  </a:lnTo>
                  <a:lnTo>
                    <a:pt x="2614" y="1398"/>
                  </a:lnTo>
                  <a:lnTo>
                    <a:pt x="2600" y="1398"/>
                  </a:lnTo>
                  <a:lnTo>
                    <a:pt x="2587" y="1397"/>
                  </a:lnTo>
                  <a:lnTo>
                    <a:pt x="2576" y="1402"/>
                  </a:lnTo>
                  <a:lnTo>
                    <a:pt x="2563" y="1401"/>
                  </a:lnTo>
                  <a:lnTo>
                    <a:pt x="2551" y="1400"/>
                  </a:lnTo>
                  <a:lnTo>
                    <a:pt x="2537" y="1399"/>
                  </a:lnTo>
                  <a:lnTo>
                    <a:pt x="2524" y="1398"/>
                  </a:lnTo>
                  <a:lnTo>
                    <a:pt x="2512" y="1396"/>
                  </a:lnTo>
                  <a:lnTo>
                    <a:pt x="2499" y="1392"/>
                  </a:lnTo>
                  <a:lnTo>
                    <a:pt x="2491" y="1386"/>
                  </a:lnTo>
                  <a:lnTo>
                    <a:pt x="2481" y="1380"/>
                  </a:lnTo>
                  <a:lnTo>
                    <a:pt x="2472" y="1373"/>
                  </a:lnTo>
                  <a:lnTo>
                    <a:pt x="2464" y="1366"/>
                  </a:lnTo>
                  <a:lnTo>
                    <a:pt x="2452" y="1362"/>
                  </a:lnTo>
                  <a:lnTo>
                    <a:pt x="2438" y="1362"/>
                  </a:lnTo>
                  <a:lnTo>
                    <a:pt x="2436" y="1369"/>
                  </a:lnTo>
                  <a:lnTo>
                    <a:pt x="2440" y="1378"/>
                  </a:lnTo>
                  <a:lnTo>
                    <a:pt x="2442" y="1387"/>
                  </a:lnTo>
                  <a:lnTo>
                    <a:pt x="2442" y="1397"/>
                  </a:lnTo>
                  <a:lnTo>
                    <a:pt x="2439" y="1406"/>
                  </a:lnTo>
                  <a:lnTo>
                    <a:pt x="2432" y="1412"/>
                  </a:lnTo>
                  <a:lnTo>
                    <a:pt x="2419" y="1414"/>
                  </a:lnTo>
                  <a:lnTo>
                    <a:pt x="2412" y="1421"/>
                  </a:lnTo>
                  <a:lnTo>
                    <a:pt x="2403" y="1425"/>
                  </a:lnTo>
                  <a:lnTo>
                    <a:pt x="2391" y="1430"/>
                  </a:lnTo>
                  <a:lnTo>
                    <a:pt x="2383" y="1437"/>
                  </a:lnTo>
                  <a:lnTo>
                    <a:pt x="2372" y="1441"/>
                  </a:lnTo>
                  <a:lnTo>
                    <a:pt x="2358" y="1440"/>
                  </a:lnTo>
                  <a:lnTo>
                    <a:pt x="2344" y="1437"/>
                  </a:lnTo>
                  <a:lnTo>
                    <a:pt x="2334" y="1439"/>
                  </a:lnTo>
                  <a:lnTo>
                    <a:pt x="2330" y="1447"/>
                  </a:lnTo>
                  <a:lnTo>
                    <a:pt x="2327" y="1458"/>
                  </a:lnTo>
                  <a:lnTo>
                    <a:pt x="2327" y="1467"/>
                  </a:lnTo>
                  <a:lnTo>
                    <a:pt x="2333" y="1474"/>
                  </a:lnTo>
                  <a:lnTo>
                    <a:pt x="2333" y="1484"/>
                  </a:lnTo>
                  <a:lnTo>
                    <a:pt x="2331" y="1493"/>
                  </a:lnTo>
                  <a:lnTo>
                    <a:pt x="2330" y="1502"/>
                  </a:lnTo>
                  <a:lnTo>
                    <a:pt x="2323" y="1508"/>
                  </a:lnTo>
                  <a:lnTo>
                    <a:pt x="2315" y="1515"/>
                  </a:lnTo>
                  <a:lnTo>
                    <a:pt x="2302" y="1514"/>
                  </a:lnTo>
                  <a:lnTo>
                    <a:pt x="2289" y="1514"/>
                  </a:lnTo>
                  <a:lnTo>
                    <a:pt x="2277" y="1518"/>
                  </a:lnTo>
                  <a:lnTo>
                    <a:pt x="2268" y="1525"/>
                  </a:lnTo>
                  <a:lnTo>
                    <a:pt x="2263" y="1533"/>
                  </a:lnTo>
                  <a:lnTo>
                    <a:pt x="2261" y="1542"/>
                  </a:lnTo>
                  <a:lnTo>
                    <a:pt x="2261" y="1550"/>
                  </a:lnTo>
                  <a:lnTo>
                    <a:pt x="2260" y="1560"/>
                  </a:lnTo>
                  <a:lnTo>
                    <a:pt x="2261" y="1569"/>
                  </a:lnTo>
                  <a:lnTo>
                    <a:pt x="2259" y="1578"/>
                  </a:lnTo>
                  <a:lnTo>
                    <a:pt x="2260" y="1586"/>
                  </a:lnTo>
                  <a:lnTo>
                    <a:pt x="2250" y="1592"/>
                  </a:lnTo>
                  <a:lnTo>
                    <a:pt x="2245" y="1600"/>
                  </a:lnTo>
                  <a:lnTo>
                    <a:pt x="2231" y="1600"/>
                  </a:lnTo>
                  <a:lnTo>
                    <a:pt x="2224" y="1603"/>
                  </a:lnTo>
                  <a:lnTo>
                    <a:pt x="2221" y="1612"/>
                  </a:lnTo>
                  <a:lnTo>
                    <a:pt x="2221" y="1622"/>
                  </a:lnTo>
                  <a:lnTo>
                    <a:pt x="2219" y="1632"/>
                  </a:lnTo>
                  <a:lnTo>
                    <a:pt x="2217" y="1640"/>
                  </a:lnTo>
                  <a:lnTo>
                    <a:pt x="2211" y="1650"/>
                  </a:lnTo>
                  <a:lnTo>
                    <a:pt x="2208" y="1659"/>
                  </a:lnTo>
                  <a:lnTo>
                    <a:pt x="2208" y="1668"/>
                  </a:lnTo>
                  <a:lnTo>
                    <a:pt x="2207" y="1677"/>
                  </a:lnTo>
                  <a:lnTo>
                    <a:pt x="2205" y="1687"/>
                  </a:lnTo>
                  <a:lnTo>
                    <a:pt x="2201" y="1695"/>
                  </a:lnTo>
                  <a:lnTo>
                    <a:pt x="2192" y="1702"/>
                  </a:lnTo>
                  <a:lnTo>
                    <a:pt x="2190" y="1711"/>
                  </a:lnTo>
                  <a:lnTo>
                    <a:pt x="2183" y="1718"/>
                  </a:lnTo>
                  <a:lnTo>
                    <a:pt x="2180" y="1727"/>
                  </a:lnTo>
                  <a:lnTo>
                    <a:pt x="2171" y="1733"/>
                  </a:lnTo>
                  <a:lnTo>
                    <a:pt x="2158" y="1733"/>
                  </a:lnTo>
                  <a:lnTo>
                    <a:pt x="2145" y="1732"/>
                  </a:lnTo>
                  <a:lnTo>
                    <a:pt x="2133" y="1730"/>
                  </a:lnTo>
                  <a:lnTo>
                    <a:pt x="2119" y="1728"/>
                  </a:lnTo>
                  <a:lnTo>
                    <a:pt x="2109" y="1723"/>
                  </a:lnTo>
                  <a:lnTo>
                    <a:pt x="2096" y="1722"/>
                  </a:lnTo>
                  <a:lnTo>
                    <a:pt x="2087" y="1724"/>
                  </a:lnTo>
                  <a:lnTo>
                    <a:pt x="2061" y="1693"/>
                  </a:lnTo>
                  <a:lnTo>
                    <a:pt x="2055" y="1685"/>
                  </a:lnTo>
                  <a:lnTo>
                    <a:pt x="2048" y="1677"/>
                  </a:lnTo>
                  <a:lnTo>
                    <a:pt x="2042" y="1669"/>
                  </a:lnTo>
                  <a:lnTo>
                    <a:pt x="2039" y="1660"/>
                  </a:lnTo>
                  <a:lnTo>
                    <a:pt x="2038" y="1651"/>
                  </a:lnTo>
                  <a:lnTo>
                    <a:pt x="2036" y="1640"/>
                  </a:lnTo>
                  <a:lnTo>
                    <a:pt x="2034" y="1631"/>
                  </a:lnTo>
                  <a:lnTo>
                    <a:pt x="2029" y="1622"/>
                  </a:lnTo>
                  <a:lnTo>
                    <a:pt x="2028" y="1613"/>
                  </a:lnTo>
                  <a:lnTo>
                    <a:pt x="2029" y="1604"/>
                  </a:lnTo>
                  <a:lnTo>
                    <a:pt x="2024" y="1597"/>
                  </a:lnTo>
                  <a:lnTo>
                    <a:pt x="2011" y="1594"/>
                  </a:lnTo>
                  <a:lnTo>
                    <a:pt x="2000" y="1590"/>
                  </a:lnTo>
                  <a:lnTo>
                    <a:pt x="1989" y="1584"/>
                  </a:lnTo>
                  <a:lnTo>
                    <a:pt x="1979" y="1578"/>
                  </a:lnTo>
                  <a:lnTo>
                    <a:pt x="1969" y="1573"/>
                  </a:lnTo>
                  <a:lnTo>
                    <a:pt x="1955" y="1576"/>
                  </a:lnTo>
                  <a:lnTo>
                    <a:pt x="1951" y="1584"/>
                  </a:lnTo>
                  <a:lnTo>
                    <a:pt x="1948" y="1594"/>
                  </a:lnTo>
                  <a:lnTo>
                    <a:pt x="1944" y="1603"/>
                  </a:lnTo>
                  <a:lnTo>
                    <a:pt x="1940" y="1611"/>
                  </a:lnTo>
                  <a:lnTo>
                    <a:pt x="1934" y="1620"/>
                  </a:lnTo>
                  <a:lnTo>
                    <a:pt x="1927" y="1628"/>
                  </a:lnTo>
                  <a:lnTo>
                    <a:pt x="1923" y="1637"/>
                  </a:lnTo>
                  <a:lnTo>
                    <a:pt x="1919" y="1646"/>
                  </a:lnTo>
                  <a:lnTo>
                    <a:pt x="1911" y="1654"/>
                  </a:lnTo>
                  <a:lnTo>
                    <a:pt x="1899" y="1659"/>
                  </a:lnTo>
                  <a:lnTo>
                    <a:pt x="1891" y="1665"/>
                  </a:lnTo>
                  <a:lnTo>
                    <a:pt x="1881" y="1671"/>
                  </a:lnTo>
                  <a:lnTo>
                    <a:pt x="1883" y="1681"/>
                  </a:lnTo>
                  <a:lnTo>
                    <a:pt x="1871" y="1681"/>
                  </a:lnTo>
                  <a:lnTo>
                    <a:pt x="1870" y="1671"/>
                  </a:lnTo>
                  <a:lnTo>
                    <a:pt x="1863" y="1665"/>
                  </a:lnTo>
                  <a:lnTo>
                    <a:pt x="1852" y="1659"/>
                  </a:lnTo>
                  <a:lnTo>
                    <a:pt x="1843" y="1652"/>
                  </a:lnTo>
                  <a:lnTo>
                    <a:pt x="1836" y="1643"/>
                  </a:lnTo>
                  <a:lnTo>
                    <a:pt x="1834" y="1634"/>
                  </a:lnTo>
                  <a:lnTo>
                    <a:pt x="1834" y="1625"/>
                  </a:lnTo>
                  <a:lnTo>
                    <a:pt x="1838" y="1616"/>
                  </a:lnTo>
                  <a:lnTo>
                    <a:pt x="1842" y="1606"/>
                  </a:lnTo>
                  <a:lnTo>
                    <a:pt x="1848" y="1598"/>
                  </a:lnTo>
                  <a:lnTo>
                    <a:pt x="1846" y="1593"/>
                  </a:lnTo>
                  <a:lnTo>
                    <a:pt x="1835" y="1588"/>
                  </a:lnTo>
                  <a:lnTo>
                    <a:pt x="1822" y="1585"/>
                  </a:lnTo>
                  <a:lnTo>
                    <a:pt x="1818" y="1576"/>
                  </a:lnTo>
                  <a:lnTo>
                    <a:pt x="1811" y="1569"/>
                  </a:lnTo>
                  <a:lnTo>
                    <a:pt x="1797" y="1570"/>
                  </a:lnTo>
                  <a:lnTo>
                    <a:pt x="1788" y="1569"/>
                  </a:lnTo>
                  <a:lnTo>
                    <a:pt x="1788" y="1559"/>
                  </a:lnTo>
                  <a:lnTo>
                    <a:pt x="1788" y="1549"/>
                  </a:lnTo>
                  <a:lnTo>
                    <a:pt x="1788" y="1540"/>
                  </a:lnTo>
                  <a:lnTo>
                    <a:pt x="1792" y="1531"/>
                  </a:lnTo>
                  <a:lnTo>
                    <a:pt x="1794" y="1522"/>
                  </a:lnTo>
                  <a:lnTo>
                    <a:pt x="1796" y="1512"/>
                  </a:lnTo>
                  <a:lnTo>
                    <a:pt x="1785" y="1509"/>
                  </a:lnTo>
                  <a:lnTo>
                    <a:pt x="1772" y="1508"/>
                  </a:lnTo>
                  <a:lnTo>
                    <a:pt x="1758" y="1507"/>
                  </a:lnTo>
                  <a:lnTo>
                    <a:pt x="1746" y="1504"/>
                  </a:lnTo>
                  <a:lnTo>
                    <a:pt x="1741" y="1495"/>
                  </a:lnTo>
                  <a:lnTo>
                    <a:pt x="1730" y="1491"/>
                  </a:lnTo>
                  <a:lnTo>
                    <a:pt x="1720" y="1486"/>
                  </a:lnTo>
                  <a:lnTo>
                    <a:pt x="1718" y="1477"/>
                  </a:lnTo>
                  <a:lnTo>
                    <a:pt x="1706" y="1472"/>
                  </a:lnTo>
                  <a:lnTo>
                    <a:pt x="1695" y="1469"/>
                  </a:lnTo>
                  <a:lnTo>
                    <a:pt x="1687" y="1462"/>
                  </a:lnTo>
                  <a:lnTo>
                    <a:pt x="1674" y="1463"/>
                  </a:lnTo>
                  <a:lnTo>
                    <a:pt x="1670" y="1455"/>
                  </a:lnTo>
                  <a:lnTo>
                    <a:pt x="1657" y="1459"/>
                  </a:lnTo>
                  <a:lnTo>
                    <a:pt x="1645" y="1464"/>
                  </a:lnTo>
                  <a:lnTo>
                    <a:pt x="1637" y="1462"/>
                  </a:lnTo>
                  <a:lnTo>
                    <a:pt x="1624" y="1465"/>
                  </a:lnTo>
                  <a:lnTo>
                    <a:pt x="1607" y="1468"/>
                  </a:lnTo>
                  <a:lnTo>
                    <a:pt x="1599" y="1474"/>
                  </a:lnTo>
                  <a:lnTo>
                    <a:pt x="1597" y="1484"/>
                  </a:lnTo>
                  <a:lnTo>
                    <a:pt x="1599" y="1493"/>
                  </a:lnTo>
                  <a:lnTo>
                    <a:pt x="1600" y="1502"/>
                  </a:lnTo>
                  <a:lnTo>
                    <a:pt x="1599" y="1512"/>
                  </a:lnTo>
                  <a:lnTo>
                    <a:pt x="1596" y="1521"/>
                  </a:lnTo>
                  <a:lnTo>
                    <a:pt x="1593" y="1530"/>
                  </a:lnTo>
                  <a:lnTo>
                    <a:pt x="1583" y="1536"/>
                  </a:lnTo>
                  <a:lnTo>
                    <a:pt x="1575" y="1543"/>
                  </a:lnTo>
                  <a:lnTo>
                    <a:pt x="1567" y="1550"/>
                  </a:lnTo>
                  <a:lnTo>
                    <a:pt x="1554" y="1554"/>
                  </a:lnTo>
                  <a:lnTo>
                    <a:pt x="1544" y="1560"/>
                  </a:lnTo>
                  <a:lnTo>
                    <a:pt x="1543" y="1569"/>
                  </a:lnTo>
                  <a:lnTo>
                    <a:pt x="1539" y="1577"/>
                  </a:lnTo>
                  <a:lnTo>
                    <a:pt x="1526" y="1581"/>
                  </a:lnTo>
                  <a:lnTo>
                    <a:pt x="1516" y="1588"/>
                  </a:lnTo>
                  <a:lnTo>
                    <a:pt x="1505" y="1590"/>
                  </a:lnTo>
                  <a:lnTo>
                    <a:pt x="1491" y="1589"/>
                  </a:lnTo>
                  <a:lnTo>
                    <a:pt x="1479" y="1585"/>
                  </a:lnTo>
                  <a:lnTo>
                    <a:pt x="1466" y="1583"/>
                  </a:lnTo>
                  <a:lnTo>
                    <a:pt x="1453" y="1582"/>
                  </a:lnTo>
                  <a:lnTo>
                    <a:pt x="1439" y="1583"/>
                  </a:lnTo>
                  <a:lnTo>
                    <a:pt x="1434" y="1575"/>
                  </a:lnTo>
                  <a:lnTo>
                    <a:pt x="1430" y="1566"/>
                  </a:lnTo>
                  <a:lnTo>
                    <a:pt x="1421" y="1560"/>
                  </a:lnTo>
                  <a:lnTo>
                    <a:pt x="1409" y="1558"/>
                  </a:lnTo>
                  <a:lnTo>
                    <a:pt x="1395" y="1556"/>
                  </a:lnTo>
                  <a:lnTo>
                    <a:pt x="1381" y="1555"/>
                  </a:lnTo>
                  <a:lnTo>
                    <a:pt x="1368" y="1553"/>
                  </a:lnTo>
                  <a:lnTo>
                    <a:pt x="1365" y="1547"/>
                  </a:lnTo>
                  <a:lnTo>
                    <a:pt x="1371" y="1538"/>
                  </a:lnTo>
                  <a:lnTo>
                    <a:pt x="1374" y="1528"/>
                  </a:lnTo>
                  <a:lnTo>
                    <a:pt x="1372" y="1519"/>
                  </a:lnTo>
                  <a:lnTo>
                    <a:pt x="1360" y="1516"/>
                  </a:lnTo>
                  <a:lnTo>
                    <a:pt x="1347" y="1518"/>
                  </a:lnTo>
                  <a:lnTo>
                    <a:pt x="1333" y="1519"/>
                  </a:lnTo>
                  <a:lnTo>
                    <a:pt x="1321" y="1518"/>
                  </a:lnTo>
                  <a:lnTo>
                    <a:pt x="1308" y="1515"/>
                  </a:lnTo>
                  <a:lnTo>
                    <a:pt x="1295" y="1513"/>
                  </a:lnTo>
                  <a:lnTo>
                    <a:pt x="1281" y="1516"/>
                  </a:lnTo>
                  <a:lnTo>
                    <a:pt x="1270" y="1517"/>
                  </a:lnTo>
                  <a:lnTo>
                    <a:pt x="1266" y="1509"/>
                  </a:lnTo>
                  <a:lnTo>
                    <a:pt x="1262" y="1499"/>
                  </a:lnTo>
                  <a:lnTo>
                    <a:pt x="1258" y="1490"/>
                  </a:lnTo>
                  <a:lnTo>
                    <a:pt x="1252" y="1482"/>
                  </a:lnTo>
                  <a:lnTo>
                    <a:pt x="1247" y="1473"/>
                  </a:lnTo>
                  <a:lnTo>
                    <a:pt x="1237" y="1468"/>
                  </a:lnTo>
                  <a:lnTo>
                    <a:pt x="1223" y="1466"/>
                  </a:lnTo>
                  <a:lnTo>
                    <a:pt x="1213" y="1468"/>
                  </a:lnTo>
                  <a:lnTo>
                    <a:pt x="1212" y="1478"/>
                  </a:lnTo>
                  <a:lnTo>
                    <a:pt x="1200" y="1481"/>
                  </a:lnTo>
                  <a:lnTo>
                    <a:pt x="1186" y="1481"/>
                  </a:lnTo>
                  <a:lnTo>
                    <a:pt x="1172" y="1480"/>
                  </a:lnTo>
                  <a:lnTo>
                    <a:pt x="1161" y="1477"/>
                  </a:lnTo>
                  <a:lnTo>
                    <a:pt x="1147" y="1478"/>
                  </a:lnTo>
                  <a:lnTo>
                    <a:pt x="1133" y="1479"/>
                  </a:lnTo>
                  <a:lnTo>
                    <a:pt x="1121" y="1479"/>
                  </a:lnTo>
                  <a:lnTo>
                    <a:pt x="1108" y="1478"/>
                  </a:lnTo>
                  <a:lnTo>
                    <a:pt x="1098" y="1472"/>
                  </a:lnTo>
                  <a:lnTo>
                    <a:pt x="1091" y="1463"/>
                  </a:lnTo>
                  <a:lnTo>
                    <a:pt x="1087" y="1455"/>
                  </a:lnTo>
                  <a:lnTo>
                    <a:pt x="1087" y="1445"/>
                  </a:lnTo>
                  <a:lnTo>
                    <a:pt x="1083" y="1437"/>
                  </a:lnTo>
                  <a:lnTo>
                    <a:pt x="1069" y="1433"/>
                  </a:lnTo>
                  <a:lnTo>
                    <a:pt x="1065" y="1426"/>
                  </a:lnTo>
                  <a:lnTo>
                    <a:pt x="1062" y="1416"/>
                  </a:lnTo>
                  <a:lnTo>
                    <a:pt x="1054" y="1409"/>
                  </a:lnTo>
                  <a:lnTo>
                    <a:pt x="1045" y="1403"/>
                  </a:lnTo>
                  <a:lnTo>
                    <a:pt x="1035" y="1396"/>
                  </a:lnTo>
                  <a:lnTo>
                    <a:pt x="1026" y="1390"/>
                  </a:lnTo>
                  <a:lnTo>
                    <a:pt x="1014" y="1385"/>
                  </a:lnTo>
                  <a:lnTo>
                    <a:pt x="1003" y="1381"/>
                  </a:lnTo>
                  <a:lnTo>
                    <a:pt x="991" y="1377"/>
                  </a:lnTo>
                  <a:lnTo>
                    <a:pt x="980" y="1373"/>
                  </a:lnTo>
                  <a:lnTo>
                    <a:pt x="967" y="1369"/>
                  </a:lnTo>
                  <a:lnTo>
                    <a:pt x="956" y="1365"/>
                  </a:lnTo>
                  <a:lnTo>
                    <a:pt x="943" y="1361"/>
                  </a:lnTo>
                  <a:lnTo>
                    <a:pt x="929" y="1357"/>
                  </a:lnTo>
                  <a:lnTo>
                    <a:pt x="919" y="1352"/>
                  </a:lnTo>
                  <a:lnTo>
                    <a:pt x="917" y="1344"/>
                  </a:lnTo>
                  <a:lnTo>
                    <a:pt x="919" y="1335"/>
                  </a:lnTo>
                  <a:lnTo>
                    <a:pt x="921" y="1325"/>
                  </a:lnTo>
                  <a:lnTo>
                    <a:pt x="921" y="1316"/>
                  </a:lnTo>
                  <a:lnTo>
                    <a:pt x="922" y="1306"/>
                  </a:lnTo>
                  <a:lnTo>
                    <a:pt x="921" y="1297"/>
                  </a:lnTo>
                  <a:lnTo>
                    <a:pt x="919" y="1288"/>
                  </a:lnTo>
                  <a:lnTo>
                    <a:pt x="921" y="1278"/>
                  </a:lnTo>
                  <a:lnTo>
                    <a:pt x="922" y="1269"/>
                  </a:lnTo>
                  <a:lnTo>
                    <a:pt x="924" y="1260"/>
                  </a:lnTo>
                  <a:lnTo>
                    <a:pt x="926" y="1251"/>
                  </a:lnTo>
                  <a:lnTo>
                    <a:pt x="928" y="1241"/>
                  </a:lnTo>
                  <a:lnTo>
                    <a:pt x="931" y="1232"/>
                  </a:lnTo>
                  <a:lnTo>
                    <a:pt x="932" y="1223"/>
                  </a:lnTo>
                  <a:lnTo>
                    <a:pt x="933" y="1214"/>
                  </a:lnTo>
                  <a:lnTo>
                    <a:pt x="935" y="1205"/>
                  </a:lnTo>
                  <a:lnTo>
                    <a:pt x="936" y="1195"/>
                  </a:lnTo>
                  <a:lnTo>
                    <a:pt x="938" y="1185"/>
                  </a:lnTo>
                  <a:lnTo>
                    <a:pt x="940" y="1176"/>
                  </a:lnTo>
                  <a:lnTo>
                    <a:pt x="945" y="1167"/>
                  </a:lnTo>
                  <a:lnTo>
                    <a:pt x="950" y="1157"/>
                  </a:lnTo>
                  <a:lnTo>
                    <a:pt x="954" y="1149"/>
                  </a:lnTo>
                  <a:lnTo>
                    <a:pt x="945" y="1146"/>
                  </a:lnTo>
                  <a:lnTo>
                    <a:pt x="933" y="1144"/>
                  </a:lnTo>
                  <a:lnTo>
                    <a:pt x="935" y="1134"/>
                  </a:lnTo>
                  <a:lnTo>
                    <a:pt x="932" y="1124"/>
                  </a:lnTo>
                  <a:lnTo>
                    <a:pt x="929" y="1115"/>
                  </a:lnTo>
                  <a:lnTo>
                    <a:pt x="931" y="1106"/>
                  </a:lnTo>
                  <a:lnTo>
                    <a:pt x="935" y="1093"/>
                  </a:lnTo>
                  <a:lnTo>
                    <a:pt x="938" y="1084"/>
                  </a:lnTo>
                  <a:lnTo>
                    <a:pt x="942" y="1075"/>
                  </a:lnTo>
                  <a:lnTo>
                    <a:pt x="947" y="1067"/>
                  </a:lnTo>
                  <a:lnTo>
                    <a:pt x="950" y="1061"/>
                  </a:lnTo>
                  <a:lnTo>
                    <a:pt x="936" y="1058"/>
                  </a:lnTo>
                  <a:lnTo>
                    <a:pt x="925" y="1055"/>
                  </a:lnTo>
                  <a:lnTo>
                    <a:pt x="912" y="1051"/>
                  </a:lnTo>
                  <a:lnTo>
                    <a:pt x="900" y="1048"/>
                  </a:lnTo>
                  <a:lnTo>
                    <a:pt x="887" y="1045"/>
                  </a:lnTo>
                  <a:lnTo>
                    <a:pt x="875" y="1042"/>
                  </a:lnTo>
                  <a:lnTo>
                    <a:pt x="861" y="1039"/>
                  </a:lnTo>
                  <a:lnTo>
                    <a:pt x="851" y="1040"/>
                  </a:lnTo>
                  <a:lnTo>
                    <a:pt x="848" y="1049"/>
                  </a:lnTo>
                  <a:lnTo>
                    <a:pt x="843" y="1054"/>
                  </a:lnTo>
                  <a:lnTo>
                    <a:pt x="830" y="1054"/>
                  </a:lnTo>
                  <a:lnTo>
                    <a:pt x="819" y="1057"/>
                  </a:lnTo>
                  <a:lnTo>
                    <a:pt x="817" y="1067"/>
                  </a:lnTo>
                  <a:lnTo>
                    <a:pt x="816" y="1075"/>
                  </a:lnTo>
                  <a:lnTo>
                    <a:pt x="803" y="1075"/>
                  </a:lnTo>
                  <a:lnTo>
                    <a:pt x="789" y="1075"/>
                  </a:lnTo>
                  <a:lnTo>
                    <a:pt x="777" y="1075"/>
                  </a:lnTo>
                  <a:lnTo>
                    <a:pt x="764" y="1074"/>
                  </a:lnTo>
                  <a:lnTo>
                    <a:pt x="750" y="1072"/>
                  </a:lnTo>
                  <a:lnTo>
                    <a:pt x="738" y="1071"/>
                  </a:lnTo>
                  <a:lnTo>
                    <a:pt x="725" y="1071"/>
                  </a:lnTo>
                  <a:lnTo>
                    <a:pt x="713" y="1071"/>
                  </a:lnTo>
                  <a:lnTo>
                    <a:pt x="699" y="1071"/>
                  </a:lnTo>
                  <a:lnTo>
                    <a:pt x="687" y="1071"/>
                  </a:lnTo>
                  <a:lnTo>
                    <a:pt x="686" y="1080"/>
                  </a:lnTo>
                  <a:lnTo>
                    <a:pt x="675" y="1084"/>
                  </a:lnTo>
                  <a:lnTo>
                    <a:pt x="662" y="1084"/>
                  </a:lnTo>
                  <a:lnTo>
                    <a:pt x="651" y="1088"/>
                  </a:lnTo>
                  <a:lnTo>
                    <a:pt x="638" y="1088"/>
                  </a:lnTo>
                  <a:lnTo>
                    <a:pt x="624" y="1089"/>
                  </a:lnTo>
                  <a:lnTo>
                    <a:pt x="612" y="1089"/>
                  </a:lnTo>
                  <a:lnTo>
                    <a:pt x="599" y="1089"/>
                  </a:lnTo>
                  <a:lnTo>
                    <a:pt x="587" y="1090"/>
                  </a:lnTo>
                  <a:lnTo>
                    <a:pt x="574" y="1093"/>
                  </a:lnTo>
                  <a:lnTo>
                    <a:pt x="562" y="1092"/>
                  </a:lnTo>
                  <a:lnTo>
                    <a:pt x="548" y="1091"/>
                  </a:lnTo>
                  <a:lnTo>
                    <a:pt x="539" y="1088"/>
                  </a:lnTo>
                  <a:lnTo>
                    <a:pt x="527" y="1088"/>
                  </a:lnTo>
                  <a:lnTo>
                    <a:pt x="513" y="1089"/>
                  </a:lnTo>
                  <a:lnTo>
                    <a:pt x="500" y="1090"/>
                  </a:lnTo>
                  <a:lnTo>
                    <a:pt x="487" y="1092"/>
                  </a:lnTo>
                  <a:lnTo>
                    <a:pt x="475" y="1093"/>
                  </a:lnTo>
                  <a:lnTo>
                    <a:pt x="462" y="1096"/>
                  </a:lnTo>
                  <a:lnTo>
                    <a:pt x="450" y="1100"/>
                  </a:lnTo>
                  <a:lnTo>
                    <a:pt x="441" y="1106"/>
                  </a:lnTo>
                  <a:lnTo>
                    <a:pt x="432" y="1114"/>
                  </a:lnTo>
                  <a:lnTo>
                    <a:pt x="419" y="1117"/>
                  </a:lnTo>
                  <a:lnTo>
                    <a:pt x="406" y="1120"/>
                  </a:lnTo>
                  <a:lnTo>
                    <a:pt x="394" y="1124"/>
                  </a:lnTo>
                  <a:lnTo>
                    <a:pt x="381" y="1126"/>
                  </a:lnTo>
                  <a:lnTo>
                    <a:pt x="359" y="1106"/>
                  </a:lnTo>
                  <a:lnTo>
                    <a:pt x="359" y="1092"/>
                  </a:lnTo>
                  <a:lnTo>
                    <a:pt x="356" y="1083"/>
                  </a:lnTo>
                  <a:lnTo>
                    <a:pt x="345" y="1079"/>
                  </a:lnTo>
                  <a:lnTo>
                    <a:pt x="331" y="1077"/>
                  </a:lnTo>
                  <a:lnTo>
                    <a:pt x="320" y="1074"/>
                  </a:lnTo>
                  <a:lnTo>
                    <a:pt x="309" y="1069"/>
                  </a:lnTo>
                  <a:lnTo>
                    <a:pt x="304" y="1060"/>
                  </a:lnTo>
                  <a:lnTo>
                    <a:pt x="300" y="1051"/>
                  </a:lnTo>
                  <a:lnTo>
                    <a:pt x="288" y="1047"/>
                  </a:lnTo>
                  <a:lnTo>
                    <a:pt x="276" y="1042"/>
                  </a:lnTo>
                  <a:lnTo>
                    <a:pt x="265" y="1038"/>
                  </a:lnTo>
                  <a:lnTo>
                    <a:pt x="254" y="1033"/>
                  </a:lnTo>
                  <a:lnTo>
                    <a:pt x="244" y="1028"/>
                  </a:lnTo>
                  <a:lnTo>
                    <a:pt x="233" y="1022"/>
                  </a:lnTo>
                  <a:lnTo>
                    <a:pt x="222" y="1017"/>
                  </a:lnTo>
                  <a:lnTo>
                    <a:pt x="211" y="1019"/>
                  </a:lnTo>
                  <a:lnTo>
                    <a:pt x="199" y="1017"/>
                  </a:lnTo>
                  <a:lnTo>
                    <a:pt x="190" y="1012"/>
                  </a:lnTo>
                  <a:lnTo>
                    <a:pt x="177" y="1008"/>
                  </a:lnTo>
                  <a:lnTo>
                    <a:pt x="165" y="1007"/>
                  </a:lnTo>
                  <a:lnTo>
                    <a:pt x="151" y="1006"/>
                  </a:lnTo>
                  <a:lnTo>
                    <a:pt x="144" y="1011"/>
                  </a:lnTo>
                  <a:lnTo>
                    <a:pt x="138" y="1019"/>
                  </a:lnTo>
                  <a:lnTo>
                    <a:pt x="132" y="1028"/>
                  </a:lnTo>
                  <a:lnTo>
                    <a:pt x="124" y="1024"/>
                  </a:lnTo>
                  <a:lnTo>
                    <a:pt x="114" y="1016"/>
                  </a:lnTo>
                  <a:lnTo>
                    <a:pt x="103" y="1018"/>
                  </a:lnTo>
                  <a:lnTo>
                    <a:pt x="93" y="1021"/>
                  </a:lnTo>
                  <a:lnTo>
                    <a:pt x="83" y="1014"/>
                  </a:lnTo>
                  <a:lnTo>
                    <a:pt x="79" y="1006"/>
                  </a:lnTo>
                  <a:lnTo>
                    <a:pt x="74" y="998"/>
                  </a:lnTo>
                  <a:lnTo>
                    <a:pt x="61" y="997"/>
                  </a:lnTo>
                  <a:lnTo>
                    <a:pt x="51" y="995"/>
                  </a:lnTo>
                  <a:lnTo>
                    <a:pt x="41" y="993"/>
                  </a:lnTo>
                  <a:lnTo>
                    <a:pt x="48" y="985"/>
                  </a:lnTo>
                  <a:lnTo>
                    <a:pt x="46" y="977"/>
                  </a:lnTo>
                  <a:lnTo>
                    <a:pt x="46" y="968"/>
                  </a:lnTo>
                  <a:lnTo>
                    <a:pt x="39" y="961"/>
                  </a:lnTo>
                  <a:lnTo>
                    <a:pt x="29" y="957"/>
                  </a:lnTo>
                  <a:lnTo>
                    <a:pt x="21" y="950"/>
                  </a:lnTo>
                  <a:lnTo>
                    <a:pt x="14" y="942"/>
                  </a:lnTo>
                  <a:lnTo>
                    <a:pt x="5" y="934"/>
                  </a:lnTo>
                  <a:lnTo>
                    <a:pt x="0" y="926"/>
                  </a:lnTo>
                  <a:lnTo>
                    <a:pt x="2" y="917"/>
                  </a:lnTo>
                  <a:lnTo>
                    <a:pt x="16" y="919"/>
                  </a:lnTo>
                  <a:lnTo>
                    <a:pt x="22" y="914"/>
                  </a:lnTo>
                  <a:lnTo>
                    <a:pt x="22" y="905"/>
                  </a:lnTo>
                  <a:lnTo>
                    <a:pt x="23" y="897"/>
                  </a:lnTo>
                  <a:lnTo>
                    <a:pt x="30" y="889"/>
                  </a:lnTo>
                  <a:lnTo>
                    <a:pt x="41" y="885"/>
                  </a:lnTo>
                  <a:lnTo>
                    <a:pt x="53" y="886"/>
                  </a:lnTo>
                  <a:lnTo>
                    <a:pt x="57" y="878"/>
                  </a:lnTo>
                  <a:lnTo>
                    <a:pt x="61" y="869"/>
                  </a:lnTo>
                  <a:lnTo>
                    <a:pt x="71" y="867"/>
                  </a:lnTo>
                  <a:lnTo>
                    <a:pt x="79" y="860"/>
                  </a:lnTo>
                  <a:lnTo>
                    <a:pt x="88" y="853"/>
                  </a:lnTo>
                  <a:lnTo>
                    <a:pt x="96" y="849"/>
                  </a:lnTo>
                  <a:lnTo>
                    <a:pt x="89" y="841"/>
                  </a:lnTo>
                  <a:lnTo>
                    <a:pt x="99" y="835"/>
                  </a:lnTo>
                  <a:lnTo>
                    <a:pt x="107" y="841"/>
                  </a:lnTo>
                  <a:lnTo>
                    <a:pt x="118" y="839"/>
                  </a:lnTo>
                  <a:lnTo>
                    <a:pt x="124" y="847"/>
                  </a:lnTo>
                  <a:lnTo>
                    <a:pt x="132" y="853"/>
                  </a:lnTo>
                  <a:lnTo>
                    <a:pt x="144" y="848"/>
                  </a:lnTo>
                  <a:lnTo>
                    <a:pt x="153" y="843"/>
                  </a:lnTo>
                  <a:lnTo>
                    <a:pt x="166" y="843"/>
                  </a:lnTo>
                  <a:lnTo>
                    <a:pt x="177" y="848"/>
                  </a:lnTo>
                  <a:lnTo>
                    <a:pt x="176" y="857"/>
                  </a:lnTo>
                  <a:lnTo>
                    <a:pt x="167" y="862"/>
                  </a:lnTo>
                  <a:lnTo>
                    <a:pt x="166" y="872"/>
                  </a:lnTo>
                  <a:lnTo>
                    <a:pt x="174" y="877"/>
                  </a:lnTo>
                  <a:lnTo>
                    <a:pt x="187" y="873"/>
                  </a:lnTo>
                  <a:lnTo>
                    <a:pt x="199" y="871"/>
                  </a:lnTo>
                  <a:lnTo>
                    <a:pt x="212" y="870"/>
                  </a:lnTo>
                  <a:lnTo>
                    <a:pt x="225" y="872"/>
                  </a:lnTo>
                  <a:lnTo>
                    <a:pt x="236" y="878"/>
                  </a:lnTo>
                  <a:lnTo>
                    <a:pt x="247" y="882"/>
                  </a:lnTo>
                  <a:lnTo>
                    <a:pt x="260" y="883"/>
                  </a:lnTo>
                  <a:lnTo>
                    <a:pt x="272" y="881"/>
                  </a:lnTo>
                  <a:lnTo>
                    <a:pt x="283" y="876"/>
                  </a:lnTo>
                  <a:lnTo>
                    <a:pt x="288" y="868"/>
                  </a:lnTo>
                  <a:lnTo>
                    <a:pt x="278" y="862"/>
                  </a:lnTo>
                  <a:lnTo>
                    <a:pt x="274" y="854"/>
                  </a:lnTo>
                  <a:lnTo>
                    <a:pt x="279" y="845"/>
                  </a:lnTo>
                  <a:lnTo>
                    <a:pt x="289" y="839"/>
                  </a:lnTo>
                  <a:lnTo>
                    <a:pt x="299" y="833"/>
                  </a:lnTo>
                  <a:lnTo>
                    <a:pt x="304" y="824"/>
                  </a:lnTo>
                  <a:lnTo>
                    <a:pt x="317" y="821"/>
                  </a:lnTo>
                  <a:lnTo>
                    <a:pt x="328" y="816"/>
                  </a:lnTo>
                  <a:lnTo>
                    <a:pt x="335" y="809"/>
                  </a:lnTo>
                  <a:lnTo>
                    <a:pt x="345" y="808"/>
                  </a:lnTo>
                  <a:lnTo>
                    <a:pt x="343" y="817"/>
                  </a:lnTo>
                  <a:lnTo>
                    <a:pt x="342" y="826"/>
                  </a:lnTo>
                  <a:lnTo>
                    <a:pt x="345" y="835"/>
                  </a:lnTo>
                  <a:lnTo>
                    <a:pt x="350" y="844"/>
                  </a:lnTo>
                  <a:lnTo>
                    <a:pt x="360" y="850"/>
                  </a:lnTo>
                  <a:lnTo>
                    <a:pt x="374" y="852"/>
                  </a:lnTo>
                  <a:lnTo>
                    <a:pt x="387" y="854"/>
                  </a:lnTo>
                  <a:lnTo>
                    <a:pt x="399" y="854"/>
                  </a:lnTo>
                  <a:lnTo>
                    <a:pt x="408" y="847"/>
                  </a:lnTo>
                  <a:lnTo>
                    <a:pt x="419" y="847"/>
                  </a:lnTo>
                  <a:lnTo>
                    <a:pt x="422" y="855"/>
                  </a:lnTo>
                  <a:lnTo>
                    <a:pt x="416" y="864"/>
                  </a:lnTo>
                  <a:lnTo>
                    <a:pt x="423" y="866"/>
                  </a:lnTo>
                  <a:lnTo>
                    <a:pt x="436" y="863"/>
                  </a:lnTo>
                  <a:lnTo>
                    <a:pt x="448" y="861"/>
                  </a:lnTo>
                  <a:lnTo>
                    <a:pt x="461" y="861"/>
                  </a:lnTo>
                  <a:lnTo>
                    <a:pt x="471" y="867"/>
                  </a:lnTo>
                  <a:lnTo>
                    <a:pt x="476" y="875"/>
                  </a:lnTo>
                  <a:lnTo>
                    <a:pt x="485" y="881"/>
                  </a:lnTo>
                  <a:lnTo>
                    <a:pt x="499" y="880"/>
                  </a:lnTo>
                  <a:lnTo>
                    <a:pt x="510" y="876"/>
                  </a:lnTo>
                  <a:lnTo>
                    <a:pt x="520" y="869"/>
                  </a:lnTo>
                  <a:lnTo>
                    <a:pt x="521" y="860"/>
                  </a:lnTo>
                  <a:lnTo>
                    <a:pt x="529" y="855"/>
                  </a:lnTo>
                  <a:lnTo>
                    <a:pt x="542" y="857"/>
                  </a:lnTo>
                  <a:lnTo>
                    <a:pt x="555" y="857"/>
                  </a:lnTo>
                  <a:lnTo>
                    <a:pt x="567" y="855"/>
                  </a:lnTo>
                  <a:lnTo>
                    <a:pt x="580" y="852"/>
                  </a:lnTo>
                  <a:lnTo>
                    <a:pt x="592" y="852"/>
                  </a:lnTo>
                  <a:lnTo>
                    <a:pt x="603" y="856"/>
                  </a:lnTo>
                  <a:lnTo>
                    <a:pt x="616" y="859"/>
                  </a:lnTo>
                  <a:lnTo>
                    <a:pt x="629" y="859"/>
                  </a:lnTo>
                  <a:lnTo>
                    <a:pt x="640" y="855"/>
                  </a:lnTo>
                  <a:lnTo>
                    <a:pt x="650" y="848"/>
                  </a:lnTo>
                  <a:lnTo>
                    <a:pt x="641" y="841"/>
                  </a:lnTo>
                  <a:lnTo>
                    <a:pt x="634" y="833"/>
                  </a:lnTo>
                  <a:lnTo>
                    <a:pt x="633" y="824"/>
                  </a:lnTo>
                  <a:lnTo>
                    <a:pt x="637" y="815"/>
                  </a:lnTo>
                  <a:lnTo>
                    <a:pt x="648" y="816"/>
                  </a:lnTo>
                  <a:lnTo>
                    <a:pt x="658" y="822"/>
                  </a:lnTo>
                  <a:lnTo>
                    <a:pt x="669" y="825"/>
                  </a:lnTo>
                  <a:lnTo>
                    <a:pt x="682" y="826"/>
                  </a:lnTo>
                  <a:lnTo>
                    <a:pt x="690" y="820"/>
                  </a:lnTo>
                  <a:lnTo>
                    <a:pt x="689" y="810"/>
                  </a:lnTo>
                  <a:lnTo>
                    <a:pt x="687" y="801"/>
                  </a:lnTo>
                  <a:lnTo>
                    <a:pt x="687" y="792"/>
                  </a:lnTo>
                  <a:lnTo>
                    <a:pt x="693" y="784"/>
                  </a:lnTo>
                  <a:lnTo>
                    <a:pt x="704" y="781"/>
                  </a:lnTo>
                  <a:lnTo>
                    <a:pt x="715" y="775"/>
                  </a:lnTo>
                  <a:lnTo>
                    <a:pt x="728" y="773"/>
                  </a:lnTo>
                  <a:lnTo>
                    <a:pt x="735" y="769"/>
                  </a:lnTo>
                  <a:lnTo>
                    <a:pt x="724" y="765"/>
                  </a:lnTo>
                  <a:lnTo>
                    <a:pt x="717" y="757"/>
                  </a:lnTo>
                  <a:lnTo>
                    <a:pt x="704" y="754"/>
                  </a:lnTo>
                  <a:lnTo>
                    <a:pt x="694" y="759"/>
                  </a:lnTo>
                  <a:lnTo>
                    <a:pt x="685" y="755"/>
                  </a:lnTo>
                  <a:lnTo>
                    <a:pt x="679" y="747"/>
                  </a:lnTo>
                  <a:lnTo>
                    <a:pt x="676" y="738"/>
                  </a:lnTo>
                  <a:lnTo>
                    <a:pt x="689" y="740"/>
                  </a:lnTo>
                  <a:lnTo>
                    <a:pt x="700" y="743"/>
                  </a:lnTo>
                  <a:lnTo>
                    <a:pt x="713" y="740"/>
                  </a:lnTo>
                  <a:lnTo>
                    <a:pt x="710" y="730"/>
                  </a:lnTo>
                  <a:lnTo>
                    <a:pt x="701" y="723"/>
                  </a:lnTo>
                  <a:lnTo>
                    <a:pt x="692" y="717"/>
                  </a:lnTo>
                  <a:lnTo>
                    <a:pt x="680" y="712"/>
                  </a:lnTo>
                  <a:lnTo>
                    <a:pt x="669" y="707"/>
                  </a:lnTo>
                  <a:lnTo>
                    <a:pt x="659" y="701"/>
                  </a:lnTo>
                  <a:lnTo>
                    <a:pt x="652" y="693"/>
                  </a:lnTo>
                  <a:lnTo>
                    <a:pt x="647" y="685"/>
                  </a:lnTo>
                  <a:lnTo>
                    <a:pt x="641" y="676"/>
                  </a:lnTo>
                  <a:lnTo>
                    <a:pt x="638" y="667"/>
                  </a:lnTo>
                  <a:lnTo>
                    <a:pt x="648" y="662"/>
                  </a:lnTo>
                  <a:lnTo>
                    <a:pt x="658" y="656"/>
                  </a:lnTo>
                  <a:lnTo>
                    <a:pt x="666" y="648"/>
                  </a:lnTo>
                  <a:lnTo>
                    <a:pt x="661" y="641"/>
                  </a:lnTo>
                  <a:lnTo>
                    <a:pt x="658" y="632"/>
                  </a:lnTo>
                  <a:lnTo>
                    <a:pt x="662" y="623"/>
                  </a:lnTo>
                  <a:lnTo>
                    <a:pt x="661" y="614"/>
                  </a:lnTo>
                  <a:lnTo>
                    <a:pt x="658" y="605"/>
                  </a:lnTo>
                  <a:lnTo>
                    <a:pt x="661" y="596"/>
                  </a:lnTo>
                  <a:lnTo>
                    <a:pt x="658" y="589"/>
                  </a:lnTo>
                  <a:lnTo>
                    <a:pt x="668" y="583"/>
                  </a:lnTo>
                  <a:lnTo>
                    <a:pt x="678" y="579"/>
                  </a:lnTo>
                  <a:lnTo>
                    <a:pt x="682" y="570"/>
                  </a:lnTo>
                  <a:lnTo>
                    <a:pt x="679" y="563"/>
                  </a:lnTo>
                  <a:lnTo>
                    <a:pt x="683" y="554"/>
                  </a:lnTo>
                  <a:lnTo>
                    <a:pt x="694" y="549"/>
                  </a:lnTo>
                  <a:lnTo>
                    <a:pt x="707" y="547"/>
                  </a:lnTo>
                  <a:lnTo>
                    <a:pt x="719" y="550"/>
                  </a:lnTo>
                  <a:lnTo>
                    <a:pt x="725" y="557"/>
                  </a:lnTo>
                  <a:lnTo>
                    <a:pt x="724" y="567"/>
                  </a:lnTo>
                  <a:lnTo>
                    <a:pt x="735" y="570"/>
                  </a:lnTo>
                  <a:lnTo>
                    <a:pt x="746" y="574"/>
                  </a:lnTo>
                  <a:lnTo>
                    <a:pt x="750" y="566"/>
                  </a:lnTo>
                  <a:lnTo>
                    <a:pt x="750" y="557"/>
                  </a:lnTo>
                  <a:lnTo>
                    <a:pt x="754" y="548"/>
                  </a:lnTo>
                  <a:lnTo>
                    <a:pt x="766" y="544"/>
                  </a:lnTo>
                  <a:lnTo>
                    <a:pt x="778" y="544"/>
                  </a:lnTo>
                  <a:lnTo>
                    <a:pt x="791" y="546"/>
                  </a:lnTo>
                  <a:lnTo>
                    <a:pt x="803" y="549"/>
                  </a:lnTo>
                  <a:lnTo>
                    <a:pt x="805" y="559"/>
                  </a:lnTo>
                  <a:lnTo>
                    <a:pt x="815" y="558"/>
                  </a:lnTo>
                  <a:lnTo>
                    <a:pt x="817" y="549"/>
                  </a:lnTo>
                  <a:lnTo>
                    <a:pt x="830" y="548"/>
                  </a:lnTo>
                  <a:lnTo>
                    <a:pt x="844" y="547"/>
                  </a:lnTo>
                  <a:lnTo>
                    <a:pt x="844" y="543"/>
                  </a:lnTo>
                  <a:lnTo>
                    <a:pt x="833" y="539"/>
                  </a:lnTo>
                  <a:lnTo>
                    <a:pt x="833" y="532"/>
                  </a:lnTo>
                  <a:lnTo>
                    <a:pt x="845" y="531"/>
                  </a:lnTo>
                  <a:lnTo>
                    <a:pt x="855" y="525"/>
                  </a:lnTo>
                  <a:lnTo>
                    <a:pt x="865" y="518"/>
                  </a:lnTo>
                  <a:lnTo>
                    <a:pt x="866" y="510"/>
                  </a:lnTo>
                  <a:lnTo>
                    <a:pt x="887" y="509"/>
                  </a:lnTo>
                  <a:lnTo>
                    <a:pt x="900" y="505"/>
                  </a:lnTo>
                  <a:lnTo>
                    <a:pt x="907" y="500"/>
                  </a:lnTo>
                  <a:lnTo>
                    <a:pt x="919" y="499"/>
                  </a:lnTo>
                  <a:lnTo>
                    <a:pt x="932" y="498"/>
                  </a:lnTo>
                  <a:lnTo>
                    <a:pt x="935" y="489"/>
                  </a:lnTo>
                  <a:lnTo>
                    <a:pt x="945" y="487"/>
                  </a:lnTo>
                  <a:lnTo>
                    <a:pt x="949" y="482"/>
                  </a:lnTo>
                  <a:lnTo>
                    <a:pt x="961" y="482"/>
                  </a:lnTo>
                  <a:lnTo>
                    <a:pt x="971" y="489"/>
                  </a:lnTo>
                  <a:lnTo>
                    <a:pt x="980" y="496"/>
                  </a:lnTo>
                  <a:lnTo>
                    <a:pt x="989" y="502"/>
                  </a:lnTo>
                  <a:lnTo>
                    <a:pt x="1002" y="505"/>
                  </a:lnTo>
                  <a:lnTo>
                    <a:pt x="1021" y="508"/>
                  </a:lnTo>
                  <a:lnTo>
                    <a:pt x="1033" y="512"/>
                  </a:lnTo>
                  <a:lnTo>
                    <a:pt x="1045" y="514"/>
                  </a:lnTo>
                  <a:lnTo>
                    <a:pt x="1059" y="512"/>
                  </a:lnTo>
                  <a:lnTo>
                    <a:pt x="1072" y="511"/>
                  </a:lnTo>
                  <a:lnTo>
                    <a:pt x="1084" y="510"/>
                  </a:lnTo>
                  <a:lnTo>
                    <a:pt x="1097" y="511"/>
                  </a:lnTo>
                  <a:lnTo>
                    <a:pt x="1111" y="512"/>
                  </a:lnTo>
                  <a:lnTo>
                    <a:pt x="1123" y="513"/>
                  </a:lnTo>
                  <a:lnTo>
                    <a:pt x="1136" y="514"/>
                  </a:lnTo>
                  <a:lnTo>
                    <a:pt x="1149" y="514"/>
                  </a:lnTo>
                  <a:lnTo>
                    <a:pt x="1160" y="509"/>
                  </a:lnTo>
                  <a:lnTo>
                    <a:pt x="1171" y="504"/>
                  </a:lnTo>
                  <a:lnTo>
                    <a:pt x="1184" y="505"/>
                  </a:lnTo>
                  <a:lnTo>
                    <a:pt x="1198" y="506"/>
                  </a:lnTo>
                  <a:lnTo>
                    <a:pt x="1207" y="505"/>
                  </a:lnTo>
                  <a:lnTo>
                    <a:pt x="1234" y="509"/>
                  </a:lnTo>
                  <a:lnTo>
                    <a:pt x="1231" y="499"/>
                  </a:lnTo>
                  <a:lnTo>
                    <a:pt x="1228" y="490"/>
                  </a:lnTo>
                  <a:lnTo>
                    <a:pt x="1240" y="489"/>
                  </a:lnTo>
                  <a:lnTo>
                    <a:pt x="1247" y="496"/>
                  </a:lnTo>
                  <a:lnTo>
                    <a:pt x="1255" y="496"/>
                  </a:lnTo>
                  <a:lnTo>
                    <a:pt x="1266" y="491"/>
                  </a:lnTo>
                  <a:lnTo>
                    <a:pt x="1279" y="487"/>
                  </a:lnTo>
                  <a:lnTo>
                    <a:pt x="1290" y="485"/>
                  </a:lnTo>
                  <a:lnTo>
                    <a:pt x="1287" y="494"/>
                  </a:lnTo>
                  <a:lnTo>
                    <a:pt x="1295" y="506"/>
                  </a:lnTo>
                  <a:lnTo>
                    <a:pt x="1305" y="502"/>
                  </a:lnTo>
                  <a:lnTo>
                    <a:pt x="1318" y="504"/>
                  </a:lnTo>
                  <a:lnTo>
                    <a:pt x="1315" y="498"/>
                  </a:lnTo>
                  <a:lnTo>
                    <a:pt x="1323" y="493"/>
                  </a:lnTo>
                  <a:lnTo>
                    <a:pt x="1325" y="484"/>
                  </a:lnTo>
                  <a:lnTo>
                    <a:pt x="1326" y="479"/>
                  </a:lnTo>
                  <a:lnTo>
                    <a:pt x="1337" y="486"/>
                  </a:lnTo>
                  <a:lnTo>
                    <a:pt x="1347" y="484"/>
                  </a:lnTo>
                  <a:lnTo>
                    <a:pt x="1350" y="474"/>
                  </a:lnTo>
                  <a:lnTo>
                    <a:pt x="1361" y="470"/>
                  </a:lnTo>
                  <a:lnTo>
                    <a:pt x="1372" y="468"/>
                  </a:lnTo>
                  <a:lnTo>
                    <a:pt x="1375" y="459"/>
                  </a:lnTo>
                  <a:lnTo>
                    <a:pt x="1371" y="450"/>
                  </a:lnTo>
                  <a:lnTo>
                    <a:pt x="1379" y="443"/>
                  </a:lnTo>
                  <a:lnTo>
                    <a:pt x="1390" y="439"/>
                  </a:lnTo>
                  <a:lnTo>
                    <a:pt x="1403" y="435"/>
                  </a:lnTo>
                  <a:lnTo>
                    <a:pt x="1402" y="427"/>
                  </a:lnTo>
                  <a:lnTo>
                    <a:pt x="1399" y="419"/>
                  </a:lnTo>
                  <a:lnTo>
                    <a:pt x="1403" y="410"/>
                  </a:lnTo>
                  <a:lnTo>
                    <a:pt x="1409" y="415"/>
                  </a:lnTo>
                  <a:lnTo>
                    <a:pt x="1413" y="424"/>
                  </a:lnTo>
                  <a:lnTo>
                    <a:pt x="1424" y="425"/>
                  </a:lnTo>
                  <a:lnTo>
                    <a:pt x="1428" y="416"/>
                  </a:lnTo>
                  <a:lnTo>
                    <a:pt x="1423" y="407"/>
                  </a:lnTo>
                  <a:lnTo>
                    <a:pt x="1425" y="401"/>
                  </a:lnTo>
                  <a:lnTo>
                    <a:pt x="1435" y="404"/>
                  </a:lnTo>
                  <a:lnTo>
                    <a:pt x="1441" y="412"/>
                  </a:lnTo>
                  <a:lnTo>
                    <a:pt x="1448" y="419"/>
                  </a:lnTo>
                  <a:lnTo>
                    <a:pt x="1437" y="424"/>
                  </a:lnTo>
                  <a:lnTo>
                    <a:pt x="1444" y="432"/>
                  </a:lnTo>
                  <a:lnTo>
                    <a:pt x="1453" y="439"/>
                  </a:lnTo>
                  <a:lnTo>
                    <a:pt x="1462" y="439"/>
                  </a:lnTo>
                  <a:lnTo>
                    <a:pt x="1455" y="431"/>
                  </a:lnTo>
                  <a:lnTo>
                    <a:pt x="1455" y="425"/>
                  </a:lnTo>
                  <a:lnTo>
                    <a:pt x="1469" y="427"/>
                  </a:lnTo>
                  <a:lnTo>
                    <a:pt x="1476" y="421"/>
                  </a:lnTo>
                  <a:lnTo>
                    <a:pt x="1472" y="412"/>
                  </a:lnTo>
                  <a:lnTo>
                    <a:pt x="1474" y="406"/>
                  </a:lnTo>
                  <a:lnTo>
                    <a:pt x="1487" y="410"/>
                  </a:lnTo>
                  <a:lnTo>
                    <a:pt x="1501" y="411"/>
                  </a:lnTo>
                  <a:lnTo>
                    <a:pt x="1514" y="411"/>
                  </a:lnTo>
                  <a:lnTo>
                    <a:pt x="1526" y="408"/>
                  </a:lnTo>
                  <a:lnTo>
                    <a:pt x="1536" y="403"/>
                  </a:lnTo>
                  <a:lnTo>
                    <a:pt x="1546" y="397"/>
                  </a:lnTo>
                  <a:lnTo>
                    <a:pt x="1557" y="392"/>
                  </a:lnTo>
                  <a:lnTo>
                    <a:pt x="1569" y="391"/>
                  </a:lnTo>
                  <a:lnTo>
                    <a:pt x="1581" y="396"/>
                  </a:lnTo>
                  <a:lnTo>
                    <a:pt x="1590" y="402"/>
                  </a:lnTo>
                  <a:lnTo>
                    <a:pt x="1603" y="406"/>
                  </a:lnTo>
                  <a:lnTo>
                    <a:pt x="1611" y="399"/>
                  </a:lnTo>
                  <a:lnTo>
                    <a:pt x="1613" y="390"/>
                  </a:lnTo>
                  <a:lnTo>
                    <a:pt x="1625" y="376"/>
                  </a:lnTo>
                  <a:lnTo>
                    <a:pt x="1645" y="368"/>
                  </a:lnTo>
                  <a:lnTo>
                    <a:pt x="1642" y="359"/>
                  </a:lnTo>
                  <a:lnTo>
                    <a:pt x="1646" y="353"/>
                  </a:lnTo>
                  <a:lnTo>
                    <a:pt x="1655" y="359"/>
                  </a:lnTo>
                  <a:lnTo>
                    <a:pt x="1663" y="352"/>
                  </a:lnTo>
                  <a:lnTo>
                    <a:pt x="1676" y="348"/>
                  </a:lnTo>
                  <a:lnTo>
                    <a:pt x="1684" y="341"/>
                  </a:lnTo>
                  <a:lnTo>
                    <a:pt x="1690" y="333"/>
                  </a:lnTo>
                  <a:lnTo>
                    <a:pt x="1698" y="325"/>
                  </a:lnTo>
                  <a:lnTo>
                    <a:pt x="1706" y="319"/>
                  </a:lnTo>
                  <a:lnTo>
                    <a:pt x="1715" y="312"/>
                  </a:lnTo>
                  <a:lnTo>
                    <a:pt x="1719" y="303"/>
                  </a:lnTo>
                  <a:lnTo>
                    <a:pt x="1722" y="294"/>
                  </a:lnTo>
                  <a:lnTo>
                    <a:pt x="1729" y="286"/>
                  </a:lnTo>
                  <a:lnTo>
                    <a:pt x="1740" y="282"/>
                  </a:lnTo>
                  <a:lnTo>
                    <a:pt x="1753" y="278"/>
                  </a:lnTo>
                  <a:lnTo>
                    <a:pt x="1760" y="271"/>
                  </a:lnTo>
                  <a:lnTo>
                    <a:pt x="1771" y="267"/>
                  </a:lnTo>
                  <a:lnTo>
                    <a:pt x="1776" y="260"/>
                  </a:lnTo>
                  <a:lnTo>
                    <a:pt x="1776" y="250"/>
                  </a:lnTo>
                  <a:lnTo>
                    <a:pt x="1788" y="246"/>
                  </a:lnTo>
                  <a:lnTo>
                    <a:pt x="1803" y="243"/>
                  </a:lnTo>
                  <a:lnTo>
                    <a:pt x="1810" y="246"/>
                  </a:lnTo>
                  <a:lnTo>
                    <a:pt x="1806" y="256"/>
                  </a:lnTo>
                  <a:lnTo>
                    <a:pt x="1801" y="265"/>
                  </a:lnTo>
                  <a:lnTo>
                    <a:pt x="1814" y="264"/>
                  </a:lnTo>
                  <a:lnTo>
                    <a:pt x="1825" y="260"/>
                  </a:lnTo>
                  <a:lnTo>
                    <a:pt x="1838" y="263"/>
                  </a:lnTo>
                  <a:lnTo>
                    <a:pt x="1850" y="266"/>
                  </a:lnTo>
                  <a:lnTo>
                    <a:pt x="1853" y="274"/>
                  </a:lnTo>
                  <a:lnTo>
                    <a:pt x="1850" y="283"/>
                  </a:lnTo>
                  <a:lnTo>
                    <a:pt x="1857" y="290"/>
                  </a:lnTo>
                  <a:lnTo>
                    <a:pt x="1870" y="288"/>
                  </a:lnTo>
                  <a:lnTo>
                    <a:pt x="1869" y="281"/>
                  </a:lnTo>
                  <a:lnTo>
                    <a:pt x="1871" y="275"/>
                  </a:lnTo>
                  <a:lnTo>
                    <a:pt x="1884" y="271"/>
                  </a:lnTo>
                  <a:lnTo>
                    <a:pt x="1890" y="263"/>
                  </a:lnTo>
                  <a:lnTo>
                    <a:pt x="1885" y="254"/>
                  </a:lnTo>
                  <a:lnTo>
                    <a:pt x="1881" y="246"/>
                  </a:lnTo>
                  <a:lnTo>
                    <a:pt x="1887" y="241"/>
                  </a:lnTo>
                  <a:lnTo>
                    <a:pt x="1899" y="244"/>
                  </a:lnTo>
                  <a:lnTo>
                    <a:pt x="1912" y="247"/>
                  </a:lnTo>
                  <a:lnTo>
                    <a:pt x="1923" y="245"/>
                  </a:lnTo>
                  <a:lnTo>
                    <a:pt x="1923" y="236"/>
                  </a:lnTo>
                  <a:lnTo>
                    <a:pt x="1919" y="227"/>
                  </a:lnTo>
                  <a:lnTo>
                    <a:pt x="1915" y="218"/>
                  </a:lnTo>
                  <a:lnTo>
                    <a:pt x="1918" y="209"/>
                  </a:lnTo>
                  <a:lnTo>
                    <a:pt x="1926" y="201"/>
                  </a:lnTo>
                  <a:lnTo>
                    <a:pt x="1937" y="200"/>
                  </a:lnTo>
                  <a:lnTo>
                    <a:pt x="1944" y="206"/>
                  </a:lnTo>
                  <a:lnTo>
                    <a:pt x="1936" y="214"/>
                  </a:lnTo>
                  <a:lnTo>
                    <a:pt x="1945" y="217"/>
                  </a:lnTo>
                  <a:lnTo>
                    <a:pt x="1955" y="212"/>
                  </a:lnTo>
                  <a:lnTo>
                    <a:pt x="1952" y="202"/>
                  </a:lnTo>
                  <a:lnTo>
                    <a:pt x="1941" y="197"/>
                  </a:lnTo>
                  <a:lnTo>
                    <a:pt x="1944" y="190"/>
                  </a:lnTo>
                  <a:lnTo>
                    <a:pt x="1952" y="185"/>
                  </a:lnTo>
                  <a:lnTo>
                    <a:pt x="1965" y="183"/>
                  </a:lnTo>
                  <a:lnTo>
                    <a:pt x="1962" y="178"/>
                  </a:lnTo>
                  <a:lnTo>
                    <a:pt x="1950" y="178"/>
                  </a:lnTo>
                  <a:lnTo>
                    <a:pt x="1954" y="169"/>
                  </a:lnTo>
                  <a:lnTo>
                    <a:pt x="1962" y="162"/>
                  </a:lnTo>
                  <a:lnTo>
                    <a:pt x="1973" y="158"/>
                  </a:lnTo>
                  <a:lnTo>
                    <a:pt x="1986" y="162"/>
                  </a:lnTo>
                  <a:lnTo>
                    <a:pt x="1992" y="155"/>
                  </a:lnTo>
                  <a:lnTo>
                    <a:pt x="1985" y="147"/>
                  </a:lnTo>
                  <a:lnTo>
                    <a:pt x="1973" y="143"/>
                  </a:lnTo>
                  <a:lnTo>
                    <a:pt x="1959" y="143"/>
                  </a:lnTo>
                  <a:lnTo>
                    <a:pt x="1959" y="137"/>
                  </a:lnTo>
                  <a:lnTo>
                    <a:pt x="1972" y="135"/>
                  </a:lnTo>
                  <a:lnTo>
                    <a:pt x="1985" y="138"/>
                  </a:lnTo>
                  <a:lnTo>
                    <a:pt x="1994" y="143"/>
                  </a:lnTo>
                  <a:lnTo>
                    <a:pt x="1997" y="134"/>
                  </a:lnTo>
                  <a:lnTo>
                    <a:pt x="1989" y="131"/>
                  </a:lnTo>
                  <a:lnTo>
                    <a:pt x="1976" y="128"/>
                  </a:lnTo>
                  <a:lnTo>
                    <a:pt x="1976" y="121"/>
                  </a:lnTo>
                  <a:lnTo>
                    <a:pt x="1978" y="112"/>
                  </a:lnTo>
                  <a:lnTo>
                    <a:pt x="1980" y="100"/>
                  </a:lnTo>
                  <a:close/>
                </a:path>
              </a:pathLst>
            </a:custGeom>
            <a:solidFill>
              <a:srgbClr val="000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30440" y="4125960"/>
              <a:ext cx="1063800" cy="1239840"/>
            </a:xfrm>
            <a:custGeom>
              <a:avLst/>
              <a:gdLst/>
              <a:ahLst/>
              <a:rect l="l" t="t" r="r" b="b"/>
              <a:pathLst>
                <a:path w="2011" h="1563">
                  <a:moveTo>
                    <a:pt x="424" y="167"/>
                  </a:moveTo>
                  <a:lnTo>
                    <a:pt x="441" y="162"/>
                  </a:lnTo>
                  <a:lnTo>
                    <a:pt x="455" y="162"/>
                  </a:lnTo>
                  <a:lnTo>
                    <a:pt x="467" y="162"/>
                  </a:lnTo>
                  <a:lnTo>
                    <a:pt x="480" y="159"/>
                  </a:lnTo>
                  <a:lnTo>
                    <a:pt x="501" y="155"/>
                  </a:lnTo>
                  <a:lnTo>
                    <a:pt x="506" y="149"/>
                  </a:lnTo>
                  <a:lnTo>
                    <a:pt x="505" y="142"/>
                  </a:lnTo>
                  <a:lnTo>
                    <a:pt x="518" y="144"/>
                  </a:lnTo>
                  <a:lnTo>
                    <a:pt x="527" y="138"/>
                  </a:lnTo>
                  <a:lnTo>
                    <a:pt x="534" y="130"/>
                  </a:lnTo>
                  <a:lnTo>
                    <a:pt x="540" y="122"/>
                  </a:lnTo>
                  <a:lnTo>
                    <a:pt x="550" y="116"/>
                  </a:lnTo>
                  <a:lnTo>
                    <a:pt x="561" y="110"/>
                  </a:lnTo>
                  <a:lnTo>
                    <a:pt x="569" y="105"/>
                  </a:lnTo>
                  <a:lnTo>
                    <a:pt x="579" y="99"/>
                  </a:lnTo>
                  <a:lnTo>
                    <a:pt x="590" y="93"/>
                  </a:lnTo>
                  <a:lnTo>
                    <a:pt x="601" y="88"/>
                  </a:lnTo>
                  <a:lnTo>
                    <a:pt x="613" y="86"/>
                  </a:lnTo>
                  <a:lnTo>
                    <a:pt x="624" y="91"/>
                  </a:lnTo>
                  <a:lnTo>
                    <a:pt x="628" y="100"/>
                  </a:lnTo>
                  <a:lnTo>
                    <a:pt x="627" y="109"/>
                  </a:lnTo>
                  <a:lnTo>
                    <a:pt x="624" y="119"/>
                  </a:lnTo>
                  <a:lnTo>
                    <a:pt x="622" y="128"/>
                  </a:lnTo>
                  <a:lnTo>
                    <a:pt x="629" y="136"/>
                  </a:lnTo>
                  <a:lnTo>
                    <a:pt x="641" y="141"/>
                  </a:lnTo>
                  <a:lnTo>
                    <a:pt x="653" y="143"/>
                  </a:lnTo>
                  <a:lnTo>
                    <a:pt x="667" y="143"/>
                  </a:lnTo>
                  <a:lnTo>
                    <a:pt x="678" y="147"/>
                  </a:lnTo>
                  <a:lnTo>
                    <a:pt x="687" y="154"/>
                  </a:lnTo>
                  <a:lnTo>
                    <a:pt x="698" y="159"/>
                  </a:lnTo>
                  <a:lnTo>
                    <a:pt x="708" y="165"/>
                  </a:lnTo>
                  <a:lnTo>
                    <a:pt x="720" y="167"/>
                  </a:lnTo>
                  <a:lnTo>
                    <a:pt x="731" y="173"/>
                  </a:lnTo>
                  <a:lnTo>
                    <a:pt x="743" y="162"/>
                  </a:lnTo>
                  <a:lnTo>
                    <a:pt x="744" y="153"/>
                  </a:lnTo>
                  <a:lnTo>
                    <a:pt x="752" y="146"/>
                  </a:lnTo>
                  <a:lnTo>
                    <a:pt x="764" y="141"/>
                  </a:lnTo>
                  <a:lnTo>
                    <a:pt x="772" y="146"/>
                  </a:lnTo>
                  <a:lnTo>
                    <a:pt x="776" y="156"/>
                  </a:lnTo>
                  <a:lnTo>
                    <a:pt x="783" y="152"/>
                  </a:lnTo>
                  <a:lnTo>
                    <a:pt x="794" y="159"/>
                  </a:lnTo>
                  <a:lnTo>
                    <a:pt x="796" y="168"/>
                  </a:lnTo>
                  <a:lnTo>
                    <a:pt x="793" y="178"/>
                  </a:lnTo>
                  <a:lnTo>
                    <a:pt x="796" y="186"/>
                  </a:lnTo>
                  <a:lnTo>
                    <a:pt x="810" y="187"/>
                  </a:lnTo>
                  <a:lnTo>
                    <a:pt x="813" y="178"/>
                  </a:lnTo>
                  <a:lnTo>
                    <a:pt x="814" y="169"/>
                  </a:lnTo>
                  <a:lnTo>
                    <a:pt x="817" y="159"/>
                  </a:lnTo>
                  <a:lnTo>
                    <a:pt x="815" y="150"/>
                  </a:lnTo>
                  <a:lnTo>
                    <a:pt x="817" y="140"/>
                  </a:lnTo>
                  <a:lnTo>
                    <a:pt x="817" y="130"/>
                  </a:lnTo>
                  <a:lnTo>
                    <a:pt x="818" y="120"/>
                  </a:lnTo>
                  <a:lnTo>
                    <a:pt x="821" y="114"/>
                  </a:lnTo>
                  <a:lnTo>
                    <a:pt x="831" y="123"/>
                  </a:lnTo>
                  <a:lnTo>
                    <a:pt x="838" y="131"/>
                  </a:lnTo>
                  <a:lnTo>
                    <a:pt x="845" y="139"/>
                  </a:lnTo>
                  <a:lnTo>
                    <a:pt x="845" y="147"/>
                  </a:lnTo>
                  <a:lnTo>
                    <a:pt x="838" y="159"/>
                  </a:lnTo>
                  <a:lnTo>
                    <a:pt x="839" y="167"/>
                  </a:lnTo>
                  <a:lnTo>
                    <a:pt x="846" y="175"/>
                  </a:lnTo>
                  <a:lnTo>
                    <a:pt x="852" y="184"/>
                  </a:lnTo>
                  <a:lnTo>
                    <a:pt x="854" y="193"/>
                  </a:lnTo>
                  <a:lnTo>
                    <a:pt x="847" y="201"/>
                  </a:lnTo>
                  <a:lnTo>
                    <a:pt x="846" y="210"/>
                  </a:lnTo>
                  <a:lnTo>
                    <a:pt x="839" y="220"/>
                  </a:lnTo>
                  <a:lnTo>
                    <a:pt x="842" y="226"/>
                  </a:lnTo>
                  <a:lnTo>
                    <a:pt x="853" y="230"/>
                  </a:lnTo>
                  <a:lnTo>
                    <a:pt x="866" y="234"/>
                  </a:lnTo>
                  <a:lnTo>
                    <a:pt x="878" y="238"/>
                  </a:lnTo>
                  <a:lnTo>
                    <a:pt x="889" y="242"/>
                  </a:lnTo>
                  <a:lnTo>
                    <a:pt x="902" y="246"/>
                  </a:lnTo>
                  <a:lnTo>
                    <a:pt x="915" y="250"/>
                  </a:lnTo>
                  <a:lnTo>
                    <a:pt x="924" y="248"/>
                  </a:lnTo>
                  <a:lnTo>
                    <a:pt x="934" y="241"/>
                  </a:lnTo>
                  <a:lnTo>
                    <a:pt x="945" y="236"/>
                  </a:lnTo>
                  <a:lnTo>
                    <a:pt x="957" y="232"/>
                  </a:lnTo>
                  <a:lnTo>
                    <a:pt x="968" y="231"/>
                  </a:lnTo>
                  <a:lnTo>
                    <a:pt x="976" y="239"/>
                  </a:lnTo>
                  <a:lnTo>
                    <a:pt x="989" y="237"/>
                  </a:lnTo>
                  <a:lnTo>
                    <a:pt x="1001" y="234"/>
                  </a:lnTo>
                  <a:lnTo>
                    <a:pt x="1010" y="235"/>
                  </a:lnTo>
                  <a:lnTo>
                    <a:pt x="1022" y="237"/>
                  </a:lnTo>
                  <a:lnTo>
                    <a:pt x="1025" y="230"/>
                  </a:lnTo>
                  <a:lnTo>
                    <a:pt x="1021" y="221"/>
                  </a:lnTo>
                  <a:lnTo>
                    <a:pt x="1015" y="212"/>
                  </a:lnTo>
                  <a:lnTo>
                    <a:pt x="1012" y="203"/>
                  </a:lnTo>
                  <a:lnTo>
                    <a:pt x="1018" y="197"/>
                  </a:lnTo>
                  <a:lnTo>
                    <a:pt x="1028" y="191"/>
                  </a:lnTo>
                  <a:lnTo>
                    <a:pt x="1040" y="188"/>
                  </a:lnTo>
                  <a:lnTo>
                    <a:pt x="1052" y="185"/>
                  </a:lnTo>
                  <a:lnTo>
                    <a:pt x="1063" y="179"/>
                  </a:lnTo>
                  <a:lnTo>
                    <a:pt x="1073" y="173"/>
                  </a:lnTo>
                  <a:lnTo>
                    <a:pt x="1084" y="169"/>
                  </a:lnTo>
                  <a:lnTo>
                    <a:pt x="1096" y="165"/>
                  </a:lnTo>
                  <a:lnTo>
                    <a:pt x="1113" y="159"/>
                  </a:lnTo>
                  <a:lnTo>
                    <a:pt x="1120" y="167"/>
                  </a:lnTo>
                  <a:lnTo>
                    <a:pt x="1126" y="175"/>
                  </a:lnTo>
                  <a:lnTo>
                    <a:pt x="1133" y="184"/>
                  </a:lnTo>
                  <a:lnTo>
                    <a:pt x="1138" y="192"/>
                  </a:lnTo>
                  <a:lnTo>
                    <a:pt x="1142" y="201"/>
                  </a:lnTo>
                  <a:lnTo>
                    <a:pt x="1145" y="210"/>
                  </a:lnTo>
                  <a:lnTo>
                    <a:pt x="1155" y="216"/>
                  </a:lnTo>
                  <a:lnTo>
                    <a:pt x="1165" y="223"/>
                  </a:lnTo>
                  <a:lnTo>
                    <a:pt x="1176" y="223"/>
                  </a:lnTo>
                  <a:lnTo>
                    <a:pt x="1186" y="224"/>
                  </a:lnTo>
                  <a:lnTo>
                    <a:pt x="1194" y="232"/>
                  </a:lnTo>
                  <a:lnTo>
                    <a:pt x="1204" y="239"/>
                  </a:lnTo>
                  <a:lnTo>
                    <a:pt x="1217" y="235"/>
                  </a:lnTo>
                  <a:lnTo>
                    <a:pt x="1228" y="236"/>
                  </a:lnTo>
                  <a:lnTo>
                    <a:pt x="1235" y="244"/>
                  </a:lnTo>
                  <a:lnTo>
                    <a:pt x="1235" y="251"/>
                  </a:lnTo>
                  <a:lnTo>
                    <a:pt x="1231" y="255"/>
                  </a:lnTo>
                  <a:lnTo>
                    <a:pt x="1232" y="265"/>
                  </a:lnTo>
                  <a:lnTo>
                    <a:pt x="1239" y="273"/>
                  </a:lnTo>
                  <a:lnTo>
                    <a:pt x="1257" y="284"/>
                  </a:lnTo>
                  <a:lnTo>
                    <a:pt x="1244" y="287"/>
                  </a:lnTo>
                  <a:lnTo>
                    <a:pt x="1243" y="296"/>
                  </a:lnTo>
                  <a:lnTo>
                    <a:pt x="1246" y="305"/>
                  </a:lnTo>
                  <a:lnTo>
                    <a:pt x="1254" y="311"/>
                  </a:lnTo>
                  <a:lnTo>
                    <a:pt x="1260" y="317"/>
                  </a:lnTo>
                  <a:lnTo>
                    <a:pt x="1257" y="322"/>
                  </a:lnTo>
                  <a:lnTo>
                    <a:pt x="1257" y="327"/>
                  </a:lnTo>
                  <a:lnTo>
                    <a:pt x="1260" y="334"/>
                  </a:lnTo>
                  <a:lnTo>
                    <a:pt x="1258" y="344"/>
                  </a:lnTo>
                  <a:lnTo>
                    <a:pt x="1265" y="349"/>
                  </a:lnTo>
                  <a:lnTo>
                    <a:pt x="1271" y="355"/>
                  </a:lnTo>
                  <a:lnTo>
                    <a:pt x="1277" y="358"/>
                  </a:lnTo>
                  <a:lnTo>
                    <a:pt x="1289" y="355"/>
                  </a:lnTo>
                  <a:lnTo>
                    <a:pt x="1302" y="354"/>
                  </a:lnTo>
                  <a:lnTo>
                    <a:pt x="1314" y="352"/>
                  </a:lnTo>
                  <a:lnTo>
                    <a:pt x="1326" y="347"/>
                  </a:lnTo>
                  <a:lnTo>
                    <a:pt x="1338" y="347"/>
                  </a:lnTo>
                  <a:lnTo>
                    <a:pt x="1351" y="345"/>
                  </a:lnTo>
                  <a:lnTo>
                    <a:pt x="1363" y="341"/>
                  </a:lnTo>
                  <a:lnTo>
                    <a:pt x="1373" y="335"/>
                  </a:lnTo>
                  <a:lnTo>
                    <a:pt x="1381" y="328"/>
                  </a:lnTo>
                  <a:lnTo>
                    <a:pt x="1388" y="320"/>
                  </a:lnTo>
                  <a:lnTo>
                    <a:pt x="1398" y="313"/>
                  </a:lnTo>
                  <a:lnTo>
                    <a:pt x="1414" y="302"/>
                  </a:lnTo>
                  <a:lnTo>
                    <a:pt x="1429" y="292"/>
                  </a:lnTo>
                  <a:lnTo>
                    <a:pt x="1440" y="290"/>
                  </a:lnTo>
                  <a:lnTo>
                    <a:pt x="1450" y="294"/>
                  </a:lnTo>
                  <a:lnTo>
                    <a:pt x="1454" y="287"/>
                  </a:lnTo>
                  <a:lnTo>
                    <a:pt x="1460" y="281"/>
                  </a:lnTo>
                  <a:lnTo>
                    <a:pt x="1458" y="273"/>
                  </a:lnTo>
                  <a:lnTo>
                    <a:pt x="1453" y="264"/>
                  </a:lnTo>
                  <a:lnTo>
                    <a:pt x="1449" y="255"/>
                  </a:lnTo>
                  <a:lnTo>
                    <a:pt x="1444" y="246"/>
                  </a:lnTo>
                  <a:lnTo>
                    <a:pt x="1439" y="238"/>
                  </a:lnTo>
                  <a:lnTo>
                    <a:pt x="1432" y="230"/>
                  </a:lnTo>
                  <a:lnTo>
                    <a:pt x="1425" y="221"/>
                  </a:lnTo>
                  <a:lnTo>
                    <a:pt x="1432" y="215"/>
                  </a:lnTo>
                  <a:lnTo>
                    <a:pt x="1444" y="211"/>
                  </a:lnTo>
                  <a:lnTo>
                    <a:pt x="1457" y="207"/>
                  </a:lnTo>
                  <a:lnTo>
                    <a:pt x="1467" y="209"/>
                  </a:lnTo>
                  <a:lnTo>
                    <a:pt x="1479" y="208"/>
                  </a:lnTo>
                  <a:lnTo>
                    <a:pt x="1488" y="202"/>
                  </a:lnTo>
                  <a:lnTo>
                    <a:pt x="1493" y="193"/>
                  </a:lnTo>
                  <a:lnTo>
                    <a:pt x="1507" y="194"/>
                  </a:lnTo>
                  <a:lnTo>
                    <a:pt x="1520" y="194"/>
                  </a:lnTo>
                  <a:lnTo>
                    <a:pt x="1532" y="192"/>
                  </a:lnTo>
                  <a:lnTo>
                    <a:pt x="1545" y="192"/>
                  </a:lnTo>
                  <a:lnTo>
                    <a:pt x="1559" y="192"/>
                  </a:lnTo>
                  <a:lnTo>
                    <a:pt x="1570" y="190"/>
                  </a:lnTo>
                  <a:lnTo>
                    <a:pt x="1584" y="190"/>
                  </a:lnTo>
                  <a:lnTo>
                    <a:pt x="1591" y="187"/>
                  </a:lnTo>
                  <a:lnTo>
                    <a:pt x="1587" y="177"/>
                  </a:lnTo>
                  <a:lnTo>
                    <a:pt x="1588" y="168"/>
                  </a:lnTo>
                  <a:lnTo>
                    <a:pt x="1584" y="159"/>
                  </a:lnTo>
                  <a:lnTo>
                    <a:pt x="1598" y="147"/>
                  </a:lnTo>
                  <a:lnTo>
                    <a:pt x="1609" y="142"/>
                  </a:lnTo>
                  <a:lnTo>
                    <a:pt x="1621" y="138"/>
                  </a:lnTo>
                  <a:lnTo>
                    <a:pt x="1633" y="134"/>
                  </a:lnTo>
                  <a:lnTo>
                    <a:pt x="1644" y="130"/>
                  </a:lnTo>
                  <a:lnTo>
                    <a:pt x="1655" y="125"/>
                  </a:lnTo>
                  <a:lnTo>
                    <a:pt x="1665" y="119"/>
                  </a:lnTo>
                  <a:lnTo>
                    <a:pt x="1675" y="113"/>
                  </a:lnTo>
                  <a:lnTo>
                    <a:pt x="1685" y="106"/>
                  </a:lnTo>
                  <a:lnTo>
                    <a:pt x="1695" y="100"/>
                  </a:lnTo>
                  <a:lnTo>
                    <a:pt x="1704" y="94"/>
                  </a:lnTo>
                  <a:lnTo>
                    <a:pt x="1714" y="88"/>
                  </a:lnTo>
                  <a:lnTo>
                    <a:pt x="1723" y="80"/>
                  </a:lnTo>
                  <a:lnTo>
                    <a:pt x="1730" y="72"/>
                  </a:lnTo>
                  <a:lnTo>
                    <a:pt x="1732" y="62"/>
                  </a:lnTo>
                  <a:lnTo>
                    <a:pt x="1739" y="56"/>
                  </a:lnTo>
                  <a:lnTo>
                    <a:pt x="1745" y="49"/>
                  </a:lnTo>
                  <a:lnTo>
                    <a:pt x="1751" y="45"/>
                  </a:lnTo>
                  <a:lnTo>
                    <a:pt x="1739" y="41"/>
                  </a:lnTo>
                  <a:lnTo>
                    <a:pt x="1730" y="34"/>
                  </a:lnTo>
                  <a:lnTo>
                    <a:pt x="1720" y="26"/>
                  </a:lnTo>
                  <a:lnTo>
                    <a:pt x="1721" y="20"/>
                  </a:lnTo>
                  <a:lnTo>
                    <a:pt x="1735" y="17"/>
                  </a:lnTo>
                  <a:lnTo>
                    <a:pt x="1748" y="14"/>
                  </a:lnTo>
                  <a:lnTo>
                    <a:pt x="1760" y="10"/>
                  </a:lnTo>
                  <a:lnTo>
                    <a:pt x="1773" y="7"/>
                  </a:lnTo>
                  <a:lnTo>
                    <a:pt x="1780" y="11"/>
                  </a:lnTo>
                  <a:lnTo>
                    <a:pt x="1794" y="9"/>
                  </a:lnTo>
                  <a:lnTo>
                    <a:pt x="1806" y="7"/>
                  </a:lnTo>
                  <a:lnTo>
                    <a:pt x="1808" y="0"/>
                  </a:lnTo>
                  <a:lnTo>
                    <a:pt x="1818" y="3"/>
                  </a:lnTo>
                  <a:lnTo>
                    <a:pt x="1830" y="2"/>
                  </a:lnTo>
                  <a:lnTo>
                    <a:pt x="1834" y="8"/>
                  </a:lnTo>
                  <a:lnTo>
                    <a:pt x="1848" y="6"/>
                  </a:lnTo>
                  <a:lnTo>
                    <a:pt x="1848" y="15"/>
                  </a:lnTo>
                  <a:lnTo>
                    <a:pt x="1847" y="25"/>
                  </a:lnTo>
                  <a:lnTo>
                    <a:pt x="1847" y="34"/>
                  </a:lnTo>
                  <a:lnTo>
                    <a:pt x="1847" y="43"/>
                  </a:lnTo>
                  <a:lnTo>
                    <a:pt x="1847" y="53"/>
                  </a:lnTo>
                  <a:lnTo>
                    <a:pt x="1847" y="62"/>
                  </a:lnTo>
                  <a:lnTo>
                    <a:pt x="1847" y="71"/>
                  </a:lnTo>
                  <a:lnTo>
                    <a:pt x="1846" y="81"/>
                  </a:lnTo>
                  <a:lnTo>
                    <a:pt x="1851" y="90"/>
                  </a:lnTo>
                  <a:lnTo>
                    <a:pt x="1858" y="98"/>
                  </a:lnTo>
                  <a:lnTo>
                    <a:pt x="1867" y="105"/>
                  </a:lnTo>
                  <a:lnTo>
                    <a:pt x="1876" y="112"/>
                  </a:lnTo>
                  <a:lnTo>
                    <a:pt x="1886" y="118"/>
                  </a:lnTo>
                  <a:lnTo>
                    <a:pt x="1897" y="122"/>
                  </a:lnTo>
                  <a:lnTo>
                    <a:pt x="1900" y="129"/>
                  </a:lnTo>
                  <a:lnTo>
                    <a:pt x="1907" y="137"/>
                  </a:lnTo>
                  <a:lnTo>
                    <a:pt x="1911" y="146"/>
                  </a:lnTo>
                  <a:lnTo>
                    <a:pt x="1924" y="159"/>
                  </a:lnTo>
                  <a:lnTo>
                    <a:pt x="1929" y="167"/>
                  </a:lnTo>
                  <a:lnTo>
                    <a:pt x="1936" y="175"/>
                  </a:lnTo>
                  <a:lnTo>
                    <a:pt x="1945" y="183"/>
                  </a:lnTo>
                  <a:lnTo>
                    <a:pt x="1946" y="191"/>
                  </a:lnTo>
                  <a:lnTo>
                    <a:pt x="1946" y="198"/>
                  </a:lnTo>
                  <a:lnTo>
                    <a:pt x="1950" y="205"/>
                  </a:lnTo>
                  <a:lnTo>
                    <a:pt x="1950" y="214"/>
                  </a:lnTo>
                  <a:lnTo>
                    <a:pt x="1953" y="223"/>
                  </a:lnTo>
                  <a:lnTo>
                    <a:pt x="1959" y="229"/>
                  </a:lnTo>
                  <a:lnTo>
                    <a:pt x="1960" y="239"/>
                  </a:lnTo>
                  <a:lnTo>
                    <a:pt x="1963" y="248"/>
                  </a:lnTo>
                  <a:lnTo>
                    <a:pt x="1967" y="257"/>
                  </a:lnTo>
                  <a:lnTo>
                    <a:pt x="1971" y="265"/>
                  </a:lnTo>
                  <a:lnTo>
                    <a:pt x="1977" y="274"/>
                  </a:lnTo>
                  <a:lnTo>
                    <a:pt x="1983" y="282"/>
                  </a:lnTo>
                  <a:lnTo>
                    <a:pt x="1990" y="290"/>
                  </a:lnTo>
                  <a:lnTo>
                    <a:pt x="1997" y="298"/>
                  </a:lnTo>
                  <a:lnTo>
                    <a:pt x="2004" y="306"/>
                  </a:lnTo>
                  <a:lnTo>
                    <a:pt x="2009" y="315"/>
                  </a:lnTo>
                  <a:lnTo>
                    <a:pt x="2011" y="324"/>
                  </a:lnTo>
                  <a:lnTo>
                    <a:pt x="2011" y="333"/>
                  </a:lnTo>
                  <a:lnTo>
                    <a:pt x="2008" y="342"/>
                  </a:lnTo>
                  <a:lnTo>
                    <a:pt x="2005" y="351"/>
                  </a:lnTo>
                  <a:lnTo>
                    <a:pt x="1998" y="359"/>
                  </a:lnTo>
                  <a:lnTo>
                    <a:pt x="1990" y="366"/>
                  </a:lnTo>
                  <a:lnTo>
                    <a:pt x="1981" y="374"/>
                  </a:lnTo>
                  <a:lnTo>
                    <a:pt x="1974" y="381"/>
                  </a:lnTo>
                  <a:lnTo>
                    <a:pt x="1967" y="389"/>
                  </a:lnTo>
                  <a:lnTo>
                    <a:pt x="1960" y="397"/>
                  </a:lnTo>
                  <a:lnTo>
                    <a:pt x="1953" y="405"/>
                  </a:lnTo>
                  <a:lnTo>
                    <a:pt x="1945" y="412"/>
                  </a:lnTo>
                  <a:lnTo>
                    <a:pt x="1936" y="419"/>
                  </a:lnTo>
                  <a:lnTo>
                    <a:pt x="1928" y="426"/>
                  </a:lnTo>
                  <a:lnTo>
                    <a:pt x="1920" y="434"/>
                  </a:lnTo>
                  <a:lnTo>
                    <a:pt x="1910" y="434"/>
                  </a:lnTo>
                  <a:lnTo>
                    <a:pt x="1899" y="435"/>
                  </a:lnTo>
                  <a:lnTo>
                    <a:pt x="1888" y="441"/>
                  </a:lnTo>
                  <a:lnTo>
                    <a:pt x="1876" y="446"/>
                  </a:lnTo>
                  <a:lnTo>
                    <a:pt x="1865" y="451"/>
                  </a:lnTo>
                  <a:lnTo>
                    <a:pt x="1854" y="455"/>
                  </a:lnTo>
                  <a:lnTo>
                    <a:pt x="1841" y="457"/>
                  </a:lnTo>
                  <a:lnTo>
                    <a:pt x="1829" y="458"/>
                  </a:lnTo>
                  <a:lnTo>
                    <a:pt x="1819" y="459"/>
                  </a:lnTo>
                  <a:lnTo>
                    <a:pt x="1813" y="464"/>
                  </a:lnTo>
                  <a:lnTo>
                    <a:pt x="1801" y="462"/>
                  </a:lnTo>
                  <a:lnTo>
                    <a:pt x="1787" y="461"/>
                  </a:lnTo>
                  <a:lnTo>
                    <a:pt x="1774" y="462"/>
                  </a:lnTo>
                  <a:lnTo>
                    <a:pt x="1762" y="465"/>
                  </a:lnTo>
                  <a:lnTo>
                    <a:pt x="1753" y="472"/>
                  </a:lnTo>
                  <a:lnTo>
                    <a:pt x="1746" y="480"/>
                  </a:lnTo>
                  <a:lnTo>
                    <a:pt x="1739" y="488"/>
                  </a:lnTo>
                  <a:lnTo>
                    <a:pt x="1732" y="496"/>
                  </a:lnTo>
                  <a:lnTo>
                    <a:pt x="1724" y="503"/>
                  </a:lnTo>
                  <a:lnTo>
                    <a:pt x="1718" y="511"/>
                  </a:lnTo>
                  <a:lnTo>
                    <a:pt x="1716" y="521"/>
                  </a:lnTo>
                  <a:lnTo>
                    <a:pt x="1716" y="530"/>
                  </a:lnTo>
                  <a:lnTo>
                    <a:pt x="1718" y="539"/>
                  </a:lnTo>
                  <a:lnTo>
                    <a:pt x="1724" y="548"/>
                  </a:lnTo>
                  <a:lnTo>
                    <a:pt x="1731" y="556"/>
                  </a:lnTo>
                  <a:lnTo>
                    <a:pt x="1739" y="564"/>
                  </a:lnTo>
                  <a:lnTo>
                    <a:pt x="1746" y="571"/>
                  </a:lnTo>
                  <a:lnTo>
                    <a:pt x="1755" y="578"/>
                  </a:lnTo>
                  <a:lnTo>
                    <a:pt x="1763" y="586"/>
                  </a:lnTo>
                  <a:lnTo>
                    <a:pt x="1770" y="593"/>
                  </a:lnTo>
                  <a:lnTo>
                    <a:pt x="1779" y="601"/>
                  </a:lnTo>
                  <a:lnTo>
                    <a:pt x="1783" y="610"/>
                  </a:lnTo>
                  <a:lnTo>
                    <a:pt x="1787" y="619"/>
                  </a:lnTo>
                  <a:lnTo>
                    <a:pt x="1783" y="627"/>
                  </a:lnTo>
                  <a:lnTo>
                    <a:pt x="1788" y="634"/>
                  </a:lnTo>
                  <a:lnTo>
                    <a:pt x="1787" y="644"/>
                  </a:lnTo>
                  <a:lnTo>
                    <a:pt x="1791" y="649"/>
                  </a:lnTo>
                  <a:lnTo>
                    <a:pt x="1795" y="654"/>
                  </a:lnTo>
                  <a:lnTo>
                    <a:pt x="1795" y="664"/>
                  </a:lnTo>
                  <a:lnTo>
                    <a:pt x="1795" y="673"/>
                  </a:lnTo>
                  <a:lnTo>
                    <a:pt x="1794" y="680"/>
                  </a:lnTo>
                  <a:lnTo>
                    <a:pt x="1788" y="688"/>
                  </a:lnTo>
                  <a:lnTo>
                    <a:pt x="1788" y="698"/>
                  </a:lnTo>
                  <a:lnTo>
                    <a:pt x="1790" y="707"/>
                  </a:lnTo>
                  <a:lnTo>
                    <a:pt x="1792" y="716"/>
                  </a:lnTo>
                  <a:lnTo>
                    <a:pt x="1798" y="725"/>
                  </a:lnTo>
                  <a:lnTo>
                    <a:pt x="1804" y="733"/>
                  </a:lnTo>
                  <a:lnTo>
                    <a:pt x="1811" y="741"/>
                  </a:lnTo>
                  <a:lnTo>
                    <a:pt x="1822" y="757"/>
                  </a:lnTo>
                  <a:lnTo>
                    <a:pt x="1826" y="766"/>
                  </a:lnTo>
                  <a:lnTo>
                    <a:pt x="1830" y="775"/>
                  </a:lnTo>
                  <a:lnTo>
                    <a:pt x="1834" y="783"/>
                  </a:lnTo>
                  <a:lnTo>
                    <a:pt x="1839" y="792"/>
                  </a:lnTo>
                  <a:lnTo>
                    <a:pt x="1841" y="801"/>
                  </a:lnTo>
                  <a:lnTo>
                    <a:pt x="1843" y="811"/>
                  </a:lnTo>
                  <a:lnTo>
                    <a:pt x="1843" y="820"/>
                  </a:lnTo>
                  <a:lnTo>
                    <a:pt x="1841" y="829"/>
                  </a:lnTo>
                  <a:lnTo>
                    <a:pt x="1840" y="839"/>
                  </a:lnTo>
                  <a:lnTo>
                    <a:pt x="1839" y="848"/>
                  </a:lnTo>
                  <a:lnTo>
                    <a:pt x="1834" y="857"/>
                  </a:lnTo>
                  <a:lnTo>
                    <a:pt x="1829" y="865"/>
                  </a:lnTo>
                  <a:lnTo>
                    <a:pt x="1825" y="874"/>
                  </a:lnTo>
                  <a:lnTo>
                    <a:pt x="1818" y="882"/>
                  </a:lnTo>
                  <a:lnTo>
                    <a:pt x="1811" y="890"/>
                  </a:lnTo>
                  <a:lnTo>
                    <a:pt x="1804" y="898"/>
                  </a:lnTo>
                  <a:lnTo>
                    <a:pt x="1798" y="906"/>
                  </a:lnTo>
                  <a:lnTo>
                    <a:pt x="1791" y="914"/>
                  </a:lnTo>
                  <a:lnTo>
                    <a:pt x="1784" y="921"/>
                  </a:lnTo>
                  <a:lnTo>
                    <a:pt x="1777" y="929"/>
                  </a:lnTo>
                  <a:lnTo>
                    <a:pt x="1770" y="937"/>
                  </a:lnTo>
                  <a:lnTo>
                    <a:pt x="1767" y="946"/>
                  </a:lnTo>
                  <a:lnTo>
                    <a:pt x="1766" y="956"/>
                  </a:lnTo>
                  <a:lnTo>
                    <a:pt x="1766" y="965"/>
                  </a:lnTo>
                  <a:lnTo>
                    <a:pt x="1769" y="974"/>
                  </a:lnTo>
                  <a:lnTo>
                    <a:pt x="1770" y="983"/>
                  </a:lnTo>
                  <a:lnTo>
                    <a:pt x="1773" y="993"/>
                  </a:lnTo>
                  <a:lnTo>
                    <a:pt x="1777" y="1003"/>
                  </a:lnTo>
                  <a:lnTo>
                    <a:pt x="1780" y="1012"/>
                  </a:lnTo>
                  <a:lnTo>
                    <a:pt x="1781" y="1021"/>
                  </a:lnTo>
                  <a:lnTo>
                    <a:pt x="1783" y="1030"/>
                  </a:lnTo>
                  <a:lnTo>
                    <a:pt x="1784" y="1039"/>
                  </a:lnTo>
                  <a:lnTo>
                    <a:pt x="1785" y="1049"/>
                  </a:lnTo>
                  <a:lnTo>
                    <a:pt x="1785" y="1058"/>
                  </a:lnTo>
                  <a:lnTo>
                    <a:pt x="1787" y="1067"/>
                  </a:lnTo>
                  <a:lnTo>
                    <a:pt x="1788" y="1077"/>
                  </a:lnTo>
                  <a:lnTo>
                    <a:pt x="1791" y="1086"/>
                  </a:lnTo>
                  <a:lnTo>
                    <a:pt x="1794" y="1095"/>
                  </a:lnTo>
                  <a:lnTo>
                    <a:pt x="1802" y="1102"/>
                  </a:lnTo>
                  <a:lnTo>
                    <a:pt x="1809" y="1110"/>
                  </a:lnTo>
                  <a:lnTo>
                    <a:pt x="1816" y="1117"/>
                  </a:lnTo>
                  <a:lnTo>
                    <a:pt x="1825" y="1125"/>
                  </a:lnTo>
                  <a:lnTo>
                    <a:pt x="1833" y="1132"/>
                  </a:lnTo>
                  <a:lnTo>
                    <a:pt x="1840" y="1140"/>
                  </a:lnTo>
                  <a:lnTo>
                    <a:pt x="1841" y="1149"/>
                  </a:lnTo>
                  <a:lnTo>
                    <a:pt x="1839" y="1159"/>
                  </a:lnTo>
                  <a:lnTo>
                    <a:pt x="1836" y="1168"/>
                  </a:lnTo>
                  <a:lnTo>
                    <a:pt x="1833" y="1177"/>
                  </a:lnTo>
                  <a:lnTo>
                    <a:pt x="1830" y="1186"/>
                  </a:lnTo>
                  <a:lnTo>
                    <a:pt x="1826" y="1195"/>
                  </a:lnTo>
                  <a:lnTo>
                    <a:pt x="1823" y="1204"/>
                  </a:lnTo>
                  <a:lnTo>
                    <a:pt x="1822" y="1214"/>
                  </a:lnTo>
                  <a:lnTo>
                    <a:pt x="1815" y="1219"/>
                  </a:lnTo>
                  <a:lnTo>
                    <a:pt x="1813" y="1228"/>
                  </a:lnTo>
                  <a:lnTo>
                    <a:pt x="1812" y="1237"/>
                  </a:lnTo>
                  <a:lnTo>
                    <a:pt x="1812" y="1247"/>
                  </a:lnTo>
                  <a:lnTo>
                    <a:pt x="1805" y="1253"/>
                  </a:lnTo>
                  <a:lnTo>
                    <a:pt x="1792" y="1253"/>
                  </a:lnTo>
                  <a:lnTo>
                    <a:pt x="1780" y="1252"/>
                  </a:lnTo>
                  <a:lnTo>
                    <a:pt x="1769" y="1246"/>
                  </a:lnTo>
                  <a:lnTo>
                    <a:pt x="1760" y="1239"/>
                  </a:lnTo>
                  <a:lnTo>
                    <a:pt x="1751" y="1232"/>
                  </a:lnTo>
                  <a:lnTo>
                    <a:pt x="1741" y="1228"/>
                  </a:lnTo>
                  <a:lnTo>
                    <a:pt x="1728" y="1230"/>
                  </a:lnTo>
                  <a:lnTo>
                    <a:pt x="1724" y="1238"/>
                  </a:lnTo>
                  <a:lnTo>
                    <a:pt x="1727" y="1247"/>
                  </a:lnTo>
                  <a:lnTo>
                    <a:pt x="1732" y="1256"/>
                  </a:lnTo>
                  <a:lnTo>
                    <a:pt x="1738" y="1264"/>
                  </a:lnTo>
                  <a:lnTo>
                    <a:pt x="1746" y="1272"/>
                  </a:lnTo>
                  <a:lnTo>
                    <a:pt x="1746" y="1282"/>
                  </a:lnTo>
                  <a:lnTo>
                    <a:pt x="1742" y="1291"/>
                  </a:lnTo>
                  <a:lnTo>
                    <a:pt x="1734" y="1299"/>
                  </a:lnTo>
                  <a:lnTo>
                    <a:pt x="1724" y="1303"/>
                  </a:lnTo>
                  <a:lnTo>
                    <a:pt x="1710" y="1299"/>
                  </a:lnTo>
                  <a:lnTo>
                    <a:pt x="1699" y="1301"/>
                  </a:lnTo>
                  <a:lnTo>
                    <a:pt x="1690" y="1308"/>
                  </a:lnTo>
                  <a:lnTo>
                    <a:pt x="1683" y="1316"/>
                  </a:lnTo>
                  <a:lnTo>
                    <a:pt x="1675" y="1323"/>
                  </a:lnTo>
                  <a:lnTo>
                    <a:pt x="1662" y="1327"/>
                  </a:lnTo>
                  <a:lnTo>
                    <a:pt x="1653" y="1332"/>
                  </a:lnTo>
                  <a:lnTo>
                    <a:pt x="1648" y="1341"/>
                  </a:lnTo>
                  <a:lnTo>
                    <a:pt x="1642" y="1354"/>
                  </a:lnTo>
                  <a:lnTo>
                    <a:pt x="1643" y="1362"/>
                  </a:lnTo>
                  <a:lnTo>
                    <a:pt x="1654" y="1368"/>
                  </a:lnTo>
                  <a:lnTo>
                    <a:pt x="1665" y="1367"/>
                  </a:lnTo>
                  <a:lnTo>
                    <a:pt x="1676" y="1361"/>
                  </a:lnTo>
                  <a:lnTo>
                    <a:pt x="1688" y="1355"/>
                  </a:lnTo>
                  <a:lnTo>
                    <a:pt x="1697" y="1348"/>
                  </a:lnTo>
                  <a:lnTo>
                    <a:pt x="1709" y="1344"/>
                  </a:lnTo>
                  <a:lnTo>
                    <a:pt x="1717" y="1337"/>
                  </a:lnTo>
                  <a:lnTo>
                    <a:pt x="1725" y="1330"/>
                  </a:lnTo>
                  <a:lnTo>
                    <a:pt x="1737" y="1325"/>
                  </a:lnTo>
                  <a:lnTo>
                    <a:pt x="1739" y="1333"/>
                  </a:lnTo>
                  <a:lnTo>
                    <a:pt x="1738" y="1343"/>
                  </a:lnTo>
                  <a:lnTo>
                    <a:pt x="1728" y="1354"/>
                  </a:lnTo>
                  <a:lnTo>
                    <a:pt x="1727" y="1364"/>
                  </a:lnTo>
                  <a:lnTo>
                    <a:pt x="1727" y="1373"/>
                  </a:lnTo>
                  <a:lnTo>
                    <a:pt x="1735" y="1380"/>
                  </a:lnTo>
                  <a:lnTo>
                    <a:pt x="1732" y="1388"/>
                  </a:lnTo>
                  <a:lnTo>
                    <a:pt x="1720" y="1389"/>
                  </a:lnTo>
                  <a:lnTo>
                    <a:pt x="1706" y="1388"/>
                  </a:lnTo>
                  <a:lnTo>
                    <a:pt x="1695" y="1392"/>
                  </a:lnTo>
                  <a:lnTo>
                    <a:pt x="1692" y="1401"/>
                  </a:lnTo>
                  <a:lnTo>
                    <a:pt x="1685" y="1407"/>
                  </a:lnTo>
                  <a:lnTo>
                    <a:pt x="1681" y="1413"/>
                  </a:lnTo>
                  <a:lnTo>
                    <a:pt x="1678" y="1423"/>
                  </a:lnTo>
                  <a:lnTo>
                    <a:pt x="1674" y="1432"/>
                  </a:lnTo>
                  <a:lnTo>
                    <a:pt x="1669" y="1440"/>
                  </a:lnTo>
                  <a:lnTo>
                    <a:pt x="1667" y="1450"/>
                  </a:lnTo>
                  <a:lnTo>
                    <a:pt x="1672" y="1456"/>
                  </a:lnTo>
                  <a:lnTo>
                    <a:pt x="1672" y="1466"/>
                  </a:lnTo>
                  <a:lnTo>
                    <a:pt x="1672" y="1476"/>
                  </a:lnTo>
                  <a:lnTo>
                    <a:pt x="1671" y="1485"/>
                  </a:lnTo>
                  <a:lnTo>
                    <a:pt x="1668" y="1494"/>
                  </a:lnTo>
                  <a:lnTo>
                    <a:pt x="1661" y="1502"/>
                  </a:lnTo>
                  <a:lnTo>
                    <a:pt x="1653" y="1509"/>
                  </a:lnTo>
                  <a:lnTo>
                    <a:pt x="1644" y="1517"/>
                  </a:lnTo>
                  <a:lnTo>
                    <a:pt x="1636" y="1524"/>
                  </a:lnTo>
                  <a:lnTo>
                    <a:pt x="1629" y="1531"/>
                  </a:lnTo>
                  <a:lnTo>
                    <a:pt x="1622" y="1539"/>
                  </a:lnTo>
                  <a:lnTo>
                    <a:pt x="1614" y="1547"/>
                  </a:lnTo>
                  <a:lnTo>
                    <a:pt x="1628" y="1562"/>
                  </a:lnTo>
                  <a:lnTo>
                    <a:pt x="1604" y="1562"/>
                  </a:lnTo>
                  <a:lnTo>
                    <a:pt x="1591" y="1562"/>
                  </a:lnTo>
                  <a:lnTo>
                    <a:pt x="1577" y="1562"/>
                  </a:lnTo>
                  <a:lnTo>
                    <a:pt x="1565" y="1563"/>
                  </a:lnTo>
                  <a:lnTo>
                    <a:pt x="1552" y="1563"/>
                  </a:lnTo>
                  <a:lnTo>
                    <a:pt x="1546" y="1554"/>
                  </a:lnTo>
                  <a:lnTo>
                    <a:pt x="1535" y="1550"/>
                  </a:lnTo>
                  <a:lnTo>
                    <a:pt x="1523" y="1552"/>
                  </a:lnTo>
                  <a:lnTo>
                    <a:pt x="1510" y="1555"/>
                  </a:lnTo>
                  <a:lnTo>
                    <a:pt x="1499" y="1555"/>
                  </a:lnTo>
                  <a:lnTo>
                    <a:pt x="1488" y="1558"/>
                  </a:lnTo>
                  <a:lnTo>
                    <a:pt x="1478" y="1558"/>
                  </a:lnTo>
                  <a:lnTo>
                    <a:pt x="1471" y="1549"/>
                  </a:lnTo>
                  <a:lnTo>
                    <a:pt x="1461" y="1543"/>
                  </a:lnTo>
                  <a:lnTo>
                    <a:pt x="1451" y="1536"/>
                  </a:lnTo>
                  <a:lnTo>
                    <a:pt x="1442" y="1536"/>
                  </a:lnTo>
                  <a:lnTo>
                    <a:pt x="1432" y="1540"/>
                  </a:lnTo>
                  <a:lnTo>
                    <a:pt x="1425" y="1532"/>
                  </a:lnTo>
                  <a:lnTo>
                    <a:pt x="1414" y="1528"/>
                  </a:lnTo>
                  <a:lnTo>
                    <a:pt x="1402" y="1523"/>
                  </a:lnTo>
                  <a:lnTo>
                    <a:pt x="1391" y="1518"/>
                  </a:lnTo>
                  <a:lnTo>
                    <a:pt x="1381" y="1514"/>
                  </a:lnTo>
                  <a:lnTo>
                    <a:pt x="1372" y="1521"/>
                  </a:lnTo>
                  <a:lnTo>
                    <a:pt x="1365" y="1526"/>
                  </a:lnTo>
                  <a:lnTo>
                    <a:pt x="1362" y="1516"/>
                  </a:lnTo>
                  <a:lnTo>
                    <a:pt x="1356" y="1507"/>
                  </a:lnTo>
                  <a:lnTo>
                    <a:pt x="1351" y="1499"/>
                  </a:lnTo>
                  <a:lnTo>
                    <a:pt x="1340" y="1494"/>
                  </a:lnTo>
                  <a:lnTo>
                    <a:pt x="1331" y="1487"/>
                  </a:lnTo>
                  <a:lnTo>
                    <a:pt x="1323" y="1480"/>
                  </a:lnTo>
                  <a:lnTo>
                    <a:pt x="1312" y="1474"/>
                  </a:lnTo>
                  <a:lnTo>
                    <a:pt x="1305" y="1467"/>
                  </a:lnTo>
                  <a:lnTo>
                    <a:pt x="1298" y="1459"/>
                  </a:lnTo>
                  <a:lnTo>
                    <a:pt x="1289" y="1451"/>
                  </a:lnTo>
                  <a:lnTo>
                    <a:pt x="1282" y="1443"/>
                  </a:lnTo>
                  <a:lnTo>
                    <a:pt x="1275" y="1435"/>
                  </a:lnTo>
                  <a:lnTo>
                    <a:pt x="1265" y="1429"/>
                  </a:lnTo>
                  <a:lnTo>
                    <a:pt x="1254" y="1424"/>
                  </a:lnTo>
                  <a:lnTo>
                    <a:pt x="1243" y="1419"/>
                  </a:lnTo>
                  <a:lnTo>
                    <a:pt x="1232" y="1414"/>
                  </a:lnTo>
                  <a:lnTo>
                    <a:pt x="1225" y="1407"/>
                  </a:lnTo>
                  <a:lnTo>
                    <a:pt x="1225" y="1397"/>
                  </a:lnTo>
                  <a:lnTo>
                    <a:pt x="1219" y="1389"/>
                  </a:lnTo>
                  <a:lnTo>
                    <a:pt x="1207" y="1392"/>
                  </a:lnTo>
                  <a:lnTo>
                    <a:pt x="1198" y="1399"/>
                  </a:lnTo>
                  <a:lnTo>
                    <a:pt x="1191" y="1406"/>
                  </a:lnTo>
                  <a:lnTo>
                    <a:pt x="1179" y="1409"/>
                  </a:lnTo>
                  <a:lnTo>
                    <a:pt x="1175" y="1402"/>
                  </a:lnTo>
                  <a:lnTo>
                    <a:pt x="1173" y="1393"/>
                  </a:lnTo>
                  <a:lnTo>
                    <a:pt x="1165" y="1386"/>
                  </a:lnTo>
                  <a:lnTo>
                    <a:pt x="1155" y="1380"/>
                  </a:lnTo>
                  <a:lnTo>
                    <a:pt x="1141" y="1377"/>
                  </a:lnTo>
                  <a:lnTo>
                    <a:pt x="1134" y="1372"/>
                  </a:lnTo>
                  <a:lnTo>
                    <a:pt x="1130" y="1354"/>
                  </a:lnTo>
                  <a:lnTo>
                    <a:pt x="1121" y="1347"/>
                  </a:lnTo>
                  <a:lnTo>
                    <a:pt x="1124" y="1340"/>
                  </a:lnTo>
                  <a:lnTo>
                    <a:pt x="1137" y="1337"/>
                  </a:lnTo>
                  <a:lnTo>
                    <a:pt x="1140" y="1329"/>
                  </a:lnTo>
                  <a:lnTo>
                    <a:pt x="1131" y="1321"/>
                  </a:lnTo>
                  <a:lnTo>
                    <a:pt x="1121" y="1325"/>
                  </a:lnTo>
                  <a:lnTo>
                    <a:pt x="1110" y="1330"/>
                  </a:lnTo>
                  <a:lnTo>
                    <a:pt x="1098" y="1329"/>
                  </a:lnTo>
                  <a:lnTo>
                    <a:pt x="1088" y="1325"/>
                  </a:lnTo>
                  <a:lnTo>
                    <a:pt x="1080" y="1318"/>
                  </a:lnTo>
                  <a:lnTo>
                    <a:pt x="1068" y="1315"/>
                  </a:lnTo>
                  <a:lnTo>
                    <a:pt x="1056" y="1311"/>
                  </a:lnTo>
                  <a:lnTo>
                    <a:pt x="1047" y="1305"/>
                  </a:lnTo>
                  <a:lnTo>
                    <a:pt x="1053" y="1297"/>
                  </a:lnTo>
                  <a:lnTo>
                    <a:pt x="1061" y="1290"/>
                  </a:lnTo>
                  <a:lnTo>
                    <a:pt x="1068" y="1282"/>
                  </a:lnTo>
                  <a:lnTo>
                    <a:pt x="1068" y="1273"/>
                  </a:lnTo>
                  <a:lnTo>
                    <a:pt x="1073" y="1264"/>
                  </a:lnTo>
                  <a:lnTo>
                    <a:pt x="1071" y="1255"/>
                  </a:lnTo>
                  <a:lnTo>
                    <a:pt x="1070" y="1246"/>
                  </a:lnTo>
                  <a:lnTo>
                    <a:pt x="1063" y="1239"/>
                  </a:lnTo>
                  <a:lnTo>
                    <a:pt x="1067" y="1232"/>
                  </a:lnTo>
                  <a:lnTo>
                    <a:pt x="1075" y="1224"/>
                  </a:lnTo>
                  <a:lnTo>
                    <a:pt x="1071" y="1218"/>
                  </a:lnTo>
                  <a:lnTo>
                    <a:pt x="1059" y="1219"/>
                  </a:lnTo>
                  <a:lnTo>
                    <a:pt x="1054" y="1229"/>
                  </a:lnTo>
                  <a:lnTo>
                    <a:pt x="1043" y="1227"/>
                  </a:lnTo>
                  <a:lnTo>
                    <a:pt x="1032" y="1222"/>
                  </a:lnTo>
                  <a:lnTo>
                    <a:pt x="1025" y="1215"/>
                  </a:lnTo>
                  <a:lnTo>
                    <a:pt x="1031" y="1206"/>
                  </a:lnTo>
                  <a:lnTo>
                    <a:pt x="1029" y="1198"/>
                  </a:lnTo>
                  <a:lnTo>
                    <a:pt x="1017" y="1193"/>
                  </a:lnTo>
                  <a:lnTo>
                    <a:pt x="1010" y="1187"/>
                  </a:lnTo>
                  <a:lnTo>
                    <a:pt x="1004" y="1179"/>
                  </a:lnTo>
                  <a:lnTo>
                    <a:pt x="991" y="1178"/>
                  </a:lnTo>
                  <a:lnTo>
                    <a:pt x="977" y="1177"/>
                  </a:lnTo>
                  <a:lnTo>
                    <a:pt x="965" y="1175"/>
                  </a:lnTo>
                  <a:lnTo>
                    <a:pt x="958" y="1169"/>
                  </a:lnTo>
                  <a:lnTo>
                    <a:pt x="951" y="1161"/>
                  </a:lnTo>
                  <a:lnTo>
                    <a:pt x="943" y="1164"/>
                  </a:lnTo>
                  <a:lnTo>
                    <a:pt x="945" y="1173"/>
                  </a:lnTo>
                  <a:lnTo>
                    <a:pt x="950" y="1182"/>
                  </a:lnTo>
                  <a:lnTo>
                    <a:pt x="952" y="1191"/>
                  </a:lnTo>
                  <a:lnTo>
                    <a:pt x="952" y="1200"/>
                  </a:lnTo>
                  <a:lnTo>
                    <a:pt x="951" y="1210"/>
                  </a:lnTo>
                  <a:lnTo>
                    <a:pt x="952" y="1219"/>
                  </a:lnTo>
                  <a:lnTo>
                    <a:pt x="951" y="1227"/>
                  </a:lnTo>
                  <a:lnTo>
                    <a:pt x="938" y="1231"/>
                  </a:lnTo>
                  <a:lnTo>
                    <a:pt x="926" y="1236"/>
                  </a:lnTo>
                  <a:lnTo>
                    <a:pt x="916" y="1241"/>
                  </a:lnTo>
                  <a:lnTo>
                    <a:pt x="916" y="1249"/>
                  </a:lnTo>
                  <a:lnTo>
                    <a:pt x="927" y="1255"/>
                  </a:lnTo>
                  <a:lnTo>
                    <a:pt x="916" y="1260"/>
                  </a:lnTo>
                  <a:lnTo>
                    <a:pt x="903" y="1261"/>
                  </a:lnTo>
                  <a:lnTo>
                    <a:pt x="891" y="1258"/>
                  </a:lnTo>
                  <a:lnTo>
                    <a:pt x="878" y="1260"/>
                  </a:lnTo>
                  <a:lnTo>
                    <a:pt x="880" y="1268"/>
                  </a:lnTo>
                  <a:lnTo>
                    <a:pt x="880" y="1278"/>
                  </a:lnTo>
                  <a:lnTo>
                    <a:pt x="868" y="1282"/>
                  </a:lnTo>
                  <a:lnTo>
                    <a:pt x="856" y="1286"/>
                  </a:lnTo>
                  <a:lnTo>
                    <a:pt x="845" y="1290"/>
                  </a:lnTo>
                  <a:lnTo>
                    <a:pt x="834" y="1294"/>
                  </a:lnTo>
                  <a:lnTo>
                    <a:pt x="824" y="1299"/>
                  </a:lnTo>
                  <a:lnTo>
                    <a:pt x="815" y="1307"/>
                  </a:lnTo>
                  <a:lnTo>
                    <a:pt x="806" y="1311"/>
                  </a:lnTo>
                  <a:lnTo>
                    <a:pt x="792" y="1312"/>
                  </a:lnTo>
                  <a:lnTo>
                    <a:pt x="780" y="1317"/>
                  </a:lnTo>
                  <a:lnTo>
                    <a:pt x="772" y="1324"/>
                  </a:lnTo>
                  <a:lnTo>
                    <a:pt x="764" y="1331"/>
                  </a:lnTo>
                  <a:lnTo>
                    <a:pt x="754" y="1337"/>
                  </a:lnTo>
                  <a:lnTo>
                    <a:pt x="741" y="1337"/>
                  </a:lnTo>
                  <a:lnTo>
                    <a:pt x="729" y="1333"/>
                  </a:lnTo>
                  <a:lnTo>
                    <a:pt x="719" y="1326"/>
                  </a:lnTo>
                  <a:lnTo>
                    <a:pt x="713" y="1318"/>
                  </a:lnTo>
                  <a:lnTo>
                    <a:pt x="709" y="1309"/>
                  </a:lnTo>
                  <a:lnTo>
                    <a:pt x="720" y="1306"/>
                  </a:lnTo>
                  <a:lnTo>
                    <a:pt x="734" y="1305"/>
                  </a:lnTo>
                  <a:lnTo>
                    <a:pt x="747" y="1304"/>
                  </a:lnTo>
                  <a:lnTo>
                    <a:pt x="755" y="1297"/>
                  </a:lnTo>
                  <a:lnTo>
                    <a:pt x="766" y="1295"/>
                  </a:lnTo>
                  <a:lnTo>
                    <a:pt x="779" y="1291"/>
                  </a:lnTo>
                  <a:lnTo>
                    <a:pt x="787" y="1284"/>
                  </a:lnTo>
                  <a:lnTo>
                    <a:pt x="799" y="1278"/>
                  </a:lnTo>
                  <a:lnTo>
                    <a:pt x="801" y="1269"/>
                  </a:lnTo>
                  <a:lnTo>
                    <a:pt x="801" y="1260"/>
                  </a:lnTo>
                  <a:lnTo>
                    <a:pt x="807" y="1252"/>
                  </a:lnTo>
                  <a:lnTo>
                    <a:pt x="811" y="1243"/>
                  </a:lnTo>
                  <a:lnTo>
                    <a:pt x="813" y="1234"/>
                  </a:lnTo>
                  <a:lnTo>
                    <a:pt x="815" y="1225"/>
                  </a:lnTo>
                  <a:lnTo>
                    <a:pt x="822" y="1218"/>
                  </a:lnTo>
                  <a:lnTo>
                    <a:pt x="827" y="1214"/>
                  </a:lnTo>
                  <a:lnTo>
                    <a:pt x="822" y="1209"/>
                  </a:lnTo>
                  <a:lnTo>
                    <a:pt x="831" y="1203"/>
                  </a:lnTo>
                  <a:lnTo>
                    <a:pt x="825" y="1185"/>
                  </a:lnTo>
                  <a:lnTo>
                    <a:pt x="820" y="1180"/>
                  </a:lnTo>
                  <a:lnTo>
                    <a:pt x="808" y="1182"/>
                  </a:lnTo>
                  <a:lnTo>
                    <a:pt x="794" y="1187"/>
                  </a:lnTo>
                  <a:lnTo>
                    <a:pt x="785" y="1186"/>
                  </a:lnTo>
                  <a:lnTo>
                    <a:pt x="776" y="1179"/>
                  </a:lnTo>
                  <a:lnTo>
                    <a:pt x="768" y="1181"/>
                  </a:lnTo>
                  <a:lnTo>
                    <a:pt x="758" y="1175"/>
                  </a:lnTo>
                  <a:lnTo>
                    <a:pt x="744" y="1173"/>
                  </a:lnTo>
                  <a:lnTo>
                    <a:pt x="737" y="1167"/>
                  </a:lnTo>
                  <a:lnTo>
                    <a:pt x="738" y="1158"/>
                  </a:lnTo>
                  <a:lnTo>
                    <a:pt x="740" y="1150"/>
                  </a:lnTo>
                  <a:lnTo>
                    <a:pt x="740" y="1142"/>
                  </a:lnTo>
                  <a:lnTo>
                    <a:pt x="743" y="1133"/>
                  </a:lnTo>
                  <a:lnTo>
                    <a:pt x="741" y="1124"/>
                  </a:lnTo>
                  <a:lnTo>
                    <a:pt x="740" y="1114"/>
                  </a:lnTo>
                  <a:lnTo>
                    <a:pt x="740" y="1105"/>
                  </a:lnTo>
                  <a:lnTo>
                    <a:pt x="747" y="1098"/>
                  </a:lnTo>
                  <a:lnTo>
                    <a:pt x="757" y="1091"/>
                  </a:lnTo>
                  <a:lnTo>
                    <a:pt x="769" y="1089"/>
                  </a:lnTo>
                  <a:lnTo>
                    <a:pt x="773" y="1081"/>
                  </a:lnTo>
                  <a:lnTo>
                    <a:pt x="771" y="1072"/>
                  </a:lnTo>
                  <a:lnTo>
                    <a:pt x="766" y="1063"/>
                  </a:lnTo>
                  <a:lnTo>
                    <a:pt x="761" y="1055"/>
                  </a:lnTo>
                  <a:lnTo>
                    <a:pt x="748" y="1052"/>
                  </a:lnTo>
                  <a:lnTo>
                    <a:pt x="741" y="1045"/>
                  </a:lnTo>
                  <a:lnTo>
                    <a:pt x="730" y="1042"/>
                  </a:lnTo>
                  <a:lnTo>
                    <a:pt x="717" y="1039"/>
                  </a:lnTo>
                  <a:lnTo>
                    <a:pt x="705" y="1035"/>
                  </a:lnTo>
                  <a:lnTo>
                    <a:pt x="695" y="1034"/>
                  </a:lnTo>
                  <a:lnTo>
                    <a:pt x="692" y="1025"/>
                  </a:lnTo>
                  <a:lnTo>
                    <a:pt x="685" y="1017"/>
                  </a:lnTo>
                  <a:lnTo>
                    <a:pt x="680" y="1008"/>
                  </a:lnTo>
                  <a:lnTo>
                    <a:pt x="676" y="998"/>
                  </a:lnTo>
                  <a:lnTo>
                    <a:pt x="674" y="989"/>
                  </a:lnTo>
                  <a:lnTo>
                    <a:pt x="676" y="980"/>
                  </a:lnTo>
                  <a:lnTo>
                    <a:pt x="678" y="971"/>
                  </a:lnTo>
                  <a:lnTo>
                    <a:pt x="681" y="961"/>
                  </a:lnTo>
                  <a:lnTo>
                    <a:pt x="683" y="953"/>
                  </a:lnTo>
                  <a:lnTo>
                    <a:pt x="674" y="946"/>
                  </a:lnTo>
                  <a:lnTo>
                    <a:pt x="666" y="939"/>
                  </a:lnTo>
                  <a:lnTo>
                    <a:pt x="655" y="933"/>
                  </a:lnTo>
                  <a:lnTo>
                    <a:pt x="643" y="928"/>
                  </a:lnTo>
                  <a:lnTo>
                    <a:pt x="634" y="923"/>
                  </a:lnTo>
                  <a:lnTo>
                    <a:pt x="621" y="921"/>
                  </a:lnTo>
                  <a:lnTo>
                    <a:pt x="610" y="925"/>
                  </a:lnTo>
                  <a:lnTo>
                    <a:pt x="599" y="930"/>
                  </a:lnTo>
                  <a:lnTo>
                    <a:pt x="586" y="931"/>
                  </a:lnTo>
                  <a:lnTo>
                    <a:pt x="573" y="934"/>
                  </a:lnTo>
                  <a:lnTo>
                    <a:pt x="561" y="937"/>
                  </a:lnTo>
                  <a:lnTo>
                    <a:pt x="548" y="938"/>
                  </a:lnTo>
                  <a:lnTo>
                    <a:pt x="536" y="939"/>
                  </a:lnTo>
                  <a:lnTo>
                    <a:pt x="530" y="948"/>
                  </a:lnTo>
                  <a:lnTo>
                    <a:pt x="518" y="949"/>
                  </a:lnTo>
                  <a:lnTo>
                    <a:pt x="505" y="946"/>
                  </a:lnTo>
                  <a:lnTo>
                    <a:pt x="492" y="943"/>
                  </a:lnTo>
                  <a:lnTo>
                    <a:pt x="481" y="936"/>
                  </a:lnTo>
                  <a:lnTo>
                    <a:pt x="473" y="937"/>
                  </a:lnTo>
                  <a:lnTo>
                    <a:pt x="464" y="945"/>
                  </a:lnTo>
                  <a:lnTo>
                    <a:pt x="452" y="944"/>
                  </a:lnTo>
                  <a:lnTo>
                    <a:pt x="439" y="942"/>
                  </a:lnTo>
                  <a:lnTo>
                    <a:pt x="427" y="939"/>
                  </a:lnTo>
                  <a:lnTo>
                    <a:pt x="414" y="942"/>
                  </a:lnTo>
                  <a:lnTo>
                    <a:pt x="403" y="946"/>
                  </a:lnTo>
                  <a:lnTo>
                    <a:pt x="390" y="949"/>
                  </a:lnTo>
                  <a:lnTo>
                    <a:pt x="378" y="952"/>
                  </a:lnTo>
                  <a:lnTo>
                    <a:pt x="364" y="955"/>
                  </a:lnTo>
                  <a:lnTo>
                    <a:pt x="361" y="962"/>
                  </a:lnTo>
                  <a:lnTo>
                    <a:pt x="367" y="971"/>
                  </a:lnTo>
                  <a:lnTo>
                    <a:pt x="368" y="980"/>
                  </a:lnTo>
                  <a:lnTo>
                    <a:pt x="368" y="990"/>
                  </a:lnTo>
                  <a:lnTo>
                    <a:pt x="365" y="1000"/>
                  </a:lnTo>
                  <a:lnTo>
                    <a:pt x="364" y="1009"/>
                  </a:lnTo>
                  <a:lnTo>
                    <a:pt x="364" y="1018"/>
                  </a:lnTo>
                  <a:lnTo>
                    <a:pt x="371" y="1027"/>
                  </a:lnTo>
                  <a:lnTo>
                    <a:pt x="381" y="1032"/>
                  </a:lnTo>
                  <a:lnTo>
                    <a:pt x="389" y="1039"/>
                  </a:lnTo>
                  <a:lnTo>
                    <a:pt x="397" y="1046"/>
                  </a:lnTo>
                  <a:lnTo>
                    <a:pt x="396" y="1054"/>
                  </a:lnTo>
                  <a:lnTo>
                    <a:pt x="395" y="1063"/>
                  </a:lnTo>
                  <a:lnTo>
                    <a:pt x="392" y="1073"/>
                  </a:lnTo>
                  <a:lnTo>
                    <a:pt x="388" y="1082"/>
                  </a:lnTo>
                  <a:lnTo>
                    <a:pt x="382" y="1089"/>
                  </a:lnTo>
                  <a:lnTo>
                    <a:pt x="368" y="1087"/>
                  </a:lnTo>
                  <a:lnTo>
                    <a:pt x="355" y="1089"/>
                  </a:lnTo>
                  <a:lnTo>
                    <a:pt x="348" y="1095"/>
                  </a:lnTo>
                  <a:lnTo>
                    <a:pt x="337" y="1100"/>
                  </a:lnTo>
                  <a:lnTo>
                    <a:pt x="327" y="1106"/>
                  </a:lnTo>
                  <a:lnTo>
                    <a:pt x="322" y="1114"/>
                  </a:lnTo>
                  <a:lnTo>
                    <a:pt x="311" y="1118"/>
                  </a:lnTo>
                  <a:lnTo>
                    <a:pt x="301" y="1117"/>
                  </a:lnTo>
                  <a:lnTo>
                    <a:pt x="298" y="1107"/>
                  </a:lnTo>
                  <a:lnTo>
                    <a:pt x="294" y="1115"/>
                  </a:lnTo>
                  <a:lnTo>
                    <a:pt x="290" y="1123"/>
                  </a:lnTo>
                  <a:lnTo>
                    <a:pt x="276" y="1123"/>
                  </a:lnTo>
                  <a:lnTo>
                    <a:pt x="266" y="1121"/>
                  </a:lnTo>
                  <a:lnTo>
                    <a:pt x="269" y="1111"/>
                  </a:lnTo>
                  <a:lnTo>
                    <a:pt x="255" y="1110"/>
                  </a:lnTo>
                  <a:lnTo>
                    <a:pt x="244" y="1111"/>
                  </a:lnTo>
                  <a:lnTo>
                    <a:pt x="232" y="1117"/>
                  </a:lnTo>
                  <a:lnTo>
                    <a:pt x="220" y="1117"/>
                  </a:lnTo>
                  <a:lnTo>
                    <a:pt x="209" y="1120"/>
                  </a:lnTo>
                  <a:lnTo>
                    <a:pt x="206" y="1129"/>
                  </a:lnTo>
                  <a:lnTo>
                    <a:pt x="211" y="1138"/>
                  </a:lnTo>
                  <a:lnTo>
                    <a:pt x="216" y="1146"/>
                  </a:lnTo>
                  <a:lnTo>
                    <a:pt x="218" y="1155"/>
                  </a:lnTo>
                  <a:lnTo>
                    <a:pt x="221" y="1165"/>
                  </a:lnTo>
                  <a:lnTo>
                    <a:pt x="220" y="1174"/>
                  </a:lnTo>
                  <a:lnTo>
                    <a:pt x="232" y="1180"/>
                  </a:lnTo>
                  <a:lnTo>
                    <a:pt x="234" y="1186"/>
                  </a:lnTo>
                  <a:lnTo>
                    <a:pt x="238" y="1174"/>
                  </a:lnTo>
                  <a:lnTo>
                    <a:pt x="251" y="1171"/>
                  </a:lnTo>
                  <a:lnTo>
                    <a:pt x="251" y="1179"/>
                  </a:lnTo>
                  <a:lnTo>
                    <a:pt x="244" y="1188"/>
                  </a:lnTo>
                  <a:lnTo>
                    <a:pt x="235" y="1195"/>
                  </a:lnTo>
                  <a:lnTo>
                    <a:pt x="224" y="1188"/>
                  </a:lnTo>
                  <a:lnTo>
                    <a:pt x="214" y="1192"/>
                  </a:lnTo>
                  <a:lnTo>
                    <a:pt x="211" y="1184"/>
                  </a:lnTo>
                  <a:lnTo>
                    <a:pt x="209" y="1174"/>
                  </a:lnTo>
                  <a:lnTo>
                    <a:pt x="202" y="1166"/>
                  </a:lnTo>
                  <a:lnTo>
                    <a:pt x="196" y="1157"/>
                  </a:lnTo>
                  <a:lnTo>
                    <a:pt x="185" y="1153"/>
                  </a:lnTo>
                  <a:lnTo>
                    <a:pt x="174" y="1157"/>
                  </a:lnTo>
                  <a:lnTo>
                    <a:pt x="163" y="1154"/>
                  </a:lnTo>
                  <a:lnTo>
                    <a:pt x="144" y="1161"/>
                  </a:lnTo>
                  <a:lnTo>
                    <a:pt x="142" y="1171"/>
                  </a:lnTo>
                  <a:lnTo>
                    <a:pt x="132" y="1170"/>
                  </a:lnTo>
                  <a:lnTo>
                    <a:pt x="121" y="1172"/>
                  </a:lnTo>
                  <a:lnTo>
                    <a:pt x="109" y="1167"/>
                  </a:lnTo>
                  <a:lnTo>
                    <a:pt x="97" y="1164"/>
                  </a:lnTo>
                  <a:lnTo>
                    <a:pt x="112" y="1150"/>
                  </a:lnTo>
                  <a:lnTo>
                    <a:pt x="125" y="1147"/>
                  </a:lnTo>
                  <a:lnTo>
                    <a:pt x="136" y="1144"/>
                  </a:lnTo>
                  <a:lnTo>
                    <a:pt x="140" y="1136"/>
                  </a:lnTo>
                  <a:lnTo>
                    <a:pt x="139" y="1126"/>
                  </a:lnTo>
                  <a:lnTo>
                    <a:pt x="140" y="1117"/>
                  </a:lnTo>
                  <a:lnTo>
                    <a:pt x="147" y="1110"/>
                  </a:lnTo>
                  <a:lnTo>
                    <a:pt x="157" y="1102"/>
                  </a:lnTo>
                  <a:lnTo>
                    <a:pt x="163" y="1094"/>
                  </a:lnTo>
                  <a:lnTo>
                    <a:pt x="163" y="1082"/>
                  </a:lnTo>
                  <a:lnTo>
                    <a:pt x="163" y="1073"/>
                  </a:lnTo>
                  <a:lnTo>
                    <a:pt x="157" y="1058"/>
                  </a:lnTo>
                  <a:lnTo>
                    <a:pt x="158" y="1048"/>
                  </a:lnTo>
                  <a:lnTo>
                    <a:pt x="154" y="1039"/>
                  </a:lnTo>
                  <a:lnTo>
                    <a:pt x="153" y="1030"/>
                  </a:lnTo>
                  <a:lnTo>
                    <a:pt x="156" y="1021"/>
                  </a:lnTo>
                  <a:lnTo>
                    <a:pt x="149" y="1016"/>
                  </a:lnTo>
                  <a:lnTo>
                    <a:pt x="135" y="1018"/>
                  </a:lnTo>
                  <a:lnTo>
                    <a:pt x="122" y="1019"/>
                  </a:lnTo>
                  <a:lnTo>
                    <a:pt x="122" y="1009"/>
                  </a:lnTo>
                  <a:lnTo>
                    <a:pt x="116" y="1001"/>
                  </a:lnTo>
                  <a:lnTo>
                    <a:pt x="111" y="991"/>
                  </a:lnTo>
                  <a:lnTo>
                    <a:pt x="105" y="983"/>
                  </a:lnTo>
                  <a:lnTo>
                    <a:pt x="102" y="972"/>
                  </a:lnTo>
                  <a:lnTo>
                    <a:pt x="97" y="964"/>
                  </a:lnTo>
                  <a:lnTo>
                    <a:pt x="87" y="965"/>
                  </a:lnTo>
                  <a:lnTo>
                    <a:pt x="76" y="971"/>
                  </a:lnTo>
                  <a:lnTo>
                    <a:pt x="63" y="977"/>
                  </a:lnTo>
                  <a:lnTo>
                    <a:pt x="56" y="971"/>
                  </a:lnTo>
                  <a:lnTo>
                    <a:pt x="48" y="968"/>
                  </a:lnTo>
                  <a:lnTo>
                    <a:pt x="35" y="972"/>
                  </a:lnTo>
                  <a:lnTo>
                    <a:pt x="26" y="977"/>
                  </a:lnTo>
                  <a:lnTo>
                    <a:pt x="20" y="980"/>
                  </a:lnTo>
                  <a:lnTo>
                    <a:pt x="17" y="971"/>
                  </a:lnTo>
                  <a:lnTo>
                    <a:pt x="12" y="962"/>
                  </a:lnTo>
                  <a:lnTo>
                    <a:pt x="7" y="954"/>
                  </a:lnTo>
                  <a:lnTo>
                    <a:pt x="0" y="946"/>
                  </a:lnTo>
                  <a:lnTo>
                    <a:pt x="12" y="942"/>
                  </a:lnTo>
                  <a:lnTo>
                    <a:pt x="13" y="934"/>
                  </a:lnTo>
                  <a:lnTo>
                    <a:pt x="23" y="936"/>
                  </a:lnTo>
                  <a:lnTo>
                    <a:pt x="31" y="941"/>
                  </a:lnTo>
                  <a:lnTo>
                    <a:pt x="37" y="935"/>
                  </a:lnTo>
                  <a:lnTo>
                    <a:pt x="37" y="928"/>
                  </a:lnTo>
                  <a:lnTo>
                    <a:pt x="49" y="926"/>
                  </a:lnTo>
                  <a:lnTo>
                    <a:pt x="55" y="919"/>
                  </a:lnTo>
                  <a:lnTo>
                    <a:pt x="65" y="919"/>
                  </a:lnTo>
                  <a:lnTo>
                    <a:pt x="66" y="912"/>
                  </a:lnTo>
                  <a:lnTo>
                    <a:pt x="73" y="907"/>
                  </a:lnTo>
                  <a:lnTo>
                    <a:pt x="80" y="915"/>
                  </a:lnTo>
                  <a:lnTo>
                    <a:pt x="93" y="913"/>
                  </a:lnTo>
                  <a:lnTo>
                    <a:pt x="93" y="906"/>
                  </a:lnTo>
                  <a:lnTo>
                    <a:pt x="98" y="901"/>
                  </a:lnTo>
                  <a:lnTo>
                    <a:pt x="111" y="899"/>
                  </a:lnTo>
                  <a:lnTo>
                    <a:pt x="125" y="899"/>
                  </a:lnTo>
                  <a:lnTo>
                    <a:pt x="128" y="891"/>
                  </a:lnTo>
                  <a:lnTo>
                    <a:pt x="123" y="881"/>
                  </a:lnTo>
                  <a:lnTo>
                    <a:pt x="126" y="874"/>
                  </a:lnTo>
                  <a:lnTo>
                    <a:pt x="132" y="871"/>
                  </a:lnTo>
                  <a:lnTo>
                    <a:pt x="125" y="863"/>
                  </a:lnTo>
                  <a:lnTo>
                    <a:pt x="119" y="854"/>
                  </a:lnTo>
                  <a:lnTo>
                    <a:pt x="115" y="845"/>
                  </a:lnTo>
                  <a:lnTo>
                    <a:pt x="112" y="836"/>
                  </a:lnTo>
                  <a:lnTo>
                    <a:pt x="107" y="828"/>
                  </a:lnTo>
                  <a:lnTo>
                    <a:pt x="101" y="820"/>
                  </a:lnTo>
                  <a:lnTo>
                    <a:pt x="100" y="811"/>
                  </a:lnTo>
                  <a:lnTo>
                    <a:pt x="97" y="801"/>
                  </a:lnTo>
                  <a:lnTo>
                    <a:pt x="94" y="792"/>
                  </a:lnTo>
                  <a:lnTo>
                    <a:pt x="91" y="783"/>
                  </a:lnTo>
                  <a:lnTo>
                    <a:pt x="87" y="775"/>
                  </a:lnTo>
                  <a:lnTo>
                    <a:pt x="83" y="766"/>
                  </a:lnTo>
                  <a:lnTo>
                    <a:pt x="80" y="757"/>
                  </a:lnTo>
                  <a:lnTo>
                    <a:pt x="74" y="748"/>
                  </a:lnTo>
                  <a:lnTo>
                    <a:pt x="65" y="742"/>
                  </a:lnTo>
                  <a:lnTo>
                    <a:pt x="55" y="737"/>
                  </a:lnTo>
                  <a:lnTo>
                    <a:pt x="66" y="732"/>
                  </a:lnTo>
                  <a:lnTo>
                    <a:pt x="70" y="724"/>
                  </a:lnTo>
                  <a:lnTo>
                    <a:pt x="72" y="715"/>
                  </a:lnTo>
                  <a:lnTo>
                    <a:pt x="66" y="707"/>
                  </a:lnTo>
                  <a:lnTo>
                    <a:pt x="62" y="698"/>
                  </a:lnTo>
                  <a:lnTo>
                    <a:pt x="60" y="689"/>
                  </a:lnTo>
                  <a:lnTo>
                    <a:pt x="62" y="679"/>
                  </a:lnTo>
                  <a:lnTo>
                    <a:pt x="62" y="670"/>
                  </a:lnTo>
                  <a:lnTo>
                    <a:pt x="63" y="662"/>
                  </a:lnTo>
                  <a:lnTo>
                    <a:pt x="76" y="661"/>
                  </a:lnTo>
                  <a:lnTo>
                    <a:pt x="66" y="654"/>
                  </a:lnTo>
                  <a:lnTo>
                    <a:pt x="73" y="649"/>
                  </a:lnTo>
                  <a:lnTo>
                    <a:pt x="76" y="640"/>
                  </a:lnTo>
                  <a:lnTo>
                    <a:pt x="76" y="631"/>
                  </a:lnTo>
                  <a:lnTo>
                    <a:pt x="74" y="621"/>
                  </a:lnTo>
                  <a:lnTo>
                    <a:pt x="73" y="614"/>
                  </a:lnTo>
                  <a:lnTo>
                    <a:pt x="84" y="621"/>
                  </a:lnTo>
                  <a:lnTo>
                    <a:pt x="94" y="627"/>
                  </a:lnTo>
                  <a:lnTo>
                    <a:pt x="105" y="625"/>
                  </a:lnTo>
                  <a:lnTo>
                    <a:pt x="118" y="622"/>
                  </a:lnTo>
                  <a:lnTo>
                    <a:pt x="128" y="618"/>
                  </a:lnTo>
                  <a:lnTo>
                    <a:pt x="137" y="612"/>
                  </a:lnTo>
                  <a:lnTo>
                    <a:pt x="142" y="604"/>
                  </a:lnTo>
                  <a:lnTo>
                    <a:pt x="146" y="595"/>
                  </a:lnTo>
                  <a:lnTo>
                    <a:pt x="150" y="586"/>
                  </a:lnTo>
                  <a:lnTo>
                    <a:pt x="154" y="577"/>
                  </a:lnTo>
                  <a:lnTo>
                    <a:pt x="163" y="571"/>
                  </a:lnTo>
                  <a:lnTo>
                    <a:pt x="167" y="557"/>
                  </a:lnTo>
                  <a:lnTo>
                    <a:pt x="174" y="542"/>
                  </a:lnTo>
                  <a:lnTo>
                    <a:pt x="163" y="526"/>
                  </a:lnTo>
                  <a:lnTo>
                    <a:pt x="156" y="517"/>
                  </a:lnTo>
                  <a:lnTo>
                    <a:pt x="149" y="510"/>
                  </a:lnTo>
                  <a:lnTo>
                    <a:pt x="144" y="501"/>
                  </a:lnTo>
                  <a:lnTo>
                    <a:pt x="143" y="491"/>
                  </a:lnTo>
                  <a:lnTo>
                    <a:pt x="149" y="485"/>
                  </a:lnTo>
                  <a:lnTo>
                    <a:pt x="163" y="477"/>
                  </a:lnTo>
                  <a:lnTo>
                    <a:pt x="174" y="472"/>
                  </a:lnTo>
                  <a:lnTo>
                    <a:pt x="181" y="465"/>
                  </a:lnTo>
                  <a:lnTo>
                    <a:pt x="179" y="455"/>
                  </a:lnTo>
                  <a:lnTo>
                    <a:pt x="181" y="447"/>
                  </a:lnTo>
                  <a:lnTo>
                    <a:pt x="192" y="442"/>
                  </a:lnTo>
                  <a:lnTo>
                    <a:pt x="204" y="437"/>
                  </a:lnTo>
                  <a:lnTo>
                    <a:pt x="213" y="431"/>
                  </a:lnTo>
                  <a:lnTo>
                    <a:pt x="211" y="423"/>
                  </a:lnTo>
                  <a:lnTo>
                    <a:pt x="203" y="414"/>
                  </a:lnTo>
                  <a:lnTo>
                    <a:pt x="211" y="409"/>
                  </a:lnTo>
                  <a:lnTo>
                    <a:pt x="221" y="403"/>
                  </a:lnTo>
                  <a:lnTo>
                    <a:pt x="216" y="397"/>
                  </a:lnTo>
                  <a:lnTo>
                    <a:pt x="225" y="391"/>
                  </a:lnTo>
                  <a:lnTo>
                    <a:pt x="230" y="385"/>
                  </a:lnTo>
                  <a:lnTo>
                    <a:pt x="242" y="380"/>
                  </a:lnTo>
                  <a:lnTo>
                    <a:pt x="255" y="376"/>
                  </a:lnTo>
                  <a:lnTo>
                    <a:pt x="265" y="370"/>
                  </a:lnTo>
                  <a:lnTo>
                    <a:pt x="263" y="362"/>
                  </a:lnTo>
                  <a:lnTo>
                    <a:pt x="260" y="352"/>
                  </a:lnTo>
                  <a:lnTo>
                    <a:pt x="265" y="346"/>
                  </a:lnTo>
                  <a:lnTo>
                    <a:pt x="265" y="337"/>
                  </a:lnTo>
                  <a:lnTo>
                    <a:pt x="265" y="327"/>
                  </a:lnTo>
                  <a:lnTo>
                    <a:pt x="262" y="318"/>
                  </a:lnTo>
                  <a:lnTo>
                    <a:pt x="258" y="309"/>
                  </a:lnTo>
                  <a:lnTo>
                    <a:pt x="252" y="301"/>
                  </a:lnTo>
                  <a:lnTo>
                    <a:pt x="248" y="292"/>
                  </a:lnTo>
                  <a:lnTo>
                    <a:pt x="245" y="283"/>
                  </a:lnTo>
                  <a:lnTo>
                    <a:pt x="239" y="275"/>
                  </a:lnTo>
                  <a:lnTo>
                    <a:pt x="230" y="268"/>
                  </a:lnTo>
                  <a:lnTo>
                    <a:pt x="237" y="264"/>
                  </a:lnTo>
                  <a:lnTo>
                    <a:pt x="251" y="264"/>
                  </a:lnTo>
                  <a:lnTo>
                    <a:pt x="259" y="258"/>
                  </a:lnTo>
                  <a:lnTo>
                    <a:pt x="269" y="251"/>
                  </a:lnTo>
                  <a:lnTo>
                    <a:pt x="280" y="246"/>
                  </a:lnTo>
                  <a:lnTo>
                    <a:pt x="291" y="243"/>
                  </a:lnTo>
                  <a:lnTo>
                    <a:pt x="291" y="235"/>
                  </a:lnTo>
                  <a:lnTo>
                    <a:pt x="302" y="237"/>
                  </a:lnTo>
                  <a:lnTo>
                    <a:pt x="309" y="245"/>
                  </a:lnTo>
                  <a:lnTo>
                    <a:pt x="323" y="242"/>
                  </a:lnTo>
                  <a:lnTo>
                    <a:pt x="337" y="242"/>
                  </a:lnTo>
                  <a:lnTo>
                    <a:pt x="347" y="239"/>
                  </a:lnTo>
                  <a:lnTo>
                    <a:pt x="346" y="230"/>
                  </a:lnTo>
                  <a:lnTo>
                    <a:pt x="344" y="220"/>
                  </a:lnTo>
                  <a:lnTo>
                    <a:pt x="341" y="211"/>
                  </a:lnTo>
                  <a:lnTo>
                    <a:pt x="340" y="201"/>
                  </a:lnTo>
                  <a:lnTo>
                    <a:pt x="339" y="192"/>
                  </a:lnTo>
                  <a:lnTo>
                    <a:pt x="343" y="183"/>
                  </a:lnTo>
                  <a:lnTo>
                    <a:pt x="354" y="179"/>
                  </a:lnTo>
                  <a:lnTo>
                    <a:pt x="367" y="182"/>
                  </a:lnTo>
                  <a:lnTo>
                    <a:pt x="379" y="181"/>
                  </a:lnTo>
                  <a:lnTo>
                    <a:pt x="389" y="175"/>
                  </a:lnTo>
                  <a:lnTo>
                    <a:pt x="399" y="169"/>
                  </a:lnTo>
                  <a:lnTo>
                    <a:pt x="411" y="168"/>
                  </a:lnTo>
                  <a:lnTo>
                    <a:pt x="424" y="167"/>
                  </a:lnTo>
                  <a:close/>
                  <a:moveTo>
                    <a:pt x="778" y="159"/>
                  </a:moveTo>
                  <a:lnTo>
                    <a:pt x="775" y="168"/>
                  </a:lnTo>
                  <a:lnTo>
                    <a:pt x="779" y="174"/>
                  </a:lnTo>
                  <a:lnTo>
                    <a:pt x="778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457360" y="4076640"/>
              <a:ext cx="1063800" cy="1239840"/>
            </a:xfrm>
            <a:custGeom>
              <a:avLst/>
              <a:gdLst/>
              <a:ahLst/>
              <a:rect l="l" t="t" r="r" b="b"/>
              <a:pathLst>
                <a:path w="2010" h="1563">
                  <a:moveTo>
                    <a:pt x="424" y="167"/>
                  </a:moveTo>
                  <a:lnTo>
                    <a:pt x="440" y="162"/>
                  </a:lnTo>
                  <a:lnTo>
                    <a:pt x="454" y="162"/>
                  </a:lnTo>
                  <a:lnTo>
                    <a:pt x="467" y="162"/>
                  </a:lnTo>
                  <a:lnTo>
                    <a:pt x="479" y="159"/>
                  </a:lnTo>
                  <a:lnTo>
                    <a:pt x="500" y="155"/>
                  </a:lnTo>
                  <a:lnTo>
                    <a:pt x="506" y="149"/>
                  </a:lnTo>
                  <a:lnTo>
                    <a:pt x="505" y="141"/>
                  </a:lnTo>
                  <a:lnTo>
                    <a:pt x="517" y="144"/>
                  </a:lnTo>
                  <a:lnTo>
                    <a:pt x="527" y="137"/>
                  </a:lnTo>
                  <a:lnTo>
                    <a:pt x="534" y="129"/>
                  </a:lnTo>
                  <a:lnTo>
                    <a:pt x="540" y="121"/>
                  </a:lnTo>
                  <a:lnTo>
                    <a:pt x="549" y="115"/>
                  </a:lnTo>
                  <a:lnTo>
                    <a:pt x="561" y="109"/>
                  </a:lnTo>
                  <a:lnTo>
                    <a:pt x="569" y="104"/>
                  </a:lnTo>
                  <a:lnTo>
                    <a:pt x="579" y="98"/>
                  </a:lnTo>
                  <a:lnTo>
                    <a:pt x="590" y="92"/>
                  </a:lnTo>
                  <a:lnTo>
                    <a:pt x="601" y="87"/>
                  </a:lnTo>
                  <a:lnTo>
                    <a:pt x="612" y="85"/>
                  </a:lnTo>
                  <a:lnTo>
                    <a:pt x="623" y="90"/>
                  </a:lnTo>
                  <a:lnTo>
                    <a:pt x="628" y="99"/>
                  </a:lnTo>
                  <a:lnTo>
                    <a:pt x="626" y="108"/>
                  </a:lnTo>
                  <a:lnTo>
                    <a:pt x="623" y="118"/>
                  </a:lnTo>
                  <a:lnTo>
                    <a:pt x="622" y="127"/>
                  </a:lnTo>
                  <a:lnTo>
                    <a:pt x="629" y="135"/>
                  </a:lnTo>
                  <a:lnTo>
                    <a:pt x="640" y="140"/>
                  </a:lnTo>
                  <a:lnTo>
                    <a:pt x="653" y="142"/>
                  </a:lnTo>
                  <a:lnTo>
                    <a:pt x="667" y="142"/>
                  </a:lnTo>
                  <a:lnTo>
                    <a:pt x="678" y="147"/>
                  </a:lnTo>
                  <a:lnTo>
                    <a:pt x="686" y="154"/>
                  </a:lnTo>
                  <a:lnTo>
                    <a:pt x="698" y="159"/>
                  </a:lnTo>
                  <a:lnTo>
                    <a:pt x="707" y="165"/>
                  </a:lnTo>
                  <a:lnTo>
                    <a:pt x="720" y="167"/>
                  </a:lnTo>
                  <a:lnTo>
                    <a:pt x="731" y="173"/>
                  </a:lnTo>
                  <a:lnTo>
                    <a:pt x="742" y="162"/>
                  </a:lnTo>
                  <a:lnTo>
                    <a:pt x="744" y="153"/>
                  </a:lnTo>
                  <a:lnTo>
                    <a:pt x="752" y="146"/>
                  </a:lnTo>
                  <a:lnTo>
                    <a:pt x="763" y="140"/>
                  </a:lnTo>
                  <a:lnTo>
                    <a:pt x="772" y="146"/>
                  </a:lnTo>
                  <a:lnTo>
                    <a:pt x="776" y="156"/>
                  </a:lnTo>
                  <a:lnTo>
                    <a:pt x="783" y="152"/>
                  </a:lnTo>
                  <a:lnTo>
                    <a:pt x="794" y="159"/>
                  </a:lnTo>
                  <a:lnTo>
                    <a:pt x="795" y="168"/>
                  </a:lnTo>
                  <a:lnTo>
                    <a:pt x="793" y="178"/>
                  </a:lnTo>
                  <a:lnTo>
                    <a:pt x="795" y="186"/>
                  </a:lnTo>
                  <a:lnTo>
                    <a:pt x="809" y="187"/>
                  </a:lnTo>
                  <a:lnTo>
                    <a:pt x="812" y="178"/>
                  </a:lnTo>
                  <a:lnTo>
                    <a:pt x="814" y="169"/>
                  </a:lnTo>
                  <a:lnTo>
                    <a:pt x="816" y="159"/>
                  </a:lnTo>
                  <a:lnTo>
                    <a:pt x="815" y="150"/>
                  </a:lnTo>
                  <a:lnTo>
                    <a:pt x="816" y="139"/>
                  </a:lnTo>
                  <a:lnTo>
                    <a:pt x="816" y="129"/>
                  </a:lnTo>
                  <a:lnTo>
                    <a:pt x="818" y="119"/>
                  </a:lnTo>
                  <a:lnTo>
                    <a:pt x="821" y="113"/>
                  </a:lnTo>
                  <a:lnTo>
                    <a:pt x="830" y="122"/>
                  </a:lnTo>
                  <a:lnTo>
                    <a:pt x="837" y="130"/>
                  </a:lnTo>
                  <a:lnTo>
                    <a:pt x="844" y="138"/>
                  </a:lnTo>
                  <a:lnTo>
                    <a:pt x="844" y="147"/>
                  </a:lnTo>
                  <a:lnTo>
                    <a:pt x="837" y="159"/>
                  </a:lnTo>
                  <a:lnTo>
                    <a:pt x="839" y="167"/>
                  </a:lnTo>
                  <a:lnTo>
                    <a:pt x="846" y="175"/>
                  </a:lnTo>
                  <a:lnTo>
                    <a:pt x="851" y="184"/>
                  </a:lnTo>
                  <a:lnTo>
                    <a:pt x="854" y="193"/>
                  </a:lnTo>
                  <a:lnTo>
                    <a:pt x="847" y="201"/>
                  </a:lnTo>
                  <a:lnTo>
                    <a:pt x="846" y="210"/>
                  </a:lnTo>
                  <a:lnTo>
                    <a:pt x="839" y="220"/>
                  </a:lnTo>
                  <a:lnTo>
                    <a:pt x="841" y="226"/>
                  </a:lnTo>
                  <a:lnTo>
                    <a:pt x="853" y="230"/>
                  </a:lnTo>
                  <a:lnTo>
                    <a:pt x="865" y="234"/>
                  </a:lnTo>
                  <a:lnTo>
                    <a:pt x="878" y="238"/>
                  </a:lnTo>
                  <a:lnTo>
                    <a:pt x="889" y="242"/>
                  </a:lnTo>
                  <a:lnTo>
                    <a:pt x="902" y="246"/>
                  </a:lnTo>
                  <a:lnTo>
                    <a:pt x="914" y="250"/>
                  </a:lnTo>
                  <a:lnTo>
                    <a:pt x="924" y="248"/>
                  </a:lnTo>
                  <a:lnTo>
                    <a:pt x="934" y="241"/>
                  </a:lnTo>
                  <a:lnTo>
                    <a:pt x="945" y="236"/>
                  </a:lnTo>
                  <a:lnTo>
                    <a:pt x="956" y="232"/>
                  </a:lnTo>
                  <a:lnTo>
                    <a:pt x="967" y="231"/>
                  </a:lnTo>
                  <a:lnTo>
                    <a:pt x="976" y="239"/>
                  </a:lnTo>
                  <a:lnTo>
                    <a:pt x="988" y="237"/>
                  </a:lnTo>
                  <a:lnTo>
                    <a:pt x="1001" y="234"/>
                  </a:lnTo>
                  <a:lnTo>
                    <a:pt x="1009" y="235"/>
                  </a:lnTo>
                  <a:lnTo>
                    <a:pt x="1022" y="237"/>
                  </a:lnTo>
                  <a:lnTo>
                    <a:pt x="1025" y="230"/>
                  </a:lnTo>
                  <a:lnTo>
                    <a:pt x="1020" y="221"/>
                  </a:lnTo>
                  <a:lnTo>
                    <a:pt x="1015" y="212"/>
                  </a:lnTo>
                  <a:lnTo>
                    <a:pt x="1012" y="203"/>
                  </a:lnTo>
                  <a:lnTo>
                    <a:pt x="1018" y="197"/>
                  </a:lnTo>
                  <a:lnTo>
                    <a:pt x="1027" y="191"/>
                  </a:lnTo>
                  <a:lnTo>
                    <a:pt x="1040" y="188"/>
                  </a:lnTo>
                  <a:lnTo>
                    <a:pt x="1051" y="185"/>
                  </a:lnTo>
                  <a:lnTo>
                    <a:pt x="1062" y="179"/>
                  </a:lnTo>
                  <a:lnTo>
                    <a:pt x="1072" y="173"/>
                  </a:lnTo>
                  <a:lnTo>
                    <a:pt x="1083" y="169"/>
                  </a:lnTo>
                  <a:lnTo>
                    <a:pt x="1096" y="165"/>
                  </a:lnTo>
                  <a:lnTo>
                    <a:pt x="1113" y="159"/>
                  </a:lnTo>
                  <a:lnTo>
                    <a:pt x="1120" y="167"/>
                  </a:lnTo>
                  <a:lnTo>
                    <a:pt x="1125" y="175"/>
                  </a:lnTo>
                  <a:lnTo>
                    <a:pt x="1132" y="184"/>
                  </a:lnTo>
                  <a:lnTo>
                    <a:pt x="1138" y="192"/>
                  </a:lnTo>
                  <a:lnTo>
                    <a:pt x="1142" y="201"/>
                  </a:lnTo>
                  <a:lnTo>
                    <a:pt x="1145" y="210"/>
                  </a:lnTo>
                  <a:lnTo>
                    <a:pt x="1155" y="216"/>
                  </a:lnTo>
                  <a:lnTo>
                    <a:pt x="1164" y="223"/>
                  </a:lnTo>
                  <a:lnTo>
                    <a:pt x="1176" y="223"/>
                  </a:lnTo>
                  <a:lnTo>
                    <a:pt x="1185" y="224"/>
                  </a:lnTo>
                  <a:lnTo>
                    <a:pt x="1194" y="232"/>
                  </a:lnTo>
                  <a:lnTo>
                    <a:pt x="1204" y="239"/>
                  </a:lnTo>
                  <a:lnTo>
                    <a:pt x="1216" y="235"/>
                  </a:lnTo>
                  <a:lnTo>
                    <a:pt x="1227" y="236"/>
                  </a:lnTo>
                  <a:lnTo>
                    <a:pt x="1234" y="244"/>
                  </a:lnTo>
                  <a:lnTo>
                    <a:pt x="1234" y="251"/>
                  </a:lnTo>
                  <a:lnTo>
                    <a:pt x="1230" y="255"/>
                  </a:lnTo>
                  <a:lnTo>
                    <a:pt x="1232" y="265"/>
                  </a:lnTo>
                  <a:lnTo>
                    <a:pt x="1239" y="273"/>
                  </a:lnTo>
                  <a:lnTo>
                    <a:pt x="1257" y="284"/>
                  </a:lnTo>
                  <a:lnTo>
                    <a:pt x="1244" y="287"/>
                  </a:lnTo>
                  <a:lnTo>
                    <a:pt x="1243" y="296"/>
                  </a:lnTo>
                  <a:lnTo>
                    <a:pt x="1245" y="305"/>
                  </a:lnTo>
                  <a:lnTo>
                    <a:pt x="1254" y="311"/>
                  </a:lnTo>
                  <a:lnTo>
                    <a:pt x="1259" y="317"/>
                  </a:lnTo>
                  <a:lnTo>
                    <a:pt x="1257" y="322"/>
                  </a:lnTo>
                  <a:lnTo>
                    <a:pt x="1257" y="327"/>
                  </a:lnTo>
                  <a:lnTo>
                    <a:pt x="1259" y="334"/>
                  </a:lnTo>
                  <a:lnTo>
                    <a:pt x="1258" y="344"/>
                  </a:lnTo>
                  <a:lnTo>
                    <a:pt x="1265" y="349"/>
                  </a:lnTo>
                  <a:lnTo>
                    <a:pt x="1271" y="355"/>
                  </a:lnTo>
                  <a:lnTo>
                    <a:pt x="1276" y="358"/>
                  </a:lnTo>
                  <a:lnTo>
                    <a:pt x="1289" y="355"/>
                  </a:lnTo>
                  <a:lnTo>
                    <a:pt x="1301" y="354"/>
                  </a:lnTo>
                  <a:lnTo>
                    <a:pt x="1314" y="352"/>
                  </a:lnTo>
                  <a:lnTo>
                    <a:pt x="1325" y="347"/>
                  </a:lnTo>
                  <a:lnTo>
                    <a:pt x="1338" y="347"/>
                  </a:lnTo>
                  <a:lnTo>
                    <a:pt x="1350" y="345"/>
                  </a:lnTo>
                  <a:lnTo>
                    <a:pt x="1363" y="341"/>
                  </a:lnTo>
                  <a:lnTo>
                    <a:pt x="1373" y="335"/>
                  </a:lnTo>
                  <a:lnTo>
                    <a:pt x="1381" y="328"/>
                  </a:lnTo>
                  <a:lnTo>
                    <a:pt x="1388" y="320"/>
                  </a:lnTo>
                  <a:lnTo>
                    <a:pt x="1398" y="313"/>
                  </a:lnTo>
                  <a:lnTo>
                    <a:pt x="1413" y="302"/>
                  </a:lnTo>
                  <a:lnTo>
                    <a:pt x="1429" y="292"/>
                  </a:lnTo>
                  <a:lnTo>
                    <a:pt x="1440" y="290"/>
                  </a:lnTo>
                  <a:lnTo>
                    <a:pt x="1450" y="294"/>
                  </a:lnTo>
                  <a:lnTo>
                    <a:pt x="1454" y="287"/>
                  </a:lnTo>
                  <a:lnTo>
                    <a:pt x="1459" y="281"/>
                  </a:lnTo>
                  <a:lnTo>
                    <a:pt x="1458" y="273"/>
                  </a:lnTo>
                  <a:lnTo>
                    <a:pt x="1452" y="264"/>
                  </a:lnTo>
                  <a:lnTo>
                    <a:pt x="1448" y="255"/>
                  </a:lnTo>
                  <a:lnTo>
                    <a:pt x="1444" y="246"/>
                  </a:lnTo>
                  <a:lnTo>
                    <a:pt x="1438" y="238"/>
                  </a:lnTo>
                  <a:lnTo>
                    <a:pt x="1431" y="230"/>
                  </a:lnTo>
                  <a:lnTo>
                    <a:pt x="1424" y="221"/>
                  </a:lnTo>
                  <a:lnTo>
                    <a:pt x="1431" y="215"/>
                  </a:lnTo>
                  <a:lnTo>
                    <a:pt x="1444" y="211"/>
                  </a:lnTo>
                  <a:lnTo>
                    <a:pt x="1457" y="207"/>
                  </a:lnTo>
                  <a:lnTo>
                    <a:pt x="1466" y="209"/>
                  </a:lnTo>
                  <a:lnTo>
                    <a:pt x="1479" y="208"/>
                  </a:lnTo>
                  <a:lnTo>
                    <a:pt x="1487" y="202"/>
                  </a:lnTo>
                  <a:lnTo>
                    <a:pt x="1493" y="193"/>
                  </a:lnTo>
                  <a:lnTo>
                    <a:pt x="1507" y="194"/>
                  </a:lnTo>
                  <a:lnTo>
                    <a:pt x="1519" y="194"/>
                  </a:lnTo>
                  <a:lnTo>
                    <a:pt x="1532" y="192"/>
                  </a:lnTo>
                  <a:lnTo>
                    <a:pt x="1545" y="192"/>
                  </a:lnTo>
                  <a:lnTo>
                    <a:pt x="1559" y="192"/>
                  </a:lnTo>
                  <a:lnTo>
                    <a:pt x="1570" y="190"/>
                  </a:lnTo>
                  <a:lnTo>
                    <a:pt x="1584" y="190"/>
                  </a:lnTo>
                  <a:lnTo>
                    <a:pt x="1591" y="187"/>
                  </a:lnTo>
                  <a:lnTo>
                    <a:pt x="1587" y="177"/>
                  </a:lnTo>
                  <a:lnTo>
                    <a:pt x="1588" y="168"/>
                  </a:lnTo>
                  <a:lnTo>
                    <a:pt x="1584" y="159"/>
                  </a:lnTo>
                  <a:lnTo>
                    <a:pt x="1598" y="147"/>
                  </a:lnTo>
                  <a:lnTo>
                    <a:pt x="1609" y="141"/>
                  </a:lnTo>
                  <a:lnTo>
                    <a:pt x="1620" y="137"/>
                  </a:lnTo>
                  <a:lnTo>
                    <a:pt x="1633" y="133"/>
                  </a:lnTo>
                  <a:lnTo>
                    <a:pt x="1644" y="129"/>
                  </a:lnTo>
                  <a:lnTo>
                    <a:pt x="1655" y="124"/>
                  </a:lnTo>
                  <a:lnTo>
                    <a:pt x="1665" y="118"/>
                  </a:lnTo>
                  <a:lnTo>
                    <a:pt x="1675" y="112"/>
                  </a:lnTo>
                  <a:lnTo>
                    <a:pt x="1684" y="105"/>
                  </a:lnTo>
                  <a:lnTo>
                    <a:pt x="1694" y="99"/>
                  </a:lnTo>
                  <a:lnTo>
                    <a:pt x="1704" y="93"/>
                  </a:lnTo>
                  <a:lnTo>
                    <a:pt x="1714" y="87"/>
                  </a:lnTo>
                  <a:lnTo>
                    <a:pt x="1722" y="80"/>
                  </a:lnTo>
                  <a:lnTo>
                    <a:pt x="1729" y="72"/>
                  </a:lnTo>
                  <a:lnTo>
                    <a:pt x="1732" y="62"/>
                  </a:lnTo>
                  <a:lnTo>
                    <a:pt x="1739" y="56"/>
                  </a:lnTo>
                  <a:lnTo>
                    <a:pt x="1745" y="49"/>
                  </a:lnTo>
                  <a:lnTo>
                    <a:pt x="1750" y="45"/>
                  </a:lnTo>
                  <a:lnTo>
                    <a:pt x="1739" y="41"/>
                  </a:lnTo>
                  <a:lnTo>
                    <a:pt x="1729" y="34"/>
                  </a:lnTo>
                  <a:lnTo>
                    <a:pt x="1719" y="26"/>
                  </a:lnTo>
                  <a:lnTo>
                    <a:pt x="1721" y="20"/>
                  </a:lnTo>
                  <a:lnTo>
                    <a:pt x="1735" y="17"/>
                  </a:lnTo>
                  <a:lnTo>
                    <a:pt x="1747" y="14"/>
                  </a:lnTo>
                  <a:lnTo>
                    <a:pt x="1760" y="10"/>
                  </a:lnTo>
                  <a:lnTo>
                    <a:pt x="1773" y="7"/>
                  </a:lnTo>
                  <a:lnTo>
                    <a:pt x="1780" y="11"/>
                  </a:lnTo>
                  <a:lnTo>
                    <a:pt x="1793" y="9"/>
                  </a:lnTo>
                  <a:lnTo>
                    <a:pt x="1806" y="7"/>
                  </a:lnTo>
                  <a:lnTo>
                    <a:pt x="1807" y="0"/>
                  </a:lnTo>
                  <a:lnTo>
                    <a:pt x="1817" y="3"/>
                  </a:lnTo>
                  <a:lnTo>
                    <a:pt x="1830" y="2"/>
                  </a:lnTo>
                  <a:lnTo>
                    <a:pt x="1834" y="8"/>
                  </a:lnTo>
                  <a:lnTo>
                    <a:pt x="1848" y="6"/>
                  </a:lnTo>
                  <a:lnTo>
                    <a:pt x="1848" y="15"/>
                  </a:lnTo>
                  <a:lnTo>
                    <a:pt x="1847" y="25"/>
                  </a:lnTo>
                  <a:lnTo>
                    <a:pt x="1847" y="34"/>
                  </a:lnTo>
                  <a:lnTo>
                    <a:pt x="1847" y="43"/>
                  </a:lnTo>
                  <a:lnTo>
                    <a:pt x="1847" y="53"/>
                  </a:lnTo>
                  <a:lnTo>
                    <a:pt x="1847" y="62"/>
                  </a:lnTo>
                  <a:lnTo>
                    <a:pt x="1847" y="71"/>
                  </a:lnTo>
                  <a:lnTo>
                    <a:pt x="1845" y="81"/>
                  </a:lnTo>
                  <a:lnTo>
                    <a:pt x="1851" y="89"/>
                  </a:lnTo>
                  <a:lnTo>
                    <a:pt x="1858" y="97"/>
                  </a:lnTo>
                  <a:lnTo>
                    <a:pt x="1866" y="104"/>
                  </a:lnTo>
                  <a:lnTo>
                    <a:pt x="1876" y="111"/>
                  </a:lnTo>
                  <a:lnTo>
                    <a:pt x="1886" y="117"/>
                  </a:lnTo>
                  <a:lnTo>
                    <a:pt x="1897" y="121"/>
                  </a:lnTo>
                  <a:lnTo>
                    <a:pt x="1900" y="128"/>
                  </a:lnTo>
                  <a:lnTo>
                    <a:pt x="1907" y="136"/>
                  </a:lnTo>
                  <a:lnTo>
                    <a:pt x="1911" y="146"/>
                  </a:lnTo>
                  <a:lnTo>
                    <a:pt x="1923" y="159"/>
                  </a:lnTo>
                  <a:lnTo>
                    <a:pt x="1929" y="167"/>
                  </a:lnTo>
                  <a:lnTo>
                    <a:pt x="1936" y="175"/>
                  </a:lnTo>
                  <a:lnTo>
                    <a:pt x="1944" y="183"/>
                  </a:lnTo>
                  <a:lnTo>
                    <a:pt x="1946" y="191"/>
                  </a:lnTo>
                  <a:lnTo>
                    <a:pt x="1946" y="198"/>
                  </a:lnTo>
                  <a:lnTo>
                    <a:pt x="1950" y="205"/>
                  </a:lnTo>
                  <a:lnTo>
                    <a:pt x="1950" y="214"/>
                  </a:lnTo>
                  <a:lnTo>
                    <a:pt x="1953" y="223"/>
                  </a:lnTo>
                  <a:lnTo>
                    <a:pt x="1958" y="229"/>
                  </a:lnTo>
                  <a:lnTo>
                    <a:pt x="1960" y="239"/>
                  </a:lnTo>
                  <a:lnTo>
                    <a:pt x="1963" y="248"/>
                  </a:lnTo>
                  <a:lnTo>
                    <a:pt x="1967" y="257"/>
                  </a:lnTo>
                  <a:lnTo>
                    <a:pt x="1971" y="265"/>
                  </a:lnTo>
                  <a:lnTo>
                    <a:pt x="1977" y="274"/>
                  </a:lnTo>
                  <a:lnTo>
                    <a:pt x="1982" y="282"/>
                  </a:lnTo>
                  <a:lnTo>
                    <a:pt x="1989" y="290"/>
                  </a:lnTo>
                  <a:lnTo>
                    <a:pt x="1996" y="298"/>
                  </a:lnTo>
                  <a:lnTo>
                    <a:pt x="2003" y="306"/>
                  </a:lnTo>
                  <a:lnTo>
                    <a:pt x="2009" y="315"/>
                  </a:lnTo>
                  <a:lnTo>
                    <a:pt x="2010" y="324"/>
                  </a:lnTo>
                  <a:lnTo>
                    <a:pt x="2010" y="333"/>
                  </a:lnTo>
                  <a:lnTo>
                    <a:pt x="2007" y="342"/>
                  </a:lnTo>
                  <a:lnTo>
                    <a:pt x="2005" y="351"/>
                  </a:lnTo>
                  <a:lnTo>
                    <a:pt x="1998" y="359"/>
                  </a:lnTo>
                  <a:lnTo>
                    <a:pt x="1989" y="366"/>
                  </a:lnTo>
                  <a:lnTo>
                    <a:pt x="1981" y="374"/>
                  </a:lnTo>
                  <a:lnTo>
                    <a:pt x="1974" y="381"/>
                  </a:lnTo>
                  <a:lnTo>
                    <a:pt x="1967" y="389"/>
                  </a:lnTo>
                  <a:lnTo>
                    <a:pt x="1960" y="397"/>
                  </a:lnTo>
                  <a:lnTo>
                    <a:pt x="1953" y="405"/>
                  </a:lnTo>
                  <a:lnTo>
                    <a:pt x="1944" y="412"/>
                  </a:lnTo>
                  <a:lnTo>
                    <a:pt x="1936" y="419"/>
                  </a:lnTo>
                  <a:lnTo>
                    <a:pt x="1928" y="426"/>
                  </a:lnTo>
                  <a:lnTo>
                    <a:pt x="1919" y="434"/>
                  </a:lnTo>
                  <a:lnTo>
                    <a:pt x="1910" y="434"/>
                  </a:lnTo>
                  <a:lnTo>
                    <a:pt x="1898" y="435"/>
                  </a:lnTo>
                  <a:lnTo>
                    <a:pt x="1887" y="441"/>
                  </a:lnTo>
                  <a:lnTo>
                    <a:pt x="1876" y="446"/>
                  </a:lnTo>
                  <a:lnTo>
                    <a:pt x="1865" y="451"/>
                  </a:lnTo>
                  <a:lnTo>
                    <a:pt x="1854" y="455"/>
                  </a:lnTo>
                  <a:lnTo>
                    <a:pt x="1841" y="457"/>
                  </a:lnTo>
                  <a:lnTo>
                    <a:pt x="1828" y="458"/>
                  </a:lnTo>
                  <a:lnTo>
                    <a:pt x="1819" y="459"/>
                  </a:lnTo>
                  <a:lnTo>
                    <a:pt x="1813" y="464"/>
                  </a:lnTo>
                  <a:lnTo>
                    <a:pt x="1800" y="462"/>
                  </a:lnTo>
                  <a:lnTo>
                    <a:pt x="1786" y="461"/>
                  </a:lnTo>
                  <a:lnTo>
                    <a:pt x="1774" y="462"/>
                  </a:lnTo>
                  <a:lnTo>
                    <a:pt x="1761" y="465"/>
                  </a:lnTo>
                  <a:lnTo>
                    <a:pt x="1753" y="472"/>
                  </a:lnTo>
                  <a:lnTo>
                    <a:pt x="1746" y="480"/>
                  </a:lnTo>
                  <a:lnTo>
                    <a:pt x="1739" y="488"/>
                  </a:lnTo>
                  <a:lnTo>
                    <a:pt x="1732" y="496"/>
                  </a:lnTo>
                  <a:lnTo>
                    <a:pt x="1724" y="503"/>
                  </a:lnTo>
                  <a:lnTo>
                    <a:pt x="1718" y="511"/>
                  </a:lnTo>
                  <a:lnTo>
                    <a:pt x="1715" y="521"/>
                  </a:lnTo>
                  <a:lnTo>
                    <a:pt x="1715" y="530"/>
                  </a:lnTo>
                  <a:lnTo>
                    <a:pt x="1718" y="539"/>
                  </a:lnTo>
                  <a:lnTo>
                    <a:pt x="1724" y="547"/>
                  </a:lnTo>
                  <a:lnTo>
                    <a:pt x="1731" y="555"/>
                  </a:lnTo>
                  <a:lnTo>
                    <a:pt x="1739" y="563"/>
                  </a:lnTo>
                  <a:lnTo>
                    <a:pt x="1746" y="570"/>
                  </a:lnTo>
                  <a:lnTo>
                    <a:pt x="1754" y="577"/>
                  </a:lnTo>
                  <a:lnTo>
                    <a:pt x="1763" y="585"/>
                  </a:lnTo>
                  <a:lnTo>
                    <a:pt x="1770" y="592"/>
                  </a:lnTo>
                  <a:lnTo>
                    <a:pt x="1778" y="600"/>
                  </a:lnTo>
                  <a:lnTo>
                    <a:pt x="1782" y="610"/>
                  </a:lnTo>
                  <a:lnTo>
                    <a:pt x="1786" y="619"/>
                  </a:lnTo>
                  <a:lnTo>
                    <a:pt x="1782" y="627"/>
                  </a:lnTo>
                  <a:lnTo>
                    <a:pt x="1788" y="634"/>
                  </a:lnTo>
                  <a:lnTo>
                    <a:pt x="1786" y="644"/>
                  </a:lnTo>
                  <a:lnTo>
                    <a:pt x="1791" y="649"/>
                  </a:lnTo>
                  <a:lnTo>
                    <a:pt x="1795" y="654"/>
                  </a:lnTo>
                  <a:lnTo>
                    <a:pt x="1795" y="664"/>
                  </a:lnTo>
                  <a:lnTo>
                    <a:pt x="1795" y="673"/>
                  </a:lnTo>
                  <a:lnTo>
                    <a:pt x="1793" y="680"/>
                  </a:lnTo>
                  <a:lnTo>
                    <a:pt x="1788" y="688"/>
                  </a:lnTo>
                  <a:lnTo>
                    <a:pt x="1788" y="698"/>
                  </a:lnTo>
                  <a:lnTo>
                    <a:pt x="1789" y="707"/>
                  </a:lnTo>
                  <a:lnTo>
                    <a:pt x="1792" y="716"/>
                  </a:lnTo>
                  <a:lnTo>
                    <a:pt x="1798" y="725"/>
                  </a:lnTo>
                  <a:lnTo>
                    <a:pt x="1803" y="733"/>
                  </a:lnTo>
                  <a:lnTo>
                    <a:pt x="1810" y="741"/>
                  </a:lnTo>
                  <a:lnTo>
                    <a:pt x="1821" y="757"/>
                  </a:lnTo>
                  <a:lnTo>
                    <a:pt x="1826" y="766"/>
                  </a:lnTo>
                  <a:lnTo>
                    <a:pt x="1830" y="775"/>
                  </a:lnTo>
                  <a:lnTo>
                    <a:pt x="1834" y="783"/>
                  </a:lnTo>
                  <a:lnTo>
                    <a:pt x="1838" y="792"/>
                  </a:lnTo>
                  <a:lnTo>
                    <a:pt x="1841" y="801"/>
                  </a:lnTo>
                  <a:lnTo>
                    <a:pt x="1842" y="811"/>
                  </a:lnTo>
                  <a:lnTo>
                    <a:pt x="1842" y="820"/>
                  </a:lnTo>
                  <a:lnTo>
                    <a:pt x="1841" y="829"/>
                  </a:lnTo>
                  <a:lnTo>
                    <a:pt x="1840" y="839"/>
                  </a:lnTo>
                  <a:lnTo>
                    <a:pt x="1838" y="848"/>
                  </a:lnTo>
                  <a:lnTo>
                    <a:pt x="1834" y="857"/>
                  </a:lnTo>
                  <a:lnTo>
                    <a:pt x="1828" y="865"/>
                  </a:lnTo>
                  <a:lnTo>
                    <a:pt x="1824" y="874"/>
                  </a:lnTo>
                  <a:lnTo>
                    <a:pt x="1817" y="882"/>
                  </a:lnTo>
                  <a:lnTo>
                    <a:pt x="1810" y="890"/>
                  </a:lnTo>
                  <a:lnTo>
                    <a:pt x="1803" y="898"/>
                  </a:lnTo>
                  <a:lnTo>
                    <a:pt x="1798" y="906"/>
                  </a:lnTo>
                  <a:lnTo>
                    <a:pt x="1791" y="914"/>
                  </a:lnTo>
                  <a:lnTo>
                    <a:pt x="1784" y="921"/>
                  </a:lnTo>
                  <a:lnTo>
                    <a:pt x="1777" y="929"/>
                  </a:lnTo>
                  <a:lnTo>
                    <a:pt x="1770" y="937"/>
                  </a:lnTo>
                  <a:lnTo>
                    <a:pt x="1767" y="946"/>
                  </a:lnTo>
                  <a:lnTo>
                    <a:pt x="1766" y="956"/>
                  </a:lnTo>
                  <a:lnTo>
                    <a:pt x="1766" y="965"/>
                  </a:lnTo>
                  <a:lnTo>
                    <a:pt x="1768" y="974"/>
                  </a:lnTo>
                  <a:lnTo>
                    <a:pt x="1770" y="983"/>
                  </a:lnTo>
                  <a:lnTo>
                    <a:pt x="1773" y="993"/>
                  </a:lnTo>
                  <a:lnTo>
                    <a:pt x="1777" y="1002"/>
                  </a:lnTo>
                  <a:lnTo>
                    <a:pt x="1780" y="1011"/>
                  </a:lnTo>
                  <a:lnTo>
                    <a:pt x="1781" y="1020"/>
                  </a:lnTo>
                  <a:lnTo>
                    <a:pt x="1782" y="1029"/>
                  </a:lnTo>
                  <a:lnTo>
                    <a:pt x="1784" y="1038"/>
                  </a:lnTo>
                  <a:lnTo>
                    <a:pt x="1785" y="1048"/>
                  </a:lnTo>
                  <a:lnTo>
                    <a:pt x="1785" y="1057"/>
                  </a:lnTo>
                  <a:lnTo>
                    <a:pt x="1786" y="1067"/>
                  </a:lnTo>
                  <a:lnTo>
                    <a:pt x="1788" y="1077"/>
                  </a:lnTo>
                  <a:lnTo>
                    <a:pt x="1791" y="1086"/>
                  </a:lnTo>
                  <a:lnTo>
                    <a:pt x="1793" y="1095"/>
                  </a:lnTo>
                  <a:lnTo>
                    <a:pt x="1802" y="1102"/>
                  </a:lnTo>
                  <a:lnTo>
                    <a:pt x="1809" y="1110"/>
                  </a:lnTo>
                  <a:lnTo>
                    <a:pt x="1816" y="1117"/>
                  </a:lnTo>
                  <a:lnTo>
                    <a:pt x="1824" y="1125"/>
                  </a:lnTo>
                  <a:lnTo>
                    <a:pt x="1833" y="1132"/>
                  </a:lnTo>
                  <a:lnTo>
                    <a:pt x="1840" y="1140"/>
                  </a:lnTo>
                  <a:lnTo>
                    <a:pt x="1841" y="1149"/>
                  </a:lnTo>
                  <a:lnTo>
                    <a:pt x="1838" y="1159"/>
                  </a:lnTo>
                  <a:lnTo>
                    <a:pt x="1835" y="1168"/>
                  </a:lnTo>
                  <a:lnTo>
                    <a:pt x="1833" y="1177"/>
                  </a:lnTo>
                  <a:lnTo>
                    <a:pt x="1830" y="1186"/>
                  </a:lnTo>
                  <a:lnTo>
                    <a:pt x="1826" y="1195"/>
                  </a:lnTo>
                  <a:lnTo>
                    <a:pt x="1823" y="1204"/>
                  </a:lnTo>
                  <a:lnTo>
                    <a:pt x="1821" y="1214"/>
                  </a:lnTo>
                  <a:lnTo>
                    <a:pt x="1814" y="1219"/>
                  </a:lnTo>
                  <a:lnTo>
                    <a:pt x="1813" y="1228"/>
                  </a:lnTo>
                  <a:lnTo>
                    <a:pt x="1812" y="1237"/>
                  </a:lnTo>
                  <a:lnTo>
                    <a:pt x="1812" y="1247"/>
                  </a:lnTo>
                  <a:lnTo>
                    <a:pt x="1805" y="1253"/>
                  </a:lnTo>
                  <a:lnTo>
                    <a:pt x="1792" y="1253"/>
                  </a:lnTo>
                  <a:lnTo>
                    <a:pt x="1780" y="1252"/>
                  </a:lnTo>
                  <a:lnTo>
                    <a:pt x="1768" y="1246"/>
                  </a:lnTo>
                  <a:lnTo>
                    <a:pt x="1760" y="1239"/>
                  </a:lnTo>
                  <a:lnTo>
                    <a:pt x="1750" y="1232"/>
                  </a:lnTo>
                  <a:lnTo>
                    <a:pt x="1740" y="1228"/>
                  </a:lnTo>
                  <a:lnTo>
                    <a:pt x="1728" y="1230"/>
                  </a:lnTo>
                  <a:lnTo>
                    <a:pt x="1724" y="1238"/>
                  </a:lnTo>
                  <a:lnTo>
                    <a:pt x="1726" y="1247"/>
                  </a:lnTo>
                  <a:lnTo>
                    <a:pt x="1732" y="1256"/>
                  </a:lnTo>
                  <a:lnTo>
                    <a:pt x="1738" y="1264"/>
                  </a:lnTo>
                  <a:lnTo>
                    <a:pt x="1746" y="1272"/>
                  </a:lnTo>
                  <a:lnTo>
                    <a:pt x="1746" y="1282"/>
                  </a:lnTo>
                  <a:lnTo>
                    <a:pt x="1742" y="1291"/>
                  </a:lnTo>
                  <a:lnTo>
                    <a:pt x="1733" y="1299"/>
                  </a:lnTo>
                  <a:lnTo>
                    <a:pt x="1724" y="1303"/>
                  </a:lnTo>
                  <a:lnTo>
                    <a:pt x="1710" y="1299"/>
                  </a:lnTo>
                  <a:lnTo>
                    <a:pt x="1698" y="1301"/>
                  </a:lnTo>
                  <a:lnTo>
                    <a:pt x="1690" y="1308"/>
                  </a:lnTo>
                  <a:lnTo>
                    <a:pt x="1683" y="1316"/>
                  </a:lnTo>
                  <a:lnTo>
                    <a:pt x="1675" y="1323"/>
                  </a:lnTo>
                  <a:lnTo>
                    <a:pt x="1662" y="1327"/>
                  </a:lnTo>
                  <a:lnTo>
                    <a:pt x="1652" y="1332"/>
                  </a:lnTo>
                  <a:lnTo>
                    <a:pt x="1648" y="1341"/>
                  </a:lnTo>
                  <a:lnTo>
                    <a:pt x="1641" y="1354"/>
                  </a:lnTo>
                  <a:lnTo>
                    <a:pt x="1643" y="1362"/>
                  </a:lnTo>
                  <a:lnTo>
                    <a:pt x="1654" y="1368"/>
                  </a:lnTo>
                  <a:lnTo>
                    <a:pt x="1665" y="1367"/>
                  </a:lnTo>
                  <a:lnTo>
                    <a:pt x="1676" y="1361"/>
                  </a:lnTo>
                  <a:lnTo>
                    <a:pt x="1687" y="1355"/>
                  </a:lnTo>
                  <a:lnTo>
                    <a:pt x="1697" y="1348"/>
                  </a:lnTo>
                  <a:lnTo>
                    <a:pt x="1708" y="1344"/>
                  </a:lnTo>
                  <a:lnTo>
                    <a:pt x="1717" y="1337"/>
                  </a:lnTo>
                  <a:lnTo>
                    <a:pt x="1725" y="1330"/>
                  </a:lnTo>
                  <a:lnTo>
                    <a:pt x="1736" y="1325"/>
                  </a:lnTo>
                  <a:lnTo>
                    <a:pt x="1739" y="1333"/>
                  </a:lnTo>
                  <a:lnTo>
                    <a:pt x="1738" y="1343"/>
                  </a:lnTo>
                  <a:lnTo>
                    <a:pt x="1728" y="1354"/>
                  </a:lnTo>
                  <a:lnTo>
                    <a:pt x="1726" y="1364"/>
                  </a:lnTo>
                  <a:lnTo>
                    <a:pt x="1726" y="1373"/>
                  </a:lnTo>
                  <a:lnTo>
                    <a:pt x="1735" y="1380"/>
                  </a:lnTo>
                  <a:lnTo>
                    <a:pt x="1732" y="1388"/>
                  </a:lnTo>
                  <a:lnTo>
                    <a:pt x="1719" y="1389"/>
                  </a:lnTo>
                  <a:lnTo>
                    <a:pt x="1705" y="1388"/>
                  </a:lnTo>
                  <a:lnTo>
                    <a:pt x="1694" y="1392"/>
                  </a:lnTo>
                  <a:lnTo>
                    <a:pt x="1691" y="1401"/>
                  </a:lnTo>
                  <a:lnTo>
                    <a:pt x="1684" y="1407"/>
                  </a:lnTo>
                  <a:lnTo>
                    <a:pt x="1680" y="1413"/>
                  </a:lnTo>
                  <a:lnTo>
                    <a:pt x="1677" y="1423"/>
                  </a:lnTo>
                  <a:lnTo>
                    <a:pt x="1673" y="1432"/>
                  </a:lnTo>
                  <a:lnTo>
                    <a:pt x="1669" y="1440"/>
                  </a:lnTo>
                  <a:lnTo>
                    <a:pt x="1666" y="1450"/>
                  </a:lnTo>
                  <a:lnTo>
                    <a:pt x="1672" y="1456"/>
                  </a:lnTo>
                  <a:lnTo>
                    <a:pt x="1672" y="1465"/>
                  </a:lnTo>
                  <a:lnTo>
                    <a:pt x="1672" y="1475"/>
                  </a:lnTo>
                  <a:lnTo>
                    <a:pt x="1670" y="1484"/>
                  </a:lnTo>
                  <a:lnTo>
                    <a:pt x="1668" y="1493"/>
                  </a:lnTo>
                  <a:lnTo>
                    <a:pt x="1661" y="1501"/>
                  </a:lnTo>
                  <a:lnTo>
                    <a:pt x="1652" y="1508"/>
                  </a:lnTo>
                  <a:lnTo>
                    <a:pt x="1644" y="1516"/>
                  </a:lnTo>
                  <a:lnTo>
                    <a:pt x="1636" y="1524"/>
                  </a:lnTo>
                  <a:lnTo>
                    <a:pt x="1629" y="1531"/>
                  </a:lnTo>
                  <a:lnTo>
                    <a:pt x="1622" y="1539"/>
                  </a:lnTo>
                  <a:lnTo>
                    <a:pt x="1613" y="1547"/>
                  </a:lnTo>
                  <a:lnTo>
                    <a:pt x="1627" y="1562"/>
                  </a:lnTo>
                  <a:lnTo>
                    <a:pt x="1603" y="1562"/>
                  </a:lnTo>
                  <a:lnTo>
                    <a:pt x="1591" y="1562"/>
                  </a:lnTo>
                  <a:lnTo>
                    <a:pt x="1577" y="1562"/>
                  </a:lnTo>
                  <a:lnTo>
                    <a:pt x="1564" y="1563"/>
                  </a:lnTo>
                  <a:lnTo>
                    <a:pt x="1552" y="1563"/>
                  </a:lnTo>
                  <a:lnTo>
                    <a:pt x="1546" y="1554"/>
                  </a:lnTo>
                  <a:lnTo>
                    <a:pt x="1535" y="1550"/>
                  </a:lnTo>
                  <a:lnTo>
                    <a:pt x="1522" y="1552"/>
                  </a:lnTo>
                  <a:lnTo>
                    <a:pt x="1510" y="1555"/>
                  </a:lnTo>
                  <a:lnTo>
                    <a:pt x="1499" y="1555"/>
                  </a:lnTo>
                  <a:lnTo>
                    <a:pt x="1487" y="1558"/>
                  </a:lnTo>
                  <a:lnTo>
                    <a:pt x="1478" y="1558"/>
                  </a:lnTo>
                  <a:lnTo>
                    <a:pt x="1471" y="1549"/>
                  </a:lnTo>
                  <a:lnTo>
                    <a:pt x="1461" y="1543"/>
                  </a:lnTo>
                  <a:lnTo>
                    <a:pt x="1451" y="1536"/>
                  </a:lnTo>
                  <a:lnTo>
                    <a:pt x="1441" y="1536"/>
                  </a:lnTo>
                  <a:lnTo>
                    <a:pt x="1431" y="1540"/>
                  </a:lnTo>
                  <a:lnTo>
                    <a:pt x="1424" y="1532"/>
                  </a:lnTo>
                  <a:lnTo>
                    <a:pt x="1413" y="1528"/>
                  </a:lnTo>
                  <a:lnTo>
                    <a:pt x="1402" y="1523"/>
                  </a:lnTo>
                  <a:lnTo>
                    <a:pt x="1391" y="1517"/>
                  </a:lnTo>
                  <a:lnTo>
                    <a:pt x="1381" y="1513"/>
                  </a:lnTo>
                  <a:lnTo>
                    <a:pt x="1371" y="1521"/>
                  </a:lnTo>
                  <a:lnTo>
                    <a:pt x="1364" y="1526"/>
                  </a:lnTo>
                  <a:lnTo>
                    <a:pt x="1362" y="1515"/>
                  </a:lnTo>
                  <a:lnTo>
                    <a:pt x="1356" y="1506"/>
                  </a:lnTo>
                  <a:lnTo>
                    <a:pt x="1350" y="1498"/>
                  </a:lnTo>
                  <a:lnTo>
                    <a:pt x="1339" y="1493"/>
                  </a:lnTo>
                  <a:lnTo>
                    <a:pt x="1331" y="1486"/>
                  </a:lnTo>
                  <a:lnTo>
                    <a:pt x="1322" y="1479"/>
                  </a:lnTo>
                  <a:lnTo>
                    <a:pt x="1311" y="1473"/>
                  </a:lnTo>
                  <a:lnTo>
                    <a:pt x="1304" y="1466"/>
                  </a:lnTo>
                  <a:lnTo>
                    <a:pt x="1297" y="1458"/>
                  </a:lnTo>
                  <a:lnTo>
                    <a:pt x="1289" y="1451"/>
                  </a:lnTo>
                  <a:lnTo>
                    <a:pt x="1282" y="1443"/>
                  </a:lnTo>
                  <a:lnTo>
                    <a:pt x="1275" y="1435"/>
                  </a:lnTo>
                  <a:lnTo>
                    <a:pt x="1265" y="1429"/>
                  </a:lnTo>
                  <a:lnTo>
                    <a:pt x="1254" y="1424"/>
                  </a:lnTo>
                  <a:lnTo>
                    <a:pt x="1243" y="1419"/>
                  </a:lnTo>
                  <a:lnTo>
                    <a:pt x="1232" y="1414"/>
                  </a:lnTo>
                  <a:lnTo>
                    <a:pt x="1225" y="1407"/>
                  </a:lnTo>
                  <a:lnTo>
                    <a:pt x="1225" y="1397"/>
                  </a:lnTo>
                  <a:lnTo>
                    <a:pt x="1219" y="1389"/>
                  </a:lnTo>
                  <a:lnTo>
                    <a:pt x="1206" y="1392"/>
                  </a:lnTo>
                  <a:lnTo>
                    <a:pt x="1198" y="1399"/>
                  </a:lnTo>
                  <a:lnTo>
                    <a:pt x="1191" y="1406"/>
                  </a:lnTo>
                  <a:lnTo>
                    <a:pt x="1178" y="1409"/>
                  </a:lnTo>
                  <a:lnTo>
                    <a:pt x="1174" y="1402"/>
                  </a:lnTo>
                  <a:lnTo>
                    <a:pt x="1173" y="1393"/>
                  </a:lnTo>
                  <a:lnTo>
                    <a:pt x="1164" y="1386"/>
                  </a:lnTo>
                  <a:lnTo>
                    <a:pt x="1155" y="1380"/>
                  </a:lnTo>
                  <a:lnTo>
                    <a:pt x="1141" y="1377"/>
                  </a:lnTo>
                  <a:lnTo>
                    <a:pt x="1134" y="1372"/>
                  </a:lnTo>
                  <a:lnTo>
                    <a:pt x="1129" y="1354"/>
                  </a:lnTo>
                  <a:lnTo>
                    <a:pt x="1121" y="1347"/>
                  </a:lnTo>
                  <a:lnTo>
                    <a:pt x="1124" y="1340"/>
                  </a:lnTo>
                  <a:lnTo>
                    <a:pt x="1136" y="1337"/>
                  </a:lnTo>
                  <a:lnTo>
                    <a:pt x="1139" y="1329"/>
                  </a:lnTo>
                  <a:lnTo>
                    <a:pt x="1131" y="1321"/>
                  </a:lnTo>
                  <a:lnTo>
                    <a:pt x="1121" y="1325"/>
                  </a:lnTo>
                  <a:lnTo>
                    <a:pt x="1110" y="1330"/>
                  </a:lnTo>
                  <a:lnTo>
                    <a:pt x="1097" y="1329"/>
                  </a:lnTo>
                  <a:lnTo>
                    <a:pt x="1088" y="1325"/>
                  </a:lnTo>
                  <a:lnTo>
                    <a:pt x="1079" y="1318"/>
                  </a:lnTo>
                  <a:lnTo>
                    <a:pt x="1068" y="1315"/>
                  </a:lnTo>
                  <a:lnTo>
                    <a:pt x="1055" y="1311"/>
                  </a:lnTo>
                  <a:lnTo>
                    <a:pt x="1047" y="1305"/>
                  </a:lnTo>
                  <a:lnTo>
                    <a:pt x="1053" y="1297"/>
                  </a:lnTo>
                  <a:lnTo>
                    <a:pt x="1061" y="1290"/>
                  </a:lnTo>
                  <a:lnTo>
                    <a:pt x="1068" y="1282"/>
                  </a:lnTo>
                  <a:lnTo>
                    <a:pt x="1068" y="1273"/>
                  </a:lnTo>
                  <a:lnTo>
                    <a:pt x="1072" y="1264"/>
                  </a:lnTo>
                  <a:lnTo>
                    <a:pt x="1071" y="1255"/>
                  </a:lnTo>
                  <a:lnTo>
                    <a:pt x="1069" y="1246"/>
                  </a:lnTo>
                  <a:lnTo>
                    <a:pt x="1062" y="1239"/>
                  </a:lnTo>
                  <a:lnTo>
                    <a:pt x="1067" y="1232"/>
                  </a:lnTo>
                  <a:lnTo>
                    <a:pt x="1075" y="1224"/>
                  </a:lnTo>
                  <a:lnTo>
                    <a:pt x="1071" y="1218"/>
                  </a:lnTo>
                  <a:lnTo>
                    <a:pt x="1058" y="1219"/>
                  </a:lnTo>
                  <a:lnTo>
                    <a:pt x="1054" y="1229"/>
                  </a:lnTo>
                  <a:lnTo>
                    <a:pt x="1043" y="1227"/>
                  </a:lnTo>
                  <a:lnTo>
                    <a:pt x="1032" y="1222"/>
                  </a:lnTo>
                  <a:lnTo>
                    <a:pt x="1025" y="1215"/>
                  </a:lnTo>
                  <a:lnTo>
                    <a:pt x="1030" y="1206"/>
                  </a:lnTo>
                  <a:lnTo>
                    <a:pt x="1029" y="1198"/>
                  </a:lnTo>
                  <a:lnTo>
                    <a:pt x="1016" y="1193"/>
                  </a:lnTo>
                  <a:lnTo>
                    <a:pt x="1009" y="1187"/>
                  </a:lnTo>
                  <a:lnTo>
                    <a:pt x="1004" y="1179"/>
                  </a:lnTo>
                  <a:lnTo>
                    <a:pt x="991" y="1178"/>
                  </a:lnTo>
                  <a:lnTo>
                    <a:pt x="977" y="1177"/>
                  </a:lnTo>
                  <a:lnTo>
                    <a:pt x="965" y="1175"/>
                  </a:lnTo>
                  <a:lnTo>
                    <a:pt x="958" y="1169"/>
                  </a:lnTo>
                  <a:lnTo>
                    <a:pt x="951" y="1161"/>
                  </a:lnTo>
                  <a:lnTo>
                    <a:pt x="942" y="1164"/>
                  </a:lnTo>
                  <a:lnTo>
                    <a:pt x="945" y="1173"/>
                  </a:lnTo>
                  <a:lnTo>
                    <a:pt x="949" y="1182"/>
                  </a:lnTo>
                  <a:lnTo>
                    <a:pt x="952" y="1191"/>
                  </a:lnTo>
                  <a:lnTo>
                    <a:pt x="952" y="1200"/>
                  </a:lnTo>
                  <a:lnTo>
                    <a:pt x="951" y="1210"/>
                  </a:lnTo>
                  <a:lnTo>
                    <a:pt x="952" y="1219"/>
                  </a:lnTo>
                  <a:lnTo>
                    <a:pt x="951" y="1227"/>
                  </a:lnTo>
                  <a:lnTo>
                    <a:pt x="938" y="1231"/>
                  </a:lnTo>
                  <a:lnTo>
                    <a:pt x="925" y="1236"/>
                  </a:lnTo>
                  <a:lnTo>
                    <a:pt x="916" y="1241"/>
                  </a:lnTo>
                  <a:lnTo>
                    <a:pt x="916" y="1249"/>
                  </a:lnTo>
                  <a:lnTo>
                    <a:pt x="927" y="1255"/>
                  </a:lnTo>
                  <a:lnTo>
                    <a:pt x="916" y="1260"/>
                  </a:lnTo>
                  <a:lnTo>
                    <a:pt x="903" y="1261"/>
                  </a:lnTo>
                  <a:lnTo>
                    <a:pt x="890" y="1258"/>
                  </a:lnTo>
                  <a:lnTo>
                    <a:pt x="878" y="1260"/>
                  </a:lnTo>
                  <a:lnTo>
                    <a:pt x="879" y="1268"/>
                  </a:lnTo>
                  <a:lnTo>
                    <a:pt x="879" y="1278"/>
                  </a:lnTo>
                  <a:lnTo>
                    <a:pt x="868" y="1282"/>
                  </a:lnTo>
                  <a:lnTo>
                    <a:pt x="855" y="1286"/>
                  </a:lnTo>
                  <a:lnTo>
                    <a:pt x="844" y="1290"/>
                  </a:lnTo>
                  <a:lnTo>
                    <a:pt x="833" y="1294"/>
                  </a:lnTo>
                  <a:lnTo>
                    <a:pt x="823" y="1299"/>
                  </a:lnTo>
                  <a:lnTo>
                    <a:pt x="815" y="1307"/>
                  </a:lnTo>
                  <a:lnTo>
                    <a:pt x="805" y="1311"/>
                  </a:lnTo>
                  <a:lnTo>
                    <a:pt x="791" y="1312"/>
                  </a:lnTo>
                  <a:lnTo>
                    <a:pt x="780" y="1317"/>
                  </a:lnTo>
                  <a:lnTo>
                    <a:pt x="772" y="1324"/>
                  </a:lnTo>
                  <a:lnTo>
                    <a:pt x="763" y="1331"/>
                  </a:lnTo>
                  <a:lnTo>
                    <a:pt x="753" y="1337"/>
                  </a:lnTo>
                  <a:lnTo>
                    <a:pt x="741" y="1337"/>
                  </a:lnTo>
                  <a:lnTo>
                    <a:pt x="728" y="1333"/>
                  </a:lnTo>
                  <a:lnTo>
                    <a:pt x="718" y="1326"/>
                  </a:lnTo>
                  <a:lnTo>
                    <a:pt x="713" y="1318"/>
                  </a:lnTo>
                  <a:lnTo>
                    <a:pt x="709" y="1309"/>
                  </a:lnTo>
                  <a:lnTo>
                    <a:pt x="720" y="1306"/>
                  </a:lnTo>
                  <a:lnTo>
                    <a:pt x="734" y="1305"/>
                  </a:lnTo>
                  <a:lnTo>
                    <a:pt x="746" y="1304"/>
                  </a:lnTo>
                  <a:lnTo>
                    <a:pt x="755" y="1297"/>
                  </a:lnTo>
                  <a:lnTo>
                    <a:pt x="766" y="1295"/>
                  </a:lnTo>
                  <a:lnTo>
                    <a:pt x="779" y="1291"/>
                  </a:lnTo>
                  <a:lnTo>
                    <a:pt x="787" y="1284"/>
                  </a:lnTo>
                  <a:lnTo>
                    <a:pt x="798" y="1278"/>
                  </a:lnTo>
                  <a:lnTo>
                    <a:pt x="801" y="1269"/>
                  </a:lnTo>
                  <a:lnTo>
                    <a:pt x="801" y="1260"/>
                  </a:lnTo>
                  <a:lnTo>
                    <a:pt x="807" y="1252"/>
                  </a:lnTo>
                  <a:lnTo>
                    <a:pt x="811" y="1243"/>
                  </a:lnTo>
                  <a:lnTo>
                    <a:pt x="812" y="1234"/>
                  </a:lnTo>
                  <a:lnTo>
                    <a:pt x="815" y="1225"/>
                  </a:lnTo>
                  <a:lnTo>
                    <a:pt x="822" y="1218"/>
                  </a:lnTo>
                  <a:lnTo>
                    <a:pt x="826" y="1214"/>
                  </a:lnTo>
                  <a:lnTo>
                    <a:pt x="822" y="1209"/>
                  </a:lnTo>
                  <a:lnTo>
                    <a:pt x="830" y="1203"/>
                  </a:lnTo>
                  <a:lnTo>
                    <a:pt x="825" y="1185"/>
                  </a:lnTo>
                  <a:lnTo>
                    <a:pt x="819" y="1180"/>
                  </a:lnTo>
                  <a:lnTo>
                    <a:pt x="808" y="1182"/>
                  </a:lnTo>
                  <a:lnTo>
                    <a:pt x="794" y="1187"/>
                  </a:lnTo>
                  <a:lnTo>
                    <a:pt x="784" y="1186"/>
                  </a:lnTo>
                  <a:lnTo>
                    <a:pt x="776" y="1179"/>
                  </a:lnTo>
                  <a:lnTo>
                    <a:pt x="767" y="1181"/>
                  </a:lnTo>
                  <a:lnTo>
                    <a:pt x="758" y="1175"/>
                  </a:lnTo>
                  <a:lnTo>
                    <a:pt x="744" y="1173"/>
                  </a:lnTo>
                  <a:lnTo>
                    <a:pt x="737" y="1167"/>
                  </a:lnTo>
                  <a:lnTo>
                    <a:pt x="738" y="1158"/>
                  </a:lnTo>
                  <a:lnTo>
                    <a:pt x="739" y="1150"/>
                  </a:lnTo>
                  <a:lnTo>
                    <a:pt x="739" y="1142"/>
                  </a:lnTo>
                  <a:lnTo>
                    <a:pt x="742" y="1133"/>
                  </a:lnTo>
                  <a:lnTo>
                    <a:pt x="741" y="1124"/>
                  </a:lnTo>
                  <a:lnTo>
                    <a:pt x="739" y="1114"/>
                  </a:lnTo>
                  <a:lnTo>
                    <a:pt x="739" y="1105"/>
                  </a:lnTo>
                  <a:lnTo>
                    <a:pt x="746" y="1098"/>
                  </a:lnTo>
                  <a:lnTo>
                    <a:pt x="756" y="1091"/>
                  </a:lnTo>
                  <a:lnTo>
                    <a:pt x="769" y="1089"/>
                  </a:lnTo>
                  <a:lnTo>
                    <a:pt x="773" y="1081"/>
                  </a:lnTo>
                  <a:lnTo>
                    <a:pt x="770" y="1072"/>
                  </a:lnTo>
                  <a:lnTo>
                    <a:pt x="766" y="1063"/>
                  </a:lnTo>
                  <a:lnTo>
                    <a:pt x="760" y="1054"/>
                  </a:lnTo>
                  <a:lnTo>
                    <a:pt x="748" y="1051"/>
                  </a:lnTo>
                  <a:lnTo>
                    <a:pt x="741" y="1044"/>
                  </a:lnTo>
                  <a:lnTo>
                    <a:pt x="730" y="1041"/>
                  </a:lnTo>
                  <a:lnTo>
                    <a:pt x="717" y="1038"/>
                  </a:lnTo>
                  <a:lnTo>
                    <a:pt x="705" y="1034"/>
                  </a:lnTo>
                  <a:lnTo>
                    <a:pt x="695" y="1033"/>
                  </a:lnTo>
                  <a:lnTo>
                    <a:pt x="692" y="1024"/>
                  </a:lnTo>
                  <a:lnTo>
                    <a:pt x="685" y="1016"/>
                  </a:lnTo>
                  <a:lnTo>
                    <a:pt x="679" y="1007"/>
                  </a:lnTo>
                  <a:lnTo>
                    <a:pt x="675" y="998"/>
                  </a:lnTo>
                  <a:lnTo>
                    <a:pt x="674" y="989"/>
                  </a:lnTo>
                  <a:lnTo>
                    <a:pt x="675" y="980"/>
                  </a:lnTo>
                  <a:lnTo>
                    <a:pt x="678" y="971"/>
                  </a:lnTo>
                  <a:lnTo>
                    <a:pt x="681" y="961"/>
                  </a:lnTo>
                  <a:lnTo>
                    <a:pt x="682" y="953"/>
                  </a:lnTo>
                  <a:lnTo>
                    <a:pt x="674" y="946"/>
                  </a:lnTo>
                  <a:lnTo>
                    <a:pt x="665" y="939"/>
                  </a:lnTo>
                  <a:lnTo>
                    <a:pt x="654" y="933"/>
                  </a:lnTo>
                  <a:lnTo>
                    <a:pt x="643" y="928"/>
                  </a:lnTo>
                  <a:lnTo>
                    <a:pt x="633" y="923"/>
                  </a:lnTo>
                  <a:lnTo>
                    <a:pt x="621" y="921"/>
                  </a:lnTo>
                  <a:lnTo>
                    <a:pt x="609" y="925"/>
                  </a:lnTo>
                  <a:lnTo>
                    <a:pt x="598" y="930"/>
                  </a:lnTo>
                  <a:lnTo>
                    <a:pt x="586" y="931"/>
                  </a:lnTo>
                  <a:lnTo>
                    <a:pt x="573" y="934"/>
                  </a:lnTo>
                  <a:lnTo>
                    <a:pt x="561" y="937"/>
                  </a:lnTo>
                  <a:lnTo>
                    <a:pt x="548" y="938"/>
                  </a:lnTo>
                  <a:lnTo>
                    <a:pt x="535" y="939"/>
                  </a:lnTo>
                  <a:lnTo>
                    <a:pt x="530" y="948"/>
                  </a:lnTo>
                  <a:lnTo>
                    <a:pt x="517" y="949"/>
                  </a:lnTo>
                  <a:lnTo>
                    <a:pt x="505" y="946"/>
                  </a:lnTo>
                  <a:lnTo>
                    <a:pt x="492" y="943"/>
                  </a:lnTo>
                  <a:lnTo>
                    <a:pt x="481" y="936"/>
                  </a:lnTo>
                  <a:lnTo>
                    <a:pt x="472" y="937"/>
                  </a:lnTo>
                  <a:lnTo>
                    <a:pt x="464" y="945"/>
                  </a:lnTo>
                  <a:lnTo>
                    <a:pt x="451" y="944"/>
                  </a:lnTo>
                  <a:lnTo>
                    <a:pt x="439" y="942"/>
                  </a:lnTo>
                  <a:lnTo>
                    <a:pt x="426" y="939"/>
                  </a:lnTo>
                  <a:lnTo>
                    <a:pt x="414" y="942"/>
                  </a:lnTo>
                  <a:lnTo>
                    <a:pt x="403" y="946"/>
                  </a:lnTo>
                  <a:lnTo>
                    <a:pt x="390" y="949"/>
                  </a:lnTo>
                  <a:lnTo>
                    <a:pt x="377" y="952"/>
                  </a:lnTo>
                  <a:lnTo>
                    <a:pt x="363" y="955"/>
                  </a:lnTo>
                  <a:lnTo>
                    <a:pt x="361" y="962"/>
                  </a:lnTo>
                  <a:lnTo>
                    <a:pt x="366" y="971"/>
                  </a:lnTo>
                  <a:lnTo>
                    <a:pt x="368" y="980"/>
                  </a:lnTo>
                  <a:lnTo>
                    <a:pt x="368" y="990"/>
                  </a:lnTo>
                  <a:lnTo>
                    <a:pt x="365" y="999"/>
                  </a:lnTo>
                  <a:lnTo>
                    <a:pt x="363" y="1008"/>
                  </a:lnTo>
                  <a:lnTo>
                    <a:pt x="363" y="1017"/>
                  </a:lnTo>
                  <a:lnTo>
                    <a:pt x="370" y="1026"/>
                  </a:lnTo>
                  <a:lnTo>
                    <a:pt x="380" y="1031"/>
                  </a:lnTo>
                  <a:lnTo>
                    <a:pt x="389" y="1038"/>
                  </a:lnTo>
                  <a:lnTo>
                    <a:pt x="397" y="1045"/>
                  </a:lnTo>
                  <a:lnTo>
                    <a:pt x="396" y="1053"/>
                  </a:lnTo>
                  <a:lnTo>
                    <a:pt x="394" y="1063"/>
                  </a:lnTo>
                  <a:lnTo>
                    <a:pt x="391" y="1073"/>
                  </a:lnTo>
                  <a:lnTo>
                    <a:pt x="387" y="1082"/>
                  </a:lnTo>
                  <a:lnTo>
                    <a:pt x="382" y="1089"/>
                  </a:lnTo>
                  <a:lnTo>
                    <a:pt x="368" y="1087"/>
                  </a:lnTo>
                  <a:lnTo>
                    <a:pt x="355" y="1089"/>
                  </a:lnTo>
                  <a:lnTo>
                    <a:pt x="348" y="1095"/>
                  </a:lnTo>
                  <a:lnTo>
                    <a:pt x="337" y="1100"/>
                  </a:lnTo>
                  <a:lnTo>
                    <a:pt x="327" y="1106"/>
                  </a:lnTo>
                  <a:lnTo>
                    <a:pt x="321" y="1114"/>
                  </a:lnTo>
                  <a:lnTo>
                    <a:pt x="310" y="1118"/>
                  </a:lnTo>
                  <a:lnTo>
                    <a:pt x="301" y="1117"/>
                  </a:lnTo>
                  <a:lnTo>
                    <a:pt x="298" y="1107"/>
                  </a:lnTo>
                  <a:lnTo>
                    <a:pt x="294" y="1115"/>
                  </a:lnTo>
                  <a:lnTo>
                    <a:pt x="289" y="1123"/>
                  </a:lnTo>
                  <a:lnTo>
                    <a:pt x="275" y="1123"/>
                  </a:lnTo>
                  <a:lnTo>
                    <a:pt x="266" y="1121"/>
                  </a:lnTo>
                  <a:lnTo>
                    <a:pt x="268" y="1111"/>
                  </a:lnTo>
                  <a:lnTo>
                    <a:pt x="254" y="1110"/>
                  </a:lnTo>
                  <a:lnTo>
                    <a:pt x="243" y="1111"/>
                  </a:lnTo>
                  <a:lnTo>
                    <a:pt x="232" y="1117"/>
                  </a:lnTo>
                  <a:lnTo>
                    <a:pt x="219" y="1117"/>
                  </a:lnTo>
                  <a:lnTo>
                    <a:pt x="208" y="1120"/>
                  </a:lnTo>
                  <a:lnTo>
                    <a:pt x="205" y="1129"/>
                  </a:lnTo>
                  <a:lnTo>
                    <a:pt x="211" y="1138"/>
                  </a:lnTo>
                  <a:lnTo>
                    <a:pt x="215" y="1146"/>
                  </a:lnTo>
                  <a:lnTo>
                    <a:pt x="218" y="1155"/>
                  </a:lnTo>
                  <a:lnTo>
                    <a:pt x="221" y="1165"/>
                  </a:lnTo>
                  <a:lnTo>
                    <a:pt x="219" y="1174"/>
                  </a:lnTo>
                  <a:lnTo>
                    <a:pt x="232" y="1180"/>
                  </a:lnTo>
                  <a:lnTo>
                    <a:pt x="233" y="1186"/>
                  </a:lnTo>
                  <a:lnTo>
                    <a:pt x="238" y="1174"/>
                  </a:lnTo>
                  <a:lnTo>
                    <a:pt x="250" y="1171"/>
                  </a:lnTo>
                  <a:lnTo>
                    <a:pt x="250" y="1179"/>
                  </a:lnTo>
                  <a:lnTo>
                    <a:pt x="243" y="1188"/>
                  </a:lnTo>
                  <a:lnTo>
                    <a:pt x="235" y="1195"/>
                  </a:lnTo>
                  <a:lnTo>
                    <a:pt x="224" y="1188"/>
                  </a:lnTo>
                  <a:lnTo>
                    <a:pt x="214" y="1192"/>
                  </a:lnTo>
                  <a:lnTo>
                    <a:pt x="211" y="1184"/>
                  </a:lnTo>
                  <a:lnTo>
                    <a:pt x="208" y="1174"/>
                  </a:lnTo>
                  <a:lnTo>
                    <a:pt x="201" y="1166"/>
                  </a:lnTo>
                  <a:lnTo>
                    <a:pt x="196" y="1157"/>
                  </a:lnTo>
                  <a:lnTo>
                    <a:pt x="184" y="1153"/>
                  </a:lnTo>
                  <a:lnTo>
                    <a:pt x="173" y="1157"/>
                  </a:lnTo>
                  <a:lnTo>
                    <a:pt x="162" y="1154"/>
                  </a:lnTo>
                  <a:lnTo>
                    <a:pt x="144" y="1161"/>
                  </a:lnTo>
                  <a:lnTo>
                    <a:pt x="141" y="1171"/>
                  </a:lnTo>
                  <a:lnTo>
                    <a:pt x="131" y="1170"/>
                  </a:lnTo>
                  <a:lnTo>
                    <a:pt x="120" y="1172"/>
                  </a:lnTo>
                  <a:lnTo>
                    <a:pt x="109" y="1167"/>
                  </a:lnTo>
                  <a:lnTo>
                    <a:pt x="96" y="1164"/>
                  </a:lnTo>
                  <a:lnTo>
                    <a:pt x="112" y="1150"/>
                  </a:lnTo>
                  <a:lnTo>
                    <a:pt x="124" y="1147"/>
                  </a:lnTo>
                  <a:lnTo>
                    <a:pt x="136" y="1144"/>
                  </a:lnTo>
                  <a:lnTo>
                    <a:pt x="140" y="1136"/>
                  </a:lnTo>
                  <a:lnTo>
                    <a:pt x="138" y="1126"/>
                  </a:lnTo>
                  <a:lnTo>
                    <a:pt x="140" y="1117"/>
                  </a:lnTo>
                  <a:lnTo>
                    <a:pt x="147" y="1110"/>
                  </a:lnTo>
                  <a:lnTo>
                    <a:pt x="157" y="1102"/>
                  </a:lnTo>
                  <a:lnTo>
                    <a:pt x="162" y="1094"/>
                  </a:lnTo>
                  <a:lnTo>
                    <a:pt x="162" y="1082"/>
                  </a:lnTo>
                  <a:lnTo>
                    <a:pt x="162" y="1073"/>
                  </a:lnTo>
                  <a:lnTo>
                    <a:pt x="157" y="1057"/>
                  </a:lnTo>
                  <a:lnTo>
                    <a:pt x="158" y="1047"/>
                  </a:lnTo>
                  <a:lnTo>
                    <a:pt x="154" y="1038"/>
                  </a:lnTo>
                  <a:lnTo>
                    <a:pt x="152" y="1029"/>
                  </a:lnTo>
                  <a:lnTo>
                    <a:pt x="155" y="1020"/>
                  </a:lnTo>
                  <a:lnTo>
                    <a:pt x="148" y="1015"/>
                  </a:lnTo>
                  <a:lnTo>
                    <a:pt x="134" y="1017"/>
                  </a:lnTo>
                  <a:lnTo>
                    <a:pt x="122" y="1018"/>
                  </a:lnTo>
                  <a:lnTo>
                    <a:pt x="122" y="1008"/>
                  </a:lnTo>
                  <a:lnTo>
                    <a:pt x="116" y="1000"/>
                  </a:lnTo>
                  <a:lnTo>
                    <a:pt x="110" y="991"/>
                  </a:lnTo>
                  <a:lnTo>
                    <a:pt x="105" y="983"/>
                  </a:lnTo>
                  <a:lnTo>
                    <a:pt x="102" y="972"/>
                  </a:lnTo>
                  <a:lnTo>
                    <a:pt x="96" y="964"/>
                  </a:lnTo>
                  <a:lnTo>
                    <a:pt x="87" y="965"/>
                  </a:lnTo>
                  <a:lnTo>
                    <a:pt x="75" y="971"/>
                  </a:lnTo>
                  <a:lnTo>
                    <a:pt x="63" y="977"/>
                  </a:lnTo>
                  <a:lnTo>
                    <a:pt x="56" y="971"/>
                  </a:lnTo>
                  <a:lnTo>
                    <a:pt x="47" y="968"/>
                  </a:lnTo>
                  <a:lnTo>
                    <a:pt x="35" y="972"/>
                  </a:lnTo>
                  <a:lnTo>
                    <a:pt x="25" y="977"/>
                  </a:lnTo>
                  <a:lnTo>
                    <a:pt x="20" y="980"/>
                  </a:lnTo>
                  <a:lnTo>
                    <a:pt x="17" y="971"/>
                  </a:lnTo>
                  <a:lnTo>
                    <a:pt x="11" y="962"/>
                  </a:lnTo>
                  <a:lnTo>
                    <a:pt x="7" y="954"/>
                  </a:lnTo>
                  <a:lnTo>
                    <a:pt x="0" y="946"/>
                  </a:lnTo>
                  <a:lnTo>
                    <a:pt x="11" y="942"/>
                  </a:lnTo>
                  <a:lnTo>
                    <a:pt x="13" y="934"/>
                  </a:lnTo>
                  <a:lnTo>
                    <a:pt x="22" y="936"/>
                  </a:lnTo>
                  <a:lnTo>
                    <a:pt x="31" y="941"/>
                  </a:lnTo>
                  <a:lnTo>
                    <a:pt x="36" y="935"/>
                  </a:lnTo>
                  <a:lnTo>
                    <a:pt x="36" y="928"/>
                  </a:lnTo>
                  <a:lnTo>
                    <a:pt x="49" y="926"/>
                  </a:lnTo>
                  <a:lnTo>
                    <a:pt x="54" y="919"/>
                  </a:lnTo>
                  <a:lnTo>
                    <a:pt x="64" y="919"/>
                  </a:lnTo>
                  <a:lnTo>
                    <a:pt x="66" y="912"/>
                  </a:lnTo>
                  <a:lnTo>
                    <a:pt x="73" y="907"/>
                  </a:lnTo>
                  <a:lnTo>
                    <a:pt x="80" y="915"/>
                  </a:lnTo>
                  <a:lnTo>
                    <a:pt x="92" y="913"/>
                  </a:lnTo>
                  <a:lnTo>
                    <a:pt x="92" y="906"/>
                  </a:lnTo>
                  <a:lnTo>
                    <a:pt x="98" y="901"/>
                  </a:lnTo>
                  <a:lnTo>
                    <a:pt x="110" y="899"/>
                  </a:lnTo>
                  <a:lnTo>
                    <a:pt x="124" y="899"/>
                  </a:lnTo>
                  <a:lnTo>
                    <a:pt x="127" y="891"/>
                  </a:lnTo>
                  <a:lnTo>
                    <a:pt x="123" y="881"/>
                  </a:lnTo>
                  <a:lnTo>
                    <a:pt x="126" y="874"/>
                  </a:lnTo>
                  <a:lnTo>
                    <a:pt x="131" y="871"/>
                  </a:lnTo>
                  <a:lnTo>
                    <a:pt x="124" y="863"/>
                  </a:lnTo>
                  <a:lnTo>
                    <a:pt x="119" y="854"/>
                  </a:lnTo>
                  <a:lnTo>
                    <a:pt x="115" y="845"/>
                  </a:lnTo>
                  <a:lnTo>
                    <a:pt x="112" y="836"/>
                  </a:lnTo>
                  <a:lnTo>
                    <a:pt x="106" y="828"/>
                  </a:lnTo>
                  <a:lnTo>
                    <a:pt x="101" y="820"/>
                  </a:lnTo>
                  <a:lnTo>
                    <a:pt x="99" y="811"/>
                  </a:lnTo>
                  <a:lnTo>
                    <a:pt x="96" y="801"/>
                  </a:lnTo>
                  <a:lnTo>
                    <a:pt x="94" y="792"/>
                  </a:lnTo>
                  <a:lnTo>
                    <a:pt x="91" y="783"/>
                  </a:lnTo>
                  <a:lnTo>
                    <a:pt x="87" y="775"/>
                  </a:lnTo>
                  <a:lnTo>
                    <a:pt x="82" y="766"/>
                  </a:lnTo>
                  <a:lnTo>
                    <a:pt x="80" y="757"/>
                  </a:lnTo>
                  <a:lnTo>
                    <a:pt x="74" y="748"/>
                  </a:lnTo>
                  <a:lnTo>
                    <a:pt x="64" y="742"/>
                  </a:lnTo>
                  <a:lnTo>
                    <a:pt x="54" y="737"/>
                  </a:lnTo>
                  <a:lnTo>
                    <a:pt x="66" y="732"/>
                  </a:lnTo>
                  <a:lnTo>
                    <a:pt x="70" y="724"/>
                  </a:lnTo>
                  <a:lnTo>
                    <a:pt x="71" y="715"/>
                  </a:lnTo>
                  <a:lnTo>
                    <a:pt x="66" y="707"/>
                  </a:lnTo>
                  <a:lnTo>
                    <a:pt x="61" y="698"/>
                  </a:lnTo>
                  <a:lnTo>
                    <a:pt x="60" y="689"/>
                  </a:lnTo>
                  <a:lnTo>
                    <a:pt x="61" y="679"/>
                  </a:lnTo>
                  <a:lnTo>
                    <a:pt x="61" y="670"/>
                  </a:lnTo>
                  <a:lnTo>
                    <a:pt x="63" y="662"/>
                  </a:lnTo>
                  <a:lnTo>
                    <a:pt x="75" y="661"/>
                  </a:lnTo>
                  <a:lnTo>
                    <a:pt x="66" y="654"/>
                  </a:lnTo>
                  <a:lnTo>
                    <a:pt x="73" y="649"/>
                  </a:lnTo>
                  <a:lnTo>
                    <a:pt x="75" y="640"/>
                  </a:lnTo>
                  <a:lnTo>
                    <a:pt x="75" y="631"/>
                  </a:lnTo>
                  <a:lnTo>
                    <a:pt x="74" y="621"/>
                  </a:lnTo>
                  <a:lnTo>
                    <a:pt x="73" y="614"/>
                  </a:lnTo>
                  <a:lnTo>
                    <a:pt x="84" y="621"/>
                  </a:lnTo>
                  <a:lnTo>
                    <a:pt x="94" y="627"/>
                  </a:lnTo>
                  <a:lnTo>
                    <a:pt x="105" y="625"/>
                  </a:lnTo>
                  <a:lnTo>
                    <a:pt x="117" y="622"/>
                  </a:lnTo>
                  <a:lnTo>
                    <a:pt x="127" y="618"/>
                  </a:lnTo>
                  <a:lnTo>
                    <a:pt x="137" y="612"/>
                  </a:lnTo>
                  <a:lnTo>
                    <a:pt x="141" y="604"/>
                  </a:lnTo>
                  <a:lnTo>
                    <a:pt x="145" y="594"/>
                  </a:lnTo>
                  <a:lnTo>
                    <a:pt x="150" y="585"/>
                  </a:lnTo>
                  <a:lnTo>
                    <a:pt x="154" y="576"/>
                  </a:lnTo>
                  <a:lnTo>
                    <a:pt x="162" y="570"/>
                  </a:lnTo>
                  <a:lnTo>
                    <a:pt x="166" y="556"/>
                  </a:lnTo>
                  <a:lnTo>
                    <a:pt x="173" y="541"/>
                  </a:lnTo>
                  <a:lnTo>
                    <a:pt x="162" y="526"/>
                  </a:lnTo>
                  <a:lnTo>
                    <a:pt x="155" y="517"/>
                  </a:lnTo>
                  <a:lnTo>
                    <a:pt x="148" y="510"/>
                  </a:lnTo>
                  <a:lnTo>
                    <a:pt x="144" y="501"/>
                  </a:lnTo>
                  <a:lnTo>
                    <a:pt x="143" y="491"/>
                  </a:lnTo>
                  <a:lnTo>
                    <a:pt x="148" y="485"/>
                  </a:lnTo>
                  <a:lnTo>
                    <a:pt x="162" y="477"/>
                  </a:lnTo>
                  <a:lnTo>
                    <a:pt x="173" y="472"/>
                  </a:lnTo>
                  <a:lnTo>
                    <a:pt x="180" y="465"/>
                  </a:lnTo>
                  <a:lnTo>
                    <a:pt x="179" y="455"/>
                  </a:lnTo>
                  <a:lnTo>
                    <a:pt x="180" y="447"/>
                  </a:lnTo>
                  <a:lnTo>
                    <a:pt x="191" y="442"/>
                  </a:lnTo>
                  <a:lnTo>
                    <a:pt x="204" y="437"/>
                  </a:lnTo>
                  <a:lnTo>
                    <a:pt x="212" y="431"/>
                  </a:lnTo>
                  <a:lnTo>
                    <a:pt x="211" y="423"/>
                  </a:lnTo>
                  <a:lnTo>
                    <a:pt x="203" y="414"/>
                  </a:lnTo>
                  <a:lnTo>
                    <a:pt x="211" y="409"/>
                  </a:lnTo>
                  <a:lnTo>
                    <a:pt x="221" y="403"/>
                  </a:lnTo>
                  <a:lnTo>
                    <a:pt x="215" y="397"/>
                  </a:lnTo>
                  <a:lnTo>
                    <a:pt x="225" y="391"/>
                  </a:lnTo>
                  <a:lnTo>
                    <a:pt x="229" y="385"/>
                  </a:lnTo>
                  <a:lnTo>
                    <a:pt x="242" y="380"/>
                  </a:lnTo>
                  <a:lnTo>
                    <a:pt x="254" y="376"/>
                  </a:lnTo>
                  <a:lnTo>
                    <a:pt x="264" y="370"/>
                  </a:lnTo>
                  <a:lnTo>
                    <a:pt x="263" y="362"/>
                  </a:lnTo>
                  <a:lnTo>
                    <a:pt x="260" y="352"/>
                  </a:lnTo>
                  <a:lnTo>
                    <a:pt x="264" y="346"/>
                  </a:lnTo>
                  <a:lnTo>
                    <a:pt x="264" y="337"/>
                  </a:lnTo>
                  <a:lnTo>
                    <a:pt x="264" y="327"/>
                  </a:lnTo>
                  <a:lnTo>
                    <a:pt x="261" y="318"/>
                  </a:lnTo>
                  <a:lnTo>
                    <a:pt x="257" y="309"/>
                  </a:lnTo>
                  <a:lnTo>
                    <a:pt x="252" y="301"/>
                  </a:lnTo>
                  <a:lnTo>
                    <a:pt x="247" y="292"/>
                  </a:lnTo>
                  <a:lnTo>
                    <a:pt x="245" y="283"/>
                  </a:lnTo>
                  <a:lnTo>
                    <a:pt x="239" y="275"/>
                  </a:lnTo>
                  <a:lnTo>
                    <a:pt x="229" y="268"/>
                  </a:lnTo>
                  <a:lnTo>
                    <a:pt x="236" y="264"/>
                  </a:lnTo>
                  <a:lnTo>
                    <a:pt x="250" y="264"/>
                  </a:lnTo>
                  <a:lnTo>
                    <a:pt x="259" y="258"/>
                  </a:lnTo>
                  <a:lnTo>
                    <a:pt x="268" y="251"/>
                  </a:lnTo>
                  <a:lnTo>
                    <a:pt x="280" y="246"/>
                  </a:lnTo>
                  <a:lnTo>
                    <a:pt x="291" y="243"/>
                  </a:lnTo>
                  <a:lnTo>
                    <a:pt x="291" y="235"/>
                  </a:lnTo>
                  <a:lnTo>
                    <a:pt x="302" y="237"/>
                  </a:lnTo>
                  <a:lnTo>
                    <a:pt x="309" y="245"/>
                  </a:lnTo>
                  <a:lnTo>
                    <a:pt x="323" y="242"/>
                  </a:lnTo>
                  <a:lnTo>
                    <a:pt x="337" y="242"/>
                  </a:lnTo>
                  <a:lnTo>
                    <a:pt x="347" y="239"/>
                  </a:lnTo>
                  <a:lnTo>
                    <a:pt x="345" y="230"/>
                  </a:lnTo>
                  <a:lnTo>
                    <a:pt x="344" y="220"/>
                  </a:lnTo>
                  <a:lnTo>
                    <a:pt x="341" y="211"/>
                  </a:lnTo>
                  <a:lnTo>
                    <a:pt x="340" y="201"/>
                  </a:lnTo>
                  <a:lnTo>
                    <a:pt x="338" y="192"/>
                  </a:lnTo>
                  <a:lnTo>
                    <a:pt x="342" y="183"/>
                  </a:lnTo>
                  <a:lnTo>
                    <a:pt x="354" y="179"/>
                  </a:lnTo>
                  <a:lnTo>
                    <a:pt x="366" y="182"/>
                  </a:lnTo>
                  <a:lnTo>
                    <a:pt x="379" y="181"/>
                  </a:lnTo>
                  <a:lnTo>
                    <a:pt x="389" y="175"/>
                  </a:lnTo>
                  <a:lnTo>
                    <a:pt x="398" y="169"/>
                  </a:lnTo>
                  <a:lnTo>
                    <a:pt x="411" y="168"/>
                  </a:lnTo>
                  <a:lnTo>
                    <a:pt x="424" y="167"/>
                  </a:lnTo>
                  <a:close/>
                  <a:moveTo>
                    <a:pt x="777" y="159"/>
                  </a:moveTo>
                  <a:lnTo>
                    <a:pt x="774" y="168"/>
                  </a:lnTo>
                  <a:lnTo>
                    <a:pt x="779" y="174"/>
                  </a:lnTo>
                  <a:lnTo>
                    <a:pt x="777" y="159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9520" y="3060720"/>
              <a:ext cx="1255680" cy="1201680"/>
            </a:xfrm>
            <a:custGeom>
              <a:avLst/>
              <a:gdLst/>
              <a:ahLst/>
              <a:rect l="l" t="t" r="r" b="b"/>
              <a:pathLst>
                <a:path w="2371" h="1514">
                  <a:moveTo>
                    <a:pt x="1112" y="10"/>
                  </a:moveTo>
                  <a:lnTo>
                    <a:pt x="1114" y="19"/>
                  </a:lnTo>
                  <a:lnTo>
                    <a:pt x="1119" y="28"/>
                  </a:lnTo>
                  <a:lnTo>
                    <a:pt x="1124" y="36"/>
                  </a:lnTo>
                  <a:lnTo>
                    <a:pt x="1134" y="41"/>
                  </a:lnTo>
                  <a:lnTo>
                    <a:pt x="1142" y="49"/>
                  </a:lnTo>
                  <a:lnTo>
                    <a:pt x="1152" y="56"/>
                  </a:lnTo>
                  <a:lnTo>
                    <a:pt x="1159" y="58"/>
                  </a:lnTo>
                  <a:lnTo>
                    <a:pt x="1168" y="67"/>
                  </a:lnTo>
                  <a:lnTo>
                    <a:pt x="1177" y="66"/>
                  </a:lnTo>
                  <a:lnTo>
                    <a:pt x="1187" y="67"/>
                  </a:lnTo>
                  <a:lnTo>
                    <a:pt x="1194" y="76"/>
                  </a:lnTo>
                  <a:lnTo>
                    <a:pt x="1207" y="72"/>
                  </a:lnTo>
                  <a:lnTo>
                    <a:pt x="1216" y="73"/>
                  </a:lnTo>
                  <a:lnTo>
                    <a:pt x="1226" y="74"/>
                  </a:lnTo>
                  <a:lnTo>
                    <a:pt x="1233" y="81"/>
                  </a:lnTo>
                  <a:lnTo>
                    <a:pt x="1243" y="81"/>
                  </a:lnTo>
                  <a:lnTo>
                    <a:pt x="1247" y="74"/>
                  </a:lnTo>
                  <a:lnTo>
                    <a:pt x="1260" y="70"/>
                  </a:lnTo>
                  <a:lnTo>
                    <a:pt x="1265" y="64"/>
                  </a:lnTo>
                  <a:lnTo>
                    <a:pt x="1278" y="60"/>
                  </a:lnTo>
                  <a:lnTo>
                    <a:pt x="1289" y="55"/>
                  </a:lnTo>
                  <a:lnTo>
                    <a:pt x="1299" y="50"/>
                  </a:lnTo>
                  <a:lnTo>
                    <a:pt x="1310" y="43"/>
                  </a:lnTo>
                  <a:lnTo>
                    <a:pt x="1320" y="38"/>
                  </a:lnTo>
                  <a:lnTo>
                    <a:pt x="1330" y="40"/>
                  </a:lnTo>
                  <a:lnTo>
                    <a:pt x="1341" y="34"/>
                  </a:lnTo>
                  <a:lnTo>
                    <a:pt x="1352" y="31"/>
                  </a:lnTo>
                  <a:lnTo>
                    <a:pt x="1365" y="28"/>
                  </a:lnTo>
                  <a:lnTo>
                    <a:pt x="1377" y="24"/>
                  </a:lnTo>
                  <a:lnTo>
                    <a:pt x="1384" y="30"/>
                  </a:lnTo>
                  <a:lnTo>
                    <a:pt x="1395" y="34"/>
                  </a:lnTo>
                  <a:lnTo>
                    <a:pt x="1408" y="26"/>
                  </a:lnTo>
                  <a:lnTo>
                    <a:pt x="1418" y="23"/>
                  </a:lnTo>
                  <a:lnTo>
                    <a:pt x="1423" y="30"/>
                  </a:lnTo>
                  <a:lnTo>
                    <a:pt x="1428" y="40"/>
                  </a:lnTo>
                  <a:lnTo>
                    <a:pt x="1440" y="39"/>
                  </a:lnTo>
                  <a:lnTo>
                    <a:pt x="1451" y="35"/>
                  </a:lnTo>
                  <a:lnTo>
                    <a:pt x="1463" y="30"/>
                  </a:lnTo>
                  <a:lnTo>
                    <a:pt x="1474" y="26"/>
                  </a:lnTo>
                  <a:lnTo>
                    <a:pt x="1485" y="21"/>
                  </a:lnTo>
                  <a:lnTo>
                    <a:pt x="1495" y="15"/>
                  </a:lnTo>
                  <a:lnTo>
                    <a:pt x="1506" y="15"/>
                  </a:lnTo>
                  <a:lnTo>
                    <a:pt x="1510" y="23"/>
                  </a:lnTo>
                  <a:lnTo>
                    <a:pt x="1513" y="32"/>
                  </a:lnTo>
                  <a:lnTo>
                    <a:pt x="1520" y="40"/>
                  </a:lnTo>
                  <a:lnTo>
                    <a:pt x="1527" y="49"/>
                  </a:lnTo>
                  <a:lnTo>
                    <a:pt x="1534" y="57"/>
                  </a:lnTo>
                  <a:lnTo>
                    <a:pt x="1537" y="66"/>
                  </a:lnTo>
                  <a:lnTo>
                    <a:pt x="1549" y="68"/>
                  </a:lnTo>
                  <a:lnTo>
                    <a:pt x="1559" y="75"/>
                  </a:lnTo>
                  <a:lnTo>
                    <a:pt x="1566" y="82"/>
                  </a:lnTo>
                  <a:lnTo>
                    <a:pt x="1573" y="91"/>
                  </a:lnTo>
                  <a:lnTo>
                    <a:pt x="1583" y="88"/>
                  </a:lnTo>
                  <a:lnTo>
                    <a:pt x="1591" y="82"/>
                  </a:lnTo>
                  <a:lnTo>
                    <a:pt x="1605" y="82"/>
                  </a:lnTo>
                  <a:lnTo>
                    <a:pt x="1618" y="81"/>
                  </a:lnTo>
                  <a:lnTo>
                    <a:pt x="1626" y="84"/>
                  </a:lnTo>
                  <a:lnTo>
                    <a:pt x="1619" y="91"/>
                  </a:lnTo>
                  <a:lnTo>
                    <a:pt x="1633" y="91"/>
                  </a:lnTo>
                  <a:lnTo>
                    <a:pt x="1643" y="95"/>
                  </a:lnTo>
                  <a:lnTo>
                    <a:pt x="1657" y="95"/>
                  </a:lnTo>
                  <a:lnTo>
                    <a:pt x="1664" y="99"/>
                  </a:lnTo>
                  <a:lnTo>
                    <a:pt x="1668" y="108"/>
                  </a:lnTo>
                  <a:lnTo>
                    <a:pt x="1675" y="116"/>
                  </a:lnTo>
                  <a:lnTo>
                    <a:pt x="1682" y="124"/>
                  </a:lnTo>
                  <a:lnTo>
                    <a:pt x="1692" y="128"/>
                  </a:lnTo>
                  <a:lnTo>
                    <a:pt x="1699" y="120"/>
                  </a:lnTo>
                  <a:lnTo>
                    <a:pt x="1707" y="113"/>
                  </a:lnTo>
                  <a:lnTo>
                    <a:pt x="1714" y="105"/>
                  </a:lnTo>
                  <a:lnTo>
                    <a:pt x="1723" y="100"/>
                  </a:lnTo>
                  <a:lnTo>
                    <a:pt x="1735" y="96"/>
                  </a:lnTo>
                  <a:lnTo>
                    <a:pt x="1742" y="89"/>
                  </a:lnTo>
                  <a:lnTo>
                    <a:pt x="1755" y="87"/>
                  </a:lnTo>
                  <a:lnTo>
                    <a:pt x="1762" y="79"/>
                  </a:lnTo>
                  <a:lnTo>
                    <a:pt x="1773" y="75"/>
                  </a:lnTo>
                  <a:lnTo>
                    <a:pt x="1785" y="72"/>
                  </a:lnTo>
                  <a:lnTo>
                    <a:pt x="1797" y="69"/>
                  </a:lnTo>
                  <a:lnTo>
                    <a:pt x="1809" y="69"/>
                  </a:lnTo>
                  <a:lnTo>
                    <a:pt x="1798" y="65"/>
                  </a:lnTo>
                  <a:lnTo>
                    <a:pt x="1805" y="61"/>
                  </a:lnTo>
                  <a:lnTo>
                    <a:pt x="1813" y="54"/>
                  </a:lnTo>
                  <a:lnTo>
                    <a:pt x="1820" y="46"/>
                  </a:lnTo>
                  <a:lnTo>
                    <a:pt x="1832" y="42"/>
                  </a:lnTo>
                  <a:lnTo>
                    <a:pt x="1840" y="40"/>
                  </a:lnTo>
                  <a:lnTo>
                    <a:pt x="1848" y="35"/>
                  </a:lnTo>
                  <a:lnTo>
                    <a:pt x="1858" y="29"/>
                  </a:lnTo>
                  <a:lnTo>
                    <a:pt x="1868" y="23"/>
                  </a:lnTo>
                  <a:lnTo>
                    <a:pt x="1881" y="19"/>
                  </a:lnTo>
                  <a:lnTo>
                    <a:pt x="1890" y="13"/>
                  </a:lnTo>
                  <a:lnTo>
                    <a:pt x="1900" y="7"/>
                  </a:lnTo>
                  <a:lnTo>
                    <a:pt x="1906" y="0"/>
                  </a:lnTo>
                  <a:lnTo>
                    <a:pt x="1911" y="3"/>
                  </a:lnTo>
                  <a:lnTo>
                    <a:pt x="1914" y="12"/>
                  </a:lnTo>
                  <a:lnTo>
                    <a:pt x="1918" y="21"/>
                  </a:lnTo>
                  <a:lnTo>
                    <a:pt x="1929" y="25"/>
                  </a:lnTo>
                  <a:lnTo>
                    <a:pt x="1936" y="31"/>
                  </a:lnTo>
                  <a:lnTo>
                    <a:pt x="1941" y="39"/>
                  </a:lnTo>
                  <a:lnTo>
                    <a:pt x="1932" y="46"/>
                  </a:lnTo>
                  <a:lnTo>
                    <a:pt x="1924" y="54"/>
                  </a:lnTo>
                  <a:lnTo>
                    <a:pt x="1918" y="62"/>
                  </a:lnTo>
                  <a:lnTo>
                    <a:pt x="1914" y="71"/>
                  </a:lnTo>
                  <a:lnTo>
                    <a:pt x="1910" y="80"/>
                  </a:lnTo>
                  <a:lnTo>
                    <a:pt x="1907" y="89"/>
                  </a:lnTo>
                  <a:lnTo>
                    <a:pt x="1903" y="98"/>
                  </a:lnTo>
                  <a:lnTo>
                    <a:pt x="1901" y="107"/>
                  </a:lnTo>
                  <a:lnTo>
                    <a:pt x="1896" y="116"/>
                  </a:lnTo>
                  <a:lnTo>
                    <a:pt x="1890" y="122"/>
                  </a:lnTo>
                  <a:lnTo>
                    <a:pt x="1885" y="125"/>
                  </a:lnTo>
                  <a:lnTo>
                    <a:pt x="1889" y="129"/>
                  </a:lnTo>
                  <a:lnTo>
                    <a:pt x="1892" y="133"/>
                  </a:lnTo>
                  <a:lnTo>
                    <a:pt x="1900" y="129"/>
                  </a:lnTo>
                  <a:lnTo>
                    <a:pt x="1910" y="122"/>
                  </a:lnTo>
                  <a:lnTo>
                    <a:pt x="1920" y="116"/>
                  </a:lnTo>
                  <a:lnTo>
                    <a:pt x="1931" y="111"/>
                  </a:lnTo>
                  <a:lnTo>
                    <a:pt x="1942" y="109"/>
                  </a:lnTo>
                  <a:lnTo>
                    <a:pt x="1955" y="108"/>
                  </a:lnTo>
                  <a:lnTo>
                    <a:pt x="1967" y="109"/>
                  </a:lnTo>
                  <a:lnTo>
                    <a:pt x="1980" y="106"/>
                  </a:lnTo>
                  <a:lnTo>
                    <a:pt x="1992" y="102"/>
                  </a:lnTo>
                  <a:lnTo>
                    <a:pt x="2004" y="98"/>
                  </a:lnTo>
                  <a:lnTo>
                    <a:pt x="2016" y="94"/>
                  </a:lnTo>
                  <a:lnTo>
                    <a:pt x="2029" y="91"/>
                  </a:lnTo>
                  <a:lnTo>
                    <a:pt x="2040" y="92"/>
                  </a:lnTo>
                  <a:lnTo>
                    <a:pt x="2050" y="88"/>
                  </a:lnTo>
                  <a:lnTo>
                    <a:pt x="2054" y="81"/>
                  </a:lnTo>
                  <a:lnTo>
                    <a:pt x="2062" y="74"/>
                  </a:lnTo>
                  <a:lnTo>
                    <a:pt x="2066" y="65"/>
                  </a:lnTo>
                  <a:lnTo>
                    <a:pt x="2076" y="58"/>
                  </a:lnTo>
                  <a:lnTo>
                    <a:pt x="2086" y="52"/>
                  </a:lnTo>
                  <a:lnTo>
                    <a:pt x="2099" y="52"/>
                  </a:lnTo>
                  <a:lnTo>
                    <a:pt x="2110" y="56"/>
                  </a:lnTo>
                  <a:lnTo>
                    <a:pt x="2122" y="60"/>
                  </a:lnTo>
                  <a:lnTo>
                    <a:pt x="2142" y="61"/>
                  </a:lnTo>
                  <a:lnTo>
                    <a:pt x="2149" y="76"/>
                  </a:lnTo>
                  <a:lnTo>
                    <a:pt x="2152" y="86"/>
                  </a:lnTo>
                  <a:lnTo>
                    <a:pt x="2155" y="95"/>
                  </a:lnTo>
                  <a:lnTo>
                    <a:pt x="2159" y="104"/>
                  </a:lnTo>
                  <a:lnTo>
                    <a:pt x="2161" y="112"/>
                  </a:lnTo>
                  <a:lnTo>
                    <a:pt x="2167" y="121"/>
                  </a:lnTo>
                  <a:lnTo>
                    <a:pt x="2174" y="129"/>
                  </a:lnTo>
                  <a:lnTo>
                    <a:pt x="2182" y="136"/>
                  </a:lnTo>
                  <a:lnTo>
                    <a:pt x="2195" y="140"/>
                  </a:lnTo>
                  <a:lnTo>
                    <a:pt x="2208" y="145"/>
                  </a:lnTo>
                  <a:lnTo>
                    <a:pt x="2201" y="150"/>
                  </a:lnTo>
                  <a:lnTo>
                    <a:pt x="2187" y="155"/>
                  </a:lnTo>
                  <a:lnTo>
                    <a:pt x="2173" y="161"/>
                  </a:lnTo>
                  <a:lnTo>
                    <a:pt x="2168" y="167"/>
                  </a:lnTo>
                  <a:lnTo>
                    <a:pt x="2171" y="175"/>
                  </a:lnTo>
                  <a:lnTo>
                    <a:pt x="2178" y="182"/>
                  </a:lnTo>
                  <a:lnTo>
                    <a:pt x="2188" y="190"/>
                  </a:lnTo>
                  <a:lnTo>
                    <a:pt x="2198" y="198"/>
                  </a:lnTo>
                  <a:lnTo>
                    <a:pt x="2208" y="205"/>
                  </a:lnTo>
                  <a:lnTo>
                    <a:pt x="2217" y="211"/>
                  </a:lnTo>
                  <a:lnTo>
                    <a:pt x="2227" y="204"/>
                  </a:lnTo>
                  <a:lnTo>
                    <a:pt x="2234" y="211"/>
                  </a:lnTo>
                  <a:lnTo>
                    <a:pt x="2240" y="220"/>
                  </a:lnTo>
                  <a:lnTo>
                    <a:pt x="2251" y="222"/>
                  </a:lnTo>
                  <a:lnTo>
                    <a:pt x="2262" y="226"/>
                  </a:lnTo>
                  <a:lnTo>
                    <a:pt x="2272" y="232"/>
                  </a:lnTo>
                  <a:lnTo>
                    <a:pt x="2283" y="237"/>
                  </a:lnTo>
                  <a:lnTo>
                    <a:pt x="2294" y="243"/>
                  </a:lnTo>
                  <a:lnTo>
                    <a:pt x="2310" y="246"/>
                  </a:lnTo>
                  <a:lnTo>
                    <a:pt x="2324" y="246"/>
                  </a:lnTo>
                  <a:lnTo>
                    <a:pt x="2333" y="250"/>
                  </a:lnTo>
                  <a:lnTo>
                    <a:pt x="2345" y="257"/>
                  </a:lnTo>
                  <a:lnTo>
                    <a:pt x="2353" y="263"/>
                  </a:lnTo>
                  <a:lnTo>
                    <a:pt x="2363" y="270"/>
                  </a:lnTo>
                  <a:lnTo>
                    <a:pt x="2371" y="278"/>
                  </a:lnTo>
                  <a:lnTo>
                    <a:pt x="2364" y="284"/>
                  </a:lnTo>
                  <a:lnTo>
                    <a:pt x="2353" y="289"/>
                  </a:lnTo>
                  <a:lnTo>
                    <a:pt x="2340" y="294"/>
                  </a:lnTo>
                  <a:lnTo>
                    <a:pt x="2329" y="298"/>
                  </a:lnTo>
                  <a:lnTo>
                    <a:pt x="2317" y="298"/>
                  </a:lnTo>
                  <a:lnTo>
                    <a:pt x="2303" y="298"/>
                  </a:lnTo>
                  <a:lnTo>
                    <a:pt x="2290" y="298"/>
                  </a:lnTo>
                  <a:lnTo>
                    <a:pt x="2278" y="299"/>
                  </a:lnTo>
                  <a:lnTo>
                    <a:pt x="2264" y="301"/>
                  </a:lnTo>
                  <a:lnTo>
                    <a:pt x="2254" y="306"/>
                  </a:lnTo>
                  <a:lnTo>
                    <a:pt x="2243" y="311"/>
                  </a:lnTo>
                  <a:lnTo>
                    <a:pt x="2234" y="318"/>
                  </a:lnTo>
                  <a:lnTo>
                    <a:pt x="2227" y="326"/>
                  </a:lnTo>
                  <a:lnTo>
                    <a:pt x="2222" y="335"/>
                  </a:lnTo>
                  <a:lnTo>
                    <a:pt x="2219" y="343"/>
                  </a:lnTo>
                  <a:lnTo>
                    <a:pt x="2224" y="351"/>
                  </a:lnTo>
                  <a:lnTo>
                    <a:pt x="2222" y="361"/>
                  </a:lnTo>
                  <a:lnTo>
                    <a:pt x="2222" y="370"/>
                  </a:lnTo>
                  <a:lnTo>
                    <a:pt x="2216" y="379"/>
                  </a:lnTo>
                  <a:lnTo>
                    <a:pt x="2208" y="384"/>
                  </a:lnTo>
                  <a:lnTo>
                    <a:pt x="2198" y="376"/>
                  </a:lnTo>
                  <a:lnTo>
                    <a:pt x="2191" y="384"/>
                  </a:lnTo>
                  <a:lnTo>
                    <a:pt x="2185" y="392"/>
                  </a:lnTo>
                  <a:lnTo>
                    <a:pt x="2180" y="401"/>
                  </a:lnTo>
                  <a:lnTo>
                    <a:pt x="2178" y="410"/>
                  </a:lnTo>
                  <a:lnTo>
                    <a:pt x="2181" y="420"/>
                  </a:lnTo>
                  <a:lnTo>
                    <a:pt x="2192" y="422"/>
                  </a:lnTo>
                  <a:lnTo>
                    <a:pt x="2195" y="430"/>
                  </a:lnTo>
                  <a:lnTo>
                    <a:pt x="2196" y="439"/>
                  </a:lnTo>
                  <a:lnTo>
                    <a:pt x="2199" y="449"/>
                  </a:lnTo>
                  <a:lnTo>
                    <a:pt x="2201" y="458"/>
                  </a:lnTo>
                  <a:lnTo>
                    <a:pt x="2201" y="468"/>
                  </a:lnTo>
                  <a:lnTo>
                    <a:pt x="2202" y="477"/>
                  </a:lnTo>
                  <a:lnTo>
                    <a:pt x="2202" y="487"/>
                  </a:lnTo>
                  <a:lnTo>
                    <a:pt x="2202" y="496"/>
                  </a:lnTo>
                  <a:lnTo>
                    <a:pt x="2202" y="507"/>
                  </a:lnTo>
                  <a:lnTo>
                    <a:pt x="2201" y="515"/>
                  </a:lnTo>
                  <a:lnTo>
                    <a:pt x="2194" y="522"/>
                  </a:lnTo>
                  <a:lnTo>
                    <a:pt x="2196" y="529"/>
                  </a:lnTo>
                  <a:lnTo>
                    <a:pt x="2208" y="530"/>
                  </a:lnTo>
                  <a:lnTo>
                    <a:pt x="2203" y="539"/>
                  </a:lnTo>
                  <a:lnTo>
                    <a:pt x="2198" y="548"/>
                  </a:lnTo>
                  <a:lnTo>
                    <a:pt x="2195" y="557"/>
                  </a:lnTo>
                  <a:lnTo>
                    <a:pt x="2196" y="566"/>
                  </a:lnTo>
                  <a:lnTo>
                    <a:pt x="2195" y="575"/>
                  </a:lnTo>
                  <a:lnTo>
                    <a:pt x="2199" y="584"/>
                  </a:lnTo>
                  <a:lnTo>
                    <a:pt x="2198" y="593"/>
                  </a:lnTo>
                  <a:lnTo>
                    <a:pt x="2189" y="600"/>
                  </a:lnTo>
                  <a:lnTo>
                    <a:pt x="2181" y="607"/>
                  </a:lnTo>
                  <a:lnTo>
                    <a:pt x="2173" y="605"/>
                  </a:lnTo>
                  <a:lnTo>
                    <a:pt x="2167" y="614"/>
                  </a:lnTo>
                  <a:lnTo>
                    <a:pt x="2164" y="623"/>
                  </a:lnTo>
                  <a:lnTo>
                    <a:pt x="2166" y="633"/>
                  </a:lnTo>
                  <a:lnTo>
                    <a:pt x="2167" y="642"/>
                  </a:lnTo>
                  <a:lnTo>
                    <a:pt x="2168" y="651"/>
                  </a:lnTo>
                  <a:lnTo>
                    <a:pt x="2171" y="660"/>
                  </a:lnTo>
                  <a:lnTo>
                    <a:pt x="2173" y="670"/>
                  </a:lnTo>
                  <a:lnTo>
                    <a:pt x="2174" y="679"/>
                  </a:lnTo>
                  <a:lnTo>
                    <a:pt x="2180" y="688"/>
                  </a:lnTo>
                  <a:lnTo>
                    <a:pt x="2185" y="696"/>
                  </a:lnTo>
                  <a:lnTo>
                    <a:pt x="2189" y="705"/>
                  </a:lnTo>
                  <a:lnTo>
                    <a:pt x="2194" y="713"/>
                  </a:lnTo>
                  <a:lnTo>
                    <a:pt x="2199" y="722"/>
                  </a:lnTo>
                  <a:lnTo>
                    <a:pt x="2199" y="730"/>
                  </a:lnTo>
                  <a:lnTo>
                    <a:pt x="2192" y="734"/>
                  </a:lnTo>
                  <a:lnTo>
                    <a:pt x="2195" y="744"/>
                  </a:lnTo>
                  <a:lnTo>
                    <a:pt x="2195" y="753"/>
                  </a:lnTo>
                  <a:lnTo>
                    <a:pt x="2201" y="761"/>
                  </a:lnTo>
                  <a:lnTo>
                    <a:pt x="2203" y="770"/>
                  </a:lnTo>
                  <a:lnTo>
                    <a:pt x="2201" y="779"/>
                  </a:lnTo>
                  <a:lnTo>
                    <a:pt x="2199" y="788"/>
                  </a:lnTo>
                  <a:lnTo>
                    <a:pt x="2188" y="792"/>
                  </a:lnTo>
                  <a:lnTo>
                    <a:pt x="2178" y="798"/>
                  </a:lnTo>
                  <a:lnTo>
                    <a:pt x="2168" y="805"/>
                  </a:lnTo>
                  <a:lnTo>
                    <a:pt x="2161" y="812"/>
                  </a:lnTo>
                  <a:lnTo>
                    <a:pt x="2159" y="821"/>
                  </a:lnTo>
                  <a:lnTo>
                    <a:pt x="2146" y="821"/>
                  </a:lnTo>
                  <a:lnTo>
                    <a:pt x="2135" y="817"/>
                  </a:lnTo>
                  <a:lnTo>
                    <a:pt x="2124" y="811"/>
                  </a:lnTo>
                  <a:lnTo>
                    <a:pt x="2114" y="805"/>
                  </a:lnTo>
                  <a:lnTo>
                    <a:pt x="2106" y="798"/>
                  </a:lnTo>
                  <a:lnTo>
                    <a:pt x="2101" y="793"/>
                  </a:lnTo>
                  <a:lnTo>
                    <a:pt x="2094" y="803"/>
                  </a:lnTo>
                  <a:lnTo>
                    <a:pt x="2089" y="809"/>
                  </a:lnTo>
                  <a:lnTo>
                    <a:pt x="2083" y="800"/>
                  </a:lnTo>
                  <a:lnTo>
                    <a:pt x="2073" y="793"/>
                  </a:lnTo>
                  <a:lnTo>
                    <a:pt x="2061" y="792"/>
                  </a:lnTo>
                  <a:lnTo>
                    <a:pt x="2050" y="795"/>
                  </a:lnTo>
                  <a:lnTo>
                    <a:pt x="2040" y="801"/>
                  </a:lnTo>
                  <a:lnTo>
                    <a:pt x="2027" y="804"/>
                  </a:lnTo>
                  <a:lnTo>
                    <a:pt x="2016" y="808"/>
                  </a:lnTo>
                  <a:lnTo>
                    <a:pt x="2005" y="813"/>
                  </a:lnTo>
                  <a:lnTo>
                    <a:pt x="1992" y="816"/>
                  </a:lnTo>
                  <a:lnTo>
                    <a:pt x="1980" y="819"/>
                  </a:lnTo>
                  <a:lnTo>
                    <a:pt x="1969" y="817"/>
                  </a:lnTo>
                  <a:lnTo>
                    <a:pt x="1957" y="822"/>
                  </a:lnTo>
                  <a:lnTo>
                    <a:pt x="1945" y="822"/>
                  </a:lnTo>
                  <a:lnTo>
                    <a:pt x="1932" y="819"/>
                  </a:lnTo>
                  <a:lnTo>
                    <a:pt x="1922" y="822"/>
                  </a:lnTo>
                  <a:lnTo>
                    <a:pt x="1921" y="831"/>
                  </a:lnTo>
                  <a:lnTo>
                    <a:pt x="1918" y="840"/>
                  </a:lnTo>
                  <a:lnTo>
                    <a:pt x="1918" y="855"/>
                  </a:lnTo>
                  <a:lnTo>
                    <a:pt x="1915" y="872"/>
                  </a:lnTo>
                  <a:lnTo>
                    <a:pt x="1915" y="881"/>
                  </a:lnTo>
                  <a:lnTo>
                    <a:pt x="1917" y="890"/>
                  </a:lnTo>
                  <a:lnTo>
                    <a:pt x="1920" y="899"/>
                  </a:lnTo>
                  <a:lnTo>
                    <a:pt x="1913" y="905"/>
                  </a:lnTo>
                  <a:lnTo>
                    <a:pt x="1903" y="899"/>
                  </a:lnTo>
                  <a:lnTo>
                    <a:pt x="1890" y="895"/>
                  </a:lnTo>
                  <a:lnTo>
                    <a:pt x="1879" y="892"/>
                  </a:lnTo>
                  <a:lnTo>
                    <a:pt x="1869" y="899"/>
                  </a:lnTo>
                  <a:lnTo>
                    <a:pt x="1858" y="901"/>
                  </a:lnTo>
                  <a:lnTo>
                    <a:pt x="1853" y="897"/>
                  </a:lnTo>
                  <a:lnTo>
                    <a:pt x="1854" y="887"/>
                  </a:lnTo>
                  <a:lnTo>
                    <a:pt x="1853" y="878"/>
                  </a:lnTo>
                  <a:lnTo>
                    <a:pt x="1847" y="869"/>
                  </a:lnTo>
                  <a:lnTo>
                    <a:pt x="1837" y="870"/>
                  </a:lnTo>
                  <a:lnTo>
                    <a:pt x="1825" y="873"/>
                  </a:lnTo>
                  <a:lnTo>
                    <a:pt x="1813" y="872"/>
                  </a:lnTo>
                  <a:lnTo>
                    <a:pt x="1805" y="865"/>
                  </a:lnTo>
                  <a:lnTo>
                    <a:pt x="1794" y="867"/>
                  </a:lnTo>
                  <a:lnTo>
                    <a:pt x="1785" y="874"/>
                  </a:lnTo>
                  <a:lnTo>
                    <a:pt x="1777" y="879"/>
                  </a:lnTo>
                  <a:lnTo>
                    <a:pt x="1774" y="886"/>
                  </a:lnTo>
                  <a:lnTo>
                    <a:pt x="1783" y="894"/>
                  </a:lnTo>
                  <a:lnTo>
                    <a:pt x="1788" y="902"/>
                  </a:lnTo>
                  <a:lnTo>
                    <a:pt x="1791" y="911"/>
                  </a:lnTo>
                  <a:lnTo>
                    <a:pt x="1790" y="920"/>
                  </a:lnTo>
                  <a:lnTo>
                    <a:pt x="1787" y="929"/>
                  </a:lnTo>
                  <a:lnTo>
                    <a:pt x="1791" y="938"/>
                  </a:lnTo>
                  <a:lnTo>
                    <a:pt x="1798" y="945"/>
                  </a:lnTo>
                  <a:lnTo>
                    <a:pt x="1801" y="953"/>
                  </a:lnTo>
                  <a:lnTo>
                    <a:pt x="1794" y="962"/>
                  </a:lnTo>
                  <a:lnTo>
                    <a:pt x="1788" y="971"/>
                  </a:lnTo>
                  <a:lnTo>
                    <a:pt x="1776" y="973"/>
                  </a:lnTo>
                  <a:lnTo>
                    <a:pt x="1766" y="978"/>
                  </a:lnTo>
                  <a:lnTo>
                    <a:pt x="1757" y="986"/>
                  </a:lnTo>
                  <a:lnTo>
                    <a:pt x="1748" y="991"/>
                  </a:lnTo>
                  <a:lnTo>
                    <a:pt x="1738" y="995"/>
                  </a:lnTo>
                  <a:lnTo>
                    <a:pt x="1741" y="1004"/>
                  </a:lnTo>
                  <a:lnTo>
                    <a:pt x="1745" y="1014"/>
                  </a:lnTo>
                  <a:lnTo>
                    <a:pt x="1749" y="1022"/>
                  </a:lnTo>
                  <a:lnTo>
                    <a:pt x="1744" y="1024"/>
                  </a:lnTo>
                  <a:lnTo>
                    <a:pt x="1734" y="1025"/>
                  </a:lnTo>
                  <a:lnTo>
                    <a:pt x="1727" y="1032"/>
                  </a:lnTo>
                  <a:lnTo>
                    <a:pt x="1713" y="1033"/>
                  </a:lnTo>
                  <a:lnTo>
                    <a:pt x="1700" y="1033"/>
                  </a:lnTo>
                  <a:lnTo>
                    <a:pt x="1688" y="1032"/>
                  </a:lnTo>
                  <a:lnTo>
                    <a:pt x="1674" y="1032"/>
                  </a:lnTo>
                  <a:lnTo>
                    <a:pt x="1661" y="1032"/>
                  </a:lnTo>
                  <a:lnTo>
                    <a:pt x="1648" y="1031"/>
                  </a:lnTo>
                  <a:lnTo>
                    <a:pt x="1636" y="1028"/>
                  </a:lnTo>
                  <a:lnTo>
                    <a:pt x="1622" y="1028"/>
                  </a:lnTo>
                  <a:lnTo>
                    <a:pt x="1614" y="1027"/>
                  </a:lnTo>
                  <a:lnTo>
                    <a:pt x="1609" y="1019"/>
                  </a:lnTo>
                  <a:lnTo>
                    <a:pt x="1604" y="1011"/>
                  </a:lnTo>
                  <a:lnTo>
                    <a:pt x="1595" y="1006"/>
                  </a:lnTo>
                  <a:lnTo>
                    <a:pt x="1584" y="1007"/>
                  </a:lnTo>
                  <a:lnTo>
                    <a:pt x="1573" y="1001"/>
                  </a:lnTo>
                  <a:lnTo>
                    <a:pt x="1560" y="1001"/>
                  </a:lnTo>
                  <a:lnTo>
                    <a:pt x="1548" y="1005"/>
                  </a:lnTo>
                  <a:lnTo>
                    <a:pt x="1537" y="1009"/>
                  </a:lnTo>
                  <a:lnTo>
                    <a:pt x="1524" y="1011"/>
                  </a:lnTo>
                  <a:lnTo>
                    <a:pt x="1513" y="1008"/>
                  </a:lnTo>
                  <a:lnTo>
                    <a:pt x="1504" y="1006"/>
                  </a:lnTo>
                  <a:lnTo>
                    <a:pt x="1493" y="1006"/>
                  </a:lnTo>
                  <a:lnTo>
                    <a:pt x="1481" y="1007"/>
                  </a:lnTo>
                  <a:lnTo>
                    <a:pt x="1467" y="1009"/>
                  </a:lnTo>
                  <a:lnTo>
                    <a:pt x="1461" y="1002"/>
                  </a:lnTo>
                  <a:lnTo>
                    <a:pt x="1454" y="994"/>
                  </a:lnTo>
                  <a:lnTo>
                    <a:pt x="1443" y="990"/>
                  </a:lnTo>
                  <a:lnTo>
                    <a:pt x="1432" y="991"/>
                  </a:lnTo>
                  <a:lnTo>
                    <a:pt x="1423" y="997"/>
                  </a:lnTo>
                  <a:lnTo>
                    <a:pt x="1414" y="1003"/>
                  </a:lnTo>
                  <a:lnTo>
                    <a:pt x="1402" y="1008"/>
                  </a:lnTo>
                  <a:lnTo>
                    <a:pt x="1402" y="1018"/>
                  </a:lnTo>
                  <a:lnTo>
                    <a:pt x="1401" y="1027"/>
                  </a:lnTo>
                  <a:lnTo>
                    <a:pt x="1401" y="1036"/>
                  </a:lnTo>
                  <a:lnTo>
                    <a:pt x="1401" y="1046"/>
                  </a:lnTo>
                  <a:lnTo>
                    <a:pt x="1395" y="1050"/>
                  </a:lnTo>
                  <a:lnTo>
                    <a:pt x="1374" y="1048"/>
                  </a:lnTo>
                  <a:lnTo>
                    <a:pt x="1360" y="1049"/>
                  </a:lnTo>
                  <a:lnTo>
                    <a:pt x="1348" y="1051"/>
                  </a:lnTo>
                  <a:lnTo>
                    <a:pt x="1340" y="1056"/>
                  </a:lnTo>
                  <a:lnTo>
                    <a:pt x="1341" y="1066"/>
                  </a:lnTo>
                  <a:lnTo>
                    <a:pt x="1340" y="1075"/>
                  </a:lnTo>
                  <a:lnTo>
                    <a:pt x="1340" y="1085"/>
                  </a:lnTo>
                  <a:lnTo>
                    <a:pt x="1333" y="1093"/>
                  </a:lnTo>
                  <a:lnTo>
                    <a:pt x="1324" y="1100"/>
                  </a:lnTo>
                  <a:lnTo>
                    <a:pt x="1317" y="1093"/>
                  </a:lnTo>
                  <a:lnTo>
                    <a:pt x="1305" y="1091"/>
                  </a:lnTo>
                  <a:lnTo>
                    <a:pt x="1292" y="1090"/>
                  </a:lnTo>
                  <a:lnTo>
                    <a:pt x="1278" y="1088"/>
                  </a:lnTo>
                  <a:lnTo>
                    <a:pt x="1265" y="1085"/>
                  </a:lnTo>
                  <a:lnTo>
                    <a:pt x="1253" y="1084"/>
                  </a:lnTo>
                  <a:lnTo>
                    <a:pt x="1240" y="1081"/>
                  </a:lnTo>
                  <a:lnTo>
                    <a:pt x="1229" y="1085"/>
                  </a:lnTo>
                  <a:lnTo>
                    <a:pt x="1216" y="1086"/>
                  </a:lnTo>
                  <a:lnTo>
                    <a:pt x="1203" y="1087"/>
                  </a:lnTo>
                  <a:lnTo>
                    <a:pt x="1190" y="1086"/>
                  </a:lnTo>
                  <a:lnTo>
                    <a:pt x="1176" y="1087"/>
                  </a:lnTo>
                  <a:lnTo>
                    <a:pt x="1168" y="1086"/>
                  </a:lnTo>
                  <a:lnTo>
                    <a:pt x="1158" y="1080"/>
                  </a:lnTo>
                  <a:lnTo>
                    <a:pt x="1148" y="1074"/>
                  </a:lnTo>
                  <a:lnTo>
                    <a:pt x="1138" y="1072"/>
                  </a:lnTo>
                  <a:lnTo>
                    <a:pt x="1127" y="1077"/>
                  </a:lnTo>
                  <a:lnTo>
                    <a:pt x="1114" y="1077"/>
                  </a:lnTo>
                  <a:lnTo>
                    <a:pt x="1105" y="1077"/>
                  </a:lnTo>
                  <a:lnTo>
                    <a:pt x="1099" y="1086"/>
                  </a:lnTo>
                  <a:lnTo>
                    <a:pt x="1091" y="1093"/>
                  </a:lnTo>
                  <a:lnTo>
                    <a:pt x="1080" y="1097"/>
                  </a:lnTo>
                  <a:lnTo>
                    <a:pt x="1071" y="1102"/>
                  </a:lnTo>
                  <a:lnTo>
                    <a:pt x="1059" y="1100"/>
                  </a:lnTo>
                  <a:lnTo>
                    <a:pt x="1046" y="1097"/>
                  </a:lnTo>
                  <a:lnTo>
                    <a:pt x="1033" y="1093"/>
                  </a:lnTo>
                  <a:lnTo>
                    <a:pt x="1025" y="1097"/>
                  </a:lnTo>
                  <a:lnTo>
                    <a:pt x="1021" y="1106"/>
                  </a:lnTo>
                  <a:lnTo>
                    <a:pt x="1014" y="1114"/>
                  </a:lnTo>
                  <a:lnTo>
                    <a:pt x="1005" y="1121"/>
                  </a:lnTo>
                  <a:lnTo>
                    <a:pt x="997" y="1128"/>
                  </a:lnTo>
                  <a:lnTo>
                    <a:pt x="989" y="1135"/>
                  </a:lnTo>
                  <a:lnTo>
                    <a:pt x="980" y="1142"/>
                  </a:lnTo>
                  <a:lnTo>
                    <a:pt x="970" y="1148"/>
                  </a:lnTo>
                  <a:lnTo>
                    <a:pt x="959" y="1154"/>
                  </a:lnTo>
                  <a:lnTo>
                    <a:pt x="949" y="1160"/>
                  </a:lnTo>
                  <a:lnTo>
                    <a:pt x="943" y="1168"/>
                  </a:lnTo>
                  <a:lnTo>
                    <a:pt x="940" y="1177"/>
                  </a:lnTo>
                  <a:lnTo>
                    <a:pt x="937" y="1186"/>
                  </a:lnTo>
                  <a:lnTo>
                    <a:pt x="937" y="1196"/>
                  </a:lnTo>
                  <a:lnTo>
                    <a:pt x="929" y="1202"/>
                  </a:lnTo>
                  <a:lnTo>
                    <a:pt x="916" y="1205"/>
                  </a:lnTo>
                  <a:lnTo>
                    <a:pt x="903" y="1206"/>
                  </a:lnTo>
                  <a:lnTo>
                    <a:pt x="896" y="1212"/>
                  </a:lnTo>
                  <a:lnTo>
                    <a:pt x="896" y="1222"/>
                  </a:lnTo>
                  <a:lnTo>
                    <a:pt x="896" y="1232"/>
                  </a:lnTo>
                  <a:lnTo>
                    <a:pt x="887" y="1236"/>
                  </a:lnTo>
                  <a:lnTo>
                    <a:pt x="885" y="1245"/>
                  </a:lnTo>
                  <a:lnTo>
                    <a:pt x="885" y="1254"/>
                  </a:lnTo>
                  <a:lnTo>
                    <a:pt x="875" y="1261"/>
                  </a:lnTo>
                  <a:lnTo>
                    <a:pt x="873" y="1270"/>
                  </a:lnTo>
                  <a:lnTo>
                    <a:pt x="861" y="1267"/>
                  </a:lnTo>
                  <a:lnTo>
                    <a:pt x="849" y="1263"/>
                  </a:lnTo>
                  <a:lnTo>
                    <a:pt x="836" y="1261"/>
                  </a:lnTo>
                  <a:lnTo>
                    <a:pt x="824" y="1262"/>
                  </a:lnTo>
                  <a:lnTo>
                    <a:pt x="811" y="1264"/>
                  </a:lnTo>
                  <a:lnTo>
                    <a:pt x="799" y="1267"/>
                  </a:lnTo>
                  <a:lnTo>
                    <a:pt x="787" y="1272"/>
                  </a:lnTo>
                  <a:lnTo>
                    <a:pt x="775" y="1274"/>
                  </a:lnTo>
                  <a:lnTo>
                    <a:pt x="762" y="1277"/>
                  </a:lnTo>
                  <a:lnTo>
                    <a:pt x="768" y="1284"/>
                  </a:lnTo>
                  <a:lnTo>
                    <a:pt x="772" y="1293"/>
                  </a:lnTo>
                  <a:lnTo>
                    <a:pt x="773" y="1302"/>
                  </a:lnTo>
                  <a:lnTo>
                    <a:pt x="771" y="1312"/>
                  </a:lnTo>
                  <a:lnTo>
                    <a:pt x="773" y="1317"/>
                  </a:lnTo>
                  <a:lnTo>
                    <a:pt x="771" y="1327"/>
                  </a:lnTo>
                  <a:lnTo>
                    <a:pt x="766" y="1336"/>
                  </a:lnTo>
                  <a:lnTo>
                    <a:pt x="757" y="1342"/>
                  </a:lnTo>
                  <a:lnTo>
                    <a:pt x="748" y="1348"/>
                  </a:lnTo>
                  <a:lnTo>
                    <a:pt x="737" y="1354"/>
                  </a:lnTo>
                  <a:lnTo>
                    <a:pt x="724" y="1357"/>
                  </a:lnTo>
                  <a:lnTo>
                    <a:pt x="716" y="1363"/>
                  </a:lnTo>
                  <a:lnTo>
                    <a:pt x="703" y="1367"/>
                  </a:lnTo>
                  <a:lnTo>
                    <a:pt x="694" y="1373"/>
                  </a:lnTo>
                  <a:lnTo>
                    <a:pt x="681" y="1375"/>
                  </a:lnTo>
                  <a:lnTo>
                    <a:pt x="669" y="1379"/>
                  </a:lnTo>
                  <a:lnTo>
                    <a:pt x="657" y="1383"/>
                  </a:lnTo>
                  <a:lnTo>
                    <a:pt x="645" y="1385"/>
                  </a:lnTo>
                  <a:lnTo>
                    <a:pt x="638" y="1394"/>
                  </a:lnTo>
                  <a:lnTo>
                    <a:pt x="628" y="1389"/>
                  </a:lnTo>
                  <a:lnTo>
                    <a:pt x="618" y="1382"/>
                  </a:lnTo>
                  <a:lnTo>
                    <a:pt x="607" y="1377"/>
                  </a:lnTo>
                  <a:lnTo>
                    <a:pt x="596" y="1380"/>
                  </a:lnTo>
                  <a:lnTo>
                    <a:pt x="585" y="1375"/>
                  </a:lnTo>
                  <a:lnTo>
                    <a:pt x="576" y="1368"/>
                  </a:lnTo>
                  <a:lnTo>
                    <a:pt x="562" y="1366"/>
                  </a:lnTo>
                  <a:lnTo>
                    <a:pt x="550" y="1366"/>
                  </a:lnTo>
                  <a:lnTo>
                    <a:pt x="540" y="1369"/>
                  </a:lnTo>
                  <a:lnTo>
                    <a:pt x="527" y="1370"/>
                  </a:lnTo>
                  <a:lnTo>
                    <a:pt x="519" y="1374"/>
                  </a:lnTo>
                  <a:lnTo>
                    <a:pt x="515" y="1381"/>
                  </a:lnTo>
                  <a:lnTo>
                    <a:pt x="504" y="1381"/>
                  </a:lnTo>
                  <a:lnTo>
                    <a:pt x="490" y="1380"/>
                  </a:lnTo>
                  <a:lnTo>
                    <a:pt x="484" y="1387"/>
                  </a:lnTo>
                  <a:lnTo>
                    <a:pt x="487" y="1396"/>
                  </a:lnTo>
                  <a:lnTo>
                    <a:pt x="497" y="1403"/>
                  </a:lnTo>
                  <a:lnTo>
                    <a:pt x="508" y="1402"/>
                  </a:lnTo>
                  <a:lnTo>
                    <a:pt x="519" y="1396"/>
                  </a:lnTo>
                  <a:lnTo>
                    <a:pt x="530" y="1391"/>
                  </a:lnTo>
                  <a:lnTo>
                    <a:pt x="541" y="1393"/>
                  </a:lnTo>
                  <a:lnTo>
                    <a:pt x="552" y="1391"/>
                  </a:lnTo>
                  <a:lnTo>
                    <a:pt x="565" y="1393"/>
                  </a:lnTo>
                  <a:lnTo>
                    <a:pt x="568" y="1402"/>
                  </a:lnTo>
                  <a:lnTo>
                    <a:pt x="565" y="1410"/>
                  </a:lnTo>
                  <a:lnTo>
                    <a:pt x="555" y="1416"/>
                  </a:lnTo>
                  <a:lnTo>
                    <a:pt x="543" y="1414"/>
                  </a:lnTo>
                  <a:lnTo>
                    <a:pt x="541" y="1422"/>
                  </a:lnTo>
                  <a:lnTo>
                    <a:pt x="533" y="1431"/>
                  </a:lnTo>
                  <a:lnTo>
                    <a:pt x="534" y="1439"/>
                  </a:lnTo>
                  <a:lnTo>
                    <a:pt x="539" y="1451"/>
                  </a:lnTo>
                  <a:lnTo>
                    <a:pt x="541" y="1460"/>
                  </a:lnTo>
                  <a:lnTo>
                    <a:pt x="533" y="1466"/>
                  </a:lnTo>
                  <a:lnTo>
                    <a:pt x="522" y="1471"/>
                  </a:lnTo>
                  <a:lnTo>
                    <a:pt x="512" y="1478"/>
                  </a:lnTo>
                  <a:lnTo>
                    <a:pt x="505" y="1486"/>
                  </a:lnTo>
                  <a:lnTo>
                    <a:pt x="501" y="1494"/>
                  </a:lnTo>
                  <a:lnTo>
                    <a:pt x="490" y="1504"/>
                  </a:lnTo>
                  <a:lnTo>
                    <a:pt x="481" y="1511"/>
                  </a:lnTo>
                  <a:lnTo>
                    <a:pt x="469" y="1514"/>
                  </a:lnTo>
                  <a:lnTo>
                    <a:pt x="464" y="1514"/>
                  </a:lnTo>
                  <a:lnTo>
                    <a:pt x="460" y="1505"/>
                  </a:lnTo>
                  <a:lnTo>
                    <a:pt x="460" y="1495"/>
                  </a:lnTo>
                  <a:lnTo>
                    <a:pt x="448" y="1496"/>
                  </a:lnTo>
                  <a:lnTo>
                    <a:pt x="453" y="1489"/>
                  </a:lnTo>
                  <a:lnTo>
                    <a:pt x="452" y="1480"/>
                  </a:lnTo>
                  <a:lnTo>
                    <a:pt x="446" y="1472"/>
                  </a:lnTo>
                  <a:lnTo>
                    <a:pt x="438" y="1466"/>
                  </a:lnTo>
                  <a:lnTo>
                    <a:pt x="432" y="1457"/>
                  </a:lnTo>
                  <a:lnTo>
                    <a:pt x="422" y="1452"/>
                  </a:lnTo>
                  <a:lnTo>
                    <a:pt x="415" y="1445"/>
                  </a:lnTo>
                  <a:lnTo>
                    <a:pt x="406" y="1440"/>
                  </a:lnTo>
                  <a:lnTo>
                    <a:pt x="395" y="1434"/>
                  </a:lnTo>
                  <a:lnTo>
                    <a:pt x="397" y="1428"/>
                  </a:lnTo>
                  <a:lnTo>
                    <a:pt x="400" y="1418"/>
                  </a:lnTo>
                  <a:lnTo>
                    <a:pt x="403" y="1409"/>
                  </a:lnTo>
                  <a:lnTo>
                    <a:pt x="411" y="1402"/>
                  </a:lnTo>
                  <a:lnTo>
                    <a:pt x="417" y="1393"/>
                  </a:lnTo>
                  <a:lnTo>
                    <a:pt x="418" y="1384"/>
                  </a:lnTo>
                  <a:lnTo>
                    <a:pt x="406" y="1384"/>
                  </a:lnTo>
                  <a:lnTo>
                    <a:pt x="392" y="1384"/>
                  </a:lnTo>
                  <a:lnTo>
                    <a:pt x="382" y="1380"/>
                  </a:lnTo>
                  <a:lnTo>
                    <a:pt x="381" y="1370"/>
                  </a:lnTo>
                  <a:lnTo>
                    <a:pt x="382" y="1361"/>
                  </a:lnTo>
                  <a:lnTo>
                    <a:pt x="385" y="1352"/>
                  </a:lnTo>
                  <a:lnTo>
                    <a:pt x="385" y="1343"/>
                  </a:lnTo>
                  <a:lnTo>
                    <a:pt x="395" y="1337"/>
                  </a:lnTo>
                  <a:lnTo>
                    <a:pt x="407" y="1336"/>
                  </a:lnTo>
                  <a:lnTo>
                    <a:pt x="420" y="1334"/>
                  </a:lnTo>
                  <a:lnTo>
                    <a:pt x="432" y="1333"/>
                  </a:lnTo>
                  <a:lnTo>
                    <a:pt x="442" y="1328"/>
                  </a:lnTo>
                  <a:lnTo>
                    <a:pt x="443" y="1318"/>
                  </a:lnTo>
                  <a:lnTo>
                    <a:pt x="443" y="1310"/>
                  </a:lnTo>
                  <a:lnTo>
                    <a:pt x="441" y="1300"/>
                  </a:lnTo>
                  <a:lnTo>
                    <a:pt x="445" y="1293"/>
                  </a:lnTo>
                  <a:lnTo>
                    <a:pt x="450" y="1287"/>
                  </a:lnTo>
                  <a:lnTo>
                    <a:pt x="452" y="1278"/>
                  </a:lnTo>
                  <a:lnTo>
                    <a:pt x="464" y="1277"/>
                  </a:lnTo>
                  <a:lnTo>
                    <a:pt x="462" y="1268"/>
                  </a:lnTo>
                  <a:lnTo>
                    <a:pt x="460" y="1259"/>
                  </a:lnTo>
                  <a:lnTo>
                    <a:pt x="455" y="1251"/>
                  </a:lnTo>
                  <a:lnTo>
                    <a:pt x="443" y="1250"/>
                  </a:lnTo>
                  <a:lnTo>
                    <a:pt x="443" y="1242"/>
                  </a:lnTo>
                  <a:lnTo>
                    <a:pt x="429" y="1244"/>
                  </a:lnTo>
                  <a:lnTo>
                    <a:pt x="421" y="1243"/>
                  </a:lnTo>
                  <a:lnTo>
                    <a:pt x="414" y="1235"/>
                  </a:lnTo>
                  <a:lnTo>
                    <a:pt x="407" y="1227"/>
                  </a:lnTo>
                  <a:lnTo>
                    <a:pt x="400" y="1221"/>
                  </a:lnTo>
                  <a:lnTo>
                    <a:pt x="388" y="1221"/>
                  </a:lnTo>
                  <a:lnTo>
                    <a:pt x="385" y="1215"/>
                  </a:lnTo>
                  <a:lnTo>
                    <a:pt x="372" y="1214"/>
                  </a:lnTo>
                  <a:lnTo>
                    <a:pt x="367" y="1207"/>
                  </a:lnTo>
                  <a:lnTo>
                    <a:pt x="364" y="1200"/>
                  </a:lnTo>
                  <a:lnTo>
                    <a:pt x="360" y="1192"/>
                  </a:lnTo>
                  <a:lnTo>
                    <a:pt x="350" y="1186"/>
                  </a:lnTo>
                  <a:lnTo>
                    <a:pt x="337" y="1186"/>
                  </a:lnTo>
                  <a:lnTo>
                    <a:pt x="325" y="1187"/>
                  </a:lnTo>
                  <a:lnTo>
                    <a:pt x="311" y="1185"/>
                  </a:lnTo>
                  <a:lnTo>
                    <a:pt x="298" y="1186"/>
                  </a:lnTo>
                  <a:lnTo>
                    <a:pt x="285" y="1184"/>
                  </a:lnTo>
                  <a:lnTo>
                    <a:pt x="274" y="1181"/>
                  </a:lnTo>
                  <a:lnTo>
                    <a:pt x="260" y="1180"/>
                  </a:lnTo>
                  <a:lnTo>
                    <a:pt x="251" y="1175"/>
                  </a:lnTo>
                  <a:lnTo>
                    <a:pt x="238" y="1174"/>
                  </a:lnTo>
                  <a:lnTo>
                    <a:pt x="227" y="1180"/>
                  </a:lnTo>
                  <a:lnTo>
                    <a:pt x="218" y="1185"/>
                  </a:lnTo>
                  <a:lnTo>
                    <a:pt x="207" y="1188"/>
                  </a:lnTo>
                  <a:lnTo>
                    <a:pt x="195" y="1190"/>
                  </a:lnTo>
                  <a:lnTo>
                    <a:pt x="182" y="1188"/>
                  </a:lnTo>
                  <a:lnTo>
                    <a:pt x="169" y="1190"/>
                  </a:lnTo>
                  <a:lnTo>
                    <a:pt x="157" y="1193"/>
                  </a:lnTo>
                  <a:lnTo>
                    <a:pt x="144" y="1193"/>
                  </a:lnTo>
                  <a:lnTo>
                    <a:pt x="133" y="1198"/>
                  </a:lnTo>
                  <a:lnTo>
                    <a:pt x="128" y="1207"/>
                  </a:lnTo>
                  <a:lnTo>
                    <a:pt x="119" y="1211"/>
                  </a:lnTo>
                  <a:lnTo>
                    <a:pt x="108" y="1207"/>
                  </a:lnTo>
                  <a:lnTo>
                    <a:pt x="95" y="1206"/>
                  </a:lnTo>
                  <a:lnTo>
                    <a:pt x="87" y="1212"/>
                  </a:lnTo>
                  <a:lnTo>
                    <a:pt x="79" y="1216"/>
                  </a:lnTo>
                  <a:lnTo>
                    <a:pt x="67" y="1213"/>
                  </a:lnTo>
                  <a:lnTo>
                    <a:pt x="55" y="1214"/>
                  </a:lnTo>
                  <a:lnTo>
                    <a:pt x="42" y="1211"/>
                  </a:lnTo>
                  <a:lnTo>
                    <a:pt x="31" y="1209"/>
                  </a:lnTo>
                  <a:lnTo>
                    <a:pt x="21" y="1205"/>
                  </a:lnTo>
                  <a:lnTo>
                    <a:pt x="18" y="1196"/>
                  </a:lnTo>
                  <a:lnTo>
                    <a:pt x="7" y="1195"/>
                  </a:lnTo>
                  <a:lnTo>
                    <a:pt x="5" y="1189"/>
                  </a:lnTo>
                  <a:lnTo>
                    <a:pt x="0" y="1181"/>
                  </a:lnTo>
                  <a:lnTo>
                    <a:pt x="13" y="1177"/>
                  </a:lnTo>
                  <a:lnTo>
                    <a:pt x="24" y="1174"/>
                  </a:lnTo>
                  <a:lnTo>
                    <a:pt x="35" y="1171"/>
                  </a:lnTo>
                  <a:lnTo>
                    <a:pt x="44" y="1164"/>
                  </a:lnTo>
                  <a:lnTo>
                    <a:pt x="49" y="1156"/>
                  </a:lnTo>
                  <a:lnTo>
                    <a:pt x="56" y="1151"/>
                  </a:lnTo>
                  <a:lnTo>
                    <a:pt x="67" y="1147"/>
                  </a:lnTo>
                  <a:lnTo>
                    <a:pt x="69" y="1138"/>
                  </a:lnTo>
                  <a:lnTo>
                    <a:pt x="80" y="1135"/>
                  </a:lnTo>
                  <a:lnTo>
                    <a:pt x="83" y="1131"/>
                  </a:lnTo>
                  <a:lnTo>
                    <a:pt x="87" y="1128"/>
                  </a:lnTo>
                  <a:lnTo>
                    <a:pt x="94" y="1122"/>
                  </a:lnTo>
                  <a:lnTo>
                    <a:pt x="98" y="1113"/>
                  </a:lnTo>
                  <a:lnTo>
                    <a:pt x="108" y="1115"/>
                  </a:lnTo>
                  <a:lnTo>
                    <a:pt x="119" y="1113"/>
                  </a:lnTo>
                  <a:lnTo>
                    <a:pt x="132" y="1110"/>
                  </a:lnTo>
                  <a:lnTo>
                    <a:pt x="136" y="1102"/>
                  </a:lnTo>
                  <a:lnTo>
                    <a:pt x="140" y="1093"/>
                  </a:lnTo>
                  <a:lnTo>
                    <a:pt x="146" y="1084"/>
                  </a:lnTo>
                  <a:lnTo>
                    <a:pt x="151" y="1076"/>
                  </a:lnTo>
                  <a:lnTo>
                    <a:pt x="155" y="1067"/>
                  </a:lnTo>
                  <a:lnTo>
                    <a:pt x="161" y="1060"/>
                  </a:lnTo>
                  <a:lnTo>
                    <a:pt x="164" y="1051"/>
                  </a:lnTo>
                  <a:lnTo>
                    <a:pt x="169" y="1043"/>
                  </a:lnTo>
                  <a:lnTo>
                    <a:pt x="178" y="1037"/>
                  </a:lnTo>
                  <a:lnTo>
                    <a:pt x="190" y="1036"/>
                  </a:lnTo>
                  <a:lnTo>
                    <a:pt x="195" y="1043"/>
                  </a:lnTo>
                  <a:lnTo>
                    <a:pt x="199" y="1038"/>
                  </a:lnTo>
                  <a:lnTo>
                    <a:pt x="210" y="1042"/>
                  </a:lnTo>
                  <a:lnTo>
                    <a:pt x="213" y="1047"/>
                  </a:lnTo>
                  <a:lnTo>
                    <a:pt x="217" y="1051"/>
                  </a:lnTo>
                  <a:lnTo>
                    <a:pt x="223" y="1043"/>
                  </a:lnTo>
                  <a:lnTo>
                    <a:pt x="235" y="1040"/>
                  </a:lnTo>
                  <a:lnTo>
                    <a:pt x="241" y="1035"/>
                  </a:lnTo>
                  <a:lnTo>
                    <a:pt x="246" y="1036"/>
                  </a:lnTo>
                  <a:lnTo>
                    <a:pt x="258" y="1031"/>
                  </a:lnTo>
                  <a:lnTo>
                    <a:pt x="270" y="1031"/>
                  </a:lnTo>
                  <a:lnTo>
                    <a:pt x="272" y="1022"/>
                  </a:lnTo>
                  <a:lnTo>
                    <a:pt x="266" y="1013"/>
                  </a:lnTo>
                  <a:lnTo>
                    <a:pt x="269" y="1006"/>
                  </a:lnTo>
                  <a:lnTo>
                    <a:pt x="278" y="999"/>
                  </a:lnTo>
                  <a:lnTo>
                    <a:pt x="290" y="994"/>
                  </a:lnTo>
                  <a:lnTo>
                    <a:pt x="302" y="992"/>
                  </a:lnTo>
                  <a:lnTo>
                    <a:pt x="305" y="999"/>
                  </a:lnTo>
                  <a:lnTo>
                    <a:pt x="315" y="1001"/>
                  </a:lnTo>
                  <a:lnTo>
                    <a:pt x="325" y="999"/>
                  </a:lnTo>
                  <a:lnTo>
                    <a:pt x="333" y="994"/>
                  </a:lnTo>
                  <a:lnTo>
                    <a:pt x="334" y="984"/>
                  </a:lnTo>
                  <a:lnTo>
                    <a:pt x="334" y="975"/>
                  </a:lnTo>
                  <a:lnTo>
                    <a:pt x="333" y="965"/>
                  </a:lnTo>
                  <a:lnTo>
                    <a:pt x="332" y="955"/>
                  </a:lnTo>
                  <a:lnTo>
                    <a:pt x="334" y="946"/>
                  </a:lnTo>
                  <a:lnTo>
                    <a:pt x="343" y="939"/>
                  </a:lnTo>
                  <a:lnTo>
                    <a:pt x="347" y="930"/>
                  </a:lnTo>
                  <a:lnTo>
                    <a:pt x="346" y="922"/>
                  </a:lnTo>
                  <a:lnTo>
                    <a:pt x="350" y="913"/>
                  </a:lnTo>
                  <a:lnTo>
                    <a:pt x="354" y="905"/>
                  </a:lnTo>
                  <a:lnTo>
                    <a:pt x="361" y="896"/>
                  </a:lnTo>
                  <a:lnTo>
                    <a:pt x="368" y="892"/>
                  </a:lnTo>
                  <a:lnTo>
                    <a:pt x="378" y="899"/>
                  </a:lnTo>
                  <a:lnTo>
                    <a:pt x="379" y="907"/>
                  </a:lnTo>
                  <a:lnTo>
                    <a:pt x="379" y="917"/>
                  </a:lnTo>
                  <a:lnTo>
                    <a:pt x="385" y="925"/>
                  </a:lnTo>
                  <a:lnTo>
                    <a:pt x="397" y="924"/>
                  </a:lnTo>
                  <a:lnTo>
                    <a:pt x="407" y="920"/>
                  </a:lnTo>
                  <a:lnTo>
                    <a:pt x="421" y="918"/>
                  </a:lnTo>
                  <a:lnTo>
                    <a:pt x="432" y="918"/>
                  </a:lnTo>
                  <a:lnTo>
                    <a:pt x="443" y="923"/>
                  </a:lnTo>
                  <a:lnTo>
                    <a:pt x="453" y="928"/>
                  </a:lnTo>
                  <a:lnTo>
                    <a:pt x="466" y="931"/>
                  </a:lnTo>
                  <a:lnTo>
                    <a:pt x="469" y="922"/>
                  </a:lnTo>
                  <a:lnTo>
                    <a:pt x="470" y="913"/>
                  </a:lnTo>
                  <a:lnTo>
                    <a:pt x="477" y="904"/>
                  </a:lnTo>
                  <a:lnTo>
                    <a:pt x="487" y="903"/>
                  </a:lnTo>
                  <a:lnTo>
                    <a:pt x="497" y="910"/>
                  </a:lnTo>
                  <a:lnTo>
                    <a:pt x="508" y="909"/>
                  </a:lnTo>
                  <a:lnTo>
                    <a:pt x="518" y="915"/>
                  </a:lnTo>
                  <a:lnTo>
                    <a:pt x="522" y="923"/>
                  </a:lnTo>
                  <a:lnTo>
                    <a:pt x="530" y="927"/>
                  </a:lnTo>
                  <a:lnTo>
                    <a:pt x="539" y="926"/>
                  </a:lnTo>
                  <a:lnTo>
                    <a:pt x="550" y="927"/>
                  </a:lnTo>
                  <a:lnTo>
                    <a:pt x="559" y="921"/>
                  </a:lnTo>
                  <a:lnTo>
                    <a:pt x="572" y="919"/>
                  </a:lnTo>
                  <a:lnTo>
                    <a:pt x="585" y="918"/>
                  </a:lnTo>
                  <a:lnTo>
                    <a:pt x="599" y="918"/>
                  </a:lnTo>
                  <a:lnTo>
                    <a:pt x="610" y="920"/>
                  </a:lnTo>
                  <a:lnTo>
                    <a:pt x="618" y="934"/>
                  </a:lnTo>
                  <a:lnTo>
                    <a:pt x="628" y="940"/>
                  </a:lnTo>
                  <a:lnTo>
                    <a:pt x="641" y="943"/>
                  </a:lnTo>
                  <a:lnTo>
                    <a:pt x="653" y="942"/>
                  </a:lnTo>
                  <a:lnTo>
                    <a:pt x="667" y="944"/>
                  </a:lnTo>
                  <a:lnTo>
                    <a:pt x="673" y="937"/>
                  </a:lnTo>
                  <a:lnTo>
                    <a:pt x="671" y="928"/>
                  </a:lnTo>
                  <a:lnTo>
                    <a:pt x="677" y="922"/>
                  </a:lnTo>
                  <a:lnTo>
                    <a:pt x="687" y="922"/>
                  </a:lnTo>
                  <a:lnTo>
                    <a:pt x="696" y="927"/>
                  </a:lnTo>
                  <a:lnTo>
                    <a:pt x="699" y="930"/>
                  </a:lnTo>
                  <a:lnTo>
                    <a:pt x="705" y="937"/>
                  </a:lnTo>
                  <a:lnTo>
                    <a:pt x="717" y="933"/>
                  </a:lnTo>
                  <a:lnTo>
                    <a:pt x="730" y="936"/>
                  </a:lnTo>
                  <a:lnTo>
                    <a:pt x="738" y="942"/>
                  </a:lnTo>
                  <a:lnTo>
                    <a:pt x="748" y="944"/>
                  </a:lnTo>
                  <a:lnTo>
                    <a:pt x="754" y="936"/>
                  </a:lnTo>
                  <a:lnTo>
                    <a:pt x="758" y="928"/>
                  </a:lnTo>
                  <a:lnTo>
                    <a:pt x="769" y="933"/>
                  </a:lnTo>
                  <a:lnTo>
                    <a:pt x="779" y="935"/>
                  </a:lnTo>
                  <a:lnTo>
                    <a:pt x="786" y="930"/>
                  </a:lnTo>
                  <a:lnTo>
                    <a:pt x="800" y="930"/>
                  </a:lnTo>
                  <a:lnTo>
                    <a:pt x="800" y="922"/>
                  </a:lnTo>
                  <a:lnTo>
                    <a:pt x="790" y="916"/>
                  </a:lnTo>
                  <a:lnTo>
                    <a:pt x="778" y="912"/>
                  </a:lnTo>
                  <a:lnTo>
                    <a:pt x="765" y="911"/>
                  </a:lnTo>
                  <a:lnTo>
                    <a:pt x="758" y="903"/>
                  </a:lnTo>
                  <a:lnTo>
                    <a:pt x="752" y="895"/>
                  </a:lnTo>
                  <a:lnTo>
                    <a:pt x="745" y="890"/>
                  </a:lnTo>
                  <a:lnTo>
                    <a:pt x="740" y="885"/>
                  </a:lnTo>
                  <a:lnTo>
                    <a:pt x="733" y="880"/>
                  </a:lnTo>
                  <a:lnTo>
                    <a:pt x="727" y="872"/>
                  </a:lnTo>
                  <a:lnTo>
                    <a:pt x="716" y="867"/>
                  </a:lnTo>
                  <a:lnTo>
                    <a:pt x="706" y="863"/>
                  </a:lnTo>
                  <a:lnTo>
                    <a:pt x="695" y="869"/>
                  </a:lnTo>
                  <a:lnTo>
                    <a:pt x="685" y="875"/>
                  </a:lnTo>
                  <a:lnTo>
                    <a:pt x="677" y="882"/>
                  </a:lnTo>
                  <a:lnTo>
                    <a:pt x="663" y="870"/>
                  </a:lnTo>
                  <a:lnTo>
                    <a:pt x="662" y="864"/>
                  </a:lnTo>
                  <a:lnTo>
                    <a:pt x="670" y="857"/>
                  </a:lnTo>
                  <a:lnTo>
                    <a:pt x="664" y="852"/>
                  </a:lnTo>
                  <a:lnTo>
                    <a:pt x="677" y="847"/>
                  </a:lnTo>
                  <a:lnTo>
                    <a:pt x="689" y="846"/>
                  </a:lnTo>
                  <a:lnTo>
                    <a:pt x="698" y="841"/>
                  </a:lnTo>
                  <a:lnTo>
                    <a:pt x="710" y="839"/>
                  </a:lnTo>
                  <a:lnTo>
                    <a:pt x="723" y="839"/>
                  </a:lnTo>
                  <a:lnTo>
                    <a:pt x="734" y="835"/>
                  </a:lnTo>
                  <a:lnTo>
                    <a:pt x="747" y="832"/>
                  </a:lnTo>
                  <a:lnTo>
                    <a:pt x="758" y="834"/>
                  </a:lnTo>
                  <a:lnTo>
                    <a:pt x="771" y="831"/>
                  </a:lnTo>
                  <a:lnTo>
                    <a:pt x="782" y="830"/>
                  </a:lnTo>
                  <a:lnTo>
                    <a:pt x="794" y="829"/>
                  </a:lnTo>
                  <a:lnTo>
                    <a:pt x="806" y="826"/>
                  </a:lnTo>
                  <a:lnTo>
                    <a:pt x="815" y="820"/>
                  </a:lnTo>
                  <a:lnTo>
                    <a:pt x="825" y="816"/>
                  </a:lnTo>
                  <a:lnTo>
                    <a:pt x="825" y="806"/>
                  </a:lnTo>
                  <a:lnTo>
                    <a:pt x="817" y="800"/>
                  </a:lnTo>
                  <a:lnTo>
                    <a:pt x="804" y="796"/>
                  </a:lnTo>
                  <a:lnTo>
                    <a:pt x="793" y="791"/>
                  </a:lnTo>
                  <a:lnTo>
                    <a:pt x="780" y="788"/>
                  </a:lnTo>
                  <a:lnTo>
                    <a:pt x="768" y="788"/>
                  </a:lnTo>
                  <a:lnTo>
                    <a:pt x="759" y="786"/>
                  </a:lnTo>
                  <a:lnTo>
                    <a:pt x="754" y="782"/>
                  </a:lnTo>
                  <a:lnTo>
                    <a:pt x="748" y="776"/>
                  </a:lnTo>
                  <a:lnTo>
                    <a:pt x="734" y="779"/>
                  </a:lnTo>
                  <a:lnTo>
                    <a:pt x="729" y="773"/>
                  </a:lnTo>
                  <a:lnTo>
                    <a:pt x="731" y="763"/>
                  </a:lnTo>
                  <a:lnTo>
                    <a:pt x="736" y="757"/>
                  </a:lnTo>
                  <a:lnTo>
                    <a:pt x="729" y="750"/>
                  </a:lnTo>
                  <a:lnTo>
                    <a:pt x="722" y="746"/>
                  </a:lnTo>
                  <a:lnTo>
                    <a:pt x="719" y="738"/>
                  </a:lnTo>
                  <a:lnTo>
                    <a:pt x="722" y="732"/>
                  </a:lnTo>
                  <a:lnTo>
                    <a:pt x="720" y="724"/>
                  </a:lnTo>
                  <a:lnTo>
                    <a:pt x="733" y="721"/>
                  </a:lnTo>
                  <a:lnTo>
                    <a:pt x="738" y="713"/>
                  </a:lnTo>
                  <a:lnTo>
                    <a:pt x="744" y="721"/>
                  </a:lnTo>
                  <a:lnTo>
                    <a:pt x="758" y="720"/>
                  </a:lnTo>
                  <a:lnTo>
                    <a:pt x="755" y="711"/>
                  </a:lnTo>
                  <a:lnTo>
                    <a:pt x="759" y="705"/>
                  </a:lnTo>
                  <a:lnTo>
                    <a:pt x="775" y="706"/>
                  </a:lnTo>
                  <a:lnTo>
                    <a:pt x="789" y="706"/>
                  </a:lnTo>
                  <a:lnTo>
                    <a:pt x="793" y="700"/>
                  </a:lnTo>
                  <a:lnTo>
                    <a:pt x="790" y="689"/>
                  </a:lnTo>
                  <a:lnTo>
                    <a:pt x="789" y="679"/>
                  </a:lnTo>
                  <a:lnTo>
                    <a:pt x="797" y="675"/>
                  </a:lnTo>
                  <a:lnTo>
                    <a:pt x="811" y="676"/>
                  </a:lnTo>
                  <a:lnTo>
                    <a:pt x="825" y="674"/>
                  </a:lnTo>
                  <a:lnTo>
                    <a:pt x="838" y="672"/>
                  </a:lnTo>
                  <a:lnTo>
                    <a:pt x="849" y="669"/>
                  </a:lnTo>
                  <a:lnTo>
                    <a:pt x="850" y="660"/>
                  </a:lnTo>
                  <a:lnTo>
                    <a:pt x="849" y="650"/>
                  </a:lnTo>
                  <a:lnTo>
                    <a:pt x="840" y="646"/>
                  </a:lnTo>
                  <a:lnTo>
                    <a:pt x="836" y="637"/>
                  </a:lnTo>
                  <a:lnTo>
                    <a:pt x="831" y="629"/>
                  </a:lnTo>
                  <a:lnTo>
                    <a:pt x="822" y="623"/>
                  </a:lnTo>
                  <a:lnTo>
                    <a:pt x="808" y="623"/>
                  </a:lnTo>
                  <a:lnTo>
                    <a:pt x="796" y="623"/>
                  </a:lnTo>
                  <a:lnTo>
                    <a:pt x="783" y="623"/>
                  </a:lnTo>
                  <a:lnTo>
                    <a:pt x="771" y="625"/>
                  </a:lnTo>
                  <a:lnTo>
                    <a:pt x="758" y="628"/>
                  </a:lnTo>
                  <a:lnTo>
                    <a:pt x="745" y="632"/>
                  </a:lnTo>
                  <a:lnTo>
                    <a:pt x="733" y="634"/>
                  </a:lnTo>
                  <a:lnTo>
                    <a:pt x="720" y="636"/>
                  </a:lnTo>
                  <a:lnTo>
                    <a:pt x="710" y="636"/>
                  </a:lnTo>
                  <a:lnTo>
                    <a:pt x="705" y="635"/>
                  </a:lnTo>
                  <a:lnTo>
                    <a:pt x="698" y="630"/>
                  </a:lnTo>
                  <a:lnTo>
                    <a:pt x="694" y="623"/>
                  </a:lnTo>
                  <a:lnTo>
                    <a:pt x="696" y="615"/>
                  </a:lnTo>
                  <a:lnTo>
                    <a:pt x="698" y="606"/>
                  </a:lnTo>
                  <a:lnTo>
                    <a:pt x="708" y="605"/>
                  </a:lnTo>
                  <a:lnTo>
                    <a:pt x="716" y="600"/>
                  </a:lnTo>
                  <a:lnTo>
                    <a:pt x="720" y="593"/>
                  </a:lnTo>
                  <a:lnTo>
                    <a:pt x="717" y="584"/>
                  </a:lnTo>
                  <a:lnTo>
                    <a:pt x="720" y="577"/>
                  </a:lnTo>
                  <a:lnTo>
                    <a:pt x="716" y="568"/>
                  </a:lnTo>
                  <a:lnTo>
                    <a:pt x="712" y="559"/>
                  </a:lnTo>
                  <a:lnTo>
                    <a:pt x="708" y="550"/>
                  </a:lnTo>
                  <a:lnTo>
                    <a:pt x="706" y="541"/>
                  </a:lnTo>
                  <a:lnTo>
                    <a:pt x="696" y="542"/>
                  </a:lnTo>
                  <a:lnTo>
                    <a:pt x="684" y="545"/>
                  </a:lnTo>
                  <a:lnTo>
                    <a:pt x="671" y="545"/>
                  </a:lnTo>
                  <a:lnTo>
                    <a:pt x="659" y="546"/>
                  </a:lnTo>
                  <a:lnTo>
                    <a:pt x="650" y="541"/>
                  </a:lnTo>
                  <a:lnTo>
                    <a:pt x="645" y="532"/>
                  </a:lnTo>
                  <a:lnTo>
                    <a:pt x="638" y="524"/>
                  </a:lnTo>
                  <a:lnTo>
                    <a:pt x="641" y="515"/>
                  </a:lnTo>
                  <a:lnTo>
                    <a:pt x="636" y="507"/>
                  </a:lnTo>
                  <a:lnTo>
                    <a:pt x="634" y="498"/>
                  </a:lnTo>
                  <a:lnTo>
                    <a:pt x="639" y="489"/>
                  </a:lnTo>
                  <a:lnTo>
                    <a:pt x="645" y="496"/>
                  </a:lnTo>
                  <a:lnTo>
                    <a:pt x="653" y="496"/>
                  </a:lnTo>
                  <a:lnTo>
                    <a:pt x="666" y="492"/>
                  </a:lnTo>
                  <a:lnTo>
                    <a:pt x="671" y="488"/>
                  </a:lnTo>
                  <a:lnTo>
                    <a:pt x="676" y="480"/>
                  </a:lnTo>
                  <a:lnTo>
                    <a:pt x="678" y="472"/>
                  </a:lnTo>
                  <a:lnTo>
                    <a:pt x="678" y="463"/>
                  </a:lnTo>
                  <a:lnTo>
                    <a:pt x="677" y="454"/>
                  </a:lnTo>
                  <a:lnTo>
                    <a:pt x="684" y="449"/>
                  </a:lnTo>
                  <a:lnTo>
                    <a:pt x="688" y="442"/>
                  </a:lnTo>
                  <a:lnTo>
                    <a:pt x="688" y="432"/>
                  </a:lnTo>
                  <a:lnTo>
                    <a:pt x="688" y="422"/>
                  </a:lnTo>
                  <a:lnTo>
                    <a:pt x="685" y="414"/>
                  </a:lnTo>
                  <a:lnTo>
                    <a:pt x="674" y="411"/>
                  </a:lnTo>
                  <a:lnTo>
                    <a:pt x="664" y="407"/>
                  </a:lnTo>
                  <a:lnTo>
                    <a:pt x="674" y="405"/>
                  </a:lnTo>
                  <a:lnTo>
                    <a:pt x="687" y="408"/>
                  </a:lnTo>
                  <a:lnTo>
                    <a:pt x="701" y="409"/>
                  </a:lnTo>
                  <a:lnTo>
                    <a:pt x="701" y="403"/>
                  </a:lnTo>
                  <a:lnTo>
                    <a:pt x="715" y="403"/>
                  </a:lnTo>
                  <a:lnTo>
                    <a:pt x="724" y="398"/>
                  </a:lnTo>
                  <a:lnTo>
                    <a:pt x="734" y="406"/>
                  </a:lnTo>
                  <a:lnTo>
                    <a:pt x="743" y="401"/>
                  </a:lnTo>
                  <a:lnTo>
                    <a:pt x="752" y="394"/>
                  </a:lnTo>
                  <a:lnTo>
                    <a:pt x="762" y="387"/>
                  </a:lnTo>
                  <a:lnTo>
                    <a:pt x="761" y="378"/>
                  </a:lnTo>
                  <a:lnTo>
                    <a:pt x="759" y="369"/>
                  </a:lnTo>
                  <a:lnTo>
                    <a:pt x="759" y="360"/>
                  </a:lnTo>
                  <a:lnTo>
                    <a:pt x="768" y="353"/>
                  </a:lnTo>
                  <a:lnTo>
                    <a:pt x="782" y="351"/>
                  </a:lnTo>
                  <a:lnTo>
                    <a:pt x="779" y="343"/>
                  </a:lnTo>
                  <a:lnTo>
                    <a:pt x="772" y="334"/>
                  </a:lnTo>
                  <a:lnTo>
                    <a:pt x="771" y="326"/>
                  </a:lnTo>
                  <a:lnTo>
                    <a:pt x="772" y="316"/>
                  </a:lnTo>
                  <a:lnTo>
                    <a:pt x="766" y="308"/>
                  </a:lnTo>
                  <a:lnTo>
                    <a:pt x="762" y="299"/>
                  </a:lnTo>
                  <a:lnTo>
                    <a:pt x="759" y="290"/>
                  </a:lnTo>
                  <a:lnTo>
                    <a:pt x="755" y="281"/>
                  </a:lnTo>
                  <a:lnTo>
                    <a:pt x="750" y="273"/>
                  </a:lnTo>
                  <a:lnTo>
                    <a:pt x="747" y="264"/>
                  </a:lnTo>
                  <a:lnTo>
                    <a:pt x="745" y="255"/>
                  </a:lnTo>
                  <a:lnTo>
                    <a:pt x="738" y="247"/>
                  </a:lnTo>
                  <a:lnTo>
                    <a:pt x="740" y="239"/>
                  </a:lnTo>
                  <a:lnTo>
                    <a:pt x="736" y="230"/>
                  </a:lnTo>
                  <a:lnTo>
                    <a:pt x="724" y="226"/>
                  </a:lnTo>
                  <a:lnTo>
                    <a:pt x="710" y="226"/>
                  </a:lnTo>
                  <a:lnTo>
                    <a:pt x="705" y="218"/>
                  </a:lnTo>
                  <a:lnTo>
                    <a:pt x="702" y="209"/>
                  </a:lnTo>
                  <a:lnTo>
                    <a:pt x="691" y="203"/>
                  </a:lnTo>
                  <a:lnTo>
                    <a:pt x="681" y="197"/>
                  </a:lnTo>
                  <a:lnTo>
                    <a:pt x="691" y="191"/>
                  </a:lnTo>
                  <a:lnTo>
                    <a:pt x="703" y="189"/>
                  </a:lnTo>
                  <a:lnTo>
                    <a:pt x="716" y="189"/>
                  </a:lnTo>
                  <a:lnTo>
                    <a:pt x="716" y="181"/>
                  </a:lnTo>
                  <a:lnTo>
                    <a:pt x="724" y="174"/>
                  </a:lnTo>
                  <a:lnTo>
                    <a:pt x="727" y="165"/>
                  </a:lnTo>
                  <a:lnTo>
                    <a:pt x="729" y="155"/>
                  </a:lnTo>
                  <a:lnTo>
                    <a:pt x="720" y="148"/>
                  </a:lnTo>
                  <a:lnTo>
                    <a:pt x="717" y="139"/>
                  </a:lnTo>
                  <a:lnTo>
                    <a:pt x="726" y="133"/>
                  </a:lnTo>
                  <a:lnTo>
                    <a:pt x="738" y="135"/>
                  </a:lnTo>
                  <a:lnTo>
                    <a:pt x="731" y="128"/>
                  </a:lnTo>
                  <a:lnTo>
                    <a:pt x="727" y="122"/>
                  </a:lnTo>
                  <a:lnTo>
                    <a:pt x="717" y="114"/>
                  </a:lnTo>
                  <a:lnTo>
                    <a:pt x="713" y="106"/>
                  </a:lnTo>
                  <a:lnTo>
                    <a:pt x="710" y="97"/>
                  </a:lnTo>
                  <a:lnTo>
                    <a:pt x="709" y="87"/>
                  </a:lnTo>
                  <a:lnTo>
                    <a:pt x="716" y="80"/>
                  </a:lnTo>
                  <a:lnTo>
                    <a:pt x="727" y="75"/>
                  </a:lnTo>
                  <a:lnTo>
                    <a:pt x="738" y="74"/>
                  </a:lnTo>
                  <a:lnTo>
                    <a:pt x="751" y="76"/>
                  </a:lnTo>
                  <a:lnTo>
                    <a:pt x="764" y="80"/>
                  </a:lnTo>
                  <a:lnTo>
                    <a:pt x="776" y="82"/>
                  </a:lnTo>
                  <a:lnTo>
                    <a:pt x="789" y="82"/>
                  </a:lnTo>
                  <a:lnTo>
                    <a:pt x="793" y="89"/>
                  </a:lnTo>
                  <a:lnTo>
                    <a:pt x="793" y="93"/>
                  </a:lnTo>
                  <a:lnTo>
                    <a:pt x="785" y="101"/>
                  </a:lnTo>
                  <a:lnTo>
                    <a:pt x="790" y="104"/>
                  </a:lnTo>
                  <a:lnTo>
                    <a:pt x="793" y="106"/>
                  </a:lnTo>
                  <a:lnTo>
                    <a:pt x="800" y="114"/>
                  </a:lnTo>
                  <a:lnTo>
                    <a:pt x="810" y="110"/>
                  </a:lnTo>
                  <a:lnTo>
                    <a:pt x="808" y="121"/>
                  </a:lnTo>
                  <a:lnTo>
                    <a:pt x="812" y="122"/>
                  </a:lnTo>
                  <a:lnTo>
                    <a:pt x="824" y="115"/>
                  </a:lnTo>
                  <a:lnTo>
                    <a:pt x="836" y="110"/>
                  </a:lnTo>
                  <a:lnTo>
                    <a:pt x="836" y="101"/>
                  </a:lnTo>
                  <a:lnTo>
                    <a:pt x="833" y="92"/>
                  </a:lnTo>
                  <a:lnTo>
                    <a:pt x="845" y="92"/>
                  </a:lnTo>
                  <a:lnTo>
                    <a:pt x="847" y="82"/>
                  </a:lnTo>
                  <a:lnTo>
                    <a:pt x="859" y="82"/>
                  </a:lnTo>
                  <a:lnTo>
                    <a:pt x="871" y="84"/>
                  </a:lnTo>
                  <a:lnTo>
                    <a:pt x="884" y="81"/>
                  </a:lnTo>
                  <a:lnTo>
                    <a:pt x="896" y="83"/>
                  </a:lnTo>
                  <a:lnTo>
                    <a:pt x="905" y="90"/>
                  </a:lnTo>
                  <a:lnTo>
                    <a:pt x="916" y="92"/>
                  </a:lnTo>
                  <a:lnTo>
                    <a:pt x="929" y="90"/>
                  </a:lnTo>
                  <a:lnTo>
                    <a:pt x="943" y="91"/>
                  </a:lnTo>
                  <a:lnTo>
                    <a:pt x="955" y="93"/>
                  </a:lnTo>
                  <a:lnTo>
                    <a:pt x="966" y="88"/>
                  </a:lnTo>
                  <a:lnTo>
                    <a:pt x="965" y="80"/>
                  </a:lnTo>
                  <a:lnTo>
                    <a:pt x="975" y="76"/>
                  </a:lnTo>
                  <a:lnTo>
                    <a:pt x="976" y="70"/>
                  </a:lnTo>
                  <a:lnTo>
                    <a:pt x="983" y="64"/>
                  </a:lnTo>
                  <a:lnTo>
                    <a:pt x="996" y="62"/>
                  </a:lnTo>
                  <a:lnTo>
                    <a:pt x="994" y="59"/>
                  </a:lnTo>
                  <a:lnTo>
                    <a:pt x="1007" y="58"/>
                  </a:lnTo>
                  <a:lnTo>
                    <a:pt x="1018" y="53"/>
                  </a:lnTo>
                  <a:lnTo>
                    <a:pt x="1029" y="50"/>
                  </a:lnTo>
                  <a:lnTo>
                    <a:pt x="1038" y="41"/>
                  </a:lnTo>
                  <a:lnTo>
                    <a:pt x="1046" y="39"/>
                  </a:lnTo>
                  <a:lnTo>
                    <a:pt x="1056" y="42"/>
                  </a:lnTo>
                  <a:lnTo>
                    <a:pt x="1060" y="33"/>
                  </a:lnTo>
                  <a:lnTo>
                    <a:pt x="1064" y="24"/>
                  </a:lnTo>
                  <a:lnTo>
                    <a:pt x="1073" y="17"/>
                  </a:lnTo>
                  <a:lnTo>
                    <a:pt x="1085" y="13"/>
                  </a:lnTo>
                  <a:lnTo>
                    <a:pt x="1098" y="12"/>
                  </a:lnTo>
                  <a:lnTo>
                    <a:pt x="1112" y="1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68520" y="3068640"/>
              <a:ext cx="1244520" cy="1219320"/>
            </a:xfrm>
            <a:custGeom>
              <a:avLst/>
              <a:gdLst/>
              <a:ahLst/>
              <a:rect l="l" t="t" r="r" b="b"/>
              <a:pathLst>
                <a:path w="2351" h="1537">
                  <a:moveTo>
                    <a:pt x="223" y="113"/>
                  </a:moveTo>
                  <a:lnTo>
                    <a:pt x="228" y="107"/>
                  </a:lnTo>
                  <a:lnTo>
                    <a:pt x="239" y="103"/>
                  </a:lnTo>
                  <a:lnTo>
                    <a:pt x="248" y="97"/>
                  </a:lnTo>
                  <a:lnTo>
                    <a:pt x="261" y="94"/>
                  </a:lnTo>
                  <a:lnTo>
                    <a:pt x="269" y="94"/>
                  </a:lnTo>
                  <a:lnTo>
                    <a:pt x="274" y="103"/>
                  </a:lnTo>
                  <a:lnTo>
                    <a:pt x="282" y="109"/>
                  </a:lnTo>
                  <a:lnTo>
                    <a:pt x="295" y="110"/>
                  </a:lnTo>
                  <a:lnTo>
                    <a:pt x="307" y="114"/>
                  </a:lnTo>
                  <a:lnTo>
                    <a:pt x="318" y="115"/>
                  </a:lnTo>
                  <a:lnTo>
                    <a:pt x="317" y="106"/>
                  </a:lnTo>
                  <a:lnTo>
                    <a:pt x="325" y="103"/>
                  </a:lnTo>
                  <a:lnTo>
                    <a:pt x="335" y="101"/>
                  </a:lnTo>
                  <a:lnTo>
                    <a:pt x="341" y="105"/>
                  </a:lnTo>
                  <a:lnTo>
                    <a:pt x="345" y="102"/>
                  </a:lnTo>
                  <a:lnTo>
                    <a:pt x="349" y="110"/>
                  </a:lnTo>
                  <a:lnTo>
                    <a:pt x="360" y="114"/>
                  </a:lnTo>
                  <a:lnTo>
                    <a:pt x="373" y="113"/>
                  </a:lnTo>
                  <a:lnTo>
                    <a:pt x="385" y="114"/>
                  </a:lnTo>
                  <a:lnTo>
                    <a:pt x="398" y="116"/>
                  </a:lnTo>
                  <a:lnTo>
                    <a:pt x="405" y="121"/>
                  </a:lnTo>
                  <a:lnTo>
                    <a:pt x="415" y="116"/>
                  </a:lnTo>
                  <a:lnTo>
                    <a:pt x="420" y="122"/>
                  </a:lnTo>
                  <a:lnTo>
                    <a:pt x="426" y="116"/>
                  </a:lnTo>
                  <a:lnTo>
                    <a:pt x="439" y="118"/>
                  </a:lnTo>
                  <a:lnTo>
                    <a:pt x="451" y="118"/>
                  </a:lnTo>
                  <a:lnTo>
                    <a:pt x="461" y="121"/>
                  </a:lnTo>
                  <a:lnTo>
                    <a:pt x="469" y="114"/>
                  </a:lnTo>
                  <a:lnTo>
                    <a:pt x="481" y="110"/>
                  </a:lnTo>
                  <a:lnTo>
                    <a:pt x="495" y="108"/>
                  </a:lnTo>
                  <a:lnTo>
                    <a:pt x="499" y="102"/>
                  </a:lnTo>
                  <a:lnTo>
                    <a:pt x="511" y="99"/>
                  </a:lnTo>
                  <a:lnTo>
                    <a:pt x="522" y="99"/>
                  </a:lnTo>
                  <a:lnTo>
                    <a:pt x="534" y="103"/>
                  </a:lnTo>
                  <a:lnTo>
                    <a:pt x="546" y="102"/>
                  </a:lnTo>
                  <a:lnTo>
                    <a:pt x="559" y="100"/>
                  </a:lnTo>
                  <a:lnTo>
                    <a:pt x="571" y="96"/>
                  </a:lnTo>
                  <a:lnTo>
                    <a:pt x="584" y="96"/>
                  </a:lnTo>
                  <a:lnTo>
                    <a:pt x="597" y="95"/>
                  </a:lnTo>
                  <a:lnTo>
                    <a:pt x="606" y="89"/>
                  </a:lnTo>
                  <a:lnTo>
                    <a:pt x="615" y="82"/>
                  </a:lnTo>
                  <a:lnTo>
                    <a:pt x="623" y="75"/>
                  </a:lnTo>
                  <a:lnTo>
                    <a:pt x="632" y="68"/>
                  </a:lnTo>
                  <a:lnTo>
                    <a:pt x="637" y="60"/>
                  </a:lnTo>
                  <a:lnTo>
                    <a:pt x="641" y="51"/>
                  </a:lnTo>
                  <a:lnTo>
                    <a:pt x="643" y="42"/>
                  </a:lnTo>
                  <a:lnTo>
                    <a:pt x="641" y="32"/>
                  </a:lnTo>
                  <a:lnTo>
                    <a:pt x="644" y="23"/>
                  </a:lnTo>
                  <a:lnTo>
                    <a:pt x="648" y="14"/>
                  </a:lnTo>
                  <a:lnTo>
                    <a:pt x="659" y="16"/>
                  </a:lnTo>
                  <a:lnTo>
                    <a:pt x="673" y="16"/>
                  </a:lnTo>
                  <a:lnTo>
                    <a:pt x="686" y="16"/>
                  </a:lnTo>
                  <a:lnTo>
                    <a:pt x="699" y="19"/>
                  </a:lnTo>
                  <a:lnTo>
                    <a:pt x="710" y="24"/>
                  </a:lnTo>
                  <a:lnTo>
                    <a:pt x="728" y="18"/>
                  </a:lnTo>
                  <a:lnTo>
                    <a:pt x="738" y="12"/>
                  </a:lnTo>
                  <a:lnTo>
                    <a:pt x="748" y="5"/>
                  </a:lnTo>
                  <a:lnTo>
                    <a:pt x="759" y="0"/>
                  </a:lnTo>
                  <a:lnTo>
                    <a:pt x="769" y="3"/>
                  </a:lnTo>
                  <a:lnTo>
                    <a:pt x="781" y="4"/>
                  </a:lnTo>
                  <a:lnTo>
                    <a:pt x="794" y="5"/>
                  </a:lnTo>
                  <a:lnTo>
                    <a:pt x="806" y="8"/>
                  </a:lnTo>
                  <a:lnTo>
                    <a:pt x="819" y="11"/>
                  </a:lnTo>
                  <a:lnTo>
                    <a:pt x="830" y="15"/>
                  </a:lnTo>
                  <a:lnTo>
                    <a:pt x="841" y="20"/>
                  </a:lnTo>
                  <a:lnTo>
                    <a:pt x="852" y="25"/>
                  </a:lnTo>
                  <a:lnTo>
                    <a:pt x="864" y="29"/>
                  </a:lnTo>
                  <a:lnTo>
                    <a:pt x="876" y="33"/>
                  </a:lnTo>
                  <a:lnTo>
                    <a:pt x="889" y="36"/>
                  </a:lnTo>
                  <a:lnTo>
                    <a:pt x="901" y="40"/>
                  </a:lnTo>
                  <a:lnTo>
                    <a:pt x="914" y="42"/>
                  </a:lnTo>
                  <a:lnTo>
                    <a:pt x="926" y="41"/>
                  </a:lnTo>
                  <a:lnTo>
                    <a:pt x="938" y="45"/>
                  </a:lnTo>
                  <a:lnTo>
                    <a:pt x="946" y="47"/>
                  </a:lnTo>
                  <a:lnTo>
                    <a:pt x="957" y="43"/>
                  </a:lnTo>
                  <a:lnTo>
                    <a:pt x="968" y="36"/>
                  </a:lnTo>
                  <a:lnTo>
                    <a:pt x="980" y="30"/>
                  </a:lnTo>
                  <a:lnTo>
                    <a:pt x="989" y="24"/>
                  </a:lnTo>
                  <a:lnTo>
                    <a:pt x="999" y="16"/>
                  </a:lnTo>
                  <a:lnTo>
                    <a:pt x="1009" y="14"/>
                  </a:lnTo>
                  <a:lnTo>
                    <a:pt x="1016" y="23"/>
                  </a:lnTo>
                  <a:lnTo>
                    <a:pt x="1024" y="27"/>
                  </a:lnTo>
                  <a:lnTo>
                    <a:pt x="1030" y="36"/>
                  </a:lnTo>
                  <a:lnTo>
                    <a:pt x="1038" y="44"/>
                  </a:lnTo>
                  <a:lnTo>
                    <a:pt x="1047" y="51"/>
                  </a:lnTo>
                  <a:lnTo>
                    <a:pt x="1056" y="57"/>
                  </a:lnTo>
                  <a:lnTo>
                    <a:pt x="1065" y="65"/>
                  </a:lnTo>
                  <a:lnTo>
                    <a:pt x="1069" y="72"/>
                  </a:lnTo>
                  <a:lnTo>
                    <a:pt x="1080" y="66"/>
                  </a:lnTo>
                  <a:lnTo>
                    <a:pt x="1090" y="58"/>
                  </a:lnTo>
                  <a:lnTo>
                    <a:pt x="1101" y="56"/>
                  </a:lnTo>
                  <a:lnTo>
                    <a:pt x="1110" y="62"/>
                  </a:lnTo>
                  <a:lnTo>
                    <a:pt x="1118" y="71"/>
                  </a:lnTo>
                  <a:lnTo>
                    <a:pt x="1128" y="75"/>
                  </a:lnTo>
                  <a:lnTo>
                    <a:pt x="1139" y="76"/>
                  </a:lnTo>
                  <a:lnTo>
                    <a:pt x="1149" y="80"/>
                  </a:lnTo>
                  <a:lnTo>
                    <a:pt x="1145" y="87"/>
                  </a:lnTo>
                  <a:lnTo>
                    <a:pt x="1154" y="85"/>
                  </a:lnTo>
                  <a:lnTo>
                    <a:pt x="1168" y="80"/>
                  </a:lnTo>
                  <a:lnTo>
                    <a:pt x="1182" y="78"/>
                  </a:lnTo>
                  <a:lnTo>
                    <a:pt x="1186" y="72"/>
                  </a:lnTo>
                  <a:lnTo>
                    <a:pt x="1191" y="63"/>
                  </a:lnTo>
                  <a:lnTo>
                    <a:pt x="1189" y="54"/>
                  </a:lnTo>
                  <a:lnTo>
                    <a:pt x="1199" y="47"/>
                  </a:lnTo>
                  <a:lnTo>
                    <a:pt x="1210" y="45"/>
                  </a:lnTo>
                  <a:lnTo>
                    <a:pt x="1219" y="54"/>
                  </a:lnTo>
                  <a:lnTo>
                    <a:pt x="1227" y="58"/>
                  </a:lnTo>
                  <a:lnTo>
                    <a:pt x="1238" y="51"/>
                  </a:lnTo>
                  <a:lnTo>
                    <a:pt x="1248" y="54"/>
                  </a:lnTo>
                  <a:lnTo>
                    <a:pt x="1259" y="48"/>
                  </a:lnTo>
                  <a:lnTo>
                    <a:pt x="1270" y="48"/>
                  </a:lnTo>
                  <a:lnTo>
                    <a:pt x="1279" y="55"/>
                  </a:lnTo>
                  <a:lnTo>
                    <a:pt x="1283" y="65"/>
                  </a:lnTo>
                  <a:lnTo>
                    <a:pt x="1276" y="72"/>
                  </a:lnTo>
                  <a:lnTo>
                    <a:pt x="1266" y="79"/>
                  </a:lnTo>
                  <a:lnTo>
                    <a:pt x="1263" y="87"/>
                  </a:lnTo>
                  <a:lnTo>
                    <a:pt x="1273" y="92"/>
                  </a:lnTo>
                  <a:lnTo>
                    <a:pt x="1287" y="89"/>
                  </a:lnTo>
                  <a:lnTo>
                    <a:pt x="1297" y="85"/>
                  </a:lnTo>
                  <a:lnTo>
                    <a:pt x="1305" y="92"/>
                  </a:lnTo>
                  <a:lnTo>
                    <a:pt x="1318" y="86"/>
                  </a:lnTo>
                  <a:lnTo>
                    <a:pt x="1314" y="79"/>
                  </a:lnTo>
                  <a:lnTo>
                    <a:pt x="1304" y="72"/>
                  </a:lnTo>
                  <a:lnTo>
                    <a:pt x="1305" y="63"/>
                  </a:lnTo>
                  <a:lnTo>
                    <a:pt x="1314" y="55"/>
                  </a:lnTo>
                  <a:lnTo>
                    <a:pt x="1318" y="55"/>
                  </a:lnTo>
                  <a:lnTo>
                    <a:pt x="1325" y="45"/>
                  </a:lnTo>
                  <a:lnTo>
                    <a:pt x="1333" y="44"/>
                  </a:lnTo>
                  <a:lnTo>
                    <a:pt x="1340" y="51"/>
                  </a:lnTo>
                  <a:lnTo>
                    <a:pt x="1347" y="61"/>
                  </a:lnTo>
                  <a:lnTo>
                    <a:pt x="1354" y="70"/>
                  </a:lnTo>
                  <a:lnTo>
                    <a:pt x="1363" y="77"/>
                  </a:lnTo>
                  <a:lnTo>
                    <a:pt x="1371" y="79"/>
                  </a:lnTo>
                  <a:lnTo>
                    <a:pt x="1381" y="72"/>
                  </a:lnTo>
                  <a:lnTo>
                    <a:pt x="1391" y="64"/>
                  </a:lnTo>
                  <a:lnTo>
                    <a:pt x="1399" y="57"/>
                  </a:lnTo>
                  <a:lnTo>
                    <a:pt x="1410" y="52"/>
                  </a:lnTo>
                  <a:lnTo>
                    <a:pt x="1406" y="43"/>
                  </a:lnTo>
                  <a:lnTo>
                    <a:pt x="1412" y="34"/>
                  </a:lnTo>
                  <a:lnTo>
                    <a:pt x="1423" y="30"/>
                  </a:lnTo>
                  <a:lnTo>
                    <a:pt x="1428" y="21"/>
                  </a:lnTo>
                  <a:lnTo>
                    <a:pt x="1438" y="14"/>
                  </a:lnTo>
                  <a:lnTo>
                    <a:pt x="1448" y="8"/>
                  </a:lnTo>
                  <a:lnTo>
                    <a:pt x="1451" y="10"/>
                  </a:lnTo>
                  <a:lnTo>
                    <a:pt x="1455" y="19"/>
                  </a:lnTo>
                  <a:lnTo>
                    <a:pt x="1455" y="28"/>
                  </a:lnTo>
                  <a:lnTo>
                    <a:pt x="1455" y="39"/>
                  </a:lnTo>
                  <a:lnTo>
                    <a:pt x="1465" y="42"/>
                  </a:lnTo>
                  <a:lnTo>
                    <a:pt x="1477" y="44"/>
                  </a:lnTo>
                  <a:lnTo>
                    <a:pt x="1487" y="37"/>
                  </a:lnTo>
                  <a:lnTo>
                    <a:pt x="1495" y="29"/>
                  </a:lnTo>
                  <a:lnTo>
                    <a:pt x="1504" y="21"/>
                  </a:lnTo>
                  <a:lnTo>
                    <a:pt x="1512" y="13"/>
                  </a:lnTo>
                  <a:lnTo>
                    <a:pt x="1519" y="7"/>
                  </a:lnTo>
                  <a:lnTo>
                    <a:pt x="1522" y="12"/>
                  </a:lnTo>
                  <a:lnTo>
                    <a:pt x="1535" y="16"/>
                  </a:lnTo>
                  <a:lnTo>
                    <a:pt x="1542" y="23"/>
                  </a:lnTo>
                  <a:lnTo>
                    <a:pt x="1551" y="20"/>
                  </a:lnTo>
                  <a:lnTo>
                    <a:pt x="1561" y="27"/>
                  </a:lnTo>
                  <a:lnTo>
                    <a:pt x="1571" y="33"/>
                  </a:lnTo>
                  <a:lnTo>
                    <a:pt x="1578" y="42"/>
                  </a:lnTo>
                  <a:lnTo>
                    <a:pt x="1582" y="51"/>
                  </a:lnTo>
                  <a:lnTo>
                    <a:pt x="1585" y="60"/>
                  </a:lnTo>
                  <a:lnTo>
                    <a:pt x="1586" y="69"/>
                  </a:lnTo>
                  <a:lnTo>
                    <a:pt x="1592" y="79"/>
                  </a:lnTo>
                  <a:lnTo>
                    <a:pt x="1599" y="88"/>
                  </a:lnTo>
                  <a:lnTo>
                    <a:pt x="1606" y="95"/>
                  </a:lnTo>
                  <a:lnTo>
                    <a:pt x="1618" y="91"/>
                  </a:lnTo>
                  <a:lnTo>
                    <a:pt x="1623" y="99"/>
                  </a:lnTo>
                  <a:lnTo>
                    <a:pt x="1627" y="108"/>
                  </a:lnTo>
                  <a:lnTo>
                    <a:pt x="1635" y="116"/>
                  </a:lnTo>
                  <a:lnTo>
                    <a:pt x="1641" y="124"/>
                  </a:lnTo>
                  <a:lnTo>
                    <a:pt x="1632" y="127"/>
                  </a:lnTo>
                  <a:lnTo>
                    <a:pt x="1645" y="132"/>
                  </a:lnTo>
                  <a:lnTo>
                    <a:pt x="1649" y="140"/>
                  </a:lnTo>
                  <a:lnTo>
                    <a:pt x="1644" y="148"/>
                  </a:lnTo>
                  <a:lnTo>
                    <a:pt x="1635" y="156"/>
                  </a:lnTo>
                  <a:lnTo>
                    <a:pt x="1628" y="164"/>
                  </a:lnTo>
                  <a:lnTo>
                    <a:pt x="1618" y="170"/>
                  </a:lnTo>
                  <a:lnTo>
                    <a:pt x="1614" y="179"/>
                  </a:lnTo>
                  <a:lnTo>
                    <a:pt x="1610" y="187"/>
                  </a:lnTo>
                  <a:lnTo>
                    <a:pt x="1606" y="196"/>
                  </a:lnTo>
                  <a:lnTo>
                    <a:pt x="1607" y="206"/>
                  </a:lnTo>
                  <a:lnTo>
                    <a:pt x="1606" y="214"/>
                  </a:lnTo>
                  <a:lnTo>
                    <a:pt x="1614" y="220"/>
                  </a:lnTo>
                  <a:lnTo>
                    <a:pt x="1625" y="225"/>
                  </a:lnTo>
                  <a:lnTo>
                    <a:pt x="1638" y="230"/>
                  </a:lnTo>
                  <a:lnTo>
                    <a:pt x="1649" y="234"/>
                  </a:lnTo>
                  <a:lnTo>
                    <a:pt x="1662" y="235"/>
                  </a:lnTo>
                  <a:lnTo>
                    <a:pt x="1670" y="228"/>
                  </a:lnTo>
                  <a:lnTo>
                    <a:pt x="1681" y="222"/>
                  </a:lnTo>
                  <a:lnTo>
                    <a:pt x="1694" y="222"/>
                  </a:lnTo>
                  <a:lnTo>
                    <a:pt x="1705" y="227"/>
                  </a:lnTo>
                  <a:lnTo>
                    <a:pt x="1718" y="225"/>
                  </a:lnTo>
                  <a:lnTo>
                    <a:pt x="1727" y="231"/>
                  </a:lnTo>
                  <a:lnTo>
                    <a:pt x="1733" y="239"/>
                  </a:lnTo>
                  <a:lnTo>
                    <a:pt x="1741" y="244"/>
                  </a:lnTo>
                  <a:lnTo>
                    <a:pt x="1748" y="251"/>
                  </a:lnTo>
                  <a:lnTo>
                    <a:pt x="1751" y="260"/>
                  </a:lnTo>
                  <a:lnTo>
                    <a:pt x="1744" y="268"/>
                  </a:lnTo>
                  <a:lnTo>
                    <a:pt x="1733" y="270"/>
                  </a:lnTo>
                  <a:lnTo>
                    <a:pt x="1719" y="270"/>
                  </a:lnTo>
                  <a:lnTo>
                    <a:pt x="1708" y="275"/>
                  </a:lnTo>
                  <a:lnTo>
                    <a:pt x="1719" y="278"/>
                  </a:lnTo>
                  <a:lnTo>
                    <a:pt x="1732" y="282"/>
                  </a:lnTo>
                  <a:lnTo>
                    <a:pt x="1741" y="288"/>
                  </a:lnTo>
                  <a:lnTo>
                    <a:pt x="1754" y="295"/>
                  </a:lnTo>
                  <a:lnTo>
                    <a:pt x="1761" y="302"/>
                  </a:lnTo>
                  <a:lnTo>
                    <a:pt x="1768" y="310"/>
                  </a:lnTo>
                  <a:lnTo>
                    <a:pt x="1768" y="319"/>
                  </a:lnTo>
                  <a:lnTo>
                    <a:pt x="1771" y="327"/>
                  </a:lnTo>
                  <a:lnTo>
                    <a:pt x="1769" y="337"/>
                  </a:lnTo>
                  <a:lnTo>
                    <a:pt x="1779" y="335"/>
                  </a:lnTo>
                  <a:lnTo>
                    <a:pt x="1785" y="328"/>
                  </a:lnTo>
                  <a:lnTo>
                    <a:pt x="1796" y="331"/>
                  </a:lnTo>
                  <a:lnTo>
                    <a:pt x="1809" y="330"/>
                  </a:lnTo>
                  <a:lnTo>
                    <a:pt x="1820" y="332"/>
                  </a:lnTo>
                  <a:lnTo>
                    <a:pt x="1831" y="336"/>
                  </a:lnTo>
                  <a:lnTo>
                    <a:pt x="1839" y="336"/>
                  </a:lnTo>
                  <a:lnTo>
                    <a:pt x="1849" y="330"/>
                  </a:lnTo>
                  <a:lnTo>
                    <a:pt x="1863" y="331"/>
                  </a:lnTo>
                  <a:lnTo>
                    <a:pt x="1876" y="328"/>
                  </a:lnTo>
                  <a:lnTo>
                    <a:pt x="1888" y="327"/>
                  </a:lnTo>
                  <a:lnTo>
                    <a:pt x="1897" y="334"/>
                  </a:lnTo>
                  <a:lnTo>
                    <a:pt x="1916" y="339"/>
                  </a:lnTo>
                  <a:lnTo>
                    <a:pt x="1920" y="347"/>
                  </a:lnTo>
                  <a:lnTo>
                    <a:pt x="1926" y="355"/>
                  </a:lnTo>
                  <a:lnTo>
                    <a:pt x="1934" y="362"/>
                  </a:lnTo>
                  <a:lnTo>
                    <a:pt x="1946" y="367"/>
                  </a:lnTo>
                  <a:lnTo>
                    <a:pt x="1958" y="370"/>
                  </a:lnTo>
                  <a:lnTo>
                    <a:pt x="1971" y="371"/>
                  </a:lnTo>
                  <a:lnTo>
                    <a:pt x="1972" y="379"/>
                  </a:lnTo>
                  <a:lnTo>
                    <a:pt x="1961" y="385"/>
                  </a:lnTo>
                  <a:lnTo>
                    <a:pt x="1950" y="389"/>
                  </a:lnTo>
                  <a:lnTo>
                    <a:pt x="1940" y="396"/>
                  </a:lnTo>
                  <a:lnTo>
                    <a:pt x="1937" y="404"/>
                  </a:lnTo>
                  <a:lnTo>
                    <a:pt x="1937" y="413"/>
                  </a:lnTo>
                  <a:lnTo>
                    <a:pt x="1941" y="422"/>
                  </a:lnTo>
                  <a:lnTo>
                    <a:pt x="1941" y="431"/>
                  </a:lnTo>
                  <a:lnTo>
                    <a:pt x="1943" y="441"/>
                  </a:lnTo>
                  <a:lnTo>
                    <a:pt x="1947" y="450"/>
                  </a:lnTo>
                  <a:lnTo>
                    <a:pt x="1954" y="458"/>
                  </a:lnTo>
                  <a:lnTo>
                    <a:pt x="1964" y="459"/>
                  </a:lnTo>
                  <a:lnTo>
                    <a:pt x="1981" y="455"/>
                  </a:lnTo>
                  <a:lnTo>
                    <a:pt x="1994" y="456"/>
                  </a:lnTo>
                  <a:lnTo>
                    <a:pt x="2000" y="464"/>
                  </a:lnTo>
                  <a:lnTo>
                    <a:pt x="2006" y="472"/>
                  </a:lnTo>
                  <a:lnTo>
                    <a:pt x="2014" y="479"/>
                  </a:lnTo>
                  <a:lnTo>
                    <a:pt x="2021" y="487"/>
                  </a:lnTo>
                  <a:lnTo>
                    <a:pt x="2022" y="496"/>
                  </a:lnTo>
                  <a:lnTo>
                    <a:pt x="2031" y="504"/>
                  </a:lnTo>
                  <a:lnTo>
                    <a:pt x="2042" y="510"/>
                  </a:lnTo>
                  <a:lnTo>
                    <a:pt x="2049" y="518"/>
                  </a:lnTo>
                  <a:lnTo>
                    <a:pt x="2057" y="518"/>
                  </a:lnTo>
                  <a:lnTo>
                    <a:pt x="2067" y="513"/>
                  </a:lnTo>
                  <a:lnTo>
                    <a:pt x="2080" y="509"/>
                  </a:lnTo>
                  <a:lnTo>
                    <a:pt x="2091" y="504"/>
                  </a:lnTo>
                  <a:lnTo>
                    <a:pt x="2102" y="498"/>
                  </a:lnTo>
                  <a:lnTo>
                    <a:pt x="2112" y="492"/>
                  </a:lnTo>
                  <a:lnTo>
                    <a:pt x="2123" y="487"/>
                  </a:lnTo>
                  <a:lnTo>
                    <a:pt x="2136" y="484"/>
                  </a:lnTo>
                  <a:lnTo>
                    <a:pt x="2150" y="484"/>
                  </a:lnTo>
                  <a:lnTo>
                    <a:pt x="2159" y="489"/>
                  </a:lnTo>
                  <a:lnTo>
                    <a:pt x="2166" y="498"/>
                  </a:lnTo>
                  <a:lnTo>
                    <a:pt x="2173" y="507"/>
                  </a:lnTo>
                  <a:lnTo>
                    <a:pt x="2176" y="515"/>
                  </a:lnTo>
                  <a:lnTo>
                    <a:pt x="2180" y="524"/>
                  </a:lnTo>
                  <a:lnTo>
                    <a:pt x="2180" y="533"/>
                  </a:lnTo>
                  <a:lnTo>
                    <a:pt x="2186" y="541"/>
                  </a:lnTo>
                  <a:lnTo>
                    <a:pt x="2197" y="546"/>
                  </a:lnTo>
                  <a:lnTo>
                    <a:pt x="2204" y="554"/>
                  </a:lnTo>
                  <a:lnTo>
                    <a:pt x="2213" y="561"/>
                  </a:lnTo>
                  <a:lnTo>
                    <a:pt x="2222" y="568"/>
                  </a:lnTo>
                  <a:lnTo>
                    <a:pt x="2234" y="572"/>
                  </a:lnTo>
                  <a:lnTo>
                    <a:pt x="2246" y="572"/>
                  </a:lnTo>
                  <a:lnTo>
                    <a:pt x="2260" y="571"/>
                  </a:lnTo>
                  <a:lnTo>
                    <a:pt x="2270" y="573"/>
                  </a:lnTo>
                  <a:lnTo>
                    <a:pt x="2275" y="582"/>
                  </a:lnTo>
                  <a:lnTo>
                    <a:pt x="2282" y="590"/>
                  </a:lnTo>
                  <a:lnTo>
                    <a:pt x="2285" y="599"/>
                  </a:lnTo>
                  <a:lnTo>
                    <a:pt x="2285" y="609"/>
                  </a:lnTo>
                  <a:lnTo>
                    <a:pt x="2278" y="616"/>
                  </a:lnTo>
                  <a:lnTo>
                    <a:pt x="2280" y="625"/>
                  </a:lnTo>
                  <a:lnTo>
                    <a:pt x="2278" y="634"/>
                  </a:lnTo>
                  <a:lnTo>
                    <a:pt x="2277" y="643"/>
                  </a:lnTo>
                  <a:lnTo>
                    <a:pt x="2275" y="653"/>
                  </a:lnTo>
                  <a:lnTo>
                    <a:pt x="2275" y="662"/>
                  </a:lnTo>
                  <a:lnTo>
                    <a:pt x="2282" y="670"/>
                  </a:lnTo>
                  <a:lnTo>
                    <a:pt x="2284" y="678"/>
                  </a:lnTo>
                  <a:lnTo>
                    <a:pt x="2270" y="677"/>
                  </a:lnTo>
                  <a:lnTo>
                    <a:pt x="2267" y="683"/>
                  </a:lnTo>
                  <a:lnTo>
                    <a:pt x="2274" y="692"/>
                  </a:lnTo>
                  <a:lnTo>
                    <a:pt x="2260" y="695"/>
                  </a:lnTo>
                  <a:lnTo>
                    <a:pt x="2259" y="703"/>
                  </a:lnTo>
                  <a:lnTo>
                    <a:pt x="2260" y="712"/>
                  </a:lnTo>
                  <a:lnTo>
                    <a:pt x="2263" y="722"/>
                  </a:lnTo>
                  <a:lnTo>
                    <a:pt x="2264" y="731"/>
                  </a:lnTo>
                  <a:lnTo>
                    <a:pt x="2266" y="740"/>
                  </a:lnTo>
                  <a:lnTo>
                    <a:pt x="2267" y="749"/>
                  </a:lnTo>
                  <a:lnTo>
                    <a:pt x="2270" y="758"/>
                  </a:lnTo>
                  <a:lnTo>
                    <a:pt x="2274" y="767"/>
                  </a:lnTo>
                  <a:lnTo>
                    <a:pt x="2280" y="776"/>
                  </a:lnTo>
                  <a:lnTo>
                    <a:pt x="2281" y="785"/>
                  </a:lnTo>
                  <a:lnTo>
                    <a:pt x="2280" y="794"/>
                  </a:lnTo>
                  <a:lnTo>
                    <a:pt x="2278" y="804"/>
                  </a:lnTo>
                  <a:lnTo>
                    <a:pt x="2278" y="813"/>
                  </a:lnTo>
                  <a:lnTo>
                    <a:pt x="2280" y="822"/>
                  </a:lnTo>
                  <a:lnTo>
                    <a:pt x="2289" y="828"/>
                  </a:lnTo>
                  <a:lnTo>
                    <a:pt x="2298" y="835"/>
                  </a:lnTo>
                  <a:lnTo>
                    <a:pt x="2298" y="843"/>
                  </a:lnTo>
                  <a:lnTo>
                    <a:pt x="2285" y="846"/>
                  </a:lnTo>
                  <a:lnTo>
                    <a:pt x="2274" y="851"/>
                  </a:lnTo>
                  <a:lnTo>
                    <a:pt x="2261" y="854"/>
                  </a:lnTo>
                  <a:lnTo>
                    <a:pt x="2253" y="861"/>
                  </a:lnTo>
                  <a:lnTo>
                    <a:pt x="2245" y="868"/>
                  </a:lnTo>
                  <a:lnTo>
                    <a:pt x="2238" y="874"/>
                  </a:lnTo>
                  <a:lnTo>
                    <a:pt x="2243" y="883"/>
                  </a:lnTo>
                  <a:lnTo>
                    <a:pt x="2243" y="892"/>
                  </a:lnTo>
                  <a:lnTo>
                    <a:pt x="2246" y="901"/>
                  </a:lnTo>
                  <a:lnTo>
                    <a:pt x="2249" y="911"/>
                  </a:lnTo>
                  <a:lnTo>
                    <a:pt x="2252" y="920"/>
                  </a:lnTo>
                  <a:lnTo>
                    <a:pt x="2256" y="928"/>
                  </a:lnTo>
                  <a:lnTo>
                    <a:pt x="2259" y="937"/>
                  </a:lnTo>
                  <a:lnTo>
                    <a:pt x="2264" y="945"/>
                  </a:lnTo>
                  <a:lnTo>
                    <a:pt x="2271" y="953"/>
                  </a:lnTo>
                  <a:lnTo>
                    <a:pt x="2280" y="962"/>
                  </a:lnTo>
                  <a:lnTo>
                    <a:pt x="2289" y="967"/>
                  </a:lnTo>
                  <a:lnTo>
                    <a:pt x="2295" y="976"/>
                  </a:lnTo>
                  <a:lnTo>
                    <a:pt x="2298" y="986"/>
                  </a:lnTo>
                  <a:lnTo>
                    <a:pt x="2303" y="994"/>
                  </a:lnTo>
                  <a:lnTo>
                    <a:pt x="2312" y="997"/>
                  </a:lnTo>
                  <a:lnTo>
                    <a:pt x="2323" y="992"/>
                  </a:lnTo>
                  <a:lnTo>
                    <a:pt x="2336" y="987"/>
                  </a:lnTo>
                  <a:lnTo>
                    <a:pt x="2348" y="987"/>
                  </a:lnTo>
                  <a:lnTo>
                    <a:pt x="2351" y="996"/>
                  </a:lnTo>
                  <a:lnTo>
                    <a:pt x="2340" y="999"/>
                  </a:lnTo>
                  <a:lnTo>
                    <a:pt x="2327" y="1003"/>
                  </a:lnTo>
                  <a:lnTo>
                    <a:pt x="2315" y="1006"/>
                  </a:lnTo>
                  <a:lnTo>
                    <a:pt x="2302" y="1006"/>
                  </a:lnTo>
                  <a:lnTo>
                    <a:pt x="2296" y="1012"/>
                  </a:lnTo>
                  <a:lnTo>
                    <a:pt x="2294" y="1020"/>
                  </a:lnTo>
                  <a:lnTo>
                    <a:pt x="2287" y="1027"/>
                  </a:lnTo>
                  <a:lnTo>
                    <a:pt x="2275" y="1032"/>
                  </a:lnTo>
                  <a:lnTo>
                    <a:pt x="2263" y="1033"/>
                  </a:lnTo>
                  <a:lnTo>
                    <a:pt x="2253" y="1039"/>
                  </a:lnTo>
                  <a:lnTo>
                    <a:pt x="2252" y="1048"/>
                  </a:lnTo>
                  <a:lnTo>
                    <a:pt x="2250" y="1058"/>
                  </a:lnTo>
                  <a:lnTo>
                    <a:pt x="2245" y="1066"/>
                  </a:lnTo>
                  <a:lnTo>
                    <a:pt x="2241" y="1075"/>
                  </a:lnTo>
                  <a:lnTo>
                    <a:pt x="2241" y="1085"/>
                  </a:lnTo>
                  <a:lnTo>
                    <a:pt x="2242" y="1094"/>
                  </a:lnTo>
                  <a:lnTo>
                    <a:pt x="2236" y="1102"/>
                  </a:lnTo>
                  <a:lnTo>
                    <a:pt x="2227" y="1108"/>
                  </a:lnTo>
                  <a:lnTo>
                    <a:pt x="2218" y="1115"/>
                  </a:lnTo>
                  <a:lnTo>
                    <a:pt x="2210" y="1122"/>
                  </a:lnTo>
                  <a:lnTo>
                    <a:pt x="2199" y="1125"/>
                  </a:lnTo>
                  <a:lnTo>
                    <a:pt x="2192" y="1133"/>
                  </a:lnTo>
                  <a:lnTo>
                    <a:pt x="2173" y="1146"/>
                  </a:lnTo>
                  <a:lnTo>
                    <a:pt x="2164" y="1139"/>
                  </a:lnTo>
                  <a:lnTo>
                    <a:pt x="2155" y="1132"/>
                  </a:lnTo>
                  <a:lnTo>
                    <a:pt x="2147" y="1125"/>
                  </a:lnTo>
                  <a:lnTo>
                    <a:pt x="2148" y="1118"/>
                  </a:lnTo>
                  <a:lnTo>
                    <a:pt x="2141" y="1117"/>
                  </a:lnTo>
                  <a:lnTo>
                    <a:pt x="2136" y="1127"/>
                  </a:lnTo>
                  <a:lnTo>
                    <a:pt x="2127" y="1131"/>
                  </a:lnTo>
                  <a:lnTo>
                    <a:pt x="2115" y="1129"/>
                  </a:lnTo>
                  <a:lnTo>
                    <a:pt x="2104" y="1127"/>
                  </a:lnTo>
                  <a:lnTo>
                    <a:pt x="2091" y="1125"/>
                  </a:lnTo>
                  <a:lnTo>
                    <a:pt x="2078" y="1122"/>
                  </a:lnTo>
                  <a:lnTo>
                    <a:pt x="2066" y="1119"/>
                  </a:lnTo>
                  <a:lnTo>
                    <a:pt x="2053" y="1115"/>
                  </a:lnTo>
                  <a:lnTo>
                    <a:pt x="2041" y="1112"/>
                  </a:lnTo>
                  <a:lnTo>
                    <a:pt x="2028" y="1108"/>
                  </a:lnTo>
                  <a:lnTo>
                    <a:pt x="2015" y="1105"/>
                  </a:lnTo>
                  <a:lnTo>
                    <a:pt x="2003" y="1102"/>
                  </a:lnTo>
                  <a:lnTo>
                    <a:pt x="1981" y="1096"/>
                  </a:lnTo>
                  <a:lnTo>
                    <a:pt x="1968" y="1094"/>
                  </a:lnTo>
                  <a:lnTo>
                    <a:pt x="1958" y="1101"/>
                  </a:lnTo>
                  <a:lnTo>
                    <a:pt x="1948" y="1107"/>
                  </a:lnTo>
                  <a:lnTo>
                    <a:pt x="1939" y="1112"/>
                  </a:lnTo>
                  <a:lnTo>
                    <a:pt x="1926" y="1117"/>
                  </a:lnTo>
                  <a:lnTo>
                    <a:pt x="1915" y="1121"/>
                  </a:lnTo>
                  <a:lnTo>
                    <a:pt x="1904" y="1124"/>
                  </a:lnTo>
                  <a:lnTo>
                    <a:pt x="1891" y="1128"/>
                  </a:lnTo>
                  <a:lnTo>
                    <a:pt x="1878" y="1131"/>
                  </a:lnTo>
                  <a:lnTo>
                    <a:pt x="1866" y="1135"/>
                  </a:lnTo>
                  <a:lnTo>
                    <a:pt x="1855" y="1138"/>
                  </a:lnTo>
                  <a:lnTo>
                    <a:pt x="1842" y="1141"/>
                  </a:lnTo>
                  <a:lnTo>
                    <a:pt x="1830" y="1145"/>
                  </a:lnTo>
                  <a:lnTo>
                    <a:pt x="1818" y="1148"/>
                  </a:lnTo>
                  <a:lnTo>
                    <a:pt x="1806" y="1151"/>
                  </a:lnTo>
                  <a:lnTo>
                    <a:pt x="1793" y="1155"/>
                  </a:lnTo>
                  <a:lnTo>
                    <a:pt x="1782" y="1158"/>
                  </a:lnTo>
                  <a:lnTo>
                    <a:pt x="1769" y="1162"/>
                  </a:lnTo>
                  <a:lnTo>
                    <a:pt x="1757" y="1165"/>
                  </a:lnTo>
                  <a:lnTo>
                    <a:pt x="1746" y="1169"/>
                  </a:lnTo>
                  <a:lnTo>
                    <a:pt x="1733" y="1172"/>
                  </a:lnTo>
                  <a:lnTo>
                    <a:pt x="1720" y="1175"/>
                  </a:lnTo>
                  <a:lnTo>
                    <a:pt x="1709" y="1179"/>
                  </a:lnTo>
                  <a:lnTo>
                    <a:pt x="1697" y="1182"/>
                  </a:lnTo>
                  <a:lnTo>
                    <a:pt x="1686" y="1186"/>
                  </a:lnTo>
                  <a:lnTo>
                    <a:pt x="1673" y="1191"/>
                  </a:lnTo>
                  <a:lnTo>
                    <a:pt x="1662" y="1196"/>
                  </a:lnTo>
                  <a:lnTo>
                    <a:pt x="1651" y="1200"/>
                  </a:lnTo>
                  <a:lnTo>
                    <a:pt x="1651" y="1209"/>
                  </a:lnTo>
                  <a:lnTo>
                    <a:pt x="1655" y="1218"/>
                  </a:lnTo>
                  <a:lnTo>
                    <a:pt x="1658" y="1227"/>
                  </a:lnTo>
                  <a:lnTo>
                    <a:pt x="1656" y="1236"/>
                  </a:lnTo>
                  <a:lnTo>
                    <a:pt x="1653" y="1246"/>
                  </a:lnTo>
                  <a:lnTo>
                    <a:pt x="1649" y="1254"/>
                  </a:lnTo>
                  <a:lnTo>
                    <a:pt x="1642" y="1262"/>
                  </a:lnTo>
                  <a:lnTo>
                    <a:pt x="1634" y="1269"/>
                  </a:lnTo>
                  <a:lnTo>
                    <a:pt x="1624" y="1276"/>
                  </a:lnTo>
                  <a:lnTo>
                    <a:pt x="1614" y="1281"/>
                  </a:lnTo>
                  <a:lnTo>
                    <a:pt x="1603" y="1286"/>
                  </a:lnTo>
                  <a:lnTo>
                    <a:pt x="1590" y="1290"/>
                  </a:lnTo>
                  <a:lnTo>
                    <a:pt x="1578" y="1292"/>
                  </a:lnTo>
                  <a:lnTo>
                    <a:pt x="1565" y="1290"/>
                  </a:lnTo>
                  <a:lnTo>
                    <a:pt x="1553" y="1287"/>
                  </a:lnTo>
                  <a:lnTo>
                    <a:pt x="1540" y="1285"/>
                  </a:lnTo>
                  <a:lnTo>
                    <a:pt x="1528" y="1284"/>
                  </a:lnTo>
                  <a:lnTo>
                    <a:pt x="1516" y="1289"/>
                  </a:lnTo>
                  <a:lnTo>
                    <a:pt x="1505" y="1294"/>
                  </a:lnTo>
                  <a:lnTo>
                    <a:pt x="1494" y="1298"/>
                  </a:lnTo>
                  <a:lnTo>
                    <a:pt x="1483" y="1303"/>
                  </a:lnTo>
                  <a:lnTo>
                    <a:pt x="1472" y="1308"/>
                  </a:lnTo>
                  <a:lnTo>
                    <a:pt x="1460" y="1313"/>
                  </a:lnTo>
                  <a:lnTo>
                    <a:pt x="1449" y="1317"/>
                  </a:lnTo>
                  <a:lnTo>
                    <a:pt x="1438" y="1322"/>
                  </a:lnTo>
                  <a:lnTo>
                    <a:pt x="1426" y="1326"/>
                  </a:lnTo>
                  <a:lnTo>
                    <a:pt x="1414" y="1329"/>
                  </a:lnTo>
                  <a:lnTo>
                    <a:pt x="1402" y="1333"/>
                  </a:lnTo>
                  <a:lnTo>
                    <a:pt x="1389" y="1336"/>
                  </a:lnTo>
                  <a:lnTo>
                    <a:pt x="1378" y="1339"/>
                  </a:lnTo>
                  <a:lnTo>
                    <a:pt x="1365" y="1342"/>
                  </a:lnTo>
                  <a:lnTo>
                    <a:pt x="1353" y="1345"/>
                  </a:lnTo>
                  <a:lnTo>
                    <a:pt x="1340" y="1348"/>
                  </a:lnTo>
                  <a:lnTo>
                    <a:pt x="1328" y="1350"/>
                  </a:lnTo>
                  <a:lnTo>
                    <a:pt x="1315" y="1353"/>
                  </a:lnTo>
                  <a:lnTo>
                    <a:pt x="1303" y="1355"/>
                  </a:lnTo>
                  <a:lnTo>
                    <a:pt x="1290" y="1357"/>
                  </a:lnTo>
                  <a:lnTo>
                    <a:pt x="1279" y="1361"/>
                  </a:lnTo>
                  <a:lnTo>
                    <a:pt x="1266" y="1366"/>
                  </a:lnTo>
                  <a:lnTo>
                    <a:pt x="1255" y="1370"/>
                  </a:lnTo>
                  <a:lnTo>
                    <a:pt x="1244" y="1375"/>
                  </a:lnTo>
                  <a:lnTo>
                    <a:pt x="1233" y="1379"/>
                  </a:lnTo>
                  <a:lnTo>
                    <a:pt x="1221" y="1384"/>
                  </a:lnTo>
                  <a:lnTo>
                    <a:pt x="1212" y="1390"/>
                  </a:lnTo>
                  <a:lnTo>
                    <a:pt x="1200" y="1396"/>
                  </a:lnTo>
                  <a:lnTo>
                    <a:pt x="1191" y="1402"/>
                  </a:lnTo>
                  <a:lnTo>
                    <a:pt x="1179" y="1407"/>
                  </a:lnTo>
                  <a:lnTo>
                    <a:pt x="1170" y="1412"/>
                  </a:lnTo>
                  <a:lnTo>
                    <a:pt x="1157" y="1418"/>
                  </a:lnTo>
                  <a:lnTo>
                    <a:pt x="1146" y="1421"/>
                  </a:lnTo>
                  <a:lnTo>
                    <a:pt x="1133" y="1424"/>
                  </a:lnTo>
                  <a:lnTo>
                    <a:pt x="1121" y="1427"/>
                  </a:lnTo>
                  <a:lnTo>
                    <a:pt x="1108" y="1430"/>
                  </a:lnTo>
                  <a:lnTo>
                    <a:pt x="1096" y="1432"/>
                  </a:lnTo>
                  <a:lnTo>
                    <a:pt x="1083" y="1435"/>
                  </a:lnTo>
                  <a:lnTo>
                    <a:pt x="1072" y="1439"/>
                  </a:lnTo>
                  <a:lnTo>
                    <a:pt x="1059" y="1443"/>
                  </a:lnTo>
                  <a:lnTo>
                    <a:pt x="1048" y="1447"/>
                  </a:lnTo>
                  <a:lnTo>
                    <a:pt x="1037" y="1451"/>
                  </a:lnTo>
                  <a:lnTo>
                    <a:pt x="1024" y="1455"/>
                  </a:lnTo>
                  <a:lnTo>
                    <a:pt x="1013" y="1459"/>
                  </a:lnTo>
                  <a:lnTo>
                    <a:pt x="1001" y="1463"/>
                  </a:lnTo>
                  <a:lnTo>
                    <a:pt x="989" y="1467"/>
                  </a:lnTo>
                  <a:lnTo>
                    <a:pt x="977" y="1470"/>
                  </a:lnTo>
                  <a:lnTo>
                    <a:pt x="966" y="1474"/>
                  </a:lnTo>
                  <a:lnTo>
                    <a:pt x="953" y="1478"/>
                  </a:lnTo>
                  <a:lnTo>
                    <a:pt x="940" y="1481"/>
                  </a:lnTo>
                  <a:lnTo>
                    <a:pt x="929" y="1485"/>
                  </a:lnTo>
                  <a:lnTo>
                    <a:pt x="910" y="1491"/>
                  </a:lnTo>
                  <a:lnTo>
                    <a:pt x="896" y="1496"/>
                  </a:lnTo>
                  <a:lnTo>
                    <a:pt x="885" y="1501"/>
                  </a:lnTo>
                  <a:lnTo>
                    <a:pt x="875" y="1507"/>
                  </a:lnTo>
                  <a:lnTo>
                    <a:pt x="864" y="1512"/>
                  </a:lnTo>
                  <a:lnTo>
                    <a:pt x="852" y="1517"/>
                  </a:lnTo>
                  <a:lnTo>
                    <a:pt x="841" y="1522"/>
                  </a:lnTo>
                  <a:lnTo>
                    <a:pt x="830" y="1526"/>
                  </a:lnTo>
                  <a:lnTo>
                    <a:pt x="819" y="1531"/>
                  </a:lnTo>
                  <a:lnTo>
                    <a:pt x="806" y="1533"/>
                  </a:lnTo>
                  <a:lnTo>
                    <a:pt x="794" y="1535"/>
                  </a:lnTo>
                  <a:lnTo>
                    <a:pt x="781" y="1535"/>
                  </a:lnTo>
                  <a:lnTo>
                    <a:pt x="767" y="1534"/>
                  </a:lnTo>
                  <a:lnTo>
                    <a:pt x="755" y="1535"/>
                  </a:lnTo>
                  <a:lnTo>
                    <a:pt x="742" y="1535"/>
                  </a:lnTo>
                  <a:lnTo>
                    <a:pt x="728" y="1536"/>
                  </a:lnTo>
                  <a:lnTo>
                    <a:pt x="706" y="1537"/>
                  </a:lnTo>
                  <a:lnTo>
                    <a:pt x="693" y="1537"/>
                  </a:lnTo>
                  <a:lnTo>
                    <a:pt x="680" y="1537"/>
                  </a:lnTo>
                  <a:lnTo>
                    <a:pt x="666" y="1537"/>
                  </a:lnTo>
                  <a:lnTo>
                    <a:pt x="666" y="1527"/>
                  </a:lnTo>
                  <a:lnTo>
                    <a:pt x="659" y="1520"/>
                  </a:lnTo>
                  <a:lnTo>
                    <a:pt x="651" y="1513"/>
                  </a:lnTo>
                  <a:lnTo>
                    <a:pt x="643" y="1506"/>
                  </a:lnTo>
                  <a:lnTo>
                    <a:pt x="633" y="1499"/>
                  </a:lnTo>
                  <a:lnTo>
                    <a:pt x="620" y="1491"/>
                  </a:lnTo>
                  <a:lnTo>
                    <a:pt x="611" y="1483"/>
                  </a:lnTo>
                  <a:lnTo>
                    <a:pt x="599" y="1477"/>
                  </a:lnTo>
                  <a:lnTo>
                    <a:pt x="590" y="1471"/>
                  </a:lnTo>
                  <a:lnTo>
                    <a:pt x="580" y="1466"/>
                  </a:lnTo>
                  <a:lnTo>
                    <a:pt x="571" y="1459"/>
                  </a:lnTo>
                  <a:lnTo>
                    <a:pt x="562" y="1453"/>
                  </a:lnTo>
                  <a:lnTo>
                    <a:pt x="552" y="1446"/>
                  </a:lnTo>
                  <a:lnTo>
                    <a:pt x="549" y="1438"/>
                  </a:lnTo>
                  <a:lnTo>
                    <a:pt x="545" y="1429"/>
                  </a:lnTo>
                  <a:lnTo>
                    <a:pt x="543" y="1420"/>
                  </a:lnTo>
                  <a:lnTo>
                    <a:pt x="542" y="1410"/>
                  </a:lnTo>
                  <a:lnTo>
                    <a:pt x="538" y="1401"/>
                  </a:lnTo>
                  <a:lnTo>
                    <a:pt x="528" y="1394"/>
                  </a:lnTo>
                  <a:lnTo>
                    <a:pt x="517" y="1391"/>
                  </a:lnTo>
                  <a:lnTo>
                    <a:pt x="507" y="1384"/>
                  </a:lnTo>
                  <a:lnTo>
                    <a:pt x="502" y="1376"/>
                  </a:lnTo>
                  <a:lnTo>
                    <a:pt x="489" y="1372"/>
                  </a:lnTo>
                  <a:lnTo>
                    <a:pt x="482" y="1366"/>
                  </a:lnTo>
                  <a:lnTo>
                    <a:pt x="483" y="1357"/>
                  </a:lnTo>
                  <a:lnTo>
                    <a:pt x="483" y="1348"/>
                  </a:lnTo>
                  <a:lnTo>
                    <a:pt x="485" y="1339"/>
                  </a:lnTo>
                  <a:lnTo>
                    <a:pt x="492" y="1330"/>
                  </a:lnTo>
                  <a:lnTo>
                    <a:pt x="493" y="1321"/>
                  </a:lnTo>
                  <a:lnTo>
                    <a:pt x="504" y="1318"/>
                  </a:lnTo>
                  <a:lnTo>
                    <a:pt x="515" y="1315"/>
                  </a:lnTo>
                  <a:lnTo>
                    <a:pt x="504" y="1313"/>
                  </a:lnTo>
                  <a:lnTo>
                    <a:pt x="496" y="1308"/>
                  </a:lnTo>
                  <a:lnTo>
                    <a:pt x="500" y="1299"/>
                  </a:lnTo>
                  <a:lnTo>
                    <a:pt x="495" y="1290"/>
                  </a:lnTo>
                  <a:lnTo>
                    <a:pt x="483" y="1286"/>
                  </a:lnTo>
                  <a:lnTo>
                    <a:pt x="474" y="1281"/>
                  </a:lnTo>
                  <a:lnTo>
                    <a:pt x="471" y="1272"/>
                  </a:lnTo>
                  <a:lnTo>
                    <a:pt x="482" y="1267"/>
                  </a:lnTo>
                  <a:lnTo>
                    <a:pt x="490" y="1261"/>
                  </a:lnTo>
                  <a:lnTo>
                    <a:pt x="489" y="1251"/>
                  </a:lnTo>
                  <a:lnTo>
                    <a:pt x="485" y="1242"/>
                  </a:lnTo>
                  <a:lnTo>
                    <a:pt x="478" y="1236"/>
                  </a:lnTo>
                  <a:lnTo>
                    <a:pt x="464" y="1234"/>
                  </a:lnTo>
                  <a:lnTo>
                    <a:pt x="455" y="1229"/>
                  </a:lnTo>
                  <a:lnTo>
                    <a:pt x="446" y="1223"/>
                  </a:lnTo>
                  <a:lnTo>
                    <a:pt x="446" y="1213"/>
                  </a:lnTo>
                  <a:lnTo>
                    <a:pt x="444" y="1205"/>
                  </a:lnTo>
                  <a:lnTo>
                    <a:pt x="434" y="1198"/>
                  </a:lnTo>
                  <a:lnTo>
                    <a:pt x="426" y="1193"/>
                  </a:lnTo>
                  <a:lnTo>
                    <a:pt x="416" y="1186"/>
                  </a:lnTo>
                  <a:lnTo>
                    <a:pt x="406" y="1180"/>
                  </a:lnTo>
                  <a:lnTo>
                    <a:pt x="394" y="1180"/>
                  </a:lnTo>
                  <a:lnTo>
                    <a:pt x="381" y="1183"/>
                  </a:lnTo>
                  <a:lnTo>
                    <a:pt x="371" y="1188"/>
                  </a:lnTo>
                  <a:lnTo>
                    <a:pt x="359" y="1190"/>
                  </a:lnTo>
                  <a:lnTo>
                    <a:pt x="346" y="1188"/>
                  </a:lnTo>
                  <a:lnTo>
                    <a:pt x="335" y="1183"/>
                  </a:lnTo>
                  <a:lnTo>
                    <a:pt x="323" y="1183"/>
                  </a:lnTo>
                  <a:lnTo>
                    <a:pt x="310" y="1180"/>
                  </a:lnTo>
                  <a:lnTo>
                    <a:pt x="302" y="1175"/>
                  </a:lnTo>
                  <a:lnTo>
                    <a:pt x="296" y="1166"/>
                  </a:lnTo>
                  <a:lnTo>
                    <a:pt x="293" y="1157"/>
                  </a:lnTo>
                  <a:lnTo>
                    <a:pt x="300" y="1150"/>
                  </a:lnTo>
                  <a:lnTo>
                    <a:pt x="306" y="1143"/>
                  </a:lnTo>
                  <a:lnTo>
                    <a:pt x="313" y="1136"/>
                  </a:lnTo>
                  <a:lnTo>
                    <a:pt x="323" y="1129"/>
                  </a:lnTo>
                  <a:lnTo>
                    <a:pt x="324" y="1120"/>
                  </a:lnTo>
                  <a:lnTo>
                    <a:pt x="321" y="1112"/>
                  </a:lnTo>
                  <a:lnTo>
                    <a:pt x="327" y="1107"/>
                  </a:lnTo>
                  <a:lnTo>
                    <a:pt x="338" y="1102"/>
                  </a:lnTo>
                  <a:lnTo>
                    <a:pt x="339" y="1094"/>
                  </a:lnTo>
                  <a:lnTo>
                    <a:pt x="335" y="1085"/>
                  </a:lnTo>
                  <a:lnTo>
                    <a:pt x="342" y="1082"/>
                  </a:lnTo>
                  <a:lnTo>
                    <a:pt x="335" y="1076"/>
                  </a:lnTo>
                  <a:lnTo>
                    <a:pt x="327" y="1068"/>
                  </a:lnTo>
                  <a:lnTo>
                    <a:pt x="320" y="1060"/>
                  </a:lnTo>
                  <a:lnTo>
                    <a:pt x="310" y="1060"/>
                  </a:lnTo>
                  <a:lnTo>
                    <a:pt x="303" y="1053"/>
                  </a:lnTo>
                  <a:lnTo>
                    <a:pt x="304" y="1044"/>
                  </a:lnTo>
                  <a:lnTo>
                    <a:pt x="300" y="1035"/>
                  </a:lnTo>
                  <a:lnTo>
                    <a:pt x="292" y="1028"/>
                  </a:lnTo>
                  <a:lnTo>
                    <a:pt x="283" y="1021"/>
                  </a:lnTo>
                  <a:lnTo>
                    <a:pt x="272" y="1016"/>
                  </a:lnTo>
                  <a:lnTo>
                    <a:pt x="264" y="1009"/>
                  </a:lnTo>
                  <a:lnTo>
                    <a:pt x="260" y="1000"/>
                  </a:lnTo>
                  <a:lnTo>
                    <a:pt x="251" y="1007"/>
                  </a:lnTo>
                  <a:lnTo>
                    <a:pt x="244" y="1014"/>
                  </a:lnTo>
                  <a:lnTo>
                    <a:pt x="232" y="1014"/>
                  </a:lnTo>
                  <a:lnTo>
                    <a:pt x="221" y="1019"/>
                  </a:lnTo>
                  <a:lnTo>
                    <a:pt x="208" y="1020"/>
                  </a:lnTo>
                  <a:lnTo>
                    <a:pt x="202" y="1016"/>
                  </a:lnTo>
                  <a:lnTo>
                    <a:pt x="194" y="1014"/>
                  </a:lnTo>
                  <a:lnTo>
                    <a:pt x="183" y="1013"/>
                  </a:lnTo>
                  <a:lnTo>
                    <a:pt x="170" y="1014"/>
                  </a:lnTo>
                  <a:lnTo>
                    <a:pt x="158" y="1011"/>
                  </a:lnTo>
                  <a:lnTo>
                    <a:pt x="145" y="1008"/>
                  </a:lnTo>
                  <a:lnTo>
                    <a:pt x="135" y="1012"/>
                  </a:lnTo>
                  <a:lnTo>
                    <a:pt x="131" y="1004"/>
                  </a:lnTo>
                  <a:lnTo>
                    <a:pt x="131" y="994"/>
                  </a:lnTo>
                  <a:lnTo>
                    <a:pt x="134" y="985"/>
                  </a:lnTo>
                  <a:lnTo>
                    <a:pt x="125" y="982"/>
                  </a:lnTo>
                  <a:lnTo>
                    <a:pt x="114" y="981"/>
                  </a:lnTo>
                  <a:lnTo>
                    <a:pt x="103" y="977"/>
                  </a:lnTo>
                  <a:lnTo>
                    <a:pt x="93" y="971"/>
                  </a:lnTo>
                  <a:lnTo>
                    <a:pt x="85" y="964"/>
                  </a:lnTo>
                  <a:lnTo>
                    <a:pt x="77" y="956"/>
                  </a:lnTo>
                  <a:lnTo>
                    <a:pt x="70" y="948"/>
                  </a:lnTo>
                  <a:lnTo>
                    <a:pt x="60" y="942"/>
                  </a:lnTo>
                  <a:lnTo>
                    <a:pt x="49" y="937"/>
                  </a:lnTo>
                  <a:lnTo>
                    <a:pt x="39" y="931"/>
                  </a:lnTo>
                  <a:lnTo>
                    <a:pt x="29" y="925"/>
                  </a:lnTo>
                  <a:lnTo>
                    <a:pt x="19" y="919"/>
                  </a:lnTo>
                  <a:lnTo>
                    <a:pt x="9" y="912"/>
                  </a:lnTo>
                  <a:lnTo>
                    <a:pt x="0" y="907"/>
                  </a:lnTo>
                  <a:lnTo>
                    <a:pt x="0" y="892"/>
                  </a:lnTo>
                  <a:lnTo>
                    <a:pt x="2" y="883"/>
                  </a:lnTo>
                  <a:lnTo>
                    <a:pt x="4" y="874"/>
                  </a:lnTo>
                  <a:lnTo>
                    <a:pt x="14" y="871"/>
                  </a:lnTo>
                  <a:lnTo>
                    <a:pt x="26" y="874"/>
                  </a:lnTo>
                  <a:lnTo>
                    <a:pt x="39" y="874"/>
                  </a:lnTo>
                  <a:lnTo>
                    <a:pt x="50" y="869"/>
                  </a:lnTo>
                  <a:lnTo>
                    <a:pt x="61" y="871"/>
                  </a:lnTo>
                  <a:lnTo>
                    <a:pt x="74" y="868"/>
                  </a:lnTo>
                  <a:lnTo>
                    <a:pt x="86" y="865"/>
                  </a:lnTo>
                  <a:lnTo>
                    <a:pt x="98" y="860"/>
                  </a:lnTo>
                  <a:lnTo>
                    <a:pt x="109" y="856"/>
                  </a:lnTo>
                  <a:lnTo>
                    <a:pt x="121" y="853"/>
                  </a:lnTo>
                  <a:lnTo>
                    <a:pt x="131" y="847"/>
                  </a:lnTo>
                  <a:lnTo>
                    <a:pt x="142" y="844"/>
                  </a:lnTo>
                  <a:lnTo>
                    <a:pt x="155" y="845"/>
                  </a:lnTo>
                  <a:lnTo>
                    <a:pt x="165" y="852"/>
                  </a:lnTo>
                  <a:lnTo>
                    <a:pt x="170" y="861"/>
                  </a:lnTo>
                  <a:lnTo>
                    <a:pt x="176" y="855"/>
                  </a:lnTo>
                  <a:lnTo>
                    <a:pt x="183" y="845"/>
                  </a:lnTo>
                  <a:lnTo>
                    <a:pt x="187" y="850"/>
                  </a:lnTo>
                  <a:lnTo>
                    <a:pt x="195" y="857"/>
                  </a:lnTo>
                  <a:lnTo>
                    <a:pt x="205" y="863"/>
                  </a:lnTo>
                  <a:lnTo>
                    <a:pt x="216" y="869"/>
                  </a:lnTo>
                  <a:lnTo>
                    <a:pt x="228" y="873"/>
                  </a:lnTo>
                  <a:lnTo>
                    <a:pt x="240" y="873"/>
                  </a:lnTo>
                  <a:lnTo>
                    <a:pt x="243" y="864"/>
                  </a:lnTo>
                  <a:lnTo>
                    <a:pt x="250" y="857"/>
                  </a:lnTo>
                  <a:lnTo>
                    <a:pt x="260" y="850"/>
                  </a:lnTo>
                  <a:lnTo>
                    <a:pt x="269" y="844"/>
                  </a:lnTo>
                  <a:lnTo>
                    <a:pt x="281" y="840"/>
                  </a:lnTo>
                  <a:lnTo>
                    <a:pt x="282" y="831"/>
                  </a:lnTo>
                  <a:lnTo>
                    <a:pt x="285" y="822"/>
                  </a:lnTo>
                  <a:lnTo>
                    <a:pt x="282" y="813"/>
                  </a:lnTo>
                  <a:lnTo>
                    <a:pt x="276" y="805"/>
                  </a:lnTo>
                  <a:lnTo>
                    <a:pt x="276" y="796"/>
                  </a:lnTo>
                  <a:lnTo>
                    <a:pt x="274" y="786"/>
                  </a:lnTo>
                  <a:lnTo>
                    <a:pt x="281" y="782"/>
                  </a:lnTo>
                  <a:lnTo>
                    <a:pt x="281" y="774"/>
                  </a:lnTo>
                  <a:lnTo>
                    <a:pt x="275" y="765"/>
                  </a:lnTo>
                  <a:lnTo>
                    <a:pt x="271" y="757"/>
                  </a:lnTo>
                  <a:lnTo>
                    <a:pt x="267" y="748"/>
                  </a:lnTo>
                  <a:lnTo>
                    <a:pt x="261" y="740"/>
                  </a:lnTo>
                  <a:lnTo>
                    <a:pt x="255" y="731"/>
                  </a:lnTo>
                  <a:lnTo>
                    <a:pt x="254" y="722"/>
                  </a:lnTo>
                  <a:lnTo>
                    <a:pt x="253" y="712"/>
                  </a:lnTo>
                  <a:lnTo>
                    <a:pt x="250" y="703"/>
                  </a:lnTo>
                  <a:lnTo>
                    <a:pt x="248" y="694"/>
                  </a:lnTo>
                  <a:lnTo>
                    <a:pt x="247" y="685"/>
                  </a:lnTo>
                  <a:lnTo>
                    <a:pt x="246" y="675"/>
                  </a:lnTo>
                  <a:lnTo>
                    <a:pt x="248" y="666"/>
                  </a:lnTo>
                  <a:lnTo>
                    <a:pt x="254" y="657"/>
                  </a:lnTo>
                  <a:lnTo>
                    <a:pt x="262" y="659"/>
                  </a:lnTo>
                  <a:lnTo>
                    <a:pt x="271" y="652"/>
                  </a:lnTo>
                  <a:lnTo>
                    <a:pt x="279" y="645"/>
                  </a:lnTo>
                  <a:lnTo>
                    <a:pt x="281" y="636"/>
                  </a:lnTo>
                  <a:lnTo>
                    <a:pt x="276" y="627"/>
                  </a:lnTo>
                  <a:lnTo>
                    <a:pt x="278" y="618"/>
                  </a:lnTo>
                  <a:lnTo>
                    <a:pt x="276" y="609"/>
                  </a:lnTo>
                  <a:lnTo>
                    <a:pt x="279" y="600"/>
                  </a:lnTo>
                  <a:lnTo>
                    <a:pt x="285" y="591"/>
                  </a:lnTo>
                  <a:lnTo>
                    <a:pt x="289" y="582"/>
                  </a:lnTo>
                  <a:lnTo>
                    <a:pt x="278" y="581"/>
                  </a:lnTo>
                  <a:lnTo>
                    <a:pt x="275" y="574"/>
                  </a:lnTo>
                  <a:lnTo>
                    <a:pt x="282" y="567"/>
                  </a:lnTo>
                  <a:lnTo>
                    <a:pt x="283" y="559"/>
                  </a:lnTo>
                  <a:lnTo>
                    <a:pt x="283" y="549"/>
                  </a:lnTo>
                  <a:lnTo>
                    <a:pt x="283" y="540"/>
                  </a:lnTo>
                  <a:lnTo>
                    <a:pt x="283" y="530"/>
                  </a:lnTo>
                  <a:lnTo>
                    <a:pt x="282" y="521"/>
                  </a:lnTo>
                  <a:lnTo>
                    <a:pt x="282" y="511"/>
                  </a:lnTo>
                  <a:lnTo>
                    <a:pt x="281" y="502"/>
                  </a:lnTo>
                  <a:lnTo>
                    <a:pt x="278" y="491"/>
                  </a:lnTo>
                  <a:lnTo>
                    <a:pt x="276" y="482"/>
                  </a:lnTo>
                  <a:lnTo>
                    <a:pt x="274" y="474"/>
                  </a:lnTo>
                  <a:lnTo>
                    <a:pt x="262" y="472"/>
                  </a:lnTo>
                  <a:lnTo>
                    <a:pt x="260" y="462"/>
                  </a:lnTo>
                  <a:lnTo>
                    <a:pt x="261" y="453"/>
                  </a:lnTo>
                  <a:lnTo>
                    <a:pt x="267" y="444"/>
                  </a:lnTo>
                  <a:lnTo>
                    <a:pt x="272" y="436"/>
                  </a:lnTo>
                  <a:lnTo>
                    <a:pt x="279" y="428"/>
                  </a:lnTo>
                  <a:lnTo>
                    <a:pt x="289" y="436"/>
                  </a:lnTo>
                  <a:lnTo>
                    <a:pt x="297" y="431"/>
                  </a:lnTo>
                  <a:lnTo>
                    <a:pt x="303" y="422"/>
                  </a:lnTo>
                  <a:lnTo>
                    <a:pt x="303" y="413"/>
                  </a:lnTo>
                  <a:lnTo>
                    <a:pt x="306" y="403"/>
                  </a:lnTo>
                  <a:lnTo>
                    <a:pt x="300" y="395"/>
                  </a:lnTo>
                  <a:lnTo>
                    <a:pt x="303" y="387"/>
                  </a:lnTo>
                  <a:lnTo>
                    <a:pt x="309" y="378"/>
                  </a:lnTo>
                  <a:lnTo>
                    <a:pt x="316" y="370"/>
                  </a:lnTo>
                  <a:lnTo>
                    <a:pt x="324" y="363"/>
                  </a:lnTo>
                  <a:lnTo>
                    <a:pt x="335" y="358"/>
                  </a:lnTo>
                  <a:lnTo>
                    <a:pt x="345" y="353"/>
                  </a:lnTo>
                  <a:lnTo>
                    <a:pt x="359" y="351"/>
                  </a:lnTo>
                  <a:lnTo>
                    <a:pt x="371" y="350"/>
                  </a:lnTo>
                  <a:lnTo>
                    <a:pt x="384" y="350"/>
                  </a:lnTo>
                  <a:lnTo>
                    <a:pt x="398" y="350"/>
                  </a:lnTo>
                  <a:lnTo>
                    <a:pt x="411" y="350"/>
                  </a:lnTo>
                  <a:lnTo>
                    <a:pt x="422" y="346"/>
                  </a:lnTo>
                  <a:lnTo>
                    <a:pt x="434" y="341"/>
                  </a:lnTo>
                  <a:lnTo>
                    <a:pt x="446" y="336"/>
                  </a:lnTo>
                  <a:lnTo>
                    <a:pt x="453" y="330"/>
                  </a:lnTo>
                  <a:lnTo>
                    <a:pt x="444" y="322"/>
                  </a:lnTo>
                  <a:lnTo>
                    <a:pt x="434" y="315"/>
                  </a:lnTo>
                  <a:lnTo>
                    <a:pt x="426" y="309"/>
                  </a:lnTo>
                  <a:lnTo>
                    <a:pt x="415" y="302"/>
                  </a:lnTo>
                  <a:lnTo>
                    <a:pt x="405" y="298"/>
                  </a:lnTo>
                  <a:lnTo>
                    <a:pt x="391" y="298"/>
                  </a:lnTo>
                  <a:lnTo>
                    <a:pt x="376" y="295"/>
                  </a:lnTo>
                  <a:lnTo>
                    <a:pt x="365" y="289"/>
                  </a:lnTo>
                  <a:lnTo>
                    <a:pt x="353" y="284"/>
                  </a:lnTo>
                  <a:lnTo>
                    <a:pt x="344" y="278"/>
                  </a:lnTo>
                  <a:lnTo>
                    <a:pt x="332" y="274"/>
                  </a:lnTo>
                  <a:lnTo>
                    <a:pt x="321" y="272"/>
                  </a:lnTo>
                  <a:lnTo>
                    <a:pt x="316" y="263"/>
                  </a:lnTo>
                  <a:lnTo>
                    <a:pt x="309" y="256"/>
                  </a:lnTo>
                  <a:lnTo>
                    <a:pt x="299" y="263"/>
                  </a:lnTo>
                  <a:lnTo>
                    <a:pt x="289" y="257"/>
                  </a:lnTo>
                  <a:lnTo>
                    <a:pt x="279" y="250"/>
                  </a:lnTo>
                  <a:lnTo>
                    <a:pt x="269" y="242"/>
                  </a:lnTo>
                  <a:lnTo>
                    <a:pt x="260" y="234"/>
                  </a:lnTo>
                  <a:lnTo>
                    <a:pt x="253" y="227"/>
                  </a:lnTo>
                  <a:lnTo>
                    <a:pt x="250" y="219"/>
                  </a:lnTo>
                  <a:lnTo>
                    <a:pt x="254" y="213"/>
                  </a:lnTo>
                  <a:lnTo>
                    <a:pt x="268" y="207"/>
                  </a:lnTo>
                  <a:lnTo>
                    <a:pt x="282" y="202"/>
                  </a:lnTo>
                  <a:lnTo>
                    <a:pt x="289" y="197"/>
                  </a:lnTo>
                  <a:lnTo>
                    <a:pt x="276" y="192"/>
                  </a:lnTo>
                  <a:lnTo>
                    <a:pt x="264" y="188"/>
                  </a:lnTo>
                  <a:lnTo>
                    <a:pt x="255" y="181"/>
                  </a:lnTo>
                  <a:lnTo>
                    <a:pt x="248" y="173"/>
                  </a:lnTo>
                  <a:lnTo>
                    <a:pt x="243" y="164"/>
                  </a:lnTo>
                  <a:lnTo>
                    <a:pt x="240" y="156"/>
                  </a:lnTo>
                  <a:lnTo>
                    <a:pt x="236" y="147"/>
                  </a:lnTo>
                  <a:lnTo>
                    <a:pt x="233" y="138"/>
                  </a:lnTo>
                  <a:lnTo>
                    <a:pt x="230" y="128"/>
                  </a:lnTo>
                  <a:lnTo>
                    <a:pt x="223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95440" y="3019320"/>
              <a:ext cx="1244520" cy="1219320"/>
            </a:xfrm>
            <a:custGeom>
              <a:avLst/>
              <a:gdLst/>
              <a:ahLst/>
              <a:rect l="l" t="t" r="r" b="b"/>
              <a:pathLst>
                <a:path w="2352" h="1537">
                  <a:moveTo>
                    <a:pt x="224" y="113"/>
                  </a:moveTo>
                  <a:lnTo>
                    <a:pt x="228" y="107"/>
                  </a:lnTo>
                  <a:lnTo>
                    <a:pt x="239" y="103"/>
                  </a:lnTo>
                  <a:lnTo>
                    <a:pt x="249" y="96"/>
                  </a:lnTo>
                  <a:lnTo>
                    <a:pt x="262" y="93"/>
                  </a:lnTo>
                  <a:lnTo>
                    <a:pt x="270" y="93"/>
                  </a:lnTo>
                  <a:lnTo>
                    <a:pt x="274" y="103"/>
                  </a:lnTo>
                  <a:lnTo>
                    <a:pt x="283" y="109"/>
                  </a:lnTo>
                  <a:lnTo>
                    <a:pt x="295" y="110"/>
                  </a:lnTo>
                  <a:lnTo>
                    <a:pt x="308" y="114"/>
                  </a:lnTo>
                  <a:lnTo>
                    <a:pt x="319" y="115"/>
                  </a:lnTo>
                  <a:lnTo>
                    <a:pt x="318" y="106"/>
                  </a:lnTo>
                  <a:lnTo>
                    <a:pt x="326" y="103"/>
                  </a:lnTo>
                  <a:lnTo>
                    <a:pt x="336" y="101"/>
                  </a:lnTo>
                  <a:lnTo>
                    <a:pt x="341" y="105"/>
                  </a:lnTo>
                  <a:lnTo>
                    <a:pt x="346" y="102"/>
                  </a:lnTo>
                  <a:lnTo>
                    <a:pt x="350" y="110"/>
                  </a:lnTo>
                  <a:lnTo>
                    <a:pt x="361" y="114"/>
                  </a:lnTo>
                  <a:lnTo>
                    <a:pt x="374" y="113"/>
                  </a:lnTo>
                  <a:lnTo>
                    <a:pt x="386" y="114"/>
                  </a:lnTo>
                  <a:lnTo>
                    <a:pt x="399" y="116"/>
                  </a:lnTo>
                  <a:lnTo>
                    <a:pt x="406" y="121"/>
                  </a:lnTo>
                  <a:lnTo>
                    <a:pt x="415" y="116"/>
                  </a:lnTo>
                  <a:lnTo>
                    <a:pt x="421" y="122"/>
                  </a:lnTo>
                  <a:lnTo>
                    <a:pt x="427" y="116"/>
                  </a:lnTo>
                  <a:lnTo>
                    <a:pt x="439" y="118"/>
                  </a:lnTo>
                  <a:lnTo>
                    <a:pt x="452" y="118"/>
                  </a:lnTo>
                  <a:lnTo>
                    <a:pt x="462" y="121"/>
                  </a:lnTo>
                  <a:lnTo>
                    <a:pt x="470" y="114"/>
                  </a:lnTo>
                  <a:lnTo>
                    <a:pt x="481" y="110"/>
                  </a:lnTo>
                  <a:lnTo>
                    <a:pt x="495" y="108"/>
                  </a:lnTo>
                  <a:lnTo>
                    <a:pt x="499" y="102"/>
                  </a:lnTo>
                  <a:lnTo>
                    <a:pt x="512" y="98"/>
                  </a:lnTo>
                  <a:lnTo>
                    <a:pt x="523" y="98"/>
                  </a:lnTo>
                  <a:lnTo>
                    <a:pt x="534" y="103"/>
                  </a:lnTo>
                  <a:lnTo>
                    <a:pt x="547" y="102"/>
                  </a:lnTo>
                  <a:lnTo>
                    <a:pt x="559" y="100"/>
                  </a:lnTo>
                  <a:lnTo>
                    <a:pt x="572" y="95"/>
                  </a:lnTo>
                  <a:lnTo>
                    <a:pt x="585" y="95"/>
                  </a:lnTo>
                  <a:lnTo>
                    <a:pt x="597" y="94"/>
                  </a:lnTo>
                  <a:lnTo>
                    <a:pt x="607" y="88"/>
                  </a:lnTo>
                  <a:lnTo>
                    <a:pt x="615" y="81"/>
                  </a:lnTo>
                  <a:lnTo>
                    <a:pt x="624" y="74"/>
                  </a:lnTo>
                  <a:lnTo>
                    <a:pt x="632" y="67"/>
                  </a:lnTo>
                  <a:lnTo>
                    <a:pt x="638" y="59"/>
                  </a:lnTo>
                  <a:lnTo>
                    <a:pt x="642" y="50"/>
                  </a:lnTo>
                  <a:lnTo>
                    <a:pt x="643" y="41"/>
                  </a:lnTo>
                  <a:lnTo>
                    <a:pt x="642" y="32"/>
                  </a:lnTo>
                  <a:lnTo>
                    <a:pt x="645" y="23"/>
                  </a:lnTo>
                  <a:lnTo>
                    <a:pt x="649" y="14"/>
                  </a:lnTo>
                  <a:lnTo>
                    <a:pt x="660" y="16"/>
                  </a:lnTo>
                  <a:lnTo>
                    <a:pt x="674" y="16"/>
                  </a:lnTo>
                  <a:lnTo>
                    <a:pt x="687" y="16"/>
                  </a:lnTo>
                  <a:lnTo>
                    <a:pt x="699" y="19"/>
                  </a:lnTo>
                  <a:lnTo>
                    <a:pt x="710" y="24"/>
                  </a:lnTo>
                  <a:lnTo>
                    <a:pt x="729" y="18"/>
                  </a:lnTo>
                  <a:lnTo>
                    <a:pt x="738" y="12"/>
                  </a:lnTo>
                  <a:lnTo>
                    <a:pt x="748" y="5"/>
                  </a:lnTo>
                  <a:lnTo>
                    <a:pt x="759" y="0"/>
                  </a:lnTo>
                  <a:lnTo>
                    <a:pt x="769" y="3"/>
                  </a:lnTo>
                  <a:lnTo>
                    <a:pt x="782" y="4"/>
                  </a:lnTo>
                  <a:lnTo>
                    <a:pt x="794" y="5"/>
                  </a:lnTo>
                  <a:lnTo>
                    <a:pt x="807" y="8"/>
                  </a:lnTo>
                  <a:lnTo>
                    <a:pt x="819" y="11"/>
                  </a:lnTo>
                  <a:lnTo>
                    <a:pt x="831" y="15"/>
                  </a:lnTo>
                  <a:lnTo>
                    <a:pt x="842" y="20"/>
                  </a:lnTo>
                  <a:lnTo>
                    <a:pt x="853" y="25"/>
                  </a:lnTo>
                  <a:lnTo>
                    <a:pt x="864" y="29"/>
                  </a:lnTo>
                  <a:lnTo>
                    <a:pt x="877" y="33"/>
                  </a:lnTo>
                  <a:lnTo>
                    <a:pt x="889" y="36"/>
                  </a:lnTo>
                  <a:lnTo>
                    <a:pt x="902" y="39"/>
                  </a:lnTo>
                  <a:lnTo>
                    <a:pt x="914" y="41"/>
                  </a:lnTo>
                  <a:lnTo>
                    <a:pt x="927" y="40"/>
                  </a:lnTo>
                  <a:lnTo>
                    <a:pt x="938" y="44"/>
                  </a:lnTo>
                  <a:lnTo>
                    <a:pt x="947" y="46"/>
                  </a:lnTo>
                  <a:lnTo>
                    <a:pt x="958" y="42"/>
                  </a:lnTo>
                  <a:lnTo>
                    <a:pt x="969" y="36"/>
                  </a:lnTo>
                  <a:lnTo>
                    <a:pt x="980" y="30"/>
                  </a:lnTo>
                  <a:lnTo>
                    <a:pt x="990" y="24"/>
                  </a:lnTo>
                  <a:lnTo>
                    <a:pt x="1000" y="16"/>
                  </a:lnTo>
                  <a:lnTo>
                    <a:pt x="1010" y="14"/>
                  </a:lnTo>
                  <a:lnTo>
                    <a:pt x="1017" y="23"/>
                  </a:lnTo>
                  <a:lnTo>
                    <a:pt x="1025" y="27"/>
                  </a:lnTo>
                  <a:lnTo>
                    <a:pt x="1031" y="36"/>
                  </a:lnTo>
                  <a:lnTo>
                    <a:pt x="1039" y="43"/>
                  </a:lnTo>
                  <a:lnTo>
                    <a:pt x="1047" y="50"/>
                  </a:lnTo>
                  <a:lnTo>
                    <a:pt x="1057" y="56"/>
                  </a:lnTo>
                  <a:lnTo>
                    <a:pt x="1065" y="64"/>
                  </a:lnTo>
                  <a:lnTo>
                    <a:pt x="1070" y="71"/>
                  </a:lnTo>
                  <a:lnTo>
                    <a:pt x="1081" y="65"/>
                  </a:lnTo>
                  <a:lnTo>
                    <a:pt x="1091" y="57"/>
                  </a:lnTo>
                  <a:lnTo>
                    <a:pt x="1102" y="55"/>
                  </a:lnTo>
                  <a:lnTo>
                    <a:pt x="1110" y="61"/>
                  </a:lnTo>
                  <a:lnTo>
                    <a:pt x="1119" y="70"/>
                  </a:lnTo>
                  <a:lnTo>
                    <a:pt x="1128" y="74"/>
                  </a:lnTo>
                  <a:lnTo>
                    <a:pt x="1140" y="75"/>
                  </a:lnTo>
                  <a:lnTo>
                    <a:pt x="1149" y="79"/>
                  </a:lnTo>
                  <a:lnTo>
                    <a:pt x="1145" y="86"/>
                  </a:lnTo>
                  <a:lnTo>
                    <a:pt x="1155" y="84"/>
                  </a:lnTo>
                  <a:lnTo>
                    <a:pt x="1169" y="79"/>
                  </a:lnTo>
                  <a:lnTo>
                    <a:pt x="1183" y="77"/>
                  </a:lnTo>
                  <a:lnTo>
                    <a:pt x="1187" y="71"/>
                  </a:lnTo>
                  <a:lnTo>
                    <a:pt x="1191" y="62"/>
                  </a:lnTo>
                  <a:lnTo>
                    <a:pt x="1190" y="53"/>
                  </a:lnTo>
                  <a:lnTo>
                    <a:pt x="1200" y="46"/>
                  </a:lnTo>
                  <a:lnTo>
                    <a:pt x="1211" y="44"/>
                  </a:lnTo>
                  <a:lnTo>
                    <a:pt x="1219" y="53"/>
                  </a:lnTo>
                  <a:lnTo>
                    <a:pt x="1228" y="57"/>
                  </a:lnTo>
                  <a:lnTo>
                    <a:pt x="1239" y="50"/>
                  </a:lnTo>
                  <a:lnTo>
                    <a:pt x="1249" y="53"/>
                  </a:lnTo>
                  <a:lnTo>
                    <a:pt x="1260" y="47"/>
                  </a:lnTo>
                  <a:lnTo>
                    <a:pt x="1271" y="47"/>
                  </a:lnTo>
                  <a:lnTo>
                    <a:pt x="1279" y="54"/>
                  </a:lnTo>
                  <a:lnTo>
                    <a:pt x="1284" y="64"/>
                  </a:lnTo>
                  <a:lnTo>
                    <a:pt x="1277" y="71"/>
                  </a:lnTo>
                  <a:lnTo>
                    <a:pt x="1267" y="78"/>
                  </a:lnTo>
                  <a:lnTo>
                    <a:pt x="1264" y="86"/>
                  </a:lnTo>
                  <a:lnTo>
                    <a:pt x="1274" y="91"/>
                  </a:lnTo>
                  <a:lnTo>
                    <a:pt x="1288" y="88"/>
                  </a:lnTo>
                  <a:lnTo>
                    <a:pt x="1298" y="84"/>
                  </a:lnTo>
                  <a:lnTo>
                    <a:pt x="1306" y="91"/>
                  </a:lnTo>
                  <a:lnTo>
                    <a:pt x="1318" y="85"/>
                  </a:lnTo>
                  <a:lnTo>
                    <a:pt x="1314" y="78"/>
                  </a:lnTo>
                  <a:lnTo>
                    <a:pt x="1305" y="71"/>
                  </a:lnTo>
                  <a:lnTo>
                    <a:pt x="1306" y="62"/>
                  </a:lnTo>
                  <a:lnTo>
                    <a:pt x="1314" y="54"/>
                  </a:lnTo>
                  <a:lnTo>
                    <a:pt x="1318" y="54"/>
                  </a:lnTo>
                  <a:lnTo>
                    <a:pt x="1325" y="44"/>
                  </a:lnTo>
                  <a:lnTo>
                    <a:pt x="1334" y="43"/>
                  </a:lnTo>
                  <a:lnTo>
                    <a:pt x="1341" y="50"/>
                  </a:lnTo>
                  <a:lnTo>
                    <a:pt x="1348" y="60"/>
                  </a:lnTo>
                  <a:lnTo>
                    <a:pt x="1355" y="69"/>
                  </a:lnTo>
                  <a:lnTo>
                    <a:pt x="1363" y="76"/>
                  </a:lnTo>
                  <a:lnTo>
                    <a:pt x="1372" y="78"/>
                  </a:lnTo>
                  <a:lnTo>
                    <a:pt x="1381" y="71"/>
                  </a:lnTo>
                  <a:lnTo>
                    <a:pt x="1391" y="63"/>
                  </a:lnTo>
                  <a:lnTo>
                    <a:pt x="1400" y="56"/>
                  </a:lnTo>
                  <a:lnTo>
                    <a:pt x="1411" y="51"/>
                  </a:lnTo>
                  <a:lnTo>
                    <a:pt x="1407" y="42"/>
                  </a:lnTo>
                  <a:lnTo>
                    <a:pt x="1412" y="34"/>
                  </a:lnTo>
                  <a:lnTo>
                    <a:pt x="1423" y="30"/>
                  </a:lnTo>
                  <a:lnTo>
                    <a:pt x="1429" y="21"/>
                  </a:lnTo>
                  <a:lnTo>
                    <a:pt x="1439" y="14"/>
                  </a:lnTo>
                  <a:lnTo>
                    <a:pt x="1449" y="8"/>
                  </a:lnTo>
                  <a:lnTo>
                    <a:pt x="1451" y="10"/>
                  </a:lnTo>
                  <a:lnTo>
                    <a:pt x="1455" y="19"/>
                  </a:lnTo>
                  <a:lnTo>
                    <a:pt x="1455" y="28"/>
                  </a:lnTo>
                  <a:lnTo>
                    <a:pt x="1455" y="38"/>
                  </a:lnTo>
                  <a:lnTo>
                    <a:pt x="1465" y="41"/>
                  </a:lnTo>
                  <a:lnTo>
                    <a:pt x="1478" y="43"/>
                  </a:lnTo>
                  <a:lnTo>
                    <a:pt x="1488" y="37"/>
                  </a:lnTo>
                  <a:lnTo>
                    <a:pt x="1496" y="29"/>
                  </a:lnTo>
                  <a:lnTo>
                    <a:pt x="1504" y="21"/>
                  </a:lnTo>
                  <a:lnTo>
                    <a:pt x="1513" y="13"/>
                  </a:lnTo>
                  <a:lnTo>
                    <a:pt x="1520" y="7"/>
                  </a:lnTo>
                  <a:lnTo>
                    <a:pt x="1523" y="12"/>
                  </a:lnTo>
                  <a:lnTo>
                    <a:pt x="1535" y="16"/>
                  </a:lnTo>
                  <a:lnTo>
                    <a:pt x="1542" y="23"/>
                  </a:lnTo>
                  <a:lnTo>
                    <a:pt x="1552" y="20"/>
                  </a:lnTo>
                  <a:lnTo>
                    <a:pt x="1562" y="27"/>
                  </a:lnTo>
                  <a:lnTo>
                    <a:pt x="1572" y="33"/>
                  </a:lnTo>
                  <a:lnTo>
                    <a:pt x="1579" y="41"/>
                  </a:lnTo>
                  <a:lnTo>
                    <a:pt x="1583" y="50"/>
                  </a:lnTo>
                  <a:lnTo>
                    <a:pt x="1585" y="59"/>
                  </a:lnTo>
                  <a:lnTo>
                    <a:pt x="1587" y="68"/>
                  </a:lnTo>
                  <a:lnTo>
                    <a:pt x="1592" y="78"/>
                  </a:lnTo>
                  <a:lnTo>
                    <a:pt x="1599" y="87"/>
                  </a:lnTo>
                  <a:lnTo>
                    <a:pt x="1606" y="94"/>
                  </a:lnTo>
                  <a:lnTo>
                    <a:pt x="1619" y="90"/>
                  </a:lnTo>
                  <a:lnTo>
                    <a:pt x="1623" y="98"/>
                  </a:lnTo>
                  <a:lnTo>
                    <a:pt x="1627" y="108"/>
                  </a:lnTo>
                  <a:lnTo>
                    <a:pt x="1636" y="116"/>
                  </a:lnTo>
                  <a:lnTo>
                    <a:pt x="1641" y="124"/>
                  </a:lnTo>
                  <a:lnTo>
                    <a:pt x="1633" y="127"/>
                  </a:lnTo>
                  <a:lnTo>
                    <a:pt x="1646" y="132"/>
                  </a:lnTo>
                  <a:lnTo>
                    <a:pt x="1650" y="140"/>
                  </a:lnTo>
                  <a:lnTo>
                    <a:pt x="1644" y="148"/>
                  </a:lnTo>
                  <a:lnTo>
                    <a:pt x="1636" y="156"/>
                  </a:lnTo>
                  <a:lnTo>
                    <a:pt x="1629" y="164"/>
                  </a:lnTo>
                  <a:lnTo>
                    <a:pt x="1619" y="170"/>
                  </a:lnTo>
                  <a:lnTo>
                    <a:pt x="1615" y="179"/>
                  </a:lnTo>
                  <a:lnTo>
                    <a:pt x="1611" y="187"/>
                  </a:lnTo>
                  <a:lnTo>
                    <a:pt x="1606" y="196"/>
                  </a:lnTo>
                  <a:lnTo>
                    <a:pt x="1608" y="206"/>
                  </a:lnTo>
                  <a:lnTo>
                    <a:pt x="1606" y="214"/>
                  </a:lnTo>
                  <a:lnTo>
                    <a:pt x="1615" y="220"/>
                  </a:lnTo>
                  <a:lnTo>
                    <a:pt x="1626" y="225"/>
                  </a:lnTo>
                  <a:lnTo>
                    <a:pt x="1639" y="230"/>
                  </a:lnTo>
                  <a:lnTo>
                    <a:pt x="1650" y="234"/>
                  </a:lnTo>
                  <a:lnTo>
                    <a:pt x="1662" y="235"/>
                  </a:lnTo>
                  <a:lnTo>
                    <a:pt x="1671" y="228"/>
                  </a:lnTo>
                  <a:lnTo>
                    <a:pt x="1682" y="222"/>
                  </a:lnTo>
                  <a:lnTo>
                    <a:pt x="1695" y="222"/>
                  </a:lnTo>
                  <a:lnTo>
                    <a:pt x="1706" y="227"/>
                  </a:lnTo>
                  <a:lnTo>
                    <a:pt x="1718" y="225"/>
                  </a:lnTo>
                  <a:lnTo>
                    <a:pt x="1728" y="231"/>
                  </a:lnTo>
                  <a:lnTo>
                    <a:pt x="1734" y="239"/>
                  </a:lnTo>
                  <a:lnTo>
                    <a:pt x="1742" y="244"/>
                  </a:lnTo>
                  <a:lnTo>
                    <a:pt x="1749" y="251"/>
                  </a:lnTo>
                  <a:lnTo>
                    <a:pt x="1752" y="260"/>
                  </a:lnTo>
                  <a:lnTo>
                    <a:pt x="1745" y="268"/>
                  </a:lnTo>
                  <a:lnTo>
                    <a:pt x="1734" y="270"/>
                  </a:lnTo>
                  <a:lnTo>
                    <a:pt x="1720" y="270"/>
                  </a:lnTo>
                  <a:lnTo>
                    <a:pt x="1709" y="275"/>
                  </a:lnTo>
                  <a:lnTo>
                    <a:pt x="1720" y="278"/>
                  </a:lnTo>
                  <a:lnTo>
                    <a:pt x="1732" y="282"/>
                  </a:lnTo>
                  <a:lnTo>
                    <a:pt x="1742" y="288"/>
                  </a:lnTo>
                  <a:lnTo>
                    <a:pt x="1755" y="295"/>
                  </a:lnTo>
                  <a:lnTo>
                    <a:pt x="1762" y="302"/>
                  </a:lnTo>
                  <a:lnTo>
                    <a:pt x="1769" y="310"/>
                  </a:lnTo>
                  <a:lnTo>
                    <a:pt x="1769" y="319"/>
                  </a:lnTo>
                  <a:lnTo>
                    <a:pt x="1771" y="327"/>
                  </a:lnTo>
                  <a:lnTo>
                    <a:pt x="1770" y="337"/>
                  </a:lnTo>
                  <a:lnTo>
                    <a:pt x="1780" y="335"/>
                  </a:lnTo>
                  <a:lnTo>
                    <a:pt x="1785" y="328"/>
                  </a:lnTo>
                  <a:lnTo>
                    <a:pt x="1797" y="331"/>
                  </a:lnTo>
                  <a:lnTo>
                    <a:pt x="1809" y="330"/>
                  </a:lnTo>
                  <a:lnTo>
                    <a:pt x="1820" y="332"/>
                  </a:lnTo>
                  <a:lnTo>
                    <a:pt x="1832" y="336"/>
                  </a:lnTo>
                  <a:lnTo>
                    <a:pt x="1840" y="336"/>
                  </a:lnTo>
                  <a:lnTo>
                    <a:pt x="1850" y="330"/>
                  </a:lnTo>
                  <a:lnTo>
                    <a:pt x="1864" y="331"/>
                  </a:lnTo>
                  <a:lnTo>
                    <a:pt x="1876" y="328"/>
                  </a:lnTo>
                  <a:lnTo>
                    <a:pt x="1889" y="327"/>
                  </a:lnTo>
                  <a:lnTo>
                    <a:pt x="1897" y="334"/>
                  </a:lnTo>
                  <a:lnTo>
                    <a:pt x="1917" y="339"/>
                  </a:lnTo>
                  <a:lnTo>
                    <a:pt x="1921" y="347"/>
                  </a:lnTo>
                  <a:lnTo>
                    <a:pt x="1927" y="355"/>
                  </a:lnTo>
                  <a:lnTo>
                    <a:pt x="1935" y="362"/>
                  </a:lnTo>
                  <a:lnTo>
                    <a:pt x="1946" y="367"/>
                  </a:lnTo>
                  <a:lnTo>
                    <a:pt x="1959" y="370"/>
                  </a:lnTo>
                  <a:lnTo>
                    <a:pt x="1971" y="371"/>
                  </a:lnTo>
                  <a:lnTo>
                    <a:pt x="1973" y="379"/>
                  </a:lnTo>
                  <a:lnTo>
                    <a:pt x="1962" y="385"/>
                  </a:lnTo>
                  <a:lnTo>
                    <a:pt x="1950" y="389"/>
                  </a:lnTo>
                  <a:lnTo>
                    <a:pt x="1941" y="396"/>
                  </a:lnTo>
                  <a:lnTo>
                    <a:pt x="1938" y="404"/>
                  </a:lnTo>
                  <a:lnTo>
                    <a:pt x="1938" y="413"/>
                  </a:lnTo>
                  <a:lnTo>
                    <a:pt x="1942" y="422"/>
                  </a:lnTo>
                  <a:lnTo>
                    <a:pt x="1942" y="431"/>
                  </a:lnTo>
                  <a:lnTo>
                    <a:pt x="1943" y="441"/>
                  </a:lnTo>
                  <a:lnTo>
                    <a:pt x="1948" y="450"/>
                  </a:lnTo>
                  <a:lnTo>
                    <a:pt x="1955" y="458"/>
                  </a:lnTo>
                  <a:lnTo>
                    <a:pt x="1964" y="459"/>
                  </a:lnTo>
                  <a:lnTo>
                    <a:pt x="1981" y="455"/>
                  </a:lnTo>
                  <a:lnTo>
                    <a:pt x="1995" y="456"/>
                  </a:lnTo>
                  <a:lnTo>
                    <a:pt x="2001" y="464"/>
                  </a:lnTo>
                  <a:lnTo>
                    <a:pt x="2006" y="472"/>
                  </a:lnTo>
                  <a:lnTo>
                    <a:pt x="2015" y="479"/>
                  </a:lnTo>
                  <a:lnTo>
                    <a:pt x="2022" y="487"/>
                  </a:lnTo>
                  <a:lnTo>
                    <a:pt x="2023" y="496"/>
                  </a:lnTo>
                  <a:lnTo>
                    <a:pt x="2031" y="503"/>
                  </a:lnTo>
                  <a:lnTo>
                    <a:pt x="2043" y="509"/>
                  </a:lnTo>
                  <a:lnTo>
                    <a:pt x="2050" y="517"/>
                  </a:lnTo>
                  <a:lnTo>
                    <a:pt x="2058" y="517"/>
                  </a:lnTo>
                  <a:lnTo>
                    <a:pt x="2068" y="512"/>
                  </a:lnTo>
                  <a:lnTo>
                    <a:pt x="2080" y="508"/>
                  </a:lnTo>
                  <a:lnTo>
                    <a:pt x="2092" y="503"/>
                  </a:lnTo>
                  <a:lnTo>
                    <a:pt x="2103" y="497"/>
                  </a:lnTo>
                  <a:lnTo>
                    <a:pt x="2113" y="492"/>
                  </a:lnTo>
                  <a:lnTo>
                    <a:pt x="2124" y="487"/>
                  </a:lnTo>
                  <a:lnTo>
                    <a:pt x="2136" y="484"/>
                  </a:lnTo>
                  <a:lnTo>
                    <a:pt x="2150" y="484"/>
                  </a:lnTo>
                  <a:lnTo>
                    <a:pt x="2160" y="489"/>
                  </a:lnTo>
                  <a:lnTo>
                    <a:pt x="2167" y="497"/>
                  </a:lnTo>
                  <a:lnTo>
                    <a:pt x="2174" y="506"/>
                  </a:lnTo>
                  <a:lnTo>
                    <a:pt x="2177" y="514"/>
                  </a:lnTo>
                  <a:lnTo>
                    <a:pt x="2181" y="523"/>
                  </a:lnTo>
                  <a:lnTo>
                    <a:pt x="2181" y="532"/>
                  </a:lnTo>
                  <a:lnTo>
                    <a:pt x="2187" y="540"/>
                  </a:lnTo>
                  <a:lnTo>
                    <a:pt x="2198" y="545"/>
                  </a:lnTo>
                  <a:lnTo>
                    <a:pt x="2205" y="553"/>
                  </a:lnTo>
                  <a:lnTo>
                    <a:pt x="2213" y="561"/>
                  </a:lnTo>
                  <a:lnTo>
                    <a:pt x="2223" y="568"/>
                  </a:lnTo>
                  <a:lnTo>
                    <a:pt x="2234" y="572"/>
                  </a:lnTo>
                  <a:lnTo>
                    <a:pt x="2247" y="572"/>
                  </a:lnTo>
                  <a:lnTo>
                    <a:pt x="2261" y="571"/>
                  </a:lnTo>
                  <a:lnTo>
                    <a:pt x="2270" y="573"/>
                  </a:lnTo>
                  <a:lnTo>
                    <a:pt x="2276" y="582"/>
                  </a:lnTo>
                  <a:lnTo>
                    <a:pt x="2283" y="590"/>
                  </a:lnTo>
                  <a:lnTo>
                    <a:pt x="2286" y="599"/>
                  </a:lnTo>
                  <a:lnTo>
                    <a:pt x="2286" y="609"/>
                  </a:lnTo>
                  <a:lnTo>
                    <a:pt x="2279" y="616"/>
                  </a:lnTo>
                  <a:lnTo>
                    <a:pt x="2280" y="625"/>
                  </a:lnTo>
                  <a:lnTo>
                    <a:pt x="2279" y="634"/>
                  </a:lnTo>
                  <a:lnTo>
                    <a:pt x="2277" y="643"/>
                  </a:lnTo>
                  <a:lnTo>
                    <a:pt x="2276" y="653"/>
                  </a:lnTo>
                  <a:lnTo>
                    <a:pt x="2276" y="662"/>
                  </a:lnTo>
                  <a:lnTo>
                    <a:pt x="2283" y="670"/>
                  </a:lnTo>
                  <a:lnTo>
                    <a:pt x="2284" y="678"/>
                  </a:lnTo>
                  <a:lnTo>
                    <a:pt x="2270" y="677"/>
                  </a:lnTo>
                  <a:lnTo>
                    <a:pt x="2268" y="683"/>
                  </a:lnTo>
                  <a:lnTo>
                    <a:pt x="2275" y="692"/>
                  </a:lnTo>
                  <a:lnTo>
                    <a:pt x="2261" y="695"/>
                  </a:lnTo>
                  <a:lnTo>
                    <a:pt x="2259" y="703"/>
                  </a:lnTo>
                  <a:lnTo>
                    <a:pt x="2261" y="712"/>
                  </a:lnTo>
                  <a:lnTo>
                    <a:pt x="2263" y="722"/>
                  </a:lnTo>
                  <a:lnTo>
                    <a:pt x="2265" y="731"/>
                  </a:lnTo>
                  <a:lnTo>
                    <a:pt x="2266" y="740"/>
                  </a:lnTo>
                  <a:lnTo>
                    <a:pt x="2268" y="749"/>
                  </a:lnTo>
                  <a:lnTo>
                    <a:pt x="2270" y="758"/>
                  </a:lnTo>
                  <a:lnTo>
                    <a:pt x="2275" y="767"/>
                  </a:lnTo>
                  <a:lnTo>
                    <a:pt x="2280" y="776"/>
                  </a:lnTo>
                  <a:lnTo>
                    <a:pt x="2282" y="785"/>
                  </a:lnTo>
                  <a:lnTo>
                    <a:pt x="2280" y="794"/>
                  </a:lnTo>
                  <a:lnTo>
                    <a:pt x="2279" y="804"/>
                  </a:lnTo>
                  <a:lnTo>
                    <a:pt x="2279" y="813"/>
                  </a:lnTo>
                  <a:lnTo>
                    <a:pt x="2280" y="822"/>
                  </a:lnTo>
                  <a:lnTo>
                    <a:pt x="2290" y="828"/>
                  </a:lnTo>
                  <a:lnTo>
                    <a:pt x="2298" y="835"/>
                  </a:lnTo>
                  <a:lnTo>
                    <a:pt x="2298" y="843"/>
                  </a:lnTo>
                  <a:lnTo>
                    <a:pt x="2286" y="846"/>
                  </a:lnTo>
                  <a:lnTo>
                    <a:pt x="2275" y="851"/>
                  </a:lnTo>
                  <a:lnTo>
                    <a:pt x="2262" y="854"/>
                  </a:lnTo>
                  <a:lnTo>
                    <a:pt x="2254" y="861"/>
                  </a:lnTo>
                  <a:lnTo>
                    <a:pt x="2245" y="868"/>
                  </a:lnTo>
                  <a:lnTo>
                    <a:pt x="2238" y="874"/>
                  </a:lnTo>
                  <a:lnTo>
                    <a:pt x="2244" y="883"/>
                  </a:lnTo>
                  <a:lnTo>
                    <a:pt x="2244" y="892"/>
                  </a:lnTo>
                  <a:lnTo>
                    <a:pt x="2247" y="901"/>
                  </a:lnTo>
                  <a:lnTo>
                    <a:pt x="2250" y="911"/>
                  </a:lnTo>
                  <a:lnTo>
                    <a:pt x="2252" y="920"/>
                  </a:lnTo>
                  <a:lnTo>
                    <a:pt x="2256" y="928"/>
                  </a:lnTo>
                  <a:lnTo>
                    <a:pt x="2259" y="937"/>
                  </a:lnTo>
                  <a:lnTo>
                    <a:pt x="2265" y="945"/>
                  </a:lnTo>
                  <a:lnTo>
                    <a:pt x="2272" y="953"/>
                  </a:lnTo>
                  <a:lnTo>
                    <a:pt x="2280" y="961"/>
                  </a:lnTo>
                  <a:lnTo>
                    <a:pt x="2290" y="966"/>
                  </a:lnTo>
                  <a:lnTo>
                    <a:pt x="2296" y="975"/>
                  </a:lnTo>
                  <a:lnTo>
                    <a:pt x="2298" y="985"/>
                  </a:lnTo>
                  <a:lnTo>
                    <a:pt x="2304" y="993"/>
                  </a:lnTo>
                  <a:lnTo>
                    <a:pt x="2312" y="996"/>
                  </a:lnTo>
                  <a:lnTo>
                    <a:pt x="2324" y="991"/>
                  </a:lnTo>
                  <a:lnTo>
                    <a:pt x="2336" y="986"/>
                  </a:lnTo>
                  <a:lnTo>
                    <a:pt x="2349" y="986"/>
                  </a:lnTo>
                  <a:lnTo>
                    <a:pt x="2352" y="995"/>
                  </a:lnTo>
                  <a:lnTo>
                    <a:pt x="2340" y="998"/>
                  </a:lnTo>
                  <a:lnTo>
                    <a:pt x="2328" y="1002"/>
                  </a:lnTo>
                  <a:lnTo>
                    <a:pt x="2315" y="1005"/>
                  </a:lnTo>
                  <a:lnTo>
                    <a:pt x="2303" y="1005"/>
                  </a:lnTo>
                  <a:lnTo>
                    <a:pt x="2297" y="1011"/>
                  </a:lnTo>
                  <a:lnTo>
                    <a:pt x="2294" y="1020"/>
                  </a:lnTo>
                  <a:lnTo>
                    <a:pt x="2287" y="1027"/>
                  </a:lnTo>
                  <a:lnTo>
                    <a:pt x="2276" y="1032"/>
                  </a:lnTo>
                  <a:lnTo>
                    <a:pt x="2263" y="1033"/>
                  </a:lnTo>
                  <a:lnTo>
                    <a:pt x="2254" y="1039"/>
                  </a:lnTo>
                  <a:lnTo>
                    <a:pt x="2252" y="1048"/>
                  </a:lnTo>
                  <a:lnTo>
                    <a:pt x="2251" y="1058"/>
                  </a:lnTo>
                  <a:lnTo>
                    <a:pt x="2245" y="1066"/>
                  </a:lnTo>
                  <a:lnTo>
                    <a:pt x="2241" y="1075"/>
                  </a:lnTo>
                  <a:lnTo>
                    <a:pt x="2241" y="1085"/>
                  </a:lnTo>
                  <a:lnTo>
                    <a:pt x="2243" y="1094"/>
                  </a:lnTo>
                  <a:lnTo>
                    <a:pt x="2237" y="1102"/>
                  </a:lnTo>
                  <a:lnTo>
                    <a:pt x="2227" y="1108"/>
                  </a:lnTo>
                  <a:lnTo>
                    <a:pt x="2219" y="1115"/>
                  </a:lnTo>
                  <a:lnTo>
                    <a:pt x="2210" y="1122"/>
                  </a:lnTo>
                  <a:lnTo>
                    <a:pt x="2199" y="1125"/>
                  </a:lnTo>
                  <a:lnTo>
                    <a:pt x="2192" y="1133"/>
                  </a:lnTo>
                  <a:lnTo>
                    <a:pt x="2174" y="1146"/>
                  </a:lnTo>
                  <a:lnTo>
                    <a:pt x="2164" y="1139"/>
                  </a:lnTo>
                  <a:lnTo>
                    <a:pt x="2156" y="1132"/>
                  </a:lnTo>
                  <a:lnTo>
                    <a:pt x="2147" y="1125"/>
                  </a:lnTo>
                  <a:lnTo>
                    <a:pt x="2149" y="1118"/>
                  </a:lnTo>
                  <a:lnTo>
                    <a:pt x="2142" y="1117"/>
                  </a:lnTo>
                  <a:lnTo>
                    <a:pt x="2136" y="1127"/>
                  </a:lnTo>
                  <a:lnTo>
                    <a:pt x="2128" y="1131"/>
                  </a:lnTo>
                  <a:lnTo>
                    <a:pt x="2115" y="1129"/>
                  </a:lnTo>
                  <a:lnTo>
                    <a:pt x="2104" y="1127"/>
                  </a:lnTo>
                  <a:lnTo>
                    <a:pt x="2092" y="1125"/>
                  </a:lnTo>
                  <a:lnTo>
                    <a:pt x="2079" y="1122"/>
                  </a:lnTo>
                  <a:lnTo>
                    <a:pt x="2066" y="1119"/>
                  </a:lnTo>
                  <a:lnTo>
                    <a:pt x="2054" y="1115"/>
                  </a:lnTo>
                  <a:lnTo>
                    <a:pt x="2041" y="1112"/>
                  </a:lnTo>
                  <a:lnTo>
                    <a:pt x="2029" y="1108"/>
                  </a:lnTo>
                  <a:lnTo>
                    <a:pt x="2016" y="1105"/>
                  </a:lnTo>
                  <a:lnTo>
                    <a:pt x="2003" y="1102"/>
                  </a:lnTo>
                  <a:lnTo>
                    <a:pt x="1981" y="1096"/>
                  </a:lnTo>
                  <a:lnTo>
                    <a:pt x="1969" y="1094"/>
                  </a:lnTo>
                  <a:lnTo>
                    <a:pt x="1959" y="1101"/>
                  </a:lnTo>
                  <a:lnTo>
                    <a:pt x="1949" y="1107"/>
                  </a:lnTo>
                  <a:lnTo>
                    <a:pt x="1939" y="1112"/>
                  </a:lnTo>
                  <a:lnTo>
                    <a:pt x="1927" y="1117"/>
                  </a:lnTo>
                  <a:lnTo>
                    <a:pt x="1915" y="1121"/>
                  </a:lnTo>
                  <a:lnTo>
                    <a:pt x="1904" y="1124"/>
                  </a:lnTo>
                  <a:lnTo>
                    <a:pt x="1892" y="1128"/>
                  </a:lnTo>
                  <a:lnTo>
                    <a:pt x="1879" y="1131"/>
                  </a:lnTo>
                  <a:lnTo>
                    <a:pt x="1866" y="1135"/>
                  </a:lnTo>
                  <a:lnTo>
                    <a:pt x="1855" y="1138"/>
                  </a:lnTo>
                  <a:lnTo>
                    <a:pt x="1843" y="1141"/>
                  </a:lnTo>
                  <a:lnTo>
                    <a:pt x="1830" y="1145"/>
                  </a:lnTo>
                  <a:lnTo>
                    <a:pt x="1819" y="1148"/>
                  </a:lnTo>
                  <a:lnTo>
                    <a:pt x="1806" y="1151"/>
                  </a:lnTo>
                  <a:lnTo>
                    <a:pt x="1794" y="1155"/>
                  </a:lnTo>
                  <a:lnTo>
                    <a:pt x="1783" y="1158"/>
                  </a:lnTo>
                  <a:lnTo>
                    <a:pt x="1770" y="1162"/>
                  </a:lnTo>
                  <a:lnTo>
                    <a:pt x="1757" y="1165"/>
                  </a:lnTo>
                  <a:lnTo>
                    <a:pt x="1746" y="1169"/>
                  </a:lnTo>
                  <a:lnTo>
                    <a:pt x="1734" y="1172"/>
                  </a:lnTo>
                  <a:lnTo>
                    <a:pt x="1721" y="1175"/>
                  </a:lnTo>
                  <a:lnTo>
                    <a:pt x="1710" y="1179"/>
                  </a:lnTo>
                  <a:lnTo>
                    <a:pt x="1697" y="1182"/>
                  </a:lnTo>
                  <a:lnTo>
                    <a:pt x="1686" y="1186"/>
                  </a:lnTo>
                  <a:lnTo>
                    <a:pt x="1674" y="1191"/>
                  </a:lnTo>
                  <a:lnTo>
                    <a:pt x="1662" y="1196"/>
                  </a:lnTo>
                  <a:lnTo>
                    <a:pt x="1651" y="1200"/>
                  </a:lnTo>
                  <a:lnTo>
                    <a:pt x="1651" y="1209"/>
                  </a:lnTo>
                  <a:lnTo>
                    <a:pt x="1655" y="1218"/>
                  </a:lnTo>
                  <a:lnTo>
                    <a:pt x="1658" y="1227"/>
                  </a:lnTo>
                  <a:lnTo>
                    <a:pt x="1657" y="1236"/>
                  </a:lnTo>
                  <a:lnTo>
                    <a:pt x="1654" y="1246"/>
                  </a:lnTo>
                  <a:lnTo>
                    <a:pt x="1650" y="1254"/>
                  </a:lnTo>
                  <a:lnTo>
                    <a:pt x="1643" y="1262"/>
                  </a:lnTo>
                  <a:lnTo>
                    <a:pt x="1634" y="1269"/>
                  </a:lnTo>
                  <a:lnTo>
                    <a:pt x="1625" y="1276"/>
                  </a:lnTo>
                  <a:lnTo>
                    <a:pt x="1615" y="1281"/>
                  </a:lnTo>
                  <a:lnTo>
                    <a:pt x="1604" y="1286"/>
                  </a:lnTo>
                  <a:lnTo>
                    <a:pt x="1591" y="1290"/>
                  </a:lnTo>
                  <a:lnTo>
                    <a:pt x="1579" y="1292"/>
                  </a:lnTo>
                  <a:lnTo>
                    <a:pt x="1566" y="1290"/>
                  </a:lnTo>
                  <a:lnTo>
                    <a:pt x="1553" y="1287"/>
                  </a:lnTo>
                  <a:lnTo>
                    <a:pt x="1541" y="1285"/>
                  </a:lnTo>
                  <a:lnTo>
                    <a:pt x="1528" y="1284"/>
                  </a:lnTo>
                  <a:lnTo>
                    <a:pt x="1517" y="1289"/>
                  </a:lnTo>
                  <a:lnTo>
                    <a:pt x="1506" y="1294"/>
                  </a:lnTo>
                  <a:lnTo>
                    <a:pt x="1495" y="1298"/>
                  </a:lnTo>
                  <a:lnTo>
                    <a:pt x="1483" y="1303"/>
                  </a:lnTo>
                  <a:lnTo>
                    <a:pt x="1472" y="1308"/>
                  </a:lnTo>
                  <a:lnTo>
                    <a:pt x="1461" y="1313"/>
                  </a:lnTo>
                  <a:lnTo>
                    <a:pt x="1450" y="1317"/>
                  </a:lnTo>
                  <a:lnTo>
                    <a:pt x="1439" y="1322"/>
                  </a:lnTo>
                  <a:lnTo>
                    <a:pt x="1426" y="1326"/>
                  </a:lnTo>
                  <a:lnTo>
                    <a:pt x="1415" y="1329"/>
                  </a:lnTo>
                  <a:lnTo>
                    <a:pt x="1402" y="1333"/>
                  </a:lnTo>
                  <a:lnTo>
                    <a:pt x="1390" y="1336"/>
                  </a:lnTo>
                  <a:lnTo>
                    <a:pt x="1379" y="1339"/>
                  </a:lnTo>
                  <a:lnTo>
                    <a:pt x="1366" y="1342"/>
                  </a:lnTo>
                  <a:lnTo>
                    <a:pt x="1353" y="1345"/>
                  </a:lnTo>
                  <a:lnTo>
                    <a:pt x="1341" y="1348"/>
                  </a:lnTo>
                  <a:lnTo>
                    <a:pt x="1328" y="1350"/>
                  </a:lnTo>
                  <a:lnTo>
                    <a:pt x="1316" y="1353"/>
                  </a:lnTo>
                  <a:lnTo>
                    <a:pt x="1303" y="1355"/>
                  </a:lnTo>
                  <a:lnTo>
                    <a:pt x="1291" y="1357"/>
                  </a:lnTo>
                  <a:lnTo>
                    <a:pt x="1279" y="1361"/>
                  </a:lnTo>
                  <a:lnTo>
                    <a:pt x="1267" y="1366"/>
                  </a:lnTo>
                  <a:lnTo>
                    <a:pt x="1256" y="1370"/>
                  </a:lnTo>
                  <a:lnTo>
                    <a:pt x="1244" y="1375"/>
                  </a:lnTo>
                  <a:lnTo>
                    <a:pt x="1233" y="1379"/>
                  </a:lnTo>
                  <a:lnTo>
                    <a:pt x="1222" y="1384"/>
                  </a:lnTo>
                  <a:lnTo>
                    <a:pt x="1212" y="1390"/>
                  </a:lnTo>
                  <a:lnTo>
                    <a:pt x="1201" y="1396"/>
                  </a:lnTo>
                  <a:lnTo>
                    <a:pt x="1191" y="1402"/>
                  </a:lnTo>
                  <a:lnTo>
                    <a:pt x="1180" y="1407"/>
                  </a:lnTo>
                  <a:lnTo>
                    <a:pt x="1170" y="1412"/>
                  </a:lnTo>
                  <a:lnTo>
                    <a:pt x="1158" y="1417"/>
                  </a:lnTo>
                  <a:lnTo>
                    <a:pt x="1147" y="1420"/>
                  </a:lnTo>
                  <a:lnTo>
                    <a:pt x="1134" y="1423"/>
                  </a:lnTo>
                  <a:lnTo>
                    <a:pt x="1121" y="1426"/>
                  </a:lnTo>
                  <a:lnTo>
                    <a:pt x="1109" y="1429"/>
                  </a:lnTo>
                  <a:lnTo>
                    <a:pt x="1096" y="1431"/>
                  </a:lnTo>
                  <a:lnTo>
                    <a:pt x="1084" y="1434"/>
                  </a:lnTo>
                  <a:lnTo>
                    <a:pt x="1072" y="1438"/>
                  </a:lnTo>
                  <a:lnTo>
                    <a:pt x="1060" y="1442"/>
                  </a:lnTo>
                  <a:lnTo>
                    <a:pt x="1049" y="1446"/>
                  </a:lnTo>
                  <a:lnTo>
                    <a:pt x="1038" y="1450"/>
                  </a:lnTo>
                  <a:lnTo>
                    <a:pt x="1025" y="1454"/>
                  </a:lnTo>
                  <a:lnTo>
                    <a:pt x="1014" y="1458"/>
                  </a:lnTo>
                  <a:lnTo>
                    <a:pt x="1001" y="1462"/>
                  </a:lnTo>
                  <a:lnTo>
                    <a:pt x="990" y="1466"/>
                  </a:lnTo>
                  <a:lnTo>
                    <a:pt x="977" y="1469"/>
                  </a:lnTo>
                  <a:lnTo>
                    <a:pt x="966" y="1473"/>
                  </a:lnTo>
                  <a:lnTo>
                    <a:pt x="954" y="1478"/>
                  </a:lnTo>
                  <a:lnTo>
                    <a:pt x="941" y="1481"/>
                  </a:lnTo>
                  <a:lnTo>
                    <a:pt x="930" y="1485"/>
                  </a:lnTo>
                  <a:lnTo>
                    <a:pt x="910" y="1491"/>
                  </a:lnTo>
                  <a:lnTo>
                    <a:pt x="896" y="1496"/>
                  </a:lnTo>
                  <a:lnTo>
                    <a:pt x="885" y="1501"/>
                  </a:lnTo>
                  <a:lnTo>
                    <a:pt x="875" y="1507"/>
                  </a:lnTo>
                  <a:lnTo>
                    <a:pt x="864" y="1512"/>
                  </a:lnTo>
                  <a:lnTo>
                    <a:pt x="853" y="1517"/>
                  </a:lnTo>
                  <a:lnTo>
                    <a:pt x="842" y="1522"/>
                  </a:lnTo>
                  <a:lnTo>
                    <a:pt x="831" y="1526"/>
                  </a:lnTo>
                  <a:lnTo>
                    <a:pt x="819" y="1531"/>
                  </a:lnTo>
                  <a:lnTo>
                    <a:pt x="807" y="1533"/>
                  </a:lnTo>
                  <a:lnTo>
                    <a:pt x="794" y="1535"/>
                  </a:lnTo>
                  <a:lnTo>
                    <a:pt x="782" y="1535"/>
                  </a:lnTo>
                  <a:lnTo>
                    <a:pt x="768" y="1534"/>
                  </a:lnTo>
                  <a:lnTo>
                    <a:pt x="755" y="1535"/>
                  </a:lnTo>
                  <a:lnTo>
                    <a:pt x="743" y="1535"/>
                  </a:lnTo>
                  <a:lnTo>
                    <a:pt x="729" y="1536"/>
                  </a:lnTo>
                  <a:lnTo>
                    <a:pt x="706" y="1537"/>
                  </a:lnTo>
                  <a:lnTo>
                    <a:pt x="694" y="1537"/>
                  </a:lnTo>
                  <a:lnTo>
                    <a:pt x="681" y="1537"/>
                  </a:lnTo>
                  <a:lnTo>
                    <a:pt x="667" y="1537"/>
                  </a:lnTo>
                  <a:lnTo>
                    <a:pt x="667" y="1527"/>
                  </a:lnTo>
                  <a:lnTo>
                    <a:pt x="660" y="1520"/>
                  </a:lnTo>
                  <a:lnTo>
                    <a:pt x="652" y="1513"/>
                  </a:lnTo>
                  <a:lnTo>
                    <a:pt x="643" y="1506"/>
                  </a:lnTo>
                  <a:lnTo>
                    <a:pt x="634" y="1499"/>
                  </a:lnTo>
                  <a:lnTo>
                    <a:pt x="621" y="1491"/>
                  </a:lnTo>
                  <a:lnTo>
                    <a:pt x="611" y="1483"/>
                  </a:lnTo>
                  <a:lnTo>
                    <a:pt x="600" y="1477"/>
                  </a:lnTo>
                  <a:lnTo>
                    <a:pt x="590" y="1470"/>
                  </a:lnTo>
                  <a:lnTo>
                    <a:pt x="580" y="1465"/>
                  </a:lnTo>
                  <a:lnTo>
                    <a:pt x="572" y="1458"/>
                  </a:lnTo>
                  <a:lnTo>
                    <a:pt x="562" y="1452"/>
                  </a:lnTo>
                  <a:lnTo>
                    <a:pt x="552" y="1445"/>
                  </a:lnTo>
                  <a:lnTo>
                    <a:pt x="550" y="1437"/>
                  </a:lnTo>
                  <a:lnTo>
                    <a:pt x="545" y="1428"/>
                  </a:lnTo>
                  <a:lnTo>
                    <a:pt x="544" y="1419"/>
                  </a:lnTo>
                  <a:lnTo>
                    <a:pt x="543" y="1410"/>
                  </a:lnTo>
                  <a:lnTo>
                    <a:pt x="538" y="1401"/>
                  </a:lnTo>
                  <a:lnTo>
                    <a:pt x="529" y="1394"/>
                  </a:lnTo>
                  <a:lnTo>
                    <a:pt x="517" y="1391"/>
                  </a:lnTo>
                  <a:lnTo>
                    <a:pt x="508" y="1384"/>
                  </a:lnTo>
                  <a:lnTo>
                    <a:pt x="502" y="1376"/>
                  </a:lnTo>
                  <a:lnTo>
                    <a:pt x="490" y="1372"/>
                  </a:lnTo>
                  <a:lnTo>
                    <a:pt x="483" y="1366"/>
                  </a:lnTo>
                  <a:lnTo>
                    <a:pt x="484" y="1357"/>
                  </a:lnTo>
                  <a:lnTo>
                    <a:pt x="484" y="1348"/>
                  </a:lnTo>
                  <a:lnTo>
                    <a:pt x="485" y="1339"/>
                  </a:lnTo>
                  <a:lnTo>
                    <a:pt x="492" y="1330"/>
                  </a:lnTo>
                  <a:lnTo>
                    <a:pt x="494" y="1321"/>
                  </a:lnTo>
                  <a:lnTo>
                    <a:pt x="505" y="1318"/>
                  </a:lnTo>
                  <a:lnTo>
                    <a:pt x="516" y="1315"/>
                  </a:lnTo>
                  <a:lnTo>
                    <a:pt x="505" y="1313"/>
                  </a:lnTo>
                  <a:lnTo>
                    <a:pt x="497" y="1308"/>
                  </a:lnTo>
                  <a:lnTo>
                    <a:pt x="501" y="1299"/>
                  </a:lnTo>
                  <a:lnTo>
                    <a:pt x="495" y="1290"/>
                  </a:lnTo>
                  <a:lnTo>
                    <a:pt x="484" y="1286"/>
                  </a:lnTo>
                  <a:lnTo>
                    <a:pt x="474" y="1281"/>
                  </a:lnTo>
                  <a:lnTo>
                    <a:pt x="471" y="1272"/>
                  </a:lnTo>
                  <a:lnTo>
                    <a:pt x="483" y="1267"/>
                  </a:lnTo>
                  <a:lnTo>
                    <a:pt x="491" y="1261"/>
                  </a:lnTo>
                  <a:lnTo>
                    <a:pt x="490" y="1251"/>
                  </a:lnTo>
                  <a:lnTo>
                    <a:pt x="485" y="1242"/>
                  </a:lnTo>
                  <a:lnTo>
                    <a:pt x="478" y="1236"/>
                  </a:lnTo>
                  <a:lnTo>
                    <a:pt x="464" y="1234"/>
                  </a:lnTo>
                  <a:lnTo>
                    <a:pt x="456" y="1229"/>
                  </a:lnTo>
                  <a:lnTo>
                    <a:pt x="446" y="1223"/>
                  </a:lnTo>
                  <a:lnTo>
                    <a:pt x="446" y="1213"/>
                  </a:lnTo>
                  <a:lnTo>
                    <a:pt x="445" y="1205"/>
                  </a:lnTo>
                  <a:lnTo>
                    <a:pt x="435" y="1198"/>
                  </a:lnTo>
                  <a:lnTo>
                    <a:pt x="427" y="1193"/>
                  </a:lnTo>
                  <a:lnTo>
                    <a:pt x="417" y="1186"/>
                  </a:lnTo>
                  <a:lnTo>
                    <a:pt x="407" y="1180"/>
                  </a:lnTo>
                  <a:lnTo>
                    <a:pt x="394" y="1180"/>
                  </a:lnTo>
                  <a:lnTo>
                    <a:pt x="382" y="1183"/>
                  </a:lnTo>
                  <a:lnTo>
                    <a:pt x="372" y="1188"/>
                  </a:lnTo>
                  <a:lnTo>
                    <a:pt x="360" y="1190"/>
                  </a:lnTo>
                  <a:lnTo>
                    <a:pt x="347" y="1188"/>
                  </a:lnTo>
                  <a:lnTo>
                    <a:pt x="336" y="1183"/>
                  </a:lnTo>
                  <a:lnTo>
                    <a:pt x="323" y="1183"/>
                  </a:lnTo>
                  <a:lnTo>
                    <a:pt x="311" y="1180"/>
                  </a:lnTo>
                  <a:lnTo>
                    <a:pt x="302" y="1175"/>
                  </a:lnTo>
                  <a:lnTo>
                    <a:pt x="297" y="1166"/>
                  </a:lnTo>
                  <a:lnTo>
                    <a:pt x="294" y="1157"/>
                  </a:lnTo>
                  <a:lnTo>
                    <a:pt x="301" y="1150"/>
                  </a:lnTo>
                  <a:lnTo>
                    <a:pt x="306" y="1143"/>
                  </a:lnTo>
                  <a:lnTo>
                    <a:pt x="313" y="1136"/>
                  </a:lnTo>
                  <a:lnTo>
                    <a:pt x="323" y="1129"/>
                  </a:lnTo>
                  <a:lnTo>
                    <a:pt x="325" y="1120"/>
                  </a:lnTo>
                  <a:lnTo>
                    <a:pt x="322" y="1112"/>
                  </a:lnTo>
                  <a:lnTo>
                    <a:pt x="327" y="1107"/>
                  </a:lnTo>
                  <a:lnTo>
                    <a:pt x="339" y="1102"/>
                  </a:lnTo>
                  <a:lnTo>
                    <a:pt x="340" y="1094"/>
                  </a:lnTo>
                  <a:lnTo>
                    <a:pt x="336" y="1085"/>
                  </a:lnTo>
                  <a:lnTo>
                    <a:pt x="343" y="1082"/>
                  </a:lnTo>
                  <a:lnTo>
                    <a:pt x="336" y="1076"/>
                  </a:lnTo>
                  <a:lnTo>
                    <a:pt x="327" y="1068"/>
                  </a:lnTo>
                  <a:lnTo>
                    <a:pt x="320" y="1060"/>
                  </a:lnTo>
                  <a:lnTo>
                    <a:pt x="311" y="1060"/>
                  </a:lnTo>
                  <a:lnTo>
                    <a:pt x="304" y="1053"/>
                  </a:lnTo>
                  <a:lnTo>
                    <a:pt x="305" y="1044"/>
                  </a:lnTo>
                  <a:lnTo>
                    <a:pt x="301" y="1035"/>
                  </a:lnTo>
                  <a:lnTo>
                    <a:pt x="292" y="1028"/>
                  </a:lnTo>
                  <a:lnTo>
                    <a:pt x="284" y="1021"/>
                  </a:lnTo>
                  <a:lnTo>
                    <a:pt x="273" y="1015"/>
                  </a:lnTo>
                  <a:lnTo>
                    <a:pt x="264" y="1008"/>
                  </a:lnTo>
                  <a:lnTo>
                    <a:pt x="260" y="999"/>
                  </a:lnTo>
                  <a:lnTo>
                    <a:pt x="252" y="1006"/>
                  </a:lnTo>
                  <a:lnTo>
                    <a:pt x="245" y="1013"/>
                  </a:lnTo>
                  <a:lnTo>
                    <a:pt x="232" y="1013"/>
                  </a:lnTo>
                  <a:lnTo>
                    <a:pt x="221" y="1019"/>
                  </a:lnTo>
                  <a:lnTo>
                    <a:pt x="209" y="1020"/>
                  </a:lnTo>
                  <a:lnTo>
                    <a:pt x="203" y="1015"/>
                  </a:lnTo>
                  <a:lnTo>
                    <a:pt x="195" y="1013"/>
                  </a:lnTo>
                  <a:lnTo>
                    <a:pt x="183" y="1012"/>
                  </a:lnTo>
                  <a:lnTo>
                    <a:pt x="171" y="1013"/>
                  </a:lnTo>
                  <a:lnTo>
                    <a:pt x="158" y="1010"/>
                  </a:lnTo>
                  <a:lnTo>
                    <a:pt x="146" y="1007"/>
                  </a:lnTo>
                  <a:lnTo>
                    <a:pt x="136" y="1011"/>
                  </a:lnTo>
                  <a:lnTo>
                    <a:pt x="132" y="1003"/>
                  </a:lnTo>
                  <a:lnTo>
                    <a:pt x="132" y="993"/>
                  </a:lnTo>
                  <a:lnTo>
                    <a:pt x="134" y="984"/>
                  </a:lnTo>
                  <a:lnTo>
                    <a:pt x="126" y="981"/>
                  </a:lnTo>
                  <a:lnTo>
                    <a:pt x="115" y="980"/>
                  </a:lnTo>
                  <a:lnTo>
                    <a:pt x="104" y="976"/>
                  </a:lnTo>
                  <a:lnTo>
                    <a:pt x="94" y="970"/>
                  </a:lnTo>
                  <a:lnTo>
                    <a:pt x="86" y="963"/>
                  </a:lnTo>
                  <a:lnTo>
                    <a:pt x="77" y="955"/>
                  </a:lnTo>
                  <a:lnTo>
                    <a:pt x="70" y="948"/>
                  </a:lnTo>
                  <a:lnTo>
                    <a:pt x="60" y="942"/>
                  </a:lnTo>
                  <a:lnTo>
                    <a:pt x="49" y="937"/>
                  </a:lnTo>
                  <a:lnTo>
                    <a:pt x="39" y="931"/>
                  </a:lnTo>
                  <a:lnTo>
                    <a:pt x="30" y="925"/>
                  </a:lnTo>
                  <a:lnTo>
                    <a:pt x="20" y="919"/>
                  </a:lnTo>
                  <a:lnTo>
                    <a:pt x="10" y="912"/>
                  </a:lnTo>
                  <a:lnTo>
                    <a:pt x="0" y="907"/>
                  </a:lnTo>
                  <a:lnTo>
                    <a:pt x="0" y="892"/>
                  </a:lnTo>
                  <a:lnTo>
                    <a:pt x="3" y="883"/>
                  </a:lnTo>
                  <a:lnTo>
                    <a:pt x="4" y="874"/>
                  </a:lnTo>
                  <a:lnTo>
                    <a:pt x="14" y="871"/>
                  </a:lnTo>
                  <a:lnTo>
                    <a:pt x="27" y="874"/>
                  </a:lnTo>
                  <a:lnTo>
                    <a:pt x="39" y="874"/>
                  </a:lnTo>
                  <a:lnTo>
                    <a:pt x="51" y="869"/>
                  </a:lnTo>
                  <a:lnTo>
                    <a:pt x="62" y="871"/>
                  </a:lnTo>
                  <a:lnTo>
                    <a:pt x="74" y="868"/>
                  </a:lnTo>
                  <a:lnTo>
                    <a:pt x="87" y="865"/>
                  </a:lnTo>
                  <a:lnTo>
                    <a:pt x="98" y="860"/>
                  </a:lnTo>
                  <a:lnTo>
                    <a:pt x="109" y="856"/>
                  </a:lnTo>
                  <a:lnTo>
                    <a:pt x="122" y="853"/>
                  </a:lnTo>
                  <a:lnTo>
                    <a:pt x="132" y="847"/>
                  </a:lnTo>
                  <a:lnTo>
                    <a:pt x="143" y="844"/>
                  </a:lnTo>
                  <a:lnTo>
                    <a:pt x="155" y="845"/>
                  </a:lnTo>
                  <a:lnTo>
                    <a:pt x="165" y="852"/>
                  </a:lnTo>
                  <a:lnTo>
                    <a:pt x="171" y="861"/>
                  </a:lnTo>
                  <a:lnTo>
                    <a:pt x="176" y="855"/>
                  </a:lnTo>
                  <a:lnTo>
                    <a:pt x="183" y="845"/>
                  </a:lnTo>
                  <a:lnTo>
                    <a:pt x="188" y="850"/>
                  </a:lnTo>
                  <a:lnTo>
                    <a:pt x="196" y="857"/>
                  </a:lnTo>
                  <a:lnTo>
                    <a:pt x="206" y="863"/>
                  </a:lnTo>
                  <a:lnTo>
                    <a:pt x="217" y="869"/>
                  </a:lnTo>
                  <a:lnTo>
                    <a:pt x="228" y="873"/>
                  </a:lnTo>
                  <a:lnTo>
                    <a:pt x="241" y="873"/>
                  </a:lnTo>
                  <a:lnTo>
                    <a:pt x="243" y="864"/>
                  </a:lnTo>
                  <a:lnTo>
                    <a:pt x="250" y="857"/>
                  </a:lnTo>
                  <a:lnTo>
                    <a:pt x="260" y="850"/>
                  </a:lnTo>
                  <a:lnTo>
                    <a:pt x="270" y="844"/>
                  </a:lnTo>
                  <a:lnTo>
                    <a:pt x="281" y="840"/>
                  </a:lnTo>
                  <a:lnTo>
                    <a:pt x="283" y="831"/>
                  </a:lnTo>
                  <a:lnTo>
                    <a:pt x="285" y="822"/>
                  </a:lnTo>
                  <a:lnTo>
                    <a:pt x="283" y="813"/>
                  </a:lnTo>
                  <a:lnTo>
                    <a:pt x="277" y="805"/>
                  </a:lnTo>
                  <a:lnTo>
                    <a:pt x="277" y="796"/>
                  </a:lnTo>
                  <a:lnTo>
                    <a:pt x="274" y="786"/>
                  </a:lnTo>
                  <a:lnTo>
                    <a:pt x="281" y="782"/>
                  </a:lnTo>
                  <a:lnTo>
                    <a:pt x="281" y="774"/>
                  </a:lnTo>
                  <a:lnTo>
                    <a:pt x="276" y="765"/>
                  </a:lnTo>
                  <a:lnTo>
                    <a:pt x="271" y="757"/>
                  </a:lnTo>
                  <a:lnTo>
                    <a:pt x="267" y="748"/>
                  </a:lnTo>
                  <a:lnTo>
                    <a:pt x="262" y="740"/>
                  </a:lnTo>
                  <a:lnTo>
                    <a:pt x="256" y="731"/>
                  </a:lnTo>
                  <a:lnTo>
                    <a:pt x="255" y="722"/>
                  </a:lnTo>
                  <a:lnTo>
                    <a:pt x="253" y="712"/>
                  </a:lnTo>
                  <a:lnTo>
                    <a:pt x="250" y="703"/>
                  </a:lnTo>
                  <a:lnTo>
                    <a:pt x="249" y="694"/>
                  </a:lnTo>
                  <a:lnTo>
                    <a:pt x="248" y="685"/>
                  </a:lnTo>
                  <a:lnTo>
                    <a:pt x="246" y="675"/>
                  </a:lnTo>
                  <a:lnTo>
                    <a:pt x="249" y="666"/>
                  </a:lnTo>
                  <a:lnTo>
                    <a:pt x="255" y="657"/>
                  </a:lnTo>
                  <a:lnTo>
                    <a:pt x="263" y="659"/>
                  </a:lnTo>
                  <a:lnTo>
                    <a:pt x="271" y="652"/>
                  </a:lnTo>
                  <a:lnTo>
                    <a:pt x="280" y="645"/>
                  </a:lnTo>
                  <a:lnTo>
                    <a:pt x="281" y="636"/>
                  </a:lnTo>
                  <a:lnTo>
                    <a:pt x="277" y="627"/>
                  </a:lnTo>
                  <a:lnTo>
                    <a:pt x="278" y="618"/>
                  </a:lnTo>
                  <a:lnTo>
                    <a:pt x="277" y="609"/>
                  </a:lnTo>
                  <a:lnTo>
                    <a:pt x="280" y="600"/>
                  </a:lnTo>
                  <a:lnTo>
                    <a:pt x="285" y="591"/>
                  </a:lnTo>
                  <a:lnTo>
                    <a:pt x="290" y="582"/>
                  </a:lnTo>
                  <a:lnTo>
                    <a:pt x="278" y="581"/>
                  </a:lnTo>
                  <a:lnTo>
                    <a:pt x="276" y="574"/>
                  </a:lnTo>
                  <a:lnTo>
                    <a:pt x="283" y="567"/>
                  </a:lnTo>
                  <a:lnTo>
                    <a:pt x="284" y="559"/>
                  </a:lnTo>
                  <a:lnTo>
                    <a:pt x="284" y="548"/>
                  </a:lnTo>
                  <a:lnTo>
                    <a:pt x="284" y="539"/>
                  </a:lnTo>
                  <a:lnTo>
                    <a:pt x="284" y="529"/>
                  </a:lnTo>
                  <a:lnTo>
                    <a:pt x="283" y="520"/>
                  </a:lnTo>
                  <a:lnTo>
                    <a:pt x="283" y="510"/>
                  </a:lnTo>
                  <a:lnTo>
                    <a:pt x="281" y="501"/>
                  </a:lnTo>
                  <a:lnTo>
                    <a:pt x="278" y="491"/>
                  </a:lnTo>
                  <a:lnTo>
                    <a:pt x="277" y="482"/>
                  </a:lnTo>
                  <a:lnTo>
                    <a:pt x="274" y="474"/>
                  </a:lnTo>
                  <a:lnTo>
                    <a:pt x="263" y="472"/>
                  </a:lnTo>
                  <a:lnTo>
                    <a:pt x="260" y="462"/>
                  </a:lnTo>
                  <a:lnTo>
                    <a:pt x="262" y="453"/>
                  </a:lnTo>
                  <a:lnTo>
                    <a:pt x="267" y="444"/>
                  </a:lnTo>
                  <a:lnTo>
                    <a:pt x="273" y="436"/>
                  </a:lnTo>
                  <a:lnTo>
                    <a:pt x="280" y="428"/>
                  </a:lnTo>
                  <a:lnTo>
                    <a:pt x="290" y="436"/>
                  </a:lnTo>
                  <a:lnTo>
                    <a:pt x="298" y="431"/>
                  </a:lnTo>
                  <a:lnTo>
                    <a:pt x="304" y="422"/>
                  </a:lnTo>
                  <a:lnTo>
                    <a:pt x="304" y="413"/>
                  </a:lnTo>
                  <a:lnTo>
                    <a:pt x="306" y="403"/>
                  </a:lnTo>
                  <a:lnTo>
                    <a:pt x="301" y="395"/>
                  </a:lnTo>
                  <a:lnTo>
                    <a:pt x="304" y="387"/>
                  </a:lnTo>
                  <a:lnTo>
                    <a:pt x="309" y="378"/>
                  </a:lnTo>
                  <a:lnTo>
                    <a:pt x="316" y="370"/>
                  </a:lnTo>
                  <a:lnTo>
                    <a:pt x="325" y="363"/>
                  </a:lnTo>
                  <a:lnTo>
                    <a:pt x="336" y="358"/>
                  </a:lnTo>
                  <a:lnTo>
                    <a:pt x="346" y="353"/>
                  </a:lnTo>
                  <a:lnTo>
                    <a:pt x="360" y="351"/>
                  </a:lnTo>
                  <a:lnTo>
                    <a:pt x="372" y="350"/>
                  </a:lnTo>
                  <a:lnTo>
                    <a:pt x="385" y="350"/>
                  </a:lnTo>
                  <a:lnTo>
                    <a:pt x="399" y="350"/>
                  </a:lnTo>
                  <a:lnTo>
                    <a:pt x="411" y="350"/>
                  </a:lnTo>
                  <a:lnTo>
                    <a:pt x="422" y="346"/>
                  </a:lnTo>
                  <a:lnTo>
                    <a:pt x="435" y="341"/>
                  </a:lnTo>
                  <a:lnTo>
                    <a:pt x="446" y="336"/>
                  </a:lnTo>
                  <a:lnTo>
                    <a:pt x="453" y="330"/>
                  </a:lnTo>
                  <a:lnTo>
                    <a:pt x="445" y="322"/>
                  </a:lnTo>
                  <a:lnTo>
                    <a:pt x="435" y="315"/>
                  </a:lnTo>
                  <a:lnTo>
                    <a:pt x="427" y="309"/>
                  </a:lnTo>
                  <a:lnTo>
                    <a:pt x="415" y="302"/>
                  </a:lnTo>
                  <a:lnTo>
                    <a:pt x="406" y="298"/>
                  </a:lnTo>
                  <a:lnTo>
                    <a:pt x="392" y="298"/>
                  </a:lnTo>
                  <a:lnTo>
                    <a:pt x="376" y="295"/>
                  </a:lnTo>
                  <a:lnTo>
                    <a:pt x="365" y="289"/>
                  </a:lnTo>
                  <a:lnTo>
                    <a:pt x="354" y="284"/>
                  </a:lnTo>
                  <a:lnTo>
                    <a:pt x="344" y="278"/>
                  </a:lnTo>
                  <a:lnTo>
                    <a:pt x="333" y="274"/>
                  </a:lnTo>
                  <a:lnTo>
                    <a:pt x="322" y="272"/>
                  </a:lnTo>
                  <a:lnTo>
                    <a:pt x="316" y="263"/>
                  </a:lnTo>
                  <a:lnTo>
                    <a:pt x="309" y="256"/>
                  </a:lnTo>
                  <a:lnTo>
                    <a:pt x="299" y="263"/>
                  </a:lnTo>
                  <a:lnTo>
                    <a:pt x="290" y="257"/>
                  </a:lnTo>
                  <a:lnTo>
                    <a:pt x="280" y="250"/>
                  </a:lnTo>
                  <a:lnTo>
                    <a:pt x="270" y="242"/>
                  </a:lnTo>
                  <a:lnTo>
                    <a:pt x="260" y="234"/>
                  </a:lnTo>
                  <a:lnTo>
                    <a:pt x="253" y="227"/>
                  </a:lnTo>
                  <a:lnTo>
                    <a:pt x="250" y="219"/>
                  </a:lnTo>
                  <a:lnTo>
                    <a:pt x="255" y="213"/>
                  </a:lnTo>
                  <a:lnTo>
                    <a:pt x="269" y="207"/>
                  </a:lnTo>
                  <a:lnTo>
                    <a:pt x="283" y="202"/>
                  </a:lnTo>
                  <a:lnTo>
                    <a:pt x="290" y="197"/>
                  </a:lnTo>
                  <a:lnTo>
                    <a:pt x="277" y="192"/>
                  </a:lnTo>
                  <a:lnTo>
                    <a:pt x="264" y="188"/>
                  </a:lnTo>
                  <a:lnTo>
                    <a:pt x="256" y="181"/>
                  </a:lnTo>
                  <a:lnTo>
                    <a:pt x="249" y="173"/>
                  </a:lnTo>
                  <a:lnTo>
                    <a:pt x="243" y="164"/>
                  </a:lnTo>
                  <a:lnTo>
                    <a:pt x="241" y="156"/>
                  </a:lnTo>
                  <a:lnTo>
                    <a:pt x="237" y="147"/>
                  </a:lnTo>
                  <a:lnTo>
                    <a:pt x="234" y="138"/>
                  </a:lnTo>
                  <a:lnTo>
                    <a:pt x="231" y="128"/>
                  </a:lnTo>
                  <a:lnTo>
                    <a:pt x="224" y="113"/>
                  </a:lnTo>
                  <a:close/>
                </a:path>
              </a:pathLst>
            </a:custGeom>
            <a:solidFill>
              <a:srgbClr val="ffff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6560" y="3740040"/>
              <a:ext cx="1111320" cy="1246320"/>
            </a:xfrm>
            <a:custGeom>
              <a:avLst/>
              <a:gdLst/>
              <a:ahLst/>
              <a:rect l="l" t="t" r="r" b="b"/>
              <a:pathLst>
                <a:path w="2101" h="1572">
                  <a:moveTo>
                    <a:pt x="1434" y="0"/>
                  </a:moveTo>
                  <a:lnTo>
                    <a:pt x="1444" y="5"/>
                  </a:lnTo>
                  <a:lnTo>
                    <a:pt x="1454" y="12"/>
                  </a:lnTo>
                  <a:lnTo>
                    <a:pt x="1464" y="18"/>
                  </a:lnTo>
                  <a:lnTo>
                    <a:pt x="1473" y="24"/>
                  </a:lnTo>
                  <a:lnTo>
                    <a:pt x="1483" y="30"/>
                  </a:lnTo>
                  <a:lnTo>
                    <a:pt x="1494" y="35"/>
                  </a:lnTo>
                  <a:lnTo>
                    <a:pt x="1504" y="41"/>
                  </a:lnTo>
                  <a:lnTo>
                    <a:pt x="1511" y="48"/>
                  </a:lnTo>
                  <a:lnTo>
                    <a:pt x="1520" y="56"/>
                  </a:lnTo>
                  <a:lnTo>
                    <a:pt x="1528" y="63"/>
                  </a:lnTo>
                  <a:lnTo>
                    <a:pt x="1538" y="69"/>
                  </a:lnTo>
                  <a:lnTo>
                    <a:pt x="1549" y="73"/>
                  </a:lnTo>
                  <a:lnTo>
                    <a:pt x="1560" y="74"/>
                  </a:lnTo>
                  <a:lnTo>
                    <a:pt x="1568" y="77"/>
                  </a:lnTo>
                  <a:lnTo>
                    <a:pt x="1566" y="86"/>
                  </a:lnTo>
                  <a:lnTo>
                    <a:pt x="1566" y="96"/>
                  </a:lnTo>
                  <a:lnTo>
                    <a:pt x="1570" y="104"/>
                  </a:lnTo>
                  <a:lnTo>
                    <a:pt x="1580" y="100"/>
                  </a:lnTo>
                  <a:lnTo>
                    <a:pt x="1592" y="103"/>
                  </a:lnTo>
                  <a:lnTo>
                    <a:pt x="1605" y="106"/>
                  </a:lnTo>
                  <a:lnTo>
                    <a:pt x="1617" y="105"/>
                  </a:lnTo>
                  <a:lnTo>
                    <a:pt x="1629" y="106"/>
                  </a:lnTo>
                  <a:lnTo>
                    <a:pt x="1637" y="108"/>
                  </a:lnTo>
                  <a:lnTo>
                    <a:pt x="1643" y="113"/>
                  </a:lnTo>
                  <a:lnTo>
                    <a:pt x="1655" y="112"/>
                  </a:lnTo>
                  <a:lnTo>
                    <a:pt x="1666" y="106"/>
                  </a:lnTo>
                  <a:lnTo>
                    <a:pt x="1679" y="106"/>
                  </a:lnTo>
                  <a:lnTo>
                    <a:pt x="1686" y="99"/>
                  </a:lnTo>
                  <a:lnTo>
                    <a:pt x="1694" y="92"/>
                  </a:lnTo>
                  <a:lnTo>
                    <a:pt x="1698" y="101"/>
                  </a:lnTo>
                  <a:lnTo>
                    <a:pt x="1707" y="108"/>
                  </a:lnTo>
                  <a:lnTo>
                    <a:pt x="1718" y="114"/>
                  </a:lnTo>
                  <a:lnTo>
                    <a:pt x="1726" y="121"/>
                  </a:lnTo>
                  <a:lnTo>
                    <a:pt x="1735" y="128"/>
                  </a:lnTo>
                  <a:lnTo>
                    <a:pt x="1739" y="137"/>
                  </a:lnTo>
                  <a:lnTo>
                    <a:pt x="1738" y="146"/>
                  </a:lnTo>
                  <a:lnTo>
                    <a:pt x="1745" y="153"/>
                  </a:lnTo>
                  <a:lnTo>
                    <a:pt x="1754" y="153"/>
                  </a:lnTo>
                  <a:lnTo>
                    <a:pt x="1761" y="161"/>
                  </a:lnTo>
                  <a:lnTo>
                    <a:pt x="1770" y="169"/>
                  </a:lnTo>
                  <a:lnTo>
                    <a:pt x="1777" y="175"/>
                  </a:lnTo>
                  <a:lnTo>
                    <a:pt x="1770" y="178"/>
                  </a:lnTo>
                  <a:lnTo>
                    <a:pt x="1774" y="187"/>
                  </a:lnTo>
                  <a:lnTo>
                    <a:pt x="1773" y="195"/>
                  </a:lnTo>
                  <a:lnTo>
                    <a:pt x="1761" y="200"/>
                  </a:lnTo>
                  <a:lnTo>
                    <a:pt x="1756" y="205"/>
                  </a:lnTo>
                  <a:lnTo>
                    <a:pt x="1759" y="213"/>
                  </a:lnTo>
                  <a:lnTo>
                    <a:pt x="1757" y="222"/>
                  </a:lnTo>
                  <a:lnTo>
                    <a:pt x="1747" y="229"/>
                  </a:lnTo>
                  <a:lnTo>
                    <a:pt x="1740" y="236"/>
                  </a:lnTo>
                  <a:lnTo>
                    <a:pt x="1735" y="243"/>
                  </a:lnTo>
                  <a:lnTo>
                    <a:pt x="1728" y="250"/>
                  </a:lnTo>
                  <a:lnTo>
                    <a:pt x="1731" y="259"/>
                  </a:lnTo>
                  <a:lnTo>
                    <a:pt x="1736" y="268"/>
                  </a:lnTo>
                  <a:lnTo>
                    <a:pt x="1745" y="273"/>
                  </a:lnTo>
                  <a:lnTo>
                    <a:pt x="1757" y="276"/>
                  </a:lnTo>
                  <a:lnTo>
                    <a:pt x="1770" y="276"/>
                  </a:lnTo>
                  <a:lnTo>
                    <a:pt x="1781" y="281"/>
                  </a:lnTo>
                  <a:lnTo>
                    <a:pt x="1794" y="283"/>
                  </a:lnTo>
                  <a:lnTo>
                    <a:pt x="1806" y="281"/>
                  </a:lnTo>
                  <a:lnTo>
                    <a:pt x="1816" y="276"/>
                  </a:lnTo>
                  <a:lnTo>
                    <a:pt x="1828" y="273"/>
                  </a:lnTo>
                  <a:lnTo>
                    <a:pt x="1841" y="273"/>
                  </a:lnTo>
                  <a:lnTo>
                    <a:pt x="1851" y="279"/>
                  </a:lnTo>
                  <a:lnTo>
                    <a:pt x="1861" y="286"/>
                  </a:lnTo>
                  <a:lnTo>
                    <a:pt x="1869" y="291"/>
                  </a:lnTo>
                  <a:lnTo>
                    <a:pt x="1879" y="298"/>
                  </a:lnTo>
                  <a:lnTo>
                    <a:pt x="1880" y="306"/>
                  </a:lnTo>
                  <a:lnTo>
                    <a:pt x="1880" y="316"/>
                  </a:lnTo>
                  <a:lnTo>
                    <a:pt x="1890" y="322"/>
                  </a:lnTo>
                  <a:lnTo>
                    <a:pt x="1898" y="327"/>
                  </a:lnTo>
                  <a:lnTo>
                    <a:pt x="1912" y="329"/>
                  </a:lnTo>
                  <a:lnTo>
                    <a:pt x="1919" y="335"/>
                  </a:lnTo>
                  <a:lnTo>
                    <a:pt x="1924" y="344"/>
                  </a:lnTo>
                  <a:lnTo>
                    <a:pt x="1925" y="354"/>
                  </a:lnTo>
                  <a:lnTo>
                    <a:pt x="1917" y="360"/>
                  </a:lnTo>
                  <a:lnTo>
                    <a:pt x="1905" y="365"/>
                  </a:lnTo>
                  <a:lnTo>
                    <a:pt x="1908" y="374"/>
                  </a:lnTo>
                  <a:lnTo>
                    <a:pt x="1918" y="379"/>
                  </a:lnTo>
                  <a:lnTo>
                    <a:pt x="1929" y="383"/>
                  </a:lnTo>
                  <a:lnTo>
                    <a:pt x="1935" y="392"/>
                  </a:lnTo>
                  <a:lnTo>
                    <a:pt x="1931" y="401"/>
                  </a:lnTo>
                  <a:lnTo>
                    <a:pt x="1939" y="406"/>
                  </a:lnTo>
                  <a:lnTo>
                    <a:pt x="1950" y="408"/>
                  </a:lnTo>
                  <a:lnTo>
                    <a:pt x="1939" y="411"/>
                  </a:lnTo>
                  <a:lnTo>
                    <a:pt x="1928" y="414"/>
                  </a:lnTo>
                  <a:lnTo>
                    <a:pt x="1926" y="423"/>
                  </a:lnTo>
                  <a:lnTo>
                    <a:pt x="1919" y="432"/>
                  </a:lnTo>
                  <a:lnTo>
                    <a:pt x="1918" y="441"/>
                  </a:lnTo>
                  <a:lnTo>
                    <a:pt x="1918" y="450"/>
                  </a:lnTo>
                  <a:lnTo>
                    <a:pt x="1917" y="459"/>
                  </a:lnTo>
                  <a:lnTo>
                    <a:pt x="1924" y="465"/>
                  </a:lnTo>
                  <a:lnTo>
                    <a:pt x="1936" y="469"/>
                  </a:lnTo>
                  <a:lnTo>
                    <a:pt x="1942" y="477"/>
                  </a:lnTo>
                  <a:lnTo>
                    <a:pt x="1951" y="484"/>
                  </a:lnTo>
                  <a:lnTo>
                    <a:pt x="1963" y="487"/>
                  </a:lnTo>
                  <a:lnTo>
                    <a:pt x="1972" y="494"/>
                  </a:lnTo>
                  <a:lnTo>
                    <a:pt x="1977" y="503"/>
                  </a:lnTo>
                  <a:lnTo>
                    <a:pt x="1978" y="512"/>
                  </a:lnTo>
                  <a:lnTo>
                    <a:pt x="1979" y="521"/>
                  </a:lnTo>
                  <a:lnTo>
                    <a:pt x="1984" y="530"/>
                  </a:lnTo>
                  <a:lnTo>
                    <a:pt x="1986" y="538"/>
                  </a:lnTo>
                  <a:lnTo>
                    <a:pt x="1996" y="545"/>
                  </a:lnTo>
                  <a:lnTo>
                    <a:pt x="2006" y="551"/>
                  </a:lnTo>
                  <a:lnTo>
                    <a:pt x="2014" y="558"/>
                  </a:lnTo>
                  <a:lnTo>
                    <a:pt x="2024" y="563"/>
                  </a:lnTo>
                  <a:lnTo>
                    <a:pt x="2034" y="570"/>
                  </a:lnTo>
                  <a:lnTo>
                    <a:pt x="2045" y="576"/>
                  </a:lnTo>
                  <a:lnTo>
                    <a:pt x="2055" y="584"/>
                  </a:lnTo>
                  <a:lnTo>
                    <a:pt x="2068" y="592"/>
                  </a:lnTo>
                  <a:lnTo>
                    <a:pt x="2077" y="599"/>
                  </a:lnTo>
                  <a:lnTo>
                    <a:pt x="2086" y="606"/>
                  </a:lnTo>
                  <a:lnTo>
                    <a:pt x="2094" y="613"/>
                  </a:lnTo>
                  <a:lnTo>
                    <a:pt x="2101" y="620"/>
                  </a:lnTo>
                  <a:lnTo>
                    <a:pt x="2101" y="630"/>
                  </a:lnTo>
                  <a:lnTo>
                    <a:pt x="2083" y="632"/>
                  </a:lnTo>
                  <a:lnTo>
                    <a:pt x="2070" y="634"/>
                  </a:lnTo>
                  <a:lnTo>
                    <a:pt x="2058" y="637"/>
                  </a:lnTo>
                  <a:lnTo>
                    <a:pt x="2047" y="641"/>
                  </a:lnTo>
                  <a:lnTo>
                    <a:pt x="2035" y="646"/>
                  </a:lnTo>
                  <a:lnTo>
                    <a:pt x="2026" y="652"/>
                  </a:lnTo>
                  <a:lnTo>
                    <a:pt x="2016" y="659"/>
                  </a:lnTo>
                  <a:lnTo>
                    <a:pt x="2005" y="664"/>
                  </a:lnTo>
                  <a:lnTo>
                    <a:pt x="1993" y="667"/>
                  </a:lnTo>
                  <a:lnTo>
                    <a:pt x="1979" y="668"/>
                  </a:lnTo>
                  <a:lnTo>
                    <a:pt x="1967" y="667"/>
                  </a:lnTo>
                  <a:lnTo>
                    <a:pt x="1954" y="667"/>
                  </a:lnTo>
                  <a:lnTo>
                    <a:pt x="1942" y="666"/>
                  </a:lnTo>
                  <a:lnTo>
                    <a:pt x="1928" y="665"/>
                  </a:lnTo>
                  <a:lnTo>
                    <a:pt x="1915" y="663"/>
                  </a:lnTo>
                  <a:lnTo>
                    <a:pt x="1903" y="662"/>
                  </a:lnTo>
                  <a:lnTo>
                    <a:pt x="1890" y="660"/>
                  </a:lnTo>
                  <a:lnTo>
                    <a:pt x="1877" y="657"/>
                  </a:lnTo>
                  <a:lnTo>
                    <a:pt x="1865" y="653"/>
                  </a:lnTo>
                  <a:lnTo>
                    <a:pt x="1852" y="653"/>
                  </a:lnTo>
                  <a:lnTo>
                    <a:pt x="1840" y="653"/>
                  </a:lnTo>
                  <a:lnTo>
                    <a:pt x="1826" y="654"/>
                  </a:lnTo>
                  <a:lnTo>
                    <a:pt x="1813" y="654"/>
                  </a:lnTo>
                  <a:lnTo>
                    <a:pt x="1803" y="658"/>
                  </a:lnTo>
                  <a:lnTo>
                    <a:pt x="1801" y="666"/>
                  </a:lnTo>
                  <a:lnTo>
                    <a:pt x="1796" y="675"/>
                  </a:lnTo>
                  <a:lnTo>
                    <a:pt x="1795" y="685"/>
                  </a:lnTo>
                  <a:lnTo>
                    <a:pt x="1792" y="694"/>
                  </a:lnTo>
                  <a:lnTo>
                    <a:pt x="1789" y="703"/>
                  </a:lnTo>
                  <a:lnTo>
                    <a:pt x="1787" y="713"/>
                  </a:lnTo>
                  <a:lnTo>
                    <a:pt x="1785" y="722"/>
                  </a:lnTo>
                  <a:lnTo>
                    <a:pt x="1782" y="732"/>
                  </a:lnTo>
                  <a:lnTo>
                    <a:pt x="1781" y="741"/>
                  </a:lnTo>
                  <a:lnTo>
                    <a:pt x="1778" y="750"/>
                  </a:lnTo>
                  <a:lnTo>
                    <a:pt x="1773" y="758"/>
                  </a:lnTo>
                  <a:lnTo>
                    <a:pt x="1764" y="764"/>
                  </a:lnTo>
                  <a:lnTo>
                    <a:pt x="1752" y="769"/>
                  </a:lnTo>
                  <a:lnTo>
                    <a:pt x="1740" y="774"/>
                  </a:lnTo>
                  <a:lnTo>
                    <a:pt x="1729" y="779"/>
                  </a:lnTo>
                  <a:lnTo>
                    <a:pt x="1718" y="785"/>
                  </a:lnTo>
                  <a:lnTo>
                    <a:pt x="1710" y="791"/>
                  </a:lnTo>
                  <a:lnTo>
                    <a:pt x="1704" y="799"/>
                  </a:lnTo>
                  <a:lnTo>
                    <a:pt x="1700" y="808"/>
                  </a:lnTo>
                  <a:lnTo>
                    <a:pt x="1697" y="817"/>
                  </a:lnTo>
                  <a:lnTo>
                    <a:pt x="1694" y="827"/>
                  </a:lnTo>
                  <a:lnTo>
                    <a:pt x="1691" y="836"/>
                  </a:lnTo>
                  <a:lnTo>
                    <a:pt x="1690" y="845"/>
                  </a:lnTo>
                  <a:lnTo>
                    <a:pt x="1689" y="854"/>
                  </a:lnTo>
                  <a:lnTo>
                    <a:pt x="1687" y="864"/>
                  </a:lnTo>
                  <a:lnTo>
                    <a:pt x="1686" y="873"/>
                  </a:lnTo>
                  <a:lnTo>
                    <a:pt x="1684" y="882"/>
                  </a:lnTo>
                  <a:lnTo>
                    <a:pt x="1683" y="891"/>
                  </a:lnTo>
                  <a:lnTo>
                    <a:pt x="1683" y="901"/>
                  </a:lnTo>
                  <a:lnTo>
                    <a:pt x="1682" y="910"/>
                  </a:lnTo>
                  <a:lnTo>
                    <a:pt x="1682" y="919"/>
                  </a:lnTo>
                  <a:lnTo>
                    <a:pt x="1682" y="929"/>
                  </a:lnTo>
                  <a:lnTo>
                    <a:pt x="1683" y="938"/>
                  </a:lnTo>
                  <a:lnTo>
                    <a:pt x="1683" y="947"/>
                  </a:lnTo>
                  <a:lnTo>
                    <a:pt x="1684" y="957"/>
                  </a:lnTo>
                  <a:lnTo>
                    <a:pt x="1686" y="966"/>
                  </a:lnTo>
                  <a:lnTo>
                    <a:pt x="1687" y="975"/>
                  </a:lnTo>
                  <a:lnTo>
                    <a:pt x="1689" y="984"/>
                  </a:lnTo>
                  <a:lnTo>
                    <a:pt x="1690" y="994"/>
                  </a:lnTo>
                  <a:lnTo>
                    <a:pt x="1690" y="1003"/>
                  </a:lnTo>
                  <a:lnTo>
                    <a:pt x="1691" y="1012"/>
                  </a:lnTo>
                  <a:lnTo>
                    <a:pt x="1691" y="1022"/>
                  </a:lnTo>
                  <a:lnTo>
                    <a:pt x="1693" y="1032"/>
                  </a:lnTo>
                  <a:lnTo>
                    <a:pt x="1693" y="1041"/>
                  </a:lnTo>
                  <a:lnTo>
                    <a:pt x="1694" y="1051"/>
                  </a:lnTo>
                  <a:lnTo>
                    <a:pt x="1694" y="1060"/>
                  </a:lnTo>
                  <a:lnTo>
                    <a:pt x="1694" y="1069"/>
                  </a:lnTo>
                  <a:lnTo>
                    <a:pt x="1696" y="1079"/>
                  </a:lnTo>
                  <a:lnTo>
                    <a:pt x="1696" y="1088"/>
                  </a:lnTo>
                  <a:lnTo>
                    <a:pt x="1696" y="1097"/>
                  </a:lnTo>
                  <a:lnTo>
                    <a:pt x="1696" y="1107"/>
                  </a:lnTo>
                  <a:lnTo>
                    <a:pt x="1696" y="1116"/>
                  </a:lnTo>
                  <a:lnTo>
                    <a:pt x="1697" y="1125"/>
                  </a:lnTo>
                  <a:lnTo>
                    <a:pt x="1693" y="1134"/>
                  </a:lnTo>
                  <a:lnTo>
                    <a:pt x="1686" y="1142"/>
                  </a:lnTo>
                  <a:lnTo>
                    <a:pt x="1679" y="1150"/>
                  </a:lnTo>
                  <a:lnTo>
                    <a:pt x="1669" y="1156"/>
                  </a:lnTo>
                  <a:lnTo>
                    <a:pt x="1655" y="1155"/>
                  </a:lnTo>
                  <a:lnTo>
                    <a:pt x="1650" y="1162"/>
                  </a:lnTo>
                  <a:lnTo>
                    <a:pt x="1647" y="1172"/>
                  </a:lnTo>
                  <a:lnTo>
                    <a:pt x="1637" y="1171"/>
                  </a:lnTo>
                  <a:lnTo>
                    <a:pt x="1630" y="1166"/>
                  </a:lnTo>
                  <a:lnTo>
                    <a:pt x="1624" y="1171"/>
                  </a:lnTo>
                  <a:lnTo>
                    <a:pt x="1624" y="1182"/>
                  </a:lnTo>
                  <a:lnTo>
                    <a:pt x="1623" y="1191"/>
                  </a:lnTo>
                  <a:lnTo>
                    <a:pt x="1622" y="1200"/>
                  </a:lnTo>
                  <a:lnTo>
                    <a:pt x="1627" y="1209"/>
                  </a:lnTo>
                  <a:lnTo>
                    <a:pt x="1631" y="1218"/>
                  </a:lnTo>
                  <a:lnTo>
                    <a:pt x="1630" y="1227"/>
                  </a:lnTo>
                  <a:lnTo>
                    <a:pt x="1630" y="1236"/>
                  </a:lnTo>
                  <a:lnTo>
                    <a:pt x="1629" y="1246"/>
                  </a:lnTo>
                  <a:lnTo>
                    <a:pt x="1629" y="1255"/>
                  </a:lnTo>
                  <a:lnTo>
                    <a:pt x="1623" y="1263"/>
                  </a:lnTo>
                  <a:lnTo>
                    <a:pt x="1619" y="1272"/>
                  </a:lnTo>
                  <a:lnTo>
                    <a:pt x="1616" y="1281"/>
                  </a:lnTo>
                  <a:lnTo>
                    <a:pt x="1613" y="1290"/>
                  </a:lnTo>
                  <a:lnTo>
                    <a:pt x="1601" y="1290"/>
                  </a:lnTo>
                  <a:lnTo>
                    <a:pt x="1589" y="1286"/>
                  </a:lnTo>
                  <a:lnTo>
                    <a:pt x="1577" y="1288"/>
                  </a:lnTo>
                  <a:lnTo>
                    <a:pt x="1564" y="1289"/>
                  </a:lnTo>
                  <a:lnTo>
                    <a:pt x="1550" y="1291"/>
                  </a:lnTo>
                  <a:lnTo>
                    <a:pt x="1538" y="1293"/>
                  </a:lnTo>
                  <a:lnTo>
                    <a:pt x="1524" y="1293"/>
                  </a:lnTo>
                  <a:lnTo>
                    <a:pt x="1518" y="1300"/>
                  </a:lnTo>
                  <a:lnTo>
                    <a:pt x="1517" y="1310"/>
                  </a:lnTo>
                  <a:lnTo>
                    <a:pt x="1517" y="1319"/>
                  </a:lnTo>
                  <a:lnTo>
                    <a:pt x="1518" y="1328"/>
                  </a:lnTo>
                  <a:lnTo>
                    <a:pt x="1514" y="1335"/>
                  </a:lnTo>
                  <a:lnTo>
                    <a:pt x="1503" y="1339"/>
                  </a:lnTo>
                  <a:lnTo>
                    <a:pt x="1490" y="1341"/>
                  </a:lnTo>
                  <a:lnTo>
                    <a:pt x="1478" y="1338"/>
                  </a:lnTo>
                  <a:lnTo>
                    <a:pt x="1465" y="1338"/>
                  </a:lnTo>
                  <a:lnTo>
                    <a:pt x="1464" y="1329"/>
                  </a:lnTo>
                  <a:lnTo>
                    <a:pt x="1462" y="1321"/>
                  </a:lnTo>
                  <a:lnTo>
                    <a:pt x="1448" y="1321"/>
                  </a:lnTo>
                  <a:lnTo>
                    <a:pt x="1438" y="1315"/>
                  </a:lnTo>
                  <a:lnTo>
                    <a:pt x="1430" y="1309"/>
                  </a:lnTo>
                  <a:lnTo>
                    <a:pt x="1416" y="1308"/>
                  </a:lnTo>
                  <a:lnTo>
                    <a:pt x="1405" y="1312"/>
                  </a:lnTo>
                  <a:lnTo>
                    <a:pt x="1398" y="1319"/>
                  </a:lnTo>
                  <a:lnTo>
                    <a:pt x="1395" y="1328"/>
                  </a:lnTo>
                  <a:lnTo>
                    <a:pt x="1395" y="1338"/>
                  </a:lnTo>
                  <a:lnTo>
                    <a:pt x="1387" y="1342"/>
                  </a:lnTo>
                  <a:lnTo>
                    <a:pt x="1376" y="1347"/>
                  </a:lnTo>
                  <a:lnTo>
                    <a:pt x="1367" y="1343"/>
                  </a:lnTo>
                  <a:lnTo>
                    <a:pt x="1357" y="1339"/>
                  </a:lnTo>
                  <a:lnTo>
                    <a:pt x="1349" y="1332"/>
                  </a:lnTo>
                  <a:lnTo>
                    <a:pt x="1345" y="1324"/>
                  </a:lnTo>
                  <a:lnTo>
                    <a:pt x="1345" y="1315"/>
                  </a:lnTo>
                  <a:lnTo>
                    <a:pt x="1334" y="1317"/>
                  </a:lnTo>
                  <a:lnTo>
                    <a:pt x="1321" y="1316"/>
                  </a:lnTo>
                  <a:lnTo>
                    <a:pt x="1311" y="1319"/>
                  </a:lnTo>
                  <a:lnTo>
                    <a:pt x="1311" y="1329"/>
                  </a:lnTo>
                  <a:lnTo>
                    <a:pt x="1303" y="1337"/>
                  </a:lnTo>
                  <a:lnTo>
                    <a:pt x="1296" y="1344"/>
                  </a:lnTo>
                  <a:lnTo>
                    <a:pt x="1296" y="1354"/>
                  </a:lnTo>
                  <a:lnTo>
                    <a:pt x="1296" y="1362"/>
                  </a:lnTo>
                  <a:lnTo>
                    <a:pt x="1304" y="1369"/>
                  </a:lnTo>
                  <a:lnTo>
                    <a:pt x="1317" y="1373"/>
                  </a:lnTo>
                  <a:lnTo>
                    <a:pt x="1321" y="1379"/>
                  </a:lnTo>
                  <a:lnTo>
                    <a:pt x="1324" y="1387"/>
                  </a:lnTo>
                  <a:lnTo>
                    <a:pt x="1325" y="1396"/>
                  </a:lnTo>
                  <a:lnTo>
                    <a:pt x="1321" y="1405"/>
                  </a:lnTo>
                  <a:lnTo>
                    <a:pt x="1327" y="1413"/>
                  </a:lnTo>
                  <a:lnTo>
                    <a:pt x="1339" y="1414"/>
                  </a:lnTo>
                  <a:lnTo>
                    <a:pt x="1339" y="1422"/>
                  </a:lnTo>
                  <a:lnTo>
                    <a:pt x="1342" y="1431"/>
                  </a:lnTo>
                  <a:lnTo>
                    <a:pt x="1345" y="1440"/>
                  </a:lnTo>
                  <a:lnTo>
                    <a:pt x="1348" y="1449"/>
                  </a:lnTo>
                  <a:lnTo>
                    <a:pt x="1350" y="1458"/>
                  </a:lnTo>
                  <a:lnTo>
                    <a:pt x="1352" y="1468"/>
                  </a:lnTo>
                  <a:lnTo>
                    <a:pt x="1350" y="1476"/>
                  </a:lnTo>
                  <a:lnTo>
                    <a:pt x="1336" y="1474"/>
                  </a:lnTo>
                  <a:lnTo>
                    <a:pt x="1325" y="1476"/>
                  </a:lnTo>
                  <a:lnTo>
                    <a:pt x="1320" y="1486"/>
                  </a:lnTo>
                  <a:lnTo>
                    <a:pt x="1314" y="1494"/>
                  </a:lnTo>
                  <a:lnTo>
                    <a:pt x="1304" y="1499"/>
                  </a:lnTo>
                  <a:lnTo>
                    <a:pt x="1304" y="1509"/>
                  </a:lnTo>
                  <a:lnTo>
                    <a:pt x="1310" y="1518"/>
                  </a:lnTo>
                  <a:lnTo>
                    <a:pt x="1311" y="1526"/>
                  </a:lnTo>
                  <a:lnTo>
                    <a:pt x="1299" y="1529"/>
                  </a:lnTo>
                  <a:lnTo>
                    <a:pt x="1286" y="1532"/>
                  </a:lnTo>
                  <a:lnTo>
                    <a:pt x="1282" y="1540"/>
                  </a:lnTo>
                  <a:lnTo>
                    <a:pt x="1269" y="1543"/>
                  </a:lnTo>
                  <a:lnTo>
                    <a:pt x="1261" y="1547"/>
                  </a:lnTo>
                  <a:lnTo>
                    <a:pt x="1253" y="1544"/>
                  </a:lnTo>
                  <a:lnTo>
                    <a:pt x="1246" y="1537"/>
                  </a:lnTo>
                  <a:lnTo>
                    <a:pt x="1233" y="1539"/>
                  </a:lnTo>
                  <a:lnTo>
                    <a:pt x="1230" y="1530"/>
                  </a:lnTo>
                  <a:lnTo>
                    <a:pt x="1220" y="1532"/>
                  </a:lnTo>
                  <a:lnTo>
                    <a:pt x="1211" y="1534"/>
                  </a:lnTo>
                  <a:lnTo>
                    <a:pt x="1204" y="1526"/>
                  </a:lnTo>
                  <a:lnTo>
                    <a:pt x="1195" y="1532"/>
                  </a:lnTo>
                  <a:lnTo>
                    <a:pt x="1191" y="1541"/>
                  </a:lnTo>
                  <a:lnTo>
                    <a:pt x="1183" y="1549"/>
                  </a:lnTo>
                  <a:lnTo>
                    <a:pt x="1171" y="1547"/>
                  </a:lnTo>
                  <a:lnTo>
                    <a:pt x="1157" y="1546"/>
                  </a:lnTo>
                  <a:lnTo>
                    <a:pt x="1150" y="1552"/>
                  </a:lnTo>
                  <a:lnTo>
                    <a:pt x="1145" y="1559"/>
                  </a:lnTo>
                  <a:lnTo>
                    <a:pt x="1141" y="1567"/>
                  </a:lnTo>
                  <a:lnTo>
                    <a:pt x="1128" y="1570"/>
                  </a:lnTo>
                  <a:lnTo>
                    <a:pt x="1118" y="1572"/>
                  </a:lnTo>
                  <a:lnTo>
                    <a:pt x="1110" y="1572"/>
                  </a:lnTo>
                  <a:lnTo>
                    <a:pt x="1106" y="1569"/>
                  </a:lnTo>
                  <a:lnTo>
                    <a:pt x="1107" y="1560"/>
                  </a:lnTo>
                  <a:lnTo>
                    <a:pt x="1107" y="1552"/>
                  </a:lnTo>
                  <a:lnTo>
                    <a:pt x="1100" y="1546"/>
                  </a:lnTo>
                  <a:lnTo>
                    <a:pt x="1103" y="1537"/>
                  </a:lnTo>
                  <a:lnTo>
                    <a:pt x="1106" y="1527"/>
                  </a:lnTo>
                  <a:lnTo>
                    <a:pt x="1102" y="1520"/>
                  </a:lnTo>
                  <a:lnTo>
                    <a:pt x="1088" y="1519"/>
                  </a:lnTo>
                  <a:lnTo>
                    <a:pt x="1075" y="1522"/>
                  </a:lnTo>
                  <a:lnTo>
                    <a:pt x="1062" y="1523"/>
                  </a:lnTo>
                  <a:lnTo>
                    <a:pt x="1048" y="1524"/>
                  </a:lnTo>
                  <a:lnTo>
                    <a:pt x="1037" y="1527"/>
                  </a:lnTo>
                  <a:lnTo>
                    <a:pt x="1025" y="1528"/>
                  </a:lnTo>
                  <a:lnTo>
                    <a:pt x="1015" y="1522"/>
                  </a:lnTo>
                  <a:lnTo>
                    <a:pt x="1004" y="1517"/>
                  </a:lnTo>
                  <a:lnTo>
                    <a:pt x="998" y="1508"/>
                  </a:lnTo>
                  <a:lnTo>
                    <a:pt x="1000" y="1499"/>
                  </a:lnTo>
                  <a:lnTo>
                    <a:pt x="990" y="1497"/>
                  </a:lnTo>
                  <a:lnTo>
                    <a:pt x="997" y="1487"/>
                  </a:lnTo>
                  <a:lnTo>
                    <a:pt x="981" y="1488"/>
                  </a:lnTo>
                  <a:lnTo>
                    <a:pt x="988" y="1481"/>
                  </a:lnTo>
                  <a:lnTo>
                    <a:pt x="994" y="1472"/>
                  </a:lnTo>
                  <a:lnTo>
                    <a:pt x="983" y="1471"/>
                  </a:lnTo>
                  <a:lnTo>
                    <a:pt x="977" y="1465"/>
                  </a:lnTo>
                  <a:lnTo>
                    <a:pt x="981" y="1456"/>
                  </a:lnTo>
                  <a:lnTo>
                    <a:pt x="970" y="1453"/>
                  </a:lnTo>
                  <a:lnTo>
                    <a:pt x="958" y="1449"/>
                  </a:lnTo>
                  <a:lnTo>
                    <a:pt x="963" y="1442"/>
                  </a:lnTo>
                  <a:lnTo>
                    <a:pt x="967" y="1434"/>
                  </a:lnTo>
                  <a:lnTo>
                    <a:pt x="958" y="1432"/>
                  </a:lnTo>
                  <a:lnTo>
                    <a:pt x="946" y="1436"/>
                  </a:lnTo>
                  <a:lnTo>
                    <a:pt x="935" y="1430"/>
                  </a:lnTo>
                  <a:lnTo>
                    <a:pt x="937" y="1420"/>
                  </a:lnTo>
                  <a:lnTo>
                    <a:pt x="930" y="1413"/>
                  </a:lnTo>
                  <a:lnTo>
                    <a:pt x="917" y="1411"/>
                  </a:lnTo>
                  <a:lnTo>
                    <a:pt x="907" y="1407"/>
                  </a:lnTo>
                  <a:lnTo>
                    <a:pt x="914" y="1399"/>
                  </a:lnTo>
                  <a:lnTo>
                    <a:pt x="913" y="1391"/>
                  </a:lnTo>
                  <a:lnTo>
                    <a:pt x="900" y="1390"/>
                  </a:lnTo>
                  <a:lnTo>
                    <a:pt x="897" y="1399"/>
                  </a:lnTo>
                  <a:lnTo>
                    <a:pt x="888" y="1404"/>
                  </a:lnTo>
                  <a:lnTo>
                    <a:pt x="885" y="1395"/>
                  </a:lnTo>
                  <a:lnTo>
                    <a:pt x="876" y="1392"/>
                  </a:lnTo>
                  <a:lnTo>
                    <a:pt x="868" y="1397"/>
                  </a:lnTo>
                  <a:lnTo>
                    <a:pt x="860" y="1391"/>
                  </a:lnTo>
                  <a:lnTo>
                    <a:pt x="856" y="1383"/>
                  </a:lnTo>
                  <a:lnTo>
                    <a:pt x="843" y="1382"/>
                  </a:lnTo>
                  <a:lnTo>
                    <a:pt x="843" y="1372"/>
                  </a:lnTo>
                  <a:lnTo>
                    <a:pt x="837" y="1364"/>
                  </a:lnTo>
                  <a:lnTo>
                    <a:pt x="825" y="1362"/>
                  </a:lnTo>
                  <a:lnTo>
                    <a:pt x="812" y="1363"/>
                  </a:lnTo>
                  <a:lnTo>
                    <a:pt x="802" y="1369"/>
                  </a:lnTo>
                  <a:lnTo>
                    <a:pt x="794" y="1377"/>
                  </a:lnTo>
                  <a:lnTo>
                    <a:pt x="786" y="1373"/>
                  </a:lnTo>
                  <a:lnTo>
                    <a:pt x="780" y="1364"/>
                  </a:lnTo>
                  <a:lnTo>
                    <a:pt x="770" y="1366"/>
                  </a:lnTo>
                  <a:lnTo>
                    <a:pt x="765" y="1375"/>
                  </a:lnTo>
                  <a:lnTo>
                    <a:pt x="753" y="1376"/>
                  </a:lnTo>
                  <a:lnTo>
                    <a:pt x="751" y="1367"/>
                  </a:lnTo>
                  <a:lnTo>
                    <a:pt x="746" y="1358"/>
                  </a:lnTo>
                  <a:lnTo>
                    <a:pt x="734" y="1359"/>
                  </a:lnTo>
                  <a:lnTo>
                    <a:pt x="723" y="1363"/>
                  </a:lnTo>
                  <a:lnTo>
                    <a:pt x="714" y="1356"/>
                  </a:lnTo>
                  <a:lnTo>
                    <a:pt x="714" y="1346"/>
                  </a:lnTo>
                  <a:lnTo>
                    <a:pt x="717" y="1337"/>
                  </a:lnTo>
                  <a:lnTo>
                    <a:pt x="709" y="1331"/>
                  </a:lnTo>
                  <a:lnTo>
                    <a:pt x="695" y="1330"/>
                  </a:lnTo>
                  <a:lnTo>
                    <a:pt x="685" y="1336"/>
                  </a:lnTo>
                  <a:lnTo>
                    <a:pt x="682" y="1345"/>
                  </a:lnTo>
                  <a:lnTo>
                    <a:pt x="674" y="1349"/>
                  </a:lnTo>
                  <a:lnTo>
                    <a:pt x="670" y="1340"/>
                  </a:lnTo>
                  <a:lnTo>
                    <a:pt x="665" y="1332"/>
                  </a:lnTo>
                  <a:lnTo>
                    <a:pt x="654" y="1326"/>
                  </a:lnTo>
                  <a:lnTo>
                    <a:pt x="647" y="1319"/>
                  </a:lnTo>
                  <a:lnTo>
                    <a:pt x="643" y="1310"/>
                  </a:lnTo>
                  <a:lnTo>
                    <a:pt x="637" y="1302"/>
                  </a:lnTo>
                  <a:lnTo>
                    <a:pt x="630" y="1294"/>
                  </a:lnTo>
                  <a:lnTo>
                    <a:pt x="623" y="1286"/>
                  </a:lnTo>
                  <a:lnTo>
                    <a:pt x="618" y="1277"/>
                  </a:lnTo>
                  <a:lnTo>
                    <a:pt x="614" y="1269"/>
                  </a:lnTo>
                  <a:lnTo>
                    <a:pt x="608" y="1260"/>
                  </a:lnTo>
                  <a:lnTo>
                    <a:pt x="604" y="1251"/>
                  </a:lnTo>
                  <a:lnTo>
                    <a:pt x="597" y="1244"/>
                  </a:lnTo>
                  <a:lnTo>
                    <a:pt x="591" y="1236"/>
                  </a:lnTo>
                  <a:lnTo>
                    <a:pt x="587" y="1227"/>
                  </a:lnTo>
                  <a:lnTo>
                    <a:pt x="575" y="1229"/>
                  </a:lnTo>
                  <a:lnTo>
                    <a:pt x="565" y="1235"/>
                  </a:lnTo>
                  <a:lnTo>
                    <a:pt x="556" y="1231"/>
                  </a:lnTo>
                  <a:lnTo>
                    <a:pt x="565" y="1225"/>
                  </a:lnTo>
                  <a:lnTo>
                    <a:pt x="575" y="1219"/>
                  </a:lnTo>
                  <a:lnTo>
                    <a:pt x="573" y="1210"/>
                  </a:lnTo>
                  <a:lnTo>
                    <a:pt x="565" y="1203"/>
                  </a:lnTo>
                  <a:lnTo>
                    <a:pt x="554" y="1199"/>
                  </a:lnTo>
                  <a:lnTo>
                    <a:pt x="541" y="1197"/>
                  </a:lnTo>
                  <a:lnTo>
                    <a:pt x="528" y="1196"/>
                  </a:lnTo>
                  <a:lnTo>
                    <a:pt x="516" y="1194"/>
                  </a:lnTo>
                  <a:lnTo>
                    <a:pt x="506" y="1200"/>
                  </a:lnTo>
                  <a:lnTo>
                    <a:pt x="499" y="1194"/>
                  </a:lnTo>
                  <a:lnTo>
                    <a:pt x="493" y="1186"/>
                  </a:lnTo>
                  <a:lnTo>
                    <a:pt x="484" y="1190"/>
                  </a:lnTo>
                  <a:lnTo>
                    <a:pt x="474" y="1189"/>
                  </a:lnTo>
                  <a:lnTo>
                    <a:pt x="465" y="1183"/>
                  </a:lnTo>
                  <a:lnTo>
                    <a:pt x="461" y="1175"/>
                  </a:lnTo>
                  <a:lnTo>
                    <a:pt x="453" y="1167"/>
                  </a:lnTo>
                  <a:lnTo>
                    <a:pt x="440" y="1167"/>
                  </a:lnTo>
                  <a:lnTo>
                    <a:pt x="426" y="1168"/>
                  </a:lnTo>
                  <a:lnTo>
                    <a:pt x="414" y="1166"/>
                  </a:lnTo>
                  <a:lnTo>
                    <a:pt x="405" y="1159"/>
                  </a:lnTo>
                  <a:lnTo>
                    <a:pt x="396" y="1154"/>
                  </a:lnTo>
                  <a:lnTo>
                    <a:pt x="383" y="1151"/>
                  </a:lnTo>
                  <a:lnTo>
                    <a:pt x="387" y="1143"/>
                  </a:lnTo>
                  <a:lnTo>
                    <a:pt x="379" y="1138"/>
                  </a:lnTo>
                  <a:lnTo>
                    <a:pt x="366" y="1135"/>
                  </a:lnTo>
                  <a:lnTo>
                    <a:pt x="354" y="1133"/>
                  </a:lnTo>
                  <a:lnTo>
                    <a:pt x="341" y="1130"/>
                  </a:lnTo>
                  <a:lnTo>
                    <a:pt x="330" y="1125"/>
                  </a:lnTo>
                  <a:lnTo>
                    <a:pt x="322" y="1118"/>
                  </a:lnTo>
                  <a:lnTo>
                    <a:pt x="312" y="1112"/>
                  </a:lnTo>
                  <a:lnTo>
                    <a:pt x="301" y="1106"/>
                  </a:lnTo>
                  <a:lnTo>
                    <a:pt x="296" y="1100"/>
                  </a:lnTo>
                  <a:lnTo>
                    <a:pt x="308" y="1100"/>
                  </a:lnTo>
                  <a:lnTo>
                    <a:pt x="315" y="1092"/>
                  </a:lnTo>
                  <a:lnTo>
                    <a:pt x="313" y="1085"/>
                  </a:lnTo>
                  <a:lnTo>
                    <a:pt x="299" y="1083"/>
                  </a:lnTo>
                  <a:lnTo>
                    <a:pt x="298" y="1074"/>
                  </a:lnTo>
                  <a:lnTo>
                    <a:pt x="306" y="1069"/>
                  </a:lnTo>
                  <a:lnTo>
                    <a:pt x="309" y="1056"/>
                  </a:lnTo>
                  <a:lnTo>
                    <a:pt x="312" y="1049"/>
                  </a:lnTo>
                  <a:lnTo>
                    <a:pt x="305" y="1042"/>
                  </a:lnTo>
                  <a:lnTo>
                    <a:pt x="291" y="1043"/>
                  </a:lnTo>
                  <a:lnTo>
                    <a:pt x="285" y="1035"/>
                  </a:lnTo>
                  <a:lnTo>
                    <a:pt x="285" y="1026"/>
                  </a:lnTo>
                  <a:lnTo>
                    <a:pt x="289" y="1018"/>
                  </a:lnTo>
                  <a:lnTo>
                    <a:pt x="289" y="1008"/>
                  </a:lnTo>
                  <a:lnTo>
                    <a:pt x="285" y="1000"/>
                  </a:lnTo>
                  <a:lnTo>
                    <a:pt x="280" y="991"/>
                  </a:lnTo>
                  <a:lnTo>
                    <a:pt x="274" y="983"/>
                  </a:lnTo>
                  <a:lnTo>
                    <a:pt x="264" y="980"/>
                  </a:lnTo>
                  <a:lnTo>
                    <a:pt x="253" y="984"/>
                  </a:lnTo>
                  <a:lnTo>
                    <a:pt x="242" y="984"/>
                  </a:lnTo>
                  <a:lnTo>
                    <a:pt x="238" y="977"/>
                  </a:lnTo>
                  <a:lnTo>
                    <a:pt x="224" y="976"/>
                  </a:lnTo>
                  <a:lnTo>
                    <a:pt x="218" y="971"/>
                  </a:lnTo>
                  <a:lnTo>
                    <a:pt x="218" y="961"/>
                  </a:lnTo>
                  <a:lnTo>
                    <a:pt x="221" y="953"/>
                  </a:lnTo>
                  <a:lnTo>
                    <a:pt x="217" y="945"/>
                  </a:lnTo>
                  <a:lnTo>
                    <a:pt x="211" y="936"/>
                  </a:lnTo>
                  <a:lnTo>
                    <a:pt x="203" y="930"/>
                  </a:lnTo>
                  <a:lnTo>
                    <a:pt x="193" y="934"/>
                  </a:lnTo>
                  <a:lnTo>
                    <a:pt x="187" y="925"/>
                  </a:lnTo>
                  <a:lnTo>
                    <a:pt x="183" y="916"/>
                  </a:lnTo>
                  <a:lnTo>
                    <a:pt x="175" y="909"/>
                  </a:lnTo>
                  <a:lnTo>
                    <a:pt x="166" y="904"/>
                  </a:lnTo>
                  <a:lnTo>
                    <a:pt x="158" y="897"/>
                  </a:lnTo>
                  <a:lnTo>
                    <a:pt x="152" y="889"/>
                  </a:lnTo>
                  <a:lnTo>
                    <a:pt x="150" y="880"/>
                  </a:lnTo>
                  <a:lnTo>
                    <a:pt x="137" y="877"/>
                  </a:lnTo>
                  <a:lnTo>
                    <a:pt x="113" y="874"/>
                  </a:lnTo>
                  <a:lnTo>
                    <a:pt x="102" y="872"/>
                  </a:lnTo>
                  <a:lnTo>
                    <a:pt x="96" y="864"/>
                  </a:lnTo>
                  <a:lnTo>
                    <a:pt x="92" y="855"/>
                  </a:lnTo>
                  <a:lnTo>
                    <a:pt x="88" y="846"/>
                  </a:lnTo>
                  <a:lnTo>
                    <a:pt x="78" y="839"/>
                  </a:lnTo>
                  <a:lnTo>
                    <a:pt x="68" y="834"/>
                  </a:lnTo>
                  <a:lnTo>
                    <a:pt x="56" y="831"/>
                  </a:lnTo>
                  <a:lnTo>
                    <a:pt x="43" y="830"/>
                  </a:lnTo>
                  <a:lnTo>
                    <a:pt x="42" y="821"/>
                  </a:lnTo>
                  <a:lnTo>
                    <a:pt x="42" y="814"/>
                  </a:lnTo>
                  <a:lnTo>
                    <a:pt x="32" y="807"/>
                  </a:lnTo>
                  <a:lnTo>
                    <a:pt x="31" y="798"/>
                  </a:lnTo>
                  <a:lnTo>
                    <a:pt x="32" y="789"/>
                  </a:lnTo>
                  <a:lnTo>
                    <a:pt x="45" y="786"/>
                  </a:lnTo>
                  <a:lnTo>
                    <a:pt x="48" y="778"/>
                  </a:lnTo>
                  <a:lnTo>
                    <a:pt x="48" y="769"/>
                  </a:lnTo>
                  <a:lnTo>
                    <a:pt x="59" y="768"/>
                  </a:lnTo>
                  <a:lnTo>
                    <a:pt x="68" y="774"/>
                  </a:lnTo>
                  <a:lnTo>
                    <a:pt x="74" y="779"/>
                  </a:lnTo>
                  <a:lnTo>
                    <a:pt x="87" y="778"/>
                  </a:lnTo>
                  <a:lnTo>
                    <a:pt x="101" y="781"/>
                  </a:lnTo>
                  <a:lnTo>
                    <a:pt x="103" y="773"/>
                  </a:lnTo>
                  <a:lnTo>
                    <a:pt x="103" y="765"/>
                  </a:lnTo>
                  <a:lnTo>
                    <a:pt x="113" y="759"/>
                  </a:lnTo>
                  <a:lnTo>
                    <a:pt x="110" y="751"/>
                  </a:lnTo>
                  <a:lnTo>
                    <a:pt x="106" y="744"/>
                  </a:lnTo>
                  <a:lnTo>
                    <a:pt x="116" y="739"/>
                  </a:lnTo>
                  <a:lnTo>
                    <a:pt x="106" y="736"/>
                  </a:lnTo>
                  <a:lnTo>
                    <a:pt x="112" y="727"/>
                  </a:lnTo>
                  <a:lnTo>
                    <a:pt x="115" y="718"/>
                  </a:lnTo>
                  <a:lnTo>
                    <a:pt x="122" y="710"/>
                  </a:lnTo>
                  <a:lnTo>
                    <a:pt x="113" y="705"/>
                  </a:lnTo>
                  <a:lnTo>
                    <a:pt x="101" y="703"/>
                  </a:lnTo>
                  <a:lnTo>
                    <a:pt x="88" y="703"/>
                  </a:lnTo>
                  <a:lnTo>
                    <a:pt x="75" y="699"/>
                  </a:lnTo>
                  <a:lnTo>
                    <a:pt x="63" y="699"/>
                  </a:lnTo>
                  <a:lnTo>
                    <a:pt x="50" y="699"/>
                  </a:lnTo>
                  <a:lnTo>
                    <a:pt x="36" y="698"/>
                  </a:lnTo>
                  <a:lnTo>
                    <a:pt x="25" y="695"/>
                  </a:lnTo>
                  <a:lnTo>
                    <a:pt x="14" y="689"/>
                  </a:lnTo>
                  <a:lnTo>
                    <a:pt x="3" y="684"/>
                  </a:lnTo>
                  <a:lnTo>
                    <a:pt x="10" y="679"/>
                  </a:lnTo>
                  <a:lnTo>
                    <a:pt x="24" y="673"/>
                  </a:lnTo>
                  <a:lnTo>
                    <a:pt x="28" y="665"/>
                  </a:lnTo>
                  <a:lnTo>
                    <a:pt x="20" y="659"/>
                  </a:lnTo>
                  <a:lnTo>
                    <a:pt x="14" y="652"/>
                  </a:lnTo>
                  <a:lnTo>
                    <a:pt x="6" y="649"/>
                  </a:lnTo>
                  <a:lnTo>
                    <a:pt x="17" y="639"/>
                  </a:lnTo>
                  <a:lnTo>
                    <a:pt x="21" y="631"/>
                  </a:lnTo>
                  <a:lnTo>
                    <a:pt x="28" y="623"/>
                  </a:lnTo>
                  <a:lnTo>
                    <a:pt x="38" y="616"/>
                  </a:lnTo>
                  <a:lnTo>
                    <a:pt x="49" y="611"/>
                  </a:lnTo>
                  <a:lnTo>
                    <a:pt x="57" y="605"/>
                  </a:lnTo>
                  <a:lnTo>
                    <a:pt x="55" y="596"/>
                  </a:lnTo>
                  <a:lnTo>
                    <a:pt x="50" y="584"/>
                  </a:lnTo>
                  <a:lnTo>
                    <a:pt x="49" y="576"/>
                  </a:lnTo>
                  <a:lnTo>
                    <a:pt x="57" y="567"/>
                  </a:lnTo>
                  <a:lnTo>
                    <a:pt x="59" y="559"/>
                  </a:lnTo>
                  <a:lnTo>
                    <a:pt x="71" y="561"/>
                  </a:lnTo>
                  <a:lnTo>
                    <a:pt x="81" y="555"/>
                  </a:lnTo>
                  <a:lnTo>
                    <a:pt x="84" y="547"/>
                  </a:lnTo>
                  <a:lnTo>
                    <a:pt x="81" y="538"/>
                  </a:lnTo>
                  <a:lnTo>
                    <a:pt x="68" y="536"/>
                  </a:lnTo>
                  <a:lnTo>
                    <a:pt x="57" y="538"/>
                  </a:lnTo>
                  <a:lnTo>
                    <a:pt x="46" y="536"/>
                  </a:lnTo>
                  <a:lnTo>
                    <a:pt x="35" y="541"/>
                  </a:lnTo>
                  <a:lnTo>
                    <a:pt x="24" y="547"/>
                  </a:lnTo>
                  <a:lnTo>
                    <a:pt x="13" y="548"/>
                  </a:lnTo>
                  <a:lnTo>
                    <a:pt x="3" y="541"/>
                  </a:lnTo>
                  <a:lnTo>
                    <a:pt x="0" y="532"/>
                  </a:lnTo>
                  <a:lnTo>
                    <a:pt x="6" y="525"/>
                  </a:lnTo>
                  <a:lnTo>
                    <a:pt x="20" y="526"/>
                  </a:lnTo>
                  <a:lnTo>
                    <a:pt x="31" y="526"/>
                  </a:lnTo>
                  <a:lnTo>
                    <a:pt x="35" y="519"/>
                  </a:lnTo>
                  <a:lnTo>
                    <a:pt x="43" y="515"/>
                  </a:lnTo>
                  <a:lnTo>
                    <a:pt x="56" y="514"/>
                  </a:lnTo>
                  <a:lnTo>
                    <a:pt x="66" y="511"/>
                  </a:lnTo>
                  <a:lnTo>
                    <a:pt x="78" y="511"/>
                  </a:lnTo>
                  <a:lnTo>
                    <a:pt x="92" y="513"/>
                  </a:lnTo>
                  <a:lnTo>
                    <a:pt x="101" y="520"/>
                  </a:lnTo>
                  <a:lnTo>
                    <a:pt x="112" y="525"/>
                  </a:lnTo>
                  <a:lnTo>
                    <a:pt x="123" y="522"/>
                  </a:lnTo>
                  <a:lnTo>
                    <a:pt x="134" y="527"/>
                  </a:lnTo>
                  <a:lnTo>
                    <a:pt x="144" y="534"/>
                  </a:lnTo>
                  <a:lnTo>
                    <a:pt x="154" y="539"/>
                  </a:lnTo>
                  <a:lnTo>
                    <a:pt x="161" y="530"/>
                  </a:lnTo>
                  <a:lnTo>
                    <a:pt x="173" y="528"/>
                  </a:lnTo>
                  <a:lnTo>
                    <a:pt x="185" y="524"/>
                  </a:lnTo>
                  <a:lnTo>
                    <a:pt x="197" y="520"/>
                  </a:lnTo>
                  <a:lnTo>
                    <a:pt x="210" y="518"/>
                  </a:lnTo>
                  <a:lnTo>
                    <a:pt x="219" y="512"/>
                  </a:lnTo>
                  <a:lnTo>
                    <a:pt x="232" y="508"/>
                  </a:lnTo>
                  <a:lnTo>
                    <a:pt x="240" y="502"/>
                  </a:lnTo>
                  <a:lnTo>
                    <a:pt x="253" y="499"/>
                  </a:lnTo>
                  <a:lnTo>
                    <a:pt x="264" y="493"/>
                  </a:lnTo>
                  <a:lnTo>
                    <a:pt x="273" y="487"/>
                  </a:lnTo>
                  <a:lnTo>
                    <a:pt x="282" y="481"/>
                  </a:lnTo>
                  <a:lnTo>
                    <a:pt x="287" y="472"/>
                  </a:lnTo>
                  <a:lnTo>
                    <a:pt x="289" y="462"/>
                  </a:lnTo>
                  <a:lnTo>
                    <a:pt x="287" y="457"/>
                  </a:lnTo>
                  <a:lnTo>
                    <a:pt x="289" y="447"/>
                  </a:lnTo>
                  <a:lnTo>
                    <a:pt x="288" y="438"/>
                  </a:lnTo>
                  <a:lnTo>
                    <a:pt x="284" y="429"/>
                  </a:lnTo>
                  <a:lnTo>
                    <a:pt x="278" y="422"/>
                  </a:lnTo>
                  <a:lnTo>
                    <a:pt x="291" y="419"/>
                  </a:lnTo>
                  <a:lnTo>
                    <a:pt x="303" y="417"/>
                  </a:lnTo>
                  <a:lnTo>
                    <a:pt x="315" y="412"/>
                  </a:lnTo>
                  <a:lnTo>
                    <a:pt x="327" y="409"/>
                  </a:lnTo>
                  <a:lnTo>
                    <a:pt x="340" y="407"/>
                  </a:lnTo>
                  <a:lnTo>
                    <a:pt x="352" y="406"/>
                  </a:lnTo>
                  <a:lnTo>
                    <a:pt x="365" y="408"/>
                  </a:lnTo>
                  <a:lnTo>
                    <a:pt x="377" y="412"/>
                  </a:lnTo>
                  <a:lnTo>
                    <a:pt x="389" y="415"/>
                  </a:lnTo>
                  <a:lnTo>
                    <a:pt x="391" y="406"/>
                  </a:lnTo>
                  <a:lnTo>
                    <a:pt x="401" y="399"/>
                  </a:lnTo>
                  <a:lnTo>
                    <a:pt x="401" y="390"/>
                  </a:lnTo>
                  <a:lnTo>
                    <a:pt x="403" y="381"/>
                  </a:lnTo>
                  <a:lnTo>
                    <a:pt x="412" y="377"/>
                  </a:lnTo>
                  <a:lnTo>
                    <a:pt x="412" y="367"/>
                  </a:lnTo>
                  <a:lnTo>
                    <a:pt x="412" y="357"/>
                  </a:lnTo>
                  <a:lnTo>
                    <a:pt x="419" y="351"/>
                  </a:lnTo>
                  <a:lnTo>
                    <a:pt x="432" y="350"/>
                  </a:lnTo>
                  <a:lnTo>
                    <a:pt x="445" y="347"/>
                  </a:lnTo>
                  <a:lnTo>
                    <a:pt x="453" y="341"/>
                  </a:lnTo>
                  <a:lnTo>
                    <a:pt x="453" y="331"/>
                  </a:lnTo>
                  <a:lnTo>
                    <a:pt x="456" y="322"/>
                  </a:lnTo>
                  <a:lnTo>
                    <a:pt x="459" y="313"/>
                  </a:lnTo>
                  <a:lnTo>
                    <a:pt x="465" y="305"/>
                  </a:lnTo>
                  <a:lnTo>
                    <a:pt x="475" y="299"/>
                  </a:lnTo>
                  <a:lnTo>
                    <a:pt x="486" y="293"/>
                  </a:lnTo>
                  <a:lnTo>
                    <a:pt x="496" y="287"/>
                  </a:lnTo>
                  <a:lnTo>
                    <a:pt x="505" y="280"/>
                  </a:lnTo>
                  <a:lnTo>
                    <a:pt x="513" y="273"/>
                  </a:lnTo>
                  <a:lnTo>
                    <a:pt x="521" y="266"/>
                  </a:lnTo>
                  <a:lnTo>
                    <a:pt x="530" y="259"/>
                  </a:lnTo>
                  <a:lnTo>
                    <a:pt x="537" y="251"/>
                  </a:lnTo>
                  <a:lnTo>
                    <a:pt x="541" y="242"/>
                  </a:lnTo>
                  <a:lnTo>
                    <a:pt x="549" y="238"/>
                  </a:lnTo>
                  <a:lnTo>
                    <a:pt x="562" y="242"/>
                  </a:lnTo>
                  <a:lnTo>
                    <a:pt x="575" y="245"/>
                  </a:lnTo>
                  <a:lnTo>
                    <a:pt x="587" y="247"/>
                  </a:lnTo>
                  <a:lnTo>
                    <a:pt x="596" y="242"/>
                  </a:lnTo>
                  <a:lnTo>
                    <a:pt x="607" y="238"/>
                  </a:lnTo>
                  <a:lnTo>
                    <a:pt x="615" y="231"/>
                  </a:lnTo>
                  <a:lnTo>
                    <a:pt x="621" y="222"/>
                  </a:lnTo>
                  <a:lnTo>
                    <a:pt x="630" y="222"/>
                  </a:lnTo>
                  <a:lnTo>
                    <a:pt x="643" y="222"/>
                  </a:lnTo>
                  <a:lnTo>
                    <a:pt x="654" y="217"/>
                  </a:lnTo>
                  <a:lnTo>
                    <a:pt x="664" y="219"/>
                  </a:lnTo>
                  <a:lnTo>
                    <a:pt x="674" y="225"/>
                  </a:lnTo>
                  <a:lnTo>
                    <a:pt x="684" y="231"/>
                  </a:lnTo>
                  <a:lnTo>
                    <a:pt x="692" y="232"/>
                  </a:lnTo>
                  <a:lnTo>
                    <a:pt x="706" y="231"/>
                  </a:lnTo>
                  <a:lnTo>
                    <a:pt x="719" y="232"/>
                  </a:lnTo>
                  <a:lnTo>
                    <a:pt x="732" y="231"/>
                  </a:lnTo>
                  <a:lnTo>
                    <a:pt x="745" y="230"/>
                  </a:lnTo>
                  <a:lnTo>
                    <a:pt x="756" y="226"/>
                  </a:lnTo>
                  <a:lnTo>
                    <a:pt x="769" y="229"/>
                  </a:lnTo>
                  <a:lnTo>
                    <a:pt x="781" y="230"/>
                  </a:lnTo>
                  <a:lnTo>
                    <a:pt x="794" y="233"/>
                  </a:lnTo>
                  <a:lnTo>
                    <a:pt x="808" y="235"/>
                  </a:lnTo>
                  <a:lnTo>
                    <a:pt x="821" y="236"/>
                  </a:lnTo>
                  <a:lnTo>
                    <a:pt x="833" y="238"/>
                  </a:lnTo>
                  <a:lnTo>
                    <a:pt x="840" y="245"/>
                  </a:lnTo>
                  <a:lnTo>
                    <a:pt x="849" y="238"/>
                  </a:lnTo>
                  <a:lnTo>
                    <a:pt x="856" y="230"/>
                  </a:lnTo>
                  <a:lnTo>
                    <a:pt x="856" y="220"/>
                  </a:lnTo>
                  <a:lnTo>
                    <a:pt x="857" y="211"/>
                  </a:lnTo>
                  <a:lnTo>
                    <a:pt x="856" y="201"/>
                  </a:lnTo>
                  <a:lnTo>
                    <a:pt x="864" y="196"/>
                  </a:lnTo>
                  <a:lnTo>
                    <a:pt x="876" y="194"/>
                  </a:lnTo>
                  <a:lnTo>
                    <a:pt x="890" y="193"/>
                  </a:lnTo>
                  <a:lnTo>
                    <a:pt x="911" y="195"/>
                  </a:lnTo>
                  <a:lnTo>
                    <a:pt x="917" y="191"/>
                  </a:lnTo>
                  <a:lnTo>
                    <a:pt x="917" y="181"/>
                  </a:lnTo>
                  <a:lnTo>
                    <a:pt x="917" y="172"/>
                  </a:lnTo>
                  <a:lnTo>
                    <a:pt x="918" y="163"/>
                  </a:lnTo>
                  <a:lnTo>
                    <a:pt x="918" y="153"/>
                  </a:lnTo>
                  <a:lnTo>
                    <a:pt x="930" y="148"/>
                  </a:lnTo>
                  <a:lnTo>
                    <a:pt x="939" y="142"/>
                  </a:lnTo>
                  <a:lnTo>
                    <a:pt x="948" y="136"/>
                  </a:lnTo>
                  <a:lnTo>
                    <a:pt x="959" y="135"/>
                  </a:lnTo>
                  <a:lnTo>
                    <a:pt x="970" y="139"/>
                  </a:lnTo>
                  <a:lnTo>
                    <a:pt x="977" y="147"/>
                  </a:lnTo>
                  <a:lnTo>
                    <a:pt x="983" y="154"/>
                  </a:lnTo>
                  <a:lnTo>
                    <a:pt x="997" y="152"/>
                  </a:lnTo>
                  <a:lnTo>
                    <a:pt x="1009" y="151"/>
                  </a:lnTo>
                  <a:lnTo>
                    <a:pt x="1020" y="151"/>
                  </a:lnTo>
                  <a:lnTo>
                    <a:pt x="1029" y="153"/>
                  </a:lnTo>
                  <a:lnTo>
                    <a:pt x="1040" y="156"/>
                  </a:lnTo>
                  <a:lnTo>
                    <a:pt x="1053" y="154"/>
                  </a:lnTo>
                  <a:lnTo>
                    <a:pt x="1064" y="150"/>
                  </a:lnTo>
                  <a:lnTo>
                    <a:pt x="1076" y="146"/>
                  </a:lnTo>
                  <a:lnTo>
                    <a:pt x="1089" y="146"/>
                  </a:lnTo>
                  <a:lnTo>
                    <a:pt x="1100" y="152"/>
                  </a:lnTo>
                  <a:lnTo>
                    <a:pt x="1111" y="151"/>
                  </a:lnTo>
                  <a:lnTo>
                    <a:pt x="1120" y="156"/>
                  </a:lnTo>
                  <a:lnTo>
                    <a:pt x="1125" y="164"/>
                  </a:lnTo>
                  <a:lnTo>
                    <a:pt x="1130" y="172"/>
                  </a:lnTo>
                  <a:lnTo>
                    <a:pt x="1138" y="173"/>
                  </a:lnTo>
                  <a:lnTo>
                    <a:pt x="1152" y="173"/>
                  </a:lnTo>
                  <a:lnTo>
                    <a:pt x="1164" y="176"/>
                  </a:lnTo>
                  <a:lnTo>
                    <a:pt x="1177" y="177"/>
                  </a:lnTo>
                  <a:lnTo>
                    <a:pt x="1190" y="177"/>
                  </a:lnTo>
                  <a:lnTo>
                    <a:pt x="1204" y="177"/>
                  </a:lnTo>
                  <a:lnTo>
                    <a:pt x="1216" y="178"/>
                  </a:lnTo>
                  <a:lnTo>
                    <a:pt x="1229" y="178"/>
                  </a:lnTo>
                  <a:lnTo>
                    <a:pt x="1243" y="177"/>
                  </a:lnTo>
                  <a:lnTo>
                    <a:pt x="1250" y="170"/>
                  </a:lnTo>
                  <a:lnTo>
                    <a:pt x="1260" y="169"/>
                  </a:lnTo>
                  <a:lnTo>
                    <a:pt x="1265" y="167"/>
                  </a:lnTo>
                  <a:lnTo>
                    <a:pt x="1261" y="159"/>
                  </a:lnTo>
                  <a:lnTo>
                    <a:pt x="1257" y="149"/>
                  </a:lnTo>
                  <a:lnTo>
                    <a:pt x="1254" y="140"/>
                  </a:lnTo>
                  <a:lnTo>
                    <a:pt x="1264" y="136"/>
                  </a:lnTo>
                  <a:lnTo>
                    <a:pt x="1273" y="131"/>
                  </a:lnTo>
                  <a:lnTo>
                    <a:pt x="1282" y="123"/>
                  </a:lnTo>
                  <a:lnTo>
                    <a:pt x="1292" y="118"/>
                  </a:lnTo>
                  <a:lnTo>
                    <a:pt x="1304" y="116"/>
                  </a:lnTo>
                  <a:lnTo>
                    <a:pt x="1310" y="107"/>
                  </a:lnTo>
                  <a:lnTo>
                    <a:pt x="1317" y="98"/>
                  </a:lnTo>
                  <a:lnTo>
                    <a:pt x="1314" y="90"/>
                  </a:lnTo>
                  <a:lnTo>
                    <a:pt x="1307" y="83"/>
                  </a:lnTo>
                  <a:lnTo>
                    <a:pt x="1303" y="74"/>
                  </a:lnTo>
                  <a:lnTo>
                    <a:pt x="1306" y="65"/>
                  </a:lnTo>
                  <a:lnTo>
                    <a:pt x="1307" y="56"/>
                  </a:lnTo>
                  <a:lnTo>
                    <a:pt x="1304" y="47"/>
                  </a:lnTo>
                  <a:lnTo>
                    <a:pt x="1299" y="39"/>
                  </a:lnTo>
                  <a:lnTo>
                    <a:pt x="1290" y="31"/>
                  </a:lnTo>
                  <a:lnTo>
                    <a:pt x="1293" y="24"/>
                  </a:lnTo>
                  <a:lnTo>
                    <a:pt x="1301" y="19"/>
                  </a:lnTo>
                  <a:lnTo>
                    <a:pt x="1310" y="12"/>
                  </a:lnTo>
                  <a:lnTo>
                    <a:pt x="1321" y="10"/>
                  </a:lnTo>
                  <a:lnTo>
                    <a:pt x="1329" y="17"/>
                  </a:lnTo>
                  <a:lnTo>
                    <a:pt x="1341" y="18"/>
                  </a:lnTo>
                  <a:lnTo>
                    <a:pt x="1353" y="15"/>
                  </a:lnTo>
                  <a:lnTo>
                    <a:pt x="1363" y="14"/>
                  </a:lnTo>
                  <a:lnTo>
                    <a:pt x="1369" y="23"/>
                  </a:lnTo>
                  <a:lnTo>
                    <a:pt x="1370" y="32"/>
                  </a:lnTo>
                  <a:lnTo>
                    <a:pt x="1369" y="42"/>
                  </a:lnTo>
                  <a:lnTo>
                    <a:pt x="1374" y="46"/>
                  </a:lnTo>
                  <a:lnTo>
                    <a:pt x="1385" y="44"/>
                  </a:lnTo>
                  <a:lnTo>
                    <a:pt x="1395" y="37"/>
                  </a:lnTo>
                  <a:lnTo>
                    <a:pt x="1406" y="40"/>
                  </a:lnTo>
                  <a:lnTo>
                    <a:pt x="1419" y="44"/>
                  </a:lnTo>
                  <a:lnTo>
                    <a:pt x="1429" y="50"/>
                  </a:lnTo>
                  <a:lnTo>
                    <a:pt x="1436" y="44"/>
                  </a:lnTo>
                  <a:lnTo>
                    <a:pt x="1433" y="35"/>
                  </a:lnTo>
                  <a:lnTo>
                    <a:pt x="1431" y="26"/>
                  </a:lnTo>
                  <a:lnTo>
                    <a:pt x="1431" y="17"/>
                  </a:lnTo>
                  <a:lnTo>
                    <a:pt x="1434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62120" y="3741840"/>
              <a:ext cx="977760" cy="573120"/>
            </a:xfrm>
            <a:custGeom>
              <a:avLst/>
              <a:gdLst/>
              <a:ahLst/>
              <a:rect l="l" t="t" r="r" b="b"/>
              <a:pathLst>
                <a:path w="1848" h="722">
                  <a:moveTo>
                    <a:pt x="1084" y="343"/>
                  </a:moveTo>
                  <a:lnTo>
                    <a:pt x="1086" y="342"/>
                  </a:lnTo>
                  <a:lnTo>
                    <a:pt x="1089" y="342"/>
                  </a:lnTo>
                  <a:lnTo>
                    <a:pt x="1091" y="342"/>
                  </a:lnTo>
                  <a:lnTo>
                    <a:pt x="1102" y="339"/>
                  </a:lnTo>
                  <a:lnTo>
                    <a:pt x="1106" y="336"/>
                  </a:lnTo>
                  <a:lnTo>
                    <a:pt x="1110" y="336"/>
                  </a:lnTo>
                  <a:lnTo>
                    <a:pt x="1113" y="336"/>
                  </a:lnTo>
                  <a:lnTo>
                    <a:pt x="1114" y="336"/>
                  </a:lnTo>
                  <a:lnTo>
                    <a:pt x="1117" y="334"/>
                  </a:lnTo>
                  <a:lnTo>
                    <a:pt x="1119" y="334"/>
                  </a:lnTo>
                  <a:lnTo>
                    <a:pt x="1121" y="333"/>
                  </a:lnTo>
                  <a:lnTo>
                    <a:pt x="1123" y="333"/>
                  </a:lnTo>
                  <a:lnTo>
                    <a:pt x="1123" y="332"/>
                  </a:lnTo>
                  <a:lnTo>
                    <a:pt x="1124" y="331"/>
                  </a:lnTo>
                  <a:lnTo>
                    <a:pt x="1123" y="329"/>
                  </a:lnTo>
                  <a:lnTo>
                    <a:pt x="1124" y="328"/>
                  </a:lnTo>
                  <a:lnTo>
                    <a:pt x="1124" y="326"/>
                  </a:lnTo>
                  <a:lnTo>
                    <a:pt x="1124" y="325"/>
                  </a:lnTo>
                  <a:lnTo>
                    <a:pt x="1126" y="323"/>
                  </a:lnTo>
                  <a:lnTo>
                    <a:pt x="1128" y="321"/>
                  </a:lnTo>
                  <a:lnTo>
                    <a:pt x="1131" y="320"/>
                  </a:lnTo>
                  <a:lnTo>
                    <a:pt x="1135" y="319"/>
                  </a:lnTo>
                  <a:lnTo>
                    <a:pt x="1137" y="318"/>
                  </a:lnTo>
                  <a:lnTo>
                    <a:pt x="1138" y="317"/>
                  </a:lnTo>
                  <a:lnTo>
                    <a:pt x="1141" y="314"/>
                  </a:lnTo>
                  <a:lnTo>
                    <a:pt x="1144" y="312"/>
                  </a:lnTo>
                  <a:lnTo>
                    <a:pt x="1148" y="310"/>
                  </a:lnTo>
                  <a:lnTo>
                    <a:pt x="1151" y="309"/>
                  </a:lnTo>
                  <a:lnTo>
                    <a:pt x="1153" y="309"/>
                  </a:lnTo>
                  <a:lnTo>
                    <a:pt x="1160" y="308"/>
                  </a:lnTo>
                  <a:lnTo>
                    <a:pt x="1165" y="307"/>
                  </a:lnTo>
                  <a:lnTo>
                    <a:pt x="1167" y="307"/>
                  </a:lnTo>
                  <a:lnTo>
                    <a:pt x="1169" y="306"/>
                  </a:lnTo>
                  <a:lnTo>
                    <a:pt x="1170" y="304"/>
                  </a:lnTo>
                  <a:lnTo>
                    <a:pt x="1173" y="303"/>
                  </a:lnTo>
                  <a:lnTo>
                    <a:pt x="1174" y="303"/>
                  </a:lnTo>
                  <a:lnTo>
                    <a:pt x="1176" y="302"/>
                  </a:lnTo>
                  <a:lnTo>
                    <a:pt x="1177" y="301"/>
                  </a:lnTo>
                  <a:lnTo>
                    <a:pt x="1177" y="300"/>
                  </a:lnTo>
                  <a:lnTo>
                    <a:pt x="1177" y="298"/>
                  </a:lnTo>
                  <a:lnTo>
                    <a:pt x="1179" y="297"/>
                  </a:lnTo>
                  <a:lnTo>
                    <a:pt x="1180" y="295"/>
                  </a:lnTo>
                  <a:lnTo>
                    <a:pt x="1183" y="292"/>
                  </a:lnTo>
                  <a:lnTo>
                    <a:pt x="1186" y="291"/>
                  </a:lnTo>
                  <a:lnTo>
                    <a:pt x="1188" y="292"/>
                  </a:lnTo>
                  <a:lnTo>
                    <a:pt x="1191" y="292"/>
                  </a:lnTo>
                  <a:lnTo>
                    <a:pt x="1194" y="292"/>
                  </a:lnTo>
                  <a:lnTo>
                    <a:pt x="1195" y="292"/>
                  </a:lnTo>
                  <a:lnTo>
                    <a:pt x="1197" y="292"/>
                  </a:lnTo>
                  <a:lnTo>
                    <a:pt x="1212" y="300"/>
                  </a:lnTo>
                  <a:lnTo>
                    <a:pt x="1214" y="301"/>
                  </a:lnTo>
                  <a:lnTo>
                    <a:pt x="1214" y="302"/>
                  </a:lnTo>
                  <a:lnTo>
                    <a:pt x="1214" y="318"/>
                  </a:lnTo>
                  <a:lnTo>
                    <a:pt x="1214" y="319"/>
                  </a:lnTo>
                  <a:lnTo>
                    <a:pt x="1215" y="320"/>
                  </a:lnTo>
                  <a:lnTo>
                    <a:pt x="1218" y="321"/>
                  </a:lnTo>
                  <a:lnTo>
                    <a:pt x="1223" y="324"/>
                  </a:lnTo>
                  <a:lnTo>
                    <a:pt x="1229" y="325"/>
                  </a:lnTo>
                  <a:lnTo>
                    <a:pt x="1232" y="327"/>
                  </a:lnTo>
                  <a:lnTo>
                    <a:pt x="1233" y="328"/>
                  </a:lnTo>
                  <a:lnTo>
                    <a:pt x="1242" y="331"/>
                  </a:lnTo>
                  <a:lnTo>
                    <a:pt x="1246" y="334"/>
                  </a:lnTo>
                  <a:lnTo>
                    <a:pt x="1250" y="337"/>
                  </a:lnTo>
                  <a:lnTo>
                    <a:pt x="1254" y="340"/>
                  </a:lnTo>
                  <a:lnTo>
                    <a:pt x="1260" y="343"/>
                  </a:lnTo>
                  <a:lnTo>
                    <a:pt x="1263" y="345"/>
                  </a:lnTo>
                  <a:lnTo>
                    <a:pt x="1267" y="347"/>
                  </a:lnTo>
                  <a:lnTo>
                    <a:pt x="1269" y="348"/>
                  </a:lnTo>
                  <a:lnTo>
                    <a:pt x="1272" y="350"/>
                  </a:lnTo>
                  <a:lnTo>
                    <a:pt x="1278" y="351"/>
                  </a:lnTo>
                  <a:lnTo>
                    <a:pt x="1282" y="352"/>
                  </a:lnTo>
                  <a:lnTo>
                    <a:pt x="1296" y="352"/>
                  </a:lnTo>
                  <a:lnTo>
                    <a:pt x="1299" y="352"/>
                  </a:lnTo>
                  <a:lnTo>
                    <a:pt x="1302" y="351"/>
                  </a:lnTo>
                  <a:lnTo>
                    <a:pt x="1303" y="349"/>
                  </a:lnTo>
                  <a:lnTo>
                    <a:pt x="1304" y="348"/>
                  </a:lnTo>
                  <a:lnTo>
                    <a:pt x="1311" y="332"/>
                  </a:lnTo>
                  <a:lnTo>
                    <a:pt x="1313" y="331"/>
                  </a:lnTo>
                  <a:lnTo>
                    <a:pt x="1314" y="324"/>
                  </a:lnTo>
                  <a:lnTo>
                    <a:pt x="1314" y="323"/>
                  </a:lnTo>
                  <a:lnTo>
                    <a:pt x="1311" y="321"/>
                  </a:lnTo>
                  <a:lnTo>
                    <a:pt x="1310" y="319"/>
                  </a:lnTo>
                  <a:lnTo>
                    <a:pt x="1309" y="317"/>
                  </a:lnTo>
                  <a:lnTo>
                    <a:pt x="1307" y="316"/>
                  </a:lnTo>
                  <a:lnTo>
                    <a:pt x="1304" y="314"/>
                  </a:lnTo>
                  <a:lnTo>
                    <a:pt x="1303" y="313"/>
                  </a:lnTo>
                  <a:lnTo>
                    <a:pt x="1302" y="311"/>
                  </a:lnTo>
                  <a:lnTo>
                    <a:pt x="1302" y="310"/>
                  </a:lnTo>
                  <a:lnTo>
                    <a:pt x="1303" y="307"/>
                  </a:lnTo>
                  <a:lnTo>
                    <a:pt x="1303" y="305"/>
                  </a:lnTo>
                  <a:lnTo>
                    <a:pt x="1303" y="304"/>
                  </a:lnTo>
                  <a:lnTo>
                    <a:pt x="1303" y="303"/>
                  </a:lnTo>
                  <a:lnTo>
                    <a:pt x="1303" y="301"/>
                  </a:lnTo>
                  <a:lnTo>
                    <a:pt x="1303" y="299"/>
                  </a:lnTo>
                  <a:lnTo>
                    <a:pt x="1300" y="299"/>
                  </a:lnTo>
                  <a:lnTo>
                    <a:pt x="1300" y="298"/>
                  </a:lnTo>
                  <a:lnTo>
                    <a:pt x="1302" y="297"/>
                  </a:lnTo>
                  <a:lnTo>
                    <a:pt x="1302" y="295"/>
                  </a:lnTo>
                  <a:lnTo>
                    <a:pt x="1300" y="294"/>
                  </a:lnTo>
                  <a:lnTo>
                    <a:pt x="1302" y="293"/>
                  </a:lnTo>
                  <a:lnTo>
                    <a:pt x="1303" y="293"/>
                  </a:lnTo>
                  <a:lnTo>
                    <a:pt x="1304" y="293"/>
                  </a:lnTo>
                  <a:lnTo>
                    <a:pt x="1304" y="292"/>
                  </a:lnTo>
                  <a:lnTo>
                    <a:pt x="1304" y="291"/>
                  </a:lnTo>
                  <a:lnTo>
                    <a:pt x="1300" y="290"/>
                  </a:lnTo>
                  <a:lnTo>
                    <a:pt x="1299" y="290"/>
                  </a:lnTo>
                  <a:lnTo>
                    <a:pt x="1296" y="289"/>
                  </a:lnTo>
                  <a:lnTo>
                    <a:pt x="1295" y="288"/>
                  </a:lnTo>
                  <a:lnTo>
                    <a:pt x="1292" y="285"/>
                  </a:lnTo>
                  <a:lnTo>
                    <a:pt x="1289" y="280"/>
                  </a:lnTo>
                  <a:lnTo>
                    <a:pt x="1285" y="278"/>
                  </a:lnTo>
                  <a:lnTo>
                    <a:pt x="1281" y="277"/>
                  </a:lnTo>
                  <a:lnTo>
                    <a:pt x="1276" y="276"/>
                  </a:lnTo>
                  <a:lnTo>
                    <a:pt x="1271" y="275"/>
                  </a:lnTo>
                  <a:lnTo>
                    <a:pt x="1267" y="275"/>
                  </a:lnTo>
                  <a:lnTo>
                    <a:pt x="1263" y="276"/>
                  </a:lnTo>
                  <a:lnTo>
                    <a:pt x="1260" y="276"/>
                  </a:lnTo>
                  <a:lnTo>
                    <a:pt x="1257" y="276"/>
                  </a:lnTo>
                  <a:lnTo>
                    <a:pt x="1253" y="275"/>
                  </a:lnTo>
                  <a:lnTo>
                    <a:pt x="1251" y="275"/>
                  </a:lnTo>
                  <a:lnTo>
                    <a:pt x="1249" y="274"/>
                  </a:lnTo>
                  <a:lnTo>
                    <a:pt x="1246" y="273"/>
                  </a:lnTo>
                  <a:lnTo>
                    <a:pt x="1243" y="272"/>
                  </a:lnTo>
                  <a:lnTo>
                    <a:pt x="1240" y="270"/>
                  </a:lnTo>
                  <a:lnTo>
                    <a:pt x="1239" y="268"/>
                  </a:lnTo>
                  <a:lnTo>
                    <a:pt x="1237" y="266"/>
                  </a:lnTo>
                  <a:lnTo>
                    <a:pt x="1236" y="264"/>
                  </a:lnTo>
                  <a:lnTo>
                    <a:pt x="1236" y="262"/>
                  </a:lnTo>
                  <a:lnTo>
                    <a:pt x="1237" y="260"/>
                  </a:lnTo>
                  <a:lnTo>
                    <a:pt x="1237" y="258"/>
                  </a:lnTo>
                  <a:lnTo>
                    <a:pt x="1239" y="257"/>
                  </a:lnTo>
                  <a:lnTo>
                    <a:pt x="1240" y="256"/>
                  </a:lnTo>
                  <a:lnTo>
                    <a:pt x="1242" y="255"/>
                  </a:lnTo>
                  <a:lnTo>
                    <a:pt x="1243" y="254"/>
                  </a:lnTo>
                  <a:lnTo>
                    <a:pt x="1244" y="252"/>
                  </a:lnTo>
                  <a:lnTo>
                    <a:pt x="1246" y="251"/>
                  </a:lnTo>
                  <a:lnTo>
                    <a:pt x="1247" y="250"/>
                  </a:lnTo>
                  <a:lnTo>
                    <a:pt x="1249" y="249"/>
                  </a:lnTo>
                  <a:lnTo>
                    <a:pt x="1251" y="247"/>
                  </a:lnTo>
                  <a:lnTo>
                    <a:pt x="1253" y="245"/>
                  </a:lnTo>
                  <a:lnTo>
                    <a:pt x="1254" y="245"/>
                  </a:lnTo>
                  <a:lnTo>
                    <a:pt x="1257" y="244"/>
                  </a:lnTo>
                  <a:lnTo>
                    <a:pt x="1258" y="244"/>
                  </a:lnTo>
                  <a:lnTo>
                    <a:pt x="1260" y="243"/>
                  </a:lnTo>
                  <a:lnTo>
                    <a:pt x="1263" y="242"/>
                  </a:lnTo>
                  <a:lnTo>
                    <a:pt x="1264" y="242"/>
                  </a:lnTo>
                  <a:lnTo>
                    <a:pt x="1265" y="242"/>
                  </a:lnTo>
                  <a:lnTo>
                    <a:pt x="1267" y="242"/>
                  </a:lnTo>
                  <a:lnTo>
                    <a:pt x="1268" y="241"/>
                  </a:lnTo>
                  <a:lnTo>
                    <a:pt x="1271" y="241"/>
                  </a:lnTo>
                  <a:lnTo>
                    <a:pt x="1272" y="240"/>
                  </a:lnTo>
                  <a:lnTo>
                    <a:pt x="1274" y="239"/>
                  </a:lnTo>
                  <a:lnTo>
                    <a:pt x="1275" y="238"/>
                  </a:lnTo>
                  <a:lnTo>
                    <a:pt x="1275" y="237"/>
                  </a:lnTo>
                  <a:lnTo>
                    <a:pt x="1276" y="236"/>
                  </a:lnTo>
                  <a:lnTo>
                    <a:pt x="1279" y="236"/>
                  </a:lnTo>
                  <a:lnTo>
                    <a:pt x="1279" y="235"/>
                  </a:lnTo>
                  <a:lnTo>
                    <a:pt x="1281" y="233"/>
                  </a:lnTo>
                  <a:lnTo>
                    <a:pt x="1282" y="230"/>
                  </a:lnTo>
                  <a:lnTo>
                    <a:pt x="1282" y="229"/>
                  </a:lnTo>
                  <a:lnTo>
                    <a:pt x="1283" y="228"/>
                  </a:lnTo>
                  <a:lnTo>
                    <a:pt x="1285" y="227"/>
                  </a:lnTo>
                  <a:lnTo>
                    <a:pt x="1286" y="226"/>
                  </a:lnTo>
                  <a:lnTo>
                    <a:pt x="1289" y="225"/>
                  </a:lnTo>
                  <a:lnTo>
                    <a:pt x="1290" y="225"/>
                  </a:lnTo>
                  <a:lnTo>
                    <a:pt x="1292" y="224"/>
                  </a:lnTo>
                  <a:lnTo>
                    <a:pt x="1293" y="223"/>
                  </a:lnTo>
                  <a:lnTo>
                    <a:pt x="1295" y="223"/>
                  </a:lnTo>
                  <a:lnTo>
                    <a:pt x="1297" y="223"/>
                  </a:lnTo>
                  <a:lnTo>
                    <a:pt x="1297" y="222"/>
                  </a:lnTo>
                  <a:lnTo>
                    <a:pt x="1299" y="221"/>
                  </a:lnTo>
                  <a:lnTo>
                    <a:pt x="1300" y="221"/>
                  </a:lnTo>
                  <a:lnTo>
                    <a:pt x="1302" y="220"/>
                  </a:lnTo>
                  <a:lnTo>
                    <a:pt x="1304" y="219"/>
                  </a:lnTo>
                  <a:lnTo>
                    <a:pt x="1304" y="218"/>
                  </a:lnTo>
                  <a:lnTo>
                    <a:pt x="1307" y="217"/>
                  </a:lnTo>
                  <a:lnTo>
                    <a:pt x="1310" y="216"/>
                  </a:lnTo>
                  <a:lnTo>
                    <a:pt x="1314" y="215"/>
                  </a:lnTo>
                  <a:lnTo>
                    <a:pt x="1317" y="214"/>
                  </a:lnTo>
                  <a:lnTo>
                    <a:pt x="1320" y="214"/>
                  </a:lnTo>
                  <a:lnTo>
                    <a:pt x="1323" y="214"/>
                  </a:lnTo>
                  <a:lnTo>
                    <a:pt x="1324" y="215"/>
                  </a:lnTo>
                  <a:lnTo>
                    <a:pt x="1325" y="215"/>
                  </a:lnTo>
                  <a:lnTo>
                    <a:pt x="1325" y="214"/>
                  </a:lnTo>
                  <a:lnTo>
                    <a:pt x="1332" y="215"/>
                  </a:lnTo>
                  <a:lnTo>
                    <a:pt x="1334" y="214"/>
                  </a:lnTo>
                  <a:lnTo>
                    <a:pt x="1337" y="214"/>
                  </a:lnTo>
                  <a:lnTo>
                    <a:pt x="1344" y="210"/>
                  </a:lnTo>
                  <a:lnTo>
                    <a:pt x="1345" y="209"/>
                  </a:lnTo>
                  <a:lnTo>
                    <a:pt x="1345" y="207"/>
                  </a:lnTo>
                  <a:lnTo>
                    <a:pt x="1346" y="207"/>
                  </a:lnTo>
                  <a:lnTo>
                    <a:pt x="1348" y="206"/>
                  </a:lnTo>
                  <a:lnTo>
                    <a:pt x="1348" y="205"/>
                  </a:lnTo>
                  <a:lnTo>
                    <a:pt x="1349" y="203"/>
                  </a:lnTo>
                  <a:lnTo>
                    <a:pt x="1349" y="201"/>
                  </a:lnTo>
                  <a:lnTo>
                    <a:pt x="1349" y="199"/>
                  </a:lnTo>
                  <a:lnTo>
                    <a:pt x="1348" y="198"/>
                  </a:lnTo>
                  <a:lnTo>
                    <a:pt x="1346" y="196"/>
                  </a:lnTo>
                  <a:lnTo>
                    <a:pt x="1346" y="195"/>
                  </a:lnTo>
                  <a:lnTo>
                    <a:pt x="1342" y="194"/>
                  </a:lnTo>
                  <a:lnTo>
                    <a:pt x="1346" y="186"/>
                  </a:lnTo>
                  <a:lnTo>
                    <a:pt x="1349" y="185"/>
                  </a:lnTo>
                  <a:lnTo>
                    <a:pt x="1351" y="183"/>
                  </a:lnTo>
                  <a:lnTo>
                    <a:pt x="1352" y="182"/>
                  </a:lnTo>
                  <a:lnTo>
                    <a:pt x="1358" y="182"/>
                  </a:lnTo>
                  <a:lnTo>
                    <a:pt x="1358" y="183"/>
                  </a:lnTo>
                  <a:lnTo>
                    <a:pt x="1360" y="186"/>
                  </a:lnTo>
                  <a:lnTo>
                    <a:pt x="1362" y="188"/>
                  </a:lnTo>
                  <a:lnTo>
                    <a:pt x="1365" y="188"/>
                  </a:lnTo>
                  <a:lnTo>
                    <a:pt x="1367" y="189"/>
                  </a:lnTo>
                  <a:lnTo>
                    <a:pt x="1370" y="191"/>
                  </a:lnTo>
                  <a:lnTo>
                    <a:pt x="1373" y="191"/>
                  </a:lnTo>
                  <a:lnTo>
                    <a:pt x="1379" y="191"/>
                  </a:lnTo>
                  <a:lnTo>
                    <a:pt x="1380" y="191"/>
                  </a:lnTo>
                  <a:lnTo>
                    <a:pt x="1381" y="190"/>
                  </a:lnTo>
                  <a:lnTo>
                    <a:pt x="1390" y="186"/>
                  </a:lnTo>
                  <a:lnTo>
                    <a:pt x="1391" y="186"/>
                  </a:lnTo>
                  <a:lnTo>
                    <a:pt x="1395" y="184"/>
                  </a:lnTo>
                  <a:lnTo>
                    <a:pt x="1395" y="183"/>
                  </a:lnTo>
                  <a:lnTo>
                    <a:pt x="1398" y="180"/>
                  </a:lnTo>
                  <a:lnTo>
                    <a:pt x="1398" y="177"/>
                  </a:lnTo>
                  <a:lnTo>
                    <a:pt x="1400" y="176"/>
                  </a:lnTo>
                  <a:lnTo>
                    <a:pt x="1400" y="175"/>
                  </a:lnTo>
                  <a:lnTo>
                    <a:pt x="1401" y="174"/>
                  </a:lnTo>
                  <a:lnTo>
                    <a:pt x="1401" y="172"/>
                  </a:lnTo>
                  <a:lnTo>
                    <a:pt x="1402" y="171"/>
                  </a:lnTo>
                  <a:lnTo>
                    <a:pt x="1404" y="168"/>
                  </a:lnTo>
                  <a:lnTo>
                    <a:pt x="1405" y="168"/>
                  </a:lnTo>
                  <a:lnTo>
                    <a:pt x="1406" y="168"/>
                  </a:lnTo>
                  <a:lnTo>
                    <a:pt x="1408" y="168"/>
                  </a:lnTo>
                  <a:lnTo>
                    <a:pt x="1409" y="169"/>
                  </a:lnTo>
                  <a:lnTo>
                    <a:pt x="1412" y="170"/>
                  </a:lnTo>
                  <a:lnTo>
                    <a:pt x="1419" y="171"/>
                  </a:lnTo>
                  <a:lnTo>
                    <a:pt x="1427" y="173"/>
                  </a:lnTo>
                  <a:lnTo>
                    <a:pt x="1432" y="175"/>
                  </a:lnTo>
                  <a:lnTo>
                    <a:pt x="1433" y="175"/>
                  </a:lnTo>
                  <a:lnTo>
                    <a:pt x="1436" y="175"/>
                  </a:lnTo>
                  <a:lnTo>
                    <a:pt x="1437" y="175"/>
                  </a:lnTo>
                  <a:lnTo>
                    <a:pt x="1439" y="176"/>
                  </a:lnTo>
                  <a:lnTo>
                    <a:pt x="1440" y="177"/>
                  </a:lnTo>
                  <a:lnTo>
                    <a:pt x="1443" y="176"/>
                  </a:lnTo>
                  <a:lnTo>
                    <a:pt x="1446" y="174"/>
                  </a:lnTo>
                  <a:lnTo>
                    <a:pt x="1448" y="171"/>
                  </a:lnTo>
                  <a:lnTo>
                    <a:pt x="1450" y="167"/>
                  </a:lnTo>
                  <a:lnTo>
                    <a:pt x="1453" y="164"/>
                  </a:lnTo>
                  <a:lnTo>
                    <a:pt x="1453" y="162"/>
                  </a:lnTo>
                  <a:lnTo>
                    <a:pt x="1455" y="160"/>
                  </a:lnTo>
                  <a:lnTo>
                    <a:pt x="1457" y="159"/>
                  </a:lnTo>
                  <a:lnTo>
                    <a:pt x="1461" y="158"/>
                  </a:lnTo>
                  <a:lnTo>
                    <a:pt x="1462" y="156"/>
                  </a:lnTo>
                  <a:lnTo>
                    <a:pt x="1465" y="157"/>
                  </a:lnTo>
                  <a:lnTo>
                    <a:pt x="1465" y="159"/>
                  </a:lnTo>
                  <a:lnTo>
                    <a:pt x="1468" y="159"/>
                  </a:lnTo>
                  <a:lnTo>
                    <a:pt x="1472" y="158"/>
                  </a:lnTo>
                  <a:lnTo>
                    <a:pt x="1474" y="157"/>
                  </a:lnTo>
                  <a:lnTo>
                    <a:pt x="1475" y="156"/>
                  </a:lnTo>
                  <a:lnTo>
                    <a:pt x="1486" y="151"/>
                  </a:lnTo>
                  <a:lnTo>
                    <a:pt x="1489" y="151"/>
                  </a:lnTo>
                  <a:lnTo>
                    <a:pt x="1489" y="150"/>
                  </a:lnTo>
                  <a:lnTo>
                    <a:pt x="1496" y="137"/>
                  </a:lnTo>
                  <a:lnTo>
                    <a:pt x="1503" y="134"/>
                  </a:lnTo>
                  <a:lnTo>
                    <a:pt x="1504" y="132"/>
                  </a:lnTo>
                  <a:lnTo>
                    <a:pt x="1506" y="131"/>
                  </a:lnTo>
                  <a:lnTo>
                    <a:pt x="1511" y="126"/>
                  </a:lnTo>
                  <a:lnTo>
                    <a:pt x="1514" y="124"/>
                  </a:lnTo>
                  <a:lnTo>
                    <a:pt x="1518" y="122"/>
                  </a:lnTo>
                  <a:lnTo>
                    <a:pt x="1521" y="121"/>
                  </a:lnTo>
                  <a:lnTo>
                    <a:pt x="1523" y="119"/>
                  </a:lnTo>
                  <a:lnTo>
                    <a:pt x="1525" y="117"/>
                  </a:lnTo>
                  <a:lnTo>
                    <a:pt x="1528" y="111"/>
                  </a:lnTo>
                  <a:lnTo>
                    <a:pt x="1530" y="110"/>
                  </a:lnTo>
                  <a:lnTo>
                    <a:pt x="1530" y="107"/>
                  </a:lnTo>
                  <a:lnTo>
                    <a:pt x="1532" y="99"/>
                  </a:lnTo>
                  <a:lnTo>
                    <a:pt x="1535" y="98"/>
                  </a:lnTo>
                  <a:lnTo>
                    <a:pt x="1537" y="97"/>
                  </a:lnTo>
                  <a:lnTo>
                    <a:pt x="1538" y="94"/>
                  </a:lnTo>
                  <a:lnTo>
                    <a:pt x="1538" y="92"/>
                  </a:lnTo>
                  <a:lnTo>
                    <a:pt x="1538" y="90"/>
                  </a:lnTo>
                  <a:lnTo>
                    <a:pt x="1538" y="89"/>
                  </a:lnTo>
                  <a:lnTo>
                    <a:pt x="1538" y="88"/>
                  </a:lnTo>
                  <a:lnTo>
                    <a:pt x="1539" y="80"/>
                  </a:lnTo>
                  <a:lnTo>
                    <a:pt x="1539" y="79"/>
                  </a:lnTo>
                  <a:lnTo>
                    <a:pt x="1539" y="78"/>
                  </a:lnTo>
                  <a:lnTo>
                    <a:pt x="1539" y="77"/>
                  </a:lnTo>
                  <a:lnTo>
                    <a:pt x="1539" y="75"/>
                  </a:lnTo>
                  <a:lnTo>
                    <a:pt x="1541" y="73"/>
                  </a:lnTo>
                  <a:lnTo>
                    <a:pt x="1543" y="71"/>
                  </a:lnTo>
                  <a:lnTo>
                    <a:pt x="1545" y="69"/>
                  </a:lnTo>
                  <a:lnTo>
                    <a:pt x="1548" y="67"/>
                  </a:lnTo>
                  <a:lnTo>
                    <a:pt x="1552" y="66"/>
                  </a:lnTo>
                  <a:lnTo>
                    <a:pt x="1555" y="66"/>
                  </a:lnTo>
                  <a:lnTo>
                    <a:pt x="1557" y="65"/>
                  </a:lnTo>
                  <a:lnTo>
                    <a:pt x="1560" y="65"/>
                  </a:lnTo>
                  <a:lnTo>
                    <a:pt x="1562" y="65"/>
                  </a:lnTo>
                  <a:lnTo>
                    <a:pt x="1564" y="65"/>
                  </a:lnTo>
                  <a:lnTo>
                    <a:pt x="1570" y="62"/>
                  </a:lnTo>
                  <a:lnTo>
                    <a:pt x="1573" y="61"/>
                  </a:lnTo>
                  <a:lnTo>
                    <a:pt x="1576" y="59"/>
                  </a:lnTo>
                  <a:lnTo>
                    <a:pt x="1577" y="58"/>
                  </a:lnTo>
                  <a:lnTo>
                    <a:pt x="1577" y="56"/>
                  </a:lnTo>
                  <a:lnTo>
                    <a:pt x="1578" y="55"/>
                  </a:lnTo>
                  <a:lnTo>
                    <a:pt x="1580" y="53"/>
                  </a:lnTo>
                  <a:lnTo>
                    <a:pt x="1580" y="51"/>
                  </a:lnTo>
                  <a:lnTo>
                    <a:pt x="1577" y="46"/>
                  </a:lnTo>
                  <a:lnTo>
                    <a:pt x="1574" y="39"/>
                  </a:lnTo>
                  <a:lnTo>
                    <a:pt x="1573" y="38"/>
                  </a:lnTo>
                  <a:lnTo>
                    <a:pt x="1571" y="37"/>
                  </a:lnTo>
                  <a:lnTo>
                    <a:pt x="1571" y="35"/>
                  </a:lnTo>
                  <a:lnTo>
                    <a:pt x="1571" y="34"/>
                  </a:lnTo>
                  <a:lnTo>
                    <a:pt x="1573" y="32"/>
                  </a:lnTo>
                  <a:lnTo>
                    <a:pt x="1574" y="29"/>
                  </a:lnTo>
                  <a:lnTo>
                    <a:pt x="1576" y="27"/>
                  </a:lnTo>
                  <a:lnTo>
                    <a:pt x="1576" y="24"/>
                  </a:lnTo>
                  <a:lnTo>
                    <a:pt x="1574" y="22"/>
                  </a:lnTo>
                  <a:lnTo>
                    <a:pt x="1574" y="19"/>
                  </a:lnTo>
                  <a:lnTo>
                    <a:pt x="1574" y="17"/>
                  </a:lnTo>
                  <a:lnTo>
                    <a:pt x="1577" y="14"/>
                  </a:lnTo>
                  <a:lnTo>
                    <a:pt x="1578" y="13"/>
                  </a:lnTo>
                  <a:lnTo>
                    <a:pt x="1580" y="11"/>
                  </a:lnTo>
                  <a:lnTo>
                    <a:pt x="1583" y="7"/>
                  </a:lnTo>
                  <a:lnTo>
                    <a:pt x="1585" y="8"/>
                  </a:lnTo>
                  <a:lnTo>
                    <a:pt x="1597" y="0"/>
                  </a:lnTo>
                  <a:lnTo>
                    <a:pt x="1598" y="1"/>
                  </a:lnTo>
                  <a:lnTo>
                    <a:pt x="1599" y="0"/>
                  </a:lnTo>
                  <a:lnTo>
                    <a:pt x="1601" y="0"/>
                  </a:lnTo>
                  <a:lnTo>
                    <a:pt x="1602" y="0"/>
                  </a:lnTo>
                  <a:lnTo>
                    <a:pt x="1604" y="1"/>
                  </a:lnTo>
                  <a:lnTo>
                    <a:pt x="1605" y="3"/>
                  </a:lnTo>
                  <a:lnTo>
                    <a:pt x="1606" y="4"/>
                  </a:lnTo>
                  <a:lnTo>
                    <a:pt x="1611" y="4"/>
                  </a:lnTo>
                  <a:lnTo>
                    <a:pt x="1612" y="5"/>
                  </a:lnTo>
                  <a:lnTo>
                    <a:pt x="1613" y="5"/>
                  </a:lnTo>
                  <a:lnTo>
                    <a:pt x="1615" y="7"/>
                  </a:lnTo>
                  <a:lnTo>
                    <a:pt x="1615" y="10"/>
                  </a:lnTo>
                  <a:lnTo>
                    <a:pt x="1618" y="13"/>
                  </a:lnTo>
                  <a:lnTo>
                    <a:pt x="1620" y="16"/>
                  </a:lnTo>
                  <a:lnTo>
                    <a:pt x="1625" y="18"/>
                  </a:lnTo>
                  <a:lnTo>
                    <a:pt x="1627" y="19"/>
                  </a:lnTo>
                  <a:lnTo>
                    <a:pt x="1630" y="26"/>
                  </a:lnTo>
                  <a:lnTo>
                    <a:pt x="1636" y="31"/>
                  </a:lnTo>
                  <a:lnTo>
                    <a:pt x="1646" y="37"/>
                  </a:lnTo>
                  <a:lnTo>
                    <a:pt x="1648" y="37"/>
                  </a:lnTo>
                  <a:lnTo>
                    <a:pt x="1665" y="42"/>
                  </a:lnTo>
                  <a:lnTo>
                    <a:pt x="1678" y="45"/>
                  </a:lnTo>
                  <a:lnTo>
                    <a:pt x="1682" y="47"/>
                  </a:lnTo>
                  <a:lnTo>
                    <a:pt x="1685" y="50"/>
                  </a:lnTo>
                  <a:lnTo>
                    <a:pt x="1697" y="57"/>
                  </a:lnTo>
                  <a:lnTo>
                    <a:pt x="1717" y="60"/>
                  </a:lnTo>
                  <a:lnTo>
                    <a:pt x="1731" y="62"/>
                  </a:lnTo>
                  <a:lnTo>
                    <a:pt x="1736" y="60"/>
                  </a:lnTo>
                  <a:lnTo>
                    <a:pt x="1750" y="61"/>
                  </a:lnTo>
                  <a:lnTo>
                    <a:pt x="1763" y="69"/>
                  </a:lnTo>
                  <a:lnTo>
                    <a:pt x="1781" y="79"/>
                  </a:lnTo>
                  <a:lnTo>
                    <a:pt x="1794" y="81"/>
                  </a:lnTo>
                  <a:lnTo>
                    <a:pt x="1836" y="103"/>
                  </a:lnTo>
                  <a:lnTo>
                    <a:pt x="1840" y="113"/>
                  </a:lnTo>
                  <a:lnTo>
                    <a:pt x="1848" y="131"/>
                  </a:lnTo>
                  <a:lnTo>
                    <a:pt x="1848" y="135"/>
                  </a:lnTo>
                  <a:lnTo>
                    <a:pt x="1847" y="146"/>
                  </a:lnTo>
                  <a:lnTo>
                    <a:pt x="1843" y="155"/>
                  </a:lnTo>
                  <a:lnTo>
                    <a:pt x="1838" y="167"/>
                  </a:lnTo>
                  <a:lnTo>
                    <a:pt x="1837" y="177"/>
                  </a:lnTo>
                  <a:lnTo>
                    <a:pt x="1826" y="195"/>
                  </a:lnTo>
                  <a:lnTo>
                    <a:pt x="1815" y="210"/>
                  </a:lnTo>
                  <a:lnTo>
                    <a:pt x="1804" y="225"/>
                  </a:lnTo>
                  <a:lnTo>
                    <a:pt x="1790" y="237"/>
                  </a:lnTo>
                  <a:lnTo>
                    <a:pt x="1769" y="249"/>
                  </a:lnTo>
                  <a:lnTo>
                    <a:pt x="1734" y="267"/>
                  </a:lnTo>
                  <a:lnTo>
                    <a:pt x="1729" y="265"/>
                  </a:lnTo>
                  <a:lnTo>
                    <a:pt x="1711" y="272"/>
                  </a:lnTo>
                  <a:lnTo>
                    <a:pt x="1665" y="289"/>
                  </a:lnTo>
                  <a:lnTo>
                    <a:pt x="1639" y="298"/>
                  </a:lnTo>
                  <a:lnTo>
                    <a:pt x="1637" y="300"/>
                  </a:lnTo>
                  <a:lnTo>
                    <a:pt x="1623" y="304"/>
                  </a:lnTo>
                  <a:lnTo>
                    <a:pt x="1608" y="307"/>
                  </a:lnTo>
                  <a:lnTo>
                    <a:pt x="1604" y="308"/>
                  </a:lnTo>
                  <a:lnTo>
                    <a:pt x="1602" y="308"/>
                  </a:lnTo>
                  <a:lnTo>
                    <a:pt x="1601" y="309"/>
                  </a:lnTo>
                  <a:lnTo>
                    <a:pt x="1602" y="313"/>
                  </a:lnTo>
                  <a:lnTo>
                    <a:pt x="1605" y="314"/>
                  </a:lnTo>
                  <a:lnTo>
                    <a:pt x="1605" y="317"/>
                  </a:lnTo>
                  <a:lnTo>
                    <a:pt x="1604" y="317"/>
                  </a:lnTo>
                  <a:lnTo>
                    <a:pt x="1598" y="308"/>
                  </a:lnTo>
                  <a:lnTo>
                    <a:pt x="1594" y="309"/>
                  </a:lnTo>
                  <a:lnTo>
                    <a:pt x="1594" y="312"/>
                  </a:lnTo>
                  <a:lnTo>
                    <a:pt x="1590" y="314"/>
                  </a:lnTo>
                  <a:lnTo>
                    <a:pt x="1588" y="315"/>
                  </a:lnTo>
                  <a:lnTo>
                    <a:pt x="1578" y="319"/>
                  </a:lnTo>
                  <a:lnTo>
                    <a:pt x="1569" y="321"/>
                  </a:lnTo>
                  <a:lnTo>
                    <a:pt x="1567" y="320"/>
                  </a:lnTo>
                  <a:lnTo>
                    <a:pt x="1556" y="324"/>
                  </a:lnTo>
                  <a:lnTo>
                    <a:pt x="1549" y="323"/>
                  </a:lnTo>
                  <a:lnTo>
                    <a:pt x="1524" y="330"/>
                  </a:lnTo>
                  <a:lnTo>
                    <a:pt x="1523" y="332"/>
                  </a:lnTo>
                  <a:lnTo>
                    <a:pt x="1514" y="335"/>
                  </a:lnTo>
                  <a:lnTo>
                    <a:pt x="1513" y="334"/>
                  </a:lnTo>
                  <a:lnTo>
                    <a:pt x="1507" y="335"/>
                  </a:lnTo>
                  <a:lnTo>
                    <a:pt x="1507" y="337"/>
                  </a:lnTo>
                  <a:lnTo>
                    <a:pt x="1499" y="339"/>
                  </a:lnTo>
                  <a:lnTo>
                    <a:pt x="1499" y="338"/>
                  </a:lnTo>
                  <a:lnTo>
                    <a:pt x="1497" y="338"/>
                  </a:lnTo>
                  <a:lnTo>
                    <a:pt x="1495" y="339"/>
                  </a:lnTo>
                  <a:lnTo>
                    <a:pt x="1490" y="342"/>
                  </a:lnTo>
                  <a:lnTo>
                    <a:pt x="1481" y="343"/>
                  </a:lnTo>
                  <a:lnTo>
                    <a:pt x="1479" y="343"/>
                  </a:lnTo>
                  <a:lnTo>
                    <a:pt x="1472" y="344"/>
                  </a:lnTo>
                  <a:lnTo>
                    <a:pt x="1468" y="345"/>
                  </a:lnTo>
                  <a:lnTo>
                    <a:pt x="1467" y="346"/>
                  </a:lnTo>
                  <a:lnTo>
                    <a:pt x="1465" y="345"/>
                  </a:lnTo>
                  <a:lnTo>
                    <a:pt x="1462" y="345"/>
                  </a:lnTo>
                  <a:lnTo>
                    <a:pt x="1461" y="346"/>
                  </a:lnTo>
                  <a:lnTo>
                    <a:pt x="1460" y="347"/>
                  </a:lnTo>
                  <a:lnTo>
                    <a:pt x="1458" y="347"/>
                  </a:lnTo>
                  <a:lnTo>
                    <a:pt x="1458" y="348"/>
                  </a:lnTo>
                  <a:lnTo>
                    <a:pt x="1455" y="348"/>
                  </a:lnTo>
                  <a:lnTo>
                    <a:pt x="1453" y="349"/>
                  </a:lnTo>
                  <a:lnTo>
                    <a:pt x="1451" y="349"/>
                  </a:lnTo>
                  <a:lnTo>
                    <a:pt x="1450" y="349"/>
                  </a:lnTo>
                  <a:lnTo>
                    <a:pt x="1446" y="351"/>
                  </a:lnTo>
                  <a:lnTo>
                    <a:pt x="1444" y="351"/>
                  </a:lnTo>
                  <a:lnTo>
                    <a:pt x="1443" y="351"/>
                  </a:lnTo>
                  <a:lnTo>
                    <a:pt x="1440" y="350"/>
                  </a:lnTo>
                  <a:lnTo>
                    <a:pt x="1434" y="351"/>
                  </a:lnTo>
                  <a:lnTo>
                    <a:pt x="1434" y="352"/>
                  </a:lnTo>
                  <a:lnTo>
                    <a:pt x="1412" y="356"/>
                  </a:lnTo>
                  <a:lnTo>
                    <a:pt x="1408" y="356"/>
                  </a:lnTo>
                  <a:lnTo>
                    <a:pt x="1404" y="357"/>
                  </a:lnTo>
                  <a:lnTo>
                    <a:pt x="1404" y="359"/>
                  </a:lnTo>
                  <a:lnTo>
                    <a:pt x="1397" y="359"/>
                  </a:lnTo>
                  <a:lnTo>
                    <a:pt x="1395" y="358"/>
                  </a:lnTo>
                  <a:lnTo>
                    <a:pt x="1351" y="362"/>
                  </a:lnTo>
                  <a:lnTo>
                    <a:pt x="1346" y="366"/>
                  </a:lnTo>
                  <a:lnTo>
                    <a:pt x="1337" y="367"/>
                  </a:lnTo>
                  <a:lnTo>
                    <a:pt x="1335" y="368"/>
                  </a:lnTo>
                  <a:lnTo>
                    <a:pt x="1331" y="367"/>
                  </a:lnTo>
                  <a:lnTo>
                    <a:pt x="1321" y="370"/>
                  </a:lnTo>
                  <a:lnTo>
                    <a:pt x="1313" y="369"/>
                  </a:lnTo>
                  <a:lnTo>
                    <a:pt x="1314" y="370"/>
                  </a:lnTo>
                  <a:lnTo>
                    <a:pt x="1311" y="370"/>
                  </a:lnTo>
                  <a:lnTo>
                    <a:pt x="1314" y="371"/>
                  </a:lnTo>
                  <a:lnTo>
                    <a:pt x="1321" y="375"/>
                  </a:lnTo>
                  <a:lnTo>
                    <a:pt x="1321" y="376"/>
                  </a:lnTo>
                  <a:lnTo>
                    <a:pt x="1321" y="379"/>
                  </a:lnTo>
                  <a:lnTo>
                    <a:pt x="1320" y="381"/>
                  </a:lnTo>
                  <a:lnTo>
                    <a:pt x="1318" y="382"/>
                  </a:lnTo>
                  <a:lnTo>
                    <a:pt x="1320" y="385"/>
                  </a:lnTo>
                  <a:lnTo>
                    <a:pt x="1318" y="387"/>
                  </a:lnTo>
                  <a:lnTo>
                    <a:pt x="1316" y="397"/>
                  </a:lnTo>
                  <a:lnTo>
                    <a:pt x="1310" y="402"/>
                  </a:lnTo>
                  <a:lnTo>
                    <a:pt x="1309" y="402"/>
                  </a:lnTo>
                  <a:lnTo>
                    <a:pt x="1304" y="407"/>
                  </a:lnTo>
                  <a:lnTo>
                    <a:pt x="1303" y="407"/>
                  </a:lnTo>
                  <a:lnTo>
                    <a:pt x="1302" y="409"/>
                  </a:lnTo>
                  <a:lnTo>
                    <a:pt x="1295" y="410"/>
                  </a:lnTo>
                  <a:lnTo>
                    <a:pt x="1290" y="413"/>
                  </a:lnTo>
                  <a:lnTo>
                    <a:pt x="1286" y="413"/>
                  </a:lnTo>
                  <a:lnTo>
                    <a:pt x="1279" y="415"/>
                  </a:lnTo>
                  <a:lnTo>
                    <a:pt x="1278" y="416"/>
                  </a:lnTo>
                  <a:lnTo>
                    <a:pt x="1276" y="415"/>
                  </a:lnTo>
                  <a:lnTo>
                    <a:pt x="1275" y="415"/>
                  </a:lnTo>
                  <a:lnTo>
                    <a:pt x="1274" y="415"/>
                  </a:lnTo>
                  <a:lnTo>
                    <a:pt x="1276" y="420"/>
                  </a:lnTo>
                  <a:lnTo>
                    <a:pt x="1275" y="421"/>
                  </a:lnTo>
                  <a:lnTo>
                    <a:pt x="1271" y="417"/>
                  </a:lnTo>
                  <a:lnTo>
                    <a:pt x="1269" y="417"/>
                  </a:lnTo>
                  <a:lnTo>
                    <a:pt x="1269" y="418"/>
                  </a:lnTo>
                  <a:lnTo>
                    <a:pt x="1272" y="422"/>
                  </a:lnTo>
                  <a:lnTo>
                    <a:pt x="1249" y="432"/>
                  </a:lnTo>
                  <a:lnTo>
                    <a:pt x="1244" y="433"/>
                  </a:lnTo>
                  <a:lnTo>
                    <a:pt x="1243" y="435"/>
                  </a:lnTo>
                  <a:lnTo>
                    <a:pt x="1243" y="436"/>
                  </a:lnTo>
                  <a:lnTo>
                    <a:pt x="1236" y="440"/>
                  </a:lnTo>
                  <a:lnTo>
                    <a:pt x="1233" y="440"/>
                  </a:lnTo>
                  <a:lnTo>
                    <a:pt x="1202" y="454"/>
                  </a:lnTo>
                  <a:lnTo>
                    <a:pt x="1197" y="455"/>
                  </a:lnTo>
                  <a:lnTo>
                    <a:pt x="1193" y="457"/>
                  </a:lnTo>
                  <a:lnTo>
                    <a:pt x="1190" y="458"/>
                  </a:lnTo>
                  <a:lnTo>
                    <a:pt x="1184" y="459"/>
                  </a:lnTo>
                  <a:lnTo>
                    <a:pt x="1177" y="462"/>
                  </a:lnTo>
                  <a:lnTo>
                    <a:pt x="1176" y="463"/>
                  </a:lnTo>
                  <a:lnTo>
                    <a:pt x="1174" y="463"/>
                  </a:lnTo>
                  <a:lnTo>
                    <a:pt x="1163" y="468"/>
                  </a:lnTo>
                  <a:lnTo>
                    <a:pt x="1162" y="468"/>
                  </a:lnTo>
                  <a:lnTo>
                    <a:pt x="1151" y="472"/>
                  </a:lnTo>
                  <a:lnTo>
                    <a:pt x="1149" y="473"/>
                  </a:lnTo>
                  <a:lnTo>
                    <a:pt x="1145" y="475"/>
                  </a:lnTo>
                  <a:lnTo>
                    <a:pt x="1139" y="477"/>
                  </a:lnTo>
                  <a:lnTo>
                    <a:pt x="1131" y="480"/>
                  </a:lnTo>
                  <a:lnTo>
                    <a:pt x="1127" y="481"/>
                  </a:lnTo>
                  <a:lnTo>
                    <a:pt x="1126" y="481"/>
                  </a:lnTo>
                  <a:lnTo>
                    <a:pt x="1123" y="482"/>
                  </a:lnTo>
                  <a:lnTo>
                    <a:pt x="1112" y="486"/>
                  </a:lnTo>
                  <a:lnTo>
                    <a:pt x="1109" y="488"/>
                  </a:lnTo>
                  <a:lnTo>
                    <a:pt x="1103" y="490"/>
                  </a:lnTo>
                  <a:lnTo>
                    <a:pt x="1098" y="490"/>
                  </a:lnTo>
                  <a:lnTo>
                    <a:pt x="1086" y="494"/>
                  </a:lnTo>
                  <a:lnTo>
                    <a:pt x="1085" y="493"/>
                  </a:lnTo>
                  <a:lnTo>
                    <a:pt x="1084" y="493"/>
                  </a:lnTo>
                  <a:lnTo>
                    <a:pt x="1084" y="494"/>
                  </a:lnTo>
                  <a:lnTo>
                    <a:pt x="1071" y="499"/>
                  </a:lnTo>
                  <a:lnTo>
                    <a:pt x="1071" y="501"/>
                  </a:lnTo>
                  <a:lnTo>
                    <a:pt x="1060" y="505"/>
                  </a:lnTo>
                  <a:lnTo>
                    <a:pt x="1053" y="504"/>
                  </a:lnTo>
                  <a:lnTo>
                    <a:pt x="1050" y="501"/>
                  </a:lnTo>
                  <a:lnTo>
                    <a:pt x="1049" y="500"/>
                  </a:lnTo>
                  <a:lnTo>
                    <a:pt x="1047" y="501"/>
                  </a:lnTo>
                  <a:lnTo>
                    <a:pt x="1047" y="504"/>
                  </a:lnTo>
                  <a:lnTo>
                    <a:pt x="1049" y="506"/>
                  </a:lnTo>
                  <a:lnTo>
                    <a:pt x="1042" y="511"/>
                  </a:lnTo>
                  <a:lnTo>
                    <a:pt x="1037" y="514"/>
                  </a:lnTo>
                  <a:lnTo>
                    <a:pt x="1032" y="515"/>
                  </a:lnTo>
                  <a:lnTo>
                    <a:pt x="1029" y="517"/>
                  </a:lnTo>
                  <a:lnTo>
                    <a:pt x="1025" y="518"/>
                  </a:lnTo>
                  <a:lnTo>
                    <a:pt x="1021" y="518"/>
                  </a:lnTo>
                  <a:lnTo>
                    <a:pt x="1016" y="520"/>
                  </a:lnTo>
                  <a:lnTo>
                    <a:pt x="1014" y="522"/>
                  </a:lnTo>
                  <a:lnTo>
                    <a:pt x="1009" y="523"/>
                  </a:lnTo>
                  <a:lnTo>
                    <a:pt x="1002" y="526"/>
                  </a:lnTo>
                  <a:lnTo>
                    <a:pt x="994" y="529"/>
                  </a:lnTo>
                  <a:lnTo>
                    <a:pt x="987" y="529"/>
                  </a:lnTo>
                  <a:lnTo>
                    <a:pt x="970" y="534"/>
                  </a:lnTo>
                  <a:lnTo>
                    <a:pt x="966" y="536"/>
                  </a:lnTo>
                  <a:lnTo>
                    <a:pt x="961" y="538"/>
                  </a:lnTo>
                  <a:lnTo>
                    <a:pt x="958" y="538"/>
                  </a:lnTo>
                  <a:lnTo>
                    <a:pt x="951" y="539"/>
                  </a:lnTo>
                  <a:lnTo>
                    <a:pt x="945" y="542"/>
                  </a:lnTo>
                  <a:lnTo>
                    <a:pt x="940" y="542"/>
                  </a:lnTo>
                  <a:lnTo>
                    <a:pt x="934" y="543"/>
                  </a:lnTo>
                  <a:lnTo>
                    <a:pt x="930" y="543"/>
                  </a:lnTo>
                  <a:lnTo>
                    <a:pt x="910" y="549"/>
                  </a:lnTo>
                  <a:lnTo>
                    <a:pt x="900" y="549"/>
                  </a:lnTo>
                  <a:lnTo>
                    <a:pt x="898" y="549"/>
                  </a:lnTo>
                  <a:lnTo>
                    <a:pt x="892" y="545"/>
                  </a:lnTo>
                  <a:lnTo>
                    <a:pt x="893" y="551"/>
                  </a:lnTo>
                  <a:lnTo>
                    <a:pt x="892" y="552"/>
                  </a:lnTo>
                  <a:lnTo>
                    <a:pt x="888" y="553"/>
                  </a:lnTo>
                  <a:lnTo>
                    <a:pt x="886" y="553"/>
                  </a:lnTo>
                  <a:lnTo>
                    <a:pt x="885" y="554"/>
                  </a:lnTo>
                  <a:lnTo>
                    <a:pt x="868" y="558"/>
                  </a:lnTo>
                  <a:lnTo>
                    <a:pt x="865" y="558"/>
                  </a:lnTo>
                  <a:lnTo>
                    <a:pt x="860" y="560"/>
                  </a:lnTo>
                  <a:lnTo>
                    <a:pt x="857" y="559"/>
                  </a:lnTo>
                  <a:lnTo>
                    <a:pt x="853" y="561"/>
                  </a:lnTo>
                  <a:lnTo>
                    <a:pt x="845" y="561"/>
                  </a:lnTo>
                  <a:lnTo>
                    <a:pt x="842" y="563"/>
                  </a:lnTo>
                  <a:lnTo>
                    <a:pt x="840" y="563"/>
                  </a:lnTo>
                  <a:lnTo>
                    <a:pt x="838" y="563"/>
                  </a:lnTo>
                  <a:lnTo>
                    <a:pt x="836" y="564"/>
                  </a:lnTo>
                  <a:lnTo>
                    <a:pt x="833" y="563"/>
                  </a:lnTo>
                  <a:lnTo>
                    <a:pt x="824" y="567"/>
                  </a:lnTo>
                  <a:lnTo>
                    <a:pt x="822" y="568"/>
                  </a:lnTo>
                  <a:lnTo>
                    <a:pt x="819" y="567"/>
                  </a:lnTo>
                  <a:lnTo>
                    <a:pt x="812" y="567"/>
                  </a:lnTo>
                  <a:lnTo>
                    <a:pt x="804" y="567"/>
                  </a:lnTo>
                  <a:lnTo>
                    <a:pt x="803" y="571"/>
                  </a:lnTo>
                  <a:lnTo>
                    <a:pt x="800" y="572"/>
                  </a:lnTo>
                  <a:lnTo>
                    <a:pt x="803" y="576"/>
                  </a:lnTo>
                  <a:lnTo>
                    <a:pt x="800" y="578"/>
                  </a:lnTo>
                  <a:lnTo>
                    <a:pt x="789" y="581"/>
                  </a:lnTo>
                  <a:lnTo>
                    <a:pt x="761" y="589"/>
                  </a:lnTo>
                  <a:lnTo>
                    <a:pt x="761" y="591"/>
                  </a:lnTo>
                  <a:lnTo>
                    <a:pt x="751" y="594"/>
                  </a:lnTo>
                  <a:lnTo>
                    <a:pt x="749" y="596"/>
                  </a:lnTo>
                  <a:lnTo>
                    <a:pt x="741" y="596"/>
                  </a:lnTo>
                  <a:lnTo>
                    <a:pt x="716" y="603"/>
                  </a:lnTo>
                  <a:lnTo>
                    <a:pt x="715" y="604"/>
                  </a:lnTo>
                  <a:lnTo>
                    <a:pt x="705" y="607"/>
                  </a:lnTo>
                  <a:lnTo>
                    <a:pt x="666" y="617"/>
                  </a:lnTo>
                  <a:lnTo>
                    <a:pt x="663" y="620"/>
                  </a:lnTo>
                  <a:lnTo>
                    <a:pt x="649" y="622"/>
                  </a:lnTo>
                  <a:lnTo>
                    <a:pt x="646" y="622"/>
                  </a:lnTo>
                  <a:lnTo>
                    <a:pt x="643" y="624"/>
                  </a:lnTo>
                  <a:lnTo>
                    <a:pt x="639" y="623"/>
                  </a:lnTo>
                  <a:lnTo>
                    <a:pt x="638" y="624"/>
                  </a:lnTo>
                  <a:lnTo>
                    <a:pt x="635" y="626"/>
                  </a:lnTo>
                  <a:lnTo>
                    <a:pt x="629" y="627"/>
                  </a:lnTo>
                  <a:lnTo>
                    <a:pt x="622" y="630"/>
                  </a:lnTo>
                  <a:lnTo>
                    <a:pt x="617" y="632"/>
                  </a:lnTo>
                  <a:lnTo>
                    <a:pt x="610" y="635"/>
                  </a:lnTo>
                  <a:lnTo>
                    <a:pt x="604" y="637"/>
                  </a:lnTo>
                  <a:lnTo>
                    <a:pt x="601" y="637"/>
                  </a:lnTo>
                  <a:lnTo>
                    <a:pt x="596" y="641"/>
                  </a:lnTo>
                  <a:lnTo>
                    <a:pt x="594" y="643"/>
                  </a:lnTo>
                  <a:lnTo>
                    <a:pt x="589" y="647"/>
                  </a:lnTo>
                  <a:lnTo>
                    <a:pt x="583" y="651"/>
                  </a:lnTo>
                  <a:lnTo>
                    <a:pt x="580" y="654"/>
                  </a:lnTo>
                  <a:lnTo>
                    <a:pt x="576" y="659"/>
                  </a:lnTo>
                  <a:lnTo>
                    <a:pt x="575" y="660"/>
                  </a:lnTo>
                  <a:lnTo>
                    <a:pt x="572" y="662"/>
                  </a:lnTo>
                  <a:lnTo>
                    <a:pt x="569" y="664"/>
                  </a:lnTo>
                  <a:lnTo>
                    <a:pt x="566" y="667"/>
                  </a:lnTo>
                  <a:lnTo>
                    <a:pt x="566" y="669"/>
                  </a:lnTo>
                  <a:lnTo>
                    <a:pt x="566" y="670"/>
                  </a:lnTo>
                  <a:lnTo>
                    <a:pt x="564" y="670"/>
                  </a:lnTo>
                  <a:lnTo>
                    <a:pt x="561" y="671"/>
                  </a:lnTo>
                  <a:lnTo>
                    <a:pt x="558" y="672"/>
                  </a:lnTo>
                  <a:lnTo>
                    <a:pt x="554" y="671"/>
                  </a:lnTo>
                  <a:lnTo>
                    <a:pt x="550" y="673"/>
                  </a:lnTo>
                  <a:lnTo>
                    <a:pt x="548" y="675"/>
                  </a:lnTo>
                  <a:lnTo>
                    <a:pt x="545" y="677"/>
                  </a:lnTo>
                  <a:lnTo>
                    <a:pt x="544" y="679"/>
                  </a:lnTo>
                  <a:lnTo>
                    <a:pt x="540" y="680"/>
                  </a:lnTo>
                  <a:lnTo>
                    <a:pt x="537" y="680"/>
                  </a:lnTo>
                  <a:lnTo>
                    <a:pt x="537" y="682"/>
                  </a:lnTo>
                  <a:lnTo>
                    <a:pt x="534" y="683"/>
                  </a:lnTo>
                  <a:lnTo>
                    <a:pt x="530" y="683"/>
                  </a:lnTo>
                  <a:lnTo>
                    <a:pt x="524" y="685"/>
                  </a:lnTo>
                  <a:lnTo>
                    <a:pt x="520" y="687"/>
                  </a:lnTo>
                  <a:lnTo>
                    <a:pt x="515" y="689"/>
                  </a:lnTo>
                  <a:lnTo>
                    <a:pt x="510" y="689"/>
                  </a:lnTo>
                  <a:lnTo>
                    <a:pt x="508" y="690"/>
                  </a:lnTo>
                  <a:lnTo>
                    <a:pt x="506" y="692"/>
                  </a:lnTo>
                  <a:lnTo>
                    <a:pt x="503" y="693"/>
                  </a:lnTo>
                  <a:lnTo>
                    <a:pt x="499" y="694"/>
                  </a:lnTo>
                  <a:lnTo>
                    <a:pt x="494" y="695"/>
                  </a:lnTo>
                  <a:lnTo>
                    <a:pt x="487" y="696"/>
                  </a:lnTo>
                  <a:lnTo>
                    <a:pt x="468" y="701"/>
                  </a:lnTo>
                  <a:lnTo>
                    <a:pt x="461" y="702"/>
                  </a:lnTo>
                  <a:lnTo>
                    <a:pt x="463" y="707"/>
                  </a:lnTo>
                  <a:lnTo>
                    <a:pt x="460" y="704"/>
                  </a:lnTo>
                  <a:lnTo>
                    <a:pt x="457" y="704"/>
                  </a:lnTo>
                  <a:lnTo>
                    <a:pt x="453" y="705"/>
                  </a:lnTo>
                  <a:lnTo>
                    <a:pt x="448" y="706"/>
                  </a:lnTo>
                  <a:lnTo>
                    <a:pt x="445" y="706"/>
                  </a:lnTo>
                  <a:lnTo>
                    <a:pt x="442" y="708"/>
                  </a:lnTo>
                  <a:lnTo>
                    <a:pt x="439" y="708"/>
                  </a:lnTo>
                  <a:lnTo>
                    <a:pt x="438" y="708"/>
                  </a:lnTo>
                  <a:lnTo>
                    <a:pt x="434" y="708"/>
                  </a:lnTo>
                  <a:lnTo>
                    <a:pt x="432" y="708"/>
                  </a:lnTo>
                  <a:lnTo>
                    <a:pt x="429" y="708"/>
                  </a:lnTo>
                  <a:lnTo>
                    <a:pt x="427" y="710"/>
                  </a:lnTo>
                  <a:lnTo>
                    <a:pt x="425" y="710"/>
                  </a:lnTo>
                  <a:lnTo>
                    <a:pt x="422" y="710"/>
                  </a:lnTo>
                  <a:lnTo>
                    <a:pt x="420" y="711"/>
                  </a:lnTo>
                  <a:lnTo>
                    <a:pt x="418" y="711"/>
                  </a:lnTo>
                  <a:lnTo>
                    <a:pt x="415" y="713"/>
                  </a:lnTo>
                  <a:lnTo>
                    <a:pt x="415" y="714"/>
                  </a:lnTo>
                  <a:lnTo>
                    <a:pt x="413" y="714"/>
                  </a:lnTo>
                  <a:lnTo>
                    <a:pt x="407" y="713"/>
                  </a:lnTo>
                  <a:lnTo>
                    <a:pt x="403" y="715"/>
                  </a:lnTo>
                  <a:lnTo>
                    <a:pt x="399" y="715"/>
                  </a:lnTo>
                  <a:lnTo>
                    <a:pt x="394" y="716"/>
                  </a:lnTo>
                  <a:lnTo>
                    <a:pt x="390" y="716"/>
                  </a:lnTo>
                  <a:lnTo>
                    <a:pt x="389" y="717"/>
                  </a:lnTo>
                  <a:lnTo>
                    <a:pt x="383" y="717"/>
                  </a:lnTo>
                  <a:lnTo>
                    <a:pt x="378" y="718"/>
                  </a:lnTo>
                  <a:lnTo>
                    <a:pt x="372" y="718"/>
                  </a:lnTo>
                  <a:lnTo>
                    <a:pt x="362" y="719"/>
                  </a:lnTo>
                  <a:lnTo>
                    <a:pt x="351" y="719"/>
                  </a:lnTo>
                  <a:lnTo>
                    <a:pt x="344" y="720"/>
                  </a:lnTo>
                  <a:lnTo>
                    <a:pt x="338" y="720"/>
                  </a:lnTo>
                  <a:lnTo>
                    <a:pt x="334" y="722"/>
                  </a:lnTo>
                  <a:lnTo>
                    <a:pt x="331" y="722"/>
                  </a:lnTo>
                  <a:lnTo>
                    <a:pt x="329" y="720"/>
                  </a:lnTo>
                  <a:lnTo>
                    <a:pt x="325" y="720"/>
                  </a:lnTo>
                  <a:lnTo>
                    <a:pt x="318" y="720"/>
                  </a:lnTo>
                  <a:lnTo>
                    <a:pt x="309" y="720"/>
                  </a:lnTo>
                  <a:lnTo>
                    <a:pt x="306" y="721"/>
                  </a:lnTo>
                  <a:lnTo>
                    <a:pt x="304" y="720"/>
                  </a:lnTo>
                  <a:lnTo>
                    <a:pt x="299" y="720"/>
                  </a:lnTo>
                  <a:lnTo>
                    <a:pt x="298" y="720"/>
                  </a:lnTo>
                  <a:lnTo>
                    <a:pt x="292" y="720"/>
                  </a:lnTo>
                  <a:lnTo>
                    <a:pt x="288" y="719"/>
                  </a:lnTo>
                  <a:lnTo>
                    <a:pt x="285" y="720"/>
                  </a:lnTo>
                  <a:lnTo>
                    <a:pt x="283" y="719"/>
                  </a:lnTo>
                  <a:lnTo>
                    <a:pt x="280" y="719"/>
                  </a:lnTo>
                  <a:lnTo>
                    <a:pt x="277" y="719"/>
                  </a:lnTo>
                  <a:lnTo>
                    <a:pt x="274" y="719"/>
                  </a:lnTo>
                  <a:lnTo>
                    <a:pt x="271" y="717"/>
                  </a:lnTo>
                  <a:lnTo>
                    <a:pt x="267" y="718"/>
                  </a:lnTo>
                  <a:lnTo>
                    <a:pt x="266" y="716"/>
                  </a:lnTo>
                  <a:lnTo>
                    <a:pt x="263" y="717"/>
                  </a:lnTo>
                  <a:lnTo>
                    <a:pt x="263" y="715"/>
                  </a:lnTo>
                  <a:lnTo>
                    <a:pt x="248" y="713"/>
                  </a:lnTo>
                  <a:lnTo>
                    <a:pt x="234" y="709"/>
                  </a:lnTo>
                  <a:lnTo>
                    <a:pt x="231" y="708"/>
                  </a:lnTo>
                  <a:lnTo>
                    <a:pt x="228" y="709"/>
                  </a:lnTo>
                  <a:lnTo>
                    <a:pt x="224" y="708"/>
                  </a:lnTo>
                  <a:lnTo>
                    <a:pt x="221" y="707"/>
                  </a:lnTo>
                  <a:lnTo>
                    <a:pt x="218" y="705"/>
                  </a:lnTo>
                  <a:lnTo>
                    <a:pt x="215" y="704"/>
                  </a:lnTo>
                  <a:lnTo>
                    <a:pt x="211" y="703"/>
                  </a:lnTo>
                  <a:lnTo>
                    <a:pt x="208" y="702"/>
                  </a:lnTo>
                  <a:lnTo>
                    <a:pt x="207" y="701"/>
                  </a:lnTo>
                  <a:lnTo>
                    <a:pt x="203" y="701"/>
                  </a:lnTo>
                  <a:lnTo>
                    <a:pt x="199" y="699"/>
                  </a:lnTo>
                  <a:lnTo>
                    <a:pt x="193" y="698"/>
                  </a:lnTo>
                  <a:lnTo>
                    <a:pt x="189" y="699"/>
                  </a:lnTo>
                  <a:lnTo>
                    <a:pt x="183" y="699"/>
                  </a:lnTo>
                  <a:lnTo>
                    <a:pt x="181" y="697"/>
                  </a:lnTo>
                  <a:lnTo>
                    <a:pt x="178" y="697"/>
                  </a:lnTo>
                  <a:lnTo>
                    <a:pt x="169" y="697"/>
                  </a:lnTo>
                  <a:lnTo>
                    <a:pt x="162" y="696"/>
                  </a:lnTo>
                  <a:lnTo>
                    <a:pt x="157" y="698"/>
                  </a:lnTo>
                  <a:lnTo>
                    <a:pt x="143" y="698"/>
                  </a:lnTo>
                  <a:lnTo>
                    <a:pt x="137" y="697"/>
                  </a:lnTo>
                  <a:lnTo>
                    <a:pt x="130" y="698"/>
                  </a:lnTo>
                  <a:lnTo>
                    <a:pt x="119" y="701"/>
                  </a:lnTo>
                  <a:lnTo>
                    <a:pt x="111" y="705"/>
                  </a:lnTo>
                  <a:lnTo>
                    <a:pt x="109" y="707"/>
                  </a:lnTo>
                  <a:lnTo>
                    <a:pt x="108" y="709"/>
                  </a:lnTo>
                  <a:lnTo>
                    <a:pt x="102" y="709"/>
                  </a:lnTo>
                  <a:lnTo>
                    <a:pt x="97" y="709"/>
                  </a:lnTo>
                  <a:lnTo>
                    <a:pt x="92" y="707"/>
                  </a:lnTo>
                  <a:lnTo>
                    <a:pt x="87" y="706"/>
                  </a:lnTo>
                  <a:lnTo>
                    <a:pt x="81" y="707"/>
                  </a:lnTo>
                  <a:lnTo>
                    <a:pt x="76" y="709"/>
                  </a:lnTo>
                  <a:lnTo>
                    <a:pt x="71" y="710"/>
                  </a:lnTo>
                  <a:lnTo>
                    <a:pt x="66" y="712"/>
                  </a:lnTo>
                  <a:lnTo>
                    <a:pt x="59" y="712"/>
                  </a:lnTo>
                  <a:lnTo>
                    <a:pt x="53" y="713"/>
                  </a:lnTo>
                  <a:lnTo>
                    <a:pt x="46" y="713"/>
                  </a:lnTo>
                  <a:lnTo>
                    <a:pt x="41" y="716"/>
                  </a:lnTo>
                  <a:lnTo>
                    <a:pt x="38" y="718"/>
                  </a:lnTo>
                  <a:lnTo>
                    <a:pt x="34" y="719"/>
                  </a:lnTo>
                  <a:lnTo>
                    <a:pt x="31" y="719"/>
                  </a:lnTo>
                  <a:lnTo>
                    <a:pt x="32" y="718"/>
                  </a:lnTo>
                  <a:lnTo>
                    <a:pt x="35" y="717"/>
                  </a:lnTo>
                  <a:lnTo>
                    <a:pt x="38" y="716"/>
                  </a:lnTo>
                  <a:lnTo>
                    <a:pt x="39" y="715"/>
                  </a:lnTo>
                  <a:lnTo>
                    <a:pt x="38" y="713"/>
                  </a:lnTo>
                  <a:lnTo>
                    <a:pt x="37" y="712"/>
                  </a:lnTo>
                  <a:lnTo>
                    <a:pt x="32" y="711"/>
                  </a:lnTo>
                  <a:lnTo>
                    <a:pt x="27" y="708"/>
                  </a:lnTo>
                  <a:lnTo>
                    <a:pt x="17" y="703"/>
                  </a:lnTo>
                  <a:lnTo>
                    <a:pt x="11" y="701"/>
                  </a:lnTo>
                  <a:lnTo>
                    <a:pt x="9" y="700"/>
                  </a:lnTo>
                  <a:lnTo>
                    <a:pt x="6" y="696"/>
                  </a:lnTo>
                  <a:lnTo>
                    <a:pt x="3" y="693"/>
                  </a:lnTo>
                  <a:lnTo>
                    <a:pt x="2" y="690"/>
                  </a:lnTo>
                  <a:lnTo>
                    <a:pt x="2" y="686"/>
                  </a:lnTo>
                  <a:lnTo>
                    <a:pt x="2" y="683"/>
                  </a:lnTo>
                  <a:lnTo>
                    <a:pt x="0" y="679"/>
                  </a:lnTo>
                  <a:lnTo>
                    <a:pt x="0" y="677"/>
                  </a:lnTo>
                  <a:lnTo>
                    <a:pt x="3" y="675"/>
                  </a:lnTo>
                  <a:lnTo>
                    <a:pt x="3" y="671"/>
                  </a:lnTo>
                  <a:lnTo>
                    <a:pt x="3" y="669"/>
                  </a:lnTo>
                  <a:lnTo>
                    <a:pt x="0" y="667"/>
                  </a:lnTo>
                  <a:lnTo>
                    <a:pt x="2" y="665"/>
                  </a:lnTo>
                  <a:lnTo>
                    <a:pt x="3" y="662"/>
                  </a:lnTo>
                  <a:lnTo>
                    <a:pt x="2" y="660"/>
                  </a:lnTo>
                  <a:lnTo>
                    <a:pt x="0" y="657"/>
                  </a:lnTo>
                  <a:lnTo>
                    <a:pt x="2" y="652"/>
                  </a:lnTo>
                  <a:lnTo>
                    <a:pt x="3" y="649"/>
                  </a:lnTo>
                  <a:lnTo>
                    <a:pt x="2" y="648"/>
                  </a:lnTo>
                  <a:lnTo>
                    <a:pt x="3" y="645"/>
                  </a:lnTo>
                  <a:lnTo>
                    <a:pt x="4" y="643"/>
                  </a:lnTo>
                  <a:lnTo>
                    <a:pt x="4" y="641"/>
                  </a:lnTo>
                  <a:lnTo>
                    <a:pt x="6" y="639"/>
                  </a:lnTo>
                  <a:lnTo>
                    <a:pt x="4" y="638"/>
                  </a:lnTo>
                  <a:lnTo>
                    <a:pt x="4" y="632"/>
                  </a:lnTo>
                  <a:lnTo>
                    <a:pt x="6" y="631"/>
                  </a:lnTo>
                  <a:lnTo>
                    <a:pt x="4" y="629"/>
                  </a:lnTo>
                  <a:lnTo>
                    <a:pt x="6" y="623"/>
                  </a:lnTo>
                  <a:lnTo>
                    <a:pt x="7" y="620"/>
                  </a:lnTo>
                  <a:lnTo>
                    <a:pt x="9" y="617"/>
                  </a:lnTo>
                  <a:lnTo>
                    <a:pt x="7" y="617"/>
                  </a:lnTo>
                  <a:lnTo>
                    <a:pt x="10" y="615"/>
                  </a:lnTo>
                  <a:lnTo>
                    <a:pt x="11" y="614"/>
                  </a:lnTo>
                  <a:lnTo>
                    <a:pt x="14" y="611"/>
                  </a:lnTo>
                  <a:lnTo>
                    <a:pt x="14" y="610"/>
                  </a:lnTo>
                  <a:lnTo>
                    <a:pt x="17" y="607"/>
                  </a:lnTo>
                  <a:lnTo>
                    <a:pt x="21" y="604"/>
                  </a:lnTo>
                  <a:lnTo>
                    <a:pt x="25" y="601"/>
                  </a:lnTo>
                  <a:lnTo>
                    <a:pt x="30" y="598"/>
                  </a:lnTo>
                  <a:lnTo>
                    <a:pt x="32" y="596"/>
                  </a:lnTo>
                  <a:lnTo>
                    <a:pt x="28" y="594"/>
                  </a:lnTo>
                  <a:lnTo>
                    <a:pt x="32" y="594"/>
                  </a:lnTo>
                  <a:lnTo>
                    <a:pt x="35" y="596"/>
                  </a:lnTo>
                  <a:lnTo>
                    <a:pt x="41" y="596"/>
                  </a:lnTo>
                  <a:lnTo>
                    <a:pt x="46" y="595"/>
                  </a:lnTo>
                  <a:lnTo>
                    <a:pt x="45" y="593"/>
                  </a:lnTo>
                  <a:lnTo>
                    <a:pt x="46" y="593"/>
                  </a:lnTo>
                  <a:lnTo>
                    <a:pt x="52" y="593"/>
                  </a:lnTo>
                  <a:lnTo>
                    <a:pt x="60" y="595"/>
                  </a:lnTo>
                  <a:lnTo>
                    <a:pt x="64" y="596"/>
                  </a:lnTo>
                  <a:lnTo>
                    <a:pt x="71" y="597"/>
                  </a:lnTo>
                  <a:lnTo>
                    <a:pt x="83" y="599"/>
                  </a:lnTo>
                  <a:lnTo>
                    <a:pt x="91" y="602"/>
                  </a:lnTo>
                  <a:lnTo>
                    <a:pt x="94" y="602"/>
                  </a:lnTo>
                  <a:lnTo>
                    <a:pt x="95" y="604"/>
                  </a:lnTo>
                  <a:lnTo>
                    <a:pt x="97" y="605"/>
                  </a:lnTo>
                  <a:lnTo>
                    <a:pt x="101" y="604"/>
                  </a:lnTo>
                  <a:lnTo>
                    <a:pt x="104" y="606"/>
                  </a:lnTo>
                  <a:lnTo>
                    <a:pt x="108" y="607"/>
                  </a:lnTo>
                  <a:lnTo>
                    <a:pt x="113" y="609"/>
                  </a:lnTo>
                  <a:lnTo>
                    <a:pt x="122" y="614"/>
                  </a:lnTo>
                  <a:lnTo>
                    <a:pt x="129" y="617"/>
                  </a:lnTo>
                  <a:lnTo>
                    <a:pt x="134" y="618"/>
                  </a:lnTo>
                  <a:lnTo>
                    <a:pt x="141" y="617"/>
                  </a:lnTo>
                  <a:lnTo>
                    <a:pt x="146" y="617"/>
                  </a:lnTo>
                  <a:lnTo>
                    <a:pt x="150" y="618"/>
                  </a:lnTo>
                  <a:lnTo>
                    <a:pt x="153" y="619"/>
                  </a:lnTo>
                  <a:lnTo>
                    <a:pt x="157" y="619"/>
                  </a:lnTo>
                  <a:lnTo>
                    <a:pt x="162" y="621"/>
                  </a:lnTo>
                  <a:lnTo>
                    <a:pt x="171" y="622"/>
                  </a:lnTo>
                  <a:lnTo>
                    <a:pt x="176" y="624"/>
                  </a:lnTo>
                  <a:lnTo>
                    <a:pt x="178" y="623"/>
                  </a:lnTo>
                  <a:lnTo>
                    <a:pt x="178" y="624"/>
                  </a:lnTo>
                  <a:lnTo>
                    <a:pt x="185" y="626"/>
                  </a:lnTo>
                  <a:lnTo>
                    <a:pt x="190" y="627"/>
                  </a:lnTo>
                  <a:lnTo>
                    <a:pt x="194" y="629"/>
                  </a:lnTo>
                  <a:lnTo>
                    <a:pt x="199" y="630"/>
                  </a:lnTo>
                  <a:lnTo>
                    <a:pt x="203" y="631"/>
                  </a:lnTo>
                  <a:lnTo>
                    <a:pt x="206" y="633"/>
                  </a:lnTo>
                  <a:lnTo>
                    <a:pt x="208" y="633"/>
                  </a:lnTo>
                  <a:lnTo>
                    <a:pt x="210" y="632"/>
                  </a:lnTo>
                  <a:lnTo>
                    <a:pt x="214" y="630"/>
                  </a:lnTo>
                  <a:lnTo>
                    <a:pt x="217" y="627"/>
                  </a:lnTo>
                  <a:lnTo>
                    <a:pt x="222" y="625"/>
                  </a:lnTo>
                  <a:lnTo>
                    <a:pt x="225" y="626"/>
                  </a:lnTo>
                  <a:lnTo>
                    <a:pt x="224" y="624"/>
                  </a:lnTo>
                  <a:lnTo>
                    <a:pt x="227" y="621"/>
                  </a:lnTo>
                  <a:lnTo>
                    <a:pt x="227" y="619"/>
                  </a:lnTo>
                  <a:lnTo>
                    <a:pt x="229" y="614"/>
                  </a:lnTo>
                  <a:lnTo>
                    <a:pt x="229" y="611"/>
                  </a:lnTo>
                  <a:lnTo>
                    <a:pt x="231" y="607"/>
                  </a:lnTo>
                  <a:lnTo>
                    <a:pt x="235" y="601"/>
                  </a:lnTo>
                  <a:lnTo>
                    <a:pt x="239" y="598"/>
                  </a:lnTo>
                  <a:lnTo>
                    <a:pt x="243" y="594"/>
                  </a:lnTo>
                  <a:lnTo>
                    <a:pt x="248" y="589"/>
                  </a:lnTo>
                  <a:lnTo>
                    <a:pt x="255" y="581"/>
                  </a:lnTo>
                  <a:lnTo>
                    <a:pt x="257" y="579"/>
                  </a:lnTo>
                  <a:lnTo>
                    <a:pt x="259" y="576"/>
                  </a:lnTo>
                  <a:lnTo>
                    <a:pt x="262" y="574"/>
                  </a:lnTo>
                  <a:lnTo>
                    <a:pt x="264" y="571"/>
                  </a:lnTo>
                  <a:lnTo>
                    <a:pt x="271" y="566"/>
                  </a:lnTo>
                  <a:lnTo>
                    <a:pt x="276" y="560"/>
                  </a:lnTo>
                  <a:lnTo>
                    <a:pt x="283" y="556"/>
                  </a:lnTo>
                  <a:lnTo>
                    <a:pt x="287" y="552"/>
                  </a:lnTo>
                  <a:lnTo>
                    <a:pt x="287" y="547"/>
                  </a:lnTo>
                  <a:lnTo>
                    <a:pt x="288" y="547"/>
                  </a:lnTo>
                  <a:lnTo>
                    <a:pt x="291" y="543"/>
                  </a:lnTo>
                  <a:lnTo>
                    <a:pt x="294" y="540"/>
                  </a:lnTo>
                  <a:lnTo>
                    <a:pt x="298" y="536"/>
                  </a:lnTo>
                  <a:lnTo>
                    <a:pt x="301" y="535"/>
                  </a:lnTo>
                  <a:lnTo>
                    <a:pt x="305" y="533"/>
                  </a:lnTo>
                  <a:lnTo>
                    <a:pt x="308" y="533"/>
                  </a:lnTo>
                  <a:lnTo>
                    <a:pt x="311" y="533"/>
                  </a:lnTo>
                  <a:lnTo>
                    <a:pt x="315" y="534"/>
                  </a:lnTo>
                  <a:lnTo>
                    <a:pt x="318" y="535"/>
                  </a:lnTo>
                  <a:lnTo>
                    <a:pt x="320" y="535"/>
                  </a:lnTo>
                  <a:lnTo>
                    <a:pt x="323" y="536"/>
                  </a:lnTo>
                  <a:lnTo>
                    <a:pt x="326" y="536"/>
                  </a:lnTo>
                  <a:lnTo>
                    <a:pt x="330" y="536"/>
                  </a:lnTo>
                  <a:lnTo>
                    <a:pt x="333" y="536"/>
                  </a:lnTo>
                  <a:lnTo>
                    <a:pt x="336" y="533"/>
                  </a:lnTo>
                  <a:lnTo>
                    <a:pt x="338" y="533"/>
                  </a:lnTo>
                  <a:lnTo>
                    <a:pt x="343" y="533"/>
                  </a:lnTo>
                  <a:lnTo>
                    <a:pt x="345" y="535"/>
                  </a:lnTo>
                  <a:lnTo>
                    <a:pt x="350" y="536"/>
                  </a:lnTo>
                  <a:lnTo>
                    <a:pt x="352" y="537"/>
                  </a:lnTo>
                  <a:lnTo>
                    <a:pt x="358" y="539"/>
                  </a:lnTo>
                  <a:lnTo>
                    <a:pt x="362" y="541"/>
                  </a:lnTo>
                  <a:lnTo>
                    <a:pt x="366" y="543"/>
                  </a:lnTo>
                  <a:lnTo>
                    <a:pt x="368" y="545"/>
                  </a:lnTo>
                  <a:lnTo>
                    <a:pt x="368" y="547"/>
                  </a:lnTo>
                  <a:lnTo>
                    <a:pt x="372" y="551"/>
                  </a:lnTo>
                  <a:lnTo>
                    <a:pt x="378" y="555"/>
                  </a:lnTo>
                  <a:lnTo>
                    <a:pt x="382" y="556"/>
                  </a:lnTo>
                  <a:lnTo>
                    <a:pt x="386" y="555"/>
                  </a:lnTo>
                  <a:lnTo>
                    <a:pt x="389" y="557"/>
                  </a:lnTo>
                  <a:lnTo>
                    <a:pt x="394" y="557"/>
                  </a:lnTo>
                  <a:lnTo>
                    <a:pt x="401" y="557"/>
                  </a:lnTo>
                  <a:lnTo>
                    <a:pt x="401" y="561"/>
                  </a:lnTo>
                  <a:lnTo>
                    <a:pt x="404" y="560"/>
                  </a:lnTo>
                  <a:lnTo>
                    <a:pt x="404" y="558"/>
                  </a:lnTo>
                  <a:lnTo>
                    <a:pt x="408" y="557"/>
                  </a:lnTo>
                  <a:lnTo>
                    <a:pt x="410" y="555"/>
                  </a:lnTo>
                  <a:lnTo>
                    <a:pt x="413" y="547"/>
                  </a:lnTo>
                  <a:lnTo>
                    <a:pt x="414" y="545"/>
                  </a:lnTo>
                  <a:lnTo>
                    <a:pt x="415" y="543"/>
                  </a:lnTo>
                  <a:lnTo>
                    <a:pt x="417" y="541"/>
                  </a:lnTo>
                  <a:lnTo>
                    <a:pt x="417" y="539"/>
                  </a:lnTo>
                  <a:lnTo>
                    <a:pt x="418" y="538"/>
                  </a:lnTo>
                  <a:lnTo>
                    <a:pt x="420" y="540"/>
                  </a:lnTo>
                  <a:lnTo>
                    <a:pt x="421" y="541"/>
                  </a:lnTo>
                  <a:lnTo>
                    <a:pt x="422" y="541"/>
                  </a:lnTo>
                  <a:lnTo>
                    <a:pt x="425" y="540"/>
                  </a:lnTo>
                  <a:lnTo>
                    <a:pt x="427" y="540"/>
                  </a:lnTo>
                  <a:lnTo>
                    <a:pt x="429" y="541"/>
                  </a:lnTo>
                  <a:lnTo>
                    <a:pt x="431" y="541"/>
                  </a:lnTo>
                  <a:lnTo>
                    <a:pt x="432" y="540"/>
                  </a:lnTo>
                  <a:lnTo>
                    <a:pt x="439" y="540"/>
                  </a:lnTo>
                  <a:lnTo>
                    <a:pt x="441" y="541"/>
                  </a:lnTo>
                  <a:lnTo>
                    <a:pt x="443" y="542"/>
                  </a:lnTo>
                  <a:lnTo>
                    <a:pt x="445" y="541"/>
                  </a:lnTo>
                  <a:lnTo>
                    <a:pt x="446" y="539"/>
                  </a:lnTo>
                  <a:lnTo>
                    <a:pt x="450" y="539"/>
                  </a:lnTo>
                  <a:lnTo>
                    <a:pt x="452" y="540"/>
                  </a:lnTo>
                  <a:lnTo>
                    <a:pt x="453" y="541"/>
                  </a:lnTo>
                  <a:lnTo>
                    <a:pt x="456" y="542"/>
                  </a:lnTo>
                  <a:lnTo>
                    <a:pt x="457" y="543"/>
                  </a:lnTo>
                  <a:lnTo>
                    <a:pt x="459" y="544"/>
                  </a:lnTo>
                  <a:lnTo>
                    <a:pt x="459" y="547"/>
                  </a:lnTo>
                  <a:lnTo>
                    <a:pt x="463" y="549"/>
                  </a:lnTo>
                  <a:lnTo>
                    <a:pt x="466" y="549"/>
                  </a:lnTo>
                  <a:lnTo>
                    <a:pt x="467" y="549"/>
                  </a:lnTo>
                  <a:lnTo>
                    <a:pt x="470" y="550"/>
                  </a:lnTo>
                  <a:lnTo>
                    <a:pt x="471" y="551"/>
                  </a:lnTo>
                  <a:lnTo>
                    <a:pt x="474" y="552"/>
                  </a:lnTo>
                  <a:lnTo>
                    <a:pt x="475" y="553"/>
                  </a:lnTo>
                  <a:lnTo>
                    <a:pt x="478" y="554"/>
                  </a:lnTo>
                  <a:lnTo>
                    <a:pt x="481" y="555"/>
                  </a:lnTo>
                  <a:lnTo>
                    <a:pt x="484" y="556"/>
                  </a:lnTo>
                  <a:lnTo>
                    <a:pt x="487" y="556"/>
                  </a:lnTo>
                  <a:lnTo>
                    <a:pt x="489" y="558"/>
                  </a:lnTo>
                  <a:lnTo>
                    <a:pt x="492" y="558"/>
                  </a:lnTo>
                  <a:lnTo>
                    <a:pt x="496" y="558"/>
                  </a:lnTo>
                  <a:lnTo>
                    <a:pt x="499" y="558"/>
                  </a:lnTo>
                  <a:lnTo>
                    <a:pt x="503" y="558"/>
                  </a:lnTo>
                  <a:lnTo>
                    <a:pt x="506" y="558"/>
                  </a:lnTo>
                  <a:lnTo>
                    <a:pt x="509" y="559"/>
                  </a:lnTo>
                  <a:lnTo>
                    <a:pt x="510" y="560"/>
                  </a:lnTo>
                  <a:lnTo>
                    <a:pt x="510" y="561"/>
                  </a:lnTo>
                  <a:lnTo>
                    <a:pt x="513" y="561"/>
                  </a:lnTo>
                  <a:lnTo>
                    <a:pt x="515" y="560"/>
                  </a:lnTo>
                  <a:lnTo>
                    <a:pt x="517" y="560"/>
                  </a:lnTo>
                  <a:lnTo>
                    <a:pt x="520" y="559"/>
                  </a:lnTo>
                  <a:lnTo>
                    <a:pt x="522" y="558"/>
                  </a:lnTo>
                  <a:lnTo>
                    <a:pt x="524" y="556"/>
                  </a:lnTo>
                  <a:lnTo>
                    <a:pt x="526" y="555"/>
                  </a:lnTo>
                  <a:lnTo>
                    <a:pt x="527" y="555"/>
                  </a:lnTo>
                  <a:lnTo>
                    <a:pt x="527" y="554"/>
                  </a:lnTo>
                  <a:lnTo>
                    <a:pt x="530" y="550"/>
                  </a:lnTo>
                  <a:lnTo>
                    <a:pt x="530" y="549"/>
                  </a:lnTo>
                  <a:lnTo>
                    <a:pt x="531" y="548"/>
                  </a:lnTo>
                  <a:lnTo>
                    <a:pt x="533" y="546"/>
                  </a:lnTo>
                  <a:lnTo>
                    <a:pt x="534" y="544"/>
                  </a:lnTo>
                  <a:lnTo>
                    <a:pt x="537" y="541"/>
                  </a:lnTo>
                  <a:lnTo>
                    <a:pt x="540" y="539"/>
                  </a:lnTo>
                  <a:lnTo>
                    <a:pt x="541" y="537"/>
                  </a:lnTo>
                  <a:lnTo>
                    <a:pt x="543" y="536"/>
                  </a:lnTo>
                  <a:lnTo>
                    <a:pt x="544" y="535"/>
                  </a:lnTo>
                  <a:lnTo>
                    <a:pt x="545" y="533"/>
                  </a:lnTo>
                  <a:lnTo>
                    <a:pt x="547" y="532"/>
                  </a:lnTo>
                  <a:lnTo>
                    <a:pt x="547" y="531"/>
                  </a:lnTo>
                  <a:lnTo>
                    <a:pt x="548" y="529"/>
                  </a:lnTo>
                  <a:lnTo>
                    <a:pt x="548" y="527"/>
                  </a:lnTo>
                  <a:lnTo>
                    <a:pt x="550" y="525"/>
                  </a:lnTo>
                  <a:lnTo>
                    <a:pt x="551" y="524"/>
                  </a:lnTo>
                  <a:lnTo>
                    <a:pt x="552" y="523"/>
                  </a:lnTo>
                  <a:lnTo>
                    <a:pt x="554" y="521"/>
                  </a:lnTo>
                  <a:lnTo>
                    <a:pt x="555" y="519"/>
                  </a:lnTo>
                  <a:lnTo>
                    <a:pt x="557" y="518"/>
                  </a:lnTo>
                  <a:lnTo>
                    <a:pt x="558" y="516"/>
                  </a:lnTo>
                  <a:lnTo>
                    <a:pt x="561" y="516"/>
                  </a:lnTo>
                  <a:lnTo>
                    <a:pt x="564" y="515"/>
                  </a:lnTo>
                  <a:lnTo>
                    <a:pt x="566" y="514"/>
                  </a:lnTo>
                  <a:lnTo>
                    <a:pt x="568" y="514"/>
                  </a:lnTo>
                  <a:lnTo>
                    <a:pt x="569" y="514"/>
                  </a:lnTo>
                  <a:lnTo>
                    <a:pt x="571" y="515"/>
                  </a:lnTo>
                  <a:lnTo>
                    <a:pt x="572" y="517"/>
                  </a:lnTo>
                  <a:lnTo>
                    <a:pt x="575" y="518"/>
                  </a:lnTo>
                  <a:lnTo>
                    <a:pt x="578" y="518"/>
                  </a:lnTo>
                  <a:lnTo>
                    <a:pt x="580" y="518"/>
                  </a:lnTo>
                  <a:lnTo>
                    <a:pt x="582" y="519"/>
                  </a:lnTo>
                  <a:lnTo>
                    <a:pt x="586" y="519"/>
                  </a:lnTo>
                  <a:lnTo>
                    <a:pt x="589" y="519"/>
                  </a:lnTo>
                  <a:lnTo>
                    <a:pt x="593" y="520"/>
                  </a:lnTo>
                  <a:lnTo>
                    <a:pt x="596" y="519"/>
                  </a:lnTo>
                  <a:lnTo>
                    <a:pt x="598" y="519"/>
                  </a:lnTo>
                  <a:lnTo>
                    <a:pt x="603" y="518"/>
                  </a:lnTo>
                  <a:lnTo>
                    <a:pt x="604" y="518"/>
                  </a:lnTo>
                  <a:lnTo>
                    <a:pt x="607" y="517"/>
                  </a:lnTo>
                  <a:lnTo>
                    <a:pt x="608" y="516"/>
                  </a:lnTo>
                  <a:lnTo>
                    <a:pt x="612" y="517"/>
                  </a:lnTo>
                  <a:lnTo>
                    <a:pt x="615" y="517"/>
                  </a:lnTo>
                  <a:lnTo>
                    <a:pt x="618" y="517"/>
                  </a:lnTo>
                  <a:lnTo>
                    <a:pt x="619" y="517"/>
                  </a:lnTo>
                  <a:lnTo>
                    <a:pt x="622" y="516"/>
                  </a:lnTo>
                  <a:lnTo>
                    <a:pt x="625" y="515"/>
                  </a:lnTo>
                  <a:lnTo>
                    <a:pt x="626" y="514"/>
                  </a:lnTo>
                  <a:lnTo>
                    <a:pt x="628" y="513"/>
                  </a:lnTo>
                  <a:lnTo>
                    <a:pt x="631" y="511"/>
                  </a:lnTo>
                  <a:lnTo>
                    <a:pt x="633" y="510"/>
                  </a:lnTo>
                  <a:lnTo>
                    <a:pt x="636" y="508"/>
                  </a:lnTo>
                  <a:lnTo>
                    <a:pt x="638" y="508"/>
                  </a:lnTo>
                  <a:lnTo>
                    <a:pt x="639" y="508"/>
                  </a:lnTo>
                  <a:lnTo>
                    <a:pt x="640" y="508"/>
                  </a:lnTo>
                  <a:lnTo>
                    <a:pt x="643" y="508"/>
                  </a:lnTo>
                  <a:lnTo>
                    <a:pt x="645" y="508"/>
                  </a:lnTo>
                  <a:lnTo>
                    <a:pt x="647" y="509"/>
                  </a:lnTo>
                  <a:lnTo>
                    <a:pt x="649" y="509"/>
                  </a:lnTo>
                  <a:lnTo>
                    <a:pt x="649" y="508"/>
                  </a:lnTo>
                  <a:lnTo>
                    <a:pt x="650" y="507"/>
                  </a:lnTo>
                  <a:lnTo>
                    <a:pt x="652" y="507"/>
                  </a:lnTo>
                  <a:lnTo>
                    <a:pt x="653" y="505"/>
                  </a:lnTo>
                  <a:lnTo>
                    <a:pt x="654" y="505"/>
                  </a:lnTo>
                  <a:lnTo>
                    <a:pt x="659" y="504"/>
                  </a:lnTo>
                  <a:lnTo>
                    <a:pt x="660" y="503"/>
                  </a:lnTo>
                  <a:lnTo>
                    <a:pt x="661" y="501"/>
                  </a:lnTo>
                  <a:lnTo>
                    <a:pt x="661" y="500"/>
                  </a:lnTo>
                  <a:lnTo>
                    <a:pt x="663" y="499"/>
                  </a:lnTo>
                  <a:lnTo>
                    <a:pt x="663" y="497"/>
                  </a:lnTo>
                  <a:lnTo>
                    <a:pt x="664" y="495"/>
                  </a:lnTo>
                  <a:lnTo>
                    <a:pt x="664" y="493"/>
                  </a:lnTo>
                  <a:lnTo>
                    <a:pt x="666" y="491"/>
                  </a:lnTo>
                  <a:lnTo>
                    <a:pt x="667" y="489"/>
                  </a:lnTo>
                  <a:lnTo>
                    <a:pt x="671" y="486"/>
                  </a:lnTo>
                  <a:lnTo>
                    <a:pt x="673" y="484"/>
                  </a:lnTo>
                  <a:lnTo>
                    <a:pt x="677" y="483"/>
                  </a:lnTo>
                  <a:lnTo>
                    <a:pt x="681" y="481"/>
                  </a:lnTo>
                  <a:lnTo>
                    <a:pt x="684" y="481"/>
                  </a:lnTo>
                  <a:lnTo>
                    <a:pt x="687" y="480"/>
                  </a:lnTo>
                  <a:lnTo>
                    <a:pt x="689" y="481"/>
                  </a:lnTo>
                  <a:lnTo>
                    <a:pt x="691" y="481"/>
                  </a:lnTo>
                  <a:lnTo>
                    <a:pt x="692" y="482"/>
                  </a:lnTo>
                  <a:lnTo>
                    <a:pt x="694" y="483"/>
                  </a:lnTo>
                  <a:lnTo>
                    <a:pt x="695" y="484"/>
                  </a:lnTo>
                  <a:lnTo>
                    <a:pt x="698" y="485"/>
                  </a:lnTo>
                  <a:lnTo>
                    <a:pt x="699" y="486"/>
                  </a:lnTo>
                  <a:lnTo>
                    <a:pt x="702" y="486"/>
                  </a:lnTo>
                  <a:lnTo>
                    <a:pt x="705" y="485"/>
                  </a:lnTo>
                  <a:lnTo>
                    <a:pt x="708" y="485"/>
                  </a:lnTo>
                  <a:lnTo>
                    <a:pt x="710" y="483"/>
                  </a:lnTo>
                  <a:lnTo>
                    <a:pt x="713" y="482"/>
                  </a:lnTo>
                  <a:lnTo>
                    <a:pt x="713" y="481"/>
                  </a:lnTo>
                  <a:lnTo>
                    <a:pt x="716" y="481"/>
                  </a:lnTo>
                  <a:lnTo>
                    <a:pt x="717" y="480"/>
                  </a:lnTo>
                  <a:lnTo>
                    <a:pt x="720" y="480"/>
                  </a:lnTo>
                  <a:lnTo>
                    <a:pt x="726" y="479"/>
                  </a:lnTo>
                  <a:lnTo>
                    <a:pt x="727" y="479"/>
                  </a:lnTo>
                  <a:lnTo>
                    <a:pt x="730" y="478"/>
                  </a:lnTo>
                  <a:lnTo>
                    <a:pt x="731" y="478"/>
                  </a:lnTo>
                  <a:lnTo>
                    <a:pt x="734" y="478"/>
                  </a:lnTo>
                  <a:lnTo>
                    <a:pt x="735" y="478"/>
                  </a:lnTo>
                  <a:lnTo>
                    <a:pt x="737" y="479"/>
                  </a:lnTo>
                  <a:lnTo>
                    <a:pt x="738" y="479"/>
                  </a:lnTo>
                  <a:lnTo>
                    <a:pt x="741" y="480"/>
                  </a:lnTo>
                  <a:lnTo>
                    <a:pt x="742" y="480"/>
                  </a:lnTo>
                  <a:lnTo>
                    <a:pt x="744" y="480"/>
                  </a:lnTo>
                  <a:lnTo>
                    <a:pt x="745" y="481"/>
                  </a:lnTo>
                  <a:lnTo>
                    <a:pt x="748" y="481"/>
                  </a:lnTo>
                  <a:lnTo>
                    <a:pt x="752" y="482"/>
                  </a:lnTo>
                  <a:lnTo>
                    <a:pt x="755" y="482"/>
                  </a:lnTo>
                  <a:lnTo>
                    <a:pt x="759" y="481"/>
                  </a:lnTo>
                  <a:lnTo>
                    <a:pt x="762" y="481"/>
                  </a:lnTo>
                  <a:lnTo>
                    <a:pt x="765" y="480"/>
                  </a:lnTo>
                  <a:lnTo>
                    <a:pt x="766" y="479"/>
                  </a:lnTo>
                  <a:lnTo>
                    <a:pt x="769" y="478"/>
                  </a:lnTo>
                  <a:lnTo>
                    <a:pt x="770" y="476"/>
                  </a:lnTo>
                  <a:lnTo>
                    <a:pt x="773" y="474"/>
                  </a:lnTo>
                  <a:lnTo>
                    <a:pt x="775" y="474"/>
                  </a:lnTo>
                  <a:lnTo>
                    <a:pt x="776" y="474"/>
                  </a:lnTo>
                  <a:lnTo>
                    <a:pt x="779" y="475"/>
                  </a:lnTo>
                  <a:lnTo>
                    <a:pt x="780" y="475"/>
                  </a:lnTo>
                  <a:lnTo>
                    <a:pt x="782" y="474"/>
                  </a:lnTo>
                  <a:lnTo>
                    <a:pt x="783" y="473"/>
                  </a:lnTo>
                  <a:lnTo>
                    <a:pt x="783" y="472"/>
                  </a:lnTo>
                  <a:lnTo>
                    <a:pt x="784" y="472"/>
                  </a:lnTo>
                  <a:lnTo>
                    <a:pt x="786" y="472"/>
                  </a:lnTo>
                  <a:lnTo>
                    <a:pt x="790" y="472"/>
                  </a:lnTo>
                  <a:lnTo>
                    <a:pt x="794" y="471"/>
                  </a:lnTo>
                  <a:lnTo>
                    <a:pt x="798" y="471"/>
                  </a:lnTo>
                  <a:lnTo>
                    <a:pt x="801" y="470"/>
                  </a:lnTo>
                  <a:lnTo>
                    <a:pt x="803" y="470"/>
                  </a:lnTo>
                  <a:lnTo>
                    <a:pt x="805" y="470"/>
                  </a:lnTo>
                  <a:lnTo>
                    <a:pt x="805" y="469"/>
                  </a:lnTo>
                  <a:lnTo>
                    <a:pt x="805" y="468"/>
                  </a:lnTo>
                  <a:lnTo>
                    <a:pt x="805" y="467"/>
                  </a:lnTo>
                  <a:lnTo>
                    <a:pt x="807" y="461"/>
                  </a:lnTo>
                  <a:lnTo>
                    <a:pt x="807" y="458"/>
                  </a:lnTo>
                  <a:lnTo>
                    <a:pt x="807" y="456"/>
                  </a:lnTo>
                  <a:lnTo>
                    <a:pt x="808" y="454"/>
                  </a:lnTo>
                  <a:lnTo>
                    <a:pt x="811" y="452"/>
                  </a:lnTo>
                  <a:lnTo>
                    <a:pt x="812" y="450"/>
                  </a:lnTo>
                  <a:lnTo>
                    <a:pt x="815" y="447"/>
                  </a:lnTo>
                  <a:lnTo>
                    <a:pt x="817" y="446"/>
                  </a:lnTo>
                  <a:lnTo>
                    <a:pt x="818" y="445"/>
                  </a:lnTo>
                  <a:lnTo>
                    <a:pt x="819" y="443"/>
                  </a:lnTo>
                  <a:lnTo>
                    <a:pt x="821" y="441"/>
                  </a:lnTo>
                  <a:lnTo>
                    <a:pt x="821" y="440"/>
                  </a:lnTo>
                  <a:lnTo>
                    <a:pt x="822" y="439"/>
                  </a:lnTo>
                  <a:lnTo>
                    <a:pt x="824" y="437"/>
                  </a:lnTo>
                  <a:lnTo>
                    <a:pt x="826" y="435"/>
                  </a:lnTo>
                  <a:lnTo>
                    <a:pt x="829" y="433"/>
                  </a:lnTo>
                  <a:lnTo>
                    <a:pt x="831" y="433"/>
                  </a:lnTo>
                  <a:lnTo>
                    <a:pt x="840" y="425"/>
                  </a:lnTo>
                  <a:lnTo>
                    <a:pt x="842" y="424"/>
                  </a:lnTo>
                  <a:lnTo>
                    <a:pt x="843" y="423"/>
                  </a:lnTo>
                  <a:lnTo>
                    <a:pt x="846" y="421"/>
                  </a:lnTo>
                  <a:lnTo>
                    <a:pt x="847" y="420"/>
                  </a:lnTo>
                  <a:lnTo>
                    <a:pt x="849" y="418"/>
                  </a:lnTo>
                  <a:lnTo>
                    <a:pt x="850" y="416"/>
                  </a:lnTo>
                  <a:lnTo>
                    <a:pt x="852" y="414"/>
                  </a:lnTo>
                  <a:lnTo>
                    <a:pt x="854" y="412"/>
                  </a:lnTo>
                  <a:lnTo>
                    <a:pt x="856" y="410"/>
                  </a:lnTo>
                  <a:lnTo>
                    <a:pt x="857" y="408"/>
                  </a:lnTo>
                  <a:lnTo>
                    <a:pt x="859" y="408"/>
                  </a:lnTo>
                  <a:lnTo>
                    <a:pt x="859" y="407"/>
                  </a:lnTo>
                  <a:lnTo>
                    <a:pt x="860" y="407"/>
                  </a:lnTo>
                  <a:lnTo>
                    <a:pt x="861" y="406"/>
                  </a:lnTo>
                  <a:lnTo>
                    <a:pt x="861" y="405"/>
                  </a:lnTo>
                  <a:lnTo>
                    <a:pt x="863" y="404"/>
                  </a:lnTo>
                  <a:lnTo>
                    <a:pt x="864" y="403"/>
                  </a:lnTo>
                  <a:lnTo>
                    <a:pt x="867" y="400"/>
                  </a:lnTo>
                  <a:lnTo>
                    <a:pt x="868" y="399"/>
                  </a:lnTo>
                  <a:lnTo>
                    <a:pt x="870" y="396"/>
                  </a:lnTo>
                  <a:lnTo>
                    <a:pt x="872" y="394"/>
                  </a:lnTo>
                  <a:lnTo>
                    <a:pt x="874" y="392"/>
                  </a:lnTo>
                  <a:lnTo>
                    <a:pt x="877" y="392"/>
                  </a:lnTo>
                  <a:lnTo>
                    <a:pt x="881" y="391"/>
                  </a:lnTo>
                  <a:lnTo>
                    <a:pt x="884" y="390"/>
                  </a:lnTo>
                  <a:lnTo>
                    <a:pt x="885" y="389"/>
                  </a:lnTo>
                  <a:lnTo>
                    <a:pt x="886" y="388"/>
                  </a:lnTo>
                  <a:lnTo>
                    <a:pt x="888" y="385"/>
                  </a:lnTo>
                  <a:lnTo>
                    <a:pt x="889" y="384"/>
                  </a:lnTo>
                  <a:lnTo>
                    <a:pt x="892" y="384"/>
                  </a:lnTo>
                  <a:lnTo>
                    <a:pt x="893" y="382"/>
                  </a:lnTo>
                  <a:lnTo>
                    <a:pt x="895" y="379"/>
                  </a:lnTo>
                  <a:lnTo>
                    <a:pt x="903" y="375"/>
                  </a:lnTo>
                  <a:lnTo>
                    <a:pt x="909" y="375"/>
                  </a:lnTo>
                  <a:lnTo>
                    <a:pt x="913" y="374"/>
                  </a:lnTo>
                  <a:lnTo>
                    <a:pt x="920" y="375"/>
                  </a:lnTo>
                  <a:lnTo>
                    <a:pt x="924" y="376"/>
                  </a:lnTo>
                  <a:lnTo>
                    <a:pt x="926" y="377"/>
                  </a:lnTo>
                  <a:lnTo>
                    <a:pt x="927" y="378"/>
                  </a:lnTo>
                  <a:lnTo>
                    <a:pt x="928" y="379"/>
                  </a:lnTo>
                  <a:lnTo>
                    <a:pt x="930" y="379"/>
                  </a:lnTo>
                  <a:lnTo>
                    <a:pt x="931" y="381"/>
                  </a:lnTo>
                  <a:lnTo>
                    <a:pt x="931" y="382"/>
                  </a:lnTo>
                  <a:lnTo>
                    <a:pt x="934" y="382"/>
                  </a:lnTo>
                  <a:lnTo>
                    <a:pt x="934" y="381"/>
                  </a:lnTo>
                  <a:lnTo>
                    <a:pt x="935" y="381"/>
                  </a:lnTo>
                  <a:lnTo>
                    <a:pt x="937" y="380"/>
                  </a:lnTo>
                  <a:lnTo>
                    <a:pt x="938" y="380"/>
                  </a:lnTo>
                  <a:lnTo>
                    <a:pt x="940" y="380"/>
                  </a:lnTo>
                  <a:lnTo>
                    <a:pt x="942" y="379"/>
                  </a:lnTo>
                  <a:lnTo>
                    <a:pt x="944" y="379"/>
                  </a:lnTo>
                  <a:lnTo>
                    <a:pt x="944" y="378"/>
                  </a:lnTo>
                  <a:lnTo>
                    <a:pt x="945" y="377"/>
                  </a:lnTo>
                  <a:lnTo>
                    <a:pt x="945" y="376"/>
                  </a:lnTo>
                  <a:lnTo>
                    <a:pt x="945" y="375"/>
                  </a:lnTo>
                  <a:lnTo>
                    <a:pt x="945" y="374"/>
                  </a:lnTo>
                  <a:lnTo>
                    <a:pt x="947" y="372"/>
                  </a:lnTo>
                  <a:lnTo>
                    <a:pt x="948" y="371"/>
                  </a:lnTo>
                  <a:lnTo>
                    <a:pt x="952" y="371"/>
                  </a:lnTo>
                  <a:lnTo>
                    <a:pt x="958" y="371"/>
                  </a:lnTo>
                  <a:lnTo>
                    <a:pt x="959" y="371"/>
                  </a:lnTo>
                  <a:lnTo>
                    <a:pt x="973" y="368"/>
                  </a:lnTo>
                  <a:lnTo>
                    <a:pt x="975" y="368"/>
                  </a:lnTo>
                  <a:lnTo>
                    <a:pt x="976" y="368"/>
                  </a:lnTo>
                  <a:lnTo>
                    <a:pt x="982" y="369"/>
                  </a:lnTo>
                  <a:lnTo>
                    <a:pt x="984" y="369"/>
                  </a:lnTo>
                  <a:lnTo>
                    <a:pt x="986" y="368"/>
                  </a:lnTo>
                  <a:lnTo>
                    <a:pt x="989" y="367"/>
                  </a:lnTo>
                  <a:lnTo>
                    <a:pt x="990" y="367"/>
                  </a:lnTo>
                  <a:lnTo>
                    <a:pt x="997" y="368"/>
                  </a:lnTo>
                  <a:lnTo>
                    <a:pt x="997" y="369"/>
                  </a:lnTo>
                  <a:lnTo>
                    <a:pt x="998" y="369"/>
                  </a:lnTo>
                  <a:lnTo>
                    <a:pt x="1000" y="368"/>
                  </a:lnTo>
                  <a:lnTo>
                    <a:pt x="1008" y="367"/>
                  </a:lnTo>
                  <a:lnTo>
                    <a:pt x="1014" y="367"/>
                  </a:lnTo>
                  <a:lnTo>
                    <a:pt x="1018" y="366"/>
                  </a:lnTo>
                  <a:lnTo>
                    <a:pt x="1023" y="365"/>
                  </a:lnTo>
                  <a:lnTo>
                    <a:pt x="1028" y="364"/>
                  </a:lnTo>
                  <a:lnTo>
                    <a:pt x="1030" y="363"/>
                  </a:lnTo>
                  <a:lnTo>
                    <a:pt x="1035" y="363"/>
                  </a:lnTo>
                  <a:lnTo>
                    <a:pt x="1039" y="361"/>
                  </a:lnTo>
                  <a:lnTo>
                    <a:pt x="1044" y="361"/>
                  </a:lnTo>
                  <a:lnTo>
                    <a:pt x="1051" y="361"/>
                  </a:lnTo>
                  <a:lnTo>
                    <a:pt x="1054" y="361"/>
                  </a:lnTo>
                  <a:lnTo>
                    <a:pt x="1057" y="361"/>
                  </a:lnTo>
                  <a:lnTo>
                    <a:pt x="1061" y="361"/>
                  </a:lnTo>
                  <a:lnTo>
                    <a:pt x="1064" y="360"/>
                  </a:lnTo>
                  <a:lnTo>
                    <a:pt x="1065" y="360"/>
                  </a:lnTo>
                  <a:lnTo>
                    <a:pt x="1067" y="359"/>
                  </a:lnTo>
                  <a:lnTo>
                    <a:pt x="1067" y="357"/>
                  </a:lnTo>
                  <a:lnTo>
                    <a:pt x="1068" y="354"/>
                  </a:lnTo>
                  <a:lnTo>
                    <a:pt x="1070" y="353"/>
                  </a:lnTo>
                  <a:lnTo>
                    <a:pt x="1072" y="349"/>
                  </a:lnTo>
                  <a:lnTo>
                    <a:pt x="1074" y="347"/>
                  </a:lnTo>
                  <a:lnTo>
                    <a:pt x="1077" y="345"/>
                  </a:lnTo>
                  <a:lnTo>
                    <a:pt x="1081" y="344"/>
                  </a:lnTo>
                  <a:lnTo>
                    <a:pt x="1084" y="34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30480" y="3451320"/>
              <a:ext cx="130320" cy="100080"/>
            </a:xfrm>
            <a:custGeom>
              <a:avLst/>
              <a:gdLst/>
              <a:ahLst/>
              <a:rect l="l" t="t" r="r" b="b"/>
              <a:pathLst>
                <a:path w="247" h="126">
                  <a:moveTo>
                    <a:pt x="13" y="98"/>
                  </a:moveTo>
                  <a:lnTo>
                    <a:pt x="4" y="80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4" y="66"/>
                  </a:lnTo>
                  <a:lnTo>
                    <a:pt x="14" y="65"/>
                  </a:lnTo>
                  <a:lnTo>
                    <a:pt x="20" y="63"/>
                  </a:lnTo>
                  <a:lnTo>
                    <a:pt x="25" y="63"/>
                  </a:lnTo>
                  <a:lnTo>
                    <a:pt x="29" y="63"/>
                  </a:lnTo>
                  <a:lnTo>
                    <a:pt x="35" y="60"/>
                  </a:lnTo>
                  <a:lnTo>
                    <a:pt x="36" y="55"/>
                  </a:lnTo>
                  <a:lnTo>
                    <a:pt x="38" y="52"/>
                  </a:lnTo>
                  <a:lnTo>
                    <a:pt x="45" y="49"/>
                  </a:lnTo>
                  <a:lnTo>
                    <a:pt x="46" y="46"/>
                  </a:lnTo>
                  <a:lnTo>
                    <a:pt x="47" y="47"/>
                  </a:lnTo>
                  <a:lnTo>
                    <a:pt x="50" y="46"/>
                  </a:lnTo>
                  <a:lnTo>
                    <a:pt x="56" y="47"/>
                  </a:lnTo>
                  <a:lnTo>
                    <a:pt x="59" y="48"/>
                  </a:lnTo>
                  <a:lnTo>
                    <a:pt x="57" y="43"/>
                  </a:lnTo>
                  <a:lnTo>
                    <a:pt x="59" y="43"/>
                  </a:lnTo>
                  <a:lnTo>
                    <a:pt x="63" y="45"/>
                  </a:lnTo>
                  <a:lnTo>
                    <a:pt x="66" y="45"/>
                  </a:lnTo>
                  <a:lnTo>
                    <a:pt x="75" y="51"/>
                  </a:lnTo>
                  <a:lnTo>
                    <a:pt x="74" y="54"/>
                  </a:lnTo>
                  <a:lnTo>
                    <a:pt x="75" y="58"/>
                  </a:lnTo>
                  <a:lnTo>
                    <a:pt x="80" y="59"/>
                  </a:lnTo>
                  <a:lnTo>
                    <a:pt x="84" y="58"/>
                  </a:lnTo>
                  <a:lnTo>
                    <a:pt x="82" y="56"/>
                  </a:lnTo>
                  <a:lnTo>
                    <a:pt x="80" y="54"/>
                  </a:lnTo>
                  <a:lnTo>
                    <a:pt x="80" y="52"/>
                  </a:lnTo>
                  <a:lnTo>
                    <a:pt x="82" y="51"/>
                  </a:lnTo>
                  <a:lnTo>
                    <a:pt x="89" y="51"/>
                  </a:lnTo>
                  <a:lnTo>
                    <a:pt x="96" y="53"/>
                  </a:lnTo>
                  <a:lnTo>
                    <a:pt x="105" y="51"/>
                  </a:lnTo>
                  <a:lnTo>
                    <a:pt x="105" y="47"/>
                  </a:lnTo>
                  <a:lnTo>
                    <a:pt x="108" y="41"/>
                  </a:lnTo>
                  <a:lnTo>
                    <a:pt x="112" y="35"/>
                  </a:lnTo>
                  <a:lnTo>
                    <a:pt x="119" y="33"/>
                  </a:lnTo>
                  <a:lnTo>
                    <a:pt x="124" y="34"/>
                  </a:lnTo>
                  <a:lnTo>
                    <a:pt x="127" y="32"/>
                  </a:lnTo>
                  <a:lnTo>
                    <a:pt x="131" y="28"/>
                  </a:lnTo>
                  <a:lnTo>
                    <a:pt x="179" y="6"/>
                  </a:lnTo>
                  <a:lnTo>
                    <a:pt x="182" y="5"/>
                  </a:lnTo>
                  <a:lnTo>
                    <a:pt x="186" y="8"/>
                  </a:lnTo>
                  <a:lnTo>
                    <a:pt x="186" y="4"/>
                  </a:lnTo>
                  <a:lnTo>
                    <a:pt x="189" y="2"/>
                  </a:lnTo>
                  <a:lnTo>
                    <a:pt x="204" y="0"/>
                  </a:lnTo>
                  <a:lnTo>
                    <a:pt x="205" y="2"/>
                  </a:lnTo>
                  <a:lnTo>
                    <a:pt x="215" y="4"/>
                  </a:lnTo>
                  <a:lnTo>
                    <a:pt x="224" y="7"/>
                  </a:lnTo>
                  <a:lnTo>
                    <a:pt x="228" y="6"/>
                  </a:lnTo>
                  <a:lnTo>
                    <a:pt x="229" y="8"/>
                  </a:lnTo>
                  <a:lnTo>
                    <a:pt x="238" y="9"/>
                  </a:lnTo>
                  <a:lnTo>
                    <a:pt x="243" y="10"/>
                  </a:lnTo>
                  <a:lnTo>
                    <a:pt x="247" y="13"/>
                  </a:lnTo>
                  <a:lnTo>
                    <a:pt x="247" y="17"/>
                  </a:lnTo>
                  <a:lnTo>
                    <a:pt x="247" y="18"/>
                  </a:lnTo>
                  <a:lnTo>
                    <a:pt x="243" y="20"/>
                  </a:lnTo>
                  <a:lnTo>
                    <a:pt x="245" y="23"/>
                  </a:lnTo>
                  <a:lnTo>
                    <a:pt x="239" y="26"/>
                  </a:lnTo>
                  <a:lnTo>
                    <a:pt x="236" y="30"/>
                  </a:lnTo>
                  <a:lnTo>
                    <a:pt x="219" y="39"/>
                  </a:lnTo>
                  <a:lnTo>
                    <a:pt x="217" y="38"/>
                  </a:lnTo>
                  <a:lnTo>
                    <a:pt x="204" y="43"/>
                  </a:lnTo>
                  <a:lnTo>
                    <a:pt x="201" y="46"/>
                  </a:lnTo>
                  <a:lnTo>
                    <a:pt x="198" y="47"/>
                  </a:lnTo>
                  <a:lnTo>
                    <a:pt x="191" y="50"/>
                  </a:lnTo>
                  <a:lnTo>
                    <a:pt x="186" y="49"/>
                  </a:lnTo>
                  <a:lnTo>
                    <a:pt x="184" y="46"/>
                  </a:lnTo>
                  <a:lnTo>
                    <a:pt x="182" y="47"/>
                  </a:lnTo>
                  <a:lnTo>
                    <a:pt x="183" y="52"/>
                  </a:lnTo>
                  <a:lnTo>
                    <a:pt x="187" y="57"/>
                  </a:lnTo>
                  <a:lnTo>
                    <a:pt x="183" y="56"/>
                  </a:lnTo>
                  <a:lnTo>
                    <a:pt x="175" y="60"/>
                  </a:lnTo>
                  <a:lnTo>
                    <a:pt x="173" y="64"/>
                  </a:lnTo>
                  <a:lnTo>
                    <a:pt x="169" y="63"/>
                  </a:lnTo>
                  <a:lnTo>
                    <a:pt x="155" y="68"/>
                  </a:lnTo>
                  <a:lnTo>
                    <a:pt x="144" y="74"/>
                  </a:lnTo>
                  <a:lnTo>
                    <a:pt x="130" y="82"/>
                  </a:lnTo>
                  <a:lnTo>
                    <a:pt x="98" y="95"/>
                  </a:lnTo>
                  <a:lnTo>
                    <a:pt x="95" y="100"/>
                  </a:lnTo>
                  <a:lnTo>
                    <a:pt x="80" y="107"/>
                  </a:lnTo>
                  <a:lnTo>
                    <a:pt x="78" y="105"/>
                  </a:lnTo>
                  <a:lnTo>
                    <a:pt x="71" y="108"/>
                  </a:lnTo>
                  <a:lnTo>
                    <a:pt x="46" y="117"/>
                  </a:lnTo>
                  <a:lnTo>
                    <a:pt x="43" y="119"/>
                  </a:lnTo>
                  <a:lnTo>
                    <a:pt x="18" y="126"/>
                  </a:lnTo>
                  <a:lnTo>
                    <a:pt x="13" y="123"/>
                  </a:lnTo>
                  <a:lnTo>
                    <a:pt x="7" y="108"/>
                  </a:lnTo>
                  <a:lnTo>
                    <a:pt x="8" y="104"/>
                  </a:lnTo>
                  <a:lnTo>
                    <a:pt x="13" y="98"/>
                  </a:lnTo>
                  <a:close/>
                  <a:moveTo>
                    <a:pt x="117" y="67"/>
                  </a:moveTo>
                  <a:lnTo>
                    <a:pt x="115" y="69"/>
                  </a:lnTo>
                  <a:lnTo>
                    <a:pt x="113" y="73"/>
                  </a:lnTo>
                  <a:lnTo>
                    <a:pt x="109" y="77"/>
                  </a:lnTo>
                  <a:lnTo>
                    <a:pt x="112" y="80"/>
                  </a:lnTo>
                  <a:lnTo>
                    <a:pt x="116" y="80"/>
                  </a:lnTo>
                  <a:lnTo>
                    <a:pt x="122" y="76"/>
                  </a:lnTo>
                  <a:lnTo>
                    <a:pt x="129" y="75"/>
                  </a:lnTo>
                  <a:lnTo>
                    <a:pt x="129" y="71"/>
                  </a:lnTo>
                  <a:lnTo>
                    <a:pt x="124" y="67"/>
                  </a:lnTo>
                  <a:lnTo>
                    <a:pt x="120" y="66"/>
                  </a:lnTo>
                  <a:lnTo>
                    <a:pt x="117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3562200" y="2952720"/>
              <a:ext cx="648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6360" y="1414440"/>
              <a:ext cx="1393920" cy="727200"/>
            </a:xfrm>
            <a:custGeom>
              <a:avLst/>
              <a:gdLst/>
              <a:ahLst/>
              <a:rect l="l" t="t" r="r" b="b"/>
              <a:pathLst>
                <a:path w="2634" h="917">
                  <a:moveTo>
                    <a:pt x="2634" y="917"/>
                  </a:moveTo>
                  <a:lnTo>
                    <a:pt x="2592" y="881"/>
                  </a:lnTo>
                  <a:lnTo>
                    <a:pt x="2550" y="857"/>
                  </a:lnTo>
                  <a:lnTo>
                    <a:pt x="2512" y="837"/>
                  </a:lnTo>
                  <a:lnTo>
                    <a:pt x="2487" y="817"/>
                  </a:lnTo>
                  <a:lnTo>
                    <a:pt x="2465" y="789"/>
                  </a:lnTo>
                  <a:lnTo>
                    <a:pt x="2442" y="757"/>
                  </a:lnTo>
                  <a:lnTo>
                    <a:pt x="2442" y="734"/>
                  </a:lnTo>
                  <a:lnTo>
                    <a:pt x="2458" y="713"/>
                  </a:lnTo>
                  <a:lnTo>
                    <a:pt x="2455" y="690"/>
                  </a:lnTo>
                  <a:lnTo>
                    <a:pt x="2444" y="679"/>
                  </a:lnTo>
                  <a:lnTo>
                    <a:pt x="2403" y="670"/>
                  </a:lnTo>
                  <a:lnTo>
                    <a:pt x="2375" y="671"/>
                  </a:lnTo>
                  <a:lnTo>
                    <a:pt x="2322" y="656"/>
                  </a:lnTo>
                  <a:lnTo>
                    <a:pt x="2286" y="655"/>
                  </a:lnTo>
                  <a:lnTo>
                    <a:pt x="2254" y="656"/>
                  </a:lnTo>
                  <a:lnTo>
                    <a:pt x="2220" y="647"/>
                  </a:lnTo>
                  <a:lnTo>
                    <a:pt x="2198" y="633"/>
                  </a:lnTo>
                  <a:lnTo>
                    <a:pt x="2173" y="619"/>
                  </a:lnTo>
                  <a:lnTo>
                    <a:pt x="2143" y="604"/>
                  </a:lnTo>
                  <a:lnTo>
                    <a:pt x="2135" y="597"/>
                  </a:lnTo>
                  <a:lnTo>
                    <a:pt x="2090" y="605"/>
                  </a:lnTo>
                  <a:lnTo>
                    <a:pt x="2059" y="621"/>
                  </a:lnTo>
                  <a:lnTo>
                    <a:pt x="2034" y="633"/>
                  </a:lnTo>
                  <a:lnTo>
                    <a:pt x="1991" y="646"/>
                  </a:lnTo>
                  <a:lnTo>
                    <a:pt x="1953" y="660"/>
                  </a:lnTo>
                  <a:lnTo>
                    <a:pt x="1925" y="676"/>
                  </a:lnTo>
                  <a:lnTo>
                    <a:pt x="1906" y="689"/>
                  </a:lnTo>
                  <a:lnTo>
                    <a:pt x="1866" y="692"/>
                  </a:lnTo>
                  <a:lnTo>
                    <a:pt x="1824" y="682"/>
                  </a:lnTo>
                  <a:lnTo>
                    <a:pt x="1791" y="693"/>
                  </a:lnTo>
                  <a:lnTo>
                    <a:pt x="1729" y="685"/>
                  </a:lnTo>
                  <a:lnTo>
                    <a:pt x="1671" y="661"/>
                  </a:lnTo>
                  <a:lnTo>
                    <a:pt x="1604" y="683"/>
                  </a:lnTo>
                  <a:lnTo>
                    <a:pt x="1570" y="681"/>
                  </a:lnTo>
                  <a:lnTo>
                    <a:pt x="1532" y="671"/>
                  </a:lnTo>
                  <a:lnTo>
                    <a:pt x="1490" y="663"/>
                  </a:lnTo>
                  <a:lnTo>
                    <a:pt x="1437" y="656"/>
                  </a:lnTo>
                  <a:lnTo>
                    <a:pt x="1386" y="651"/>
                  </a:lnTo>
                  <a:lnTo>
                    <a:pt x="1344" y="643"/>
                  </a:lnTo>
                  <a:lnTo>
                    <a:pt x="1292" y="617"/>
                  </a:lnTo>
                  <a:lnTo>
                    <a:pt x="1249" y="598"/>
                  </a:lnTo>
                  <a:lnTo>
                    <a:pt x="1205" y="567"/>
                  </a:lnTo>
                  <a:lnTo>
                    <a:pt x="1172" y="545"/>
                  </a:lnTo>
                  <a:lnTo>
                    <a:pt x="1139" y="521"/>
                  </a:lnTo>
                  <a:lnTo>
                    <a:pt x="1102" y="491"/>
                  </a:lnTo>
                  <a:lnTo>
                    <a:pt x="1077" y="469"/>
                  </a:lnTo>
                  <a:lnTo>
                    <a:pt x="1040" y="442"/>
                  </a:lnTo>
                  <a:lnTo>
                    <a:pt x="1014" y="416"/>
                  </a:lnTo>
                  <a:lnTo>
                    <a:pt x="987" y="386"/>
                  </a:lnTo>
                  <a:lnTo>
                    <a:pt x="975" y="350"/>
                  </a:lnTo>
                  <a:lnTo>
                    <a:pt x="948" y="321"/>
                  </a:lnTo>
                  <a:lnTo>
                    <a:pt x="931" y="302"/>
                  </a:lnTo>
                  <a:lnTo>
                    <a:pt x="926" y="275"/>
                  </a:lnTo>
                  <a:lnTo>
                    <a:pt x="907" y="229"/>
                  </a:lnTo>
                  <a:lnTo>
                    <a:pt x="881" y="204"/>
                  </a:lnTo>
                  <a:lnTo>
                    <a:pt x="874" y="179"/>
                  </a:lnTo>
                  <a:lnTo>
                    <a:pt x="854" y="144"/>
                  </a:lnTo>
                  <a:lnTo>
                    <a:pt x="810" y="86"/>
                  </a:lnTo>
                  <a:lnTo>
                    <a:pt x="780" y="74"/>
                  </a:lnTo>
                  <a:lnTo>
                    <a:pt x="628" y="17"/>
                  </a:lnTo>
                  <a:lnTo>
                    <a:pt x="568" y="0"/>
                  </a:lnTo>
                  <a:lnTo>
                    <a:pt x="385" y="0"/>
                  </a:lnTo>
                  <a:lnTo>
                    <a:pt x="169" y="1"/>
                  </a:lnTo>
                  <a:lnTo>
                    <a:pt x="0" y="18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81200" y="2141640"/>
              <a:ext cx="19080" cy="6120"/>
            </a:xfrm>
            <a:custGeom>
              <a:avLst/>
              <a:gdLst/>
              <a:ahLst/>
              <a:rect l="l" t="t" r="r" b="b"/>
              <a:pathLst>
                <a:path w="38" h="8">
                  <a:moveTo>
                    <a:pt x="38" y="0"/>
                  </a:moveTo>
                  <a:lnTo>
                    <a:pt x="32" y="3"/>
                  </a:lnTo>
                  <a:lnTo>
                    <a:pt x="21" y="7"/>
                  </a:lnTo>
                  <a:lnTo>
                    <a:pt x="9" y="8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357720" y="2498760"/>
              <a:ext cx="141120" cy="90360"/>
            </a:xfrm>
            <a:custGeom>
              <a:avLst/>
              <a:gdLst/>
              <a:ahLst/>
              <a:rect l="l" t="t" r="r" b="b"/>
              <a:pathLst>
                <a:path w="266" h="113">
                  <a:moveTo>
                    <a:pt x="0" y="0"/>
                  </a:moveTo>
                  <a:lnTo>
                    <a:pt x="28" y="13"/>
                  </a:lnTo>
                  <a:lnTo>
                    <a:pt x="49" y="14"/>
                  </a:lnTo>
                  <a:lnTo>
                    <a:pt x="63" y="18"/>
                  </a:lnTo>
                  <a:lnTo>
                    <a:pt x="77" y="22"/>
                  </a:lnTo>
                  <a:lnTo>
                    <a:pt x="94" y="30"/>
                  </a:lnTo>
                  <a:lnTo>
                    <a:pt x="105" y="42"/>
                  </a:lnTo>
                  <a:lnTo>
                    <a:pt x="109" y="55"/>
                  </a:lnTo>
                  <a:lnTo>
                    <a:pt x="106" y="71"/>
                  </a:lnTo>
                  <a:lnTo>
                    <a:pt x="113" y="83"/>
                  </a:lnTo>
                  <a:lnTo>
                    <a:pt x="118" y="99"/>
                  </a:lnTo>
                  <a:lnTo>
                    <a:pt x="132" y="107"/>
                  </a:lnTo>
                  <a:lnTo>
                    <a:pt x="147" y="112"/>
                  </a:lnTo>
                  <a:lnTo>
                    <a:pt x="168" y="113"/>
                  </a:lnTo>
                  <a:lnTo>
                    <a:pt x="182" y="107"/>
                  </a:lnTo>
                  <a:lnTo>
                    <a:pt x="193" y="100"/>
                  </a:lnTo>
                  <a:lnTo>
                    <a:pt x="204" y="95"/>
                  </a:lnTo>
                  <a:lnTo>
                    <a:pt x="214" y="80"/>
                  </a:lnTo>
                  <a:lnTo>
                    <a:pt x="218" y="66"/>
                  </a:lnTo>
                  <a:lnTo>
                    <a:pt x="222" y="56"/>
                  </a:lnTo>
                  <a:lnTo>
                    <a:pt x="238" y="41"/>
                  </a:lnTo>
                  <a:lnTo>
                    <a:pt x="257" y="29"/>
                  </a:lnTo>
                  <a:lnTo>
                    <a:pt x="266" y="29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00280" y="2139840"/>
              <a:ext cx="554040" cy="476280"/>
            </a:xfrm>
            <a:custGeom>
              <a:avLst/>
              <a:gdLst/>
              <a:ahLst/>
              <a:rect l="l" t="t" r="r" b="b"/>
              <a:pathLst>
                <a:path w="1047" h="598">
                  <a:moveTo>
                    <a:pt x="1047" y="598"/>
                  </a:moveTo>
                  <a:lnTo>
                    <a:pt x="1040" y="596"/>
                  </a:lnTo>
                  <a:lnTo>
                    <a:pt x="1030" y="591"/>
                  </a:lnTo>
                  <a:lnTo>
                    <a:pt x="1020" y="584"/>
                  </a:lnTo>
                  <a:lnTo>
                    <a:pt x="1009" y="580"/>
                  </a:lnTo>
                  <a:lnTo>
                    <a:pt x="997" y="578"/>
                  </a:lnTo>
                  <a:lnTo>
                    <a:pt x="984" y="578"/>
                  </a:lnTo>
                  <a:lnTo>
                    <a:pt x="971" y="576"/>
                  </a:lnTo>
                  <a:lnTo>
                    <a:pt x="959" y="573"/>
                  </a:lnTo>
                  <a:lnTo>
                    <a:pt x="945" y="572"/>
                  </a:lnTo>
                  <a:lnTo>
                    <a:pt x="934" y="569"/>
                  </a:lnTo>
                  <a:lnTo>
                    <a:pt x="920" y="567"/>
                  </a:lnTo>
                  <a:lnTo>
                    <a:pt x="909" y="564"/>
                  </a:lnTo>
                  <a:lnTo>
                    <a:pt x="899" y="558"/>
                  </a:lnTo>
                  <a:lnTo>
                    <a:pt x="890" y="550"/>
                  </a:lnTo>
                  <a:lnTo>
                    <a:pt x="883" y="543"/>
                  </a:lnTo>
                  <a:lnTo>
                    <a:pt x="875" y="535"/>
                  </a:lnTo>
                  <a:lnTo>
                    <a:pt x="867" y="528"/>
                  </a:lnTo>
                  <a:lnTo>
                    <a:pt x="860" y="521"/>
                  </a:lnTo>
                  <a:lnTo>
                    <a:pt x="850" y="514"/>
                  </a:lnTo>
                  <a:lnTo>
                    <a:pt x="840" y="508"/>
                  </a:lnTo>
                  <a:lnTo>
                    <a:pt x="829" y="503"/>
                  </a:lnTo>
                  <a:lnTo>
                    <a:pt x="818" y="499"/>
                  </a:lnTo>
                  <a:lnTo>
                    <a:pt x="806" y="494"/>
                  </a:lnTo>
                  <a:lnTo>
                    <a:pt x="797" y="488"/>
                  </a:lnTo>
                  <a:lnTo>
                    <a:pt x="786" y="483"/>
                  </a:lnTo>
                  <a:lnTo>
                    <a:pt x="774" y="478"/>
                  </a:lnTo>
                  <a:lnTo>
                    <a:pt x="763" y="472"/>
                  </a:lnTo>
                  <a:lnTo>
                    <a:pt x="755" y="466"/>
                  </a:lnTo>
                  <a:lnTo>
                    <a:pt x="746" y="458"/>
                  </a:lnTo>
                  <a:lnTo>
                    <a:pt x="741" y="450"/>
                  </a:lnTo>
                  <a:lnTo>
                    <a:pt x="732" y="443"/>
                  </a:lnTo>
                  <a:lnTo>
                    <a:pt x="725" y="435"/>
                  </a:lnTo>
                  <a:lnTo>
                    <a:pt x="717" y="428"/>
                  </a:lnTo>
                  <a:lnTo>
                    <a:pt x="706" y="423"/>
                  </a:lnTo>
                  <a:lnTo>
                    <a:pt x="693" y="425"/>
                  </a:lnTo>
                  <a:lnTo>
                    <a:pt x="679" y="425"/>
                  </a:lnTo>
                  <a:lnTo>
                    <a:pt x="668" y="428"/>
                  </a:lnTo>
                  <a:lnTo>
                    <a:pt x="657" y="434"/>
                  </a:lnTo>
                  <a:lnTo>
                    <a:pt x="646" y="439"/>
                  </a:lnTo>
                  <a:lnTo>
                    <a:pt x="635" y="439"/>
                  </a:lnTo>
                  <a:lnTo>
                    <a:pt x="625" y="433"/>
                  </a:lnTo>
                  <a:lnTo>
                    <a:pt x="618" y="424"/>
                  </a:lnTo>
                  <a:lnTo>
                    <a:pt x="612" y="416"/>
                  </a:lnTo>
                  <a:lnTo>
                    <a:pt x="604" y="409"/>
                  </a:lnTo>
                  <a:lnTo>
                    <a:pt x="598" y="401"/>
                  </a:lnTo>
                  <a:lnTo>
                    <a:pt x="595" y="392"/>
                  </a:lnTo>
                  <a:lnTo>
                    <a:pt x="590" y="384"/>
                  </a:lnTo>
                  <a:lnTo>
                    <a:pt x="584" y="375"/>
                  </a:lnTo>
                  <a:lnTo>
                    <a:pt x="586" y="366"/>
                  </a:lnTo>
                  <a:lnTo>
                    <a:pt x="581" y="358"/>
                  </a:lnTo>
                  <a:lnTo>
                    <a:pt x="573" y="351"/>
                  </a:lnTo>
                  <a:lnTo>
                    <a:pt x="565" y="344"/>
                  </a:lnTo>
                  <a:lnTo>
                    <a:pt x="558" y="336"/>
                  </a:lnTo>
                  <a:lnTo>
                    <a:pt x="549" y="329"/>
                  </a:lnTo>
                  <a:lnTo>
                    <a:pt x="537" y="328"/>
                  </a:lnTo>
                  <a:lnTo>
                    <a:pt x="524" y="329"/>
                  </a:lnTo>
                  <a:lnTo>
                    <a:pt x="510" y="330"/>
                  </a:lnTo>
                  <a:lnTo>
                    <a:pt x="499" y="326"/>
                  </a:lnTo>
                  <a:lnTo>
                    <a:pt x="488" y="321"/>
                  </a:lnTo>
                  <a:lnTo>
                    <a:pt x="478" y="315"/>
                  </a:lnTo>
                  <a:lnTo>
                    <a:pt x="468" y="309"/>
                  </a:lnTo>
                  <a:lnTo>
                    <a:pt x="457" y="303"/>
                  </a:lnTo>
                  <a:lnTo>
                    <a:pt x="446" y="299"/>
                  </a:lnTo>
                  <a:lnTo>
                    <a:pt x="433" y="297"/>
                  </a:lnTo>
                  <a:lnTo>
                    <a:pt x="422" y="292"/>
                  </a:lnTo>
                  <a:lnTo>
                    <a:pt x="412" y="285"/>
                  </a:lnTo>
                  <a:lnTo>
                    <a:pt x="408" y="276"/>
                  </a:lnTo>
                  <a:lnTo>
                    <a:pt x="402" y="268"/>
                  </a:lnTo>
                  <a:lnTo>
                    <a:pt x="397" y="259"/>
                  </a:lnTo>
                  <a:lnTo>
                    <a:pt x="390" y="251"/>
                  </a:lnTo>
                  <a:lnTo>
                    <a:pt x="384" y="243"/>
                  </a:lnTo>
                  <a:lnTo>
                    <a:pt x="380" y="234"/>
                  </a:lnTo>
                  <a:lnTo>
                    <a:pt x="380" y="225"/>
                  </a:lnTo>
                  <a:lnTo>
                    <a:pt x="376" y="216"/>
                  </a:lnTo>
                  <a:lnTo>
                    <a:pt x="369" y="208"/>
                  </a:lnTo>
                  <a:lnTo>
                    <a:pt x="361" y="201"/>
                  </a:lnTo>
                  <a:lnTo>
                    <a:pt x="352" y="194"/>
                  </a:lnTo>
                  <a:lnTo>
                    <a:pt x="342" y="189"/>
                  </a:lnTo>
                  <a:lnTo>
                    <a:pt x="334" y="182"/>
                  </a:lnTo>
                  <a:lnTo>
                    <a:pt x="327" y="173"/>
                  </a:lnTo>
                  <a:lnTo>
                    <a:pt x="323" y="165"/>
                  </a:lnTo>
                  <a:lnTo>
                    <a:pt x="317" y="156"/>
                  </a:lnTo>
                  <a:lnTo>
                    <a:pt x="307" y="150"/>
                  </a:lnTo>
                  <a:lnTo>
                    <a:pt x="296" y="145"/>
                  </a:lnTo>
                  <a:lnTo>
                    <a:pt x="284" y="142"/>
                  </a:lnTo>
                  <a:lnTo>
                    <a:pt x="272" y="137"/>
                  </a:lnTo>
                  <a:lnTo>
                    <a:pt x="264" y="130"/>
                  </a:lnTo>
                  <a:lnTo>
                    <a:pt x="257" y="122"/>
                  </a:lnTo>
                  <a:lnTo>
                    <a:pt x="250" y="114"/>
                  </a:lnTo>
                  <a:lnTo>
                    <a:pt x="242" y="107"/>
                  </a:lnTo>
                  <a:lnTo>
                    <a:pt x="232" y="101"/>
                  </a:lnTo>
                  <a:lnTo>
                    <a:pt x="224" y="94"/>
                  </a:lnTo>
                  <a:lnTo>
                    <a:pt x="215" y="86"/>
                  </a:lnTo>
                  <a:lnTo>
                    <a:pt x="208" y="79"/>
                  </a:lnTo>
                  <a:lnTo>
                    <a:pt x="200" y="72"/>
                  </a:lnTo>
                  <a:lnTo>
                    <a:pt x="191" y="64"/>
                  </a:lnTo>
                  <a:lnTo>
                    <a:pt x="182" y="59"/>
                  </a:lnTo>
                  <a:lnTo>
                    <a:pt x="169" y="57"/>
                  </a:lnTo>
                  <a:lnTo>
                    <a:pt x="156" y="55"/>
                  </a:lnTo>
                  <a:lnTo>
                    <a:pt x="142" y="54"/>
                  </a:lnTo>
                  <a:lnTo>
                    <a:pt x="130" y="54"/>
                  </a:lnTo>
                  <a:lnTo>
                    <a:pt x="117" y="55"/>
                  </a:lnTo>
                  <a:lnTo>
                    <a:pt x="105" y="57"/>
                  </a:lnTo>
                  <a:lnTo>
                    <a:pt x="91" y="58"/>
                  </a:lnTo>
                  <a:lnTo>
                    <a:pt x="78" y="58"/>
                  </a:lnTo>
                  <a:lnTo>
                    <a:pt x="66" y="56"/>
                  </a:lnTo>
                  <a:lnTo>
                    <a:pt x="53" y="53"/>
                  </a:lnTo>
                  <a:lnTo>
                    <a:pt x="42" y="49"/>
                  </a:lnTo>
                  <a:lnTo>
                    <a:pt x="31" y="44"/>
                  </a:lnTo>
                  <a:lnTo>
                    <a:pt x="22" y="37"/>
                  </a:lnTo>
                  <a:lnTo>
                    <a:pt x="19" y="28"/>
                  </a:lnTo>
                  <a:lnTo>
                    <a:pt x="19" y="18"/>
                  </a:lnTo>
                  <a:lnTo>
                    <a:pt x="19" y="9"/>
                  </a:lnTo>
                  <a:lnTo>
                    <a:pt x="15" y="0"/>
                  </a:lnTo>
                  <a:lnTo>
                    <a:pt x="4" y="0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54320" y="2489040"/>
              <a:ext cx="1103400" cy="147960"/>
            </a:xfrm>
            <a:custGeom>
              <a:avLst/>
              <a:gdLst/>
              <a:ahLst/>
              <a:rect l="l" t="t" r="r" b="b"/>
              <a:pathLst>
                <a:path w="2084" h="185">
                  <a:moveTo>
                    <a:pt x="2084" y="13"/>
                  </a:moveTo>
                  <a:lnTo>
                    <a:pt x="2073" y="14"/>
                  </a:lnTo>
                  <a:lnTo>
                    <a:pt x="2060" y="12"/>
                  </a:lnTo>
                  <a:lnTo>
                    <a:pt x="2048" y="9"/>
                  </a:lnTo>
                  <a:lnTo>
                    <a:pt x="2035" y="9"/>
                  </a:lnTo>
                  <a:lnTo>
                    <a:pt x="2023" y="9"/>
                  </a:lnTo>
                  <a:lnTo>
                    <a:pt x="2010" y="5"/>
                  </a:lnTo>
                  <a:lnTo>
                    <a:pt x="1999" y="2"/>
                  </a:lnTo>
                  <a:lnTo>
                    <a:pt x="1986" y="0"/>
                  </a:lnTo>
                  <a:lnTo>
                    <a:pt x="1972" y="0"/>
                  </a:lnTo>
                  <a:lnTo>
                    <a:pt x="1960" y="1"/>
                  </a:lnTo>
                  <a:lnTo>
                    <a:pt x="1947" y="3"/>
                  </a:lnTo>
                  <a:lnTo>
                    <a:pt x="1935" y="7"/>
                  </a:lnTo>
                  <a:lnTo>
                    <a:pt x="1925" y="12"/>
                  </a:lnTo>
                  <a:lnTo>
                    <a:pt x="1912" y="13"/>
                  </a:lnTo>
                  <a:lnTo>
                    <a:pt x="1898" y="14"/>
                  </a:lnTo>
                  <a:lnTo>
                    <a:pt x="1886" y="16"/>
                  </a:lnTo>
                  <a:lnTo>
                    <a:pt x="1873" y="19"/>
                  </a:lnTo>
                  <a:lnTo>
                    <a:pt x="1865" y="25"/>
                  </a:lnTo>
                  <a:lnTo>
                    <a:pt x="1858" y="33"/>
                  </a:lnTo>
                  <a:lnTo>
                    <a:pt x="1855" y="42"/>
                  </a:lnTo>
                  <a:lnTo>
                    <a:pt x="1854" y="52"/>
                  </a:lnTo>
                  <a:lnTo>
                    <a:pt x="1852" y="61"/>
                  </a:lnTo>
                  <a:lnTo>
                    <a:pt x="1847" y="69"/>
                  </a:lnTo>
                  <a:lnTo>
                    <a:pt x="1837" y="76"/>
                  </a:lnTo>
                  <a:lnTo>
                    <a:pt x="1826" y="81"/>
                  </a:lnTo>
                  <a:lnTo>
                    <a:pt x="1814" y="83"/>
                  </a:lnTo>
                  <a:lnTo>
                    <a:pt x="1803" y="89"/>
                  </a:lnTo>
                  <a:lnTo>
                    <a:pt x="1795" y="96"/>
                  </a:lnTo>
                  <a:lnTo>
                    <a:pt x="1784" y="102"/>
                  </a:lnTo>
                  <a:lnTo>
                    <a:pt x="1774" y="108"/>
                  </a:lnTo>
                  <a:lnTo>
                    <a:pt x="1764" y="113"/>
                  </a:lnTo>
                  <a:lnTo>
                    <a:pt x="1752" y="117"/>
                  </a:lnTo>
                  <a:lnTo>
                    <a:pt x="1739" y="119"/>
                  </a:lnTo>
                  <a:lnTo>
                    <a:pt x="1728" y="123"/>
                  </a:lnTo>
                  <a:lnTo>
                    <a:pt x="1715" y="126"/>
                  </a:lnTo>
                  <a:lnTo>
                    <a:pt x="1703" y="129"/>
                  </a:lnTo>
                  <a:lnTo>
                    <a:pt x="1690" y="131"/>
                  </a:lnTo>
                  <a:lnTo>
                    <a:pt x="1677" y="132"/>
                  </a:lnTo>
                  <a:lnTo>
                    <a:pt x="1663" y="132"/>
                  </a:lnTo>
                  <a:lnTo>
                    <a:pt x="1651" y="133"/>
                  </a:lnTo>
                  <a:lnTo>
                    <a:pt x="1638" y="134"/>
                  </a:lnTo>
                  <a:lnTo>
                    <a:pt x="1624" y="134"/>
                  </a:lnTo>
                  <a:lnTo>
                    <a:pt x="1612" y="132"/>
                  </a:lnTo>
                  <a:lnTo>
                    <a:pt x="1599" y="129"/>
                  </a:lnTo>
                  <a:lnTo>
                    <a:pt x="1588" y="125"/>
                  </a:lnTo>
                  <a:lnTo>
                    <a:pt x="1575" y="123"/>
                  </a:lnTo>
                  <a:lnTo>
                    <a:pt x="1563" y="121"/>
                  </a:lnTo>
                  <a:lnTo>
                    <a:pt x="1550" y="119"/>
                  </a:lnTo>
                  <a:lnTo>
                    <a:pt x="1536" y="117"/>
                  </a:lnTo>
                  <a:lnTo>
                    <a:pt x="1524" y="117"/>
                  </a:lnTo>
                  <a:lnTo>
                    <a:pt x="1500" y="120"/>
                  </a:lnTo>
                  <a:lnTo>
                    <a:pt x="1486" y="119"/>
                  </a:lnTo>
                  <a:lnTo>
                    <a:pt x="1475" y="122"/>
                  </a:lnTo>
                  <a:lnTo>
                    <a:pt x="1464" y="127"/>
                  </a:lnTo>
                  <a:lnTo>
                    <a:pt x="1452" y="132"/>
                  </a:lnTo>
                  <a:lnTo>
                    <a:pt x="1441" y="136"/>
                  </a:lnTo>
                  <a:lnTo>
                    <a:pt x="1429" y="138"/>
                  </a:lnTo>
                  <a:lnTo>
                    <a:pt x="1416" y="141"/>
                  </a:lnTo>
                  <a:lnTo>
                    <a:pt x="1403" y="143"/>
                  </a:lnTo>
                  <a:lnTo>
                    <a:pt x="1389" y="144"/>
                  </a:lnTo>
                  <a:lnTo>
                    <a:pt x="1377" y="142"/>
                  </a:lnTo>
                  <a:lnTo>
                    <a:pt x="1367" y="136"/>
                  </a:lnTo>
                  <a:lnTo>
                    <a:pt x="1359" y="129"/>
                  </a:lnTo>
                  <a:lnTo>
                    <a:pt x="1348" y="124"/>
                  </a:lnTo>
                  <a:lnTo>
                    <a:pt x="1336" y="120"/>
                  </a:lnTo>
                  <a:lnTo>
                    <a:pt x="1324" y="118"/>
                  </a:lnTo>
                  <a:lnTo>
                    <a:pt x="1310" y="118"/>
                  </a:lnTo>
                  <a:lnTo>
                    <a:pt x="1299" y="121"/>
                  </a:lnTo>
                  <a:lnTo>
                    <a:pt x="1287" y="127"/>
                  </a:lnTo>
                  <a:lnTo>
                    <a:pt x="1278" y="133"/>
                  </a:lnTo>
                  <a:lnTo>
                    <a:pt x="1266" y="137"/>
                  </a:lnTo>
                  <a:lnTo>
                    <a:pt x="1252" y="138"/>
                  </a:lnTo>
                  <a:lnTo>
                    <a:pt x="1240" y="140"/>
                  </a:lnTo>
                  <a:lnTo>
                    <a:pt x="1227" y="142"/>
                  </a:lnTo>
                  <a:lnTo>
                    <a:pt x="1215" y="143"/>
                  </a:lnTo>
                  <a:lnTo>
                    <a:pt x="1202" y="144"/>
                  </a:lnTo>
                  <a:lnTo>
                    <a:pt x="1190" y="146"/>
                  </a:lnTo>
                  <a:lnTo>
                    <a:pt x="1178" y="151"/>
                  </a:lnTo>
                  <a:lnTo>
                    <a:pt x="1166" y="155"/>
                  </a:lnTo>
                  <a:lnTo>
                    <a:pt x="1155" y="159"/>
                  </a:lnTo>
                  <a:lnTo>
                    <a:pt x="1142" y="161"/>
                  </a:lnTo>
                  <a:lnTo>
                    <a:pt x="1129" y="163"/>
                  </a:lnTo>
                  <a:lnTo>
                    <a:pt x="1117" y="166"/>
                  </a:lnTo>
                  <a:lnTo>
                    <a:pt x="1104" y="169"/>
                  </a:lnTo>
                  <a:lnTo>
                    <a:pt x="1092" y="172"/>
                  </a:lnTo>
                  <a:lnTo>
                    <a:pt x="1079" y="174"/>
                  </a:lnTo>
                  <a:lnTo>
                    <a:pt x="1067" y="176"/>
                  </a:lnTo>
                  <a:lnTo>
                    <a:pt x="1054" y="178"/>
                  </a:lnTo>
                  <a:lnTo>
                    <a:pt x="1041" y="179"/>
                  </a:lnTo>
                  <a:lnTo>
                    <a:pt x="1027" y="180"/>
                  </a:lnTo>
                  <a:lnTo>
                    <a:pt x="1016" y="183"/>
                  </a:lnTo>
                  <a:lnTo>
                    <a:pt x="1004" y="185"/>
                  </a:lnTo>
                  <a:lnTo>
                    <a:pt x="990" y="185"/>
                  </a:lnTo>
                  <a:lnTo>
                    <a:pt x="977" y="183"/>
                  </a:lnTo>
                  <a:lnTo>
                    <a:pt x="964" y="180"/>
                  </a:lnTo>
                  <a:lnTo>
                    <a:pt x="953" y="175"/>
                  </a:lnTo>
                  <a:lnTo>
                    <a:pt x="942" y="171"/>
                  </a:lnTo>
                  <a:lnTo>
                    <a:pt x="930" y="169"/>
                  </a:lnTo>
                  <a:lnTo>
                    <a:pt x="917" y="167"/>
                  </a:lnTo>
                  <a:lnTo>
                    <a:pt x="904" y="166"/>
                  </a:lnTo>
                  <a:lnTo>
                    <a:pt x="890" y="164"/>
                  </a:lnTo>
                  <a:lnTo>
                    <a:pt x="878" y="163"/>
                  </a:lnTo>
                  <a:lnTo>
                    <a:pt x="865" y="162"/>
                  </a:lnTo>
                  <a:lnTo>
                    <a:pt x="853" y="161"/>
                  </a:lnTo>
                  <a:lnTo>
                    <a:pt x="839" y="162"/>
                  </a:lnTo>
                  <a:lnTo>
                    <a:pt x="826" y="164"/>
                  </a:lnTo>
                  <a:lnTo>
                    <a:pt x="814" y="164"/>
                  </a:lnTo>
                  <a:lnTo>
                    <a:pt x="801" y="164"/>
                  </a:lnTo>
                  <a:lnTo>
                    <a:pt x="787" y="164"/>
                  </a:lnTo>
                  <a:lnTo>
                    <a:pt x="774" y="164"/>
                  </a:lnTo>
                  <a:lnTo>
                    <a:pt x="762" y="162"/>
                  </a:lnTo>
                  <a:lnTo>
                    <a:pt x="751" y="157"/>
                  </a:lnTo>
                  <a:lnTo>
                    <a:pt x="738" y="154"/>
                  </a:lnTo>
                  <a:lnTo>
                    <a:pt x="727" y="150"/>
                  </a:lnTo>
                  <a:lnTo>
                    <a:pt x="714" y="147"/>
                  </a:lnTo>
                  <a:lnTo>
                    <a:pt x="702" y="145"/>
                  </a:lnTo>
                  <a:lnTo>
                    <a:pt x="689" y="143"/>
                  </a:lnTo>
                  <a:lnTo>
                    <a:pt x="675" y="142"/>
                  </a:lnTo>
                  <a:lnTo>
                    <a:pt x="663" y="141"/>
                  </a:lnTo>
                  <a:lnTo>
                    <a:pt x="650" y="140"/>
                  </a:lnTo>
                  <a:lnTo>
                    <a:pt x="637" y="138"/>
                  </a:lnTo>
                  <a:lnTo>
                    <a:pt x="625" y="136"/>
                  </a:lnTo>
                  <a:lnTo>
                    <a:pt x="612" y="132"/>
                  </a:lnTo>
                  <a:lnTo>
                    <a:pt x="600" y="130"/>
                  </a:lnTo>
                  <a:lnTo>
                    <a:pt x="587" y="129"/>
                  </a:lnTo>
                  <a:lnTo>
                    <a:pt x="573" y="129"/>
                  </a:lnTo>
                  <a:lnTo>
                    <a:pt x="560" y="128"/>
                  </a:lnTo>
                  <a:lnTo>
                    <a:pt x="548" y="128"/>
                  </a:lnTo>
                  <a:lnTo>
                    <a:pt x="534" y="127"/>
                  </a:lnTo>
                  <a:lnTo>
                    <a:pt x="521" y="127"/>
                  </a:lnTo>
                  <a:lnTo>
                    <a:pt x="509" y="127"/>
                  </a:lnTo>
                  <a:lnTo>
                    <a:pt x="495" y="127"/>
                  </a:lnTo>
                  <a:lnTo>
                    <a:pt x="482" y="129"/>
                  </a:lnTo>
                  <a:lnTo>
                    <a:pt x="472" y="134"/>
                  </a:lnTo>
                  <a:lnTo>
                    <a:pt x="461" y="139"/>
                  </a:lnTo>
                  <a:lnTo>
                    <a:pt x="450" y="145"/>
                  </a:lnTo>
                  <a:lnTo>
                    <a:pt x="437" y="148"/>
                  </a:lnTo>
                  <a:lnTo>
                    <a:pt x="425" y="149"/>
                  </a:lnTo>
                  <a:lnTo>
                    <a:pt x="414" y="145"/>
                  </a:lnTo>
                  <a:lnTo>
                    <a:pt x="403" y="139"/>
                  </a:lnTo>
                  <a:lnTo>
                    <a:pt x="393" y="133"/>
                  </a:lnTo>
                  <a:lnTo>
                    <a:pt x="383" y="128"/>
                  </a:lnTo>
                  <a:lnTo>
                    <a:pt x="370" y="125"/>
                  </a:lnTo>
                  <a:lnTo>
                    <a:pt x="358" y="129"/>
                  </a:lnTo>
                  <a:lnTo>
                    <a:pt x="348" y="134"/>
                  </a:lnTo>
                  <a:lnTo>
                    <a:pt x="340" y="141"/>
                  </a:lnTo>
                  <a:lnTo>
                    <a:pt x="331" y="148"/>
                  </a:lnTo>
                  <a:lnTo>
                    <a:pt x="320" y="153"/>
                  </a:lnTo>
                  <a:lnTo>
                    <a:pt x="307" y="153"/>
                  </a:lnTo>
                  <a:lnTo>
                    <a:pt x="293" y="153"/>
                  </a:lnTo>
                  <a:lnTo>
                    <a:pt x="281" y="153"/>
                  </a:lnTo>
                  <a:lnTo>
                    <a:pt x="268" y="154"/>
                  </a:lnTo>
                  <a:lnTo>
                    <a:pt x="254" y="156"/>
                  </a:lnTo>
                  <a:lnTo>
                    <a:pt x="243" y="159"/>
                  </a:lnTo>
                  <a:lnTo>
                    <a:pt x="231" y="163"/>
                  </a:lnTo>
                  <a:lnTo>
                    <a:pt x="218" y="163"/>
                  </a:lnTo>
                  <a:lnTo>
                    <a:pt x="205" y="162"/>
                  </a:lnTo>
                  <a:lnTo>
                    <a:pt x="193" y="158"/>
                  </a:lnTo>
                  <a:lnTo>
                    <a:pt x="182" y="153"/>
                  </a:lnTo>
                  <a:lnTo>
                    <a:pt x="170" y="149"/>
                  </a:lnTo>
                  <a:lnTo>
                    <a:pt x="158" y="147"/>
                  </a:lnTo>
                  <a:lnTo>
                    <a:pt x="145" y="149"/>
                  </a:lnTo>
                  <a:lnTo>
                    <a:pt x="134" y="154"/>
                  </a:lnTo>
                  <a:lnTo>
                    <a:pt x="122" y="157"/>
                  </a:lnTo>
                  <a:lnTo>
                    <a:pt x="109" y="158"/>
                  </a:lnTo>
                  <a:lnTo>
                    <a:pt x="96" y="156"/>
                  </a:lnTo>
                  <a:lnTo>
                    <a:pt x="82" y="155"/>
                  </a:lnTo>
                  <a:lnTo>
                    <a:pt x="70" y="154"/>
                  </a:lnTo>
                  <a:lnTo>
                    <a:pt x="57" y="154"/>
                  </a:lnTo>
                  <a:lnTo>
                    <a:pt x="43" y="154"/>
                  </a:lnTo>
                  <a:lnTo>
                    <a:pt x="31" y="155"/>
                  </a:lnTo>
                  <a:lnTo>
                    <a:pt x="18" y="158"/>
                  </a:lnTo>
                  <a:lnTo>
                    <a:pt x="6" y="160"/>
                  </a:lnTo>
                  <a:lnTo>
                    <a:pt x="3" y="159"/>
                  </a:lnTo>
                  <a:lnTo>
                    <a:pt x="0" y="159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98840" y="2502000"/>
              <a:ext cx="149400" cy="380880"/>
            </a:xfrm>
            <a:custGeom>
              <a:avLst/>
              <a:gdLst/>
              <a:ahLst/>
              <a:rect l="l" t="t" r="r" b="b"/>
              <a:pathLst>
                <a:path w="282" h="480">
                  <a:moveTo>
                    <a:pt x="0" y="26"/>
                  </a:moveTo>
                  <a:lnTo>
                    <a:pt x="7" y="15"/>
                  </a:lnTo>
                  <a:lnTo>
                    <a:pt x="15" y="7"/>
                  </a:lnTo>
                  <a:lnTo>
                    <a:pt x="38" y="0"/>
                  </a:lnTo>
                  <a:lnTo>
                    <a:pt x="61" y="3"/>
                  </a:lnTo>
                  <a:lnTo>
                    <a:pt x="84" y="7"/>
                  </a:lnTo>
                  <a:lnTo>
                    <a:pt x="109" y="13"/>
                  </a:lnTo>
                  <a:lnTo>
                    <a:pt x="131" y="9"/>
                  </a:lnTo>
                  <a:lnTo>
                    <a:pt x="155" y="13"/>
                  </a:lnTo>
                  <a:lnTo>
                    <a:pt x="180" y="24"/>
                  </a:lnTo>
                  <a:lnTo>
                    <a:pt x="194" y="31"/>
                  </a:lnTo>
                  <a:lnTo>
                    <a:pt x="204" y="40"/>
                  </a:lnTo>
                  <a:lnTo>
                    <a:pt x="215" y="51"/>
                  </a:lnTo>
                  <a:lnTo>
                    <a:pt x="222" y="61"/>
                  </a:lnTo>
                  <a:lnTo>
                    <a:pt x="235" y="69"/>
                  </a:lnTo>
                  <a:lnTo>
                    <a:pt x="244" y="77"/>
                  </a:lnTo>
                  <a:lnTo>
                    <a:pt x="253" y="84"/>
                  </a:lnTo>
                  <a:lnTo>
                    <a:pt x="264" y="93"/>
                  </a:lnTo>
                  <a:lnTo>
                    <a:pt x="270" y="102"/>
                  </a:lnTo>
                  <a:lnTo>
                    <a:pt x="274" y="112"/>
                  </a:lnTo>
                  <a:lnTo>
                    <a:pt x="274" y="132"/>
                  </a:lnTo>
                  <a:lnTo>
                    <a:pt x="277" y="145"/>
                  </a:lnTo>
                  <a:lnTo>
                    <a:pt x="282" y="160"/>
                  </a:lnTo>
                  <a:lnTo>
                    <a:pt x="279" y="170"/>
                  </a:lnTo>
                  <a:lnTo>
                    <a:pt x="271" y="183"/>
                  </a:lnTo>
                  <a:lnTo>
                    <a:pt x="265" y="194"/>
                  </a:lnTo>
                  <a:lnTo>
                    <a:pt x="265" y="207"/>
                  </a:lnTo>
                  <a:lnTo>
                    <a:pt x="267" y="226"/>
                  </a:lnTo>
                  <a:lnTo>
                    <a:pt x="265" y="246"/>
                  </a:lnTo>
                  <a:lnTo>
                    <a:pt x="265" y="264"/>
                  </a:lnTo>
                  <a:lnTo>
                    <a:pt x="261" y="286"/>
                  </a:lnTo>
                  <a:lnTo>
                    <a:pt x="257" y="299"/>
                  </a:lnTo>
                  <a:lnTo>
                    <a:pt x="253" y="310"/>
                  </a:lnTo>
                  <a:lnTo>
                    <a:pt x="249" y="326"/>
                  </a:lnTo>
                  <a:lnTo>
                    <a:pt x="249" y="341"/>
                  </a:lnTo>
                  <a:lnTo>
                    <a:pt x="250" y="351"/>
                  </a:lnTo>
                  <a:lnTo>
                    <a:pt x="244" y="372"/>
                  </a:lnTo>
                  <a:lnTo>
                    <a:pt x="236" y="383"/>
                  </a:lnTo>
                  <a:lnTo>
                    <a:pt x="230" y="394"/>
                  </a:lnTo>
                  <a:lnTo>
                    <a:pt x="223" y="408"/>
                  </a:lnTo>
                  <a:lnTo>
                    <a:pt x="219" y="417"/>
                  </a:lnTo>
                  <a:lnTo>
                    <a:pt x="214" y="430"/>
                  </a:lnTo>
                  <a:lnTo>
                    <a:pt x="204" y="438"/>
                  </a:lnTo>
                  <a:lnTo>
                    <a:pt x="194" y="449"/>
                  </a:lnTo>
                  <a:lnTo>
                    <a:pt x="187" y="458"/>
                  </a:lnTo>
                  <a:lnTo>
                    <a:pt x="173" y="477"/>
                  </a:lnTo>
                  <a:lnTo>
                    <a:pt x="163" y="48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98840" y="2521080"/>
              <a:ext cx="111240" cy="361800"/>
            </a:xfrm>
            <a:custGeom>
              <a:avLst/>
              <a:gdLst/>
              <a:ahLst/>
              <a:rect l="l" t="t" r="r" b="b"/>
              <a:pathLst>
                <a:path w="212" h="456">
                  <a:moveTo>
                    <a:pt x="0" y="2"/>
                  </a:moveTo>
                  <a:lnTo>
                    <a:pt x="19" y="0"/>
                  </a:lnTo>
                  <a:lnTo>
                    <a:pt x="32" y="1"/>
                  </a:lnTo>
                  <a:lnTo>
                    <a:pt x="49" y="10"/>
                  </a:lnTo>
                  <a:lnTo>
                    <a:pt x="67" y="15"/>
                  </a:lnTo>
                  <a:lnTo>
                    <a:pt x="82" y="19"/>
                  </a:lnTo>
                  <a:lnTo>
                    <a:pt x="100" y="24"/>
                  </a:lnTo>
                  <a:lnTo>
                    <a:pt x="124" y="29"/>
                  </a:lnTo>
                  <a:lnTo>
                    <a:pt x="141" y="31"/>
                  </a:lnTo>
                  <a:lnTo>
                    <a:pt x="166" y="47"/>
                  </a:lnTo>
                  <a:lnTo>
                    <a:pt x="182" y="53"/>
                  </a:lnTo>
                  <a:lnTo>
                    <a:pt x="193" y="62"/>
                  </a:lnTo>
                  <a:lnTo>
                    <a:pt x="189" y="71"/>
                  </a:lnTo>
                  <a:lnTo>
                    <a:pt x="183" y="80"/>
                  </a:lnTo>
                  <a:lnTo>
                    <a:pt x="169" y="90"/>
                  </a:lnTo>
                  <a:lnTo>
                    <a:pt x="169" y="100"/>
                  </a:lnTo>
                  <a:lnTo>
                    <a:pt x="182" y="112"/>
                  </a:lnTo>
                  <a:lnTo>
                    <a:pt x="190" y="121"/>
                  </a:lnTo>
                  <a:lnTo>
                    <a:pt x="196" y="130"/>
                  </a:lnTo>
                  <a:lnTo>
                    <a:pt x="210" y="143"/>
                  </a:lnTo>
                  <a:lnTo>
                    <a:pt x="212" y="155"/>
                  </a:lnTo>
                  <a:lnTo>
                    <a:pt x="207" y="168"/>
                  </a:lnTo>
                  <a:lnTo>
                    <a:pt x="207" y="180"/>
                  </a:lnTo>
                  <a:lnTo>
                    <a:pt x="208" y="192"/>
                  </a:lnTo>
                  <a:lnTo>
                    <a:pt x="201" y="202"/>
                  </a:lnTo>
                  <a:lnTo>
                    <a:pt x="203" y="218"/>
                  </a:lnTo>
                  <a:lnTo>
                    <a:pt x="196" y="233"/>
                  </a:lnTo>
                  <a:lnTo>
                    <a:pt x="194" y="246"/>
                  </a:lnTo>
                  <a:lnTo>
                    <a:pt x="189" y="261"/>
                  </a:lnTo>
                  <a:lnTo>
                    <a:pt x="190" y="271"/>
                  </a:lnTo>
                  <a:lnTo>
                    <a:pt x="183" y="287"/>
                  </a:lnTo>
                  <a:lnTo>
                    <a:pt x="183" y="315"/>
                  </a:lnTo>
                  <a:lnTo>
                    <a:pt x="176" y="325"/>
                  </a:lnTo>
                  <a:lnTo>
                    <a:pt x="190" y="351"/>
                  </a:lnTo>
                  <a:lnTo>
                    <a:pt x="194" y="364"/>
                  </a:lnTo>
                  <a:lnTo>
                    <a:pt x="204" y="375"/>
                  </a:lnTo>
                  <a:lnTo>
                    <a:pt x="194" y="393"/>
                  </a:lnTo>
                  <a:lnTo>
                    <a:pt x="184" y="401"/>
                  </a:lnTo>
                  <a:lnTo>
                    <a:pt x="172" y="417"/>
                  </a:lnTo>
                  <a:lnTo>
                    <a:pt x="163" y="431"/>
                  </a:lnTo>
                  <a:lnTo>
                    <a:pt x="163" y="448"/>
                  </a:lnTo>
                  <a:lnTo>
                    <a:pt x="163" y="456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6600" y="2882880"/>
              <a:ext cx="7920" cy="36360"/>
            </a:xfrm>
            <a:custGeom>
              <a:avLst/>
              <a:gdLst/>
              <a:ahLst/>
              <a:rect l="l" t="t" r="r" b="b"/>
              <a:pathLst>
                <a:path w="16" h="46">
                  <a:moveTo>
                    <a:pt x="16" y="0"/>
                  </a:moveTo>
                  <a:lnTo>
                    <a:pt x="16" y="5"/>
                  </a:lnTo>
                  <a:lnTo>
                    <a:pt x="9" y="20"/>
                  </a:lnTo>
                  <a:lnTo>
                    <a:pt x="9" y="30"/>
                  </a:lnTo>
                  <a:lnTo>
                    <a:pt x="7" y="43"/>
                  </a:lnTo>
                  <a:lnTo>
                    <a:pt x="0" y="46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68680" y="2919240"/>
              <a:ext cx="9720" cy="33480"/>
            </a:xfrm>
            <a:custGeom>
              <a:avLst/>
              <a:gdLst/>
              <a:ahLst/>
              <a:rect l="l" t="t" r="r" b="b"/>
              <a:pathLst>
                <a:path w="19" h="41">
                  <a:moveTo>
                    <a:pt x="14" y="0"/>
                  </a:moveTo>
                  <a:lnTo>
                    <a:pt x="16" y="4"/>
                  </a:lnTo>
                  <a:lnTo>
                    <a:pt x="19" y="13"/>
                  </a:lnTo>
                  <a:lnTo>
                    <a:pt x="15" y="24"/>
                  </a:lnTo>
                  <a:lnTo>
                    <a:pt x="2" y="39"/>
                  </a:lnTo>
                  <a:lnTo>
                    <a:pt x="0" y="4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62200" y="2919240"/>
              <a:ext cx="14400" cy="36720"/>
            </a:xfrm>
            <a:custGeom>
              <a:avLst/>
              <a:gdLst/>
              <a:ahLst/>
              <a:rect l="l" t="t" r="r" b="b"/>
              <a:pathLst>
                <a:path w="27" h="46">
                  <a:moveTo>
                    <a:pt x="27" y="0"/>
                  </a:moveTo>
                  <a:lnTo>
                    <a:pt x="17" y="4"/>
                  </a:lnTo>
                  <a:lnTo>
                    <a:pt x="7" y="15"/>
                  </a:lnTo>
                  <a:lnTo>
                    <a:pt x="0" y="23"/>
                  </a:lnTo>
                  <a:lnTo>
                    <a:pt x="0" y="33"/>
                  </a:lnTo>
                  <a:lnTo>
                    <a:pt x="0" y="46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52840" y="2952720"/>
              <a:ext cx="17280" cy="47520"/>
            </a:xfrm>
            <a:custGeom>
              <a:avLst/>
              <a:gdLst/>
              <a:ahLst/>
              <a:rect l="l" t="t" r="r" b="b"/>
              <a:pathLst>
                <a:path w="32" h="60">
                  <a:moveTo>
                    <a:pt x="30" y="0"/>
                  </a:moveTo>
                  <a:lnTo>
                    <a:pt x="32" y="9"/>
                  </a:lnTo>
                  <a:lnTo>
                    <a:pt x="31" y="23"/>
                  </a:lnTo>
                  <a:lnTo>
                    <a:pt x="25" y="32"/>
                  </a:lnTo>
                  <a:lnTo>
                    <a:pt x="18" y="41"/>
                  </a:lnTo>
                  <a:lnTo>
                    <a:pt x="11" y="51"/>
                  </a:lnTo>
                  <a:lnTo>
                    <a:pt x="0" y="6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52840" y="2955960"/>
              <a:ext cx="9360" cy="4428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18" y="0"/>
                  </a:moveTo>
                  <a:lnTo>
                    <a:pt x="12" y="11"/>
                  </a:lnTo>
                  <a:lnTo>
                    <a:pt x="5" y="22"/>
                  </a:lnTo>
                  <a:lnTo>
                    <a:pt x="1" y="32"/>
                  </a:lnTo>
                  <a:lnTo>
                    <a:pt x="0" y="41"/>
                  </a:lnTo>
                  <a:lnTo>
                    <a:pt x="1" y="55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52840" y="3000240"/>
              <a:ext cx="23760" cy="86040"/>
            </a:xfrm>
            <a:custGeom>
              <a:avLst/>
              <a:gdLst/>
              <a:ahLst/>
              <a:rect l="l" t="t" r="r" b="b"/>
              <a:pathLst>
                <a:path w="44" h="109">
                  <a:moveTo>
                    <a:pt x="0" y="0"/>
                  </a:moveTo>
                  <a:lnTo>
                    <a:pt x="0" y="19"/>
                  </a:lnTo>
                  <a:lnTo>
                    <a:pt x="2" y="28"/>
                  </a:lnTo>
                  <a:lnTo>
                    <a:pt x="6" y="38"/>
                  </a:lnTo>
                  <a:lnTo>
                    <a:pt x="16" y="52"/>
                  </a:lnTo>
                  <a:lnTo>
                    <a:pt x="23" y="61"/>
                  </a:lnTo>
                  <a:lnTo>
                    <a:pt x="35" y="73"/>
                  </a:lnTo>
                  <a:lnTo>
                    <a:pt x="41" y="82"/>
                  </a:lnTo>
                  <a:lnTo>
                    <a:pt x="44" y="91"/>
                  </a:lnTo>
                  <a:lnTo>
                    <a:pt x="42" y="109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51320" y="3086280"/>
              <a:ext cx="164880" cy="722160"/>
            </a:xfrm>
            <a:custGeom>
              <a:avLst/>
              <a:gdLst/>
              <a:ahLst/>
              <a:rect l="l" t="t" r="r" b="b"/>
              <a:pathLst>
                <a:path w="313" h="909">
                  <a:moveTo>
                    <a:pt x="235" y="0"/>
                  </a:moveTo>
                  <a:lnTo>
                    <a:pt x="246" y="4"/>
                  </a:lnTo>
                  <a:lnTo>
                    <a:pt x="263" y="16"/>
                  </a:lnTo>
                  <a:lnTo>
                    <a:pt x="272" y="25"/>
                  </a:lnTo>
                  <a:lnTo>
                    <a:pt x="276" y="43"/>
                  </a:lnTo>
                  <a:lnTo>
                    <a:pt x="276" y="53"/>
                  </a:lnTo>
                  <a:lnTo>
                    <a:pt x="281" y="68"/>
                  </a:lnTo>
                  <a:lnTo>
                    <a:pt x="286" y="84"/>
                  </a:lnTo>
                  <a:lnTo>
                    <a:pt x="290" y="95"/>
                  </a:lnTo>
                  <a:lnTo>
                    <a:pt x="295" y="104"/>
                  </a:lnTo>
                  <a:lnTo>
                    <a:pt x="302" y="117"/>
                  </a:lnTo>
                  <a:lnTo>
                    <a:pt x="309" y="132"/>
                  </a:lnTo>
                  <a:lnTo>
                    <a:pt x="313" y="146"/>
                  </a:lnTo>
                  <a:lnTo>
                    <a:pt x="312" y="158"/>
                  </a:lnTo>
                  <a:lnTo>
                    <a:pt x="304" y="165"/>
                  </a:lnTo>
                  <a:lnTo>
                    <a:pt x="293" y="173"/>
                  </a:lnTo>
                  <a:lnTo>
                    <a:pt x="286" y="182"/>
                  </a:lnTo>
                  <a:lnTo>
                    <a:pt x="280" y="194"/>
                  </a:lnTo>
                  <a:lnTo>
                    <a:pt x="270" y="205"/>
                  </a:lnTo>
                  <a:lnTo>
                    <a:pt x="259" y="216"/>
                  </a:lnTo>
                  <a:lnTo>
                    <a:pt x="244" y="225"/>
                  </a:lnTo>
                  <a:lnTo>
                    <a:pt x="224" y="236"/>
                  </a:lnTo>
                  <a:lnTo>
                    <a:pt x="210" y="245"/>
                  </a:lnTo>
                  <a:lnTo>
                    <a:pt x="199" y="252"/>
                  </a:lnTo>
                  <a:lnTo>
                    <a:pt x="195" y="262"/>
                  </a:lnTo>
                  <a:lnTo>
                    <a:pt x="199" y="272"/>
                  </a:lnTo>
                  <a:lnTo>
                    <a:pt x="195" y="281"/>
                  </a:lnTo>
                  <a:lnTo>
                    <a:pt x="178" y="298"/>
                  </a:lnTo>
                  <a:lnTo>
                    <a:pt x="172" y="311"/>
                  </a:lnTo>
                  <a:lnTo>
                    <a:pt x="161" y="322"/>
                  </a:lnTo>
                  <a:lnTo>
                    <a:pt x="150" y="338"/>
                  </a:lnTo>
                  <a:lnTo>
                    <a:pt x="143" y="348"/>
                  </a:lnTo>
                  <a:lnTo>
                    <a:pt x="129" y="358"/>
                  </a:lnTo>
                  <a:lnTo>
                    <a:pt x="118" y="364"/>
                  </a:lnTo>
                  <a:lnTo>
                    <a:pt x="107" y="372"/>
                  </a:lnTo>
                  <a:lnTo>
                    <a:pt x="97" y="381"/>
                  </a:lnTo>
                  <a:lnTo>
                    <a:pt x="87" y="394"/>
                  </a:lnTo>
                  <a:lnTo>
                    <a:pt x="73" y="408"/>
                  </a:lnTo>
                  <a:lnTo>
                    <a:pt x="72" y="419"/>
                  </a:lnTo>
                  <a:lnTo>
                    <a:pt x="63" y="431"/>
                  </a:lnTo>
                  <a:lnTo>
                    <a:pt x="59" y="441"/>
                  </a:lnTo>
                  <a:lnTo>
                    <a:pt x="55" y="454"/>
                  </a:lnTo>
                  <a:lnTo>
                    <a:pt x="51" y="464"/>
                  </a:lnTo>
                  <a:lnTo>
                    <a:pt x="41" y="482"/>
                  </a:lnTo>
                  <a:lnTo>
                    <a:pt x="33" y="500"/>
                  </a:lnTo>
                  <a:lnTo>
                    <a:pt x="26" y="516"/>
                  </a:lnTo>
                  <a:lnTo>
                    <a:pt x="16" y="535"/>
                  </a:lnTo>
                  <a:lnTo>
                    <a:pt x="10" y="551"/>
                  </a:lnTo>
                  <a:lnTo>
                    <a:pt x="10" y="562"/>
                  </a:lnTo>
                  <a:lnTo>
                    <a:pt x="5" y="581"/>
                  </a:lnTo>
                  <a:lnTo>
                    <a:pt x="0" y="599"/>
                  </a:lnTo>
                  <a:lnTo>
                    <a:pt x="2" y="618"/>
                  </a:lnTo>
                  <a:lnTo>
                    <a:pt x="2" y="631"/>
                  </a:lnTo>
                  <a:lnTo>
                    <a:pt x="6" y="646"/>
                  </a:lnTo>
                  <a:lnTo>
                    <a:pt x="13" y="663"/>
                  </a:lnTo>
                  <a:lnTo>
                    <a:pt x="27" y="676"/>
                  </a:lnTo>
                  <a:lnTo>
                    <a:pt x="35" y="684"/>
                  </a:lnTo>
                  <a:lnTo>
                    <a:pt x="40" y="694"/>
                  </a:lnTo>
                  <a:lnTo>
                    <a:pt x="45" y="706"/>
                  </a:lnTo>
                  <a:lnTo>
                    <a:pt x="48" y="715"/>
                  </a:lnTo>
                  <a:lnTo>
                    <a:pt x="55" y="724"/>
                  </a:lnTo>
                  <a:lnTo>
                    <a:pt x="67" y="732"/>
                  </a:lnTo>
                  <a:lnTo>
                    <a:pt x="81" y="737"/>
                  </a:lnTo>
                  <a:lnTo>
                    <a:pt x="104" y="741"/>
                  </a:lnTo>
                  <a:lnTo>
                    <a:pt x="108" y="762"/>
                  </a:lnTo>
                  <a:lnTo>
                    <a:pt x="102" y="773"/>
                  </a:lnTo>
                  <a:lnTo>
                    <a:pt x="90" y="783"/>
                  </a:lnTo>
                  <a:lnTo>
                    <a:pt x="79" y="790"/>
                  </a:lnTo>
                  <a:lnTo>
                    <a:pt x="66" y="799"/>
                  </a:lnTo>
                  <a:lnTo>
                    <a:pt x="52" y="805"/>
                  </a:lnTo>
                  <a:lnTo>
                    <a:pt x="33" y="806"/>
                  </a:lnTo>
                  <a:lnTo>
                    <a:pt x="19" y="816"/>
                  </a:lnTo>
                  <a:lnTo>
                    <a:pt x="19" y="836"/>
                  </a:lnTo>
                  <a:lnTo>
                    <a:pt x="27" y="850"/>
                  </a:lnTo>
                  <a:lnTo>
                    <a:pt x="38" y="855"/>
                  </a:lnTo>
                  <a:lnTo>
                    <a:pt x="53" y="865"/>
                  </a:lnTo>
                  <a:lnTo>
                    <a:pt x="62" y="881"/>
                  </a:lnTo>
                  <a:lnTo>
                    <a:pt x="58" y="896"/>
                  </a:lnTo>
                  <a:lnTo>
                    <a:pt x="41" y="909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375000" y="3086280"/>
              <a:ext cx="200160" cy="722160"/>
            </a:xfrm>
            <a:custGeom>
              <a:avLst/>
              <a:gdLst/>
              <a:ahLst/>
              <a:rect l="l" t="t" r="r" b="b"/>
              <a:pathLst>
                <a:path w="377" h="909">
                  <a:moveTo>
                    <a:pt x="377" y="0"/>
                  </a:moveTo>
                  <a:lnTo>
                    <a:pt x="359" y="21"/>
                  </a:lnTo>
                  <a:lnTo>
                    <a:pt x="351" y="36"/>
                  </a:lnTo>
                  <a:lnTo>
                    <a:pt x="348" y="52"/>
                  </a:lnTo>
                  <a:lnTo>
                    <a:pt x="341" y="73"/>
                  </a:lnTo>
                  <a:lnTo>
                    <a:pt x="338" y="88"/>
                  </a:lnTo>
                  <a:lnTo>
                    <a:pt x="337" y="101"/>
                  </a:lnTo>
                  <a:lnTo>
                    <a:pt x="334" y="112"/>
                  </a:lnTo>
                  <a:lnTo>
                    <a:pt x="325" y="128"/>
                  </a:lnTo>
                  <a:lnTo>
                    <a:pt x="312" y="140"/>
                  </a:lnTo>
                  <a:lnTo>
                    <a:pt x="300" y="149"/>
                  </a:lnTo>
                  <a:lnTo>
                    <a:pt x="274" y="152"/>
                  </a:lnTo>
                  <a:lnTo>
                    <a:pt x="253" y="154"/>
                  </a:lnTo>
                  <a:lnTo>
                    <a:pt x="235" y="155"/>
                  </a:lnTo>
                  <a:lnTo>
                    <a:pt x="221" y="158"/>
                  </a:lnTo>
                  <a:lnTo>
                    <a:pt x="207" y="160"/>
                  </a:lnTo>
                  <a:lnTo>
                    <a:pt x="195" y="169"/>
                  </a:lnTo>
                  <a:lnTo>
                    <a:pt x="187" y="179"/>
                  </a:lnTo>
                  <a:lnTo>
                    <a:pt x="170" y="191"/>
                  </a:lnTo>
                  <a:lnTo>
                    <a:pt x="161" y="198"/>
                  </a:lnTo>
                  <a:lnTo>
                    <a:pt x="156" y="207"/>
                  </a:lnTo>
                  <a:lnTo>
                    <a:pt x="152" y="217"/>
                  </a:lnTo>
                  <a:lnTo>
                    <a:pt x="151" y="228"/>
                  </a:lnTo>
                  <a:lnTo>
                    <a:pt x="156" y="244"/>
                  </a:lnTo>
                  <a:lnTo>
                    <a:pt x="156" y="254"/>
                  </a:lnTo>
                  <a:lnTo>
                    <a:pt x="144" y="272"/>
                  </a:lnTo>
                  <a:lnTo>
                    <a:pt x="130" y="285"/>
                  </a:lnTo>
                  <a:lnTo>
                    <a:pt x="117" y="301"/>
                  </a:lnTo>
                  <a:lnTo>
                    <a:pt x="100" y="326"/>
                  </a:lnTo>
                  <a:lnTo>
                    <a:pt x="93" y="338"/>
                  </a:lnTo>
                  <a:lnTo>
                    <a:pt x="84" y="353"/>
                  </a:lnTo>
                  <a:lnTo>
                    <a:pt x="81" y="363"/>
                  </a:lnTo>
                  <a:lnTo>
                    <a:pt x="84" y="373"/>
                  </a:lnTo>
                  <a:lnTo>
                    <a:pt x="88" y="382"/>
                  </a:lnTo>
                  <a:lnTo>
                    <a:pt x="86" y="402"/>
                  </a:lnTo>
                  <a:lnTo>
                    <a:pt x="86" y="414"/>
                  </a:lnTo>
                  <a:lnTo>
                    <a:pt x="81" y="429"/>
                  </a:lnTo>
                  <a:lnTo>
                    <a:pt x="75" y="440"/>
                  </a:lnTo>
                  <a:lnTo>
                    <a:pt x="71" y="485"/>
                  </a:lnTo>
                  <a:lnTo>
                    <a:pt x="60" y="495"/>
                  </a:lnTo>
                  <a:lnTo>
                    <a:pt x="50" y="505"/>
                  </a:lnTo>
                  <a:lnTo>
                    <a:pt x="39" y="515"/>
                  </a:lnTo>
                  <a:lnTo>
                    <a:pt x="32" y="523"/>
                  </a:lnTo>
                  <a:lnTo>
                    <a:pt x="26" y="537"/>
                  </a:lnTo>
                  <a:lnTo>
                    <a:pt x="17" y="545"/>
                  </a:lnTo>
                  <a:lnTo>
                    <a:pt x="14" y="563"/>
                  </a:lnTo>
                  <a:lnTo>
                    <a:pt x="12" y="574"/>
                  </a:lnTo>
                  <a:lnTo>
                    <a:pt x="11" y="587"/>
                  </a:lnTo>
                  <a:lnTo>
                    <a:pt x="5" y="608"/>
                  </a:lnTo>
                  <a:lnTo>
                    <a:pt x="1" y="620"/>
                  </a:lnTo>
                  <a:lnTo>
                    <a:pt x="0" y="631"/>
                  </a:lnTo>
                  <a:lnTo>
                    <a:pt x="1" y="651"/>
                  </a:lnTo>
                  <a:lnTo>
                    <a:pt x="5" y="664"/>
                  </a:lnTo>
                  <a:lnTo>
                    <a:pt x="8" y="674"/>
                  </a:lnTo>
                  <a:lnTo>
                    <a:pt x="12" y="687"/>
                  </a:lnTo>
                  <a:lnTo>
                    <a:pt x="18" y="697"/>
                  </a:lnTo>
                  <a:lnTo>
                    <a:pt x="22" y="714"/>
                  </a:lnTo>
                  <a:lnTo>
                    <a:pt x="24" y="727"/>
                  </a:lnTo>
                  <a:lnTo>
                    <a:pt x="26" y="739"/>
                  </a:lnTo>
                  <a:lnTo>
                    <a:pt x="33" y="754"/>
                  </a:lnTo>
                  <a:lnTo>
                    <a:pt x="36" y="768"/>
                  </a:lnTo>
                  <a:lnTo>
                    <a:pt x="38" y="779"/>
                  </a:lnTo>
                  <a:lnTo>
                    <a:pt x="42" y="791"/>
                  </a:lnTo>
                  <a:lnTo>
                    <a:pt x="45" y="801"/>
                  </a:lnTo>
                  <a:lnTo>
                    <a:pt x="53" y="809"/>
                  </a:lnTo>
                  <a:lnTo>
                    <a:pt x="63" y="817"/>
                  </a:lnTo>
                  <a:lnTo>
                    <a:pt x="81" y="821"/>
                  </a:lnTo>
                  <a:lnTo>
                    <a:pt x="92" y="828"/>
                  </a:lnTo>
                  <a:lnTo>
                    <a:pt x="103" y="835"/>
                  </a:lnTo>
                  <a:lnTo>
                    <a:pt x="117" y="843"/>
                  </a:lnTo>
                  <a:lnTo>
                    <a:pt x="134" y="855"/>
                  </a:lnTo>
                  <a:lnTo>
                    <a:pt x="152" y="870"/>
                  </a:lnTo>
                  <a:lnTo>
                    <a:pt x="163" y="882"/>
                  </a:lnTo>
                  <a:lnTo>
                    <a:pt x="177" y="894"/>
                  </a:lnTo>
                  <a:lnTo>
                    <a:pt x="183" y="909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57720" y="3808440"/>
              <a:ext cx="156960" cy="1128600"/>
            </a:xfrm>
            <a:custGeom>
              <a:avLst/>
              <a:gdLst/>
              <a:ahLst/>
              <a:rect l="l" t="t" r="r" b="b"/>
              <a:pathLst>
                <a:path w="297" h="1424">
                  <a:moveTo>
                    <a:pt x="217" y="0"/>
                  </a:moveTo>
                  <a:lnTo>
                    <a:pt x="217" y="1"/>
                  </a:lnTo>
                  <a:lnTo>
                    <a:pt x="214" y="18"/>
                  </a:lnTo>
                  <a:lnTo>
                    <a:pt x="209" y="30"/>
                  </a:lnTo>
                  <a:lnTo>
                    <a:pt x="202" y="43"/>
                  </a:lnTo>
                  <a:lnTo>
                    <a:pt x="188" y="58"/>
                  </a:lnTo>
                  <a:lnTo>
                    <a:pt x="181" y="78"/>
                  </a:lnTo>
                  <a:lnTo>
                    <a:pt x="183" y="99"/>
                  </a:lnTo>
                  <a:lnTo>
                    <a:pt x="189" y="116"/>
                  </a:lnTo>
                  <a:lnTo>
                    <a:pt x="197" y="131"/>
                  </a:lnTo>
                  <a:lnTo>
                    <a:pt x="204" y="144"/>
                  </a:lnTo>
                  <a:lnTo>
                    <a:pt x="211" y="154"/>
                  </a:lnTo>
                  <a:lnTo>
                    <a:pt x="214" y="173"/>
                  </a:lnTo>
                  <a:lnTo>
                    <a:pt x="211" y="183"/>
                  </a:lnTo>
                  <a:lnTo>
                    <a:pt x="213" y="195"/>
                  </a:lnTo>
                  <a:lnTo>
                    <a:pt x="216" y="204"/>
                  </a:lnTo>
                  <a:lnTo>
                    <a:pt x="216" y="215"/>
                  </a:lnTo>
                  <a:lnTo>
                    <a:pt x="209" y="229"/>
                  </a:lnTo>
                  <a:lnTo>
                    <a:pt x="200" y="241"/>
                  </a:lnTo>
                  <a:lnTo>
                    <a:pt x="195" y="249"/>
                  </a:lnTo>
                  <a:lnTo>
                    <a:pt x="188" y="261"/>
                  </a:lnTo>
                  <a:lnTo>
                    <a:pt x="181" y="271"/>
                  </a:lnTo>
                  <a:lnTo>
                    <a:pt x="169" y="284"/>
                  </a:lnTo>
                  <a:lnTo>
                    <a:pt x="161" y="293"/>
                  </a:lnTo>
                  <a:lnTo>
                    <a:pt x="148" y="306"/>
                  </a:lnTo>
                  <a:lnTo>
                    <a:pt x="141" y="315"/>
                  </a:lnTo>
                  <a:lnTo>
                    <a:pt x="132" y="335"/>
                  </a:lnTo>
                  <a:lnTo>
                    <a:pt x="133" y="352"/>
                  </a:lnTo>
                  <a:lnTo>
                    <a:pt x="136" y="365"/>
                  </a:lnTo>
                  <a:lnTo>
                    <a:pt x="134" y="378"/>
                  </a:lnTo>
                  <a:lnTo>
                    <a:pt x="136" y="388"/>
                  </a:lnTo>
                  <a:lnTo>
                    <a:pt x="136" y="397"/>
                  </a:lnTo>
                  <a:lnTo>
                    <a:pt x="134" y="409"/>
                  </a:lnTo>
                  <a:lnTo>
                    <a:pt x="133" y="420"/>
                  </a:lnTo>
                  <a:lnTo>
                    <a:pt x="141" y="438"/>
                  </a:lnTo>
                  <a:lnTo>
                    <a:pt x="150" y="447"/>
                  </a:lnTo>
                  <a:lnTo>
                    <a:pt x="160" y="455"/>
                  </a:lnTo>
                  <a:lnTo>
                    <a:pt x="175" y="466"/>
                  </a:lnTo>
                  <a:lnTo>
                    <a:pt x="186" y="472"/>
                  </a:lnTo>
                  <a:lnTo>
                    <a:pt x="202" y="488"/>
                  </a:lnTo>
                  <a:lnTo>
                    <a:pt x="209" y="497"/>
                  </a:lnTo>
                  <a:lnTo>
                    <a:pt x="217" y="506"/>
                  </a:lnTo>
                  <a:lnTo>
                    <a:pt x="225" y="516"/>
                  </a:lnTo>
                  <a:lnTo>
                    <a:pt x="235" y="525"/>
                  </a:lnTo>
                  <a:lnTo>
                    <a:pt x="242" y="536"/>
                  </a:lnTo>
                  <a:lnTo>
                    <a:pt x="248" y="545"/>
                  </a:lnTo>
                  <a:lnTo>
                    <a:pt x="253" y="562"/>
                  </a:lnTo>
                  <a:lnTo>
                    <a:pt x="253" y="576"/>
                  </a:lnTo>
                  <a:lnTo>
                    <a:pt x="257" y="591"/>
                  </a:lnTo>
                  <a:lnTo>
                    <a:pt x="266" y="608"/>
                  </a:lnTo>
                  <a:lnTo>
                    <a:pt x="274" y="625"/>
                  </a:lnTo>
                  <a:lnTo>
                    <a:pt x="284" y="636"/>
                  </a:lnTo>
                  <a:lnTo>
                    <a:pt x="292" y="654"/>
                  </a:lnTo>
                  <a:lnTo>
                    <a:pt x="295" y="665"/>
                  </a:lnTo>
                  <a:lnTo>
                    <a:pt x="297" y="676"/>
                  </a:lnTo>
                  <a:lnTo>
                    <a:pt x="287" y="696"/>
                  </a:lnTo>
                  <a:lnTo>
                    <a:pt x="278" y="709"/>
                  </a:lnTo>
                  <a:lnTo>
                    <a:pt x="266" y="720"/>
                  </a:lnTo>
                  <a:lnTo>
                    <a:pt x="252" y="732"/>
                  </a:lnTo>
                  <a:lnTo>
                    <a:pt x="239" y="741"/>
                  </a:lnTo>
                  <a:lnTo>
                    <a:pt x="235" y="750"/>
                  </a:lnTo>
                  <a:lnTo>
                    <a:pt x="228" y="761"/>
                  </a:lnTo>
                  <a:lnTo>
                    <a:pt x="203" y="776"/>
                  </a:lnTo>
                  <a:lnTo>
                    <a:pt x="190" y="781"/>
                  </a:lnTo>
                  <a:lnTo>
                    <a:pt x="178" y="786"/>
                  </a:lnTo>
                  <a:lnTo>
                    <a:pt x="162" y="793"/>
                  </a:lnTo>
                  <a:lnTo>
                    <a:pt x="150" y="798"/>
                  </a:lnTo>
                  <a:lnTo>
                    <a:pt x="134" y="802"/>
                  </a:lnTo>
                  <a:lnTo>
                    <a:pt x="119" y="803"/>
                  </a:lnTo>
                  <a:lnTo>
                    <a:pt x="104" y="804"/>
                  </a:lnTo>
                  <a:lnTo>
                    <a:pt x="80" y="801"/>
                  </a:lnTo>
                  <a:lnTo>
                    <a:pt x="56" y="799"/>
                  </a:lnTo>
                  <a:lnTo>
                    <a:pt x="41" y="808"/>
                  </a:lnTo>
                  <a:lnTo>
                    <a:pt x="34" y="819"/>
                  </a:lnTo>
                  <a:lnTo>
                    <a:pt x="27" y="830"/>
                  </a:lnTo>
                  <a:lnTo>
                    <a:pt x="17" y="839"/>
                  </a:lnTo>
                  <a:lnTo>
                    <a:pt x="6" y="850"/>
                  </a:lnTo>
                  <a:lnTo>
                    <a:pt x="0" y="870"/>
                  </a:lnTo>
                  <a:lnTo>
                    <a:pt x="7" y="880"/>
                  </a:lnTo>
                  <a:lnTo>
                    <a:pt x="14" y="890"/>
                  </a:lnTo>
                  <a:lnTo>
                    <a:pt x="25" y="907"/>
                  </a:lnTo>
                  <a:lnTo>
                    <a:pt x="39" y="918"/>
                  </a:lnTo>
                  <a:lnTo>
                    <a:pt x="55" y="929"/>
                  </a:lnTo>
                  <a:lnTo>
                    <a:pt x="62" y="938"/>
                  </a:lnTo>
                  <a:lnTo>
                    <a:pt x="69" y="950"/>
                  </a:lnTo>
                  <a:lnTo>
                    <a:pt x="73" y="961"/>
                  </a:lnTo>
                  <a:lnTo>
                    <a:pt x="77" y="973"/>
                  </a:lnTo>
                  <a:lnTo>
                    <a:pt x="80" y="984"/>
                  </a:lnTo>
                  <a:lnTo>
                    <a:pt x="80" y="994"/>
                  </a:lnTo>
                  <a:lnTo>
                    <a:pt x="80" y="1007"/>
                  </a:lnTo>
                  <a:lnTo>
                    <a:pt x="76" y="1021"/>
                  </a:lnTo>
                  <a:lnTo>
                    <a:pt x="74" y="1039"/>
                  </a:lnTo>
                  <a:lnTo>
                    <a:pt x="81" y="1051"/>
                  </a:lnTo>
                  <a:lnTo>
                    <a:pt x="87" y="1062"/>
                  </a:lnTo>
                  <a:lnTo>
                    <a:pt x="98" y="1079"/>
                  </a:lnTo>
                  <a:lnTo>
                    <a:pt x="111" y="1092"/>
                  </a:lnTo>
                  <a:lnTo>
                    <a:pt x="118" y="1105"/>
                  </a:lnTo>
                  <a:lnTo>
                    <a:pt x="123" y="1120"/>
                  </a:lnTo>
                  <a:lnTo>
                    <a:pt x="126" y="1133"/>
                  </a:lnTo>
                  <a:lnTo>
                    <a:pt x="132" y="1147"/>
                  </a:lnTo>
                  <a:lnTo>
                    <a:pt x="133" y="1165"/>
                  </a:lnTo>
                  <a:lnTo>
                    <a:pt x="127" y="1184"/>
                  </a:lnTo>
                  <a:lnTo>
                    <a:pt x="118" y="1204"/>
                  </a:lnTo>
                  <a:lnTo>
                    <a:pt x="106" y="1222"/>
                  </a:lnTo>
                  <a:lnTo>
                    <a:pt x="97" y="1235"/>
                  </a:lnTo>
                  <a:lnTo>
                    <a:pt x="88" y="1247"/>
                  </a:lnTo>
                  <a:lnTo>
                    <a:pt x="77" y="1259"/>
                  </a:lnTo>
                  <a:lnTo>
                    <a:pt x="65" y="1274"/>
                  </a:lnTo>
                  <a:lnTo>
                    <a:pt x="58" y="1283"/>
                  </a:lnTo>
                  <a:lnTo>
                    <a:pt x="53" y="1295"/>
                  </a:lnTo>
                  <a:lnTo>
                    <a:pt x="52" y="1311"/>
                  </a:lnTo>
                  <a:lnTo>
                    <a:pt x="56" y="1322"/>
                  </a:lnTo>
                  <a:lnTo>
                    <a:pt x="62" y="1336"/>
                  </a:lnTo>
                  <a:lnTo>
                    <a:pt x="66" y="1349"/>
                  </a:lnTo>
                  <a:lnTo>
                    <a:pt x="69" y="1367"/>
                  </a:lnTo>
                  <a:lnTo>
                    <a:pt x="72" y="1380"/>
                  </a:lnTo>
                  <a:lnTo>
                    <a:pt x="73" y="1393"/>
                  </a:lnTo>
                  <a:lnTo>
                    <a:pt x="76" y="1407"/>
                  </a:lnTo>
                  <a:lnTo>
                    <a:pt x="79" y="1420"/>
                  </a:lnTo>
                  <a:lnTo>
                    <a:pt x="80" y="142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00560" y="4937040"/>
              <a:ext cx="21960" cy="4140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0" y="0"/>
                  </a:moveTo>
                  <a:lnTo>
                    <a:pt x="3" y="9"/>
                  </a:lnTo>
                  <a:lnTo>
                    <a:pt x="8" y="20"/>
                  </a:lnTo>
                  <a:lnTo>
                    <a:pt x="17" y="31"/>
                  </a:lnTo>
                  <a:lnTo>
                    <a:pt x="38" y="45"/>
                  </a:lnTo>
                  <a:lnTo>
                    <a:pt x="42" y="5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11360" y="4978440"/>
              <a:ext cx="12960" cy="68400"/>
            </a:xfrm>
            <a:custGeom>
              <a:avLst/>
              <a:gdLst/>
              <a:ahLst/>
              <a:rect l="l" t="t" r="r" b="b"/>
              <a:pathLst>
                <a:path w="24" h="86">
                  <a:moveTo>
                    <a:pt x="21" y="0"/>
                  </a:moveTo>
                  <a:lnTo>
                    <a:pt x="22" y="4"/>
                  </a:lnTo>
                  <a:lnTo>
                    <a:pt x="24" y="16"/>
                  </a:lnTo>
                  <a:lnTo>
                    <a:pt x="22" y="31"/>
                  </a:lnTo>
                  <a:lnTo>
                    <a:pt x="18" y="42"/>
                  </a:lnTo>
                  <a:lnTo>
                    <a:pt x="14" y="53"/>
                  </a:lnTo>
                  <a:lnTo>
                    <a:pt x="7" y="64"/>
                  </a:lnTo>
                  <a:lnTo>
                    <a:pt x="3" y="73"/>
                  </a:lnTo>
                  <a:lnTo>
                    <a:pt x="0" y="86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79680" y="4978440"/>
              <a:ext cx="42840" cy="68400"/>
            </a:xfrm>
            <a:custGeom>
              <a:avLst/>
              <a:gdLst/>
              <a:ahLst/>
              <a:rect l="l" t="t" r="r" b="b"/>
              <a:pathLst>
                <a:path w="80" h="86">
                  <a:moveTo>
                    <a:pt x="80" y="0"/>
                  </a:moveTo>
                  <a:lnTo>
                    <a:pt x="77" y="1"/>
                  </a:lnTo>
                  <a:lnTo>
                    <a:pt x="57" y="7"/>
                  </a:lnTo>
                  <a:lnTo>
                    <a:pt x="45" y="13"/>
                  </a:lnTo>
                  <a:lnTo>
                    <a:pt x="35" y="24"/>
                  </a:lnTo>
                  <a:lnTo>
                    <a:pt x="24" y="36"/>
                  </a:lnTo>
                  <a:lnTo>
                    <a:pt x="13" y="45"/>
                  </a:lnTo>
                  <a:lnTo>
                    <a:pt x="0" y="55"/>
                  </a:lnTo>
                  <a:lnTo>
                    <a:pt x="2" y="70"/>
                  </a:lnTo>
                  <a:lnTo>
                    <a:pt x="23" y="76"/>
                  </a:lnTo>
                  <a:lnTo>
                    <a:pt x="41" y="83"/>
                  </a:lnTo>
                  <a:lnTo>
                    <a:pt x="56" y="86"/>
                  </a:lnTo>
                  <a:lnTo>
                    <a:pt x="59" y="86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08480" y="5046840"/>
              <a:ext cx="2880" cy="17280"/>
            </a:xfrm>
            <a:custGeom>
              <a:avLst/>
              <a:gdLst/>
              <a:ahLst/>
              <a:rect l="l" t="t" r="r" b="b"/>
              <a:pathLst>
                <a:path w="4" h="21">
                  <a:moveTo>
                    <a:pt x="4" y="0"/>
                  </a:moveTo>
                  <a:lnTo>
                    <a:pt x="0" y="19"/>
                  </a:lnTo>
                  <a:lnTo>
                    <a:pt x="2" y="2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09920" y="5064120"/>
              <a:ext cx="4680" cy="46080"/>
            </a:xfrm>
            <a:custGeom>
              <a:avLst/>
              <a:gdLst/>
              <a:ahLst/>
              <a:rect l="l" t="t" r="r" b="b"/>
              <a:pathLst>
                <a:path w="9" h="57">
                  <a:moveTo>
                    <a:pt x="0" y="0"/>
                  </a:moveTo>
                  <a:lnTo>
                    <a:pt x="7" y="8"/>
                  </a:lnTo>
                  <a:lnTo>
                    <a:pt x="9" y="49"/>
                  </a:lnTo>
                  <a:lnTo>
                    <a:pt x="3" y="5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59160" y="5051520"/>
              <a:ext cx="52200" cy="83880"/>
            </a:xfrm>
            <a:custGeom>
              <a:avLst/>
              <a:gdLst/>
              <a:ahLst/>
              <a:rect l="l" t="t" r="r" b="b"/>
              <a:pathLst>
                <a:path w="100" h="105">
                  <a:moveTo>
                    <a:pt x="97" y="16"/>
                  </a:moveTo>
                  <a:lnTo>
                    <a:pt x="92" y="19"/>
                  </a:lnTo>
                  <a:lnTo>
                    <a:pt x="70" y="23"/>
                  </a:lnTo>
                  <a:lnTo>
                    <a:pt x="53" y="17"/>
                  </a:lnTo>
                  <a:lnTo>
                    <a:pt x="36" y="7"/>
                  </a:lnTo>
                  <a:lnTo>
                    <a:pt x="25" y="0"/>
                  </a:lnTo>
                  <a:lnTo>
                    <a:pt x="11" y="2"/>
                  </a:lnTo>
                  <a:lnTo>
                    <a:pt x="0" y="15"/>
                  </a:lnTo>
                  <a:lnTo>
                    <a:pt x="1" y="25"/>
                  </a:lnTo>
                  <a:lnTo>
                    <a:pt x="9" y="38"/>
                  </a:lnTo>
                  <a:lnTo>
                    <a:pt x="16" y="46"/>
                  </a:lnTo>
                  <a:lnTo>
                    <a:pt x="28" y="60"/>
                  </a:lnTo>
                  <a:lnTo>
                    <a:pt x="15" y="69"/>
                  </a:lnTo>
                  <a:lnTo>
                    <a:pt x="5" y="81"/>
                  </a:lnTo>
                  <a:lnTo>
                    <a:pt x="2" y="95"/>
                  </a:lnTo>
                  <a:lnTo>
                    <a:pt x="15" y="105"/>
                  </a:lnTo>
                  <a:lnTo>
                    <a:pt x="33" y="99"/>
                  </a:lnTo>
                  <a:lnTo>
                    <a:pt x="44" y="89"/>
                  </a:lnTo>
                  <a:lnTo>
                    <a:pt x="47" y="77"/>
                  </a:lnTo>
                  <a:lnTo>
                    <a:pt x="54" y="65"/>
                  </a:lnTo>
                  <a:lnTo>
                    <a:pt x="70" y="59"/>
                  </a:lnTo>
                  <a:lnTo>
                    <a:pt x="88" y="66"/>
                  </a:lnTo>
                  <a:lnTo>
                    <a:pt x="99" y="72"/>
                  </a:lnTo>
                  <a:lnTo>
                    <a:pt x="100" y="73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08480" y="5110200"/>
              <a:ext cx="20520" cy="87120"/>
            </a:xfrm>
            <a:custGeom>
              <a:avLst/>
              <a:gdLst/>
              <a:ahLst/>
              <a:rect l="l" t="t" r="r" b="b"/>
              <a:pathLst>
                <a:path w="37" h="110">
                  <a:moveTo>
                    <a:pt x="5" y="0"/>
                  </a:moveTo>
                  <a:lnTo>
                    <a:pt x="4" y="3"/>
                  </a:lnTo>
                  <a:lnTo>
                    <a:pt x="1" y="16"/>
                  </a:lnTo>
                  <a:lnTo>
                    <a:pt x="0" y="30"/>
                  </a:lnTo>
                  <a:lnTo>
                    <a:pt x="9" y="47"/>
                  </a:lnTo>
                  <a:lnTo>
                    <a:pt x="22" y="60"/>
                  </a:lnTo>
                  <a:lnTo>
                    <a:pt x="35" y="72"/>
                  </a:lnTo>
                  <a:lnTo>
                    <a:pt x="37" y="81"/>
                  </a:lnTo>
                  <a:lnTo>
                    <a:pt x="33" y="92"/>
                  </a:lnTo>
                  <a:lnTo>
                    <a:pt x="29" y="11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35400" y="5197320"/>
              <a:ext cx="88920" cy="54000"/>
            </a:xfrm>
            <a:custGeom>
              <a:avLst/>
              <a:gdLst/>
              <a:ahLst/>
              <a:rect l="l" t="t" r="r" b="b"/>
              <a:pathLst>
                <a:path w="169" h="69">
                  <a:moveTo>
                    <a:pt x="169" y="0"/>
                  </a:moveTo>
                  <a:lnTo>
                    <a:pt x="169" y="2"/>
                  </a:lnTo>
                  <a:lnTo>
                    <a:pt x="154" y="15"/>
                  </a:lnTo>
                  <a:lnTo>
                    <a:pt x="138" y="22"/>
                  </a:lnTo>
                  <a:lnTo>
                    <a:pt x="101" y="28"/>
                  </a:lnTo>
                  <a:lnTo>
                    <a:pt x="81" y="24"/>
                  </a:lnTo>
                  <a:lnTo>
                    <a:pt x="66" y="25"/>
                  </a:lnTo>
                  <a:lnTo>
                    <a:pt x="39" y="26"/>
                  </a:lnTo>
                  <a:lnTo>
                    <a:pt x="25" y="34"/>
                  </a:lnTo>
                  <a:lnTo>
                    <a:pt x="17" y="47"/>
                  </a:lnTo>
                  <a:lnTo>
                    <a:pt x="5" y="55"/>
                  </a:lnTo>
                  <a:lnTo>
                    <a:pt x="0" y="69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35400" y="5197320"/>
              <a:ext cx="111240" cy="57240"/>
            </a:xfrm>
            <a:custGeom>
              <a:avLst/>
              <a:gdLst/>
              <a:ahLst/>
              <a:rect l="l" t="t" r="r" b="b"/>
              <a:pathLst>
                <a:path w="212" h="72">
                  <a:moveTo>
                    <a:pt x="169" y="0"/>
                  </a:moveTo>
                  <a:lnTo>
                    <a:pt x="182" y="4"/>
                  </a:lnTo>
                  <a:lnTo>
                    <a:pt x="196" y="8"/>
                  </a:lnTo>
                  <a:lnTo>
                    <a:pt x="212" y="12"/>
                  </a:lnTo>
                  <a:lnTo>
                    <a:pt x="211" y="24"/>
                  </a:lnTo>
                  <a:lnTo>
                    <a:pt x="198" y="33"/>
                  </a:lnTo>
                  <a:lnTo>
                    <a:pt x="189" y="41"/>
                  </a:lnTo>
                  <a:lnTo>
                    <a:pt x="175" y="49"/>
                  </a:lnTo>
                  <a:lnTo>
                    <a:pt x="148" y="49"/>
                  </a:lnTo>
                  <a:lnTo>
                    <a:pt x="131" y="47"/>
                  </a:lnTo>
                  <a:lnTo>
                    <a:pt x="117" y="44"/>
                  </a:lnTo>
                  <a:lnTo>
                    <a:pt x="92" y="43"/>
                  </a:lnTo>
                  <a:lnTo>
                    <a:pt x="74" y="44"/>
                  </a:lnTo>
                  <a:lnTo>
                    <a:pt x="71" y="57"/>
                  </a:lnTo>
                  <a:lnTo>
                    <a:pt x="63" y="66"/>
                  </a:lnTo>
                  <a:lnTo>
                    <a:pt x="53" y="72"/>
                  </a:lnTo>
                  <a:lnTo>
                    <a:pt x="39" y="72"/>
                  </a:lnTo>
                  <a:lnTo>
                    <a:pt x="18" y="71"/>
                  </a:lnTo>
                  <a:lnTo>
                    <a:pt x="0" y="69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71960" y="5251320"/>
              <a:ext cx="296640" cy="771480"/>
            </a:xfrm>
            <a:custGeom>
              <a:avLst/>
              <a:gdLst/>
              <a:ahLst/>
              <a:rect l="l" t="t" r="r" b="b"/>
              <a:pathLst>
                <a:path w="561" h="972">
                  <a:moveTo>
                    <a:pt x="309" y="0"/>
                  </a:moveTo>
                  <a:lnTo>
                    <a:pt x="302" y="17"/>
                  </a:lnTo>
                  <a:lnTo>
                    <a:pt x="288" y="30"/>
                  </a:lnTo>
                  <a:lnTo>
                    <a:pt x="274" y="38"/>
                  </a:lnTo>
                  <a:lnTo>
                    <a:pt x="261" y="52"/>
                  </a:lnTo>
                  <a:lnTo>
                    <a:pt x="252" y="66"/>
                  </a:lnTo>
                  <a:lnTo>
                    <a:pt x="235" y="79"/>
                  </a:lnTo>
                  <a:lnTo>
                    <a:pt x="221" y="90"/>
                  </a:lnTo>
                  <a:lnTo>
                    <a:pt x="200" y="96"/>
                  </a:lnTo>
                  <a:lnTo>
                    <a:pt x="184" y="103"/>
                  </a:lnTo>
                  <a:lnTo>
                    <a:pt x="166" y="111"/>
                  </a:lnTo>
                  <a:lnTo>
                    <a:pt x="161" y="121"/>
                  </a:lnTo>
                  <a:lnTo>
                    <a:pt x="155" y="136"/>
                  </a:lnTo>
                  <a:lnTo>
                    <a:pt x="151" y="152"/>
                  </a:lnTo>
                  <a:lnTo>
                    <a:pt x="145" y="165"/>
                  </a:lnTo>
                  <a:lnTo>
                    <a:pt x="134" y="174"/>
                  </a:lnTo>
                  <a:lnTo>
                    <a:pt x="115" y="191"/>
                  </a:lnTo>
                  <a:lnTo>
                    <a:pt x="96" y="207"/>
                  </a:lnTo>
                  <a:lnTo>
                    <a:pt x="85" y="213"/>
                  </a:lnTo>
                  <a:lnTo>
                    <a:pt x="70" y="219"/>
                  </a:lnTo>
                  <a:lnTo>
                    <a:pt x="57" y="224"/>
                  </a:lnTo>
                  <a:lnTo>
                    <a:pt x="36" y="235"/>
                  </a:lnTo>
                  <a:lnTo>
                    <a:pt x="21" y="249"/>
                  </a:lnTo>
                  <a:lnTo>
                    <a:pt x="13" y="260"/>
                  </a:lnTo>
                  <a:lnTo>
                    <a:pt x="7" y="271"/>
                  </a:lnTo>
                  <a:lnTo>
                    <a:pt x="0" y="286"/>
                  </a:lnTo>
                  <a:lnTo>
                    <a:pt x="0" y="297"/>
                  </a:lnTo>
                  <a:lnTo>
                    <a:pt x="3" y="310"/>
                  </a:lnTo>
                  <a:lnTo>
                    <a:pt x="10" y="322"/>
                  </a:lnTo>
                  <a:lnTo>
                    <a:pt x="20" y="328"/>
                  </a:lnTo>
                  <a:lnTo>
                    <a:pt x="42" y="341"/>
                  </a:lnTo>
                  <a:lnTo>
                    <a:pt x="56" y="347"/>
                  </a:lnTo>
                  <a:lnTo>
                    <a:pt x="81" y="360"/>
                  </a:lnTo>
                  <a:lnTo>
                    <a:pt x="92" y="367"/>
                  </a:lnTo>
                  <a:lnTo>
                    <a:pt x="105" y="371"/>
                  </a:lnTo>
                  <a:lnTo>
                    <a:pt x="120" y="375"/>
                  </a:lnTo>
                  <a:lnTo>
                    <a:pt x="140" y="386"/>
                  </a:lnTo>
                  <a:lnTo>
                    <a:pt x="158" y="404"/>
                  </a:lnTo>
                  <a:lnTo>
                    <a:pt x="157" y="413"/>
                  </a:lnTo>
                  <a:lnTo>
                    <a:pt x="161" y="429"/>
                  </a:lnTo>
                  <a:lnTo>
                    <a:pt x="165" y="441"/>
                  </a:lnTo>
                  <a:lnTo>
                    <a:pt x="170" y="447"/>
                  </a:lnTo>
                  <a:lnTo>
                    <a:pt x="176" y="453"/>
                  </a:lnTo>
                  <a:lnTo>
                    <a:pt x="204" y="466"/>
                  </a:lnTo>
                  <a:lnTo>
                    <a:pt x="221" y="475"/>
                  </a:lnTo>
                  <a:lnTo>
                    <a:pt x="232" y="480"/>
                  </a:lnTo>
                  <a:lnTo>
                    <a:pt x="250" y="494"/>
                  </a:lnTo>
                  <a:lnTo>
                    <a:pt x="282" y="485"/>
                  </a:lnTo>
                  <a:lnTo>
                    <a:pt x="298" y="537"/>
                  </a:lnTo>
                  <a:lnTo>
                    <a:pt x="302" y="570"/>
                  </a:lnTo>
                  <a:lnTo>
                    <a:pt x="314" y="577"/>
                  </a:lnTo>
                  <a:lnTo>
                    <a:pt x="348" y="593"/>
                  </a:lnTo>
                  <a:lnTo>
                    <a:pt x="363" y="623"/>
                  </a:lnTo>
                  <a:lnTo>
                    <a:pt x="362" y="647"/>
                  </a:lnTo>
                  <a:lnTo>
                    <a:pt x="338" y="679"/>
                  </a:lnTo>
                  <a:lnTo>
                    <a:pt x="345" y="711"/>
                  </a:lnTo>
                  <a:lnTo>
                    <a:pt x="363" y="740"/>
                  </a:lnTo>
                  <a:lnTo>
                    <a:pt x="379" y="742"/>
                  </a:lnTo>
                  <a:lnTo>
                    <a:pt x="404" y="759"/>
                  </a:lnTo>
                  <a:lnTo>
                    <a:pt x="424" y="776"/>
                  </a:lnTo>
                  <a:lnTo>
                    <a:pt x="447" y="830"/>
                  </a:lnTo>
                  <a:lnTo>
                    <a:pt x="450" y="859"/>
                  </a:lnTo>
                  <a:lnTo>
                    <a:pt x="456" y="900"/>
                  </a:lnTo>
                  <a:lnTo>
                    <a:pt x="484" y="927"/>
                  </a:lnTo>
                  <a:lnTo>
                    <a:pt x="503" y="939"/>
                  </a:lnTo>
                  <a:lnTo>
                    <a:pt x="528" y="956"/>
                  </a:lnTo>
                  <a:lnTo>
                    <a:pt x="561" y="97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997600" y="1427040"/>
              <a:ext cx="949320" cy="534960"/>
            </a:xfrm>
            <a:custGeom>
              <a:avLst/>
              <a:gdLst/>
              <a:ahLst/>
              <a:rect l="l" t="t" r="r" b="b"/>
              <a:pathLst>
                <a:path w="1793" h="672">
                  <a:moveTo>
                    <a:pt x="0" y="672"/>
                  </a:moveTo>
                  <a:lnTo>
                    <a:pt x="5" y="668"/>
                  </a:lnTo>
                  <a:lnTo>
                    <a:pt x="9" y="664"/>
                  </a:lnTo>
                  <a:lnTo>
                    <a:pt x="14" y="661"/>
                  </a:lnTo>
                  <a:lnTo>
                    <a:pt x="17" y="658"/>
                  </a:lnTo>
                  <a:lnTo>
                    <a:pt x="19" y="657"/>
                  </a:lnTo>
                  <a:lnTo>
                    <a:pt x="21" y="653"/>
                  </a:lnTo>
                  <a:lnTo>
                    <a:pt x="24" y="649"/>
                  </a:lnTo>
                  <a:lnTo>
                    <a:pt x="27" y="644"/>
                  </a:lnTo>
                  <a:lnTo>
                    <a:pt x="28" y="640"/>
                  </a:lnTo>
                  <a:lnTo>
                    <a:pt x="30" y="635"/>
                  </a:lnTo>
                  <a:lnTo>
                    <a:pt x="31" y="630"/>
                  </a:lnTo>
                  <a:lnTo>
                    <a:pt x="31" y="626"/>
                  </a:lnTo>
                  <a:lnTo>
                    <a:pt x="33" y="621"/>
                  </a:lnTo>
                  <a:lnTo>
                    <a:pt x="34" y="616"/>
                  </a:lnTo>
                  <a:lnTo>
                    <a:pt x="37" y="612"/>
                  </a:lnTo>
                  <a:lnTo>
                    <a:pt x="40" y="608"/>
                  </a:lnTo>
                  <a:lnTo>
                    <a:pt x="42" y="603"/>
                  </a:lnTo>
                  <a:lnTo>
                    <a:pt x="45" y="599"/>
                  </a:lnTo>
                  <a:lnTo>
                    <a:pt x="49" y="596"/>
                  </a:lnTo>
                  <a:lnTo>
                    <a:pt x="54" y="592"/>
                  </a:lnTo>
                  <a:lnTo>
                    <a:pt x="58" y="588"/>
                  </a:lnTo>
                  <a:lnTo>
                    <a:pt x="62" y="585"/>
                  </a:lnTo>
                  <a:lnTo>
                    <a:pt x="68" y="581"/>
                  </a:lnTo>
                  <a:lnTo>
                    <a:pt x="73" y="578"/>
                  </a:lnTo>
                  <a:lnTo>
                    <a:pt x="79" y="576"/>
                  </a:lnTo>
                  <a:lnTo>
                    <a:pt x="84" y="574"/>
                  </a:lnTo>
                  <a:lnTo>
                    <a:pt x="91" y="573"/>
                  </a:lnTo>
                  <a:lnTo>
                    <a:pt x="98" y="573"/>
                  </a:lnTo>
                  <a:lnTo>
                    <a:pt x="104" y="571"/>
                  </a:lnTo>
                  <a:lnTo>
                    <a:pt x="108" y="568"/>
                  </a:lnTo>
                  <a:lnTo>
                    <a:pt x="109" y="564"/>
                  </a:lnTo>
                  <a:lnTo>
                    <a:pt x="111" y="558"/>
                  </a:lnTo>
                  <a:lnTo>
                    <a:pt x="114" y="554"/>
                  </a:lnTo>
                  <a:lnTo>
                    <a:pt x="116" y="551"/>
                  </a:lnTo>
                  <a:lnTo>
                    <a:pt x="123" y="549"/>
                  </a:lnTo>
                  <a:lnTo>
                    <a:pt x="130" y="548"/>
                  </a:lnTo>
                  <a:lnTo>
                    <a:pt x="137" y="548"/>
                  </a:lnTo>
                  <a:lnTo>
                    <a:pt x="144" y="549"/>
                  </a:lnTo>
                  <a:lnTo>
                    <a:pt x="150" y="550"/>
                  </a:lnTo>
                  <a:lnTo>
                    <a:pt x="157" y="551"/>
                  </a:lnTo>
                  <a:lnTo>
                    <a:pt x="164" y="552"/>
                  </a:lnTo>
                  <a:lnTo>
                    <a:pt x="170" y="552"/>
                  </a:lnTo>
                  <a:lnTo>
                    <a:pt x="177" y="553"/>
                  </a:lnTo>
                  <a:lnTo>
                    <a:pt x="184" y="554"/>
                  </a:lnTo>
                  <a:lnTo>
                    <a:pt x="189" y="554"/>
                  </a:lnTo>
                  <a:lnTo>
                    <a:pt x="196" y="554"/>
                  </a:lnTo>
                  <a:lnTo>
                    <a:pt x="203" y="555"/>
                  </a:lnTo>
                  <a:lnTo>
                    <a:pt x="209" y="555"/>
                  </a:lnTo>
                  <a:lnTo>
                    <a:pt x="216" y="555"/>
                  </a:lnTo>
                  <a:lnTo>
                    <a:pt x="223" y="555"/>
                  </a:lnTo>
                  <a:lnTo>
                    <a:pt x="230" y="555"/>
                  </a:lnTo>
                  <a:lnTo>
                    <a:pt x="235" y="554"/>
                  </a:lnTo>
                  <a:lnTo>
                    <a:pt x="242" y="554"/>
                  </a:lnTo>
                  <a:lnTo>
                    <a:pt x="249" y="553"/>
                  </a:lnTo>
                  <a:lnTo>
                    <a:pt x="255" y="551"/>
                  </a:lnTo>
                  <a:lnTo>
                    <a:pt x="262" y="550"/>
                  </a:lnTo>
                  <a:lnTo>
                    <a:pt x="267" y="548"/>
                  </a:lnTo>
                  <a:lnTo>
                    <a:pt x="273" y="546"/>
                  </a:lnTo>
                  <a:lnTo>
                    <a:pt x="280" y="544"/>
                  </a:lnTo>
                  <a:lnTo>
                    <a:pt x="286" y="541"/>
                  </a:lnTo>
                  <a:lnTo>
                    <a:pt x="291" y="539"/>
                  </a:lnTo>
                  <a:lnTo>
                    <a:pt x="297" y="537"/>
                  </a:lnTo>
                  <a:lnTo>
                    <a:pt x="304" y="536"/>
                  </a:lnTo>
                  <a:lnTo>
                    <a:pt x="309" y="534"/>
                  </a:lnTo>
                  <a:lnTo>
                    <a:pt x="316" y="533"/>
                  </a:lnTo>
                  <a:lnTo>
                    <a:pt x="322" y="532"/>
                  </a:lnTo>
                  <a:lnTo>
                    <a:pt x="329" y="531"/>
                  </a:lnTo>
                  <a:lnTo>
                    <a:pt x="336" y="530"/>
                  </a:lnTo>
                  <a:lnTo>
                    <a:pt x="341" y="529"/>
                  </a:lnTo>
                  <a:lnTo>
                    <a:pt x="348" y="529"/>
                  </a:lnTo>
                  <a:lnTo>
                    <a:pt x="355" y="529"/>
                  </a:lnTo>
                  <a:lnTo>
                    <a:pt x="362" y="529"/>
                  </a:lnTo>
                  <a:lnTo>
                    <a:pt x="368" y="529"/>
                  </a:lnTo>
                  <a:lnTo>
                    <a:pt x="375" y="530"/>
                  </a:lnTo>
                  <a:lnTo>
                    <a:pt x="381" y="532"/>
                  </a:lnTo>
                  <a:lnTo>
                    <a:pt x="388" y="534"/>
                  </a:lnTo>
                  <a:lnTo>
                    <a:pt x="395" y="536"/>
                  </a:lnTo>
                  <a:lnTo>
                    <a:pt x="399" y="539"/>
                  </a:lnTo>
                  <a:lnTo>
                    <a:pt x="404" y="543"/>
                  </a:lnTo>
                  <a:lnTo>
                    <a:pt x="409" y="546"/>
                  </a:lnTo>
                  <a:lnTo>
                    <a:pt x="414" y="549"/>
                  </a:lnTo>
                  <a:lnTo>
                    <a:pt x="418" y="552"/>
                  </a:lnTo>
                  <a:lnTo>
                    <a:pt x="424" y="555"/>
                  </a:lnTo>
                  <a:lnTo>
                    <a:pt x="428" y="558"/>
                  </a:lnTo>
                  <a:lnTo>
                    <a:pt x="434" y="562"/>
                  </a:lnTo>
                  <a:lnTo>
                    <a:pt x="438" y="565"/>
                  </a:lnTo>
                  <a:lnTo>
                    <a:pt x="444" y="568"/>
                  </a:lnTo>
                  <a:lnTo>
                    <a:pt x="448" y="572"/>
                  </a:lnTo>
                  <a:lnTo>
                    <a:pt x="453" y="574"/>
                  </a:lnTo>
                  <a:lnTo>
                    <a:pt x="459" y="576"/>
                  </a:lnTo>
                  <a:lnTo>
                    <a:pt x="466" y="576"/>
                  </a:lnTo>
                  <a:lnTo>
                    <a:pt x="473" y="575"/>
                  </a:lnTo>
                  <a:lnTo>
                    <a:pt x="478" y="574"/>
                  </a:lnTo>
                  <a:lnTo>
                    <a:pt x="484" y="572"/>
                  </a:lnTo>
                  <a:lnTo>
                    <a:pt x="490" y="569"/>
                  </a:lnTo>
                  <a:lnTo>
                    <a:pt x="495" y="566"/>
                  </a:lnTo>
                  <a:lnTo>
                    <a:pt x="501" y="562"/>
                  </a:lnTo>
                  <a:lnTo>
                    <a:pt x="505" y="559"/>
                  </a:lnTo>
                  <a:lnTo>
                    <a:pt x="511" y="556"/>
                  </a:lnTo>
                  <a:lnTo>
                    <a:pt x="515" y="553"/>
                  </a:lnTo>
                  <a:lnTo>
                    <a:pt x="520" y="550"/>
                  </a:lnTo>
                  <a:lnTo>
                    <a:pt x="526" y="548"/>
                  </a:lnTo>
                  <a:lnTo>
                    <a:pt x="532" y="545"/>
                  </a:lnTo>
                  <a:lnTo>
                    <a:pt x="537" y="543"/>
                  </a:lnTo>
                  <a:lnTo>
                    <a:pt x="543" y="541"/>
                  </a:lnTo>
                  <a:lnTo>
                    <a:pt x="550" y="539"/>
                  </a:lnTo>
                  <a:lnTo>
                    <a:pt x="555" y="538"/>
                  </a:lnTo>
                  <a:lnTo>
                    <a:pt x="562" y="536"/>
                  </a:lnTo>
                  <a:lnTo>
                    <a:pt x="569" y="535"/>
                  </a:lnTo>
                  <a:lnTo>
                    <a:pt x="575" y="533"/>
                  </a:lnTo>
                  <a:lnTo>
                    <a:pt x="582" y="531"/>
                  </a:lnTo>
                  <a:lnTo>
                    <a:pt x="588" y="529"/>
                  </a:lnTo>
                  <a:lnTo>
                    <a:pt x="593" y="527"/>
                  </a:lnTo>
                  <a:lnTo>
                    <a:pt x="596" y="523"/>
                  </a:lnTo>
                  <a:lnTo>
                    <a:pt x="599" y="519"/>
                  </a:lnTo>
                  <a:lnTo>
                    <a:pt x="600" y="514"/>
                  </a:lnTo>
                  <a:lnTo>
                    <a:pt x="603" y="509"/>
                  </a:lnTo>
                  <a:lnTo>
                    <a:pt x="607" y="506"/>
                  </a:lnTo>
                  <a:lnTo>
                    <a:pt x="611" y="502"/>
                  </a:lnTo>
                  <a:lnTo>
                    <a:pt x="617" y="499"/>
                  </a:lnTo>
                  <a:lnTo>
                    <a:pt x="622" y="497"/>
                  </a:lnTo>
                  <a:lnTo>
                    <a:pt x="628" y="496"/>
                  </a:lnTo>
                  <a:lnTo>
                    <a:pt x="635" y="495"/>
                  </a:lnTo>
                  <a:lnTo>
                    <a:pt x="642" y="495"/>
                  </a:lnTo>
                  <a:lnTo>
                    <a:pt x="649" y="495"/>
                  </a:lnTo>
                  <a:lnTo>
                    <a:pt x="656" y="495"/>
                  </a:lnTo>
                  <a:lnTo>
                    <a:pt x="662" y="495"/>
                  </a:lnTo>
                  <a:lnTo>
                    <a:pt x="669" y="495"/>
                  </a:lnTo>
                  <a:lnTo>
                    <a:pt x="676" y="495"/>
                  </a:lnTo>
                  <a:lnTo>
                    <a:pt x="681" y="493"/>
                  </a:lnTo>
                  <a:lnTo>
                    <a:pt x="688" y="491"/>
                  </a:lnTo>
                  <a:lnTo>
                    <a:pt x="694" y="489"/>
                  </a:lnTo>
                  <a:lnTo>
                    <a:pt x="698" y="486"/>
                  </a:lnTo>
                  <a:lnTo>
                    <a:pt x="702" y="482"/>
                  </a:lnTo>
                  <a:lnTo>
                    <a:pt x="705" y="478"/>
                  </a:lnTo>
                  <a:lnTo>
                    <a:pt x="708" y="473"/>
                  </a:lnTo>
                  <a:lnTo>
                    <a:pt x="711" y="469"/>
                  </a:lnTo>
                  <a:lnTo>
                    <a:pt x="713" y="464"/>
                  </a:lnTo>
                  <a:lnTo>
                    <a:pt x="716" y="460"/>
                  </a:lnTo>
                  <a:lnTo>
                    <a:pt x="719" y="456"/>
                  </a:lnTo>
                  <a:lnTo>
                    <a:pt x="723" y="452"/>
                  </a:lnTo>
                  <a:lnTo>
                    <a:pt x="727" y="449"/>
                  </a:lnTo>
                  <a:lnTo>
                    <a:pt x="733" y="447"/>
                  </a:lnTo>
                  <a:lnTo>
                    <a:pt x="740" y="445"/>
                  </a:lnTo>
                  <a:lnTo>
                    <a:pt x="745" y="443"/>
                  </a:lnTo>
                  <a:lnTo>
                    <a:pt x="752" y="442"/>
                  </a:lnTo>
                  <a:lnTo>
                    <a:pt x="758" y="440"/>
                  </a:lnTo>
                  <a:lnTo>
                    <a:pt x="765" y="439"/>
                  </a:lnTo>
                  <a:lnTo>
                    <a:pt x="772" y="438"/>
                  </a:lnTo>
                  <a:lnTo>
                    <a:pt x="778" y="436"/>
                  </a:lnTo>
                  <a:lnTo>
                    <a:pt x="785" y="435"/>
                  </a:lnTo>
                  <a:lnTo>
                    <a:pt x="790" y="433"/>
                  </a:lnTo>
                  <a:lnTo>
                    <a:pt x="797" y="432"/>
                  </a:lnTo>
                  <a:lnTo>
                    <a:pt x="803" y="430"/>
                  </a:lnTo>
                  <a:lnTo>
                    <a:pt x="810" y="429"/>
                  </a:lnTo>
                  <a:lnTo>
                    <a:pt x="815" y="427"/>
                  </a:lnTo>
                  <a:lnTo>
                    <a:pt x="822" y="426"/>
                  </a:lnTo>
                  <a:lnTo>
                    <a:pt x="828" y="425"/>
                  </a:lnTo>
                  <a:lnTo>
                    <a:pt x="835" y="423"/>
                  </a:lnTo>
                  <a:lnTo>
                    <a:pt x="841" y="422"/>
                  </a:lnTo>
                  <a:lnTo>
                    <a:pt x="848" y="420"/>
                  </a:lnTo>
                  <a:lnTo>
                    <a:pt x="853" y="418"/>
                  </a:lnTo>
                  <a:lnTo>
                    <a:pt x="859" y="416"/>
                  </a:lnTo>
                  <a:lnTo>
                    <a:pt x="866" y="414"/>
                  </a:lnTo>
                  <a:lnTo>
                    <a:pt x="871" y="412"/>
                  </a:lnTo>
                  <a:lnTo>
                    <a:pt x="877" y="410"/>
                  </a:lnTo>
                  <a:lnTo>
                    <a:pt x="882" y="408"/>
                  </a:lnTo>
                  <a:lnTo>
                    <a:pt x="888" y="405"/>
                  </a:lnTo>
                  <a:lnTo>
                    <a:pt x="895" y="403"/>
                  </a:lnTo>
                  <a:lnTo>
                    <a:pt x="901" y="402"/>
                  </a:lnTo>
                  <a:lnTo>
                    <a:pt x="908" y="400"/>
                  </a:lnTo>
                  <a:lnTo>
                    <a:pt x="913" y="399"/>
                  </a:lnTo>
                  <a:lnTo>
                    <a:pt x="920" y="399"/>
                  </a:lnTo>
                  <a:lnTo>
                    <a:pt x="927" y="400"/>
                  </a:lnTo>
                  <a:lnTo>
                    <a:pt x="933" y="402"/>
                  </a:lnTo>
                  <a:lnTo>
                    <a:pt x="940" y="405"/>
                  </a:lnTo>
                  <a:lnTo>
                    <a:pt x="945" y="406"/>
                  </a:lnTo>
                  <a:lnTo>
                    <a:pt x="951" y="404"/>
                  </a:lnTo>
                  <a:lnTo>
                    <a:pt x="955" y="401"/>
                  </a:lnTo>
                  <a:lnTo>
                    <a:pt x="961" y="397"/>
                  </a:lnTo>
                  <a:lnTo>
                    <a:pt x="965" y="393"/>
                  </a:lnTo>
                  <a:lnTo>
                    <a:pt x="969" y="389"/>
                  </a:lnTo>
                  <a:lnTo>
                    <a:pt x="973" y="385"/>
                  </a:lnTo>
                  <a:lnTo>
                    <a:pt x="978" y="382"/>
                  </a:lnTo>
                  <a:lnTo>
                    <a:pt x="982" y="379"/>
                  </a:lnTo>
                  <a:lnTo>
                    <a:pt x="987" y="376"/>
                  </a:lnTo>
                  <a:lnTo>
                    <a:pt x="993" y="374"/>
                  </a:lnTo>
                  <a:lnTo>
                    <a:pt x="999" y="372"/>
                  </a:lnTo>
                  <a:lnTo>
                    <a:pt x="1004" y="369"/>
                  </a:lnTo>
                  <a:lnTo>
                    <a:pt x="1010" y="366"/>
                  </a:lnTo>
                  <a:lnTo>
                    <a:pt x="1014" y="362"/>
                  </a:lnTo>
                  <a:lnTo>
                    <a:pt x="1019" y="359"/>
                  </a:lnTo>
                  <a:lnTo>
                    <a:pt x="1024" y="355"/>
                  </a:lnTo>
                  <a:lnTo>
                    <a:pt x="1028" y="352"/>
                  </a:lnTo>
                  <a:lnTo>
                    <a:pt x="1032" y="348"/>
                  </a:lnTo>
                  <a:lnTo>
                    <a:pt x="1036" y="344"/>
                  </a:lnTo>
                  <a:lnTo>
                    <a:pt x="1039" y="341"/>
                  </a:lnTo>
                  <a:lnTo>
                    <a:pt x="1043" y="337"/>
                  </a:lnTo>
                  <a:lnTo>
                    <a:pt x="1047" y="333"/>
                  </a:lnTo>
                  <a:lnTo>
                    <a:pt x="1052" y="329"/>
                  </a:lnTo>
                  <a:lnTo>
                    <a:pt x="1056" y="326"/>
                  </a:lnTo>
                  <a:lnTo>
                    <a:pt x="1060" y="322"/>
                  </a:lnTo>
                  <a:lnTo>
                    <a:pt x="1064" y="318"/>
                  </a:lnTo>
                  <a:lnTo>
                    <a:pt x="1070" y="315"/>
                  </a:lnTo>
                  <a:lnTo>
                    <a:pt x="1074" y="312"/>
                  </a:lnTo>
                  <a:lnTo>
                    <a:pt x="1078" y="308"/>
                  </a:lnTo>
                  <a:lnTo>
                    <a:pt x="1084" y="305"/>
                  </a:lnTo>
                  <a:lnTo>
                    <a:pt x="1089" y="302"/>
                  </a:lnTo>
                  <a:lnTo>
                    <a:pt x="1094" y="299"/>
                  </a:lnTo>
                  <a:lnTo>
                    <a:pt x="1099" y="296"/>
                  </a:lnTo>
                  <a:lnTo>
                    <a:pt x="1105" y="294"/>
                  </a:lnTo>
                  <a:lnTo>
                    <a:pt x="1110" y="291"/>
                  </a:lnTo>
                  <a:lnTo>
                    <a:pt x="1115" y="288"/>
                  </a:lnTo>
                  <a:lnTo>
                    <a:pt x="1120" y="285"/>
                  </a:lnTo>
                  <a:lnTo>
                    <a:pt x="1126" y="283"/>
                  </a:lnTo>
                  <a:lnTo>
                    <a:pt x="1131" y="280"/>
                  </a:lnTo>
                  <a:lnTo>
                    <a:pt x="1137" y="278"/>
                  </a:lnTo>
                  <a:lnTo>
                    <a:pt x="1143" y="275"/>
                  </a:lnTo>
                  <a:lnTo>
                    <a:pt x="1149" y="273"/>
                  </a:lnTo>
                  <a:lnTo>
                    <a:pt x="1155" y="271"/>
                  </a:lnTo>
                  <a:lnTo>
                    <a:pt x="1161" y="268"/>
                  </a:lnTo>
                  <a:lnTo>
                    <a:pt x="1168" y="266"/>
                  </a:lnTo>
                  <a:lnTo>
                    <a:pt x="1173" y="264"/>
                  </a:lnTo>
                  <a:lnTo>
                    <a:pt x="1180" y="263"/>
                  </a:lnTo>
                  <a:lnTo>
                    <a:pt x="1186" y="263"/>
                  </a:lnTo>
                  <a:lnTo>
                    <a:pt x="1193" y="264"/>
                  </a:lnTo>
                  <a:lnTo>
                    <a:pt x="1198" y="266"/>
                  </a:lnTo>
                  <a:lnTo>
                    <a:pt x="1205" y="270"/>
                  </a:lnTo>
                  <a:lnTo>
                    <a:pt x="1210" y="273"/>
                  </a:lnTo>
                  <a:lnTo>
                    <a:pt x="1215" y="277"/>
                  </a:lnTo>
                  <a:lnTo>
                    <a:pt x="1219" y="281"/>
                  </a:lnTo>
                  <a:lnTo>
                    <a:pt x="1224" y="282"/>
                  </a:lnTo>
                  <a:lnTo>
                    <a:pt x="1229" y="280"/>
                  </a:lnTo>
                  <a:lnTo>
                    <a:pt x="1233" y="276"/>
                  </a:lnTo>
                  <a:lnTo>
                    <a:pt x="1238" y="271"/>
                  </a:lnTo>
                  <a:lnTo>
                    <a:pt x="1240" y="266"/>
                  </a:lnTo>
                  <a:lnTo>
                    <a:pt x="1239" y="261"/>
                  </a:lnTo>
                  <a:lnTo>
                    <a:pt x="1236" y="255"/>
                  </a:lnTo>
                  <a:lnTo>
                    <a:pt x="1233" y="250"/>
                  </a:lnTo>
                  <a:lnTo>
                    <a:pt x="1233" y="247"/>
                  </a:lnTo>
                  <a:lnTo>
                    <a:pt x="1238" y="247"/>
                  </a:lnTo>
                  <a:lnTo>
                    <a:pt x="1245" y="249"/>
                  </a:lnTo>
                  <a:lnTo>
                    <a:pt x="1252" y="252"/>
                  </a:lnTo>
                  <a:lnTo>
                    <a:pt x="1259" y="254"/>
                  </a:lnTo>
                  <a:lnTo>
                    <a:pt x="1266" y="257"/>
                  </a:lnTo>
                  <a:lnTo>
                    <a:pt x="1273" y="258"/>
                  </a:lnTo>
                  <a:lnTo>
                    <a:pt x="1277" y="258"/>
                  </a:lnTo>
                  <a:lnTo>
                    <a:pt x="1277" y="255"/>
                  </a:lnTo>
                  <a:lnTo>
                    <a:pt x="1274" y="250"/>
                  </a:lnTo>
                  <a:lnTo>
                    <a:pt x="1271" y="244"/>
                  </a:lnTo>
                  <a:lnTo>
                    <a:pt x="1270" y="239"/>
                  </a:lnTo>
                  <a:lnTo>
                    <a:pt x="1270" y="234"/>
                  </a:lnTo>
                  <a:lnTo>
                    <a:pt x="1268" y="229"/>
                  </a:lnTo>
                  <a:lnTo>
                    <a:pt x="1270" y="225"/>
                  </a:lnTo>
                  <a:lnTo>
                    <a:pt x="1271" y="220"/>
                  </a:lnTo>
                  <a:lnTo>
                    <a:pt x="1275" y="216"/>
                  </a:lnTo>
                  <a:lnTo>
                    <a:pt x="1279" y="213"/>
                  </a:lnTo>
                  <a:lnTo>
                    <a:pt x="1285" y="210"/>
                  </a:lnTo>
                  <a:lnTo>
                    <a:pt x="1291" y="207"/>
                  </a:lnTo>
                  <a:lnTo>
                    <a:pt x="1293" y="203"/>
                  </a:lnTo>
                  <a:lnTo>
                    <a:pt x="1298" y="199"/>
                  </a:lnTo>
                  <a:lnTo>
                    <a:pt x="1300" y="195"/>
                  </a:lnTo>
                  <a:lnTo>
                    <a:pt x="1303" y="191"/>
                  </a:lnTo>
                  <a:lnTo>
                    <a:pt x="1306" y="186"/>
                  </a:lnTo>
                  <a:lnTo>
                    <a:pt x="1307" y="182"/>
                  </a:lnTo>
                  <a:lnTo>
                    <a:pt x="1309" y="177"/>
                  </a:lnTo>
                  <a:lnTo>
                    <a:pt x="1310" y="172"/>
                  </a:lnTo>
                  <a:lnTo>
                    <a:pt x="1312" y="168"/>
                  </a:lnTo>
                  <a:lnTo>
                    <a:pt x="1313" y="163"/>
                  </a:lnTo>
                  <a:lnTo>
                    <a:pt x="1316" y="159"/>
                  </a:lnTo>
                  <a:lnTo>
                    <a:pt x="1317" y="154"/>
                  </a:lnTo>
                  <a:lnTo>
                    <a:pt x="1320" y="150"/>
                  </a:lnTo>
                  <a:lnTo>
                    <a:pt x="1323" y="145"/>
                  </a:lnTo>
                  <a:lnTo>
                    <a:pt x="1326" y="141"/>
                  </a:lnTo>
                  <a:lnTo>
                    <a:pt x="1328" y="137"/>
                  </a:lnTo>
                  <a:lnTo>
                    <a:pt x="1331" y="133"/>
                  </a:lnTo>
                  <a:lnTo>
                    <a:pt x="1334" y="128"/>
                  </a:lnTo>
                  <a:lnTo>
                    <a:pt x="1340" y="121"/>
                  </a:lnTo>
                  <a:lnTo>
                    <a:pt x="1341" y="116"/>
                  </a:lnTo>
                  <a:lnTo>
                    <a:pt x="1344" y="111"/>
                  </a:lnTo>
                  <a:lnTo>
                    <a:pt x="1345" y="106"/>
                  </a:lnTo>
                  <a:lnTo>
                    <a:pt x="1348" y="103"/>
                  </a:lnTo>
                  <a:lnTo>
                    <a:pt x="1354" y="101"/>
                  </a:lnTo>
                  <a:lnTo>
                    <a:pt x="1361" y="102"/>
                  </a:lnTo>
                  <a:lnTo>
                    <a:pt x="1369" y="102"/>
                  </a:lnTo>
                  <a:lnTo>
                    <a:pt x="1375" y="101"/>
                  </a:lnTo>
                  <a:lnTo>
                    <a:pt x="1377" y="97"/>
                  </a:lnTo>
                  <a:lnTo>
                    <a:pt x="1380" y="92"/>
                  </a:lnTo>
                  <a:lnTo>
                    <a:pt x="1379" y="87"/>
                  </a:lnTo>
                  <a:lnTo>
                    <a:pt x="1376" y="82"/>
                  </a:lnTo>
                  <a:lnTo>
                    <a:pt x="1372" y="77"/>
                  </a:lnTo>
                  <a:lnTo>
                    <a:pt x="1372" y="74"/>
                  </a:lnTo>
                  <a:lnTo>
                    <a:pt x="1375" y="71"/>
                  </a:lnTo>
                  <a:lnTo>
                    <a:pt x="1382" y="70"/>
                  </a:lnTo>
                  <a:lnTo>
                    <a:pt x="1389" y="69"/>
                  </a:lnTo>
                  <a:lnTo>
                    <a:pt x="1396" y="67"/>
                  </a:lnTo>
                  <a:lnTo>
                    <a:pt x="1401" y="64"/>
                  </a:lnTo>
                  <a:lnTo>
                    <a:pt x="1407" y="61"/>
                  </a:lnTo>
                  <a:lnTo>
                    <a:pt x="1411" y="57"/>
                  </a:lnTo>
                  <a:lnTo>
                    <a:pt x="1414" y="53"/>
                  </a:lnTo>
                  <a:lnTo>
                    <a:pt x="1415" y="49"/>
                  </a:lnTo>
                  <a:lnTo>
                    <a:pt x="1415" y="44"/>
                  </a:lnTo>
                  <a:lnTo>
                    <a:pt x="1415" y="39"/>
                  </a:lnTo>
                  <a:lnTo>
                    <a:pt x="1418" y="35"/>
                  </a:lnTo>
                  <a:lnTo>
                    <a:pt x="1422" y="31"/>
                  </a:lnTo>
                  <a:lnTo>
                    <a:pt x="1428" y="29"/>
                  </a:lnTo>
                  <a:lnTo>
                    <a:pt x="1435" y="27"/>
                  </a:lnTo>
                  <a:lnTo>
                    <a:pt x="1440" y="25"/>
                  </a:lnTo>
                  <a:lnTo>
                    <a:pt x="1447" y="24"/>
                  </a:lnTo>
                  <a:lnTo>
                    <a:pt x="1454" y="23"/>
                  </a:lnTo>
                  <a:lnTo>
                    <a:pt x="1460" y="22"/>
                  </a:lnTo>
                  <a:lnTo>
                    <a:pt x="1465" y="20"/>
                  </a:lnTo>
                  <a:lnTo>
                    <a:pt x="1471" y="17"/>
                  </a:lnTo>
                  <a:lnTo>
                    <a:pt x="1477" y="14"/>
                  </a:lnTo>
                  <a:lnTo>
                    <a:pt x="1482" y="11"/>
                  </a:lnTo>
                  <a:lnTo>
                    <a:pt x="1488" y="9"/>
                  </a:lnTo>
                  <a:lnTo>
                    <a:pt x="1493" y="6"/>
                  </a:lnTo>
                  <a:lnTo>
                    <a:pt x="1499" y="3"/>
                  </a:lnTo>
                  <a:lnTo>
                    <a:pt x="1505" y="1"/>
                  </a:lnTo>
                  <a:lnTo>
                    <a:pt x="1512" y="0"/>
                  </a:lnTo>
                  <a:lnTo>
                    <a:pt x="1517" y="1"/>
                  </a:lnTo>
                  <a:lnTo>
                    <a:pt x="1524" y="3"/>
                  </a:lnTo>
                  <a:lnTo>
                    <a:pt x="1530" y="6"/>
                  </a:lnTo>
                  <a:lnTo>
                    <a:pt x="1535" y="9"/>
                  </a:lnTo>
                  <a:lnTo>
                    <a:pt x="1540" y="13"/>
                  </a:lnTo>
                  <a:lnTo>
                    <a:pt x="1542" y="17"/>
                  </a:lnTo>
                  <a:lnTo>
                    <a:pt x="1547" y="21"/>
                  </a:lnTo>
                  <a:lnTo>
                    <a:pt x="1551" y="24"/>
                  </a:lnTo>
                  <a:lnTo>
                    <a:pt x="1555" y="28"/>
                  </a:lnTo>
                  <a:lnTo>
                    <a:pt x="1560" y="32"/>
                  </a:lnTo>
                  <a:lnTo>
                    <a:pt x="1565" y="34"/>
                  </a:lnTo>
                  <a:lnTo>
                    <a:pt x="1570" y="35"/>
                  </a:lnTo>
                  <a:lnTo>
                    <a:pt x="1577" y="34"/>
                  </a:lnTo>
                  <a:lnTo>
                    <a:pt x="1584" y="32"/>
                  </a:lnTo>
                  <a:lnTo>
                    <a:pt x="1591" y="31"/>
                  </a:lnTo>
                  <a:lnTo>
                    <a:pt x="1597" y="31"/>
                  </a:lnTo>
                  <a:lnTo>
                    <a:pt x="1605" y="32"/>
                  </a:lnTo>
                  <a:lnTo>
                    <a:pt x="1612" y="33"/>
                  </a:lnTo>
                  <a:lnTo>
                    <a:pt x="1616" y="35"/>
                  </a:lnTo>
                  <a:lnTo>
                    <a:pt x="1619" y="38"/>
                  </a:lnTo>
                  <a:lnTo>
                    <a:pt x="1618" y="43"/>
                  </a:lnTo>
                  <a:lnTo>
                    <a:pt x="1616" y="48"/>
                  </a:lnTo>
                  <a:lnTo>
                    <a:pt x="1614" y="53"/>
                  </a:lnTo>
                  <a:lnTo>
                    <a:pt x="1611" y="58"/>
                  </a:lnTo>
                  <a:lnTo>
                    <a:pt x="1608" y="62"/>
                  </a:lnTo>
                  <a:lnTo>
                    <a:pt x="1605" y="66"/>
                  </a:lnTo>
                  <a:lnTo>
                    <a:pt x="1601" y="70"/>
                  </a:lnTo>
                  <a:lnTo>
                    <a:pt x="1595" y="73"/>
                  </a:lnTo>
                  <a:lnTo>
                    <a:pt x="1588" y="75"/>
                  </a:lnTo>
                  <a:lnTo>
                    <a:pt x="1581" y="78"/>
                  </a:lnTo>
                  <a:lnTo>
                    <a:pt x="1577" y="80"/>
                  </a:lnTo>
                  <a:lnTo>
                    <a:pt x="1577" y="83"/>
                  </a:lnTo>
                  <a:lnTo>
                    <a:pt x="1583" y="87"/>
                  </a:lnTo>
                  <a:lnTo>
                    <a:pt x="1590" y="90"/>
                  </a:lnTo>
                  <a:lnTo>
                    <a:pt x="1595" y="92"/>
                  </a:lnTo>
                  <a:lnTo>
                    <a:pt x="1601" y="95"/>
                  </a:lnTo>
                  <a:lnTo>
                    <a:pt x="1607" y="97"/>
                  </a:lnTo>
                  <a:lnTo>
                    <a:pt x="1611" y="101"/>
                  </a:lnTo>
                  <a:lnTo>
                    <a:pt x="1614" y="105"/>
                  </a:lnTo>
                  <a:lnTo>
                    <a:pt x="1615" y="110"/>
                  </a:lnTo>
                  <a:lnTo>
                    <a:pt x="1618" y="114"/>
                  </a:lnTo>
                  <a:lnTo>
                    <a:pt x="1619" y="119"/>
                  </a:lnTo>
                  <a:lnTo>
                    <a:pt x="1622" y="123"/>
                  </a:lnTo>
                  <a:lnTo>
                    <a:pt x="1623" y="128"/>
                  </a:lnTo>
                  <a:lnTo>
                    <a:pt x="1626" y="132"/>
                  </a:lnTo>
                  <a:lnTo>
                    <a:pt x="1628" y="137"/>
                  </a:lnTo>
                  <a:lnTo>
                    <a:pt x="1611" y="139"/>
                  </a:lnTo>
                  <a:lnTo>
                    <a:pt x="1591" y="142"/>
                  </a:lnTo>
                  <a:lnTo>
                    <a:pt x="1584" y="154"/>
                  </a:lnTo>
                  <a:lnTo>
                    <a:pt x="1604" y="158"/>
                  </a:lnTo>
                  <a:lnTo>
                    <a:pt x="1618" y="161"/>
                  </a:lnTo>
                  <a:lnTo>
                    <a:pt x="1623" y="170"/>
                  </a:lnTo>
                  <a:lnTo>
                    <a:pt x="1618" y="179"/>
                  </a:lnTo>
                  <a:lnTo>
                    <a:pt x="1597" y="193"/>
                  </a:lnTo>
                  <a:lnTo>
                    <a:pt x="1597" y="203"/>
                  </a:lnTo>
                  <a:lnTo>
                    <a:pt x="1595" y="221"/>
                  </a:lnTo>
                  <a:lnTo>
                    <a:pt x="1584" y="237"/>
                  </a:lnTo>
                  <a:lnTo>
                    <a:pt x="1590" y="246"/>
                  </a:lnTo>
                  <a:lnTo>
                    <a:pt x="1602" y="248"/>
                  </a:lnTo>
                  <a:lnTo>
                    <a:pt x="1611" y="257"/>
                  </a:lnTo>
                  <a:lnTo>
                    <a:pt x="1608" y="268"/>
                  </a:lnTo>
                  <a:lnTo>
                    <a:pt x="1608" y="280"/>
                  </a:lnTo>
                  <a:lnTo>
                    <a:pt x="1614" y="292"/>
                  </a:lnTo>
                  <a:lnTo>
                    <a:pt x="1609" y="305"/>
                  </a:lnTo>
                  <a:lnTo>
                    <a:pt x="1594" y="312"/>
                  </a:lnTo>
                  <a:lnTo>
                    <a:pt x="1579" y="324"/>
                  </a:lnTo>
                  <a:lnTo>
                    <a:pt x="1574" y="335"/>
                  </a:lnTo>
                  <a:lnTo>
                    <a:pt x="1583" y="344"/>
                  </a:lnTo>
                  <a:lnTo>
                    <a:pt x="1601" y="344"/>
                  </a:lnTo>
                  <a:lnTo>
                    <a:pt x="1621" y="337"/>
                  </a:lnTo>
                  <a:lnTo>
                    <a:pt x="1633" y="332"/>
                  </a:lnTo>
                  <a:lnTo>
                    <a:pt x="1643" y="340"/>
                  </a:lnTo>
                  <a:lnTo>
                    <a:pt x="1643" y="351"/>
                  </a:lnTo>
                  <a:lnTo>
                    <a:pt x="1644" y="361"/>
                  </a:lnTo>
                  <a:lnTo>
                    <a:pt x="1663" y="366"/>
                  </a:lnTo>
                  <a:lnTo>
                    <a:pt x="1681" y="366"/>
                  </a:lnTo>
                  <a:lnTo>
                    <a:pt x="1686" y="375"/>
                  </a:lnTo>
                  <a:lnTo>
                    <a:pt x="1672" y="385"/>
                  </a:lnTo>
                  <a:lnTo>
                    <a:pt x="1668" y="398"/>
                  </a:lnTo>
                  <a:lnTo>
                    <a:pt x="1672" y="408"/>
                  </a:lnTo>
                  <a:lnTo>
                    <a:pt x="1670" y="417"/>
                  </a:lnTo>
                  <a:lnTo>
                    <a:pt x="1658" y="428"/>
                  </a:lnTo>
                  <a:lnTo>
                    <a:pt x="1670" y="440"/>
                  </a:lnTo>
                  <a:lnTo>
                    <a:pt x="1683" y="450"/>
                  </a:lnTo>
                  <a:lnTo>
                    <a:pt x="1681" y="461"/>
                  </a:lnTo>
                  <a:lnTo>
                    <a:pt x="1661" y="465"/>
                  </a:lnTo>
                  <a:lnTo>
                    <a:pt x="1665" y="477"/>
                  </a:lnTo>
                  <a:lnTo>
                    <a:pt x="1681" y="484"/>
                  </a:lnTo>
                  <a:lnTo>
                    <a:pt x="1700" y="486"/>
                  </a:lnTo>
                  <a:lnTo>
                    <a:pt x="1713" y="489"/>
                  </a:lnTo>
                  <a:lnTo>
                    <a:pt x="1713" y="499"/>
                  </a:lnTo>
                  <a:lnTo>
                    <a:pt x="1706" y="508"/>
                  </a:lnTo>
                  <a:lnTo>
                    <a:pt x="1717" y="514"/>
                  </a:lnTo>
                  <a:lnTo>
                    <a:pt x="1737" y="505"/>
                  </a:lnTo>
                  <a:lnTo>
                    <a:pt x="1752" y="509"/>
                  </a:lnTo>
                  <a:lnTo>
                    <a:pt x="1765" y="516"/>
                  </a:lnTo>
                  <a:lnTo>
                    <a:pt x="1762" y="532"/>
                  </a:lnTo>
                  <a:lnTo>
                    <a:pt x="1755" y="542"/>
                  </a:lnTo>
                  <a:lnTo>
                    <a:pt x="1755" y="559"/>
                  </a:lnTo>
                  <a:lnTo>
                    <a:pt x="1746" y="573"/>
                  </a:lnTo>
                  <a:lnTo>
                    <a:pt x="1746" y="589"/>
                  </a:lnTo>
                  <a:lnTo>
                    <a:pt x="1769" y="594"/>
                  </a:lnTo>
                  <a:lnTo>
                    <a:pt x="1780" y="598"/>
                  </a:lnTo>
                  <a:lnTo>
                    <a:pt x="1787" y="610"/>
                  </a:lnTo>
                  <a:lnTo>
                    <a:pt x="1793" y="626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46920" y="1897200"/>
              <a:ext cx="754200" cy="120600"/>
            </a:xfrm>
            <a:custGeom>
              <a:avLst/>
              <a:gdLst/>
              <a:ahLst/>
              <a:rect l="l" t="t" r="r" b="b"/>
              <a:pathLst>
                <a:path w="1427" h="154">
                  <a:moveTo>
                    <a:pt x="0" y="36"/>
                  </a:moveTo>
                  <a:lnTo>
                    <a:pt x="26" y="43"/>
                  </a:lnTo>
                  <a:lnTo>
                    <a:pt x="40" y="50"/>
                  </a:lnTo>
                  <a:lnTo>
                    <a:pt x="50" y="64"/>
                  </a:lnTo>
                  <a:lnTo>
                    <a:pt x="68" y="68"/>
                  </a:lnTo>
                  <a:lnTo>
                    <a:pt x="76" y="79"/>
                  </a:lnTo>
                  <a:lnTo>
                    <a:pt x="83" y="90"/>
                  </a:lnTo>
                  <a:lnTo>
                    <a:pt x="110" y="95"/>
                  </a:lnTo>
                  <a:lnTo>
                    <a:pt x="121" y="109"/>
                  </a:lnTo>
                  <a:lnTo>
                    <a:pt x="135" y="125"/>
                  </a:lnTo>
                  <a:lnTo>
                    <a:pt x="146" y="132"/>
                  </a:lnTo>
                  <a:lnTo>
                    <a:pt x="158" y="137"/>
                  </a:lnTo>
                  <a:lnTo>
                    <a:pt x="173" y="137"/>
                  </a:lnTo>
                  <a:lnTo>
                    <a:pt x="187" y="135"/>
                  </a:lnTo>
                  <a:lnTo>
                    <a:pt x="205" y="124"/>
                  </a:lnTo>
                  <a:lnTo>
                    <a:pt x="225" y="126"/>
                  </a:lnTo>
                  <a:lnTo>
                    <a:pt x="240" y="130"/>
                  </a:lnTo>
                  <a:lnTo>
                    <a:pt x="257" y="151"/>
                  </a:lnTo>
                  <a:lnTo>
                    <a:pt x="274" y="154"/>
                  </a:lnTo>
                  <a:lnTo>
                    <a:pt x="274" y="143"/>
                  </a:lnTo>
                  <a:lnTo>
                    <a:pt x="278" y="130"/>
                  </a:lnTo>
                  <a:lnTo>
                    <a:pt x="292" y="127"/>
                  </a:lnTo>
                  <a:lnTo>
                    <a:pt x="303" y="142"/>
                  </a:lnTo>
                  <a:lnTo>
                    <a:pt x="329" y="144"/>
                  </a:lnTo>
                  <a:lnTo>
                    <a:pt x="349" y="145"/>
                  </a:lnTo>
                  <a:lnTo>
                    <a:pt x="362" y="134"/>
                  </a:lnTo>
                  <a:lnTo>
                    <a:pt x="371" y="127"/>
                  </a:lnTo>
                  <a:lnTo>
                    <a:pt x="391" y="122"/>
                  </a:lnTo>
                  <a:lnTo>
                    <a:pt x="411" y="120"/>
                  </a:lnTo>
                  <a:lnTo>
                    <a:pt x="448" y="110"/>
                  </a:lnTo>
                  <a:lnTo>
                    <a:pt x="450" y="101"/>
                  </a:lnTo>
                  <a:lnTo>
                    <a:pt x="434" y="94"/>
                  </a:lnTo>
                  <a:lnTo>
                    <a:pt x="429" y="82"/>
                  </a:lnTo>
                  <a:lnTo>
                    <a:pt x="443" y="75"/>
                  </a:lnTo>
                  <a:lnTo>
                    <a:pt x="459" y="85"/>
                  </a:lnTo>
                  <a:lnTo>
                    <a:pt x="466" y="74"/>
                  </a:lnTo>
                  <a:lnTo>
                    <a:pt x="472" y="63"/>
                  </a:lnTo>
                  <a:lnTo>
                    <a:pt x="545" y="53"/>
                  </a:lnTo>
                  <a:lnTo>
                    <a:pt x="566" y="53"/>
                  </a:lnTo>
                  <a:lnTo>
                    <a:pt x="570" y="57"/>
                  </a:lnTo>
                  <a:lnTo>
                    <a:pt x="574" y="61"/>
                  </a:lnTo>
                  <a:lnTo>
                    <a:pt x="578" y="65"/>
                  </a:lnTo>
                  <a:lnTo>
                    <a:pt x="582" y="68"/>
                  </a:lnTo>
                  <a:lnTo>
                    <a:pt x="589" y="69"/>
                  </a:lnTo>
                  <a:lnTo>
                    <a:pt x="596" y="69"/>
                  </a:lnTo>
                  <a:lnTo>
                    <a:pt x="602" y="69"/>
                  </a:lnTo>
                  <a:lnTo>
                    <a:pt x="609" y="68"/>
                  </a:lnTo>
                  <a:lnTo>
                    <a:pt x="616" y="69"/>
                  </a:lnTo>
                  <a:lnTo>
                    <a:pt x="623" y="69"/>
                  </a:lnTo>
                  <a:lnTo>
                    <a:pt x="630" y="69"/>
                  </a:lnTo>
                  <a:lnTo>
                    <a:pt x="636" y="69"/>
                  </a:lnTo>
                  <a:lnTo>
                    <a:pt x="643" y="70"/>
                  </a:lnTo>
                  <a:lnTo>
                    <a:pt x="650" y="70"/>
                  </a:lnTo>
                  <a:lnTo>
                    <a:pt x="657" y="70"/>
                  </a:lnTo>
                  <a:lnTo>
                    <a:pt x="662" y="69"/>
                  </a:lnTo>
                  <a:lnTo>
                    <a:pt x="666" y="66"/>
                  </a:lnTo>
                  <a:lnTo>
                    <a:pt x="669" y="61"/>
                  </a:lnTo>
                  <a:lnTo>
                    <a:pt x="672" y="56"/>
                  </a:lnTo>
                  <a:lnTo>
                    <a:pt x="676" y="53"/>
                  </a:lnTo>
                  <a:lnTo>
                    <a:pt x="682" y="50"/>
                  </a:lnTo>
                  <a:lnTo>
                    <a:pt x="687" y="48"/>
                  </a:lnTo>
                  <a:lnTo>
                    <a:pt x="693" y="46"/>
                  </a:lnTo>
                  <a:lnTo>
                    <a:pt x="698" y="43"/>
                  </a:lnTo>
                  <a:lnTo>
                    <a:pt x="703" y="39"/>
                  </a:lnTo>
                  <a:lnTo>
                    <a:pt x="705" y="35"/>
                  </a:lnTo>
                  <a:lnTo>
                    <a:pt x="710" y="31"/>
                  </a:lnTo>
                  <a:lnTo>
                    <a:pt x="714" y="27"/>
                  </a:lnTo>
                  <a:lnTo>
                    <a:pt x="719" y="25"/>
                  </a:lnTo>
                  <a:lnTo>
                    <a:pt x="725" y="23"/>
                  </a:lnTo>
                  <a:lnTo>
                    <a:pt x="731" y="20"/>
                  </a:lnTo>
                  <a:lnTo>
                    <a:pt x="738" y="18"/>
                  </a:lnTo>
                  <a:lnTo>
                    <a:pt x="742" y="15"/>
                  </a:lnTo>
                  <a:lnTo>
                    <a:pt x="747" y="12"/>
                  </a:lnTo>
                  <a:lnTo>
                    <a:pt x="753" y="10"/>
                  </a:lnTo>
                  <a:lnTo>
                    <a:pt x="760" y="8"/>
                  </a:lnTo>
                  <a:lnTo>
                    <a:pt x="766" y="7"/>
                  </a:lnTo>
                  <a:lnTo>
                    <a:pt x="773" y="7"/>
                  </a:lnTo>
                  <a:lnTo>
                    <a:pt x="780" y="7"/>
                  </a:lnTo>
                  <a:lnTo>
                    <a:pt x="787" y="7"/>
                  </a:lnTo>
                  <a:lnTo>
                    <a:pt x="792" y="7"/>
                  </a:lnTo>
                  <a:lnTo>
                    <a:pt x="799" y="8"/>
                  </a:lnTo>
                  <a:lnTo>
                    <a:pt x="806" y="9"/>
                  </a:lnTo>
                  <a:lnTo>
                    <a:pt x="812" y="11"/>
                  </a:lnTo>
                  <a:lnTo>
                    <a:pt x="816" y="15"/>
                  </a:lnTo>
                  <a:lnTo>
                    <a:pt x="822" y="19"/>
                  </a:lnTo>
                  <a:lnTo>
                    <a:pt x="826" y="22"/>
                  </a:lnTo>
                  <a:lnTo>
                    <a:pt x="830" y="23"/>
                  </a:lnTo>
                  <a:lnTo>
                    <a:pt x="834" y="19"/>
                  </a:lnTo>
                  <a:lnTo>
                    <a:pt x="838" y="14"/>
                  </a:lnTo>
                  <a:lnTo>
                    <a:pt x="842" y="10"/>
                  </a:lnTo>
                  <a:lnTo>
                    <a:pt x="847" y="6"/>
                  </a:lnTo>
                  <a:lnTo>
                    <a:pt x="852" y="3"/>
                  </a:lnTo>
                  <a:lnTo>
                    <a:pt x="858" y="2"/>
                  </a:lnTo>
                  <a:lnTo>
                    <a:pt x="863" y="1"/>
                  </a:lnTo>
                  <a:lnTo>
                    <a:pt x="870" y="1"/>
                  </a:lnTo>
                  <a:lnTo>
                    <a:pt x="877" y="1"/>
                  </a:lnTo>
                  <a:lnTo>
                    <a:pt x="884" y="2"/>
                  </a:lnTo>
                  <a:lnTo>
                    <a:pt x="893" y="4"/>
                  </a:lnTo>
                  <a:lnTo>
                    <a:pt x="897" y="6"/>
                  </a:lnTo>
                  <a:lnTo>
                    <a:pt x="897" y="10"/>
                  </a:lnTo>
                  <a:lnTo>
                    <a:pt x="896" y="15"/>
                  </a:lnTo>
                  <a:lnTo>
                    <a:pt x="891" y="20"/>
                  </a:lnTo>
                  <a:lnTo>
                    <a:pt x="890" y="24"/>
                  </a:lnTo>
                  <a:lnTo>
                    <a:pt x="893" y="28"/>
                  </a:lnTo>
                  <a:lnTo>
                    <a:pt x="900" y="31"/>
                  </a:lnTo>
                  <a:lnTo>
                    <a:pt x="904" y="30"/>
                  </a:lnTo>
                  <a:lnTo>
                    <a:pt x="907" y="26"/>
                  </a:lnTo>
                  <a:lnTo>
                    <a:pt x="908" y="21"/>
                  </a:lnTo>
                  <a:lnTo>
                    <a:pt x="910" y="15"/>
                  </a:lnTo>
                  <a:lnTo>
                    <a:pt x="912" y="11"/>
                  </a:lnTo>
                  <a:lnTo>
                    <a:pt x="918" y="7"/>
                  </a:lnTo>
                  <a:lnTo>
                    <a:pt x="924" y="4"/>
                  </a:lnTo>
                  <a:lnTo>
                    <a:pt x="929" y="2"/>
                  </a:lnTo>
                  <a:lnTo>
                    <a:pt x="935" y="3"/>
                  </a:lnTo>
                  <a:lnTo>
                    <a:pt x="940" y="6"/>
                  </a:lnTo>
                  <a:lnTo>
                    <a:pt x="945" y="10"/>
                  </a:lnTo>
                  <a:lnTo>
                    <a:pt x="949" y="15"/>
                  </a:lnTo>
                  <a:lnTo>
                    <a:pt x="950" y="19"/>
                  </a:lnTo>
                  <a:lnTo>
                    <a:pt x="952" y="23"/>
                  </a:lnTo>
                  <a:lnTo>
                    <a:pt x="953" y="28"/>
                  </a:lnTo>
                  <a:lnTo>
                    <a:pt x="954" y="33"/>
                  </a:lnTo>
                  <a:lnTo>
                    <a:pt x="954" y="38"/>
                  </a:lnTo>
                  <a:lnTo>
                    <a:pt x="956" y="42"/>
                  </a:lnTo>
                  <a:lnTo>
                    <a:pt x="957" y="51"/>
                  </a:lnTo>
                  <a:lnTo>
                    <a:pt x="982" y="43"/>
                  </a:lnTo>
                  <a:lnTo>
                    <a:pt x="1006" y="51"/>
                  </a:lnTo>
                  <a:lnTo>
                    <a:pt x="1030" y="41"/>
                  </a:lnTo>
                  <a:lnTo>
                    <a:pt x="1041" y="81"/>
                  </a:lnTo>
                  <a:lnTo>
                    <a:pt x="1063" y="69"/>
                  </a:lnTo>
                  <a:lnTo>
                    <a:pt x="1107" y="81"/>
                  </a:lnTo>
                  <a:lnTo>
                    <a:pt x="1126" y="83"/>
                  </a:lnTo>
                  <a:lnTo>
                    <a:pt x="1130" y="69"/>
                  </a:lnTo>
                  <a:lnTo>
                    <a:pt x="1165" y="78"/>
                  </a:lnTo>
                  <a:lnTo>
                    <a:pt x="1203" y="78"/>
                  </a:lnTo>
                  <a:lnTo>
                    <a:pt x="1224" y="66"/>
                  </a:lnTo>
                  <a:lnTo>
                    <a:pt x="1242" y="51"/>
                  </a:lnTo>
                  <a:lnTo>
                    <a:pt x="1266" y="46"/>
                  </a:lnTo>
                  <a:lnTo>
                    <a:pt x="1288" y="36"/>
                  </a:lnTo>
                  <a:lnTo>
                    <a:pt x="1307" y="38"/>
                  </a:lnTo>
                  <a:lnTo>
                    <a:pt x="1325" y="22"/>
                  </a:lnTo>
                  <a:lnTo>
                    <a:pt x="1347" y="20"/>
                  </a:lnTo>
                  <a:lnTo>
                    <a:pt x="1369" y="15"/>
                  </a:lnTo>
                  <a:lnTo>
                    <a:pt x="1393" y="12"/>
                  </a:lnTo>
                  <a:lnTo>
                    <a:pt x="1427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92680" y="1962000"/>
              <a:ext cx="339840" cy="298440"/>
            </a:xfrm>
            <a:custGeom>
              <a:avLst/>
              <a:gdLst/>
              <a:ahLst/>
              <a:rect l="l" t="t" r="r" b="b"/>
              <a:pathLst>
                <a:path w="642" h="376">
                  <a:moveTo>
                    <a:pt x="0" y="376"/>
                  </a:moveTo>
                  <a:lnTo>
                    <a:pt x="2" y="371"/>
                  </a:lnTo>
                  <a:lnTo>
                    <a:pt x="5" y="367"/>
                  </a:lnTo>
                  <a:lnTo>
                    <a:pt x="6" y="362"/>
                  </a:lnTo>
                  <a:lnTo>
                    <a:pt x="7" y="358"/>
                  </a:lnTo>
                  <a:lnTo>
                    <a:pt x="9" y="353"/>
                  </a:lnTo>
                  <a:lnTo>
                    <a:pt x="10" y="348"/>
                  </a:lnTo>
                  <a:lnTo>
                    <a:pt x="12" y="344"/>
                  </a:lnTo>
                  <a:lnTo>
                    <a:pt x="13" y="339"/>
                  </a:lnTo>
                  <a:lnTo>
                    <a:pt x="14" y="334"/>
                  </a:lnTo>
                  <a:lnTo>
                    <a:pt x="16" y="330"/>
                  </a:lnTo>
                  <a:lnTo>
                    <a:pt x="17" y="325"/>
                  </a:lnTo>
                  <a:lnTo>
                    <a:pt x="19" y="321"/>
                  </a:lnTo>
                  <a:lnTo>
                    <a:pt x="20" y="316"/>
                  </a:lnTo>
                  <a:lnTo>
                    <a:pt x="21" y="311"/>
                  </a:lnTo>
                  <a:lnTo>
                    <a:pt x="23" y="307"/>
                  </a:lnTo>
                  <a:lnTo>
                    <a:pt x="26" y="302"/>
                  </a:lnTo>
                  <a:lnTo>
                    <a:pt x="27" y="298"/>
                  </a:lnTo>
                  <a:lnTo>
                    <a:pt x="30" y="293"/>
                  </a:lnTo>
                  <a:lnTo>
                    <a:pt x="33" y="289"/>
                  </a:lnTo>
                  <a:lnTo>
                    <a:pt x="35" y="285"/>
                  </a:lnTo>
                  <a:lnTo>
                    <a:pt x="38" y="280"/>
                  </a:lnTo>
                  <a:lnTo>
                    <a:pt x="41" y="276"/>
                  </a:lnTo>
                  <a:lnTo>
                    <a:pt x="44" y="272"/>
                  </a:lnTo>
                  <a:lnTo>
                    <a:pt x="48" y="268"/>
                  </a:lnTo>
                  <a:lnTo>
                    <a:pt x="51" y="264"/>
                  </a:lnTo>
                  <a:lnTo>
                    <a:pt x="54" y="260"/>
                  </a:lnTo>
                  <a:lnTo>
                    <a:pt x="58" y="256"/>
                  </a:lnTo>
                  <a:lnTo>
                    <a:pt x="61" y="252"/>
                  </a:lnTo>
                  <a:lnTo>
                    <a:pt x="65" y="248"/>
                  </a:lnTo>
                  <a:lnTo>
                    <a:pt x="69" y="244"/>
                  </a:lnTo>
                  <a:lnTo>
                    <a:pt x="72" y="240"/>
                  </a:lnTo>
                  <a:lnTo>
                    <a:pt x="76" y="236"/>
                  </a:lnTo>
                  <a:lnTo>
                    <a:pt x="80" y="232"/>
                  </a:lnTo>
                  <a:lnTo>
                    <a:pt x="84" y="228"/>
                  </a:lnTo>
                  <a:lnTo>
                    <a:pt x="89" y="225"/>
                  </a:lnTo>
                  <a:lnTo>
                    <a:pt x="93" y="221"/>
                  </a:lnTo>
                  <a:lnTo>
                    <a:pt x="97" y="217"/>
                  </a:lnTo>
                  <a:lnTo>
                    <a:pt x="101" y="214"/>
                  </a:lnTo>
                  <a:lnTo>
                    <a:pt x="107" y="211"/>
                  </a:lnTo>
                  <a:lnTo>
                    <a:pt x="112" y="209"/>
                  </a:lnTo>
                  <a:lnTo>
                    <a:pt x="118" y="206"/>
                  </a:lnTo>
                  <a:lnTo>
                    <a:pt x="123" y="204"/>
                  </a:lnTo>
                  <a:lnTo>
                    <a:pt x="130" y="203"/>
                  </a:lnTo>
                  <a:lnTo>
                    <a:pt x="137" y="202"/>
                  </a:lnTo>
                  <a:lnTo>
                    <a:pt x="143" y="202"/>
                  </a:lnTo>
                  <a:lnTo>
                    <a:pt x="150" y="201"/>
                  </a:lnTo>
                  <a:lnTo>
                    <a:pt x="157" y="201"/>
                  </a:lnTo>
                  <a:lnTo>
                    <a:pt x="164" y="201"/>
                  </a:lnTo>
                  <a:lnTo>
                    <a:pt x="170" y="202"/>
                  </a:lnTo>
                  <a:lnTo>
                    <a:pt x="177" y="202"/>
                  </a:lnTo>
                  <a:lnTo>
                    <a:pt x="184" y="202"/>
                  </a:lnTo>
                  <a:lnTo>
                    <a:pt x="189" y="202"/>
                  </a:lnTo>
                  <a:lnTo>
                    <a:pt x="196" y="203"/>
                  </a:lnTo>
                  <a:lnTo>
                    <a:pt x="203" y="203"/>
                  </a:lnTo>
                  <a:lnTo>
                    <a:pt x="212" y="203"/>
                  </a:lnTo>
                  <a:lnTo>
                    <a:pt x="219" y="203"/>
                  </a:lnTo>
                  <a:lnTo>
                    <a:pt x="223" y="201"/>
                  </a:lnTo>
                  <a:lnTo>
                    <a:pt x="223" y="198"/>
                  </a:lnTo>
                  <a:lnTo>
                    <a:pt x="220" y="194"/>
                  </a:lnTo>
                  <a:lnTo>
                    <a:pt x="216" y="189"/>
                  </a:lnTo>
                  <a:lnTo>
                    <a:pt x="213" y="184"/>
                  </a:lnTo>
                  <a:lnTo>
                    <a:pt x="216" y="180"/>
                  </a:lnTo>
                  <a:lnTo>
                    <a:pt x="219" y="176"/>
                  </a:lnTo>
                  <a:lnTo>
                    <a:pt x="223" y="172"/>
                  </a:lnTo>
                  <a:lnTo>
                    <a:pt x="228" y="168"/>
                  </a:lnTo>
                  <a:lnTo>
                    <a:pt x="233" y="165"/>
                  </a:lnTo>
                  <a:lnTo>
                    <a:pt x="237" y="162"/>
                  </a:lnTo>
                  <a:lnTo>
                    <a:pt x="242" y="159"/>
                  </a:lnTo>
                  <a:lnTo>
                    <a:pt x="248" y="156"/>
                  </a:lnTo>
                  <a:lnTo>
                    <a:pt x="252" y="153"/>
                  </a:lnTo>
                  <a:lnTo>
                    <a:pt x="258" y="150"/>
                  </a:lnTo>
                  <a:lnTo>
                    <a:pt x="265" y="147"/>
                  </a:lnTo>
                  <a:lnTo>
                    <a:pt x="270" y="144"/>
                  </a:lnTo>
                  <a:lnTo>
                    <a:pt x="276" y="143"/>
                  </a:lnTo>
                  <a:lnTo>
                    <a:pt x="281" y="146"/>
                  </a:lnTo>
                  <a:lnTo>
                    <a:pt x="283" y="150"/>
                  </a:lnTo>
                  <a:lnTo>
                    <a:pt x="281" y="155"/>
                  </a:lnTo>
                  <a:lnTo>
                    <a:pt x="280" y="160"/>
                  </a:lnTo>
                  <a:lnTo>
                    <a:pt x="277" y="165"/>
                  </a:lnTo>
                  <a:lnTo>
                    <a:pt x="277" y="169"/>
                  </a:lnTo>
                  <a:lnTo>
                    <a:pt x="279" y="173"/>
                  </a:lnTo>
                  <a:lnTo>
                    <a:pt x="284" y="176"/>
                  </a:lnTo>
                  <a:lnTo>
                    <a:pt x="290" y="179"/>
                  </a:lnTo>
                  <a:lnTo>
                    <a:pt x="295" y="182"/>
                  </a:lnTo>
                  <a:lnTo>
                    <a:pt x="301" y="184"/>
                  </a:lnTo>
                  <a:lnTo>
                    <a:pt x="308" y="186"/>
                  </a:lnTo>
                  <a:lnTo>
                    <a:pt x="314" y="188"/>
                  </a:lnTo>
                  <a:lnTo>
                    <a:pt x="321" y="189"/>
                  </a:lnTo>
                  <a:lnTo>
                    <a:pt x="326" y="191"/>
                  </a:lnTo>
                  <a:lnTo>
                    <a:pt x="333" y="193"/>
                  </a:lnTo>
                  <a:lnTo>
                    <a:pt x="339" y="195"/>
                  </a:lnTo>
                  <a:lnTo>
                    <a:pt x="344" y="196"/>
                  </a:lnTo>
                  <a:lnTo>
                    <a:pt x="351" y="198"/>
                  </a:lnTo>
                  <a:lnTo>
                    <a:pt x="357" y="200"/>
                  </a:lnTo>
                  <a:lnTo>
                    <a:pt x="364" y="201"/>
                  </a:lnTo>
                  <a:lnTo>
                    <a:pt x="370" y="203"/>
                  </a:lnTo>
                  <a:lnTo>
                    <a:pt x="376" y="204"/>
                  </a:lnTo>
                  <a:lnTo>
                    <a:pt x="382" y="206"/>
                  </a:lnTo>
                  <a:lnTo>
                    <a:pt x="389" y="207"/>
                  </a:lnTo>
                  <a:lnTo>
                    <a:pt x="395" y="208"/>
                  </a:lnTo>
                  <a:lnTo>
                    <a:pt x="402" y="209"/>
                  </a:lnTo>
                  <a:lnTo>
                    <a:pt x="409" y="210"/>
                  </a:lnTo>
                  <a:lnTo>
                    <a:pt x="416" y="211"/>
                  </a:lnTo>
                  <a:lnTo>
                    <a:pt x="417" y="211"/>
                  </a:lnTo>
                  <a:lnTo>
                    <a:pt x="421" y="211"/>
                  </a:lnTo>
                  <a:lnTo>
                    <a:pt x="427" y="210"/>
                  </a:lnTo>
                  <a:lnTo>
                    <a:pt x="432" y="207"/>
                  </a:lnTo>
                  <a:lnTo>
                    <a:pt x="438" y="203"/>
                  </a:lnTo>
                  <a:lnTo>
                    <a:pt x="442" y="200"/>
                  </a:lnTo>
                  <a:lnTo>
                    <a:pt x="446" y="197"/>
                  </a:lnTo>
                  <a:lnTo>
                    <a:pt x="452" y="193"/>
                  </a:lnTo>
                  <a:lnTo>
                    <a:pt x="456" y="189"/>
                  </a:lnTo>
                  <a:lnTo>
                    <a:pt x="462" y="186"/>
                  </a:lnTo>
                  <a:lnTo>
                    <a:pt x="467" y="184"/>
                  </a:lnTo>
                  <a:lnTo>
                    <a:pt x="473" y="183"/>
                  </a:lnTo>
                  <a:lnTo>
                    <a:pt x="480" y="182"/>
                  </a:lnTo>
                  <a:lnTo>
                    <a:pt x="487" y="182"/>
                  </a:lnTo>
                  <a:lnTo>
                    <a:pt x="494" y="182"/>
                  </a:lnTo>
                  <a:lnTo>
                    <a:pt x="500" y="183"/>
                  </a:lnTo>
                  <a:lnTo>
                    <a:pt x="507" y="183"/>
                  </a:lnTo>
                  <a:lnTo>
                    <a:pt x="513" y="184"/>
                  </a:lnTo>
                  <a:lnTo>
                    <a:pt x="519" y="186"/>
                  </a:lnTo>
                  <a:lnTo>
                    <a:pt x="526" y="188"/>
                  </a:lnTo>
                  <a:lnTo>
                    <a:pt x="532" y="191"/>
                  </a:lnTo>
                  <a:lnTo>
                    <a:pt x="539" y="192"/>
                  </a:lnTo>
                  <a:lnTo>
                    <a:pt x="544" y="191"/>
                  </a:lnTo>
                  <a:lnTo>
                    <a:pt x="548" y="188"/>
                  </a:lnTo>
                  <a:lnTo>
                    <a:pt x="553" y="184"/>
                  </a:lnTo>
                  <a:lnTo>
                    <a:pt x="555" y="180"/>
                  </a:lnTo>
                  <a:lnTo>
                    <a:pt x="560" y="175"/>
                  </a:lnTo>
                  <a:lnTo>
                    <a:pt x="561" y="171"/>
                  </a:lnTo>
                  <a:lnTo>
                    <a:pt x="564" y="167"/>
                  </a:lnTo>
                  <a:lnTo>
                    <a:pt x="567" y="162"/>
                  </a:lnTo>
                  <a:lnTo>
                    <a:pt x="569" y="157"/>
                  </a:lnTo>
                  <a:lnTo>
                    <a:pt x="571" y="152"/>
                  </a:lnTo>
                  <a:lnTo>
                    <a:pt x="574" y="148"/>
                  </a:lnTo>
                  <a:lnTo>
                    <a:pt x="578" y="148"/>
                  </a:lnTo>
                  <a:lnTo>
                    <a:pt x="583" y="152"/>
                  </a:lnTo>
                  <a:lnTo>
                    <a:pt x="588" y="156"/>
                  </a:lnTo>
                  <a:lnTo>
                    <a:pt x="593" y="160"/>
                  </a:lnTo>
                  <a:lnTo>
                    <a:pt x="597" y="162"/>
                  </a:lnTo>
                  <a:lnTo>
                    <a:pt x="603" y="161"/>
                  </a:lnTo>
                  <a:lnTo>
                    <a:pt x="610" y="159"/>
                  </a:lnTo>
                  <a:lnTo>
                    <a:pt x="616" y="155"/>
                  </a:lnTo>
                  <a:lnTo>
                    <a:pt x="618" y="151"/>
                  </a:lnTo>
                  <a:lnTo>
                    <a:pt x="620" y="147"/>
                  </a:lnTo>
                  <a:lnTo>
                    <a:pt x="620" y="142"/>
                  </a:lnTo>
                  <a:lnTo>
                    <a:pt x="618" y="137"/>
                  </a:lnTo>
                  <a:lnTo>
                    <a:pt x="617" y="132"/>
                  </a:lnTo>
                  <a:lnTo>
                    <a:pt x="616" y="127"/>
                  </a:lnTo>
                  <a:lnTo>
                    <a:pt x="614" y="123"/>
                  </a:lnTo>
                  <a:lnTo>
                    <a:pt x="613" y="118"/>
                  </a:lnTo>
                  <a:lnTo>
                    <a:pt x="611" y="114"/>
                  </a:lnTo>
                  <a:lnTo>
                    <a:pt x="610" y="109"/>
                  </a:lnTo>
                  <a:lnTo>
                    <a:pt x="609" y="104"/>
                  </a:lnTo>
                  <a:lnTo>
                    <a:pt x="607" y="100"/>
                  </a:lnTo>
                  <a:lnTo>
                    <a:pt x="607" y="95"/>
                  </a:lnTo>
                  <a:lnTo>
                    <a:pt x="607" y="90"/>
                  </a:lnTo>
                  <a:lnTo>
                    <a:pt x="609" y="85"/>
                  </a:lnTo>
                  <a:lnTo>
                    <a:pt x="610" y="81"/>
                  </a:lnTo>
                  <a:lnTo>
                    <a:pt x="614" y="78"/>
                  </a:lnTo>
                  <a:lnTo>
                    <a:pt x="621" y="76"/>
                  </a:lnTo>
                  <a:lnTo>
                    <a:pt x="628" y="74"/>
                  </a:lnTo>
                  <a:lnTo>
                    <a:pt x="634" y="72"/>
                  </a:lnTo>
                  <a:lnTo>
                    <a:pt x="639" y="69"/>
                  </a:lnTo>
                  <a:lnTo>
                    <a:pt x="641" y="65"/>
                  </a:lnTo>
                  <a:lnTo>
                    <a:pt x="642" y="60"/>
                  </a:lnTo>
                  <a:lnTo>
                    <a:pt x="641" y="54"/>
                  </a:lnTo>
                  <a:lnTo>
                    <a:pt x="638" y="50"/>
                  </a:lnTo>
                  <a:lnTo>
                    <a:pt x="632" y="47"/>
                  </a:lnTo>
                  <a:lnTo>
                    <a:pt x="627" y="44"/>
                  </a:lnTo>
                  <a:lnTo>
                    <a:pt x="621" y="42"/>
                  </a:lnTo>
                  <a:lnTo>
                    <a:pt x="617" y="39"/>
                  </a:lnTo>
                  <a:lnTo>
                    <a:pt x="611" y="36"/>
                  </a:lnTo>
                  <a:lnTo>
                    <a:pt x="606" y="33"/>
                  </a:lnTo>
                  <a:lnTo>
                    <a:pt x="600" y="30"/>
                  </a:lnTo>
                  <a:lnTo>
                    <a:pt x="595" y="27"/>
                  </a:lnTo>
                  <a:lnTo>
                    <a:pt x="589" y="24"/>
                  </a:lnTo>
                  <a:lnTo>
                    <a:pt x="585" y="21"/>
                  </a:lnTo>
                  <a:lnTo>
                    <a:pt x="581" y="18"/>
                  </a:lnTo>
                  <a:lnTo>
                    <a:pt x="576" y="14"/>
                  </a:lnTo>
                  <a:lnTo>
                    <a:pt x="575" y="9"/>
                  </a:lnTo>
                  <a:lnTo>
                    <a:pt x="575" y="4"/>
                  </a:lnTo>
                  <a:lnTo>
                    <a:pt x="576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91280" y="2260440"/>
              <a:ext cx="401400" cy="546120"/>
            </a:xfrm>
            <a:custGeom>
              <a:avLst/>
              <a:gdLst/>
              <a:ahLst/>
              <a:rect l="l" t="t" r="r" b="b"/>
              <a:pathLst>
                <a:path w="759" h="689">
                  <a:moveTo>
                    <a:pt x="0" y="689"/>
                  </a:moveTo>
                  <a:lnTo>
                    <a:pt x="0" y="684"/>
                  </a:lnTo>
                  <a:lnTo>
                    <a:pt x="0" y="679"/>
                  </a:lnTo>
                  <a:lnTo>
                    <a:pt x="0" y="674"/>
                  </a:lnTo>
                  <a:lnTo>
                    <a:pt x="0" y="670"/>
                  </a:lnTo>
                  <a:lnTo>
                    <a:pt x="3" y="665"/>
                  </a:lnTo>
                  <a:lnTo>
                    <a:pt x="6" y="661"/>
                  </a:lnTo>
                  <a:lnTo>
                    <a:pt x="10" y="657"/>
                  </a:lnTo>
                  <a:lnTo>
                    <a:pt x="14" y="654"/>
                  </a:lnTo>
                  <a:lnTo>
                    <a:pt x="20" y="651"/>
                  </a:lnTo>
                  <a:lnTo>
                    <a:pt x="26" y="649"/>
                  </a:lnTo>
                  <a:lnTo>
                    <a:pt x="33" y="647"/>
                  </a:lnTo>
                  <a:lnTo>
                    <a:pt x="38" y="646"/>
                  </a:lnTo>
                  <a:lnTo>
                    <a:pt x="45" y="645"/>
                  </a:lnTo>
                  <a:lnTo>
                    <a:pt x="52" y="646"/>
                  </a:lnTo>
                  <a:lnTo>
                    <a:pt x="58" y="647"/>
                  </a:lnTo>
                  <a:lnTo>
                    <a:pt x="65" y="647"/>
                  </a:lnTo>
                  <a:lnTo>
                    <a:pt x="72" y="646"/>
                  </a:lnTo>
                  <a:lnTo>
                    <a:pt x="77" y="644"/>
                  </a:lnTo>
                  <a:lnTo>
                    <a:pt x="84" y="642"/>
                  </a:lnTo>
                  <a:lnTo>
                    <a:pt x="88" y="639"/>
                  </a:lnTo>
                  <a:lnTo>
                    <a:pt x="91" y="634"/>
                  </a:lnTo>
                  <a:lnTo>
                    <a:pt x="93" y="630"/>
                  </a:lnTo>
                  <a:lnTo>
                    <a:pt x="95" y="625"/>
                  </a:lnTo>
                  <a:lnTo>
                    <a:pt x="97" y="620"/>
                  </a:lnTo>
                  <a:lnTo>
                    <a:pt x="98" y="616"/>
                  </a:lnTo>
                  <a:lnTo>
                    <a:pt x="101" y="611"/>
                  </a:lnTo>
                  <a:lnTo>
                    <a:pt x="102" y="607"/>
                  </a:lnTo>
                  <a:lnTo>
                    <a:pt x="104" y="602"/>
                  </a:lnTo>
                  <a:lnTo>
                    <a:pt x="105" y="598"/>
                  </a:lnTo>
                  <a:lnTo>
                    <a:pt x="107" y="592"/>
                  </a:lnTo>
                  <a:lnTo>
                    <a:pt x="109" y="587"/>
                  </a:lnTo>
                  <a:lnTo>
                    <a:pt x="111" y="583"/>
                  </a:lnTo>
                  <a:lnTo>
                    <a:pt x="115" y="579"/>
                  </a:lnTo>
                  <a:lnTo>
                    <a:pt x="118" y="575"/>
                  </a:lnTo>
                  <a:lnTo>
                    <a:pt x="122" y="571"/>
                  </a:lnTo>
                  <a:lnTo>
                    <a:pt x="128" y="568"/>
                  </a:lnTo>
                  <a:lnTo>
                    <a:pt x="133" y="566"/>
                  </a:lnTo>
                  <a:lnTo>
                    <a:pt x="139" y="563"/>
                  </a:lnTo>
                  <a:lnTo>
                    <a:pt x="146" y="562"/>
                  </a:lnTo>
                  <a:lnTo>
                    <a:pt x="153" y="562"/>
                  </a:lnTo>
                  <a:lnTo>
                    <a:pt x="158" y="563"/>
                  </a:lnTo>
                  <a:lnTo>
                    <a:pt x="165" y="565"/>
                  </a:lnTo>
                  <a:lnTo>
                    <a:pt x="171" y="567"/>
                  </a:lnTo>
                  <a:lnTo>
                    <a:pt x="177" y="569"/>
                  </a:lnTo>
                  <a:lnTo>
                    <a:pt x="184" y="571"/>
                  </a:lnTo>
                  <a:lnTo>
                    <a:pt x="189" y="574"/>
                  </a:lnTo>
                  <a:lnTo>
                    <a:pt x="195" y="576"/>
                  </a:lnTo>
                  <a:lnTo>
                    <a:pt x="200" y="578"/>
                  </a:lnTo>
                  <a:lnTo>
                    <a:pt x="206" y="580"/>
                  </a:lnTo>
                  <a:lnTo>
                    <a:pt x="213" y="583"/>
                  </a:lnTo>
                  <a:lnTo>
                    <a:pt x="218" y="585"/>
                  </a:lnTo>
                  <a:lnTo>
                    <a:pt x="225" y="585"/>
                  </a:lnTo>
                  <a:lnTo>
                    <a:pt x="231" y="585"/>
                  </a:lnTo>
                  <a:lnTo>
                    <a:pt x="237" y="583"/>
                  </a:lnTo>
                  <a:lnTo>
                    <a:pt x="244" y="581"/>
                  </a:lnTo>
                  <a:lnTo>
                    <a:pt x="249" y="578"/>
                  </a:lnTo>
                  <a:lnTo>
                    <a:pt x="255" y="576"/>
                  </a:lnTo>
                  <a:lnTo>
                    <a:pt x="260" y="573"/>
                  </a:lnTo>
                  <a:lnTo>
                    <a:pt x="267" y="571"/>
                  </a:lnTo>
                  <a:lnTo>
                    <a:pt x="273" y="570"/>
                  </a:lnTo>
                  <a:lnTo>
                    <a:pt x="279" y="569"/>
                  </a:lnTo>
                  <a:lnTo>
                    <a:pt x="286" y="570"/>
                  </a:lnTo>
                  <a:lnTo>
                    <a:pt x="293" y="572"/>
                  </a:lnTo>
                  <a:lnTo>
                    <a:pt x="300" y="572"/>
                  </a:lnTo>
                  <a:lnTo>
                    <a:pt x="305" y="572"/>
                  </a:lnTo>
                  <a:lnTo>
                    <a:pt x="312" y="572"/>
                  </a:lnTo>
                  <a:lnTo>
                    <a:pt x="319" y="571"/>
                  </a:lnTo>
                  <a:lnTo>
                    <a:pt x="325" y="569"/>
                  </a:lnTo>
                  <a:lnTo>
                    <a:pt x="330" y="566"/>
                  </a:lnTo>
                  <a:lnTo>
                    <a:pt x="336" y="563"/>
                  </a:lnTo>
                  <a:lnTo>
                    <a:pt x="340" y="560"/>
                  </a:lnTo>
                  <a:lnTo>
                    <a:pt x="346" y="557"/>
                  </a:lnTo>
                  <a:lnTo>
                    <a:pt x="351" y="554"/>
                  </a:lnTo>
                  <a:lnTo>
                    <a:pt x="355" y="551"/>
                  </a:lnTo>
                  <a:lnTo>
                    <a:pt x="361" y="548"/>
                  </a:lnTo>
                  <a:lnTo>
                    <a:pt x="367" y="546"/>
                  </a:lnTo>
                  <a:lnTo>
                    <a:pt x="372" y="543"/>
                  </a:lnTo>
                  <a:lnTo>
                    <a:pt x="378" y="541"/>
                  </a:lnTo>
                  <a:lnTo>
                    <a:pt x="383" y="538"/>
                  </a:lnTo>
                  <a:lnTo>
                    <a:pt x="389" y="535"/>
                  </a:lnTo>
                  <a:lnTo>
                    <a:pt x="395" y="532"/>
                  </a:lnTo>
                  <a:lnTo>
                    <a:pt x="399" y="529"/>
                  </a:lnTo>
                  <a:lnTo>
                    <a:pt x="404" y="526"/>
                  </a:lnTo>
                  <a:lnTo>
                    <a:pt x="409" y="522"/>
                  </a:lnTo>
                  <a:lnTo>
                    <a:pt x="413" y="519"/>
                  </a:lnTo>
                  <a:lnTo>
                    <a:pt x="417" y="515"/>
                  </a:lnTo>
                  <a:lnTo>
                    <a:pt x="421" y="512"/>
                  </a:lnTo>
                  <a:lnTo>
                    <a:pt x="425" y="508"/>
                  </a:lnTo>
                  <a:lnTo>
                    <a:pt x="430" y="504"/>
                  </a:lnTo>
                  <a:lnTo>
                    <a:pt x="434" y="500"/>
                  </a:lnTo>
                  <a:lnTo>
                    <a:pt x="437" y="496"/>
                  </a:lnTo>
                  <a:lnTo>
                    <a:pt x="441" y="492"/>
                  </a:lnTo>
                  <a:lnTo>
                    <a:pt x="445" y="489"/>
                  </a:lnTo>
                  <a:lnTo>
                    <a:pt x="449" y="485"/>
                  </a:lnTo>
                  <a:lnTo>
                    <a:pt x="452" y="481"/>
                  </a:lnTo>
                  <a:lnTo>
                    <a:pt x="456" y="477"/>
                  </a:lnTo>
                  <a:lnTo>
                    <a:pt x="460" y="473"/>
                  </a:lnTo>
                  <a:lnTo>
                    <a:pt x="463" y="469"/>
                  </a:lnTo>
                  <a:lnTo>
                    <a:pt x="467" y="465"/>
                  </a:lnTo>
                  <a:lnTo>
                    <a:pt x="471" y="462"/>
                  </a:lnTo>
                  <a:lnTo>
                    <a:pt x="476" y="458"/>
                  </a:lnTo>
                  <a:lnTo>
                    <a:pt x="481" y="455"/>
                  </a:lnTo>
                  <a:lnTo>
                    <a:pt x="485" y="452"/>
                  </a:lnTo>
                  <a:lnTo>
                    <a:pt x="491" y="448"/>
                  </a:lnTo>
                  <a:lnTo>
                    <a:pt x="495" y="445"/>
                  </a:lnTo>
                  <a:lnTo>
                    <a:pt x="499" y="442"/>
                  </a:lnTo>
                  <a:lnTo>
                    <a:pt x="505" y="438"/>
                  </a:lnTo>
                  <a:lnTo>
                    <a:pt x="509" y="435"/>
                  </a:lnTo>
                  <a:lnTo>
                    <a:pt x="512" y="430"/>
                  </a:lnTo>
                  <a:lnTo>
                    <a:pt x="513" y="426"/>
                  </a:lnTo>
                  <a:lnTo>
                    <a:pt x="515" y="421"/>
                  </a:lnTo>
                  <a:lnTo>
                    <a:pt x="512" y="416"/>
                  </a:lnTo>
                  <a:lnTo>
                    <a:pt x="508" y="413"/>
                  </a:lnTo>
                  <a:lnTo>
                    <a:pt x="504" y="410"/>
                  </a:lnTo>
                  <a:lnTo>
                    <a:pt x="498" y="406"/>
                  </a:lnTo>
                  <a:lnTo>
                    <a:pt x="494" y="403"/>
                  </a:lnTo>
                  <a:lnTo>
                    <a:pt x="490" y="399"/>
                  </a:lnTo>
                  <a:lnTo>
                    <a:pt x="485" y="394"/>
                  </a:lnTo>
                  <a:lnTo>
                    <a:pt x="484" y="390"/>
                  </a:lnTo>
                  <a:lnTo>
                    <a:pt x="484" y="386"/>
                  </a:lnTo>
                  <a:lnTo>
                    <a:pt x="488" y="383"/>
                  </a:lnTo>
                  <a:lnTo>
                    <a:pt x="494" y="379"/>
                  </a:lnTo>
                  <a:lnTo>
                    <a:pt x="499" y="376"/>
                  </a:lnTo>
                  <a:lnTo>
                    <a:pt x="505" y="373"/>
                  </a:lnTo>
                  <a:lnTo>
                    <a:pt x="511" y="370"/>
                  </a:lnTo>
                  <a:lnTo>
                    <a:pt x="515" y="367"/>
                  </a:lnTo>
                  <a:lnTo>
                    <a:pt x="519" y="363"/>
                  </a:lnTo>
                  <a:lnTo>
                    <a:pt x="525" y="360"/>
                  </a:lnTo>
                  <a:lnTo>
                    <a:pt x="529" y="357"/>
                  </a:lnTo>
                  <a:lnTo>
                    <a:pt x="534" y="353"/>
                  </a:lnTo>
                  <a:lnTo>
                    <a:pt x="539" y="350"/>
                  </a:lnTo>
                  <a:lnTo>
                    <a:pt x="544" y="348"/>
                  </a:lnTo>
                  <a:lnTo>
                    <a:pt x="550" y="346"/>
                  </a:lnTo>
                  <a:lnTo>
                    <a:pt x="557" y="344"/>
                  </a:lnTo>
                  <a:lnTo>
                    <a:pt x="564" y="343"/>
                  </a:lnTo>
                  <a:lnTo>
                    <a:pt x="569" y="344"/>
                  </a:lnTo>
                  <a:lnTo>
                    <a:pt x="575" y="347"/>
                  </a:lnTo>
                  <a:lnTo>
                    <a:pt x="579" y="351"/>
                  </a:lnTo>
                  <a:lnTo>
                    <a:pt x="583" y="355"/>
                  </a:lnTo>
                  <a:lnTo>
                    <a:pt x="589" y="358"/>
                  </a:lnTo>
                  <a:lnTo>
                    <a:pt x="595" y="359"/>
                  </a:lnTo>
                  <a:lnTo>
                    <a:pt x="601" y="358"/>
                  </a:lnTo>
                  <a:lnTo>
                    <a:pt x="608" y="357"/>
                  </a:lnTo>
                  <a:lnTo>
                    <a:pt x="614" y="355"/>
                  </a:lnTo>
                  <a:lnTo>
                    <a:pt x="620" y="353"/>
                  </a:lnTo>
                  <a:lnTo>
                    <a:pt x="625" y="349"/>
                  </a:lnTo>
                  <a:lnTo>
                    <a:pt x="629" y="345"/>
                  </a:lnTo>
                  <a:lnTo>
                    <a:pt x="632" y="341"/>
                  </a:lnTo>
                  <a:lnTo>
                    <a:pt x="634" y="337"/>
                  </a:lnTo>
                  <a:lnTo>
                    <a:pt x="635" y="332"/>
                  </a:lnTo>
                  <a:lnTo>
                    <a:pt x="634" y="327"/>
                  </a:lnTo>
                  <a:lnTo>
                    <a:pt x="634" y="322"/>
                  </a:lnTo>
                  <a:lnTo>
                    <a:pt x="631" y="317"/>
                  </a:lnTo>
                  <a:lnTo>
                    <a:pt x="629" y="313"/>
                  </a:lnTo>
                  <a:lnTo>
                    <a:pt x="627" y="308"/>
                  </a:lnTo>
                  <a:lnTo>
                    <a:pt x="622" y="305"/>
                  </a:lnTo>
                  <a:lnTo>
                    <a:pt x="617" y="303"/>
                  </a:lnTo>
                  <a:lnTo>
                    <a:pt x="610" y="301"/>
                  </a:lnTo>
                  <a:lnTo>
                    <a:pt x="604" y="299"/>
                  </a:lnTo>
                  <a:lnTo>
                    <a:pt x="597" y="297"/>
                  </a:lnTo>
                  <a:lnTo>
                    <a:pt x="593" y="294"/>
                  </a:lnTo>
                  <a:lnTo>
                    <a:pt x="588" y="291"/>
                  </a:lnTo>
                  <a:lnTo>
                    <a:pt x="583" y="287"/>
                  </a:lnTo>
                  <a:lnTo>
                    <a:pt x="581" y="283"/>
                  </a:lnTo>
                  <a:lnTo>
                    <a:pt x="578" y="279"/>
                  </a:lnTo>
                  <a:lnTo>
                    <a:pt x="578" y="273"/>
                  </a:lnTo>
                  <a:lnTo>
                    <a:pt x="578" y="268"/>
                  </a:lnTo>
                  <a:lnTo>
                    <a:pt x="581" y="264"/>
                  </a:lnTo>
                  <a:lnTo>
                    <a:pt x="585" y="262"/>
                  </a:lnTo>
                  <a:lnTo>
                    <a:pt x="592" y="261"/>
                  </a:lnTo>
                  <a:lnTo>
                    <a:pt x="599" y="260"/>
                  </a:lnTo>
                  <a:lnTo>
                    <a:pt x="606" y="259"/>
                  </a:lnTo>
                  <a:lnTo>
                    <a:pt x="611" y="258"/>
                  </a:lnTo>
                  <a:lnTo>
                    <a:pt x="618" y="257"/>
                  </a:lnTo>
                  <a:lnTo>
                    <a:pt x="625" y="256"/>
                  </a:lnTo>
                  <a:lnTo>
                    <a:pt x="631" y="255"/>
                  </a:lnTo>
                  <a:lnTo>
                    <a:pt x="638" y="254"/>
                  </a:lnTo>
                  <a:lnTo>
                    <a:pt x="643" y="252"/>
                  </a:lnTo>
                  <a:lnTo>
                    <a:pt x="650" y="250"/>
                  </a:lnTo>
                  <a:lnTo>
                    <a:pt x="656" y="248"/>
                  </a:lnTo>
                  <a:lnTo>
                    <a:pt x="660" y="245"/>
                  </a:lnTo>
                  <a:lnTo>
                    <a:pt x="664" y="240"/>
                  </a:lnTo>
                  <a:lnTo>
                    <a:pt x="666" y="235"/>
                  </a:lnTo>
                  <a:lnTo>
                    <a:pt x="664" y="231"/>
                  </a:lnTo>
                  <a:lnTo>
                    <a:pt x="660" y="228"/>
                  </a:lnTo>
                  <a:lnTo>
                    <a:pt x="655" y="224"/>
                  </a:lnTo>
                  <a:lnTo>
                    <a:pt x="650" y="220"/>
                  </a:lnTo>
                  <a:lnTo>
                    <a:pt x="646" y="216"/>
                  </a:lnTo>
                  <a:lnTo>
                    <a:pt x="646" y="212"/>
                  </a:lnTo>
                  <a:lnTo>
                    <a:pt x="648" y="207"/>
                  </a:lnTo>
                  <a:lnTo>
                    <a:pt x="649" y="202"/>
                  </a:lnTo>
                  <a:lnTo>
                    <a:pt x="650" y="198"/>
                  </a:lnTo>
                  <a:lnTo>
                    <a:pt x="653" y="193"/>
                  </a:lnTo>
                  <a:lnTo>
                    <a:pt x="656" y="189"/>
                  </a:lnTo>
                  <a:lnTo>
                    <a:pt x="659" y="185"/>
                  </a:lnTo>
                  <a:lnTo>
                    <a:pt x="662" y="180"/>
                  </a:lnTo>
                  <a:lnTo>
                    <a:pt x="663" y="176"/>
                  </a:lnTo>
                  <a:lnTo>
                    <a:pt x="666" y="171"/>
                  </a:lnTo>
                  <a:lnTo>
                    <a:pt x="667" y="166"/>
                  </a:lnTo>
                  <a:lnTo>
                    <a:pt x="667" y="162"/>
                  </a:lnTo>
                  <a:lnTo>
                    <a:pt x="666" y="157"/>
                  </a:lnTo>
                  <a:lnTo>
                    <a:pt x="664" y="153"/>
                  </a:lnTo>
                  <a:lnTo>
                    <a:pt x="662" y="148"/>
                  </a:lnTo>
                  <a:lnTo>
                    <a:pt x="660" y="143"/>
                  </a:lnTo>
                  <a:lnTo>
                    <a:pt x="659" y="139"/>
                  </a:lnTo>
                  <a:lnTo>
                    <a:pt x="656" y="133"/>
                  </a:lnTo>
                  <a:lnTo>
                    <a:pt x="655" y="129"/>
                  </a:lnTo>
                  <a:lnTo>
                    <a:pt x="655" y="124"/>
                  </a:lnTo>
                  <a:lnTo>
                    <a:pt x="656" y="120"/>
                  </a:lnTo>
                  <a:lnTo>
                    <a:pt x="657" y="115"/>
                  </a:lnTo>
                  <a:lnTo>
                    <a:pt x="662" y="111"/>
                  </a:lnTo>
                  <a:lnTo>
                    <a:pt x="664" y="107"/>
                  </a:lnTo>
                  <a:lnTo>
                    <a:pt x="667" y="103"/>
                  </a:lnTo>
                  <a:lnTo>
                    <a:pt x="671" y="99"/>
                  </a:lnTo>
                  <a:lnTo>
                    <a:pt x="676" y="95"/>
                  </a:lnTo>
                  <a:lnTo>
                    <a:pt x="680" y="91"/>
                  </a:lnTo>
                  <a:lnTo>
                    <a:pt x="684" y="88"/>
                  </a:lnTo>
                  <a:lnTo>
                    <a:pt x="688" y="84"/>
                  </a:lnTo>
                  <a:lnTo>
                    <a:pt x="692" y="80"/>
                  </a:lnTo>
                  <a:lnTo>
                    <a:pt x="697" y="76"/>
                  </a:lnTo>
                  <a:lnTo>
                    <a:pt x="701" y="73"/>
                  </a:lnTo>
                  <a:lnTo>
                    <a:pt x="705" y="69"/>
                  </a:lnTo>
                  <a:lnTo>
                    <a:pt x="711" y="66"/>
                  </a:lnTo>
                  <a:lnTo>
                    <a:pt x="715" y="63"/>
                  </a:lnTo>
                  <a:lnTo>
                    <a:pt x="719" y="59"/>
                  </a:lnTo>
                  <a:lnTo>
                    <a:pt x="723" y="55"/>
                  </a:lnTo>
                  <a:lnTo>
                    <a:pt x="727" y="52"/>
                  </a:lnTo>
                  <a:lnTo>
                    <a:pt x="731" y="48"/>
                  </a:lnTo>
                  <a:lnTo>
                    <a:pt x="734" y="44"/>
                  </a:lnTo>
                  <a:lnTo>
                    <a:pt x="737" y="39"/>
                  </a:lnTo>
                  <a:lnTo>
                    <a:pt x="740" y="35"/>
                  </a:lnTo>
                  <a:lnTo>
                    <a:pt x="743" y="31"/>
                  </a:lnTo>
                  <a:lnTo>
                    <a:pt x="745" y="27"/>
                  </a:lnTo>
                  <a:lnTo>
                    <a:pt x="748" y="22"/>
                  </a:lnTo>
                  <a:lnTo>
                    <a:pt x="751" y="18"/>
                  </a:lnTo>
                  <a:lnTo>
                    <a:pt x="752" y="13"/>
                  </a:lnTo>
                  <a:lnTo>
                    <a:pt x="755" y="9"/>
                  </a:lnTo>
                  <a:lnTo>
                    <a:pt x="757" y="4"/>
                  </a:lnTo>
                  <a:lnTo>
                    <a:pt x="757" y="2"/>
                  </a:lnTo>
                  <a:lnTo>
                    <a:pt x="759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67120" y="2806560"/>
              <a:ext cx="524160" cy="752760"/>
            </a:xfrm>
            <a:custGeom>
              <a:avLst/>
              <a:gdLst/>
              <a:ahLst/>
              <a:rect l="l" t="t" r="r" b="b"/>
              <a:pathLst>
                <a:path w="991" h="948">
                  <a:moveTo>
                    <a:pt x="0" y="942"/>
                  </a:moveTo>
                  <a:lnTo>
                    <a:pt x="6" y="942"/>
                  </a:lnTo>
                  <a:lnTo>
                    <a:pt x="13" y="942"/>
                  </a:lnTo>
                  <a:lnTo>
                    <a:pt x="20" y="942"/>
                  </a:lnTo>
                  <a:lnTo>
                    <a:pt x="25" y="942"/>
                  </a:lnTo>
                  <a:lnTo>
                    <a:pt x="32" y="943"/>
                  </a:lnTo>
                  <a:lnTo>
                    <a:pt x="39" y="943"/>
                  </a:lnTo>
                  <a:lnTo>
                    <a:pt x="46" y="944"/>
                  </a:lnTo>
                  <a:lnTo>
                    <a:pt x="52" y="944"/>
                  </a:lnTo>
                  <a:lnTo>
                    <a:pt x="59" y="946"/>
                  </a:lnTo>
                  <a:lnTo>
                    <a:pt x="66" y="947"/>
                  </a:lnTo>
                  <a:lnTo>
                    <a:pt x="72" y="948"/>
                  </a:lnTo>
                  <a:lnTo>
                    <a:pt x="79" y="948"/>
                  </a:lnTo>
                  <a:lnTo>
                    <a:pt x="86" y="948"/>
                  </a:lnTo>
                  <a:lnTo>
                    <a:pt x="93" y="948"/>
                  </a:lnTo>
                  <a:lnTo>
                    <a:pt x="98" y="946"/>
                  </a:lnTo>
                  <a:lnTo>
                    <a:pt x="102" y="943"/>
                  </a:lnTo>
                  <a:lnTo>
                    <a:pt x="105" y="938"/>
                  </a:lnTo>
                  <a:lnTo>
                    <a:pt x="108" y="934"/>
                  </a:lnTo>
                  <a:lnTo>
                    <a:pt x="111" y="929"/>
                  </a:lnTo>
                  <a:lnTo>
                    <a:pt x="116" y="926"/>
                  </a:lnTo>
                  <a:lnTo>
                    <a:pt x="120" y="923"/>
                  </a:lnTo>
                  <a:lnTo>
                    <a:pt x="127" y="921"/>
                  </a:lnTo>
                  <a:lnTo>
                    <a:pt x="133" y="919"/>
                  </a:lnTo>
                  <a:lnTo>
                    <a:pt x="139" y="917"/>
                  </a:lnTo>
                  <a:lnTo>
                    <a:pt x="146" y="916"/>
                  </a:lnTo>
                  <a:lnTo>
                    <a:pt x="151" y="914"/>
                  </a:lnTo>
                  <a:lnTo>
                    <a:pt x="158" y="913"/>
                  </a:lnTo>
                  <a:lnTo>
                    <a:pt x="164" y="911"/>
                  </a:lnTo>
                  <a:lnTo>
                    <a:pt x="171" y="909"/>
                  </a:lnTo>
                  <a:lnTo>
                    <a:pt x="176" y="906"/>
                  </a:lnTo>
                  <a:lnTo>
                    <a:pt x="181" y="904"/>
                  </a:lnTo>
                  <a:lnTo>
                    <a:pt x="185" y="900"/>
                  </a:lnTo>
                  <a:lnTo>
                    <a:pt x="188" y="895"/>
                  </a:lnTo>
                  <a:lnTo>
                    <a:pt x="189" y="891"/>
                  </a:lnTo>
                  <a:lnTo>
                    <a:pt x="190" y="886"/>
                  </a:lnTo>
                  <a:lnTo>
                    <a:pt x="190" y="881"/>
                  </a:lnTo>
                  <a:lnTo>
                    <a:pt x="190" y="876"/>
                  </a:lnTo>
                  <a:lnTo>
                    <a:pt x="190" y="872"/>
                  </a:lnTo>
                  <a:lnTo>
                    <a:pt x="190" y="867"/>
                  </a:lnTo>
                  <a:lnTo>
                    <a:pt x="190" y="862"/>
                  </a:lnTo>
                  <a:lnTo>
                    <a:pt x="192" y="858"/>
                  </a:lnTo>
                  <a:lnTo>
                    <a:pt x="192" y="853"/>
                  </a:lnTo>
                  <a:lnTo>
                    <a:pt x="193" y="848"/>
                  </a:lnTo>
                  <a:lnTo>
                    <a:pt x="195" y="843"/>
                  </a:lnTo>
                  <a:lnTo>
                    <a:pt x="195" y="839"/>
                  </a:lnTo>
                  <a:lnTo>
                    <a:pt x="196" y="834"/>
                  </a:lnTo>
                  <a:lnTo>
                    <a:pt x="199" y="829"/>
                  </a:lnTo>
                  <a:lnTo>
                    <a:pt x="202" y="824"/>
                  </a:lnTo>
                  <a:lnTo>
                    <a:pt x="206" y="821"/>
                  </a:lnTo>
                  <a:lnTo>
                    <a:pt x="210" y="817"/>
                  </a:lnTo>
                  <a:lnTo>
                    <a:pt x="216" y="814"/>
                  </a:lnTo>
                  <a:lnTo>
                    <a:pt x="220" y="811"/>
                  </a:lnTo>
                  <a:lnTo>
                    <a:pt x="225" y="808"/>
                  </a:lnTo>
                  <a:lnTo>
                    <a:pt x="231" y="805"/>
                  </a:lnTo>
                  <a:lnTo>
                    <a:pt x="237" y="803"/>
                  </a:lnTo>
                  <a:lnTo>
                    <a:pt x="242" y="800"/>
                  </a:lnTo>
                  <a:lnTo>
                    <a:pt x="248" y="797"/>
                  </a:lnTo>
                  <a:lnTo>
                    <a:pt x="253" y="795"/>
                  </a:lnTo>
                  <a:lnTo>
                    <a:pt x="257" y="792"/>
                  </a:lnTo>
                  <a:lnTo>
                    <a:pt x="263" y="789"/>
                  </a:lnTo>
                  <a:lnTo>
                    <a:pt x="269" y="786"/>
                  </a:lnTo>
                  <a:lnTo>
                    <a:pt x="274" y="783"/>
                  </a:lnTo>
                  <a:lnTo>
                    <a:pt x="278" y="779"/>
                  </a:lnTo>
                  <a:lnTo>
                    <a:pt x="281" y="775"/>
                  </a:lnTo>
                  <a:lnTo>
                    <a:pt x="284" y="771"/>
                  </a:lnTo>
                  <a:lnTo>
                    <a:pt x="287" y="766"/>
                  </a:lnTo>
                  <a:lnTo>
                    <a:pt x="290" y="762"/>
                  </a:lnTo>
                  <a:lnTo>
                    <a:pt x="292" y="758"/>
                  </a:lnTo>
                  <a:lnTo>
                    <a:pt x="297" y="754"/>
                  </a:lnTo>
                  <a:lnTo>
                    <a:pt x="302" y="750"/>
                  </a:lnTo>
                  <a:lnTo>
                    <a:pt x="306" y="748"/>
                  </a:lnTo>
                  <a:lnTo>
                    <a:pt x="313" y="748"/>
                  </a:lnTo>
                  <a:lnTo>
                    <a:pt x="320" y="748"/>
                  </a:lnTo>
                  <a:lnTo>
                    <a:pt x="327" y="748"/>
                  </a:lnTo>
                  <a:lnTo>
                    <a:pt x="333" y="749"/>
                  </a:lnTo>
                  <a:lnTo>
                    <a:pt x="340" y="751"/>
                  </a:lnTo>
                  <a:lnTo>
                    <a:pt x="346" y="753"/>
                  </a:lnTo>
                  <a:lnTo>
                    <a:pt x="351" y="755"/>
                  </a:lnTo>
                  <a:lnTo>
                    <a:pt x="358" y="757"/>
                  </a:lnTo>
                  <a:lnTo>
                    <a:pt x="364" y="758"/>
                  </a:lnTo>
                  <a:lnTo>
                    <a:pt x="371" y="759"/>
                  </a:lnTo>
                  <a:lnTo>
                    <a:pt x="378" y="760"/>
                  </a:lnTo>
                  <a:lnTo>
                    <a:pt x="383" y="761"/>
                  </a:lnTo>
                  <a:lnTo>
                    <a:pt x="390" y="762"/>
                  </a:lnTo>
                  <a:lnTo>
                    <a:pt x="397" y="763"/>
                  </a:lnTo>
                  <a:lnTo>
                    <a:pt x="403" y="764"/>
                  </a:lnTo>
                  <a:lnTo>
                    <a:pt x="410" y="765"/>
                  </a:lnTo>
                  <a:lnTo>
                    <a:pt x="417" y="766"/>
                  </a:lnTo>
                  <a:lnTo>
                    <a:pt x="422" y="767"/>
                  </a:lnTo>
                  <a:lnTo>
                    <a:pt x="429" y="768"/>
                  </a:lnTo>
                  <a:lnTo>
                    <a:pt x="435" y="768"/>
                  </a:lnTo>
                  <a:lnTo>
                    <a:pt x="442" y="767"/>
                  </a:lnTo>
                  <a:lnTo>
                    <a:pt x="448" y="765"/>
                  </a:lnTo>
                  <a:lnTo>
                    <a:pt x="453" y="763"/>
                  </a:lnTo>
                  <a:lnTo>
                    <a:pt x="460" y="760"/>
                  </a:lnTo>
                  <a:lnTo>
                    <a:pt x="466" y="758"/>
                  </a:lnTo>
                  <a:lnTo>
                    <a:pt x="471" y="755"/>
                  </a:lnTo>
                  <a:lnTo>
                    <a:pt x="477" y="753"/>
                  </a:lnTo>
                  <a:lnTo>
                    <a:pt x="483" y="750"/>
                  </a:lnTo>
                  <a:lnTo>
                    <a:pt x="488" y="747"/>
                  </a:lnTo>
                  <a:lnTo>
                    <a:pt x="494" y="745"/>
                  </a:lnTo>
                  <a:lnTo>
                    <a:pt x="498" y="742"/>
                  </a:lnTo>
                  <a:lnTo>
                    <a:pt x="504" y="739"/>
                  </a:lnTo>
                  <a:lnTo>
                    <a:pt x="508" y="735"/>
                  </a:lnTo>
                  <a:lnTo>
                    <a:pt x="513" y="732"/>
                  </a:lnTo>
                  <a:lnTo>
                    <a:pt x="516" y="728"/>
                  </a:lnTo>
                  <a:lnTo>
                    <a:pt x="519" y="724"/>
                  </a:lnTo>
                  <a:lnTo>
                    <a:pt x="520" y="719"/>
                  </a:lnTo>
                  <a:lnTo>
                    <a:pt x="520" y="714"/>
                  </a:lnTo>
                  <a:lnTo>
                    <a:pt x="520" y="709"/>
                  </a:lnTo>
                  <a:lnTo>
                    <a:pt x="520" y="705"/>
                  </a:lnTo>
                  <a:lnTo>
                    <a:pt x="522" y="700"/>
                  </a:lnTo>
                  <a:lnTo>
                    <a:pt x="523" y="696"/>
                  </a:lnTo>
                  <a:lnTo>
                    <a:pt x="526" y="691"/>
                  </a:lnTo>
                  <a:lnTo>
                    <a:pt x="529" y="687"/>
                  </a:lnTo>
                  <a:lnTo>
                    <a:pt x="531" y="682"/>
                  </a:lnTo>
                  <a:lnTo>
                    <a:pt x="534" y="678"/>
                  </a:lnTo>
                  <a:lnTo>
                    <a:pt x="537" y="674"/>
                  </a:lnTo>
                  <a:lnTo>
                    <a:pt x="540" y="669"/>
                  </a:lnTo>
                  <a:lnTo>
                    <a:pt x="541" y="665"/>
                  </a:lnTo>
                  <a:lnTo>
                    <a:pt x="541" y="660"/>
                  </a:lnTo>
                  <a:lnTo>
                    <a:pt x="540" y="655"/>
                  </a:lnTo>
                  <a:lnTo>
                    <a:pt x="538" y="651"/>
                  </a:lnTo>
                  <a:lnTo>
                    <a:pt x="534" y="647"/>
                  </a:lnTo>
                  <a:lnTo>
                    <a:pt x="530" y="643"/>
                  </a:lnTo>
                  <a:lnTo>
                    <a:pt x="526" y="639"/>
                  </a:lnTo>
                  <a:lnTo>
                    <a:pt x="520" y="636"/>
                  </a:lnTo>
                  <a:lnTo>
                    <a:pt x="515" y="634"/>
                  </a:lnTo>
                  <a:lnTo>
                    <a:pt x="508" y="633"/>
                  </a:lnTo>
                  <a:lnTo>
                    <a:pt x="502" y="631"/>
                  </a:lnTo>
                  <a:lnTo>
                    <a:pt x="495" y="629"/>
                  </a:lnTo>
                  <a:lnTo>
                    <a:pt x="491" y="626"/>
                  </a:lnTo>
                  <a:lnTo>
                    <a:pt x="487" y="623"/>
                  </a:lnTo>
                  <a:lnTo>
                    <a:pt x="484" y="618"/>
                  </a:lnTo>
                  <a:lnTo>
                    <a:pt x="481" y="614"/>
                  </a:lnTo>
                  <a:lnTo>
                    <a:pt x="480" y="609"/>
                  </a:lnTo>
                  <a:lnTo>
                    <a:pt x="477" y="605"/>
                  </a:lnTo>
                  <a:lnTo>
                    <a:pt x="476" y="600"/>
                  </a:lnTo>
                  <a:lnTo>
                    <a:pt x="474" y="596"/>
                  </a:lnTo>
                  <a:lnTo>
                    <a:pt x="473" y="591"/>
                  </a:lnTo>
                  <a:lnTo>
                    <a:pt x="471" y="586"/>
                  </a:lnTo>
                  <a:lnTo>
                    <a:pt x="469" y="582"/>
                  </a:lnTo>
                  <a:lnTo>
                    <a:pt x="467" y="577"/>
                  </a:lnTo>
                  <a:lnTo>
                    <a:pt x="466" y="573"/>
                  </a:lnTo>
                  <a:lnTo>
                    <a:pt x="466" y="568"/>
                  </a:lnTo>
                  <a:lnTo>
                    <a:pt x="464" y="563"/>
                  </a:lnTo>
                  <a:lnTo>
                    <a:pt x="463" y="559"/>
                  </a:lnTo>
                  <a:lnTo>
                    <a:pt x="462" y="554"/>
                  </a:lnTo>
                  <a:lnTo>
                    <a:pt x="460" y="549"/>
                  </a:lnTo>
                  <a:lnTo>
                    <a:pt x="460" y="545"/>
                  </a:lnTo>
                  <a:lnTo>
                    <a:pt x="459" y="540"/>
                  </a:lnTo>
                  <a:lnTo>
                    <a:pt x="457" y="535"/>
                  </a:lnTo>
                  <a:lnTo>
                    <a:pt x="456" y="530"/>
                  </a:lnTo>
                  <a:lnTo>
                    <a:pt x="455" y="526"/>
                  </a:lnTo>
                  <a:lnTo>
                    <a:pt x="455" y="521"/>
                  </a:lnTo>
                  <a:lnTo>
                    <a:pt x="455" y="516"/>
                  </a:lnTo>
                  <a:lnTo>
                    <a:pt x="457" y="512"/>
                  </a:lnTo>
                  <a:lnTo>
                    <a:pt x="459" y="507"/>
                  </a:lnTo>
                  <a:lnTo>
                    <a:pt x="460" y="503"/>
                  </a:lnTo>
                  <a:lnTo>
                    <a:pt x="460" y="498"/>
                  </a:lnTo>
                  <a:lnTo>
                    <a:pt x="459" y="493"/>
                  </a:lnTo>
                  <a:lnTo>
                    <a:pt x="455" y="489"/>
                  </a:lnTo>
                  <a:lnTo>
                    <a:pt x="452" y="485"/>
                  </a:lnTo>
                  <a:lnTo>
                    <a:pt x="446" y="482"/>
                  </a:lnTo>
                  <a:lnTo>
                    <a:pt x="442" y="479"/>
                  </a:lnTo>
                  <a:lnTo>
                    <a:pt x="435" y="476"/>
                  </a:lnTo>
                  <a:lnTo>
                    <a:pt x="429" y="474"/>
                  </a:lnTo>
                  <a:lnTo>
                    <a:pt x="424" y="473"/>
                  </a:lnTo>
                  <a:lnTo>
                    <a:pt x="417" y="472"/>
                  </a:lnTo>
                  <a:lnTo>
                    <a:pt x="410" y="473"/>
                  </a:lnTo>
                  <a:lnTo>
                    <a:pt x="403" y="473"/>
                  </a:lnTo>
                  <a:lnTo>
                    <a:pt x="397" y="474"/>
                  </a:lnTo>
                  <a:lnTo>
                    <a:pt x="390" y="476"/>
                  </a:lnTo>
                  <a:lnTo>
                    <a:pt x="385" y="478"/>
                  </a:lnTo>
                  <a:lnTo>
                    <a:pt x="378" y="479"/>
                  </a:lnTo>
                  <a:lnTo>
                    <a:pt x="371" y="480"/>
                  </a:lnTo>
                  <a:lnTo>
                    <a:pt x="364" y="480"/>
                  </a:lnTo>
                  <a:lnTo>
                    <a:pt x="357" y="480"/>
                  </a:lnTo>
                  <a:lnTo>
                    <a:pt x="351" y="479"/>
                  </a:lnTo>
                  <a:lnTo>
                    <a:pt x="347" y="476"/>
                  </a:lnTo>
                  <a:lnTo>
                    <a:pt x="344" y="472"/>
                  </a:lnTo>
                  <a:lnTo>
                    <a:pt x="343" y="467"/>
                  </a:lnTo>
                  <a:lnTo>
                    <a:pt x="341" y="462"/>
                  </a:lnTo>
                  <a:lnTo>
                    <a:pt x="340" y="457"/>
                  </a:lnTo>
                  <a:lnTo>
                    <a:pt x="340" y="452"/>
                  </a:lnTo>
                  <a:lnTo>
                    <a:pt x="339" y="448"/>
                  </a:lnTo>
                  <a:lnTo>
                    <a:pt x="339" y="443"/>
                  </a:lnTo>
                  <a:lnTo>
                    <a:pt x="339" y="438"/>
                  </a:lnTo>
                  <a:lnTo>
                    <a:pt x="339" y="433"/>
                  </a:lnTo>
                  <a:lnTo>
                    <a:pt x="339" y="427"/>
                  </a:lnTo>
                  <a:lnTo>
                    <a:pt x="340" y="424"/>
                  </a:lnTo>
                  <a:lnTo>
                    <a:pt x="344" y="422"/>
                  </a:lnTo>
                  <a:lnTo>
                    <a:pt x="351" y="422"/>
                  </a:lnTo>
                  <a:lnTo>
                    <a:pt x="358" y="423"/>
                  </a:lnTo>
                  <a:lnTo>
                    <a:pt x="367" y="423"/>
                  </a:lnTo>
                  <a:lnTo>
                    <a:pt x="372" y="424"/>
                  </a:lnTo>
                  <a:lnTo>
                    <a:pt x="379" y="426"/>
                  </a:lnTo>
                  <a:lnTo>
                    <a:pt x="385" y="427"/>
                  </a:lnTo>
                  <a:lnTo>
                    <a:pt x="392" y="427"/>
                  </a:lnTo>
                  <a:lnTo>
                    <a:pt x="399" y="427"/>
                  </a:lnTo>
                  <a:lnTo>
                    <a:pt x="404" y="425"/>
                  </a:lnTo>
                  <a:lnTo>
                    <a:pt x="411" y="423"/>
                  </a:lnTo>
                  <a:lnTo>
                    <a:pt x="417" y="422"/>
                  </a:lnTo>
                  <a:lnTo>
                    <a:pt x="424" y="420"/>
                  </a:lnTo>
                  <a:lnTo>
                    <a:pt x="429" y="419"/>
                  </a:lnTo>
                  <a:lnTo>
                    <a:pt x="436" y="417"/>
                  </a:lnTo>
                  <a:lnTo>
                    <a:pt x="442" y="414"/>
                  </a:lnTo>
                  <a:lnTo>
                    <a:pt x="448" y="412"/>
                  </a:lnTo>
                  <a:lnTo>
                    <a:pt x="452" y="409"/>
                  </a:lnTo>
                  <a:lnTo>
                    <a:pt x="457" y="405"/>
                  </a:lnTo>
                  <a:lnTo>
                    <a:pt x="462" y="402"/>
                  </a:lnTo>
                  <a:lnTo>
                    <a:pt x="464" y="398"/>
                  </a:lnTo>
                  <a:lnTo>
                    <a:pt x="466" y="393"/>
                  </a:lnTo>
                  <a:lnTo>
                    <a:pt x="469" y="389"/>
                  </a:lnTo>
                  <a:lnTo>
                    <a:pt x="471" y="384"/>
                  </a:lnTo>
                  <a:lnTo>
                    <a:pt x="474" y="380"/>
                  </a:lnTo>
                  <a:lnTo>
                    <a:pt x="477" y="376"/>
                  </a:lnTo>
                  <a:lnTo>
                    <a:pt x="480" y="371"/>
                  </a:lnTo>
                  <a:lnTo>
                    <a:pt x="483" y="366"/>
                  </a:lnTo>
                  <a:lnTo>
                    <a:pt x="485" y="362"/>
                  </a:lnTo>
                  <a:lnTo>
                    <a:pt x="490" y="358"/>
                  </a:lnTo>
                  <a:lnTo>
                    <a:pt x="492" y="354"/>
                  </a:lnTo>
                  <a:lnTo>
                    <a:pt x="497" y="350"/>
                  </a:lnTo>
                  <a:lnTo>
                    <a:pt x="499" y="346"/>
                  </a:lnTo>
                  <a:lnTo>
                    <a:pt x="504" y="342"/>
                  </a:lnTo>
                  <a:lnTo>
                    <a:pt x="508" y="338"/>
                  </a:lnTo>
                  <a:lnTo>
                    <a:pt x="513" y="335"/>
                  </a:lnTo>
                  <a:lnTo>
                    <a:pt x="519" y="334"/>
                  </a:lnTo>
                  <a:lnTo>
                    <a:pt x="526" y="335"/>
                  </a:lnTo>
                  <a:lnTo>
                    <a:pt x="533" y="335"/>
                  </a:lnTo>
                  <a:lnTo>
                    <a:pt x="540" y="335"/>
                  </a:lnTo>
                  <a:lnTo>
                    <a:pt x="545" y="334"/>
                  </a:lnTo>
                  <a:lnTo>
                    <a:pt x="552" y="333"/>
                  </a:lnTo>
                  <a:lnTo>
                    <a:pt x="559" y="331"/>
                  </a:lnTo>
                  <a:lnTo>
                    <a:pt x="565" y="329"/>
                  </a:lnTo>
                  <a:lnTo>
                    <a:pt x="571" y="326"/>
                  </a:lnTo>
                  <a:lnTo>
                    <a:pt x="575" y="323"/>
                  </a:lnTo>
                  <a:lnTo>
                    <a:pt x="580" y="320"/>
                  </a:lnTo>
                  <a:lnTo>
                    <a:pt x="585" y="317"/>
                  </a:lnTo>
                  <a:lnTo>
                    <a:pt x="590" y="314"/>
                  </a:lnTo>
                  <a:lnTo>
                    <a:pt x="594" y="310"/>
                  </a:lnTo>
                  <a:lnTo>
                    <a:pt x="599" y="307"/>
                  </a:lnTo>
                  <a:lnTo>
                    <a:pt x="603" y="303"/>
                  </a:lnTo>
                  <a:lnTo>
                    <a:pt x="606" y="299"/>
                  </a:lnTo>
                  <a:lnTo>
                    <a:pt x="608" y="294"/>
                  </a:lnTo>
                  <a:lnTo>
                    <a:pt x="610" y="290"/>
                  </a:lnTo>
                  <a:lnTo>
                    <a:pt x="611" y="285"/>
                  </a:lnTo>
                  <a:lnTo>
                    <a:pt x="613" y="280"/>
                  </a:lnTo>
                  <a:lnTo>
                    <a:pt x="614" y="275"/>
                  </a:lnTo>
                  <a:lnTo>
                    <a:pt x="614" y="271"/>
                  </a:lnTo>
                  <a:lnTo>
                    <a:pt x="617" y="266"/>
                  </a:lnTo>
                  <a:lnTo>
                    <a:pt x="620" y="262"/>
                  </a:lnTo>
                  <a:lnTo>
                    <a:pt x="624" y="258"/>
                  </a:lnTo>
                  <a:lnTo>
                    <a:pt x="628" y="255"/>
                  </a:lnTo>
                  <a:lnTo>
                    <a:pt x="634" y="252"/>
                  </a:lnTo>
                  <a:lnTo>
                    <a:pt x="638" y="249"/>
                  </a:lnTo>
                  <a:lnTo>
                    <a:pt x="643" y="246"/>
                  </a:lnTo>
                  <a:lnTo>
                    <a:pt x="649" y="244"/>
                  </a:lnTo>
                  <a:lnTo>
                    <a:pt x="654" y="241"/>
                  </a:lnTo>
                  <a:lnTo>
                    <a:pt x="660" y="239"/>
                  </a:lnTo>
                  <a:lnTo>
                    <a:pt x="667" y="236"/>
                  </a:lnTo>
                  <a:lnTo>
                    <a:pt x="673" y="234"/>
                  </a:lnTo>
                  <a:lnTo>
                    <a:pt x="678" y="232"/>
                  </a:lnTo>
                  <a:lnTo>
                    <a:pt x="684" y="229"/>
                  </a:lnTo>
                  <a:lnTo>
                    <a:pt x="689" y="227"/>
                  </a:lnTo>
                  <a:lnTo>
                    <a:pt x="695" y="225"/>
                  </a:lnTo>
                  <a:lnTo>
                    <a:pt x="702" y="223"/>
                  </a:lnTo>
                  <a:lnTo>
                    <a:pt x="708" y="221"/>
                  </a:lnTo>
                  <a:lnTo>
                    <a:pt x="713" y="219"/>
                  </a:lnTo>
                  <a:lnTo>
                    <a:pt x="719" y="217"/>
                  </a:lnTo>
                  <a:lnTo>
                    <a:pt x="726" y="215"/>
                  </a:lnTo>
                  <a:lnTo>
                    <a:pt x="731" y="212"/>
                  </a:lnTo>
                  <a:lnTo>
                    <a:pt x="737" y="210"/>
                  </a:lnTo>
                  <a:lnTo>
                    <a:pt x="743" y="208"/>
                  </a:lnTo>
                  <a:lnTo>
                    <a:pt x="750" y="206"/>
                  </a:lnTo>
                  <a:lnTo>
                    <a:pt x="755" y="204"/>
                  </a:lnTo>
                  <a:lnTo>
                    <a:pt x="761" y="202"/>
                  </a:lnTo>
                  <a:lnTo>
                    <a:pt x="766" y="200"/>
                  </a:lnTo>
                  <a:lnTo>
                    <a:pt x="772" y="198"/>
                  </a:lnTo>
                  <a:lnTo>
                    <a:pt x="779" y="195"/>
                  </a:lnTo>
                  <a:lnTo>
                    <a:pt x="784" y="193"/>
                  </a:lnTo>
                  <a:lnTo>
                    <a:pt x="790" y="191"/>
                  </a:lnTo>
                  <a:lnTo>
                    <a:pt x="796" y="188"/>
                  </a:lnTo>
                  <a:lnTo>
                    <a:pt x="801" y="186"/>
                  </a:lnTo>
                  <a:lnTo>
                    <a:pt x="807" y="183"/>
                  </a:lnTo>
                  <a:lnTo>
                    <a:pt x="812" y="181"/>
                  </a:lnTo>
                  <a:lnTo>
                    <a:pt x="818" y="179"/>
                  </a:lnTo>
                  <a:lnTo>
                    <a:pt x="824" y="176"/>
                  </a:lnTo>
                  <a:lnTo>
                    <a:pt x="829" y="174"/>
                  </a:lnTo>
                  <a:lnTo>
                    <a:pt x="836" y="171"/>
                  </a:lnTo>
                  <a:lnTo>
                    <a:pt x="842" y="169"/>
                  </a:lnTo>
                  <a:lnTo>
                    <a:pt x="847" y="167"/>
                  </a:lnTo>
                  <a:lnTo>
                    <a:pt x="853" y="164"/>
                  </a:lnTo>
                  <a:lnTo>
                    <a:pt x="859" y="162"/>
                  </a:lnTo>
                  <a:lnTo>
                    <a:pt x="864" y="159"/>
                  </a:lnTo>
                  <a:lnTo>
                    <a:pt x="870" y="156"/>
                  </a:lnTo>
                  <a:lnTo>
                    <a:pt x="875" y="154"/>
                  </a:lnTo>
                  <a:lnTo>
                    <a:pt x="880" y="151"/>
                  </a:lnTo>
                  <a:lnTo>
                    <a:pt x="885" y="148"/>
                  </a:lnTo>
                  <a:lnTo>
                    <a:pt x="891" y="145"/>
                  </a:lnTo>
                  <a:lnTo>
                    <a:pt x="896" y="142"/>
                  </a:lnTo>
                  <a:lnTo>
                    <a:pt x="901" y="138"/>
                  </a:lnTo>
                  <a:lnTo>
                    <a:pt x="903" y="135"/>
                  </a:lnTo>
                  <a:lnTo>
                    <a:pt x="902" y="130"/>
                  </a:lnTo>
                  <a:lnTo>
                    <a:pt x="899" y="125"/>
                  </a:lnTo>
                  <a:lnTo>
                    <a:pt x="896" y="120"/>
                  </a:lnTo>
                  <a:lnTo>
                    <a:pt x="896" y="116"/>
                  </a:lnTo>
                  <a:lnTo>
                    <a:pt x="901" y="114"/>
                  </a:lnTo>
                  <a:lnTo>
                    <a:pt x="906" y="113"/>
                  </a:lnTo>
                  <a:lnTo>
                    <a:pt x="915" y="113"/>
                  </a:lnTo>
                  <a:lnTo>
                    <a:pt x="921" y="113"/>
                  </a:lnTo>
                  <a:lnTo>
                    <a:pt x="928" y="112"/>
                  </a:lnTo>
                  <a:lnTo>
                    <a:pt x="935" y="111"/>
                  </a:lnTo>
                  <a:lnTo>
                    <a:pt x="941" y="110"/>
                  </a:lnTo>
                  <a:lnTo>
                    <a:pt x="948" y="109"/>
                  </a:lnTo>
                  <a:lnTo>
                    <a:pt x="954" y="107"/>
                  </a:lnTo>
                  <a:lnTo>
                    <a:pt x="959" y="104"/>
                  </a:lnTo>
                  <a:lnTo>
                    <a:pt x="965" y="101"/>
                  </a:lnTo>
                  <a:lnTo>
                    <a:pt x="969" y="98"/>
                  </a:lnTo>
                  <a:lnTo>
                    <a:pt x="973" y="94"/>
                  </a:lnTo>
                  <a:lnTo>
                    <a:pt x="977" y="89"/>
                  </a:lnTo>
                  <a:lnTo>
                    <a:pt x="980" y="85"/>
                  </a:lnTo>
                  <a:lnTo>
                    <a:pt x="982" y="81"/>
                  </a:lnTo>
                  <a:lnTo>
                    <a:pt x="979" y="77"/>
                  </a:lnTo>
                  <a:lnTo>
                    <a:pt x="975" y="73"/>
                  </a:lnTo>
                  <a:lnTo>
                    <a:pt x="969" y="70"/>
                  </a:lnTo>
                  <a:lnTo>
                    <a:pt x="963" y="66"/>
                  </a:lnTo>
                  <a:lnTo>
                    <a:pt x="961" y="62"/>
                  </a:lnTo>
                  <a:lnTo>
                    <a:pt x="959" y="57"/>
                  </a:lnTo>
                  <a:lnTo>
                    <a:pt x="958" y="52"/>
                  </a:lnTo>
                  <a:lnTo>
                    <a:pt x="959" y="48"/>
                  </a:lnTo>
                  <a:lnTo>
                    <a:pt x="962" y="44"/>
                  </a:lnTo>
                  <a:lnTo>
                    <a:pt x="968" y="42"/>
                  </a:lnTo>
                  <a:lnTo>
                    <a:pt x="975" y="40"/>
                  </a:lnTo>
                  <a:lnTo>
                    <a:pt x="980" y="37"/>
                  </a:lnTo>
                  <a:lnTo>
                    <a:pt x="984" y="33"/>
                  </a:lnTo>
                  <a:lnTo>
                    <a:pt x="986" y="29"/>
                  </a:lnTo>
                  <a:lnTo>
                    <a:pt x="989" y="24"/>
                  </a:lnTo>
                  <a:lnTo>
                    <a:pt x="990" y="19"/>
                  </a:lnTo>
                  <a:lnTo>
                    <a:pt x="990" y="15"/>
                  </a:lnTo>
                  <a:lnTo>
                    <a:pt x="991" y="10"/>
                  </a:lnTo>
                  <a:lnTo>
                    <a:pt x="991" y="5"/>
                  </a:lnTo>
                  <a:lnTo>
                    <a:pt x="991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06920" y="3554280"/>
              <a:ext cx="260280" cy="760680"/>
            </a:xfrm>
            <a:custGeom>
              <a:avLst/>
              <a:gdLst/>
              <a:ahLst/>
              <a:rect l="l" t="t" r="r" b="b"/>
              <a:pathLst>
                <a:path w="492" h="959">
                  <a:moveTo>
                    <a:pt x="301" y="959"/>
                  </a:moveTo>
                  <a:lnTo>
                    <a:pt x="298" y="955"/>
                  </a:lnTo>
                  <a:lnTo>
                    <a:pt x="294" y="952"/>
                  </a:lnTo>
                  <a:lnTo>
                    <a:pt x="288" y="950"/>
                  </a:lnTo>
                  <a:lnTo>
                    <a:pt x="281" y="950"/>
                  </a:lnTo>
                  <a:lnTo>
                    <a:pt x="274" y="951"/>
                  </a:lnTo>
                  <a:lnTo>
                    <a:pt x="267" y="951"/>
                  </a:lnTo>
                  <a:lnTo>
                    <a:pt x="260" y="952"/>
                  </a:lnTo>
                  <a:lnTo>
                    <a:pt x="253" y="953"/>
                  </a:lnTo>
                  <a:lnTo>
                    <a:pt x="248" y="954"/>
                  </a:lnTo>
                  <a:lnTo>
                    <a:pt x="241" y="954"/>
                  </a:lnTo>
                  <a:lnTo>
                    <a:pt x="235" y="952"/>
                  </a:lnTo>
                  <a:lnTo>
                    <a:pt x="231" y="949"/>
                  </a:lnTo>
                  <a:lnTo>
                    <a:pt x="227" y="945"/>
                  </a:lnTo>
                  <a:lnTo>
                    <a:pt x="223" y="941"/>
                  </a:lnTo>
                  <a:lnTo>
                    <a:pt x="220" y="937"/>
                  </a:lnTo>
                  <a:lnTo>
                    <a:pt x="216" y="933"/>
                  </a:lnTo>
                  <a:lnTo>
                    <a:pt x="213" y="928"/>
                  </a:lnTo>
                  <a:lnTo>
                    <a:pt x="210" y="924"/>
                  </a:lnTo>
                  <a:lnTo>
                    <a:pt x="206" y="921"/>
                  </a:lnTo>
                  <a:lnTo>
                    <a:pt x="202" y="917"/>
                  </a:lnTo>
                  <a:lnTo>
                    <a:pt x="196" y="914"/>
                  </a:lnTo>
                  <a:lnTo>
                    <a:pt x="192" y="911"/>
                  </a:lnTo>
                  <a:lnTo>
                    <a:pt x="186" y="908"/>
                  </a:lnTo>
                  <a:lnTo>
                    <a:pt x="179" y="906"/>
                  </a:lnTo>
                  <a:lnTo>
                    <a:pt x="174" y="905"/>
                  </a:lnTo>
                  <a:lnTo>
                    <a:pt x="167" y="903"/>
                  </a:lnTo>
                  <a:lnTo>
                    <a:pt x="161" y="901"/>
                  </a:lnTo>
                  <a:lnTo>
                    <a:pt x="155" y="899"/>
                  </a:lnTo>
                  <a:lnTo>
                    <a:pt x="150" y="897"/>
                  </a:lnTo>
                  <a:lnTo>
                    <a:pt x="144" y="894"/>
                  </a:lnTo>
                  <a:lnTo>
                    <a:pt x="140" y="890"/>
                  </a:lnTo>
                  <a:lnTo>
                    <a:pt x="136" y="886"/>
                  </a:lnTo>
                  <a:lnTo>
                    <a:pt x="133" y="882"/>
                  </a:lnTo>
                  <a:lnTo>
                    <a:pt x="130" y="878"/>
                  </a:lnTo>
                  <a:lnTo>
                    <a:pt x="128" y="873"/>
                  </a:lnTo>
                  <a:lnTo>
                    <a:pt x="125" y="869"/>
                  </a:lnTo>
                  <a:lnTo>
                    <a:pt x="123" y="864"/>
                  </a:lnTo>
                  <a:lnTo>
                    <a:pt x="121" y="860"/>
                  </a:lnTo>
                  <a:lnTo>
                    <a:pt x="118" y="856"/>
                  </a:lnTo>
                  <a:lnTo>
                    <a:pt x="116" y="851"/>
                  </a:lnTo>
                  <a:lnTo>
                    <a:pt x="114" y="847"/>
                  </a:lnTo>
                  <a:lnTo>
                    <a:pt x="111" y="842"/>
                  </a:lnTo>
                  <a:lnTo>
                    <a:pt x="108" y="838"/>
                  </a:lnTo>
                  <a:lnTo>
                    <a:pt x="104" y="834"/>
                  </a:lnTo>
                  <a:lnTo>
                    <a:pt x="100" y="831"/>
                  </a:lnTo>
                  <a:lnTo>
                    <a:pt x="95" y="827"/>
                  </a:lnTo>
                  <a:lnTo>
                    <a:pt x="91" y="823"/>
                  </a:lnTo>
                  <a:lnTo>
                    <a:pt x="86" y="820"/>
                  </a:lnTo>
                  <a:lnTo>
                    <a:pt x="81" y="817"/>
                  </a:lnTo>
                  <a:lnTo>
                    <a:pt x="76" y="814"/>
                  </a:lnTo>
                  <a:lnTo>
                    <a:pt x="72" y="811"/>
                  </a:lnTo>
                  <a:lnTo>
                    <a:pt x="66" y="808"/>
                  </a:lnTo>
                  <a:lnTo>
                    <a:pt x="62" y="804"/>
                  </a:lnTo>
                  <a:lnTo>
                    <a:pt x="58" y="799"/>
                  </a:lnTo>
                  <a:lnTo>
                    <a:pt x="55" y="795"/>
                  </a:lnTo>
                  <a:lnTo>
                    <a:pt x="52" y="791"/>
                  </a:lnTo>
                  <a:lnTo>
                    <a:pt x="49" y="787"/>
                  </a:lnTo>
                  <a:lnTo>
                    <a:pt x="48" y="782"/>
                  </a:lnTo>
                  <a:lnTo>
                    <a:pt x="46" y="777"/>
                  </a:lnTo>
                  <a:lnTo>
                    <a:pt x="45" y="773"/>
                  </a:lnTo>
                  <a:lnTo>
                    <a:pt x="44" y="768"/>
                  </a:lnTo>
                  <a:lnTo>
                    <a:pt x="42" y="764"/>
                  </a:lnTo>
                  <a:lnTo>
                    <a:pt x="39" y="759"/>
                  </a:lnTo>
                  <a:lnTo>
                    <a:pt x="38" y="755"/>
                  </a:lnTo>
                  <a:lnTo>
                    <a:pt x="35" y="750"/>
                  </a:lnTo>
                  <a:lnTo>
                    <a:pt x="31" y="746"/>
                  </a:lnTo>
                  <a:lnTo>
                    <a:pt x="28" y="742"/>
                  </a:lnTo>
                  <a:lnTo>
                    <a:pt x="23" y="739"/>
                  </a:lnTo>
                  <a:lnTo>
                    <a:pt x="18" y="735"/>
                  </a:lnTo>
                  <a:lnTo>
                    <a:pt x="14" y="732"/>
                  </a:lnTo>
                  <a:lnTo>
                    <a:pt x="10" y="728"/>
                  </a:lnTo>
                  <a:lnTo>
                    <a:pt x="7" y="724"/>
                  </a:lnTo>
                  <a:lnTo>
                    <a:pt x="6" y="719"/>
                  </a:lnTo>
                  <a:lnTo>
                    <a:pt x="5" y="715"/>
                  </a:lnTo>
                  <a:lnTo>
                    <a:pt x="2" y="710"/>
                  </a:lnTo>
                  <a:lnTo>
                    <a:pt x="2" y="705"/>
                  </a:lnTo>
                  <a:lnTo>
                    <a:pt x="0" y="701"/>
                  </a:lnTo>
                  <a:lnTo>
                    <a:pt x="0" y="696"/>
                  </a:lnTo>
                  <a:lnTo>
                    <a:pt x="0" y="691"/>
                  </a:lnTo>
                  <a:lnTo>
                    <a:pt x="0" y="686"/>
                  </a:lnTo>
                  <a:lnTo>
                    <a:pt x="2" y="682"/>
                  </a:lnTo>
                  <a:lnTo>
                    <a:pt x="2" y="677"/>
                  </a:lnTo>
                  <a:lnTo>
                    <a:pt x="3" y="672"/>
                  </a:lnTo>
                  <a:lnTo>
                    <a:pt x="5" y="668"/>
                  </a:lnTo>
                  <a:lnTo>
                    <a:pt x="6" y="663"/>
                  </a:lnTo>
                  <a:lnTo>
                    <a:pt x="7" y="658"/>
                  </a:lnTo>
                  <a:lnTo>
                    <a:pt x="9" y="654"/>
                  </a:lnTo>
                  <a:lnTo>
                    <a:pt x="10" y="649"/>
                  </a:lnTo>
                  <a:lnTo>
                    <a:pt x="11" y="645"/>
                  </a:lnTo>
                  <a:lnTo>
                    <a:pt x="13" y="640"/>
                  </a:lnTo>
                  <a:lnTo>
                    <a:pt x="16" y="636"/>
                  </a:lnTo>
                  <a:lnTo>
                    <a:pt x="17" y="631"/>
                  </a:lnTo>
                  <a:lnTo>
                    <a:pt x="20" y="626"/>
                  </a:lnTo>
                  <a:lnTo>
                    <a:pt x="21" y="622"/>
                  </a:lnTo>
                  <a:lnTo>
                    <a:pt x="24" y="618"/>
                  </a:lnTo>
                  <a:lnTo>
                    <a:pt x="27" y="613"/>
                  </a:lnTo>
                  <a:lnTo>
                    <a:pt x="31" y="609"/>
                  </a:lnTo>
                  <a:lnTo>
                    <a:pt x="34" y="605"/>
                  </a:lnTo>
                  <a:lnTo>
                    <a:pt x="39" y="603"/>
                  </a:lnTo>
                  <a:lnTo>
                    <a:pt x="46" y="601"/>
                  </a:lnTo>
                  <a:lnTo>
                    <a:pt x="53" y="601"/>
                  </a:lnTo>
                  <a:lnTo>
                    <a:pt x="60" y="601"/>
                  </a:lnTo>
                  <a:lnTo>
                    <a:pt x="66" y="602"/>
                  </a:lnTo>
                  <a:lnTo>
                    <a:pt x="72" y="605"/>
                  </a:lnTo>
                  <a:lnTo>
                    <a:pt x="77" y="609"/>
                  </a:lnTo>
                  <a:lnTo>
                    <a:pt x="81" y="612"/>
                  </a:lnTo>
                  <a:lnTo>
                    <a:pt x="87" y="615"/>
                  </a:lnTo>
                  <a:lnTo>
                    <a:pt x="91" y="614"/>
                  </a:lnTo>
                  <a:lnTo>
                    <a:pt x="97" y="611"/>
                  </a:lnTo>
                  <a:lnTo>
                    <a:pt x="102" y="607"/>
                  </a:lnTo>
                  <a:lnTo>
                    <a:pt x="107" y="604"/>
                  </a:lnTo>
                  <a:lnTo>
                    <a:pt x="111" y="600"/>
                  </a:lnTo>
                  <a:lnTo>
                    <a:pt x="115" y="596"/>
                  </a:lnTo>
                  <a:lnTo>
                    <a:pt x="119" y="592"/>
                  </a:lnTo>
                  <a:lnTo>
                    <a:pt x="123" y="588"/>
                  </a:lnTo>
                  <a:lnTo>
                    <a:pt x="126" y="584"/>
                  </a:lnTo>
                  <a:lnTo>
                    <a:pt x="130" y="581"/>
                  </a:lnTo>
                  <a:lnTo>
                    <a:pt x="135" y="577"/>
                  </a:lnTo>
                  <a:lnTo>
                    <a:pt x="139" y="573"/>
                  </a:lnTo>
                  <a:lnTo>
                    <a:pt x="141" y="569"/>
                  </a:lnTo>
                  <a:lnTo>
                    <a:pt x="146" y="565"/>
                  </a:lnTo>
                  <a:lnTo>
                    <a:pt x="150" y="561"/>
                  </a:lnTo>
                  <a:lnTo>
                    <a:pt x="155" y="558"/>
                  </a:lnTo>
                  <a:lnTo>
                    <a:pt x="160" y="555"/>
                  </a:lnTo>
                  <a:lnTo>
                    <a:pt x="165" y="552"/>
                  </a:lnTo>
                  <a:lnTo>
                    <a:pt x="171" y="550"/>
                  </a:lnTo>
                  <a:lnTo>
                    <a:pt x="176" y="548"/>
                  </a:lnTo>
                  <a:lnTo>
                    <a:pt x="183" y="546"/>
                  </a:lnTo>
                  <a:lnTo>
                    <a:pt x="189" y="544"/>
                  </a:lnTo>
                  <a:lnTo>
                    <a:pt x="196" y="543"/>
                  </a:lnTo>
                  <a:lnTo>
                    <a:pt x="202" y="542"/>
                  </a:lnTo>
                  <a:lnTo>
                    <a:pt x="209" y="540"/>
                  </a:lnTo>
                  <a:lnTo>
                    <a:pt x="214" y="538"/>
                  </a:lnTo>
                  <a:lnTo>
                    <a:pt x="221" y="536"/>
                  </a:lnTo>
                  <a:lnTo>
                    <a:pt x="227" y="534"/>
                  </a:lnTo>
                  <a:lnTo>
                    <a:pt x="230" y="530"/>
                  </a:lnTo>
                  <a:lnTo>
                    <a:pt x="231" y="525"/>
                  </a:lnTo>
                  <a:lnTo>
                    <a:pt x="231" y="520"/>
                  </a:lnTo>
                  <a:lnTo>
                    <a:pt x="230" y="516"/>
                  </a:lnTo>
                  <a:lnTo>
                    <a:pt x="227" y="511"/>
                  </a:lnTo>
                  <a:lnTo>
                    <a:pt x="224" y="507"/>
                  </a:lnTo>
                  <a:lnTo>
                    <a:pt x="221" y="502"/>
                  </a:lnTo>
                  <a:lnTo>
                    <a:pt x="218" y="498"/>
                  </a:lnTo>
                  <a:lnTo>
                    <a:pt x="214" y="494"/>
                  </a:lnTo>
                  <a:lnTo>
                    <a:pt x="211" y="490"/>
                  </a:lnTo>
                  <a:lnTo>
                    <a:pt x="207" y="486"/>
                  </a:lnTo>
                  <a:lnTo>
                    <a:pt x="203" y="483"/>
                  </a:lnTo>
                  <a:lnTo>
                    <a:pt x="197" y="480"/>
                  </a:lnTo>
                  <a:lnTo>
                    <a:pt x="192" y="478"/>
                  </a:lnTo>
                  <a:lnTo>
                    <a:pt x="185" y="478"/>
                  </a:lnTo>
                  <a:lnTo>
                    <a:pt x="178" y="477"/>
                  </a:lnTo>
                  <a:lnTo>
                    <a:pt x="171" y="478"/>
                  </a:lnTo>
                  <a:lnTo>
                    <a:pt x="165" y="479"/>
                  </a:lnTo>
                  <a:lnTo>
                    <a:pt x="158" y="480"/>
                  </a:lnTo>
                  <a:lnTo>
                    <a:pt x="151" y="482"/>
                  </a:lnTo>
                  <a:lnTo>
                    <a:pt x="146" y="483"/>
                  </a:lnTo>
                  <a:lnTo>
                    <a:pt x="137" y="484"/>
                  </a:lnTo>
                  <a:lnTo>
                    <a:pt x="130" y="485"/>
                  </a:lnTo>
                  <a:lnTo>
                    <a:pt x="126" y="484"/>
                  </a:lnTo>
                  <a:lnTo>
                    <a:pt x="123" y="481"/>
                  </a:lnTo>
                  <a:lnTo>
                    <a:pt x="122" y="476"/>
                  </a:lnTo>
                  <a:lnTo>
                    <a:pt x="123" y="471"/>
                  </a:lnTo>
                  <a:lnTo>
                    <a:pt x="125" y="465"/>
                  </a:lnTo>
                  <a:lnTo>
                    <a:pt x="128" y="461"/>
                  </a:lnTo>
                  <a:lnTo>
                    <a:pt x="130" y="457"/>
                  </a:lnTo>
                  <a:lnTo>
                    <a:pt x="136" y="454"/>
                  </a:lnTo>
                  <a:lnTo>
                    <a:pt x="141" y="451"/>
                  </a:lnTo>
                  <a:lnTo>
                    <a:pt x="147" y="449"/>
                  </a:lnTo>
                  <a:lnTo>
                    <a:pt x="154" y="449"/>
                  </a:lnTo>
                  <a:lnTo>
                    <a:pt x="161" y="448"/>
                  </a:lnTo>
                  <a:lnTo>
                    <a:pt x="168" y="447"/>
                  </a:lnTo>
                  <a:lnTo>
                    <a:pt x="172" y="444"/>
                  </a:lnTo>
                  <a:lnTo>
                    <a:pt x="175" y="440"/>
                  </a:lnTo>
                  <a:lnTo>
                    <a:pt x="178" y="435"/>
                  </a:lnTo>
                  <a:lnTo>
                    <a:pt x="178" y="430"/>
                  </a:lnTo>
                  <a:lnTo>
                    <a:pt x="178" y="425"/>
                  </a:lnTo>
                  <a:lnTo>
                    <a:pt x="175" y="420"/>
                  </a:lnTo>
                  <a:lnTo>
                    <a:pt x="172" y="416"/>
                  </a:lnTo>
                  <a:lnTo>
                    <a:pt x="172" y="411"/>
                  </a:lnTo>
                  <a:lnTo>
                    <a:pt x="175" y="407"/>
                  </a:lnTo>
                  <a:lnTo>
                    <a:pt x="179" y="404"/>
                  </a:lnTo>
                  <a:lnTo>
                    <a:pt x="185" y="400"/>
                  </a:lnTo>
                  <a:lnTo>
                    <a:pt x="190" y="397"/>
                  </a:lnTo>
                  <a:lnTo>
                    <a:pt x="195" y="394"/>
                  </a:lnTo>
                  <a:lnTo>
                    <a:pt x="200" y="391"/>
                  </a:lnTo>
                  <a:lnTo>
                    <a:pt x="204" y="388"/>
                  </a:lnTo>
                  <a:lnTo>
                    <a:pt x="210" y="385"/>
                  </a:lnTo>
                  <a:lnTo>
                    <a:pt x="216" y="382"/>
                  </a:lnTo>
                  <a:lnTo>
                    <a:pt x="221" y="380"/>
                  </a:lnTo>
                  <a:lnTo>
                    <a:pt x="227" y="377"/>
                  </a:lnTo>
                  <a:lnTo>
                    <a:pt x="232" y="375"/>
                  </a:lnTo>
                  <a:lnTo>
                    <a:pt x="238" y="373"/>
                  </a:lnTo>
                  <a:lnTo>
                    <a:pt x="245" y="371"/>
                  </a:lnTo>
                  <a:lnTo>
                    <a:pt x="251" y="369"/>
                  </a:lnTo>
                  <a:lnTo>
                    <a:pt x="258" y="368"/>
                  </a:lnTo>
                  <a:lnTo>
                    <a:pt x="263" y="367"/>
                  </a:lnTo>
                  <a:lnTo>
                    <a:pt x="270" y="366"/>
                  </a:lnTo>
                  <a:lnTo>
                    <a:pt x="277" y="366"/>
                  </a:lnTo>
                  <a:lnTo>
                    <a:pt x="284" y="365"/>
                  </a:lnTo>
                  <a:lnTo>
                    <a:pt x="290" y="365"/>
                  </a:lnTo>
                  <a:lnTo>
                    <a:pt x="297" y="364"/>
                  </a:lnTo>
                  <a:lnTo>
                    <a:pt x="304" y="363"/>
                  </a:lnTo>
                  <a:lnTo>
                    <a:pt x="309" y="362"/>
                  </a:lnTo>
                  <a:lnTo>
                    <a:pt x="316" y="361"/>
                  </a:lnTo>
                  <a:lnTo>
                    <a:pt x="322" y="359"/>
                  </a:lnTo>
                  <a:lnTo>
                    <a:pt x="329" y="358"/>
                  </a:lnTo>
                  <a:lnTo>
                    <a:pt x="334" y="355"/>
                  </a:lnTo>
                  <a:lnTo>
                    <a:pt x="339" y="352"/>
                  </a:lnTo>
                  <a:lnTo>
                    <a:pt x="344" y="349"/>
                  </a:lnTo>
                  <a:lnTo>
                    <a:pt x="348" y="345"/>
                  </a:lnTo>
                  <a:lnTo>
                    <a:pt x="353" y="341"/>
                  </a:lnTo>
                  <a:lnTo>
                    <a:pt x="357" y="337"/>
                  </a:lnTo>
                  <a:lnTo>
                    <a:pt x="361" y="333"/>
                  </a:lnTo>
                  <a:lnTo>
                    <a:pt x="365" y="329"/>
                  </a:lnTo>
                  <a:lnTo>
                    <a:pt x="369" y="326"/>
                  </a:lnTo>
                  <a:lnTo>
                    <a:pt x="374" y="322"/>
                  </a:lnTo>
                  <a:lnTo>
                    <a:pt x="378" y="318"/>
                  </a:lnTo>
                  <a:lnTo>
                    <a:pt x="382" y="315"/>
                  </a:lnTo>
                  <a:lnTo>
                    <a:pt x="388" y="312"/>
                  </a:lnTo>
                  <a:lnTo>
                    <a:pt x="393" y="311"/>
                  </a:lnTo>
                  <a:lnTo>
                    <a:pt x="400" y="310"/>
                  </a:lnTo>
                  <a:lnTo>
                    <a:pt x="407" y="309"/>
                  </a:lnTo>
                  <a:lnTo>
                    <a:pt x="414" y="309"/>
                  </a:lnTo>
                  <a:lnTo>
                    <a:pt x="420" y="309"/>
                  </a:lnTo>
                  <a:lnTo>
                    <a:pt x="427" y="310"/>
                  </a:lnTo>
                  <a:lnTo>
                    <a:pt x="434" y="311"/>
                  </a:lnTo>
                  <a:lnTo>
                    <a:pt x="439" y="312"/>
                  </a:lnTo>
                  <a:lnTo>
                    <a:pt x="446" y="313"/>
                  </a:lnTo>
                  <a:lnTo>
                    <a:pt x="453" y="313"/>
                  </a:lnTo>
                  <a:lnTo>
                    <a:pt x="460" y="313"/>
                  </a:lnTo>
                  <a:lnTo>
                    <a:pt x="466" y="313"/>
                  </a:lnTo>
                  <a:lnTo>
                    <a:pt x="473" y="312"/>
                  </a:lnTo>
                  <a:lnTo>
                    <a:pt x="480" y="311"/>
                  </a:lnTo>
                  <a:lnTo>
                    <a:pt x="487" y="309"/>
                  </a:lnTo>
                  <a:lnTo>
                    <a:pt x="491" y="306"/>
                  </a:lnTo>
                  <a:lnTo>
                    <a:pt x="492" y="302"/>
                  </a:lnTo>
                  <a:lnTo>
                    <a:pt x="492" y="297"/>
                  </a:lnTo>
                  <a:lnTo>
                    <a:pt x="491" y="292"/>
                  </a:lnTo>
                  <a:lnTo>
                    <a:pt x="488" y="287"/>
                  </a:lnTo>
                  <a:lnTo>
                    <a:pt x="485" y="283"/>
                  </a:lnTo>
                  <a:lnTo>
                    <a:pt x="483" y="278"/>
                  </a:lnTo>
                  <a:lnTo>
                    <a:pt x="478" y="274"/>
                  </a:lnTo>
                  <a:lnTo>
                    <a:pt x="474" y="271"/>
                  </a:lnTo>
                  <a:lnTo>
                    <a:pt x="469" y="269"/>
                  </a:lnTo>
                  <a:lnTo>
                    <a:pt x="463" y="267"/>
                  </a:lnTo>
                  <a:lnTo>
                    <a:pt x="456" y="266"/>
                  </a:lnTo>
                  <a:lnTo>
                    <a:pt x="449" y="265"/>
                  </a:lnTo>
                  <a:lnTo>
                    <a:pt x="442" y="264"/>
                  </a:lnTo>
                  <a:lnTo>
                    <a:pt x="436" y="263"/>
                  </a:lnTo>
                  <a:lnTo>
                    <a:pt x="429" y="262"/>
                  </a:lnTo>
                  <a:lnTo>
                    <a:pt x="422" y="261"/>
                  </a:lnTo>
                  <a:lnTo>
                    <a:pt x="417" y="261"/>
                  </a:lnTo>
                  <a:lnTo>
                    <a:pt x="410" y="262"/>
                  </a:lnTo>
                  <a:lnTo>
                    <a:pt x="403" y="263"/>
                  </a:lnTo>
                  <a:lnTo>
                    <a:pt x="397" y="264"/>
                  </a:lnTo>
                  <a:lnTo>
                    <a:pt x="390" y="266"/>
                  </a:lnTo>
                  <a:lnTo>
                    <a:pt x="385" y="268"/>
                  </a:lnTo>
                  <a:lnTo>
                    <a:pt x="379" y="270"/>
                  </a:lnTo>
                  <a:lnTo>
                    <a:pt x="374" y="273"/>
                  </a:lnTo>
                  <a:lnTo>
                    <a:pt x="368" y="275"/>
                  </a:lnTo>
                  <a:lnTo>
                    <a:pt x="362" y="277"/>
                  </a:lnTo>
                  <a:lnTo>
                    <a:pt x="357" y="280"/>
                  </a:lnTo>
                  <a:lnTo>
                    <a:pt x="350" y="282"/>
                  </a:lnTo>
                  <a:lnTo>
                    <a:pt x="344" y="284"/>
                  </a:lnTo>
                  <a:lnTo>
                    <a:pt x="337" y="286"/>
                  </a:lnTo>
                  <a:lnTo>
                    <a:pt x="332" y="288"/>
                  </a:lnTo>
                  <a:lnTo>
                    <a:pt x="325" y="289"/>
                  </a:lnTo>
                  <a:lnTo>
                    <a:pt x="319" y="289"/>
                  </a:lnTo>
                  <a:lnTo>
                    <a:pt x="313" y="287"/>
                  </a:lnTo>
                  <a:lnTo>
                    <a:pt x="308" y="283"/>
                  </a:lnTo>
                  <a:lnTo>
                    <a:pt x="305" y="278"/>
                  </a:lnTo>
                  <a:lnTo>
                    <a:pt x="305" y="274"/>
                  </a:lnTo>
                  <a:lnTo>
                    <a:pt x="305" y="269"/>
                  </a:lnTo>
                  <a:lnTo>
                    <a:pt x="306" y="264"/>
                  </a:lnTo>
                  <a:lnTo>
                    <a:pt x="306" y="259"/>
                  </a:lnTo>
                  <a:lnTo>
                    <a:pt x="306" y="255"/>
                  </a:lnTo>
                  <a:lnTo>
                    <a:pt x="306" y="250"/>
                  </a:lnTo>
                  <a:lnTo>
                    <a:pt x="306" y="245"/>
                  </a:lnTo>
                  <a:lnTo>
                    <a:pt x="305" y="240"/>
                  </a:lnTo>
                  <a:lnTo>
                    <a:pt x="304" y="236"/>
                  </a:lnTo>
                  <a:lnTo>
                    <a:pt x="299" y="232"/>
                  </a:lnTo>
                  <a:lnTo>
                    <a:pt x="297" y="228"/>
                  </a:lnTo>
                  <a:lnTo>
                    <a:pt x="292" y="224"/>
                  </a:lnTo>
                  <a:lnTo>
                    <a:pt x="288" y="220"/>
                  </a:lnTo>
                  <a:lnTo>
                    <a:pt x="283" y="216"/>
                  </a:lnTo>
                  <a:lnTo>
                    <a:pt x="278" y="213"/>
                  </a:lnTo>
                  <a:lnTo>
                    <a:pt x="276" y="209"/>
                  </a:lnTo>
                  <a:lnTo>
                    <a:pt x="276" y="205"/>
                  </a:lnTo>
                  <a:lnTo>
                    <a:pt x="277" y="200"/>
                  </a:lnTo>
                  <a:lnTo>
                    <a:pt x="280" y="196"/>
                  </a:lnTo>
                  <a:lnTo>
                    <a:pt x="283" y="191"/>
                  </a:lnTo>
                  <a:lnTo>
                    <a:pt x="285" y="187"/>
                  </a:lnTo>
                  <a:lnTo>
                    <a:pt x="288" y="183"/>
                  </a:lnTo>
                  <a:lnTo>
                    <a:pt x="291" y="178"/>
                  </a:lnTo>
                  <a:lnTo>
                    <a:pt x="294" y="174"/>
                  </a:lnTo>
                  <a:lnTo>
                    <a:pt x="295" y="169"/>
                  </a:lnTo>
                  <a:lnTo>
                    <a:pt x="297" y="165"/>
                  </a:lnTo>
                  <a:lnTo>
                    <a:pt x="297" y="160"/>
                  </a:lnTo>
                  <a:lnTo>
                    <a:pt x="297" y="155"/>
                  </a:lnTo>
                  <a:lnTo>
                    <a:pt x="297" y="150"/>
                  </a:lnTo>
                  <a:lnTo>
                    <a:pt x="295" y="146"/>
                  </a:lnTo>
                  <a:lnTo>
                    <a:pt x="295" y="141"/>
                  </a:lnTo>
                  <a:lnTo>
                    <a:pt x="294" y="136"/>
                  </a:lnTo>
                  <a:lnTo>
                    <a:pt x="292" y="132"/>
                  </a:lnTo>
                  <a:lnTo>
                    <a:pt x="290" y="127"/>
                  </a:lnTo>
                  <a:lnTo>
                    <a:pt x="288" y="122"/>
                  </a:lnTo>
                  <a:lnTo>
                    <a:pt x="285" y="118"/>
                  </a:lnTo>
                  <a:lnTo>
                    <a:pt x="281" y="115"/>
                  </a:lnTo>
                  <a:lnTo>
                    <a:pt x="274" y="114"/>
                  </a:lnTo>
                  <a:lnTo>
                    <a:pt x="267" y="114"/>
                  </a:lnTo>
                  <a:lnTo>
                    <a:pt x="260" y="113"/>
                  </a:lnTo>
                  <a:lnTo>
                    <a:pt x="253" y="112"/>
                  </a:lnTo>
                  <a:lnTo>
                    <a:pt x="246" y="110"/>
                  </a:lnTo>
                  <a:lnTo>
                    <a:pt x="241" y="108"/>
                  </a:lnTo>
                  <a:lnTo>
                    <a:pt x="238" y="105"/>
                  </a:lnTo>
                  <a:lnTo>
                    <a:pt x="238" y="101"/>
                  </a:lnTo>
                  <a:lnTo>
                    <a:pt x="239" y="96"/>
                  </a:lnTo>
                  <a:lnTo>
                    <a:pt x="242" y="91"/>
                  </a:lnTo>
                  <a:lnTo>
                    <a:pt x="244" y="86"/>
                  </a:lnTo>
                  <a:lnTo>
                    <a:pt x="245" y="81"/>
                  </a:lnTo>
                  <a:lnTo>
                    <a:pt x="246" y="77"/>
                  </a:lnTo>
                  <a:lnTo>
                    <a:pt x="249" y="72"/>
                  </a:lnTo>
                  <a:lnTo>
                    <a:pt x="251" y="68"/>
                  </a:lnTo>
                  <a:lnTo>
                    <a:pt x="252" y="63"/>
                  </a:lnTo>
                  <a:lnTo>
                    <a:pt x="253" y="58"/>
                  </a:lnTo>
                  <a:lnTo>
                    <a:pt x="256" y="54"/>
                  </a:lnTo>
                  <a:lnTo>
                    <a:pt x="258" y="49"/>
                  </a:lnTo>
                  <a:lnTo>
                    <a:pt x="259" y="45"/>
                  </a:lnTo>
                  <a:lnTo>
                    <a:pt x="262" y="40"/>
                  </a:lnTo>
                  <a:lnTo>
                    <a:pt x="265" y="36"/>
                  </a:lnTo>
                  <a:lnTo>
                    <a:pt x="266" y="31"/>
                  </a:lnTo>
                  <a:lnTo>
                    <a:pt x="269" y="27"/>
                  </a:lnTo>
                  <a:lnTo>
                    <a:pt x="272" y="23"/>
                  </a:lnTo>
                  <a:lnTo>
                    <a:pt x="274" y="18"/>
                  </a:lnTo>
                  <a:lnTo>
                    <a:pt x="277" y="14"/>
                  </a:lnTo>
                  <a:lnTo>
                    <a:pt x="281" y="10"/>
                  </a:lnTo>
                  <a:lnTo>
                    <a:pt x="285" y="6"/>
                  </a:lnTo>
                  <a:lnTo>
                    <a:pt x="290" y="2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2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718160" y="4314960"/>
              <a:ext cx="117360" cy="753840"/>
            </a:xfrm>
            <a:custGeom>
              <a:avLst/>
              <a:gdLst/>
              <a:ahLst/>
              <a:rect l="l" t="t" r="r" b="b"/>
              <a:pathLst>
                <a:path w="221" h="949">
                  <a:moveTo>
                    <a:pt x="108" y="947"/>
                  </a:moveTo>
                  <a:lnTo>
                    <a:pt x="115" y="949"/>
                  </a:lnTo>
                  <a:lnTo>
                    <a:pt x="122" y="949"/>
                  </a:lnTo>
                  <a:lnTo>
                    <a:pt x="127" y="948"/>
                  </a:lnTo>
                  <a:lnTo>
                    <a:pt x="133" y="946"/>
                  </a:lnTo>
                  <a:lnTo>
                    <a:pt x="138" y="943"/>
                  </a:lnTo>
                  <a:lnTo>
                    <a:pt x="143" y="939"/>
                  </a:lnTo>
                  <a:lnTo>
                    <a:pt x="147" y="936"/>
                  </a:lnTo>
                  <a:lnTo>
                    <a:pt x="152" y="932"/>
                  </a:lnTo>
                  <a:lnTo>
                    <a:pt x="157" y="929"/>
                  </a:lnTo>
                  <a:lnTo>
                    <a:pt x="161" y="925"/>
                  </a:lnTo>
                  <a:lnTo>
                    <a:pt x="165" y="921"/>
                  </a:lnTo>
                  <a:lnTo>
                    <a:pt x="169" y="918"/>
                  </a:lnTo>
                  <a:lnTo>
                    <a:pt x="173" y="914"/>
                  </a:lnTo>
                  <a:lnTo>
                    <a:pt x="176" y="910"/>
                  </a:lnTo>
                  <a:lnTo>
                    <a:pt x="180" y="906"/>
                  </a:lnTo>
                  <a:lnTo>
                    <a:pt x="185" y="903"/>
                  </a:lnTo>
                  <a:lnTo>
                    <a:pt x="189" y="899"/>
                  </a:lnTo>
                  <a:lnTo>
                    <a:pt x="193" y="895"/>
                  </a:lnTo>
                  <a:lnTo>
                    <a:pt x="197" y="891"/>
                  </a:lnTo>
                  <a:lnTo>
                    <a:pt x="200" y="887"/>
                  </a:lnTo>
                  <a:lnTo>
                    <a:pt x="204" y="884"/>
                  </a:lnTo>
                  <a:lnTo>
                    <a:pt x="208" y="880"/>
                  </a:lnTo>
                  <a:lnTo>
                    <a:pt x="212" y="876"/>
                  </a:lnTo>
                  <a:lnTo>
                    <a:pt x="215" y="872"/>
                  </a:lnTo>
                  <a:lnTo>
                    <a:pt x="218" y="867"/>
                  </a:lnTo>
                  <a:lnTo>
                    <a:pt x="219" y="862"/>
                  </a:lnTo>
                  <a:lnTo>
                    <a:pt x="221" y="858"/>
                  </a:lnTo>
                  <a:lnTo>
                    <a:pt x="219" y="853"/>
                  </a:lnTo>
                  <a:lnTo>
                    <a:pt x="215" y="849"/>
                  </a:lnTo>
                  <a:lnTo>
                    <a:pt x="212" y="845"/>
                  </a:lnTo>
                  <a:lnTo>
                    <a:pt x="208" y="841"/>
                  </a:lnTo>
                  <a:lnTo>
                    <a:pt x="204" y="837"/>
                  </a:lnTo>
                  <a:lnTo>
                    <a:pt x="200" y="834"/>
                  </a:lnTo>
                  <a:lnTo>
                    <a:pt x="196" y="830"/>
                  </a:lnTo>
                  <a:lnTo>
                    <a:pt x="190" y="827"/>
                  </a:lnTo>
                  <a:lnTo>
                    <a:pt x="187" y="823"/>
                  </a:lnTo>
                  <a:lnTo>
                    <a:pt x="183" y="819"/>
                  </a:lnTo>
                  <a:lnTo>
                    <a:pt x="179" y="815"/>
                  </a:lnTo>
                  <a:lnTo>
                    <a:pt x="176" y="811"/>
                  </a:lnTo>
                  <a:lnTo>
                    <a:pt x="172" y="807"/>
                  </a:lnTo>
                  <a:lnTo>
                    <a:pt x="169" y="803"/>
                  </a:lnTo>
                  <a:lnTo>
                    <a:pt x="165" y="799"/>
                  </a:lnTo>
                  <a:lnTo>
                    <a:pt x="164" y="794"/>
                  </a:lnTo>
                  <a:lnTo>
                    <a:pt x="162" y="790"/>
                  </a:lnTo>
                  <a:lnTo>
                    <a:pt x="161" y="785"/>
                  </a:lnTo>
                  <a:lnTo>
                    <a:pt x="161" y="780"/>
                  </a:lnTo>
                  <a:lnTo>
                    <a:pt x="161" y="776"/>
                  </a:lnTo>
                  <a:lnTo>
                    <a:pt x="161" y="771"/>
                  </a:lnTo>
                  <a:lnTo>
                    <a:pt x="162" y="766"/>
                  </a:lnTo>
                  <a:lnTo>
                    <a:pt x="162" y="761"/>
                  </a:lnTo>
                  <a:lnTo>
                    <a:pt x="161" y="755"/>
                  </a:lnTo>
                  <a:lnTo>
                    <a:pt x="158" y="752"/>
                  </a:lnTo>
                  <a:lnTo>
                    <a:pt x="152" y="750"/>
                  </a:lnTo>
                  <a:lnTo>
                    <a:pt x="145" y="748"/>
                  </a:lnTo>
                  <a:lnTo>
                    <a:pt x="140" y="746"/>
                  </a:lnTo>
                  <a:lnTo>
                    <a:pt x="134" y="743"/>
                  </a:lnTo>
                  <a:lnTo>
                    <a:pt x="127" y="740"/>
                  </a:lnTo>
                  <a:lnTo>
                    <a:pt x="123" y="737"/>
                  </a:lnTo>
                  <a:lnTo>
                    <a:pt x="120" y="734"/>
                  </a:lnTo>
                  <a:lnTo>
                    <a:pt x="119" y="729"/>
                  </a:lnTo>
                  <a:lnTo>
                    <a:pt x="119" y="724"/>
                  </a:lnTo>
                  <a:lnTo>
                    <a:pt x="119" y="719"/>
                  </a:lnTo>
                  <a:lnTo>
                    <a:pt x="120" y="714"/>
                  </a:lnTo>
                  <a:lnTo>
                    <a:pt x="122" y="710"/>
                  </a:lnTo>
                  <a:lnTo>
                    <a:pt x="123" y="705"/>
                  </a:lnTo>
                  <a:lnTo>
                    <a:pt x="124" y="701"/>
                  </a:lnTo>
                  <a:lnTo>
                    <a:pt x="127" y="696"/>
                  </a:lnTo>
                  <a:lnTo>
                    <a:pt x="129" y="691"/>
                  </a:lnTo>
                  <a:lnTo>
                    <a:pt x="130" y="687"/>
                  </a:lnTo>
                  <a:lnTo>
                    <a:pt x="131" y="682"/>
                  </a:lnTo>
                  <a:lnTo>
                    <a:pt x="134" y="678"/>
                  </a:lnTo>
                  <a:lnTo>
                    <a:pt x="136" y="673"/>
                  </a:lnTo>
                  <a:lnTo>
                    <a:pt x="137" y="668"/>
                  </a:lnTo>
                  <a:lnTo>
                    <a:pt x="138" y="664"/>
                  </a:lnTo>
                  <a:lnTo>
                    <a:pt x="138" y="659"/>
                  </a:lnTo>
                  <a:lnTo>
                    <a:pt x="137" y="655"/>
                  </a:lnTo>
                  <a:lnTo>
                    <a:pt x="134" y="650"/>
                  </a:lnTo>
                  <a:lnTo>
                    <a:pt x="130" y="646"/>
                  </a:lnTo>
                  <a:lnTo>
                    <a:pt x="124" y="644"/>
                  </a:lnTo>
                  <a:lnTo>
                    <a:pt x="119" y="641"/>
                  </a:lnTo>
                  <a:lnTo>
                    <a:pt x="112" y="640"/>
                  </a:lnTo>
                  <a:lnTo>
                    <a:pt x="106" y="637"/>
                  </a:lnTo>
                  <a:lnTo>
                    <a:pt x="102" y="634"/>
                  </a:lnTo>
                  <a:lnTo>
                    <a:pt x="98" y="630"/>
                  </a:lnTo>
                  <a:lnTo>
                    <a:pt x="96" y="626"/>
                  </a:lnTo>
                  <a:lnTo>
                    <a:pt x="94" y="621"/>
                  </a:lnTo>
                  <a:lnTo>
                    <a:pt x="94" y="616"/>
                  </a:lnTo>
                  <a:lnTo>
                    <a:pt x="94" y="612"/>
                  </a:lnTo>
                  <a:lnTo>
                    <a:pt x="95" y="607"/>
                  </a:lnTo>
                  <a:lnTo>
                    <a:pt x="96" y="602"/>
                  </a:lnTo>
                  <a:lnTo>
                    <a:pt x="98" y="598"/>
                  </a:lnTo>
                  <a:lnTo>
                    <a:pt x="101" y="593"/>
                  </a:lnTo>
                  <a:lnTo>
                    <a:pt x="102" y="589"/>
                  </a:lnTo>
                  <a:lnTo>
                    <a:pt x="105" y="584"/>
                  </a:lnTo>
                  <a:lnTo>
                    <a:pt x="106" y="580"/>
                  </a:lnTo>
                  <a:lnTo>
                    <a:pt x="109" y="575"/>
                  </a:lnTo>
                  <a:lnTo>
                    <a:pt x="110" y="571"/>
                  </a:lnTo>
                  <a:lnTo>
                    <a:pt x="113" y="566"/>
                  </a:lnTo>
                  <a:lnTo>
                    <a:pt x="115" y="562"/>
                  </a:lnTo>
                  <a:lnTo>
                    <a:pt x="117" y="557"/>
                  </a:lnTo>
                  <a:lnTo>
                    <a:pt x="120" y="553"/>
                  </a:lnTo>
                  <a:lnTo>
                    <a:pt x="122" y="548"/>
                  </a:lnTo>
                  <a:lnTo>
                    <a:pt x="123" y="544"/>
                  </a:lnTo>
                  <a:lnTo>
                    <a:pt x="126" y="539"/>
                  </a:lnTo>
                  <a:lnTo>
                    <a:pt x="127" y="535"/>
                  </a:lnTo>
                  <a:lnTo>
                    <a:pt x="129" y="530"/>
                  </a:lnTo>
                  <a:lnTo>
                    <a:pt x="130" y="525"/>
                  </a:lnTo>
                  <a:lnTo>
                    <a:pt x="131" y="521"/>
                  </a:lnTo>
                  <a:lnTo>
                    <a:pt x="133" y="516"/>
                  </a:lnTo>
                  <a:lnTo>
                    <a:pt x="133" y="511"/>
                  </a:lnTo>
                  <a:lnTo>
                    <a:pt x="133" y="507"/>
                  </a:lnTo>
                  <a:lnTo>
                    <a:pt x="131" y="502"/>
                  </a:lnTo>
                  <a:lnTo>
                    <a:pt x="130" y="497"/>
                  </a:lnTo>
                  <a:lnTo>
                    <a:pt x="127" y="493"/>
                  </a:lnTo>
                  <a:lnTo>
                    <a:pt x="124" y="488"/>
                  </a:lnTo>
                  <a:lnTo>
                    <a:pt x="122" y="484"/>
                  </a:lnTo>
                  <a:lnTo>
                    <a:pt x="117" y="480"/>
                  </a:lnTo>
                  <a:lnTo>
                    <a:pt x="115" y="476"/>
                  </a:lnTo>
                  <a:lnTo>
                    <a:pt x="110" y="472"/>
                  </a:lnTo>
                  <a:lnTo>
                    <a:pt x="108" y="468"/>
                  </a:lnTo>
                  <a:lnTo>
                    <a:pt x="103" y="464"/>
                  </a:lnTo>
                  <a:lnTo>
                    <a:pt x="101" y="460"/>
                  </a:lnTo>
                  <a:lnTo>
                    <a:pt x="96" y="456"/>
                  </a:lnTo>
                  <a:lnTo>
                    <a:pt x="92" y="453"/>
                  </a:lnTo>
                  <a:lnTo>
                    <a:pt x="87" y="449"/>
                  </a:lnTo>
                  <a:lnTo>
                    <a:pt x="82" y="445"/>
                  </a:lnTo>
                  <a:lnTo>
                    <a:pt x="80" y="442"/>
                  </a:lnTo>
                  <a:lnTo>
                    <a:pt x="81" y="437"/>
                  </a:lnTo>
                  <a:lnTo>
                    <a:pt x="87" y="433"/>
                  </a:lnTo>
                  <a:lnTo>
                    <a:pt x="91" y="429"/>
                  </a:lnTo>
                  <a:lnTo>
                    <a:pt x="92" y="425"/>
                  </a:lnTo>
                  <a:lnTo>
                    <a:pt x="89" y="421"/>
                  </a:lnTo>
                  <a:lnTo>
                    <a:pt x="85" y="417"/>
                  </a:lnTo>
                  <a:lnTo>
                    <a:pt x="80" y="413"/>
                  </a:lnTo>
                  <a:lnTo>
                    <a:pt x="75" y="410"/>
                  </a:lnTo>
                  <a:lnTo>
                    <a:pt x="70" y="406"/>
                  </a:lnTo>
                  <a:lnTo>
                    <a:pt x="66" y="403"/>
                  </a:lnTo>
                  <a:lnTo>
                    <a:pt x="62" y="400"/>
                  </a:lnTo>
                  <a:lnTo>
                    <a:pt x="56" y="396"/>
                  </a:lnTo>
                  <a:lnTo>
                    <a:pt x="52" y="392"/>
                  </a:lnTo>
                  <a:lnTo>
                    <a:pt x="48" y="388"/>
                  </a:lnTo>
                  <a:lnTo>
                    <a:pt x="45" y="384"/>
                  </a:lnTo>
                  <a:lnTo>
                    <a:pt x="43" y="380"/>
                  </a:lnTo>
                  <a:lnTo>
                    <a:pt x="45" y="376"/>
                  </a:lnTo>
                  <a:lnTo>
                    <a:pt x="48" y="371"/>
                  </a:lnTo>
                  <a:lnTo>
                    <a:pt x="50" y="366"/>
                  </a:lnTo>
                  <a:lnTo>
                    <a:pt x="52" y="362"/>
                  </a:lnTo>
                  <a:lnTo>
                    <a:pt x="53" y="357"/>
                  </a:lnTo>
                  <a:lnTo>
                    <a:pt x="55" y="352"/>
                  </a:lnTo>
                  <a:lnTo>
                    <a:pt x="53" y="347"/>
                  </a:lnTo>
                  <a:lnTo>
                    <a:pt x="50" y="344"/>
                  </a:lnTo>
                  <a:lnTo>
                    <a:pt x="46" y="341"/>
                  </a:lnTo>
                  <a:lnTo>
                    <a:pt x="41" y="338"/>
                  </a:lnTo>
                  <a:lnTo>
                    <a:pt x="35" y="335"/>
                  </a:lnTo>
                  <a:lnTo>
                    <a:pt x="29" y="332"/>
                  </a:lnTo>
                  <a:lnTo>
                    <a:pt x="25" y="328"/>
                  </a:lnTo>
                  <a:lnTo>
                    <a:pt x="20" y="325"/>
                  </a:lnTo>
                  <a:lnTo>
                    <a:pt x="15" y="321"/>
                  </a:lnTo>
                  <a:lnTo>
                    <a:pt x="13" y="317"/>
                  </a:lnTo>
                  <a:lnTo>
                    <a:pt x="11" y="313"/>
                  </a:lnTo>
                  <a:lnTo>
                    <a:pt x="10" y="308"/>
                  </a:lnTo>
                  <a:lnTo>
                    <a:pt x="10" y="303"/>
                  </a:lnTo>
                  <a:lnTo>
                    <a:pt x="8" y="298"/>
                  </a:lnTo>
                  <a:lnTo>
                    <a:pt x="7" y="293"/>
                  </a:lnTo>
                  <a:lnTo>
                    <a:pt x="6" y="288"/>
                  </a:lnTo>
                  <a:lnTo>
                    <a:pt x="4" y="284"/>
                  </a:lnTo>
                  <a:lnTo>
                    <a:pt x="4" y="279"/>
                  </a:lnTo>
                  <a:lnTo>
                    <a:pt x="1" y="274"/>
                  </a:lnTo>
                  <a:lnTo>
                    <a:pt x="0" y="269"/>
                  </a:lnTo>
                  <a:lnTo>
                    <a:pt x="0" y="264"/>
                  </a:lnTo>
                  <a:lnTo>
                    <a:pt x="1" y="260"/>
                  </a:lnTo>
                  <a:lnTo>
                    <a:pt x="6" y="258"/>
                  </a:lnTo>
                  <a:lnTo>
                    <a:pt x="13" y="256"/>
                  </a:lnTo>
                  <a:lnTo>
                    <a:pt x="20" y="255"/>
                  </a:lnTo>
                  <a:lnTo>
                    <a:pt x="27" y="253"/>
                  </a:lnTo>
                  <a:lnTo>
                    <a:pt x="32" y="251"/>
                  </a:lnTo>
                  <a:lnTo>
                    <a:pt x="38" y="248"/>
                  </a:lnTo>
                  <a:lnTo>
                    <a:pt x="42" y="245"/>
                  </a:lnTo>
                  <a:lnTo>
                    <a:pt x="43" y="240"/>
                  </a:lnTo>
                  <a:lnTo>
                    <a:pt x="45" y="235"/>
                  </a:lnTo>
                  <a:lnTo>
                    <a:pt x="46" y="231"/>
                  </a:lnTo>
                  <a:lnTo>
                    <a:pt x="49" y="226"/>
                  </a:lnTo>
                  <a:lnTo>
                    <a:pt x="50" y="221"/>
                  </a:lnTo>
                  <a:lnTo>
                    <a:pt x="53" y="217"/>
                  </a:lnTo>
                  <a:lnTo>
                    <a:pt x="55" y="213"/>
                  </a:lnTo>
                  <a:lnTo>
                    <a:pt x="57" y="208"/>
                  </a:lnTo>
                  <a:lnTo>
                    <a:pt x="62" y="204"/>
                  </a:lnTo>
                  <a:lnTo>
                    <a:pt x="66" y="200"/>
                  </a:lnTo>
                  <a:lnTo>
                    <a:pt x="68" y="197"/>
                  </a:lnTo>
                  <a:lnTo>
                    <a:pt x="73" y="192"/>
                  </a:lnTo>
                  <a:lnTo>
                    <a:pt x="75" y="188"/>
                  </a:lnTo>
                  <a:lnTo>
                    <a:pt x="78" y="184"/>
                  </a:lnTo>
                  <a:lnTo>
                    <a:pt x="81" y="180"/>
                  </a:lnTo>
                  <a:lnTo>
                    <a:pt x="84" y="175"/>
                  </a:lnTo>
                  <a:lnTo>
                    <a:pt x="85" y="171"/>
                  </a:lnTo>
                  <a:lnTo>
                    <a:pt x="85" y="166"/>
                  </a:lnTo>
                  <a:lnTo>
                    <a:pt x="87" y="161"/>
                  </a:lnTo>
                  <a:lnTo>
                    <a:pt x="87" y="156"/>
                  </a:lnTo>
                  <a:lnTo>
                    <a:pt x="88" y="152"/>
                  </a:lnTo>
                  <a:lnTo>
                    <a:pt x="88" y="147"/>
                  </a:lnTo>
                  <a:lnTo>
                    <a:pt x="88" y="142"/>
                  </a:lnTo>
                  <a:lnTo>
                    <a:pt x="89" y="138"/>
                  </a:lnTo>
                  <a:lnTo>
                    <a:pt x="89" y="133"/>
                  </a:lnTo>
                  <a:lnTo>
                    <a:pt x="89" y="128"/>
                  </a:lnTo>
                  <a:lnTo>
                    <a:pt x="91" y="123"/>
                  </a:lnTo>
                  <a:lnTo>
                    <a:pt x="94" y="119"/>
                  </a:lnTo>
                  <a:lnTo>
                    <a:pt x="95" y="114"/>
                  </a:lnTo>
                  <a:lnTo>
                    <a:pt x="99" y="110"/>
                  </a:lnTo>
                  <a:lnTo>
                    <a:pt x="103" y="106"/>
                  </a:lnTo>
                  <a:lnTo>
                    <a:pt x="108" y="103"/>
                  </a:lnTo>
                  <a:lnTo>
                    <a:pt x="113" y="101"/>
                  </a:lnTo>
                  <a:lnTo>
                    <a:pt x="119" y="99"/>
                  </a:lnTo>
                  <a:lnTo>
                    <a:pt x="126" y="97"/>
                  </a:lnTo>
                  <a:lnTo>
                    <a:pt x="131" y="95"/>
                  </a:lnTo>
                  <a:lnTo>
                    <a:pt x="140" y="93"/>
                  </a:lnTo>
                  <a:lnTo>
                    <a:pt x="147" y="92"/>
                  </a:lnTo>
                  <a:lnTo>
                    <a:pt x="152" y="90"/>
                  </a:lnTo>
                  <a:lnTo>
                    <a:pt x="155" y="88"/>
                  </a:lnTo>
                  <a:lnTo>
                    <a:pt x="152" y="84"/>
                  </a:lnTo>
                  <a:lnTo>
                    <a:pt x="148" y="80"/>
                  </a:lnTo>
                  <a:lnTo>
                    <a:pt x="143" y="76"/>
                  </a:lnTo>
                  <a:lnTo>
                    <a:pt x="138" y="72"/>
                  </a:lnTo>
                  <a:lnTo>
                    <a:pt x="134" y="69"/>
                  </a:lnTo>
                  <a:lnTo>
                    <a:pt x="130" y="65"/>
                  </a:lnTo>
                  <a:lnTo>
                    <a:pt x="126" y="61"/>
                  </a:lnTo>
                  <a:lnTo>
                    <a:pt x="122" y="57"/>
                  </a:lnTo>
                  <a:lnTo>
                    <a:pt x="117" y="53"/>
                  </a:lnTo>
                  <a:lnTo>
                    <a:pt x="115" y="49"/>
                  </a:lnTo>
                  <a:lnTo>
                    <a:pt x="110" y="45"/>
                  </a:lnTo>
                  <a:lnTo>
                    <a:pt x="108" y="41"/>
                  </a:lnTo>
                  <a:lnTo>
                    <a:pt x="105" y="37"/>
                  </a:lnTo>
                  <a:lnTo>
                    <a:pt x="101" y="33"/>
                  </a:lnTo>
                  <a:lnTo>
                    <a:pt x="99" y="29"/>
                  </a:lnTo>
                  <a:lnTo>
                    <a:pt x="96" y="24"/>
                  </a:lnTo>
                  <a:lnTo>
                    <a:pt x="96" y="19"/>
                  </a:lnTo>
                  <a:lnTo>
                    <a:pt x="96" y="15"/>
                  </a:lnTo>
                  <a:lnTo>
                    <a:pt x="95" y="10"/>
                  </a:lnTo>
                  <a:lnTo>
                    <a:pt x="94" y="5"/>
                  </a:lnTo>
                  <a:lnTo>
                    <a:pt x="91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51200" y="5062680"/>
              <a:ext cx="123840" cy="179280"/>
            </a:xfrm>
            <a:custGeom>
              <a:avLst/>
              <a:gdLst/>
              <a:ahLst/>
              <a:rect l="l" t="t" r="r" b="b"/>
              <a:pathLst>
                <a:path w="235" h="224">
                  <a:moveTo>
                    <a:pt x="0" y="224"/>
                  </a:moveTo>
                  <a:lnTo>
                    <a:pt x="1" y="219"/>
                  </a:lnTo>
                  <a:lnTo>
                    <a:pt x="4" y="215"/>
                  </a:lnTo>
                  <a:lnTo>
                    <a:pt x="7" y="211"/>
                  </a:lnTo>
                  <a:lnTo>
                    <a:pt x="10" y="206"/>
                  </a:lnTo>
                  <a:lnTo>
                    <a:pt x="12" y="202"/>
                  </a:lnTo>
                  <a:lnTo>
                    <a:pt x="15" y="198"/>
                  </a:lnTo>
                  <a:lnTo>
                    <a:pt x="19" y="194"/>
                  </a:lnTo>
                  <a:lnTo>
                    <a:pt x="22" y="190"/>
                  </a:lnTo>
                  <a:lnTo>
                    <a:pt x="26" y="186"/>
                  </a:lnTo>
                  <a:lnTo>
                    <a:pt x="29" y="182"/>
                  </a:lnTo>
                  <a:lnTo>
                    <a:pt x="33" y="178"/>
                  </a:lnTo>
                  <a:lnTo>
                    <a:pt x="36" y="174"/>
                  </a:lnTo>
                  <a:lnTo>
                    <a:pt x="40" y="170"/>
                  </a:lnTo>
                  <a:lnTo>
                    <a:pt x="43" y="166"/>
                  </a:lnTo>
                  <a:lnTo>
                    <a:pt x="47" y="162"/>
                  </a:lnTo>
                  <a:lnTo>
                    <a:pt x="50" y="158"/>
                  </a:lnTo>
                  <a:lnTo>
                    <a:pt x="54" y="154"/>
                  </a:lnTo>
                  <a:lnTo>
                    <a:pt x="58" y="150"/>
                  </a:lnTo>
                  <a:lnTo>
                    <a:pt x="61" y="146"/>
                  </a:lnTo>
                  <a:lnTo>
                    <a:pt x="65" y="142"/>
                  </a:lnTo>
                  <a:lnTo>
                    <a:pt x="68" y="138"/>
                  </a:lnTo>
                  <a:lnTo>
                    <a:pt x="72" y="134"/>
                  </a:lnTo>
                  <a:lnTo>
                    <a:pt x="77" y="130"/>
                  </a:lnTo>
                  <a:lnTo>
                    <a:pt x="79" y="126"/>
                  </a:lnTo>
                  <a:lnTo>
                    <a:pt x="84" y="122"/>
                  </a:lnTo>
                  <a:lnTo>
                    <a:pt x="86" y="118"/>
                  </a:lnTo>
                  <a:lnTo>
                    <a:pt x="91" y="114"/>
                  </a:lnTo>
                  <a:lnTo>
                    <a:pt x="95" y="110"/>
                  </a:lnTo>
                  <a:lnTo>
                    <a:pt x="98" y="106"/>
                  </a:lnTo>
                  <a:lnTo>
                    <a:pt x="102" y="102"/>
                  </a:lnTo>
                  <a:lnTo>
                    <a:pt x="105" y="98"/>
                  </a:lnTo>
                  <a:lnTo>
                    <a:pt x="109" y="94"/>
                  </a:lnTo>
                  <a:lnTo>
                    <a:pt x="113" y="90"/>
                  </a:lnTo>
                  <a:lnTo>
                    <a:pt x="116" y="86"/>
                  </a:lnTo>
                  <a:lnTo>
                    <a:pt x="120" y="82"/>
                  </a:lnTo>
                  <a:lnTo>
                    <a:pt x="123" y="78"/>
                  </a:lnTo>
                  <a:lnTo>
                    <a:pt x="126" y="74"/>
                  </a:lnTo>
                  <a:lnTo>
                    <a:pt x="130" y="70"/>
                  </a:lnTo>
                  <a:lnTo>
                    <a:pt x="133" y="66"/>
                  </a:lnTo>
                  <a:lnTo>
                    <a:pt x="135" y="62"/>
                  </a:lnTo>
                  <a:lnTo>
                    <a:pt x="138" y="58"/>
                  </a:lnTo>
                  <a:lnTo>
                    <a:pt x="141" y="53"/>
                  </a:lnTo>
                  <a:lnTo>
                    <a:pt x="145" y="49"/>
                  </a:lnTo>
                  <a:lnTo>
                    <a:pt x="148" y="45"/>
                  </a:lnTo>
                  <a:lnTo>
                    <a:pt x="151" y="41"/>
                  </a:lnTo>
                  <a:lnTo>
                    <a:pt x="154" y="36"/>
                  </a:lnTo>
                  <a:lnTo>
                    <a:pt x="156" y="32"/>
                  </a:lnTo>
                  <a:lnTo>
                    <a:pt x="159" y="28"/>
                  </a:lnTo>
                  <a:lnTo>
                    <a:pt x="163" y="24"/>
                  </a:lnTo>
                  <a:lnTo>
                    <a:pt x="166" y="20"/>
                  </a:lnTo>
                  <a:lnTo>
                    <a:pt x="170" y="16"/>
                  </a:lnTo>
                  <a:lnTo>
                    <a:pt x="175" y="12"/>
                  </a:lnTo>
                  <a:lnTo>
                    <a:pt x="179" y="9"/>
                  </a:lnTo>
                  <a:lnTo>
                    <a:pt x="184" y="6"/>
                  </a:lnTo>
                  <a:lnTo>
                    <a:pt x="190" y="3"/>
                  </a:lnTo>
                  <a:lnTo>
                    <a:pt x="197" y="1"/>
                  </a:lnTo>
                  <a:lnTo>
                    <a:pt x="202" y="0"/>
                  </a:lnTo>
                  <a:lnTo>
                    <a:pt x="208" y="0"/>
                  </a:lnTo>
                  <a:lnTo>
                    <a:pt x="215" y="2"/>
                  </a:lnTo>
                  <a:lnTo>
                    <a:pt x="222" y="4"/>
                  </a:lnTo>
                  <a:lnTo>
                    <a:pt x="228" y="5"/>
                  </a:lnTo>
                  <a:lnTo>
                    <a:pt x="235" y="5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641840" y="5241960"/>
              <a:ext cx="9360" cy="237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0" y="31"/>
                  </a:moveTo>
                  <a:lnTo>
                    <a:pt x="3" y="26"/>
                  </a:lnTo>
                  <a:lnTo>
                    <a:pt x="4" y="22"/>
                  </a:lnTo>
                  <a:lnTo>
                    <a:pt x="7" y="17"/>
                  </a:lnTo>
                  <a:lnTo>
                    <a:pt x="8" y="13"/>
                  </a:lnTo>
                  <a:lnTo>
                    <a:pt x="11" y="9"/>
                  </a:lnTo>
                  <a:lnTo>
                    <a:pt x="13" y="4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24560" y="5241960"/>
              <a:ext cx="152280" cy="852480"/>
            </a:xfrm>
            <a:custGeom>
              <a:avLst/>
              <a:gdLst/>
              <a:ahLst/>
              <a:rect l="l" t="t" r="r" b="b"/>
              <a:pathLst>
                <a:path w="288" h="1076">
                  <a:moveTo>
                    <a:pt x="49" y="0"/>
                  </a:moveTo>
                  <a:lnTo>
                    <a:pt x="46" y="9"/>
                  </a:lnTo>
                  <a:lnTo>
                    <a:pt x="45" y="31"/>
                  </a:lnTo>
                  <a:lnTo>
                    <a:pt x="57" y="40"/>
                  </a:lnTo>
                  <a:lnTo>
                    <a:pt x="78" y="55"/>
                  </a:lnTo>
                  <a:lnTo>
                    <a:pt x="78" y="78"/>
                  </a:lnTo>
                  <a:lnTo>
                    <a:pt x="70" y="91"/>
                  </a:lnTo>
                  <a:lnTo>
                    <a:pt x="54" y="100"/>
                  </a:lnTo>
                  <a:lnTo>
                    <a:pt x="38" y="108"/>
                  </a:lnTo>
                  <a:lnTo>
                    <a:pt x="22" y="115"/>
                  </a:lnTo>
                  <a:lnTo>
                    <a:pt x="5" y="127"/>
                  </a:lnTo>
                  <a:lnTo>
                    <a:pt x="15" y="138"/>
                  </a:lnTo>
                  <a:lnTo>
                    <a:pt x="36" y="145"/>
                  </a:lnTo>
                  <a:lnTo>
                    <a:pt x="53" y="152"/>
                  </a:lnTo>
                  <a:lnTo>
                    <a:pt x="68" y="160"/>
                  </a:lnTo>
                  <a:lnTo>
                    <a:pt x="91" y="177"/>
                  </a:lnTo>
                  <a:lnTo>
                    <a:pt x="96" y="190"/>
                  </a:lnTo>
                  <a:lnTo>
                    <a:pt x="96" y="207"/>
                  </a:lnTo>
                  <a:lnTo>
                    <a:pt x="91" y="224"/>
                  </a:lnTo>
                  <a:lnTo>
                    <a:pt x="84" y="238"/>
                  </a:lnTo>
                  <a:lnTo>
                    <a:pt x="70" y="255"/>
                  </a:lnTo>
                  <a:lnTo>
                    <a:pt x="53" y="270"/>
                  </a:lnTo>
                  <a:lnTo>
                    <a:pt x="33" y="273"/>
                  </a:lnTo>
                  <a:lnTo>
                    <a:pt x="17" y="272"/>
                  </a:lnTo>
                  <a:lnTo>
                    <a:pt x="0" y="284"/>
                  </a:lnTo>
                  <a:lnTo>
                    <a:pt x="17" y="292"/>
                  </a:lnTo>
                  <a:lnTo>
                    <a:pt x="36" y="298"/>
                  </a:lnTo>
                  <a:lnTo>
                    <a:pt x="61" y="320"/>
                  </a:lnTo>
                  <a:lnTo>
                    <a:pt x="89" y="332"/>
                  </a:lnTo>
                  <a:lnTo>
                    <a:pt x="113" y="333"/>
                  </a:lnTo>
                  <a:lnTo>
                    <a:pt x="128" y="330"/>
                  </a:lnTo>
                  <a:lnTo>
                    <a:pt x="135" y="354"/>
                  </a:lnTo>
                  <a:lnTo>
                    <a:pt x="120" y="376"/>
                  </a:lnTo>
                  <a:lnTo>
                    <a:pt x="121" y="390"/>
                  </a:lnTo>
                  <a:lnTo>
                    <a:pt x="140" y="408"/>
                  </a:lnTo>
                  <a:lnTo>
                    <a:pt x="127" y="427"/>
                  </a:lnTo>
                  <a:lnTo>
                    <a:pt x="137" y="449"/>
                  </a:lnTo>
                  <a:lnTo>
                    <a:pt x="147" y="467"/>
                  </a:lnTo>
                  <a:lnTo>
                    <a:pt x="159" y="487"/>
                  </a:lnTo>
                  <a:lnTo>
                    <a:pt x="176" y="501"/>
                  </a:lnTo>
                  <a:lnTo>
                    <a:pt x="193" y="508"/>
                  </a:lnTo>
                  <a:lnTo>
                    <a:pt x="212" y="523"/>
                  </a:lnTo>
                  <a:lnTo>
                    <a:pt x="210" y="538"/>
                  </a:lnTo>
                  <a:lnTo>
                    <a:pt x="193" y="554"/>
                  </a:lnTo>
                  <a:lnTo>
                    <a:pt x="140" y="584"/>
                  </a:lnTo>
                  <a:lnTo>
                    <a:pt x="114" y="600"/>
                  </a:lnTo>
                  <a:lnTo>
                    <a:pt x="114" y="613"/>
                  </a:lnTo>
                  <a:lnTo>
                    <a:pt x="128" y="629"/>
                  </a:lnTo>
                  <a:lnTo>
                    <a:pt x="158" y="633"/>
                  </a:lnTo>
                  <a:lnTo>
                    <a:pt x="184" y="642"/>
                  </a:lnTo>
                  <a:lnTo>
                    <a:pt x="210" y="656"/>
                  </a:lnTo>
                  <a:lnTo>
                    <a:pt x="232" y="671"/>
                  </a:lnTo>
                  <a:lnTo>
                    <a:pt x="246" y="686"/>
                  </a:lnTo>
                  <a:lnTo>
                    <a:pt x="251" y="709"/>
                  </a:lnTo>
                  <a:lnTo>
                    <a:pt x="246" y="738"/>
                  </a:lnTo>
                  <a:lnTo>
                    <a:pt x="246" y="765"/>
                  </a:lnTo>
                  <a:lnTo>
                    <a:pt x="244" y="787"/>
                  </a:lnTo>
                  <a:lnTo>
                    <a:pt x="249" y="807"/>
                  </a:lnTo>
                  <a:lnTo>
                    <a:pt x="267" y="820"/>
                  </a:lnTo>
                  <a:lnTo>
                    <a:pt x="278" y="835"/>
                  </a:lnTo>
                  <a:lnTo>
                    <a:pt x="288" y="849"/>
                  </a:lnTo>
                  <a:lnTo>
                    <a:pt x="272" y="877"/>
                  </a:lnTo>
                  <a:lnTo>
                    <a:pt x="261" y="890"/>
                  </a:lnTo>
                  <a:lnTo>
                    <a:pt x="253" y="903"/>
                  </a:lnTo>
                  <a:lnTo>
                    <a:pt x="201" y="917"/>
                  </a:lnTo>
                  <a:lnTo>
                    <a:pt x="168" y="911"/>
                  </a:lnTo>
                  <a:lnTo>
                    <a:pt x="158" y="935"/>
                  </a:lnTo>
                  <a:lnTo>
                    <a:pt x="142" y="961"/>
                  </a:lnTo>
                  <a:lnTo>
                    <a:pt x="166" y="995"/>
                  </a:lnTo>
                  <a:lnTo>
                    <a:pt x="172" y="1033"/>
                  </a:lnTo>
                  <a:lnTo>
                    <a:pt x="187" y="1050"/>
                  </a:lnTo>
                  <a:lnTo>
                    <a:pt x="201" y="1076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20120" y="3962520"/>
              <a:ext cx="1447560" cy="21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150&lt;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101-150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76-100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51-75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26-50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1-25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61360" y="4367160"/>
              <a:ext cx="228600" cy="1522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461360" y="4672080"/>
              <a:ext cx="228600" cy="152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61360" y="4976640"/>
              <a:ext cx="228600" cy="1526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61360" y="5281560"/>
              <a:ext cx="228600" cy="15228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61360" y="5621400"/>
              <a:ext cx="228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67480" y="4062240"/>
              <a:ext cx="228600" cy="15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15:15:20Z</dcterms:created>
  <dc:creator>Brio</dc:creator>
  <dc:description/>
  <dc:language>en-US</dc:language>
  <cp:lastModifiedBy>Dr. Nábrádi András</cp:lastModifiedBy>
  <dcterms:modified xsi:type="dcterms:W3CDTF">2006-03-27T06:58:17Z</dcterms:modified>
  <cp:revision>66</cp:revision>
  <dc:subject/>
  <dc:title>PowerPoint bemutató</dc:title>
</cp:coreProperties>
</file>