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BA9-66C8-412D-BD7E-468D5E01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D8F-5AEE-47A4-BBC4-5B7491A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452-7C67-4D6C-B90A-7EC6BB08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314-9261-4468-999C-66871A0B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0DB-6323-4A10-BF10-4C695390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3E8-3BC7-4815-BB9C-84E78AE7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F4C-AB24-4861-B561-3CA941C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F0D-8D2B-409D-98B6-34004138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D04-58AE-4898-A975-C08BD11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1AC-CC9C-4322-BF20-592C3BD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925-399A-40B1-A0B6-A565EE5E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CC3-4172-4DA5-874B-8194BDF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02B-7B32-4E91-B523-1FCB8BA0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JÁSTERMELÉS SZERVEZÉSE ÉS ÖKONÓMI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enyésztojás-termelés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Árutojás-termelés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-kisüzem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-nagyüz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tásmód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határoz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ó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uhá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armányozás és trágyaeltávolítás mód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lyásol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érőhely kihaszná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szervezés és termeléken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lomány megválasztás és terme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zemelés költsé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étkezésitojás-termelésben alkalmazott tartásmódok néhány jellemzője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2341440"/>
                <a:gridCol w="1771920"/>
                <a:gridCol w="2058840"/>
                <a:gridCol w="2057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pítési sűrűség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b/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 gondozó által kezelt állatok száma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zonylagos beruházási költség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lyal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-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ágyaaknával kombinált mélyal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-5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ácspadló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-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tre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zintek számától függő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-2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-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karmányfogyasztás és élőtömeg összefüggése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5122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toj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armányfogyasztás kg/tojó/é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tömege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 éves tojástermelés mel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 tojás előállításához szükséges takarmány ,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 étkezési tyúktojás termelés főbb ökonómiai jellemző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5097600"/>
        </p:xfrm>
        <a:graphic>
          <a:graphicData uri="http://schemas.openxmlformats.org/drawingml/2006/table">
            <a:tbl>
              <a:tblPr/>
              <a:tblGrid>
                <a:gridCol w="2604960"/>
                <a:gridCol w="885960"/>
                <a:gridCol w="885960"/>
                <a:gridCol w="1226880"/>
                <a:gridCol w="876240"/>
                <a:gridCol w="874800"/>
                <a:gridCol w="874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éni gazdaságok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rsas gazdaságok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érték, Ft/ to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tlaghozam, db/to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költség, Ft/to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bből: tenyészál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különböze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o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armány, Ft/to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tojás : önköltség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esítési ár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gazati eredmény, Ft/to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6:34:37Z</dcterms:created>
  <dc:creator>Dr. Kalmár Sándor</dc:creator>
  <dc:description/>
  <dc:language>en-US</dc:language>
  <cp:lastModifiedBy>Dr. Kalmár Sándor</cp:lastModifiedBy>
  <dcterms:modified xsi:type="dcterms:W3CDTF">2007-03-23T16:44:15Z</dcterms:modified>
  <cp:revision>5</cp:revision>
  <dc:subject/>
  <dc:title>TOJÁSTERMELÉS SZERVEZÉSE ÉS ÖKONÓMIÁJA</dc:title>
</cp:coreProperties>
</file>