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GELLER.WAV" ContentType="audio/x-wav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2D6-3D30-436C-821C-AAEC60BF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04B-C9F7-426C-A4D5-51DE9A62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CCF-6D7A-4C87-A37E-F5C5C646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494-1FB3-424D-8352-57F31D0D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7AB2A-4928-4CAD-95E8-8EAD8B2C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D1A18-6769-40DC-AD2F-B404F502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9A5C0-3053-4131-8C3C-09967339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F5B8F-503D-492E-8C31-C4AB4751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1ECE2-8583-441D-B8F1-BC1242FE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7320F-5C03-4E27-A02E-C9297335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64A99-43BE-4CE1-9A3F-8808487C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609-D683-4B7A-89BE-9D2356C9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0F5DB-CC27-44C9-9D82-584CB202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18B4E-E3CC-4A5C-A426-0DC19C50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23277-04DE-4980-8404-F9509EDA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622C0-4CFB-46B9-8520-4D2B898E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DB7A3-E6A0-49CA-B42C-DAFA0749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807-2D8C-4DAF-A11F-C90C892C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F52-5C13-4452-8C32-45931976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77D-E897-4E06-86EB-FA25879C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AC6-24C9-4B06-991F-755050F9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F4D-8523-4AF3-B9B7-C4D4366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3AC-15B4-414F-A627-2F678852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A3E-F7C8-4352-8D6C-B030F16E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E956-07F4-4086-ADF2-23DF628BAE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A29E-872B-403E-AB98-75959CF8111C}" type="slidenum">
              <a:rPr b="0" lang="hu-H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0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audio" Target="../media/GELL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187280" y="260280"/>
            <a:ext cx="640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z energianövények ökonómiája</a:t>
            </a:r>
            <a:endParaRPr b="0" lang="en-US" sz="2400" spc="1" strike="noStrike">
              <a:ln w="9360">
                <a:solidFill>
                  <a:srgbClr val="003399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3141720"/>
            <a:ext cx="5364360" cy="37515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Arial"/>
              </a:rPr>
              <a:t>1. 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Alapfogalmak, indokolt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2. Nemzetközi és hazai jelentősé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3. Lehetséges alapanyagok és eljár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4. A legfontosabb fajok és fajt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ásszárú energia-ültetvények, energiafű, energianá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peciális kukorica-, olajnövény-fajt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5. Vertikális értéke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6. Szabályozórend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1125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r. Bai Atti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gyetemi doc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206064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ttó: „A kőkorszak sem azért ért véget, mert elfogyott a kő,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z olajkorszak sem azért fog véget érni, mert elfogy az olaj.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amani sejk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bioenergetikai vertikum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-557280" y="-560520"/>
            <a:ext cx="10149120" cy="9065160"/>
            <a:chOff x="-557280" y="-560520"/>
            <a:chExt cx="10149120" cy="9065160"/>
          </a:xfrm>
        </p:grpSpPr>
        <p:sp>
          <p:nvSpPr>
            <p:cNvPr id="149" name="_s24581"/>
            <p:cNvSpPr/>
            <p:nvPr/>
          </p:nvSpPr>
          <p:spPr>
            <a:xfrm>
              <a:off x="554760" y="1128240"/>
              <a:ext cx="7957080" cy="53330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24582"/>
            <p:cNvSpPr/>
            <p:nvPr/>
          </p:nvSpPr>
          <p:spPr>
            <a:xfrm rot="4320000">
              <a:off x="1562040" y="212400"/>
              <a:ext cx="5333760" cy="795708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24583"/>
            <p:cNvSpPr/>
            <p:nvPr/>
          </p:nvSpPr>
          <p:spPr>
            <a:xfrm rot="8640000">
              <a:off x="826920" y="1341360"/>
              <a:ext cx="7957080" cy="533376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24584"/>
            <p:cNvSpPr/>
            <p:nvPr/>
          </p:nvSpPr>
          <p:spPr>
            <a:xfrm rot="12960000">
              <a:off x="250200" y="1268280"/>
              <a:ext cx="7957080" cy="533376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24585"/>
            <p:cNvSpPr/>
            <p:nvPr/>
          </p:nvSpPr>
          <p:spPr>
            <a:xfrm rot="17280000">
              <a:off x="2138760" y="212040"/>
              <a:ext cx="5333760" cy="795708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24586"/>
            <p:cNvSpPr/>
            <p:nvPr/>
          </p:nvSpPr>
          <p:spPr>
            <a:xfrm>
              <a:off x="5760720" y="1261440"/>
              <a:ext cx="1756080" cy="11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Állam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24587"/>
            <p:cNvSpPr/>
            <p:nvPr/>
          </p:nvSpPr>
          <p:spPr>
            <a:xfrm>
              <a:off x="6657840" y="3934440"/>
              <a:ext cx="175608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9320" rIns="139320" tIns="69480" bIns="69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ffffff"/>
                  </a:solidFill>
                  <a:uFillTx/>
                  <a:latin typeface="Arial"/>
                </a:rPr>
                <a:t>Mezőgazdasági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ffffff"/>
                  </a:solidFill>
                  <a:uFillTx/>
                  <a:latin typeface="Arial"/>
                </a:rPr>
                <a:t>termelő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24588"/>
            <p:cNvSpPr/>
            <p:nvPr/>
          </p:nvSpPr>
          <p:spPr>
            <a:xfrm>
              <a:off x="3707640" y="5680440"/>
              <a:ext cx="1756080" cy="11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9320" rIns="139320" tIns="69480" bIns="69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Feldolgozó-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üzem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24589"/>
            <p:cNvSpPr/>
            <p:nvPr/>
          </p:nvSpPr>
          <p:spPr>
            <a:xfrm>
              <a:off x="540360" y="3934440"/>
              <a:ext cx="1756080" cy="11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9320" rIns="139320" tIns="69480" bIns="69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MOL, hőerőmű,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távfűtőmű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24590"/>
            <p:cNvSpPr/>
            <p:nvPr/>
          </p:nvSpPr>
          <p:spPr>
            <a:xfrm>
              <a:off x="1550160" y="1263600"/>
              <a:ext cx="1756080" cy="11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9320" rIns="139320" tIns="69480" bIns="69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Fogyasztó,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EXPORT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771640" y="3429000"/>
            <a:ext cx="33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Bioetanol-előállít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gazdaságossá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A biodízel hazai keresletére ható tényezők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39640" y="3860640"/>
          <a:ext cx="1368360" cy="15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60640"/>
                    <a:ext cx="136836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24360" y="3933720"/>
          <a:ext cx="792000" cy="13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933720"/>
                    <a:ext cx="7920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300720" y="1557360"/>
            <a:ext cx="2509920" cy="777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6443640" y="3924360"/>
            <a:ext cx="2449440" cy="1460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635280" y="1700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240" y="551664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150-200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7200" y="5950080"/>
            <a:ext cx="16545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140-160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79960" y="24922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440-580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440" y="58770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2,9 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10520" y="54435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250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720" y="5372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2-2,2 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1341360"/>
          <a:ext cx="1728720" cy="129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1341360"/>
                    <a:ext cx="172872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71240" y="2708280"/>
            <a:ext cx="21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 ezer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0-300 ezer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bioetanol hazai kereslet-kínálati viszonyai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3487680"/>
          <a:ext cx="1270080" cy="14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87680"/>
                    <a:ext cx="127008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1346400" cy="1366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300720" y="1557360"/>
            <a:ext cx="2509920" cy="777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6227640" y="3795840"/>
            <a:ext cx="266544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3635280" y="3846600"/>
          <a:ext cx="1079640" cy="1554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5280" y="3846600"/>
                    <a:ext cx="107964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635280" y="1700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9080" y="2492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1-1,2 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0520" y="50115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47-75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1800" y="54435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70-90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79960" y="24922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250-300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77440" y="58770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2,9 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240" y="544356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700-800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4720" y="5372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2-2,2 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35640" y="594828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1,4-1,6 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ianövények kiemelt támogatás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Energetikai top-up (2007, előzete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gyományos sz.földi kultúrák: 45 €/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éb lágyszárúak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0 eFt/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ásszárúak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45 €/ha + 40-50 % telepítési támoga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686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43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 téma jelentőség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1484280"/>
          <a:ext cx="4030560" cy="49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403056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32000" y="1916280"/>
            <a:ext cx="375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árosanyag-kibocsá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ulladékgazdálko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U- és egyéb (WTO, Kyoto) előír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mport-helyettesí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elyi energia-ellá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látásbizton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Vidékfejlesz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koldalú termékská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diverzifikáci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garantált értékesít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7507080" y="61135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63416"/>
                </a:solidFill>
                <a:latin typeface="Arial"/>
              </a:rPr>
              <a:t>Shell,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3e3ff"/>
                </a:solidFill>
                <a:latin typeface="Arial"/>
              </a:rPr>
              <a:t>Megújuló energiaforrás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1400040"/>
          <a:ext cx="792504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00040"/>
                    <a:ext cx="792504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97800" y="6491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vensson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ELL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8930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biomassza forrásai és hasznosítási módjai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Növénytermesz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őtermé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élelmiszer, energetika, ip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lléktermé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lajerő-gazdálk., energetika,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lattenyésztés, ipar, (élelm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Állattenyész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őtermé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élelmi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lléktermé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lajerő-gazdálk., energetik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636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övénytermesz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Élelmiszerip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őtermé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élelmi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lléktermé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lajerő-gazdálk., energe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Erdőgazdaság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par, energe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Kommunális szféra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lajerő-gazdálk., energe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lapanyagok és hasznosítási módok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125360"/>
          <a:ext cx="8229600" cy="4983480"/>
        </p:xfrm>
        <a:graphic>
          <a:graphicData uri="http://schemas.openxmlformats.org/drawingml/2006/table">
            <a:tbl>
              <a:tblPr/>
              <a:tblGrid>
                <a:gridCol w="3598920"/>
                <a:gridCol w="463068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Hasznosítás mód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lapany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özvetlen eltüzelé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acsony nedvességtartalmú és magas fűtőértékű növényi anyag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e3e3ff"/>
                          </a:solidFill>
                          <a:latin typeface="Times New Roman"/>
                        </a:rPr>
                        <a:t>Biobrikett, tűzipel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3e3ff"/>
                          </a:solidFill>
                          <a:latin typeface="Times New Roman"/>
                        </a:rPr>
                        <a:t>az előzővel megegyező és felaprított növényi anyag</a:t>
                      </a:r>
                      <a:r>
                        <a:rPr b="0" lang="en-US" sz="2800" spc="-1" strike="noStrike">
                          <a:solidFill>
                            <a:srgbClr val="e3e3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ogá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ármilyen szervesanyag, megfelelő arányban összekeverve</a:t>
                      </a: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e3e3ff"/>
                          </a:solidFill>
                          <a:latin typeface="Times New Roman"/>
                        </a:rPr>
                        <a:t>Biodíz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3e3ff"/>
                          </a:solidFill>
                          <a:latin typeface="Times New Roman"/>
                        </a:rPr>
                        <a:t>olajtartalmú magvak, illetve hulladékok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oetan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zénhidrát- (cukor, keményítő, cellulóz) tartalmú növényi termékek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ergetikai faültetvény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elepítés nagy tőszámmal történik (8-15 ezer db/h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lettartama megegyezik a bio-erőmű (fűtőmű) élettartam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gás 3-4 éves korban jellemz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peciális termőhelyekre (pl. árterek) is vannak megfelelő fajo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rmőhely-specifikus technológia szükséges az alkalmazható fajok száma mia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takarítás teljesen gépesíthető, de elhalasztása nem okozza a termés elvesztés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elújítás sarjaztatással is lehetsé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gás a teljes élettartam során 5- 6 alkalom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lettartam mintegy 20 é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zánkban a nedvesebb élőhelyeken a fűz, a lazább talajokon az akác, a többi élőhelyen pedig a nyár számára megfelelőek a termesztés feltéte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50-250 GJ/ha/év energiahozam is elérhető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ergiafű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ermőhelyhez jól illeszkedő, szárazság-, só- és fagytűrése kivál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váló biomelioratív növény (erózió, defláció elleni védel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enden szárad, bálázva tárol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iogáztermeléshez nemcsak magas biogázhozama, hanem rövid erjedési ideje miatt is kivál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vente többször (kétszer-háromszor) kell kaszál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7-10 (-15) évenként újra kell telepíteni tavassz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lepítést követő évtől teljes termést 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nergiakoncentráció a betakarításkor kic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mutartalom viszonylag magas, sok K, Cl,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betakarítások a mezőgazdasági tevékenységekkel egyidőben foly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rmesztése, betakarítása nem igényel drága célgépeket, a gabonafélék illetve a szálastakarmánynövények géprendszerével megoldható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oxikológiailag nem érzékeny a hamutrágyában található nehézfémek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ámos felhasználási területen helyettesítheti a fát, mint ipari alapanyagot /papír-, rost-, építőipar/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ajlagos energiahozam 130-180 GJ/ha/é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ergianád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748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4-es növény (jobb fényhasznosítás és nagyobb hoza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alántázással telepíthető (jelentős munkaigény, 10-20 ezer db/ha, májusb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agyar hibridek szárazság- és hidegtűrése j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zőgazdasági holtszezonban (novembertől februárig) történő betakarítás szecskázógéppel, vagy kombájnnal (már meglévő gépek jobb kihasználá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nyag összetétele, így tüzeléstechnikai sajátosságai is hasonlóak a fáh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izes, N-ban n dús talajt kedveli (pl. sertéstelep), PK-igénye is jelentős (80-90 kg/h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vente egyszer kell vágni, a betakarítás kedvezőtlen időjárási feltételek mellett is foly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mutartalom viszonylag magas, sok 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rizómák maximális hajtásfejlesztõ képességüket a 3-4. évben érik el, de az ültetvény legalább 20 évig termőképes mar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3. évig csak költségek jelentkez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20-250 GJ/ha/év energiahoz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1:36:11Z</dcterms:created>
  <dc:creator>Dr. Bai Attila </dc:creator>
  <dc:description/>
  <dc:language>en-US</dc:language>
  <cp:lastModifiedBy>Dr. Bai Attila </cp:lastModifiedBy>
  <dcterms:modified xsi:type="dcterms:W3CDTF">2007-04-02T12:55:30Z</dcterms:modified>
  <cp:revision>3</cp:revision>
  <dc:subject/>
  <dc:title>1. dia</dc:title>
</cp:coreProperties>
</file>