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2D-CB59-4D12-83B9-F672B8E5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857-DFD4-4799-A309-2242FFF5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F74-B554-4376-909A-2BE8FF20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7C5-A788-4FF9-9851-808F6766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7DF-3C97-42BB-8EE8-CF541455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F03-D717-49F6-A53D-69CAAF3B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DF68-ABB8-4D0A-A535-C753092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FAB-518E-4A0E-8CE0-AF9F9FC4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AB1-DE4C-48E8-BB4A-1A26D02C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7E82-4D31-4F6E-92BD-2C6CF26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E9B-DA30-4DC2-B5DD-FD6C5FC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9E3-EB92-4D2E-9474-E62B57A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390-8648-41DE-9BF8-248E238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9787-0B8E-4319-9AC4-51945AF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58D8-2E4A-4E05-9356-069D221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04BE-8527-4E00-8D7B-DC912E2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5E09-FC77-4B68-945B-21A34E09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BF4-5044-42AE-9B6E-7B72ADCB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62A-15AA-4CFA-989D-88FB8D6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F6-52B6-4AD6-97F1-D44514FD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B4-2A64-46F0-BAD9-517524AA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649-308C-4E29-BBD0-E25ED2D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0CC-99BB-4002-930B-B151D7E3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3B8-C539-438E-A41A-4D8E83A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47B-177B-4CEA-8E54-9CC277BDE4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C7D-07D2-442E-B55B-1444E7B710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314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5435640" cy="3716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A friss zöldség és gyümölcs piacszabályozás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97480" y="3141720"/>
            <a:ext cx="3746520" cy="371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84720" y="5589720"/>
            <a:ext cx="305928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áti Fere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yetemi tanársegé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6491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. február 28.</a:t>
            </a:r>
            <a:r>
              <a:rPr b="0" lang="en-US" sz="1800" spc="-1" strike="noStrike">
                <a:solidFill>
                  <a:srgbClr val="00cc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Alapítá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42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Általános nehézség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ekély szövetkezési hajlandósá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üttműködésre, kompromisszumra való képtelensé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Állami támogatásokhoz való hozzájutás, mint priorit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ináns tagok érdekérvényesítési törekvés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gi for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zövetkez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ugalmas működés, de: „1 tag 1 szavazat” el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: magas alapítói tő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f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: vagyonarányos („termelés-arányos”) szavazati jog, de rugalmatlan működé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azán egyik sem megfelelő, de… talán a szövetkezet a j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éretbeli problémá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ális méret 100-200 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ális méret: nem lehet meghatározni (határtalan!!!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smerés formá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eddigi támogatási rendszer az előzetes elismerésnek kedvezet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5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lismerési feltétele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get tenni a következő előírásoknak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Elismerés kategóriái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z. és gy.; gy.; z.; feldolgozásra szánt termékek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itrusfélék, héjas gyümölcsűek, gom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szervezet céljai, feladat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gok termékének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özös áruvá készíté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tárol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gok termékeinek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közös forgalmaz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,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ínálat koncentrálá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kereslet és kínálat összehangolásának elősegíté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Termelési költségek csökkentés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, termelői árak stabilizálá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rnyezetkímélő termelési eljárások terjeszté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tagok kötelezettsé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rvezet termelési, értékesítési, környezetvédelmi szabályainak betartá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teljes termésmennyiségnek a TÉSZ-en keresztüli értékesítés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néhány kivételes esettől eltekintv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űködési költség hozzájárulás fizetése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(működési alap egyik rész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sztikai adatok szolgáltatá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gyanazon termékre tagsági viszony kizárólag egy TÉSZ-b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inimális tagsági idő: 1 é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lismerési feltételek (folytatá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zervezet kötelezettsé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mokratikus szervezeti felép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abályzatok (tagdíjfizetés, új tagok felvétele, tag kilépése, stb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ankciók kialakítása szabályok be nem tartása eseté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tartás vezetése a tagok termeléséről és az áru értékesítésérő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venkénti jelentéstételi kötelezettség az FVM-nek január 31-i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imális mér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írásának célja: versenyképes méret biztosít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Meghat. alapja: 1.) min. taglétszám, 2.) min. éves nettó árbevét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rszágcsoportonként változ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Magyarországon: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 előzetes elismeréshez 8 tag és 125 millió F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  <a:ea typeface="Arial"/>
              </a:rPr>
              <a:t>végleges elismeréshez 15 tag és 250 millió F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lismerési kérelem benyúj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zetes elismerésnél elismerési tervvel, végleges elismerésnél működési programmal (üzleti terv) kell kiegészíte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ismerési terv max. 5 évre, a működési program 3-5 évre szó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ismerési terv a végleges elismerés feltételeinek való megfelelés elérési módját és eszközeit tartalmaz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űködési program fejlesztési/üzleti tervnek felel me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ÉSZ-ek működési támogatás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ét fontos fogal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űködési ala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agok általi befizetésekből és a közösségi támogatásokból létrehozott pénzalap, melyet a működési költségek fedezésére, beruházásokra és részben az árukivonás támogatására lehet felhasznál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űködési 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A végleges elismeréstől számított legalább 3, legfeljebb 5 éves időtartamra vonatkozó fejlesztési programok összessége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nek megléte elő-feltétele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özösségi támogatások elnyerésének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ÉSZ-ek működési támogatás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églegesen elismert TÉSZ támogatá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99"/>
                </a:solidFill>
                <a:latin typeface="Arial"/>
                <a:ea typeface="Arial"/>
              </a:rPr>
              <a:t>Közösségi pü-i hozzájárulás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 a termelők által a működési alapba befizetett összeg, de legfeljebb az árbevétel 4,1%-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99"/>
                </a:solidFill>
                <a:latin typeface="Arial"/>
                <a:ea typeface="Arial"/>
              </a:rPr>
              <a:t>Nemzeti pü-i hozzájárulás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 : a termelői befizetés fele, de legfeljebb az árbevétel 2,05%-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  <a:ea typeface="Arial"/>
              </a:rPr>
              <a:t>Előzetesen elismert TÉSZ 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(max. 5 éves időtartamr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1 millió Euro árbevételig 5 éven át az árbevétel</a:t>
            </a:r>
            <a:br>
              <a:rPr sz="2600"/>
            </a:b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 5-5-4-3-2%-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  <a:ea typeface="Arial"/>
              </a:rPr>
              <a:t>1 millió Euro fölötti részre az árbevétel 2,5-2,5-2,0-1,5-1,0%-a, de a támogatás felső határa: 100.000, 100.000, 80.000, 60.000, 50.000 Eur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Működé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üttműködés fő területe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Közös értékesítés (nagy tételben történő értékesítés!!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Vevők megszerzése, új piacok feltár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zös értékesítés megszerve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aját feldolgozás megterem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Közös post harv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öltségcsökkentés és az értékesítés könnyebb koordinálásának alapj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egységes, minőségi árualap megteremtésének  feltéte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nyagok, eszközök közös beszerzése (nagy tételben!!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 CMO-n belüli (!!!) támogatásokhoz való hozzájut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Termelés megszerve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zös technológiai ajánlás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akmai konzultációk, közös képzés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épvásárlás, gépi szolgáltatási háttér fejlesz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eruházások koordinálása (ültetvénytelepítés, fajtaszerkezet-átalakítá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Jövőbeni kilátások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ehetőség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ermelési költségek csökkenté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Értékesítési költségek csökkenté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ettó jövedelem növekedé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Kínálat koncentrálása, alkupozíció javulá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Érdekérvényesítés javulá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ÉSZ-ek szövetségei (másodlagos koncentráció!!!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roblémá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is forgalmú és erőtlen TÉSZ-ek (egyetlen jól működő TÉSZ van Magyarországon; legfőbb cél: támogatáshoz jutá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Áruházláncok magas igénye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mennyiség, minőség, egyöntetűség, pontosság, teljes termékskála beszállítás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mportkénysz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Árualap megteremtésének nehézsége (tagok saját piacainak feladás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miatt: </a:t>
            </a:r>
            <a:r>
              <a:rPr b="0" lang="en-US" sz="2200" spc="-1" strike="noStrike">
                <a:solidFill>
                  <a:srgbClr val="ff3300"/>
                </a:solidFill>
                <a:latin typeface="Tahoma"/>
              </a:rPr>
              <a:t>piacok megszerzésének nehézsé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frastruktúra hiánya (post harvest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senyhelyzet fokozódá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lvásárlói érdekeltség (tehát nem alulról szerveződi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edzsment és tagság eltérő céljai, érdek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104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3. Intervenció, árukivoná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ja: a túltermelés hatásainak mérsékl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Nem azonos egyéb CMO-k intervenciós szabályozásáv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venciós felvásárlási támogatá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dvezményezettje a termelő, de csak a TÉSZ-en keresztül jut hozz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6 termékre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termékegységre vetített támogatás, a költségeket sem fedez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ÉSZ forgalmának  legfeljebb10%-ára ad az EU kivonási támogatást (alma és körte esetében 8,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ivont mennyiségről és a kivonás időpontjáról a  TÉSZ dö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ÉSZ a működési alapból más termékekre is adhat, közösségi intervenciós támogatás kiegészítésére a 16 termék esetében viszont csak korlátozott mértékb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re a célra a működési alap max 30%-a szolgálha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10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4. Szakmaközi szervezete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nkább Hollandiára és Franciaországra jellemző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gjai: termelők, kereskedők, feldolgozó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szövetsége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élja: a termelés, feldolgozás, kereskedelem é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fogyasztás összhangjának megteremté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szírozás: tagdíjakból, közösségi támogatá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m kap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aci folyamatokba nem avatkozhatnak be, a szabad piaci versenyt nem befolyásolhatjá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99"/>
                </a:solidFill>
                <a:latin typeface="Arial"/>
              </a:rPr>
              <a:t>5. Kereskedelem az EU-n kívüli országokk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5327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látozott exporttámogatás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edvezményezett a kereskedő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ős importvéde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mok (5-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épési árrends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27480" y="2060640"/>
            <a:ext cx="4016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 szabályozás főbb jellemző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Laza piacszabályozású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ágazat, termelést mindenki szabadon folytathat, kvóták nincsen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zöldség-gyümölcs közös piaci szervezet 1972-óta létezik, de 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1997-től teljesen új szabályozás van hatályba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Friss és feldolgozott zöldség-gyümö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endelet 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den élelmezési célból termesztett zöldségre és gyümölcsre vonatkozi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. Kivételt képez ez alól (a hazánkban termesztett növények közül) a burgonya és a csemegekuko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abályozás 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ét alappillér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lang="hu-HU" sz="2400" spc="-1" strike="noStrike" u="sng">
                <a:solidFill>
                  <a:srgbClr val="ffff00"/>
                </a:solidFill>
                <a:uFillTx/>
                <a:latin typeface="Arial"/>
              </a:rPr>
              <a:t>minőségszabályozás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s a Termelői Értékesítő Szervezetek (</a:t>
            </a:r>
            <a:r>
              <a:rPr b="0" lang="hu-HU" sz="2400" spc="-1" strike="noStrike" u="sng">
                <a:solidFill>
                  <a:srgbClr val="ffff00"/>
                </a:solidFill>
                <a:uFillTx/>
                <a:latin typeface="Arial"/>
              </a:rPr>
              <a:t>TÉS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99"/>
                </a:solidFill>
                <a:latin typeface="Arial"/>
              </a:rPr>
              <a:t>6. CMO-n belüli támogatások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Jellemzői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1. a zöldség-gyümölcs CMO rendeletei szabályozzá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2. közvetlenül csak a TÉSZ-ek igényelhet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Típusai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Egyes feldolgozóipari alapanyagok támoga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Kedvezményezettje a termel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Egyes feldolgozóipari alapanyagok (paradicsom, őszibarack, vilmos körte) termelésének támogatására szolgá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Mérték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Euro/tonna)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Par.: 34,5;  őszi: 47,7 ;  Körte: 161,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Nemzeti küszöb (tonna): </a:t>
            </a:r>
            <a:r>
              <a:rPr b="0" lang="hu-HU" sz="2300" spc="-1" strike="noStrike">
                <a:solidFill>
                  <a:srgbClr val="ffffff"/>
                </a:solidFill>
                <a:latin typeface="Arial"/>
              </a:rPr>
              <a:t>Par.: 130 790, őszi: 1 616, körte: 1 031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Intervenciós támogatás: kedvezményezettje a termel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TÉSZ működési támogatás: kedvezményezettje a szervez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Export-visszatérítés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Tahoma"/>
              </a:rPr>
              <a:t>Egyéb ágazatspecifikus támogatások</a:t>
            </a:r>
            <a:br>
              <a:rPr sz="3200"/>
            </a:br>
            <a:r>
              <a:rPr b="1" lang="hu-HU" sz="3200" spc="-1" strike="noStrike">
                <a:solidFill>
                  <a:srgbClr val="ffff99"/>
                </a:solidFill>
                <a:latin typeface="Tahoma"/>
              </a:rPr>
              <a:t>(</a:t>
            </a:r>
            <a:r>
              <a:rPr b="1" lang="hu-HU" sz="2400" spc="-1" strike="noStrike">
                <a:solidFill>
                  <a:srgbClr val="ffff99"/>
                </a:solidFill>
                <a:latin typeface="Tahoma"/>
              </a:rPr>
              <a:t>de CMO-n kívüli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41300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1. Ültetvénykivágási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últermelés mérséklésének legradikálisabb módja, ezért ritkán alkalmazzák. Utoljára 1997-98-ban volt rá pél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. Ültetvénytelepítési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4-200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mára, körtére, őszibarackra: AVOP támoga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öbbi gyümölcsfajra: nemzeti finanszírozású támogatás vagy AV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7-201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zonyta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KÖSZÖNÖM  A MEGTISZTELŐ</a:t>
            </a: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 Black"/>
              </a:rPr>
              <a:t>FIGYELME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7986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 piacszabályozás fő területei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Minőségi előírások (szabványo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Termelői értékesítő szervezetek (TÉSZ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venc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akmaközi szervezet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skedelem az EU-n kívüli országokk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mogatás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1. Minőségi előíráso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nőség =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zabványok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élelmiszer-biztonsá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 nyomon követhetősé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elentősé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40 zöldség- és gyümölcsfajra vonatkozna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és a fogyasztó védel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inőség szabályozásán keresztül hatni a piacra kerülő mennyiségre 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inőségi szabványok felépíté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1. Minimumkövetelmény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inden fajra általánosan vonatkozó alapkövetelmények. Ennek értelmében az áru legyen: ép, egészséges, tiszta, friss, idegen szagtól és íztől, betegségek nyomaitól, állati kártevőktől és azok kártételétől mentes, stb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. Méretelőírás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A termék jellegétől függően annak átmérőjére, hosszár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ömegére vonatkoznak. A méret szerinti osztályozás cs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zonyos fajok Extra és I. osztályú árujára kötelező, m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etben csak lehetséges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1. Minőségi előírások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(folytatá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3. Minőségi és méreteltérés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 kötelező előírásoknak meg nem felelő áru megengedhető hányadát adják meg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. Csomagolás, jelöl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 csomagolóanyagra, a csomagolás módjára és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öngyölegen kötelező jelleggel feltüntetendő adatokra vonatkozik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azai szabályozás alapja: közvetlenül az EK-rendelet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 Termelői értékesítő szervezetek</a:t>
            </a:r>
            <a:br>
              <a:rPr sz="3200"/>
            </a:b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Bevezetés  - Termelői szerveződés az EU-ban általában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8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melői szervezetek a legtöbb ágazatban létez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melői szervezetekkel kapcsolatos rendeletek megjelenése: 1978, 1991, 19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melői érdekű szervezettség szint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78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→ 6-1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2000 → egyes ágazatokban közel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gi forma: többnyire szövetkez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éb jellemző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ész termékpályát átfogó szövetkezés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yakran multinacionális jelleg (pl.: Arla Foo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b. 1200  TÉS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Bevezetés - termelői szerveződés hazánkban általában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9-től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TÉS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-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(jelenleg mintegy 60 TÉSZ van, ebből 7 véglegesen elisme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002-től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termelői csopor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k,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ÉS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-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zöldség-gyümölcs ágazat jellemző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Kereskedelemben és feldolgozásban koncentrálódá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friss zöldség-gyümölcs forgalmazásában előtérbe kerülnek az áruházlánco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Termelői oldalon elaprózódás, szervezetlensé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a termés 80-90%-a egyéni gazdaságokból származi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3300"/>
                </a:solidFill>
                <a:latin typeface="Arial"/>
              </a:rPr>
              <a:t>Termelők rossz alkupozíciója (kiszolgáltatottság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00"/>
                </a:solidFill>
                <a:latin typeface="Arial"/>
              </a:rPr>
              <a:t>Szükségszerű 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termel</a:t>
            </a:r>
            <a:r>
              <a:rPr b="1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ő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k (kínálati oldal) 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hu-HU" sz="2600" spc="-1" strike="noStrike">
                <a:solidFill>
                  <a:srgbClr val="ffff00"/>
                </a:solidFill>
                <a:latin typeface="Arial"/>
                <a:ea typeface="Arial"/>
              </a:rPr>
              <a:t>koncentrálódás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 TÉSZ-ek kialakulásának okai és következménye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upermarketek térhódítása a zöldség-gyümölcs eladásb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let koncentrálód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Követelmény a termelővel szemben: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nagy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  <a:ea typeface="Arial"/>
              </a:rPr>
              <a:t>mennyiség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ű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, jó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  <a:ea typeface="Arial"/>
              </a:rPr>
              <a:t>minőség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ű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 és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  <a:ea typeface="Arial"/>
              </a:rPr>
              <a:t>egyöntetű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 áru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  <a:ea typeface="Arial"/>
              </a:rPr>
              <a:t>ponto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száll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Fenti okok miatt szükséges: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  <a:ea typeface="Arial"/>
              </a:rPr>
              <a:t>a kínálati oldal (termelők) koncentrálód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rtékesítő szervezetek kialakul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övetkezmény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rmelők (ár)alkupozíciójának javul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ltségcsökkentés (közös beszerzés,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csomagolás, válogatás, értékesítés ált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  <a:ea typeface="Arial"/>
              </a:rPr>
              <a:t>Szövetkezés „kényszerítése”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a termelők csak TÉSZ-tagként juthatnak hozzá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egyes támogatásokho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 TÉSZ-ek főbb jellemző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átusz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őzetesen elismert va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glegesen elisme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i form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övetkezet, Rt., Kf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ő feladatai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közö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 harv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álogatá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omagolás, tárolá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közö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rtékesí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közös beszerzés, termelésszervez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ret: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éhány ezer tonnás értékesítéstől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több százezer tonnási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erveződé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yakran földrajzi és termék szerin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űködés jellege: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-profit jelle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sak a tagokkal szemben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8:17Z</dcterms:created>
  <dc:creator>Apáti Ferenc</dc:creator>
  <dc:description/>
  <dc:language>en-US</dc:language>
  <cp:lastModifiedBy>Apáti Ferenc</cp:lastModifiedBy>
  <dcterms:modified xsi:type="dcterms:W3CDTF">2007-11-06T11:00:00Z</dcterms:modified>
  <cp:revision>69</cp:revision>
  <dc:subject/>
  <dc:title>1. dia</dc:title>
</cp:coreProperties>
</file>