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921-F36C-4AC2-A41F-192BBC55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1F0-E30E-4272-8671-42083586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8FD-19DF-44AA-B761-32C384ED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9E6-6F8F-4551-BAAD-0124FAF1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DE5-C810-4A12-8B02-DE6694A5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1F9-8B4F-4185-A7B8-6B34C156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A35-0AC2-49F8-ADB0-3398E6AA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1A9-1CBA-4C9E-AAEE-452BCF97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F10-ACA6-45B6-95CC-15678C8F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BE0-C231-4596-8982-C9556D19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9EA-2237-4D90-A5F2-3C9D234D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716-E9C0-48EF-AA56-BEAAAE2D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01FA-BCD7-40D9-A07E-6A7C606B4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241200"/>
            <a:ext cx="8569080" cy="642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A GYEPGAZDÁLKODÁS ÉS GYEPHASZNOSÍTÁS ÖKONÓMIAI KÉRDÉSE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000" y="3860280"/>
            <a:ext cx="7848360" cy="23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3399"/>
                </a:solidFill>
                <a:latin typeface="Arial"/>
              </a:rPr>
              <a:t>Dr. Nábrádi Andrá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etemi tan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breceni Egyetem ATC-AV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VÁLLALATGAZDASÁGTANI JELENTŐSÉG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700280"/>
            <a:ext cx="8280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hetőséget nyújt az olcsó, jó minőségű és könnyen tartósítható tömegtakarmány megtermelésé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ökkenti a termelés kockázatát, a vállalkozás kiszolgáltatottság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ökkenthető a takarmánytermesztésre használt szántóterü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yi erőforrást használ 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5241960"/>
            <a:ext cx="828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18252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Folyamatosan felmerülő költségek – művelési kötelezett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18252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Bizonytalan termékértékes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18252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zűk körű az alternatív hasznosítható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9558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érődző állatállománnyal rendelkező vállalkozások esetéb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508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érődző állatállománnyal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nem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rendelkező vállalkozások esetéb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8000"/>
                </a:solidFill>
                <a:latin typeface="Arial"/>
              </a:rPr>
              <a:t>A gyephasznosítás legelterjedtebb mód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557360"/>
            <a:ext cx="806472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 u="sng">
                <a:solidFill>
                  <a:srgbClr val="006600"/>
                </a:solidFill>
                <a:uFillTx/>
                <a:latin typeface="Arial"/>
              </a:rPr>
              <a:t>Idősza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április 24. – szeptember 2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ameddig az időjárás engedi (racka - 20 cm hó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AKG – tilos télen legeltet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alternatív legelők (tarl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 u="sng">
                <a:solidFill>
                  <a:srgbClr val="006600"/>
                </a:solidFill>
                <a:uFillTx/>
                <a:latin typeface="Arial"/>
              </a:rPr>
              <a:t>Egy legelőszakaszon eltöltött időszak:</a:t>
            </a: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A fűhozam és az állat igénye határozza meg (3-10 n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AKG max. 9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 u="sng">
                <a:solidFill>
                  <a:srgbClr val="006600"/>
                </a:solidFill>
                <a:uFillTx/>
                <a:latin typeface="Arial"/>
              </a:rPr>
              <a:t>Legeltetési mód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Nomád legelt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Irányított legelt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hu-HU" sz="1600" spc="-1" strike="noStrike" u="sng">
                <a:solidFill>
                  <a:srgbClr val="006600"/>
                </a:solidFill>
                <a:uFillTx/>
                <a:latin typeface="Arial"/>
              </a:rPr>
              <a:t>Szakaszos legelt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Adagolt (porciós v. sávos) legelt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61280" y="10000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Legelte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58920" y="0"/>
            <a:ext cx="70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A KÜLÖNBÖZŐ HASZNOSÍTÁSI MÓDOK ELŐNYEI, HÁTRÁNYAI 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836640"/>
            <a:ext cx="70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egelte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197000"/>
            <a:ext cx="7848720" cy="53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lőnyö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yephasznosítás legolcsóbb mód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m igényel jelentős beruház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állatok számára az egyik legkedvezőbb tartásmód (állategészségügy, szaporodásbiológia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rnyezetkímélő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Hátrányo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yes régiókban jelentős költség lehet a „vagyonvédel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órványgyepek esetében nehézkes megközelíthető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iegészítő takarmányok körülményesebb adago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ervezési nehézségek (pl. éjszakai legeltetés, fejé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egeltetés jól képzett megbízható pásztorokat kí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„pásztor életforma” nem vonzza a fiatalabb generáció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42920" y="23760"/>
            <a:ext cx="70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A KÜLÖNBÖZŐ HASZNOSÍTÁSI MÓDOK ELŐNYEI, HÁTRÁNYAI I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860400"/>
            <a:ext cx="70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etakar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1436760"/>
            <a:ext cx="7093080" cy="54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0000"/>
                </a:solidFill>
                <a:uFillTx/>
                <a:latin typeface="Arial"/>
              </a:rPr>
              <a:t>Előnyö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eljes mértékben gépesíthető, nem igényel jelentős munkaerő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termés tartósítható és egész évben etethet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állattartás helyétől távol eső, nem legeltethető területek termése is hasznosíth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333399"/>
                </a:solidFill>
                <a:uFillTx/>
                <a:latin typeface="Arial"/>
              </a:rPr>
              <a:t>Hátrányo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elenős a beruházásigénye (gépek, tárolóté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szénakészítés időjárási kockázata, esetleges veszteség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szenázs-, illetve szilázskészítés szigorú technológiai fegyelmet, szakértelmet kí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em megfelelő tárolótér esetén tetemes tárolási veszteségek (20 - 50%) és minőségrom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Arial"/>
              </a:rPr>
              <a:t>Mennyibe kerül a gyep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00000" y="476280"/>
            <a:ext cx="70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GYEPHASZNOSÍTÁS BEFEKTETETT ESZKÖZIGÉNY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155736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ELTE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492280"/>
            <a:ext cx="709308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Legelő berendezés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Etető és itatóhely (fix vagy mob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Villanykarám, fix kar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Felhajtóut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472428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Befektetett eszközök értéke: 50 000 – 150 000 Ft/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216000"/>
            <a:ext cx="70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 GYEPHASZNOSÍTÁS BEFEKTETETT ESZKÖZ IGÉNYE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123920"/>
            <a:ext cx="70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SZÁ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989000"/>
            <a:ext cx="702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177840">
              <a:spcBef>
                <a:spcPts val="11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űkasza: 350 000- Ft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177840">
              <a:spcBef>
                <a:spcPts val="11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endkezelő: 200 000- Ft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177840">
              <a:spcBef>
                <a:spcPts val="11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Bálázó v. rendfelszedő: 500 000-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177840">
              <a:spcBef>
                <a:spcPts val="11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Bálabontó: 350 000- 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177840">
              <a:spcBef>
                <a:spcPts val="11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zénatároló: 30 000 – 70 000 Ft/m</a:t>
            </a:r>
            <a:r>
              <a:rPr b="1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557360"/>
            <a:ext cx="70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zükséges eszközö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4149720"/>
            <a:ext cx="70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JESZTÉSES TARTÓS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4508640"/>
            <a:ext cx="70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zükséges eszközö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013360"/>
            <a:ext cx="6732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Önjáró v. vontatott silózó: 5 000 000-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somagológép: 4 000 000-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ilótér: 50 000 – 60 000 Ft/m</a:t>
            </a:r>
            <a:r>
              <a:rPr b="1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A telepítés és a hasznosítás költség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2781360"/>
          <a:ext cx="3600720" cy="2592360"/>
        </p:xfrm>
        <a:graphic>
          <a:graphicData uri="http://schemas.openxmlformats.org/drawingml/2006/table">
            <a:tbl>
              <a:tblPr/>
              <a:tblGrid>
                <a:gridCol w="2119320"/>
                <a:gridCol w="1481400"/>
              </a:tblGrid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ógiai művelet megnevezé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öltség (Ft/h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alaj előkészíté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 000 – 3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űtrágya költség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 000 – 12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etőmag költség (40 kg/ha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eté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 000 – 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yomirtás, tisztító kaszálá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 000 – 12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Összese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6 000 – 10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932360" y="2781360"/>
          <a:ext cx="3427560" cy="2519280"/>
        </p:xfrm>
        <a:graphic>
          <a:graphicData uri="http://schemas.openxmlformats.org/drawingml/2006/table">
            <a:tbl>
              <a:tblPr/>
              <a:tblGrid>
                <a:gridCol w="1781280"/>
                <a:gridCol w="1646280"/>
              </a:tblGrid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ógiai művelet megnevezé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öltség (Ft/h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aszálás (1-3 alkalom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 000 – 12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dkezelé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 000 – 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álázás + szállí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 000 – 2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Összese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 000 – 4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4839840" y="2204280"/>
            <a:ext cx="34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 gyep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hasznosítá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(széna) költség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4560" y="22042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 gyep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telepíté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költség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3000" y="616428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Forrás: Lapis M.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Mennyibe kerül a gy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1341360"/>
          <a:ext cx="8785440" cy="4753080"/>
        </p:xfrm>
        <a:graphic>
          <a:graphicData uri="http://schemas.openxmlformats.org/drawingml/2006/table">
            <a:tbl>
              <a:tblPr/>
              <a:tblGrid>
                <a:gridCol w="1297080"/>
                <a:gridCol w="647640"/>
                <a:gridCol w="720720"/>
                <a:gridCol w="792360"/>
                <a:gridCol w="576000"/>
                <a:gridCol w="646200"/>
                <a:gridCol w="503280"/>
                <a:gridCol w="720720"/>
                <a:gridCol w="647640"/>
                <a:gridCol w="577800"/>
                <a:gridCol w="720720"/>
                <a:gridCol w="935280"/>
              </a:tblGrid>
              <a:tr h="54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ználat mód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pítés, felújítás költsé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ntartás  éves  költsé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öldjá-radék, adó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mélyi kt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olgál-tatás (segéd-üz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talá-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-mély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olgál-tat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-csökke-n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é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talá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armány (új telepítés, felújítá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armány , saját (meglévő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armány értékesítés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eri szépérz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cél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ógyhatás, gyűjtés, értékesí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ajvéde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érbead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esí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218160" y="6308640"/>
            <a:ext cx="83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gjegyzés: a + száma költségek nagyságrendjére utal, a +++  nagyon magas, ++ magas, + felmer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Mennyit ér a gyep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lőadásvázl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Bevez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Az ágazat gazdasági jelentő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A gyep földpiaci helyz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Az gyepgazdálkodás vállalatgazdasági jelentősé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Az ágazat költségszerkez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Az ágazat termelési érté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A piacképesség problematiká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A gyepterületekre igényelhető támogat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Gyepgazdálkodásunk jövő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42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Mitől függ, hogy mennyit ér a gye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produktum értéke alapj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llati takarmány-, élett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észet, talaj-terület (felület) véd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ri szépérzet, környe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cél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észségügyi, gyógynöv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ia (brikett, biogáz, direkt eltüzel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őm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terület értéke alapj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helyezkedés, és/vagy Aranyko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ámog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 gyep hasznosítási lehetőségeinek megítélése piacképesség alapj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4360" y="1268280"/>
          <a:ext cx="7848360" cy="5337360"/>
        </p:xfrm>
        <a:graphic>
          <a:graphicData uri="http://schemas.openxmlformats.org/drawingml/2006/table">
            <a:tbl>
              <a:tblPr/>
              <a:tblGrid>
                <a:gridCol w="4714560"/>
                <a:gridCol w="1571760"/>
                <a:gridCol w="15620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rmék/Megnevez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iackép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iacképte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akarmány saját felhasználás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akarmány értékesítés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yógynövény, fűszernöv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alajvéde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rmészet-, környezetvédelem, diverzit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ellemes emberi környe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portcél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nerg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Üzleti hasznossá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8000"/>
                </a:solidFill>
                <a:latin typeface="Arial"/>
              </a:rPr>
              <a:t>A legegyszerűbb a szénaértékesí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240" cy="4525200"/>
        </p:xfrm>
        <a:graphic>
          <a:graphicData uri="http://schemas.openxmlformats.org/drawingml/2006/table">
            <a:tbl>
              <a:tblPr/>
              <a:tblGrid>
                <a:gridCol w="4552920"/>
                <a:gridCol w="1838160"/>
                <a:gridCol w="1838160"/>
              </a:tblGrid>
              <a:tr h="113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nevez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zí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í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énahozam (t/ha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esítési ár (Ft/t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lési érték (eFt/ha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-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- 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iacképessé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piacképes vs. piacképtelen produktumok problémája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piacképes, akkor annyit ér amennyit a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kereslet/kínála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lapján a piac elis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piacképtelen, akkor valamilyen kalkulációval határozható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piacképtelen produktumok érté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égtermékből (produktum) visszaszámo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lyettesítési értékét megállapí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Miből tevődik össze a gyep érté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1120" y="1341360"/>
          <a:ext cx="8751960" cy="4751640"/>
        </p:xfrm>
        <a:graphic>
          <a:graphicData uri="http://schemas.openxmlformats.org/drawingml/2006/table">
            <a:tbl>
              <a:tblPr/>
              <a:tblGrid>
                <a:gridCol w="1146240"/>
                <a:gridCol w="819360"/>
                <a:gridCol w="809640"/>
                <a:gridCol w="682560"/>
                <a:gridCol w="745920"/>
                <a:gridCol w="744840"/>
                <a:gridCol w="747720"/>
                <a:gridCol w="745920"/>
                <a:gridCol w="820800"/>
                <a:gridCol w="744480"/>
                <a:gridCol w="744480"/>
              </a:tblGrid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ználat mód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armány érté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ckép-t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ar-mány érték piacké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ógy-hatás érté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latok élettelje-sítmény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ület érté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vé-dett terület érté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moga-t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épérzet, pozitív externáliá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pro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é-szetvéde-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armány saját felhasználás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armány értékesítés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eri szépérz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cél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ógyhatás, gyűjtés, értékesí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ajvéde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érbead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tőmag termesz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esí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31120" y="6308640"/>
            <a:ext cx="76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jegyzés: a + száma az érték nagyságrendjére utal, a +++  nagyon magas, ++ magas, + figyelembe veend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197000"/>
            <a:ext cx="8713800" cy="4319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akarmány, saját felhaszná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e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ápérték, ásványi anyag, mozgás, nagyobb életteljesítmény, gyógyhatá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lenérté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száló – (az állat igénye alapj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ápérték, ásványi anyag, gyógyhatá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lenérté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akarmány értékesítés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armány eladás (széna)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mennyiért el tudja adni (K/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125360"/>
            <a:ext cx="8589960" cy="316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rmészet- talaj, terület (felület) véde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rózió, defláció elleni védelem, talajtakarás,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yümölcsösök és szőlők sorköz gyep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gvédett terület érté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z lehet botanikai, illetve állatvédelmi is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vagy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öbble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yomirtás és talajművelés kiváltásának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ölt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56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A gyep, mint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akarmány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érté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99640" y="2708280"/>
            <a:ext cx="77058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het, hogy sokkal jobb az a megfogalmazás, hogy a gy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állattartási érté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00"/>
                </a:solidFill>
                <a:latin typeface="Arial"/>
              </a:rPr>
              <a:t>A produktumból visszaszámolv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yep ára (értéke) = TÉ-TK-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ol: TÉ = produktum értéke (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hús, te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K = elszámolható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m a gyep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azdálkodá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érintő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llattenyészté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ölt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= elvárt jövedelem ig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1773360"/>
            <a:ext cx="61214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9800" y="260280"/>
            <a:ext cx="78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 képződő piacképes produktumból visszaszámítva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16000" y="2131920"/>
          <a:ext cx="8677080" cy="3529080"/>
        </p:xfrm>
        <a:graphic>
          <a:graphicData uri="http://schemas.openxmlformats.org/drawingml/2006/table">
            <a:tbl>
              <a:tblPr/>
              <a:tblGrid>
                <a:gridCol w="5057640"/>
                <a:gridCol w="2044800"/>
                <a:gridCol w="1574640"/>
              </a:tblGrid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nevez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zí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í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artható anyalétszám (db/ha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esíthető szaporulat (db/ha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 -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 – 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esítési ár (Ft/kg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esítési tömeg (Ft/db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lési érték (eFt/ha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-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16000" y="216000"/>
            <a:ext cx="831672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KÜLÖNBÖZŐ ÁLLATFAJOKKAL TÖRTÉNŐ HASZNOSÍTÁS ESETÉN ELÉRHETŐ TERMELÉSI ÉRTÉK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JU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360"/>
            <a:ext cx="914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KÜLÖNBÖZŐ ÁLLATFAJOKKAL TÖRTÉNŐ HASZNOSÍTÁS ESETÉN ELÉRHETŐ TERMELÉSI 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HÚSMAR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2133720"/>
          <a:ext cx="8642160" cy="4084560"/>
        </p:xfrm>
        <a:graphic>
          <a:graphicData uri="http://schemas.openxmlformats.org/drawingml/2006/table">
            <a:tbl>
              <a:tblPr/>
              <a:tblGrid>
                <a:gridCol w="4670280"/>
                <a:gridCol w="1984320"/>
                <a:gridCol w="1987560"/>
              </a:tblGrid>
              <a:tr h="52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nevez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zí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í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artható tehénlétszám (db/ha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esíthető szaporulat (db/ha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</a:tr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esítési ár (Ft/kg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esítési tömeg (Ft/db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lési érték (eFt/ha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 - 1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8000"/>
                </a:solidFill>
                <a:latin typeface="Arial"/>
              </a:rPr>
              <a:t>Mi a gyep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6600"/>
                </a:solidFill>
                <a:latin typeface="Arial"/>
              </a:rPr>
              <a:t>A talajt borító, évelő füvek és herefélék alkotta, változatos faji összetételű növénytársul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Hogyan nevezzük ezeket a társulások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6600"/>
                </a:solidFill>
                <a:latin typeface="Arial"/>
              </a:rPr>
              <a:t>Sztyepp, szavanna, pam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A helyettesítési érté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 helyettesítési érték meghatározá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kkor számolható, ha </a:t>
            </a: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más takarmányokat kivált, vagy kiegészí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számítás alapja a helyettesített (kiváltott) takarmányok beltartalma, és az állatok táplálóanyag szükség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P modell segítségével viszonylag egyszerűen meghatározhat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671400"/>
          <a:ext cx="8964720" cy="63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71400"/>
                    <a:ext cx="8964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A gyep takarmányozási érté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-1189080" y="836640"/>
          <a:ext cx="1123308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9080" y="836640"/>
                    <a:ext cx="1123308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74120" y="616572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rás: Szőllősi László számításai alapjá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-828720" y="539640"/>
          <a:ext cx="10585440" cy="566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539640"/>
                    <a:ext cx="1058544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74120" y="616572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rás: Szőllősi László számításai alapjá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Arial"/>
              </a:rPr>
              <a:t>De a gyep nemcsak ennyit ér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 gyep „állattartási” érté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557360"/>
            <a:ext cx="2521080" cy="792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ápérté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1557360"/>
            <a:ext cx="2737080" cy="792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zdag ásványi any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5805360"/>
            <a:ext cx="3671640" cy="792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zgás, természetes körülmény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5805360"/>
            <a:ext cx="3024360" cy="792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ógyha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87640" y="4724280"/>
            <a:ext cx="3456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gyobb állati életteljesítmé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708280"/>
            <a:ext cx="25909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csóbb termé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708280"/>
            <a:ext cx="25909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b ízű (sajátos) termé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2349360"/>
            <a:ext cx="3603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0000" y="2349360"/>
            <a:ext cx="3603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32000" y="5445000"/>
            <a:ext cx="358920" cy="360360"/>
          </a:xfrm>
          <a:prstGeom prst="upArrow">
            <a:avLst>
              <a:gd name="adj1" fmla="val 50000"/>
              <a:gd name="adj2" fmla="val 25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5445000"/>
            <a:ext cx="358920" cy="360360"/>
          </a:xfrm>
          <a:prstGeom prst="upArrow">
            <a:avLst>
              <a:gd name="adj1" fmla="val 50000"/>
              <a:gd name="adj2" fmla="val 25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2852640"/>
            <a:ext cx="1728720" cy="16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plex ha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765000"/>
            <a:ext cx="2520720" cy="792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ővetésű takarmány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ületének kivál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1844640"/>
            <a:ext cx="25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ív jöved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7640" y="155736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59280" y="314172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364000" y="306864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572000" y="4508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2000" y="3573360"/>
            <a:ext cx="217440" cy="2232000"/>
          </a:xfrm>
          <a:prstGeom prst="upArrow">
            <a:avLst>
              <a:gd name="adj1" fmla="val 50000"/>
              <a:gd name="adj2" fmla="val 2566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4149720"/>
            <a:ext cx="2376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ÁMOGA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700360" y="407628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i az ami további bevételhez juttatja a termelő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Területalapú támoga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NVT, agrár-környezetgazdálkodás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epterületek agrár-környezetgazdálkodási intézkedése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Gyepgazdálkodási célprogram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Füves élőhelyek kezelése cél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ántó fajgazdag gyeppé alakítása cél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kológiai gyepgazdálkodási cél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zékeny Természeti Területek gyepgazdálkodási célprogramj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Kedvezőtlen adottságú területek kompenzációs támoga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yepgazdálkodási célprogram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1052640"/>
          <a:ext cx="8569080" cy="5673600"/>
        </p:xfrm>
        <a:graphic>
          <a:graphicData uri="http://schemas.openxmlformats.org/drawingml/2006/table">
            <a:tbl>
              <a:tblPr/>
              <a:tblGrid>
                <a:gridCol w="1995480"/>
                <a:gridCol w="2882880"/>
                <a:gridCol w="1508040"/>
                <a:gridCol w="1136520"/>
                <a:gridCol w="1046160"/>
              </a:tblGrid>
              <a:tr h="61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ézked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élprog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ír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mogatás Ft/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mogatá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/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976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yepgazdálk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ási argár-környezetgaz-dálkodási célprogram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.1. Gyepgazdálkodási alapprog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) gyepes élőhelyek gondozá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) átállás szántóról fajgazdag gyepterüle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4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0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.2. Ökológiai gyepgazdálkodási célprog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.3. Érzékeny Természeti Területek gyepgazdálkodási célprogramj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.3.1. Gyepgazdálkodás túzok élőhelyfejlesztési előírásokk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.3.2. Gyepgazdálkodás haris élőhelyfejlesztési előírásokk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.3.3. Gyepgazdálkodás élőhelyfejlesztési előírásokk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8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.3.4. Gyeptelepítés Érzékeny Természeti Területe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4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260280"/>
            <a:ext cx="70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GYEPHASZNOSÍTÁS </a:t>
            </a: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„TARTALÉKA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907920"/>
            <a:ext cx="7093080" cy="23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99"/>
                </a:solidFill>
                <a:latin typeface="Arial"/>
              </a:rPr>
              <a:t>Magyarország 6 régiójában (15 megyében) találhatók be nem takarított gyepterületek, az összes be nem takarított termés ~500 000 t szé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Mintegy 700 ezer anyajuh takarmányfor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4 500 t csontoshús előáll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6,5 milliárd Ft (export) árbevé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429000"/>
            <a:ext cx="716436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 500 - 700 anya képes egy 4 tagú család jövedelemigényének fedezésére, akkor hasznosítatlan gyepterületeink mintegy 1 000 – 1 400 család eltartását, illetve helyben tartását biztosíthatj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Jelentős volumenű és piacképes árualapo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 juhászatokon kívül beszállítók és felvásárlók megélhetésé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Rendezett, ápolt tájképet biztosíta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gyep hasznosítási lehetőség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620640"/>
            <a:ext cx="2951280" cy="1440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karm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628640"/>
            <a:ext cx="2950920" cy="165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ortcél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084640"/>
            <a:ext cx="2951280" cy="1582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lajvéd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92720" y="2708280"/>
            <a:ext cx="2951280" cy="144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án „szépérz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2720" y="4365720"/>
            <a:ext cx="2951280" cy="1439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gészségüg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yógynövény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5418000"/>
            <a:ext cx="2951280" cy="1440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mészet, va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örnyezetvéd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2852640"/>
            <a:ext cx="2305080" cy="1800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Y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1125360"/>
            <a:ext cx="2950920" cy="14400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tőmag, üzl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lhaszná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4570800">
            <a:off x="3929760" y="2326320"/>
            <a:ext cx="647640" cy="408240"/>
          </a:xfrm>
          <a:custGeom>
            <a:avLst/>
            <a:gdLst>
              <a:gd name="textAreaLeft" fmla="*/ 101160 w 647640"/>
              <a:gd name="textAreaRight" fmla="*/ 567000 w 6476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8190600">
            <a:off x="5219280" y="2391840"/>
            <a:ext cx="858960" cy="481320"/>
          </a:xfrm>
          <a:custGeom>
            <a:avLst/>
            <a:gdLst>
              <a:gd name="textAreaLeft" fmla="*/ 133920 w 858960"/>
              <a:gd name="textAreaRight" fmla="*/ 751680 w 858960"/>
              <a:gd name="textAreaTop" fmla="*/ 120240 h 481320"/>
              <a:gd name="textAreaBottom" fmla="*/ 361080 h 48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41600">
            <a:off x="3063600" y="2895120"/>
            <a:ext cx="720720" cy="308160"/>
          </a:xfrm>
          <a:custGeom>
            <a:avLst/>
            <a:gdLst>
              <a:gd name="textAreaLeft" fmla="*/ 112320 w 720720"/>
              <a:gd name="textAreaRight" fmla="*/ 630720 w 720720"/>
              <a:gd name="textAreaTop" fmla="*/ 77040 h 308160"/>
              <a:gd name="textAreaBottom" fmla="*/ 231120 h 308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205200">
            <a:off x="3305880" y="4694760"/>
            <a:ext cx="924120" cy="407880"/>
          </a:xfrm>
          <a:custGeom>
            <a:avLst/>
            <a:gdLst>
              <a:gd name="textAreaLeft" fmla="*/ 144360 w 924120"/>
              <a:gd name="textAreaRight" fmla="*/ 808920 w 924120"/>
              <a:gd name="textAreaTop" fmla="*/ 101880 h 407880"/>
              <a:gd name="textAreaBottom" fmla="*/ 306000 h 407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5338400">
            <a:off x="4665960" y="4773600"/>
            <a:ext cx="793800" cy="407880"/>
          </a:xfrm>
          <a:custGeom>
            <a:avLst/>
            <a:gdLst>
              <a:gd name="textAreaLeft" fmla="*/ 123840 w 793800"/>
              <a:gd name="textAreaRight" fmla="*/ 694800 w 793800"/>
              <a:gd name="textAreaTop" fmla="*/ 101880 h 407880"/>
              <a:gd name="textAreaBottom" fmla="*/ 306000 h 407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2980400">
            <a:off x="5525640" y="4296600"/>
            <a:ext cx="925560" cy="407880"/>
          </a:xfrm>
          <a:custGeom>
            <a:avLst/>
            <a:gdLst>
              <a:gd name="textAreaLeft" fmla="*/ 144360 w 925560"/>
              <a:gd name="textAreaRight" fmla="*/ 810000 w 925560"/>
              <a:gd name="textAreaTop" fmla="*/ 101880 h 407880"/>
              <a:gd name="textAreaBottom" fmla="*/ 306000 h 407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009200">
            <a:off x="5794200" y="3409560"/>
            <a:ext cx="430560" cy="308160"/>
          </a:xfrm>
          <a:custGeom>
            <a:avLst/>
            <a:gdLst>
              <a:gd name="textAreaLeft" fmla="*/ 67320 w 430560"/>
              <a:gd name="textAreaRight" fmla="*/ 376920 w 430560"/>
              <a:gd name="textAreaTop" fmla="*/ 77040 h 308160"/>
              <a:gd name="textAreaBottom" fmla="*/ 231120 h 308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3357720"/>
            <a:ext cx="2951280" cy="15825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erge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038400">
            <a:off x="3131640" y="3816360"/>
            <a:ext cx="452520" cy="407880"/>
          </a:xfrm>
          <a:custGeom>
            <a:avLst/>
            <a:gdLst>
              <a:gd name="textAreaLeft" fmla="*/ 70560 w 452520"/>
              <a:gd name="textAreaRight" fmla="*/ 396000 w 452520"/>
              <a:gd name="textAreaTop" fmla="*/ 101880 h 407880"/>
              <a:gd name="textAreaBottom" fmla="*/ 306000 h 407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00"/>
                </a:solidFill>
                <a:latin typeface="Arial"/>
              </a:rPr>
              <a:t>A JÖVŐ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3200" spc="-1" strike="noStrike">
                <a:solidFill>
                  <a:srgbClr val="ff0000"/>
                </a:solidFill>
                <a:latin typeface="Arial"/>
              </a:rPr>
              <a:t>gyepterületek értéknövekedése várható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 támogatások volumenének növekedése és az előállított termékek piaci árának emelkedése következté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akszerűbb gyepgazdálkodás elterjedése, amely nem jelent intenzifikálá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lhanyagolt, elhagyott gyepterületek haszn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62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989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Köszönöm a megtisztelő figyelmet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 GYEP(GAZDÁLKODÁS) VILÁGGAZDASÁGI JELENTŐSÉGE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00"/>
                </a:solidFill>
                <a:latin typeface="Arial"/>
              </a:rPr>
              <a:t>A második legnagyobb területet borító társulás (az erdő után) ~2,9 milliárd ha (2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00"/>
                </a:solidFill>
                <a:latin typeface="Arial"/>
              </a:rPr>
              <a:t>Csak Európában és Amerika egyes részein tekinthető művelési ág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00"/>
                </a:solidFill>
                <a:latin typeface="Arial"/>
              </a:rPr>
              <a:t>Ökológiai jelentősége nehezen vagy egyáltalán nem számszerűsíth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00"/>
                </a:solidFill>
                <a:latin typeface="Arial"/>
              </a:rPr>
              <a:t>A hasznosítás intenzitása és az elérhető hozamok jelentős eltérést mutatna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00"/>
                </a:solidFill>
                <a:latin typeface="Arial"/>
              </a:rPr>
              <a:t>A legeltethető jelentősebb haszonállatok: </a:t>
            </a:r>
            <a:r>
              <a:rPr b="1" lang="hu-HU" sz="2400" spc="-1" strike="noStrike" u="sng">
                <a:solidFill>
                  <a:srgbClr val="006600"/>
                </a:solidFill>
                <a:uFillTx/>
                <a:latin typeface="Arial"/>
              </a:rPr>
              <a:t>szarvasmarha</a:t>
            </a:r>
            <a:r>
              <a:rPr b="0" lang="hu-HU" sz="2400" spc="-1" strike="noStrike">
                <a:solidFill>
                  <a:srgbClr val="006600"/>
                </a:solidFill>
                <a:latin typeface="Arial"/>
              </a:rPr>
              <a:t>, juh, kecske, 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A LEGELTETHETŐ ÁLLATFAJOK EGYEDSZÁM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8360" y="1628640"/>
          <a:ext cx="8229240" cy="4525560"/>
        </p:xfrm>
        <a:graphic>
          <a:graphicData uri="http://schemas.openxmlformats.org/drawingml/2006/table">
            <a:tbl>
              <a:tblPr/>
              <a:tblGrid>
                <a:gridCol w="1918800"/>
                <a:gridCol w="1791360"/>
                <a:gridCol w="1791000"/>
                <a:gridCol w="1364040"/>
                <a:gridCol w="136404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gnevezé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zarvas-marh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Ju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ecsk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L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ilá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 366 6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 034 0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43 37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 3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U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 58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5 06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 7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 1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U 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 9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7 4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 4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 9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93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1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agyar-orszá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 2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936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93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7165800" y="11970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00"/>
                </a:solidFill>
                <a:latin typeface="Arial"/>
              </a:rPr>
              <a:t>Me.: ezer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630864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z  összes legeltethető állatfaj ~1,5 milliárd 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MAGYARORSZÁG GYEPGAZDÁLKODÁSA I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341360"/>
            <a:ext cx="8353440" cy="55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Összes gyepterület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1 062 000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znosított gyepterület: 604 000 h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z összes hasznosított terület 13%-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hasznosítási módok: legeltetés és/vagy kaszá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ai gyepek átlagos hozama 1 -1,5 t/ha (szé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ermelési érték közvetlenül nem határozható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MAGYARORSZÁG GYEPGAZDÁLKODÁSA II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484280"/>
            <a:ext cx="74901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Az 1972-ben meghirdetett szakosított szarvasmarha-tartási program hatására a 80’-as évek közepéig folyamatos intenzifikálás, gyepgazdálkodási rendszerek kialak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A 90’-es években drasztikusan csökkenő kérődző állom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A gyepgazdálkodás hanyat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Napjainkban gyakorlatilag nem beszélhetünk szakszerű gyepgazdálkodásról, csupán gyepterületeink részleges hasznosításá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Rendezetlen tulajdonviszonyok (pl.: osztatlan közös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A földtulajdonos és az állattartó gyakran nem ugyanaz a személy és érdekeik sem azonos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A jövő??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u-HU" sz="4000" spc="-1" strike="noStrike">
                <a:solidFill>
                  <a:srgbClr val="006600"/>
                </a:solidFill>
                <a:latin typeface="Arial"/>
              </a:rPr>
              <a:t>A GYEP FÖLDPIACI HELYZE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268280"/>
            <a:ext cx="853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gionálisan jelentősen eltérő keresleti, kínálati és árviszony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yepterület földpiaci értékét meghatározó tényező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2421000"/>
            <a:ext cx="828036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7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 terület földrajzi elhelyezked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7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nfrastrukturális ellátottsága (megközelíthetőség, ivóvíz, legelő-berendezése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7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 gyepterület környezetében található állatlétsz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7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 területre igényelhető támogat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7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 hasznosításra vonatkozó korlátozások (védett terület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7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öldminőség (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5229360"/>
            <a:ext cx="7093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A fentiek függvényébe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1 ha gyep piaci értéke: 50 – 300 e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188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bérleti díja: 1 500 – 6 500 F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06:57:32Z</dcterms:created>
  <dc:creator>Nábrádi András</dc:creator>
  <dc:description/>
  <dc:language>en-US</dc:language>
  <cp:lastModifiedBy>Dr. Nábrádi András</cp:lastModifiedBy>
  <dcterms:modified xsi:type="dcterms:W3CDTF">2007-03-05T17:06:38Z</dcterms:modified>
  <cp:revision>100</cp:revision>
  <dc:subject/>
  <dc:title>Mitől függ, hogy mennyit ér a gyep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nábrádi</vt:lpwstr>
  </property>
  <property fmtid="{D5CDD505-2E9C-101B-9397-08002B2CF9AE}" pid="3" name="LastUsedName">
    <vt:lpwstr>nábrádi</vt:lpwstr>
  </property>
</Properties>
</file>