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06C-DC29-45CA-A156-5086C400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2EF-124B-40CF-BA08-0254D011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B92-8224-4465-BC3F-1EC6C961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397-FE28-435B-9E4B-822AB48D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187-B665-45BC-BC2E-556C3667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E60-4468-4FD5-8F75-AC890D62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A3E-E359-44F5-887E-B28F13F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BE0-CC38-4B8E-BA43-ED7C6F94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735-2346-4BC8-AC57-B57AC9D1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17D-DF71-4AE9-B675-84D2607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7C0-B42C-4FF5-A653-40952620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390-48A3-4C0A-8E4B-4B2DE7F1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8102-9308-4E1F-B4A2-2BBAFCD68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28640"/>
            <a:ext cx="9144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VÁLLALKOZÁSI FORM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TERMELŐI SZERVEZŐDÉSE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052640"/>
            <a:ext cx="8208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Feladat: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beszerzés, termelés, szolgáltatások, 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értékesítés közös szervez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Jogi forma: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szövetkez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Státusz: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nincs elismeréshez kötve, a célokat az 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Alapszabályban kell rögzíte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33"/>
                </a:solidFill>
                <a:latin typeface="Arial"/>
              </a:rPr>
              <a:t>A leglazább szerveződés form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Típus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Általános BÉ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ejszövetke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Gépkör (min. 10 termelő által alapítot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1. A BÉS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5892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cc"/>
                </a:solidFill>
                <a:latin typeface="Arial"/>
              </a:rPr>
              <a:t>1. A BÉSZ-ek támoga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341360"/>
            <a:ext cx="8964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Általános: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tartós készletfeltöltéshez, működési költségekhez az éves árbevétel 5%-a, max. 60 millió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Tejszövetkezet: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alapítás, megszervezés 600 e Ft, működéshez: 10.000 Ft/tehén, max. 10 millió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Gépkör:</a:t>
            </a: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tárgyi, személyi feltételeihez: tagonként 100 eFt, max. 3 millió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zen a támogatási formák jelenleg már nem léteznek,  csak a múltban voltak (nemzeti forrásból származt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A TÉSZ és TCS közös jellemz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lapítás - általános nehézség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Csekély szövetkezési hajlandó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Együttműködésre, kompromisszumra való képtelen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Támogatásokhoz való hozzájutás, mint priori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Domináns tagok érdekérvényesítési törekvés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2. A TÉSZ és TCS közös jellemző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54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Elismerés kategóriá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egy adott termék vagy termékcso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 szervezet céljai, feladat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 tagok termékének közös áruvá készítése, táro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 tagok termékeinek közös forgalmazása, a kínálat koncentrá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 kereslet és kínálat összehangolásának elősegíté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ermelési költségek csökkentése, termelői árak stabilizá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 tagok kötelezett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 szervezet termelési, értékesítési, környezetvédelmi szabályainak betar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 teljes termésmennyiségnek a szervezeten keresztüli értékesít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(néhány kivételes esettől eltekint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Működési költség hozzájárulás fizet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Statisztikai adatok szolgált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Ugyanazon termékre tagsági viszony kizárólag egy szervezetb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2. A TÉSZ és TCS közös jellemző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36640"/>
            <a:ext cx="9144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A szervezet kötelezett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Demokratikus szervezeti felép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Szabályzatok (tagdíjfizetés, új tagok felvétele, tag kilépése, stb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Szankciók kialakítása szabályok be nem tartása eset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Nyilvántartás vezetése a tagok termeléséről és az áru értékesítésérő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Minimális méret elő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Előírásának célja: versenyképes méret biztos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Meghat. alapja: 1.) min. taglétszám, 2.) min. éves nettó árbevé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Elismerési kérelem benyúj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Előzetes elismerésnél elismerési tervvel, végleges elismerésnél működési programmal (üzleti terv) kell kiegészíte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Az elismerési terv max. 5 évre, a működési program 3-5 évre sz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Az elismerési terv a végleges elismerés feltételeinek való megfelelés elérési módját és eszközeit tartalmaz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A működési program fejlesztési/üzleti tervnek felel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2. A TCS működési terü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0200" y="1197000"/>
          <a:ext cx="8713800" cy="4848120"/>
        </p:xfrm>
        <a:graphic>
          <a:graphicData uri="http://schemas.openxmlformats.org/drawingml/2006/table">
            <a:tbl>
              <a:tblPr/>
              <a:tblGrid>
                <a:gridCol w="4641480"/>
                <a:gridCol w="4072320"/>
              </a:tblGrid>
              <a:tr h="429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Termékek, termékcsoportok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Gabona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Olajosnövény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Tehéntej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aromfi- és sertéstenyészté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hánytermeszté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Juhtart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Kecsketart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Nyúltart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Prémesállat tart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Méhés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Fűszer- és gyógynövény termeszt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iz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urgo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ukorré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Textilipari növén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Vágott virág és szaporítóany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zőlő és b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Faiskolai termé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Halász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2. A TCS alapí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836640"/>
            <a:ext cx="8424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Jogi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 u="sng">
                <a:solidFill>
                  <a:srgbClr val="990033"/>
                </a:solidFill>
                <a:uFillTx/>
                <a:latin typeface="Arial"/>
              </a:rPr>
              <a:t>Szövetkezet</a:t>
            </a: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: rugalmas működés, de: „1 tag 1 szavazat” el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 u="sng">
                <a:solidFill>
                  <a:srgbClr val="990033"/>
                </a:solidFill>
                <a:uFillTx/>
                <a:latin typeface="Arial"/>
              </a:rPr>
              <a:t>Kft</a:t>
            </a: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.: vagyonarányos („termelés-arányos”) szavazati jog, de rugalmatlan működé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Alapító tagok: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min. 15 </a:t>
            </a:r>
            <a:r>
              <a:rPr b="0" lang="hu-HU" sz="2200" spc="-1" strike="noStrike" u="sng">
                <a:solidFill>
                  <a:srgbClr val="990033"/>
                </a:solidFill>
                <a:uFillTx/>
                <a:latin typeface="Arial"/>
              </a:rPr>
              <a:t>termel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Speciális feltéte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Minimális árbevétel termékcsoporttól függő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100 vagy </a:t>
            </a:r>
            <a:r>
              <a:rPr b="1" lang="hu-HU" sz="2200" spc="-1" strike="noStrike" u="sng">
                <a:solidFill>
                  <a:srgbClr val="990033"/>
                </a:solidFill>
                <a:uFillTx/>
                <a:latin typeface="Arial"/>
              </a:rPr>
              <a:t>300</a:t>
            </a: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 millió 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Árbevétel min. 10%-a,/3%-a természetes személy tagoktól származz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Egy tag max. 15% tulajdonhányad (Kft.-né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Árbevétel 70%-a tagi termék értékesítéséből származz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Minimális tagsági idő: 3 é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2. A TCS támoga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907920"/>
            <a:ext cx="828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33"/>
                </a:solidFill>
                <a:latin typeface="Arial"/>
              </a:rPr>
              <a:t>Előzetesen elismert TCS támogatása (nemzeti forrásbó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1989000"/>
          <a:ext cx="8496000" cy="2281320"/>
        </p:xfrm>
        <a:graphic>
          <a:graphicData uri="http://schemas.openxmlformats.org/drawingml/2006/table">
            <a:tbl>
              <a:tblPr/>
              <a:tblGrid>
                <a:gridCol w="1887480"/>
                <a:gridCol w="6608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Árbevétel (millió 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Támogatás mértéke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&lt;</a:t>
                      </a: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5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5 M Ft + a 150-300 M Ft közötti rész 6%-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&gt;</a:t>
                      </a: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24 M Ft + a 300 M Ft fölötti rész 5 %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e legfeljebb 30 millió 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324000" y="148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rább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58136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06-b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z árbevétel 1,5-6%-a termékcsoporttól függ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07-b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ár nem volt ilye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2. A TCS támoga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981000"/>
            <a:ext cx="889308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Véglegesen elismert TCS támogatása (EMOGA+nemze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Arial"/>
                <a:ea typeface="Arial"/>
              </a:rPr>
              <a:t>1 millió Euro árbevételig 5 éven át az árbevétel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Arial"/>
                <a:ea typeface="Arial"/>
              </a:rPr>
              <a:t> 5-5-4-3-2%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Arial"/>
                <a:ea typeface="Arial"/>
              </a:rPr>
              <a:t>1 millió Euro fölötti részre az árbevétel 2,5-2,5-2,0-1,5-1,0%-a, de a támogatás felső határa: 100.000, 100.000, 80.000, 60.000, 50.000 Eu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5892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cc"/>
                </a:solidFill>
                <a:latin typeface="Arial"/>
              </a:rPr>
              <a:t>3. A TÉSZ-ek kialakulásának specifikus ok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Szupermarketek térhódítása a zöldség-gyümölcs eladá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↓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Kereslet koncentráló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Követelmény a termelővel szemben: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  <a:ea typeface="Arial"/>
              </a:rPr>
              <a:t>nagy mennyiségű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, jó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  <a:ea typeface="Arial"/>
              </a:rPr>
              <a:t>minőségű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 és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  <a:ea typeface="Arial"/>
              </a:rPr>
              <a:t>egyöntetű</a:t>
            </a:r>
            <a:r>
              <a:rPr b="0" lang="hu-HU" sz="24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áru </a:t>
            </a:r>
            <a:r>
              <a:rPr b="1" lang="hu-HU" sz="2400" spc="-1" strike="noStrike">
                <a:solidFill>
                  <a:srgbClr val="ff9900"/>
                </a:solidFill>
                <a:latin typeface="Arial"/>
                <a:ea typeface="Arial"/>
              </a:rPr>
              <a:t>pontos</a:t>
            </a:r>
            <a:r>
              <a:rPr b="1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száll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Fenti okok miatt szükséges: a kínálati oldal (termelők) koncentráló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Értékesítő szervezetek kialaku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Következmény: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→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a termelők (ár)alkupozíciójának javu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→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költségcsökkentés (közös beszerzés,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     csomagolás, válogatás, értékesítés ál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  <a:ea typeface="Arial"/>
              </a:rPr>
              <a:t>Szövetkezés „kényszerítése”: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a termelők csak TÉSZ-tagként juthatnak hozzá 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egyes támogatások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4906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elői szerveződés foga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 mezőgazdasági termelők olyan együtt-működései, amelyekben piaci pozícióik megerősítése érdekében az általuk önállóan végzett mezőgazdasági alaptevékenységükhöz kapcsolódó kiegészítő feladatokra önkéntesen társuln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13360"/>
            <a:ext cx="91440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rmelői szerveződések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m önálló vállalkozási formá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anem a GT vagy a szövetkezeti törvény alapján létrehozott jogi személyek (Kft. vagy szövetkezet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5892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3. A TÉSZ alapí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981000"/>
            <a:ext cx="8820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990033"/>
                </a:solidFill>
                <a:latin typeface="Arial"/>
              </a:rPr>
              <a:t>Jogi 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990033"/>
                </a:solidFill>
                <a:uFillTx/>
                <a:latin typeface="Arial"/>
              </a:rPr>
              <a:t>Szövetkezet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: rugalmas működés, de: „1 tag 1 szavazat” el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990033"/>
                </a:solidFill>
                <a:uFillTx/>
                <a:latin typeface="Arial"/>
              </a:rPr>
              <a:t>Rt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.: magas alapítói tő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990033"/>
                </a:solidFill>
                <a:uFillTx/>
                <a:latin typeface="Arial"/>
              </a:rPr>
              <a:t>Kft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.: vagyonarányos („termelés-arányos”) szavazati jog, de rugalmatlan működ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990033"/>
                </a:solidFill>
                <a:latin typeface="Arial"/>
              </a:rPr>
              <a:t>Alapító tagok:</a:t>
            </a: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 min. 15 vagy 8 termelő (utóbbi az előzetesné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990033"/>
                </a:solidFill>
                <a:latin typeface="Arial"/>
              </a:rPr>
              <a:t>Minimális mér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Országcsoportonként változ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Magyarországon: 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→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 előzetes elismeréshez 8 tag és 125 M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  <a:ea typeface="Arial"/>
              </a:rPr>
              <a:t>végleges elismeréshez 15 tag és 250 M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Elismerés kategóriái: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 z. és gy.; gy.; z.; feldolgozásra szánt     termékek, citrusfélék, héjas gyümölcsűek, go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Minimális tagsági idő: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1 é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3. A TÉSZ támoga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413000"/>
            <a:ext cx="835164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Két fontos fogal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Működési alap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A tagok általi befizetésekből és a közösségi támogatásokból létrehozott pénzalap, melyet a működési költségek fedezésére, beruházásokra és részben az árukivonás támogatására lehet felhaszn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Működési program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= A végleges elismeréstől számított legalább 3, legfeljebb 5 éves időtartamra vonatkozó fejlesztési programok összessége. Ennek megléte elő-feltétele a közösségi támogatások elnyerésének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3. A TÉSZ támoga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981000"/>
            <a:ext cx="889308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Véglegesen elismert TÉSZ támoga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990033"/>
                </a:solidFill>
                <a:latin typeface="Arial"/>
                <a:ea typeface="Arial"/>
              </a:rPr>
              <a:t>Közösségi pü-i hozzájárulás: a termelők által a működési alapba befizetett összeg, de legfeljebb az árbevétel 4,1%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990033"/>
                </a:solidFill>
                <a:latin typeface="Arial"/>
                <a:ea typeface="Arial"/>
              </a:rPr>
              <a:t>Nemzeti pü-i hozzájárulás : a termelői befizetés fele, de legfeljebb az árbevétel 2,05%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  <a:ea typeface="Arial"/>
              </a:rPr>
              <a:t>Előzetesen elismert TÉSZ </a:t>
            </a:r>
            <a:r>
              <a:rPr b="0" lang="hu-HU" sz="2600" spc="-1" strike="noStrike">
                <a:solidFill>
                  <a:srgbClr val="990033"/>
                </a:solidFill>
                <a:latin typeface="Arial"/>
                <a:ea typeface="Arial"/>
              </a:rPr>
              <a:t>(max. 5 éves időtartam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990033"/>
                </a:solidFill>
                <a:latin typeface="Arial"/>
                <a:ea typeface="Arial"/>
              </a:rPr>
              <a:t>1 millió Euro árbevételig 5 éven át az árbevétel</a:t>
            </a:r>
            <a:br>
              <a:rPr sz="2600"/>
            </a:br>
            <a:r>
              <a:rPr b="0" lang="hu-HU" sz="2600" spc="-1" strike="noStrike">
                <a:solidFill>
                  <a:srgbClr val="990033"/>
                </a:solidFill>
                <a:latin typeface="Arial"/>
                <a:ea typeface="Arial"/>
              </a:rPr>
              <a:t> 5-5-4-3-2%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990033"/>
                </a:solidFill>
                <a:latin typeface="Arial"/>
                <a:ea typeface="Arial"/>
              </a:rPr>
              <a:t>1 millió Euro fölötti részre az árbevétel 2,5-2,5-2,0-1,5-1,0%-a, de a támogatás felső határa: 100.000, 100.000, 80.000, 60.000, 50.000 Eu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A termelői szerveződések (TCS, TÉSZ) jövőbeni kilátá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36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Lehetőség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990033"/>
                </a:solidFill>
                <a:latin typeface="Arial"/>
              </a:rPr>
              <a:t>Termelési költségek csökkent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990033"/>
                </a:solidFill>
                <a:latin typeface="Arial"/>
              </a:rPr>
              <a:t>Értékesítési költségek csökkent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990033"/>
                </a:solidFill>
                <a:latin typeface="Arial"/>
              </a:rPr>
              <a:t>Nettó jövedelem növeked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990033"/>
                </a:solidFill>
                <a:uFillTx/>
                <a:latin typeface="Arial"/>
              </a:rPr>
              <a:t>Kínálat koncentrálása, alkupozíció javulá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990033"/>
                </a:solidFill>
                <a:latin typeface="Arial"/>
              </a:rPr>
              <a:t>Érdekérvényesítés javulá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990033"/>
                </a:solidFill>
                <a:uFillTx/>
                <a:latin typeface="Arial"/>
              </a:rPr>
              <a:t>TÉSZ-ek szövetségei</a:t>
            </a:r>
            <a:r>
              <a:rPr b="0" lang="hu-HU" sz="2100" spc="-1" strike="noStrike">
                <a:solidFill>
                  <a:srgbClr val="990033"/>
                </a:solidFill>
                <a:latin typeface="Arial"/>
              </a:rPr>
              <a:t> (másodlagos koncentráció!!!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Problémá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Kis forgalmú és erőtlen szervezetek (kevés jól működő szervezet van Magyarországon; legfőbb cél: támogatáshoz jut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Árualap megteremtésének nehézsége (tagok saját piacainak feladá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Emiatt: piacok megszerzésének nehéz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Infrastruktúra hiánya (post harv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Versenyhelyzet fokozód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Felvásárlói érdekeltség (tehát nem alulról szerveződ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Menedzsment és tagság eltérő céljai, érdek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92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33"/>
                </a:solidFill>
                <a:latin typeface="Arial"/>
              </a:rPr>
              <a:t>Köszönöm a figyelmet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9000"/>
            <a:ext cx="9144000" cy="9986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ermelői szerveződések szükséges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/kényszerítő oko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Általában: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a kereslet és a kínálat összehangolatlan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A termelők szempontjábó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Kereskedelemben és feldolgozásban koncentráló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ermelői oldalon elaprózódás, szervezetlen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rmelők rossz alkupozíciója (kiszolgáltatottsá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zükségszerű → termelők (kínálati oldal)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koncentráló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A piac/ágazat szempontjábó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gyakori piaci zava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A kormányzat szempontjábó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a piac nehéz koordinálhatósága, szabályozhatósá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58920"/>
            <a:ext cx="9144000" cy="5205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ermelői szerveződések cél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341360"/>
            <a:ext cx="828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268280"/>
            <a:ext cx="889308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hu-HU" sz="2400" spc="-1" strike="noStrike" u="sng">
                <a:solidFill>
                  <a:srgbClr val="990033"/>
                </a:solidFill>
                <a:uFillTx/>
                <a:latin typeface="Arial"/>
              </a:rPr>
              <a:t>Általában</a:t>
            </a: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a termelés és értékesítés megszervezése, ezáltal a kínálat hozzáigazítása a kereslethez mind a mennyiség, mind a minőség tekinteté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hu-HU" sz="2400" spc="-1" strike="noStrike" u="sng">
                <a:solidFill>
                  <a:srgbClr val="990033"/>
                </a:solidFill>
                <a:uFillTx/>
                <a:latin typeface="Arial"/>
              </a:rPr>
              <a:t>A termelők szempontjából</a:t>
            </a: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széles termelői kör összefogása révén a piaci, ár- és értékesítési feltételek kedvező alak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hu-HU" sz="2400" spc="-1" strike="noStrike" u="sng">
                <a:solidFill>
                  <a:srgbClr val="990033"/>
                </a:solidFill>
                <a:uFillTx/>
                <a:latin typeface="Arial"/>
              </a:rPr>
              <a:t>A piac/ágazat szempontjából</a:t>
            </a: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a piaci stabilitás megterem-tésének előseg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hu-HU" sz="2400" spc="-1" strike="noStrike" u="sng">
                <a:solidFill>
                  <a:srgbClr val="990033"/>
                </a:solidFill>
                <a:uFillTx/>
                <a:latin typeface="Arial"/>
              </a:rPr>
              <a:t>Kormányzat szempontjából</a:t>
            </a: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bizonyos piacszabályozó eszközök és mechanizmusok alkalmazásának előseg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58920"/>
            <a:ext cx="9144000" cy="5205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ermelői szerveződések felad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197000"/>
            <a:ext cx="8570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A termelés során felhasznált inputok közös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beszerzés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Termelésszervezés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, azaz a tagok termelési folyamatainak koordinálása, racionalizálása az egységes árualap meg-teremtése és a hatékonyság növelése érdekéb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A termékek piacképes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áruvá történő előkészítése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feldolgozás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Közös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értékesítés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megszervezése, lebonyolítá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Eszközök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(gépek, épületek) közös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használat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A termelők piaci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érdekérvényesít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ő képességének erősíté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6021360"/>
            <a:ext cx="84247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rmelői szervezetek lényegében legalizált kartell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58920"/>
            <a:ext cx="9144000" cy="5205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ermelői szerveződések az EU-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341360"/>
            <a:ext cx="8282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Termelői szervezetek a legtöbb ágazatban létez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Termelői szervezetekkel kapcsolatos rendeletek megjelenése: 1978, 1991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Termelői érdekű szervezettség szint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1978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→ 6-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2000 → egyes ágazatokban közel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Jogi forma: többnyire szövetke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Egyéb jellemző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egész termékpályát átfogó szövetkez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gyakran multinacionális jelleg (pl.: Arla Fo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58920"/>
            <a:ext cx="9144000" cy="5205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ermelői szerveződések Magyarorszá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981000"/>
            <a:ext cx="8893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1. BÉSZ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(Egyes termékek beszerzését, értékesítését, szolgáltatást végző gazdálkodó szervezet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2. TCS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(Termelői csoport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3. TÉSZ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(Zöldség-gyümölcs termelői értékesítő szervezet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5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1999-től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→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TÉSZ-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hu-HU" sz="2100" spc="-1" strike="noStrike">
                <a:solidFill>
                  <a:srgbClr val="990033"/>
                </a:solidFill>
                <a:latin typeface="Arial"/>
              </a:rPr>
              <a:t>( 47 előzetesen és 11 véglegesen elismert TÉSZ 2008. jan. 01-é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5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2002-től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  <a:ea typeface="Arial"/>
              </a:rPr>
              <a:t>→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 termelői csoportok, BÉSZ-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hu-HU" sz="2100" spc="-1" strike="noStrike">
                <a:solidFill>
                  <a:srgbClr val="990033"/>
                </a:solidFill>
                <a:latin typeface="Arial"/>
              </a:rPr>
              <a:t>(10 előzetesen és 244 véglegesen elismert TCS 2008. jan. 01-é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990033"/>
                </a:solidFill>
                <a:latin typeface="Arial"/>
              </a:rPr>
              <a:t>(BÉSZ-ek száma pontosan nem isme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58136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elői szerveződések Magyarorszá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990033"/>
                </a:solidFill>
                <a:uFillTx/>
                <a:latin typeface="Arial"/>
              </a:rPr>
              <a:t>Fő különbségek a 3 típus közö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A TCS és a TÉSZ termékpályás szerveződés, a BÉSZ n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A termékpályás szerveződések közül a zöldség-gyümölcs ágazatban megalakuló termelői szerveződések a TÉSZ-ek, minden más ágazatban TCS-nek nevezzük ezeket, de a funkciójuk hasonl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A termékpályás szerveződés azt jelenti, hogy a szervezet meghatározott termékcsoport termelését végző termelőkből ál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0033"/>
                </a:solidFill>
                <a:latin typeface="Arial"/>
              </a:rPr>
              <a:t>A BÉSZ, mint nem termékpályás szerveződés azt jelenti, hogy középpontjában nem a termék áll, tehát nem adott termék termelőit tömöríti, hanem a belépett termelők, mint tagok minden termékét értékesíti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9144000" cy="489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1. A BÉS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281600"/>
            <a:ext cx="8964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990033"/>
                </a:solidFill>
                <a:uFillTx/>
                <a:latin typeface="Arial"/>
              </a:rPr>
              <a:t>BÉSZ:</a:t>
            </a:r>
            <a:r>
              <a:rPr b="0" i="1" lang="hu-H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990033"/>
                </a:solidFill>
                <a:latin typeface="Arial"/>
              </a:rPr>
              <a:t>a szövetkezetekről szóló 1992. évi I. törvény alapján és az új szövetkezetekről szóló 2000. évi CXLI. törvény (a továbbiakban: Szövetkezeti Törvény) előírásainak megfelelően alakított vagy átalakult, egyes termékek beszerzését, értékesítését, szolgáltatást nyújtó szövetkezések és egyéb gazdálkodó szervezetek;</a:t>
            </a:r>
            <a:r>
              <a:rPr b="0" lang="hu-HU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BÉSz olyan nonprofit alaptevékenységű szervezet, amelynek árbevétele 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legalább 200 millió Ft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és annak min.   70 %-a a tagok alaptevékenységéből származik, továbbá a tagok min. 75%-a regisztrált mezőgazdasági termel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0:38:48Z</dcterms:created>
  <dc:creator>Lapis Miklós</dc:creator>
  <dc:description/>
  <dc:language>en-US</dc:language>
  <cp:lastModifiedBy>Apáti Ferenc</cp:lastModifiedBy>
  <dcterms:modified xsi:type="dcterms:W3CDTF">2008-11-03T14:18:03Z</dcterms:modified>
  <cp:revision>75</cp:revision>
  <dc:subject/>
  <dc:title>1. dia</dc:title>
</cp:coreProperties>
</file>