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C89-5918-4FB0-A43F-CF4312BE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9F2-138C-46E9-A868-8198C864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12E-A08A-4A56-B2D9-A433458E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E3D-C961-4627-B4FD-5E16F601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244-37AF-41D5-9067-DBBADA6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D02-274A-4A94-9BAD-F0807AB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66C-0024-465D-906E-0ABF650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AF1-9C93-47D7-8CEF-37D1FF27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EF6-AF80-4125-80B0-F252C1A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2E3-346B-438E-86F0-4F854C1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7C3-779D-4477-ADEC-F32D682E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0CA-2465-4948-AA34-E5590C4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5CF-B3CB-4E7C-B617-A5E4B0E69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7840" y="655560"/>
            <a:ext cx="774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nyvédele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élja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981080"/>
            <a:ext cx="708660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árosító szervezetek kártételének kárküszöb szint alá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ökkenté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letve a kártétel nagyságának eze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int alatt tartása különböző eszközök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szélyes károsítók terjedésének meggátlá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övényi termékekben kialakuló káros anyagok kelet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zének kiküszöbölé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és hozambizonytalanságának csökkenté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árosító szervezet miatti veszteségek ökonómiai szempontból a következők lehetne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981080"/>
            <a:ext cx="81532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elési érték csökkené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övényszám kiesés miatti hozam csökken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agcsere folyamatok zavarai miatti hozam csökken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őség romlás miatti veszteség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merülő költség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dekezés költségei (monitoring, anyag és kijuttatá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árosító szervezet miatti veszteségek ökonómiai szempontból a következők lehetne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2)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219320"/>
            <a:ext cx="815328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merülő pótlólagos költség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tleges újravetés költsé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maradt vagy helytelen védekezés miatti új eljárá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sabb költsé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ótlólagos manipulálás költsége st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581280"/>
            <a:ext cx="7772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maradt haszon vagy lehetőségi költsé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őmag termesztésnél kizárás a szaporításbó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élyes vagy karantén károsító esetén kizárás az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bó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nyben megtalálható szermaradvány vagy toxiku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agok jelenléte miatti vesztesé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ális veszteség területi egyenérték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124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erületet jelenti, amelyet a veszteség kiküszöbölésével nem kellett volna bevetni adott termék mennyiség előállításáh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ntegrált alkalmazkodó növényvédelem eszköztá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828800"/>
          <a:ext cx="8077320" cy="423720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35304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rekt módszere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kt módszere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ológiai elem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om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émiai eszközö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zisztens fajtá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órokoz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zikai és mechanikai eszközö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znos állatok védel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árosító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lógiai és biotechnológiai eszközö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ótlólagos energia bevitel nélkü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ótlólagos energia bevitelle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áfordítás – hozam kapcsolatok és a növény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f (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. 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. 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.. x</a:t>
            </a:r>
            <a:r>
              <a:rPr b="1" lang="hu-H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916280"/>
            <a:ext cx="784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068640"/>
            <a:ext cx="6553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221000"/>
            <a:ext cx="6553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+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x</a:t>
            </a:r>
            <a:r>
              <a:rPr b="0" lang="hu-H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3111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öntési változó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yek nagyságát (a ráfordítást) a döntéshozó előre meghatározott módon tudja befolyásol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3040" y="2349360"/>
            <a:ext cx="8076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terminált változók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lyek nagysága a döntéshozó által nem befolyásolható, de a tervezés, döntés pillanatában ism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47184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nytalan változó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yek nagysága a döntéshozó által nem befolyásolható és a döntés pillanatában nem is ism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494172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am bizonytalansá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79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91184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hu-H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. x</a:t>
            </a:r>
            <a:r>
              <a:rPr b="1" lang="hu-H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áltozók hatásaiból 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5245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5991120"/>
            <a:ext cx="856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zonytalanság annál kisebb, minél kisebb a bizonytalansági változók súly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4:24:49Z</dcterms:created>
  <dc:creator>Takácsné Gy. Katalin</dc:creator>
  <dc:description/>
  <dc:language>en-US</dc:language>
  <cp:lastModifiedBy>Takácsné Gy. Katalin</cp:lastModifiedBy>
  <dcterms:modified xsi:type="dcterms:W3CDTF">2007-03-21T11:57:27Z</dcterms:modified>
  <cp:revision>4</cp:revision>
  <dc:subject/>
  <dc:title>A növényvédelem célja </dc:title>
</cp:coreProperties>
</file>