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80A-53BD-453E-8C70-E530E420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5FC-F37B-4287-9863-749ECCE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72C-E5CE-48A1-BD7C-620255C2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897-E9E8-4B97-A272-9E84396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A01-398B-41B7-899B-7242989D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9E4-7FB4-43D4-A4BC-99B964B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67F-786E-4012-BAFD-AF00FE9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13C-1FCC-4728-ABFF-FBF18FE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094-D89F-4FAF-ACA9-643263E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0B3-4401-41BE-BBCA-068EB16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DDA-01A6-4949-A8FF-34BFE8B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C93-4975-4D40-AD16-ABB0FC2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CC5-D582-4786-8DB0-68A45F3F915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A VÁLLALATI IRÁNYÍTÁS ALAPJA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dr. Székely Cs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IE GTK, NYME K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unkcionális szervez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0676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vizionális szervezet törzska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72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átrix típusú szervez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56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irányítási fogalm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6994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ányítás (általános értelem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z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azg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rv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álko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dzselés (menedz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enedzsment tudomány területe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86440"/>
        </p:xfrm>
        <a:graphic>
          <a:graphicData uri="http://schemas.openxmlformats.org/drawingml/2006/table">
            <a:tbl>
              <a:tblPr/>
              <a:tblGrid>
                <a:gridCol w="2554200"/>
                <a:gridCol w="282600"/>
                <a:gridCol w="2556000"/>
                <a:gridCol w="282600"/>
                <a:gridCol w="2554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KA ÉS SZERVEZETEK MENEDZSELÉ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BEREK MENEDZSELÉ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 ÉS MŰVELETEK MENEDZSELÉ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ktivi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é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vek és cél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úra kialak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jesítmény értéke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lenőr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éni viselked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áció, elégedett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oportos viselked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smegold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ze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zetfejlesz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ci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önté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kesztés (desig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ütem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 tervezés és irány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forrás ter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őségbiztos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ASSZIKUS SZERVEZÉS-TUDOMÁ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HAVIORISTA (VISELKEDÉSTUDO-MÁNYI) FELFOG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EDZSMENT- TUDOMÁNYI FELFOG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DSZERTUDOMÁNYI MEGKÖZELÍ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zérlés és szabályoz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5850000" cy="247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5850000" cy="262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2276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zé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797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zabályozás zavarkompenzációv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42508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adaptív irányítás folyam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1800360"/>
            <a:ext cx="7061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ezőgazdasági vállalat működésének általános model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772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 irányítási funkció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356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tosabb cél-hierarchiá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13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0:45:30Z</dcterms:created>
  <dc:creator>Dr. Székely Csaba</dc:creator>
  <dc:description/>
  <dc:language>en-US</dc:language>
  <cp:lastModifiedBy>Dr. Székely Csaba</cp:lastModifiedBy>
  <dcterms:modified xsi:type="dcterms:W3CDTF">2007-03-23T12:26:11Z</dcterms:modified>
  <cp:revision>6</cp:revision>
  <dc:subject/>
  <dc:title>5. A VÁLLALATI IRÁNYÍTÁS ALAPJAI </dc:title>
</cp:coreProperties>
</file>